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65.png" ContentType="image/png"/>
  <Override PartName="/ppt/media/image80.jpeg" ContentType="image/jpeg"/>
  <Override PartName="/ppt/media/image75.png" ContentType="image/png"/>
  <Override PartName="/ppt/media/image79.png" ContentType="image/png"/>
  <Override PartName="/ppt/media/image36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8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1ADF-C6FF-4464-A8DA-E7F7011CD9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本页特殊字体为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board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“张海山锐谐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字体下载推荐网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qiuziti.com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下载解压缩后将字体复制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里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NT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下即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63DE-6F73-44CA-ACA4-EBF8418FD97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2F7-79D3-4102-A46E-B8ABAF00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5C5-20AD-41DE-B209-581B8B82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678-3F83-4D26-9BF8-754D18CD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6DE-DFC0-4741-BB91-83FCF375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6FD-CADD-4997-96CD-0F098344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D5E-DBDE-4F3E-9F2A-B3C2E640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EBC-04DA-4DC5-AABF-C2E694C2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631-662C-413A-8FF4-CAB962B1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005-2DAD-4E69-BB02-AFEB1CAB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867-6792-4E9E-A2BC-4F2CCD50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CFC-50D2-4079-B850-D813FCB4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94E-8E1F-4319-BC58-8B2BF708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FF4D-527B-49F4-AE95-D16DDA241F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pn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49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79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0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5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5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Freeform 5"/>
          <p:cNvSpPr/>
          <p:nvPr/>
        </p:nvSpPr>
        <p:spPr>
          <a:xfrm>
            <a:off x="3684600" y="3470400"/>
            <a:ext cx="4794120" cy="484200"/>
          </a:xfrm>
          <a:custGeom>
            <a:avLst/>
            <a:gdLst>
              <a:gd name="textAreaLeft" fmla="*/ 0 w 4794120"/>
              <a:gd name="textAreaRight" fmla="*/ 4794480 w 479412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3020" h="305">
                <a:moveTo>
                  <a:pt x="3020" y="152"/>
                </a:moveTo>
                <a:lnTo>
                  <a:pt x="2825" y="0"/>
                </a:lnTo>
                <a:lnTo>
                  <a:pt x="2825" y="121"/>
                </a:lnTo>
                <a:lnTo>
                  <a:pt x="195" y="121"/>
                </a:lnTo>
                <a:lnTo>
                  <a:pt x="195" y="0"/>
                </a:lnTo>
                <a:lnTo>
                  <a:pt x="0" y="152"/>
                </a:lnTo>
                <a:lnTo>
                  <a:pt x="195" y="305"/>
                </a:lnTo>
                <a:lnTo>
                  <a:pt x="195" y="196"/>
                </a:lnTo>
                <a:lnTo>
                  <a:pt x="2825" y="196"/>
                </a:lnTo>
                <a:lnTo>
                  <a:pt x="2825" y="305"/>
                </a:lnTo>
                <a:lnTo>
                  <a:pt x="3020" y="152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"/>
          <p:cNvSpPr/>
          <p:nvPr/>
        </p:nvSpPr>
        <p:spPr>
          <a:xfrm>
            <a:off x="5840280" y="1314360"/>
            <a:ext cx="482760" cy="4795920"/>
          </a:xfrm>
          <a:custGeom>
            <a:avLst/>
            <a:gdLst>
              <a:gd name="textAreaLeft" fmla="*/ 0 w 482760"/>
              <a:gd name="textAreaRight" fmla="*/ 483120 w 482760"/>
              <a:gd name="textAreaTop" fmla="*/ 0 h 4795920"/>
              <a:gd name="textAreaBottom" fmla="*/ 4796280 h 4795920"/>
            </a:gdLst>
            <a:ahLst/>
            <a:rect l="textAreaLeft" t="textAreaTop" r="textAreaRight" b="textAreaBottom"/>
            <a:pathLst>
              <a:path w="304" h="3021">
                <a:moveTo>
                  <a:pt x="184" y="195"/>
                </a:moveTo>
                <a:lnTo>
                  <a:pt x="304" y="195"/>
                </a:lnTo>
                <a:lnTo>
                  <a:pt x="152" y="0"/>
                </a:lnTo>
                <a:lnTo>
                  <a:pt x="0" y="195"/>
                </a:lnTo>
                <a:lnTo>
                  <a:pt x="108" y="195"/>
                </a:lnTo>
                <a:lnTo>
                  <a:pt x="108" y="2826"/>
                </a:lnTo>
                <a:lnTo>
                  <a:pt x="0" y="2826"/>
                </a:lnTo>
                <a:lnTo>
                  <a:pt x="152" y="3021"/>
                </a:lnTo>
                <a:lnTo>
                  <a:pt x="304" y="2826"/>
                </a:lnTo>
                <a:lnTo>
                  <a:pt x="184" y="2826"/>
                </a:lnTo>
                <a:lnTo>
                  <a:pt x="184" y="195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ounded Rectangle 7"/>
          <p:cNvSpPr/>
          <p:nvPr/>
        </p:nvSpPr>
        <p:spPr>
          <a:xfrm>
            <a:off x="4216320" y="1833480"/>
            <a:ext cx="167652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ounded Rectangle 12"/>
          <p:cNvSpPr/>
          <p:nvPr/>
        </p:nvSpPr>
        <p:spPr>
          <a:xfrm>
            <a:off x="6259680" y="1820880"/>
            <a:ext cx="167796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ounded Rectangle 17"/>
          <p:cNvSpPr/>
          <p:nvPr/>
        </p:nvSpPr>
        <p:spPr>
          <a:xfrm>
            <a:off x="4251240" y="388152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ounded Rectangle 22"/>
          <p:cNvSpPr/>
          <p:nvPr/>
        </p:nvSpPr>
        <p:spPr>
          <a:xfrm>
            <a:off x="6246720" y="388764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任意多边形 12"/>
          <p:cNvSpPr/>
          <p:nvPr/>
        </p:nvSpPr>
        <p:spPr>
          <a:xfrm>
            <a:off x="4216320" y="3230640"/>
            <a:ext cx="1676520" cy="3412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9"/>
          <p:cNvSpPr/>
          <p:nvPr/>
        </p:nvSpPr>
        <p:spPr>
          <a:xfrm>
            <a:off x="4679640" y="27385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任意多边形 14"/>
          <p:cNvSpPr/>
          <p:nvPr/>
        </p:nvSpPr>
        <p:spPr>
          <a:xfrm>
            <a:off x="6259680" y="3218040"/>
            <a:ext cx="1677960" cy="3412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14"/>
          <p:cNvSpPr/>
          <p:nvPr/>
        </p:nvSpPr>
        <p:spPr>
          <a:xfrm>
            <a:off x="6708600" y="2766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任意多边形 16"/>
          <p:cNvSpPr/>
          <p:nvPr/>
        </p:nvSpPr>
        <p:spPr>
          <a:xfrm>
            <a:off x="4251240" y="5280120"/>
            <a:ext cx="1677960" cy="3394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4722480" y="47592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任意多边形 18"/>
          <p:cNvSpPr/>
          <p:nvPr/>
        </p:nvSpPr>
        <p:spPr>
          <a:xfrm>
            <a:off x="6246720" y="5284800"/>
            <a:ext cx="1677960" cy="3412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4"/>
          <p:cNvSpPr/>
          <p:nvPr/>
        </p:nvSpPr>
        <p:spPr>
          <a:xfrm>
            <a:off x="6708600" y="4775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Group 31" descr=""/>
          <p:cNvPicPr/>
          <p:nvPr/>
        </p:nvPicPr>
        <p:blipFill>
          <a:blip r:embed="rId2"/>
          <a:stretch/>
        </p:blipFill>
        <p:spPr>
          <a:xfrm>
            <a:off x="4840200" y="2152800"/>
            <a:ext cx="493920" cy="498240"/>
          </a:xfrm>
          <a:prstGeom prst="rect">
            <a:avLst/>
          </a:prstGeom>
          <a:ln w="0">
            <a:noFill/>
          </a:ln>
        </p:spPr>
      </p:pic>
      <p:pic>
        <p:nvPicPr>
          <p:cNvPr id="572" name="Group 38" descr=""/>
          <p:cNvPicPr/>
          <p:nvPr/>
        </p:nvPicPr>
        <p:blipFill>
          <a:blip r:embed="rId3"/>
          <a:stretch/>
        </p:blipFill>
        <p:spPr>
          <a:xfrm>
            <a:off x="6851520" y="2219400"/>
            <a:ext cx="470160" cy="468360"/>
          </a:xfrm>
          <a:prstGeom prst="rect">
            <a:avLst/>
          </a:prstGeom>
          <a:ln w="0">
            <a:noFill/>
          </a:ln>
        </p:spPr>
      </p:pic>
      <p:pic>
        <p:nvPicPr>
          <p:cNvPr id="573" name="Group 42" descr=""/>
          <p:cNvPicPr/>
          <p:nvPr/>
        </p:nvPicPr>
        <p:blipFill>
          <a:blip r:embed="rId4"/>
          <a:stretch/>
        </p:blipFill>
        <p:spPr>
          <a:xfrm>
            <a:off x="6851520" y="4194000"/>
            <a:ext cx="470160" cy="524160"/>
          </a:xfrm>
          <a:prstGeom prst="rect">
            <a:avLst/>
          </a:prstGeom>
          <a:ln w="0">
            <a:noFill/>
          </a:ln>
        </p:spPr>
      </p:pic>
      <p:sp>
        <p:nvSpPr>
          <p:cNvPr id="574" name="Freeform 52"/>
          <p:cNvSpPr/>
          <p:nvPr/>
        </p:nvSpPr>
        <p:spPr>
          <a:xfrm>
            <a:off x="4896000" y="4276800"/>
            <a:ext cx="490320" cy="376200"/>
          </a:xfrm>
          <a:custGeom>
            <a:avLst/>
            <a:gdLst>
              <a:gd name="textAreaLeft" fmla="*/ 0 w 490320"/>
              <a:gd name="textAreaRight" fmla="*/ 490680 w 4903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28" h="98">
                <a:moveTo>
                  <a:pt x="113" y="0"/>
                </a:moveTo>
                <a:cubicBezTo>
                  <a:pt x="104" y="0"/>
                  <a:pt x="98" y="7"/>
                  <a:pt x="98" y="15"/>
                </a:cubicBezTo>
                <a:cubicBezTo>
                  <a:pt x="98" y="19"/>
                  <a:pt x="100" y="23"/>
                  <a:pt x="103" y="26"/>
                </a:cubicBezTo>
                <a:cubicBezTo>
                  <a:pt x="84" y="54"/>
                  <a:pt x="84" y="54"/>
                  <a:pt x="84" y="54"/>
                </a:cubicBezTo>
                <a:cubicBezTo>
                  <a:pt x="83" y="53"/>
                  <a:pt x="81" y="52"/>
                  <a:pt x="79" y="52"/>
                </a:cubicBezTo>
                <a:cubicBezTo>
                  <a:pt x="73" y="52"/>
                  <a:pt x="68" y="56"/>
                  <a:pt x="66" y="60"/>
                </a:cubicBezTo>
                <a:cubicBezTo>
                  <a:pt x="55" y="54"/>
                  <a:pt x="55" y="54"/>
                  <a:pt x="55" y="54"/>
                </a:cubicBezTo>
                <a:cubicBezTo>
                  <a:pt x="56" y="53"/>
                  <a:pt x="56" y="51"/>
                  <a:pt x="56" y="49"/>
                </a:cubicBezTo>
                <a:cubicBezTo>
                  <a:pt x="56" y="40"/>
                  <a:pt x="49" y="34"/>
                  <a:pt x="41" y="34"/>
                </a:cubicBezTo>
                <a:cubicBezTo>
                  <a:pt x="33" y="34"/>
                  <a:pt x="26" y="40"/>
                  <a:pt x="26" y="49"/>
                </a:cubicBezTo>
                <a:cubicBezTo>
                  <a:pt x="26" y="53"/>
                  <a:pt x="28" y="57"/>
                  <a:pt x="31" y="60"/>
                </a:cubicBezTo>
                <a:cubicBezTo>
                  <a:pt x="23" y="70"/>
                  <a:pt x="23" y="70"/>
                  <a:pt x="23" y="70"/>
                </a:cubicBezTo>
                <a:cubicBezTo>
                  <a:pt x="21" y="69"/>
                  <a:pt x="18" y="68"/>
                  <a:pt x="15" y="68"/>
                </a:cubicBezTo>
                <a:cubicBezTo>
                  <a:pt x="6" y="68"/>
                  <a:pt x="0" y="74"/>
                  <a:pt x="0" y="83"/>
                </a:cubicBezTo>
                <a:cubicBezTo>
                  <a:pt x="0" y="91"/>
                  <a:pt x="6" y="98"/>
                  <a:pt x="15" y="98"/>
                </a:cubicBezTo>
                <a:cubicBezTo>
                  <a:pt x="23" y="98"/>
                  <a:pt x="30" y="91"/>
                  <a:pt x="30" y="83"/>
                </a:cubicBezTo>
                <a:cubicBezTo>
                  <a:pt x="30" y="79"/>
                  <a:pt x="28" y="76"/>
                  <a:pt x="26" y="73"/>
                </a:cubicBezTo>
                <a:cubicBezTo>
                  <a:pt x="34" y="62"/>
                  <a:pt x="34" y="62"/>
                  <a:pt x="34" y="62"/>
                </a:cubicBezTo>
                <a:cubicBezTo>
                  <a:pt x="36" y="63"/>
                  <a:pt x="39" y="64"/>
                  <a:pt x="41" y="64"/>
                </a:cubicBezTo>
                <a:cubicBezTo>
                  <a:pt x="46" y="64"/>
                  <a:pt x="51" y="61"/>
                  <a:pt x="53" y="57"/>
                </a:cubicBezTo>
                <a:cubicBezTo>
                  <a:pt x="64" y="64"/>
                  <a:pt x="64" y="64"/>
                  <a:pt x="64" y="64"/>
                </a:cubicBezTo>
                <a:cubicBezTo>
                  <a:pt x="64" y="65"/>
                  <a:pt x="64" y="66"/>
                  <a:pt x="64" y="68"/>
                </a:cubicBezTo>
                <a:cubicBezTo>
                  <a:pt x="64" y="76"/>
                  <a:pt x="70" y="83"/>
                  <a:pt x="79" y="83"/>
                </a:cubicBezTo>
                <a:cubicBezTo>
                  <a:pt x="87" y="83"/>
                  <a:pt x="94" y="76"/>
                  <a:pt x="94" y="68"/>
                </a:cubicBezTo>
                <a:cubicBezTo>
                  <a:pt x="94" y="63"/>
                  <a:pt x="91" y="58"/>
                  <a:pt x="88" y="56"/>
                </a:cubicBezTo>
                <a:cubicBezTo>
                  <a:pt x="106" y="28"/>
                  <a:pt x="106" y="28"/>
                  <a:pt x="106" y="28"/>
                </a:cubicBezTo>
                <a:cubicBezTo>
                  <a:pt x="108" y="29"/>
                  <a:pt x="110" y="30"/>
                  <a:pt x="113" y="30"/>
                </a:cubicBezTo>
                <a:cubicBezTo>
                  <a:pt x="121" y="30"/>
                  <a:pt x="128" y="23"/>
                  <a:pt x="128" y="15"/>
                </a:cubicBezTo>
                <a:cubicBezTo>
                  <a:pt x="128" y="7"/>
                  <a:pt x="121" y="0"/>
                  <a:pt x="113" y="0"/>
                </a:cubicBezTo>
                <a:close/>
                <a:moveTo>
                  <a:pt x="15" y="90"/>
                </a:moveTo>
                <a:cubicBezTo>
                  <a:pt x="11" y="90"/>
                  <a:pt x="7" y="87"/>
                  <a:pt x="7" y="83"/>
                </a:cubicBezTo>
                <a:cubicBezTo>
                  <a:pt x="7" y="78"/>
                  <a:pt x="11" y="75"/>
                  <a:pt x="15" y="75"/>
                </a:cubicBezTo>
                <a:cubicBezTo>
                  <a:pt x="19" y="75"/>
                  <a:pt x="22" y="78"/>
                  <a:pt x="22" y="83"/>
                </a:cubicBezTo>
                <a:cubicBezTo>
                  <a:pt x="22" y="87"/>
                  <a:pt x="19" y="90"/>
                  <a:pt x="15" y="90"/>
                </a:cubicBezTo>
                <a:close/>
                <a:moveTo>
                  <a:pt x="41" y="56"/>
                </a:moveTo>
                <a:cubicBezTo>
                  <a:pt x="37" y="56"/>
                  <a:pt x="34" y="53"/>
                  <a:pt x="34" y="49"/>
                </a:cubicBezTo>
                <a:cubicBezTo>
                  <a:pt x="34" y="45"/>
                  <a:pt x="37" y="41"/>
                  <a:pt x="41" y="41"/>
                </a:cubicBezTo>
                <a:cubicBezTo>
                  <a:pt x="45" y="41"/>
                  <a:pt x="49" y="45"/>
                  <a:pt x="49" y="49"/>
                </a:cubicBezTo>
                <a:cubicBezTo>
                  <a:pt x="49" y="53"/>
                  <a:pt x="45" y="56"/>
                  <a:pt x="41" y="56"/>
                </a:cubicBezTo>
                <a:close/>
                <a:moveTo>
                  <a:pt x="79" y="75"/>
                </a:moveTo>
                <a:cubicBezTo>
                  <a:pt x="75" y="75"/>
                  <a:pt x="71" y="72"/>
                  <a:pt x="71" y="68"/>
                </a:cubicBezTo>
                <a:cubicBezTo>
                  <a:pt x="71" y="63"/>
                  <a:pt x="75" y="60"/>
                  <a:pt x="79" y="60"/>
                </a:cubicBezTo>
                <a:cubicBezTo>
                  <a:pt x="83" y="60"/>
                  <a:pt x="86" y="63"/>
                  <a:pt x="86" y="68"/>
                </a:cubicBezTo>
                <a:cubicBezTo>
                  <a:pt x="86" y="72"/>
                  <a:pt x="83" y="75"/>
                  <a:pt x="79" y="75"/>
                </a:cubicBezTo>
                <a:close/>
                <a:moveTo>
                  <a:pt x="113" y="22"/>
                </a:moveTo>
                <a:cubicBezTo>
                  <a:pt x="108" y="22"/>
                  <a:pt x="105" y="19"/>
                  <a:pt x="105" y="15"/>
                </a:cubicBezTo>
                <a:cubicBezTo>
                  <a:pt x="105" y="11"/>
                  <a:pt x="108" y="7"/>
                  <a:pt x="113" y="7"/>
                </a:cubicBezTo>
                <a:cubicBezTo>
                  <a:pt x="117" y="7"/>
                  <a:pt x="120" y="11"/>
                  <a:pt x="120" y="15"/>
                </a:cubicBezTo>
                <a:cubicBezTo>
                  <a:pt x="120" y="19"/>
                  <a:pt x="117" y="22"/>
                  <a:pt x="113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组合 36"/>
          <p:cNvGrpSpPr/>
          <p:nvPr/>
        </p:nvGrpSpPr>
        <p:grpSpPr>
          <a:xfrm>
            <a:off x="1724040" y="2271600"/>
            <a:ext cx="2200320" cy="518400"/>
            <a:chOff x="1724040" y="2271600"/>
            <a:chExt cx="2200320" cy="518400"/>
          </a:xfrm>
        </p:grpSpPr>
        <p:sp>
          <p:nvSpPr>
            <p:cNvPr id="576" name="TextBox 47"/>
            <p:cNvSpPr/>
            <p:nvPr/>
          </p:nvSpPr>
          <p:spPr>
            <a:xfrm>
              <a:off x="3154320" y="22716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Rectangle 48"/>
            <p:cNvSpPr/>
            <p:nvPr/>
          </p:nvSpPr>
          <p:spPr>
            <a:xfrm>
              <a:off x="1724040" y="24829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42"/>
          <p:cNvGrpSpPr/>
          <p:nvPr/>
        </p:nvGrpSpPr>
        <p:grpSpPr>
          <a:xfrm>
            <a:off x="1724040" y="4214880"/>
            <a:ext cx="2200320" cy="547920"/>
            <a:chOff x="1724040" y="4214880"/>
            <a:chExt cx="2200320" cy="547920"/>
          </a:xfrm>
        </p:grpSpPr>
        <p:sp>
          <p:nvSpPr>
            <p:cNvPr id="579" name="TextBox 49"/>
            <p:cNvSpPr/>
            <p:nvPr/>
          </p:nvSpPr>
          <p:spPr>
            <a:xfrm>
              <a:off x="31532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1724040" y="44557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45"/>
          <p:cNvGrpSpPr/>
          <p:nvPr/>
        </p:nvGrpSpPr>
        <p:grpSpPr>
          <a:xfrm>
            <a:off x="8205840" y="2170080"/>
            <a:ext cx="2200320" cy="518400"/>
            <a:chOff x="8205840" y="2170080"/>
            <a:chExt cx="2200320" cy="518400"/>
          </a:xfrm>
        </p:grpSpPr>
        <p:sp>
          <p:nvSpPr>
            <p:cNvPr id="582" name="TextBox 51"/>
            <p:cNvSpPr/>
            <p:nvPr/>
          </p:nvSpPr>
          <p:spPr>
            <a:xfrm>
              <a:off x="8353440" y="21700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Rectangle 52"/>
            <p:cNvSpPr/>
            <p:nvPr/>
          </p:nvSpPr>
          <p:spPr>
            <a:xfrm>
              <a:off x="8205840" y="23814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48"/>
          <p:cNvGrpSpPr/>
          <p:nvPr/>
        </p:nvGrpSpPr>
        <p:grpSpPr>
          <a:xfrm>
            <a:off x="8205840" y="4214880"/>
            <a:ext cx="2200320" cy="538200"/>
            <a:chOff x="8205840" y="4214880"/>
            <a:chExt cx="2200320" cy="538200"/>
          </a:xfrm>
        </p:grpSpPr>
        <p:sp>
          <p:nvSpPr>
            <p:cNvPr id="585" name="TextBox 53"/>
            <p:cNvSpPr/>
            <p:nvPr/>
          </p:nvSpPr>
          <p:spPr>
            <a:xfrm>
              <a:off x="83534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Rectangle 54"/>
            <p:cNvSpPr/>
            <p:nvPr/>
          </p:nvSpPr>
          <p:spPr>
            <a:xfrm>
              <a:off x="8205840" y="44460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8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9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6"/>
          <p:cNvGrpSpPr/>
          <p:nvPr/>
        </p:nvGrpSpPr>
        <p:grpSpPr>
          <a:xfrm>
            <a:off x="3944880" y="1519200"/>
            <a:ext cx="4124520" cy="4124520"/>
            <a:chOff x="3944880" y="1519200"/>
            <a:chExt cx="4124520" cy="4124520"/>
          </a:xfrm>
        </p:grpSpPr>
        <p:sp>
          <p:nvSpPr>
            <p:cNvPr id="593" name="Freeform 5"/>
            <p:cNvSpPr/>
            <p:nvPr/>
          </p:nvSpPr>
          <p:spPr>
            <a:xfrm>
              <a:off x="3952800" y="3586320"/>
              <a:ext cx="2059200" cy="2057400"/>
            </a:xfrm>
            <a:custGeom>
              <a:avLst/>
              <a:gdLst>
                <a:gd name="textAreaLeft" fmla="*/ 0 w 2059200"/>
                <a:gd name="textAreaRight" fmla="*/ 2059560 w 205920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>
              <a:off x="6012000" y="3586320"/>
              <a:ext cx="2057400" cy="205740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>
              <a:off x="6012000" y="1519200"/>
              <a:ext cx="2057400" cy="206712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2067120"/>
                <a:gd name="textAreaBottom" fmla="*/ 2067480 h 2067120"/>
              </a:gdLst>
              <a:ahLst/>
              <a:rect l="textAreaLeft" t="textAreaTop" r="textAreaRight" b="textAreaBottom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>
              <a:off x="3944880" y="1519200"/>
              <a:ext cx="2067120" cy="2067120"/>
            </a:xfrm>
            <a:custGeom>
              <a:avLst/>
              <a:gdLst>
                <a:gd name="textAreaLeft" fmla="*/ 0 w 2067120"/>
                <a:gd name="textAreaRight" fmla="*/ 2067480 w 2067120"/>
                <a:gd name="textAreaTop" fmla="*/ 0 h 2067120"/>
                <a:gd name="textAreaBottom" fmla="*/ 2067480 h 2067120"/>
              </a:gdLst>
              <a:ahLst/>
              <a:rect l="textAreaLeft" t="textAreaTop" r="textAreaRight" b="textAreaBottom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TextBox 11"/>
            <p:cNvSpPr/>
            <p:nvPr/>
          </p:nvSpPr>
          <p:spPr>
            <a:xfrm>
              <a:off x="5555520" y="3368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12"/>
            <p:cNvSpPr/>
            <p:nvPr/>
          </p:nvSpPr>
          <p:spPr>
            <a:xfrm rot="18900000">
              <a:off x="5081040" y="187848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13"/>
            <p:cNvSpPr/>
            <p:nvPr/>
          </p:nvSpPr>
          <p:spPr>
            <a:xfrm rot="2700000">
              <a:off x="6347160" y="25095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14"/>
            <p:cNvSpPr/>
            <p:nvPr/>
          </p:nvSpPr>
          <p:spPr>
            <a:xfrm rot="2700000">
              <a:off x="4494600" y="4301280"/>
              <a:ext cx="11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Rectangle 15"/>
            <p:cNvSpPr/>
            <p:nvPr/>
          </p:nvSpPr>
          <p:spPr>
            <a:xfrm rot="18900000">
              <a:off x="6979320" y="376812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2" name="Straight Connector 47"/>
          <p:cNvSpPr/>
          <p:nvPr/>
        </p:nvSpPr>
        <p:spPr>
          <a:xfrm flipH="1">
            <a:off x="3352320" y="2489040"/>
            <a:ext cx="83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traight Connector 48"/>
          <p:cNvSpPr/>
          <p:nvPr/>
        </p:nvSpPr>
        <p:spPr>
          <a:xfrm flipH="1">
            <a:off x="3645000" y="514980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traight Connector 49"/>
          <p:cNvSpPr/>
          <p:nvPr/>
        </p:nvSpPr>
        <p:spPr>
          <a:xfrm>
            <a:off x="7442280" y="517536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traight Connector 50"/>
          <p:cNvSpPr/>
          <p:nvPr/>
        </p:nvSpPr>
        <p:spPr>
          <a:xfrm>
            <a:off x="7797960" y="2413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43"/>
          <p:cNvSpPr/>
          <p:nvPr/>
        </p:nvSpPr>
        <p:spPr>
          <a:xfrm>
            <a:off x="1782720" y="2085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44"/>
          <p:cNvSpPr/>
          <p:nvPr/>
        </p:nvSpPr>
        <p:spPr>
          <a:xfrm>
            <a:off x="609480" y="2365200"/>
            <a:ext cx="20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Group 65" descr=""/>
          <p:cNvPicPr/>
          <p:nvPr/>
        </p:nvPicPr>
        <p:blipFill>
          <a:blip r:embed="rId2"/>
          <a:stretch/>
        </p:blipFill>
        <p:spPr>
          <a:xfrm>
            <a:off x="2773440" y="2189160"/>
            <a:ext cx="371520" cy="6397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39"/>
          <p:cNvSpPr/>
          <p:nvPr/>
        </p:nvSpPr>
        <p:spPr>
          <a:xfrm>
            <a:off x="9420840" y="2060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9252000" y="2340000"/>
            <a:ext cx="22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Group 72" descr=""/>
          <p:cNvPicPr/>
          <p:nvPr/>
        </p:nvPicPr>
        <p:blipFill>
          <a:blip r:embed="rId3"/>
          <a:stretch/>
        </p:blipFill>
        <p:spPr>
          <a:xfrm>
            <a:off x="8717040" y="2157480"/>
            <a:ext cx="450720" cy="4824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41"/>
          <p:cNvSpPr/>
          <p:nvPr/>
        </p:nvSpPr>
        <p:spPr>
          <a:xfrm>
            <a:off x="9072360" y="4737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42"/>
          <p:cNvSpPr/>
          <p:nvPr/>
        </p:nvSpPr>
        <p:spPr>
          <a:xfrm>
            <a:off x="8904240" y="50180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Group 78" descr=""/>
          <p:cNvPicPr/>
          <p:nvPr/>
        </p:nvPicPr>
        <p:blipFill>
          <a:blip r:embed="rId4"/>
          <a:stretch/>
        </p:blipFill>
        <p:spPr>
          <a:xfrm>
            <a:off x="8467560" y="501660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615" name="TextBox 45"/>
          <p:cNvSpPr/>
          <p:nvPr/>
        </p:nvSpPr>
        <p:spPr>
          <a:xfrm>
            <a:off x="2066760" y="4749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6"/>
          <p:cNvSpPr/>
          <p:nvPr/>
        </p:nvSpPr>
        <p:spPr>
          <a:xfrm>
            <a:off x="901800" y="503064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Group 85" descr=""/>
          <p:cNvPicPr/>
          <p:nvPr/>
        </p:nvPicPr>
        <p:blipFill>
          <a:blip r:embed="rId5"/>
          <a:stretch/>
        </p:blipFill>
        <p:spPr>
          <a:xfrm>
            <a:off x="3048120" y="4900680"/>
            <a:ext cx="457200" cy="41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2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Straight Connector 2"/>
          <p:cNvSpPr/>
          <p:nvPr/>
        </p:nvSpPr>
        <p:spPr>
          <a:xfrm>
            <a:off x="2155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traight Connector 3"/>
          <p:cNvSpPr/>
          <p:nvPr/>
        </p:nvSpPr>
        <p:spPr>
          <a:xfrm>
            <a:off x="371952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5299200" y="5408640"/>
            <a:ext cx="14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traight Connector 5"/>
          <p:cNvSpPr/>
          <p:nvPr/>
        </p:nvSpPr>
        <p:spPr>
          <a:xfrm>
            <a:off x="6862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traight Connector 6"/>
          <p:cNvSpPr/>
          <p:nvPr/>
        </p:nvSpPr>
        <p:spPr>
          <a:xfrm flipH="1">
            <a:off x="1002672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traight Connector 7"/>
          <p:cNvSpPr/>
          <p:nvPr/>
        </p:nvSpPr>
        <p:spPr>
          <a:xfrm flipH="1">
            <a:off x="8440560" y="5408640"/>
            <a:ext cx="14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87804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1"/>
          <p:cNvSpPr/>
          <p:nvPr/>
        </p:nvSpPr>
        <p:spPr>
          <a:xfrm>
            <a:off x="96937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1115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6557400" y="54975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49939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5"/>
          <p:cNvSpPr/>
          <p:nvPr/>
        </p:nvSpPr>
        <p:spPr>
          <a:xfrm>
            <a:off x="34030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18298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17"/>
          <p:cNvSpPr/>
          <p:nvPr/>
        </p:nvSpPr>
        <p:spPr>
          <a:xfrm>
            <a:off x="2068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18"/>
          <p:cNvSpPr/>
          <p:nvPr/>
        </p:nvSpPr>
        <p:spPr>
          <a:xfrm>
            <a:off x="36273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19"/>
          <p:cNvSpPr/>
          <p:nvPr/>
        </p:nvSpPr>
        <p:spPr>
          <a:xfrm>
            <a:off x="52038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20"/>
          <p:cNvSpPr/>
          <p:nvPr/>
        </p:nvSpPr>
        <p:spPr>
          <a:xfrm>
            <a:off x="6775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21"/>
          <p:cNvSpPr/>
          <p:nvPr/>
        </p:nvSpPr>
        <p:spPr>
          <a:xfrm>
            <a:off x="83232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22"/>
          <p:cNvSpPr/>
          <p:nvPr/>
        </p:nvSpPr>
        <p:spPr>
          <a:xfrm rot="10800000">
            <a:off x="991224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traight Connector 23"/>
          <p:cNvSpPr/>
          <p:nvPr/>
        </p:nvSpPr>
        <p:spPr>
          <a:xfrm flipV="1">
            <a:off x="2122560" y="4933440"/>
            <a:ext cx="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traight Connector 24"/>
          <p:cNvSpPr/>
          <p:nvPr/>
        </p:nvSpPr>
        <p:spPr>
          <a:xfrm flipV="1">
            <a:off x="2122560" y="36910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4" name="组合 27"/>
          <p:cNvGrpSpPr/>
          <p:nvPr/>
        </p:nvGrpSpPr>
        <p:grpSpPr>
          <a:xfrm>
            <a:off x="1857240" y="3105000"/>
            <a:ext cx="540000" cy="540000"/>
            <a:chOff x="1857240" y="3105000"/>
            <a:chExt cx="540000" cy="540000"/>
          </a:xfrm>
        </p:grpSpPr>
        <p:sp>
          <p:nvSpPr>
            <p:cNvPr id="645" name="Oval 26"/>
            <p:cNvSpPr/>
            <p:nvPr/>
          </p:nvSpPr>
          <p:spPr>
            <a:xfrm>
              <a:off x="1857240" y="3105000"/>
              <a:ext cx="54000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"/>
            <p:cNvSpPr/>
            <p:nvPr/>
          </p:nvSpPr>
          <p:spPr>
            <a:xfrm>
              <a:off x="1962360" y="3209400"/>
              <a:ext cx="329400" cy="33084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246" h="247">
                  <a:moveTo>
                    <a:pt x="234" y="13"/>
                  </a:moveTo>
                  <a:cubicBezTo>
                    <a:pt x="221" y="0"/>
                    <a:pt x="196" y="11"/>
                    <a:pt x="175" y="35"/>
                  </a:cubicBezTo>
                  <a:cubicBezTo>
                    <a:pt x="153" y="60"/>
                    <a:pt x="153" y="60"/>
                    <a:pt x="153" y="60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65" y="159"/>
                    <a:pt x="65" y="159"/>
                    <a:pt x="65" y="159"/>
                  </a:cubicBezTo>
                  <a:cubicBezTo>
                    <a:pt x="61" y="164"/>
                    <a:pt x="57" y="168"/>
                    <a:pt x="54" y="172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47" y="200"/>
                    <a:pt x="47" y="200"/>
                    <a:pt x="47" y="200"/>
                  </a:cubicBezTo>
                  <a:cubicBezTo>
                    <a:pt x="74" y="247"/>
                    <a:pt x="74" y="247"/>
                    <a:pt x="74" y="247"/>
                  </a:cubicBezTo>
                  <a:cubicBezTo>
                    <a:pt x="86" y="235"/>
                    <a:pt x="86" y="235"/>
                    <a:pt x="86" y="235"/>
                  </a:cubicBezTo>
                  <a:cubicBezTo>
                    <a:pt x="75" y="193"/>
                    <a:pt x="75" y="193"/>
                    <a:pt x="75" y="193"/>
                  </a:cubicBezTo>
                  <a:cubicBezTo>
                    <a:pt x="79" y="190"/>
                    <a:pt x="83" y="186"/>
                    <a:pt x="88" y="182"/>
                  </a:cubicBezTo>
                  <a:cubicBezTo>
                    <a:pt x="138" y="140"/>
                    <a:pt x="138" y="140"/>
                    <a:pt x="138" y="140"/>
                  </a:cubicBezTo>
                  <a:cubicBezTo>
                    <a:pt x="192" y="242"/>
                    <a:pt x="192" y="242"/>
                    <a:pt x="192" y="242"/>
                  </a:cubicBezTo>
                  <a:cubicBezTo>
                    <a:pt x="211" y="223"/>
                    <a:pt x="211" y="223"/>
                    <a:pt x="211" y="223"/>
                  </a:cubicBezTo>
                  <a:cubicBezTo>
                    <a:pt x="187" y="94"/>
                    <a:pt x="187" y="94"/>
                    <a:pt x="187" y="94"/>
                  </a:cubicBezTo>
                  <a:cubicBezTo>
                    <a:pt x="212" y="72"/>
                    <a:pt x="212" y="72"/>
                    <a:pt x="212" y="72"/>
                  </a:cubicBezTo>
                  <a:cubicBezTo>
                    <a:pt x="236" y="51"/>
                    <a:pt x="246" y="25"/>
                    <a:pt x="23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30"/>
          <p:cNvGrpSpPr/>
          <p:nvPr/>
        </p:nvGrpSpPr>
        <p:grpSpPr>
          <a:xfrm>
            <a:off x="2814480" y="2800440"/>
            <a:ext cx="1838520" cy="684720"/>
            <a:chOff x="2814480" y="2800440"/>
            <a:chExt cx="1838520" cy="684720"/>
          </a:xfrm>
        </p:grpSpPr>
        <p:sp>
          <p:nvSpPr>
            <p:cNvPr id="648" name="TextBox 28"/>
            <p:cNvSpPr/>
            <p:nvPr/>
          </p:nvSpPr>
          <p:spPr>
            <a:xfrm>
              <a:off x="3328200" y="2800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TextBox 29"/>
            <p:cNvSpPr/>
            <p:nvPr/>
          </p:nvSpPr>
          <p:spPr>
            <a:xfrm>
              <a:off x="2814480" y="302616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Straight Connector 30"/>
          <p:cNvSpPr/>
          <p:nvPr/>
        </p:nvSpPr>
        <p:spPr>
          <a:xfrm flipV="1">
            <a:off x="3692520" y="36478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traight Connector 31"/>
          <p:cNvSpPr/>
          <p:nvPr/>
        </p:nvSpPr>
        <p:spPr>
          <a:xfrm flipV="1">
            <a:off x="3681360" y="23954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组合 35"/>
          <p:cNvGrpSpPr/>
          <p:nvPr/>
        </p:nvGrpSpPr>
        <p:grpSpPr>
          <a:xfrm>
            <a:off x="3422520" y="1805040"/>
            <a:ext cx="540000" cy="541440"/>
            <a:chOff x="3422520" y="1805040"/>
            <a:chExt cx="540000" cy="541440"/>
          </a:xfrm>
        </p:grpSpPr>
        <p:sp>
          <p:nvSpPr>
            <p:cNvPr id="653" name="Oval 33"/>
            <p:cNvSpPr/>
            <p:nvPr/>
          </p:nvSpPr>
          <p:spPr>
            <a:xfrm>
              <a:off x="3422520" y="1805040"/>
              <a:ext cx="54000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4" name="Group 34" descr=""/>
            <p:cNvPicPr/>
            <p:nvPr/>
          </p:nvPicPr>
          <p:blipFill>
            <a:blip r:embed="rId2"/>
            <a:stretch/>
          </p:blipFill>
          <p:spPr>
            <a:xfrm>
              <a:off x="3542400" y="1864800"/>
              <a:ext cx="304920" cy="42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Straight Connector 45"/>
          <p:cNvSpPr/>
          <p:nvPr/>
        </p:nvSpPr>
        <p:spPr>
          <a:xfrm flipV="1">
            <a:off x="5265720" y="49132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traight Connector 46"/>
          <p:cNvSpPr/>
          <p:nvPr/>
        </p:nvSpPr>
        <p:spPr>
          <a:xfrm flipV="1">
            <a:off x="5265720" y="3728880"/>
            <a:ext cx="0" cy="324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traight Connector 49"/>
          <p:cNvSpPr/>
          <p:nvPr/>
        </p:nvSpPr>
        <p:spPr>
          <a:xfrm flipV="1">
            <a:off x="6826320" y="3825360"/>
            <a:ext cx="0" cy="1476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traight Connector 50"/>
          <p:cNvSpPr/>
          <p:nvPr/>
        </p:nvSpPr>
        <p:spPr>
          <a:xfrm flipV="1">
            <a:off x="6826320" y="257184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组合 53"/>
          <p:cNvGrpSpPr/>
          <p:nvPr/>
        </p:nvGrpSpPr>
        <p:grpSpPr>
          <a:xfrm>
            <a:off x="5002200" y="3124080"/>
            <a:ext cx="539640" cy="540000"/>
            <a:chOff x="5002200" y="3124080"/>
            <a:chExt cx="539640" cy="540000"/>
          </a:xfrm>
        </p:grpSpPr>
        <p:sp>
          <p:nvSpPr>
            <p:cNvPr id="660" name="Oval 52"/>
            <p:cNvSpPr/>
            <p:nvPr/>
          </p:nvSpPr>
          <p:spPr>
            <a:xfrm>
              <a:off x="5002200" y="312408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>
              <a:off x="5105160" y="3205440"/>
              <a:ext cx="333360" cy="3772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193" h="219">
                  <a:moveTo>
                    <a:pt x="182" y="147"/>
                  </a:moveTo>
                  <a:cubicBezTo>
                    <a:pt x="179" y="147"/>
                    <a:pt x="177" y="148"/>
                    <a:pt x="175" y="150"/>
                  </a:cubicBezTo>
                  <a:cubicBezTo>
                    <a:pt x="146" y="110"/>
                    <a:pt x="146" y="110"/>
                    <a:pt x="146" y="110"/>
                  </a:cubicBezTo>
                  <a:cubicBezTo>
                    <a:pt x="175" y="70"/>
                    <a:pt x="175" y="70"/>
                    <a:pt x="175" y="70"/>
                  </a:cubicBezTo>
                  <a:cubicBezTo>
                    <a:pt x="177" y="71"/>
                    <a:pt x="179" y="72"/>
                    <a:pt x="182" y="72"/>
                  </a:cubicBezTo>
                  <a:cubicBezTo>
                    <a:pt x="188" y="72"/>
                    <a:pt x="193" y="67"/>
                    <a:pt x="193" y="60"/>
                  </a:cubicBezTo>
                  <a:cubicBezTo>
                    <a:pt x="193" y="54"/>
                    <a:pt x="188" y="49"/>
                    <a:pt x="182" y="49"/>
                  </a:cubicBezTo>
                  <a:cubicBezTo>
                    <a:pt x="175" y="49"/>
                    <a:pt x="170" y="54"/>
                    <a:pt x="170" y="60"/>
                  </a:cubicBezTo>
                  <a:cubicBezTo>
                    <a:pt x="170" y="61"/>
                    <a:pt x="170" y="61"/>
                    <a:pt x="170" y="62"/>
                  </a:cubicBezTo>
                  <a:cubicBezTo>
                    <a:pt x="121" y="67"/>
                    <a:pt x="121" y="67"/>
                    <a:pt x="121" y="67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105" y="20"/>
                    <a:pt x="108" y="16"/>
                    <a:pt x="108" y="12"/>
                  </a:cubicBezTo>
                  <a:cubicBezTo>
                    <a:pt x="108" y="5"/>
                    <a:pt x="103" y="0"/>
                    <a:pt x="97" y="0"/>
                  </a:cubicBezTo>
                  <a:cubicBezTo>
                    <a:pt x="90" y="0"/>
                    <a:pt x="85" y="5"/>
                    <a:pt x="85" y="12"/>
                  </a:cubicBezTo>
                  <a:cubicBezTo>
                    <a:pt x="85" y="16"/>
                    <a:pt x="88" y="20"/>
                    <a:pt x="92" y="22"/>
                  </a:cubicBezTo>
                  <a:cubicBezTo>
                    <a:pt x="72" y="67"/>
                    <a:pt x="72" y="67"/>
                    <a:pt x="72" y="67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1"/>
                    <a:pt x="23" y="61"/>
                    <a:pt x="23" y="60"/>
                  </a:cubicBezTo>
                  <a:cubicBezTo>
                    <a:pt x="23" y="54"/>
                    <a:pt x="18" y="49"/>
                    <a:pt x="12" y="49"/>
                  </a:cubicBezTo>
                  <a:cubicBezTo>
                    <a:pt x="5" y="49"/>
                    <a:pt x="0" y="54"/>
                    <a:pt x="0" y="60"/>
                  </a:cubicBezTo>
                  <a:cubicBezTo>
                    <a:pt x="0" y="67"/>
                    <a:pt x="5" y="72"/>
                    <a:pt x="12" y="72"/>
                  </a:cubicBezTo>
                  <a:cubicBezTo>
                    <a:pt x="14" y="72"/>
                    <a:pt x="16" y="71"/>
                    <a:pt x="18" y="70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48"/>
                    <a:pt x="14" y="147"/>
                    <a:pt x="12" y="147"/>
                  </a:cubicBezTo>
                  <a:cubicBezTo>
                    <a:pt x="5" y="147"/>
                    <a:pt x="0" y="152"/>
                    <a:pt x="0" y="159"/>
                  </a:cubicBezTo>
                  <a:cubicBezTo>
                    <a:pt x="0" y="165"/>
                    <a:pt x="5" y="170"/>
                    <a:pt x="12" y="170"/>
                  </a:cubicBezTo>
                  <a:cubicBezTo>
                    <a:pt x="18" y="170"/>
                    <a:pt x="23" y="165"/>
                    <a:pt x="23" y="159"/>
                  </a:cubicBezTo>
                  <a:cubicBezTo>
                    <a:pt x="23" y="158"/>
                    <a:pt x="23" y="158"/>
                    <a:pt x="23" y="158"/>
                  </a:cubicBezTo>
                  <a:cubicBezTo>
                    <a:pt x="72" y="152"/>
                    <a:pt x="72" y="152"/>
                    <a:pt x="72" y="152"/>
                  </a:cubicBezTo>
                  <a:cubicBezTo>
                    <a:pt x="92" y="197"/>
                    <a:pt x="92" y="197"/>
                    <a:pt x="92" y="197"/>
                  </a:cubicBezTo>
                  <a:cubicBezTo>
                    <a:pt x="88" y="199"/>
                    <a:pt x="85" y="203"/>
                    <a:pt x="85" y="208"/>
                  </a:cubicBezTo>
                  <a:cubicBezTo>
                    <a:pt x="85" y="214"/>
                    <a:pt x="90" y="219"/>
                    <a:pt x="97" y="219"/>
                  </a:cubicBezTo>
                  <a:cubicBezTo>
                    <a:pt x="103" y="219"/>
                    <a:pt x="108" y="214"/>
                    <a:pt x="108" y="208"/>
                  </a:cubicBezTo>
                  <a:cubicBezTo>
                    <a:pt x="108" y="203"/>
                    <a:pt x="105" y="199"/>
                    <a:pt x="101" y="197"/>
                  </a:cubicBezTo>
                  <a:cubicBezTo>
                    <a:pt x="121" y="152"/>
                    <a:pt x="121" y="152"/>
                    <a:pt x="121" y="152"/>
                  </a:cubicBezTo>
                  <a:cubicBezTo>
                    <a:pt x="170" y="158"/>
                    <a:pt x="170" y="158"/>
                    <a:pt x="170" y="158"/>
                  </a:cubicBezTo>
                  <a:cubicBezTo>
                    <a:pt x="170" y="158"/>
                    <a:pt x="170" y="158"/>
                    <a:pt x="170" y="159"/>
                  </a:cubicBezTo>
                  <a:cubicBezTo>
                    <a:pt x="170" y="165"/>
                    <a:pt x="175" y="170"/>
                    <a:pt x="182" y="170"/>
                  </a:cubicBezTo>
                  <a:cubicBezTo>
                    <a:pt x="188" y="170"/>
                    <a:pt x="193" y="165"/>
                    <a:pt x="193" y="159"/>
                  </a:cubicBezTo>
                  <a:cubicBezTo>
                    <a:pt x="193" y="152"/>
                    <a:pt x="188" y="147"/>
                    <a:pt x="182" y="1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56"/>
          <p:cNvGrpSpPr/>
          <p:nvPr/>
        </p:nvGrpSpPr>
        <p:grpSpPr>
          <a:xfrm>
            <a:off x="6556320" y="1987560"/>
            <a:ext cx="539640" cy="539640"/>
            <a:chOff x="6556320" y="1987560"/>
            <a:chExt cx="539640" cy="539640"/>
          </a:xfrm>
        </p:grpSpPr>
        <p:sp>
          <p:nvSpPr>
            <p:cNvPr id="663" name="Oval 55"/>
            <p:cNvSpPr/>
            <p:nvPr/>
          </p:nvSpPr>
          <p:spPr>
            <a:xfrm>
              <a:off x="6556320" y="198756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4" name="Group 56" descr=""/>
            <p:cNvPicPr/>
            <p:nvPr/>
          </p:nvPicPr>
          <p:blipFill>
            <a:blip r:embed="rId3"/>
            <a:stretch/>
          </p:blipFill>
          <p:spPr>
            <a:xfrm>
              <a:off x="6638400" y="2048040"/>
              <a:ext cx="371520" cy="35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Straight Connector 61"/>
          <p:cNvSpPr/>
          <p:nvPr/>
        </p:nvSpPr>
        <p:spPr>
          <a:xfrm flipV="1">
            <a:off x="8385120" y="49100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traight Connector 62"/>
          <p:cNvSpPr/>
          <p:nvPr/>
        </p:nvSpPr>
        <p:spPr>
          <a:xfrm flipV="1">
            <a:off x="8385120" y="366552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traight Connector 65"/>
          <p:cNvSpPr/>
          <p:nvPr/>
        </p:nvSpPr>
        <p:spPr>
          <a:xfrm flipV="1">
            <a:off x="9964800" y="36334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6"/>
          <p:cNvSpPr/>
          <p:nvPr/>
        </p:nvSpPr>
        <p:spPr>
          <a:xfrm flipV="1">
            <a:off x="9964800" y="2379240"/>
            <a:ext cx="0" cy="397080"/>
          </a:xfrm>
          <a:prstGeom prst="line">
            <a:avLst/>
          </a:prstGeom>
          <a:ln cap="rnd" w="19080">
            <a:solidFill>
              <a:srgbClr val="44546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65"/>
          <p:cNvGrpSpPr/>
          <p:nvPr/>
        </p:nvGrpSpPr>
        <p:grpSpPr>
          <a:xfrm>
            <a:off x="8120160" y="3081240"/>
            <a:ext cx="539640" cy="540000"/>
            <a:chOff x="8120160" y="3081240"/>
            <a:chExt cx="539640" cy="540000"/>
          </a:xfrm>
        </p:grpSpPr>
        <p:sp>
          <p:nvSpPr>
            <p:cNvPr id="670" name="Oval 68"/>
            <p:cNvSpPr/>
            <p:nvPr/>
          </p:nvSpPr>
          <p:spPr>
            <a:xfrm>
              <a:off x="8120160" y="308124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Group 69" descr=""/>
            <p:cNvPicPr/>
            <p:nvPr/>
          </p:nvPicPr>
          <p:blipFill>
            <a:blip r:embed="rId4"/>
            <a:stretch/>
          </p:blipFill>
          <p:spPr>
            <a:xfrm>
              <a:off x="8210880" y="3188520"/>
              <a:ext cx="353520" cy="32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2" name="组合 70"/>
          <p:cNvGrpSpPr/>
          <p:nvPr/>
        </p:nvGrpSpPr>
        <p:grpSpPr>
          <a:xfrm>
            <a:off x="9694800" y="1835280"/>
            <a:ext cx="539640" cy="539640"/>
            <a:chOff x="9694800" y="1835280"/>
            <a:chExt cx="539640" cy="539640"/>
          </a:xfrm>
        </p:grpSpPr>
        <p:sp>
          <p:nvSpPr>
            <p:cNvPr id="673" name="Oval 73"/>
            <p:cNvSpPr/>
            <p:nvPr/>
          </p:nvSpPr>
          <p:spPr>
            <a:xfrm>
              <a:off x="9694800" y="183528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4"/>
            <p:cNvSpPr/>
            <p:nvPr/>
          </p:nvSpPr>
          <p:spPr>
            <a:xfrm>
              <a:off x="9804240" y="1944720"/>
              <a:ext cx="320400" cy="32040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24" h="124">
                  <a:moveTo>
                    <a:pt x="62" y="0"/>
                  </a:moveTo>
                  <a:cubicBezTo>
                    <a:pt x="28" y="0"/>
                    <a:pt x="0" y="28"/>
                    <a:pt x="0" y="62"/>
                  </a:cubicBezTo>
                  <a:cubicBezTo>
                    <a:pt x="0" y="96"/>
                    <a:pt x="28" y="124"/>
                    <a:pt x="62" y="124"/>
                  </a:cubicBezTo>
                  <a:cubicBezTo>
                    <a:pt x="96" y="124"/>
                    <a:pt x="124" y="96"/>
                    <a:pt x="124" y="62"/>
                  </a:cubicBezTo>
                  <a:cubicBezTo>
                    <a:pt x="124" y="28"/>
                    <a:pt x="96" y="0"/>
                    <a:pt x="62" y="0"/>
                  </a:cubicBezTo>
                  <a:close/>
                  <a:moveTo>
                    <a:pt x="116" y="60"/>
                  </a:moveTo>
                  <a:cubicBezTo>
                    <a:pt x="92" y="60"/>
                    <a:pt x="92" y="60"/>
                    <a:pt x="92" y="60"/>
                  </a:cubicBezTo>
                  <a:cubicBezTo>
                    <a:pt x="92" y="51"/>
                    <a:pt x="90" y="43"/>
                    <a:pt x="87" y="35"/>
                  </a:cubicBezTo>
                  <a:cubicBezTo>
                    <a:pt x="93" y="33"/>
                    <a:pt x="98" y="30"/>
                    <a:pt x="102" y="26"/>
                  </a:cubicBezTo>
                  <a:cubicBezTo>
                    <a:pt x="110" y="35"/>
                    <a:pt x="115" y="47"/>
                    <a:pt x="116" y="60"/>
                  </a:cubicBezTo>
                  <a:close/>
                  <a:moveTo>
                    <a:pt x="60" y="116"/>
                  </a:moveTo>
                  <a:cubicBezTo>
                    <a:pt x="53" y="110"/>
                    <a:pt x="48" y="103"/>
                    <a:pt x="43" y="95"/>
                  </a:cubicBezTo>
                  <a:cubicBezTo>
                    <a:pt x="49" y="93"/>
                    <a:pt x="54" y="92"/>
                    <a:pt x="60" y="92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0" y="116"/>
                    <a:pt x="60" y="116"/>
                    <a:pt x="60" y="116"/>
                  </a:cubicBezTo>
                  <a:close/>
                  <a:moveTo>
                    <a:pt x="64" y="8"/>
                  </a:moveTo>
                  <a:cubicBezTo>
                    <a:pt x="72" y="14"/>
                    <a:pt x="78" y="23"/>
                    <a:pt x="82" y="33"/>
                  </a:cubicBezTo>
                  <a:cubicBezTo>
                    <a:pt x="76" y="35"/>
                    <a:pt x="70" y="36"/>
                    <a:pt x="64" y="36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  <a:moveTo>
                    <a:pt x="71" y="9"/>
                  </a:moveTo>
                  <a:cubicBezTo>
                    <a:pt x="82" y="11"/>
                    <a:pt x="92" y="16"/>
                    <a:pt x="100" y="23"/>
                  </a:cubicBezTo>
                  <a:cubicBezTo>
                    <a:pt x="95" y="26"/>
                    <a:pt x="91" y="29"/>
                    <a:pt x="86" y="31"/>
                  </a:cubicBezTo>
                  <a:cubicBezTo>
                    <a:pt x="82" y="23"/>
                    <a:pt x="77" y="15"/>
                    <a:pt x="71" y="9"/>
                  </a:cubicBezTo>
                  <a:close/>
                  <a:moveTo>
                    <a:pt x="60" y="8"/>
                  </a:moveTo>
                  <a:cubicBezTo>
                    <a:pt x="60" y="36"/>
                    <a:pt x="60" y="36"/>
                    <a:pt x="60" y="36"/>
                  </a:cubicBezTo>
                  <a:cubicBezTo>
                    <a:pt x="54" y="36"/>
                    <a:pt x="48" y="35"/>
                    <a:pt x="42" y="33"/>
                  </a:cubicBezTo>
                  <a:cubicBezTo>
                    <a:pt x="46" y="23"/>
                    <a:pt x="52" y="14"/>
                    <a:pt x="60" y="8"/>
                  </a:cubicBezTo>
                  <a:cubicBezTo>
                    <a:pt x="60" y="8"/>
                    <a:pt x="60" y="8"/>
                    <a:pt x="60" y="8"/>
                  </a:cubicBezTo>
                  <a:close/>
                  <a:moveTo>
                    <a:pt x="38" y="31"/>
                  </a:moveTo>
                  <a:cubicBezTo>
                    <a:pt x="33" y="29"/>
                    <a:pt x="29" y="26"/>
                    <a:pt x="24" y="23"/>
                  </a:cubicBezTo>
                  <a:cubicBezTo>
                    <a:pt x="32" y="16"/>
                    <a:pt x="42" y="11"/>
                    <a:pt x="53" y="9"/>
                  </a:cubicBezTo>
                  <a:cubicBezTo>
                    <a:pt x="47" y="15"/>
                    <a:pt x="42" y="23"/>
                    <a:pt x="38" y="31"/>
                  </a:cubicBezTo>
                  <a:close/>
                  <a:moveTo>
                    <a:pt x="40" y="36"/>
                  </a:moveTo>
                  <a:cubicBezTo>
                    <a:pt x="47" y="38"/>
                    <a:pt x="53" y="40"/>
                    <a:pt x="60" y="4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36" y="60"/>
                    <a:pt x="36" y="60"/>
                    <a:pt x="36" y="60"/>
                  </a:cubicBezTo>
                  <a:cubicBezTo>
                    <a:pt x="36" y="52"/>
                    <a:pt x="38" y="44"/>
                    <a:pt x="40" y="36"/>
                  </a:cubicBezTo>
                  <a:close/>
                  <a:moveTo>
                    <a:pt x="60" y="64"/>
                  </a:moveTo>
                  <a:cubicBezTo>
                    <a:pt x="60" y="88"/>
                    <a:pt x="60" y="88"/>
                    <a:pt x="60" y="88"/>
                  </a:cubicBezTo>
                  <a:cubicBezTo>
                    <a:pt x="54" y="88"/>
                    <a:pt x="48" y="89"/>
                    <a:pt x="42" y="91"/>
                  </a:cubicBezTo>
                  <a:cubicBezTo>
                    <a:pt x="38" y="83"/>
                    <a:pt x="36" y="74"/>
                    <a:pt x="36" y="64"/>
                  </a:cubicBezTo>
                  <a:lnTo>
                    <a:pt x="60" y="64"/>
                  </a:lnTo>
                  <a:close/>
                  <a:moveTo>
                    <a:pt x="53" y="115"/>
                  </a:moveTo>
                  <a:cubicBezTo>
                    <a:pt x="43" y="114"/>
                    <a:pt x="34" y="109"/>
                    <a:pt x="27" y="103"/>
                  </a:cubicBezTo>
                  <a:cubicBezTo>
                    <a:pt x="31" y="100"/>
                    <a:pt x="35" y="98"/>
                    <a:pt x="40" y="96"/>
                  </a:cubicBezTo>
                  <a:cubicBezTo>
                    <a:pt x="43" y="103"/>
                    <a:pt x="48" y="110"/>
                    <a:pt x="53" y="115"/>
                  </a:cubicBezTo>
                  <a:close/>
                  <a:moveTo>
                    <a:pt x="64" y="116"/>
                  </a:moveTo>
                  <a:cubicBezTo>
                    <a:pt x="64" y="92"/>
                    <a:pt x="64" y="92"/>
                    <a:pt x="64" y="92"/>
                  </a:cubicBezTo>
                  <a:cubicBezTo>
                    <a:pt x="70" y="92"/>
                    <a:pt x="75" y="93"/>
                    <a:pt x="81" y="95"/>
                  </a:cubicBezTo>
                  <a:cubicBezTo>
                    <a:pt x="76" y="103"/>
                    <a:pt x="71" y="110"/>
                    <a:pt x="64" y="116"/>
                  </a:cubicBezTo>
                  <a:cubicBezTo>
                    <a:pt x="64" y="116"/>
                    <a:pt x="64" y="116"/>
                    <a:pt x="64" y="116"/>
                  </a:cubicBezTo>
                  <a:close/>
                  <a:moveTo>
                    <a:pt x="84" y="96"/>
                  </a:moveTo>
                  <a:cubicBezTo>
                    <a:pt x="89" y="98"/>
                    <a:pt x="93" y="100"/>
                    <a:pt x="97" y="103"/>
                  </a:cubicBezTo>
                  <a:cubicBezTo>
                    <a:pt x="90" y="109"/>
                    <a:pt x="81" y="114"/>
                    <a:pt x="71" y="115"/>
                  </a:cubicBezTo>
                  <a:cubicBezTo>
                    <a:pt x="76" y="110"/>
                    <a:pt x="81" y="103"/>
                    <a:pt x="84" y="96"/>
                  </a:cubicBezTo>
                  <a:close/>
                  <a:moveTo>
                    <a:pt x="82" y="91"/>
                  </a:moveTo>
                  <a:cubicBezTo>
                    <a:pt x="76" y="89"/>
                    <a:pt x="70" y="88"/>
                    <a:pt x="64" y="88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74"/>
                    <a:pt x="86" y="83"/>
                    <a:pt x="82" y="91"/>
                  </a:cubicBezTo>
                  <a:close/>
                  <a:moveTo>
                    <a:pt x="64" y="60"/>
                  </a:moveTo>
                  <a:cubicBezTo>
                    <a:pt x="64" y="40"/>
                    <a:pt x="64" y="40"/>
                    <a:pt x="64" y="40"/>
                  </a:cubicBezTo>
                  <a:cubicBezTo>
                    <a:pt x="71" y="40"/>
                    <a:pt x="77" y="38"/>
                    <a:pt x="84" y="36"/>
                  </a:cubicBezTo>
                  <a:cubicBezTo>
                    <a:pt x="86" y="44"/>
                    <a:pt x="88" y="52"/>
                    <a:pt x="88" y="60"/>
                  </a:cubicBezTo>
                  <a:lnTo>
                    <a:pt x="64" y="60"/>
                  </a:lnTo>
                  <a:close/>
                  <a:moveTo>
                    <a:pt x="22" y="26"/>
                  </a:moveTo>
                  <a:cubicBezTo>
                    <a:pt x="26" y="30"/>
                    <a:pt x="31" y="33"/>
                    <a:pt x="37" y="35"/>
                  </a:cubicBezTo>
                  <a:cubicBezTo>
                    <a:pt x="34" y="43"/>
                    <a:pt x="32" y="51"/>
                    <a:pt x="32" y="60"/>
                  </a:cubicBezTo>
                  <a:cubicBezTo>
                    <a:pt x="8" y="60"/>
                    <a:pt x="8" y="60"/>
                    <a:pt x="8" y="60"/>
                  </a:cubicBezTo>
                  <a:cubicBezTo>
                    <a:pt x="9" y="47"/>
                    <a:pt x="14" y="35"/>
                    <a:pt x="22" y="26"/>
                  </a:cubicBezTo>
                  <a:close/>
                  <a:moveTo>
                    <a:pt x="8" y="64"/>
                  </a:moveTo>
                  <a:cubicBezTo>
                    <a:pt x="32" y="64"/>
                    <a:pt x="32" y="64"/>
                    <a:pt x="32" y="64"/>
                  </a:cubicBezTo>
                  <a:cubicBezTo>
                    <a:pt x="32" y="74"/>
                    <a:pt x="34" y="84"/>
                    <a:pt x="38" y="93"/>
                  </a:cubicBezTo>
                  <a:cubicBezTo>
                    <a:pt x="33" y="95"/>
                    <a:pt x="28" y="97"/>
                    <a:pt x="24" y="100"/>
                  </a:cubicBezTo>
                  <a:cubicBezTo>
                    <a:pt x="15" y="91"/>
                    <a:pt x="9" y="78"/>
                    <a:pt x="8" y="64"/>
                  </a:cubicBezTo>
                  <a:close/>
                  <a:moveTo>
                    <a:pt x="100" y="100"/>
                  </a:moveTo>
                  <a:cubicBezTo>
                    <a:pt x="96" y="97"/>
                    <a:pt x="91" y="95"/>
                    <a:pt x="86" y="93"/>
                  </a:cubicBezTo>
                  <a:cubicBezTo>
                    <a:pt x="90" y="84"/>
                    <a:pt x="92" y="74"/>
                    <a:pt x="92" y="64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5" y="78"/>
                    <a:pt x="109" y="91"/>
                    <a:pt x="100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组合 73"/>
          <p:cNvGrpSpPr/>
          <p:nvPr/>
        </p:nvGrpSpPr>
        <p:grpSpPr>
          <a:xfrm>
            <a:off x="1290600" y="4135320"/>
            <a:ext cx="1838520" cy="684720"/>
            <a:chOff x="1290600" y="4135320"/>
            <a:chExt cx="1838520" cy="684720"/>
          </a:xfrm>
        </p:grpSpPr>
        <p:sp>
          <p:nvSpPr>
            <p:cNvPr id="676" name="TextBox 28"/>
            <p:cNvSpPr/>
            <p:nvPr/>
          </p:nvSpPr>
          <p:spPr>
            <a:xfrm>
              <a:off x="180432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29"/>
            <p:cNvSpPr/>
            <p:nvPr/>
          </p:nvSpPr>
          <p:spPr>
            <a:xfrm>
              <a:off x="129060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76"/>
          <p:cNvGrpSpPr/>
          <p:nvPr/>
        </p:nvGrpSpPr>
        <p:grpSpPr>
          <a:xfrm>
            <a:off x="4392720" y="4135320"/>
            <a:ext cx="1838160" cy="684720"/>
            <a:chOff x="4392720" y="4135320"/>
            <a:chExt cx="1838160" cy="684720"/>
          </a:xfrm>
        </p:grpSpPr>
        <p:sp>
          <p:nvSpPr>
            <p:cNvPr id="679" name="TextBox 28"/>
            <p:cNvSpPr/>
            <p:nvPr/>
          </p:nvSpPr>
          <p:spPr>
            <a:xfrm>
              <a:off x="490644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29"/>
            <p:cNvSpPr/>
            <p:nvPr/>
          </p:nvSpPr>
          <p:spPr>
            <a:xfrm>
              <a:off x="4392720" y="436104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组合 79"/>
          <p:cNvGrpSpPr/>
          <p:nvPr/>
        </p:nvGrpSpPr>
        <p:grpSpPr>
          <a:xfrm>
            <a:off x="7521480" y="4135320"/>
            <a:ext cx="1838520" cy="684720"/>
            <a:chOff x="7521480" y="4135320"/>
            <a:chExt cx="1838520" cy="684720"/>
          </a:xfrm>
        </p:grpSpPr>
        <p:sp>
          <p:nvSpPr>
            <p:cNvPr id="682" name="TextBox 28"/>
            <p:cNvSpPr/>
            <p:nvPr/>
          </p:nvSpPr>
          <p:spPr>
            <a:xfrm>
              <a:off x="803520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29"/>
            <p:cNvSpPr/>
            <p:nvPr/>
          </p:nvSpPr>
          <p:spPr>
            <a:xfrm>
              <a:off x="752148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4" name="组合 82"/>
          <p:cNvGrpSpPr/>
          <p:nvPr/>
        </p:nvGrpSpPr>
        <p:grpSpPr>
          <a:xfrm>
            <a:off x="5962680" y="3032280"/>
            <a:ext cx="1836720" cy="684720"/>
            <a:chOff x="5962680" y="3032280"/>
            <a:chExt cx="1836720" cy="684720"/>
          </a:xfrm>
        </p:grpSpPr>
        <p:sp>
          <p:nvSpPr>
            <p:cNvPr id="685" name="TextBox 28"/>
            <p:cNvSpPr/>
            <p:nvPr/>
          </p:nvSpPr>
          <p:spPr>
            <a:xfrm>
              <a:off x="6475680" y="3032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TextBox 29"/>
            <p:cNvSpPr/>
            <p:nvPr/>
          </p:nvSpPr>
          <p:spPr>
            <a:xfrm>
              <a:off x="5962680" y="3258000"/>
              <a:ext cx="18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7" name="组合 85"/>
          <p:cNvGrpSpPr/>
          <p:nvPr/>
        </p:nvGrpSpPr>
        <p:grpSpPr>
          <a:xfrm>
            <a:off x="9045720" y="2841480"/>
            <a:ext cx="1838160" cy="684720"/>
            <a:chOff x="9045720" y="2841480"/>
            <a:chExt cx="1838160" cy="684720"/>
          </a:xfrm>
        </p:grpSpPr>
        <p:sp>
          <p:nvSpPr>
            <p:cNvPr id="688" name="TextBox 28"/>
            <p:cNvSpPr/>
            <p:nvPr/>
          </p:nvSpPr>
          <p:spPr>
            <a:xfrm>
              <a:off x="9559440" y="28414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TextBox 29"/>
            <p:cNvSpPr/>
            <p:nvPr/>
          </p:nvSpPr>
          <p:spPr>
            <a:xfrm>
              <a:off x="9045720" y="306720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5" descr=""/>
          <p:cNvPicPr/>
          <p:nvPr/>
        </p:nvPicPr>
        <p:blipFill>
          <a:blip r:embed="rId1"/>
          <a:srcRect l="0" t="4743" r="0" b="10510"/>
          <a:stretch/>
        </p:blipFill>
        <p:spPr>
          <a:xfrm>
            <a:off x="0" y="-38160"/>
            <a:ext cx="12228480" cy="6912000"/>
          </a:xfrm>
          <a:prstGeom prst="rect">
            <a:avLst/>
          </a:prstGeom>
          <a:ln w="0">
            <a:noFill/>
          </a:ln>
        </p:spPr>
      </p:pic>
      <p:sp>
        <p:nvSpPr>
          <p:cNvPr id="691" name="矩形 3"/>
          <p:cNvSpPr/>
          <p:nvPr/>
        </p:nvSpPr>
        <p:spPr>
          <a:xfrm>
            <a:off x="760320" y="0"/>
            <a:ext cx="3929040" cy="6873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9"/>
          <p:cNvSpPr/>
          <p:nvPr/>
        </p:nvSpPr>
        <p:spPr>
          <a:xfrm>
            <a:off x="760320" y="6276960"/>
            <a:ext cx="3929040" cy="5968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10"/>
          <p:cNvSpPr/>
          <p:nvPr/>
        </p:nvSpPr>
        <p:spPr>
          <a:xfrm>
            <a:off x="1179360" y="2136600"/>
            <a:ext cx="317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11"/>
          <p:cNvSpPr/>
          <p:nvPr/>
        </p:nvSpPr>
        <p:spPr>
          <a:xfrm>
            <a:off x="1093680" y="121428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14"/>
          <p:cNvSpPr/>
          <p:nvPr/>
        </p:nvSpPr>
        <p:spPr>
          <a:xfrm>
            <a:off x="1154160" y="3719520"/>
            <a:ext cx="326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9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9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1" name="任意多边形 6"/>
          <p:cNvSpPr/>
          <p:nvPr/>
        </p:nvSpPr>
        <p:spPr>
          <a:xfrm>
            <a:off x="-19080" y="3494160"/>
            <a:ext cx="9375840" cy="772920"/>
          </a:xfrm>
          <a:custGeom>
            <a:avLst/>
            <a:gdLst>
              <a:gd name="textAreaLeft" fmla="*/ 0 w 9375840"/>
              <a:gd name="textAreaRight" fmla="*/ 9376200 w 9375840"/>
              <a:gd name="textAreaTop" fmla="*/ 0 h 772920"/>
              <a:gd name="textAreaBottom" fmla="*/ 773280 h 772920"/>
            </a:gdLst>
            <a:ahLst/>
            <a:rect l="textAreaLeft" t="textAreaTop" r="textAreaRight" b="textAreaBottom"/>
            <a:pathLst>
              <a:path w="9375207" h="773113">
                <a:moveTo>
                  <a:pt x="8965632" y="0"/>
                </a:moveTo>
                <a:lnTo>
                  <a:pt x="9375207" y="384175"/>
                </a:lnTo>
                <a:lnTo>
                  <a:pt x="8965632" y="773113"/>
                </a:lnTo>
                <a:lnTo>
                  <a:pt x="8965632" y="539751"/>
                </a:lnTo>
                <a:lnTo>
                  <a:pt x="0" y="539751"/>
                </a:lnTo>
                <a:lnTo>
                  <a:pt x="0" y="233363"/>
                </a:lnTo>
                <a:lnTo>
                  <a:pt x="8965632" y="233363"/>
                </a:lnTo>
                <a:lnTo>
                  <a:pt x="8965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任意多边形 7"/>
          <p:cNvSpPr/>
          <p:nvPr/>
        </p:nvSpPr>
        <p:spPr>
          <a:xfrm>
            <a:off x="-19080" y="2576520"/>
            <a:ext cx="8234280" cy="1465200"/>
          </a:xfrm>
          <a:custGeom>
            <a:avLst/>
            <a:gdLst>
              <a:gd name="textAreaLeft" fmla="*/ 0 w 8234280"/>
              <a:gd name="textAreaRight" fmla="*/ 8234640 w 823428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8233795" h="1465263">
                <a:moveTo>
                  <a:pt x="7824620" y="0"/>
                </a:moveTo>
                <a:lnTo>
                  <a:pt x="8233795" y="410575"/>
                </a:lnTo>
                <a:cubicBezTo>
                  <a:pt x="8233795" y="410575"/>
                  <a:pt x="8233795" y="410575"/>
                  <a:pt x="7967268" y="410575"/>
                </a:cubicBezTo>
                <a:cubicBezTo>
                  <a:pt x="7967268" y="410575"/>
                  <a:pt x="7967268" y="410575"/>
                  <a:pt x="7967268" y="934152"/>
                </a:cubicBezTo>
                <a:cubicBezTo>
                  <a:pt x="7967268" y="1077289"/>
                  <a:pt x="7903452" y="1209125"/>
                  <a:pt x="7809605" y="1310827"/>
                </a:cubicBezTo>
                <a:cubicBezTo>
                  <a:pt x="7712003" y="1401229"/>
                  <a:pt x="7580617" y="1465263"/>
                  <a:pt x="7437969" y="1465263"/>
                </a:cubicBezTo>
                <a:cubicBezTo>
                  <a:pt x="7437969" y="1465263"/>
                  <a:pt x="5174633" y="1465263"/>
                  <a:pt x="527328" y="1465263"/>
                </a:cubicBezTo>
                <a:lnTo>
                  <a:pt x="0" y="1465263"/>
                </a:lnTo>
                <a:lnTo>
                  <a:pt x="0" y="1160157"/>
                </a:lnTo>
                <a:lnTo>
                  <a:pt x="147106" y="1160157"/>
                </a:lnTo>
                <a:cubicBezTo>
                  <a:pt x="1434342" y="1160157"/>
                  <a:pt x="4512979" y="1160157"/>
                  <a:pt x="7437969" y="1160157"/>
                </a:cubicBezTo>
                <a:cubicBezTo>
                  <a:pt x="7498031" y="1160157"/>
                  <a:pt x="7554340" y="1133790"/>
                  <a:pt x="7595633" y="1096122"/>
                </a:cubicBezTo>
                <a:cubicBezTo>
                  <a:pt x="7636926" y="1050921"/>
                  <a:pt x="7663203" y="994420"/>
                  <a:pt x="7663203" y="934152"/>
                </a:cubicBezTo>
                <a:cubicBezTo>
                  <a:pt x="7663203" y="934152"/>
                  <a:pt x="7663203" y="934152"/>
                  <a:pt x="7663203" y="410575"/>
                </a:cubicBezTo>
                <a:cubicBezTo>
                  <a:pt x="7663203" y="410575"/>
                  <a:pt x="7663203" y="410575"/>
                  <a:pt x="7419199" y="410575"/>
                </a:cubicBezTo>
                <a:cubicBezTo>
                  <a:pt x="7419199" y="410575"/>
                  <a:pt x="7419199" y="410575"/>
                  <a:pt x="7824620" y="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任意多边形 8"/>
          <p:cNvSpPr/>
          <p:nvPr/>
        </p:nvSpPr>
        <p:spPr>
          <a:xfrm>
            <a:off x="-19080" y="3727440"/>
            <a:ext cx="7697880" cy="1465200"/>
          </a:xfrm>
          <a:custGeom>
            <a:avLst/>
            <a:gdLst>
              <a:gd name="textAreaLeft" fmla="*/ 0 w 7697880"/>
              <a:gd name="textAreaRight" fmla="*/ 7698240 w 769788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7697220" h="1465263">
                <a:moveTo>
                  <a:pt x="0" y="0"/>
                </a:moveTo>
                <a:lnTo>
                  <a:pt x="414846" y="0"/>
                </a:lnTo>
                <a:cubicBezTo>
                  <a:pt x="4625178" y="0"/>
                  <a:pt x="6905112" y="0"/>
                  <a:pt x="6905112" y="0"/>
                </a:cubicBezTo>
                <a:cubicBezTo>
                  <a:pt x="7047767" y="0"/>
                  <a:pt x="7179159" y="60268"/>
                  <a:pt x="7276765" y="158203"/>
                </a:cubicBezTo>
                <a:cubicBezTo>
                  <a:pt x="7370617" y="252372"/>
                  <a:pt x="7430682" y="384208"/>
                  <a:pt x="7430682" y="534878"/>
                </a:cubicBezTo>
                <a:cubicBezTo>
                  <a:pt x="7430682" y="1058455"/>
                  <a:pt x="7430682" y="1058455"/>
                  <a:pt x="7430682" y="1058455"/>
                </a:cubicBezTo>
                <a:cubicBezTo>
                  <a:pt x="7697220" y="1058455"/>
                  <a:pt x="7697220" y="1058455"/>
                  <a:pt x="7697220" y="1058455"/>
                </a:cubicBezTo>
                <a:cubicBezTo>
                  <a:pt x="7697220" y="1058455"/>
                  <a:pt x="7697220" y="1058455"/>
                  <a:pt x="7291781" y="1465263"/>
                </a:cubicBezTo>
                <a:cubicBezTo>
                  <a:pt x="6886342" y="1058455"/>
                  <a:pt x="6886342" y="1058455"/>
                  <a:pt x="6886342" y="1058455"/>
                </a:cubicBezTo>
                <a:cubicBezTo>
                  <a:pt x="7130356" y="1058455"/>
                  <a:pt x="7130356" y="1058455"/>
                  <a:pt x="7130356" y="1058455"/>
                </a:cubicBezTo>
                <a:cubicBezTo>
                  <a:pt x="7130356" y="534878"/>
                  <a:pt x="7130356" y="534878"/>
                  <a:pt x="7130356" y="534878"/>
                </a:cubicBezTo>
                <a:cubicBezTo>
                  <a:pt x="7130356" y="470843"/>
                  <a:pt x="7104078" y="414342"/>
                  <a:pt x="7062783" y="372908"/>
                </a:cubicBezTo>
                <a:cubicBezTo>
                  <a:pt x="7017734" y="327707"/>
                  <a:pt x="6965178" y="305106"/>
                  <a:pt x="6905112" y="305106"/>
                </a:cubicBezTo>
                <a:cubicBezTo>
                  <a:pt x="4309411" y="305106"/>
                  <a:pt x="1341969" y="305106"/>
                  <a:pt x="96924" y="305106"/>
                </a:cubicBezTo>
                <a:lnTo>
                  <a:pt x="0" y="30510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任意多边形 9"/>
          <p:cNvSpPr/>
          <p:nvPr/>
        </p:nvSpPr>
        <p:spPr>
          <a:xfrm>
            <a:off x="0" y="2576520"/>
            <a:ext cx="5830920" cy="1465200"/>
          </a:xfrm>
          <a:custGeom>
            <a:avLst/>
            <a:gdLst>
              <a:gd name="textAreaLeft" fmla="*/ 0 w 5830920"/>
              <a:gd name="textAreaRight" fmla="*/ 5831280 w 583092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5830888" h="1465263">
                <a:moveTo>
                  <a:pt x="5425476" y="0"/>
                </a:moveTo>
                <a:lnTo>
                  <a:pt x="5830888" y="410575"/>
                </a:lnTo>
                <a:cubicBezTo>
                  <a:pt x="5830888" y="410575"/>
                  <a:pt x="5830888" y="410575"/>
                  <a:pt x="5564367" y="410575"/>
                </a:cubicBezTo>
                <a:cubicBezTo>
                  <a:pt x="5564367" y="410575"/>
                  <a:pt x="5564367" y="410575"/>
                  <a:pt x="5564367" y="934152"/>
                </a:cubicBezTo>
                <a:cubicBezTo>
                  <a:pt x="5564367" y="1077289"/>
                  <a:pt x="5504306" y="1209125"/>
                  <a:pt x="5410461" y="1310827"/>
                </a:cubicBezTo>
                <a:cubicBezTo>
                  <a:pt x="5312862" y="1401229"/>
                  <a:pt x="5181478" y="1465263"/>
                  <a:pt x="5038833" y="1465263"/>
                </a:cubicBezTo>
                <a:cubicBezTo>
                  <a:pt x="5038833" y="1465263"/>
                  <a:pt x="3038519" y="1465263"/>
                  <a:pt x="584469" y="1465263"/>
                </a:cubicBezTo>
                <a:lnTo>
                  <a:pt x="0" y="1465263"/>
                </a:lnTo>
                <a:lnTo>
                  <a:pt x="0" y="1160157"/>
                </a:lnTo>
                <a:lnTo>
                  <a:pt x="322" y="1160157"/>
                </a:lnTo>
                <a:cubicBezTo>
                  <a:pt x="1058235" y="1160157"/>
                  <a:pt x="3556545" y="1160157"/>
                  <a:pt x="5038833" y="1160157"/>
                </a:cubicBezTo>
                <a:cubicBezTo>
                  <a:pt x="5098894" y="1160157"/>
                  <a:pt x="5151448" y="1133790"/>
                  <a:pt x="5196493" y="1096122"/>
                </a:cubicBezTo>
                <a:cubicBezTo>
                  <a:pt x="5237785" y="1050921"/>
                  <a:pt x="5264062" y="994420"/>
                  <a:pt x="5264062" y="934152"/>
                </a:cubicBezTo>
                <a:cubicBezTo>
                  <a:pt x="5264062" y="934152"/>
                  <a:pt x="5264062" y="934152"/>
                  <a:pt x="5264062" y="410575"/>
                </a:cubicBezTo>
                <a:cubicBezTo>
                  <a:pt x="5264062" y="410575"/>
                  <a:pt x="5264062" y="410575"/>
                  <a:pt x="5020064" y="410575"/>
                </a:cubicBezTo>
                <a:cubicBezTo>
                  <a:pt x="5020064" y="410575"/>
                  <a:pt x="5020064" y="410575"/>
                  <a:pt x="5425476" y="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任意多边形 10"/>
          <p:cNvSpPr/>
          <p:nvPr/>
        </p:nvSpPr>
        <p:spPr>
          <a:xfrm>
            <a:off x="0" y="3727440"/>
            <a:ext cx="5302080" cy="1465200"/>
          </a:xfrm>
          <a:custGeom>
            <a:avLst/>
            <a:gdLst>
              <a:gd name="textAreaLeft" fmla="*/ 0 w 5302080"/>
              <a:gd name="textAreaRight" fmla="*/ 5302440 w 530208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5302250" h="1465263">
                <a:moveTo>
                  <a:pt x="0" y="0"/>
                </a:moveTo>
                <a:lnTo>
                  <a:pt x="427438" y="0"/>
                </a:lnTo>
                <a:cubicBezTo>
                  <a:pt x="2520669" y="0"/>
                  <a:pt x="4506491" y="0"/>
                  <a:pt x="4506491" y="0"/>
                </a:cubicBezTo>
                <a:cubicBezTo>
                  <a:pt x="4649127" y="0"/>
                  <a:pt x="4780502" y="60268"/>
                  <a:pt x="4878095" y="158203"/>
                </a:cubicBezTo>
                <a:cubicBezTo>
                  <a:pt x="4971935" y="252372"/>
                  <a:pt x="5035746" y="384208"/>
                  <a:pt x="5035746" y="534878"/>
                </a:cubicBezTo>
                <a:cubicBezTo>
                  <a:pt x="5035746" y="1058455"/>
                  <a:pt x="5035746" y="1058455"/>
                  <a:pt x="5035746" y="1058455"/>
                </a:cubicBezTo>
                <a:cubicBezTo>
                  <a:pt x="5302250" y="1058455"/>
                  <a:pt x="5302250" y="1058455"/>
                  <a:pt x="5302250" y="1058455"/>
                </a:cubicBezTo>
                <a:cubicBezTo>
                  <a:pt x="5302250" y="1058455"/>
                  <a:pt x="5302250" y="1058455"/>
                  <a:pt x="4893110" y="1465263"/>
                </a:cubicBezTo>
                <a:cubicBezTo>
                  <a:pt x="4487723" y="1058455"/>
                  <a:pt x="4487723" y="1058455"/>
                  <a:pt x="4487723" y="1058455"/>
                </a:cubicBezTo>
                <a:cubicBezTo>
                  <a:pt x="4731706" y="1058455"/>
                  <a:pt x="4731706" y="1058455"/>
                  <a:pt x="4731706" y="1058455"/>
                </a:cubicBezTo>
                <a:cubicBezTo>
                  <a:pt x="4731706" y="534878"/>
                  <a:pt x="4731706" y="534878"/>
                  <a:pt x="4731706" y="534878"/>
                </a:cubicBezTo>
                <a:cubicBezTo>
                  <a:pt x="4731706" y="470843"/>
                  <a:pt x="4705431" y="414342"/>
                  <a:pt x="4667895" y="372908"/>
                </a:cubicBezTo>
                <a:cubicBezTo>
                  <a:pt x="4622852" y="327707"/>
                  <a:pt x="4570302" y="305106"/>
                  <a:pt x="4506491" y="305106"/>
                </a:cubicBezTo>
                <a:cubicBezTo>
                  <a:pt x="3422644" y="305106"/>
                  <a:pt x="1318995" y="305106"/>
                  <a:pt x="212978" y="305106"/>
                </a:cubicBezTo>
                <a:lnTo>
                  <a:pt x="0" y="30510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任意多边形 11"/>
          <p:cNvSpPr/>
          <p:nvPr/>
        </p:nvSpPr>
        <p:spPr>
          <a:xfrm>
            <a:off x="11160" y="2563920"/>
            <a:ext cx="3117960" cy="1465200"/>
          </a:xfrm>
          <a:custGeom>
            <a:avLst/>
            <a:gdLst>
              <a:gd name="textAreaLeft" fmla="*/ 0 w 3117960"/>
              <a:gd name="textAreaRight" fmla="*/ 3118320 w 311796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3117767" h="1465263">
                <a:moveTo>
                  <a:pt x="2712384" y="0"/>
                </a:moveTo>
                <a:lnTo>
                  <a:pt x="3117767" y="410575"/>
                </a:lnTo>
                <a:cubicBezTo>
                  <a:pt x="3117767" y="410575"/>
                  <a:pt x="3117767" y="410575"/>
                  <a:pt x="2851265" y="410575"/>
                </a:cubicBezTo>
                <a:cubicBezTo>
                  <a:pt x="2851265" y="410575"/>
                  <a:pt x="2851265" y="410575"/>
                  <a:pt x="2851265" y="934152"/>
                </a:cubicBezTo>
                <a:cubicBezTo>
                  <a:pt x="2851265" y="1077289"/>
                  <a:pt x="2791208" y="1209125"/>
                  <a:pt x="2697370" y="1310827"/>
                </a:cubicBezTo>
                <a:cubicBezTo>
                  <a:pt x="2599777" y="1401229"/>
                  <a:pt x="2468403" y="1465263"/>
                  <a:pt x="2325768" y="1465263"/>
                </a:cubicBezTo>
                <a:cubicBezTo>
                  <a:pt x="2325768" y="1465263"/>
                  <a:pt x="1525631" y="1465263"/>
                  <a:pt x="316888" y="1465263"/>
                </a:cubicBezTo>
                <a:lnTo>
                  <a:pt x="0" y="1465263"/>
                </a:lnTo>
                <a:lnTo>
                  <a:pt x="0" y="1160157"/>
                </a:lnTo>
                <a:lnTo>
                  <a:pt x="439609" y="1160157"/>
                </a:lnTo>
                <a:cubicBezTo>
                  <a:pt x="1123694" y="1160157"/>
                  <a:pt x="1790887" y="1160157"/>
                  <a:pt x="2325768" y="1160157"/>
                </a:cubicBezTo>
                <a:cubicBezTo>
                  <a:pt x="2385825" y="1160157"/>
                  <a:pt x="2438375" y="1133790"/>
                  <a:pt x="2483417" y="1096122"/>
                </a:cubicBezTo>
                <a:cubicBezTo>
                  <a:pt x="2524706" y="1050921"/>
                  <a:pt x="2550981" y="994420"/>
                  <a:pt x="2550981" y="934152"/>
                </a:cubicBezTo>
                <a:cubicBezTo>
                  <a:pt x="2550981" y="934152"/>
                  <a:pt x="2550981" y="934152"/>
                  <a:pt x="2550981" y="410575"/>
                </a:cubicBezTo>
                <a:cubicBezTo>
                  <a:pt x="2550981" y="410575"/>
                  <a:pt x="2550981" y="410575"/>
                  <a:pt x="2307000" y="410575"/>
                </a:cubicBezTo>
                <a:cubicBezTo>
                  <a:pt x="2307000" y="410575"/>
                  <a:pt x="2307000" y="410575"/>
                  <a:pt x="2712384" y="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任意多边形 12"/>
          <p:cNvSpPr/>
          <p:nvPr/>
        </p:nvSpPr>
        <p:spPr>
          <a:xfrm>
            <a:off x="3240" y="3714840"/>
            <a:ext cx="2597040" cy="1465200"/>
          </a:xfrm>
          <a:custGeom>
            <a:avLst/>
            <a:gdLst>
              <a:gd name="textAreaLeft" fmla="*/ 0 w 2597040"/>
              <a:gd name="textAreaRight" fmla="*/ 2597400 w 259704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2597150" h="1465263">
                <a:moveTo>
                  <a:pt x="0" y="0"/>
                </a:moveTo>
                <a:lnTo>
                  <a:pt x="31868" y="0"/>
                </a:lnTo>
                <a:cubicBezTo>
                  <a:pt x="1072001" y="0"/>
                  <a:pt x="1801280" y="0"/>
                  <a:pt x="1801280" y="0"/>
                </a:cubicBezTo>
                <a:cubicBezTo>
                  <a:pt x="1943936" y="0"/>
                  <a:pt x="2075329" y="60268"/>
                  <a:pt x="2172936" y="158203"/>
                </a:cubicBezTo>
                <a:cubicBezTo>
                  <a:pt x="2266789" y="252372"/>
                  <a:pt x="2330609" y="384208"/>
                  <a:pt x="2330609" y="534878"/>
                </a:cubicBezTo>
                <a:cubicBezTo>
                  <a:pt x="2330609" y="1058455"/>
                  <a:pt x="2330609" y="1058455"/>
                  <a:pt x="2330609" y="1058455"/>
                </a:cubicBezTo>
                <a:cubicBezTo>
                  <a:pt x="2597150" y="1058455"/>
                  <a:pt x="2597150" y="1058455"/>
                  <a:pt x="2597150" y="1058455"/>
                </a:cubicBezTo>
                <a:cubicBezTo>
                  <a:pt x="2597150" y="1058455"/>
                  <a:pt x="2597150" y="1058455"/>
                  <a:pt x="2187953" y="1465263"/>
                </a:cubicBezTo>
                <a:cubicBezTo>
                  <a:pt x="1782509" y="1058455"/>
                  <a:pt x="1782509" y="1058455"/>
                  <a:pt x="1782509" y="1058455"/>
                </a:cubicBezTo>
                <a:cubicBezTo>
                  <a:pt x="2026526" y="1058455"/>
                  <a:pt x="2026526" y="1058455"/>
                  <a:pt x="2026526" y="1058455"/>
                </a:cubicBezTo>
                <a:cubicBezTo>
                  <a:pt x="2026526" y="534878"/>
                  <a:pt x="2026526" y="534878"/>
                  <a:pt x="2026526" y="534878"/>
                </a:cubicBezTo>
                <a:cubicBezTo>
                  <a:pt x="2026526" y="470843"/>
                  <a:pt x="2000247" y="414342"/>
                  <a:pt x="1962706" y="372908"/>
                </a:cubicBezTo>
                <a:cubicBezTo>
                  <a:pt x="1917657" y="327707"/>
                  <a:pt x="1865099" y="305106"/>
                  <a:pt x="1801280" y="305106"/>
                </a:cubicBezTo>
                <a:cubicBezTo>
                  <a:pt x="1390205" y="305106"/>
                  <a:pt x="833659" y="305106"/>
                  <a:pt x="240510" y="305106"/>
                </a:cubicBezTo>
                <a:lnTo>
                  <a:pt x="0" y="30510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165"/>
          <p:cNvSpPr/>
          <p:nvPr/>
        </p:nvSpPr>
        <p:spPr>
          <a:xfrm>
            <a:off x="2570040" y="1347840"/>
            <a:ext cx="338400" cy="341280"/>
          </a:xfrm>
          <a:custGeom>
            <a:avLst/>
            <a:gdLst>
              <a:gd name="textAreaLeft" fmla="*/ 0 w 338400"/>
              <a:gd name="textAreaRight" fmla="*/ 338760 w 33840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167328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Group 27" descr=""/>
          <p:cNvPicPr/>
          <p:nvPr/>
        </p:nvPicPr>
        <p:blipFill>
          <a:blip r:embed="rId2"/>
          <a:stretch/>
        </p:blipFill>
        <p:spPr>
          <a:xfrm>
            <a:off x="5254560" y="137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3"/>
          <p:cNvSpPr/>
          <p:nvPr/>
        </p:nvSpPr>
        <p:spPr>
          <a:xfrm>
            <a:off x="4264200" y="1924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reeform 64"/>
          <p:cNvSpPr/>
          <p:nvPr/>
        </p:nvSpPr>
        <p:spPr>
          <a:xfrm>
            <a:off x="7628040" y="1425600"/>
            <a:ext cx="307800" cy="289080"/>
          </a:xfrm>
          <a:custGeom>
            <a:avLst/>
            <a:gdLst>
              <a:gd name="textAreaLeft" fmla="*/ 0 w 307800"/>
              <a:gd name="textAreaRight" fmla="*/ 308160 w 3078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64" h="60">
                <a:moveTo>
                  <a:pt x="36" y="0"/>
                </a:moveTo>
                <a:cubicBezTo>
                  <a:pt x="12" y="0"/>
                  <a:pt x="0" y="24"/>
                  <a:pt x="0" y="40"/>
                </a:cubicBezTo>
                <a:cubicBezTo>
                  <a:pt x="0" y="44"/>
                  <a:pt x="8" y="52"/>
                  <a:pt x="12" y="40"/>
                </a:cubicBezTo>
                <a:cubicBezTo>
                  <a:pt x="14" y="35"/>
                  <a:pt x="24" y="36"/>
                  <a:pt x="24" y="44"/>
                </a:cubicBezTo>
                <a:cubicBezTo>
                  <a:pt x="24" y="53"/>
                  <a:pt x="28" y="60"/>
                  <a:pt x="36" y="60"/>
                </a:cubicBezTo>
                <a:cubicBezTo>
                  <a:pt x="60" y="60"/>
                  <a:pt x="64" y="40"/>
                  <a:pt x="64" y="28"/>
                </a:cubicBezTo>
                <a:cubicBezTo>
                  <a:pt x="64" y="16"/>
                  <a:pt x="60" y="0"/>
                  <a:pt x="36" y="0"/>
                </a:cubicBezTo>
                <a:close/>
                <a:moveTo>
                  <a:pt x="16" y="29"/>
                </a:moveTo>
                <a:cubicBezTo>
                  <a:pt x="13" y="29"/>
                  <a:pt x="11" y="27"/>
                  <a:pt x="11" y="24"/>
                </a:cubicBezTo>
                <a:cubicBezTo>
                  <a:pt x="11" y="21"/>
                  <a:pt x="13" y="19"/>
                  <a:pt x="16" y="19"/>
                </a:cubicBezTo>
                <a:cubicBezTo>
                  <a:pt x="19" y="19"/>
                  <a:pt x="21" y="21"/>
                  <a:pt x="21" y="24"/>
                </a:cubicBezTo>
                <a:cubicBezTo>
                  <a:pt x="21" y="27"/>
                  <a:pt x="19" y="29"/>
                  <a:pt x="16" y="29"/>
                </a:cubicBezTo>
                <a:close/>
                <a:moveTo>
                  <a:pt x="25" y="14"/>
                </a:moveTo>
                <a:cubicBezTo>
                  <a:pt x="25" y="11"/>
                  <a:pt x="27" y="9"/>
                  <a:pt x="30" y="9"/>
                </a:cubicBezTo>
                <a:cubicBezTo>
                  <a:pt x="33" y="9"/>
                  <a:pt x="35" y="11"/>
                  <a:pt x="35" y="14"/>
                </a:cubicBezTo>
                <a:cubicBezTo>
                  <a:pt x="35" y="17"/>
                  <a:pt x="33" y="19"/>
                  <a:pt x="30" y="19"/>
                </a:cubicBezTo>
                <a:cubicBezTo>
                  <a:pt x="27" y="19"/>
                  <a:pt x="25" y="17"/>
                  <a:pt x="25" y="14"/>
                </a:cubicBezTo>
                <a:close/>
                <a:moveTo>
                  <a:pt x="38" y="49"/>
                </a:moveTo>
                <a:cubicBezTo>
                  <a:pt x="34" y="49"/>
                  <a:pt x="31" y="46"/>
                  <a:pt x="31" y="42"/>
                </a:cubicBezTo>
                <a:cubicBezTo>
                  <a:pt x="31" y="38"/>
                  <a:pt x="34" y="35"/>
                  <a:pt x="38" y="35"/>
                </a:cubicBezTo>
                <a:cubicBezTo>
                  <a:pt x="42" y="35"/>
                  <a:pt x="45" y="38"/>
                  <a:pt x="45" y="42"/>
                </a:cubicBezTo>
                <a:cubicBezTo>
                  <a:pt x="45" y="46"/>
                  <a:pt x="42" y="49"/>
                  <a:pt x="38" y="49"/>
                </a:cubicBezTo>
                <a:close/>
                <a:moveTo>
                  <a:pt x="50" y="37"/>
                </a:moveTo>
                <a:cubicBezTo>
                  <a:pt x="48" y="37"/>
                  <a:pt x="47" y="36"/>
                  <a:pt x="47" y="34"/>
                </a:cubicBezTo>
                <a:cubicBezTo>
                  <a:pt x="47" y="32"/>
                  <a:pt x="48" y="31"/>
                  <a:pt x="50" y="31"/>
                </a:cubicBezTo>
                <a:cubicBezTo>
                  <a:pt x="52" y="31"/>
                  <a:pt x="53" y="32"/>
                  <a:pt x="53" y="34"/>
                </a:cubicBezTo>
                <a:cubicBezTo>
                  <a:pt x="53" y="36"/>
                  <a:pt x="52" y="37"/>
                  <a:pt x="50" y="37"/>
                </a:cubicBezTo>
                <a:close/>
                <a:moveTo>
                  <a:pt x="46" y="25"/>
                </a:moveTo>
                <a:cubicBezTo>
                  <a:pt x="42" y="25"/>
                  <a:pt x="39" y="22"/>
                  <a:pt x="39" y="18"/>
                </a:cubicBezTo>
                <a:cubicBezTo>
                  <a:pt x="39" y="14"/>
                  <a:pt x="42" y="11"/>
                  <a:pt x="46" y="11"/>
                </a:cubicBezTo>
                <a:cubicBezTo>
                  <a:pt x="50" y="11"/>
                  <a:pt x="53" y="14"/>
                  <a:pt x="53" y="18"/>
                </a:cubicBezTo>
                <a:cubicBezTo>
                  <a:pt x="53" y="22"/>
                  <a:pt x="50" y="25"/>
                  <a:pt x="4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668484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Group 53" descr=""/>
          <p:cNvPicPr/>
          <p:nvPr/>
        </p:nvPicPr>
        <p:blipFill>
          <a:blip r:embed="rId3"/>
          <a:stretch/>
        </p:blipFill>
        <p:spPr>
          <a:xfrm>
            <a:off x="2048040" y="5248440"/>
            <a:ext cx="293400" cy="433080"/>
          </a:xfrm>
          <a:prstGeom prst="rect">
            <a:avLst/>
          </a:prstGeom>
          <a:ln w="0">
            <a:noFill/>
          </a:ln>
        </p:spPr>
      </p:pic>
      <p:sp>
        <p:nvSpPr>
          <p:cNvPr id="715" name="TextBox 13"/>
          <p:cNvSpPr/>
          <p:nvPr/>
        </p:nvSpPr>
        <p:spPr>
          <a:xfrm>
            <a:off x="1292400" y="5821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60"/>
          <p:cNvSpPr/>
          <p:nvPr/>
        </p:nvSpPr>
        <p:spPr>
          <a:xfrm>
            <a:off x="4727520" y="5292720"/>
            <a:ext cx="311040" cy="312840"/>
          </a:xfrm>
          <a:custGeom>
            <a:avLst/>
            <a:gdLst>
              <a:gd name="textAreaLeft" fmla="*/ 0 w 311040"/>
              <a:gd name="textAreaRight" fmla="*/ 311400 w 31104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64" h="64">
                <a:moveTo>
                  <a:pt x="55" y="26"/>
                </a:moveTo>
                <a:cubicBezTo>
                  <a:pt x="36" y="46"/>
                  <a:pt x="36" y="46"/>
                  <a:pt x="36" y="46"/>
                </a:cubicBezTo>
                <a:cubicBezTo>
                  <a:pt x="31" y="51"/>
                  <a:pt x="23" y="51"/>
                  <a:pt x="18" y="46"/>
                </a:cubicBezTo>
                <a:cubicBezTo>
                  <a:pt x="13" y="41"/>
                  <a:pt x="13" y="33"/>
                  <a:pt x="18" y="28"/>
                </a:cubicBezTo>
                <a:cubicBezTo>
                  <a:pt x="38" y="9"/>
                  <a:pt x="38" y="9"/>
                  <a:pt x="38" y="9"/>
                </a:cubicBezTo>
                <a:cubicBezTo>
                  <a:pt x="29" y="0"/>
                  <a:pt x="29" y="0"/>
                  <a:pt x="29" y="0"/>
                </a:cubicBezTo>
                <a:cubicBezTo>
                  <a:pt x="10" y="20"/>
                  <a:pt x="10" y="20"/>
                  <a:pt x="10" y="20"/>
                </a:cubicBezTo>
                <a:cubicBezTo>
                  <a:pt x="0" y="29"/>
                  <a:pt x="0" y="45"/>
                  <a:pt x="10" y="54"/>
                </a:cubicBezTo>
                <a:cubicBezTo>
                  <a:pt x="19" y="64"/>
                  <a:pt x="35" y="64"/>
                  <a:pt x="44" y="54"/>
                </a:cubicBezTo>
                <a:cubicBezTo>
                  <a:pt x="64" y="35"/>
                  <a:pt x="64" y="35"/>
                  <a:pt x="64" y="35"/>
                </a:cubicBezTo>
                <a:lnTo>
                  <a:pt x="55" y="26"/>
                </a:lnTo>
                <a:close/>
                <a:moveTo>
                  <a:pt x="29" y="4"/>
                </a:moveTo>
                <a:cubicBezTo>
                  <a:pt x="33" y="9"/>
                  <a:pt x="33" y="9"/>
                  <a:pt x="33" y="9"/>
                </a:cubicBezTo>
                <a:cubicBezTo>
                  <a:pt x="27" y="15"/>
                  <a:pt x="27" y="15"/>
                  <a:pt x="27" y="15"/>
                </a:cubicBezTo>
                <a:cubicBezTo>
                  <a:pt x="23" y="11"/>
                  <a:pt x="23" y="11"/>
                  <a:pt x="23" y="11"/>
                </a:cubicBezTo>
                <a:lnTo>
                  <a:pt x="29" y="4"/>
                </a:lnTo>
                <a:close/>
                <a:moveTo>
                  <a:pt x="49" y="37"/>
                </a:moveTo>
                <a:cubicBezTo>
                  <a:pt x="55" y="31"/>
                  <a:pt x="55" y="31"/>
                  <a:pt x="55" y="31"/>
                </a:cubicBezTo>
                <a:cubicBezTo>
                  <a:pt x="60" y="35"/>
                  <a:pt x="60" y="35"/>
                  <a:pt x="60" y="35"/>
                </a:cubicBezTo>
                <a:cubicBezTo>
                  <a:pt x="53" y="41"/>
                  <a:pt x="53" y="41"/>
                  <a:pt x="53" y="41"/>
                </a:cubicBezTo>
                <a:lnTo>
                  <a:pt x="49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3881520" y="58086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Group 34" descr=""/>
          <p:cNvPicPr/>
          <p:nvPr/>
        </p:nvPicPr>
        <p:blipFill>
          <a:blip r:embed="rId4"/>
          <a:stretch/>
        </p:blipFill>
        <p:spPr>
          <a:xfrm>
            <a:off x="7089840" y="5303880"/>
            <a:ext cx="341280" cy="3412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3"/>
          <p:cNvSpPr/>
          <p:nvPr/>
        </p:nvSpPr>
        <p:spPr>
          <a:xfrm>
            <a:off x="6303960" y="5821200"/>
            <a:ext cx="19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Group 22" descr=""/>
          <p:cNvPicPr/>
          <p:nvPr/>
        </p:nvPicPr>
        <p:blipFill>
          <a:blip r:embed="rId5"/>
          <a:stretch/>
        </p:blipFill>
        <p:spPr>
          <a:xfrm>
            <a:off x="9491760" y="3700440"/>
            <a:ext cx="433440" cy="3286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13"/>
          <p:cNvSpPr/>
          <p:nvPr/>
        </p:nvSpPr>
        <p:spPr>
          <a:xfrm>
            <a:off x="10007640" y="36036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2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2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任意多边形 6"/>
          <p:cNvSpPr/>
          <p:nvPr/>
        </p:nvSpPr>
        <p:spPr>
          <a:xfrm>
            <a:off x="2575080" y="3375000"/>
            <a:ext cx="2403360" cy="163440"/>
          </a:xfrm>
          <a:custGeom>
            <a:avLst/>
            <a:gdLst>
              <a:gd name="textAreaLeft" fmla="*/ 0 w 2403360"/>
              <a:gd name="textAreaRight" fmla="*/ 2403720 w 24033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402894" h="164148">
                <a:moveTo>
                  <a:pt x="0" y="0"/>
                </a:moveTo>
                <a:cubicBezTo>
                  <a:pt x="0" y="61309"/>
                  <a:pt x="46819" y="108193"/>
                  <a:pt x="104442" y="108193"/>
                </a:cubicBezTo>
                <a:cubicBezTo>
                  <a:pt x="104442" y="108193"/>
                  <a:pt x="104442" y="108193"/>
                  <a:pt x="2263795" y="108193"/>
                </a:cubicBezTo>
                <a:lnTo>
                  <a:pt x="2402894" y="108193"/>
                </a:lnTo>
                <a:lnTo>
                  <a:pt x="2396392" y="140935"/>
                </a:lnTo>
                <a:lnTo>
                  <a:pt x="2401002" y="164148"/>
                </a:lnTo>
                <a:lnTo>
                  <a:pt x="2263795" y="164148"/>
                </a:lnTo>
                <a:cubicBezTo>
                  <a:pt x="104442" y="164148"/>
                  <a:pt x="104442" y="164148"/>
                  <a:pt x="104442" y="164148"/>
                </a:cubicBezTo>
                <a:cubicBezTo>
                  <a:pt x="46819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任意多边形 7"/>
          <p:cNvSpPr/>
          <p:nvPr/>
        </p:nvSpPr>
        <p:spPr>
          <a:xfrm>
            <a:off x="2575080" y="1413000"/>
            <a:ext cx="3431880" cy="2070000"/>
          </a:xfrm>
          <a:custGeom>
            <a:avLst/>
            <a:gdLst>
              <a:gd name="textAreaLeft" fmla="*/ 0 w 3431880"/>
              <a:gd name="textAreaRight" fmla="*/ 3432240 w 34318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2175" h="2070100">
                <a:moveTo>
                  <a:pt x="104442" y="0"/>
                </a:moveTo>
                <a:cubicBezTo>
                  <a:pt x="3327733" y="0"/>
                  <a:pt x="3327733" y="0"/>
                  <a:pt x="3327733" y="0"/>
                </a:cubicBezTo>
                <a:cubicBezTo>
                  <a:pt x="3385356" y="0"/>
                  <a:pt x="3432175" y="46884"/>
                  <a:pt x="3432175" y="108193"/>
                </a:cubicBezTo>
                <a:lnTo>
                  <a:pt x="3432175" y="1025319"/>
                </a:lnTo>
                <a:lnTo>
                  <a:pt x="3409488" y="1029775"/>
                </a:lnTo>
                <a:cubicBezTo>
                  <a:pt x="3385012" y="1039761"/>
                  <a:pt x="3362000" y="1054741"/>
                  <a:pt x="3342028" y="1074713"/>
                </a:cubicBezTo>
                <a:cubicBezTo>
                  <a:pt x="3342028" y="1074713"/>
                  <a:pt x="3342028" y="1074713"/>
                  <a:pt x="2456309" y="1960432"/>
                </a:cubicBezTo>
                <a:cubicBezTo>
                  <a:pt x="2436337" y="1980404"/>
                  <a:pt x="2421358" y="2003198"/>
                  <a:pt x="2411371" y="2027403"/>
                </a:cubicBezTo>
                <a:lnTo>
                  <a:pt x="2402894" y="2070100"/>
                </a:lnTo>
                <a:lnTo>
                  <a:pt x="2263795" y="2070100"/>
                </a:lnTo>
                <a:cubicBezTo>
                  <a:pt x="104442" y="2070100"/>
                  <a:pt x="104442" y="2070100"/>
                  <a:pt x="104442" y="2070100"/>
                </a:cubicBezTo>
                <a:cubicBezTo>
                  <a:pt x="46819" y="2070100"/>
                  <a:pt x="0" y="2023216"/>
                  <a:pt x="0" y="1961907"/>
                </a:cubicBezTo>
                <a:cubicBezTo>
                  <a:pt x="0" y="108193"/>
                  <a:pt x="0" y="108193"/>
                  <a:pt x="0" y="108193"/>
                </a:cubicBezTo>
                <a:cubicBezTo>
                  <a:pt x="0" y="46884"/>
                  <a:pt x="46819" y="0"/>
                  <a:pt x="104442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任意多边形 8"/>
          <p:cNvSpPr/>
          <p:nvPr/>
        </p:nvSpPr>
        <p:spPr>
          <a:xfrm>
            <a:off x="6122880" y="1413000"/>
            <a:ext cx="3435480" cy="2070000"/>
          </a:xfrm>
          <a:custGeom>
            <a:avLst/>
            <a:gdLst>
              <a:gd name="textAreaLeft" fmla="*/ 0 w 3435480"/>
              <a:gd name="textAreaRight" fmla="*/ 3435840 w 34354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5350" h="2070100">
                <a:moveTo>
                  <a:pt x="108030" y="0"/>
                </a:moveTo>
                <a:cubicBezTo>
                  <a:pt x="3327320" y="0"/>
                  <a:pt x="3327320" y="0"/>
                  <a:pt x="3327320" y="0"/>
                </a:cubicBezTo>
                <a:cubicBezTo>
                  <a:pt x="3384936" y="0"/>
                  <a:pt x="3435350" y="46884"/>
                  <a:pt x="3435350" y="108193"/>
                </a:cubicBezTo>
                <a:lnTo>
                  <a:pt x="3435350" y="1961907"/>
                </a:lnTo>
                <a:cubicBezTo>
                  <a:pt x="3435350" y="2023216"/>
                  <a:pt x="3384936" y="2070100"/>
                  <a:pt x="3327320" y="2070100"/>
                </a:cubicBezTo>
                <a:cubicBezTo>
                  <a:pt x="2321292" y="2070100"/>
                  <a:pt x="1629648" y="2070100"/>
                  <a:pt x="1154142" y="2070100"/>
                </a:cubicBezTo>
                <a:lnTo>
                  <a:pt x="1017919" y="2070100"/>
                </a:lnTo>
                <a:lnTo>
                  <a:pt x="1009441" y="2027403"/>
                </a:lnTo>
                <a:cubicBezTo>
                  <a:pt x="999455" y="2003198"/>
                  <a:pt x="984476" y="1980404"/>
                  <a:pt x="964504" y="1960432"/>
                </a:cubicBezTo>
                <a:cubicBezTo>
                  <a:pt x="964504" y="1960432"/>
                  <a:pt x="964504" y="1960432"/>
                  <a:pt x="78784" y="1074713"/>
                </a:cubicBezTo>
                <a:cubicBezTo>
                  <a:pt x="59681" y="1054741"/>
                  <a:pt x="37321" y="1039761"/>
                  <a:pt x="13278" y="1029775"/>
                </a:cubicBezTo>
                <a:lnTo>
                  <a:pt x="0" y="1027145"/>
                </a:lnTo>
                <a:lnTo>
                  <a:pt x="0" y="992113"/>
                </a:lnTo>
                <a:cubicBezTo>
                  <a:pt x="0" y="108193"/>
                  <a:pt x="0" y="108193"/>
                  <a:pt x="0" y="108193"/>
                </a:cubicBezTo>
                <a:cubicBezTo>
                  <a:pt x="0" y="46884"/>
                  <a:pt x="46813" y="0"/>
                  <a:pt x="108030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任意多边形 9"/>
          <p:cNvSpPr/>
          <p:nvPr/>
        </p:nvSpPr>
        <p:spPr>
          <a:xfrm>
            <a:off x="2575080" y="5595840"/>
            <a:ext cx="3431880" cy="163440"/>
          </a:xfrm>
          <a:custGeom>
            <a:avLst/>
            <a:gdLst>
              <a:gd name="textAreaLeft" fmla="*/ 0 w 3431880"/>
              <a:gd name="textAreaRight" fmla="*/ 3432240 w 34318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432175" h="164148">
                <a:moveTo>
                  <a:pt x="0" y="0"/>
                </a:moveTo>
                <a:cubicBezTo>
                  <a:pt x="0" y="61309"/>
                  <a:pt x="46819" y="108193"/>
                  <a:pt x="104442" y="108193"/>
                </a:cubicBezTo>
                <a:cubicBezTo>
                  <a:pt x="104442" y="108193"/>
                  <a:pt x="104442" y="108193"/>
                  <a:pt x="3327733" y="108193"/>
                </a:cubicBezTo>
                <a:cubicBezTo>
                  <a:pt x="3385356" y="108193"/>
                  <a:pt x="3432175" y="61309"/>
                  <a:pt x="3432175" y="0"/>
                </a:cubicBezTo>
                <a:lnTo>
                  <a:pt x="3432175" y="55955"/>
                </a:lnTo>
                <a:cubicBezTo>
                  <a:pt x="3432175" y="117264"/>
                  <a:pt x="3385356" y="164148"/>
                  <a:pt x="3327733" y="164148"/>
                </a:cubicBezTo>
                <a:cubicBezTo>
                  <a:pt x="104442" y="164148"/>
                  <a:pt x="104442" y="164148"/>
                  <a:pt x="104442" y="164148"/>
                </a:cubicBezTo>
                <a:cubicBezTo>
                  <a:pt x="46819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任意多边形 10"/>
          <p:cNvSpPr/>
          <p:nvPr/>
        </p:nvSpPr>
        <p:spPr>
          <a:xfrm>
            <a:off x="6122880" y="5595840"/>
            <a:ext cx="3435480" cy="163440"/>
          </a:xfrm>
          <a:custGeom>
            <a:avLst/>
            <a:gdLst>
              <a:gd name="textAreaLeft" fmla="*/ 0 w 3435480"/>
              <a:gd name="textAreaRight" fmla="*/ 3435840 w 34354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435350" h="164148">
                <a:moveTo>
                  <a:pt x="0" y="0"/>
                </a:moveTo>
                <a:cubicBezTo>
                  <a:pt x="0" y="61309"/>
                  <a:pt x="46813" y="108193"/>
                  <a:pt x="108030" y="108193"/>
                </a:cubicBezTo>
                <a:cubicBezTo>
                  <a:pt x="108030" y="108193"/>
                  <a:pt x="108030" y="108193"/>
                  <a:pt x="3327320" y="108193"/>
                </a:cubicBezTo>
                <a:cubicBezTo>
                  <a:pt x="3384936" y="108193"/>
                  <a:pt x="3435350" y="61309"/>
                  <a:pt x="3435350" y="0"/>
                </a:cubicBezTo>
                <a:lnTo>
                  <a:pt x="3435350" y="55955"/>
                </a:lnTo>
                <a:cubicBezTo>
                  <a:pt x="3435350" y="117264"/>
                  <a:pt x="3384936" y="164148"/>
                  <a:pt x="3327320" y="164148"/>
                </a:cubicBezTo>
                <a:cubicBezTo>
                  <a:pt x="108030" y="164148"/>
                  <a:pt x="108030" y="164148"/>
                  <a:pt x="108030" y="164148"/>
                </a:cubicBezTo>
                <a:cubicBezTo>
                  <a:pt x="46813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33"/>
          <p:cNvSpPr/>
          <p:nvPr/>
        </p:nvSpPr>
        <p:spPr>
          <a:xfrm>
            <a:off x="6754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34"/>
          <p:cNvSpPr/>
          <p:nvPr/>
        </p:nvSpPr>
        <p:spPr>
          <a:xfrm>
            <a:off x="6669000" y="2290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37"/>
          <p:cNvSpPr/>
          <p:nvPr/>
        </p:nvSpPr>
        <p:spPr>
          <a:xfrm>
            <a:off x="4846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38"/>
          <p:cNvSpPr/>
          <p:nvPr/>
        </p:nvSpPr>
        <p:spPr>
          <a:xfrm>
            <a:off x="2652840" y="229068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任意多边形 15"/>
          <p:cNvSpPr/>
          <p:nvPr/>
        </p:nvSpPr>
        <p:spPr>
          <a:xfrm>
            <a:off x="7140600" y="3375000"/>
            <a:ext cx="2417760" cy="16344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417431" h="164148">
                <a:moveTo>
                  <a:pt x="2417431" y="0"/>
                </a:moveTo>
                <a:lnTo>
                  <a:pt x="2417431" y="55955"/>
                </a:lnTo>
                <a:cubicBezTo>
                  <a:pt x="2417431" y="117264"/>
                  <a:pt x="2367017" y="164148"/>
                  <a:pt x="2309401" y="164148"/>
                </a:cubicBezTo>
                <a:cubicBezTo>
                  <a:pt x="1303373" y="164148"/>
                  <a:pt x="611729" y="164148"/>
                  <a:pt x="136223" y="164148"/>
                </a:cubicBezTo>
                <a:lnTo>
                  <a:pt x="1892" y="164148"/>
                </a:lnTo>
                <a:lnTo>
                  <a:pt x="6501" y="140935"/>
                </a:lnTo>
                <a:lnTo>
                  <a:pt x="0" y="108193"/>
                </a:lnTo>
                <a:lnTo>
                  <a:pt x="136223" y="108193"/>
                </a:lnTo>
                <a:cubicBezTo>
                  <a:pt x="611729" y="108193"/>
                  <a:pt x="1303373" y="108193"/>
                  <a:pt x="2309401" y="108193"/>
                </a:cubicBezTo>
                <a:cubicBezTo>
                  <a:pt x="2367017" y="108193"/>
                  <a:pt x="2417431" y="61309"/>
                  <a:pt x="2417431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任意多边形 16"/>
          <p:cNvSpPr/>
          <p:nvPr/>
        </p:nvSpPr>
        <p:spPr>
          <a:xfrm>
            <a:off x="4967280" y="3349800"/>
            <a:ext cx="2182680" cy="1355400"/>
          </a:xfrm>
          <a:custGeom>
            <a:avLst/>
            <a:gdLst>
              <a:gd name="textAreaLeft" fmla="*/ 0 w 2182680"/>
              <a:gd name="textAreaRight" fmla="*/ 2183040 w 2182680"/>
              <a:gd name="textAreaTop" fmla="*/ 0 h 1355400"/>
              <a:gd name="textAreaBottom" fmla="*/ 1355760 h 1355400"/>
            </a:gdLst>
            <a:ahLst/>
            <a:rect l="textAreaLeft" t="textAreaTop" r="textAreaRight" b="textAreaBottom"/>
            <a:pathLst>
              <a:path w="2182678" h="1355631">
                <a:moveTo>
                  <a:pt x="13792" y="116176"/>
                </a:moveTo>
                <a:lnTo>
                  <a:pt x="3944" y="165773"/>
                </a:lnTo>
                <a:cubicBezTo>
                  <a:pt x="3944" y="217005"/>
                  <a:pt x="23917" y="268238"/>
                  <a:pt x="63861" y="308182"/>
                </a:cubicBezTo>
                <a:cubicBezTo>
                  <a:pt x="63861" y="308182"/>
                  <a:pt x="63861" y="308182"/>
                  <a:pt x="949580" y="1193902"/>
                </a:cubicBezTo>
                <a:cubicBezTo>
                  <a:pt x="1029468" y="1273790"/>
                  <a:pt x="1157984" y="1273790"/>
                  <a:pt x="1234399" y="1193902"/>
                </a:cubicBezTo>
                <a:lnTo>
                  <a:pt x="2120119" y="308182"/>
                </a:lnTo>
                <a:cubicBezTo>
                  <a:pt x="2140091" y="288210"/>
                  <a:pt x="2155070" y="265416"/>
                  <a:pt x="2165056" y="241211"/>
                </a:cubicBezTo>
                <a:lnTo>
                  <a:pt x="2179897" y="166468"/>
                </a:lnTo>
                <a:lnTo>
                  <a:pt x="2182678" y="217221"/>
                </a:lnTo>
                <a:cubicBezTo>
                  <a:pt x="2181809" y="293636"/>
                  <a:pt x="2160957" y="370051"/>
                  <a:pt x="2120989" y="409995"/>
                </a:cubicBezTo>
                <a:lnTo>
                  <a:pt x="1234757" y="1295715"/>
                </a:lnTo>
                <a:cubicBezTo>
                  <a:pt x="1158297" y="1375603"/>
                  <a:pt x="1029707" y="1375603"/>
                  <a:pt x="949772" y="1295715"/>
                </a:cubicBezTo>
                <a:cubicBezTo>
                  <a:pt x="63540" y="409995"/>
                  <a:pt x="63540" y="409995"/>
                  <a:pt x="63540" y="409995"/>
                </a:cubicBezTo>
                <a:cubicBezTo>
                  <a:pt x="3589" y="350079"/>
                  <a:pt x="-15309" y="215919"/>
                  <a:pt x="12712" y="118880"/>
                </a:cubicBezTo>
                <a:lnTo>
                  <a:pt x="13792" y="116176"/>
                </a:lnTo>
                <a:close/>
                <a:moveTo>
                  <a:pt x="2167902" y="104667"/>
                </a:moveTo>
                <a:lnTo>
                  <a:pt x="2168885" y="107158"/>
                </a:lnTo>
                <a:cubicBezTo>
                  <a:pt x="2173718" y="123982"/>
                  <a:pt x="2177275" y="141946"/>
                  <a:pt x="2179569" y="160480"/>
                </a:cubicBezTo>
                <a:lnTo>
                  <a:pt x="2179792" y="164547"/>
                </a:lnTo>
                <a:lnTo>
                  <a:pt x="2167902" y="104667"/>
                </a:lnTo>
                <a:close/>
                <a:moveTo>
                  <a:pt x="2096756" y="0"/>
                </a:moveTo>
                <a:lnTo>
                  <a:pt x="2097313" y="491"/>
                </a:lnTo>
                <a:cubicBezTo>
                  <a:pt x="2124464" y="24447"/>
                  <a:pt x="2124464" y="24447"/>
                  <a:pt x="2124464" y="24447"/>
                </a:cubicBezTo>
                <a:cubicBezTo>
                  <a:pt x="2134456" y="34433"/>
                  <a:pt x="2143145" y="46699"/>
                  <a:pt x="2150544" y="60674"/>
                </a:cubicBezTo>
                <a:lnTo>
                  <a:pt x="2158237" y="80172"/>
                </a:lnTo>
                <a:lnTo>
                  <a:pt x="2120119" y="23363"/>
                </a:lnTo>
                <a:cubicBezTo>
                  <a:pt x="2120119" y="23363"/>
                  <a:pt x="2120119" y="23363"/>
                  <a:pt x="2106279" y="9524"/>
                </a:cubicBezTo>
                <a:lnTo>
                  <a:pt x="2096756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5663880" y="35053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5"/>
          <p:cNvSpPr/>
          <p:nvPr/>
        </p:nvSpPr>
        <p:spPr>
          <a:xfrm>
            <a:off x="5843520" y="2952720"/>
            <a:ext cx="409680" cy="40968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4951440" y="2408400"/>
            <a:ext cx="2216160" cy="221616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638" h="638">
                <a:moveTo>
                  <a:pt x="360" y="615"/>
                </a:moveTo>
                <a:cubicBezTo>
                  <a:pt x="338" y="638"/>
                  <a:pt x="301" y="638"/>
                  <a:pt x="278" y="615"/>
                </a:cubicBezTo>
                <a:cubicBezTo>
                  <a:pt x="23" y="360"/>
                  <a:pt x="23" y="360"/>
                  <a:pt x="23" y="360"/>
                </a:cubicBezTo>
                <a:cubicBezTo>
                  <a:pt x="0" y="337"/>
                  <a:pt x="0" y="301"/>
                  <a:pt x="23" y="278"/>
                </a:cubicBezTo>
                <a:cubicBezTo>
                  <a:pt x="278" y="23"/>
                  <a:pt x="278" y="23"/>
                  <a:pt x="278" y="23"/>
                </a:cubicBezTo>
                <a:cubicBezTo>
                  <a:pt x="301" y="0"/>
                  <a:pt x="338" y="0"/>
                  <a:pt x="360" y="23"/>
                </a:cubicBezTo>
                <a:cubicBezTo>
                  <a:pt x="615" y="278"/>
                  <a:pt x="615" y="278"/>
                  <a:pt x="615" y="278"/>
                </a:cubicBezTo>
                <a:cubicBezTo>
                  <a:pt x="638" y="301"/>
                  <a:pt x="638" y="337"/>
                  <a:pt x="615" y="360"/>
                </a:cubicBezTo>
                <a:lnTo>
                  <a:pt x="360" y="615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任意多边形 20"/>
          <p:cNvSpPr/>
          <p:nvPr/>
        </p:nvSpPr>
        <p:spPr>
          <a:xfrm>
            <a:off x="2575080" y="3633840"/>
            <a:ext cx="3431880" cy="2070000"/>
          </a:xfrm>
          <a:custGeom>
            <a:avLst/>
            <a:gdLst>
              <a:gd name="textAreaLeft" fmla="*/ 0 w 3431880"/>
              <a:gd name="textAreaRight" fmla="*/ 3432240 w 34318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2175" h="2070100">
                <a:moveTo>
                  <a:pt x="3342028" y="910646"/>
                </a:moveTo>
                <a:cubicBezTo>
                  <a:pt x="3362000" y="930618"/>
                  <a:pt x="3385012" y="945597"/>
                  <a:pt x="3409488" y="955583"/>
                </a:cubicBezTo>
                <a:lnTo>
                  <a:pt x="3411185" y="955917"/>
                </a:lnTo>
                <a:lnTo>
                  <a:pt x="3409488" y="955583"/>
                </a:lnTo>
                <a:cubicBezTo>
                  <a:pt x="3385011" y="945597"/>
                  <a:pt x="3362000" y="930618"/>
                  <a:pt x="3342028" y="910646"/>
                </a:cubicBezTo>
                <a:close/>
                <a:moveTo>
                  <a:pt x="2439584" y="0"/>
                </a:moveTo>
                <a:lnTo>
                  <a:pt x="2439584" y="0"/>
                </a:lnTo>
                <a:lnTo>
                  <a:pt x="2456309" y="24926"/>
                </a:lnTo>
                <a:lnTo>
                  <a:pt x="2439584" y="0"/>
                </a:lnTo>
                <a:close/>
                <a:moveTo>
                  <a:pt x="104442" y="0"/>
                </a:moveTo>
                <a:cubicBezTo>
                  <a:pt x="1073947" y="0"/>
                  <a:pt x="1751845" y="0"/>
                  <a:pt x="2225842" y="0"/>
                </a:cubicBezTo>
                <a:lnTo>
                  <a:pt x="2398980" y="0"/>
                </a:lnTo>
                <a:lnTo>
                  <a:pt x="2418814" y="69622"/>
                </a:lnTo>
                <a:cubicBezTo>
                  <a:pt x="2428579" y="92141"/>
                  <a:pt x="2441001" y="111760"/>
                  <a:pt x="2455988" y="126739"/>
                </a:cubicBezTo>
                <a:cubicBezTo>
                  <a:pt x="2455988" y="126739"/>
                  <a:pt x="2455988" y="126739"/>
                  <a:pt x="3342220" y="1012459"/>
                </a:cubicBezTo>
                <a:cubicBezTo>
                  <a:pt x="3362204" y="1032431"/>
                  <a:pt x="3385229" y="1047410"/>
                  <a:pt x="3409720" y="1057396"/>
                </a:cubicBezTo>
                <a:lnTo>
                  <a:pt x="3432175" y="1061805"/>
                </a:lnTo>
                <a:lnTo>
                  <a:pt x="3432175" y="1961907"/>
                </a:lnTo>
                <a:cubicBezTo>
                  <a:pt x="3432175" y="2023216"/>
                  <a:pt x="3385356" y="2070100"/>
                  <a:pt x="3327733" y="2070100"/>
                </a:cubicBezTo>
                <a:cubicBezTo>
                  <a:pt x="104442" y="2070100"/>
                  <a:pt x="104442" y="2070100"/>
                  <a:pt x="104442" y="2070100"/>
                </a:cubicBezTo>
                <a:cubicBezTo>
                  <a:pt x="46819" y="2070100"/>
                  <a:pt x="0" y="2023216"/>
                  <a:pt x="0" y="1961907"/>
                </a:cubicBezTo>
                <a:cubicBezTo>
                  <a:pt x="0" y="108194"/>
                  <a:pt x="0" y="108194"/>
                  <a:pt x="0" y="108194"/>
                </a:cubicBezTo>
                <a:cubicBezTo>
                  <a:pt x="0" y="46884"/>
                  <a:pt x="46819" y="0"/>
                  <a:pt x="104442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任意多边形 21"/>
          <p:cNvSpPr/>
          <p:nvPr/>
        </p:nvSpPr>
        <p:spPr>
          <a:xfrm>
            <a:off x="6122880" y="3633840"/>
            <a:ext cx="3435480" cy="2070000"/>
          </a:xfrm>
          <a:custGeom>
            <a:avLst/>
            <a:gdLst>
              <a:gd name="textAreaLeft" fmla="*/ 0 w 3435480"/>
              <a:gd name="textAreaRight" fmla="*/ 3435840 w 34354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5350" h="2070100">
                <a:moveTo>
                  <a:pt x="1017354" y="0"/>
                </a:moveTo>
                <a:lnTo>
                  <a:pt x="1170647" y="0"/>
                </a:lnTo>
                <a:cubicBezTo>
                  <a:pt x="3327320" y="0"/>
                  <a:pt x="3327320" y="0"/>
                  <a:pt x="3327320" y="0"/>
                </a:cubicBezTo>
                <a:cubicBezTo>
                  <a:pt x="3384936" y="0"/>
                  <a:pt x="3435350" y="46884"/>
                  <a:pt x="3435350" y="108194"/>
                </a:cubicBezTo>
                <a:lnTo>
                  <a:pt x="3435350" y="1961907"/>
                </a:lnTo>
                <a:cubicBezTo>
                  <a:pt x="3435350" y="2023216"/>
                  <a:pt x="3384936" y="2070100"/>
                  <a:pt x="3327320" y="2070100"/>
                </a:cubicBezTo>
                <a:cubicBezTo>
                  <a:pt x="108030" y="2070100"/>
                  <a:pt x="108030" y="2070100"/>
                  <a:pt x="108030" y="2070100"/>
                </a:cubicBezTo>
                <a:cubicBezTo>
                  <a:pt x="46813" y="2070100"/>
                  <a:pt x="0" y="2023216"/>
                  <a:pt x="0" y="1961907"/>
                </a:cubicBezTo>
                <a:cubicBezTo>
                  <a:pt x="0" y="1657782"/>
                  <a:pt x="0" y="1403553"/>
                  <a:pt x="0" y="1191033"/>
                </a:cubicBezTo>
                <a:lnTo>
                  <a:pt x="0" y="1060089"/>
                </a:lnTo>
                <a:lnTo>
                  <a:pt x="13598" y="1057396"/>
                </a:lnTo>
                <a:cubicBezTo>
                  <a:pt x="37654" y="1047410"/>
                  <a:pt x="60027" y="1032431"/>
                  <a:pt x="79142" y="1012459"/>
                </a:cubicBezTo>
                <a:lnTo>
                  <a:pt x="965374" y="126739"/>
                </a:lnTo>
                <a:cubicBezTo>
                  <a:pt x="985358" y="106767"/>
                  <a:pt x="1000563" y="77677"/>
                  <a:pt x="1010881" y="44029"/>
                </a:cubicBezTo>
                <a:lnTo>
                  <a:pt x="1017354" y="0"/>
                </a:lnTo>
                <a:close/>
                <a:moveTo>
                  <a:pt x="981229" y="0"/>
                </a:moveTo>
                <a:lnTo>
                  <a:pt x="981229" y="0"/>
                </a:lnTo>
                <a:lnTo>
                  <a:pt x="964504" y="24926"/>
                </a:lnTo>
                <a:lnTo>
                  <a:pt x="981229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35"/>
          <p:cNvSpPr/>
          <p:nvPr/>
        </p:nvSpPr>
        <p:spPr>
          <a:xfrm>
            <a:off x="67734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36"/>
          <p:cNvSpPr/>
          <p:nvPr/>
        </p:nvSpPr>
        <p:spPr>
          <a:xfrm>
            <a:off x="6669000" y="4603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39"/>
          <p:cNvSpPr/>
          <p:nvPr/>
        </p:nvSpPr>
        <p:spPr>
          <a:xfrm>
            <a:off x="48510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40"/>
          <p:cNvSpPr/>
          <p:nvPr/>
        </p:nvSpPr>
        <p:spPr>
          <a:xfrm>
            <a:off x="2652840" y="460224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4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5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2" name="Freeform 6"/>
          <p:cNvSpPr/>
          <p:nvPr/>
        </p:nvSpPr>
        <p:spPr>
          <a:xfrm>
            <a:off x="1003320" y="306864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632" y="0"/>
                </a:moveTo>
                <a:cubicBezTo>
                  <a:pt x="631" y="142"/>
                  <a:pt x="515" y="258"/>
                  <a:pt x="373" y="258"/>
                </a:cubicBezTo>
                <a:cubicBezTo>
                  <a:pt x="231" y="258"/>
                  <a:pt x="115" y="142"/>
                  <a:pt x="114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06"/>
                  <a:pt x="167" y="372"/>
                  <a:pt x="373" y="372"/>
                </a:cubicBezTo>
                <a:cubicBezTo>
                  <a:pt x="579" y="372"/>
                  <a:pt x="745" y="206"/>
                  <a:pt x="746" y="0"/>
                </a:cubicBezTo>
                <a:lnTo>
                  <a:pt x="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7"/>
          <p:cNvSpPr/>
          <p:nvPr/>
        </p:nvSpPr>
        <p:spPr>
          <a:xfrm>
            <a:off x="2955960" y="1908000"/>
            <a:ext cx="2306520" cy="1154160"/>
          </a:xfrm>
          <a:custGeom>
            <a:avLst/>
            <a:gdLst>
              <a:gd name="textAreaLeft" fmla="*/ 0 w 2306520"/>
              <a:gd name="textAreaRight" fmla="*/ 2306880 w 2306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114" y="372"/>
                </a:moveTo>
                <a:cubicBezTo>
                  <a:pt x="115" y="230"/>
                  <a:pt x="230" y="114"/>
                  <a:pt x="373" y="114"/>
                </a:cubicBezTo>
                <a:cubicBezTo>
                  <a:pt x="515" y="114"/>
                  <a:pt x="631" y="230"/>
                  <a:pt x="631" y="372"/>
                </a:cubicBezTo>
                <a:cubicBezTo>
                  <a:pt x="746" y="372"/>
                  <a:pt x="746" y="372"/>
                  <a:pt x="746" y="372"/>
                </a:cubicBezTo>
                <a:cubicBezTo>
                  <a:pt x="745" y="166"/>
                  <a:pt x="578" y="0"/>
                  <a:pt x="373" y="0"/>
                </a:cubicBezTo>
                <a:cubicBezTo>
                  <a:pt x="167" y="0"/>
                  <a:pt x="0" y="166"/>
                  <a:pt x="0" y="372"/>
                </a:cubicBezTo>
                <a:lnTo>
                  <a:pt x="114" y="372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0"/>
          <p:cNvSpPr/>
          <p:nvPr/>
        </p:nvSpPr>
        <p:spPr>
          <a:xfrm>
            <a:off x="4900680" y="306864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632" y="0"/>
                </a:moveTo>
                <a:cubicBezTo>
                  <a:pt x="631" y="142"/>
                  <a:pt x="515" y="258"/>
                  <a:pt x="373" y="258"/>
                </a:cubicBezTo>
                <a:cubicBezTo>
                  <a:pt x="231" y="258"/>
                  <a:pt x="115" y="142"/>
                  <a:pt x="114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06"/>
                  <a:pt x="167" y="372"/>
                  <a:pt x="373" y="372"/>
                </a:cubicBezTo>
                <a:cubicBezTo>
                  <a:pt x="579" y="372"/>
                  <a:pt x="745" y="206"/>
                  <a:pt x="746" y="0"/>
                </a:cubicBezTo>
                <a:lnTo>
                  <a:pt x="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12"/>
          <p:cNvSpPr/>
          <p:nvPr/>
        </p:nvSpPr>
        <p:spPr>
          <a:xfrm>
            <a:off x="6853320" y="190800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114" y="372"/>
                </a:moveTo>
                <a:cubicBezTo>
                  <a:pt x="115" y="230"/>
                  <a:pt x="230" y="114"/>
                  <a:pt x="373" y="114"/>
                </a:cubicBezTo>
                <a:cubicBezTo>
                  <a:pt x="515" y="114"/>
                  <a:pt x="631" y="230"/>
                  <a:pt x="631" y="372"/>
                </a:cubicBezTo>
                <a:cubicBezTo>
                  <a:pt x="746" y="372"/>
                  <a:pt x="746" y="372"/>
                  <a:pt x="746" y="372"/>
                </a:cubicBezTo>
                <a:cubicBezTo>
                  <a:pt x="745" y="166"/>
                  <a:pt x="578" y="0"/>
                  <a:pt x="373" y="0"/>
                </a:cubicBezTo>
                <a:cubicBezTo>
                  <a:pt x="167" y="0"/>
                  <a:pt x="0" y="166"/>
                  <a:pt x="0" y="372"/>
                </a:cubicBezTo>
                <a:lnTo>
                  <a:pt x="114" y="372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6"/>
          <p:cNvSpPr/>
          <p:nvPr/>
        </p:nvSpPr>
        <p:spPr>
          <a:xfrm>
            <a:off x="8804160" y="306864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632" y="0"/>
                </a:moveTo>
                <a:cubicBezTo>
                  <a:pt x="631" y="142"/>
                  <a:pt x="515" y="258"/>
                  <a:pt x="373" y="258"/>
                </a:cubicBezTo>
                <a:cubicBezTo>
                  <a:pt x="231" y="258"/>
                  <a:pt x="115" y="142"/>
                  <a:pt x="115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06"/>
                  <a:pt x="168" y="372"/>
                  <a:pt x="373" y="372"/>
                </a:cubicBezTo>
                <a:cubicBezTo>
                  <a:pt x="579" y="372"/>
                  <a:pt x="746" y="206"/>
                  <a:pt x="746" y="0"/>
                </a:cubicBezTo>
                <a:lnTo>
                  <a:pt x="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11"/>
          <p:cNvGrpSpPr/>
          <p:nvPr/>
        </p:nvGrpSpPr>
        <p:grpSpPr>
          <a:xfrm>
            <a:off x="1481040" y="4470480"/>
            <a:ext cx="1573200" cy="993600"/>
            <a:chOff x="1481040" y="4470480"/>
            <a:chExt cx="1573200" cy="993600"/>
          </a:xfrm>
        </p:grpSpPr>
        <p:sp>
          <p:nvSpPr>
            <p:cNvPr id="758" name="Content Placeholder 19"/>
            <p:cNvSpPr/>
            <p:nvPr/>
          </p:nvSpPr>
          <p:spPr>
            <a:xfrm>
              <a:off x="1481040" y="4778280"/>
              <a:ext cx="15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6"/>
            <p:cNvSpPr/>
            <p:nvPr/>
          </p:nvSpPr>
          <p:spPr>
            <a:xfrm>
              <a:off x="180576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0" name="Group 22" descr=""/>
          <p:cNvPicPr/>
          <p:nvPr/>
        </p:nvPicPr>
        <p:blipFill>
          <a:blip r:embed="rId2"/>
          <a:stretch/>
        </p:blipFill>
        <p:spPr>
          <a:xfrm>
            <a:off x="1889280" y="2730600"/>
            <a:ext cx="555480" cy="549000"/>
          </a:xfrm>
          <a:prstGeom prst="rect">
            <a:avLst/>
          </a:prstGeom>
          <a:ln w="0">
            <a:noFill/>
          </a:ln>
        </p:spPr>
      </p:pic>
      <p:pic>
        <p:nvPicPr>
          <p:cNvPr id="761" name="Group 26" descr=""/>
          <p:cNvPicPr/>
          <p:nvPr/>
        </p:nvPicPr>
        <p:blipFill>
          <a:blip r:embed="rId3"/>
          <a:stretch/>
        </p:blipFill>
        <p:spPr>
          <a:xfrm>
            <a:off x="3780000" y="268776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62" name="Group 33" descr=""/>
          <p:cNvPicPr/>
          <p:nvPr/>
        </p:nvPicPr>
        <p:blipFill>
          <a:blip r:embed="rId4"/>
          <a:stretch/>
        </p:blipFill>
        <p:spPr>
          <a:xfrm>
            <a:off x="7596360" y="2766960"/>
            <a:ext cx="755640" cy="555840"/>
          </a:xfrm>
          <a:prstGeom prst="rect">
            <a:avLst/>
          </a:prstGeom>
          <a:ln w="0">
            <a:noFill/>
          </a:ln>
        </p:spPr>
      </p:pic>
      <p:pic>
        <p:nvPicPr>
          <p:cNvPr id="763" name="Group 42" descr=""/>
          <p:cNvPicPr/>
          <p:nvPr/>
        </p:nvPicPr>
        <p:blipFill>
          <a:blip r:embed="rId5"/>
          <a:stretch/>
        </p:blipFill>
        <p:spPr>
          <a:xfrm>
            <a:off x="9693360" y="2620800"/>
            <a:ext cx="536400" cy="708120"/>
          </a:xfrm>
          <a:prstGeom prst="rect">
            <a:avLst/>
          </a:prstGeom>
          <a:ln w="0">
            <a:noFill/>
          </a:ln>
        </p:spPr>
      </p:pic>
      <p:sp>
        <p:nvSpPr>
          <p:cNvPr id="764" name="Freeform 95"/>
          <p:cNvSpPr/>
          <p:nvPr/>
        </p:nvSpPr>
        <p:spPr>
          <a:xfrm>
            <a:off x="5796000" y="2735280"/>
            <a:ext cx="569880" cy="550800"/>
          </a:xfrm>
          <a:custGeom>
            <a:avLst/>
            <a:gdLst>
              <a:gd name="textAreaLeft" fmla="*/ 0 w 569880"/>
              <a:gd name="textAreaRight" fmla="*/ 570240 w 56988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Group 55" descr=""/>
          <p:cNvPicPr/>
          <p:nvPr/>
        </p:nvPicPr>
        <p:blipFill>
          <a:blip r:embed="rId6"/>
          <a:stretch/>
        </p:blipFill>
        <p:spPr>
          <a:xfrm>
            <a:off x="8747280" y="1889280"/>
            <a:ext cx="2585880" cy="1639800"/>
          </a:xfrm>
          <a:prstGeom prst="rect">
            <a:avLst/>
          </a:prstGeom>
          <a:ln w="0">
            <a:noFill/>
          </a:ln>
        </p:spPr>
      </p:pic>
      <p:pic>
        <p:nvPicPr>
          <p:cNvPr id="766" name="Group 53" descr=""/>
          <p:cNvPicPr/>
          <p:nvPr/>
        </p:nvPicPr>
        <p:blipFill>
          <a:blip r:embed="rId7"/>
          <a:stretch/>
        </p:blipFill>
        <p:spPr>
          <a:xfrm>
            <a:off x="6797520" y="2597040"/>
            <a:ext cx="2595600" cy="1646280"/>
          </a:xfrm>
          <a:prstGeom prst="rect">
            <a:avLst/>
          </a:prstGeom>
          <a:ln w="0">
            <a:noFill/>
          </a:ln>
        </p:spPr>
      </p:pic>
      <p:pic>
        <p:nvPicPr>
          <p:cNvPr id="767" name="Group 54" descr=""/>
          <p:cNvPicPr/>
          <p:nvPr/>
        </p:nvPicPr>
        <p:blipFill>
          <a:blip r:embed="rId8"/>
          <a:stretch/>
        </p:blipFill>
        <p:spPr>
          <a:xfrm>
            <a:off x="4846680" y="1889280"/>
            <a:ext cx="2584440" cy="1639800"/>
          </a:xfrm>
          <a:prstGeom prst="rect">
            <a:avLst/>
          </a:prstGeom>
          <a:ln w="0">
            <a:noFill/>
          </a:ln>
        </p:spPr>
      </p:pic>
      <p:pic>
        <p:nvPicPr>
          <p:cNvPr id="768" name="Group 56" descr=""/>
          <p:cNvPicPr/>
          <p:nvPr/>
        </p:nvPicPr>
        <p:blipFill>
          <a:blip r:embed="rId9"/>
          <a:stretch/>
        </p:blipFill>
        <p:spPr>
          <a:xfrm>
            <a:off x="2901960" y="2597040"/>
            <a:ext cx="2597040" cy="1646280"/>
          </a:xfrm>
          <a:prstGeom prst="rect">
            <a:avLst/>
          </a:prstGeom>
          <a:ln w="0">
            <a:noFill/>
          </a:ln>
        </p:spPr>
      </p:pic>
      <p:pic>
        <p:nvPicPr>
          <p:cNvPr id="769" name="Group 57" descr=""/>
          <p:cNvPicPr/>
          <p:nvPr/>
        </p:nvPicPr>
        <p:blipFill>
          <a:blip r:embed="rId10"/>
          <a:stretch/>
        </p:blipFill>
        <p:spPr>
          <a:xfrm>
            <a:off x="950760" y="1889280"/>
            <a:ext cx="2578320" cy="1639800"/>
          </a:xfrm>
          <a:prstGeom prst="rect">
            <a:avLst/>
          </a:prstGeom>
          <a:ln w="0">
            <a:noFill/>
          </a:ln>
        </p:spPr>
      </p:pic>
      <p:sp>
        <p:nvSpPr>
          <p:cNvPr id="770" name="Isosceles Triangle 58"/>
          <p:cNvSpPr/>
          <p:nvPr/>
        </p:nvSpPr>
        <p:spPr>
          <a:xfrm>
            <a:off x="847800" y="2716200"/>
            <a:ext cx="679320" cy="439920"/>
          </a:xfrm>
          <a:prstGeom prst="triangle">
            <a:avLst>
              <a:gd name="adj" fmla="val 50000"/>
            </a:avLst>
          </a:prstGeom>
          <a:solidFill>
            <a:srgbClr val="e7e6e6"/>
          </a:solidFill>
          <a:ln w="0">
            <a:noFill/>
          </a:ln>
          <a:effectLst>
            <a:outerShdw dist="38160" dir="162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1" name="组合 57"/>
          <p:cNvGrpSpPr/>
          <p:nvPr/>
        </p:nvGrpSpPr>
        <p:grpSpPr>
          <a:xfrm>
            <a:off x="3402000" y="4470480"/>
            <a:ext cx="1574640" cy="993600"/>
            <a:chOff x="3402000" y="4470480"/>
            <a:chExt cx="1574640" cy="993600"/>
          </a:xfrm>
        </p:grpSpPr>
        <p:sp>
          <p:nvSpPr>
            <p:cNvPr id="772" name="Content Placeholder 19"/>
            <p:cNvSpPr/>
            <p:nvPr/>
          </p:nvSpPr>
          <p:spPr>
            <a:xfrm>
              <a:off x="340200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TextBox 16"/>
            <p:cNvSpPr/>
            <p:nvPr/>
          </p:nvSpPr>
          <p:spPr>
            <a:xfrm>
              <a:off x="37274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60"/>
          <p:cNvGrpSpPr/>
          <p:nvPr/>
        </p:nvGrpSpPr>
        <p:grpSpPr>
          <a:xfrm>
            <a:off x="5324400" y="4470480"/>
            <a:ext cx="1575000" cy="993600"/>
            <a:chOff x="5324400" y="4470480"/>
            <a:chExt cx="1575000" cy="993600"/>
          </a:xfrm>
        </p:grpSpPr>
        <p:sp>
          <p:nvSpPr>
            <p:cNvPr id="775" name="Content Placeholder 19"/>
            <p:cNvSpPr/>
            <p:nvPr/>
          </p:nvSpPr>
          <p:spPr>
            <a:xfrm>
              <a:off x="53244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Box 16"/>
            <p:cNvSpPr/>
            <p:nvPr/>
          </p:nvSpPr>
          <p:spPr>
            <a:xfrm>
              <a:off x="56498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7" name="组合 63"/>
          <p:cNvGrpSpPr/>
          <p:nvPr/>
        </p:nvGrpSpPr>
        <p:grpSpPr>
          <a:xfrm>
            <a:off x="7246800" y="4470480"/>
            <a:ext cx="1575000" cy="993600"/>
            <a:chOff x="7246800" y="4470480"/>
            <a:chExt cx="1575000" cy="993600"/>
          </a:xfrm>
        </p:grpSpPr>
        <p:sp>
          <p:nvSpPr>
            <p:cNvPr id="778" name="Content Placeholder 19"/>
            <p:cNvSpPr/>
            <p:nvPr/>
          </p:nvSpPr>
          <p:spPr>
            <a:xfrm>
              <a:off x="72468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TextBox 16"/>
            <p:cNvSpPr/>
            <p:nvPr/>
          </p:nvSpPr>
          <p:spPr>
            <a:xfrm>
              <a:off x="75722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0" name="组合 66"/>
          <p:cNvGrpSpPr/>
          <p:nvPr/>
        </p:nvGrpSpPr>
        <p:grpSpPr>
          <a:xfrm>
            <a:off x="9169560" y="4470480"/>
            <a:ext cx="1574640" cy="993600"/>
            <a:chOff x="9169560" y="4470480"/>
            <a:chExt cx="1574640" cy="993600"/>
          </a:xfrm>
        </p:grpSpPr>
        <p:sp>
          <p:nvSpPr>
            <p:cNvPr id="781" name="Content Placeholder 19"/>
            <p:cNvSpPr/>
            <p:nvPr/>
          </p:nvSpPr>
          <p:spPr>
            <a:xfrm>
              <a:off x="916956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TextBox 16"/>
            <p:cNvSpPr/>
            <p:nvPr/>
          </p:nvSpPr>
          <p:spPr>
            <a:xfrm>
              <a:off x="949500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6"/>
          <p:cNvGrpSpPr/>
          <p:nvPr/>
        </p:nvGrpSpPr>
        <p:grpSpPr>
          <a:xfrm>
            <a:off x="7048440" y="1405080"/>
            <a:ext cx="2755800" cy="622080"/>
            <a:chOff x="7048440" y="1405080"/>
            <a:chExt cx="2755800" cy="622080"/>
          </a:xfrm>
        </p:grpSpPr>
        <p:sp>
          <p:nvSpPr>
            <p:cNvPr id="789" name="TextBox 7"/>
            <p:cNvSpPr/>
            <p:nvPr/>
          </p:nvSpPr>
          <p:spPr>
            <a:xfrm>
              <a:off x="7242480" y="1405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Rectangle 8"/>
            <p:cNvSpPr/>
            <p:nvPr/>
          </p:nvSpPr>
          <p:spPr>
            <a:xfrm>
              <a:off x="7048440" y="172008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组合 9"/>
          <p:cNvGrpSpPr/>
          <p:nvPr/>
        </p:nvGrpSpPr>
        <p:grpSpPr>
          <a:xfrm>
            <a:off x="1808280" y="3370320"/>
            <a:ext cx="2755800" cy="622080"/>
            <a:chOff x="1808280" y="3370320"/>
            <a:chExt cx="2755800" cy="622080"/>
          </a:xfrm>
        </p:grpSpPr>
        <p:sp>
          <p:nvSpPr>
            <p:cNvPr id="792" name="TextBox 9"/>
            <p:cNvSpPr/>
            <p:nvPr/>
          </p:nvSpPr>
          <p:spPr>
            <a:xfrm>
              <a:off x="3712680" y="3370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Rectangle 10"/>
            <p:cNvSpPr/>
            <p:nvPr/>
          </p:nvSpPr>
          <p:spPr>
            <a:xfrm>
              <a:off x="1808280" y="368532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组合 12"/>
          <p:cNvGrpSpPr/>
          <p:nvPr/>
        </p:nvGrpSpPr>
        <p:grpSpPr>
          <a:xfrm>
            <a:off x="7988400" y="2971800"/>
            <a:ext cx="2755800" cy="622080"/>
            <a:chOff x="7988400" y="2971800"/>
            <a:chExt cx="2755800" cy="622080"/>
          </a:xfrm>
        </p:grpSpPr>
        <p:sp>
          <p:nvSpPr>
            <p:cNvPr id="795" name="TextBox 11"/>
            <p:cNvSpPr/>
            <p:nvPr/>
          </p:nvSpPr>
          <p:spPr>
            <a:xfrm>
              <a:off x="8182440" y="2971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Rectangle 12"/>
            <p:cNvSpPr/>
            <p:nvPr/>
          </p:nvSpPr>
          <p:spPr>
            <a:xfrm>
              <a:off x="7988400" y="328680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7" name="组合 15"/>
          <p:cNvGrpSpPr/>
          <p:nvPr/>
        </p:nvGrpSpPr>
        <p:grpSpPr>
          <a:xfrm>
            <a:off x="2527200" y="4884840"/>
            <a:ext cx="2756160" cy="622080"/>
            <a:chOff x="2527200" y="4884840"/>
            <a:chExt cx="2756160" cy="622080"/>
          </a:xfrm>
        </p:grpSpPr>
        <p:sp>
          <p:nvSpPr>
            <p:cNvPr id="798" name="TextBox 13"/>
            <p:cNvSpPr/>
            <p:nvPr/>
          </p:nvSpPr>
          <p:spPr>
            <a:xfrm>
              <a:off x="4431960" y="4884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Rectangle 14"/>
            <p:cNvSpPr/>
            <p:nvPr/>
          </p:nvSpPr>
          <p:spPr>
            <a:xfrm>
              <a:off x="2527200" y="5199840"/>
              <a:ext cx="275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0" name="Freeform 3"/>
          <p:cNvSpPr/>
          <p:nvPr/>
        </p:nvSpPr>
        <p:spPr>
          <a:xfrm>
            <a:off x="6059520" y="2496960"/>
            <a:ext cx="1771560" cy="17686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768680"/>
              <a:gd name="textAreaBottom" fmla="*/ 1769040 h 1768680"/>
            </a:gdLst>
            <a:ahLst/>
            <a:rect l="textAreaLeft" t="textAreaTop" r="textAreaRight" b="textAreaBottom"/>
            <a:pathLst>
              <a:path w="360" h="360">
                <a:moveTo>
                  <a:pt x="0" y="190"/>
                </a:moveTo>
                <a:cubicBezTo>
                  <a:pt x="0" y="189"/>
                  <a:pt x="0" y="188"/>
                  <a:pt x="0" y="188"/>
                </a:cubicBezTo>
                <a:cubicBezTo>
                  <a:pt x="1" y="187"/>
                  <a:pt x="5" y="186"/>
                  <a:pt x="13" y="184"/>
                </a:cubicBezTo>
                <a:cubicBezTo>
                  <a:pt x="15" y="183"/>
                  <a:pt x="17" y="182"/>
                  <a:pt x="19" y="182"/>
                </a:cubicBezTo>
                <a:cubicBezTo>
                  <a:pt x="26" y="180"/>
                  <a:pt x="26" y="180"/>
                  <a:pt x="27" y="179"/>
                </a:cubicBezTo>
                <a:cubicBezTo>
                  <a:pt x="28" y="178"/>
                  <a:pt x="28" y="177"/>
                  <a:pt x="28" y="173"/>
                </a:cubicBezTo>
                <a:cubicBezTo>
                  <a:pt x="28" y="172"/>
                  <a:pt x="28" y="172"/>
                  <a:pt x="28" y="172"/>
                </a:cubicBezTo>
                <a:cubicBezTo>
                  <a:pt x="28" y="172"/>
                  <a:pt x="28" y="172"/>
                  <a:pt x="28" y="172"/>
                </a:cubicBezTo>
                <a:cubicBezTo>
                  <a:pt x="28" y="172"/>
                  <a:pt x="29" y="170"/>
                  <a:pt x="29" y="169"/>
                </a:cubicBezTo>
                <a:cubicBezTo>
                  <a:pt x="29" y="167"/>
                  <a:pt x="28" y="166"/>
                  <a:pt x="28" y="165"/>
                </a:cubicBezTo>
                <a:cubicBezTo>
                  <a:pt x="27" y="165"/>
                  <a:pt x="26" y="164"/>
                  <a:pt x="21" y="162"/>
                </a:cubicBezTo>
                <a:cubicBezTo>
                  <a:pt x="19" y="161"/>
                  <a:pt x="16" y="160"/>
                  <a:pt x="14" y="159"/>
                </a:cubicBezTo>
                <a:cubicBezTo>
                  <a:pt x="7" y="156"/>
                  <a:pt x="3" y="154"/>
                  <a:pt x="2" y="153"/>
                </a:cubicBezTo>
                <a:cubicBezTo>
                  <a:pt x="2" y="153"/>
                  <a:pt x="2" y="152"/>
                  <a:pt x="2" y="152"/>
                </a:cubicBezTo>
                <a:cubicBezTo>
                  <a:pt x="2" y="149"/>
                  <a:pt x="3" y="147"/>
                  <a:pt x="3" y="146"/>
                </a:cubicBezTo>
                <a:cubicBezTo>
                  <a:pt x="4" y="146"/>
                  <a:pt x="9" y="145"/>
                  <a:pt x="16" y="145"/>
                </a:cubicBezTo>
                <a:cubicBezTo>
                  <a:pt x="19" y="145"/>
                  <a:pt x="21" y="145"/>
                  <a:pt x="23" y="145"/>
                </a:cubicBezTo>
                <a:cubicBezTo>
                  <a:pt x="30" y="144"/>
                  <a:pt x="31" y="144"/>
                  <a:pt x="31" y="144"/>
                </a:cubicBezTo>
                <a:cubicBezTo>
                  <a:pt x="32" y="143"/>
                  <a:pt x="33" y="142"/>
                  <a:pt x="34" y="138"/>
                </a:cubicBezTo>
                <a:cubicBezTo>
                  <a:pt x="34" y="138"/>
                  <a:pt x="34" y="138"/>
                  <a:pt x="34" y="138"/>
                </a:cubicBezTo>
                <a:cubicBezTo>
                  <a:pt x="34" y="137"/>
                  <a:pt x="34" y="137"/>
                  <a:pt x="34" y="137"/>
                </a:cubicBezTo>
                <a:cubicBezTo>
                  <a:pt x="35" y="135"/>
                  <a:pt x="36" y="134"/>
                  <a:pt x="36" y="132"/>
                </a:cubicBezTo>
                <a:cubicBezTo>
                  <a:pt x="36" y="132"/>
                  <a:pt x="35" y="131"/>
                  <a:pt x="35" y="131"/>
                </a:cubicBezTo>
                <a:cubicBezTo>
                  <a:pt x="35" y="130"/>
                  <a:pt x="34" y="129"/>
                  <a:pt x="30" y="126"/>
                </a:cubicBezTo>
                <a:cubicBezTo>
                  <a:pt x="28" y="125"/>
                  <a:pt x="25" y="123"/>
                  <a:pt x="23" y="121"/>
                </a:cubicBezTo>
                <a:cubicBezTo>
                  <a:pt x="18" y="117"/>
                  <a:pt x="14" y="114"/>
                  <a:pt x="13" y="113"/>
                </a:cubicBezTo>
                <a:cubicBezTo>
                  <a:pt x="13" y="111"/>
                  <a:pt x="15" y="107"/>
                  <a:pt x="16" y="106"/>
                </a:cubicBezTo>
                <a:cubicBezTo>
                  <a:pt x="17" y="106"/>
                  <a:pt x="22" y="107"/>
                  <a:pt x="29" y="108"/>
                </a:cubicBezTo>
                <a:cubicBezTo>
                  <a:pt x="31" y="109"/>
                  <a:pt x="34" y="109"/>
                  <a:pt x="36" y="110"/>
                </a:cubicBezTo>
                <a:cubicBezTo>
                  <a:pt x="42" y="111"/>
                  <a:pt x="43" y="111"/>
                  <a:pt x="44" y="111"/>
                </a:cubicBezTo>
                <a:cubicBezTo>
                  <a:pt x="45" y="110"/>
                  <a:pt x="46" y="110"/>
                  <a:pt x="48" y="106"/>
                </a:cubicBezTo>
                <a:cubicBezTo>
                  <a:pt x="48" y="105"/>
                  <a:pt x="48" y="105"/>
                  <a:pt x="48" y="105"/>
                </a:cubicBezTo>
                <a:cubicBezTo>
                  <a:pt x="48" y="105"/>
                  <a:pt x="48" y="105"/>
                  <a:pt x="48" y="105"/>
                </a:cubicBezTo>
                <a:cubicBezTo>
                  <a:pt x="51" y="101"/>
                  <a:pt x="51" y="100"/>
                  <a:pt x="51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0" y="98"/>
                  <a:pt x="50" y="97"/>
                  <a:pt x="46" y="93"/>
                </a:cubicBezTo>
                <a:cubicBezTo>
                  <a:pt x="45" y="91"/>
                  <a:pt x="43" y="89"/>
                  <a:pt x="41" y="87"/>
                </a:cubicBezTo>
                <a:cubicBezTo>
                  <a:pt x="37" y="81"/>
                  <a:pt x="34" y="77"/>
                  <a:pt x="33" y="76"/>
                </a:cubicBezTo>
                <a:cubicBezTo>
                  <a:pt x="34" y="75"/>
                  <a:pt x="36" y="71"/>
                  <a:pt x="37" y="71"/>
                </a:cubicBezTo>
                <a:cubicBezTo>
                  <a:pt x="39" y="71"/>
                  <a:pt x="43" y="72"/>
                  <a:pt x="50" y="75"/>
                </a:cubicBezTo>
                <a:cubicBezTo>
                  <a:pt x="52" y="76"/>
                  <a:pt x="54" y="77"/>
                  <a:pt x="56" y="78"/>
                </a:cubicBezTo>
                <a:cubicBezTo>
                  <a:pt x="62" y="81"/>
                  <a:pt x="63" y="81"/>
                  <a:pt x="64" y="81"/>
                </a:cubicBezTo>
                <a:cubicBezTo>
                  <a:pt x="65" y="81"/>
                  <a:pt x="66" y="80"/>
                  <a:pt x="69" y="77"/>
                </a:cubicBezTo>
                <a:cubicBezTo>
                  <a:pt x="70" y="77"/>
                  <a:pt x="70" y="77"/>
                  <a:pt x="70" y="77"/>
                </a:cubicBezTo>
                <a:cubicBezTo>
                  <a:pt x="70" y="76"/>
                  <a:pt x="70" y="76"/>
                  <a:pt x="70" y="76"/>
                </a:cubicBezTo>
                <a:cubicBezTo>
                  <a:pt x="72" y="74"/>
                  <a:pt x="73" y="73"/>
                  <a:pt x="73" y="71"/>
                </a:cubicBezTo>
                <a:cubicBezTo>
                  <a:pt x="73" y="70"/>
                  <a:pt x="73" y="69"/>
                  <a:pt x="70" y="64"/>
                </a:cubicBezTo>
                <a:cubicBezTo>
                  <a:pt x="69" y="62"/>
                  <a:pt x="68" y="60"/>
                  <a:pt x="67" y="57"/>
                </a:cubicBezTo>
                <a:cubicBezTo>
                  <a:pt x="63" y="51"/>
                  <a:pt x="62" y="46"/>
                  <a:pt x="61" y="45"/>
                </a:cubicBezTo>
                <a:cubicBezTo>
                  <a:pt x="62" y="44"/>
                  <a:pt x="65" y="41"/>
                  <a:pt x="67" y="41"/>
                </a:cubicBezTo>
                <a:cubicBezTo>
                  <a:pt x="68" y="41"/>
                  <a:pt x="71" y="43"/>
                  <a:pt x="77" y="48"/>
                </a:cubicBezTo>
                <a:cubicBezTo>
                  <a:pt x="79" y="50"/>
                  <a:pt x="81" y="51"/>
                  <a:pt x="83" y="52"/>
                </a:cubicBezTo>
                <a:cubicBezTo>
                  <a:pt x="88" y="56"/>
                  <a:pt x="89" y="57"/>
                  <a:pt x="90" y="57"/>
                </a:cubicBezTo>
                <a:cubicBezTo>
                  <a:pt x="91" y="57"/>
                  <a:pt x="92" y="57"/>
                  <a:pt x="95" y="54"/>
                </a:cubicBezTo>
                <a:cubicBezTo>
                  <a:pt x="97" y="54"/>
                  <a:pt x="97" y="54"/>
                  <a:pt x="97" y="54"/>
                </a:cubicBezTo>
                <a:cubicBezTo>
                  <a:pt x="97" y="53"/>
                  <a:pt x="97" y="53"/>
                  <a:pt x="97" y="53"/>
                </a:cubicBezTo>
                <a:cubicBezTo>
                  <a:pt x="100" y="52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8"/>
                  <a:pt x="101" y="46"/>
                  <a:pt x="100" y="42"/>
                </a:cubicBezTo>
                <a:cubicBezTo>
                  <a:pt x="99" y="40"/>
                  <a:pt x="99" y="37"/>
                  <a:pt x="98" y="35"/>
                </a:cubicBezTo>
                <a:cubicBezTo>
                  <a:pt x="97" y="29"/>
                  <a:pt x="96" y="24"/>
                  <a:pt x="96" y="22"/>
                </a:cubicBezTo>
                <a:cubicBezTo>
                  <a:pt x="96" y="22"/>
                  <a:pt x="96" y="22"/>
                  <a:pt x="96" y="22"/>
                </a:cubicBezTo>
                <a:cubicBezTo>
                  <a:pt x="97" y="20"/>
                  <a:pt x="100" y="18"/>
                  <a:pt x="102" y="18"/>
                </a:cubicBezTo>
                <a:cubicBezTo>
                  <a:pt x="103" y="19"/>
                  <a:pt x="106" y="22"/>
                  <a:pt x="111" y="28"/>
                </a:cubicBezTo>
                <a:cubicBezTo>
                  <a:pt x="112" y="30"/>
                  <a:pt x="114" y="32"/>
                  <a:pt x="115" y="34"/>
                </a:cubicBezTo>
                <a:cubicBezTo>
                  <a:pt x="119" y="39"/>
                  <a:pt x="120" y="39"/>
                  <a:pt x="121" y="40"/>
                </a:cubicBezTo>
                <a:cubicBezTo>
                  <a:pt x="122" y="40"/>
                  <a:pt x="123" y="40"/>
                  <a:pt x="127" y="38"/>
                </a:cubicBezTo>
                <a:cubicBezTo>
                  <a:pt x="129" y="39"/>
                  <a:pt x="129" y="39"/>
                  <a:pt x="129" y="39"/>
                </a:cubicBezTo>
                <a:cubicBezTo>
                  <a:pt x="129" y="38"/>
                  <a:pt x="129" y="38"/>
                  <a:pt x="129" y="38"/>
                </a:cubicBezTo>
                <a:cubicBezTo>
                  <a:pt x="131" y="37"/>
                  <a:pt x="133" y="36"/>
                  <a:pt x="133" y="35"/>
                </a:cubicBezTo>
                <a:cubicBezTo>
                  <a:pt x="134" y="34"/>
                  <a:pt x="134" y="33"/>
                  <a:pt x="134" y="29"/>
                </a:cubicBezTo>
                <a:cubicBezTo>
                  <a:pt x="134" y="25"/>
                  <a:pt x="134" y="25"/>
                  <a:pt x="134" y="25"/>
                </a:cubicBezTo>
                <a:cubicBezTo>
                  <a:pt x="134" y="24"/>
                  <a:pt x="134" y="22"/>
                  <a:pt x="134" y="20"/>
                </a:cubicBezTo>
                <a:cubicBezTo>
                  <a:pt x="134" y="12"/>
                  <a:pt x="134" y="8"/>
                  <a:pt x="135" y="6"/>
                </a:cubicBezTo>
                <a:cubicBezTo>
                  <a:pt x="136" y="5"/>
                  <a:pt x="140" y="4"/>
                  <a:pt x="141" y="5"/>
                </a:cubicBezTo>
                <a:cubicBezTo>
                  <a:pt x="142" y="6"/>
                  <a:pt x="144" y="10"/>
                  <a:pt x="148" y="16"/>
                </a:cubicBezTo>
                <a:cubicBezTo>
                  <a:pt x="149" y="19"/>
                  <a:pt x="150" y="21"/>
                  <a:pt x="151" y="23"/>
                </a:cubicBezTo>
                <a:cubicBezTo>
                  <a:pt x="153" y="29"/>
                  <a:pt x="154" y="29"/>
                  <a:pt x="155" y="30"/>
                </a:cubicBezTo>
                <a:cubicBezTo>
                  <a:pt x="156" y="30"/>
                  <a:pt x="157" y="31"/>
                  <a:pt x="161" y="30"/>
                </a:cubicBezTo>
                <a:cubicBezTo>
                  <a:pt x="162" y="30"/>
                  <a:pt x="162" y="30"/>
                  <a:pt x="162" y="30"/>
                </a:cubicBezTo>
                <a:cubicBezTo>
                  <a:pt x="162" y="30"/>
                  <a:pt x="162" y="30"/>
                  <a:pt x="162" y="30"/>
                </a:cubicBezTo>
                <a:cubicBezTo>
                  <a:pt x="167" y="30"/>
                  <a:pt x="168" y="28"/>
                  <a:pt x="168" y="28"/>
                </a:cubicBezTo>
                <a:cubicBezTo>
                  <a:pt x="169" y="27"/>
                  <a:pt x="169" y="26"/>
                  <a:pt x="170" y="21"/>
                </a:cubicBezTo>
                <a:cubicBezTo>
                  <a:pt x="171" y="19"/>
                  <a:pt x="171" y="16"/>
                  <a:pt x="172" y="13"/>
                </a:cubicBezTo>
                <a:cubicBezTo>
                  <a:pt x="174" y="6"/>
                  <a:pt x="176" y="2"/>
                  <a:pt x="176" y="1"/>
                </a:cubicBezTo>
                <a:cubicBezTo>
                  <a:pt x="177" y="0"/>
                  <a:pt x="182" y="0"/>
                  <a:pt x="183" y="1"/>
                </a:cubicBezTo>
                <a:cubicBezTo>
                  <a:pt x="183" y="2"/>
                  <a:pt x="185" y="6"/>
                  <a:pt x="186" y="13"/>
                </a:cubicBezTo>
                <a:cubicBezTo>
                  <a:pt x="187" y="16"/>
                  <a:pt x="187" y="18"/>
                  <a:pt x="188" y="20"/>
                </a:cubicBezTo>
                <a:cubicBezTo>
                  <a:pt x="189" y="27"/>
                  <a:pt x="189" y="27"/>
                  <a:pt x="190" y="28"/>
                </a:cubicBezTo>
                <a:cubicBezTo>
                  <a:pt x="191" y="29"/>
                  <a:pt x="192" y="29"/>
                  <a:pt x="196" y="30"/>
                </a:cubicBezTo>
                <a:cubicBezTo>
                  <a:pt x="197" y="30"/>
                  <a:pt x="197" y="30"/>
                  <a:pt x="197" y="30"/>
                </a:cubicBezTo>
                <a:cubicBezTo>
                  <a:pt x="198" y="30"/>
                  <a:pt x="198" y="30"/>
                  <a:pt x="198" y="30"/>
                </a:cubicBezTo>
                <a:cubicBezTo>
                  <a:pt x="202" y="31"/>
                  <a:pt x="203" y="30"/>
                  <a:pt x="204" y="29"/>
                </a:cubicBezTo>
                <a:cubicBezTo>
                  <a:pt x="205" y="29"/>
                  <a:pt x="205" y="28"/>
                  <a:pt x="207" y="23"/>
                </a:cubicBezTo>
                <a:cubicBezTo>
                  <a:pt x="208" y="21"/>
                  <a:pt x="210" y="19"/>
                  <a:pt x="211" y="16"/>
                </a:cubicBezTo>
                <a:cubicBezTo>
                  <a:pt x="214" y="10"/>
                  <a:pt x="217" y="6"/>
                  <a:pt x="218" y="5"/>
                </a:cubicBezTo>
                <a:cubicBezTo>
                  <a:pt x="219" y="4"/>
                  <a:pt x="223" y="5"/>
                  <a:pt x="224" y="6"/>
                </a:cubicBezTo>
                <a:cubicBezTo>
                  <a:pt x="224" y="7"/>
                  <a:pt x="225" y="11"/>
                  <a:pt x="225" y="17"/>
                </a:cubicBezTo>
                <a:cubicBezTo>
                  <a:pt x="225" y="18"/>
                  <a:pt x="225" y="19"/>
                  <a:pt x="225" y="19"/>
                </a:cubicBezTo>
                <a:cubicBezTo>
                  <a:pt x="225" y="22"/>
                  <a:pt x="225" y="24"/>
                  <a:pt x="225" y="26"/>
                </a:cubicBezTo>
                <a:cubicBezTo>
                  <a:pt x="225" y="28"/>
                  <a:pt x="225" y="30"/>
                  <a:pt x="225" y="31"/>
                </a:cubicBezTo>
                <a:cubicBezTo>
                  <a:pt x="225" y="33"/>
                  <a:pt x="225" y="34"/>
                  <a:pt x="225" y="35"/>
                </a:cubicBezTo>
                <a:cubicBezTo>
                  <a:pt x="226" y="35"/>
                  <a:pt x="227" y="36"/>
                  <a:pt x="231" y="37"/>
                </a:cubicBezTo>
                <a:cubicBezTo>
                  <a:pt x="232" y="39"/>
                  <a:pt x="232" y="39"/>
                  <a:pt x="232" y="39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6" y="40"/>
                  <a:pt x="237" y="39"/>
                  <a:pt x="238" y="39"/>
                </a:cubicBezTo>
                <a:cubicBezTo>
                  <a:pt x="239" y="39"/>
                  <a:pt x="239" y="38"/>
                  <a:pt x="243" y="34"/>
                </a:cubicBezTo>
                <a:cubicBezTo>
                  <a:pt x="244" y="32"/>
                  <a:pt x="246" y="30"/>
                  <a:pt x="248" y="28"/>
                </a:cubicBezTo>
                <a:cubicBezTo>
                  <a:pt x="253" y="22"/>
                  <a:pt x="256" y="19"/>
                  <a:pt x="257" y="18"/>
                </a:cubicBezTo>
                <a:cubicBezTo>
                  <a:pt x="259" y="18"/>
                  <a:pt x="262" y="20"/>
                  <a:pt x="263" y="21"/>
                </a:cubicBezTo>
                <a:cubicBezTo>
                  <a:pt x="263" y="23"/>
                  <a:pt x="262" y="28"/>
                  <a:pt x="261" y="34"/>
                </a:cubicBezTo>
                <a:cubicBezTo>
                  <a:pt x="260" y="37"/>
                  <a:pt x="260" y="39"/>
                  <a:pt x="259" y="41"/>
                </a:cubicBezTo>
                <a:cubicBezTo>
                  <a:pt x="258" y="45"/>
                  <a:pt x="257" y="47"/>
                  <a:pt x="257" y="48"/>
                </a:cubicBezTo>
                <a:cubicBezTo>
                  <a:pt x="257" y="48"/>
                  <a:pt x="257" y="48"/>
                  <a:pt x="257" y="48"/>
                </a:cubicBezTo>
                <a:cubicBezTo>
                  <a:pt x="258" y="49"/>
                  <a:pt x="258" y="49"/>
                  <a:pt x="258" y="49"/>
                </a:cubicBezTo>
                <a:cubicBezTo>
                  <a:pt x="258" y="50"/>
                  <a:pt x="259" y="51"/>
                  <a:pt x="262" y="53"/>
                </a:cubicBezTo>
                <a:cubicBezTo>
                  <a:pt x="263" y="55"/>
                  <a:pt x="263" y="55"/>
                  <a:pt x="263" y="55"/>
                </a:cubicBezTo>
                <a:cubicBezTo>
                  <a:pt x="264" y="54"/>
                  <a:pt x="264" y="54"/>
                  <a:pt x="264" y="54"/>
                </a:cubicBezTo>
                <a:cubicBezTo>
                  <a:pt x="267" y="56"/>
                  <a:pt x="268" y="56"/>
                  <a:pt x="269" y="56"/>
                </a:cubicBezTo>
                <a:cubicBezTo>
                  <a:pt x="270" y="56"/>
                  <a:pt x="271" y="56"/>
                  <a:pt x="275" y="52"/>
                </a:cubicBezTo>
                <a:cubicBezTo>
                  <a:pt x="277" y="51"/>
                  <a:pt x="279" y="49"/>
                  <a:pt x="281" y="48"/>
                </a:cubicBezTo>
                <a:cubicBezTo>
                  <a:pt x="287" y="43"/>
                  <a:pt x="291" y="41"/>
                  <a:pt x="293" y="40"/>
                </a:cubicBezTo>
                <a:cubicBezTo>
                  <a:pt x="294" y="41"/>
                  <a:pt x="297" y="43"/>
                  <a:pt x="298" y="45"/>
                </a:cubicBezTo>
                <a:cubicBezTo>
                  <a:pt x="297" y="46"/>
                  <a:pt x="296" y="50"/>
                  <a:pt x="292" y="57"/>
                </a:cubicBezTo>
                <a:cubicBezTo>
                  <a:pt x="291" y="59"/>
                  <a:pt x="290" y="61"/>
                  <a:pt x="289" y="63"/>
                </a:cubicBezTo>
                <a:cubicBezTo>
                  <a:pt x="286" y="68"/>
                  <a:pt x="286" y="69"/>
                  <a:pt x="286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6" y="72"/>
                  <a:pt x="287" y="73"/>
                  <a:pt x="289" y="75"/>
                </a:cubicBezTo>
                <a:cubicBezTo>
                  <a:pt x="290" y="78"/>
                  <a:pt x="290" y="78"/>
                  <a:pt x="290" y="78"/>
                </a:cubicBezTo>
                <a:cubicBezTo>
                  <a:pt x="291" y="77"/>
                  <a:pt x="291" y="77"/>
                  <a:pt x="291" y="77"/>
                </a:cubicBezTo>
                <a:cubicBezTo>
                  <a:pt x="293" y="79"/>
                  <a:pt x="294" y="80"/>
                  <a:pt x="295" y="80"/>
                </a:cubicBezTo>
                <a:cubicBezTo>
                  <a:pt x="296" y="80"/>
                  <a:pt x="297" y="80"/>
                  <a:pt x="302" y="78"/>
                </a:cubicBezTo>
                <a:cubicBezTo>
                  <a:pt x="304" y="77"/>
                  <a:pt x="307" y="76"/>
                  <a:pt x="309" y="75"/>
                </a:cubicBezTo>
                <a:cubicBezTo>
                  <a:pt x="316" y="72"/>
                  <a:pt x="321" y="70"/>
                  <a:pt x="322" y="70"/>
                </a:cubicBezTo>
                <a:cubicBezTo>
                  <a:pt x="323" y="71"/>
                  <a:pt x="326" y="74"/>
                  <a:pt x="326" y="76"/>
                </a:cubicBezTo>
                <a:cubicBezTo>
                  <a:pt x="325" y="77"/>
                  <a:pt x="323" y="80"/>
                  <a:pt x="318" y="86"/>
                </a:cubicBezTo>
                <a:cubicBezTo>
                  <a:pt x="316" y="88"/>
                  <a:pt x="315" y="90"/>
                  <a:pt x="313" y="91"/>
                </a:cubicBezTo>
                <a:cubicBezTo>
                  <a:pt x="309" y="96"/>
                  <a:pt x="308" y="97"/>
                  <a:pt x="308" y="98"/>
                </a:cubicBezTo>
                <a:cubicBezTo>
                  <a:pt x="308" y="98"/>
                  <a:pt x="308" y="98"/>
                  <a:pt x="308" y="98"/>
                </a:cubicBezTo>
                <a:cubicBezTo>
                  <a:pt x="308" y="99"/>
                  <a:pt x="309" y="101"/>
                  <a:pt x="311" y="104"/>
                </a:cubicBezTo>
                <a:cubicBezTo>
                  <a:pt x="311" y="106"/>
                  <a:pt x="311" y="106"/>
                  <a:pt x="311" y="106"/>
                </a:cubicBezTo>
                <a:cubicBezTo>
                  <a:pt x="312" y="106"/>
                  <a:pt x="312" y="106"/>
                  <a:pt x="312" y="106"/>
                </a:cubicBezTo>
                <a:cubicBezTo>
                  <a:pt x="313" y="109"/>
                  <a:pt x="314" y="109"/>
                  <a:pt x="315" y="110"/>
                </a:cubicBezTo>
                <a:cubicBezTo>
                  <a:pt x="316" y="110"/>
                  <a:pt x="317" y="110"/>
                  <a:pt x="323" y="109"/>
                </a:cubicBezTo>
                <a:cubicBezTo>
                  <a:pt x="325" y="108"/>
                  <a:pt x="328" y="108"/>
                  <a:pt x="330" y="107"/>
                </a:cubicBezTo>
                <a:cubicBezTo>
                  <a:pt x="337" y="106"/>
                  <a:pt x="342" y="106"/>
                  <a:pt x="343" y="106"/>
                </a:cubicBezTo>
                <a:cubicBezTo>
                  <a:pt x="344" y="107"/>
                  <a:pt x="346" y="110"/>
                  <a:pt x="346" y="112"/>
                </a:cubicBezTo>
                <a:cubicBezTo>
                  <a:pt x="346" y="112"/>
                  <a:pt x="346" y="112"/>
                  <a:pt x="346" y="112"/>
                </a:cubicBezTo>
                <a:cubicBezTo>
                  <a:pt x="345" y="113"/>
                  <a:pt x="342" y="116"/>
                  <a:pt x="336" y="120"/>
                </a:cubicBezTo>
                <a:cubicBezTo>
                  <a:pt x="334" y="122"/>
                  <a:pt x="332" y="123"/>
                  <a:pt x="330" y="124"/>
                </a:cubicBezTo>
                <a:cubicBezTo>
                  <a:pt x="325" y="128"/>
                  <a:pt x="324" y="129"/>
                  <a:pt x="324" y="130"/>
                </a:cubicBezTo>
                <a:cubicBezTo>
                  <a:pt x="324" y="130"/>
                  <a:pt x="324" y="131"/>
                  <a:pt x="324" y="131"/>
                </a:cubicBezTo>
                <a:cubicBezTo>
                  <a:pt x="324" y="132"/>
                  <a:pt x="324" y="134"/>
                  <a:pt x="325" y="136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5" y="138"/>
                  <a:pt x="325" y="138"/>
                  <a:pt x="325" y="138"/>
                </a:cubicBezTo>
                <a:cubicBezTo>
                  <a:pt x="326" y="141"/>
                  <a:pt x="327" y="142"/>
                  <a:pt x="328" y="143"/>
                </a:cubicBezTo>
                <a:cubicBezTo>
                  <a:pt x="329" y="143"/>
                  <a:pt x="330" y="143"/>
                  <a:pt x="335" y="144"/>
                </a:cubicBezTo>
                <a:cubicBezTo>
                  <a:pt x="338" y="144"/>
                  <a:pt x="340" y="144"/>
                  <a:pt x="343" y="144"/>
                </a:cubicBezTo>
                <a:cubicBezTo>
                  <a:pt x="350" y="145"/>
                  <a:pt x="355" y="145"/>
                  <a:pt x="356" y="146"/>
                </a:cubicBezTo>
                <a:cubicBezTo>
                  <a:pt x="357" y="146"/>
                  <a:pt x="357" y="149"/>
                  <a:pt x="358" y="151"/>
                </a:cubicBezTo>
                <a:cubicBezTo>
                  <a:pt x="358" y="152"/>
                  <a:pt x="357" y="152"/>
                  <a:pt x="357" y="152"/>
                </a:cubicBezTo>
                <a:cubicBezTo>
                  <a:pt x="356" y="153"/>
                  <a:pt x="352" y="155"/>
                  <a:pt x="345" y="158"/>
                </a:cubicBezTo>
                <a:cubicBezTo>
                  <a:pt x="343" y="159"/>
                  <a:pt x="341" y="160"/>
                  <a:pt x="339" y="161"/>
                </a:cubicBezTo>
                <a:cubicBezTo>
                  <a:pt x="333" y="163"/>
                  <a:pt x="332" y="163"/>
                  <a:pt x="332" y="164"/>
                </a:cubicBezTo>
                <a:cubicBezTo>
                  <a:pt x="331" y="165"/>
                  <a:pt x="331" y="166"/>
                  <a:pt x="331" y="168"/>
                </a:cubicBezTo>
                <a:cubicBezTo>
                  <a:pt x="331" y="169"/>
                  <a:pt x="331" y="170"/>
                  <a:pt x="331" y="170"/>
                </a:cubicBezTo>
                <a:cubicBezTo>
                  <a:pt x="330" y="173"/>
                  <a:pt x="330" y="173"/>
                  <a:pt x="330" y="173"/>
                </a:cubicBezTo>
                <a:cubicBezTo>
                  <a:pt x="331" y="173"/>
                  <a:pt x="331" y="173"/>
                  <a:pt x="331" y="173"/>
                </a:cubicBezTo>
                <a:cubicBezTo>
                  <a:pt x="331" y="175"/>
                  <a:pt x="332" y="177"/>
                  <a:pt x="333" y="178"/>
                </a:cubicBezTo>
                <a:cubicBezTo>
                  <a:pt x="333" y="179"/>
                  <a:pt x="334" y="179"/>
                  <a:pt x="340" y="180"/>
                </a:cubicBezTo>
                <a:cubicBezTo>
                  <a:pt x="342" y="181"/>
                  <a:pt x="344" y="182"/>
                  <a:pt x="347" y="183"/>
                </a:cubicBezTo>
                <a:cubicBezTo>
                  <a:pt x="354" y="185"/>
                  <a:pt x="358" y="187"/>
                  <a:pt x="359" y="187"/>
                </a:cubicBezTo>
                <a:cubicBezTo>
                  <a:pt x="360" y="188"/>
                  <a:pt x="360" y="189"/>
                  <a:pt x="360" y="190"/>
                </a:cubicBezTo>
                <a:cubicBezTo>
                  <a:pt x="360" y="192"/>
                  <a:pt x="359" y="193"/>
                  <a:pt x="359" y="194"/>
                </a:cubicBezTo>
                <a:cubicBezTo>
                  <a:pt x="358" y="194"/>
                  <a:pt x="354" y="196"/>
                  <a:pt x="346" y="197"/>
                </a:cubicBezTo>
                <a:cubicBezTo>
                  <a:pt x="344" y="197"/>
                  <a:pt x="341" y="198"/>
                  <a:pt x="339" y="198"/>
                </a:cubicBezTo>
                <a:cubicBezTo>
                  <a:pt x="333" y="199"/>
                  <a:pt x="332" y="199"/>
                  <a:pt x="331" y="200"/>
                </a:cubicBezTo>
                <a:cubicBezTo>
                  <a:pt x="331" y="201"/>
                  <a:pt x="330" y="202"/>
                  <a:pt x="329" y="206"/>
                </a:cubicBezTo>
                <a:cubicBezTo>
                  <a:pt x="329" y="206"/>
                  <a:pt x="329" y="206"/>
                  <a:pt x="329" y="206"/>
                </a:cubicBezTo>
                <a:cubicBezTo>
                  <a:pt x="329" y="206"/>
                  <a:pt x="329" y="206"/>
                  <a:pt x="329" y="206"/>
                </a:cubicBezTo>
                <a:cubicBezTo>
                  <a:pt x="329" y="208"/>
                  <a:pt x="329" y="210"/>
                  <a:pt x="329" y="211"/>
                </a:cubicBezTo>
                <a:cubicBezTo>
                  <a:pt x="329" y="212"/>
                  <a:pt x="329" y="213"/>
                  <a:pt x="329" y="213"/>
                </a:cubicBezTo>
                <a:cubicBezTo>
                  <a:pt x="330" y="214"/>
                  <a:pt x="331" y="215"/>
                  <a:pt x="335" y="217"/>
                </a:cubicBezTo>
                <a:cubicBezTo>
                  <a:pt x="337" y="218"/>
                  <a:pt x="340" y="220"/>
                  <a:pt x="342" y="221"/>
                </a:cubicBezTo>
                <a:cubicBezTo>
                  <a:pt x="348" y="225"/>
                  <a:pt x="352" y="228"/>
                  <a:pt x="353" y="229"/>
                </a:cubicBezTo>
                <a:cubicBezTo>
                  <a:pt x="353" y="229"/>
                  <a:pt x="353" y="229"/>
                  <a:pt x="353" y="229"/>
                </a:cubicBezTo>
                <a:cubicBezTo>
                  <a:pt x="353" y="231"/>
                  <a:pt x="352" y="234"/>
                  <a:pt x="351" y="235"/>
                </a:cubicBezTo>
                <a:cubicBezTo>
                  <a:pt x="350" y="235"/>
                  <a:pt x="345" y="235"/>
                  <a:pt x="338" y="235"/>
                </a:cubicBezTo>
                <a:cubicBezTo>
                  <a:pt x="335" y="235"/>
                  <a:pt x="333" y="234"/>
                  <a:pt x="331" y="234"/>
                </a:cubicBezTo>
                <a:cubicBezTo>
                  <a:pt x="325" y="234"/>
                  <a:pt x="324" y="234"/>
                  <a:pt x="323" y="234"/>
                </a:cubicBezTo>
                <a:cubicBezTo>
                  <a:pt x="322" y="235"/>
                  <a:pt x="321" y="236"/>
                  <a:pt x="320" y="239"/>
                </a:cubicBezTo>
                <a:cubicBezTo>
                  <a:pt x="319" y="240"/>
                  <a:pt x="319" y="240"/>
                  <a:pt x="319" y="240"/>
                </a:cubicBezTo>
                <a:cubicBezTo>
                  <a:pt x="319" y="240"/>
                  <a:pt x="319" y="240"/>
                  <a:pt x="319" y="240"/>
                </a:cubicBezTo>
                <a:cubicBezTo>
                  <a:pt x="318" y="243"/>
                  <a:pt x="317" y="244"/>
                  <a:pt x="317" y="246"/>
                </a:cubicBezTo>
                <a:cubicBezTo>
                  <a:pt x="317" y="246"/>
                  <a:pt x="317" y="246"/>
                  <a:pt x="318" y="247"/>
                </a:cubicBezTo>
                <a:cubicBezTo>
                  <a:pt x="318" y="248"/>
                  <a:pt x="319" y="248"/>
                  <a:pt x="323" y="252"/>
                </a:cubicBezTo>
                <a:cubicBezTo>
                  <a:pt x="324" y="254"/>
                  <a:pt x="326" y="256"/>
                  <a:pt x="328" y="258"/>
                </a:cubicBezTo>
                <a:cubicBezTo>
                  <a:pt x="334" y="263"/>
                  <a:pt x="337" y="266"/>
                  <a:pt x="337" y="267"/>
                </a:cubicBezTo>
                <a:cubicBezTo>
                  <a:pt x="337" y="269"/>
                  <a:pt x="335" y="272"/>
                  <a:pt x="334" y="273"/>
                </a:cubicBezTo>
                <a:cubicBezTo>
                  <a:pt x="333" y="273"/>
                  <a:pt x="328" y="272"/>
                  <a:pt x="321" y="270"/>
                </a:cubicBezTo>
                <a:cubicBezTo>
                  <a:pt x="319" y="269"/>
                  <a:pt x="317" y="268"/>
                  <a:pt x="315" y="268"/>
                </a:cubicBezTo>
                <a:cubicBezTo>
                  <a:pt x="308" y="266"/>
                  <a:pt x="308" y="265"/>
                  <a:pt x="307" y="266"/>
                </a:cubicBezTo>
                <a:cubicBezTo>
                  <a:pt x="306" y="266"/>
                  <a:pt x="304" y="267"/>
                  <a:pt x="302" y="270"/>
                </a:cubicBezTo>
                <a:cubicBezTo>
                  <a:pt x="301" y="270"/>
                  <a:pt x="301" y="270"/>
                  <a:pt x="301" y="270"/>
                </a:cubicBezTo>
                <a:cubicBezTo>
                  <a:pt x="301" y="271"/>
                  <a:pt x="301" y="271"/>
                  <a:pt x="301" y="271"/>
                </a:cubicBezTo>
                <a:cubicBezTo>
                  <a:pt x="299" y="274"/>
                  <a:pt x="299" y="276"/>
                  <a:pt x="299" y="276"/>
                </a:cubicBezTo>
                <a:cubicBezTo>
                  <a:pt x="299" y="277"/>
                  <a:pt x="299" y="277"/>
                  <a:pt x="299" y="277"/>
                </a:cubicBezTo>
                <a:cubicBezTo>
                  <a:pt x="299" y="278"/>
                  <a:pt x="299" y="279"/>
                  <a:pt x="302" y="283"/>
                </a:cubicBezTo>
                <a:cubicBezTo>
                  <a:pt x="304" y="285"/>
                  <a:pt x="305" y="287"/>
                  <a:pt x="307" y="290"/>
                </a:cubicBezTo>
                <a:cubicBezTo>
                  <a:pt x="310" y="296"/>
                  <a:pt x="313" y="300"/>
                  <a:pt x="313" y="301"/>
                </a:cubicBezTo>
                <a:cubicBezTo>
                  <a:pt x="313" y="303"/>
                  <a:pt x="310" y="306"/>
                  <a:pt x="308" y="306"/>
                </a:cubicBezTo>
                <a:cubicBezTo>
                  <a:pt x="307" y="306"/>
                  <a:pt x="303" y="304"/>
                  <a:pt x="297" y="300"/>
                </a:cubicBezTo>
                <a:cubicBezTo>
                  <a:pt x="295" y="299"/>
                  <a:pt x="293" y="298"/>
                  <a:pt x="291" y="296"/>
                </a:cubicBezTo>
                <a:cubicBezTo>
                  <a:pt x="285" y="293"/>
                  <a:pt x="284" y="293"/>
                  <a:pt x="283" y="293"/>
                </a:cubicBezTo>
                <a:cubicBezTo>
                  <a:pt x="282" y="293"/>
                  <a:pt x="281" y="293"/>
                  <a:pt x="278" y="296"/>
                </a:cubicBezTo>
                <a:cubicBezTo>
                  <a:pt x="277" y="296"/>
                  <a:pt x="277" y="296"/>
                  <a:pt x="277" y="296"/>
                </a:cubicBezTo>
                <a:cubicBezTo>
                  <a:pt x="277" y="297"/>
                  <a:pt x="277" y="297"/>
                  <a:pt x="277" y="297"/>
                </a:cubicBezTo>
                <a:cubicBezTo>
                  <a:pt x="274" y="299"/>
                  <a:pt x="273" y="301"/>
                  <a:pt x="273" y="302"/>
                </a:cubicBezTo>
                <a:cubicBezTo>
                  <a:pt x="273" y="302"/>
                  <a:pt x="273" y="302"/>
                  <a:pt x="273" y="302"/>
                </a:cubicBezTo>
                <a:cubicBezTo>
                  <a:pt x="273" y="302"/>
                  <a:pt x="273" y="302"/>
                  <a:pt x="273" y="302"/>
                </a:cubicBezTo>
                <a:cubicBezTo>
                  <a:pt x="273" y="303"/>
                  <a:pt x="274" y="304"/>
                  <a:pt x="275" y="309"/>
                </a:cubicBezTo>
                <a:cubicBezTo>
                  <a:pt x="276" y="311"/>
                  <a:pt x="277" y="313"/>
                  <a:pt x="278" y="316"/>
                </a:cubicBezTo>
                <a:cubicBezTo>
                  <a:pt x="280" y="322"/>
                  <a:pt x="282" y="327"/>
                  <a:pt x="282" y="329"/>
                </a:cubicBezTo>
                <a:cubicBezTo>
                  <a:pt x="281" y="330"/>
                  <a:pt x="277" y="332"/>
                  <a:pt x="276" y="332"/>
                </a:cubicBezTo>
                <a:cubicBezTo>
                  <a:pt x="275" y="332"/>
                  <a:pt x="271" y="329"/>
                  <a:pt x="266" y="324"/>
                </a:cubicBezTo>
                <a:cubicBezTo>
                  <a:pt x="264" y="322"/>
                  <a:pt x="263" y="320"/>
                  <a:pt x="261" y="319"/>
                </a:cubicBezTo>
                <a:cubicBezTo>
                  <a:pt x="256" y="314"/>
                  <a:pt x="256" y="314"/>
                  <a:pt x="255" y="314"/>
                </a:cubicBezTo>
                <a:cubicBezTo>
                  <a:pt x="254" y="313"/>
                  <a:pt x="252" y="314"/>
                  <a:pt x="249" y="316"/>
                </a:cubicBezTo>
                <a:cubicBezTo>
                  <a:pt x="247" y="315"/>
                  <a:pt x="247" y="315"/>
                  <a:pt x="247" y="315"/>
                </a:cubicBezTo>
                <a:cubicBezTo>
                  <a:pt x="247" y="316"/>
                  <a:pt x="247" y="316"/>
                  <a:pt x="247" y="316"/>
                </a:cubicBezTo>
                <a:cubicBezTo>
                  <a:pt x="245" y="317"/>
                  <a:pt x="243" y="319"/>
                  <a:pt x="243" y="320"/>
                </a:cubicBezTo>
                <a:cubicBezTo>
                  <a:pt x="243" y="320"/>
                  <a:pt x="243" y="321"/>
                  <a:pt x="243" y="321"/>
                </a:cubicBezTo>
                <a:cubicBezTo>
                  <a:pt x="243" y="322"/>
                  <a:pt x="243" y="324"/>
                  <a:pt x="243" y="327"/>
                </a:cubicBezTo>
                <a:cubicBezTo>
                  <a:pt x="243" y="329"/>
                  <a:pt x="244" y="332"/>
                  <a:pt x="244" y="335"/>
                </a:cubicBezTo>
                <a:cubicBezTo>
                  <a:pt x="245" y="339"/>
                  <a:pt x="245" y="343"/>
                  <a:pt x="245" y="346"/>
                </a:cubicBezTo>
                <a:cubicBezTo>
                  <a:pt x="245" y="347"/>
                  <a:pt x="245" y="348"/>
                  <a:pt x="245" y="348"/>
                </a:cubicBezTo>
                <a:cubicBezTo>
                  <a:pt x="244" y="349"/>
                  <a:pt x="240" y="351"/>
                  <a:pt x="238" y="351"/>
                </a:cubicBezTo>
                <a:cubicBezTo>
                  <a:pt x="238" y="350"/>
                  <a:pt x="235" y="346"/>
                  <a:pt x="231" y="340"/>
                </a:cubicBezTo>
                <a:cubicBezTo>
                  <a:pt x="229" y="338"/>
                  <a:pt x="228" y="336"/>
                  <a:pt x="227" y="334"/>
                </a:cubicBezTo>
                <a:cubicBezTo>
                  <a:pt x="224" y="328"/>
                  <a:pt x="223" y="328"/>
                  <a:pt x="222" y="327"/>
                </a:cubicBezTo>
                <a:cubicBezTo>
                  <a:pt x="221" y="327"/>
                  <a:pt x="220" y="327"/>
                  <a:pt x="216" y="328"/>
                </a:cubicBezTo>
                <a:cubicBezTo>
                  <a:pt x="214" y="327"/>
                  <a:pt x="214" y="327"/>
                  <a:pt x="214" y="327"/>
                </a:cubicBezTo>
                <a:cubicBezTo>
                  <a:pt x="214" y="328"/>
                  <a:pt x="214" y="328"/>
                  <a:pt x="214" y="328"/>
                </a:cubicBezTo>
                <a:cubicBezTo>
                  <a:pt x="211" y="329"/>
                  <a:pt x="210" y="330"/>
                  <a:pt x="209" y="331"/>
                </a:cubicBezTo>
                <a:cubicBezTo>
                  <a:pt x="208" y="331"/>
                  <a:pt x="208" y="332"/>
                  <a:pt x="208" y="338"/>
                </a:cubicBezTo>
                <a:cubicBezTo>
                  <a:pt x="207" y="340"/>
                  <a:pt x="207" y="343"/>
                  <a:pt x="207" y="346"/>
                </a:cubicBezTo>
                <a:cubicBezTo>
                  <a:pt x="206" y="353"/>
                  <a:pt x="205" y="357"/>
                  <a:pt x="204" y="359"/>
                </a:cubicBezTo>
                <a:cubicBezTo>
                  <a:pt x="203" y="359"/>
                  <a:pt x="199" y="360"/>
                  <a:pt x="198" y="359"/>
                </a:cubicBezTo>
                <a:cubicBezTo>
                  <a:pt x="197" y="358"/>
                  <a:pt x="195" y="354"/>
                  <a:pt x="193" y="347"/>
                </a:cubicBezTo>
                <a:cubicBezTo>
                  <a:pt x="192" y="345"/>
                  <a:pt x="191" y="343"/>
                  <a:pt x="190" y="341"/>
                </a:cubicBezTo>
                <a:cubicBezTo>
                  <a:pt x="188" y="335"/>
                  <a:pt x="188" y="334"/>
                  <a:pt x="187" y="333"/>
                </a:cubicBezTo>
                <a:cubicBezTo>
                  <a:pt x="187" y="333"/>
                  <a:pt x="185" y="332"/>
                  <a:pt x="181" y="332"/>
                </a:cubicBezTo>
                <a:cubicBezTo>
                  <a:pt x="180" y="331"/>
                  <a:pt x="180" y="331"/>
                  <a:pt x="180" y="331"/>
                </a:cubicBezTo>
                <a:cubicBezTo>
                  <a:pt x="179" y="332"/>
                  <a:pt x="179" y="332"/>
                  <a:pt x="179" y="332"/>
                </a:cubicBezTo>
                <a:cubicBezTo>
                  <a:pt x="175" y="332"/>
                  <a:pt x="174" y="333"/>
                  <a:pt x="173" y="333"/>
                </a:cubicBezTo>
                <a:cubicBezTo>
                  <a:pt x="173" y="334"/>
                  <a:pt x="172" y="335"/>
                  <a:pt x="171" y="340"/>
                </a:cubicBezTo>
                <a:cubicBezTo>
                  <a:pt x="170" y="342"/>
                  <a:pt x="169" y="345"/>
                  <a:pt x="168" y="347"/>
                </a:cubicBezTo>
                <a:cubicBezTo>
                  <a:pt x="165" y="354"/>
                  <a:pt x="163" y="358"/>
                  <a:pt x="163" y="359"/>
                </a:cubicBezTo>
                <a:cubicBezTo>
                  <a:pt x="161" y="360"/>
                  <a:pt x="157" y="360"/>
                  <a:pt x="156" y="359"/>
                </a:cubicBezTo>
                <a:cubicBezTo>
                  <a:pt x="155" y="358"/>
                  <a:pt x="155" y="353"/>
                  <a:pt x="154" y="346"/>
                </a:cubicBezTo>
                <a:cubicBezTo>
                  <a:pt x="153" y="343"/>
                  <a:pt x="153" y="341"/>
                  <a:pt x="153" y="339"/>
                </a:cubicBezTo>
                <a:cubicBezTo>
                  <a:pt x="152" y="332"/>
                  <a:pt x="152" y="331"/>
                  <a:pt x="152" y="331"/>
                </a:cubicBezTo>
                <a:cubicBezTo>
                  <a:pt x="151" y="330"/>
                  <a:pt x="149" y="329"/>
                  <a:pt x="146" y="329"/>
                </a:cubicBezTo>
                <a:cubicBezTo>
                  <a:pt x="145" y="327"/>
                  <a:pt x="145" y="327"/>
                  <a:pt x="145" y="327"/>
                </a:cubicBezTo>
                <a:cubicBezTo>
                  <a:pt x="144" y="328"/>
                  <a:pt x="144" y="328"/>
                  <a:pt x="144" y="328"/>
                </a:cubicBezTo>
                <a:cubicBezTo>
                  <a:pt x="141" y="327"/>
                  <a:pt x="139" y="327"/>
                  <a:pt x="138" y="328"/>
                </a:cubicBezTo>
                <a:cubicBezTo>
                  <a:pt x="138" y="328"/>
                  <a:pt x="137" y="329"/>
                  <a:pt x="134" y="334"/>
                </a:cubicBezTo>
                <a:cubicBezTo>
                  <a:pt x="133" y="336"/>
                  <a:pt x="131" y="338"/>
                  <a:pt x="130" y="340"/>
                </a:cubicBezTo>
                <a:cubicBezTo>
                  <a:pt x="126" y="346"/>
                  <a:pt x="123" y="350"/>
                  <a:pt x="122" y="351"/>
                </a:cubicBezTo>
                <a:cubicBezTo>
                  <a:pt x="120" y="351"/>
                  <a:pt x="116" y="349"/>
                  <a:pt x="115" y="348"/>
                </a:cubicBezTo>
                <a:cubicBezTo>
                  <a:pt x="115" y="348"/>
                  <a:pt x="115" y="348"/>
                  <a:pt x="115" y="347"/>
                </a:cubicBezTo>
                <a:cubicBezTo>
                  <a:pt x="115" y="347"/>
                  <a:pt x="115" y="347"/>
                  <a:pt x="115" y="347"/>
                </a:cubicBezTo>
                <a:cubicBezTo>
                  <a:pt x="115" y="345"/>
                  <a:pt x="116" y="340"/>
                  <a:pt x="116" y="335"/>
                </a:cubicBezTo>
                <a:cubicBezTo>
                  <a:pt x="117" y="333"/>
                  <a:pt x="117" y="330"/>
                  <a:pt x="117" y="328"/>
                </a:cubicBezTo>
                <a:cubicBezTo>
                  <a:pt x="118" y="325"/>
                  <a:pt x="118" y="323"/>
                  <a:pt x="118" y="322"/>
                </a:cubicBezTo>
                <a:cubicBezTo>
                  <a:pt x="118" y="321"/>
                  <a:pt x="118" y="321"/>
                  <a:pt x="118" y="320"/>
                </a:cubicBezTo>
                <a:cubicBezTo>
                  <a:pt x="117" y="319"/>
                  <a:pt x="116" y="318"/>
                  <a:pt x="113" y="317"/>
                </a:cubicBezTo>
                <a:cubicBezTo>
                  <a:pt x="112" y="314"/>
                  <a:pt x="112" y="314"/>
                  <a:pt x="112" y="314"/>
                </a:cubicBezTo>
                <a:cubicBezTo>
                  <a:pt x="111" y="316"/>
                  <a:pt x="111" y="316"/>
                  <a:pt x="111" y="316"/>
                </a:cubicBezTo>
                <a:cubicBezTo>
                  <a:pt x="108" y="314"/>
                  <a:pt x="107" y="314"/>
                  <a:pt x="106" y="314"/>
                </a:cubicBezTo>
                <a:cubicBezTo>
                  <a:pt x="105" y="315"/>
                  <a:pt x="104" y="315"/>
                  <a:pt x="100" y="319"/>
                </a:cubicBezTo>
                <a:cubicBezTo>
                  <a:pt x="98" y="321"/>
                  <a:pt x="96" y="322"/>
                  <a:pt x="94" y="324"/>
                </a:cubicBezTo>
                <a:cubicBezTo>
                  <a:pt x="89" y="329"/>
                  <a:pt x="85" y="332"/>
                  <a:pt x="84" y="333"/>
                </a:cubicBezTo>
                <a:cubicBezTo>
                  <a:pt x="83" y="333"/>
                  <a:pt x="79" y="330"/>
                  <a:pt x="78" y="329"/>
                </a:cubicBezTo>
                <a:cubicBezTo>
                  <a:pt x="79" y="328"/>
                  <a:pt x="80" y="323"/>
                  <a:pt x="82" y="316"/>
                </a:cubicBezTo>
                <a:cubicBezTo>
                  <a:pt x="83" y="314"/>
                  <a:pt x="84" y="312"/>
                  <a:pt x="85" y="310"/>
                </a:cubicBezTo>
                <a:cubicBezTo>
                  <a:pt x="87" y="305"/>
                  <a:pt x="87" y="304"/>
                  <a:pt x="87" y="303"/>
                </a:cubicBezTo>
                <a:cubicBezTo>
                  <a:pt x="87" y="302"/>
                  <a:pt x="87" y="302"/>
                  <a:pt x="87" y="302"/>
                </a:cubicBezTo>
                <a:cubicBezTo>
                  <a:pt x="87" y="302"/>
                  <a:pt x="87" y="302"/>
                  <a:pt x="87" y="302"/>
                </a:cubicBezTo>
                <a:cubicBezTo>
                  <a:pt x="87" y="301"/>
                  <a:pt x="86" y="300"/>
                  <a:pt x="83" y="298"/>
                </a:cubicBezTo>
                <a:cubicBezTo>
                  <a:pt x="83" y="296"/>
                  <a:pt x="83" y="296"/>
                  <a:pt x="83" y="296"/>
                </a:cubicBezTo>
                <a:cubicBezTo>
                  <a:pt x="82" y="296"/>
                  <a:pt x="82" y="296"/>
                  <a:pt x="82" y="296"/>
                </a:cubicBezTo>
                <a:cubicBezTo>
                  <a:pt x="79" y="294"/>
                  <a:pt x="78" y="293"/>
                  <a:pt x="77" y="294"/>
                </a:cubicBezTo>
                <a:cubicBezTo>
                  <a:pt x="76" y="294"/>
                  <a:pt x="75" y="294"/>
                  <a:pt x="70" y="297"/>
                </a:cubicBezTo>
                <a:cubicBezTo>
                  <a:pt x="68" y="298"/>
                  <a:pt x="66" y="299"/>
                  <a:pt x="63" y="301"/>
                </a:cubicBezTo>
                <a:cubicBezTo>
                  <a:pt x="57" y="304"/>
                  <a:pt x="53" y="306"/>
                  <a:pt x="52" y="307"/>
                </a:cubicBezTo>
                <a:cubicBezTo>
                  <a:pt x="50" y="306"/>
                  <a:pt x="47" y="303"/>
                  <a:pt x="47" y="302"/>
                </a:cubicBezTo>
                <a:cubicBezTo>
                  <a:pt x="47" y="301"/>
                  <a:pt x="50" y="296"/>
                  <a:pt x="54" y="290"/>
                </a:cubicBezTo>
                <a:cubicBezTo>
                  <a:pt x="55" y="288"/>
                  <a:pt x="56" y="286"/>
                  <a:pt x="58" y="285"/>
                </a:cubicBezTo>
                <a:cubicBezTo>
                  <a:pt x="61" y="279"/>
                  <a:pt x="62" y="279"/>
                  <a:pt x="62" y="277"/>
                </a:cubicBezTo>
                <a:cubicBezTo>
                  <a:pt x="62" y="276"/>
                  <a:pt x="61" y="275"/>
                  <a:pt x="59" y="272"/>
                </a:cubicBezTo>
                <a:cubicBezTo>
                  <a:pt x="59" y="270"/>
                  <a:pt x="59" y="270"/>
                  <a:pt x="59" y="270"/>
                </a:cubicBezTo>
                <a:cubicBezTo>
                  <a:pt x="58" y="270"/>
                  <a:pt x="58" y="270"/>
                  <a:pt x="58" y="270"/>
                </a:cubicBezTo>
                <a:cubicBezTo>
                  <a:pt x="56" y="267"/>
                  <a:pt x="54" y="267"/>
                  <a:pt x="53" y="267"/>
                </a:cubicBezTo>
                <a:cubicBezTo>
                  <a:pt x="53" y="267"/>
                  <a:pt x="52" y="267"/>
                  <a:pt x="46" y="268"/>
                </a:cubicBezTo>
                <a:cubicBezTo>
                  <a:pt x="44" y="269"/>
                  <a:pt x="41" y="270"/>
                  <a:pt x="39" y="271"/>
                </a:cubicBezTo>
                <a:cubicBezTo>
                  <a:pt x="32" y="273"/>
                  <a:pt x="27" y="274"/>
                  <a:pt x="26" y="274"/>
                </a:cubicBezTo>
                <a:cubicBezTo>
                  <a:pt x="25" y="273"/>
                  <a:pt x="23" y="269"/>
                  <a:pt x="23" y="268"/>
                </a:cubicBezTo>
                <a:cubicBezTo>
                  <a:pt x="23" y="267"/>
                  <a:pt x="26" y="263"/>
                  <a:pt x="32" y="258"/>
                </a:cubicBezTo>
                <a:cubicBezTo>
                  <a:pt x="34" y="257"/>
                  <a:pt x="35" y="255"/>
                  <a:pt x="37" y="254"/>
                </a:cubicBezTo>
                <a:cubicBezTo>
                  <a:pt x="42" y="249"/>
                  <a:pt x="42" y="249"/>
                  <a:pt x="43" y="248"/>
                </a:cubicBezTo>
                <a:cubicBezTo>
                  <a:pt x="43" y="247"/>
                  <a:pt x="43" y="247"/>
                  <a:pt x="43" y="247"/>
                </a:cubicBezTo>
                <a:cubicBezTo>
                  <a:pt x="43" y="246"/>
                  <a:pt x="42" y="244"/>
                  <a:pt x="41" y="242"/>
                </a:cubicBezTo>
                <a:cubicBezTo>
                  <a:pt x="41" y="240"/>
                  <a:pt x="41" y="240"/>
                  <a:pt x="41" y="240"/>
                </a:cubicBezTo>
                <a:cubicBezTo>
                  <a:pt x="40" y="240"/>
                  <a:pt x="40" y="240"/>
                  <a:pt x="40" y="240"/>
                </a:cubicBezTo>
                <a:cubicBezTo>
                  <a:pt x="39" y="237"/>
                  <a:pt x="38" y="236"/>
                  <a:pt x="37" y="235"/>
                </a:cubicBezTo>
                <a:cubicBezTo>
                  <a:pt x="36" y="235"/>
                  <a:pt x="35" y="235"/>
                  <a:pt x="30" y="235"/>
                </a:cubicBezTo>
                <a:cubicBezTo>
                  <a:pt x="27" y="235"/>
                  <a:pt x="25" y="236"/>
                  <a:pt x="22" y="236"/>
                </a:cubicBezTo>
                <a:cubicBezTo>
                  <a:pt x="15" y="236"/>
                  <a:pt x="10" y="236"/>
                  <a:pt x="9" y="236"/>
                </a:cubicBezTo>
                <a:cubicBezTo>
                  <a:pt x="8" y="235"/>
                  <a:pt x="7" y="232"/>
                  <a:pt x="7" y="230"/>
                </a:cubicBezTo>
                <a:cubicBezTo>
                  <a:pt x="7" y="229"/>
                  <a:pt x="7" y="229"/>
                  <a:pt x="7" y="229"/>
                </a:cubicBezTo>
                <a:cubicBezTo>
                  <a:pt x="8" y="228"/>
                  <a:pt x="11" y="226"/>
                  <a:pt x="18" y="222"/>
                </a:cubicBezTo>
                <a:cubicBezTo>
                  <a:pt x="20" y="221"/>
                  <a:pt x="22" y="220"/>
                  <a:pt x="24" y="219"/>
                </a:cubicBezTo>
                <a:cubicBezTo>
                  <a:pt x="30" y="216"/>
                  <a:pt x="30" y="215"/>
                  <a:pt x="31" y="214"/>
                </a:cubicBezTo>
                <a:cubicBezTo>
                  <a:pt x="31" y="214"/>
                  <a:pt x="31" y="213"/>
                  <a:pt x="31" y="212"/>
                </a:cubicBezTo>
                <a:cubicBezTo>
                  <a:pt x="31" y="211"/>
                  <a:pt x="31" y="209"/>
                  <a:pt x="30" y="208"/>
                </a:cubicBezTo>
                <a:cubicBezTo>
                  <a:pt x="31" y="206"/>
                  <a:pt x="31" y="206"/>
                  <a:pt x="31" y="206"/>
                </a:cubicBezTo>
                <a:cubicBezTo>
                  <a:pt x="30" y="206"/>
                  <a:pt x="30" y="206"/>
                  <a:pt x="30" y="206"/>
                </a:cubicBezTo>
                <a:cubicBezTo>
                  <a:pt x="30" y="203"/>
                  <a:pt x="29" y="201"/>
                  <a:pt x="28" y="201"/>
                </a:cubicBezTo>
                <a:cubicBezTo>
                  <a:pt x="27" y="200"/>
                  <a:pt x="27" y="200"/>
                  <a:pt x="21" y="199"/>
                </a:cubicBezTo>
                <a:cubicBezTo>
                  <a:pt x="19" y="199"/>
                  <a:pt x="16" y="198"/>
                  <a:pt x="13" y="198"/>
                </a:cubicBezTo>
                <a:cubicBezTo>
                  <a:pt x="6" y="196"/>
                  <a:pt x="2" y="195"/>
                  <a:pt x="1" y="195"/>
                </a:cubicBezTo>
                <a:cubicBezTo>
                  <a:pt x="0" y="194"/>
                  <a:pt x="0" y="192"/>
                  <a:pt x="0" y="190"/>
                </a:cubicBezTo>
                <a:close/>
                <a:moveTo>
                  <a:pt x="288" y="180"/>
                </a:moveTo>
                <a:cubicBezTo>
                  <a:pt x="288" y="120"/>
                  <a:pt x="239" y="71"/>
                  <a:pt x="179" y="71"/>
                </a:cubicBezTo>
                <a:cubicBezTo>
                  <a:pt x="120" y="72"/>
                  <a:pt x="71" y="121"/>
                  <a:pt x="71" y="180"/>
                </a:cubicBezTo>
                <a:cubicBezTo>
                  <a:pt x="71" y="240"/>
                  <a:pt x="120" y="289"/>
                  <a:pt x="180" y="289"/>
                </a:cubicBezTo>
                <a:cubicBezTo>
                  <a:pt x="240" y="288"/>
                  <a:pt x="289" y="239"/>
                  <a:pt x="288" y="18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635360" y="3060720"/>
            <a:ext cx="1546200" cy="1544760"/>
          </a:xfrm>
          <a:custGeom>
            <a:avLst/>
            <a:gdLst>
              <a:gd name="textAreaLeft" fmla="*/ 0 w 1546200"/>
              <a:gd name="textAreaRight" fmla="*/ 1546560 w 154620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314" h="314">
                <a:moveTo>
                  <a:pt x="0" y="165"/>
                </a:moveTo>
                <a:cubicBezTo>
                  <a:pt x="0" y="164"/>
                  <a:pt x="0" y="163"/>
                  <a:pt x="0" y="163"/>
                </a:cubicBezTo>
                <a:cubicBezTo>
                  <a:pt x="1" y="162"/>
                  <a:pt x="5" y="161"/>
                  <a:pt x="11" y="159"/>
                </a:cubicBezTo>
                <a:cubicBezTo>
                  <a:pt x="13" y="159"/>
                  <a:pt x="15" y="158"/>
                  <a:pt x="17" y="157"/>
                </a:cubicBezTo>
                <a:cubicBezTo>
                  <a:pt x="22" y="156"/>
                  <a:pt x="23" y="156"/>
                  <a:pt x="24" y="155"/>
                </a:cubicBezTo>
                <a:cubicBezTo>
                  <a:pt x="24" y="154"/>
                  <a:pt x="25" y="153"/>
                  <a:pt x="25" y="150"/>
                </a:cubicBezTo>
                <a:cubicBezTo>
                  <a:pt x="25" y="149"/>
                  <a:pt x="25" y="149"/>
                  <a:pt x="25" y="149"/>
                </a:cubicBezTo>
                <a:cubicBezTo>
                  <a:pt x="25" y="149"/>
                  <a:pt x="25" y="149"/>
                  <a:pt x="25" y="149"/>
                </a:cubicBezTo>
                <a:cubicBezTo>
                  <a:pt x="25" y="149"/>
                  <a:pt x="25" y="148"/>
                  <a:pt x="25" y="146"/>
                </a:cubicBezTo>
                <a:cubicBezTo>
                  <a:pt x="25" y="145"/>
                  <a:pt x="25" y="144"/>
                  <a:pt x="24" y="143"/>
                </a:cubicBezTo>
                <a:cubicBezTo>
                  <a:pt x="24" y="143"/>
                  <a:pt x="23" y="142"/>
                  <a:pt x="18" y="140"/>
                </a:cubicBezTo>
                <a:cubicBezTo>
                  <a:pt x="17" y="140"/>
                  <a:pt x="14" y="139"/>
                  <a:pt x="12" y="138"/>
                </a:cubicBezTo>
                <a:cubicBezTo>
                  <a:pt x="7" y="135"/>
                  <a:pt x="3" y="133"/>
                  <a:pt x="2" y="132"/>
                </a:cubicBezTo>
                <a:cubicBezTo>
                  <a:pt x="2" y="132"/>
                  <a:pt x="2" y="132"/>
                  <a:pt x="2" y="131"/>
                </a:cubicBezTo>
                <a:cubicBezTo>
                  <a:pt x="2" y="129"/>
                  <a:pt x="3" y="127"/>
                  <a:pt x="3" y="127"/>
                </a:cubicBezTo>
                <a:cubicBezTo>
                  <a:pt x="4" y="126"/>
                  <a:pt x="8" y="126"/>
                  <a:pt x="15" y="125"/>
                </a:cubicBezTo>
                <a:cubicBezTo>
                  <a:pt x="17" y="125"/>
                  <a:pt x="19" y="125"/>
                  <a:pt x="21" y="125"/>
                </a:cubicBezTo>
                <a:cubicBezTo>
                  <a:pt x="26" y="125"/>
                  <a:pt x="27" y="125"/>
                  <a:pt x="28" y="124"/>
                </a:cubicBezTo>
                <a:cubicBezTo>
                  <a:pt x="28" y="124"/>
                  <a:pt x="29" y="123"/>
                  <a:pt x="30" y="120"/>
                </a:cubicBezTo>
                <a:cubicBezTo>
                  <a:pt x="30" y="119"/>
                  <a:pt x="30" y="119"/>
                  <a:pt x="30" y="119"/>
                </a:cubicBezTo>
                <a:cubicBezTo>
                  <a:pt x="30" y="119"/>
                  <a:pt x="30" y="119"/>
                  <a:pt x="30" y="119"/>
                </a:cubicBezTo>
                <a:cubicBezTo>
                  <a:pt x="31" y="117"/>
                  <a:pt x="31" y="116"/>
                  <a:pt x="31" y="115"/>
                </a:cubicBezTo>
                <a:cubicBezTo>
                  <a:pt x="31" y="114"/>
                  <a:pt x="31" y="113"/>
                  <a:pt x="31" y="113"/>
                </a:cubicBezTo>
                <a:cubicBezTo>
                  <a:pt x="31" y="112"/>
                  <a:pt x="30" y="112"/>
                  <a:pt x="26" y="109"/>
                </a:cubicBezTo>
                <a:cubicBezTo>
                  <a:pt x="24" y="108"/>
                  <a:pt x="22" y="106"/>
                  <a:pt x="21" y="105"/>
                </a:cubicBezTo>
                <a:cubicBezTo>
                  <a:pt x="16" y="101"/>
                  <a:pt x="13" y="98"/>
                  <a:pt x="12" y="97"/>
                </a:cubicBezTo>
                <a:cubicBezTo>
                  <a:pt x="12" y="96"/>
                  <a:pt x="13" y="93"/>
                  <a:pt x="14" y="92"/>
                </a:cubicBezTo>
                <a:cubicBezTo>
                  <a:pt x="15" y="92"/>
                  <a:pt x="19" y="92"/>
                  <a:pt x="26" y="93"/>
                </a:cubicBezTo>
                <a:cubicBezTo>
                  <a:pt x="28" y="94"/>
                  <a:pt x="30" y="94"/>
                  <a:pt x="32" y="95"/>
                </a:cubicBezTo>
                <a:cubicBezTo>
                  <a:pt x="37" y="96"/>
                  <a:pt x="38" y="96"/>
                  <a:pt x="39" y="95"/>
                </a:cubicBezTo>
                <a:cubicBezTo>
                  <a:pt x="39" y="95"/>
                  <a:pt x="40" y="95"/>
                  <a:pt x="42" y="91"/>
                </a:cubicBezTo>
                <a:cubicBezTo>
                  <a:pt x="42" y="91"/>
                  <a:pt x="42" y="91"/>
                  <a:pt x="42" y="91"/>
                </a:cubicBezTo>
                <a:cubicBezTo>
                  <a:pt x="42" y="90"/>
                  <a:pt x="42" y="90"/>
                  <a:pt x="42" y="90"/>
                </a:cubicBezTo>
                <a:cubicBezTo>
                  <a:pt x="45" y="88"/>
                  <a:pt x="45" y="86"/>
                  <a:pt x="45" y="86"/>
                </a:cubicBezTo>
                <a:cubicBezTo>
                  <a:pt x="45" y="86"/>
                  <a:pt x="45" y="85"/>
                  <a:pt x="44" y="85"/>
                </a:cubicBezTo>
                <a:cubicBezTo>
                  <a:pt x="44" y="84"/>
                  <a:pt x="44" y="84"/>
                  <a:pt x="41" y="80"/>
                </a:cubicBezTo>
                <a:cubicBezTo>
                  <a:pt x="39" y="78"/>
                  <a:pt x="38" y="77"/>
                  <a:pt x="36" y="75"/>
                </a:cubicBezTo>
                <a:cubicBezTo>
                  <a:pt x="32" y="70"/>
                  <a:pt x="30" y="66"/>
                  <a:pt x="30" y="65"/>
                </a:cubicBezTo>
                <a:cubicBezTo>
                  <a:pt x="30" y="64"/>
                  <a:pt x="32" y="61"/>
                  <a:pt x="33" y="61"/>
                </a:cubicBezTo>
                <a:cubicBezTo>
                  <a:pt x="34" y="61"/>
                  <a:pt x="38" y="62"/>
                  <a:pt x="44" y="65"/>
                </a:cubicBezTo>
                <a:cubicBezTo>
                  <a:pt x="46" y="66"/>
                  <a:pt x="48" y="67"/>
                  <a:pt x="49" y="67"/>
                </a:cubicBezTo>
                <a:cubicBezTo>
                  <a:pt x="54" y="70"/>
                  <a:pt x="55" y="70"/>
                  <a:pt x="56" y="70"/>
                </a:cubicBezTo>
                <a:cubicBezTo>
                  <a:pt x="57" y="70"/>
                  <a:pt x="58" y="69"/>
                  <a:pt x="60" y="67"/>
                </a:cubicBezTo>
                <a:cubicBezTo>
                  <a:pt x="61" y="66"/>
                  <a:pt x="61" y="66"/>
                  <a:pt x="61" y="66"/>
                </a:cubicBezTo>
                <a:cubicBezTo>
                  <a:pt x="61" y="66"/>
                  <a:pt x="61" y="66"/>
                  <a:pt x="61" y="66"/>
                </a:cubicBezTo>
                <a:cubicBezTo>
                  <a:pt x="63" y="64"/>
                  <a:pt x="64" y="62"/>
                  <a:pt x="64" y="61"/>
                </a:cubicBezTo>
                <a:cubicBezTo>
                  <a:pt x="64" y="60"/>
                  <a:pt x="64" y="60"/>
                  <a:pt x="62" y="55"/>
                </a:cubicBezTo>
                <a:cubicBezTo>
                  <a:pt x="61" y="54"/>
                  <a:pt x="60" y="51"/>
                  <a:pt x="59" y="49"/>
                </a:cubicBezTo>
                <a:cubicBezTo>
                  <a:pt x="56" y="43"/>
                  <a:pt x="54" y="40"/>
                  <a:pt x="54" y="39"/>
                </a:cubicBezTo>
                <a:cubicBezTo>
                  <a:pt x="55" y="37"/>
                  <a:pt x="57" y="35"/>
                  <a:pt x="59" y="35"/>
                </a:cubicBezTo>
                <a:cubicBezTo>
                  <a:pt x="59" y="35"/>
                  <a:pt x="63" y="37"/>
                  <a:pt x="68" y="41"/>
                </a:cubicBezTo>
                <a:cubicBezTo>
                  <a:pt x="70" y="43"/>
                  <a:pt x="71" y="44"/>
                  <a:pt x="73" y="45"/>
                </a:cubicBezTo>
                <a:cubicBezTo>
                  <a:pt x="77" y="48"/>
                  <a:pt x="78" y="49"/>
                  <a:pt x="79" y="49"/>
                </a:cubicBezTo>
                <a:cubicBezTo>
                  <a:pt x="80" y="49"/>
                  <a:pt x="81" y="49"/>
                  <a:pt x="84" y="47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6"/>
                  <a:pt x="85" y="46"/>
                  <a:pt x="85" y="46"/>
                </a:cubicBezTo>
                <a:cubicBezTo>
                  <a:pt x="88" y="44"/>
                  <a:pt x="88" y="43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8" y="39"/>
                  <a:pt x="88" y="36"/>
                </a:cubicBezTo>
                <a:cubicBezTo>
                  <a:pt x="87" y="34"/>
                  <a:pt x="87" y="32"/>
                  <a:pt x="86" y="29"/>
                </a:cubicBezTo>
                <a:cubicBezTo>
                  <a:pt x="85" y="24"/>
                  <a:pt x="84" y="20"/>
                  <a:pt x="84" y="18"/>
                </a:cubicBezTo>
                <a:cubicBezTo>
                  <a:pt x="84" y="18"/>
                  <a:pt x="84" y="18"/>
                  <a:pt x="84" y="18"/>
                </a:cubicBezTo>
                <a:cubicBezTo>
                  <a:pt x="85" y="17"/>
                  <a:pt x="88" y="15"/>
                  <a:pt x="89" y="15"/>
                </a:cubicBezTo>
                <a:cubicBezTo>
                  <a:pt x="90" y="16"/>
                  <a:pt x="93" y="19"/>
                  <a:pt x="97" y="24"/>
                </a:cubicBezTo>
                <a:cubicBezTo>
                  <a:pt x="99" y="26"/>
                  <a:pt x="100" y="27"/>
                  <a:pt x="101" y="29"/>
                </a:cubicBezTo>
                <a:cubicBezTo>
                  <a:pt x="104" y="33"/>
                  <a:pt x="105" y="34"/>
                  <a:pt x="106" y="34"/>
                </a:cubicBezTo>
                <a:cubicBezTo>
                  <a:pt x="107" y="34"/>
                  <a:pt x="108" y="34"/>
                  <a:pt x="111" y="33"/>
                </a:cubicBezTo>
                <a:cubicBezTo>
                  <a:pt x="113" y="33"/>
                  <a:pt x="113" y="33"/>
                  <a:pt x="113" y="33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5" y="32"/>
                  <a:pt x="116" y="31"/>
                  <a:pt x="117" y="30"/>
                </a:cubicBezTo>
                <a:cubicBezTo>
                  <a:pt x="117" y="29"/>
                  <a:pt x="117" y="28"/>
                  <a:pt x="117" y="25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17" y="20"/>
                  <a:pt x="117" y="18"/>
                  <a:pt x="117" y="16"/>
                </a:cubicBezTo>
                <a:cubicBezTo>
                  <a:pt x="117" y="10"/>
                  <a:pt x="118" y="6"/>
                  <a:pt x="118" y="5"/>
                </a:cubicBezTo>
                <a:cubicBezTo>
                  <a:pt x="119" y="4"/>
                  <a:pt x="123" y="3"/>
                  <a:pt x="124" y="4"/>
                </a:cubicBezTo>
                <a:cubicBezTo>
                  <a:pt x="125" y="4"/>
                  <a:pt x="127" y="8"/>
                  <a:pt x="129" y="14"/>
                </a:cubicBezTo>
                <a:cubicBezTo>
                  <a:pt x="130" y="16"/>
                  <a:pt x="131" y="18"/>
                  <a:pt x="132" y="19"/>
                </a:cubicBezTo>
                <a:cubicBezTo>
                  <a:pt x="134" y="24"/>
                  <a:pt x="135" y="25"/>
                  <a:pt x="136" y="25"/>
                </a:cubicBezTo>
                <a:cubicBezTo>
                  <a:pt x="136" y="26"/>
                  <a:pt x="138" y="26"/>
                  <a:pt x="141" y="26"/>
                </a:cubicBezTo>
                <a:cubicBezTo>
                  <a:pt x="141" y="26"/>
                  <a:pt x="141" y="26"/>
                  <a:pt x="141" y="26"/>
                </a:cubicBezTo>
                <a:cubicBezTo>
                  <a:pt x="142" y="25"/>
                  <a:pt x="142" y="25"/>
                  <a:pt x="142" y="25"/>
                </a:cubicBezTo>
                <a:cubicBezTo>
                  <a:pt x="146" y="25"/>
                  <a:pt x="147" y="24"/>
                  <a:pt x="147" y="24"/>
                </a:cubicBezTo>
                <a:cubicBezTo>
                  <a:pt x="148" y="23"/>
                  <a:pt x="148" y="22"/>
                  <a:pt x="149" y="18"/>
                </a:cubicBezTo>
                <a:cubicBezTo>
                  <a:pt x="150" y="16"/>
                  <a:pt x="150" y="14"/>
                  <a:pt x="151" y="11"/>
                </a:cubicBezTo>
                <a:cubicBezTo>
                  <a:pt x="152" y="5"/>
                  <a:pt x="154" y="1"/>
                  <a:pt x="154" y="0"/>
                </a:cubicBezTo>
                <a:cubicBezTo>
                  <a:pt x="155" y="0"/>
                  <a:pt x="159" y="0"/>
                  <a:pt x="160" y="0"/>
                </a:cubicBezTo>
                <a:cubicBezTo>
                  <a:pt x="161" y="1"/>
                  <a:pt x="162" y="5"/>
                  <a:pt x="163" y="11"/>
                </a:cubicBezTo>
                <a:cubicBezTo>
                  <a:pt x="164" y="13"/>
                  <a:pt x="164" y="15"/>
                  <a:pt x="165" y="17"/>
                </a:cubicBezTo>
                <a:cubicBezTo>
                  <a:pt x="166" y="23"/>
                  <a:pt x="166" y="23"/>
                  <a:pt x="167" y="24"/>
                </a:cubicBezTo>
                <a:cubicBezTo>
                  <a:pt x="167" y="25"/>
                  <a:pt x="168" y="25"/>
                  <a:pt x="172" y="25"/>
                </a:cubicBezTo>
                <a:cubicBezTo>
                  <a:pt x="172" y="26"/>
                  <a:pt x="172" y="26"/>
                  <a:pt x="172" y="26"/>
                </a:cubicBezTo>
                <a:cubicBezTo>
                  <a:pt x="173" y="26"/>
                  <a:pt x="173" y="26"/>
                  <a:pt x="173" y="26"/>
                </a:cubicBezTo>
                <a:cubicBezTo>
                  <a:pt x="176" y="26"/>
                  <a:pt x="178" y="26"/>
                  <a:pt x="178" y="25"/>
                </a:cubicBezTo>
                <a:cubicBezTo>
                  <a:pt x="179" y="25"/>
                  <a:pt x="179" y="24"/>
                  <a:pt x="182" y="20"/>
                </a:cubicBezTo>
                <a:cubicBezTo>
                  <a:pt x="182" y="18"/>
                  <a:pt x="183" y="16"/>
                  <a:pt x="185" y="14"/>
                </a:cubicBezTo>
                <a:cubicBezTo>
                  <a:pt x="188" y="8"/>
                  <a:pt x="190" y="5"/>
                  <a:pt x="190" y="4"/>
                </a:cubicBezTo>
                <a:cubicBezTo>
                  <a:pt x="192" y="4"/>
                  <a:pt x="195" y="4"/>
                  <a:pt x="196" y="5"/>
                </a:cubicBezTo>
                <a:cubicBezTo>
                  <a:pt x="196" y="6"/>
                  <a:pt x="197" y="9"/>
                  <a:pt x="197" y="15"/>
                </a:cubicBezTo>
                <a:cubicBezTo>
                  <a:pt x="197" y="15"/>
                  <a:pt x="197" y="16"/>
                  <a:pt x="197" y="17"/>
                </a:cubicBezTo>
                <a:cubicBezTo>
                  <a:pt x="197" y="19"/>
                  <a:pt x="197" y="21"/>
                  <a:pt x="197" y="23"/>
                </a:cubicBezTo>
                <a:cubicBezTo>
                  <a:pt x="197" y="24"/>
                  <a:pt x="196" y="26"/>
                  <a:pt x="196" y="27"/>
                </a:cubicBezTo>
                <a:cubicBezTo>
                  <a:pt x="196" y="29"/>
                  <a:pt x="197" y="29"/>
                  <a:pt x="197" y="30"/>
                </a:cubicBezTo>
                <a:cubicBezTo>
                  <a:pt x="197" y="31"/>
                  <a:pt x="198" y="31"/>
                  <a:pt x="202" y="32"/>
                </a:cubicBezTo>
                <a:cubicBezTo>
                  <a:pt x="203" y="34"/>
                  <a:pt x="203" y="34"/>
                  <a:pt x="203" y="34"/>
                </a:cubicBezTo>
                <a:cubicBezTo>
                  <a:pt x="203" y="33"/>
                  <a:pt x="203" y="33"/>
                  <a:pt x="203" y="33"/>
                </a:cubicBezTo>
                <a:cubicBezTo>
                  <a:pt x="206" y="34"/>
                  <a:pt x="207" y="34"/>
                  <a:pt x="208" y="34"/>
                </a:cubicBezTo>
                <a:cubicBezTo>
                  <a:pt x="209" y="33"/>
                  <a:pt x="209" y="33"/>
                  <a:pt x="212" y="29"/>
                </a:cubicBezTo>
                <a:cubicBezTo>
                  <a:pt x="214" y="28"/>
                  <a:pt x="215" y="26"/>
                  <a:pt x="217" y="24"/>
                </a:cubicBezTo>
                <a:cubicBezTo>
                  <a:pt x="221" y="19"/>
                  <a:pt x="224" y="16"/>
                  <a:pt x="225" y="16"/>
                </a:cubicBezTo>
                <a:cubicBezTo>
                  <a:pt x="226" y="16"/>
                  <a:pt x="229" y="17"/>
                  <a:pt x="230" y="18"/>
                </a:cubicBezTo>
                <a:cubicBezTo>
                  <a:pt x="230" y="20"/>
                  <a:pt x="229" y="24"/>
                  <a:pt x="228" y="30"/>
                </a:cubicBezTo>
                <a:cubicBezTo>
                  <a:pt x="227" y="32"/>
                  <a:pt x="227" y="34"/>
                  <a:pt x="226" y="36"/>
                </a:cubicBezTo>
                <a:cubicBezTo>
                  <a:pt x="225" y="39"/>
                  <a:pt x="225" y="41"/>
                  <a:pt x="225" y="42"/>
                </a:cubicBezTo>
                <a:cubicBezTo>
                  <a:pt x="225" y="42"/>
                  <a:pt x="225" y="42"/>
                  <a:pt x="225" y="42"/>
                </a:cubicBezTo>
                <a:cubicBezTo>
                  <a:pt x="225" y="43"/>
                  <a:pt x="225" y="43"/>
                  <a:pt x="225" y="43"/>
                </a:cubicBezTo>
                <a:cubicBezTo>
                  <a:pt x="225" y="43"/>
                  <a:pt x="226" y="44"/>
                  <a:pt x="229" y="46"/>
                </a:cubicBezTo>
                <a:cubicBezTo>
                  <a:pt x="230" y="47"/>
                  <a:pt x="230" y="47"/>
                  <a:pt x="230" y="47"/>
                </a:cubicBezTo>
                <a:cubicBezTo>
                  <a:pt x="230" y="47"/>
                  <a:pt x="230" y="47"/>
                  <a:pt x="230" y="47"/>
                </a:cubicBezTo>
                <a:cubicBezTo>
                  <a:pt x="233" y="49"/>
                  <a:pt x="234" y="49"/>
                  <a:pt x="235" y="49"/>
                </a:cubicBezTo>
                <a:cubicBezTo>
                  <a:pt x="236" y="49"/>
                  <a:pt x="237" y="48"/>
                  <a:pt x="240" y="45"/>
                </a:cubicBezTo>
                <a:cubicBezTo>
                  <a:pt x="242" y="44"/>
                  <a:pt x="244" y="43"/>
                  <a:pt x="246" y="41"/>
                </a:cubicBezTo>
                <a:cubicBezTo>
                  <a:pt x="251" y="38"/>
                  <a:pt x="255" y="36"/>
                  <a:pt x="256" y="35"/>
                </a:cubicBezTo>
                <a:cubicBezTo>
                  <a:pt x="257" y="36"/>
                  <a:pt x="260" y="38"/>
                  <a:pt x="260" y="39"/>
                </a:cubicBezTo>
                <a:cubicBezTo>
                  <a:pt x="260" y="40"/>
                  <a:pt x="258" y="44"/>
                  <a:pt x="255" y="49"/>
                </a:cubicBezTo>
                <a:cubicBezTo>
                  <a:pt x="254" y="51"/>
                  <a:pt x="253" y="53"/>
                  <a:pt x="253" y="55"/>
                </a:cubicBezTo>
                <a:cubicBezTo>
                  <a:pt x="250" y="59"/>
                  <a:pt x="250" y="60"/>
                  <a:pt x="250" y="61"/>
                </a:cubicBezTo>
                <a:cubicBezTo>
                  <a:pt x="250" y="61"/>
                  <a:pt x="250" y="61"/>
                  <a:pt x="250" y="61"/>
                </a:cubicBezTo>
                <a:cubicBezTo>
                  <a:pt x="250" y="61"/>
                  <a:pt x="250" y="61"/>
                  <a:pt x="250" y="61"/>
                </a:cubicBezTo>
                <a:cubicBezTo>
                  <a:pt x="250" y="62"/>
                  <a:pt x="251" y="64"/>
                  <a:pt x="253" y="66"/>
                </a:cubicBezTo>
                <a:cubicBezTo>
                  <a:pt x="253" y="68"/>
                  <a:pt x="253" y="68"/>
                  <a:pt x="253" y="68"/>
                </a:cubicBezTo>
                <a:cubicBezTo>
                  <a:pt x="254" y="67"/>
                  <a:pt x="254" y="67"/>
                  <a:pt x="254" y="67"/>
                </a:cubicBezTo>
                <a:cubicBezTo>
                  <a:pt x="256" y="69"/>
                  <a:pt x="257" y="70"/>
                  <a:pt x="258" y="70"/>
                </a:cubicBezTo>
                <a:cubicBezTo>
                  <a:pt x="259" y="70"/>
                  <a:pt x="259" y="70"/>
                  <a:pt x="264" y="68"/>
                </a:cubicBezTo>
                <a:cubicBezTo>
                  <a:pt x="266" y="67"/>
                  <a:pt x="268" y="66"/>
                  <a:pt x="270" y="65"/>
                </a:cubicBezTo>
                <a:cubicBezTo>
                  <a:pt x="276" y="63"/>
                  <a:pt x="280" y="61"/>
                  <a:pt x="281" y="61"/>
                </a:cubicBezTo>
                <a:cubicBezTo>
                  <a:pt x="282" y="62"/>
                  <a:pt x="284" y="65"/>
                  <a:pt x="285" y="66"/>
                </a:cubicBezTo>
                <a:cubicBezTo>
                  <a:pt x="284" y="67"/>
                  <a:pt x="282" y="70"/>
                  <a:pt x="278" y="75"/>
                </a:cubicBezTo>
                <a:cubicBezTo>
                  <a:pt x="276" y="77"/>
                  <a:pt x="275" y="78"/>
                  <a:pt x="274" y="80"/>
                </a:cubicBezTo>
                <a:cubicBezTo>
                  <a:pt x="270" y="84"/>
                  <a:pt x="269" y="84"/>
                  <a:pt x="269" y="85"/>
                </a:cubicBezTo>
                <a:cubicBezTo>
                  <a:pt x="269" y="86"/>
                  <a:pt x="269" y="86"/>
                  <a:pt x="269" y="86"/>
                </a:cubicBezTo>
                <a:cubicBezTo>
                  <a:pt x="269" y="87"/>
                  <a:pt x="270" y="88"/>
                  <a:pt x="271" y="90"/>
                </a:cubicBezTo>
                <a:cubicBezTo>
                  <a:pt x="271" y="92"/>
                  <a:pt x="271" y="92"/>
                  <a:pt x="271" y="92"/>
                </a:cubicBezTo>
                <a:cubicBezTo>
                  <a:pt x="272" y="92"/>
                  <a:pt x="272" y="92"/>
                  <a:pt x="272" y="92"/>
                </a:cubicBezTo>
                <a:cubicBezTo>
                  <a:pt x="274" y="95"/>
                  <a:pt x="275" y="95"/>
                  <a:pt x="275" y="96"/>
                </a:cubicBezTo>
                <a:cubicBezTo>
                  <a:pt x="276" y="96"/>
                  <a:pt x="277" y="96"/>
                  <a:pt x="282" y="95"/>
                </a:cubicBezTo>
                <a:cubicBezTo>
                  <a:pt x="284" y="94"/>
                  <a:pt x="286" y="94"/>
                  <a:pt x="288" y="94"/>
                </a:cubicBezTo>
                <a:cubicBezTo>
                  <a:pt x="295" y="93"/>
                  <a:pt x="299" y="92"/>
                  <a:pt x="300" y="92"/>
                </a:cubicBezTo>
                <a:cubicBezTo>
                  <a:pt x="301" y="93"/>
                  <a:pt x="302" y="96"/>
                  <a:pt x="302" y="98"/>
                </a:cubicBezTo>
                <a:cubicBezTo>
                  <a:pt x="302" y="98"/>
                  <a:pt x="302" y="98"/>
                  <a:pt x="302" y="98"/>
                </a:cubicBezTo>
                <a:cubicBezTo>
                  <a:pt x="301" y="99"/>
                  <a:pt x="298" y="101"/>
                  <a:pt x="293" y="105"/>
                </a:cubicBezTo>
                <a:cubicBezTo>
                  <a:pt x="292" y="106"/>
                  <a:pt x="290" y="108"/>
                  <a:pt x="288" y="109"/>
                </a:cubicBezTo>
                <a:cubicBezTo>
                  <a:pt x="284" y="112"/>
                  <a:pt x="283" y="112"/>
                  <a:pt x="283" y="113"/>
                </a:cubicBezTo>
                <a:cubicBezTo>
                  <a:pt x="283" y="113"/>
                  <a:pt x="283" y="114"/>
                  <a:pt x="283" y="114"/>
                </a:cubicBezTo>
                <a:cubicBezTo>
                  <a:pt x="283" y="115"/>
                  <a:pt x="283" y="117"/>
                  <a:pt x="284" y="118"/>
                </a:cubicBezTo>
                <a:cubicBezTo>
                  <a:pt x="283" y="120"/>
                  <a:pt x="283" y="120"/>
                  <a:pt x="283" y="120"/>
                </a:cubicBezTo>
                <a:cubicBezTo>
                  <a:pt x="284" y="120"/>
                  <a:pt x="284" y="120"/>
                  <a:pt x="284" y="120"/>
                </a:cubicBezTo>
                <a:cubicBezTo>
                  <a:pt x="285" y="123"/>
                  <a:pt x="286" y="124"/>
                  <a:pt x="286" y="124"/>
                </a:cubicBezTo>
                <a:cubicBezTo>
                  <a:pt x="287" y="125"/>
                  <a:pt x="288" y="125"/>
                  <a:pt x="293" y="125"/>
                </a:cubicBezTo>
                <a:cubicBezTo>
                  <a:pt x="295" y="125"/>
                  <a:pt x="297" y="125"/>
                  <a:pt x="299" y="126"/>
                </a:cubicBezTo>
                <a:cubicBezTo>
                  <a:pt x="306" y="126"/>
                  <a:pt x="310" y="127"/>
                  <a:pt x="311" y="127"/>
                </a:cubicBezTo>
                <a:cubicBezTo>
                  <a:pt x="311" y="128"/>
                  <a:pt x="312" y="130"/>
                  <a:pt x="312" y="132"/>
                </a:cubicBezTo>
                <a:cubicBezTo>
                  <a:pt x="312" y="132"/>
                  <a:pt x="312" y="133"/>
                  <a:pt x="312" y="133"/>
                </a:cubicBezTo>
                <a:cubicBezTo>
                  <a:pt x="311" y="134"/>
                  <a:pt x="307" y="135"/>
                  <a:pt x="301" y="138"/>
                </a:cubicBezTo>
                <a:cubicBezTo>
                  <a:pt x="300" y="139"/>
                  <a:pt x="298" y="139"/>
                  <a:pt x="296" y="140"/>
                </a:cubicBezTo>
                <a:cubicBezTo>
                  <a:pt x="291" y="142"/>
                  <a:pt x="290" y="143"/>
                  <a:pt x="289" y="143"/>
                </a:cubicBezTo>
                <a:cubicBezTo>
                  <a:pt x="289" y="144"/>
                  <a:pt x="289" y="145"/>
                  <a:pt x="289" y="146"/>
                </a:cubicBezTo>
                <a:cubicBezTo>
                  <a:pt x="289" y="147"/>
                  <a:pt x="289" y="148"/>
                  <a:pt x="289" y="149"/>
                </a:cubicBezTo>
                <a:cubicBezTo>
                  <a:pt x="288" y="150"/>
                  <a:pt x="288" y="150"/>
                  <a:pt x="288" y="150"/>
                </a:cubicBezTo>
                <a:cubicBezTo>
                  <a:pt x="289" y="151"/>
                  <a:pt x="289" y="151"/>
                  <a:pt x="289" y="151"/>
                </a:cubicBezTo>
                <a:cubicBezTo>
                  <a:pt x="289" y="153"/>
                  <a:pt x="289" y="154"/>
                  <a:pt x="290" y="155"/>
                </a:cubicBezTo>
                <a:cubicBezTo>
                  <a:pt x="291" y="156"/>
                  <a:pt x="292" y="156"/>
                  <a:pt x="296" y="157"/>
                </a:cubicBezTo>
                <a:cubicBezTo>
                  <a:pt x="298" y="158"/>
                  <a:pt x="301" y="159"/>
                  <a:pt x="303" y="159"/>
                </a:cubicBezTo>
                <a:cubicBezTo>
                  <a:pt x="309" y="161"/>
                  <a:pt x="313" y="163"/>
                  <a:pt x="314" y="163"/>
                </a:cubicBezTo>
                <a:cubicBezTo>
                  <a:pt x="314" y="164"/>
                  <a:pt x="314" y="165"/>
                  <a:pt x="314" y="166"/>
                </a:cubicBezTo>
                <a:cubicBezTo>
                  <a:pt x="314" y="168"/>
                  <a:pt x="314" y="169"/>
                  <a:pt x="313" y="169"/>
                </a:cubicBezTo>
                <a:cubicBezTo>
                  <a:pt x="312" y="170"/>
                  <a:pt x="308" y="171"/>
                  <a:pt x="302" y="172"/>
                </a:cubicBezTo>
                <a:cubicBezTo>
                  <a:pt x="300" y="172"/>
                  <a:pt x="298" y="172"/>
                  <a:pt x="296" y="173"/>
                </a:cubicBezTo>
                <a:cubicBezTo>
                  <a:pt x="290" y="174"/>
                  <a:pt x="290" y="174"/>
                  <a:pt x="289" y="174"/>
                </a:cubicBezTo>
                <a:cubicBezTo>
                  <a:pt x="288" y="175"/>
                  <a:pt x="288" y="176"/>
                  <a:pt x="287" y="179"/>
                </a:cubicBezTo>
                <a:cubicBezTo>
                  <a:pt x="287" y="179"/>
                  <a:pt x="287" y="179"/>
                  <a:pt x="287" y="179"/>
                </a:cubicBezTo>
                <a:cubicBezTo>
                  <a:pt x="287" y="180"/>
                  <a:pt x="287" y="180"/>
                  <a:pt x="287" y="180"/>
                </a:cubicBezTo>
                <a:cubicBezTo>
                  <a:pt x="287" y="182"/>
                  <a:pt x="287" y="183"/>
                  <a:pt x="287" y="184"/>
                </a:cubicBezTo>
                <a:cubicBezTo>
                  <a:pt x="287" y="185"/>
                  <a:pt x="287" y="185"/>
                  <a:pt x="287" y="186"/>
                </a:cubicBezTo>
                <a:cubicBezTo>
                  <a:pt x="288" y="187"/>
                  <a:pt x="288" y="187"/>
                  <a:pt x="292" y="189"/>
                </a:cubicBezTo>
                <a:cubicBezTo>
                  <a:pt x="294" y="190"/>
                  <a:pt x="296" y="192"/>
                  <a:pt x="298" y="193"/>
                </a:cubicBezTo>
                <a:cubicBezTo>
                  <a:pt x="304" y="196"/>
                  <a:pt x="307" y="199"/>
                  <a:pt x="308" y="199"/>
                </a:cubicBezTo>
                <a:cubicBezTo>
                  <a:pt x="308" y="199"/>
                  <a:pt x="308" y="200"/>
                  <a:pt x="308" y="200"/>
                </a:cubicBezTo>
                <a:cubicBezTo>
                  <a:pt x="308" y="202"/>
                  <a:pt x="307" y="204"/>
                  <a:pt x="306" y="205"/>
                </a:cubicBezTo>
                <a:cubicBezTo>
                  <a:pt x="305" y="205"/>
                  <a:pt x="301" y="205"/>
                  <a:pt x="295" y="205"/>
                </a:cubicBezTo>
                <a:cubicBezTo>
                  <a:pt x="293" y="205"/>
                  <a:pt x="290" y="204"/>
                  <a:pt x="289" y="204"/>
                </a:cubicBezTo>
                <a:cubicBezTo>
                  <a:pt x="283" y="204"/>
                  <a:pt x="282" y="204"/>
                  <a:pt x="281" y="204"/>
                </a:cubicBezTo>
                <a:cubicBezTo>
                  <a:pt x="281" y="205"/>
                  <a:pt x="280" y="206"/>
                  <a:pt x="279" y="209"/>
                </a:cubicBezTo>
                <a:cubicBezTo>
                  <a:pt x="278" y="209"/>
                  <a:pt x="278" y="209"/>
                  <a:pt x="278" y="209"/>
                </a:cubicBezTo>
                <a:cubicBezTo>
                  <a:pt x="278" y="210"/>
                  <a:pt x="278" y="210"/>
                  <a:pt x="278" y="210"/>
                </a:cubicBezTo>
                <a:cubicBezTo>
                  <a:pt x="277" y="212"/>
                  <a:pt x="277" y="213"/>
                  <a:pt x="277" y="214"/>
                </a:cubicBezTo>
                <a:cubicBezTo>
                  <a:pt x="277" y="215"/>
                  <a:pt x="277" y="215"/>
                  <a:pt x="277" y="215"/>
                </a:cubicBezTo>
                <a:cubicBezTo>
                  <a:pt x="277" y="216"/>
                  <a:pt x="278" y="217"/>
                  <a:pt x="281" y="220"/>
                </a:cubicBezTo>
                <a:cubicBezTo>
                  <a:pt x="283" y="221"/>
                  <a:pt x="285" y="223"/>
                  <a:pt x="286" y="225"/>
                </a:cubicBezTo>
                <a:cubicBezTo>
                  <a:pt x="291" y="229"/>
                  <a:pt x="293" y="232"/>
                  <a:pt x="294" y="233"/>
                </a:cubicBezTo>
                <a:cubicBezTo>
                  <a:pt x="294" y="234"/>
                  <a:pt x="292" y="238"/>
                  <a:pt x="291" y="238"/>
                </a:cubicBezTo>
                <a:cubicBezTo>
                  <a:pt x="290" y="238"/>
                  <a:pt x="286" y="237"/>
                  <a:pt x="280" y="235"/>
                </a:cubicBezTo>
                <a:cubicBezTo>
                  <a:pt x="278" y="235"/>
                  <a:pt x="276" y="234"/>
                  <a:pt x="274" y="233"/>
                </a:cubicBezTo>
                <a:cubicBezTo>
                  <a:pt x="269" y="232"/>
                  <a:pt x="268" y="231"/>
                  <a:pt x="267" y="232"/>
                </a:cubicBezTo>
                <a:cubicBezTo>
                  <a:pt x="266" y="232"/>
                  <a:pt x="265" y="233"/>
                  <a:pt x="263" y="236"/>
                </a:cubicBezTo>
                <a:cubicBezTo>
                  <a:pt x="263" y="236"/>
                  <a:pt x="263" y="236"/>
                  <a:pt x="263" y="236"/>
                </a:cubicBezTo>
                <a:cubicBezTo>
                  <a:pt x="263" y="236"/>
                  <a:pt x="263" y="236"/>
                  <a:pt x="263" y="236"/>
                </a:cubicBezTo>
                <a:cubicBezTo>
                  <a:pt x="260" y="239"/>
                  <a:pt x="260" y="241"/>
                  <a:pt x="260" y="241"/>
                </a:cubicBezTo>
                <a:cubicBezTo>
                  <a:pt x="260" y="241"/>
                  <a:pt x="260" y="241"/>
                  <a:pt x="260" y="241"/>
                </a:cubicBezTo>
                <a:cubicBezTo>
                  <a:pt x="260" y="242"/>
                  <a:pt x="261" y="243"/>
                  <a:pt x="263" y="247"/>
                </a:cubicBezTo>
                <a:cubicBezTo>
                  <a:pt x="265" y="249"/>
                  <a:pt x="266" y="251"/>
                  <a:pt x="267" y="253"/>
                </a:cubicBezTo>
                <a:cubicBezTo>
                  <a:pt x="270" y="258"/>
                  <a:pt x="272" y="262"/>
                  <a:pt x="273" y="263"/>
                </a:cubicBezTo>
                <a:cubicBezTo>
                  <a:pt x="272" y="264"/>
                  <a:pt x="270" y="267"/>
                  <a:pt x="269" y="267"/>
                </a:cubicBezTo>
                <a:cubicBezTo>
                  <a:pt x="268" y="267"/>
                  <a:pt x="264" y="265"/>
                  <a:pt x="259" y="262"/>
                </a:cubicBezTo>
                <a:cubicBezTo>
                  <a:pt x="257" y="260"/>
                  <a:pt x="255" y="259"/>
                  <a:pt x="253" y="258"/>
                </a:cubicBezTo>
                <a:cubicBezTo>
                  <a:pt x="249" y="255"/>
                  <a:pt x="248" y="255"/>
                  <a:pt x="247" y="255"/>
                </a:cubicBezTo>
                <a:cubicBezTo>
                  <a:pt x="246" y="255"/>
                  <a:pt x="245" y="256"/>
                  <a:pt x="242" y="258"/>
                </a:cubicBezTo>
                <a:cubicBezTo>
                  <a:pt x="241" y="258"/>
                  <a:pt x="241" y="258"/>
                  <a:pt x="241" y="258"/>
                </a:cubicBezTo>
                <a:cubicBezTo>
                  <a:pt x="241" y="259"/>
                  <a:pt x="241" y="259"/>
                  <a:pt x="241" y="259"/>
                </a:cubicBezTo>
                <a:cubicBezTo>
                  <a:pt x="239" y="261"/>
                  <a:pt x="238" y="262"/>
                  <a:pt x="238" y="263"/>
                </a:cubicBezTo>
                <a:cubicBezTo>
                  <a:pt x="238" y="263"/>
                  <a:pt x="238" y="263"/>
                  <a:pt x="238" y="263"/>
                </a:cubicBezTo>
                <a:cubicBezTo>
                  <a:pt x="238" y="263"/>
                  <a:pt x="238" y="263"/>
                  <a:pt x="238" y="263"/>
                </a:cubicBezTo>
                <a:cubicBezTo>
                  <a:pt x="238" y="264"/>
                  <a:pt x="238" y="265"/>
                  <a:pt x="240" y="269"/>
                </a:cubicBezTo>
                <a:cubicBezTo>
                  <a:pt x="241" y="271"/>
                  <a:pt x="241" y="273"/>
                  <a:pt x="242" y="275"/>
                </a:cubicBezTo>
                <a:cubicBezTo>
                  <a:pt x="244" y="281"/>
                  <a:pt x="245" y="285"/>
                  <a:pt x="245" y="287"/>
                </a:cubicBezTo>
                <a:cubicBezTo>
                  <a:pt x="245" y="288"/>
                  <a:pt x="242" y="290"/>
                  <a:pt x="240" y="290"/>
                </a:cubicBezTo>
                <a:cubicBezTo>
                  <a:pt x="239" y="289"/>
                  <a:pt x="236" y="287"/>
                  <a:pt x="232" y="282"/>
                </a:cubicBezTo>
                <a:cubicBezTo>
                  <a:pt x="230" y="281"/>
                  <a:pt x="229" y="279"/>
                  <a:pt x="227" y="278"/>
                </a:cubicBezTo>
                <a:cubicBezTo>
                  <a:pt x="223" y="274"/>
                  <a:pt x="223" y="273"/>
                  <a:pt x="222" y="273"/>
                </a:cubicBezTo>
                <a:cubicBezTo>
                  <a:pt x="221" y="273"/>
                  <a:pt x="220" y="273"/>
                  <a:pt x="217" y="275"/>
                </a:cubicBezTo>
                <a:cubicBezTo>
                  <a:pt x="215" y="275"/>
                  <a:pt x="215" y="275"/>
                  <a:pt x="215" y="275"/>
                </a:cubicBezTo>
                <a:cubicBezTo>
                  <a:pt x="215" y="276"/>
                  <a:pt x="215" y="276"/>
                  <a:pt x="215" y="276"/>
                </a:cubicBezTo>
                <a:cubicBezTo>
                  <a:pt x="213" y="277"/>
                  <a:pt x="212" y="278"/>
                  <a:pt x="211" y="279"/>
                </a:cubicBezTo>
                <a:cubicBezTo>
                  <a:pt x="211" y="279"/>
                  <a:pt x="211" y="279"/>
                  <a:pt x="211" y="280"/>
                </a:cubicBezTo>
                <a:cubicBezTo>
                  <a:pt x="211" y="281"/>
                  <a:pt x="211" y="283"/>
                  <a:pt x="212" y="285"/>
                </a:cubicBezTo>
                <a:cubicBezTo>
                  <a:pt x="212" y="287"/>
                  <a:pt x="212" y="289"/>
                  <a:pt x="212" y="292"/>
                </a:cubicBezTo>
                <a:cubicBezTo>
                  <a:pt x="213" y="296"/>
                  <a:pt x="213" y="299"/>
                  <a:pt x="213" y="302"/>
                </a:cubicBezTo>
                <a:cubicBezTo>
                  <a:pt x="213" y="303"/>
                  <a:pt x="213" y="303"/>
                  <a:pt x="213" y="303"/>
                </a:cubicBezTo>
                <a:cubicBezTo>
                  <a:pt x="212" y="304"/>
                  <a:pt x="209" y="306"/>
                  <a:pt x="208" y="305"/>
                </a:cubicBezTo>
                <a:cubicBezTo>
                  <a:pt x="207" y="305"/>
                  <a:pt x="204" y="302"/>
                  <a:pt x="201" y="296"/>
                </a:cubicBezTo>
                <a:cubicBezTo>
                  <a:pt x="200" y="294"/>
                  <a:pt x="199" y="292"/>
                  <a:pt x="198" y="291"/>
                </a:cubicBezTo>
                <a:cubicBezTo>
                  <a:pt x="195" y="286"/>
                  <a:pt x="194" y="285"/>
                  <a:pt x="193" y="285"/>
                </a:cubicBezTo>
                <a:cubicBezTo>
                  <a:pt x="193" y="285"/>
                  <a:pt x="191" y="285"/>
                  <a:pt x="188" y="286"/>
                </a:cubicBezTo>
                <a:cubicBezTo>
                  <a:pt x="186" y="285"/>
                  <a:pt x="186" y="285"/>
                  <a:pt x="186" y="285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4" y="286"/>
                  <a:pt x="182" y="287"/>
                  <a:pt x="182" y="288"/>
                </a:cubicBezTo>
                <a:cubicBezTo>
                  <a:pt x="181" y="289"/>
                  <a:pt x="181" y="289"/>
                  <a:pt x="181" y="294"/>
                </a:cubicBezTo>
                <a:cubicBezTo>
                  <a:pt x="180" y="296"/>
                  <a:pt x="180" y="299"/>
                  <a:pt x="180" y="301"/>
                </a:cubicBezTo>
                <a:cubicBezTo>
                  <a:pt x="179" y="307"/>
                  <a:pt x="178" y="311"/>
                  <a:pt x="178" y="312"/>
                </a:cubicBezTo>
                <a:cubicBezTo>
                  <a:pt x="177" y="313"/>
                  <a:pt x="173" y="314"/>
                  <a:pt x="172" y="313"/>
                </a:cubicBezTo>
                <a:cubicBezTo>
                  <a:pt x="171" y="312"/>
                  <a:pt x="170" y="309"/>
                  <a:pt x="168" y="302"/>
                </a:cubicBezTo>
                <a:cubicBezTo>
                  <a:pt x="167" y="300"/>
                  <a:pt x="166" y="298"/>
                  <a:pt x="166" y="297"/>
                </a:cubicBezTo>
                <a:cubicBezTo>
                  <a:pt x="164" y="291"/>
                  <a:pt x="164" y="291"/>
                  <a:pt x="163" y="290"/>
                </a:cubicBezTo>
                <a:cubicBezTo>
                  <a:pt x="162" y="290"/>
                  <a:pt x="161" y="289"/>
                  <a:pt x="158" y="289"/>
                </a:cubicBezTo>
                <a:cubicBezTo>
                  <a:pt x="157" y="289"/>
                  <a:pt x="157" y="289"/>
                  <a:pt x="157" y="289"/>
                </a:cubicBezTo>
                <a:cubicBezTo>
                  <a:pt x="156" y="289"/>
                  <a:pt x="156" y="289"/>
                  <a:pt x="156" y="289"/>
                </a:cubicBezTo>
                <a:cubicBezTo>
                  <a:pt x="153" y="289"/>
                  <a:pt x="152" y="290"/>
                  <a:pt x="151" y="290"/>
                </a:cubicBezTo>
                <a:cubicBezTo>
                  <a:pt x="150" y="291"/>
                  <a:pt x="150" y="292"/>
                  <a:pt x="148" y="296"/>
                </a:cubicBezTo>
                <a:cubicBezTo>
                  <a:pt x="148" y="298"/>
                  <a:pt x="147" y="300"/>
                  <a:pt x="146" y="302"/>
                </a:cubicBezTo>
                <a:cubicBezTo>
                  <a:pt x="144" y="308"/>
                  <a:pt x="142" y="312"/>
                  <a:pt x="141" y="313"/>
                </a:cubicBezTo>
                <a:cubicBezTo>
                  <a:pt x="140" y="313"/>
                  <a:pt x="136" y="313"/>
                  <a:pt x="136" y="312"/>
                </a:cubicBezTo>
                <a:cubicBezTo>
                  <a:pt x="135" y="311"/>
                  <a:pt x="134" y="307"/>
                  <a:pt x="134" y="301"/>
                </a:cubicBezTo>
                <a:cubicBezTo>
                  <a:pt x="133" y="299"/>
                  <a:pt x="133" y="297"/>
                  <a:pt x="133" y="295"/>
                </a:cubicBezTo>
                <a:cubicBezTo>
                  <a:pt x="133" y="289"/>
                  <a:pt x="132" y="289"/>
                  <a:pt x="132" y="288"/>
                </a:cubicBezTo>
                <a:cubicBezTo>
                  <a:pt x="131" y="287"/>
                  <a:pt x="130" y="286"/>
                  <a:pt x="127" y="286"/>
                </a:cubicBezTo>
                <a:cubicBezTo>
                  <a:pt x="126" y="285"/>
                  <a:pt x="126" y="285"/>
                  <a:pt x="126" y="285"/>
                </a:cubicBezTo>
                <a:cubicBezTo>
                  <a:pt x="126" y="286"/>
                  <a:pt x="126" y="286"/>
                  <a:pt x="126" y="286"/>
                </a:cubicBezTo>
                <a:cubicBezTo>
                  <a:pt x="122" y="284"/>
                  <a:pt x="121" y="285"/>
                  <a:pt x="120" y="285"/>
                </a:cubicBezTo>
                <a:cubicBezTo>
                  <a:pt x="120" y="286"/>
                  <a:pt x="119" y="286"/>
                  <a:pt x="117" y="290"/>
                </a:cubicBezTo>
                <a:cubicBezTo>
                  <a:pt x="115" y="292"/>
                  <a:pt x="114" y="294"/>
                  <a:pt x="113" y="296"/>
                </a:cubicBezTo>
                <a:cubicBezTo>
                  <a:pt x="109" y="301"/>
                  <a:pt x="107" y="304"/>
                  <a:pt x="106" y="305"/>
                </a:cubicBezTo>
                <a:cubicBezTo>
                  <a:pt x="104" y="305"/>
                  <a:pt x="101" y="304"/>
                  <a:pt x="100" y="303"/>
                </a:cubicBezTo>
                <a:cubicBezTo>
                  <a:pt x="100" y="303"/>
                  <a:pt x="100" y="303"/>
                  <a:pt x="100" y="302"/>
                </a:cubicBezTo>
                <a:cubicBezTo>
                  <a:pt x="100" y="302"/>
                  <a:pt x="100" y="302"/>
                  <a:pt x="100" y="302"/>
                </a:cubicBezTo>
                <a:cubicBezTo>
                  <a:pt x="100" y="300"/>
                  <a:pt x="101" y="296"/>
                  <a:pt x="101" y="292"/>
                </a:cubicBezTo>
                <a:cubicBezTo>
                  <a:pt x="101" y="290"/>
                  <a:pt x="102" y="288"/>
                  <a:pt x="102" y="286"/>
                </a:cubicBezTo>
                <a:cubicBezTo>
                  <a:pt x="102" y="283"/>
                  <a:pt x="103" y="281"/>
                  <a:pt x="103" y="280"/>
                </a:cubicBezTo>
                <a:cubicBezTo>
                  <a:pt x="103" y="279"/>
                  <a:pt x="103" y="279"/>
                  <a:pt x="102" y="279"/>
                </a:cubicBezTo>
                <a:cubicBezTo>
                  <a:pt x="102" y="278"/>
                  <a:pt x="101" y="277"/>
                  <a:pt x="98" y="276"/>
                </a:cubicBezTo>
                <a:cubicBezTo>
                  <a:pt x="97" y="274"/>
                  <a:pt x="97" y="274"/>
                  <a:pt x="97" y="274"/>
                </a:cubicBezTo>
                <a:cubicBezTo>
                  <a:pt x="96" y="275"/>
                  <a:pt x="96" y="275"/>
                  <a:pt x="96" y="275"/>
                </a:cubicBezTo>
                <a:cubicBezTo>
                  <a:pt x="94" y="273"/>
                  <a:pt x="93" y="273"/>
                  <a:pt x="92" y="273"/>
                </a:cubicBezTo>
                <a:cubicBezTo>
                  <a:pt x="91" y="274"/>
                  <a:pt x="90" y="274"/>
                  <a:pt x="87" y="277"/>
                </a:cubicBezTo>
                <a:cubicBezTo>
                  <a:pt x="85" y="279"/>
                  <a:pt x="84" y="280"/>
                  <a:pt x="82" y="282"/>
                </a:cubicBezTo>
                <a:cubicBezTo>
                  <a:pt x="77" y="286"/>
                  <a:pt x="74" y="289"/>
                  <a:pt x="73" y="289"/>
                </a:cubicBezTo>
                <a:cubicBezTo>
                  <a:pt x="72" y="289"/>
                  <a:pt x="69" y="287"/>
                  <a:pt x="68" y="286"/>
                </a:cubicBezTo>
                <a:cubicBezTo>
                  <a:pt x="68" y="285"/>
                  <a:pt x="69" y="281"/>
                  <a:pt x="72" y="275"/>
                </a:cubicBezTo>
                <a:cubicBezTo>
                  <a:pt x="72" y="273"/>
                  <a:pt x="73" y="271"/>
                  <a:pt x="74" y="270"/>
                </a:cubicBezTo>
                <a:cubicBezTo>
                  <a:pt x="75" y="265"/>
                  <a:pt x="76" y="264"/>
                  <a:pt x="76" y="263"/>
                </a:cubicBezTo>
                <a:cubicBezTo>
                  <a:pt x="76" y="263"/>
                  <a:pt x="76" y="263"/>
                  <a:pt x="76" y="263"/>
                </a:cubicBezTo>
                <a:cubicBezTo>
                  <a:pt x="76" y="263"/>
                  <a:pt x="76" y="263"/>
                  <a:pt x="76" y="263"/>
                </a:cubicBezTo>
                <a:cubicBezTo>
                  <a:pt x="76" y="262"/>
                  <a:pt x="75" y="261"/>
                  <a:pt x="72" y="259"/>
                </a:cubicBezTo>
                <a:cubicBezTo>
                  <a:pt x="72" y="258"/>
                  <a:pt x="72" y="258"/>
                  <a:pt x="72" y="258"/>
                </a:cubicBezTo>
                <a:cubicBezTo>
                  <a:pt x="71" y="258"/>
                  <a:pt x="71" y="258"/>
                  <a:pt x="71" y="258"/>
                </a:cubicBezTo>
                <a:cubicBezTo>
                  <a:pt x="69" y="255"/>
                  <a:pt x="68" y="255"/>
                  <a:pt x="67" y="255"/>
                </a:cubicBezTo>
                <a:cubicBezTo>
                  <a:pt x="66" y="255"/>
                  <a:pt x="65" y="256"/>
                  <a:pt x="61" y="258"/>
                </a:cubicBezTo>
                <a:cubicBezTo>
                  <a:pt x="59" y="259"/>
                  <a:pt x="57" y="260"/>
                  <a:pt x="55" y="261"/>
                </a:cubicBezTo>
                <a:cubicBezTo>
                  <a:pt x="50" y="264"/>
                  <a:pt x="46" y="266"/>
                  <a:pt x="45" y="266"/>
                </a:cubicBezTo>
                <a:cubicBezTo>
                  <a:pt x="43" y="266"/>
                  <a:pt x="41" y="263"/>
                  <a:pt x="41" y="262"/>
                </a:cubicBezTo>
                <a:cubicBezTo>
                  <a:pt x="41" y="261"/>
                  <a:pt x="43" y="258"/>
                  <a:pt x="47" y="252"/>
                </a:cubicBezTo>
                <a:cubicBezTo>
                  <a:pt x="48" y="251"/>
                  <a:pt x="49" y="249"/>
                  <a:pt x="50" y="247"/>
                </a:cubicBezTo>
                <a:cubicBezTo>
                  <a:pt x="53" y="243"/>
                  <a:pt x="54" y="242"/>
                  <a:pt x="54" y="241"/>
                </a:cubicBezTo>
                <a:cubicBezTo>
                  <a:pt x="54" y="240"/>
                  <a:pt x="53" y="239"/>
                  <a:pt x="51" y="236"/>
                </a:cubicBezTo>
                <a:cubicBezTo>
                  <a:pt x="51" y="235"/>
                  <a:pt x="51" y="235"/>
                  <a:pt x="51" y="235"/>
                </a:cubicBezTo>
                <a:cubicBezTo>
                  <a:pt x="50" y="235"/>
                  <a:pt x="50" y="235"/>
                  <a:pt x="50" y="235"/>
                </a:cubicBezTo>
                <a:cubicBezTo>
                  <a:pt x="48" y="232"/>
                  <a:pt x="47" y="232"/>
                  <a:pt x="46" y="232"/>
                </a:cubicBezTo>
                <a:cubicBezTo>
                  <a:pt x="46" y="232"/>
                  <a:pt x="45" y="232"/>
                  <a:pt x="40" y="233"/>
                </a:cubicBezTo>
                <a:cubicBezTo>
                  <a:pt x="38" y="234"/>
                  <a:pt x="36" y="234"/>
                  <a:pt x="34" y="235"/>
                </a:cubicBezTo>
                <a:cubicBezTo>
                  <a:pt x="28" y="237"/>
                  <a:pt x="24" y="238"/>
                  <a:pt x="22" y="238"/>
                </a:cubicBezTo>
                <a:cubicBezTo>
                  <a:pt x="21" y="237"/>
                  <a:pt x="20" y="234"/>
                  <a:pt x="19" y="233"/>
                </a:cubicBezTo>
                <a:cubicBezTo>
                  <a:pt x="20" y="232"/>
                  <a:pt x="23" y="229"/>
                  <a:pt x="28" y="224"/>
                </a:cubicBezTo>
                <a:cubicBezTo>
                  <a:pt x="29" y="223"/>
                  <a:pt x="31" y="221"/>
                  <a:pt x="32" y="220"/>
                </a:cubicBezTo>
                <a:cubicBezTo>
                  <a:pt x="36" y="216"/>
                  <a:pt x="37" y="216"/>
                  <a:pt x="37" y="215"/>
                </a:cubicBezTo>
                <a:cubicBezTo>
                  <a:pt x="37" y="215"/>
                  <a:pt x="37" y="215"/>
                  <a:pt x="37" y="214"/>
                </a:cubicBezTo>
                <a:cubicBezTo>
                  <a:pt x="37" y="213"/>
                  <a:pt x="37" y="212"/>
                  <a:pt x="36" y="210"/>
                </a:cubicBezTo>
                <a:cubicBezTo>
                  <a:pt x="36" y="208"/>
                  <a:pt x="36" y="208"/>
                  <a:pt x="36" y="208"/>
                </a:cubicBezTo>
                <a:cubicBezTo>
                  <a:pt x="35" y="208"/>
                  <a:pt x="35" y="208"/>
                  <a:pt x="35" y="208"/>
                </a:cubicBezTo>
                <a:cubicBezTo>
                  <a:pt x="34" y="205"/>
                  <a:pt x="33" y="205"/>
                  <a:pt x="32" y="204"/>
                </a:cubicBezTo>
                <a:cubicBezTo>
                  <a:pt x="31" y="204"/>
                  <a:pt x="31" y="204"/>
                  <a:pt x="26" y="204"/>
                </a:cubicBezTo>
                <a:cubicBezTo>
                  <a:pt x="24" y="204"/>
                  <a:pt x="21" y="205"/>
                  <a:pt x="19" y="205"/>
                </a:cubicBezTo>
                <a:cubicBezTo>
                  <a:pt x="13" y="205"/>
                  <a:pt x="9" y="205"/>
                  <a:pt x="7" y="204"/>
                </a:cubicBezTo>
                <a:cubicBezTo>
                  <a:pt x="7" y="204"/>
                  <a:pt x="6" y="201"/>
                  <a:pt x="6" y="199"/>
                </a:cubicBezTo>
                <a:cubicBezTo>
                  <a:pt x="6" y="199"/>
                  <a:pt x="6" y="199"/>
                  <a:pt x="6" y="199"/>
                </a:cubicBezTo>
                <a:cubicBezTo>
                  <a:pt x="6" y="198"/>
                  <a:pt x="10" y="196"/>
                  <a:pt x="15" y="193"/>
                </a:cubicBezTo>
                <a:cubicBezTo>
                  <a:pt x="17" y="192"/>
                  <a:pt x="19" y="191"/>
                  <a:pt x="21" y="190"/>
                </a:cubicBezTo>
                <a:cubicBezTo>
                  <a:pt x="26" y="187"/>
                  <a:pt x="26" y="187"/>
                  <a:pt x="27" y="186"/>
                </a:cubicBezTo>
                <a:cubicBezTo>
                  <a:pt x="27" y="185"/>
                  <a:pt x="27" y="185"/>
                  <a:pt x="27" y="184"/>
                </a:cubicBezTo>
                <a:cubicBezTo>
                  <a:pt x="27" y="183"/>
                  <a:pt x="27" y="181"/>
                  <a:pt x="27" y="181"/>
                </a:cubicBezTo>
                <a:cubicBezTo>
                  <a:pt x="27" y="179"/>
                  <a:pt x="27" y="179"/>
                  <a:pt x="27" y="179"/>
                </a:cubicBezTo>
                <a:cubicBezTo>
                  <a:pt x="26" y="179"/>
                  <a:pt x="26" y="179"/>
                  <a:pt x="26" y="179"/>
                </a:cubicBezTo>
                <a:cubicBezTo>
                  <a:pt x="26" y="176"/>
                  <a:pt x="25" y="175"/>
                  <a:pt x="25" y="174"/>
                </a:cubicBezTo>
                <a:cubicBezTo>
                  <a:pt x="24" y="174"/>
                  <a:pt x="23" y="174"/>
                  <a:pt x="18" y="173"/>
                </a:cubicBezTo>
                <a:cubicBezTo>
                  <a:pt x="16" y="172"/>
                  <a:pt x="14" y="172"/>
                  <a:pt x="12" y="172"/>
                </a:cubicBezTo>
                <a:cubicBezTo>
                  <a:pt x="6" y="170"/>
                  <a:pt x="2" y="169"/>
                  <a:pt x="1" y="169"/>
                </a:cubicBezTo>
                <a:cubicBezTo>
                  <a:pt x="0" y="168"/>
                  <a:pt x="0" y="167"/>
                  <a:pt x="0" y="165"/>
                </a:cubicBezTo>
                <a:close/>
                <a:moveTo>
                  <a:pt x="252" y="156"/>
                </a:moveTo>
                <a:cubicBezTo>
                  <a:pt x="252" y="104"/>
                  <a:pt x="209" y="62"/>
                  <a:pt x="157" y="62"/>
                </a:cubicBezTo>
                <a:cubicBezTo>
                  <a:pt x="105" y="62"/>
                  <a:pt x="62" y="104"/>
                  <a:pt x="62" y="156"/>
                </a:cubicBezTo>
                <a:cubicBezTo>
                  <a:pt x="62" y="209"/>
                  <a:pt x="105" y="251"/>
                  <a:pt x="157" y="251"/>
                </a:cubicBezTo>
                <a:cubicBezTo>
                  <a:pt x="209" y="251"/>
                  <a:pt x="252" y="209"/>
                  <a:pt x="252" y="156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>
            <a:off x="5481720" y="4249800"/>
            <a:ext cx="1773000" cy="1771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360" h="360">
                <a:moveTo>
                  <a:pt x="0" y="166"/>
                </a:moveTo>
                <a:cubicBezTo>
                  <a:pt x="0" y="165"/>
                  <a:pt x="0" y="164"/>
                  <a:pt x="0" y="164"/>
                </a:cubicBezTo>
                <a:cubicBezTo>
                  <a:pt x="1" y="163"/>
                  <a:pt x="6" y="162"/>
                  <a:pt x="13" y="161"/>
                </a:cubicBezTo>
                <a:cubicBezTo>
                  <a:pt x="16" y="161"/>
                  <a:pt x="18" y="160"/>
                  <a:pt x="20" y="160"/>
                </a:cubicBezTo>
                <a:cubicBezTo>
                  <a:pt x="27" y="159"/>
                  <a:pt x="28" y="159"/>
                  <a:pt x="28" y="158"/>
                </a:cubicBezTo>
                <a:cubicBezTo>
                  <a:pt x="29" y="157"/>
                  <a:pt x="30" y="156"/>
                  <a:pt x="30" y="152"/>
                </a:cubicBezTo>
                <a:cubicBezTo>
                  <a:pt x="30" y="152"/>
                  <a:pt x="30" y="152"/>
                  <a:pt x="30" y="152"/>
                </a:cubicBezTo>
                <a:cubicBezTo>
                  <a:pt x="30" y="152"/>
                  <a:pt x="30" y="152"/>
                  <a:pt x="30" y="152"/>
                </a:cubicBezTo>
                <a:cubicBezTo>
                  <a:pt x="31" y="151"/>
                  <a:pt x="31" y="150"/>
                  <a:pt x="31" y="148"/>
                </a:cubicBezTo>
                <a:cubicBezTo>
                  <a:pt x="31" y="147"/>
                  <a:pt x="31" y="146"/>
                  <a:pt x="31" y="145"/>
                </a:cubicBezTo>
                <a:cubicBezTo>
                  <a:pt x="30" y="144"/>
                  <a:pt x="29" y="143"/>
                  <a:pt x="24" y="141"/>
                </a:cubicBezTo>
                <a:cubicBezTo>
                  <a:pt x="22" y="139"/>
                  <a:pt x="20" y="138"/>
                  <a:pt x="18" y="137"/>
                </a:cubicBezTo>
                <a:cubicBezTo>
                  <a:pt x="12" y="133"/>
                  <a:pt x="8" y="130"/>
                  <a:pt x="7" y="129"/>
                </a:cubicBezTo>
                <a:cubicBezTo>
                  <a:pt x="7" y="129"/>
                  <a:pt x="7" y="129"/>
                  <a:pt x="7" y="128"/>
                </a:cubicBezTo>
                <a:cubicBezTo>
                  <a:pt x="7" y="126"/>
                  <a:pt x="8" y="123"/>
                  <a:pt x="9" y="123"/>
                </a:cubicBezTo>
                <a:cubicBezTo>
                  <a:pt x="10" y="123"/>
                  <a:pt x="15" y="122"/>
                  <a:pt x="22" y="123"/>
                </a:cubicBezTo>
                <a:cubicBezTo>
                  <a:pt x="25" y="123"/>
                  <a:pt x="27" y="124"/>
                  <a:pt x="29" y="124"/>
                </a:cubicBezTo>
                <a:cubicBezTo>
                  <a:pt x="36" y="124"/>
                  <a:pt x="36" y="124"/>
                  <a:pt x="37" y="124"/>
                </a:cubicBezTo>
                <a:cubicBezTo>
                  <a:pt x="38" y="123"/>
                  <a:pt x="39" y="122"/>
                  <a:pt x="41" y="119"/>
                </a:cubicBezTo>
                <a:cubicBezTo>
                  <a:pt x="41" y="119"/>
                  <a:pt x="41" y="119"/>
                  <a:pt x="41" y="119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42" y="116"/>
                  <a:pt x="43" y="114"/>
                  <a:pt x="43" y="113"/>
                </a:cubicBezTo>
                <a:cubicBezTo>
                  <a:pt x="43" y="113"/>
                  <a:pt x="43" y="112"/>
                  <a:pt x="43" y="111"/>
                </a:cubicBezTo>
                <a:cubicBezTo>
                  <a:pt x="42" y="111"/>
                  <a:pt x="42" y="110"/>
                  <a:pt x="38" y="106"/>
                </a:cubicBezTo>
                <a:cubicBezTo>
                  <a:pt x="36" y="104"/>
                  <a:pt x="34" y="103"/>
                  <a:pt x="32" y="101"/>
                </a:cubicBezTo>
                <a:cubicBezTo>
                  <a:pt x="27" y="95"/>
                  <a:pt x="24" y="92"/>
                  <a:pt x="23" y="91"/>
                </a:cubicBezTo>
                <a:cubicBezTo>
                  <a:pt x="24" y="89"/>
                  <a:pt x="26" y="86"/>
                  <a:pt x="27" y="85"/>
                </a:cubicBezTo>
                <a:cubicBezTo>
                  <a:pt x="28" y="85"/>
                  <a:pt x="32" y="86"/>
                  <a:pt x="40" y="88"/>
                </a:cubicBezTo>
                <a:cubicBezTo>
                  <a:pt x="42" y="89"/>
                  <a:pt x="44" y="90"/>
                  <a:pt x="46" y="91"/>
                </a:cubicBezTo>
                <a:cubicBezTo>
                  <a:pt x="52" y="93"/>
                  <a:pt x="53" y="93"/>
                  <a:pt x="54" y="93"/>
                </a:cubicBezTo>
                <a:cubicBezTo>
                  <a:pt x="55" y="92"/>
                  <a:pt x="56" y="92"/>
                  <a:pt x="58" y="88"/>
                </a:cubicBezTo>
                <a:cubicBezTo>
                  <a:pt x="59" y="88"/>
                  <a:pt x="59" y="88"/>
                  <a:pt x="59" y="88"/>
                </a:cubicBezTo>
                <a:cubicBezTo>
                  <a:pt x="59" y="88"/>
                  <a:pt x="59" y="88"/>
                  <a:pt x="59" y="88"/>
                </a:cubicBezTo>
                <a:cubicBezTo>
                  <a:pt x="62" y="84"/>
                  <a:pt x="62" y="83"/>
                  <a:pt x="62" y="83"/>
                </a:cubicBezTo>
                <a:cubicBezTo>
                  <a:pt x="62" y="82"/>
                  <a:pt x="62" y="82"/>
                  <a:pt x="62" y="82"/>
                </a:cubicBezTo>
                <a:cubicBezTo>
                  <a:pt x="62" y="81"/>
                  <a:pt x="62" y="80"/>
                  <a:pt x="59" y="75"/>
                </a:cubicBezTo>
                <a:cubicBezTo>
                  <a:pt x="57" y="73"/>
                  <a:pt x="56" y="71"/>
                  <a:pt x="54" y="69"/>
                </a:cubicBezTo>
                <a:cubicBezTo>
                  <a:pt x="51" y="63"/>
                  <a:pt x="49" y="58"/>
                  <a:pt x="48" y="57"/>
                </a:cubicBezTo>
                <a:cubicBezTo>
                  <a:pt x="49" y="56"/>
                  <a:pt x="52" y="53"/>
                  <a:pt x="53" y="52"/>
                </a:cubicBezTo>
                <a:cubicBezTo>
                  <a:pt x="54" y="53"/>
                  <a:pt x="58" y="55"/>
                  <a:pt x="64" y="59"/>
                </a:cubicBezTo>
                <a:cubicBezTo>
                  <a:pt x="67" y="60"/>
                  <a:pt x="69" y="61"/>
                  <a:pt x="70" y="62"/>
                </a:cubicBezTo>
                <a:cubicBezTo>
                  <a:pt x="76" y="66"/>
                  <a:pt x="77" y="66"/>
                  <a:pt x="78" y="66"/>
                </a:cubicBezTo>
                <a:cubicBezTo>
                  <a:pt x="79" y="66"/>
                  <a:pt x="80" y="65"/>
                  <a:pt x="83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2"/>
                  <a:pt x="84" y="62"/>
                  <a:pt x="84" y="62"/>
                </a:cubicBezTo>
                <a:cubicBezTo>
                  <a:pt x="87" y="60"/>
                  <a:pt x="88" y="59"/>
                  <a:pt x="88" y="57"/>
                </a:cubicBezTo>
                <a:cubicBezTo>
                  <a:pt x="88" y="56"/>
                  <a:pt x="88" y="56"/>
                  <a:pt x="86" y="50"/>
                </a:cubicBezTo>
                <a:cubicBezTo>
                  <a:pt x="85" y="48"/>
                  <a:pt x="84" y="46"/>
                  <a:pt x="84" y="43"/>
                </a:cubicBezTo>
                <a:cubicBezTo>
                  <a:pt x="81" y="36"/>
                  <a:pt x="80" y="31"/>
                  <a:pt x="80" y="30"/>
                </a:cubicBezTo>
                <a:cubicBezTo>
                  <a:pt x="81" y="29"/>
                  <a:pt x="84" y="27"/>
                  <a:pt x="86" y="27"/>
                </a:cubicBezTo>
                <a:cubicBezTo>
                  <a:pt x="87" y="27"/>
                  <a:pt x="90" y="30"/>
                  <a:pt x="96" y="35"/>
                </a:cubicBezTo>
                <a:cubicBezTo>
                  <a:pt x="97" y="37"/>
                  <a:pt x="99" y="39"/>
                  <a:pt x="100" y="40"/>
                </a:cubicBezTo>
                <a:cubicBezTo>
                  <a:pt x="105" y="45"/>
                  <a:pt x="106" y="45"/>
                  <a:pt x="107" y="46"/>
                </a:cubicBezTo>
                <a:cubicBezTo>
                  <a:pt x="108" y="46"/>
                  <a:pt x="109" y="46"/>
                  <a:pt x="112" y="44"/>
                </a:cubicBezTo>
                <a:cubicBezTo>
                  <a:pt x="114" y="44"/>
                  <a:pt x="114" y="44"/>
                  <a:pt x="114" y="44"/>
                </a:cubicBezTo>
                <a:cubicBezTo>
                  <a:pt x="114" y="43"/>
                  <a:pt x="114" y="43"/>
                  <a:pt x="114" y="43"/>
                </a:cubicBezTo>
                <a:cubicBezTo>
                  <a:pt x="118" y="42"/>
                  <a:pt x="118" y="40"/>
                  <a:pt x="119" y="40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38"/>
                  <a:pt x="119" y="36"/>
                  <a:pt x="118" y="32"/>
                </a:cubicBezTo>
                <a:cubicBezTo>
                  <a:pt x="118" y="30"/>
                  <a:pt x="118" y="27"/>
                  <a:pt x="118" y="24"/>
                </a:cubicBezTo>
                <a:cubicBezTo>
                  <a:pt x="117" y="19"/>
                  <a:pt x="117" y="13"/>
                  <a:pt x="117" y="11"/>
                </a:cubicBezTo>
                <a:cubicBezTo>
                  <a:pt x="117" y="11"/>
                  <a:pt x="117" y="11"/>
                  <a:pt x="117" y="11"/>
                </a:cubicBezTo>
                <a:cubicBezTo>
                  <a:pt x="118" y="10"/>
                  <a:pt x="122" y="9"/>
                  <a:pt x="124" y="9"/>
                </a:cubicBezTo>
                <a:cubicBezTo>
                  <a:pt x="124" y="10"/>
                  <a:pt x="127" y="14"/>
                  <a:pt x="131" y="20"/>
                </a:cubicBezTo>
                <a:cubicBezTo>
                  <a:pt x="132" y="22"/>
                  <a:pt x="134" y="24"/>
                  <a:pt x="135" y="26"/>
                </a:cubicBezTo>
                <a:cubicBezTo>
                  <a:pt x="138" y="31"/>
                  <a:pt x="139" y="32"/>
                  <a:pt x="140" y="32"/>
                </a:cubicBezTo>
                <a:cubicBezTo>
                  <a:pt x="140" y="33"/>
                  <a:pt x="142" y="33"/>
                  <a:pt x="146" y="32"/>
                </a:cubicBezTo>
                <a:cubicBezTo>
                  <a:pt x="148" y="33"/>
                  <a:pt x="148" y="33"/>
                  <a:pt x="148" y="33"/>
                </a:cubicBezTo>
                <a:cubicBezTo>
                  <a:pt x="148" y="32"/>
                  <a:pt x="148" y="32"/>
                  <a:pt x="148" y="32"/>
                </a:cubicBezTo>
                <a:cubicBezTo>
                  <a:pt x="150" y="31"/>
                  <a:pt x="152" y="30"/>
                  <a:pt x="153" y="29"/>
                </a:cubicBezTo>
                <a:cubicBezTo>
                  <a:pt x="153" y="29"/>
                  <a:pt x="153" y="28"/>
                  <a:pt x="154" y="24"/>
                </a:cubicBezTo>
                <a:cubicBezTo>
                  <a:pt x="154" y="20"/>
                  <a:pt x="154" y="20"/>
                  <a:pt x="154" y="20"/>
                </a:cubicBezTo>
                <a:cubicBezTo>
                  <a:pt x="155" y="18"/>
                  <a:pt x="155" y="16"/>
                  <a:pt x="155" y="14"/>
                </a:cubicBezTo>
                <a:cubicBezTo>
                  <a:pt x="156" y="7"/>
                  <a:pt x="157" y="3"/>
                  <a:pt x="158" y="1"/>
                </a:cubicBezTo>
                <a:cubicBezTo>
                  <a:pt x="159" y="1"/>
                  <a:pt x="163" y="0"/>
                  <a:pt x="164" y="1"/>
                </a:cubicBezTo>
                <a:cubicBezTo>
                  <a:pt x="165" y="2"/>
                  <a:pt x="167" y="6"/>
                  <a:pt x="169" y="13"/>
                </a:cubicBezTo>
                <a:cubicBezTo>
                  <a:pt x="170" y="15"/>
                  <a:pt x="171" y="18"/>
                  <a:pt x="172" y="20"/>
                </a:cubicBezTo>
                <a:cubicBezTo>
                  <a:pt x="173" y="26"/>
                  <a:pt x="174" y="27"/>
                  <a:pt x="175" y="27"/>
                </a:cubicBezTo>
                <a:cubicBezTo>
                  <a:pt x="175" y="28"/>
                  <a:pt x="177" y="28"/>
                  <a:pt x="181" y="28"/>
                </a:cubicBezTo>
                <a:cubicBezTo>
                  <a:pt x="181" y="29"/>
                  <a:pt x="181" y="29"/>
                  <a:pt x="181" y="29"/>
                </a:cubicBezTo>
                <a:cubicBezTo>
                  <a:pt x="182" y="28"/>
                  <a:pt x="182" y="28"/>
                  <a:pt x="182" y="28"/>
                </a:cubicBezTo>
                <a:cubicBezTo>
                  <a:pt x="187" y="29"/>
                  <a:pt x="188" y="28"/>
                  <a:pt x="188" y="27"/>
                </a:cubicBezTo>
                <a:cubicBezTo>
                  <a:pt x="189" y="27"/>
                  <a:pt x="189" y="26"/>
                  <a:pt x="191" y="21"/>
                </a:cubicBezTo>
                <a:cubicBezTo>
                  <a:pt x="192" y="18"/>
                  <a:pt x="193" y="16"/>
                  <a:pt x="194" y="13"/>
                </a:cubicBezTo>
                <a:cubicBezTo>
                  <a:pt x="197" y="7"/>
                  <a:pt x="199" y="2"/>
                  <a:pt x="200" y="1"/>
                </a:cubicBezTo>
                <a:cubicBezTo>
                  <a:pt x="201" y="1"/>
                  <a:pt x="205" y="1"/>
                  <a:pt x="206" y="2"/>
                </a:cubicBezTo>
                <a:cubicBezTo>
                  <a:pt x="207" y="3"/>
                  <a:pt x="207" y="8"/>
                  <a:pt x="208" y="15"/>
                </a:cubicBezTo>
                <a:cubicBezTo>
                  <a:pt x="208" y="18"/>
                  <a:pt x="209" y="20"/>
                  <a:pt x="209" y="22"/>
                </a:cubicBezTo>
                <a:cubicBezTo>
                  <a:pt x="209" y="29"/>
                  <a:pt x="209" y="30"/>
                  <a:pt x="210" y="30"/>
                </a:cubicBezTo>
                <a:cubicBezTo>
                  <a:pt x="211" y="31"/>
                  <a:pt x="212" y="32"/>
                  <a:pt x="216" y="33"/>
                </a:cubicBezTo>
                <a:cubicBezTo>
                  <a:pt x="216" y="33"/>
                  <a:pt x="216" y="33"/>
                  <a:pt x="216" y="33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1" y="34"/>
                  <a:pt x="222" y="34"/>
                  <a:pt x="223" y="33"/>
                </a:cubicBezTo>
                <a:cubicBezTo>
                  <a:pt x="224" y="33"/>
                  <a:pt x="225" y="32"/>
                  <a:pt x="228" y="28"/>
                </a:cubicBezTo>
                <a:cubicBezTo>
                  <a:pt x="229" y="26"/>
                  <a:pt x="230" y="23"/>
                  <a:pt x="232" y="21"/>
                </a:cubicBezTo>
                <a:cubicBezTo>
                  <a:pt x="236" y="15"/>
                  <a:pt x="239" y="12"/>
                  <a:pt x="240" y="11"/>
                </a:cubicBezTo>
                <a:cubicBezTo>
                  <a:pt x="242" y="11"/>
                  <a:pt x="246" y="12"/>
                  <a:pt x="247" y="13"/>
                </a:cubicBezTo>
                <a:cubicBezTo>
                  <a:pt x="247" y="14"/>
                  <a:pt x="247" y="18"/>
                  <a:pt x="246" y="24"/>
                </a:cubicBezTo>
                <a:cubicBezTo>
                  <a:pt x="246" y="25"/>
                  <a:pt x="245" y="26"/>
                  <a:pt x="245" y="26"/>
                </a:cubicBezTo>
                <a:cubicBezTo>
                  <a:pt x="245" y="29"/>
                  <a:pt x="245" y="31"/>
                  <a:pt x="244" y="33"/>
                </a:cubicBezTo>
                <a:cubicBezTo>
                  <a:pt x="244" y="35"/>
                  <a:pt x="244" y="37"/>
                  <a:pt x="244" y="38"/>
                </a:cubicBezTo>
                <a:cubicBezTo>
                  <a:pt x="243" y="40"/>
                  <a:pt x="243" y="41"/>
                  <a:pt x="244" y="41"/>
                </a:cubicBezTo>
                <a:cubicBezTo>
                  <a:pt x="244" y="42"/>
                  <a:pt x="245" y="43"/>
                  <a:pt x="249" y="45"/>
                </a:cubicBezTo>
                <a:cubicBezTo>
                  <a:pt x="249" y="47"/>
                  <a:pt x="249" y="47"/>
                  <a:pt x="249" y="47"/>
                </a:cubicBezTo>
                <a:cubicBezTo>
                  <a:pt x="250" y="46"/>
                  <a:pt x="250" y="46"/>
                  <a:pt x="250" y="46"/>
                </a:cubicBezTo>
                <a:cubicBezTo>
                  <a:pt x="253" y="48"/>
                  <a:pt x="255" y="48"/>
                  <a:pt x="256" y="47"/>
                </a:cubicBezTo>
                <a:cubicBezTo>
                  <a:pt x="257" y="47"/>
                  <a:pt x="257" y="47"/>
                  <a:pt x="261" y="43"/>
                </a:cubicBezTo>
                <a:cubicBezTo>
                  <a:pt x="263" y="41"/>
                  <a:pt x="265" y="39"/>
                  <a:pt x="267" y="38"/>
                </a:cubicBezTo>
                <a:cubicBezTo>
                  <a:pt x="273" y="33"/>
                  <a:pt x="276" y="30"/>
                  <a:pt x="278" y="29"/>
                </a:cubicBezTo>
                <a:cubicBezTo>
                  <a:pt x="279" y="30"/>
                  <a:pt x="283" y="32"/>
                  <a:pt x="283" y="33"/>
                </a:cubicBezTo>
                <a:cubicBezTo>
                  <a:pt x="283" y="35"/>
                  <a:pt x="281" y="40"/>
                  <a:pt x="279" y="46"/>
                </a:cubicBezTo>
                <a:cubicBezTo>
                  <a:pt x="278" y="48"/>
                  <a:pt x="277" y="50"/>
                  <a:pt x="276" y="52"/>
                </a:cubicBezTo>
                <a:cubicBezTo>
                  <a:pt x="275" y="56"/>
                  <a:pt x="274" y="58"/>
                  <a:pt x="274" y="59"/>
                </a:cubicBezTo>
                <a:cubicBezTo>
                  <a:pt x="274" y="59"/>
                  <a:pt x="274" y="59"/>
                  <a:pt x="274" y="59"/>
                </a:cubicBezTo>
                <a:cubicBezTo>
                  <a:pt x="274" y="60"/>
                  <a:pt x="274" y="60"/>
                  <a:pt x="274" y="60"/>
                </a:cubicBezTo>
                <a:cubicBezTo>
                  <a:pt x="274" y="61"/>
                  <a:pt x="275" y="62"/>
                  <a:pt x="278" y="64"/>
                </a:cubicBezTo>
                <a:cubicBezTo>
                  <a:pt x="278" y="66"/>
                  <a:pt x="278" y="66"/>
                  <a:pt x="278" y="66"/>
                </a:cubicBezTo>
                <a:cubicBezTo>
                  <a:pt x="279" y="66"/>
                  <a:pt x="279" y="66"/>
                  <a:pt x="279" y="66"/>
                </a:cubicBezTo>
                <a:cubicBezTo>
                  <a:pt x="282" y="68"/>
                  <a:pt x="283" y="69"/>
                  <a:pt x="284" y="69"/>
                </a:cubicBezTo>
                <a:cubicBezTo>
                  <a:pt x="285" y="69"/>
                  <a:pt x="286" y="68"/>
                  <a:pt x="291" y="65"/>
                </a:cubicBezTo>
                <a:cubicBezTo>
                  <a:pt x="293" y="64"/>
                  <a:pt x="295" y="63"/>
                  <a:pt x="298" y="62"/>
                </a:cubicBezTo>
                <a:cubicBezTo>
                  <a:pt x="304" y="58"/>
                  <a:pt x="308" y="56"/>
                  <a:pt x="310" y="56"/>
                </a:cubicBezTo>
                <a:cubicBezTo>
                  <a:pt x="311" y="57"/>
                  <a:pt x="314" y="60"/>
                  <a:pt x="314" y="61"/>
                </a:cubicBezTo>
                <a:cubicBezTo>
                  <a:pt x="314" y="62"/>
                  <a:pt x="312" y="66"/>
                  <a:pt x="307" y="72"/>
                </a:cubicBezTo>
                <a:cubicBezTo>
                  <a:pt x="306" y="74"/>
                  <a:pt x="305" y="76"/>
                  <a:pt x="303" y="78"/>
                </a:cubicBezTo>
                <a:cubicBezTo>
                  <a:pt x="300" y="83"/>
                  <a:pt x="299" y="84"/>
                  <a:pt x="299" y="85"/>
                </a:cubicBezTo>
                <a:cubicBezTo>
                  <a:pt x="299" y="85"/>
                  <a:pt x="299" y="85"/>
                  <a:pt x="299" y="85"/>
                </a:cubicBezTo>
                <a:cubicBezTo>
                  <a:pt x="299" y="85"/>
                  <a:pt x="299" y="85"/>
                  <a:pt x="299" y="85"/>
                </a:cubicBezTo>
                <a:cubicBezTo>
                  <a:pt x="299" y="86"/>
                  <a:pt x="300" y="88"/>
                  <a:pt x="302" y="90"/>
                </a:cubicBezTo>
                <a:cubicBezTo>
                  <a:pt x="302" y="93"/>
                  <a:pt x="302" y="93"/>
                  <a:pt x="302" y="93"/>
                </a:cubicBezTo>
                <a:cubicBezTo>
                  <a:pt x="303" y="92"/>
                  <a:pt x="303" y="92"/>
                  <a:pt x="303" y="92"/>
                </a:cubicBezTo>
                <a:cubicBezTo>
                  <a:pt x="305" y="95"/>
                  <a:pt x="306" y="96"/>
                  <a:pt x="307" y="96"/>
                </a:cubicBezTo>
                <a:cubicBezTo>
                  <a:pt x="308" y="96"/>
                  <a:pt x="309" y="96"/>
                  <a:pt x="314" y="94"/>
                </a:cubicBezTo>
                <a:cubicBezTo>
                  <a:pt x="317" y="94"/>
                  <a:pt x="319" y="93"/>
                  <a:pt x="322" y="92"/>
                </a:cubicBezTo>
                <a:cubicBezTo>
                  <a:pt x="329" y="90"/>
                  <a:pt x="334" y="89"/>
                  <a:pt x="335" y="89"/>
                </a:cubicBezTo>
                <a:cubicBezTo>
                  <a:pt x="336" y="90"/>
                  <a:pt x="338" y="94"/>
                  <a:pt x="338" y="95"/>
                </a:cubicBezTo>
                <a:cubicBezTo>
                  <a:pt x="337" y="96"/>
                  <a:pt x="335" y="99"/>
                  <a:pt x="329" y="105"/>
                </a:cubicBezTo>
                <a:cubicBezTo>
                  <a:pt x="327" y="106"/>
                  <a:pt x="325" y="108"/>
                  <a:pt x="324" y="109"/>
                </a:cubicBezTo>
                <a:cubicBezTo>
                  <a:pt x="319" y="113"/>
                  <a:pt x="318" y="114"/>
                  <a:pt x="318" y="115"/>
                </a:cubicBezTo>
                <a:cubicBezTo>
                  <a:pt x="318" y="115"/>
                  <a:pt x="318" y="115"/>
                  <a:pt x="318" y="115"/>
                </a:cubicBezTo>
                <a:cubicBezTo>
                  <a:pt x="318" y="117"/>
                  <a:pt x="318" y="118"/>
                  <a:pt x="319" y="121"/>
                </a:cubicBezTo>
                <a:cubicBezTo>
                  <a:pt x="319" y="123"/>
                  <a:pt x="319" y="123"/>
                  <a:pt x="319" y="123"/>
                </a:cubicBezTo>
                <a:cubicBezTo>
                  <a:pt x="320" y="123"/>
                  <a:pt x="320" y="123"/>
                  <a:pt x="320" y="123"/>
                </a:cubicBezTo>
                <a:cubicBezTo>
                  <a:pt x="321" y="126"/>
                  <a:pt x="322" y="127"/>
                  <a:pt x="323" y="128"/>
                </a:cubicBezTo>
                <a:cubicBezTo>
                  <a:pt x="324" y="128"/>
                  <a:pt x="325" y="128"/>
                  <a:pt x="331" y="128"/>
                </a:cubicBezTo>
                <a:cubicBezTo>
                  <a:pt x="333" y="128"/>
                  <a:pt x="336" y="127"/>
                  <a:pt x="338" y="127"/>
                </a:cubicBezTo>
                <a:cubicBezTo>
                  <a:pt x="346" y="127"/>
                  <a:pt x="350" y="127"/>
                  <a:pt x="352" y="128"/>
                </a:cubicBezTo>
                <a:cubicBezTo>
                  <a:pt x="352" y="129"/>
                  <a:pt x="354" y="132"/>
                  <a:pt x="353" y="134"/>
                </a:cubicBezTo>
                <a:cubicBezTo>
                  <a:pt x="353" y="134"/>
                  <a:pt x="353" y="134"/>
                  <a:pt x="353" y="134"/>
                </a:cubicBezTo>
                <a:cubicBezTo>
                  <a:pt x="352" y="135"/>
                  <a:pt x="349" y="138"/>
                  <a:pt x="342" y="141"/>
                </a:cubicBezTo>
                <a:cubicBezTo>
                  <a:pt x="340" y="142"/>
                  <a:pt x="338" y="143"/>
                  <a:pt x="336" y="144"/>
                </a:cubicBezTo>
                <a:cubicBezTo>
                  <a:pt x="330" y="147"/>
                  <a:pt x="329" y="148"/>
                  <a:pt x="329" y="149"/>
                </a:cubicBezTo>
                <a:cubicBezTo>
                  <a:pt x="329" y="149"/>
                  <a:pt x="329" y="149"/>
                  <a:pt x="329" y="150"/>
                </a:cubicBezTo>
                <a:cubicBezTo>
                  <a:pt x="329" y="151"/>
                  <a:pt x="329" y="153"/>
                  <a:pt x="329" y="155"/>
                </a:cubicBezTo>
                <a:cubicBezTo>
                  <a:pt x="328" y="157"/>
                  <a:pt x="328" y="157"/>
                  <a:pt x="328" y="157"/>
                </a:cubicBezTo>
                <a:cubicBezTo>
                  <a:pt x="329" y="157"/>
                  <a:pt x="329" y="157"/>
                  <a:pt x="329" y="157"/>
                </a:cubicBezTo>
                <a:cubicBezTo>
                  <a:pt x="330" y="160"/>
                  <a:pt x="331" y="162"/>
                  <a:pt x="331" y="162"/>
                </a:cubicBezTo>
                <a:cubicBezTo>
                  <a:pt x="332" y="163"/>
                  <a:pt x="333" y="163"/>
                  <a:pt x="339" y="164"/>
                </a:cubicBezTo>
                <a:cubicBezTo>
                  <a:pt x="341" y="164"/>
                  <a:pt x="343" y="165"/>
                  <a:pt x="346" y="165"/>
                </a:cubicBezTo>
                <a:cubicBezTo>
                  <a:pt x="353" y="167"/>
                  <a:pt x="358" y="168"/>
                  <a:pt x="359" y="169"/>
                </a:cubicBezTo>
                <a:cubicBezTo>
                  <a:pt x="359" y="170"/>
                  <a:pt x="360" y="172"/>
                  <a:pt x="360" y="174"/>
                </a:cubicBezTo>
                <a:cubicBezTo>
                  <a:pt x="359" y="175"/>
                  <a:pt x="359" y="175"/>
                  <a:pt x="359" y="175"/>
                </a:cubicBezTo>
                <a:cubicBezTo>
                  <a:pt x="358" y="176"/>
                  <a:pt x="354" y="178"/>
                  <a:pt x="347" y="180"/>
                </a:cubicBezTo>
                <a:cubicBezTo>
                  <a:pt x="344" y="180"/>
                  <a:pt x="342" y="181"/>
                  <a:pt x="340" y="181"/>
                </a:cubicBezTo>
                <a:cubicBezTo>
                  <a:pt x="334" y="183"/>
                  <a:pt x="333" y="183"/>
                  <a:pt x="332" y="184"/>
                </a:cubicBezTo>
                <a:cubicBezTo>
                  <a:pt x="332" y="185"/>
                  <a:pt x="331" y="186"/>
                  <a:pt x="331" y="187"/>
                </a:cubicBezTo>
                <a:cubicBezTo>
                  <a:pt x="331" y="188"/>
                  <a:pt x="331" y="189"/>
                  <a:pt x="331" y="190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31" y="192"/>
                  <a:pt x="331" y="192"/>
                  <a:pt x="331" y="192"/>
                </a:cubicBezTo>
                <a:cubicBezTo>
                  <a:pt x="330" y="195"/>
                  <a:pt x="331" y="197"/>
                  <a:pt x="331" y="198"/>
                </a:cubicBezTo>
                <a:cubicBezTo>
                  <a:pt x="332" y="198"/>
                  <a:pt x="333" y="199"/>
                  <a:pt x="338" y="201"/>
                </a:cubicBezTo>
                <a:cubicBezTo>
                  <a:pt x="340" y="202"/>
                  <a:pt x="343" y="203"/>
                  <a:pt x="345" y="204"/>
                </a:cubicBezTo>
                <a:cubicBezTo>
                  <a:pt x="352" y="207"/>
                  <a:pt x="356" y="210"/>
                  <a:pt x="357" y="210"/>
                </a:cubicBezTo>
                <a:cubicBezTo>
                  <a:pt x="357" y="211"/>
                  <a:pt x="357" y="212"/>
                  <a:pt x="357" y="213"/>
                </a:cubicBezTo>
                <a:cubicBezTo>
                  <a:pt x="356" y="215"/>
                  <a:pt x="356" y="217"/>
                  <a:pt x="355" y="217"/>
                </a:cubicBezTo>
                <a:cubicBezTo>
                  <a:pt x="354" y="217"/>
                  <a:pt x="350" y="218"/>
                  <a:pt x="342" y="218"/>
                </a:cubicBezTo>
                <a:cubicBezTo>
                  <a:pt x="340" y="218"/>
                  <a:pt x="337" y="218"/>
                  <a:pt x="335" y="218"/>
                </a:cubicBezTo>
                <a:cubicBezTo>
                  <a:pt x="329" y="218"/>
                  <a:pt x="328" y="219"/>
                  <a:pt x="327" y="219"/>
                </a:cubicBezTo>
                <a:cubicBezTo>
                  <a:pt x="326" y="220"/>
                  <a:pt x="325" y="221"/>
                  <a:pt x="325" y="225"/>
                </a:cubicBezTo>
                <a:cubicBezTo>
                  <a:pt x="324" y="225"/>
                  <a:pt x="324" y="225"/>
                  <a:pt x="324" y="225"/>
                </a:cubicBezTo>
                <a:cubicBezTo>
                  <a:pt x="324" y="225"/>
                  <a:pt x="324" y="225"/>
                  <a:pt x="324" y="225"/>
                </a:cubicBezTo>
                <a:cubicBezTo>
                  <a:pt x="324" y="227"/>
                  <a:pt x="323" y="229"/>
                  <a:pt x="323" y="230"/>
                </a:cubicBezTo>
                <a:cubicBezTo>
                  <a:pt x="323" y="231"/>
                  <a:pt x="323" y="232"/>
                  <a:pt x="323" y="232"/>
                </a:cubicBezTo>
                <a:cubicBezTo>
                  <a:pt x="324" y="233"/>
                  <a:pt x="324" y="234"/>
                  <a:pt x="329" y="237"/>
                </a:cubicBezTo>
                <a:cubicBezTo>
                  <a:pt x="331" y="238"/>
                  <a:pt x="333" y="240"/>
                  <a:pt x="335" y="242"/>
                </a:cubicBezTo>
                <a:cubicBezTo>
                  <a:pt x="341" y="246"/>
                  <a:pt x="344" y="249"/>
                  <a:pt x="345" y="250"/>
                </a:cubicBezTo>
                <a:cubicBezTo>
                  <a:pt x="345" y="251"/>
                  <a:pt x="345" y="251"/>
                  <a:pt x="345" y="251"/>
                </a:cubicBezTo>
                <a:cubicBezTo>
                  <a:pt x="345" y="253"/>
                  <a:pt x="343" y="256"/>
                  <a:pt x="342" y="257"/>
                </a:cubicBezTo>
                <a:cubicBezTo>
                  <a:pt x="341" y="257"/>
                  <a:pt x="336" y="256"/>
                  <a:pt x="329" y="255"/>
                </a:cubicBezTo>
                <a:cubicBezTo>
                  <a:pt x="327" y="254"/>
                  <a:pt x="324" y="254"/>
                  <a:pt x="322" y="253"/>
                </a:cubicBezTo>
                <a:cubicBezTo>
                  <a:pt x="316" y="252"/>
                  <a:pt x="315" y="252"/>
                  <a:pt x="314" y="252"/>
                </a:cubicBezTo>
                <a:cubicBezTo>
                  <a:pt x="313" y="253"/>
                  <a:pt x="312" y="254"/>
                  <a:pt x="310" y="257"/>
                </a:cubicBezTo>
                <a:cubicBezTo>
                  <a:pt x="310" y="257"/>
                  <a:pt x="310" y="257"/>
                  <a:pt x="310" y="257"/>
                </a:cubicBezTo>
                <a:cubicBezTo>
                  <a:pt x="310" y="258"/>
                  <a:pt x="310" y="258"/>
                  <a:pt x="310" y="258"/>
                </a:cubicBezTo>
                <a:cubicBezTo>
                  <a:pt x="308" y="260"/>
                  <a:pt x="307" y="261"/>
                  <a:pt x="307" y="263"/>
                </a:cubicBezTo>
                <a:cubicBezTo>
                  <a:pt x="307" y="263"/>
                  <a:pt x="307" y="264"/>
                  <a:pt x="307" y="264"/>
                </a:cubicBezTo>
                <a:cubicBezTo>
                  <a:pt x="308" y="265"/>
                  <a:pt x="308" y="266"/>
                  <a:pt x="312" y="270"/>
                </a:cubicBezTo>
                <a:cubicBezTo>
                  <a:pt x="313" y="272"/>
                  <a:pt x="315" y="274"/>
                  <a:pt x="317" y="276"/>
                </a:cubicBezTo>
                <a:cubicBezTo>
                  <a:pt x="321" y="282"/>
                  <a:pt x="324" y="286"/>
                  <a:pt x="324" y="287"/>
                </a:cubicBezTo>
                <a:cubicBezTo>
                  <a:pt x="324" y="288"/>
                  <a:pt x="321" y="292"/>
                  <a:pt x="320" y="292"/>
                </a:cubicBezTo>
                <a:cubicBezTo>
                  <a:pt x="319" y="292"/>
                  <a:pt x="315" y="290"/>
                  <a:pt x="308" y="287"/>
                </a:cubicBezTo>
                <a:cubicBezTo>
                  <a:pt x="306" y="286"/>
                  <a:pt x="303" y="285"/>
                  <a:pt x="302" y="284"/>
                </a:cubicBezTo>
                <a:cubicBezTo>
                  <a:pt x="296" y="281"/>
                  <a:pt x="295" y="281"/>
                  <a:pt x="294" y="281"/>
                </a:cubicBezTo>
                <a:cubicBezTo>
                  <a:pt x="293" y="281"/>
                  <a:pt x="292" y="282"/>
                  <a:pt x="289" y="285"/>
                </a:cubicBezTo>
                <a:cubicBezTo>
                  <a:pt x="288" y="285"/>
                  <a:pt x="288" y="285"/>
                  <a:pt x="288" y="285"/>
                </a:cubicBezTo>
                <a:cubicBezTo>
                  <a:pt x="288" y="286"/>
                  <a:pt x="288" y="286"/>
                  <a:pt x="288" y="286"/>
                </a:cubicBezTo>
                <a:cubicBezTo>
                  <a:pt x="285" y="289"/>
                  <a:pt x="285" y="290"/>
                  <a:pt x="285" y="291"/>
                </a:cubicBezTo>
                <a:cubicBezTo>
                  <a:pt x="284" y="291"/>
                  <a:pt x="284" y="291"/>
                  <a:pt x="284" y="291"/>
                </a:cubicBezTo>
                <a:cubicBezTo>
                  <a:pt x="285" y="292"/>
                  <a:pt x="285" y="293"/>
                  <a:pt x="287" y="298"/>
                </a:cubicBezTo>
                <a:cubicBezTo>
                  <a:pt x="288" y="300"/>
                  <a:pt x="290" y="302"/>
                  <a:pt x="291" y="305"/>
                </a:cubicBezTo>
                <a:cubicBezTo>
                  <a:pt x="294" y="311"/>
                  <a:pt x="295" y="316"/>
                  <a:pt x="296" y="317"/>
                </a:cubicBezTo>
                <a:cubicBezTo>
                  <a:pt x="295" y="319"/>
                  <a:pt x="292" y="321"/>
                  <a:pt x="290" y="321"/>
                </a:cubicBezTo>
                <a:cubicBezTo>
                  <a:pt x="289" y="321"/>
                  <a:pt x="285" y="318"/>
                  <a:pt x="280" y="314"/>
                </a:cubicBezTo>
                <a:cubicBezTo>
                  <a:pt x="278" y="312"/>
                  <a:pt x="276" y="311"/>
                  <a:pt x="274" y="310"/>
                </a:cubicBezTo>
                <a:cubicBezTo>
                  <a:pt x="269" y="305"/>
                  <a:pt x="268" y="305"/>
                  <a:pt x="267" y="305"/>
                </a:cubicBezTo>
                <a:cubicBezTo>
                  <a:pt x="266" y="305"/>
                  <a:pt x="265" y="305"/>
                  <a:pt x="262" y="307"/>
                </a:cubicBezTo>
                <a:cubicBezTo>
                  <a:pt x="261" y="307"/>
                  <a:pt x="261" y="307"/>
                  <a:pt x="261" y="307"/>
                </a:cubicBezTo>
                <a:cubicBezTo>
                  <a:pt x="260" y="308"/>
                  <a:pt x="260" y="308"/>
                  <a:pt x="260" y="308"/>
                </a:cubicBezTo>
                <a:cubicBezTo>
                  <a:pt x="257" y="310"/>
                  <a:pt x="256" y="311"/>
                  <a:pt x="256" y="312"/>
                </a:cubicBezTo>
                <a:cubicBezTo>
                  <a:pt x="256" y="312"/>
                  <a:pt x="256" y="312"/>
                  <a:pt x="256" y="312"/>
                </a:cubicBezTo>
                <a:cubicBezTo>
                  <a:pt x="256" y="313"/>
                  <a:pt x="256" y="313"/>
                  <a:pt x="256" y="313"/>
                </a:cubicBezTo>
                <a:cubicBezTo>
                  <a:pt x="256" y="313"/>
                  <a:pt x="256" y="315"/>
                  <a:pt x="257" y="320"/>
                </a:cubicBezTo>
                <a:cubicBezTo>
                  <a:pt x="258" y="322"/>
                  <a:pt x="258" y="325"/>
                  <a:pt x="259" y="327"/>
                </a:cubicBezTo>
                <a:cubicBezTo>
                  <a:pt x="260" y="334"/>
                  <a:pt x="261" y="339"/>
                  <a:pt x="261" y="340"/>
                </a:cubicBezTo>
                <a:cubicBezTo>
                  <a:pt x="260" y="341"/>
                  <a:pt x="256" y="343"/>
                  <a:pt x="255" y="343"/>
                </a:cubicBezTo>
                <a:cubicBezTo>
                  <a:pt x="254" y="343"/>
                  <a:pt x="251" y="339"/>
                  <a:pt x="246" y="333"/>
                </a:cubicBezTo>
                <a:cubicBezTo>
                  <a:pt x="244" y="331"/>
                  <a:pt x="243" y="330"/>
                  <a:pt x="242" y="328"/>
                </a:cubicBezTo>
                <a:cubicBezTo>
                  <a:pt x="238" y="323"/>
                  <a:pt x="237" y="322"/>
                  <a:pt x="236" y="322"/>
                </a:cubicBezTo>
                <a:cubicBezTo>
                  <a:pt x="235" y="322"/>
                  <a:pt x="234" y="322"/>
                  <a:pt x="230" y="323"/>
                </a:cubicBezTo>
                <a:cubicBezTo>
                  <a:pt x="229" y="323"/>
                  <a:pt x="229" y="323"/>
                  <a:pt x="229" y="323"/>
                </a:cubicBezTo>
                <a:cubicBezTo>
                  <a:pt x="228" y="324"/>
                  <a:pt x="228" y="324"/>
                  <a:pt x="228" y="324"/>
                </a:cubicBezTo>
                <a:cubicBezTo>
                  <a:pt x="226" y="324"/>
                  <a:pt x="224" y="325"/>
                  <a:pt x="223" y="326"/>
                </a:cubicBezTo>
                <a:cubicBezTo>
                  <a:pt x="223" y="327"/>
                  <a:pt x="223" y="327"/>
                  <a:pt x="223" y="328"/>
                </a:cubicBezTo>
                <a:cubicBezTo>
                  <a:pt x="223" y="329"/>
                  <a:pt x="223" y="331"/>
                  <a:pt x="223" y="334"/>
                </a:cubicBezTo>
                <a:cubicBezTo>
                  <a:pt x="223" y="336"/>
                  <a:pt x="223" y="339"/>
                  <a:pt x="223" y="342"/>
                </a:cubicBezTo>
                <a:cubicBezTo>
                  <a:pt x="223" y="346"/>
                  <a:pt x="222" y="350"/>
                  <a:pt x="222" y="353"/>
                </a:cubicBezTo>
                <a:cubicBezTo>
                  <a:pt x="222" y="354"/>
                  <a:pt x="222" y="355"/>
                  <a:pt x="222" y="355"/>
                </a:cubicBezTo>
                <a:cubicBezTo>
                  <a:pt x="220" y="356"/>
                  <a:pt x="216" y="357"/>
                  <a:pt x="215" y="356"/>
                </a:cubicBezTo>
                <a:cubicBezTo>
                  <a:pt x="214" y="355"/>
                  <a:pt x="212" y="351"/>
                  <a:pt x="209" y="345"/>
                </a:cubicBezTo>
                <a:cubicBezTo>
                  <a:pt x="208" y="342"/>
                  <a:pt x="207" y="340"/>
                  <a:pt x="206" y="338"/>
                </a:cubicBezTo>
                <a:cubicBezTo>
                  <a:pt x="203" y="332"/>
                  <a:pt x="203" y="332"/>
                  <a:pt x="202" y="331"/>
                </a:cubicBezTo>
                <a:cubicBezTo>
                  <a:pt x="201" y="331"/>
                  <a:pt x="200" y="330"/>
                  <a:pt x="196" y="331"/>
                </a:cubicBezTo>
                <a:cubicBezTo>
                  <a:pt x="194" y="329"/>
                  <a:pt x="194" y="329"/>
                  <a:pt x="194" y="329"/>
                </a:cubicBezTo>
                <a:cubicBezTo>
                  <a:pt x="194" y="331"/>
                  <a:pt x="194" y="331"/>
                  <a:pt x="194" y="331"/>
                </a:cubicBezTo>
                <a:cubicBezTo>
                  <a:pt x="191" y="331"/>
                  <a:pt x="189" y="332"/>
                  <a:pt x="188" y="333"/>
                </a:cubicBezTo>
                <a:cubicBezTo>
                  <a:pt x="188" y="333"/>
                  <a:pt x="188" y="334"/>
                  <a:pt x="186" y="340"/>
                </a:cubicBezTo>
                <a:cubicBezTo>
                  <a:pt x="186" y="342"/>
                  <a:pt x="185" y="345"/>
                  <a:pt x="184" y="347"/>
                </a:cubicBezTo>
                <a:cubicBezTo>
                  <a:pt x="182" y="354"/>
                  <a:pt x="181" y="359"/>
                  <a:pt x="180" y="360"/>
                </a:cubicBezTo>
                <a:cubicBezTo>
                  <a:pt x="179" y="360"/>
                  <a:pt x="175" y="360"/>
                  <a:pt x="174" y="360"/>
                </a:cubicBezTo>
                <a:cubicBezTo>
                  <a:pt x="173" y="359"/>
                  <a:pt x="172" y="354"/>
                  <a:pt x="170" y="347"/>
                </a:cubicBezTo>
                <a:cubicBezTo>
                  <a:pt x="170" y="345"/>
                  <a:pt x="169" y="342"/>
                  <a:pt x="169" y="340"/>
                </a:cubicBezTo>
                <a:cubicBezTo>
                  <a:pt x="167" y="334"/>
                  <a:pt x="167" y="333"/>
                  <a:pt x="167" y="332"/>
                </a:cubicBezTo>
                <a:cubicBezTo>
                  <a:pt x="166" y="332"/>
                  <a:pt x="165" y="331"/>
                  <a:pt x="161" y="331"/>
                </a:cubicBezTo>
                <a:cubicBezTo>
                  <a:pt x="160" y="330"/>
                  <a:pt x="160" y="330"/>
                  <a:pt x="160" y="330"/>
                </a:cubicBezTo>
                <a:cubicBezTo>
                  <a:pt x="159" y="330"/>
                  <a:pt x="159" y="330"/>
                  <a:pt x="159" y="330"/>
                </a:cubicBezTo>
                <a:cubicBezTo>
                  <a:pt x="155" y="329"/>
                  <a:pt x="154" y="330"/>
                  <a:pt x="153" y="331"/>
                </a:cubicBezTo>
                <a:cubicBezTo>
                  <a:pt x="152" y="331"/>
                  <a:pt x="152" y="332"/>
                  <a:pt x="149" y="337"/>
                </a:cubicBezTo>
                <a:cubicBezTo>
                  <a:pt x="148" y="339"/>
                  <a:pt x="147" y="341"/>
                  <a:pt x="146" y="344"/>
                </a:cubicBezTo>
                <a:cubicBezTo>
                  <a:pt x="142" y="350"/>
                  <a:pt x="140" y="354"/>
                  <a:pt x="139" y="355"/>
                </a:cubicBezTo>
                <a:cubicBezTo>
                  <a:pt x="137" y="355"/>
                  <a:pt x="133" y="354"/>
                  <a:pt x="132" y="354"/>
                </a:cubicBezTo>
                <a:cubicBezTo>
                  <a:pt x="132" y="352"/>
                  <a:pt x="132" y="348"/>
                  <a:pt x="132" y="340"/>
                </a:cubicBezTo>
                <a:cubicBezTo>
                  <a:pt x="132" y="338"/>
                  <a:pt x="132" y="335"/>
                  <a:pt x="132" y="333"/>
                </a:cubicBezTo>
                <a:cubicBezTo>
                  <a:pt x="132" y="327"/>
                  <a:pt x="132" y="326"/>
                  <a:pt x="132" y="325"/>
                </a:cubicBezTo>
                <a:cubicBezTo>
                  <a:pt x="131" y="324"/>
                  <a:pt x="129" y="323"/>
                  <a:pt x="126" y="322"/>
                </a:cubicBezTo>
                <a:cubicBezTo>
                  <a:pt x="126" y="321"/>
                  <a:pt x="126" y="321"/>
                  <a:pt x="126" y="321"/>
                </a:cubicBezTo>
                <a:cubicBezTo>
                  <a:pt x="125" y="322"/>
                  <a:pt x="125" y="322"/>
                  <a:pt x="125" y="322"/>
                </a:cubicBezTo>
                <a:cubicBezTo>
                  <a:pt x="121" y="320"/>
                  <a:pt x="120" y="320"/>
                  <a:pt x="119" y="320"/>
                </a:cubicBezTo>
                <a:cubicBezTo>
                  <a:pt x="118" y="321"/>
                  <a:pt x="117" y="322"/>
                  <a:pt x="114" y="326"/>
                </a:cubicBezTo>
                <a:cubicBezTo>
                  <a:pt x="112" y="328"/>
                  <a:pt x="111" y="330"/>
                  <a:pt x="109" y="332"/>
                </a:cubicBezTo>
                <a:cubicBezTo>
                  <a:pt x="104" y="337"/>
                  <a:pt x="100" y="340"/>
                  <a:pt x="99" y="341"/>
                </a:cubicBezTo>
                <a:cubicBezTo>
                  <a:pt x="98" y="341"/>
                  <a:pt x="94" y="339"/>
                  <a:pt x="93" y="338"/>
                </a:cubicBezTo>
                <a:cubicBezTo>
                  <a:pt x="93" y="338"/>
                  <a:pt x="94" y="337"/>
                  <a:pt x="94" y="337"/>
                </a:cubicBezTo>
                <a:cubicBezTo>
                  <a:pt x="94" y="337"/>
                  <a:pt x="94" y="337"/>
                  <a:pt x="94" y="337"/>
                </a:cubicBezTo>
                <a:cubicBezTo>
                  <a:pt x="94" y="334"/>
                  <a:pt x="95" y="330"/>
                  <a:pt x="96" y="325"/>
                </a:cubicBezTo>
                <a:cubicBezTo>
                  <a:pt x="97" y="323"/>
                  <a:pt x="97" y="320"/>
                  <a:pt x="98" y="318"/>
                </a:cubicBezTo>
                <a:cubicBezTo>
                  <a:pt x="99" y="315"/>
                  <a:pt x="100" y="313"/>
                  <a:pt x="100" y="312"/>
                </a:cubicBezTo>
                <a:cubicBezTo>
                  <a:pt x="100" y="311"/>
                  <a:pt x="100" y="311"/>
                  <a:pt x="100" y="310"/>
                </a:cubicBezTo>
                <a:cubicBezTo>
                  <a:pt x="99" y="309"/>
                  <a:pt x="98" y="308"/>
                  <a:pt x="95" y="306"/>
                </a:cubicBezTo>
                <a:cubicBezTo>
                  <a:pt x="94" y="304"/>
                  <a:pt x="94" y="304"/>
                  <a:pt x="94" y="304"/>
                </a:cubicBezTo>
                <a:cubicBezTo>
                  <a:pt x="93" y="305"/>
                  <a:pt x="93" y="305"/>
                  <a:pt x="93" y="305"/>
                </a:cubicBezTo>
                <a:cubicBezTo>
                  <a:pt x="91" y="303"/>
                  <a:pt x="90" y="303"/>
                  <a:pt x="88" y="303"/>
                </a:cubicBezTo>
                <a:cubicBezTo>
                  <a:pt x="87" y="303"/>
                  <a:pt x="87" y="303"/>
                  <a:pt x="82" y="307"/>
                </a:cubicBezTo>
                <a:cubicBezTo>
                  <a:pt x="80" y="308"/>
                  <a:pt x="78" y="310"/>
                  <a:pt x="76" y="311"/>
                </a:cubicBezTo>
                <a:cubicBezTo>
                  <a:pt x="70" y="315"/>
                  <a:pt x="66" y="318"/>
                  <a:pt x="64" y="318"/>
                </a:cubicBezTo>
                <a:cubicBezTo>
                  <a:pt x="63" y="318"/>
                  <a:pt x="60" y="315"/>
                  <a:pt x="59" y="314"/>
                </a:cubicBezTo>
                <a:cubicBezTo>
                  <a:pt x="60" y="313"/>
                  <a:pt x="62" y="308"/>
                  <a:pt x="65" y="302"/>
                </a:cubicBezTo>
                <a:cubicBezTo>
                  <a:pt x="66" y="300"/>
                  <a:pt x="67" y="298"/>
                  <a:pt x="68" y="296"/>
                </a:cubicBezTo>
                <a:cubicBezTo>
                  <a:pt x="71" y="291"/>
                  <a:pt x="72" y="290"/>
                  <a:pt x="72" y="289"/>
                </a:cubicBezTo>
                <a:cubicBezTo>
                  <a:pt x="72" y="289"/>
                  <a:pt x="72" y="289"/>
                  <a:pt x="72" y="289"/>
                </a:cubicBezTo>
                <a:cubicBezTo>
                  <a:pt x="72" y="288"/>
                  <a:pt x="72" y="288"/>
                  <a:pt x="72" y="288"/>
                </a:cubicBezTo>
                <a:cubicBezTo>
                  <a:pt x="72" y="287"/>
                  <a:pt x="71" y="286"/>
                  <a:pt x="68" y="283"/>
                </a:cubicBezTo>
                <a:cubicBezTo>
                  <a:pt x="68" y="282"/>
                  <a:pt x="68" y="282"/>
                  <a:pt x="68" y="282"/>
                </a:cubicBezTo>
                <a:cubicBezTo>
                  <a:pt x="67" y="282"/>
                  <a:pt x="67" y="282"/>
                  <a:pt x="67" y="282"/>
                </a:cubicBezTo>
                <a:cubicBezTo>
                  <a:pt x="65" y="279"/>
                  <a:pt x="63" y="278"/>
                  <a:pt x="62" y="278"/>
                </a:cubicBezTo>
                <a:cubicBezTo>
                  <a:pt x="61" y="278"/>
                  <a:pt x="61" y="279"/>
                  <a:pt x="55" y="281"/>
                </a:cubicBezTo>
                <a:cubicBezTo>
                  <a:pt x="53" y="282"/>
                  <a:pt x="51" y="283"/>
                  <a:pt x="48" y="284"/>
                </a:cubicBezTo>
                <a:cubicBezTo>
                  <a:pt x="42" y="286"/>
                  <a:pt x="37" y="288"/>
                  <a:pt x="36" y="288"/>
                </a:cubicBezTo>
                <a:cubicBezTo>
                  <a:pt x="34" y="287"/>
                  <a:pt x="32" y="284"/>
                  <a:pt x="32" y="283"/>
                </a:cubicBezTo>
                <a:cubicBezTo>
                  <a:pt x="32" y="281"/>
                  <a:pt x="35" y="278"/>
                  <a:pt x="40" y="272"/>
                </a:cubicBezTo>
                <a:cubicBezTo>
                  <a:pt x="42" y="270"/>
                  <a:pt x="43" y="269"/>
                  <a:pt x="45" y="267"/>
                </a:cubicBezTo>
                <a:cubicBezTo>
                  <a:pt x="49" y="262"/>
                  <a:pt x="49" y="262"/>
                  <a:pt x="50" y="260"/>
                </a:cubicBezTo>
                <a:cubicBezTo>
                  <a:pt x="50" y="260"/>
                  <a:pt x="50" y="258"/>
                  <a:pt x="47" y="255"/>
                </a:cubicBezTo>
                <a:cubicBezTo>
                  <a:pt x="48" y="253"/>
                  <a:pt x="48" y="253"/>
                  <a:pt x="48" y="253"/>
                </a:cubicBezTo>
                <a:cubicBezTo>
                  <a:pt x="46" y="253"/>
                  <a:pt x="46" y="253"/>
                  <a:pt x="46" y="253"/>
                </a:cubicBezTo>
                <a:cubicBezTo>
                  <a:pt x="45" y="250"/>
                  <a:pt x="44" y="249"/>
                  <a:pt x="43" y="249"/>
                </a:cubicBezTo>
                <a:cubicBezTo>
                  <a:pt x="42" y="248"/>
                  <a:pt x="41" y="249"/>
                  <a:pt x="36" y="249"/>
                </a:cubicBezTo>
                <a:cubicBezTo>
                  <a:pt x="33" y="250"/>
                  <a:pt x="31" y="250"/>
                  <a:pt x="28" y="251"/>
                </a:cubicBezTo>
                <a:cubicBezTo>
                  <a:pt x="21" y="252"/>
                  <a:pt x="16" y="252"/>
                  <a:pt x="15" y="252"/>
                </a:cubicBezTo>
                <a:cubicBezTo>
                  <a:pt x="14" y="251"/>
                  <a:pt x="12" y="247"/>
                  <a:pt x="12" y="246"/>
                </a:cubicBezTo>
                <a:cubicBezTo>
                  <a:pt x="13" y="245"/>
                  <a:pt x="16" y="242"/>
                  <a:pt x="22" y="237"/>
                </a:cubicBezTo>
                <a:cubicBezTo>
                  <a:pt x="24" y="236"/>
                  <a:pt x="26" y="235"/>
                  <a:pt x="28" y="234"/>
                </a:cubicBezTo>
                <a:cubicBezTo>
                  <a:pt x="33" y="230"/>
                  <a:pt x="34" y="229"/>
                  <a:pt x="35" y="228"/>
                </a:cubicBezTo>
                <a:cubicBezTo>
                  <a:pt x="35" y="228"/>
                  <a:pt x="35" y="228"/>
                  <a:pt x="35" y="228"/>
                </a:cubicBezTo>
                <a:cubicBezTo>
                  <a:pt x="35" y="226"/>
                  <a:pt x="35" y="225"/>
                  <a:pt x="34" y="222"/>
                </a:cubicBezTo>
                <a:cubicBezTo>
                  <a:pt x="34" y="221"/>
                  <a:pt x="34" y="221"/>
                  <a:pt x="34" y="221"/>
                </a:cubicBezTo>
                <a:cubicBezTo>
                  <a:pt x="33" y="220"/>
                  <a:pt x="33" y="220"/>
                  <a:pt x="33" y="220"/>
                </a:cubicBezTo>
                <a:cubicBezTo>
                  <a:pt x="32" y="217"/>
                  <a:pt x="31" y="216"/>
                  <a:pt x="31" y="215"/>
                </a:cubicBezTo>
                <a:cubicBezTo>
                  <a:pt x="30" y="215"/>
                  <a:pt x="29" y="215"/>
                  <a:pt x="23" y="214"/>
                </a:cubicBezTo>
                <a:cubicBezTo>
                  <a:pt x="21" y="214"/>
                  <a:pt x="18" y="214"/>
                  <a:pt x="16" y="214"/>
                </a:cubicBezTo>
                <a:cubicBezTo>
                  <a:pt x="8" y="213"/>
                  <a:pt x="4" y="212"/>
                  <a:pt x="3" y="212"/>
                </a:cubicBezTo>
                <a:cubicBezTo>
                  <a:pt x="2" y="211"/>
                  <a:pt x="1" y="208"/>
                  <a:pt x="1" y="206"/>
                </a:cubicBezTo>
                <a:cubicBezTo>
                  <a:pt x="1" y="206"/>
                  <a:pt x="1" y="205"/>
                  <a:pt x="1" y="205"/>
                </a:cubicBezTo>
                <a:cubicBezTo>
                  <a:pt x="2" y="205"/>
                  <a:pt x="7" y="202"/>
                  <a:pt x="13" y="200"/>
                </a:cubicBezTo>
                <a:cubicBezTo>
                  <a:pt x="16" y="199"/>
                  <a:pt x="18" y="198"/>
                  <a:pt x="20" y="197"/>
                </a:cubicBezTo>
                <a:cubicBezTo>
                  <a:pt x="26" y="195"/>
                  <a:pt x="27" y="195"/>
                  <a:pt x="27" y="194"/>
                </a:cubicBezTo>
                <a:cubicBezTo>
                  <a:pt x="28" y="193"/>
                  <a:pt x="28" y="193"/>
                  <a:pt x="28" y="192"/>
                </a:cubicBezTo>
                <a:cubicBezTo>
                  <a:pt x="28" y="190"/>
                  <a:pt x="28" y="189"/>
                  <a:pt x="28" y="188"/>
                </a:cubicBezTo>
                <a:cubicBezTo>
                  <a:pt x="29" y="186"/>
                  <a:pt x="29" y="186"/>
                  <a:pt x="29" y="186"/>
                </a:cubicBezTo>
                <a:cubicBezTo>
                  <a:pt x="28" y="185"/>
                  <a:pt x="28" y="185"/>
                  <a:pt x="28" y="185"/>
                </a:cubicBezTo>
                <a:cubicBezTo>
                  <a:pt x="28" y="182"/>
                  <a:pt x="27" y="181"/>
                  <a:pt x="26" y="180"/>
                </a:cubicBezTo>
                <a:cubicBezTo>
                  <a:pt x="26" y="179"/>
                  <a:pt x="25" y="179"/>
                  <a:pt x="20" y="177"/>
                </a:cubicBezTo>
                <a:cubicBezTo>
                  <a:pt x="17" y="177"/>
                  <a:pt x="15" y="176"/>
                  <a:pt x="12" y="175"/>
                </a:cubicBezTo>
                <a:cubicBezTo>
                  <a:pt x="5" y="173"/>
                  <a:pt x="1" y="171"/>
                  <a:pt x="0" y="170"/>
                </a:cubicBezTo>
                <a:cubicBezTo>
                  <a:pt x="0" y="170"/>
                  <a:pt x="0" y="168"/>
                  <a:pt x="0" y="166"/>
                </a:cubicBezTo>
                <a:close/>
                <a:moveTo>
                  <a:pt x="287" y="193"/>
                </a:moveTo>
                <a:cubicBezTo>
                  <a:pt x="295" y="134"/>
                  <a:pt x="253" y="79"/>
                  <a:pt x="193" y="72"/>
                </a:cubicBezTo>
                <a:cubicBezTo>
                  <a:pt x="134" y="64"/>
                  <a:pt x="80" y="106"/>
                  <a:pt x="72" y="165"/>
                </a:cubicBezTo>
                <a:cubicBezTo>
                  <a:pt x="64" y="225"/>
                  <a:pt x="106" y="279"/>
                  <a:pt x="166" y="287"/>
                </a:cubicBezTo>
                <a:cubicBezTo>
                  <a:pt x="225" y="295"/>
                  <a:pt x="280" y="253"/>
                  <a:pt x="287" y="193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4900680" y="1114560"/>
            <a:ext cx="1887480" cy="1877760"/>
          </a:xfrm>
          <a:custGeom>
            <a:avLst/>
            <a:gdLst>
              <a:gd name="textAreaLeft" fmla="*/ 0 w 1887480"/>
              <a:gd name="textAreaRight" fmla="*/ 1887840 w 1887480"/>
              <a:gd name="textAreaTop" fmla="*/ 0 h 1877760"/>
              <a:gd name="textAreaBottom" fmla="*/ 1878120 h 1877760"/>
            </a:gdLst>
            <a:ahLst/>
            <a:rect l="textAreaLeft" t="textAreaTop" r="textAreaRight" b="textAreaBottom"/>
            <a:pathLst>
              <a:path w="383" h="382">
                <a:moveTo>
                  <a:pt x="0" y="201"/>
                </a:moveTo>
                <a:cubicBezTo>
                  <a:pt x="0" y="200"/>
                  <a:pt x="1" y="199"/>
                  <a:pt x="1" y="199"/>
                </a:cubicBezTo>
                <a:cubicBezTo>
                  <a:pt x="2" y="198"/>
                  <a:pt x="6" y="196"/>
                  <a:pt x="14" y="194"/>
                </a:cubicBezTo>
                <a:cubicBezTo>
                  <a:pt x="16" y="193"/>
                  <a:pt x="19" y="193"/>
                  <a:pt x="21" y="192"/>
                </a:cubicBezTo>
                <a:cubicBezTo>
                  <a:pt x="28" y="190"/>
                  <a:pt x="29" y="190"/>
                  <a:pt x="29" y="189"/>
                </a:cubicBezTo>
                <a:cubicBezTo>
                  <a:pt x="30" y="188"/>
                  <a:pt x="31" y="187"/>
                  <a:pt x="31" y="183"/>
                </a:cubicBezTo>
                <a:cubicBezTo>
                  <a:pt x="31" y="182"/>
                  <a:pt x="31" y="182"/>
                  <a:pt x="31" y="182"/>
                </a:cubicBezTo>
                <a:cubicBezTo>
                  <a:pt x="31" y="182"/>
                  <a:pt x="31" y="182"/>
                  <a:pt x="31" y="182"/>
                </a:cubicBezTo>
                <a:cubicBezTo>
                  <a:pt x="31" y="182"/>
                  <a:pt x="31" y="180"/>
                  <a:pt x="31" y="179"/>
                </a:cubicBezTo>
                <a:cubicBezTo>
                  <a:pt x="31" y="177"/>
                  <a:pt x="31" y="176"/>
                  <a:pt x="30" y="175"/>
                </a:cubicBezTo>
                <a:cubicBezTo>
                  <a:pt x="29" y="174"/>
                  <a:pt x="28" y="174"/>
                  <a:pt x="23" y="171"/>
                </a:cubicBezTo>
                <a:cubicBezTo>
                  <a:pt x="21" y="170"/>
                  <a:pt x="18" y="169"/>
                  <a:pt x="15" y="168"/>
                </a:cubicBezTo>
                <a:cubicBezTo>
                  <a:pt x="8" y="165"/>
                  <a:pt x="4" y="162"/>
                  <a:pt x="3" y="162"/>
                </a:cubicBezTo>
                <a:cubicBezTo>
                  <a:pt x="3" y="161"/>
                  <a:pt x="3" y="161"/>
                  <a:pt x="3" y="160"/>
                </a:cubicBezTo>
                <a:cubicBezTo>
                  <a:pt x="3" y="158"/>
                  <a:pt x="4" y="155"/>
                  <a:pt x="4" y="155"/>
                </a:cubicBezTo>
                <a:cubicBezTo>
                  <a:pt x="5" y="154"/>
                  <a:pt x="10" y="153"/>
                  <a:pt x="18" y="153"/>
                </a:cubicBezTo>
                <a:cubicBezTo>
                  <a:pt x="21" y="153"/>
                  <a:pt x="23" y="153"/>
                  <a:pt x="25" y="153"/>
                </a:cubicBezTo>
                <a:cubicBezTo>
                  <a:pt x="32" y="153"/>
                  <a:pt x="33" y="153"/>
                  <a:pt x="34" y="152"/>
                </a:cubicBezTo>
                <a:cubicBezTo>
                  <a:pt x="35" y="151"/>
                  <a:pt x="36" y="150"/>
                  <a:pt x="37" y="146"/>
                </a:cubicBezTo>
                <a:cubicBezTo>
                  <a:pt x="37" y="146"/>
                  <a:pt x="37" y="146"/>
                  <a:pt x="37" y="146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8" y="143"/>
                  <a:pt x="38" y="141"/>
                  <a:pt x="38" y="140"/>
                </a:cubicBezTo>
                <a:cubicBezTo>
                  <a:pt x="38" y="139"/>
                  <a:pt x="38" y="139"/>
                  <a:pt x="38" y="138"/>
                </a:cubicBezTo>
                <a:cubicBezTo>
                  <a:pt x="38" y="137"/>
                  <a:pt x="37" y="136"/>
                  <a:pt x="32" y="133"/>
                </a:cubicBezTo>
                <a:cubicBezTo>
                  <a:pt x="30" y="131"/>
                  <a:pt x="28" y="130"/>
                  <a:pt x="26" y="128"/>
                </a:cubicBezTo>
                <a:cubicBezTo>
                  <a:pt x="19" y="123"/>
                  <a:pt x="16" y="120"/>
                  <a:pt x="15" y="119"/>
                </a:cubicBezTo>
                <a:cubicBezTo>
                  <a:pt x="15" y="117"/>
                  <a:pt x="17" y="113"/>
                  <a:pt x="18" y="112"/>
                </a:cubicBezTo>
                <a:cubicBezTo>
                  <a:pt x="19" y="112"/>
                  <a:pt x="24" y="113"/>
                  <a:pt x="32" y="114"/>
                </a:cubicBezTo>
                <a:cubicBezTo>
                  <a:pt x="34" y="115"/>
                  <a:pt x="37" y="115"/>
                  <a:pt x="39" y="116"/>
                </a:cubicBezTo>
                <a:cubicBezTo>
                  <a:pt x="46" y="117"/>
                  <a:pt x="47" y="117"/>
                  <a:pt x="48" y="117"/>
                </a:cubicBezTo>
                <a:cubicBezTo>
                  <a:pt x="48" y="116"/>
                  <a:pt x="49" y="116"/>
                  <a:pt x="52" y="112"/>
                </a:cubicBezTo>
                <a:cubicBezTo>
                  <a:pt x="52" y="111"/>
                  <a:pt x="52" y="111"/>
                  <a:pt x="52" y="111"/>
                </a:cubicBezTo>
                <a:cubicBezTo>
                  <a:pt x="52" y="111"/>
                  <a:pt x="52" y="111"/>
                  <a:pt x="52" y="111"/>
                </a:cubicBezTo>
                <a:cubicBezTo>
                  <a:pt x="55" y="107"/>
                  <a:pt x="55" y="105"/>
                  <a:pt x="55" y="105"/>
                </a:cubicBezTo>
                <a:cubicBezTo>
                  <a:pt x="55" y="105"/>
                  <a:pt x="55" y="104"/>
                  <a:pt x="55" y="104"/>
                </a:cubicBezTo>
                <a:cubicBezTo>
                  <a:pt x="54" y="103"/>
                  <a:pt x="54" y="102"/>
                  <a:pt x="50" y="98"/>
                </a:cubicBezTo>
                <a:cubicBezTo>
                  <a:pt x="48" y="96"/>
                  <a:pt x="46" y="94"/>
                  <a:pt x="45" y="91"/>
                </a:cubicBezTo>
                <a:cubicBezTo>
                  <a:pt x="40" y="85"/>
                  <a:pt x="37" y="81"/>
                  <a:pt x="36" y="80"/>
                </a:cubicBezTo>
                <a:cubicBezTo>
                  <a:pt x="37" y="79"/>
                  <a:pt x="39" y="75"/>
                  <a:pt x="41" y="74"/>
                </a:cubicBezTo>
                <a:cubicBezTo>
                  <a:pt x="42" y="75"/>
                  <a:pt x="47" y="76"/>
                  <a:pt x="54" y="79"/>
                </a:cubicBezTo>
                <a:cubicBezTo>
                  <a:pt x="56" y="80"/>
                  <a:pt x="58" y="81"/>
                  <a:pt x="61" y="82"/>
                </a:cubicBezTo>
                <a:cubicBezTo>
                  <a:pt x="67" y="85"/>
                  <a:pt x="68" y="86"/>
                  <a:pt x="69" y="85"/>
                </a:cubicBezTo>
                <a:cubicBezTo>
                  <a:pt x="70" y="85"/>
                  <a:pt x="72" y="84"/>
                  <a:pt x="74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5" y="80"/>
                  <a:pt x="75" y="80"/>
                  <a:pt x="75" y="80"/>
                </a:cubicBezTo>
                <a:cubicBezTo>
                  <a:pt x="77" y="78"/>
                  <a:pt x="78" y="76"/>
                  <a:pt x="78" y="75"/>
                </a:cubicBezTo>
                <a:cubicBezTo>
                  <a:pt x="78" y="74"/>
                  <a:pt x="78" y="73"/>
                  <a:pt x="75" y="68"/>
                </a:cubicBezTo>
                <a:cubicBezTo>
                  <a:pt x="74" y="66"/>
                  <a:pt x="73" y="63"/>
                  <a:pt x="72" y="60"/>
                </a:cubicBezTo>
                <a:cubicBezTo>
                  <a:pt x="68" y="53"/>
                  <a:pt x="67" y="49"/>
                  <a:pt x="66" y="47"/>
                </a:cubicBezTo>
                <a:cubicBezTo>
                  <a:pt x="67" y="46"/>
                  <a:pt x="70" y="43"/>
                  <a:pt x="72" y="43"/>
                </a:cubicBezTo>
                <a:cubicBezTo>
                  <a:pt x="73" y="43"/>
                  <a:pt x="77" y="46"/>
                  <a:pt x="83" y="51"/>
                </a:cubicBezTo>
                <a:cubicBezTo>
                  <a:pt x="85" y="52"/>
                  <a:pt x="87" y="54"/>
                  <a:pt x="89" y="55"/>
                </a:cubicBezTo>
                <a:cubicBezTo>
                  <a:pt x="95" y="59"/>
                  <a:pt x="95" y="60"/>
                  <a:pt x="97" y="60"/>
                </a:cubicBezTo>
                <a:cubicBezTo>
                  <a:pt x="97" y="60"/>
                  <a:pt x="99" y="60"/>
                  <a:pt x="102" y="57"/>
                </a:cubicBezTo>
                <a:cubicBezTo>
                  <a:pt x="104" y="57"/>
                  <a:pt x="104" y="57"/>
                  <a:pt x="104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7" y="54"/>
                  <a:pt x="108" y="53"/>
                  <a:pt x="108" y="52"/>
                </a:cubicBezTo>
                <a:cubicBezTo>
                  <a:pt x="108" y="52"/>
                  <a:pt x="108" y="52"/>
                  <a:pt x="108" y="52"/>
                </a:cubicBezTo>
                <a:cubicBezTo>
                  <a:pt x="109" y="51"/>
                  <a:pt x="109" y="51"/>
                  <a:pt x="109" y="51"/>
                </a:cubicBezTo>
                <a:cubicBezTo>
                  <a:pt x="109" y="50"/>
                  <a:pt x="108" y="48"/>
                  <a:pt x="107" y="44"/>
                </a:cubicBezTo>
                <a:cubicBezTo>
                  <a:pt x="106" y="42"/>
                  <a:pt x="106" y="39"/>
                  <a:pt x="105" y="36"/>
                </a:cubicBezTo>
                <a:cubicBezTo>
                  <a:pt x="104" y="30"/>
                  <a:pt x="103" y="24"/>
                  <a:pt x="103" y="22"/>
                </a:cubicBezTo>
                <a:cubicBezTo>
                  <a:pt x="103" y="22"/>
                  <a:pt x="103" y="22"/>
                  <a:pt x="103" y="22"/>
                </a:cubicBezTo>
                <a:cubicBezTo>
                  <a:pt x="104" y="21"/>
                  <a:pt x="108" y="19"/>
                  <a:pt x="109" y="19"/>
                </a:cubicBezTo>
                <a:cubicBezTo>
                  <a:pt x="110" y="20"/>
                  <a:pt x="114" y="23"/>
                  <a:pt x="119" y="29"/>
                </a:cubicBezTo>
                <a:cubicBezTo>
                  <a:pt x="120" y="31"/>
                  <a:pt x="122" y="33"/>
                  <a:pt x="123" y="35"/>
                </a:cubicBezTo>
                <a:cubicBezTo>
                  <a:pt x="128" y="41"/>
                  <a:pt x="128" y="41"/>
                  <a:pt x="129" y="42"/>
                </a:cubicBezTo>
                <a:cubicBezTo>
                  <a:pt x="130" y="42"/>
                  <a:pt x="132" y="42"/>
                  <a:pt x="136" y="40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41" y="39"/>
                  <a:pt x="142" y="38"/>
                  <a:pt x="143" y="36"/>
                </a:cubicBezTo>
                <a:cubicBezTo>
                  <a:pt x="143" y="36"/>
                  <a:pt x="143" y="35"/>
                  <a:pt x="143" y="30"/>
                </a:cubicBezTo>
                <a:cubicBezTo>
                  <a:pt x="143" y="27"/>
                  <a:pt x="143" y="27"/>
                  <a:pt x="143" y="27"/>
                </a:cubicBezTo>
                <a:cubicBezTo>
                  <a:pt x="143" y="25"/>
                  <a:pt x="143" y="23"/>
                  <a:pt x="143" y="20"/>
                </a:cubicBezTo>
                <a:cubicBezTo>
                  <a:pt x="143" y="13"/>
                  <a:pt x="144" y="8"/>
                  <a:pt x="144" y="6"/>
                </a:cubicBezTo>
                <a:cubicBezTo>
                  <a:pt x="146" y="5"/>
                  <a:pt x="150" y="4"/>
                  <a:pt x="151" y="5"/>
                </a:cubicBezTo>
                <a:cubicBezTo>
                  <a:pt x="152" y="6"/>
                  <a:pt x="155" y="10"/>
                  <a:pt x="158" y="17"/>
                </a:cubicBezTo>
                <a:cubicBezTo>
                  <a:pt x="159" y="19"/>
                  <a:pt x="160" y="22"/>
                  <a:pt x="161" y="24"/>
                </a:cubicBezTo>
                <a:cubicBezTo>
                  <a:pt x="164" y="30"/>
                  <a:pt x="165" y="31"/>
                  <a:pt x="166" y="31"/>
                </a:cubicBezTo>
                <a:cubicBezTo>
                  <a:pt x="166" y="32"/>
                  <a:pt x="168" y="32"/>
                  <a:pt x="172" y="31"/>
                </a:cubicBezTo>
                <a:cubicBezTo>
                  <a:pt x="173" y="32"/>
                  <a:pt x="173" y="32"/>
                  <a:pt x="173" y="32"/>
                </a:cubicBezTo>
                <a:cubicBezTo>
                  <a:pt x="173" y="31"/>
                  <a:pt x="173" y="31"/>
                  <a:pt x="173" y="31"/>
                </a:cubicBezTo>
                <a:cubicBezTo>
                  <a:pt x="178" y="31"/>
                  <a:pt x="179" y="30"/>
                  <a:pt x="180" y="30"/>
                </a:cubicBezTo>
                <a:cubicBezTo>
                  <a:pt x="181" y="29"/>
                  <a:pt x="181" y="28"/>
                  <a:pt x="182" y="22"/>
                </a:cubicBezTo>
                <a:cubicBezTo>
                  <a:pt x="183" y="20"/>
                  <a:pt x="183" y="17"/>
                  <a:pt x="184" y="14"/>
                </a:cubicBezTo>
                <a:cubicBezTo>
                  <a:pt x="186" y="7"/>
                  <a:pt x="188" y="2"/>
                  <a:pt x="188" y="1"/>
                </a:cubicBezTo>
                <a:cubicBezTo>
                  <a:pt x="190" y="0"/>
                  <a:pt x="194" y="0"/>
                  <a:pt x="195" y="1"/>
                </a:cubicBezTo>
                <a:cubicBezTo>
                  <a:pt x="196" y="2"/>
                  <a:pt x="198" y="6"/>
                  <a:pt x="199" y="14"/>
                </a:cubicBezTo>
                <a:cubicBezTo>
                  <a:pt x="200" y="17"/>
                  <a:pt x="200" y="19"/>
                  <a:pt x="201" y="21"/>
                </a:cubicBezTo>
                <a:cubicBezTo>
                  <a:pt x="202" y="28"/>
                  <a:pt x="202" y="29"/>
                  <a:pt x="203" y="30"/>
                </a:cubicBezTo>
                <a:cubicBezTo>
                  <a:pt x="204" y="30"/>
                  <a:pt x="205" y="31"/>
                  <a:pt x="209" y="31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11" y="32"/>
                  <a:pt x="211" y="32"/>
                  <a:pt x="211" y="32"/>
                </a:cubicBezTo>
                <a:cubicBezTo>
                  <a:pt x="215" y="32"/>
                  <a:pt x="217" y="32"/>
                  <a:pt x="218" y="31"/>
                </a:cubicBezTo>
                <a:cubicBezTo>
                  <a:pt x="218" y="31"/>
                  <a:pt x="219" y="30"/>
                  <a:pt x="221" y="24"/>
                </a:cubicBezTo>
                <a:cubicBezTo>
                  <a:pt x="223" y="22"/>
                  <a:pt x="224" y="20"/>
                  <a:pt x="225" y="17"/>
                </a:cubicBezTo>
                <a:cubicBezTo>
                  <a:pt x="229" y="10"/>
                  <a:pt x="232" y="6"/>
                  <a:pt x="232" y="5"/>
                </a:cubicBezTo>
                <a:cubicBezTo>
                  <a:pt x="234" y="5"/>
                  <a:pt x="238" y="6"/>
                  <a:pt x="239" y="7"/>
                </a:cubicBezTo>
                <a:cubicBezTo>
                  <a:pt x="240" y="8"/>
                  <a:pt x="240" y="11"/>
                  <a:pt x="240" y="18"/>
                </a:cubicBezTo>
                <a:cubicBezTo>
                  <a:pt x="240" y="19"/>
                  <a:pt x="240" y="20"/>
                  <a:pt x="240" y="21"/>
                </a:cubicBezTo>
                <a:cubicBezTo>
                  <a:pt x="240" y="23"/>
                  <a:pt x="240" y="26"/>
                  <a:pt x="240" y="28"/>
                </a:cubicBezTo>
                <a:cubicBezTo>
                  <a:pt x="240" y="30"/>
                  <a:pt x="240" y="32"/>
                  <a:pt x="240" y="33"/>
                </a:cubicBezTo>
                <a:cubicBezTo>
                  <a:pt x="240" y="35"/>
                  <a:pt x="240" y="36"/>
                  <a:pt x="240" y="37"/>
                </a:cubicBezTo>
                <a:cubicBezTo>
                  <a:pt x="241" y="38"/>
                  <a:pt x="242" y="39"/>
                  <a:pt x="246" y="40"/>
                </a:cubicBezTo>
                <a:cubicBezTo>
                  <a:pt x="247" y="41"/>
                  <a:pt x="247" y="41"/>
                  <a:pt x="247" y="41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1" y="42"/>
                  <a:pt x="253" y="42"/>
                  <a:pt x="254" y="41"/>
                </a:cubicBezTo>
                <a:cubicBezTo>
                  <a:pt x="255" y="41"/>
                  <a:pt x="255" y="40"/>
                  <a:pt x="259" y="36"/>
                </a:cubicBezTo>
                <a:cubicBezTo>
                  <a:pt x="261" y="34"/>
                  <a:pt x="263" y="32"/>
                  <a:pt x="265" y="30"/>
                </a:cubicBezTo>
                <a:cubicBezTo>
                  <a:pt x="270" y="24"/>
                  <a:pt x="273" y="20"/>
                  <a:pt x="274" y="19"/>
                </a:cubicBezTo>
                <a:cubicBezTo>
                  <a:pt x="276" y="19"/>
                  <a:pt x="280" y="21"/>
                  <a:pt x="281" y="23"/>
                </a:cubicBezTo>
                <a:cubicBezTo>
                  <a:pt x="281" y="25"/>
                  <a:pt x="280" y="30"/>
                  <a:pt x="278" y="36"/>
                </a:cubicBezTo>
                <a:cubicBezTo>
                  <a:pt x="277" y="39"/>
                  <a:pt x="277" y="41"/>
                  <a:pt x="276" y="44"/>
                </a:cubicBezTo>
                <a:cubicBezTo>
                  <a:pt x="275" y="48"/>
                  <a:pt x="274" y="50"/>
                  <a:pt x="274" y="51"/>
                </a:cubicBezTo>
                <a:cubicBezTo>
                  <a:pt x="274" y="52"/>
                  <a:pt x="274" y="52"/>
                  <a:pt x="274" y="52"/>
                </a:cubicBezTo>
                <a:cubicBezTo>
                  <a:pt x="275" y="52"/>
                  <a:pt x="275" y="52"/>
                  <a:pt x="275" y="52"/>
                </a:cubicBezTo>
                <a:cubicBezTo>
                  <a:pt x="275" y="53"/>
                  <a:pt x="276" y="54"/>
                  <a:pt x="279" y="56"/>
                </a:cubicBezTo>
                <a:cubicBezTo>
                  <a:pt x="280" y="58"/>
                  <a:pt x="280" y="58"/>
                  <a:pt x="280" y="58"/>
                </a:cubicBezTo>
                <a:cubicBezTo>
                  <a:pt x="281" y="58"/>
                  <a:pt x="281" y="58"/>
                  <a:pt x="281" y="58"/>
                </a:cubicBezTo>
                <a:cubicBezTo>
                  <a:pt x="284" y="60"/>
                  <a:pt x="286" y="60"/>
                  <a:pt x="287" y="60"/>
                </a:cubicBezTo>
                <a:cubicBezTo>
                  <a:pt x="288" y="60"/>
                  <a:pt x="289" y="59"/>
                  <a:pt x="293" y="56"/>
                </a:cubicBezTo>
                <a:cubicBezTo>
                  <a:pt x="295" y="54"/>
                  <a:pt x="298" y="52"/>
                  <a:pt x="300" y="51"/>
                </a:cubicBezTo>
                <a:cubicBezTo>
                  <a:pt x="306" y="46"/>
                  <a:pt x="311" y="44"/>
                  <a:pt x="312" y="43"/>
                </a:cubicBezTo>
                <a:cubicBezTo>
                  <a:pt x="313" y="44"/>
                  <a:pt x="317" y="46"/>
                  <a:pt x="317" y="48"/>
                </a:cubicBezTo>
                <a:cubicBezTo>
                  <a:pt x="317" y="49"/>
                  <a:pt x="315" y="53"/>
                  <a:pt x="311" y="61"/>
                </a:cubicBezTo>
                <a:cubicBezTo>
                  <a:pt x="310" y="63"/>
                  <a:pt x="309" y="65"/>
                  <a:pt x="308" y="67"/>
                </a:cubicBezTo>
                <a:cubicBezTo>
                  <a:pt x="305" y="73"/>
                  <a:pt x="304" y="74"/>
                  <a:pt x="304" y="75"/>
                </a:cubicBezTo>
                <a:cubicBezTo>
                  <a:pt x="304" y="75"/>
                  <a:pt x="304" y="75"/>
                  <a:pt x="304" y="75"/>
                </a:cubicBezTo>
                <a:cubicBezTo>
                  <a:pt x="304" y="75"/>
                  <a:pt x="304" y="75"/>
                  <a:pt x="304" y="75"/>
                </a:cubicBezTo>
                <a:cubicBezTo>
                  <a:pt x="305" y="76"/>
                  <a:pt x="306" y="78"/>
                  <a:pt x="308" y="80"/>
                </a:cubicBezTo>
                <a:cubicBezTo>
                  <a:pt x="309" y="83"/>
                  <a:pt x="309" y="83"/>
                  <a:pt x="309" y="83"/>
                </a:cubicBezTo>
                <a:cubicBezTo>
                  <a:pt x="310" y="82"/>
                  <a:pt x="310" y="82"/>
                  <a:pt x="310" y="82"/>
                </a:cubicBezTo>
                <a:cubicBezTo>
                  <a:pt x="312" y="84"/>
                  <a:pt x="313" y="85"/>
                  <a:pt x="315" y="85"/>
                </a:cubicBezTo>
                <a:cubicBezTo>
                  <a:pt x="316" y="86"/>
                  <a:pt x="316" y="85"/>
                  <a:pt x="322" y="83"/>
                </a:cubicBezTo>
                <a:cubicBezTo>
                  <a:pt x="324" y="82"/>
                  <a:pt x="327" y="81"/>
                  <a:pt x="329" y="80"/>
                </a:cubicBezTo>
                <a:cubicBezTo>
                  <a:pt x="337" y="77"/>
                  <a:pt x="341" y="75"/>
                  <a:pt x="343" y="75"/>
                </a:cubicBezTo>
                <a:cubicBezTo>
                  <a:pt x="344" y="76"/>
                  <a:pt x="347" y="79"/>
                  <a:pt x="347" y="81"/>
                </a:cubicBezTo>
                <a:cubicBezTo>
                  <a:pt x="346" y="82"/>
                  <a:pt x="344" y="85"/>
                  <a:pt x="338" y="92"/>
                </a:cubicBezTo>
                <a:cubicBezTo>
                  <a:pt x="337" y="94"/>
                  <a:pt x="335" y="96"/>
                  <a:pt x="334" y="97"/>
                </a:cubicBezTo>
                <a:cubicBezTo>
                  <a:pt x="329" y="102"/>
                  <a:pt x="328" y="103"/>
                  <a:pt x="328" y="104"/>
                </a:cubicBezTo>
                <a:cubicBezTo>
                  <a:pt x="328" y="105"/>
                  <a:pt x="328" y="105"/>
                  <a:pt x="328" y="105"/>
                </a:cubicBezTo>
                <a:cubicBezTo>
                  <a:pt x="328" y="106"/>
                  <a:pt x="329" y="108"/>
                  <a:pt x="331" y="110"/>
                </a:cubicBezTo>
                <a:cubicBezTo>
                  <a:pt x="331" y="113"/>
                  <a:pt x="331" y="113"/>
                  <a:pt x="331" y="113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6"/>
                  <a:pt x="335" y="116"/>
                  <a:pt x="336" y="117"/>
                </a:cubicBezTo>
                <a:cubicBezTo>
                  <a:pt x="337" y="117"/>
                  <a:pt x="338" y="117"/>
                  <a:pt x="344" y="116"/>
                </a:cubicBezTo>
                <a:cubicBezTo>
                  <a:pt x="346" y="115"/>
                  <a:pt x="349" y="115"/>
                  <a:pt x="352" y="114"/>
                </a:cubicBezTo>
                <a:cubicBezTo>
                  <a:pt x="359" y="113"/>
                  <a:pt x="364" y="113"/>
                  <a:pt x="366" y="113"/>
                </a:cubicBezTo>
                <a:cubicBezTo>
                  <a:pt x="367" y="114"/>
                  <a:pt x="368" y="118"/>
                  <a:pt x="368" y="119"/>
                </a:cubicBezTo>
                <a:cubicBezTo>
                  <a:pt x="368" y="119"/>
                  <a:pt x="368" y="119"/>
                  <a:pt x="368" y="119"/>
                </a:cubicBezTo>
                <a:cubicBezTo>
                  <a:pt x="368" y="120"/>
                  <a:pt x="364" y="124"/>
                  <a:pt x="357" y="128"/>
                </a:cubicBezTo>
                <a:cubicBezTo>
                  <a:pt x="355" y="130"/>
                  <a:pt x="353" y="131"/>
                  <a:pt x="352" y="133"/>
                </a:cubicBezTo>
                <a:cubicBezTo>
                  <a:pt x="346" y="137"/>
                  <a:pt x="345" y="137"/>
                  <a:pt x="345" y="138"/>
                </a:cubicBezTo>
                <a:cubicBezTo>
                  <a:pt x="345" y="139"/>
                  <a:pt x="345" y="139"/>
                  <a:pt x="345" y="139"/>
                </a:cubicBezTo>
                <a:cubicBezTo>
                  <a:pt x="345" y="141"/>
                  <a:pt x="345" y="142"/>
                  <a:pt x="346" y="144"/>
                </a:cubicBezTo>
                <a:cubicBezTo>
                  <a:pt x="345" y="147"/>
                  <a:pt x="345" y="147"/>
                  <a:pt x="345" y="147"/>
                </a:cubicBezTo>
                <a:cubicBezTo>
                  <a:pt x="346" y="147"/>
                  <a:pt x="346" y="147"/>
                  <a:pt x="346" y="147"/>
                </a:cubicBezTo>
                <a:cubicBezTo>
                  <a:pt x="347" y="150"/>
                  <a:pt x="348" y="151"/>
                  <a:pt x="349" y="152"/>
                </a:cubicBezTo>
                <a:cubicBezTo>
                  <a:pt x="350" y="152"/>
                  <a:pt x="351" y="153"/>
                  <a:pt x="357" y="153"/>
                </a:cubicBezTo>
                <a:cubicBezTo>
                  <a:pt x="359" y="153"/>
                  <a:pt x="362" y="153"/>
                  <a:pt x="365" y="153"/>
                </a:cubicBezTo>
                <a:cubicBezTo>
                  <a:pt x="373" y="154"/>
                  <a:pt x="378" y="155"/>
                  <a:pt x="379" y="155"/>
                </a:cubicBezTo>
                <a:cubicBezTo>
                  <a:pt x="380" y="156"/>
                  <a:pt x="380" y="159"/>
                  <a:pt x="380" y="161"/>
                </a:cubicBezTo>
                <a:cubicBezTo>
                  <a:pt x="380" y="162"/>
                  <a:pt x="380" y="162"/>
                  <a:pt x="380" y="162"/>
                </a:cubicBezTo>
                <a:cubicBezTo>
                  <a:pt x="379" y="163"/>
                  <a:pt x="375" y="165"/>
                  <a:pt x="368" y="168"/>
                </a:cubicBezTo>
                <a:cubicBezTo>
                  <a:pt x="365" y="169"/>
                  <a:pt x="363" y="170"/>
                  <a:pt x="361" y="171"/>
                </a:cubicBezTo>
                <a:cubicBezTo>
                  <a:pt x="354" y="174"/>
                  <a:pt x="354" y="174"/>
                  <a:pt x="353" y="175"/>
                </a:cubicBezTo>
                <a:cubicBezTo>
                  <a:pt x="352" y="176"/>
                  <a:pt x="352" y="177"/>
                  <a:pt x="352" y="178"/>
                </a:cubicBezTo>
                <a:cubicBezTo>
                  <a:pt x="352" y="179"/>
                  <a:pt x="352" y="181"/>
                  <a:pt x="352" y="181"/>
                </a:cubicBezTo>
                <a:cubicBezTo>
                  <a:pt x="351" y="184"/>
                  <a:pt x="351" y="184"/>
                  <a:pt x="351" y="184"/>
                </a:cubicBezTo>
                <a:cubicBezTo>
                  <a:pt x="352" y="184"/>
                  <a:pt x="352" y="184"/>
                  <a:pt x="352" y="184"/>
                </a:cubicBezTo>
                <a:cubicBezTo>
                  <a:pt x="352" y="187"/>
                  <a:pt x="353" y="188"/>
                  <a:pt x="354" y="189"/>
                </a:cubicBezTo>
                <a:cubicBezTo>
                  <a:pt x="355" y="190"/>
                  <a:pt x="356" y="190"/>
                  <a:pt x="361" y="192"/>
                </a:cubicBezTo>
                <a:cubicBezTo>
                  <a:pt x="364" y="193"/>
                  <a:pt x="366" y="194"/>
                  <a:pt x="369" y="194"/>
                </a:cubicBezTo>
                <a:cubicBezTo>
                  <a:pt x="376" y="197"/>
                  <a:pt x="381" y="199"/>
                  <a:pt x="382" y="199"/>
                </a:cubicBezTo>
                <a:cubicBezTo>
                  <a:pt x="382" y="200"/>
                  <a:pt x="383" y="201"/>
                  <a:pt x="383" y="202"/>
                </a:cubicBezTo>
                <a:cubicBezTo>
                  <a:pt x="383" y="204"/>
                  <a:pt x="382" y="206"/>
                  <a:pt x="382" y="207"/>
                </a:cubicBezTo>
                <a:cubicBezTo>
                  <a:pt x="381" y="207"/>
                  <a:pt x="376" y="208"/>
                  <a:pt x="368" y="210"/>
                </a:cubicBezTo>
                <a:cubicBezTo>
                  <a:pt x="366" y="210"/>
                  <a:pt x="363" y="210"/>
                  <a:pt x="361" y="211"/>
                </a:cubicBezTo>
                <a:cubicBezTo>
                  <a:pt x="354" y="212"/>
                  <a:pt x="353" y="212"/>
                  <a:pt x="352" y="213"/>
                </a:cubicBezTo>
                <a:cubicBezTo>
                  <a:pt x="352" y="213"/>
                  <a:pt x="351" y="215"/>
                  <a:pt x="350" y="219"/>
                </a:cubicBezTo>
                <a:cubicBezTo>
                  <a:pt x="350" y="219"/>
                  <a:pt x="350" y="219"/>
                  <a:pt x="350" y="219"/>
                </a:cubicBezTo>
                <a:cubicBezTo>
                  <a:pt x="350" y="220"/>
                  <a:pt x="350" y="220"/>
                  <a:pt x="350" y="220"/>
                </a:cubicBezTo>
                <a:cubicBezTo>
                  <a:pt x="350" y="222"/>
                  <a:pt x="349" y="223"/>
                  <a:pt x="349" y="224"/>
                </a:cubicBezTo>
                <a:cubicBezTo>
                  <a:pt x="349" y="225"/>
                  <a:pt x="350" y="226"/>
                  <a:pt x="350" y="227"/>
                </a:cubicBezTo>
                <a:cubicBezTo>
                  <a:pt x="351" y="228"/>
                  <a:pt x="351" y="228"/>
                  <a:pt x="357" y="231"/>
                </a:cubicBezTo>
                <a:cubicBezTo>
                  <a:pt x="359" y="232"/>
                  <a:pt x="361" y="234"/>
                  <a:pt x="364" y="235"/>
                </a:cubicBezTo>
                <a:cubicBezTo>
                  <a:pt x="370" y="239"/>
                  <a:pt x="374" y="242"/>
                  <a:pt x="375" y="243"/>
                </a:cubicBezTo>
                <a:cubicBezTo>
                  <a:pt x="375" y="243"/>
                  <a:pt x="375" y="243"/>
                  <a:pt x="375" y="244"/>
                </a:cubicBezTo>
                <a:cubicBezTo>
                  <a:pt x="375" y="246"/>
                  <a:pt x="374" y="249"/>
                  <a:pt x="373" y="250"/>
                </a:cubicBezTo>
                <a:cubicBezTo>
                  <a:pt x="372" y="250"/>
                  <a:pt x="367" y="250"/>
                  <a:pt x="359" y="250"/>
                </a:cubicBezTo>
                <a:cubicBezTo>
                  <a:pt x="357" y="250"/>
                  <a:pt x="354" y="249"/>
                  <a:pt x="352" y="249"/>
                </a:cubicBezTo>
                <a:cubicBezTo>
                  <a:pt x="345" y="249"/>
                  <a:pt x="344" y="249"/>
                  <a:pt x="343" y="249"/>
                </a:cubicBezTo>
                <a:cubicBezTo>
                  <a:pt x="342" y="250"/>
                  <a:pt x="341" y="252"/>
                  <a:pt x="340" y="255"/>
                </a:cubicBezTo>
                <a:cubicBezTo>
                  <a:pt x="339" y="255"/>
                  <a:pt x="339" y="255"/>
                  <a:pt x="339" y="255"/>
                </a:cubicBezTo>
                <a:cubicBezTo>
                  <a:pt x="339" y="256"/>
                  <a:pt x="339" y="256"/>
                  <a:pt x="339" y="256"/>
                </a:cubicBezTo>
                <a:cubicBezTo>
                  <a:pt x="338" y="258"/>
                  <a:pt x="337" y="260"/>
                  <a:pt x="337" y="261"/>
                </a:cubicBezTo>
                <a:cubicBezTo>
                  <a:pt x="337" y="262"/>
                  <a:pt x="338" y="262"/>
                  <a:pt x="338" y="262"/>
                </a:cubicBezTo>
                <a:cubicBezTo>
                  <a:pt x="338" y="263"/>
                  <a:pt x="339" y="264"/>
                  <a:pt x="343" y="268"/>
                </a:cubicBezTo>
                <a:cubicBezTo>
                  <a:pt x="345" y="270"/>
                  <a:pt x="347" y="272"/>
                  <a:pt x="349" y="274"/>
                </a:cubicBezTo>
                <a:cubicBezTo>
                  <a:pt x="354" y="279"/>
                  <a:pt x="358" y="283"/>
                  <a:pt x="358" y="284"/>
                </a:cubicBezTo>
                <a:cubicBezTo>
                  <a:pt x="358" y="286"/>
                  <a:pt x="356" y="290"/>
                  <a:pt x="355" y="290"/>
                </a:cubicBezTo>
                <a:cubicBezTo>
                  <a:pt x="354" y="290"/>
                  <a:pt x="349" y="289"/>
                  <a:pt x="341" y="287"/>
                </a:cubicBezTo>
                <a:cubicBezTo>
                  <a:pt x="339" y="286"/>
                  <a:pt x="336" y="285"/>
                  <a:pt x="334" y="285"/>
                </a:cubicBezTo>
                <a:cubicBezTo>
                  <a:pt x="328" y="282"/>
                  <a:pt x="327" y="282"/>
                  <a:pt x="326" y="283"/>
                </a:cubicBezTo>
                <a:cubicBezTo>
                  <a:pt x="325" y="283"/>
                  <a:pt x="324" y="284"/>
                  <a:pt x="321" y="287"/>
                </a:cubicBezTo>
                <a:cubicBezTo>
                  <a:pt x="320" y="287"/>
                  <a:pt x="320" y="287"/>
                  <a:pt x="320" y="287"/>
                </a:cubicBezTo>
                <a:cubicBezTo>
                  <a:pt x="320" y="288"/>
                  <a:pt x="320" y="288"/>
                  <a:pt x="320" y="288"/>
                </a:cubicBezTo>
                <a:cubicBezTo>
                  <a:pt x="317" y="292"/>
                  <a:pt x="317" y="293"/>
                  <a:pt x="317" y="294"/>
                </a:cubicBezTo>
                <a:cubicBezTo>
                  <a:pt x="317" y="294"/>
                  <a:pt x="317" y="294"/>
                  <a:pt x="317" y="294"/>
                </a:cubicBezTo>
                <a:cubicBezTo>
                  <a:pt x="317" y="295"/>
                  <a:pt x="318" y="296"/>
                  <a:pt x="321" y="301"/>
                </a:cubicBezTo>
                <a:cubicBezTo>
                  <a:pt x="323" y="303"/>
                  <a:pt x="324" y="305"/>
                  <a:pt x="326" y="308"/>
                </a:cubicBezTo>
                <a:cubicBezTo>
                  <a:pt x="330" y="314"/>
                  <a:pt x="332" y="319"/>
                  <a:pt x="333" y="320"/>
                </a:cubicBezTo>
                <a:cubicBezTo>
                  <a:pt x="332" y="322"/>
                  <a:pt x="329" y="325"/>
                  <a:pt x="328" y="325"/>
                </a:cubicBezTo>
                <a:cubicBezTo>
                  <a:pt x="326" y="325"/>
                  <a:pt x="322" y="323"/>
                  <a:pt x="315" y="319"/>
                </a:cubicBezTo>
                <a:cubicBezTo>
                  <a:pt x="313" y="318"/>
                  <a:pt x="311" y="316"/>
                  <a:pt x="309" y="315"/>
                </a:cubicBezTo>
                <a:cubicBezTo>
                  <a:pt x="303" y="311"/>
                  <a:pt x="302" y="311"/>
                  <a:pt x="301" y="311"/>
                </a:cubicBezTo>
                <a:cubicBezTo>
                  <a:pt x="300" y="311"/>
                  <a:pt x="299" y="312"/>
                  <a:pt x="296" y="315"/>
                </a:cubicBezTo>
                <a:cubicBezTo>
                  <a:pt x="294" y="315"/>
                  <a:pt x="294" y="315"/>
                  <a:pt x="294" y="315"/>
                </a:cubicBezTo>
                <a:cubicBezTo>
                  <a:pt x="294" y="316"/>
                  <a:pt x="294" y="316"/>
                  <a:pt x="294" y="316"/>
                </a:cubicBezTo>
                <a:cubicBezTo>
                  <a:pt x="291" y="318"/>
                  <a:pt x="290" y="319"/>
                  <a:pt x="290" y="321"/>
                </a:cubicBezTo>
                <a:cubicBezTo>
                  <a:pt x="290" y="321"/>
                  <a:pt x="290" y="321"/>
                  <a:pt x="290" y="321"/>
                </a:cubicBezTo>
                <a:cubicBezTo>
                  <a:pt x="290" y="321"/>
                  <a:pt x="290" y="321"/>
                  <a:pt x="290" y="321"/>
                </a:cubicBezTo>
                <a:cubicBezTo>
                  <a:pt x="290" y="322"/>
                  <a:pt x="291" y="323"/>
                  <a:pt x="292" y="328"/>
                </a:cubicBezTo>
                <a:cubicBezTo>
                  <a:pt x="293" y="330"/>
                  <a:pt x="294" y="333"/>
                  <a:pt x="295" y="336"/>
                </a:cubicBezTo>
                <a:cubicBezTo>
                  <a:pt x="298" y="342"/>
                  <a:pt x="299" y="348"/>
                  <a:pt x="299" y="349"/>
                </a:cubicBezTo>
                <a:cubicBezTo>
                  <a:pt x="298" y="351"/>
                  <a:pt x="295" y="353"/>
                  <a:pt x="293" y="353"/>
                </a:cubicBezTo>
                <a:cubicBezTo>
                  <a:pt x="292" y="353"/>
                  <a:pt x="288" y="350"/>
                  <a:pt x="283" y="344"/>
                </a:cubicBezTo>
                <a:cubicBezTo>
                  <a:pt x="281" y="342"/>
                  <a:pt x="279" y="340"/>
                  <a:pt x="277" y="339"/>
                </a:cubicBezTo>
                <a:cubicBezTo>
                  <a:pt x="272" y="334"/>
                  <a:pt x="272" y="333"/>
                  <a:pt x="271" y="333"/>
                </a:cubicBezTo>
                <a:cubicBezTo>
                  <a:pt x="270" y="333"/>
                  <a:pt x="268" y="333"/>
                  <a:pt x="265" y="335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3" y="336"/>
                  <a:pt x="263" y="336"/>
                  <a:pt x="263" y="336"/>
                </a:cubicBezTo>
                <a:cubicBezTo>
                  <a:pt x="260" y="337"/>
                  <a:pt x="258" y="338"/>
                  <a:pt x="258" y="340"/>
                </a:cubicBezTo>
                <a:cubicBezTo>
                  <a:pt x="258" y="340"/>
                  <a:pt x="258" y="341"/>
                  <a:pt x="258" y="341"/>
                </a:cubicBezTo>
                <a:cubicBezTo>
                  <a:pt x="258" y="342"/>
                  <a:pt x="258" y="344"/>
                  <a:pt x="258" y="348"/>
                </a:cubicBezTo>
                <a:cubicBezTo>
                  <a:pt x="259" y="350"/>
                  <a:pt x="259" y="353"/>
                  <a:pt x="259" y="356"/>
                </a:cubicBezTo>
                <a:cubicBezTo>
                  <a:pt x="260" y="360"/>
                  <a:pt x="260" y="365"/>
                  <a:pt x="260" y="368"/>
                </a:cubicBezTo>
                <a:cubicBezTo>
                  <a:pt x="260" y="369"/>
                  <a:pt x="260" y="370"/>
                  <a:pt x="260" y="370"/>
                </a:cubicBezTo>
                <a:cubicBezTo>
                  <a:pt x="259" y="371"/>
                  <a:pt x="255" y="373"/>
                  <a:pt x="253" y="372"/>
                </a:cubicBezTo>
                <a:cubicBezTo>
                  <a:pt x="252" y="371"/>
                  <a:pt x="249" y="368"/>
                  <a:pt x="245" y="361"/>
                </a:cubicBezTo>
                <a:cubicBezTo>
                  <a:pt x="244" y="359"/>
                  <a:pt x="242" y="357"/>
                  <a:pt x="241" y="355"/>
                </a:cubicBezTo>
                <a:cubicBezTo>
                  <a:pt x="237" y="349"/>
                  <a:pt x="237" y="348"/>
                  <a:pt x="236" y="348"/>
                </a:cubicBezTo>
                <a:cubicBezTo>
                  <a:pt x="235" y="347"/>
                  <a:pt x="233" y="347"/>
                  <a:pt x="229" y="348"/>
                </a:cubicBezTo>
                <a:cubicBezTo>
                  <a:pt x="227" y="347"/>
                  <a:pt x="227" y="347"/>
                  <a:pt x="227" y="347"/>
                </a:cubicBezTo>
                <a:cubicBezTo>
                  <a:pt x="227" y="349"/>
                  <a:pt x="227" y="349"/>
                  <a:pt x="227" y="349"/>
                </a:cubicBezTo>
                <a:cubicBezTo>
                  <a:pt x="224" y="349"/>
                  <a:pt x="223" y="350"/>
                  <a:pt x="222" y="351"/>
                </a:cubicBezTo>
                <a:cubicBezTo>
                  <a:pt x="221" y="352"/>
                  <a:pt x="221" y="353"/>
                  <a:pt x="221" y="359"/>
                </a:cubicBezTo>
                <a:cubicBezTo>
                  <a:pt x="220" y="361"/>
                  <a:pt x="220" y="364"/>
                  <a:pt x="220" y="367"/>
                </a:cubicBezTo>
                <a:cubicBezTo>
                  <a:pt x="218" y="375"/>
                  <a:pt x="217" y="380"/>
                  <a:pt x="217" y="381"/>
                </a:cubicBezTo>
                <a:cubicBezTo>
                  <a:pt x="215" y="382"/>
                  <a:pt x="211" y="382"/>
                  <a:pt x="210" y="382"/>
                </a:cubicBezTo>
                <a:cubicBezTo>
                  <a:pt x="209" y="381"/>
                  <a:pt x="207" y="376"/>
                  <a:pt x="204" y="369"/>
                </a:cubicBezTo>
                <a:cubicBezTo>
                  <a:pt x="204" y="366"/>
                  <a:pt x="203" y="364"/>
                  <a:pt x="202" y="362"/>
                </a:cubicBezTo>
                <a:cubicBezTo>
                  <a:pt x="200" y="355"/>
                  <a:pt x="200" y="354"/>
                  <a:pt x="199" y="354"/>
                </a:cubicBezTo>
                <a:cubicBezTo>
                  <a:pt x="198" y="353"/>
                  <a:pt x="197" y="352"/>
                  <a:pt x="192" y="353"/>
                </a:cubicBezTo>
                <a:cubicBezTo>
                  <a:pt x="191" y="352"/>
                  <a:pt x="191" y="352"/>
                  <a:pt x="191" y="352"/>
                </a:cubicBezTo>
                <a:cubicBezTo>
                  <a:pt x="190" y="353"/>
                  <a:pt x="190" y="353"/>
                  <a:pt x="190" y="353"/>
                </a:cubicBezTo>
                <a:cubicBezTo>
                  <a:pt x="186" y="352"/>
                  <a:pt x="185" y="353"/>
                  <a:pt x="184" y="354"/>
                </a:cubicBezTo>
                <a:cubicBezTo>
                  <a:pt x="183" y="354"/>
                  <a:pt x="183" y="355"/>
                  <a:pt x="181" y="361"/>
                </a:cubicBezTo>
                <a:cubicBezTo>
                  <a:pt x="180" y="363"/>
                  <a:pt x="179" y="366"/>
                  <a:pt x="178" y="369"/>
                </a:cubicBezTo>
                <a:cubicBezTo>
                  <a:pt x="175" y="376"/>
                  <a:pt x="173" y="380"/>
                  <a:pt x="173" y="382"/>
                </a:cubicBezTo>
                <a:cubicBezTo>
                  <a:pt x="171" y="382"/>
                  <a:pt x="167" y="382"/>
                  <a:pt x="165" y="381"/>
                </a:cubicBezTo>
                <a:cubicBezTo>
                  <a:pt x="165" y="380"/>
                  <a:pt x="164" y="375"/>
                  <a:pt x="163" y="367"/>
                </a:cubicBezTo>
                <a:cubicBezTo>
                  <a:pt x="163" y="364"/>
                  <a:pt x="163" y="362"/>
                  <a:pt x="163" y="360"/>
                </a:cubicBezTo>
                <a:cubicBezTo>
                  <a:pt x="162" y="353"/>
                  <a:pt x="162" y="352"/>
                  <a:pt x="161" y="351"/>
                </a:cubicBezTo>
                <a:cubicBezTo>
                  <a:pt x="160" y="350"/>
                  <a:pt x="158" y="349"/>
                  <a:pt x="155" y="349"/>
                </a:cubicBezTo>
                <a:cubicBezTo>
                  <a:pt x="154" y="347"/>
                  <a:pt x="154" y="347"/>
                  <a:pt x="154" y="347"/>
                </a:cubicBezTo>
                <a:cubicBezTo>
                  <a:pt x="153" y="348"/>
                  <a:pt x="153" y="348"/>
                  <a:pt x="153" y="348"/>
                </a:cubicBezTo>
                <a:cubicBezTo>
                  <a:pt x="149" y="347"/>
                  <a:pt x="148" y="347"/>
                  <a:pt x="147" y="348"/>
                </a:cubicBezTo>
                <a:cubicBezTo>
                  <a:pt x="146" y="348"/>
                  <a:pt x="146" y="349"/>
                  <a:pt x="142" y="354"/>
                </a:cubicBezTo>
                <a:cubicBezTo>
                  <a:pt x="141" y="356"/>
                  <a:pt x="139" y="359"/>
                  <a:pt x="138" y="361"/>
                </a:cubicBezTo>
                <a:cubicBezTo>
                  <a:pt x="133" y="367"/>
                  <a:pt x="130" y="371"/>
                  <a:pt x="129" y="372"/>
                </a:cubicBezTo>
                <a:cubicBezTo>
                  <a:pt x="128" y="372"/>
                  <a:pt x="123" y="371"/>
                  <a:pt x="122" y="370"/>
                </a:cubicBezTo>
                <a:cubicBezTo>
                  <a:pt x="122" y="369"/>
                  <a:pt x="122" y="369"/>
                  <a:pt x="122" y="368"/>
                </a:cubicBezTo>
                <a:cubicBezTo>
                  <a:pt x="122" y="368"/>
                  <a:pt x="122" y="368"/>
                  <a:pt x="122" y="368"/>
                </a:cubicBezTo>
                <a:cubicBezTo>
                  <a:pt x="122" y="366"/>
                  <a:pt x="123" y="361"/>
                  <a:pt x="124" y="356"/>
                </a:cubicBezTo>
                <a:cubicBezTo>
                  <a:pt x="124" y="353"/>
                  <a:pt x="124" y="351"/>
                  <a:pt x="125" y="348"/>
                </a:cubicBezTo>
                <a:cubicBezTo>
                  <a:pt x="125" y="344"/>
                  <a:pt x="125" y="342"/>
                  <a:pt x="125" y="341"/>
                </a:cubicBezTo>
                <a:cubicBezTo>
                  <a:pt x="125" y="341"/>
                  <a:pt x="125" y="340"/>
                  <a:pt x="125" y="340"/>
                </a:cubicBezTo>
                <a:cubicBezTo>
                  <a:pt x="124" y="338"/>
                  <a:pt x="123" y="337"/>
                  <a:pt x="120" y="336"/>
                </a:cubicBezTo>
                <a:cubicBezTo>
                  <a:pt x="119" y="334"/>
                  <a:pt x="119" y="334"/>
                  <a:pt x="119" y="334"/>
                </a:cubicBezTo>
                <a:cubicBezTo>
                  <a:pt x="118" y="335"/>
                  <a:pt x="118" y="335"/>
                  <a:pt x="118" y="335"/>
                </a:cubicBezTo>
                <a:cubicBezTo>
                  <a:pt x="115" y="333"/>
                  <a:pt x="114" y="333"/>
                  <a:pt x="112" y="333"/>
                </a:cubicBezTo>
                <a:cubicBezTo>
                  <a:pt x="111" y="334"/>
                  <a:pt x="110" y="334"/>
                  <a:pt x="106" y="338"/>
                </a:cubicBezTo>
                <a:cubicBezTo>
                  <a:pt x="104" y="340"/>
                  <a:pt x="102" y="342"/>
                  <a:pt x="100" y="344"/>
                </a:cubicBezTo>
                <a:cubicBezTo>
                  <a:pt x="94" y="349"/>
                  <a:pt x="90" y="352"/>
                  <a:pt x="89" y="353"/>
                </a:cubicBezTo>
                <a:cubicBezTo>
                  <a:pt x="88" y="353"/>
                  <a:pt x="84" y="350"/>
                  <a:pt x="83" y="349"/>
                </a:cubicBezTo>
                <a:cubicBezTo>
                  <a:pt x="83" y="347"/>
                  <a:pt x="85" y="342"/>
                  <a:pt x="88" y="335"/>
                </a:cubicBezTo>
                <a:cubicBezTo>
                  <a:pt x="88" y="333"/>
                  <a:pt x="89" y="331"/>
                  <a:pt x="90" y="329"/>
                </a:cubicBezTo>
                <a:cubicBezTo>
                  <a:pt x="92" y="323"/>
                  <a:pt x="93" y="322"/>
                  <a:pt x="93" y="321"/>
                </a:cubicBezTo>
                <a:cubicBezTo>
                  <a:pt x="93" y="321"/>
                  <a:pt x="93" y="321"/>
                  <a:pt x="93" y="321"/>
                </a:cubicBezTo>
                <a:cubicBezTo>
                  <a:pt x="93" y="320"/>
                  <a:pt x="93" y="320"/>
                  <a:pt x="93" y="320"/>
                </a:cubicBezTo>
                <a:cubicBezTo>
                  <a:pt x="93" y="319"/>
                  <a:pt x="92" y="318"/>
                  <a:pt x="88" y="315"/>
                </a:cubicBezTo>
                <a:cubicBezTo>
                  <a:pt x="88" y="314"/>
                  <a:pt x="88" y="314"/>
                  <a:pt x="88" y="314"/>
                </a:cubicBezTo>
                <a:cubicBezTo>
                  <a:pt x="87" y="314"/>
                  <a:pt x="87" y="314"/>
                  <a:pt x="87" y="314"/>
                </a:cubicBezTo>
                <a:cubicBezTo>
                  <a:pt x="84" y="311"/>
                  <a:pt x="83" y="311"/>
                  <a:pt x="82" y="311"/>
                </a:cubicBezTo>
                <a:cubicBezTo>
                  <a:pt x="81" y="311"/>
                  <a:pt x="80" y="312"/>
                  <a:pt x="75" y="315"/>
                </a:cubicBezTo>
                <a:cubicBezTo>
                  <a:pt x="73" y="316"/>
                  <a:pt x="70" y="317"/>
                  <a:pt x="67" y="319"/>
                </a:cubicBezTo>
                <a:cubicBezTo>
                  <a:pt x="61" y="322"/>
                  <a:pt x="56" y="325"/>
                  <a:pt x="55" y="325"/>
                </a:cubicBezTo>
                <a:cubicBezTo>
                  <a:pt x="53" y="324"/>
                  <a:pt x="50" y="321"/>
                  <a:pt x="50" y="320"/>
                </a:cubicBezTo>
                <a:cubicBezTo>
                  <a:pt x="50" y="319"/>
                  <a:pt x="53" y="314"/>
                  <a:pt x="57" y="308"/>
                </a:cubicBezTo>
                <a:cubicBezTo>
                  <a:pt x="59" y="305"/>
                  <a:pt x="60" y="303"/>
                  <a:pt x="61" y="302"/>
                </a:cubicBezTo>
                <a:cubicBezTo>
                  <a:pt x="65" y="296"/>
                  <a:pt x="66" y="295"/>
                  <a:pt x="66" y="294"/>
                </a:cubicBezTo>
                <a:cubicBezTo>
                  <a:pt x="66" y="293"/>
                  <a:pt x="65" y="292"/>
                  <a:pt x="63" y="288"/>
                </a:cubicBezTo>
                <a:cubicBezTo>
                  <a:pt x="63" y="286"/>
                  <a:pt x="63" y="286"/>
                  <a:pt x="63" y="286"/>
                </a:cubicBezTo>
                <a:cubicBezTo>
                  <a:pt x="61" y="286"/>
                  <a:pt x="61" y="286"/>
                  <a:pt x="61" y="286"/>
                </a:cubicBezTo>
                <a:cubicBezTo>
                  <a:pt x="59" y="283"/>
                  <a:pt x="58" y="283"/>
                  <a:pt x="57" y="283"/>
                </a:cubicBezTo>
                <a:cubicBezTo>
                  <a:pt x="56" y="282"/>
                  <a:pt x="55" y="283"/>
                  <a:pt x="49" y="284"/>
                </a:cubicBezTo>
                <a:cubicBezTo>
                  <a:pt x="47" y="285"/>
                  <a:pt x="44" y="286"/>
                  <a:pt x="41" y="287"/>
                </a:cubicBezTo>
                <a:cubicBezTo>
                  <a:pt x="34" y="289"/>
                  <a:pt x="29" y="290"/>
                  <a:pt x="28" y="290"/>
                </a:cubicBezTo>
                <a:cubicBezTo>
                  <a:pt x="27" y="289"/>
                  <a:pt x="24" y="285"/>
                  <a:pt x="24" y="284"/>
                </a:cubicBezTo>
                <a:cubicBezTo>
                  <a:pt x="25" y="283"/>
                  <a:pt x="28" y="279"/>
                  <a:pt x="34" y="274"/>
                </a:cubicBezTo>
                <a:cubicBezTo>
                  <a:pt x="36" y="272"/>
                  <a:pt x="38" y="270"/>
                  <a:pt x="39" y="269"/>
                </a:cubicBezTo>
                <a:cubicBezTo>
                  <a:pt x="45" y="264"/>
                  <a:pt x="45" y="263"/>
                  <a:pt x="45" y="262"/>
                </a:cubicBezTo>
                <a:cubicBezTo>
                  <a:pt x="46" y="262"/>
                  <a:pt x="46" y="262"/>
                  <a:pt x="46" y="261"/>
                </a:cubicBezTo>
                <a:cubicBezTo>
                  <a:pt x="46" y="260"/>
                  <a:pt x="45" y="259"/>
                  <a:pt x="44" y="256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3" y="254"/>
                  <a:pt x="43" y="254"/>
                  <a:pt x="43" y="254"/>
                </a:cubicBezTo>
                <a:cubicBezTo>
                  <a:pt x="42" y="250"/>
                  <a:pt x="41" y="250"/>
                  <a:pt x="40" y="249"/>
                </a:cubicBezTo>
                <a:cubicBezTo>
                  <a:pt x="39" y="249"/>
                  <a:pt x="38" y="249"/>
                  <a:pt x="32" y="249"/>
                </a:cubicBezTo>
                <a:cubicBezTo>
                  <a:pt x="29" y="249"/>
                  <a:pt x="26" y="249"/>
                  <a:pt x="24" y="250"/>
                </a:cubicBezTo>
                <a:cubicBezTo>
                  <a:pt x="16" y="250"/>
                  <a:pt x="11" y="250"/>
                  <a:pt x="9" y="249"/>
                </a:cubicBezTo>
                <a:cubicBezTo>
                  <a:pt x="9" y="248"/>
                  <a:pt x="7" y="245"/>
                  <a:pt x="7" y="243"/>
                </a:cubicBezTo>
                <a:cubicBezTo>
                  <a:pt x="7" y="243"/>
                  <a:pt x="7" y="243"/>
                  <a:pt x="7" y="243"/>
                </a:cubicBezTo>
                <a:cubicBezTo>
                  <a:pt x="8" y="242"/>
                  <a:pt x="12" y="239"/>
                  <a:pt x="19" y="235"/>
                </a:cubicBezTo>
                <a:cubicBezTo>
                  <a:pt x="22" y="234"/>
                  <a:pt x="24" y="233"/>
                  <a:pt x="26" y="231"/>
                </a:cubicBezTo>
                <a:cubicBezTo>
                  <a:pt x="32" y="228"/>
                  <a:pt x="33" y="228"/>
                  <a:pt x="33" y="227"/>
                </a:cubicBezTo>
                <a:cubicBezTo>
                  <a:pt x="33" y="226"/>
                  <a:pt x="33" y="225"/>
                  <a:pt x="33" y="225"/>
                </a:cubicBezTo>
                <a:cubicBezTo>
                  <a:pt x="33" y="223"/>
                  <a:pt x="33" y="221"/>
                  <a:pt x="33" y="220"/>
                </a:cubicBezTo>
                <a:cubicBezTo>
                  <a:pt x="34" y="218"/>
                  <a:pt x="34" y="218"/>
                  <a:pt x="34" y="218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2" y="214"/>
                  <a:pt x="31" y="213"/>
                  <a:pt x="30" y="213"/>
                </a:cubicBezTo>
                <a:cubicBezTo>
                  <a:pt x="30" y="212"/>
                  <a:pt x="29" y="212"/>
                  <a:pt x="23" y="211"/>
                </a:cubicBezTo>
                <a:cubicBezTo>
                  <a:pt x="20" y="210"/>
                  <a:pt x="18" y="210"/>
                  <a:pt x="15" y="209"/>
                </a:cubicBezTo>
                <a:cubicBezTo>
                  <a:pt x="7" y="208"/>
                  <a:pt x="2" y="206"/>
                  <a:pt x="1" y="206"/>
                </a:cubicBezTo>
                <a:cubicBezTo>
                  <a:pt x="1" y="205"/>
                  <a:pt x="0" y="203"/>
                  <a:pt x="0" y="201"/>
                </a:cubicBezTo>
                <a:close/>
                <a:moveTo>
                  <a:pt x="307" y="191"/>
                </a:moveTo>
                <a:cubicBezTo>
                  <a:pt x="307" y="127"/>
                  <a:pt x="255" y="76"/>
                  <a:pt x="191" y="76"/>
                </a:cubicBezTo>
                <a:cubicBezTo>
                  <a:pt x="128" y="76"/>
                  <a:pt x="76" y="127"/>
                  <a:pt x="76" y="191"/>
                </a:cubicBezTo>
                <a:cubicBezTo>
                  <a:pt x="76" y="255"/>
                  <a:pt x="128" y="306"/>
                  <a:pt x="191" y="306"/>
                </a:cubicBezTo>
                <a:cubicBezTo>
                  <a:pt x="255" y="306"/>
                  <a:pt x="307" y="255"/>
                  <a:pt x="307" y="19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Group 15" descr=""/>
          <p:cNvPicPr/>
          <p:nvPr/>
        </p:nvPicPr>
        <p:blipFill>
          <a:blip r:embed="rId2"/>
          <a:stretch/>
        </p:blipFill>
        <p:spPr>
          <a:xfrm>
            <a:off x="5657760" y="1755720"/>
            <a:ext cx="371520" cy="579600"/>
          </a:xfrm>
          <a:prstGeom prst="rect">
            <a:avLst/>
          </a:prstGeom>
          <a:ln w="0">
            <a:noFill/>
          </a:ln>
        </p:spPr>
      </p:pic>
      <p:pic>
        <p:nvPicPr>
          <p:cNvPr id="805" name="Group 20" descr=""/>
          <p:cNvPicPr/>
          <p:nvPr/>
        </p:nvPicPr>
        <p:blipFill>
          <a:blip r:embed="rId3"/>
          <a:stretch/>
        </p:blipFill>
        <p:spPr>
          <a:xfrm>
            <a:off x="6686640" y="3078000"/>
            <a:ext cx="506160" cy="536760"/>
          </a:xfrm>
          <a:prstGeom prst="rect">
            <a:avLst/>
          </a:prstGeom>
          <a:ln w="0">
            <a:noFill/>
          </a:ln>
        </p:spPr>
      </p:pic>
      <p:pic>
        <p:nvPicPr>
          <p:cNvPr id="806" name="Group 24" descr=""/>
          <p:cNvPicPr/>
          <p:nvPr/>
        </p:nvPicPr>
        <p:blipFill>
          <a:blip r:embed="rId4"/>
          <a:stretch/>
        </p:blipFill>
        <p:spPr>
          <a:xfrm>
            <a:off x="6053040" y="4896000"/>
            <a:ext cx="615960" cy="480960"/>
          </a:xfrm>
          <a:prstGeom prst="rect">
            <a:avLst/>
          </a:prstGeom>
          <a:ln w="0">
            <a:noFill/>
          </a:ln>
        </p:spPr>
      </p:pic>
      <p:pic>
        <p:nvPicPr>
          <p:cNvPr id="807" name="Group 28" descr=""/>
          <p:cNvPicPr/>
          <p:nvPr/>
        </p:nvPicPr>
        <p:blipFill>
          <a:blip r:embed="rId5"/>
          <a:stretch/>
        </p:blipFill>
        <p:spPr>
          <a:xfrm>
            <a:off x="5218200" y="3645000"/>
            <a:ext cx="371520" cy="36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0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1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Freeform 4"/>
          <p:cNvSpPr/>
          <p:nvPr/>
        </p:nvSpPr>
        <p:spPr>
          <a:xfrm>
            <a:off x="1015920" y="1506600"/>
            <a:ext cx="10082160" cy="1298520"/>
          </a:xfrm>
          <a:custGeom>
            <a:avLst/>
            <a:gdLst>
              <a:gd name="textAreaLeft" fmla="*/ 0 w 10082160"/>
              <a:gd name="textAreaRight" fmla="*/ 10082520 w 1008216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9430508" h="999986">
                <a:moveTo>
                  <a:pt x="8947704" y="0"/>
                </a:moveTo>
                <a:lnTo>
                  <a:pt x="9430508" y="499994"/>
                </a:lnTo>
                <a:lnTo>
                  <a:pt x="8947704" y="999986"/>
                </a:lnTo>
                <a:lnTo>
                  <a:pt x="8947704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8947704" y="265043"/>
                </a:lnTo>
                <a:lnTo>
                  <a:pt x="8947704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5"/>
          <p:cNvSpPr/>
          <p:nvPr/>
        </p:nvSpPr>
        <p:spPr>
          <a:xfrm rot="5400000">
            <a:off x="6622920" y="-995040"/>
            <a:ext cx="1298520" cy="7651440"/>
          </a:xfrm>
          <a:custGeom>
            <a:avLst/>
            <a:gdLst>
              <a:gd name="textAreaLeft" fmla="*/ 0 w 1298520"/>
              <a:gd name="textAreaRight" fmla="*/ 1298880 w 1298520"/>
              <a:gd name="textAreaTop" fmla="*/ 0 h 7651440"/>
              <a:gd name="textAreaBottom" fmla="*/ 7651800 h 7651440"/>
            </a:gdLst>
            <a:ahLst/>
            <a:rect l="textAreaLeft" t="textAreaTop" r="textAreaRight" b="textAreaBottom"/>
            <a:pathLst>
              <a:path w="999985" h="7157209">
                <a:moveTo>
                  <a:pt x="0" y="482805"/>
                </a:moveTo>
                <a:lnTo>
                  <a:pt x="499993" y="0"/>
                </a:lnTo>
                <a:lnTo>
                  <a:pt x="999985" y="482805"/>
                </a:lnTo>
                <a:lnTo>
                  <a:pt x="734943" y="482805"/>
                </a:lnTo>
                <a:lnTo>
                  <a:pt x="734943" y="7157209"/>
                </a:lnTo>
                <a:lnTo>
                  <a:pt x="265043" y="7157209"/>
                </a:lnTo>
                <a:lnTo>
                  <a:pt x="265043" y="482805"/>
                </a:lnTo>
                <a:lnTo>
                  <a:pt x="0" y="482805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5742000" y="2874960"/>
            <a:ext cx="5356080" cy="1298520"/>
          </a:xfrm>
          <a:custGeom>
            <a:avLst/>
            <a:gdLst>
              <a:gd name="textAreaLeft" fmla="*/ 0 w 5356080"/>
              <a:gd name="textAreaRight" fmla="*/ 5356440 w 535608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5010908" h="999986">
                <a:moveTo>
                  <a:pt x="4528104" y="0"/>
                </a:moveTo>
                <a:lnTo>
                  <a:pt x="5010908" y="499994"/>
                </a:lnTo>
                <a:lnTo>
                  <a:pt x="4528104" y="999986"/>
                </a:lnTo>
                <a:lnTo>
                  <a:pt x="4528104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4528104" y="265043"/>
                </a:lnTo>
                <a:lnTo>
                  <a:pt x="4528104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7"/>
          <p:cNvSpPr/>
          <p:nvPr/>
        </p:nvSpPr>
        <p:spPr>
          <a:xfrm>
            <a:off x="7999560" y="3554280"/>
            <a:ext cx="3098520" cy="1298880"/>
          </a:xfrm>
          <a:custGeom>
            <a:avLst/>
            <a:gdLst>
              <a:gd name="textAreaLeft" fmla="*/ 0 w 3098520"/>
              <a:gd name="textAreaRight" fmla="*/ 3098880 w 3098520"/>
              <a:gd name="textAreaTop" fmla="*/ 0 h 1298880"/>
              <a:gd name="textAreaBottom" fmla="*/ 1299240 h 1298880"/>
            </a:gdLst>
            <a:ahLst/>
            <a:rect l="textAreaLeft" t="textAreaTop" r="textAreaRight" b="textAreaBottom"/>
            <a:pathLst>
              <a:path w="2898572" h="999986">
                <a:moveTo>
                  <a:pt x="2415768" y="0"/>
                </a:moveTo>
                <a:lnTo>
                  <a:pt x="2898572" y="499994"/>
                </a:lnTo>
                <a:lnTo>
                  <a:pt x="2415768" y="999986"/>
                </a:lnTo>
                <a:lnTo>
                  <a:pt x="2415768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2415768" y="265043"/>
                </a:lnTo>
                <a:lnTo>
                  <a:pt x="2415768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Group 8" descr=""/>
          <p:cNvPicPr/>
          <p:nvPr/>
        </p:nvPicPr>
        <p:blipFill>
          <a:blip r:embed="rId2"/>
          <a:stretch/>
        </p:blipFill>
        <p:spPr>
          <a:xfrm>
            <a:off x="5864400" y="3286080"/>
            <a:ext cx="475920" cy="457200"/>
          </a:xfrm>
          <a:prstGeom prst="rect">
            <a:avLst/>
          </a:prstGeom>
          <a:ln w="0">
            <a:noFill/>
          </a:ln>
        </p:spPr>
      </p:pic>
      <p:sp>
        <p:nvSpPr>
          <p:cNvPr id="818" name="Freeform 22"/>
          <p:cNvSpPr/>
          <p:nvPr/>
        </p:nvSpPr>
        <p:spPr>
          <a:xfrm>
            <a:off x="3597120" y="2620800"/>
            <a:ext cx="387360" cy="389160"/>
          </a:xfrm>
          <a:custGeom>
            <a:avLst/>
            <a:gdLst>
              <a:gd name="textAreaLeft" fmla="*/ 0 w 387360"/>
              <a:gd name="textAreaRight" fmla="*/ 387720 w 38736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326" h="328">
                <a:moveTo>
                  <a:pt x="326" y="108"/>
                </a:moveTo>
                <a:lnTo>
                  <a:pt x="219" y="0"/>
                </a:lnTo>
                <a:lnTo>
                  <a:pt x="31" y="188"/>
                </a:lnTo>
                <a:lnTo>
                  <a:pt x="0" y="328"/>
                </a:lnTo>
                <a:lnTo>
                  <a:pt x="139" y="295"/>
                </a:lnTo>
                <a:lnTo>
                  <a:pt x="326" y="108"/>
                </a:lnTo>
                <a:close/>
                <a:moveTo>
                  <a:pt x="129" y="275"/>
                </a:moveTo>
                <a:lnTo>
                  <a:pt x="112" y="258"/>
                </a:lnTo>
                <a:lnTo>
                  <a:pt x="280" y="91"/>
                </a:lnTo>
                <a:lnTo>
                  <a:pt x="297" y="108"/>
                </a:lnTo>
                <a:lnTo>
                  <a:pt x="129" y="275"/>
                </a:lnTo>
                <a:close/>
                <a:moveTo>
                  <a:pt x="67" y="290"/>
                </a:moveTo>
                <a:lnTo>
                  <a:pt x="37" y="260"/>
                </a:lnTo>
                <a:lnTo>
                  <a:pt x="48" y="208"/>
                </a:lnTo>
                <a:lnTo>
                  <a:pt x="66" y="226"/>
                </a:lnTo>
                <a:lnTo>
                  <a:pt x="105" y="265"/>
                </a:lnTo>
                <a:lnTo>
                  <a:pt x="119" y="278"/>
                </a:lnTo>
                <a:lnTo>
                  <a:pt x="67" y="290"/>
                </a:lnTo>
                <a:close/>
                <a:moveTo>
                  <a:pt x="272" y="83"/>
                </a:moveTo>
                <a:lnTo>
                  <a:pt x="105" y="250"/>
                </a:lnTo>
                <a:lnTo>
                  <a:pt x="80" y="226"/>
                </a:lnTo>
                <a:lnTo>
                  <a:pt x="248" y="59"/>
                </a:lnTo>
                <a:lnTo>
                  <a:pt x="272" y="83"/>
                </a:lnTo>
                <a:close/>
                <a:moveTo>
                  <a:pt x="219" y="30"/>
                </a:moveTo>
                <a:lnTo>
                  <a:pt x="240" y="51"/>
                </a:lnTo>
                <a:lnTo>
                  <a:pt x="73" y="218"/>
                </a:lnTo>
                <a:lnTo>
                  <a:pt x="52" y="197"/>
                </a:lnTo>
                <a:lnTo>
                  <a:pt x="219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6"/>
          <p:cNvSpPr/>
          <p:nvPr/>
        </p:nvSpPr>
        <p:spPr>
          <a:xfrm rot="2700000">
            <a:off x="1231560" y="1941480"/>
            <a:ext cx="250920" cy="460440"/>
          </a:xfrm>
          <a:custGeom>
            <a:avLst/>
            <a:gdLst>
              <a:gd name="textAreaLeft" fmla="*/ 0 w 250920"/>
              <a:gd name="textAreaRight" fmla="*/ 251280 w 25092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579" h="1073">
                <a:moveTo>
                  <a:pt x="482" y="367"/>
                </a:moveTo>
                <a:cubicBezTo>
                  <a:pt x="482" y="148"/>
                  <a:pt x="482" y="148"/>
                  <a:pt x="482" y="148"/>
                </a:cubicBezTo>
                <a:cubicBezTo>
                  <a:pt x="508" y="135"/>
                  <a:pt x="525" y="109"/>
                  <a:pt x="525" y="79"/>
                </a:cubicBezTo>
                <a:cubicBezTo>
                  <a:pt x="525" y="35"/>
                  <a:pt x="490" y="0"/>
                  <a:pt x="44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89" y="0"/>
                  <a:pt x="54" y="35"/>
                  <a:pt x="54" y="79"/>
                </a:cubicBezTo>
                <a:cubicBezTo>
                  <a:pt x="54" y="109"/>
                  <a:pt x="71" y="135"/>
                  <a:pt x="96" y="148"/>
                </a:cubicBezTo>
                <a:cubicBezTo>
                  <a:pt x="96" y="367"/>
                  <a:pt x="96" y="367"/>
                  <a:pt x="96" y="367"/>
                </a:cubicBezTo>
                <a:cubicBezTo>
                  <a:pt x="35" y="422"/>
                  <a:pt x="0" y="500"/>
                  <a:pt x="0" y="583"/>
                </a:cubicBezTo>
                <a:cubicBezTo>
                  <a:pt x="0" y="612"/>
                  <a:pt x="0" y="612"/>
                  <a:pt x="0" y="612"/>
                </a:cubicBezTo>
                <a:cubicBezTo>
                  <a:pt x="224" y="612"/>
                  <a:pt x="224" y="612"/>
                  <a:pt x="224" y="612"/>
                </a:cubicBezTo>
                <a:cubicBezTo>
                  <a:pt x="224" y="923"/>
                  <a:pt x="224" y="923"/>
                  <a:pt x="224" y="923"/>
                </a:cubicBezTo>
                <a:cubicBezTo>
                  <a:pt x="289" y="1073"/>
                  <a:pt x="289" y="1073"/>
                  <a:pt x="289" y="1073"/>
                </a:cubicBezTo>
                <a:cubicBezTo>
                  <a:pt x="355" y="923"/>
                  <a:pt x="355" y="923"/>
                  <a:pt x="355" y="923"/>
                </a:cubicBezTo>
                <a:cubicBezTo>
                  <a:pt x="355" y="612"/>
                  <a:pt x="355" y="612"/>
                  <a:pt x="355" y="612"/>
                </a:cubicBezTo>
                <a:cubicBezTo>
                  <a:pt x="579" y="612"/>
                  <a:pt x="579" y="612"/>
                  <a:pt x="579" y="612"/>
                </a:cubicBezTo>
                <a:cubicBezTo>
                  <a:pt x="579" y="583"/>
                  <a:pt x="579" y="583"/>
                  <a:pt x="579" y="583"/>
                </a:cubicBezTo>
                <a:cubicBezTo>
                  <a:pt x="579" y="500"/>
                  <a:pt x="544" y="422"/>
                  <a:pt x="482" y="367"/>
                </a:cubicBezTo>
                <a:close/>
                <a:moveTo>
                  <a:pt x="132" y="58"/>
                </a:moveTo>
                <a:cubicBezTo>
                  <a:pt x="447" y="58"/>
                  <a:pt x="447" y="58"/>
                  <a:pt x="447" y="58"/>
                </a:cubicBezTo>
                <a:cubicBezTo>
                  <a:pt x="458" y="58"/>
                  <a:pt x="467" y="67"/>
                  <a:pt x="467" y="79"/>
                </a:cubicBezTo>
                <a:cubicBezTo>
                  <a:pt x="467" y="89"/>
                  <a:pt x="459" y="97"/>
                  <a:pt x="449" y="99"/>
                </a:cubicBezTo>
                <a:cubicBezTo>
                  <a:pt x="436" y="101"/>
                  <a:pt x="436" y="101"/>
                  <a:pt x="436" y="101"/>
                </a:cubicBezTo>
                <a:cubicBezTo>
                  <a:pt x="143" y="101"/>
                  <a:pt x="143" y="101"/>
                  <a:pt x="143" y="101"/>
                </a:cubicBezTo>
                <a:cubicBezTo>
                  <a:pt x="129" y="99"/>
                  <a:pt x="129" y="99"/>
                  <a:pt x="129" y="99"/>
                </a:cubicBezTo>
                <a:cubicBezTo>
                  <a:pt x="119" y="97"/>
                  <a:pt x="111" y="89"/>
                  <a:pt x="111" y="79"/>
                </a:cubicBezTo>
                <a:cubicBezTo>
                  <a:pt x="111" y="67"/>
                  <a:pt x="121" y="58"/>
                  <a:pt x="132" y="58"/>
                </a:cubicBezTo>
                <a:close/>
                <a:moveTo>
                  <a:pt x="424" y="370"/>
                </a:moveTo>
                <a:cubicBezTo>
                  <a:pt x="154" y="370"/>
                  <a:pt x="154" y="370"/>
                  <a:pt x="154" y="370"/>
                </a:cubicBezTo>
                <a:cubicBezTo>
                  <a:pt x="154" y="130"/>
                  <a:pt x="154" y="130"/>
                  <a:pt x="154" y="130"/>
                </a:cubicBezTo>
                <a:cubicBezTo>
                  <a:pt x="424" y="130"/>
                  <a:pt x="424" y="130"/>
                  <a:pt x="424" y="130"/>
                </a:cubicBezTo>
                <a:lnTo>
                  <a:pt x="424" y="370"/>
                </a:lnTo>
                <a:close/>
                <a:moveTo>
                  <a:pt x="297" y="911"/>
                </a:moveTo>
                <a:cubicBezTo>
                  <a:pt x="289" y="928"/>
                  <a:pt x="289" y="928"/>
                  <a:pt x="289" y="928"/>
                </a:cubicBezTo>
                <a:cubicBezTo>
                  <a:pt x="282" y="911"/>
                  <a:pt x="282" y="911"/>
                  <a:pt x="282" y="911"/>
                </a:cubicBezTo>
                <a:cubicBezTo>
                  <a:pt x="282" y="612"/>
                  <a:pt x="282" y="612"/>
                  <a:pt x="282" y="612"/>
                </a:cubicBezTo>
                <a:cubicBezTo>
                  <a:pt x="297" y="612"/>
                  <a:pt x="297" y="612"/>
                  <a:pt x="297" y="612"/>
                </a:cubicBezTo>
                <a:lnTo>
                  <a:pt x="297" y="911"/>
                </a:lnTo>
                <a:close/>
                <a:moveTo>
                  <a:pt x="355" y="554"/>
                </a:moveTo>
                <a:cubicBezTo>
                  <a:pt x="224" y="554"/>
                  <a:pt x="224" y="554"/>
                  <a:pt x="224" y="554"/>
                </a:cubicBezTo>
                <a:cubicBezTo>
                  <a:pt x="59" y="554"/>
                  <a:pt x="59" y="554"/>
                  <a:pt x="59" y="554"/>
                </a:cubicBezTo>
                <a:cubicBezTo>
                  <a:pt x="67" y="495"/>
                  <a:pt x="97" y="441"/>
                  <a:pt x="144" y="403"/>
                </a:cubicBezTo>
                <a:cubicBezTo>
                  <a:pt x="149" y="399"/>
                  <a:pt x="149" y="399"/>
                  <a:pt x="149" y="399"/>
                </a:cubicBezTo>
                <a:cubicBezTo>
                  <a:pt x="430" y="399"/>
                  <a:pt x="430" y="399"/>
                  <a:pt x="430" y="399"/>
                </a:cubicBezTo>
                <a:cubicBezTo>
                  <a:pt x="435" y="403"/>
                  <a:pt x="435" y="403"/>
                  <a:pt x="435" y="403"/>
                </a:cubicBezTo>
                <a:cubicBezTo>
                  <a:pt x="482" y="441"/>
                  <a:pt x="512" y="495"/>
                  <a:pt x="519" y="554"/>
                </a:cubicBezTo>
                <a:lnTo>
                  <a:pt x="355" y="5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0" name="Group 17" descr=""/>
          <p:cNvPicPr/>
          <p:nvPr/>
        </p:nvPicPr>
        <p:blipFill>
          <a:blip r:embed="rId3"/>
          <a:stretch/>
        </p:blipFill>
        <p:spPr>
          <a:xfrm>
            <a:off x="8143920" y="3975120"/>
            <a:ext cx="446040" cy="438120"/>
          </a:xfrm>
          <a:prstGeom prst="rect">
            <a:avLst/>
          </a:prstGeom>
          <a:ln w="0">
            <a:noFill/>
          </a:ln>
        </p:spPr>
      </p:pic>
      <p:sp>
        <p:nvSpPr>
          <p:cNvPr id="821" name="Content Placeholder 2"/>
          <p:cNvSpPr/>
          <p:nvPr/>
        </p:nvSpPr>
        <p:spPr>
          <a:xfrm>
            <a:off x="1017720" y="259884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23"/>
          <p:cNvSpPr/>
          <p:nvPr/>
        </p:nvSpPr>
        <p:spPr>
          <a:xfrm>
            <a:off x="1698480" y="1979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23"/>
          <p:cNvSpPr/>
          <p:nvPr/>
        </p:nvSpPr>
        <p:spPr>
          <a:xfrm>
            <a:off x="4097160" y="266688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3"/>
          <p:cNvSpPr/>
          <p:nvPr/>
        </p:nvSpPr>
        <p:spPr>
          <a:xfrm>
            <a:off x="6437160" y="33559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3"/>
          <p:cNvSpPr/>
          <p:nvPr/>
        </p:nvSpPr>
        <p:spPr>
          <a:xfrm>
            <a:off x="8664480" y="40435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Content Placeholder 2"/>
          <p:cNvSpPr/>
          <p:nvPr/>
        </p:nvSpPr>
        <p:spPr>
          <a:xfrm>
            <a:off x="3424320" y="32878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Content Placeholder 2"/>
          <p:cNvSpPr/>
          <p:nvPr/>
        </p:nvSpPr>
        <p:spPr>
          <a:xfrm>
            <a:off x="5722920" y="39322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Content Placeholder 2"/>
          <p:cNvSpPr/>
          <p:nvPr/>
        </p:nvSpPr>
        <p:spPr>
          <a:xfrm>
            <a:off x="7974000" y="4614840"/>
            <a:ext cx="218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3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27"/>
          <p:cNvSpPr/>
          <p:nvPr/>
        </p:nvSpPr>
        <p:spPr>
          <a:xfrm>
            <a:off x="6284880" y="1852560"/>
            <a:ext cx="22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Rectangle 28"/>
          <p:cNvSpPr/>
          <p:nvPr/>
        </p:nvSpPr>
        <p:spPr>
          <a:xfrm>
            <a:off x="6284880" y="2160720"/>
            <a:ext cx="519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Group 2" descr=""/>
          <p:cNvPicPr/>
          <p:nvPr/>
        </p:nvPicPr>
        <p:blipFill>
          <a:blip r:embed="rId2"/>
          <a:stretch/>
        </p:blipFill>
        <p:spPr>
          <a:xfrm>
            <a:off x="3724200" y="2182680"/>
            <a:ext cx="1768680" cy="1773360"/>
          </a:xfrm>
          <a:prstGeom prst="rect">
            <a:avLst/>
          </a:prstGeom>
          <a:ln w="0">
            <a:noFill/>
          </a:ln>
        </p:spPr>
      </p:pic>
      <p:pic>
        <p:nvPicPr>
          <p:cNvPr id="837" name="Group 5" descr=""/>
          <p:cNvPicPr/>
          <p:nvPr/>
        </p:nvPicPr>
        <p:blipFill>
          <a:blip r:embed="rId3"/>
          <a:stretch/>
        </p:blipFill>
        <p:spPr>
          <a:xfrm>
            <a:off x="1225440" y="217656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838" name="Freeform 8"/>
          <p:cNvSpPr/>
          <p:nvPr/>
        </p:nvSpPr>
        <p:spPr>
          <a:xfrm>
            <a:off x="885960" y="2001960"/>
            <a:ext cx="1085760" cy="10872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087200"/>
              <a:gd name="textAreaBottom" fmla="*/ 1087560 h 1087200"/>
            </a:gdLst>
            <a:ahLst/>
            <a:rect l="textAreaLeft" t="textAreaTop" r="textAreaRight" b="textAreaBottom"/>
            <a:pathLst>
              <a:path w="494" h="494">
                <a:moveTo>
                  <a:pt x="338" y="112"/>
                </a:moveTo>
                <a:cubicBezTo>
                  <a:pt x="380" y="75"/>
                  <a:pt x="433" y="44"/>
                  <a:pt x="494" y="26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4" y="25"/>
                  <a:pt x="494" y="25"/>
                  <a:pt x="494" y="25"/>
                </a:cubicBezTo>
                <a:cubicBezTo>
                  <a:pt x="494" y="25"/>
                  <a:pt x="494" y="25"/>
                  <a:pt x="494" y="25"/>
                </a:cubicBezTo>
                <a:cubicBezTo>
                  <a:pt x="494" y="25"/>
                  <a:pt x="494" y="25"/>
                  <a:pt x="494" y="25"/>
                </a:cubicBezTo>
                <a:cubicBezTo>
                  <a:pt x="433" y="7"/>
                  <a:pt x="366" y="0"/>
                  <a:pt x="296" y="8"/>
                </a:cubicBezTo>
                <a:cubicBezTo>
                  <a:pt x="296" y="8"/>
                  <a:pt x="305" y="13"/>
                  <a:pt x="313" y="18"/>
                </a:cubicBezTo>
                <a:cubicBezTo>
                  <a:pt x="321" y="23"/>
                  <a:pt x="329" y="28"/>
                  <a:pt x="329" y="28"/>
                </a:cubicBezTo>
                <a:cubicBezTo>
                  <a:pt x="329" y="28"/>
                  <a:pt x="328" y="28"/>
                  <a:pt x="327" y="29"/>
                </a:cubicBezTo>
                <a:cubicBezTo>
                  <a:pt x="325" y="29"/>
                  <a:pt x="323" y="30"/>
                  <a:pt x="321" y="31"/>
                </a:cubicBezTo>
                <a:cubicBezTo>
                  <a:pt x="315" y="34"/>
                  <a:pt x="307" y="36"/>
                  <a:pt x="298" y="40"/>
                </a:cubicBezTo>
                <a:cubicBezTo>
                  <a:pt x="296" y="42"/>
                  <a:pt x="293" y="43"/>
                  <a:pt x="290" y="44"/>
                </a:cubicBezTo>
                <a:cubicBezTo>
                  <a:pt x="286" y="46"/>
                  <a:pt x="282" y="48"/>
                  <a:pt x="278" y="50"/>
                </a:cubicBezTo>
                <a:cubicBezTo>
                  <a:pt x="274" y="52"/>
                  <a:pt x="270" y="54"/>
                  <a:pt x="266" y="56"/>
                </a:cubicBezTo>
                <a:cubicBezTo>
                  <a:pt x="257" y="60"/>
                  <a:pt x="249" y="65"/>
                  <a:pt x="240" y="70"/>
                </a:cubicBezTo>
                <a:cubicBezTo>
                  <a:pt x="236" y="72"/>
                  <a:pt x="232" y="75"/>
                  <a:pt x="228" y="78"/>
                </a:cubicBezTo>
                <a:cubicBezTo>
                  <a:pt x="223" y="81"/>
                  <a:pt x="219" y="83"/>
                  <a:pt x="215" y="86"/>
                </a:cubicBezTo>
                <a:cubicBezTo>
                  <a:pt x="207" y="92"/>
                  <a:pt x="198" y="98"/>
                  <a:pt x="190" y="105"/>
                </a:cubicBezTo>
                <a:cubicBezTo>
                  <a:pt x="186" y="108"/>
                  <a:pt x="181" y="111"/>
                  <a:pt x="177" y="115"/>
                </a:cubicBezTo>
                <a:cubicBezTo>
                  <a:pt x="173" y="118"/>
                  <a:pt x="169" y="122"/>
                  <a:pt x="165" y="125"/>
                </a:cubicBezTo>
                <a:cubicBezTo>
                  <a:pt x="149" y="140"/>
                  <a:pt x="133" y="155"/>
                  <a:pt x="119" y="172"/>
                </a:cubicBezTo>
                <a:cubicBezTo>
                  <a:pt x="91" y="205"/>
                  <a:pt x="67" y="242"/>
                  <a:pt x="49" y="279"/>
                </a:cubicBezTo>
                <a:cubicBezTo>
                  <a:pt x="31" y="316"/>
                  <a:pt x="19" y="353"/>
                  <a:pt x="12" y="385"/>
                </a:cubicBezTo>
                <a:cubicBezTo>
                  <a:pt x="5" y="417"/>
                  <a:pt x="2" y="445"/>
                  <a:pt x="1" y="464"/>
                </a:cubicBezTo>
                <a:cubicBezTo>
                  <a:pt x="0" y="473"/>
                  <a:pt x="0" y="481"/>
                  <a:pt x="0" y="486"/>
                </a:cubicBezTo>
                <a:cubicBezTo>
                  <a:pt x="0" y="491"/>
                  <a:pt x="0" y="494"/>
                  <a:pt x="0" y="494"/>
                </a:cubicBezTo>
                <a:cubicBezTo>
                  <a:pt x="51" y="494"/>
                  <a:pt x="51" y="494"/>
                  <a:pt x="51" y="494"/>
                </a:cubicBezTo>
                <a:cubicBezTo>
                  <a:pt x="51" y="494"/>
                  <a:pt x="51" y="491"/>
                  <a:pt x="51" y="487"/>
                </a:cubicBezTo>
                <a:cubicBezTo>
                  <a:pt x="51" y="482"/>
                  <a:pt x="51" y="475"/>
                  <a:pt x="52" y="467"/>
                </a:cubicBezTo>
                <a:cubicBezTo>
                  <a:pt x="53" y="450"/>
                  <a:pt x="55" y="425"/>
                  <a:pt x="62" y="396"/>
                </a:cubicBezTo>
                <a:cubicBezTo>
                  <a:pt x="68" y="368"/>
                  <a:pt x="79" y="335"/>
                  <a:pt x="95" y="302"/>
                </a:cubicBezTo>
                <a:cubicBezTo>
                  <a:pt x="111" y="269"/>
                  <a:pt x="132" y="235"/>
                  <a:pt x="158" y="205"/>
                </a:cubicBezTo>
                <a:cubicBezTo>
                  <a:pt x="171" y="190"/>
                  <a:pt x="185" y="177"/>
                  <a:pt x="199" y="164"/>
                </a:cubicBezTo>
                <a:cubicBezTo>
                  <a:pt x="203" y="160"/>
                  <a:pt x="206" y="157"/>
                  <a:pt x="210" y="154"/>
                </a:cubicBezTo>
                <a:cubicBezTo>
                  <a:pt x="213" y="151"/>
                  <a:pt x="217" y="148"/>
                  <a:pt x="221" y="145"/>
                </a:cubicBezTo>
                <a:cubicBezTo>
                  <a:pt x="228" y="139"/>
                  <a:pt x="236" y="134"/>
                  <a:pt x="244" y="128"/>
                </a:cubicBezTo>
                <a:cubicBezTo>
                  <a:pt x="247" y="126"/>
                  <a:pt x="251" y="123"/>
                  <a:pt x="255" y="121"/>
                </a:cubicBezTo>
                <a:cubicBezTo>
                  <a:pt x="259" y="119"/>
                  <a:pt x="263" y="116"/>
                  <a:pt x="266" y="114"/>
                </a:cubicBezTo>
                <a:cubicBezTo>
                  <a:pt x="274" y="110"/>
                  <a:pt x="281" y="105"/>
                  <a:pt x="289" y="101"/>
                </a:cubicBezTo>
                <a:cubicBezTo>
                  <a:pt x="293" y="99"/>
                  <a:pt x="297" y="97"/>
                  <a:pt x="300" y="95"/>
                </a:cubicBezTo>
                <a:cubicBezTo>
                  <a:pt x="304" y="94"/>
                  <a:pt x="308" y="92"/>
                  <a:pt x="311" y="90"/>
                </a:cubicBezTo>
                <a:cubicBezTo>
                  <a:pt x="314" y="89"/>
                  <a:pt x="316" y="88"/>
                  <a:pt x="318" y="87"/>
                </a:cubicBezTo>
                <a:cubicBezTo>
                  <a:pt x="327" y="84"/>
                  <a:pt x="334" y="81"/>
                  <a:pt x="338" y="79"/>
                </a:cubicBezTo>
                <a:cubicBezTo>
                  <a:pt x="341" y="78"/>
                  <a:pt x="343" y="77"/>
                  <a:pt x="344" y="77"/>
                </a:cubicBezTo>
                <a:cubicBezTo>
                  <a:pt x="345" y="77"/>
                  <a:pt x="346" y="76"/>
                  <a:pt x="346" y="76"/>
                </a:cubicBezTo>
                <a:cubicBezTo>
                  <a:pt x="346" y="76"/>
                  <a:pt x="344" y="85"/>
                  <a:pt x="342" y="94"/>
                </a:cubicBezTo>
                <a:cubicBezTo>
                  <a:pt x="340" y="103"/>
                  <a:pt x="338" y="112"/>
                  <a:pt x="338" y="112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"/>
          <p:cNvSpPr/>
          <p:nvPr/>
        </p:nvSpPr>
        <p:spPr>
          <a:xfrm>
            <a:off x="4984920" y="4197240"/>
            <a:ext cx="360360" cy="1257480"/>
          </a:xfrm>
          <a:custGeom>
            <a:avLst/>
            <a:gdLst>
              <a:gd name="textAreaLeft" fmla="*/ 0 w 360360"/>
              <a:gd name="textAreaRight" fmla="*/ 360720 w 3603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163" h="572">
                <a:moveTo>
                  <a:pt x="49" y="401"/>
                </a:moveTo>
                <a:cubicBezTo>
                  <a:pt x="45" y="457"/>
                  <a:pt x="29" y="516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55" y="543"/>
                  <a:pt x="108" y="500"/>
                  <a:pt x="152" y="445"/>
                </a:cubicBezTo>
                <a:cubicBezTo>
                  <a:pt x="152" y="445"/>
                  <a:pt x="142" y="448"/>
                  <a:pt x="133" y="450"/>
                </a:cubicBezTo>
                <a:cubicBezTo>
                  <a:pt x="123" y="452"/>
                  <a:pt x="114" y="454"/>
                  <a:pt x="114" y="454"/>
                </a:cubicBezTo>
                <a:cubicBezTo>
                  <a:pt x="114" y="454"/>
                  <a:pt x="116" y="451"/>
                  <a:pt x="118" y="446"/>
                </a:cubicBezTo>
                <a:cubicBezTo>
                  <a:pt x="121" y="440"/>
                  <a:pt x="124" y="433"/>
                  <a:pt x="128" y="423"/>
                </a:cubicBezTo>
                <a:cubicBezTo>
                  <a:pt x="128" y="422"/>
                  <a:pt x="129" y="421"/>
                  <a:pt x="129" y="420"/>
                </a:cubicBezTo>
                <a:cubicBezTo>
                  <a:pt x="130" y="418"/>
                  <a:pt x="130" y="417"/>
                  <a:pt x="131" y="416"/>
                </a:cubicBezTo>
                <a:cubicBezTo>
                  <a:pt x="133" y="409"/>
                  <a:pt x="135" y="403"/>
                  <a:pt x="137" y="396"/>
                </a:cubicBezTo>
                <a:cubicBezTo>
                  <a:pt x="140" y="389"/>
                  <a:pt x="142" y="382"/>
                  <a:pt x="144" y="375"/>
                </a:cubicBezTo>
                <a:cubicBezTo>
                  <a:pt x="145" y="371"/>
                  <a:pt x="146" y="368"/>
                  <a:pt x="147" y="364"/>
                </a:cubicBezTo>
                <a:cubicBezTo>
                  <a:pt x="148" y="360"/>
                  <a:pt x="149" y="356"/>
                  <a:pt x="150" y="353"/>
                </a:cubicBezTo>
                <a:cubicBezTo>
                  <a:pt x="153" y="337"/>
                  <a:pt x="156" y="321"/>
                  <a:pt x="158" y="305"/>
                </a:cubicBezTo>
                <a:cubicBezTo>
                  <a:pt x="160" y="289"/>
                  <a:pt x="162" y="272"/>
                  <a:pt x="162" y="256"/>
                </a:cubicBezTo>
                <a:cubicBezTo>
                  <a:pt x="163" y="222"/>
                  <a:pt x="161" y="189"/>
                  <a:pt x="155" y="158"/>
                </a:cubicBezTo>
                <a:cubicBezTo>
                  <a:pt x="150" y="127"/>
                  <a:pt x="142" y="99"/>
                  <a:pt x="134" y="76"/>
                </a:cubicBezTo>
                <a:cubicBezTo>
                  <a:pt x="125" y="52"/>
                  <a:pt x="117" y="33"/>
                  <a:pt x="110" y="20"/>
                </a:cubicBezTo>
                <a:cubicBezTo>
                  <a:pt x="107" y="14"/>
                  <a:pt x="104" y="9"/>
                  <a:pt x="102" y="5"/>
                </a:cubicBezTo>
                <a:cubicBezTo>
                  <a:pt x="101" y="2"/>
                  <a:pt x="100" y="0"/>
                  <a:pt x="100" y="0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6" y="26"/>
                  <a:pt x="58" y="30"/>
                </a:cubicBezTo>
                <a:cubicBezTo>
                  <a:pt x="59" y="33"/>
                  <a:pt x="62" y="37"/>
                  <a:pt x="65" y="43"/>
                </a:cubicBezTo>
                <a:cubicBezTo>
                  <a:pt x="70" y="55"/>
                  <a:pt x="78" y="72"/>
                  <a:pt x="86" y="93"/>
                </a:cubicBezTo>
                <a:cubicBezTo>
                  <a:pt x="101" y="135"/>
                  <a:pt x="113" y="194"/>
                  <a:pt x="111" y="254"/>
                </a:cubicBezTo>
                <a:cubicBezTo>
                  <a:pt x="111" y="269"/>
                  <a:pt x="109" y="284"/>
                  <a:pt x="108" y="299"/>
                </a:cubicBezTo>
                <a:cubicBezTo>
                  <a:pt x="106" y="313"/>
                  <a:pt x="103" y="327"/>
                  <a:pt x="100" y="341"/>
                </a:cubicBezTo>
                <a:cubicBezTo>
                  <a:pt x="99" y="344"/>
                  <a:pt x="98" y="348"/>
                  <a:pt x="98" y="351"/>
                </a:cubicBezTo>
                <a:cubicBezTo>
                  <a:pt x="97" y="354"/>
                  <a:pt x="96" y="358"/>
                  <a:pt x="95" y="361"/>
                </a:cubicBezTo>
                <a:cubicBezTo>
                  <a:pt x="93" y="368"/>
                  <a:pt x="91" y="374"/>
                  <a:pt x="89" y="380"/>
                </a:cubicBezTo>
                <a:cubicBezTo>
                  <a:pt x="87" y="386"/>
                  <a:pt x="85" y="392"/>
                  <a:pt x="83" y="397"/>
                </a:cubicBezTo>
                <a:cubicBezTo>
                  <a:pt x="82" y="399"/>
                  <a:pt x="82" y="400"/>
                  <a:pt x="81" y="401"/>
                </a:cubicBezTo>
                <a:cubicBezTo>
                  <a:pt x="81" y="402"/>
                  <a:pt x="81" y="403"/>
                  <a:pt x="80" y="405"/>
                </a:cubicBezTo>
                <a:cubicBezTo>
                  <a:pt x="77" y="413"/>
                  <a:pt x="74" y="420"/>
                  <a:pt x="72" y="424"/>
                </a:cubicBezTo>
                <a:cubicBezTo>
                  <a:pt x="69" y="429"/>
                  <a:pt x="68" y="432"/>
                  <a:pt x="68" y="432"/>
                </a:cubicBezTo>
                <a:cubicBezTo>
                  <a:pt x="68" y="432"/>
                  <a:pt x="64" y="424"/>
                  <a:pt x="59" y="416"/>
                </a:cubicBezTo>
                <a:cubicBezTo>
                  <a:pt x="56" y="413"/>
                  <a:pt x="54" y="409"/>
                  <a:pt x="52" y="406"/>
                </a:cubicBezTo>
                <a:cubicBezTo>
                  <a:pt x="50" y="403"/>
                  <a:pt x="49" y="401"/>
                  <a:pt x="49" y="401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"/>
          <p:cNvSpPr/>
          <p:nvPr/>
        </p:nvSpPr>
        <p:spPr>
          <a:xfrm>
            <a:off x="5415120" y="2324160"/>
            <a:ext cx="358560" cy="1263600"/>
          </a:xfrm>
          <a:custGeom>
            <a:avLst/>
            <a:gdLst>
              <a:gd name="textAreaLeft" fmla="*/ 0 w 358560"/>
              <a:gd name="textAreaRight" fmla="*/ 358920 w 35856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163" h="574">
                <a:moveTo>
                  <a:pt x="152" y="128"/>
                </a:moveTo>
                <a:cubicBezTo>
                  <a:pt x="109" y="73"/>
                  <a:pt x="56" y="30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29" y="56"/>
                  <a:pt x="46" y="115"/>
                  <a:pt x="49" y="171"/>
                </a:cubicBezTo>
                <a:cubicBezTo>
                  <a:pt x="49" y="171"/>
                  <a:pt x="54" y="164"/>
                  <a:pt x="59" y="156"/>
                </a:cubicBezTo>
                <a:cubicBezTo>
                  <a:pt x="64" y="149"/>
                  <a:pt x="68" y="141"/>
                  <a:pt x="68" y="141"/>
                </a:cubicBezTo>
                <a:cubicBezTo>
                  <a:pt x="68" y="141"/>
                  <a:pt x="70" y="143"/>
                  <a:pt x="72" y="148"/>
                </a:cubicBezTo>
                <a:cubicBezTo>
                  <a:pt x="74" y="153"/>
                  <a:pt x="77" y="160"/>
                  <a:pt x="80" y="168"/>
                </a:cubicBezTo>
                <a:cubicBezTo>
                  <a:pt x="81" y="169"/>
                  <a:pt x="81" y="170"/>
                  <a:pt x="82" y="171"/>
                </a:cubicBezTo>
                <a:cubicBezTo>
                  <a:pt x="82" y="172"/>
                  <a:pt x="83" y="174"/>
                  <a:pt x="83" y="175"/>
                </a:cubicBezTo>
                <a:cubicBezTo>
                  <a:pt x="85" y="181"/>
                  <a:pt x="87" y="186"/>
                  <a:pt x="89" y="193"/>
                </a:cubicBezTo>
                <a:cubicBezTo>
                  <a:pt x="91" y="199"/>
                  <a:pt x="93" y="205"/>
                  <a:pt x="95" y="212"/>
                </a:cubicBezTo>
                <a:cubicBezTo>
                  <a:pt x="96" y="215"/>
                  <a:pt x="97" y="218"/>
                  <a:pt x="98" y="221"/>
                </a:cubicBezTo>
                <a:cubicBezTo>
                  <a:pt x="99" y="225"/>
                  <a:pt x="99" y="228"/>
                  <a:pt x="100" y="232"/>
                </a:cubicBezTo>
                <a:cubicBezTo>
                  <a:pt x="103" y="245"/>
                  <a:pt x="106" y="260"/>
                  <a:pt x="108" y="274"/>
                </a:cubicBezTo>
                <a:cubicBezTo>
                  <a:pt x="110" y="289"/>
                  <a:pt x="111" y="304"/>
                  <a:pt x="111" y="319"/>
                </a:cubicBezTo>
                <a:cubicBezTo>
                  <a:pt x="114" y="379"/>
                  <a:pt x="101" y="438"/>
                  <a:pt x="86" y="481"/>
                </a:cubicBezTo>
                <a:cubicBezTo>
                  <a:pt x="78" y="502"/>
                  <a:pt x="70" y="519"/>
                  <a:pt x="64" y="530"/>
                </a:cubicBezTo>
                <a:cubicBezTo>
                  <a:pt x="62" y="536"/>
                  <a:pt x="59" y="541"/>
                  <a:pt x="57" y="544"/>
                </a:cubicBezTo>
                <a:cubicBezTo>
                  <a:pt x="56" y="547"/>
                  <a:pt x="55" y="549"/>
                  <a:pt x="55" y="549"/>
                </a:cubicBezTo>
                <a:cubicBezTo>
                  <a:pt x="99" y="574"/>
                  <a:pt x="99" y="574"/>
                  <a:pt x="99" y="574"/>
                </a:cubicBezTo>
                <a:cubicBezTo>
                  <a:pt x="99" y="574"/>
                  <a:pt x="100" y="572"/>
                  <a:pt x="102" y="568"/>
                </a:cubicBezTo>
                <a:cubicBezTo>
                  <a:pt x="104" y="565"/>
                  <a:pt x="107" y="560"/>
                  <a:pt x="110" y="553"/>
                </a:cubicBezTo>
                <a:cubicBezTo>
                  <a:pt x="116" y="540"/>
                  <a:pt x="125" y="521"/>
                  <a:pt x="134" y="498"/>
                </a:cubicBezTo>
                <a:cubicBezTo>
                  <a:pt x="142" y="474"/>
                  <a:pt x="150" y="446"/>
                  <a:pt x="155" y="415"/>
                </a:cubicBezTo>
                <a:cubicBezTo>
                  <a:pt x="158" y="400"/>
                  <a:pt x="160" y="384"/>
                  <a:pt x="161" y="367"/>
                </a:cubicBezTo>
                <a:cubicBezTo>
                  <a:pt x="162" y="351"/>
                  <a:pt x="163" y="334"/>
                  <a:pt x="162" y="317"/>
                </a:cubicBezTo>
                <a:cubicBezTo>
                  <a:pt x="162" y="301"/>
                  <a:pt x="160" y="284"/>
                  <a:pt x="158" y="268"/>
                </a:cubicBezTo>
                <a:cubicBezTo>
                  <a:pt x="156" y="251"/>
                  <a:pt x="153" y="236"/>
                  <a:pt x="150" y="220"/>
                </a:cubicBezTo>
                <a:cubicBezTo>
                  <a:pt x="149" y="216"/>
                  <a:pt x="148" y="213"/>
                  <a:pt x="147" y="209"/>
                </a:cubicBezTo>
                <a:cubicBezTo>
                  <a:pt x="146" y="205"/>
                  <a:pt x="145" y="202"/>
                  <a:pt x="144" y="198"/>
                </a:cubicBezTo>
                <a:cubicBezTo>
                  <a:pt x="142" y="191"/>
                  <a:pt x="140" y="184"/>
                  <a:pt x="138" y="177"/>
                </a:cubicBezTo>
                <a:cubicBezTo>
                  <a:pt x="136" y="170"/>
                  <a:pt x="133" y="163"/>
                  <a:pt x="131" y="157"/>
                </a:cubicBezTo>
                <a:cubicBezTo>
                  <a:pt x="130" y="156"/>
                  <a:pt x="130" y="154"/>
                  <a:pt x="129" y="153"/>
                </a:cubicBezTo>
                <a:cubicBezTo>
                  <a:pt x="129" y="152"/>
                  <a:pt x="128" y="150"/>
                  <a:pt x="128" y="149"/>
                </a:cubicBezTo>
                <a:cubicBezTo>
                  <a:pt x="124" y="140"/>
                  <a:pt x="121" y="132"/>
                  <a:pt x="118" y="127"/>
                </a:cubicBezTo>
                <a:cubicBezTo>
                  <a:pt x="116" y="122"/>
                  <a:pt x="114" y="119"/>
                  <a:pt x="114" y="119"/>
                </a:cubicBezTo>
                <a:cubicBezTo>
                  <a:pt x="114" y="119"/>
                  <a:pt x="124" y="121"/>
                  <a:pt x="133" y="123"/>
                </a:cubicBezTo>
                <a:cubicBezTo>
                  <a:pt x="143" y="125"/>
                  <a:pt x="152" y="128"/>
                  <a:pt x="152" y="128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Group 11" descr=""/>
          <p:cNvPicPr/>
          <p:nvPr/>
        </p:nvPicPr>
        <p:blipFill>
          <a:blip r:embed="rId4"/>
          <a:stretch/>
        </p:blipFill>
        <p:spPr>
          <a:xfrm>
            <a:off x="3316320" y="3865680"/>
            <a:ext cx="1719360" cy="1717560"/>
          </a:xfrm>
          <a:prstGeom prst="rect">
            <a:avLst/>
          </a:prstGeom>
          <a:ln w="0">
            <a:noFill/>
          </a:ln>
        </p:spPr>
      </p:pic>
      <p:pic>
        <p:nvPicPr>
          <p:cNvPr id="842" name="Group 46" descr=""/>
          <p:cNvPicPr/>
          <p:nvPr/>
        </p:nvPicPr>
        <p:blipFill>
          <a:blip r:embed="rId5"/>
          <a:stretch/>
        </p:blipFill>
        <p:spPr>
          <a:xfrm>
            <a:off x="2163600" y="3048120"/>
            <a:ext cx="640080" cy="731880"/>
          </a:xfrm>
          <a:prstGeom prst="rect">
            <a:avLst/>
          </a:prstGeom>
          <a:ln w="0">
            <a:noFill/>
          </a:ln>
        </p:spPr>
      </p:pic>
      <p:pic>
        <p:nvPicPr>
          <p:cNvPr id="843" name="Group 49" descr=""/>
          <p:cNvPicPr/>
          <p:nvPr/>
        </p:nvPicPr>
        <p:blipFill>
          <a:blip r:embed="rId6"/>
          <a:stretch/>
        </p:blipFill>
        <p:spPr>
          <a:xfrm>
            <a:off x="4395960" y="2865600"/>
            <a:ext cx="438120" cy="414000"/>
          </a:xfrm>
          <a:prstGeom prst="rect">
            <a:avLst/>
          </a:prstGeom>
          <a:ln w="0">
            <a:noFill/>
          </a:ln>
        </p:spPr>
      </p:pic>
      <p:sp>
        <p:nvSpPr>
          <p:cNvPr id="844" name="Freeform 51"/>
          <p:cNvSpPr/>
          <p:nvPr/>
        </p:nvSpPr>
        <p:spPr>
          <a:xfrm>
            <a:off x="4003560" y="4514760"/>
            <a:ext cx="346320" cy="408240"/>
          </a:xfrm>
          <a:custGeom>
            <a:avLst/>
            <a:gdLst>
              <a:gd name="textAreaLeft" fmla="*/ 0 w 346320"/>
              <a:gd name="textAreaRight" fmla="*/ 346680 w 346320"/>
              <a:gd name="textAreaTop" fmla="*/ 0 h 408240"/>
              <a:gd name="textAreaBottom" fmla="*/ 408600 h 408240"/>
            </a:gdLst>
            <a:ahLst/>
            <a:rect l="textAreaLeft" t="textAreaTop" r="textAreaRight" b="textAreaBottom"/>
            <a:pathLst>
              <a:path w="576" h="681">
                <a:moveTo>
                  <a:pt x="576" y="493"/>
                </a:moveTo>
                <a:lnTo>
                  <a:pt x="576" y="186"/>
                </a:lnTo>
                <a:lnTo>
                  <a:pt x="288" y="0"/>
                </a:lnTo>
                <a:lnTo>
                  <a:pt x="0" y="186"/>
                </a:lnTo>
                <a:lnTo>
                  <a:pt x="0" y="493"/>
                </a:lnTo>
                <a:lnTo>
                  <a:pt x="288" y="681"/>
                </a:lnTo>
                <a:lnTo>
                  <a:pt x="576" y="493"/>
                </a:lnTo>
                <a:close/>
                <a:moveTo>
                  <a:pt x="532" y="203"/>
                </a:moveTo>
                <a:lnTo>
                  <a:pt x="290" y="362"/>
                </a:lnTo>
                <a:lnTo>
                  <a:pt x="191" y="297"/>
                </a:lnTo>
                <a:lnTo>
                  <a:pt x="432" y="138"/>
                </a:lnTo>
                <a:lnTo>
                  <a:pt x="532" y="203"/>
                </a:lnTo>
                <a:close/>
                <a:moveTo>
                  <a:pt x="138" y="260"/>
                </a:moveTo>
                <a:lnTo>
                  <a:pt x="47" y="201"/>
                </a:lnTo>
                <a:lnTo>
                  <a:pt x="288" y="44"/>
                </a:lnTo>
                <a:lnTo>
                  <a:pt x="378" y="103"/>
                </a:lnTo>
                <a:lnTo>
                  <a:pt x="138" y="260"/>
                </a:lnTo>
                <a:close/>
                <a:moveTo>
                  <a:pt x="38" y="472"/>
                </a:moveTo>
                <a:lnTo>
                  <a:pt x="38" y="223"/>
                </a:lnTo>
                <a:lnTo>
                  <a:pt x="128" y="281"/>
                </a:lnTo>
                <a:lnTo>
                  <a:pt x="128" y="389"/>
                </a:lnTo>
                <a:lnTo>
                  <a:pt x="182" y="419"/>
                </a:lnTo>
                <a:lnTo>
                  <a:pt x="182" y="317"/>
                </a:lnTo>
                <a:lnTo>
                  <a:pt x="277" y="379"/>
                </a:lnTo>
                <a:lnTo>
                  <a:pt x="277" y="628"/>
                </a:lnTo>
                <a:lnTo>
                  <a:pt x="38" y="472"/>
                </a:lnTo>
                <a:close/>
                <a:moveTo>
                  <a:pt x="297" y="380"/>
                </a:moveTo>
                <a:lnTo>
                  <a:pt x="539" y="223"/>
                </a:lnTo>
                <a:lnTo>
                  <a:pt x="539" y="472"/>
                </a:lnTo>
                <a:lnTo>
                  <a:pt x="297" y="631"/>
                </a:lnTo>
                <a:lnTo>
                  <a:pt x="297" y="38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29"/>
          <p:cNvSpPr/>
          <p:nvPr/>
        </p:nvSpPr>
        <p:spPr>
          <a:xfrm>
            <a:off x="7407360" y="311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Rectangle 30"/>
          <p:cNvSpPr/>
          <p:nvPr/>
        </p:nvSpPr>
        <p:spPr>
          <a:xfrm>
            <a:off x="7281720" y="3405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Group 35" descr=""/>
          <p:cNvPicPr/>
          <p:nvPr/>
        </p:nvPicPr>
        <p:blipFill>
          <a:blip r:embed="rId7"/>
          <a:stretch/>
        </p:blipFill>
        <p:spPr>
          <a:xfrm>
            <a:off x="6754680" y="3273480"/>
            <a:ext cx="481320" cy="549360"/>
          </a:xfrm>
          <a:prstGeom prst="rect">
            <a:avLst/>
          </a:prstGeom>
          <a:ln w="0">
            <a:noFill/>
          </a:ln>
        </p:spPr>
      </p:pic>
      <p:sp>
        <p:nvSpPr>
          <p:cNvPr id="848" name="TextBox 31"/>
          <p:cNvSpPr/>
          <p:nvPr/>
        </p:nvSpPr>
        <p:spPr>
          <a:xfrm>
            <a:off x="7407360" y="40719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32"/>
          <p:cNvSpPr/>
          <p:nvPr/>
        </p:nvSpPr>
        <p:spPr>
          <a:xfrm>
            <a:off x="7281720" y="43624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Group 39" descr=""/>
          <p:cNvPicPr/>
          <p:nvPr/>
        </p:nvPicPr>
        <p:blipFill>
          <a:blip r:embed="rId8"/>
          <a:stretch/>
        </p:blipFill>
        <p:spPr>
          <a:xfrm>
            <a:off x="6778800" y="4237200"/>
            <a:ext cx="433080" cy="414000"/>
          </a:xfrm>
          <a:prstGeom prst="rect">
            <a:avLst/>
          </a:prstGeom>
          <a:ln w="0">
            <a:noFill/>
          </a:ln>
        </p:spPr>
      </p:pic>
      <p:sp>
        <p:nvSpPr>
          <p:cNvPr id="851" name="TextBox 33"/>
          <p:cNvSpPr/>
          <p:nvPr/>
        </p:nvSpPr>
        <p:spPr>
          <a:xfrm>
            <a:off x="7407360" y="49705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Rectangle 34"/>
          <p:cNvSpPr/>
          <p:nvPr/>
        </p:nvSpPr>
        <p:spPr>
          <a:xfrm>
            <a:off x="7281720" y="5259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51"/>
          <p:cNvSpPr/>
          <p:nvPr/>
        </p:nvSpPr>
        <p:spPr>
          <a:xfrm>
            <a:off x="6780240" y="5099040"/>
            <a:ext cx="428760" cy="506520"/>
          </a:xfrm>
          <a:custGeom>
            <a:avLst/>
            <a:gdLst>
              <a:gd name="textAreaLeft" fmla="*/ 0 w 428760"/>
              <a:gd name="textAreaRight" fmla="*/ 429120 w 42876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576" h="681">
                <a:moveTo>
                  <a:pt x="576" y="493"/>
                </a:moveTo>
                <a:lnTo>
                  <a:pt x="576" y="186"/>
                </a:lnTo>
                <a:lnTo>
                  <a:pt x="288" y="0"/>
                </a:lnTo>
                <a:lnTo>
                  <a:pt x="0" y="186"/>
                </a:lnTo>
                <a:lnTo>
                  <a:pt x="0" y="493"/>
                </a:lnTo>
                <a:lnTo>
                  <a:pt x="288" y="681"/>
                </a:lnTo>
                <a:lnTo>
                  <a:pt x="576" y="493"/>
                </a:lnTo>
                <a:close/>
                <a:moveTo>
                  <a:pt x="532" y="203"/>
                </a:moveTo>
                <a:lnTo>
                  <a:pt x="290" y="362"/>
                </a:lnTo>
                <a:lnTo>
                  <a:pt x="191" y="297"/>
                </a:lnTo>
                <a:lnTo>
                  <a:pt x="432" y="138"/>
                </a:lnTo>
                <a:lnTo>
                  <a:pt x="532" y="203"/>
                </a:lnTo>
                <a:close/>
                <a:moveTo>
                  <a:pt x="138" y="260"/>
                </a:moveTo>
                <a:lnTo>
                  <a:pt x="47" y="201"/>
                </a:lnTo>
                <a:lnTo>
                  <a:pt x="288" y="44"/>
                </a:lnTo>
                <a:lnTo>
                  <a:pt x="378" y="103"/>
                </a:lnTo>
                <a:lnTo>
                  <a:pt x="138" y="260"/>
                </a:lnTo>
                <a:close/>
                <a:moveTo>
                  <a:pt x="38" y="472"/>
                </a:moveTo>
                <a:lnTo>
                  <a:pt x="38" y="223"/>
                </a:lnTo>
                <a:lnTo>
                  <a:pt x="128" y="281"/>
                </a:lnTo>
                <a:lnTo>
                  <a:pt x="128" y="389"/>
                </a:lnTo>
                <a:lnTo>
                  <a:pt x="182" y="419"/>
                </a:lnTo>
                <a:lnTo>
                  <a:pt x="182" y="317"/>
                </a:lnTo>
                <a:lnTo>
                  <a:pt x="277" y="379"/>
                </a:lnTo>
                <a:lnTo>
                  <a:pt x="277" y="628"/>
                </a:lnTo>
                <a:lnTo>
                  <a:pt x="38" y="472"/>
                </a:lnTo>
                <a:close/>
                <a:moveTo>
                  <a:pt x="297" y="380"/>
                </a:moveTo>
                <a:lnTo>
                  <a:pt x="539" y="223"/>
                </a:lnTo>
                <a:lnTo>
                  <a:pt x="539" y="472"/>
                </a:lnTo>
                <a:lnTo>
                  <a:pt x="297" y="631"/>
                </a:lnTo>
                <a:lnTo>
                  <a:pt x="297" y="38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3"/>
          <p:cNvGrpSpPr/>
          <p:nvPr/>
        </p:nvGrpSpPr>
        <p:grpSpPr>
          <a:xfrm>
            <a:off x="1085760" y="2235240"/>
            <a:ext cx="9877680" cy="2460600"/>
            <a:chOff x="1085760" y="2235240"/>
            <a:chExt cx="9877680" cy="2460600"/>
          </a:xfrm>
        </p:grpSpPr>
        <p:sp>
          <p:nvSpPr>
            <p:cNvPr id="114" name="文本框 58"/>
            <p:cNvSpPr/>
            <p:nvPr/>
          </p:nvSpPr>
          <p:spPr>
            <a:xfrm>
              <a:off x="1630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文本框 59"/>
            <p:cNvSpPr/>
            <p:nvPr/>
          </p:nvSpPr>
          <p:spPr>
            <a:xfrm>
              <a:off x="1085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菱形 55"/>
            <p:cNvSpPr/>
            <p:nvPr/>
          </p:nvSpPr>
          <p:spPr>
            <a:xfrm>
              <a:off x="109728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文本框 50"/>
            <p:cNvSpPr/>
            <p:nvPr/>
          </p:nvSpPr>
          <p:spPr>
            <a:xfrm>
              <a:off x="410292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文本框 51"/>
            <p:cNvSpPr/>
            <p:nvPr/>
          </p:nvSpPr>
          <p:spPr>
            <a:xfrm>
              <a:off x="355860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菱形 52"/>
            <p:cNvSpPr/>
            <p:nvPr/>
          </p:nvSpPr>
          <p:spPr>
            <a:xfrm>
              <a:off x="357012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文本框 62"/>
            <p:cNvSpPr/>
            <p:nvPr/>
          </p:nvSpPr>
          <p:spPr>
            <a:xfrm>
              <a:off x="6562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5"/>
            <p:cNvSpPr/>
            <p:nvPr/>
          </p:nvSpPr>
          <p:spPr>
            <a:xfrm>
              <a:off x="6017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菱形 66"/>
            <p:cNvSpPr/>
            <p:nvPr/>
          </p:nvSpPr>
          <p:spPr>
            <a:xfrm>
              <a:off x="602964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文本框 75"/>
            <p:cNvSpPr/>
            <p:nvPr/>
          </p:nvSpPr>
          <p:spPr>
            <a:xfrm>
              <a:off x="901476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76"/>
            <p:cNvSpPr/>
            <p:nvPr/>
          </p:nvSpPr>
          <p:spPr>
            <a:xfrm>
              <a:off x="847008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菱形 79"/>
            <p:cNvSpPr/>
            <p:nvPr/>
          </p:nvSpPr>
          <p:spPr>
            <a:xfrm>
              <a:off x="848196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组合 6"/>
            <p:cNvGrpSpPr/>
            <p:nvPr/>
          </p:nvGrpSpPr>
          <p:grpSpPr>
            <a:xfrm>
              <a:off x="1596240" y="3425400"/>
              <a:ext cx="1450080" cy="79920"/>
              <a:chOff x="1596240" y="3425400"/>
              <a:chExt cx="1450080" cy="79920"/>
            </a:xfrm>
          </p:grpSpPr>
          <p:sp>
            <p:nvSpPr>
              <p:cNvPr id="127" name="椭圆 38"/>
              <p:cNvSpPr/>
              <p:nvPr/>
            </p:nvSpPr>
            <p:spPr>
              <a:xfrm flipV="1">
                <a:off x="22874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组合 5"/>
              <p:cNvGrpSpPr/>
              <p:nvPr/>
            </p:nvGrpSpPr>
            <p:grpSpPr>
              <a:xfrm>
                <a:off x="1596240" y="3468960"/>
                <a:ext cx="1450080" cy="0"/>
                <a:chOff x="1596240" y="3468960"/>
                <a:chExt cx="1450080" cy="0"/>
              </a:xfrm>
            </p:grpSpPr>
            <p:sp>
              <p:nvSpPr>
                <p:cNvPr id="129" name="直接连接符 36"/>
                <p:cNvSpPr/>
                <p:nvPr/>
              </p:nvSpPr>
              <p:spPr>
                <a:xfrm>
                  <a:off x="1596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直接连接符 42"/>
                <p:cNvSpPr/>
                <p:nvPr/>
              </p:nvSpPr>
              <p:spPr>
                <a:xfrm>
                  <a:off x="24980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1" name="组合 45"/>
            <p:cNvGrpSpPr/>
            <p:nvPr/>
          </p:nvGrpSpPr>
          <p:grpSpPr>
            <a:xfrm>
              <a:off x="4061520" y="3425400"/>
              <a:ext cx="1450080" cy="79920"/>
              <a:chOff x="4061520" y="3425400"/>
              <a:chExt cx="1450080" cy="79920"/>
            </a:xfrm>
          </p:grpSpPr>
          <p:sp>
            <p:nvSpPr>
              <p:cNvPr id="132" name="椭圆 46"/>
              <p:cNvSpPr/>
              <p:nvPr/>
            </p:nvSpPr>
            <p:spPr>
              <a:xfrm flipV="1">
                <a:off x="47527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3" name="组合 47"/>
              <p:cNvGrpSpPr/>
              <p:nvPr/>
            </p:nvGrpSpPr>
            <p:grpSpPr>
              <a:xfrm>
                <a:off x="4061520" y="3468960"/>
                <a:ext cx="1450080" cy="0"/>
                <a:chOff x="4061520" y="3468960"/>
                <a:chExt cx="1450080" cy="0"/>
              </a:xfrm>
            </p:grpSpPr>
            <p:sp>
              <p:nvSpPr>
                <p:cNvPr id="134" name="直接连接符 48"/>
                <p:cNvSpPr/>
                <p:nvPr/>
              </p:nvSpPr>
              <p:spPr>
                <a:xfrm>
                  <a:off x="4061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直接连接符 63"/>
                <p:cNvSpPr/>
                <p:nvPr/>
              </p:nvSpPr>
              <p:spPr>
                <a:xfrm>
                  <a:off x="49633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6" name="组合 64"/>
            <p:cNvGrpSpPr/>
            <p:nvPr/>
          </p:nvGrpSpPr>
          <p:grpSpPr>
            <a:xfrm>
              <a:off x="6526440" y="3425400"/>
              <a:ext cx="1450080" cy="79920"/>
              <a:chOff x="6526440" y="3425400"/>
              <a:chExt cx="1450080" cy="79920"/>
            </a:xfrm>
          </p:grpSpPr>
          <p:sp>
            <p:nvSpPr>
              <p:cNvPr id="137" name="椭圆 70"/>
              <p:cNvSpPr/>
              <p:nvPr/>
            </p:nvSpPr>
            <p:spPr>
              <a:xfrm flipV="1">
                <a:off x="72176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8" name="组合 71"/>
              <p:cNvGrpSpPr/>
              <p:nvPr/>
            </p:nvGrpSpPr>
            <p:grpSpPr>
              <a:xfrm>
                <a:off x="6526440" y="3468960"/>
                <a:ext cx="1450080" cy="0"/>
                <a:chOff x="6526440" y="3468960"/>
                <a:chExt cx="1450080" cy="0"/>
              </a:xfrm>
            </p:grpSpPr>
            <p:sp>
              <p:nvSpPr>
                <p:cNvPr id="139" name="直接连接符 77"/>
                <p:cNvSpPr/>
                <p:nvPr/>
              </p:nvSpPr>
              <p:spPr>
                <a:xfrm>
                  <a:off x="65264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直接连接符 78"/>
                <p:cNvSpPr/>
                <p:nvPr/>
              </p:nvSpPr>
              <p:spPr>
                <a:xfrm>
                  <a:off x="7428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1" name="组合 85"/>
            <p:cNvGrpSpPr/>
            <p:nvPr/>
          </p:nvGrpSpPr>
          <p:grpSpPr>
            <a:xfrm>
              <a:off x="8991720" y="3425400"/>
              <a:ext cx="1450080" cy="79920"/>
              <a:chOff x="8991720" y="3425400"/>
              <a:chExt cx="1450080" cy="79920"/>
            </a:xfrm>
          </p:grpSpPr>
          <p:sp>
            <p:nvSpPr>
              <p:cNvPr id="142" name="椭圆 86"/>
              <p:cNvSpPr/>
              <p:nvPr/>
            </p:nvSpPr>
            <p:spPr>
              <a:xfrm flipV="1">
                <a:off x="96829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3" name="组合 87"/>
              <p:cNvGrpSpPr/>
              <p:nvPr/>
            </p:nvGrpSpPr>
            <p:grpSpPr>
              <a:xfrm>
                <a:off x="8991720" y="3468960"/>
                <a:ext cx="1450080" cy="0"/>
                <a:chOff x="8991720" y="3468960"/>
                <a:chExt cx="1450080" cy="0"/>
              </a:xfrm>
            </p:grpSpPr>
            <p:sp>
              <p:nvSpPr>
                <p:cNvPr id="144" name="直接连接符 88"/>
                <p:cNvSpPr/>
                <p:nvPr/>
              </p:nvSpPr>
              <p:spPr>
                <a:xfrm>
                  <a:off x="89917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直接连接符 89"/>
                <p:cNvSpPr/>
                <p:nvPr/>
              </p:nvSpPr>
              <p:spPr>
                <a:xfrm>
                  <a:off x="9893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46" name="组合 2"/>
          <p:cNvGrpSpPr/>
          <p:nvPr/>
        </p:nvGrpSpPr>
        <p:grpSpPr>
          <a:xfrm>
            <a:off x="822240" y="1379520"/>
            <a:ext cx="10242720" cy="3925800"/>
            <a:chOff x="822240" y="1379520"/>
            <a:chExt cx="10242720" cy="3925800"/>
          </a:xfrm>
        </p:grpSpPr>
        <p:sp>
          <p:nvSpPr>
            <p:cNvPr id="147" name="文本框 90"/>
            <p:cNvSpPr/>
            <p:nvPr/>
          </p:nvSpPr>
          <p:spPr>
            <a:xfrm>
              <a:off x="4751280" y="1379520"/>
              <a:ext cx="249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" name="组合 106"/>
            <p:cNvGrpSpPr/>
            <p:nvPr/>
          </p:nvGrpSpPr>
          <p:grpSpPr>
            <a:xfrm>
              <a:off x="822240" y="5229360"/>
              <a:ext cx="10242720" cy="75960"/>
              <a:chOff x="822240" y="5229360"/>
              <a:chExt cx="10242720" cy="75960"/>
            </a:xfrm>
          </p:grpSpPr>
          <p:sp>
            <p:nvSpPr>
              <p:cNvPr id="149" name="直接连接符 107"/>
              <p:cNvSpPr/>
              <p:nvPr/>
            </p:nvSpPr>
            <p:spPr>
              <a:xfrm>
                <a:off x="822240" y="522936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直接连接符 108"/>
              <p:cNvSpPr/>
              <p:nvPr/>
            </p:nvSpPr>
            <p:spPr>
              <a:xfrm>
                <a:off x="822240" y="530532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" name="组合 74"/>
            <p:cNvGrpSpPr/>
            <p:nvPr/>
          </p:nvGrpSpPr>
          <p:grpSpPr>
            <a:xfrm>
              <a:off x="822240" y="1580760"/>
              <a:ext cx="3649680" cy="75960"/>
              <a:chOff x="822240" y="1580760"/>
              <a:chExt cx="3649680" cy="75960"/>
            </a:xfrm>
          </p:grpSpPr>
          <p:sp>
            <p:nvSpPr>
              <p:cNvPr id="152" name="直接连接符 80"/>
              <p:cNvSpPr/>
              <p:nvPr/>
            </p:nvSpPr>
            <p:spPr>
              <a:xfrm>
                <a:off x="82224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直接连接符 81"/>
              <p:cNvSpPr/>
              <p:nvPr/>
            </p:nvSpPr>
            <p:spPr>
              <a:xfrm>
                <a:off x="82224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" name="组合 82"/>
            <p:cNvGrpSpPr/>
            <p:nvPr/>
          </p:nvGrpSpPr>
          <p:grpSpPr>
            <a:xfrm>
              <a:off x="7415280" y="1580760"/>
              <a:ext cx="3649680" cy="75960"/>
              <a:chOff x="7415280" y="1580760"/>
              <a:chExt cx="3649680" cy="75960"/>
            </a:xfrm>
          </p:grpSpPr>
          <p:sp>
            <p:nvSpPr>
              <p:cNvPr id="155" name="直接连接符 83"/>
              <p:cNvSpPr/>
              <p:nvPr/>
            </p:nvSpPr>
            <p:spPr>
              <a:xfrm>
                <a:off x="741528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直接连接符 84"/>
              <p:cNvSpPr/>
              <p:nvPr/>
            </p:nvSpPr>
            <p:spPr>
              <a:xfrm>
                <a:off x="741528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push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1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1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5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5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9" name="图片 29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18000" y="1463760"/>
            <a:ext cx="5686560" cy="424656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30" descr=""/>
          <p:cNvPicPr/>
          <p:nvPr/>
        </p:nvPicPr>
        <p:blipFill>
          <a:blip r:embed="rId3"/>
          <a:srcRect l="21069" t="0" r="0" b="0"/>
          <a:stretch/>
        </p:blipFill>
        <p:spPr>
          <a:xfrm>
            <a:off x="1096920" y="1469880"/>
            <a:ext cx="2062080" cy="205596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31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51160" y="3657600"/>
            <a:ext cx="2062080" cy="2052720"/>
          </a:xfrm>
          <a:prstGeom prst="rect">
            <a:avLst/>
          </a:prstGeom>
          <a:ln w="0">
            <a:noFill/>
          </a:ln>
        </p:spPr>
      </p:pic>
      <p:grpSp>
        <p:nvGrpSpPr>
          <p:cNvPr id="862" name="组合 32"/>
          <p:cNvGrpSpPr/>
          <p:nvPr/>
        </p:nvGrpSpPr>
        <p:grpSpPr>
          <a:xfrm>
            <a:off x="3251160" y="1463760"/>
            <a:ext cx="2062080" cy="2062080"/>
            <a:chOff x="3251160" y="1463760"/>
            <a:chExt cx="2062080" cy="2062080"/>
          </a:xfrm>
        </p:grpSpPr>
        <p:sp>
          <p:nvSpPr>
            <p:cNvPr id="863" name="矩形 33"/>
            <p:cNvSpPr/>
            <p:nvPr/>
          </p:nvSpPr>
          <p:spPr>
            <a:xfrm>
              <a:off x="3251160" y="1463760"/>
              <a:ext cx="2062080" cy="20620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252"/>
            <p:cNvSpPr/>
            <p:nvPr/>
          </p:nvSpPr>
          <p:spPr>
            <a:xfrm>
              <a:off x="3927600" y="2158560"/>
              <a:ext cx="709200" cy="672120"/>
            </a:xfrm>
            <a:custGeom>
              <a:avLst/>
              <a:gdLst>
                <a:gd name="textAreaLeft" fmla="*/ 0 w 709200"/>
                <a:gd name="textAreaRight" fmla="*/ 709560 w 70920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组合 35"/>
          <p:cNvGrpSpPr/>
          <p:nvPr/>
        </p:nvGrpSpPr>
        <p:grpSpPr>
          <a:xfrm>
            <a:off x="1096920" y="3657600"/>
            <a:ext cx="2062080" cy="2063880"/>
            <a:chOff x="1096920" y="3657600"/>
            <a:chExt cx="2062080" cy="2063880"/>
          </a:xfrm>
        </p:grpSpPr>
        <p:sp>
          <p:nvSpPr>
            <p:cNvPr id="866" name="矩形 36"/>
            <p:cNvSpPr/>
            <p:nvPr/>
          </p:nvSpPr>
          <p:spPr>
            <a:xfrm>
              <a:off x="1096920" y="3657600"/>
              <a:ext cx="2062080" cy="2063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337"/>
            <p:cNvSpPr/>
            <p:nvPr/>
          </p:nvSpPr>
          <p:spPr>
            <a:xfrm>
              <a:off x="1782720" y="4344840"/>
              <a:ext cx="677520" cy="67788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6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7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3" name="任意多边形 6"/>
          <p:cNvSpPr/>
          <p:nvPr/>
        </p:nvSpPr>
        <p:spPr>
          <a:xfrm rot="2700000">
            <a:off x="1917360" y="2236680"/>
            <a:ext cx="2908440" cy="2908440"/>
          </a:xfrm>
          <a:custGeom>
            <a:avLst/>
            <a:gdLst>
              <a:gd name="textAreaLeft" fmla="*/ 0 w 2908440"/>
              <a:gd name="textAreaRight" fmla="*/ 2908800 w 2908440"/>
              <a:gd name="textAreaTop" fmla="*/ 0 h 2908440"/>
              <a:gd name="textAreaBottom" fmla="*/ 2908800 h 2908440"/>
            </a:gdLst>
            <a:ahLst/>
            <a:rect l="textAreaLeft" t="textAreaTop" r="textAreaRight" b="textAreaBottom"/>
            <a:pathLst>
              <a:path w="2907621" h="2907623">
                <a:moveTo>
                  <a:pt x="2726838" y="2390397"/>
                </a:moveTo>
                <a:lnTo>
                  <a:pt x="2764237" y="2359847"/>
                </a:lnTo>
                <a:lnTo>
                  <a:pt x="2907621" y="2216464"/>
                </a:lnTo>
                <a:lnTo>
                  <a:pt x="2907621" y="2216465"/>
                </a:lnTo>
                <a:lnTo>
                  <a:pt x="2764238" y="2359848"/>
                </a:lnTo>
                <a:cubicBezTo>
                  <a:pt x="2753447" y="2370638"/>
                  <a:pt x="2741923" y="2380249"/>
                  <a:pt x="2729826" y="2388680"/>
                </a:cubicBezTo>
                <a:lnTo>
                  <a:pt x="2726838" y="2390397"/>
                </a:lnTo>
                <a:close/>
                <a:moveTo>
                  <a:pt x="2687906" y="2411533"/>
                </a:moveTo>
                <a:lnTo>
                  <a:pt x="2713444" y="2398093"/>
                </a:lnTo>
                <a:lnTo>
                  <a:pt x="2691977" y="2410430"/>
                </a:lnTo>
                <a:lnTo>
                  <a:pt x="2687906" y="2411533"/>
                </a:lnTo>
                <a:close/>
                <a:moveTo>
                  <a:pt x="2602869" y="2432186"/>
                </a:moveTo>
                <a:lnTo>
                  <a:pt x="2616474" y="2430883"/>
                </a:lnTo>
                <a:lnTo>
                  <a:pt x="2609815" y="2432686"/>
                </a:lnTo>
                <a:lnTo>
                  <a:pt x="2602869" y="2432186"/>
                </a:lnTo>
                <a:close/>
                <a:moveTo>
                  <a:pt x="2518844" y="2423734"/>
                </a:moveTo>
                <a:lnTo>
                  <a:pt x="2529572" y="2426913"/>
                </a:lnTo>
                <a:lnTo>
                  <a:pt x="2525454" y="2426617"/>
                </a:lnTo>
                <a:lnTo>
                  <a:pt x="2518844" y="2423734"/>
                </a:lnTo>
                <a:close/>
                <a:moveTo>
                  <a:pt x="2446592" y="2392220"/>
                </a:moveTo>
                <a:lnTo>
                  <a:pt x="2446596" y="2392222"/>
                </a:lnTo>
                <a:lnTo>
                  <a:pt x="2446593" y="2392221"/>
                </a:lnTo>
                <a:lnTo>
                  <a:pt x="2446592" y="2392220"/>
                </a:lnTo>
                <a:close/>
                <a:moveTo>
                  <a:pt x="1540650" y="1264278"/>
                </a:moveTo>
                <a:lnTo>
                  <a:pt x="1566190" y="1250839"/>
                </a:lnTo>
                <a:lnTo>
                  <a:pt x="1544722" y="1263175"/>
                </a:lnTo>
                <a:lnTo>
                  <a:pt x="1540650" y="1264278"/>
                </a:lnTo>
                <a:close/>
                <a:moveTo>
                  <a:pt x="1455614" y="1284932"/>
                </a:moveTo>
                <a:lnTo>
                  <a:pt x="1469219" y="1283628"/>
                </a:lnTo>
                <a:lnTo>
                  <a:pt x="1462560" y="1285432"/>
                </a:lnTo>
                <a:lnTo>
                  <a:pt x="1455614" y="1284932"/>
                </a:lnTo>
                <a:close/>
                <a:moveTo>
                  <a:pt x="1371590" y="1276479"/>
                </a:moveTo>
                <a:lnTo>
                  <a:pt x="1382316" y="1279658"/>
                </a:lnTo>
                <a:lnTo>
                  <a:pt x="1378199" y="1279361"/>
                </a:lnTo>
                <a:lnTo>
                  <a:pt x="1371590" y="1276479"/>
                </a:lnTo>
                <a:close/>
                <a:moveTo>
                  <a:pt x="2331515" y="140783"/>
                </a:moveTo>
                <a:lnTo>
                  <a:pt x="2331516" y="140784"/>
                </a:lnTo>
                <a:cubicBezTo>
                  <a:pt x="2430175" y="239443"/>
                  <a:pt x="2430175" y="399401"/>
                  <a:pt x="2331516" y="498061"/>
                </a:cubicBezTo>
                <a:lnTo>
                  <a:pt x="1616983" y="1212593"/>
                </a:lnTo>
                <a:cubicBezTo>
                  <a:pt x="1606193" y="1223384"/>
                  <a:pt x="1594668" y="1232995"/>
                  <a:pt x="1582571" y="1241425"/>
                </a:cubicBezTo>
                <a:lnTo>
                  <a:pt x="1579583" y="1243142"/>
                </a:lnTo>
                <a:lnTo>
                  <a:pt x="1616983" y="1212593"/>
                </a:lnTo>
                <a:lnTo>
                  <a:pt x="2331515" y="498060"/>
                </a:lnTo>
                <a:cubicBezTo>
                  <a:pt x="2430174" y="399401"/>
                  <a:pt x="2430174" y="239442"/>
                  <a:pt x="2331515" y="140783"/>
                </a:cubicBezTo>
                <a:close/>
                <a:moveTo>
                  <a:pt x="130662" y="2341636"/>
                </a:moveTo>
                <a:cubicBezTo>
                  <a:pt x="204657" y="2415630"/>
                  <a:pt x="313133" y="2434128"/>
                  <a:pt x="404367" y="2397132"/>
                </a:cubicBezTo>
                <a:cubicBezTo>
                  <a:pt x="313132" y="2434129"/>
                  <a:pt x="204657" y="2415630"/>
                  <a:pt x="130662" y="2341636"/>
                </a:cubicBezTo>
                <a:close/>
                <a:moveTo>
                  <a:pt x="0" y="0"/>
                </a:moveTo>
                <a:lnTo>
                  <a:pt x="685957" y="0"/>
                </a:lnTo>
                <a:lnTo>
                  <a:pt x="545173" y="140784"/>
                </a:lnTo>
                <a:cubicBezTo>
                  <a:pt x="446514" y="239443"/>
                  <a:pt x="446514" y="399401"/>
                  <a:pt x="545173" y="498061"/>
                </a:cubicBezTo>
                <a:lnTo>
                  <a:pt x="1259706" y="1212593"/>
                </a:lnTo>
                <a:lnTo>
                  <a:pt x="1273873" y="1224165"/>
                </a:lnTo>
                <a:lnTo>
                  <a:pt x="1259714" y="1212600"/>
                </a:lnTo>
                <a:lnTo>
                  <a:pt x="1298730" y="1251616"/>
                </a:lnTo>
                <a:cubicBezTo>
                  <a:pt x="1397389" y="1350275"/>
                  <a:pt x="1557348" y="1350275"/>
                  <a:pt x="1656007" y="1251616"/>
                </a:cubicBezTo>
                <a:lnTo>
                  <a:pt x="2370540" y="537083"/>
                </a:lnTo>
                <a:cubicBezTo>
                  <a:pt x="2469199" y="438424"/>
                  <a:pt x="2469199" y="278465"/>
                  <a:pt x="2370540" y="179806"/>
                </a:cubicBezTo>
                <a:lnTo>
                  <a:pt x="2190734" y="0"/>
                </a:lnTo>
                <a:lnTo>
                  <a:pt x="2907621" y="0"/>
                </a:lnTo>
                <a:lnTo>
                  <a:pt x="2907621" y="716887"/>
                </a:lnTo>
                <a:lnTo>
                  <a:pt x="2803262" y="612528"/>
                </a:lnTo>
                <a:lnTo>
                  <a:pt x="2803254" y="612521"/>
                </a:lnTo>
                <a:lnTo>
                  <a:pt x="2764237" y="573505"/>
                </a:lnTo>
                <a:cubicBezTo>
                  <a:pt x="2665578" y="474846"/>
                  <a:pt x="2505619" y="474846"/>
                  <a:pt x="2406960" y="573505"/>
                </a:cubicBezTo>
                <a:lnTo>
                  <a:pt x="1692427" y="1288037"/>
                </a:lnTo>
                <a:cubicBezTo>
                  <a:pt x="1593768" y="1386697"/>
                  <a:pt x="1593768" y="1546655"/>
                  <a:pt x="1692427" y="1645314"/>
                </a:cubicBezTo>
                <a:lnTo>
                  <a:pt x="2406960" y="2359847"/>
                </a:lnTo>
                <a:lnTo>
                  <a:pt x="2425865" y="2375290"/>
                </a:lnTo>
                <a:lnTo>
                  <a:pt x="2406969" y="2359854"/>
                </a:lnTo>
                <a:lnTo>
                  <a:pt x="2445985" y="2398870"/>
                </a:lnTo>
                <a:cubicBezTo>
                  <a:pt x="2544644" y="2497530"/>
                  <a:pt x="2704603" y="2497530"/>
                  <a:pt x="2803262" y="2398870"/>
                </a:cubicBezTo>
                <a:lnTo>
                  <a:pt x="2907621" y="2294511"/>
                </a:lnTo>
                <a:lnTo>
                  <a:pt x="2907621" y="2907623"/>
                </a:lnTo>
                <a:lnTo>
                  <a:pt x="2294508" y="2907623"/>
                </a:lnTo>
                <a:lnTo>
                  <a:pt x="2388750" y="2813381"/>
                </a:lnTo>
                <a:cubicBezTo>
                  <a:pt x="2487409" y="2714722"/>
                  <a:pt x="2487409" y="2554763"/>
                  <a:pt x="2388750" y="2456104"/>
                </a:cubicBezTo>
                <a:lnTo>
                  <a:pt x="2349727" y="2417081"/>
                </a:lnTo>
                <a:lnTo>
                  <a:pt x="1635194" y="1702548"/>
                </a:lnTo>
                <a:cubicBezTo>
                  <a:pt x="1536535" y="1603889"/>
                  <a:pt x="1376576" y="1603889"/>
                  <a:pt x="1277917" y="1702548"/>
                </a:cubicBezTo>
                <a:lnTo>
                  <a:pt x="563384" y="2417081"/>
                </a:lnTo>
                <a:cubicBezTo>
                  <a:pt x="464725" y="2515740"/>
                  <a:pt x="464725" y="2675698"/>
                  <a:pt x="563384" y="2774357"/>
                </a:cubicBezTo>
                <a:lnTo>
                  <a:pt x="696650" y="2907623"/>
                </a:lnTo>
                <a:lnTo>
                  <a:pt x="0" y="2907623"/>
                </a:lnTo>
                <a:lnTo>
                  <a:pt x="0" y="2210973"/>
                </a:lnTo>
                <a:lnTo>
                  <a:pt x="130662" y="2341636"/>
                </a:lnTo>
                <a:lnTo>
                  <a:pt x="169686" y="2380659"/>
                </a:lnTo>
                <a:cubicBezTo>
                  <a:pt x="268345" y="2479318"/>
                  <a:pt x="428303" y="2479318"/>
                  <a:pt x="526963" y="2380659"/>
                </a:cubicBezTo>
                <a:lnTo>
                  <a:pt x="1241495" y="1666126"/>
                </a:lnTo>
                <a:cubicBezTo>
                  <a:pt x="1340154" y="1567467"/>
                  <a:pt x="1340154" y="1407508"/>
                  <a:pt x="1241495" y="1308849"/>
                </a:cubicBezTo>
                <a:lnTo>
                  <a:pt x="1202472" y="1269826"/>
                </a:lnTo>
                <a:lnTo>
                  <a:pt x="487940" y="555294"/>
                </a:lnTo>
                <a:cubicBezTo>
                  <a:pt x="389281" y="456635"/>
                  <a:pt x="229322" y="456635"/>
                  <a:pt x="130663" y="555294"/>
                </a:cubicBezTo>
                <a:lnTo>
                  <a:pt x="0" y="685957"/>
                </a:lnTo>
                <a:lnTo>
                  <a:pt x="0" y="0"/>
                </a:lnTo>
                <a:close/>
              </a:path>
            </a:pathLst>
          </a:custGeom>
          <a:solidFill>
            <a:srgbClr val="e7e6e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ounded Rectangle 22"/>
          <p:cNvSpPr/>
          <p:nvPr/>
        </p:nvSpPr>
        <p:spPr>
          <a:xfrm>
            <a:off x="340524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ounded Rectangle 7"/>
          <p:cNvSpPr/>
          <p:nvPr/>
        </p:nvSpPr>
        <p:spPr>
          <a:xfrm>
            <a:off x="180828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ed Rectangle 12"/>
          <p:cNvSpPr/>
          <p:nvPr/>
        </p:nvSpPr>
        <p:spPr>
          <a:xfrm>
            <a:off x="340524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ounded Rectangle 17"/>
          <p:cNvSpPr/>
          <p:nvPr/>
        </p:nvSpPr>
        <p:spPr>
          <a:xfrm>
            <a:off x="180828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任意多边形 11"/>
          <p:cNvSpPr/>
          <p:nvPr/>
        </p:nvSpPr>
        <p:spPr>
          <a:xfrm>
            <a:off x="1808280" y="3382920"/>
            <a:ext cx="1515960" cy="3081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308160"/>
              <a:gd name="textAreaBottom" fmla="*/ 308160 h 308160"/>
            </a:gdLst>
            <a:ahLst/>
            <a:rect l="textAreaLeft" t="textAreaTop" r="textAreaRight" b="textAreaBottom"/>
            <a:pathLst>
              <a:path w="1515768" h="307820">
                <a:moveTo>
                  <a:pt x="0" y="0"/>
                </a:moveTo>
                <a:cubicBezTo>
                  <a:pt x="0" y="139525"/>
                  <a:pt x="113108" y="252633"/>
                  <a:pt x="252633" y="252633"/>
                </a:cubicBezTo>
                <a:lnTo>
                  <a:pt x="1263135" y="252633"/>
                </a:lnTo>
                <a:cubicBezTo>
                  <a:pt x="1402660" y="252633"/>
                  <a:pt x="1515768" y="139525"/>
                  <a:pt x="1515768" y="0"/>
                </a:cubicBezTo>
                <a:lnTo>
                  <a:pt x="1515768" y="55187"/>
                </a:lnTo>
                <a:cubicBezTo>
                  <a:pt x="1515768" y="194712"/>
                  <a:pt x="1402660" y="307820"/>
                  <a:pt x="1263135" y="307820"/>
                </a:cubicBezTo>
                <a:lnTo>
                  <a:pt x="252633" y="307820"/>
                </a:lnTo>
                <a:cubicBezTo>
                  <a:pt x="113108" y="307820"/>
                  <a:pt x="0" y="194712"/>
                  <a:pt x="0" y="55187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7"/>
          <p:cNvSpPr/>
          <p:nvPr/>
        </p:nvSpPr>
        <p:spPr>
          <a:xfrm>
            <a:off x="220320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任意多边形 13"/>
          <p:cNvSpPr/>
          <p:nvPr/>
        </p:nvSpPr>
        <p:spPr>
          <a:xfrm>
            <a:off x="3405240" y="2428920"/>
            <a:ext cx="1515960" cy="12621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1515768" h="1263145">
                <a:moveTo>
                  <a:pt x="1515767" y="0"/>
                </a:moveTo>
                <a:lnTo>
                  <a:pt x="1515768" y="10"/>
                </a:lnTo>
                <a:lnTo>
                  <a:pt x="1515768" y="1010512"/>
                </a:lnTo>
                <a:cubicBezTo>
                  <a:pt x="1515768" y="1150037"/>
                  <a:pt x="1402660" y="1263145"/>
                  <a:pt x="1263135" y="1263145"/>
                </a:cubicBezTo>
                <a:lnTo>
                  <a:pt x="252633" y="1263145"/>
                </a:lnTo>
                <a:cubicBezTo>
                  <a:pt x="113108" y="1263145"/>
                  <a:pt x="0" y="1150037"/>
                  <a:pt x="0" y="1010512"/>
                </a:cubicBezTo>
                <a:lnTo>
                  <a:pt x="0" y="955335"/>
                </a:lnTo>
                <a:lnTo>
                  <a:pt x="5132" y="1006239"/>
                </a:lnTo>
                <a:cubicBezTo>
                  <a:pt x="28689" y="1121360"/>
                  <a:pt x="130548" y="1207958"/>
                  <a:pt x="252632" y="1207958"/>
                </a:cubicBezTo>
                <a:lnTo>
                  <a:pt x="1263134" y="1207958"/>
                </a:lnTo>
                <a:cubicBezTo>
                  <a:pt x="1402659" y="1207958"/>
                  <a:pt x="1515767" y="1094850"/>
                  <a:pt x="1515767" y="955325"/>
                </a:cubicBezTo>
                <a:lnTo>
                  <a:pt x="1515767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2"/>
          <p:cNvSpPr/>
          <p:nvPr/>
        </p:nvSpPr>
        <p:spPr>
          <a:xfrm>
            <a:off x="377316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任意多边形 15"/>
          <p:cNvSpPr/>
          <p:nvPr/>
        </p:nvSpPr>
        <p:spPr>
          <a:xfrm>
            <a:off x="1808280" y="5005440"/>
            <a:ext cx="1515960" cy="3078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515768" h="307820">
                <a:moveTo>
                  <a:pt x="0" y="0"/>
                </a:moveTo>
                <a:cubicBezTo>
                  <a:pt x="0" y="139525"/>
                  <a:pt x="113108" y="252633"/>
                  <a:pt x="252633" y="252633"/>
                </a:cubicBezTo>
                <a:lnTo>
                  <a:pt x="1263135" y="252633"/>
                </a:lnTo>
                <a:cubicBezTo>
                  <a:pt x="1402660" y="252633"/>
                  <a:pt x="1515768" y="139525"/>
                  <a:pt x="1515768" y="0"/>
                </a:cubicBezTo>
                <a:lnTo>
                  <a:pt x="1515768" y="55187"/>
                </a:lnTo>
                <a:cubicBezTo>
                  <a:pt x="1515768" y="194712"/>
                  <a:pt x="1402660" y="307820"/>
                  <a:pt x="1263135" y="307820"/>
                </a:cubicBezTo>
                <a:lnTo>
                  <a:pt x="252633" y="307820"/>
                </a:lnTo>
                <a:cubicBezTo>
                  <a:pt x="113108" y="307820"/>
                  <a:pt x="0" y="194712"/>
                  <a:pt x="0" y="55187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7"/>
          <p:cNvSpPr/>
          <p:nvPr/>
        </p:nvSpPr>
        <p:spPr>
          <a:xfrm>
            <a:off x="2196000" y="4314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任意多边形 17"/>
          <p:cNvSpPr/>
          <p:nvPr/>
        </p:nvSpPr>
        <p:spPr>
          <a:xfrm>
            <a:off x="3405240" y="4051440"/>
            <a:ext cx="1515960" cy="12618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1515768" h="1263145">
                <a:moveTo>
                  <a:pt x="1515767" y="0"/>
                </a:moveTo>
                <a:lnTo>
                  <a:pt x="1515768" y="10"/>
                </a:lnTo>
                <a:lnTo>
                  <a:pt x="1515768" y="1010512"/>
                </a:lnTo>
                <a:cubicBezTo>
                  <a:pt x="1515768" y="1150037"/>
                  <a:pt x="1402660" y="1263145"/>
                  <a:pt x="1263135" y="1263145"/>
                </a:cubicBezTo>
                <a:lnTo>
                  <a:pt x="252633" y="1263145"/>
                </a:lnTo>
                <a:cubicBezTo>
                  <a:pt x="113108" y="1263145"/>
                  <a:pt x="0" y="1150037"/>
                  <a:pt x="0" y="1010512"/>
                </a:cubicBezTo>
                <a:lnTo>
                  <a:pt x="0" y="955335"/>
                </a:lnTo>
                <a:lnTo>
                  <a:pt x="5132" y="1006240"/>
                </a:lnTo>
                <a:cubicBezTo>
                  <a:pt x="28689" y="1121360"/>
                  <a:pt x="130548" y="1207958"/>
                  <a:pt x="252632" y="1207958"/>
                </a:cubicBezTo>
                <a:lnTo>
                  <a:pt x="1263134" y="1207958"/>
                </a:lnTo>
                <a:cubicBezTo>
                  <a:pt x="1402659" y="1207958"/>
                  <a:pt x="1515767" y="1094850"/>
                  <a:pt x="1515767" y="955325"/>
                </a:cubicBezTo>
                <a:lnTo>
                  <a:pt x="1515767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22"/>
          <p:cNvSpPr/>
          <p:nvPr/>
        </p:nvSpPr>
        <p:spPr>
          <a:xfrm>
            <a:off x="3773160" y="43020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30"/>
          <p:cNvSpPr/>
          <p:nvPr/>
        </p:nvSpPr>
        <p:spPr>
          <a:xfrm>
            <a:off x="6497280" y="4146480"/>
            <a:ext cx="15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31"/>
          <p:cNvSpPr/>
          <p:nvPr/>
        </p:nvSpPr>
        <p:spPr>
          <a:xfrm>
            <a:off x="6124680" y="4538520"/>
            <a:ext cx="48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8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9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Oval 5"/>
          <p:cNvSpPr/>
          <p:nvPr/>
        </p:nvSpPr>
        <p:spPr>
          <a:xfrm>
            <a:off x="64764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Oval 6"/>
          <p:cNvSpPr/>
          <p:nvPr/>
        </p:nvSpPr>
        <p:spPr>
          <a:xfrm>
            <a:off x="2398680" y="129528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Oval 7"/>
          <p:cNvSpPr/>
          <p:nvPr/>
        </p:nvSpPr>
        <p:spPr>
          <a:xfrm>
            <a:off x="2398680" y="482436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8"/>
          <p:cNvSpPr/>
          <p:nvPr/>
        </p:nvSpPr>
        <p:spPr>
          <a:xfrm>
            <a:off x="419256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任意多边形 10"/>
          <p:cNvSpPr/>
          <p:nvPr/>
        </p:nvSpPr>
        <p:spPr>
          <a:xfrm>
            <a:off x="1249200" y="1901880"/>
            <a:ext cx="3722760" cy="3740040"/>
          </a:xfrm>
          <a:custGeom>
            <a:avLst/>
            <a:gdLst>
              <a:gd name="textAreaLeft" fmla="*/ 0 w 3722760"/>
              <a:gd name="textAreaRight" fmla="*/ 3723120 w 3722760"/>
              <a:gd name="textAreaTop" fmla="*/ 0 h 3740040"/>
              <a:gd name="textAreaBottom" fmla="*/ 3740400 h 3740040"/>
            </a:gdLst>
            <a:ahLst/>
            <a:rect l="textAreaLeft" t="textAreaTop" r="textAreaRight" b="textAreaBottom"/>
            <a:pathLst>
              <a:path w="3721860" h="3740133">
                <a:moveTo>
                  <a:pt x="96640" y="2513632"/>
                </a:moveTo>
                <a:cubicBezTo>
                  <a:pt x="280002" y="2665018"/>
                  <a:pt x="483551" y="2765943"/>
                  <a:pt x="682053" y="2818087"/>
                </a:cubicBezTo>
                <a:cubicBezTo>
                  <a:pt x="682053" y="2818087"/>
                  <a:pt x="682053" y="2818087"/>
                  <a:pt x="505419" y="2964427"/>
                </a:cubicBezTo>
                <a:cubicBezTo>
                  <a:pt x="505419" y="2964427"/>
                  <a:pt x="507102" y="2966110"/>
                  <a:pt x="510466" y="2969474"/>
                </a:cubicBezTo>
                <a:cubicBezTo>
                  <a:pt x="512148" y="2972838"/>
                  <a:pt x="517195" y="2976202"/>
                  <a:pt x="522242" y="2982930"/>
                </a:cubicBezTo>
                <a:cubicBezTo>
                  <a:pt x="523924" y="2986294"/>
                  <a:pt x="527288" y="2989659"/>
                  <a:pt x="530653" y="2993023"/>
                </a:cubicBezTo>
                <a:cubicBezTo>
                  <a:pt x="532335" y="2994705"/>
                  <a:pt x="534017" y="2996387"/>
                  <a:pt x="535699" y="2998069"/>
                </a:cubicBezTo>
                <a:cubicBezTo>
                  <a:pt x="539064" y="3003115"/>
                  <a:pt x="542428" y="3008161"/>
                  <a:pt x="547475" y="3011526"/>
                </a:cubicBezTo>
                <a:cubicBezTo>
                  <a:pt x="562615" y="3030028"/>
                  <a:pt x="579437" y="3046849"/>
                  <a:pt x="596259" y="3065352"/>
                </a:cubicBezTo>
                <a:cubicBezTo>
                  <a:pt x="663548" y="3134317"/>
                  <a:pt x="742613" y="3201600"/>
                  <a:pt x="830088" y="3265519"/>
                </a:cubicBezTo>
                <a:cubicBezTo>
                  <a:pt x="841864" y="3273929"/>
                  <a:pt x="853639" y="3280657"/>
                  <a:pt x="863733" y="3289068"/>
                </a:cubicBezTo>
                <a:cubicBezTo>
                  <a:pt x="870462" y="3292432"/>
                  <a:pt x="875508" y="3297478"/>
                  <a:pt x="882237" y="3300842"/>
                </a:cubicBezTo>
                <a:cubicBezTo>
                  <a:pt x="882237" y="3300842"/>
                  <a:pt x="882237" y="3300842"/>
                  <a:pt x="890648" y="3305888"/>
                </a:cubicBezTo>
                <a:cubicBezTo>
                  <a:pt x="890648" y="3305888"/>
                  <a:pt x="890648" y="3305888"/>
                  <a:pt x="899059" y="3312617"/>
                </a:cubicBezTo>
                <a:cubicBezTo>
                  <a:pt x="922610" y="3326073"/>
                  <a:pt x="946162" y="3342894"/>
                  <a:pt x="971395" y="3356351"/>
                </a:cubicBezTo>
                <a:cubicBezTo>
                  <a:pt x="978124" y="3359715"/>
                  <a:pt x="983170" y="3363079"/>
                  <a:pt x="989899" y="3366443"/>
                </a:cubicBezTo>
                <a:cubicBezTo>
                  <a:pt x="996628" y="3369807"/>
                  <a:pt x="1003357" y="3373171"/>
                  <a:pt x="1008404" y="3376536"/>
                </a:cubicBezTo>
                <a:cubicBezTo>
                  <a:pt x="1021861" y="3383264"/>
                  <a:pt x="1035319" y="3389992"/>
                  <a:pt x="1047095" y="3396720"/>
                </a:cubicBezTo>
                <a:cubicBezTo>
                  <a:pt x="1047095" y="3396720"/>
                  <a:pt x="1047095" y="3396720"/>
                  <a:pt x="1057188" y="3401767"/>
                </a:cubicBezTo>
                <a:cubicBezTo>
                  <a:pt x="1057188" y="3401767"/>
                  <a:pt x="1057188" y="3401767"/>
                  <a:pt x="1067281" y="3406813"/>
                </a:cubicBezTo>
                <a:cubicBezTo>
                  <a:pt x="1074010" y="3410177"/>
                  <a:pt x="1080739" y="3413541"/>
                  <a:pt x="1087468" y="3416905"/>
                </a:cubicBezTo>
                <a:cubicBezTo>
                  <a:pt x="1100926" y="3423634"/>
                  <a:pt x="1114384" y="3430362"/>
                  <a:pt x="1127841" y="3435408"/>
                </a:cubicBezTo>
                <a:lnTo>
                  <a:pt x="1162169" y="3451141"/>
                </a:lnTo>
                <a:lnTo>
                  <a:pt x="1148760" y="3584157"/>
                </a:lnTo>
                <a:cubicBezTo>
                  <a:pt x="1148760" y="3629845"/>
                  <a:pt x="1153390" y="3674452"/>
                  <a:pt x="1162206" y="3717534"/>
                </a:cubicBezTo>
                <a:lnTo>
                  <a:pt x="1165749" y="3728949"/>
                </a:lnTo>
                <a:lnTo>
                  <a:pt x="1142981" y="3721361"/>
                </a:lnTo>
                <a:cubicBezTo>
                  <a:pt x="1134570" y="3717997"/>
                  <a:pt x="1126159" y="3714632"/>
                  <a:pt x="1117748" y="3711268"/>
                </a:cubicBezTo>
                <a:cubicBezTo>
                  <a:pt x="1102608" y="3706222"/>
                  <a:pt x="1085786" y="3699494"/>
                  <a:pt x="1068964" y="3692766"/>
                </a:cubicBezTo>
                <a:cubicBezTo>
                  <a:pt x="1053824" y="3686037"/>
                  <a:pt x="1038684" y="3679309"/>
                  <a:pt x="1021861" y="3672581"/>
                </a:cubicBezTo>
                <a:cubicBezTo>
                  <a:pt x="1006721" y="3665852"/>
                  <a:pt x="991582" y="3657442"/>
                  <a:pt x="974759" y="3650714"/>
                </a:cubicBezTo>
                <a:cubicBezTo>
                  <a:pt x="968030" y="3647350"/>
                  <a:pt x="959619" y="3643985"/>
                  <a:pt x="952890" y="3638939"/>
                </a:cubicBezTo>
                <a:cubicBezTo>
                  <a:pt x="952890" y="3638939"/>
                  <a:pt x="952890" y="3638939"/>
                  <a:pt x="941115" y="3633893"/>
                </a:cubicBezTo>
                <a:cubicBezTo>
                  <a:pt x="941115" y="3633893"/>
                  <a:pt x="941115" y="3633893"/>
                  <a:pt x="929339" y="3628847"/>
                </a:cubicBezTo>
                <a:cubicBezTo>
                  <a:pt x="915882" y="3620436"/>
                  <a:pt x="900742" y="3612026"/>
                  <a:pt x="885602" y="3605298"/>
                </a:cubicBezTo>
                <a:cubicBezTo>
                  <a:pt x="878873" y="3601934"/>
                  <a:pt x="870462" y="3596887"/>
                  <a:pt x="863733" y="3593523"/>
                </a:cubicBezTo>
                <a:cubicBezTo>
                  <a:pt x="857004" y="3588477"/>
                  <a:pt x="848593" y="3585113"/>
                  <a:pt x="841864" y="3580067"/>
                </a:cubicBezTo>
                <a:cubicBezTo>
                  <a:pt x="813266" y="3564928"/>
                  <a:pt x="786350" y="3546425"/>
                  <a:pt x="759435" y="3529604"/>
                </a:cubicBezTo>
                <a:cubicBezTo>
                  <a:pt x="759435" y="3529604"/>
                  <a:pt x="759435" y="3529604"/>
                  <a:pt x="749342" y="3522876"/>
                </a:cubicBezTo>
                <a:cubicBezTo>
                  <a:pt x="749342" y="3522876"/>
                  <a:pt x="749342" y="3522876"/>
                  <a:pt x="739248" y="3516148"/>
                </a:cubicBezTo>
                <a:cubicBezTo>
                  <a:pt x="732519" y="3512784"/>
                  <a:pt x="725790" y="3507737"/>
                  <a:pt x="719062" y="3502691"/>
                </a:cubicBezTo>
                <a:cubicBezTo>
                  <a:pt x="705604" y="3494281"/>
                  <a:pt x="692146" y="3485870"/>
                  <a:pt x="680370" y="3477460"/>
                </a:cubicBezTo>
                <a:cubicBezTo>
                  <a:pt x="577755" y="3403449"/>
                  <a:pt x="488597" y="3324391"/>
                  <a:pt x="411215" y="3245334"/>
                </a:cubicBezTo>
                <a:cubicBezTo>
                  <a:pt x="391028" y="3225149"/>
                  <a:pt x="372524" y="3204964"/>
                  <a:pt x="354020" y="3184779"/>
                </a:cubicBezTo>
                <a:cubicBezTo>
                  <a:pt x="348973" y="3179733"/>
                  <a:pt x="345608" y="3174687"/>
                  <a:pt x="340562" y="3169640"/>
                </a:cubicBezTo>
                <a:cubicBezTo>
                  <a:pt x="338880" y="3166276"/>
                  <a:pt x="337197" y="3164594"/>
                  <a:pt x="335515" y="3162912"/>
                </a:cubicBezTo>
                <a:cubicBezTo>
                  <a:pt x="330468" y="3157866"/>
                  <a:pt x="327104" y="3154502"/>
                  <a:pt x="325422" y="3151138"/>
                </a:cubicBezTo>
                <a:cubicBezTo>
                  <a:pt x="318693" y="3144409"/>
                  <a:pt x="313646" y="3139363"/>
                  <a:pt x="310282" y="3135999"/>
                </a:cubicBezTo>
                <a:cubicBezTo>
                  <a:pt x="308600" y="3130953"/>
                  <a:pt x="306917" y="3129271"/>
                  <a:pt x="306917" y="3129271"/>
                </a:cubicBezTo>
                <a:cubicBezTo>
                  <a:pt x="306917" y="3129271"/>
                  <a:pt x="306917" y="3129271"/>
                  <a:pt x="130284" y="3275611"/>
                </a:cubicBezTo>
                <a:cubicBezTo>
                  <a:pt x="64678" y="3009843"/>
                  <a:pt x="56266" y="2747440"/>
                  <a:pt x="96640" y="2513632"/>
                </a:cubicBezTo>
                <a:close/>
                <a:moveTo>
                  <a:pt x="3453144" y="2413611"/>
                </a:moveTo>
                <a:lnTo>
                  <a:pt x="3471622" y="2419347"/>
                </a:lnTo>
                <a:cubicBezTo>
                  <a:pt x="3514704" y="2428163"/>
                  <a:pt x="3559310" y="2432792"/>
                  <a:pt x="3604998" y="2432792"/>
                </a:cubicBezTo>
                <a:lnTo>
                  <a:pt x="3721860" y="2421012"/>
                </a:lnTo>
                <a:lnTo>
                  <a:pt x="3715098" y="2442984"/>
                </a:lnTo>
                <a:cubicBezTo>
                  <a:pt x="3713416" y="2453077"/>
                  <a:pt x="3710051" y="2464851"/>
                  <a:pt x="3705005" y="2474944"/>
                </a:cubicBezTo>
                <a:cubicBezTo>
                  <a:pt x="3705005" y="2474944"/>
                  <a:pt x="3705005" y="2474944"/>
                  <a:pt x="3694911" y="2506903"/>
                </a:cubicBezTo>
                <a:cubicBezTo>
                  <a:pt x="3694911" y="2506903"/>
                  <a:pt x="3694911" y="2506903"/>
                  <a:pt x="3683136" y="2540545"/>
                </a:cubicBezTo>
                <a:cubicBezTo>
                  <a:pt x="3681453" y="2545591"/>
                  <a:pt x="3679771" y="2550637"/>
                  <a:pt x="3678089" y="2555683"/>
                </a:cubicBezTo>
                <a:cubicBezTo>
                  <a:pt x="3678089" y="2555683"/>
                  <a:pt x="3678089" y="2555683"/>
                  <a:pt x="3671360" y="2572504"/>
                </a:cubicBezTo>
                <a:cubicBezTo>
                  <a:pt x="3662949" y="2592689"/>
                  <a:pt x="3654538" y="2614556"/>
                  <a:pt x="3646127" y="2634741"/>
                </a:cubicBezTo>
                <a:cubicBezTo>
                  <a:pt x="3637716" y="2656608"/>
                  <a:pt x="3627622" y="2676793"/>
                  <a:pt x="3619211" y="2696978"/>
                </a:cubicBezTo>
                <a:cubicBezTo>
                  <a:pt x="3614165" y="2707070"/>
                  <a:pt x="3609118" y="2717163"/>
                  <a:pt x="3604071" y="2727255"/>
                </a:cubicBezTo>
                <a:cubicBezTo>
                  <a:pt x="3604071" y="2727255"/>
                  <a:pt x="3604071" y="2727255"/>
                  <a:pt x="3588931" y="2757532"/>
                </a:cubicBezTo>
                <a:cubicBezTo>
                  <a:pt x="3588931" y="2757532"/>
                  <a:pt x="3588931" y="2757532"/>
                  <a:pt x="3573791" y="2787810"/>
                </a:cubicBezTo>
                <a:cubicBezTo>
                  <a:pt x="3568745" y="2797902"/>
                  <a:pt x="3563698" y="2807995"/>
                  <a:pt x="3556969" y="2818087"/>
                </a:cubicBezTo>
                <a:cubicBezTo>
                  <a:pt x="3546876" y="2838272"/>
                  <a:pt x="3535100" y="2856775"/>
                  <a:pt x="3523325" y="2876960"/>
                </a:cubicBezTo>
                <a:cubicBezTo>
                  <a:pt x="3523325" y="2876960"/>
                  <a:pt x="3523325" y="2876960"/>
                  <a:pt x="3514913" y="2892098"/>
                </a:cubicBezTo>
                <a:cubicBezTo>
                  <a:pt x="3514913" y="2892098"/>
                  <a:pt x="3514913" y="2892098"/>
                  <a:pt x="3506502" y="2905555"/>
                </a:cubicBezTo>
                <a:cubicBezTo>
                  <a:pt x="3506502" y="2905555"/>
                  <a:pt x="3506502" y="2905555"/>
                  <a:pt x="3487998" y="2934150"/>
                </a:cubicBezTo>
                <a:cubicBezTo>
                  <a:pt x="3464447" y="2972838"/>
                  <a:pt x="3437531" y="3008161"/>
                  <a:pt x="3412298" y="3045167"/>
                </a:cubicBezTo>
                <a:cubicBezTo>
                  <a:pt x="3398840" y="3061988"/>
                  <a:pt x="3385382" y="3080491"/>
                  <a:pt x="3370242" y="3097311"/>
                </a:cubicBezTo>
                <a:cubicBezTo>
                  <a:pt x="3370242" y="3097311"/>
                  <a:pt x="3370242" y="3097311"/>
                  <a:pt x="3350056" y="3124224"/>
                </a:cubicBezTo>
                <a:cubicBezTo>
                  <a:pt x="3350056" y="3124224"/>
                  <a:pt x="3350056" y="3124224"/>
                  <a:pt x="3328187" y="3149456"/>
                </a:cubicBezTo>
                <a:cubicBezTo>
                  <a:pt x="3313047" y="3166276"/>
                  <a:pt x="3299589" y="3183097"/>
                  <a:pt x="3284449" y="3199918"/>
                </a:cubicBezTo>
                <a:cubicBezTo>
                  <a:pt x="3269309" y="3215056"/>
                  <a:pt x="3254169" y="3231877"/>
                  <a:pt x="3239029" y="3247016"/>
                </a:cubicBezTo>
                <a:cubicBezTo>
                  <a:pt x="3223889" y="3263837"/>
                  <a:pt x="3207067" y="3278975"/>
                  <a:pt x="3191927" y="3294114"/>
                </a:cubicBezTo>
                <a:cubicBezTo>
                  <a:pt x="3191927" y="3294114"/>
                  <a:pt x="3191927" y="3294114"/>
                  <a:pt x="3168376" y="3315981"/>
                </a:cubicBezTo>
                <a:cubicBezTo>
                  <a:pt x="3168376" y="3315981"/>
                  <a:pt x="3168376" y="3315981"/>
                  <a:pt x="3156600" y="3327755"/>
                </a:cubicBezTo>
                <a:cubicBezTo>
                  <a:pt x="3151554" y="3331120"/>
                  <a:pt x="3148189" y="3334484"/>
                  <a:pt x="3143143" y="3339530"/>
                </a:cubicBezTo>
                <a:cubicBezTo>
                  <a:pt x="3126320" y="3352987"/>
                  <a:pt x="3111180" y="3368125"/>
                  <a:pt x="3094358" y="3381582"/>
                </a:cubicBezTo>
                <a:cubicBezTo>
                  <a:pt x="3089311" y="3384946"/>
                  <a:pt x="3085947" y="3389992"/>
                  <a:pt x="3080900" y="3393356"/>
                </a:cubicBezTo>
                <a:cubicBezTo>
                  <a:pt x="3080900" y="3393356"/>
                  <a:pt x="3080900" y="3393356"/>
                  <a:pt x="3069125" y="3403449"/>
                </a:cubicBezTo>
                <a:cubicBezTo>
                  <a:pt x="3069125" y="3403449"/>
                  <a:pt x="3069125" y="3403449"/>
                  <a:pt x="3042209" y="3423634"/>
                </a:cubicBezTo>
                <a:cubicBezTo>
                  <a:pt x="3008565" y="3450547"/>
                  <a:pt x="2973238" y="3475778"/>
                  <a:pt x="2937912" y="3501009"/>
                </a:cubicBezTo>
                <a:cubicBezTo>
                  <a:pt x="2929500" y="3506055"/>
                  <a:pt x="2919407" y="3512784"/>
                  <a:pt x="2910996" y="3517830"/>
                </a:cubicBezTo>
                <a:cubicBezTo>
                  <a:pt x="2900903" y="3524558"/>
                  <a:pt x="2892492" y="3529604"/>
                  <a:pt x="2884080" y="3536333"/>
                </a:cubicBezTo>
                <a:cubicBezTo>
                  <a:pt x="2873987" y="3541379"/>
                  <a:pt x="2865576" y="3548107"/>
                  <a:pt x="2855483" y="3553153"/>
                </a:cubicBezTo>
                <a:cubicBezTo>
                  <a:pt x="2847072" y="3559882"/>
                  <a:pt x="2836978" y="3563246"/>
                  <a:pt x="2828567" y="3569974"/>
                </a:cubicBezTo>
                <a:cubicBezTo>
                  <a:pt x="2810063" y="3580067"/>
                  <a:pt x="2791558" y="3590159"/>
                  <a:pt x="2773054" y="3601934"/>
                </a:cubicBezTo>
                <a:cubicBezTo>
                  <a:pt x="2754549" y="3612026"/>
                  <a:pt x="2734363" y="3620436"/>
                  <a:pt x="2715858" y="3630529"/>
                </a:cubicBezTo>
                <a:cubicBezTo>
                  <a:pt x="2705765" y="3635575"/>
                  <a:pt x="2697354" y="3640621"/>
                  <a:pt x="2687261" y="3645667"/>
                </a:cubicBezTo>
                <a:cubicBezTo>
                  <a:pt x="2677167" y="3650714"/>
                  <a:pt x="2668756" y="3654078"/>
                  <a:pt x="2658663" y="3659124"/>
                </a:cubicBezTo>
                <a:cubicBezTo>
                  <a:pt x="2638476" y="3667534"/>
                  <a:pt x="2619972" y="3675945"/>
                  <a:pt x="2599785" y="3684355"/>
                </a:cubicBezTo>
                <a:cubicBezTo>
                  <a:pt x="2561094" y="3700335"/>
                  <a:pt x="2521982" y="3715895"/>
                  <a:pt x="2482660" y="3730192"/>
                </a:cubicBezTo>
                <a:lnTo>
                  <a:pt x="2451905" y="3740133"/>
                </a:lnTo>
                <a:lnTo>
                  <a:pt x="2458921" y="3717534"/>
                </a:lnTo>
                <a:cubicBezTo>
                  <a:pt x="2467736" y="3674452"/>
                  <a:pt x="2472366" y="3629845"/>
                  <a:pt x="2472366" y="3584157"/>
                </a:cubicBezTo>
                <a:lnTo>
                  <a:pt x="2460065" y="3462137"/>
                </a:lnTo>
                <a:lnTo>
                  <a:pt x="2498852" y="3447183"/>
                </a:lnTo>
                <a:cubicBezTo>
                  <a:pt x="2515674" y="3438772"/>
                  <a:pt x="2532496" y="3432044"/>
                  <a:pt x="2549318" y="3423634"/>
                </a:cubicBezTo>
                <a:cubicBezTo>
                  <a:pt x="2557730" y="3420270"/>
                  <a:pt x="2566141" y="3416905"/>
                  <a:pt x="2574552" y="3411859"/>
                </a:cubicBezTo>
                <a:cubicBezTo>
                  <a:pt x="2582963" y="3408495"/>
                  <a:pt x="2591374" y="3403449"/>
                  <a:pt x="2598103" y="3400085"/>
                </a:cubicBezTo>
                <a:cubicBezTo>
                  <a:pt x="2614925" y="3391674"/>
                  <a:pt x="2631747" y="3383264"/>
                  <a:pt x="2648569" y="3374854"/>
                </a:cubicBezTo>
                <a:cubicBezTo>
                  <a:pt x="2663709" y="3364761"/>
                  <a:pt x="2680532" y="3356351"/>
                  <a:pt x="2697354" y="3346258"/>
                </a:cubicBezTo>
                <a:cubicBezTo>
                  <a:pt x="2704083" y="3341212"/>
                  <a:pt x="2712494" y="3337848"/>
                  <a:pt x="2720905" y="3332802"/>
                </a:cubicBezTo>
                <a:cubicBezTo>
                  <a:pt x="2720905" y="3332802"/>
                  <a:pt x="2720905" y="3332802"/>
                  <a:pt x="2744456" y="3317663"/>
                </a:cubicBezTo>
                <a:cubicBezTo>
                  <a:pt x="2744456" y="3317663"/>
                  <a:pt x="2744456" y="3317663"/>
                  <a:pt x="2768007" y="3302524"/>
                </a:cubicBezTo>
                <a:cubicBezTo>
                  <a:pt x="2776418" y="3295796"/>
                  <a:pt x="2784829" y="3292432"/>
                  <a:pt x="2791558" y="3285704"/>
                </a:cubicBezTo>
                <a:cubicBezTo>
                  <a:pt x="2821838" y="3263837"/>
                  <a:pt x="2853800" y="3243652"/>
                  <a:pt x="2882398" y="3218421"/>
                </a:cubicBezTo>
                <a:cubicBezTo>
                  <a:pt x="2882398" y="3218421"/>
                  <a:pt x="2882398" y="3218421"/>
                  <a:pt x="2905949" y="3201600"/>
                </a:cubicBezTo>
                <a:cubicBezTo>
                  <a:pt x="2905949" y="3201600"/>
                  <a:pt x="2905949" y="3201600"/>
                  <a:pt x="2916043" y="3193190"/>
                </a:cubicBezTo>
                <a:cubicBezTo>
                  <a:pt x="2919407" y="3189825"/>
                  <a:pt x="2924454" y="3186461"/>
                  <a:pt x="2927818" y="3183097"/>
                </a:cubicBezTo>
                <a:cubicBezTo>
                  <a:pt x="2941276" y="3171323"/>
                  <a:pt x="2956416" y="3157866"/>
                  <a:pt x="2969874" y="3146091"/>
                </a:cubicBezTo>
                <a:cubicBezTo>
                  <a:pt x="2974920" y="3142727"/>
                  <a:pt x="2978285" y="3139363"/>
                  <a:pt x="2981649" y="3135999"/>
                </a:cubicBezTo>
                <a:cubicBezTo>
                  <a:pt x="2981649" y="3135999"/>
                  <a:pt x="2981649" y="3135999"/>
                  <a:pt x="2991743" y="3125907"/>
                </a:cubicBezTo>
                <a:cubicBezTo>
                  <a:pt x="2991743" y="3125907"/>
                  <a:pt x="2991743" y="3125907"/>
                  <a:pt x="3011929" y="3107404"/>
                </a:cubicBezTo>
                <a:cubicBezTo>
                  <a:pt x="3027069" y="3093947"/>
                  <a:pt x="3040527" y="3080491"/>
                  <a:pt x="3053985" y="3067034"/>
                </a:cubicBezTo>
                <a:cubicBezTo>
                  <a:pt x="3067443" y="3051895"/>
                  <a:pt x="3079218" y="3038439"/>
                  <a:pt x="3092676" y="3024982"/>
                </a:cubicBezTo>
                <a:cubicBezTo>
                  <a:pt x="3106134" y="3009843"/>
                  <a:pt x="3117909" y="2994705"/>
                  <a:pt x="3131367" y="2981248"/>
                </a:cubicBezTo>
                <a:cubicBezTo>
                  <a:pt x="3131367" y="2981248"/>
                  <a:pt x="3131367" y="2981248"/>
                  <a:pt x="3149871" y="2959381"/>
                </a:cubicBezTo>
                <a:cubicBezTo>
                  <a:pt x="3149871" y="2959381"/>
                  <a:pt x="3149871" y="2959381"/>
                  <a:pt x="3168376" y="2935832"/>
                </a:cubicBezTo>
                <a:cubicBezTo>
                  <a:pt x="3180151" y="2920694"/>
                  <a:pt x="3191927" y="2905555"/>
                  <a:pt x="3203703" y="2890416"/>
                </a:cubicBezTo>
                <a:cubicBezTo>
                  <a:pt x="3227254" y="2858457"/>
                  <a:pt x="3249123" y="2826497"/>
                  <a:pt x="3270991" y="2794538"/>
                </a:cubicBezTo>
                <a:cubicBezTo>
                  <a:pt x="3270991" y="2794538"/>
                  <a:pt x="3270991" y="2794538"/>
                  <a:pt x="3286131" y="2769307"/>
                </a:cubicBezTo>
                <a:cubicBezTo>
                  <a:pt x="3286131" y="2769307"/>
                  <a:pt x="3286131" y="2769307"/>
                  <a:pt x="3294542" y="2757532"/>
                </a:cubicBezTo>
                <a:cubicBezTo>
                  <a:pt x="3294542" y="2757532"/>
                  <a:pt x="3294542" y="2757532"/>
                  <a:pt x="3301271" y="2744076"/>
                </a:cubicBezTo>
                <a:cubicBezTo>
                  <a:pt x="3311365" y="2727255"/>
                  <a:pt x="3321458" y="2710434"/>
                  <a:pt x="3329869" y="2693614"/>
                </a:cubicBezTo>
                <a:cubicBezTo>
                  <a:pt x="3334916" y="2685203"/>
                  <a:pt x="3339962" y="2676793"/>
                  <a:pt x="3345009" y="2666700"/>
                </a:cubicBezTo>
                <a:cubicBezTo>
                  <a:pt x="3345009" y="2666700"/>
                  <a:pt x="3345009" y="2666700"/>
                  <a:pt x="3358467" y="2641469"/>
                </a:cubicBezTo>
                <a:cubicBezTo>
                  <a:pt x="3358467" y="2641469"/>
                  <a:pt x="3358467" y="2641469"/>
                  <a:pt x="3371925" y="2614556"/>
                </a:cubicBezTo>
                <a:cubicBezTo>
                  <a:pt x="3375289" y="2606146"/>
                  <a:pt x="3378654" y="2597735"/>
                  <a:pt x="3383700" y="2587643"/>
                </a:cubicBezTo>
                <a:cubicBezTo>
                  <a:pt x="3392111" y="2570822"/>
                  <a:pt x="3398840" y="2552319"/>
                  <a:pt x="3407251" y="2533816"/>
                </a:cubicBezTo>
                <a:cubicBezTo>
                  <a:pt x="3415662" y="2515314"/>
                  <a:pt x="3422391" y="2498493"/>
                  <a:pt x="3429120" y="2479990"/>
                </a:cubicBezTo>
                <a:cubicBezTo>
                  <a:pt x="3429120" y="2479990"/>
                  <a:pt x="3429120" y="2479990"/>
                  <a:pt x="3434167" y="2464851"/>
                </a:cubicBezTo>
                <a:cubicBezTo>
                  <a:pt x="3437531" y="2461487"/>
                  <a:pt x="3439214" y="2456441"/>
                  <a:pt x="3439214" y="2451395"/>
                </a:cubicBezTo>
                <a:cubicBezTo>
                  <a:pt x="3439214" y="2451395"/>
                  <a:pt x="3439214" y="2451395"/>
                  <a:pt x="3449307" y="2424482"/>
                </a:cubicBezTo>
                <a:cubicBezTo>
                  <a:pt x="3449307" y="2424482"/>
                  <a:pt x="3449307" y="2424482"/>
                  <a:pt x="3450569" y="2420908"/>
                </a:cubicBezTo>
                <a:lnTo>
                  <a:pt x="3453144" y="2413611"/>
                </a:lnTo>
                <a:close/>
                <a:moveTo>
                  <a:pt x="1153270" y="11179"/>
                </a:moveTo>
                <a:lnTo>
                  <a:pt x="1148761" y="55902"/>
                </a:lnTo>
                <a:cubicBezTo>
                  <a:pt x="1148761" y="101590"/>
                  <a:pt x="1153391" y="146197"/>
                  <a:pt x="1162207" y="189279"/>
                </a:cubicBezTo>
                <a:lnTo>
                  <a:pt x="1188678" y="274555"/>
                </a:lnTo>
                <a:lnTo>
                  <a:pt x="1174944" y="279837"/>
                </a:lnTo>
                <a:cubicBezTo>
                  <a:pt x="1159804" y="286565"/>
                  <a:pt x="1146346" y="291612"/>
                  <a:pt x="1131206" y="298340"/>
                </a:cubicBezTo>
                <a:cubicBezTo>
                  <a:pt x="1117748" y="305068"/>
                  <a:pt x="1104290" y="311797"/>
                  <a:pt x="1089150" y="318525"/>
                </a:cubicBezTo>
                <a:cubicBezTo>
                  <a:pt x="1075693" y="323571"/>
                  <a:pt x="1062235" y="330299"/>
                  <a:pt x="1048777" y="338710"/>
                </a:cubicBezTo>
                <a:cubicBezTo>
                  <a:pt x="1021861" y="352166"/>
                  <a:pt x="994946" y="365623"/>
                  <a:pt x="968030" y="380762"/>
                </a:cubicBezTo>
                <a:cubicBezTo>
                  <a:pt x="865415" y="441316"/>
                  <a:pt x="772893" y="508599"/>
                  <a:pt x="690464" y="580928"/>
                </a:cubicBezTo>
                <a:cubicBezTo>
                  <a:pt x="609717" y="653258"/>
                  <a:pt x="539064" y="728951"/>
                  <a:pt x="478504" y="804644"/>
                </a:cubicBezTo>
                <a:cubicBezTo>
                  <a:pt x="417944" y="882020"/>
                  <a:pt x="369160" y="957713"/>
                  <a:pt x="327104" y="1031724"/>
                </a:cubicBezTo>
                <a:cubicBezTo>
                  <a:pt x="306917" y="1067048"/>
                  <a:pt x="290095" y="1104054"/>
                  <a:pt x="271591" y="1137695"/>
                </a:cubicBezTo>
                <a:lnTo>
                  <a:pt x="268209" y="1145947"/>
                </a:lnTo>
                <a:lnTo>
                  <a:pt x="193097" y="1122631"/>
                </a:lnTo>
                <a:cubicBezTo>
                  <a:pt x="150015" y="1113815"/>
                  <a:pt x="105408" y="1109185"/>
                  <a:pt x="59720" y="1109185"/>
                </a:cubicBezTo>
                <a:lnTo>
                  <a:pt x="0" y="1115205"/>
                </a:lnTo>
                <a:lnTo>
                  <a:pt x="37762" y="1028360"/>
                </a:lnTo>
                <a:cubicBezTo>
                  <a:pt x="57949" y="987990"/>
                  <a:pt x="76453" y="945939"/>
                  <a:pt x="101686" y="903887"/>
                </a:cubicBezTo>
                <a:cubicBezTo>
                  <a:pt x="148789" y="819783"/>
                  <a:pt x="205984" y="732315"/>
                  <a:pt x="274955" y="644847"/>
                </a:cubicBezTo>
                <a:cubicBezTo>
                  <a:pt x="343926" y="557379"/>
                  <a:pt x="424673" y="469912"/>
                  <a:pt x="518877" y="387490"/>
                </a:cubicBezTo>
                <a:cubicBezTo>
                  <a:pt x="613082" y="303386"/>
                  <a:pt x="720744" y="226011"/>
                  <a:pt x="838499" y="157046"/>
                </a:cubicBezTo>
                <a:cubicBezTo>
                  <a:pt x="868779" y="138543"/>
                  <a:pt x="899059" y="123404"/>
                  <a:pt x="931022" y="106584"/>
                </a:cubicBezTo>
                <a:cubicBezTo>
                  <a:pt x="946162" y="98173"/>
                  <a:pt x="962984" y="91445"/>
                  <a:pt x="978124" y="83035"/>
                </a:cubicBezTo>
                <a:cubicBezTo>
                  <a:pt x="994946" y="76306"/>
                  <a:pt x="1010086" y="67896"/>
                  <a:pt x="1026908" y="61167"/>
                </a:cubicBezTo>
                <a:cubicBezTo>
                  <a:pt x="1043730" y="54439"/>
                  <a:pt x="1058870" y="47711"/>
                  <a:pt x="1075693" y="40983"/>
                </a:cubicBezTo>
                <a:cubicBezTo>
                  <a:pt x="1092515" y="34254"/>
                  <a:pt x="1109337" y="25844"/>
                  <a:pt x="1126159" y="20798"/>
                </a:cubicBezTo>
                <a:lnTo>
                  <a:pt x="1153270" y="11179"/>
                </a:lnTo>
                <a:close/>
                <a:moveTo>
                  <a:pt x="2466732" y="0"/>
                </a:moveTo>
                <a:lnTo>
                  <a:pt x="2468572" y="613"/>
                </a:lnTo>
                <a:cubicBezTo>
                  <a:pt x="2478665" y="3977"/>
                  <a:pt x="2488758" y="7341"/>
                  <a:pt x="2498852" y="10705"/>
                </a:cubicBezTo>
                <a:cubicBezTo>
                  <a:pt x="2503898" y="12387"/>
                  <a:pt x="2507263" y="14069"/>
                  <a:pt x="2512310" y="15752"/>
                </a:cubicBezTo>
                <a:cubicBezTo>
                  <a:pt x="2512310" y="15752"/>
                  <a:pt x="2512310" y="15752"/>
                  <a:pt x="2527450" y="20798"/>
                </a:cubicBezTo>
                <a:cubicBezTo>
                  <a:pt x="2547636" y="29208"/>
                  <a:pt x="2567823" y="37618"/>
                  <a:pt x="2588010" y="44347"/>
                </a:cubicBezTo>
                <a:cubicBezTo>
                  <a:pt x="2588010" y="44347"/>
                  <a:pt x="2588010" y="44347"/>
                  <a:pt x="2594738" y="47711"/>
                </a:cubicBezTo>
                <a:cubicBezTo>
                  <a:pt x="2594738" y="47711"/>
                  <a:pt x="2594738" y="47711"/>
                  <a:pt x="2601467" y="51075"/>
                </a:cubicBezTo>
                <a:cubicBezTo>
                  <a:pt x="2601467" y="51075"/>
                  <a:pt x="2601467" y="51075"/>
                  <a:pt x="2616607" y="57803"/>
                </a:cubicBezTo>
                <a:cubicBezTo>
                  <a:pt x="2626701" y="62850"/>
                  <a:pt x="2636794" y="66214"/>
                  <a:pt x="2646887" y="71260"/>
                </a:cubicBezTo>
                <a:cubicBezTo>
                  <a:pt x="2655298" y="76306"/>
                  <a:pt x="2665392" y="79670"/>
                  <a:pt x="2675485" y="84717"/>
                </a:cubicBezTo>
                <a:cubicBezTo>
                  <a:pt x="2680532" y="86399"/>
                  <a:pt x="2685578" y="89763"/>
                  <a:pt x="2690625" y="91445"/>
                </a:cubicBezTo>
                <a:cubicBezTo>
                  <a:pt x="2690625" y="91445"/>
                  <a:pt x="2690625" y="91445"/>
                  <a:pt x="2704083" y="98173"/>
                </a:cubicBezTo>
                <a:cubicBezTo>
                  <a:pt x="2724269" y="108266"/>
                  <a:pt x="2742774" y="118358"/>
                  <a:pt x="2762961" y="128451"/>
                </a:cubicBezTo>
                <a:cubicBezTo>
                  <a:pt x="2781465" y="138543"/>
                  <a:pt x="2799969" y="150317"/>
                  <a:pt x="2818474" y="160410"/>
                </a:cubicBezTo>
                <a:cubicBezTo>
                  <a:pt x="2818474" y="160410"/>
                  <a:pt x="2818474" y="160410"/>
                  <a:pt x="2847072" y="177231"/>
                </a:cubicBezTo>
                <a:cubicBezTo>
                  <a:pt x="2857165" y="182277"/>
                  <a:pt x="2865576" y="189005"/>
                  <a:pt x="2873987" y="194051"/>
                </a:cubicBezTo>
                <a:cubicBezTo>
                  <a:pt x="2892492" y="205826"/>
                  <a:pt x="2910996" y="217600"/>
                  <a:pt x="2929500" y="229375"/>
                </a:cubicBezTo>
                <a:cubicBezTo>
                  <a:pt x="2948005" y="242832"/>
                  <a:pt x="2966509" y="254606"/>
                  <a:pt x="2983332" y="268063"/>
                </a:cubicBezTo>
                <a:cubicBezTo>
                  <a:pt x="2991743" y="274791"/>
                  <a:pt x="3001836" y="279837"/>
                  <a:pt x="3010247" y="286565"/>
                </a:cubicBezTo>
                <a:cubicBezTo>
                  <a:pt x="3010247" y="286565"/>
                  <a:pt x="3010247" y="286565"/>
                  <a:pt x="3037163" y="306750"/>
                </a:cubicBezTo>
                <a:cubicBezTo>
                  <a:pt x="3037163" y="306750"/>
                  <a:pt x="3037163" y="306750"/>
                  <a:pt x="3062396" y="328617"/>
                </a:cubicBezTo>
                <a:cubicBezTo>
                  <a:pt x="3062396" y="328617"/>
                  <a:pt x="3062396" y="328617"/>
                  <a:pt x="3075854" y="338710"/>
                </a:cubicBezTo>
                <a:cubicBezTo>
                  <a:pt x="3079218" y="342074"/>
                  <a:pt x="3084265" y="345438"/>
                  <a:pt x="3087629" y="348802"/>
                </a:cubicBezTo>
                <a:cubicBezTo>
                  <a:pt x="3121274" y="377397"/>
                  <a:pt x="3154918" y="405993"/>
                  <a:pt x="3186880" y="437952"/>
                </a:cubicBezTo>
                <a:cubicBezTo>
                  <a:pt x="3186880" y="437952"/>
                  <a:pt x="3186880" y="437952"/>
                  <a:pt x="3212114" y="459819"/>
                </a:cubicBezTo>
                <a:cubicBezTo>
                  <a:pt x="3212114" y="459819"/>
                  <a:pt x="3212114" y="459819"/>
                  <a:pt x="3223889" y="471594"/>
                </a:cubicBezTo>
                <a:cubicBezTo>
                  <a:pt x="3223889" y="471594"/>
                  <a:pt x="3223889" y="471594"/>
                  <a:pt x="3235665" y="483368"/>
                </a:cubicBezTo>
                <a:cubicBezTo>
                  <a:pt x="3250805" y="500189"/>
                  <a:pt x="3265945" y="517010"/>
                  <a:pt x="3281085" y="532148"/>
                </a:cubicBezTo>
                <a:cubicBezTo>
                  <a:pt x="3289496" y="540559"/>
                  <a:pt x="3296225" y="548969"/>
                  <a:pt x="3302954" y="557379"/>
                </a:cubicBezTo>
                <a:cubicBezTo>
                  <a:pt x="3302954" y="557379"/>
                  <a:pt x="3302954" y="557379"/>
                  <a:pt x="3324822" y="582611"/>
                </a:cubicBezTo>
                <a:cubicBezTo>
                  <a:pt x="3324822" y="582611"/>
                  <a:pt x="3324822" y="582611"/>
                  <a:pt x="3348374" y="607842"/>
                </a:cubicBezTo>
                <a:cubicBezTo>
                  <a:pt x="3355102" y="616252"/>
                  <a:pt x="3361831" y="626344"/>
                  <a:pt x="3368560" y="634755"/>
                </a:cubicBezTo>
                <a:cubicBezTo>
                  <a:pt x="3382018" y="651576"/>
                  <a:pt x="3397158" y="670078"/>
                  <a:pt x="3410616" y="688581"/>
                </a:cubicBezTo>
                <a:cubicBezTo>
                  <a:pt x="3422391" y="705402"/>
                  <a:pt x="3435849" y="723905"/>
                  <a:pt x="3449307" y="742408"/>
                </a:cubicBezTo>
                <a:cubicBezTo>
                  <a:pt x="3449307" y="742408"/>
                  <a:pt x="3449307" y="742408"/>
                  <a:pt x="3459400" y="755864"/>
                </a:cubicBezTo>
                <a:cubicBezTo>
                  <a:pt x="3459400" y="755864"/>
                  <a:pt x="3459400" y="755864"/>
                  <a:pt x="3464447" y="764275"/>
                </a:cubicBezTo>
                <a:cubicBezTo>
                  <a:pt x="3464447" y="764275"/>
                  <a:pt x="3464447" y="764275"/>
                  <a:pt x="3467811" y="771003"/>
                </a:cubicBezTo>
                <a:cubicBezTo>
                  <a:pt x="3467811" y="771003"/>
                  <a:pt x="3467811" y="771003"/>
                  <a:pt x="3486316" y="799598"/>
                </a:cubicBezTo>
                <a:cubicBezTo>
                  <a:pt x="3486316" y="799598"/>
                  <a:pt x="3486316" y="799598"/>
                  <a:pt x="3504820" y="828193"/>
                </a:cubicBezTo>
                <a:cubicBezTo>
                  <a:pt x="3504820" y="828193"/>
                  <a:pt x="3504820" y="828193"/>
                  <a:pt x="3514913" y="841650"/>
                </a:cubicBezTo>
                <a:cubicBezTo>
                  <a:pt x="3516596" y="846696"/>
                  <a:pt x="3519960" y="851742"/>
                  <a:pt x="3523325" y="856789"/>
                </a:cubicBezTo>
                <a:cubicBezTo>
                  <a:pt x="3533418" y="876974"/>
                  <a:pt x="3545193" y="895476"/>
                  <a:pt x="3556969" y="915661"/>
                </a:cubicBezTo>
                <a:cubicBezTo>
                  <a:pt x="3562016" y="925754"/>
                  <a:pt x="3567062" y="935846"/>
                  <a:pt x="3572109" y="945939"/>
                </a:cubicBezTo>
                <a:cubicBezTo>
                  <a:pt x="3572109" y="945939"/>
                  <a:pt x="3572109" y="945939"/>
                  <a:pt x="3588931" y="976216"/>
                </a:cubicBezTo>
                <a:cubicBezTo>
                  <a:pt x="3588931" y="976216"/>
                  <a:pt x="3588931" y="976216"/>
                  <a:pt x="3604071" y="1006493"/>
                </a:cubicBezTo>
                <a:cubicBezTo>
                  <a:pt x="3609118" y="1016586"/>
                  <a:pt x="3614165" y="1026678"/>
                  <a:pt x="3617529" y="1036771"/>
                </a:cubicBezTo>
                <a:cubicBezTo>
                  <a:pt x="3627622" y="1058638"/>
                  <a:pt x="3636033" y="1078822"/>
                  <a:pt x="3646127" y="1099007"/>
                </a:cubicBezTo>
                <a:lnTo>
                  <a:pt x="3652017" y="1113926"/>
                </a:lnTo>
                <a:lnTo>
                  <a:pt x="3604998" y="1109186"/>
                </a:lnTo>
                <a:cubicBezTo>
                  <a:pt x="3559310" y="1109186"/>
                  <a:pt x="3514704" y="1113816"/>
                  <a:pt x="3471622" y="1122632"/>
                </a:cubicBezTo>
                <a:lnTo>
                  <a:pt x="3385171" y="1149467"/>
                </a:lnTo>
                <a:lnTo>
                  <a:pt x="3383700" y="1146105"/>
                </a:lnTo>
                <a:cubicBezTo>
                  <a:pt x="3378654" y="1137695"/>
                  <a:pt x="3375289" y="1127603"/>
                  <a:pt x="3370242" y="1119192"/>
                </a:cubicBezTo>
                <a:cubicBezTo>
                  <a:pt x="3370242" y="1119192"/>
                  <a:pt x="3370242" y="1119192"/>
                  <a:pt x="3356785" y="1093961"/>
                </a:cubicBezTo>
                <a:cubicBezTo>
                  <a:pt x="3356785" y="1093961"/>
                  <a:pt x="3356785" y="1093961"/>
                  <a:pt x="3343327" y="1067048"/>
                </a:cubicBezTo>
                <a:cubicBezTo>
                  <a:pt x="3339962" y="1058638"/>
                  <a:pt x="3334916" y="1048545"/>
                  <a:pt x="3329869" y="1040135"/>
                </a:cubicBezTo>
                <a:cubicBezTo>
                  <a:pt x="3319776" y="1023314"/>
                  <a:pt x="3309682" y="1006493"/>
                  <a:pt x="3299589" y="989673"/>
                </a:cubicBezTo>
                <a:cubicBezTo>
                  <a:pt x="3297907" y="984626"/>
                  <a:pt x="3296225" y="981262"/>
                  <a:pt x="3292860" y="976216"/>
                </a:cubicBezTo>
                <a:cubicBezTo>
                  <a:pt x="3292860" y="976216"/>
                  <a:pt x="3292860" y="976216"/>
                  <a:pt x="3284449" y="964441"/>
                </a:cubicBezTo>
                <a:cubicBezTo>
                  <a:pt x="3284449" y="964441"/>
                  <a:pt x="3284449" y="964441"/>
                  <a:pt x="3269309" y="939210"/>
                </a:cubicBezTo>
                <a:cubicBezTo>
                  <a:pt x="3269309" y="939210"/>
                  <a:pt x="3269309" y="939210"/>
                  <a:pt x="3252487" y="915661"/>
                </a:cubicBezTo>
                <a:cubicBezTo>
                  <a:pt x="3252487" y="915661"/>
                  <a:pt x="3252487" y="915661"/>
                  <a:pt x="3249123" y="908933"/>
                </a:cubicBezTo>
                <a:cubicBezTo>
                  <a:pt x="3249123" y="908933"/>
                  <a:pt x="3249123" y="908933"/>
                  <a:pt x="3245758" y="902205"/>
                </a:cubicBezTo>
                <a:cubicBezTo>
                  <a:pt x="3245758" y="902205"/>
                  <a:pt x="3245758" y="902205"/>
                  <a:pt x="3235665" y="890430"/>
                </a:cubicBezTo>
                <a:cubicBezTo>
                  <a:pt x="3225571" y="875291"/>
                  <a:pt x="3213796" y="858471"/>
                  <a:pt x="3202020" y="843332"/>
                </a:cubicBezTo>
                <a:cubicBezTo>
                  <a:pt x="3190245" y="828193"/>
                  <a:pt x="3178469" y="811373"/>
                  <a:pt x="3166694" y="796234"/>
                </a:cubicBezTo>
                <a:cubicBezTo>
                  <a:pt x="3159965" y="789506"/>
                  <a:pt x="3154918" y="781095"/>
                  <a:pt x="3148189" y="774367"/>
                </a:cubicBezTo>
                <a:cubicBezTo>
                  <a:pt x="3148189" y="774367"/>
                  <a:pt x="3148189" y="774367"/>
                  <a:pt x="3128003" y="750818"/>
                </a:cubicBezTo>
                <a:cubicBezTo>
                  <a:pt x="3128003" y="750818"/>
                  <a:pt x="3128003" y="750818"/>
                  <a:pt x="3109498" y="728951"/>
                </a:cubicBezTo>
                <a:cubicBezTo>
                  <a:pt x="3102769" y="722223"/>
                  <a:pt x="3097723" y="715494"/>
                  <a:pt x="3090994" y="707084"/>
                </a:cubicBezTo>
                <a:cubicBezTo>
                  <a:pt x="3077536" y="693627"/>
                  <a:pt x="3064078" y="680171"/>
                  <a:pt x="3050620" y="665032"/>
                </a:cubicBezTo>
                <a:cubicBezTo>
                  <a:pt x="3050620" y="665032"/>
                  <a:pt x="3050620" y="665032"/>
                  <a:pt x="3040527" y="654940"/>
                </a:cubicBezTo>
                <a:cubicBezTo>
                  <a:pt x="3040527" y="654940"/>
                  <a:pt x="3040527" y="654940"/>
                  <a:pt x="3030434" y="644847"/>
                </a:cubicBezTo>
                <a:cubicBezTo>
                  <a:pt x="3030434" y="644847"/>
                  <a:pt x="3030434" y="644847"/>
                  <a:pt x="3008565" y="624662"/>
                </a:cubicBezTo>
                <a:cubicBezTo>
                  <a:pt x="2981649" y="597749"/>
                  <a:pt x="2951369" y="572518"/>
                  <a:pt x="2922772" y="547287"/>
                </a:cubicBezTo>
                <a:cubicBezTo>
                  <a:pt x="2919407" y="543923"/>
                  <a:pt x="2914360" y="542241"/>
                  <a:pt x="2910996" y="538877"/>
                </a:cubicBezTo>
                <a:cubicBezTo>
                  <a:pt x="2910996" y="538877"/>
                  <a:pt x="2910996" y="538877"/>
                  <a:pt x="2899220" y="530466"/>
                </a:cubicBezTo>
                <a:cubicBezTo>
                  <a:pt x="2899220" y="530466"/>
                  <a:pt x="2899220" y="530466"/>
                  <a:pt x="2877352" y="511963"/>
                </a:cubicBezTo>
                <a:cubicBezTo>
                  <a:pt x="2877352" y="511963"/>
                  <a:pt x="2877352" y="511963"/>
                  <a:pt x="2855483" y="495143"/>
                </a:cubicBezTo>
                <a:cubicBezTo>
                  <a:pt x="2847072" y="488414"/>
                  <a:pt x="2838661" y="483368"/>
                  <a:pt x="2831932" y="478322"/>
                </a:cubicBezTo>
                <a:cubicBezTo>
                  <a:pt x="2816792" y="466547"/>
                  <a:pt x="2799969" y="454773"/>
                  <a:pt x="2784829" y="444680"/>
                </a:cubicBezTo>
                <a:cubicBezTo>
                  <a:pt x="2769689" y="434588"/>
                  <a:pt x="2752867" y="424496"/>
                  <a:pt x="2737727" y="414403"/>
                </a:cubicBezTo>
                <a:cubicBezTo>
                  <a:pt x="2729316" y="409357"/>
                  <a:pt x="2720905" y="402629"/>
                  <a:pt x="2712494" y="399264"/>
                </a:cubicBezTo>
                <a:cubicBezTo>
                  <a:pt x="2712494" y="399264"/>
                  <a:pt x="2712494" y="399264"/>
                  <a:pt x="2688943" y="384126"/>
                </a:cubicBezTo>
                <a:cubicBezTo>
                  <a:pt x="2672121" y="375715"/>
                  <a:pt x="2655298" y="365623"/>
                  <a:pt x="2638476" y="357213"/>
                </a:cubicBezTo>
                <a:cubicBezTo>
                  <a:pt x="2623336" y="347120"/>
                  <a:pt x="2606514" y="338710"/>
                  <a:pt x="2589692" y="330299"/>
                </a:cubicBezTo>
                <a:cubicBezTo>
                  <a:pt x="2589692" y="330299"/>
                  <a:pt x="2589692" y="330299"/>
                  <a:pt x="2576234" y="325253"/>
                </a:cubicBezTo>
                <a:cubicBezTo>
                  <a:pt x="2572870" y="321889"/>
                  <a:pt x="2567823" y="320207"/>
                  <a:pt x="2564458" y="318525"/>
                </a:cubicBezTo>
                <a:cubicBezTo>
                  <a:pt x="2564458" y="318525"/>
                  <a:pt x="2564458" y="318525"/>
                  <a:pt x="2539225" y="306750"/>
                </a:cubicBezTo>
                <a:cubicBezTo>
                  <a:pt x="2539225" y="306750"/>
                  <a:pt x="2539225" y="306750"/>
                  <a:pt x="2512310" y="294976"/>
                </a:cubicBezTo>
                <a:cubicBezTo>
                  <a:pt x="2512310" y="294976"/>
                  <a:pt x="2512310" y="294976"/>
                  <a:pt x="2500534" y="289930"/>
                </a:cubicBezTo>
                <a:cubicBezTo>
                  <a:pt x="2500534" y="289930"/>
                  <a:pt x="2500534" y="289930"/>
                  <a:pt x="2493805" y="286565"/>
                </a:cubicBezTo>
                <a:cubicBezTo>
                  <a:pt x="2493805" y="286565"/>
                  <a:pt x="2493805" y="286565"/>
                  <a:pt x="2487076" y="284883"/>
                </a:cubicBezTo>
                <a:lnTo>
                  <a:pt x="2435905" y="263426"/>
                </a:lnTo>
                <a:lnTo>
                  <a:pt x="2458922" y="189279"/>
                </a:lnTo>
                <a:cubicBezTo>
                  <a:pt x="2467737" y="146197"/>
                  <a:pt x="2472367" y="101590"/>
                  <a:pt x="2472367" y="55902"/>
                </a:cubicBezTo>
                <a:lnTo>
                  <a:pt x="2466732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2459160" y="388764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9" name="Group 9"/>
          <p:cNvGrpSpPr/>
          <p:nvPr/>
        </p:nvGrpSpPr>
        <p:grpSpPr>
          <a:xfrm>
            <a:off x="2606760" y="3025800"/>
            <a:ext cx="831600" cy="758880"/>
            <a:chOff x="2606760" y="3025800"/>
            <a:chExt cx="831600" cy="758880"/>
          </a:xfrm>
        </p:grpSpPr>
        <p:sp>
          <p:nvSpPr>
            <p:cNvPr id="900" name="Rectangle 12"/>
            <p:cNvSpPr/>
            <p:nvPr/>
          </p:nvSpPr>
          <p:spPr>
            <a:xfrm>
              <a:off x="2657880" y="3628440"/>
              <a:ext cx="156240" cy="1562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13"/>
            <p:cNvSpPr/>
            <p:nvPr/>
          </p:nvSpPr>
          <p:spPr>
            <a:xfrm>
              <a:off x="2866320" y="3522960"/>
              <a:ext cx="156240" cy="261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14"/>
            <p:cNvSpPr/>
            <p:nvPr/>
          </p:nvSpPr>
          <p:spPr>
            <a:xfrm>
              <a:off x="3074760" y="3418560"/>
              <a:ext cx="156240" cy="3661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15"/>
            <p:cNvSpPr/>
            <p:nvPr/>
          </p:nvSpPr>
          <p:spPr>
            <a:xfrm>
              <a:off x="3283200" y="3314160"/>
              <a:ext cx="155160" cy="470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606760" y="3025800"/>
              <a:ext cx="831600" cy="49716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846" h="505">
                  <a:moveTo>
                    <a:pt x="727" y="120"/>
                  </a:moveTo>
                  <a:lnTo>
                    <a:pt x="569" y="120"/>
                  </a:lnTo>
                  <a:lnTo>
                    <a:pt x="370" y="266"/>
                  </a:lnTo>
                  <a:lnTo>
                    <a:pt x="264" y="213"/>
                  </a:lnTo>
                  <a:lnTo>
                    <a:pt x="0" y="439"/>
                  </a:lnTo>
                  <a:lnTo>
                    <a:pt x="0" y="505"/>
                  </a:lnTo>
                  <a:lnTo>
                    <a:pt x="264" y="279"/>
                  </a:lnTo>
                  <a:lnTo>
                    <a:pt x="370" y="333"/>
                  </a:lnTo>
                  <a:lnTo>
                    <a:pt x="595" y="173"/>
                  </a:lnTo>
                  <a:lnTo>
                    <a:pt x="754" y="173"/>
                  </a:lnTo>
                  <a:lnTo>
                    <a:pt x="846" y="80"/>
                  </a:lnTo>
                  <a:lnTo>
                    <a:pt x="846" y="0"/>
                  </a:lnTo>
                  <a:lnTo>
                    <a:pt x="727" y="12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5" name="TextBox 25"/>
          <p:cNvSpPr/>
          <p:nvPr/>
        </p:nvSpPr>
        <p:spPr>
          <a:xfrm>
            <a:off x="1036080" y="37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26"/>
          <p:cNvSpPr/>
          <p:nvPr/>
        </p:nvSpPr>
        <p:spPr>
          <a:xfrm>
            <a:off x="2832120" y="205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27"/>
          <p:cNvSpPr/>
          <p:nvPr/>
        </p:nvSpPr>
        <p:spPr>
          <a:xfrm>
            <a:off x="2832120" y="5530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28"/>
          <p:cNvSpPr/>
          <p:nvPr/>
        </p:nvSpPr>
        <p:spPr>
          <a:xfrm>
            <a:off x="4637160" y="377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9" name="Group 29" descr=""/>
          <p:cNvPicPr/>
          <p:nvPr/>
        </p:nvPicPr>
        <p:blipFill>
          <a:blip r:embed="rId2"/>
          <a:stretch/>
        </p:blipFill>
        <p:spPr>
          <a:xfrm>
            <a:off x="2865600" y="1566720"/>
            <a:ext cx="420480" cy="401760"/>
          </a:xfrm>
          <a:prstGeom prst="rect">
            <a:avLst/>
          </a:prstGeom>
          <a:ln w="0">
            <a:noFill/>
          </a:ln>
        </p:spPr>
      </p:pic>
      <p:pic>
        <p:nvPicPr>
          <p:cNvPr id="910" name="Group 32" descr=""/>
          <p:cNvPicPr/>
          <p:nvPr/>
        </p:nvPicPr>
        <p:blipFill>
          <a:blip r:embed="rId3"/>
          <a:stretch/>
        </p:blipFill>
        <p:spPr>
          <a:xfrm>
            <a:off x="1079640" y="3273480"/>
            <a:ext cx="401400" cy="403200"/>
          </a:xfrm>
          <a:prstGeom prst="rect">
            <a:avLst/>
          </a:prstGeom>
          <a:ln w="0">
            <a:noFill/>
          </a:ln>
        </p:spPr>
      </p:pic>
      <p:sp>
        <p:nvSpPr>
          <p:cNvPr id="911" name="Freeform 60"/>
          <p:cNvSpPr/>
          <p:nvPr/>
        </p:nvSpPr>
        <p:spPr>
          <a:xfrm>
            <a:off x="4643280" y="3343320"/>
            <a:ext cx="400320" cy="399960"/>
          </a:xfrm>
          <a:custGeom>
            <a:avLst/>
            <a:gdLst>
              <a:gd name="textAreaLeft" fmla="*/ 0 w 400320"/>
              <a:gd name="textAreaRight" fmla="*/ 400680 w 40032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Group 36" descr=""/>
          <p:cNvPicPr/>
          <p:nvPr/>
        </p:nvPicPr>
        <p:blipFill>
          <a:blip r:embed="rId4"/>
          <a:stretch/>
        </p:blipFill>
        <p:spPr>
          <a:xfrm>
            <a:off x="2859120" y="5187960"/>
            <a:ext cx="401760" cy="3477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19"/>
          <p:cNvSpPr/>
          <p:nvPr/>
        </p:nvSpPr>
        <p:spPr>
          <a:xfrm>
            <a:off x="943740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Rectangle 20"/>
          <p:cNvSpPr/>
          <p:nvPr/>
        </p:nvSpPr>
        <p:spPr>
          <a:xfrm>
            <a:off x="9363240" y="344952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Group 40" descr=""/>
          <p:cNvPicPr/>
          <p:nvPr/>
        </p:nvPicPr>
        <p:blipFill>
          <a:blip r:embed="rId5"/>
          <a:stretch/>
        </p:blipFill>
        <p:spPr>
          <a:xfrm>
            <a:off x="8899560" y="3267000"/>
            <a:ext cx="415800" cy="403200"/>
          </a:xfrm>
          <a:prstGeom prst="rect">
            <a:avLst/>
          </a:prstGeom>
          <a:ln w="0">
            <a:noFill/>
          </a:ln>
        </p:spPr>
      </p:pic>
      <p:sp>
        <p:nvSpPr>
          <p:cNvPr id="916" name="TextBox 15"/>
          <p:cNvSpPr/>
          <p:nvPr/>
        </p:nvSpPr>
        <p:spPr>
          <a:xfrm>
            <a:off x="667908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16"/>
          <p:cNvSpPr/>
          <p:nvPr/>
        </p:nvSpPr>
        <p:spPr>
          <a:xfrm>
            <a:off x="6603840" y="34495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8" name="Group 43" descr=""/>
          <p:cNvPicPr/>
          <p:nvPr/>
        </p:nvPicPr>
        <p:blipFill>
          <a:blip r:embed="rId6"/>
          <a:stretch/>
        </p:blipFill>
        <p:spPr>
          <a:xfrm>
            <a:off x="6145200" y="3267000"/>
            <a:ext cx="395280" cy="4032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17"/>
          <p:cNvSpPr/>
          <p:nvPr/>
        </p:nvSpPr>
        <p:spPr>
          <a:xfrm>
            <a:off x="6681240" y="4660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18"/>
          <p:cNvSpPr/>
          <p:nvPr/>
        </p:nvSpPr>
        <p:spPr>
          <a:xfrm>
            <a:off x="6607080" y="49021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60"/>
          <p:cNvSpPr/>
          <p:nvPr/>
        </p:nvSpPr>
        <p:spPr>
          <a:xfrm>
            <a:off x="6141960" y="4719600"/>
            <a:ext cx="399960" cy="399960"/>
          </a:xfrm>
          <a:custGeom>
            <a:avLst/>
            <a:gdLst>
              <a:gd name="textAreaLeft" fmla="*/ 0 w 399960"/>
              <a:gd name="textAreaRight" fmla="*/ 400320 w 3999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21"/>
          <p:cNvSpPr/>
          <p:nvPr/>
        </p:nvSpPr>
        <p:spPr>
          <a:xfrm>
            <a:off x="9427680" y="4665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Rectangle 22"/>
          <p:cNvSpPr/>
          <p:nvPr/>
        </p:nvSpPr>
        <p:spPr>
          <a:xfrm>
            <a:off x="9353520" y="48974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Group 47" descr=""/>
          <p:cNvPicPr/>
          <p:nvPr/>
        </p:nvPicPr>
        <p:blipFill>
          <a:blip r:embed="rId7"/>
          <a:stretch/>
        </p:blipFill>
        <p:spPr>
          <a:xfrm>
            <a:off x="8912160" y="4748040"/>
            <a:ext cx="403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925" name="组合 55"/>
          <p:cNvGrpSpPr/>
          <p:nvPr/>
        </p:nvGrpSpPr>
        <p:grpSpPr>
          <a:xfrm>
            <a:off x="6141960" y="1628640"/>
            <a:ext cx="5235480" cy="827280"/>
            <a:chOff x="6141960" y="1628640"/>
            <a:chExt cx="5235480" cy="827280"/>
          </a:xfrm>
        </p:grpSpPr>
        <p:sp>
          <p:nvSpPr>
            <p:cNvPr id="926" name="TextBox 58"/>
            <p:cNvSpPr/>
            <p:nvPr/>
          </p:nvSpPr>
          <p:spPr>
            <a:xfrm>
              <a:off x="6141960" y="1628640"/>
              <a:ext cx="267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Rectangle 59"/>
            <p:cNvSpPr/>
            <p:nvPr/>
          </p:nvSpPr>
          <p:spPr>
            <a:xfrm>
              <a:off x="6141960" y="1935720"/>
              <a:ext cx="523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2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3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6"/>
          <p:cNvGrpSpPr/>
          <p:nvPr/>
        </p:nvGrpSpPr>
        <p:grpSpPr>
          <a:xfrm>
            <a:off x="-11160" y="1228680"/>
            <a:ext cx="12203640" cy="3794040"/>
            <a:chOff x="-11160" y="1228680"/>
            <a:chExt cx="12203640" cy="3794040"/>
          </a:xfrm>
        </p:grpSpPr>
        <p:pic>
          <p:nvPicPr>
            <p:cNvPr id="934" name="图片 7" descr=""/>
            <p:cNvPicPr/>
            <p:nvPr/>
          </p:nvPicPr>
          <p:blipFill>
            <a:blip r:embed="rId2"/>
            <a:stretch/>
          </p:blipFill>
          <p:spPr>
            <a:xfrm>
              <a:off x="-11160" y="1228680"/>
              <a:ext cx="1220328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矩形 8"/>
            <p:cNvSpPr/>
            <p:nvPr/>
          </p:nvSpPr>
          <p:spPr>
            <a:xfrm>
              <a:off x="-10800" y="1228680"/>
              <a:ext cx="12203280" cy="379404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6" name="图片 9" descr=""/>
          <p:cNvPicPr/>
          <p:nvPr/>
        </p:nvPicPr>
        <p:blipFill>
          <a:blip r:embed="rId3"/>
          <a:stretch/>
        </p:blipFill>
        <p:spPr>
          <a:xfrm>
            <a:off x="3471840" y="1098720"/>
            <a:ext cx="5195880" cy="4113000"/>
          </a:xfrm>
          <a:prstGeom prst="rect">
            <a:avLst/>
          </a:prstGeom>
          <a:ln w="0">
            <a:noFill/>
          </a:ln>
        </p:spPr>
      </p:pic>
      <p:sp>
        <p:nvSpPr>
          <p:cNvPr id="937" name="椭圆 10"/>
          <p:cNvSpPr/>
          <p:nvPr/>
        </p:nvSpPr>
        <p:spPr>
          <a:xfrm>
            <a:off x="2890800" y="1598760"/>
            <a:ext cx="928800" cy="9284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椭圆 11"/>
          <p:cNvSpPr/>
          <p:nvPr/>
        </p:nvSpPr>
        <p:spPr>
          <a:xfrm>
            <a:off x="8290080" y="340668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椭圆 12"/>
          <p:cNvSpPr/>
          <p:nvPr/>
        </p:nvSpPr>
        <p:spPr>
          <a:xfrm>
            <a:off x="2890800" y="3406680"/>
            <a:ext cx="92880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椭圆 13"/>
          <p:cNvSpPr/>
          <p:nvPr/>
        </p:nvSpPr>
        <p:spPr>
          <a:xfrm>
            <a:off x="8290080" y="163836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20"/>
          <p:cNvSpPr/>
          <p:nvPr/>
        </p:nvSpPr>
        <p:spPr>
          <a:xfrm>
            <a:off x="8551800" y="3639960"/>
            <a:ext cx="398520" cy="460440"/>
          </a:xfrm>
          <a:custGeom>
            <a:avLst/>
            <a:gdLst>
              <a:gd name="textAreaLeft" fmla="*/ 0 w 398520"/>
              <a:gd name="textAreaRight" fmla="*/ 398880 w 39852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80" h="92">
                <a:moveTo>
                  <a:pt x="62" y="22"/>
                </a:moveTo>
                <a:cubicBezTo>
                  <a:pt x="37" y="43"/>
                  <a:pt x="37" y="43"/>
                  <a:pt x="37" y="43"/>
                </a:cubicBezTo>
                <a:cubicBezTo>
                  <a:pt x="37" y="33"/>
                  <a:pt x="37" y="33"/>
                  <a:pt x="37" y="33"/>
                </a:cubicBezTo>
                <a:cubicBezTo>
                  <a:pt x="22" y="36"/>
                  <a:pt x="10" y="44"/>
                  <a:pt x="5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2" y="34"/>
                  <a:pt x="14" y="16"/>
                  <a:pt x="37" y="10"/>
                </a:cubicBezTo>
                <a:cubicBezTo>
                  <a:pt x="37" y="0"/>
                  <a:pt x="37" y="0"/>
                  <a:pt x="37" y="0"/>
                </a:cubicBezTo>
                <a:cubicBezTo>
                  <a:pt x="62" y="22"/>
                  <a:pt x="62" y="22"/>
                  <a:pt x="62" y="22"/>
                </a:cubicBezTo>
                <a:close/>
                <a:moveTo>
                  <a:pt x="44" y="59"/>
                </a:moveTo>
                <a:cubicBezTo>
                  <a:pt x="44" y="49"/>
                  <a:pt x="44" y="49"/>
                  <a:pt x="44" y="49"/>
                </a:cubicBezTo>
                <a:cubicBezTo>
                  <a:pt x="16" y="71"/>
                  <a:pt x="16" y="71"/>
                  <a:pt x="16" y="71"/>
                </a:cubicBezTo>
                <a:cubicBezTo>
                  <a:pt x="44" y="92"/>
                  <a:pt x="44" y="92"/>
                  <a:pt x="44" y="92"/>
                </a:cubicBezTo>
                <a:cubicBezTo>
                  <a:pt x="44" y="82"/>
                  <a:pt x="44" y="82"/>
                  <a:pt x="44" y="82"/>
                </a:cubicBezTo>
                <a:cubicBezTo>
                  <a:pt x="66" y="77"/>
                  <a:pt x="78" y="59"/>
                  <a:pt x="80" y="37"/>
                </a:cubicBezTo>
                <a:cubicBezTo>
                  <a:pt x="75" y="37"/>
                  <a:pt x="75" y="37"/>
                  <a:pt x="75" y="37"/>
                </a:cubicBezTo>
                <a:cubicBezTo>
                  <a:pt x="69" y="49"/>
                  <a:pt x="57" y="56"/>
                  <a:pt x="44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23"/>
          <p:cNvSpPr/>
          <p:nvPr/>
        </p:nvSpPr>
        <p:spPr>
          <a:xfrm>
            <a:off x="8559720" y="1889280"/>
            <a:ext cx="384120" cy="426960"/>
          </a:xfrm>
          <a:custGeom>
            <a:avLst/>
            <a:gdLst>
              <a:gd name="textAreaLeft" fmla="*/ 0 w 384120"/>
              <a:gd name="textAreaRight" fmla="*/ 384480 w 3841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77" h="86">
                <a:moveTo>
                  <a:pt x="13" y="8"/>
                </a:moveTo>
                <a:cubicBezTo>
                  <a:pt x="20" y="2"/>
                  <a:pt x="29" y="0"/>
                  <a:pt x="38" y="1"/>
                </a:cubicBezTo>
                <a:cubicBezTo>
                  <a:pt x="46" y="2"/>
                  <a:pt x="54" y="6"/>
                  <a:pt x="59" y="13"/>
                </a:cubicBezTo>
                <a:cubicBezTo>
                  <a:pt x="65" y="21"/>
                  <a:pt x="67" y="29"/>
                  <a:pt x="66" y="38"/>
                </a:cubicBezTo>
                <a:cubicBezTo>
                  <a:pt x="65" y="44"/>
                  <a:pt x="63" y="50"/>
                  <a:pt x="58" y="55"/>
                </a:cubicBezTo>
                <a:cubicBezTo>
                  <a:pt x="60" y="56"/>
                  <a:pt x="62" y="57"/>
                  <a:pt x="64" y="59"/>
                </a:cubicBezTo>
                <a:cubicBezTo>
                  <a:pt x="74" y="72"/>
                  <a:pt x="74" y="72"/>
                  <a:pt x="74" y="72"/>
                </a:cubicBezTo>
                <a:cubicBezTo>
                  <a:pt x="77" y="76"/>
                  <a:pt x="76" y="81"/>
                  <a:pt x="73" y="84"/>
                </a:cubicBezTo>
                <a:cubicBezTo>
                  <a:pt x="73" y="84"/>
                  <a:pt x="73" y="84"/>
                  <a:pt x="73" y="84"/>
                </a:cubicBezTo>
                <a:cubicBezTo>
                  <a:pt x="69" y="86"/>
                  <a:pt x="64" y="86"/>
                  <a:pt x="62" y="82"/>
                </a:cubicBezTo>
                <a:cubicBezTo>
                  <a:pt x="51" y="68"/>
                  <a:pt x="51" y="68"/>
                  <a:pt x="51" y="68"/>
                </a:cubicBezTo>
                <a:cubicBezTo>
                  <a:pt x="50" y="67"/>
                  <a:pt x="49" y="65"/>
                  <a:pt x="49" y="63"/>
                </a:cubicBezTo>
                <a:cubicBezTo>
                  <a:pt x="43" y="66"/>
                  <a:pt x="36" y="67"/>
                  <a:pt x="30" y="66"/>
                </a:cubicBezTo>
                <a:cubicBezTo>
                  <a:pt x="21" y="65"/>
                  <a:pt x="13" y="61"/>
                  <a:pt x="8" y="54"/>
                </a:cubicBezTo>
                <a:cubicBezTo>
                  <a:pt x="2" y="47"/>
                  <a:pt x="0" y="38"/>
                  <a:pt x="1" y="30"/>
                </a:cubicBezTo>
                <a:cubicBezTo>
                  <a:pt x="2" y="21"/>
                  <a:pt x="6" y="13"/>
                  <a:pt x="13" y="8"/>
                </a:cubicBezTo>
                <a:close/>
                <a:moveTo>
                  <a:pt x="30" y="49"/>
                </a:moveTo>
                <a:cubicBezTo>
                  <a:pt x="38" y="49"/>
                  <a:pt x="38" y="49"/>
                  <a:pt x="38" y="49"/>
                </a:cubicBezTo>
                <a:cubicBezTo>
                  <a:pt x="38" y="40"/>
                  <a:pt x="38" y="40"/>
                  <a:pt x="38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2"/>
                  <a:pt x="47" y="32"/>
                  <a:pt x="47" y="32"/>
                </a:cubicBezTo>
                <a:cubicBezTo>
                  <a:pt x="38" y="32"/>
                  <a:pt x="38" y="32"/>
                  <a:pt x="38" y="32"/>
                </a:cubicBezTo>
                <a:cubicBezTo>
                  <a:pt x="38" y="23"/>
                  <a:pt x="38" y="23"/>
                  <a:pt x="38" y="23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32"/>
                  <a:pt x="30" y="32"/>
                  <a:pt x="30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1" y="40"/>
                  <a:pt x="21" y="40"/>
                  <a:pt x="21" y="40"/>
                </a:cubicBezTo>
                <a:cubicBezTo>
                  <a:pt x="30" y="40"/>
                  <a:pt x="30" y="40"/>
                  <a:pt x="30" y="40"/>
                </a:cubicBezTo>
                <a:cubicBezTo>
                  <a:pt x="30" y="49"/>
                  <a:pt x="30" y="49"/>
                  <a:pt x="30" y="49"/>
                </a:cubicBezTo>
                <a:close/>
                <a:moveTo>
                  <a:pt x="18" y="36"/>
                </a:moveTo>
                <a:cubicBezTo>
                  <a:pt x="22" y="26"/>
                  <a:pt x="31" y="21"/>
                  <a:pt x="43" y="19"/>
                </a:cubicBezTo>
                <a:cubicBezTo>
                  <a:pt x="31" y="11"/>
                  <a:pt x="16" y="22"/>
                  <a:pt x="18" y="36"/>
                </a:cubicBezTo>
                <a:close/>
                <a:moveTo>
                  <a:pt x="36" y="12"/>
                </a:moveTo>
                <a:cubicBezTo>
                  <a:pt x="31" y="11"/>
                  <a:pt x="25" y="13"/>
                  <a:pt x="20" y="16"/>
                </a:cubicBezTo>
                <a:cubicBezTo>
                  <a:pt x="15" y="20"/>
                  <a:pt x="13" y="25"/>
                  <a:pt x="12" y="31"/>
                </a:cubicBezTo>
                <a:cubicBezTo>
                  <a:pt x="11" y="37"/>
                  <a:pt x="13" y="42"/>
                  <a:pt x="16" y="47"/>
                </a:cubicBezTo>
                <a:cubicBezTo>
                  <a:pt x="20" y="52"/>
                  <a:pt x="25" y="55"/>
                  <a:pt x="31" y="55"/>
                </a:cubicBezTo>
                <a:cubicBezTo>
                  <a:pt x="36" y="56"/>
                  <a:pt x="42" y="55"/>
                  <a:pt x="47" y="51"/>
                </a:cubicBezTo>
                <a:cubicBezTo>
                  <a:pt x="52" y="47"/>
                  <a:pt x="55" y="42"/>
                  <a:pt x="55" y="36"/>
                </a:cubicBezTo>
                <a:cubicBezTo>
                  <a:pt x="56" y="31"/>
                  <a:pt x="54" y="25"/>
                  <a:pt x="51" y="20"/>
                </a:cubicBezTo>
                <a:cubicBezTo>
                  <a:pt x="47" y="15"/>
                  <a:pt x="42" y="13"/>
                  <a:pt x="36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204"/>
          <p:cNvSpPr/>
          <p:nvPr/>
        </p:nvSpPr>
        <p:spPr>
          <a:xfrm>
            <a:off x="3162240" y="1830240"/>
            <a:ext cx="385920" cy="465120"/>
          </a:xfrm>
          <a:custGeom>
            <a:avLst/>
            <a:gdLst>
              <a:gd name="textAreaLeft" fmla="*/ 0 w 385920"/>
              <a:gd name="textAreaRight" fmla="*/ 386280 w 38592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238"/>
          <p:cNvSpPr/>
          <p:nvPr/>
        </p:nvSpPr>
        <p:spPr>
          <a:xfrm>
            <a:off x="3100320" y="3622680"/>
            <a:ext cx="596880" cy="490680"/>
          </a:xfrm>
          <a:custGeom>
            <a:avLst/>
            <a:gdLst>
              <a:gd name="textAreaLeft" fmla="*/ 0 w 596880"/>
              <a:gd name="textAreaRight" fmla="*/ 597240 w 59688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300" h="247">
                <a:moveTo>
                  <a:pt x="122" y="0"/>
                </a:moveTo>
                <a:cubicBezTo>
                  <a:pt x="155" y="0"/>
                  <a:pt x="186" y="14"/>
                  <a:pt x="208" y="36"/>
                </a:cubicBezTo>
                <a:cubicBezTo>
                  <a:pt x="230" y="58"/>
                  <a:pt x="244" y="88"/>
                  <a:pt x="244" y="122"/>
                </a:cubicBezTo>
                <a:cubicBezTo>
                  <a:pt x="244" y="156"/>
                  <a:pt x="230" y="186"/>
                  <a:pt x="208" y="208"/>
                </a:cubicBezTo>
                <a:cubicBezTo>
                  <a:pt x="186" y="230"/>
                  <a:pt x="155" y="244"/>
                  <a:pt x="122" y="244"/>
                </a:cubicBezTo>
                <a:cubicBezTo>
                  <a:pt x="88" y="244"/>
                  <a:pt x="57" y="230"/>
                  <a:pt x="35" y="208"/>
                </a:cubicBezTo>
                <a:cubicBezTo>
                  <a:pt x="13" y="186"/>
                  <a:pt x="0" y="156"/>
                  <a:pt x="0" y="122"/>
                </a:cubicBezTo>
                <a:cubicBezTo>
                  <a:pt x="0" y="88"/>
                  <a:pt x="13" y="58"/>
                  <a:pt x="35" y="36"/>
                </a:cubicBezTo>
                <a:cubicBezTo>
                  <a:pt x="57" y="14"/>
                  <a:pt x="88" y="0"/>
                  <a:pt x="122" y="0"/>
                </a:cubicBezTo>
                <a:close/>
                <a:moveTo>
                  <a:pt x="175" y="245"/>
                </a:moveTo>
                <a:cubicBezTo>
                  <a:pt x="292" y="247"/>
                  <a:pt x="257" y="150"/>
                  <a:pt x="300" y="158"/>
                </a:cubicBezTo>
                <a:cubicBezTo>
                  <a:pt x="298" y="126"/>
                  <a:pt x="298" y="126"/>
                  <a:pt x="298" y="126"/>
                </a:cubicBezTo>
                <a:cubicBezTo>
                  <a:pt x="230" y="122"/>
                  <a:pt x="286" y="229"/>
                  <a:pt x="175" y="245"/>
                </a:cubicBezTo>
                <a:close/>
                <a:moveTo>
                  <a:pt x="130" y="80"/>
                </a:moveTo>
                <a:cubicBezTo>
                  <a:pt x="139" y="82"/>
                  <a:pt x="146" y="86"/>
                  <a:pt x="151" y="91"/>
                </a:cubicBezTo>
                <a:cubicBezTo>
                  <a:pt x="181" y="71"/>
                  <a:pt x="181" y="71"/>
                  <a:pt x="181" y="71"/>
                </a:cubicBezTo>
                <a:cubicBezTo>
                  <a:pt x="180" y="69"/>
                  <a:pt x="179" y="68"/>
                  <a:pt x="177" y="66"/>
                </a:cubicBezTo>
                <a:cubicBezTo>
                  <a:pt x="165" y="54"/>
                  <a:pt x="149" y="46"/>
                  <a:pt x="130" y="44"/>
                </a:cubicBezTo>
                <a:cubicBezTo>
                  <a:pt x="130" y="80"/>
                  <a:pt x="130" y="80"/>
                  <a:pt x="130" y="80"/>
                </a:cubicBezTo>
                <a:close/>
                <a:moveTo>
                  <a:pt x="162" y="108"/>
                </a:moveTo>
                <a:cubicBezTo>
                  <a:pt x="164" y="112"/>
                  <a:pt x="164" y="117"/>
                  <a:pt x="164" y="122"/>
                </a:cubicBezTo>
                <a:cubicBezTo>
                  <a:pt x="164" y="128"/>
                  <a:pt x="163" y="133"/>
                  <a:pt x="161" y="138"/>
                </a:cubicBezTo>
                <a:cubicBezTo>
                  <a:pt x="192" y="157"/>
                  <a:pt x="192" y="157"/>
                  <a:pt x="192" y="157"/>
                </a:cubicBezTo>
                <a:cubicBezTo>
                  <a:pt x="197" y="147"/>
                  <a:pt x="200" y="135"/>
                  <a:pt x="200" y="122"/>
                </a:cubicBezTo>
                <a:cubicBezTo>
                  <a:pt x="200" y="110"/>
                  <a:pt x="197" y="98"/>
                  <a:pt x="192" y="87"/>
                </a:cubicBezTo>
                <a:cubicBezTo>
                  <a:pt x="162" y="108"/>
                  <a:pt x="162" y="108"/>
                  <a:pt x="162" y="108"/>
                </a:cubicBezTo>
                <a:close/>
                <a:moveTo>
                  <a:pt x="149" y="154"/>
                </a:moveTo>
                <a:cubicBezTo>
                  <a:pt x="144" y="159"/>
                  <a:pt x="138" y="162"/>
                  <a:pt x="130" y="164"/>
                </a:cubicBezTo>
                <a:cubicBezTo>
                  <a:pt x="130" y="200"/>
                  <a:pt x="130" y="200"/>
                  <a:pt x="130" y="200"/>
                </a:cubicBezTo>
                <a:cubicBezTo>
                  <a:pt x="149" y="198"/>
                  <a:pt x="165" y="190"/>
                  <a:pt x="177" y="178"/>
                </a:cubicBezTo>
                <a:cubicBezTo>
                  <a:pt x="178" y="176"/>
                  <a:pt x="180" y="175"/>
                  <a:pt x="181" y="174"/>
                </a:cubicBezTo>
                <a:cubicBezTo>
                  <a:pt x="149" y="154"/>
                  <a:pt x="149" y="154"/>
                  <a:pt x="149" y="154"/>
                </a:cubicBezTo>
                <a:close/>
                <a:moveTo>
                  <a:pt x="110" y="163"/>
                </a:moveTo>
                <a:cubicBezTo>
                  <a:pt x="104" y="162"/>
                  <a:pt x="99" y="159"/>
                  <a:pt x="94" y="155"/>
                </a:cubicBezTo>
                <a:cubicBezTo>
                  <a:pt x="64" y="176"/>
                  <a:pt x="64" y="176"/>
                  <a:pt x="64" y="176"/>
                </a:cubicBezTo>
                <a:cubicBezTo>
                  <a:pt x="65" y="176"/>
                  <a:pt x="65" y="177"/>
                  <a:pt x="66" y="178"/>
                </a:cubicBezTo>
                <a:cubicBezTo>
                  <a:pt x="78" y="189"/>
                  <a:pt x="93" y="197"/>
                  <a:pt x="110" y="200"/>
                </a:cubicBezTo>
                <a:cubicBezTo>
                  <a:pt x="110" y="163"/>
                  <a:pt x="110" y="163"/>
                  <a:pt x="110" y="163"/>
                </a:cubicBezTo>
                <a:close/>
                <a:moveTo>
                  <a:pt x="82" y="139"/>
                </a:moveTo>
                <a:cubicBezTo>
                  <a:pt x="80" y="134"/>
                  <a:pt x="79" y="128"/>
                  <a:pt x="79" y="122"/>
                </a:cubicBezTo>
                <a:cubicBezTo>
                  <a:pt x="79" y="118"/>
                  <a:pt x="79" y="115"/>
                  <a:pt x="80" y="111"/>
                </a:cubicBezTo>
                <a:cubicBezTo>
                  <a:pt x="49" y="92"/>
                  <a:pt x="49" y="92"/>
                  <a:pt x="49" y="92"/>
                </a:cubicBezTo>
                <a:cubicBezTo>
                  <a:pt x="45" y="101"/>
                  <a:pt x="43" y="111"/>
                  <a:pt x="43" y="122"/>
                </a:cubicBezTo>
                <a:cubicBezTo>
                  <a:pt x="43" y="135"/>
                  <a:pt x="46" y="148"/>
                  <a:pt x="52" y="159"/>
                </a:cubicBezTo>
                <a:cubicBezTo>
                  <a:pt x="82" y="139"/>
                  <a:pt x="82" y="139"/>
                  <a:pt x="82" y="139"/>
                </a:cubicBezTo>
                <a:close/>
                <a:moveTo>
                  <a:pt x="90" y="94"/>
                </a:moveTo>
                <a:cubicBezTo>
                  <a:pt x="90" y="93"/>
                  <a:pt x="91" y="92"/>
                  <a:pt x="91" y="92"/>
                </a:cubicBezTo>
                <a:cubicBezTo>
                  <a:pt x="97" y="86"/>
                  <a:pt x="103" y="83"/>
                  <a:pt x="110" y="81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93" y="46"/>
                  <a:pt x="78" y="55"/>
                  <a:pt x="66" y="66"/>
                </a:cubicBezTo>
                <a:cubicBezTo>
                  <a:pt x="63" y="69"/>
                  <a:pt x="61" y="72"/>
                  <a:pt x="59" y="74"/>
                </a:cubicBezTo>
                <a:lnTo>
                  <a:pt x="90" y="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5" name="组合 18"/>
          <p:cNvGrpSpPr/>
          <p:nvPr/>
        </p:nvGrpSpPr>
        <p:grpSpPr>
          <a:xfrm>
            <a:off x="158760" y="1598760"/>
            <a:ext cx="2693880" cy="932760"/>
            <a:chOff x="158760" y="1598760"/>
            <a:chExt cx="2693880" cy="932760"/>
          </a:xfrm>
        </p:grpSpPr>
        <p:sp>
          <p:nvSpPr>
            <p:cNvPr id="946" name="文本框 19"/>
            <p:cNvSpPr/>
            <p:nvPr/>
          </p:nvSpPr>
          <p:spPr>
            <a:xfrm>
              <a:off x="518040" y="201132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文本框 20"/>
            <p:cNvSpPr/>
            <p:nvPr/>
          </p:nvSpPr>
          <p:spPr>
            <a:xfrm>
              <a:off x="158760" y="15987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8" name="组合 21"/>
          <p:cNvGrpSpPr/>
          <p:nvPr/>
        </p:nvGrpSpPr>
        <p:grpSpPr>
          <a:xfrm>
            <a:off x="184320" y="3224160"/>
            <a:ext cx="2693880" cy="933480"/>
            <a:chOff x="184320" y="3224160"/>
            <a:chExt cx="2693880" cy="933480"/>
          </a:xfrm>
        </p:grpSpPr>
        <p:sp>
          <p:nvSpPr>
            <p:cNvPr id="949" name="文本框 22"/>
            <p:cNvSpPr/>
            <p:nvPr/>
          </p:nvSpPr>
          <p:spPr>
            <a:xfrm>
              <a:off x="543600" y="363744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文本框 23"/>
            <p:cNvSpPr/>
            <p:nvPr/>
          </p:nvSpPr>
          <p:spPr>
            <a:xfrm>
              <a:off x="184320" y="32241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组合 24"/>
          <p:cNvGrpSpPr/>
          <p:nvPr/>
        </p:nvGrpSpPr>
        <p:grpSpPr>
          <a:xfrm>
            <a:off x="9296280" y="1590840"/>
            <a:ext cx="2335320" cy="932760"/>
            <a:chOff x="9296280" y="1590840"/>
            <a:chExt cx="2335320" cy="932760"/>
          </a:xfrm>
        </p:grpSpPr>
        <p:sp>
          <p:nvSpPr>
            <p:cNvPr id="952" name="文本框 25"/>
            <p:cNvSpPr/>
            <p:nvPr/>
          </p:nvSpPr>
          <p:spPr>
            <a:xfrm>
              <a:off x="9296280" y="200340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文本框 26"/>
            <p:cNvSpPr/>
            <p:nvPr/>
          </p:nvSpPr>
          <p:spPr>
            <a:xfrm>
              <a:off x="9361440" y="159084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4" name="组合 27"/>
          <p:cNvGrpSpPr/>
          <p:nvPr/>
        </p:nvGrpSpPr>
        <p:grpSpPr>
          <a:xfrm>
            <a:off x="9296280" y="3349800"/>
            <a:ext cx="2335320" cy="932760"/>
            <a:chOff x="9296280" y="3349800"/>
            <a:chExt cx="2335320" cy="932760"/>
          </a:xfrm>
        </p:grpSpPr>
        <p:sp>
          <p:nvSpPr>
            <p:cNvPr id="955" name="文本框 28"/>
            <p:cNvSpPr/>
            <p:nvPr/>
          </p:nvSpPr>
          <p:spPr>
            <a:xfrm>
              <a:off x="9296280" y="376236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文本框 29"/>
            <p:cNvSpPr/>
            <p:nvPr/>
          </p:nvSpPr>
          <p:spPr>
            <a:xfrm>
              <a:off x="9361440" y="334980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7" name="文本框 30"/>
          <p:cNvSpPr/>
          <p:nvPr/>
        </p:nvSpPr>
        <p:spPr>
          <a:xfrm>
            <a:off x="1393920" y="5329080"/>
            <a:ext cx="940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8" name="图片 31" descr=""/>
          <p:cNvPicPr/>
          <p:nvPr/>
        </p:nvPicPr>
        <p:blipFill>
          <a:blip r:embed="rId4"/>
          <a:srcRect l="0" t="6757" r="0" b="8168"/>
          <a:stretch/>
        </p:blipFill>
        <p:spPr>
          <a:xfrm>
            <a:off x="4189320" y="1765440"/>
            <a:ext cx="373392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6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6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Freeform 6"/>
          <p:cNvSpPr/>
          <p:nvPr/>
        </p:nvSpPr>
        <p:spPr>
          <a:xfrm>
            <a:off x="949320" y="2979720"/>
            <a:ext cx="1031760" cy="102564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184" h="183">
                <a:moveTo>
                  <a:pt x="99" y="180"/>
                </a:moveTo>
                <a:cubicBezTo>
                  <a:pt x="66" y="183"/>
                  <a:pt x="34" y="167"/>
                  <a:pt x="17" y="139"/>
                </a:cubicBezTo>
                <a:cubicBezTo>
                  <a:pt x="4" y="119"/>
                  <a:pt x="0" y="95"/>
                  <a:pt x="5" y="72"/>
                </a:cubicBezTo>
                <a:cubicBezTo>
                  <a:pt x="11" y="49"/>
                  <a:pt x="24" y="29"/>
                  <a:pt x="44" y="16"/>
                </a:cubicBezTo>
                <a:cubicBezTo>
                  <a:pt x="57" y="8"/>
                  <a:pt x="70" y="4"/>
                  <a:pt x="84" y="3"/>
                </a:cubicBezTo>
                <a:cubicBezTo>
                  <a:pt x="118" y="0"/>
                  <a:pt x="149" y="16"/>
                  <a:pt x="167" y="44"/>
                </a:cubicBezTo>
                <a:cubicBezTo>
                  <a:pt x="180" y="64"/>
                  <a:pt x="184" y="88"/>
                  <a:pt x="178" y="111"/>
                </a:cubicBezTo>
                <a:cubicBezTo>
                  <a:pt x="173" y="134"/>
                  <a:pt x="159" y="154"/>
                  <a:pt x="139" y="166"/>
                </a:cubicBezTo>
                <a:cubicBezTo>
                  <a:pt x="127" y="174"/>
                  <a:pt x="113" y="179"/>
                  <a:pt x="99" y="18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8"/>
          <p:cNvSpPr/>
          <p:nvPr/>
        </p:nvSpPr>
        <p:spPr>
          <a:xfrm>
            <a:off x="1549440" y="4678200"/>
            <a:ext cx="1071360" cy="103032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191" h="184">
                <a:moveTo>
                  <a:pt x="99" y="180"/>
                </a:moveTo>
                <a:cubicBezTo>
                  <a:pt x="59" y="184"/>
                  <a:pt x="21" y="159"/>
                  <a:pt x="8" y="122"/>
                </a:cubicBezTo>
                <a:cubicBezTo>
                  <a:pt x="0" y="99"/>
                  <a:pt x="1" y="75"/>
                  <a:pt x="11" y="54"/>
                </a:cubicBezTo>
                <a:cubicBezTo>
                  <a:pt x="21" y="32"/>
                  <a:pt x="39" y="16"/>
                  <a:pt x="61" y="8"/>
                </a:cubicBezTo>
                <a:cubicBezTo>
                  <a:pt x="69" y="6"/>
                  <a:pt x="76" y="4"/>
                  <a:pt x="84" y="3"/>
                </a:cubicBezTo>
                <a:cubicBezTo>
                  <a:pt x="124" y="0"/>
                  <a:pt x="161" y="24"/>
                  <a:pt x="175" y="62"/>
                </a:cubicBezTo>
                <a:cubicBezTo>
                  <a:pt x="191" y="108"/>
                  <a:pt x="167" y="159"/>
                  <a:pt x="121" y="175"/>
                </a:cubicBezTo>
                <a:cubicBezTo>
                  <a:pt x="114" y="178"/>
                  <a:pt x="106" y="180"/>
                  <a:pt x="99" y="18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10"/>
          <p:cNvSpPr/>
          <p:nvPr/>
        </p:nvSpPr>
        <p:spPr>
          <a:xfrm>
            <a:off x="3564000" y="4656240"/>
            <a:ext cx="1020600" cy="99684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182" h="178">
                <a:moveTo>
                  <a:pt x="98" y="177"/>
                </a:moveTo>
                <a:cubicBezTo>
                  <a:pt x="92" y="178"/>
                  <a:pt x="86" y="178"/>
                  <a:pt x="80" y="177"/>
                </a:cubicBezTo>
                <a:cubicBezTo>
                  <a:pt x="56" y="174"/>
                  <a:pt x="35" y="162"/>
                  <a:pt x="21" y="143"/>
                </a:cubicBezTo>
                <a:cubicBezTo>
                  <a:pt x="6" y="125"/>
                  <a:pt x="0" y="101"/>
                  <a:pt x="3" y="78"/>
                </a:cubicBezTo>
                <a:cubicBezTo>
                  <a:pt x="8" y="36"/>
                  <a:pt x="42" y="4"/>
                  <a:pt x="83" y="0"/>
                </a:cubicBezTo>
                <a:cubicBezTo>
                  <a:pt x="89" y="0"/>
                  <a:pt x="96" y="0"/>
                  <a:pt x="102" y="1"/>
                </a:cubicBezTo>
                <a:cubicBezTo>
                  <a:pt x="125" y="3"/>
                  <a:pt x="146" y="15"/>
                  <a:pt x="161" y="34"/>
                </a:cubicBezTo>
                <a:cubicBezTo>
                  <a:pt x="175" y="53"/>
                  <a:pt x="182" y="76"/>
                  <a:pt x="179" y="100"/>
                </a:cubicBezTo>
                <a:cubicBezTo>
                  <a:pt x="174" y="141"/>
                  <a:pt x="140" y="174"/>
                  <a:pt x="98" y="177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12"/>
          <p:cNvSpPr/>
          <p:nvPr/>
        </p:nvSpPr>
        <p:spPr>
          <a:xfrm>
            <a:off x="3889440" y="2676600"/>
            <a:ext cx="1076400" cy="100332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92" h="179">
                <a:moveTo>
                  <a:pt x="108" y="178"/>
                </a:moveTo>
                <a:cubicBezTo>
                  <a:pt x="94" y="179"/>
                  <a:pt x="81" y="177"/>
                  <a:pt x="68" y="172"/>
                </a:cubicBezTo>
                <a:cubicBezTo>
                  <a:pt x="22" y="154"/>
                  <a:pt x="0" y="102"/>
                  <a:pt x="18" y="56"/>
                </a:cubicBezTo>
                <a:cubicBezTo>
                  <a:pt x="31" y="25"/>
                  <a:pt x="60" y="4"/>
                  <a:pt x="94" y="1"/>
                </a:cubicBezTo>
                <a:cubicBezTo>
                  <a:pt x="107" y="0"/>
                  <a:pt x="121" y="2"/>
                  <a:pt x="134" y="7"/>
                </a:cubicBezTo>
                <a:cubicBezTo>
                  <a:pt x="156" y="16"/>
                  <a:pt x="173" y="33"/>
                  <a:pt x="182" y="54"/>
                </a:cubicBezTo>
                <a:cubicBezTo>
                  <a:pt x="192" y="76"/>
                  <a:pt x="192" y="100"/>
                  <a:pt x="183" y="122"/>
                </a:cubicBezTo>
                <a:cubicBezTo>
                  <a:pt x="171" y="154"/>
                  <a:pt x="142" y="175"/>
                  <a:pt x="108" y="178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14"/>
          <p:cNvSpPr/>
          <p:nvPr/>
        </p:nvSpPr>
        <p:spPr>
          <a:xfrm>
            <a:off x="2413080" y="1566720"/>
            <a:ext cx="1071360" cy="101448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91" h="181">
                <a:moveTo>
                  <a:pt x="107" y="179"/>
                </a:moveTo>
                <a:cubicBezTo>
                  <a:pt x="86" y="181"/>
                  <a:pt x="64" y="174"/>
                  <a:pt x="47" y="161"/>
                </a:cubicBezTo>
                <a:cubicBezTo>
                  <a:pt x="8" y="132"/>
                  <a:pt x="0" y="76"/>
                  <a:pt x="29" y="37"/>
                </a:cubicBezTo>
                <a:cubicBezTo>
                  <a:pt x="44" y="17"/>
                  <a:pt x="67" y="4"/>
                  <a:pt x="93" y="2"/>
                </a:cubicBezTo>
                <a:cubicBezTo>
                  <a:pt x="114" y="0"/>
                  <a:pt x="136" y="6"/>
                  <a:pt x="153" y="19"/>
                </a:cubicBezTo>
                <a:cubicBezTo>
                  <a:pt x="172" y="33"/>
                  <a:pt x="184" y="54"/>
                  <a:pt x="188" y="78"/>
                </a:cubicBezTo>
                <a:cubicBezTo>
                  <a:pt x="191" y="101"/>
                  <a:pt x="185" y="125"/>
                  <a:pt x="171" y="144"/>
                </a:cubicBezTo>
                <a:cubicBezTo>
                  <a:pt x="156" y="164"/>
                  <a:pt x="133" y="177"/>
                  <a:pt x="107" y="179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Oval 30"/>
          <p:cNvSpPr/>
          <p:nvPr/>
        </p:nvSpPr>
        <p:spPr>
          <a:xfrm>
            <a:off x="6087960" y="3182760"/>
            <a:ext cx="181080" cy="1810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34"/>
          <p:cNvSpPr/>
          <p:nvPr/>
        </p:nvSpPr>
        <p:spPr>
          <a:xfrm>
            <a:off x="6398280" y="30402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35"/>
          <p:cNvSpPr/>
          <p:nvPr/>
        </p:nvSpPr>
        <p:spPr>
          <a:xfrm>
            <a:off x="6316560" y="329580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Oval 31"/>
          <p:cNvSpPr/>
          <p:nvPr/>
        </p:nvSpPr>
        <p:spPr>
          <a:xfrm>
            <a:off x="6087960" y="412596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36"/>
          <p:cNvSpPr/>
          <p:nvPr/>
        </p:nvSpPr>
        <p:spPr>
          <a:xfrm>
            <a:off x="639756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37"/>
          <p:cNvSpPr/>
          <p:nvPr/>
        </p:nvSpPr>
        <p:spPr>
          <a:xfrm>
            <a:off x="6316560" y="424188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Oval 32"/>
          <p:cNvSpPr/>
          <p:nvPr/>
        </p:nvSpPr>
        <p:spPr>
          <a:xfrm>
            <a:off x="6087960" y="5159520"/>
            <a:ext cx="181080" cy="18072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38"/>
          <p:cNvSpPr/>
          <p:nvPr/>
        </p:nvSpPr>
        <p:spPr>
          <a:xfrm>
            <a:off x="6397560" y="5037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39"/>
          <p:cNvSpPr/>
          <p:nvPr/>
        </p:nvSpPr>
        <p:spPr>
          <a:xfrm>
            <a:off x="6316560" y="529272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Oval 33"/>
          <p:cNvSpPr/>
          <p:nvPr/>
        </p:nvSpPr>
        <p:spPr>
          <a:xfrm>
            <a:off x="9001080" y="3166920"/>
            <a:ext cx="181080" cy="17964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40"/>
          <p:cNvSpPr/>
          <p:nvPr/>
        </p:nvSpPr>
        <p:spPr>
          <a:xfrm>
            <a:off x="9384480" y="3033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41"/>
          <p:cNvSpPr/>
          <p:nvPr/>
        </p:nvSpPr>
        <p:spPr>
          <a:xfrm>
            <a:off x="9302760" y="328932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Oval 42"/>
          <p:cNvSpPr/>
          <p:nvPr/>
        </p:nvSpPr>
        <p:spPr>
          <a:xfrm>
            <a:off x="9001080" y="413064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43"/>
          <p:cNvSpPr/>
          <p:nvPr/>
        </p:nvSpPr>
        <p:spPr>
          <a:xfrm>
            <a:off x="938448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44"/>
          <p:cNvSpPr/>
          <p:nvPr/>
        </p:nvSpPr>
        <p:spPr>
          <a:xfrm>
            <a:off x="9302760" y="424188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任意多边形 26"/>
          <p:cNvSpPr/>
          <p:nvPr/>
        </p:nvSpPr>
        <p:spPr>
          <a:xfrm>
            <a:off x="774720" y="2260440"/>
            <a:ext cx="1498680" cy="191772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917720"/>
              <a:gd name="textAreaBottom" fmla="*/ 1918080 h 1917720"/>
            </a:gdLst>
            <a:ahLst/>
            <a:rect l="textAreaLeft" t="textAreaTop" r="textAreaRight" b="textAreaBottom"/>
            <a:pathLst>
              <a:path w="1497650" h="1916827">
                <a:moveTo>
                  <a:pt x="715353" y="734325"/>
                </a:moveTo>
                <a:cubicBezTo>
                  <a:pt x="692154" y="733176"/>
                  <a:pt x="668583" y="733614"/>
                  <a:pt x="644748" y="735715"/>
                </a:cubicBezTo>
                <a:cubicBezTo>
                  <a:pt x="566236" y="741319"/>
                  <a:pt x="493332" y="763735"/>
                  <a:pt x="420428" y="808567"/>
                </a:cubicBezTo>
                <a:cubicBezTo>
                  <a:pt x="308267" y="881418"/>
                  <a:pt x="235363" y="993497"/>
                  <a:pt x="201715" y="1122388"/>
                </a:cubicBezTo>
                <a:cubicBezTo>
                  <a:pt x="173675" y="1251280"/>
                  <a:pt x="196107" y="1385775"/>
                  <a:pt x="269011" y="1497854"/>
                </a:cubicBezTo>
                <a:cubicBezTo>
                  <a:pt x="364348" y="1654765"/>
                  <a:pt x="543804" y="1744428"/>
                  <a:pt x="728869" y="1727616"/>
                </a:cubicBezTo>
                <a:cubicBezTo>
                  <a:pt x="807381" y="1722012"/>
                  <a:pt x="885893" y="1693993"/>
                  <a:pt x="953189" y="1649161"/>
                </a:cubicBezTo>
                <a:cubicBezTo>
                  <a:pt x="1065350" y="1581913"/>
                  <a:pt x="1143862" y="1469834"/>
                  <a:pt x="1171902" y="1340943"/>
                </a:cubicBezTo>
                <a:cubicBezTo>
                  <a:pt x="1205550" y="1212052"/>
                  <a:pt x="1183118" y="1077557"/>
                  <a:pt x="1110214" y="965477"/>
                </a:cubicBezTo>
                <a:cubicBezTo>
                  <a:pt x="1021888" y="828180"/>
                  <a:pt x="877744" y="742370"/>
                  <a:pt x="715353" y="734325"/>
                </a:cubicBezTo>
                <a:close/>
                <a:moveTo>
                  <a:pt x="954212" y="1449"/>
                </a:moveTo>
                <a:cubicBezTo>
                  <a:pt x="1152710" y="10640"/>
                  <a:pt x="1337800" y="63161"/>
                  <a:pt x="1497650" y="147193"/>
                </a:cubicBezTo>
                <a:cubicBezTo>
                  <a:pt x="1267690" y="225624"/>
                  <a:pt x="1099427" y="365678"/>
                  <a:pt x="998469" y="522539"/>
                </a:cubicBezTo>
                <a:cubicBezTo>
                  <a:pt x="976034" y="472119"/>
                  <a:pt x="947990" y="416097"/>
                  <a:pt x="925555" y="365678"/>
                </a:cubicBezTo>
                <a:cubicBezTo>
                  <a:pt x="830205" y="410495"/>
                  <a:pt x="740465" y="472119"/>
                  <a:pt x="661942" y="544947"/>
                </a:cubicBezTo>
                <a:cubicBezTo>
                  <a:pt x="897511" y="533743"/>
                  <a:pt x="1133079" y="645786"/>
                  <a:pt x="1273299" y="864271"/>
                </a:cubicBezTo>
                <a:cubicBezTo>
                  <a:pt x="1475215" y="1183595"/>
                  <a:pt x="1379866" y="1609360"/>
                  <a:pt x="1054556" y="1811038"/>
                </a:cubicBezTo>
                <a:cubicBezTo>
                  <a:pt x="734856" y="2012716"/>
                  <a:pt x="308589" y="1917479"/>
                  <a:pt x="106673" y="1598156"/>
                </a:cubicBezTo>
                <a:cubicBezTo>
                  <a:pt x="-11112" y="1407682"/>
                  <a:pt x="-27938" y="1183595"/>
                  <a:pt x="39367" y="993121"/>
                </a:cubicBezTo>
                <a:cubicBezTo>
                  <a:pt x="168369" y="656991"/>
                  <a:pt x="516114" y="309656"/>
                  <a:pt x="824597" y="158398"/>
                </a:cubicBezTo>
                <a:cubicBezTo>
                  <a:pt x="802161" y="107978"/>
                  <a:pt x="774118" y="57559"/>
                  <a:pt x="751682" y="7139"/>
                </a:cubicBezTo>
                <a:cubicBezTo>
                  <a:pt x="820390" y="136"/>
                  <a:pt x="888046" y="-1614"/>
                  <a:pt x="954212" y="1449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任意多边形 27"/>
          <p:cNvSpPr/>
          <p:nvPr/>
        </p:nvSpPr>
        <p:spPr>
          <a:xfrm>
            <a:off x="882720" y="4167360"/>
            <a:ext cx="1868400" cy="1714320"/>
          </a:xfrm>
          <a:custGeom>
            <a:avLst/>
            <a:gdLst>
              <a:gd name="textAreaLeft" fmla="*/ 0 w 1868400"/>
              <a:gd name="textAreaRight" fmla="*/ 1868760 w 186840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868771" h="1713707">
                <a:moveTo>
                  <a:pt x="1138013" y="527973"/>
                </a:moveTo>
                <a:cubicBezTo>
                  <a:pt x="1093131" y="533573"/>
                  <a:pt x="1053859" y="544772"/>
                  <a:pt x="1008977" y="555970"/>
                </a:cubicBezTo>
                <a:cubicBezTo>
                  <a:pt x="885551" y="600766"/>
                  <a:pt x="784566" y="690356"/>
                  <a:pt x="728463" y="813542"/>
                </a:cubicBezTo>
                <a:cubicBezTo>
                  <a:pt x="672360" y="931130"/>
                  <a:pt x="666750" y="1065515"/>
                  <a:pt x="711632" y="1194301"/>
                </a:cubicBezTo>
                <a:cubicBezTo>
                  <a:pt x="784566" y="1401478"/>
                  <a:pt x="997756" y="1541463"/>
                  <a:pt x="1222168" y="1519066"/>
                </a:cubicBezTo>
                <a:cubicBezTo>
                  <a:pt x="1261440" y="1519066"/>
                  <a:pt x="1306322" y="1507867"/>
                  <a:pt x="1345594" y="1491069"/>
                </a:cubicBezTo>
                <a:cubicBezTo>
                  <a:pt x="1603666" y="1401478"/>
                  <a:pt x="1738313" y="1115909"/>
                  <a:pt x="1648549" y="858337"/>
                </a:cubicBezTo>
                <a:cubicBezTo>
                  <a:pt x="1570005" y="645561"/>
                  <a:pt x="1362425" y="511175"/>
                  <a:pt x="1138013" y="527973"/>
                </a:cubicBezTo>
                <a:close/>
                <a:moveTo>
                  <a:pt x="297254" y="0"/>
                </a:moveTo>
                <a:cubicBezTo>
                  <a:pt x="325297" y="241107"/>
                  <a:pt x="426251" y="431749"/>
                  <a:pt x="555248" y="566320"/>
                </a:cubicBezTo>
                <a:cubicBezTo>
                  <a:pt x="499162" y="583142"/>
                  <a:pt x="443076" y="594356"/>
                  <a:pt x="386991" y="605570"/>
                </a:cubicBezTo>
                <a:cubicBezTo>
                  <a:pt x="409425" y="712106"/>
                  <a:pt x="448685" y="813034"/>
                  <a:pt x="504771" y="902748"/>
                </a:cubicBezTo>
                <a:cubicBezTo>
                  <a:pt x="544031" y="667249"/>
                  <a:pt x="706679" y="465392"/>
                  <a:pt x="947847" y="375678"/>
                </a:cubicBezTo>
                <a:cubicBezTo>
                  <a:pt x="1306795" y="252321"/>
                  <a:pt x="1699394" y="437356"/>
                  <a:pt x="1828391" y="796213"/>
                </a:cubicBezTo>
                <a:cubicBezTo>
                  <a:pt x="1957388" y="1149462"/>
                  <a:pt x="1766697" y="1547568"/>
                  <a:pt x="1407749" y="1670925"/>
                </a:cubicBezTo>
                <a:cubicBezTo>
                  <a:pt x="1200232" y="1749425"/>
                  <a:pt x="975890" y="1715782"/>
                  <a:pt x="807633" y="1603640"/>
                </a:cubicBezTo>
                <a:cubicBezTo>
                  <a:pt x="504771" y="1407390"/>
                  <a:pt x="241168" y="992462"/>
                  <a:pt x="162648" y="656035"/>
                </a:cubicBezTo>
                <a:cubicBezTo>
                  <a:pt x="112171" y="672856"/>
                  <a:pt x="56086" y="684070"/>
                  <a:pt x="0" y="695285"/>
                </a:cubicBezTo>
                <a:cubicBezTo>
                  <a:pt x="33651" y="426142"/>
                  <a:pt x="140214" y="185036"/>
                  <a:pt x="297254" y="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任意多边形 28"/>
          <p:cNvSpPr/>
          <p:nvPr/>
        </p:nvSpPr>
        <p:spPr>
          <a:xfrm>
            <a:off x="2760840" y="4465800"/>
            <a:ext cx="1996920" cy="1596960"/>
          </a:xfrm>
          <a:custGeom>
            <a:avLst/>
            <a:gdLst>
              <a:gd name="textAreaLeft" fmla="*/ 0 w 1996920"/>
              <a:gd name="textAreaRight" fmla="*/ 1997280 w 199692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1997134" h="1596839">
                <a:moveTo>
                  <a:pt x="1268788" y="190313"/>
                </a:moveTo>
                <a:cubicBezTo>
                  <a:pt x="1038836" y="212717"/>
                  <a:pt x="848144" y="391944"/>
                  <a:pt x="820101" y="627179"/>
                </a:cubicBezTo>
                <a:cubicBezTo>
                  <a:pt x="803275" y="755998"/>
                  <a:pt x="836927" y="890419"/>
                  <a:pt x="921055" y="991234"/>
                </a:cubicBezTo>
                <a:cubicBezTo>
                  <a:pt x="999576" y="1097650"/>
                  <a:pt x="1117356" y="1164860"/>
                  <a:pt x="1251962" y="1181662"/>
                </a:cubicBezTo>
                <a:cubicBezTo>
                  <a:pt x="1285614" y="1187263"/>
                  <a:pt x="1319265" y="1187263"/>
                  <a:pt x="1352917" y="1181662"/>
                </a:cubicBezTo>
                <a:cubicBezTo>
                  <a:pt x="1588478" y="1164860"/>
                  <a:pt x="1779170" y="980032"/>
                  <a:pt x="1807212" y="750397"/>
                </a:cubicBezTo>
                <a:cubicBezTo>
                  <a:pt x="1824038" y="615977"/>
                  <a:pt x="1784778" y="487158"/>
                  <a:pt x="1706258" y="380742"/>
                </a:cubicBezTo>
                <a:cubicBezTo>
                  <a:pt x="1622129" y="274326"/>
                  <a:pt x="1504349" y="207116"/>
                  <a:pt x="1375351" y="195914"/>
                </a:cubicBezTo>
                <a:cubicBezTo>
                  <a:pt x="1341700" y="190313"/>
                  <a:pt x="1302439" y="190313"/>
                  <a:pt x="1268788" y="190313"/>
                </a:cubicBezTo>
                <a:close/>
                <a:moveTo>
                  <a:pt x="1257473" y="2231"/>
                </a:moveTo>
                <a:cubicBezTo>
                  <a:pt x="1303032" y="-1426"/>
                  <a:pt x="1349566" y="-637"/>
                  <a:pt x="1396538" y="4968"/>
                </a:cubicBezTo>
                <a:cubicBezTo>
                  <a:pt x="1772313" y="49809"/>
                  <a:pt x="2041525" y="391725"/>
                  <a:pt x="1991048" y="772878"/>
                </a:cubicBezTo>
                <a:cubicBezTo>
                  <a:pt x="1968614" y="991480"/>
                  <a:pt x="1839616" y="1176451"/>
                  <a:pt x="1660141" y="1282949"/>
                </a:cubicBezTo>
                <a:cubicBezTo>
                  <a:pt x="1351669" y="1462315"/>
                  <a:pt x="863722" y="1507156"/>
                  <a:pt x="527207" y="1428684"/>
                </a:cubicBezTo>
                <a:cubicBezTo>
                  <a:pt x="515990" y="1484736"/>
                  <a:pt x="499164" y="1540787"/>
                  <a:pt x="487947" y="1596839"/>
                </a:cubicBezTo>
                <a:cubicBezTo>
                  <a:pt x="257995" y="1439894"/>
                  <a:pt x="95346" y="1238108"/>
                  <a:pt x="0" y="1019505"/>
                </a:cubicBezTo>
                <a:cubicBezTo>
                  <a:pt x="224344" y="1097978"/>
                  <a:pt x="443078" y="1097978"/>
                  <a:pt x="622553" y="1041926"/>
                </a:cubicBezTo>
                <a:cubicBezTo>
                  <a:pt x="611336" y="1097978"/>
                  <a:pt x="594510" y="1154030"/>
                  <a:pt x="583293" y="1204476"/>
                </a:cubicBezTo>
                <a:cubicBezTo>
                  <a:pt x="684248" y="1232502"/>
                  <a:pt x="790811" y="1243713"/>
                  <a:pt x="897374" y="1238108"/>
                </a:cubicBezTo>
                <a:cubicBezTo>
                  <a:pt x="706682" y="1092373"/>
                  <a:pt x="594510" y="856955"/>
                  <a:pt x="628162" y="604722"/>
                </a:cubicBezTo>
                <a:cubicBezTo>
                  <a:pt x="667422" y="271214"/>
                  <a:pt x="938562" y="27826"/>
                  <a:pt x="1257473" y="223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任意多边形 29"/>
          <p:cNvSpPr/>
          <p:nvPr/>
        </p:nvSpPr>
        <p:spPr>
          <a:xfrm>
            <a:off x="3765600" y="2489040"/>
            <a:ext cx="1395360" cy="203688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2036880"/>
              <a:gd name="textAreaBottom" fmla="*/ 2037240 h 2036880"/>
            </a:gdLst>
            <a:ahLst/>
            <a:rect l="textAreaLeft" t="textAreaTop" r="textAreaRight" b="textAreaBottom"/>
            <a:pathLst>
              <a:path w="1394938" h="2037291">
                <a:moveTo>
                  <a:pt x="650367" y="193458"/>
                </a:moveTo>
                <a:cubicBezTo>
                  <a:pt x="459768" y="210273"/>
                  <a:pt x="297198" y="327979"/>
                  <a:pt x="224322" y="501735"/>
                </a:cubicBezTo>
                <a:cubicBezTo>
                  <a:pt x="123416" y="759566"/>
                  <a:pt x="246745" y="1051027"/>
                  <a:pt x="504615" y="1151918"/>
                </a:cubicBezTo>
                <a:cubicBezTo>
                  <a:pt x="577491" y="1179943"/>
                  <a:pt x="650367" y="1191153"/>
                  <a:pt x="728849" y="1185548"/>
                </a:cubicBezTo>
                <a:cubicBezTo>
                  <a:pt x="919448" y="1168733"/>
                  <a:pt x="1082018" y="1051027"/>
                  <a:pt x="1149288" y="871667"/>
                </a:cubicBezTo>
                <a:cubicBezTo>
                  <a:pt x="1199741" y="748356"/>
                  <a:pt x="1199741" y="613835"/>
                  <a:pt x="1143683" y="490525"/>
                </a:cubicBezTo>
                <a:cubicBezTo>
                  <a:pt x="1093230" y="372819"/>
                  <a:pt x="997930" y="277534"/>
                  <a:pt x="874601" y="227088"/>
                </a:cubicBezTo>
                <a:cubicBezTo>
                  <a:pt x="801725" y="199063"/>
                  <a:pt x="723243" y="187853"/>
                  <a:pt x="650367" y="193458"/>
                </a:cubicBezTo>
                <a:close/>
                <a:moveTo>
                  <a:pt x="672738" y="189"/>
                </a:moveTo>
                <a:cubicBezTo>
                  <a:pt x="761989" y="-1912"/>
                  <a:pt x="853170" y="13494"/>
                  <a:pt x="941544" y="48508"/>
                </a:cubicBezTo>
                <a:cubicBezTo>
                  <a:pt x="1149154" y="132541"/>
                  <a:pt x="1295043" y="306210"/>
                  <a:pt x="1351154" y="502287"/>
                </a:cubicBezTo>
                <a:cubicBezTo>
                  <a:pt x="1452153" y="849624"/>
                  <a:pt x="1367987" y="1331413"/>
                  <a:pt x="1205265" y="1633932"/>
                </a:cubicBezTo>
                <a:cubicBezTo>
                  <a:pt x="1255765" y="1661943"/>
                  <a:pt x="1306265" y="1689954"/>
                  <a:pt x="1356765" y="1717965"/>
                </a:cubicBezTo>
                <a:cubicBezTo>
                  <a:pt x="1149154" y="1897236"/>
                  <a:pt x="907877" y="2003678"/>
                  <a:pt x="672212" y="2037291"/>
                </a:cubicBezTo>
                <a:cubicBezTo>
                  <a:pt x="806878" y="1841214"/>
                  <a:pt x="862989" y="1628330"/>
                  <a:pt x="851766" y="1443457"/>
                </a:cubicBezTo>
                <a:cubicBezTo>
                  <a:pt x="902266" y="1471468"/>
                  <a:pt x="952766" y="1499479"/>
                  <a:pt x="1003266" y="1527491"/>
                </a:cubicBezTo>
                <a:cubicBezTo>
                  <a:pt x="1053766" y="1432253"/>
                  <a:pt x="1093043" y="1331413"/>
                  <a:pt x="1115488" y="1230574"/>
                </a:cubicBezTo>
                <a:cubicBezTo>
                  <a:pt x="930322" y="1376231"/>
                  <a:pt x="666600" y="1421049"/>
                  <a:pt x="430935" y="1325811"/>
                </a:cubicBezTo>
                <a:cubicBezTo>
                  <a:pt x="77436" y="1185756"/>
                  <a:pt x="-90897" y="787999"/>
                  <a:pt x="49380" y="435060"/>
                </a:cubicBezTo>
                <a:cubicBezTo>
                  <a:pt x="154588" y="170356"/>
                  <a:pt x="404983" y="6492"/>
                  <a:pt x="672738" y="189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任意多边形 30"/>
          <p:cNvSpPr/>
          <p:nvPr/>
        </p:nvSpPr>
        <p:spPr>
          <a:xfrm>
            <a:off x="2286000" y="1380960"/>
            <a:ext cx="1998720" cy="1381320"/>
          </a:xfrm>
          <a:custGeom>
            <a:avLst/>
            <a:gdLst>
              <a:gd name="textAreaLeft" fmla="*/ 0 w 1998720"/>
              <a:gd name="textAreaRight" fmla="*/ 1999080 w 199872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1998099" h="1379770">
                <a:moveTo>
                  <a:pt x="737451" y="196126"/>
                </a:moveTo>
                <a:cubicBezTo>
                  <a:pt x="707821" y="193411"/>
                  <a:pt x="678017" y="193411"/>
                  <a:pt x="648563" y="196213"/>
                </a:cubicBezTo>
                <a:cubicBezTo>
                  <a:pt x="502696" y="207422"/>
                  <a:pt x="373659" y="280280"/>
                  <a:pt x="289505" y="392370"/>
                </a:cubicBezTo>
                <a:cubicBezTo>
                  <a:pt x="126807" y="610945"/>
                  <a:pt x="171689" y="924797"/>
                  <a:pt x="390490" y="1087327"/>
                </a:cubicBezTo>
                <a:cubicBezTo>
                  <a:pt x="485865" y="1160186"/>
                  <a:pt x="609291" y="1199417"/>
                  <a:pt x="727107" y="1188208"/>
                </a:cubicBezTo>
                <a:cubicBezTo>
                  <a:pt x="872974" y="1176999"/>
                  <a:pt x="1002010" y="1104141"/>
                  <a:pt x="1086165" y="992051"/>
                </a:cubicBezTo>
                <a:cubicBezTo>
                  <a:pt x="1164708" y="885566"/>
                  <a:pt x="1198370" y="751058"/>
                  <a:pt x="1181539" y="622154"/>
                </a:cubicBezTo>
                <a:cubicBezTo>
                  <a:pt x="1159098" y="487647"/>
                  <a:pt x="1091775" y="369952"/>
                  <a:pt x="985180" y="291489"/>
                </a:cubicBezTo>
                <a:cubicBezTo>
                  <a:pt x="913649" y="236846"/>
                  <a:pt x="826339" y="204270"/>
                  <a:pt x="737451" y="196126"/>
                </a:cubicBezTo>
                <a:close/>
                <a:moveTo>
                  <a:pt x="677466" y="112"/>
                </a:moveTo>
                <a:cubicBezTo>
                  <a:pt x="1041916" y="-5496"/>
                  <a:pt x="1484862" y="201984"/>
                  <a:pt x="1737173" y="437501"/>
                </a:cubicBezTo>
                <a:cubicBezTo>
                  <a:pt x="1776422" y="398248"/>
                  <a:pt x="1815670" y="353388"/>
                  <a:pt x="1854919" y="314135"/>
                </a:cubicBezTo>
                <a:cubicBezTo>
                  <a:pt x="1978271" y="560868"/>
                  <a:pt x="2017519" y="818815"/>
                  <a:pt x="1989485" y="1059940"/>
                </a:cubicBezTo>
                <a:cubicBezTo>
                  <a:pt x="1832491" y="874891"/>
                  <a:pt x="1641856" y="768347"/>
                  <a:pt x="1462435" y="729094"/>
                </a:cubicBezTo>
                <a:cubicBezTo>
                  <a:pt x="1501683" y="684234"/>
                  <a:pt x="1540931" y="644981"/>
                  <a:pt x="1580180" y="600120"/>
                </a:cubicBezTo>
                <a:cubicBezTo>
                  <a:pt x="1501683" y="527222"/>
                  <a:pt x="1411972" y="465539"/>
                  <a:pt x="1322262" y="420679"/>
                </a:cubicBezTo>
                <a:cubicBezTo>
                  <a:pt x="1411972" y="639373"/>
                  <a:pt x="1389545" y="897321"/>
                  <a:pt x="1238158" y="1104801"/>
                </a:cubicBezTo>
                <a:cubicBezTo>
                  <a:pt x="1013881" y="1407609"/>
                  <a:pt x="582149" y="1469292"/>
                  <a:pt x="273769" y="1244990"/>
                </a:cubicBezTo>
                <a:cubicBezTo>
                  <a:pt x="-29005" y="1015080"/>
                  <a:pt x="-90681" y="583298"/>
                  <a:pt x="139203" y="280490"/>
                </a:cubicBezTo>
                <a:cubicBezTo>
                  <a:pt x="273769" y="101048"/>
                  <a:pt x="475618" y="5719"/>
                  <a:pt x="677466" y="112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TextBox 16"/>
          <p:cNvSpPr/>
          <p:nvPr/>
        </p:nvSpPr>
        <p:spPr>
          <a:xfrm>
            <a:off x="2592000" y="363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Group 52" descr=""/>
          <p:cNvPicPr/>
          <p:nvPr/>
        </p:nvPicPr>
        <p:blipFill>
          <a:blip r:embed="rId2"/>
          <a:stretch/>
        </p:blipFill>
        <p:spPr>
          <a:xfrm>
            <a:off x="1859040" y="4906800"/>
            <a:ext cx="396720" cy="513000"/>
          </a:xfrm>
          <a:prstGeom prst="rect">
            <a:avLst/>
          </a:prstGeom>
          <a:ln w="0">
            <a:noFill/>
          </a:ln>
        </p:spPr>
      </p:pic>
      <p:pic>
        <p:nvPicPr>
          <p:cNvPr id="991" name="Group 61" descr=""/>
          <p:cNvPicPr/>
          <p:nvPr/>
        </p:nvPicPr>
        <p:blipFill>
          <a:blip r:embed="rId3"/>
          <a:stretch/>
        </p:blipFill>
        <p:spPr>
          <a:xfrm>
            <a:off x="3833640" y="4857840"/>
            <a:ext cx="476280" cy="531720"/>
          </a:xfrm>
          <a:prstGeom prst="rect">
            <a:avLst/>
          </a:prstGeom>
          <a:ln w="0">
            <a:noFill/>
          </a:ln>
        </p:spPr>
      </p:pic>
      <p:pic>
        <p:nvPicPr>
          <p:cNvPr id="992" name="Group 68" descr=""/>
          <p:cNvPicPr/>
          <p:nvPr/>
        </p:nvPicPr>
        <p:blipFill>
          <a:blip r:embed="rId4"/>
          <a:stretch/>
        </p:blipFill>
        <p:spPr>
          <a:xfrm>
            <a:off x="4211640" y="2962440"/>
            <a:ext cx="457200" cy="420480"/>
          </a:xfrm>
          <a:prstGeom prst="rect">
            <a:avLst/>
          </a:prstGeom>
          <a:ln w="0">
            <a:noFill/>
          </a:ln>
        </p:spPr>
      </p:pic>
      <p:sp>
        <p:nvSpPr>
          <p:cNvPr id="993" name="Freeform 33"/>
          <p:cNvSpPr/>
          <p:nvPr/>
        </p:nvSpPr>
        <p:spPr>
          <a:xfrm>
            <a:off x="2746440" y="1882800"/>
            <a:ext cx="458640" cy="314280"/>
          </a:xfrm>
          <a:custGeom>
            <a:avLst/>
            <a:gdLst>
              <a:gd name="textAreaLeft" fmla="*/ 0 w 458640"/>
              <a:gd name="textAreaRight" fmla="*/ 459000 w 4586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328" h="224">
                <a:moveTo>
                  <a:pt x="184" y="224"/>
                </a:moveTo>
                <a:cubicBezTo>
                  <a:pt x="165" y="224"/>
                  <a:pt x="147" y="220"/>
                  <a:pt x="130" y="211"/>
                </a:cubicBezTo>
                <a:cubicBezTo>
                  <a:pt x="118" y="216"/>
                  <a:pt x="105" y="219"/>
                  <a:pt x="92" y="219"/>
                </a:cubicBezTo>
                <a:cubicBezTo>
                  <a:pt x="41" y="219"/>
                  <a:pt x="0" y="178"/>
                  <a:pt x="0" y="127"/>
                </a:cubicBezTo>
                <a:cubicBezTo>
                  <a:pt x="0" y="76"/>
                  <a:pt x="41" y="35"/>
                  <a:pt x="92" y="35"/>
                </a:cubicBezTo>
                <a:cubicBezTo>
                  <a:pt x="95" y="35"/>
                  <a:pt x="99" y="35"/>
                  <a:pt x="102" y="36"/>
                </a:cubicBezTo>
                <a:cubicBezTo>
                  <a:pt x="124" y="13"/>
                  <a:pt x="153" y="0"/>
                  <a:pt x="184" y="0"/>
                </a:cubicBezTo>
                <a:cubicBezTo>
                  <a:pt x="227" y="0"/>
                  <a:pt x="266" y="24"/>
                  <a:pt x="284" y="62"/>
                </a:cubicBezTo>
                <a:cubicBezTo>
                  <a:pt x="311" y="74"/>
                  <a:pt x="328" y="99"/>
                  <a:pt x="328" y="128"/>
                </a:cubicBezTo>
                <a:cubicBezTo>
                  <a:pt x="328" y="168"/>
                  <a:pt x="296" y="200"/>
                  <a:pt x="256" y="200"/>
                </a:cubicBezTo>
                <a:cubicBezTo>
                  <a:pt x="255" y="200"/>
                  <a:pt x="254" y="200"/>
                  <a:pt x="254" y="200"/>
                </a:cubicBezTo>
                <a:cubicBezTo>
                  <a:pt x="234" y="216"/>
                  <a:pt x="209" y="224"/>
                  <a:pt x="184" y="224"/>
                </a:cubicBezTo>
                <a:close/>
                <a:moveTo>
                  <a:pt x="131" y="173"/>
                </a:moveTo>
                <a:cubicBezTo>
                  <a:pt x="140" y="179"/>
                  <a:pt x="140" y="179"/>
                  <a:pt x="140" y="179"/>
                </a:cubicBezTo>
                <a:cubicBezTo>
                  <a:pt x="153" y="188"/>
                  <a:pt x="168" y="192"/>
                  <a:pt x="184" y="192"/>
                </a:cubicBezTo>
                <a:cubicBezTo>
                  <a:pt x="204" y="192"/>
                  <a:pt x="223" y="185"/>
                  <a:pt x="238" y="172"/>
                </a:cubicBezTo>
                <a:cubicBezTo>
                  <a:pt x="243" y="167"/>
                  <a:pt x="243" y="167"/>
                  <a:pt x="243" y="167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3" y="168"/>
                  <a:pt x="254" y="168"/>
                  <a:pt x="256" y="168"/>
                </a:cubicBezTo>
                <a:cubicBezTo>
                  <a:pt x="278" y="168"/>
                  <a:pt x="296" y="150"/>
                  <a:pt x="296" y="128"/>
                </a:cubicBezTo>
                <a:cubicBezTo>
                  <a:pt x="296" y="111"/>
                  <a:pt x="285" y="95"/>
                  <a:pt x="268" y="90"/>
                </a:cubicBezTo>
                <a:cubicBezTo>
                  <a:pt x="261" y="88"/>
                  <a:pt x="261" y="88"/>
                  <a:pt x="261" y="88"/>
                </a:cubicBezTo>
                <a:cubicBezTo>
                  <a:pt x="258" y="81"/>
                  <a:pt x="258" y="81"/>
                  <a:pt x="258" y="81"/>
                </a:cubicBezTo>
                <a:cubicBezTo>
                  <a:pt x="245" y="51"/>
                  <a:pt x="216" y="32"/>
                  <a:pt x="184" y="32"/>
                </a:cubicBezTo>
                <a:cubicBezTo>
                  <a:pt x="159" y="32"/>
                  <a:pt x="137" y="43"/>
                  <a:pt x="121" y="63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01" y="68"/>
                  <a:pt x="96" y="67"/>
                  <a:pt x="92" y="67"/>
                </a:cubicBezTo>
                <a:cubicBezTo>
                  <a:pt x="59" y="67"/>
                  <a:pt x="32" y="94"/>
                  <a:pt x="32" y="127"/>
                </a:cubicBezTo>
                <a:cubicBezTo>
                  <a:pt x="32" y="160"/>
                  <a:pt x="59" y="187"/>
                  <a:pt x="92" y="187"/>
                </a:cubicBezTo>
                <a:cubicBezTo>
                  <a:pt x="103" y="187"/>
                  <a:pt x="113" y="184"/>
                  <a:pt x="123" y="179"/>
                </a:cubicBezTo>
                <a:lnTo>
                  <a:pt x="131" y="1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Group 75" descr=""/>
          <p:cNvPicPr/>
          <p:nvPr/>
        </p:nvPicPr>
        <p:blipFill>
          <a:blip r:embed="rId5"/>
          <a:stretch/>
        </p:blipFill>
        <p:spPr>
          <a:xfrm>
            <a:off x="1231920" y="3267000"/>
            <a:ext cx="468360" cy="469800"/>
          </a:xfrm>
          <a:prstGeom prst="rect">
            <a:avLst/>
          </a:prstGeom>
          <a:ln w="0">
            <a:noFill/>
          </a:ln>
        </p:spPr>
      </p:pic>
      <p:grpSp>
        <p:nvGrpSpPr>
          <p:cNvPr id="995" name="组合 68"/>
          <p:cNvGrpSpPr/>
          <p:nvPr/>
        </p:nvGrpSpPr>
        <p:grpSpPr>
          <a:xfrm>
            <a:off x="6087960" y="1690560"/>
            <a:ext cx="5410440" cy="613800"/>
            <a:chOff x="6087960" y="1690560"/>
            <a:chExt cx="5410440" cy="613800"/>
          </a:xfrm>
        </p:grpSpPr>
        <p:sp>
          <p:nvSpPr>
            <p:cNvPr id="996" name="TextBox 58"/>
            <p:cNvSpPr/>
            <p:nvPr/>
          </p:nvSpPr>
          <p:spPr>
            <a:xfrm>
              <a:off x="6087960" y="1690560"/>
              <a:ext cx="26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Rectangle 59"/>
            <p:cNvSpPr/>
            <p:nvPr/>
          </p:nvSpPr>
          <p:spPr>
            <a:xfrm>
              <a:off x="6087960" y="1997280"/>
              <a:ext cx="541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9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00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3" name="Straight Connector 88"/>
          <p:cNvSpPr/>
          <p:nvPr/>
        </p:nvSpPr>
        <p:spPr>
          <a:xfrm>
            <a:off x="1600200" y="3613320"/>
            <a:ext cx="9077400" cy="61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Oval 89"/>
          <p:cNvSpPr/>
          <p:nvPr/>
        </p:nvSpPr>
        <p:spPr>
          <a:xfrm>
            <a:off x="2401920" y="3529080"/>
            <a:ext cx="1792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Oval 90"/>
          <p:cNvSpPr/>
          <p:nvPr/>
        </p:nvSpPr>
        <p:spPr>
          <a:xfrm>
            <a:off x="385272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Oval 91"/>
          <p:cNvSpPr/>
          <p:nvPr/>
        </p:nvSpPr>
        <p:spPr>
          <a:xfrm>
            <a:off x="5302080" y="352908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Oval 92"/>
          <p:cNvSpPr/>
          <p:nvPr/>
        </p:nvSpPr>
        <p:spPr>
          <a:xfrm>
            <a:off x="673884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Oval 93"/>
          <p:cNvSpPr/>
          <p:nvPr/>
        </p:nvSpPr>
        <p:spPr>
          <a:xfrm>
            <a:off x="8164440" y="351792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Oval 94"/>
          <p:cNvSpPr/>
          <p:nvPr/>
        </p:nvSpPr>
        <p:spPr>
          <a:xfrm>
            <a:off x="9602640" y="353232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traight Connector 95"/>
          <p:cNvSpPr/>
          <p:nvPr/>
        </p:nvSpPr>
        <p:spPr>
          <a:xfrm>
            <a:off x="249228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traight Connector 96"/>
          <p:cNvSpPr/>
          <p:nvPr/>
        </p:nvSpPr>
        <p:spPr>
          <a:xfrm>
            <a:off x="3943440" y="3205080"/>
            <a:ext cx="0" cy="32400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traight Connector 97"/>
          <p:cNvSpPr/>
          <p:nvPr/>
        </p:nvSpPr>
        <p:spPr>
          <a:xfrm>
            <a:off x="539280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traight Connector 98"/>
          <p:cNvSpPr/>
          <p:nvPr/>
        </p:nvSpPr>
        <p:spPr>
          <a:xfrm>
            <a:off x="6829560" y="3205080"/>
            <a:ext cx="0" cy="32400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traight Connector 99"/>
          <p:cNvSpPr/>
          <p:nvPr/>
        </p:nvSpPr>
        <p:spPr>
          <a:xfrm>
            <a:off x="8255160" y="3697200"/>
            <a:ext cx="0" cy="2509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traight Connector 100"/>
          <p:cNvSpPr/>
          <p:nvPr/>
        </p:nvSpPr>
        <p:spPr>
          <a:xfrm>
            <a:off x="9691560" y="3205080"/>
            <a:ext cx="0" cy="32724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6" name="Elbow Connector 101"/>
          <p:cNvCxnSpPr/>
          <p:nvPr/>
        </p:nvCxnSpPr>
        <p:spPr>
          <a:xfrm flipV="1" rot="16200000">
            <a:off x="3443760" y="2165400"/>
            <a:ext cx="506880" cy="4928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7" name="Elbow Connector 102"/>
          <p:cNvCxnSpPr/>
          <p:nvPr/>
        </p:nvCxnSpPr>
        <p:spPr>
          <a:xfrm flipV="1" rot="16200000">
            <a:off x="6360840" y="2204280"/>
            <a:ext cx="506880" cy="41508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8" name="Elbow Connector 103"/>
          <p:cNvCxnSpPr/>
          <p:nvPr/>
        </p:nvCxnSpPr>
        <p:spPr>
          <a:xfrm flipV="1" rot="16200000">
            <a:off x="9245160" y="2212200"/>
            <a:ext cx="506880" cy="3992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9" name="Elbow Connector 104"/>
          <p:cNvCxnSpPr>
            <a:stCxn id="1020" idx="4"/>
          </p:cNvCxnSpPr>
          <p:nvPr/>
        </p:nvCxnSpPr>
        <p:spPr>
          <a:xfrm flipH="1" rot="16200000">
            <a:off x="2348640" y="4632480"/>
            <a:ext cx="572040" cy="28512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1" name="Elbow Connector 105"/>
          <p:cNvCxnSpPr>
            <a:stCxn id="1022" idx="4"/>
          </p:cNvCxnSpPr>
          <p:nvPr/>
        </p:nvCxnSpPr>
        <p:spPr>
          <a:xfrm flipH="1" rot="16200000">
            <a:off x="5251320" y="4630320"/>
            <a:ext cx="572040" cy="2894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3" name="Elbow Connector 106"/>
          <p:cNvCxnSpPr/>
          <p:nvPr/>
        </p:nvCxnSpPr>
        <p:spPr>
          <a:xfrm flipH="1" rot="16200000">
            <a:off x="8110440" y="4633560"/>
            <a:ext cx="572040" cy="28296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grpSp>
        <p:nvGrpSpPr>
          <p:cNvPr id="1024" name="组合 25"/>
          <p:cNvGrpSpPr/>
          <p:nvPr/>
        </p:nvGrpSpPr>
        <p:grpSpPr>
          <a:xfrm>
            <a:off x="9421920" y="2665440"/>
            <a:ext cx="539640" cy="539640"/>
            <a:chOff x="9421920" y="2665440"/>
            <a:chExt cx="539640" cy="539640"/>
          </a:xfrm>
        </p:grpSpPr>
        <p:sp>
          <p:nvSpPr>
            <p:cNvPr id="1025" name="Oval 107"/>
            <p:cNvSpPr/>
            <p:nvPr/>
          </p:nvSpPr>
          <p:spPr>
            <a:xfrm>
              <a:off x="942192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6" name="Group 108" descr=""/>
            <p:cNvPicPr/>
            <p:nvPr/>
          </p:nvPicPr>
          <p:blipFill>
            <a:blip r:embed="rId2"/>
            <a:stretch/>
          </p:blipFill>
          <p:spPr>
            <a:xfrm>
              <a:off x="9533880" y="2780280"/>
              <a:ext cx="310680" cy="28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33"/>
          <p:cNvGrpSpPr/>
          <p:nvPr/>
        </p:nvGrpSpPr>
        <p:grpSpPr>
          <a:xfrm>
            <a:off x="2222640" y="3948120"/>
            <a:ext cx="539640" cy="541440"/>
            <a:chOff x="2222640" y="3948120"/>
            <a:chExt cx="539640" cy="541440"/>
          </a:xfrm>
        </p:grpSpPr>
        <p:sp>
          <p:nvSpPr>
            <p:cNvPr id="1020" name="Oval 114"/>
            <p:cNvSpPr/>
            <p:nvPr/>
          </p:nvSpPr>
          <p:spPr>
            <a:xfrm>
              <a:off x="222264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8" name="Group 115" descr=""/>
            <p:cNvPicPr/>
            <p:nvPr/>
          </p:nvPicPr>
          <p:blipFill>
            <a:blip r:embed="rId3"/>
            <a:stretch/>
          </p:blipFill>
          <p:spPr>
            <a:xfrm>
              <a:off x="2329200" y="4028760"/>
              <a:ext cx="30456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9" name="组合 44"/>
          <p:cNvGrpSpPr/>
          <p:nvPr/>
        </p:nvGrpSpPr>
        <p:grpSpPr>
          <a:xfrm>
            <a:off x="1060560" y="3343320"/>
            <a:ext cx="539640" cy="539640"/>
            <a:chOff x="1060560" y="3343320"/>
            <a:chExt cx="539640" cy="539640"/>
          </a:xfrm>
        </p:grpSpPr>
        <p:sp>
          <p:nvSpPr>
            <p:cNvPr id="1030" name="Oval 121"/>
            <p:cNvSpPr/>
            <p:nvPr/>
          </p:nvSpPr>
          <p:spPr>
            <a:xfrm>
              <a:off x="106056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37"/>
            <p:cNvSpPr/>
            <p:nvPr/>
          </p:nvSpPr>
          <p:spPr>
            <a:xfrm>
              <a:off x="1156680" y="3427200"/>
              <a:ext cx="329400" cy="32724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327240"/>
                <a:gd name="textAreaBottom" fmla="*/ 327240 h 327240"/>
              </a:gdLst>
              <a:ahLst/>
              <a:rect l="textAreaLeft" t="textAreaTop" r="textAreaRight" b="textAreaBottom"/>
              <a:pathLst>
                <a:path w="204" h="203">
                  <a:moveTo>
                    <a:pt x="191" y="132"/>
                  </a:moveTo>
                  <a:cubicBezTo>
                    <a:pt x="181" y="115"/>
                    <a:pt x="126" y="97"/>
                    <a:pt x="122" y="96"/>
                  </a:cubicBezTo>
                  <a:cubicBezTo>
                    <a:pt x="121" y="96"/>
                    <a:pt x="110" y="93"/>
                    <a:pt x="115" y="87"/>
                  </a:cubicBezTo>
                  <a:cubicBezTo>
                    <a:pt x="124" y="79"/>
                    <a:pt x="130" y="67"/>
                    <a:pt x="131" y="57"/>
                  </a:cubicBezTo>
                  <a:cubicBezTo>
                    <a:pt x="131" y="56"/>
                    <a:pt x="132" y="56"/>
                    <a:pt x="132" y="56"/>
                  </a:cubicBezTo>
                  <a:cubicBezTo>
                    <a:pt x="132" y="56"/>
                    <a:pt x="134" y="50"/>
                    <a:pt x="134" y="41"/>
                  </a:cubicBezTo>
                  <a:cubicBezTo>
                    <a:pt x="134" y="38"/>
                    <a:pt x="134" y="35"/>
                    <a:pt x="134" y="32"/>
                  </a:cubicBezTo>
                  <a:cubicBezTo>
                    <a:pt x="134" y="32"/>
                    <a:pt x="130" y="8"/>
                    <a:pt x="109" y="4"/>
                  </a:cubicBezTo>
                  <a:cubicBezTo>
                    <a:pt x="109" y="4"/>
                    <a:pt x="91" y="0"/>
                    <a:pt x="80" y="7"/>
                  </a:cubicBezTo>
                  <a:cubicBezTo>
                    <a:pt x="67" y="12"/>
                    <a:pt x="65" y="23"/>
                    <a:pt x="65" y="23"/>
                  </a:cubicBezTo>
                  <a:cubicBezTo>
                    <a:pt x="61" y="28"/>
                    <a:pt x="61" y="34"/>
                    <a:pt x="61" y="39"/>
                  </a:cubicBezTo>
                  <a:cubicBezTo>
                    <a:pt x="61" y="47"/>
                    <a:pt x="63" y="54"/>
                    <a:pt x="63" y="54"/>
                  </a:cubicBezTo>
                  <a:cubicBezTo>
                    <a:pt x="64" y="54"/>
                    <a:pt x="64" y="54"/>
                    <a:pt x="65" y="55"/>
                  </a:cubicBezTo>
                  <a:cubicBezTo>
                    <a:pt x="65" y="67"/>
                    <a:pt x="72" y="80"/>
                    <a:pt x="81" y="88"/>
                  </a:cubicBezTo>
                  <a:cubicBezTo>
                    <a:pt x="83" y="89"/>
                    <a:pt x="81" y="93"/>
                    <a:pt x="76" y="95"/>
                  </a:cubicBezTo>
                  <a:cubicBezTo>
                    <a:pt x="71" y="97"/>
                    <a:pt x="59" y="102"/>
                    <a:pt x="47" y="108"/>
                  </a:cubicBezTo>
                  <a:cubicBezTo>
                    <a:pt x="35" y="114"/>
                    <a:pt x="23" y="120"/>
                    <a:pt x="19" y="124"/>
                  </a:cubicBezTo>
                  <a:cubicBezTo>
                    <a:pt x="9" y="133"/>
                    <a:pt x="0" y="159"/>
                    <a:pt x="8" y="170"/>
                  </a:cubicBezTo>
                  <a:cubicBezTo>
                    <a:pt x="58" y="194"/>
                    <a:pt x="137" y="203"/>
                    <a:pt x="200" y="169"/>
                  </a:cubicBezTo>
                  <a:cubicBezTo>
                    <a:pt x="204" y="160"/>
                    <a:pt x="196" y="140"/>
                    <a:pt x="191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2" name="组合 47"/>
          <p:cNvGrpSpPr/>
          <p:nvPr/>
        </p:nvGrpSpPr>
        <p:grpSpPr>
          <a:xfrm>
            <a:off x="10574280" y="3343320"/>
            <a:ext cx="539640" cy="539640"/>
            <a:chOff x="10574280" y="3343320"/>
            <a:chExt cx="539640" cy="539640"/>
          </a:xfrm>
        </p:grpSpPr>
        <p:sp>
          <p:nvSpPr>
            <p:cNvPr id="1033" name="Oval 123"/>
            <p:cNvSpPr/>
            <p:nvPr/>
          </p:nvSpPr>
          <p:spPr>
            <a:xfrm>
              <a:off x="1057428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4" name="Group 124"/>
            <p:cNvGrpSpPr/>
            <p:nvPr/>
          </p:nvGrpSpPr>
          <p:grpSpPr>
            <a:xfrm>
              <a:off x="10674000" y="3394080"/>
              <a:ext cx="339840" cy="395640"/>
              <a:chOff x="10674000" y="3394080"/>
              <a:chExt cx="339840" cy="395640"/>
            </a:xfrm>
          </p:grpSpPr>
          <p:sp>
            <p:nvSpPr>
              <p:cNvPr id="1035" name="Freeform 41"/>
              <p:cNvSpPr/>
              <p:nvPr/>
            </p:nvSpPr>
            <p:spPr>
              <a:xfrm>
                <a:off x="10717200" y="3394080"/>
                <a:ext cx="296640" cy="27900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279000"/>
                  <a:gd name="textAreaBottom" fmla="*/ 279360 h 279000"/>
                </a:gdLst>
                <a:ahLst/>
                <a:rect l="textAreaLeft" t="textAreaTop" r="textAreaRight" b="textAreaBottom"/>
                <a:pathLst>
                  <a:path w="150" h="142">
                    <a:moveTo>
                      <a:pt x="99" y="21"/>
                    </a:moveTo>
                    <a:cubicBezTo>
                      <a:pt x="83" y="0"/>
                      <a:pt x="47" y="80"/>
                      <a:pt x="0" y="54"/>
                    </a:cubicBezTo>
                    <a:cubicBezTo>
                      <a:pt x="17" y="93"/>
                      <a:pt x="26" y="111"/>
                      <a:pt x="32" y="127"/>
                    </a:cubicBezTo>
                    <a:cubicBezTo>
                      <a:pt x="69" y="142"/>
                      <a:pt x="104" y="63"/>
                      <a:pt x="150" y="77"/>
                    </a:cubicBezTo>
                    <a:cubicBezTo>
                      <a:pt x="140" y="46"/>
                      <a:pt x="117" y="45"/>
                      <a:pt x="99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42"/>
              <p:cNvSpPr/>
              <p:nvPr/>
            </p:nvSpPr>
            <p:spPr>
              <a:xfrm>
                <a:off x="10693440" y="3506400"/>
                <a:ext cx="136080" cy="28332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166" h="345">
                    <a:moveTo>
                      <a:pt x="0" y="7"/>
                    </a:moveTo>
                    <a:lnTo>
                      <a:pt x="147" y="345"/>
                    </a:lnTo>
                    <a:lnTo>
                      <a:pt x="166" y="335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43"/>
              <p:cNvSpPr/>
              <p:nvPr/>
            </p:nvSpPr>
            <p:spPr>
              <a:xfrm>
                <a:off x="10674000" y="3468600"/>
                <a:ext cx="36000" cy="374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7" y="6"/>
                    </a:moveTo>
                    <a:cubicBezTo>
                      <a:pt x="15" y="2"/>
                      <a:pt x="10" y="0"/>
                      <a:pt x="6" y="2"/>
                    </a:cubicBezTo>
                    <a:cubicBezTo>
                      <a:pt x="2" y="4"/>
                      <a:pt x="0" y="9"/>
                      <a:pt x="2" y="13"/>
                    </a:cubicBezTo>
                    <a:cubicBezTo>
                      <a:pt x="4" y="17"/>
                      <a:pt x="9" y="19"/>
                      <a:pt x="13" y="17"/>
                    </a:cubicBezTo>
                    <a:cubicBezTo>
                      <a:pt x="17" y="15"/>
                      <a:pt x="18" y="10"/>
                      <a:pt x="17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8" name="组合 53"/>
          <p:cNvGrpSpPr/>
          <p:nvPr/>
        </p:nvGrpSpPr>
        <p:grpSpPr>
          <a:xfrm>
            <a:off x="3673440" y="2665440"/>
            <a:ext cx="539640" cy="539640"/>
            <a:chOff x="3673440" y="2665440"/>
            <a:chExt cx="539640" cy="539640"/>
          </a:xfrm>
        </p:grpSpPr>
        <p:sp>
          <p:nvSpPr>
            <p:cNvPr id="1039" name="Oval 128"/>
            <p:cNvSpPr/>
            <p:nvPr/>
          </p:nvSpPr>
          <p:spPr>
            <a:xfrm>
              <a:off x="367344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0" name="Group 129"/>
            <p:cNvGrpSpPr/>
            <p:nvPr/>
          </p:nvGrpSpPr>
          <p:grpSpPr>
            <a:xfrm>
              <a:off x="3782880" y="2816280"/>
              <a:ext cx="334080" cy="274320"/>
              <a:chOff x="3782880" y="2816280"/>
              <a:chExt cx="334080" cy="274320"/>
            </a:xfrm>
          </p:grpSpPr>
          <p:sp>
            <p:nvSpPr>
              <p:cNvPr id="1041" name="Freeform 47"/>
              <p:cNvSpPr/>
              <p:nvPr/>
            </p:nvSpPr>
            <p:spPr>
              <a:xfrm>
                <a:off x="3805920" y="2832840"/>
                <a:ext cx="261000" cy="257760"/>
              </a:xfrm>
              <a:custGeom>
                <a:avLst/>
                <a:gdLst>
                  <a:gd name="textAreaLeft" fmla="*/ 0 w 261000"/>
                  <a:gd name="textAreaRight" fmla="*/ 261360 w 261000"/>
                  <a:gd name="textAreaTop" fmla="*/ 0 h 257760"/>
                  <a:gd name="textAreaBottom" fmla="*/ 258120 h 257760"/>
                </a:gdLst>
                <a:ahLst/>
                <a:rect l="textAreaLeft" t="textAreaTop" r="textAreaRight" b="textAreaBottom"/>
                <a:pathLst>
                  <a:path w="152" h="149">
                    <a:moveTo>
                      <a:pt x="0" y="55"/>
                    </a:move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60"/>
                      <a:pt x="46" y="60"/>
                      <a:pt x="46" y="60"/>
                    </a:cubicBezTo>
                    <a:cubicBezTo>
                      <a:pt x="46" y="66"/>
                      <a:pt x="50" y="72"/>
                      <a:pt x="55" y="74"/>
                    </a:cubicBezTo>
                    <a:cubicBezTo>
                      <a:pt x="41" y="100"/>
                      <a:pt x="24" y="129"/>
                      <a:pt x="20" y="138"/>
                    </a:cubicBezTo>
                    <a:cubicBezTo>
                      <a:pt x="19" y="138"/>
                      <a:pt x="19" y="138"/>
                      <a:pt x="19" y="138"/>
                    </a:cubicBezTo>
                    <a:cubicBezTo>
                      <a:pt x="16" y="138"/>
                      <a:pt x="14" y="140"/>
                      <a:pt x="14" y="143"/>
                    </a:cubicBezTo>
                    <a:cubicBezTo>
                      <a:pt x="14" y="146"/>
                      <a:pt x="16" y="149"/>
                      <a:pt x="19" y="149"/>
                    </a:cubicBezTo>
                    <a:cubicBezTo>
                      <a:pt x="29" y="149"/>
                      <a:pt x="29" y="149"/>
                      <a:pt x="29" y="149"/>
                    </a:cubicBezTo>
                    <a:cubicBezTo>
                      <a:pt x="32" y="149"/>
                      <a:pt x="35" y="146"/>
                      <a:pt x="35" y="143"/>
                    </a:cubicBezTo>
                    <a:cubicBezTo>
                      <a:pt x="35" y="141"/>
                      <a:pt x="33" y="139"/>
                      <a:pt x="30" y="138"/>
                    </a:cubicBezTo>
                    <a:cubicBezTo>
                      <a:pt x="67" y="75"/>
                      <a:pt x="67" y="75"/>
                      <a:pt x="67" y="75"/>
                    </a:cubicBezTo>
                    <a:cubicBezTo>
                      <a:pt x="68" y="75"/>
                      <a:pt x="68" y="75"/>
                      <a:pt x="68" y="75"/>
                    </a:cubicBezTo>
                    <a:cubicBezTo>
                      <a:pt x="97" y="139"/>
                      <a:pt x="97" y="139"/>
                      <a:pt x="97" y="139"/>
                    </a:cubicBezTo>
                    <a:cubicBezTo>
                      <a:pt x="95" y="140"/>
                      <a:pt x="93" y="141"/>
                      <a:pt x="93" y="144"/>
                    </a:cubicBezTo>
                    <a:cubicBezTo>
                      <a:pt x="93" y="146"/>
                      <a:pt x="96" y="149"/>
                      <a:pt x="99" y="149"/>
                    </a:cubicBezTo>
                    <a:cubicBezTo>
                      <a:pt x="109" y="149"/>
                      <a:pt x="109" y="149"/>
                      <a:pt x="109" y="149"/>
                    </a:cubicBezTo>
                    <a:cubicBezTo>
                      <a:pt x="112" y="149"/>
                      <a:pt x="115" y="146"/>
                      <a:pt x="115" y="144"/>
                    </a:cubicBezTo>
                    <a:cubicBezTo>
                      <a:pt x="115" y="141"/>
                      <a:pt x="113" y="139"/>
                      <a:pt x="110" y="138"/>
                    </a:cubicBezTo>
                    <a:cubicBezTo>
                      <a:pt x="79" y="73"/>
                      <a:pt x="79" y="73"/>
                      <a:pt x="79" y="73"/>
                    </a:cubicBezTo>
                    <a:cubicBezTo>
                      <a:pt x="82" y="71"/>
                      <a:pt x="85" y="67"/>
                      <a:pt x="86" y="63"/>
                    </a:cubicBezTo>
                    <a:cubicBezTo>
                      <a:pt x="152" y="69"/>
                      <a:pt x="152" y="69"/>
                      <a:pt x="152" y="69"/>
                    </a:cubicBezTo>
                    <a:cubicBezTo>
                      <a:pt x="152" y="0"/>
                      <a:pt x="152" y="0"/>
                      <a:pt x="152" y="0"/>
                    </a:cubicBezTo>
                    <a:cubicBezTo>
                      <a:pt x="0" y="26"/>
                      <a:pt x="0" y="26"/>
                      <a:pt x="0" y="26"/>
                    </a:cubicBez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48"/>
              <p:cNvSpPr/>
              <p:nvPr/>
            </p:nvSpPr>
            <p:spPr>
              <a:xfrm>
                <a:off x="4076280" y="2816280"/>
                <a:ext cx="40680" cy="1526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4" h="89">
                    <a:moveTo>
                      <a:pt x="12" y="0"/>
                    </a:moveTo>
                    <a:cubicBezTo>
                      <a:pt x="6" y="0"/>
                      <a:pt x="0" y="6"/>
                      <a:pt x="0" y="12"/>
                    </a:cubicBezTo>
                    <a:cubicBezTo>
                      <a:pt x="0" y="77"/>
                      <a:pt x="0" y="77"/>
                      <a:pt x="0" y="77"/>
                    </a:cubicBezTo>
                    <a:cubicBezTo>
                      <a:pt x="0" y="84"/>
                      <a:pt x="6" y="89"/>
                      <a:pt x="12" y="89"/>
                    </a:cubicBezTo>
                    <a:cubicBezTo>
                      <a:pt x="19" y="89"/>
                      <a:pt x="24" y="84"/>
                      <a:pt x="24" y="77"/>
                    </a:cubicBezTo>
                    <a:cubicBezTo>
                      <a:pt x="24" y="12"/>
                      <a:pt x="24" y="12"/>
                      <a:pt x="24" y="12"/>
                    </a:cubicBezTo>
                    <a:cubicBezTo>
                      <a:pt x="24" y="6"/>
                      <a:pt x="19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49"/>
              <p:cNvSpPr/>
              <p:nvPr/>
            </p:nvSpPr>
            <p:spPr>
              <a:xfrm>
                <a:off x="3782880" y="2876040"/>
                <a:ext cx="14040" cy="550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8" h="32">
                    <a:moveTo>
                      <a:pt x="4" y="0"/>
                    </a:moveTo>
                    <a:cubicBezTo>
                      <a:pt x="2" y="0"/>
                      <a:pt x="0" y="2"/>
                      <a:pt x="0" y="4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30"/>
                      <a:pt x="2" y="32"/>
                      <a:pt x="4" y="32"/>
                    </a:cubicBezTo>
                    <a:cubicBezTo>
                      <a:pt x="7" y="32"/>
                      <a:pt x="8" y="30"/>
                      <a:pt x="8" y="28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2"/>
                      <a:pt x="7" y="0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4" name="组合 59"/>
          <p:cNvGrpSpPr/>
          <p:nvPr/>
        </p:nvGrpSpPr>
        <p:grpSpPr>
          <a:xfrm>
            <a:off x="6559560" y="2665440"/>
            <a:ext cx="539640" cy="539640"/>
            <a:chOff x="6559560" y="2665440"/>
            <a:chExt cx="539640" cy="539640"/>
          </a:xfrm>
        </p:grpSpPr>
        <p:sp>
          <p:nvSpPr>
            <p:cNvPr id="1045" name="Oval 133"/>
            <p:cNvSpPr/>
            <p:nvPr/>
          </p:nvSpPr>
          <p:spPr>
            <a:xfrm>
              <a:off x="655956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6" name="Group 134" descr=""/>
            <p:cNvPicPr/>
            <p:nvPr/>
          </p:nvPicPr>
          <p:blipFill>
            <a:blip r:embed="rId4"/>
            <a:stretch/>
          </p:blipFill>
          <p:spPr>
            <a:xfrm>
              <a:off x="6626160" y="2786400"/>
              <a:ext cx="426600" cy="28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7" name="组合 65"/>
          <p:cNvGrpSpPr/>
          <p:nvPr/>
        </p:nvGrpSpPr>
        <p:grpSpPr>
          <a:xfrm>
            <a:off x="7985160" y="3948120"/>
            <a:ext cx="539640" cy="541440"/>
            <a:chOff x="7985160" y="3948120"/>
            <a:chExt cx="539640" cy="541440"/>
          </a:xfrm>
        </p:grpSpPr>
        <p:sp>
          <p:nvSpPr>
            <p:cNvPr id="1048" name="Oval 138"/>
            <p:cNvSpPr/>
            <p:nvPr/>
          </p:nvSpPr>
          <p:spPr>
            <a:xfrm>
              <a:off x="798516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9" name="Group 139" descr=""/>
            <p:cNvPicPr/>
            <p:nvPr/>
          </p:nvPicPr>
          <p:blipFill>
            <a:blip r:embed="rId5"/>
            <a:stretch/>
          </p:blipFill>
          <p:spPr>
            <a:xfrm>
              <a:off x="8083080" y="4047120"/>
              <a:ext cx="35964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组合 71"/>
          <p:cNvGrpSpPr/>
          <p:nvPr/>
        </p:nvGrpSpPr>
        <p:grpSpPr>
          <a:xfrm>
            <a:off x="5122800" y="3948120"/>
            <a:ext cx="539640" cy="541440"/>
            <a:chOff x="5122800" y="3948120"/>
            <a:chExt cx="539640" cy="541440"/>
          </a:xfrm>
        </p:grpSpPr>
        <p:sp>
          <p:nvSpPr>
            <p:cNvPr id="1022" name="Oval 143"/>
            <p:cNvSpPr/>
            <p:nvPr/>
          </p:nvSpPr>
          <p:spPr>
            <a:xfrm>
              <a:off x="512280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1" name="Group 144" descr=""/>
            <p:cNvPicPr/>
            <p:nvPr/>
          </p:nvPicPr>
          <p:blipFill>
            <a:blip r:embed="rId6"/>
            <a:stretch/>
          </p:blipFill>
          <p:spPr>
            <a:xfrm>
              <a:off x="5230800" y="4047120"/>
              <a:ext cx="32292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2" name="组合 77"/>
          <p:cNvGrpSpPr/>
          <p:nvPr/>
        </p:nvGrpSpPr>
        <p:grpSpPr>
          <a:xfrm>
            <a:off x="2865600" y="4775040"/>
            <a:ext cx="1974600" cy="786600"/>
            <a:chOff x="2865600" y="4775040"/>
            <a:chExt cx="1974600" cy="786600"/>
          </a:xfrm>
        </p:grpSpPr>
        <p:sp>
          <p:nvSpPr>
            <p:cNvPr id="1053" name="TextBox 28"/>
            <p:cNvSpPr/>
            <p:nvPr/>
          </p:nvSpPr>
          <p:spPr>
            <a:xfrm>
              <a:off x="303372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29"/>
            <p:cNvSpPr/>
            <p:nvPr/>
          </p:nvSpPr>
          <p:spPr>
            <a:xfrm>
              <a:off x="2865600" y="5041440"/>
              <a:ext cx="197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80"/>
          <p:cNvGrpSpPr/>
          <p:nvPr/>
        </p:nvGrpSpPr>
        <p:grpSpPr>
          <a:xfrm>
            <a:off x="5848200" y="4775040"/>
            <a:ext cx="1976760" cy="786600"/>
            <a:chOff x="5848200" y="4775040"/>
            <a:chExt cx="1976760" cy="786600"/>
          </a:xfrm>
        </p:grpSpPr>
        <p:sp>
          <p:nvSpPr>
            <p:cNvPr id="1056" name="TextBox 28"/>
            <p:cNvSpPr/>
            <p:nvPr/>
          </p:nvSpPr>
          <p:spPr>
            <a:xfrm>
              <a:off x="601704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29"/>
            <p:cNvSpPr/>
            <p:nvPr/>
          </p:nvSpPr>
          <p:spPr>
            <a:xfrm>
              <a:off x="5848200" y="5041440"/>
              <a:ext cx="197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83"/>
          <p:cNvGrpSpPr/>
          <p:nvPr/>
        </p:nvGrpSpPr>
        <p:grpSpPr>
          <a:xfrm>
            <a:off x="8742240" y="4775040"/>
            <a:ext cx="1976400" cy="786600"/>
            <a:chOff x="8742240" y="4775040"/>
            <a:chExt cx="1976400" cy="786600"/>
          </a:xfrm>
        </p:grpSpPr>
        <p:sp>
          <p:nvSpPr>
            <p:cNvPr id="1059" name="TextBox 28"/>
            <p:cNvSpPr/>
            <p:nvPr/>
          </p:nvSpPr>
          <p:spPr>
            <a:xfrm>
              <a:off x="891108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29"/>
            <p:cNvSpPr/>
            <p:nvPr/>
          </p:nvSpPr>
          <p:spPr>
            <a:xfrm>
              <a:off x="8742240" y="50414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86"/>
          <p:cNvGrpSpPr/>
          <p:nvPr/>
        </p:nvGrpSpPr>
        <p:grpSpPr>
          <a:xfrm>
            <a:off x="1384200" y="1900080"/>
            <a:ext cx="1974960" cy="786960"/>
            <a:chOff x="1384200" y="1900080"/>
            <a:chExt cx="1974960" cy="786960"/>
          </a:xfrm>
        </p:grpSpPr>
        <p:sp>
          <p:nvSpPr>
            <p:cNvPr id="1062" name="TextBox 28"/>
            <p:cNvSpPr/>
            <p:nvPr/>
          </p:nvSpPr>
          <p:spPr>
            <a:xfrm>
              <a:off x="25221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TextBox 29"/>
            <p:cNvSpPr/>
            <p:nvPr/>
          </p:nvSpPr>
          <p:spPr>
            <a:xfrm>
              <a:off x="1384200" y="2166840"/>
              <a:ext cx="197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4" name="组合 89"/>
          <p:cNvGrpSpPr/>
          <p:nvPr/>
        </p:nvGrpSpPr>
        <p:grpSpPr>
          <a:xfrm>
            <a:off x="4332240" y="1900080"/>
            <a:ext cx="1976400" cy="786960"/>
            <a:chOff x="4332240" y="1900080"/>
            <a:chExt cx="1976400" cy="786960"/>
          </a:xfrm>
        </p:grpSpPr>
        <p:sp>
          <p:nvSpPr>
            <p:cNvPr id="1065" name="TextBox 28"/>
            <p:cNvSpPr/>
            <p:nvPr/>
          </p:nvSpPr>
          <p:spPr>
            <a:xfrm>
              <a:off x="547128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TextBox 29"/>
            <p:cNvSpPr/>
            <p:nvPr/>
          </p:nvSpPr>
          <p:spPr>
            <a:xfrm>
              <a:off x="433224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7" name="组合 92"/>
          <p:cNvGrpSpPr/>
          <p:nvPr/>
        </p:nvGrpSpPr>
        <p:grpSpPr>
          <a:xfrm>
            <a:off x="7310520" y="1900080"/>
            <a:ext cx="1976400" cy="786960"/>
            <a:chOff x="7310520" y="1900080"/>
            <a:chExt cx="1976400" cy="786960"/>
          </a:xfrm>
        </p:grpSpPr>
        <p:sp>
          <p:nvSpPr>
            <p:cNvPr id="1068" name="TextBox 28"/>
            <p:cNvSpPr/>
            <p:nvPr/>
          </p:nvSpPr>
          <p:spPr>
            <a:xfrm>
              <a:off x="84495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Box 29"/>
            <p:cNvSpPr/>
            <p:nvPr/>
          </p:nvSpPr>
          <p:spPr>
            <a:xfrm>
              <a:off x="731052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1071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1072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0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1101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1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32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4" name="矩形 79"/>
          <p:cNvSpPr/>
          <p:nvPr/>
        </p:nvSpPr>
        <p:spPr>
          <a:xfrm>
            <a:off x="1600200" y="2185920"/>
            <a:ext cx="8991720" cy="26146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80"/>
          <p:cNvSpPr/>
          <p:nvPr/>
        </p:nvSpPr>
        <p:spPr>
          <a:xfrm>
            <a:off x="2211480" y="2798640"/>
            <a:ext cx="79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附：无动画版封面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5"/>
          <p:cNvGrpSpPr/>
          <p:nvPr/>
        </p:nvGrpSpPr>
        <p:grpSpPr>
          <a:xfrm>
            <a:off x="3736800" y="968400"/>
            <a:ext cx="4653000" cy="4795560"/>
            <a:chOff x="3736800" y="968400"/>
            <a:chExt cx="4653000" cy="4795560"/>
          </a:xfrm>
        </p:grpSpPr>
        <p:sp>
          <p:nvSpPr>
            <p:cNvPr id="159" name="文本框 70"/>
            <p:cNvSpPr/>
            <p:nvPr/>
          </p:nvSpPr>
          <p:spPr>
            <a:xfrm>
              <a:off x="4856760" y="2026800"/>
              <a:ext cx="2370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71"/>
            <p:cNvSpPr/>
            <p:nvPr/>
          </p:nvSpPr>
          <p:spPr>
            <a:xfrm>
              <a:off x="3736800" y="3849840"/>
              <a:ext cx="465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您的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组合 88"/>
            <p:cNvGrpSpPr/>
            <p:nvPr/>
          </p:nvGrpSpPr>
          <p:grpSpPr>
            <a:xfrm>
              <a:off x="3784320" y="3430440"/>
              <a:ext cx="4597200" cy="79920"/>
              <a:chOff x="3784320" y="3430440"/>
              <a:chExt cx="4597200" cy="79920"/>
            </a:xfrm>
          </p:grpSpPr>
          <p:sp>
            <p:nvSpPr>
              <p:cNvPr id="162" name="椭圆 68"/>
              <p:cNvSpPr/>
              <p:nvPr/>
            </p:nvSpPr>
            <p:spPr>
              <a:xfrm flipV="1">
                <a:off x="6023160" y="343044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直接连接符 72"/>
              <p:cNvSpPr/>
              <p:nvPr/>
            </p:nvSpPr>
            <p:spPr>
              <a:xfrm>
                <a:off x="3784320" y="3458160"/>
                <a:ext cx="20768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直接连接符 87"/>
              <p:cNvSpPr/>
              <p:nvPr/>
            </p:nvSpPr>
            <p:spPr>
              <a:xfrm>
                <a:off x="6272280" y="3458160"/>
                <a:ext cx="21092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5" name="组合 28"/>
            <p:cNvGrpSpPr/>
            <p:nvPr/>
          </p:nvGrpSpPr>
          <p:grpSpPr>
            <a:xfrm>
              <a:off x="3751560" y="968400"/>
              <a:ext cx="4571640" cy="4795560"/>
              <a:chOff x="3751560" y="968400"/>
              <a:chExt cx="4571640" cy="4795560"/>
            </a:xfrm>
          </p:grpSpPr>
          <p:grpSp>
            <p:nvGrpSpPr>
              <p:cNvPr id="166" name="组合 6"/>
              <p:cNvGrpSpPr/>
              <p:nvPr/>
            </p:nvGrpSpPr>
            <p:grpSpPr>
              <a:xfrm>
                <a:off x="3751560" y="968400"/>
                <a:ext cx="4571640" cy="852120"/>
                <a:chOff x="3751560" y="968400"/>
                <a:chExt cx="4571640" cy="852120"/>
              </a:xfrm>
            </p:grpSpPr>
            <p:grpSp>
              <p:nvGrpSpPr>
                <p:cNvPr id="167" name="组合 15"/>
                <p:cNvGrpSpPr/>
                <p:nvPr/>
              </p:nvGrpSpPr>
              <p:grpSpPr>
                <a:xfrm>
                  <a:off x="5172840" y="968400"/>
                  <a:ext cx="1692360" cy="852120"/>
                  <a:chOff x="5172840" y="968400"/>
                  <a:chExt cx="1692360" cy="852120"/>
                </a:xfrm>
              </p:grpSpPr>
              <p:sp>
                <p:nvSpPr>
                  <p:cNvPr id="168" name="菱形 2"/>
                  <p:cNvSpPr/>
                  <p:nvPr/>
                </p:nvSpPr>
                <p:spPr>
                  <a:xfrm>
                    <a:off x="5736960" y="96840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9" name="组合 8"/>
                  <p:cNvGrpSpPr/>
                  <p:nvPr/>
                </p:nvGrpSpPr>
                <p:grpSpPr>
                  <a:xfrm>
                    <a:off x="5172840" y="1538280"/>
                    <a:ext cx="563760" cy="282240"/>
                    <a:chOff x="5172840" y="1538280"/>
                    <a:chExt cx="563760" cy="282240"/>
                  </a:xfrm>
                </p:grpSpPr>
                <p:sp>
                  <p:nvSpPr>
                    <p:cNvPr id="170" name="直接连接符 4"/>
                    <p:cNvSpPr/>
                    <p:nvPr/>
                  </p:nvSpPr>
                  <p:spPr>
                    <a:xfrm flipV="1">
                      <a:off x="51728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直接连接符 7"/>
                    <p:cNvSpPr/>
                    <p:nvPr/>
                  </p:nvSpPr>
                  <p:spPr>
                    <a:xfrm flipH="1" flipV="1">
                      <a:off x="54547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2" name="组合 9"/>
                  <p:cNvGrpSpPr/>
                  <p:nvPr/>
                </p:nvGrpSpPr>
                <p:grpSpPr>
                  <a:xfrm>
                    <a:off x="5736960" y="1538280"/>
                    <a:ext cx="563760" cy="282240"/>
                    <a:chOff x="5736960" y="1538280"/>
                    <a:chExt cx="563760" cy="282240"/>
                  </a:xfrm>
                </p:grpSpPr>
                <p:sp>
                  <p:nvSpPr>
                    <p:cNvPr id="173" name="直接连接符 10"/>
                    <p:cNvSpPr/>
                    <p:nvPr/>
                  </p:nvSpPr>
                  <p:spPr>
                    <a:xfrm flipV="1">
                      <a:off x="573696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4" name="直接连接符 11"/>
                    <p:cNvSpPr/>
                    <p:nvPr/>
                  </p:nvSpPr>
                  <p:spPr>
                    <a:xfrm flipH="1" flipV="1">
                      <a:off x="601884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5" name="组合 12"/>
                  <p:cNvGrpSpPr/>
                  <p:nvPr/>
                </p:nvGrpSpPr>
                <p:grpSpPr>
                  <a:xfrm>
                    <a:off x="6301440" y="1538280"/>
                    <a:ext cx="563760" cy="282240"/>
                    <a:chOff x="6301440" y="1538280"/>
                    <a:chExt cx="563760" cy="282240"/>
                  </a:xfrm>
                </p:grpSpPr>
                <p:sp>
                  <p:nvSpPr>
                    <p:cNvPr id="176" name="直接连接符 13"/>
                    <p:cNvSpPr/>
                    <p:nvPr/>
                  </p:nvSpPr>
                  <p:spPr>
                    <a:xfrm flipV="1">
                      <a:off x="63014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7" name="直接连接符 14"/>
                    <p:cNvSpPr/>
                    <p:nvPr/>
                  </p:nvSpPr>
                  <p:spPr>
                    <a:xfrm flipH="1" flipV="1">
                      <a:off x="65833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78" name="直接连接符 31"/>
                <p:cNvSpPr/>
                <p:nvPr/>
              </p:nvSpPr>
              <p:spPr>
                <a:xfrm>
                  <a:off x="6866280" y="182052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直接连接符 33"/>
                <p:cNvSpPr/>
                <p:nvPr/>
              </p:nvSpPr>
              <p:spPr>
                <a:xfrm>
                  <a:off x="3751560" y="182052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0" name="组合 54"/>
              <p:cNvGrpSpPr/>
              <p:nvPr/>
            </p:nvGrpSpPr>
            <p:grpSpPr>
              <a:xfrm>
                <a:off x="3751560" y="4911840"/>
                <a:ext cx="4571640" cy="852120"/>
                <a:chOff x="3751560" y="4911840"/>
                <a:chExt cx="4571640" cy="852120"/>
              </a:xfrm>
            </p:grpSpPr>
            <p:grpSp>
              <p:nvGrpSpPr>
                <p:cNvPr id="181" name="组合 55"/>
                <p:cNvGrpSpPr/>
                <p:nvPr/>
              </p:nvGrpSpPr>
              <p:grpSpPr>
                <a:xfrm>
                  <a:off x="5172840" y="4911840"/>
                  <a:ext cx="1692360" cy="852120"/>
                  <a:chOff x="5172840" y="4911840"/>
                  <a:chExt cx="1692360" cy="852120"/>
                </a:xfrm>
              </p:grpSpPr>
              <p:sp>
                <p:nvSpPr>
                  <p:cNvPr id="182" name="菱形 58"/>
                  <p:cNvSpPr/>
                  <p:nvPr/>
                </p:nvSpPr>
                <p:spPr>
                  <a:xfrm flipV="1">
                    <a:off x="5736960" y="519372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3" name="组合 59"/>
                  <p:cNvGrpSpPr/>
                  <p:nvPr/>
                </p:nvGrpSpPr>
                <p:grpSpPr>
                  <a:xfrm>
                    <a:off x="5172840" y="4911840"/>
                    <a:ext cx="563760" cy="282240"/>
                    <a:chOff x="5172840" y="4911840"/>
                    <a:chExt cx="563760" cy="282240"/>
                  </a:xfrm>
                </p:grpSpPr>
                <p:sp>
                  <p:nvSpPr>
                    <p:cNvPr id="184" name="直接连接符 66"/>
                    <p:cNvSpPr/>
                    <p:nvPr/>
                  </p:nvSpPr>
                  <p:spPr>
                    <a:xfrm>
                      <a:off x="51728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" name="直接连接符 67"/>
                    <p:cNvSpPr/>
                    <p:nvPr/>
                  </p:nvSpPr>
                  <p:spPr>
                    <a:xfrm flipH="1">
                      <a:off x="54547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6" name="组合 60"/>
                  <p:cNvGrpSpPr/>
                  <p:nvPr/>
                </p:nvGrpSpPr>
                <p:grpSpPr>
                  <a:xfrm>
                    <a:off x="5736960" y="4911840"/>
                    <a:ext cx="563760" cy="282240"/>
                    <a:chOff x="5736960" y="4911840"/>
                    <a:chExt cx="563760" cy="282240"/>
                  </a:xfrm>
                </p:grpSpPr>
                <p:sp>
                  <p:nvSpPr>
                    <p:cNvPr id="187" name="直接连接符 64"/>
                    <p:cNvSpPr/>
                    <p:nvPr/>
                  </p:nvSpPr>
                  <p:spPr>
                    <a:xfrm>
                      <a:off x="573696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直接连接符 65"/>
                    <p:cNvSpPr/>
                    <p:nvPr/>
                  </p:nvSpPr>
                  <p:spPr>
                    <a:xfrm flipH="1">
                      <a:off x="601884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组合 61"/>
                  <p:cNvGrpSpPr/>
                  <p:nvPr/>
                </p:nvGrpSpPr>
                <p:grpSpPr>
                  <a:xfrm>
                    <a:off x="6301440" y="4911840"/>
                    <a:ext cx="563760" cy="282240"/>
                    <a:chOff x="6301440" y="4911840"/>
                    <a:chExt cx="563760" cy="282240"/>
                  </a:xfrm>
                </p:grpSpPr>
                <p:sp>
                  <p:nvSpPr>
                    <p:cNvPr id="190" name="直接连接符 62"/>
                    <p:cNvSpPr/>
                    <p:nvPr/>
                  </p:nvSpPr>
                  <p:spPr>
                    <a:xfrm>
                      <a:off x="63014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直接连接符 63"/>
                    <p:cNvSpPr/>
                    <p:nvPr/>
                  </p:nvSpPr>
                  <p:spPr>
                    <a:xfrm flipH="1">
                      <a:off x="65833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92" name="直接连接符 56"/>
                <p:cNvSpPr/>
                <p:nvPr/>
              </p:nvSpPr>
              <p:spPr>
                <a:xfrm>
                  <a:off x="6866280" y="491184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直接连接符 57"/>
                <p:cNvSpPr/>
                <p:nvPr/>
              </p:nvSpPr>
              <p:spPr>
                <a:xfrm>
                  <a:off x="3751560" y="491184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9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图片 1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0" name="组合 7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201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文本框 7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标志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Freeform 5"/>
          <p:cNvSpPr/>
          <p:nvPr/>
        </p:nvSpPr>
        <p:spPr>
          <a:xfrm>
            <a:off x="6804000" y="3635280"/>
            <a:ext cx="565200" cy="565200"/>
          </a:xfrm>
          <a:custGeom>
            <a:avLst/>
            <a:gdLst>
              <a:gd name="textAreaLeft" fmla="*/ 0 w 565200"/>
              <a:gd name="textAreaRight" fmla="*/ 565560 w 565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20" h="120">
                <a:moveTo>
                  <a:pt x="114" y="18"/>
                </a:moveTo>
                <a:cubicBezTo>
                  <a:pt x="78" y="18"/>
                  <a:pt x="78" y="18"/>
                  <a:pt x="78" y="18"/>
                </a:cubicBezTo>
                <a:cubicBezTo>
                  <a:pt x="78" y="6"/>
                  <a:pt x="78" y="6"/>
                  <a:pt x="78" y="6"/>
                </a:cubicBezTo>
                <a:cubicBezTo>
                  <a:pt x="78" y="3"/>
                  <a:pt x="75" y="0"/>
                  <a:pt x="72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5" y="0"/>
                  <a:pt x="42" y="3"/>
                  <a:pt x="42" y="6"/>
                </a:cubicBezTo>
                <a:cubicBezTo>
                  <a:pt x="42" y="18"/>
                  <a:pt x="42" y="18"/>
                  <a:pt x="42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3" y="18"/>
                  <a:pt x="0" y="21"/>
                  <a:pt x="0" y="2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7"/>
                  <a:pt x="3" y="120"/>
                  <a:pt x="6" y="120"/>
                </a:cubicBezTo>
                <a:cubicBezTo>
                  <a:pt x="114" y="120"/>
                  <a:pt x="114" y="120"/>
                  <a:pt x="114" y="120"/>
                </a:cubicBezTo>
                <a:cubicBezTo>
                  <a:pt x="117" y="120"/>
                  <a:pt x="120" y="117"/>
                  <a:pt x="120" y="114"/>
                </a:cubicBezTo>
                <a:cubicBezTo>
                  <a:pt x="120" y="24"/>
                  <a:pt x="120" y="24"/>
                  <a:pt x="120" y="24"/>
                </a:cubicBezTo>
                <a:cubicBezTo>
                  <a:pt x="120" y="21"/>
                  <a:pt x="117" y="18"/>
                  <a:pt x="114" y="18"/>
                </a:cubicBezTo>
                <a:close/>
                <a:moveTo>
                  <a:pt x="48" y="6"/>
                </a:moveTo>
                <a:cubicBezTo>
                  <a:pt x="72" y="6"/>
                  <a:pt x="72" y="6"/>
                  <a:pt x="72" y="6"/>
                </a:cubicBezTo>
                <a:cubicBezTo>
                  <a:pt x="72" y="18"/>
                  <a:pt x="72" y="18"/>
                  <a:pt x="72" y="18"/>
                </a:cubicBezTo>
                <a:cubicBezTo>
                  <a:pt x="48" y="18"/>
                  <a:pt x="48" y="18"/>
                  <a:pt x="48" y="18"/>
                </a:cubicBezTo>
                <a:lnTo>
                  <a:pt x="48" y="6"/>
                </a:lnTo>
                <a:close/>
                <a:moveTo>
                  <a:pt x="114" y="114"/>
                </a:moveTo>
                <a:cubicBezTo>
                  <a:pt x="6" y="114"/>
                  <a:pt x="6" y="114"/>
                  <a:pt x="6" y="114"/>
                </a:cubicBezTo>
                <a:cubicBezTo>
                  <a:pt x="6" y="54"/>
                  <a:pt x="6" y="54"/>
                  <a:pt x="6" y="54"/>
                </a:cubicBezTo>
                <a:cubicBezTo>
                  <a:pt x="48" y="54"/>
                  <a:pt x="48" y="54"/>
                  <a:pt x="48" y="54"/>
                </a:cubicBezTo>
                <a:cubicBezTo>
                  <a:pt x="48" y="60"/>
                  <a:pt x="48" y="60"/>
                  <a:pt x="48" y="60"/>
                </a:cubicBezTo>
                <a:cubicBezTo>
                  <a:pt x="48" y="63"/>
                  <a:pt x="51" y="66"/>
                  <a:pt x="54" y="66"/>
                </a:cubicBezTo>
                <a:cubicBezTo>
                  <a:pt x="66" y="66"/>
                  <a:pt x="66" y="66"/>
                  <a:pt x="66" y="66"/>
                </a:cubicBezTo>
                <a:cubicBezTo>
                  <a:pt x="69" y="66"/>
                  <a:pt x="72" y="63"/>
                  <a:pt x="72" y="60"/>
                </a:cubicBezTo>
                <a:cubicBezTo>
                  <a:pt x="72" y="54"/>
                  <a:pt x="72" y="54"/>
                  <a:pt x="72" y="54"/>
                </a:cubicBezTo>
                <a:cubicBezTo>
                  <a:pt x="114" y="54"/>
                  <a:pt x="114" y="54"/>
                  <a:pt x="114" y="54"/>
                </a:cubicBezTo>
                <a:lnTo>
                  <a:pt x="114" y="114"/>
                </a:lnTo>
                <a:close/>
                <a:moveTo>
                  <a:pt x="54" y="54"/>
                </a:moveTo>
                <a:cubicBezTo>
                  <a:pt x="66" y="54"/>
                  <a:pt x="66" y="54"/>
                  <a:pt x="66" y="54"/>
                </a:cubicBezTo>
                <a:cubicBezTo>
                  <a:pt x="66" y="60"/>
                  <a:pt x="66" y="60"/>
                  <a:pt x="66" y="60"/>
                </a:cubicBezTo>
                <a:cubicBezTo>
                  <a:pt x="54" y="60"/>
                  <a:pt x="54" y="60"/>
                  <a:pt x="54" y="60"/>
                </a:cubicBezTo>
                <a:lnTo>
                  <a:pt x="54" y="54"/>
                </a:lnTo>
                <a:close/>
                <a:moveTo>
                  <a:pt x="6" y="48"/>
                </a:moveTo>
                <a:cubicBezTo>
                  <a:pt x="6" y="24"/>
                  <a:pt x="6" y="24"/>
                  <a:pt x="6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72" y="24"/>
                  <a:pt x="72" y="24"/>
                  <a:pt x="72" y="24"/>
                </a:cubicBezTo>
                <a:cubicBezTo>
                  <a:pt x="114" y="24"/>
                  <a:pt x="114" y="24"/>
                  <a:pt x="114" y="24"/>
                </a:cubicBezTo>
                <a:cubicBezTo>
                  <a:pt x="114" y="48"/>
                  <a:pt x="114" y="48"/>
                  <a:pt x="114" y="48"/>
                </a:cubicBezTo>
                <a:lnTo>
                  <a:pt x="6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81"/>
          <p:cNvGrpSpPr/>
          <p:nvPr/>
        </p:nvGrpSpPr>
        <p:grpSpPr>
          <a:xfrm>
            <a:off x="5670720" y="2487600"/>
            <a:ext cx="564840" cy="565200"/>
            <a:chOff x="5670720" y="2487600"/>
            <a:chExt cx="564840" cy="565200"/>
          </a:xfrm>
        </p:grpSpPr>
        <p:sp>
          <p:nvSpPr>
            <p:cNvPr id="205" name="Freeform 6"/>
            <p:cNvSpPr/>
            <p:nvPr/>
          </p:nvSpPr>
          <p:spPr>
            <a:xfrm>
              <a:off x="5869440" y="2684520"/>
              <a:ext cx="168840" cy="1710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6" h="36">
                  <a:moveTo>
                    <a:pt x="18" y="0"/>
                  </a:moveTo>
                  <a:cubicBezTo>
                    <a:pt x="16" y="0"/>
                    <a:pt x="15" y="0"/>
                    <a:pt x="13" y="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5" y="7"/>
                    <a:pt x="30" y="12"/>
                    <a:pt x="30" y="18"/>
                  </a:cubicBezTo>
                  <a:cubicBezTo>
                    <a:pt x="30" y="25"/>
                    <a:pt x="25" y="30"/>
                    <a:pt x="18" y="30"/>
                  </a:cubicBezTo>
                  <a:cubicBezTo>
                    <a:pt x="12" y="30"/>
                    <a:pt x="7" y="25"/>
                    <a:pt x="6" y="19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5"/>
                    <a:pt x="0" y="16"/>
                    <a:pt x="0" y="18"/>
                  </a:cubicBezTo>
                  <a:cubicBezTo>
                    <a:pt x="0" y="28"/>
                    <a:pt x="8" y="36"/>
                    <a:pt x="18" y="36"/>
                  </a:cubicBezTo>
                  <a:cubicBezTo>
                    <a:pt x="28" y="36"/>
                    <a:pt x="36" y="28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5670720" y="2487600"/>
              <a:ext cx="296280" cy="29664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63" h="63">
                  <a:moveTo>
                    <a:pt x="62" y="58"/>
                  </a:move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42" y="37"/>
                    <a:pt x="42" y="36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2" y="22"/>
                    <a:pt x="41" y="21"/>
                    <a:pt x="40" y="20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1" y="1"/>
                    <a:pt x="20" y="0"/>
                    <a:pt x="18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3" y="1"/>
                    <a:pt x="12" y="4"/>
                    <a:pt x="12" y="6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4" y="12"/>
                    <a:pt x="1" y="13"/>
                    <a:pt x="0" y="16"/>
                  </a:cubicBezTo>
                  <a:cubicBezTo>
                    <a:pt x="0" y="18"/>
                    <a:pt x="0" y="21"/>
                    <a:pt x="2" y="22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1" y="41"/>
                    <a:pt x="22" y="42"/>
                    <a:pt x="24" y="42"/>
                  </a:cubicBezTo>
                  <a:cubicBezTo>
                    <a:pt x="36" y="42"/>
                    <a:pt x="36" y="42"/>
                    <a:pt x="36" y="42"/>
                  </a:cubicBezTo>
                  <a:cubicBezTo>
                    <a:pt x="37" y="42"/>
                    <a:pt x="37" y="42"/>
                    <a:pt x="37" y="42"/>
                  </a:cubicBezTo>
                  <a:cubicBezTo>
                    <a:pt x="58" y="62"/>
                    <a:pt x="58" y="62"/>
                    <a:pt x="58" y="62"/>
                  </a:cubicBezTo>
                  <a:cubicBezTo>
                    <a:pt x="58" y="63"/>
                    <a:pt x="59" y="63"/>
                    <a:pt x="60" y="63"/>
                  </a:cubicBezTo>
                  <a:cubicBezTo>
                    <a:pt x="61" y="63"/>
                    <a:pt x="62" y="63"/>
                    <a:pt x="62" y="62"/>
                  </a:cubicBezTo>
                  <a:cubicBezTo>
                    <a:pt x="63" y="61"/>
                    <a:pt x="63" y="59"/>
                    <a:pt x="62" y="58"/>
                  </a:cubicBezTo>
                  <a:close/>
                  <a:moveTo>
                    <a:pt x="6" y="18"/>
                  </a:moveTo>
                  <a:cubicBezTo>
                    <a:pt x="18" y="18"/>
                    <a:pt x="18" y="18"/>
                    <a:pt x="18" y="18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24" y="36"/>
                    <a:pt x="24" y="36"/>
                    <a:pt x="24" y="36"/>
                  </a:cubicBez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>
              <a:off x="5770080" y="2586960"/>
              <a:ext cx="366120" cy="36612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78" h="78">
                  <a:moveTo>
                    <a:pt x="39" y="0"/>
                  </a:moveTo>
                  <a:cubicBezTo>
                    <a:pt x="35" y="0"/>
                    <a:pt x="31" y="1"/>
                    <a:pt x="27" y="2"/>
                  </a:cubicBezTo>
                  <a:cubicBezTo>
                    <a:pt x="27" y="2"/>
                    <a:pt x="27" y="3"/>
                    <a:pt x="27" y="3"/>
                  </a:cubicBezTo>
                  <a:cubicBezTo>
                    <a:pt x="27" y="8"/>
                    <a:pt x="27" y="8"/>
                    <a:pt x="27" y="8"/>
                  </a:cubicBezTo>
                  <a:cubicBezTo>
                    <a:pt x="31" y="7"/>
                    <a:pt x="35" y="6"/>
                    <a:pt x="39" y="6"/>
                  </a:cubicBezTo>
                  <a:cubicBezTo>
                    <a:pt x="57" y="6"/>
                    <a:pt x="72" y="21"/>
                    <a:pt x="72" y="39"/>
                  </a:cubicBezTo>
                  <a:cubicBezTo>
                    <a:pt x="72" y="57"/>
                    <a:pt x="57" y="72"/>
                    <a:pt x="39" y="72"/>
                  </a:cubicBezTo>
                  <a:cubicBezTo>
                    <a:pt x="21" y="72"/>
                    <a:pt x="6" y="57"/>
                    <a:pt x="6" y="39"/>
                  </a:cubicBezTo>
                  <a:cubicBezTo>
                    <a:pt x="6" y="35"/>
                    <a:pt x="7" y="31"/>
                    <a:pt x="8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31"/>
                    <a:pt x="0" y="35"/>
                    <a:pt x="0" y="39"/>
                  </a:cubicBezTo>
                  <a:cubicBezTo>
                    <a:pt x="0" y="61"/>
                    <a:pt x="17" y="78"/>
                    <a:pt x="39" y="78"/>
                  </a:cubicBezTo>
                  <a:cubicBezTo>
                    <a:pt x="61" y="78"/>
                    <a:pt x="78" y="61"/>
                    <a:pt x="78" y="39"/>
                  </a:cubicBezTo>
                  <a:cubicBezTo>
                    <a:pt x="78" y="17"/>
                    <a:pt x="61" y="0"/>
                    <a:pt x="3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>
              <a:off x="5670720" y="2487600"/>
              <a:ext cx="564840" cy="56520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20" h="120">
                  <a:moveTo>
                    <a:pt x="60" y="0"/>
                  </a:moveTo>
                  <a:cubicBezTo>
                    <a:pt x="51" y="0"/>
                    <a:pt x="42" y="2"/>
                    <a:pt x="35" y="6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6" y="7"/>
                    <a:pt x="53" y="6"/>
                    <a:pt x="60" y="6"/>
                  </a:cubicBezTo>
                  <a:cubicBezTo>
                    <a:pt x="90" y="6"/>
                    <a:pt x="114" y="30"/>
                    <a:pt x="114" y="60"/>
                  </a:cubicBezTo>
                  <a:cubicBezTo>
                    <a:pt x="114" y="90"/>
                    <a:pt x="90" y="114"/>
                    <a:pt x="60" y="114"/>
                  </a:cubicBezTo>
                  <a:cubicBezTo>
                    <a:pt x="30" y="114"/>
                    <a:pt x="6" y="90"/>
                    <a:pt x="6" y="60"/>
                  </a:cubicBezTo>
                  <a:cubicBezTo>
                    <a:pt x="6" y="53"/>
                    <a:pt x="7" y="46"/>
                    <a:pt x="10" y="39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2" y="42"/>
                    <a:pt x="0" y="51"/>
                    <a:pt x="0" y="60"/>
                  </a:cubicBezTo>
                  <a:cubicBezTo>
                    <a:pt x="0" y="93"/>
                    <a:pt x="27" y="120"/>
                    <a:pt x="60" y="120"/>
                  </a:cubicBezTo>
                  <a:cubicBezTo>
                    <a:pt x="93" y="120"/>
                    <a:pt x="120" y="93"/>
                    <a:pt x="120" y="60"/>
                  </a:cubicBezTo>
                  <a:cubicBezTo>
                    <a:pt x="120" y="27"/>
                    <a:pt x="93" y="0"/>
                    <a:pt x="6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86"/>
          <p:cNvGrpSpPr/>
          <p:nvPr/>
        </p:nvGrpSpPr>
        <p:grpSpPr>
          <a:xfrm>
            <a:off x="3209760" y="2487600"/>
            <a:ext cx="565200" cy="565200"/>
            <a:chOff x="3209760" y="2487600"/>
            <a:chExt cx="565200" cy="565200"/>
          </a:xfrm>
        </p:grpSpPr>
        <p:sp>
          <p:nvSpPr>
            <p:cNvPr id="210" name="Freeform 10"/>
            <p:cNvSpPr/>
            <p:nvPr/>
          </p:nvSpPr>
          <p:spPr>
            <a:xfrm>
              <a:off x="3321000" y="2487600"/>
              <a:ext cx="165240" cy="113400"/>
            </a:xfrm>
            <a:custGeom>
              <a:avLst/>
              <a:gdLst>
                <a:gd name="textAreaLeft" fmla="*/ 0 w 165240"/>
                <a:gd name="textAreaRight" fmla="*/ 165240 w 16524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83" h="57">
                  <a:moveTo>
                    <a:pt x="57" y="19"/>
                  </a:moveTo>
                  <a:lnTo>
                    <a:pt x="71" y="33"/>
                  </a:lnTo>
                  <a:lnTo>
                    <a:pt x="83" y="26"/>
                  </a:lnTo>
                  <a:lnTo>
                    <a:pt x="57" y="0"/>
                  </a:lnTo>
                  <a:lnTo>
                    <a:pt x="0" y="57"/>
                  </a:lnTo>
                  <a:lnTo>
                    <a:pt x="19" y="57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1"/>
            <p:cNvSpPr/>
            <p:nvPr/>
          </p:nvSpPr>
          <p:spPr>
            <a:xfrm>
              <a:off x="3434760" y="2487600"/>
              <a:ext cx="264600" cy="11340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133" h="57">
                  <a:moveTo>
                    <a:pt x="29" y="57"/>
                  </a:moveTo>
                  <a:lnTo>
                    <a:pt x="95" y="19"/>
                  </a:lnTo>
                  <a:lnTo>
                    <a:pt x="116" y="57"/>
                  </a:lnTo>
                  <a:lnTo>
                    <a:pt x="133" y="57"/>
                  </a:lnTo>
                  <a:lnTo>
                    <a:pt x="100" y="0"/>
                  </a:lnTo>
                  <a:lnTo>
                    <a:pt x="0" y="5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2"/>
            <p:cNvSpPr/>
            <p:nvPr/>
          </p:nvSpPr>
          <p:spPr>
            <a:xfrm>
              <a:off x="3209760" y="2628720"/>
              <a:ext cx="565200" cy="42408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20" h="90">
                  <a:moveTo>
                    <a:pt x="114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7"/>
                    <a:pt x="3" y="90"/>
                    <a:pt x="6" y="90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17" y="90"/>
                    <a:pt x="120" y="87"/>
                    <a:pt x="120" y="84"/>
                  </a:cubicBezTo>
                  <a:cubicBezTo>
                    <a:pt x="120" y="6"/>
                    <a:pt x="120" y="6"/>
                    <a:pt x="120" y="6"/>
                  </a:cubicBezTo>
                  <a:cubicBezTo>
                    <a:pt x="120" y="3"/>
                    <a:pt x="117" y="0"/>
                    <a:pt x="114" y="0"/>
                  </a:cubicBezTo>
                  <a:close/>
                  <a:moveTo>
                    <a:pt x="114" y="84"/>
                  </a:moveTo>
                  <a:cubicBezTo>
                    <a:pt x="6" y="84"/>
                    <a:pt x="6" y="84"/>
                    <a:pt x="6" y="8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14" y="6"/>
                    <a:pt x="114" y="6"/>
                    <a:pt x="114" y="6"/>
                  </a:cubicBezTo>
                  <a:cubicBezTo>
                    <a:pt x="114" y="24"/>
                    <a:pt x="114" y="24"/>
                    <a:pt x="114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9" y="24"/>
                    <a:pt x="66" y="27"/>
                    <a:pt x="66" y="30"/>
                  </a:cubicBezTo>
                  <a:cubicBezTo>
                    <a:pt x="66" y="60"/>
                    <a:pt x="66" y="60"/>
                    <a:pt x="66" y="60"/>
                  </a:cubicBezTo>
                  <a:cubicBezTo>
                    <a:pt x="66" y="63"/>
                    <a:pt x="69" y="66"/>
                    <a:pt x="72" y="66"/>
                  </a:cubicBezTo>
                  <a:cubicBezTo>
                    <a:pt x="114" y="66"/>
                    <a:pt x="114" y="66"/>
                    <a:pt x="114" y="66"/>
                  </a:cubicBezTo>
                  <a:lnTo>
                    <a:pt x="114" y="84"/>
                  </a:lnTo>
                  <a:close/>
                  <a:moveTo>
                    <a:pt x="114" y="60"/>
                  </a:moveTo>
                  <a:cubicBezTo>
                    <a:pt x="72" y="60"/>
                    <a:pt x="72" y="60"/>
                    <a:pt x="72" y="60"/>
                  </a:cubicBezTo>
                  <a:cubicBezTo>
                    <a:pt x="72" y="30"/>
                    <a:pt x="72" y="30"/>
                    <a:pt x="72" y="30"/>
                  </a:cubicBezTo>
                  <a:cubicBezTo>
                    <a:pt x="114" y="30"/>
                    <a:pt x="114" y="30"/>
                    <a:pt x="114" y="30"/>
                  </a:cubicBezTo>
                  <a:lnTo>
                    <a:pt x="1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3"/>
            <p:cNvSpPr/>
            <p:nvPr/>
          </p:nvSpPr>
          <p:spPr>
            <a:xfrm>
              <a:off x="3575880" y="279792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91"/>
          <p:cNvGrpSpPr/>
          <p:nvPr/>
        </p:nvGrpSpPr>
        <p:grpSpPr>
          <a:xfrm>
            <a:off x="1978200" y="4782960"/>
            <a:ext cx="479160" cy="568440"/>
            <a:chOff x="1978200" y="4782960"/>
            <a:chExt cx="479160" cy="568440"/>
          </a:xfrm>
        </p:grpSpPr>
        <p:sp>
          <p:nvSpPr>
            <p:cNvPr id="215" name="Freeform 14"/>
            <p:cNvSpPr/>
            <p:nvPr/>
          </p:nvSpPr>
          <p:spPr>
            <a:xfrm>
              <a:off x="1978200" y="4782960"/>
              <a:ext cx="479160" cy="56844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02" h="120">
                  <a:moveTo>
                    <a:pt x="85" y="31"/>
                  </a:moveTo>
                  <a:cubicBezTo>
                    <a:pt x="89" y="26"/>
                    <a:pt x="89" y="26"/>
                    <a:pt x="89" y="26"/>
                  </a:cubicBezTo>
                  <a:cubicBezTo>
                    <a:pt x="85" y="22"/>
                    <a:pt x="85" y="22"/>
                    <a:pt x="85" y="22"/>
                  </a:cubicBezTo>
                  <a:cubicBezTo>
                    <a:pt x="80" y="27"/>
                    <a:pt x="80" y="27"/>
                    <a:pt x="80" y="27"/>
                  </a:cubicBezTo>
                  <a:cubicBezTo>
                    <a:pt x="73" y="22"/>
                    <a:pt x="64" y="19"/>
                    <a:pt x="54" y="18"/>
                  </a:cubicBezTo>
                  <a:cubicBezTo>
                    <a:pt x="54" y="6"/>
                    <a:pt x="54" y="6"/>
                    <a:pt x="54" y="6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5" y="6"/>
                    <a:pt x="66" y="5"/>
                    <a:pt x="66" y="3"/>
                  </a:cubicBezTo>
                  <a:cubicBezTo>
                    <a:pt x="66" y="1"/>
                    <a:pt x="65" y="0"/>
                    <a:pt x="63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6" y="1"/>
                    <a:pt x="36" y="3"/>
                  </a:cubicBezTo>
                  <a:cubicBezTo>
                    <a:pt x="36" y="5"/>
                    <a:pt x="37" y="6"/>
                    <a:pt x="39" y="6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8" y="18"/>
                    <a:pt x="48" y="18"/>
                    <a:pt x="48" y="18"/>
                  </a:cubicBezTo>
                  <a:cubicBezTo>
                    <a:pt x="38" y="19"/>
                    <a:pt x="29" y="22"/>
                    <a:pt x="22" y="27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7" y="41"/>
                    <a:pt x="0" y="54"/>
                    <a:pt x="0" y="69"/>
                  </a:cubicBezTo>
                  <a:cubicBezTo>
                    <a:pt x="0" y="97"/>
                    <a:pt x="23" y="120"/>
                    <a:pt x="51" y="120"/>
                  </a:cubicBezTo>
                  <a:cubicBezTo>
                    <a:pt x="79" y="120"/>
                    <a:pt x="102" y="97"/>
                    <a:pt x="102" y="69"/>
                  </a:cubicBezTo>
                  <a:cubicBezTo>
                    <a:pt x="102" y="54"/>
                    <a:pt x="95" y="41"/>
                    <a:pt x="85" y="31"/>
                  </a:cubicBezTo>
                  <a:close/>
                  <a:moveTo>
                    <a:pt x="51" y="114"/>
                  </a:moveTo>
                  <a:cubicBezTo>
                    <a:pt x="26" y="114"/>
                    <a:pt x="6" y="94"/>
                    <a:pt x="6" y="69"/>
                  </a:cubicBezTo>
                  <a:cubicBezTo>
                    <a:pt x="6" y="44"/>
                    <a:pt x="26" y="24"/>
                    <a:pt x="51" y="24"/>
                  </a:cubicBezTo>
                  <a:cubicBezTo>
                    <a:pt x="76" y="24"/>
                    <a:pt x="96" y="44"/>
                    <a:pt x="96" y="69"/>
                  </a:cubicBezTo>
                  <a:cubicBezTo>
                    <a:pt x="96" y="94"/>
                    <a:pt x="76" y="114"/>
                    <a:pt x="51" y="1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2175120" y="5068080"/>
              <a:ext cx="85320" cy="2253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8" h="48">
                  <a:moveTo>
                    <a:pt x="9" y="0"/>
                  </a:moveTo>
                  <a:cubicBezTo>
                    <a:pt x="4" y="0"/>
                    <a:pt x="0" y="4"/>
                    <a:pt x="0" y="9"/>
                  </a:cubicBezTo>
                  <a:cubicBezTo>
                    <a:pt x="0" y="13"/>
                    <a:pt x="3" y="16"/>
                    <a:pt x="6" y="17"/>
                  </a:cubicBezTo>
                  <a:cubicBezTo>
                    <a:pt x="6" y="48"/>
                    <a:pt x="6" y="48"/>
                    <a:pt x="6" y="48"/>
                  </a:cubicBezTo>
                  <a:cubicBezTo>
                    <a:pt x="12" y="48"/>
                    <a:pt x="12" y="48"/>
                    <a:pt x="12" y="48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5" y="16"/>
                    <a:pt x="18" y="13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lose/>
                  <a:moveTo>
                    <a:pt x="9" y="12"/>
                  </a:move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2218680" y="4926600"/>
              <a:ext cx="182880" cy="3628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2880"/>
                <a:gd name="textAreaBottom" fmla="*/ 362880 h 362880"/>
              </a:gdLst>
              <a:ahLst/>
              <a:rect l="textAreaLeft" t="textAreaTop" r="textAreaRight" b="textAreaBottom"/>
              <a:pathLst>
                <a:path w="39" h="77">
                  <a:moveTo>
                    <a:pt x="0" y="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18" y="6"/>
                    <a:pt x="33" y="21"/>
                    <a:pt x="33" y="39"/>
                  </a:cubicBezTo>
                  <a:cubicBezTo>
                    <a:pt x="33" y="54"/>
                    <a:pt x="23" y="67"/>
                    <a:pt x="9" y="71"/>
                  </a:cubicBezTo>
                  <a:cubicBezTo>
                    <a:pt x="9" y="77"/>
                    <a:pt x="9" y="77"/>
                    <a:pt x="9" y="77"/>
                  </a:cubicBezTo>
                  <a:cubicBezTo>
                    <a:pt x="26" y="73"/>
                    <a:pt x="39" y="57"/>
                    <a:pt x="39" y="39"/>
                  </a:cubicBezTo>
                  <a:cubicBezTo>
                    <a:pt x="39" y="17"/>
                    <a:pt x="22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95"/>
          <p:cNvGrpSpPr/>
          <p:nvPr/>
        </p:nvGrpSpPr>
        <p:grpSpPr>
          <a:xfrm>
            <a:off x="4440240" y="2487600"/>
            <a:ext cx="565200" cy="565200"/>
            <a:chOff x="4440240" y="2487600"/>
            <a:chExt cx="565200" cy="565200"/>
          </a:xfrm>
        </p:grpSpPr>
        <p:sp>
          <p:nvSpPr>
            <p:cNvPr id="219" name="Freeform 17"/>
            <p:cNvSpPr/>
            <p:nvPr/>
          </p:nvSpPr>
          <p:spPr>
            <a:xfrm>
              <a:off x="4440240" y="3025080"/>
              <a:ext cx="565200" cy="27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0" h="6">
                  <a:moveTo>
                    <a:pt x="117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9" y="0"/>
                    <a:pt x="120" y="1"/>
                    <a:pt x="120" y="3"/>
                  </a:cubicBezTo>
                  <a:cubicBezTo>
                    <a:pt x="120" y="5"/>
                    <a:pt x="119" y="6"/>
                    <a:pt x="11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"/>
            <p:cNvSpPr/>
            <p:nvPr/>
          </p:nvSpPr>
          <p:spPr>
            <a:xfrm>
              <a:off x="4469760" y="2797920"/>
              <a:ext cx="83520" cy="1990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8" h="42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9"/>
                    <a:pt x="3" y="42"/>
                    <a:pt x="6" y="42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5" y="42"/>
                    <a:pt x="18" y="39"/>
                    <a:pt x="18" y="3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36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36"/>
                    <a:pt x="12" y="36"/>
                    <a:pt x="12" y="36"/>
                  </a:cubicBez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9"/>
            <p:cNvSpPr/>
            <p:nvPr/>
          </p:nvSpPr>
          <p:spPr>
            <a:xfrm>
              <a:off x="4611240" y="2628720"/>
              <a:ext cx="83520" cy="3682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8" h="78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5"/>
                    <a:pt x="3" y="78"/>
                    <a:pt x="6" y="78"/>
                  </a:cubicBezTo>
                  <a:cubicBezTo>
                    <a:pt x="12" y="78"/>
                    <a:pt x="12" y="78"/>
                    <a:pt x="12" y="78"/>
                  </a:cubicBezTo>
                  <a:cubicBezTo>
                    <a:pt x="15" y="78"/>
                    <a:pt x="18" y="75"/>
                    <a:pt x="18" y="72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72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72"/>
                    <a:pt x="12" y="72"/>
                    <a:pt x="12" y="72"/>
                  </a:cubicBezTo>
                  <a:lnTo>
                    <a:pt x="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0"/>
            <p:cNvSpPr/>
            <p:nvPr/>
          </p:nvSpPr>
          <p:spPr>
            <a:xfrm>
              <a:off x="4752720" y="2684520"/>
              <a:ext cx="83520" cy="3124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60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60"/>
                    <a:pt x="12" y="60"/>
                    <a:pt x="12" y="60"/>
                  </a:cubicBez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4894200" y="2487600"/>
              <a:ext cx="83520" cy="5097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8" h="108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05"/>
                    <a:pt x="3" y="108"/>
                    <a:pt x="6" y="108"/>
                  </a:cubicBezTo>
                  <a:cubicBezTo>
                    <a:pt x="12" y="108"/>
                    <a:pt x="12" y="108"/>
                    <a:pt x="12" y="108"/>
                  </a:cubicBezTo>
                  <a:cubicBezTo>
                    <a:pt x="15" y="108"/>
                    <a:pt x="18" y="105"/>
                    <a:pt x="18" y="102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102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102"/>
                    <a:pt x="12" y="102"/>
                    <a:pt x="12" y="102"/>
                  </a:cubicBezTo>
                  <a:lnTo>
                    <a:pt x="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组合 101"/>
          <p:cNvGrpSpPr/>
          <p:nvPr/>
        </p:nvGrpSpPr>
        <p:grpSpPr>
          <a:xfrm>
            <a:off x="4367160" y="3635280"/>
            <a:ext cx="565200" cy="565200"/>
            <a:chOff x="4367160" y="3635280"/>
            <a:chExt cx="565200" cy="565200"/>
          </a:xfrm>
        </p:grpSpPr>
        <p:sp>
          <p:nvSpPr>
            <p:cNvPr id="225" name="Freeform 22"/>
            <p:cNvSpPr/>
            <p:nvPr/>
          </p:nvSpPr>
          <p:spPr>
            <a:xfrm>
              <a:off x="4367160" y="363528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20" h="120">
                  <a:moveTo>
                    <a:pt x="114" y="12"/>
                  </a:moveTo>
                  <a:cubicBezTo>
                    <a:pt x="102" y="12"/>
                    <a:pt x="102" y="12"/>
                    <a:pt x="102" y="12"/>
                  </a:cubicBezTo>
                  <a:cubicBezTo>
                    <a:pt x="102" y="9"/>
                    <a:pt x="102" y="9"/>
                    <a:pt x="102" y="9"/>
                  </a:cubicBezTo>
                  <a:cubicBezTo>
                    <a:pt x="102" y="4"/>
                    <a:pt x="98" y="0"/>
                    <a:pt x="93" y="0"/>
                  </a:cubicBezTo>
                  <a:cubicBezTo>
                    <a:pt x="88" y="0"/>
                    <a:pt x="84" y="4"/>
                    <a:pt x="84" y="9"/>
                  </a:cubicBezTo>
                  <a:cubicBezTo>
                    <a:pt x="84" y="12"/>
                    <a:pt x="84" y="12"/>
                    <a:pt x="84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4"/>
                    <a:pt x="32" y="0"/>
                    <a:pt x="27" y="0"/>
                  </a:cubicBezTo>
                  <a:cubicBezTo>
                    <a:pt x="22" y="0"/>
                    <a:pt x="18" y="4"/>
                    <a:pt x="18" y="9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15"/>
                    <a:pt x="0" y="1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7" y="120"/>
                    <a:pt x="120" y="117"/>
                    <a:pt x="120" y="114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5"/>
                    <a:pt x="117" y="12"/>
                    <a:pt x="114" y="12"/>
                  </a:cubicBezTo>
                  <a:close/>
                  <a:moveTo>
                    <a:pt x="90" y="9"/>
                  </a:moveTo>
                  <a:cubicBezTo>
                    <a:pt x="90" y="7"/>
                    <a:pt x="91" y="6"/>
                    <a:pt x="93" y="6"/>
                  </a:cubicBezTo>
                  <a:cubicBezTo>
                    <a:pt x="95" y="6"/>
                    <a:pt x="96" y="7"/>
                    <a:pt x="96" y="9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0" y="12"/>
                    <a:pt x="90" y="12"/>
                    <a:pt x="90" y="12"/>
                  </a:cubicBezTo>
                  <a:lnTo>
                    <a:pt x="90" y="9"/>
                  </a:lnTo>
                  <a:close/>
                  <a:moveTo>
                    <a:pt x="24" y="9"/>
                  </a:moveTo>
                  <a:cubicBezTo>
                    <a:pt x="24" y="7"/>
                    <a:pt x="25" y="6"/>
                    <a:pt x="27" y="6"/>
                  </a:cubicBezTo>
                  <a:cubicBezTo>
                    <a:pt x="29" y="6"/>
                    <a:pt x="30" y="7"/>
                    <a:pt x="30" y="9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24" y="12"/>
                    <a:pt x="24" y="12"/>
                    <a:pt x="24" y="12"/>
                  </a:cubicBezTo>
                  <a:lnTo>
                    <a:pt x="24" y="9"/>
                  </a:lnTo>
                  <a:close/>
                  <a:moveTo>
                    <a:pt x="114" y="114"/>
                  </a:moveTo>
                  <a:cubicBezTo>
                    <a:pt x="6" y="114"/>
                    <a:pt x="6" y="114"/>
                    <a:pt x="6" y="114"/>
                  </a:cubicBezTo>
                  <a:cubicBezTo>
                    <a:pt x="6" y="42"/>
                    <a:pt x="6" y="42"/>
                    <a:pt x="6" y="42"/>
                  </a:cubicBezTo>
                  <a:cubicBezTo>
                    <a:pt x="114" y="42"/>
                    <a:pt x="114" y="42"/>
                    <a:pt x="114" y="42"/>
                  </a:cubicBezTo>
                  <a:lnTo>
                    <a:pt x="114" y="114"/>
                  </a:lnTo>
                  <a:close/>
                  <a:moveTo>
                    <a:pt x="114" y="36"/>
                  </a:moveTo>
                  <a:cubicBezTo>
                    <a:pt x="6" y="36"/>
                    <a:pt x="6" y="36"/>
                    <a:pt x="6" y="3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114" y="18"/>
                    <a:pt x="114" y="18"/>
                    <a:pt x="114" y="18"/>
                  </a:cubicBezTo>
                  <a:lnTo>
                    <a:pt x="1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4452480" y="403128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4608000" y="403128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5"/>
            <p:cNvSpPr/>
            <p:nvPr/>
          </p:nvSpPr>
          <p:spPr>
            <a:xfrm>
              <a:off x="4763160" y="403128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6"/>
            <p:cNvSpPr/>
            <p:nvPr/>
          </p:nvSpPr>
          <p:spPr>
            <a:xfrm>
              <a:off x="4452480" y="38901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4608000" y="38901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8"/>
            <p:cNvSpPr/>
            <p:nvPr/>
          </p:nvSpPr>
          <p:spPr>
            <a:xfrm>
              <a:off x="4763160" y="38901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109"/>
          <p:cNvGrpSpPr/>
          <p:nvPr/>
        </p:nvGrpSpPr>
        <p:grpSpPr>
          <a:xfrm>
            <a:off x="4411800" y="4782960"/>
            <a:ext cx="396720" cy="568440"/>
            <a:chOff x="4411800" y="4782960"/>
            <a:chExt cx="396720" cy="568440"/>
          </a:xfrm>
        </p:grpSpPr>
        <p:sp>
          <p:nvSpPr>
            <p:cNvPr id="233" name="Freeform 29"/>
            <p:cNvSpPr/>
            <p:nvPr/>
          </p:nvSpPr>
          <p:spPr>
            <a:xfrm>
              <a:off x="4411800" y="4782960"/>
              <a:ext cx="396720" cy="568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84" h="120">
                  <a:moveTo>
                    <a:pt x="78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78" y="120"/>
                    <a:pt x="78" y="120"/>
                    <a:pt x="78" y="120"/>
                  </a:cubicBezTo>
                  <a:cubicBezTo>
                    <a:pt x="81" y="120"/>
                    <a:pt x="84" y="117"/>
                    <a:pt x="84" y="114"/>
                  </a:cubicBezTo>
                  <a:cubicBezTo>
                    <a:pt x="84" y="6"/>
                    <a:pt x="84" y="6"/>
                    <a:pt x="84" y="6"/>
                  </a:cubicBezTo>
                  <a:cubicBezTo>
                    <a:pt x="84" y="3"/>
                    <a:pt x="81" y="0"/>
                    <a:pt x="78" y="0"/>
                  </a:cubicBezTo>
                  <a:close/>
                  <a:moveTo>
                    <a:pt x="78" y="114"/>
                  </a:moveTo>
                  <a:cubicBezTo>
                    <a:pt x="6" y="114"/>
                    <a:pt x="6" y="114"/>
                    <a:pt x="6" y="11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78" y="6"/>
                    <a:pt x="78" y="6"/>
                    <a:pt x="78" y="6"/>
                  </a:cubicBezTo>
                  <a:lnTo>
                    <a:pt x="7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4467600" y="4840560"/>
              <a:ext cx="283320" cy="39708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142" h="199">
                  <a:moveTo>
                    <a:pt x="142" y="0"/>
                  </a:moveTo>
                  <a:lnTo>
                    <a:pt x="0" y="0"/>
                  </a:lnTo>
                  <a:lnTo>
                    <a:pt x="0" y="199"/>
                  </a:lnTo>
                  <a:lnTo>
                    <a:pt x="142" y="199"/>
                  </a:lnTo>
                  <a:lnTo>
                    <a:pt x="142" y="0"/>
                  </a:lnTo>
                  <a:close/>
                  <a:moveTo>
                    <a:pt x="128" y="185"/>
                  </a:moveTo>
                  <a:lnTo>
                    <a:pt x="15" y="185"/>
                  </a:lnTo>
                  <a:lnTo>
                    <a:pt x="15" y="14"/>
                  </a:lnTo>
                  <a:lnTo>
                    <a:pt x="128" y="14"/>
                  </a:lnTo>
                  <a:lnTo>
                    <a:pt x="128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Oval 31"/>
            <p:cNvSpPr/>
            <p:nvPr/>
          </p:nvSpPr>
          <p:spPr>
            <a:xfrm>
              <a:off x="4581360" y="5251680"/>
              <a:ext cx="5760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Freeform 32"/>
          <p:cNvSpPr/>
          <p:nvPr/>
        </p:nvSpPr>
        <p:spPr>
          <a:xfrm>
            <a:off x="5668920" y="3635280"/>
            <a:ext cx="397080" cy="565200"/>
          </a:xfrm>
          <a:custGeom>
            <a:avLst/>
            <a:gdLst>
              <a:gd name="textAreaLeft" fmla="*/ 0 w 397080"/>
              <a:gd name="textAreaRight" fmla="*/ 397440 w 39708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84" h="120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8" y="71"/>
                  <a:pt x="21" y="7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1" y="117"/>
                  <a:pt x="24" y="120"/>
                  <a:pt x="27" y="120"/>
                </a:cubicBezTo>
                <a:cubicBezTo>
                  <a:pt x="57" y="120"/>
                  <a:pt x="57" y="120"/>
                  <a:pt x="57" y="120"/>
                </a:cubicBezTo>
                <a:cubicBezTo>
                  <a:pt x="60" y="120"/>
                  <a:pt x="63" y="117"/>
                  <a:pt x="63" y="114"/>
                </a:cubicBezTo>
                <a:cubicBezTo>
                  <a:pt x="63" y="78"/>
                  <a:pt x="63" y="78"/>
                  <a:pt x="63" y="78"/>
                </a:cubicBezTo>
                <a:cubicBezTo>
                  <a:pt x="76" y="71"/>
                  <a:pt x="84" y="57"/>
                  <a:pt x="84" y="42"/>
                </a:cubicBezTo>
                <a:cubicBezTo>
                  <a:pt x="84" y="19"/>
                  <a:pt x="65" y="0"/>
                  <a:pt x="42" y="0"/>
                </a:cubicBezTo>
                <a:close/>
                <a:moveTo>
                  <a:pt x="27" y="114"/>
                </a:moveTo>
                <a:cubicBezTo>
                  <a:pt x="27" y="102"/>
                  <a:pt x="27" y="102"/>
                  <a:pt x="27" y="102"/>
                </a:cubicBezTo>
                <a:cubicBezTo>
                  <a:pt x="57" y="102"/>
                  <a:pt x="57" y="102"/>
                  <a:pt x="57" y="102"/>
                </a:cubicBezTo>
                <a:cubicBezTo>
                  <a:pt x="57" y="114"/>
                  <a:pt x="57" y="114"/>
                  <a:pt x="57" y="114"/>
                </a:cubicBezTo>
                <a:lnTo>
                  <a:pt x="27" y="114"/>
                </a:lnTo>
                <a:close/>
                <a:moveTo>
                  <a:pt x="57" y="75"/>
                </a:moveTo>
                <a:cubicBezTo>
                  <a:pt x="57" y="96"/>
                  <a:pt x="57" y="96"/>
                  <a:pt x="57" y="96"/>
                </a:cubicBezTo>
                <a:cubicBezTo>
                  <a:pt x="45" y="96"/>
                  <a:pt x="45" y="96"/>
                  <a:pt x="45" y="96"/>
                </a:cubicBezTo>
                <a:cubicBezTo>
                  <a:pt x="45" y="54"/>
                  <a:pt x="45" y="54"/>
                  <a:pt x="45" y="54"/>
                </a:cubicBezTo>
                <a:cubicBezTo>
                  <a:pt x="50" y="52"/>
                  <a:pt x="54" y="48"/>
                  <a:pt x="54" y="42"/>
                </a:cubicBezTo>
                <a:cubicBezTo>
                  <a:pt x="54" y="35"/>
                  <a:pt x="49" y="30"/>
                  <a:pt x="42" y="30"/>
                </a:cubicBezTo>
                <a:cubicBezTo>
                  <a:pt x="35" y="30"/>
                  <a:pt x="30" y="35"/>
                  <a:pt x="30" y="42"/>
                </a:cubicBezTo>
                <a:cubicBezTo>
                  <a:pt x="30" y="48"/>
                  <a:pt x="34" y="52"/>
                  <a:pt x="39" y="54"/>
                </a:cubicBezTo>
                <a:cubicBezTo>
                  <a:pt x="39" y="96"/>
                  <a:pt x="39" y="96"/>
                  <a:pt x="39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75"/>
                  <a:pt x="27" y="75"/>
                  <a:pt x="27" y="75"/>
                </a:cubicBezTo>
                <a:cubicBezTo>
                  <a:pt x="15" y="69"/>
                  <a:pt x="6" y="57"/>
                  <a:pt x="6" y="42"/>
                </a:cubicBezTo>
                <a:cubicBezTo>
                  <a:pt x="6" y="22"/>
                  <a:pt x="22" y="6"/>
                  <a:pt x="42" y="6"/>
                </a:cubicBezTo>
                <a:cubicBezTo>
                  <a:pt x="62" y="6"/>
                  <a:pt x="78" y="22"/>
                  <a:pt x="78" y="42"/>
                </a:cubicBezTo>
                <a:cubicBezTo>
                  <a:pt x="78" y="57"/>
                  <a:pt x="69" y="69"/>
                  <a:pt x="57" y="75"/>
                </a:cubicBezTo>
                <a:close/>
                <a:moveTo>
                  <a:pt x="42" y="48"/>
                </a:moveTo>
                <a:cubicBezTo>
                  <a:pt x="39" y="48"/>
                  <a:pt x="36" y="45"/>
                  <a:pt x="36" y="42"/>
                </a:cubicBezTo>
                <a:cubicBezTo>
                  <a:pt x="36" y="39"/>
                  <a:pt x="39" y="36"/>
                  <a:pt x="42" y="36"/>
                </a:cubicBezTo>
                <a:cubicBezTo>
                  <a:pt x="45" y="36"/>
                  <a:pt x="48" y="39"/>
                  <a:pt x="48" y="42"/>
                </a:cubicBezTo>
                <a:cubicBezTo>
                  <a:pt x="48" y="45"/>
                  <a:pt x="45" y="48"/>
                  <a:pt x="42" y="4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组合 114"/>
          <p:cNvGrpSpPr/>
          <p:nvPr/>
        </p:nvGrpSpPr>
        <p:grpSpPr>
          <a:xfrm>
            <a:off x="749160" y="2487600"/>
            <a:ext cx="565200" cy="565200"/>
            <a:chOff x="749160" y="2487600"/>
            <a:chExt cx="565200" cy="565200"/>
          </a:xfrm>
        </p:grpSpPr>
        <p:sp>
          <p:nvSpPr>
            <p:cNvPr id="238" name="Freeform 33"/>
            <p:cNvSpPr/>
            <p:nvPr/>
          </p:nvSpPr>
          <p:spPr>
            <a:xfrm>
              <a:off x="749160" y="3025080"/>
              <a:ext cx="565200" cy="27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0" h="6">
                  <a:moveTo>
                    <a:pt x="117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117" y="6"/>
                    <a:pt x="117" y="6"/>
                    <a:pt x="117" y="6"/>
                  </a:cubicBezTo>
                  <a:cubicBezTo>
                    <a:pt x="119" y="6"/>
                    <a:pt x="120" y="5"/>
                    <a:pt x="120" y="3"/>
                  </a:cubicBezTo>
                  <a:cubicBezTo>
                    <a:pt x="120" y="1"/>
                    <a:pt x="119" y="0"/>
                    <a:pt x="1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4"/>
            <p:cNvSpPr/>
            <p:nvPr/>
          </p:nvSpPr>
          <p:spPr>
            <a:xfrm>
              <a:off x="77688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5"/>
            <p:cNvSpPr/>
            <p:nvPr/>
          </p:nvSpPr>
          <p:spPr>
            <a:xfrm>
              <a:off x="91836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6"/>
            <p:cNvSpPr/>
            <p:nvPr/>
          </p:nvSpPr>
          <p:spPr>
            <a:xfrm>
              <a:off x="105948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7"/>
            <p:cNvSpPr/>
            <p:nvPr/>
          </p:nvSpPr>
          <p:spPr>
            <a:xfrm>
              <a:off x="120096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8"/>
            <p:cNvSpPr/>
            <p:nvPr/>
          </p:nvSpPr>
          <p:spPr>
            <a:xfrm>
              <a:off x="749160" y="2487600"/>
              <a:ext cx="565200" cy="169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120" h="36">
                  <a:moveTo>
                    <a:pt x="6" y="36"/>
                  </a:moveTo>
                  <a:cubicBezTo>
                    <a:pt x="114" y="36"/>
                    <a:pt x="114" y="36"/>
                    <a:pt x="114" y="36"/>
                  </a:cubicBezTo>
                  <a:cubicBezTo>
                    <a:pt x="117" y="36"/>
                    <a:pt x="119" y="34"/>
                    <a:pt x="120" y="31"/>
                  </a:cubicBezTo>
                  <a:cubicBezTo>
                    <a:pt x="120" y="28"/>
                    <a:pt x="119" y="26"/>
                    <a:pt x="116" y="25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2" y="0"/>
                    <a:pt x="61" y="0"/>
                    <a:pt x="60" y="0"/>
                  </a:cubicBezTo>
                  <a:cubicBezTo>
                    <a:pt x="59" y="0"/>
                    <a:pt x="58" y="0"/>
                    <a:pt x="58" y="1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6"/>
                    <a:pt x="0" y="28"/>
                    <a:pt x="0" y="31"/>
                  </a:cubicBezTo>
                  <a:cubicBezTo>
                    <a:pt x="1" y="34"/>
                    <a:pt x="3" y="36"/>
                    <a:pt x="6" y="36"/>
                  </a:cubicBezTo>
                  <a:close/>
                  <a:moveTo>
                    <a:pt x="60" y="6"/>
                  </a:moveTo>
                  <a:cubicBezTo>
                    <a:pt x="114" y="30"/>
                    <a:pt x="114" y="30"/>
                    <a:pt x="114" y="30"/>
                  </a:cubicBezTo>
                  <a:cubicBezTo>
                    <a:pt x="6" y="30"/>
                    <a:pt x="6" y="30"/>
                    <a:pt x="6" y="30"/>
                  </a:cubicBezTo>
                  <a:lnTo>
                    <a:pt x="6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Freeform 39"/>
          <p:cNvSpPr/>
          <p:nvPr/>
        </p:nvSpPr>
        <p:spPr>
          <a:xfrm>
            <a:off x="6900840" y="2487600"/>
            <a:ext cx="565200" cy="565200"/>
          </a:xfrm>
          <a:custGeom>
            <a:avLst/>
            <a:gdLst>
              <a:gd name="textAreaLeft" fmla="*/ 0 w 565200"/>
              <a:gd name="textAreaRight" fmla="*/ 565560 w 565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20" h="120">
                <a:moveTo>
                  <a:pt x="105" y="57"/>
                </a:moveTo>
                <a:cubicBezTo>
                  <a:pt x="100" y="57"/>
                  <a:pt x="95" y="60"/>
                  <a:pt x="92" y="66"/>
                </a:cubicBezTo>
                <a:cubicBezTo>
                  <a:pt x="90" y="66"/>
                  <a:pt x="90" y="66"/>
                  <a:pt x="90" y="66"/>
                </a:cubicBezTo>
                <a:cubicBezTo>
                  <a:pt x="90" y="42"/>
                  <a:pt x="90" y="42"/>
                  <a:pt x="90" y="42"/>
                </a:cubicBezTo>
                <a:cubicBezTo>
                  <a:pt x="90" y="35"/>
                  <a:pt x="85" y="30"/>
                  <a:pt x="78" y="30"/>
                </a:cubicBezTo>
                <a:cubicBezTo>
                  <a:pt x="54" y="30"/>
                  <a:pt x="54" y="30"/>
                  <a:pt x="54" y="30"/>
                </a:cubicBezTo>
                <a:cubicBezTo>
                  <a:pt x="54" y="28"/>
                  <a:pt x="54" y="28"/>
                  <a:pt x="54" y="28"/>
                </a:cubicBezTo>
                <a:cubicBezTo>
                  <a:pt x="60" y="25"/>
                  <a:pt x="63" y="20"/>
                  <a:pt x="63" y="15"/>
                </a:cubicBezTo>
                <a:cubicBezTo>
                  <a:pt x="63" y="7"/>
                  <a:pt x="55" y="0"/>
                  <a:pt x="45" y="0"/>
                </a:cubicBezTo>
                <a:cubicBezTo>
                  <a:pt x="35" y="0"/>
                  <a:pt x="27" y="7"/>
                  <a:pt x="27" y="15"/>
                </a:cubicBezTo>
                <a:cubicBezTo>
                  <a:pt x="27" y="20"/>
                  <a:pt x="30" y="25"/>
                  <a:pt x="36" y="28"/>
                </a:cubicBezTo>
                <a:cubicBezTo>
                  <a:pt x="36" y="30"/>
                  <a:pt x="36" y="30"/>
                  <a:pt x="36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5" y="30"/>
                  <a:pt x="0" y="35"/>
                  <a:pt x="0" y="42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1"/>
                  <a:pt x="1" y="72"/>
                  <a:pt x="3" y="72"/>
                </a:cubicBezTo>
                <a:cubicBezTo>
                  <a:pt x="10" y="72"/>
                  <a:pt x="10" y="72"/>
                  <a:pt x="10" y="72"/>
                </a:cubicBezTo>
                <a:cubicBezTo>
                  <a:pt x="11" y="72"/>
                  <a:pt x="12" y="71"/>
                  <a:pt x="13" y="70"/>
                </a:cubicBezTo>
                <a:cubicBezTo>
                  <a:pt x="14" y="66"/>
                  <a:pt x="18" y="63"/>
                  <a:pt x="21" y="63"/>
                </a:cubicBezTo>
                <a:cubicBezTo>
                  <a:pt x="26" y="63"/>
                  <a:pt x="30" y="68"/>
                  <a:pt x="30" y="75"/>
                </a:cubicBezTo>
                <a:cubicBezTo>
                  <a:pt x="30" y="82"/>
                  <a:pt x="26" y="87"/>
                  <a:pt x="21" y="87"/>
                </a:cubicBezTo>
                <a:cubicBezTo>
                  <a:pt x="18" y="87"/>
                  <a:pt x="14" y="84"/>
                  <a:pt x="13" y="80"/>
                </a:cubicBezTo>
                <a:cubicBezTo>
                  <a:pt x="12" y="79"/>
                  <a:pt x="11" y="78"/>
                  <a:pt x="10" y="78"/>
                </a:cubicBezTo>
                <a:cubicBezTo>
                  <a:pt x="3" y="78"/>
                  <a:pt x="3" y="78"/>
                  <a:pt x="3" y="78"/>
                </a:cubicBezTo>
                <a:cubicBezTo>
                  <a:pt x="1" y="78"/>
                  <a:pt x="0" y="79"/>
                  <a:pt x="0" y="81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15"/>
                  <a:pt x="5" y="120"/>
                  <a:pt x="12" y="120"/>
                </a:cubicBezTo>
                <a:cubicBezTo>
                  <a:pt x="78" y="120"/>
                  <a:pt x="78" y="120"/>
                  <a:pt x="78" y="120"/>
                </a:cubicBezTo>
                <a:cubicBezTo>
                  <a:pt x="85" y="120"/>
                  <a:pt x="90" y="115"/>
                  <a:pt x="90" y="108"/>
                </a:cubicBezTo>
                <a:cubicBezTo>
                  <a:pt x="90" y="84"/>
                  <a:pt x="90" y="84"/>
                  <a:pt x="90" y="84"/>
                </a:cubicBezTo>
                <a:cubicBezTo>
                  <a:pt x="92" y="84"/>
                  <a:pt x="92" y="84"/>
                  <a:pt x="92" y="84"/>
                </a:cubicBezTo>
                <a:cubicBezTo>
                  <a:pt x="95" y="90"/>
                  <a:pt x="100" y="93"/>
                  <a:pt x="105" y="93"/>
                </a:cubicBezTo>
                <a:cubicBezTo>
                  <a:pt x="113" y="93"/>
                  <a:pt x="120" y="85"/>
                  <a:pt x="120" y="75"/>
                </a:cubicBezTo>
                <a:cubicBezTo>
                  <a:pt x="120" y="65"/>
                  <a:pt x="113" y="57"/>
                  <a:pt x="105" y="57"/>
                </a:cubicBezTo>
                <a:close/>
                <a:moveTo>
                  <a:pt x="105" y="87"/>
                </a:moveTo>
                <a:cubicBezTo>
                  <a:pt x="102" y="87"/>
                  <a:pt x="98" y="84"/>
                  <a:pt x="97" y="80"/>
                </a:cubicBezTo>
                <a:cubicBezTo>
                  <a:pt x="96" y="79"/>
                  <a:pt x="95" y="78"/>
                  <a:pt x="94" y="78"/>
                </a:cubicBezTo>
                <a:cubicBezTo>
                  <a:pt x="87" y="78"/>
                  <a:pt x="87" y="78"/>
                  <a:pt x="87" y="78"/>
                </a:cubicBezTo>
                <a:cubicBezTo>
                  <a:pt x="85" y="78"/>
                  <a:pt x="84" y="79"/>
                  <a:pt x="84" y="81"/>
                </a:cubicBezTo>
                <a:cubicBezTo>
                  <a:pt x="84" y="108"/>
                  <a:pt x="84" y="108"/>
                  <a:pt x="84" y="108"/>
                </a:cubicBezTo>
                <a:cubicBezTo>
                  <a:pt x="84" y="111"/>
                  <a:pt x="81" y="114"/>
                  <a:pt x="78" y="114"/>
                </a:cubicBezTo>
                <a:cubicBezTo>
                  <a:pt x="12" y="114"/>
                  <a:pt x="12" y="114"/>
                  <a:pt x="12" y="114"/>
                </a:cubicBezTo>
                <a:cubicBezTo>
                  <a:pt x="9" y="114"/>
                  <a:pt x="6" y="111"/>
                  <a:pt x="6" y="108"/>
                </a:cubicBezTo>
                <a:cubicBezTo>
                  <a:pt x="6" y="84"/>
                  <a:pt x="6" y="84"/>
                  <a:pt x="6" y="84"/>
                </a:cubicBezTo>
                <a:cubicBezTo>
                  <a:pt x="8" y="84"/>
                  <a:pt x="8" y="84"/>
                  <a:pt x="8" y="84"/>
                </a:cubicBezTo>
                <a:cubicBezTo>
                  <a:pt x="11" y="90"/>
                  <a:pt x="16" y="93"/>
                  <a:pt x="21" y="93"/>
                </a:cubicBezTo>
                <a:cubicBezTo>
                  <a:pt x="29" y="93"/>
                  <a:pt x="36" y="85"/>
                  <a:pt x="36" y="75"/>
                </a:cubicBezTo>
                <a:cubicBezTo>
                  <a:pt x="36" y="65"/>
                  <a:pt x="29" y="57"/>
                  <a:pt x="21" y="57"/>
                </a:cubicBezTo>
                <a:cubicBezTo>
                  <a:pt x="16" y="57"/>
                  <a:pt x="11" y="60"/>
                  <a:pt x="8" y="66"/>
                </a:cubicBezTo>
                <a:cubicBezTo>
                  <a:pt x="6" y="66"/>
                  <a:pt x="6" y="66"/>
                  <a:pt x="6" y="66"/>
                </a:cubicBezTo>
                <a:cubicBezTo>
                  <a:pt x="6" y="42"/>
                  <a:pt x="6" y="42"/>
                  <a:pt x="6" y="42"/>
                </a:cubicBezTo>
                <a:cubicBezTo>
                  <a:pt x="6" y="39"/>
                  <a:pt x="9" y="36"/>
                  <a:pt x="12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41" y="36"/>
                  <a:pt x="42" y="35"/>
                  <a:pt x="42" y="33"/>
                </a:cubicBezTo>
                <a:cubicBezTo>
                  <a:pt x="42" y="26"/>
                  <a:pt x="42" y="26"/>
                  <a:pt x="42" y="26"/>
                </a:cubicBezTo>
                <a:cubicBezTo>
                  <a:pt x="42" y="25"/>
                  <a:pt x="41" y="24"/>
                  <a:pt x="40" y="23"/>
                </a:cubicBezTo>
                <a:cubicBezTo>
                  <a:pt x="36" y="22"/>
                  <a:pt x="33" y="18"/>
                  <a:pt x="33" y="15"/>
                </a:cubicBezTo>
                <a:cubicBezTo>
                  <a:pt x="33" y="10"/>
                  <a:pt x="38" y="6"/>
                  <a:pt x="45" y="6"/>
                </a:cubicBezTo>
                <a:cubicBezTo>
                  <a:pt x="52" y="6"/>
                  <a:pt x="57" y="10"/>
                  <a:pt x="57" y="15"/>
                </a:cubicBezTo>
                <a:cubicBezTo>
                  <a:pt x="57" y="18"/>
                  <a:pt x="54" y="22"/>
                  <a:pt x="50" y="23"/>
                </a:cubicBezTo>
                <a:cubicBezTo>
                  <a:pt x="49" y="24"/>
                  <a:pt x="48" y="25"/>
                  <a:pt x="48" y="26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5"/>
                  <a:pt x="49" y="36"/>
                  <a:pt x="51" y="36"/>
                </a:cubicBezTo>
                <a:cubicBezTo>
                  <a:pt x="78" y="36"/>
                  <a:pt x="78" y="36"/>
                  <a:pt x="78" y="36"/>
                </a:cubicBezTo>
                <a:cubicBezTo>
                  <a:pt x="81" y="36"/>
                  <a:pt x="84" y="39"/>
                  <a:pt x="84" y="42"/>
                </a:cubicBezTo>
                <a:cubicBezTo>
                  <a:pt x="84" y="69"/>
                  <a:pt x="84" y="69"/>
                  <a:pt x="84" y="69"/>
                </a:cubicBezTo>
                <a:cubicBezTo>
                  <a:pt x="84" y="71"/>
                  <a:pt x="85" y="72"/>
                  <a:pt x="87" y="72"/>
                </a:cubicBezTo>
                <a:cubicBezTo>
                  <a:pt x="94" y="72"/>
                  <a:pt x="94" y="72"/>
                  <a:pt x="94" y="72"/>
                </a:cubicBezTo>
                <a:cubicBezTo>
                  <a:pt x="95" y="72"/>
                  <a:pt x="96" y="71"/>
                  <a:pt x="97" y="70"/>
                </a:cubicBezTo>
                <a:cubicBezTo>
                  <a:pt x="98" y="66"/>
                  <a:pt x="102" y="63"/>
                  <a:pt x="105" y="63"/>
                </a:cubicBezTo>
                <a:cubicBezTo>
                  <a:pt x="110" y="63"/>
                  <a:pt x="114" y="68"/>
                  <a:pt x="114" y="75"/>
                </a:cubicBezTo>
                <a:cubicBezTo>
                  <a:pt x="114" y="82"/>
                  <a:pt x="110" y="87"/>
                  <a:pt x="105" y="8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组合 122"/>
          <p:cNvGrpSpPr/>
          <p:nvPr/>
        </p:nvGrpSpPr>
        <p:grpSpPr>
          <a:xfrm>
            <a:off x="2052720" y="3635280"/>
            <a:ext cx="272880" cy="565200"/>
            <a:chOff x="2052720" y="3635280"/>
            <a:chExt cx="272880" cy="565200"/>
          </a:xfrm>
        </p:grpSpPr>
        <p:sp>
          <p:nvSpPr>
            <p:cNvPr id="246" name="Freeform 40"/>
            <p:cNvSpPr/>
            <p:nvPr/>
          </p:nvSpPr>
          <p:spPr>
            <a:xfrm>
              <a:off x="2052720" y="3635280"/>
              <a:ext cx="175320" cy="11340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7" h="24">
                  <a:moveTo>
                    <a:pt x="7" y="21"/>
                  </a:moveTo>
                  <a:cubicBezTo>
                    <a:pt x="8" y="23"/>
                    <a:pt x="10" y="24"/>
                    <a:pt x="13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4"/>
                    <a:pt x="29" y="23"/>
                    <a:pt x="30" y="21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7" y="7"/>
                    <a:pt x="37" y="5"/>
                    <a:pt x="36" y="3"/>
                  </a:cubicBezTo>
                  <a:cubicBezTo>
                    <a:pt x="35" y="1"/>
                    <a:pt x="33" y="0"/>
                    <a:pt x="3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2" y="1"/>
                    <a:pt x="1" y="3"/>
                  </a:cubicBezTo>
                  <a:cubicBezTo>
                    <a:pt x="0" y="5"/>
                    <a:pt x="0" y="7"/>
                    <a:pt x="1" y="9"/>
                  </a:cubicBezTo>
                  <a:lnTo>
                    <a:pt x="7" y="21"/>
                  </a:lnTo>
                  <a:close/>
                  <a:moveTo>
                    <a:pt x="31" y="6"/>
                  </a:moveTo>
                  <a:cubicBezTo>
                    <a:pt x="25" y="18"/>
                    <a:pt x="25" y="18"/>
                    <a:pt x="25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7" y="6"/>
                    <a:pt x="7" y="6"/>
                    <a:pt x="7" y="6"/>
                  </a:cubicBezTo>
                  <a:lnTo>
                    <a:pt x="3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41"/>
            <p:cNvSpPr/>
            <p:nvPr/>
          </p:nvSpPr>
          <p:spPr>
            <a:xfrm>
              <a:off x="2052720" y="3776400"/>
              <a:ext cx="272880" cy="424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58" h="90">
                  <a:moveTo>
                    <a:pt x="56" y="33"/>
                  </a:moveTo>
                  <a:cubicBezTo>
                    <a:pt x="31" y="11"/>
                    <a:pt x="31" y="11"/>
                    <a:pt x="31" y="11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30" y="2"/>
                    <a:pt x="28" y="0"/>
                    <a:pt x="2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0"/>
                    <a:pt x="7" y="2"/>
                    <a:pt x="7" y="6"/>
                  </a:cubicBezTo>
                  <a:cubicBezTo>
                    <a:pt x="1" y="78"/>
                    <a:pt x="1" y="78"/>
                    <a:pt x="1" y="78"/>
                  </a:cubicBezTo>
                  <a:cubicBezTo>
                    <a:pt x="0" y="80"/>
                    <a:pt x="2" y="82"/>
                    <a:pt x="4" y="83"/>
                  </a:cubicBezTo>
                  <a:cubicBezTo>
                    <a:pt x="16" y="89"/>
                    <a:pt x="16" y="89"/>
                    <a:pt x="16" y="89"/>
                  </a:cubicBezTo>
                  <a:cubicBezTo>
                    <a:pt x="17" y="90"/>
                    <a:pt x="18" y="90"/>
                    <a:pt x="19" y="90"/>
                  </a:cubicBezTo>
                  <a:cubicBezTo>
                    <a:pt x="19" y="90"/>
                    <a:pt x="20" y="90"/>
                    <a:pt x="21" y="89"/>
                  </a:cubicBezTo>
                  <a:cubicBezTo>
                    <a:pt x="33" y="83"/>
                    <a:pt x="33" y="83"/>
                    <a:pt x="33" y="83"/>
                  </a:cubicBezTo>
                  <a:cubicBezTo>
                    <a:pt x="35" y="82"/>
                    <a:pt x="37" y="80"/>
                    <a:pt x="36" y="78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9" y="50"/>
                    <a:pt x="39" y="50"/>
                    <a:pt x="39" y="50"/>
                  </a:cubicBezTo>
                  <a:cubicBezTo>
                    <a:pt x="40" y="52"/>
                    <a:pt x="41" y="52"/>
                    <a:pt x="43" y="52"/>
                  </a:cubicBezTo>
                  <a:cubicBezTo>
                    <a:pt x="52" y="52"/>
                    <a:pt x="52" y="52"/>
                    <a:pt x="52" y="52"/>
                  </a:cubicBezTo>
                  <a:cubicBezTo>
                    <a:pt x="53" y="52"/>
                    <a:pt x="55" y="52"/>
                    <a:pt x="56" y="51"/>
                  </a:cubicBezTo>
                  <a:cubicBezTo>
                    <a:pt x="57" y="50"/>
                    <a:pt x="58" y="48"/>
                    <a:pt x="58" y="46"/>
                  </a:cubicBezTo>
                  <a:cubicBezTo>
                    <a:pt x="58" y="38"/>
                    <a:pt x="58" y="38"/>
                    <a:pt x="58" y="38"/>
                  </a:cubicBezTo>
                  <a:cubicBezTo>
                    <a:pt x="58" y="36"/>
                    <a:pt x="57" y="35"/>
                    <a:pt x="56" y="33"/>
                  </a:cubicBezTo>
                  <a:close/>
                  <a:moveTo>
                    <a:pt x="13" y="6"/>
                  </a:moveTo>
                  <a:cubicBezTo>
                    <a:pt x="25" y="6"/>
                    <a:pt x="25" y="6"/>
                    <a:pt x="25" y="6"/>
                  </a:cubicBezTo>
                  <a:cubicBezTo>
                    <a:pt x="11" y="19"/>
                    <a:pt x="11" y="19"/>
                    <a:pt x="11" y="19"/>
                  </a:cubicBezTo>
                  <a:lnTo>
                    <a:pt x="13" y="6"/>
                  </a:lnTo>
                  <a:close/>
                  <a:moveTo>
                    <a:pt x="11" y="28"/>
                  </a:moveTo>
                  <a:cubicBezTo>
                    <a:pt x="25" y="14"/>
                    <a:pt x="25" y="14"/>
                    <a:pt x="25" y="14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9" y="45"/>
                    <a:pt x="9" y="45"/>
                    <a:pt x="9" y="45"/>
                  </a:cubicBezTo>
                  <a:lnTo>
                    <a:pt x="11" y="28"/>
                  </a:lnTo>
                  <a:close/>
                  <a:moveTo>
                    <a:pt x="8" y="55"/>
                  </a:moveTo>
                  <a:cubicBezTo>
                    <a:pt x="27" y="36"/>
                    <a:pt x="27" y="36"/>
                    <a:pt x="27" y="36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7" y="71"/>
                    <a:pt x="7" y="71"/>
                    <a:pt x="7" y="71"/>
                  </a:cubicBezTo>
                  <a:lnTo>
                    <a:pt x="8" y="55"/>
                  </a:lnTo>
                  <a:close/>
                  <a:moveTo>
                    <a:pt x="19" y="84"/>
                  </a:moveTo>
                  <a:cubicBezTo>
                    <a:pt x="8" y="79"/>
                    <a:pt x="8" y="79"/>
                    <a:pt x="8" y="79"/>
                  </a:cubicBezTo>
                  <a:cubicBezTo>
                    <a:pt x="29" y="58"/>
                    <a:pt x="29" y="58"/>
                    <a:pt x="29" y="58"/>
                  </a:cubicBezTo>
                  <a:cubicBezTo>
                    <a:pt x="31" y="78"/>
                    <a:pt x="31" y="78"/>
                    <a:pt x="31" y="78"/>
                  </a:cubicBezTo>
                  <a:lnTo>
                    <a:pt x="19" y="84"/>
                  </a:lnTo>
                  <a:close/>
                  <a:moveTo>
                    <a:pt x="52" y="46"/>
                  </a:moveTo>
                  <a:cubicBezTo>
                    <a:pt x="43" y="46"/>
                    <a:pt x="43" y="46"/>
                    <a:pt x="43" y="46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52" y="38"/>
                    <a:pt x="52" y="38"/>
                    <a:pt x="52" y="38"/>
                  </a:cubicBezTo>
                  <a:lnTo>
                    <a:pt x="5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125"/>
          <p:cNvGrpSpPr/>
          <p:nvPr/>
        </p:nvGrpSpPr>
        <p:grpSpPr>
          <a:xfrm>
            <a:off x="749160" y="3635280"/>
            <a:ext cx="565200" cy="565200"/>
            <a:chOff x="749160" y="3635280"/>
            <a:chExt cx="565200" cy="565200"/>
          </a:xfrm>
        </p:grpSpPr>
        <p:sp>
          <p:nvSpPr>
            <p:cNvPr id="249" name="Freeform 42"/>
            <p:cNvSpPr/>
            <p:nvPr/>
          </p:nvSpPr>
          <p:spPr>
            <a:xfrm>
              <a:off x="749160" y="4172760"/>
              <a:ext cx="565200" cy="27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0" h="6">
                  <a:moveTo>
                    <a:pt x="117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117" y="6"/>
                    <a:pt x="117" y="6"/>
                    <a:pt x="117" y="6"/>
                  </a:cubicBezTo>
                  <a:cubicBezTo>
                    <a:pt x="119" y="6"/>
                    <a:pt x="120" y="5"/>
                    <a:pt x="120" y="3"/>
                  </a:cubicBezTo>
                  <a:cubicBezTo>
                    <a:pt x="120" y="1"/>
                    <a:pt x="119" y="0"/>
                    <a:pt x="1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43"/>
            <p:cNvSpPr/>
            <p:nvPr/>
          </p:nvSpPr>
          <p:spPr>
            <a:xfrm>
              <a:off x="1031760" y="3776400"/>
              <a:ext cx="254880" cy="36828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28" h="185">
                  <a:moveTo>
                    <a:pt x="0" y="0"/>
                  </a:moveTo>
                  <a:lnTo>
                    <a:pt x="0" y="185"/>
                  </a:lnTo>
                  <a:lnTo>
                    <a:pt x="128" y="185"/>
                  </a:lnTo>
                  <a:lnTo>
                    <a:pt x="128" y="0"/>
                  </a:lnTo>
                  <a:lnTo>
                    <a:pt x="0" y="0"/>
                  </a:lnTo>
                  <a:close/>
                  <a:moveTo>
                    <a:pt x="57" y="171"/>
                  </a:moveTo>
                  <a:lnTo>
                    <a:pt x="14" y="171"/>
                  </a:lnTo>
                  <a:lnTo>
                    <a:pt x="14" y="128"/>
                  </a:lnTo>
                  <a:lnTo>
                    <a:pt x="57" y="128"/>
                  </a:lnTo>
                  <a:lnTo>
                    <a:pt x="57" y="171"/>
                  </a:lnTo>
                  <a:close/>
                  <a:moveTo>
                    <a:pt x="57" y="114"/>
                  </a:moveTo>
                  <a:lnTo>
                    <a:pt x="14" y="114"/>
                  </a:lnTo>
                  <a:lnTo>
                    <a:pt x="14" y="71"/>
                  </a:lnTo>
                  <a:lnTo>
                    <a:pt x="57" y="71"/>
                  </a:lnTo>
                  <a:lnTo>
                    <a:pt x="57" y="114"/>
                  </a:lnTo>
                  <a:close/>
                  <a:moveTo>
                    <a:pt x="57" y="57"/>
                  </a:moveTo>
                  <a:lnTo>
                    <a:pt x="14" y="57"/>
                  </a:lnTo>
                  <a:lnTo>
                    <a:pt x="14" y="14"/>
                  </a:lnTo>
                  <a:lnTo>
                    <a:pt x="57" y="14"/>
                  </a:lnTo>
                  <a:lnTo>
                    <a:pt x="57" y="57"/>
                  </a:lnTo>
                  <a:close/>
                  <a:moveTo>
                    <a:pt x="114" y="171"/>
                  </a:moveTo>
                  <a:lnTo>
                    <a:pt x="71" y="171"/>
                  </a:lnTo>
                  <a:lnTo>
                    <a:pt x="71" y="128"/>
                  </a:lnTo>
                  <a:lnTo>
                    <a:pt x="114" y="128"/>
                  </a:lnTo>
                  <a:lnTo>
                    <a:pt x="114" y="171"/>
                  </a:lnTo>
                  <a:close/>
                  <a:moveTo>
                    <a:pt x="114" y="114"/>
                  </a:moveTo>
                  <a:lnTo>
                    <a:pt x="71" y="114"/>
                  </a:lnTo>
                  <a:lnTo>
                    <a:pt x="71" y="71"/>
                  </a:lnTo>
                  <a:lnTo>
                    <a:pt x="114" y="71"/>
                  </a:lnTo>
                  <a:lnTo>
                    <a:pt x="114" y="114"/>
                  </a:lnTo>
                  <a:close/>
                  <a:moveTo>
                    <a:pt x="114" y="57"/>
                  </a:moveTo>
                  <a:lnTo>
                    <a:pt x="71" y="57"/>
                  </a:lnTo>
                  <a:lnTo>
                    <a:pt x="71" y="14"/>
                  </a:lnTo>
                  <a:lnTo>
                    <a:pt x="114" y="14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44"/>
            <p:cNvSpPr/>
            <p:nvPr/>
          </p:nvSpPr>
          <p:spPr>
            <a:xfrm>
              <a:off x="776880" y="3635280"/>
              <a:ext cx="226800" cy="5097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14" h="256">
                  <a:moveTo>
                    <a:pt x="114" y="256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114" y="256"/>
                  </a:lnTo>
                  <a:close/>
                  <a:moveTo>
                    <a:pt x="29" y="242"/>
                  </a:moveTo>
                  <a:lnTo>
                    <a:pt x="14" y="242"/>
                  </a:lnTo>
                  <a:lnTo>
                    <a:pt x="14" y="14"/>
                  </a:lnTo>
                  <a:lnTo>
                    <a:pt x="29" y="14"/>
                  </a:lnTo>
                  <a:lnTo>
                    <a:pt x="29" y="242"/>
                  </a:lnTo>
                  <a:close/>
                  <a:moveTo>
                    <a:pt x="71" y="242"/>
                  </a:moveTo>
                  <a:lnTo>
                    <a:pt x="43" y="242"/>
                  </a:lnTo>
                  <a:lnTo>
                    <a:pt x="43" y="199"/>
                  </a:lnTo>
                  <a:lnTo>
                    <a:pt x="71" y="199"/>
                  </a:lnTo>
                  <a:lnTo>
                    <a:pt x="71" y="242"/>
                  </a:lnTo>
                  <a:close/>
                  <a:moveTo>
                    <a:pt x="71" y="185"/>
                  </a:moveTo>
                  <a:lnTo>
                    <a:pt x="43" y="185"/>
                  </a:lnTo>
                  <a:lnTo>
                    <a:pt x="43" y="14"/>
                  </a:lnTo>
                  <a:lnTo>
                    <a:pt x="71" y="14"/>
                  </a:lnTo>
                  <a:lnTo>
                    <a:pt x="71" y="185"/>
                  </a:lnTo>
                  <a:close/>
                  <a:moveTo>
                    <a:pt x="85" y="14"/>
                  </a:moveTo>
                  <a:lnTo>
                    <a:pt x="100" y="14"/>
                  </a:lnTo>
                  <a:lnTo>
                    <a:pt x="100" y="242"/>
                  </a:lnTo>
                  <a:lnTo>
                    <a:pt x="85" y="242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129"/>
          <p:cNvGrpSpPr/>
          <p:nvPr/>
        </p:nvGrpSpPr>
        <p:grpSpPr>
          <a:xfrm>
            <a:off x="3063960" y="3692520"/>
            <a:ext cx="565200" cy="479520"/>
            <a:chOff x="3063960" y="3692520"/>
            <a:chExt cx="565200" cy="479520"/>
          </a:xfrm>
        </p:grpSpPr>
        <p:sp>
          <p:nvSpPr>
            <p:cNvPr id="253" name="Freeform 45"/>
            <p:cNvSpPr/>
            <p:nvPr/>
          </p:nvSpPr>
          <p:spPr>
            <a:xfrm>
              <a:off x="3533760" y="3772080"/>
              <a:ext cx="95400" cy="2628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20" h="56">
                  <a:moveTo>
                    <a:pt x="3" y="0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8" y="9"/>
                    <a:pt x="14" y="18"/>
                    <a:pt x="14" y="28"/>
                  </a:cubicBezTo>
                  <a:cubicBezTo>
                    <a:pt x="14" y="38"/>
                    <a:pt x="8" y="47"/>
                    <a:pt x="0" y="51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13" y="50"/>
                    <a:pt x="20" y="40"/>
                    <a:pt x="20" y="28"/>
                  </a:cubicBezTo>
                  <a:cubicBezTo>
                    <a:pt x="20" y="16"/>
                    <a:pt x="13" y="6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3063960" y="3692520"/>
              <a:ext cx="507600" cy="4795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08" h="102">
                  <a:moveTo>
                    <a:pt x="108" y="45"/>
                  </a:moveTo>
                  <a:cubicBezTo>
                    <a:pt x="108" y="37"/>
                    <a:pt x="103" y="30"/>
                    <a:pt x="96" y="26"/>
                  </a:cubicBezTo>
                  <a:cubicBezTo>
                    <a:pt x="96" y="6"/>
                    <a:pt x="96" y="6"/>
                    <a:pt x="96" y="6"/>
                  </a:cubicBezTo>
                  <a:cubicBezTo>
                    <a:pt x="96" y="4"/>
                    <a:pt x="95" y="2"/>
                    <a:pt x="93" y="1"/>
                  </a:cubicBezTo>
                  <a:cubicBezTo>
                    <a:pt x="92" y="0"/>
                    <a:pt x="91" y="0"/>
                    <a:pt x="90" y="0"/>
                  </a:cubicBezTo>
                  <a:cubicBezTo>
                    <a:pt x="89" y="0"/>
                    <a:pt x="87" y="0"/>
                    <a:pt x="86" y="1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9" y="24"/>
                    <a:pt x="0" y="33"/>
                    <a:pt x="0" y="45"/>
                  </a:cubicBezTo>
                  <a:cubicBezTo>
                    <a:pt x="0" y="57"/>
                    <a:pt x="9" y="66"/>
                    <a:pt x="21" y="66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38" y="98"/>
                    <a:pt x="38" y="98"/>
                    <a:pt x="38" y="98"/>
                  </a:cubicBezTo>
                  <a:cubicBezTo>
                    <a:pt x="39" y="100"/>
                    <a:pt x="40" y="101"/>
                    <a:pt x="42" y="102"/>
                  </a:cubicBezTo>
                  <a:cubicBezTo>
                    <a:pt x="42" y="102"/>
                    <a:pt x="43" y="102"/>
                    <a:pt x="44" y="102"/>
                  </a:cubicBezTo>
                  <a:cubicBezTo>
                    <a:pt x="45" y="102"/>
                    <a:pt x="46" y="102"/>
                    <a:pt x="46" y="101"/>
                  </a:cubicBezTo>
                  <a:cubicBezTo>
                    <a:pt x="58" y="95"/>
                    <a:pt x="58" y="95"/>
                    <a:pt x="58" y="95"/>
                  </a:cubicBezTo>
                  <a:cubicBezTo>
                    <a:pt x="61" y="94"/>
                    <a:pt x="63" y="91"/>
                    <a:pt x="61" y="88"/>
                  </a:cubicBezTo>
                  <a:cubicBezTo>
                    <a:pt x="52" y="66"/>
                    <a:pt x="52" y="66"/>
                    <a:pt x="52" y="66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87" y="90"/>
                    <a:pt x="89" y="90"/>
                    <a:pt x="90" y="90"/>
                  </a:cubicBezTo>
                  <a:cubicBezTo>
                    <a:pt x="91" y="90"/>
                    <a:pt x="92" y="90"/>
                    <a:pt x="93" y="89"/>
                  </a:cubicBezTo>
                  <a:cubicBezTo>
                    <a:pt x="95" y="88"/>
                    <a:pt x="96" y="86"/>
                    <a:pt x="96" y="84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103" y="60"/>
                    <a:pt x="108" y="53"/>
                    <a:pt x="108" y="45"/>
                  </a:cubicBezTo>
                  <a:close/>
                  <a:moveTo>
                    <a:pt x="24" y="60"/>
                  </a:moveTo>
                  <a:cubicBezTo>
                    <a:pt x="21" y="60"/>
                    <a:pt x="21" y="60"/>
                    <a:pt x="21" y="60"/>
                  </a:cubicBezTo>
                  <a:cubicBezTo>
                    <a:pt x="13" y="60"/>
                    <a:pt x="6" y="53"/>
                    <a:pt x="6" y="45"/>
                  </a:cubicBezTo>
                  <a:cubicBezTo>
                    <a:pt x="6" y="37"/>
                    <a:pt x="13" y="30"/>
                    <a:pt x="21" y="30"/>
                  </a:cubicBezTo>
                  <a:cubicBezTo>
                    <a:pt x="24" y="30"/>
                    <a:pt x="24" y="30"/>
                    <a:pt x="24" y="30"/>
                  </a:cubicBezTo>
                  <a:lnTo>
                    <a:pt x="24" y="60"/>
                  </a:lnTo>
                  <a:close/>
                  <a:moveTo>
                    <a:pt x="56" y="90"/>
                  </a:moveTo>
                  <a:cubicBezTo>
                    <a:pt x="44" y="96"/>
                    <a:pt x="44" y="96"/>
                    <a:pt x="44" y="96"/>
                  </a:cubicBezTo>
                  <a:cubicBezTo>
                    <a:pt x="31" y="66"/>
                    <a:pt x="31" y="66"/>
                    <a:pt x="31" y="66"/>
                  </a:cubicBezTo>
                  <a:cubicBezTo>
                    <a:pt x="46" y="66"/>
                    <a:pt x="46" y="66"/>
                    <a:pt x="46" y="66"/>
                  </a:cubicBezTo>
                  <a:lnTo>
                    <a:pt x="56" y="90"/>
                  </a:lnTo>
                  <a:close/>
                  <a:moveTo>
                    <a:pt x="90" y="84"/>
                  </a:moveTo>
                  <a:cubicBezTo>
                    <a:pt x="60" y="60"/>
                    <a:pt x="60" y="60"/>
                    <a:pt x="60" y="60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90" y="6"/>
                    <a:pt x="90" y="6"/>
                    <a:pt x="90" y="6"/>
                  </a:cubicBezTo>
                  <a:lnTo>
                    <a:pt x="90" y="84"/>
                  </a:lnTo>
                  <a:close/>
                  <a:moveTo>
                    <a:pt x="96" y="57"/>
                  </a:moveTo>
                  <a:cubicBezTo>
                    <a:pt x="96" y="33"/>
                    <a:pt x="96" y="33"/>
                    <a:pt x="96" y="33"/>
                  </a:cubicBezTo>
                  <a:cubicBezTo>
                    <a:pt x="100" y="36"/>
                    <a:pt x="102" y="40"/>
                    <a:pt x="102" y="45"/>
                  </a:cubicBezTo>
                  <a:cubicBezTo>
                    <a:pt x="102" y="50"/>
                    <a:pt x="100" y="54"/>
                    <a:pt x="96" y="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132"/>
          <p:cNvGrpSpPr/>
          <p:nvPr/>
        </p:nvGrpSpPr>
        <p:grpSpPr>
          <a:xfrm>
            <a:off x="749160" y="4782960"/>
            <a:ext cx="538200" cy="568440"/>
            <a:chOff x="749160" y="4782960"/>
            <a:chExt cx="538200" cy="568440"/>
          </a:xfrm>
        </p:grpSpPr>
        <p:sp>
          <p:nvSpPr>
            <p:cNvPr id="256" name="Freeform 47"/>
            <p:cNvSpPr/>
            <p:nvPr/>
          </p:nvSpPr>
          <p:spPr>
            <a:xfrm>
              <a:off x="932400" y="478296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6" h="36">
                  <a:moveTo>
                    <a:pt x="18" y="36"/>
                  </a:moveTo>
                  <a:cubicBezTo>
                    <a:pt x="28" y="36"/>
                    <a:pt x="36" y="28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8"/>
                    <a:pt x="8" y="36"/>
                    <a:pt x="18" y="36"/>
                  </a:cubicBezTo>
                  <a:close/>
                  <a:moveTo>
                    <a:pt x="18" y="6"/>
                  </a:moveTo>
                  <a:cubicBezTo>
                    <a:pt x="25" y="6"/>
                    <a:pt x="30" y="11"/>
                    <a:pt x="30" y="18"/>
                  </a:cubicBezTo>
                  <a:cubicBezTo>
                    <a:pt x="30" y="25"/>
                    <a:pt x="25" y="30"/>
                    <a:pt x="18" y="30"/>
                  </a:cubicBezTo>
                  <a:cubicBezTo>
                    <a:pt x="11" y="30"/>
                    <a:pt x="6" y="25"/>
                    <a:pt x="6" y="18"/>
                  </a:cubicBezTo>
                  <a:cubicBezTo>
                    <a:pt x="6" y="11"/>
                    <a:pt x="11" y="6"/>
                    <a:pt x="1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48"/>
            <p:cNvSpPr/>
            <p:nvPr/>
          </p:nvSpPr>
          <p:spPr>
            <a:xfrm>
              <a:off x="904680" y="4982400"/>
              <a:ext cx="227160" cy="36900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8" h="78">
                  <a:moveTo>
                    <a:pt x="36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9" y="0"/>
                    <a:pt x="7" y="2"/>
                    <a:pt x="6" y="5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0" y="41"/>
                    <a:pt x="1" y="43"/>
                  </a:cubicBezTo>
                  <a:cubicBezTo>
                    <a:pt x="3" y="44"/>
                    <a:pt x="4" y="45"/>
                    <a:pt x="6" y="45"/>
                  </a:cubicBezTo>
                  <a:cubicBezTo>
                    <a:pt x="10" y="45"/>
                    <a:pt x="10" y="45"/>
                    <a:pt x="10" y="45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12" y="76"/>
                    <a:pt x="15" y="78"/>
                    <a:pt x="18" y="78"/>
                  </a:cubicBezTo>
                  <a:cubicBezTo>
                    <a:pt x="30" y="78"/>
                    <a:pt x="30" y="78"/>
                    <a:pt x="30" y="78"/>
                  </a:cubicBezTo>
                  <a:cubicBezTo>
                    <a:pt x="33" y="78"/>
                    <a:pt x="36" y="76"/>
                    <a:pt x="36" y="72"/>
                  </a:cubicBezTo>
                  <a:cubicBezTo>
                    <a:pt x="38" y="45"/>
                    <a:pt x="38" y="45"/>
                    <a:pt x="38" y="45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44" y="45"/>
                    <a:pt x="45" y="44"/>
                    <a:pt x="47" y="43"/>
                  </a:cubicBezTo>
                  <a:cubicBezTo>
                    <a:pt x="48" y="41"/>
                    <a:pt x="48" y="40"/>
                    <a:pt x="48" y="38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1" y="2"/>
                    <a:pt x="39" y="0"/>
                    <a:pt x="36" y="0"/>
                  </a:cubicBezTo>
                  <a:close/>
                  <a:moveTo>
                    <a:pt x="33" y="39"/>
                  </a:moveTo>
                  <a:cubicBezTo>
                    <a:pt x="30" y="72"/>
                    <a:pt x="30" y="72"/>
                    <a:pt x="30" y="72"/>
                  </a:cubicBezTo>
                  <a:cubicBezTo>
                    <a:pt x="18" y="72"/>
                    <a:pt x="18" y="72"/>
                    <a:pt x="18" y="7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21" y="26"/>
                    <a:pt x="22" y="27"/>
                    <a:pt x="24" y="27"/>
                  </a:cubicBezTo>
                  <a:cubicBezTo>
                    <a:pt x="26" y="27"/>
                    <a:pt x="27" y="26"/>
                    <a:pt x="27" y="24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42" y="39"/>
                    <a:pt x="42" y="39"/>
                    <a:pt x="42" y="39"/>
                  </a:cubicBezTo>
                  <a:lnTo>
                    <a:pt x="3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49"/>
            <p:cNvSpPr/>
            <p:nvPr/>
          </p:nvSpPr>
          <p:spPr>
            <a:xfrm>
              <a:off x="1126080" y="4812840"/>
              <a:ext cx="137520" cy="13536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9" h="29">
                  <a:moveTo>
                    <a:pt x="14" y="29"/>
                  </a:moveTo>
                  <a:cubicBezTo>
                    <a:pt x="22" y="29"/>
                    <a:pt x="29" y="22"/>
                    <a:pt x="29" y="14"/>
                  </a:cubicBezTo>
                  <a:cubicBezTo>
                    <a:pt x="29" y="6"/>
                    <a:pt x="22" y="0"/>
                    <a:pt x="14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0" y="22"/>
                    <a:pt x="6" y="29"/>
                    <a:pt x="14" y="29"/>
                  </a:cubicBezTo>
                  <a:close/>
                  <a:moveTo>
                    <a:pt x="14" y="5"/>
                  </a:moveTo>
                  <a:cubicBezTo>
                    <a:pt x="19" y="5"/>
                    <a:pt x="24" y="9"/>
                    <a:pt x="24" y="14"/>
                  </a:cubicBezTo>
                  <a:cubicBezTo>
                    <a:pt x="24" y="20"/>
                    <a:pt x="19" y="24"/>
                    <a:pt x="14" y="24"/>
                  </a:cubicBezTo>
                  <a:cubicBezTo>
                    <a:pt x="9" y="24"/>
                    <a:pt x="5" y="20"/>
                    <a:pt x="5" y="14"/>
                  </a:cubicBezTo>
                  <a:cubicBezTo>
                    <a:pt x="5" y="9"/>
                    <a:pt x="9" y="5"/>
                    <a:pt x="1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50"/>
            <p:cNvSpPr/>
            <p:nvPr/>
          </p:nvSpPr>
          <p:spPr>
            <a:xfrm>
              <a:off x="1126080" y="4972320"/>
              <a:ext cx="161280" cy="29304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4" h="62">
                  <a:moveTo>
                    <a:pt x="29" y="4"/>
                  </a:moveTo>
                  <a:cubicBezTo>
                    <a:pt x="28" y="1"/>
                    <a:pt x="26" y="0"/>
                    <a:pt x="2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1" y="1"/>
                    <a:pt x="0" y="3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20"/>
                    <a:pt x="13" y="21"/>
                    <a:pt x="14" y="21"/>
                  </a:cubicBezTo>
                  <a:cubicBezTo>
                    <a:pt x="16" y="21"/>
                    <a:pt x="17" y="20"/>
                    <a:pt x="17" y="1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9" y="57"/>
                    <a:pt x="19" y="57"/>
                    <a:pt x="19" y="57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3" y="50"/>
                    <a:pt x="3" y="50"/>
                    <a:pt x="3" y="50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5" y="60"/>
                    <a:pt x="7" y="62"/>
                    <a:pt x="9" y="62"/>
                  </a:cubicBezTo>
                  <a:cubicBezTo>
                    <a:pt x="19" y="62"/>
                    <a:pt x="19" y="62"/>
                    <a:pt x="19" y="62"/>
                  </a:cubicBezTo>
                  <a:cubicBezTo>
                    <a:pt x="22" y="62"/>
                    <a:pt x="24" y="60"/>
                    <a:pt x="24" y="58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5"/>
                    <a:pt x="32" y="34"/>
                  </a:cubicBezTo>
                  <a:cubicBezTo>
                    <a:pt x="33" y="33"/>
                    <a:pt x="34" y="31"/>
                    <a:pt x="33" y="30"/>
                  </a:cubicBezTo>
                  <a:lnTo>
                    <a:pt x="2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51"/>
            <p:cNvSpPr/>
            <p:nvPr/>
          </p:nvSpPr>
          <p:spPr>
            <a:xfrm>
              <a:off x="772920" y="4812840"/>
              <a:ext cx="137520" cy="13536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9" h="29">
                  <a:moveTo>
                    <a:pt x="15" y="29"/>
                  </a:moveTo>
                  <a:cubicBezTo>
                    <a:pt x="23" y="29"/>
                    <a:pt x="29" y="22"/>
                    <a:pt x="29" y="14"/>
                  </a:cubicBezTo>
                  <a:cubicBezTo>
                    <a:pt x="29" y="6"/>
                    <a:pt x="23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22"/>
                    <a:pt x="7" y="29"/>
                    <a:pt x="15" y="29"/>
                  </a:cubicBezTo>
                  <a:close/>
                  <a:moveTo>
                    <a:pt x="15" y="5"/>
                  </a:moveTo>
                  <a:cubicBezTo>
                    <a:pt x="20" y="5"/>
                    <a:pt x="24" y="9"/>
                    <a:pt x="24" y="14"/>
                  </a:cubicBezTo>
                  <a:cubicBezTo>
                    <a:pt x="24" y="20"/>
                    <a:pt x="20" y="24"/>
                    <a:pt x="15" y="24"/>
                  </a:cubicBezTo>
                  <a:cubicBezTo>
                    <a:pt x="10" y="24"/>
                    <a:pt x="5" y="20"/>
                    <a:pt x="5" y="14"/>
                  </a:cubicBezTo>
                  <a:cubicBezTo>
                    <a:pt x="5" y="9"/>
                    <a:pt x="10" y="5"/>
                    <a:pt x="15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2"/>
            <p:cNvSpPr/>
            <p:nvPr/>
          </p:nvSpPr>
          <p:spPr>
            <a:xfrm>
              <a:off x="749160" y="4972320"/>
              <a:ext cx="161280" cy="29304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4" h="62">
                  <a:moveTo>
                    <a:pt x="20" y="21"/>
                  </a:moveTo>
                  <a:cubicBezTo>
                    <a:pt x="21" y="21"/>
                    <a:pt x="22" y="20"/>
                    <a:pt x="22" y="19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9" y="4"/>
                    <a:pt x="29" y="4"/>
                    <a:pt x="29" y="4"/>
                  </a:cubicBezTo>
                  <a:cubicBezTo>
                    <a:pt x="31" y="16"/>
                    <a:pt x="31" y="16"/>
                    <a:pt x="31" y="1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5"/>
                    <a:pt x="34" y="4"/>
                    <a:pt x="34" y="3"/>
                  </a:cubicBezTo>
                  <a:cubicBezTo>
                    <a:pt x="33" y="1"/>
                    <a:pt x="32" y="0"/>
                    <a:pt x="2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8" y="0"/>
                    <a:pt x="6" y="1"/>
                    <a:pt x="5" y="4"/>
                  </a:cubicBezTo>
                  <a:cubicBezTo>
                    <a:pt x="1" y="30"/>
                    <a:pt x="1" y="30"/>
                    <a:pt x="1" y="30"/>
                  </a:cubicBezTo>
                  <a:cubicBezTo>
                    <a:pt x="0" y="31"/>
                    <a:pt x="1" y="33"/>
                    <a:pt x="2" y="34"/>
                  </a:cubicBezTo>
                  <a:cubicBezTo>
                    <a:pt x="3" y="35"/>
                    <a:pt x="4" y="36"/>
                    <a:pt x="5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0"/>
                    <a:pt x="12" y="62"/>
                    <a:pt x="15" y="62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7" y="62"/>
                    <a:pt x="29" y="60"/>
                    <a:pt x="29" y="58"/>
                  </a:cubicBezTo>
                  <a:cubicBezTo>
                    <a:pt x="31" y="50"/>
                    <a:pt x="31" y="50"/>
                    <a:pt x="31" y="50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5" y="57"/>
                    <a:pt x="25" y="57"/>
                    <a:pt x="25" y="57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1"/>
                    <a:pt x="20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139"/>
          <p:cNvGrpSpPr/>
          <p:nvPr/>
        </p:nvGrpSpPr>
        <p:grpSpPr>
          <a:xfrm>
            <a:off x="1979640" y="2487600"/>
            <a:ext cx="565200" cy="565200"/>
            <a:chOff x="1979640" y="2487600"/>
            <a:chExt cx="565200" cy="565200"/>
          </a:xfrm>
        </p:grpSpPr>
        <p:sp>
          <p:nvSpPr>
            <p:cNvPr id="263" name="Freeform 53"/>
            <p:cNvSpPr/>
            <p:nvPr/>
          </p:nvSpPr>
          <p:spPr>
            <a:xfrm>
              <a:off x="1979640" y="248760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20" h="120">
                  <a:moveTo>
                    <a:pt x="114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7"/>
                    <a:pt x="3" y="90"/>
                    <a:pt x="6" y="90"/>
                  </a:cubicBezTo>
                  <a:cubicBezTo>
                    <a:pt x="45" y="90"/>
                    <a:pt x="45" y="90"/>
                    <a:pt x="45" y="90"/>
                  </a:cubicBezTo>
                  <a:cubicBezTo>
                    <a:pt x="30" y="115"/>
                    <a:pt x="30" y="115"/>
                    <a:pt x="30" y="115"/>
                  </a:cubicBezTo>
                  <a:cubicBezTo>
                    <a:pt x="30" y="117"/>
                    <a:pt x="30" y="119"/>
                    <a:pt x="32" y="120"/>
                  </a:cubicBezTo>
                  <a:cubicBezTo>
                    <a:pt x="33" y="120"/>
                    <a:pt x="35" y="120"/>
                    <a:pt x="36" y="118"/>
                  </a:cubicBezTo>
                  <a:cubicBezTo>
                    <a:pt x="52" y="90"/>
                    <a:pt x="52" y="90"/>
                    <a:pt x="52" y="90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84" y="118"/>
                    <a:pt x="84" y="118"/>
                    <a:pt x="84" y="118"/>
                  </a:cubicBezTo>
                  <a:cubicBezTo>
                    <a:pt x="85" y="120"/>
                    <a:pt x="87" y="120"/>
                    <a:pt x="88" y="120"/>
                  </a:cubicBezTo>
                  <a:cubicBezTo>
                    <a:pt x="90" y="119"/>
                    <a:pt x="90" y="117"/>
                    <a:pt x="90" y="115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17" y="90"/>
                    <a:pt x="120" y="87"/>
                    <a:pt x="120" y="84"/>
                  </a:cubicBezTo>
                  <a:cubicBezTo>
                    <a:pt x="120" y="6"/>
                    <a:pt x="120" y="6"/>
                    <a:pt x="120" y="6"/>
                  </a:cubicBezTo>
                  <a:cubicBezTo>
                    <a:pt x="120" y="3"/>
                    <a:pt x="117" y="0"/>
                    <a:pt x="114" y="0"/>
                  </a:cubicBezTo>
                  <a:close/>
                  <a:moveTo>
                    <a:pt x="114" y="84"/>
                  </a:moveTo>
                  <a:cubicBezTo>
                    <a:pt x="6" y="84"/>
                    <a:pt x="6" y="84"/>
                    <a:pt x="6" y="8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14" y="6"/>
                    <a:pt x="114" y="6"/>
                    <a:pt x="114" y="6"/>
                  </a:cubicBezTo>
                  <a:lnTo>
                    <a:pt x="114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54"/>
            <p:cNvSpPr/>
            <p:nvPr/>
          </p:nvSpPr>
          <p:spPr>
            <a:xfrm>
              <a:off x="2079000" y="2586960"/>
              <a:ext cx="366120" cy="22500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78" h="48">
                  <a:moveTo>
                    <a:pt x="3" y="48"/>
                  </a:moveTo>
                  <a:cubicBezTo>
                    <a:pt x="4" y="48"/>
                    <a:pt x="5" y="48"/>
                    <a:pt x="5" y="47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6"/>
                    <a:pt x="57" y="36"/>
                    <a:pt x="58" y="36"/>
                  </a:cubicBezTo>
                  <a:cubicBezTo>
                    <a:pt x="58" y="36"/>
                    <a:pt x="59" y="35"/>
                    <a:pt x="60" y="3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78" y="3"/>
                    <a:pt x="78" y="1"/>
                    <a:pt x="77" y="0"/>
                  </a:cubicBezTo>
                  <a:cubicBezTo>
                    <a:pt x="75" y="0"/>
                    <a:pt x="73" y="0"/>
                    <a:pt x="72" y="1"/>
                  </a:cubicBezTo>
                  <a:cubicBezTo>
                    <a:pt x="56" y="29"/>
                    <a:pt x="56" y="29"/>
                    <a:pt x="56" y="29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6" y="6"/>
                    <a:pt x="25" y="7"/>
                    <a:pt x="25" y="7"/>
                  </a:cubicBezTo>
                  <a:cubicBezTo>
                    <a:pt x="1" y="43"/>
                    <a:pt x="1" y="43"/>
                    <a:pt x="1" y="43"/>
                  </a:cubicBezTo>
                  <a:cubicBezTo>
                    <a:pt x="0" y="45"/>
                    <a:pt x="0" y="47"/>
                    <a:pt x="1" y="47"/>
                  </a:cubicBezTo>
                  <a:cubicBezTo>
                    <a:pt x="2" y="48"/>
                    <a:pt x="2" y="48"/>
                    <a:pt x="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142"/>
          <p:cNvGrpSpPr/>
          <p:nvPr/>
        </p:nvGrpSpPr>
        <p:grpSpPr>
          <a:xfrm>
            <a:off x="3147840" y="4775040"/>
            <a:ext cx="573120" cy="576360"/>
            <a:chOff x="3147840" y="4775040"/>
            <a:chExt cx="573120" cy="576360"/>
          </a:xfrm>
        </p:grpSpPr>
        <p:sp>
          <p:nvSpPr>
            <p:cNvPr id="266" name="Freeform 55"/>
            <p:cNvSpPr/>
            <p:nvPr/>
          </p:nvSpPr>
          <p:spPr>
            <a:xfrm>
              <a:off x="3147840" y="4775040"/>
              <a:ext cx="573120" cy="5763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22" h="122">
                  <a:moveTo>
                    <a:pt x="114" y="8"/>
                  </a:moveTo>
                  <a:cubicBezTo>
                    <a:pt x="106" y="0"/>
                    <a:pt x="92" y="0"/>
                    <a:pt x="84" y="8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3" y="49"/>
                    <a:pt x="43" y="53"/>
                    <a:pt x="46" y="55"/>
                  </a:cubicBezTo>
                  <a:cubicBezTo>
                    <a:pt x="12" y="89"/>
                    <a:pt x="12" y="89"/>
                    <a:pt x="12" y="89"/>
                  </a:cubicBezTo>
                  <a:cubicBezTo>
                    <a:pt x="6" y="94"/>
                    <a:pt x="2" y="106"/>
                    <a:pt x="6" y="112"/>
                  </a:cubicBezTo>
                  <a:cubicBezTo>
                    <a:pt x="1" y="117"/>
                    <a:pt x="1" y="117"/>
                    <a:pt x="1" y="117"/>
                  </a:cubicBezTo>
                  <a:cubicBezTo>
                    <a:pt x="0" y="118"/>
                    <a:pt x="0" y="120"/>
                    <a:pt x="1" y="121"/>
                  </a:cubicBezTo>
                  <a:cubicBezTo>
                    <a:pt x="2" y="122"/>
                    <a:pt x="4" y="122"/>
                    <a:pt x="5" y="121"/>
                  </a:cubicBezTo>
                  <a:cubicBezTo>
                    <a:pt x="10" y="116"/>
                    <a:pt x="10" y="116"/>
                    <a:pt x="10" y="116"/>
                  </a:cubicBezTo>
                  <a:cubicBezTo>
                    <a:pt x="16" y="120"/>
                    <a:pt x="28" y="116"/>
                    <a:pt x="33" y="110"/>
                  </a:cubicBezTo>
                  <a:cubicBezTo>
                    <a:pt x="67" y="76"/>
                    <a:pt x="67" y="76"/>
                    <a:pt x="67" y="76"/>
                  </a:cubicBezTo>
                  <a:cubicBezTo>
                    <a:pt x="69" y="79"/>
                    <a:pt x="73" y="79"/>
                    <a:pt x="75" y="76"/>
                  </a:cubicBezTo>
                  <a:cubicBezTo>
                    <a:pt x="114" y="38"/>
                    <a:pt x="114" y="38"/>
                    <a:pt x="114" y="38"/>
                  </a:cubicBezTo>
                  <a:cubicBezTo>
                    <a:pt x="122" y="30"/>
                    <a:pt x="122" y="16"/>
                    <a:pt x="114" y="8"/>
                  </a:cubicBezTo>
                  <a:close/>
                  <a:moveTo>
                    <a:pt x="29" y="106"/>
                  </a:moveTo>
                  <a:cubicBezTo>
                    <a:pt x="25" y="110"/>
                    <a:pt x="15" y="114"/>
                    <a:pt x="12" y="110"/>
                  </a:cubicBezTo>
                  <a:cubicBezTo>
                    <a:pt x="8" y="107"/>
                    <a:pt x="12" y="97"/>
                    <a:pt x="16" y="93"/>
                  </a:cubicBezTo>
                  <a:cubicBezTo>
                    <a:pt x="50" y="59"/>
                    <a:pt x="50" y="59"/>
                    <a:pt x="50" y="59"/>
                  </a:cubicBezTo>
                  <a:cubicBezTo>
                    <a:pt x="63" y="72"/>
                    <a:pt x="63" y="72"/>
                    <a:pt x="63" y="72"/>
                  </a:cubicBezTo>
                  <a:lnTo>
                    <a:pt x="29" y="106"/>
                  </a:lnTo>
                  <a:close/>
                  <a:moveTo>
                    <a:pt x="71" y="72"/>
                  </a:moveTo>
                  <a:cubicBezTo>
                    <a:pt x="50" y="51"/>
                    <a:pt x="50" y="51"/>
                    <a:pt x="50" y="51"/>
                  </a:cubicBezTo>
                  <a:cubicBezTo>
                    <a:pt x="88" y="12"/>
                    <a:pt x="88" y="12"/>
                    <a:pt x="88" y="12"/>
                  </a:cubicBezTo>
                  <a:cubicBezTo>
                    <a:pt x="94" y="7"/>
                    <a:pt x="104" y="7"/>
                    <a:pt x="110" y="12"/>
                  </a:cubicBezTo>
                  <a:cubicBezTo>
                    <a:pt x="115" y="18"/>
                    <a:pt x="115" y="28"/>
                    <a:pt x="110" y="34"/>
                  </a:cubicBezTo>
                  <a:lnTo>
                    <a:pt x="7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56"/>
            <p:cNvSpPr/>
            <p:nvPr/>
          </p:nvSpPr>
          <p:spPr>
            <a:xfrm>
              <a:off x="3528000" y="4986360"/>
              <a:ext cx="178920" cy="185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8" h="39">
                  <a:moveTo>
                    <a:pt x="37" y="2"/>
                  </a:moveTo>
                  <a:cubicBezTo>
                    <a:pt x="36" y="0"/>
                    <a:pt x="34" y="0"/>
                    <a:pt x="33" y="2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0" y="35"/>
                    <a:pt x="0" y="37"/>
                    <a:pt x="1" y="38"/>
                  </a:cubicBezTo>
                  <a:cubicBezTo>
                    <a:pt x="2" y="39"/>
                    <a:pt x="4" y="39"/>
                    <a:pt x="5" y="38"/>
                  </a:cubicBezTo>
                  <a:cubicBezTo>
                    <a:pt x="37" y="6"/>
                    <a:pt x="37" y="6"/>
                    <a:pt x="37" y="6"/>
                  </a:cubicBezTo>
                  <a:cubicBezTo>
                    <a:pt x="38" y="5"/>
                    <a:pt x="38" y="3"/>
                    <a:pt x="37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145"/>
          <p:cNvGrpSpPr/>
          <p:nvPr/>
        </p:nvGrpSpPr>
        <p:grpSpPr>
          <a:xfrm>
            <a:off x="749160" y="6064200"/>
            <a:ext cx="565200" cy="368280"/>
            <a:chOff x="749160" y="6064200"/>
            <a:chExt cx="565200" cy="368280"/>
          </a:xfrm>
        </p:grpSpPr>
        <p:sp>
          <p:nvSpPr>
            <p:cNvPr id="269" name="Oval 57"/>
            <p:cNvSpPr/>
            <p:nvPr/>
          </p:nvSpPr>
          <p:spPr>
            <a:xfrm>
              <a:off x="1200960" y="6319080"/>
              <a:ext cx="5760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Oval 58"/>
            <p:cNvSpPr/>
            <p:nvPr/>
          </p:nvSpPr>
          <p:spPr>
            <a:xfrm>
              <a:off x="1117440" y="631908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59"/>
            <p:cNvSpPr/>
            <p:nvPr/>
          </p:nvSpPr>
          <p:spPr>
            <a:xfrm>
              <a:off x="749160" y="6064200"/>
              <a:ext cx="565200" cy="36828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20" h="78">
                  <a:moveTo>
                    <a:pt x="108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5"/>
                    <a:pt x="0" y="1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3"/>
                    <a:pt x="5" y="78"/>
                    <a:pt x="12" y="78"/>
                  </a:cubicBezTo>
                  <a:cubicBezTo>
                    <a:pt x="108" y="78"/>
                    <a:pt x="108" y="78"/>
                    <a:pt x="108" y="78"/>
                  </a:cubicBezTo>
                  <a:cubicBezTo>
                    <a:pt x="115" y="78"/>
                    <a:pt x="120" y="73"/>
                    <a:pt x="120" y="66"/>
                  </a:cubicBezTo>
                  <a:cubicBezTo>
                    <a:pt x="120" y="12"/>
                    <a:pt x="120" y="12"/>
                    <a:pt x="120" y="12"/>
                  </a:cubicBezTo>
                  <a:cubicBezTo>
                    <a:pt x="120" y="5"/>
                    <a:pt x="115" y="0"/>
                    <a:pt x="108" y="0"/>
                  </a:cubicBezTo>
                  <a:close/>
                  <a:moveTo>
                    <a:pt x="114" y="66"/>
                  </a:moveTo>
                  <a:cubicBezTo>
                    <a:pt x="114" y="69"/>
                    <a:pt x="111" y="72"/>
                    <a:pt x="108" y="72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9" y="72"/>
                    <a:pt x="6" y="69"/>
                    <a:pt x="6" y="66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114" y="36"/>
                    <a:pt x="114" y="36"/>
                    <a:pt x="114" y="36"/>
                  </a:cubicBezTo>
                  <a:lnTo>
                    <a:pt x="114" y="66"/>
                  </a:lnTo>
                  <a:close/>
                  <a:moveTo>
                    <a:pt x="114" y="30"/>
                  </a:moveTo>
                  <a:cubicBezTo>
                    <a:pt x="6" y="30"/>
                    <a:pt x="6" y="30"/>
                    <a:pt x="6" y="30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114" y="24"/>
                    <a:pt x="114" y="24"/>
                    <a:pt x="114" y="24"/>
                  </a:cubicBezTo>
                  <a:lnTo>
                    <a:pt x="114" y="30"/>
                  </a:lnTo>
                  <a:close/>
                  <a:moveTo>
                    <a:pt x="114" y="18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9"/>
                    <a:pt x="9" y="6"/>
                    <a:pt x="12" y="6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11" y="6"/>
                    <a:pt x="114" y="9"/>
                    <a:pt x="114" y="12"/>
                  </a:cubicBezTo>
                  <a:lnTo>
                    <a:pt x="11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Freeform 60"/>
          <p:cNvSpPr/>
          <p:nvPr/>
        </p:nvSpPr>
        <p:spPr>
          <a:xfrm>
            <a:off x="2016000" y="6033960"/>
            <a:ext cx="565200" cy="414360"/>
          </a:xfrm>
          <a:custGeom>
            <a:avLst/>
            <a:gdLst>
              <a:gd name="textAreaLeft" fmla="*/ 0 w 565200"/>
              <a:gd name="textAreaRight" fmla="*/ 565560 w 5652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20" h="88">
                <a:moveTo>
                  <a:pt x="119" y="34"/>
                </a:moveTo>
                <a:cubicBezTo>
                  <a:pt x="86" y="1"/>
                  <a:pt x="86" y="1"/>
                  <a:pt x="86" y="1"/>
                </a:cubicBezTo>
                <a:cubicBezTo>
                  <a:pt x="85" y="0"/>
                  <a:pt x="81" y="0"/>
                  <a:pt x="79" y="1"/>
                </a:cubicBezTo>
                <a:cubicBezTo>
                  <a:pt x="65" y="16"/>
                  <a:pt x="65" y="16"/>
                  <a:pt x="65" y="16"/>
                </a:cubicBezTo>
                <a:cubicBezTo>
                  <a:pt x="63" y="18"/>
                  <a:pt x="63" y="21"/>
                  <a:pt x="65" y="23"/>
                </a:cubicBezTo>
                <a:cubicBezTo>
                  <a:pt x="69" y="27"/>
                  <a:pt x="69" y="27"/>
                  <a:pt x="69" y="27"/>
                </a:cubicBezTo>
                <a:cubicBezTo>
                  <a:pt x="66" y="27"/>
                  <a:pt x="63" y="28"/>
                  <a:pt x="62" y="28"/>
                </a:cubicBezTo>
                <a:cubicBezTo>
                  <a:pt x="53" y="25"/>
                  <a:pt x="53" y="25"/>
                  <a:pt x="53" y="25"/>
                </a:cubicBezTo>
                <a:cubicBezTo>
                  <a:pt x="55" y="23"/>
                  <a:pt x="55" y="23"/>
                  <a:pt x="55" y="23"/>
                </a:cubicBezTo>
                <a:cubicBezTo>
                  <a:pt x="56" y="22"/>
                  <a:pt x="57" y="21"/>
                  <a:pt x="57" y="20"/>
                </a:cubicBezTo>
                <a:cubicBezTo>
                  <a:pt x="57" y="18"/>
                  <a:pt x="56" y="17"/>
                  <a:pt x="55" y="16"/>
                </a:cubicBezTo>
                <a:cubicBezTo>
                  <a:pt x="41" y="1"/>
                  <a:pt x="41" y="1"/>
                  <a:pt x="41" y="1"/>
                </a:cubicBezTo>
                <a:cubicBezTo>
                  <a:pt x="39" y="0"/>
                  <a:pt x="35" y="0"/>
                  <a:pt x="34" y="1"/>
                </a:cubicBezTo>
                <a:cubicBezTo>
                  <a:pt x="1" y="34"/>
                  <a:pt x="1" y="34"/>
                  <a:pt x="1" y="34"/>
                </a:cubicBezTo>
                <a:cubicBezTo>
                  <a:pt x="1" y="35"/>
                  <a:pt x="0" y="36"/>
                  <a:pt x="0" y="37"/>
                </a:cubicBezTo>
                <a:cubicBezTo>
                  <a:pt x="0" y="38"/>
                  <a:pt x="1" y="40"/>
                  <a:pt x="1" y="41"/>
                </a:cubicBezTo>
                <a:cubicBezTo>
                  <a:pt x="16" y="55"/>
                  <a:pt x="16" y="55"/>
                  <a:pt x="16" y="55"/>
                </a:cubicBezTo>
                <a:cubicBezTo>
                  <a:pt x="17" y="56"/>
                  <a:pt x="18" y="57"/>
                  <a:pt x="20" y="57"/>
                </a:cubicBezTo>
                <a:cubicBezTo>
                  <a:pt x="21" y="57"/>
                  <a:pt x="22" y="56"/>
                  <a:pt x="23" y="55"/>
                </a:cubicBezTo>
                <a:cubicBezTo>
                  <a:pt x="24" y="54"/>
                  <a:pt x="24" y="54"/>
                  <a:pt x="24" y="54"/>
                </a:cubicBezTo>
                <a:cubicBezTo>
                  <a:pt x="27" y="60"/>
                  <a:pt x="35" y="71"/>
                  <a:pt x="42" y="77"/>
                </a:cubicBezTo>
                <a:cubicBezTo>
                  <a:pt x="50" y="85"/>
                  <a:pt x="50" y="85"/>
                  <a:pt x="50" y="85"/>
                </a:cubicBezTo>
                <a:cubicBezTo>
                  <a:pt x="52" y="87"/>
                  <a:pt x="54" y="88"/>
                  <a:pt x="56" y="88"/>
                </a:cubicBezTo>
                <a:cubicBezTo>
                  <a:pt x="58" y="88"/>
                  <a:pt x="60" y="87"/>
                  <a:pt x="61" y="86"/>
                </a:cubicBezTo>
                <a:cubicBezTo>
                  <a:pt x="63" y="84"/>
                  <a:pt x="63" y="83"/>
                  <a:pt x="63" y="82"/>
                </a:cubicBezTo>
                <a:cubicBezTo>
                  <a:pt x="65" y="82"/>
                  <a:pt x="68" y="82"/>
                  <a:pt x="69" y="80"/>
                </a:cubicBezTo>
                <a:cubicBezTo>
                  <a:pt x="71" y="79"/>
                  <a:pt x="71" y="77"/>
                  <a:pt x="71" y="76"/>
                </a:cubicBezTo>
                <a:cubicBezTo>
                  <a:pt x="73" y="77"/>
                  <a:pt x="76" y="77"/>
                  <a:pt x="77" y="75"/>
                </a:cubicBezTo>
                <a:cubicBezTo>
                  <a:pt x="79" y="73"/>
                  <a:pt x="79" y="72"/>
                  <a:pt x="79" y="71"/>
                </a:cubicBezTo>
                <a:cubicBezTo>
                  <a:pt x="81" y="71"/>
                  <a:pt x="84" y="71"/>
                  <a:pt x="85" y="70"/>
                </a:cubicBezTo>
                <a:cubicBezTo>
                  <a:pt x="87" y="68"/>
                  <a:pt x="88" y="66"/>
                  <a:pt x="87" y="62"/>
                </a:cubicBezTo>
                <a:cubicBezTo>
                  <a:pt x="89" y="60"/>
                  <a:pt x="93" y="58"/>
                  <a:pt x="97" y="55"/>
                </a:cubicBezTo>
                <a:cubicBezTo>
                  <a:pt x="98" y="56"/>
                  <a:pt x="99" y="57"/>
                  <a:pt x="100" y="57"/>
                </a:cubicBezTo>
                <a:cubicBezTo>
                  <a:pt x="102" y="57"/>
                  <a:pt x="103" y="56"/>
                  <a:pt x="104" y="55"/>
                </a:cubicBezTo>
                <a:cubicBezTo>
                  <a:pt x="119" y="41"/>
                  <a:pt x="119" y="41"/>
                  <a:pt x="119" y="41"/>
                </a:cubicBezTo>
                <a:cubicBezTo>
                  <a:pt x="120" y="39"/>
                  <a:pt x="120" y="36"/>
                  <a:pt x="119" y="34"/>
                </a:cubicBezTo>
                <a:close/>
                <a:moveTo>
                  <a:pt x="20" y="50"/>
                </a:moveTo>
                <a:cubicBezTo>
                  <a:pt x="6" y="37"/>
                  <a:pt x="6" y="37"/>
                  <a:pt x="6" y="37"/>
                </a:cubicBezTo>
                <a:cubicBezTo>
                  <a:pt x="37" y="6"/>
                  <a:pt x="37" y="6"/>
                  <a:pt x="37" y="6"/>
                </a:cubicBezTo>
                <a:cubicBezTo>
                  <a:pt x="50" y="20"/>
                  <a:pt x="50" y="20"/>
                  <a:pt x="50" y="20"/>
                </a:cubicBezTo>
                <a:lnTo>
                  <a:pt x="20" y="50"/>
                </a:lnTo>
                <a:close/>
                <a:moveTo>
                  <a:pt x="81" y="65"/>
                </a:moveTo>
                <a:cubicBezTo>
                  <a:pt x="81" y="65"/>
                  <a:pt x="81" y="65"/>
                  <a:pt x="80" y="65"/>
                </a:cubicBezTo>
                <a:cubicBezTo>
                  <a:pt x="80" y="65"/>
                  <a:pt x="79" y="65"/>
                  <a:pt x="78" y="65"/>
                </a:cubicBezTo>
                <a:cubicBezTo>
                  <a:pt x="77" y="65"/>
                  <a:pt x="76" y="65"/>
                  <a:pt x="75" y="66"/>
                </a:cubicBezTo>
                <a:cubicBezTo>
                  <a:pt x="74" y="67"/>
                  <a:pt x="74" y="69"/>
                  <a:pt x="74" y="70"/>
                </a:cubicBezTo>
                <a:cubicBezTo>
                  <a:pt x="73" y="70"/>
                  <a:pt x="73" y="70"/>
                  <a:pt x="73" y="71"/>
                </a:cubicBezTo>
                <a:cubicBezTo>
                  <a:pt x="73" y="71"/>
                  <a:pt x="73" y="70"/>
                  <a:pt x="72" y="70"/>
                </a:cubicBezTo>
                <a:cubicBezTo>
                  <a:pt x="72" y="70"/>
                  <a:pt x="71" y="70"/>
                  <a:pt x="70" y="70"/>
                </a:cubicBezTo>
                <a:cubicBezTo>
                  <a:pt x="69" y="70"/>
                  <a:pt x="68" y="71"/>
                  <a:pt x="67" y="71"/>
                </a:cubicBezTo>
                <a:cubicBezTo>
                  <a:pt x="66" y="73"/>
                  <a:pt x="66" y="74"/>
                  <a:pt x="65" y="75"/>
                </a:cubicBezTo>
                <a:cubicBezTo>
                  <a:pt x="65" y="76"/>
                  <a:pt x="65" y="76"/>
                  <a:pt x="65" y="76"/>
                </a:cubicBezTo>
                <a:cubicBezTo>
                  <a:pt x="65" y="76"/>
                  <a:pt x="65" y="76"/>
                  <a:pt x="64" y="76"/>
                </a:cubicBezTo>
                <a:cubicBezTo>
                  <a:pt x="64" y="76"/>
                  <a:pt x="63" y="75"/>
                  <a:pt x="62" y="75"/>
                </a:cubicBezTo>
                <a:cubicBezTo>
                  <a:pt x="61" y="75"/>
                  <a:pt x="60" y="76"/>
                  <a:pt x="59" y="77"/>
                </a:cubicBezTo>
                <a:cubicBezTo>
                  <a:pt x="58" y="78"/>
                  <a:pt x="58" y="80"/>
                  <a:pt x="57" y="80"/>
                </a:cubicBezTo>
                <a:cubicBezTo>
                  <a:pt x="57" y="81"/>
                  <a:pt x="57" y="81"/>
                  <a:pt x="57" y="81"/>
                </a:cubicBezTo>
                <a:cubicBezTo>
                  <a:pt x="56" y="82"/>
                  <a:pt x="56" y="82"/>
                  <a:pt x="56" y="82"/>
                </a:cubicBezTo>
                <a:cubicBezTo>
                  <a:pt x="55" y="82"/>
                  <a:pt x="55" y="82"/>
                  <a:pt x="54" y="81"/>
                </a:cubicBezTo>
                <a:cubicBezTo>
                  <a:pt x="46" y="73"/>
                  <a:pt x="46" y="73"/>
                  <a:pt x="46" y="73"/>
                </a:cubicBezTo>
                <a:cubicBezTo>
                  <a:pt x="39" y="66"/>
                  <a:pt x="31" y="55"/>
                  <a:pt x="28" y="50"/>
                </a:cubicBezTo>
                <a:cubicBezTo>
                  <a:pt x="48" y="30"/>
                  <a:pt x="48" y="30"/>
                  <a:pt x="48" y="30"/>
                </a:cubicBezTo>
                <a:cubicBezTo>
                  <a:pt x="53" y="31"/>
                  <a:pt x="53" y="31"/>
                  <a:pt x="53" y="31"/>
                </a:cubicBezTo>
                <a:cubicBezTo>
                  <a:pt x="49" y="34"/>
                  <a:pt x="46" y="38"/>
                  <a:pt x="44" y="41"/>
                </a:cubicBezTo>
                <a:cubicBezTo>
                  <a:pt x="43" y="42"/>
                  <a:pt x="42" y="43"/>
                  <a:pt x="42" y="43"/>
                </a:cubicBezTo>
                <a:cubicBezTo>
                  <a:pt x="40" y="45"/>
                  <a:pt x="39" y="47"/>
                  <a:pt x="40" y="49"/>
                </a:cubicBezTo>
                <a:cubicBezTo>
                  <a:pt x="41" y="51"/>
                  <a:pt x="42" y="52"/>
                  <a:pt x="43" y="53"/>
                </a:cubicBezTo>
                <a:cubicBezTo>
                  <a:pt x="45" y="55"/>
                  <a:pt x="46" y="55"/>
                  <a:pt x="48" y="55"/>
                </a:cubicBezTo>
                <a:cubicBezTo>
                  <a:pt x="52" y="55"/>
                  <a:pt x="56" y="53"/>
                  <a:pt x="59" y="50"/>
                </a:cubicBezTo>
                <a:cubicBezTo>
                  <a:pt x="60" y="49"/>
                  <a:pt x="62" y="48"/>
                  <a:pt x="64" y="47"/>
                </a:cubicBezTo>
                <a:cubicBezTo>
                  <a:pt x="70" y="52"/>
                  <a:pt x="75" y="57"/>
                  <a:pt x="79" y="61"/>
                </a:cubicBezTo>
                <a:cubicBezTo>
                  <a:pt x="82" y="64"/>
                  <a:pt x="81" y="65"/>
                  <a:pt x="81" y="65"/>
                </a:cubicBezTo>
                <a:close/>
                <a:moveTo>
                  <a:pt x="83" y="57"/>
                </a:moveTo>
                <a:cubicBezTo>
                  <a:pt x="78" y="51"/>
                  <a:pt x="72" y="46"/>
                  <a:pt x="67" y="42"/>
                </a:cubicBezTo>
                <a:cubicBezTo>
                  <a:pt x="66" y="41"/>
                  <a:pt x="64" y="41"/>
                  <a:pt x="62" y="42"/>
                </a:cubicBezTo>
                <a:cubicBezTo>
                  <a:pt x="60" y="42"/>
                  <a:pt x="58" y="43"/>
                  <a:pt x="56" y="45"/>
                </a:cubicBezTo>
                <a:cubicBezTo>
                  <a:pt x="53" y="47"/>
                  <a:pt x="50" y="49"/>
                  <a:pt x="48" y="49"/>
                </a:cubicBezTo>
                <a:cubicBezTo>
                  <a:pt x="48" y="49"/>
                  <a:pt x="47" y="48"/>
                  <a:pt x="46" y="48"/>
                </a:cubicBezTo>
                <a:cubicBezTo>
                  <a:pt x="46" y="48"/>
                  <a:pt x="47" y="46"/>
                  <a:pt x="48" y="45"/>
                </a:cubicBezTo>
                <a:cubicBezTo>
                  <a:pt x="52" y="41"/>
                  <a:pt x="56" y="36"/>
                  <a:pt x="62" y="34"/>
                </a:cubicBezTo>
                <a:cubicBezTo>
                  <a:pt x="67" y="32"/>
                  <a:pt x="70" y="33"/>
                  <a:pt x="75" y="33"/>
                </a:cubicBezTo>
                <a:cubicBezTo>
                  <a:pt x="93" y="51"/>
                  <a:pt x="93" y="51"/>
                  <a:pt x="93" y="51"/>
                </a:cubicBezTo>
                <a:cubicBezTo>
                  <a:pt x="89" y="53"/>
                  <a:pt x="86" y="55"/>
                  <a:pt x="84" y="57"/>
                </a:cubicBezTo>
                <a:cubicBezTo>
                  <a:pt x="84" y="57"/>
                  <a:pt x="84" y="57"/>
                  <a:pt x="83" y="57"/>
                </a:cubicBezTo>
                <a:close/>
                <a:moveTo>
                  <a:pt x="100" y="50"/>
                </a:moveTo>
                <a:cubicBezTo>
                  <a:pt x="70" y="20"/>
                  <a:pt x="70" y="20"/>
                  <a:pt x="70" y="20"/>
                </a:cubicBezTo>
                <a:cubicBezTo>
                  <a:pt x="83" y="6"/>
                  <a:pt x="83" y="6"/>
                  <a:pt x="83" y="6"/>
                </a:cubicBezTo>
                <a:cubicBezTo>
                  <a:pt x="114" y="37"/>
                  <a:pt x="114" y="37"/>
                  <a:pt x="114" y="37"/>
                </a:cubicBezTo>
                <a:lnTo>
                  <a:pt x="100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50"/>
          <p:cNvGrpSpPr/>
          <p:nvPr/>
        </p:nvGrpSpPr>
        <p:grpSpPr>
          <a:xfrm>
            <a:off x="3281400" y="5934240"/>
            <a:ext cx="565200" cy="564840"/>
            <a:chOff x="3281400" y="5934240"/>
            <a:chExt cx="565200" cy="564840"/>
          </a:xfrm>
        </p:grpSpPr>
        <p:sp>
          <p:nvSpPr>
            <p:cNvPr id="274" name="Freeform 61"/>
            <p:cNvSpPr/>
            <p:nvPr/>
          </p:nvSpPr>
          <p:spPr>
            <a:xfrm>
              <a:off x="3281400" y="5934240"/>
              <a:ext cx="565200" cy="56484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120" h="120">
                  <a:moveTo>
                    <a:pt x="18" y="0"/>
                  </a:moveTo>
                  <a:cubicBezTo>
                    <a:pt x="18" y="108"/>
                    <a:pt x="18" y="108"/>
                    <a:pt x="18" y="108"/>
                  </a:cubicBezTo>
                  <a:cubicBezTo>
                    <a:pt x="18" y="111"/>
                    <a:pt x="15" y="114"/>
                    <a:pt x="12" y="114"/>
                  </a:cubicBezTo>
                  <a:cubicBezTo>
                    <a:pt x="9" y="114"/>
                    <a:pt x="6" y="111"/>
                    <a:pt x="6" y="108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0" y="115"/>
                    <a:pt x="5" y="120"/>
                    <a:pt x="12" y="120"/>
                  </a:cubicBezTo>
                  <a:cubicBezTo>
                    <a:pt x="120" y="120"/>
                    <a:pt x="120" y="120"/>
                    <a:pt x="120" y="120"/>
                  </a:cubicBezTo>
                  <a:cubicBezTo>
                    <a:pt x="120" y="0"/>
                    <a:pt x="120" y="0"/>
                    <a:pt x="120" y="0"/>
                  </a:cubicBezTo>
                  <a:lnTo>
                    <a:pt x="18" y="0"/>
                  </a:lnTo>
                  <a:close/>
                  <a:moveTo>
                    <a:pt x="114" y="114"/>
                  </a:moveTo>
                  <a:cubicBezTo>
                    <a:pt x="22" y="114"/>
                    <a:pt x="22" y="114"/>
                    <a:pt x="22" y="114"/>
                  </a:cubicBezTo>
                  <a:cubicBezTo>
                    <a:pt x="23" y="112"/>
                    <a:pt x="24" y="110"/>
                    <a:pt x="24" y="108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114" y="6"/>
                    <a:pt x="114" y="6"/>
                    <a:pt x="114" y="6"/>
                  </a:cubicBezTo>
                  <a:lnTo>
                    <a:pt x="11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62"/>
            <p:cNvSpPr/>
            <p:nvPr/>
          </p:nvSpPr>
          <p:spPr>
            <a:xfrm>
              <a:off x="3422520" y="6017760"/>
              <a:ext cx="141120" cy="1411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71" h="71">
                  <a:moveTo>
                    <a:pt x="71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71" y="71"/>
                  </a:lnTo>
                  <a:lnTo>
                    <a:pt x="71" y="0"/>
                  </a:lnTo>
                  <a:close/>
                  <a:moveTo>
                    <a:pt x="56" y="57"/>
                  </a:moveTo>
                  <a:lnTo>
                    <a:pt x="14" y="57"/>
                  </a:lnTo>
                  <a:lnTo>
                    <a:pt x="14" y="15"/>
                  </a:lnTo>
                  <a:lnTo>
                    <a:pt x="56" y="15"/>
                  </a:lnTo>
                  <a:lnTo>
                    <a:pt x="5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3591720" y="6017760"/>
              <a:ext cx="1969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3591720" y="6103080"/>
              <a:ext cx="1969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3422520" y="6188760"/>
              <a:ext cx="3661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3422520" y="6300360"/>
              <a:ext cx="3661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3422520" y="6385680"/>
              <a:ext cx="16920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Freeform 68"/>
          <p:cNvSpPr/>
          <p:nvPr/>
        </p:nvSpPr>
        <p:spPr>
          <a:xfrm>
            <a:off x="6759720" y="4859280"/>
            <a:ext cx="564840" cy="452520"/>
          </a:xfrm>
          <a:custGeom>
            <a:avLst/>
            <a:gdLst>
              <a:gd name="textAreaLeft" fmla="*/ 0 w 564840"/>
              <a:gd name="textAreaRight" fmla="*/ 565200 w 56484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120" h="96">
                <a:moveTo>
                  <a:pt x="114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5"/>
                  <a:pt x="3" y="78"/>
                  <a:pt x="6" y="78"/>
                </a:cubicBezTo>
                <a:cubicBezTo>
                  <a:pt x="48" y="78"/>
                  <a:pt x="48" y="78"/>
                  <a:pt x="48" y="78"/>
                </a:cubicBezTo>
                <a:cubicBezTo>
                  <a:pt x="48" y="90"/>
                  <a:pt x="48" y="90"/>
                  <a:pt x="48" y="90"/>
                </a:cubicBezTo>
                <a:cubicBezTo>
                  <a:pt x="24" y="90"/>
                  <a:pt x="24" y="90"/>
                  <a:pt x="24" y="90"/>
                </a:cubicBezTo>
                <a:cubicBezTo>
                  <a:pt x="22" y="90"/>
                  <a:pt x="21" y="91"/>
                  <a:pt x="21" y="93"/>
                </a:cubicBezTo>
                <a:cubicBezTo>
                  <a:pt x="21" y="95"/>
                  <a:pt x="22" y="96"/>
                  <a:pt x="24" y="96"/>
                </a:cubicBezTo>
                <a:cubicBezTo>
                  <a:pt x="96" y="96"/>
                  <a:pt x="96" y="96"/>
                  <a:pt x="96" y="96"/>
                </a:cubicBezTo>
                <a:cubicBezTo>
                  <a:pt x="98" y="96"/>
                  <a:pt x="99" y="95"/>
                  <a:pt x="99" y="93"/>
                </a:cubicBezTo>
                <a:cubicBezTo>
                  <a:pt x="99" y="91"/>
                  <a:pt x="98" y="90"/>
                  <a:pt x="96" y="90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78"/>
                  <a:pt x="72" y="78"/>
                  <a:pt x="72" y="78"/>
                </a:cubicBezTo>
                <a:cubicBezTo>
                  <a:pt x="114" y="78"/>
                  <a:pt x="114" y="78"/>
                  <a:pt x="114" y="78"/>
                </a:cubicBezTo>
                <a:cubicBezTo>
                  <a:pt x="117" y="78"/>
                  <a:pt x="120" y="75"/>
                  <a:pt x="120" y="72"/>
                </a:cubicBezTo>
                <a:cubicBezTo>
                  <a:pt x="120" y="6"/>
                  <a:pt x="120" y="6"/>
                  <a:pt x="120" y="6"/>
                </a:cubicBezTo>
                <a:cubicBezTo>
                  <a:pt x="120" y="3"/>
                  <a:pt x="117" y="0"/>
                  <a:pt x="114" y="0"/>
                </a:cubicBezTo>
                <a:close/>
                <a:moveTo>
                  <a:pt x="66" y="90"/>
                </a:moveTo>
                <a:cubicBezTo>
                  <a:pt x="54" y="90"/>
                  <a:pt x="54" y="90"/>
                  <a:pt x="54" y="90"/>
                </a:cubicBezTo>
                <a:cubicBezTo>
                  <a:pt x="54" y="78"/>
                  <a:pt x="54" y="78"/>
                  <a:pt x="54" y="78"/>
                </a:cubicBezTo>
                <a:cubicBezTo>
                  <a:pt x="66" y="78"/>
                  <a:pt x="66" y="78"/>
                  <a:pt x="66" y="78"/>
                </a:cubicBezTo>
                <a:lnTo>
                  <a:pt x="66" y="90"/>
                </a:lnTo>
                <a:close/>
                <a:moveTo>
                  <a:pt x="114" y="72"/>
                </a:moveTo>
                <a:cubicBezTo>
                  <a:pt x="6" y="72"/>
                  <a:pt x="6" y="72"/>
                  <a:pt x="6" y="72"/>
                </a:cubicBezTo>
                <a:cubicBezTo>
                  <a:pt x="6" y="6"/>
                  <a:pt x="6" y="6"/>
                  <a:pt x="6" y="6"/>
                </a:cubicBezTo>
                <a:cubicBezTo>
                  <a:pt x="114" y="6"/>
                  <a:pt x="114" y="6"/>
                  <a:pt x="114" y="6"/>
                </a:cubicBezTo>
                <a:lnTo>
                  <a:pt x="114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59"/>
          <p:cNvGrpSpPr/>
          <p:nvPr/>
        </p:nvGrpSpPr>
        <p:grpSpPr>
          <a:xfrm>
            <a:off x="5813280" y="5934240"/>
            <a:ext cx="452520" cy="564840"/>
            <a:chOff x="5813280" y="5934240"/>
            <a:chExt cx="452520" cy="564840"/>
          </a:xfrm>
        </p:grpSpPr>
        <p:sp>
          <p:nvSpPr>
            <p:cNvPr id="283" name="Freeform 69"/>
            <p:cNvSpPr/>
            <p:nvPr/>
          </p:nvSpPr>
          <p:spPr>
            <a:xfrm>
              <a:off x="5813280" y="5934240"/>
              <a:ext cx="452520" cy="5648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96" h="120">
                  <a:moveTo>
                    <a:pt x="90" y="18"/>
                  </a:moveTo>
                  <a:cubicBezTo>
                    <a:pt x="78" y="18"/>
                    <a:pt x="78" y="18"/>
                    <a:pt x="78" y="18"/>
                  </a:cubicBezTo>
                  <a:cubicBezTo>
                    <a:pt x="78" y="15"/>
                    <a:pt x="75" y="12"/>
                    <a:pt x="72" y="12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66" y="6"/>
                    <a:pt x="66" y="6"/>
                    <a:pt x="66" y="6"/>
                  </a:cubicBezTo>
                  <a:cubicBezTo>
                    <a:pt x="66" y="3"/>
                    <a:pt x="63" y="0"/>
                    <a:pt x="6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3" y="0"/>
                    <a:pt x="30" y="3"/>
                    <a:pt x="30" y="6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1" y="12"/>
                    <a:pt x="18" y="15"/>
                    <a:pt x="18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3" y="18"/>
                    <a:pt x="0" y="21"/>
                    <a:pt x="0" y="2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90" y="120"/>
                    <a:pt x="90" y="120"/>
                    <a:pt x="90" y="120"/>
                  </a:cubicBezTo>
                  <a:cubicBezTo>
                    <a:pt x="93" y="120"/>
                    <a:pt x="96" y="117"/>
                    <a:pt x="96" y="114"/>
                  </a:cubicBezTo>
                  <a:cubicBezTo>
                    <a:pt x="96" y="24"/>
                    <a:pt x="96" y="24"/>
                    <a:pt x="96" y="24"/>
                  </a:cubicBezTo>
                  <a:cubicBezTo>
                    <a:pt x="96" y="21"/>
                    <a:pt x="93" y="18"/>
                    <a:pt x="90" y="18"/>
                  </a:cubicBezTo>
                  <a:close/>
                  <a:moveTo>
                    <a:pt x="24" y="18"/>
                  </a:moveTo>
                  <a:cubicBezTo>
                    <a:pt x="36" y="18"/>
                    <a:pt x="36" y="18"/>
                    <a:pt x="36" y="18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72" y="18"/>
                    <a:pt x="72" y="18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24" y="24"/>
                    <a:pt x="24" y="24"/>
                    <a:pt x="24" y="24"/>
                  </a:cubicBezTo>
                  <a:lnTo>
                    <a:pt x="24" y="18"/>
                  </a:lnTo>
                  <a:close/>
                  <a:moveTo>
                    <a:pt x="90" y="114"/>
                  </a:moveTo>
                  <a:cubicBezTo>
                    <a:pt x="6" y="114"/>
                    <a:pt x="6" y="114"/>
                    <a:pt x="6" y="11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8" y="27"/>
                    <a:pt x="21" y="30"/>
                    <a:pt x="24" y="30"/>
                  </a:cubicBezTo>
                  <a:cubicBezTo>
                    <a:pt x="72" y="30"/>
                    <a:pt x="72" y="30"/>
                    <a:pt x="72" y="30"/>
                  </a:cubicBezTo>
                  <a:cubicBezTo>
                    <a:pt x="75" y="30"/>
                    <a:pt x="78" y="27"/>
                    <a:pt x="78" y="24"/>
                  </a:cubicBezTo>
                  <a:cubicBezTo>
                    <a:pt x="90" y="24"/>
                    <a:pt x="90" y="24"/>
                    <a:pt x="90" y="24"/>
                  </a:cubicBezTo>
                  <a:lnTo>
                    <a:pt x="9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70"/>
            <p:cNvSpPr/>
            <p:nvPr/>
          </p:nvSpPr>
          <p:spPr>
            <a:xfrm>
              <a:off x="5896800" y="613116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Rectangle 71"/>
            <p:cNvSpPr/>
            <p:nvPr/>
          </p:nvSpPr>
          <p:spPr>
            <a:xfrm>
              <a:off x="5896800" y="621648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163"/>
          <p:cNvGrpSpPr/>
          <p:nvPr/>
        </p:nvGrpSpPr>
        <p:grpSpPr>
          <a:xfrm>
            <a:off x="10810800" y="4916520"/>
            <a:ext cx="565200" cy="309600"/>
            <a:chOff x="10810800" y="4916520"/>
            <a:chExt cx="565200" cy="309600"/>
          </a:xfrm>
        </p:grpSpPr>
        <p:sp>
          <p:nvSpPr>
            <p:cNvPr id="287" name="Freeform 72"/>
            <p:cNvSpPr/>
            <p:nvPr/>
          </p:nvSpPr>
          <p:spPr>
            <a:xfrm>
              <a:off x="10810800" y="4971960"/>
              <a:ext cx="507600" cy="25416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5" h="128">
                  <a:moveTo>
                    <a:pt x="0" y="128"/>
                  </a:moveTo>
                  <a:lnTo>
                    <a:pt x="255" y="128"/>
                  </a:lnTo>
                  <a:lnTo>
                    <a:pt x="255" y="0"/>
                  </a:lnTo>
                  <a:lnTo>
                    <a:pt x="0" y="0"/>
                  </a:lnTo>
                  <a:lnTo>
                    <a:pt x="0" y="128"/>
                  </a:lnTo>
                  <a:close/>
                  <a:moveTo>
                    <a:pt x="14" y="14"/>
                  </a:moveTo>
                  <a:lnTo>
                    <a:pt x="241" y="14"/>
                  </a:lnTo>
                  <a:lnTo>
                    <a:pt x="241" y="114"/>
                  </a:lnTo>
                  <a:lnTo>
                    <a:pt x="14" y="1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3"/>
            <p:cNvSpPr/>
            <p:nvPr/>
          </p:nvSpPr>
          <p:spPr>
            <a:xfrm>
              <a:off x="10866240" y="4916520"/>
              <a:ext cx="509760" cy="2541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6" h="128">
                  <a:moveTo>
                    <a:pt x="0" y="0"/>
                  </a:moveTo>
                  <a:lnTo>
                    <a:pt x="0" y="14"/>
                  </a:lnTo>
                  <a:lnTo>
                    <a:pt x="242" y="14"/>
                  </a:lnTo>
                  <a:lnTo>
                    <a:pt x="242" y="128"/>
                  </a:lnTo>
                  <a:lnTo>
                    <a:pt x="256" y="128"/>
                  </a:lnTo>
                  <a:lnTo>
                    <a:pt x="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74"/>
            <p:cNvSpPr/>
            <p:nvPr/>
          </p:nvSpPr>
          <p:spPr>
            <a:xfrm>
              <a:off x="10993680" y="5029560"/>
              <a:ext cx="141120" cy="140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30" h="30">
                  <a:moveTo>
                    <a:pt x="15" y="0"/>
                  </a:moveTo>
                  <a:cubicBezTo>
                    <a:pt x="7" y="0"/>
                    <a:pt x="0" y="7"/>
                    <a:pt x="0" y="15"/>
                  </a:cubicBezTo>
                  <a:cubicBezTo>
                    <a:pt x="0" y="23"/>
                    <a:pt x="7" y="30"/>
                    <a:pt x="15" y="30"/>
                  </a:cubicBezTo>
                  <a:cubicBezTo>
                    <a:pt x="23" y="30"/>
                    <a:pt x="30" y="23"/>
                    <a:pt x="30" y="15"/>
                  </a:cubicBezTo>
                  <a:cubicBezTo>
                    <a:pt x="30" y="7"/>
                    <a:pt x="23" y="0"/>
                    <a:pt x="15" y="0"/>
                  </a:cubicBezTo>
                  <a:close/>
                  <a:moveTo>
                    <a:pt x="15" y="24"/>
                  </a:moveTo>
                  <a:cubicBezTo>
                    <a:pt x="10" y="24"/>
                    <a:pt x="6" y="20"/>
                    <a:pt x="6" y="15"/>
                  </a:cubicBezTo>
                  <a:cubicBezTo>
                    <a:pt x="6" y="10"/>
                    <a:pt x="10" y="6"/>
                    <a:pt x="15" y="6"/>
                  </a:cubicBezTo>
                  <a:cubicBezTo>
                    <a:pt x="20" y="6"/>
                    <a:pt x="24" y="10"/>
                    <a:pt x="24" y="15"/>
                  </a:cubicBezTo>
                  <a:cubicBezTo>
                    <a:pt x="24" y="20"/>
                    <a:pt x="20" y="24"/>
                    <a:pt x="15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Oval 75"/>
            <p:cNvSpPr/>
            <p:nvPr/>
          </p:nvSpPr>
          <p:spPr>
            <a:xfrm>
              <a:off x="111769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76"/>
            <p:cNvSpPr/>
            <p:nvPr/>
          </p:nvSpPr>
          <p:spPr>
            <a:xfrm>
              <a:off x="108943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组合 169"/>
          <p:cNvGrpSpPr/>
          <p:nvPr/>
        </p:nvGrpSpPr>
        <p:grpSpPr>
          <a:xfrm>
            <a:off x="5499000" y="4805280"/>
            <a:ext cx="568440" cy="534960"/>
            <a:chOff x="5499000" y="4805280"/>
            <a:chExt cx="568440" cy="534960"/>
          </a:xfrm>
        </p:grpSpPr>
        <p:sp>
          <p:nvSpPr>
            <p:cNvPr id="293" name="Freeform 77"/>
            <p:cNvSpPr/>
            <p:nvPr/>
          </p:nvSpPr>
          <p:spPr>
            <a:xfrm>
              <a:off x="5499000" y="4805280"/>
              <a:ext cx="540720" cy="53496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115" h="114">
                  <a:moveTo>
                    <a:pt x="79" y="57"/>
                  </a:moveTo>
                  <a:cubicBezTo>
                    <a:pt x="77" y="59"/>
                    <a:pt x="77" y="63"/>
                    <a:pt x="79" y="65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72"/>
                    <a:pt x="90" y="72"/>
                    <a:pt x="92" y="70"/>
                  </a:cubicBezTo>
                  <a:cubicBezTo>
                    <a:pt x="113" y="49"/>
                    <a:pt x="113" y="49"/>
                    <a:pt x="113" y="49"/>
                  </a:cubicBezTo>
                  <a:cubicBezTo>
                    <a:pt x="115" y="46"/>
                    <a:pt x="115" y="42"/>
                    <a:pt x="113" y="40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6" y="33"/>
                    <a:pt x="103" y="33"/>
                    <a:pt x="100" y="36"/>
                  </a:cubicBezTo>
                  <a:cubicBezTo>
                    <a:pt x="79" y="15"/>
                    <a:pt x="79" y="15"/>
                    <a:pt x="79" y="15"/>
                  </a:cubicBezTo>
                  <a:cubicBezTo>
                    <a:pt x="81" y="12"/>
                    <a:pt x="81" y="8"/>
                    <a:pt x="79" y="6"/>
                  </a:cubicBezTo>
                  <a:cubicBezTo>
                    <a:pt x="75" y="2"/>
                    <a:pt x="75" y="2"/>
                    <a:pt x="75" y="2"/>
                  </a:cubicBezTo>
                  <a:cubicBezTo>
                    <a:pt x="73" y="0"/>
                    <a:pt x="69" y="0"/>
                    <a:pt x="66" y="2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3" y="25"/>
                    <a:pt x="43" y="29"/>
                    <a:pt x="45" y="32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52" y="38"/>
                    <a:pt x="56" y="38"/>
                    <a:pt x="58" y="36"/>
                  </a:cubicBezTo>
                  <a:cubicBezTo>
                    <a:pt x="62" y="40"/>
                    <a:pt x="62" y="40"/>
                    <a:pt x="62" y="40"/>
                  </a:cubicBezTo>
                  <a:cubicBezTo>
                    <a:pt x="3" y="99"/>
                    <a:pt x="3" y="99"/>
                    <a:pt x="3" y="99"/>
                  </a:cubicBezTo>
                  <a:cubicBezTo>
                    <a:pt x="0" y="102"/>
                    <a:pt x="0" y="106"/>
                    <a:pt x="3" y="108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9" y="114"/>
                    <a:pt x="13" y="114"/>
                    <a:pt x="15" y="112"/>
                  </a:cubicBezTo>
                  <a:cubicBezTo>
                    <a:pt x="75" y="53"/>
                    <a:pt x="75" y="53"/>
                    <a:pt x="75" y="53"/>
                  </a:cubicBezTo>
                  <a:lnTo>
                    <a:pt x="79" y="57"/>
                  </a:lnTo>
                  <a:close/>
                  <a:moveTo>
                    <a:pt x="100" y="44"/>
                  </a:moveTo>
                  <a:cubicBezTo>
                    <a:pt x="105" y="40"/>
                    <a:pt x="105" y="40"/>
                    <a:pt x="105" y="40"/>
                  </a:cubicBezTo>
                  <a:cubicBezTo>
                    <a:pt x="109" y="44"/>
                    <a:pt x="109" y="44"/>
                    <a:pt x="109" y="44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3" y="61"/>
                    <a:pt x="83" y="61"/>
                    <a:pt x="83" y="61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3" y="53"/>
                    <a:pt x="83" y="53"/>
                    <a:pt x="83" y="53"/>
                  </a:cubicBezTo>
                  <a:cubicBezTo>
                    <a:pt x="96" y="40"/>
                    <a:pt x="96" y="40"/>
                    <a:pt x="96" y="40"/>
                  </a:cubicBezTo>
                  <a:lnTo>
                    <a:pt x="100" y="44"/>
                  </a:lnTo>
                  <a:close/>
                  <a:moveTo>
                    <a:pt x="79" y="23"/>
                  </a:moveTo>
                  <a:cubicBezTo>
                    <a:pt x="92" y="36"/>
                    <a:pt x="92" y="36"/>
                    <a:pt x="92" y="36"/>
                  </a:cubicBezTo>
                  <a:cubicBezTo>
                    <a:pt x="79" y="49"/>
                    <a:pt x="79" y="49"/>
                    <a:pt x="79" y="49"/>
                  </a:cubicBezTo>
                  <a:cubicBezTo>
                    <a:pt x="66" y="36"/>
                    <a:pt x="66" y="36"/>
                    <a:pt x="66" y="36"/>
                  </a:cubicBezTo>
                  <a:lnTo>
                    <a:pt x="79" y="23"/>
                  </a:lnTo>
                  <a:close/>
                  <a:moveTo>
                    <a:pt x="58" y="27"/>
                  </a:moveTo>
                  <a:cubicBezTo>
                    <a:pt x="54" y="32"/>
                    <a:pt x="54" y="32"/>
                    <a:pt x="54" y="32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5" y="10"/>
                    <a:pt x="75" y="10"/>
                    <a:pt x="75" y="1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5" y="19"/>
                    <a:pt x="75" y="19"/>
                    <a:pt x="75" y="19"/>
                  </a:cubicBezTo>
                  <a:cubicBezTo>
                    <a:pt x="62" y="32"/>
                    <a:pt x="62" y="32"/>
                    <a:pt x="62" y="32"/>
                  </a:cubicBezTo>
                  <a:lnTo>
                    <a:pt x="58" y="27"/>
                  </a:lnTo>
                  <a:close/>
                  <a:moveTo>
                    <a:pt x="11" y="108"/>
                  </a:moveTo>
                  <a:cubicBezTo>
                    <a:pt x="7" y="104"/>
                    <a:pt x="7" y="104"/>
                    <a:pt x="7" y="104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71" y="49"/>
                    <a:pt x="71" y="49"/>
                    <a:pt x="71" y="49"/>
                  </a:cubicBezTo>
                  <a:lnTo>
                    <a:pt x="11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78"/>
            <p:cNvSpPr/>
            <p:nvPr/>
          </p:nvSpPr>
          <p:spPr>
            <a:xfrm>
              <a:off x="5757480" y="5229000"/>
              <a:ext cx="309960" cy="11124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66" h="24">
                  <a:moveTo>
                    <a:pt x="63" y="18"/>
                  </a:moveTo>
                  <a:cubicBezTo>
                    <a:pt x="60" y="18"/>
                    <a:pt x="60" y="18"/>
                    <a:pt x="60" y="18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0" y="3"/>
                    <a:pt x="57" y="0"/>
                    <a:pt x="54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9" y="0"/>
                    <a:pt x="6" y="3"/>
                    <a:pt x="6" y="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1" y="18"/>
                    <a:pt x="0" y="19"/>
                    <a:pt x="0" y="21"/>
                  </a:cubicBezTo>
                  <a:cubicBezTo>
                    <a:pt x="0" y="23"/>
                    <a:pt x="1" y="24"/>
                    <a:pt x="3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63" y="24"/>
                    <a:pt x="63" y="24"/>
                    <a:pt x="63" y="24"/>
                  </a:cubicBezTo>
                  <a:cubicBezTo>
                    <a:pt x="65" y="24"/>
                    <a:pt x="66" y="23"/>
                    <a:pt x="66" y="21"/>
                  </a:cubicBezTo>
                  <a:cubicBezTo>
                    <a:pt x="66" y="19"/>
                    <a:pt x="65" y="18"/>
                    <a:pt x="63" y="18"/>
                  </a:cubicBezTo>
                  <a:close/>
                  <a:moveTo>
                    <a:pt x="54" y="18"/>
                  </a:moveTo>
                  <a:cubicBezTo>
                    <a:pt x="12" y="18"/>
                    <a:pt x="12" y="18"/>
                    <a:pt x="12" y="18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5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172"/>
          <p:cNvGrpSpPr/>
          <p:nvPr/>
        </p:nvGrpSpPr>
        <p:grpSpPr>
          <a:xfrm>
            <a:off x="4548240" y="5934240"/>
            <a:ext cx="565200" cy="564840"/>
            <a:chOff x="4548240" y="5934240"/>
            <a:chExt cx="565200" cy="564840"/>
          </a:xfrm>
        </p:grpSpPr>
        <p:sp>
          <p:nvSpPr>
            <p:cNvPr id="296" name="Freeform 79"/>
            <p:cNvSpPr/>
            <p:nvPr/>
          </p:nvSpPr>
          <p:spPr>
            <a:xfrm>
              <a:off x="4591800" y="5989680"/>
              <a:ext cx="479880" cy="5094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102" h="108">
                  <a:moveTo>
                    <a:pt x="102" y="51"/>
                  </a:moveTo>
                  <a:cubicBezTo>
                    <a:pt x="102" y="23"/>
                    <a:pt x="79" y="0"/>
                    <a:pt x="51" y="0"/>
                  </a:cubicBezTo>
                  <a:cubicBezTo>
                    <a:pt x="23" y="0"/>
                    <a:pt x="0" y="23"/>
                    <a:pt x="0" y="51"/>
                  </a:cubicBezTo>
                  <a:cubicBezTo>
                    <a:pt x="0" y="66"/>
                    <a:pt x="7" y="80"/>
                    <a:pt x="17" y="89"/>
                  </a:cubicBezTo>
                  <a:cubicBezTo>
                    <a:pt x="4" y="103"/>
                    <a:pt x="4" y="103"/>
                    <a:pt x="4" y="103"/>
                  </a:cubicBezTo>
                  <a:cubicBezTo>
                    <a:pt x="3" y="104"/>
                    <a:pt x="3" y="106"/>
                    <a:pt x="4" y="107"/>
                  </a:cubicBezTo>
                  <a:cubicBezTo>
                    <a:pt x="5" y="108"/>
                    <a:pt x="7" y="108"/>
                    <a:pt x="8" y="107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30" y="99"/>
                    <a:pt x="40" y="102"/>
                    <a:pt x="51" y="102"/>
                  </a:cubicBezTo>
                  <a:cubicBezTo>
                    <a:pt x="62" y="102"/>
                    <a:pt x="72" y="99"/>
                    <a:pt x="80" y="93"/>
                  </a:cubicBezTo>
                  <a:cubicBezTo>
                    <a:pt x="94" y="107"/>
                    <a:pt x="94" y="107"/>
                    <a:pt x="94" y="107"/>
                  </a:cubicBezTo>
                  <a:cubicBezTo>
                    <a:pt x="95" y="108"/>
                    <a:pt x="97" y="108"/>
                    <a:pt x="98" y="107"/>
                  </a:cubicBezTo>
                  <a:cubicBezTo>
                    <a:pt x="99" y="106"/>
                    <a:pt x="99" y="104"/>
                    <a:pt x="98" y="103"/>
                  </a:cubicBezTo>
                  <a:cubicBezTo>
                    <a:pt x="85" y="89"/>
                    <a:pt x="85" y="89"/>
                    <a:pt x="85" y="89"/>
                  </a:cubicBezTo>
                  <a:cubicBezTo>
                    <a:pt x="95" y="80"/>
                    <a:pt x="102" y="66"/>
                    <a:pt x="102" y="51"/>
                  </a:cubicBezTo>
                  <a:close/>
                  <a:moveTo>
                    <a:pt x="51" y="96"/>
                  </a:moveTo>
                  <a:cubicBezTo>
                    <a:pt x="26" y="96"/>
                    <a:pt x="6" y="76"/>
                    <a:pt x="6" y="51"/>
                  </a:cubicBezTo>
                  <a:cubicBezTo>
                    <a:pt x="6" y="26"/>
                    <a:pt x="26" y="6"/>
                    <a:pt x="51" y="6"/>
                  </a:cubicBezTo>
                  <a:cubicBezTo>
                    <a:pt x="76" y="6"/>
                    <a:pt x="96" y="26"/>
                    <a:pt x="96" y="51"/>
                  </a:cubicBezTo>
                  <a:cubicBezTo>
                    <a:pt x="96" y="76"/>
                    <a:pt x="76" y="96"/>
                    <a:pt x="51" y="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80"/>
            <p:cNvSpPr/>
            <p:nvPr/>
          </p:nvSpPr>
          <p:spPr>
            <a:xfrm>
              <a:off x="4689360" y="6047640"/>
              <a:ext cx="185040" cy="2246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39" h="48">
                  <a:moveTo>
                    <a:pt x="33" y="31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4" y="31"/>
                    <a:pt x="22" y="33"/>
                    <a:pt x="22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5"/>
                    <a:pt x="26" y="48"/>
                    <a:pt x="30" y="48"/>
                  </a:cubicBezTo>
                  <a:cubicBezTo>
                    <a:pt x="35" y="48"/>
                    <a:pt x="39" y="44"/>
                    <a:pt x="39" y="39"/>
                  </a:cubicBezTo>
                  <a:cubicBezTo>
                    <a:pt x="39" y="35"/>
                    <a:pt x="36" y="32"/>
                    <a:pt x="33" y="31"/>
                  </a:cubicBezTo>
                  <a:close/>
                  <a:moveTo>
                    <a:pt x="30" y="42"/>
                  </a:moveTo>
                  <a:cubicBezTo>
                    <a:pt x="28" y="42"/>
                    <a:pt x="27" y="41"/>
                    <a:pt x="27" y="39"/>
                  </a:cubicBezTo>
                  <a:cubicBezTo>
                    <a:pt x="27" y="37"/>
                    <a:pt x="28" y="36"/>
                    <a:pt x="30" y="36"/>
                  </a:cubicBezTo>
                  <a:cubicBezTo>
                    <a:pt x="32" y="36"/>
                    <a:pt x="33" y="37"/>
                    <a:pt x="33" y="39"/>
                  </a:cubicBezTo>
                  <a:cubicBezTo>
                    <a:pt x="33" y="41"/>
                    <a:pt x="32" y="42"/>
                    <a:pt x="30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548240" y="5934240"/>
              <a:ext cx="199080" cy="192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2" h="41">
                  <a:moveTo>
                    <a:pt x="6" y="24"/>
                  </a:moveTo>
                  <a:cubicBezTo>
                    <a:pt x="6" y="14"/>
                    <a:pt x="14" y="6"/>
                    <a:pt x="24" y="6"/>
                  </a:cubicBezTo>
                  <a:cubicBezTo>
                    <a:pt x="29" y="6"/>
                    <a:pt x="33" y="8"/>
                    <a:pt x="37" y="11"/>
                  </a:cubicBezTo>
                  <a:cubicBezTo>
                    <a:pt x="38" y="10"/>
                    <a:pt x="40" y="9"/>
                    <a:pt x="42" y="9"/>
                  </a:cubicBezTo>
                  <a:cubicBezTo>
                    <a:pt x="38" y="3"/>
                    <a:pt x="31" y="0"/>
                    <a:pt x="24" y="0"/>
                  </a:cubicBezTo>
                  <a:cubicBezTo>
                    <a:pt x="11" y="0"/>
                    <a:pt x="0" y="11"/>
                    <a:pt x="0" y="24"/>
                  </a:cubicBezTo>
                  <a:cubicBezTo>
                    <a:pt x="0" y="31"/>
                    <a:pt x="3" y="37"/>
                    <a:pt x="7" y="41"/>
                  </a:cubicBezTo>
                  <a:cubicBezTo>
                    <a:pt x="8" y="39"/>
                    <a:pt x="9" y="37"/>
                    <a:pt x="10" y="35"/>
                  </a:cubicBezTo>
                  <a:cubicBezTo>
                    <a:pt x="8" y="32"/>
                    <a:pt x="6" y="28"/>
                    <a:pt x="6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82"/>
            <p:cNvSpPr/>
            <p:nvPr/>
          </p:nvSpPr>
          <p:spPr>
            <a:xfrm>
              <a:off x="4916520" y="5934240"/>
              <a:ext cx="196920" cy="1929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2" h="41">
                  <a:moveTo>
                    <a:pt x="18" y="0"/>
                  </a:moveTo>
                  <a:cubicBezTo>
                    <a:pt x="11" y="0"/>
                    <a:pt x="4" y="3"/>
                    <a:pt x="0" y="9"/>
                  </a:cubicBezTo>
                  <a:cubicBezTo>
                    <a:pt x="2" y="9"/>
                    <a:pt x="4" y="10"/>
                    <a:pt x="5" y="11"/>
                  </a:cubicBezTo>
                  <a:cubicBezTo>
                    <a:pt x="9" y="8"/>
                    <a:pt x="13" y="6"/>
                    <a:pt x="18" y="6"/>
                  </a:cubicBezTo>
                  <a:cubicBezTo>
                    <a:pt x="28" y="6"/>
                    <a:pt x="36" y="14"/>
                    <a:pt x="36" y="24"/>
                  </a:cubicBezTo>
                  <a:cubicBezTo>
                    <a:pt x="36" y="28"/>
                    <a:pt x="34" y="32"/>
                    <a:pt x="32" y="35"/>
                  </a:cubicBezTo>
                  <a:cubicBezTo>
                    <a:pt x="33" y="37"/>
                    <a:pt x="34" y="39"/>
                    <a:pt x="35" y="41"/>
                  </a:cubicBezTo>
                  <a:cubicBezTo>
                    <a:pt x="39" y="37"/>
                    <a:pt x="42" y="31"/>
                    <a:pt x="42" y="24"/>
                  </a:cubicBezTo>
                  <a:cubicBezTo>
                    <a:pt x="42" y="11"/>
                    <a:pt x="31" y="0"/>
                    <a:pt x="1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Freeform 96"/>
          <p:cNvSpPr/>
          <p:nvPr/>
        </p:nvSpPr>
        <p:spPr>
          <a:xfrm>
            <a:off x="10810800" y="2487600"/>
            <a:ext cx="565200" cy="565200"/>
          </a:xfrm>
          <a:custGeom>
            <a:avLst/>
            <a:gdLst>
              <a:gd name="textAreaLeft" fmla="*/ 0 w 565200"/>
              <a:gd name="textAreaRight" fmla="*/ 565560 w 565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20" h="120">
                <a:moveTo>
                  <a:pt x="118" y="1"/>
                </a:moveTo>
                <a:cubicBezTo>
                  <a:pt x="117" y="0"/>
                  <a:pt x="115" y="0"/>
                  <a:pt x="114" y="0"/>
                </a:cubicBezTo>
                <a:cubicBezTo>
                  <a:pt x="113" y="0"/>
                  <a:pt x="112" y="0"/>
                  <a:pt x="111" y="1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6"/>
                  <a:pt x="0" y="57"/>
                  <a:pt x="0" y="60"/>
                </a:cubicBezTo>
                <a:cubicBezTo>
                  <a:pt x="0" y="62"/>
                  <a:pt x="1" y="64"/>
                  <a:pt x="3" y="65"/>
                </a:cubicBezTo>
                <a:cubicBezTo>
                  <a:pt x="30" y="84"/>
                  <a:pt x="30" y="84"/>
                  <a:pt x="30" y="84"/>
                </a:cubicBezTo>
                <a:cubicBezTo>
                  <a:pt x="30" y="84"/>
                  <a:pt x="30" y="84"/>
                  <a:pt x="30" y="84"/>
                </a:cubicBezTo>
                <a:cubicBezTo>
                  <a:pt x="30" y="114"/>
                  <a:pt x="30" y="114"/>
                  <a:pt x="30" y="114"/>
                </a:cubicBezTo>
                <a:cubicBezTo>
                  <a:pt x="30" y="117"/>
                  <a:pt x="32" y="119"/>
                  <a:pt x="34" y="120"/>
                </a:cubicBezTo>
                <a:cubicBezTo>
                  <a:pt x="35" y="120"/>
                  <a:pt x="35" y="120"/>
                  <a:pt x="36" y="120"/>
                </a:cubicBezTo>
                <a:cubicBezTo>
                  <a:pt x="38" y="120"/>
                  <a:pt x="40" y="119"/>
                  <a:pt x="41" y="118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81" y="119"/>
                  <a:pt x="81" y="119"/>
                  <a:pt x="81" y="119"/>
                </a:cubicBezTo>
                <a:cubicBezTo>
                  <a:pt x="82" y="120"/>
                  <a:pt x="83" y="120"/>
                  <a:pt x="84" y="120"/>
                </a:cubicBezTo>
                <a:cubicBezTo>
                  <a:pt x="85" y="120"/>
                  <a:pt x="85" y="120"/>
                  <a:pt x="86" y="120"/>
                </a:cubicBezTo>
                <a:cubicBezTo>
                  <a:pt x="88" y="119"/>
                  <a:pt x="89" y="117"/>
                  <a:pt x="90" y="116"/>
                </a:cubicBezTo>
                <a:cubicBezTo>
                  <a:pt x="120" y="8"/>
                  <a:pt x="120" y="8"/>
                  <a:pt x="120" y="8"/>
                </a:cubicBezTo>
                <a:cubicBezTo>
                  <a:pt x="120" y="5"/>
                  <a:pt x="120" y="3"/>
                  <a:pt x="118" y="1"/>
                </a:cubicBezTo>
                <a:close/>
                <a:moveTo>
                  <a:pt x="33" y="79"/>
                </a:moveTo>
                <a:cubicBezTo>
                  <a:pt x="6" y="60"/>
                  <a:pt x="6" y="60"/>
                  <a:pt x="6" y="60"/>
                </a:cubicBezTo>
                <a:cubicBezTo>
                  <a:pt x="97" y="14"/>
                  <a:pt x="97" y="14"/>
                  <a:pt x="97" y="14"/>
                </a:cubicBezTo>
                <a:lnTo>
                  <a:pt x="33" y="79"/>
                </a:lnTo>
                <a:close/>
                <a:moveTo>
                  <a:pt x="36" y="114"/>
                </a:moveTo>
                <a:cubicBezTo>
                  <a:pt x="36" y="84"/>
                  <a:pt x="36" y="84"/>
                  <a:pt x="36" y="84"/>
                </a:cubicBezTo>
                <a:cubicBezTo>
                  <a:pt x="114" y="6"/>
                  <a:pt x="114" y="6"/>
                  <a:pt x="114" y="6"/>
                </a:cubicBezTo>
                <a:lnTo>
                  <a:pt x="36" y="114"/>
                </a:lnTo>
                <a:close/>
                <a:moveTo>
                  <a:pt x="84" y="114"/>
                </a:moveTo>
                <a:cubicBezTo>
                  <a:pt x="57" y="95"/>
                  <a:pt x="57" y="95"/>
                  <a:pt x="57" y="95"/>
                </a:cubicBezTo>
                <a:cubicBezTo>
                  <a:pt x="109" y="23"/>
                  <a:pt x="109" y="23"/>
                  <a:pt x="109" y="23"/>
                </a:cubicBezTo>
                <a:lnTo>
                  <a:pt x="84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组合 178"/>
          <p:cNvGrpSpPr/>
          <p:nvPr/>
        </p:nvGrpSpPr>
        <p:grpSpPr>
          <a:xfrm>
            <a:off x="10810800" y="5918040"/>
            <a:ext cx="565200" cy="565200"/>
            <a:chOff x="10810800" y="5918040"/>
            <a:chExt cx="565200" cy="565200"/>
          </a:xfrm>
        </p:grpSpPr>
        <p:sp>
          <p:nvSpPr>
            <p:cNvPr id="302" name="Freeform 97"/>
            <p:cNvSpPr/>
            <p:nvPr/>
          </p:nvSpPr>
          <p:spPr>
            <a:xfrm>
              <a:off x="10968120" y="6455520"/>
              <a:ext cx="252720" cy="2772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6">
                  <a:moveTo>
                    <a:pt x="51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51" y="6"/>
                    <a:pt x="51" y="6"/>
                    <a:pt x="51" y="6"/>
                  </a:cubicBezTo>
                  <a:cubicBezTo>
                    <a:pt x="53" y="6"/>
                    <a:pt x="54" y="5"/>
                    <a:pt x="54" y="3"/>
                  </a:cubicBezTo>
                  <a:cubicBezTo>
                    <a:pt x="54" y="1"/>
                    <a:pt x="53" y="0"/>
                    <a:pt x="5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98"/>
            <p:cNvSpPr/>
            <p:nvPr/>
          </p:nvSpPr>
          <p:spPr>
            <a:xfrm>
              <a:off x="10882440" y="5918040"/>
              <a:ext cx="424080" cy="50976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90" h="108">
                  <a:moveTo>
                    <a:pt x="3" y="21"/>
                  </a:moveTo>
                  <a:cubicBezTo>
                    <a:pt x="16" y="21"/>
                    <a:pt x="16" y="21"/>
                    <a:pt x="16" y="21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2" y="107"/>
                    <a:pt x="43" y="108"/>
                    <a:pt x="45" y="108"/>
                  </a:cubicBezTo>
                  <a:cubicBezTo>
                    <a:pt x="47" y="108"/>
                    <a:pt x="48" y="107"/>
                    <a:pt x="48" y="105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87" y="21"/>
                    <a:pt x="87" y="21"/>
                    <a:pt x="87" y="21"/>
                  </a:cubicBezTo>
                  <a:cubicBezTo>
                    <a:pt x="89" y="21"/>
                    <a:pt x="90" y="20"/>
                    <a:pt x="90" y="18"/>
                  </a:cubicBezTo>
                  <a:cubicBezTo>
                    <a:pt x="90" y="16"/>
                    <a:pt x="89" y="15"/>
                    <a:pt x="87" y="15"/>
                  </a:cubicBezTo>
                  <a:cubicBezTo>
                    <a:pt x="76" y="15"/>
                    <a:pt x="76" y="15"/>
                    <a:pt x="76" y="15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3"/>
                    <a:pt x="48" y="3"/>
                    <a:pt x="48" y="3"/>
                  </a:cubicBezTo>
                  <a:cubicBezTo>
                    <a:pt x="48" y="1"/>
                    <a:pt x="47" y="0"/>
                    <a:pt x="45" y="0"/>
                  </a:cubicBezTo>
                  <a:cubicBezTo>
                    <a:pt x="43" y="0"/>
                    <a:pt x="42" y="1"/>
                    <a:pt x="42" y="3"/>
                  </a:cubicBezTo>
                  <a:cubicBezTo>
                    <a:pt x="42" y="10"/>
                    <a:pt x="42" y="10"/>
                    <a:pt x="42" y="10"/>
                  </a:cubicBezTo>
                  <a:cubicBezTo>
                    <a:pt x="15" y="15"/>
                    <a:pt x="15" y="15"/>
                    <a:pt x="15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1" y="15"/>
                    <a:pt x="0" y="16"/>
                    <a:pt x="0" y="18"/>
                  </a:cubicBezTo>
                  <a:cubicBezTo>
                    <a:pt x="0" y="20"/>
                    <a:pt x="1" y="21"/>
                    <a:pt x="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99"/>
            <p:cNvSpPr/>
            <p:nvPr/>
          </p:nvSpPr>
          <p:spPr>
            <a:xfrm>
              <a:off x="10810800" y="6045480"/>
              <a:ext cx="171000" cy="2685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36" h="57">
                  <a:moveTo>
                    <a:pt x="18" y="0"/>
                  </a:moveTo>
                  <a:cubicBezTo>
                    <a:pt x="12" y="3"/>
                    <a:pt x="0" y="38"/>
                    <a:pt x="0" y="45"/>
                  </a:cubicBezTo>
                  <a:cubicBezTo>
                    <a:pt x="0" y="52"/>
                    <a:pt x="8" y="57"/>
                    <a:pt x="18" y="57"/>
                  </a:cubicBezTo>
                  <a:cubicBezTo>
                    <a:pt x="28" y="57"/>
                    <a:pt x="36" y="52"/>
                    <a:pt x="36" y="45"/>
                  </a:cubicBezTo>
                  <a:cubicBezTo>
                    <a:pt x="36" y="38"/>
                    <a:pt x="24" y="3"/>
                    <a:pt x="18" y="0"/>
                  </a:cubicBezTo>
                  <a:close/>
                  <a:moveTo>
                    <a:pt x="18" y="51"/>
                  </a:moveTo>
                  <a:cubicBezTo>
                    <a:pt x="11" y="51"/>
                    <a:pt x="6" y="47"/>
                    <a:pt x="6" y="45"/>
                  </a:cubicBezTo>
                  <a:cubicBezTo>
                    <a:pt x="6" y="41"/>
                    <a:pt x="13" y="20"/>
                    <a:pt x="18" y="10"/>
                  </a:cubicBezTo>
                  <a:cubicBezTo>
                    <a:pt x="23" y="20"/>
                    <a:pt x="30" y="41"/>
                    <a:pt x="30" y="45"/>
                  </a:cubicBezTo>
                  <a:cubicBezTo>
                    <a:pt x="30" y="47"/>
                    <a:pt x="25" y="51"/>
                    <a:pt x="1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00"/>
            <p:cNvSpPr/>
            <p:nvPr/>
          </p:nvSpPr>
          <p:spPr>
            <a:xfrm>
              <a:off x="11206800" y="6045480"/>
              <a:ext cx="169200" cy="26856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36" h="57">
                  <a:moveTo>
                    <a:pt x="18" y="0"/>
                  </a:moveTo>
                  <a:cubicBezTo>
                    <a:pt x="12" y="3"/>
                    <a:pt x="0" y="38"/>
                    <a:pt x="0" y="45"/>
                  </a:cubicBezTo>
                  <a:cubicBezTo>
                    <a:pt x="0" y="52"/>
                    <a:pt x="8" y="57"/>
                    <a:pt x="18" y="57"/>
                  </a:cubicBezTo>
                  <a:cubicBezTo>
                    <a:pt x="28" y="57"/>
                    <a:pt x="36" y="52"/>
                    <a:pt x="36" y="45"/>
                  </a:cubicBezTo>
                  <a:cubicBezTo>
                    <a:pt x="36" y="38"/>
                    <a:pt x="24" y="3"/>
                    <a:pt x="18" y="0"/>
                  </a:cubicBezTo>
                  <a:close/>
                  <a:moveTo>
                    <a:pt x="18" y="51"/>
                  </a:moveTo>
                  <a:cubicBezTo>
                    <a:pt x="11" y="51"/>
                    <a:pt x="6" y="47"/>
                    <a:pt x="6" y="45"/>
                  </a:cubicBezTo>
                  <a:cubicBezTo>
                    <a:pt x="6" y="41"/>
                    <a:pt x="13" y="20"/>
                    <a:pt x="18" y="10"/>
                  </a:cubicBezTo>
                  <a:cubicBezTo>
                    <a:pt x="23" y="20"/>
                    <a:pt x="30" y="41"/>
                    <a:pt x="30" y="45"/>
                  </a:cubicBezTo>
                  <a:cubicBezTo>
                    <a:pt x="30" y="47"/>
                    <a:pt x="25" y="51"/>
                    <a:pt x="1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183"/>
          <p:cNvGrpSpPr/>
          <p:nvPr/>
        </p:nvGrpSpPr>
        <p:grpSpPr>
          <a:xfrm>
            <a:off x="6966000" y="5934240"/>
            <a:ext cx="565200" cy="564840"/>
            <a:chOff x="6966000" y="5934240"/>
            <a:chExt cx="565200" cy="564840"/>
          </a:xfrm>
        </p:grpSpPr>
        <p:sp>
          <p:nvSpPr>
            <p:cNvPr id="307" name="Freeform 101"/>
            <p:cNvSpPr/>
            <p:nvPr/>
          </p:nvSpPr>
          <p:spPr>
            <a:xfrm>
              <a:off x="7365960" y="6409800"/>
              <a:ext cx="109440" cy="89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3" h="19">
                  <a:moveTo>
                    <a:pt x="16" y="4"/>
                  </a:moveTo>
                  <a:cubicBezTo>
                    <a:pt x="16" y="5"/>
                    <a:pt x="17" y="6"/>
                    <a:pt x="17" y="7"/>
                  </a:cubicBezTo>
                  <a:cubicBezTo>
                    <a:pt x="17" y="10"/>
                    <a:pt x="14" y="13"/>
                    <a:pt x="11" y="13"/>
                  </a:cubicBezTo>
                  <a:cubicBezTo>
                    <a:pt x="8" y="13"/>
                    <a:pt x="6" y="11"/>
                    <a:pt x="5" y="9"/>
                  </a:cubicBezTo>
                  <a:cubicBezTo>
                    <a:pt x="3" y="9"/>
                    <a:pt x="2" y="10"/>
                    <a:pt x="0" y="10"/>
                  </a:cubicBezTo>
                  <a:cubicBezTo>
                    <a:pt x="1" y="15"/>
                    <a:pt x="6" y="19"/>
                    <a:pt x="11" y="19"/>
                  </a:cubicBezTo>
                  <a:cubicBezTo>
                    <a:pt x="18" y="19"/>
                    <a:pt x="23" y="14"/>
                    <a:pt x="23" y="7"/>
                  </a:cubicBezTo>
                  <a:cubicBezTo>
                    <a:pt x="23" y="4"/>
                    <a:pt x="22" y="2"/>
                    <a:pt x="21" y="0"/>
                  </a:cubicBezTo>
                  <a:cubicBezTo>
                    <a:pt x="19" y="1"/>
                    <a:pt x="17" y="2"/>
                    <a:pt x="1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02"/>
            <p:cNvSpPr/>
            <p:nvPr/>
          </p:nvSpPr>
          <p:spPr>
            <a:xfrm>
              <a:off x="7079400" y="6409800"/>
              <a:ext cx="107280" cy="892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3" h="19">
                  <a:moveTo>
                    <a:pt x="12" y="13"/>
                  </a:moveTo>
                  <a:cubicBezTo>
                    <a:pt x="9" y="13"/>
                    <a:pt x="6" y="10"/>
                    <a:pt x="6" y="7"/>
                  </a:cubicBezTo>
                  <a:cubicBezTo>
                    <a:pt x="6" y="6"/>
                    <a:pt x="7" y="4"/>
                    <a:pt x="7" y="3"/>
                  </a:cubicBezTo>
                  <a:cubicBezTo>
                    <a:pt x="6" y="2"/>
                    <a:pt x="4" y="1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14"/>
                    <a:pt x="5" y="19"/>
                    <a:pt x="12" y="19"/>
                  </a:cubicBezTo>
                  <a:cubicBezTo>
                    <a:pt x="17" y="19"/>
                    <a:pt x="22" y="15"/>
                    <a:pt x="23" y="10"/>
                  </a:cubicBezTo>
                  <a:cubicBezTo>
                    <a:pt x="21" y="10"/>
                    <a:pt x="20" y="9"/>
                    <a:pt x="18" y="9"/>
                  </a:cubicBezTo>
                  <a:cubicBezTo>
                    <a:pt x="17" y="11"/>
                    <a:pt x="15" y="13"/>
                    <a:pt x="12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03"/>
            <p:cNvSpPr/>
            <p:nvPr/>
          </p:nvSpPr>
          <p:spPr>
            <a:xfrm>
              <a:off x="7310160" y="59342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5" h="25">
                  <a:moveTo>
                    <a:pt x="17" y="6"/>
                  </a:moveTo>
                  <a:cubicBezTo>
                    <a:pt x="24" y="6"/>
                    <a:pt x="29" y="11"/>
                    <a:pt x="29" y="18"/>
                  </a:cubicBezTo>
                  <a:cubicBezTo>
                    <a:pt x="29" y="19"/>
                    <a:pt x="29" y="21"/>
                    <a:pt x="28" y="22"/>
                  </a:cubicBezTo>
                  <a:cubicBezTo>
                    <a:pt x="30" y="23"/>
                    <a:pt x="32" y="24"/>
                    <a:pt x="33" y="25"/>
                  </a:cubicBezTo>
                  <a:cubicBezTo>
                    <a:pt x="34" y="23"/>
                    <a:pt x="35" y="21"/>
                    <a:pt x="35" y="18"/>
                  </a:cubicBezTo>
                  <a:cubicBezTo>
                    <a:pt x="35" y="8"/>
                    <a:pt x="27" y="0"/>
                    <a:pt x="17" y="0"/>
                  </a:cubicBezTo>
                  <a:cubicBezTo>
                    <a:pt x="9" y="0"/>
                    <a:pt x="2" y="5"/>
                    <a:pt x="0" y="12"/>
                  </a:cubicBezTo>
                  <a:cubicBezTo>
                    <a:pt x="2" y="13"/>
                    <a:pt x="4" y="13"/>
                    <a:pt x="6" y="13"/>
                  </a:cubicBezTo>
                  <a:cubicBezTo>
                    <a:pt x="8" y="9"/>
                    <a:pt x="12" y="6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04"/>
            <p:cNvSpPr/>
            <p:nvPr/>
          </p:nvSpPr>
          <p:spPr>
            <a:xfrm>
              <a:off x="6966000" y="6017760"/>
              <a:ext cx="565200" cy="423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120" h="90">
                  <a:moveTo>
                    <a:pt x="120" y="45"/>
                  </a:moveTo>
                  <a:cubicBezTo>
                    <a:pt x="120" y="20"/>
                    <a:pt x="96" y="0"/>
                    <a:pt x="66" y="0"/>
                  </a:cubicBezTo>
                  <a:cubicBezTo>
                    <a:pt x="61" y="0"/>
                    <a:pt x="55" y="1"/>
                    <a:pt x="50" y="2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7" y="1"/>
                    <a:pt x="26" y="2"/>
                  </a:cubicBezTo>
                  <a:cubicBezTo>
                    <a:pt x="25" y="3"/>
                    <a:pt x="24" y="4"/>
                    <a:pt x="24" y="6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0" y="21"/>
                    <a:pt x="17" y="25"/>
                    <a:pt x="15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0"/>
                    <a:pt x="0" y="33"/>
                    <a:pt x="0" y="36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7"/>
                    <a:pt x="3" y="60"/>
                    <a:pt x="6" y="60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23" y="78"/>
                    <a:pt x="43" y="90"/>
                    <a:pt x="66" y="90"/>
                  </a:cubicBezTo>
                  <a:cubicBezTo>
                    <a:pt x="96" y="90"/>
                    <a:pt x="120" y="70"/>
                    <a:pt x="120" y="45"/>
                  </a:cubicBezTo>
                  <a:close/>
                  <a:moveTo>
                    <a:pt x="66" y="84"/>
                  </a:moveTo>
                  <a:cubicBezTo>
                    <a:pt x="43" y="84"/>
                    <a:pt x="24" y="71"/>
                    <a:pt x="19" y="54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21" y="30"/>
                    <a:pt x="25" y="24"/>
                    <a:pt x="30" y="19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50" y="8"/>
                    <a:pt x="50" y="8"/>
                    <a:pt x="50" y="8"/>
                  </a:cubicBezTo>
                  <a:cubicBezTo>
                    <a:pt x="55" y="7"/>
                    <a:pt x="61" y="6"/>
                    <a:pt x="66" y="6"/>
                  </a:cubicBezTo>
                  <a:cubicBezTo>
                    <a:pt x="93" y="6"/>
                    <a:pt x="114" y="23"/>
                    <a:pt x="114" y="45"/>
                  </a:cubicBezTo>
                  <a:cubicBezTo>
                    <a:pt x="114" y="67"/>
                    <a:pt x="93" y="84"/>
                    <a:pt x="66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Oval 105"/>
            <p:cNvSpPr/>
            <p:nvPr/>
          </p:nvSpPr>
          <p:spPr>
            <a:xfrm>
              <a:off x="7107120" y="613116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189"/>
          <p:cNvGrpSpPr/>
          <p:nvPr/>
        </p:nvGrpSpPr>
        <p:grpSpPr>
          <a:xfrm>
            <a:off x="10810800" y="3670200"/>
            <a:ext cx="565200" cy="565200"/>
            <a:chOff x="10810800" y="3670200"/>
            <a:chExt cx="565200" cy="565200"/>
          </a:xfrm>
        </p:grpSpPr>
        <p:sp>
          <p:nvSpPr>
            <p:cNvPr id="313" name="Freeform 106"/>
            <p:cNvSpPr/>
            <p:nvPr/>
          </p:nvSpPr>
          <p:spPr>
            <a:xfrm>
              <a:off x="10868400" y="4066200"/>
              <a:ext cx="83520" cy="835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8" h="18">
                  <a:moveTo>
                    <a:pt x="9" y="0"/>
                  </a:move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lose/>
                  <a:moveTo>
                    <a:pt x="9" y="12"/>
                  </a:move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07"/>
            <p:cNvSpPr/>
            <p:nvPr/>
          </p:nvSpPr>
          <p:spPr>
            <a:xfrm>
              <a:off x="11037600" y="4038480"/>
              <a:ext cx="83520" cy="835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08"/>
            <p:cNvSpPr/>
            <p:nvPr/>
          </p:nvSpPr>
          <p:spPr>
            <a:xfrm>
              <a:off x="10810800" y="3670200"/>
              <a:ext cx="368280" cy="5652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78" h="120">
                  <a:moveTo>
                    <a:pt x="72" y="0"/>
                  </a:moveTo>
                  <a:cubicBezTo>
                    <a:pt x="42" y="0"/>
                    <a:pt x="42" y="0"/>
                    <a:pt x="42" y="0"/>
                  </a:cubicBezTo>
                  <a:cubicBezTo>
                    <a:pt x="39" y="0"/>
                    <a:pt x="36" y="3"/>
                    <a:pt x="36" y="6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15"/>
                    <a:pt x="0" y="1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7" y="120"/>
                    <a:pt x="38" y="120"/>
                    <a:pt x="39" y="119"/>
                  </a:cubicBezTo>
                  <a:cubicBezTo>
                    <a:pt x="40" y="120"/>
                    <a:pt x="41" y="120"/>
                    <a:pt x="42" y="120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5" y="120"/>
                    <a:pt x="78" y="117"/>
                    <a:pt x="78" y="114"/>
                  </a:cubicBezTo>
                  <a:cubicBezTo>
                    <a:pt x="78" y="6"/>
                    <a:pt x="78" y="6"/>
                    <a:pt x="78" y="6"/>
                  </a:cubicBezTo>
                  <a:cubicBezTo>
                    <a:pt x="78" y="3"/>
                    <a:pt x="75" y="0"/>
                    <a:pt x="72" y="0"/>
                  </a:cubicBezTo>
                  <a:close/>
                  <a:moveTo>
                    <a:pt x="6" y="114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36" y="114"/>
                    <a:pt x="36" y="114"/>
                    <a:pt x="36" y="114"/>
                  </a:cubicBezTo>
                  <a:lnTo>
                    <a:pt x="6" y="114"/>
                  </a:lnTo>
                  <a:close/>
                  <a:moveTo>
                    <a:pt x="72" y="114"/>
                  </a:moveTo>
                  <a:cubicBezTo>
                    <a:pt x="42" y="114"/>
                    <a:pt x="42" y="114"/>
                    <a:pt x="42" y="114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72" y="30"/>
                    <a:pt x="72" y="30"/>
                    <a:pt x="72" y="30"/>
                  </a:cubicBezTo>
                  <a:lnTo>
                    <a:pt x="72" y="114"/>
                  </a:lnTo>
                  <a:close/>
                  <a:moveTo>
                    <a:pt x="72" y="24"/>
                  </a:moveTo>
                  <a:cubicBezTo>
                    <a:pt x="42" y="24"/>
                    <a:pt x="42" y="24"/>
                    <a:pt x="42" y="24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72" y="6"/>
                    <a:pt x="72" y="6"/>
                    <a:pt x="72" y="6"/>
                  </a:cubicBez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09"/>
            <p:cNvSpPr/>
            <p:nvPr/>
          </p:nvSpPr>
          <p:spPr>
            <a:xfrm>
              <a:off x="11179080" y="3693960"/>
              <a:ext cx="196920" cy="5414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42" h="115">
                  <a:moveTo>
                    <a:pt x="24" y="5"/>
                  </a:moveTo>
                  <a:cubicBezTo>
                    <a:pt x="24" y="2"/>
                    <a:pt x="21" y="0"/>
                    <a:pt x="17" y="1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2" y="3"/>
                    <a:pt x="0" y="6"/>
                    <a:pt x="1" y="10"/>
                  </a:cubicBezTo>
                  <a:cubicBezTo>
                    <a:pt x="18" y="110"/>
                    <a:pt x="18" y="110"/>
                    <a:pt x="18" y="110"/>
                  </a:cubicBezTo>
                  <a:cubicBezTo>
                    <a:pt x="19" y="113"/>
                    <a:pt x="22" y="115"/>
                    <a:pt x="25" y="115"/>
                  </a:cubicBezTo>
                  <a:cubicBezTo>
                    <a:pt x="37" y="113"/>
                    <a:pt x="37" y="113"/>
                    <a:pt x="37" y="113"/>
                  </a:cubicBezTo>
                  <a:cubicBezTo>
                    <a:pt x="40" y="112"/>
                    <a:pt x="42" y="109"/>
                    <a:pt x="42" y="106"/>
                  </a:cubicBezTo>
                  <a:lnTo>
                    <a:pt x="24" y="5"/>
                  </a:lnTo>
                  <a:close/>
                  <a:moveTo>
                    <a:pt x="6" y="9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9" y="20"/>
                    <a:pt x="9" y="20"/>
                    <a:pt x="9" y="20"/>
                  </a:cubicBezTo>
                  <a:lnTo>
                    <a:pt x="6" y="9"/>
                  </a:lnTo>
                  <a:close/>
                  <a:moveTo>
                    <a:pt x="10" y="26"/>
                  </a:moveTo>
                  <a:cubicBezTo>
                    <a:pt x="21" y="24"/>
                    <a:pt x="21" y="24"/>
                    <a:pt x="21" y="24"/>
                  </a:cubicBezTo>
                  <a:cubicBezTo>
                    <a:pt x="33" y="89"/>
                    <a:pt x="33" y="89"/>
                    <a:pt x="33" y="89"/>
                  </a:cubicBezTo>
                  <a:cubicBezTo>
                    <a:pt x="21" y="91"/>
                    <a:pt x="21" y="91"/>
                    <a:pt x="21" y="91"/>
                  </a:cubicBezTo>
                  <a:lnTo>
                    <a:pt x="10" y="26"/>
                  </a:lnTo>
                  <a:close/>
                  <a:moveTo>
                    <a:pt x="24" y="109"/>
                  </a:moveTo>
                  <a:cubicBezTo>
                    <a:pt x="22" y="97"/>
                    <a:pt x="22" y="97"/>
                    <a:pt x="22" y="97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6" y="107"/>
                    <a:pt x="36" y="107"/>
                    <a:pt x="36" y="107"/>
                  </a:cubicBezTo>
                  <a:lnTo>
                    <a:pt x="24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10"/>
            <p:cNvSpPr/>
            <p:nvPr/>
          </p:nvSpPr>
          <p:spPr>
            <a:xfrm>
              <a:off x="10868400" y="3839400"/>
              <a:ext cx="835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Freeform 5"/>
          <p:cNvSpPr/>
          <p:nvPr/>
        </p:nvSpPr>
        <p:spPr>
          <a:xfrm>
            <a:off x="9398160" y="2514600"/>
            <a:ext cx="747720" cy="520560"/>
          </a:xfrm>
          <a:custGeom>
            <a:avLst/>
            <a:gdLst>
              <a:gd name="textAreaLeft" fmla="*/ 0 w 747720"/>
              <a:gd name="textAreaRight" fmla="*/ 748080 w 74772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459" h="319">
                <a:moveTo>
                  <a:pt x="457" y="110"/>
                </a:moveTo>
                <a:cubicBezTo>
                  <a:pt x="457" y="110"/>
                  <a:pt x="414" y="53"/>
                  <a:pt x="414" y="53"/>
                </a:cubicBezTo>
                <a:cubicBezTo>
                  <a:pt x="414" y="53"/>
                  <a:pt x="413" y="51"/>
                  <a:pt x="410" y="51"/>
                </a:cubicBezTo>
                <a:cubicBezTo>
                  <a:pt x="231" y="0"/>
                  <a:pt x="231" y="0"/>
                  <a:pt x="231" y="0"/>
                </a:cubicBezTo>
                <a:cubicBezTo>
                  <a:pt x="230" y="0"/>
                  <a:pt x="229" y="0"/>
                  <a:pt x="227" y="0"/>
                </a:cubicBezTo>
                <a:cubicBezTo>
                  <a:pt x="49" y="51"/>
                  <a:pt x="49" y="51"/>
                  <a:pt x="49" y="51"/>
                </a:cubicBezTo>
                <a:cubicBezTo>
                  <a:pt x="49" y="51"/>
                  <a:pt x="46" y="51"/>
                  <a:pt x="45" y="53"/>
                </a:cubicBezTo>
                <a:cubicBezTo>
                  <a:pt x="44" y="54"/>
                  <a:pt x="2" y="110"/>
                  <a:pt x="2" y="110"/>
                </a:cubicBezTo>
                <a:cubicBezTo>
                  <a:pt x="0" y="112"/>
                  <a:pt x="0" y="115"/>
                  <a:pt x="1" y="117"/>
                </a:cubicBezTo>
                <a:cubicBezTo>
                  <a:pt x="1" y="119"/>
                  <a:pt x="3" y="121"/>
                  <a:pt x="5" y="122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3" y="237"/>
                  <a:pt x="43" y="237"/>
                  <a:pt x="43" y="237"/>
                </a:cubicBezTo>
                <a:cubicBezTo>
                  <a:pt x="43" y="240"/>
                  <a:pt x="45" y="243"/>
                  <a:pt x="48" y="244"/>
                </a:cubicBezTo>
                <a:cubicBezTo>
                  <a:pt x="227" y="318"/>
                  <a:pt x="227" y="318"/>
                  <a:pt x="227" y="318"/>
                </a:cubicBezTo>
                <a:cubicBezTo>
                  <a:pt x="227" y="318"/>
                  <a:pt x="228" y="319"/>
                  <a:pt x="229" y="319"/>
                </a:cubicBezTo>
                <a:cubicBezTo>
                  <a:pt x="231" y="319"/>
                  <a:pt x="232" y="318"/>
                  <a:pt x="232" y="318"/>
                </a:cubicBezTo>
                <a:cubicBezTo>
                  <a:pt x="411" y="244"/>
                  <a:pt x="411" y="244"/>
                  <a:pt x="411" y="244"/>
                </a:cubicBezTo>
                <a:cubicBezTo>
                  <a:pt x="414" y="243"/>
                  <a:pt x="416" y="240"/>
                  <a:pt x="416" y="237"/>
                </a:cubicBezTo>
                <a:cubicBezTo>
                  <a:pt x="416" y="135"/>
                  <a:pt x="416" y="135"/>
                  <a:pt x="416" y="135"/>
                </a:cubicBezTo>
                <a:cubicBezTo>
                  <a:pt x="453" y="122"/>
                  <a:pt x="453" y="122"/>
                  <a:pt x="453" y="122"/>
                </a:cubicBezTo>
                <a:cubicBezTo>
                  <a:pt x="456" y="121"/>
                  <a:pt x="457" y="119"/>
                  <a:pt x="458" y="117"/>
                </a:cubicBezTo>
                <a:cubicBezTo>
                  <a:pt x="459" y="115"/>
                  <a:pt x="458" y="112"/>
                  <a:pt x="457" y="110"/>
                </a:cubicBezTo>
                <a:close/>
                <a:moveTo>
                  <a:pt x="20" y="111"/>
                </a:moveTo>
                <a:cubicBezTo>
                  <a:pt x="54" y="66"/>
                  <a:pt x="54" y="66"/>
                  <a:pt x="54" y="66"/>
                </a:cubicBezTo>
                <a:cubicBezTo>
                  <a:pt x="67" y="70"/>
                  <a:pt x="67" y="70"/>
                  <a:pt x="67" y="70"/>
                </a:cubicBezTo>
                <a:cubicBezTo>
                  <a:pt x="144" y="91"/>
                  <a:pt x="144" y="91"/>
                  <a:pt x="144" y="91"/>
                </a:cubicBezTo>
                <a:cubicBezTo>
                  <a:pt x="217" y="111"/>
                  <a:pt x="217" y="111"/>
                  <a:pt x="217" y="111"/>
                </a:cubicBezTo>
                <a:cubicBezTo>
                  <a:pt x="174" y="163"/>
                  <a:pt x="174" y="163"/>
                  <a:pt x="174" y="163"/>
                </a:cubicBezTo>
                <a:lnTo>
                  <a:pt x="20" y="111"/>
                </a:lnTo>
                <a:close/>
                <a:moveTo>
                  <a:pt x="222" y="300"/>
                </a:moveTo>
                <a:cubicBezTo>
                  <a:pt x="58" y="232"/>
                  <a:pt x="58" y="232"/>
                  <a:pt x="58" y="232"/>
                </a:cubicBezTo>
                <a:cubicBezTo>
                  <a:pt x="58" y="140"/>
                  <a:pt x="58" y="140"/>
                  <a:pt x="58" y="140"/>
                </a:cubicBezTo>
                <a:cubicBezTo>
                  <a:pt x="174" y="179"/>
                  <a:pt x="174" y="179"/>
                  <a:pt x="174" y="179"/>
                </a:cubicBezTo>
                <a:cubicBezTo>
                  <a:pt x="175" y="179"/>
                  <a:pt x="176" y="179"/>
                  <a:pt x="176" y="179"/>
                </a:cubicBezTo>
                <a:cubicBezTo>
                  <a:pt x="179" y="179"/>
                  <a:pt x="181" y="179"/>
                  <a:pt x="182" y="177"/>
                </a:cubicBezTo>
                <a:cubicBezTo>
                  <a:pt x="222" y="128"/>
                  <a:pt x="222" y="128"/>
                  <a:pt x="222" y="128"/>
                </a:cubicBezTo>
                <a:lnTo>
                  <a:pt x="222" y="300"/>
                </a:lnTo>
                <a:close/>
                <a:moveTo>
                  <a:pt x="229" y="99"/>
                </a:moveTo>
                <a:cubicBezTo>
                  <a:pt x="78" y="58"/>
                  <a:pt x="78" y="58"/>
                  <a:pt x="78" y="58"/>
                </a:cubicBezTo>
                <a:cubicBezTo>
                  <a:pt x="229" y="15"/>
                  <a:pt x="229" y="15"/>
                  <a:pt x="229" y="15"/>
                </a:cubicBezTo>
                <a:cubicBezTo>
                  <a:pt x="381" y="58"/>
                  <a:pt x="381" y="58"/>
                  <a:pt x="381" y="58"/>
                </a:cubicBezTo>
                <a:lnTo>
                  <a:pt x="229" y="99"/>
                </a:lnTo>
                <a:close/>
                <a:moveTo>
                  <a:pt x="401" y="232"/>
                </a:moveTo>
                <a:cubicBezTo>
                  <a:pt x="237" y="300"/>
                  <a:pt x="237" y="300"/>
                  <a:pt x="237" y="300"/>
                </a:cubicBezTo>
                <a:cubicBezTo>
                  <a:pt x="237" y="128"/>
                  <a:pt x="237" y="128"/>
                  <a:pt x="237" y="128"/>
                </a:cubicBezTo>
                <a:cubicBezTo>
                  <a:pt x="277" y="177"/>
                  <a:pt x="277" y="177"/>
                  <a:pt x="277" y="177"/>
                </a:cubicBezTo>
                <a:cubicBezTo>
                  <a:pt x="278" y="179"/>
                  <a:pt x="280" y="179"/>
                  <a:pt x="282" y="179"/>
                </a:cubicBezTo>
                <a:cubicBezTo>
                  <a:pt x="283" y="179"/>
                  <a:pt x="284" y="179"/>
                  <a:pt x="285" y="179"/>
                </a:cubicBezTo>
                <a:cubicBezTo>
                  <a:pt x="401" y="140"/>
                  <a:pt x="401" y="140"/>
                  <a:pt x="401" y="140"/>
                </a:cubicBezTo>
                <a:lnTo>
                  <a:pt x="401" y="232"/>
                </a:lnTo>
                <a:close/>
                <a:moveTo>
                  <a:pt x="285" y="163"/>
                </a:moveTo>
                <a:cubicBezTo>
                  <a:pt x="242" y="111"/>
                  <a:pt x="242" y="111"/>
                  <a:pt x="242" y="111"/>
                </a:cubicBezTo>
                <a:cubicBezTo>
                  <a:pt x="405" y="66"/>
                  <a:pt x="405" y="66"/>
                  <a:pt x="405" y="66"/>
                </a:cubicBezTo>
                <a:cubicBezTo>
                  <a:pt x="439" y="111"/>
                  <a:pt x="439" y="111"/>
                  <a:pt x="439" y="111"/>
                </a:cubicBezTo>
                <a:lnTo>
                  <a:pt x="285" y="1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6"/>
          <p:cNvSpPr/>
          <p:nvPr/>
        </p:nvSpPr>
        <p:spPr>
          <a:xfrm>
            <a:off x="8232840" y="5923080"/>
            <a:ext cx="700200" cy="542880"/>
          </a:xfrm>
          <a:custGeom>
            <a:avLst/>
            <a:gdLst>
              <a:gd name="textAreaLeft" fmla="*/ 0 w 700200"/>
              <a:gd name="textAreaRight" fmla="*/ 700560 w 7002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429" h="333">
                <a:moveTo>
                  <a:pt x="428" y="157"/>
                </a:moveTo>
                <a:cubicBezTo>
                  <a:pt x="395" y="70"/>
                  <a:pt x="395" y="70"/>
                  <a:pt x="395" y="70"/>
                </a:cubicBezTo>
                <a:cubicBezTo>
                  <a:pt x="394" y="68"/>
                  <a:pt x="392" y="66"/>
                  <a:pt x="390" y="66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02" y="4"/>
                  <a:pt x="302" y="4"/>
                  <a:pt x="302" y="4"/>
                </a:cubicBezTo>
                <a:cubicBezTo>
                  <a:pt x="301" y="2"/>
                  <a:pt x="298" y="0"/>
                  <a:pt x="296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1" y="0"/>
                  <a:pt x="128" y="2"/>
                  <a:pt x="127" y="4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40" y="66"/>
                  <a:pt x="40" y="66"/>
                  <a:pt x="40" y="66"/>
                </a:cubicBezTo>
                <a:cubicBezTo>
                  <a:pt x="37" y="66"/>
                  <a:pt x="35" y="68"/>
                  <a:pt x="34" y="70"/>
                </a:cubicBezTo>
                <a:cubicBezTo>
                  <a:pt x="1" y="157"/>
                  <a:pt x="1" y="157"/>
                  <a:pt x="1" y="157"/>
                </a:cubicBezTo>
                <a:cubicBezTo>
                  <a:pt x="0" y="159"/>
                  <a:pt x="1" y="163"/>
                  <a:pt x="3" y="165"/>
                </a:cubicBezTo>
                <a:cubicBezTo>
                  <a:pt x="4" y="166"/>
                  <a:pt x="6" y="167"/>
                  <a:pt x="9" y="167"/>
                </a:cubicBezTo>
                <a:cubicBezTo>
                  <a:pt x="9" y="167"/>
                  <a:pt x="10" y="167"/>
                  <a:pt x="10" y="167"/>
                </a:cubicBezTo>
                <a:cubicBezTo>
                  <a:pt x="65" y="153"/>
                  <a:pt x="65" y="153"/>
                  <a:pt x="65" y="153"/>
                </a:cubicBezTo>
                <a:cubicBezTo>
                  <a:pt x="49" y="208"/>
                  <a:pt x="49" y="208"/>
                  <a:pt x="49" y="208"/>
                </a:cubicBezTo>
                <a:cubicBezTo>
                  <a:pt x="48" y="210"/>
                  <a:pt x="48" y="213"/>
                  <a:pt x="50" y="215"/>
                </a:cubicBezTo>
                <a:cubicBezTo>
                  <a:pt x="51" y="217"/>
                  <a:pt x="54" y="218"/>
                  <a:pt x="56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89" y="326"/>
                  <a:pt x="89" y="326"/>
                  <a:pt x="89" y="326"/>
                </a:cubicBezTo>
                <a:cubicBezTo>
                  <a:pt x="90" y="330"/>
                  <a:pt x="93" y="333"/>
                  <a:pt x="97" y="333"/>
                </a:cubicBezTo>
                <a:cubicBezTo>
                  <a:pt x="333" y="333"/>
                  <a:pt x="333" y="333"/>
                  <a:pt x="333" y="333"/>
                </a:cubicBezTo>
                <a:cubicBezTo>
                  <a:pt x="336" y="333"/>
                  <a:pt x="340" y="330"/>
                  <a:pt x="340" y="326"/>
                </a:cubicBezTo>
                <a:cubicBezTo>
                  <a:pt x="352" y="218"/>
                  <a:pt x="352" y="218"/>
                  <a:pt x="352" y="218"/>
                </a:cubicBezTo>
                <a:cubicBezTo>
                  <a:pt x="373" y="218"/>
                  <a:pt x="373" y="218"/>
                  <a:pt x="373" y="218"/>
                </a:cubicBezTo>
                <a:cubicBezTo>
                  <a:pt x="373" y="218"/>
                  <a:pt x="373" y="218"/>
                  <a:pt x="373" y="218"/>
                </a:cubicBezTo>
                <a:cubicBezTo>
                  <a:pt x="377" y="218"/>
                  <a:pt x="381" y="214"/>
                  <a:pt x="381" y="210"/>
                </a:cubicBezTo>
                <a:cubicBezTo>
                  <a:pt x="381" y="209"/>
                  <a:pt x="381" y="208"/>
                  <a:pt x="380" y="207"/>
                </a:cubicBezTo>
                <a:cubicBezTo>
                  <a:pt x="364" y="153"/>
                  <a:pt x="364" y="153"/>
                  <a:pt x="364" y="153"/>
                </a:cubicBezTo>
                <a:cubicBezTo>
                  <a:pt x="419" y="167"/>
                  <a:pt x="419" y="167"/>
                  <a:pt x="419" y="167"/>
                </a:cubicBezTo>
                <a:cubicBezTo>
                  <a:pt x="419" y="167"/>
                  <a:pt x="420" y="167"/>
                  <a:pt x="421" y="167"/>
                </a:cubicBezTo>
                <a:cubicBezTo>
                  <a:pt x="423" y="167"/>
                  <a:pt x="425" y="166"/>
                  <a:pt x="426" y="165"/>
                </a:cubicBezTo>
                <a:cubicBezTo>
                  <a:pt x="428" y="163"/>
                  <a:pt x="429" y="159"/>
                  <a:pt x="428" y="157"/>
                </a:cubicBezTo>
                <a:close/>
                <a:moveTo>
                  <a:pt x="113" y="62"/>
                </a:moveTo>
                <a:cubicBezTo>
                  <a:pt x="316" y="62"/>
                  <a:pt x="316" y="62"/>
                  <a:pt x="316" y="62"/>
                </a:cubicBezTo>
                <a:cubicBezTo>
                  <a:pt x="342" y="134"/>
                  <a:pt x="342" y="134"/>
                  <a:pt x="342" y="134"/>
                </a:cubicBezTo>
                <a:cubicBezTo>
                  <a:pt x="87" y="134"/>
                  <a:pt x="87" y="134"/>
                  <a:pt x="87" y="134"/>
                </a:cubicBezTo>
                <a:lnTo>
                  <a:pt x="113" y="62"/>
                </a:lnTo>
                <a:close/>
                <a:moveTo>
                  <a:pt x="138" y="15"/>
                </a:moveTo>
                <a:cubicBezTo>
                  <a:pt x="291" y="15"/>
                  <a:pt x="291" y="15"/>
                  <a:pt x="291" y="15"/>
                </a:cubicBezTo>
                <a:cubicBezTo>
                  <a:pt x="308" y="47"/>
                  <a:pt x="308" y="47"/>
                  <a:pt x="308" y="47"/>
                </a:cubicBezTo>
                <a:cubicBezTo>
                  <a:pt x="121" y="47"/>
                  <a:pt x="121" y="47"/>
                  <a:pt x="121" y="47"/>
                </a:cubicBezTo>
                <a:lnTo>
                  <a:pt x="138" y="15"/>
                </a:lnTo>
                <a:close/>
                <a:moveTo>
                  <a:pt x="47" y="79"/>
                </a:moveTo>
                <a:cubicBezTo>
                  <a:pt x="96" y="66"/>
                  <a:pt x="96" y="66"/>
                  <a:pt x="96" y="66"/>
                </a:cubicBezTo>
                <a:cubicBezTo>
                  <a:pt x="71" y="135"/>
                  <a:pt x="71" y="135"/>
                  <a:pt x="71" y="135"/>
                </a:cubicBezTo>
                <a:cubicBezTo>
                  <a:pt x="21" y="148"/>
                  <a:pt x="21" y="148"/>
                  <a:pt x="21" y="148"/>
                </a:cubicBezTo>
                <a:lnTo>
                  <a:pt x="47" y="79"/>
                </a:lnTo>
                <a:close/>
                <a:moveTo>
                  <a:pt x="326" y="317"/>
                </a:moveTo>
                <a:cubicBezTo>
                  <a:pt x="104" y="317"/>
                  <a:pt x="104" y="317"/>
                  <a:pt x="104" y="317"/>
                </a:cubicBezTo>
                <a:cubicBezTo>
                  <a:pt x="92" y="218"/>
                  <a:pt x="92" y="218"/>
                  <a:pt x="92" y="218"/>
                </a:cubicBezTo>
                <a:cubicBezTo>
                  <a:pt x="337" y="218"/>
                  <a:pt x="337" y="218"/>
                  <a:pt x="337" y="218"/>
                </a:cubicBezTo>
                <a:lnTo>
                  <a:pt x="326" y="317"/>
                </a:lnTo>
                <a:close/>
                <a:moveTo>
                  <a:pt x="66" y="202"/>
                </a:moveTo>
                <a:cubicBezTo>
                  <a:pt x="82" y="149"/>
                  <a:pt x="82" y="149"/>
                  <a:pt x="82" y="149"/>
                </a:cubicBezTo>
                <a:cubicBezTo>
                  <a:pt x="347" y="149"/>
                  <a:pt x="347" y="149"/>
                  <a:pt x="347" y="149"/>
                </a:cubicBezTo>
                <a:cubicBezTo>
                  <a:pt x="363" y="202"/>
                  <a:pt x="363" y="202"/>
                  <a:pt x="363" y="202"/>
                </a:cubicBezTo>
                <a:lnTo>
                  <a:pt x="66" y="202"/>
                </a:lnTo>
                <a:close/>
                <a:moveTo>
                  <a:pt x="359" y="135"/>
                </a:moveTo>
                <a:cubicBezTo>
                  <a:pt x="333" y="66"/>
                  <a:pt x="333" y="66"/>
                  <a:pt x="333" y="66"/>
                </a:cubicBezTo>
                <a:cubicBezTo>
                  <a:pt x="382" y="79"/>
                  <a:pt x="382" y="79"/>
                  <a:pt x="382" y="79"/>
                </a:cubicBezTo>
                <a:cubicBezTo>
                  <a:pt x="408" y="148"/>
                  <a:pt x="408" y="148"/>
                  <a:pt x="408" y="148"/>
                </a:cubicBezTo>
                <a:lnTo>
                  <a:pt x="359" y="1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组合 197"/>
          <p:cNvGrpSpPr/>
          <p:nvPr/>
        </p:nvGrpSpPr>
        <p:grpSpPr>
          <a:xfrm>
            <a:off x="9632880" y="5892840"/>
            <a:ext cx="478080" cy="588960"/>
            <a:chOff x="9632880" y="5892840"/>
            <a:chExt cx="478080" cy="588960"/>
          </a:xfrm>
        </p:grpSpPr>
        <p:sp>
          <p:nvSpPr>
            <p:cNvPr id="321" name="Freeform 7"/>
            <p:cNvSpPr/>
            <p:nvPr/>
          </p:nvSpPr>
          <p:spPr>
            <a:xfrm>
              <a:off x="9632880" y="5892840"/>
              <a:ext cx="478080" cy="588960"/>
            </a:xfrm>
            <a:custGeom>
              <a:avLst/>
              <a:gdLst>
                <a:gd name="textAreaLeft" fmla="*/ 0 w 478080"/>
                <a:gd name="textAreaRight" fmla="*/ 478440 w 47808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293" h="361">
                  <a:moveTo>
                    <a:pt x="293" y="134"/>
                  </a:moveTo>
                  <a:cubicBezTo>
                    <a:pt x="260" y="5"/>
                    <a:pt x="260" y="5"/>
                    <a:pt x="260" y="5"/>
                  </a:cubicBezTo>
                  <a:cubicBezTo>
                    <a:pt x="259" y="2"/>
                    <a:pt x="256" y="0"/>
                    <a:pt x="253" y="0"/>
                  </a:cubicBezTo>
                  <a:cubicBezTo>
                    <a:pt x="172" y="0"/>
                    <a:pt x="172" y="0"/>
                    <a:pt x="172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6" y="0"/>
                    <a:pt x="33" y="2"/>
                    <a:pt x="32" y="5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0" y="134"/>
                    <a:pt x="0" y="135"/>
                    <a:pt x="0" y="136"/>
                  </a:cubicBezTo>
                  <a:cubicBezTo>
                    <a:pt x="0" y="354"/>
                    <a:pt x="0" y="354"/>
                    <a:pt x="0" y="354"/>
                  </a:cubicBezTo>
                  <a:cubicBezTo>
                    <a:pt x="0" y="358"/>
                    <a:pt x="3" y="361"/>
                    <a:pt x="7" y="361"/>
                  </a:cubicBezTo>
                  <a:cubicBezTo>
                    <a:pt x="286" y="361"/>
                    <a:pt x="286" y="361"/>
                    <a:pt x="286" y="361"/>
                  </a:cubicBezTo>
                  <a:cubicBezTo>
                    <a:pt x="290" y="361"/>
                    <a:pt x="293" y="358"/>
                    <a:pt x="293" y="354"/>
                  </a:cubicBezTo>
                  <a:cubicBezTo>
                    <a:pt x="293" y="136"/>
                    <a:pt x="293" y="136"/>
                    <a:pt x="293" y="136"/>
                  </a:cubicBezTo>
                  <a:cubicBezTo>
                    <a:pt x="293" y="135"/>
                    <a:pt x="293" y="134"/>
                    <a:pt x="293" y="134"/>
                  </a:cubicBezTo>
                  <a:close/>
                  <a:moveTo>
                    <a:pt x="276" y="129"/>
                  </a:moveTo>
                  <a:cubicBezTo>
                    <a:pt x="190" y="129"/>
                    <a:pt x="190" y="129"/>
                    <a:pt x="190" y="129"/>
                  </a:cubicBezTo>
                  <a:cubicBezTo>
                    <a:pt x="180" y="14"/>
                    <a:pt x="180" y="14"/>
                    <a:pt x="180" y="14"/>
                  </a:cubicBezTo>
                  <a:cubicBezTo>
                    <a:pt x="247" y="14"/>
                    <a:pt x="247" y="14"/>
                    <a:pt x="247" y="14"/>
                  </a:cubicBezTo>
                  <a:lnTo>
                    <a:pt x="276" y="129"/>
                  </a:lnTo>
                  <a:close/>
                  <a:moveTo>
                    <a:pt x="165" y="14"/>
                  </a:moveTo>
                  <a:cubicBezTo>
                    <a:pt x="165" y="14"/>
                    <a:pt x="176" y="136"/>
                    <a:pt x="176" y="136"/>
                  </a:cubicBezTo>
                  <a:cubicBezTo>
                    <a:pt x="176" y="175"/>
                    <a:pt x="176" y="175"/>
                    <a:pt x="176" y="175"/>
                  </a:cubicBezTo>
                  <a:cubicBezTo>
                    <a:pt x="116" y="175"/>
                    <a:pt x="116" y="175"/>
                    <a:pt x="116" y="175"/>
                  </a:cubicBezTo>
                  <a:cubicBezTo>
                    <a:pt x="116" y="136"/>
                    <a:pt x="116" y="136"/>
                    <a:pt x="116" y="136"/>
                  </a:cubicBezTo>
                  <a:cubicBezTo>
                    <a:pt x="116" y="136"/>
                    <a:pt x="127" y="14"/>
                    <a:pt x="127" y="14"/>
                  </a:cubicBezTo>
                  <a:lnTo>
                    <a:pt x="165" y="14"/>
                  </a:lnTo>
                  <a:close/>
                  <a:moveTo>
                    <a:pt x="45" y="14"/>
                  </a:moveTo>
                  <a:cubicBezTo>
                    <a:pt x="113" y="14"/>
                    <a:pt x="113" y="14"/>
                    <a:pt x="113" y="14"/>
                  </a:cubicBezTo>
                  <a:cubicBezTo>
                    <a:pt x="102" y="129"/>
                    <a:pt x="102" y="129"/>
                    <a:pt x="102" y="129"/>
                  </a:cubicBezTo>
                  <a:cubicBezTo>
                    <a:pt x="16" y="129"/>
                    <a:pt x="16" y="129"/>
                    <a:pt x="16" y="129"/>
                  </a:cubicBezTo>
                  <a:lnTo>
                    <a:pt x="45" y="14"/>
                  </a:lnTo>
                  <a:close/>
                  <a:moveTo>
                    <a:pt x="14" y="347"/>
                  </a:moveTo>
                  <a:cubicBezTo>
                    <a:pt x="14" y="143"/>
                    <a:pt x="14" y="143"/>
                    <a:pt x="14" y="143"/>
                  </a:cubicBezTo>
                  <a:cubicBezTo>
                    <a:pt x="102" y="143"/>
                    <a:pt x="102" y="143"/>
                    <a:pt x="102" y="143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2" y="185"/>
                    <a:pt x="105" y="189"/>
                    <a:pt x="109" y="189"/>
                  </a:cubicBezTo>
                  <a:cubicBezTo>
                    <a:pt x="183" y="189"/>
                    <a:pt x="183" y="189"/>
                    <a:pt x="183" y="189"/>
                  </a:cubicBezTo>
                  <a:cubicBezTo>
                    <a:pt x="187" y="189"/>
                    <a:pt x="190" y="185"/>
                    <a:pt x="190" y="182"/>
                  </a:cubicBezTo>
                  <a:cubicBezTo>
                    <a:pt x="190" y="143"/>
                    <a:pt x="190" y="143"/>
                    <a:pt x="190" y="143"/>
                  </a:cubicBezTo>
                  <a:cubicBezTo>
                    <a:pt x="278" y="143"/>
                    <a:pt x="278" y="143"/>
                    <a:pt x="278" y="143"/>
                  </a:cubicBezTo>
                  <a:cubicBezTo>
                    <a:pt x="278" y="347"/>
                    <a:pt x="278" y="347"/>
                    <a:pt x="278" y="347"/>
                  </a:cubicBezTo>
                  <a:lnTo>
                    <a:pt x="14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9795600" y="6216120"/>
              <a:ext cx="150480" cy="213120"/>
            </a:xfrm>
            <a:custGeom>
              <a:avLst/>
              <a:gdLst>
                <a:gd name="textAreaLeft" fmla="*/ 0 w 150480"/>
                <a:gd name="textAreaRight" fmla="*/ 150480 w 1504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92" h="131">
                  <a:moveTo>
                    <a:pt x="57" y="6"/>
                  </a:moveTo>
                  <a:cubicBezTo>
                    <a:pt x="55" y="2"/>
                    <a:pt x="51" y="0"/>
                    <a:pt x="46" y="0"/>
                  </a:cubicBezTo>
                  <a:cubicBezTo>
                    <a:pt x="42" y="0"/>
                    <a:pt x="38" y="2"/>
                    <a:pt x="35" y="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0" y="53"/>
                    <a:pt x="0" y="59"/>
                    <a:pt x="2" y="63"/>
                  </a:cubicBezTo>
                  <a:cubicBezTo>
                    <a:pt x="5" y="68"/>
                    <a:pt x="9" y="71"/>
                    <a:pt x="15" y="71"/>
                  </a:cubicBezTo>
                  <a:cubicBezTo>
                    <a:pt x="18" y="71"/>
                    <a:pt x="18" y="71"/>
                    <a:pt x="18" y="71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8" y="124"/>
                    <a:pt x="24" y="131"/>
                    <a:pt x="32" y="131"/>
                  </a:cubicBezTo>
                  <a:cubicBezTo>
                    <a:pt x="60" y="131"/>
                    <a:pt x="60" y="131"/>
                    <a:pt x="60" y="131"/>
                  </a:cubicBezTo>
                  <a:cubicBezTo>
                    <a:pt x="68" y="131"/>
                    <a:pt x="74" y="124"/>
                    <a:pt x="74" y="117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8" y="71"/>
                    <a:pt x="78" y="71"/>
                    <a:pt x="78" y="71"/>
                  </a:cubicBezTo>
                  <a:cubicBezTo>
                    <a:pt x="83" y="71"/>
                    <a:pt x="88" y="68"/>
                    <a:pt x="90" y="63"/>
                  </a:cubicBezTo>
                  <a:cubicBezTo>
                    <a:pt x="92" y="59"/>
                    <a:pt x="92" y="53"/>
                    <a:pt x="89" y="49"/>
                  </a:cubicBezTo>
                  <a:lnTo>
                    <a:pt x="57" y="6"/>
                  </a:lnTo>
                  <a:close/>
                  <a:moveTo>
                    <a:pt x="60" y="57"/>
                  </a:moveTo>
                  <a:cubicBezTo>
                    <a:pt x="60" y="117"/>
                    <a:pt x="60" y="117"/>
                    <a:pt x="60" y="117"/>
                  </a:cubicBezTo>
                  <a:cubicBezTo>
                    <a:pt x="32" y="117"/>
                    <a:pt x="32" y="117"/>
                    <a:pt x="32" y="117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78" y="57"/>
                    <a:pt x="78" y="57"/>
                    <a:pt x="78" y="57"/>
                  </a:cubicBezTo>
                  <a:lnTo>
                    <a:pt x="6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Freeform 9"/>
          <p:cNvSpPr/>
          <p:nvPr/>
        </p:nvSpPr>
        <p:spPr>
          <a:xfrm>
            <a:off x="8131320" y="2451240"/>
            <a:ext cx="601560" cy="617400"/>
          </a:xfrm>
          <a:custGeom>
            <a:avLst/>
            <a:gdLst>
              <a:gd name="textAreaLeft" fmla="*/ 0 w 601560"/>
              <a:gd name="textAreaRight" fmla="*/ 601920 w 60156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368" h="379">
                <a:moveTo>
                  <a:pt x="364" y="79"/>
                </a:moveTo>
                <a:cubicBezTo>
                  <a:pt x="187" y="0"/>
                  <a:pt x="187" y="0"/>
                  <a:pt x="187" y="0"/>
                </a:cubicBezTo>
                <a:cubicBezTo>
                  <a:pt x="185" y="0"/>
                  <a:pt x="183" y="0"/>
                  <a:pt x="181" y="0"/>
                </a:cubicBezTo>
                <a:cubicBezTo>
                  <a:pt x="4" y="79"/>
                  <a:pt x="4" y="79"/>
                  <a:pt x="4" y="79"/>
                </a:cubicBezTo>
                <a:cubicBezTo>
                  <a:pt x="1" y="80"/>
                  <a:pt x="0" y="83"/>
                  <a:pt x="0" y="87"/>
                </a:cubicBezTo>
                <a:cubicBezTo>
                  <a:pt x="0" y="291"/>
                  <a:pt x="0" y="291"/>
                  <a:pt x="0" y="291"/>
                </a:cubicBezTo>
                <a:cubicBezTo>
                  <a:pt x="0" y="294"/>
                  <a:pt x="1" y="296"/>
                  <a:pt x="4" y="298"/>
                </a:cubicBezTo>
                <a:cubicBezTo>
                  <a:pt x="181" y="379"/>
                  <a:pt x="181" y="379"/>
                  <a:pt x="181" y="379"/>
                </a:cubicBezTo>
                <a:cubicBezTo>
                  <a:pt x="182" y="379"/>
                  <a:pt x="183" y="379"/>
                  <a:pt x="184" y="379"/>
                </a:cubicBezTo>
                <a:cubicBezTo>
                  <a:pt x="185" y="379"/>
                  <a:pt x="186" y="379"/>
                  <a:pt x="187" y="379"/>
                </a:cubicBezTo>
                <a:cubicBezTo>
                  <a:pt x="187" y="379"/>
                  <a:pt x="364" y="298"/>
                  <a:pt x="364" y="298"/>
                </a:cubicBezTo>
                <a:cubicBezTo>
                  <a:pt x="367" y="296"/>
                  <a:pt x="368" y="294"/>
                  <a:pt x="368" y="291"/>
                </a:cubicBezTo>
                <a:cubicBezTo>
                  <a:pt x="368" y="87"/>
                  <a:pt x="368" y="87"/>
                  <a:pt x="368" y="87"/>
                </a:cubicBezTo>
                <a:cubicBezTo>
                  <a:pt x="368" y="83"/>
                  <a:pt x="367" y="80"/>
                  <a:pt x="364" y="79"/>
                </a:cubicBezTo>
                <a:close/>
                <a:moveTo>
                  <a:pt x="107" y="128"/>
                </a:moveTo>
                <a:cubicBezTo>
                  <a:pt x="105" y="129"/>
                  <a:pt x="103" y="131"/>
                  <a:pt x="103" y="134"/>
                </a:cubicBezTo>
                <a:cubicBezTo>
                  <a:pt x="103" y="203"/>
                  <a:pt x="103" y="203"/>
                  <a:pt x="103" y="203"/>
                </a:cubicBezTo>
                <a:cubicBezTo>
                  <a:pt x="68" y="187"/>
                  <a:pt x="68" y="187"/>
                  <a:pt x="68" y="187"/>
                </a:cubicBezTo>
                <a:cubicBezTo>
                  <a:pt x="68" y="118"/>
                  <a:pt x="68" y="118"/>
                  <a:pt x="68" y="118"/>
                </a:cubicBezTo>
                <a:cubicBezTo>
                  <a:pt x="235" y="38"/>
                  <a:pt x="235" y="38"/>
                  <a:pt x="235" y="38"/>
                </a:cubicBezTo>
                <a:cubicBezTo>
                  <a:pt x="266" y="51"/>
                  <a:pt x="266" y="51"/>
                  <a:pt x="266" y="51"/>
                </a:cubicBezTo>
                <a:lnTo>
                  <a:pt x="107" y="128"/>
                </a:lnTo>
                <a:close/>
                <a:moveTo>
                  <a:pt x="184" y="15"/>
                </a:moveTo>
                <a:cubicBezTo>
                  <a:pt x="218" y="30"/>
                  <a:pt x="218" y="30"/>
                  <a:pt x="218" y="30"/>
                </a:cubicBezTo>
                <a:cubicBezTo>
                  <a:pt x="65" y="104"/>
                  <a:pt x="65" y="104"/>
                  <a:pt x="65" y="104"/>
                </a:cubicBezTo>
                <a:cubicBezTo>
                  <a:pt x="24" y="86"/>
                  <a:pt x="24" y="86"/>
                  <a:pt x="24" y="86"/>
                </a:cubicBezTo>
                <a:lnTo>
                  <a:pt x="184" y="15"/>
                </a:lnTo>
                <a:close/>
                <a:moveTo>
                  <a:pt x="177" y="361"/>
                </a:moveTo>
                <a:cubicBezTo>
                  <a:pt x="14" y="287"/>
                  <a:pt x="14" y="287"/>
                  <a:pt x="14" y="287"/>
                </a:cubicBezTo>
                <a:cubicBezTo>
                  <a:pt x="14" y="97"/>
                  <a:pt x="14" y="97"/>
                  <a:pt x="14" y="97"/>
                </a:cubicBezTo>
                <a:cubicBezTo>
                  <a:pt x="54" y="115"/>
                  <a:pt x="54" y="115"/>
                  <a:pt x="54" y="115"/>
                </a:cubicBezTo>
                <a:cubicBezTo>
                  <a:pt x="54" y="191"/>
                  <a:pt x="54" y="191"/>
                  <a:pt x="54" y="191"/>
                </a:cubicBezTo>
                <a:cubicBezTo>
                  <a:pt x="54" y="194"/>
                  <a:pt x="56" y="197"/>
                  <a:pt x="58" y="198"/>
                </a:cubicBezTo>
                <a:cubicBezTo>
                  <a:pt x="107" y="221"/>
                  <a:pt x="107" y="221"/>
                  <a:pt x="107" y="221"/>
                </a:cubicBezTo>
                <a:cubicBezTo>
                  <a:pt x="108" y="221"/>
                  <a:pt x="109" y="221"/>
                  <a:pt x="110" y="221"/>
                </a:cubicBezTo>
                <a:cubicBezTo>
                  <a:pt x="111" y="221"/>
                  <a:pt x="113" y="221"/>
                  <a:pt x="114" y="220"/>
                </a:cubicBezTo>
                <a:cubicBezTo>
                  <a:pt x="116" y="219"/>
                  <a:pt x="117" y="217"/>
                  <a:pt x="117" y="214"/>
                </a:cubicBezTo>
                <a:cubicBezTo>
                  <a:pt x="117" y="144"/>
                  <a:pt x="117" y="144"/>
                  <a:pt x="117" y="144"/>
                </a:cubicBezTo>
                <a:cubicBezTo>
                  <a:pt x="177" y="171"/>
                  <a:pt x="177" y="171"/>
                  <a:pt x="177" y="171"/>
                </a:cubicBezTo>
                <a:lnTo>
                  <a:pt x="177" y="361"/>
                </a:lnTo>
                <a:close/>
                <a:moveTo>
                  <a:pt x="184" y="159"/>
                </a:moveTo>
                <a:cubicBezTo>
                  <a:pt x="128" y="133"/>
                  <a:pt x="128" y="133"/>
                  <a:pt x="128" y="133"/>
                </a:cubicBezTo>
                <a:cubicBezTo>
                  <a:pt x="283" y="59"/>
                  <a:pt x="283" y="59"/>
                  <a:pt x="283" y="59"/>
                </a:cubicBezTo>
                <a:cubicBezTo>
                  <a:pt x="344" y="86"/>
                  <a:pt x="344" y="86"/>
                  <a:pt x="344" y="86"/>
                </a:cubicBezTo>
                <a:lnTo>
                  <a:pt x="184" y="159"/>
                </a:lnTo>
                <a:close/>
                <a:moveTo>
                  <a:pt x="354" y="287"/>
                </a:moveTo>
                <a:cubicBezTo>
                  <a:pt x="191" y="361"/>
                  <a:pt x="191" y="361"/>
                  <a:pt x="191" y="361"/>
                </a:cubicBezTo>
                <a:cubicBezTo>
                  <a:pt x="191" y="171"/>
                  <a:pt x="191" y="171"/>
                  <a:pt x="191" y="171"/>
                </a:cubicBezTo>
                <a:cubicBezTo>
                  <a:pt x="354" y="97"/>
                  <a:pt x="354" y="97"/>
                  <a:pt x="354" y="97"/>
                </a:cubicBezTo>
                <a:lnTo>
                  <a:pt x="354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0"/>
          <p:cNvSpPr/>
          <p:nvPr/>
        </p:nvSpPr>
        <p:spPr>
          <a:xfrm>
            <a:off x="9390240" y="4762440"/>
            <a:ext cx="730080" cy="619200"/>
          </a:xfrm>
          <a:custGeom>
            <a:avLst/>
            <a:gdLst>
              <a:gd name="textAreaLeft" fmla="*/ 0 w 730080"/>
              <a:gd name="textAreaRight" fmla="*/ 730080 w 73008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448" h="380">
                <a:moveTo>
                  <a:pt x="448" y="80"/>
                </a:moveTo>
                <a:cubicBezTo>
                  <a:pt x="447" y="78"/>
                  <a:pt x="446" y="76"/>
                  <a:pt x="444" y="75"/>
                </a:cubicBezTo>
                <a:cubicBezTo>
                  <a:pt x="280" y="1"/>
                  <a:pt x="280" y="1"/>
                  <a:pt x="280" y="1"/>
                </a:cubicBezTo>
                <a:cubicBezTo>
                  <a:pt x="277" y="0"/>
                  <a:pt x="274" y="1"/>
                  <a:pt x="272" y="2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176" y="2"/>
                  <a:pt x="176" y="2"/>
                  <a:pt x="176" y="2"/>
                </a:cubicBezTo>
                <a:cubicBezTo>
                  <a:pt x="174" y="1"/>
                  <a:pt x="171" y="0"/>
                  <a:pt x="169" y="1"/>
                </a:cubicBezTo>
                <a:cubicBezTo>
                  <a:pt x="4" y="75"/>
                  <a:pt x="4" y="75"/>
                  <a:pt x="4" y="75"/>
                </a:cubicBezTo>
                <a:cubicBezTo>
                  <a:pt x="2" y="76"/>
                  <a:pt x="1" y="78"/>
                  <a:pt x="0" y="80"/>
                </a:cubicBezTo>
                <a:cubicBezTo>
                  <a:pt x="0" y="82"/>
                  <a:pt x="1" y="85"/>
                  <a:pt x="2" y="86"/>
                </a:cubicBezTo>
                <a:cubicBezTo>
                  <a:pt x="54" y="136"/>
                  <a:pt x="54" y="136"/>
                  <a:pt x="54" y="136"/>
                </a:cubicBezTo>
                <a:cubicBezTo>
                  <a:pt x="25" y="188"/>
                  <a:pt x="25" y="188"/>
                  <a:pt x="25" y="188"/>
                </a:cubicBezTo>
                <a:cubicBezTo>
                  <a:pt x="23" y="191"/>
                  <a:pt x="24" y="195"/>
                  <a:pt x="27" y="197"/>
                </a:cubicBezTo>
                <a:cubicBezTo>
                  <a:pt x="56" y="214"/>
                  <a:pt x="56" y="214"/>
                  <a:pt x="56" y="214"/>
                </a:cubicBezTo>
                <a:cubicBezTo>
                  <a:pt x="56" y="280"/>
                  <a:pt x="56" y="280"/>
                  <a:pt x="56" y="280"/>
                </a:cubicBezTo>
                <a:cubicBezTo>
                  <a:pt x="56" y="282"/>
                  <a:pt x="57" y="285"/>
                  <a:pt x="59" y="286"/>
                </a:cubicBezTo>
                <a:cubicBezTo>
                  <a:pt x="221" y="379"/>
                  <a:pt x="221" y="379"/>
                  <a:pt x="221" y="379"/>
                </a:cubicBezTo>
                <a:cubicBezTo>
                  <a:pt x="222" y="380"/>
                  <a:pt x="223" y="380"/>
                  <a:pt x="224" y="380"/>
                </a:cubicBezTo>
                <a:cubicBezTo>
                  <a:pt x="225" y="380"/>
                  <a:pt x="226" y="380"/>
                  <a:pt x="227" y="379"/>
                </a:cubicBezTo>
                <a:cubicBezTo>
                  <a:pt x="227" y="379"/>
                  <a:pt x="227" y="379"/>
                  <a:pt x="227" y="379"/>
                </a:cubicBezTo>
                <a:cubicBezTo>
                  <a:pt x="389" y="286"/>
                  <a:pt x="389" y="286"/>
                  <a:pt x="389" y="286"/>
                </a:cubicBezTo>
                <a:cubicBezTo>
                  <a:pt x="391" y="285"/>
                  <a:pt x="392" y="282"/>
                  <a:pt x="392" y="280"/>
                </a:cubicBezTo>
                <a:cubicBezTo>
                  <a:pt x="392" y="214"/>
                  <a:pt x="392" y="214"/>
                  <a:pt x="392" y="214"/>
                </a:cubicBezTo>
                <a:cubicBezTo>
                  <a:pt x="421" y="197"/>
                  <a:pt x="421" y="197"/>
                  <a:pt x="421" y="197"/>
                </a:cubicBezTo>
                <a:cubicBezTo>
                  <a:pt x="424" y="195"/>
                  <a:pt x="425" y="191"/>
                  <a:pt x="423" y="188"/>
                </a:cubicBezTo>
                <a:cubicBezTo>
                  <a:pt x="394" y="136"/>
                  <a:pt x="394" y="136"/>
                  <a:pt x="394" y="136"/>
                </a:cubicBezTo>
                <a:cubicBezTo>
                  <a:pt x="446" y="86"/>
                  <a:pt x="446" y="86"/>
                  <a:pt x="446" y="86"/>
                </a:cubicBezTo>
                <a:cubicBezTo>
                  <a:pt x="448" y="85"/>
                  <a:pt x="448" y="82"/>
                  <a:pt x="448" y="80"/>
                </a:cubicBezTo>
                <a:close/>
                <a:moveTo>
                  <a:pt x="284" y="184"/>
                </a:moveTo>
                <a:cubicBezTo>
                  <a:pt x="231" y="153"/>
                  <a:pt x="231" y="153"/>
                  <a:pt x="231" y="153"/>
                </a:cubicBezTo>
                <a:cubicBezTo>
                  <a:pt x="231" y="65"/>
                  <a:pt x="231" y="65"/>
                  <a:pt x="231" y="65"/>
                </a:cubicBezTo>
                <a:cubicBezTo>
                  <a:pt x="371" y="136"/>
                  <a:pt x="371" y="136"/>
                  <a:pt x="371" y="136"/>
                </a:cubicBezTo>
                <a:lnTo>
                  <a:pt x="284" y="184"/>
                </a:lnTo>
                <a:close/>
                <a:moveTo>
                  <a:pt x="77" y="136"/>
                </a:moveTo>
                <a:cubicBezTo>
                  <a:pt x="217" y="65"/>
                  <a:pt x="217" y="65"/>
                  <a:pt x="217" y="65"/>
                </a:cubicBezTo>
                <a:cubicBezTo>
                  <a:pt x="217" y="153"/>
                  <a:pt x="217" y="153"/>
                  <a:pt x="217" y="153"/>
                </a:cubicBezTo>
                <a:cubicBezTo>
                  <a:pt x="164" y="184"/>
                  <a:pt x="164" y="184"/>
                  <a:pt x="164" y="184"/>
                </a:cubicBezTo>
                <a:lnTo>
                  <a:pt x="77" y="136"/>
                </a:lnTo>
                <a:close/>
                <a:moveTo>
                  <a:pt x="19" y="83"/>
                </a:moveTo>
                <a:cubicBezTo>
                  <a:pt x="170" y="15"/>
                  <a:pt x="170" y="15"/>
                  <a:pt x="170" y="15"/>
                </a:cubicBezTo>
                <a:cubicBezTo>
                  <a:pt x="212" y="53"/>
                  <a:pt x="212" y="53"/>
                  <a:pt x="212" y="53"/>
                </a:cubicBezTo>
                <a:cubicBezTo>
                  <a:pt x="64" y="127"/>
                  <a:pt x="64" y="127"/>
                  <a:pt x="64" y="127"/>
                </a:cubicBezTo>
                <a:lnTo>
                  <a:pt x="19" y="83"/>
                </a:lnTo>
                <a:close/>
                <a:moveTo>
                  <a:pt x="40" y="189"/>
                </a:moveTo>
                <a:cubicBezTo>
                  <a:pt x="65" y="144"/>
                  <a:pt x="65" y="144"/>
                  <a:pt x="65" y="144"/>
                </a:cubicBezTo>
                <a:cubicBezTo>
                  <a:pt x="214" y="226"/>
                  <a:pt x="214" y="226"/>
                  <a:pt x="214" y="226"/>
                </a:cubicBezTo>
                <a:cubicBezTo>
                  <a:pt x="181" y="270"/>
                  <a:pt x="181" y="270"/>
                  <a:pt x="181" y="270"/>
                </a:cubicBezTo>
                <a:lnTo>
                  <a:pt x="40" y="189"/>
                </a:lnTo>
                <a:close/>
                <a:moveTo>
                  <a:pt x="217" y="362"/>
                </a:moveTo>
                <a:cubicBezTo>
                  <a:pt x="69" y="276"/>
                  <a:pt x="69" y="276"/>
                  <a:pt x="69" y="276"/>
                </a:cubicBezTo>
                <a:cubicBezTo>
                  <a:pt x="69" y="221"/>
                  <a:pt x="69" y="221"/>
                  <a:pt x="69" y="221"/>
                </a:cubicBezTo>
                <a:cubicBezTo>
                  <a:pt x="179" y="284"/>
                  <a:pt x="179" y="284"/>
                  <a:pt x="179" y="284"/>
                </a:cubicBezTo>
                <a:cubicBezTo>
                  <a:pt x="180" y="285"/>
                  <a:pt x="182" y="285"/>
                  <a:pt x="183" y="285"/>
                </a:cubicBezTo>
                <a:cubicBezTo>
                  <a:pt x="185" y="285"/>
                  <a:pt x="187" y="284"/>
                  <a:pt x="188" y="282"/>
                </a:cubicBezTo>
                <a:cubicBezTo>
                  <a:pt x="217" y="244"/>
                  <a:pt x="217" y="244"/>
                  <a:pt x="217" y="244"/>
                </a:cubicBezTo>
                <a:lnTo>
                  <a:pt x="217" y="362"/>
                </a:lnTo>
                <a:close/>
                <a:moveTo>
                  <a:pt x="224" y="217"/>
                </a:moveTo>
                <a:cubicBezTo>
                  <a:pt x="178" y="191"/>
                  <a:pt x="178" y="191"/>
                  <a:pt x="178" y="191"/>
                </a:cubicBezTo>
                <a:cubicBezTo>
                  <a:pt x="224" y="165"/>
                  <a:pt x="224" y="165"/>
                  <a:pt x="224" y="165"/>
                </a:cubicBezTo>
                <a:cubicBezTo>
                  <a:pt x="270" y="191"/>
                  <a:pt x="270" y="191"/>
                  <a:pt x="270" y="191"/>
                </a:cubicBezTo>
                <a:lnTo>
                  <a:pt x="224" y="217"/>
                </a:lnTo>
                <a:close/>
                <a:moveTo>
                  <a:pt x="379" y="276"/>
                </a:moveTo>
                <a:cubicBezTo>
                  <a:pt x="231" y="362"/>
                  <a:pt x="231" y="362"/>
                  <a:pt x="231" y="362"/>
                </a:cubicBezTo>
                <a:cubicBezTo>
                  <a:pt x="231" y="244"/>
                  <a:pt x="231" y="244"/>
                  <a:pt x="231" y="244"/>
                </a:cubicBezTo>
                <a:cubicBezTo>
                  <a:pt x="260" y="282"/>
                  <a:pt x="260" y="282"/>
                  <a:pt x="260" y="282"/>
                </a:cubicBezTo>
                <a:cubicBezTo>
                  <a:pt x="261" y="284"/>
                  <a:pt x="263" y="285"/>
                  <a:pt x="265" y="285"/>
                </a:cubicBezTo>
                <a:cubicBezTo>
                  <a:pt x="267" y="285"/>
                  <a:pt x="268" y="285"/>
                  <a:pt x="269" y="284"/>
                </a:cubicBezTo>
                <a:cubicBezTo>
                  <a:pt x="379" y="221"/>
                  <a:pt x="379" y="221"/>
                  <a:pt x="379" y="221"/>
                </a:cubicBezTo>
                <a:lnTo>
                  <a:pt x="379" y="276"/>
                </a:lnTo>
                <a:close/>
                <a:moveTo>
                  <a:pt x="408" y="189"/>
                </a:moveTo>
                <a:cubicBezTo>
                  <a:pt x="267" y="270"/>
                  <a:pt x="267" y="270"/>
                  <a:pt x="267" y="270"/>
                </a:cubicBezTo>
                <a:cubicBezTo>
                  <a:pt x="234" y="226"/>
                  <a:pt x="234" y="226"/>
                  <a:pt x="234" y="226"/>
                </a:cubicBezTo>
                <a:cubicBezTo>
                  <a:pt x="383" y="144"/>
                  <a:pt x="383" y="144"/>
                  <a:pt x="383" y="144"/>
                </a:cubicBezTo>
                <a:lnTo>
                  <a:pt x="408" y="189"/>
                </a:lnTo>
                <a:close/>
                <a:moveTo>
                  <a:pt x="384" y="127"/>
                </a:moveTo>
                <a:cubicBezTo>
                  <a:pt x="236" y="53"/>
                  <a:pt x="236" y="53"/>
                  <a:pt x="236" y="53"/>
                </a:cubicBezTo>
                <a:cubicBezTo>
                  <a:pt x="278" y="15"/>
                  <a:pt x="278" y="15"/>
                  <a:pt x="278" y="15"/>
                </a:cubicBezTo>
                <a:cubicBezTo>
                  <a:pt x="430" y="83"/>
                  <a:pt x="430" y="83"/>
                  <a:pt x="430" y="83"/>
                </a:cubicBezTo>
                <a:lnTo>
                  <a:pt x="384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202"/>
          <p:cNvGrpSpPr/>
          <p:nvPr/>
        </p:nvGrpSpPr>
        <p:grpSpPr>
          <a:xfrm>
            <a:off x="8107200" y="3681360"/>
            <a:ext cx="565200" cy="565200"/>
            <a:chOff x="8107200" y="3681360"/>
            <a:chExt cx="565200" cy="565200"/>
          </a:xfrm>
        </p:grpSpPr>
        <p:sp>
          <p:nvSpPr>
            <p:cNvPr id="326" name="Freeform 50"/>
            <p:cNvSpPr/>
            <p:nvPr/>
          </p:nvSpPr>
          <p:spPr>
            <a:xfrm>
              <a:off x="8107200" y="368136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346" h="346">
                  <a:moveTo>
                    <a:pt x="341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44"/>
                    <a:pt x="2" y="346"/>
                    <a:pt x="6" y="346"/>
                  </a:cubicBezTo>
                  <a:cubicBezTo>
                    <a:pt x="341" y="346"/>
                    <a:pt x="341" y="346"/>
                    <a:pt x="341" y="346"/>
                  </a:cubicBezTo>
                  <a:cubicBezTo>
                    <a:pt x="344" y="346"/>
                    <a:pt x="346" y="344"/>
                    <a:pt x="346" y="341"/>
                  </a:cubicBezTo>
                  <a:cubicBezTo>
                    <a:pt x="346" y="5"/>
                    <a:pt x="346" y="5"/>
                    <a:pt x="346" y="5"/>
                  </a:cubicBezTo>
                  <a:cubicBezTo>
                    <a:pt x="346" y="2"/>
                    <a:pt x="344" y="0"/>
                    <a:pt x="341" y="0"/>
                  </a:cubicBezTo>
                  <a:close/>
                  <a:moveTo>
                    <a:pt x="11" y="76"/>
                  </a:moveTo>
                  <a:cubicBezTo>
                    <a:pt x="64" y="76"/>
                    <a:pt x="64" y="76"/>
                    <a:pt x="64" y="76"/>
                  </a:cubicBezTo>
                  <a:cubicBezTo>
                    <a:pt x="64" y="270"/>
                    <a:pt x="64" y="270"/>
                    <a:pt x="64" y="270"/>
                  </a:cubicBezTo>
                  <a:cubicBezTo>
                    <a:pt x="11" y="270"/>
                    <a:pt x="11" y="270"/>
                    <a:pt x="11" y="270"/>
                  </a:cubicBezTo>
                  <a:lnTo>
                    <a:pt x="11" y="76"/>
                  </a:lnTo>
                  <a:close/>
                  <a:moveTo>
                    <a:pt x="335" y="335"/>
                  </a:moveTo>
                  <a:cubicBezTo>
                    <a:pt x="11" y="335"/>
                    <a:pt x="11" y="335"/>
                    <a:pt x="11" y="335"/>
                  </a:cubicBezTo>
                  <a:cubicBezTo>
                    <a:pt x="11" y="282"/>
                    <a:pt x="11" y="282"/>
                    <a:pt x="11" y="282"/>
                  </a:cubicBezTo>
                  <a:cubicBezTo>
                    <a:pt x="335" y="282"/>
                    <a:pt x="335" y="282"/>
                    <a:pt x="335" y="282"/>
                  </a:cubicBezTo>
                  <a:lnTo>
                    <a:pt x="335" y="335"/>
                  </a:lnTo>
                  <a:close/>
                  <a:moveTo>
                    <a:pt x="243" y="76"/>
                  </a:moveTo>
                  <a:cubicBezTo>
                    <a:pt x="270" y="76"/>
                    <a:pt x="270" y="76"/>
                    <a:pt x="270" y="7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103" y="270"/>
                    <a:pt x="103" y="270"/>
                    <a:pt x="103" y="270"/>
                  </a:cubicBezTo>
                  <a:cubicBezTo>
                    <a:pt x="76" y="270"/>
                    <a:pt x="76" y="270"/>
                    <a:pt x="76" y="270"/>
                  </a:cubicBezTo>
                  <a:cubicBezTo>
                    <a:pt x="76" y="249"/>
                    <a:pt x="76" y="249"/>
                    <a:pt x="76" y="249"/>
                  </a:cubicBezTo>
                  <a:lnTo>
                    <a:pt x="243" y="76"/>
                  </a:lnTo>
                  <a:close/>
                  <a:moveTo>
                    <a:pt x="76" y="233"/>
                  </a:moveTo>
                  <a:cubicBezTo>
                    <a:pt x="76" y="76"/>
                    <a:pt x="76" y="76"/>
                    <a:pt x="76" y="76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132" y="174"/>
                    <a:pt x="132" y="174"/>
                    <a:pt x="132" y="174"/>
                  </a:cubicBezTo>
                  <a:lnTo>
                    <a:pt x="76" y="233"/>
                  </a:lnTo>
                  <a:close/>
                  <a:moveTo>
                    <a:pt x="144" y="162"/>
                  </a:moveTo>
                  <a:cubicBezTo>
                    <a:pt x="144" y="76"/>
                    <a:pt x="144" y="76"/>
                    <a:pt x="144" y="76"/>
                  </a:cubicBezTo>
                  <a:cubicBezTo>
                    <a:pt x="203" y="76"/>
                    <a:pt x="203" y="76"/>
                    <a:pt x="203" y="76"/>
                  </a:cubicBezTo>
                  <a:cubicBezTo>
                    <a:pt x="203" y="102"/>
                    <a:pt x="203" y="102"/>
                    <a:pt x="203" y="102"/>
                  </a:cubicBezTo>
                  <a:lnTo>
                    <a:pt x="144" y="162"/>
                  </a:lnTo>
                  <a:close/>
                  <a:moveTo>
                    <a:pt x="214" y="90"/>
                  </a:moveTo>
                  <a:cubicBezTo>
                    <a:pt x="214" y="76"/>
                    <a:pt x="214" y="76"/>
                    <a:pt x="214" y="76"/>
                  </a:cubicBezTo>
                  <a:cubicBezTo>
                    <a:pt x="227" y="76"/>
                    <a:pt x="227" y="76"/>
                    <a:pt x="227" y="76"/>
                  </a:cubicBezTo>
                  <a:lnTo>
                    <a:pt x="214" y="90"/>
                  </a:lnTo>
                  <a:close/>
                  <a:moveTo>
                    <a:pt x="214" y="172"/>
                  </a:moveTo>
                  <a:cubicBezTo>
                    <a:pt x="270" y="113"/>
                    <a:pt x="270" y="113"/>
                    <a:pt x="270" y="113"/>
                  </a:cubicBezTo>
                  <a:cubicBezTo>
                    <a:pt x="270" y="270"/>
                    <a:pt x="270" y="270"/>
                    <a:pt x="270" y="270"/>
                  </a:cubicBezTo>
                  <a:cubicBezTo>
                    <a:pt x="214" y="270"/>
                    <a:pt x="214" y="270"/>
                    <a:pt x="214" y="270"/>
                  </a:cubicBezTo>
                  <a:cubicBezTo>
                    <a:pt x="214" y="172"/>
                    <a:pt x="214" y="172"/>
                    <a:pt x="214" y="172"/>
                  </a:cubicBezTo>
                  <a:close/>
                  <a:moveTo>
                    <a:pt x="203" y="183"/>
                  </a:moveTo>
                  <a:cubicBezTo>
                    <a:pt x="203" y="270"/>
                    <a:pt x="203" y="270"/>
                    <a:pt x="203" y="270"/>
                  </a:cubicBezTo>
                  <a:cubicBezTo>
                    <a:pt x="144" y="270"/>
                    <a:pt x="144" y="270"/>
                    <a:pt x="144" y="270"/>
                  </a:cubicBezTo>
                  <a:cubicBezTo>
                    <a:pt x="144" y="244"/>
                    <a:pt x="144" y="244"/>
                    <a:pt x="144" y="244"/>
                  </a:cubicBezTo>
                  <a:lnTo>
                    <a:pt x="203" y="183"/>
                  </a:lnTo>
                  <a:close/>
                  <a:moveTo>
                    <a:pt x="132" y="256"/>
                  </a:moveTo>
                  <a:cubicBezTo>
                    <a:pt x="132" y="270"/>
                    <a:pt x="132" y="270"/>
                    <a:pt x="132" y="270"/>
                  </a:cubicBezTo>
                  <a:cubicBezTo>
                    <a:pt x="119" y="270"/>
                    <a:pt x="119" y="270"/>
                    <a:pt x="119" y="270"/>
                  </a:cubicBezTo>
                  <a:lnTo>
                    <a:pt x="132" y="256"/>
                  </a:lnTo>
                  <a:close/>
                  <a:moveTo>
                    <a:pt x="335" y="270"/>
                  </a:moveTo>
                  <a:cubicBezTo>
                    <a:pt x="282" y="270"/>
                    <a:pt x="282" y="270"/>
                    <a:pt x="282" y="270"/>
                  </a:cubicBezTo>
                  <a:cubicBezTo>
                    <a:pt x="282" y="76"/>
                    <a:pt x="282" y="76"/>
                    <a:pt x="282" y="76"/>
                  </a:cubicBezTo>
                  <a:cubicBezTo>
                    <a:pt x="335" y="76"/>
                    <a:pt x="335" y="76"/>
                    <a:pt x="335" y="76"/>
                  </a:cubicBezTo>
                  <a:lnTo>
                    <a:pt x="335" y="270"/>
                  </a:lnTo>
                  <a:close/>
                  <a:moveTo>
                    <a:pt x="335" y="64"/>
                  </a:moveTo>
                  <a:cubicBezTo>
                    <a:pt x="11" y="64"/>
                    <a:pt x="11" y="64"/>
                    <a:pt x="11" y="64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335" y="11"/>
                    <a:pt x="335" y="11"/>
                    <a:pt x="335" y="11"/>
                  </a:cubicBezTo>
                  <a:lnTo>
                    <a:pt x="33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Oval 51"/>
            <p:cNvSpPr/>
            <p:nvPr/>
          </p:nvSpPr>
          <p:spPr>
            <a:xfrm>
              <a:off x="816912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Oval 52"/>
            <p:cNvSpPr/>
            <p:nvPr/>
          </p:nvSpPr>
          <p:spPr>
            <a:xfrm>
              <a:off x="857736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Oval 53"/>
            <p:cNvSpPr/>
            <p:nvPr/>
          </p:nvSpPr>
          <p:spPr>
            <a:xfrm>
              <a:off x="816912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Oval 54"/>
            <p:cNvSpPr/>
            <p:nvPr/>
          </p:nvSpPr>
          <p:spPr>
            <a:xfrm>
              <a:off x="857736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1" name="Freeform 55"/>
          <p:cNvSpPr/>
          <p:nvPr/>
        </p:nvSpPr>
        <p:spPr>
          <a:xfrm>
            <a:off x="8015400" y="4807080"/>
            <a:ext cx="682560" cy="544320"/>
          </a:xfrm>
          <a:custGeom>
            <a:avLst/>
            <a:gdLst>
              <a:gd name="textAreaLeft" fmla="*/ 0 w 682560"/>
              <a:gd name="textAreaRight" fmla="*/ 682920 w 682560"/>
              <a:gd name="textAreaTop" fmla="*/ 0 h 544320"/>
              <a:gd name="textAreaBottom" fmla="*/ 544320 h 544320"/>
            </a:gdLst>
            <a:ahLst/>
            <a:rect l="textAreaLeft" t="textAreaTop" r="textAreaRight" b="textAreaBottom"/>
            <a:pathLst>
              <a:path w="419" h="333">
                <a:moveTo>
                  <a:pt x="4" y="238"/>
                </a:moveTo>
                <a:cubicBezTo>
                  <a:pt x="269" y="333"/>
                  <a:pt x="269" y="333"/>
                  <a:pt x="269" y="333"/>
                </a:cubicBezTo>
                <a:cubicBezTo>
                  <a:pt x="270" y="333"/>
                  <a:pt x="270" y="333"/>
                  <a:pt x="271" y="333"/>
                </a:cubicBezTo>
                <a:cubicBezTo>
                  <a:pt x="273" y="333"/>
                  <a:pt x="274" y="332"/>
                  <a:pt x="275" y="332"/>
                </a:cubicBezTo>
                <a:cubicBezTo>
                  <a:pt x="275" y="332"/>
                  <a:pt x="352" y="270"/>
                  <a:pt x="416" y="218"/>
                </a:cubicBezTo>
                <a:cubicBezTo>
                  <a:pt x="418" y="217"/>
                  <a:pt x="419" y="215"/>
                  <a:pt x="419" y="213"/>
                </a:cubicBezTo>
                <a:cubicBezTo>
                  <a:pt x="419" y="100"/>
                  <a:pt x="419" y="100"/>
                  <a:pt x="419" y="100"/>
                </a:cubicBezTo>
                <a:cubicBezTo>
                  <a:pt x="419" y="99"/>
                  <a:pt x="419" y="99"/>
                  <a:pt x="419" y="99"/>
                </a:cubicBezTo>
                <a:cubicBezTo>
                  <a:pt x="418" y="96"/>
                  <a:pt x="416" y="94"/>
                  <a:pt x="414" y="93"/>
                </a:cubicBezTo>
                <a:cubicBezTo>
                  <a:pt x="147" y="1"/>
                  <a:pt x="147" y="1"/>
                  <a:pt x="147" y="1"/>
                </a:cubicBezTo>
                <a:cubicBezTo>
                  <a:pt x="145" y="0"/>
                  <a:pt x="143" y="1"/>
                  <a:pt x="141" y="2"/>
                </a:cubicBezTo>
                <a:cubicBezTo>
                  <a:pt x="2" y="107"/>
                  <a:pt x="2" y="107"/>
                  <a:pt x="2" y="107"/>
                </a:cubicBezTo>
                <a:cubicBezTo>
                  <a:pt x="1" y="108"/>
                  <a:pt x="0" y="109"/>
                  <a:pt x="0" y="112"/>
                </a:cubicBezTo>
                <a:cubicBezTo>
                  <a:pt x="0" y="232"/>
                  <a:pt x="0" y="232"/>
                  <a:pt x="0" y="232"/>
                </a:cubicBezTo>
                <a:cubicBezTo>
                  <a:pt x="0" y="235"/>
                  <a:pt x="1" y="237"/>
                  <a:pt x="4" y="238"/>
                </a:cubicBezTo>
                <a:close/>
                <a:moveTo>
                  <a:pt x="22" y="110"/>
                </a:moveTo>
                <a:cubicBezTo>
                  <a:pt x="59" y="82"/>
                  <a:pt x="59" y="82"/>
                  <a:pt x="59" y="82"/>
                </a:cubicBezTo>
                <a:cubicBezTo>
                  <a:pt x="304" y="172"/>
                  <a:pt x="304" y="172"/>
                  <a:pt x="304" y="172"/>
                </a:cubicBezTo>
                <a:cubicBezTo>
                  <a:pt x="272" y="197"/>
                  <a:pt x="272" y="197"/>
                  <a:pt x="272" y="197"/>
                </a:cubicBezTo>
                <a:lnTo>
                  <a:pt x="22" y="110"/>
                </a:lnTo>
                <a:close/>
                <a:moveTo>
                  <a:pt x="370" y="140"/>
                </a:moveTo>
                <a:cubicBezTo>
                  <a:pt x="404" y="114"/>
                  <a:pt x="404" y="114"/>
                  <a:pt x="404" y="114"/>
                </a:cubicBezTo>
                <a:cubicBezTo>
                  <a:pt x="404" y="209"/>
                  <a:pt x="404" y="209"/>
                  <a:pt x="404" y="209"/>
                </a:cubicBezTo>
                <a:cubicBezTo>
                  <a:pt x="278" y="311"/>
                  <a:pt x="278" y="311"/>
                  <a:pt x="278" y="311"/>
                </a:cubicBezTo>
                <a:cubicBezTo>
                  <a:pt x="278" y="210"/>
                  <a:pt x="278" y="210"/>
                  <a:pt x="278" y="210"/>
                </a:cubicBezTo>
                <a:cubicBezTo>
                  <a:pt x="311" y="185"/>
                  <a:pt x="311" y="185"/>
                  <a:pt x="311" y="185"/>
                </a:cubicBezTo>
                <a:cubicBezTo>
                  <a:pt x="311" y="223"/>
                  <a:pt x="311" y="223"/>
                  <a:pt x="311" y="223"/>
                </a:cubicBezTo>
                <a:cubicBezTo>
                  <a:pt x="311" y="226"/>
                  <a:pt x="313" y="229"/>
                  <a:pt x="315" y="230"/>
                </a:cubicBezTo>
                <a:cubicBezTo>
                  <a:pt x="318" y="231"/>
                  <a:pt x="321" y="231"/>
                  <a:pt x="323" y="229"/>
                </a:cubicBezTo>
                <a:cubicBezTo>
                  <a:pt x="367" y="196"/>
                  <a:pt x="367" y="196"/>
                  <a:pt x="367" y="196"/>
                </a:cubicBezTo>
                <a:cubicBezTo>
                  <a:pt x="369" y="195"/>
                  <a:pt x="370" y="193"/>
                  <a:pt x="370" y="190"/>
                </a:cubicBezTo>
                <a:lnTo>
                  <a:pt x="370" y="140"/>
                </a:lnTo>
                <a:close/>
                <a:moveTo>
                  <a:pt x="326" y="209"/>
                </a:moveTo>
                <a:cubicBezTo>
                  <a:pt x="326" y="170"/>
                  <a:pt x="326" y="170"/>
                  <a:pt x="326" y="170"/>
                </a:cubicBezTo>
                <a:cubicBezTo>
                  <a:pt x="326" y="167"/>
                  <a:pt x="324" y="165"/>
                  <a:pt x="321" y="164"/>
                </a:cubicBezTo>
                <a:cubicBezTo>
                  <a:pt x="73" y="72"/>
                  <a:pt x="73" y="72"/>
                  <a:pt x="73" y="72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6" y="187"/>
                  <a:pt x="356" y="187"/>
                  <a:pt x="356" y="187"/>
                </a:cubicBezTo>
                <a:lnTo>
                  <a:pt x="326" y="209"/>
                </a:lnTo>
                <a:close/>
                <a:moveTo>
                  <a:pt x="121" y="35"/>
                </a:moveTo>
                <a:cubicBezTo>
                  <a:pt x="146" y="16"/>
                  <a:pt x="146" y="16"/>
                  <a:pt x="146" y="16"/>
                </a:cubicBezTo>
                <a:cubicBezTo>
                  <a:pt x="397" y="102"/>
                  <a:pt x="397" y="102"/>
                  <a:pt x="397" y="102"/>
                </a:cubicBezTo>
                <a:cubicBezTo>
                  <a:pt x="362" y="129"/>
                  <a:pt x="362" y="129"/>
                  <a:pt x="362" y="129"/>
                </a:cubicBezTo>
                <a:lnTo>
                  <a:pt x="121" y="35"/>
                </a:lnTo>
                <a:close/>
                <a:moveTo>
                  <a:pt x="14" y="227"/>
                </a:moveTo>
                <a:cubicBezTo>
                  <a:pt x="14" y="122"/>
                  <a:pt x="14" y="122"/>
                  <a:pt x="14" y="122"/>
                </a:cubicBezTo>
                <a:cubicBezTo>
                  <a:pt x="264" y="209"/>
                  <a:pt x="264" y="209"/>
                  <a:pt x="264" y="209"/>
                </a:cubicBezTo>
                <a:cubicBezTo>
                  <a:pt x="264" y="316"/>
                  <a:pt x="264" y="316"/>
                  <a:pt x="264" y="316"/>
                </a:cubicBezTo>
                <a:lnTo>
                  <a:pt x="14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组合 209"/>
          <p:cNvGrpSpPr/>
          <p:nvPr/>
        </p:nvGrpSpPr>
        <p:grpSpPr>
          <a:xfrm>
            <a:off x="9408960" y="3678120"/>
            <a:ext cx="663840" cy="568440"/>
            <a:chOff x="9408960" y="3678120"/>
            <a:chExt cx="663840" cy="568440"/>
          </a:xfrm>
        </p:grpSpPr>
        <p:sp>
          <p:nvSpPr>
            <p:cNvPr id="333" name="Freeform 56"/>
            <p:cNvSpPr/>
            <p:nvPr/>
          </p:nvSpPr>
          <p:spPr>
            <a:xfrm>
              <a:off x="9408960" y="3678120"/>
              <a:ext cx="663840" cy="56844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407" h="348">
                  <a:moveTo>
                    <a:pt x="401" y="55"/>
                  </a:moveTo>
                  <a:cubicBezTo>
                    <a:pt x="401" y="55"/>
                    <a:pt x="401" y="55"/>
                    <a:pt x="401" y="55"/>
                  </a:cubicBezTo>
                  <a:cubicBezTo>
                    <a:pt x="388" y="52"/>
                    <a:pt x="207" y="0"/>
                    <a:pt x="206" y="0"/>
                  </a:cubicBezTo>
                  <a:cubicBezTo>
                    <a:pt x="205" y="0"/>
                    <a:pt x="203" y="0"/>
                    <a:pt x="202" y="0"/>
                  </a:cubicBezTo>
                  <a:cubicBezTo>
                    <a:pt x="200" y="1"/>
                    <a:pt x="7" y="55"/>
                    <a:pt x="6" y="56"/>
                  </a:cubicBezTo>
                  <a:cubicBezTo>
                    <a:pt x="4" y="56"/>
                    <a:pt x="0" y="58"/>
                    <a:pt x="0" y="63"/>
                  </a:cubicBezTo>
                  <a:cubicBezTo>
                    <a:pt x="0" y="260"/>
                    <a:pt x="0" y="260"/>
                    <a:pt x="0" y="260"/>
                  </a:cubicBezTo>
                  <a:cubicBezTo>
                    <a:pt x="0" y="263"/>
                    <a:pt x="2" y="266"/>
                    <a:pt x="5" y="267"/>
                  </a:cubicBezTo>
                  <a:cubicBezTo>
                    <a:pt x="201" y="348"/>
                    <a:pt x="201" y="348"/>
                    <a:pt x="201" y="348"/>
                  </a:cubicBezTo>
                  <a:cubicBezTo>
                    <a:pt x="201" y="348"/>
                    <a:pt x="202" y="348"/>
                    <a:pt x="203" y="348"/>
                  </a:cubicBezTo>
                  <a:cubicBezTo>
                    <a:pt x="203" y="348"/>
                    <a:pt x="203" y="348"/>
                    <a:pt x="203" y="348"/>
                  </a:cubicBezTo>
                  <a:cubicBezTo>
                    <a:pt x="203" y="348"/>
                    <a:pt x="203" y="348"/>
                    <a:pt x="204" y="348"/>
                  </a:cubicBezTo>
                  <a:cubicBezTo>
                    <a:pt x="204" y="348"/>
                    <a:pt x="204" y="348"/>
                    <a:pt x="205" y="348"/>
                  </a:cubicBezTo>
                  <a:cubicBezTo>
                    <a:pt x="205" y="348"/>
                    <a:pt x="205" y="348"/>
                    <a:pt x="205" y="348"/>
                  </a:cubicBezTo>
                  <a:cubicBezTo>
                    <a:pt x="206" y="348"/>
                    <a:pt x="206" y="348"/>
                    <a:pt x="207" y="348"/>
                  </a:cubicBezTo>
                  <a:cubicBezTo>
                    <a:pt x="403" y="267"/>
                    <a:pt x="403" y="267"/>
                    <a:pt x="403" y="267"/>
                  </a:cubicBezTo>
                  <a:cubicBezTo>
                    <a:pt x="405" y="266"/>
                    <a:pt x="407" y="263"/>
                    <a:pt x="407" y="260"/>
                  </a:cubicBezTo>
                  <a:cubicBezTo>
                    <a:pt x="407" y="63"/>
                    <a:pt x="407" y="63"/>
                    <a:pt x="407" y="63"/>
                  </a:cubicBezTo>
                  <a:cubicBezTo>
                    <a:pt x="407" y="62"/>
                    <a:pt x="407" y="57"/>
                    <a:pt x="401" y="55"/>
                  </a:cubicBezTo>
                  <a:close/>
                  <a:moveTo>
                    <a:pt x="196" y="329"/>
                  </a:moveTo>
                  <a:cubicBezTo>
                    <a:pt x="16" y="255"/>
                    <a:pt x="16" y="255"/>
                    <a:pt x="16" y="255"/>
                  </a:cubicBezTo>
                  <a:cubicBezTo>
                    <a:pt x="16" y="74"/>
                    <a:pt x="16" y="74"/>
                    <a:pt x="16" y="74"/>
                  </a:cubicBezTo>
                  <a:cubicBezTo>
                    <a:pt x="196" y="140"/>
                    <a:pt x="196" y="140"/>
                    <a:pt x="196" y="140"/>
                  </a:cubicBezTo>
                  <a:lnTo>
                    <a:pt x="196" y="329"/>
                  </a:lnTo>
                  <a:close/>
                  <a:moveTo>
                    <a:pt x="204" y="105"/>
                  </a:moveTo>
                  <a:cubicBezTo>
                    <a:pt x="200" y="105"/>
                    <a:pt x="196" y="109"/>
                    <a:pt x="196" y="113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196" y="122"/>
                    <a:pt x="196" y="122"/>
                    <a:pt x="197" y="123"/>
                  </a:cubicBezTo>
                  <a:cubicBezTo>
                    <a:pt x="197" y="124"/>
                    <a:pt x="197" y="124"/>
                    <a:pt x="197" y="124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196" y="17"/>
                    <a:pt x="196" y="17"/>
                    <a:pt x="196" y="17"/>
                  </a:cubicBezTo>
                  <a:cubicBezTo>
                    <a:pt x="197" y="18"/>
                    <a:pt x="197" y="18"/>
                    <a:pt x="197" y="18"/>
                  </a:cubicBezTo>
                  <a:cubicBezTo>
                    <a:pt x="198" y="21"/>
                    <a:pt x="200" y="23"/>
                    <a:pt x="204" y="23"/>
                  </a:cubicBezTo>
                  <a:cubicBezTo>
                    <a:pt x="207" y="23"/>
                    <a:pt x="210" y="21"/>
                    <a:pt x="211" y="18"/>
                  </a:cubicBezTo>
                  <a:cubicBezTo>
                    <a:pt x="211" y="17"/>
                    <a:pt x="211" y="17"/>
                    <a:pt x="211" y="17"/>
                  </a:cubicBezTo>
                  <a:cubicBezTo>
                    <a:pt x="375" y="64"/>
                    <a:pt x="375" y="64"/>
                    <a:pt x="375" y="64"/>
                  </a:cubicBezTo>
                  <a:cubicBezTo>
                    <a:pt x="211" y="124"/>
                    <a:pt x="211" y="124"/>
                    <a:pt x="211" y="124"/>
                  </a:cubicBezTo>
                  <a:cubicBezTo>
                    <a:pt x="211" y="123"/>
                    <a:pt x="211" y="123"/>
                    <a:pt x="211" y="123"/>
                  </a:cubicBezTo>
                  <a:cubicBezTo>
                    <a:pt x="211" y="122"/>
                    <a:pt x="211" y="122"/>
                    <a:pt x="211" y="121"/>
                  </a:cubicBezTo>
                  <a:cubicBezTo>
                    <a:pt x="211" y="113"/>
                    <a:pt x="211" y="113"/>
                    <a:pt x="211" y="113"/>
                  </a:cubicBezTo>
                  <a:cubicBezTo>
                    <a:pt x="211" y="109"/>
                    <a:pt x="208" y="105"/>
                    <a:pt x="204" y="105"/>
                  </a:cubicBezTo>
                  <a:close/>
                  <a:moveTo>
                    <a:pt x="392" y="255"/>
                  </a:moveTo>
                  <a:cubicBezTo>
                    <a:pt x="211" y="329"/>
                    <a:pt x="211" y="329"/>
                    <a:pt x="211" y="329"/>
                  </a:cubicBezTo>
                  <a:cubicBezTo>
                    <a:pt x="211" y="140"/>
                    <a:pt x="211" y="140"/>
                    <a:pt x="211" y="140"/>
                  </a:cubicBezTo>
                  <a:cubicBezTo>
                    <a:pt x="392" y="74"/>
                    <a:pt x="392" y="74"/>
                    <a:pt x="392" y="74"/>
                  </a:cubicBezTo>
                  <a:lnTo>
                    <a:pt x="39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57"/>
            <p:cNvSpPr/>
            <p:nvPr/>
          </p:nvSpPr>
          <p:spPr>
            <a:xfrm>
              <a:off x="9728280" y="3735360"/>
              <a:ext cx="24840" cy="37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15" h="23">
                  <a:moveTo>
                    <a:pt x="8" y="23"/>
                  </a:moveTo>
                  <a:cubicBezTo>
                    <a:pt x="12" y="23"/>
                    <a:pt x="15" y="20"/>
                    <a:pt x="15" y="16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3"/>
                    <a:pt x="12" y="0"/>
                    <a:pt x="8" y="0"/>
                  </a:cubicBezTo>
                  <a:cubicBezTo>
                    <a:pt x="4" y="0"/>
                    <a:pt x="0" y="3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20"/>
                    <a:pt x="4" y="23"/>
                    <a:pt x="8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58"/>
            <p:cNvSpPr/>
            <p:nvPr/>
          </p:nvSpPr>
          <p:spPr>
            <a:xfrm>
              <a:off x="9728280" y="3791880"/>
              <a:ext cx="24840" cy="378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" h="23">
                  <a:moveTo>
                    <a:pt x="15" y="8"/>
                  </a:moveTo>
                  <a:cubicBezTo>
                    <a:pt x="15" y="3"/>
                    <a:pt x="12" y="0"/>
                    <a:pt x="8" y="0"/>
                  </a:cubicBezTo>
                  <a:cubicBezTo>
                    <a:pt x="4" y="0"/>
                    <a:pt x="0" y="3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20"/>
                    <a:pt x="4" y="23"/>
                    <a:pt x="8" y="23"/>
                  </a:cubicBezTo>
                  <a:cubicBezTo>
                    <a:pt x="12" y="23"/>
                    <a:pt x="15" y="20"/>
                    <a:pt x="15" y="16"/>
                  </a:cubicBez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33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Straight Connector 72"/>
          <p:cNvSpPr/>
          <p:nvPr/>
        </p:nvSpPr>
        <p:spPr>
          <a:xfrm>
            <a:off x="414648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traight Connector 75"/>
          <p:cNvSpPr/>
          <p:nvPr/>
        </p:nvSpPr>
        <p:spPr>
          <a:xfrm>
            <a:off x="6386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traight Connector 76"/>
          <p:cNvSpPr/>
          <p:nvPr/>
        </p:nvSpPr>
        <p:spPr>
          <a:xfrm>
            <a:off x="8647200" y="2368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traight Connector 77"/>
          <p:cNvSpPr/>
          <p:nvPr/>
        </p:nvSpPr>
        <p:spPr>
          <a:xfrm>
            <a:off x="-336600" y="2368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traight Connector 78"/>
          <p:cNvSpPr/>
          <p:nvPr/>
        </p:nvSpPr>
        <p:spPr>
          <a:xfrm>
            <a:off x="190332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traight Connector 79"/>
          <p:cNvSpPr/>
          <p:nvPr/>
        </p:nvSpPr>
        <p:spPr>
          <a:xfrm>
            <a:off x="10958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traight Connector 80"/>
          <p:cNvSpPr/>
          <p:nvPr/>
        </p:nvSpPr>
        <p:spPr>
          <a:xfrm>
            <a:off x="414972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traight Connector 81"/>
          <p:cNvSpPr/>
          <p:nvPr/>
        </p:nvSpPr>
        <p:spPr>
          <a:xfrm>
            <a:off x="6391440" y="4546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traight Connector 82"/>
          <p:cNvSpPr/>
          <p:nvPr/>
        </p:nvSpPr>
        <p:spPr>
          <a:xfrm>
            <a:off x="8650440" y="4546440"/>
            <a:ext cx="15840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traight Connector 83"/>
          <p:cNvSpPr/>
          <p:nvPr/>
        </p:nvSpPr>
        <p:spPr>
          <a:xfrm>
            <a:off x="190656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traight Connector 84"/>
          <p:cNvSpPr/>
          <p:nvPr/>
        </p:nvSpPr>
        <p:spPr>
          <a:xfrm>
            <a:off x="-336600" y="4546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129"/>
          <p:cNvGrpSpPr/>
          <p:nvPr/>
        </p:nvGrpSpPr>
        <p:grpSpPr>
          <a:xfrm>
            <a:off x="747720" y="1657440"/>
            <a:ext cx="1974960" cy="1971720"/>
            <a:chOff x="747720" y="1657440"/>
            <a:chExt cx="1974960" cy="1971720"/>
          </a:xfrm>
        </p:grpSpPr>
        <p:sp>
          <p:nvSpPr>
            <p:cNvPr id="353" name="Oval 92"/>
            <p:cNvSpPr/>
            <p:nvPr/>
          </p:nvSpPr>
          <p:spPr>
            <a:xfrm>
              <a:off x="1199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1339920" y="2148480"/>
              <a:ext cx="438840" cy="441000"/>
            </a:xfrm>
            <a:custGeom>
              <a:avLst/>
              <a:gdLst>
                <a:gd name="textAreaLeft" fmla="*/ 0 w 438840"/>
                <a:gd name="textAreaRight" fmla="*/ 439200 w 43884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246" h="247">
                  <a:moveTo>
                    <a:pt x="234" y="13"/>
                  </a:moveTo>
                  <a:cubicBezTo>
                    <a:pt x="221" y="0"/>
                    <a:pt x="196" y="11"/>
                    <a:pt x="175" y="35"/>
                  </a:cubicBezTo>
                  <a:cubicBezTo>
                    <a:pt x="153" y="60"/>
                    <a:pt x="153" y="60"/>
                    <a:pt x="153" y="60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65" y="159"/>
                    <a:pt x="65" y="159"/>
                    <a:pt x="65" y="159"/>
                  </a:cubicBezTo>
                  <a:cubicBezTo>
                    <a:pt x="61" y="164"/>
                    <a:pt x="57" y="168"/>
                    <a:pt x="54" y="172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47" y="200"/>
                    <a:pt x="47" y="200"/>
                    <a:pt x="47" y="200"/>
                  </a:cubicBezTo>
                  <a:cubicBezTo>
                    <a:pt x="74" y="247"/>
                    <a:pt x="74" y="247"/>
                    <a:pt x="74" y="247"/>
                  </a:cubicBezTo>
                  <a:cubicBezTo>
                    <a:pt x="86" y="235"/>
                    <a:pt x="86" y="235"/>
                    <a:pt x="86" y="235"/>
                  </a:cubicBezTo>
                  <a:cubicBezTo>
                    <a:pt x="75" y="193"/>
                    <a:pt x="75" y="193"/>
                    <a:pt x="75" y="193"/>
                  </a:cubicBezTo>
                  <a:cubicBezTo>
                    <a:pt x="79" y="190"/>
                    <a:pt x="83" y="186"/>
                    <a:pt x="88" y="182"/>
                  </a:cubicBezTo>
                  <a:cubicBezTo>
                    <a:pt x="138" y="140"/>
                    <a:pt x="138" y="140"/>
                    <a:pt x="138" y="140"/>
                  </a:cubicBezTo>
                  <a:cubicBezTo>
                    <a:pt x="192" y="242"/>
                    <a:pt x="192" y="242"/>
                    <a:pt x="192" y="242"/>
                  </a:cubicBezTo>
                  <a:cubicBezTo>
                    <a:pt x="211" y="223"/>
                    <a:pt x="211" y="223"/>
                    <a:pt x="211" y="223"/>
                  </a:cubicBezTo>
                  <a:cubicBezTo>
                    <a:pt x="187" y="94"/>
                    <a:pt x="187" y="94"/>
                    <a:pt x="187" y="94"/>
                  </a:cubicBezTo>
                  <a:cubicBezTo>
                    <a:pt x="212" y="72"/>
                    <a:pt x="212" y="72"/>
                    <a:pt x="212" y="72"/>
                  </a:cubicBezTo>
                  <a:cubicBezTo>
                    <a:pt x="236" y="51"/>
                    <a:pt x="246" y="25"/>
                    <a:pt x="23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94"/>
            <p:cNvSpPr/>
            <p:nvPr/>
          </p:nvSpPr>
          <p:spPr>
            <a:xfrm>
              <a:off x="1364400" y="165744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6" name="组合 133"/>
            <p:cNvGrpSpPr/>
            <p:nvPr/>
          </p:nvGrpSpPr>
          <p:grpSpPr>
            <a:xfrm>
              <a:off x="747720" y="2842560"/>
              <a:ext cx="1974960" cy="786600"/>
              <a:chOff x="747720" y="2842560"/>
              <a:chExt cx="1974960" cy="786600"/>
            </a:xfrm>
          </p:grpSpPr>
          <p:sp>
            <p:nvSpPr>
              <p:cNvPr id="357" name="TextBox 28"/>
              <p:cNvSpPr/>
              <p:nvPr/>
            </p:nvSpPr>
            <p:spPr>
              <a:xfrm>
                <a:off x="123048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TextBox 29"/>
              <p:cNvSpPr/>
              <p:nvPr/>
            </p:nvSpPr>
            <p:spPr>
              <a:xfrm>
                <a:off x="74772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9" name="组合 136"/>
          <p:cNvGrpSpPr/>
          <p:nvPr/>
        </p:nvGrpSpPr>
        <p:grpSpPr>
          <a:xfrm>
            <a:off x="3011400" y="1657440"/>
            <a:ext cx="1974960" cy="1971720"/>
            <a:chOff x="3011400" y="1657440"/>
            <a:chExt cx="1974960" cy="1971720"/>
          </a:xfrm>
        </p:grpSpPr>
        <p:sp>
          <p:nvSpPr>
            <p:cNvPr id="360" name="Oval 126"/>
            <p:cNvSpPr/>
            <p:nvPr/>
          </p:nvSpPr>
          <p:spPr>
            <a:xfrm>
              <a:off x="3476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1" name="Group 127" descr=""/>
            <p:cNvPicPr/>
            <p:nvPr/>
          </p:nvPicPr>
          <p:blipFill>
            <a:blip r:embed="rId2"/>
            <a:stretch/>
          </p:blipFill>
          <p:spPr>
            <a:xfrm>
              <a:off x="3627360" y="2158560"/>
              <a:ext cx="4204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Box 94"/>
            <p:cNvSpPr/>
            <p:nvPr/>
          </p:nvSpPr>
          <p:spPr>
            <a:xfrm>
              <a:off x="360252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3" name="组合 140"/>
            <p:cNvGrpSpPr/>
            <p:nvPr/>
          </p:nvGrpSpPr>
          <p:grpSpPr>
            <a:xfrm>
              <a:off x="3011400" y="2842560"/>
              <a:ext cx="1974960" cy="786600"/>
              <a:chOff x="3011400" y="2842560"/>
              <a:chExt cx="1974960" cy="786600"/>
            </a:xfrm>
          </p:grpSpPr>
          <p:sp>
            <p:nvSpPr>
              <p:cNvPr id="364" name="TextBox 28"/>
              <p:cNvSpPr/>
              <p:nvPr/>
            </p:nvSpPr>
            <p:spPr>
              <a:xfrm>
                <a:off x="349416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TextBox 29"/>
              <p:cNvSpPr/>
              <p:nvPr/>
            </p:nvSpPr>
            <p:spPr>
              <a:xfrm>
                <a:off x="301140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6" name="组合 146"/>
          <p:cNvGrpSpPr/>
          <p:nvPr/>
        </p:nvGrpSpPr>
        <p:grpSpPr>
          <a:xfrm>
            <a:off x="5318280" y="1657440"/>
            <a:ext cx="1974600" cy="1971720"/>
            <a:chOff x="5318280" y="1657440"/>
            <a:chExt cx="1974600" cy="1971720"/>
          </a:xfrm>
        </p:grpSpPr>
        <p:sp>
          <p:nvSpPr>
            <p:cNvPr id="367" name="Oval 119"/>
            <p:cNvSpPr/>
            <p:nvPr/>
          </p:nvSpPr>
          <p:spPr>
            <a:xfrm>
              <a:off x="5743080" y="2009520"/>
              <a:ext cx="71964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8" name="Group 120" descr=""/>
            <p:cNvPicPr/>
            <p:nvPr/>
          </p:nvPicPr>
          <p:blipFill>
            <a:blip r:embed="rId3"/>
            <a:stretch/>
          </p:blipFill>
          <p:spPr>
            <a:xfrm>
              <a:off x="5894280" y="2164320"/>
              <a:ext cx="4143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94"/>
            <p:cNvSpPr/>
            <p:nvPr/>
          </p:nvSpPr>
          <p:spPr>
            <a:xfrm>
              <a:off x="59122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0" name="组合 150"/>
            <p:cNvGrpSpPr/>
            <p:nvPr/>
          </p:nvGrpSpPr>
          <p:grpSpPr>
            <a:xfrm>
              <a:off x="5318280" y="2842560"/>
              <a:ext cx="1974600" cy="786600"/>
              <a:chOff x="5318280" y="2842560"/>
              <a:chExt cx="1974600" cy="786600"/>
            </a:xfrm>
          </p:grpSpPr>
          <p:sp>
            <p:nvSpPr>
              <p:cNvPr id="371" name="TextBox 28"/>
              <p:cNvSpPr/>
              <p:nvPr/>
            </p:nvSpPr>
            <p:spPr>
              <a:xfrm>
                <a:off x="58003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TextBox 29"/>
              <p:cNvSpPr/>
              <p:nvPr/>
            </p:nvSpPr>
            <p:spPr>
              <a:xfrm>
                <a:off x="5318280" y="310896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3" name="组合 157"/>
          <p:cNvGrpSpPr/>
          <p:nvPr/>
        </p:nvGrpSpPr>
        <p:grpSpPr>
          <a:xfrm>
            <a:off x="7581960" y="1657440"/>
            <a:ext cx="1974960" cy="1971720"/>
            <a:chOff x="7581960" y="1657440"/>
            <a:chExt cx="1974960" cy="1971720"/>
          </a:xfrm>
        </p:grpSpPr>
        <p:sp>
          <p:nvSpPr>
            <p:cNvPr id="374" name="Oval 132"/>
            <p:cNvSpPr/>
            <p:nvPr/>
          </p:nvSpPr>
          <p:spPr>
            <a:xfrm>
              <a:off x="799632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5" name="Group 133" descr=""/>
            <p:cNvPicPr/>
            <p:nvPr/>
          </p:nvPicPr>
          <p:blipFill>
            <a:blip r:embed="rId4"/>
            <a:stretch/>
          </p:blipFill>
          <p:spPr>
            <a:xfrm>
              <a:off x="8168400" y="217656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Box 94"/>
            <p:cNvSpPr/>
            <p:nvPr/>
          </p:nvSpPr>
          <p:spPr>
            <a:xfrm>
              <a:off x="81064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7" name="组合 161"/>
            <p:cNvGrpSpPr/>
            <p:nvPr/>
          </p:nvGrpSpPr>
          <p:grpSpPr>
            <a:xfrm>
              <a:off x="7581960" y="2842560"/>
              <a:ext cx="1974960" cy="786600"/>
              <a:chOff x="7581960" y="2842560"/>
              <a:chExt cx="1974960" cy="786600"/>
            </a:xfrm>
          </p:grpSpPr>
          <p:sp>
            <p:nvSpPr>
              <p:cNvPr id="378" name="TextBox 28"/>
              <p:cNvSpPr/>
              <p:nvPr/>
            </p:nvSpPr>
            <p:spPr>
              <a:xfrm>
                <a:off x="80647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TextBox 29"/>
              <p:cNvSpPr/>
              <p:nvPr/>
            </p:nvSpPr>
            <p:spPr>
              <a:xfrm>
                <a:off x="758196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0" name="组合 166"/>
          <p:cNvGrpSpPr/>
          <p:nvPr/>
        </p:nvGrpSpPr>
        <p:grpSpPr>
          <a:xfrm>
            <a:off x="9645480" y="1657440"/>
            <a:ext cx="1974960" cy="1971720"/>
            <a:chOff x="9645480" y="1657440"/>
            <a:chExt cx="1974960" cy="1971720"/>
          </a:xfrm>
        </p:grpSpPr>
        <p:sp>
          <p:nvSpPr>
            <p:cNvPr id="381" name="Oval 137"/>
            <p:cNvSpPr/>
            <p:nvPr/>
          </p:nvSpPr>
          <p:spPr>
            <a:xfrm>
              <a:off x="101793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2" name="Group 138" descr=""/>
            <p:cNvPicPr/>
            <p:nvPr/>
          </p:nvPicPr>
          <p:blipFill>
            <a:blip r:embed="rId5"/>
            <a:stretch/>
          </p:blipFill>
          <p:spPr>
            <a:xfrm>
              <a:off x="10344960" y="217044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94"/>
            <p:cNvSpPr/>
            <p:nvPr/>
          </p:nvSpPr>
          <p:spPr>
            <a:xfrm>
              <a:off x="102538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组合 170"/>
            <p:cNvGrpSpPr/>
            <p:nvPr/>
          </p:nvGrpSpPr>
          <p:grpSpPr>
            <a:xfrm>
              <a:off x="9645480" y="2842560"/>
              <a:ext cx="1974960" cy="786600"/>
              <a:chOff x="9645480" y="2842560"/>
              <a:chExt cx="1974960" cy="786600"/>
            </a:xfrm>
          </p:grpSpPr>
          <p:sp>
            <p:nvSpPr>
              <p:cNvPr id="385" name="TextBox 28"/>
              <p:cNvSpPr/>
              <p:nvPr/>
            </p:nvSpPr>
            <p:spPr>
              <a:xfrm>
                <a:off x="1012824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TextBox 29"/>
              <p:cNvSpPr/>
              <p:nvPr/>
            </p:nvSpPr>
            <p:spPr>
              <a:xfrm>
                <a:off x="964548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7" name="组合 175"/>
          <p:cNvGrpSpPr/>
          <p:nvPr/>
        </p:nvGrpSpPr>
        <p:grpSpPr>
          <a:xfrm>
            <a:off x="747720" y="3803760"/>
            <a:ext cx="1974960" cy="2031840"/>
            <a:chOff x="747720" y="3803760"/>
            <a:chExt cx="1974960" cy="2031840"/>
          </a:xfrm>
        </p:grpSpPr>
        <p:sp>
          <p:nvSpPr>
            <p:cNvPr id="388" name="Oval 165"/>
            <p:cNvSpPr/>
            <p:nvPr/>
          </p:nvSpPr>
          <p:spPr>
            <a:xfrm>
              <a:off x="1199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9" name="Group 166" descr=""/>
            <p:cNvPicPr/>
            <p:nvPr/>
          </p:nvPicPr>
          <p:blipFill>
            <a:blip r:embed="rId6"/>
            <a:stretch/>
          </p:blipFill>
          <p:spPr>
            <a:xfrm>
              <a:off x="1329120" y="4315680"/>
              <a:ext cx="4633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94"/>
            <p:cNvSpPr/>
            <p:nvPr/>
          </p:nvSpPr>
          <p:spPr>
            <a:xfrm>
              <a:off x="134676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1" name="组合 179"/>
            <p:cNvGrpSpPr/>
            <p:nvPr/>
          </p:nvGrpSpPr>
          <p:grpSpPr>
            <a:xfrm>
              <a:off x="747720" y="5048640"/>
              <a:ext cx="1974960" cy="786960"/>
              <a:chOff x="747720" y="5048640"/>
              <a:chExt cx="1974960" cy="786960"/>
            </a:xfrm>
          </p:grpSpPr>
          <p:sp>
            <p:nvSpPr>
              <p:cNvPr id="392" name="TextBox 28"/>
              <p:cNvSpPr/>
              <p:nvPr/>
            </p:nvSpPr>
            <p:spPr>
              <a:xfrm>
                <a:off x="123048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TextBox 29"/>
              <p:cNvSpPr/>
              <p:nvPr/>
            </p:nvSpPr>
            <p:spPr>
              <a:xfrm>
                <a:off x="74772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4" name="组合 187"/>
          <p:cNvGrpSpPr/>
          <p:nvPr/>
        </p:nvGrpSpPr>
        <p:grpSpPr>
          <a:xfrm>
            <a:off x="3011400" y="3803760"/>
            <a:ext cx="1974960" cy="2031840"/>
            <a:chOff x="3011400" y="3803760"/>
            <a:chExt cx="1974960" cy="2031840"/>
          </a:xfrm>
        </p:grpSpPr>
        <p:sp>
          <p:nvSpPr>
            <p:cNvPr id="395" name="Oval 155"/>
            <p:cNvSpPr/>
            <p:nvPr/>
          </p:nvSpPr>
          <p:spPr>
            <a:xfrm>
              <a:off x="3476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6" name="Group 156" descr=""/>
            <p:cNvPicPr/>
            <p:nvPr/>
          </p:nvPicPr>
          <p:blipFill>
            <a:blip r:embed="rId7"/>
            <a:stretch/>
          </p:blipFill>
          <p:spPr>
            <a:xfrm>
              <a:off x="3621240" y="4339800"/>
              <a:ext cx="432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Box 94"/>
            <p:cNvSpPr/>
            <p:nvPr/>
          </p:nvSpPr>
          <p:spPr>
            <a:xfrm>
              <a:off x="360252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七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8" name="组合 191"/>
            <p:cNvGrpSpPr/>
            <p:nvPr/>
          </p:nvGrpSpPr>
          <p:grpSpPr>
            <a:xfrm>
              <a:off x="3011400" y="5048640"/>
              <a:ext cx="1974960" cy="786960"/>
              <a:chOff x="3011400" y="5048640"/>
              <a:chExt cx="1974960" cy="786960"/>
            </a:xfrm>
          </p:grpSpPr>
          <p:sp>
            <p:nvSpPr>
              <p:cNvPr id="399" name="TextBox 28"/>
              <p:cNvSpPr/>
              <p:nvPr/>
            </p:nvSpPr>
            <p:spPr>
              <a:xfrm>
                <a:off x="349416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TextBox 29"/>
              <p:cNvSpPr/>
              <p:nvPr/>
            </p:nvSpPr>
            <p:spPr>
              <a:xfrm>
                <a:off x="301140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1" name="组合 201"/>
          <p:cNvGrpSpPr/>
          <p:nvPr/>
        </p:nvGrpSpPr>
        <p:grpSpPr>
          <a:xfrm>
            <a:off x="5318280" y="3803760"/>
            <a:ext cx="1974600" cy="2031840"/>
            <a:chOff x="5318280" y="3803760"/>
            <a:chExt cx="1974600" cy="2031840"/>
          </a:xfrm>
        </p:grpSpPr>
        <p:sp>
          <p:nvSpPr>
            <p:cNvPr id="402" name="Oval 152"/>
            <p:cNvSpPr/>
            <p:nvPr/>
          </p:nvSpPr>
          <p:spPr>
            <a:xfrm>
              <a:off x="5743080" y="4186440"/>
              <a:ext cx="71964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0"/>
            <p:cNvSpPr/>
            <p:nvPr/>
          </p:nvSpPr>
          <p:spPr>
            <a:xfrm>
              <a:off x="5900400" y="4330800"/>
              <a:ext cx="405000" cy="431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20" h="128">
                  <a:moveTo>
                    <a:pt x="60" y="0"/>
                  </a:moveTo>
                  <a:cubicBezTo>
                    <a:pt x="27" y="0"/>
                    <a:pt x="0" y="27"/>
                    <a:pt x="0" y="60"/>
                  </a:cubicBezTo>
                  <a:cubicBezTo>
                    <a:pt x="0" y="62"/>
                    <a:pt x="2" y="64"/>
                    <a:pt x="4" y="64"/>
                  </a:cubicBezTo>
                  <a:cubicBezTo>
                    <a:pt x="56" y="64"/>
                    <a:pt x="56" y="64"/>
                    <a:pt x="56" y="64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6"/>
                    <a:pt x="51" y="120"/>
                    <a:pt x="46" y="120"/>
                  </a:cubicBezTo>
                  <a:cubicBezTo>
                    <a:pt x="40" y="120"/>
                    <a:pt x="36" y="116"/>
                    <a:pt x="36" y="111"/>
                  </a:cubicBezTo>
                  <a:cubicBezTo>
                    <a:pt x="36" y="108"/>
                    <a:pt x="34" y="107"/>
                    <a:pt x="32" y="107"/>
                  </a:cubicBezTo>
                  <a:cubicBezTo>
                    <a:pt x="30" y="107"/>
                    <a:pt x="28" y="108"/>
                    <a:pt x="28" y="111"/>
                  </a:cubicBezTo>
                  <a:cubicBezTo>
                    <a:pt x="28" y="120"/>
                    <a:pt x="36" y="128"/>
                    <a:pt x="46" y="128"/>
                  </a:cubicBezTo>
                  <a:cubicBezTo>
                    <a:pt x="56" y="128"/>
                    <a:pt x="64" y="120"/>
                    <a:pt x="64" y="111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8" y="64"/>
                    <a:pt x="120" y="62"/>
                    <a:pt x="120" y="60"/>
                  </a:cubicBezTo>
                  <a:cubicBezTo>
                    <a:pt x="120" y="27"/>
                    <a:pt x="93" y="0"/>
                    <a:pt x="60" y="0"/>
                  </a:cubicBezTo>
                  <a:close/>
                  <a:moveTo>
                    <a:pt x="8" y="56"/>
                  </a:moveTo>
                  <a:cubicBezTo>
                    <a:pt x="10" y="32"/>
                    <a:pt x="28" y="13"/>
                    <a:pt x="51" y="9"/>
                  </a:cubicBezTo>
                  <a:cubicBezTo>
                    <a:pt x="38" y="17"/>
                    <a:pt x="30" y="35"/>
                    <a:pt x="30" y="56"/>
                  </a:cubicBezTo>
                  <a:lnTo>
                    <a:pt x="8" y="56"/>
                  </a:lnTo>
                  <a:close/>
                  <a:moveTo>
                    <a:pt x="34" y="56"/>
                  </a:moveTo>
                  <a:cubicBezTo>
                    <a:pt x="34" y="32"/>
                    <a:pt x="44" y="14"/>
                    <a:pt x="60" y="9"/>
                  </a:cubicBezTo>
                  <a:cubicBezTo>
                    <a:pt x="76" y="14"/>
                    <a:pt x="86" y="32"/>
                    <a:pt x="86" y="56"/>
                  </a:cubicBezTo>
                  <a:lnTo>
                    <a:pt x="34" y="56"/>
                  </a:lnTo>
                  <a:close/>
                  <a:moveTo>
                    <a:pt x="90" y="56"/>
                  </a:moveTo>
                  <a:cubicBezTo>
                    <a:pt x="90" y="35"/>
                    <a:pt x="82" y="17"/>
                    <a:pt x="69" y="9"/>
                  </a:cubicBezTo>
                  <a:cubicBezTo>
                    <a:pt x="92" y="13"/>
                    <a:pt x="110" y="32"/>
                    <a:pt x="112" y="56"/>
                  </a:cubicBezTo>
                  <a:lnTo>
                    <a:pt x="9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Box 94"/>
            <p:cNvSpPr/>
            <p:nvPr/>
          </p:nvSpPr>
          <p:spPr>
            <a:xfrm>
              <a:off x="59122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八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5" name="组合 205"/>
            <p:cNvGrpSpPr/>
            <p:nvPr/>
          </p:nvGrpSpPr>
          <p:grpSpPr>
            <a:xfrm>
              <a:off x="5318280" y="5048640"/>
              <a:ext cx="1974600" cy="786960"/>
              <a:chOff x="5318280" y="5048640"/>
              <a:chExt cx="1974600" cy="786960"/>
            </a:xfrm>
          </p:grpSpPr>
          <p:sp>
            <p:nvSpPr>
              <p:cNvPr id="406" name="TextBox 28"/>
              <p:cNvSpPr/>
              <p:nvPr/>
            </p:nvSpPr>
            <p:spPr>
              <a:xfrm>
                <a:off x="58003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TextBox 29"/>
              <p:cNvSpPr/>
              <p:nvPr/>
            </p:nvSpPr>
            <p:spPr>
              <a:xfrm>
                <a:off x="5318280" y="531540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8" name="组合 208"/>
          <p:cNvGrpSpPr/>
          <p:nvPr/>
        </p:nvGrpSpPr>
        <p:grpSpPr>
          <a:xfrm>
            <a:off x="7581960" y="3803760"/>
            <a:ext cx="1974960" cy="2031840"/>
            <a:chOff x="7581960" y="3803760"/>
            <a:chExt cx="1974960" cy="2031840"/>
          </a:xfrm>
        </p:grpSpPr>
        <p:sp>
          <p:nvSpPr>
            <p:cNvPr id="409" name="Oval 142"/>
            <p:cNvSpPr/>
            <p:nvPr/>
          </p:nvSpPr>
          <p:spPr>
            <a:xfrm>
              <a:off x="799632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8134920" y="4331520"/>
              <a:ext cx="442800" cy="43020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118" h="112">
                  <a:moveTo>
                    <a:pt x="112" y="26"/>
                  </a:moveTo>
                  <a:cubicBezTo>
                    <a:pt x="108" y="22"/>
                    <a:pt x="102" y="19"/>
                    <a:pt x="95" y="20"/>
                  </a:cubicBezTo>
                  <a:cubicBezTo>
                    <a:pt x="95" y="16"/>
                    <a:pt x="95" y="16"/>
                    <a:pt x="95" y="16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5"/>
                    <a:pt x="90" y="0"/>
                    <a:pt x="83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8" y="0"/>
                    <a:pt x="23" y="5"/>
                    <a:pt x="23" y="12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6" y="19"/>
                    <a:pt x="10" y="22"/>
                    <a:pt x="6" y="26"/>
                  </a:cubicBezTo>
                  <a:cubicBezTo>
                    <a:pt x="1" y="32"/>
                    <a:pt x="0" y="39"/>
                    <a:pt x="3" y="45"/>
                  </a:cubicBezTo>
                  <a:cubicBezTo>
                    <a:pt x="7" y="53"/>
                    <a:pt x="14" y="57"/>
                    <a:pt x="24" y="58"/>
                  </a:cubicBezTo>
                  <a:cubicBezTo>
                    <a:pt x="28" y="74"/>
                    <a:pt x="40" y="86"/>
                    <a:pt x="55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104"/>
                    <a:pt x="55" y="104"/>
                    <a:pt x="55" y="104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45" y="104"/>
                    <a:pt x="43" y="106"/>
                    <a:pt x="43" y="108"/>
                  </a:cubicBezTo>
                  <a:cubicBezTo>
                    <a:pt x="43" y="110"/>
                    <a:pt x="45" y="112"/>
                    <a:pt x="47" y="112"/>
                  </a:cubicBezTo>
                  <a:cubicBezTo>
                    <a:pt x="71" y="112"/>
                    <a:pt x="71" y="112"/>
                    <a:pt x="71" y="112"/>
                  </a:cubicBezTo>
                  <a:cubicBezTo>
                    <a:pt x="73" y="112"/>
                    <a:pt x="75" y="110"/>
                    <a:pt x="75" y="108"/>
                  </a:cubicBezTo>
                  <a:cubicBezTo>
                    <a:pt x="75" y="106"/>
                    <a:pt x="73" y="104"/>
                    <a:pt x="71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78" y="86"/>
                    <a:pt x="90" y="74"/>
                    <a:pt x="94" y="58"/>
                  </a:cubicBezTo>
                  <a:cubicBezTo>
                    <a:pt x="104" y="57"/>
                    <a:pt x="111" y="53"/>
                    <a:pt x="115" y="45"/>
                  </a:cubicBezTo>
                  <a:cubicBezTo>
                    <a:pt x="118" y="39"/>
                    <a:pt x="117" y="32"/>
                    <a:pt x="112" y="26"/>
                  </a:cubicBezTo>
                  <a:close/>
                  <a:moveTo>
                    <a:pt x="11" y="42"/>
                  </a:moveTo>
                  <a:cubicBezTo>
                    <a:pt x="9" y="39"/>
                    <a:pt x="9" y="34"/>
                    <a:pt x="12" y="31"/>
                  </a:cubicBezTo>
                  <a:cubicBezTo>
                    <a:pt x="14" y="29"/>
                    <a:pt x="18" y="28"/>
                    <a:pt x="23" y="2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23" y="49"/>
                    <a:pt x="23" y="49"/>
                    <a:pt x="23" y="50"/>
                  </a:cubicBezTo>
                  <a:cubicBezTo>
                    <a:pt x="17" y="49"/>
                    <a:pt x="13" y="46"/>
                    <a:pt x="11" y="42"/>
                  </a:cubicBezTo>
                  <a:close/>
                  <a:moveTo>
                    <a:pt x="87" y="16"/>
                  </a:moveTo>
                  <a:cubicBezTo>
                    <a:pt x="87" y="48"/>
                    <a:pt x="87" y="48"/>
                    <a:pt x="87" y="48"/>
                  </a:cubicBezTo>
                  <a:cubicBezTo>
                    <a:pt x="87" y="66"/>
                    <a:pt x="74" y="80"/>
                    <a:pt x="59" y="80"/>
                  </a:cubicBezTo>
                  <a:cubicBezTo>
                    <a:pt x="44" y="80"/>
                    <a:pt x="31" y="66"/>
                    <a:pt x="31" y="48"/>
                  </a:cubicBezTo>
                  <a:cubicBezTo>
                    <a:pt x="31" y="16"/>
                    <a:pt x="31" y="16"/>
                    <a:pt x="31" y="16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0"/>
                    <a:pt x="33" y="8"/>
                    <a:pt x="35" y="8"/>
                  </a:cubicBezTo>
                  <a:cubicBezTo>
                    <a:pt x="83" y="8"/>
                    <a:pt x="83" y="8"/>
                    <a:pt x="83" y="8"/>
                  </a:cubicBezTo>
                  <a:cubicBezTo>
                    <a:pt x="85" y="8"/>
                    <a:pt x="87" y="10"/>
                    <a:pt x="87" y="12"/>
                  </a:cubicBezTo>
                  <a:lnTo>
                    <a:pt x="87" y="16"/>
                  </a:lnTo>
                  <a:close/>
                  <a:moveTo>
                    <a:pt x="107" y="42"/>
                  </a:moveTo>
                  <a:cubicBezTo>
                    <a:pt x="105" y="46"/>
                    <a:pt x="101" y="49"/>
                    <a:pt x="95" y="50"/>
                  </a:cubicBezTo>
                  <a:cubicBezTo>
                    <a:pt x="95" y="49"/>
                    <a:pt x="95" y="49"/>
                    <a:pt x="95" y="48"/>
                  </a:cubicBezTo>
                  <a:cubicBezTo>
                    <a:pt x="95" y="28"/>
                    <a:pt x="95" y="28"/>
                    <a:pt x="95" y="28"/>
                  </a:cubicBezTo>
                  <a:cubicBezTo>
                    <a:pt x="100" y="28"/>
                    <a:pt x="104" y="29"/>
                    <a:pt x="106" y="31"/>
                  </a:cubicBezTo>
                  <a:cubicBezTo>
                    <a:pt x="109" y="34"/>
                    <a:pt x="109" y="39"/>
                    <a:pt x="107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TextBox 94"/>
            <p:cNvSpPr/>
            <p:nvPr/>
          </p:nvSpPr>
          <p:spPr>
            <a:xfrm>
              <a:off x="81064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九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组合 212"/>
            <p:cNvGrpSpPr/>
            <p:nvPr/>
          </p:nvGrpSpPr>
          <p:grpSpPr>
            <a:xfrm>
              <a:off x="7581960" y="5048640"/>
              <a:ext cx="1974960" cy="786960"/>
              <a:chOff x="7581960" y="5048640"/>
              <a:chExt cx="1974960" cy="786960"/>
            </a:xfrm>
          </p:grpSpPr>
          <p:sp>
            <p:nvSpPr>
              <p:cNvPr id="413" name="TextBox 28"/>
              <p:cNvSpPr/>
              <p:nvPr/>
            </p:nvSpPr>
            <p:spPr>
              <a:xfrm>
                <a:off x="80647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TextBox 29"/>
              <p:cNvSpPr/>
              <p:nvPr/>
            </p:nvSpPr>
            <p:spPr>
              <a:xfrm>
                <a:off x="758196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5" name="组合 215"/>
          <p:cNvGrpSpPr/>
          <p:nvPr/>
        </p:nvGrpSpPr>
        <p:grpSpPr>
          <a:xfrm>
            <a:off x="9645480" y="3803760"/>
            <a:ext cx="1974960" cy="2031840"/>
            <a:chOff x="9645480" y="3803760"/>
            <a:chExt cx="1974960" cy="2031840"/>
          </a:xfrm>
        </p:grpSpPr>
        <p:sp>
          <p:nvSpPr>
            <p:cNvPr id="416" name="Oval 145"/>
            <p:cNvSpPr/>
            <p:nvPr/>
          </p:nvSpPr>
          <p:spPr>
            <a:xfrm>
              <a:off x="101793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7" name="Group 146" descr=""/>
            <p:cNvPicPr/>
            <p:nvPr/>
          </p:nvPicPr>
          <p:blipFill>
            <a:blip r:embed="rId8"/>
            <a:stretch/>
          </p:blipFill>
          <p:spPr>
            <a:xfrm>
              <a:off x="10344960" y="4388760"/>
              <a:ext cx="389880" cy="3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94"/>
            <p:cNvSpPr/>
            <p:nvPr/>
          </p:nvSpPr>
          <p:spPr>
            <a:xfrm>
              <a:off x="102538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十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9" name="组合 219"/>
            <p:cNvGrpSpPr/>
            <p:nvPr/>
          </p:nvGrpSpPr>
          <p:grpSpPr>
            <a:xfrm>
              <a:off x="9645480" y="5048640"/>
              <a:ext cx="1974960" cy="786960"/>
              <a:chOff x="9645480" y="5048640"/>
              <a:chExt cx="1974960" cy="786960"/>
            </a:xfrm>
          </p:grpSpPr>
          <p:sp>
            <p:nvSpPr>
              <p:cNvPr id="420" name="TextBox 28"/>
              <p:cNvSpPr/>
              <p:nvPr/>
            </p:nvSpPr>
            <p:spPr>
              <a:xfrm>
                <a:off x="1012824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TextBox 29"/>
              <p:cNvSpPr/>
              <p:nvPr/>
            </p:nvSpPr>
            <p:spPr>
              <a:xfrm>
                <a:off x="964548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2" name="Straight Connector 79"/>
          <p:cNvSpPr/>
          <p:nvPr/>
        </p:nvSpPr>
        <p:spPr>
          <a:xfrm>
            <a:off x="1095840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2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任意多边形 6"/>
          <p:cNvSpPr/>
          <p:nvPr/>
        </p:nvSpPr>
        <p:spPr>
          <a:xfrm rot="19825200">
            <a:off x="-530280" y="3315960"/>
            <a:ext cx="4924440" cy="847800"/>
          </a:xfrm>
          <a:custGeom>
            <a:avLst/>
            <a:gdLst>
              <a:gd name="textAreaLeft" fmla="*/ 0 w 4924440"/>
              <a:gd name="textAreaRight" fmla="*/ 4924800 w 492444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4924262" h="847481">
                <a:moveTo>
                  <a:pt x="4924262" y="0"/>
                </a:moveTo>
                <a:lnTo>
                  <a:pt x="4924262" y="847481"/>
                </a:lnTo>
                <a:lnTo>
                  <a:pt x="0" y="847481"/>
                </a:lnTo>
                <a:lnTo>
                  <a:pt x="481038" y="0"/>
                </a:lnTo>
                <a:lnTo>
                  <a:pt x="4924262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任意多边形 7"/>
          <p:cNvSpPr/>
          <p:nvPr/>
        </p:nvSpPr>
        <p:spPr>
          <a:xfrm rot="19825200">
            <a:off x="-576360" y="4304880"/>
            <a:ext cx="5499360" cy="882720"/>
          </a:xfrm>
          <a:custGeom>
            <a:avLst/>
            <a:gdLst>
              <a:gd name="textAreaLeft" fmla="*/ 0 w 5499360"/>
              <a:gd name="textAreaRight" fmla="*/ 5499720 w 54993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5499093" h="883989">
                <a:moveTo>
                  <a:pt x="5499093" y="0"/>
                </a:moveTo>
                <a:lnTo>
                  <a:pt x="5499093" y="858209"/>
                </a:lnTo>
                <a:cubicBezTo>
                  <a:pt x="4104109" y="858209"/>
                  <a:pt x="1795002" y="876792"/>
                  <a:pt x="63984" y="883760"/>
                </a:cubicBezTo>
                <a:lnTo>
                  <a:pt x="0" y="883989"/>
                </a:lnTo>
                <a:lnTo>
                  <a:pt x="495645" y="10774"/>
                </a:lnTo>
                <a:lnTo>
                  <a:pt x="5499093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任意多边形 8"/>
          <p:cNvSpPr/>
          <p:nvPr/>
        </p:nvSpPr>
        <p:spPr>
          <a:xfrm rot="19825200">
            <a:off x="-274320" y="5195520"/>
            <a:ext cx="5681880" cy="858960"/>
          </a:xfrm>
          <a:custGeom>
            <a:avLst/>
            <a:gdLst>
              <a:gd name="textAreaLeft" fmla="*/ 0 w 5681880"/>
              <a:gd name="textAreaRight" fmla="*/ 5682240 w 5681880"/>
              <a:gd name="textAreaTop" fmla="*/ 0 h 858960"/>
              <a:gd name="textAreaBottom" fmla="*/ 859320 h 858960"/>
            </a:gdLst>
            <a:ahLst/>
            <a:rect l="textAreaLeft" t="textAreaTop" r="textAreaRight" b="textAreaBottom"/>
            <a:pathLst>
              <a:path w="5681561" h="858209">
                <a:moveTo>
                  <a:pt x="5681560" y="0"/>
                </a:moveTo>
                <a:lnTo>
                  <a:pt x="5681561" y="858209"/>
                </a:lnTo>
                <a:lnTo>
                  <a:pt x="1098652" y="858209"/>
                </a:lnTo>
                <a:lnTo>
                  <a:pt x="0" y="234604"/>
                </a:lnTo>
                <a:lnTo>
                  <a:pt x="126374" y="11961"/>
                </a:lnTo>
                <a:lnTo>
                  <a:pt x="568156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任意多边形 9"/>
          <p:cNvSpPr/>
          <p:nvPr/>
        </p:nvSpPr>
        <p:spPr>
          <a:xfrm rot="19825200">
            <a:off x="1428480" y="5722560"/>
            <a:ext cx="4375080" cy="857160"/>
          </a:xfrm>
          <a:custGeom>
            <a:avLst/>
            <a:gdLst>
              <a:gd name="textAreaLeft" fmla="*/ 0 w 4375080"/>
              <a:gd name="textAreaRight" fmla="*/ 4375440 w 437508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4375011" h="858209">
                <a:moveTo>
                  <a:pt x="4375011" y="0"/>
                </a:moveTo>
                <a:lnTo>
                  <a:pt x="4375011" y="858209"/>
                </a:lnTo>
                <a:lnTo>
                  <a:pt x="1511972" y="858209"/>
                </a:lnTo>
                <a:lnTo>
                  <a:pt x="0" y="0"/>
                </a:lnTo>
                <a:lnTo>
                  <a:pt x="4375011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47"/>
          <p:cNvSpPr/>
          <p:nvPr/>
        </p:nvSpPr>
        <p:spPr>
          <a:xfrm rot="19825200">
            <a:off x="4115880" y="1827000"/>
            <a:ext cx="992160" cy="1282680"/>
          </a:xfrm>
          <a:custGeom>
            <a:avLst/>
            <a:gdLst>
              <a:gd name="textAreaLeft" fmla="*/ 0 w 992160"/>
              <a:gd name="textAreaRight" fmla="*/ 992520 w 99216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185" h="239">
                <a:moveTo>
                  <a:pt x="185" y="146"/>
                </a:moveTo>
                <a:lnTo>
                  <a:pt x="0" y="0"/>
                </a:lnTo>
                <a:lnTo>
                  <a:pt x="0" y="158"/>
                </a:lnTo>
                <a:lnTo>
                  <a:pt x="185" y="239"/>
                </a:lnTo>
                <a:lnTo>
                  <a:pt x="185" y="146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48"/>
          <p:cNvSpPr/>
          <p:nvPr/>
        </p:nvSpPr>
        <p:spPr>
          <a:xfrm rot="19825200">
            <a:off x="5345280" y="3985920"/>
            <a:ext cx="992160" cy="1298520"/>
          </a:xfrm>
          <a:custGeom>
            <a:avLst/>
            <a:gdLst>
              <a:gd name="textAreaLeft" fmla="*/ 0 w 992160"/>
              <a:gd name="textAreaRight" fmla="*/ 992520 w 99216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185" h="242">
                <a:moveTo>
                  <a:pt x="185" y="93"/>
                </a:moveTo>
                <a:lnTo>
                  <a:pt x="0" y="242"/>
                </a:lnTo>
                <a:lnTo>
                  <a:pt x="0" y="82"/>
                </a:lnTo>
                <a:lnTo>
                  <a:pt x="185" y="0"/>
                </a:lnTo>
                <a:lnTo>
                  <a:pt x="185" y="93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49"/>
          <p:cNvSpPr/>
          <p:nvPr/>
        </p:nvSpPr>
        <p:spPr>
          <a:xfrm rot="19825200">
            <a:off x="4965480" y="3522600"/>
            <a:ext cx="992160" cy="885960"/>
          </a:xfrm>
          <a:custGeom>
            <a:avLst/>
            <a:gdLst>
              <a:gd name="textAreaLeft" fmla="*/ 0 w 992160"/>
              <a:gd name="textAreaRight" fmla="*/ 992520 w 99216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85" h="165">
                <a:moveTo>
                  <a:pt x="0" y="5"/>
                </a:moveTo>
                <a:lnTo>
                  <a:pt x="0" y="165"/>
                </a:lnTo>
                <a:lnTo>
                  <a:pt x="185" y="93"/>
                </a:lnTo>
                <a:lnTo>
                  <a:pt x="185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50"/>
          <p:cNvSpPr/>
          <p:nvPr/>
        </p:nvSpPr>
        <p:spPr>
          <a:xfrm rot="19825200">
            <a:off x="4498920" y="2703240"/>
            <a:ext cx="992160" cy="879480"/>
          </a:xfrm>
          <a:custGeom>
            <a:avLst/>
            <a:gdLst>
              <a:gd name="textAreaLeft" fmla="*/ 0 w 992160"/>
              <a:gd name="textAreaRight" fmla="*/ 992520 w 9921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185" h="164">
                <a:moveTo>
                  <a:pt x="0" y="160"/>
                </a:moveTo>
                <a:lnTo>
                  <a:pt x="0" y="0"/>
                </a:lnTo>
                <a:lnTo>
                  <a:pt x="185" y="71"/>
                </a:lnTo>
                <a:lnTo>
                  <a:pt x="185" y="164"/>
                </a:lnTo>
                <a:lnTo>
                  <a:pt x="0" y="16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51"/>
          <p:cNvSpPr/>
          <p:nvPr/>
        </p:nvSpPr>
        <p:spPr>
          <a:xfrm rot="19825200">
            <a:off x="4970520" y="1306440"/>
            <a:ext cx="2440080" cy="933480"/>
          </a:xfrm>
          <a:custGeom>
            <a:avLst/>
            <a:gdLst>
              <a:gd name="textAreaLeft" fmla="*/ 0 w 2440080"/>
              <a:gd name="textAreaRight" fmla="*/ 2440440 w 2440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455" h="174">
                <a:moveTo>
                  <a:pt x="287" y="0"/>
                </a:moveTo>
                <a:lnTo>
                  <a:pt x="287" y="81"/>
                </a:lnTo>
                <a:lnTo>
                  <a:pt x="0" y="81"/>
                </a:lnTo>
                <a:lnTo>
                  <a:pt x="0" y="174"/>
                </a:lnTo>
                <a:lnTo>
                  <a:pt x="287" y="174"/>
                </a:lnTo>
                <a:lnTo>
                  <a:pt x="455" y="174"/>
                </a:lnTo>
                <a:lnTo>
                  <a:pt x="287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52"/>
          <p:cNvSpPr/>
          <p:nvPr/>
        </p:nvSpPr>
        <p:spPr>
          <a:xfrm rot="19825200">
            <a:off x="6027480" y="3162240"/>
            <a:ext cx="2441520" cy="94932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455" h="177">
                <a:moveTo>
                  <a:pt x="455" y="0"/>
                </a:moveTo>
                <a:lnTo>
                  <a:pt x="287" y="0"/>
                </a:lnTo>
                <a:lnTo>
                  <a:pt x="0" y="0"/>
                </a:lnTo>
                <a:lnTo>
                  <a:pt x="0" y="93"/>
                </a:lnTo>
                <a:lnTo>
                  <a:pt x="287" y="93"/>
                </a:lnTo>
                <a:lnTo>
                  <a:pt x="287" y="177"/>
                </a:lnTo>
                <a:lnTo>
                  <a:pt x="455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53"/>
          <p:cNvSpPr/>
          <p:nvPr/>
        </p:nvSpPr>
        <p:spPr>
          <a:xfrm rot="19825200">
            <a:off x="5603400" y="2566800"/>
            <a:ext cx="2987640" cy="49824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498240"/>
              <a:gd name="textAreaBottom" fmla="*/ 498600 h 498240"/>
            </a:gdLst>
            <a:ahLst/>
            <a:rect l="textAreaLeft" t="textAreaTop" r="textAreaRight" b="textAreaBottom"/>
            <a:pathLst>
              <a:path w="235" h="39">
                <a:moveTo>
                  <a:pt x="121" y="0"/>
                </a:moveTo>
                <a:cubicBezTo>
                  <a:pt x="81" y="0"/>
                  <a:pt x="41" y="0"/>
                  <a:pt x="0" y="0"/>
                </a:cubicBezTo>
                <a:cubicBezTo>
                  <a:pt x="0" y="13"/>
                  <a:pt x="0" y="26"/>
                  <a:pt x="0" y="39"/>
                </a:cubicBezTo>
                <a:cubicBezTo>
                  <a:pt x="41" y="39"/>
                  <a:pt x="81" y="39"/>
                  <a:pt x="121" y="39"/>
                </a:cubicBezTo>
                <a:cubicBezTo>
                  <a:pt x="147" y="39"/>
                  <a:pt x="172" y="39"/>
                  <a:pt x="197" y="39"/>
                </a:cubicBezTo>
                <a:cubicBezTo>
                  <a:pt x="235" y="0"/>
                  <a:pt x="235" y="0"/>
                  <a:pt x="235" y="0"/>
                </a:cubicBezTo>
                <a:cubicBezTo>
                  <a:pt x="197" y="0"/>
                  <a:pt x="159" y="0"/>
                  <a:pt x="121" y="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54"/>
          <p:cNvSpPr/>
          <p:nvPr/>
        </p:nvSpPr>
        <p:spPr>
          <a:xfrm rot="19825200">
            <a:off x="5326200" y="2076120"/>
            <a:ext cx="2987640" cy="49860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35" h="39">
                <a:moveTo>
                  <a:pt x="197" y="0"/>
                </a:moveTo>
                <a:cubicBezTo>
                  <a:pt x="172" y="0"/>
                  <a:pt x="147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cubicBezTo>
                  <a:pt x="81" y="0"/>
                  <a:pt x="41" y="0"/>
                  <a:pt x="0" y="0"/>
                </a:cubicBezTo>
                <a:cubicBezTo>
                  <a:pt x="0" y="13"/>
                  <a:pt x="0" y="26"/>
                  <a:pt x="0" y="39"/>
                </a:cubicBezTo>
                <a:cubicBezTo>
                  <a:pt x="41" y="39"/>
                  <a:pt x="8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59" y="39"/>
                  <a:pt x="197" y="39"/>
                  <a:pt x="235" y="39"/>
                </a:cubicBezTo>
                <a:lnTo>
                  <a:pt x="197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26"/>
          <p:cNvSpPr/>
          <p:nvPr/>
        </p:nvSpPr>
        <p:spPr>
          <a:xfrm>
            <a:off x="8493120" y="38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8242200" y="4140360"/>
            <a:ext cx="354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文本框 20"/>
          <p:cNvSpPr/>
          <p:nvPr/>
        </p:nvSpPr>
        <p:spPr>
          <a:xfrm rot="19823400">
            <a:off x="1326600" y="31046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21"/>
          <p:cNvSpPr/>
          <p:nvPr/>
        </p:nvSpPr>
        <p:spPr>
          <a:xfrm rot="19823400">
            <a:off x="1805040" y="38937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22"/>
          <p:cNvSpPr/>
          <p:nvPr/>
        </p:nvSpPr>
        <p:spPr>
          <a:xfrm rot="19823400">
            <a:off x="2282040" y="475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23"/>
          <p:cNvSpPr/>
          <p:nvPr/>
        </p:nvSpPr>
        <p:spPr>
          <a:xfrm rot="19823400">
            <a:off x="2780640" y="5557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24"/>
          <p:cNvSpPr/>
          <p:nvPr/>
        </p:nvSpPr>
        <p:spPr>
          <a:xfrm rot="19823400">
            <a:off x="6117840" y="149076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25"/>
          <p:cNvSpPr/>
          <p:nvPr/>
        </p:nvSpPr>
        <p:spPr>
          <a:xfrm rot="19823400">
            <a:off x="6693840" y="18331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6"/>
          <p:cNvSpPr/>
          <p:nvPr/>
        </p:nvSpPr>
        <p:spPr>
          <a:xfrm rot="19823400">
            <a:off x="6914880" y="29635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27"/>
          <p:cNvSpPr/>
          <p:nvPr/>
        </p:nvSpPr>
        <p:spPr>
          <a:xfrm rot="19823400">
            <a:off x="6966720" y="231768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53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组合 6"/>
          <p:cNvGrpSpPr/>
          <p:nvPr/>
        </p:nvGrpSpPr>
        <p:grpSpPr>
          <a:xfrm>
            <a:off x="4532400" y="1968480"/>
            <a:ext cx="3483000" cy="3854520"/>
            <a:chOff x="4532400" y="1968480"/>
            <a:chExt cx="3483000" cy="3854520"/>
          </a:xfrm>
        </p:grpSpPr>
        <p:sp>
          <p:nvSpPr>
            <p:cNvPr id="456" name="Freeform 10"/>
            <p:cNvSpPr/>
            <p:nvPr/>
          </p:nvSpPr>
          <p:spPr>
            <a:xfrm>
              <a:off x="4802040" y="3714480"/>
              <a:ext cx="533160" cy="1042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292" h="572">
                  <a:moveTo>
                    <a:pt x="14" y="572"/>
                  </a:moveTo>
                  <a:cubicBezTo>
                    <a:pt x="4" y="527"/>
                    <a:pt x="0" y="481"/>
                    <a:pt x="0" y="435"/>
                  </a:cubicBezTo>
                  <a:cubicBezTo>
                    <a:pt x="0" y="250"/>
                    <a:pt x="108" y="79"/>
                    <a:pt x="277" y="0"/>
                  </a:cubicBezTo>
                  <a:cubicBezTo>
                    <a:pt x="292" y="33"/>
                    <a:pt x="292" y="33"/>
                    <a:pt x="292" y="33"/>
                  </a:cubicBezTo>
                  <a:cubicBezTo>
                    <a:pt x="136" y="106"/>
                    <a:pt x="36" y="264"/>
                    <a:pt x="36" y="435"/>
                  </a:cubicBezTo>
                  <a:cubicBezTo>
                    <a:pt x="36" y="479"/>
                    <a:pt x="40" y="522"/>
                    <a:pt x="49" y="564"/>
                  </a:cubicBezTo>
                  <a:lnTo>
                    <a:pt x="14" y="572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>
              <a:off x="5562720" y="5011920"/>
              <a:ext cx="1620720" cy="652320"/>
            </a:xfrm>
            <a:custGeom>
              <a:avLst/>
              <a:gdLst>
                <a:gd name="textAreaLeft" fmla="*/ 0 w 1620720"/>
                <a:gd name="textAreaRight" fmla="*/ 1621080 w 162072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888" h="358">
                  <a:moveTo>
                    <a:pt x="216" y="358"/>
                  </a:moveTo>
                  <a:cubicBezTo>
                    <a:pt x="142" y="358"/>
                    <a:pt x="70" y="345"/>
                    <a:pt x="0" y="320"/>
                  </a:cubicBezTo>
                  <a:cubicBezTo>
                    <a:pt x="13" y="287"/>
                    <a:pt x="13" y="287"/>
                    <a:pt x="13" y="287"/>
                  </a:cubicBezTo>
                  <a:cubicBezTo>
                    <a:pt x="78" y="310"/>
                    <a:pt x="146" y="322"/>
                    <a:pt x="216" y="322"/>
                  </a:cubicBezTo>
                  <a:cubicBezTo>
                    <a:pt x="472" y="322"/>
                    <a:pt x="706" y="205"/>
                    <a:pt x="859" y="0"/>
                  </a:cubicBezTo>
                  <a:cubicBezTo>
                    <a:pt x="888" y="22"/>
                    <a:pt x="888" y="22"/>
                    <a:pt x="888" y="22"/>
                  </a:cubicBezTo>
                  <a:cubicBezTo>
                    <a:pt x="812" y="124"/>
                    <a:pt x="711" y="209"/>
                    <a:pt x="598" y="267"/>
                  </a:cubicBezTo>
                  <a:cubicBezTo>
                    <a:pt x="479" y="327"/>
                    <a:pt x="351" y="358"/>
                    <a:pt x="216" y="358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2"/>
            <p:cNvSpPr/>
            <p:nvPr/>
          </p:nvSpPr>
          <p:spPr>
            <a:xfrm>
              <a:off x="7201080" y="3195360"/>
              <a:ext cx="274320" cy="7174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50" h="393">
                  <a:moveTo>
                    <a:pt x="114" y="393"/>
                  </a:moveTo>
                  <a:cubicBezTo>
                    <a:pt x="100" y="261"/>
                    <a:pt x="61" y="135"/>
                    <a:pt x="0" y="17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95" y="122"/>
                    <a:pt x="135" y="253"/>
                    <a:pt x="150" y="389"/>
                  </a:cubicBezTo>
                  <a:lnTo>
                    <a:pt x="114" y="39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Group 54" descr=""/>
            <p:cNvPicPr/>
            <p:nvPr/>
          </p:nvPicPr>
          <p:blipFill>
            <a:blip r:embed="rId2"/>
            <a:stretch/>
          </p:blipFill>
          <p:spPr>
            <a:xfrm>
              <a:off x="5297400" y="1968480"/>
              <a:ext cx="987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Freeform 5"/>
            <p:cNvSpPr/>
            <p:nvPr/>
          </p:nvSpPr>
          <p:spPr>
            <a:xfrm>
              <a:off x="5276880" y="3198240"/>
              <a:ext cx="925560" cy="92556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507" h="507">
                  <a:moveTo>
                    <a:pt x="253" y="507"/>
                  </a:moveTo>
                  <a:cubicBezTo>
                    <a:pt x="113" y="507"/>
                    <a:pt x="0" y="393"/>
                    <a:pt x="0" y="253"/>
                  </a:cubicBezTo>
                  <a:cubicBezTo>
                    <a:pt x="0" y="114"/>
                    <a:pt x="113" y="0"/>
                    <a:pt x="253" y="0"/>
                  </a:cubicBezTo>
                  <a:cubicBezTo>
                    <a:pt x="393" y="0"/>
                    <a:pt x="507" y="114"/>
                    <a:pt x="507" y="253"/>
                  </a:cubicBezTo>
                  <a:cubicBezTo>
                    <a:pt x="507" y="393"/>
                    <a:pt x="393" y="507"/>
                    <a:pt x="253" y="507"/>
                  </a:cubicBezTo>
                  <a:close/>
                  <a:moveTo>
                    <a:pt x="253" y="40"/>
                  </a:moveTo>
                  <a:cubicBezTo>
                    <a:pt x="136" y="40"/>
                    <a:pt x="40" y="136"/>
                    <a:pt x="40" y="253"/>
                  </a:cubicBezTo>
                  <a:cubicBezTo>
                    <a:pt x="40" y="371"/>
                    <a:pt x="136" y="467"/>
                    <a:pt x="253" y="467"/>
                  </a:cubicBezTo>
                  <a:cubicBezTo>
                    <a:pt x="371" y="467"/>
                    <a:pt x="467" y="371"/>
                    <a:pt x="467" y="253"/>
                  </a:cubicBezTo>
                  <a:cubicBezTo>
                    <a:pt x="467" y="136"/>
                    <a:pt x="371" y="40"/>
                    <a:pt x="253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>
              <a:off x="4532400" y="4649760"/>
              <a:ext cx="1173240" cy="1173240"/>
            </a:xfrm>
            <a:custGeom>
              <a:avLst/>
              <a:gdLst>
                <a:gd name="textAreaLeft" fmla="*/ 0 w 1173240"/>
                <a:gd name="textAreaRight" fmla="*/ 1173600 w 1173240"/>
                <a:gd name="textAreaTop" fmla="*/ 0 h 1173240"/>
                <a:gd name="textAreaBottom" fmla="*/ 1173600 h 1173240"/>
              </a:gdLst>
              <a:ahLst/>
              <a:rect l="textAreaLeft" t="textAreaTop" r="textAreaRight" b="textAreaBottom"/>
              <a:pathLst>
                <a:path w="643" h="643">
                  <a:moveTo>
                    <a:pt x="322" y="643"/>
                  </a:moveTo>
                  <a:cubicBezTo>
                    <a:pt x="145" y="643"/>
                    <a:pt x="0" y="498"/>
                    <a:pt x="0" y="321"/>
                  </a:cubicBezTo>
                  <a:cubicBezTo>
                    <a:pt x="0" y="144"/>
                    <a:pt x="145" y="0"/>
                    <a:pt x="322" y="0"/>
                  </a:cubicBezTo>
                  <a:cubicBezTo>
                    <a:pt x="499" y="0"/>
                    <a:pt x="643" y="144"/>
                    <a:pt x="643" y="321"/>
                  </a:cubicBezTo>
                  <a:cubicBezTo>
                    <a:pt x="643" y="498"/>
                    <a:pt x="499" y="643"/>
                    <a:pt x="322" y="643"/>
                  </a:cubicBezTo>
                  <a:close/>
                  <a:moveTo>
                    <a:pt x="322" y="40"/>
                  </a:moveTo>
                  <a:cubicBezTo>
                    <a:pt x="167" y="40"/>
                    <a:pt x="40" y="166"/>
                    <a:pt x="40" y="321"/>
                  </a:cubicBezTo>
                  <a:cubicBezTo>
                    <a:pt x="40" y="476"/>
                    <a:pt x="167" y="603"/>
                    <a:pt x="322" y="603"/>
                  </a:cubicBezTo>
                  <a:cubicBezTo>
                    <a:pt x="477" y="603"/>
                    <a:pt x="603" y="476"/>
                    <a:pt x="603" y="321"/>
                  </a:cubicBezTo>
                  <a:cubicBezTo>
                    <a:pt x="603" y="166"/>
                    <a:pt x="477" y="40"/>
                    <a:pt x="322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"/>
            <p:cNvSpPr/>
            <p:nvPr/>
          </p:nvSpPr>
          <p:spPr>
            <a:xfrm>
              <a:off x="6769080" y="3870000"/>
              <a:ext cx="1246320" cy="1246320"/>
            </a:xfrm>
            <a:custGeom>
              <a:avLst/>
              <a:gdLst/>
              <a:ahLst/>
              <a:rect l="l" t="t" r="r" b="b"/>
              <a:pathLst>
                <a:path w="683" h="683">
                  <a:moveTo>
                    <a:pt x="342" y="683"/>
                  </a:moveTo>
                  <a:cubicBezTo>
                    <a:pt x="154" y="683"/>
                    <a:pt x="0" y="530"/>
                    <a:pt x="0" y="341"/>
                  </a:cubicBezTo>
                  <a:cubicBezTo>
                    <a:pt x="0" y="153"/>
                    <a:pt x="154" y="0"/>
                    <a:pt x="342" y="0"/>
                  </a:cubicBezTo>
                  <a:cubicBezTo>
                    <a:pt x="530" y="0"/>
                    <a:pt x="683" y="153"/>
                    <a:pt x="683" y="341"/>
                  </a:cubicBezTo>
                  <a:cubicBezTo>
                    <a:pt x="683" y="530"/>
                    <a:pt x="530" y="683"/>
                    <a:pt x="342" y="683"/>
                  </a:cubicBezTo>
                  <a:close/>
                  <a:moveTo>
                    <a:pt x="342" y="40"/>
                  </a:moveTo>
                  <a:cubicBezTo>
                    <a:pt x="176" y="40"/>
                    <a:pt x="40" y="175"/>
                    <a:pt x="40" y="341"/>
                  </a:cubicBezTo>
                  <a:cubicBezTo>
                    <a:pt x="40" y="508"/>
                    <a:pt x="176" y="643"/>
                    <a:pt x="342" y="643"/>
                  </a:cubicBezTo>
                  <a:cubicBezTo>
                    <a:pt x="508" y="643"/>
                    <a:pt x="643" y="508"/>
                    <a:pt x="643" y="341"/>
                  </a:cubicBezTo>
                  <a:cubicBezTo>
                    <a:pt x="643" y="175"/>
                    <a:pt x="508" y="40"/>
                    <a:pt x="342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8"/>
            <p:cNvSpPr/>
            <p:nvPr/>
          </p:nvSpPr>
          <p:spPr>
            <a:xfrm>
              <a:off x="6123240" y="1977480"/>
              <a:ext cx="1414440" cy="1413000"/>
            </a:xfrm>
            <a:custGeom>
              <a:avLst/>
              <a:gdLst>
                <a:gd name="textAreaLeft" fmla="*/ 0 w 1414440"/>
                <a:gd name="textAreaRight" fmla="*/ 1414800 w 1414440"/>
                <a:gd name="textAreaTop" fmla="*/ 0 h 1413000"/>
                <a:gd name="textAreaBottom" fmla="*/ 1413000 h 1413000"/>
              </a:gdLst>
              <a:ahLst/>
              <a:rect l="textAreaLeft" t="textAreaTop" r="textAreaRight" b="textAreaBottom"/>
              <a:pathLst>
                <a:path w="775" h="775">
                  <a:moveTo>
                    <a:pt x="388" y="775"/>
                  </a:moveTo>
                  <a:cubicBezTo>
                    <a:pt x="174" y="775"/>
                    <a:pt x="0" y="601"/>
                    <a:pt x="0" y="387"/>
                  </a:cubicBezTo>
                  <a:cubicBezTo>
                    <a:pt x="0" y="174"/>
                    <a:pt x="174" y="0"/>
                    <a:pt x="388" y="0"/>
                  </a:cubicBezTo>
                  <a:cubicBezTo>
                    <a:pt x="602" y="0"/>
                    <a:pt x="775" y="174"/>
                    <a:pt x="775" y="387"/>
                  </a:cubicBezTo>
                  <a:cubicBezTo>
                    <a:pt x="775" y="601"/>
                    <a:pt x="602" y="775"/>
                    <a:pt x="388" y="775"/>
                  </a:cubicBezTo>
                  <a:close/>
                  <a:moveTo>
                    <a:pt x="388" y="44"/>
                  </a:moveTo>
                  <a:cubicBezTo>
                    <a:pt x="199" y="44"/>
                    <a:pt x="44" y="198"/>
                    <a:pt x="44" y="387"/>
                  </a:cubicBezTo>
                  <a:cubicBezTo>
                    <a:pt x="44" y="577"/>
                    <a:pt x="199" y="731"/>
                    <a:pt x="388" y="731"/>
                  </a:cubicBezTo>
                  <a:cubicBezTo>
                    <a:pt x="577" y="731"/>
                    <a:pt x="731" y="577"/>
                    <a:pt x="731" y="387"/>
                  </a:cubicBezTo>
                  <a:cubicBezTo>
                    <a:pt x="731" y="198"/>
                    <a:pt x="577" y="44"/>
                    <a:pt x="388" y="44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4" name="Group 61" descr=""/>
            <p:cNvPicPr/>
            <p:nvPr/>
          </p:nvPicPr>
          <p:blipFill>
            <a:blip r:embed="rId3"/>
            <a:stretch/>
          </p:blipFill>
          <p:spPr>
            <a:xfrm>
              <a:off x="5553360" y="3449880"/>
              <a:ext cx="37188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Group 67" descr=""/>
            <p:cNvPicPr/>
            <p:nvPr/>
          </p:nvPicPr>
          <p:blipFill>
            <a:blip r:embed="rId4"/>
            <a:stretch/>
          </p:blipFill>
          <p:spPr>
            <a:xfrm>
              <a:off x="4815720" y="4956120"/>
              <a:ext cx="49968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Group 70" descr=""/>
            <p:cNvPicPr/>
            <p:nvPr/>
          </p:nvPicPr>
          <p:blipFill>
            <a:blip r:embed="rId5"/>
            <a:stretch/>
          </p:blipFill>
          <p:spPr>
            <a:xfrm>
              <a:off x="7156800" y="4260960"/>
              <a:ext cx="46944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Group 73" descr=""/>
            <p:cNvPicPr/>
            <p:nvPr/>
          </p:nvPicPr>
          <p:blipFill>
            <a:blip r:embed="rId6"/>
            <a:stretch/>
          </p:blipFill>
          <p:spPr>
            <a:xfrm>
              <a:off x="6571800" y="2523240"/>
              <a:ext cx="51804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组合 32"/>
          <p:cNvGrpSpPr/>
          <p:nvPr/>
        </p:nvGrpSpPr>
        <p:grpSpPr>
          <a:xfrm>
            <a:off x="7726320" y="2328840"/>
            <a:ext cx="2683080" cy="556920"/>
            <a:chOff x="7726320" y="2328840"/>
            <a:chExt cx="2683080" cy="556920"/>
          </a:xfrm>
        </p:grpSpPr>
        <p:sp>
          <p:nvSpPr>
            <p:cNvPr id="469" name="TextBox 76"/>
            <p:cNvSpPr/>
            <p:nvPr/>
          </p:nvSpPr>
          <p:spPr>
            <a:xfrm>
              <a:off x="7894800" y="232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Rectangle 77"/>
            <p:cNvSpPr/>
            <p:nvPr/>
          </p:nvSpPr>
          <p:spPr>
            <a:xfrm>
              <a:off x="7726320" y="2578680"/>
              <a:ext cx="26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组合 35"/>
          <p:cNvGrpSpPr/>
          <p:nvPr/>
        </p:nvGrpSpPr>
        <p:grpSpPr>
          <a:xfrm>
            <a:off x="2265480" y="2909880"/>
            <a:ext cx="2698560" cy="556920"/>
            <a:chOff x="2265480" y="2909880"/>
            <a:chExt cx="2698560" cy="556920"/>
          </a:xfrm>
        </p:grpSpPr>
        <p:sp>
          <p:nvSpPr>
            <p:cNvPr id="472" name="TextBox 78"/>
            <p:cNvSpPr/>
            <p:nvPr/>
          </p:nvSpPr>
          <p:spPr>
            <a:xfrm>
              <a:off x="4100040" y="29098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Rectangle 79"/>
            <p:cNvSpPr/>
            <p:nvPr/>
          </p:nvSpPr>
          <p:spPr>
            <a:xfrm>
              <a:off x="2265480" y="315972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组合 41"/>
          <p:cNvGrpSpPr/>
          <p:nvPr/>
        </p:nvGrpSpPr>
        <p:grpSpPr>
          <a:xfrm>
            <a:off x="8142120" y="4067280"/>
            <a:ext cx="2681280" cy="556920"/>
            <a:chOff x="8142120" y="4067280"/>
            <a:chExt cx="2681280" cy="556920"/>
          </a:xfrm>
        </p:grpSpPr>
        <p:sp>
          <p:nvSpPr>
            <p:cNvPr id="475" name="TextBox 80"/>
            <p:cNvSpPr/>
            <p:nvPr/>
          </p:nvSpPr>
          <p:spPr>
            <a:xfrm>
              <a:off x="8310240" y="4067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Rectangle 81"/>
            <p:cNvSpPr/>
            <p:nvPr/>
          </p:nvSpPr>
          <p:spPr>
            <a:xfrm>
              <a:off x="8142120" y="4317120"/>
              <a:ext cx="26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组合 44"/>
          <p:cNvGrpSpPr/>
          <p:nvPr/>
        </p:nvGrpSpPr>
        <p:grpSpPr>
          <a:xfrm>
            <a:off x="1736640" y="4821120"/>
            <a:ext cx="2698920" cy="556920"/>
            <a:chOff x="1736640" y="4821120"/>
            <a:chExt cx="2698920" cy="556920"/>
          </a:xfrm>
        </p:grpSpPr>
        <p:sp>
          <p:nvSpPr>
            <p:cNvPr id="478" name="TextBox 82"/>
            <p:cNvSpPr/>
            <p:nvPr/>
          </p:nvSpPr>
          <p:spPr>
            <a:xfrm>
              <a:off x="3558240" y="4821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Rectangle 83"/>
            <p:cNvSpPr/>
            <p:nvPr/>
          </p:nvSpPr>
          <p:spPr>
            <a:xfrm>
              <a:off x="1736640" y="5070960"/>
              <a:ext cx="269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0" name="组合 47"/>
          <p:cNvGrpSpPr/>
          <p:nvPr/>
        </p:nvGrpSpPr>
        <p:grpSpPr>
          <a:xfrm>
            <a:off x="4507560" y="1494000"/>
            <a:ext cx="668520" cy="829080"/>
            <a:chOff x="4507560" y="1494000"/>
            <a:chExt cx="668520" cy="829080"/>
          </a:xfrm>
        </p:grpSpPr>
        <p:sp>
          <p:nvSpPr>
            <p:cNvPr id="481" name="TextBox 86"/>
            <p:cNvSpPr/>
            <p:nvPr/>
          </p:nvSpPr>
          <p:spPr>
            <a:xfrm>
              <a:off x="4507560" y="19857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37"/>
            <p:cNvSpPr/>
            <p:nvPr/>
          </p:nvSpPr>
          <p:spPr>
            <a:xfrm>
              <a:off x="4609080" y="1494000"/>
              <a:ext cx="465480" cy="42732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62" h="57">
                  <a:moveTo>
                    <a:pt x="46" y="3"/>
                  </a:moveTo>
                  <a:cubicBezTo>
                    <a:pt x="46" y="3"/>
                    <a:pt x="36" y="8"/>
                    <a:pt x="25" y="4"/>
                  </a:cubicBezTo>
                  <a:cubicBezTo>
                    <a:pt x="14" y="0"/>
                    <a:pt x="9" y="2"/>
                    <a:pt x="4" y="8"/>
                  </a:cubicBezTo>
                  <a:cubicBezTo>
                    <a:pt x="3" y="7"/>
                    <a:pt x="2" y="7"/>
                    <a:pt x="1" y="8"/>
                  </a:cubicBezTo>
                  <a:cubicBezTo>
                    <a:pt x="0" y="8"/>
                    <a:pt x="0" y="10"/>
                    <a:pt x="1" y="11"/>
                  </a:cubicBezTo>
                  <a:cubicBezTo>
                    <a:pt x="28" y="56"/>
                    <a:pt x="28" y="56"/>
                    <a:pt x="28" y="56"/>
                  </a:cubicBezTo>
                  <a:cubicBezTo>
                    <a:pt x="28" y="57"/>
                    <a:pt x="29" y="57"/>
                    <a:pt x="30" y="57"/>
                  </a:cubicBezTo>
                  <a:cubicBezTo>
                    <a:pt x="31" y="57"/>
                    <a:pt x="31" y="57"/>
                    <a:pt x="32" y="57"/>
                  </a:cubicBezTo>
                  <a:cubicBezTo>
                    <a:pt x="33" y="56"/>
                    <a:pt x="33" y="54"/>
                    <a:pt x="32" y="53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5" y="27"/>
                    <a:pt x="30" y="26"/>
                    <a:pt x="41" y="30"/>
                  </a:cubicBezTo>
                  <a:cubicBezTo>
                    <a:pt x="52" y="33"/>
                    <a:pt x="62" y="28"/>
                    <a:pt x="62" y="28"/>
                  </a:cubicBezTo>
                  <a:lnTo>
                    <a:pt x="46" y="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Freeform 32"/>
          <p:cNvSpPr/>
          <p:nvPr/>
        </p:nvSpPr>
        <p:spPr>
          <a:xfrm>
            <a:off x="954000" y="1682640"/>
            <a:ext cx="403200" cy="3471840"/>
          </a:xfrm>
          <a:custGeom>
            <a:avLst/>
            <a:gdLst>
              <a:gd name="textAreaLeft" fmla="*/ 0 w 403200"/>
              <a:gd name="textAreaRight" fmla="*/ 403560 w 403200"/>
              <a:gd name="textAreaTop" fmla="*/ 0 h 3471840"/>
              <a:gd name="textAreaBottom" fmla="*/ 3472200 h 3471840"/>
            </a:gdLst>
            <a:ahLst/>
            <a:rect l="textAreaLeft" t="textAreaTop" r="textAreaRight" b="textAreaBottom"/>
            <a:pathLst>
              <a:path w="254" h="2187">
                <a:moveTo>
                  <a:pt x="0" y="0"/>
                </a:moveTo>
                <a:lnTo>
                  <a:pt x="254" y="0"/>
                </a:lnTo>
                <a:lnTo>
                  <a:pt x="254" y="2187"/>
                </a:lnTo>
                <a:lnTo>
                  <a:pt x="0" y="2187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4032360" y="3430440"/>
            <a:ext cx="2376360" cy="174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33"/>
          <p:cNvSpPr/>
          <p:nvPr/>
        </p:nvSpPr>
        <p:spPr>
          <a:xfrm>
            <a:off x="1725480" y="5492880"/>
            <a:ext cx="4675320" cy="403200"/>
          </a:xfrm>
          <a:custGeom>
            <a:avLst/>
            <a:gdLst>
              <a:gd name="textAreaLeft" fmla="*/ 0 w 4675320"/>
              <a:gd name="textAreaRight" fmla="*/ 4675680 w 467532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2945" h="254">
                <a:moveTo>
                  <a:pt x="2945" y="0"/>
                </a:moveTo>
                <a:lnTo>
                  <a:pt x="2945" y="254"/>
                </a:lnTo>
                <a:lnTo>
                  <a:pt x="0" y="254"/>
                </a:lnTo>
                <a:lnTo>
                  <a:pt x="0" y="0"/>
                </a:lnTo>
                <a:lnTo>
                  <a:pt x="2945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4032360" y="1682640"/>
            <a:ext cx="2376360" cy="1747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1657440" y="3430440"/>
            <a:ext cx="2374920" cy="174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任意多边形 11"/>
          <p:cNvSpPr/>
          <p:nvPr/>
        </p:nvSpPr>
        <p:spPr>
          <a:xfrm>
            <a:off x="4032360" y="3430440"/>
            <a:ext cx="2469960" cy="1839960"/>
          </a:xfrm>
          <a:custGeom>
            <a:avLst/>
            <a:gdLst>
              <a:gd name="textAreaLeft" fmla="*/ 0 w 2469960"/>
              <a:gd name="textAreaRight" fmla="*/ 2470320 w 2469960"/>
              <a:gd name="textAreaTop" fmla="*/ 0 h 1839960"/>
              <a:gd name="textAreaBottom" fmla="*/ 1840320 h 1839960"/>
            </a:gdLst>
            <a:ahLst/>
            <a:rect l="textAreaLeft" t="textAreaTop" r="textAreaRight" b="textAreaBottom"/>
            <a:pathLst>
              <a:path w="2470630" h="1839772">
                <a:moveTo>
                  <a:pt x="2377530" y="0"/>
                </a:moveTo>
                <a:lnTo>
                  <a:pt x="2470630" y="0"/>
                </a:lnTo>
                <a:lnTo>
                  <a:pt x="2470630" y="1839772"/>
                </a:lnTo>
                <a:lnTo>
                  <a:pt x="0" y="1839772"/>
                </a:lnTo>
                <a:lnTo>
                  <a:pt x="0" y="1746672"/>
                </a:lnTo>
                <a:lnTo>
                  <a:pt x="2377530" y="1746672"/>
                </a:lnTo>
                <a:lnTo>
                  <a:pt x="237753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30"/>
          <p:cNvSpPr/>
          <p:nvPr/>
        </p:nvSpPr>
        <p:spPr>
          <a:xfrm>
            <a:off x="487476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Group 42" descr=""/>
          <p:cNvPicPr/>
          <p:nvPr/>
        </p:nvPicPr>
        <p:blipFill>
          <a:blip r:embed="rId2"/>
          <a:stretch/>
        </p:blipFill>
        <p:spPr>
          <a:xfrm>
            <a:off x="4943520" y="3870360"/>
            <a:ext cx="579240" cy="506520"/>
          </a:xfrm>
          <a:prstGeom prst="rect">
            <a:avLst/>
          </a:prstGeom>
          <a:ln w="0">
            <a:noFill/>
          </a:ln>
        </p:spPr>
      </p:pic>
      <p:sp>
        <p:nvSpPr>
          <p:cNvPr id="496" name="任意多边形 20"/>
          <p:cNvSpPr/>
          <p:nvPr/>
        </p:nvSpPr>
        <p:spPr>
          <a:xfrm>
            <a:off x="1731960" y="5495760"/>
            <a:ext cx="4707000" cy="438480"/>
          </a:xfrm>
          <a:custGeom>
            <a:avLst/>
            <a:gdLst>
              <a:gd name="textAreaLeft" fmla="*/ 0 w 4707000"/>
              <a:gd name="textAreaRight" fmla="*/ 4707360 w 4707000"/>
              <a:gd name="textAreaTop" fmla="*/ 0 h 438480"/>
              <a:gd name="textAreaBottom" fmla="*/ 438840 h 438480"/>
            </a:gdLst>
            <a:ahLst/>
            <a:rect l="textAreaLeft" t="textAreaTop" r="textAreaRight" b="textAreaBottom"/>
            <a:pathLst>
              <a:path w="4707425" h="438394">
                <a:moveTo>
                  <a:pt x="4669325" y="0"/>
                </a:moveTo>
                <a:lnTo>
                  <a:pt x="4707425" y="35169"/>
                </a:lnTo>
                <a:lnTo>
                  <a:pt x="4707425" y="438394"/>
                </a:lnTo>
                <a:lnTo>
                  <a:pt x="32238" y="438394"/>
                </a:lnTo>
                <a:lnTo>
                  <a:pt x="0" y="400294"/>
                </a:lnTo>
                <a:lnTo>
                  <a:pt x="4669325" y="400294"/>
                </a:lnTo>
                <a:lnTo>
                  <a:pt x="4669325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6"/>
          <p:cNvSpPr/>
          <p:nvPr/>
        </p:nvSpPr>
        <p:spPr>
          <a:xfrm>
            <a:off x="3683520" y="5504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22"/>
          <p:cNvSpPr/>
          <p:nvPr/>
        </p:nvSpPr>
        <p:spPr>
          <a:xfrm>
            <a:off x="957240" y="1689120"/>
            <a:ext cx="438120" cy="3503520"/>
          </a:xfrm>
          <a:custGeom>
            <a:avLst/>
            <a:gdLst>
              <a:gd name="textAreaLeft" fmla="*/ 0 w 438120"/>
              <a:gd name="textAreaRight" fmla="*/ 438480 w 438120"/>
              <a:gd name="textAreaTop" fmla="*/ 0 h 3503520"/>
              <a:gd name="textAreaBottom" fmla="*/ 3503880 h 3503520"/>
            </a:gdLst>
            <a:ahLst/>
            <a:rect l="textAreaLeft" t="textAreaTop" r="textAreaRight" b="textAreaBottom"/>
            <a:pathLst>
              <a:path w="438394" h="3504101">
                <a:moveTo>
                  <a:pt x="400294" y="0"/>
                </a:moveTo>
                <a:lnTo>
                  <a:pt x="438394" y="32238"/>
                </a:lnTo>
                <a:lnTo>
                  <a:pt x="438394" y="3504101"/>
                </a:lnTo>
                <a:lnTo>
                  <a:pt x="35169" y="3504101"/>
                </a:lnTo>
                <a:lnTo>
                  <a:pt x="0" y="3466001"/>
                </a:lnTo>
                <a:lnTo>
                  <a:pt x="400294" y="3466001"/>
                </a:lnTo>
                <a:lnTo>
                  <a:pt x="400294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7"/>
          <p:cNvSpPr/>
          <p:nvPr/>
        </p:nvSpPr>
        <p:spPr>
          <a:xfrm rot="16200000">
            <a:off x="760320" y="3271680"/>
            <a:ext cx="76968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增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24"/>
          <p:cNvSpPr/>
          <p:nvPr/>
        </p:nvSpPr>
        <p:spPr>
          <a:xfrm>
            <a:off x="4127400" y="1684440"/>
            <a:ext cx="2374920" cy="178596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2374751" h="1785318">
                <a:moveTo>
                  <a:pt x="2281651" y="0"/>
                </a:moveTo>
                <a:lnTo>
                  <a:pt x="2374751" y="55321"/>
                </a:lnTo>
                <a:lnTo>
                  <a:pt x="2374751" y="1785318"/>
                </a:lnTo>
                <a:lnTo>
                  <a:pt x="2278872" y="1746411"/>
                </a:lnTo>
                <a:lnTo>
                  <a:pt x="0" y="1746411"/>
                </a:lnTo>
                <a:lnTo>
                  <a:pt x="0" y="1746410"/>
                </a:lnTo>
                <a:lnTo>
                  <a:pt x="2281651" y="1746410"/>
                </a:lnTo>
                <a:lnTo>
                  <a:pt x="2281651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20"/>
          <p:cNvSpPr/>
          <p:nvPr/>
        </p:nvSpPr>
        <p:spPr>
          <a:xfrm>
            <a:off x="478440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Group 54" descr=""/>
          <p:cNvPicPr/>
          <p:nvPr/>
        </p:nvPicPr>
        <p:blipFill>
          <a:blip r:embed="rId3"/>
          <a:stretch/>
        </p:blipFill>
        <p:spPr>
          <a:xfrm>
            <a:off x="4834080" y="226224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8"/>
          <p:cNvSpPr/>
          <p:nvPr/>
        </p:nvSpPr>
        <p:spPr>
          <a:xfrm>
            <a:off x="1657440" y="1682640"/>
            <a:ext cx="2374920" cy="1747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15"/>
          <p:cNvSpPr/>
          <p:nvPr/>
        </p:nvSpPr>
        <p:spPr>
          <a:xfrm>
            <a:off x="248724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Group 55" descr=""/>
          <p:cNvPicPr/>
          <p:nvPr/>
        </p:nvPicPr>
        <p:blipFill>
          <a:blip r:embed="rId4"/>
          <a:stretch/>
        </p:blipFill>
        <p:spPr>
          <a:xfrm>
            <a:off x="2567160" y="2189160"/>
            <a:ext cx="620640" cy="596880"/>
          </a:xfrm>
          <a:prstGeom prst="rect">
            <a:avLst/>
          </a:prstGeom>
          <a:ln w="0">
            <a:noFill/>
          </a:ln>
        </p:spPr>
      </p:pic>
      <p:sp>
        <p:nvSpPr>
          <p:cNvPr id="506" name="任意多边形 41"/>
          <p:cNvSpPr/>
          <p:nvPr/>
        </p:nvSpPr>
        <p:spPr>
          <a:xfrm>
            <a:off x="1657440" y="5176800"/>
            <a:ext cx="2428920" cy="93600"/>
          </a:xfrm>
          <a:custGeom>
            <a:avLst/>
            <a:gdLst>
              <a:gd name="textAreaLeft" fmla="*/ 0 w 2428920"/>
              <a:gd name="textAreaRight" fmla="*/ 2429280 w 24289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2428943" h="93100">
                <a:moveTo>
                  <a:pt x="0" y="0"/>
                </a:moveTo>
                <a:lnTo>
                  <a:pt x="2374750" y="0"/>
                </a:lnTo>
                <a:lnTo>
                  <a:pt x="2428943" y="93100"/>
                </a:lnTo>
                <a:lnTo>
                  <a:pt x="62530" y="93100"/>
                </a:lnTo>
                <a:lnTo>
                  <a:pt x="0" y="2779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251424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Group 79" descr=""/>
          <p:cNvPicPr/>
          <p:nvPr/>
        </p:nvPicPr>
        <p:blipFill>
          <a:blip r:embed="rId5"/>
          <a:stretch/>
        </p:blipFill>
        <p:spPr>
          <a:xfrm>
            <a:off x="2633760" y="3809880"/>
            <a:ext cx="530280" cy="536760"/>
          </a:xfrm>
          <a:prstGeom prst="rect">
            <a:avLst/>
          </a:prstGeom>
          <a:ln w="0">
            <a:noFill/>
          </a:ln>
        </p:spPr>
      </p:pic>
      <p:sp>
        <p:nvSpPr>
          <p:cNvPr id="509" name="TextBox 58"/>
          <p:cNvSpPr/>
          <p:nvPr/>
        </p:nvSpPr>
        <p:spPr>
          <a:xfrm>
            <a:off x="7383600" y="430992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59"/>
          <p:cNvSpPr/>
          <p:nvPr/>
        </p:nvSpPr>
        <p:spPr>
          <a:xfrm>
            <a:off x="7383600" y="4618080"/>
            <a:ext cx="41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12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14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Oval 2"/>
          <p:cNvSpPr/>
          <p:nvPr/>
        </p:nvSpPr>
        <p:spPr>
          <a:xfrm>
            <a:off x="4200480" y="3102120"/>
            <a:ext cx="12398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Oval 3"/>
          <p:cNvSpPr/>
          <p:nvPr/>
        </p:nvSpPr>
        <p:spPr>
          <a:xfrm>
            <a:off x="2525760" y="4809960"/>
            <a:ext cx="12380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860400" y="310212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2535120" y="145728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Group 6" descr=""/>
          <p:cNvPicPr/>
          <p:nvPr/>
        </p:nvPicPr>
        <p:blipFill>
          <a:blip r:embed="rId2"/>
          <a:stretch/>
        </p:blipFill>
        <p:spPr>
          <a:xfrm>
            <a:off x="2633760" y="3054240"/>
            <a:ext cx="963360" cy="914400"/>
          </a:xfrm>
          <a:prstGeom prst="rect">
            <a:avLst/>
          </a:prstGeom>
          <a:ln w="0">
            <a:noFill/>
          </a:ln>
        </p:spPr>
      </p:pic>
      <p:pic>
        <p:nvPicPr>
          <p:cNvPr id="521" name="Group 11" descr=""/>
          <p:cNvPicPr/>
          <p:nvPr/>
        </p:nvPicPr>
        <p:blipFill>
          <a:blip r:embed="rId3"/>
          <a:stretch/>
        </p:blipFill>
        <p:spPr>
          <a:xfrm>
            <a:off x="1609560" y="2206800"/>
            <a:ext cx="858960" cy="828360"/>
          </a:xfrm>
          <a:prstGeom prst="rect">
            <a:avLst/>
          </a:prstGeom>
          <a:ln w="0">
            <a:noFill/>
          </a:ln>
        </p:spPr>
      </p:pic>
      <p:pic>
        <p:nvPicPr>
          <p:cNvPr id="522" name="Group 22" descr=""/>
          <p:cNvPicPr/>
          <p:nvPr/>
        </p:nvPicPr>
        <p:blipFill>
          <a:blip r:embed="rId4"/>
          <a:stretch/>
        </p:blipFill>
        <p:spPr>
          <a:xfrm>
            <a:off x="3889440" y="2236680"/>
            <a:ext cx="811080" cy="860400"/>
          </a:xfrm>
          <a:prstGeom prst="rect">
            <a:avLst/>
          </a:prstGeom>
          <a:ln w="0">
            <a:noFill/>
          </a:ln>
        </p:spPr>
      </p:pic>
      <p:pic>
        <p:nvPicPr>
          <p:cNvPr id="523" name="Group 34" descr=""/>
          <p:cNvPicPr/>
          <p:nvPr/>
        </p:nvPicPr>
        <p:blipFill>
          <a:blip r:embed="rId5"/>
          <a:stretch/>
        </p:blipFill>
        <p:spPr>
          <a:xfrm>
            <a:off x="3797280" y="4432320"/>
            <a:ext cx="897120" cy="888840"/>
          </a:xfrm>
          <a:prstGeom prst="rect">
            <a:avLst/>
          </a:prstGeom>
          <a:ln w="0">
            <a:noFill/>
          </a:ln>
        </p:spPr>
      </p:pic>
      <p:pic>
        <p:nvPicPr>
          <p:cNvPr id="524" name="Group 46" descr=""/>
          <p:cNvPicPr/>
          <p:nvPr/>
        </p:nvPicPr>
        <p:blipFill>
          <a:blip r:embed="rId6"/>
          <a:stretch/>
        </p:blipFill>
        <p:spPr>
          <a:xfrm>
            <a:off x="1573200" y="4406760"/>
            <a:ext cx="865080" cy="897120"/>
          </a:xfrm>
          <a:prstGeom prst="rect">
            <a:avLst/>
          </a:prstGeom>
          <a:ln w="0">
            <a:noFill/>
          </a:ln>
        </p:spPr>
      </p:pic>
      <p:sp>
        <p:nvSpPr>
          <p:cNvPr id="525" name="TextBox 58"/>
          <p:cNvSpPr/>
          <p:nvPr/>
        </p:nvSpPr>
        <p:spPr>
          <a:xfrm>
            <a:off x="2781000" y="39974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Group 59" descr=""/>
          <p:cNvPicPr/>
          <p:nvPr/>
        </p:nvPicPr>
        <p:blipFill>
          <a:blip r:embed="rId7"/>
          <a:stretch/>
        </p:blipFill>
        <p:spPr>
          <a:xfrm>
            <a:off x="2951280" y="1652760"/>
            <a:ext cx="371520" cy="43812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4"/>
          <p:cNvSpPr/>
          <p:nvPr/>
        </p:nvSpPr>
        <p:spPr>
          <a:xfrm>
            <a:off x="2941200" y="2111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Group 65" descr=""/>
          <p:cNvPicPr/>
          <p:nvPr/>
        </p:nvPicPr>
        <p:blipFill>
          <a:blip r:embed="rId8"/>
          <a:stretch/>
        </p:blipFill>
        <p:spPr>
          <a:xfrm>
            <a:off x="4627440" y="3292560"/>
            <a:ext cx="389160" cy="511200"/>
          </a:xfrm>
          <a:prstGeom prst="rect">
            <a:avLst/>
          </a:prstGeom>
          <a:ln w="0">
            <a:noFill/>
          </a:ln>
        </p:spPr>
      </p:pic>
      <p:sp>
        <p:nvSpPr>
          <p:cNvPr id="529" name="TextBox 70"/>
          <p:cNvSpPr/>
          <p:nvPr/>
        </p:nvSpPr>
        <p:spPr>
          <a:xfrm>
            <a:off x="46231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Group 71" descr=""/>
          <p:cNvPicPr/>
          <p:nvPr/>
        </p:nvPicPr>
        <p:blipFill>
          <a:blip r:embed="rId9"/>
          <a:stretch/>
        </p:blipFill>
        <p:spPr>
          <a:xfrm>
            <a:off x="2882880" y="5059440"/>
            <a:ext cx="512640" cy="48240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4"/>
          <p:cNvSpPr/>
          <p:nvPr/>
        </p:nvSpPr>
        <p:spPr>
          <a:xfrm>
            <a:off x="2941200" y="5549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Group 75" descr=""/>
          <p:cNvPicPr/>
          <p:nvPr/>
        </p:nvPicPr>
        <p:blipFill>
          <a:blip r:embed="rId10"/>
          <a:stretch/>
        </p:blipFill>
        <p:spPr>
          <a:xfrm>
            <a:off x="1176480" y="3340080"/>
            <a:ext cx="603000" cy="542880"/>
          </a:xfrm>
          <a:prstGeom prst="rect">
            <a:avLst/>
          </a:prstGeom>
          <a:ln w="0">
            <a:noFill/>
          </a:ln>
        </p:spPr>
      </p:pic>
      <p:sp>
        <p:nvSpPr>
          <p:cNvPr id="533" name="TextBox 79"/>
          <p:cNvSpPr/>
          <p:nvPr/>
        </p:nvSpPr>
        <p:spPr>
          <a:xfrm>
            <a:off x="12823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5"/>
          <p:cNvSpPr/>
          <p:nvPr/>
        </p:nvSpPr>
        <p:spPr>
          <a:xfrm>
            <a:off x="6040440" y="2048040"/>
            <a:ext cx="600120" cy="568080"/>
          </a:xfrm>
          <a:custGeom>
            <a:avLst/>
            <a:gdLst>
              <a:gd name="textAreaLeft" fmla="*/ 0 w 600120"/>
              <a:gd name="textAreaRight" fmla="*/ 600480 w 600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460" h="437">
                <a:moveTo>
                  <a:pt x="421" y="0"/>
                </a:moveTo>
                <a:cubicBezTo>
                  <a:pt x="39" y="0"/>
                  <a:pt x="39" y="0"/>
                  <a:pt x="39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334"/>
                  <a:pt x="0" y="334"/>
                  <a:pt x="0" y="334"/>
                </a:cubicBezTo>
                <a:cubicBezTo>
                  <a:pt x="0" y="355"/>
                  <a:pt x="17" y="373"/>
                  <a:pt x="39" y="373"/>
                </a:cubicBezTo>
                <a:cubicBezTo>
                  <a:pt x="155" y="373"/>
                  <a:pt x="155" y="373"/>
                  <a:pt x="155" y="373"/>
                </a:cubicBezTo>
                <a:cubicBezTo>
                  <a:pt x="149" y="381"/>
                  <a:pt x="139" y="390"/>
                  <a:pt x="134" y="395"/>
                </a:cubicBezTo>
                <a:cubicBezTo>
                  <a:pt x="130" y="400"/>
                  <a:pt x="126" y="404"/>
                  <a:pt x="124" y="407"/>
                </a:cubicBezTo>
                <a:cubicBezTo>
                  <a:pt x="121" y="411"/>
                  <a:pt x="119" y="418"/>
                  <a:pt x="123" y="424"/>
                </a:cubicBezTo>
                <a:cubicBezTo>
                  <a:pt x="126" y="430"/>
                  <a:pt x="133" y="437"/>
                  <a:pt x="152" y="437"/>
                </a:cubicBezTo>
                <a:cubicBezTo>
                  <a:pt x="308" y="437"/>
                  <a:pt x="308" y="437"/>
                  <a:pt x="308" y="437"/>
                </a:cubicBezTo>
                <a:cubicBezTo>
                  <a:pt x="326" y="437"/>
                  <a:pt x="334" y="430"/>
                  <a:pt x="337" y="424"/>
                </a:cubicBezTo>
                <a:cubicBezTo>
                  <a:pt x="340" y="418"/>
                  <a:pt x="339" y="411"/>
                  <a:pt x="336" y="407"/>
                </a:cubicBezTo>
                <a:cubicBezTo>
                  <a:pt x="334" y="404"/>
                  <a:pt x="330" y="400"/>
                  <a:pt x="325" y="395"/>
                </a:cubicBezTo>
                <a:cubicBezTo>
                  <a:pt x="320" y="390"/>
                  <a:pt x="311" y="381"/>
                  <a:pt x="304" y="373"/>
                </a:cubicBezTo>
                <a:cubicBezTo>
                  <a:pt x="421" y="373"/>
                  <a:pt x="421" y="373"/>
                  <a:pt x="421" y="373"/>
                </a:cubicBezTo>
                <a:cubicBezTo>
                  <a:pt x="442" y="373"/>
                  <a:pt x="460" y="355"/>
                  <a:pt x="460" y="334"/>
                </a:cubicBezTo>
                <a:cubicBezTo>
                  <a:pt x="460" y="38"/>
                  <a:pt x="460" y="38"/>
                  <a:pt x="460" y="38"/>
                </a:cubicBezTo>
                <a:cubicBezTo>
                  <a:pt x="460" y="17"/>
                  <a:pt x="442" y="0"/>
                  <a:pt x="421" y="0"/>
                </a:cubicBezTo>
                <a:close/>
                <a:moveTo>
                  <a:pt x="315" y="405"/>
                </a:moveTo>
                <a:cubicBezTo>
                  <a:pt x="319" y="409"/>
                  <a:pt x="323" y="413"/>
                  <a:pt x="324" y="415"/>
                </a:cubicBezTo>
                <a:cubicBezTo>
                  <a:pt x="324" y="415"/>
                  <a:pt x="325" y="417"/>
                  <a:pt x="324" y="418"/>
                </a:cubicBezTo>
                <a:cubicBezTo>
                  <a:pt x="322" y="421"/>
                  <a:pt x="316" y="423"/>
                  <a:pt x="308" y="423"/>
                </a:cubicBezTo>
                <a:cubicBezTo>
                  <a:pt x="152" y="423"/>
                  <a:pt x="152" y="423"/>
                  <a:pt x="152" y="423"/>
                </a:cubicBezTo>
                <a:cubicBezTo>
                  <a:pt x="143" y="423"/>
                  <a:pt x="138" y="421"/>
                  <a:pt x="136" y="418"/>
                </a:cubicBezTo>
                <a:cubicBezTo>
                  <a:pt x="135" y="417"/>
                  <a:pt x="135" y="415"/>
                  <a:pt x="135" y="415"/>
                </a:cubicBezTo>
                <a:cubicBezTo>
                  <a:pt x="135" y="415"/>
                  <a:pt x="135" y="415"/>
                  <a:pt x="135" y="415"/>
                </a:cubicBezTo>
                <a:cubicBezTo>
                  <a:pt x="137" y="413"/>
                  <a:pt x="140" y="409"/>
                  <a:pt x="145" y="405"/>
                </a:cubicBezTo>
                <a:cubicBezTo>
                  <a:pt x="157" y="393"/>
                  <a:pt x="167" y="382"/>
                  <a:pt x="172" y="373"/>
                </a:cubicBezTo>
                <a:cubicBezTo>
                  <a:pt x="288" y="373"/>
                  <a:pt x="288" y="373"/>
                  <a:pt x="288" y="373"/>
                </a:cubicBezTo>
                <a:cubicBezTo>
                  <a:pt x="292" y="382"/>
                  <a:pt x="302" y="393"/>
                  <a:pt x="315" y="405"/>
                </a:cubicBezTo>
                <a:close/>
                <a:moveTo>
                  <a:pt x="431" y="334"/>
                </a:moveTo>
                <a:cubicBezTo>
                  <a:pt x="431" y="340"/>
                  <a:pt x="426" y="344"/>
                  <a:pt x="421" y="344"/>
                </a:cubicBezTo>
                <a:cubicBezTo>
                  <a:pt x="39" y="344"/>
                  <a:pt x="39" y="344"/>
                  <a:pt x="39" y="344"/>
                </a:cubicBezTo>
                <a:cubicBezTo>
                  <a:pt x="33" y="344"/>
                  <a:pt x="29" y="340"/>
                  <a:pt x="29" y="334"/>
                </a:cubicBezTo>
                <a:cubicBezTo>
                  <a:pt x="29" y="38"/>
                  <a:pt x="29" y="38"/>
                  <a:pt x="29" y="38"/>
                </a:cubicBezTo>
                <a:cubicBezTo>
                  <a:pt x="29" y="33"/>
                  <a:pt x="33" y="28"/>
                  <a:pt x="39" y="28"/>
                </a:cubicBezTo>
                <a:cubicBezTo>
                  <a:pt x="421" y="28"/>
                  <a:pt x="421" y="28"/>
                  <a:pt x="421" y="28"/>
                </a:cubicBezTo>
                <a:cubicBezTo>
                  <a:pt x="426" y="28"/>
                  <a:pt x="431" y="33"/>
                  <a:pt x="431" y="38"/>
                </a:cubicBezTo>
                <a:lnTo>
                  <a:pt x="431" y="3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6"/>
          <p:cNvSpPr/>
          <p:nvPr/>
        </p:nvSpPr>
        <p:spPr>
          <a:xfrm>
            <a:off x="6114960" y="2122560"/>
            <a:ext cx="449280" cy="298440"/>
          </a:xfrm>
          <a:custGeom>
            <a:avLst/>
            <a:gdLst>
              <a:gd name="textAreaLeft" fmla="*/ 0 w 449280"/>
              <a:gd name="textAreaRight" fmla="*/ 449640 w 4492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345" h="230">
                <a:moveTo>
                  <a:pt x="321" y="0"/>
                </a:move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06"/>
                  <a:pt x="0" y="206"/>
                  <a:pt x="0" y="206"/>
                </a:cubicBezTo>
                <a:cubicBezTo>
                  <a:pt x="0" y="219"/>
                  <a:pt x="11" y="230"/>
                  <a:pt x="25" y="230"/>
                </a:cubicBezTo>
                <a:cubicBezTo>
                  <a:pt x="321" y="230"/>
                  <a:pt x="321" y="230"/>
                  <a:pt x="321" y="230"/>
                </a:cubicBezTo>
                <a:cubicBezTo>
                  <a:pt x="334" y="230"/>
                  <a:pt x="345" y="219"/>
                  <a:pt x="345" y="206"/>
                </a:cubicBezTo>
                <a:cubicBezTo>
                  <a:pt x="345" y="24"/>
                  <a:pt x="345" y="24"/>
                  <a:pt x="345" y="24"/>
                </a:cubicBezTo>
                <a:cubicBezTo>
                  <a:pt x="345" y="11"/>
                  <a:pt x="334" y="0"/>
                  <a:pt x="321" y="0"/>
                </a:cubicBezTo>
                <a:close/>
                <a:moveTo>
                  <a:pt x="331" y="206"/>
                </a:moveTo>
                <a:cubicBezTo>
                  <a:pt x="331" y="211"/>
                  <a:pt x="326" y="216"/>
                  <a:pt x="321" y="216"/>
                </a:cubicBezTo>
                <a:cubicBezTo>
                  <a:pt x="25" y="216"/>
                  <a:pt x="25" y="216"/>
                  <a:pt x="25" y="216"/>
                </a:cubicBezTo>
                <a:cubicBezTo>
                  <a:pt x="19" y="216"/>
                  <a:pt x="15" y="211"/>
                  <a:pt x="15" y="206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19"/>
                  <a:pt x="19" y="14"/>
                  <a:pt x="25" y="14"/>
                </a:cubicBezTo>
                <a:cubicBezTo>
                  <a:pt x="321" y="14"/>
                  <a:pt x="321" y="14"/>
                  <a:pt x="321" y="14"/>
                </a:cubicBezTo>
                <a:cubicBezTo>
                  <a:pt x="326" y="14"/>
                  <a:pt x="331" y="19"/>
                  <a:pt x="331" y="24"/>
                </a:cubicBezTo>
                <a:lnTo>
                  <a:pt x="33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6311880" y="2430360"/>
            <a:ext cx="55440" cy="57240"/>
          </a:xfrm>
          <a:custGeom>
            <a:avLst/>
            <a:gdLst>
              <a:gd name="textAreaLeft" fmla="*/ 0 w 55440"/>
              <a:gd name="textAreaRight" fmla="*/ 55800 w 55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3" h="43">
                <a:moveTo>
                  <a:pt x="22" y="0"/>
                </a:moveTo>
                <a:cubicBezTo>
                  <a:pt x="10" y="0"/>
                  <a:pt x="0" y="9"/>
                  <a:pt x="0" y="21"/>
                </a:cubicBezTo>
                <a:cubicBezTo>
                  <a:pt x="0" y="33"/>
                  <a:pt x="10" y="43"/>
                  <a:pt x="22" y="43"/>
                </a:cubicBezTo>
                <a:cubicBezTo>
                  <a:pt x="34" y="43"/>
                  <a:pt x="43" y="33"/>
                  <a:pt x="43" y="21"/>
                </a:cubicBezTo>
                <a:cubicBezTo>
                  <a:pt x="43" y="9"/>
                  <a:pt x="34" y="0"/>
                  <a:pt x="22" y="0"/>
                </a:cubicBezTo>
                <a:close/>
                <a:moveTo>
                  <a:pt x="22" y="29"/>
                </a:moveTo>
                <a:cubicBezTo>
                  <a:pt x="18" y="29"/>
                  <a:pt x="15" y="25"/>
                  <a:pt x="15" y="21"/>
                </a:cubicBezTo>
                <a:cubicBezTo>
                  <a:pt x="15" y="17"/>
                  <a:pt x="18" y="14"/>
                  <a:pt x="22" y="14"/>
                </a:cubicBezTo>
                <a:cubicBezTo>
                  <a:pt x="26" y="14"/>
                  <a:pt x="29" y="17"/>
                  <a:pt x="29" y="21"/>
                </a:cubicBezTo>
                <a:cubicBezTo>
                  <a:pt x="29" y="25"/>
                  <a:pt x="26" y="29"/>
                  <a:pt x="22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8"/>
          <p:cNvSpPr/>
          <p:nvPr/>
        </p:nvSpPr>
        <p:spPr>
          <a:xfrm>
            <a:off x="6249960" y="2182680"/>
            <a:ext cx="181080" cy="179640"/>
          </a:xfrm>
          <a:custGeom>
            <a:avLst/>
            <a:gdLst>
              <a:gd name="textAreaLeft" fmla="*/ 0 w 181080"/>
              <a:gd name="textAreaRight" fmla="*/ 181080 w 18108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38" h="138">
                <a:moveTo>
                  <a:pt x="69" y="0"/>
                </a:moveTo>
                <a:cubicBezTo>
                  <a:pt x="31" y="0"/>
                  <a:pt x="0" y="31"/>
                  <a:pt x="0" y="69"/>
                </a:cubicBezTo>
                <a:cubicBezTo>
                  <a:pt x="0" y="107"/>
                  <a:pt x="31" y="138"/>
                  <a:pt x="69" y="138"/>
                </a:cubicBezTo>
                <a:cubicBezTo>
                  <a:pt x="107" y="138"/>
                  <a:pt x="138" y="107"/>
                  <a:pt x="138" y="69"/>
                </a:cubicBezTo>
                <a:cubicBezTo>
                  <a:pt x="138" y="31"/>
                  <a:pt x="107" y="0"/>
                  <a:pt x="69" y="0"/>
                </a:cubicBezTo>
                <a:close/>
                <a:moveTo>
                  <a:pt x="69" y="124"/>
                </a:moveTo>
                <a:cubicBezTo>
                  <a:pt x="39" y="124"/>
                  <a:pt x="14" y="99"/>
                  <a:pt x="14" y="69"/>
                </a:cubicBezTo>
                <a:cubicBezTo>
                  <a:pt x="14" y="41"/>
                  <a:pt x="36" y="18"/>
                  <a:pt x="64" y="15"/>
                </a:cubicBezTo>
                <a:cubicBezTo>
                  <a:pt x="64" y="79"/>
                  <a:pt x="64" y="79"/>
                  <a:pt x="64" y="79"/>
                </a:cubicBezTo>
                <a:cubicBezTo>
                  <a:pt x="122" y="57"/>
                  <a:pt x="122" y="57"/>
                  <a:pt x="122" y="57"/>
                </a:cubicBezTo>
                <a:cubicBezTo>
                  <a:pt x="123" y="61"/>
                  <a:pt x="123" y="65"/>
                  <a:pt x="123" y="69"/>
                </a:cubicBezTo>
                <a:cubicBezTo>
                  <a:pt x="123" y="99"/>
                  <a:pt x="99" y="124"/>
                  <a:pt x="69" y="1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88"/>
          <p:cNvSpPr/>
          <p:nvPr/>
        </p:nvSpPr>
        <p:spPr>
          <a:xfrm>
            <a:off x="650052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89"/>
          <p:cNvSpPr/>
          <p:nvPr/>
        </p:nvSpPr>
        <p:spPr>
          <a:xfrm>
            <a:off x="6415200" y="35132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Group 96" descr=""/>
          <p:cNvPicPr/>
          <p:nvPr/>
        </p:nvPicPr>
        <p:blipFill>
          <a:blip r:embed="rId11"/>
          <a:stretch/>
        </p:blipFill>
        <p:spPr>
          <a:xfrm>
            <a:off x="5943600" y="3419640"/>
            <a:ext cx="324000" cy="384120"/>
          </a:xfrm>
          <a:prstGeom prst="rect">
            <a:avLst/>
          </a:prstGeom>
          <a:ln w="0">
            <a:noFill/>
          </a:ln>
        </p:spPr>
      </p:pic>
      <p:sp>
        <p:nvSpPr>
          <p:cNvPr id="541" name="TextBox 92"/>
          <p:cNvSpPr/>
          <p:nvPr/>
        </p:nvSpPr>
        <p:spPr>
          <a:xfrm>
            <a:off x="925956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93"/>
          <p:cNvSpPr/>
          <p:nvPr/>
        </p:nvSpPr>
        <p:spPr>
          <a:xfrm>
            <a:off x="9174240" y="35132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Group 101" descr=""/>
          <p:cNvPicPr/>
          <p:nvPr/>
        </p:nvPicPr>
        <p:blipFill>
          <a:blip r:embed="rId12"/>
          <a:stretch/>
        </p:blipFill>
        <p:spPr>
          <a:xfrm>
            <a:off x="8710560" y="3402000"/>
            <a:ext cx="324000" cy="420840"/>
          </a:xfrm>
          <a:prstGeom prst="rect">
            <a:avLst/>
          </a:prstGeom>
          <a:ln w="0">
            <a:noFill/>
          </a:ln>
        </p:spPr>
      </p:pic>
      <p:sp>
        <p:nvSpPr>
          <p:cNvPr id="544" name="TextBox 90"/>
          <p:cNvSpPr/>
          <p:nvPr/>
        </p:nvSpPr>
        <p:spPr>
          <a:xfrm>
            <a:off x="6503760" y="4699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6418440" y="496584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Group 106" descr=""/>
          <p:cNvPicPr/>
          <p:nvPr/>
        </p:nvPicPr>
        <p:blipFill>
          <a:blip r:embed="rId13"/>
          <a:stretch/>
        </p:blipFill>
        <p:spPr>
          <a:xfrm>
            <a:off x="5883120" y="4821120"/>
            <a:ext cx="451080" cy="4273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94"/>
          <p:cNvSpPr/>
          <p:nvPr/>
        </p:nvSpPr>
        <p:spPr>
          <a:xfrm>
            <a:off x="9249840" y="4703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95"/>
          <p:cNvSpPr/>
          <p:nvPr/>
        </p:nvSpPr>
        <p:spPr>
          <a:xfrm>
            <a:off x="9164520" y="496080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Group 109" descr=""/>
          <p:cNvPicPr/>
          <p:nvPr/>
        </p:nvPicPr>
        <p:blipFill>
          <a:blip r:embed="rId14"/>
          <a:stretch/>
        </p:blipFill>
        <p:spPr>
          <a:xfrm>
            <a:off x="8643960" y="4883040"/>
            <a:ext cx="450720" cy="4082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58"/>
          <p:cNvSpPr/>
          <p:nvPr/>
        </p:nvSpPr>
        <p:spPr>
          <a:xfrm>
            <a:off x="6669000" y="195588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59"/>
          <p:cNvSpPr/>
          <p:nvPr/>
        </p:nvSpPr>
        <p:spPr>
          <a:xfrm>
            <a:off x="6669000" y="2263680"/>
            <a:ext cx="46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</cp:lastModifiedBy>
  <dcterms:modified xsi:type="dcterms:W3CDTF">2017-05-30T10:12:41Z</dcterms:modified>
  <cp:revision>3</cp:revision>
  <dc:subject/>
  <dc:title>PowerPoint 演示文稿</dc:title>
</cp:coreProperties>
</file>