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618-3876-4B66-9CEB-D124D387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6AA-A455-43A8-BF3C-F29CD51B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7FA-B56C-4E54-A832-FE414C57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01C-6D15-4242-9160-6B64463F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299-A531-45F0-A1C0-97DF6013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30E-5F84-495B-9511-BB01027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09B-CEAD-4B62-B0BA-C86B7B6B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683-ED43-4840-B2A2-38FBAEF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A07-73D8-4737-9B1D-48189E3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B3F-A7A5-4E47-A89F-ABB512BD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7ED-2C87-441A-AFCB-0FD51745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601-2E29-4920-B375-84C630E5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963A-B605-43C4-A1B9-3563C043A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8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1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4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7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196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200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203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206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"/>
          <p:cNvSpPr/>
          <p:nvPr/>
        </p:nvSpPr>
        <p:spPr>
          <a:xfrm>
            <a:off x="5742720" y="5610240"/>
            <a:ext cx="31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作品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http://www.quanjing.com/GetPicWatermark.ashx?pic_id=wavebreak30752&amp;catalogid=wavebreak002&amp;source=2"/>
          <p:cNvPicPr/>
          <p:nvPr/>
        </p:nvPicPr>
        <p:blipFill>
          <a:blip r:embed="rId2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www.quanjing.com/GetPicWatermark.ashx?pic_id=wavebreak26809&amp;catalogid=wavebreak002&amp;source=2"/>
          <p:cNvPicPr/>
          <p:nvPr/>
        </p:nvPicPr>
        <p:blipFill>
          <a:blip r:embed="rId3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3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7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0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3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89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2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5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8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5" y="0"/>
                </a:lnTo>
                <a:lnTo>
                  <a:pt x="21600" y="10800"/>
                </a:lnTo>
                <a:lnTo>
                  <a:pt x="19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USER</dc:creator>
  <dc:description/>
  <dc:language>en-US</dc:language>
  <cp:lastModifiedBy>Administrator</cp:lastModifiedBy>
  <dcterms:modified xsi:type="dcterms:W3CDTF">2016-04-23T00:10:54Z</dcterms:modified>
  <cp:revision>11</cp:revision>
  <dc:subject/>
  <dc:title>如何做毕业论文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