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BAFB-2715-4143-B31D-CD705BCE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B9A2-801C-43B7-9EE7-7423CB61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1D8-1732-4E14-84E6-A54AC6EA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6CF0-9DC3-47B6-BD0C-047FF126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C68F-AD0F-49C4-BA20-A8B44A71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AD62-400E-4A55-8C06-A9F6ECDA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83E3-C8BF-4B76-AED1-9AE99291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6D84-8121-4354-A2FC-F30C11FB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21F1-BDA3-4DEE-A517-ACB9DE70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AAF6-A143-43DE-A91D-6404A67A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8679-0D03-4E53-8AE9-9FD5D8FB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6D2-9C14-4692-A4D8-9E1AC72A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7633-5F6C-492F-8759-E5FE20B0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85CA-2E3F-4C57-8BD3-49A0DDA6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192C-6357-49C2-B4AC-26801E76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B864-8317-42F1-B0D6-7BC6264B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D500-C0E5-46E2-9F9D-802F1A07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5533F-1521-43D0-A120-03D57988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4B0F6-E569-4414-9235-4B3649A9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F6E86-5F3D-4C55-87CC-B3EFC9C3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B18AE-4B7D-4213-B30C-DB125085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3AF55-B78B-475B-93BF-941C2FAD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2804-2658-41B6-9E22-8590A1D2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5888B-30F8-43B0-A9CE-A66D1218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55B96-8F6F-4A28-95F6-0414DFF7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58D2E-6FC2-41C0-B040-6FF55894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69F52-64F0-48D7-8DBC-9D515742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C2963-C463-4AD1-B973-885D29D1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685FD-D321-4822-8335-2A8C33F8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0D61A-BDAC-4A43-892F-129CD80D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A7A8-202A-4D47-A6A2-06255267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37F3-02B5-4969-8E77-A97B37F0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4758-7AF3-4087-95CB-489FAC6E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76B1-D063-4D3C-A678-08AC471C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7AA2-61CA-45D9-B7B8-0F5E7349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9E03-B7E5-406E-827A-CF9585D6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AB1A-93E5-4CF8-A289-42F588A1A3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C:\Documents and Settings\Administrator\桌面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C:\Documents and Settings\Administrator\桌面\4.png"/>
          <p:cNvPicPr/>
          <p:nvPr/>
        </p:nvPicPr>
        <p:blipFill>
          <a:blip r:embed="rId3"/>
          <a:stretch/>
        </p:blipFill>
        <p:spPr>
          <a:xfrm>
            <a:off x="0" y="3029040"/>
            <a:ext cx="9144000" cy="2685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:\Documents and Settings\Administrator\桌面\1.png"/>
          <p:cNvPicPr/>
          <p:nvPr/>
        </p:nvPicPr>
        <p:blipFill>
          <a:blip r:embed="rId4"/>
          <a:srcRect l="33567" t="0" r="0" b="0"/>
          <a:stretch/>
        </p:blipFill>
        <p:spPr>
          <a:xfrm>
            <a:off x="0" y="3879720"/>
            <a:ext cx="684360" cy="18576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09480" y="633240"/>
            <a:ext cx="8534520" cy="5102280"/>
            <a:chOff x="609480" y="633240"/>
            <a:chExt cx="8534520" cy="5102280"/>
          </a:xfrm>
        </p:grpSpPr>
        <p:pic>
          <p:nvPicPr>
            <p:cNvPr id="45" name="单圆角矩形 9" descr=""/>
            <p:cNvPicPr/>
            <p:nvPr/>
          </p:nvPicPr>
          <p:blipFill>
            <a:blip r:embed="rId5"/>
            <a:stretch/>
          </p:blipFill>
          <p:spPr>
            <a:xfrm>
              <a:off x="609480" y="636120"/>
              <a:ext cx="8534520" cy="509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87320" y="633240"/>
              <a:ext cx="8356680" cy="51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" name="Picture 9" descr="C:\Documents and Settings\Administrator\桌面\3.png"/>
          <p:cNvPicPr/>
          <p:nvPr/>
        </p:nvPicPr>
        <p:blipFill>
          <a:blip r:embed="rId6"/>
          <a:stretch/>
        </p:blipFill>
        <p:spPr>
          <a:xfrm>
            <a:off x="5572080" y="4511520"/>
            <a:ext cx="3462480" cy="1316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C:\Documents and Settings\Administrator\桌面\5.png"/>
          <p:cNvPicPr/>
          <p:nvPr/>
        </p:nvPicPr>
        <p:blipFill>
          <a:blip r:embed="rId7"/>
          <a:stretch/>
        </p:blipFill>
        <p:spPr>
          <a:xfrm>
            <a:off x="7164360" y="2928960"/>
            <a:ext cx="2209680" cy="2914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DF43-4AF6-4C28-A99B-2C6208A106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3D87-C2C5-4606-B0C4-D302127649A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2" descr="C:\Documents and Settings\Administrator\桌面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C:\Documents and Settings\Administrator\桌面\4.png"/>
          <p:cNvPicPr/>
          <p:nvPr/>
        </p:nvPicPr>
        <p:blipFill>
          <a:blip r:embed="rId2"/>
          <a:stretch/>
        </p:blipFill>
        <p:spPr>
          <a:xfrm>
            <a:off x="0" y="3029040"/>
            <a:ext cx="9144000" cy="2685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C:\Documents and Settings\Administrator\桌面\3.png"/>
          <p:cNvPicPr/>
          <p:nvPr/>
        </p:nvPicPr>
        <p:blipFill>
          <a:blip r:embed="rId3"/>
          <a:srcRect l="0" t="0" r="0" b="37198"/>
          <a:stretch/>
        </p:blipFill>
        <p:spPr>
          <a:xfrm>
            <a:off x="5676840" y="2819520"/>
            <a:ext cx="3467160" cy="825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Documents and Settings\Administrator\桌面\2.png"/>
          <p:cNvPicPr/>
          <p:nvPr/>
        </p:nvPicPr>
        <p:blipFill>
          <a:blip r:embed="rId4"/>
          <a:stretch/>
        </p:blipFill>
        <p:spPr>
          <a:xfrm>
            <a:off x="1712880" y="4657680"/>
            <a:ext cx="4514760" cy="800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:\Documents and Settings\Administrator\桌面\3.png"/>
          <p:cNvPicPr/>
          <p:nvPr/>
        </p:nvPicPr>
        <p:blipFill>
          <a:blip r:embed="rId5"/>
          <a:stretch/>
        </p:blipFill>
        <p:spPr>
          <a:xfrm>
            <a:off x="7975440" y="0"/>
            <a:ext cx="1149480" cy="3333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C:\Documents and Settings\Administrator\桌面\5.png"/>
          <p:cNvPicPr/>
          <p:nvPr/>
        </p:nvPicPr>
        <p:blipFill>
          <a:blip r:embed="rId6"/>
          <a:stretch/>
        </p:blipFill>
        <p:spPr>
          <a:xfrm>
            <a:off x="6905520" y="2800440"/>
            <a:ext cx="2210040" cy="2914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C:\Documents and Settings\Administrator\桌面\2.png"/>
          <p:cNvPicPr/>
          <p:nvPr/>
        </p:nvPicPr>
        <p:blipFill>
          <a:blip r:embed="rId7"/>
          <a:stretch/>
        </p:blipFill>
        <p:spPr>
          <a:xfrm rot="21348600">
            <a:off x="2411280" y="193320"/>
            <a:ext cx="5789880" cy="971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14560" y="1496520"/>
            <a:ext cx="57258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139" name="Picture 7" descr="C:\Documents and Settings\Administrator\桌面\1.png"/>
          <p:cNvPicPr/>
          <p:nvPr/>
        </p:nvPicPr>
        <p:blipFill>
          <a:blip r:embed="rId8"/>
          <a:stretch/>
        </p:blipFill>
        <p:spPr>
          <a:xfrm>
            <a:off x="395280" y="554040"/>
            <a:ext cx="4267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25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75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97 0.04111 L 1.43333 -0.41583 E">
                                      <p:cBhvr>
                                        <p:cTn id="38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2" descr="C:\Documents and Settings\Administrator\桌面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C:\Documents and Settings\Administrator\桌面\4.png"/>
          <p:cNvPicPr/>
          <p:nvPr/>
        </p:nvPicPr>
        <p:blipFill>
          <a:blip r:embed="rId2"/>
          <a:stretch/>
        </p:blipFill>
        <p:spPr>
          <a:xfrm>
            <a:off x="0" y="3029040"/>
            <a:ext cx="9144000" cy="2685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C:\Documents and Settings\Administrator\桌面\3.png"/>
          <p:cNvPicPr/>
          <p:nvPr/>
        </p:nvPicPr>
        <p:blipFill>
          <a:blip r:embed="rId3"/>
          <a:srcRect l="0" t="0" r="0" b="36239"/>
          <a:stretch/>
        </p:blipFill>
        <p:spPr>
          <a:xfrm>
            <a:off x="5676840" y="2819520"/>
            <a:ext cx="346716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C:\Documents and Settings\Administrator\桌面\3.png"/>
          <p:cNvPicPr/>
          <p:nvPr/>
        </p:nvPicPr>
        <p:blipFill>
          <a:blip r:embed="rId4"/>
          <a:stretch/>
        </p:blipFill>
        <p:spPr>
          <a:xfrm>
            <a:off x="7975440" y="0"/>
            <a:ext cx="1149480" cy="3333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276720" y="1417680"/>
            <a:ext cx="551808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3398760"/>
            <a:ext cx="9144000" cy="23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396720" y="117792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Calibri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324000" y="36972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-219600" y="441792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6:35:16Z</dcterms:created>
  <dc:creator>user</dc:creator>
  <dc:description/>
  <dc:language>en-US</dc:language>
  <cp:lastModifiedBy>微软用户</cp:lastModifiedBy>
  <cp:lastPrinted>1899-12-30T00:00:00Z</cp:lastPrinted>
  <dcterms:modified xsi:type="dcterms:W3CDTF">2011-02-03T13:46:15Z</dcterms:modified>
  <cp:revision>2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