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486-6278-4146-BC1D-DD935B07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592-56E5-4A7F-9F10-6500380E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55D-456A-4010-B945-758F4D0A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4E2-377B-4C47-8CD2-CAAC1BFD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9B6-84BF-49E6-B34F-08621F28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113-8406-4F44-AA43-656CD8F5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7C6-466D-4F9F-92A8-0F8EAC7C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56B-7E28-4171-A5CA-D52F75A7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4B7-0913-44A9-A35E-8D44807B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FA1-FD10-4480-A242-D4E5404F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B79-3549-488E-B24D-639C7665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E13-EA26-499C-8E8C-54386C23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85AF-1ECB-49ED-B7D4-DE111DD0539E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470E-FB96-4FC0-8625-77BCEEDE7F3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4" descr="ch069-0241"/>
          <p:cNvPicPr/>
          <p:nvPr/>
        </p:nvPicPr>
        <p:blipFill>
          <a:blip r:embed="rId1"/>
          <a:srcRect l="0" t="3312" r="14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3"/>
          <p:cNvSpPr/>
          <p:nvPr/>
        </p:nvSpPr>
        <p:spPr>
          <a:xfrm>
            <a:off x="324000" y="26028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4"/>
          <p:cNvSpPr/>
          <p:nvPr/>
        </p:nvSpPr>
        <p:spPr>
          <a:xfrm>
            <a:off x="757080" y="109872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BB6F-71FD-473F-B3EB-6A0F78EF6A8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FA50-FC4C-4B04-A22A-FA7CECB36AF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6E4A-FA67-4228-912C-2A164C1CB21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24840 h 299880"/>
              <a:gd name="textAreaBottom" fmla="*/ 2750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1260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D495-F120-4797-9B81-C3E9AC81417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8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4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6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8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2440"/>
                <a:gd name="textAreaBottom" fmla="*/ 532440 h 53244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5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27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3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5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37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41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62C2-4710-441B-A900-8CBF526767A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>
              <a:gd name="textAreaLeft" fmla="*/ 569880 w 6842160"/>
              <a:gd name="textAreaRight" fmla="*/ 6272280 w 6842160"/>
              <a:gd name="textAreaTop" fmla="*/ 32040 h 384120"/>
              <a:gd name="textAreaBottom" fmla="*/ 3524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440 w 1344600"/>
              <a:gd name="textAreaRight" fmla="*/ 119916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4680 w 1341360"/>
              <a:gd name="textAreaRight" fmla="*/ 1156680 w 134136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4680 w 1341720"/>
              <a:gd name="textAreaRight" fmla="*/ 1157040 w 134172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08160 w 2238120"/>
              <a:gd name="textAreaRight" fmla="*/ 1929960 w 2238120"/>
              <a:gd name="textAreaTop" fmla="*/ 17640 h 128880"/>
              <a:gd name="textAreaBottom" fmla="*/ 11124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91880 w 2304720"/>
              <a:gd name="textAreaRight" fmla="*/ 2112840 w 230472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694160"/>
              <a:gd name="textAreaBottom" fmla="*/ 1694520 h 169416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>
              <a:gd name="textAreaLeft" fmla="*/ 0 w 1474560"/>
              <a:gd name="textAreaRight" fmla="*/ 1474920 w 147456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1335240"/>
              <a:gd name="textAreaBottom" fmla="*/ 1335240 h 133524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8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1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4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7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0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Group 40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C188-FE3B-44E8-8E78-1F6B8DB9873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968B-20DB-414D-A947-28C19FF8770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22B6-CEA8-4294-9E57-A7A0168D81E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01320 w 1852560"/>
              <a:gd name="textAreaRight" fmla="*/ 1551240 w 1852560"/>
              <a:gd name="textAreaTop" fmla="*/ 74160 h 455760"/>
              <a:gd name="textAreaBottom" fmla="*/ 38160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61880 w 2840040"/>
              <a:gd name="textAreaRight" fmla="*/ 2378160 w 2840040"/>
              <a:gd name="textAreaTop" fmla="*/ 114120 h 703080"/>
              <a:gd name="textAreaBottom" fmla="*/ 58896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10280 w 4367160"/>
              <a:gd name="textAreaRight" fmla="*/ 3656880 w 4367160"/>
              <a:gd name="textAreaTop" fmla="*/ 175320 h 1079280"/>
              <a:gd name="textAreaBottom" fmla="*/ 9039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06480 w 4351320"/>
              <a:gd name="textAreaRight" fmla="*/ 3444840 w 435132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27480 w 3013200"/>
              <a:gd name="textAreaRight" fmla="*/ 2385720 w 30132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591480 w 2840040"/>
              <a:gd name="textAreaRight" fmla="*/ 2248560 w 2840040"/>
              <a:gd name="textAreaTop" fmla="*/ 37440 h 179640"/>
              <a:gd name="textAreaBottom" fmla="*/ 1422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28440 h 136440"/>
              <a:gd name="textAreaBottom" fmla="*/ 1080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52200 h 250920"/>
              <a:gd name="textAreaBottom" fmla="*/ 198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31840 w 1112760"/>
              <a:gd name="textAreaRight" fmla="*/ 880920 w 1112760"/>
              <a:gd name="textAreaTop" fmla="*/ 26280 h 127080"/>
              <a:gd name="textAreaBottom" fmla="*/ 100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ED0B-5D28-499A-82D0-E8944EC3B13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Group 5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Group 14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Group 23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1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Group 32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960"/>
              <a:gd name="textAreaBottom" fmla="*/ 15912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A7D4-0714-42C0-AECB-C4F93B99DA5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0030-F077-4EF9-9AE6-F4F8140D53D7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>
              <a:gd name="textAreaLeft" fmla="*/ 360 w 6120000"/>
              <a:gd name="textAreaRight" fmla="*/ 6120720 w 6120000"/>
              <a:gd name="textAreaTop" fmla="*/ 0 h 3770280"/>
              <a:gd name="textAreaBottom" fmla="*/ 3770640 h 377028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5AF1-DC46-4AC8-8236-5D8BA755A83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1342-C097-4D8E-8D20-EB6CCA747D3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Group 5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9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Group 10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14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Group 15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E7A7-AE1B-4EA1-AB89-0C6A7B3FF8E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2080"/>
              <a:gd name="textAreaBottom" fmla="*/ 1452960 h 170208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480 h 1703520"/>
              <a:gd name="textAreaBottom" fmla="*/ 1454040 h 17035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9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5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3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FA1E-7713-4E5F-94F3-9583B081576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Group 13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6752-162C-40CF-83D4-C7DF03C6653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13728600"/>
              <a:gd name="textAreaBottom" fmla="*/ 13728960 h 13728600"/>
            </a:gdLst>
            <a:ahLst/>
            <a:rect l="textAreaLeft" t="textAreaTop" r="textAreaRight" b="textAreaBottom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63160 w 3157560"/>
              <a:gd name="textAreaRight" fmla="*/ 2894760 w 315756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8920 w 3230640"/>
              <a:gd name="textAreaRight" fmla="*/ 2961720 w 323064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F68D-D1C2-47C7-A757-690AFF222AC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4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Group 20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24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Group 25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30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Group 35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Group 37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Group 42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7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Group 52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Group 54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58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Group 59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64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Group 69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Group 71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oup 75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Group 76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81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Group 86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7ED3-0C96-4809-B7F2-C6BEE38156E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0879-FC88-4BC7-8E7C-9F6CCB88E82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160F-046C-44F5-BB85-674F9503832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8800 h 268560"/>
              <a:gd name="textAreaBottom" fmla="*/ 2397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8DF4-0F29-4701-A026-A3DC12D2DBD7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Group 4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Group 49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4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5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Group 66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68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9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>
                  <a:gd name="textAreaLeft" fmla="*/ 0 w 4302000"/>
                  <a:gd name="textAreaRight" fmla="*/ 4302360 w 4302000"/>
                  <a:gd name="textAreaTop" fmla="*/ 0 h 1842840"/>
                  <a:gd name="textAreaBottom" fmla="*/ 1843200 h 18428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>
                  <a:gd name="textAreaLeft" fmla="*/ 0 w 1635480"/>
                  <a:gd name="textAreaRight" fmla="*/ 1635840 w 163548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1191240"/>
                  <a:gd name="textAreaBottom" fmla="*/ 1191240 h 119124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>
              <a:gd name="textAreaLeft" fmla="*/ 0 w 2230560"/>
              <a:gd name="textAreaRight" fmla="*/ 2230560 w 22305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E41D-6685-4734-965B-9EB1CA13880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Group 12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Group 13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B032-B218-4C4F-9B51-9B83D4D96A4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0720 w 2504880"/>
              <a:gd name="textAreaRight" fmla="*/ 2234160 w 250488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4D26-6F9A-4B25-B759-674211976C6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5B37-1993-4A9D-BEFB-DEDDDC35515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>
              <a:gd name="textAreaLeft" fmla="*/ 401760 w 4824360"/>
              <a:gd name="textAreaRight" fmla="*/ 4422600 w 482436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B099-5A32-433D-BAE7-0654C13DD29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Group 18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Group 24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Group 30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cp:lastPrinted>1899-12-30T00:00:00Z</cp:lastPrinted>
  <dcterms:modified xsi:type="dcterms:W3CDTF">2016-08-22T03:11:59Z</dcterms:modified>
  <cp:revision>2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