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4E1-88D4-41F5-9753-80D67F98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2C0-9C9C-4E09-A0EE-A8AE7958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138-7BA8-4A47-9472-DBA8F546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A12-74A8-4606-9087-996FA57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908-5ED7-4201-AC5B-16D191B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E43-64FD-4A0E-86FF-A944DC3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E6F-D45A-4455-8C5C-11B5C9C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E3A-87FF-49E7-A720-E3F77CA7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27E-1DF7-4860-BA55-C0F038E2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C6E-13B7-49B6-AF2C-DE45EE5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1C3-B834-4C15-A4BF-592DC53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91E-11A8-4208-9C96-14A409E0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A3D5-88A4-40D6-99A5-12421BDA6C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83F1-B410-46CE-9909-4A7888B7A2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755760" y="7593120"/>
            <a:ext cx="20001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Curious</a:t>
            </a: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467760" y="7897680"/>
            <a:ext cx="2274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People Do To 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7150680" y="8202600"/>
            <a:ext cx="1152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6829"/>
                </a:solidFill>
                <a:latin typeface="Segoe Print"/>
              </a:rPr>
              <a:t>Sun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490040" y="431640"/>
            <a:ext cx="9783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14 Wild Ways People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66520" y="1447920"/>
            <a:ext cx="10945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oothe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Their</a:t>
            </a:r>
            <a:r>
              <a:rPr b="0" lang="en-US" sz="76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1" lang="en-US" sz="7600" spc="-1" strike="noStrike">
                <a:solidFill>
                  <a:srgbClr val="ec6829"/>
                </a:solidFill>
                <a:latin typeface="Adobe Gothic Std B"/>
                <a:ea typeface="Adobe Gothic Std B"/>
              </a:rPr>
              <a:t>Sunburns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1652760" y="5335560"/>
            <a:ext cx="3382920" cy="179532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638360" y="5321160"/>
            <a:ext cx="3411360" cy="1824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879560" y="5411880"/>
            <a:ext cx="2908440" cy="1495440"/>
          </a:xfrm>
          <a:prstGeom prst="pie">
            <a:avLst/>
          </a:prstGeom>
          <a:solidFill>
            <a:srgbClr val="9cb37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1866960" y="5398920"/>
            <a:ext cx="2935080" cy="1522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249640" y="5686560"/>
            <a:ext cx="2261880" cy="85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870360" y="6041880"/>
            <a:ext cx="693720" cy="790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3457440" y="5907240"/>
            <a:ext cx="703440" cy="753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056040" y="5776920"/>
            <a:ext cx="690480" cy="725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676600" y="5661000"/>
            <a:ext cx="709560" cy="69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2273400" y="5526000"/>
            <a:ext cx="720720" cy="682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12880" y="3873600"/>
            <a:ext cx="4660920" cy="466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7188120" y="50760"/>
            <a:ext cx="45468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5"/>
          <a:stretch/>
        </p:blipFill>
        <p:spPr>
          <a:xfrm>
            <a:off x="7594560" y="5448240"/>
            <a:ext cx="4559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8700840" y="6172200"/>
            <a:ext cx="2644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old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Milk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826280" y="2006640"/>
            <a:ext cx="29516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838160" y="2832120"/>
            <a:ext cx="33955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en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824840" y="228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6280" y="507960"/>
            <a:ext cx="26038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Ic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ub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683920" y="7696080"/>
            <a:ext cx="22150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lk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659800" y="8521560"/>
            <a:ext cx="27777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gu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'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re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682840" y="59180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8628120" y="6769080"/>
            <a:ext cx="135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t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1066680" y="-133200"/>
            <a:ext cx="424188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914400" y="-120600"/>
            <a:ext cx="4559400" cy="51926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309760" y="5826240"/>
            <a:ext cx="514440" cy="3055680"/>
          </a:xfrm>
          <a:prstGeom prst="pie">
            <a:avLst/>
          </a:prstGeom>
          <a:solidFill>
            <a:srgbClr val="f1e2d8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2392200" y="5035680"/>
            <a:ext cx="1787760" cy="3838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376360" y="5021280"/>
            <a:ext cx="1817640" cy="38685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701800" y="5035680"/>
            <a:ext cx="644760" cy="7365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2685960" y="5021280"/>
            <a:ext cx="676440" cy="765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701800" y="5035680"/>
            <a:ext cx="552600" cy="936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685960" y="5021280"/>
            <a:ext cx="584280" cy="122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2684520" y="6594480"/>
            <a:ext cx="1127160" cy="143820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2670120" y="6580080"/>
            <a:ext cx="1155600" cy="1468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2459160" y="6288120"/>
            <a:ext cx="1266840" cy="18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712960" y="8393040"/>
            <a:ext cx="1266840" cy="18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813040" y="5815080"/>
            <a:ext cx="425520" cy="493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917360" y="3271680"/>
            <a:ext cx="561960" cy="741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252160" y="3895560"/>
            <a:ext cx="1452600" cy="920880"/>
          </a:xfrm>
          <a:prstGeom prst="pie">
            <a:avLst/>
          </a:prstGeom>
          <a:solidFill>
            <a:srgbClr val="eb94a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229840" y="3881520"/>
            <a:ext cx="1490760" cy="95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217240" y="3868560"/>
            <a:ext cx="1515960" cy="12096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1217240" y="3868560"/>
            <a:ext cx="1515960" cy="960480"/>
          </a:xfrm>
          <a:prstGeom prst="pie">
            <a:avLst/>
          </a:prstGeom>
          <a:noFill/>
          <a:ln w="25560">
            <a:solidFill>
              <a:srgbClr val="564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8918640" y="2736720"/>
            <a:ext cx="1590480" cy="22482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8862840" y="4495680"/>
            <a:ext cx="1681200" cy="17964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848800" y="4481640"/>
            <a:ext cx="1709640" cy="207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9058320" y="2801880"/>
            <a:ext cx="1652400" cy="204480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726400" y="2771640"/>
            <a:ext cx="1366920" cy="1500480"/>
          </a:xfrm>
          <a:prstGeom prst="pie">
            <a:avLst/>
          </a:prstGeom>
          <a:solidFill>
            <a:srgbClr val="efcbcc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9858240" y="3600360"/>
            <a:ext cx="360" cy="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8988480" y="720720"/>
            <a:ext cx="1682640" cy="2149560"/>
          </a:xfrm>
          <a:prstGeom prst="pie">
            <a:avLst/>
          </a:prstGeom>
          <a:solidFill>
            <a:srgbClr val="efcbc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071000" y="1933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9090000" y="1879560"/>
            <a:ext cx="279360" cy="2793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264600" y="1731960"/>
            <a:ext cx="874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10159920" y="1789200"/>
            <a:ext cx="85680" cy="9828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5b494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8675640" y="444600"/>
            <a:ext cx="2301840" cy="1569960"/>
          </a:xfrm>
          <a:prstGeom prst="pie">
            <a:avLst/>
          </a:prstGeom>
          <a:solidFill>
            <a:srgbClr val="d7d7d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469440" y="1812960"/>
            <a:ext cx="284040" cy="44460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04480" y="3094200"/>
            <a:ext cx="1056960" cy="5918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32976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987120" y="3525840"/>
            <a:ext cx="52200" cy="52560"/>
          </a:xfrm>
          <a:prstGeom prst="pie">
            <a:avLst/>
          </a:prstGeom>
          <a:solidFill>
            <a:srgbClr val="442e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580680" y="4084560"/>
            <a:ext cx="734760" cy="336600"/>
          </a:xfrm>
          <a:prstGeom prst="pie">
            <a:avLst/>
          </a:prstGeom>
          <a:solidFill>
            <a:srgbClr val="f0e0d6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33040" y="2460600"/>
            <a:ext cx="274680" cy="152280"/>
          </a:xfrm>
          <a:prstGeom prst="pie">
            <a:avLst/>
          </a:prstGeom>
          <a:noFill/>
          <a:ln w="25560">
            <a:solidFill>
              <a:srgbClr val="452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888840" y="5270400"/>
            <a:ext cx="467388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7594560" y="406440"/>
            <a:ext cx="4559400" cy="934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2919240" y="7175520"/>
            <a:ext cx="775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HAZ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872440" y="6896160"/>
            <a:ext cx="8161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8453160" y="6032520"/>
            <a:ext cx="340884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Yogu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gur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reath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a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51320" y="330120"/>
            <a:ext cx="108673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itch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Haz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az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ti-inflamma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tringen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nimi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a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-irritat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956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YOG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776240" y="6554880"/>
            <a:ext cx="1525680" cy="213192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1884240" y="7910640"/>
            <a:ext cx="5580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920960" y="8145360"/>
            <a:ext cx="63360" cy="208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090880" y="796752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33720" y="8223120"/>
            <a:ext cx="331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2239920" y="8151840"/>
            <a:ext cx="475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2712960" y="7953480"/>
            <a:ext cx="57240" cy="507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749680" y="8188200"/>
            <a:ext cx="63360" cy="19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921040" y="8010360"/>
            <a:ext cx="2844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2962440" y="8265960"/>
            <a:ext cx="34920" cy="5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068640" y="8194680"/>
            <a:ext cx="4932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49552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282760" y="80564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346480" y="833292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708280" y="8502480"/>
            <a:ext cx="69840" cy="446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2835360" y="8312040"/>
            <a:ext cx="7128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027240" y="7950240"/>
            <a:ext cx="69840" cy="42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408400" y="8148600"/>
            <a:ext cx="53640" cy="4752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629080" y="8099280"/>
            <a:ext cx="44280" cy="69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517840" y="8345520"/>
            <a:ext cx="38160" cy="460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652840" y="8337600"/>
            <a:ext cx="39600" cy="666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762200" y="6540480"/>
            <a:ext cx="1554120" cy="21607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843280" y="6696000"/>
            <a:ext cx="185760" cy="20034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952720" y="6769080"/>
            <a:ext cx="162000" cy="1622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502000" y="6670800"/>
            <a:ext cx="141120" cy="141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489040" y="6656400"/>
            <a:ext cx="168480" cy="169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552760" y="6019920"/>
            <a:ext cx="1806480" cy="141264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990960" y="6607080"/>
            <a:ext cx="942840" cy="927360"/>
          </a:xfrm>
          <a:prstGeom prst="pie">
            <a:avLst/>
          </a:prstGeom>
          <a:solidFill>
            <a:srgbClr val="9a8f5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976560" y="6593040"/>
            <a:ext cx="970200" cy="955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8342280" y="33847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8469360" y="34290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8601120" y="344340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8702640" y="34574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8818560" y="34862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8962920" y="35305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9093240" y="354492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9194760" y="355932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9296280" y="3573360"/>
            <a:ext cx="1494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9428040" y="36162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572760" y="363204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674280" y="36464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761400" y="366084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9906120" y="3703680"/>
            <a:ext cx="14904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10037880" y="371808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0139400" y="3733920"/>
            <a:ext cx="14760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10240920" y="374796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10371240" y="3790800"/>
            <a:ext cx="147600" cy="15588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10497960" y="3805200"/>
            <a:ext cx="147960" cy="15552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8867880" y="8460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8970840" y="8398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90900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9240840" y="8571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9372600" y="8445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947412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95774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9713880" y="8478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9858240" y="83196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996156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004904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0201320" y="83520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0331280" y="8222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0433160" y="81612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0536120" y="8096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10672920" y="8254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0804680" y="82404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10909440" y="838080"/>
            <a:ext cx="123840" cy="174600"/>
          </a:xfrm>
          <a:prstGeom prst="pie">
            <a:avLst/>
          </a:prstGeom>
          <a:solidFill>
            <a:srgbClr val="c69c6d"/>
          </a:solidFill>
          <a:ln w="507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8448840" y="984240"/>
            <a:ext cx="2595240" cy="2830680"/>
          </a:xfrm>
          <a:prstGeom prst="pie">
            <a:avLst/>
          </a:prstGeom>
          <a:solidFill>
            <a:srgbClr val="c69c6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8434440" y="969840"/>
            <a:ext cx="2624040" cy="2859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9306000" y="1839960"/>
            <a:ext cx="1276200" cy="107460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9604440" y="2039760"/>
            <a:ext cx="793800" cy="668520"/>
          </a:xfrm>
          <a:prstGeom prst="pie">
            <a:avLst/>
          </a:prstGeom>
          <a:solidFill>
            <a:srgbClr val="c69c6d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1384200" y="5334120"/>
            <a:ext cx="4000680" cy="39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4"/>
          <a:stretch/>
        </p:blipFill>
        <p:spPr>
          <a:xfrm>
            <a:off x="7581960" y="165240"/>
            <a:ext cx="4749840" cy="474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469000" y="4851360"/>
            <a:ext cx="3362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Aloe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er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ool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w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o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er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ss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new.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novati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eez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we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&amp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re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740960" y="469800"/>
            <a:ext cx="35470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Earl</a:t>
            </a:r>
            <a:r>
              <a:rPr b="0" lang="en-US" sz="43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Gre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g?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bag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tra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lut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abb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s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o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35840" y="6845400"/>
            <a:ext cx="4150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</a:rPr>
              <a:t>t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7518240" y="4297320"/>
            <a:ext cx="4686480" cy="546912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774720" y="-120600"/>
            <a:ext cx="5194440" cy="558936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3"/>
          <p:cNvSpPr/>
          <p:nvPr/>
        </p:nvSpPr>
        <p:spPr>
          <a:xfrm>
            <a:off x="10639440" y="1657440"/>
            <a:ext cx="558720" cy="263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10625040" y="1643040"/>
            <a:ext cx="587520" cy="291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8353440" y="1657440"/>
            <a:ext cx="1028520" cy="425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8337600" y="1643040"/>
            <a:ext cx="1057320" cy="453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8217000" y="1655640"/>
            <a:ext cx="3166920" cy="1494000"/>
          </a:xfrm>
          <a:prstGeom prst="pie">
            <a:avLst/>
          </a:prstGeom>
          <a:solidFill>
            <a:srgbClr val="6ea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8204040" y="1641600"/>
            <a:ext cx="3194280" cy="1523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8217000" y="1778040"/>
            <a:ext cx="2989080" cy="1373040"/>
          </a:xfrm>
          <a:prstGeom prst="pie">
            <a:avLst/>
          </a:prstGeom>
          <a:solidFill>
            <a:srgbClr val="a5ba4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8204040" y="1762200"/>
            <a:ext cx="3016440" cy="1403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8248680" y="1778040"/>
            <a:ext cx="2927160" cy="1344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8234280" y="1762200"/>
            <a:ext cx="2955960" cy="13748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9242280" y="1886040"/>
            <a:ext cx="486000" cy="33156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9229680" y="1871640"/>
            <a:ext cx="512640" cy="360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9575640" y="2044800"/>
            <a:ext cx="69696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9563040" y="2030400"/>
            <a:ext cx="72396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0164600" y="1911240"/>
            <a:ext cx="500400" cy="31752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0150560" y="1897200"/>
            <a:ext cx="528480" cy="345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8353440" y="1778040"/>
            <a:ext cx="2717640" cy="124920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8337600" y="1762200"/>
            <a:ext cx="2747880" cy="12794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8931240" y="2098800"/>
            <a:ext cx="193680" cy="1458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8916840" y="2084400"/>
            <a:ext cx="220680" cy="174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9826560" y="2658960"/>
            <a:ext cx="125640" cy="2174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9813960" y="2644920"/>
            <a:ext cx="152280" cy="245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10039320" y="2263680"/>
            <a:ext cx="146160" cy="1936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10024920" y="2251080"/>
            <a:ext cx="174600" cy="2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506240" y="2305080"/>
            <a:ext cx="187200" cy="15228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0493280" y="2290680"/>
            <a:ext cx="214560" cy="1810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8993160" y="2530440"/>
            <a:ext cx="152280" cy="1872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8978760" y="2517840"/>
            <a:ext cx="181080" cy="2142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9472680" y="2352600"/>
            <a:ext cx="127080" cy="2160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9458280" y="2338560"/>
            <a:ext cx="155520" cy="2426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8429760" y="1876320"/>
            <a:ext cx="212760" cy="1303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8413920" y="1862280"/>
            <a:ext cx="241200" cy="156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0693440" y="1887480"/>
            <a:ext cx="276120" cy="155520"/>
          </a:xfrm>
          <a:prstGeom prst="pie">
            <a:avLst/>
          </a:prstGeom>
          <a:solidFill>
            <a:srgbClr val="b4020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0680840" y="1873080"/>
            <a:ext cx="303120" cy="1843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8217000" y="1657440"/>
            <a:ext cx="242640" cy="118800"/>
          </a:xfrm>
          <a:prstGeom prst="pie">
            <a:avLst/>
          </a:prstGeom>
          <a:solidFill>
            <a:srgbClr val="a9c23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204040" y="1643040"/>
            <a:ext cx="27000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234280" y="1643040"/>
            <a:ext cx="292320" cy="147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1090160" y="1655640"/>
            <a:ext cx="222480" cy="122400"/>
          </a:xfrm>
          <a:prstGeom prst="pie">
            <a:avLst/>
          </a:prstGeom>
          <a:solidFill>
            <a:srgbClr val="b6d13c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1076120" y="1641600"/>
            <a:ext cx="25056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1025360" y="1641600"/>
            <a:ext cx="271440" cy="149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240" y="0"/>
            <a:ext cx="4737240" cy="5595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2936880" y="5737320"/>
            <a:ext cx="1781280" cy="312732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2922480" y="5721480"/>
            <a:ext cx="1811520" cy="3159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949480" y="8666280"/>
            <a:ext cx="1805040" cy="21420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933640" y="8651880"/>
            <a:ext cx="1835280" cy="2430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060720" y="8631360"/>
            <a:ext cx="1531800" cy="10296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079800" y="6816600"/>
            <a:ext cx="1380960" cy="9540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3436920" y="5657760"/>
            <a:ext cx="806400" cy="6573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3422520" y="5643720"/>
            <a:ext cx="835200" cy="685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3486240" y="5664240"/>
            <a:ext cx="693720" cy="243000"/>
          </a:xfrm>
          <a:prstGeom prst="pie">
            <a:avLst/>
          </a:prstGeom>
          <a:solidFill>
            <a:srgbClr val="17598d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3470400" y="5648400"/>
            <a:ext cx="723600" cy="2728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422520" y="7051680"/>
            <a:ext cx="1209960" cy="14158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3406680" y="7035840"/>
            <a:ext cx="1239840" cy="14461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3843360" y="7880400"/>
            <a:ext cx="24300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378320" y="7875720"/>
            <a:ext cx="212760" cy="277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3652920" y="7458120"/>
            <a:ext cx="214200" cy="272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3905280" y="7473960"/>
            <a:ext cx="22068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365720" y="7453440"/>
            <a:ext cx="223920" cy="274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1576440" y="7386480"/>
            <a:ext cx="1681200" cy="147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1563840" y="7373880"/>
            <a:ext cx="1706400" cy="1498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1563840" y="7915320"/>
            <a:ext cx="1706400" cy="9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2548080" y="7661160"/>
            <a:ext cx="423720" cy="5176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1717560" y="7731000"/>
            <a:ext cx="704880" cy="61308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2054160" y="7380360"/>
            <a:ext cx="808200" cy="550800"/>
          </a:xfrm>
          <a:prstGeom prst="pie">
            <a:avLst/>
          </a:prstGeom>
          <a:solidFill>
            <a:srgbClr val="ffffff"/>
          </a:solidFill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888840" y="5486400"/>
            <a:ext cx="4254840" cy="41781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3"/>
          <a:stretch/>
        </p:blipFill>
        <p:spPr>
          <a:xfrm>
            <a:off x="7505640" y="266760"/>
            <a:ext cx="4673520" cy="9486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605440" y="4788000"/>
            <a:ext cx="3386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Watermel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soci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atermelo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kout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m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jui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ru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e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direct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1760400" y="355680"/>
            <a:ext cx="3301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Shav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rea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hav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ea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nclud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glycer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ich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ee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oistur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lp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yd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4"/>
          <p:cNvSpPr/>
          <p:nvPr/>
        </p:nvSpPr>
        <p:spPr>
          <a:xfrm>
            <a:off x="1715400" y="510552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9764640" y="2733840"/>
            <a:ext cx="1538280" cy="13586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9750600" y="2730600"/>
            <a:ext cx="1571400" cy="13748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239480" y="2664000"/>
            <a:ext cx="718920" cy="1854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563120" y="2604960"/>
            <a:ext cx="112680" cy="16056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786880" y="2876400"/>
            <a:ext cx="1914480" cy="1686240"/>
          </a:xfrm>
          <a:prstGeom prst="pie">
            <a:avLst/>
          </a:prstGeom>
          <a:solidFill>
            <a:srgbClr val="ed1c2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72480" y="2873520"/>
            <a:ext cx="1947960" cy="1695240"/>
          </a:xfrm>
          <a:prstGeom prst="pie">
            <a:avLst/>
          </a:prstGeom>
          <a:solidFill>
            <a:srgbClr val="442f25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169560" y="2774880"/>
            <a:ext cx="873000" cy="295200"/>
          </a:xfrm>
          <a:prstGeom prst="pie">
            <a:avLst/>
          </a:prstGeom>
          <a:solidFill>
            <a:srgbClr val="6eaa43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9540720" y="2728800"/>
            <a:ext cx="111240" cy="193680"/>
          </a:xfrm>
          <a:prstGeom prst="pie">
            <a:avLst/>
          </a:prstGeom>
          <a:solidFill>
            <a:srgbClr val="5c4a47"/>
          </a:solidFill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28880" y="-7920"/>
            <a:ext cx="4241520" cy="44416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130400" y="4851360"/>
            <a:ext cx="4190760" cy="4305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175520" y="1079640"/>
            <a:ext cx="5359320" cy="86738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1745640" y="698400"/>
            <a:ext cx="29282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Cucumb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8494200" y="7277040"/>
            <a:ext cx="3283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aim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mato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ubb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8475480" y="8521560"/>
            <a:ext cx="2805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ens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8505000" y="61848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485200" y="6451560"/>
            <a:ext cx="26892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omato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1743480" y="1600200"/>
            <a:ext cx="23266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'v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hear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65080" y="2019240"/>
            <a:ext cx="30549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cumber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ir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yes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ink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o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754640" y="3251160"/>
            <a:ext cx="29487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774080" y="444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3"/>
          <p:cNvSpPr/>
          <p:nvPr/>
        </p:nvSpPr>
        <p:spPr>
          <a:xfrm>
            <a:off x="1143000" y="0"/>
            <a:ext cx="4229280" cy="445284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2014560" y="5477040"/>
            <a:ext cx="2190600" cy="259056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2000160" y="5460840"/>
            <a:ext cx="2220840" cy="26226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379600" y="5530680"/>
            <a:ext cx="1563840" cy="395280"/>
          </a:xfrm>
          <a:prstGeom prst="pie">
            <a:avLst/>
          </a:prstGeom>
          <a:solidFill>
            <a:srgbClr val="b2d6de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363760" y="5514840"/>
            <a:ext cx="1593720" cy="4255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435400" y="5397480"/>
            <a:ext cx="1488960" cy="333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2419200" y="5383080"/>
            <a:ext cx="1519560" cy="3621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3049560" y="6780240"/>
            <a:ext cx="193680" cy="1922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3398760" y="6800760"/>
            <a:ext cx="157320" cy="17964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3755880" y="6772320"/>
            <a:ext cx="163800" cy="19188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929040" y="6743880"/>
            <a:ext cx="173160" cy="198360"/>
          </a:xfrm>
          <a:prstGeom prst="pie">
            <a:avLst/>
          </a:prstGeom>
          <a:solidFill>
            <a:srgbClr val="00b0d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4105440" y="4581360"/>
            <a:ext cx="846000" cy="2298960"/>
          </a:xfrm>
          <a:prstGeom prst="pie">
            <a:avLst/>
          </a:prstGeom>
          <a:solidFill>
            <a:srgbClr val="b3b3b3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089240" y="4567320"/>
            <a:ext cx="876600" cy="232704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8532720" y="2722680"/>
            <a:ext cx="425520" cy="5857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8346960" y="1825560"/>
            <a:ext cx="2749680" cy="2311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8818560" y="2000160"/>
            <a:ext cx="2138400" cy="90648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8802720" y="1984320"/>
            <a:ext cx="2171520" cy="9381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880480" y="2076480"/>
            <a:ext cx="1914480" cy="7128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9032760" y="2898720"/>
            <a:ext cx="1790640" cy="28260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756720" y="2362320"/>
            <a:ext cx="434880" cy="99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9740880" y="234648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9717120" y="2158920"/>
            <a:ext cx="303120" cy="246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9701280" y="2141640"/>
            <a:ext cx="3348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9567720" y="2095560"/>
            <a:ext cx="1396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9551880" y="2079720"/>
            <a:ext cx="173160" cy="320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252000" y="2220840"/>
            <a:ext cx="357120" cy="1922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9236160" y="2205000"/>
            <a:ext cx="388800" cy="223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9134640" y="2425680"/>
            <a:ext cx="434880" cy="9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9118440" y="2409840"/>
            <a:ext cx="468360" cy="131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9306000" y="2484360"/>
            <a:ext cx="30456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9290160" y="2467080"/>
            <a:ext cx="336600" cy="279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9618840" y="2506680"/>
            <a:ext cx="137880" cy="28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9601200" y="2489040"/>
            <a:ext cx="171360" cy="322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9718560" y="2478240"/>
            <a:ext cx="355680" cy="191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9702720" y="2460600"/>
            <a:ext cx="387360" cy="2253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9736200" y="2460600"/>
            <a:ext cx="407880" cy="135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9718560" y="2444760"/>
            <a:ext cx="441360" cy="1681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9745560" y="2238480"/>
            <a:ext cx="389160" cy="187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9729720" y="2222640"/>
            <a:ext cx="420840" cy="2188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9640800" y="2092320"/>
            <a:ext cx="133560" cy="289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9624960" y="2075040"/>
            <a:ext cx="166680" cy="32220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9366120" y="2152800"/>
            <a:ext cx="27468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9350280" y="2136600"/>
            <a:ext cx="306360" cy="27792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9188280" y="2309760"/>
            <a:ext cx="419400" cy="120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9172440" y="2293920"/>
            <a:ext cx="451080" cy="15228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9215280" y="2460600"/>
            <a:ext cx="395280" cy="181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9199440" y="2444760"/>
            <a:ext cx="427320" cy="2127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9686880" y="2484360"/>
            <a:ext cx="276120" cy="24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9671040" y="2467080"/>
            <a:ext cx="308160" cy="2775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9550440" y="2373480"/>
            <a:ext cx="222120" cy="142560"/>
          </a:xfrm>
          <a:prstGeom prst="pie">
            <a:avLst/>
          </a:prstGeom>
          <a:solidFill>
            <a:srgbClr val="fcf49b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9532800" y="2357280"/>
            <a:ext cx="255600" cy="174960"/>
          </a:xfrm>
          <a:prstGeom prst="pie">
            <a:avLst/>
          </a:prstGeom>
          <a:noFill/>
          <a:ln w="381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309680" y="9331200"/>
            <a:ext cx="163440" cy="19368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888840" y="9258480"/>
            <a:ext cx="419400" cy="279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4"/>
          <a:stretch/>
        </p:blipFill>
        <p:spPr>
          <a:xfrm>
            <a:off x="7810560" y="901800"/>
            <a:ext cx="4191120" cy="4178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5"/>
          <a:stretch/>
        </p:blipFill>
        <p:spPr>
          <a:xfrm>
            <a:off x="7823160" y="5308560"/>
            <a:ext cx="4241880" cy="444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8696160" y="7632720"/>
            <a:ext cx="29134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nothe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up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pra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hamomi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e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rn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8682840" y="594360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8683560" y="6222960"/>
            <a:ext cx="310212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Chamomi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Te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1749600" y="1600200"/>
            <a:ext cx="30204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igh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lik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ext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LT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lk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ppl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rispy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kin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1748520" y="431640"/>
            <a:ext cx="166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1755720" y="711360"/>
            <a:ext cx="33001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Mayonnai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3"/>
          <p:cNvSpPr/>
          <p:nvPr/>
        </p:nvSpPr>
        <p:spPr>
          <a:xfrm>
            <a:off x="8591400" y="1044720"/>
            <a:ext cx="2216160" cy="2892240"/>
          </a:xfrm>
          <a:prstGeom prst="pie">
            <a:avLst/>
          </a:prstGeom>
          <a:solidFill>
            <a:srgbClr val="ec682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8578800" y="1028880"/>
            <a:ext cx="2244600" cy="29206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8585280" y="1463760"/>
            <a:ext cx="628560" cy="246204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8570880" y="1447920"/>
            <a:ext cx="655560" cy="249228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9142560" y="1573200"/>
            <a:ext cx="1649160" cy="222120"/>
          </a:xfrm>
          <a:prstGeom prst="pie">
            <a:avLst/>
          </a:prstGeom>
          <a:solidFill>
            <a:srgbClr val="daa98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9128160" y="1558800"/>
            <a:ext cx="1679400" cy="25092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9120240" y="1044720"/>
            <a:ext cx="280800" cy="209520"/>
          </a:xfrm>
          <a:prstGeom prst="pie">
            <a:avLst/>
          </a:prstGeom>
          <a:solidFill>
            <a:srgbClr val="c155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9105840" y="1028880"/>
            <a:ext cx="309600" cy="2379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8916840" y="1092240"/>
            <a:ext cx="1000440" cy="711000"/>
          </a:xfrm>
          <a:prstGeom prst="pie">
            <a:avLst/>
          </a:prstGeom>
          <a:solidFill>
            <a:srgbClr val="5c4a4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8902800" y="1077840"/>
            <a:ext cx="1028520" cy="73980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186840" y="2297160"/>
            <a:ext cx="1341360" cy="844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9172440" y="2282760"/>
            <a:ext cx="1368720" cy="873360"/>
          </a:xfrm>
          <a:prstGeom prst="pie">
            <a:avLst/>
          </a:prstGeom>
          <a:noFill/>
          <a:ln w="25560">
            <a:solidFill>
              <a:srgbClr val="442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89080" y="9264600"/>
            <a:ext cx="203040" cy="255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696960" y="9329760"/>
            <a:ext cx="169920" cy="1951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6464160" y="1009800"/>
            <a:ext cx="127080" cy="7746840"/>
          </a:xfrm>
          <a:prstGeom prst="pie">
            <a:avLst/>
          </a:prstGeom>
          <a:noFill/>
          <a:ln w="633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95360" y="9321840"/>
            <a:ext cx="20304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88840" y="0"/>
            <a:ext cx="5118120" cy="9537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7404120" y="520560"/>
            <a:ext cx="4876920" cy="92329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9445680" y="2349360"/>
            <a:ext cx="9014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BA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5362560" y="4102200"/>
            <a:ext cx="2858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V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5434920" y="4267080"/>
            <a:ext cx="1728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8353440" y="5626080"/>
            <a:ext cx="3521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Baking</a:t>
            </a:r>
            <a:r>
              <a:rPr b="0" lang="en-US" sz="4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en-US" sz="4500" spc="-1" strike="noStrike">
                <a:solidFill>
                  <a:srgbClr val="ec6829"/>
                </a:solidFill>
                <a:latin typeface="微软雅黑"/>
              </a:rPr>
              <a:t>Sod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"/>
          <p:cNvSpPr/>
          <p:nvPr/>
        </p:nvSpPr>
        <p:spPr>
          <a:xfrm>
            <a:off x="8348760" y="2629080"/>
            <a:ext cx="3398400" cy="65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</a:rPr>
              <a:t>S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da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aking,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known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pla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xic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clean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eopl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reduc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itch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1562760" y="1739880"/>
            <a:ext cx="322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mayb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ref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pickling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yourself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we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vinega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500" spc="-1" strike="noStrike">
                <a:solidFill>
                  <a:srgbClr val="4d4d4f"/>
                </a:solidFill>
                <a:latin typeface="微软雅黑"/>
              </a:rPr>
              <a:t>sunbur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1582200" y="457200"/>
            <a:ext cx="21268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ealth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200" spc="-1" strike="noStrike">
                <a:solidFill>
                  <a:srgbClr val="4d4d4f"/>
                </a:solidFill>
                <a:latin typeface="微软雅黑"/>
              </a:rPr>
              <a:t>H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c6829"/>
                </a:solidFill>
                <a:latin typeface="微软雅黑"/>
              </a:rPr>
              <a:t>Vineg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605200" y="4089240"/>
            <a:ext cx="799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4083120" y="2803680"/>
            <a:ext cx="4838760" cy="1108080"/>
          </a:xfrm>
          <a:prstGeom prst="pie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5711760" y="3100320"/>
            <a:ext cx="382680" cy="47952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6477120" y="3224160"/>
            <a:ext cx="315720" cy="36360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7623000" y="3224160"/>
            <a:ext cx="304920" cy="363600"/>
          </a:xfrm>
          <a:prstGeom prst="pie">
            <a:avLst/>
          </a:prstGeom>
          <a:solidFill>
            <a:srgbClr val="5d5a5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0" y="9156600"/>
            <a:ext cx="13004640" cy="596880"/>
          </a:xfrm>
          <a:prstGeom prst="pie">
            <a:avLst/>
          </a:prstGeom>
          <a:solidFill>
            <a:srgbClr val="4d4d4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393840" y="5880240"/>
            <a:ext cx="12141000" cy="50760"/>
          </a:xfrm>
          <a:prstGeom prst="pie">
            <a:avLst/>
          </a:prstGeom>
          <a:noFill/>
          <a:ln w="25560">
            <a:solidFill>
              <a:srgbClr val="4c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4289400" y="2998800"/>
            <a:ext cx="677880" cy="676440"/>
          </a:xfrm>
          <a:prstGeom prst="pie">
            <a:avLst/>
          </a:prstGeom>
          <a:solidFill>
            <a:srgbClr val="00afd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4405320" y="3111480"/>
            <a:ext cx="446040" cy="473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095880" y="32130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6845400" y="3086280"/>
            <a:ext cx="406440" cy="50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7251840" y="3213000"/>
            <a:ext cx="355320" cy="381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"/>
          <p:cNvSpPr/>
          <p:nvPr/>
        </p:nvSpPr>
        <p:spPr>
          <a:xfrm>
            <a:off x="711360" y="6172200"/>
            <a:ext cx="1184904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isclaimer: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doct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fession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healthca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provide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tart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ment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rma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nfographic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medic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dvi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treat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微软雅黑"/>
              </a:rPr>
              <a:t>s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200280" y="7480440"/>
            <a:ext cx="607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3767400" y="7670880"/>
            <a:ext cx="6393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lifehacker.com/5872588/freeze-aloe-vera-in-ice-for-soothing-cooling-sunburn-rel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3316320" y="7873920"/>
            <a:ext cx="7460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complex.com/style/2013/02/50-life-hacks-that-will-make-you-more-stylish/earl-grey-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3745080" y="8064360"/>
            <a:ext cx="63190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voices.yahoo.com/the-three-best-natural-sunburn-remedies-3856478.html?cat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504320" y="8267760"/>
            <a:ext cx="4665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parents.com/kids/safety/outdoor/sunburn-remedi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3632400" y="8458200"/>
            <a:ext cx="66225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微软雅黑"/>
              </a:rPr>
              <a:t>http://www.urmc.rochester.edu/encyclopedia/content.aspx?contenttypeid=1&amp;contentid=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2622240" y="1587600"/>
            <a:ext cx="784656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Click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her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o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view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the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full</a:t>
            </a:r>
            <a:r>
              <a:rPr b="0" lang="en-US" sz="35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 </a:t>
            </a:r>
            <a:r>
              <a:rPr b="0" lang="en-US" sz="3500" spc="-1" strike="noStrike">
                <a:solidFill>
                  <a:srgbClr val="00afd0"/>
                </a:solidFill>
                <a:latin typeface="Adobe Gothic Std B"/>
                <a:ea typeface="Adobe Gothic Std B"/>
              </a:rPr>
              <a:t>infographic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for_yang@qq.com</cp:lastModifiedBy>
  <dcterms:modified xsi:type="dcterms:W3CDTF">2014-07-19T14:22:2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