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62F-1EDF-4EB9-8E48-A67A61BB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E38-D972-4695-B419-1E54B6A1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69C76-BCC5-4134-8B1C-14816DD7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AB027-9AA3-4FE8-8BFB-AB78923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D4E79-FE80-4758-8737-AB88656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9F1C0-F482-4310-BD94-2026B6A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4E967-2808-4127-8C4A-0BE9ECA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7C83-990C-4DB7-9DE7-DB3F8995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7DCE2-D840-48B4-88F8-364D23B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6BB80-6C88-4183-8324-E600C2FC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61197-4821-4B40-AD5E-109527C6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5A45-7B13-47DA-9306-A7114CBA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788-7B11-43C7-BF9F-07A47CFD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B6789-052D-4F81-8687-A31BAB71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2E24-EF00-4E7F-8E9D-9069F7E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F6B5F-6032-403C-A7BA-E6E9E2E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54BD-2249-4957-9020-C965169A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A182A-DF37-45CD-AEF4-87746B2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053AA-F1C1-4109-9B93-56BCCF1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62EF5-9FA6-4E75-8238-F4C2539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5770E-193D-4F9A-89E8-A10FB3C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361E6-2593-486C-8F02-834561A8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40D7F-BDC0-475F-BF1A-722A621E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C8C-D3F4-4D20-B187-FFD2B602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5F397-C34B-40EE-BE19-97EAA97E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C2A7C-64EE-44C5-9C69-1A070D09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ADDA-7209-4413-B27C-1B5AC26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D38B-899E-4705-95F5-F673020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7B74-CEC4-40AC-912A-ECC1ED1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A46BD-3199-410C-9665-85A292EA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98FA-3A09-40D9-91F1-6682FCED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DE40-62A7-4410-844D-D830E17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AA8AE-D9A4-4743-91D5-B2BF33C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CD8F-63D3-4715-87A8-1E015E0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7B4-DA78-48E5-848C-1760D11D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2EDD2-3DF6-4F3F-ADC1-EC5AFEA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BFFF1-E458-4B34-AA7B-78DB4E60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3D4C-82D4-4F15-8135-4CBEF95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63746-61DF-43C4-9102-00B50C48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E6FE1-FBCC-4916-8853-88D6CDC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61E09-C420-4154-A38D-3154F650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87C67-3380-4638-B517-95D98C8E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4182D-A930-4661-92C4-BB099F9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7A58-327C-421B-BD30-6866FB69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20F76-6B14-44FE-9F61-273B632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D28D-3961-44B0-8F17-6FDEACC4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D0CA4-09E2-467D-B3D5-36C8B0D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90951-6EC1-4C0F-AF6B-1F4AF89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453B3-FE68-4A21-B1C5-53ED481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FEDEF-3A66-4FA9-B981-BBE02FD6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40059-3481-42E2-B832-FA900D3B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4C7-B835-4171-83D3-DB627B8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7DE1-DE5D-4273-AA32-8EA6D4F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0BD1-79D1-486E-92A0-A8FF94B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008-9D79-4236-BB48-B066CE1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293-8CBB-4C8E-B763-A14082A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BDE-BD23-4F06-B3E3-6C4CE80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9DB-1D59-4F75-8FE5-033A3BE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C0BA-A7B8-4E50-8FB0-78E8F00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1902-9F15-456D-AECC-0DA2065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1CE7-4591-48A1-A5EE-D5D2C746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E7AB-A7EB-4B12-9886-01E26015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2EDE-ADCE-476B-8BA4-7292F0FB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D8CA-90F0-44BC-90F8-33F5A392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BFE0-47F3-472A-B478-08534636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0655-C025-43CB-8534-9A9B3AF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53B5-0AD2-4509-AA75-9380DE4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485-6F56-4F69-A749-4E3BFD0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ED60-5788-48D7-B780-08DA91D8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F02E-33FB-4E46-8831-8E5CFDE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0F56-5CEF-49DC-A14E-D55054B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B93A-8C6D-4CE1-B9CA-D83E5EE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DDE2-AA5C-4F71-BE9B-BA4AF33F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53B7-EF90-48D6-A93E-0BD9380E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E849-8DE0-4DDA-AA34-9D850308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A04E-B680-4404-A891-ED3B3EEC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6294-816E-4F67-8646-2EBACA0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2EC0-88FF-46D8-A9BF-7D13C6C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0BE-1168-48EC-ACAF-9C32242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6858-1777-4033-821A-FD76DA5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8211-4BB7-4BF5-9635-4DD72E6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4468-7070-4D17-959F-73CD0BE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8B9C-DF5C-4190-A8D6-7E4D892F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81E9F-9799-4F66-9BB8-59C75E4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9028-D701-4A38-95E8-639129A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E3C81-DF67-4289-9978-7B9552D2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D283-8340-42E3-9A3F-77D839FE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5410-E61C-4AB2-8BD8-58E2D0C7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BC34-0336-49B6-9358-9AA0A5F2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A2E-56C9-423B-8372-EB759DB0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E4DC-C10A-491F-AA98-B908A20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3474-257F-4C55-8376-E2E0461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780F-F2DF-4F2A-B45C-D293E09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BEE8-9A0F-4C84-8B34-E065DA4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0EBA-B19C-4540-94ED-2642B65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42E4-5B3B-4579-B19A-92D1D95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0C8D-F5E0-4DBE-8A65-F18396C7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3C42-77FD-49A6-802F-D7128C1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3B58-CF51-4828-9790-82F1C78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9CEE-4F3E-4B9A-B188-943DB0CC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F82-D525-4A52-95D0-FA8AE9D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DAA9E-9D31-4DA9-B294-5445B612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9859-5CCD-40B9-8FE8-C70F9823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F6D2-A81A-4BBA-848F-20538EC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C5BE-A050-4EDB-876E-1E75789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CA77-3752-4A26-8695-0ACC0DD2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F309-2328-4EFC-8E40-A72D77E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06AE-7722-4EBB-812A-FEC2465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6BC8-D041-420B-99D4-F98E0C99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01EF-49A9-4D30-9C77-5D82D02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7D01-6E50-4033-AFF2-67A77999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A4D-4B06-4D6A-8785-FEDDE55E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9BFB-17A1-4C9F-89D9-319E73FE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B99D-33F8-4A82-BEA0-14557E95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9DC3-0BBA-4C96-9289-A7F5A0E7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D391-33EA-41F8-A9E2-D32E3F8A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A4C64-454A-4871-9816-DE205B7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BEB5B-A38E-48C0-B61F-2EA919E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81CF-28CE-4505-A5C3-875D382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4CDD-FDB1-4EAD-9DDB-B5FC039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8B8EB-0D0D-4671-A1D6-54C22CD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E628-44DB-4DCD-8595-E82A0C4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56F-B544-4A00-BCCA-BC99949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8991-99A0-4D25-8AAC-AA90F57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C7246-2933-481E-9F7D-AA3797A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3D275-342F-4A4A-9DB8-B7DCB8B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9844-C39C-4E18-873C-3B383A25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CB00-B3A9-4EA6-B096-AAD1C06E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E4FC4-2C3D-4A62-8E83-4C10117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27B1C-0BEF-49DB-BC97-AA58165F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EE0A-1DE3-47F1-A655-829DAAFA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6E62-DB49-4AD2-AF9D-A8687399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43E56-BA04-45EC-80BB-8017F2DA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CEE-CA0B-4600-A24C-42E5FAC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3D608-A8B9-4238-ACCC-B4E822B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5509-4A42-4EA6-B4EC-F9F7B9D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AFEFE-77EA-4C09-B95F-6D1A018C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CB699-BE54-43BC-BAD5-29A9E2CD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A9F7B-19FA-4FA4-8701-9F6E6C48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A5B8-7879-4230-A86D-77C11B2B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0E63-50F2-4342-B1A1-B10CF76B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7C6F5-862C-4322-8802-8E798175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0F3D3-E338-40A3-A958-EEDFDC1D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645E1-FA72-450F-9C6E-5ADF49F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D8F3-D110-4023-AE8B-8A8CC044AD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F82-A154-423D-BBDF-1D1AB47237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95E-1BA2-4F70-BF48-CA0AC6D2C7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7EA-507E-4999-92B6-9A6A8C5519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777-6D65-4579-A0A4-400F1CA9AB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CEB6-435D-48E8-B191-C2D3003C95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C4C-5053-4FC3-B7E5-B90EA7EB53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D6BA-6D4F-4BF4-A27C-B23D72724D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CFD6-E9B8-4CA5-A736-6D545F202AA8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6D3-1F8D-4D5A-A133-CA992B09B790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5DD0-4D42-4841-B8E9-A41CBC4A97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82CB-50F8-41B4-BFAF-D927F9B333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B79-383B-4AB2-BA81-585F72FDEF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677-D65C-4544-BA12-91B50CF7C9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93A-4390-4878-815B-DC80AA6F92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B8D-F97D-4737-8F04-738920A894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4849-10CA-4830-A4ED-089E85733B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2981-E7A3-4687-9D91-F167B4CA65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EB81-45DB-48B8-8D42-73B18B3FC0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BAB-A8F8-4130-B08A-125123FF39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0F58-5B39-41A1-A5E9-A858249DFB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6C4-6CE9-4EC2-A989-DB932AF997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803-FFEA-4F13-8DE2-E725DC5662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2FA-CF3E-45FF-ACE2-BE1BF938F3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daxue101.100get.c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  <a:ea typeface="宋体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  <a:ea typeface="宋体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  <a:ea typeface="宋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-91296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玩转大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 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  <a:ea typeface="宋体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  <a:ea typeface="宋体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  <a:ea typeface="宋体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  <a:ea typeface="宋体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cp:keywords/>
  <dc:language>en-US</dc:language>
  <cp:lastModifiedBy>BST-WLZ</cp:lastModifiedBy>
  <dcterms:modified xsi:type="dcterms:W3CDTF">2015-05-14T06:33:12Z</dcterms:modified>
  <cp:revision>367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