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511D-2666-44B5-8F56-1C23EEFC76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2E9E-B86E-45FC-BE0B-BD7D8B6D45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BD1D-330A-462A-A933-7535D52F66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A31-859C-4A8D-9026-81B3AA44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9B1-B32D-40D4-86AC-83632242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5E0-7CB9-4023-810C-367D4547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C6F-0C70-46D2-874A-F8270655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941-817F-4262-9FE1-E39DCE6E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F50-29C2-44BB-A398-83D3CF6E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F26-F46C-4EF2-9888-A8CC5AAB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9D6-3DB6-4AA4-A22B-DA5A2D1C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E00-56C0-4D57-AE71-9BD699FF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DB9-6A6A-4813-AFF5-2B91EC4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B99-7EF2-47E5-9A13-FD78AB32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B9A-416A-45B0-8A8C-18596A47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78C1-77B6-4211-95E6-55F2C546F0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my</cp:lastModifiedBy>
  <dcterms:modified xsi:type="dcterms:W3CDTF">2015-11-24T06:24:15Z</dcterms:modified>
  <cp:revision>4</cp:revision>
  <dc:subject/>
  <dc:title>PowerPoint 演示文稿</dc:title>
</cp:coreProperties>
</file>