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4F88B-EB88-4E66-84FF-CBE447F5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283DF-C115-4FC6-BD06-47988741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FD4E1-834B-4371-8156-6394F58F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5D7F0-2B48-411F-A3C9-5BA2D44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889C5-93D6-4A09-925E-5706D532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B3490-2033-4229-80D2-0B3FACD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B1EC0-785D-4B75-8CD7-3F0B1779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807A9-DD37-4DC3-A1E6-F8E5A1E4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6028C-3D3A-4C31-A2AF-8B0E373B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33EA8-524C-45E8-8118-EC181D56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64BB8-D85D-4535-BFF4-BF15D61F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36516-BF74-491B-889E-1FF558F8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2E690-28CC-4B72-82D3-342281CE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DB779-0319-4D56-B88B-B5EC2994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7AD0F-480C-4888-9145-72E62A6E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820A8-9773-4668-9F46-A108606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95D7C-84A3-4F39-AB60-D9966B1A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F78C8-8903-4F4D-8A8F-C98B7C0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838E4-94CC-4D45-A3D2-D06FBA3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AF12D-7A37-447C-B78C-8A533E33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6BA9A-44A5-46C0-95FF-1D5D010D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B80D5-931E-411A-BFE3-367BC712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BDD38-0B7E-4C50-9D32-BE19EF5A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55924-6A15-47F6-9881-CF8779F6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BE2F9-277D-4687-9CDD-8AA061C2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8D78B-7907-4366-930D-9B40127F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26B9A-03B6-447A-A3FF-63531DEA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A30CE-3984-4B88-87CD-4B48EA6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21375-1DA9-45C6-B804-A0969681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1E93F-5C85-46BD-BA11-9DAAD1BC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198-4271-40A4-8F87-440336CD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25647-2938-486C-8405-4334BCD7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86DE6-AEEE-4D3F-8258-79256ECE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01746-0D69-4FAF-BEFA-043F5796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CD0D4-EE58-4781-A2C9-4244C2E1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DC66E-612C-4521-BF57-52F16281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9C81D-746E-4645-8F19-989EFC51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066E7-AA17-4FAB-906E-268BB74B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68EE0-ACAE-4A1A-9910-D098FAA8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A86C9-6DED-4824-8976-CFE1869B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FC428-FD57-4D0A-BE26-5AE2492E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24E-8563-4A78-A2CD-4C9873B4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ADAA1-126E-4DF8-B005-1EAEFE9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D7E50-752C-403D-A589-FEBAF40F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7135B-09ED-49F3-978F-FF2E757B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5BC12-983A-4928-B807-9089F11B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474F2-D9C2-4F4E-94D2-303C20F5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14ABF-33C7-49AF-8351-AFD6E027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ACB4D-DBF9-4BF8-90AB-613663A2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FF83B-8CF1-4E2F-A3C8-39BCBA80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563A1-DA01-4DB6-85A1-4E35E990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BF57E-6AEF-4317-974D-A8508068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DC9-ADFD-4E92-B106-80B9B159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9EF32-D7CB-413E-9D6C-73FB2A56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AC99D-74C8-4E6E-8426-7B071B1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0A77B-B2B5-4AEB-A57A-0BFAC20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576D9-EAD8-4FA0-A53F-440F902D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D3A5C-EA95-4738-8CD7-E87BA5D1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3C484-B828-457E-9EF9-B2AA141B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1F2F9-F361-4626-8493-3B633746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4D4-6F3B-4395-BBC0-70856143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92A-14C7-47AF-BBBA-A153FB4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B3B-5315-4796-B6BC-10CCB73A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566-0F62-4E42-920A-8B517DA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460-1E7D-4765-A786-397B5DB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593-F87A-42BE-8392-08FF681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FDA-10A0-4DD2-86FF-956115FD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564-0967-4462-BC0C-D86531B7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C05-23F8-4D1D-BD34-AD9EE97A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B95E-6AEB-468C-B0AA-BB4E4ADC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444A-B0DC-4684-9494-826D008C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AC81-3CBF-43D4-B4B8-77F5F2CA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8903-53D5-47E4-A4FF-3EF1E339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5753-A92C-43B1-B1BF-EF28CF5B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2C60-8FFA-438E-B17E-38765E34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B402-0F7C-48C9-B20D-D087BB6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D980-CD9D-4CD8-9BC1-32CA8063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FF90-2158-4435-B423-FED2E79E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D12E-9821-417C-B2AD-8002127B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2F5E-34A2-46FB-95AF-0EB0A246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13A6-B4FB-48C0-A589-789C18FF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84B5-7FD8-4567-856D-67052D70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E6979-FE44-4B89-AAB9-7DAFC1BB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C01AB-A7A0-40CE-9CBA-089863D8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D697E-3C95-4538-955F-F12BB075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1F0BF-636F-46A7-BBCC-31F7E686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2634-74C5-46A4-9668-FD8E0B4D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0A79-CEFF-4356-8578-3E4F7C3D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1E6A-37A6-4C37-B9F3-316CB63B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9EA7-863C-4815-B8C2-035C62E3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3659-D656-4796-BE1B-523F3E8A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87B6-D24F-4458-8802-8C1ED93F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58455-7CBB-4365-8C48-9FC13044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D0DE-5741-41C3-8E3E-59ECF72F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B249-062A-4928-BCA6-5771D4E4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3707-80F3-41D7-B003-96C2E7D5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AED4C-6E6B-4198-AC41-3EEE87B1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B5A4-CBFB-4BE7-9585-4B8520E8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790D-C3B0-41B8-850F-91EDD275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CEB37-8355-458C-B615-70C08304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6FAFD-E60D-451A-9689-AE3F233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859DC-0D96-4949-8EAB-C81EE3DD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B3EF-32B8-496D-B84F-75FCA94E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C9BC-C894-4A40-BDD2-EDE01351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8E95D-E116-4663-A8F4-F507588F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63E9-28AD-4C50-A856-77ACD0C0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F3DB9-1451-4ADD-9ADB-2BC47BA4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825EF-DF4C-41FF-BBE3-68D8B4B5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FB24-EFD1-453D-93B9-684D81D3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F8358-7522-4001-8B70-8B5F3BA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0C49-D087-4A43-920B-2C2E387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0BFFA-4012-4841-8C71-95350F1B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2C4E8-FBAA-453C-86F7-03BEEA6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D0F8-6150-4333-8756-38719418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71AB1-74E5-4BE0-A731-C0DA2100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EE47-D5E1-4B17-956F-87A32471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3AB54-3BE2-444A-9FB2-BF33B6BE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DDD0A-1643-4685-AFDC-FE817EDA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600D-E560-4263-86D7-5156394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1DD5-1952-4616-BB99-0148FF27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747E6-0ABA-46C9-AD18-FDE9B51F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6CF8-5221-4296-8E0D-AA022C3C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A4557-54D7-423E-878B-28FF6D72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CB86-0DC1-41D9-8B26-4DA652EA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019F9-5FBB-4332-A57D-B985DAFC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96D2A-C8C4-42E5-A021-7CBA5EFD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5DA10-831C-4C1D-B84D-E179ECE3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6CCFA-98D2-4D18-852A-1C33E27E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56CF4-C491-4EA5-ADA2-4E401E9A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6C4DE-B1B0-4445-9DC5-1B24D43F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05112-B9D7-4B2C-9FA3-7FACDD77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31910-377D-45AA-BCF2-91F17A9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298D2-865C-4BAB-BDAD-41816B75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41A90-DB2C-4F32-8DEF-CB1CA350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470FC-E78F-4778-ACE2-523E8343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FDD39-B6E4-49EE-BCDF-81D1F31E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2269C-7F54-485F-B58C-97B7FFBF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1D2A6-7926-4986-91E8-D4A2934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F9590-719E-4710-ABF2-E40AD20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383E9-172F-4014-A12A-1DA1B361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6E305-EE73-4672-8124-A771D394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5A825-7CD9-446E-8A89-4195D194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4892-889D-47DC-AA16-8E192A6B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48209-12A4-49FF-877E-EDB77C0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6BF9-6420-4956-9B2F-C0AFDFDCE69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8CD5-35DD-433A-8676-E8698B3C680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7023-F8AE-48E7-9A25-D564A68F2C2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6D7F-30F5-4DB5-855E-09B6FBEDB0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806E-A496-45D5-946E-A9E6266343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DFBD-2304-415A-A6C8-6EE5117E6C9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DEC7-51BD-42C8-B343-39D90930A86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C0E6-16AF-4D2F-A413-DE9FBB8FC99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20BF-EECB-4147-A219-993DF240C2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A6BE-16E7-44C6-881D-D6A095C404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B6F3-35C2-49CC-8FE3-0BC8B69E643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8344-3D42-4875-9EE6-72EF2B2D36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248440" y="48862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人：不期而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165640" y="520056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院系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专业 指导老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52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600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601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612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39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718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722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726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30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34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38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1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42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7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2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93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82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29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3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39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组合 5" descr=""/>
          <p:cNvPicPr/>
          <p:nvPr/>
        </p:nvPicPr>
        <p:blipFill>
          <a:blip r:embed="rId1"/>
          <a:stretch/>
        </p:blipFill>
        <p:spPr>
          <a:xfrm>
            <a:off x="566640" y="341280"/>
            <a:ext cx="11034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57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68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79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9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90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901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912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923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34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45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5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56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57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58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85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88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1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92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95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7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1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1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42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4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0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11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1"/>
          <p:cNvSpPr/>
          <p:nvPr/>
        </p:nvSpPr>
        <p:spPr>
          <a:xfrm>
            <a:off x="4730760" y="25671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Lenovo</dc:creator>
  <dc:description/>
  <dc:language>en-US</dc:language>
  <cp:lastModifiedBy/>
  <dcterms:modified xsi:type="dcterms:W3CDTF">2015-06-20T00:28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