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3F03-FBA4-4A5A-A4F2-AFC14C85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E7191-EF17-4BC3-BD06-B53854ED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7C2B-9280-4A23-B536-17400E98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2D547-BE07-4C45-B6BD-8D728097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674AC-D689-4FA1-8EC0-E337F3DC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13595-C114-46D1-86C1-3376FBC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187CF-4A97-4D86-AAD8-06C671A0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1693A-0F0E-4B9F-A8EF-82709BB1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7BAA-8EA4-4CED-AC4C-7925CDEE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B3848-F5CC-4438-B1DA-213FE374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919AE-AFB0-49D0-ACE8-2A8E379A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221B2-F71C-4365-AA70-8D0130B3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45CBB-7C2B-49A3-9918-D43DEF0D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B87C0-2C20-46A4-8ADF-6C26E61D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24CA5-C539-4F4B-829B-AE01EF92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A5F61-2DC4-4AB6-ABEF-B46A91F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4F08F-812B-4F14-95E1-C1CBB96C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B797B-D980-4E0A-9A9D-18F84A73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CEB1C-6EED-4DB8-BF94-1397D0D0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35B02-B5F4-4575-9860-B0464F5C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B864E-1F78-4A5E-A0B2-89F676CD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0CD49-DF41-4C15-8EDD-DE79A59A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30BBD-7EE7-46FF-BF96-D88FE12E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F1B4B-8C3C-463B-88E7-2D4EA7EF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57E2B-9CB7-4FDD-921E-66E0A69E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A354E-7EAB-4D2A-994D-B3D432AB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D667D-3603-4710-B381-8B2E455B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865EE-1D68-4E5A-8342-B067852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76F98-749A-4BF1-AF58-2DE42946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DE0F0-4463-471E-8D52-96A6A0F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9FC-3447-4DB7-A924-9ED95F2D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F62A7-CB78-45EE-9398-E02D97C9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29547-A294-4867-94C2-0E52F82D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AC2B0-6FB6-479F-931B-CE752A45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F3A47-7DBB-4483-AA1F-B438730C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30094-D708-4EC9-A20F-C86BCDD6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78F07-8CFB-488F-AC04-5D88E3E0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2634C-B13E-4E10-8E1A-3DB09E70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3B4B4-B581-4674-B0A8-8CB96CF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DA6F2-28E2-4D0A-95AC-9916171C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F7431-A971-4013-BBB9-3C71B017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1D4-DCD7-4CFE-9E90-AB12AD7C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9BC94-CC79-474D-8A76-86C0BBF5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95D27-1B2E-4B73-A139-A9F20FAB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FC91B-5DC0-4B5D-9389-F62A7D95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23BE8-699E-4AB2-A31B-A9963500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41006-AD6C-4778-AE1D-4DEFC686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F2A4A-B7FF-4D0D-A12B-AD5725C9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6C9E9-570A-4D6A-91D9-E57E8EE3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3793C-E384-4DC1-B90B-40447EB4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43532-B60D-4249-B900-8EEC212E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8C1E1-9335-48BD-8C3D-F4839D5D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C56-856D-4568-B27E-BA00EE5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671E3-89F2-44A5-B0DB-F7DE45AA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6ED93-B890-4EBC-B17C-948901A9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DBDE8-24A5-4D0F-A87F-8F2A1629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13BDA-BAA1-48DB-A753-708330E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224E2-C226-4696-995D-2CC3361B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EEE7-E6A8-40C4-AAF5-8AC25BA0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94FC4-1433-412D-8068-5F5A593E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7FB-13AB-48A8-BF3F-2D38322A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1DC-17F1-4D6E-A3E2-CE51BEDA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A83-3439-4DA1-809D-EE3DDDD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FB0-A949-44B0-A88C-3DE5255A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52F-DA4C-4DFB-9CAF-AE09AB30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63D-F169-48AD-BE2A-CBF43B6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45D-2F6E-44C3-8C5D-37611926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6D9-6056-4274-88C8-274E5D2B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EF3-A589-4F0D-A4E6-4E3BD19E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88F6-FA32-42A5-A8FE-DA1BA394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3207-8CF7-4F0C-B0A3-E3BFC171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6894-E5AA-40EE-8510-B1C5897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336A-C30A-40A3-85AA-DE1774FD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D2F9-1ECE-4BE8-9F87-B92C0400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D609-C14C-4104-937C-06245B8F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8CB7-81D1-421A-8046-BDBB3B01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1186-A5E2-49B4-946F-701F8CE4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7EB0-6560-4D29-927B-3EB0560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9A47-BBC2-4935-8FBC-F8E696F5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ECC9-59C9-4588-9209-AAE56413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DE90-2376-4696-A05E-8C2CE968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712B-A0F3-4B46-B490-B6C42FB6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9D5F-BB34-4132-85F2-E652224A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99F5-5E29-4912-85EC-76E2CD7C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D572-1746-4F50-A5E1-6E333DD7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435C-03EA-4541-B345-03FC255E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1B08-E94F-49E2-9467-204DC06A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814A-C7DF-4AAE-A7B7-78096D53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DDE6-161E-4118-B81B-5AB1F9CA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57EA-033F-4869-93D9-6DF5C35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2DB5-1D25-49C7-9537-C7862A6A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BD82-A428-4650-9852-0AB75EA0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88DD-0C41-4166-9C27-DF19D507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55E4-C754-47A8-97DF-DF609669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0180-2A8A-4382-A7C8-4D0E6AB5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BF341-82FC-4B55-93E7-89626134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70F4-FD5E-4F6E-AAA2-4730BDD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1DDF-6ACC-4470-B780-FD0BA558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67FD-FD94-4175-AB82-AF571A32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1D41-B230-4238-8C6E-44A2D9CC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4AC1-64AE-40D6-8C7A-EBD493C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9EDC-B8E4-44EA-9FD1-C694EF03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5851-1861-480F-85DD-4EC05333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25B5E-7231-4E36-8E0C-79255025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3469-C5D6-4FCB-909B-50F471EB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B2D59-4320-49FD-998A-555A6B6F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945E-A688-44A0-AC0B-8B1D83D8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00ECA-D04C-4961-A955-7103F60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0DF9-2BDD-44C1-B2B1-97CAC167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80D8E-B67F-49C1-BCB0-3C958986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1A42-C82C-49A8-9F4A-DAE317B9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5449-F617-4647-9A9B-6BA0E1F4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F0E2-05FA-48DE-B966-CD82255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0176-B151-4DA1-8303-56D57BC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3516-D322-4B06-8376-7A411A65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EB1BC-9027-4B2A-B01B-EB8C4A5D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CBB9-F030-4B23-AC03-5141D0A0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04FC-020C-4488-B7B9-69578757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34662-3390-4FE4-89E8-0891E7B0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8394-2688-4F44-84B3-AAD9D1BA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57771-E073-4066-AF4C-59146090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D2BC6-8C90-434B-BB85-E5F5657E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AF9B-1947-42D2-8B88-21918238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7C91-4821-471B-A440-FF4038C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634BD-13B2-4732-9653-AA980054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0C6D-B30C-42CA-AE6E-EF925740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7991-0C98-40F1-AF9D-427550FC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9D88F-7881-45EC-BDCF-D6DACA00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C910B-4C15-43BA-8FCD-A20225C0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27AE6-3748-4967-BE6C-525DE3ED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1EC7-0675-44CD-8C24-FD2BE94F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C74FA-1787-4593-965F-7FE16218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B11F8-A5B6-4A85-9923-D8B548F3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9801C-02B3-4445-87E1-4EDDE1EE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04835-4E40-4987-9A69-5BF9F65B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E469A-B90D-4C6C-A3D3-5FFD4C76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420D0-EB36-400C-BEDD-373D0EA3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23CEE-0C66-4096-B710-8EFCF8B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D7441-E349-41FE-B328-E03E9CF8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5AF8-6E8F-4E3A-92C6-19A18158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C5CB-1D3B-4697-8E46-FDE37ACF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50115-A0B7-433B-8667-D5592686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EA3A8-8B18-48FC-8375-C53A38F7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AE6D8-7AB2-40C6-A7FB-79A99C9C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FEA4-4CF2-44BC-A7DA-5C86F04B47D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85F-7775-4F3E-B66D-6D21BFB3F2C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1996-CBC0-4D64-818F-94E23C7DACB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126B-5232-475F-BF32-BC240F36659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3F1D-9115-49B7-A53F-BF738C29BE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EB18-2AD0-4B93-87F2-835AD057C5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1756-E37A-4A82-8AA4-BB175ED6C6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F09B-A983-42DD-A888-DA4C253FCC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2CA9-8ADE-4A64-A9C4-996A4FA3AAA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430F-E0CA-41DE-B199-A5B64EEA4B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D26B-4221-4BEE-A0D0-6868E187F3F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AF33-40F4-4BDF-B715-9118A9238B4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248440" y="48862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人：不期而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165640" y="520056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院系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专业 指导老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52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600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601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612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39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718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722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726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30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34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38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1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42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7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2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93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82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29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3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39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组合 5" descr=""/>
          <p:cNvPicPr/>
          <p:nvPr/>
        </p:nvPicPr>
        <p:blipFill>
          <a:blip r:embed="rId1"/>
          <a:stretch/>
        </p:blipFill>
        <p:spPr>
          <a:xfrm>
            <a:off x="566640" y="341280"/>
            <a:ext cx="11034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57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68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79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9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90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901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912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923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34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45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5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56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57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58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85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88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1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92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95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7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1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1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42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4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0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11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1"/>
          <p:cNvSpPr/>
          <p:nvPr/>
        </p:nvSpPr>
        <p:spPr>
          <a:xfrm>
            <a:off x="4730760" y="25671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Lenovo</dc:creator>
  <dc:description/>
  <dc:language>en-US</dc:language>
  <cp:lastModifiedBy/>
  <dcterms:modified xsi:type="dcterms:W3CDTF">2015-06-20T00:28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