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1B36-FE46-4123-90B4-75687F7B9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DC43-7D69-4403-AB3B-77041F44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358D-C456-4A77-81B1-CE765CCF4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528B-D2A9-4043-803B-D78DE839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715F-FDB7-4EDD-8CC2-11FFB518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F942-8751-4F24-92A8-E412D59D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FFE9-8A7D-459B-A6A1-75C08121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56E5-9D08-4A63-9F33-B55303E0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E3F3-C507-44FE-BEE0-B1F89218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0C7D-D3BC-4BEF-8622-3C482465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1988-DD28-41D5-B9AB-674A1AAD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7140-FBFA-4FEC-8414-267E472E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5704-D2CB-476D-8F2B-35637E4426E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4626360" y="4581360"/>
            <a:ext cx="29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5a69"/>
                </a:solidFill>
                <a:latin typeface="腾祥铁山楷书繁"/>
                <a:ea typeface="腾祥铁山楷书繁"/>
              </a:rPr>
              <a:t>20</a:t>
            </a:r>
            <a:r>
              <a:rPr b="1" lang="zh-CN" sz="3200" spc="-1" strike="noStrike">
                <a:solidFill>
                  <a:srgbClr val="335a69"/>
                </a:solidFill>
                <a:latin typeface="腾祥铁山楷书繁"/>
                <a:ea typeface="腾祥铁山楷书繁"/>
              </a:rPr>
              <a:t>种娱乐方式太给力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" descr=""/>
          <p:cNvPicPr/>
          <p:nvPr/>
        </p:nvPicPr>
        <p:blipFill>
          <a:blip r:embed="rId1"/>
          <a:stretch/>
        </p:blipFill>
        <p:spPr>
          <a:xfrm>
            <a:off x="4583160" y="620640"/>
            <a:ext cx="3024000" cy="3024360"/>
          </a:xfrm>
          <a:prstGeom prst="rect">
            <a:avLst/>
          </a:prstGeom>
          <a:ln w="0">
            <a:noFill/>
          </a:ln>
        </p:spPr>
      </p:pic>
      <p:sp>
        <p:nvSpPr>
          <p:cNvPr id="43" name="矩形 1"/>
          <p:cNvSpPr/>
          <p:nvPr/>
        </p:nvSpPr>
        <p:spPr>
          <a:xfrm>
            <a:off x="4176720" y="3789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5a69"/>
                </a:solidFill>
                <a:latin typeface="TypeLand 康熙字典體 Trial"/>
                <a:ea typeface="TypeLand 康熙字典體 Trial"/>
              </a:rPr>
              <a:t>古人沒電怎</a:t>
            </a:r>
            <a:r>
              <a:rPr b="0" lang="zh-CN" sz="4800" spc="-1" strike="noStrike">
                <a:solidFill>
                  <a:srgbClr val="335a69"/>
                </a:solidFill>
                <a:latin typeface="TypeLand 康熙字典體 Trial"/>
                <a:ea typeface="TypeLand 康熙字典體 Trial"/>
              </a:rPr>
              <a:t>么</a:t>
            </a:r>
            <a:r>
              <a:rPr b="0" lang="zh-TW" sz="4800" spc="-1" strike="noStrike">
                <a:solidFill>
                  <a:srgbClr val="335a69"/>
                </a:solidFill>
                <a:latin typeface="TypeLand 康熙字典體 Trial"/>
                <a:ea typeface="TypeLand 康熙字典體 Trial"/>
              </a:rPr>
              <a:t>過夜生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组合 53"/>
          <p:cNvGrpSpPr/>
          <p:nvPr/>
        </p:nvGrpSpPr>
        <p:grpSpPr>
          <a:xfrm>
            <a:off x="10375920" y="260280"/>
            <a:ext cx="1816200" cy="606960"/>
            <a:chOff x="10375920" y="260280"/>
            <a:chExt cx="1816200" cy="606960"/>
          </a:xfrm>
        </p:grpSpPr>
        <p:grpSp>
          <p:nvGrpSpPr>
            <p:cNvPr id="45" name="Group 43"/>
            <p:cNvGrpSpPr/>
            <p:nvPr/>
          </p:nvGrpSpPr>
          <p:grpSpPr>
            <a:xfrm>
              <a:off x="10375920" y="363240"/>
              <a:ext cx="342360" cy="399240"/>
              <a:chOff x="10375920" y="363240"/>
              <a:chExt cx="342360" cy="399240"/>
            </a:xfrm>
          </p:grpSpPr>
          <p:sp>
            <p:nvSpPr>
              <p:cNvPr id="46" name="AutoShape 42"/>
              <p:cNvSpPr/>
              <p:nvPr/>
            </p:nvSpPr>
            <p:spPr>
              <a:xfrm>
                <a:off x="10375920" y="36360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44"/>
              <p:cNvSpPr/>
              <p:nvPr/>
            </p:nvSpPr>
            <p:spPr>
              <a:xfrm>
                <a:off x="10478160" y="703080"/>
                <a:ext cx="109440" cy="59400"/>
              </a:xfrm>
              <a:custGeom>
                <a:avLst/>
                <a:gdLst/>
                <a:ahLst/>
                <a:rect l="l" t="t" r="r" b="b"/>
                <a:pathLst>
                  <a:path w="197" h="118">
                    <a:moveTo>
                      <a:pt x="197" y="0"/>
                    </a:moveTo>
                    <a:lnTo>
                      <a:pt x="98" y="118"/>
                    </a:lnTo>
                    <a:lnTo>
                      <a:pt x="0" y="0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335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45"/>
              <p:cNvSpPr/>
              <p:nvPr/>
            </p:nvSpPr>
            <p:spPr>
              <a:xfrm>
                <a:off x="10375920" y="390960"/>
                <a:ext cx="313920" cy="285480"/>
              </a:xfrm>
              <a:custGeom>
                <a:avLst/>
                <a:gdLst/>
                <a:ahLst/>
                <a:rect l="l" t="t" r="r" b="b"/>
                <a:pathLst>
                  <a:path w="696" h="696">
                    <a:moveTo>
                      <a:pt x="338" y="358"/>
                    </a:moveTo>
                    <a:cubicBezTo>
                      <a:pt x="338" y="0"/>
                      <a:pt x="338" y="0"/>
                      <a:pt x="338" y="0"/>
                    </a:cubicBezTo>
                    <a:cubicBezTo>
                      <a:pt x="150" y="5"/>
                      <a:pt x="0" y="159"/>
                      <a:pt x="0" y="348"/>
                    </a:cubicBezTo>
                    <a:cubicBezTo>
                      <a:pt x="0" y="540"/>
                      <a:pt x="156" y="696"/>
                      <a:pt x="348" y="696"/>
                    </a:cubicBezTo>
                    <a:cubicBezTo>
                      <a:pt x="537" y="696"/>
                      <a:pt x="690" y="546"/>
                      <a:pt x="696" y="358"/>
                    </a:cubicBezTo>
                    <a:lnTo>
                      <a:pt x="338" y="358"/>
                    </a:lnTo>
                    <a:close/>
                  </a:path>
                </a:pathLst>
              </a:custGeom>
              <a:solidFill>
                <a:srgbClr val="335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46"/>
              <p:cNvSpPr/>
              <p:nvPr/>
            </p:nvSpPr>
            <p:spPr>
              <a:xfrm>
                <a:off x="10556640" y="363240"/>
                <a:ext cx="161640" cy="147600"/>
              </a:xfrm>
              <a:custGeom>
                <a:avLst/>
                <a:gdLst/>
                <a:ahLst/>
                <a:rect l="l" t="t" r="r" b="b"/>
                <a:pathLst>
                  <a:path w="358" h="359">
                    <a:moveTo>
                      <a:pt x="10" y="0"/>
                    </a:moveTo>
                    <a:cubicBezTo>
                      <a:pt x="7" y="0"/>
                      <a:pt x="3" y="0"/>
                      <a:pt x="0" y="0"/>
                    </a:cubicBezTo>
                    <a:cubicBezTo>
                      <a:pt x="0" y="359"/>
                      <a:pt x="0" y="359"/>
                      <a:pt x="0" y="359"/>
                    </a:cubicBezTo>
                    <a:cubicBezTo>
                      <a:pt x="358" y="359"/>
                      <a:pt x="358" y="359"/>
                      <a:pt x="358" y="359"/>
                    </a:cubicBezTo>
                    <a:cubicBezTo>
                      <a:pt x="358" y="355"/>
                      <a:pt x="358" y="352"/>
                      <a:pt x="358" y="348"/>
                    </a:cubicBezTo>
                    <a:cubicBezTo>
                      <a:pt x="358" y="156"/>
                      <a:pt x="202" y="0"/>
                      <a:pt x="10" y="0"/>
                    </a:cubicBezTo>
                  </a:path>
                </a:pathLst>
              </a:custGeom>
              <a:solidFill>
                <a:srgbClr val="335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47"/>
              <p:cNvSpPr/>
              <p:nvPr/>
            </p:nvSpPr>
            <p:spPr>
              <a:xfrm>
                <a:off x="10410120" y="591120"/>
                <a:ext cx="244440" cy="101160"/>
              </a:xfrm>
              <a:custGeom>
                <a:avLst/>
                <a:gdLst/>
                <a:ahLst/>
                <a:rect l="l" t="t" r="r" b="b"/>
                <a:pathLst>
                  <a:path w="440" h="200">
                    <a:moveTo>
                      <a:pt x="336" y="199"/>
                    </a:moveTo>
                    <a:lnTo>
                      <a:pt x="440" y="74"/>
                    </a:lnTo>
                    <a:lnTo>
                      <a:pt x="331" y="0"/>
                    </a:lnTo>
                    <a:lnTo>
                      <a:pt x="220" y="74"/>
                    </a:lnTo>
                    <a:lnTo>
                      <a:pt x="110" y="1"/>
                    </a:lnTo>
                    <a:lnTo>
                      <a:pt x="0" y="74"/>
                    </a:lnTo>
                    <a:lnTo>
                      <a:pt x="106" y="200"/>
                    </a:lnTo>
                    <a:lnTo>
                      <a:pt x="336" y="199"/>
                    </a:lnTo>
                    <a:close/>
                  </a:path>
                </a:pathLst>
              </a:custGeom>
              <a:solidFill>
                <a:srgbClr val="d3c9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直接连接符 49"/>
            <p:cNvSpPr/>
            <p:nvPr/>
          </p:nvSpPr>
          <p:spPr>
            <a:xfrm>
              <a:off x="10787040" y="560160"/>
              <a:ext cx="1136880" cy="0"/>
            </a:xfrm>
            <a:prstGeom prst="line">
              <a:avLst/>
            </a:prstGeom>
            <a:ln w="6480">
              <a:solidFill>
                <a:srgbClr val="335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文本框 50"/>
            <p:cNvSpPr/>
            <p:nvPr/>
          </p:nvSpPr>
          <p:spPr>
            <a:xfrm>
              <a:off x="10700280" y="560160"/>
              <a:ext cx="146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5a69"/>
                  </a:solidFill>
                  <a:latin typeface="华文黑体"/>
                  <a:ea typeface="华文黑体"/>
                </a:rPr>
                <a:t>PPT</a:t>
              </a:r>
              <a:r>
                <a:rPr b="0" lang="zh-CN" sz="1400" spc="-1" strike="noStrike">
                  <a:solidFill>
                    <a:srgbClr val="335a69"/>
                  </a:solidFill>
                  <a:latin typeface="华文黑体"/>
                  <a:ea typeface="华文黑体"/>
                </a:rPr>
                <a:t>模板研究院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文本框 52"/>
            <p:cNvSpPr/>
            <p:nvPr/>
          </p:nvSpPr>
          <p:spPr>
            <a:xfrm>
              <a:off x="10704960" y="260280"/>
              <a:ext cx="148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5a69"/>
                  </a:solidFill>
                  <a:latin typeface="华文黑体"/>
                  <a:ea typeface="华文黑体"/>
                </a:rPr>
                <a:t>PPT   </a:t>
              </a:r>
              <a:r>
                <a:rPr b="0" lang="zh-CN" sz="1400" spc="-1" strike="noStrike">
                  <a:solidFill>
                    <a:srgbClr val="335a69"/>
                  </a:solidFill>
                  <a:latin typeface="华文黑体"/>
                  <a:ea typeface="华文黑体"/>
                </a:rPr>
                <a:t>玩  乐   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组合 5"/>
          <p:cNvGrpSpPr/>
          <p:nvPr/>
        </p:nvGrpSpPr>
        <p:grpSpPr>
          <a:xfrm>
            <a:off x="5472360" y="5445000"/>
            <a:ext cx="1247400" cy="1059480"/>
            <a:chOff x="5472360" y="5445000"/>
            <a:chExt cx="1247400" cy="1059480"/>
          </a:xfrm>
        </p:grpSpPr>
        <p:grpSp>
          <p:nvGrpSpPr>
            <p:cNvPr id="55" name="组合 3"/>
            <p:cNvGrpSpPr/>
            <p:nvPr/>
          </p:nvGrpSpPr>
          <p:grpSpPr>
            <a:xfrm>
              <a:off x="5915520" y="5445000"/>
              <a:ext cx="367560" cy="652320"/>
              <a:chOff x="5915520" y="5445000"/>
              <a:chExt cx="367560" cy="652320"/>
            </a:xfrm>
          </p:grpSpPr>
          <p:sp>
            <p:nvSpPr>
              <p:cNvPr id="56" name="任意多边形 57"/>
              <p:cNvSpPr/>
              <p:nvPr/>
            </p:nvSpPr>
            <p:spPr>
              <a:xfrm>
                <a:off x="5915520" y="5445000"/>
                <a:ext cx="367560" cy="652320"/>
              </a:xfrm>
              <a:custGeom>
                <a:avLst/>
                <a:gdLst/>
                <a:ahLst/>
                <a:rect l="l" t="t" r="r" b="b"/>
                <a:pathLst>
                  <a:path w="1362770" h="2276723">
                    <a:moveTo>
                      <a:pt x="989606" y="1585424"/>
                    </a:moveTo>
                    <a:lnTo>
                      <a:pt x="989957" y="1585931"/>
                    </a:lnTo>
                    <a:cubicBezTo>
                      <a:pt x="990135" y="1586207"/>
                      <a:pt x="990105" y="1586184"/>
                      <a:pt x="989702" y="1585574"/>
                    </a:cubicBezTo>
                    <a:close/>
                    <a:moveTo>
                      <a:pt x="650978" y="1020780"/>
                    </a:moveTo>
                    <a:cubicBezTo>
                      <a:pt x="644349" y="1019888"/>
                      <a:pt x="639187" y="1022190"/>
                      <a:pt x="631326" y="1025010"/>
                    </a:cubicBezTo>
                    <a:cubicBezTo>
                      <a:pt x="623465" y="1027830"/>
                      <a:pt x="606346" y="1026112"/>
                      <a:pt x="603812" y="1037699"/>
                    </a:cubicBezTo>
                    <a:cubicBezTo>
                      <a:pt x="599301" y="1058332"/>
                      <a:pt x="599882" y="1079950"/>
                      <a:pt x="599882" y="1101146"/>
                    </a:cubicBezTo>
                    <a:cubicBezTo>
                      <a:pt x="599882" y="1105605"/>
                      <a:pt x="603527" y="1109388"/>
                      <a:pt x="603812" y="1113836"/>
                    </a:cubicBezTo>
                    <a:cubicBezTo>
                      <a:pt x="606158" y="1150434"/>
                      <a:pt x="606432" y="1187152"/>
                      <a:pt x="607742" y="1223811"/>
                    </a:cubicBezTo>
                    <a:cubicBezTo>
                      <a:pt x="617166" y="1254232"/>
                      <a:pt x="605734" y="1216246"/>
                      <a:pt x="615604" y="1253419"/>
                    </a:cubicBezTo>
                    <a:cubicBezTo>
                      <a:pt x="617845" y="1261861"/>
                      <a:pt x="619164" y="1270139"/>
                      <a:pt x="627395" y="1274568"/>
                    </a:cubicBezTo>
                    <a:cubicBezTo>
                      <a:pt x="632227" y="1277168"/>
                      <a:pt x="637877" y="1277388"/>
                      <a:pt x="643117" y="1278798"/>
                    </a:cubicBezTo>
                    <a:cubicBezTo>
                      <a:pt x="647048" y="1275978"/>
                      <a:pt x="651220" y="1273514"/>
                      <a:pt x="654909" y="1270339"/>
                    </a:cubicBezTo>
                    <a:cubicBezTo>
                      <a:pt x="662925" y="1263437"/>
                      <a:pt x="677349" y="1242896"/>
                      <a:pt x="678492" y="1236500"/>
                    </a:cubicBezTo>
                    <a:cubicBezTo>
                      <a:pt x="683446" y="1208774"/>
                      <a:pt x="681112" y="1180103"/>
                      <a:pt x="682422" y="1151904"/>
                    </a:cubicBezTo>
                    <a:cubicBezTo>
                      <a:pt x="689697" y="1128420"/>
                      <a:pt x="690283" y="1129755"/>
                      <a:pt x="690283" y="1092687"/>
                    </a:cubicBezTo>
                    <a:cubicBezTo>
                      <a:pt x="690283" y="1086873"/>
                      <a:pt x="687663" y="1081407"/>
                      <a:pt x="686353" y="1075768"/>
                    </a:cubicBezTo>
                    <a:lnTo>
                      <a:pt x="678492" y="1067308"/>
                    </a:lnTo>
                    <a:cubicBezTo>
                      <a:pt x="672632" y="1061003"/>
                      <a:pt x="673996" y="1050078"/>
                      <a:pt x="670631" y="1041929"/>
                    </a:cubicBezTo>
                    <a:cubicBezTo>
                      <a:pt x="667857" y="1035211"/>
                      <a:pt x="658993" y="1021858"/>
                      <a:pt x="650978" y="1020780"/>
                    </a:cubicBezTo>
                    <a:close/>
                    <a:moveTo>
                      <a:pt x="825401" y="0"/>
                    </a:moveTo>
                    <a:cubicBezTo>
                      <a:pt x="1122182" y="0"/>
                      <a:pt x="1362770" y="228150"/>
                      <a:pt x="1362770" y="509588"/>
                    </a:cubicBezTo>
                    <a:cubicBezTo>
                      <a:pt x="1362770" y="720667"/>
                      <a:pt x="1227439" y="901771"/>
                      <a:pt x="1034570" y="979130"/>
                    </a:cubicBezTo>
                    <a:lnTo>
                      <a:pt x="942290" y="1006294"/>
                    </a:lnTo>
                    <a:lnTo>
                      <a:pt x="941556" y="1037992"/>
                    </a:lnTo>
                    <a:cubicBezTo>
                      <a:pt x="940926" y="1052712"/>
                      <a:pt x="939977" y="1072259"/>
                      <a:pt x="938832" y="1101844"/>
                    </a:cubicBezTo>
                    <a:cubicBezTo>
                      <a:pt x="956613" y="1108223"/>
                      <a:pt x="945944" y="1106947"/>
                      <a:pt x="970837" y="1098017"/>
                    </a:cubicBezTo>
                    <a:cubicBezTo>
                      <a:pt x="1004677" y="1094983"/>
                      <a:pt x="1009515" y="1106620"/>
                      <a:pt x="1020624" y="1082709"/>
                    </a:cubicBezTo>
                    <a:cubicBezTo>
                      <a:pt x="1022300" y="1079101"/>
                      <a:pt x="1022995" y="1075055"/>
                      <a:pt x="1024180" y="1071229"/>
                    </a:cubicBezTo>
                    <a:cubicBezTo>
                      <a:pt x="1024180" y="1071229"/>
                      <a:pt x="1018538" y="1056178"/>
                      <a:pt x="1017068" y="1048267"/>
                    </a:cubicBezTo>
                    <a:cubicBezTo>
                      <a:pt x="1014963" y="1036940"/>
                      <a:pt x="1009525" y="1024549"/>
                      <a:pt x="1013512" y="1013824"/>
                    </a:cubicBezTo>
                    <a:cubicBezTo>
                      <a:pt x="1015757" y="1007785"/>
                      <a:pt x="1025366" y="1011273"/>
                      <a:pt x="1031293" y="1009997"/>
                    </a:cubicBezTo>
                    <a:cubicBezTo>
                      <a:pt x="1034849" y="1012548"/>
                      <a:pt x="1039590" y="1013824"/>
                      <a:pt x="1041961" y="1017651"/>
                    </a:cubicBezTo>
                    <a:cubicBezTo>
                      <a:pt x="1051724" y="1033410"/>
                      <a:pt x="1038285" y="1032091"/>
                      <a:pt x="1052630" y="1044440"/>
                    </a:cubicBezTo>
                    <a:cubicBezTo>
                      <a:pt x="1055557" y="1046960"/>
                      <a:pt x="1059742" y="1046991"/>
                      <a:pt x="1063298" y="1048267"/>
                    </a:cubicBezTo>
                    <a:cubicBezTo>
                      <a:pt x="1066854" y="1046991"/>
                      <a:pt x="1071316" y="1047292"/>
                      <a:pt x="1073967" y="1044440"/>
                    </a:cubicBezTo>
                    <a:cubicBezTo>
                      <a:pt x="1076617" y="1041587"/>
                      <a:pt x="1074268" y="1034960"/>
                      <a:pt x="1077523" y="1032959"/>
                    </a:cubicBezTo>
                    <a:cubicBezTo>
                      <a:pt x="1083783" y="1029109"/>
                      <a:pt x="1091748" y="1030408"/>
                      <a:pt x="1098860" y="1029132"/>
                    </a:cubicBezTo>
                    <a:cubicBezTo>
                      <a:pt x="1116721" y="1033937"/>
                      <a:pt x="1108449" y="1031296"/>
                      <a:pt x="1123753" y="1036786"/>
                    </a:cubicBezTo>
                    <a:cubicBezTo>
                      <a:pt x="1130866" y="1039337"/>
                      <a:pt x="1141536" y="1037336"/>
                      <a:pt x="1145090" y="1044440"/>
                    </a:cubicBezTo>
                    <a:cubicBezTo>
                      <a:pt x="1151298" y="1056846"/>
                      <a:pt x="1147461" y="1072504"/>
                      <a:pt x="1148647" y="1086537"/>
                    </a:cubicBezTo>
                    <a:cubicBezTo>
                      <a:pt x="1148647" y="1086537"/>
                      <a:pt x="1163939" y="1095340"/>
                      <a:pt x="1169983" y="1101844"/>
                    </a:cubicBezTo>
                    <a:cubicBezTo>
                      <a:pt x="1172634" y="1104697"/>
                      <a:pt x="1172354" y="1109499"/>
                      <a:pt x="1173540" y="1113325"/>
                    </a:cubicBezTo>
                    <a:cubicBezTo>
                      <a:pt x="1172354" y="1117152"/>
                      <a:pt x="1173336" y="1123002"/>
                      <a:pt x="1169983" y="1124806"/>
                    </a:cubicBezTo>
                    <a:cubicBezTo>
                      <a:pt x="1154471" y="1133153"/>
                      <a:pt x="1102137" y="1125331"/>
                      <a:pt x="1095304" y="1124806"/>
                    </a:cubicBezTo>
                    <a:cubicBezTo>
                      <a:pt x="1075215" y="1130211"/>
                      <a:pt x="1085872" y="1127602"/>
                      <a:pt x="1063298" y="1132460"/>
                    </a:cubicBezTo>
                    <a:cubicBezTo>
                      <a:pt x="1059107" y="1133362"/>
                      <a:pt x="1056186" y="1137563"/>
                      <a:pt x="1052630" y="1140114"/>
                    </a:cubicBezTo>
                    <a:lnTo>
                      <a:pt x="1031293" y="1155422"/>
                    </a:lnTo>
                    <a:lnTo>
                      <a:pt x="1009956" y="1163076"/>
                    </a:lnTo>
                    <a:cubicBezTo>
                      <a:pt x="1001846" y="1165985"/>
                      <a:pt x="995731" y="1173281"/>
                      <a:pt x="988618" y="1178384"/>
                    </a:cubicBezTo>
                    <a:lnTo>
                      <a:pt x="974394" y="1182211"/>
                    </a:lnTo>
                    <a:cubicBezTo>
                      <a:pt x="970247" y="1183326"/>
                      <a:pt x="967281" y="1187313"/>
                      <a:pt x="963725" y="1189865"/>
                    </a:cubicBezTo>
                    <a:lnTo>
                      <a:pt x="942388" y="1205172"/>
                    </a:lnTo>
                    <a:cubicBezTo>
                      <a:pt x="935276" y="1210275"/>
                      <a:pt x="927095" y="1213976"/>
                      <a:pt x="921051" y="1220480"/>
                    </a:cubicBezTo>
                    <a:cubicBezTo>
                      <a:pt x="918400" y="1223333"/>
                      <a:pt x="917909" y="1227952"/>
                      <a:pt x="917495" y="1231961"/>
                    </a:cubicBezTo>
                    <a:cubicBezTo>
                      <a:pt x="915527" y="1251021"/>
                      <a:pt x="913939" y="1270188"/>
                      <a:pt x="913939" y="1289366"/>
                    </a:cubicBezTo>
                    <a:cubicBezTo>
                      <a:pt x="913939" y="1328932"/>
                      <a:pt x="916309" y="1368457"/>
                      <a:pt x="917495" y="1408002"/>
                    </a:cubicBezTo>
                    <a:cubicBezTo>
                      <a:pt x="919866" y="1413104"/>
                      <a:pt x="921977" y="1418356"/>
                      <a:pt x="924607" y="1423310"/>
                    </a:cubicBezTo>
                    <a:cubicBezTo>
                      <a:pt x="926728" y="1427303"/>
                      <a:pt x="930491" y="1430385"/>
                      <a:pt x="931719" y="1434791"/>
                    </a:cubicBezTo>
                    <a:cubicBezTo>
                      <a:pt x="934128" y="1443431"/>
                      <a:pt x="933898" y="1452682"/>
                      <a:pt x="935276" y="1461579"/>
                    </a:cubicBezTo>
                    <a:cubicBezTo>
                      <a:pt x="936742" y="1471050"/>
                      <a:pt x="939831" y="1486389"/>
                      <a:pt x="942388" y="1496022"/>
                    </a:cubicBezTo>
                    <a:cubicBezTo>
                      <a:pt x="948347" y="1518467"/>
                      <a:pt x="942666" y="1496620"/>
                      <a:pt x="953057" y="1518984"/>
                    </a:cubicBezTo>
                    <a:cubicBezTo>
                      <a:pt x="954733" y="1522592"/>
                      <a:pt x="955427" y="1526638"/>
                      <a:pt x="956613" y="1530465"/>
                    </a:cubicBezTo>
                    <a:cubicBezTo>
                      <a:pt x="958983" y="1534292"/>
                      <a:pt x="961814" y="1537832"/>
                      <a:pt x="963725" y="1541946"/>
                    </a:cubicBezTo>
                    <a:cubicBezTo>
                      <a:pt x="965402" y="1545554"/>
                      <a:pt x="964940" y="1550276"/>
                      <a:pt x="967281" y="1553426"/>
                    </a:cubicBezTo>
                    <a:cubicBezTo>
                      <a:pt x="985664" y="1578155"/>
                      <a:pt x="972568" y="1543704"/>
                      <a:pt x="981506" y="1572561"/>
                    </a:cubicBezTo>
                    <a:cubicBezTo>
                      <a:pt x="984054" y="1576674"/>
                      <a:pt x="985902" y="1579623"/>
                      <a:pt x="987213" y="1581695"/>
                    </a:cubicBezTo>
                    <a:lnTo>
                      <a:pt x="989606" y="1585424"/>
                    </a:lnTo>
                    <a:lnTo>
                      <a:pt x="988963" y="1584498"/>
                    </a:lnTo>
                    <a:cubicBezTo>
                      <a:pt x="987241" y="1582164"/>
                      <a:pt x="984813" y="1579678"/>
                      <a:pt x="992175" y="1595523"/>
                    </a:cubicBezTo>
                    <a:cubicBezTo>
                      <a:pt x="1005962" y="1625198"/>
                      <a:pt x="993905" y="1589627"/>
                      <a:pt x="1002843" y="1618485"/>
                    </a:cubicBezTo>
                    <a:cubicBezTo>
                      <a:pt x="1012035" y="1633322"/>
                      <a:pt x="1008604" y="1625602"/>
                      <a:pt x="1013512" y="1641447"/>
                    </a:cubicBezTo>
                    <a:cubicBezTo>
                      <a:pt x="1016901" y="1652390"/>
                      <a:pt x="1030697" y="1662424"/>
                      <a:pt x="1031293" y="1675890"/>
                    </a:cubicBezTo>
                    <a:cubicBezTo>
                      <a:pt x="1033492" y="1725600"/>
                      <a:pt x="1033663" y="1775391"/>
                      <a:pt x="1034849" y="1825141"/>
                    </a:cubicBezTo>
                    <a:lnTo>
                      <a:pt x="1038405" y="1848103"/>
                    </a:lnTo>
                    <a:lnTo>
                      <a:pt x="1045517" y="1894027"/>
                    </a:lnTo>
                    <a:cubicBezTo>
                      <a:pt x="1045517" y="1894027"/>
                      <a:pt x="1050944" y="1909127"/>
                      <a:pt x="1052630" y="1916988"/>
                    </a:cubicBezTo>
                    <a:cubicBezTo>
                      <a:pt x="1054515" y="1925778"/>
                      <a:pt x="1054686" y="1934902"/>
                      <a:pt x="1056186" y="1943777"/>
                    </a:cubicBezTo>
                    <a:cubicBezTo>
                      <a:pt x="1057060" y="1948952"/>
                      <a:pt x="1058682" y="1953951"/>
                      <a:pt x="1059742" y="1959085"/>
                    </a:cubicBezTo>
                    <a:cubicBezTo>
                      <a:pt x="1061053" y="1965435"/>
                      <a:pt x="1062113" y="1971842"/>
                      <a:pt x="1063298" y="1978220"/>
                    </a:cubicBezTo>
                    <a:cubicBezTo>
                      <a:pt x="1068434" y="2005853"/>
                      <a:pt x="1068040" y="2034349"/>
                      <a:pt x="1070410" y="2062413"/>
                    </a:cubicBezTo>
                    <a:lnTo>
                      <a:pt x="1073967" y="2073894"/>
                    </a:lnTo>
                    <a:lnTo>
                      <a:pt x="1081079" y="2096856"/>
                    </a:lnTo>
                    <a:cubicBezTo>
                      <a:pt x="1085164" y="2103449"/>
                      <a:pt x="1092015" y="2116135"/>
                      <a:pt x="1098860" y="2119818"/>
                    </a:cubicBezTo>
                    <a:cubicBezTo>
                      <a:pt x="1104266" y="2122727"/>
                      <a:pt x="1110624" y="2123028"/>
                      <a:pt x="1116641" y="2123645"/>
                    </a:cubicBezTo>
                    <a:cubicBezTo>
                      <a:pt x="1135558" y="2125583"/>
                      <a:pt x="1154573" y="2126196"/>
                      <a:pt x="1173540" y="2127472"/>
                    </a:cubicBezTo>
                    <a:cubicBezTo>
                      <a:pt x="1173540" y="2127472"/>
                      <a:pt x="1188026" y="2123094"/>
                      <a:pt x="1194877" y="2119818"/>
                    </a:cubicBezTo>
                    <a:cubicBezTo>
                      <a:pt x="1201068" y="2116856"/>
                      <a:pt x="1215173" y="2103510"/>
                      <a:pt x="1219770" y="2100683"/>
                    </a:cubicBezTo>
                    <a:cubicBezTo>
                      <a:pt x="1223025" y="2098681"/>
                      <a:pt x="1226882" y="2098131"/>
                      <a:pt x="1230439" y="2096856"/>
                    </a:cubicBezTo>
                    <a:cubicBezTo>
                      <a:pt x="1238736" y="2098131"/>
                      <a:pt x="1247835" y="2096649"/>
                      <a:pt x="1255332" y="2100683"/>
                    </a:cubicBezTo>
                    <a:cubicBezTo>
                      <a:pt x="1258685" y="2102487"/>
                      <a:pt x="1258888" y="2108130"/>
                      <a:pt x="1258888" y="2112164"/>
                    </a:cubicBezTo>
                    <a:cubicBezTo>
                      <a:pt x="1258888" y="2116198"/>
                      <a:pt x="1256362" y="2119766"/>
                      <a:pt x="1255332" y="2123645"/>
                    </a:cubicBezTo>
                    <a:cubicBezTo>
                      <a:pt x="1253989" y="2128702"/>
                      <a:pt x="1252961" y="2133850"/>
                      <a:pt x="1251776" y="2138952"/>
                    </a:cubicBezTo>
                    <a:cubicBezTo>
                      <a:pt x="1245781" y="2148629"/>
                      <a:pt x="1243211" y="2150597"/>
                      <a:pt x="1241107" y="2161914"/>
                    </a:cubicBezTo>
                    <a:cubicBezTo>
                      <a:pt x="1239463" y="2170759"/>
                      <a:pt x="1240664" y="2180328"/>
                      <a:pt x="1237551" y="2188703"/>
                    </a:cubicBezTo>
                    <a:cubicBezTo>
                      <a:pt x="1235683" y="2193728"/>
                      <a:pt x="1230439" y="2196357"/>
                      <a:pt x="1226882" y="2200184"/>
                    </a:cubicBezTo>
                    <a:lnTo>
                      <a:pt x="1216214" y="2204011"/>
                    </a:lnTo>
                    <a:lnTo>
                      <a:pt x="1205545" y="2207838"/>
                    </a:lnTo>
                    <a:cubicBezTo>
                      <a:pt x="1198433" y="2210389"/>
                      <a:pt x="1191059" y="2212215"/>
                      <a:pt x="1184208" y="2215492"/>
                    </a:cubicBezTo>
                    <a:cubicBezTo>
                      <a:pt x="1180303" y="2217360"/>
                      <a:pt x="1177363" y="2221089"/>
                      <a:pt x="1173540" y="2223146"/>
                    </a:cubicBezTo>
                    <a:cubicBezTo>
                      <a:pt x="1159694" y="2230595"/>
                      <a:pt x="1164604" y="2223440"/>
                      <a:pt x="1148647" y="2230800"/>
                    </a:cubicBezTo>
                    <a:cubicBezTo>
                      <a:pt x="1144718" y="2232612"/>
                      <a:pt x="1141534" y="2235902"/>
                      <a:pt x="1137978" y="2238454"/>
                    </a:cubicBezTo>
                    <a:cubicBezTo>
                      <a:pt x="1119229" y="2245179"/>
                      <a:pt x="1134400" y="2237835"/>
                      <a:pt x="1116641" y="2253762"/>
                    </a:cubicBezTo>
                    <a:cubicBezTo>
                      <a:pt x="1113357" y="2256706"/>
                      <a:pt x="1109256" y="2258471"/>
                      <a:pt x="1105972" y="2261415"/>
                    </a:cubicBezTo>
                    <a:cubicBezTo>
                      <a:pt x="1102109" y="2264880"/>
                      <a:pt x="1100199" y="2271657"/>
                      <a:pt x="1095304" y="2272896"/>
                    </a:cubicBezTo>
                    <a:cubicBezTo>
                      <a:pt x="1079108" y="2276997"/>
                      <a:pt x="1062113" y="2275448"/>
                      <a:pt x="1045517" y="2276723"/>
                    </a:cubicBezTo>
                    <a:cubicBezTo>
                      <a:pt x="1045394" y="2276690"/>
                      <a:pt x="1022324" y="2270899"/>
                      <a:pt x="1020624" y="2269069"/>
                    </a:cubicBezTo>
                    <a:cubicBezTo>
                      <a:pt x="1017973" y="2266217"/>
                      <a:pt x="1017803" y="2261544"/>
                      <a:pt x="1017068" y="2257588"/>
                    </a:cubicBezTo>
                    <a:cubicBezTo>
                      <a:pt x="1015424" y="2248743"/>
                      <a:pt x="1015156" y="2239645"/>
                      <a:pt x="1013512" y="2230800"/>
                    </a:cubicBezTo>
                    <a:cubicBezTo>
                      <a:pt x="1012777" y="2226844"/>
                      <a:pt x="1010572" y="2223298"/>
                      <a:pt x="1009956" y="2219319"/>
                    </a:cubicBezTo>
                    <a:cubicBezTo>
                      <a:pt x="1008191" y="2207924"/>
                      <a:pt x="1007585" y="2196357"/>
                      <a:pt x="1006399" y="2184876"/>
                    </a:cubicBezTo>
                    <a:cubicBezTo>
                      <a:pt x="1001295" y="2162904"/>
                      <a:pt x="1004658" y="2174452"/>
                      <a:pt x="995731" y="2150433"/>
                    </a:cubicBezTo>
                    <a:cubicBezTo>
                      <a:pt x="994339" y="2146688"/>
                      <a:pt x="993360" y="2142779"/>
                      <a:pt x="992175" y="2138952"/>
                    </a:cubicBezTo>
                    <a:lnTo>
                      <a:pt x="981506" y="2104510"/>
                    </a:lnTo>
                    <a:cubicBezTo>
                      <a:pt x="979537" y="2099213"/>
                      <a:pt x="976482" y="2094445"/>
                      <a:pt x="974394" y="2089202"/>
                    </a:cubicBezTo>
                    <a:cubicBezTo>
                      <a:pt x="972917" y="2085494"/>
                      <a:pt x="972514" y="2081329"/>
                      <a:pt x="970837" y="2077721"/>
                    </a:cubicBezTo>
                    <a:cubicBezTo>
                      <a:pt x="968926" y="2073607"/>
                      <a:pt x="964762" y="2070702"/>
                      <a:pt x="963725" y="2066240"/>
                    </a:cubicBezTo>
                    <a:cubicBezTo>
                      <a:pt x="961122" y="2055033"/>
                      <a:pt x="961354" y="2043278"/>
                      <a:pt x="960169" y="2031797"/>
                    </a:cubicBezTo>
                    <a:cubicBezTo>
                      <a:pt x="960169" y="2031797"/>
                      <a:pt x="955029" y="2016619"/>
                      <a:pt x="953057" y="2008835"/>
                    </a:cubicBezTo>
                    <a:cubicBezTo>
                      <a:pt x="951466" y="2002560"/>
                      <a:pt x="950966" y="1996011"/>
                      <a:pt x="949501" y="1989701"/>
                    </a:cubicBezTo>
                    <a:cubicBezTo>
                      <a:pt x="948591" y="1985787"/>
                      <a:pt x="946679" y="1982175"/>
                      <a:pt x="945944" y="1978220"/>
                    </a:cubicBezTo>
                    <a:cubicBezTo>
                      <a:pt x="944300" y="1969375"/>
                      <a:pt x="943663" y="1960346"/>
                      <a:pt x="942388" y="1951431"/>
                    </a:cubicBezTo>
                    <a:cubicBezTo>
                      <a:pt x="941292" y="1943762"/>
                      <a:pt x="940246" y="1936078"/>
                      <a:pt x="938832" y="1928469"/>
                    </a:cubicBezTo>
                    <a:cubicBezTo>
                      <a:pt x="937873" y="1923312"/>
                      <a:pt x="936618" y="1918219"/>
                      <a:pt x="935276" y="1913161"/>
                    </a:cubicBezTo>
                    <a:cubicBezTo>
                      <a:pt x="934246" y="1909283"/>
                      <a:pt x="932289" y="1905668"/>
                      <a:pt x="931719" y="1901680"/>
                    </a:cubicBezTo>
                    <a:cubicBezTo>
                      <a:pt x="929908" y="1889009"/>
                      <a:pt x="929349" y="1876168"/>
                      <a:pt x="928163" y="1863411"/>
                    </a:cubicBezTo>
                    <a:cubicBezTo>
                      <a:pt x="926978" y="1858308"/>
                      <a:pt x="925950" y="1853160"/>
                      <a:pt x="924607" y="1848103"/>
                    </a:cubicBezTo>
                    <a:cubicBezTo>
                      <a:pt x="923577" y="1844224"/>
                      <a:pt x="921721" y="1840591"/>
                      <a:pt x="921051" y="1836622"/>
                    </a:cubicBezTo>
                    <a:cubicBezTo>
                      <a:pt x="919341" y="1826503"/>
                      <a:pt x="918680" y="1816212"/>
                      <a:pt x="917495" y="1806006"/>
                    </a:cubicBezTo>
                    <a:cubicBezTo>
                      <a:pt x="909298" y="1770723"/>
                      <a:pt x="919813" y="1814322"/>
                      <a:pt x="906826" y="1767737"/>
                    </a:cubicBezTo>
                    <a:cubicBezTo>
                      <a:pt x="905422" y="1762699"/>
                      <a:pt x="904455" y="1757531"/>
                      <a:pt x="903270" y="1752429"/>
                    </a:cubicBezTo>
                    <a:cubicBezTo>
                      <a:pt x="889579" y="1737695"/>
                      <a:pt x="895391" y="1745451"/>
                      <a:pt x="885489" y="1729467"/>
                    </a:cubicBezTo>
                    <a:cubicBezTo>
                      <a:pt x="880748" y="1721813"/>
                      <a:pt x="871265" y="1719262"/>
                      <a:pt x="864152" y="1714159"/>
                    </a:cubicBezTo>
                    <a:cubicBezTo>
                      <a:pt x="855475" y="1711047"/>
                      <a:pt x="849709" y="1710097"/>
                      <a:pt x="842815" y="1702678"/>
                    </a:cubicBezTo>
                    <a:cubicBezTo>
                      <a:pt x="839793" y="1699426"/>
                      <a:pt x="838074" y="1695024"/>
                      <a:pt x="835703" y="1691197"/>
                    </a:cubicBezTo>
                    <a:cubicBezTo>
                      <a:pt x="809213" y="1672193"/>
                      <a:pt x="841749" y="1696619"/>
                      <a:pt x="814366" y="1672062"/>
                    </a:cubicBezTo>
                    <a:cubicBezTo>
                      <a:pt x="811082" y="1669118"/>
                      <a:pt x="807253" y="1666960"/>
                      <a:pt x="803697" y="1664409"/>
                    </a:cubicBezTo>
                    <a:cubicBezTo>
                      <a:pt x="797459" y="1659933"/>
                      <a:pt x="799369" y="1648938"/>
                      <a:pt x="796585" y="1641447"/>
                    </a:cubicBezTo>
                    <a:cubicBezTo>
                      <a:pt x="794616" y="1636150"/>
                      <a:pt x="791843" y="1631241"/>
                      <a:pt x="789472" y="1626139"/>
                    </a:cubicBezTo>
                    <a:cubicBezTo>
                      <a:pt x="785916" y="1623588"/>
                      <a:pt x="782087" y="1621429"/>
                      <a:pt x="778804" y="1618485"/>
                    </a:cubicBezTo>
                    <a:cubicBezTo>
                      <a:pt x="774940" y="1615020"/>
                      <a:pt x="772320" y="1610006"/>
                      <a:pt x="768135" y="1607004"/>
                    </a:cubicBezTo>
                    <a:cubicBezTo>
                      <a:pt x="765016" y="1604766"/>
                      <a:pt x="761023" y="1604453"/>
                      <a:pt x="757467" y="1603177"/>
                    </a:cubicBezTo>
                    <a:cubicBezTo>
                      <a:pt x="748283" y="1605648"/>
                      <a:pt x="728989" y="1610423"/>
                      <a:pt x="721905" y="1614658"/>
                    </a:cubicBezTo>
                    <a:cubicBezTo>
                      <a:pt x="713057" y="1619947"/>
                      <a:pt x="700658" y="1643215"/>
                      <a:pt x="697012" y="1649101"/>
                    </a:cubicBezTo>
                    <a:cubicBezTo>
                      <a:pt x="682787" y="1659306"/>
                      <a:pt x="688714" y="1652928"/>
                      <a:pt x="679231" y="1668236"/>
                    </a:cubicBezTo>
                    <a:cubicBezTo>
                      <a:pt x="673651" y="1677242"/>
                      <a:pt x="665006" y="1683543"/>
                      <a:pt x="657894" y="1691197"/>
                    </a:cubicBezTo>
                    <a:cubicBezTo>
                      <a:pt x="654337" y="1692473"/>
                      <a:pt x="650105" y="1692442"/>
                      <a:pt x="647225" y="1695024"/>
                    </a:cubicBezTo>
                    <a:cubicBezTo>
                      <a:pt x="642672" y="1699107"/>
                      <a:pt x="640002" y="1705142"/>
                      <a:pt x="636557" y="1710332"/>
                    </a:cubicBezTo>
                    <a:cubicBezTo>
                      <a:pt x="627939" y="1723315"/>
                      <a:pt x="630292" y="1719076"/>
                      <a:pt x="625888" y="1733294"/>
                    </a:cubicBezTo>
                    <a:cubicBezTo>
                      <a:pt x="621147" y="1737121"/>
                      <a:pt x="615854" y="1740265"/>
                      <a:pt x="611663" y="1744775"/>
                    </a:cubicBezTo>
                    <a:cubicBezTo>
                      <a:pt x="604770" y="1752194"/>
                      <a:pt x="603887" y="1758399"/>
                      <a:pt x="600995" y="1767737"/>
                    </a:cubicBezTo>
                    <a:cubicBezTo>
                      <a:pt x="592569" y="1781338"/>
                      <a:pt x="584362" y="1795409"/>
                      <a:pt x="572545" y="1806006"/>
                    </a:cubicBezTo>
                    <a:cubicBezTo>
                      <a:pt x="569262" y="1808951"/>
                      <a:pt x="564899" y="1810408"/>
                      <a:pt x="561877" y="1813660"/>
                    </a:cubicBezTo>
                    <a:cubicBezTo>
                      <a:pt x="545792" y="1830970"/>
                      <a:pt x="564865" y="1821518"/>
                      <a:pt x="544096" y="1828968"/>
                    </a:cubicBezTo>
                    <a:cubicBezTo>
                      <a:pt x="528686" y="1830244"/>
                      <a:pt x="513215" y="1830852"/>
                      <a:pt x="497865" y="1832795"/>
                    </a:cubicBezTo>
                    <a:cubicBezTo>
                      <a:pt x="490832" y="1833685"/>
                      <a:pt x="466090" y="1842465"/>
                      <a:pt x="462304" y="1844276"/>
                    </a:cubicBezTo>
                    <a:cubicBezTo>
                      <a:pt x="458398" y="1846144"/>
                      <a:pt x="455346" y="1849648"/>
                      <a:pt x="451635" y="1851930"/>
                    </a:cubicBezTo>
                    <a:cubicBezTo>
                      <a:pt x="440567" y="1858736"/>
                      <a:pt x="436195" y="1858761"/>
                      <a:pt x="426742" y="1867238"/>
                    </a:cubicBezTo>
                    <a:cubicBezTo>
                      <a:pt x="422878" y="1870703"/>
                      <a:pt x="419937" y="1875254"/>
                      <a:pt x="416073" y="1878719"/>
                    </a:cubicBezTo>
                    <a:cubicBezTo>
                      <a:pt x="412790" y="1881663"/>
                      <a:pt x="408427" y="1883120"/>
                      <a:pt x="405405" y="1886373"/>
                    </a:cubicBezTo>
                    <a:cubicBezTo>
                      <a:pt x="381695" y="1911887"/>
                      <a:pt x="416075" y="1885096"/>
                      <a:pt x="387624" y="1905508"/>
                    </a:cubicBezTo>
                    <a:cubicBezTo>
                      <a:pt x="360808" y="1915126"/>
                      <a:pt x="393862" y="1902151"/>
                      <a:pt x="366287" y="1916988"/>
                    </a:cubicBezTo>
                    <a:cubicBezTo>
                      <a:pt x="345700" y="1928065"/>
                      <a:pt x="365174" y="1910532"/>
                      <a:pt x="344950" y="1932296"/>
                    </a:cubicBezTo>
                    <a:cubicBezTo>
                      <a:pt x="340208" y="1934848"/>
                      <a:pt x="335598" y="1937703"/>
                      <a:pt x="330725" y="1939950"/>
                    </a:cubicBezTo>
                    <a:cubicBezTo>
                      <a:pt x="327280" y="1941539"/>
                      <a:pt x="323409" y="1941973"/>
                      <a:pt x="320056" y="1943777"/>
                    </a:cubicBezTo>
                    <a:cubicBezTo>
                      <a:pt x="310010" y="1949183"/>
                      <a:pt x="289396" y="1964498"/>
                      <a:pt x="280938" y="1970566"/>
                    </a:cubicBezTo>
                    <a:cubicBezTo>
                      <a:pt x="277382" y="1971842"/>
                      <a:pt x="273715" y="1972804"/>
                      <a:pt x="270270" y="1974393"/>
                    </a:cubicBezTo>
                    <a:cubicBezTo>
                      <a:pt x="254960" y="1981454"/>
                      <a:pt x="249877" y="1986472"/>
                      <a:pt x="234708" y="1997355"/>
                    </a:cubicBezTo>
                    <a:cubicBezTo>
                      <a:pt x="231152" y="1998630"/>
                      <a:pt x="227392" y="1999378"/>
                      <a:pt x="224039" y="2001182"/>
                    </a:cubicBezTo>
                    <a:cubicBezTo>
                      <a:pt x="216518" y="2005229"/>
                      <a:pt x="205587" y="2015984"/>
                      <a:pt x="199146" y="2020316"/>
                    </a:cubicBezTo>
                    <a:cubicBezTo>
                      <a:pt x="189101" y="2027073"/>
                      <a:pt x="184624" y="2028077"/>
                      <a:pt x="174253" y="2031797"/>
                    </a:cubicBezTo>
                    <a:cubicBezTo>
                      <a:pt x="166143" y="2034706"/>
                      <a:pt x="159663" y="2041458"/>
                      <a:pt x="152916" y="2047105"/>
                    </a:cubicBezTo>
                    <a:cubicBezTo>
                      <a:pt x="141345" y="2056790"/>
                      <a:pt x="136297" y="2068192"/>
                      <a:pt x="128023" y="2081548"/>
                    </a:cubicBezTo>
                    <a:cubicBezTo>
                      <a:pt x="108464" y="2095580"/>
                      <a:pt x="125059" y="2081548"/>
                      <a:pt x="110241" y="2100683"/>
                    </a:cubicBezTo>
                    <a:cubicBezTo>
                      <a:pt x="107022" y="2104841"/>
                      <a:pt x="102793" y="2108006"/>
                      <a:pt x="99573" y="2112164"/>
                    </a:cubicBezTo>
                    <a:cubicBezTo>
                      <a:pt x="96837" y="2115697"/>
                      <a:pt x="93095" y="2119096"/>
                      <a:pt x="92461" y="2123645"/>
                    </a:cubicBezTo>
                    <a:cubicBezTo>
                      <a:pt x="89466" y="2145128"/>
                      <a:pt x="90090" y="2167017"/>
                      <a:pt x="88905" y="2188703"/>
                    </a:cubicBezTo>
                    <a:cubicBezTo>
                      <a:pt x="88905" y="2188703"/>
                      <a:pt x="94331" y="2203804"/>
                      <a:pt x="96017" y="2211665"/>
                    </a:cubicBezTo>
                    <a:cubicBezTo>
                      <a:pt x="100065" y="2230543"/>
                      <a:pt x="101478" y="2239956"/>
                      <a:pt x="96017" y="2257588"/>
                    </a:cubicBezTo>
                    <a:cubicBezTo>
                      <a:pt x="94340" y="2263001"/>
                      <a:pt x="91275" y="2267794"/>
                      <a:pt x="88905" y="2272896"/>
                    </a:cubicBezTo>
                    <a:cubicBezTo>
                      <a:pt x="84347" y="2271670"/>
                      <a:pt x="69113" y="2267988"/>
                      <a:pt x="64011" y="2265243"/>
                    </a:cubicBezTo>
                    <a:cubicBezTo>
                      <a:pt x="60189" y="2263186"/>
                      <a:pt x="56899" y="2260140"/>
                      <a:pt x="53343" y="2257588"/>
                    </a:cubicBezTo>
                    <a:cubicBezTo>
                      <a:pt x="46230" y="2252486"/>
                      <a:pt x="44366" y="2241888"/>
                      <a:pt x="39118" y="2234627"/>
                    </a:cubicBezTo>
                    <a:cubicBezTo>
                      <a:pt x="30648" y="2222907"/>
                      <a:pt x="17230" y="2216999"/>
                      <a:pt x="14225" y="2200184"/>
                    </a:cubicBezTo>
                    <a:cubicBezTo>
                      <a:pt x="9742" y="2175099"/>
                      <a:pt x="12023" y="2149148"/>
                      <a:pt x="10668" y="2123645"/>
                    </a:cubicBezTo>
                    <a:cubicBezTo>
                      <a:pt x="9652" y="2104499"/>
                      <a:pt x="8298" y="2085375"/>
                      <a:pt x="7112" y="2066240"/>
                    </a:cubicBezTo>
                    <a:cubicBezTo>
                      <a:pt x="2326" y="2045634"/>
                      <a:pt x="0" y="2038763"/>
                      <a:pt x="0" y="2012663"/>
                    </a:cubicBezTo>
                    <a:cubicBezTo>
                      <a:pt x="0" y="2008629"/>
                      <a:pt x="2371" y="2005009"/>
                      <a:pt x="3556" y="2001182"/>
                    </a:cubicBezTo>
                    <a:cubicBezTo>
                      <a:pt x="11421" y="1992718"/>
                      <a:pt x="16386" y="1988876"/>
                      <a:pt x="21337" y="1978220"/>
                    </a:cubicBezTo>
                    <a:cubicBezTo>
                      <a:pt x="23013" y="1974612"/>
                      <a:pt x="22552" y="1969889"/>
                      <a:pt x="24893" y="1966739"/>
                    </a:cubicBezTo>
                    <a:cubicBezTo>
                      <a:pt x="27563" y="1963147"/>
                      <a:pt x="32006" y="1961636"/>
                      <a:pt x="35562" y="1959085"/>
                    </a:cubicBezTo>
                    <a:cubicBezTo>
                      <a:pt x="53343" y="1957809"/>
                      <a:pt x="71193" y="1957376"/>
                      <a:pt x="88905" y="1955258"/>
                    </a:cubicBezTo>
                    <a:cubicBezTo>
                      <a:pt x="97738" y="1954202"/>
                      <a:pt x="103169" y="1948851"/>
                      <a:pt x="110241" y="1943777"/>
                    </a:cubicBezTo>
                    <a:lnTo>
                      <a:pt x="142247" y="1920815"/>
                    </a:lnTo>
                    <a:cubicBezTo>
                      <a:pt x="145366" y="1918578"/>
                      <a:pt x="149360" y="1918264"/>
                      <a:pt x="152916" y="1916988"/>
                    </a:cubicBezTo>
                    <a:lnTo>
                      <a:pt x="174253" y="1909334"/>
                    </a:lnTo>
                    <a:cubicBezTo>
                      <a:pt x="178307" y="1907880"/>
                      <a:pt x="181365" y="1904232"/>
                      <a:pt x="184921" y="1901680"/>
                    </a:cubicBezTo>
                    <a:cubicBezTo>
                      <a:pt x="192034" y="1896578"/>
                      <a:pt x="200214" y="1892877"/>
                      <a:pt x="206258" y="1886373"/>
                    </a:cubicBezTo>
                    <a:cubicBezTo>
                      <a:pt x="210007" y="1882339"/>
                      <a:pt x="211000" y="1876167"/>
                      <a:pt x="213371" y="1871065"/>
                    </a:cubicBezTo>
                    <a:lnTo>
                      <a:pt x="224039" y="1863411"/>
                    </a:lnTo>
                    <a:cubicBezTo>
                      <a:pt x="228224" y="1860409"/>
                      <a:pt x="231152" y="1855757"/>
                      <a:pt x="234708" y="1851930"/>
                    </a:cubicBezTo>
                    <a:cubicBezTo>
                      <a:pt x="241820" y="1844276"/>
                      <a:pt x="248527" y="1836159"/>
                      <a:pt x="256045" y="1828968"/>
                    </a:cubicBezTo>
                    <a:cubicBezTo>
                      <a:pt x="275442" y="1810413"/>
                      <a:pt x="259170" y="1833490"/>
                      <a:pt x="273826" y="1809833"/>
                    </a:cubicBezTo>
                    <a:cubicBezTo>
                      <a:pt x="278567" y="1802179"/>
                      <a:pt x="288051" y="1799628"/>
                      <a:pt x="295163" y="1794525"/>
                    </a:cubicBezTo>
                    <a:cubicBezTo>
                      <a:pt x="299905" y="1793250"/>
                      <a:pt x="304896" y="1792770"/>
                      <a:pt x="309388" y="1790698"/>
                    </a:cubicBezTo>
                    <a:cubicBezTo>
                      <a:pt x="340559" y="1776323"/>
                      <a:pt x="300756" y="1788432"/>
                      <a:pt x="330725" y="1779217"/>
                    </a:cubicBezTo>
                    <a:cubicBezTo>
                      <a:pt x="349998" y="1773292"/>
                      <a:pt x="343001" y="1776576"/>
                      <a:pt x="366287" y="1771564"/>
                    </a:cubicBezTo>
                    <a:cubicBezTo>
                      <a:pt x="382677" y="1768036"/>
                      <a:pt x="383709" y="1765939"/>
                      <a:pt x="401849" y="1760083"/>
                    </a:cubicBezTo>
                    <a:cubicBezTo>
                      <a:pt x="407548" y="1758243"/>
                      <a:pt x="420765" y="1755645"/>
                      <a:pt x="426742" y="1752429"/>
                    </a:cubicBezTo>
                    <a:cubicBezTo>
                      <a:pt x="430565" y="1750372"/>
                      <a:pt x="433588" y="1746832"/>
                      <a:pt x="437411" y="1744775"/>
                    </a:cubicBezTo>
                    <a:cubicBezTo>
                      <a:pt x="446000" y="1740153"/>
                      <a:pt x="451953" y="1742433"/>
                      <a:pt x="458748" y="1733294"/>
                    </a:cubicBezTo>
                    <a:cubicBezTo>
                      <a:pt x="461089" y="1730144"/>
                      <a:pt x="459962" y="1724963"/>
                      <a:pt x="462304" y="1721813"/>
                    </a:cubicBezTo>
                    <a:cubicBezTo>
                      <a:pt x="464974" y="1718222"/>
                      <a:pt x="472322" y="1718705"/>
                      <a:pt x="472972" y="1714159"/>
                    </a:cubicBezTo>
                    <a:cubicBezTo>
                      <a:pt x="477302" y="1683873"/>
                      <a:pt x="475343" y="1652928"/>
                      <a:pt x="476529" y="1622312"/>
                    </a:cubicBezTo>
                    <a:cubicBezTo>
                      <a:pt x="476529" y="1622312"/>
                      <a:pt x="482070" y="1607239"/>
                      <a:pt x="483641" y="1599350"/>
                    </a:cubicBezTo>
                    <a:cubicBezTo>
                      <a:pt x="485643" y="1589294"/>
                      <a:pt x="486012" y="1578940"/>
                      <a:pt x="487197" y="1568734"/>
                    </a:cubicBezTo>
                    <a:cubicBezTo>
                      <a:pt x="497448" y="1561380"/>
                      <a:pt x="504251" y="1557583"/>
                      <a:pt x="512090" y="1545773"/>
                    </a:cubicBezTo>
                    <a:cubicBezTo>
                      <a:pt x="514269" y="1542490"/>
                      <a:pt x="514461" y="1538119"/>
                      <a:pt x="515647" y="1534292"/>
                    </a:cubicBezTo>
                    <a:cubicBezTo>
                      <a:pt x="519203" y="1531740"/>
                      <a:pt x="523579" y="1530171"/>
                      <a:pt x="526315" y="1526638"/>
                    </a:cubicBezTo>
                    <a:cubicBezTo>
                      <a:pt x="537624" y="1512034"/>
                      <a:pt x="535441" y="1489656"/>
                      <a:pt x="536984" y="1473060"/>
                    </a:cubicBezTo>
                    <a:cubicBezTo>
                      <a:pt x="538169" y="1469233"/>
                      <a:pt x="538863" y="1465187"/>
                      <a:pt x="540540" y="1461579"/>
                    </a:cubicBezTo>
                    <a:cubicBezTo>
                      <a:pt x="554328" y="1431903"/>
                      <a:pt x="542269" y="1467476"/>
                      <a:pt x="551208" y="1438618"/>
                    </a:cubicBezTo>
                    <a:cubicBezTo>
                      <a:pt x="554764" y="1434791"/>
                      <a:pt x="558954" y="1431541"/>
                      <a:pt x="561877" y="1427137"/>
                    </a:cubicBezTo>
                    <a:cubicBezTo>
                      <a:pt x="580657" y="1398843"/>
                      <a:pt x="571521" y="1349158"/>
                      <a:pt x="572545" y="1323808"/>
                    </a:cubicBezTo>
                    <a:cubicBezTo>
                      <a:pt x="563981" y="1296160"/>
                      <a:pt x="572358" y="1326127"/>
                      <a:pt x="565433" y="1270231"/>
                    </a:cubicBezTo>
                    <a:cubicBezTo>
                      <a:pt x="564787" y="1265017"/>
                      <a:pt x="563062" y="1260026"/>
                      <a:pt x="561877" y="1254923"/>
                    </a:cubicBezTo>
                    <a:lnTo>
                      <a:pt x="554764" y="1243442"/>
                    </a:lnTo>
                    <a:cubicBezTo>
                      <a:pt x="550606" y="1236729"/>
                      <a:pt x="549806" y="1228208"/>
                      <a:pt x="547652" y="1220480"/>
                    </a:cubicBezTo>
                    <a:cubicBezTo>
                      <a:pt x="542617" y="1202420"/>
                      <a:pt x="543061" y="1196263"/>
                      <a:pt x="540540" y="1174557"/>
                    </a:cubicBezTo>
                    <a:cubicBezTo>
                      <a:pt x="536191" y="1165196"/>
                      <a:pt x="531964" y="1157904"/>
                      <a:pt x="529871" y="1147768"/>
                    </a:cubicBezTo>
                    <a:cubicBezTo>
                      <a:pt x="528307" y="1140193"/>
                      <a:pt x="527500" y="1132460"/>
                      <a:pt x="526315" y="1124806"/>
                    </a:cubicBezTo>
                    <a:cubicBezTo>
                      <a:pt x="518310" y="1098963"/>
                      <a:pt x="527546" y="1130771"/>
                      <a:pt x="519203" y="1090364"/>
                    </a:cubicBezTo>
                    <a:cubicBezTo>
                      <a:pt x="518389" y="1086426"/>
                      <a:pt x="516142" y="1082881"/>
                      <a:pt x="515647" y="1078883"/>
                    </a:cubicBezTo>
                    <a:cubicBezTo>
                      <a:pt x="513760" y="1063657"/>
                      <a:pt x="513276" y="1048267"/>
                      <a:pt x="512090" y="1032959"/>
                    </a:cubicBezTo>
                    <a:cubicBezTo>
                      <a:pt x="513276" y="1026581"/>
                      <a:pt x="514565" y="1020224"/>
                      <a:pt x="515647" y="1013824"/>
                    </a:cubicBezTo>
                    <a:cubicBezTo>
                      <a:pt x="516936" y="1006190"/>
                      <a:pt x="517638" y="998437"/>
                      <a:pt x="519203" y="990862"/>
                    </a:cubicBezTo>
                    <a:cubicBezTo>
                      <a:pt x="520016" y="986924"/>
                      <a:pt x="521573" y="983208"/>
                      <a:pt x="522759" y="979382"/>
                    </a:cubicBezTo>
                    <a:cubicBezTo>
                      <a:pt x="526315" y="978106"/>
                      <a:pt x="530500" y="978075"/>
                      <a:pt x="533427" y="975554"/>
                    </a:cubicBezTo>
                    <a:cubicBezTo>
                      <a:pt x="536765" y="972681"/>
                      <a:pt x="537803" y="967607"/>
                      <a:pt x="540540" y="964073"/>
                    </a:cubicBezTo>
                    <a:cubicBezTo>
                      <a:pt x="543759" y="959916"/>
                      <a:pt x="547652" y="956420"/>
                      <a:pt x="551208" y="952593"/>
                    </a:cubicBezTo>
                    <a:cubicBezTo>
                      <a:pt x="551208" y="952593"/>
                      <a:pt x="554866" y="951581"/>
                      <a:pt x="559362" y="950119"/>
                    </a:cubicBezTo>
                    <a:lnTo>
                      <a:pt x="559650" y="950006"/>
                    </a:lnTo>
                    <a:lnTo>
                      <a:pt x="524953" y="932147"/>
                    </a:lnTo>
                    <a:cubicBezTo>
                      <a:pt x="382012" y="840570"/>
                      <a:pt x="288032" y="685487"/>
                      <a:pt x="288032" y="509588"/>
                    </a:cubicBezTo>
                    <a:cubicBezTo>
                      <a:pt x="288032" y="228150"/>
                      <a:pt x="528620" y="0"/>
                      <a:pt x="825401" y="0"/>
                    </a:cubicBezTo>
                    <a:close/>
                  </a:path>
                </a:pathLst>
              </a:custGeom>
              <a:noFill/>
              <a:ln w="12600">
                <a:solidFill>
                  <a:srgbClr val="335a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任意多边形 58"/>
              <p:cNvSpPr/>
              <p:nvPr/>
            </p:nvSpPr>
            <p:spPr>
              <a:xfrm>
                <a:off x="5991480" y="5445000"/>
                <a:ext cx="290160" cy="287280"/>
              </a:xfrm>
              <a:custGeom>
                <a:avLst/>
                <a:gdLst/>
                <a:ahLst/>
                <a:rect l="l" t="t" r="r" b="b"/>
                <a:pathLst>
                  <a:path w="1074738" h="1001741">
                    <a:moveTo>
                      <a:pt x="449153" y="514058"/>
                    </a:moveTo>
                    <a:lnTo>
                      <a:pt x="449027" y="514277"/>
                    </a:lnTo>
                    <a:cubicBezTo>
                      <a:pt x="448511" y="515145"/>
                      <a:pt x="448210" y="515628"/>
                      <a:pt x="448391" y="515317"/>
                    </a:cubicBezTo>
                    <a:close/>
                    <a:moveTo>
                      <a:pt x="498252" y="493263"/>
                    </a:moveTo>
                    <a:lnTo>
                      <a:pt x="498783" y="496664"/>
                    </a:lnTo>
                    <a:cubicBezTo>
                      <a:pt x="499088" y="501237"/>
                      <a:pt x="498573" y="504409"/>
                      <a:pt x="496429" y="504665"/>
                    </a:cubicBezTo>
                    <a:cubicBezTo>
                      <a:pt x="495046" y="504830"/>
                      <a:pt x="495600" y="501312"/>
                      <a:pt x="497203" y="496074"/>
                    </a:cubicBezTo>
                    <a:close/>
                    <a:moveTo>
                      <a:pt x="502000" y="483230"/>
                    </a:moveTo>
                    <a:lnTo>
                      <a:pt x="498252" y="493263"/>
                    </a:lnTo>
                    <a:lnTo>
                      <a:pt x="497180" y="486389"/>
                    </a:lnTo>
                    <a:close/>
                    <a:moveTo>
                      <a:pt x="609781" y="479485"/>
                    </a:moveTo>
                    <a:lnTo>
                      <a:pt x="617010" y="484222"/>
                    </a:lnTo>
                    <a:lnTo>
                      <a:pt x="613871" y="485329"/>
                    </a:lnTo>
                    <a:cubicBezTo>
                      <a:pt x="610152" y="485829"/>
                      <a:pt x="606807" y="482610"/>
                      <a:pt x="603203" y="481502"/>
                    </a:cubicBezTo>
                    <a:lnTo>
                      <a:pt x="599019" y="480376"/>
                    </a:lnTo>
                    <a:close/>
                    <a:moveTo>
                      <a:pt x="569747" y="470203"/>
                    </a:moveTo>
                    <a:lnTo>
                      <a:pt x="599019" y="480376"/>
                    </a:lnTo>
                    <a:lnTo>
                      <a:pt x="588978" y="477675"/>
                    </a:lnTo>
                    <a:close/>
                    <a:moveTo>
                      <a:pt x="556697" y="465667"/>
                    </a:moveTo>
                    <a:lnTo>
                      <a:pt x="558827" y="465960"/>
                    </a:lnTo>
                    <a:lnTo>
                      <a:pt x="569747" y="470203"/>
                    </a:lnTo>
                    <a:close/>
                    <a:moveTo>
                      <a:pt x="512031" y="460275"/>
                    </a:moveTo>
                    <a:lnTo>
                      <a:pt x="526568" y="461880"/>
                    </a:lnTo>
                    <a:lnTo>
                      <a:pt x="533340" y="462682"/>
                    </a:lnTo>
                    <a:lnTo>
                      <a:pt x="515709" y="474242"/>
                    </a:lnTo>
                    <a:lnTo>
                      <a:pt x="502000" y="483230"/>
                    </a:lnTo>
                    <a:lnTo>
                      <a:pt x="504266" y="477161"/>
                    </a:lnTo>
                    <a:close/>
                    <a:moveTo>
                      <a:pt x="537942" y="459665"/>
                    </a:moveTo>
                    <a:lnTo>
                      <a:pt x="542048" y="460576"/>
                    </a:lnTo>
                    <a:lnTo>
                      <a:pt x="556697" y="465667"/>
                    </a:lnTo>
                    <a:lnTo>
                      <a:pt x="545282" y="464098"/>
                    </a:lnTo>
                    <a:lnTo>
                      <a:pt x="533340" y="462682"/>
                    </a:lnTo>
                    <a:close/>
                    <a:moveTo>
                      <a:pt x="537845" y="459643"/>
                    </a:moveTo>
                    <a:lnTo>
                      <a:pt x="537966" y="459649"/>
                    </a:lnTo>
                    <a:lnTo>
                      <a:pt x="537942" y="459665"/>
                    </a:lnTo>
                    <a:close/>
                    <a:moveTo>
                      <a:pt x="538218" y="459484"/>
                    </a:moveTo>
                    <a:lnTo>
                      <a:pt x="539511" y="459694"/>
                    </a:lnTo>
                    <a:lnTo>
                      <a:pt x="539601" y="459725"/>
                    </a:lnTo>
                    <a:lnTo>
                      <a:pt x="537966" y="459649"/>
                    </a:lnTo>
                    <a:close/>
                    <a:moveTo>
                      <a:pt x="514369" y="457315"/>
                    </a:moveTo>
                    <a:lnTo>
                      <a:pt x="534248" y="458846"/>
                    </a:lnTo>
                    <a:lnTo>
                      <a:pt x="537845" y="459643"/>
                    </a:lnTo>
                    <a:lnTo>
                      <a:pt x="513339" y="458501"/>
                    </a:lnTo>
                    <a:close/>
                    <a:moveTo>
                      <a:pt x="515634" y="455536"/>
                    </a:moveTo>
                    <a:lnTo>
                      <a:pt x="515900" y="455551"/>
                    </a:lnTo>
                    <a:lnTo>
                      <a:pt x="514369" y="457315"/>
                    </a:lnTo>
                    <a:lnTo>
                      <a:pt x="513742" y="457266"/>
                    </a:lnTo>
                    <a:lnTo>
                      <a:pt x="507296" y="456757"/>
                    </a:lnTo>
                    <a:lnTo>
                      <a:pt x="507837" y="456678"/>
                    </a:lnTo>
                    <a:close/>
                    <a:moveTo>
                      <a:pt x="537369" y="0"/>
                    </a:moveTo>
                    <a:cubicBezTo>
                      <a:pt x="834150" y="0"/>
                      <a:pt x="1074738" y="228150"/>
                      <a:pt x="1074738" y="509588"/>
                    </a:cubicBezTo>
                    <a:cubicBezTo>
                      <a:pt x="1074738" y="720667"/>
                      <a:pt x="939407" y="901771"/>
                      <a:pt x="746538" y="979130"/>
                    </a:cubicBezTo>
                    <a:lnTo>
                      <a:pt x="669726" y="1001741"/>
                    </a:lnTo>
                    <a:lnTo>
                      <a:pt x="668899" y="988513"/>
                    </a:lnTo>
                    <a:cubicBezTo>
                      <a:pt x="667759" y="972263"/>
                      <a:pt x="666053" y="950421"/>
                      <a:pt x="663658" y="917776"/>
                    </a:cubicBezTo>
                    <a:cubicBezTo>
                      <a:pt x="662906" y="907523"/>
                      <a:pt x="662070" y="897224"/>
                      <a:pt x="660101" y="887160"/>
                    </a:cubicBezTo>
                    <a:cubicBezTo>
                      <a:pt x="636648" y="767275"/>
                      <a:pt x="657463" y="896917"/>
                      <a:pt x="645877" y="822102"/>
                    </a:cubicBezTo>
                    <a:cubicBezTo>
                      <a:pt x="650631" y="806752"/>
                      <a:pt x="646756" y="810243"/>
                      <a:pt x="663658" y="802967"/>
                    </a:cubicBezTo>
                    <a:cubicBezTo>
                      <a:pt x="670618" y="799971"/>
                      <a:pt x="684995" y="795313"/>
                      <a:pt x="684995" y="795313"/>
                    </a:cubicBezTo>
                    <a:cubicBezTo>
                      <a:pt x="687365" y="791486"/>
                      <a:pt x="689986" y="787826"/>
                      <a:pt x="692107" y="783832"/>
                    </a:cubicBezTo>
                    <a:cubicBezTo>
                      <a:pt x="694737" y="778879"/>
                      <a:pt x="695826" y="772907"/>
                      <a:pt x="699219" y="768524"/>
                    </a:cubicBezTo>
                    <a:cubicBezTo>
                      <a:pt x="701955" y="764991"/>
                      <a:pt x="706332" y="763422"/>
                      <a:pt x="709888" y="760871"/>
                    </a:cubicBezTo>
                    <a:cubicBezTo>
                      <a:pt x="722200" y="740996"/>
                      <a:pt x="717758" y="753587"/>
                      <a:pt x="713444" y="718774"/>
                    </a:cubicBezTo>
                    <a:cubicBezTo>
                      <a:pt x="712337" y="709833"/>
                      <a:pt x="711773" y="700774"/>
                      <a:pt x="709888" y="691985"/>
                    </a:cubicBezTo>
                    <a:cubicBezTo>
                      <a:pt x="705204" y="670144"/>
                      <a:pt x="703226" y="671620"/>
                      <a:pt x="695663" y="653715"/>
                    </a:cubicBezTo>
                    <a:cubicBezTo>
                      <a:pt x="682237" y="621928"/>
                      <a:pt x="693015" y="632680"/>
                      <a:pt x="674326" y="619273"/>
                    </a:cubicBezTo>
                    <a:cubicBezTo>
                      <a:pt x="673648" y="609780"/>
                      <a:pt x="674890" y="574561"/>
                      <a:pt x="667214" y="558041"/>
                    </a:cubicBezTo>
                    <a:cubicBezTo>
                      <a:pt x="665302" y="553927"/>
                      <a:pt x="662472" y="550387"/>
                      <a:pt x="660101" y="546560"/>
                    </a:cubicBezTo>
                    <a:cubicBezTo>
                      <a:pt x="657731" y="538906"/>
                      <a:pt x="658290" y="529303"/>
                      <a:pt x="652989" y="523598"/>
                    </a:cubicBezTo>
                    <a:cubicBezTo>
                      <a:pt x="649433" y="519772"/>
                      <a:pt x="645540" y="516275"/>
                      <a:pt x="642321" y="512118"/>
                    </a:cubicBezTo>
                    <a:cubicBezTo>
                      <a:pt x="629605" y="495698"/>
                      <a:pt x="641540" y="504402"/>
                      <a:pt x="624540" y="489156"/>
                    </a:cubicBezTo>
                    <a:lnTo>
                      <a:pt x="617010" y="484222"/>
                    </a:lnTo>
                    <a:lnTo>
                      <a:pt x="622914" y="482139"/>
                    </a:lnTo>
                    <a:cubicBezTo>
                      <a:pt x="625827" y="480651"/>
                      <a:pt x="628689" y="478950"/>
                      <a:pt x="631652" y="477675"/>
                    </a:cubicBezTo>
                    <a:lnTo>
                      <a:pt x="609781" y="479485"/>
                    </a:lnTo>
                    <a:cubicBezTo>
                      <a:pt x="609777" y="479482"/>
                      <a:pt x="609772" y="479480"/>
                      <a:pt x="609768" y="479477"/>
                    </a:cubicBezTo>
                    <a:cubicBezTo>
                      <a:pt x="604679" y="477219"/>
                      <a:pt x="599179" y="475636"/>
                      <a:pt x="592534" y="473848"/>
                    </a:cubicBezTo>
                    <a:cubicBezTo>
                      <a:pt x="582875" y="471249"/>
                      <a:pt x="576649" y="468748"/>
                      <a:pt x="560528" y="466194"/>
                    </a:cubicBezTo>
                    <a:lnTo>
                      <a:pt x="558827" y="465960"/>
                    </a:lnTo>
                    <a:lnTo>
                      <a:pt x="548858" y="462087"/>
                    </a:lnTo>
                    <a:lnTo>
                      <a:pt x="542048" y="460576"/>
                    </a:lnTo>
                    <a:lnTo>
                      <a:pt x="539601" y="459725"/>
                    </a:lnTo>
                    <a:lnTo>
                      <a:pt x="539747" y="459732"/>
                    </a:lnTo>
                    <a:lnTo>
                      <a:pt x="539511" y="459694"/>
                    </a:lnTo>
                    <a:lnTo>
                      <a:pt x="538456" y="459328"/>
                    </a:lnTo>
                    <a:lnTo>
                      <a:pt x="538218" y="459484"/>
                    </a:lnTo>
                    <a:lnTo>
                      <a:pt x="534294" y="458849"/>
                    </a:lnTo>
                    <a:lnTo>
                      <a:pt x="534248" y="458846"/>
                    </a:lnTo>
                    <a:lnTo>
                      <a:pt x="520603" y="455818"/>
                    </a:lnTo>
                    <a:lnTo>
                      <a:pt x="515900" y="455551"/>
                    </a:lnTo>
                    <a:lnTo>
                      <a:pt x="515954" y="455489"/>
                    </a:lnTo>
                    <a:lnTo>
                      <a:pt x="515634" y="455536"/>
                    </a:lnTo>
                    <a:lnTo>
                      <a:pt x="501221" y="454718"/>
                    </a:lnTo>
                    <a:cubicBezTo>
                      <a:pt x="495907" y="454752"/>
                      <a:pt x="491573" y="454955"/>
                      <a:pt x="487720" y="454636"/>
                    </a:cubicBezTo>
                    <a:cubicBezTo>
                      <a:pt x="485349" y="454795"/>
                      <a:pt x="488010" y="455167"/>
                      <a:pt x="493185" y="455642"/>
                    </a:cubicBezTo>
                    <a:lnTo>
                      <a:pt x="507296" y="456757"/>
                    </a:lnTo>
                    <a:lnTo>
                      <a:pt x="499720" y="457866"/>
                    </a:lnTo>
                    <a:lnTo>
                      <a:pt x="513339" y="458501"/>
                    </a:lnTo>
                    <a:lnTo>
                      <a:pt x="512292" y="459706"/>
                    </a:lnTo>
                    <a:lnTo>
                      <a:pt x="512031" y="460275"/>
                    </a:lnTo>
                    <a:lnTo>
                      <a:pt x="508654" y="459902"/>
                    </a:lnTo>
                    <a:cubicBezTo>
                      <a:pt x="503291" y="459322"/>
                      <a:pt x="498772" y="458843"/>
                      <a:pt x="495808" y="458524"/>
                    </a:cubicBezTo>
                    <a:cubicBezTo>
                      <a:pt x="491659" y="457249"/>
                      <a:pt x="493958" y="468527"/>
                      <a:pt x="496223" y="480253"/>
                    </a:cubicBezTo>
                    <a:lnTo>
                      <a:pt x="497180" y="486389"/>
                    </a:lnTo>
                    <a:lnTo>
                      <a:pt x="492961" y="489156"/>
                    </a:lnTo>
                    <a:cubicBezTo>
                      <a:pt x="492961" y="489141"/>
                      <a:pt x="492714" y="487064"/>
                      <a:pt x="492517" y="483935"/>
                    </a:cubicBezTo>
                    <a:cubicBezTo>
                      <a:pt x="492488" y="481650"/>
                      <a:pt x="488815" y="463994"/>
                      <a:pt x="488786" y="461709"/>
                    </a:cubicBezTo>
                    <a:lnTo>
                      <a:pt x="485849" y="477675"/>
                    </a:lnTo>
                    <a:cubicBezTo>
                      <a:pt x="458097" y="482154"/>
                      <a:pt x="480494" y="483437"/>
                      <a:pt x="468068" y="496810"/>
                    </a:cubicBezTo>
                    <a:cubicBezTo>
                      <a:pt x="465417" y="499662"/>
                      <a:pt x="460955" y="499361"/>
                      <a:pt x="457399" y="500637"/>
                    </a:cubicBezTo>
                    <a:cubicBezTo>
                      <a:pt x="454222" y="505765"/>
                      <a:pt x="452061" y="509279"/>
                      <a:pt x="450648" y="511589"/>
                    </a:cubicBezTo>
                    <a:lnTo>
                      <a:pt x="449153" y="514058"/>
                    </a:lnTo>
                    <a:lnTo>
                      <a:pt x="450957" y="510927"/>
                    </a:lnTo>
                    <a:cubicBezTo>
                      <a:pt x="453682" y="506015"/>
                      <a:pt x="455591" y="501499"/>
                      <a:pt x="439618" y="523598"/>
                    </a:cubicBezTo>
                    <a:cubicBezTo>
                      <a:pt x="434370" y="530860"/>
                      <a:pt x="430135" y="538906"/>
                      <a:pt x="425393" y="546560"/>
                    </a:cubicBezTo>
                    <a:lnTo>
                      <a:pt x="418281" y="558041"/>
                    </a:lnTo>
                    <a:cubicBezTo>
                      <a:pt x="417096" y="561868"/>
                      <a:pt x="416401" y="565914"/>
                      <a:pt x="414725" y="569522"/>
                    </a:cubicBezTo>
                    <a:cubicBezTo>
                      <a:pt x="412814" y="573636"/>
                      <a:pt x="409296" y="576775"/>
                      <a:pt x="407613" y="581003"/>
                    </a:cubicBezTo>
                    <a:cubicBezTo>
                      <a:pt x="405687" y="585837"/>
                      <a:pt x="405242" y="591208"/>
                      <a:pt x="404057" y="596311"/>
                    </a:cubicBezTo>
                    <a:cubicBezTo>
                      <a:pt x="405242" y="616721"/>
                      <a:pt x="405892" y="637176"/>
                      <a:pt x="407613" y="657542"/>
                    </a:cubicBezTo>
                    <a:cubicBezTo>
                      <a:pt x="408265" y="665270"/>
                      <a:pt x="408240" y="673413"/>
                      <a:pt x="411169" y="680504"/>
                    </a:cubicBezTo>
                    <a:cubicBezTo>
                      <a:pt x="413211" y="685450"/>
                      <a:pt x="418281" y="688158"/>
                      <a:pt x="421837" y="691985"/>
                    </a:cubicBezTo>
                    <a:cubicBezTo>
                      <a:pt x="423023" y="695812"/>
                      <a:pt x="422743" y="700613"/>
                      <a:pt x="425393" y="703466"/>
                    </a:cubicBezTo>
                    <a:cubicBezTo>
                      <a:pt x="428044" y="706318"/>
                      <a:pt x="432709" y="705489"/>
                      <a:pt x="436062" y="707293"/>
                    </a:cubicBezTo>
                    <a:cubicBezTo>
                      <a:pt x="439885" y="709350"/>
                      <a:pt x="443020" y="712665"/>
                      <a:pt x="446731" y="714947"/>
                    </a:cubicBezTo>
                    <a:cubicBezTo>
                      <a:pt x="451333" y="717777"/>
                      <a:pt x="456816" y="719037"/>
                      <a:pt x="460955" y="722601"/>
                    </a:cubicBezTo>
                    <a:cubicBezTo>
                      <a:pt x="502765" y="758595"/>
                      <a:pt x="464482" y="735979"/>
                      <a:pt x="496517" y="753216"/>
                    </a:cubicBezTo>
                    <a:cubicBezTo>
                      <a:pt x="498888" y="757043"/>
                      <a:pt x="500292" y="761824"/>
                      <a:pt x="503630" y="764697"/>
                    </a:cubicBezTo>
                    <a:cubicBezTo>
                      <a:pt x="506557" y="767217"/>
                      <a:pt x="512119" y="765242"/>
                      <a:pt x="514298" y="768524"/>
                    </a:cubicBezTo>
                    <a:cubicBezTo>
                      <a:pt x="518656" y="775089"/>
                      <a:pt x="521410" y="791486"/>
                      <a:pt x="521410" y="791486"/>
                    </a:cubicBezTo>
                    <a:cubicBezTo>
                      <a:pt x="519040" y="810621"/>
                      <a:pt x="517247" y="829849"/>
                      <a:pt x="514298" y="848891"/>
                    </a:cubicBezTo>
                    <a:cubicBezTo>
                      <a:pt x="513682" y="852870"/>
                      <a:pt x="512821" y="857015"/>
                      <a:pt x="510742" y="860372"/>
                    </a:cubicBezTo>
                    <a:cubicBezTo>
                      <a:pt x="505482" y="868863"/>
                      <a:pt x="484792" y="884988"/>
                      <a:pt x="478736" y="887160"/>
                    </a:cubicBezTo>
                    <a:cubicBezTo>
                      <a:pt x="471624" y="889712"/>
                      <a:pt x="463637" y="890339"/>
                      <a:pt x="457399" y="894814"/>
                    </a:cubicBezTo>
                    <a:cubicBezTo>
                      <a:pt x="443612" y="904706"/>
                      <a:pt x="450785" y="901014"/>
                      <a:pt x="436062" y="906295"/>
                    </a:cubicBezTo>
                    <a:cubicBezTo>
                      <a:pt x="411346" y="924027"/>
                      <a:pt x="442410" y="902880"/>
                      <a:pt x="407613" y="921603"/>
                    </a:cubicBezTo>
                    <a:cubicBezTo>
                      <a:pt x="403790" y="923660"/>
                      <a:pt x="400767" y="927200"/>
                      <a:pt x="396944" y="929257"/>
                    </a:cubicBezTo>
                    <a:cubicBezTo>
                      <a:pt x="391261" y="932315"/>
                      <a:pt x="377367" y="935277"/>
                      <a:pt x="372051" y="936911"/>
                    </a:cubicBezTo>
                    <a:cubicBezTo>
                      <a:pt x="368446" y="938019"/>
                      <a:pt x="364828" y="939149"/>
                      <a:pt x="361382" y="940738"/>
                    </a:cubicBezTo>
                    <a:cubicBezTo>
                      <a:pt x="356510" y="942985"/>
                      <a:pt x="352235" y="946753"/>
                      <a:pt x="347158" y="948392"/>
                    </a:cubicBezTo>
                    <a:cubicBezTo>
                      <a:pt x="340251" y="950622"/>
                      <a:pt x="332933" y="950943"/>
                      <a:pt x="325820" y="952219"/>
                    </a:cubicBezTo>
                    <a:cubicBezTo>
                      <a:pt x="297270" y="962461"/>
                      <a:pt x="332590" y="948761"/>
                      <a:pt x="313021" y="960698"/>
                    </a:cubicBezTo>
                    <a:lnTo>
                      <a:pt x="303183" y="966253"/>
                    </a:lnTo>
                    <a:lnTo>
                      <a:pt x="236921" y="932147"/>
                    </a:lnTo>
                    <a:cubicBezTo>
                      <a:pt x="93980" y="840570"/>
                      <a:pt x="0" y="685487"/>
                      <a:pt x="0" y="509588"/>
                    </a:cubicBezTo>
                    <a:cubicBezTo>
                      <a:pt x="0" y="228150"/>
                      <a:pt x="240588" y="0"/>
                      <a:pt x="537369" y="0"/>
                    </a:cubicBezTo>
                    <a:close/>
                  </a:path>
                </a:pathLst>
              </a:custGeom>
              <a:noFill/>
              <a:ln w="12600">
                <a:solidFill>
                  <a:srgbClr val="335a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矩形 56"/>
            <p:cNvSpPr/>
            <p:nvPr/>
          </p:nvSpPr>
          <p:spPr>
            <a:xfrm>
              <a:off x="5472360" y="610560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5a69"/>
                  </a:solidFill>
                  <a:latin typeface="造字工房悦黑体验版纤细体"/>
                  <a:ea typeface="造字工房悦黑体验版纤细体"/>
                </a:rPr>
                <a:t>城市的岸边作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直接连接符 62"/>
          <p:cNvSpPr/>
          <p:nvPr/>
        </p:nvSpPr>
        <p:spPr>
          <a:xfrm>
            <a:off x="2790720" y="4537080"/>
            <a:ext cx="6553440" cy="0"/>
          </a:xfrm>
          <a:prstGeom prst="line">
            <a:avLst/>
          </a:prstGeom>
          <a:ln w="6480">
            <a:solidFill>
              <a:srgbClr val="335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4095"/>
          <p:cNvSpPr/>
          <p:nvPr/>
        </p:nvSpPr>
        <p:spPr>
          <a:xfrm>
            <a:off x="4511520" y="549360"/>
            <a:ext cx="3168720" cy="3166920"/>
          </a:xfrm>
          <a:prstGeom prst="ellipse">
            <a:avLst/>
          </a:prstGeom>
          <a:noFill/>
          <a:ln w="76320">
            <a:solidFill>
              <a:srgbClr val="335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c2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18" name="矩形 9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10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矩形 3"/>
          <p:cNvSpPr/>
          <p:nvPr/>
        </p:nvSpPr>
        <p:spPr>
          <a:xfrm>
            <a:off x="9927000" y="151416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會基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"/>
          <p:cNvSpPr/>
          <p:nvPr/>
        </p:nvSpPr>
        <p:spPr>
          <a:xfrm>
            <a:off x="6333120" y="1854000"/>
            <a:ext cx="292356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闲居少邻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草径入荒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鸟宿池边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僧敲月下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3"/>
          <p:cNvSpPr/>
          <p:nvPr/>
        </p:nvSpPr>
        <p:spPr>
          <a:xfrm>
            <a:off x="6390720" y="212796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题李凝幽居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贾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16" descr=""/>
          <p:cNvPicPr/>
          <p:nvPr/>
        </p:nvPicPr>
        <p:blipFill>
          <a:blip r:embed="rId1"/>
          <a:stretch/>
        </p:blipFill>
        <p:spPr>
          <a:xfrm>
            <a:off x="1195560" y="1336680"/>
            <a:ext cx="418464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7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25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叹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"/>
          <p:cNvSpPr/>
          <p:nvPr/>
        </p:nvSpPr>
        <p:spPr>
          <a:xfrm>
            <a:off x="7129440" y="1137240"/>
            <a:ext cx="237492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独怜幽草涧边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上有黄鹂深树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潮带雨晚来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野渡无人舟自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"/>
          <p:cNvSpPr/>
          <p:nvPr/>
        </p:nvSpPr>
        <p:spPr>
          <a:xfrm>
            <a:off x="6679440" y="255996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滁州西涧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韦应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11" descr=""/>
          <p:cNvPicPr/>
          <p:nvPr/>
        </p:nvPicPr>
        <p:blipFill>
          <a:blip r:embed="rId1"/>
          <a:stretch/>
        </p:blipFill>
        <p:spPr>
          <a:xfrm>
            <a:off x="1260360" y="1324080"/>
            <a:ext cx="44640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32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織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"/>
          <p:cNvSpPr/>
          <p:nvPr/>
        </p:nvSpPr>
        <p:spPr>
          <a:xfrm>
            <a:off x="4919040" y="2213640"/>
            <a:ext cx="456948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十七为君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心中常苦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君既为府吏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守节情不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贱妾留空房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相见常日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鸡鸣入机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夜不得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"/>
          <p:cNvSpPr/>
          <p:nvPr/>
        </p:nvSpPr>
        <p:spPr>
          <a:xfrm>
            <a:off x="4447440" y="248760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孔雀东南飞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汉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佚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2" descr=""/>
          <p:cNvPicPr/>
          <p:nvPr/>
        </p:nvPicPr>
        <p:blipFill>
          <a:blip r:embed="rId1"/>
          <a:stretch/>
        </p:blipFill>
        <p:spPr>
          <a:xfrm>
            <a:off x="479520" y="2852640"/>
            <a:ext cx="3713040" cy="2448000"/>
          </a:xfrm>
          <a:prstGeom prst="rect">
            <a:avLst/>
          </a:prstGeom>
          <a:ln w="76320">
            <a:solidFill>
              <a:srgbClr val="dbe1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981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39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洗衣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"/>
          <p:cNvSpPr/>
          <p:nvPr/>
        </p:nvSpPr>
        <p:spPr>
          <a:xfrm>
            <a:off x="6333120" y="1854000"/>
            <a:ext cx="292356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明月松间照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清泉石上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竹喧归浣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莲动下渔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"/>
          <p:cNvSpPr/>
          <p:nvPr/>
        </p:nvSpPr>
        <p:spPr>
          <a:xfrm>
            <a:off x="6390720" y="2504880"/>
            <a:ext cx="45468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山居秋暝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王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9" descr=""/>
          <p:cNvPicPr/>
          <p:nvPr/>
        </p:nvPicPr>
        <p:blipFill>
          <a:blip r:embed="rId1"/>
          <a:stretch/>
        </p:blipFill>
        <p:spPr>
          <a:xfrm>
            <a:off x="758880" y="1552680"/>
            <a:ext cx="421164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90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46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矩形 3"/>
          <p:cNvSpPr/>
          <p:nvPr/>
        </p:nvSpPr>
        <p:spPr>
          <a:xfrm>
            <a:off x="9927000" y="213696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送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847400" y="1208520"/>
            <a:ext cx="456948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浔阳江头夜送客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枫叶荻花秋瑟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主人下马客在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举酒欲饮无管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醉不成欢惨将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别时茫茫江浸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忽闻水上琵琶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主人忘归客不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"/>
          <p:cNvSpPr/>
          <p:nvPr/>
        </p:nvSpPr>
        <p:spPr>
          <a:xfrm>
            <a:off x="4447440" y="2936520"/>
            <a:ext cx="4546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琵琶行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白居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13" descr=""/>
          <p:cNvPicPr/>
          <p:nvPr/>
        </p:nvPicPr>
        <p:blipFill>
          <a:blip r:embed="rId1"/>
          <a:stretch/>
        </p:blipFill>
        <p:spPr>
          <a:xfrm>
            <a:off x="403200" y="1839960"/>
            <a:ext cx="36082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b61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53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想媳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"/>
          <p:cNvSpPr/>
          <p:nvPr/>
        </p:nvSpPr>
        <p:spPr>
          <a:xfrm>
            <a:off x="3957120" y="1851840"/>
            <a:ext cx="52995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秋风清，秋月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落叶聚还散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寒鸦栖复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相亲相见知何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此时此夜难为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入我相思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知我相思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长相思兮长相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短相思兮无穷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早知如此绊人心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何如当初莫相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"/>
          <p:cNvSpPr/>
          <p:nvPr/>
        </p:nvSpPr>
        <p:spPr>
          <a:xfrm>
            <a:off x="3942720" y="295308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秋风词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2" descr=""/>
          <p:cNvPicPr/>
          <p:nvPr/>
        </p:nvPicPr>
        <p:blipFill>
          <a:blip r:embed="rId1"/>
          <a:stretch/>
        </p:blipFill>
        <p:spPr>
          <a:xfrm>
            <a:off x="479520" y="1916280"/>
            <a:ext cx="3240000" cy="3576600"/>
          </a:xfrm>
          <a:prstGeom prst="rect">
            <a:avLst/>
          </a:prstGeom>
          <a:ln w="76320">
            <a:solidFill>
              <a:srgbClr val="e6cf6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5a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60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想老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"/>
          <p:cNvSpPr/>
          <p:nvPr/>
        </p:nvSpPr>
        <p:spPr>
          <a:xfrm>
            <a:off x="5784480" y="1784880"/>
            <a:ext cx="347220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花自飘零水自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一种相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两处闲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此情无计可消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才下眉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却上心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"/>
          <p:cNvSpPr/>
          <p:nvPr/>
        </p:nvSpPr>
        <p:spPr>
          <a:xfrm>
            <a:off x="5095080" y="3845160"/>
            <a:ext cx="45468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一剪梅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宋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清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5" descr=""/>
          <p:cNvPicPr/>
          <p:nvPr/>
        </p:nvPicPr>
        <p:blipFill>
          <a:blip r:embed="rId1"/>
          <a:srcRect l="10554" t="0" r="0" b="4802"/>
          <a:stretch/>
        </p:blipFill>
        <p:spPr>
          <a:xfrm>
            <a:off x="622440" y="2781360"/>
            <a:ext cx="4268520" cy="1976400"/>
          </a:xfrm>
          <a:prstGeom prst="rect">
            <a:avLst/>
          </a:prstGeom>
          <a:ln w="76320">
            <a:solidFill>
              <a:srgbClr val="e7929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941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67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矩形 3"/>
          <p:cNvSpPr/>
          <p:nvPr/>
        </p:nvSpPr>
        <p:spPr>
          <a:xfrm>
            <a:off x="10232640" y="910800"/>
            <a:ext cx="9115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想睡別人老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"/>
          <p:cNvSpPr/>
          <p:nvPr/>
        </p:nvSpPr>
        <p:spPr>
          <a:xfrm>
            <a:off x="4810320" y="1851840"/>
            <a:ext cx="44463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君知妾有夫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赠妾双明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感君缠绵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系在红罗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妾家高楼连苑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良人执戟明光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知君用心如日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事夫誓拟同生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还君明珠双泪垂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恨不相逢未嫁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"/>
          <p:cNvSpPr/>
          <p:nvPr/>
        </p:nvSpPr>
        <p:spPr>
          <a:xfrm>
            <a:off x="4303080" y="288180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节妇吟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张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3" descr=""/>
          <p:cNvPicPr/>
          <p:nvPr/>
        </p:nvPicPr>
        <p:blipFill>
          <a:blip r:embed="rId1"/>
          <a:stretch/>
        </p:blipFill>
        <p:spPr>
          <a:xfrm>
            <a:off x="623880" y="2421000"/>
            <a:ext cx="3397320" cy="2016000"/>
          </a:xfrm>
          <a:prstGeom prst="rect">
            <a:avLst/>
          </a:prstGeom>
          <a:ln w="76320">
            <a:solidFill>
              <a:srgbClr val="87829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74" name="矩形 9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10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偷東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闻有狗盗者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昼伏夜潜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摩弓拭箭镞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射不待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3"/>
          <p:cNvSpPr/>
          <p:nvPr/>
        </p:nvSpPr>
        <p:spPr>
          <a:xfrm>
            <a:off x="6463800" y="266580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箭镞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白居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3" descr=""/>
          <p:cNvPicPr/>
          <p:nvPr/>
        </p:nvPicPr>
        <p:blipFill>
          <a:blip r:embed="rId1"/>
          <a:stretch/>
        </p:blipFill>
        <p:spPr>
          <a:xfrm>
            <a:off x="1774800" y="1844640"/>
            <a:ext cx="3116160" cy="3438720"/>
          </a:xfrm>
          <a:prstGeom prst="rect">
            <a:avLst/>
          </a:prstGeom>
          <a:ln w="76320">
            <a:solidFill>
              <a:srgbClr val="c7ab9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57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81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逛青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"/>
          <p:cNvSpPr/>
          <p:nvPr/>
        </p:nvSpPr>
        <p:spPr>
          <a:xfrm>
            <a:off x="6333120" y="8995320"/>
            <a:ext cx="292356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落魄江湖载酒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楚腰纤细掌中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十年一觉扬州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赢得青楼薄幸名。　　劝君莫惜金缕衣，劝君惜取少年时。花开堪折直须折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莫待无花空折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"/>
          <p:cNvSpPr/>
          <p:nvPr/>
        </p:nvSpPr>
        <p:spPr>
          <a:xfrm>
            <a:off x="5887440" y="3978720"/>
            <a:ext cx="454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遣怀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杜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图片 7" descr=""/>
          <p:cNvPicPr/>
          <p:nvPr/>
        </p:nvPicPr>
        <p:blipFill>
          <a:blip r:embed="rId1"/>
          <a:stretch/>
        </p:blipFill>
        <p:spPr>
          <a:xfrm>
            <a:off x="3935520" y="1700280"/>
            <a:ext cx="857160" cy="72396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8" descr=""/>
          <p:cNvPicPr/>
          <p:nvPr/>
        </p:nvPicPr>
        <p:blipFill>
          <a:blip r:embed="rId2"/>
          <a:stretch/>
        </p:blipFill>
        <p:spPr>
          <a:xfrm>
            <a:off x="766800" y="2421000"/>
            <a:ext cx="4753080" cy="2847960"/>
          </a:xfrm>
          <a:prstGeom prst="rect">
            <a:avLst/>
          </a:prstGeom>
          <a:ln w="76320">
            <a:solidFill>
              <a:srgbClr val="f3907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62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睡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9" descr=""/>
          <p:cNvPicPr/>
          <p:nvPr/>
        </p:nvPicPr>
        <p:blipFill>
          <a:blip r:embed="rId1"/>
          <a:stretch/>
        </p:blipFill>
        <p:spPr>
          <a:xfrm>
            <a:off x="1771560" y="1668600"/>
            <a:ext cx="3537000" cy="3536640"/>
          </a:xfrm>
          <a:prstGeom prst="rect">
            <a:avLst/>
          </a:prstGeom>
          <a:ln w="0">
            <a:noFill/>
          </a:ln>
        </p:spPr>
      </p:pic>
      <p:sp>
        <p:nvSpPr>
          <p:cNvPr id="66" name="矩形 1"/>
          <p:cNvSpPr/>
          <p:nvPr/>
        </p:nvSpPr>
        <p:spPr>
          <a:xfrm>
            <a:off x="6333120" y="1854000"/>
            <a:ext cx="292356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眠不觉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处处闻啼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来风雨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花落知多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"/>
          <p:cNvSpPr/>
          <p:nvPr/>
        </p:nvSpPr>
        <p:spPr>
          <a:xfrm>
            <a:off x="6390720" y="2737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晓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孟浩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e9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89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矩形 3"/>
          <p:cNvSpPr/>
          <p:nvPr/>
        </p:nvSpPr>
        <p:spPr>
          <a:xfrm>
            <a:off x="9927000" y="891720"/>
            <a:ext cx="1277640" cy="50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各種爬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"/>
          <p:cNvSpPr/>
          <p:nvPr/>
        </p:nvSpPr>
        <p:spPr>
          <a:xfrm>
            <a:off x="4731120" y="2060640"/>
            <a:ext cx="505908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无言独上西楼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月如钩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寂寞梧桐深院锁清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剪不断，理还乱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是离愁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别是一般滋味在心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花秋月何时了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往事知多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小楼昨夜又东风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故国不堪回首月明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雕阑玉砌应犹在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只是朱颜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小楼寒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长帘幕低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恨潇潇、无情风雨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来揉损琼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"/>
          <p:cNvSpPr/>
          <p:nvPr/>
        </p:nvSpPr>
        <p:spPr>
          <a:xfrm>
            <a:off x="3946320" y="1885320"/>
            <a:ext cx="729000" cy="32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相见欢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林花谢了春红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                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南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图片 3" descr=""/>
          <p:cNvPicPr/>
          <p:nvPr/>
        </p:nvPicPr>
        <p:blipFill>
          <a:blip r:embed="rId1"/>
          <a:stretch/>
        </p:blipFill>
        <p:spPr>
          <a:xfrm>
            <a:off x="407880" y="2195640"/>
            <a:ext cx="3457800" cy="2828880"/>
          </a:xfrm>
          <a:prstGeom prst="rect">
            <a:avLst/>
          </a:prstGeom>
          <a:ln w="76320">
            <a:solidFill>
              <a:srgbClr val="f6f1e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df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96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矩形 3"/>
          <p:cNvSpPr/>
          <p:nvPr/>
        </p:nvSpPr>
        <p:spPr>
          <a:xfrm>
            <a:off x="10000080" y="213696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拉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"/>
          <p:cNvSpPr/>
          <p:nvPr/>
        </p:nvSpPr>
        <p:spPr>
          <a:xfrm>
            <a:off x="5206320" y="1497600"/>
            <a:ext cx="456948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郁金堂北画楼东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换骨神方上药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露气暗连青桂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风声偏猎紫兰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长筹未必输孙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香枣何劳问石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忆事怀人兼得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翠衾归卧绣帘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"/>
          <p:cNvSpPr/>
          <p:nvPr/>
        </p:nvSpPr>
        <p:spPr>
          <a:xfrm>
            <a:off x="4447440" y="3429000"/>
            <a:ext cx="45468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药转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商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图片 8" descr=""/>
          <p:cNvPicPr/>
          <p:nvPr/>
        </p:nvPicPr>
        <p:blipFill>
          <a:blip r:embed="rId1"/>
          <a:stretch/>
        </p:blipFill>
        <p:spPr>
          <a:xfrm>
            <a:off x="839880" y="1341360"/>
            <a:ext cx="3200400" cy="4572000"/>
          </a:xfrm>
          <a:prstGeom prst="rect">
            <a:avLst/>
          </a:prstGeom>
          <a:ln w="76320">
            <a:solidFill>
              <a:srgbClr val="f5ea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d29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69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喝酒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"/>
          <p:cNvSpPr/>
          <p:nvPr/>
        </p:nvSpPr>
        <p:spPr>
          <a:xfrm>
            <a:off x="698652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绿蚁新醅酒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红泥小火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晚来天欲雪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能饮一杯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"/>
          <p:cNvSpPr/>
          <p:nvPr/>
        </p:nvSpPr>
        <p:spPr>
          <a:xfrm>
            <a:off x="6390720" y="220032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问刘十九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白居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2" descr=""/>
          <p:cNvPicPr/>
          <p:nvPr/>
        </p:nvPicPr>
        <p:blipFill>
          <a:blip r:embed="rId1"/>
          <a:srcRect l="0" t="0" r="0" b="3479"/>
          <a:stretch/>
        </p:blipFill>
        <p:spPr>
          <a:xfrm>
            <a:off x="1343160" y="2270160"/>
            <a:ext cx="4047840" cy="2317680"/>
          </a:xfrm>
          <a:prstGeom prst="rect">
            <a:avLst/>
          </a:prstGeom>
          <a:ln w="76320">
            <a:solidFill>
              <a:srgbClr val="be727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b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76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矩形 3"/>
          <p:cNvSpPr/>
          <p:nvPr/>
        </p:nvSpPr>
        <p:spPr>
          <a:xfrm>
            <a:off x="10000080" y="188208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喝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>
            <a:off x="4703040" y="1281600"/>
            <a:ext cx="456948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活水还须活火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自临钓石取深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大瓢贮月归春瓮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小杓分江入夜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雪乳已翻煎处脚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松风忽作泻时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枯肠未晚禁三碗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生听荒城长短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"/>
          <p:cNvSpPr/>
          <p:nvPr/>
        </p:nvSpPr>
        <p:spPr>
          <a:xfrm>
            <a:off x="4158720" y="2936880"/>
            <a:ext cx="45468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汲江煎茶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宋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苏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3" descr=""/>
          <p:cNvPicPr/>
          <p:nvPr/>
        </p:nvPicPr>
        <p:blipFill>
          <a:blip r:embed="rId1"/>
          <a:stretch/>
        </p:blipFill>
        <p:spPr>
          <a:xfrm>
            <a:off x="1415880" y="1114560"/>
            <a:ext cx="2287800" cy="4628880"/>
          </a:xfrm>
          <a:prstGeom prst="rect">
            <a:avLst/>
          </a:prstGeom>
          <a:ln w="76320">
            <a:solidFill>
              <a:srgbClr val="c0cca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51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83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矩形 3"/>
          <p:cNvSpPr/>
          <p:nvPr/>
        </p:nvSpPr>
        <p:spPr>
          <a:xfrm>
            <a:off x="9927000" y="891720"/>
            <a:ext cx="1277640" cy="50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等人下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"/>
          <p:cNvSpPr/>
          <p:nvPr/>
        </p:nvSpPr>
        <p:spPr>
          <a:xfrm>
            <a:off x="6415560" y="992520"/>
            <a:ext cx="292356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黄梅时节家家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青草池塘处处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有约不来过夜半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闲敲棋子落灯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"/>
          <p:cNvSpPr/>
          <p:nvPr/>
        </p:nvSpPr>
        <p:spPr>
          <a:xfrm>
            <a:off x="6535080" y="3025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约客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宋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赵师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9" descr=""/>
          <p:cNvPicPr/>
          <p:nvPr/>
        </p:nvPicPr>
        <p:blipFill>
          <a:blip r:embed="rId1"/>
          <a:stretch/>
        </p:blipFill>
        <p:spPr>
          <a:xfrm>
            <a:off x="1339920" y="1623960"/>
            <a:ext cx="36082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9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90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看月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床前明月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疑是地上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举头望明月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低头思故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"/>
          <p:cNvSpPr/>
          <p:nvPr/>
        </p:nvSpPr>
        <p:spPr>
          <a:xfrm>
            <a:off x="5958720" y="280872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静夜思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3" descr=""/>
          <p:cNvPicPr/>
          <p:nvPr/>
        </p:nvPicPr>
        <p:blipFill>
          <a:blip r:embed="rId1"/>
          <a:stretch/>
        </p:blipFill>
        <p:spPr>
          <a:xfrm>
            <a:off x="839880" y="2349360"/>
            <a:ext cx="4771800" cy="2791080"/>
          </a:xfrm>
          <a:prstGeom prst="rect">
            <a:avLst/>
          </a:prstGeom>
          <a:ln w="76320">
            <a:solidFill>
              <a:srgbClr val="87777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97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矩形 3"/>
          <p:cNvSpPr/>
          <p:nvPr/>
        </p:nvSpPr>
        <p:spPr>
          <a:xfrm>
            <a:off x="9927000" y="188208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打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林暗草惊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将军夜引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平明寻白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没在石棱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"/>
          <p:cNvSpPr/>
          <p:nvPr/>
        </p:nvSpPr>
        <p:spPr>
          <a:xfrm>
            <a:off x="5958720" y="2737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塞下曲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卢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1" descr=""/>
          <p:cNvPicPr/>
          <p:nvPr/>
        </p:nvPicPr>
        <p:blipFill>
          <a:blip r:embed="rId1"/>
          <a:stretch/>
        </p:blipFill>
        <p:spPr>
          <a:xfrm>
            <a:off x="766800" y="2708280"/>
            <a:ext cx="4753080" cy="2324160"/>
          </a:xfrm>
          <a:prstGeom prst="rect">
            <a:avLst/>
          </a:prstGeom>
          <a:ln w="76320">
            <a:solidFill>
              <a:srgbClr val="6d73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5d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04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矩形 3"/>
          <p:cNvSpPr/>
          <p:nvPr/>
        </p:nvSpPr>
        <p:spPr>
          <a:xfrm>
            <a:off x="9927000" y="167472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打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月黑雁飞高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单于夜遁逃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欲将轻骑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大雪满弓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"/>
          <p:cNvSpPr/>
          <p:nvPr/>
        </p:nvSpPr>
        <p:spPr>
          <a:xfrm>
            <a:off x="6390720" y="220032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题李凝幽居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贾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2" descr=""/>
          <p:cNvPicPr/>
          <p:nvPr/>
        </p:nvPicPr>
        <p:blipFill>
          <a:blip r:embed="rId1"/>
          <a:stretch/>
        </p:blipFill>
        <p:spPr>
          <a:xfrm>
            <a:off x="1558800" y="1773360"/>
            <a:ext cx="2490840" cy="3546360"/>
          </a:xfrm>
          <a:prstGeom prst="rect">
            <a:avLst/>
          </a:prstGeom>
          <a:ln w="76320">
            <a:solidFill>
              <a:srgbClr val="a1948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a2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11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發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人闲桂花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静春山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月出惊山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时鸣春涧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"/>
          <p:cNvSpPr/>
          <p:nvPr/>
        </p:nvSpPr>
        <p:spPr>
          <a:xfrm>
            <a:off x="6390720" y="2737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鸟鸣涧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王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11" descr=""/>
          <p:cNvPicPr/>
          <p:nvPr/>
        </p:nvPicPr>
        <p:blipFill>
          <a:blip r:embed="rId1"/>
          <a:stretch/>
        </p:blipFill>
        <p:spPr>
          <a:xfrm>
            <a:off x="1843200" y="1839960"/>
            <a:ext cx="353700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>Administrator</cp:lastModifiedBy>
  <dcterms:modified xsi:type="dcterms:W3CDTF">2016-04-21T13:47:49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