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B2EDE4-8154-4BD1-B49E-9CFF62C55D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841457-2E19-44F1-996E-B6A88C7017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62E168-9E10-4F75-A579-BD0E4FAE8D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9856EF-B72A-4C2D-8A47-8BF25E46BC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11F994-8E9E-492B-BC1E-E401A2E7DC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F1EA34-4CC3-404E-9D05-F33B4FF889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B1D63C-C68C-4AF5-AC59-1C42063D69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AD0C78-1938-4DF3-A0B0-63BB075B17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6823E3-27AD-429C-843F-0B96ECA408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6EC18-BC58-4531-909F-C07577C4EC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EF0C9-6A8B-4EE2-82EA-B99178CB26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4B864-4F2D-4A27-897F-7893741BA9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BF133-67A9-42C2-B1C1-B61DA69DD203}" type="slidenum">
              <a:rPr b="0"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图片 6" descr=""/>
          <p:cNvPicPr/>
          <p:nvPr/>
        </p:nvPicPr>
        <p:blipFill>
          <a:blip r:embed="rId1"/>
          <a:stretch/>
        </p:blipFill>
        <p:spPr>
          <a:xfrm>
            <a:off x="6326280" y="5200560"/>
            <a:ext cx="5865840" cy="1657440"/>
          </a:xfrm>
          <a:prstGeom prst="rect">
            <a:avLst/>
          </a:prstGeom>
          <a:ln w="0">
            <a:noFill/>
          </a:ln>
        </p:spPr>
      </p:pic>
      <p:sp>
        <p:nvSpPr>
          <p:cNvPr id="42" name="任意多边形 47"/>
          <p:cNvSpPr/>
          <p:nvPr/>
        </p:nvSpPr>
        <p:spPr>
          <a:xfrm rot="5400000">
            <a:off x="1882800" y="-1425600"/>
            <a:ext cx="914400" cy="4680000"/>
          </a:xfrm>
          <a:custGeom>
            <a:avLst/>
            <a:gdLst/>
            <a:ahLst/>
            <a:rect l="l" t="t" r="r" b="b"/>
            <a:pathLst>
              <a:path w="990604" h="5956738">
                <a:moveTo>
                  <a:pt x="0" y="5956738"/>
                </a:moveTo>
                <a:lnTo>
                  <a:pt x="0" y="317938"/>
                </a:lnTo>
                <a:lnTo>
                  <a:pt x="6" y="317938"/>
                </a:lnTo>
                <a:lnTo>
                  <a:pt x="495305" y="0"/>
                </a:lnTo>
                <a:lnTo>
                  <a:pt x="990604" y="317938"/>
                </a:lnTo>
                <a:lnTo>
                  <a:pt x="990601" y="317938"/>
                </a:lnTo>
                <a:lnTo>
                  <a:pt x="990601" y="5956738"/>
                </a:lnTo>
                <a:lnTo>
                  <a:pt x="0" y="5956738"/>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 name="椭圆 9"/>
          <p:cNvSpPr/>
          <p:nvPr/>
        </p:nvSpPr>
        <p:spPr>
          <a:xfrm>
            <a:off x="324000" y="247680"/>
            <a:ext cx="1333440" cy="1333440"/>
          </a:xfrm>
          <a:prstGeom prst="ellipse">
            <a:avLst/>
          </a:prstGeom>
          <a:solidFill>
            <a:srgbClr val="ffffff"/>
          </a:solidFill>
          <a:ln w="3816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组合 61" descr=""/>
          <p:cNvPicPr/>
          <p:nvPr/>
        </p:nvPicPr>
        <p:blipFill>
          <a:blip r:embed="rId2"/>
          <a:stretch/>
        </p:blipFill>
        <p:spPr>
          <a:xfrm>
            <a:off x="476280" y="573120"/>
            <a:ext cx="1028520" cy="682560"/>
          </a:xfrm>
          <a:prstGeom prst="rect">
            <a:avLst/>
          </a:prstGeom>
          <a:ln w="0">
            <a:noFill/>
          </a:ln>
        </p:spPr>
      </p:pic>
      <p:sp>
        <p:nvSpPr>
          <p:cNvPr id="45" name="文本框 62"/>
          <p:cNvSpPr/>
          <p:nvPr/>
        </p:nvSpPr>
        <p:spPr>
          <a:xfrm>
            <a:off x="3721320" y="2633760"/>
            <a:ext cx="52099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4b649f"/>
                </a:solidFill>
                <a:latin typeface="Arial"/>
              </a:rPr>
              <a:t>简洁毕业论文答辩模板</a:t>
            </a:r>
            <a:endParaRPr b="0" lang="en-US" sz="6600" spc="-1" strike="noStrike">
              <a:solidFill>
                <a:srgbClr val="000000"/>
              </a:solidFill>
              <a:latin typeface="Arial"/>
            </a:endParaRPr>
          </a:p>
        </p:txBody>
      </p:sp>
      <p:grpSp>
        <p:nvGrpSpPr>
          <p:cNvPr id="46" name="组合 1026"/>
          <p:cNvGrpSpPr/>
          <p:nvPr/>
        </p:nvGrpSpPr>
        <p:grpSpPr>
          <a:xfrm>
            <a:off x="2095560" y="3898800"/>
            <a:ext cx="315720" cy="317520"/>
            <a:chOff x="2095560" y="3898800"/>
            <a:chExt cx="315720" cy="317520"/>
          </a:xfrm>
        </p:grpSpPr>
        <p:sp>
          <p:nvSpPr>
            <p:cNvPr id="47" name="椭圆 1023"/>
            <p:cNvSpPr/>
            <p:nvPr/>
          </p:nvSpPr>
          <p:spPr>
            <a:xfrm>
              <a:off x="2095560" y="3898800"/>
              <a:ext cx="315720" cy="31752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KSO_Shape"/>
            <p:cNvSpPr/>
            <p:nvPr/>
          </p:nvSpPr>
          <p:spPr>
            <a:xfrm>
              <a:off x="2170080" y="3951000"/>
              <a:ext cx="166680" cy="212760"/>
            </a:xfrm>
            <a:custGeom>
              <a:avLst/>
              <a:gdLst/>
              <a:ahLst/>
              <a:rect l="l" t="t" r="r" b="b"/>
              <a:pathLst>
                <a:path w="5367" h="6897">
                  <a:moveTo>
                    <a:pt x="2684" y="3025"/>
                  </a:moveTo>
                  <a:lnTo>
                    <a:pt x="2684" y="3025"/>
                  </a:lnTo>
                  <a:lnTo>
                    <a:pt x="2615" y="3026"/>
                  </a:lnTo>
                  <a:lnTo>
                    <a:pt x="2545" y="3029"/>
                  </a:lnTo>
                  <a:lnTo>
                    <a:pt x="2478" y="3035"/>
                  </a:lnTo>
                  <a:lnTo>
                    <a:pt x="2409" y="3043"/>
                  </a:lnTo>
                  <a:lnTo>
                    <a:pt x="2342" y="3054"/>
                  </a:lnTo>
                  <a:lnTo>
                    <a:pt x="2275" y="3066"/>
                  </a:lnTo>
                  <a:lnTo>
                    <a:pt x="2209" y="3081"/>
                  </a:lnTo>
                  <a:lnTo>
                    <a:pt x="2143" y="3099"/>
                  </a:lnTo>
                  <a:lnTo>
                    <a:pt x="2077" y="3118"/>
                  </a:lnTo>
                  <a:lnTo>
                    <a:pt x="2013" y="3140"/>
                  </a:lnTo>
                  <a:lnTo>
                    <a:pt x="1949" y="3163"/>
                  </a:lnTo>
                  <a:lnTo>
                    <a:pt x="1886" y="3189"/>
                  </a:lnTo>
                  <a:lnTo>
                    <a:pt x="1823" y="3217"/>
                  </a:lnTo>
                  <a:lnTo>
                    <a:pt x="1761" y="3247"/>
                  </a:lnTo>
                  <a:lnTo>
                    <a:pt x="1700" y="3279"/>
                  </a:lnTo>
                  <a:lnTo>
                    <a:pt x="1639" y="3313"/>
                  </a:lnTo>
                  <a:lnTo>
                    <a:pt x="1579" y="3349"/>
                  </a:lnTo>
                  <a:lnTo>
                    <a:pt x="1521" y="3386"/>
                  </a:lnTo>
                  <a:lnTo>
                    <a:pt x="1462" y="3426"/>
                  </a:lnTo>
                  <a:lnTo>
                    <a:pt x="1405" y="3468"/>
                  </a:lnTo>
                  <a:lnTo>
                    <a:pt x="1348" y="3511"/>
                  </a:lnTo>
                  <a:lnTo>
                    <a:pt x="1293" y="3556"/>
                  </a:lnTo>
                  <a:lnTo>
                    <a:pt x="1237" y="3603"/>
                  </a:lnTo>
                  <a:lnTo>
                    <a:pt x="1183" y="3651"/>
                  </a:lnTo>
                  <a:lnTo>
                    <a:pt x="1131" y="3702"/>
                  </a:lnTo>
                  <a:lnTo>
                    <a:pt x="1078" y="3753"/>
                  </a:lnTo>
                  <a:lnTo>
                    <a:pt x="1027" y="3807"/>
                  </a:lnTo>
                  <a:lnTo>
                    <a:pt x="976" y="3863"/>
                  </a:lnTo>
                  <a:lnTo>
                    <a:pt x="927" y="3920"/>
                  </a:lnTo>
                  <a:lnTo>
                    <a:pt x="880" y="3978"/>
                  </a:lnTo>
                  <a:lnTo>
                    <a:pt x="833" y="4038"/>
                  </a:lnTo>
                  <a:lnTo>
                    <a:pt x="786" y="4100"/>
                  </a:lnTo>
                  <a:lnTo>
                    <a:pt x="741" y="4163"/>
                  </a:lnTo>
                  <a:lnTo>
                    <a:pt x="698" y="4227"/>
                  </a:lnTo>
                  <a:lnTo>
                    <a:pt x="655" y="4293"/>
                  </a:lnTo>
                  <a:lnTo>
                    <a:pt x="613" y="4361"/>
                  </a:lnTo>
                  <a:lnTo>
                    <a:pt x="573" y="4429"/>
                  </a:lnTo>
                  <a:lnTo>
                    <a:pt x="533" y="4499"/>
                  </a:lnTo>
                  <a:lnTo>
                    <a:pt x="495" y="4570"/>
                  </a:lnTo>
                  <a:lnTo>
                    <a:pt x="458" y="4643"/>
                  </a:lnTo>
                  <a:lnTo>
                    <a:pt x="423" y="4717"/>
                  </a:lnTo>
                  <a:lnTo>
                    <a:pt x="388" y="4791"/>
                  </a:lnTo>
                  <a:lnTo>
                    <a:pt x="356" y="4868"/>
                  </a:lnTo>
                  <a:lnTo>
                    <a:pt x="324" y="4945"/>
                  </a:lnTo>
                  <a:lnTo>
                    <a:pt x="294" y="5024"/>
                  </a:lnTo>
                  <a:lnTo>
                    <a:pt x="265" y="5104"/>
                  </a:lnTo>
                  <a:lnTo>
                    <a:pt x="238" y="5185"/>
                  </a:lnTo>
                  <a:lnTo>
                    <a:pt x="211" y="5266"/>
                  </a:lnTo>
                  <a:lnTo>
                    <a:pt x="186" y="5349"/>
                  </a:lnTo>
                  <a:lnTo>
                    <a:pt x="163" y="5433"/>
                  </a:lnTo>
                  <a:lnTo>
                    <a:pt x="141" y="5518"/>
                  </a:lnTo>
                  <a:lnTo>
                    <a:pt x="121" y="5603"/>
                  </a:lnTo>
                  <a:lnTo>
                    <a:pt x="102" y="5690"/>
                  </a:lnTo>
                  <a:lnTo>
                    <a:pt x="85" y="5777"/>
                  </a:lnTo>
                  <a:lnTo>
                    <a:pt x="69" y="5866"/>
                  </a:lnTo>
                  <a:lnTo>
                    <a:pt x="54" y="5955"/>
                  </a:lnTo>
                  <a:lnTo>
                    <a:pt x="42" y="6045"/>
                  </a:lnTo>
                  <a:lnTo>
                    <a:pt x="31" y="6136"/>
                  </a:lnTo>
                  <a:lnTo>
                    <a:pt x="22" y="6227"/>
                  </a:lnTo>
                  <a:lnTo>
                    <a:pt x="14" y="6319"/>
                  </a:lnTo>
                  <a:lnTo>
                    <a:pt x="8" y="6413"/>
                  </a:lnTo>
                  <a:lnTo>
                    <a:pt x="4" y="6506"/>
                  </a:lnTo>
                  <a:lnTo>
                    <a:pt x="1" y="6600"/>
                  </a:lnTo>
                  <a:lnTo>
                    <a:pt x="0" y="6695"/>
                  </a:lnTo>
                  <a:lnTo>
                    <a:pt x="1" y="6796"/>
                  </a:lnTo>
                  <a:lnTo>
                    <a:pt x="5" y="6897"/>
                  </a:lnTo>
                  <a:lnTo>
                    <a:pt x="5364" y="6897"/>
                  </a:lnTo>
                  <a:lnTo>
                    <a:pt x="5366" y="6796"/>
                  </a:lnTo>
                  <a:lnTo>
                    <a:pt x="5367" y="6695"/>
                  </a:lnTo>
                  <a:lnTo>
                    <a:pt x="5367" y="6600"/>
                  </a:lnTo>
                  <a:lnTo>
                    <a:pt x="5364" y="6506"/>
                  </a:lnTo>
                  <a:lnTo>
                    <a:pt x="5359" y="6413"/>
                  </a:lnTo>
                  <a:lnTo>
                    <a:pt x="5353" y="6319"/>
                  </a:lnTo>
                  <a:lnTo>
                    <a:pt x="5346" y="6227"/>
                  </a:lnTo>
                  <a:lnTo>
                    <a:pt x="5337" y="6136"/>
                  </a:lnTo>
                  <a:lnTo>
                    <a:pt x="5325" y="6045"/>
                  </a:lnTo>
                  <a:lnTo>
                    <a:pt x="5313" y="5955"/>
                  </a:lnTo>
                  <a:lnTo>
                    <a:pt x="5298" y="5866"/>
                  </a:lnTo>
                  <a:lnTo>
                    <a:pt x="5283" y="5777"/>
                  </a:lnTo>
                  <a:lnTo>
                    <a:pt x="5266" y="5690"/>
                  </a:lnTo>
                  <a:lnTo>
                    <a:pt x="5247" y="5603"/>
                  </a:lnTo>
                  <a:lnTo>
                    <a:pt x="5226" y="5518"/>
                  </a:lnTo>
                  <a:lnTo>
                    <a:pt x="5205" y="5433"/>
                  </a:lnTo>
                  <a:lnTo>
                    <a:pt x="5181" y="5349"/>
                  </a:lnTo>
                  <a:lnTo>
                    <a:pt x="5157" y="5266"/>
                  </a:lnTo>
                  <a:lnTo>
                    <a:pt x="5131" y="5185"/>
                  </a:lnTo>
                  <a:lnTo>
                    <a:pt x="5103" y="5104"/>
                  </a:lnTo>
                  <a:lnTo>
                    <a:pt x="5073" y="5024"/>
                  </a:lnTo>
                  <a:lnTo>
                    <a:pt x="5043" y="4945"/>
                  </a:lnTo>
                  <a:lnTo>
                    <a:pt x="5012" y="4868"/>
                  </a:lnTo>
                  <a:lnTo>
                    <a:pt x="4979" y="4791"/>
                  </a:lnTo>
                  <a:lnTo>
                    <a:pt x="4945" y="4717"/>
                  </a:lnTo>
                  <a:lnTo>
                    <a:pt x="4909" y="4643"/>
                  </a:lnTo>
                  <a:lnTo>
                    <a:pt x="4872" y="4570"/>
                  </a:lnTo>
                  <a:lnTo>
                    <a:pt x="4834" y="4499"/>
                  </a:lnTo>
                  <a:lnTo>
                    <a:pt x="4796" y="4429"/>
                  </a:lnTo>
                  <a:lnTo>
                    <a:pt x="4755" y="4361"/>
                  </a:lnTo>
                  <a:lnTo>
                    <a:pt x="4713" y="4293"/>
                  </a:lnTo>
                  <a:lnTo>
                    <a:pt x="4671" y="4227"/>
                  </a:lnTo>
                  <a:lnTo>
                    <a:pt x="4627" y="4163"/>
                  </a:lnTo>
                  <a:lnTo>
                    <a:pt x="4582" y="4100"/>
                  </a:lnTo>
                  <a:lnTo>
                    <a:pt x="4536" y="4038"/>
                  </a:lnTo>
                  <a:lnTo>
                    <a:pt x="4489" y="3978"/>
                  </a:lnTo>
                  <a:lnTo>
                    <a:pt x="4440" y="3920"/>
                  </a:lnTo>
                  <a:lnTo>
                    <a:pt x="4391" y="3863"/>
                  </a:lnTo>
                  <a:lnTo>
                    <a:pt x="4340" y="3807"/>
                  </a:lnTo>
                  <a:lnTo>
                    <a:pt x="4290" y="3753"/>
                  </a:lnTo>
                  <a:lnTo>
                    <a:pt x="4238" y="3702"/>
                  </a:lnTo>
                  <a:lnTo>
                    <a:pt x="4184" y="3651"/>
                  </a:lnTo>
                  <a:lnTo>
                    <a:pt x="4130" y="3603"/>
                  </a:lnTo>
                  <a:lnTo>
                    <a:pt x="4076" y="3556"/>
                  </a:lnTo>
                  <a:lnTo>
                    <a:pt x="4020" y="3511"/>
                  </a:lnTo>
                  <a:lnTo>
                    <a:pt x="3963" y="3468"/>
                  </a:lnTo>
                  <a:lnTo>
                    <a:pt x="3906" y="3426"/>
                  </a:lnTo>
                  <a:lnTo>
                    <a:pt x="3848" y="3386"/>
                  </a:lnTo>
                  <a:lnTo>
                    <a:pt x="3788" y="3349"/>
                  </a:lnTo>
                  <a:lnTo>
                    <a:pt x="3728" y="3313"/>
                  </a:lnTo>
                  <a:lnTo>
                    <a:pt x="3668" y="3279"/>
                  </a:lnTo>
                  <a:lnTo>
                    <a:pt x="3607" y="3247"/>
                  </a:lnTo>
                  <a:lnTo>
                    <a:pt x="3545" y="3217"/>
                  </a:lnTo>
                  <a:lnTo>
                    <a:pt x="3482" y="3189"/>
                  </a:lnTo>
                  <a:lnTo>
                    <a:pt x="3419" y="3163"/>
                  </a:lnTo>
                  <a:lnTo>
                    <a:pt x="3355" y="3140"/>
                  </a:lnTo>
                  <a:lnTo>
                    <a:pt x="3290" y="3118"/>
                  </a:lnTo>
                  <a:lnTo>
                    <a:pt x="3225" y="3099"/>
                  </a:lnTo>
                  <a:lnTo>
                    <a:pt x="3159" y="3081"/>
                  </a:lnTo>
                  <a:lnTo>
                    <a:pt x="3093" y="3066"/>
                  </a:lnTo>
                  <a:lnTo>
                    <a:pt x="3025" y="3054"/>
                  </a:lnTo>
                  <a:lnTo>
                    <a:pt x="2958" y="3043"/>
                  </a:lnTo>
                  <a:lnTo>
                    <a:pt x="2891" y="3035"/>
                  </a:lnTo>
                  <a:lnTo>
                    <a:pt x="2822" y="3029"/>
                  </a:lnTo>
                  <a:lnTo>
                    <a:pt x="2753" y="3026"/>
                  </a:lnTo>
                  <a:lnTo>
                    <a:pt x="2684" y="3025"/>
                  </a:lnTo>
                  <a:close/>
                  <a:moveTo>
                    <a:pt x="2708" y="2647"/>
                  </a:moveTo>
                  <a:lnTo>
                    <a:pt x="2708" y="2647"/>
                  </a:lnTo>
                  <a:lnTo>
                    <a:pt x="2743" y="2646"/>
                  </a:lnTo>
                  <a:lnTo>
                    <a:pt x="2778" y="2645"/>
                  </a:lnTo>
                  <a:lnTo>
                    <a:pt x="2813" y="2643"/>
                  </a:lnTo>
                  <a:lnTo>
                    <a:pt x="2847" y="2640"/>
                  </a:lnTo>
                  <a:lnTo>
                    <a:pt x="2882" y="2636"/>
                  </a:lnTo>
                  <a:lnTo>
                    <a:pt x="2915" y="2631"/>
                  </a:lnTo>
                  <a:lnTo>
                    <a:pt x="2949" y="2626"/>
                  </a:lnTo>
                  <a:lnTo>
                    <a:pt x="2982" y="2620"/>
                  </a:lnTo>
                  <a:lnTo>
                    <a:pt x="3014" y="2613"/>
                  </a:lnTo>
                  <a:lnTo>
                    <a:pt x="3047" y="2605"/>
                  </a:lnTo>
                  <a:lnTo>
                    <a:pt x="3079" y="2596"/>
                  </a:lnTo>
                  <a:lnTo>
                    <a:pt x="3112" y="2587"/>
                  </a:lnTo>
                  <a:lnTo>
                    <a:pt x="3144" y="2577"/>
                  </a:lnTo>
                  <a:lnTo>
                    <a:pt x="3175" y="2566"/>
                  </a:lnTo>
                  <a:lnTo>
                    <a:pt x="3205" y="2555"/>
                  </a:lnTo>
                  <a:lnTo>
                    <a:pt x="3236" y="2542"/>
                  </a:lnTo>
                  <a:lnTo>
                    <a:pt x="3266" y="2530"/>
                  </a:lnTo>
                  <a:lnTo>
                    <a:pt x="3297" y="2517"/>
                  </a:lnTo>
                  <a:lnTo>
                    <a:pt x="3326" y="2502"/>
                  </a:lnTo>
                  <a:lnTo>
                    <a:pt x="3355" y="2487"/>
                  </a:lnTo>
                  <a:lnTo>
                    <a:pt x="3383" y="2472"/>
                  </a:lnTo>
                  <a:lnTo>
                    <a:pt x="3411" y="2455"/>
                  </a:lnTo>
                  <a:lnTo>
                    <a:pt x="3439" y="2438"/>
                  </a:lnTo>
                  <a:lnTo>
                    <a:pt x="3466" y="2421"/>
                  </a:lnTo>
                  <a:lnTo>
                    <a:pt x="3493" y="2403"/>
                  </a:lnTo>
                  <a:lnTo>
                    <a:pt x="3519" y="2384"/>
                  </a:lnTo>
                  <a:lnTo>
                    <a:pt x="3545" y="2365"/>
                  </a:lnTo>
                  <a:lnTo>
                    <a:pt x="3571" y="2345"/>
                  </a:lnTo>
                  <a:lnTo>
                    <a:pt x="3596" y="2324"/>
                  </a:lnTo>
                  <a:lnTo>
                    <a:pt x="3619" y="2303"/>
                  </a:lnTo>
                  <a:lnTo>
                    <a:pt x="3643" y="2282"/>
                  </a:lnTo>
                  <a:lnTo>
                    <a:pt x="3667" y="2259"/>
                  </a:lnTo>
                  <a:lnTo>
                    <a:pt x="3689" y="2237"/>
                  </a:lnTo>
                  <a:lnTo>
                    <a:pt x="3711" y="2213"/>
                  </a:lnTo>
                  <a:lnTo>
                    <a:pt x="3733" y="2189"/>
                  </a:lnTo>
                  <a:lnTo>
                    <a:pt x="3754" y="2165"/>
                  </a:lnTo>
                  <a:lnTo>
                    <a:pt x="3774" y="2140"/>
                  </a:lnTo>
                  <a:lnTo>
                    <a:pt x="3795" y="2115"/>
                  </a:lnTo>
                  <a:lnTo>
                    <a:pt x="3814" y="2089"/>
                  </a:lnTo>
                  <a:lnTo>
                    <a:pt x="3832" y="2063"/>
                  </a:lnTo>
                  <a:lnTo>
                    <a:pt x="3850" y="2036"/>
                  </a:lnTo>
                  <a:lnTo>
                    <a:pt x="3868" y="2010"/>
                  </a:lnTo>
                  <a:lnTo>
                    <a:pt x="3884" y="1983"/>
                  </a:lnTo>
                  <a:lnTo>
                    <a:pt x="3900" y="1954"/>
                  </a:lnTo>
                  <a:lnTo>
                    <a:pt x="3915" y="1925"/>
                  </a:lnTo>
                  <a:lnTo>
                    <a:pt x="3930" y="1897"/>
                  </a:lnTo>
                  <a:lnTo>
                    <a:pt x="3944" y="1868"/>
                  </a:lnTo>
                  <a:lnTo>
                    <a:pt x="3957" y="1839"/>
                  </a:lnTo>
                  <a:lnTo>
                    <a:pt x="3970" y="1808"/>
                  </a:lnTo>
                  <a:lnTo>
                    <a:pt x="3981" y="1778"/>
                  </a:lnTo>
                  <a:lnTo>
                    <a:pt x="3993" y="1748"/>
                  </a:lnTo>
                  <a:lnTo>
                    <a:pt x="4003" y="1717"/>
                  </a:lnTo>
                  <a:lnTo>
                    <a:pt x="4012" y="1686"/>
                  </a:lnTo>
                  <a:lnTo>
                    <a:pt x="4021" y="1654"/>
                  </a:lnTo>
                  <a:lnTo>
                    <a:pt x="4029" y="1622"/>
                  </a:lnTo>
                  <a:lnTo>
                    <a:pt x="4036" y="1590"/>
                  </a:lnTo>
                  <a:lnTo>
                    <a:pt x="4042" y="1557"/>
                  </a:lnTo>
                  <a:lnTo>
                    <a:pt x="4048" y="1525"/>
                  </a:lnTo>
                  <a:lnTo>
                    <a:pt x="4052" y="1492"/>
                  </a:lnTo>
                  <a:lnTo>
                    <a:pt x="4057" y="1459"/>
                  </a:lnTo>
                  <a:lnTo>
                    <a:pt x="4060" y="1425"/>
                  </a:lnTo>
                  <a:lnTo>
                    <a:pt x="4062" y="1391"/>
                  </a:lnTo>
                  <a:lnTo>
                    <a:pt x="4063" y="1357"/>
                  </a:lnTo>
                  <a:lnTo>
                    <a:pt x="4063" y="1324"/>
                  </a:lnTo>
                  <a:lnTo>
                    <a:pt x="4063" y="1289"/>
                  </a:lnTo>
                  <a:lnTo>
                    <a:pt x="4062" y="1255"/>
                  </a:lnTo>
                  <a:lnTo>
                    <a:pt x="4060" y="1221"/>
                  </a:lnTo>
                  <a:lnTo>
                    <a:pt x="4057" y="1188"/>
                  </a:lnTo>
                  <a:lnTo>
                    <a:pt x="4052" y="1155"/>
                  </a:lnTo>
                  <a:lnTo>
                    <a:pt x="4048" y="1121"/>
                  </a:lnTo>
                  <a:lnTo>
                    <a:pt x="4042" y="1089"/>
                  </a:lnTo>
                  <a:lnTo>
                    <a:pt x="4036" y="1057"/>
                  </a:lnTo>
                  <a:lnTo>
                    <a:pt x="4029" y="1025"/>
                  </a:lnTo>
                  <a:lnTo>
                    <a:pt x="4021" y="993"/>
                  </a:lnTo>
                  <a:lnTo>
                    <a:pt x="4012" y="962"/>
                  </a:lnTo>
                  <a:lnTo>
                    <a:pt x="4003" y="930"/>
                  </a:lnTo>
                  <a:lnTo>
                    <a:pt x="3993" y="899"/>
                  </a:lnTo>
                  <a:lnTo>
                    <a:pt x="3981" y="868"/>
                  </a:lnTo>
                  <a:lnTo>
                    <a:pt x="3970" y="838"/>
                  </a:lnTo>
                  <a:lnTo>
                    <a:pt x="3957" y="809"/>
                  </a:lnTo>
                  <a:lnTo>
                    <a:pt x="3944" y="778"/>
                  </a:lnTo>
                  <a:lnTo>
                    <a:pt x="3930" y="750"/>
                  </a:lnTo>
                  <a:lnTo>
                    <a:pt x="3915" y="721"/>
                  </a:lnTo>
                  <a:lnTo>
                    <a:pt x="3900" y="693"/>
                  </a:lnTo>
                  <a:lnTo>
                    <a:pt x="3884" y="665"/>
                  </a:lnTo>
                  <a:lnTo>
                    <a:pt x="3868" y="638"/>
                  </a:lnTo>
                  <a:lnTo>
                    <a:pt x="3850" y="610"/>
                  </a:lnTo>
                  <a:lnTo>
                    <a:pt x="3832" y="584"/>
                  </a:lnTo>
                  <a:lnTo>
                    <a:pt x="3814" y="557"/>
                  </a:lnTo>
                  <a:lnTo>
                    <a:pt x="3795" y="532"/>
                  </a:lnTo>
                  <a:lnTo>
                    <a:pt x="3774" y="506"/>
                  </a:lnTo>
                  <a:lnTo>
                    <a:pt x="3754" y="481"/>
                  </a:lnTo>
                  <a:lnTo>
                    <a:pt x="3733" y="458"/>
                  </a:lnTo>
                  <a:lnTo>
                    <a:pt x="3711" y="433"/>
                  </a:lnTo>
                  <a:lnTo>
                    <a:pt x="3689" y="411"/>
                  </a:lnTo>
                  <a:lnTo>
                    <a:pt x="3667" y="388"/>
                  </a:lnTo>
                  <a:lnTo>
                    <a:pt x="3643" y="366"/>
                  </a:lnTo>
                  <a:lnTo>
                    <a:pt x="3619" y="344"/>
                  </a:lnTo>
                  <a:lnTo>
                    <a:pt x="3596" y="323"/>
                  </a:lnTo>
                  <a:lnTo>
                    <a:pt x="3571" y="303"/>
                  </a:lnTo>
                  <a:lnTo>
                    <a:pt x="3545" y="282"/>
                  </a:lnTo>
                  <a:lnTo>
                    <a:pt x="3519" y="263"/>
                  </a:lnTo>
                  <a:lnTo>
                    <a:pt x="3493" y="244"/>
                  </a:lnTo>
                  <a:lnTo>
                    <a:pt x="3466" y="226"/>
                  </a:lnTo>
                  <a:lnTo>
                    <a:pt x="3439" y="208"/>
                  </a:lnTo>
                  <a:lnTo>
                    <a:pt x="3411" y="191"/>
                  </a:lnTo>
                  <a:lnTo>
                    <a:pt x="3383" y="176"/>
                  </a:lnTo>
                  <a:lnTo>
                    <a:pt x="3355" y="160"/>
                  </a:lnTo>
                  <a:lnTo>
                    <a:pt x="3326" y="145"/>
                  </a:lnTo>
                  <a:lnTo>
                    <a:pt x="3297" y="131"/>
                  </a:lnTo>
                  <a:lnTo>
                    <a:pt x="3266" y="117"/>
                  </a:lnTo>
                  <a:lnTo>
                    <a:pt x="3236" y="104"/>
                  </a:lnTo>
                  <a:lnTo>
                    <a:pt x="3205" y="92"/>
                  </a:lnTo>
                  <a:lnTo>
                    <a:pt x="3175" y="80"/>
                  </a:lnTo>
                  <a:lnTo>
                    <a:pt x="3144" y="70"/>
                  </a:lnTo>
                  <a:lnTo>
                    <a:pt x="3112" y="60"/>
                  </a:lnTo>
                  <a:lnTo>
                    <a:pt x="3079" y="51"/>
                  </a:lnTo>
                  <a:lnTo>
                    <a:pt x="3047" y="42"/>
                  </a:lnTo>
                  <a:lnTo>
                    <a:pt x="3014" y="34"/>
                  </a:lnTo>
                  <a:lnTo>
                    <a:pt x="2982" y="27"/>
                  </a:lnTo>
                  <a:lnTo>
                    <a:pt x="2949" y="20"/>
                  </a:lnTo>
                  <a:lnTo>
                    <a:pt x="2915" y="15"/>
                  </a:lnTo>
                  <a:lnTo>
                    <a:pt x="2882" y="10"/>
                  </a:lnTo>
                  <a:lnTo>
                    <a:pt x="2847" y="7"/>
                  </a:lnTo>
                  <a:lnTo>
                    <a:pt x="2813" y="4"/>
                  </a:lnTo>
                  <a:lnTo>
                    <a:pt x="2778" y="1"/>
                  </a:lnTo>
                  <a:lnTo>
                    <a:pt x="2743" y="0"/>
                  </a:lnTo>
                  <a:lnTo>
                    <a:pt x="2708" y="0"/>
                  </a:lnTo>
                  <a:lnTo>
                    <a:pt x="2673" y="0"/>
                  </a:lnTo>
                  <a:lnTo>
                    <a:pt x="2639" y="1"/>
                  </a:lnTo>
                  <a:lnTo>
                    <a:pt x="2605" y="4"/>
                  </a:lnTo>
                  <a:lnTo>
                    <a:pt x="2570" y="7"/>
                  </a:lnTo>
                  <a:lnTo>
                    <a:pt x="2536" y="10"/>
                  </a:lnTo>
                  <a:lnTo>
                    <a:pt x="2503" y="15"/>
                  </a:lnTo>
                  <a:lnTo>
                    <a:pt x="2469" y="20"/>
                  </a:lnTo>
                  <a:lnTo>
                    <a:pt x="2436" y="27"/>
                  </a:lnTo>
                  <a:lnTo>
                    <a:pt x="2402" y="34"/>
                  </a:lnTo>
                  <a:lnTo>
                    <a:pt x="2370" y="42"/>
                  </a:lnTo>
                  <a:lnTo>
                    <a:pt x="2338" y="51"/>
                  </a:lnTo>
                  <a:lnTo>
                    <a:pt x="2306" y="60"/>
                  </a:lnTo>
                  <a:lnTo>
                    <a:pt x="2274" y="70"/>
                  </a:lnTo>
                  <a:lnTo>
                    <a:pt x="2243" y="80"/>
                  </a:lnTo>
                  <a:lnTo>
                    <a:pt x="2212" y="92"/>
                  </a:lnTo>
                  <a:lnTo>
                    <a:pt x="2181" y="104"/>
                  </a:lnTo>
                  <a:lnTo>
                    <a:pt x="2152" y="117"/>
                  </a:lnTo>
                  <a:lnTo>
                    <a:pt x="2121" y="131"/>
                  </a:lnTo>
                  <a:lnTo>
                    <a:pt x="2092" y="145"/>
                  </a:lnTo>
                  <a:lnTo>
                    <a:pt x="2063" y="160"/>
                  </a:lnTo>
                  <a:lnTo>
                    <a:pt x="2035" y="176"/>
                  </a:lnTo>
                  <a:lnTo>
                    <a:pt x="2007" y="191"/>
                  </a:lnTo>
                  <a:lnTo>
                    <a:pt x="1979" y="208"/>
                  </a:lnTo>
                  <a:lnTo>
                    <a:pt x="1952" y="226"/>
                  </a:lnTo>
                  <a:lnTo>
                    <a:pt x="1925" y="244"/>
                  </a:lnTo>
                  <a:lnTo>
                    <a:pt x="1899" y="263"/>
                  </a:lnTo>
                  <a:lnTo>
                    <a:pt x="1873" y="282"/>
                  </a:lnTo>
                  <a:lnTo>
                    <a:pt x="1847" y="303"/>
                  </a:lnTo>
                  <a:lnTo>
                    <a:pt x="1822" y="323"/>
                  </a:lnTo>
                  <a:lnTo>
                    <a:pt x="1797" y="344"/>
                  </a:lnTo>
                  <a:lnTo>
                    <a:pt x="1774" y="366"/>
                  </a:lnTo>
                  <a:lnTo>
                    <a:pt x="1751" y="388"/>
                  </a:lnTo>
                  <a:lnTo>
                    <a:pt x="1728" y="411"/>
                  </a:lnTo>
                  <a:lnTo>
                    <a:pt x="1706" y="433"/>
                  </a:lnTo>
                  <a:lnTo>
                    <a:pt x="1685" y="458"/>
                  </a:lnTo>
                  <a:lnTo>
                    <a:pt x="1664" y="481"/>
                  </a:lnTo>
                  <a:lnTo>
                    <a:pt x="1643" y="506"/>
                  </a:lnTo>
                  <a:lnTo>
                    <a:pt x="1623" y="532"/>
                  </a:lnTo>
                  <a:lnTo>
                    <a:pt x="1604" y="557"/>
                  </a:lnTo>
                  <a:lnTo>
                    <a:pt x="1586" y="584"/>
                  </a:lnTo>
                  <a:lnTo>
                    <a:pt x="1568" y="610"/>
                  </a:lnTo>
                  <a:lnTo>
                    <a:pt x="1550" y="638"/>
                  </a:lnTo>
                  <a:lnTo>
                    <a:pt x="1533" y="665"/>
                  </a:lnTo>
                  <a:lnTo>
                    <a:pt x="1517" y="693"/>
                  </a:lnTo>
                  <a:lnTo>
                    <a:pt x="1503" y="721"/>
                  </a:lnTo>
                  <a:lnTo>
                    <a:pt x="1488" y="750"/>
                  </a:lnTo>
                  <a:lnTo>
                    <a:pt x="1474" y="778"/>
                  </a:lnTo>
                  <a:lnTo>
                    <a:pt x="1461" y="809"/>
                  </a:lnTo>
                  <a:lnTo>
                    <a:pt x="1448" y="838"/>
                  </a:lnTo>
                  <a:lnTo>
                    <a:pt x="1436" y="868"/>
                  </a:lnTo>
                  <a:lnTo>
                    <a:pt x="1425" y="899"/>
                  </a:lnTo>
                  <a:lnTo>
                    <a:pt x="1415" y="930"/>
                  </a:lnTo>
                  <a:lnTo>
                    <a:pt x="1406" y="962"/>
                  </a:lnTo>
                  <a:lnTo>
                    <a:pt x="1397" y="993"/>
                  </a:lnTo>
                  <a:lnTo>
                    <a:pt x="1389" y="1025"/>
                  </a:lnTo>
                  <a:lnTo>
                    <a:pt x="1381" y="1057"/>
                  </a:lnTo>
                  <a:lnTo>
                    <a:pt x="1376" y="1089"/>
                  </a:lnTo>
                  <a:lnTo>
                    <a:pt x="1370" y="1121"/>
                  </a:lnTo>
                  <a:lnTo>
                    <a:pt x="1366" y="1155"/>
                  </a:lnTo>
                  <a:lnTo>
                    <a:pt x="1361" y="1188"/>
                  </a:lnTo>
                  <a:lnTo>
                    <a:pt x="1358" y="1221"/>
                  </a:lnTo>
                  <a:lnTo>
                    <a:pt x="1355" y="1255"/>
                  </a:lnTo>
                  <a:lnTo>
                    <a:pt x="1354" y="1289"/>
                  </a:lnTo>
                  <a:lnTo>
                    <a:pt x="1354" y="1324"/>
                  </a:lnTo>
                  <a:lnTo>
                    <a:pt x="1354" y="1357"/>
                  </a:lnTo>
                  <a:lnTo>
                    <a:pt x="1355" y="1391"/>
                  </a:lnTo>
                  <a:lnTo>
                    <a:pt x="1358" y="1425"/>
                  </a:lnTo>
                  <a:lnTo>
                    <a:pt x="1361" y="1459"/>
                  </a:lnTo>
                  <a:lnTo>
                    <a:pt x="1366" y="1492"/>
                  </a:lnTo>
                  <a:lnTo>
                    <a:pt x="1370" y="1525"/>
                  </a:lnTo>
                  <a:lnTo>
                    <a:pt x="1376" y="1557"/>
                  </a:lnTo>
                  <a:lnTo>
                    <a:pt x="1381" y="1590"/>
                  </a:lnTo>
                  <a:lnTo>
                    <a:pt x="1389" y="1622"/>
                  </a:lnTo>
                  <a:lnTo>
                    <a:pt x="1397" y="1654"/>
                  </a:lnTo>
                  <a:lnTo>
                    <a:pt x="1406" y="1686"/>
                  </a:lnTo>
                  <a:lnTo>
                    <a:pt x="1415" y="1717"/>
                  </a:lnTo>
                  <a:lnTo>
                    <a:pt x="1425" y="1748"/>
                  </a:lnTo>
                  <a:lnTo>
                    <a:pt x="1436" y="1778"/>
                  </a:lnTo>
                  <a:lnTo>
                    <a:pt x="1448" y="1808"/>
                  </a:lnTo>
                  <a:lnTo>
                    <a:pt x="1461" y="1839"/>
                  </a:lnTo>
                  <a:lnTo>
                    <a:pt x="1474" y="1868"/>
                  </a:lnTo>
                  <a:lnTo>
                    <a:pt x="1488" y="1897"/>
                  </a:lnTo>
                  <a:lnTo>
                    <a:pt x="1503" y="1925"/>
                  </a:lnTo>
                  <a:lnTo>
                    <a:pt x="1517" y="1954"/>
                  </a:lnTo>
                  <a:lnTo>
                    <a:pt x="1533" y="1983"/>
                  </a:lnTo>
                  <a:lnTo>
                    <a:pt x="1550" y="2010"/>
                  </a:lnTo>
                  <a:lnTo>
                    <a:pt x="1568" y="2036"/>
                  </a:lnTo>
                  <a:lnTo>
                    <a:pt x="1586" y="2063"/>
                  </a:lnTo>
                  <a:lnTo>
                    <a:pt x="1604" y="2089"/>
                  </a:lnTo>
                  <a:lnTo>
                    <a:pt x="1623" y="2115"/>
                  </a:lnTo>
                  <a:lnTo>
                    <a:pt x="1643" y="2140"/>
                  </a:lnTo>
                  <a:lnTo>
                    <a:pt x="1664" y="2165"/>
                  </a:lnTo>
                  <a:lnTo>
                    <a:pt x="1685" y="2189"/>
                  </a:lnTo>
                  <a:lnTo>
                    <a:pt x="1706" y="2213"/>
                  </a:lnTo>
                  <a:lnTo>
                    <a:pt x="1728" y="2237"/>
                  </a:lnTo>
                  <a:lnTo>
                    <a:pt x="1751" y="2259"/>
                  </a:lnTo>
                  <a:lnTo>
                    <a:pt x="1774" y="2282"/>
                  </a:lnTo>
                  <a:lnTo>
                    <a:pt x="1797" y="2303"/>
                  </a:lnTo>
                  <a:lnTo>
                    <a:pt x="1822" y="2324"/>
                  </a:lnTo>
                  <a:lnTo>
                    <a:pt x="1847" y="2345"/>
                  </a:lnTo>
                  <a:lnTo>
                    <a:pt x="1873" y="2365"/>
                  </a:lnTo>
                  <a:lnTo>
                    <a:pt x="1899" y="2384"/>
                  </a:lnTo>
                  <a:lnTo>
                    <a:pt x="1925" y="2403"/>
                  </a:lnTo>
                  <a:lnTo>
                    <a:pt x="1952" y="2421"/>
                  </a:lnTo>
                  <a:lnTo>
                    <a:pt x="1979" y="2438"/>
                  </a:lnTo>
                  <a:lnTo>
                    <a:pt x="2007" y="2455"/>
                  </a:lnTo>
                  <a:lnTo>
                    <a:pt x="2035" y="2472"/>
                  </a:lnTo>
                  <a:lnTo>
                    <a:pt x="2063" y="2487"/>
                  </a:lnTo>
                  <a:lnTo>
                    <a:pt x="2092" y="2502"/>
                  </a:lnTo>
                  <a:lnTo>
                    <a:pt x="2121" y="2517"/>
                  </a:lnTo>
                  <a:lnTo>
                    <a:pt x="2152" y="2530"/>
                  </a:lnTo>
                  <a:lnTo>
                    <a:pt x="2181" y="2542"/>
                  </a:lnTo>
                  <a:lnTo>
                    <a:pt x="2212" y="2555"/>
                  </a:lnTo>
                  <a:lnTo>
                    <a:pt x="2243" y="2566"/>
                  </a:lnTo>
                  <a:lnTo>
                    <a:pt x="2274" y="2577"/>
                  </a:lnTo>
                  <a:lnTo>
                    <a:pt x="2306" y="2587"/>
                  </a:lnTo>
                  <a:lnTo>
                    <a:pt x="2338" y="2596"/>
                  </a:lnTo>
                  <a:lnTo>
                    <a:pt x="2370" y="2605"/>
                  </a:lnTo>
                  <a:lnTo>
                    <a:pt x="2402" y="2613"/>
                  </a:lnTo>
                  <a:lnTo>
                    <a:pt x="2436" y="2620"/>
                  </a:lnTo>
                  <a:lnTo>
                    <a:pt x="2469" y="2626"/>
                  </a:lnTo>
                  <a:lnTo>
                    <a:pt x="2503" y="2631"/>
                  </a:lnTo>
                  <a:lnTo>
                    <a:pt x="2536" y="2636"/>
                  </a:lnTo>
                  <a:lnTo>
                    <a:pt x="2570" y="2640"/>
                  </a:lnTo>
                  <a:lnTo>
                    <a:pt x="2605" y="2643"/>
                  </a:lnTo>
                  <a:lnTo>
                    <a:pt x="2639" y="2645"/>
                  </a:lnTo>
                  <a:lnTo>
                    <a:pt x="2673" y="2646"/>
                  </a:lnTo>
                  <a:lnTo>
                    <a:pt x="2708" y="2647"/>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9" name="组合 1025"/>
          <p:cNvGrpSpPr/>
          <p:nvPr/>
        </p:nvGrpSpPr>
        <p:grpSpPr>
          <a:xfrm>
            <a:off x="4624560" y="3898800"/>
            <a:ext cx="315720" cy="317520"/>
            <a:chOff x="4624560" y="3898800"/>
            <a:chExt cx="315720" cy="317520"/>
          </a:xfrm>
        </p:grpSpPr>
        <p:sp>
          <p:nvSpPr>
            <p:cNvPr id="50" name="椭圆 103"/>
            <p:cNvSpPr/>
            <p:nvPr/>
          </p:nvSpPr>
          <p:spPr>
            <a:xfrm>
              <a:off x="4624560" y="3898800"/>
              <a:ext cx="315720" cy="31752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KSO_Shape"/>
            <p:cNvSpPr/>
            <p:nvPr/>
          </p:nvSpPr>
          <p:spPr>
            <a:xfrm>
              <a:off x="4680000" y="3951000"/>
              <a:ext cx="204840" cy="193680"/>
            </a:xfrm>
            <a:custGeom>
              <a:avLst/>
              <a:gdLst/>
              <a:ahLst/>
              <a:rect l="l" t="t" r="r" b="b"/>
              <a:pathLst>
                <a:path w="1917701" h="1819275">
                  <a:moveTo>
                    <a:pt x="711992" y="795933"/>
                  </a:moveTo>
                  <a:lnTo>
                    <a:pt x="722042" y="796197"/>
                  </a:lnTo>
                  <a:lnTo>
                    <a:pt x="731828" y="796462"/>
                  </a:lnTo>
                  <a:lnTo>
                    <a:pt x="742143" y="796991"/>
                  </a:lnTo>
                  <a:lnTo>
                    <a:pt x="751929" y="797784"/>
                  </a:lnTo>
                  <a:lnTo>
                    <a:pt x="761979" y="798577"/>
                  </a:lnTo>
                  <a:lnTo>
                    <a:pt x="771765" y="799635"/>
                  </a:lnTo>
                  <a:lnTo>
                    <a:pt x="781551" y="800957"/>
                  </a:lnTo>
                  <a:lnTo>
                    <a:pt x="791337" y="802544"/>
                  </a:lnTo>
                  <a:lnTo>
                    <a:pt x="800858" y="804130"/>
                  </a:lnTo>
                  <a:lnTo>
                    <a:pt x="810644" y="805981"/>
                  </a:lnTo>
                  <a:lnTo>
                    <a:pt x="820166" y="807832"/>
                  </a:lnTo>
                  <a:lnTo>
                    <a:pt x="829687" y="810212"/>
                  </a:lnTo>
                  <a:lnTo>
                    <a:pt x="839473" y="812592"/>
                  </a:lnTo>
                  <a:lnTo>
                    <a:pt x="848994" y="814972"/>
                  </a:lnTo>
                  <a:lnTo>
                    <a:pt x="858252" y="817616"/>
                  </a:lnTo>
                  <a:lnTo>
                    <a:pt x="867773" y="820525"/>
                  </a:lnTo>
                  <a:lnTo>
                    <a:pt x="886551" y="826871"/>
                  </a:lnTo>
                  <a:lnTo>
                    <a:pt x="905065" y="833746"/>
                  </a:lnTo>
                  <a:lnTo>
                    <a:pt x="923315" y="841415"/>
                  </a:lnTo>
                  <a:lnTo>
                    <a:pt x="941300" y="849612"/>
                  </a:lnTo>
                  <a:lnTo>
                    <a:pt x="959284" y="858603"/>
                  </a:lnTo>
                  <a:lnTo>
                    <a:pt x="976740" y="868122"/>
                  </a:lnTo>
                  <a:lnTo>
                    <a:pt x="993932" y="878170"/>
                  </a:lnTo>
                  <a:lnTo>
                    <a:pt x="1011123" y="889012"/>
                  </a:lnTo>
                  <a:lnTo>
                    <a:pt x="1003189" y="891392"/>
                  </a:lnTo>
                  <a:lnTo>
                    <a:pt x="995254" y="893772"/>
                  </a:lnTo>
                  <a:lnTo>
                    <a:pt x="987055" y="896416"/>
                  </a:lnTo>
                  <a:lnTo>
                    <a:pt x="979121" y="899325"/>
                  </a:lnTo>
                  <a:lnTo>
                    <a:pt x="971186" y="902762"/>
                  </a:lnTo>
                  <a:lnTo>
                    <a:pt x="962987" y="905936"/>
                  </a:lnTo>
                  <a:lnTo>
                    <a:pt x="955053" y="909638"/>
                  </a:lnTo>
                  <a:lnTo>
                    <a:pt x="947383" y="913604"/>
                  </a:lnTo>
                  <a:lnTo>
                    <a:pt x="939448" y="917835"/>
                  </a:lnTo>
                  <a:lnTo>
                    <a:pt x="932043" y="922066"/>
                  </a:lnTo>
                  <a:lnTo>
                    <a:pt x="924637" y="926826"/>
                  </a:lnTo>
                  <a:lnTo>
                    <a:pt x="917231" y="931850"/>
                  </a:lnTo>
                  <a:lnTo>
                    <a:pt x="910090" y="936874"/>
                  </a:lnTo>
                  <a:lnTo>
                    <a:pt x="902949" y="942427"/>
                  </a:lnTo>
                  <a:lnTo>
                    <a:pt x="896073" y="948509"/>
                  </a:lnTo>
                  <a:lnTo>
                    <a:pt x="889461" y="954326"/>
                  </a:lnTo>
                  <a:lnTo>
                    <a:pt x="883113" y="960937"/>
                  </a:lnTo>
                  <a:lnTo>
                    <a:pt x="877030" y="967812"/>
                  </a:lnTo>
                  <a:lnTo>
                    <a:pt x="871211" y="974952"/>
                  </a:lnTo>
                  <a:lnTo>
                    <a:pt x="865393" y="982356"/>
                  </a:lnTo>
                  <a:lnTo>
                    <a:pt x="859838" y="990024"/>
                  </a:lnTo>
                  <a:lnTo>
                    <a:pt x="854813" y="998486"/>
                  </a:lnTo>
                  <a:lnTo>
                    <a:pt x="850052" y="1006683"/>
                  </a:lnTo>
                  <a:lnTo>
                    <a:pt x="845556" y="1015674"/>
                  </a:lnTo>
                  <a:lnTo>
                    <a:pt x="841324" y="1025193"/>
                  </a:lnTo>
                  <a:lnTo>
                    <a:pt x="837886" y="1034713"/>
                  </a:lnTo>
                  <a:lnTo>
                    <a:pt x="834183" y="1044761"/>
                  </a:lnTo>
                  <a:lnTo>
                    <a:pt x="831274" y="1055074"/>
                  </a:lnTo>
                  <a:lnTo>
                    <a:pt x="828629" y="1066180"/>
                  </a:lnTo>
                  <a:lnTo>
                    <a:pt x="826249" y="1077550"/>
                  </a:lnTo>
                  <a:lnTo>
                    <a:pt x="824398" y="1089185"/>
                  </a:lnTo>
                  <a:lnTo>
                    <a:pt x="823340" y="1101349"/>
                  </a:lnTo>
                  <a:lnTo>
                    <a:pt x="822017" y="1115893"/>
                  </a:lnTo>
                  <a:lnTo>
                    <a:pt x="821488" y="1129907"/>
                  </a:lnTo>
                  <a:lnTo>
                    <a:pt x="821488" y="1143129"/>
                  </a:lnTo>
                  <a:lnTo>
                    <a:pt x="821753" y="1156086"/>
                  </a:lnTo>
                  <a:lnTo>
                    <a:pt x="822546" y="1168514"/>
                  </a:lnTo>
                  <a:lnTo>
                    <a:pt x="824133" y="1180413"/>
                  </a:lnTo>
                  <a:lnTo>
                    <a:pt x="825984" y="1192048"/>
                  </a:lnTo>
                  <a:lnTo>
                    <a:pt x="828100" y="1203154"/>
                  </a:lnTo>
                  <a:lnTo>
                    <a:pt x="830745" y="1213731"/>
                  </a:lnTo>
                  <a:lnTo>
                    <a:pt x="833654" y="1224044"/>
                  </a:lnTo>
                  <a:lnTo>
                    <a:pt x="836828" y="1233828"/>
                  </a:lnTo>
                  <a:lnTo>
                    <a:pt x="840531" y="1243348"/>
                  </a:lnTo>
                  <a:lnTo>
                    <a:pt x="844763" y="1252338"/>
                  </a:lnTo>
                  <a:lnTo>
                    <a:pt x="848994" y="1260800"/>
                  </a:lnTo>
                  <a:lnTo>
                    <a:pt x="853491" y="1269262"/>
                  </a:lnTo>
                  <a:lnTo>
                    <a:pt x="858516" y="1276930"/>
                  </a:lnTo>
                  <a:lnTo>
                    <a:pt x="863806" y="1284334"/>
                  </a:lnTo>
                  <a:lnTo>
                    <a:pt x="869360" y="1291474"/>
                  </a:lnTo>
                  <a:lnTo>
                    <a:pt x="874914" y="1298349"/>
                  </a:lnTo>
                  <a:lnTo>
                    <a:pt x="880997" y="1304960"/>
                  </a:lnTo>
                  <a:lnTo>
                    <a:pt x="887080" y="1311042"/>
                  </a:lnTo>
                  <a:lnTo>
                    <a:pt x="893428" y="1316859"/>
                  </a:lnTo>
                  <a:lnTo>
                    <a:pt x="900040" y="1322412"/>
                  </a:lnTo>
                  <a:lnTo>
                    <a:pt x="906652" y="1327436"/>
                  </a:lnTo>
                  <a:lnTo>
                    <a:pt x="913264" y="1332196"/>
                  </a:lnTo>
                  <a:lnTo>
                    <a:pt x="920405" y="1336956"/>
                  </a:lnTo>
                  <a:lnTo>
                    <a:pt x="927546" y="1341187"/>
                  </a:lnTo>
                  <a:lnTo>
                    <a:pt x="934687" y="1345417"/>
                  </a:lnTo>
                  <a:lnTo>
                    <a:pt x="941828" y="1349119"/>
                  </a:lnTo>
                  <a:lnTo>
                    <a:pt x="949234" y="1352821"/>
                  </a:lnTo>
                  <a:lnTo>
                    <a:pt x="956904" y="1355995"/>
                  </a:lnTo>
                  <a:lnTo>
                    <a:pt x="964310" y="1358903"/>
                  </a:lnTo>
                  <a:lnTo>
                    <a:pt x="971715" y="1361812"/>
                  </a:lnTo>
                  <a:lnTo>
                    <a:pt x="979121" y="1364456"/>
                  </a:lnTo>
                  <a:lnTo>
                    <a:pt x="986526" y="1366836"/>
                  </a:lnTo>
                  <a:lnTo>
                    <a:pt x="993932" y="1368952"/>
                  </a:lnTo>
                  <a:lnTo>
                    <a:pt x="1008479" y="1372654"/>
                  </a:lnTo>
                  <a:lnTo>
                    <a:pt x="1023025" y="1375562"/>
                  </a:lnTo>
                  <a:lnTo>
                    <a:pt x="1037043" y="1378471"/>
                  </a:lnTo>
                  <a:lnTo>
                    <a:pt x="1050532" y="1380058"/>
                  </a:lnTo>
                  <a:lnTo>
                    <a:pt x="1063227" y="1381380"/>
                  </a:lnTo>
                  <a:lnTo>
                    <a:pt x="1075129" y="1382438"/>
                  </a:lnTo>
                  <a:lnTo>
                    <a:pt x="1086237" y="1382702"/>
                  </a:lnTo>
                  <a:lnTo>
                    <a:pt x="1096287" y="1383231"/>
                  </a:lnTo>
                  <a:lnTo>
                    <a:pt x="1105015" y="1383495"/>
                  </a:lnTo>
                  <a:lnTo>
                    <a:pt x="1112421" y="1383231"/>
                  </a:lnTo>
                  <a:lnTo>
                    <a:pt x="1122736" y="1382702"/>
                  </a:lnTo>
                  <a:lnTo>
                    <a:pt x="1126703" y="1382438"/>
                  </a:lnTo>
                  <a:lnTo>
                    <a:pt x="1126703" y="1394337"/>
                  </a:lnTo>
                  <a:lnTo>
                    <a:pt x="1126968" y="1406236"/>
                  </a:lnTo>
                  <a:lnTo>
                    <a:pt x="1127232" y="1417607"/>
                  </a:lnTo>
                  <a:lnTo>
                    <a:pt x="1128025" y="1428977"/>
                  </a:lnTo>
                  <a:lnTo>
                    <a:pt x="1129083" y="1439554"/>
                  </a:lnTo>
                  <a:lnTo>
                    <a:pt x="1130141" y="1450131"/>
                  </a:lnTo>
                  <a:lnTo>
                    <a:pt x="1131728" y="1460444"/>
                  </a:lnTo>
                  <a:lnTo>
                    <a:pt x="1133580" y="1470228"/>
                  </a:lnTo>
                  <a:lnTo>
                    <a:pt x="1135431" y="1480012"/>
                  </a:lnTo>
                  <a:lnTo>
                    <a:pt x="1137547" y="1489267"/>
                  </a:lnTo>
                  <a:lnTo>
                    <a:pt x="1139927" y="1498522"/>
                  </a:lnTo>
                  <a:lnTo>
                    <a:pt x="1142572" y="1507513"/>
                  </a:lnTo>
                  <a:lnTo>
                    <a:pt x="1145481" y="1515710"/>
                  </a:lnTo>
                  <a:lnTo>
                    <a:pt x="1148391" y="1524172"/>
                  </a:lnTo>
                  <a:lnTo>
                    <a:pt x="1151564" y="1532105"/>
                  </a:lnTo>
                  <a:lnTo>
                    <a:pt x="1155003" y="1539773"/>
                  </a:lnTo>
                  <a:lnTo>
                    <a:pt x="1158441" y="1547442"/>
                  </a:lnTo>
                  <a:lnTo>
                    <a:pt x="1162408" y="1554581"/>
                  </a:lnTo>
                  <a:lnTo>
                    <a:pt x="1166111" y="1561721"/>
                  </a:lnTo>
                  <a:lnTo>
                    <a:pt x="1170078" y="1568596"/>
                  </a:lnTo>
                  <a:lnTo>
                    <a:pt x="1174575" y="1575207"/>
                  </a:lnTo>
                  <a:lnTo>
                    <a:pt x="1178806" y="1581553"/>
                  </a:lnTo>
                  <a:lnTo>
                    <a:pt x="1183038" y="1587370"/>
                  </a:lnTo>
                  <a:lnTo>
                    <a:pt x="1187799" y="1593452"/>
                  </a:lnTo>
                  <a:lnTo>
                    <a:pt x="1192560" y="1599005"/>
                  </a:lnTo>
                  <a:lnTo>
                    <a:pt x="1197320" y="1604558"/>
                  </a:lnTo>
                  <a:lnTo>
                    <a:pt x="1202346" y="1609582"/>
                  </a:lnTo>
                  <a:lnTo>
                    <a:pt x="1207635" y="1614607"/>
                  </a:lnTo>
                  <a:lnTo>
                    <a:pt x="1212660" y="1619366"/>
                  </a:lnTo>
                  <a:lnTo>
                    <a:pt x="1217950" y="1624126"/>
                  </a:lnTo>
                  <a:lnTo>
                    <a:pt x="1223240" y="1628357"/>
                  </a:lnTo>
                  <a:lnTo>
                    <a:pt x="1229058" y="1632852"/>
                  </a:lnTo>
                  <a:lnTo>
                    <a:pt x="1234348" y="1636819"/>
                  </a:lnTo>
                  <a:lnTo>
                    <a:pt x="1239902" y="1640521"/>
                  </a:lnTo>
                  <a:lnTo>
                    <a:pt x="1245721" y="1644487"/>
                  </a:lnTo>
                  <a:lnTo>
                    <a:pt x="1251540" y="1647660"/>
                  </a:lnTo>
                  <a:lnTo>
                    <a:pt x="1263177" y="1654271"/>
                  </a:lnTo>
                  <a:lnTo>
                    <a:pt x="1274814" y="1660353"/>
                  </a:lnTo>
                  <a:lnTo>
                    <a:pt x="1286716" y="1665377"/>
                  </a:lnTo>
                  <a:lnTo>
                    <a:pt x="1298882" y="1670137"/>
                  </a:lnTo>
                  <a:lnTo>
                    <a:pt x="1310784" y="1673839"/>
                  </a:lnTo>
                  <a:lnTo>
                    <a:pt x="1322686" y="1677541"/>
                  </a:lnTo>
                  <a:lnTo>
                    <a:pt x="1334588" y="1680714"/>
                  </a:lnTo>
                  <a:lnTo>
                    <a:pt x="1346225" y="1683094"/>
                  </a:lnTo>
                  <a:lnTo>
                    <a:pt x="1357862" y="1685474"/>
                  </a:lnTo>
                  <a:lnTo>
                    <a:pt x="1368971" y="1687325"/>
                  </a:lnTo>
                  <a:lnTo>
                    <a:pt x="1380079" y="1688382"/>
                  </a:lnTo>
                  <a:lnTo>
                    <a:pt x="1390658" y="1689705"/>
                  </a:lnTo>
                  <a:lnTo>
                    <a:pt x="1401238" y="1690498"/>
                  </a:lnTo>
                  <a:lnTo>
                    <a:pt x="1411024" y="1690762"/>
                  </a:lnTo>
                  <a:lnTo>
                    <a:pt x="1411817" y="1709537"/>
                  </a:lnTo>
                  <a:lnTo>
                    <a:pt x="1412346" y="1728311"/>
                  </a:lnTo>
                  <a:lnTo>
                    <a:pt x="1412875" y="1747086"/>
                  </a:lnTo>
                  <a:lnTo>
                    <a:pt x="1412875" y="1766125"/>
                  </a:lnTo>
                  <a:lnTo>
                    <a:pt x="1412346" y="1792832"/>
                  </a:lnTo>
                  <a:lnTo>
                    <a:pt x="1411553" y="1819275"/>
                  </a:lnTo>
                  <a:lnTo>
                    <a:pt x="793" y="1811078"/>
                  </a:lnTo>
                  <a:lnTo>
                    <a:pt x="264" y="1784635"/>
                  </a:lnTo>
                  <a:lnTo>
                    <a:pt x="0" y="1757928"/>
                  </a:lnTo>
                  <a:lnTo>
                    <a:pt x="529" y="1733071"/>
                  </a:lnTo>
                  <a:lnTo>
                    <a:pt x="1058" y="1708215"/>
                  </a:lnTo>
                  <a:lnTo>
                    <a:pt x="2645" y="1683623"/>
                  </a:lnTo>
                  <a:lnTo>
                    <a:pt x="4232" y="1659031"/>
                  </a:lnTo>
                  <a:lnTo>
                    <a:pt x="6612" y="1634968"/>
                  </a:lnTo>
                  <a:lnTo>
                    <a:pt x="8992" y="1610905"/>
                  </a:lnTo>
                  <a:lnTo>
                    <a:pt x="12166" y="1587106"/>
                  </a:lnTo>
                  <a:lnTo>
                    <a:pt x="15340" y="1563307"/>
                  </a:lnTo>
                  <a:lnTo>
                    <a:pt x="19307" y="1539773"/>
                  </a:lnTo>
                  <a:lnTo>
                    <a:pt x="23804" y="1516503"/>
                  </a:lnTo>
                  <a:lnTo>
                    <a:pt x="28300" y="1493762"/>
                  </a:lnTo>
                  <a:lnTo>
                    <a:pt x="33590" y="1470757"/>
                  </a:lnTo>
                  <a:lnTo>
                    <a:pt x="38879" y="1448280"/>
                  </a:lnTo>
                  <a:lnTo>
                    <a:pt x="44962" y="1425804"/>
                  </a:lnTo>
                  <a:lnTo>
                    <a:pt x="51045" y="1403856"/>
                  </a:lnTo>
                  <a:lnTo>
                    <a:pt x="57658" y="1382173"/>
                  </a:lnTo>
                  <a:lnTo>
                    <a:pt x="64799" y="1360754"/>
                  </a:lnTo>
                  <a:lnTo>
                    <a:pt x="72204" y="1339336"/>
                  </a:lnTo>
                  <a:lnTo>
                    <a:pt x="79874" y="1318710"/>
                  </a:lnTo>
                  <a:lnTo>
                    <a:pt x="88073" y="1298085"/>
                  </a:lnTo>
                  <a:lnTo>
                    <a:pt x="96272" y="1277459"/>
                  </a:lnTo>
                  <a:lnTo>
                    <a:pt x="105265" y="1257627"/>
                  </a:lnTo>
                  <a:lnTo>
                    <a:pt x="114522" y="1238059"/>
                  </a:lnTo>
                  <a:lnTo>
                    <a:pt x="123779" y="1218491"/>
                  </a:lnTo>
                  <a:lnTo>
                    <a:pt x="133565" y="1199452"/>
                  </a:lnTo>
                  <a:lnTo>
                    <a:pt x="143615" y="1180678"/>
                  </a:lnTo>
                  <a:lnTo>
                    <a:pt x="153930" y="1162432"/>
                  </a:lnTo>
                  <a:lnTo>
                    <a:pt x="165038" y="1144451"/>
                  </a:lnTo>
                  <a:lnTo>
                    <a:pt x="176147" y="1126734"/>
                  </a:lnTo>
                  <a:lnTo>
                    <a:pt x="187255" y="1109546"/>
                  </a:lnTo>
                  <a:lnTo>
                    <a:pt x="198892" y="1092623"/>
                  </a:lnTo>
                  <a:lnTo>
                    <a:pt x="210794" y="1075964"/>
                  </a:lnTo>
                  <a:lnTo>
                    <a:pt x="222960" y="1059834"/>
                  </a:lnTo>
                  <a:lnTo>
                    <a:pt x="235391" y="1044232"/>
                  </a:lnTo>
                  <a:lnTo>
                    <a:pt x="248351" y="1028895"/>
                  </a:lnTo>
                  <a:lnTo>
                    <a:pt x="261310" y="1013823"/>
                  </a:lnTo>
                  <a:lnTo>
                    <a:pt x="274799" y="999544"/>
                  </a:lnTo>
                  <a:lnTo>
                    <a:pt x="288288" y="985529"/>
                  </a:lnTo>
                  <a:lnTo>
                    <a:pt x="302041" y="971779"/>
                  </a:lnTo>
                  <a:lnTo>
                    <a:pt x="316059" y="958557"/>
                  </a:lnTo>
                  <a:lnTo>
                    <a:pt x="330341" y="946129"/>
                  </a:lnTo>
                  <a:lnTo>
                    <a:pt x="344888" y="933965"/>
                  </a:lnTo>
                  <a:lnTo>
                    <a:pt x="359963" y="922066"/>
                  </a:lnTo>
                  <a:lnTo>
                    <a:pt x="374774" y="910695"/>
                  </a:lnTo>
                  <a:lnTo>
                    <a:pt x="389850" y="899589"/>
                  </a:lnTo>
                  <a:lnTo>
                    <a:pt x="405454" y="889541"/>
                  </a:lnTo>
                  <a:lnTo>
                    <a:pt x="420794" y="879757"/>
                  </a:lnTo>
                  <a:lnTo>
                    <a:pt x="436664" y="870238"/>
                  </a:lnTo>
                  <a:lnTo>
                    <a:pt x="452533" y="861511"/>
                  </a:lnTo>
                  <a:lnTo>
                    <a:pt x="468666" y="853314"/>
                  </a:lnTo>
                  <a:lnTo>
                    <a:pt x="485064" y="845646"/>
                  </a:lnTo>
                  <a:lnTo>
                    <a:pt x="501727" y="838242"/>
                  </a:lnTo>
                  <a:lnTo>
                    <a:pt x="518389" y="831631"/>
                  </a:lnTo>
                  <a:lnTo>
                    <a:pt x="535316" y="825285"/>
                  </a:lnTo>
                  <a:lnTo>
                    <a:pt x="552243" y="819732"/>
                  </a:lnTo>
                  <a:lnTo>
                    <a:pt x="569435" y="814972"/>
                  </a:lnTo>
                  <a:lnTo>
                    <a:pt x="586891" y="810477"/>
                  </a:lnTo>
                  <a:lnTo>
                    <a:pt x="604347" y="806510"/>
                  </a:lnTo>
                  <a:lnTo>
                    <a:pt x="622067" y="803337"/>
                  </a:lnTo>
                  <a:lnTo>
                    <a:pt x="639787" y="800693"/>
                  </a:lnTo>
                  <a:lnTo>
                    <a:pt x="657508" y="798577"/>
                  </a:lnTo>
                  <a:lnTo>
                    <a:pt x="675757" y="796991"/>
                  </a:lnTo>
                  <a:lnTo>
                    <a:pt x="693742" y="796197"/>
                  </a:lnTo>
                  <a:lnTo>
                    <a:pt x="711992" y="795933"/>
                  </a:lnTo>
                  <a:close/>
                  <a:moveTo>
                    <a:pt x="1463280" y="660400"/>
                  </a:moveTo>
                  <a:lnTo>
                    <a:pt x="1469893" y="660400"/>
                  </a:lnTo>
                  <a:lnTo>
                    <a:pt x="1477034" y="660665"/>
                  </a:lnTo>
                  <a:lnTo>
                    <a:pt x="1483912" y="660929"/>
                  </a:lnTo>
                  <a:lnTo>
                    <a:pt x="1490789" y="661988"/>
                  </a:lnTo>
                  <a:lnTo>
                    <a:pt x="1497666" y="663046"/>
                  </a:lnTo>
                  <a:lnTo>
                    <a:pt x="1504279" y="664898"/>
                  </a:lnTo>
                  <a:lnTo>
                    <a:pt x="1510891" y="666750"/>
                  </a:lnTo>
                  <a:lnTo>
                    <a:pt x="1516975" y="668867"/>
                  </a:lnTo>
                  <a:lnTo>
                    <a:pt x="1523323" y="671248"/>
                  </a:lnTo>
                  <a:lnTo>
                    <a:pt x="1529142" y="673894"/>
                  </a:lnTo>
                  <a:lnTo>
                    <a:pt x="1535226" y="676804"/>
                  </a:lnTo>
                  <a:lnTo>
                    <a:pt x="1540780" y="679979"/>
                  </a:lnTo>
                  <a:lnTo>
                    <a:pt x="1546599" y="683683"/>
                  </a:lnTo>
                  <a:lnTo>
                    <a:pt x="1551625" y="687123"/>
                  </a:lnTo>
                  <a:lnTo>
                    <a:pt x="1556915" y="691356"/>
                  </a:lnTo>
                  <a:lnTo>
                    <a:pt x="1561676" y="695590"/>
                  </a:lnTo>
                  <a:lnTo>
                    <a:pt x="1566437" y="700088"/>
                  </a:lnTo>
                  <a:lnTo>
                    <a:pt x="1570934" y="704850"/>
                  </a:lnTo>
                  <a:lnTo>
                    <a:pt x="1575431" y="709613"/>
                  </a:lnTo>
                  <a:lnTo>
                    <a:pt x="1579134" y="714640"/>
                  </a:lnTo>
                  <a:lnTo>
                    <a:pt x="1583101" y="719931"/>
                  </a:lnTo>
                  <a:lnTo>
                    <a:pt x="1586540" y="725223"/>
                  </a:lnTo>
                  <a:lnTo>
                    <a:pt x="1589978" y="731044"/>
                  </a:lnTo>
                  <a:lnTo>
                    <a:pt x="1592888" y="736600"/>
                  </a:lnTo>
                  <a:lnTo>
                    <a:pt x="1595533" y="742685"/>
                  </a:lnTo>
                  <a:lnTo>
                    <a:pt x="1597914" y="748771"/>
                  </a:lnTo>
                  <a:lnTo>
                    <a:pt x="1600030" y="754856"/>
                  </a:lnTo>
                  <a:lnTo>
                    <a:pt x="1601881" y="761206"/>
                  </a:lnTo>
                  <a:lnTo>
                    <a:pt x="1603204" y="767556"/>
                  </a:lnTo>
                  <a:lnTo>
                    <a:pt x="1604526" y="774435"/>
                  </a:lnTo>
                  <a:lnTo>
                    <a:pt x="1605320" y="781050"/>
                  </a:lnTo>
                  <a:lnTo>
                    <a:pt x="1605584" y="787665"/>
                  </a:lnTo>
                  <a:lnTo>
                    <a:pt x="1605849" y="794544"/>
                  </a:lnTo>
                  <a:lnTo>
                    <a:pt x="1604791" y="967581"/>
                  </a:lnTo>
                  <a:lnTo>
                    <a:pt x="1781745" y="968375"/>
                  </a:lnTo>
                  <a:lnTo>
                    <a:pt x="1788887" y="968640"/>
                  </a:lnTo>
                  <a:lnTo>
                    <a:pt x="1795764" y="969169"/>
                  </a:lnTo>
                  <a:lnTo>
                    <a:pt x="1802641" y="970227"/>
                  </a:lnTo>
                  <a:lnTo>
                    <a:pt x="1809518" y="971285"/>
                  </a:lnTo>
                  <a:lnTo>
                    <a:pt x="1815866" y="972873"/>
                  </a:lnTo>
                  <a:lnTo>
                    <a:pt x="1822479" y="974725"/>
                  </a:lnTo>
                  <a:lnTo>
                    <a:pt x="1828827" y="977106"/>
                  </a:lnTo>
                  <a:lnTo>
                    <a:pt x="1834911" y="979488"/>
                  </a:lnTo>
                  <a:lnTo>
                    <a:pt x="1840994" y="982133"/>
                  </a:lnTo>
                  <a:lnTo>
                    <a:pt x="1846813" y="985044"/>
                  </a:lnTo>
                  <a:lnTo>
                    <a:pt x="1852633" y="988219"/>
                  </a:lnTo>
                  <a:lnTo>
                    <a:pt x="1857923" y="991923"/>
                  </a:lnTo>
                  <a:lnTo>
                    <a:pt x="1863213" y="995363"/>
                  </a:lnTo>
                  <a:lnTo>
                    <a:pt x="1868503" y="999596"/>
                  </a:lnTo>
                  <a:lnTo>
                    <a:pt x="1873264" y="1003829"/>
                  </a:lnTo>
                  <a:lnTo>
                    <a:pt x="1878025" y="1008327"/>
                  </a:lnTo>
                  <a:lnTo>
                    <a:pt x="1882522" y="1012825"/>
                  </a:lnTo>
                  <a:lnTo>
                    <a:pt x="1886754" y="1017852"/>
                  </a:lnTo>
                  <a:lnTo>
                    <a:pt x="1890986" y="1022879"/>
                  </a:lnTo>
                  <a:lnTo>
                    <a:pt x="1894689" y="1027906"/>
                  </a:lnTo>
                  <a:lnTo>
                    <a:pt x="1898128" y="1033463"/>
                  </a:lnTo>
                  <a:lnTo>
                    <a:pt x="1901302" y="1039283"/>
                  </a:lnTo>
                  <a:lnTo>
                    <a:pt x="1904211" y="1044840"/>
                  </a:lnTo>
                  <a:lnTo>
                    <a:pt x="1907385" y="1050660"/>
                  </a:lnTo>
                  <a:lnTo>
                    <a:pt x="1909766" y="1056746"/>
                  </a:lnTo>
                  <a:lnTo>
                    <a:pt x="1911882" y="1063096"/>
                  </a:lnTo>
                  <a:lnTo>
                    <a:pt x="1913469" y="1069181"/>
                  </a:lnTo>
                  <a:lnTo>
                    <a:pt x="1915056" y="1075796"/>
                  </a:lnTo>
                  <a:lnTo>
                    <a:pt x="1916114" y="1082410"/>
                  </a:lnTo>
                  <a:lnTo>
                    <a:pt x="1916908" y="1089290"/>
                  </a:lnTo>
                  <a:lnTo>
                    <a:pt x="1917436" y="1095640"/>
                  </a:lnTo>
                  <a:lnTo>
                    <a:pt x="1917701" y="1102783"/>
                  </a:lnTo>
                  <a:lnTo>
                    <a:pt x="1917436" y="1109663"/>
                  </a:lnTo>
                  <a:lnTo>
                    <a:pt x="1916908" y="1116277"/>
                  </a:lnTo>
                  <a:lnTo>
                    <a:pt x="1915849" y="1123156"/>
                  </a:lnTo>
                  <a:lnTo>
                    <a:pt x="1914791" y="1129506"/>
                  </a:lnTo>
                  <a:lnTo>
                    <a:pt x="1913204" y="1136121"/>
                  </a:lnTo>
                  <a:lnTo>
                    <a:pt x="1911088" y="1142471"/>
                  </a:lnTo>
                  <a:lnTo>
                    <a:pt x="1908972" y="1148556"/>
                  </a:lnTo>
                  <a:lnTo>
                    <a:pt x="1906592" y="1154642"/>
                  </a:lnTo>
                  <a:lnTo>
                    <a:pt x="1903682" y="1160463"/>
                  </a:lnTo>
                  <a:lnTo>
                    <a:pt x="1900773" y="1166283"/>
                  </a:lnTo>
                  <a:lnTo>
                    <a:pt x="1897599" y="1171840"/>
                  </a:lnTo>
                  <a:lnTo>
                    <a:pt x="1893896" y="1177131"/>
                  </a:lnTo>
                  <a:lnTo>
                    <a:pt x="1889928" y="1182158"/>
                  </a:lnTo>
                  <a:lnTo>
                    <a:pt x="1885960" y="1187450"/>
                  </a:lnTo>
                  <a:lnTo>
                    <a:pt x="1881728" y="1192213"/>
                  </a:lnTo>
                  <a:lnTo>
                    <a:pt x="1876967" y="1196975"/>
                  </a:lnTo>
                  <a:lnTo>
                    <a:pt x="1872206" y="1201208"/>
                  </a:lnTo>
                  <a:lnTo>
                    <a:pt x="1867445" y="1205442"/>
                  </a:lnTo>
                  <a:lnTo>
                    <a:pt x="1862155" y="1209411"/>
                  </a:lnTo>
                  <a:lnTo>
                    <a:pt x="1856600" y="1212850"/>
                  </a:lnTo>
                  <a:lnTo>
                    <a:pt x="1851046" y="1216554"/>
                  </a:lnTo>
                  <a:lnTo>
                    <a:pt x="1845491" y="1219465"/>
                  </a:lnTo>
                  <a:lnTo>
                    <a:pt x="1839407" y="1222375"/>
                  </a:lnTo>
                  <a:lnTo>
                    <a:pt x="1833588" y="1225021"/>
                  </a:lnTo>
                  <a:lnTo>
                    <a:pt x="1827240" y="1227402"/>
                  </a:lnTo>
                  <a:lnTo>
                    <a:pt x="1821156" y="1229519"/>
                  </a:lnTo>
                  <a:lnTo>
                    <a:pt x="1814544" y="1231371"/>
                  </a:lnTo>
                  <a:lnTo>
                    <a:pt x="1807931" y="1232958"/>
                  </a:lnTo>
                  <a:lnTo>
                    <a:pt x="1801054" y="1234017"/>
                  </a:lnTo>
                  <a:lnTo>
                    <a:pt x="1794177" y="1234546"/>
                  </a:lnTo>
                  <a:lnTo>
                    <a:pt x="1787300" y="1235340"/>
                  </a:lnTo>
                  <a:lnTo>
                    <a:pt x="1780158" y="1235340"/>
                  </a:lnTo>
                  <a:lnTo>
                    <a:pt x="1603204" y="1234281"/>
                  </a:lnTo>
                  <a:lnTo>
                    <a:pt x="1602410" y="1407319"/>
                  </a:lnTo>
                  <a:lnTo>
                    <a:pt x="1602146" y="1413933"/>
                  </a:lnTo>
                  <a:lnTo>
                    <a:pt x="1601617" y="1420813"/>
                  </a:lnTo>
                  <a:lnTo>
                    <a:pt x="1600559" y="1427692"/>
                  </a:lnTo>
                  <a:lnTo>
                    <a:pt x="1599501" y="1434306"/>
                  </a:lnTo>
                  <a:lnTo>
                    <a:pt x="1597914" y="1440392"/>
                  </a:lnTo>
                  <a:lnTo>
                    <a:pt x="1595798" y="1446742"/>
                  </a:lnTo>
                  <a:lnTo>
                    <a:pt x="1593682" y="1453092"/>
                  </a:lnTo>
                  <a:lnTo>
                    <a:pt x="1591301" y="1459177"/>
                  </a:lnTo>
                  <a:lnTo>
                    <a:pt x="1588656" y="1464998"/>
                  </a:lnTo>
                  <a:lnTo>
                    <a:pt x="1585482" y="1470819"/>
                  </a:lnTo>
                  <a:lnTo>
                    <a:pt x="1582043" y="1476111"/>
                  </a:lnTo>
                  <a:lnTo>
                    <a:pt x="1578605" y="1481931"/>
                  </a:lnTo>
                  <a:lnTo>
                    <a:pt x="1574637" y="1486958"/>
                  </a:lnTo>
                  <a:lnTo>
                    <a:pt x="1570670" y="1491986"/>
                  </a:lnTo>
                  <a:lnTo>
                    <a:pt x="1566437" y="1496748"/>
                  </a:lnTo>
                  <a:lnTo>
                    <a:pt x="1561941" y="1501511"/>
                  </a:lnTo>
                  <a:lnTo>
                    <a:pt x="1557180" y="1505744"/>
                  </a:lnTo>
                  <a:lnTo>
                    <a:pt x="1552154" y="1509713"/>
                  </a:lnTo>
                  <a:lnTo>
                    <a:pt x="1546864" y="1513946"/>
                  </a:lnTo>
                  <a:lnTo>
                    <a:pt x="1541309" y="1517650"/>
                  </a:lnTo>
                  <a:lnTo>
                    <a:pt x="1536019" y="1521090"/>
                  </a:lnTo>
                  <a:lnTo>
                    <a:pt x="1530200" y="1524000"/>
                  </a:lnTo>
                  <a:lnTo>
                    <a:pt x="1524381" y="1527175"/>
                  </a:lnTo>
                  <a:lnTo>
                    <a:pt x="1518297" y="1529821"/>
                  </a:lnTo>
                  <a:lnTo>
                    <a:pt x="1511949" y="1532202"/>
                  </a:lnTo>
                  <a:lnTo>
                    <a:pt x="1505601" y="1534319"/>
                  </a:lnTo>
                  <a:lnTo>
                    <a:pt x="1499253" y="1535906"/>
                  </a:lnTo>
                  <a:lnTo>
                    <a:pt x="1492640" y="1537494"/>
                  </a:lnTo>
                  <a:lnTo>
                    <a:pt x="1485763" y="1538288"/>
                  </a:lnTo>
                  <a:lnTo>
                    <a:pt x="1478886" y="1539346"/>
                  </a:lnTo>
                  <a:lnTo>
                    <a:pt x="1472009" y="1539875"/>
                  </a:lnTo>
                  <a:lnTo>
                    <a:pt x="1464867" y="1539875"/>
                  </a:lnTo>
                  <a:lnTo>
                    <a:pt x="1458255" y="1539611"/>
                  </a:lnTo>
                  <a:lnTo>
                    <a:pt x="1451113" y="1539346"/>
                  </a:lnTo>
                  <a:lnTo>
                    <a:pt x="1444236" y="1538288"/>
                  </a:lnTo>
                  <a:lnTo>
                    <a:pt x="1437623" y="1536965"/>
                  </a:lnTo>
                  <a:lnTo>
                    <a:pt x="1431010" y="1535377"/>
                  </a:lnTo>
                  <a:lnTo>
                    <a:pt x="1424398" y="1533525"/>
                  </a:lnTo>
                  <a:lnTo>
                    <a:pt x="1418314" y="1531673"/>
                  </a:lnTo>
                  <a:lnTo>
                    <a:pt x="1411966" y="1529292"/>
                  </a:lnTo>
                  <a:lnTo>
                    <a:pt x="1406147" y="1526381"/>
                  </a:lnTo>
                  <a:lnTo>
                    <a:pt x="1400063" y="1523471"/>
                  </a:lnTo>
                  <a:lnTo>
                    <a:pt x="1394509" y="1520296"/>
                  </a:lnTo>
                  <a:lnTo>
                    <a:pt x="1388690" y="1516592"/>
                  </a:lnTo>
                  <a:lnTo>
                    <a:pt x="1383399" y="1512888"/>
                  </a:lnTo>
                  <a:lnTo>
                    <a:pt x="1378374" y="1508919"/>
                  </a:lnTo>
                  <a:lnTo>
                    <a:pt x="1373348" y="1504686"/>
                  </a:lnTo>
                  <a:lnTo>
                    <a:pt x="1368852" y="1500188"/>
                  </a:lnTo>
                  <a:lnTo>
                    <a:pt x="1364355" y="1495425"/>
                  </a:lnTo>
                  <a:lnTo>
                    <a:pt x="1359858" y="1490663"/>
                  </a:lnTo>
                  <a:lnTo>
                    <a:pt x="1356155" y="1485636"/>
                  </a:lnTo>
                  <a:lnTo>
                    <a:pt x="1352188" y="1480344"/>
                  </a:lnTo>
                  <a:lnTo>
                    <a:pt x="1348749" y="1475052"/>
                  </a:lnTo>
                  <a:lnTo>
                    <a:pt x="1345311" y="1469496"/>
                  </a:lnTo>
                  <a:lnTo>
                    <a:pt x="1342401" y="1463675"/>
                  </a:lnTo>
                  <a:lnTo>
                    <a:pt x="1339756" y="1457854"/>
                  </a:lnTo>
                  <a:lnTo>
                    <a:pt x="1337375" y="1451504"/>
                  </a:lnTo>
                  <a:lnTo>
                    <a:pt x="1335259" y="1445154"/>
                  </a:lnTo>
                  <a:lnTo>
                    <a:pt x="1333408" y="1439069"/>
                  </a:lnTo>
                  <a:lnTo>
                    <a:pt x="1332085" y="1432454"/>
                  </a:lnTo>
                  <a:lnTo>
                    <a:pt x="1330763" y="1425840"/>
                  </a:lnTo>
                  <a:lnTo>
                    <a:pt x="1329969" y="1419490"/>
                  </a:lnTo>
                  <a:lnTo>
                    <a:pt x="1329440" y="1412611"/>
                  </a:lnTo>
                  <a:lnTo>
                    <a:pt x="1329440" y="1405731"/>
                  </a:lnTo>
                  <a:lnTo>
                    <a:pt x="1330234" y="1232958"/>
                  </a:lnTo>
                  <a:lnTo>
                    <a:pt x="1153279" y="1231636"/>
                  </a:lnTo>
                  <a:lnTo>
                    <a:pt x="1146402" y="1231371"/>
                  </a:lnTo>
                  <a:lnTo>
                    <a:pt x="1139525" y="1231106"/>
                  </a:lnTo>
                  <a:lnTo>
                    <a:pt x="1132648" y="1230048"/>
                  </a:lnTo>
                  <a:lnTo>
                    <a:pt x="1125771" y="1228990"/>
                  </a:lnTo>
                  <a:lnTo>
                    <a:pt x="1119423" y="1227138"/>
                  </a:lnTo>
                  <a:lnTo>
                    <a:pt x="1112810" y="1225286"/>
                  </a:lnTo>
                  <a:lnTo>
                    <a:pt x="1106462" y="1223433"/>
                  </a:lnTo>
                  <a:lnTo>
                    <a:pt x="1100378" y="1221052"/>
                  </a:lnTo>
                  <a:lnTo>
                    <a:pt x="1094295" y="1218406"/>
                  </a:lnTo>
                  <a:lnTo>
                    <a:pt x="1088476" y="1215231"/>
                  </a:lnTo>
                  <a:lnTo>
                    <a:pt x="1082656" y="1212056"/>
                  </a:lnTo>
                  <a:lnTo>
                    <a:pt x="1077102" y="1208352"/>
                  </a:lnTo>
                  <a:lnTo>
                    <a:pt x="1071812" y="1204648"/>
                  </a:lnTo>
                  <a:lnTo>
                    <a:pt x="1066786" y="1200679"/>
                  </a:lnTo>
                  <a:lnTo>
                    <a:pt x="1062025" y="1196446"/>
                  </a:lnTo>
                  <a:lnTo>
                    <a:pt x="1057264" y="1192213"/>
                  </a:lnTo>
                  <a:lnTo>
                    <a:pt x="1052767" y="1187450"/>
                  </a:lnTo>
                  <a:lnTo>
                    <a:pt x="1048271" y="1182688"/>
                  </a:lnTo>
                  <a:lnTo>
                    <a:pt x="1044303" y="1177396"/>
                  </a:lnTo>
                  <a:lnTo>
                    <a:pt x="1040600" y="1172104"/>
                  </a:lnTo>
                  <a:lnTo>
                    <a:pt x="1036897" y="1166813"/>
                  </a:lnTo>
                  <a:lnTo>
                    <a:pt x="1033723" y="1161256"/>
                  </a:lnTo>
                  <a:lnTo>
                    <a:pt x="1030549" y="1155435"/>
                  </a:lnTo>
                  <a:lnTo>
                    <a:pt x="1027904" y="1149615"/>
                  </a:lnTo>
                  <a:lnTo>
                    <a:pt x="1025523" y="1143265"/>
                  </a:lnTo>
                  <a:lnTo>
                    <a:pt x="1023407" y="1137444"/>
                  </a:lnTo>
                  <a:lnTo>
                    <a:pt x="1021820" y="1130829"/>
                  </a:lnTo>
                  <a:lnTo>
                    <a:pt x="1020233" y="1124215"/>
                  </a:lnTo>
                  <a:lnTo>
                    <a:pt x="1019175" y="1117600"/>
                  </a:lnTo>
                  <a:lnTo>
                    <a:pt x="1018117" y="1111250"/>
                  </a:lnTo>
                  <a:lnTo>
                    <a:pt x="1017853" y="1104371"/>
                  </a:lnTo>
                  <a:lnTo>
                    <a:pt x="1017588" y="1097492"/>
                  </a:lnTo>
                  <a:lnTo>
                    <a:pt x="1017853" y="1090613"/>
                  </a:lnTo>
                  <a:lnTo>
                    <a:pt x="1018382" y="1083733"/>
                  </a:lnTo>
                  <a:lnTo>
                    <a:pt x="1019440" y="1077383"/>
                  </a:lnTo>
                  <a:lnTo>
                    <a:pt x="1020498" y="1070769"/>
                  </a:lnTo>
                  <a:lnTo>
                    <a:pt x="1022085" y="1064154"/>
                  </a:lnTo>
                  <a:lnTo>
                    <a:pt x="1024201" y="1057804"/>
                  </a:lnTo>
                  <a:lnTo>
                    <a:pt x="1026317" y="1051719"/>
                  </a:lnTo>
                  <a:lnTo>
                    <a:pt x="1028697" y="1045633"/>
                  </a:lnTo>
                  <a:lnTo>
                    <a:pt x="1031607" y="1039813"/>
                  </a:lnTo>
                  <a:lnTo>
                    <a:pt x="1034516" y="1033992"/>
                  </a:lnTo>
                  <a:lnTo>
                    <a:pt x="1037690" y="1028435"/>
                  </a:lnTo>
                  <a:lnTo>
                    <a:pt x="1041394" y="1023144"/>
                  </a:lnTo>
                  <a:lnTo>
                    <a:pt x="1045361" y="1017852"/>
                  </a:lnTo>
                  <a:lnTo>
                    <a:pt x="1049329" y="1012825"/>
                  </a:lnTo>
                  <a:lnTo>
                    <a:pt x="1053561" y="1008063"/>
                  </a:lnTo>
                  <a:lnTo>
                    <a:pt x="1058057" y="1003565"/>
                  </a:lnTo>
                  <a:lnTo>
                    <a:pt x="1062818" y="999067"/>
                  </a:lnTo>
                  <a:lnTo>
                    <a:pt x="1067844" y="994833"/>
                  </a:lnTo>
                  <a:lnTo>
                    <a:pt x="1073134" y="990865"/>
                  </a:lnTo>
                  <a:lnTo>
                    <a:pt x="1078689" y="987160"/>
                  </a:lnTo>
                  <a:lnTo>
                    <a:pt x="1083979" y="983721"/>
                  </a:lnTo>
                  <a:lnTo>
                    <a:pt x="1089798" y="980546"/>
                  </a:lnTo>
                  <a:lnTo>
                    <a:pt x="1095617" y="977635"/>
                  </a:lnTo>
                  <a:lnTo>
                    <a:pt x="1101701" y="975254"/>
                  </a:lnTo>
                  <a:lnTo>
                    <a:pt x="1108049" y="972873"/>
                  </a:lnTo>
                  <a:lnTo>
                    <a:pt x="1114133" y="970756"/>
                  </a:lnTo>
                  <a:lnTo>
                    <a:pt x="1120745" y="968904"/>
                  </a:lnTo>
                  <a:lnTo>
                    <a:pt x="1127358" y="967581"/>
                  </a:lnTo>
                  <a:lnTo>
                    <a:pt x="1134235" y="966258"/>
                  </a:lnTo>
                  <a:lnTo>
                    <a:pt x="1141112" y="965465"/>
                  </a:lnTo>
                  <a:lnTo>
                    <a:pt x="1147989" y="965200"/>
                  </a:lnTo>
                  <a:lnTo>
                    <a:pt x="1155131" y="964935"/>
                  </a:lnTo>
                  <a:lnTo>
                    <a:pt x="1332085" y="965994"/>
                  </a:lnTo>
                  <a:lnTo>
                    <a:pt x="1332879" y="793221"/>
                  </a:lnTo>
                  <a:lnTo>
                    <a:pt x="1333143" y="786342"/>
                  </a:lnTo>
                  <a:lnTo>
                    <a:pt x="1333672" y="779463"/>
                  </a:lnTo>
                  <a:lnTo>
                    <a:pt x="1334730" y="772583"/>
                  </a:lnTo>
                  <a:lnTo>
                    <a:pt x="1335788" y="765969"/>
                  </a:lnTo>
                  <a:lnTo>
                    <a:pt x="1337375" y="759883"/>
                  </a:lnTo>
                  <a:lnTo>
                    <a:pt x="1339227" y="753269"/>
                  </a:lnTo>
                  <a:lnTo>
                    <a:pt x="1341608" y="747448"/>
                  </a:lnTo>
                  <a:lnTo>
                    <a:pt x="1343988" y="741098"/>
                  </a:lnTo>
                  <a:lnTo>
                    <a:pt x="1346633" y="735013"/>
                  </a:lnTo>
                  <a:lnTo>
                    <a:pt x="1349807" y="729456"/>
                  </a:lnTo>
                  <a:lnTo>
                    <a:pt x="1353246" y="723900"/>
                  </a:lnTo>
                  <a:lnTo>
                    <a:pt x="1356684" y="718344"/>
                  </a:lnTo>
                  <a:lnTo>
                    <a:pt x="1360652" y="713317"/>
                  </a:lnTo>
                  <a:lnTo>
                    <a:pt x="1364355" y="708290"/>
                  </a:lnTo>
                  <a:lnTo>
                    <a:pt x="1368852" y="703527"/>
                  </a:lnTo>
                  <a:lnTo>
                    <a:pt x="1373348" y="698765"/>
                  </a:lnTo>
                  <a:lnTo>
                    <a:pt x="1378109" y="694267"/>
                  </a:lnTo>
                  <a:lnTo>
                    <a:pt x="1383135" y="690298"/>
                  </a:lnTo>
                  <a:lnTo>
                    <a:pt x="1388161" y="686329"/>
                  </a:lnTo>
                  <a:lnTo>
                    <a:pt x="1393451" y="682890"/>
                  </a:lnTo>
                  <a:lnTo>
                    <a:pt x="1399270" y="679186"/>
                  </a:lnTo>
                  <a:lnTo>
                    <a:pt x="1404824" y="676275"/>
                  </a:lnTo>
                  <a:lnTo>
                    <a:pt x="1410908" y="673365"/>
                  </a:lnTo>
                  <a:lnTo>
                    <a:pt x="1416992" y="670454"/>
                  </a:lnTo>
                  <a:lnTo>
                    <a:pt x="1423075" y="668073"/>
                  </a:lnTo>
                  <a:lnTo>
                    <a:pt x="1429688" y="666221"/>
                  </a:lnTo>
                  <a:lnTo>
                    <a:pt x="1436036" y="664369"/>
                  </a:lnTo>
                  <a:lnTo>
                    <a:pt x="1442649" y="662781"/>
                  </a:lnTo>
                  <a:lnTo>
                    <a:pt x="1449261" y="661988"/>
                  </a:lnTo>
                  <a:lnTo>
                    <a:pt x="1456138" y="660929"/>
                  </a:lnTo>
                  <a:lnTo>
                    <a:pt x="1463280" y="660400"/>
                  </a:lnTo>
                  <a:close/>
                  <a:moveTo>
                    <a:pt x="714108" y="0"/>
                  </a:moveTo>
                  <a:lnTo>
                    <a:pt x="723364" y="0"/>
                  </a:lnTo>
                  <a:lnTo>
                    <a:pt x="732621" y="264"/>
                  </a:lnTo>
                  <a:lnTo>
                    <a:pt x="741349" y="529"/>
                  </a:lnTo>
                  <a:lnTo>
                    <a:pt x="750606" y="1058"/>
                  </a:lnTo>
                  <a:lnTo>
                    <a:pt x="759599" y="2115"/>
                  </a:lnTo>
                  <a:lnTo>
                    <a:pt x="768591" y="3173"/>
                  </a:lnTo>
                  <a:lnTo>
                    <a:pt x="777319" y="4495"/>
                  </a:lnTo>
                  <a:lnTo>
                    <a:pt x="786312" y="5817"/>
                  </a:lnTo>
                  <a:lnTo>
                    <a:pt x="795040" y="7404"/>
                  </a:lnTo>
                  <a:lnTo>
                    <a:pt x="803503" y="9520"/>
                  </a:lnTo>
                  <a:lnTo>
                    <a:pt x="812231" y="11635"/>
                  </a:lnTo>
                  <a:lnTo>
                    <a:pt x="820959" y="14015"/>
                  </a:lnTo>
                  <a:lnTo>
                    <a:pt x="829158" y="16395"/>
                  </a:lnTo>
                  <a:lnTo>
                    <a:pt x="837622" y="19039"/>
                  </a:lnTo>
                  <a:lnTo>
                    <a:pt x="845821" y="21948"/>
                  </a:lnTo>
                  <a:lnTo>
                    <a:pt x="853755" y="24856"/>
                  </a:lnTo>
                  <a:lnTo>
                    <a:pt x="861954" y="28294"/>
                  </a:lnTo>
                  <a:lnTo>
                    <a:pt x="869889" y="31732"/>
                  </a:lnTo>
                  <a:lnTo>
                    <a:pt x="877559" y="35434"/>
                  </a:lnTo>
                  <a:lnTo>
                    <a:pt x="885493" y="39136"/>
                  </a:lnTo>
                  <a:lnTo>
                    <a:pt x="892899" y="43102"/>
                  </a:lnTo>
                  <a:lnTo>
                    <a:pt x="900569" y="47333"/>
                  </a:lnTo>
                  <a:lnTo>
                    <a:pt x="907710" y="51299"/>
                  </a:lnTo>
                  <a:lnTo>
                    <a:pt x="915116" y="56059"/>
                  </a:lnTo>
                  <a:lnTo>
                    <a:pt x="922257" y="60554"/>
                  </a:lnTo>
                  <a:lnTo>
                    <a:pt x="929398" y="65314"/>
                  </a:lnTo>
                  <a:lnTo>
                    <a:pt x="936274" y="70338"/>
                  </a:lnTo>
                  <a:lnTo>
                    <a:pt x="943151" y="75362"/>
                  </a:lnTo>
                  <a:lnTo>
                    <a:pt x="949763" y="80915"/>
                  </a:lnTo>
                  <a:lnTo>
                    <a:pt x="956111" y="86204"/>
                  </a:lnTo>
                  <a:lnTo>
                    <a:pt x="962458" y="91757"/>
                  </a:lnTo>
                  <a:lnTo>
                    <a:pt x="968806" y="97575"/>
                  </a:lnTo>
                  <a:lnTo>
                    <a:pt x="974889" y="103392"/>
                  </a:lnTo>
                  <a:lnTo>
                    <a:pt x="980972" y="109474"/>
                  </a:lnTo>
                  <a:lnTo>
                    <a:pt x="986526" y="115556"/>
                  </a:lnTo>
                  <a:lnTo>
                    <a:pt x="992080" y="121902"/>
                  </a:lnTo>
                  <a:lnTo>
                    <a:pt x="997635" y="128513"/>
                  </a:lnTo>
                  <a:lnTo>
                    <a:pt x="1002924" y="134859"/>
                  </a:lnTo>
                  <a:lnTo>
                    <a:pt x="1008214" y="141470"/>
                  </a:lnTo>
                  <a:lnTo>
                    <a:pt x="1013239" y="148345"/>
                  </a:lnTo>
                  <a:lnTo>
                    <a:pt x="1018000" y="155220"/>
                  </a:lnTo>
                  <a:lnTo>
                    <a:pt x="1022761" y="162360"/>
                  </a:lnTo>
                  <a:lnTo>
                    <a:pt x="1027257" y="169499"/>
                  </a:lnTo>
                  <a:lnTo>
                    <a:pt x="1031489" y="176903"/>
                  </a:lnTo>
                  <a:lnTo>
                    <a:pt x="1035720" y="184043"/>
                  </a:lnTo>
                  <a:lnTo>
                    <a:pt x="1039688" y="191711"/>
                  </a:lnTo>
                  <a:lnTo>
                    <a:pt x="1043655" y="199115"/>
                  </a:lnTo>
                  <a:lnTo>
                    <a:pt x="1047093" y="206784"/>
                  </a:lnTo>
                  <a:lnTo>
                    <a:pt x="1050532" y="214717"/>
                  </a:lnTo>
                  <a:lnTo>
                    <a:pt x="1053705" y="222650"/>
                  </a:lnTo>
                  <a:lnTo>
                    <a:pt x="1057144" y="230318"/>
                  </a:lnTo>
                  <a:lnTo>
                    <a:pt x="1059788" y="238780"/>
                  </a:lnTo>
                  <a:lnTo>
                    <a:pt x="1062433" y="246713"/>
                  </a:lnTo>
                  <a:lnTo>
                    <a:pt x="1064814" y="255175"/>
                  </a:lnTo>
                  <a:lnTo>
                    <a:pt x="1067194" y="263372"/>
                  </a:lnTo>
                  <a:lnTo>
                    <a:pt x="1069310" y="271834"/>
                  </a:lnTo>
                  <a:lnTo>
                    <a:pt x="1070897" y="280031"/>
                  </a:lnTo>
                  <a:lnTo>
                    <a:pt x="1072484" y="288757"/>
                  </a:lnTo>
                  <a:lnTo>
                    <a:pt x="1074071" y="297219"/>
                  </a:lnTo>
                  <a:lnTo>
                    <a:pt x="1075129" y="305945"/>
                  </a:lnTo>
                  <a:lnTo>
                    <a:pt x="1076186" y="314936"/>
                  </a:lnTo>
                  <a:lnTo>
                    <a:pt x="1076980" y="323397"/>
                  </a:lnTo>
                  <a:lnTo>
                    <a:pt x="1077509" y="332388"/>
                  </a:lnTo>
                  <a:lnTo>
                    <a:pt x="1077773" y="341379"/>
                  </a:lnTo>
                  <a:lnTo>
                    <a:pt x="1077773" y="350369"/>
                  </a:lnTo>
                  <a:lnTo>
                    <a:pt x="1077509" y="359360"/>
                  </a:lnTo>
                  <a:lnTo>
                    <a:pt x="1077244" y="368350"/>
                  </a:lnTo>
                  <a:lnTo>
                    <a:pt x="1076716" y="377341"/>
                  </a:lnTo>
                  <a:lnTo>
                    <a:pt x="1075658" y="385803"/>
                  </a:lnTo>
                  <a:lnTo>
                    <a:pt x="1074600" y="394793"/>
                  </a:lnTo>
                  <a:lnTo>
                    <a:pt x="1073277" y="403519"/>
                  </a:lnTo>
                  <a:lnTo>
                    <a:pt x="1071955" y="411981"/>
                  </a:lnTo>
                  <a:lnTo>
                    <a:pt x="1070103" y="420707"/>
                  </a:lnTo>
                  <a:lnTo>
                    <a:pt x="1068252" y="428905"/>
                  </a:lnTo>
                  <a:lnTo>
                    <a:pt x="1065872" y="437366"/>
                  </a:lnTo>
                  <a:lnTo>
                    <a:pt x="1063756" y="445564"/>
                  </a:lnTo>
                  <a:lnTo>
                    <a:pt x="1061111" y="454026"/>
                  </a:lnTo>
                  <a:lnTo>
                    <a:pt x="1058466" y="461958"/>
                  </a:lnTo>
                  <a:lnTo>
                    <a:pt x="1055557" y="469891"/>
                  </a:lnTo>
                  <a:lnTo>
                    <a:pt x="1052383" y="478089"/>
                  </a:lnTo>
                  <a:lnTo>
                    <a:pt x="1048945" y="485757"/>
                  </a:lnTo>
                  <a:lnTo>
                    <a:pt x="1045506" y="493426"/>
                  </a:lnTo>
                  <a:lnTo>
                    <a:pt x="1041804" y="501358"/>
                  </a:lnTo>
                  <a:lnTo>
                    <a:pt x="1038101" y="508762"/>
                  </a:lnTo>
                  <a:lnTo>
                    <a:pt x="1033869" y="516166"/>
                  </a:lnTo>
                  <a:lnTo>
                    <a:pt x="1029637" y="523570"/>
                  </a:lnTo>
                  <a:lnTo>
                    <a:pt x="1025141" y="530710"/>
                  </a:lnTo>
                  <a:lnTo>
                    <a:pt x="1020380" y="537850"/>
                  </a:lnTo>
                  <a:lnTo>
                    <a:pt x="1015620" y="544725"/>
                  </a:lnTo>
                  <a:lnTo>
                    <a:pt x="1010859" y="551864"/>
                  </a:lnTo>
                  <a:lnTo>
                    <a:pt x="1005834" y="558211"/>
                  </a:lnTo>
                  <a:lnTo>
                    <a:pt x="1000544" y="564821"/>
                  </a:lnTo>
                  <a:lnTo>
                    <a:pt x="995254" y="571432"/>
                  </a:lnTo>
                  <a:lnTo>
                    <a:pt x="989436" y="578043"/>
                  </a:lnTo>
                  <a:lnTo>
                    <a:pt x="983882" y="584125"/>
                  </a:lnTo>
                  <a:lnTo>
                    <a:pt x="977798" y="590207"/>
                  </a:lnTo>
                  <a:lnTo>
                    <a:pt x="971980" y="596024"/>
                  </a:lnTo>
                  <a:lnTo>
                    <a:pt x="965632" y="601842"/>
                  </a:lnTo>
                  <a:lnTo>
                    <a:pt x="959549" y="607659"/>
                  </a:lnTo>
                  <a:lnTo>
                    <a:pt x="953201" y="612948"/>
                  </a:lnTo>
                  <a:lnTo>
                    <a:pt x="946325" y="618501"/>
                  </a:lnTo>
                  <a:lnTo>
                    <a:pt x="939713" y="623789"/>
                  </a:lnTo>
                  <a:lnTo>
                    <a:pt x="933100" y="628813"/>
                  </a:lnTo>
                  <a:lnTo>
                    <a:pt x="926224" y="633573"/>
                  </a:lnTo>
                  <a:lnTo>
                    <a:pt x="919083" y="638333"/>
                  </a:lnTo>
                  <a:lnTo>
                    <a:pt x="911942" y="642828"/>
                  </a:lnTo>
                  <a:lnTo>
                    <a:pt x="904536" y="647323"/>
                  </a:lnTo>
                  <a:lnTo>
                    <a:pt x="897131" y="651290"/>
                  </a:lnTo>
                  <a:lnTo>
                    <a:pt x="889461" y="655521"/>
                  </a:lnTo>
                  <a:lnTo>
                    <a:pt x="881791" y="659487"/>
                  </a:lnTo>
                  <a:lnTo>
                    <a:pt x="874120" y="663189"/>
                  </a:lnTo>
                  <a:lnTo>
                    <a:pt x="866186" y="666627"/>
                  </a:lnTo>
                  <a:lnTo>
                    <a:pt x="857987" y="670064"/>
                  </a:lnTo>
                  <a:lnTo>
                    <a:pt x="850052" y="672973"/>
                  </a:lnTo>
                  <a:lnTo>
                    <a:pt x="841853" y="676146"/>
                  </a:lnTo>
                  <a:lnTo>
                    <a:pt x="833654" y="679055"/>
                  </a:lnTo>
                  <a:lnTo>
                    <a:pt x="825455" y="681699"/>
                  </a:lnTo>
                  <a:lnTo>
                    <a:pt x="816992" y="684079"/>
                  </a:lnTo>
                  <a:lnTo>
                    <a:pt x="808264" y="686195"/>
                  </a:lnTo>
                  <a:lnTo>
                    <a:pt x="799800" y="688310"/>
                  </a:lnTo>
                  <a:lnTo>
                    <a:pt x="791072" y="690161"/>
                  </a:lnTo>
                  <a:lnTo>
                    <a:pt x="782609" y="691483"/>
                  </a:lnTo>
                  <a:lnTo>
                    <a:pt x="773616" y="693070"/>
                  </a:lnTo>
                  <a:lnTo>
                    <a:pt x="764624" y="694128"/>
                  </a:lnTo>
                  <a:lnTo>
                    <a:pt x="755632" y="695185"/>
                  </a:lnTo>
                  <a:lnTo>
                    <a:pt x="746639" y="695714"/>
                  </a:lnTo>
                  <a:lnTo>
                    <a:pt x="737647" y="696243"/>
                  </a:lnTo>
                  <a:lnTo>
                    <a:pt x="728390" y="696507"/>
                  </a:lnTo>
                  <a:lnTo>
                    <a:pt x="719133" y="696507"/>
                  </a:lnTo>
                  <a:lnTo>
                    <a:pt x="709876" y="696507"/>
                  </a:lnTo>
                  <a:lnTo>
                    <a:pt x="700883" y="695979"/>
                  </a:lnTo>
                  <a:lnTo>
                    <a:pt x="691891" y="695450"/>
                  </a:lnTo>
                  <a:lnTo>
                    <a:pt x="682898" y="694392"/>
                  </a:lnTo>
                  <a:lnTo>
                    <a:pt x="673906" y="693599"/>
                  </a:lnTo>
                  <a:lnTo>
                    <a:pt x="664913" y="692541"/>
                  </a:lnTo>
                  <a:lnTo>
                    <a:pt x="656186" y="690954"/>
                  </a:lnTo>
                  <a:lnTo>
                    <a:pt x="647458" y="689103"/>
                  </a:lnTo>
                  <a:lnTo>
                    <a:pt x="638730" y="687252"/>
                  </a:lnTo>
                  <a:lnTo>
                    <a:pt x="630266" y="684872"/>
                  </a:lnTo>
                  <a:lnTo>
                    <a:pt x="621538" y="683021"/>
                  </a:lnTo>
                  <a:lnTo>
                    <a:pt x="613339" y="680113"/>
                  </a:lnTo>
                  <a:lnTo>
                    <a:pt x="604876" y="677468"/>
                  </a:lnTo>
                  <a:lnTo>
                    <a:pt x="596676" y="674824"/>
                  </a:lnTo>
                  <a:lnTo>
                    <a:pt x="588478" y="671651"/>
                  </a:lnTo>
                  <a:lnTo>
                    <a:pt x="580543" y="668213"/>
                  </a:lnTo>
                  <a:lnTo>
                    <a:pt x="572873" y="665040"/>
                  </a:lnTo>
                  <a:lnTo>
                    <a:pt x="564674" y="661603"/>
                  </a:lnTo>
                  <a:lnTo>
                    <a:pt x="557004" y="657636"/>
                  </a:lnTo>
                  <a:lnTo>
                    <a:pt x="549598" y="653405"/>
                  </a:lnTo>
                  <a:lnTo>
                    <a:pt x="541928" y="649439"/>
                  </a:lnTo>
                  <a:lnTo>
                    <a:pt x="534787" y="645208"/>
                  </a:lnTo>
                  <a:lnTo>
                    <a:pt x="527382" y="640713"/>
                  </a:lnTo>
                  <a:lnTo>
                    <a:pt x="520241" y="635953"/>
                  </a:lnTo>
                  <a:lnTo>
                    <a:pt x="513364" y="631193"/>
                  </a:lnTo>
                  <a:lnTo>
                    <a:pt x="506223" y="626169"/>
                  </a:lnTo>
                  <a:lnTo>
                    <a:pt x="499611" y="621145"/>
                  </a:lnTo>
                  <a:lnTo>
                    <a:pt x="492734" y="615592"/>
                  </a:lnTo>
                  <a:lnTo>
                    <a:pt x="486122" y="610303"/>
                  </a:lnTo>
                  <a:lnTo>
                    <a:pt x="480039" y="604750"/>
                  </a:lnTo>
                  <a:lnTo>
                    <a:pt x="473691" y="598933"/>
                  </a:lnTo>
                  <a:lnTo>
                    <a:pt x="467873" y="593115"/>
                  </a:lnTo>
                  <a:lnTo>
                    <a:pt x="461790" y="587298"/>
                  </a:lnTo>
                  <a:lnTo>
                    <a:pt x="455971" y="580952"/>
                  </a:lnTo>
                  <a:lnTo>
                    <a:pt x="450152" y="574605"/>
                  </a:lnTo>
                  <a:lnTo>
                    <a:pt x="444863" y="568523"/>
                  </a:lnTo>
                  <a:lnTo>
                    <a:pt x="439573" y="561913"/>
                  </a:lnTo>
                  <a:lnTo>
                    <a:pt x="434283" y="555038"/>
                  </a:lnTo>
                  <a:lnTo>
                    <a:pt x="429258" y="548162"/>
                  </a:lnTo>
                  <a:lnTo>
                    <a:pt x="424497" y="541287"/>
                  </a:lnTo>
                  <a:lnTo>
                    <a:pt x="419737" y="534148"/>
                  </a:lnTo>
                  <a:lnTo>
                    <a:pt x="415240" y="527008"/>
                  </a:lnTo>
                  <a:lnTo>
                    <a:pt x="411009" y="519868"/>
                  </a:lnTo>
                  <a:lnTo>
                    <a:pt x="406777" y="512464"/>
                  </a:lnTo>
                  <a:lnTo>
                    <a:pt x="402545" y="505060"/>
                  </a:lnTo>
                  <a:lnTo>
                    <a:pt x="398842" y="497392"/>
                  </a:lnTo>
                  <a:lnTo>
                    <a:pt x="395140" y="489988"/>
                  </a:lnTo>
                  <a:lnTo>
                    <a:pt x="391966" y="481791"/>
                  </a:lnTo>
                  <a:lnTo>
                    <a:pt x="388792" y="474122"/>
                  </a:lnTo>
                  <a:lnTo>
                    <a:pt x="385618" y="466189"/>
                  </a:lnTo>
                  <a:lnTo>
                    <a:pt x="382709" y="458256"/>
                  </a:lnTo>
                  <a:lnTo>
                    <a:pt x="380064" y="449795"/>
                  </a:lnTo>
                  <a:lnTo>
                    <a:pt x="377684" y="441862"/>
                  </a:lnTo>
                  <a:lnTo>
                    <a:pt x="375303" y="433400"/>
                  </a:lnTo>
                  <a:lnTo>
                    <a:pt x="373187" y="425203"/>
                  </a:lnTo>
                  <a:lnTo>
                    <a:pt x="371336" y="416477"/>
                  </a:lnTo>
                  <a:lnTo>
                    <a:pt x="370014" y="407750"/>
                  </a:lnTo>
                  <a:lnTo>
                    <a:pt x="368427" y="399289"/>
                  </a:lnTo>
                  <a:lnTo>
                    <a:pt x="367369" y="390562"/>
                  </a:lnTo>
                  <a:lnTo>
                    <a:pt x="366311" y="382101"/>
                  </a:lnTo>
                  <a:lnTo>
                    <a:pt x="365517" y="373110"/>
                  </a:lnTo>
                  <a:lnTo>
                    <a:pt x="364988" y="364120"/>
                  </a:lnTo>
                  <a:lnTo>
                    <a:pt x="364724" y="355129"/>
                  </a:lnTo>
                  <a:lnTo>
                    <a:pt x="364724" y="346403"/>
                  </a:lnTo>
                  <a:lnTo>
                    <a:pt x="364988" y="337412"/>
                  </a:lnTo>
                  <a:lnTo>
                    <a:pt x="365253" y="328422"/>
                  </a:lnTo>
                  <a:lnTo>
                    <a:pt x="365782" y="319695"/>
                  </a:lnTo>
                  <a:lnTo>
                    <a:pt x="366575" y="310705"/>
                  </a:lnTo>
                  <a:lnTo>
                    <a:pt x="367898" y="301979"/>
                  </a:lnTo>
                  <a:lnTo>
                    <a:pt x="368956" y="292988"/>
                  </a:lnTo>
                  <a:lnTo>
                    <a:pt x="370542" y="284791"/>
                  </a:lnTo>
                  <a:lnTo>
                    <a:pt x="372394" y="276064"/>
                  </a:lnTo>
                  <a:lnTo>
                    <a:pt x="374245" y="267603"/>
                  </a:lnTo>
                  <a:lnTo>
                    <a:pt x="376626" y="259141"/>
                  </a:lnTo>
                  <a:lnTo>
                    <a:pt x="378477" y="250944"/>
                  </a:lnTo>
                  <a:lnTo>
                    <a:pt x="381386" y="242746"/>
                  </a:lnTo>
                  <a:lnTo>
                    <a:pt x="384031" y="234549"/>
                  </a:lnTo>
                  <a:lnTo>
                    <a:pt x="386940" y="226616"/>
                  </a:lnTo>
                  <a:lnTo>
                    <a:pt x="390114" y="218683"/>
                  </a:lnTo>
                  <a:lnTo>
                    <a:pt x="393553" y="210750"/>
                  </a:lnTo>
                  <a:lnTo>
                    <a:pt x="396991" y="203082"/>
                  </a:lnTo>
                  <a:lnTo>
                    <a:pt x="400694" y="195678"/>
                  </a:lnTo>
                  <a:lnTo>
                    <a:pt x="404396" y="187745"/>
                  </a:lnTo>
                  <a:lnTo>
                    <a:pt x="408628" y="180341"/>
                  </a:lnTo>
                  <a:lnTo>
                    <a:pt x="412860" y="173201"/>
                  </a:lnTo>
                  <a:lnTo>
                    <a:pt x="417356" y="165797"/>
                  </a:lnTo>
                  <a:lnTo>
                    <a:pt x="422117" y="158658"/>
                  </a:lnTo>
                  <a:lnTo>
                    <a:pt x="426878" y="151783"/>
                  </a:lnTo>
                  <a:lnTo>
                    <a:pt x="431638" y="144907"/>
                  </a:lnTo>
                  <a:lnTo>
                    <a:pt x="436664" y="138297"/>
                  </a:lnTo>
                  <a:lnTo>
                    <a:pt x="441953" y="131686"/>
                  </a:lnTo>
                  <a:lnTo>
                    <a:pt x="447243" y="125075"/>
                  </a:lnTo>
                  <a:lnTo>
                    <a:pt x="453062" y="118993"/>
                  </a:lnTo>
                  <a:lnTo>
                    <a:pt x="458616" y="112647"/>
                  </a:lnTo>
                  <a:lnTo>
                    <a:pt x="464434" y="106301"/>
                  </a:lnTo>
                  <a:lnTo>
                    <a:pt x="470518" y="100483"/>
                  </a:lnTo>
                  <a:lnTo>
                    <a:pt x="476865" y="94666"/>
                  </a:lnTo>
                  <a:lnTo>
                    <a:pt x="482948" y="89113"/>
                  </a:lnTo>
                  <a:lnTo>
                    <a:pt x="489560" y="83560"/>
                  </a:lnTo>
                  <a:lnTo>
                    <a:pt x="496172" y="78271"/>
                  </a:lnTo>
                  <a:lnTo>
                    <a:pt x="502520" y="72983"/>
                  </a:lnTo>
                  <a:lnTo>
                    <a:pt x="509397" y="67958"/>
                  </a:lnTo>
                  <a:lnTo>
                    <a:pt x="516538" y="62934"/>
                  </a:lnTo>
                  <a:lnTo>
                    <a:pt x="523414" y="58175"/>
                  </a:lnTo>
                  <a:lnTo>
                    <a:pt x="530820" y="53679"/>
                  </a:lnTo>
                  <a:lnTo>
                    <a:pt x="537961" y="49184"/>
                  </a:lnTo>
                  <a:lnTo>
                    <a:pt x="545367" y="45217"/>
                  </a:lnTo>
                  <a:lnTo>
                    <a:pt x="553301" y="40987"/>
                  </a:lnTo>
                  <a:lnTo>
                    <a:pt x="560707" y="37020"/>
                  </a:lnTo>
                  <a:lnTo>
                    <a:pt x="568377" y="33583"/>
                  </a:lnTo>
                  <a:lnTo>
                    <a:pt x="576311" y="29881"/>
                  </a:lnTo>
                  <a:lnTo>
                    <a:pt x="584510" y="26707"/>
                  </a:lnTo>
                  <a:lnTo>
                    <a:pt x="592445" y="23534"/>
                  </a:lnTo>
                  <a:lnTo>
                    <a:pt x="600379" y="20361"/>
                  </a:lnTo>
                  <a:lnTo>
                    <a:pt x="608843" y="17717"/>
                  </a:lnTo>
                  <a:lnTo>
                    <a:pt x="617042" y="15073"/>
                  </a:lnTo>
                  <a:lnTo>
                    <a:pt x="625505" y="12693"/>
                  </a:lnTo>
                  <a:lnTo>
                    <a:pt x="633969" y="10313"/>
                  </a:lnTo>
                  <a:lnTo>
                    <a:pt x="642697" y="8462"/>
                  </a:lnTo>
                  <a:lnTo>
                    <a:pt x="651425" y="6875"/>
                  </a:lnTo>
                  <a:lnTo>
                    <a:pt x="659888" y="5024"/>
                  </a:lnTo>
                  <a:lnTo>
                    <a:pt x="668881" y="3702"/>
                  </a:lnTo>
                  <a:lnTo>
                    <a:pt x="677873" y="2644"/>
                  </a:lnTo>
                  <a:lnTo>
                    <a:pt x="686601" y="1851"/>
                  </a:lnTo>
                  <a:lnTo>
                    <a:pt x="695858" y="793"/>
                  </a:lnTo>
                  <a:lnTo>
                    <a:pt x="704851" y="264"/>
                  </a:lnTo>
                  <a:lnTo>
                    <a:pt x="71410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2" name="文本框 1027"/>
          <p:cNvSpPr/>
          <p:nvPr/>
        </p:nvSpPr>
        <p:spPr>
          <a:xfrm>
            <a:off x="2741040" y="384660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答辩人：代用名</a:t>
            </a:r>
            <a:endParaRPr b="0" lang="en-US" sz="1800" spc="-1" strike="noStrike">
              <a:solidFill>
                <a:srgbClr val="000000"/>
              </a:solidFill>
              <a:latin typeface="Arial"/>
            </a:endParaRPr>
          </a:p>
        </p:txBody>
      </p:sp>
      <p:sp>
        <p:nvSpPr>
          <p:cNvPr id="53" name="文本框 112"/>
          <p:cNvSpPr/>
          <p:nvPr/>
        </p:nvSpPr>
        <p:spPr>
          <a:xfrm>
            <a:off x="5317200" y="384660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指导教师：代用名</a:t>
            </a:r>
            <a:endParaRPr b="0" lang="en-US" sz="1800" spc="-1" strike="noStrike">
              <a:solidFill>
                <a:srgbClr val="000000"/>
              </a:solidFill>
              <a:latin typeface="Arial"/>
            </a:endParaRPr>
          </a:p>
        </p:txBody>
      </p:sp>
      <p:sp>
        <p:nvSpPr>
          <p:cNvPr id="54" name="文本框 1066"/>
          <p:cNvSpPr/>
          <p:nvPr/>
        </p:nvSpPr>
        <p:spPr>
          <a:xfrm>
            <a:off x="2268720" y="59832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中国人民大学</a:t>
            </a:r>
            <a:endParaRPr b="0" lang="en-US" sz="3200" spc="-1" strike="noStrike">
              <a:solidFill>
                <a:srgbClr val="000000"/>
              </a:solidFill>
              <a:latin typeface="Arial"/>
            </a:endParaRPr>
          </a:p>
        </p:txBody>
      </p:sp>
      <p:sp>
        <p:nvSpPr>
          <p:cNvPr id="55" name="矩形 1067"/>
          <p:cNvSpPr/>
          <p:nvPr/>
        </p:nvSpPr>
        <p:spPr>
          <a:xfrm>
            <a:off x="1467000" y="2440080"/>
            <a:ext cx="9677160" cy="2114280"/>
          </a:xfrm>
          <a:prstGeom prst="rect">
            <a:avLst/>
          </a:prstGeom>
          <a:noFill/>
          <a:ln w="2556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矩形 1068"/>
          <p:cNvSpPr/>
          <p:nvPr/>
        </p:nvSpPr>
        <p:spPr>
          <a:xfrm>
            <a:off x="10906200" y="4237200"/>
            <a:ext cx="476280" cy="47592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矩形 116"/>
          <p:cNvSpPr/>
          <p:nvPr/>
        </p:nvSpPr>
        <p:spPr>
          <a:xfrm>
            <a:off x="10638000" y="4008600"/>
            <a:ext cx="474480" cy="474480"/>
          </a:xfrm>
          <a:prstGeom prst="rect">
            <a:avLst/>
          </a:prstGeom>
          <a:solidFill>
            <a:srgbClr val="4b649f">
              <a:alpha val="6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矩形 117"/>
          <p:cNvSpPr/>
          <p:nvPr/>
        </p:nvSpPr>
        <p:spPr>
          <a:xfrm>
            <a:off x="1308240" y="2233440"/>
            <a:ext cx="474480" cy="4748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矩形 118"/>
          <p:cNvSpPr/>
          <p:nvPr/>
        </p:nvSpPr>
        <p:spPr>
          <a:xfrm>
            <a:off x="1460520" y="2386080"/>
            <a:ext cx="474480" cy="474480"/>
          </a:xfrm>
          <a:prstGeom prst="rect">
            <a:avLst/>
          </a:prstGeom>
          <a:solidFill>
            <a:srgbClr val="4b649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图片 1" descr=""/>
          <p:cNvPicPr/>
          <p:nvPr/>
        </p:nvPicPr>
        <p:blipFill>
          <a:blip r:embed="rId1"/>
          <a:stretch/>
        </p:blipFill>
        <p:spPr>
          <a:xfrm>
            <a:off x="8610480" y="0"/>
            <a:ext cx="3581640" cy="1006560"/>
          </a:xfrm>
          <a:prstGeom prst="rect">
            <a:avLst/>
          </a:prstGeom>
          <a:ln w="0">
            <a:noFill/>
          </a:ln>
        </p:spPr>
      </p:pic>
      <p:grpSp>
        <p:nvGrpSpPr>
          <p:cNvPr id="222" name="组合 2"/>
          <p:cNvGrpSpPr/>
          <p:nvPr/>
        </p:nvGrpSpPr>
        <p:grpSpPr>
          <a:xfrm>
            <a:off x="133200" y="125280"/>
            <a:ext cx="640080" cy="638280"/>
            <a:chOff x="133200" y="125280"/>
            <a:chExt cx="640080" cy="638280"/>
          </a:xfrm>
        </p:grpSpPr>
        <p:sp>
          <p:nvSpPr>
            <p:cNvPr id="223" name="椭圆 3"/>
            <p:cNvSpPr/>
            <p:nvPr/>
          </p:nvSpPr>
          <p:spPr>
            <a:xfrm>
              <a:off x="133200" y="125280"/>
              <a:ext cx="6400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椭圆 4"/>
            <p:cNvSpPr/>
            <p:nvPr/>
          </p:nvSpPr>
          <p:spPr>
            <a:xfrm>
              <a:off x="176040" y="168120"/>
              <a:ext cx="5544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KSO_Shape"/>
            <p:cNvSpPr/>
            <p:nvPr/>
          </p:nvSpPr>
          <p:spPr>
            <a:xfrm>
              <a:off x="271800" y="269280"/>
              <a:ext cx="362520" cy="349920"/>
            </a:xfrm>
            <a:custGeom>
              <a:avLst/>
              <a:gdLst/>
              <a:ahLst/>
              <a:rect l="l" t="t" r="r" b="b"/>
              <a:pathLst>
                <a:path w="8965002" h="8673857">
                  <a:moveTo>
                    <a:pt x="8267042" y="3603669"/>
                  </a:moveTo>
                  <a:cubicBezTo>
                    <a:pt x="8267042" y="3603669"/>
                    <a:pt x="8267042" y="3603669"/>
                    <a:pt x="8503636" y="3603669"/>
                  </a:cubicBezTo>
                  <a:cubicBezTo>
                    <a:pt x="8770275" y="3603669"/>
                    <a:pt x="9115779" y="3885289"/>
                    <a:pt x="8894206" y="4343392"/>
                  </a:cubicBezTo>
                  <a:cubicBezTo>
                    <a:pt x="8894206" y="4343392"/>
                    <a:pt x="8894206" y="4343392"/>
                    <a:pt x="6963891" y="7249712"/>
                  </a:cubicBezTo>
                  <a:cubicBezTo>
                    <a:pt x="6817428" y="7463743"/>
                    <a:pt x="6610877" y="7475008"/>
                    <a:pt x="6509479" y="7475008"/>
                  </a:cubicBezTo>
                  <a:cubicBezTo>
                    <a:pt x="6509479" y="7475008"/>
                    <a:pt x="6509479" y="7475008"/>
                    <a:pt x="5375325" y="7475008"/>
                  </a:cubicBezTo>
                  <a:cubicBezTo>
                    <a:pt x="5375325" y="7475008"/>
                    <a:pt x="5375325" y="7475008"/>
                    <a:pt x="5375325" y="8391212"/>
                  </a:cubicBezTo>
                  <a:cubicBezTo>
                    <a:pt x="5375325" y="8503860"/>
                    <a:pt x="5326504" y="8586469"/>
                    <a:pt x="5225106" y="8639038"/>
                  </a:cubicBezTo>
                  <a:cubicBezTo>
                    <a:pt x="5180040" y="8661567"/>
                    <a:pt x="5131219" y="8672833"/>
                    <a:pt x="5086153" y="8672833"/>
                  </a:cubicBezTo>
                  <a:cubicBezTo>
                    <a:pt x="5026066" y="8672833"/>
                    <a:pt x="4962223" y="8654057"/>
                    <a:pt x="4909646" y="8620263"/>
                  </a:cubicBezTo>
                  <a:cubicBezTo>
                    <a:pt x="4909646" y="8620263"/>
                    <a:pt x="4909646" y="8620263"/>
                    <a:pt x="4027109" y="8023229"/>
                  </a:cubicBezTo>
                  <a:cubicBezTo>
                    <a:pt x="4027109" y="8023229"/>
                    <a:pt x="4027109" y="8023229"/>
                    <a:pt x="3163349" y="8620263"/>
                  </a:cubicBezTo>
                  <a:cubicBezTo>
                    <a:pt x="3069463" y="8684097"/>
                    <a:pt x="2949287" y="8691607"/>
                    <a:pt x="2847889" y="8639038"/>
                  </a:cubicBezTo>
                  <a:cubicBezTo>
                    <a:pt x="2750247" y="8586469"/>
                    <a:pt x="2686404" y="8503860"/>
                    <a:pt x="2686404" y="8391212"/>
                  </a:cubicBezTo>
                  <a:cubicBezTo>
                    <a:pt x="2686404" y="8391212"/>
                    <a:pt x="2686404" y="8391212"/>
                    <a:pt x="2686404" y="6100701"/>
                  </a:cubicBezTo>
                  <a:cubicBezTo>
                    <a:pt x="2686404" y="5559991"/>
                    <a:pt x="2990598" y="5237066"/>
                    <a:pt x="3170860" y="5131928"/>
                  </a:cubicBezTo>
                  <a:cubicBezTo>
                    <a:pt x="3215926" y="5105644"/>
                    <a:pt x="3268503" y="5090624"/>
                    <a:pt x="3324835" y="5090624"/>
                  </a:cubicBezTo>
                  <a:cubicBezTo>
                    <a:pt x="3324835" y="5090624"/>
                    <a:pt x="3324835" y="5090624"/>
                    <a:pt x="5690785" y="5090624"/>
                  </a:cubicBezTo>
                  <a:cubicBezTo>
                    <a:pt x="5371570" y="5406038"/>
                    <a:pt x="5367814" y="5980543"/>
                    <a:pt x="5367814" y="6280938"/>
                  </a:cubicBezTo>
                  <a:cubicBezTo>
                    <a:pt x="5367814" y="6280938"/>
                    <a:pt x="5367814" y="6280938"/>
                    <a:pt x="6227818" y="6280938"/>
                  </a:cubicBezTo>
                  <a:cubicBezTo>
                    <a:pt x="6227818" y="6280938"/>
                    <a:pt x="6227818" y="6280938"/>
                    <a:pt x="8267042" y="3603669"/>
                  </a:cubicBezTo>
                  <a:close/>
                  <a:moveTo>
                    <a:pt x="6109875" y="128"/>
                  </a:moveTo>
                  <a:cubicBezTo>
                    <a:pt x="6829153" y="-2490"/>
                    <a:pt x="7579192" y="34821"/>
                    <a:pt x="8198796" y="137601"/>
                  </a:cubicBezTo>
                  <a:cubicBezTo>
                    <a:pt x="8705745" y="220201"/>
                    <a:pt x="8739542" y="678257"/>
                    <a:pt x="8578069" y="884757"/>
                  </a:cubicBezTo>
                  <a:cubicBezTo>
                    <a:pt x="8578069" y="884757"/>
                    <a:pt x="6234838" y="3955980"/>
                    <a:pt x="6208552" y="3974753"/>
                  </a:cubicBezTo>
                  <a:cubicBezTo>
                    <a:pt x="6107162" y="4098653"/>
                    <a:pt x="5953199" y="4177498"/>
                    <a:pt x="5780461" y="4177498"/>
                  </a:cubicBezTo>
                  <a:cubicBezTo>
                    <a:pt x="5780461" y="4177498"/>
                    <a:pt x="5780461" y="4177498"/>
                    <a:pt x="2209285" y="4177498"/>
                  </a:cubicBezTo>
                  <a:cubicBezTo>
                    <a:pt x="1818747" y="4177498"/>
                    <a:pt x="970076" y="4545444"/>
                    <a:pt x="1150325" y="5476573"/>
                  </a:cubicBezTo>
                  <a:cubicBezTo>
                    <a:pt x="1217918" y="5825746"/>
                    <a:pt x="1465760" y="6103583"/>
                    <a:pt x="1799971" y="6223729"/>
                  </a:cubicBezTo>
                  <a:cubicBezTo>
                    <a:pt x="1875075" y="6253765"/>
                    <a:pt x="2002751" y="6268783"/>
                    <a:pt x="2085365" y="6280047"/>
                  </a:cubicBezTo>
                  <a:cubicBezTo>
                    <a:pt x="2085365" y="6280047"/>
                    <a:pt x="2085365" y="6280047"/>
                    <a:pt x="2085365" y="7473994"/>
                  </a:cubicBezTo>
                  <a:cubicBezTo>
                    <a:pt x="1582171" y="7440203"/>
                    <a:pt x="335451" y="7004675"/>
                    <a:pt x="53813" y="5720619"/>
                  </a:cubicBezTo>
                  <a:cubicBezTo>
                    <a:pt x="-25046" y="5397728"/>
                    <a:pt x="-13780" y="5056063"/>
                    <a:pt x="65078" y="4729417"/>
                  </a:cubicBezTo>
                  <a:cubicBezTo>
                    <a:pt x="282879" y="3283915"/>
                    <a:pt x="2351982" y="944830"/>
                    <a:pt x="2716235" y="670748"/>
                  </a:cubicBezTo>
                  <a:cubicBezTo>
                    <a:pt x="2960321" y="471756"/>
                    <a:pt x="3234449" y="310311"/>
                    <a:pt x="3516088" y="227711"/>
                  </a:cubicBezTo>
                  <a:cubicBezTo>
                    <a:pt x="3797726" y="119767"/>
                    <a:pt x="4911078" y="4491"/>
                    <a:pt x="6109875" y="128"/>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sp>
        <p:nvSpPr>
          <p:cNvPr id="226" name="文本框 6"/>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一部分标题</a:t>
            </a:r>
            <a:endParaRPr b="0" lang="en-US" sz="2800" spc="-1" strike="noStrike">
              <a:solidFill>
                <a:srgbClr val="000000"/>
              </a:solidFill>
              <a:latin typeface="Arial"/>
            </a:endParaRPr>
          </a:p>
        </p:txBody>
      </p:sp>
      <p:pic>
        <p:nvPicPr>
          <p:cNvPr id="227" name="直接连接符 7" descr=""/>
          <p:cNvPicPr/>
          <p:nvPr/>
        </p:nvPicPr>
        <p:blipFill>
          <a:blip r:embed="rId2"/>
          <a:stretch/>
        </p:blipFill>
        <p:spPr>
          <a:xfrm>
            <a:off x="0" y="798480"/>
            <a:ext cx="11192040" cy="23760"/>
          </a:xfrm>
          <a:prstGeom prst="rect">
            <a:avLst/>
          </a:prstGeom>
          <a:ln w="0">
            <a:noFill/>
          </a:ln>
        </p:spPr>
      </p:pic>
      <p:sp>
        <p:nvSpPr>
          <p:cNvPr id="228" name="矩形 8"/>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文本框 9"/>
          <p:cNvSpPr/>
          <p:nvPr/>
        </p:nvSpPr>
        <p:spPr>
          <a:xfrm>
            <a:off x="1843200" y="2293920"/>
            <a:ext cx="22842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30" name="文本框 10"/>
          <p:cNvSpPr/>
          <p:nvPr/>
        </p:nvSpPr>
        <p:spPr>
          <a:xfrm>
            <a:off x="4869000" y="2293920"/>
            <a:ext cx="228276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31" name="文本框 11"/>
          <p:cNvSpPr/>
          <p:nvPr/>
        </p:nvSpPr>
        <p:spPr>
          <a:xfrm>
            <a:off x="7904160" y="2293920"/>
            <a:ext cx="228456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32" name="文本框 12"/>
          <p:cNvSpPr/>
          <p:nvPr/>
        </p:nvSpPr>
        <p:spPr>
          <a:xfrm>
            <a:off x="1843200" y="4668840"/>
            <a:ext cx="22842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33" name="文本框 13"/>
          <p:cNvSpPr/>
          <p:nvPr/>
        </p:nvSpPr>
        <p:spPr>
          <a:xfrm>
            <a:off x="4869000" y="4668840"/>
            <a:ext cx="228276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34" name="文本框 14"/>
          <p:cNvSpPr/>
          <p:nvPr/>
        </p:nvSpPr>
        <p:spPr>
          <a:xfrm>
            <a:off x="7904160" y="4668840"/>
            <a:ext cx="228456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pic>
        <p:nvPicPr>
          <p:cNvPr id="235" name="组合 15" descr=""/>
          <p:cNvPicPr/>
          <p:nvPr/>
        </p:nvPicPr>
        <p:blipFill>
          <a:blip r:embed="rId3"/>
          <a:stretch/>
        </p:blipFill>
        <p:spPr>
          <a:xfrm>
            <a:off x="2620800" y="1639800"/>
            <a:ext cx="560520" cy="554040"/>
          </a:xfrm>
          <a:prstGeom prst="rect">
            <a:avLst/>
          </a:prstGeom>
          <a:ln w="0">
            <a:noFill/>
          </a:ln>
        </p:spPr>
      </p:pic>
      <p:sp>
        <p:nvSpPr>
          <p:cNvPr id="236" name="Freeform 15"/>
          <p:cNvSpPr/>
          <p:nvPr/>
        </p:nvSpPr>
        <p:spPr>
          <a:xfrm>
            <a:off x="5630760" y="1662120"/>
            <a:ext cx="552600" cy="555480"/>
          </a:xfrm>
          <a:custGeom>
            <a:avLst/>
            <a:gdLst/>
            <a:ahLst/>
            <a:rect l="l" t="t" r="r" b="b"/>
            <a:pathLst>
              <a:path w="132" h="132">
                <a:moveTo>
                  <a:pt x="108" y="0"/>
                </a:moveTo>
                <a:cubicBezTo>
                  <a:pt x="24" y="0"/>
                  <a:pt x="24" y="0"/>
                  <a:pt x="24" y="0"/>
                </a:cubicBezTo>
                <a:cubicBezTo>
                  <a:pt x="11" y="0"/>
                  <a:pt x="0" y="11"/>
                  <a:pt x="0" y="24"/>
                </a:cubicBezTo>
                <a:cubicBezTo>
                  <a:pt x="0" y="108"/>
                  <a:pt x="0" y="108"/>
                  <a:pt x="0" y="108"/>
                </a:cubicBezTo>
                <a:cubicBezTo>
                  <a:pt x="0" y="121"/>
                  <a:pt x="11" y="132"/>
                  <a:pt x="24" y="132"/>
                </a:cubicBezTo>
                <a:cubicBezTo>
                  <a:pt x="108" y="132"/>
                  <a:pt x="108" y="132"/>
                  <a:pt x="108" y="132"/>
                </a:cubicBezTo>
                <a:cubicBezTo>
                  <a:pt x="121" y="132"/>
                  <a:pt x="132" y="121"/>
                  <a:pt x="132" y="108"/>
                </a:cubicBezTo>
                <a:cubicBezTo>
                  <a:pt x="132" y="24"/>
                  <a:pt x="132" y="24"/>
                  <a:pt x="132" y="24"/>
                </a:cubicBezTo>
                <a:cubicBezTo>
                  <a:pt x="132" y="11"/>
                  <a:pt x="121" y="0"/>
                  <a:pt x="108" y="0"/>
                </a:cubicBezTo>
                <a:moveTo>
                  <a:pt x="108" y="78"/>
                </a:moveTo>
                <a:cubicBezTo>
                  <a:pt x="78" y="78"/>
                  <a:pt x="78" y="78"/>
                  <a:pt x="78" y="78"/>
                </a:cubicBezTo>
                <a:cubicBezTo>
                  <a:pt x="78" y="108"/>
                  <a:pt x="78" y="108"/>
                  <a:pt x="78" y="108"/>
                </a:cubicBezTo>
                <a:cubicBezTo>
                  <a:pt x="54" y="108"/>
                  <a:pt x="54" y="108"/>
                  <a:pt x="54" y="108"/>
                </a:cubicBezTo>
                <a:cubicBezTo>
                  <a:pt x="54" y="78"/>
                  <a:pt x="54" y="78"/>
                  <a:pt x="54" y="78"/>
                </a:cubicBezTo>
                <a:cubicBezTo>
                  <a:pt x="24" y="78"/>
                  <a:pt x="24" y="78"/>
                  <a:pt x="24" y="78"/>
                </a:cubicBezTo>
                <a:cubicBezTo>
                  <a:pt x="24" y="54"/>
                  <a:pt x="24" y="54"/>
                  <a:pt x="24" y="54"/>
                </a:cubicBezTo>
                <a:cubicBezTo>
                  <a:pt x="54" y="54"/>
                  <a:pt x="54" y="54"/>
                  <a:pt x="54" y="54"/>
                </a:cubicBezTo>
                <a:cubicBezTo>
                  <a:pt x="54" y="24"/>
                  <a:pt x="54" y="24"/>
                  <a:pt x="54" y="24"/>
                </a:cubicBezTo>
                <a:cubicBezTo>
                  <a:pt x="78" y="24"/>
                  <a:pt x="78" y="24"/>
                  <a:pt x="78" y="24"/>
                </a:cubicBezTo>
                <a:cubicBezTo>
                  <a:pt x="78" y="54"/>
                  <a:pt x="78" y="54"/>
                  <a:pt x="78" y="54"/>
                </a:cubicBezTo>
                <a:cubicBezTo>
                  <a:pt x="108" y="54"/>
                  <a:pt x="108" y="54"/>
                  <a:pt x="108" y="54"/>
                </a:cubicBezTo>
                <a:lnTo>
                  <a:pt x="108" y="78"/>
                </a:lnTo>
                <a:close/>
              </a:path>
            </a:pathLst>
          </a:cu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Freeform 16"/>
          <p:cNvSpPr/>
          <p:nvPr/>
        </p:nvSpPr>
        <p:spPr>
          <a:xfrm>
            <a:off x="8744040" y="1619280"/>
            <a:ext cx="604800" cy="598320"/>
          </a:xfrm>
          <a:custGeom>
            <a:avLst/>
            <a:gdLst/>
            <a:ahLst/>
            <a:rect l="l" t="t" r="r" b="b"/>
            <a:pathLst>
              <a:path w="145" h="144">
                <a:moveTo>
                  <a:pt x="140" y="124"/>
                </a:moveTo>
                <a:cubicBezTo>
                  <a:pt x="106" y="89"/>
                  <a:pt x="106" y="89"/>
                  <a:pt x="106" y="89"/>
                </a:cubicBezTo>
                <a:cubicBezTo>
                  <a:pt x="106" y="89"/>
                  <a:pt x="105" y="88"/>
                  <a:pt x="105" y="88"/>
                </a:cubicBezTo>
                <a:cubicBezTo>
                  <a:pt x="111" y="79"/>
                  <a:pt x="114" y="68"/>
                  <a:pt x="114" y="57"/>
                </a:cubicBezTo>
                <a:cubicBezTo>
                  <a:pt x="114" y="26"/>
                  <a:pt x="88" y="0"/>
                  <a:pt x="57" y="0"/>
                </a:cubicBezTo>
                <a:cubicBezTo>
                  <a:pt x="26" y="0"/>
                  <a:pt x="0" y="26"/>
                  <a:pt x="0" y="57"/>
                </a:cubicBezTo>
                <a:cubicBezTo>
                  <a:pt x="0" y="88"/>
                  <a:pt x="26" y="114"/>
                  <a:pt x="57" y="114"/>
                </a:cubicBezTo>
                <a:cubicBezTo>
                  <a:pt x="68" y="114"/>
                  <a:pt x="79" y="111"/>
                  <a:pt x="88" y="105"/>
                </a:cubicBezTo>
                <a:cubicBezTo>
                  <a:pt x="88" y="105"/>
                  <a:pt x="89" y="106"/>
                  <a:pt x="89" y="106"/>
                </a:cubicBezTo>
                <a:cubicBezTo>
                  <a:pt x="124" y="140"/>
                  <a:pt x="124" y="140"/>
                  <a:pt x="124" y="140"/>
                </a:cubicBezTo>
                <a:cubicBezTo>
                  <a:pt x="126" y="143"/>
                  <a:pt x="129" y="144"/>
                  <a:pt x="132" y="144"/>
                </a:cubicBezTo>
                <a:cubicBezTo>
                  <a:pt x="135" y="144"/>
                  <a:pt x="138" y="143"/>
                  <a:pt x="140" y="140"/>
                </a:cubicBezTo>
                <a:cubicBezTo>
                  <a:pt x="145" y="136"/>
                  <a:pt x="145" y="128"/>
                  <a:pt x="140" y="124"/>
                </a:cubicBezTo>
                <a:moveTo>
                  <a:pt x="57" y="96"/>
                </a:moveTo>
                <a:cubicBezTo>
                  <a:pt x="36" y="96"/>
                  <a:pt x="18" y="78"/>
                  <a:pt x="18" y="57"/>
                </a:cubicBezTo>
                <a:cubicBezTo>
                  <a:pt x="18" y="35"/>
                  <a:pt x="36" y="18"/>
                  <a:pt x="57" y="18"/>
                </a:cubicBezTo>
                <a:cubicBezTo>
                  <a:pt x="78" y="18"/>
                  <a:pt x="96" y="35"/>
                  <a:pt x="96" y="57"/>
                </a:cubicBezTo>
                <a:cubicBezTo>
                  <a:pt x="96" y="78"/>
                  <a:pt x="78" y="96"/>
                  <a:pt x="57" y="96"/>
                </a:cubicBezTo>
              </a:path>
            </a:pathLst>
          </a:cu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33"/>
          <p:cNvSpPr/>
          <p:nvPr/>
        </p:nvSpPr>
        <p:spPr>
          <a:xfrm>
            <a:off x="2692440" y="4062240"/>
            <a:ext cx="503280" cy="603360"/>
          </a:xfrm>
          <a:custGeom>
            <a:avLst/>
            <a:gdLst/>
            <a:ahLst/>
            <a:rect l="l" t="t" r="r" b="b"/>
            <a:pathLst>
              <a:path w="120" h="144">
                <a:moveTo>
                  <a:pt x="102" y="60"/>
                </a:moveTo>
                <a:cubicBezTo>
                  <a:pt x="102" y="42"/>
                  <a:pt x="102" y="42"/>
                  <a:pt x="102" y="42"/>
                </a:cubicBezTo>
                <a:cubicBezTo>
                  <a:pt x="102" y="42"/>
                  <a:pt x="102" y="0"/>
                  <a:pt x="60" y="0"/>
                </a:cubicBezTo>
                <a:cubicBezTo>
                  <a:pt x="18" y="0"/>
                  <a:pt x="18" y="42"/>
                  <a:pt x="18" y="42"/>
                </a:cubicBezTo>
                <a:cubicBezTo>
                  <a:pt x="18" y="60"/>
                  <a:pt x="18" y="60"/>
                  <a:pt x="18" y="60"/>
                </a:cubicBezTo>
                <a:cubicBezTo>
                  <a:pt x="0" y="60"/>
                  <a:pt x="0" y="60"/>
                  <a:pt x="0" y="60"/>
                </a:cubicBezTo>
                <a:cubicBezTo>
                  <a:pt x="0" y="144"/>
                  <a:pt x="0" y="144"/>
                  <a:pt x="0" y="144"/>
                </a:cubicBezTo>
                <a:cubicBezTo>
                  <a:pt x="120" y="144"/>
                  <a:pt x="120" y="144"/>
                  <a:pt x="120" y="144"/>
                </a:cubicBezTo>
                <a:cubicBezTo>
                  <a:pt x="120" y="60"/>
                  <a:pt x="120" y="60"/>
                  <a:pt x="120" y="60"/>
                </a:cubicBezTo>
                <a:lnTo>
                  <a:pt x="102" y="60"/>
                </a:lnTo>
                <a:close/>
                <a:moveTo>
                  <a:pt x="66" y="106"/>
                </a:moveTo>
                <a:cubicBezTo>
                  <a:pt x="66" y="126"/>
                  <a:pt x="66" y="126"/>
                  <a:pt x="66" y="126"/>
                </a:cubicBezTo>
                <a:cubicBezTo>
                  <a:pt x="54" y="126"/>
                  <a:pt x="54" y="126"/>
                  <a:pt x="54" y="126"/>
                </a:cubicBezTo>
                <a:cubicBezTo>
                  <a:pt x="54" y="106"/>
                  <a:pt x="54" y="106"/>
                  <a:pt x="54" y="106"/>
                </a:cubicBezTo>
                <a:cubicBezTo>
                  <a:pt x="50" y="104"/>
                  <a:pt x="48" y="100"/>
                  <a:pt x="48" y="96"/>
                </a:cubicBezTo>
                <a:cubicBezTo>
                  <a:pt x="48" y="89"/>
                  <a:pt x="53" y="84"/>
                  <a:pt x="60" y="84"/>
                </a:cubicBezTo>
                <a:cubicBezTo>
                  <a:pt x="67" y="84"/>
                  <a:pt x="72" y="89"/>
                  <a:pt x="72" y="96"/>
                </a:cubicBezTo>
                <a:cubicBezTo>
                  <a:pt x="72" y="100"/>
                  <a:pt x="70" y="104"/>
                  <a:pt x="66" y="106"/>
                </a:cubicBezTo>
                <a:moveTo>
                  <a:pt x="90" y="60"/>
                </a:moveTo>
                <a:cubicBezTo>
                  <a:pt x="30" y="60"/>
                  <a:pt x="30" y="60"/>
                  <a:pt x="30" y="60"/>
                </a:cubicBezTo>
                <a:cubicBezTo>
                  <a:pt x="30" y="42"/>
                  <a:pt x="30" y="42"/>
                  <a:pt x="30" y="42"/>
                </a:cubicBezTo>
                <a:cubicBezTo>
                  <a:pt x="30" y="37"/>
                  <a:pt x="32" y="12"/>
                  <a:pt x="60" y="12"/>
                </a:cubicBezTo>
                <a:cubicBezTo>
                  <a:pt x="88" y="12"/>
                  <a:pt x="90" y="37"/>
                  <a:pt x="90" y="42"/>
                </a:cubicBezTo>
                <a:lnTo>
                  <a:pt x="90" y="60"/>
                </a:lnTo>
                <a:close/>
              </a:path>
            </a:pathLst>
          </a:cu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39" name="组合 24" descr=""/>
          <p:cNvPicPr/>
          <p:nvPr/>
        </p:nvPicPr>
        <p:blipFill>
          <a:blip r:embed="rId4"/>
          <a:stretch/>
        </p:blipFill>
        <p:spPr>
          <a:xfrm>
            <a:off x="5632560" y="3998880"/>
            <a:ext cx="749160" cy="633600"/>
          </a:xfrm>
          <a:prstGeom prst="rect">
            <a:avLst/>
          </a:prstGeom>
          <a:ln w="0">
            <a:noFill/>
          </a:ln>
        </p:spPr>
      </p:pic>
      <p:sp>
        <p:nvSpPr>
          <p:cNvPr id="240" name="Freeform 37"/>
          <p:cNvSpPr/>
          <p:nvPr/>
        </p:nvSpPr>
        <p:spPr>
          <a:xfrm>
            <a:off x="8656560" y="4098960"/>
            <a:ext cx="779400" cy="531720"/>
          </a:xfrm>
          <a:custGeom>
            <a:avLst/>
            <a:gdLst/>
            <a:ahLst/>
            <a:rect l="l" t="t" r="r" b="b"/>
            <a:pathLst>
              <a:path w="186" h="126">
                <a:moveTo>
                  <a:pt x="135" y="9"/>
                </a:moveTo>
                <a:cubicBezTo>
                  <a:pt x="108" y="9"/>
                  <a:pt x="86" y="30"/>
                  <a:pt x="84" y="57"/>
                </a:cubicBezTo>
                <a:cubicBezTo>
                  <a:pt x="84" y="57"/>
                  <a:pt x="84" y="57"/>
                  <a:pt x="84" y="57"/>
                </a:cubicBezTo>
                <a:cubicBezTo>
                  <a:pt x="84" y="60"/>
                  <a:pt x="84" y="60"/>
                  <a:pt x="84" y="60"/>
                </a:cubicBezTo>
                <a:cubicBezTo>
                  <a:pt x="84" y="66"/>
                  <a:pt x="84" y="66"/>
                  <a:pt x="84" y="66"/>
                </a:cubicBezTo>
                <a:cubicBezTo>
                  <a:pt x="84" y="84"/>
                  <a:pt x="69" y="99"/>
                  <a:pt x="51" y="99"/>
                </a:cubicBezTo>
                <a:cubicBezTo>
                  <a:pt x="33" y="99"/>
                  <a:pt x="18" y="84"/>
                  <a:pt x="18" y="66"/>
                </a:cubicBezTo>
                <a:cubicBezTo>
                  <a:pt x="18" y="48"/>
                  <a:pt x="33" y="33"/>
                  <a:pt x="51" y="33"/>
                </a:cubicBezTo>
                <a:cubicBezTo>
                  <a:pt x="51" y="48"/>
                  <a:pt x="51" y="48"/>
                  <a:pt x="51" y="48"/>
                </a:cubicBezTo>
                <a:cubicBezTo>
                  <a:pt x="87" y="24"/>
                  <a:pt x="87" y="24"/>
                  <a:pt x="87" y="24"/>
                </a:cubicBezTo>
                <a:cubicBezTo>
                  <a:pt x="51" y="0"/>
                  <a:pt x="51" y="0"/>
                  <a:pt x="51" y="0"/>
                </a:cubicBezTo>
                <a:cubicBezTo>
                  <a:pt x="51" y="15"/>
                  <a:pt x="51" y="15"/>
                  <a:pt x="51" y="15"/>
                </a:cubicBezTo>
                <a:cubicBezTo>
                  <a:pt x="23" y="15"/>
                  <a:pt x="0" y="38"/>
                  <a:pt x="0" y="66"/>
                </a:cubicBezTo>
                <a:cubicBezTo>
                  <a:pt x="0" y="94"/>
                  <a:pt x="23" y="117"/>
                  <a:pt x="51" y="117"/>
                </a:cubicBezTo>
                <a:cubicBezTo>
                  <a:pt x="78" y="117"/>
                  <a:pt x="100" y="96"/>
                  <a:pt x="102" y="69"/>
                </a:cubicBezTo>
                <a:cubicBezTo>
                  <a:pt x="102" y="69"/>
                  <a:pt x="102" y="69"/>
                  <a:pt x="102" y="69"/>
                </a:cubicBezTo>
                <a:cubicBezTo>
                  <a:pt x="102" y="66"/>
                  <a:pt x="102" y="66"/>
                  <a:pt x="102" y="66"/>
                </a:cubicBezTo>
                <a:cubicBezTo>
                  <a:pt x="102" y="60"/>
                  <a:pt x="102" y="60"/>
                  <a:pt x="102" y="60"/>
                </a:cubicBezTo>
                <a:cubicBezTo>
                  <a:pt x="102" y="42"/>
                  <a:pt x="117" y="27"/>
                  <a:pt x="135" y="27"/>
                </a:cubicBezTo>
                <a:cubicBezTo>
                  <a:pt x="153" y="27"/>
                  <a:pt x="168" y="42"/>
                  <a:pt x="168" y="60"/>
                </a:cubicBezTo>
                <a:cubicBezTo>
                  <a:pt x="168" y="78"/>
                  <a:pt x="153" y="93"/>
                  <a:pt x="135" y="93"/>
                </a:cubicBezTo>
                <a:cubicBezTo>
                  <a:pt x="135" y="78"/>
                  <a:pt x="135" y="78"/>
                  <a:pt x="135" y="78"/>
                </a:cubicBezTo>
                <a:cubicBezTo>
                  <a:pt x="99" y="102"/>
                  <a:pt x="99" y="102"/>
                  <a:pt x="99" y="102"/>
                </a:cubicBezTo>
                <a:cubicBezTo>
                  <a:pt x="135" y="126"/>
                  <a:pt x="135" y="126"/>
                  <a:pt x="135" y="126"/>
                </a:cubicBezTo>
                <a:cubicBezTo>
                  <a:pt x="135" y="111"/>
                  <a:pt x="135" y="111"/>
                  <a:pt x="135" y="111"/>
                </a:cubicBezTo>
                <a:cubicBezTo>
                  <a:pt x="163" y="111"/>
                  <a:pt x="186" y="88"/>
                  <a:pt x="186" y="60"/>
                </a:cubicBezTo>
                <a:cubicBezTo>
                  <a:pt x="186" y="32"/>
                  <a:pt x="163" y="9"/>
                  <a:pt x="135" y="9"/>
                </a:cubicBezTo>
              </a:path>
            </a:pathLst>
          </a:cu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直接连接符 28"/>
          <p:cNvSpPr/>
          <p:nvPr/>
        </p:nvSpPr>
        <p:spPr>
          <a:xfrm>
            <a:off x="1843200" y="3695760"/>
            <a:ext cx="2284200" cy="0"/>
          </a:xfrm>
          <a:prstGeom prst="line">
            <a:avLst/>
          </a:prstGeom>
          <a:ln w="6480">
            <a:solidFill>
              <a:srgbClr val="4e67c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直接连接符 29"/>
          <p:cNvSpPr/>
          <p:nvPr/>
        </p:nvSpPr>
        <p:spPr>
          <a:xfrm>
            <a:off x="4869000" y="3695760"/>
            <a:ext cx="2282760" cy="0"/>
          </a:xfrm>
          <a:prstGeom prst="line">
            <a:avLst/>
          </a:prstGeom>
          <a:ln w="6480">
            <a:solidFill>
              <a:srgbClr val="4e67c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直接连接符 30"/>
          <p:cNvSpPr/>
          <p:nvPr/>
        </p:nvSpPr>
        <p:spPr>
          <a:xfrm>
            <a:off x="7980480" y="3695760"/>
            <a:ext cx="2282760" cy="0"/>
          </a:xfrm>
          <a:prstGeom prst="line">
            <a:avLst/>
          </a:prstGeom>
          <a:ln w="6480">
            <a:solidFill>
              <a:srgbClr val="4e67c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任意多边形 31"/>
          <p:cNvSpPr/>
          <p:nvPr/>
        </p:nvSpPr>
        <p:spPr>
          <a:xfrm>
            <a:off x="0" y="2736720"/>
            <a:ext cx="844560" cy="1689120"/>
          </a:xfrm>
          <a:custGeom>
            <a:avLst/>
            <a:gdLst/>
            <a:ahLst/>
            <a:rect l="l" t="t" r="r" b="b"/>
            <a:pathLst>
              <a:path w="844443" h="1688886">
                <a:moveTo>
                  <a:pt x="0" y="0"/>
                </a:moveTo>
                <a:cubicBezTo>
                  <a:pt x="466373" y="0"/>
                  <a:pt x="844443" y="378070"/>
                  <a:pt x="844443" y="844443"/>
                </a:cubicBezTo>
                <a:cubicBezTo>
                  <a:pt x="844443" y="1310816"/>
                  <a:pt x="466373" y="1688886"/>
                  <a:pt x="0" y="1688886"/>
                </a:cubicBezTo>
                <a:lnTo>
                  <a:pt x="0" y="0"/>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任意多边形 32"/>
          <p:cNvSpPr/>
          <p:nvPr/>
        </p:nvSpPr>
        <p:spPr>
          <a:xfrm flipH="1">
            <a:off x="11345760" y="2736720"/>
            <a:ext cx="844560" cy="1689120"/>
          </a:xfrm>
          <a:custGeom>
            <a:avLst/>
            <a:gdLst/>
            <a:ahLst/>
            <a:rect l="l" t="t" r="r" b="b"/>
            <a:pathLst>
              <a:path w="844443" h="1688886">
                <a:moveTo>
                  <a:pt x="0" y="0"/>
                </a:moveTo>
                <a:cubicBezTo>
                  <a:pt x="466373" y="0"/>
                  <a:pt x="844443" y="378070"/>
                  <a:pt x="844443" y="844443"/>
                </a:cubicBezTo>
                <a:cubicBezTo>
                  <a:pt x="844443" y="1310816"/>
                  <a:pt x="466373" y="1688886"/>
                  <a:pt x="0" y="1688886"/>
                </a:cubicBezTo>
                <a:lnTo>
                  <a:pt x="0" y="0"/>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矩形 1"/>
          <p:cNvSpPr/>
          <p:nvPr/>
        </p:nvSpPr>
        <p:spPr>
          <a:xfrm>
            <a:off x="0" y="2540160"/>
            <a:ext cx="5619600" cy="19652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文本框 2"/>
          <p:cNvSpPr/>
          <p:nvPr/>
        </p:nvSpPr>
        <p:spPr>
          <a:xfrm>
            <a:off x="5854680" y="2292480"/>
            <a:ext cx="57085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b649f"/>
                </a:solidFill>
                <a:latin typeface="Arial"/>
              </a:rPr>
              <a:t>添加论文内容第二部分标题</a:t>
            </a:r>
            <a:endParaRPr b="0" lang="en-US" sz="3600" spc="-1" strike="noStrike">
              <a:solidFill>
                <a:srgbClr val="000000"/>
              </a:solidFill>
              <a:latin typeface="Arial"/>
            </a:endParaRPr>
          </a:p>
        </p:txBody>
      </p:sp>
      <p:sp>
        <p:nvSpPr>
          <p:cNvPr id="248" name="文本框 4"/>
          <p:cNvSpPr/>
          <p:nvPr/>
        </p:nvSpPr>
        <p:spPr>
          <a:xfrm>
            <a:off x="5854680" y="3216240"/>
            <a:ext cx="57085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培养学生综合运用、巩固与扩展所学的基础理论和专业知识，培养学生独立分析、解决实际问题能力、培养学生处理数据和信息的能力。</a:t>
            </a:r>
            <a:endParaRPr b="0" lang="en-US" sz="1800" spc="-1" strike="noStrike">
              <a:solidFill>
                <a:srgbClr val="000000"/>
              </a:solidFill>
              <a:latin typeface="Arial"/>
            </a:endParaRPr>
          </a:p>
        </p:txBody>
      </p:sp>
      <p:pic>
        <p:nvPicPr>
          <p:cNvPr id="249" name="图片 9" descr=""/>
          <p:cNvPicPr/>
          <p:nvPr/>
        </p:nvPicPr>
        <p:blipFill>
          <a:blip r:embed="rId1"/>
          <a:stretch/>
        </p:blipFill>
        <p:spPr>
          <a:xfrm>
            <a:off x="6326280" y="5200560"/>
            <a:ext cx="5865840" cy="1657440"/>
          </a:xfrm>
          <a:prstGeom prst="rect">
            <a:avLst/>
          </a:prstGeom>
          <a:ln w="0">
            <a:noFill/>
          </a:ln>
        </p:spPr>
      </p:pic>
      <p:pic>
        <p:nvPicPr>
          <p:cNvPr id="250" name="图片 10" descr=""/>
          <p:cNvPicPr/>
          <p:nvPr/>
        </p:nvPicPr>
        <p:blipFill>
          <a:blip r:embed="rId2"/>
          <a:stretch/>
        </p:blipFill>
        <p:spPr>
          <a:xfrm>
            <a:off x="0" y="0"/>
            <a:ext cx="7878600" cy="2216160"/>
          </a:xfrm>
          <a:prstGeom prst="rect">
            <a:avLst/>
          </a:prstGeom>
          <a:ln w="0">
            <a:noFill/>
          </a:ln>
        </p:spPr>
      </p:pic>
      <p:grpSp>
        <p:nvGrpSpPr>
          <p:cNvPr id="251" name="组合 11"/>
          <p:cNvGrpSpPr/>
          <p:nvPr/>
        </p:nvGrpSpPr>
        <p:grpSpPr>
          <a:xfrm>
            <a:off x="1519200" y="2232000"/>
            <a:ext cx="2581200" cy="2583000"/>
            <a:chOff x="1519200" y="2232000"/>
            <a:chExt cx="2581200" cy="2583000"/>
          </a:xfrm>
        </p:grpSpPr>
        <p:sp>
          <p:nvSpPr>
            <p:cNvPr id="252" name="椭圆 12"/>
            <p:cNvSpPr/>
            <p:nvPr/>
          </p:nvSpPr>
          <p:spPr>
            <a:xfrm>
              <a:off x="1519200" y="2232000"/>
              <a:ext cx="2581200" cy="258300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椭圆 13"/>
            <p:cNvSpPr/>
            <p:nvPr/>
          </p:nvSpPr>
          <p:spPr>
            <a:xfrm>
              <a:off x="1695240" y="2408040"/>
              <a:ext cx="2228760" cy="223056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KSO_Shape"/>
            <p:cNvSpPr/>
            <p:nvPr/>
          </p:nvSpPr>
          <p:spPr>
            <a:xfrm>
              <a:off x="2066760" y="2816280"/>
              <a:ext cx="1485720" cy="1414440"/>
            </a:xfrm>
            <a:custGeom>
              <a:avLst/>
              <a:gdLst/>
              <a:ahLst/>
              <a:rect l="l" t="t" r="r" b="b"/>
              <a:pathLst>
                <a:path w="5871" h="5585">
                  <a:moveTo>
                    <a:pt x="774" y="374"/>
                  </a:moveTo>
                  <a:lnTo>
                    <a:pt x="774" y="1910"/>
                  </a:lnTo>
                  <a:lnTo>
                    <a:pt x="5107" y="1910"/>
                  </a:lnTo>
                  <a:lnTo>
                    <a:pt x="5107" y="374"/>
                  </a:lnTo>
                  <a:lnTo>
                    <a:pt x="774" y="374"/>
                  </a:lnTo>
                  <a:close/>
                  <a:moveTo>
                    <a:pt x="1597" y="3265"/>
                  </a:moveTo>
                  <a:lnTo>
                    <a:pt x="1597" y="3265"/>
                  </a:lnTo>
                  <a:lnTo>
                    <a:pt x="1591" y="3265"/>
                  </a:lnTo>
                  <a:lnTo>
                    <a:pt x="1587" y="3265"/>
                  </a:lnTo>
                  <a:lnTo>
                    <a:pt x="1586" y="3265"/>
                  </a:lnTo>
                  <a:lnTo>
                    <a:pt x="1581" y="3265"/>
                  </a:lnTo>
                  <a:lnTo>
                    <a:pt x="1576" y="3265"/>
                  </a:lnTo>
                  <a:lnTo>
                    <a:pt x="1571" y="3265"/>
                  </a:lnTo>
                  <a:lnTo>
                    <a:pt x="1570" y="3265"/>
                  </a:lnTo>
                  <a:lnTo>
                    <a:pt x="1566" y="3265"/>
                  </a:lnTo>
                  <a:lnTo>
                    <a:pt x="1560" y="3265"/>
                  </a:lnTo>
                  <a:lnTo>
                    <a:pt x="1555" y="3265"/>
                  </a:lnTo>
                  <a:lnTo>
                    <a:pt x="1550" y="3265"/>
                  </a:lnTo>
                  <a:lnTo>
                    <a:pt x="1545" y="3265"/>
                  </a:lnTo>
                  <a:lnTo>
                    <a:pt x="1540" y="3265"/>
                  </a:lnTo>
                  <a:lnTo>
                    <a:pt x="1539" y="3265"/>
                  </a:lnTo>
                  <a:lnTo>
                    <a:pt x="1535" y="3265"/>
                  </a:lnTo>
                  <a:lnTo>
                    <a:pt x="1529" y="3265"/>
                  </a:lnTo>
                  <a:lnTo>
                    <a:pt x="1525" y="3265"/>
                  </a:lnTo>
                  <a:lnTo>
                    <a:pt x="1524" y="3265"/>
                  </a:lnTo>
                  <a:lnTo>
                    <a:pt x="1519" y="3265"/>
                  </a:lnTo>
                  <a:lnTo>
                    <a:pt x="1514" y="3265"/>
                  </a:lnTo>
                  <a:lnTo>
                    <a:pt x="1509" y="3265"/>
                  </a:lnTo>
                  <a:lnTo>
                    <a:pt x="1508" y="3265"/>
                  </a:lnTo>
                  <a:lnTo>
                    <a:pt x="1504" y="3265"/>
                  </a:lnTo>
                  <a:lnTo>
                    <a:pt x="1498" y="3265"/>
                  </a:lnTo>
                  <a:lnTo>
                    <a:pt x="1494" y="3265"/>
                  </a:lnTo>
                  <a:lnTo>
                    <a:pt x="1493" y="3265"/>
                  </a:lnTo>
                  <a:lnTo>
                    <a:pt x="1488" y="3265"/>
                  </a:lnTo>
                  <a:lnTo>
                    <a:pt x="1483" y="3265"/>
                  </a:lnTo>
                  <a:lnTo>
                    <a:pt x="1478" y="3265"/>
                  </a:lnTo>
                  <a:lnTo>
                    <a:pt x="1477" y="3265"/>
                  </a:lnTo>
                  <a:lnTo>
                    <a:pt x="1473" y="3265"/>
                  </a:lnTo>
                  <a:lnTo>
                    <a:pt x="1467" y="3265"/>
                  </a:lnTo>
                  <a:lnTo>
                    <a:pt x="1463" y="3265"/>
                  </a:lnTo>
                  <a:lnTo>
                    <a:pt x="1462" y="3265"/>
                  </a:lnTo>
                  <a:lnTo>
                    <a:pt x="1457" y="3265"/>
                  </a:lnTo>
                  <a:lnTo>
                    <a:pt x="1452" y="3265"/>
                  </a:lnTo>
                  <a:lnTo>
                    <a:pt x="1446" y="3265"/>
                  </a:lnTo>
                  <a:lnTo>
                    <a:pt x="1442" y="3265"/>
                  </a:lnTo>
                  <a:lnTo>
                    <a:pt x="1266" y="3265"/>
                  </a:lnTo>
                  <a:lnTo>
                    <a:pt x="1345" y="3830"/>
                  </a:lnTo>
                  <a:lnTo>
                    <a:pt x="1294" y="3911"/>
                  </a:lnTo>
                  <a:lnTo>
                    <a:pt x="1345" y="3977"/>
                  </a:lnTo>
                  <a:lnTo>
                    <a:pt x="1117" y="4116"/>
                  </a:lnTo>
                  <a:lnTo>
                    <a:pt x="1112" y="4144"/>
                  </a:lnTo>
                  <a:lnTo>
                    <a:pt x="1106" y="4173"/>
                  </a:lnTo>
                  <a:lnTo>
                    <a:pt x="1103" y="4201"/>
                  </a:lnTo>
                  <a:lnTo>
                    <a:pt x="1099" y="4228"/>
                  </a:lnTo>
                  <a:lnTo>
                    <a:pt x="1097" y="4255"/>
                  </a:lnTo>
                  <a:lnTo>
                    <a:pt x="1096" y="4281"/>
                  </a:lnTo>
                  <a:lnTo>
                    <a:pt x="1096" y="4308"/>
                  </a:lnTo>
                  <a:lnTo>
                    <a:pt x="1096" y="4333"/>
                  </a:lnTo>
                  <a:lnTo>
                    <a:pt x="1097" y="4359"/>
                  </a:lnTo>
                  <a:lnTo>
                    <a:pt x="1098" y="4383"/>
                  </a:lnTo>
                  <a:lnTo>
                    <a:pt x="1100" y="4407"/>
                  </a:lnTo>
                  <a:lnTo>
                    <a:pt x="1104" y="4432"/>
                  </a:lnTo>
                  <a:lnTo>
                    <a:pt x="1112" y="4478"/>
                  </a:lnTo>
                  <a:lnTo>
                    <a:pt x="1121" y="4523"/>
                  </a:lnTo>
                  <a:lnTo>
                    <a:pt x="1133" y="4568"/>
                  </a:lnTo>
                  <a:lnTo>
                    <a:pt x="1147" y="4611"/>
                  </a:lnTo>
                  <a:lnTo>
                    <a:pt x="1162" y="4653"/>
                  </a:lnTo>
                  <a:lnTo>
                    <a:pt x="1179" y="4694"/>
                  </a:lnTo>
                  <a:lnTo>
                    <a:pt x="1198" y="4733"/>
                  </a:lnTo>
                  <a:lnTo>
                    <a:pt x="1218" y="4772"/>
                  </a:lnTo>
                  <a:lnTo>
                    <a:pt x="1238" y="4812"/>
                  </a:lnTo>
                  <a:lnTo>
                    <a:pt x="1259" y="4849"/>
                  </a:lnTo>
                  <a:lnTo>
                    <a:pt x="774" y="4849"/>
                  </a:lnTo>
                  <a:lnTo>
                    <a:pt x="774" y="2135"/>
                  </a:lnTo>
                  <a:lnTo>
                    <a:pt x="2185" y="2135"/>
                  </a:lnTo>
                  <a:lnTo>
                    <a:pt x="2185" y="4849"/>
                  </a:lnTo>
                  <a:lnTo>
                    <a:pt x="1780" y="4849"/>
                  </a:lnTo>
                  <a:lnTo>
                    <a:pt x="1801" y="4812"/>
                  </a:lnTo>
                  <a:lnTo>
                    <a:pt x="1821" y="4772"/>
                  </a:lnTo>
                  <a:lnTo>
                    <a:pt x="1841" y="4733"/>
                  </a:lnTo>
                  <a:lnTo>
                    <a:pt x="1859" y="4694"/>
                  </a:lnTo>
                  <a:lnTo>
                    <a:pt x="1876" y="4653"/>
                  </a:lnTo>
                  <a:lnTo>
                    <a:pt x="1892" y="4611"/>
                  </a:lnTo>
                  <a:lnTo>
                    <a:pt x="1905" y="4568"/>
                  </a:lnTo>
                  <a:lnTo>
                    <a:pt x="1917" y="4523"/>
                  </a:lnTo>
                  <a:lnTo>
                    <a:pt x="1927" y="4478"/>
                  </a:lnTo>
                  <a:lnTo>
                    <a:pt x="1935" y="4432"/>
                  </a:lnTo>
                  <a:lnTo>
                    <a:pt x="1938" y="4407"/>
                  </a:lnTo>
                  <a:lnTo>
                    <a:pt x="1941" y="4383"/>
                  </a:lnTo>
                  <a:lnTo>
                    <a:pt x="1942" y="4359"/>
                  </a:lnTo>
                  <a:lnTo>
                    <a:pt x="1943" y="4333"/>
                  </a:lnTo>
                  <a:lnTo>
                    <a:pt x="1943" y="4308"/>
                  </a:lnTo>
                  <a:lnTo>
                    <a:pt x="1942" y="4281"/>
                  </a:lnTo>
                  <a:lnTo>
                    <a:pt x="1941" y="4255"/>
                  </a:lnTo>
                  <a:lnTo>
                    <a:pt x="1938" y="4228"/>
                  </a:lnTo>
                  <a:lnTo>
                    <a:pt x="1936" y="4201"/>
                  </a:lnTo>
                  <a:lnTo>
                    <a:pt x="1932" y="4173"/>
                  </a:lnTo>
                  <a:lnTo>
                    <a:pt x="1927" y="4144"/>
                  </a:lnTo>
                  <a:lnTo>
                    <a:pt x="1922" y="4116"/>
                  </a:lnTo>
                  <a:lnTo>
                    <a:pt x="1694" y="3977"/>
                  </a:lnTo>
                  <a:lnTo>
                    <a:pt x="1745" y="3911"/>
                  </a:lnTo>
                  <a:lnTo>
                    <a:pt x="1694" y="3830"/>
                  </a:lnTo>
                  <a:lnTo>
                    <a:pt x="1771" y="3265"/>
                  </a:lnTo>
                  <a:lnTo>
                    <a:pt x="1597" y="3265"/>
                  </a:lnTo>
                  <a:close/>
                  <a:moveTo>
                    <a:pt x="4819" y="863"/>
                  </a:moveTo>
                  <a:lnTo>
                    <a:pt x="4819" y="1057"/>
                  </a:lnTo>
                  <a:lnTo>
                    <a:pt x="3585" y="1057"/>
                  </a:lnTo>
                  <a:lnTo>
                    <a:pt x="3585" y="863"/>
                  </a:lnTo>
                  <a:lnTo>
                    <a:pt x="4819" y="863"/>
                  </a:lnTo>
                  <a:close/>
                  <a:moveTo>
                    <a:pt x="5002" y="1108"/>
                  </a:moveTo>
                  <a:lnTo>
                    <a:pt x="5002" y="1379"/>
                  </a:lnTo>
                  <a:lnTo>
                    <a:pt x="3769" y="1379"/>
                  </a:lnTo>
                  <a:lnTo>
                    <a:pt x="3769" y="1108"/>
                  </a:lnTo>
                  <a:lnTo>
                    <a:pt x="5002" y="1108"/>
                  </a:lnTo>
                  <a:close/>
                  <a:moveTo>
                    <a:pt x="4891" y="1429"/>
                  </a:moveTo>
                  <a:lnTo>
                    <a:pt x="4891" y="1623"/>
                  </a:lnTo>
                  <a:lnTo>
                    <a:pt x="3657" y="1623"/>
                  </a:lnTo>
                  <a:lnTo>
                    <a:pt x="3657" y="1429"/>
                  </a:lnTo>
                  <a:lnTo>
                    <a:pt x="4891" y="1429"/>
                  </a:lnTo>
                  <a:close/>
                  <a:moveTo>
                    <a:pt x="4977" y="1659"/>
                  </a:moveTo>
                  <a:lnTo>
                    <a:pt x="4977" y="1853"/>
                  </a:lnTo>
                  <a:lnTo>
                    <a:pt x="3743" y="1853"/>
                  </a:lnTo>
                  <a:lnTo>
                    <a:pt x="3743" y="1659"/>
                  </a:lnTo>
                  <a:lnTo>
                    <a:pt x="4977" y="1659"/>
                  </a:lnTo>
                  <a:close/>
                  <a:moveTo>
                    <a:pt x="1643" y="596"/>
                  </a:moveTo>
                  <a:lnTo>
                    <a:pt x="1833" y="561"/>
                  </a:lnTo>
                  <a:lnTo>
                    <a:pt x="2061" y="1773"/>
                  </a:lnTo>
                  <a:lnTo>
                    <a:pt x="1871" y="1809"/>
                  </a:lnTo>
                  <a:lnTo>
                    <a:pt x="1643" y="596"/>
                  </a:lnTo>
                  <a:close/>
                  <a:moveTo>
                    <a:pt x="1388" y="596"/>
                  </a:moveTo>
                  <a:lnTo>
                    <a:pt x="1579" y="561"/>
                  </a:lnTo>
                  <a:lnTo>
                    <a:pt x="1807" y="1773"/>
                  </a:lnTo>
                  <a:lnTo>
                    <a:pt x="1616" y="1809"/>
                  </a:lnTo>
                  <a:lnTo>
                    <a:pt x="1388" y="596"/>
                  </a:lnTo>
                  <a:close/>
                  <a:moveTo>
                    <a:pt x="1134" y="596"/>
                  </a:moveTo>
                  <a:lnTo>
                    <a:pt x="1324" y="561"/>
                  </a:lnTo>
                  <a:lnTo>
                    <a:pt x="1551" y="1773"/>
                  </a:lnTo>
                  <a:lnTo>
                    <a:pt x="1361" y="1809"/>
                  </a:lnTo>
                  <a:lnTo>
                    <a:pt x="1134" y="596"/>
                  </a:lnTo>
                  <a:close/>
                  <a:moveTo>
                    <a:pt x="884" y="568"/>
                  </a:moveTo>
                  <a:lnTo>
                    <a:pt x="1077" y="568"/>
                  </a:lnTo>
                  <a:lnTo>
                    <a:pt x="1077" y="1802"/>
                  </a:lnTo>
                  <a:lnTo>
                    <a:pt x="884" y="1802"/>
                  </a:lnTo>
                  <a:lnTo>
                    <a:pt x="884" y="568"/>
                  </a:lnTo>
                  <a:close/>
                  <a:moveTo>
                    <a:pt x="3540" y="2418"/>
                  </a:moveTo>
                  <a:lnTo>
                    <a:pt x="3807" y="2354"/>
                  </a:lnTo>
                  <a:lnTo>
                    <a:pt x="4033" y="3306"/>
                  </a:lnTo>
                  <a:lnTo>
                    <a:pt x="3765" y="3369"/>
                  </a:lnTo>
                  <a:lnTo>
                    <a:pt x="3540" y="2418"/>
                  </a:lnTo>
                  <a:close/>
                  <a:moveTo>
                    <a:pt x="3622" y="2531"/>
                  </a:moveTo>
                  <a:lnTo>
                    <a:pt x="3639" y="2606"/>
                  </a:lnTo>
                  <a:lnTo>
                    <a:pt x="3791" y="2570"/>
                  </a:lnTo>
                  <a:lnTo>
                    <a:pt x="3773" y="2496"/>
                  </a:lnTo>
                  <a:lnTo>
                    <a:pt x="3622" y="2531"/>
                  </a:lnTo>
                  <a:close/>
                  <a:moveTo>
                    <a:pt x="3739" y="3028"/>
                  </a:moveTo>
                  <a:lnTo>
                    <a:pt x="3776" y="3184"/>
                  </a:lnTo>
                  <a:lnTo>
                    <a:pt x="3928" y="3148"/>
                  </a:lnTo>
                  <a:lnTo>
                    <a:pt x="3890" y="2991"/>
                  </a:lnTo>
                  <a:lnTo>
                    <a:pt x="3739" y="3028"/>
                  </a:lnTo>
                  <a:close/>
                  <a:moveTo>
                    <a:pt x="3193" y="2418"/>
                  </a:moveTo>
                  <a:lnTo>
                    <a:pt x="3418" y="3369"/>
                  </a:lnTo>
                  <a:lnTo>
                    <a:pt x="3687" y="3306"/>
                  </a:lnTo>
                  <a:lnTo>
                    <a:pt x="3461" y="2354"/>
                  </a:lnTo>
                  <a:lnTo>
                    <a:pt x="3193" y="2418"/>
                  </a:lnTo>
                  <a:close/>
                  <a:moveTo>
                    <a:pt x="3276" y="2531"/>
                  </a:moveTo>
                  <a:lnTo>
                    <a:pt x="3426" y="2496"/>
                  </a:lnTo>
                  <a:lnTo>
                    <a:pt x="3444" y="2570"/>
                  </a:lnTo>
                  <a:lnTo>
                    <a:pt x="3292" y="2606"/>
                  </a:lnTo>
                  <a:lnTo>
                    <a:pt x="3276" y="2531"/>
                  </a:lnTo>
                  <a:close/>
                  <a:moveTo>
                    <a:pt x="3393" y="3028"/>
                  </a:moveTo>
                  <a:lnTo>
                    <a:pt x="3429" y="3184"/>
                  </a:lnTo>
                  <a:lnTo>
                    <a:pt x="3581" y="3148"/>
                  </a:lnTo>
                  <a:lnTo>
                    <a:pt x="3544" y="2991"/>
                  </a:lnTo>
                  <a:lnTo>
                    <a:pt x="3393" y="3028"/>
                  </a:lnTo>
                  <a:close/>
                  <a:moveTo>
                    <a:pt x="2841" y="2418"/>
                  </a:moveTo>
                  <a:lnTo>
                    <a:pt x="3109" y="2354"/>
                  </a:lnTo>
                  <a:lnTo>
                    <a:pt x="3335" y="3306"/>
                  </a:lnTo>
                  <a:lnTo>
                    <a:pt x="3067" y="3369"/>
                  </a:lnTo>
                  <a:lnTo>
                    <a:pt x="2841" y="2418"/>
                  </a:lnTo>
                  <a:close/>
                  <a:moveTo>
                    <a:pt x="2923" y="2531"/>
                  </a:moveTo>
                  <a:lnTo>
                    <a:pt x="2941" y="2606"/>
                  </a:lnTo>
                  <a:lnTo>
                    <a:pt x="3092" y="2570"/>
                  </a:lnTo>
                  <a:lnTo>
                    <a:pt x="3075" y="2496"/>
                  </a:lnTo>
                  <a:lnTo>
                    <a:pt x="2923" y="2531"/>
                  </a:lnTo>
                  <a:close/>
                  <a:moveTo>
                    <a:pt x="3041" y="3028"/>
                  </a:moveTo>
                  <a:lnTo>
                    <a:pt x="3192" y="2991"/>
                  </a:lnTo>
                  <a:lnTo>
                    <a:pt x="3229" y="3148"/>
                  </a:lnTo>
                  <a:lnTo>
                    <a:pt x="3078" y="3184"/>
                  </a:lnTo>
                  <a:lnTo>
                    <a:pt x="3041" y="3028"/>
                  </a:lnTo>
                  <a:close/>
                  <a:moveTo>
                    <a:pt x="2553" y="2372"/>
                  </a:moveTo>
                  <a:lnTo>
                    <a:pt x="2828" y="2372"/>
                  </a:lnTo>
                  <a:lnTo>
                    <a:pt x="2828" y="3352"/>
                  </a:lnTo>
                  <a:lnTo>
                    <a:pt x="2553" y="3352"/>
                  </a:lnTo>
                  <a:lnTo>
                    <a:pt x="2553" y="2372"/>
                  </a:lnTo>
                  <a:close/>
                  <a:moveTo>
                    <a:pt x="2606" y="2503"/>
                  </a:moveTo>
                  <a:lnTo>
                    <a:pt x="2606" y="2579"/>
                  </a:lnTo>
                  <a:lnTo>
                    <a:pt x="2762" y="2579"/>
                  </a:lnTo>
                  <a:lnTo>
                    <a:pt x="2762" y="2503"/>
                  </a:lnTo>
                  <a:lnTo>
                    <a:pt x="2606" y="2503"/>
                  </a:lnTo>
                  <a:close/>
                  <a:moveTo>
                    <a:pt x="2606" y="3012"/>
                  </a:moveTo>
                  <a:lnTo>
                    <a:pt x="2606" y="3173"/>
                  </a:lnTo>
                  <a:lnTo>
                    <a:pt x="2762" y="3173"/>
                  </a:lnTo>
                  <a:lnTo>
                    <a:pt x="2762" y="3012"/>
                  </a:lnTo>
                  <a:lnTo>
                    <a:pt x="2606" y="3012"/>
                  </a:lnTo>
                  <a:close/>
                  <a:moveTo>
                    <a:pt x="5555" y="151"/>
                  </a:moveTo>
                  <a:lnTo>
                    <a:pt x="5555" y="374"/>
                  </a:lnTo>
                  <a:lnTo>
                    <a:pt x="5555" y="4849"/>
                  </a:lnTo>
                  <a:lnTo>
                    <a:pt x="5871" y="4849"/>
                  </a:lnTo>
                  <a:lnTo>
                    <a:pt x="5871" y="5585"/>
                  </a:lnTo>
                  <a:lnTo>
                    <a:pt x="0" y="5585"/>
                  </a:lnTo>
                  <a:lnTo>
                    <a:pt x="0" y="4849"/>
                  </a:lnTo>
                  <a:lnTo>
                    <a:pt x="326" y="4849"/>
                  </a:lnTo>
                  <a:lnTo>
                    <a:pt x="326" y="374"/>
                  </a:lnTo>
                  <a:lnTo>
                    <a:pt x="326" y="151"/>
                  </a:lnTo>
                  <a:lnTo>
                    <a:pt x="326" y="0"/>
                  </a:lnTo>
                  <a:lnTo>
                    <a:pt x="5555" y="0"/>
                  </a:lnTo>
                  <a:lnTo>
                    <a:pt x="5555" y="151"/>
                  </a:lnTo>
                  <a:close/>
                  <a:moveTo>
                    <a:pt x="2409" y="2135"/>
                  </a:moveTo>
                  <a:lnTo>
                    <a:pt x="2409" y="3385"/>
                  </a:lnTo>
                  <a:lnTo>
                    <a:pt x="5107" y="3385"/>
                  </a:lnTo>
                  <a:lnTo>
                    <a:pt x="5107" y="2135"/>
                  </a:lnTo>
                  <a:lnTo>
                    <a:pt x="2409" y="2135"/>
                  </a:lnTo>
                  <a:close/>
                  <a:moveTo>
                    <a:pt x="2409" y="3609"/>
                  </a:moveTo>
                  <a:lnTo>
                    <a:pt x="2409" y="4849"/>
                  </a:lnTo>
                  <a:lnTo>
                    <a:pt x="5107" y="4849"/>
                  </a:lnTo>
                  <a:lnTo>
                    <a:pt x="5107" y="3609"/>
                  </a:lnTo>
                  <a:lnTo>
                    <a:pt x="2409" y="3609"/>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图片 1" descr=""/>
          <p:cNvPicPr/>
          <p:nvPr/>
        </p:nvPicPr>
        <p:blipFill>
          <a:blip r:embed="rId1"/>
          <a:stretch/>
        </p:blipFill>
        <p:spPr>
          <a:xfrm>
            <a:off x="8610480" y="0"/>
            <a:ext cx="3581640" cy="1006560"/>
          </a:xfrm>
          <a:prstGeom prst="rect">
            <a:avLst/>
          </a:prstGeom>
          <a:ln w="0">
            <a:noFill/>
          </a:ln>
        </p:spPr>
      </p:pic>
      <p:sp>
        <p:nvSpPr>
          <p:cNvPr id="256"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二部分标题</a:t>
            </a:r>
            <a:endParaRPr b="0" lang="en-US" sz="2800" spc="-1" strike="noStrike">
              <a:solidFill>
                <a:srgbClr val="000000"/>
              </a:solidFill>
              <a:latin typeface="Arial"/>
            </a:endParaRPr>
          </a:p>
        </p:txBody>
      </p:sp>
      <p:pic>
        <p:nvPicPr>
          <p:cNvPr id="257" name="直接连接符 3" descr=""/>
          <p:cNvPicPr/>
          <p:nvPr/>
        </p:nvPicPr>
        <p:blipFill>
          <a:blip r:embed="rId2"/>
          <a:stretch/>
        </p:blipFill>
        <p:spPr>
          <a:xfrm>
            <a:off x="0" y="798480"/>
            <a:ext cx="11192040" cy="23760"/>
          </a:xfrm>
          <a:prstGeom prst="rect">
            <a:avLst/>
          </a:prstGeom>
          <a:ln w="0">
            <a:noFill/>
          </a:ln>
        </p:spPr>
      </p:pic>
      <p:sp>
        <p:nvSpPr>
          <p:cNvPr id="258"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9" name="组合 5"/>
          <p:cNvGrpSpPr/>
          <p:nvPr/>
        </p:nvGrpSpPr>
        <p:grpSpPr>
          <a:xfrm>
            <a:off x="209520" y="125280"/>
            <a:ext cx="638280" cy="638280"/>
            <a:chOff x="209520" y="125280"/>
            <a:chExt cx="638280" cy="638280"/>
          </a:xfrm>
        </p:grpSpPr>
        <p:sp>
          <p:nvSpPr>
            <p:cNvPr id="260" name="椭圆 6"/>
            <p:cNvSpPr/>
            <p:nvPr/>
          </p:nvSpPr>
          <p:spPr>
            <a:xfrm>
              <a:off x="209520" y="125280"/>
              <a:ext cx="6382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椭圆 7"/>
            <p:cNvSpPr/>
            <p:nvPr/>
          </p:nvSpPr>
          <p:spPr>
            <a:xfrm>
              <a:off x="252360" y="168120"/>
              <a:ext cx="5526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KSO_Shape"/>
            <p:cNvSpPr/>
            <p:nvPr/>
          </p:nvSpPr>
          <p:spPr>
            <a:xfrm>
              <a:off x="344520" y="269640"/>
              <a:ext cx="368280" cy="349200"/>
            </a:xfrm>
            <a:custGeom>
              <a:avLst/>
              <a:gdLst/>
              <a:ahLst/>
              <a:rect l="l" t="t" r="r" b="b"/>
              <a:pathLst>
                <a:path w="5871" h="5585">
                  <a:moveTo>
                    <a:pt x="774" y="374"/>
                  </a:moveTo>
                  <a:lnTo>
                    <a:pt x="774" y="1910"/>
                  </a:lnTo>
                  <a:lnTo>
                    <a:pt x="5107" y="1910"/>
                  </a:lnTo>
                  <a:lnTo>
                    <a:pt x="5107" y="374"/>
                  </a:lnTo>
                  <a:lnTo>
                    <a:pt x="774" y="374"/>
                  </a:lnTo>
                  <a:close/>
                  <a:moveTo>
                    <a:pt x="1597" y="3265"/>
                  </a:moveTo>
                  <a:lnTo>
                    <a:pt x="1597" y="3265"/>
                  </a:lnTo>
                  <a:lnTo>
                    <a:pt x="1591" y="3265"/>
                  </a:lnTo>
                  <a:lnTo>
                    <a:pt x="1587" y="3265"/>
                  </a:lnTo>
                  <a:lnTo>
                    <a:pt x="1586" y="3265"/>
                  </a:lnTo>
                  <a:lnTo>
                    <a:pt x="1581" y="3265"/>
                  </a:lnTo>
                  <a:lnTo>
                    <a:pt x="1576" y="3265"/>
                  </a:lnTo>
                  <a:lnTo>
                    <a:pt x="1571" y="3265"/>
                  </a:lnTo>
                  <a:lnTo>
                    <a:pt x="1570" y="3265"/>
                  </a:lnTo>
                  <a:lnTo>
                    <a:pt x="1566" y="3265"/>
                  </a:lnTo>
                  <a:lnTo>
                    <a:pt x="1560" y="3265"/>
                  </a:lnTo>
                  <a:lnTo>
                    <a:pt x="1555" y="3265"/>
                  </a:lnTo>
                  <a:lnTo>
                    <a:pt x="1550" y="3265"/>
                  </a:lnTo>
                  <a:lnTo>
                    <a:pt x="1545" y="3265"/>
                  </a:lnTo>
                  <a:lnTo>
                    <a:pt x="1540" y="3265"/>
                  </a:lnTo>
                  <a:lnTo>
                    <a:pt x="1539" y="3265"/>
                  </a:lnTo>
                  <a:lnTo>
                    <a:pt x="1535" y="3265"/>
                  </a:lnTo>
                  <a:lnTo>
                    <a:pt x="1529" y="3265"/>
                  </a:lnTo>
                  <a:lnTo>
                    <a:pt x="1525" y="3265"/>
                  </a:lnTo>
                  <a:lnTo>
                    <a:pt x="1524" y="3265"/>
                  </a:lnTo>
                  <a:lnTo>
                    <a:pt x="1519" y="3265"/>
                  </a:lnTo>
                  <a:lnTo>
                    <a:pt x="1514" y="3265"/>
                  </a:lnTo>
                  <a:lnTo>
                    <a:pt x="1509" y="3265"/>
                  </a:lnTo>
                  <a:lnTo>
                    <a:pt x="1508" y="3265"/>
                  </a:lnTo>
                  <a:lnTo>
                    <a:pt x="1504" y="3265"/>
                  </a:lnTo>
                  <a:lnTo>
                    <a:pt x="1498" y="3265"/>
                  </a:lnTo>
                  <a:lnTo>
                    <a:pt x="1494" y="3265"/>
                  </a:lnTo>
                  <a:lnTo>
                    <a:pt x="1493" y="3265"/>
                  </a:lnTo>
                  <a:lnTo>
                    <a:pt x="1488" y="3265"/>
                  </a:lnTo>
                  <a:lnTo>
                    <a:pt x="1483" y="3265"/>
                  </a:lnTo>
                  <a:lnTo>
                    <a:pt x="1478" y="3265"/>
                  </a:lnTo>
                  <a:lnTo>
                    <a:pt x="1477" y="3265"/>
                  </a:lnTo>
                  <a:lnTo>
                    <a:pt x="1473" y="3265"/>
                  </a:lnTo>
                  <a:lnTo>
                    <a:pt x="1467" y="3265"/>
                  </a:lnTo>
                  <a:lnTo>
                    <a:pt x="1463" y="3265"/>
                  </a:lnTo>
                  <a:lnTo>
                    <a:pt x="1462" y="3265"/>
                  </a:lnTo>
                  <a:lnTo>
                    <a:pt x="1457" y="3265"/>
                  </a:lnTo>
                  <a:lnTo>
                    <a:pt x="1452" y="3265"/>
                  </a:lnTo>
                  <a:lnTo>
                    <a:pt x="1446" y="3265"/>
                  </a:lnTo>
                  <a:lnTo>
                    <a:pt x="1442" y="3265"/>
                  </a:lnTo>
                  <a:lnTo>
                    <a:pt x="1266" y="3265"/>
                  </a:lnTo>
                  <a:lnTo>
                    <a:pt x="1345" y="3830"/>
                  </a:lnTo>
                  <a:lnTo>
                    <a:pt x="1294" y="3911"/>
                  </a:lnTo>
                  <a:lnTo>
                    <a:pt x="1345" y="3977"/>
                  </a:lnTo>
                  <a:lnTo>
                    <a:pt x="1117" y="4116"/>
                  </a:lnTo>
                  <a:lnTo>
                    <a:pt x="1112" y="4144"/>
                  </a:lnTo>
                  <a:lnTo>
                    <a:pt x="1106" y="4173"/>
                  </a:lnTo>
                  <a:lnTo>
                    <a:pt x="1103" y="4201"/>
                  </a:lnTo>
                  <a:lnTo>
                    <a:pt x="1099" y="4228"/>
                  </a:lnTo>
                  <a:lnTo>
                    <a:pt x="1097" y="4255"/>
                  </a:lnTo>
                  <a:lnTo>
                    <a:pt x="1096" y="4281"/>
                  </a:lnTo>
                  <a:lnTo>
                    <a:pt x="1096" y="4308"/>
                  </a:lnTo>
                  <a:lnTo>
                    <a:pt x="1096" y="4333"/>
                  </a:lnTo>
                  <a:lnTo>
                    <a:pt x="1097" y="4359"/>
                  </a:lnTo>
                  <a:lnTo>
                    <a:pt x="1098" y="4383"/>
                  </a:lnTo>
                  <a:lnTo>
                    <a:pt x="1100" y="4407"/>
                  </a:lnTo>
                  <a:lnTo>
                    <a:pt x="1104" y="4432"/>
                  </a:lnTo>
                  <a:lnTo>
                    <a:pt x="1112" y="4478"/>
                  </a:lnTo>
                  <a:lnTo>
                    <a:pt x="1121" y="4523"/>
                  </a:lnTo>
                  <a:lnTo>
                    <a:pt x="1133" y="4568"/>
                  </a:lnTo>
                  <a:lnTo>
                    <a:pt x="1147" y="4611"/>
                  </a:lnTo>
                  <a:lnTo>
                    <a:pt x="1162" y="4653"/>
                  </a:lnTo>
                  <a:lnTo>
                    <a:pt x="1179" y="4694"/>
                  </a:lnTo>
                  <a:lnTo>
                    <a:pt x="1198" y="4733"/>
                  </a:lnTo>
                  <a:lnTo>
                    <a:pt x="1218" y="4772"/>
                  </a:lnTo>
                  <a:lnTo>
                    <a:pt x="1238" y="4812"/>
                  </a:lnTo>
                  <a:lnTo>
                    <a:pt x="1259" y="4849"/>
                  </a:lnTo>
                  <a:lnTo>
                    <a:pt x="774" y="4849"/>
                  </a:lnTo>
                  <a:lnTo>
                    <a:pt x="774" y="2135"/>
                  </a:lnTo>
                  <a:lnTo>
                    <a:pt x="2185" y="2135"/>
                  </a:lnTo>
                  <a:lnTo>
                    <a:pt x="2185" y="4849"/>
                  </a:lnTo>
                  <a:lnTo>
                    <a:pt x="1780" y="4849"/>
                  </a:lnTo>
                  <a:lnTo>
                    <a:pt x="1801" y="4812"/>
                  </a:lnTo>
                  <a:lnTo>
                    <a:pt x="1821" y="4772"/>
                  </a:lnTo>
                  <a:lnTo>
                    <a:pt x="1841" y="4733"/>
                  </a:lnTo>
                  <a:lnTo>
                    <a:pt x="1859" y="4694"/>
                  </a:lnTo>
                  <a:lnTo>
                    <a:pt x="1876" y="4653"/>
                  </a:lnTo>
                  <a:lnTo>
                    <a:pt x="1892" y="4611"/>
                  </a:lnTo>
                  <a:lnTo>
                    <a:pt x="1905" y="4568"/>
                  </a:lnTo>
                  <a:lnTo>
                    <a:pt x="1917" y="4523"/>
                  </a:lnTo>
                  <a:lnTo>
                    <a:pt x="1927" y="4478"/>
                  </a:lnTo>
                  <a:lnTo>
                    <a:pt x="1935" y="4432"/>
                  </a:lnTo>
                  <a:lnTo>
                    <a:pt x="1938" y="4407"/>
                  </a:lnTo>
                  <a:lnTo>
                    <a:pt x="1941" y="4383"/>
                  </a:lnTo>
                  <a:lnTo>
                    <a:pt x="1942" y="4359"/>
                  </a:lnTo>
                  <a:lnTo>
                    <a:pt x="1943" y="4333"/>
                  </a:lnTo>
                  <a:lnTo>
                    <a:pt x="1943" y="4308"/>
                  </a:lnTo>
                  <a:lnTo>
                    <a:pt x="1942" y="4281"/>
                  </a:lnTo>
                  <a:lnTo>
                    <a:pt x="1941" y="4255"/>
                  </a:lnTo>
                  <a:lnTo>
                    <a:pt x="1938" y="4228"/>
                  </a:lnTo>
                  <a:lnTo>
                    <a:pt x="1936" y="4201"/>
                  </a:lnTo>
                  <a:lnTo>
                    <a:pt x="1932" y="4173"/>
                  </a:lnTo>
                  <a:lnTo>
                    <a:pt x="1927" y="4144"/>
                  </a:lnTo>
                  <a:lnTo>
                    <a:pt x="1922" y="4116"/>
                  </a:lnTo>
                  <a:lnTo>
                    <a:pt x="1694" y="3977"/>
                  </a:lnTo>
                  <a:lnTo>
                    <a:pt x="1745" y="3911"/>
                  </a:lnTo>
                  <a:lnTo>
                    <a:pt x="1694" y="3830"/>
                  </a:lnTo>
                  <a:lnTo>
                    <a:pt x="1771" y="3265"/>
                  </a:lnTo>
                  <a:lnTo>
                    <a:pt x="1597" y="3265"/>
                  </a:lnTo>
                  <a:close/>
                  <a:moveTo>
                    <a:pt x="4819" y="863"/>
                  </a:moveTo>
                  <a:lnTo>
                    <a:pt x="4819" y="1057"/>
                  </a:lnTo>
                  <a:lnTo>
                    <a:pt x="3585" y="1057"/>
                  </a:lnTo>
                  <a:lnTo>
                    <a:pt x="3585" y="863"/>
                  </a:lnTo>
                  <a:lnTo>
                    <a:pt x="4819" y="863"/>
                  </a:lnTo>
                  <a:close/>
                  <a:moveTo>
                    <a:pt x="5002" y="1108"/>
                  </a:moveTo>
                  <a:lnTo>
                    <a:pt x="5002" y="1379"/>
                  </a:lnTo>
                  <a:lnTo>
                    <a:pt x="3769" y="1379"/>
                  </a:lnTo>
                  <a:lnTo>
                    <a:pt x="3769" y="1108"/>
                  </a:lnTo>
                  <a:lnTo>
                    <a:pt x="5002" y="1108"/>
                  </a:lnTo>
                  <a:close/>
                  <a:moveTo>
                    <a:pt x="4891" y="1429"/>
                  </a:moveTo>
                  <a:lnTo>
                    <a:pt x="4891" y="1623"/>
                  </a:lnTo>
                  <a:lnTo>
                    <a:pt x="3657" y="1623"/>
                  </a:lnTo>
                  <a:lnTo>
                    <a:pt x="3657" y="1429"/>
                  </a:lnTo>
                  <a:lnTo>
                    <a:pt x="4891" y="1429"/>
                  </a:lnTo>
                  <a:close/>
                  <a:moveTo>
                    <a:pt x="4977" y="1659"/>
                  </a:moveTo>
                  <a:lnTo>
                    <a:pt x="4977" y="1853"/>
                  </a:lnTo>
                  <a:lnTo>
                    <a:pt x="3743" y="1853"/>
                  </a:lnTo>
                  <a:lnTo>
                    <a:pt x="3743" y="1659"/>
                  </a:lnTo>
                  <a:lnTo>
                    <a:pt x="4977" y="1659"/>
                  </a:lnTo>
                  <a:close/>
                  <a:moveTo>
                    <a:pt x="1643" y="596"/>
                  </a:moveTo>
                  <a:lnTo>
                    <a:pt x="1833" y="561"/>
                  </a:lnTo>
                  <a:lnTo>
                    <a:pt x="2061" y="1773"/>
                  </a:lnTo>
                  <a:lnTo>
                    <a:pt x="1871" y="1809"/>
                  </a:lnTo>
                  <a:lnTo>
                    <a:pt x="1643" y="596"/>
                  </a:lnTo>
                  <a:close/>
                  <a:moveTo>
                    <a:pt x="1388" y="596"/>
                  </a:moveTo>
                  <a:lnTo>
                    <a:pt x="1579" y="561"/>
                  </a:lnTo>
                  <a:lnTo>
                    <a:pt x="1807" y="1773"/>
                  </a:lnTo>
                  <a:lnTo>
                    <a:pt x="1616" y="1809"/>
                  </a:lnTo>
                  <a:lnTo>
                    <a:pt x="1388" y="596"/>
                  </a:lnTo>
                  <a:close/>
                  <a:moveTo>
                    <a:pt x="1134" y="596"/>
                  </a:moveTo>
                  <a:lnTo>
                    <a:pt x="1324" y="561"/>
                  </a:lnTo>
                  <a:lnTo>
                    <a:pt x="1551" y="1773"/>
                  </a:lnTo>
                  <a:lnTo>
                    <a:pt x="1361" y="1809"/>
                  </a:lnTo>
                  <a:lnTo>
                    <a:pt x="1134" y="596"/>
                  </a:lnTo>
                  <a:close/>
                  <a:moveTo>
                    <a:pt x="884" y="568"/>
                  </a:moveTo>
                  <a:lnTo>
                    <a:pt x="1077" y="568"/>
                  </a:lnTo>
                  <a:lnTo>
                    <a:pt x="1077" y="1802"/>
                  </a:lnTo>
                  <a:lnTo>
                    <a:pt x="884" y="1802"/>
                  </a:lnTo>
                  <a:lnTo>
                    <a:pt x="884" y="568"/>
                  </a:lnTo>
                  <a:close/>
                  <a:moveTo>
                    <a:pt x="3540" y="2418"/>
                  </a:moveTo>
                  <a:lnTo>
                    <a:pt x="3807" y="2354"/>
                  </a:lnTo>
                  <a:lnTo>
                    <a:pt x="4033" y="3306"/>
                  </a:lnTo>
                  <a:lnTo>
                    <a:pt x="3765" y="3369"/>
                  </a:lnTo>
                  <a:lnTo>
                    <a:pt x="3540" y="2418"/>
                  </a:lnTo>
                  <a:close/>
                  <a:moveTo>
                    <a:pt x="3622" y="2531"/>
                  </a:moveTo>
                  <a:lnTo>
                    <a:pt x="3639" y="2606"/>
                  </a:lnTo>
                  <a:lnTo>
                    <a:pt x="3791" y="2570"/>
                  </a:lnTo>
                  <a:lnTo>
                    <a:pt x="3773" y="2496"/>
                  </a:lnTo>
                  <a:lnTo>
                    <a:pt x="3622" y="2531"/>
                  </a:lnTo>
                  <a:close/>
                  <a:moveTo>
                    <a:pt x="3739" y="3028"/>
                  </a:moveTo>
                  <a:lnTo>
                    <a:pt x="3776" y="3184"/>
                  </a:lnTo>
                  <a:lnTo>
                    <a:pt x="3928" y="3148"/>
                  </a:lnTo>
                  <a:lnTo>
                    <a:pt x="3890" y="2991"/>
                  </a:lnTo>
                  <a:lnTo>
                    <a:pt x="3739" y="3028"/>
                  </a:lnTo>
                  <a:close/>
                  <a:moveTo>
                    <a:pt x="3193" y="2418"/>
                  </a:moveTo>
                  <a:lnTo>
                    <a:pt x="3418" y="3369"/>
                  </a:lnTo>
                  <a:lnTo>
                    <a:pt x="3687" y="3306"/>
                  </a:lnTo>
                  <a:lnTo>
                    <a:pt x="3461" y="2354"/>
                  </a:lnTo>
                  <a:lnTo>
                    <a:pt x="3193" y="2418"/>
                  </a:lnTo>
                  <a:close/>
                  <a:moveTo>
                    <a:pt x="3276" y="2531"/>
                  </a:moveTo>
                  <a:lnTo>
                    <a:pt x="3426" y="2496"/>
                  </a:lnTo>
                  <a:lnTo>
                    <a:pt x="3444" y="2570"/>
                  </a:lnTo>
                  <a:lnTo>
                    <a:pt x="3292" y="2606"/>
                  </a:lnTo>
                  <a:lnTo>
                    <a:pt x="3276" y="2531"/>
                  </a:lnTo>
                  <a:close/>
                  <a:moveTo>
                    <a:pt x="3393" y="3028"/>
                  </a:moveTo>
                  <a:lnTo>
                    <a:pt x="3429" y="3184"/>
                  </a:lnTo>
                  <a:lnTo>
                    <a:pt x="3581" y="3148"/>
                  </a:lnTo>
                  <a:lnTo>
                    <a:pt x="3544" y="2991"/>
                  </a:lnTo>
                  <a:lnTo>
                    <a:pt x="3393" y="3028"/>
                  </a:lnTo>
                  <a:close/>
                  <a:moveTo>
                    <a:pt x="2841" y="2418"/>
                  </a:moveTo>
                  <a:lnTo>
                    <a:pt x="3109" y="2354"/>
                  </a:lnTo>
                  <a:lnTo>
                    <a:pt x="3335" y="3306"/>
                  </a:lnTo>
                  <a:lnTo>
                    <a:pt x="3067" y="3369"/>
                  </a:lnTo>
                  <a:lnTo>
                    <a:pt x="2841" y="2418"/>
                  </a:lnTo>
                  <a:close/>
                  <a:moveTo>
                    <a:pt x="2923" y="2531"/>
                  </a:moveTo>
                  <a:lnTo>
                    <a:pt x="2941" y="2606"/>
                  </a:lnTo>
                  <a:lnTo>
                    <a:pt x="3092" y="2570"/>
                  </a:lnTo>
                  <a:lnTo>
                    <a:pt x="3075" y="2496"/>
                  </a:lnTo>
                  <a:lnTo>
                    <a:pt x="2923" y="2531"/>
                  </a:lnTo>
                  <a:close/>
                  <a:moveTo>
                    <a:pt x="3041" y="3028"/>
                  </a:moveTo>
                  <a:lnTo>
                    <a:pt x="3192" y="2991"/>
                  </a:lnTo>
                  <a:lnTo>
                    <a:pt x="3229" y="3148"/>
                  </a:lnTo>
                  <a:lnTo>
                    <a:pt x="3078" y="3184"/>
                  </a:lnTo>
                  <a:lnTo>
                    <a:pt x="3041" y="3028"/>
                  </a:lnTo>
                  <a:close/>
                  <a:moveTo>
                    <a:pt x="2553" y="2372"/>
                  </a:moveTo>
                  <a:lnTo>
                    <a:pt x="2828" y="2372"/>
                  </a:lnTo>
                  <a:lnTo>
                    <a:pt x="2828" y="3352"/>
                  </a:lnTo>
                  <a:lnTo>
                    <a:pt x="2553" y="3352"/>
                  </a:lnTo>
                  <a:lnTo>
                    <a:pt x="2553" y="2372"/>
                  </a:lnTo>
                  <a:close/>
                  <a:moveTo>
                    <a:pt x="2606" y="2503"/>
                  </a:moveTo>
                  <a:lnTo>
                    <a:pt x="2606" y="2579"/>
                  </a:lnTo>
                  <a:lnTo>
                    <a:pt x="2762" y="2579"/>
                  </a:lnTo>
                  <a:lnTo>
                    <a:pt x="2762" y="2503"/>
                  </a:lnTo>
                  <a:lnTo>
                    <a:pt x="2606" y="2503"/>
                  </a:lnTo>
                  <a:close/>
                  <a:moveTo>
                    <a:pt x="2606" y="3012"/>
                  </a:moveTo>
                  <a:lnTo>
                    <a:pt x="2606" y="3173"/>
                  </a:lnTo>
                  <a:lnTo>
                    <a:pt x="2762" y="3173"/>
                  </a:lnTo>
                  <a:lnTo>
                    <a:pt x="2762" y="3012"/>
                  </a:lnTo>
                  <a:lnTo>
                    <a:pt x="2606" y="3012"/>
                  </a:lnTo>
                  <a:close/>
                  <a:moveTo>
                    <a:pt x="5555" y="151"/>
                  </a:moveTo>
                  <a:lnTo>
                    <a:pt x="5555" y="374"/>
                  </a:lnTo>
                  <a:lnTo>
                    <a:pt x="5555" y="4849"/>
                  </a:lnTo>
                  <a:lnTo>
                    <a:pt x="5871" y="4849"/>
                  </a:lnTo>
                  <a:lnTo>
                    <a:pt x="5871" y="5585"/>
                  </a:lnTo>
                  <a:lnTo>
                    <a:pt x="0" y="5585"/>
                  </a:lnTo>
                  <a:lnTo>
                    <a:pt x="0" y="4849"/>
                  </a:lnTo>
                  <a:lnTo>
                    <a:pt x="326" y="4849"/>
                  </a:lnTo>
                  <a:lnTo>
                    <a:pt x="326" y="374"/>
                  </a:lnTo>
                  <a:lnTo>
                    <a:pt x="326" y="151"/>
                  </a:lnTo>
                  <a:lnTo>
                    <a:pt x="326" y="0"/>
                  </a:lnTo>
                  <a:lnTo>
                    <a:pt x="5555" y="0"/>
                  </a:lnTo>
                  <a:lnTo>
                    <a:pt x="5555" y="151"/>
                  </a:lnTo>
                  <a:close/>
                  <a:moveTo>
                    <a:pt x="2409" y="2135"/>
                  </a:moveTo>
                  <a:lnTo>
                    <a:pt x="2409" y="3385"/>
                  </a:lnTo>
                  <a:lnTo>
                    <a:pt x="5107" y="3385"/>
                  </a:lnTo>
                  <a:lnTo>
                    <a:pt x="5107" y="2135"/>
                  </a:lnTo>
                  <a:lnTo>
                    <a:pt x="2409" y="2135"/>
                  </a:lnTo>
                  <a:close/>
                  <a:moveTo>
                    <a:pt x="2409" y="3609"/>
                  </a:moveTo>
                  <a:lnTo>
                    <a:pt x="2409" y="4849"/>
                  </a:lnTo>
                  <a:lnTo>
                    <a:pt x="5107" y="4849"/>
                  </a:lnTo>
                  <a:lnTo>
                    <a:pt x="5107" y="3609"/>
                  </a:lnTo>
                  <a:lnTo>
                    <a:pt x="2409" y="3609"/>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63" name="MH_SubTitle_1"/>
          <p:cNvSpPr/>
          <p:nvPr/>
        </p:nvSpPr>
        <p:spPr>
          <a:xfrm>
            <a:off x="1681200" y="1870200"/>
            <a:ext cx="2709720" cy="1730160"/>
          </a:xfrm>
          <a:prstGeom prst="rect">
            <a:avLst/>
          </a:prstGeom>
          <a:noFill/>
          <a:ln w="19080">
            <a:solidFill>
              <a:srgbClr val="4b649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MH_SubTitle_2"/>
          <p:cNvSpPr/>
          <p:nvPr/>
        </p:nvSpPr>
        <p:spPr>
          <a:xfrm>
            <a:off x="4705200" y="1870200"/>
            <a:ext cx="2710080" cy="1730160"/>
          </a:xfrm>
          <a:prstGeom prst="rect">
            <a:avLst/>
          </a:prstGeom>
          <a:noFill/>
          <a:ln w="19080">
            <a:solidFill>
              <a:srgbClr val="4b649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MH_SubTitle_3"/>
          <p:cNvSpPr/>
          <p:nvPr/>
        </p:nvSpPr>
        <p:spPr>
          <a:xfrm>
            <a:off x="7729560" y="1870200"/>
            <a:ext cx="2708280" cy="1730160"/>
          </a:xfrm>
          <a:prstGeom prst="rect">
            <a:avLst/>
          </a:prstGeom>
          <a:noFill/>
          <a:ln w="19080">
            <a:solidFill>
              <a:srgbClr val="4b649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MH_SubTitle_4"/>
          <p:cNvSpPr/>
          <p:nvPr/>
        </p:nvSpPr>
        <p:spPr>
          <a:xfrm>
            <a:off x="1681200" y="4062240"/>
            <a:ext cx="2709720" cy="1730520"/>
          </a:xfrm>
          <a:prstGeom prst="rect">
            <a:avLst/>
          </a:prstGeom>
          <a:noFill/>
          <a:ln w="19080">
            <a:solidFill>
              <a:srgbClr val="4b649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MH_SubTitle_5"/>
          <p:cNvSpPr/>
          <p:nvPr/>
        </p:nvSpPr>
        <p:spPr>
          <a:xfrm>
            <a:off x="4705200" y="4062240"/>
            <a:ext cx="2710080" cy="1730520"/>
          </a:xfrm>
          <a:prstGeom prst="rect">
            <a:avLst/>
          </a:prstGeom>
          <a:noFill/>
          <a:ln w="19080">
            <a:solidFill>
              <a:srgbClr val="4b649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MH_SubTitle_6"/>
          <p:cNvSpPr/>
          <p:nvPr/>
        </p:nvSpPr>
        <p:spPr>
          <a:xfrm>
            <a:off x="7729560" y="4062240"/>
            <a:ext cx="2708280" cy="1730520"/>
          </a:xfrm>
          <a:prstGeom prst="rect">
            <a:avLst/>
          </a:prstGeom>
          <a:noFill/>
          <a:ln w="19080">
            <a:solidFill>
              <a:srgbClr val="4b649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MH_Other_1"/>
          <p:cNvSpPr/>
          <p:nvPr/>
        </p:nvSpPr>
        <p:spPr>
          <a:xfrm>
            <a:off x="3567240" y="1695600"/>
            <a:ext cx="598320" cy="539640"/>
          </a:xfrm>
          <a:prstGeom prst="pie">
            <a:avLst/>
          </a:prstGeom>
          <a:solidFill>
            <a:srgbClr val="4b649f"/>
          </a:solidFill>
          <a:ln w="0">
            <a:noFill/>
          </a:ln>
        </p:spPr>
        <p:style>
          <a:lnRef idx="0"/>
          <a:fillRef idx="0"/>
          <a:effectRef idx="0"/>
          <a:fontRef idx="minor"/>
        </p:style>
        <p:txBody>
          <a:bodyPr lIns="0" rIns="0" tIns="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ea typeface="微软雅黑"/>
              </a:rPr>
              <a:t>01</a:t>
            </a:r>
            <a:endParaRPr b="0" lang="en-US" sz="2000" spc="-1" strike="noStrike">
              <a:solidFill>
                <a:srgbClr val="000000"/>
              </a:solidFill>
              <a:latin typeface="Arial"/>
            </a:endParaRPr>
          </a:p>
        </p:txBody>
      </p:sp>
      <p:sp>
        <p:nvSpPr>
          <p:cNvPr id="270" name="MH_Other_2"/>
          <p:cNvSpPr/>
          <p:nvPr/>
        </p:nvSpPr>
        <p:spPr>
          <a:xfrm>
            <a:off x="6593040" y="1695600"/>
            <a:ext cx="596880" cy="539640"/>
          </a:xfrm>
          <a:prstGeom prst="pie">
            <a:avLst/>
          </a:prstGeom>
          <a:solidFill>
            <a:srgbClr val="4b649f"/>
          </a:solidFill>
          <a:ln w="0">
            <a:noFill/>
          </a:ln>
        </p:spPr>
        <p:style>
          <a:lnRef idx="0"/>
          <a:fillRef idx="0"/>
          <a:effectRef idx="0"/>
          <a:fontRef idx="minor"/>
        </p:style>
        <p:txBody>
          <a:bodyPr lIns="0" rIns="0" tIns="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ea typeface="微软雅黑"/>
              </a:rPr>
              <a:t>02</a:t>
            </a:r>
            <a:endParaRPr b="0" lang="en-US" sz="2000" spc="-1" strike="noStrike">
              <a:solidFill>
                <a:srgbClr val="000000"/>
              </a:solidFill>
              <a:latin typeface="Arial"/>
            </a:endParaRPr>
          </a:p>
        </p:txBody>
      </p:sp>
      <p:sp>
        <p:nvSpPr>
          <p:cNvPr id="271" name="MH_Other_3"/>
          <p:cNvSpPr/>
          <p:nvPr/>
        </p:nvSpPr>
        <p:spPr>
          <a:xfrm>
            <a:off x="9617040" y="1695600"/>
            <a:ext cx="598680" cy="539640"/>
          </a:xfrm>
          <a:prstGeom prst="pie">
            <a:avLst/>
          </a:prstGeom>
          <a:solidFill>
            <a:srgbClr val="4b649f"/>
          </a:solidFill>
          <a:ln w="0">
            <a:noFill/>
          </a:ln>
        </p:spPr>
        <p:style>
          <a:lnRef idx="0"/>
          <a:fillRef idx="0"/>
          <a:effectRef idx="0"/>
          <a:fontRef idx="minor"/>
        </p:style>
        <p:txBody>
          <a:bodyPr lIns="0" rIns="0" tIns="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ea typeface="微软雅黑"/>
              </a:rPr>
              <a:t>03</a:t>
            </a:r>
            <a:endParaRPr b="0" lang="en-US" sz="2000" spc="-1" strike="noStrike">
              <a:solidFill>
                <a:srgbClr val="000000"/>
              </a:solidFill>
              <a:latin typeface="Arial"/>
            </a:endParaRPr>
          </a:p>
        </p:txBody>
      </p:sp>
      <p:sp>
        <p:nvSpPr>
          <p:cNvPr id="272" name="MH_Other_4"/>
          <p:cNvSpPr/>
          <p:nvPr/>
        </p:nvSpPr>
        <p:spPr>
          <a:xfrm>
            <a:off x="3567240" y="3889440"/>
            <a:ext cx="598320" cy="538200"/>
          </a:xfrm>
          <a:prstGeom prst="pie">
            <a:avLst/>
          </a:prstGeom>
          <a:solidFill>
            <a:srgbClr val="4b649f"/>
          </a:solidFill>
          <a:ln w="0">
            <a:noFill/>
          </a:ln>
        </p:spPr>
        <p:style>
          <a:lnRef idx="0"/>
          <a:fillRef idx="0"/>
          <a:effectRef idx="0"/>
          <a:fontRef idx="minor"/>
        </p:style>
        <p:txBody>
          <a:bodyPr lIns="0" rIns="0" tIns="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ea typeface="微软雅黑"/>
              </a:rPr>
              <a:t>04</a:t>
            </a:r>
            <a:endParaRPr b="0" lang="en-US" sz="2000" spc="-1" strike="noStrike">
              <a:solidFill>
                <a:srgbClr val="000000"/>
              </a:solidFill>
              <a:latin typeface="Arial"/>
            </a:endParaRPr>
          </a:p>
        </p:txBody>
      </p:sp>
      <p:sp>
        <p:nvSpPr>
          <p:cNvPr id="273" name="MH_Other_5"/>
          <p:cNvSpPr/>
          <p:nvPr/>
        </p:nvSpPr>
        <p:spPr>
          <a:xfrm>
            <a:off x="6593040" y="3889440"/>
            <a:ext cx="596880" cy="538200"/>
          </a:xfrm>
          <a:prstGeom prst="pie">
            <a:avLst/>
          </a:prstGeom>
          <a:solidFill>
            <a:srgbClr val="4b649f"/>
          </a:solidFill>
          <a:ln w="0">
            <a:noFill/>
          </a:ln>
        </p:spPr>
        <p:style>
          <a:lnRef idx="0"/>
          <a:fillRef idx="0"/>
          <a:effectRef idx="0"/>
          <a:fontRef idx="minor"/>
        </p:style>
        <p:txBody>
          <a:bodyPr lIns="0" rIns="0" tIns="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ea typeface="微软雅黑"/>
              </a:rPr>
              <a:t>05</a:t>
            </a:r>
            <a:endParaRPr b="0" lang="en-US" sz="2000" spc="-1" strike="noStrike">
              <a:solidFill>
                <a:srgbClr val="000000"/>
              </a:solidFill>
              <a:latin typeface="Arial"/>
            </a:endParaRPr>
          </a:p>
        </p:txBody>
      </p:sp>
      <p:sp>
        <p:nvSpPr>
          <p:cNvPr id="274" name="MH_Other_6"/>
          <p:cNvSpPr/>
          <p:nvPr/>
        </p:nvSpPr>
        <p:spPr>
          <a:xfrm>
            <a:off x="9617040" y="3889440"/>
            <a:ext cx="598680" cy="538200"/>
          </a:xfrm>
          <a:prstGeom prst="pie">
            <a:avLst/>
          </a:prstGeom>
          <a:solidFill>
            <a:srgbClr val="4b649f"/>
          </a:solidFill>
          <a:ln w="0">
            <a:noFill/>
          </a:ln>
        </p:spPr>
        <p:style>
          <a:lnRef idx="0"/>
          <a:fillRef idx="0"/>
          <a:effectRef idx="0"/>
          <a:fontRef idx="minor"/>
        </p:style>
        <p:txBody>
          <a:bodyPr lIns="0" rIns="0" tIns="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ea typeface="微软雅黑"/>
              </a:rPr>
              <a:t>06</a:t>
            </a:r>
            <a:endParaRPr b="0" lang="en-US" sz="2000" spc="-1" strike="noStrike">
              <a:solidFill>
                <a:srgbClr val="000000"/>
              </a:solidFill>
              <a:latin typeface="Arial"/>
            </a:endParaRPr>
          </a:p>
        </p:txBody>
      </p:sp>
      <p:sp>
        <p:nvSpPr>
          <p:cNvPr id="275" name="文本框 21"/>
          <p:cNvSpPr/>
          <p:nvPr/>
        </p:nvSpPr>
        <p:spPr>
          <a:xfrm>
            <a:off x="1881360" y="2332080"/>
            <a:ext cx="22842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76" name="文本框 22"/>
          <p:cNvSpPr/>
          <p:nvPr/>
        </p:nvSpPr>
        <p:spPr>
          <a:xfrm>
            <a:off x="4906800" y="2332080"/>
            <a:ext cx="228312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77" name="文本框 23"/>
          <p:cNvSpPr/>
          <p:nvPr/>
        </p:nvSpPr>
        <p:spPr>
          <a:xfrm>
            <a:off x="7942320" y="2332080"/>
            <a:ext cx="22842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78" name="文本框 24"/>
          <p:cNvSpPr/>
          <p:nvPr/>
        </p:nvSpPr>
        <p:spPr>
          <a:xfrm>
            <a:off x="1881360" y="4459320"/>
            <a:ext cx="22842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79" name="文本框 25"/>
          <p:cNvSpPr/>
          <p:nvPr/>
        </p:nvSpPr>
        <p:spPr>
          <a:xfrm>
            <a:off x="4906800" y="4459320"/>
            <a:ext cx="228312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80" name="文本框 26"/>
          <p:cNvSpPr/>
          <p:nvPr/>
        </p:nvSpPr>
        <p:spPr>
          <a:xfrm>
            <a:off x="7942320" y="4459320"/>
            <a:ext cx="22842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图片 1" descr=""/>
          <p:cNvPicPr/>
          <p:nvPr/>
        </p:nvPicPr>
        <p:blipFill>
          <a:blip r:embed="rId1"/>
          <a:stretch/>
        </p:blipFill>
        <p:spPr>
          <a:xfrm>
            <a:off x="8610480" y="0"/>
            <a:ext cx="3581640" cy="1006560"/>
          </a:xfrm>
          <a:prstGeom prst="rect">
            <a:avLst/>
          </a:prstGeom>
          <a:ln w="0">
            <a:noFill/>
          </a:ln>
        </p:spPr>
      </p:pic>
      <p:sp>
        <p:nvSpPr>
          <p:cNvPr id="282"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二部分标题</a:t>
            </a:r>
            <a:endParaRPr b="0" lang="en-US" sz="2800" spc="-1" strike="noStrike">
              <a:solidFill>
                <a:srgbClr val="000000"/>
              </a:solidFill>
              <a:latin typeface="Arial"/>
            </a:endParaRPr>
          </a:p>
        </p:txBody>
      </p:sp>
      <p:pic>
        <p:nvPicPr>
          <p:cNvPr id="283" name="直接连接符 3" descr=""/>
          <p:cNvPicPr/>
          <p:nvPr/>
        </p:nvPicPr>
        <p:blipFill>
          <a:blip r:embed="rId2"/>
          <a:stretch/>
        </p:blipFill>
        <p:spPr>
          <a:xfrm>
            <a:off x="0" y="798480"/>
            <a:ext cx="11192040" cy="23760"/>
          </a:xfrm>
          <a:prstGeom prst="rect">
            <a:avLst/>
          </a:prstGeom>
          <a:ln w="0">
            <a:noFill/>
          </a:ln>
        </p:spPr>
      </p:pic>
      <p:sp>
        <p:nvSpPr>
          <p:cNvPr id="284"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5" name="组合 5"/>
          <p:cNvGrpSpPr/>
          <p:nvPr/>
        </p:nvGrpSpPr>
        <p:grpSpPr>
          <a:xfrm>
            <a:off x="209520" y="125280"/>
            <a:ext cx="638280" cy="638280"/>
            <a:chOff x="209520" y="125280"/>
            <a:chExt cx="638280" cy="638280"/>
          </a:xfrm>
        </p:grpSpPr>
        <p:sp>
          <p:nvSpPr>
            <p:cNvPr id="286" name="椭圆 6"/>
            <p:cNvSpPr/>
            <p:nvPr/>
          </p:nvSpPr>
          <p:spPr>
            <a:xfrm>
              <a:off x="209520" y="125280"/>
              <a:ext cx="6382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椭圆 7"/>
            <p:cNvSpPr/>
            <p:nvPr/>
          </p:nvSpPr>
          <p:spPr>
            <a:xfrm>
              <a:off x="252360" y="168120"/>
              <a:ext cx="5526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KSO_Shape"/>
            <p:cNvSpPr/>
            <p:nvPr/>
          </p:nvSpPr>
          <p:spPr>
            <a:xfrm>
              <a:off x="344520" y="269640"/>
              <a:ext cx="368280" cy="349200"/>
            </a:xfrm>
            <a:custGeom>
              <a:avLst/>
              <a:gdLst/>
              <a:ahLst/>
              <a:rect l="l" t="t" r="r" b="b"/>
              <a:pathLst>
                <a:path w="5871" h="5585">
                  <a:moveTo>
                    <a:pt x="774" y="374"/>
                  </a:moveTo>
                  <a:lnTo>
                    <a:pt x="774" y="1910"/>
                  </a:lnTo>
                  <a:lnTo>
                    <a:pt x="5107" y="1910"/>
                  </a:lnTo>
                  <a:lnTo>
                    <a:pt x="5107" y="374"/>
                  </a:lnTo>
                  <a:lnTo>
                    <a:pt x="774" y="374"/>
                  </a:lnTo>
                  <a:close/>
                  <a:moveTo>
                    <a:pt x="1597" y="3265"/>
                  </a:moveTo>
                  <a:lnTo>
                    <a:pt x="1597" y="3265"/>
                  </a:lnTo>
                  <a:lnTo>
                    <a:pt x="1591" y="3265"/>
                  </a:lnTo>
                  <a:lnTo>
                    <a:pt x="1587" y="3265"/>
                  </a:lnTo>
                  <a:lnTo>
                    <a:pt x="1586" y="3265"/>
                  </a:lnTo>
                  <a:lnTo>
                    <a:pt x="1581" y="3265"/>
                  </a:lnTo>
                  <a:lnTo>
                    <a:pt x="1576" y="3265"/>
                  </a:lnTo>
                  <a:lnTo>
                    <a:pt x="1571" y="3265"/>
                  </a:lnTo>
                  <a:lnTo>
                    <a:pt x="1570" y="3265"/>
                  </a:lnTo>
                  <a:lnTo>
                    <a:pt x="1566" y="3265"/>
                  </a:lnTo>
                  <a:lnTo>
                    <a:pt x="1560" y="3265"/>
                  </a:lnTo>
                  <a:lnTo>
                    <a:pt x="1555" y="3265"/>
                  </a:lnTo>
                  <a:lnTo>
                    <a:pt x="1550" y="3265"/>
                  </a:lnTo>
                  <a:lnTo>
                    <a:pt x="1545" y="3265"/>
                  </a:lnTo>
                  <a:lnTo>
                    <a:pt x="1540" y="3265"/>
                  </a:lnTo>
                  <a:lnTo>
                    <a:pt x="1539" y="3265"/>
                  </a:lnTo>
                  <a:lnTo>
                    <a:pt x="1535" y="3265"/>
                  </a:lnTo>
                  <a:lnTo>
                    <a:pt x="1529" y="3265"/>
                  </a:lnTo>
                  <a:lnTo>
                    <a:pt x="1525" y="3265"/>
                  </a:lnTo>
                  <a:lnTo>
                    <a:pt x="1524" y="3265"/>
                  </a:lnTo>
                  <a:lnTo>
                    <a:pt x="1519" y="3265"/>
                  </a:lnTo>
                  <a:lnTo>
                    <a:pt x="1514" y="3265"/>
                  </a:lnTo>
                  <a:lnTo>
                    <a:pt x="1509" y="3265"/>
                  </a:lnTo>
                  <a:lnTo>
                    <a:pt x="1508" y="3265"/>
                  </a:lnTo>
                  <a:lnTo>
                    <a:pt x="1504" y="3265"/>
                  </a:lnTo>
                  <a:lnTo>
                    <a:pt x="1498" y="3265"/>
                  </a:lnTo>
                  <a:lnTo>
                    <a:pt x="1494" y="3265"/>
                  </a:lnTo>
                  <a:lnTo>
                    <a:pt x="1493" y="3265"/>
                  </a:lnTo>
                  <a:lnTo>
                    <a:pt x="1488" y="3265"/>
                  </a:lnTo>
                  <a:lnTo>
                    <a:pt x="1483" y="3265"/>
                  </a:lnTo>
                  <a:lnTo>
                    <a:pt x="1478" y="3265"/>
                  </a:lnTo>
                  <a:lnTo>
                    <a:pt x="1477" y="3265"/>
                  </a:lnTo>
                  <a:lnTo>
                    <a:pt x="1473" y="3265"/>
                  </a:lnTo>
                  <a:lnTo>
                    <a:pt x="1467" y="3265"/>
                  </a:lnTo>
                  <a:lnTo>
                    <a:pt x="1463" y="3265"/>
                  </a:lnTo>
                  <a:lnTo>
                    <a:pt x="1462" y="3265"/>
                  </a:lnTo>
                  <a:lnTo>
                    <a:pt x="1457" y="3265"/>
                  </a:lnTo>
                  <a:lnTo>
                    <a:pt x="1452" y="3265"/>
                  </a:lnTo>
                  <a:lnTo>
                    <a:pt x="1446" y="3265"/>
                  </a:lnTo>
                  <a:lnTo>
                    <a:pt x="1442" y="3265"/>
                  </a:lnTo>
                  <a:lnTo>
                    <a:pt x="1266" y="3265"/>
                  </a:lnTo>
                  <a:lnTo>
                    <a:pt x="1345" y="3830"/>
                  </a:lnTo>
                  <a:lnTo>
                    <a:pt x="1294" y="3911"/>
                  </a:lnTo>
                  <a:lnTo>
                    <a:pt x="1345" y="3977"/>
                  </a:lnTo>
                  <a:lnTo>
                    <a:pt x="1117" y="4116"/>
                  </a:lnTo>
                  <a:lnTo>
                    <a:pt x="1112" y="4144"/>
                  </a:lnTo>
                  <a:lnTo>
                    <a:pt x="1106" y="4173"/>
                  </a:lnTo>
                  <a:lnTo>
                    <a:pt x="1103" y="4201"/>
                  </a:lnTo>
                  <a:lnTo>
                    <a:pt x="1099" y="4228"/>
                  </a:lnTo>
                  <a:lnTo>
                    <a:pt x="1097" y="4255"/>
                  </a:lnTo>
                  <a:lnTo>
                    <a:pt x="1096" y="4281"/>
                  </a:lnTo>
                  <a:lnTo>
                    <a:pt x="1096" y="4308"/>
                  </a:lnTo>
                  <a:lnTo>
                    <a:pt x="1096" y="4333"/>
                  </a:lnTo>
                  <a:lnTo>
                    <a:pt x="1097" y="4359"/>
                  </a:lnTo>
                  <a:lnTo>
                    <a:pt x="1098" y="4383"/>
                  </a:lnTo>
                  <a:lnTo>
                    <a:pt x="1100" y="4407"/>
                  </a:lnTo>
                  <a:lnTo>
                    <a:pt x="1104" y="4432"/>
                  </a:lnTo>
                  <a:lnTo>
                    <a:pt x="1112" y="4478"/>
                  </a:lnTo>
                  <a:lnTo>
                    <a:pt x="1121" y="4523"/>
                  </a:lnTo>
                  <a:lnTo>
                    <a:pt x="1133" y="4568"/>
                  </a:lnTo>
                  <a:lnTo>
                    <a:pt x="1147" y="4611"/>
                  </a:lnTo>
                  <a:lnTo>
                    <a:pt x="1162" y="4653"/>
                  </a:lnTo>
                  <a:lnTo>
                    <a:pt x="1179" y="4694"/>
                  </a:lnTo>
                  <a:lnTo>
                    <a:pt x="1198" y="4733"/>
                  </a:lnTo>
                  <a:lnTo>
                    <a:pt x="1218" y="4772"/>
                  </a:lnTo>
                  <a:lnTo>
                    <a:pt x="1238" y="4812"/>
                  </a:lnTo>
                  <a:lnTo>
                    <a:pt x="1259" y="4849"/>
                  </a:lnTo>
                  <a:lnTo>
                    <a:pt x="774" y="4849"/>
                  </a:lnTo>
                  <a:lnTo>
                    <a:pt x="774" y="2135"/>
                  </a:lnTo>
                  <a:lnTo>
                    <a:pt x="2185" y="2135"/>
                  </a:lnTo>
                  <a:lnTo>
                    <a:pt x="2185" y="4849"/>
                  </a:lnTo>
                  <a:lnTo>
                    <a:pt x="1780" y="4849"/>
                  </a:lnTo>
                  <a:lnTo>
                    <a:pt x="1801" y="4812"/>
                  </a:lnTo>
                  <a:lnTo>
                    <a:pt x="1821" y="4772"/>
                  </a:lnTo>
                  <a:lnTo>
                    <a:pt x="1841" y="4733"/>
                  </a:lnTo>
                  <a:lnTo>
                    <a:pt x="1859" y="4694"/>
                  </a:lnTo>
                  <a:lnTo>
                    <a:pt x="1876" y="4653"/>
                  </a:lnTo>
                  <a:lnTo>
                    <a:pt x="1892" y="4611"/>
                  </a:lnTo>
                  <a:lnTo>
                    <a:pt x="1905" y="4568"/>
                  </a:lnTo>
                  <a:lnTo>
                    <a:pt x="1917" y="4523"/>
                  </a:lnTo>
                  <a:lnTo>
                    <a:pt x="1927" y="4478"/>
                  </a:lnTo>
                  <a:lnTo>
                    <a:pt x="1935" y="4432"/>
                  </a:lnTo>
                  <a:lnTo>
                    <a:pt x="1938" y="4407"/>
                  </a:lnTo>
                  <a:lnTo>
                    <a:pt x="1941" y="4383"/>
                  </a:lnTo>
                  <a:lnTo>
                    <a:pt x="1942" y="4359"/>
                  </a:lnTo>
                  <a:lnTo>
                    <a:pt x="1943" y="4333"/>
                  </a:lnTo>
                  <a:lnTo>
                    <a:pt x="1943" y="4308"/>
                  </a:lnTo>
                  <a:lnTo>
                    <a:pt x="1942" y="4281"/>
                  </a:lnTo>
                  <a:lnTo>
                    <a:pt x="1941" y="4255"/>
                  </a:lnTo>
                  <a:lnTo>
                    <a:pt x="1938" y="4228"/>
                  </a:lnTo>
                  <a:lnTo>
                    <a:pt x="1936" y="4201"/>
                  </a:lnTo>
                  <a:lnTo>
                    <a:pt x="1932" y="4173"/>
                  </a:lnTo>
                  <a:lnTo>
                    <a:pt x="1927" y="4144"/>
                  </a:lnTo>
                  <a:lnTo>
                    <a:pt x="1922" y="4116"/>
                  </a:lnTo>
                  <a:lnTo>
                    <a:pt x="1694" y="3977"/>
                  </a:lnTo>
                  <a:lnTo>
                    <a:pt x="1745" y="3911"/>
                  </a:lnTo>
                  <a:lnTo>
                    <a:pt x="1694" y="3830"/>
                  </a:lnTo>
                  <a:lnTo>
                    <a:pt x="1771" y="3265"/>
                  </a:lnTo>
                  <a:lnTo>
                    <a:pt x="1597" y="3265"/>
                  </a:lnTo>
                  <a:close/>
                  <a:moveTo>
                    <a:pt x="4819" y="863"/>
                  </a:moveTo>
                  <a:lnTo>
                    <a:pt x="4819" y="1057"/>
                  </a:lnTo>
                  <a:lnTo>
                    <a:pt x="3585" y="1057"/>
                  </a:lnTo>
                  <a:lnTo>
                    <a:pt x="3585" y="863"/>
                  </a:lnTo>
                  <a:lnTo>
                    <a:pt x="4819" y="863"/>
                  </a:lnTo>
                  <a:close/>
                  <a:moveTo>
                    <a:pt x="5002" y="1108"/>
                  </a:moveTo>
                  <a:lnTo>
                    <a:pt x="5002" y="1379"/>
                  </a:lnTo>
                  <a:lnTo>
                    <a:pt x="3769" y="1379"/>
                  </a:lnTo>
                  <a:lnTo>
                    <a:pt x="3769" y="1108"/>
                  </a:lnTo>
                  <a:lnTo>
                    <a:pt x="5002" y="1108"/>
                  </a:lnTo>
                  <a:close/>
                  <a:moveTo>
                    <a:pt x="4891" y="1429"/>
                  </a:moveTo>
                  <a:lnTo>
                    <a:pt x="4891" y="1623"/>
                  </a:lnTo>
                  <a:lnTo>
                    <a:pt x="3657" y="1623"/>
                  </a:lnTo>
                  <a:lnTo>
                    <a:pt x="3657" y="1429"/>
                  </a:lnTo>
                  <a:lnTo>
                    <a:pt x="4891" y="1429"/>
                  </a:lnTo>
                  <a:close/>
                  <a:moveTo>
                    <a:pt x="4977" y="1659"/>
                  </a:moveTo>
                  <a:lnTo>
                    <a:pt x="4977" y="1853"/>
                  </a:lnTo>
                  <a:lnTo>
                    <a:pt x="3743" y="1853"/>
                  </a:lnTo>
                  <a:lnTo>
                    <a:pt x="3743" y="1659"/>
                  </a:lnTo>
                  <a:lnTo>
                    <a:pt x="4977" y="1659"/>
                  </a:lnTo>
                  <a:close/>
                  <a:moveTo>
                    <a:pt x="1643" y="596"/>
                  </a:moveTo>
                  <a:lnTo>
                    <a:pt x="1833" y="561"/>
                  </a:lnTo>
                  <a:lnTo>
                    <a:pt x="2061" y="1773"/>
                  </a:lnTo>
                  <a:lnTo>
                    <a:pt x="1871" y="1809"/>
                  </a:lnTo>
                  <a:lnTo>
                    <a:pt x="1643" y="596"/>
                  </a:lnTo>
                  <a:close/>
                  <a:moveTo>
                    <a:pt x="1388" y="596"/>
                  </a:moveTo>
                  <a:lnTo>
                    <a:pt x="1579" y="561"/>
                  </a:lnTo>
                  <a:lnTo>
                    <a:pt x="1807" y="1773"/>
                  </a:lnTo>
                  <a:lnTo>
                    <a:pt x="1616" y="1809"/>
                  </a:lnTo>
                  <a:lnTo>
                    <a:pt x="1388" y="596"/>
                  </a:lnTo>
                  <a:close/>
                  <a:moveTo>
                    <a:pt x="1134" y="596"/>
                  </a:moveTo>
                  <a:lnTo>
                    <a:pt x="1324" y="561"/>
                  </a:lnTo>
                  <a:lnTo>
                    <a:pt x="1551" y="1773"/>
                  </a:lnTo>
                  <a:lnTo>
                    <a:pt x="1361" y="1809"/>
                  </a:lnTo>
                  <a:lnTo>
                    <a:pt x="1134" y="596"/>
                  </a:lnTo>
                  <a:close/>
                  <a:moveTo>
                    <a:pt x="884" y="568"/>
                  </a:moveTo>
                  <a:lnTo>
                    <a:pt x="1077" y="568"/>
                  </a:lnTo>
                  <a:lnTo>
                    <a:pt x="1077" y="1802"/>
                  </a:lnTo>
                  <a:lnTo>
                    <a:pt x="884" y="1802"/>
                  </a:lnTo>
                  <a:lnTo>
                    <a:pt x="884" y="568"/>
                  </a:lnTo>
                  <a:close/>
                  <a:moveTo>
                    <a:pt x="3540" y="2418"/>
                  </a:moveTo>
                  <a:lnTo>
                    <a:pt x="3807" y="2354"/>
                  </a:lnTo>
                  <a:lnTo>
                    <a:pt x="4033" y="3306"/>
                  </a:lnTo>
                  <a:lnTo>
                    <a:pt x="3765" y="3369"/>
                  </a:lnTo>
                  <a:lnTo>
                    <a:pt x="3540" y="2418"/>
                  </a:lnTo>
                  <a:close/>
                  <a:moveTo>
                    <a:pt x="3622" y="2531"/>
                  </a:moveTo>
                  <a:lnTo>
                    <a:pt x="3639" y="2606"/>
                  </a:lnTo>
                  <a:lnTo>
                    <a:pt x="3791" y="2570"/>
                  </a:lnTo>
                  <a:lnTo>
                    <a:pt x="3773" y="2496"/>
                  </a:lnTo>
                  <a:lnTo>
                    <a:pt x="3622" y="2531"/>
                  </a:lnTo>
                  <a:close/>
                  <a:moveTo>
                    <a:pt x="3739" y="3028"/>
                  </a:moveTo>
                  <a:lnTo>
                    <a:pt x="3776" y="3184"/>
                  </a:lnTo>
                  <a:lnTo>
                    <a:pt x="3928" y="3148"/>
                  </a:lnTo>
                  <a:lnTo>
                    <a:pt x="3890" y="2991"/>
                  </a:lnTo>
                  <a:lnTo>
                    <a:pt x="3739" y="3028"/>
                  </a:lnTo>
                  <a:close/>
                  <a:moveTo>
                    <a:pt x="3193" y="2418"/>
                  </a:moveTo>
                  <a:lnTo>
                    <a:pt x="3418" y="3369"/>
                  </a:lnTo>
                  <a:lnTo>
                    <a:pt x="3687" y="3306"/>
                  </a:lnTo>
                  <a:lnTo>
                    <a:pt x="3461" y="2354"/>
                  </a:lnTo>
                  <a:lnTo>
                    <a:pt x="3193" y="2418"/>
                  </a:lnTo>
                  <a:close/>
                  <a:moveTo>
                    <a:pt x="3276" y="2531"/>
                  </a:moveTo>
                  <a:lnTo>
                    <a:pt x="3426" y="2496"/>
                  </a:lnTo>
                  <a:lnTo>
                    <a:pt x="3444" y="2570"/>
                  </a:lnTo>
                  <a:lnTo>
                    <a:pt x="3292" y="2606"/>
                  </a:lnTo>
                  <a:lnTo>
                    <a:pt x="3276" y="2531"/>
                  </a:lnTo>
                  <a:close/>
                  <a:moveTo>
                    <a:pt x="3393" y="3028"/>
                  </a:moveTo>
                  <a:lnTo>
                    <a:pt x="3429" y="3184"/>
                  </a:lnTo>
                  <a:lnTo>
                    <a:pt x="3581" y="3148"/>
                  </a:lnTo>
                  <a:lnTo>
                    <a:pt x="3544" y="2991"/>
                  </a:lnTo>
                  <a:lnTo>
                    <a:pt x="3393" y="3028"/>
                  </a:lnTo>
                  <a:close/>
                  <a:moveTo>
                    <a:pt x="2841" y="2418"/>
                  </a:moveTo>
                  <a:lnTo>
                    <a:pt x="3109" y="2354"/>
                  </a:lnTo>
                  <a:lnTo>
                    <a:pt x="3335" y="3306"/>
                  </a:lnTo>
                  <a:lnTo>
                    <a:pt x="3067" y="3369"/>
                  </a:lnTo>
                  <a:lnTo>
                    <a:pt x="2841" y="2418"/>
                  </a:lnTo>
                  <a:close/>
                  <a:moveTo>
                    <a:pt x="2923" y="2531"/>
                  </a:moveTo>
                  <a:lnTo>
                    <a:pt x="2941" y="2606"/>
                  </a:lnTo>
                  <a:lnTo>
                    <a:pt x="3092" y="2570"/>
                  </a:lnTo>
                  <a:lnTo>
                    <a:pt x="3075" y="2496"/>
                  </a:lnTo>
                  <a:lnTo>
                    <a:pt x="2923" y="2531"/>
                  </a:lnTo>
                  <a:close/>
                  <a:moveTo>
                    <a:pt x="3041" y="3028"/>
                  </a:moveTo>
                  <a:lnTo>
                    <a:pt x="3192" y="2991"/>
                  </a:lnTo>
                  <a:lnTo>
                    <a:pt x="3229" y="3148"/>
                  </a:lnTo>
                  <a:lnTo>
                    <a:pt x="3078" y="3184"/>
                  </a:lnTo>
                  <a:lnTo>
                    <a:pt x="3041" y="3028"/>
                  </a:lnTo>
                  <a:close/>
                  <a:moveTo>
                    <a:pt x="2553" y="2372"/>
                  </a:moveTo>
                  <a:lnTo>
                    <a:pt x="2828" y="2372"/>
                  </a:lnTo>
                  <a:lnTo>
                    <a:pt x="2828" y="3352"/>
                  </a:lnTo>
                  <a:lnTo>
                    <a:pt x="2553" y="3352"/>
                  </a:lnTo>
                  <a:lnTo>
                    <a:pt x="2553" y="2372"/>
                  </a:lnTo>
                  <a:close/>
                  <a:moveTo>
                    <a:pt x="2606" y="2503"/>
                  </a:moveTo>
                  <a:lnTo>
                    <a:pt x="2606" y="2579"/>
                  </a:lnTo>
                  <a:lnTo>
                    <a:pt x="2762" y="2579"/>
                  </a:lnTo>
                  <a:lnTo>
                    <a:pt x="2762" y="2503"/>
                  </a:lnTo>
                  <a:lnTo>
                    <a:pt x="2606" y="2503"/>
                  </a:lnTo>
                  <a:close/>
                  <a:moveTo>
                    <a:pt x="2606" y="3012"/>
                  </a:moveTo>
                  <a:lnTo>
                    <a:pt x="2606" y="3173"/>
                  </a:lnTo>
                  <a:lnTo>
                    <a:pt x="2762" y="3173"/>
                  </a:lnTo>
                  <a:lnTo>
                    <a:pt x="2762" y="3012"/>
                  </a:lnTo>
                  <a:lnTo>
                    <a:pt x="2606" y="3012"/>
                  </a:lnTo>
                  <a:close/>
                  <a:moveTo>
                    <a:pt x="5555" y="151"/>
                  </a:moveTo>
                  <a:lnTo>
                    <a:pt x="5555" y="374"/>
                  </a:lnTo>
                  <a:lnTo>
                    <a:pt x="5555" y="4849"/>
                  </a:lnTo>
                  <a:lnTo>
                    <a:pt x="5871" y="4849"/>
                  </a:lnTo>
                  <a:lnTo>
                    <a:pt x="5871" y="5585"/>
                  </a:lnTo>
                  <a:lnTo>
                    <a:pt x="0" y="5585"/>
                  </a:lnTo>
                  <a:lnTo>
                    <a:pt x="0" y="4849"/>
                  </a:lnTo>
                  <a:lnTo>
                    <a:pt x="326" y="4849"/>
                  </a:lnTo>
                  <a:lnTo>
                    <a:pt x="326" y="374"/>
                  </a:lnTo>
                  <a:lnTo>
                    <a:pt x="326" y="151"/>
                  </a:lnTo>
                  <a:lnTo>
                    <a:pt x="326" y="0"/>
                  </a:lnTo>
                  <a:lnTo>
                    <a:pt x="5555" y="0"/>
                  </a:lnTo>
                  <a:lnTo>
                    <a:pt x="5555" y="151"/>
                  </a:lnTo>
                  <a:close/>
                  <a:moveTo>
                    <a:pt x="2409" y="2135"/>
                  </a:moveTo>
                  <a:lnTo>
                    <a:pt x="2409" y="3385"/>
                  </a:lnTo>
                  <a:lnTo>
                    <a:pt x="5107" y="3385"/>
                  </a:lnTo>
                  <a:lnTo>
                    <a:pt x="5107" y="2135"/>
                  </a:lnTo>
                  <a:lnTo>
                    <a:pt x="2409" y="2135"/>
                  </a:lnTo>
                  <a:close/>
                  <a:moveTo>
                    <a:pt x="2409" y="3609"/>
                  </a:moveTo>
                  <a:lnTo>
                    <a:pt x="2409" y="4849"/>
                  </a:lnTo>
                  <a:lnTo>
                    <a:pt x="5107" y="4849"/>
                  </a:lnTo>
                  <a:lnTo>
                    <a:pt x="5107" y="3609"/>
                  </a:lnTo>
                  <a:lnTo>
                    <a:pt x="2409" y="3609"/>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89" name="矩形 9"/>
          <p:cNvSpPr/>
          <p:nvPr/>
        </p:nvSpPr>
        <p:spPr>
          <a:xfrm>
            <a:off x="0" y="1969920"/>
            <a:ext cx="12192120" cy="325152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KSO_Shape"/>
          <p:cNvSpPr/>
          <p:nvPr/>
        </p:nvSpPr>
        <p:spPr>
          <a:xfrm>
            <a:off x="1144440" y="2436840"/>
            <a:ext cx="1260720" cy="942840"/>
          </a:xfrm>
          <a:custGeom>
            <a:avLst/>
            <a:gdLst/>
            <a:ahLst/>
            <a:rect l="l" t="t" r="r" b="b"/>
            <a:pathLst>
              <a:path w="5185" h="3880">
                <a:moveTo>
                  <a:pt x="4775" y="2900"/>
                </a:moveTo>
                <a:lnTo>
                  <a:pt x="411" y="2900"/>
                </a:lnTo>
                <a:lnTo>
                  <a:pt x="87" y="3532"/>
                </a:lnTo>
                <a:lnTo>
                  <a:pt x="5099" y="3532"/>
                </a:lnTo>
                <a:lnTo>
                  <a:pt x="4775" y="2900"/>
                </a:lnTo>
                <a:close/>
                <a:moveTo>
                  <a:pt x="2046" y="3380"/>
                </a:moveTo>
                <a:lnTo>
                  <a:pt x="2181" y="3125"/>
                </a:lnTo>
                <a:lnTo>
                  <a:pt x="3017" y="3125"/>
                </a:lnTo>
                <a:lnTo>
                  <a:pt x="3139" y="3380"/>
                </a:lnTo>
                <a:lnTo>
                  <a:pt x="2046" y="3380"/>
                </a:lnTo>
                <a:close/>
                <a:moveTo>
                  <a:pt x="4700" y="2755"/>
                </a:moveTo>
                <a:lnTo>
                  <a:pt x="4700" y="2755"/>
                </a:lnTo>
                <a:lnTo>
                  <a:pt x="4698" y="2743"/>
                </a:lnTo>
                <a:lnTo>
                  <a:pt x="4700" y="2731"/>
                </a:lnTo>
                <a:lnTo>
                  <a:pt x="4700" y="120"/>
                </a:lnTo>
                <a:lnTo>
                  <a:pt x="4699" y="108"/>
                </a:lnTo>
                <a:lnTo>
                  <a:pt x="4697" y="95"/>
                </a:lnTo>
                <a:lnTo>
                  <a:pt x="4694" y="84"/>
                </a:lnTo>
                <a:lnTo>
                  <a:pt x="4690" y="73"/>
                </a:lnTo>
                <a:lnTo>
                  <a:pt x="4685" y="63"/>
                </a:lnTo>
                <a:lnTo>
                  <a:pt x="4680" y="53"/>
                </a:lnTo>
                <a:lnTo>
                  <a:pt x="4673" y="43"/>
                </a:lnTo>
                <a:lnTo>
                  <a:pt x="4665" y="34"/>
                </a:lnTo>
                <a:lnTo>
                  <a:pt x="4657" y="27"/>
                </a:lnTo>
                <a:lnTo>
                  <a:pt x="4647" y="20"/>
                </a:lnTo>
                <a:lnTo>
                  <a:pt x="4637" y="14"/>
                </a:lnTo>
                <a:lnTo>
                  <a:pt x="4627" y="9"/>
                </a:lnTo>
                <a:lnTo>
                  <a:pt x="4616" y="5"/>
                </a:lnTo>
                <a:lnTo>
                  <a:pt x="4605" y="2"/>
                </a:lnTo>
                <a:lnTo>
                  <a:pt x="4592" y="1"/>
                </a:lnTo>
                <a:lnTo>
                  <a:pt x="4580" y="0"/>
                </a:lnTo>
                <a:lnTo>
                  <a:pt x="605" y="0"/>
                </a:lnTo>
                <a:lnTo>
                  <a:pt x="593" y="1"/>
                </a:lnTo>
                <a:lnTo>
                  <a:pt x="581" y="2"/>
                </a:lnTo>
                <a:lnTo>
                  <a:pt x="569" y="5"/>
                </a:lnTo>
                <a:lnTo>
                  <a:pt x="558" y="9"/>
                </a:lnTo>
                <a:lnTo>
                  <a:pt x="548" y="14"/>
                </a:lnTo>
                <a:lnTo>
                  <a:pt x="538" y="20"/>
                </a:lnTo>
                <a:lnTo>
                  <a:pt x="529" y="27"/>
                </a:lnTo>
                <a:lnTo>
                  <a:pt x="521" y="34"/>
                </a:lnTo>
                <a:lnTo>
                  <a:pt x="512" y="43"/>
                </a:lnTo>
                <a:lnTo>
                  <a:pt x="505" y="53"/>
                </a:lnTo>
                <a:lnTo>
                  <a:pt x="499" y="63"/>
                </a:lnTo>
                <a:lnTo>
                  <a:pt x="494" y="73"/>
                </a:lnTo>
                <a:lnTo>
                  <a:pt x="490" y="84"/>
                </a:lnTo>
                <a:lnTo>
                  <a:pt x="488" y="95"/>
                </a:lnTo>
                <a:lnTo>
                  <a:pt x="486" y="108"/>
                </a:lnTo>
                <a:lnTo>
                  <a:pt x="485" y="120"/>
                </a:lnTo>
                <a:lnTo>
                  <a:pt x="485" y="2731"/>
                </a:lnTo>
                <a:lnTo>
                  <a:pt x="486" y="2743"/>
                </a:lnTo>
                <a:lnTo>
                  <a:pt x="485" y="2755"/>
                </a:lnTo>
                <a:lnTo>
                  <a:pt x="484" y="2756"/>
                </a:lnTo>
                <a:lnTo>
                  <a:pt x="4701" y="2756"/>
                </a:lnTo>
                <a:lnTo>
                  <a:pt x="4700" y="2755"/>
                </a:lnTo>
                <a:close/>
                <a:moveTo>
                  <a:pt x="4401" y="2552"/>
                </a:moveTo>
                <a:lnTo>
                  <a:pt x="784" y="2552"/>
                </a:lnTo>
                <a:lnTo>
                  <a:pt x="784" y="299"/>
                </a:lnTo>
                <a:lnTo>
                  <a:pt x="4401" y="299"/>
                </a:lnTo>
                <a:lnTo>
                  <a:pt x="4401" y="2552"/>
                </a:lnTo>
                <a:close/>
                <a:moveTo>
                  <a:pt x="5172" y="3676"/>
                </a:moveTo>
                <a:lnTo>
                  <a:pt x="12" y="3676"/>
                </a:lnTo>
                <a:lnTo>
                  <a:pt x="0" y="3700"/>
                </a:lnTo>
                <a:lnTo>
                  <a:pt x="1" y="3713"/>
                </a:lnTo>
                <a:lnTo>
                  <a:pt x="2" y="3727"/>
                </a:lnTo>
                <a:lnTo>
                  <a:pt x="5" y="3741"/>
                </a:lnTo>
                <a:lnTo>
                  <a:pt x="9" y="3756"/>
                </a:lnTo>
                <a:lnTo>
                  <a:pt x="14" y="3771"/>
                </a:lnTo>
                <a:lnTo>
                  <a:pt x="20" y="3786"/>
                </a:lnTo>
                <a:lnTo>
                  <a:pt x="28" y="3801"/>
                </a:lnTo>
                <a:lnTo>
                  <a:pt x="36" y="3815"/>
                </a:lnTo>
                <a:lnTo>
                  <a:pt x="44" y="3828"/>
                </a:lnTo>
                <a:lnTo>
                  <a:pt x="53" y="3841"/>
                </a:lnTo>
                <a:lnTo>
                  <a:pt x="63" y="3852"/>
                </a:lnTo>
                <a:lnTo>
                  <a:pt x="73" y="3861"/>
                </a:lnTo>
                <a:lnTo>
                  <a:pt x="85" y="3869"/>
                </a:lnTo>
                <a:lnTo>
                  <a:pt x="96" y="3875"/>
                </a:lnTo>
                <a:lnTo>
                  <a:pt x="108" y="3878"/>
                </a:lnTo>
                <a:lnTo>
                  <a:pt x="114" y="3879"/>
                </a:lnTo>
                <a:lnTo>
                  <a:pt x="120" y="3880"/>
                </a:lnTo>
                <a:lnTo>
                  <a:pt x="5065" y="3880"/>
                </a:lnTo>
                <a:lnTo>
                  <a:pt x="5071" y="3879"/>
                </a:lnTo>
                <a:lnTo>
                  <a:pt x="5077" y="3878"/>
                </a:lnTo>
                <a:lnTo>
                  <a:pt x="5089" y="3875"/>
                </a:lnTo>
                <a:lnTo>
                  <a:pt x="5101" y="3869"/>
                </a:lnTo>
                <a:lnTo>
                  <a:pt x="5112" y="3861"/>
                </a:lnTo>
                <a:lnTo>
                  <a:pt x="5122" y="3852"/>
                </a:lnTo>
                <a:lnTo>
                  <a:pt x="5132" y="3841"/>
                </a:lnTo>
                <a:lnTo>
                  <a:pt x="5141" y="3828"/>
                </a:lnTo>
                <a:lnTo>
                  <a:pt x="5150" y="3815"/>
                </a:lnTo>
                <a:lnTo>
                  <a:pt x="5158" y="3801"/>
                </a:lnTo>
                <a:lnTo>
                  <a:pt x="5165" y="3786"/>
                </a:lnTo>
                <a:lnTo>
                  <a:pt x="5171" y="3771"/>
                </a:lnTo>
                <a:lnTo>
                  <a:pt x="5176" y="3756"/>
                </a:lnTo>
                <a:lnTo>
                  <a:pt x="5180" y="3741"/>
                </a:lnTo>
                <a:lnTo>
                  <a:pt x="5182" y="3727"/>
                </a:lnTo>
                <a:lnTo>
                  <a:pt x="5184" y="3713"/>
                </a:lnTo>
                <a:lnTo>
                  <a:pt x="5185" y="3700"/>
                </a:lnTo>
                <a:lnTo>
                  <a:pt x="5172" y="3676"/>
                </a:lnTo>
                <a:close/>
              </a:path>
            </a:pathLst>
          </a:custGeom>
          <a:solidFill>
            <a:srgbClr val="ffffff"/>
          </a:solidFill>
          <a:ln w="0">
            <a:noFill/>
          </a:ln>
        </p:spPr>
        <p:style>
          <a:lnRef idx="0"/>
          <a:fillRef idx="0"/>
          <a:effectRef idx="0"/>
          <a:fontRef idx="minor"/>
        </p:style>
        <p:txBody>
          <a:bodyPr lIns="90000" rIns="90000" tIns="46800" bIns="360000" anchor="ctr">
            <a:noAutofit/>
          </a:bodyPr>
          <a:p>
            <a:endParaRPr b="0" lang="en-US" sz="1800" spc="-1" strike="noStrike">
              <a:solidFill>
                <a:srgbClr val="000000"/>
              </a:solidFill>
              <a:latin typeface="Arial"/>
            </a:endParaRPr>
          </a:p>
        </p:txBody>
      </p:sp>
      <p:sp>
        <p:nvSpPr>
          <p:cNvPr id="291" name="KSO_Shape"/>
          <p:cNvSpPr/>
          <p:nvPr/>
        </p:nvSpPr>
        <p:spPr>
          <a:xfrm>
            <a:off x="4502160" y="2436840"/>
            <a:ext cx="471600" cy="942840"/>
          </a:xfrm>
          <a:custGeom>
            <a:avLst/>
            <a:gdLst/>
            <a:ahLst/>
            <a:rect l="l" t="t" r="r" b="b"/>
            <a:pathLst>
              <a:path w="725488" h="1450976">
                <a:moveTo>
                  <a:pt x="180975" y="543686"/>
                </a:moveTo>
                <a:lnTo>
                  <a:pt x="544513" y="543686"/>
                </a:lnTo>
                <a:lnTo>
                  <a:pt x="544513" y="785648"/>
                </a:lnTo>
                <a:lnTo>
                  <a:pt x="544248" y="794903"/>
                </a:lnTo>
                <a:lnTo>
                  <a:pt x="543187" y="804158"/>
                </a:lnTo>
                <a:lnTo>
                  <a:pt x="542392" y="813149"/>
                </a:lnTo>
                <a:lnTo>
                  <a:pt x="540536" y="822140"/>
                </a:lnTo>
                <a:lnTo>
                  <a:pt x="538679" y="830867"/>
                </a:lnTo>
                <a:lnTo>
                  <a:pt x="536293" y="839329"/>
                </a:lnTo>
                <a:lnTo>
                  <a:pt x="533111" y="847791"/>
                </a:lnTo>
                <a:lnTo>
                  <a:pt x="530194" y="856253"/>
                </a:lnTo>
                <a:lnTo>
                  <a:pt x="526482" y="864186"/>
                </a:lnTo>
                <a:lnTo>
                  <a:pt x="522504" y="871855"/>
                </a:lnTo>
                <a:lnTo>
                  <a:pt x="517997" y="879523"/>
                </a:lnTo>
                <a:lnTo>
                  <a:pt x="513224" y="886928"/>
                </a:lnTo>
                <a:lnTo>
                  <a:pt x="508186" y="893803"/>
                </a:lnTo>
                <a:lnTo>
                  <a:pt x="502882" y="900943"/>
                </a:lnTo>
                <a:lnTo>
                  <a:pt x="497049" y="907290"/>
                </a:lnTo>
                <a:lnTo>
                  <a:pt x="490950" y="913636"/>
                </a:lnTo>
                <a:lnTo>
                  <a:pt x="484851" y="919718"/>
                </a:lnTo>
                <a:lnTo>
                  <a:pt x="478222" y="925271"/>
                </a:lnTo>
                <a:lnTo>
                  <a:pt x="471328" y="930825"/>
                </a:lnTo>
                <a:lnTo>
                  <a:pt x="464169" y="935849"/>
                </a:lnTo>
                <a:lnTo>
                  <a:pt x="456744" y="940609"/>
                </a:lnTo>
                <a:lnTo>
                  <a:pt x="449054" y="944840"/>
                </a:lnTo>
                <a:lnTo>
                  <a:pt x="441630" y="949071"/>
                </a:lnTo>
                <a:lnTo>
                  <a:pt x="433145" y="952773"/>
                </a:lnTo>
                <a:lnTo>
                  <a:pt x="424925" y="955682"/>
                </a:lnTo>
                <a:lnTo>
                  <a:pt x="416705" y="958855"/>
                </a:lnTo>
                <a:lnTo>
                  <a:pt x="407954" y="961235"/>
                </a:lnTo>
                <a:lnTo>
                  <a:pt x="399204" y="963086"/>
                </a:lnTo>
                <a:lnTo>
                  <a:pt x="390188" y="964673"/>
                </a:lnTo>
                <a:lnTo>
                  <a:pt x="380908" y="965730"/>
                </a:lnTo>
                <a:lnTo>
                  <a:pt x="371892" y="966788"/>
                </a:lnTo>
                <a:lnTo>
                  <a:pt x="362612" y="966788"/>
                </a:lnTo>
                <a:lnTo>
                  <a:pt x="353331" y="966788"/>
                </a:lnTo>
                <a:lnTo>
                  <a:pt x="344050" y="965730"/>
                </a:lnTo>
                <a:lnTo>
                  <a:pt x="334770" y="964673"/>
                </a:lnTo>
                <a:lnTo>
                  <a:pt x="326019" y="963086"/>
                </a:lnTo>
                <a:lnTo>
                  <a:pt x="317269" y="961235"/>
                </a:lnTo>
                <a:lnTo>
                  <a:pt x="308518" y="958855"/>
                </a:lnTo>
                <a:lnTo>
                  <a:pt x="300033" y="955682"/>
                </a:lnTo>
                <a:lnTo>
                  <a:pt x="291813" y="952773"/>
                </a:lnTo>
                <a:lnTo>
                  <a:pt x="283858" y="949071"/>
                </a:lnTo>
                <a:lnTo>
                  <a:pt x="275903" y="944840"/>
                </a:lnTo>
                <a:lnTo>
                  <a:pt x="268214" y="940609"/>
                </a:lnTo>
                <a:lnTo>
                  <a:pt x="261054" y="935849"/>
                </a:lnTo>
                <a:lnTo>
                  <a:pt x="253895" y="930825"/>
                </a:lnTo>
                <a:lnTo>
                  <a:pt x="247001" y="925271"/>
                </a:lnTo>
                <a:lnTo>
                  <a:pt x="240372" y="919718"/>
                </a:lnTo>
                <a:lnTo>
                  <a:pt x="234008" y="913636"/>
                </a:lnTo>
                <a:lnTo>
                  <a:pt x="228174" y="907290"/>
                </a:lnTo>
                <a:lnTo>
                  <a:pt x="222341" y="900943"/>
                </a:lnTo>
                <a:lnTo>
                  <a:pt x="217037" y="893803"/>
                </a:lnTo>
                <a:lnTo>
                  <a:pt x="211999" y="886928"/>
                </a:lnTo>
                <a:lnTo>
                  <a:pt x="207226" y="879523"/>
                </a:lnTo>
                <a:lnTo>
                  <a:pt x="202984" y="871855"/>
                </a:lnTo>
                <a:lnTo>
                  <a:pt x="199006" y="864186"/>
                </a:lnTo>
                <a:lnTo>
                  <a:pt x="195294" y="856253"/>
                </a:lnTo>
                <a:lnTo>
                  <a:pt x="191847" y="847791"/>
                </a:lnTo>
                <a:lnTo>
                  <a:pt x="189195" y="839329"/>
                </a:lnTo>
                <a:lnTo>
                  <a:pt x="186809" y="830867"/>
                </a:lnTo>
                <a:lnTo>
                  <a:pt x="184422" y="822140"/>
                </a:lnTo>
                <a:lnTo>
                  <a:pt x="183097" y="813149"/>
                </a:lnTo>
                <a:lnTo>
                  <a:pt x="181771" y="804158"/>
                </a:lnTo>
                <a:lnTo>
                  <a:pt x="181240" y="794903"/>
                </a:lnTo>
                <a:lnTo>
                  <a:pt x="180975" y="785648"/>
                </a:lnTo>
                <a:lnTo>
                  <a:pt x="180975" y="543686"/>
                </a:lnTo>
                <a:close/>
                <a:moveTo>
                  <a:pt x="60589" y="484188"/>
                </a:moveTo>
                <a:lnTo>
                  <a:pt x="66675" y="484453"/>
                </a:lnTo>
                <a:lnTo>
                  <a:pt x="72760" y="485510"/>
                </a:lnTo>
                <a:lnTo>
                  <a:pt x="78581" y="487096"/>
                </a:lnTo>
                <a:lnTo>
                  <a:pt x="84137" y="488947"/>
                </a:lnTo>
                <a:lnTo>
                  <a:pt x="89429" y="491591"/>
                </a:lnTo>
                <a:lnTo>
                  <a:pt x="94191" y="494499"/>
                </a:lnTo>
                <a:lnTo>
                  <a:pt x="99219" y="497935"/>
                </a:lnTo>
                <a:lnTo>
                  <a:pt x="103452" y="501901"/>
                </a:lnTo>
                <a:lnTo>
                  <a:pt x="107421" y="506131"/>
                </a:lnTo>
                <a:lnTo>
                  <a:pt x="110596" y="510889"/>
                </a:lnTo>
                <a:lnTo>
                  <a:pt x="113771" y="515912"/>
                </a:lnTo>
                <a:lnTo>
                  <a:pt x="116152" y="521200"/>
                </a:lnTo>
                <a:lnTo>
                  <a:pt x="118269" y="526487"/>
                </a:lnTo>
                <a:lnTo>
                  <a:pt x="119856" y="532303"/>
                </a:lnTo>
                <a:lnTo>
                  <a:pt x="120650" y="538383"/>
                </a:lnTo>
                <a:lnTo>
                  <a:pt x="121179" y="544464"/>
                </a:lnTo>
                <a:lnTo>
                  <a:pt x="121179" y="786095"/>
                </a:lnTo>
                <a:lnTo>
                  <a:pt x="121179" y="793233"/>
                </a:lnTo>
                <a:lnTo>
                  <a:pt x="121973" y="803807"/>
                </a:lnTo>
                <a:lnTo>
                  <a:pt x="123560" y="817554"/>
                </a:lnTo>
                <a:lnTo>
                  <a:pt x="124619" y="825750"/>
                </a:lnTo>
                <a:lnTo>
                  <a:pt x="126206" y="834209"/>
                </a:lnTo>
                <a:lnTo>
                  <a:pt x="128058" y="843462"/>
                </a:lnTo>
                <a:lnTo>
                  <a:pt x="130175" y="853244"/>
                </a:lnTo>
                <a:lnTo>
                  <a:pt x="132821" y="863290"/>
                </a:lnTo>
                <a:lnTo>
                  <a:pt x="136260" y="873600"/>
                </a:lnTo>
                <a:lnTo>
                  <a:pt x="139964" y="883910"/>
                </a:lnTo>
                <a:lnTo>
                  <a:pt x="144198" y="894485"/>
                </a:lnTo>
                <a:lnTo>
                  <a:pt x="149225" y="905588"/>
                </a:lnTo>
                <a:lnTo>
                  <a:pt x="154517" y="916163"/>
                </a:lnTo>
                <a:lnTo>
                  <a:pt x="160867" y="927002"/>
                </a:lnTo>
                <a:lnTo>
                  <a:pt x="164306" y="932289"/>
                </a:lnTo>
                <a:lnTo>
                  <a:pt x="167746" y="937577"/>
                </a:lnTo>
                <a:lnTo>
                  <a:pt x="171714" y="942864"/>
                </a:lnTo>
                <a:lnTo>
                  <a:pt x="175683" y="947887"/>
                </a:lnTo>
                <a:lnTo>
                  <a:pt x="179652" y="953174"/>
                </a:lnTo>
                <a:lnTo>
                  <a:pt x="184150" y="957933"/>
                </a:lnTo>
                <a:lnTo>
                  <a:pt x="188384" y="962956"/>
                </a:lnTo>
                <a:lnTo>
                  <a:pt x="193411" y="967714"/>
                </a:lnTo>
                <a:lnTo>
                  <a:pt x="198438" y="972209"/>
                </a:lnTo>
                <a:lnTo>
                  <a:pt x="203730" y="976967"/>
                </a:lnTo>
                <a:lnTo>
                  <a:pt x="209286" y="981197"/>
                </a:lnTo>
                <a:lnTo>
                  <a:pt x="214577" y="985427"/>
                </a:lnTo>
                <a:lnTo>
                  <a:pt x="220663" y="989657"/>
                </a:lnTo>
                <a:lnTo>
                  <a:pt x="226748" y="993622"/>
                </a:lnTo>
                <a:lnTo>
                  <a:pt x="233363" y="997323"/>
                </a:lnTo>
                <a:lnTo>
                  <a:pt x="239977" y="1001025"/>
                </a:lnTo>
                <a:lnTo>
                  <a:pt x="246857" y="1004461"/>
                </a:lnTo>
                <a:lnTo>
                  <a:pt x="254000" y="1007634"/>
                </a:lnTo>
                <a:lnTo>
                  <a:pt x="261673" y="1010542"/>
                </a:lnTo>
                <a:lnTo>
                  <a:pt x="269346" y="1013714"/>
                </a:lnTo>
                <a:lnTo>
                  <a:pt x="277019" y="1016093"/>
                </a:lnTo>
                <a:lnTo>
                  <a:pt x="285750" y="1018473"/>
                </a:lnTo>
                <a:lnTo>
                  <a:pt x="294217" y="1020852"/>
                </a:lnTo>
                <a:lnTo>
                  <a:pt x="302948" y="1022438"/>
                </a:lnTo>
                <a:lnTo>
                  <a:pt x="312209" y="1024024"/>
                </a:lnTo>
                <a:lnTo>
                  <a:pt x="321734" y="1025611"/>
                </a:lnTo>
                <a:lnTo>
                  <a:pt x="331523" y="1026404"/>
                </a:lnTo>
                <a:lnTo>
                  <a:pt x="341842" y="1027461"/>
                </a:lnTo>
                <a:lnTo>
                  <a:pt x="352161" y="1027726"/>
                </a:lnTo>
                <a:lnTo>
                  <a:pt x="362744" y="1027990"/>
                </a:lnTo>
                <a:lnTo>
                  <a:pt x="373857" y="1027726"/>
                </a:lnTo>
                <a:lnTo>
                  <a:pt x="384440" y="1027197"/>
                </a:lnTo>
                <a:lnTo>
                  <a:pt x="394759" y="1026404"/>
                </a:lnTo>
                <a:lnTo>
                  <a:pt x="404813" y="1025346"/>
                </a:lnTo>
                <a:lnTo>
                  <a:pt x="414602" y="1023760"/>
                </a:lnTo>
                <a:lnTo>
                  <a:pt x="424127" y="1022174"/>
                </a:lnTo>
                <a:lnTo>
                  <a:pt x="432859" y="1020059"/>
                </a:lnTo>
                <a:lnTo>
                  <a:pt x="441854" y="1017944"/>
                </a:lnTo>
                <a:lnTo>
                  <a:pt x="450321" y="1015565"/>
                </a:lnTo>
                <a:lnTo>
                  <a:pt x="458523" y="1012921"/>
                </a:lnTo>
                <a:lnTo>
                  <a:pt x="466196" y="1009749"/>
                </a:lnTo>
                <a:lnTo>
                  <a:pt x="473869" y="1006312"/>
                </a:lnTo>
                <a:lnTo>
                  <a:pt x="481013" y="1003140"/>
                </a:lnTo>
                <a:lnTo>
                  <a:pt x="488157" y="999438"/>
                </a:lnTo>
                <a:lnTo>
                  <a:pt x="494771" y="995473"/>
                </a:lnTo>
                <a:lnTo>
                  <a:pt x="501386" y="991507"/>
                </a:lnTo>
                <a:lnTo>
                  <a:pt x="507736" y="987278"/>
                </a:lnTo>
                <a:lnTo>
                  <a:pt x="513821" y="983048"/>
                </a:lnTo>
                <a:lnTo>
                  <a:pt x="519113" y="978289"/>
                </a:lnTo>
                <a:lnTo>
                  <a:pt x="524669" y="973795"/>
                </a:lnTo>
                <a:lnTo>
                  <a:pt x="530225" y="969036"/>
                </a:lnTo>
                <a:lnTo>
                  <a:pt x="534988" y="964013"/>
                </a:lnTo>
                <a:lnTo>
                  <a:pt x="540015" y="959255"/>
                </a:lnTo>
                <a:lnTo>
                  <a:pt x="544248" y="953967"/>
                </a:lnTo>
                <a:lnTo>
                  <a:pt x="548746" y="948944"/>
                </a:lnTo>
                <a:lnTo>
                  <a:pt x="552715" y="943657"/>
                </a:lnTo>
                <a:lnTo>
                  <a:pt x="556684" y="938105"/>
                </a:lnTo>
                <a:lnTo>
                  <a:pt x="560388" y="932554"/>
                </a:lnTo>
                <a:lnTo>
                  <a:pt x="564092" y="927266"/>
                </a:lnTo>
                <a:lnTo>
                  <a:pt x="567267" y="921715"/>
                </a:lnTo>
                <a:lnTo>
                  <a:pt x="573352" y="910876"/>
                </a:lnTo>
                <a:lnTo>
                  <a:pt x="578644" y="899772"/>
                </a:lnTo>
                <a:lnTo>
                  <a:pt x="583407" y="888404"/>
                </a:lnTo>
                <a:lnTo>
                  <a:pt x="587375" y="877830"/>
                </a:lnTo>
                <a:lnTo>
                  <a:pt x="591080" y="867255"/>
                </a:lnTo>
                <a:lnTo>
                  <a:pt x="594255" y="856416"/>
                </a:lnTo>
                <a:lnTo>
                  <a:pt x="596636" y="846899"/>
                </a:lnTo>
                <a:lnTo>
                  <a:pt x="598752" y="837117"/>
                </a:lnTo>
                <a:lnTo>
                  <a:pt x="600605" y="828129"/>
                </a:lnTo>
                <a:lnTo>
                  <a:pt x="601928" y="819934"/>
                </a:lnTo>
                <a:lnTo>
                  <a:pt x="602721" y="812267"/>
                </a:lnTo>
                <a:lnTo>
                  <a:pt x="604044" y="799577"/>
                </a:lnTo>
                <a:lnTo>
                  <a:pt x="604573" y="790853"/>
                </a:lnTo>
                <a:lnTo>
                  <a:pt x="604573" y="786095"/>
                </a:lnTo>
                <a:lnTo>
                  <a:pt x="604573" y="544464"/>
                </a:lnTo>
                <a:lnTo>
                  <a:pt x="604838" y="538383"/>
                </a:lnTo>
                <a:lnTo>
                  <a:pt x="605896" y="532303"/>
                </a:lnTo>
                <a:lnTo>
                  <a:pt x="607219" y="526487"/>
                </a:lnTo>
                <a:lnTo>
                  <a:pt x="609336" y="521200"/>
                </a:lnTo>
                <a:lnTo>
                  <a:pt x="611982" y="515912"/>
                </a:lnTo>
                <a:lnTo>
                  <a:pt x="614892" y="510889"/>
                </a:lnTo>
                <a:lnTo>
                  <a:pt x="618332" y="506131"/>
                </a:lnTo>
                <a:lnTo>
                  <a:pt x="622300" y="501901"/>
                </a:lnTo>
                <a:lnTo>
                  <a:pt x="626534" y="497935"/>
                </a:lnTo>
                <a:lnTo>
                  <a:pt x="631296" y="494499"/>
                </a:lnTo>
                <a:lnTo>
                  <a:pt x="636323" y="491591"/>
                </a:lnTo>
                <a:lnTo>
                  <a:pt x="641350" y="488947"/>
                </a:lnTo>
                <a:lnTo>
                  <a:pt x="646907" y="487096"/>
                </a:lnTo>
                <a:lnTo>
                  <a:pt x="652992" y="485510"/>
                </a:lnTo>
                <a:lnTo>
                  <a:pt x="658813" y="484453"/>
                </a:lnTo>
                <a:lnTo>
                  <a:pt x="664898" y="484188"/>
                </a:lnTo>
                <a:lnTo>
                  <a:pt x="671248" y="484453"/>
                </a:lnTo>
                <a:lnTo>
                  <a:pt x="677069" y="485510"/>
                </a:lnTo>
                <a:lnTo>
                  <a:pt x="682890" y="487096"/>
                </a:lnTo>
                <a:lnTo>
                  <a:pt x="688711" y="488947"/>
                </a:lnTo>
                <a:lnTo>
                  <a:pt x="694003" y="491591"/>
                </a:lnTo>
                <a:lnTo>
                  <a:pt x="698765" y="494499"/>
                </a:lnTo>
                <a:lnTo>
                  <a:pt x="703528" y="497935"/>
                </a:lnTo>
                <a:lnTo>
                  <a:pt x="708026" y="501901"/>
                </a:lnTo>
                <a:lnTo>
                  <a:pt x="711994" y="506131"/>
                </a:lnTo>
                <a:lnTo>
                  <a:pt x="715169" y="510889"/>
                </a:lnTo>
                <a:lnTo>
                  <a:pt x="718344" y="515912"/>
                </a:lnTo>
                <a:lnTo>
                  <a:pt x="720726" y="521200"/>
                </a:lnTo>
                <a:lnTo>
                  <a:pt x="722842" y="526487"/>
                </a:lnTo>
                <a:lnTo>
                  <a:pt x="724430" y="532303"/>
                </a:lnTo>
                <a:lnTo>
                  <a:pt x="725223" y="538383"/>
                </a:lnTo>
                <a:lnTo>
                  <a:pt x="725488" y="544464"/>
                </a:lnTo>
                <a:lnTo>
                  <a:pt x="725488" y="786095"/>
                </a:lnTo>
                <a:lnTo>
                  <a:pt x="725223" y="797462"/>
                </a:lnTo>
                <a:lnTo>
                  <a:pt x="724694" y="809095"/>
                </a:lnTo>
                <a:lnTo>
                  <a:pt x="723636" y="821255"/>
                </a:lnTo>
                <a:lnTo>
                  <a:pt x="722313" y="833681"/>
                </a:lnTo>
                <a:lnTo>
                  <a:pt x="720461" y="846370"/>
                </a:lnTo>
                <a:lnTo>
                  <a:pt x="718080" y="859853"/>
                </a:lnTo>
                <a:lnTo>
                  <a:pt x="714905" y="873336"/>
                </a:lnTo>
                <a:lnTo>
                  <a:pt x="711465" y="886554"/>
                </a:lnTo>
                <a:lnTo>
                  <a:pt x="707496" y="900830"/>
                </a:lnTo>
                <a:lnTo>
                  <a:pt x="702998" y="914312"/>
                </a:lnTo>
                <a:lnTo>
                  <a:pt x="698236" y="928324"/>
                </a:lnTo>
                <a:lnTo>
                  <a:pt x="692415" y="942335"/>
                </a:lnTo>
                <a:lnTo>
                  <a:pt x="686065" y="956347"/>
                </a:lnTo>
                <a:lnTo>
                  <a:pt x="679186" y="970094"/>
                </a:lnTo>
                <a:lnTo>
                  <a:pt x="671513" y="983841"/>
                </a:lnTo>
                <a:lnTo>
                  <a:pt x="663311" y="997323"/>
                </a:lnTo>
                <a:lnTo>
                  <a:pt x="658813" y="1003933"/>
                </a:lnTo>
                <a:lnTo>
                  <a:pt x="654315" y="1010542"/>
                </a:lnTo>
                <a:lnTo>
                  <a:pt x="649552" y="1017151"/>
                </a:lnTo>
                <a:lnTo>
                  <a:pt x="644525" y="1023496"/>
                </a:lnTo>
                <a:lnTo>
                  <a:pt x="639498" y="1029841"/>
                </a:lnTo>
                <a:lnTo>
                  <a:pt x="634207" y="1035921"/>
                </a:lnTo>
                <a:lnTo>
                  <a:pt x="628650" y="1042001"/>
                </a:lnTo>
                <a:lnTo>
                  <a:pt x="623094" y="1048082"/>
                </a:lnTo>
                <a:lnTo>
                  <a:pt x="617009" y="1054162"/>
                </a:lnTo>
                <a:lnTo>
                  <a:pt x="610923" y="1059978"/>
                </a:lnTo>
                <a:lnTo>
                  <a:pt x="604838" y="1065530"/>
                </a:lnTo>
                <a:lnTo>
                  <a:pt x="598488" y="1071082"/>
                </a:lnTo>
                <a:lnTo>
                  <a:pt x="591873" y="1076369"/>
                </a:lnTo>
                <a:lnTo>
                  <a:pt x="584730" y="1081656"/>
                </a:lnTo>
                <a:lnTo>
                  <a:pt x="577850" y="1086944"/>
                </a:lnTo>
                <a:lnTo>
                  <a:pt x="570442" y="1091702"/>
                </a:lnTo>
                <a:lnTo>
                  <a:pt x="563034" y="1096461"/>
                </a:lnTo>
                <a:lnTo>
                  <a:pt x="555096" y="1101219"/>
                </a:lnTo>
                <a:lnTo>
                  <a:pt x="547159" y="1105714"/>
                </a:lnTo>
                <a:lnTo>
                  <a:pt x="538957" y="1109944"/>
                </a:lnTo>
                <a:lnTo>
                  <a:pt x="530755" y="1113909"/>
                </a:lnTo>
                <a:lnTo>
                  <a:pt x="522288" y="1117875"/>
                </a:lnTo>
                <a:lnTo>
                  <a:pt x="513292" y="1121576"/>
                </a:lnTo>
                <a:lnTo>
                  <a:pt x="504296" y="1125277"/>
                </a:lnTo>
                <a:lnTo>
                  <a:pt x="495036" y="1128185"/>
                </a:lnTo>
                <a:lnTo>
                  <a:pt x="485246" y="1131357"/>
                </a:lnTo>
                <a:lnTo>
                  <a:pt x="475721" y="1134001"/>
                </a:lnTo>
                <a:lnTo>
                  <a:pt x="465932" y="1136909"/>
                </a:lnTo>
                <a:lnTo>
                  <a:pt x="455613" y="1139288"/>
                </a:lnTo>
                <a:lnTo>
                  <a:pt x="445029" y="1141139"/>
                </a:lnTo>
                <a:lnTo>
                  <a:pt x="434182" y="1142989"/>
                </a:lnTo>
                <a:lnTo>
                  <a:pt x="423069" y="1144840"/>
                </a:lnTo>
                <a:lnTo>
                  <a:pt x="423069" y="1329896"/>
                </a:lnTo>
                <a:lnTo>
                  <a:pt x="664898" y="1329896"/>
                </a:lnTo>
                <a:lnTo>
                  <a:pt x="671248" y="1330161"/>
                </a:lnTo>
                <a:lnTo>
                  <a:pt x="677069" y="1331218"/>
                </a:lnTo>
                <a:lnTo>
                  <a:pt x="682890" y="1332540"/>
                </a:lnTo>
                <a:lnTo>
                  <a:pt x="688711" y="1334919"/>
                </a:lnTo>
                <a:lnTo>
                  <a:pt x="694003" y="1337299"/>
                </a:lnTo>
                <a:lnTo>
                  <a:pt x="698765" y="1340207"/>
                </a:lnTo>
                <a:lnTo>
                  <a:pt x="703528" y="1343643"/>
                </a:lnTo>
                <a:lnTo>
                  <a:pt x="708026" y="1347609"/>
                </a:lnTo>
                <a:lnTo>
                  <a:pt x="711994" y="1351839"/>
                </a:lnTo>
                <a:lnTo>
                  <a:pt x="715169" y="1356862"/>
                </a:lnTo>
                <a:lnTo>
                  <a:pt x="718344" y="1361620"/>
                </a:lnTo>
                <a:lnTo>
                  <a:pt x="720726" y="1366908"/>
                </a:lnTo>
                <a:lnTo>
                  <a:pt x="722842" y="1372195"/>
                </a:lnTo>
                <a:lnTo>
                  <a:pt x="724430" y="1378011"/>
                </a:lnTo>
                <a:lnTo>
                  <a:pt x="725223" y="1384092"/>
                </a:lnTo>
                <a:lnTo>
                  <a:pt x="725488" y="1390172"/>
                </a:lnTo>
                <a:lnTo>
                  <a:pt x="725223" y="1396517"/>
                </a:lnTo>
                <a:lnTo>
                  <a:pt x="724430" y="1402333"/>
                </a:lnTo>
                <a:lnTo>
                  <a:pt x="722842" y="1408149"/>
                </a:lnTo>
                <a:lnTo>
                  <a:pt x="720726" y="1413965"/>
                </a:lnTo>
                <a:lnTo>
                  <a:pt x="718344" y="1419252"/>
                </a:lnTo>
                <a:lnTo>
                  <a:pt x="715169" y="1424011"/>
                </a:lnTo>
                <a:lnTo>
                  <a:pt x="711994" y="1429034"/>
                </a:lnTo>
                <a:lnTo>
                  <a:pt x="708026" y="1433264"/>
                </a:lnTo>
                <a:lnTo>
                  <a:pt x="703528" y="1436965"/>
                </a:lnTo>
                <a:lnTo>
                  <a:pt x="698765" y="1440402"/>
                </a:lnTo>
                <a:lnTo>
                  <a:pt x="694003" y="1443574"/>
                </a:lnTo>
                <a:lnTo>
                  <a:pt x="688711" y="1445953"/>
                </a:lnTo>
                <a:lnTo>
                  <a:pt x="682890" y="1448068"/>
                </a:lnTo>
                <a:lnTo>
                  <a:pt x="677069" y="1449654"/>
                </a:lnTo>
                <a:lnTo>
                  <a:pt x="671248" y="1450447"/>
                </a:lnTo>
                <a:lnTo>
                  <a:pt x="664898" y="1450976"/>
                </a:lnTo>
                <a:lnTo>
                  <a:pt x="60589" y="1450976"/>
                </a:lnTo>
                <a:lnTo>
                  <a:pt x="54239" y="1450447"/>
                </a:lnTo>
                <a:lnTo>
                  <a:pt x="48419" y="1449654"/>
                </a:lnTo>
                <a:lnTo>
                  <a:pt x="42598" y="1448068"/>
                </a:lnTo>
                <a:lnTo>
                  <a:pt x="37041" y="1445953"/>
                </a:lnTo>
                <a:lnTo>
                  <a:pt x="31750" y="1443574"/>
                </a:lnTo>
                <a:lnTo>
                  <a:pt x="26723" y="1440402"/>
                </a:lnTo>
                <a:lnTo>
                  <a:pt x="21960" y="1436965"/>
                </a:lnTo>
                <a:lnTo>
                  <a:pt x="17727" y="1433264"/>
                </a:lnTo>
                <a:lnTo>
                  <a:pt x="13758" y="1429034"/>
                </a:lnTo>
                <a:lnTo>
                  <a:pt x="10319" y="1424011"/>
                </a:lnTo>
                <a:lnTo>
                  <a:pt x="7408" y="1419252"/>
                </a:lnTo>
                <a:lnTo>
                  <a:pt x="5027" y="1413965"/>
                </a:lnTo>
                <a:lnTo>
                  <a:pt x="2646" y="1408149"/>
                </a:lnTo>
                <a:lnTo>
                  <a:pt x="1323" y="1402333"/>
                </a:lnTo>
                <a:lnTo>
                  <a:pt x="264" y="1396517"/>
                </a:lnTo>
                <a:lnTo>
                  <a:pt x="0" y="1390172"/>
                </a:lnTo>
                <a:lnTo>
                  <a:pt x="264" y="1384092"/>
                </a:lnTo>
                <a:lnTo>
                  <a:pt x="1323" y="1378011"/>
                </a:lnTo>
                <a:lnTo>
                  <a:pt x="2646" y="1372195"/>
                </a:lnTo>
                <a:lnTo>
                  <a:pt x="5027" y="1366908"/>
                </a:lnTo>
                <a:lnTo>
                  <a:pt x="7408" y="1361620"/>
                </a:lnTo>
                <a:lnTo>
                  <a:pt x="10319" y="1356862"/>
                </a:lnTo>
                <a:lnTo>
                  <a:pt x="13758" y="1351839"/>
                </a:lnTo>
                <a:lnTo>
                  <a:pt x="17727" y="1347609"/>
                </a:lnTo>
                <a:lnTo>
                  <a:pt x="21960" y="1343643"/>
                </a:lnTo>
                <a:lnTo>
                  <a:pt x="26723" y="1340207"/>
                </a:lnTo>
                <a:lnTo>
                  <a:pt x="31750" y="1337299"/>
                </a:lnTo>
                <a:lnTo>
                  <a:pt x="37041" y="1334919"/>
                </a:lnTo>
                <a:lnTo>
                  <a:pt x="42598" y="1332540"/>
                </a:lnTo>
                <a:lnTo>
                  <a:pt x="48419" y="1331218"/>
                </a:lnTo>
                <a:lnTo>
                  <a:pt x="54239" y="1330161"/>
                </a:lnTo>
                <a:lnTo>
                  <a:pt x="60589" y="1329896"/>
                </a:lnTo>
                <a:lnTo>
                  <a:pt x="302419" y="1329896"/>
                </a:lnTo>
                <a:lnTo>
                  <a:pt x="302419" y="1144840"/>
                </a:lnTo>
                <a:lnTo>
                  <a:pt x="291571" y="1142989"/>
                </a:lnTo>
                <a:lnTo>
                  <a:pt x="280459" y="1141139"/>
                </a:lnTo>
                <a:lnTo>
                  <a:pt x="270140" y="1139288"/>
                </a:lnTo>
                <a:lnTo>
                  <a:pt x="259821" y="1136909"/>
                </a:lnTo>
                <a:lnTo>
                  <a:pt x="250032" y="1134001"/>
                </a:lnTo>
                <a:lnTo>
                  <a:pt x="240242" y="1131357"/>
                </a:lnTo>
                <a:lnTo>
                  <a:pt x="230452" y="1128185"/>
                </a:lnTo>
                <a:lnTo>
                  <a:pt x="221457" y="1125277"/>
                </a:lnTo>
                <a:lnTo>
                  <a:pt x="212196" y="1121576"/>
                </a:lnTo>
                <a:lnTo>
                  <a:pt x="203465" y="1117875"/>
                </a:lnTo>
                <a:lnTo>
                  <a:pt x="194734" y="1113909"/>
                </a:lnTo>
                <a:lnTo>
                  <a:pt x="186532" y="1109944"/>
                </a:lnTo>
                <a:lnTo>
                  <a:pt x="178329" y="1105714"/>
                </a:lnTo>
                <a:lnTo>
                  <a:pt x="170392" y="1101219"/>
                </a:lnTo>
                <a:lnTo>
                  <a:pt x="162454" y="1096461"/>
                </a:lnTo>
                <a:lnTo>
                  <a:pt x="155310" y="1091702"/>
                </a:lnTo>
                <a:lnTo>
                  <a:pt x="147902" y="1086944"/>
                </a:lnTo>
                <a:lnTo>
                  <a:pt x="140758" y="1081656"/>
                </a:lnTo>
                <a:lnTo>
                  <a:pt x="133879" y="1076369"/>
                </a:lnTo>
                <a:lnTo>
                  <a:pt x="127264" y="1071082"/>
                </a:lnTo>
                <a:lnTo>
                  <a:pt x="120650" y="1065530"/>
                </a:lnTo>
                <a:lnTo>
                  <a:pt x="114564" y="1059978"/>
                </a:lnTo>
                <a:lnTo>
                  <a:pt x="108479" y="1054162"/>
                </a:lnTo>
                <a:lnTo>
                  <a:pt x="102394" y="1048082"/>
                </a:lnTo>
                <a:lnTo>
                  <a:pt x="97102" y="1042001"/>
                </a:lnTo>
                <a:lnTo>
                  <a:pt x="91546" y="1035921"/>
                </a:lnTo>
                <a:lnTo>
                  <a:pt x="85989" y="1029841"/>
                </a:lnTo>
                <a:lnTo>
                  <a:pt x="81227" y="1023496"/>
                </a:lnTo>
                <a:lnTo>
                  <a:pt x="75935" y="1017151"/>
                </a:lnTo>
                <a:lnTo>
                  <a:pt x="71437" y="1010542"/>
                </a:lnTo>
                <a:lnTo>
                  <a:pt x="66675" y="1003933"/>
                </a:lnTo>
                <a:lnTo>
                  <a:pt x="62177" y="997323"/>
                </a:lnTo>
                <a:lnTo>
                  <a:pt x="53975" y="983841"/>
                </a:lnTo>
                <a:lnTo>
                  <a:pt x="46302" y="970094"/>
                </a:lnTo>
                <a:lnTo>
                  <a:pt x="39687" y="956347"/>
                </a:lnTo>
                <a:lnTo>
                  <a:pt x="33337" y="942335"/>
                </a:lnTo>
                <a:lnTo>
                  <a:pt x="27516" y="928324"/>
                </a:lnTo>
                <a:lnTo>
                  <a:pt x="22489" y="914312"/>
                </a:lnTo>
                <a:lnTo>
                  <a:pt x="17991" y="900830"/>
                </a:lnTo>
                <a:lnTo>
                  <a:pt x="14023" y="886554"/>
                </a:lnTo>
                <a:lnTo>
                  <a:pt x="10583" y="873336"/>
                </a:lnTo>
                <a:lnTo>
                  <a:pt x="7673" y="859853"/>
                </a:lnTo>
                <a:lnTo>
                  <a:pt x="5291" y="846370"/>
                </a:lnTo>
                <a:lnTo>
                  <a:pt x="3439" y="833681"/>
                </a:lnTo>
                <a:lnTo>
                  <a:pt x="1852" y="821255"/>
                </a:lnTo>
                <a:lnTo>
                  <a:pt x="1058" y="809095"/>
                </a:lnTo>
                <a:lnTo>
                  <a:pt x="264" y="797462"/>
                </a:lnTo>
                <a:lnTo>
                  <a:pt x="0" y="786095"/>
                </a:lnTo>
                <a:lnTo>
                  <a:pt x="0" y="544464"/>
                </a:lnTo>
                <a:lnTo>
                  <a:pt x="264" y="538383"/>
                </a:lnTo>
                <a:lnTo>
                  <a:pt x="1323" y="532303"/>
                </a:lnTo>
                <a:lnTo>
                  <a:pt x="2646" y="526487"/>
                </a:lnTo>
                <a:lnTo>
                  <a:pt x="5027" y="521200"/>
                </a:lnTo>
                <a:lnTo>
                  <a:pt x="7408" y="515912"/>
                </a:lnTo>
                <a:lnTo>
                  <a:pt x="10319" y="510889"/>
                </a:lnTo>
                <a:lnTo>
                  <a:pt x="13758" y="506131"/>
                </a:lnTo>
                <a:lnTo>
                  <a:pt x="17727" y="501901"/>
                </a:lnTo>
                <a:lnTo>
                  <a:pt x="21960" y="497935"/>
                </a:lnTo>
                <a:lnTo>
                  <a:pt x="26723" y="494499"/>
                </a:lnTo>
                <a:lnTo>
                  <a:pt x="31750" y="491591"/>
                </a:lnTo>
                <a:lnTo>
                  <a:pt x="37041" y="488947"/>
                </a:lnTo>
                <a:lnTo>
                  <a:pt x="42598" y="487096"/>
                </a:lnTo>
                <a:lnTo>
                  <a:pt x="48419" y="485510"/>
                </a:lnTo>
                <a:lnTo>
                  <a:pt x="54239" y="484453"/>
                </a:lnTo>
                <a:lnTo>
                  <a:pt x="60589" y="484188"/>
                </a:lnTo>
                <a:close/>
                <a:moveTo>
                  <a:pt x="362612" y="0"/>
                </a:moveTo>
                <a:lnTo>
                  <a:pt x="372158" y="265"/>
                </a:lnTo>
                <a:lnTo>
                  <a:pt x="381438" y="1058"/>
                </a:lnTo>
                <a:lnTo>
                  <a:pt x="390454" y="2116"/>
                </a:lnTo>
                <a:lnTo>
                  <a:pt x="399204" y="3967"/>
                </a:lnTo>
                <a:lnTo>
                  <a:pt x="408219" y="5553"/>
                </a:lnTo>
                <a:lnTo>
                  <a:pt x="416705" y="8198"/>
                </a:lnTo>
                <a:lnTo>
                  <a:pt x="424925" y="11107"/>
                </a:lnTo>
                <a:lnTo>
                  <a:pt x="433145" y="14280"/>
                </a:lnTo>
                <a:lnTo>
                  <a:pt x="441630" y="17982"/>
                </a:lnTo>
                <a:lnTo>
                  <a:pt x="449054" y="21949"/>
                </a:lnTo>
                <a:lnTo>
                  <a:pt x="456744" y="26444"/>
                </a:lnTo>
                <a:lnTo>
                  <a:pt x="464169" y="30939"/>
                </a:lnTo>
                <a:lnTo>
                  <a:pt x="471328" y="36228"/>
                </a:lnTo>
                <a:lnTo>
                  <a:pt x="478222" y="41253"/>
                </a:lnTo>
                <a:lnTo>
                  <a:pt x="484851" y="47070"/>
                </a:lnTo>
                <a:lnTo>
                  <a:pt x="490950" y="53152"/>
                </a:lnTo>
                <a:lnTo>
                  <a:pt x="497049" y="59234"/>
                </a:lnTo>
                <a:lnTo>
                  <a:pt x="502882" y="66110"/>
                </a:lnTo>
                <a:lnTo>
                  <a:pt x="508186" y="72721"/>
                </a:lnTo>
                <a:lnTo>
                  <a:pt x="513224" y="80125"/>
                </a:lnTo>
                <a:lnTo>
                  <a:pt x="517997" y="87265"/>
                </a:lnTo>
                <a:lnTo>
                  <a:pt x="522504" y="94934"/>
                </a:lnTo>
                <a:lnTo>
                  <a:pt x="526482" y="102602"/>
                </a:lnTo>
                <a:lnTo>
                  <a:pt x="530194" y="110800"/>
                </a:lnTo>
                <a:lnTo>
                  <a:pt x="533111" y="118998"/>
                </a:lnTo>
                <a:lnTo>
                  <a:pt x="536293" y="127195"/>
                </a:lnTo>
                <a:lnTo>
                  <a:pt x="538679" y="136186"/>
                </a:lnTo>
                <a:lnTo>
                  <a:pt x="540536" y="144648"/>
                </a:lnTo>
                <a:lnTo>
                  <a:pt x="542392" y="153903"/>
                </a:lnTo>
                <a:lnTo>
                  <a:pt x="543187" y="162630"/>
                </a:lnTo>
                <a:lnTo>
                  <a:pt x="544248" y="172150"/>
                </a:lnTo>
                <a:lnTo>
                  <a:pt x="544513" y="181141"/>
                </a:lnTo>
                <a:lnTo>
                  <a:pt x="544513" y="483394"/>
                </a:lnTo>
                <a:lnTo>
                  <a:pt x="180975" y="483394"/>
                </a:lnTo>
                <a:lnTo>
                  <a:pt x="180975" y="181141"/>
                </a:lnTo>
                <a:lnTo>
                  <a:pt x="181240" y="172150"/>
                </a:lnTo>
                <a:lnTo>
                  <a:pt x="181771" y="162630"/>
                </a:lnTo>
                <a:lnTo>
                  <a:pt x="183097" y="153903"/>
                </a:lnTo>
                <a:lnTo>
                  <a:pt x="184422" y="144648"/>
                </a:lnTo>
                <a:lnTo>
                  <a:pt x="186809" y="136186"/>
                </a:lnTo>
                <a:lnTo>
                  <a:pt x="189195" y="127195"/>
                </a:lnTo>
                <a:lnTo>
                  <a:pt x="191847" y="118998"/>
                </a:lnTo>
                <a:lnTo>
                  <a:pt x="195294" y="110800"/>
                </a:lnTo>
                <a:lnTo>
                  <a:pt x="199006" y="102602"/>
                </a:lnTo>
                <a:lnTo>
                  <a:pt x="202984" y="94934"/>
                </a:lnTo>
                <a:lnTo>
                  <a:pt x="207226" y="87265"/>
                </a:lnTo>
                <a:lnTo>
                  <a:pt x="211999" y="80125"/>
                </a:lnTo>
                <a:lnTo>
                  <a:pt x="217037" y="72721"/>
                </a:lnTo>
                <a:lnTo>
                  <a:pt x="222341" y="66110"/>
                </a:lnTo>
                <a:lnTo>
                  <a:pt x="228174" y="59234"/>
                </a:lnTo>
                <a:lnTo>
                  <a:pt x="234008" y="53152"/>
                </a:lnTo>
                <a:lnTo>
                  <a:pt x="240372" y="47070"/>
                </a:lnTo>
                <a:lnTo>
                  <a:pt x="247266" y="41253"/>
                </a:lnTo>
                <a:lnTo>
                  <a:pt x="253895" y="36228"/>
                </a:lnTo>
                <a:lnTo>
                  <a:pt x="261054" y="30939"/>
                </a:lnTo>
                <a:lnTo>
                  <a:pt x="268479" y="26444"/>
                </a:lnTo>
                <a:lnTo>
                  <a:pt x="275903" y="21949"/>
                </a:lnTo>
                <a:lnTo>
                  <a:pt x="283858" y="17982"/>
                </a:lnTo>
                <a:lnTo>
                  <a:pt x="291813" y="14280"/>
                </a:lnTo>
                <a:lnTo>
                  <a:pt x="300033" y="11107"/>
                </a:lnTo>
                <a:lnTo>
                  <a:pt x="308518" y="8198"/>
                </a:lnTo>
                <a:lnTo>
                  <a:pt x="317269" y="5553"/>
                </a:lnTo>
                <a:lnTo>
                  <a:pt x="326019" y="3967"/>
                </a:lnTo>
                <a:lnTo>
                  <a:pt x="334770" y="2116"/>
                </a:lnTo>
                <a:lnTo>
                  <a:pt x="344050" y="1058"/>
                </a:lnTo>
                <a:lnTo>
                  <a:pt x="353331" y="265"/>
                </a:lnTo>
                <a:lnTo>
                  <a:pt x="362612"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KSO_Shape"/>
          <p:cNvSpPr/>
          <p:nvPr/>
        </p:nvSpPr>
        <p:spPr>
          <a:xfrm>
            <a:off x="7070760" y="2436840"/>
            <a:ext cx="895320" cy="942840"/>
          </a:xfrm>
          <a:custGeom>
            <a:avLst/>
            <a:gdLst/>
            <a:ahLst/>
            <a:rect l="l" t="t" r="r" b="b"/>
            <a:pathLst>
              <a:path w="5831" h="6140">
                <a:moveTo>
                  <a:pt x="171" y="2025"/>
                </a:moveTo>
                <a:lnTo>
                  <a:pt x="709" y="2025"/>
                </a:lnTo>
                <a:lnTo>
                  <a:pt x="709" y="2845"/>
                </a:lnTo>
                <a:lnTo>
                  <a:pt x="881" y="2845"/>
                </a:lnTo>
                <a:lnTo>
                  <a:pt x="881" y="138"/>
                </a:lnTo>
                <a:lnTo>
                  <a:pt x="881" y="0"/>
                </a:lnTo>
                <a:lnTo>
                  <a:pt x="1021" y="0"/>
                </a:lnTo>
                <a:lnTo>
                  <a:pt x="3822" y="0"/>
                </a:lnTo>
                <a:lnTo>
                  <a:pt x="3855" y="0"/>
                </a:lnTo>
                <a:lnTo>
                  <a:pt x="3886" y="16"/>
                </a:lnTo>
                <a:lnTo>
                  <a:pt x="4896" y="535"/>
                </a:lnTo>
                <a:lnTo>
                  <a:pt x="4971" y="573"/>
                </a:lnTo>
                <a:lnTo>
                  <a:pt x="4971" y="658"/>
                </a:lnTo>
                <a:lnTo>
                  <a:pt x="4971" y="2845"/>
                </a:lnTo>
                <a:lnTo>
                  <a:pt x="5140" y="2845"/>
                </a:lnTo>
                <a:lnTo>
                  <a:pt x="5140" y="2025"/>
                </a:lnTo>
                <a:lnTo>
                  <a:pt x="5697" y="2025"/>
                </a:lnTo>
                <a:lnTo>
                  <a:pt x="5712" y="2117"/>
                </a:lnTo>
                <a:lnTo>
                  <a:pt x="5726" y="2209"/>
                </a:lnTo>
                <a:lnTo>
                  <a:pt x="5739" y="2301"/>
                </a:lnTo>
                <a:lnTo>
                  <a:pt x="5752" y="2392"/>
                </a:lnTo>
                <a:lnTo>
                  <a:pt x="5764" y="2483"/>
                </a:lnTo>
                <a:lnTo>
                  <a:pt x="5774" y="2576"/>
                </a:lnTo>
                <a:lnTo>
                  <a:pt x="5784" y="2667"/>
                </a:lnTo>
                <a:lnTo>
                  <a:pt x="5793" y="2759"/>
                </a:lnTo>
                <a:lnTo>
                  <a:pt x="5802" y="2850"/>
                </a:lnTo>
                <a:lnTo>
                  <a:pt x="5809" y="2942"/>
                </a:lnTo>
                <a:lnTo>
                  <a:pt x="5815" y="3034"/>
                </a:lnTo>
                <a:lnTo>
                  <a:pt x="5820" y="3125"/>
                </a:lnTo>
                <a:lnTo>
                  <a:pt x="5824" y="3217"/>
                </a:lnTo>
                <a:lnTo>
                  <a:pt x="5827" y="3308"/>
                </a:lnTo>
                <a:lnTo>
                  <a:pt x="5830" y="3400"/>
                </a:lnTo>
                <a:lnTo>
                  <a:pt x="5831" y="3492"/>
                </a:lnTo>
                <a:lnTo>
                  <a:pt x="5831" y="3584"/>
                </a:lnTo>
                <a:lnTo>
                  <a:pt x="5831" y="3675"/>
                </a:lnTo>
                <a:lnTo>
                  <a:pt x="5829" y="3766"/>
                </a:lnTo>
                <a:lnTo>
                  <a:pt x="5825" y="3858"/>
                </a:lnTo>
                <a:lnTo>
                  <a:pt x="5821" y="3950"/>
                </a:lnTo>
                <a:lnTo>
                  <a:pt x="5816" y="4042"/>
                </a:lnTo>
                <a:lnTo>
                  <a:pt x="5810" y="4133"/>
                </a:lnTo>
                <a:lnTo>
                  <a:pt x="5802" y="4224"/>
                </a:lnTo>
                <a:lnTo>
                  <a:pt x="5793" y="4316"/>
                </a:lnTo>
                <a:lnTo>
                  <a:pt x="5783" y="4408"/>
                </a:lnTo>
                <a:lnTo>
                  <a:pt x="5772" y="4500"/>
                </a:lnTo>
                <a:lnTo>
                  <a:pt x="5759" y="4591"/>
                </a:lnTo>
                <a:lnTo>
                  <a:pt x="5745" y="4682"/>
                </a:lnTo>
                <a:lnTo>
                  <a:pt x="5730" y="4774"/>
                </a:lnTo>
                <a:lnTo>
                  <a:pt x="5714" y="4866"/>
                </a:lnTo>
                <a:lnTo>
                  <a:pt x="5697" y="4958"/>
                </a:lnTo>
                <a:lnTo>
                  <a:pt x="4971" y="4958"/>
                </a:lnTo>
                <a:lnTo>
                  <a:pt x="4971" y="6140"/>
                </a:lnTo>
                <a:lnTo>
                  <a:pt x="881" y="6140"/>
                </a:lnTo>
                <a:lnTo>
                  <a:pt x="881" y="4958"/>
                </a:lnTo>
                <a:lnTo>
                  <a:pt x="171" y="4958"/>
                </a:lnTo>
                <a:lnTo>
                  <a:pt x="150" y="4867"/>
                </a:lnTo>
                <a:lnTo>
                  <a:pt x="131" y="4777"/>
                </a:lnTo>
                <a:lnTo>
                  <a:pt x="113" y="4687"/>
                </a:lnTo>
                <a:lnTo>
                  <a:pt x="97" y="4597"/>
                </a:lnTo>
                <a:lnTo>
                  <a:pt x="81" y="4506"/>
                </a:lnTo>
                <a:lnTo>
                  <a:pt x="68" y="4415"/>
                </a:lnTo>
                <a:lnTo>
                  <a:pt x="54" y="4325"/>
                </a:lnTo>
                <a:lnTo>
                  <a:pt x="43" y="4233"/>
                </a:lnTo>
                <a:lnTo>
                  <a:pt x="33" y="4143"/>
                </a:lnTo>
                <a:lnTo>
                  <a:pt x="24" y="4052"/>
                </a:lnTo>
                <a:lnTo>
                  <a:pt x="17" y="3960"/>
                </a:lnTo>
                <a:lnTo>
                  <a:pt x="11" y="3870"/>
                </a:lnTo>
                <a:lnTo>
                  <a:pt x="6" y="3779"/>
                </a:lnTo>
                <a:lnTo>
                  <a:pt x="3" y="3687"/>
                </a:lnTo>
                <a:lnTo>
                  <a:pt x="1" y="3596"/>
                </a:lnTo>
                <a:lnTo>
                  <a:pt x="0" y="3504"/>
                </a:lnTo>
                <a:lnTo>
                  <a:pt x="1" y="3412"/>
                </a:lnTo>
                <a:lnTo>
                  <a:pt x="3" y="3320"/>
                </a:lnTo>
                <a:lnTo>
                  <a:pt x="6" y="3229"/>
                </a:lnTo>
                <a:lnTo>
                  <a:pt x="11" y="3137"/>
                </a:lnTo>
                <a:lnTo>
                  <a:pt x="16" y="3044"/>
                </a:lnTo>
                <a:lnTo>
                  <a:pt x="24" y="2953"/>
                </a:lnTo>
                <a:lnTo>
                  <a:pt x="32" y="2860"/>
                </a:lnTo>
                <a:lnTo>
                  <a:pt x="42" y="2768"/>
                </a:lnTo>
                <a:lnTo>
                  <a:pt x="54" y="2675"/>
                </a:lnTo>
                <a:lnTo>
                  <a:pt x="66" y="2583"/>
                </a:lnTo>
                <a:lnTo>
                  <a:pt x="81" y="2490"/>
                </a:lnTo>
                <a:lnTo>
                  <a:pt x="95" y="2398"/>
                </a:lnTo>
                <a:lnTo>
                  <a:pt x="112" y="2305"/>
                </a:lnTo>
                <a:lnTo>
                  <a:pt x="131" y="2212"/>
                </a:lnTo>
                <a:lnTo>
                  <a:pt x="150" y="2119"/>
                </a:lnTo>
                <a:lnTo>
                  <a:pt x="171" y="2025"/>
                </a:lnTo>
                <a:close/>
                <a:moveTo>
                  <a:pt x="4570" y="4372"/>
                </a:moveTo>
                <a:lnTo>
                  <a:pt x="1283" y="4372"/>
                </a:lnTo>
                <a:lnTo>
                  <a:pt x="1283" y="5740"/>
                </a:lnTo>
                <a:lnTo>
                  <a:pt x="4570" y="5740"/>
                </a:lnTo>
                <a:lnTo>
                  <a:pt x="4570" y="4372"/>
                </a:lnTo>
                <a:close/>
                <a:moveTo>
                  <a:pt x="1283" y="2845"/>
                </a:moveTo>
                <a:lnTo>
                  <a:pt x="4590" y="2845"/>
                </a:lnTo>
                <a:lnTo>
                  <a:pt x="4590" y="845"/>
                </a:lnTo>
                <a:lnTo>
                  <a:pt x="3790" y="400"/>
                </a:lnTo>
                <a:lnTo>
                  <a:pt x="1283" y="400"/>
                </a:lnTo>
                <a:lnTo>
                  <a:pt x="1283" y="2845"/>
                </a:lnTo>
                <a:close/>
                <a:moveTo>
                  <a:pt x="4496" y="3320"/>
                </a:moveTo>
                <a:lnTo>
                  <a:pt x="4496" y="3589"/>
                </a:lnTo>
                <a:lnTo>
                  <a:pt x="4694" y="3589"/>
                </a:lnTo>
                <a:lnTo>
                  <a:pt x="4971" y="3589"/>
                </a:lnTo>
                <a:lnTo>
                  <a:pt x="5140" y="3589"/>
                </a:lnTo>
                <a:lnTo>
                  <a:pt x="5140" y="3320"/>
                </a:lnTo>
                <a:lnTo>
                  <a:pt x="4971" y="3320"/>
                </a:lnTo>
                <a:lnTo>
                  <a:pt x="4694" y="3320"/>
                </a:lnTo>
                <a:lnTo>
                  <a:pt x="4496" y="332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3" name="KSO_Shape"/>
          <p:cNvSpPr/>
          <p:nvPr/>
        </p:nvSpPr>
        <p:spPr>
          <a:xfrm flipH="1">
            <a:off x="10063080" y="2398680"/>
            <a:ext cx="1100160" cy="1004760"/>
          </a:xfrm>
          <a:custGeom>
            <a:avLst/>
            <a:gdLst/>
            <a:ahLst/>
            <a:rect l="l" t="t" r="r" b="b"/>
            <a:pathLst>
              <a:path w="1301527" h="1186978">
                <a:moveTo>
                  <a:pt x="744913" y="309576"/>
                </a:moveTo>
                <a:lnTo>
                  <a:pt x="744913" y="877403"/>
                </a:lnTo>
                <a:lnTo>
                  <a:pt x="1001726" y="719489"/>
                </a:lnTo>
                <a:lnTo>
                  <a:pt x="1259526" y="719489"/>
                </a:lnTo>
                <a:cubicBezTo>
                  <a:pt x="1282723" y="719489"/>
                  <a:pt x="1301527" y="700685"/>
                  <a:pt x="1301527" y="677488"/>
                </a:cubicBezTo>
                <a:lnTo>
                  <a:pt x="1301527" y="509490"/>
                </a:lnTo>
                <a:cubicBezTo>
                  <a:pt x="1301527" y="486293"/>
                  <a:pt x="1282723" y="467489"/>
                  <a:pt x="1259526" y="467489"/>
                </a:cubicBezTo>
                <a:lnTo>
                  <a:pt x="1001724" y="467489"/>
                </a:lnTo>
                <a:lnTo>
                  <a:pt x="744913" y="309576"/>
                </a:lnTo>
                <a:close/>
                <a:moveTo>
                  <a:pt x="486516" y="175870"/>
                </a:moveTo>
                <a:cubicBezTo>
                  <a:pt x="371649" y="278215"/>
                  <a:pt x="300385" y="427530"/>
                  <a:pt x="300385" y="593488"/>
                </a:cubicBezTo>
                <a:cubicBezTo>
                  <a:pt x="300385" y="759449"/>
                  <a:pt x="371649" y="908762"/>
                  <a:pt x="486516" y="1011109"/>
                </a:cubicBezTo>
                <a:lnTo>
                  <a:pt x="609421" y="924274"/>
                </a:lnTo>
                <a:cubicBezTo>
                  <a:pt x="509665" y="848549"/>
                  <a:pt x="446248" y="728424"/>
                  <a:pt x="446248" y="593488"/>
                </a:cubicBezTo>
                <a:cubicBezTo>
                  <a:pt x="446248" y="458553"/>
                  <a:pt x="509665" y="338428"/>
                  <a:pt x="609421" y="262704"/>
                </a:cubicBezTo>
                <a:lnTo>
                  <a:pt x="486516" y="175870"/>
                </a:lnTo>
                <a:close/>
                <a:moveTo>
                  <a:pt x="237591" y="0"/>
                </a:moveTo>
                <a:cubicBezTo>
                  <a:pt x="89700" y="153897"/>
                  <a:pt x="0" y="363218"/>
                  <a:pt x="0" y="593490"/>
                </a:cubicBezTo>
                <a:cubicBezTo>
                  <a:pt x="0" y="823760"/>
                  <a:pt x="89700" y="1033081"/>
                  <a:pt x="237589" y="1186978"/>
                </a:cubicBezTo>
                <a:lnTo>
                  <a:pt x="362934" y="1098420"/>
                </a:lnTo>
                <a:cubicBezTo>
                  <a:pt x="233669" y="969220"/>
                  <a:pt x="153719" y="790692"/>
                  <a:pt x="153719" y="593490"/>
                </a:cubicBezTo>
                <a:cubicBezTo>
                  <a:pt x="153719" y="396288"/>
                  <a:pt x="233671" y="217758"/>
                  <a:pt x="362936" y="88558"/>
                </a:cubicBezTo>
                <a:lnTo>
                  <a:pt x="23759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 name="文本框 14"/>
          <p:cNvSpPr/>
          <p:nvPr/>
        </p:nvSpPr>
        <p:spPr>
          <a:xfrm>
            <a:off x="601560" y="3903840"/>
            <a:ext cx="21844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295" name="文本框 15"/>
          <p:cNvSpPr/>
          <p:nvPr/>
        </p:nvSpPr>
        <p:spPr>
          <a:xfrm>
            <a:off x="992880" y="354348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请在这里添加标题</a:t>
            </a:r>
            <a:endParaRPr b="0" lang="en-US" sz="2000" spc="-1" strike="noStrike">
              <a:solidFill>
                <a:srgbClr val="000000"/>
              </a:solidFill>
              <a:latin typeface="Arial"/>
            </a:endParaRPr>
          </a:p>
        </p:txBody>
      </p:sp>
      <p:sp>
        <p:nvSpPr>
          <p:cNvPr id="296" name="文本框 16"/>
          <p:cNvSpPr/>
          <p:nvPr/>
        </p:nvSpPr>
        <p:spPr>
          <a:xfrm>
            <a:off x="3611520" y="3903840"/>
            <a:ext cx="21844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297" name="文本框 17"/>
          <p:cNvSpPr/>
          <p:nvPr/>
        </p:nvSpPr>
        <p:spPr>
          <a:xfrm>
            <a:off x="4002840" y="354348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请在这里添加标题</a:t>
            </a:r>
            <a:endParaRPr b="0" lang="en-US" sz="2000" spc="-1" strike="noStrike">
              <a:solidFill>
                <a:srgbClr val="000000"/>
              </a:solidFill>
              <a:latin typeface="Arial"/>
            </a:endParaRPr>
          </a:p>
        </p:txBody>
      </p:sp>
      <p:sp>
        <p:nvSpPr>
          <p:cNvPr id="298" name="文本框 18"/>
          <p:cNvSpPr/>
          <p:nvPr/>
        </p:nvSpPr>
        <p:spPr>
          <a:xfrm>
            <a:off x="6392880" y="3903840"/>
            <a:ext cx="21844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299" name="文本框 19"/>
          <p:cNvSpPr/>
          <p:nvPr/>
        </p:nvSpPr>
        <p:spPr>
          <a:xfrm>
            <a:off x="6784200" y="354348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请在这里添加标题</a:t>
            </a:r>
            <a:endParaRPr b="0" lang="en-US" sz="2000" spc="-1" strike="noStrike">
              <a:solidFill>
                <a:srgbClr val="000000"/>
              </a:solidFill>
              <a:latin typeface="Arial"/>
            </a:endParaRPr>
          </a:p>
        </p:txBody>
      </p:sp>
      <p:sp>
        <p:nvSpPr>
          <p:cNvPr id="300" name="文本框 20"/>
          <p:cNvSpPr/>
          <p:nvPr/>
        </p:nvSpPr>
        <p:spPr>
          <a:xfrm>
            <a:off x="9574200" y="3903840"/>
            <a:ext cx="21844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301" name="文本框 21"/>
          <p:cNvSpPr/>
          <p:nvPr/>
        </p:nvSpPr>
        <p:spPr>
          <a:xfrm>
            <a:off x="9965520" y="354348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请在这里添加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图片 1" descr=""/>
          <p:cNvPicPr/>
          <p:nvPr/>
        </p:nvPicPr>
        <p:blipFill>
          <a:blip r:embed="rId1"/>
          <a:stretch/>
        </p:blipFill>
        <p:spPr>
          <a:xfrm>
            <a:off x="8610480" y="0"/>
            <a:ext cx="3581640" cy="1006560"/>
          </a:xfrm>
          <a:prstGeom prst="rect">
            <a:avLst/>
          </a:prstGeom>
          <a:ln w="0">
            <a:noFill/>
          </a:ln>
        </p:spPr>
      </p:pic>
      <p:sp>
        <p:nvSpPr>
          <p:cNvPr id="303"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二部分标题</a:t>
            </a:r>
            <a:endParaRPr b="0" lang="en-US" sz="2800" spc="-1" strike="noStrike">
              <a:solidFill>
                <a:srgbClr val="000000"/>
              </a:solidFill>
              <a:latin typeface="Arial"/>
            </a:endParaRPr>
          </a:p>
        </p:txBody>
      </p:sp>
      <p:pic>
        <p:nvPicPr>
          <p:cNvPr id="304" name="直接连接符 3" descr=""/>
          <p:cNvPicPr/>
          <p:nvPr/>
        </p:nvPicPr>
        <p:blipFill>
          <a:blip r:embed="rId2"/>
          <a:stretch/>
        </p:blipFill>
        <p:spPr>
          <a:xfrm>
            <a:off x="0" y="798480"/>
            <a:ext cx="11192040" cy="23760"/>
          </a:xfrm>
          <a:prstGeom prst="rect">
            <a:avLst/>
          </a:prstGeom>
          <a:ln w="0">
            <a:noFill/>
          </a:ln>
        </p:spPr>
      </p:pic>
      <p:sp>
        <p:nvSpPr>
          <p:cNvPr id="305"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6" name="组合 5"/>
          <p:cNvGrpSpPr/>
          <p:nvPr/>
        </p:nvGrpSpPr>
        <p:grpSpPr>
          <a:xfrm>
            <a:off x="209520" y="125280"/>
            <a:ext cx="638280" cy="638280"/>
            <a:chOff x="209520" y="125280"/>
            <a:chExt cx="638280" cy="638280"/>
          </a:xfrm>
        </p:grpSpPr>
        <p:sp>
          <p:nvSpPr>
            <p:cNvPr id="307" name="椭圆 6"/>
            <p:cNvSpPr/>
            <p:nvPr/>
          </p:nvSpPr>
          <p:spPr>
            <a:xfrm>
              <a:off x="209520" y="125280"/>
              <a:ext cx="6382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椭圆 7"/>
            <p:cNvSpPr/>
            <p:nvPr/>
          </p:nvSpPr>
          <p:spPr>
            <a:xfrm>
              <a:off x="252360" y="168120"/>
              <a:ext cx="5526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KSO_Shape"/>
            <p:cNvSpPr/>
            <p:nvPr/>
          </p:nvSpPr>
          <p:spPr>
            <a:xfrm>
              <a:off x="344520" y="269640"/>
              <a:ext cx="368280" cy="349200"/>
            </a:xfrm>
            <a:custGeom>
              <a:avLst/>
              <a:gdLst/>
              <a:ahLst/>
              <a:rect l="l" t="t" r="r" b="b"/>
              <a:pathLst>
                <a:path w="5871" h="5585">
                  <a:moveTo>
                    <a:pt x="774" y="374"/>
                  </a:moveTo>
                  <a:lnTo>
                    <a:pt x="774" y="1910"/>
                  </a:lnTo>
                  <a:lnTo>
                    <a:pt x="5107" y="1910"/>
                  </a:lnTo>
                  <a:lnTo>
                    <a:pt x="5107" y="374"/>
                  </a:lnTo>
                  <a:lnTo>
                    <a:pt x="774" y="374"/>
                  </a:lnTo>
                  <a:close/>
                  <a:moveTo>
                    <a:pt x="1597" y="3265"/>
                  </a:moveTo>
                  <a:lnTo>
                    <a:pt x="1597" y="3265"/>
                  </a:lnTo>
                  <a:lnTo>
                    <a:pt x="1591" y="3265"/>
                  </a:lnTo>
                  <a:lnTo>
                    <a:pt x="1587" y="3265"/>
                  </a:lnTo>
                  <a:lnTo>
                    <a:pt x="1586" y="3265"/>
                  </a:lnTo>
                  <a:lnTo>
                    <a:pt x="1581" y="3265"/>
                  </a:lnTo>
                  <a:lnTo>
                    <a:pt x="1576" y="3265"/>
                  </a:lnTo>
                  <a:lnTo>
                    <a:pt x="1571" y="3265"/>
                  </a:lnTo>
                  <a:lnTo>
                    <a:pt x="1570" y="3265"/>
                  </a:lnTo>
                  <a:lnTo>
                    <a:pt x="1566" y="3265"/>
                  </a:lnTo>
                  <a:lnTo>
                    <a:pt x="1560" y="3265"/>
                  </a:lnTo>
                  <a:lnTo>
                    <a:pt x="1555" y="3265"/>
                  </a:lnTo>
                  <a:lnTo>
                    <a:pt x="1550" y="3265"/>
                  </a:lnTo>
                  <a:lnTo>
                    <a:pt x="1545" y="3265"/>
                  </a:lnTo>
                  <a:lnTo>
                    <a:pt x="1540" y="3265"/>
                  </a:lnTo>
                  <a:lnTo>
                    <a:pt x="1539" y="3265"/>
                  </a:lnTo>
                  <a:lnTo>
                    <a:pt x="1535" y="3265"/>
                  </a:lnTo>
                  <a:lnTo>
                    <a:pt x="1529" y="3265"/>
                  </a:lnTo>
                  <a:lnTo>
                    <a:pt x="1525" y="3265"/>
                  </a:lnTo>
                  <a:lnTo>
                    <a:pt x="1524" y="3265"/>
                  </a:lnTo>
                  <a:lnTo>
                    <a:pt x="1519" y="3265"/>
                  </a:lnTo>
                  <a:lnTo>
                    <a:pt x="1514" y="3265"/>
                  </a:lnTo>
                  <a:lnTo>
                    <a:pt x="1509" y="3265"/>
                  </a:lnTo>
                  <a:lnTo>
                    <a:pt x="1508" y="3265"/>
                  </a:lnTo>
                  <a:lnTo>
                    <a:pt x="1504" y="3265"/>
                  </a:lnTo>
                  <a:lnTo>
                    <a:pt x="1498" y="3265"/>
                  </a:lnTo>
                  <a:lnTo>
                    <a:pt x="1494" y="3265"/>
                  </a:lnTo>
                  <a:lnTo>
                    <a:pt x="1493" y="3265"/>
                  </a:lnTo>
                  <a:lnTo>
                    <a:pt x="1488" y="3265"/>
                  </a:lnTo>
                  <a:lnTo>
                    <a:pt x="1483" y="3265"/>
                  </a:lnTo>
                  <a:lnTo>
                    <a:pt x="1478" y="3265"/>
                  </a:lnTo>
                  <a:lnTo>
                    <a:pt x="1477" y="3265"/>
                  </a:lnTo>
                  <a:lnTo>
                    <a:pt x="1473" y="3265"/>
                  </a:lnTo>
                  <a:lnTo>
                    <a:pt x="1467" y="3265"/>
                  </a:lnTo>
                  <a:lnTo>
                    <a:pt x="1463" y="3265"/>
                  </a:lnTo>
                  <a:lnTo>
                    <a:pt x="1462" y="3265"/>
                  </a:lnTo>
                  <a:lnTo>
                    <a:pt x="1457" y="3265"/>
                  </a:lnTo>
                  <a:lnTo>
                    <a:pt x="1452" y="3265"/>
                  </a:lnTo>
                  <a:lnTo>
                    <a:pt x="1446" y="3265"/>
                  </a:lnTo>
                  <a:lnTo>
                    <a:pt x="1442" y="3265"/>
                  </a:lnTo>
                  <a:lnTo>
                    <a:pt x="1266" y="3265"/>
                  </a:lnTo>
                  <a:lnTo>
                    <a:pt x="1345" y="3830"/>
                  </a:lnTo>
                  <a:lnTo>
                    <a:pt x="1294" y="3911"/>
                  </a:lnTo>
                  <a:lnTo>
                    <a:pt x="1345" y="3977"/>
                  </a:lnTo>
                  <a:lnTo>
                    <a:pt x="1117" y="4116"/>
                  </a:lnTo>
                  <a:lnTo>
                    <a:pt x="1112" y="4144"/>
                  </a:lnTo>
                  <a:lnTo>
                    <a:pt x="1106" y="4173"/>
                  </a:lnTo>
                  <a:lnTo>
                    <a:pt x="1103" y="4201"/>
                  </a:lnTo>
                  <a:lnTo>
                    <a:pt x="1099" y="4228"/>
                  </a:lnTo>
                  <a:lnTo>
                    <a:pt x="1097" y="4255"/>
                  </a:lnTo>
                  <a:lnTo>
                    <a:pt x="1096" y="4281"/>
                  </a:lnTo>
                  <a:lnTo>
                    <a:pt x="1096" y="4308"/>
                  </a:lnTo>
                  <a:lnTo>
                    <a:pt x="1096" y="4333"/>
                  </a:lnTo>
                  <a:lnTo>
                    <a:pt x="1097" y="4359"/>
                  </a:lnTo>
                  <a:lnTo>
                    <a:pt x="1098" y="4383"/>
                  </a:lnTo>
                  <a:lnTo>
                    <a:pt x="1100" y="4407"/>
                  </a:lnTo>
                  <a:lnTo>
                    <a:pt x="1104" y="4432"/>
                  </a:lnTo>
                  <a:lnTo>
                    <a:pt x="1112" y="4478"/>
                  </a:lnTo>
                  <a:lnTo>
                    <a:pt x="1121" y="4523"/>
                  </a:lnTo>
                  <a:lnTo>
                    <a:pt x="1133" y="4568"/>
                  </a:lnTo>
                  <a:lnTo>
                    <a:pt x="1147" y="4611"/>
                  </a:lnTo>
                  <a:lnTo>
                    <a:pt x="1162" y="4653"/>
                  </a:lnTo>
                  <a:lnTo>
                    <a:pt x="1179" y="4694"/>
                  </a:lnTo>
                  <a:lnTo>
                    <a:pt x="1198" y="4733"/>
                  </a:lnTo>
                  <a:lnTo>
                    <a:pt x="1218" y="4772"/>
                  </a:lnTo>
                  <a:lnTo>
                    <a:pt x="1238" y="4812"/>
                  </a:lnTo>
                  <a:lnTo>
                    <a:pt x="1259" y="4849"/>
                  </a:lnTo>
                  <a:lnTo>
                    <a:pt x="774" y="4849"/>
                  </a:lnTo>
                  <a:lnTo>
                    <a:pt x="774" y="2135"/>
                  </a:lnTo>
                  <a:lnTo>
                    <a:pt x="2185" y="2135"/>
                  </a:lnTo>
                  <a:lnTo>
                    <a:pt x="2185" y="4849"/>
                  </a:lnTo>
                  <a:lnTo>
                    <a:pt x="1780" y="4849"/>
                  </a:lnTo>
                  <a:lnTo>
                    <a:pt x="1801" y="4812"/>
                  </a:lnTo>
                  <a:lnTo>
                    <a:pt x="1821" y="4772"/>
                  </a:lnTo>
                  <a:lnTo>
                    <a:pt x="1841" y="4733"/>
                  </a:lnTo>
                  <a:lnTo>
                    <a:pt x="1859" y="4694"/>
                  </a:lnTo>
                  <a:lnTo>
                    <a:pt x="1876" y="4653"/>
                  </a:lnTo>
                  <a:lnTo>
                    <a:pt x="1892" y="4611"/>
                  </a:lnTo>
                  <a:lnTo>
                    <a:pt x="1905" y="4568"/>
                  </a:lnTo>
                  <a:lnTo>
                    <a:pt x="1917" y="4523"/>
                  </a:lnTo>
                  <a:lnTo>
                    <a:pt x="1927" y="4478"/>
                  </a:lnTo>
                  <a:lnTo>
                    <a:pt x="1935" y="4432"/>
                  </a:lnTo>
                  <a:lnTo>
                    <a:pt x="1938" y="4407"/>
                  </a:lnTo>
                  <a:lnTo>
                    <a:pt x="1941" y="4383"/>
                  </a:lnTo>
                  <a:lnTo>
                    <a:pt x="1942" y="4359"/>
                  </a:lnTo>
                  <a:lnTo>
                    <a:pt x="1943" y="4333"/>
                  </a:lnTo>
                  <a:lnTo>
                    <a:pt x="1943" y="4308"/>
                  </a:lnTo>
                  <a:lnTo>
                    <a:pt x="1942" y="4281"/>
                  </a:lnTo>
                  <a:lnTo>
                    <a:pt x="1941" y="4255"/>
                  </a:lnTo>
                  <a:lnTo>
                    <a:pt x="1938" y="4228"/>
                  </a:lnTo>
                  <a:lnTo>
                    <a:pt x="1936" y="4201"/>
                  </a:lnTo>
                  <a:lnTo>
                    <a:pt x="1932" y="4173"/>
                  </a:lnTo>
                  <a:lnTo>
                    <a:pt x="1927" y="4144"/>
                  </a:lnTo>
                  <a:lnTo>
                    <a:pt x="1922" y="4116"/>
                  </a:lnTo>
                  <a:lnTo>
                    <a:pt x="1694" y="3977"/>
                  </a:lnTo>
                  <a:lnTo>
                    <a:pt x="1745" y="3911"/>
                  </a:lnTo>
                  <a:lnTo>
                    <a:pt x="1694" y="3830"/>
                  </a:lnTo>
                  <a:lnTo>
                    <a:pt x="1771" y="3265"/>
                  </a:lnTo>
                  <a:lnTo>
                    <a:pt x="1597" y="3265"/>
                  </a:lnTo>
                  <a:close/>
                  <a:moveTo>
                    <a:pt x="4819" y="863"/>
                  </a:moveTo>
                  <a:lnTo>
                    <a:pt x="4819" y="1057"/>
                  </a:lnTo>
                  <a:lnTo>
                    <a:pt x="3585" y="1057"/>
                  </a:lnTo>
                  <a:lnTo>
                    <a:pt x="3585" y="863"/>
                  </a:lnTo>
                  <a:lnTo>
                    <a:pt x="4819" y="863"/>
                  </a:lnTo>
                  <a:close/>
                  <a:moveTo>
                    <a:pt x="5002" y="1108"/>
                  </a:moveTo>
                  <a:lnTo>
                    <a:pt x="5002" y="1379"/>
                  </a:lnTo>
                  <a:lnTo>
                    <a:pt x="3769" y="1379"/>
                  </a:lnTo>
                  <a:lnTo>
                    <a:pt x="3769" y="1108"/>
                  </a:lnTo>
                  <a:lnTo>
                    <a:pt x="5002" y="1108"/>
                  </a:lnTo>
                  <a:close/>
                  <a:moveTo>
                    <a:pt x="4891" y="1429"/>
                  </a:moveTo>
                  <a:lnTo>
                    <a:pt x="4891" y="1623"/>
                  </a:lnTo>
                  <a:lnTo>
                    <a:pt x="3657" y="1623"/>
                  </a:lnTo>
                  <a:lnTo>
                    <a:pt x="3657" y="1429"/>
                  </a:lnTo>
                  <a:lnTo>
                    <a:pt x="4891" y="1429"/>
                  </a:lnTo>
                  <a:close/>
                  <a:moveTo>
                    <a:pt x="4977" y="1659"/>
                  </a:moveTo>
                  <a:lnTo>
                    <a:pt x="4977" y="1853"/>
                  </a:lnTo>
                  <a:lnTo>
                    <a:pt x="3743" y="1853"/>
                  </a:lnTo>
                  <a:lnTo>
                    <a:pt x="3743" y="1659"/>
                  </a:lnTo>
                  <a:lnTo>
                    <a:pt x="4977" y="1659"/>
                  </a:lnTo>
                  <a:close/>
                  <a:moveTo>
                    <a:pt x="1643" y="596"/>
                  </a:moveTo>
                  <a:lnTo>
                    <a:pt x="1833" y="561"/>
                  </a:lnTo>
                  <a:lnTo>
                    <a:pt x="2061" y="1773"/>
                  </a:lnTo>
                  <a:lnTo>
                    <a:pt x="1871" y="1809"/>
                  </a:lnTo>
                  <a:lnTo>
                    <a:pt x="1643" y="596"/>
                  </a:lnTo>
                  <a:close/>
                  <a:moveTo>
                    <a:pt x="1388" y="596"/>
                  </a:moveTo>
                  <a:lnTo>
                    <a:pt x="1579" y="561"/>
                  </a:lnTo>
                  <a:lnTo>
                    <a:pt x="1807" y="1773"/>
                  </a:lnTo>
                  <a:lnTo>
                    <a:pt x="1616" y="1809"/>
                  </a:lnTo>
                  <a:lnTo>
                    <a:pt x="1388" y="596"/>
                  </a:lnTo>
                  <a:close/>
                  <a:moveTo>
                    <a:pt x="1134" y="596"/>
                  </a:moveTo>
                  <a:lnTo>
                    <a:pt x="1324" y="561"/>
                  </a:lnTo>
                  <a:lnTo>
                    <a:pt x="1551" y="1773"/>
                  </a:lnTo>
                  <a:lnTo>
                    <a:pt x="1361" y="1809"/>
                  </a:lnTo>
                  <a:lnTo>
                    <a:pt x="1134" y="596"/>
                  </a:lnTo>
                  <a:close/>
                  <a:moveTo>
                    <a:pt x="884" y="568"/>
                  </a:moveTo>
                  <a:lnTo>
                    <a:pt x="1077" y="568"/>
                  </a:lnTo>
                  <a:lnTo>
                    <a:pt x="1077" y="1802"/>
                  </a:lnTo>
                  <a:lnTo>
                    <a:pt x="884" y="1802"/>
                  </a:lnTo>
                  <a:lnTo>
                    <a:pt x="884" y="568"/>
                  </a:lnTo>
                  <a:close/>
                  <a:moveTo>
                    <a:pt x="3540" y="2418"/>
                  </a:moveTo>
                  <a:lnTo>
                    <a:pt x="3807" y="2354"/>
                  </a:lnTo>
                  <a:lnTo>
                    <a:pt x="4033" y="3306"/>
                  </a:lnTo>
                  <a:lnTo>
                    <a:pt x="3765" y="3369"/>
                  </a:lnTo>
                  <a:lnTo>
                    <a:pt x="3540" y="2418"/>
                  </a:lnTo>
                  <a:close/>
                  <a:moveTo>
                    <a:pt x="3622" y="2531"/>
                  </a:moveTo>
                  <a:lnTo>
                    <a:pt x="3639" y="2606"/>
                  </a:lnTo>
                  <a:lnTo>
                    <a:pt x="3791" y="2570"/>
                  </a:lnTo>
                  <a:lnTo>
                    <a:pt x="3773" y="2496"/>
                  </a:lnTo>
                  <a:lnTo>
                    <a:pt x="3622" y="2531"/>
                  </a:lnTo>
                  <a:close/>
                  <a:moveTo>
                    <a:pt x="3739" y="3028"/>
                  </a:moveTo>
                  <a:lnTo>
                    <a:pt x="3776" y="3184"/>
                  </a:lnTo>
                  <a:lnTo>
                    <a:pt x="3928" y="3148"/>
                  </a:lnTo>
                  <a:lnTo>
                    <a:pt x="3890" y="2991"/>
                  </a:lnTo>
                  <a:lnTo>
                    <a:pt x="3739" y="3028"/>
                  </a:lnTo>
                  <a:close/>
                  <a:moveTo>
                    <a:pt x="3193" y="2418"/>
                  </a:moveTo>
                  <a:lnTo>
                    <a:pt x="3418" y="3369"/>
                  </a:lnTo>
                  <a:lnTo>
                    <a:pt x="3687" y="3306"/>
                  </a:lnTo>
                  <a:lnTo>
                    <a:pt x="3461" y="2354"/>
                  </a:lnTo>
                  <a:lnTo>
                    <a:pt x="3193" y="2418"/>
                  </a:lnTo>
                  <a:close/>
                  <a:moveTo>
                    <a:pt x="3276" y="2531"/>
                  </a:moveTo>
                  <a:lnTo>
                    <a:pt x="3426" y="2496"/>
                  </a:lnTo>
                  <a:lnTo>
                    <a:pt x="3444" y="2570"/>
                  </a:lnTo>
                  <a:lnTo>
                    <a:pt x="3292" y="2606"/>
                  </a:lnTo>
                  <a:lnTo>
                    <a:pt x="3276" y="2531"/>
                  </a:lnTo>
                  <a:close/>
                  <a:moveTo>
                    <a:pt x="3393" y="3028"/>
                  </a:moveTo>
                  <a:lnTo>
                    <a:pt x="3429" y="3184"/>
                  </a:lnTo>
                  <a:lnTo>
                    <a:pt x="3581" y="3148"/>
                  </a:lnTo>
                  <a:lnTo>
                    <a:pt x="3544" y="2991"/>
                  </a:lnTo>
                  <a:lnTo>
                    <a:pt x="3393" y="3028"/>
                  </a:lnTo>
                  <a:close/>
                  <a:moveTo>
                    <a:pt x="2841" y="2418"/>
                  </a:moveTo>
                  <a:lnTo>
                    <a:pt x="3109" y="2354"/>
                  </a:lnTo>
                  <a:lnTo>
                    <a:pt x="3335" y="3306"/>
                  </a:lnTo>
                  <a:lnTo>
                    <a:pt x="3067" y="3369"/>
                  </a:lnTo>
                  <a:lnTo>
                    <a:pt x="2841" y="2418"/>
                  </a:lnTo>
                  <a:close/>
                  <a:moveTo>
                    <a:pt x="2923" y="2531"/>
                  </a:moveTo>
                  <a:lnTo>
                    <a:pt x="2941" y="2606"/>
                  </a:lnTo>
                  <a:lnTo>
                    <a:pt x="3092" y="2570"/>
                  </a:lnTo>
                  <a:lnTo>
                    <a:pt x="3075" y="2496"/>
                  </a:lnTo>
                  <a:lnTo>
                    <a:pt x="2923" y="2531"/>
                  </a:lnTo>
                  <a:close/>
                  <a:moveTo>
                    <a:pt x="3041" y="3028"/>
                  </a:moveTo>
                  <a:lnTo>
                    <a:pt x="3192" y="2991"/>
                  </a:lnTo>
                  <a:lnTo>
                    <a:pt x="3229" y="3148"/>
                  </a:lnTo>
                  <a:lnTo>
                    <a:pt x="3078" y="3184"/>
                  </a:lnTo>
                  <a:lnTo>
                    <a:pt x="3041" y="3028"/>
                  </a:lnTo>
                  <a:close/>
                  <a:moveTo>
                    <a:pt x="2553" y="2372"/>
                  </a:moveTo>
                  <a:lnTo>
                    <a:pt x="2828" y="2372"/>
                  </a:lnTo>
                  <a:lnTo>
                    <a:pt x="2828" y="3352"/>
                  </a:lnTo>
                  <a:lnTo>
                    <a:pt x="2553" y="3352"/>
                  </a:lnTo>
                  <a:lnTo>
                    <a:pt x="2553" y="2372"/>
                  </a:lnTo>
                  <a:close/>
                  <a:moveTo>
                    <a:pt x="2606" y="2503"/>
                  </a:moveTo>
                  <a:lnTo>
                    <a:pt x="2606" y="2579"/>
                  </a:lnTo>
                  <a:lnTo>
                    <a:pt x="2762" y="2579"/>
                  </a:lnTo>
                  <a:lnTo>
                    <a:pt x="2762" y="2503"/>
                  </a:lnTo>
                  <a:lnTo>
                    <a:pt x="2606" y="2503"/>
                  </a:lnTo>
                  <a:close/>
                  <a:moveTo>
                    <a:pt x="2606" y="3012"/>
                  </a:moveTo>
                  <a:lnTo>
                    <a:pt x="2606" y="3173"/>
                  </a:lnTo>
                  <a:lnTo>
                    <a:pt x="2762" y="3173"/>
                  </a:lnTo>
                  <a:lnTo>
                    <a:pt x="2762" y="3012"/>
                  </a:lnTo>
                  <a:lnTo>
                    <a:pt x="2606" y="3012"/>
                  </a:lnTo>
                  <a:close/>
                  <a:moveTo>
                    <a:pt x="5555" y="151"/>
                  </a:moveTo>
                  <a:lnTo>
                    <a:pt x="5555" y="374"/>
                  </a:lnTo>
                  <a:lnTo>
                    <a:pt x="5555" y="4849"/>
                  </a:lnTo>
                  <a:lnTo>
                    <a:pt x="5871" y="4849"/>
                  </a:lnTo>
                  <a:lnTo>
                    <a:pt x="5871" y="5585"/>
                  </a:lnTo>
                  <a:lnTo>
                    <a:pt x="0" y="5585"/>
                  </a:lnTo>
                  <a:lnTo>
                    <a:pt x="0" y="4849"/>
                  </a:lnTo>
                  <a:lnTo>
                    <a:pt x="326" y="4849"/>
                  </a:lnTo>
                  <a:lnTo>
                    <a:pt x="326" y="374"/>
                  </a:lnTo>
                  <a:lnTo>
                    <a:pt x="326" y="151"/>
                  </a:lnTo>
                  <a:lnTo>
                    <a:pt x="326" y="0"/>
                  </a:lnTo>
                  <a:lnTo>
                    <a:pt x="5555" y="0"/>
                  </a:lnTo>
                  <a:lnTo>
                    <a:pt x="5555" y="151"/>
                  </a:lnTo>
                  <a:close/>
                  <a:moveTo>
                    <a:pt x="2409" y="2135"/>
                  </a:moveTo>
                  <a:lnTo>
                    <a:pt x="2409" y="3385"/>
                  </a:lnTo>
                  <a:lnTo>
                    <a:pt x="5107" y="3385"/>
                  </a:lnTo>
                  <a:lnTo>
                    <a:pt x="5107" y="2135"/>
                  </a:lnTo>
                  <a:lnTo>
                    <a:pt x="2409" y="2135"/>
                  </a:lnTo>
                  <a:close/>
                  <a:moveTo>
                    <a:pt x="2409" y="3609"/>
                  </a:moveTo>
                  <a:lnTo>
                    <a:pt x="2409" y="4849"/>
                  </a:lnTo>
                  <a:lnTo>
                    <a:pt x="5107" y="4849"/>
                  </a:lnTo>
                  <a:lnTo>
                    <a:pt x="5107" y="3609"/>
                  </a:lnTo>
                  <a:lnTo>
                    <a:pt x="2409" y="3609"/>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10" name="椭圆 9"/>
          <p:cNvSpPr/>
          <p:nvPr/>
        </p:nvSpPr>
        <p:spPr>
          <a:xfrm>
            <a:off x="1828800" y="2598840"/>
            <a:ext cx="1422360" cy="142236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椭圆 10"/>
          <p:cNvSpPr/>
          <p:nvPr/>
        </p:nvSpPr>
        <p:spPr>
          <a:xfrm>
            <a:off x="4176720" y="2598840"/>
            <a:ext cx="1422360" cy="142236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椭圆 11"/>
          <p:cNvSpPr/>
          <p:nvPr/>
        </p:nvSpPr>
        <p:spPr>
          <a:xfrm>
            <a:off x="6524640" y="2598840"/>
            <a:ext cx="1422360" cy="142236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椭圆 12"/>
          <p:cNvSpPr/>
          <p:nvPr/>
        </p:nvSpPr>
        <p:spPr>
          <a:xfrm>
            <a:off x="8926560" y="2598840"/>
            <a:ext cx="1422360" cy="142236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KSO_Shape"/>
          <p:cNvSpPr/>
          <p:nvPr/>
        </p:nvSpPr>
        <p:spPr>
          <a:xfrm>
            <a:off x="2251080" y="2962440"/>
            <a:ext cx="577800" cy="695160"/>
          </a:xfrm>
          <a:custGeom>
            <a:avLst/>
            <a:gdLst/>
            <a:ahLst/>
            <a:rect l="l" t="t" r="r" b="b"/>
            <a:pathLst>
              <a:path w="1208088" h="1452563">
                <a:moveTo>
                  <a:pt x="331068" y="665573"/>
                </a:moveTo>
                <a:cubicBezTo>
                  <a:pt x="331068" y="665573"/>
                  <a:pt x="331068" y="665573"/>
                  <a:pt x="508820" y="932822"/>
                </a:cubicBezTo>
                <a:cubicBezTo>
                  <a:pt x="508820" y="932822"/>
                  <a:pt x="508820" y="932822"/>
                  <a:pt x="369158" y="932822"/>
                </a:cubicBezTo>
                <a:cubicBezTo>
                  <a:pt x="369158" y="932822"/>
                  <a:pt x="369158" y="932822"/>
                  <a:pt x="369158" y="983727"/>
                </a:cubicBezTo>
                <a:cubicBezTo>
                  <a:pt x="369158" y="983727"/>
                  <a:pt x="369158" y="983727"/>
                  <a:pt x="534213" y="983727"/>
                </a:cubicBezTo>
                <a:cubicBezTo>
                  <a:pt x="534213" y="983727"/>
                  <a:pt x="534213" y="983727"/>
                  <a:pt x="534213" y="1034632"/>
                </a:cubicBezTo>
                <a:cubicBezTo>
                  <a:pt x="534213" y="1034632"/>
                  <a:pt x="534213" y="1034632"/>
                  <a:pt x="369158" y="1034632"/>
                </a:cubicBezTo>
                <a:cubicBezTo>
                  <a:pt x="369158" y="1034632"/>
                  <a:pt x="369158" y="1034632"/>
                  <a:pt x="369158" y="1085536"/>
                </a:cubicBezTo>
                <a:cubicBezTo>
                  <a:pt x="369158" y="1085536"/>
                  <a:pt x="369158" y="1085536"/>
                  <a:pt x="534213" y="1085536"/>
                </a:cubicBezTo>
                <a:cubicBezTo>
                  <a:pt x="534213" y="1085536"/>
                  <a:pt x="534213" y="1085536"/>
                  <a:pt x="534213" y="1238250"/>
                </a:cubicBezTo>
                <a:cubicBezTo>
                  <a:pt x="534213" y="1238250"/>
                  <a:pt x="534213" y="1238250"/>
                  <a:pt x="673875" y="1238250"/>
                </a:cubicBezTo>
                <a:cubicBezTo>
                  <a:pt x="673875" y="1238250"/>
                  <a:pt x="673875" y="1238250"/>
                  <a:pt x="673875" y="1085536"/>
                </a:cubicBezTo>
                <a:cubicBezTo>
                  <a:pt x="673875" y="1085536"/>
                  <a:pt x="673875" y="1085536"/>
                  <a:pt x="864324" y="1085536"/>
                </a:cubicBezTo>
                <a:cubicBezTo>
                  <a:pt x="864324" y="1085536"/>
                  <a:pt x="864324" y="1085536"/>
                  <a:pt x="864324" y="1034632"/>
                </a:cubicBezTo>
                <a:cubicBezTo>
                  <a:pt x="864324" y="1034632"/>
                  <a:pt x="864324" y="1034632"/>
                  <a:pt x="673875" y="1034632"/>
                </a:cubicBezTo>
                <a:cubicBezTo>
                  <a:pt x="673875" y="1034632"/>
                  <a:pt x="673875" y="1034632"/>
                  <a:pt x="673875" y="983727"/>
                </a:cubicBezTo>
                <a:cubicBezTo>
                  <a:pt x="673875" y="983727"/>
                  <a:pt x="673875" y="983727"/>
                  <a:pt x="864324" y="983727"/>
                </a:cubicBezTo>
                <a:cubicBezTo>
                  <a:pt x="864324" y="983727"/>
                  <a:pt x="864324" y="983727"/>
                  <a:pt x="864324" y="932822"/>
                </a:cubicBezTo>
                <a:cubicBezTo>
                  <a:pt x="864324" y="932822"/>
                  <a:pt x="864324" y="932822"/>
                  <a:pt x="699268" y="932822"/>
                </a:cubicBezTo>
                <a:cubicBezTo>
                  <a:pt x="699268" y="932822"/>
                  <a:pt x="699268" y="932822"/>
                  <a:pt x="877020" y="665573"/>
                </a:cubicBezTo>
                <a:cubicBezTo>
                  <a:pt x="877020" y="665573"/>
                  <a:pt x="877020" y="665573"/>
                  <a:pt x="737358" y="665573"/>
                </a:cubicBezTo>
                <a:cubicBezTo>
                  <a:pt x="737358" y="665573"/>
                  <a:pt x="737358" y="665573"/>
                  <a:pt x="597696" y="881918"/>
                </a:cubicBezTo>
                <a:cubicBezTo>
                  <a:pt x="597696" y="881918"/>
                  <a:pt x="597696" y="881918"/>
                  <a:pt x="458034" y="665573"/>
                </a:cubicBezTo>
                <a:cubicBezTo>
                  <a:pt x="458034" y="665573"/>
                  <a:pt x="458034" y="665573"/>
                  <a:pt x="331068" y="665573"/>
                </a:cubicBezTo>
                <a:close/>
                <a:moveTo>
                  <a:pt x="719206" y="0"/>
                </a:moveTo>
                <a:lnTo>
                  <a:pt x="727454" y="317"/>
                </a:lnTo>
                <a:lnTo>
                  <a:pt x="736654" y="952"/>
                </a:lnTo>
                <a:lnTo>
                  <a:pt x="746172" y="2538"/>
                </a:lnTo>
                <a:lnTo>
                  <a:pt x="756641" y="4125"/>
                </a:lnTo>
                <a:lnTo>
                  <a:pt x="767428" y="6028"/>
                </a:lnTo>
                <a:lnTo>
                  <a:pt x="778849" y="8567"/>
                </a:lnTo>
                <a:lnTo>
                  <a:pt x="791222" y="11422"/>
                </a:lnTo>
                <a:lnTo>
                  <a:pt x="804546" y="14913"/>
                </a:lnTo>
                <a:lnTo>
                  <a:pt x="818822" y="18720"/>
                </a:lnTo>
                <a:lnTo>
                  <a:pt x="833416" y="23480"/>
                </a:lnTo>
                <a:lnTo>
                  <a:pt x="829609" y="36171"/>
                </a:lnTo>
                <a:lnTo>
                  <a:pt x="825802" y="48228"/>
                </a:lnTo>
                <a:lnTo>
                  <a:pt x="818188" y="70439"/>
                </a:lnTo>
                <a:lnTo>
                  <a:pt x="810256" y="91063"/>
                </a:lnTo>
                <a:lnTo>
                  <a:pt x="802960" y="108831"/>
                </a:lnTo>
                <a:lnTo>
                  <a:pt x="795663" y="125013"/>
                </a:lnTo>
                <a:lnTo>
                  <a:pt x="788684" y="138974"/>
                </a:lnTo>
                <a:lnTo>
                  <a:pt x="782021" y="151983"/>
                </a:lnTo>
                <a:lnTo>
                  <a:pt x="775994" y="163405"/>
                </a:lnTo>
                <a:lnTo>
                  <a:pt x="764572" y="183077"/>
                </a:lnTo>
                <a:lnTo>
                  <a:pt x="760131" y="191644"/>
                </a:lnTo>
                <a:lnTo>
                  <a:pt x="756007" y="200211"/>
                </a:lnTo>
                <a:lnTo>
                  <a:pt x="752517" y="207826"/>
                </a:lnTo>
                <a:lnTo>
                  <a:pt x="749662" y="215759"/>
                </a:lnTo>
                <a:lnTo>
                  <a:pt x="748393" y="219566"/>
                </a:lnTo>
                <a:lnTo>
                  <a:pt x="747441" y="223374"/>
                </a:lnTo>
                <a:lnTo>
                  <a:pt x="746806" y="227181"/>
                </a:lnTo>
                <a:lnTo>
                  <a:pt x="746489" y="231623"/>
                </a:lnTo>
                <a:lnTo>
                  <a:pt x="748076" y="231623"/>
                </a:lnTo>
                <a:lnTo>
                  <a:pt x="750931" y="231623"/>
                </a:lnTo>
                <a:lnTo>
                  <a:pt x="753786" y="231940"/>
                </a:lnTo>
                <a:lnTo>
                  <a:pt x="756324" y="232258"/>
                </a:lnTo>
                <a:lnTo>
                  <a:pt x="758862" y="233210"/>
                </a:lnTo>
                <a:lnTo>
                  <a:pt x="761400" y="233844"/>
                </a:lnTo>
                <a:lnTo>
                  <a:pt x="763621" y="234796"/>
                </a:lnTo>
                <a:lnTo>
                  <a:pt x="765842" y="236065"/>
                </a:lnTo>
                <a:lnTo>
                  <a:pt x="768062" y="237334"/>
                </a:lnTo>
                <a:lnTo>
                  <a:pt x="769966" y="238921"/>
                </a:lnTo>
                <a:lnTo>
                  <a:pt x="771552" y="240190"/>
                </a:lnTo>
                <a:lnTo>
                  <a:pt x="772821" y="242094"/>
                </a:lnTo>
                <a:lnTo>
                  <a:pt x="774090" y="243680"/>
                </a:lnTo>
                <a:lnTo>
                  <a:pt x="775042" y="245901"/>
                </a:lnTo>
                <a:lnTo>
                  <a:pt x="775676" y="247805"/>
                </a:lnTo>
                <a:lnTo>
                  <a:pt x="775994" y="249709"/>
                </a:lnTo>
                <a:lnTo>
                  <a:pt x="776311" y="251930"/>
                </a:lnTo>
                <a:lnTo>
                  <a:pt x="776311" y="253834"/>
                </a:lnTo>
                <a:lnTo>
                  <a:pt x="775676" y="255420"/>
                </a:lnTo>
                <a:lnTo>
                  <a:pt x="775359" y="257324"/>
                </a:lnTo>
                <a:lnTo>
                  <a:pt x="774407" y="258910"/>
                </a:lnTo>
                <a:lnTo>
                  <a:pt x="773456" y="260497"/>
                </a:lnTo>
                <a:lnTo>
                  <a:pt x="772186" y="262083"/>
                </a:lnTo>
                <a:lnTo>
                  <a:pt x="769331" y="265256"/>
                </a:lnTo>
                <a:lnTo>
                  <a:pt x="765524" y="267794"/>
                </a:lnTo>
                <a:lnTo>
                  <a:pt x="761717" y="269698"/>
                </a:lnTo>
                <a:lnTo>
                  <a:pt x="756958" y="270967"/>
                </a:lnTo>
                <a:lnTo>
                  <a:pt x="752200" y="271919"/>
                </a:lnTo>
                <a:lnTo>
                  <a:pt x="756324" y="284611"/>
                </a:lnTo>
                <a:lnTo>
                  <a:pt x="757910" y="289053"/>
                </a:lnTo>
                <a:lnTo>
                  <a:pt x="760448" y="293812"/>
                </a:lnTo>
                <a:lnTo>
                  <a:pt x="763621" y="299206"/>
                </a:lnTo>
                <a:lnTo>
                  <a:pt x="768062" y="304283"/>
                </a:lnTo>
                <a:lnTo>
                  <a:pt x="772504" y="309677"/>
                </a:lnTo>
                <a:lnTo>
                  <a:pt x="777580" y="315706"/>
                </a:lnTo>
                <a:lnTo>
                  <a:pt x="783608" y="321417"/>
                </a:lnTo>
                <a:lnTo>
                  <a:pt x="789952" y="327445"/>
                </a:lnTo>
                <a:lnTo>
                  <a:pt x="796615" y="333791"/>
                </a:lnTo>
                <a:lnTo>
                  <a:pt x="803912" y="339820"/>
                </a:lnTo>
                <a:lnTo>
                  <a:pt x="819774" y="353146"/>
                </a:lnTo>
                <a:lnTo>
                  <a:pt x="836588" y="366155"/>
                </a:lnTo>
                <a:lnTo>
                  <a:pt x="854672" y="379798"/>
                </a:lnTo>
                <a:lnTo>
                  <a:pt x="891472" y="407720"/>
                </a:lnTo>
                <a:lnTo>
                  <a:pt x="928274" y="435008"/>
                </a:lnTo>
                <a:lnTo>
                  <a:pt x="945405" y="448334"/>
                </a:lnTo>
                <a:lnTo>
                  <a:pt x="961902" y="461343"/>
                </a:lnTo>
                <a:lnTo>
                  <a:pt x="976496" y="474034"/>
                </a:lnTo>
                <a:lnTo>
                  <a:pt x="983158" y="479746"/>
                </a:lnTo>
                <a:lnTo>
                  <a:pt x="989186" y="485457"/>
                </a:lnTo>
                <a:lnTo>
                  <a:pt x="996482" y="493072"/>
                </a:lnTo>
                <a:lnTo>
                  <a:pt x="1003779" y="501004"/>
                </a:lnTo>
                <a:lnTo>
                  <a:pt x="1011393" y="510206"/>
                </a:lnTo>
                <a:lnTo>
                  <a:pt x="1019007" y="519725"/>
                </a:lnTo>
                <a:lnTo>
                  <a:pt x="1026938" y="530830"/>
                </a:lnTo>
                <a:lnTo>
                  <a:pt x="1034552" y="542252"/>
                </a:lnTo>
                <a:lnTo>
                  <a:pt x="1042801" y="554309"/>
                </a:lnTo>
                <a:lnTo>
                  <a:pt x="1050732" y="567318"/>
                </a:lnTo>
                <a:lnTo>
                  <a:pt x="1058663" y="581279"/>
                </a:lnTo>
                <a:lnTo>
                  <a:pt x="1066912" y="595557"/>
                </a:lnTo>
                <a:lnTo>
                  <a:pt x="1074843" y="610153"/>
                </a:lnTo>
                <a:lnTo>
                  <a:pt x="1083092" y="626017"/>
                </a:lnTo>
                <a:lnTo>
                  <a:pt x="1091023" y="641882"/>
                </a:lnTo>
                <a:lnTo>
                  <a:pt x="1098954" y="658698"/>
                </a:lnTo>
                <a:lnTo>
                  <a:pt x="1106568" y="675832"/>
                </a:lnTo>
                <a:lnTo>
                  <a:pt x="1114499" y="693283"/>
                </a:lnTo>
                <a:lnTo>
                  <a:pt x="1122113" y="711369"/>
                </a:lnTo>
                <a:lnTo>
                  <a:pt x="1129727" y="729772"/>
                </a:lnTo>
                <a:lnTo>
                  <a:pt x="1136707" y="748492"/>
                </a:lnTo>
                <a:lnTo>
                  <a:pt x="1143686" y="768164"/>
                </a:lnTo>
                <a:lnTo>
                  <a:pt x="1150348" y="787519"/>
                </a:lnTo>
                <a:lnTo>
                  <a:pt x="1157011" y="807191"/>
                </a:lnTo>
                <a:lnTo>
                  <a:pt x="1163038" y="826863"/>
                </a:lnTo>
                <a:lnTo>
                  <a:pt x="1169066" y="847170"/>
                </a:lnTo>
                <a:lnTo>
                  <a:pt x="1174460" y="867477"/>
                </a:lnTo>
                <a:lnTo>
                  <a:pt x="1179853" y="887783"/>
                </a:lnTo>
                <a:lnTo>
                  <a:pt x="1184929" y="908407"/>
                </a:lnTo>
                <a:lnTo>
                  <a:pt x="1189370" y="929031"/>
                </a:lnTo>
                <a:lnTo>
                  <a:pt x="1193177" y="949655"/>
                </a:lnTo>
                <a:lnTo>
                  <a:pt x="1196667" y="970279"/>
                </a:lnTo>
                <a:lnTo>
                  <a:pt x="1200157" y="990903"/>
                </a:lnTo>
                <a:lnTo>
                  <a:pt x="1202695" y="1011845"/>
                </a:lnTo>
                <a:lnTo>
                  <a:pt x="1204916" y="1032151"/>
                </a:lnTo>
                <a:lnTo>
                  <a:pt x="1206502" y="1052458"/>
                </a:lnTo>
                <a:lnTo>
                  <a:pt x="1207454" y="1072447"/>
                </a:lnTo>
                <a:lnTo>
                  <a:pt x="1208088" y="1092437"/>
                </a:lnTo>
                <a:lnTo>
                  <a:pt x="1207771" y="1112426"/>
                </a:lnTo>
                <a:lnTo>
                  <a:pt x="1207136" y="1131781"/>
                </a:lnTo>
                <a:lnTo>
                  <a:pt x="1205867" y="1151453"/>
                </a:lnTo>
                <a:lnTo>
                  <a:pt x="1203646" y="1170173"/>
                </a:lnTo>
                <a:lnTo>
                  <a:pt x="1201108" y="1188893"/>
                </a:lnTo>
                <a:lnTo>
                  <a:pt x="1199522" y="1197778"/>
                </a:lnTo>
                <a:lnTo>
                  <a:pt x="1197302" y="1206979"/>
                </a:lnTo>
                <a:lnTo>
                  <a:pt x="1195398" y="1215863"/>
                </a:lnTo>
                <a:lnTo>
                  <a:pt x="1193177" y="1224747"/>
                </a:lnTo>
                <a:lnTo>
                  <a:pt x="1190956" y="1233314"/>
                </a:lnTo>
                <a:lnTo>
                  <a:pt x="1188418" y="1242199"/>
                </a:lnTo>
                <a:lnTo>
                  <a:pt x="1185563" y="1250448"/>
                </a:lnTo>
                <a:lnTo>
                  <a:pt x="1182708" y="1259015"/>
                </a:lnTo>
                <a:lnTo>
                  <a:pt x="1179218" y="1266947"/>
                </a:lnTo>
                <a:lnTo>
                  <a:pt x="1175728" y="1275197"/>
                </a:lnTo>
                <a:lnTo>
                  <a:pt x="1172239" y="1283129"/>
                </a:lnTo>
                <a:lnTo>
                  <a:pt x="1168749" y="1291062"/>
                </a:lnTo>
                <a:lnTo>
                  <a:pt x="1164625" y="1298677"/>
                </a:lnTo>
                <a:lnTo>
                  <a:pt x="1160183" y="1305974"/>
                </a:lnTo>
                <a:lnTo>
                  <a:pt x="1155742" y="1313589"/>
                </a:lnTo>
                <a:lnTo>
                  <a:pt x="1151300" y="1320570"/>
                </a:lnTo>
                <a:lnTo>
                  <a:pt x="1146542" y="1327867"/>
                </a:lnTo>
                <a:lnTo>
                  <a:pt x="1141148" y="1334531"/>
                </a:lnTo>
                <a:lnTo>
                  <a:pt x="1135755" y="1341194"/>
                </a:lnTo>
                <a:lnTo>
                  <a:pt x="1130362" y="1347857"/>
                </a:lnTo>
                <a:lnTo>
                  <a:pt x="1124334" y="1354203"/>
                </a:lnTo>
                <a:lnTo>
                  <a:pt x="1118306" y="1360548"/>
                </a:lnTo>
                <a:lnTo>
                  <a:pt x="1112278" y="1366577"/>
                </a:lnTo>
                <a:lnTo>
                  <a:pt x="1105299" y="1372288"/>
                </a:lnTo>
                <a:lnTo>
                  <a:pt x="1098637" y="1378000"/>
                </a:lnTo>
                <a:lnTo>
                  <a:pt x="1091657" y="1383394"/>
                </a:lnTo>
                <a:lnTo>
                  <a:pt x="1084360" y="1388470"/>
                </a:lnTo>
                <a:lnTo>
                  <a:pt x="1076746" y="1393230"/>
                </a:lnTo>
                <a:lnTo>
                  <a:pt x="1068815" y="1398306"/>
                </a:lnTo>
                <a:lnTo>
                  <a:pt x="1061201" y="1402748"/>
                </a:lnTo>
                <a:lnTo>
                  <a:pt x="1052636" y="1407190"/>
                </a:lnTo>
                <a:lnTo>
                  <a:pt x="1044070" y="1411633"/>
                </a:lnTo>
                <a:lnTo>
                  <a:pt x="1035187" y="1415440"/>
                </a:lnTo>
                <a:lnTo>
                  <a:pt x="1025986" y="1418930"/>
                </a:lnTo>
                <a:lnTo>
                  <a:pt x="1016469" y="1422420"/>
                </a:lnTo>
                <a:lnTo>
                  <a:pt x="1006634" y="1425593"/>
                </a:lnTo>
                <a:lnTo>
                  <a:pt x="996800" y="1428766"/>
                </a:lnTo>
                <a:lnTo>
                  <a:pt x="986330" y="1431305"/>
                </a:lnTo>
                <a:lnTo>
                  <a:pt x="976178" y="1433843"/>
                </a:lnTo>
                <a:lnTo>
                  <a:pt x="965074" y="1436064"/>
                </a:lnTo>
                <a:lnTo>
                  <a:pt x="953971" y="1437968"/>
                </a:lnTo>
                <a:lnTo>
                  <a:pt x="942550" y="1439554"/>
                </a:lnTo>
                <a:lnTo>
                  <a:pt x="930812" y="1440823"/>
                </a:lnTo>
                <a:lnTo>
                  <a:pt x="918756" y="1442093"/>
                </a:lnTo>
                <a:lnTo>
                  <a:pt x="906383" y="1443044"/>
                </a:lnTo>
                <a:lnTo>
                  <a:pt x="893693" y="1443362"/>
                </a:lnTo>
                <a:lnTo>
                  <a:pt x="740144" y="1448756"/>
                </a:lnTo>
                <a:lnTo>
                  <a:pt x="652583" y="1451611"/>
                </a:lnTo>
                <a:lnTo>
                  <a:pt x="613244" y="1452563"/>
                </a:lnTo>
                <a:lnTo>
                  <a:pt x="604044" y="1452563"/>
                </a:lnTo>
                <a:lnTo>
                  <a:pt x="595161" y="1452563"/>
                </a:lnTo>
                <a:lnTo>
                  <a:pt x="555505" y="1451611"/>
                </a:lnTo>
                <a:lnTo>
                  <a:pt x="467944" y="1448756"/>
                </a:lnTo>
                <a:lnTo>
                  <a:pt x="314395" y="1443362"/>
                </a:lnTo>
                <a:lnTo>
                  <a:pt x="302022" y="1443044"/>
                </a:lnTo>
                <a:lnTo>
                  <a:pt x="289332" y="1442093"/>
                </a:lnTo>
                <a:lnTo>
                  <a:pt x="277276" y="1440823"/>
                </a:lnTo>
                <a:lnTo>
                  <a:pt x="265856" y="1439554"/>
                </a:lnTo>
                <a:lnTo>
                  <a:pt x="254117" y="1437968"/>
                </a:lnTo>
                <a:lnTo>
                  <a:pt x="243014" y="1436064"/>
                </a:lnTo>
                <a:lnTo>
                  <a:pt x="232227" y="1433843"/>
                </a:lnTo>
                <a:lnTo>
                  <a:pt x="221758" y="1431305"/>
                </a:lnTo>
                <a:lnTo>
                  <a:pt x="211288" y="1428766"/>
                </a:lnTo>
                <a:lnTo>
                  <a:pt x="201454" y="1425593"/>
                </a:lnTo>
                <a:lnTo>
                  <a:pt x="191619" y="1422420"/>
                </a:lnTo>
                <a:lnTo>
                  <a:pt x="182419" y="1418930"/>
                </a:lnTo>
                <a:lnTo>
                  <a:pt x="172901" y="1415440"/>
                </a:lnTo>
                <a:lnTo>
                  <a:pt x="164336" y="1411633"/>
                </a:lnTo>
                <a:lnTo>
                  <a:pt x="155452" y="1407190"/>
                </a:lnTo>
                <a:lnTo>
                  <a:pt x="147521" y="1402748"/>
                </a:lnTo>
                <a:lnTo>
                  <a:pt x="139273" y="1398306"/>
                </a:lnTo>
                <a:lnTo>
                  <a:pt x="131342" y="1393230"/>
                </a:lnTo>
                <a:lnTo>
                  <a:pt x="123728" y="1388470"/>
                </a:lnTo>
                <a:lnTo>
                  <a:pt x="116431" y="1383394"/>
                </a:lnTo>
                <a:lnTo>
                  <a:pt x="109768" y="1378000"/>
                </a:lnTo>
                <a:lnTo>
                  <a:pt x="102789" y="1372288"/>
                </a:lnTo>
                <a:lnTo>
                  <a:pt x="96127" y="1366577"/>
                </a:lnTo>
                <a:lnTo>
                  <a:pt x="89782" y="1360548"/>
                </a:lnTo>
                <a:lnTo>
                  <a:pt x="83754" y="1354203"/>
                </a:lnTo>
                <a:lnTo>
                  <a:pt x="78044" y="1347857"/>
                </a:lnTo>
                <a:lnTo>
                  <a:pt x="72333" y="1341194"/>
                </a:lnTo>
                <a:lnTo>
                  <a:pt x="66940" y="1334531"/>
                </a:lnTo>
                <a:lnTo>
                  <a:pt x="61864" y="1327867"/>
                </a:lnTo>
                <a:lnTo>
                  <a:pt x="56788" y="1320570"/>
                </a:lnTo>
                <a:lnTo>
                  <a:pt x="52346" y="1313589"/>
                </a:lnTo>
                <a:lnTo>
                  <a:pt x="47905" y="1305974"/>
                </a:lnTo>
                <a:lnTo>
                  <a:pt x="43780" y="1298677"/>
                </a:lnTo>
                <a:lnTo>
                  <a:pt x="39339" y="1291062"/>
                </a:lnTo>
                <a:lnTo>
                  <a:pt x="35849" y="1283129"/>
                </a:lnTo>
                <a:lnTo>
                  <a:pt x="32360" y="1275197"/>
                </a:lnTo>
                <a:lnTo>
                  <a:pt x="28870" y="1266947"/>
                </a:lnTo>
                <a:lnTo>
                  <a:pt x="25697" y="1259015"/>
                </a:lnTo>
                <a:lnTo>
                  <a:pt x="22525" y="1250448"/>
                </a:lnTo>
                <a:lnTo>
                  <a:pt x="19670" y="1242199"/>
                </a:lnTo>
                <a:lnTo>
                  <a:pt x="17132" y="1233314"/>
                </a:lnTo>
                <a:lnTo>
                  <a:pt x="14911" y="1224747"/>
                </a:lnTo>
                <a:lnTo>
                  <a:pt x="12690" y="1215863"/>
                </a:lnTo>
                <a:lnTo>
                  <a:pt x="10786" y="1206979"/>
                </a:lnTo>
                <a:lnTo>
                  <a:pt x="8883" y="1197778"/>
                </a:lnTo>
                <a:lnTo>
                  <a:pt x="7297" y="1188893"/>
                </a:lnTo>
                <a:lnTo>
                  <a:pt x="4442" y="1170173"/>
                </a:lnTo>
                <a:lnTo>
                  <a:pt x="2221" y="1151453"/>
                </a:lnTo>
                <a:lnTo>
                  <a:pt x="952" y="1131781"/>
                </a:lnTo>
                <a:lnTo>
                  <a:pt x="317" y="1112426"/>
                </a:lnTo>
                <a:lnTo>
                  <a:pt x="0" y="1092437"/>
                </a:lnTo>
                <a:lnTo>
                  <a:pt x="634" y="1072447"/>
                </a:lnTo>
                <a:lnTo>
                  <a:pt x="1586" y="1052458"/>
                </a:lnTo>
                <a:lnTo>
                  <a:pt x="3172" y="1032151"/>
                </a:lnTo>
                <a:lnTo>
                  <a:pt x="5393" y="1011845"/>
                </a:lnTo>
                <a:lnTo>
                  <a:pt x="8248" y="990903"/>
                </a:lnTo>
                <a:lnTo>
                  <a:pt x="11421" y="970279"/>
                </a:lnTo>
                <a:lnTo>
                  <a:pt x="14911" y="949655"/>
                </a:lnTo>
                <a:lnTo>
                  <a:pt x="19035" y="929031"/>
                </a:lnTo>
                <a:lnTo>
                  <a:pt x="23476" y="908407"/>
                </a:lnTo>
                <a:lnTo>
                  <a:pt x="28235" y="887783"/>
                </a:lnTo>
                <a:lnTo>
                  <a:pt x="33628" y="867477"/>
                </a:lnTo>
                <a:lnTo>
                  <a:pt x="39022" y="847170"/>
                </a:lnTo>
                <a:lnTo>
                  <a:pt x="45050" y="826863"/>
                </a:lnTo>
                <a:lnTo>
                  <a:pt x="51077" y="807191"/>
                </a:lnTo>
                <a:lnTo>
                  <a:pt x="58057" y="787519"/>
                </a:lnTo>
                <a:lnTo>
                  <a:pt x="64402" y="768164"/>
                </a:lnTo>
                <a:lnTo>
                  <a:pt x="71381" y="748492"/>
                </a:lnTo>
                <a:lnTo>
                  <a:pt x="78678" y="729772"/>
                </a:lnTo>
                <a:lnTo>
                  <a:pt x="85975" y="711369"/>
                </a:lnTo>
                <a:lnTo>
                  <a:pt x="93906" y="693283"/>
                </a:lnTo>
                <a:lnTo>
                  <a:pt x="101520" y="675832"/>
                </a:lnTo>
                <a:lnTo>
                  <a:pt x="109134" y="658698"/>
                </a:lnTo>
                <a:lnTo>
                  <a:pt x="117065" y="641882"/>
                </a:lnTo>
                <a:lnTo>
                  <a:pt x="124996" y="626017"/>
                </a:lnTo>
                <a:lnTo>
                  <a:pt x="133245" y="610153"/>
                </a:lnTo>
                <a:lnTo>
                  <a:pt x="141176" y="595557"/>
                </a:lnTo>
                <a:lnTo>
                  <a:pt x="149425" y="581279"/>
                </a:lnTo>
                <a:lnTo>
                  <a:pt x="157356" y="567318"/>
                </a:lnTo>
                <a:lnTo>
                  <a:pt x="165604" y="554309"/>
                </a:lnTo>
                <a:lnTo>
                  <a:pt x="173536" y="542252"/>
                </a:lnTo>
                <a:lnTo>
                  <a:pt x="181467" y="530830"/>
                </a:lnTo>
                <a:lnTo>
                  <a:pt x="189081" y="519725"/>
                </a:lnTo>
                <a:lnTo>
                  <a:pt x="197012" y="510206"/>
                </a:lnTo>
                <a:lnTo>
                  <a:pt x="204309" y="501004"/>
                </a:lnTo>
                <a:lnTo>
                  <a:pt x="211606" y="493072"/>
                </a:lnTo>
                <a:lnTo>
                  <a:pt x="218902" y="485457"/>
                </a:lnTo>
                <a:lnTo>
                  <a:pt x="225248" y="479428"/>
                </a:lnTo>
                <a:lnTo>
                  <a:pt x="232862" y="473083"/>
                </a:lnTo>
                <a:lnTo>
                  <a:pt x="248407" y="460074"/>
                </a:lnTo>
                <a:lnTo>
                  <a:pt x="265538" y="446430"/>
                </a:lnTo>
                <a:lnTo>
                  <a:pt x="283622" y="432469"/>
                </a:lnTo>
                <a:lnTo>
                  <a:pt x="322009" y="404548"/>
                </a:lnTo>
                <a:lnTo>
                  <a:pt x="360396" y="375991"/>
                </a:lnTo>
                <a:lnTo>
                  <a:pt x="379114" y="362030"/>
                </a:lnTo>
                <a:lnTo>
                  <a:pt x="396562" y="348387"/>
                </a:lnTo>
                <a:lnTo>
                  <a:pt x="412742" y="335060"/>
                </a:lnTo>
                <a:lnTo>
                  <a:pt x="420039" y="328397"/>
                </a:lnTo>
                <a:lnTo>
                  <a:pt x="427018" y="322369"/>
                </a:lnTo>
                <a:lnTo>
                  <a:pt x="433364" y="316340"/>
                </a:lnTo>
                <a:lnTo>
                  <a:pt x="439391" y="309994"/>
                </a:lnTo>
                <a:lnTo>
                  <a:pt x="444784" y="304283"/>
                </a:lnTo>
                <a:lnTo>
                  <a:pt x="449226" y="298572"/>
                </a:lnTo>
                <a:lnTo>
                  <a:pt x="453033" y="293178"/>
                </a:lnTo>
                <a:lnTo>
                  <a:pt x="456523" y="287784"/>
                </a:lnTo>
                <a:lnTo>
                  <a:pt x="459061" y="283024"/>
                </a:lnTo>
                <a:lnTo>
                  <a:pt x="460647" y="277948"/>
                </a:lnTo>
                <a:lnTo>
                  <a:pt x="461282" y="274775"/>
                </a:lnTo>
                <a:lnTo>
                  <a:pt x="461916" y="271919"/>
                </a:lnTo>
                <a:lnTo>
                  <a:pt x="456840" y="270967"/>
                </a:lnTo>
                <a:lnTo>
                  <a:pt x="452081" y="269698"/>
                </a:lnTo>
                <a:lnTo>
                  <a:pt x="448274" y="267794"/>
                </a:lnTo>
                <a:lnTo>
                  <a:pt x="444784" y="265256"/>
                </a:lnTo>
                <a:lnTo>
                  <a:pt x="441929" y="262083"/>
                </a:lnTo>
                <a:lnTo>
                  <a:pt x="440660" y="260497"/>
                </a:lnTo>
                <a:lnTo>
                  <a:pt x="439708" y="258910"/>
                </a:lnTo>
                <a:lnTo>
                  <a:pt x="438757" y="257324"/>
                </a:lnTo>
                <a:lnTo>
                  <a:pt x="438440" y="255420"/>
                </a:lnTo>
                <a:lnTo>
                  <a:pt x="438122" y="253834"/>
                </a:lnTo>
                <a:lnTo>
                  <a:pt x="437488" y="251930"/>
                </a:lnTo>
                <a:lnTo>
                  <a:pt x="438122" y="250026"/>
                </a:lnTo>
                <a:lnTo>
                  <a:pt x="438440" y="248122"/>
                </a:lnTo>
                <a:lnTo>
                  <a:pt x="438757" y="246536"/>
                </a:lnTo>
                <a:lnTo>
                  <a:pt x="439708" y="244315"/>
                </a:lnTo>
                <a:lnTo>
                  <a:pt x="440660" y="242728"/>
                </a:lnTo>
                <a:lnTo>
                  <a:pt x="441929" y="241142"/>
                </a:lnTo>
                <a:lnTo>
                  <a:pt x="444784" y="238286"/>
                </a:lnTo>
                <a:lnTo>
                  <a:pt x="448274" y="236065"/>
                </a:lnTo>
                <a:lnTo>
                  <a:pt x="452081" y="234161"/>
                </a:lnTo>
                <a:lnTo>
                  <a:pt x="456840" y="232575"/>
                </a:lnTo>
                <a:lnTo>
                  <a:pt x="461916" y="231940"/>
                </a:lnTo>
                <a:lnTo>
                  <a:pt x="460647" y="227498"/>
                </a:lnTo>
                <a:lnTo>
                  <a:pt x="459378" y="223374"/>
                </a:lnTo>
                <a:lnTo>
                  <a:pt x="457792" y="219249"/>
                </a:lnTo>
                <a:lnTo>
                  <a:pt x="456206" y="215124"/>
                </a:lnTo>
                <a:lnTo>
                  <a:pt x="451764" y="206874"/>
                </a:lnTo>
                <a:lnTo>
                  <a:pt x="447005" y="198307"/>
                </a:lnTo>
                <a:lnTo>
                  <a:pt x="441295" y="189423"/>
                </a:lnTo>
                <a:lnTo>
                  <a:pt x="434632" y="180222"/>
                </a:lnTo>
                <a:lnTo>
                  <a:pt x="420039" y="159598"/>
                </a:lnTo>
                <a:lnTo>
                  <a:pt x="412108" y="147541"/>
                </a:lnTo>
                <a:lnTo>
                  <a:pt x="403542" y="134532"/>
                </a:lnTo>
                <a:lnTo>
                  <a:pt x="394024" y="120254"/>
                </a:lnTo>
                <a:lnTo>
                  <a:pt x="384190" y="104706"/>
                </a:lnTo>
                <a:lnTo>
                  <a:pt x="374355" y="87573"/>
                </a:lnTo>
                <a:lnTo>
                  <a:pt x="363886" y="68535"/>
                </a:lnTo>
                <a:lnTo>
                  <a:pt x="353099" y="47911"/>
                </a:lnTo>
                <a:lnTo>
                  <a:pt x="341996" y="25066"/>
                </a:lnTo>
                <a:lnTo>
                  <a:pt x="352782" y="20307"/>
                </a:lnTo>
                <a:lnTo>
                  <a:pt x="362617" y="15865"/>
                </a:lnTo>
                <a:lnTo>
                  <a:pt x="372134" y="13009"/>
                </a:lnTo>
                <a:lnTo>
                  <a:pt x="380700" y="11105"/>
                </a:lnTo>
                <a:lnTo>
                  <a:pt x="388948" y="9836"/>
                </a:lnTo>
                <a:lnTo>
                  <a:pt x="396562" y="9519"/>
                </a:lnTo>
                <a:lnTo>
                  <a:pt x="403859" y="9519"/>
                </a:lnTo>
                <a:lnTo>
                  <a:pt x="410522" y="10471"/>
                </a:lnTo>
                <a:lnTo>
                  <a:pt x="416549" y="12057"/>
                </a:lnTo>
                <a:lnTo>
                  <a:pt x="422894" y="14278"/>
                </a:lnTo>
                <a:lnTo>
                  <a:pt x="428288" y="16816"/>
                </a:lnTo>
                <a:lnTo>
                  <a:pt x="433681" y="19989"/>
                </a:lnTo>
                <a:lnTo>
                  <a:pt x="439074" y="23162"/>
                </a:lnTo>
                <a:lnTo>
                  <a:pt x="443833" y="26970"/>
                </a:lnTo>
                <a:lnTo>
                  <a:pt x="448592" y="30777"/>
                </a:lnTo>
                <a:lnTo>
                  <a:pt x="453033" y="34585"/>
                </a:lnTo>
                <a:lnTo>
                  <a:pt x="462550" y="43152"/>
                </a:lnTo>
                <a:lnTo>
                  <a:pt x="471434" y="51401"/>
                </a:lnTo>
                <a:lnTo>
                  <a:pt x="476510" y="55843"/>
                </a:lnTo>
                <a:lnTo>
                  <a:pt x="481268" y="59651"/>
                </a:lnTo>
                <a:lnTo>
                  <a:pt x="486027" y="63141"/>
                </a:lnTo>
                <a:lnTo>
                  <a:pt x="491738" y="66314"/>
                </a:lnTo>
                <a:lnTo>
                  <a:pt x="497131" y="69170"/>
                </a:lnTo>
                <a:lnTo>
                  <a:pt x="502841" y="72025"/>
                </a:lnTo>
                <a:lnTo>
                  <a:pt x="509186" y="73929"/>
                </a:lnTo>
                <a:lnTo>
                  <a:pt x="515531" y="75198"/>
                </a:lnTo>
                <a:lnTo>
                  <a:pt x="522194" y="76150"/>
                </a:lnTo>
                <a:lnTo>
                  <a:pt x="529808" y="76150"/>
                </a:lnTo>
                <a:lnTo>
                  <a:pt x="537739" y="75515"/>
                </a:lnTo>
                <a:lnTo>
                  <a:pt x="546304" y="74246"/>
                </a:lnTo>
                <a:lnTo>
                  <a:pt x="557408" y="68218"/>
                </a:lnTo>
                <a:lnTo>
                  <a:pt x="568195" y="62824"/>
                </a:lnTo>
                <a:lnTo>
                  <a:pt x="587864" y="51719"/>
                </a:lnTo>
                <a:lnTo>
                  <a:pt x="605313" y="41882"/>
                </a:lnTo>
                <a:lnTo>
                  <a:pt x="620858" y="32681"/>
                </a:lnTo>
                <a:lnTo>
                  <a:pt x="635452" y="24749"/>
                </a:lnTo>
                <a:lnTo>
                  <a:pt x="648776" y="17134"/>
                </a:lnTo>
                <a:lnTo>
                  <a:pt x="655438" y="13961"/>
                </a:lnTo>
                <a:lnTo>
                  <a:pt x="661784" y="11422"/>
                </a:lnTo>
                <a:lnTo>
                  <a:pt x="668446" y="8884"/>
                </a:lnTo>
                <a:lnTo>
                  <a:pt x="675108" y="6663"/>
                </a:lnTo>
                <a:lnTo>
                  <a:pt x="682088" y="4759"/>
                </a:lnTo>
                <a:lnTo>
                  <a:pt x="688750" y="3173"/>
                </a:lnTo>
                <a:lnTo>
                  <a:pt x="695729" y="1586"/>
                </a:lnTo>
                <a:lnTo>
                  <a:pt x="703343" y="635"/>
                </a:lnTo>
                <a:lnTo>
                  <a:pt x="710957" y="317"/>
                </a:lnTo>
                <a:lnTo>
                  <a:pt x="71920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 name="KSO_Shape"/>
          <p:cNvSpPr/>
          <p:nvPr/>
        </p:nvSpPr>
        <p:spPr>
          <a:xfrm>
            <a:off x="6958080" y="2913120"/>
            <a:ext cx="695160" cy="660240"/>
          </a:xfrm>
          <a:custGeom>
            <a:avLst/>
            <a:gdLst/>
            <a:ahLst/>
            <a:rect l="l" t="t" r="r" b="b"/>
            <a:pathLst>
              <a:path w="1917701" h="1819275">
                <a:moveTo>
                  <a:pt x="711992" y="795933"/>
                </a:moveTo>
                <a:lnTo>
                  <a:pt x="722042" y="796197"/>
                </a:lnTo>
                <a:lnTo>
                  <a:pt x="731828" y="796462"/>
                </a:lnTo>
                <a:lnTo>
                  <a:pt x="742143" y="796991"/>
                </a:lnTo>
                <a:lnTo>
                  <a:pt x="751929" y="797784"/>
                </a:lnTo>
                <a:lnTo>
                  <a:pt x="761979" y="798577"/>
                </a:lnTo>
                <a:lnTo>
                  <a:pt x="771765" y="799635"/>
                </a:lnTo>
                <a:lnTo>
                  <a:pt x="781551" y="800957"/>
                </a:lnTo>
                <a:lnTo>
                  <a:pt x="791337" y="802544"/>
                </a:lnTo>
                <a:lnTo>
                  <a:pt x="800858" y="804130"/>
                </a:lnTo>
                <a:lnTo>
                  <a:pt x="810644" y="805981"/>
                </a:lnTo>
                <a:lnTo>
                  <a:pt x="820166" y="807832"/>
                </a:lnTo>
                <a:lnTo>
                  <a:pt x="829687" y="810212"/>
                </a:lnTo>
                <a:lnTo>
                  <a:pt x="839473" y="812592"/>
                </a:lnTo>
                <a:lnTo>
                  <a:pt x="848994" y="814972"/>
                </a:lnTo>
                <a:lnTo>
                  <a:pt x="858252" y="817616"/>
                </a:lnTo>
                <a:lnTo>
                  <a:pt x="867773" y="820525"/>
                </a:lnTo>
                <a:lnTo>
                  <a:pt x="886551" y="826871"/>
                </a:lnTo>
                <a:lnTo>
                  <a:pt x="905065" y="833746"/>
                </a:lnTo>
                <a:lnTo>
                  <a:pt x="923315" y="841415"/>
                </a:lnTo>
                <a:lnTo>
                  <a:pt x="941300" y="849612"/>
                </a:lnTo>
                <a:lnTo>
                  <a:pt x="959284" y="858603"/>
                </a:lnTo>
                <a:lnTo>
                  <a:pt x="976740" y="868122"/>
                </a:lnTo>
                <a:lnTo>
                  <a:pt x="993932" y="878170"/>
                </a:lnTo>
                <a:lnTo>
                  <a:pt x="1011123" y="889012"/>
                </a:lnTo>
                <a:lnTo>
                  <a:pt x="1003189" y="891392"/>
                </a:lnTo>
                <a:lnTo>
                  <a:pt x="995254" y="893772"/>
                </a:lnTo>
                <a:lnTo>
                  <a:pt x="987055" y="896416"/>
                </a:lnTo>
                <a:lnTo>
                  <a:pt x="979121" y="899325"/>
                </a:lnTo>
                <a:lnTo>
                  <a:pt x="971186" y="902762"/>
                </a:lnTo>
                <a:lnTo>
                  <a:pt x="962987" y="905936"/>
                </a:lnTo>
                <a:lnTo>
                  <a:pt x="955053" y="909638"/>
                </a:lnTo>
                <a:lnTo>
                  <a:pt x="947383" y="913604"/>
                </a:lnTo>
                <a:lnTo>
                  <a:pt x="939448" y="917835"/>
                </a:lnTo>
                <a:lnTo>
                  <a:pt x="932043" y="922066"/>
                </a:lnTo>
                <a:lnTo>
                  <a:pt x="924637" y="926826"/>
                </a:lnTo>
                <a:lnTo>
                  <a:pt x="917231" y="931850"/>
                </a:lnTo>
                <a:lnTo>
                  <a:pt x="910090" y="936874"/>
                </a:lnTo>
                <a:lnTo>
                  <a:pt x="902949" y="942427"/>
                </a:lnTo>
                <a:lnTo>
                  <a:pt x="896073" y="948509"/>
                </a:lnTo>
                <a:lnTo>
                  <a:pt x="889461" y="954326"/>
                </a:lnTo>
                <a:lnTo>
                  <a:pt x="883113" y="960937"/>
                </a:lnTo>
                <a:lnTo>
                  <a:pt x="877030" y="967812"/>
                </a:lnTo>
                <a:lnTo>
                  <a:pt x="871211" y="974952"/>
                </a:lnTo>
                <a:lnTo>
                  <a:pt x="865393" y="982356"/>
                </a:lnTo>
                <a:lnTo>
                  <a:pt x="859838" y="990024"/>
                </a:lnTo>
                <a:lnTo>
                  <a:pt x="854813" y="998486"/>
                </a:lnTo>
                <a:lnTo>
                  <a:pt x="850052" y="1006683"/>
                </a:lnTo>
                <a:lnTo>
                  <a:pt x="845556" y="1015674"/>
                </a:lnTo>
                <a:lnTo>
                  <a:pt x="841324" y="1025193"/>
                </a:lnTo>
                <a:lnTo>
                  <a:pt x="837886" y="1034713"/>
                </a:lnTo>
                <a:lnTo>
                  <a:pt x="834183" y="1044761"/>
                </a:lnTo>
                <a:lnTo>
                  <a:pt x="831274" y="1055074"/>
                </a:lnTo>
                <a:lnTo>
                  <a:pt x="828629" y="1066180"/>
                </a:lnTo>
                <a:lnTo>
                  <a:pt x="826249" y="1077550"/>
                </a:lnTo>
                <a:lnTo>
                  <a:pt x="824398" y="1089185"/>
                </a:lnTo>
                <a:lnTo>
                  <a:pt x="823340" y="1101349"/>
                </a:lnTo>
                <a:lnTo>
                  <a:pt x="822017" y="1115893"/>
                </a:lnTo>
                <a:lnTo>
                  <a:pt x="821488" y="1129907"/>
                </a:lnTo>
                <a:lnTo>
                  <a:pt x="821488" y="1143129"/>
                </a:lnTo>
                <a:lnTo>
                  <a:pt x="821753" y="1156086"/>
                </a:lnTo>
                <a:lnTo>
                  <a:pt x="822546" y="1168514"/>
                </a:lnTo>
                <a:lnTo>
                  <a:pt x="824133" y="1180413"/>
                </a:lnTo>
                <a:lnTo>
                  <a:pt x="825984" y="1192048"/>
                </a:lnTo>
                <a:lnTo>
                  <a:pt x="828100" y="1203154"/>
                </a:lnTo>
                <a:lnTo>
                  <a:pt x="830745" y="1213731"/>
                </a:lnTo>
                <a:lnTo>
                  <a:pt x="833654" y="1224044"/>
                </a:lnTo>
                <a:lnTo>
                  <a:pt x="836828" y="1233828"/>
                </a:lnTo>
                <a:lnTo>
                  <a:pt x="840531" y="1243348"/>
                </a:lnTo>
                <a:lnTo>
                  <a:pt x="844763" y="1252338"/>
                </a:lnTo>
                <a:lnTo>
                  <a:pt x="848994" y="1260800"/>
                </a:lnTo>
                <a:lnTo>
                  <a:pt x="853491" y="1269262"/>
                </a:lnTo>
                <a:lnTo>
                  <a:pt x="858516" y="1276930"/>
                </a:lnTo>
                <a:lnTo>
                  <a:pt x="863806" y="1284334"/>
                </a:lnTo>
                <a:lnTo>
                  <a:pt x="869360" y="1291474"/>
                </a:lnTo>
                <a:lnTo>
                  <a:pt x="874914" y="1298349"/>
                </a:lnTo>
                <a:lnTo>
                  <a:pt x="880997" y="1304960"/>
                </a:lnTo>
                <a:lnTo>
                  <a:pt x="887080" y="1311042"/>
                </a:lnTo>
                <a:lnTo>
                  <a:pt x="893428" y="1316859"/>
                </a:lnTo>
                <a:lnTo>
                  <a:pt x="900040" y="1322412"/>
                </a:lnTo>
                <a:lnTo>
                  <a:pt x="906652" y="1327436"/>
                </a:lnTo>
                <a:lnTo>
                  <a:pt x="913264" y="1332196"/>
                </a:lnTo>
                <a:lnTo>
                  <a:pt x="920405" y="1336956"/>
                </a:lnTo>
                <a:lnTo>
                  <a:pt x="927546" y="1341187"/>
                </a:lnTo>
                <a:lnTo>
                  <a:pt x="934687" y="1345417"/>
                </a:lnTo>
                <a:lnTo>
                  <a:pt x="941828" y="1349119"/>
                </a:lnTo>
                <a:lnTo>
                  <a:pt x="949234" y="1352821"/>
                </a:lnTo>
                <a:lnTo>
                  <a:pt x="956904" y="1355995"/>
                </a:lnTo>
                <a:lnTo>
                  <a:pt x="964310" y="1358903"/>
                </a:lnTo>
                <a:lnTo>
                  <a:pt x="971715" y="1361812"/>
                </a:lnTo>
                <a:lnTo>
                  <a:pt x="979121" y="1364456"/>
                </a:lnTo>
                <a:lnTo>
                  <a:pt x="986526" y="1366836"/>
                </a:lnTo>
                <a:lnTo>
                  <a:pt x="993932" y="1368952"/>
                </a:lnTo>
                <a:lnTo>
                  <a:pt x="1008479" y="1372654"/>
                </a:lnTo>
                <a:lnTo>
                  <a:pt x="1023025" y="1375562"/>
                </a:lnTo>
                <a:lnTo>
                  <a:pt x="1037043" y="1378471"/>
                </a:lnTo>
                <a:lnTo>
                  <a:pt x="1050532" y="1380058"/>
                </a:lnTo>
                <a:lnTo>
                  <a:pt x="1063227" y="1381380"/>
                </a:lnTo>
                <a:lnTo>
                  <a:pt x="1075129" y="1382438"/>
                </a:lnTo>
                <a:lnTo>
                  <a:pt x="1086237" y="1382702"/>
                </a:lnTo>
                <a:lnTo>
                  <a:pt x="1096287" y="1383231"/>
                </a:lnTo>
                <a:lnTo>
                  <a:pt x="1105015" y="1383495"/>
                </a:lnTo>
                <a:lnTo>
                  <a:pt x="1112421" y="1383231"/>
                </a:lnTo>
                <a:lnTo>
                  <a:pt x="1122736" y="1382702"/>
                </a:lnTo>
                <a:lnTo>
                  <a:pt x="1126703" y="1382438"/>
                </a:lnTo>
                <a:lnTo>
                  <a:pt x="1126703" y="1394337"/>
                </a:lnTo>
                <a:lnTo>
                  <a:pt x="1126968" y="1406236"/>
                </a:lnTo>
                <a:lnTo>
                  <a:pt x="1127232" y="1417607"/>
                </a:lnTo>
                <a:lnTo>
                  <a:pt x="1128025" y="1428977"/>
                </a:lnTo>
                <a:lnTo>
                  <a:pt x="1129083" y="1439554"/>
                </a:lnTo>
                <a:lnTo>
                  <a:pt x="1130141" y="1450131"/>
                </a:lnTo>
                <a:lnTo>
                  <a:pt x="1131728" y="1460444"/>
                </a:lnTo>
                <a:lnTo>
                  <a:pt x="1133580" y="1470228"/>
                </a:lnTo>
                <a:lnTo>
                  <a:pt x="1135431" y="1480012"/>
                </a:lnTo>
                <a:lnTo>
                  <a:pt x="1137547" y="1489267"/>
                </a:lnTo>
                <a:lnTo>
                  <a:pt x="1139927" y="1498522"/>
                </a:lnTo>
                <a:lnTo>
                  <a:pt x="1142572" y="1507513"/>
                </a:lnTo>
                <a:lnTo>
                  <a:pt x="1145481" y="1515710"/>
                </a:lnTo>
                <a:lnTo>
                  <a:pt x="1148391" y="1524172"/>
                </a:lnTo>
                <a:lnTo>
                  <a:pt x="1151564" y="1532105"/>
                </a:lnTo>
                <a:lnTo>
                  <a:pt x="1155003" y="1539773"/>
                </a:lnTo>
                <a:lnTo>
                  <a:pt x="1158441" y="1547442"/>
                </a:lnTo>
                <a:lnTo>
                  <a:pt x="1162408" y="1554581"/>
                </a:lnTo>
                <a:lnTo>
                  <a:pt x="1166111" y="1561721"/>
                </a:lnTo>
                <a:lnTo>
                  <a:pt x="1170078" y="1568596"/>
                </a:lnTo>
                <a:lnTo>
                  <a:pt x="1174575" y="1575207"/>
                </a:lnTo>
                <a:lnTo>
                  <a:pt x="1178806" y="1581553"/>
                </a:lnTo>
                <a:lnTo>
                  <a:pt x="1183038" y="1587370"/>
                </a:lnTo>
                <a:lnTo>
                  <a:pt x="1187799" y="1593452"/>
                </a:lnTo>
                <a:lnTo>
                  <a:pt x="1192560" y="1599005"/>
                </a:lnTo>
                <a:lnTo>
                  <a:pt x="1197320" y="1604558"/>
                </a:lnTo>
                <a:lnTo>
                  <a:pt x="1202346" y="1609582"/>
                </a:lnTo>
                <a:lnTo>
                  <a:pt x="1207635" y="1614607"/>
                </a:lnTo>
                <a:lnTo>
                  <a:pt x="1212660" y="1619366"/>
                </a:lnTo>
                <a:lnTo>
                  <a:pt x="1217950" y="1624126"/>
                </a:lnTo>
                <a:lnTo>
                  <a:pt x="1223240" y="1628357"/>
                </a:lnTo>
                <a:lnTo>
                  <a:pt x="1229058" y="1632852"/>
                </a:lnTo>
                <a:lnTo>
                  <a:pt x="1234348" y="1636819"/>
                </a:lnTo>
                <a:lnTo>
                  <a:pt x="1239902" y="1640521"/>
                </a:lnTo>
                <a:lnTo>
                  <a:pt x="1245721" y="1644487"/>
                </a:lnTo>
                <a:lnTo>
                  <a:pt x="1251540" y="1647660"/>
                </a:lnTo>
                <a:lnTo>
                  <a:pt x="1263177" y="1654271"/>
                </a:lnTo>
                <a:lnTo>
                  <a:pt x="1274814" y="1660353"/>
                </a:lnTo>
                <a:lnTo>
                  <a:pt x="1286716" y="1665377"/>
                </a:lnTo>
                <a:lnTo>
                  <a:pt x="1298882" y="1670137"/>
                </a:lnTo>
                <a:lnTo>
                  <a:pt x="1310784" y="1673839"/>
                </a:lnTo>
                <a:lnTo>
                  <a:pt x="1322686" y="1677541"/>
                </a:lnTo>
                <a:lnTo>
                  <a:pt x="1334588" y="1680714"/>
                </a:lnTo>
                <a:lnTo>
                  <a:pt x="1346225" y="1683094"/>
                </a:lnTo>
                <a:lnTo>
                  <a:pt x="1357862" y="1685474"/>
                </a:lnTo>
                <a:lnTo>
                  <a:pt x="1368971" y="1687325"/>
                </a:lnTo>
                <a:lnTo>
                  <a:pt x="1380079" y="1688382"/>
                </a:lnTo>
                <a:lnTo>
                  <a:pt x="1390658" y="1689705"/>
                </a:lnTo>
                <a:lnTo>
                  <a:pt x="1401238" y="1690498"/>
                </a:lnTo>
                <a:lnTo>
                  <a:pt x="1411024" y="1690762"/>
                </a:lnTo>
                <a:lnTo>
                  <a:pt x="1411817" y="1709537"/>
                </a:lnTo>
                <a:lnTo>
                  <a:pt x="1412346" y="1728311"/>
                </a:lnTo>
                <a:lnTo>
                  <a:pt x="1412875" y="1747086"/>
                </a:lnTo>
                <a:lnTo>
                  <a:pt x="1412875" y="1766125"/>
                </a:lnTo>
                <a:lnTo>
                  <a:pt x="1412346" y="1792832"/>
                </a:lnTo>
                <a:lnTo>
                  <a:pt x="1411553" y="1819275"/>
                </a:lnTo>
                <a:lnTo>
                  <a:pt x="793" y="1811078"/>
                </a:lnTo>
                <a:lnTo>
                  <a:pt x="264" y="1784635"/>
                </a:lnTo>
                <a:lnTo>
                  <a:pt x="0" y="1757928"/>
                </a:lnTo>
                <a:lnTo>
                  <a:pt x="529" y="1733071"/>
                </a:lnTo>
                <a:lnTo>
                  <a:pt x="1058" y="1708215"/>
                </a:lnTo>
                <a:lnTo>
                  <a:pt x="2645" y="1683623"/>
                </a:lnTo>
                <a:lnTo>
                  <a:pt x="4232" y="1659031"/>
                </a:lnTo>
                <a:lnTo>
                  <a:pt x="6612" y="1634968"/>
                </a:lnTo>
                <a:lnTo>
                  <a:pt x="8992" y="1610905"/>
                </a:lnTo>
                <a:lnTo>
                  <a:pt x="12166" y="1587106"/>
                </a:lnTo>
                <a:lnTo>
                  <a:pt x="15340" y="1563307"/>
                </a:lnTo>
                <a:lnTo>
                  <a:pt x="19307" y="1539773"/>
                </a:lnTo>
                <a:lnTo>
                  <a:pt x="23804" y="1516503"/>
                </a:lnTo>
                <a:lnTo>
                  <a:pt x="28300" y="1493762"/>
                </a:lnTo>
                <a:lnTo>
                  <a:pt x="33590" y="1470757"/>
                </a:lnTo>
                <a:lnTo>
                  <a:pt x="38879" y="1448280"/>
                </a:lnTo>
                <a:lnTo>
                  <a:pt x="44962" y="1425804"/>
                </a:lnTo>
                <a:lnTo>
                  <a:pt x="51045" y="1403856"/>
                </a:lnTo>
                <a:lnTo>
                  <a:pt x="57658" y="1382173"/>
                </a:lnTo>
                <a:lnTo>
                  <a:pt x="64799" y="1360754"/>
                </a:lnTo>
                <a:lnTo>
                  <a:pt x="72204" y="1339336"/>
                </a:lnTo>
                <a:lnTo>
                  <a:pt x="79874" y="1318710"/>
                </a:lnTo>
                <a:lnTo>
                  <a:pt x="88073" y="1298085"/>
                </a:lnTo>
                <a:lnTo>
                  <a:pt x="96272" y="1277459"/>
                </a:lnTo>
                <a:lnTo>
                  <a:pt x="105265" y="1257627"/>
                </a:lnTo>
                <a:lnTo>
                  <a:pt x="114522" y="1238059"/>
                </a:lnTo>
                <a:lnTo>
                  <a:pt x="123779" y="1218491"/>
                </a:lnTo>
                <a:lnTo>
                  <a:pt x="133565" y="1199452"/>
                </a:lnTo>
                <a:lnTo>
                  <a:pt x="143615" y="1180678"/>
                </a:lnTo>
                <a:lnTo>
                  <a:pt x="153930" y="1162432"/>
                </a:lnTo>
                <a:lnTo>
                  <a:pt x="165038" y="1144451"/>
                </a:lnTo>
                <a:lnTo>
                  <a:pt x="176147" y="1126734"/>
                </a:lnTo>
                <a:lnTo>
                  <a:pt x="187255" y="1109546"/>
                </a:lnTo>
                <a:lnTo>
                  <a:pt x="198892" y="1092623"/>
                </a:lnTo>
                <a:lnTo>
                  <a:pt x="210794" y="1075964"/>
                </a:lnTo>
                <a:lnTo>
                  <a:pt x="222960" y="1059834"/>
                </a:lnTo>
                <a:lnTo>
                  <a:pt x="235391" y="1044232"/>
                </a:lnTo>
                <a:lnTo>
                  <a:pt x="248351" y="1028895"/>
                </a:lnTo>
                <a:lnTo>
                  <a:pt x="261310" y="1013823"/>
                </a:lnTo>
                <a:lnTo>
                  <a:pt x="274799" y="999544"/>
                </a:lnTo>
                <a:lnTo>
                  <a:pt x="288288" y="985529"/>
                </a:lnTo>
                <a:lnTo>
                  <a:pt x="302041" y="971779"/>
                </a:lnTo>
                <a:lnTo>
                  <a:pt x="316059" y="958557"/>
                </a:lnTo>
                <a:lnTo>
                  <a:pt x="330341" y="946129"/>
                </a:lnTo>
                <a:lnTo>
                  <a:pt x="344888" y="933965"/>
                </a:lnTo>
                <a:lnTo>
                  <a:pt x="359963" y="922066"/>
                </a:lnTo>
                <a:lnTo>
                  <a:pt x="374774" y="910695"/>
                </a:lnTo>
                <a:lnTo>
                  <a:pt x="389850" y="899589"/>
                </a:lnTo>
                <a:lnTo>
                  <a:pt x="405454" y="889541"/>
                </a:lnTo>
                <a:lnTo>
                  <a:pt x="420794" y="879757"/>
                </a:lnTo>
                <a:lnTo>
                  <a:pt x="436664" y="870238"/>
                </a:lnTo>
                <a:lnTo>
                  <a:pt x="452533" y="861511"/>
                </a:lnTo>
                <a:lnTo>
                  <a:pt x="468666" y="853314"/>
                </a:lnTo>
                <a:lnTo>
                  <a:pt x="485064" y="845646"/>
                </a:lnTo>
                <a:lnTo>
                  <a:pt x="501727" y="838242"/>
                </a:lnTo>
                <a:lnTo>
                  <a:pt x="518389" y="831631"/>
                </a:lnTo>
                <a:lnTo>
                  <a:pt x="535316" y="825285"/>
                </a:lnTo>
                <a:lnTo>
                  <a:pt x="552243" y="819732"/>
                </a:lnTo>
                <a:lnTo>
                  <a:pt x="569435" y="814972"/>
                </a:lnTo>
                <a:lnTo>
                  <a:pt x="586891" y="810477"/>
                </a:lnTo>
                <a:lnTo>
                  <a:pt x="604347" y="806510"/>
                </a:lnTo>
                <a:lnTo>
                  <a:pt x="622067" y="803337"/>
                </a:lnTo>
                <a:lnTo>
                  <a:pt x="639787" y="800693"/>
                </a:lnTo>
                <a:lnTo>
                  <a:pt x="657508" y="798577"/>
                </a:lnTo>
                <a:lnTo>
                  <a:pt x="675757" y="796991"/>
                </a:lnTo>
                <a:lnTo>
                  <a:pt x="693742" y="796197"/>
                </a:lnTo>
                <a:lnTo>
                  <a:pt x="711992" y="795933"/>
                </a:lnTo>
                <a:close/>
                <a:moveTo>
                  <a:pt x="1463280" y="660400"/>
                </a:moveTo>
                <a:lnTo>
                  <a:pt x="1469893" y="660400"/>
                </a:lnTo>
                <a:lnTo>
                  <a:pt x="1477034" y="660665"/>
                </a:lnTo>
                <a:lnTo>
                  <a:pt x="1483912" y="660929"/>
                </a:lnTo>
                <a:lnTo>
                  <a:pt x="1490789" y="661988"/>
                </a:lnTo>
                <a:lnTo>
                  <a:pt x="1497666" y="663046"/>
                </a:lnTo>
                <a:lnTo>
                  <a:pt x="1504279" y="664898"/>
                </a:lnTo>
                <a:lnTo>
                  <a:pt x="1510891" y="666750"/>
                </a:lnTo>
                <a:lnTo>
                  <a:pt x="1516975" y="668867"/>
                </a:lnTo>
                <a:lnTo>
                  <a:pt x="1523323" y="671248"/>
                </a:lnTo>
                <a:lnTo>
                  <a:pt x="1529142" y="673894"/>
                </a:lnTo>
                <a:lnTo>
                  <a:pt x="1535226" y="676804"/>
                </a:lnTo>
                <a:lnTo>
                  <a:pt x="1540780" y="679979"/>
                </a:lnTo>
                <a:lnTo>
                  <a:pt x="1546599" y="683683"/>
                </a:lnTo>
                <a:lnTo>
                  <a:pt x="1551625" y="687123"/>
                </a:lnTo>
                <a:lnTo>
                  <a:pt x="1556915" y="691356"/>
                </a:lnTo>
                <a:lnTo>
                  <a:pt x="1561676" y="695590"/>
                </a:lnTo>
                <a:lnTo>
                  <a:pt x="1566437" y="700088"/>
                </a:lnTo>
                <a:lnTo>
                  <a:pt x="1570934" y="704850"/>
                </a:lnTo>
                <a:lnTo>
                  <a:pt x="1575431" y="709613"/>
                </a:lnTo>
                <a:lnTo>
                  <a:pt x="1579134" y="714640"/>
                </a:lnTo>
                <a:lnTo>
                  <a:pt x="1583101" y="719931"/>
                </a:lnTo>
                <a:lnTo>
                  <a:pt x="1586540" y="725223"/>
                </a:lnTo>
                <a:lnTo>
                  <a:pt x="1589978" y="731044"/>
                </a:lnTo>
                <a:lnTo>
                  <a:pt x="1592888" y="736600"/>
                </a:lnTo>
                <a:lnTo>
                  <a:pt x="1595533" y="742685"/>
                </a:lnTo>
                <a:lnTo>
                  <a:pt x="1597914" y="748771"/>
                </a:lnTo>
                <a:lnTo>
                  <a:pt x="1600030" y="754856"/>
                </a:lnTo>
                <a:lnTo>
                  <a:pt x="1601881" y="761206"/>
                </a:lnTo>
                <a:lnTo>
                  <a:pt x="1603204" y="767556"/>
                </a:lnTo>
                <a:lnTo>
                  <a:pt x="1604526" y="774435"/>
                </a:lnTo>
                <a:lnTo>
                  <a:pt x="1605320" y="781050"/>
                </a:lnTo>
                <a:lnTo>
                  <a:pt x="1605584" y="787665"/>
                </a:lnTo>
                <a:lnTo>
                  <a:pt x="1605849" y="794544"/>
                </a:lnTo>
                <a:lnTo>
                  <a:pt x="1604791" y="967581"/>
                </a:lnTo>
                <a:lnTo>
                  <a:pt x="1781745" y="968375"/>
                </a:lnTo>
                <a:lnTo>
                  <a:pt x="1788887" y="968640"/>
                </a:lnTo>
                <a:lnTo>
                  <a:pt x="1795764" y="969169"/>
                </a:lnTo>
                <a:lnTo>
                  <a:pt x="1802641" y="970227"/>
                </a:lnTo>
                <a:lnTo>
                  <a:pt x="1809518" y="971285"/>
                </a:lnTo>
                <a:lnTo>
                  <a:pt x="1815866" y="972873"/>
                </a:lnTo>
                <a:lnTo>
                  <a:pt x="1822479" y="974725"/>
                </a:lnTo>
                <a:lnTo>
                  <a:pt x="1828827" y="977106"/>
                </a:lnTo>
                <a:lnTo>
                  <a:pt x="1834911" y="979488"/>
                </a:lnTo>
                <a:lnTo>
                  <a:pt x="1840994" y="982133"/>
                </a:lnTo>
                <a:lnTo>
                  <a:pt x="1846813" y="985044"/>
                </a:lnTo>
                <a:lnTo>
                  <a:pt x="1852633" y="988219"/>
                </a:lnTo>
                <a:lnTo>
                  <a:pt x="1857923" y="991923"/>
                </a:lnTo>
                <a:lnTo>
                  <a:pt x="1863213" y="995363"/>
                </a:lnTo>
                <a:lnTo>
                  <a:pt x="1868503" y="999596"/>
                </a:lnTo>
                <a:lnTo>
                  <a:pt x="1873264" y="1003829"/>
                </a:lnTo>
                <a:lnTo>
                  <a:pt x="1878025" y="1008327"/>
                </a:lnTo>
                <a:lnTo>
                  <a:pt x="1882522" y="1012825"/>
                </a:lnTo>
                <a:lnTo>
                  <a:pt x="1886754" y="1017852"/>
                </a:lnTo>
                <a:lnTo>
                  <a:pt x="1890986" y="1022879"/>
                </a:lnTo>
                <a:lnTo>
                  <a:pt x="1894689" y="1027906"/>
                </a:lnTo>
                <a:lnTo>
                  <a:pt x="1898128" y="1033463"/>
                </a:lnTo>
                <a:lnTo>
                  <a:pt x="1901302" y="1039283"/>
                </a:lnTo>
                <a:lnTo>
                  <a:pt x="1904211" y="1044840"/>
                </a:lnTo>
                <a:lnTo>
                  <a:pt x="1907385" y="1050660"/>
                </a:lnTo>
                <a:lnTo>
                  <a:pt x="1909766" y="1056746"/>
                </a:lnTo>
                <a:lnTo>
                  <a:pt x="1911882" y="1063096"/>
                </a:lnTo>
                <a:lnTo>
                  <a:pt x="1913469" y="1069181"/>
                </a:lnTo>
                <a:lnTo>
                  <a:pt x="1915056" y="1075796"/>
                </a:lnTo>
                <a:lnTo>
                  <a:pt x="1916114" y="1082410"/>
                </a:lnTo>
                <a:lnTo>
                  <a:pt x="1916908" y="1089290"/>
                </a:lnTo>
                <a:lnTo>
                  <a:pt x="1917436" y="1095640"/>
                </a:lnTo>
                <a:lnTo>
                  <a:pt x="1917701" y="1102783"/>
                </a:lnTo>
                <a:lnTo>
                  <a:pt x="1917436" y="1109663"/>
                </a:lnTo>
                <a:lnTo>
                  <a:pt x="1916908" y="1116277"/>
                </a:lnTo>
                <a:lnTo>
                  <a:pt x="1915849" y="1123156"/>
                </a:lnTo>
                <a:lnTo>
                  <a:pt x="1914791" y="1129506"/>
                </a:lnTo>
                <a:lnTo>
                  <a:pt x="1913204" y="1136121"/>
                </a:lnTo>
                <a:lnTo>
                  <a:pt x="1911088" y="1142471"/>
                </a:lnTo>
                <a:lnTo>
                  <a:pt x="1908972" y="1148556"/>
                </a:lnTo>
                <a:lnTo>
                  <a:pt x="1906592" y="1154642"/>
                </a:lnTo>
                <a:lnTo>
                  <a:pt x="1903682" y="1160463"/>
                </a:lnTo>
                <a:lnTo>
                  <a:pt x="1900773" y="1166283"/>
                </a:lnTo>
                <a:lnTo>
                  <a:pt x="1897599" y="1171840"/>
                </a:lnTo>
                <a:lnTo>
                  <a:pt x="1893896" y="1177131"/>
                </a:lnTo>
                <a:lnTo>
                  <a:pt x="1889928" y="1182158"/>
                </a:lnTo>
                <a:lnTo>
                  <a:pt x="1885960" y="1187450"/>
                </a:lnTo>
                <a:lnTo>
                  <a:pt x="1881728" y="1192213"/>
                </a:lnTo>
                <a:lnTo>
                  <a:pt x="1876967" y="1196975"/>
                </a:lnTo>
                <a:lnTo>
                  <a:pt x="1872206" y="1201208"/>
                </a:lnTo>
                <a:lnTo>
                  <a:pt x="1867445" y="1205442"/>
                </a:lnTo>
                <a:lnTo>
                  <a:pt x="1862155" y="1209411"/>
                </a:lnTo>
                <a:lnTo>
                  <a:pt x="1856600" y="1212850"/>
                </a:lnTo>
                <a:lnTo>
                  <a:pt x="1851046" y="1216554"/>
                </a:lnTo>
                <a:lnTo>
                  <a:pt x="1845491" y="1219465"/>
                </a:lnTo>
                <a:lnTo>
                  <a:pt x="1839407" y="1222375"/>
                </a:lnTo>
                <a:lnTo>
                  <a:pt x="1833588" y="1225021"/>
                </a:lnTo>
                <a:lnTo>
                  <a:pt x="1827240" y="1227402"/>
                </a:lnTo>
                <a:lnTo>
                  <a:pt x="1821156" y="1229519"/>
                </a:lnTo>
                <a:lnTo>
                  <a:pt x="1814544" y="1231371"/>
                </a:lnTo>
                <a:lnTo>
                  <a:pt x="1807931" y="1232958"/>
                </a:lnTo>
                <a:lnTo>
                  <a:pt x="1801054" y="1234017"/>
                </a:lnTo>
                <a:lnTo>
                  <a:pt x="1794177" y="1234546"/>
                </a:lnTo>
                <a:lnTo>
                  <a:pt x="1787300" y="1235340"/>
                </a:lnTo>
                <a:lnTo>
                  <a:pt x="1780158" y="1235340"/>
                </a:lnTo>
                <a:lnTo>
                  <a:pt x="1603204" y="1234281"/>
                </a:lnTo>
                <a:lnTo>
                  <a:pt x="1602410" y="1407319"/>
                </a:lnTo>
                <a:lnTo>
                  <a:pt x="1602146" y="1413933"/>
                </a:lnTo>
                <a:lnTo>
                  <a:pt x="1601617" y="1420813"/>
                </a:lnTo>
                <a:lnTo>
                  <a:pt x="1600559" y="1427692"/>
                </a:lnTo>
                <a:lnTo>
                  <a:pt x="1599501" y="1434306"/>
                </a:lnTo>
                <a:lnTo>
                  <a:pt x="1597914" y="1440392"/>
                </a:lnTo>
                <a:lnTo>
                  <a:pt x="1595798" y="1446742"/>
                </a:lnTo>
                <a:lnTo>
                  <a:pt x="1593682" y="1453092"/>
                </a:lnTo>
                <a:lnTo>
                  <a:pt x="1591301" y="1459177"/>
                </a:lnTo>
                <a:lnTo>
                  <a:pt x="1588656" y="1464998"/>
                </a:lnTo>
                <a:lnTo>
                  <a:pt x="1585482" y="1470819"/>
                </a:lnTo>
                <a:lnTo>
                  <a:pt x="1582043" y="1476111"/>
                </a:lnTo>
                <a:lnTo>
                  <a:pt x="1578605" y="1481931"/>
                </a:lnTo>
                <a:lnTo>
                  <a:pt x="1574637" y="1486958"/>
                </a:lnTo>
                <a:lnTo>
                  <a:pt x="1570670" y="1491986"/>
                </a:lnTo>
                <a:lnTo>
                  <a:pt x="1566437" y="1496748"/>
                </a:lnTo>
                <a:lnTo>
                  <a:pt x="1561941" y="1501511"/>
                </a:lnTo>
                <a:lnTo>
                  <a:pt x="1557180" y="1505744"/>
                </a:lnTo>
                <a:lnTo>
                  <a:pt x="1552154" y="1509713"/>
                </a:lnTo>
                <a:lnTo>
                  <a:pt x="1546864" y="1513946"/>
                </a:lnTo>
                <a:lnTo>
                  <a:pt x="1541309" y="1517650"/>
                </a:lnTo>
                <a:lnTo>
                  <a:pt x="1536019" y="1521090"/>
                </a:lnTo>
                <a:lnTo>
                  <a:pt x="1530200" y="1524000"/>
                </a:lnTo>
                <a:lnTo>
                  <a:pt x="1524381" y="1527175"/>
                </a:lnTo>
                <a:lnTo>
                  <a:pt x="1518297" y="1529821"/>
                </a:lnTo>
                <a:lnTo>
                  <a:pt x="1511949" y="1532202"/>
                </a:lnTo>
                <a:lnTo>
                  <a:pt x="1505601" y="1534319"/>
                </a:lnTo>
                <a:lnTo>
                  <a:pt x="1499253" y="1535906"/>
                </a:lnTo>
                <a:lnTo>
                  <a:pt x="1492640" y="1537494"/>
                </a:lnTo>
                <a:lnTo>
                  <a:pt x="1485763" y="1538288"/>
                </a:lnTo>
                <a:lnTo>
                  <a:pt x="1478886" y="1539346"/>
                </a:lnTo>
                <a:lnTo>
                  <a:pt x="1472009" y="1539875"/>
                </a:lnTo>
                <a:lnTo>
                  <a:pt x="1464867" y="1539875"/>
                </a:lnTo>
                <a:lnTo>
                  <a:pt x="1458255" y="1539611"/>
                </a:lnTo>
                <a:lnTo>
                  <a:pt x="1451113" y="1539346"/>
                </a:lnTo>
                <a:lnTo>
                  <a:pt x="1444236" y="1538288"/>
                </a:lnTo>
                <a:lnTo>
                  <a:pt x="1437623" y="1536965"/>
                </a:lnTo>
                <a:lnTo>
                  <a:pt x="1431010" y="1535377"/>
                </a:lnTo>
                <a:lnTo>
                  <a:pt x="1424398" y="1533525"/>
                </a:lnTo>
                <a:lnTo>
                  <a:pt x="1418314" y="1531673"/>
                </a:lnTo>
                <a:lnTo>
                  <a:pt x="1411966" y="1529292"/>
                </a:lnTo>
                <a:lnTo>
                  <a:pt x="1406147" y="1526381"/>
                </a:lnTo>
                <a:lnTo>
                  <a:pt x="1400063" y="1523471"/>
                </a:lnTo>
                <a:lnTo>
                  <a:pt x="1394509" y="1520296"/>
                </a:lnTo>
                <a:lnTo>
                  <a:pt x="1388690" y="1516592"/>
                </a:lnTo>
                <a:lnTo>
                  <a:pt x="1383399" y="1512888"/>
                </a:lnTo>
                <a:lnTo>
                  <a:pt x="1378374" y="1508919"/>
                </a:lnTo>
                <a:lnTo>
                  <a:pt x="1373348" y="1504686"/>
                </a:lnTo>
                <a:lnTo>
                  <a:pt x="1368852" y="1500188"/>
                </a:lnTo>
                <a:lnTo>
                  <a:pt x="1364355" y="1495425"/>
                </a:lnTo>
                <a:lnTo>
                  <a:pt x="1359858" y="1490663"/>
                </a:lnTo>
                <a:lnTo>
                  <a:pt x="1356155" y="1485636"/>
                </a:lnTo>
                <a:lnTo>
                  <a:pt x="1352188" y="1480344"/>
                </a:lnTo>
                <a:lnTo>
                  <a:pt x="1348749" y="1475052"/>
                </a:lnTo>
                <a:lnTo>
                  <a:pt x="1345311" y="1469496"/>
                </a:lnTo>
                <a:lnTo>
                  <a:pt x="1342401" y="1463675"/>
                </a:lnTo>
                <a:lnTo>
                  <a:pt x="1339756" y="1457854"/>
                </a:lnTo>
                <a:lnTo>
                  <a:pt x="1337375" y="1451504"/>
                </a:lnTo>
                <a:lnTo>
                  <a:pt x="1335259" y="1445154"/>
                </a:lnTo>
                <a:lnTo>
                  <a:pt x="1333408" y="1439069"/>
                </a:lnTo>
                <a:lnTo>
                  <a:pt x="1332085" y="1432454"/>
                </a:lnTo>
                <a:lnTo>
                  <a:pt x="1330763" y="1425840"/>
                </a:lnTo>
                <a:lnTo>
                  <a:pt x="1329969" y="1419490"/>
                </a:lnTo>
                <a:lnTo>
                  <a:pt x="1329440" y="1412611"/>
                </a:lnTo>
                <a:lnTo>
                  <a:pt x="1329440" y="1405731"/>
                </a:lnTo>
                <a:lnTo>
                  <a:pt x="1330234" y="1232958"/>
                </a:lnTo>
                <a:lnTo>
                  <a:pt x="1153279" y="1231636"/>
                </a:lnTo>
                <a:lnTo>
                  <a:pt x="1146402" y="1231371"/>
                </a:lnTo>
                <a:lnTo>
                  <a:pt x="1139525" y="1231106"/>
                </a:lnTo>
                <a:lnTo>
                  <a:pt x="1132648" y="1230048"/>
                </a:lnTo>
                <a:lnTo>
                  <a:pt x="1125771" y="1228990"/>
                </a:lnTo>
                <a:lnTo>
                  <a:pt x="1119423" y="1227138"/>
                </a:lnTo>
                <a:lnTo>
                  <a:pt x="1112810" y="1225286"/>
                </a:lnTo>
                <a:lnTo>
                  <a:pt x="1106462" y="1223433"/>
                </a:lnTo>
                <a:lnTo>
                  <a:pt x="1100378" y="1221052"/>
                </a:lnTo>
                <a:lnTo>
                  <a:pt x="1094295" y="1218406"/>
                </a:lnTo>
                <a:lnTo>
                  <a:pt x="1088476" y="1215231"/>
                </a:lnTo>
                <a:lnTo>
                  <a:pt x="1082656" y="1212056"/>
                </a:lnTo>
                <a:lnTo>
                  <a:pt x="1077102" y="1208352"/>
                </a:lnTo>
                <a:lnTo>
                  <a:pt x="1071812" y="1204648"/>
                </a:lnTo>
                <a:lnTo>
                  <a:pt x="1066786" y="1200679"/>
                </a:lnTo>
                <a:lnTo>
                  <a:pt x="1062025" y="1196446"/>
                </a:lnTo>
                <a:lnTo>
                  <a:pt x="1057264" y="1192213"/>
                </a:lnTo>
                <a:lnTo>
                  <a:pt x="1052767" y="1187450"/>
                </a:lnTo>
                <a:lnTo>
                  <a:pt x="1048271" y="1182688"/>
                </a:lnTo>
                <a:lnTo>
                  <a:pt x="1044303" y="1177396"/>
                </a:lnTo>
                <a:lnTo>
                  <a:pt x="1040600" y="1172104"/>
                </a:lnTo>
                <a:lnTo>
                  <a:pt x="1036897" y="1166813"/>
                </a:lnTo>
                <a:lnTo>
                  <a:pt x="1033723" y="1161256"/>
                </a:lnTo>
                <a:lnTo>
                  <a:pt x="1030549" y="1155435"/>
                </a:lnTo>
                <a:lnTo>
                  <a:pt x="1027904" y="1149615"/>
                </a:lnTo>
                <a:lnTo>
                  <a:pt x="1025523" y="1143265"/>
                </a:lnTo>
                <a:lnTo>
                  <a:pt x="1023407" y="1137444"/>
                </a:lnTo>
                <a:lnTo>
                  <a:pt x="1021820" y="1130829"/>
                </a:lnTo>
                <a:lnTo>
                  <a:pt x="1020233" y="1124215"/>
                </a:lnTo>
                <a:lnTo>
                  <a:pt x="1019175" y="1117600"/>
                </a:lnTo>
                <a:lnTo>
                  <a:pt x="1018117" y="1111250"/>
                </a:lnTo>
                <a:lnTo>
                  <a:pt x="1017853" y="1104371"/>
                </a:lnTo>
                <a:lnTo>
                  <a:pt x="1017588" y="1097492"/>
                </a:lnTo>
                <a:lnTo>
                  <a:pt x="1017853" y="1090613"/>
                </a:lnTo>
                <a:lnTo>
                  <a:pt x="1018382" y="1083733"/>
                </a:lnTo>
                <a:lnTo>
                  <a:pt x="1019440" y="1077383"/>
                </a:lnTo>
                <a:lnTo>
                  <a:pt x="1020498" y="1070769"/>
                </a:lnTo>
                <a:lnTo>
                  <a:pt x="1022085" y="1064154"/>
                </a:lnTo>
                <a:lnTo>
                  <a:pt x="1024201" y="1057804"/>
                </a:lnTo>
                <a:lnTo>
                  <a:pt x="1026317" y="1051719"/>
                </a:lnTo>
                <a:lnTo>
                  <a:pt x="1028697" y="1045633"/>
                </a:lnTo>
                <a:lnTo>
                  <a:pt x="1031607" y="1039813"/>
                </a:lnTo>
                <a:lnTo>
                  <a:pt x="1034516" y="1033992"/>
                </a:lnTo>
                <a:lnTo>
                  <a:pt x="1037690" y="1028435"/>
                </a:lnTo>
                <a:lnTo>
                  <a:pt x="1041394" y="1023144"/>
                </a:lnTo>
                <a:lnTo>
                  <a:pt x="1045361" y="1017852"/>
                </a:lnTo>
                <a:lnTo>
                  <a:pt x="1049329" y="1012825"/>
                </a:lnTo>
                <a:lnTo>
                  <a:pt x="1053561" y="1008063"/>
                </a:lnTo>
                <a:lnTo>
                  <a:pt x="1058057" y="1003565"/>
                </a:lnTo>
                <a:lnTo>
                  <a:pt x="1062818" y="999067"/>
                </a:lnTo>
                <a:lnTo>
                  <a:pt x="1067844" y="994833"/>
                </a:lnTo>
                <a:lnTo>
                  <a:pt x="1073134" y="990865"/>
                </a:lnTo>
                <a:lnTo>
                  <a:pt x="1078689" y="987160"/>
                </a:lnTo>
                <a:lnTo>
                  <a:pt x="1083979" y="983721"/>
                </a:lnTo>
                <a:lnTo>
                  <a:pt x="1089798" y="980546"/>
                </a:lnTo>
                <a:lnTo>
                  <a:pt x="1095617" y="977635"/>
                </a:lnTo>
                <a:lnTo>
                  <a:pt x="1101701" y="975254"/>
                </a:lnTo>
                <a:lnTo>
                  <a:pt x="1108049" y="972873"/>
                </a:lnTo>
                <a:lnTo>
                  <a:pt x="1114133" y="970756"/>
                </a:lnTo>
                <a:lnTo>
                  <a:pt x="1120745" y="968904"/>
                </a:lnTo>
                <a:lnTo>
                  <a:pt x="1127358" y="967581"/>
                </a:lnTo>
                <a:lnTo>
                  <a:pt x="1134235" y="966258"/>
                </a:lnTo>
                <a:lnTo>
                  <a:pt x="1141112" y="965465"/>
                </a:lnTo>
                <a:lnTo>
                  <a:pt x="1147989" y="965200"/>
                </a:lnTo>
                <a:lnTo>
                  <a:pt x="1155131" y="964935"/>
                </a:lnTo>
                <a:lnTo>
                  <a:pt x="1332085" y="965994"/>
                </a:lnTo>
                <a:lnTo>
                  <a:pt x="1332879" y="793221"/>
                </a:lnTo>
                <a:lnTo>
                  <a:pt x="1333143" y="786342"/>
                </a:lnTo>
                <a:lnTo>
                  <a:pt x="1333672" y="779463"/>
                </a:lnTo>
                <a:lnTo>
                  <a:pt x="1334730" y="772583"/>
                </a:lnTo>
                <a:lnTo>
                  <a:pt x="1335788" y="765969"/>
                </a:lnTo>
                <a:lnTo>
                  <a:pt x="1337375" y="759883"/>
                </a:lnTo>
                <a:lnTo>
                  <a:pt x="1339227" y="753269"/>
                </a:lnTo>
                <a:lnTo>
                  <a:pt x="1341608" y="747448"/>
                </a:lnTo>
                <a:lnTo>
                  <a:pt x="1343988" y="741098"/>
                </a:lnTo>
                <a:lnTo>
                  <a:pt x="1346633" y="735013"/>
                </a:lnTo>
                <a:lnTo>
                  <a:pt x="1349807" y="729456"/>
                </a:lnTo>
                <a:lnTo>
                  <a:pt x="1353246" y="723900"/>
                </a:lnTo>
                <a:lnTo>
                  <a:pt x="1356684" y="718344"/>
                </a:lnTo>
                <a:lnTo>
                  <a:pt x="1360652" y="713317"/>
                </a:lnTo>
                <a:lnTo>
                  <a:pt x="1364355" y="708290"/>
                </a:lnTo>
                <a:lnTo>
                  <a:pt x="1368852" y="703527"/>
                </a:lnTo>
                <a:lnTo>
                  <a:pt x="1373348" y="698765"/>
                </a:lnTo>
                <a:lnTo>
                  <a:pt x="1378109" y="694267"/>
                </a:lnTo>
                <a:lnTo>
                  <a:pt x="1383135" y="690298"/>
                </a:lnTo>
                <a:lnTo>
                  <a:pt x="1388161" y="686329"/>
                </a:lnTo>
                <a:lnTo>
                  <a:pt x="1393451" y="682890"/>
                </a:lnTo>
                <a:lnTo>
                  <a:pt x="1399270" y="679186"/>
                </a:lnTo>
                <a:lnTo>
                  <a:pt x="1404824" y="676275"/>
                </a:lnTo>
                <a:lnTo>
                  <a:pt x="1410908" y="673365"/>
                </a:lnTo>
                <a:lnTo>
                  <a:pt x="1416992" y="670454"/>
                </a:lnTo>
                <a:lnTo>
                  <a:pt x="1423075" y="668073"/>
                </a:lnTo>
                <a:lnTo>
                  <a:pt x="1429688" y="666221"/>
                </a:lnTo>
                <a:lnTo>
                  <a:pt x="1436036" y="664369"/>
                </a:lnTo>
                <a:lnTo>
                  <a:pt x="1442649" y="662781"/>
                </a:lnTo>
                <a:lnTo>
                  <a:pt x="1449261" y="661988"/>
                </a:lnTo>
                <a:lnTo>
                  <a:pt x="1456138" y="660929"/>
                </a:lnTo>
                <a:lnTo>
                  <a:pt x="1463280" y="660400"/>
                </a:lnTo>
                <a:close/>
                <a:moveTo>
                  <a:pt x="714108" y="0"/>
                </a:moveTo>
                <a:lnTo>
                  <a:pt x="723364" y="0"/>
                </a:lnTo>
                <a:lnTo>
                  <a:pt x="732621" y="264"/>
                </a:lnTo>
                <a:lnTo>
                  <a:pt x="741349" y="529"/>
                </a:lnTo>
                <a:lnTo>
                  <a:pt x="750606" y="1058"/>
                </a:lnTo>
                <a:lnTo>
                  <a:pt x="759599" y="2115"/>
                </a:lnTo>
                <a:lnTo>
                  <a:pt x="768591" y="3173"/>
                </a:lnTo>
                <a:lnTo>
                  <a:pt x="777319" y="4495"/>
                </a:lnTo>
                <a:lnTo>
                  <a:pt x="786312" y="5817"/>
                </a:lnTo>
                <a:lnTo>
                  <a:pt x="795040" y="7404"/>
                </a:lnTo>
                <a:lnTo>
                  <a:pt x="803503" y="9520"/>
                </a:lnTo>
                <a:lnTo>
                  <a:pt x="812231" y="11635"/>
                </a:lnTo>
                <a:lnTo>
                  <a:pt x="820959" y="14015"/>
                </a:lnTo>
                <a:lnTo>
                  <a:pt x="829158" y="16395"/>
                </a:lnTo>
                <a:lnTo>
                  <a:pt x="837622" y="19039"/>
                </a:lnTo>
                <a:lnTo>
                  <a:pt x="845821" y="21948"/>
                </a:lnTo>
                <a:lnTo>
                  <a:pt x="853755" y="24856"/>
                </a:lnTo>
                <a:lnTo>
                  <a:pt x="861954" y="28294"/>
                </a:lnTo>
                <a:lnTo>
                  <a:pt x="869889" y="31732"/>
                </a:lnTo>
                <a:lnTo>
                  <a:pt x="877559" y="35434"/>
                </a:lnTo>
                <a:lnTo>
                  <a:pt x="885493" y="39136"/>
                </a:lnTo>
                <a:lnTo>
                  <a:pt x="892899" y="43102"/>
                </a:lnTo>
                <a:lnTo>
                  <a:pt x="900569" y="47333"/>
                </a:lnTo>
                <a:lnTo>
                  <a:pt x="907710" y="51299"/>
                </a:lnTo>
                <a:lnTo>
                  <a:pt x="915116" y="56059"/>
                </a:lnTo>
                <a:lnTo>
                  <a:pt x="922257" y="60554"/>
                </a:lnTo>
                <a:lnTo>
                  <a:pt x="929398" y="65314"/>
                </a:lnTo>
                <a:lnTo>
                  <a:pt x="936274" y="70338"/>
                </a:lnTo>
                <a:lnTo>
                  <a:pt x="943151" y="75362"/>
                </a:lnTo>
                <a:lnTo>
                  <a:pt x="949763" y="80915"/>
                </a:lnTo>
                <a:lnTo>
                  <a:pt x="956111" y="86204"/>
                </a:lnTo>
                <a:lnTo>
                  <a:pt x="962458" y="91757"/>
                </a:lnTo>
                <a:lnTo>
                  <a:pt x="968806" y="97575"/>
                </a:lnTo>
                <a:lnTo>
                  <a:pt x="974889" y="103392"/>
                </a:lnTo>
                <a:lnTo>
                  <a:pt x="980972" y="109474"/>
                </a:lnTo>
                <a:lnTo>
                  <a:pt x="986526" y="115556"/>
                </a:lnTo>
                <a:lnTo>
                  <a:pt x="992080" y="121902"/>
                </a:lnTo>
                <a:lnTo>
                  <a:pt x="997635" y="128513"/>
                </a:lnTo>
                <a:lnTo>
                  <a:pt x="1002924" y="134859"/>
                </a:lnTo>
                <a:lnTo>
                  <a:pt x="1008214" y="141470"/>
                </a:lnTo>
                <a:lnTo>
                  <a:pt x="1013239" y="148345"/>
                </a:lnTo>
                <a:lnTo>
                  <a:pt x="1018000" y="155220"/>
                </a:lnTo>
                <a:lnTo>
                  <a:pt x="1022761" y="162360"/>
                </a:lnTo>
                <a:lnTo>
                  <a:pt x="1027257" y="169499"/>
                </a:lnTo>
                <a:lnTo>
                  <a:pt x="1031489" y="176903"/>
                </a:lnTo>
                <a:lnTo>
                  <a:pt x="1035720" y="184043"/>
                </a:lnTo>
                <a:lnTo>
                  <a:pt x="1039688" y="191711"/>
                </a:lnTo>
                <a:lnTo>
                  <a:pt x="1043655" y="199115"/>
                </a:lnTo>
                <a:lnTo>
                  <a:pt x="1047093" y="206784"/>
                </a:lnTo>
                <a:lnTo>
                  <a:pt x="1050532" y="214717"/>
                </a:lnTo>
                <a:lnTo>
                  <a:pt x="1053705" y="222650"/>
                </a:lnTo>
                <a:lnTo>
                  <a:pt x="1057144" y="230318"/>
                </a:lnTo>
                <a:lnTo>
                  <a:pt x="1059788" y="238780"/>
                </a:lnTo>
                <a:lnTo>
                  <a:pt x="1062433" y="246713"/>
                </a:lnTo>
                <a:lnTo>
                  <a:pt x="1064814" y="255175"/>
                </a:lnTo>
                <a:lnTo>
                  <a:pt x="1067194" y="263372"/>
                </a:lnTo>
                <a:lnTo>
                  <a:pt x="1069310" y="271834"/>
                </a:lnTo>
                <a:lnTo>
                  <a:pt x="1070897" y="280031"/>
                </a:lnTo>
                <a:lnTo>
                  <a:pt x="1072484" y="288757"/>
                </a:lnTo>
                <a:lnTo>
                  <a:pt x="1074071" y="297219"/>
                </a:lnTo>
                <a:lnTo>
                  <a:pt x="1075129" y="305945"/>
                </a:lnTo>
                <a:lnTo>
                  <a:pt x="1076186" y="314936"/>
                </a:lnTo>
                <a:lnTo>
                  <a:pt x="1076980" y="323397"/>
                </a:lnTo>
                <a:lnTo>
                  <a:pt x="1077509" y="332388"/>
                </a:lnTo>
                <a:lnTo>
                  <a:pt x="1077773" y="341379"/>
                </a:lnTo>
                <a:lnTo>
                  <a:pt x="1077773" y="350369"/>
                </a:lnTo>
                <a:lnTo>
                  <a:pt x="1077509" y="359360"/>
                </a:lnTo>
                <a:lnTo>
                  <a:pt x="1077244" y="368350"/>
                </a:lnTo>
                <a:lnTo>
                  <a:pt x="1076716" y="377341"/>
                </a:lnTo>
                <a:lnTo>
                  <a:pt x="1075658" y="385803"/>
                </a:lnTo>
                <a:lnTo>
                  <a:pt x="1074600" y="394793"/>
                </a:lnTo>
                <a:lnTo>
                  <a:pt x="1073277" y="403519"/>
                </a:lnTo>
                <a:lnTo>
                  <a:pt x="1071955" y="411981"/>
                </a:lnTo>
                <a:lnTo>
                  <a:pt x="1070103" y="420707"/>
                </a:lnTo>
                <a:lnTo>
                  <a:pt x="1068252" y="428905"/>
                </a:lnTo>
                <a:lnTo>
                  <a:pt x="1065872" y="437366"/>
                </a:lnTo>
                <a:lnTo>
                  <a:pt x="1063756" y="445564"/>
                </a:lnTo>
                <a:lnTo>
                  <a:pt x="1061111" y="454026"/>
                </a:lnTo>
                <a:lnTo>
                  <a:pt x="1058466" y="461958"/>
                </a:lnTo>
                <a:lnTo>
                  <a:pt x="1055557" y="469891"/>
                </a:lnTo>
                <a:lnTo>
                  <a:pt x="1052383" y="478089"/>
                </a:lnTo>
                <a:lnTo>
                  <a:pt x="1048945" y="485757"/>
                </a:lnTo>
                <a:lnTo>
                  <a:pt x="1045506" y="493426"/>
                </a:lnTo>
                <a:lnTo>
                  <a:pt x="1041804" y="501358"/>
                </a:lnTo>
                <a:lnTo>
                  <a:pt x="1038101" y="508762"/>
                </a:lnTo>
                <a:lnTo>
                  <a:pt x="1033869" y="516166"/>
                </a:lnTo>
                <a:lnTo>
                  <a:pt x="1029637" y="523570"/>
                </a:lnTo>
                <a:lnTo>
                  <a:pt x="1025141" y="530710"/>
                </a:lnTo>
                <a:lnTo>
                  <a:pt x="1020380" y="537850"/>
                </a:lnTo>
                <a:lnTo>
                  <a:pt x="1015620" y="544725"/>
                </a:lnTo>
                <a:lnTo>
                  <a:pt x="1010859" y="551864"/>
                </a:lnTo>
                <a:lnTo>
                  <a:pt x="1005834" y="558211"/>
                </a:lnTo>
                <a:lnTo>
                  <a:pt x="1000544" y="564821"/>
                </a:lnTo>
                <a:lnTo>
                  <a:pt x="995254" y="571432"/>
                </a:lnTo>
                <a:lnTo>
                  <a:pt x="989436" y="578043"/>
                </a:lnTo>
                <a:lnTo>
                  <a:pt x="983882" y="584125"/>
                </a:lnTo>
                <a:lnTo>
                  <a:pt x="977798" y="590207"/>
                </a:lnTo>
                <a:lnTo>
                  <a:pt x="971980" y="596024"/>
                </a:lnTo>
                <a:lnTo>
                  <a:pt x="965632" y="601842"/>
                </a:lnTo>
                <a:lnTo>
                  <a:pt x="959549" y="607659"/>
                </a:lnTo>
                <a:lnTo>
                  <a:pt x="953201" y="612948"/>
                </a:lnTo>
                <a:lnTo>
                  <a:pt x="946325" y="618501"/>
                </a:lnTo>
                <a:lnTo>
                  <a:pt x="939713" y="623789"/>
                </a:lnTo>
                <a:lnTo>
                  <a:pt x="933100" y="628813"/>
                </a:lnTo>
                <a:lnTo>
                  <a:pt x="926224" y="633573"/>
                </a:lnTo>
                <a:lnTo>
                  <a:pt x="919083" y="638333"/>
                </a:lnTo>
                <a:lnTo>
                  <a:pt x="911942" y="642828"/>
                </a:lnTo>
                <a:lnTo>
                  <a:pt x="904536" y="647323"/>
                </a:lnTo>
                <a:lnTo>
                  <a:pt x="897131" y="651290"/>
                </a:lnTo>
                <a:lnTo>
                  <a:pt x="889461" y="655521"/>
                </a:lnTo>
                <a:lnTo>
                  <a:pt x="881791" y="659487"/>
                </a:lnTo>
                <a:lnTo>
                  <a:pt x="874120" y="663189"/>
                </a:lnTo>
                <a:lnTo>
                  <a:pt x="866186" y="666627"/>
                </a:lnTo>
                <a:lnTo>
                  <a:pt x="857987" y="670064"/>
                </a:lnTo>
                <a:lnTo>
                  <a:pt x="850052" y="672973"/>
                </a:lnTo>
                <a:lnTo>
                  <a:pt x="841853" y="676146"/>
                </a:lnTo>
                <a:lnTo>
                  <a:pt x="833654" y="679055"/>
                </a:lnTo>
                <a:lnTo>
                  <a:pt x="825455" y="681699"/>
                </a:lnTo>
                <a:lnTo>
                  <a:pt x="816992" y="684079"/>
                </a:lnTo>
                <a:lnTo>
                  <a:pt x="808264" y="686195"/>
                </a:lnTo>
                <a:lnTo>
                  <a:pt x="799800" y="688310"/>
                </a:lnTo>
                <a:lnTo>
                  <a:pt x="791072" y="690161"/>
                </a:lnTo>
                <a:lnTo>
                  <a:pt x="782609" y="691483"/>
                </a:lnTo>
                <a:lnTo>
                  <a:pt x="773616" y="693070"/>
                </a:lnTo>
                <a:lnTo>
                  <a:pt x="764624" y="694128"/>
                </a:lnTo>
                <a:lnTo>
                  <a:pt x="755632" y="695185"/>
                </a:lnTo>
                <a:lnTo>
                  <a:pt x="746639" y="695714"/>
                </a:lnTo>
                <a:lnTo>
                  <a:pt x="737647" y="696243"/>
                </a:lnTo>
                <a:lnTo>
                  <a:pt x="728390" y="696507"/>
                </a:lnTo>
                <a:lnTo>
                  <a:pt x="719133" y="696507"/>
                </a:lnTo>
                <a:lnTo>
                  <a:pt x="709876" y="696507"/>
                </a:lnTo>
                <a:lnTo>
                  <a:pt x="700883" y="695979"/>
                </a:lnTo>
                <a:lnTo>
                  <a:pt x="691891" y="695450"/>
                </a:lnTo>
                <a:lnTo>
                  <a:pt x="682898" y="694392"/>
                </a:lnTo>
                <a:lnTo>
                  <a:pt x="673906" y="693599"/>
                </a:lnTo>
                <a:lnTo>
                  <a:pt x="664913" y="692541"/>
                </a:lnTo>
                <a:lnTo>
                  <a:pt x="656186" y="690954"/>
                </a:lnTo>
                <a:lnTo>
                  <a:pt x="647458" y="689103"/>
                </a:lnTo>
                <a:lnTo>
                  <a:pt x="638730" y="687252"/>
                </a:lnTo>
                <a:lnTo>
                  <a:pt x="630266" y="684872"/>
                </a:lnTo>
                <a:lnTo>
                  <a:pt x="621538" y="683021"/>
                </a:lnTo>
                <a:lnTo>
                  <a:pt x="613339" y="680113"/>
                </a:lnTo>
                <a:lnTo>
                  <a:pt x="604876" y="677468"/>
                </a:lnTo>
                <a:lnTo>
                  <a:pt x="596676" y="674824"/>
                </a:lnTo>
                <a:lnTo>
                  <a:pt x="588478" y="671651"/>
                </a:lnTo>
                <a:lnTo>
                  <a:pt x="580543" y="668213"/>
                </a:lnTo>
                <a:lnTo>
                  <a:pt x="572873" y="665040"/>
                </a:lnTo>
                <a:lnTo>
                  <a:pt x="564674" y="661603"/>
                </a:lnTo>
                <a:lnTo>
                  <a:pt x="557004" y="657636"/>
                </a:lnTo>
                <a:lnTo>
                  <a:pt x="549598" y="653405"/>
                </a:lnTo>
                <a:lnTo>
                  <a:pt x="541928" y="649439"/>
                </a:lnTo>
                <a:lnTo>
                  <a:pt x="534787" y="645208"/>
                </a:lnTo>
                <a:lnTo>
                  <a:pt x="527382" y="640713"/>
                </a:lnTo>
                <a:lnTo>
                  <a:pt x="520241" y="635953"/>
                </a:lnTo>
                <a:lnTo>
                  <a:pt x="513364" y="631193"/>
                </a:lnTo>
                <a:lnTo>
                  <a:pt x="506223" y="626169"/>
                </a:lnTo>
                <a:lnTo>
                  <a:pt x="499611" y="621145"/>
                </a:lnTo>
                <a:lnTo>
                  <a:pt x="492734" y="615592"/>
                </a:lnTo>
                <a:lnTo>
                  <a:pt x="486122" y="610303"/>
                </a:lnTo>
                <a:lnTo>
                  <a:pt x="480039" y="604750"/>
                </a:lnTo>
                <a:lnTo>
                  <a:pt x="473691" y="598933"/>
                </a:lnTo>
                <a:lnTo>
                  <a:pt x="467873" y="593115"/>
                </a:lnTo>
                <a:lnTo>
                  <a:pt x="461790" y="587298"/>
                </a:lnTo>
                <a:lnTo>
                  <a:pt x="455971" y="580952"/>
                </a:lnTo>
                <a:lnTo>
                  <a:pt x="450152" y="574605"/>
                </a:lnTo>
                <a:lnTo>
                  <a:pt x="444863" y="568523"/>
                </a:lnTo>
                <a:lnTo>
                  <a:pt x="439573" y="561913"/>
                </a:lnTo>
                <a:lnTo>
                  <a:pt x="434283" y="555038"/>
                </a:lnTo>
                <a:lnTo>
                  <a:pt x="429258" y="548162"/>
                </a:lnTo>
                <a:lnTo>
                  <a:pt x="424497" y="541287"/>
                </a:lnTo>
                <a:lnTo>
                  <a:pt x="419737" y="534148"/>
                </a:lnTo>
                <a:lnTo>
                  <a:pt x="415240" y="527008"/>
                </a:lnTo>
                <a:lnTo>
                  <a:pt x="411009" y="519868"/>
                </a:lnTo>
                <a:lnTo>
                  <a:pt x="406777" y="512464"/>
                </a:lnTo>
                <a:lnTo>
                  <a:pt x="402545" y="505060"/>
                </a:lnTo>
                <a:lnTo>
                  <a:pt x="398842" y="497392"/>
                </a:lnTo>
                <a:lnTo>
                  <a:pt x="395140" y="489988"/>
                </a:lnTo>
                <a:lnTo>
                  <a:pt x="391966" y="481791"/>
                </a:lnTo>
                <a:lnTo>
                  <a:pt x="388792" y="474122"/>
                </a:lnTo>
                <a:lnTo>
                  <a:pt x="385618" y="466189"/>
                </a:lnTo>
                <a:lnTo>
                  <a:pt x="382709" y="458256"/>
                </a:lnTo>
                <a:lnTo>
                  <a:pt x="380064" y="449795"/>
                </a:lnTo>
                <a:lnTo>
                  <a:pt x="377684" y="441862"/>
                </a:lnTo>
                <a:lnTo>
                  <a:pt x="375303" y="433400"/>
                </a:lnTo>
                <a:lnTo>
                  <a:pt x="373187" y="425203"/>
                </a:lnTo>
                <a:lnTo>
                  <a:pt x="371336" y="416477"/>
                </a:lnTo>
                <a:lnTo>
                  <a:pt x="370014" y="407750"/>
                </a:lnTo>
                <a:lnTo>
                  <a:pt x="368427" y="399289"/>
                </a:lnTo>
                <a:lnTo>
                  <a:pt x="367369" y="390562"/>
                </a:lnTo>
                <a:lnTo>
                  <a:pt x="366311" y="382101"/>
                </a:lnTo>
                <a:lnTo>
                  <a:pt x="365517" y="373110"/>
                </a:lnTo>
                <a:lnTo>
                  <a:pt x="364988" y="364120"/>
                </a:lnTo>
                <a:lnTo>
                  <a:pt x="364724" y="355129"/>
                </a:lnTo>
                <a:lnTo>
                  <a:pt x="364724" y="346403"/>
                </a:lnTo>
                <a:lnTo>
                  <a:pt x="364988" y="337412"/>
                </a:lnTo>
                <a:lnTo>
                  <a:pt x="365253" y="328422"/>
                </a:lnTo>
                <a:lnTo>
                  <a:pt x="365782" y="319695"/>
                </a:lnTo>
                <a:lnTo>
                  <a:pt x="366575" y="310705"/>
                </a:lnTo>
                <a:lnTo>
                  <a:pt x="367898" y="301979"/>
                </a:lnTo>
                <a:lnTo>
                  <a:pt x="368956" y="292988"/>
                </a:lnTo>
                <a:lnTo>
                  <a:pt x="370542" y="284791"/>
                </a:lnTo>
                <a:lnTo>
                  <a:pt x="372394" y="276064"/>
                </a:lnTo>
                <a:lnTo>
                  <a:pt x="374245" y="267603"/>
                </a:lnTo>
                <a:lnTo>
                  <a:pt x="376626" y="259141"/>
                </a:lnTo>
                <a:lnTo>
                  <a:pt x="378477" y="250944"/>
                </a:lnTo>
                <a:lnTo>
                  <a:pt x="381386" y="242746"/>
                </a:lnTo>
                <a:lnTo>
                  <a:pt x="384031" y="234549"/>
                </a:lnTo>
                <a:lnTo>
                  <a:pt x="386940" y="226616"/>
                </a:lnTo>
                <a:lnTo>
                  <a:pt x="390114" y="218683"/>
                </a:lnTo>
                <a:lnTo>
                  <a:pt x="393553" y="210750"/>
                </a:lnTo>
                <a:lnTo>
                  <a:pt x="396991" y="203082"/>
                </a:lnTo>
                <a:lnTo>
                  <a:pt x="400694" y="195678"/>
                </a:lnTo>
                <a:lnTo>
                  <a:pt x="404396" y="187745"/>
                </a:lnTo>
                <a:lnTo>
                  <a:pt x="408628" y="180341"/>
                </a:lnTo>
                <a:lnTo>
                  <a:pt x="412860" y="173201"/>
                </a:lnTo>
                <a:lnTo>
                  <a:pt x="417356" y="165797"/>
                </a:lnTo>
                <a:lnTo>
                  <a:pt x="422117" y="158658"/>
                </a:lnTo>
                <a:lnTo>
                  <a:pt x="426878" y="151783"/>
                </a:lnTo>
                <a:lnTo>
                  <a:pt x="431638" y="144907"/>
                </a:lnTo>
                <a:lnTo>
                  <a:pt x="436664" y="138297"/>
                </a:lnTo>
                <a:lnTo>
                  <a:pt x="441953" y="131686"/>
                </a:lnTo>
                <a:lnTo>
                  <a:pt x="447243" y="125075"/>
                </a:lnTo>
                <a:lnTo>
                  <a:pt x="453062" y="118993"/>
                </a:lnTo>
                <a:lnTo>
                  <a:pt x="458616" y="112647"/>
                </a:lnTo>
                <a:lnTo>
                  <a:pt x="464434" y="106301"/>
                </a:lnTo>
                <a:lnTo>
                  <a:pt x="470518" y="100483"/>
                </a:lnTo>
                <a:lnTo>
                  <a:pt x="476865" y="94666"/>
                </a:lnTo>
                <a:lnTo>
                  <a:pt x="482948" y="89113"/>
                </a:lnTo>
                <a:lnTo>
                  <a:pt x="489560" y="83560"/>
                </a:lnTo>
                <a:lnTo>
                  <a:pt x="496172" y="78271"/>
                </a:lnTo>
                <a:lnTo>
                  <a:pt x="502520" y="72983"/>
                </a:lnTo>
                <a:lnTo>
                  <a:pt x="509397" y="67958"/>
                </a:lnTo>
                <a:lnTo>
                  <a:pt x="516538" y="62934"/>
                </a:lnTo>
                <a:lnTo>
                  <a:pt x="523414" y="58175"/>
                </a:lnTo>
                <a:lnTo>
                  <a:pt x="530820" y="53679"/>
                </a:lnTo>
                <a:lnTo>
                  <a:pt x="537961" y="49184"/>
                </a:lnTo>
                <a:lnTo>
                  <a:pt x="545367" y="45217"/>
                </a:lnTo>
                <a:lnTo>
                  <a:pt x="553301" y="40987"/>
                </a:lnTo>
                <a:lnTo>
                  <a:pt x="560707" y="37020"/>
                </a:lnTo>
                <a:lnTo>
                  <a:pt x="568377" y="33583"/>
                </a:lnTo>
                <a:lnTo>
                  <a:pt x="576311" y="29881"/>
                </a:lnTo>
                <a:lnTo>
                  <a:pt x="584510" y="26707"/>
                </a:lnTo>
                <a:lnTo>
                  <a:pt x="592445" y="23534"/>
                </a:lnTo>
                <a:lnTo>
                  <a:pt x="600379" y="20361"/>
                </a:lnTo>
                <a:lnTo>
                  <a:pt x="608843" y="17717"/>
                </a:lnTo>
                <a:lnTo>
                  <a:pt x="617042" y="15073"/>
                </a:lnTo>
                <a:lnTo>
                  <a:pt x="625505" y="12693"/>
                </a:lnTo>
                <a:lnTo>
                  <a:pt x="633969" y="10313"/>
                </a:lnTo>
                <a:lnTo>
                  <a:pt x="642697" y="8462"/>
                </a:lnTo>
                <a:lnTo>
                  <a:pt x="651425" y="6875"/>
                </a:lnTo>
                <a:lnTo>
                  <a:pt x="659888" y="5024"/>
                </a:lnTo>
                <a:lnTo>
                  <a:pt x="668881" y="3702"/>
                </a:lnTo>
                <a:lnTo>
                  <a:pt x="677873" y="2644"/>
                </a:lnTo>
                <a:lnTo>
                  <a:pt x="686601" y="1851"/>
                </a:lnTo>
                <a:lnTo>
                  <a:pt x="695858" y="793"/>
                </a:lnTo>
                <a:lnTo>
                  <a:pt x="704851" y="264"/>
                </a:lnTo>
                <a:lnTo>
                  <a:pt x="71410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6" name="KSO_Shape"/>
          <p:cNvSpPr/>
          <p:nvPr/>
        </p:nvSpPr>
        <p:spPr>
          <a:xfrm>
            <a:off x="4546440" y="2913120"/>
            <a:ext cx="695520" cy="695160"/>
          </a:xfrm>
          <a:custGeom>
            <a:avLst/>
            <a:gdLst/>
            <a:ahLst/>
            <a:rect l="l" t="t" r="r" b="b"/>
            <a:pathLst>
              <a:path w="1474634" h="1474633">
                <a:moveTo>
                  <a:pt x="532395" y="0"/>
                </a:moveTo>
                <a:lnTo>
                  <a:pt x="942238" y="0"/>
                </a:lnTo>
                <a:lnTo>
                  <a:pt x="942238" y="224655"/>
                </a:lnTo>
                <a:lnTo>
                  <a:pt x="942239" y="224655"/>
                </a:lnTo>
                <a:lnTo>
                  <a:pt x="869379" y="275833"/>
                </a:lnTo>
                <a:lnTo>
                  <a:pt x="869379" y="423721"/>
                </a:lnTo>
                <a:lnTo>
                  <a:pt x="869379" y="425884"/>
                </a:lnTo>
                <a:lnTo>
                  <a:pt x="866300" y="425884"/>
                </a:lnTo>
                <a:lnTo>
                  <a:pt x="825423" y="454597"/>
                </a:lnTo>
                <a:lnTo>
                  <a:pt x="825423" y="649211"/>
                </a:lnTo>
                <a:lnTo>
                  <a:pt x="1020038" y="649211"/>
                </a:lnTo>
                <a:lnTo>
                  <a:pt x="1048750" y="608336"/>
                </a:lnTo>
                <a:lnTo>
                  <a:pt x="1048750" y="605257"/>
                </a:lnTo>
                <a:lnTo>
                  <a:pt x="1050912" y="605257"/>
                </a:lnTo>
                <a:lnTo>
                  <a:pt x="1050913" y="605256"/>
                </a:lnTo>
                <a:lnTo>
                  <a:pt x="1050913" y="605257"/>
                </a:lnTo>
                <a:lnTo>
                  <a:pt x="1249979" y="605257"/>
                </a:lnTo>
                <a:lnTo>
                  <a:pt x="1249979" y="605256"/>
                </a:lnTo>
                <a:lnTo>
                  <a:pt x="1198801" y="605256"/>
                </a:lnTo>
                <a:lnTo>
                  <a:pt x="1249979" y="532396"/>
                </a:lnTo>
                <a:lnTo>
                  <a:pt x="1249979" y="532395"/>
                </a:lnTo>
                <a:lnTo>
                  <a:pt x="1474634" y="532395"/>
                </a:lnTo>
                <a:lnTo>
                  <a:pt x="1474634" y="942238"/>
                </a:lnTo>
                <a:lnTo>
                  <a:pt x="1249979" y="942238"/>
                </a:lnTo>
                <a:lnTo>
                  <a:pt x="1249979" y="942239"/>
                </a:lnTo>
                <a:lnTo>
                  <a:pt x="1198801" y="869379"/>
                </a:lnTo>
                <a:lnTo>
                  <a:pt x="1050913" y="869379"/>
                </a:lnTo>
                <a:lnTo>
                  <a:pt x="1048750" y="869379"/>
                </a:lnTo>
                <a:lnTo>
                  <a:pt x="1048750" y="866300"/>
                </a:lnTo>
                <a:lnTo>
                  <a:pt x="1020037" y="825423"/>
                </a:lnTo>
                <a:lnTo>
                  <a:pt x="825423" y="825423"/>
                </a:lnTo>
                <a:lnTo>
                  <a:pt x="825423" y="1020037"/>
                </a:lnTo>
                <a:lnTo>
                  <a:pt x="866300" y="1048749"/>
                </a:lnTo>
                <a:lnTo>
                  <a:pt x="869379" y="1048749"/>
                </a:lnTo>
                <a:lnTo>
                  <a:pt x="869379" y="1050912"/>
                </a:lnTo>
                <a:lnTo>
                  <a:pt x="869379" y="1198800"/>
                </a:lnTo>
                <a:lnTo>
                  <a:pt x="942239" y="1249978"/>
                </a:lnTo>
                <a:lnTo>
                  <a:pt x="942238" y="1249978"/>
                </a:lnTo>
                <a:lnTo>
                  <a:pt x="942238" y="1474633"/>
                </a:lnTo>
                <a:lnTo>
                  <a:pt x="532395" y="1474633"/>
                </a:lnTo>
                <a:lnTo>
                  <a:pt x="532395" y="1249978"/>
                </a:lnTo>
                <a:lnTo>
                  <a:pt x="532396" y="1249978"/>
                </a:lnTo>
                <a:lnTo>
                  <a:pt x="605256" y="1198800"/>
                </a:lnTo>
                <a:lnTo>
                  <a:pt x="605256" y="1249978"/>
                </a:lnTo>
                <a:lnTo>
                  <a:pt x="605257" y="1249978"/>
                </a:lnTo>
                <a:lnTo>
                  <a:pt x="605257" y="1050912"/>
                </a:lnTo>
                <a:lnTo>
                  <a:pt x="605256" y="1050912"/>
                </a:lnTo>
                <a:lnTo>
                  <a:pt x="605257" y="1050911"/>
                </a:lnTo>
                <a:lnTo>
                  <a:pt x="605257" y="1048749"/>
                </a:lnTo>
                <a:lnTo>
                  <a:pt x="608336" y="1048749"/>
                </a:lnTo>
                <a:lnTo>
                  <a:pt x="649211" y="1020038"/>
                </a:lnTo>
                <a:lnTo>
                  <a:pt x="649211" y="825423"/>
                </a:lnTo>
                <a:lnTo>
                  <a:pt x="454596" y="825423"/>
                </a:lnTo>
                <a:lnTo>
                  <a:pt x="425884" y="866300"/>
                </a:lnTo>
                <a:lnTo>
                  <a:pt x="425884" y="869379"/>
                </a:lnTo>
                <a:lnTo>
                  <a:pt x="423721" y="869379"/>
                </a:lnTo>
                <a:lnTo>
                  <a:pt x="275833" y="869379"/>
                </a:lnTo>
                <a:lnTo>
                  <a:pt x="224655" y="942239"/>
                </a:lnTo>
                <a:lnTo>
                  <a:pt x="224655" y="942238"/>
                </a:lnTo>
                <a:lnTo>
                  <a:pt x="0" y="942238"/>
                </a:lnTo>
                <a:lnTo>
                  <a:pt x="0" y="532395"/>
                </a:lnTo>
                <a:lnTo>
                  <a:pt x="224655" y="532395"/>
                </a:lnTo>
                <a:lnTo>
                  <a:pt x="224655" y="532396"/>
                </a:lnTo>
                <a:lnTo>
                  <a:pt x="275833" y="605256"/>
                </a:lnTo>
                <a:lnTo>
                  <a:pt x="224655" y="605256"/>
                </a:lnTo>
                <a:lnTo>
                  <a:pt x="224655" y="605257"/>
                </a:lnTo>
                <a:lnTo>
                  <a:pt x="423721" y="605257"/>
                </a:lnTo>
                <a:lnTo>
                  <a:pt x="423721" y="605256"/>
                </a:lnTo>
                <a:lnTo>
                  <a:pt x="423722" y="605257"/>
                </a:lnTo>
                <a:lnTo>
                  <a:pt x="425884" y="605257"/>
                </a:lnTo>
                <a:lnTo>
                  <a:pt x="425884" y="608336"/>
                </a:lnTo>
                <a:lnTo>
                  <a:pt x="454595" y="649211"/>
                </a:lnTo>
                <a:lnTo>
                  <a:pt x="649211" y="649211"/>
                </a:lnTo>
                <a:lnTo>
                  <a:pt x="649211" y="454596"/>
                </a:lnTo>
                <a:lnTo>
                  <a:pt x="608336" y="425884"/>
                </a:lnTo>
                <a:lnTo>
                  <a:pt x="605257" y="425884"/>
                </a:lnTo>
                <a:lnTo>
                  <a:pt x="605257" y="423722"/>
                </a:lnTo>
                <a:lnTo>
                  <a:pt x="605256" y="423721"/>
                </a:lnTo>
                <a:lnTo>
                  <a:pt x="605257" y="423721"/>
                </a:lnTo>
                <a:lnTo>
                  <a:pt x="605257" y="224655"/>
                </a:lnTo>
                <a:lnTo>
                  <a:pt x="605256" y="224655"/>
                </a:lnTo>
                <a:lnTo>
                  <a:pt x="605256" y="275833"/>
                </a:lnTo>
                <a:lnTo>
                  <a:pt x="532396" y="224655"/>
                </a:lnTo>
                <a:lnTo>
                  <a:pt x="532395" y="224655"/>
                </a:lnTo>
                <a:lnTo>
                  <a:pt x="532395"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7" name="KSO_Shape"/>
          <p:cNvSpPr/>
          <p:nvPr/>
        </p:nvSpPr>
        <p:spPr>
          <a:xfrm>
            <a:off x="9369360" y="2913120"/>
            <a:ext cx="566640" cy="695160"/>
          </a:xfrm>
          <a:custGeom>
            <a:avLst/>
            <a:gdLst/>
            <a:ahLst/>
            <a:rect l="l" t="t" r="r" b="b"/>
            <a:pathLst>
              <a:path w="3702" h="4536">
                <a:moveTo>
                  <a:pt x="1832" y="0"/>
                </a:moveTo>
                <a:lnTo>
                  <a:pt x="1832" y="0"/>
                </a:lnTo>
                <a:lnTo>
                  <a:pt x="1851" y="0"/>
                </a:lnTo>
                <a:lnTo>
                  <a:pt x="1869" y="0"/>
                </a:lnTo>
                <a:lnTo>
                  <a:pt x="1832" y="0"/>
                </a:lnTo>
                <a:close/>
                <a:moveTo>
                  <a:pt x="3584" y="670"/>
                </a:moveTo>
                <a:lnTo>
                  <a:pt x="3584" y="670"/>
                </a:lnTo>
                <a:lnTo>
                  <a:pt x="3579" y="646"/>
                </a:lnTo>
                <a:lnTo>
                  <a:pt x="3573" y="624"/>
                </a:lnTo>
                <a:lnTo>
                  <a:pt x="3566" y="604"/>
                </a:lnTo>
                <a:lnTo>
                  <a:pt x="3558" y="583"/>
                </a:lnTo>
                <a:lnTo>
                  <a:pt x="3549" y="563"/>
                </a:lnTo>
                <a:lnTo>
                  <a:pt x="3539" y="544"/>
                </a:lnTo>
                <a:lnTo>
                  <a:pt x="3528" y="526"/>
                </a:lnTo>
                <a:lnTo>
                  <a:pt x="3517" y="508"/>
                </a:lnTo>
                <a:lnTo>
                  <a:pt x="3504" y="490"/>
                </a:lnTo>
                <a:lnTo>
                  <a:pt x="3492" y="475"/>
                </a:lnTo>
                <a:lnTo>
                  <a:pt x="3478" y="459"/>
                </a:lnTo>
                <a:lnTo>
                  <a:pt x="3463" y="444"/>
                </a:lnTo>
                <a:lnTo>
                  <a:pt x="3448" y="429"/>
                </a:lnTo>
                <a:lnTo>
                  <a:pt x="3433" y="415"/>
                </a:lnTo>
                <a:lnTo>
                  <a:pt x="3416" y="401"/>
                </a:lnTo>
                <a:lnTo>
                  <a:pt x="3400" y="388"/>
                </a:lnTo>
                <a:lnTo>
                  <a:pt x="3363" y="364"/>
                </a:lnTo>
                <a:lnTo>
                  <a:pt x="3326" y="340"/>
                </a:lnTo>
                <a:lnTo>
                  <a:pt x="3286" y="318"/>
                </a:lnTo>
                <a:lnTo>
                  <a:pt x="3246" y="297"/>
                </a:lnTo>
                <a:lnTo>
                  <a:pt x="3204" y="277"/>
                </a:lnTo>
                <a:lnTo>
                  <a:pt x="3161" y="257"/>
                </a:lnTo>
                <a:lnTo>
                  <a:pt x="3072" y="220"/>
                </a:lnTo>
                <a:lnTo>
                  <a:pt x="3024" y="201"/>
                </a:lnTo>
                <a:lnTo>
                  <a:pt x="2969" y="183"/>
                </a:lnTo>
                <a:lnTo>
                  <a:pt x="2907" y="163"/>
                </a:lnTo>
                <a:lnTo>
                  <a:pt x="2840" y="144"/>
                </a:lnTo>
                <a:lnTo>
                  <a:pt x="2768" y="125"/>
                </a:lnTo>
                <a:lnTo>
                  <a:pt x="2692" y="108"/>
                </a:lnTo>
                <a:lnTo>
                  <a:pt x="2612" y="90"/>
                </a:lnTo>
                <a:lnTo>
                  <a:pt x="2529" y="74"/>
                </a:lnTo>
                <a:lnTo>
                  <a:pt x="2444" y="58"/>
                </a:lnTo>
                <a:lnTo>
                  <a:pt x="2359" y="45"/>
                </a:lnTo>
                <a:lnTo>
                  <a:pt x="2272" y="33"/>
                </a:lnTo>
                <a:lnTo>
                  <a:pt x="2185" y="22"/>
                </a:lnTo>
                <a:lnTo>
                  <a:pt x="2098" y="13"/>
                </a:lnTo>
                <a:lnTo>
                  <a:pt x="2014" y="7"/>
                </a:lnTo>
                <a:lnTo>
                  <a:pt x="1931" y="2"/>
                </a:lnTo>
                <a:lnTo>
                  <a:pt x="1851" y="0"/>
                </a:lnTo>
                <a:lnTo>
                  <a:pt x="1771" y="2"/>
                </a:lnTo>
                <a:lnTo>
                  <a:pt x="1688" y="7"/>
                </a:lnTo>
                <a:lnTo>
                  <a:pt x="1603" y="13"/>
                </a:lnTo>
                <a:lnTo>
                  <a:pt x="1517" y="22"/>
                </a:lnTo>
                <a:lnTo>
                  <a:pt x="1430" y="33"/>
                </a:lnTo>
                <a:lnTo>
                  <a:pt x="1343" y="45"/>
                </a:lnTo>
                <a:lnTo>
                  <a:pt x="1256" y="58"/>
                </a:lnTo>
                <a:lnTo>
                  <a:pt x="1172" y="74"/>
                </a:lnTo>
                <a:lnTo>
                  <a:pt x="1089" y="90"/>
                </a:lnTo>
                <a:lnTo>
                  <a:pt x="1009" y="108"/>
                </a:lnTo>
                <a:lnTo>
                  <a:pt x="933" y="125"/>
                </a:lnTo>
                <a:lnTo>
                  <a:pt x="861" y="144"/>
                </a:lnTo>
                <a:lnTo>
                  <a:pt x="794" y="163"/>
                </a:lnTo>
                <a:lnTo>
                  <a:pt x="732" y="183"/>
                </a:lnTo>
                <a:lnTo>
                  <a:pt x="677" y="201"/>
                </a:lnTo>
                <a:lnTo>
                  <a:pt x="630" y="220"/>
                </a:lnTo>
                <a:lnTo>
                  <a:pt x="541" y="257"/>
                </a:lnTo>
                <a:lnTo>
                  <a:pt x="497" y="277"/>
                </a:lnTo>
                <a:lnTo>
                  <a:pt x="455" y="297"/>
                </a:lnTo>
                <a:lnTo>
                  <a:pt x="414" y="318"/>
                </a:lnTo>
                <a:lnTo>
                  <a:pt x="375" y="340"/>
                </a:lnTo>
                <a:lnTo>
                  <a:pt x="337" y="364"/>
                </a:lnTo>
                <a:lnTo>
                  <a:pt x="302" y="388"/>
                </a:lnTo>
                <a:lnTo>
                  <a:pt x="285" y="401"/>
                </a:lnTo>
                <a:lnTo>
                  <a:pt x="268" y="416"/>
                </a:lnTo>
                <a:lnTo>
                  <a:pt x="253" y="429"/>
                </a:lnTo>
                <a:lnTo>
                  <a:pt x="237" y="444"/>
                </a:lnTo>
                <a:lnTo>
                  <a:pt x="223" y="459"/>
                </a:lnTo>
                <a:lnTo>
                  <a:pt x="210" y="475"/>
                </a:lnTo>
                <a:lnTo>
                  <a:pt x="197" y="490"/>
                </a:lnTo>
                <a:lnTo>
                  <a:pt x="185" y="508"/>
                </a:lnTo>
                <a:lnTo>
                  <a:pt x="173" y="526"/>
                </a:lnTo>
                <a:lnTo>
                  <a:pt x="163" y="544"/>
                </a:lnTo>
                <a:lnTo>
                  <a:pt x="153" y="563"/>
                </a:lnTo>
                <a:lnTo>
                  <a:pt x="144" y="583"/>
                </a:lnTo>
                <a:lnTo>
                  <a:pt x="135" y="604"/>
                </a:lnTo>
                <a:lnTo>
                  <a:pt x="129" y="624"/>
                </a:lnTo>
                <a:lnTo>
                  <a:pt x="122" y="646"/>
                </a:lnTo>
                <a:lnTo>
                  <a:pt x="116" y="670"/>
                </a:lnTo>
                <a:lnTo>
                  <a:pt x="0" y="2054"/>
                </a:lnTo>
                <a:lnTo>
                  <a:pt x="0" y="3963"/>
                </a:lnTo>
                <a:lnTo>
                  <a:pt x="310" y="3963"/>
                </a:lnTo>
                <a:lnTo>
                  <a:pt x="310" y="4262"/>
                </a:lnTo>
                <a:lnTo>
                  <a:pt x="310" y="4279"/>
                </a:lnTo>
                <a:lnTo>
                  <a:pt x="311" y="4295"/>
                </a:lnTo>
                <a:lnTo>
                  <a:pt x="313" y="4311"/>
                </a:lnTo>
                <a:lnTo>
                  <a:pt x="315" y="4326"/>
                </a:lnTo>
                <a:lnTo>
                  <a:pt x="319" y="4342"/>
                </a:lnTo>
                <a:lnTo>
                  <a:pt x="322" y="4356"/>
                </a:lnTo>
                <a:lnTo>
                  <a:pt x="326" y="4369"/>
                </a:lnTo>
                <a:lnTo>
                  <a:pt x="332" y="4382"/>
                </a:lnTo>
                <a:lnTo>
                  <a:pt x="337" y="4394"/>
                </a:lnTo>
                <a:lnTo>
                  <a:pt x="343" y="4406"/>
                </a:lnTo>
                <a:lnTo>
                  <a:pt x="350" y="4418"/>
                </a:lnTo>
                <a:lnTo>
                  <a:pt x="357" y="4429"/>
                </a:lnTo>
                <a:lnTo>
                  <a:pt x="365" y="4439"/>
                </a:lnTo>
                <a:lnTo>
                  <a:pt x="373" y="4449"/>
                </a:lnTo>
                <a:lnTo>
                  <a:pt x="381" y="4459"/>
                </a:lnTo>
                <a:lnTo>
                  <a:pt x="390" y="4468"/>
                </a:lnTo>
                <a:lnTo>
                  <a:pt x="409" y="4483"/>
                </a:lnTo>
                <a:lnTo>
                  <a:pt x="429" y="4498"/>
                </a:lnTo>
                <a:lnTo>
                  <a:pt x="450" y="4510"/>
                </a:lnTo>
                <a:lnTo>
                  <a:pt x="472" y="4519"/>
                </a:lnTo>
                <a:lnTo>
                  <a:pt x="495" y="4526"/>
                </a:lnTo>
                <a:lnTo>
                  <a:pt x="519" y="4532"/>
                </a:lnTo>
                <a:lnTo>
                  <a:pt x="542" y="4535"/>
                </a:lnTo>
                <a:lnTo>
                  <a:pt x="566" y="4536"/>
                </a:lnTo>
                <a:lnTo>
                  <a:pt x="590" y="4535"/>
                </a:lnTo>
                <a:lnTo>
                  <a:pt x="614" y="4532"/>
                </a:lnTo>
                <a:lnTo>
                  <a:pt x="637" y="4526"/>
                </a:lnTo>
                <a:lnTo>
                  <a:pt x="661" y="4519"/>
                </a:lnTo>
                <a:lnTo>
                  <a:pt x="683" y="4510"/>
                </a:lnTo>
                <a:lnTo>
                  <a:pt x="703" y="4498"/>
                </a:lnTo>
                <a:lnTo>
                  <a:pt x="723" y="4483"/>
                </a:lnTo>
                <a:lnTo>
                  <a:pt x="743" y="4468"/>
                </a:lnTo>
                <a:lnTo>
                  <a:pt x="752" y="4459"/>
                </a:lnTo>
                <a:lnTo>
                  <a:pt x="759" y="4449"/>
                </a:lnTo>
                <a:lnTo>
                  <a:pt x="768" y="4439"/>
                </a:lnTo>
                <a:lnTo>
                  <a:pt x="775" y="4429"/>
                </a:lnTo>
                <a:lnTo>
                  <a:pt x="783" y="4418"/>
                </a:lnTo>
                <a:lnTo>
                  <a:pt x="789" y="4406"/>
                </a:lnTo>
                <a:lnTo>
                  <a:pt x="795" y="4394"/>
                </a:lnTo>
                <a:lnTo>
                  <a:pt x="800" y="4382"/>
                </a:lnTo>
                <a:lnTo>
                  <a:pt x="806" y="4369"/>
                </a:lnTo>
                <a:lnTo>
                  <a:pt x="810" y="4356"/>
                </a:lnTo>
                <a:lnTo>
                  <a:pt x="813" y="4342"/>
                </a:lnTo>
                <a:lnTo>
                  <a:pt x="817" y="4326"/>
                </a:lnTo>
                <a:lnTo>
                  <a:pt x="820" y="4311"/>
                </a:lnTo>
                <a:lnTo>
                  <a:pt x="821" y="4295"/>
                </a:lnTo>
                <a:lnTo>
                  <a:pt x="822" y="4279"/>
                </a:lnTo>
                <a:lnTo>
                  <a:pt x="822" y="4262"/>
                </a:lnTo>
                <a:lnTo>
                  <a:pt x="822" y="3963"/>
                </a:lnTo>
                <a:lnTo>
                  <a:pt x="2879" y="3963"/>
                </a:lnTo>
                <a:lnTo>
                  <a:pt x="2879" y="4262"/>
                </a:lnTo>
                <a:lnTo>
                  <a:pt x="2879" y="4279"/>
                </a:lnTo>
                <a:lnTo>
                  <a:pt x="2880" y="4295"/>
                </a:lnTo>
                <a:lnTo>
                  <a:pt x="2882" y="4311"/>
                </a:lnTo>
                <a:lnTo>
                  <a:pt x="2884" y="4326"/>
                </a:lnTo>
                <a:lnTo>
                  <a:pt x="2887" y="4342"/>
                </a:lnTo>
                <a:lnTo>
                  <a:pt x="2892" y="4356"/>
                </a:lnTo>
                <a:lnTo>
                  <a:pt x="2896" y="4369"/>
                </a:lnTo>
                <a:lnTo>
                  <a:pt x="2901" y="4382"/>
                </a:lnTo>
                <a:lnTo>
                  <a:pt x="2906" y="4394"/>
                </a:lnTo>
                <a:lnTo>
                  <a:pt x="2913" y="4406"/>
                </a:lnTo>
                <a:lnTo>
                  <a:pt x="2919" y="4418"/>
                </a:lnTo>
                <a:lnTo>
                  <a:pt x="2926" y="4429"/>
                </a:lnTo>
                <a:lnTo>
                  <a:pt x="2934" y="4439"/>
                </a:lnTo>
                <a:lnTo>
                  <a:pt x="2941" y="4449"/>
                </a:lnTo>
                <a:lnTo>
                  <a:pt x="2950" y="4459"/>
                </a:lnTo>
                <a:lnTo>
                  <a:pt x="2959" y="4468"/>
                </a:lnTo>
                <a:lnTo>
                  <a:pt x="2978" y="4483"/>
                </a:lnTo>
                <a:lnTo>
                  <a:pt x="2997" y="4498"/>
                </a:lnTo>
                <a:lnTo>
                  <a:pt x="3019" y="4510"/>
                </a:lnTo>
                <a:lnTo>
                  <a:pt x="3041" y="4519"/>
                </a:lnTo>
                <a:lnTo>
                  <a:pt x="3064" y="4526"/>
                </a:lnTo>
                <a:lnTo>
                  <a:pt x="3087" y="4532"/>
                </a:lnTo>
                <a:lnTo>
                  <a:pt x="3112" y="4535"/>
                </a:lnTo>
                <a:lnTo>
                  <a:pt x="3135" y="4536"/>
                </a:lnTo>
                <a:lnTo>
                  <a:pt x="3159" y="4535"/>
                </a:lnTo>
                <a:lnTo>
                  <a:pt x="3183" y="4532"/>
                </a:lnTo>
                <a:lnTo>
                  <a:pt x="3206" y="4526"/>
                </a:lnTo>
                <a:lnTo>
                  <a:pt x="3229" y="4519"/>
                </a:lnTo>
                <a:lnTo>
                  <a:pt x="3251" y="4510"/>
                </a:lnTo>
                <a:lnTo>
                  <a:pt x="3273" y="4498"/>
                </a:lnTo>
                <a:lnTo>
                  <a:pt x="3293" y="4483"/>
                </a:lnTo>
                <a:lnTo>
                  <a:pt x="3312" y="4468"/>
                </a:lnTo>
                <a:lnTo>
                  <a:pt x="3320" y="4459"/>
                </a:lnTo>
                <a:lnTo>
                  <a:pt x="3329" y="4449"/>
                </a:lnTo>
                <a:lnTo>
                  <a:pt x="3337" y="4439"/>
                </a:lnTo>
                <a:lnTo>
                  <a:pt x="3345" y="4429"/>
                </a:lnTo>
                <a:lnTo>
                  <a:pt x="3351" y="4418"/>
                </a:lnTo>
                <a:lnTo>
                  <a:pt x="3358" y="4406"/>
                </a:lnTo>
                <a:lnTo>
                  <a:pt x="3364" y="4394"/>
                </a:lnTo>
                <a:lnTo>
                  <a:pt x="3370" y="4382"/>
                </a:lnTo>
                <a:lnTo>
                  <a:pt x="3374" y="4369"/>
                </a:lnTo>
                <a:lnTo>
                  <a:pt x="3379" y="4356"/>
                </a:lnTo>
                <a:lnTo>
                  <a:pt x="3383" y="4342"/>
                </a:lnTo>
                <a:lnTo>
                  <a:pt x="3386" y="4326"/>
                </a:lnTo>
                <a:lnTo>
                  <a:pt x="3389" y="4311"/>
                </a:lnTo>
                <a:lnTo>
                  <a:pt x="3391" y="4295"/>
                </a:lnTo>
                <a:lnTo>
                  <a:pt x="3392" y="4279"/>
                </a:lnTo>
                <a:lnTo>
                  <a:pt x="3392" y="4262"/>
                </a:lnTo>
                <a:lnTo>
                  <a:pt x="3392" y="3963"/>
                </a:lnTo>
                <a:lnTo>
                  <a:pt x="3702" y="3963"/>
                </a:lnTo>
                <a:lnTo>
                  <a:pt x="3702" y="2054"/>
                </a:lnTo>
                <a:lnTo>
                  <a:pt x="3584" y="670"/>
                </a:lnTo>
                <a:close/>
                <a:moveTo>
                  <a:pt x="1089" y="350"/>
                </a:moveTo>
                <a:lnTo>
                  <a:pt x="2612" y="350"/>
                </a:lnTo>
                <a:lnTo>
                  <a:pt x="2626" y="350"/>
                </a:lnTo>
                <a:lnTo>
                  <a:pt x="2638" y="352"/>
                </a:lnTo>
                <a:lnTo>
                  <a:pt x="2650" y="355"/>
                </a:lnTo>
                <a:lnTo>
                  <a:pt x="2661" y="360"/>
                </a:lnTo>
                <a:lnTo>
                  <a:pt x="2671" y="364"/>
                </a:lnTo>
                <a:lnTo>
                  <a:pt x="2681" y="371"/>
                </a:lnTo>
                <a:lnTo>
                  <a:pt x="2688" y="377"/>
                </a:lnTo>
                <a:lnTo>
                  <a:pt x="2696" y="385"/>
                </a:lnTo>
                <a:lnTo>
                  <a:pt x="2703" y="393"/>
                </a:lnTo>
                <a:lnTo>
                  <a:pt x="2708" y="401"/>
                </a:lnTo>
                <a:lnTo>
                  <a:pt x="2714" y="411"/>
                </a:lnTo>
                <a:lnTo>
                  <a:pt x="2717" y="421"/>
                </a:lnTo>
                <a:lnTo>
                  <a:pt x="2720" y="431"/>
                </a:lnTo>
                <a:lnTo>
                  <a:pt x="2723" y="441"/>
                </a:lnTo>
                <a:lnTo>
                  <a:pt x="2724" y="452"/>
                </a:lnTo>
                <a:lnTo>
                  <a:pt x="2725" y="462"/>
                </a:lnTo>
                <a:lnTo>
                  <a:pt x="2724" y="473"/>
                </a:lnTo>
                <a:lnTo>
                  <a:pt x="2723" y="483"/>
                </a:lnTo>
                <a:lnTo>
                  <a:pt x="2720" y="494"/>
                </a:lnTo>
                <a:lnTo>
                  <a:pt x="2717" y="504"/>
                </a:lnTo>
                <a:lnTo>
                  <a:pt x="2714" y="513"/>
                </a:lnTo>
                <a:lnTo>
                  <a:pt x="2708" y="522"/>
                </a:lnTo>
                <a:lnTo>
                  <a:pt x="2703" y="531"/>
                </a:lnTo>
                <a:lnTo>
                  <a:pt x="2696" y="540"/>
                </a:lnTo>
                <a:lnTo>
                  <a:pt x="2688" y="546"/>
                </a:lnTo>
                <a:lnTo>
                  <a:pt x="2681" y="554"/>
                </a:lnTo>
                <a:lnTo>
                  <a:pt x="2671" y="560"/>
                </a:lnTo>
                <a:lnTo>
                  <a:pt x="2661" y="565"/>
                </a:lnTo>
                <a:lnTo>
                  <a:pt x="2650" y="568"/>
                </a:lnTo>
                <a:lnTo>
                  <a:pt x="2638" y="572"/>
                </a:lnTo>
                <a:lnTo>
                  <a:pt x="2626" y="574"/>
                </a:lnTo>
                <a:lnTo>
                  <a:pt x="2612" y="575"/>
                </a:lnTo>
                <a:lnTo>
                  <a:pt x="1089" y="575"/>
                </a:lnTo>
                <a:lnTo>
                  <a:pt x="1075" y="574"/>
                </a:lnTo>
                <a:lnTo>
                  <a:pt x="1063" y="572"/>
                </a:lnTo>
                <a:lnTo>
                  <a:pt x="1051" y="568"/>
                </a:lnTo>
                <a:lnTo>
                  <a:pt x="1040" y="565"/>
                </a:lnTo>
                <a:lnTo>
                  <a:pt x="1030" y="560"/>
                </a:lnTo>
                <a:lnTo>
                  <a:pt x="1020" y="554"/>
                </a:lnTo>
                <a:lnTo>
                  <a:pt x="1012" y="546"/>
                </a:lnTo>
                <a:lnTo>
                  <a:pt x="1005" y="540"/>
                </a:lnTo>
                <a:lnTo>
                  <a:pt x="998" y="531"/>
                </a:lnTo>
                <a:lnTo>
                  <a:pt x="992" y="522"/>
                </a:lnTo>
                <a:lnTo>
                  <a:pt x="987" y="513"/>
                </a:lnTo>
                <a:lnTo>
                  <a:pt x="984" y="504"/>
                </a:lnTo>
                <a:lnTo>
                  <a:pt x="980" y="494"/>
                </a:lnTo>
                <a:lnTo>
                  <a:pt x="978" y="483"/>
                </a:lnTo>
                <a:lnTo>
                  <a:pt x="977" y="473"/>
                </a:lnTo>
                <a:lnTo>
                  <a:pt x="976" y="462"/>
                </a:lnTo>
                <a:lnTo>
                  <a:pt x="977" y="452"/>
                </a:lnTo>
                <a:lnTo>
                  <a:pt x="978" y="441"/>
                </a:lnTo>
                <a:lnTo>
                  <a:pt x="980" y="431"/>
                </a:lnTo>
                <a:lnTo>
                  <a:pt x="984" y="421"/>
                </a:lnTo>
                <a:lnTo>
                  <a:pt x="987" y="411"/>
                </a:lnTo>
                <a:lnTo>
                  <a:pt x="992" y="401"/>
                </a:lnTo>
                <a:lnTo>
                  <a:pt x="998" y="393"/>
                </a:lnTo>
                <a:lnTo>
                  <a:pt x="1005" y="385"/>
                </a:lnTo>
                <a:lnTo>
                  <a:pt x="1012" y="377"/>
                </a:lnTo>
                <a:lnTo>
                  <a:pt x="1020" y="371"/>
                </a:lnTo>
                <a:lnTo>
                  <a:pt x="1030" y="364"/>
                </a:lnTo>
                <a:lnTo>
                  <a:pt x="1040" y="360"/>
                </a:lnTo>
                <a:lnTo>
                  <a:pt x="1051" y="355"/>
                </a:lnTo>
                <a:lnTo>
                  <a:pt x="1063" y="352"/>
                </a:lnTo>
                <a:lnTo>
                  <a:pt x="1075" y="350"/>
                </a:lnTo>
                <a:lnTo>
                  <a:pt x="1089" y="350"/>
                </a:lnTo>
                <a:close/>
                <a:moveTo>
                  <a:pt x="325" y="2008"/>
                </a:moveTo>
                <a:lnTo>
                  <a:pt x="466" y="1004"/>
                </a:lnTo>
                <a:lnTo>
                  <a:pt x="469" y="982"/>
                </a:lnTo>
                <a:lnTo>
                  <a:pt x="474" y="961"/>
                </a:lnTo>
                <a:lnTo>
                  <a:pt x="479" y="940"/>
                </a:lnTo>
                <a:lnTo>
                  <a:pt x="486" y="921"/>
                </a:lnTo>
                <a:lnTo>
                  <a:pt x="493" y="903"/>
                </a:lnTo>
                <a:lnTo>
                  <a:pt x="501" y="886"/>
                </a:lnTo>
                <a:lnTo>
                  <a:pt x="511" y="871"/>
                </a:lnTo>
                <a:lnTo>
                  <a:pt x="523" y="857"/>
                </a:lnTo>
                <a:lnTo>
                  <a:pt x="536" y="844"/>
                </a:lnTo>
                <a:lnTo>
                  <a:pt x="551" y="833"/>
                </a:lnTo>
                <a:lnTo>
                  <a:pt x="567" y="825"/>
                </a:lnTo>
                <a:lnTo>
                  <a:pt x="586" y="816"/>
                </a:lnTo>
                <a:lnTo>
                  <a:pt x="608" y="810"/>
                </a:lnTo>
                <a:lnTo>
                  <a:pt x="631" y="806"/>
                </a:lnTo>
                <a:lnTo>
                  <a:pt x="656" y="803"/>
                </a:lnTo>
                <a:lnTo>
                  <a:pt x="685" y="801"/>
                </a:lnTo>
                <a:lnTo>
                  <a:pt x="3016" y="801"/>
                </a:lnTo>
                <a:lnTo>
                  <a:pt x="3045" y="803"/>
                </a:lnTo>
                <a:lnTo>
                  <a:pt x="3070" y="806"/>
                </a:lnTo>
                <a:lnTo>
                  <a:pt x="3094" y="810"/>
                </a:lnTo>
                <a:lnTo>
                  <a:pt x="3115" y="816"/>
                </a:lnTo>
                <a:lnTo>
                  <a:pt x="3134" y="825"/>
                </a:lnTo>
                <a:lnTo>
                  <a:pt x="3150" y="833"/>
                </a:lnTo>
                <a:lnTo>
                  <a:pt x="3164" y="844"/>
                </a:lnTo>
                <a:lnTo>
                  <a:pt x="3178" y="857"/>
                </a:lnTo>
                <a:lnTo>
                  <a:pt x="3190" y="871"/>
                </a:lnTo>
                <a:lnTo>
                  <a:pt x="3200" y="886"/>
                </a:lnTo>
                <a:lnTo>
                  <a:pt x="3207" y="903"/>
                </a:lnTo>
                <a:lnTo>
                  <a:pt x="3215" y="921"/>
                </a:lnTo>
                <a:lnTo>
                  <a:pt x="3222" y="940"/>
                </a:lnTo>
                <a:lnTo>
                  <a:pt x="3227" y="961"/>
                </a:lnTo>
                <a:lnTo>
                  <a:pt x="3231" y="982"/>
                </a:lnTo>
                <a:lnTo>
                  <a:pt x="3235" y="1004"/>
                </a:lnTo>
                <a:lnTo>
                  <a:pt x="3375" y="2008"/>
                </a:lnTo>
                <a:lnTo>
                  <a:pt x="3378" y="2027"/>
                </a:lnTo>
                <a:lnTo>
                  <a:pt x="3378" y="2044"/>
                </a:lnTo>
                <a:lnTo>
                  <a:pt x="3378" y="2062"/>
                </a:lnTo>
                <a:lnTo>
                  <a:pt x="3377" y="2080"/>
                </a:lnTo>
                <a:lnTo>
                  <a:pt x="3373" y="2096"/>
                </a:lnTo>
                <a:lnTo>
                  <a:pt x="3369" y="2112"/>
                </a:lnTo>
                <a:lnTo>
                  <a:pt x="3363" y="2127"/>
                </a:lnTo>
                <a:lnTo>
                  <a:pt x="3356" y="2141"/>
                </a:lnTo>
                <a:lnTo>
                  <a:pt x="3347" y="2153"/>
                </a:lnTo>
                <a:lnTo>
                  <a:pt x="3336" y="2165"/>
                </a:lnTo>
                <a:lnTo>
                  <a:pt x="3323" y="2175"/>
                </a:lnTo>
                <a:lnTo>
                  <a:pt x="3308" y="2184"/>
                </a:lnTo>
                <a:lnTo>
                  <a:pt x="3292" y="2191"/>
                </a:lnTo>
                <a:lnTo>
                  <a:pt x="3272" y="2196"/>
                </a:lnTo>
                <a:lnTo>
                  <a:pt x="3251" y="2199"/>
                </a:lnTo>
                <a:lnTo>
                  <a:pt x="3227" y="2201"/>
                </a:lnTo>
                <a:lnTo>
                  <a:pt x="474" y="2201"/>
                </a:lnTo>
                <a:lnTo>
                  <a:pt x="450" y="2199"/>
                </a:lnTo>
                <a:lnTo>
                  <a:pt x="429" y="2196"/>
                </a:lnTo>
                <a:lnTo>
                  <a:pt x="409" y="2191"/>
                </a:lnTo>
                <a:lnTo>
                  <a:pt x="392" y="2184"/>
                </a:lnTo>
                <a:lnTo>
                  <a:pt x="378" y="2175"/>
                </a:lnTo>
                <a:lnTo>
                  <a:pt x="365" y="2165"/>
                </a:lnTo>
                <a:lnTo>
                  <a:pt x="354" y="2153"/>
                </a:lnTo>
                <a:lnTo>
                  <a:pt x="345" y="2141"/>
                </a:lnTo>
                <a:lnTo>
                  <a:pt x="337" y="2127"/>
                </a:lnTo>
                <a:lnTo>
                  <a:pt x="332" y="2112"/>
                </a:lnTo>
                <a:lnTo>
                  <a:pt x="328" y="2096"/>
                </a:lnTo>
                <a:lnTo>
                  <a:pt x="324" y="2080"/>
                </a:lnTo>
                <a:lnTo>
                  <a:pt x="323" y="2062"/>
                </a:lnTo>
                <a:lnTo>
                  <a:pt x="323" y="2044"/>
                </a:lnTo>
                <a:lnTo>
                  <a:pt x="324" y="2027"/>
                </a:lnTo>
                <a:lnTo>
                  <a:pt x="325" y="2008"/>
                </a:lnTo>
                <a:close/>
                <a:moveTo>
                  <a:pt x="891" y="3199"/>
                </a:moveTo>
                <a:lnTo>
                  <a:pt x="891" y="3199"/>
                </a:lnTo>
                <a:lnTo>
                  <a:pt x="890" y="3208"/>
                </a:lnTo>
                <a:lnTo>
                  <a:pt x="889" y="3219"/>
                </a:lnTo>
                <a:lnTo>
                  <a:pt x="887" y="3229"/>
                </a:lnTo>
                <a:lnTo>
                  <a:pt x="883" y="3238"/>
                </a:lnTo>
                <a:lnTo>
                  <a:pt x="878" y="3248"/>
                </a:lnTo>
                <a:lnTo>
                  <a:pt x="874" y="3257"/>
                </a:lnTo>
                <a:lnTo>
                  <a:pt x="867" y="3264"/>
                </a:lnTo>
                <a:lnTo>
                  <a:pt x="861" y="3272"/>
                </a:lnTo>
                <a:lnTo>
                  <a:pt x="853" y="3279"/>
                </a:lnTo>
                <a:lnTo>
                  <a:pt x="845" y="3284"/>
                </a:lnTo>
                <a:lnTo>
                  <a:pt x="836" y="3290"/>
                </a:lnTo>
                <a:lnTo>
                  <a:pt x="828" y="3294"/>
                </a:lnTo>
                <a:lnTo>
                  <a:pt x="818" y="3297"/>
                </a:lnTo>
                <a:lnTo>
                  <a:pt x="808" y="3301"/>
                </a:lnTo>
                <a:lnTo>
                  <a:pt x="798" y="3302"/>
                </a:lnTo>
                <a:lnTo>
                  <a:pt x="787" y="3302"/>
                </a:lnTo>
                <a:lnTo>
                  <a:pt x="366" y="3302"/>
                </a:lnTo>
                <a:lnTo>
                  <a:pt x="355" y="3302"/>
                </a:lnTo>
                <a:lnTo>
                  <a:pt x="345" y="3301"/>
                </a:lnTo>
                <a:lnTo>
                  <a:pt x="335" y="3297"/>
                </a:lnTo>
                <a:lnTo>
                  <a:pt x="325" y="3294"/>
                </a:lnTo>
                <a:lnTo>
                  <a:pt x="317" y="3290"/>
                </a:lnTo>
                <a:lnTo>
                  <a:pt x="308" y="3284"/>
                </a:lnTo>
                <a:lnTo>
                  <a:pt x="300" y="3279"/>
                </a:lnTo>
                <a:lnTo>
                  <a:pt x="292" y="3272"/>
                </a:lnTo>
                <a:lnTo>
                  <a:pt x="286" y="3264"/>
                </a:lnTo>
                <a:lnTo>
                  <a:pt x="279" y="3257"/>
                </a:lnTo>
                <a:lnTo>
                  <a:pt x="275" y="3248"/>
                </a:lnTo>
                <a:lnTo>
                  <a:pt x="270" y="3238"/>
                </a:lnTo>
                <a:lnTo>
                  <a:pt x="266" y="3229"/>
                </a:lnTo>
                <a:lnTo>
                  <a:pt x="264" y="3219"/>
                </a:lnTo>
                <a:lnTo>
                  <a:pt x="263" y="3208"/>
                </a:lnTo>
                <a:lnTo>
                  <a:pt x="262" y="3199"/>
                </a:lnTo>
                <a:lnTo>
                  <a:pt x="262" y="3019"/>
                </a:lnTo>
                <a:lnTo>
                  <a:pt x="263" y="3008"/>
                </a:lnTo>
                <a:lnTo>
                  <a:pt x="264" y="2998"/>
                </a:lnTo>
                <a:lnTo>
                  <a:pt x="266" y="2989"/>
                </a:lnTo>
                <a:lnTo>
                  <a:pt x="270" y="2979"/>
                </a:lnTo>
                <a:lnTo>
                  <a:pt x="275" y="2970"/>
                </a:lnTo>
                <a:lnTo>
                  <a:pt x="279" y="2961"/>
                </a:lnTo>
                <a:lnTo>
                  <a:pt x="286" y="2953"/>
                </a:lnTo>
                <a:lnTo>
                  <a:pt x="292" y="2946"/>
                </a:lnTo>
                <a:lnTo>
                  <a:pt x="300" y="2939"/>
                </a:lnTo>
                <a:lnTo>
                  <a:pt x="308" y="2933"/>
                </a:lnTo>
                <a:lnTo>
                  <a:pt x="317" y="2928"/>
                </a:lnTo>
                <a:lnTo>
                  <a:pt x="325" y="2924"/>
                </a:lnTo>
                <a:lnTo>
                  <a:pt x="335" y="2919"/>
                </a:lnTo>
                <a:lnTo>
                  <a:pt x="345" y="2917"/>
                </a:lnTo>
                <a:lnTo>
                  <a:pt x="355" y="2916"/>
                </a:lnTo>
                <a:lnTo>
                  <a:pt x="366" y="2915"/>
                </a:lnTo>
                <a:lnTo>
                  <a:pt x="787" y="2915"/>
                </a:lnTo>
                <a:lnTo>
                  <a:pt x="798" y="2916"/>
                </a:lnTo>
                <a:lnTo>
                  <a:pt x="808" y="2917"/>
                </a:lnTo>
                <a:lnTo>
                  <a:pt x="818" y="2919"/>
                </a:lnTo>
                <a:lnTo>
                  <a:pt x="828" y="2924"/>
                </a:lnTo>
                <a:lnTo>
                  <a:pt x="836" y="2928"/>
                </a:lnTo>
                <a:lnTo>
                  <a:pt x="845" y="2933"/>
                </a:lnTo>
                <a:lnTo>
                  <a:pt x="853" y="2939"/>
                </a:lnTo>
                <a:lnTo>
                  <a:pt x="861" y="2946"/>
                </a:lnTo>
                <a:lnTo>
                  <a:pt x="867" y="2953"/>
                </a:lnTo>
                <a:lnTo>
                  <a:pt x="874" y="2961"/>
                </a:lnTo>
                <a:lnTo>
                  <a:pt x="878" y="2970"/>
                </a:lnTo>
                <a:lnTo>
                  <a:pt x="883" y="2979"/>
                </a:lnTo>
                <a:lnTo>
                  <a:pt x="887" y="2989"/>
                </a:lnTo>
                <a:lnTo>
                  <a:pt x="889" y="2998"/>
                </a:lnTo>
                <a:lnTo>
                  <a:pt x="890" y="3008"/>
                </a:lnTo>
                <a:lnTo>
                  <a:pt x="891" y="3019"/>
                </a:lnTo>
                <a:lnTo>
                  <a:pt x="891" y="3199"/>
                </a:lnTo>
                <a:close/>
                <a:moveTo>
                  <a:pt x="3439" y="3199"/>
                </a:moveTo>
                <a:lnTo>
                  <a:pt x="3439" y="3199"/>
                </a:lnTo>
                <a:lnTo>
                  <a:pt x="3439" y="3208"/>
                </a:lnTo>
                <a:lnTo>
                  <a:pt x="3437" y="3219"/>
                </a:lnTo>
                <a:lnTo>
                  <a:pt x="3435" y="3229"/>
                </a:lnTo>
                <a:lnTo>
                  <a:pt x="3431" y="3238"/>
                </a:lnTo>
                <a:lnTo>
                  <a:pt x="3427" y="3248"/>
                </a:lnTo>
                <a:lnTo>
                  <a:pt x="3422" y="3257"/>
                </a:lnTo>
                <a:lnTo>
                  <a:pt x="3415" y="3264"/>
                </a:lnTo>
                <a:lnTo>
                  <a:pt x="3408" y="3272"/>
                </a:lnTo>
                <a:lnTo>
                  <a:pt x="3402" y="3279"/>
                </a:lnTo>
                <a:lnTo>
                  <a:pt x="3393" y="3284"/>
                </a:lnTo>
                <a:lnTo>
                  <a:pt x="3384" y="3290"/>
                </a:lnTo>
                <a:lnTo>
                  <a:pt x="3375" y="3294"/>
                </a:lnTo>
                <a:lnTo>
                  <a:pt x="3366" y="3297"/>
                </a:lnTo>
                <a:lnTo>
                  <a:pt x="3356" y="3301"/>
                </a:lnTo>
                <a:lnTo>
                  <a:pt x="3346" y="3302"/>
                </a:lnTo>
                <a:lnTo>
                  <a:pt x="3335" y="3302"/>
                </a:lnTo>
                <a:lnTo>
                  <a:pt x="2914" y="3302"/>
                </a:lnTo>
                <a:lnTo>
                  <a:pt x="2903" y="3302"/>
                </a:lnTo>
                <a:lnTo>
                  <a:pt x="2893" y="3301"/>
                </a:lnTo>
                <a:lnTo>
                  <a:pt x="2883" y="3297"/>
                </a:lnTo>
                <a:lnTo>
                  <a:pt x="2873" y="3294"/>
                </a:lnTo>
                <a:lnTo>
                  <a:pt x="2864" y="3290"/>
                </a:lnTo>
                <a:lnTo>
                  <a:pt x="2856" y="3284"/>
                </a:lnTo>
                <a:lnTo>
                  <a:pt x="2848" y="3279"/>
                </a:lnTo>
                <a:lnTo>
                  <a:pt x="2840" y="3272"/>
                </a:lnTo>
                <a:lnTo>
                  <a:pt x="2834" y="3264"/>
                </a:lnTo>
                <a:lnTo>
                  <a:pt x="2827" y="3257"/>
                </a:lnTo>
                <a:lnTo>
                  <a:pt x="2823" y="3248"/>
                </a:lnTo>
                <a:lnTo>
                  <a:pt x="2818" y="3238"/>
                </a:lnTo>
                <a:lnTo>
                  <a:pt x="2814" y="3229"/>
                </a:lnTo>
                <a:lnTo>
                  <a:pt x="2812" y="3219"/>
                </a:lnTo>
                <a:lnTo>
                  <a:pt x="2810" y="3208"/>
                </a:lnTo>
                <a:lnTo>
                  <a:pt x="2809" y="3199"/>
                </a:lnTo>
                <a:lnTo>
                  <a:pt x="2809" y="3019"/>
                </a:lnTo>
                <a:lnTo>
                  <a:pt x="2810" y="3008"/>
                </a:lnTo>
                <a:lnTo>
                  <a:pt x="2812" y="2998"/>
                </a:lnTo>
                <a:lnTo>
                  <a:pt x="2814" y="2989"/>
                </a:lnTo>
                <a:lnTo>
                  <a:pt x="2818" y="2979"/>
                </a:lnTo>
                <a:lnTo>
                  <a:pt x="2823" y="2970"/>
                </a:lnTo>
                <a:lnTo>
                  <a:pt x="2827" y="2961"/>
                </a:lnTo>
                <a:lnTo>
                  <a:pt x="2834" y="2953"/>
                </a:lnTo>
                <a:lnTo>
                  <a:pt x="2840" y="2946"/>
                </a:lnTo>
                <a:lnTo>
                  <a:pt x="2848" y="2939"/>
                </a:lnTo>
                <a:lnTo>
                  <a:pt x="2856" y="2933"/>
                </a:lnTo>
                <a:lnTo>
                  <a:pt x="2864" y="2928"/>
                </a:lnTo>
                <a:lnTo>
                  <a:pt x="2873" y="2924"/>
                </a:lnTo>
                <a:lnTo>
                  <a:pt x="2883" y="2919"/>
                </a:lnTo>
                <a:lnTo>
                  <a:pt x="2893" y="2917"/>
                </a:lnTo>
                <a:lnTo>
                  <a:pt x="2903" y="2916"/>
                </a:lnTo>
                <a:lnTo>
                  <a:pt x="2914" y="2915"/>
                </a:lnTo>
                <a:lnTo>
                  <a:pt x="3335" y="2915"/>
                </a:lnTo>
                <a:lnTo>
                  <a:pt x="3346" y="2916"/>
                </a:lnTo>
                <a:lnTo>
                  <a:pt x="3356" y="2917"/>
                </a:lnTo>
                <a:lnTo>
                  <a:pt x="3366" y="2919"/>
                </a:lnTo>
                <a:lnTo>
                  <a:pt x="3375" y="2924"/>
                </a:lnTo>
                <a:lnTo>
                  <a:pt x="3384" y="2928"/>
                </a:lnTo>
                <a:lnTo>
                  <a:pt x="3393" y="2933"/>
                </a:lnTo>
                <a:lnTo>
                  <a:pt x="3402" y="2939"/>
                </a:lnTo>
                <a:lnTo>
                  <a:pt x="3408" y="2946"/>
                </a:lnTo>
                <a:lnTo>
                  <a:pt x="3415" y="2953"/>
                </a:lnTo>
                <a:lnTo>
                  <a:pt x="3422" y="2961"/>
                </a:lnTo>
                <a:lnTo>
                  <a:pt x="3427" y="2970"/>
                </a:lnTo>
                <a:lnTo>
                  <a:pt x="3431" y="2979"/>
                </a:lnTo>
                <a:lnTo>
                  <a:pt x="3435" y="2989"/>
                </a:lnTo>
                <a:lnTo>
                  <a:pt x="3437" y="2998"/>
                </a:lnTo>
                <a:lnTo>
                  <a:pt x="3439" y="3008"/>
                </a:lnTo>
                <a:lnTo>
                  <a:pt x="3439" y="3019"/>
                </a:lnTo>
                <a:lnTo>
                  <a:pt x="3439" y="3199"/>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8" name="直接连接符 17"/>
          <p:cNvSpPr/>
          <p:nvPr/>
        </p:nvSpPr>
        <p:spPr>
          <a:xfrm>
            <a:off x="1758960" y="4191120"/>
            <a:ext cx="1562040" cy="0"/>
          </a:xfrm>
          <a:prstGeom prst="line">
            <a:avLst/>
          </a:prstGeom>
          <a:ln w="6480">
            <a:solidFill>
              <a:srgbClr val="4b649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直接连接符 18"/>
          <p:cNvSpPr/>
          <p:nvPr/>
        </p:nvSpPr>
        <p:spPr>
          <a:xfrm>
            <a:off x="4176720" y="4191120"/>
            <a:ext cx="1562040" cy="0"/>
          </a:xfrm>
          <a:prstGeom prst="line">
            <a:avLst/>
          </a:prstGeom>
          <a:ln w="6480">
            <a:solidFill>
              <a:srgbClr val="4b649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直接连接符 19"/>
          <p:cNvSpPr/>
          <p:nvPr/>
        </p:nvSpPr>
        <p:spPr>
          <a:xfrm>
            <a:off x="6454800" y="4191120"/>
            <a:ext cx="1562040" cy="0"/>
          </a:xfrm>
          <a:prstGeom prst="line">
            <a:avLst/>
          </a:prstGeom>
          <a:ln w="6480">
            <a:solidFill>
              <a:srgbClr val="4b649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直接连接符 20"/>
          <p:cNvSpPr/>
          <p:nvPr/>
        </p:nvSpPr>
        <p:spPr>
          <a:xfrm>
            <a:off x="8872560" y="4191120"/>
            <a:ext cx="1562040" cy="0"/>
          </a:xfrm>
          <a:prstGeom prst="line">
            <a:avLst/>
          </a:prstGeom>
          <a:ln w="6480">
            <a:solidFill>
              <a:srgbClr val="4b649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文本框 21"/>
          <p:cNvSpPr/>
          <p:nvPr/>
        </p:nvSpPr>
        <p:spPr>
          <a:xfrm>
            <a:off x="1891440" y="4191120"/>
            <a:ext cx="14000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b649f"/>
                </a:solidFill>
                <a:latin typeface="Arial"/>
              </a:rPr>
              <a:t>30%</a:t>
            </a:r>
            <a:endParaRPr b="0" lang="en-US" sz="4800" spc="-1" strike="noStrike">
              <a:solidFill>
                <a:srgbClr val="000000"/>
              </a:solidFill>
              <a:latin typeface="Arial"/>
            </a:endParaRPr>
          </a:p>
        </p:txBody>
      </p:sp>
      <p:sp>
        <p:nvSpPr>
          <p:cNvPr id="323" name="文本框 22"/>
          <p:cNvSpPr/>
          <p:nvPr/>
        </p:nvSpPr>
        <p:spPr>
          <a:xfrm>
            <a:off x="4257720" y="4191120"/>
            <a:ext cx="14000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b649f"/>
                </a:solidFill>
                <a:latin typeface="Arial"/>
              </a:rPr>
              <a:t>70%</a:t>
            </a:r>
            <a:endParaRPr b="0" lang="en-US" sz="4800" spc="-1" strike="noStrike">
              <a:solidFill>
                <a:srgbClr val="000000"/>
              </a:solidFill>
              <a:latin typeface="Arial"/>
            </a:endParaRPr>
          </a:p>
        </p:txBody>
      </p:sp>
      <p:sp>
        <p:nvSpPr>
          <p:cNvPr id="324" name="文本框 23"/>
          <p:cNvSpPr/>
          <p:nvPr/>
        </p:nvSpPr>
        <p:spPr>
          <a:xfrm>
            <a:off x="6568920" y="4191120"/>
            <a:ext cx="14000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b649f"/>
                </a:solidFill>
                <a:latin typeface="Arial"/>
              </a:rPr>
              <a:t>85%</a:t>
            </a:r>
            <a:endParaRPr b="0" lang="en-US" sz="4800" spc="-1" strike="noStrike">
              <a:solidFill>
                <a:srgbClr val="000000"/>
              </a:solidFill>
              <a:latin typeface="Arial"/>
            </a:endParaRPr>
          </a:p>
        </p:txBody>
      </p:sp>
      <p:sp>
        <p:nvSpPr>
          <p:cNvPr id="325" name="文本框 24"/>
          <p:cNvSpPr/>
          <p:nvPr/>
        </p:nvSpPr>
        <p:spPr>
          <a:xfrm>
            <a:off x="8955720" y="4191120"/>
            <a:ext cx="14000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b649f"/>
                </a:solidFill>
                <a:latin typeface="Arial"/>
              </a:rPr>
              <a:t>60%</a:t>
            </a:r>
            <a:endParaRPr b="0" lang="en-US" sz="4800" spc="-1" strike="noStrike">
              <a:solidFill>
                <a:srgbClr val="000000"/>
              </a:solidFill>
              <a:latin typeface="Arial"/>
            </a:endParaRPr>
          </a:p>
        </p:txBody>
      </p:sp>
      <p:sp>
        <p:nvSpPr>
          <p:cNvPr id="326" name="文本框 25"/>
          <p:cNvSpPr/>
          <p:nvPr/>
        </p:nvSpPr>
        <p:spPr>
          <a:xfrm>
            <a:off x="1536840" y="5021280"/>
            <a:ext cx="20080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327" name="文本框 26"/>
          <p:cNvSpPr/>
          <p:nvPr/>
        </p:nvSpPr>
        <p:spPr>
          <a:xfrm>
            <a:off x="3890880" y="5021280"/>
            <a:ext cx="200844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328" name="文本框 27"/>
          <p:cNvSpPr/>
          <p:nvPr/>
        </p:nvSpPr>
        <p:spPr>
          <a:xfrm>
            <a:off x="6230880" y="5021280"/>
            <a:ext cx="20080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329" name="文本框 28"/>
          <p:cNvSpPr/>
          <p:nvPr/>
        </p:nvSpPr>
        <p:spPr>
          <a:xfrm>
            <a:off x="8639280" y="5021280"/>
            <a:ext cx="20080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330" name="文本框 29"/>
          <p:cNvSpPr/>
          <p:nvPr/>
        </p:nvSpPr>
        <p:spPr>
          <a:xfrm>
            <a:off x="1889640" y="19558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这里添加标题</a:t>
            </a:r>
            <a:endParaRPr b="0" lang="en-US" sz="2400" spc="-1" strike="noStrike">
              <a:solidFill>
                <a:srgbClr val="000000"/>
              </a:solidFill>
              <a:latin typeface="Arial"/>
            </a:endParaRPr>
          </a:p>
        </p:txBody>
      </p:sp>
      <p:sp>
        <p:nvSpPr>
          <p:cNvPr id="331" name="文本框 30"/>
          <p:cNvSpPr/>
          <p:nvPr/>
        </p:nvSpPr>
        <p:spPr>
          <a:xfrm>
            <a:off x="4244760" y="19558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这里添加标题</a:t>
            </a:r>
            <a:endParaRPr b="0" lang="en-US" sz="2400" spc="-1" strike="noStrike">
              <a:solidFill>
                <a:srgbClr val="000000"/>
              </a:solidFill>
              <a:latin typeface="Arial"/>
            </a:endParaRPr>
          </a:p>
        </p:txBody>
      </p:sp>
      <p:sp>
        <p:nvSpPr>
          <p:cNvPr id="332" name="文本框 31"/>
          <p:cNvSpPr/>
          <p:nvPr/>
        </p:nvSpPr>
        <p:spPr>
          <a:xfrm>
            <a:off x="6584760" y="19558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这里添加标题</a:t>
            </a:r>
            <a:endParaRPr b="0" lang="en-US" sz="2400" spc="-1" strike="noStrike">
              <a:solidFill>
                <a:srgbClr val="000000"/>
              </a:solidFill>
              <a:latin typeface="Arial"/>
            </a:endParaRPr>
          </a:p>
        </p:txBody>
      </p:sp>
      <p:sp>
        <p:nvSpPr>
          <p:cNvPr id="333" name="文本框 32"/>
          <p:cNvSpPr/>
          <p:nvPr/>
        </p:nvSpPr>
        <p:spPr>
          <a:xfrm>
            <a:off x="8982000" y="19558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这里添加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矩形 1"/>
          <p:cNvSpPr/>
          <p:nvPr/>
        </p:nvSpPr>
        <p:spPr>
          <a:xfrm>
            <a:off x="0" y="2540160"/>
            <a:ext cx="5619600" cy="19652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文本框 2"/>
          <p:cNvSpPr/>
          <p:nvPr/>
        </p:nvSpPr>
        <p:spPr>
          <a:xfrm>
            <a:off x="5854680" y="2292480"/>
            <a:ext cx="57085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b649f"/>
                </a:solidFill>
                <a:latin typeface="Arial"/>
              </a:rPr>
              <a:t>添加论文内容第三部分标题</a:t>
            </a:r>
            <a:endParaRPr b="0" lang="en-US" sz="3600" spc="-1" strike="noStrike">
              <a:solidFill>
                <a:srgbClr val="000000"/>
              </a:solidFill>
              <a:latin typeface="Arial"/>
            </a:endParaRPr>
          </a:p>
        </p:txBody>
      </p:sp>
      <p:sp>
        <p:nvSpPr>
          <p:cNvPr id="336" name="文本框 4"/>
          <p:cNvSpPr/>
          <p:nvPr/>
        </p:nvSpPr>
        <p:spPr>
          <a:xfrm>
            <a:off x="5854680" y="3216240"/>
            <a:ext cx="57085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培养学生综合运用、巩固与扩展所学的基础理论和专业知识，培养学生独立分析、解决实际问题能力、培养学生处理数据和信息的能力。</a:t>
            </a:r>
            <a:endParaRPr b="0" lang="en-US" sz="1800" spc="-1" strike="noStrike">
              <a:solidFill>
                <a:srgbClr val="000000"/>
              </a:solidFill>
              <a:latin typeface="Arial"/>
            </a:endParaRPr>
          </a:p>
        </p:txBody>
      </p:sp>
      <p:pic>
        <p:nvPicPr>
          <p:cNvPr id="337" name="图片 9" descr=""/>
          <p:cNvPicPr/>
          <p:nvPr/>
        </p:nvPicPr>
        <p:blipFill>
          <a:blip r:embed="rId1"/>
          <a:stretch/>
        </p:blipFill>
        <p:spPr>
          <a:xfrm>
            <a:off x="6326280" y="5200560"/>
            <a:ext cx="5865840" cy="1657440"/>
          </a:xfrm>
          <a:prstGeom prst="rect">
            <a:avLst/>
          </a:prstGeom>
          <a:ln w="0">
            <a:noFill/>
          </a:ln>
        </p:spPr>
      </p:pic>
      <p:pic>
        <p:nvPicPr>
          <p:cNvPr id="338" name="图片 10" descr=""/>
          <p:cNvPicPr/>
          <p:nvPr/>
        </p:nvPicPr>
        <p:blipFill>
          <a:blip r:embed="rId2"/>
          <a:stretch/>
        </p:blipFill>
        <p:spPr>
          <a:xfrm>
            <a:off x="0" y="0"/>
            <a:ext cx="7878600" cy="2216160"/>
          </a:xfrm>
          <a:prstGeom prst="rect">
            <a:avLst/>
          </a:prstGeom>
          <a:ln w="0">
            <a:noFill/>
          </a:ln>
        </p:spPr>
      </p:pic>
      <p:grpSp>
        <p:nvGrpSpPr>
          <p:cNvPr id="339" name="组合 11"/>
          <p:cNvGrpSpPr/>
          <p:nvPr/>
        </p:nvGrpSpPr>
        <p:grpSpPr>
          <a:xfrm>
            <a:off x="1511280" y="2216160"/>
            <a:ext cx="2597040" cy="2598840"/>
            <a:chOff x="1511280" y="2216160"/>
            <a:chExt cx="2597040" cy="2598840"/>
          </a:xfrm>
        </p:grpSpPr>
        <p:sp>
          <p:nvSpPr>
            <p:cNvPr id="340" name="椭圆 12"/>
            <p:cNvSpPr/>
            <p:nvPr/>
          </p:nvSpPr>
          <p:spPr>
            <a:xfrm>
              <a:off x="1511280" y="2216160"/>
              <a:ext cx="2597040" cy="259884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椭圆 13"/>
            <p:cNvSpPr/>
            <p:nvPr/>
          </p:nvSpPr>
          <p:spPr>
            <a:xfrm>
              <a:off x="1687320" y="2379600"/>
              <a:ext cx="2244600" cy="224496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KSO_Shape"/>
            <p:cNvSpPr/>
            <p:nvPr/>
          </p:nvSpPr>
          <p:spPr>
            <a:xfrm>
              <a:off x="1929600" y="2966040"/>
              <a:ext cx="1760040" cy="1071720"/>
            </a:xfrm>
            <a:custGeom>
              <a:avLst/>
              <a:gdLst/>
              <a:ahLst/>
              <a:rect l="l" t="t" r="r" b="b"/>
              <a:pathLst>
                <a:path w="3931" h="2392">
                  <a:moveTo>
                    <a:pt x="3046" y="1287"/>
                  </a:moveTo>
                  <a:cubicBezTo>
                    <a:pt x="3046" y="1287"/>
                    <a:pt x="2618" y="850"/>
                    <a:pt x="2027" y="850"/>
                  </a:cubicBezTo>
                  <a:cubicBezTo>
                    <a:pt x="1450" y="850"/>
                    <a:pt x="880" y="1287"/>
                    <a:pt x="880" y="1287"/>
                  </a:cubicBezTo>
                  <a:cubicBezTo>
                    <a:pt x="560" y="1154"/>
                    <a:pt x="560" y="1154"/>
                    <a:pt x="560" y="1154"/>
                  </a:cubicBezTo>
                  <a:cubicBezTo>
                    <a:pt x="560" y="1546"/>
                    <a:pt x="560" y="1546"/>
                    <a:pt x="560" y="1546"/>
                  </a:cubicBezTo>
                  <a:cubicBezTo>
                    <a:pt x="610" y="1563"/>
                    <a:pt x="647" y="1610"/>
                    <a:pt x="647" y="1666"/>
                  </a:cubicBezTo>
                  <a:cubicBezTo>
                    <a:pt x="647" y="1723"/>
                    <a:pt x="609" y="1769"/>
                    <a:pt x="558" y="1786"/>
                  </a:cubicBezTo>
                  <a:cubicBezTo>
                    <a:pt x="653" y="2208"/>
                    <a:pt x="653" y="2208"/>
                    <a:pt x="653" y="2208"/>
                  </a:cubicBezTo>
                  <a:cubicBezTo>
                    <a:pt x="373" y="2208"/>
                    <a:pt x="373" y="2208"/>
                    <a:pt x="373" y="2208"/>
                  </a:cubicBezTo>
                  <a:cubicBezTo>
                    <a:pt x="469" y="1784"/>
                    <a:pt x="469" y="1784"/>
                    <a:pt x="469" y="1784"/>
                  </a:cubicBezTo>
                  <a:cubicBezTo>
                    <a:pt x="423" y="1764"/>
                    <a:pt x="391" y="1719"/>
                    <a:pt x="391" y="1666"/>
                  </a:cubicBezTo>
                  <a:cubicBezTo>
                    <a:pt x="391" y="1614"/>
                    <a:pt x="422" y="1570"/>
                    <a:pt x="466" y="1549"/>
                  </a:cubicBezTo>
                  <a:cubicBezTo>
                    <a:pt x="466" y="1115"/>
                    <a:pt x="466" y="1115"/>
                    <a:pt x="466" y="1115"/>
                  </a:cubicBezTo>
                  <a:cubicBezTo>
                    <a:pt x="0" y="920"/>
                    <a:pt x="0" y="920"/>
                    <a:pt x="0" y="920"/>
                  </a:cubicBezTo>
                  <a:cubicBezTo>
                    <a:pt x="2050" y="0"/>
                    <a:pt x="2050" y="0"/>
                    <a:pt x="2050" y="0"/>
                  </a:cubicBezTo>
                  <a:cubicBezTo>
                    <a:pt x="3931" y="932"/>
                    <a:pt x="3931" y="932"/>
                    <a:pt x="3931" y="932"/>
                  </a:cubicBezTo>
                  <a:lnTo>
                    <a:pt x="3046" y="1287"/>
                  </a:lnTo>
                  <a:close/>
                  <a:moveTo>
                    <a:pt x="2004" y="1072"/>
                  </a:moveTo>
                  <a:cubicBezTo>
                    <a:pt x="2598" y="1072"/>
                    <a:pt x="2929" y="1386"/>
                    <a:pt x="2929" y="1386"/>
                  </a:cubicBezTo>
                  <a:cubicBezTo>
                    <a:pt x="2929" y="2147"/>
                    <a:pt x="2929" y="2147"/>
                    <a:pt x="2929" y="2147"/>
                  </a:cubicBezTo>
                  <a:cubicBezTo>
                    <a:pt x="2929" y="2147"/>
                    <a:pt x="2586" y="2392"/>
                    <a:pt x="1957" y="2392"/>
                  </a:cubicBezTo>
                  <a:cubicBezTo>
                    <a:pt x="1328" y="2392"/>
                    <a:pt x="1099" y="2147"/>
                    <a:pt x="1099" y="2147"/>
                  </a:cubicBezTo>
                  <a:cubicBezTo>
                    <a:pt x="1099" y="1386"/>
                    <a:pt x="1099" y="1386"/>
                    <a:pt x="1099" y="1386"/>
                  </a:cubicBezTo>
                  <a:cubicBezTo>
                    <a:pt x="1099" y="1386"/>
                    <a:pt x="1410" y="1072"/>
                    <a:pt x="2004" y="1072"/>
                  </a:cubicBezTo>
                  <a:close/>
                  <a:moveTo>
                    <a:pt x="1992" y="2252"/>
                  </a:moveTo>
                  <a:cubicBezTo>
                    <a:pt x="2404" y="2252"/>
                    <a:pt x="2738" y="2168"/>
                    <a:pt x="2738" y="2066"/>
                  </a:cubicBezTo>
                  <a:cubicBezTo>
                    <a:pt x="2738" y="1963"/>
                    <a:pt x="2404" y="1879"/>
                    <a:pt x="1992" y="1879"/>
                  </a:cubicBezTo>
                  <a:cubicBezTo>
                    <a:pt x="1581" y="1879"/>
                    <a:pt x="1247" y="1963"/>
                    <a:pt x="1247" y="2066"/>
                  </a:cubicBezTo>
                  <a:cubicBezTo>
                    <a:pt x="1247" y="2168"/>
                    <a:pt x="1581" y="2252"/>
                    <a:pt x="1992" y="2252"/>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图片 1" descr=""/>
          <p:cNvPicPr/>
          <p:nvPr/>
        </p:nvPicPr>
        <p:blipFill>
          <a:blip r:embed="rId1"/>
          <a:stretch/>
        </p:blipFill>
        <p:spPr>
          <a:xfrm>
            <a:off x="8610480" y="0"/>
            <a:ext cx="3581640" cy="1006560"/>
          </a:xfrm>
          <a:prstGeom prst="rect">
            <a:avLst/>
          </a:prstGeom>
          <a:ln w="0">
            <a:noFill/>
          </a:ln>
        </p:spPr>
      </p:pic>
      <p:sp>
        <p:nvSpPr>
          <p:cNvPr id="344"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三部分标题</a:t>
            </a:r>
            <a:endParaRPr b="0" lang="en-US" sz="2800" spc="-1" strike="noStrike">
              <a:solidFill>
                <a:srgbClr val="000000"/>
              </a:solidFill>
              <a:latin typeface="Arial"/>
            </a:endParaRPr>
          </a:p>
        </p:txBody>
      </p:sp>
      <p:pic>
        <p:nvPicPr>
          <p:cNvPr id="345" name="直接连接符 3" descr=""/>
          <p:cNvPicPr/>
          <p:nvPr/>
        </p:nvPicPr>
        <p:blipFill>
          <a:blip r:embed="rId2"/>
          <a:stretch/>
        </p:blipFill>
        <p:spPr>
          <a:xfrm>
            <a:off x="0" y="798480"/>
            <a:ext cx="11192040" cy="23760"/>
          </a:xfrm>
          <a:prstGeom prst="rect">
            <a:avLst/>
          </a:prstGeom>
          <a:ln w="0">
            <a:noFill/>
          </a:ln>
        </p:spPr>
      </p:pic>
      <p:sp>
        <p:nvSpPr>
          <p:cNvPr id="346"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7" name="组合 5"/>
          <p:cNvGrpSpPr/>
          <p:nvPr/>
        </p:nvGrpSpPr>
        <p:grpSpPr>
          <a:xfrm>
            <a:off x="233280" y="125280"/>
            <a:ext cx="635040" cy="635040"/>
            <a:chOff x="233280" y="125280"/>
            <a:chExt cx="635040" cy="635040"/>
          </a:xfrm>
        </p:grpSpPr>
        <p:sp>
          <p:nvSpPr>
            <p:cNvPr id="348" name="椭圆 6"/>
            <p:cNvSpPr/>
            <p:nvPr/>
          </p:nvSpPr>
          <p:spPr>
            <a:xfrm>
              <a:off x="233280" y="125280"/>
              <a:ext cx="635040" cy="63504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椭圆 7"/>
            <p:cNvSpPr/>
            <p:nvPr/>
          </p:nvSpPr>
          <p:spPr>
            <a:xfrm>
              <a:off x="276120" y="164880"/>
              <a:ext cx="549360" cy="54936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KSO_Shape"/>
            <p:cNvSpPr/>
            <p:nvPr/>
          </p:nvSpPr>
          <p:spPr>
            <a:xfrm>
              <a:off x="335520" y="308520"/>
              <a:ext cx="430560" cy="261720"/>
            </a:xfrm>
            <a:custGeom>
              <a:avLst/>
              <a:gdLst/>
              <a:ahLst/>
              <a:rect l="l" t="t" r="r" b="b"/>
              <a:pathLst>
                <a:path w="3931" h="2392">
                  <a:moveTo>
                    <a:pt x="3046" y="1287"/>
                  </a:moveTo>
                  <a:cubicBezTo>
                    <a:pt x="3046" y="1287"/>
                    <a:pt x="2618" y="850"/>
                    <a:pt x="2027" y="850"/>
                  </a:cubicBezTo>
                  <a:cubicBezTo>
                    <a:pt x="1450" y="850"/>
                    <a:pt x="880" y="1287"/>
                    <a:pt x="880" y="1287"/>
                  </a:cubicBezTo>
                  <a:cubicBezTo>
                    <a:pt x="560" y="1154"/>
                    <a:pt x="560" y="1154"/>
                    <a:pt x="560" y="1154"/>
                  </a:cubicBezTo>
                  <a:cubicBezTo>
                    <a:pt x="560" y="1546"/>
                    <a:pt x="560" y="1546"/>
                    <a:pt x="560" y="1546"/>
                  </a:cubicBezTo>
                  <a:cubicBezTo>
                    <a:pt x="610" y="1563"/>
                    <a:pt x="647" y="1610"/>
                    <a:pt x="647" y="1666"/>
                  </a:cubicBezTo>
                  <a:cubicBezTo>
                    <a:pt x="647" y="1723"/>
                    <a:pt x="609" y="1769"/>
                    <a:pt x="558" y="1786"/>
                  </a:cubicBezTo>
                  <a:cubicBezTo>
                    <a:pt x="653" y="2208"/>
                    <a:pt x="653" y="2208"/>
                    <a:pt x="653" y="2208"/>
                  </a:cubicBezTo>
                  <a:cubicBezTo>
                    <a:pt x="373" y="2208"/>
                    <a:pt x="373" y="2208"/>
                    <a:pt x="373" y="2208"/>
                  </a:cubicBezTo>
                  <a:cubicBezTo>
                    <a:pt x="469" y="1784"/>
                    <a:pt x="469" y="1784"/>
                    <a:pt x="469" y="1784"/>
                  </a:cubicBezTo>
                  <a:cubicBezTo>
                    <a:pt x="423" y="1764"/>
                    <a:pt x="391" y="1719"/>
                    <a:pt x="391" y="1666"/>
                  </a:cubicBezTo>
                  <a:cubicBezTo>
                    <a:pt x="391" y="1614"/>
                    <a:pt x="422" y="1570"/>
                    <a:pt x="466" y="1549"/>
                  </a:cubicBezTo>
                  <a:cubicBezTo>
                    <a:pt x="466" y="1115"/>
                    <a:pt x="466" y="1115"/>
                    <a:pt x="466" y="1115"/>
                  </a:cubicBezTo>
                  <a:cubicBezTo>
                    <a:pt x="0" y="920"/>
                    <a:pt x="0" y="920"/>
                    <a:pt x="0" y="920"/>
                  </a:cubicBezTo>
                  <a:cubicBezTo>
                    <a:pt x="2050" y="0"/>
                    <a:pt x="2050" y="0"/>
                    <a:pt x="2050" y="0"/>
                  </a:cubicBezTo>
                  <a:cubicBezTo>
                    <a:pt x="3931" y="932"/>
                    <a:pt x="3931" y="932"/>
                    <a:pt x="3931" y="932"/>
                  </a:cubicBezTo>
                  <a:lnTo>
                    <a:pt x="3046" y="1287"/>
                  </a:lnTo>
                  <a:close/>
                  <a:moveTo>
                    <a:pt x="2004" y="1072"/>
                  </a:moveTo>
                  <a:cubicBezTo>
                    <a:pt x="2598" y="1072"/>
                    <a:pt x="2929" y="1386"/>
                    <a:pt x="2929" y="1386"/>
                  </a:cubicBezTo>
                  <a:cubicBezTo>
                    <a:pt x="2929" y="2147"/>
                    <a:pt x="2929" y="2147"/>
                    <a:pt x="2929" y="2147"/>
                  </a:cubicBezTo>
                  <a:cubicBezTo>
                    <a:pt x="2929" y="2147"/>
                    <a:pt x="2586" y="2392"/>
                    <a:pt x="1957" y="2392"/>
                  </a:cubicBezTo>
                  <a:cubicBezTo>
                    <a:pt x="1328" y="2392"/>
                    <a:pt x="1099" y="2147"/>
                    <a:pt x="1099" y="2147"/>
                  </a:cubicBezTo>
                  <a:cubicBezTo>
                    <a:pt x="1099" y="1386"/>
                    <a:pt x="1099" y="1386"/>
                    <a:pt x="1099" y="1386"/>
                  </a:cubicBezTo>
                  <a:cubicBezTo>
                    <a:pt x="1099" y="1386"/>
                    <a:pt x="1410" y="1072"/>
                    <a:pt x="2004" y="1072"/>
                  </a:cubicBezTo>
                  <a:close/>
                  <a:moveTo>
                    <a:pt x="1992" y="2252"/>
                  </a:moveTo>
                  <a:cubicBezTo>
                    <a:pt x="2404" y="2252"/>
                    <a:pt x="2738" y="2168"/>
                    <a:pt x="2738" y="2066"/>
                  </a:cubicBezTo>
                  <a:cubicBezTo>
                    <a:pt x="2738" y="1963"/>
                    <a:pt x="2404" y="1879"/>
                    <a:pt x="1992" y="1879"/>
                  </a:cubicBezTo>
                  <a:cubicBezTo>
                    <a:pt x="1581" y="1879"/>
                    <a:pt x="1247" y="1963"/>
                    <a:pt x="1247" y="2066"/>
                  </a:cubicBezTo>
                  <a:cubicBezTo>
                    <a:pt x="1247" y="2168"/>
                    <a:pt x="1581" y="2252"/>
                    <a:pt x="1992" y="2252"/>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sp>
        <p:nvSpPr>
          <p:cNvPr id="351" name="任意多边形 9"/>
          <p:cNvSpPr/>
          <p:nvPr/>
        </p:nvSpPr>
        <p:spPr>
          <a:xfrm>
            <a:off x="1168560" y="3292560"/>
            <a:ext cx="2836800" cy="934920"/>
          </a:xfrm>
          <a:prstGeom prst="pie">
            <a:avLst/>
          </a:prstGeom>
          <a:noFill/>
          <a:ln w="0">
            <a:noFill/>
          </a:ln>
        </p:spPr>
        <p:style>
          <a:lnRef idx="0"/>
          <a:fillRef idx="0"/>
          <a:effectRef idx="0"/>
          <a:fontRef idx="minor"/>
        </p:style>
        <p:txBody>
          <a:bodyPr lIns="25560" rIns="25560" tIns="25560" bIns="2556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sz="2000" spc="-1" strike="noStrike">
                <a:solidFill>
                  <a:srgbClr val="a6a6a6"/>
                </a:solidFill>
                <a:latin typeface="Arial"/>
                <a:ea typeface="微软雅黑"/>
              </a:rPr>
              <a:t>这里添加文字</a:t>
            </a:r>
            <a:endParaRPr b="0" lang="en-US" sz="2000" spc="-1" strike="noStrike">
              <a:solidFill>
                <a:srgbClr val="000000"/>
              </a:solidFill>
              <a:latin typeface="Arial"/>
            </a:endParaRPr>
          </a:p>
        </p:txBody>
      </p:sp>
      <p:sp>
        <p:nvSpPr>
          <p:cNvPr id="352" name="椭圆 10"/>
          <p:cNvSpPr/>
          <p:nvPr/>
        </p:nvSpPr>
        <p:spPr>
          <a:xfrm>
            <a:off x="1165320" y="3008160"/>
            <a:ext cx="225360" cy="22572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椭圆 11"/>
          <p:cNvSpPr/>
          <p:nvPr/>
        </p:nvSpPr>
        <p:spPr>
          <a:xfrm>
            <a:off x="1322280" y="2692440"/>
            <a:ext cx="2253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椭圆 12"/>
          <p:cNvSpPr/>
          <p:nvPr/>
        </p:nvSpPr>
        <p:spPr>
          <a:xfrm>
            <a:off x="1701720" y="2755800"/>
            <a:ext cx="355680" cy="35424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椭圆 13"/>
          <p:cNvSpPr/>
          <p:nvPr/>
        </p:nvSpPr>
        <p:spPr>
          <a:xfrm>
            <a:off x="2017800" y="2408400"/>
            <a:ext cx="2253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椭圆 14"/>
          <p:cNvSpPr/>
          <p:nvPr/>
        </p:nvSpPr>
        <p:spPr>
          <a:xfrm>
            <a:off x="2428920" y="2281320"/>
            <a:ext cx="2253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椭圆 15"/>
          <p:cNvSpPr/>
          <p:nvPr/>
        </p:nvSpPr>
        <p:spPr>
          <a:xfrm>
            <a:off x="2935440" y="2503440"/>
            <a:ext cx="2253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椭圆 16"/>
          <p:cNvSpPr/>
          <p:nvPr/>
        </p:nvSpPr>
        <p:spPr>
          <a:xfrm>
            <a:off x="3251160" y="2660760"/>
            <a:ext cx="353880" cy="35532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椭圆 17"/>
          <p:cNvSpPr/>
          <p:nvPr/>
        </p:nvSpPr>
        <p:spPr>
          <a:xfrm>
            <a:off x="3692520" y="3008160"/>
            <a:ext cx="227160" cy="22572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椭圆 18"/>
          <p:cNvSpPr/>
          <p:nvPr/>
        </p:nvSpPr>
        <p:spPr>
          <a:xfrm>
            <a:off x="3882960" y="3355920"/>
            <a:ext cx="2253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椭圆 19"/>
          <p:cNvSpPr/>
          <p:nvPr/>
        </p:nvSpPr>
        <p:spPr>
          <a:xfrm>
            <a:off x="2239920" y="2692440"/>
            <a:ext cx="579600" cy="58104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椭圆 20"/>
          <p:cNvSpPr/>
          <p:nvPr/>
        </p:nvSpPr>
        <p:spPr>
          <a:xfrm>
            <a:off x="1006560" y="3894120"/>
            <a:ext cx="2253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椭圆 21"/>
          <p:cNvSpPr/>
          <p:nvPr/>
        </p:nvSpPr>
        <p:spPr>
          <a:xfrm>
            <a:off x="1197000" y="4178160"/>
            <a:ext cx="353880" cy="35424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椭圆 22"/>
          <p:cNvSpPr/>
          <p:nvPr/>
        </p:nvSpPr>
        <p:spPr>
          <a:xfrm>
            <a:off x="1670040" y="4430880"/>
            <a:ext cx="515880" cy="51588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椭圆 23"/>
          <p:cNvSpPr/>
          <p:nvPr/>
        </p:nvSpPr>
        <p:spPr>
          <a:xfrm>
            <a:off x="2333520" y="4842000"/>
            <a:ext cx="2271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椭圆 24"/>
          <p:cNvSpPr/>
          <p:nvPr/>
        </p:nvSpPr>
        <p:spPr>
          <a:xfrm>
            <a:off x="2460600" y="4430880"/>
            <a:ext cx="353880" cy="35388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椭圆 25"/>
          <p:cNvSpPr/>
          <p:nvPr/>
        </p:nvSpPr>
        <p:spPr>
          <a:xfrm>
            <a:off x="2776680" y="4873680"/>
            <a:ext cx="2253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椭圆 26"/>
          <p:cNvSpPr/>
          <p:nvPr/>
        </p:nvSpPr>
        <p:spPr>
          <a:xfrm>
            <a:off x="3060720" y="4367160"/>
            <a:ext cx="515880" cy="51588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椭圆 27"/>
          <p:cNvSpPr/>
          <p:nvPr/>
        </p:nvSpPr>
        <p:spPr>
          <a:xfrm>
            <a:off x="3755880" y="4241880"/>
            <a:ext cx="355680" cy="35388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燕尾形 28"/>
          <p:cNvSpPr/>
          <p:nvPr/>
        </p:nvSpPr>
        <p:spPr>
          <a:xfrm>
            <a:off x="4111560" y="2755800"/>
            <a:ext cx="1041480" cy="1987560"/>
          </a:xfrm>
          <a:custGeom>
            <a:avLst/>
            <a:gdLst>
              <a:gd name="textAreaLeft" fmla="*/ 0 w 1041480"/>
              <a:gd name="textAreaRight" fmla="*/ 1041840 w 1041480"/>
              <a:gd name="textAreaTop" fmla="*/ 0 h 1987560"/>
              <a:gd name="textAreaBottom" fmla="*/ 1987560 h 1987560"/>
            </a:gdLst>
            <a:ahLst/>
            <a:rect l="textAreaLeft" t="textAreaTop" r="textAreaRight" b="textAreaBottom"/>
            <a:pathLst>
              <a:path w="21600" h="21600">
                <a:moveTo>
                  <a:pt x="0" y="0"/>
                </a:moveTo>
                <a:lnTo>
                  <a:pt x="8141" y="0"/>
                </a:lnTo>
                <a:lnTo>
                  <a:pt x="21600" y="10800"/>
                </a:lnTo>
                <a:lnTo>
                  <a:pt x="8141" y="21600"/>
                </a:lnTo>
                <a:lnTo>
                  <a:pt x="0" y="21600"/>
                </a:lnTo>
                <a:lnTo>
                  <a:pt x="13459" y="10800"/>
                </a:lnTo>
                <a:close/>
              </a:path>
            </a:pathLst>
          </a:cu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任意多边形 29"/>
          <p:cNvSpPr/>
          <p:nvPr/>
        </p:nvSpPr>
        <p:spPr>
          <a:xfrm>
            <a:off x="5153040" y="2755800"/>
            <a:ext cx="2841480" cy="1989360"/>
          </a:xfrm>
          <a:prstGeom prst="pie">
            <a:avLst/>
          </a:prstGeom>
          <a:noFill/>
          <a:ln w="0">
            <a:noFill/>
          </a:ln>
        </p:spPr>
        <p:style>
          <a:lnRef idx="0"/>
          <a:fillRef idx="0"/>
          <a:effectRef idx="0"/>
          <a:fontRef idx="minor"/>
        </p:style>
        <p:txBody>
          <a:bodyPr lIns="25560" rIns="25560" tIns="25560" bIns="2556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sz="2000" spc="-1" strike="noStrike">
                <a:solidFill>
                  <a:srgbClr val="a6a6a6"/>
                </a:solidFill>
                <a:latin typeface="Arial"/>
                <a:ea typeface="微软雅黑"/>
              </a:rPr>
              <a:t>这里添加文字</a:t>
            </a:r>
            <a:endParaRPr b="0" lang="en-US" sz="2000" spc="-1" strike="noStrike">
              <a:solidFill>
                <a:srgbClr val="000000"/>
              </a:solidFill>
              <a:latin typeface="Arial"/>
            </a:endParaRPr>
          </a:p>
        </p:txBody>
      </p:sp>
      <p:sp>
        <p:nvSpPr>
          <p:cNvPr id="372" name="燕尾形 30"/>
          <p:cNvSpPr/>
          <p:nvPr/>
        </p:nvSpPr>
        <p:spPr>
          <a:xfrm>
            <a:off x="7994520" y="2755800"/>
            <a:ext cx="1041480" cy="1987560"/>
          </a:xfrm>
          <a:custGeom>
            <a:avLst/>
            <a:gdLst>
              <a:gd name="textAreaLeft" fmla="*/ 0 w 1041480"/>
              <a:gd name="textAreaRight" fmla="*/ 1041840 w 1041480"/>
              <a:gd name="textAreaTop" fmla="*/ 0 h 1987560"/>
              <a:gd name="textAreaBottom" fmla="*/ 1987560 h 1987560"/>
            </a:gdLst>
            <a:ahLst/>
            <a:rect l="textAreaLeft" t="textAreaTop" r="textAreaRight" b="textAreaBottom"/>
            <a:pathLst>
              <a:path w="21600" h="21600">
                <a:moveTo>
                  <a:pt x="0" y="0"/>
                </a:moveTo>
                <a:lnTo>
                  <a:pt x="8141" y="0"/>
                </a:lnTo>
                <a:lnTo>
                  <a:pt x="21600" y="10800"/>
                </a:lnTo>
                <a:lnTo>
                  <a:pt x="8141" y="21600"/>
                </a:lnTo>
                <a:lnTo>
                  <a:pt x="0" y="21600"/>
                </a:lnTo>
                <a:lnTo>
                  <a:pt x="13459" y="10800"/>
                </a:lnTo>
                <a:close/>
              </a:path>
            </a:pathLst>
          </a:cu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任意多边形 31"/>
          <p:cNvSpPr/>
          <p:nvPr/>
        </p:nvSpPr>
        <p:spPr>
          <a:xfrm>
            <a:off x="9150480" y="2590920"/>
            <a:ext cx="2414520" cy="2414520"/>
          </a:xfrm>
          <a:prstGeom prst="pie">
            <a:avLst/>
          </a:prstGeom>
          <a:solidFill>
            <a:srgbClr val="4b649f"/>
          </a:solidFill>
          <a:ln w="0">
            <a:noFill/>
          </a:ln>
        </p:spPr>
        <p:style>
          <a:lnRef idx="0"/>
          <a:fillRef idx="0"/>
          <a:effectRef idx="0"/>
          <a:fontRef idx="minor"/>
        </p:style>
        <p:txBody>
          <a:bodyPr lIns="353520" rIns="353520" tIns="353520" bIns="35352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sz="2000" spc="-1" strike="noStrike">
                <a:solidFill>
                  <a:srgbClr val="ffffff"/>
                </a:solidFill>
                <a:latin typeface="Arial"/>
                <a:ea typeface="微软雅黑"/>
              </a:rPr>
              <a:t>这里添加文字</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图片 1" descr=""/>
          <p:cNvPicPr/>
          <p:nvPr/>
        </p:nvPicPr>
        <p:blipFill>
          <a:blip r:embed="rId1"/>
          <a:stretch/>
        </p:blipFill>
        <p:spPr>
          <a:xfrm>
            <a:off x="8610480" y="0"/>
            <a:ext cx="3581640" cy="1006560"/>
          </a:xfrm>
          <a:prstGeom prst="rect">
            <a:avLst/>
          </a:prstGeom>
          <a:ln w="0">
            <a:noFill/>
          </a:ln>
        </p:spPr>
      </p:pic>
      <p:sp>
        <p:nvSpPr>
          <p:cNvPr id="375"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三部分标题</a:t>
            </a:r>
            <a:endParaRPr b="0" lang="en-US" sz="2800" spc="-1" strike="noStrike">
              <a:solidFill>
                <a:srgbClr val="000000"/>
              </a:solidFill>
              <a:latin typeface="Arial"/>
            </a:endParaRPr>
          </a:p>
        </p:txBody>
      </p:sp>
      <p:pic>
        <p:nvPicPr>
          <p:cNvPr id="376" name="直接连接符 3" descr=""/>
          <p:cNvPicPr/>
          <p:nvPr/>
        </p:nvPicPr>
        <p:blipFill>
          <a:blip r:embed="rId2"/>
          <a:stretch/>
        </p:blipFill>
        <p:spPr>
          <a:xfrm>
            <a:off x="0" y="798480"/>
            <a:ext cx="11192040" cy="23760"/>
          </a:xfrm>
          <a:prstGeom prst="rect">
            <a:avLst/>
          </a:prstGeom>
          <a:ln w="0">
            <a:noFill/>
          </a:ln>
        </p:spPr>
      </p:pic>
      <p:sp>
        <p:nvSpPr>
          <p:cNvPr id="377"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8" name="组合 5"/>
          <p:cNvGrpSpPr/>
          <p:nvPr/>
        </p:nvGrpSpPr>
        <p:grpSpPr>
          <a:xfrm>
            <a:off x="233280" y="125280"/>
            <a:ext cx="635040" cy="635040"/>
            <a:chOff x="233280" y="125280"/>
            <a:chExt cx="635040" cy="635040"/>
          </a:xfrm>
        </p:grpSpPr>
        <p:sp>
          <p:nvSpPr>
            <p:cNvPr id="379" name="椭圆 6"/>
            <p:cNvSpPr/>
            <p:nvPr/>
          </p:nvSpPr>
          <p:spPr>
            <a:xfrm>
              <a:off x="233280" y="125280"/>
              <a:ext cx="635040" cy="63504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椭圆 7"/>
            <p:cNvSpPr/>
            <p:nvPr/>
          </p:nvSpPr>
          <p:spPr>
            <a:xfrm>
              <a:off x="276120" y="164880"/>
              <a:ext cx="549360" cy="54936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KSO_Shape"/>
            <p:cNvSpPr/>
            <p:nvPr/>
          </p:nvSpPr>
          <p:spPr>
            <a:xfrm>
              <a:off x="335520" y="308520"/>
              <a:ext cx="430560" cy="261720"/>
            </a:xfrm>
            <a:custGeom>
              <a:avLst/>
              <a:gdLst/>
              <a:ahLst/>
              <a:rect l="l" t="t" r="r" b="b"/>
              <a:pathLst>
                <a:path w="3931" h="2392">
                  <a:moveTo>
                    <a:pt x="3046" y="1287"/>
                  </a:moveTo>
                  <a:cubicBezTo>
                    <a:pt x="3046" y="1287"/>
                    <a:pt x="2618" y="850"/>
                    <a:pt x="2027" y="850"/>
                  </a:cubicBezTo>
                  <a:cubicBezTo>
                    <a:pt x="1450" y="850"/>
                    <a:pt x="880" y="1287"/>
                    <a:pt x="880" y="1287"/>
                  </a:cubicBezTo>
                  <a:cubicBezTo>
                    <a:pt x="560" y="1154"/>
                    <a:pt x="560" y="1154"/>
                    <a:pt x="560" y="1154"/>
                  </a:cubicBezTo>
                  <a:cubicBezTo>
                    <a:pt x="560" y="1546"/>
                    <a:pt x="560" y="1546"/>
                    <a:pt x="560" y="1546"/>
                  </a:cubicBezTo>
                  <a:cubicBezTo>
                    <a:pt x="610" y="1563"/>
                    <a:pt x="647" y="1610"/>
                    <a:pt x="647" y="1666"/>
                  </a:cubicBezTo>
                  <a:cubicBezTo>
                    <a:pt x="647" y="1723"/>
                    <a:pt x="609" y="1769"/>
                    <a:pt x="558" y="1786"/>
                  </a:cubicBezTo>
                  <a:cubicBezTo>
                    <a:pt x="653" y="2208"/>
                    <a:pt x="653" y="2208"/>
                    <a:pt x="653" y="2208"/>
                  </a:cubicBezTo>
                  <a:cubicBezTo>
                    <a:pt x="373" y="2208"/>
                    <a:pt x="373" y="2208"/>
                    <a:pt x="373" y="2208"/>
                  </a:cubicBezTo>
                  <a:cubicBezTo>
                    <a:pt x="469" y="1784"/>
                    <a:pt x="469" y="1784"/>
                    <a:pt x="469" y="1784"/>
                  </a:cubicBezTo>
                  <a:cubicBezTo>
                    <a:pt x="423" y="1764"/>
                    <a:pt x="391" y="1719"/>
                    <a:pt x="391" y="1666"/>
                  </a:cubicBezTo>
                  <a:cubicBezTo>
                    <a:pt x="391" y="1614"/>
                    <a:pt x="422" y="1570"/>
                    <a:pt x="466" y="1549"/>
                  </a:cubicBezTo>
                  <a:cubicBezTo>
                    <a:pt x="466" y="1115"/>
                    <a:pt x="466" y="1115"/>
                    <a:pt x="466" y="1115"/>
                  </a:cubicBezTo>
                  <a:cubicBezTo>
                    <a:pt x="0" y="920"/>
                    <a:pt x="0" y="920"/>
                    <a:pt x="0" y="920"/>
                  </a:cubicBezTo>
                  <a:cubicBezTo>
                    <a:pt x="2050" y="0"/>
                    <a:pt x="2050" y="0"/>
                    <a:pt x="2050" y="0"/>
                  </a:cubicBezTo>
                  <a:cubicBezTo>
                    <a:pt x="3931" y="932"/>
                    <a:pt x="3931" y="932"/>
                    <a:pt x="3931" y="932"/>
                  </a:cubicBezTo>
                  <a:lnTo>
                    <a:pt x="3046" y="1287"/>
                  </a:lnTo>
                  <a:close/>
                  <a:moveTo>
                    <a:pt x="2004" y="1072"/>
                  </a:moveTo>
                  <a:cubicBezTo>
                    <a:pt x="2598" y="1072"/>
                    <a:pt x="2929" y="1386"/>
                    <a:pt x="2929" y="1386"/>
                  </a:cubicBezTo>
                  <a:cubicBezTo>
                    <a:pt x="2929" y="2147"/>
                    <a:pt x="2929" y="2147"/>
                    <a:pt x="2929" y="2147"/>
                  </a:cubicBezTo>
                  <a:cubicBezTo>
                    <a:pt x="2929" y="2147"/>
                    <a:pt x="2586" y="2392"/>
                    <a:pt x="1957" y="2392"/>
                  </a:cubicBezTo>
                  <a:cubicBezTo>
                    <a:pt x="1328" y="2392"/>
                    <a:pt x="1099" y="2147"/>
                    <a:pt x="1099" y="2147"/>
                  </a:cubicBezTo>
                  <a:cubicBezTo>
                    <a:pt x="1099" y="1386"/>
                    <a:pt x="1099" y="1386"/>
                    <a:pt x="1099" y="1386"/>
                  </a:cubicBezTo>
                  <a:cubicBezTo>
                    <a:pt x="1099" y="1386"/>
                    <a:pt x="1410" y="1072"/>
                    <a:pt x="2004" y="1072"/>
                  </a:cubicBezTo>
                  <a:close/>
                  <a:moveTo>
                    <a:pt x="1992" y="2252"/>
                  </a:moveTo>
                  <a:cubicBezTo>
                    <a:pt x="2404" y="2252"/>
                    <a:pt x="2738" y="2168"/>
                    <a:pt x="2738" y="2066"/>
                  </a:cubicBezTo>
                  <a:cubicBezTo>
                    <a:pt x="2738" y="1963"/>
                    <a:pt x="2404" y="1879"/>
                    <a:pt x="1992" y="1879"/>
                  </a:cubicBezTo>
                  <a:cubicBezTo>
                    <a:pt x="1581" y="1879"/>
                    <a:pt x="1247" y="1963"/>
                    <a:pt x="1247" y="2066"/>
                  </a:cubicBezTo>
                  <a:cubicBezTo>
                    <a:pt x="1247" y="2168"/>
                    <a:pt x="1581" y="2252"/>
                    <a:pt x="1992" y="2252"/>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sp>
        <p:nvSpPr>
          <p:cNvPr id="382" name="Straight Connector 31"/>
          <p:cNvSpPr/>
          <p:nvPr/>
        </p:nvSpPr>
        <p:spPr>
          <a:xfrm>
            <a:off x="1338120" y="2995560"/>
            <a:ext cx="9515520" cy="0"/>
          </a:xfrm>
          <a:prstGeom prst="line">
            <a:avLst/>
          </a:prstGeom>
          <a:ln w="6480">
            <a:solidFill>
              <a:srgbClr val="7f7f7f"/>
            </a:solidFill>
            <a:prstDash val="sysDot"/>
            <a:miter/>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3" name="Group 26"/>
          <p:cNvGrpSpPr/>
          <p:nvPr/>
        </p:nvGrpSpPr>
        <p:grpSpPr>
          <a:xfrm>
            <a:off x="4911840" y="1892160"/>
            <a:ext cx="2305080" cy="2305080"/>
            <a:chOff x="4911840" y="1892160"/>
            <a:chExt cx="2305080" cy="2305080"/>
          </a:xfrm>
        </p:grpSpPr>
        <p:sp>
          <p:nvSpPr>
            <p:cNvPr id="384" name="Oval 16"/>
            <p:cNvSpPr/>
            <p:nvPr/>
          </p:nvSpPr>
          <p:spPr>
            <a:xfrm>
              <a:off x="4911840" y="1892160"/>
              <a:ext cx="2305080" cy="2305080"/>
            </a:xfrm>
            <a:prstGeom prst="ellipse">
              <a:avLst/>
            </a:prstGeom>
            <a:solidFill>
              <a:srgbClr val="5e8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5" name="Freeform 6"/>
            <p:cNvSpPr/>
            <p:nvPr/>
          </p:nvSpPr>
          <p:spPr>
            <a:xfrm>
              <a:off x="5660280" y="2372400"/>
              <a:ext cx="808200" cy="826200"/>
            </a:xfrm>
            <a:custGeom>
              <a:avLst/>
              <a:gdLst/>
              <a:ahLst/>
              <a:rect l="l" t="t" r="r" b="b"/>
              <a:pathLst>
                <a:path w="360" h="368">
                  <a:moveTo>
                    <a:pt x="203" y="271"/>
                  </a:moveTo>
                  <a:cubicBezTo>
                    <a:pt x="203" y="242"/>
                    <a:pt x="225" y="226"/>
                    <a:pt x="261" y="202"/>
                  </a:cubicBezTo>
                  <a:cubicBezTo>
                    <a:pt x="305" y="173"/>
                    <a:pt x="360" y="137"/>
                    <a:pt x="360" y="51"/>
                  </a:cubicBezTo>
                  <a:cubicBezTo>
                    <a:pt x="360" y="43"/>
                    <a:pt x="353" y="37"/>
                    <a:pt x="346" y="37"/>
                  </a:cubicBezTo>
                  <a:cubicBezTo>
                    <a:pt x="277" y="37"/>
                    <a:pt x="277" y="37"/>
                    <a:pt x="277" y="37"/>
                  </a:cubicBezTo>
                  <a:cubicBezTo>
                    <a:pt x="267" y="19"/>
                    <a:pt x="238" y="0"/>
                    <a:pt x="180" y="0"/>
                  </a:cubicBezTo>
                  <a:cubicBezTo>
                    <a:pt x="121" y="0"/>
                    <a:pt x="92" y="19"/>
                    <a:pt x="83" y="37"/>
                  </a:cubicBezTo>
                  <a:cubicBezTo>
                    <a:pt x="14" y="37"/>
                    <a:pt x="14" y="37"/>
                    <a:pt x="14" y="37"/>
                  </a:cubicBezTo>
                  <a:cubicBezTo>
                    <a:pt x="6" y="37"/>
                    <a:pt x="0" y="43"/>
                    <a:pt x="0" y="51"/>
                  </a:cubicBezTo>
                  <a:cubicBezTo>
                    <a:pt x="0" y="137"/>
                    <a:pt x="54" y="173"/>
                    <a:pt x="98" y="202"/>
                  </a:cubicBezTo>
                  <a:cubicBezTo>
                    <a:pt x="134" y="226"/>
                    <a:pt x="156" y="242"/>
                    <a:pt x="156" y="271"/>
                  </a:cubicBezTo>
                  <a:cubicBezTo>
                    <a:pt x="156" y="297"/>
                    <a:pt x="156" y="297"/>
                    <a:pt x="156" y="297"/>
                  </a:cubicBezTo>
                  <a:cubicBezTo>
                    <a:pt x="118" y="301"/>
                    <a:pt x="91" y="315"/>
                    <a:pt x="91" y="332"/>
                  </a:cubicBezTo>
                  <a:cubicBezTo>
                    <a:pt x="91" y="352"/>
                    <a:pt x="131" y="368"/>
                    <a:pt x="180" y="368"/>
                  </a:cubicBezTo>
                  <a:cubicBezTo>
                    <a:pt x="229" y="368"/>
                    <a:pt x="269" y="352"/>
                    <a:pt x="269" y="332"/>
                  </a:cubicBezTo>
                  <a:cubicBezTo>
                    <a:pt x="269" y="315"/>
                    <a:pt x="241" y="301"/>
                    <a:pt x="203" y="297"/>
                  </a:cubicBezTo>
                  <a:lnTo>
                    <a:pt x="203" y="271"/>
                  </a:lnTo>
                  <a:close/>
                  <a:moveTo>
                    <a:pt x="259" y="170"/>
                  </a:moveTo>
                  <a:cubicBezTo>
                    <a:pt x="270" y="146"/>
                    <a:pt x="279" y="113"/>
                    <a:pt x="281" y="65"/>
                  </a:cubicBezTo>
                  <a:cubicBezTo>
                    <a:pt x="331" y="65"/>
                    <a:pt x="331" y="65"/>
                    <a:pt x="331" y="65"/>
                  </a:cubicBezTo>
                  <a:cubicBezTo>
                    <a:pt x="326" y="119"/>
                    <a:pt x="294" y="146"/>
                    <a:pt x="259" y="170"/>
                  </a:cubicBezTo>
                  <a:close/>
                  <a:moveTo>
                    <a:pt x="180" y="24"/>
                  </a:moveTo>
                  <a:cubicBezTo>
                    <a:pt x="234" y="24"/>
                    <a:pt x="256" y="47"/>
                    <a:pt x="256" y="55"/>
                  </a:cubicBezTo>
                  <a:cubicBezTo>
                    <a:pt x="256" y="63"/>
                    <a:pt x="234" y="86"/>
                    <a:pt x="180" y="86"/>
                  </a:cubicBezTo>
                  <a:cubicBezTo>
                    <a:pt x="125" y="86"/>
                    <a:pt x="104" y="63"/>
                    <a:pt x="104" y="55"/>
                  </a:cubicBezTo>
                  <a:cubicBezTo>
                    <a:pt x="104" y="47"/>
                    <a:pt x="125" y="24"/>
                    <a:pt x="180" y="24"/>
                  </a:cubicBezTo>
                  <a:close/>
                  <a:moveTo>
                    <a:pt x="29" y="65"/>
                  </a:moveTo>
                  <a:cubicBezTo>
                    <a:pt x="79" y="65"/>
                    <a:pt x="79" y="65"/>
                    <a:pt x="79" y="65"/>
                  </a:cubicBezTo>
                  <a:cubicBezTo>
                    <a:pt x="80" y="113"/>
                    <a:pt x="89" y="146"/>
                    <a:pt x="101" y="170"/>
                  </a:cubicBezTo>
                  <a:cubicBezTo>
                    <a:pt x="66" y="146"/>
                    <a:pt x="33" y="119"/>
                    <a:pt x="29" y="6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grpSp>
      <p:grpSp>
        <p:nvGrpSpPr>
          <p:cNvPr id="386" name="Group 25"/>
          <p:cNvGrpSpPr/>
          <p:nvPr/>
        </p:nvGrpSpPr>
        <p:grpSpPr>
          <a:xfrm>
            <a:off x="2143080" y="2144880"/>
            <a:ext cx="1792440" cy="1792080"/>
            <a:chOff x="2143080" y="2144880"/>
            <a:chExt cx="1792440" cy="1792080"/>
          </a:xfrm>
        </p:grpSpPr>
        <p:sp>
          <p:nvSpPr>
            <p:cNvPr id="387" name="Oval 14"/>
            <p:cNvSpPr/>
            <p:nvPr/>
          </p:nvSpPr>
          <p:spPr>
            <a:xfrm>
              <a:off x="2143080" y="2144880"/>
              <a:ext cx="1792440" cy="179208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11"/>
            <p:cNvSpPr/>
            <p:nvPr/>
          </p:nvSpPr>
          <p:spPr>
            <a:xfrm>
              <a:off x="2824920" y="2568600"/>
              <a:ext cx="428400" cy="427320"/>
            </a:xfrm>
            <a:custGeom>
              <a:avLst/>
              <a:gdLst/>
              <a:ahLst/>
              <a:rect l="l" t="t" r="r" b="b"/>
              <a:pathLst>
                <a:path w="319" h="318">
                  <a:moveTo>
                    <a:pt x="7" y="291"/>
                  </a:moveTo>
                  <a:cubicBezTo>
                    <a:pt x="26" y="310"/>
                    <a:pt x="26" y="310"/>
                    <a:pt x="26" y="310"/>
                  </a:cubicBezTo>
                  <a:cubicBezTo>
                    <a:pt x="33" y="318"/>
                    <a:pt x="46" y="318"/>
                    <a:pt x="53" y="310"/>
                  </a:cubicBezTo>
                  <a:cubicBezTo>
                    <a:pt x="129" y="234"/>
                    <a:pt x="129" y="234"/>
                    <a:pt x="129" y="234"/>
                  </a:cubicBezTo>
                  <a:cubicBezTo>
                    <a:pt x="147" y="245"/>
                    <a:pt x="169" y="251"/>
                    <a:pt x="191" y="251"/>
                  </a:cubicBezTo>
                  <a:cubicBezTo>
                    <a:pt x="260" y="251"/>
                    <a:pt x="319" y="192"/>
                    <a:pt x="319" y="124"/>
                  </a:cubicBezTo>
                  <a:cubicBezTo>
                    <a:pt x="319" y="55"/>
                    <a:pt x="263" y="0"/>
                    <a:pt x="195" y="0"/>
                  </a:cubicBezTo>
                  <a:cubicBezTo>
                    <a:pt x="127" y="0"/>
                    <a:pt x="67" y="59"/>
                    <a:pt x="67" y="127"/>
                  </a:cubicBezTo>
                  <a:cubicBezTo>
                    <a:pt x="67" y="151"/>
                    <a:pt x="74" y="173"/>
                    <a:pt x="85" y="192"/>
                  </a:cubicBezTo>
                  <a:cubicBezTo>
                    <a:pt x="10" y="267"/>
                    <a:pt x="10" y="267"/>
                    <a:pt x="10" y="267"/>
                  </a:cubicBezTo>
                  <a:cubicBezTo>
                    <a:pt x="2" y="275"/>
                    <a:pt x="0" y="284"/>
                    <a:pt x="7" y="291"/>
                  </a:cubicBezTo>
                  <a:close/>
                  <a:moveTo>
                    <a:pt x="191" y="213"/>
                  </a:moveTo>
                  <a:cubicBezTo>
                    <a:pt x="144" y="213"/>
                    <a:pt x="106" y="175"/>
                    <a:pt x="106" y="127"/>
                  </a:cubicBezTo>
                  <a:cubicBezTo>
                    <a:pt x="106" y="80"/>
                    <a:pt x="148" y="38"/>
                    <a:pt x="195" y="38"/>
                  </a:cubicBezTo>
                  <a:cubicBezTo>
                    <a:pt x="242" y="38"/>
                    <a:pt x="281" y="76"/>
                    <a:pt x="281" y="124"/>
                  </a:cubicBezTo>
                  <a:cubicBezTo>
                    <a:pt x="281" y="171"/>
                    <a:pt x="239" y="213"/>
                    <a:pt x="191" y="213"/>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grpSp>
      <p:grpSp>
        <p:nvGrpSpPr>
          <p:cNvPr id="389" name="Group 27"/>
          <p:cNvGrpSpPr/>
          <p:nvPr/>
        </p:nvGrpSpPr>
        <p:grpSpPr>
          <a:xfrm>
            <a:off x="8256600" y="2144880"/>
            <a:ext cx="1792440" cy="1792080"/>
            <a:chOff x="8256600" y="2144880"/>
            <a:chExt cx="1792440" cy="1792080"/>
          </a:xfrm>
        </p:grpSpPr>
        <p:sp>
          <p:nvSpPr>
            <p:cNvPr id="390" name="Oval 19"/>
            <p:cNvSpPr/>
            <p:nvPr/>
          </p:nvSpPr>
          <p:spPr>
            <a:xfrm>
              <a:off x="8256600" y="2144880"/>
              <a:ext cx="1792440" cy="179208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16"/>
            <p:cNvSpPr/>
            <p:nvPr/>
          </p:nvSpPr>
          <p:spPr>
            <a:xfrm>
              <a:off x="8945280" y="2574720"/>
              <a:ext cx="415080" cy="415080"/>
            </a:xfrm>
            <a:custGeom>
              <a:avLst/>
              <a:gdLst/>
              <a:ahLst/>
              <a:rect l="l" t="t" r="r" b="b"/>
              <a:pathLst>
                <a:path w="360" h="360">
                  <a:moveTo>
                    <a:pt x="320" y="40"/>
                  </a:moveTo>
                  <a:cubicBezTo>
                    <a:pt x="302" y="40"/>
                    <a:pt x="302" y="40"/>
                    <a:pt x="302" y="40"/>
                  </a:cubicBezTo>
                  <a:cubicBezTo>
                    <a:pt x="302" y="80"/>
                    <a:pt x="302" y="80"/>
                    <a:pt x="302" y="80"/>
                  </a:cubicBezTo>
                  <a:cubicBezTo>
                    <a:pt x="238" y="80"/>
                    <a:pt x="238" y="80"/>
                    <a:pt x="238" y="80"/>
                  </a:cubicBezTo>
                  <a:cubicBezTo>
                    <a:pt x="238" y="40"/>
                    <a:pt x="238" y="40"/>
                    <a:pt x="238" y="40"/>
                  </a:cubicBezTo>
                  <a:cubicBezTo>
                    <a:pt x="122" y="40"/>
                    <a:pt x="122" y="40"/>
                    <a:pt x="122" y="40"/>
                  </a:cubicBezTo>
                  <a:cubicBezTo>
                    <a:pt x="122" y="80"/>
                    <a:pt x="122" y="80"/>
                    <a:pt x="122" y="80"/>
                  </a:cubicBezTo>
                  <a:cubicBezTo>
                    <a:pt x="58" y="80"/>
                    <a:pt x="58" y="80"/>
                    <a:pt x="58" y="80"/>
                  </a:cubicBezTo>
                  <a:cubicBezTo>
                    <a:pt x="58" y="40"/>
                    <a:pt x="58" y="40"/>
                    <a:pt x="58" y="40"/>
                  </a:cubicBezTo>
                  <a:cubicBezTo>
                    <a:pt x="40" y="40"/>
                    <a:pt x="40" y="40"/>
                    <a:pt x="40" y="40"/>
                  </a:cubicBezTo>
                  <a:cubicBezTo>
                    <a:pt x="18" y="40"/>
                    <a:pt x="0" y="58"/>
                    <a:pt x="0" y="80"/>
                  </a:cubicBezTo>
                  <a:cubicBezTo>
                    <a:pt x="0" y="320"/>
                    <a:pt x="0" y="320"/>
                    <a:pt x="0" y="320"/>
                  </a:cubicBezTo>
                  <a:cubicBezTo>
                    <a:pt x="0" y="342"/>
                    <a:pt x="18" y="360"/>
                    <a:pt x="40" y="360"/>
                  </a:cubicBezTo>
                  <a:cubicBezTo>
                    <a:pt x="320" y="360"/>
                    <a:pt x="320" y="360"/>
                    <a:pt x="320" y="360"/>
                  </a:cubicBezTo>
                  <a:cubicBezTo>
                    <a:pt x="342" y="360"/>
                    <a:pt x="360" y="342"/>
                    <a:pt x="360" y="320"/>
                  </a:cubicBezTo>
                  <a:cubicBezTo>
                    <a:pt x="360" y="80"/>
                    <a:pt x="360" y="80"/>
                    <a:pt x="360" y="80"/>
                  </a:cubicBezTo>
                  <a:cubicBezTo>
                    <a:pt x="360" y="58"/>
                    <a:pt x="342" y="40"/>
                    <a:pt x="320" y="40"/>
                  </a:cubicBezTo>
                  <a:close/>
                  <a:moveTo>
                    <a:pt x="320" y="320"/>
                  </a:moveTo>
                  <a:cubicBezTo>
                    <a:pt x="40" y="320"/>
                    <a:pt x="40" y="320"/>
                    <a:pt x="40" y="320"/>
                  </a:cubicBezTo>
                  <a:cubicBezTo>
                    <a:pt x="40" y="160"/>
                    <a:pt x="40" y="160"/>
                    <a:pt x="40" y="160"/>
                  </a:cubicBezTo>
                  <a:cubicBezTo>
                    <a:pt x="320" y="160"/>
                    <a:pt x="320" y="160"/>
                    <a:pt x="320" y="160"/>
                  </a:cubicBezTo>
                  <a:lnTo>
                    <a:pt x="320" y="320"/>
                  </a:lnTo>
                  <a:close/>
                  <a:moveTo>
                    <a:pt x="104" y="0"/>
                  </a:moveTo>
                  <a:cubicBezTo>
                    <a:pt x="76" y="0"/>
                    <a:pt x="76" y="0"/>
                    <a:pt x="76" y="0"/>
                  </a:cubicBezTo>
                  <a:cubicBezTo>
                    <a:pt x="76" y="68"/>
                    <a:pt x="76" y="68"/>
                    <a:pt x="76" y="68"/>
                  </a:cubicBezTo>
                  <a:cubicBezTo>
                    <a:pt x="104" y="68"/>
                    <a:pt x="104" y="68"/>
                    <a:pt x="104" y="68"/>
                  </a:cubicBezTo>
                  <a:lnTo>
                    <a:pt x="104" y="0"/>
                  </a:lnTo>
                  <a:close/>
                  <a:moveTo>
                    <a:pt x="284" y="0"/>
                  </a:moveTo>
                  <a:cubicBezTo>
                    <a:pt x="256" y="0"/>
                    <a:pt x="256" y="0"/>
                    <a:pt x="256" y="0"/>
                  </a:cubicBezTo>
                  <a:cubicBezTo>
                    <a:pt x="256" y="68"/>
                    <a:pt x="256" y="68"/>
                    <a:pt x="256" y="68"/>
                  </a:cubicBezTo>
                  <a:cubicBezTo>
                    <a:pt x="284" y="68"/>
                    <a:pt x="284" y="68"/>
                    <a:pt x="284" y="68"/>
                  </a:cubicBezTo>
                  <a:lnTo>
                    <a:pt x="284" y="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grpSp>
      <p:sp>
        <p:nvSpPr>
          <p:cNvPr id="392" name="Title 13"/>
          <p:cNvSpPr/>
          <p:nvPr/>
        </p:nvSpPr>
        <p:spPr>
          <a:xfrm>
            <a:off x="1627200" y="4385160"/>
            <a:ext cx="2792520" cy="518040"/>
          </a:xfrm>
          <a:prstGeom prst="rect">
            <a:avLst/>
          </a:prstGeom>
          <a:noFill/>
          <a:ln w="0">
            <a:noFill/>
          </a:ln>
        </p:spPr>
        <p:style>
          <a:lnRef idx="0"/>
          <a:fillRef idx="0"/>
          <a:effectRef idx="0"/>
          <a:fontRef idx="minor"/>
        </p:style>
        <p:txBody>
          <a:bodyPr lIns="122040" rIns="122040" tIns="60840" bIns="608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595959"/>
                </a:solidFill>
                <a:latin typeface="Arial"/>
                <a:ea typeface="微软雅黑"/>
              </a:rPr>
              <a:t>Step 1</a:t>
            </a:r>
            <a:endParaRPr b="0" lang="en-US" sz="2600" spc="-1" strike="noStrike">
              <a:solidFill>
                <a:srgbClr val="000000"/>
              </a:solidFill>
              <a:latin typeface="Arial"/>
            </a:endParaRPr>
          </a:p>
        </p:txBody>
      </p:sp>
      <p:sp>
        <p:nvSpPr>
          <p:cNvPr id="393" name="Title 13"/>
          <p:cNvSpPr/>
          <p:nvPr/>
        </p:nvSpPr>
        <p:spPr>
          <a:xfrm>
            <a:off x="4687920" y="4385160"/>
            <a:ext cx="2792520" cy="518040"/>
          </a:xfrm>
          <a:prstGeom prst="rect">
            <a:avLst/>
          </a:prstGeom>
          <a:noFill/>
          <a:ln w="0">
            <a:noFill/>
          </a:ln>
        </p:spPr>
        <p:style>
          <a:lnRef idx="0"/>
          <a:fillRef idx="0"/>
          <a:effectRef idx="0"/>
          <a:fontRef idx="minor"/>
        </p:style>
        <p:txBody>
          <a:bodyPr lIns="122040" rIns="122040" tIns="60840" bIns="608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595959"/>
                </a:solidFill>
                <a:latin typeface="Arial"/>
                <a:ea typeface="微软雅黑"/>
              </a:rPr>
              <a:t>Step 2</a:t>
            </a:r>
            <a:endParaRPr b="0" lang="en-US" sz="2600" spc="-1" strike="noStrike">
              <a:solidFill>
                <a:srgbClr val="000000"/>
              </a:solidFill>
              <a:latin typeface="Arial"/>
            </a:endParaRPr>
          </a:p>
        </p:txBody>
      </p:sp>
      <p:sp>
        <p:nvSpPr>
          <p:cNvPr id="394" name="Title 13"/>
          <p:cNvSpPr/>
          <p:nvPr/>
        </p:nvSpPr>
        <p:spPr>
          <a:xfrm>
            <a:off x="7743960" y="4385160"/>
            <a:ext cx="2793960" cy="518040"/>
          </a:xfrm>
          <a:prstGeom prst="rect">
            <a:avLst/>
          </a:prstGeom>
          <a:noFill/>
          <a:ln w="0">
            <a:noFill/>
          </a:ln>
        </p:spPr>
        <p:style>
          <a:lnRef idx="0"/>
          <a:fillRef idx="0"/>
          <a:effectRef idx="0"/>
          <a:fontRef idx="minor"/>
        </p:style>
        <p:txBody>
          <a:bodyPr lIns="122040" rIns="122040" tIns="60840" bIns="608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595959"/>
                </a:solidFill>
                <a:latin typeface="Arial"/>
                <a:ea typeface="微软雅黑"/>
              </a:rPr>
              <a:t>Step 3</a:t>
            </a:r>
            <a:endParaRPr b="0" lang="en-US" sz="2600" spc="-1" strike="noStrike">
              <a:solidFill>
                <a:srgbClr val="000000"/>
              </a:solidFill>
              <a:latin typeface="Arial"/>
            </a:endParaRPr>
          </a:p>
        </p:txBody>
      </p:sp>
      <p:sp>
        <p:nvSpPr>
          <p:cNvPr id="395" name="文本框 22"/>
          <p:cNvSpPr/>
          <p:nvPr/>
        </p:nvSpPr>
        <p:spPr>
          <a:xfrm>
            <a:off x="2521440" y="31989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这里添加文字</a:t>
            </a:r>
            <a:endParaRPr b="0" lang="en-US" sz="1800" spc="-1" strike="noStrike">
              <a:solidFill>
                <a:srgbClr val="000000"/>
              </a:solidFill>
              <a:latin typeface="Arial"/>
            </a:endParaRPr>
          </a:p>
        </p:txBody>
      </p:sp>
      <p:sp>
        <p:nvSpPr>
          <p:cNvPr id="396" name="文本框 23"/>
          <p:cNvSpPr/>
          <p:nvPr/>
        </p:nvSpPr>
        <p:spPr>
          <a:xfrm>
            <a:off x="5586120" y="338292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这里添加文字</a:t>
            </a:r>
            <a:endParaRPr b="0" lang="en-US" sz="1800" spc="-1" strike="noStrike">
              <a:solidFill>
                <a:srgbClr val="000000"/>
              </a:solidFill>
              <a:latin typeface="Arial"/>
            </a:endParaRPr>
          </a:p>
        </p:txBody>
      </p:sp>
      <p:sp>
        <p:nvSpPr>
          <p:cNvPr id="397" name="文本框 24"/>
          <p:cNvSpPr/>
          <p:nvPr/>
        </p:nvSpPr>
        <p:spPr>
          <a:xfrm>
            <a:off x="8638920" y="31989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这里添加文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6" presetSubtype="37">
                                  <p:stCondLst>
                                    <p:cond delay="0"/>
                                  </p:stCondLst>
                                  <p:childTnLst>
                                    <p:set>
                                      <p:cBhvr>
                                        <p:cTn id="6" dur="1" fill="hold">
                                          <p:stCondLst>
                                            <p:cond delay="0"/>
                                          </p:stCondLst>
                                        </p:cTn>
                                        <p:tgtEl>
                                          <p:spTgt spid="382"/>
                                        </p:tgtEl>
                                        <p:attrNameLst>
                                          <p:attrName>style.visibility</p:attrName>
                                        </p:attrNameLst>
                                      </p:cBhvr>
                                      <p:to>
                                        <p:strVal val="visible"/>
                                      </p:to>
                                    </p:set>
                                    <p:animEffect filter="barn(outVertical)" transition="in">
                                      <p:cBhvr additive="repl">
                                        <p:cTn id="7" dur="500"/>
                                        <p:tgtEl>
                                          <p:spTgt spid="382"/>
                                        </p:tgtEl>
                                      </p:cBhvr>
                                    </p:animEffect>
                                  </p:childTnLst>
                                </p:cTn>
                              </p:par>
                            </p:childTnLst>
                          </p:cTn>
                        </p:par>
                        <p:par>
                          <p:cTn id="8" nodeType="afterEffect" fill="hold">
                            <p:stCondLst>
                              <p:cond delay="500"/>
                            </p:stCondLst>
                            <p:childTnLst>
                              <p:par>
                                <p:cTn id="9" nodeType="afterEffect" fill="hold" presetClass="entr" presetID="53" presetSubtype="16">
                                  <p:stCondLst>
                                    <p:cond delay="0"/>
                                  </p:stCondLst>
                                  <p:childTnLst>
                                    <p:set>
                                      <p:cBhvr>
                                        <p:cTn id="10" dur="1" fill="hold">
                                          <p:stCondLst>
                                            <p:cond delay="0"/>
                                          </p:stCondLst>
                                        </p:cTn>
                                        <p:tgtEl>
                                          <p:spTgt spid="386"/>
                                        </p:tgtEl>
                                        <p:attrNameLst>
                                          <p:attrName>style.visibility</p:attrName>
                                        </p:attrNameLst>
                                      </p:cBhvr>
                                      <p:to>
                                        <p:strVal val="visible"/>
                                      </p:to>
                                    </p:set>
                                    <p:anim calcmode="lin" valueType="num">
                                      <p:cBhvr additive="repl">
                                        <p:cTn id="11" dur="500" fill="hold"/>
                                        <p:tgtEl>
                                          <p:spTgt spid="386"/>
                                        </p:tgtEl>
                                        <p:attrNameLst>
                                          <p:attrName>ppt_w</p:attrName>
                                        </p:attrNameLst>
                                      </p:cBhvr>
                                      <p:tavLst>
                                        <p:tav tm="0">
                                          <p:val>
                                            <p:fltVal val="0"/>
                                          </p:val>
                                        </p:tav>
                                        <p:tav tm="100000">
                                          <p:val>
                                            <p:strVal val="#ppt_w"/>
                                          </p:val>
                                        </p:tav>
                                      </p:tavLst>
                                    </p:anim>
                                    <p:anim calcmode="lin" valueType="num">
                                      <p:cBhvr additive="repl">
                                        <p:cTn id="12" dur="500" fill="hold"/>
                                        <p:tgtEl>
                                          <p:spTgt spid="386"/>
                                        </p:tgtEl>
                                        <p:attrNameLst>
                                          <p:attrName>ppt_h</p:attrName>
                                        </p:attrNameLst>
                                      </p:cBhvr>
                                      <p:tavLst>
                                        <p:tav tm="0">
                                          <p:val>
                                            <p:fltVal val="0"/>
                                          </p:val>
                                        </p:tav>
                                        <p:tav tm="100000">
                                          <p:val>
                                            <p:strVal val="#ppt_h"/>
                                          </p:val>
                                        </p:tav>
                                      </p:tavLst>
                                    </p:anim>
                                    <p:animEffect filter="fade" transition="in">
                                      <p:cBhvr additive="repl">
                                        <p:cTn id="13" dur="500"/>
                                        <p:tgtEl>
                                          <p:spTgt spid="386"/>
                                        </p:tgtEl>
                                      </p:cBhvr>
                                    </p:animEffect>
                                  </p:childTnLst>
                                </p:cTn>
                              </p:par>
                            </p:childTnLst>
                          </p:cTn>
                        </p:par>
                        <p:par>
                          <p:cTn id="14" nodeType="afterEffect" fill="hold">
                            <p:stCondLst>
                              <p:cond delay="1000"/>
                            </p:stCondLst>
                            <p:childTnLst>
                              <p:par>
                                <p:cTn id="15" nodeType="afterEffect" fill="hold" presetClass="entr" presetID="10">
                                  <p:stCondLst>
                                    <p:cond delay="0"/>
                                  </p:stCondLst>
                                  <p:childTnLst>
                                    <p:set>
                                      <p:cBhvr>
                                        <p:cTn id="16" dur="1" fill="hold">
                                          <p:stCondLst>
                                            <p:cond delay="0"/>
                                          </p:stCondLst>
                                        </p:cTn>
                                        <p:tgtEl>
                                          <p:spTgt spid="392"/>
                                        </p:tgtEl>
                                        <p:attrNameLst>
                                          <p:attrName>style.visibility</p:attrName>
                                        </p:attrNameLst>
                                      </p:cBhvr>
                                      <p:to>
                                        <p:strVal val="visible"/>
                                      </p:to>
                                    </p:set>
                                    <p:animEffect filter="fade" transition="in">
                                      <p:cBhvr additive="repl">
                                        <p:cTn id="17" dur="500"/>
                                        <p:tgtEl>
                                          <p:spTgt spid="392"/>
                                        </p:tgtEl>
                                      </p:cBhvr>
                                    </p:animEffect>
                                  </p:childTnLst>
                                </p:cTn>
                              </p:par>
                            </p:childTnLst>
                          </p:cTn>
                        </p:par>
                        <p:par>
                          <p:cTn id="18" nodeType="afterEffect" fill="hold">
                            <p:stCondLst>
                              <p:cond delay="1500"/>
                            </p:stCondLst>
                            <p:childTnLst>
                              <p:par>
                                <p:cTn id="19" nodeType="afterEffect" fill="hold" presetClass="entr" presetID="53" presetSubtype="16">
                                  <p:stCondLst>
                                    <p:cond delay="0"/>
                                  </p:stCondLst>
                                  <p:childTnLst>
                                    <p:set>
                                      <p:cBhvr>
                                        <p:cTn id="20" dur="1" fill="hold">
                                          <p:stCondLst>
                                            <p:cond delay="0"/>
                                          </p:stCondLst>
                                        </p:cTn>
                                        <p:tgtEl>
                                          <p:spTgt spid="383"/>
                                        </p:tgtEl>
                                        <p:attrNameLst>
                                          <p:attrName>style.visibility</p:attrName>
                                        </p:attrNameLst>
                                      </p:cBhvr>
                                      <p:to>
                                        <p:strVal val="visible"/>
                                      </p:to>
                                    </p:set>
                                    <p:anim calcmode="lin" valueType="num">
                                      <p:cBhvr additive="repl">
                                        <p:cTn id="21" dur="500" fill="hold"/>
                                        <p:tgtEl>
                                          <p:spTgt spid="383"/>
                                        </p:tgtEl>
                                        <p:attrNameLst>
                                          <p:attrName>ppt_w</p:attrName>
                                        </p:attrNameLst>
                                      </p:cBhvr>
                                      <p:tavLst>
                                        <p:tav tm="0">
                                          <p:val>
                                            <p:fltVal val="0"/>
                                          </p:val>
                                        </p:tav>
                                        <p:tav tm="100000">
                                          <p:val>
                                            <p:strVal val="#ppt_w"/>
                                          </p:val>
                                        </p:tav>
                                      </p:tavLst>
                                    </p:anim>
                                    <p:anim calcmode="lin" valueType="num">
                                      <p:cBhvr additive="repl">
                                        <p:cTn id="22" dur="500" fill="hold"/>
                                        <p:tgtEl>
                                          <p:spTgt spid="383"/>
                                        </p:tgtEl>
                                        <p:attrNameLst>
                                          <p:attrName>ppt_h</p:attrName>
                                        </p:attrNameLst>
                                      </p:cBhvr>
                                      <p:tavLst>
                                        <p:tav tm="0">
                                          <p:val>
                                            <p:fltVal val="0"/>
                                          </p:val>
                                        </p:tav>
                                        <p:tav tm="100000">
                                          <p:val>
                                            <p:strVal val="#ppt_h"/>
                                          </p:val>
                                        </p:tav>
                                      </p:tavLst>
                                    </p:anim>
                                    <p:animEffect filter="fade" transition="in">
                                      <p:cBhvr additive="repl">
                                        <p:cTn id="23" dur="500"/>
                                        <p:tgtEl>
                                          <p:spTgt spid="383"/>
                                        </p:tgtEl>
                                      </p:cBhvr>
                                    </p:animEffect>
                                  </p:childTnLst>
                                </p:cTn>
                              </p:par>
                            </p:childTnLst>
                          </p:cTn>
                        </p:par>
                        <p:par>
                          <p:cTn id="24" nodeType="afterEffect" fill="hold">
                            <p:stCondLst>
                              <p:cond delay="2000"/>
                            </p:stCondLst>
                            <p:childTnLst>
                              <p:par>
                                <p:cTn id="25" nodeType="afterEffect" fill="hold" presetClass="entr" presetID="10">
                                  <p:stCondLst>
                                    <p:cond delay="0"/>
                                  </p:stCondLst>
                                  <p:childTnLst>
                                    <p:set>
                                      <p:cBhvr>
                                        <p:cTn id="26" dur="1" fill="hold">
                                          <p:stCondLst>
                                            <p:cond delay="0"/>
                                          </p:stCondLst>
                                        </p:cTn>
                                        <p:tgtEl>
                                          <p:spTgt spid="393"/>
                                        </p:tgtEl>
                                        <p:attrNameLst>
                                          <p:attrName>style.visibility</p:attrName>
                                        </p:attrNameLst>
                                      </p:cBhvr>
                                      <p:to>
                                        <p:strVal val="visible"/>
                                      </p:to>
                                    </p:set>
                                    <p:animEffect filter="fade" transition="in">
                                      <p:cBhvr additive="repl">
                                        <p:cTn id="27" dur="500"/>
                                        <p:tgtEl>
                                          <p:spTgt spid="393"/>
                                        </p:tgtEl>
                                      </p:cBhvr>
                                    </p:animEffect>
                                  </p:childTnLst>
                                </p:cTn>
                              </p:par>
                            </p:childTnLst>
                          </p:cTn>
                        </p:par>
                        <p:par>
                          <p:cTn id="28" nodeType="afterEffect" fill="hold">
                            <p:stCondLst>
                              <p:cond delay="2500"/>
                            </p:stCondLst>
                            <p:childTnLst>
                              <p:par>
                                <p:cTn id="29" nodeType="afterEffect" fill="hold" presetClass="entr" presetID="53" presetSubtype="16">
                                  <p:stCondLst>
                                    <p:cond delay="0"/>
                                  </p:stCondLst>
                                  <p:childTnLst>
                                    <p:set>
                                      <p:cBhvr>
                                        <p:cTn id="30" dur="1" fill="hold">
                                          <p:stCondLst>
                                            <p:cond delay="0"/>
                                          </p:stCondLst>
                                        </p:cTn>
                                        <p:tgtEl>
                                          <p:spTgt spid="389"/>
                                        </p:tgtEl>
                                        <p:attrNameLst>
                                          <p:attrName>style.visibility</p:attrName>
                                        </p:attrNameLst>
                                      </p:cBhvr>
                                      <p:to>
                                        <p:strVal val="visible"/>
                                      </p:to>
                                    </p:set>
                                    <p:anim calcmode="lin" valueType="num">
                                      <p:cBhvr additive="repl">
                                        <p:cTn id="31" dur="500" fill="hold"/>
                                        <p:tgtEl>
                                          <p:spTgt spid="389"/>
                                        </p:tgtEl>
                                        <p:attrNameLst>
                                          <p:attrName>ppt_w</p:attrName>
                                        </p:attrNameLst>
                                      </p:cBhvr>
                                      <p:tavLst>
                                        <p:tav tm="0">
                                          <p:val>
                                            <p:fltVal val="0"/>
                                          </p:val>
                                        </p:tav>
                                        <p:tav tm="100000">
                                          <p:val>
                                            <p:strVal val="#ppt_w"/>
                                          </p:val>
                                        </p:tav>
                                      </p:tavLst>
                                    </p:anim>
                                    <p:anim calcmode="lin" valueType="num">
                                      <p:cBhvr additive="repl">
                                        <p:cTn id="32" dur="500" fill="hold"/>
                                        <p:tgtEl>
                                          <p:spTgt spid="389"/>
                                        </p:tgtEl>
                                        <p:attrNameLst>
                                          <p:attrName>ppt_h</p:attrName>
                                        </p:attrNameLst>
                                      </p:cBhvr>
                                      <p:tavLst>
                                        <p:tav tm="0">
                                          <p:val>
                                            <p:fltVal val="0"/>
                                          </p:val>
                                        </p:tav>
                                        <p:tav tm="100000">
                                          <p:val>
                                            <p:strVal val="#ppt_h"/>
                                          </p:val>
                                        </p:tav>
                                      </p:tavLst>
                                    </p:anim>
                                    <p:animEffect filter="fade" transition="in">
                                      <p:cBhvr additive="repl">
                                        <p:cTn id="33" dur="500"/>
                                        <p:tgtEl>
                                          <p:spTgt spid="389"/>
                                        </p:tgtEl>
                                      </p:cBhvr>
                                    </p:animEffect>
                                  </p:childTnLst>
                                </p:cTn>
                              </p:par>
                            </p:childTnLst>
                          </p:cTn>
                        </p:par>
                        <p:par>
                          <p:cTn id="34" nodeType="afterEffect" fill="hold">
                            <p:stCondLst>
                              <p:cond delay="3000"/>
                            </p:stCondLst>
                            <p:childTnLst>
                              <p:par>
                                <p:cTn id="35" nodeType="afterEffect" fill="hold" presetClass="entr" presetID="10">
                                  <p:stCondLst>
                                    <p:cond delay="0"/>
                                  </p:stCondLst>
                                  <p:childTnLst>
                                    <p:set>
                                      <p:cBhvr>
                                        <p:cTn id="36" dur="1" fill="hold">
                                          <p:stCondLst>
                                            <p:cond delay="0"/>
                                          </p:stCondLst>
                                        </p:cTn>
                                        <p:tgtEl>
                                          <p:spTgt spid="394"/>
                                        </p:tgtEl>
                                        <p:attrNameLst>
                                          <p:attrName>style.visibility</p:attrName>
                                        </p:attrNameLst>
                                      </p:cBhvr>
                                      <p:to>
                                        <p:strVal val="visible"/>
                                      </p:to>
                                    </p:set>
                                    <p:animEffect filter="fade" transition="in">
                                      <p:cBhvr additive="repl">
                                        <p:cTn id="37"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图片 1" descr=""/>
          <p:cNvPicPr/>
          <p:nvPr/>
        </p:nvPicPr>
        <p:blipFill>
          <a:blip r:embed="rId1"/>
          <a:stretch/>
        </p:blipFill>
        <p:spPr>
          <a:xfrm>
            <a:off x="8610480" y="0"/>
            <a:ext cx="3581640" cy="1006560"/>
          </a:xfrm>
          <a:prstGeom prst="rect">
            <a:avLst/>
          </a:prstGeom>
          <a:ln w="0">
            <a:noFill/>
          </a:ln>
        </p:spPr>
      </p:pic>
      <p:sp>
        <p:nvSpPr>
          <p:cNvPr id="399"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三部分标题</a:t>
            </a:r>
            <a:endParaRPr b="0" lang="en-US" sz="2800" spc="-1" strike="noStrike">
              <a:solidFill>
                <a:srgbClr val="000000"/>
              </a:solidFill>
              <a:latin typeface="Arial"/>
            </a:endParaRPr>
          </a:p>
        </p:txBody>
      </p:sp>
      <p:pic>
        <p:nvPicPr>
          <p:cNvPr id="400" name="直接连接符 3" descr=""/>
          <p:cNvPicPr/>
          <p:nvPr/>
        </p:nvPicPr>
        <p:blipFill>
          <a:blip r:embed="rId2"/>
          <a:stretch/>
        </p:blipFill>
        <p:spPr>
          <a:xfrm>
            <a:off x="0" y="798480"/>
            <a:ext cx="11192040" cy="23760"/>
          </a:xfrm>
          <a:prstGeom prst="rect">
            <a:avLst/>
          </a:prstGeom>
          <a:ln w="0">
            <a:noFill/>
          </a:ln>
        </p:spPr>
      </p:pic>
      <p:sp>
        <p:nvSpPr>
          <p:cNvPr id="401"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2" name="组合 5"/>
          <p:cNvGrpSpPr/>
          <p:nvPr/>
        </p:nvGrpSpPr>
        <p:grpSpPr>
          <a:xfrm>
            <a:off x="233280" y="125280"/>
            <a:ext cx="635040" cy="635040"/>
            <a:chOff x="233280" y="125280"/>
            <a:chExt cx="635040" cy="635040"/>
          </a:xfrm>
        </p:grpSpPr>
        <p:sp>
          <p:nvSpPr>
            <p:cNvPr id="403" name="椭圆 6"/>
            <p:cNvSpPr/>
            <p:nvPr/>
          </p:nvSpPr>
          <p:spPr>
            <a:xfrm>
              <a:off x="233280" y="125280"/>
              <a:ext cx="635040" cy="63504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椭圆 7"/>
            <p:cNvSpPr/>
            <p:nvPr/>
          </p:nvSpPr>
          <p:spPr>
            <a:xfrm>
              <a:off x="276120" y="164880"/>
              <a:ext cx="549360" cy="54936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KSO_Shape"/>
            <p:cNvSpPr/>
            <p:nvPr/>
          </p:nvSpPr>
          <p:spPr>
            <a:xfrm>
              <a:off x="335520" y="308520"/>
              <a:ext cx="430560" cy="261720"/>
            </a:xfrm>
            <a:custGeom>
              <a:avLst/>
              <a:gdLst/>
              <a:ahLst/>
              <a:rect l="l" t="t" r="r" b="b"/>
              <a:pathLst>
                <a:path w="3931" h="2392">
                  <a:moveTo>
                    <a:pt x="3046" y="1287"/>
                  </a:moveTo>
                  <a:cubicBezTo>
                    <a:pt x="3046" y="1287"/>
                    <a:pt x="2618" y="850"/>
                    <a:pt x="2027" y="850"/>
                  </a:cubicBezTo>
                  <a:cubicBezTo>
                    <a:pt x="1450" y="850"/>
                    <a:pt x="880" y="1287"/>
                    <a:pt x="880" y="1287"/>
                  </a:cubicBezTo>
                  <a:cubicBezTo>
                    <a:pt x="560" y="1154"/>
                    <a:pt x="560" y="1154"/>
                    <a:pt x="560" y="1154"/>
                  </a:cubicBezTo>
                  <a:cubicBezTo>
                    <a:pt x="560" y="1546"/>
                    <a:pt x="560" y="1546"/>
                    <a:pt x="560" y="1546"/>
                  </a:cubicBezTo>
                  <a:cubicBezTo>
                    <a:pt x="610" y="1563"/>
                    <a:pt x="647" y="1610"/>
                    <a:pt x="647" y="1666"/>
                  </a:cubicBezTo>
                  <a:cubicBezTo>
                    <a:pt x="647" y="1723"/>
                    <a:pt x="609" y="1769"/>
                    <a:pt x="558" y="1786"/>
                  </a:cubicBezTo>
                  <a:cubicBezTo>
                    <a:pt x="653" y="2208"/>
                    <a:pt x="653" y="2208"/>
                    <a:pt x="653" y="2208"/>
                  </a:cubicBezTo>
                  <a:cubicBezTo>
                    <a:pt x="373" y="2208"/>
                    <a:pt x="373" y="2208"/>
                    <a:pt x="373" y="2208"/>
                  </a:cubicBezTo>
                  <a:cubicBezTo>
                    <a:pt x="469" y="1784"/>
                    <a:pt x="469" y="1784"/>
                    <a:pt x="469" y="1784"/>
                  </a:cubicBezTo>
                  <a:cubicBezTo>
                    <a:pt x="423" y="1764"/>
                    <a:pt x="391" y="1719"/>
                    <a:pt x="391" y="1666"/>
                  </a:cubicBezTo>
                  <a:cubicBezTo>
                    <a:pt x="391" y="1614"/>
                    <a:pt x="422" y="1570"/>
                    <a:pt x="466" y="1549"/>
                  </a:cubicBezTo>
                  <a:cubicBezTo>
                    <a:pt x="466" y="1115"/>
                    <a:pt x="466" y="1115"/>
                    <a:pt x="466" y="1115"/>
                  </a:cubicBezTo>
                  <a:cubicBezTo>
                    <a:pt x="0" y="920"/>
                    <a:pt x="0" y="920"/>
                    <a:pt x="0" y="920"/>
                  </a:cubicBezTo>
                  <a:cubicBezTo>
                    <a:pt x="2050" y="0"/>
                    <a:pt x="2050" y="0"/>
                    <a:pt x="2050" y="0"/>
                  </a:cubicBezTo>
                  <a:cubicBezTo>
                    <a:pt x="3931" y="932"/>
                    <a:pt x="3931" y="932"/>
                    <a:pt x="3931" y="932"/>
                  </a:cubicBezTo>
                  <a:lnTo>
                    <a:pt x="3046" y="1287"/>
                  </a:lnTo>
                  <a:close/>
                  <a:moveTo>
                    <a:pt x="2004" y="1072"/>
                  </a:moveTo>
                  <a:cubicBezTo>
                    <a:pt x="2598" y="1072"/>
                    <a:pt x="2929" y="1386"/>
                    <a:pt x="2929" y="1386"/>
                  </a:cubicBezTo>
                  <a:cubicBezTo>
                    <a:pt x="2929" y="2147"/>
                    <a:pt x="2929" y="2147"/>
                    <a:pt x="2929" y="2147"/>
                  </a:cubicBezTo>
                  <a:cubicBezTo>
                    <a:pt x="2929" y="2147"/>
                    <a:pt x="2586" y="2392"/>
                    <a:pt x="1957" y="2392"/>
                  </a:cubicBezTo>
                  <a:cubicBezTo>
                    <a:pt x="1328" y="2392"/>
                    <a:pt x="1099" y="2147"/>
                    <a:pt x="1099" y="2147"/>
                  </a:cubicBezTo>
                  <a:cubicBezTo>
                    <a:pt x="1099" y="1386"/>
                    <a:pt x="1099" y="1386"/>
                    <a:pt x="1099" y="1386"/>
                  </a:cubicBezTo>
                  <a:cubicBezTo>
                    <a:pt x="1099" y="1386"/>
                    <a:pt x="1410" y="1072"/>
                    <a:pt x="2004" y="1072"/>
                  </a:cubicBezTo>
                  <a:close/>
                  <a:moveTo>
                    <a:pt x="1992" y="2252"/>
                  </a:moveTo>
                  <a:cubicBezTo>
                    <a:pt x="2404" y="2252"/>
                    <a:pt x="2738" y="2168"/>
                    <a:pt x="2738" y="2066"/>
                  </a:cubicBezTo>
                  <a:cubicBezTo>
                    <a:pt x="2738" y="1963"/>
                    <a:pt x="2404" y="1879"/>
                    <a:pt x="1992" y="1879"/>
                  </a:cubicBezTo>
                  <a:cubicBezTo>
                    <a:pt x="1581" y="1879"/>
                    <a:pt x="1247" y="1963"/>
                    <a:pt x="1247" y="2066"/>
                  </a:cubicBezTo>
                  <a:cubicBezTo>
                    <a:pt x="1247" y="2168"/>
                    <a:pt x="1581" y="2252"/>
                    <a:pt x="1992" y="2252"/>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sp>
        <p:nvSpPr>
          <p:cNvPr id="406" name="Straight Connector 3"/>
          <p:cNvSpPr/>
          <p:nvPr/>
        </p:nvSpPr>
        <p:spPr>
          <a:xfrm>
            <a:off x="1903320" y="2503440"/>
            <a:ext cx="601920" cy="598680"/>
          </a:xfrm>
          <a:prstGeom prst="line">
            <a:avLst/>
          </a:prstGeom>
          <a:ln cap="rnd" w="9360">
            <a:solidFill>
              <a:srgbClr val="0d0d0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Straight Connector 5"/>
          <p:cNvSpPr/>
          <p:nvPr/>
        </p:nvSpPr>
        <p:spPr>
          <a:xfrm flipH="1">
            <a:off x="1523880" y="4051440"/>
            <a:ext cx="981360" cy="693720"/>
          </a:xfrm>
          <a:prstGeom prst="line">
            <a:avLst/>
          </a:prstGeom>
          <a:ln cap="rnd" w="9360">
            <a:solidFill>
              <a:srgbClr val="0d0d0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Straight Connector 8"/>
          <p:cNvSpPr/>
          <p:nvPr/>
        </p:nvSpPr>
        <p:spPr>
          <a:xfrm>
            <a:off x="3456000" y="4051440"/>
            <a:ext cx="241200" cy="242640"/>
          </a:xfrm>
          <a:prstGeom prst="line">
            <a:avLst/>
          </a:prstGeom>
          <a:ln cap="rnd" w="9360">
            <a:solidFill>
              <a:srgbClr val="0d0d0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Straight Connector 11"/>
          <p:cNvSpPr/>
          <p:nvPr/>
        </p:nvSpPr>
        <p:spPr>
          <a:xfrm flipV="1">
            <a:off x="3456000" y="2832120"/>
            <a:ext cx="1073160" cy="270000"/>
          </a:xfrm>
          <a:prstGeom prst="line">
            <a:avLst/>
          </a:prstGeom>
          <a:ln cap="rnd" w="9360">
            <a:solidFill>
              <a:srgbClr val="0d0d0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Straight Connector 20"/>
          <p:cNvSpPr/>
          <p:nvPr/>
        </p:nvSpPr>
        <p:spPr>
          <a:xfrm>
            <a:off x="5153040" y="2832120"/>
            <a:ext cx="984240" cy="528480"/>
          </a:xfrm>
          <a:prstGeom prst="line">
            <a:avLst/>
          </a:prstGeom>
          <a:ln cap="rnd" w="9360">
            <a:solidFill>
              <a:srgbClr val="0d0d0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Straight Connector 35"/>
          <p:cNvSpPr/>
          <p:nvPr/>
        </p:nvSpPr>
        <p:spPr>
          <a:xfrm flipV="1">
            <a:off x="4516560" y="4370400"/>
            <a:ext cx="799920" cy="262080"/>
          </a:xfrm>
          <a:prstGeom prst="line">
            <a:avLst/>
          </a:prstGeom>
          <a:ln cap="rnd" w="9360">
            <a:solidFill>
              <a:srgbClr val="0d0d0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Oval 30"/>
          <p:cNvSpPr/>
          <p:nvPr/>
        </p:nvSpPr>
        <p:spPr>
          <a:xfrm>
            <a:off x="5316480" y="4130640"/>
            <a:ext cx="479520" cy="47952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Oval 33"/>
          <p:cNvSpPr/>
          <p:nvPr/>
        </p:nvSpPr>
        <p:spPr>
          <a:xfrm>
            <a:off x="5967360" y="3192480"/>
            <a:ext cx="1152720" cy="1150920"/>
          </a:xfrm>
          <a:prstGeom prst="ellipse">
            <a:avLst/>
          </a:prstGeom>
          <a:solidFill>
            <a:srgbClr val="7db1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Freeform 6"/>
          <p:cNvSpPr/>
          <p:nvPr/>
        </p:nvSpPr>
        <p:spPr>
          <a:xfrm>
            <a:off x="6310440" y="3533760"/>
            <a:ext cx="468360" cy="468360"/>
          </a:xfrm>
          <a:custGeom>
            <a:avLst/>
            <a:gdLst/>
            <a:ahLst/>
            <a:rect l="l" t="t" r="r" b="b"/>
            <a:pathLst>
              <a:path w="360" h="360">
                <a:moveTo>
                  <a:pt x="60" y="320"/>
                </a:moveTo>
                <a:cubicBezTo>
                  <a:pt x="60" y="342"/>
                  <a:pt x="78" y="360"/>
                  <a:pt x="100" y="360"/>
                </a:cubicBezTo>
                <a:cubicBezTo>
                  <a:pt x="122" y="360"/>
                  <a:pt x="140" y="342"/>
                  <a:pt x="140" y="320"/>
                </a:cubicBezTo>
                <a:cubicBezTo>
                  <a:pt x="140" y="298"/>
                  <a:pt x="122" y="280"/>
                  <a:pt x="100" y="280"/>
                </a:cubicBezTo>
                <a:cubicBezTo>
                  <a:pt x="78" y="280"/>
                  <a:pt x="60" y="298"/>
                  <a:pt x="60" y="320"/>
                </a:cubicBezTo>
                <a:close/>
                <a:moveTo>
                  <a:pt x="260" y="320"/>
                </a:moveTo>
                <a:cubicBezTo>
                  <a:pt x="260" y="342"/>
                  <a:pt x="278" y="360"/>
                  <a:pt x="300" y="360"/>
                </a:cubicBezTo>
                <a:cubicBezTo>
                  <a:pt x="322" y="360"/>
                  <a:pt x="340" y="342"/>
                  <a:pt x="340" y="320"/>
                </a:cubicBezTo>
                <a:cubicBezTo>
                  <a:pt x="340" y="298"/>
                  <a:pt x="322" y="280"/>
                  <a:pt x="300" y="280"/>
                </a:cubicBezTo>
                <a:cubicBezTo>
                  <a:pt x="278" y="280"/>
                  <a:pt x="260" y="298"/>
                  <a:pt x="260" y="320"/>
                </a:cubicBezTo>
                <a:close/>
                <a:moveTo>
                  <a:pt x="131" y="225"/>
                </a:moveTo>
                <a:cubicBezTo>
                  <a:pt x="352" y="162"/>
                  <a:pt x="352" y="162"/>
                  <a:pt x="352" y="162"/>
                </a:cubicBezTo>
                <a:cubicBezTo>
                  <a:pt x="356" y="161"/>
                  <a:pt x="360" y="156"/>
                  <a:pt x="360" y="152"/>
                </a:cubicBezTo>
                <a:cubicBezTo>
                  <a:pt x="360" y="42"/>
                  <a:pt x="360" y="42"/>
                  <a:pt x="360" y="42"/>
                </a:cubicBezTo>
                <a:cubicBezTo>
                  <a:pt x="78" y="42"/>
                  <a:pt x="78" y="42"/>
                  <a:pt x="78" y="42"/>
                </a:cubicBezTo>
                <a:cubicBezTo>
                  <a:pt x="78" y="8"/>
                  <a:pt x="78" y="8"/>
                  <a:pt x="78" y="8"/>
                </a:cubicBezTo>
                <a:cubicBezTo>
                  <a:pt x="78" y="3"/>
                  <a:pt x="74" y="0"/>
                  <a:pt x="70" y="0"/>
                </a:cubicBezTo>
                <a:cubicBezTo>
                  <a:pt x="8" y="0"/>
                  <a:pt x="8" y="0"/>
                  <a:pt x="8" y="0"/>
                </a:cubicBezTo>
                <a:cubicBezTo>
                  <a:pt x="3" y="0"/>
                  <a:pt x="0" y="3"/>
                  <a:pt x="0" y="8"/>
                </a:cubicBezTo>
                <a:cubicBezTo>
                  <a:pt x="0" y="40"/>
                  <a:pt x="0" y="40"/>
                  <a:pt x="0" y="40"/>
                </a:cubicBezTo>
                <a:cubicBezTo>
                  <a:pt x="39" y="40"/>
                  <a:pt x="39" y="40"/>
                  <a:pt x="39" y="40"/>
                </a:cubicBezTo>
                <a:cubicBezTo>
                  <a:pt x="78" y="221"/>
                  <a:pt x="78" y="221"/>
                  <a:pt x="78" y="221"/>
                </a:cubicBezTo>
                <a:cubicBezTo>
                  <a:pt x="82" y="240"/>
                  <a:pt x="82" y="240"/>
                  <a:pt x="82" y="240"/>
                </a:cubicBezTo>
                <a:cubicBezTo>
                  <a:pt x="82" y="270"/>
                  <a:pt x="82" y="270"/>
                  <a:pt x="82" y="270"/>
                </a:cubicBezTo>
                <a:cubicBezTo>
                  <a:pt x="82" y="274"/>
                  <a:pt x="85" y="278"/>
                  <a:pt x="90" y="278"/>
                </a:cubicBezTo>
                <a:cubicBezTo>
                  <a:pt x="100" y="278"/>
                  <a:pt x="100" y="278"/>
                  <a:pt x="100" y="278"/>
                </a:cubicBezTo>
                <a:cubicBezTo>
                  <a:pt x="300" y="278"/>
                  <a:pt x="300" y="278"/>
                  <a:pt x="300" y="278"/>
                </a:cubicBezTo>
                <a:cubicBezTo>
                  <a:pt x="352" y="278"/>
                  <a:pt x="352" y="278"/>
                  <a:pt x="352" y="278"/>
                </a:cubicBezTo>
                <a:cubicBezTo>
                  <a:pt x="356" y="278"/>
                  <a:pt x="360" y="274"/>
                  <a:pt x="360" y="270"/>
                </a:cubicBezTo>
                <a:cubicBezTo>
                  <a:pt x="360" y="240"/>
                  <a:pt x="360" y="240"/>
                  <a:pt x="360" y="240"/>
                </a:cubicBezTo>
                <a:cubicBezTo>
                  <a:pt x="135" y="240"/>
                  <a:pt x="135" y="240"/>
                  <a:pt x="135" y="240"/>
                </a:cubicBezTo>
                <a:cubicBezTo>
                  <a:pt x="112" y="240"/>
                  <a:pt x="111" y="231"/>
                  <a:pt x="131" y="22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415" name="Oval 22"/>
          <p:cNvSpPr/>
          <p:nvPr/>
        </p:nvSpPr>
        <p:spPr>
          <a:xfrm>
            <a:off x="2308320" y="2905200"/>
            <a:ext cx="1344600" cy="1342800"/>
          </a:xfrm>
          <a:prstGeom prst="ellipse">
            <a:avLst/>
          </a:prstGeom>
          <a:solidFill>
            <a:srgbClr val="7db1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Freeform 11"/>
          <p:cNvSpPr/>
          <p:nvPr/>
        </p:nvSpPr>
        <p:spPr>
          <a:xfrm>
            <a:off x="2577960" y="3192480"/>
            <a:ext cx="803520" cy="709560"/>
          </a:xfrm>
          <a:custGeom>
            <a:avLst/>
            <a:gdLst/>
            <a:ahLst/>
            <a:rect l="l" t="t" r="r" b="b"/>
            <a:pathLst>
              <a:path w="367" h="324">
                <a:moveTo>
                  <a:pt x="359" y="169"/>
                </a:moveTo>
                <a:cubicBezTo>
                  <a:pt x="199" y="8"/>
                  <a:pt x="199" y="8"/>
                  <a:pt x="199" y="8"/>
                </a:cubicBezTo>
                <a:cubicBezTo>
                  <a:pt x="190" y="0"/>
                  <a:pt x="177" y="0"/>
                  <a:pt x="169" y="8"/>
                </a:cubicBezTo>
                <a:cubicBezTo>
                  <a:pt x="8" y="169"/>
                  <a:pt x="8" y="169"/>
                  <a:pt x="8" y="169"/>
                </a:cubicBezTo>
                <a:cubicBezTo>
                  <a:pt x="0" y="177"/>
                  <a:pt x="3" y="184"/>
                  <a:pt x="15" y="184"/>
                </a:cubicBezTo>
                <a:cubicBezTo>
                  <a:pt x="49" y="184"/>
                  <a:pt x="49" y="184"/>
                  <a:pt x="49" y="184"/>
                </a:cubicBezTo>
                <a:cubicBezTo>
                  <a:pt x="49" y="308"/>
                  <a:pt x="49" y="308"/>
                  <a:pt x="49" y="308"/>
                </a:cubicBezTo>
                <a:cubicBezTo>
                  <a:pt x="49" y="317"/>
                  <a:pt x="49" y="324"/>
                  <a:pt x="65" y="324"/>
                </a:cubicBezTo>
                <a:cubicBezTo>
                  <a:pt x="143" y="324"/>
                  <a:pt x="143" y="324"/>
                  <a:pt x="143" y="324"/>
                </a:cubicBezTo>
                <a:cubicBezTo>
                  <a:pt x="143" y="200"/>
                  <a:pt x="143" y="200"/>
                  <a:pt x="143" y="200"/>
                </a:cubicBezTo>
                <a:cubicBezTo>
                  <a:pt x="225" y="200"/>
                  <a:pt x="225" y="200"/>
                  <a:pt x="225" y="200"/>
                </a:cubicBezTo>
                <a:cubicBezTo>
                  <a:pt x="225" y="324"/>
                  <a:pt x="225" y="324"/>
                  <a:pt x="225" y="324"/>
                </a:cubicBezTo>
                <a:cubicBezTo>
                  <a:pt x="306" y="324"/>
                  <a:pt x="306" y="324"/>
                  <a:pt x="306" y="324"/>
                </a:cubicBezTo>
                <a:cubicBezTo>
                  <a:pt x="319" y="324"/>
                  <a:pt x="319" y="317"/>
                  <a:pt x="319" y="308"/>
                </a:cubicBezTo>
                <a:cubicBezTo>
                  <a:pt x="319" y="184"/>
                  <a:pt x="319" y="184"/>
                  <a:pt x="319" y="184"/>
                </a:cubicBezTo>
                <a:cubicBezTo>
                  <a:pt x="352" y="184"/>
                  <a:pt x="352" y="184"/>
                  <a:pt x="352" y="184"/>
                </a:cubicBezTo>
                <a:cubicBezTo>
                  <a:pt x="364" y="184"/>
                  <a:pt x="367" y="177"/>
                  <a:pt x="359" y="16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417" name="Oval 29"/>
          <p:cNvSpPr/>
          <p:nvPr/>
        </p:nvSpPr>
        <p:spPr>
          <a:xfrm>
            <a:off x="3556080" y="4152960"/>
            <a:ext cx="960480" cy="96048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Freeform 16"/>
          <p:cNvSpPr/>
          <p:nvPr/>
        </p:nvSpPr>
        <p:spPr>
          <a:xfrm>
            <a:off x="3906720" y="4432320"/>
            <a:ext cx="243000" cy="409680"/>
          </a:xfrm>
          <a:custGeom>
            <a:avLst/>
            <a:gdLst/>
            <a:ahLst/>
            <a:rect l="l" t="t" r="r" b="b"/>
            <a:pathLst>
              <a:path w="232" h="392">
                <a:moveTo>
                  <a:pt x="192" y="0"/>
                </a:moveTo>
                <a:cubicBezTo>
                  <a:pt x="40" y="0"/>
                  <a:pt x="40" y="0"/>
                  <a:pt x="40" y="0"/>
                </a:cubicBezTo>
                <a:cubicBezTo>
                  <a:pt x="18" y="0"/>
                  <a:pt x="0" y="18"/>
                  <a:pt x="0" y="40"/>
                </a:cubicBezTo>
                <a:cubicBezTo>
                  <a:pt x="0" y="352"/>
                  <a:pt x="0" y="352"/>
                  <a:pt x="0" y="352"/>
                </a:cubicBezTo>
                <a:cubicBezTo>
                  <a:pt x="0" y="374"/>
                  <a:pt x="18" y="392"/>
                  <a:pt x="40" y="392"/>
                </a:cubicBezTo>
                <a:cubicBezTo>
                  <a:pt x="192" y="392"/>
                  <a:pt x="192" y="392"/>
                  <a:pt x="192" y="392"/>
                </a:cubicBezTo>
                <a:cubicBezTo>
                  <a:pt x="214" y="392"/>
                  <a:pt x="232" y="374"/>
                  <a:pt x="232" y="352"/>
                </a:cubicBezTo>
                <a:cubicBezTo>
                  <a:pt x="232" y="40"/>
                  <a:pt x="232" y="40"/>
                  <a:pt x="232" y="40"/>
                </a:cubicBezTo>
                <a:cubicBezTo>
                  <a:pt x="232" y="18"/>
                  <a:pt x="214" y="0"/>
                  <a:pt x="192" y="0"/>
                </a:cubicBezTo>
                <a:close/>
                <a:moveTo>
                  <a:pt x="116" y="376"/>
                </a:moveTo>
                <a:cubicBezTo>
                  <a:pt x="101" y="376"/>
                  <a:pt x="88" y="367"/>
                  <a:pt x="88" y="356"/>
                </a:cubicBezTo>
                <a:cubicBezTo>
                  <a:pt x="88" y="345"/>
                  <a:pt x="101" y="336"/>
                  <a:pt x="116" y="336"/>
                </a:cubicBezTo>
                <a:cubicBezTo>
                  <a:pt x="131" y="336"/>
                  <a:pt x="144" y="345"/>
                  <a:pt x="144" y="356"/>
                </a:cubicBezTo>
                <a:cubicBezTo>
                  <a:pt x="144" y="367"/>
                  <a:pt x="131" y="376"/>
                  <a:pt x="116" y="376"/>
                </a:cubicBezTo>
                <a:close/>
                <a:moveTo>
                  <a:pt x="200" y="316"/>
                </a:moveTo>
                <a:cubicBezTo>
                  <a:pt x="32" y="316"/>
                  <a:pt x="32" y="316"/>
                  <a:pt x="32" y="316"/>
                </a:cubicBezTo>
                <a:cubicBezTo>
                  <a:pt x="32" y="52"/>
                  <a:pt x="32" y="52"/>
                  <a:pt x="32" y="52"/>
                </a:cubicBezTo>
                <a:cubicBezTo>
                  <a:pt x="200" y="52"/>
                  <a:pt x="200" y="52"/>
                  <a:pt x="200" y="52"/>
                </a:cubicBezTo>
                <a:lnTo>
                  <a:pt x="200" y="316"/>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419" name="Oval 23"/>
          <p:cNvSpPr/>
          <p:nvPr/>
        </p:nvSpPr>
        <p:spPr>
          <a:xfrm>
            <a:off x="1247760" y="1847880"/>
            <a:ext cx="768240" cy="76824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Freeform 21"/>
          <p:cNvSpPr/>
          <p:nvPr/>
        </p:nvSpPr>
        <p:spPr>
          <a:xfrm>
            <a:off x="1440000" y="2039760"/>
            <a:ext cx="384120" cy="262080"/>
          </a:xfrm>
          <a:custGeom>
            <a:avLst/>
            <a:gdLst/>
            <a:ahLst/>
            <a:rect l="l" t="t" r="r" b="b"/>
            <a:pathLst>
              <a:path w="400" h="271">
                <a:moveTo>
                  <a:pt x="162" y="206"/>
                </a:moveTo>
                <a:cubicBezTo>
                  <a:pt x="149" y="230"/>
                  <a:pt x="158" y="249"/>
                  <a:pt x="177" y="260"/>
                </a:cubicBezTo>
                <a:cubicBezTo>
                  <a:pt x="196" y="271"/>
                  <a:pt x="218" y="270"/>
                  <a:pt x="232" y="246"/>
                </a:cubicBezTo>
                <a:cubicBezTo>
                  <a:pt x="245" y="222"/>
                  <a:pt x="333" y="8"/>
                  <a:pt x="325" y="4"/>
                </a:cubicBezTo>
                <a:cubicBezTo>
                  <a:pt x="317" y="0"/>
                  <a:pt x="176" y="182"/>
                  <a:pt x="162" y="206"/>
                </a:cubicBezTo>
                <a:close/>
                <a:moveTo>
                  <a:pt x="200" y="54"/>
                </a:moveTo>
                <a:cubicBezTo>
                  <a:pt x="209" y="54"/>
                  <a:pt x="217" y="55"/>
                  <a:pt x="225" y="56"/>
                </a:cubicBezTo>
                <a:cubicBezTo>
                  <a:pt x="234" y="45"/>
                  <a:pt x="244" y="33"/>
                  <a:pt x="254" y="21"/>
                </a:cubicBezTo>
                <a:cubicBezTo>
                  <a:pt x="236" y="16"/>
                  <a:pt x="218" y="14"/>
                  <a:pt x="200" y="14"/>
                </a:cubicBezTo>
                <a:cubicBezTo>
                  <a:pt x="88" y="14"/>
                  <a:pt x="0" y="108"/>
                  <a:pt x="0" y="229"/>
                </a:cubicBezTo>
                <a:cubicBezTo>
                  <a:pt x="0" y="236"/>
                  <a:pt x="0" y="244"/>
                  <a:pt x="1" y="251"/>
                </a:cubicBezTo>
                <a:cubicBezTo>
                  <a:pt x="2" y="262"/>
                  <a:pt x="12" y="270"/>
                  <a:pt x="22" y="269"/>
                </a:cubicBezTo>
                <a:cubicBezTo>
                  <a:pt x="33" y="268"/>
                  <a:pt x="42" y="259"/>
                  <a:pt x="41" y="248"/>
                </a:cubicBezTo>
                <a:cubicBezTo>
                  <a:pt x="40" y="242"/>
                  <a:pt x="40" y="235"/>
                  <a:pt x="40" y="229"/>
                </a:cubicBezTo>
                <a:cubicBezTo>
                  <a:pt x="40" y="131"/>
                  <a:pt x="110" y="54"/>
                  <a:pt x="200" y="54"/>
                </a:cubicBezTo>
                <a:close/>
                <a:moveTo>
                  <a:pt x="344" y="79"/>
                </a:moveTo>
                <a:cubicBezTo>
                  <a:pt x="339" y="94"/>
                  <a:pt x="333" y="109"/>
                  <a:pt x="327" y="122"/>
                </a:cubicBezTo>
                <a:cubicBezTo>
                  <a:pt x="348" y="152"/>
                  <a:pt x="360" y="189"/>
                  <a:pt x="360" y="229"/>
                </a:cubicBezTo>
                <a:cubicBezTo>
                  <a:pt x="360" y="235"/>
                  <a:pt x="359" y="242"/>
                  <a:pt x="359" y="248"/>
                </a:cubicBezTo>
                <a:cubicBezTo>
                  <a:pt x="358" y="259"/>
                  <a:pt x="366" y="269"/>
                  <a:pt x="377" y="270"/>
                </a:cubicBezTo>
                <a:cubicBezTo>
                  <a:pt x="378" y="270"/>
                  <a:pt x="378" y="270"/>
                  <a:pt x="379" y="270"/>
                </a:cubicBezTo>
                <a:cubicBezTo>
                  <a:pt x="389" y="270"/>
                  <a:pt x="398" y="262"/>
                  <a:pt x="399" y="252"/>
                </a:cubicBezTo>
                <a:cubicBezTo>
                  <a:pt x="399" y="244"/>
                  <a:pt x="400" y="237"/>
                  <a:pt x="400" y="229"/>
                </a:cubicBezTo>
                <a:cubicBezTo>
                  <a:pt x="400" y="170"/>
                  <a:pt x="379" y="117"/>
                  <a:pt x="344" y="7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421" name="Oval 32"/>
          <p:cNvSpPr/>
          <p:nvPr/>
        </p:nvSpPr>
        <p:spPr>
          <a:xfrm>
            <a:off x="4529160" y="2521080"/>
            <a:ext cx="623880" cy="62388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Freeform 26"/>
          <p:cNvSpPr/>
          <p:nvPr/>
        </p:nvSpPr>
        <p:spPr>
          <a:xfrm>
            <a:off x="4683240" y="2676600"/>
            <a:ext cx="314280" cy="312840"/>
          </a:xfrm>
          <a:custGeom>
            <a:avLst/>
            <a:gdLst/>
            <a:ahLst/>
            <a:rect l="l" t="t" r="r" b="b"/>
            <a:pathLst>
              <a:path w="384" h="384">
                <a:moveTo>
                  <a:pt x="192" y="0"/>
                </a:moveTo>
                <a:cubicBezTo>
                  <a:pt x="86" y="0"/>
                  <a:pt x="0" y="86"/>
                  <a:pt x="0" y="192"/>
                </a:cubicBezTo>
                <a:cubicBezTo>
                  <a:pt x="0" y="298"/>
                  <a:pt x="86" y="384"/>
                  <a:pt x="192" y="384"/>
                </a:cubicBezTo>
                <a:cubicBezTo>
                  <a:pt x="298" y="384"/>
                  <a:pt x="384" y="298"/>
                  <a:pt x="384" y="192"/>
                </a:cubicBezTo>
                <a:cubicBezTo>
                  <a:pt x="384" y="86"/>
                  <a:pt x="298" y="0"/>
                  <a:pt x="192" y="0"/>
                </a:cubicBezTo>
                <a:close/>
                <a:moveTo>
                  <a:pt x="356" y="192"/>
                </a:moveTo>
                <a:cubicBezTo>
                  <a:pt x="356" y="229"/>
                  <a:pt x="343" y="264"/>
                  <a:pt x="322" y="292"/>
                </a:cubicBezTo>
                <a:cubicBezTo>
                  <a:pt x="316" y="287"/>
                  <a:pt x="309" y="274"/>
                  <a:pt x="315" y="261"/>
                </a:cubicBezTo>
                <a:cubicBezTo>
                  <a:pt x="321" y="248"/>
                  <a:pt x="323" y="217"/>
                  <a:pt x="321" y="205"/>
                </a:cubicBezTo>
                <a:cubicBezTo>
                  <a:pt x="320" y="194"/>
                  <a:pt x="314" y="165"/>
                  <a:pt x="297" y="165"/>
                </a:cubicBezTo>
                <a:cubicBezTo>
                  <a:pt x="280" y="164"/>
                  <a:pt x="269" y="159"/>
                  <a:pt x="259" y="139"/>
                </a:cubicBezTo>
                <a:cubicBezTo>
                  <a:pt x="238" y="98"/>
                  <a:pt x="298" y="90"/>
                  <a:pt x="277" y="67"/>
                </a:cubicBezTo>
                <a:cubicBezTo>
                  <a:pt x="271" y="60"/>
                  <a:pt x="241" y="93"/>
                  <a:pt x="237" y="49"/>
                </a:cubicBezTo>
                <a:cubicBezTo>
                  <a:pt x="237" y="46"/>
                  <a:pt x="240" y="42"/>
                  <a:pt x="244" y="37"/>
                </a:cubicBezTo>
                <a:cubicBezTo>
                  <a:pt x="309" y="58"/>
                  <a:pt x="356" y="120"/>
                  <a:pt x="356" y="192"/>
                </a:cubicBezTo>
                <a:close/>
                <a:moveTo>
                  <a:pt x="169" y="30"/>
                </a:moveTo>
                <a:cubicBezTo>
                  <a:pt x="165" y="37"/>
                  <a:pt x="155" y="40"/>
                  <a:pt x="149" y="46"/>
                </a:cubicBezTo>
                <a:cubicBezTo>
                  <a:pt x="135" y="59"/>
                  <a:pt x="129" y="57"/>
                  <a:pt x="122" y="69"/>
                </a:cubicBezTo>
                <a:cubicBezTo>
                  <a:pt x="114" y="81"/>
                  <a:pt x="90" y="98"/>
                  <a:pt x="90" y="106"/>
                </a:cubicBezTo>
                <a:cubicBezTo>
                  <a:pt x="90" y="115"/>
                  <a:pt x="103" y="125"/>
                  <a:pt x="109" y="123"/>
                </a:cubicBezTo>
                <a:cubicBezTo>
                  <a:pt x="115" y="121"/>
                  <a:pt x="131" y="121"/>
                  <a:pt x="140" y="125"/>
                </a:cubicBezTo>
                <a:cubicBezTo>
                  <a:pt x="149" y="128"/>
                  <a:pt x="218" y="131"/>
                  <a:pt x="196" y="189"/>
                </a:cubicBezTo>
                <a:cubicBezTo>
                  <a:pt x="189" y="208"/>
                  <a:pt x="159" y="205"/>
                  <a:pt x="151" y="235"/>
                </a:cubicBezTo>
                <a:cubicBezTo>
                  <a:pt x="149" y="240"/>
                  <a:pt x="145" y="259"/>
                  <a:pt x="145" y="265"/>
                </a:cubicBezTo>
                <a:cubicBezTo>
                  <a:pt x="144" y="275"/>
                  <a:pt x="152" y="312"/>
                  <a:pt x="142" y="312"/>
                </a:cubicBezTo>
                <a:cubicBezTo>
                  <a:pt x="133" y="312"/>
                  <a:pt x="108" y="279"/>
                  <a:pt x="108" y="273"/>
                </a:cubicBezTo>
                <a:cubicBezTo>
                  <a:pt x="108" y="267"/>
                  <a:pt x="101" y="246"/>
                  <a:pt x="101" y="229"/>
                </a:cubicBezTo>
                <a:cubicBezTo>
                  <a:pt x="101" y="211"/>
                  <a:pt x="71" y="211"/>
                  <a:pt x="71" y="187"/>
                </a:cubicBezTo>
                <a:cubicBezTo>
                  <a:pt x="71" y="166"/>
                  <a:pt x="87" y="155"/>
                  <a:pt x="84" y="145"/>
                </a:cubicBezTo>
                <a:cubicBezTo>
                  <a:pt x="80" y="135"/>
                  <a:pt x="51" y="134"/>
                  <a:pt x="39" y="133"/>
                </a:cubicBezTo>
                <a:cubicBezTo>
                  <a:pt x="60" y="79"/>
                  <a:pt x="110" y="38"/>
                  <a:pt x="169" y="30"/>
                </a:cubicBezTo>
                <a:close/>
                <a:moveTo>
                  <a:pt x="140" y="347"/>
                </a:moveTo>
                <a:cubicBezTo>
                  <a:pt x="150" y="342"/>
                  <a:pt x="151" y="335"/>
                  <a:pt x="160" y="335"/>
                </a:cubicBezTo>
                <a:cubicBezTo>
                  <a:pt x="170" y="335"/>
                  <a:pt x="179" y="331"/>
                  <a:pt x="190" y="329"/>
                </a:cubicBezTo>
                <a:cubicBezTo>
                  <a:pt x="200" y="326"/>
                  <a:pt x="218" y="316"/>
                  <a:pt x="235" y="315"/>
                </a:cubicBezTo>
                <a:cubicBezTo>
                  <a:pt x="248" y="313"/>
                  <a:pt x="275" y="315"/>
                  <a:pt x="282" y="328"/>
                </a:cubicBezTo>
                <a:cubicBezTo>
                  <a:pt x="256" y="346"/>
                  <a:pt x="225" y="356"/>
                  <a:pt x="192" y="356"/>
                </a:cubicBezTo>
                <a:cubicBezTo>
                  <a:pt x="174" y="356"/>
                  <a:pt x="156" y="353"/>
                  <a:pt x="140" y="34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423" name="Oval 24"/>
          <p:cNvSpPr/>
          <p:nvPr/>
        </p:nvSpPr>
        <p:spPr>
          <a:xfrm>
            <a:off x="868320" y="4632480"/>
            <a:ext cx="766800" cy="768240"/>
          </a:xfrm>
          <a:prstGeom prst="ellipse">
            <a:avLst/>
          </a:prstGeom>
          <a:solidFill>
            <a:srgbClr val="5e8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31"/>
          <p:cNvSpPr/>
          <p:nvPr/>
        </p:nvSpPr>
        <p:spPr>
          <a:xfrm>
            <a:off x="1038240" y="4842000"/>
            <a:ext cx="426960" cy="379440"/>
          </a:xfrm>
          <a:custGeom>
            <a:avLst/>
            <a:gdLst/>
            <a:ahLst/>
            <a:rect l="l" t="t" r="r" b="b"/>
            <a:pathLst>
              <a:path w="392" h="347">
                <a:moveTo>
                  <a:pt x="196" y="267"/>
                </a:moveTo>
                <a:cubicBezTo>
                  <a:pt x="174" y="267"/>
                  <a:pt x="156" y="285"/>
                  <a:pt x="156" y="307"/>
                </a:cubicBezTo>
                <a:cubicBezTo>
                  <a:pt x="156" y="329"/>
                  <a:pt x="174" y="347"/>
                  <a:pt x="196" y="347"/>
                </a:cubicBezTo>
                <a:cubicBezTo>
                  <a:pt x="218" y="347"/>
                  <a:pt x="235" y="329"/>
                  <a:pt x="235" y="307"/>
                </a:cubicBezTo>
                <a:cubicBezTo>
                  <a:pt x="235" y="285"/>
                  <a:pt x="218" y="267"/>
                  <a:pt x="196" y="267"/>
                </a:cubicBezTo>
                <a:close/>
                <a:moveTo>
                  <a:pt x="112" y="222"/>
                </a:moveTo>
                <a:cubicBezTo>
                  <a:pt x="140" y="250"/>
                  <a:pt x="140" y="250"/>
                  <a:pt x="140" y="250"/>
                </a:cubicBezTo>
                <a:cubicBezTo>
                  <a:pt x="171" y="219"/>
                  <a:pt x="221" y="219"/>
                  <a:pt x="252" y="250"/>
                </a:cubicBezTo>
                <a:cubicBezTo>
                  <a:pt x="280" y="222"/>
                  <a:pt x="280" y="222"/>
                  <a:pt x="280" y="222"/>
                </a:cubicBezTo>
                <a:cubicBezTo>
                  <a:pt x="233" y="175"/>
                  <a:pt x="158" y="175"/>
                  <a:pt x="112" y="222"/>
                </a:cubicBezTo>
                <a:close/>
                <a:moveTo>
                  <a:pt x="56" y="165"/>
                </a:moveTo>
                <a:cubicBezTo>
                  <a:pt x="84" y="194"/>
                  <a:pt x="84" y="194"/>
                  <a:pt x="84" y="194"/>
                </a:cubicBezTo>
                <a:cubicBezTo>
                  <a:pt x="146" y="131"/>
                  <a:pt x="246" y="131"/>
                  <a:pt x="308" y="194"/>
                </a:cubicBezTo>
                <a:cubicBezTo>
                  <a:pt x="336" y="165"/>
                  <a:pt x="336" y="165"/>
                  <a:pt x="336" y="165"/>
                </a:cubicBezTo>
                <a:cubicBezTo>
                  <a:pt x="258" y="87"/>
                  <a:pt x="133" y="87"/>
                  <a:pt x="56" y="165"/>
                </a:cubicBezTo>
                <a:close/>
                <a:moveTo>
                  <a:pt x="0" y="109"/>
                </a:moveTo>
                <a:cubicBezTo>
                  <a:pt x="28" y="137"/>
                  <a:pt x="28" y="137"/>
                  <a:pt x="28" y="137"/>
                </a:cubicBezTo>
                <a:cubicBezTo>
                  <a:pt x="121" y="43"/>
                  <a:pt x="271" y="43"/>
                  <a:pt x="364" y="137"/>
                </a:cubicBezTo>
                <a:cubicBezTo>
                  <a:pt x="392" y="109"/>
                  <a:pt x="392" y="109"/>
                  <a:pt x="392" y="109"/>
                </a:cubicBezTo>
                <a:cubicBezTo>
                  <a:pt x="284" y="0"/>
                  <a:pt x="108" y="0"/>
                  <a:pt x="0" y="10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425" name="Straight Connector 69"/>
          <p:cNvSpPr/>
          <p:nvPr/>
        </p:nvSpPr>
        <p:spPr>
          <a:xfrm>
            <a:off x="7588080" y="1866960"/>
            <a:ext cx="0" cy="3835440"/>
          </a:xfrm>
          <a:prstGeom prst="line">
            <a:avLst/>
          </a:prstGeom>
          <a:ln w="6480">
            <a:solidFill>
              <a:srgbClr val="7f7f7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文本框 35"/>
          <p:cNvSpPr/>
          <p:nvPr/>
        </p:nvSpPr>
        <p:spPr>
          <a:xfrm>
            <a:off x="7958160" y="2322360"/>
            <a:ext cx="337824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427" name="文本框 36"/>
          <p:cNvSpPr/>
          <p:nvPr/>
        </p:nvSpPr>
        <p:spPr>
          <a:xfrm>
            <a:off x="8305920" y="18604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这里添加标题</a:t>
            </a:r>
            <a:endParaRPr b="0" lang="en-US" sz="2400" spc="-1" strike="noStrike">
              <a:solidFill>
                <a:srgbClr val="000000"/>
              </a:solidFill>
              <a:latin typeface="Arial"/>
            </a:endParaRPr>
          </a:p>
        </p:txBody>
      </p:sp>
      <p:sp>
        <p:nvSpPr>
          <p:cNvPr id="428" name="文本框 37"/>
          <p:cNvSpPr/>
          <p:nvPr/>
        </p:nvSpPr>
        <p:spPr>
          <a:xfrm>
            <a:off x="7958160" y="3675240"/>
            <a:ext cx="337824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429" name="文本框 38"/>
          <p:cNvSpPr/>
          <p:nvPr/>
        </p:nvSpPr>
        <p:spPr>
          <a:xfrm>
            <a:off x="8305920" y="32130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这里添加标题</a:t>
            </a:r>
            <a:endParaRPr b="0" lang="en-US" sz="2400" spc="-1" strike="noStrike">
              <a:solidFill>
                <a:srgbClr val="000000"/>
              </a:solidFill>
              <a:latin typeface="Arial"/>
            </a:endParaRPr>
          </a:p>
        </p:txBody>
      </p:sp>
      <p:sp>
        <p:nvSpPr>
          <p:cNvPr id="430" name="文本框 39"/>
          <p:cNvSpPr/>
          <p:nvPr/>
        </p:nvSpPr>
        <p:spPr>
          <a:xfrm>
            <a:off x="7958160" y="4944960"/>
            <a:ext cx="337824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431" name="文本框 40"/>
          <p:cNvSpPr/>
          <p:nvPr/>
        </p:nvSpPr>
        <p:spPr>
          <a:xfrm>
            <a:off x="8305920" y="44830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这里添加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0"/>
                      </p:stCondLst>
                      <p:childTnLst>
                        <p:par>
                          <p:cTn id="41" nodeType="withEffect" fill="hold">
                            <p:stCondLst>
                              <p:cond delay="0"/>
                            </p:stCondLst>
                            <p:childTnLst>
                              <p:par>
                                <p:cTn id="42" nodeType="afterEffect" fill="hold" presetClass="entr" presetID="22" presetSubtype="4">
                                  <p:stCondLst>
                                    <p:cond delay="0"/>
                                  </p:stCondLst>
                                  <p:childTnLst>
                                    <p:set>
                                      <p:cBhvr>
                                        <p:cTn id="43" dur="1" fill="hold">
                                          <p:stCondLst>
                                            <p:cond delay="0"/>
                                          </p:stCondLst>
                                        </p:cTn>
                                        <p:tgtEl>
                                          <p:spTgt spid="406"/>
                                        </p:tgtEl>
                                        <p:attrNameLst>
                                          <p:attrName>style.visibility</p:attrName>
                                        </p:attrNameLst>
                                      </p:cBhvr>
                                      <p:to>
                                        <p:strVal val="visible"/>
                                      </p:to>
                                    </p:set>
                                    <p:animEffect filter="wipe(down)" transition="in">
                                      <p:cBhvr additive="repl">
                                        <p:cTn id="44" dur="500"/>
                                        <p:tgtEl>
                                          <p:spTgt spid="406"/>
                                        </p:tgtEl>
                                      </p:cBhvr>
                                    </p:animEffect>
                                  </p:childTnLst>
                                </p:cTn>
                              </p:par>
                            </p:childTnLst>
                          </p:cTn>
                        </p:par>
                        <p:par>
                          <p:cTn id="45" nodeType="afterEffect" fill="hold">
                            <p:stCondLst>
                              <p:cond delay="500"/>
                            </p:stCondLst>
                            <p:childTnLst>
                              <p:par>
                                <p:cTn id="46" nodeType="afterEffect" fill="hold" presetClass="entr" presetID="22" presetSubtype="2">
                                  <p:stCondLst>
                                    <p:cond delay="0"/>
                                  </p:stCondLst>
                                  <p:childTnLst>
                                    <p:set>
                                      <p:cBhvr>
                                        <p:cTn id="47" dur="1" fill="hold">
                                          <p:stCondLst>
                                            <p:cond delay="0"/>
                                          </p:stCondLst>
                                        </p:cTn>
                                        <p:tgtEl>
                                          <p:spTgt spid="407"/>
                                        </p:tgtEl>
                                        <p:attrNameLst>
                                          <p:attrName>style.visibility</p:attrName>
                                        </p:attrNameLst>
                                      </p:cBhvr>
                                      <p:to>
                                        <p:strVal val="visible"/>
                                      </p:to>
                                    </p:set>
                                    <p:animEffect filter="wipe(right)" transition="in">
                                      <p:cBhvr additive="repl">
                                        <p:cTn id="48" dur="500"/>
                                        <p:tgtEl>
                                          <p:spTgt spid="407"/>
                                        </p:tgtEl>
                                      </p:cBhvr>
                                    </p:animEffect>
                                  </p:childTnLst>
                                </p:cTn>
                              </p:par>
                            </p:childTnLst>
                          </p:cTn>
                        </p:par>
                        <p:par>
                          <p:cTn id="49" nodeType="afterEffect" fill="hold">
                            <p:stCondLst>
                              <p:cond delay="1000"/>
                            </p:stCondLst>
                            <p:childTnLst>
                              <p:par>
                                <p:cTn id="50" nodeType="afterEffect" fill="hold" presetClass="entr" presetID="22" presetSubtype="8">
                                  <p:stCondLst>
                                    <p:cond delay="0"/>
                                  </p:stCondLst>
                                  <p:childTnLst>
                                    <p:set>
                                      <p:cBhvr>
                                        <p:cTn id="51" dur="1" fill="hold">
                                          <p:stCondLst>
                                            <p:cond delay="0"/>
                                          </p:stCondLst>
                                        </p:cTn>
                                        <p:tgtEl>
                                          <p:spTgt spid="408"/>
                                        </p:tgtEl>
                                        <p:attrNameLst>
                                          <p:attrName>style.visibility</p:attrName>
                                        </p:attrNameLst>
                                      </p:cBhvr>
                                      <p:to>
                                        <p:strVal val="visible"/>
                                      </p:to>
                                    </p:set>
                                    <p:animEffect filter="wipe(left)" transition="in">
                                      <p:cBhvr additive="repl">
                                        <p:cTn id="52" dur="500"/>
                                        <p:tgtEl>
                                          <p:spTgt spid="408"/>
                                        </p:tgtEl>
                                      </p:cBhvr>
                                    </p:animEffect>
                                  </p:childTnLst>
                                </p:cTn>
                              </p:par>
                            </p:childTnLst>
                          </p:cTn>
                        </p:par>
                        <p:par>
                          <p:cTn id="53" nodeType="afterEffect" fill="hold">
                            <p:stCondLst>
                              <p:cond delay="1500"/>
                            </p:stCondLst>
                            <p:childTnLst>
                              <p:par>
                                <p:cTn id="54" nodeType="afterEffect" fill="hold" presetClass="entr" presetID="22" presetSubtype="4">
                                  <p:stCondLst>
                                    <p:cond delay="0"/>
                                  </p:stCondLst>
                                  <p:childTnLst>
                                    <p:set>
                                      <p:cBhvr>
                                        <p:cTn id="55" dur="1" fill="hold">
                                          <p:stCondLst>
                                            <p:cond delay="0"/>
                                          </p:stCondLst>
                                        </p:cTn>
                                        <p:tgtEl>
                                          <p:spTgt spid="411"/>
                                        </p:tgtEl>
                                        <p:attrNameLst>
                                          <p:attrName>style.visibility</p:attrName>
                                        </p:attrNameLst>
                                      </p:cBhvr>
                                      <p:to>
                                        <p:strVal val="visible"/>
                                      </p:to>
                                    </p:set>
                                    <p:animEffect filter="wipe(down)" transition="in">
                                      <p:cBhvr additive="repl">
                                        <p:cTn id="56" dur="500"/>
                                        <p:tgtEl>
                                          <p:spTgt spid="411"/>
                                        </p:tgtEl>
                                      </p:cBhvr>
                                    </p:animEffect>
                                  </p:childTnLst>
                                </p:cTn>
                              </p:par>
                            </p:childTnLst>
                          </p:cTn>
                        </p:par>
                        <p:par>
                          <p:cTn id="57" nodeType="afterEffect" fill="hold">
                            <p:stCondLst>
                              <p:cond delay="2000"/>
                            </p:stCondLst>
                            <p:childTnLst>
                              <p:par>
                                <p:cTn id="58" nodeType="afterEffect" fill="hold" presetClass="entr" presetID="53" presetSubtype="16">
                                  <p:stCondLst>
                                    <p:cond delay="0"/>
                                  </p:stCondLst>
                                  <p:childTnLst>
                                    <p:set>
                                      <p:cBhvr>
                                        <p:cTn id="59" dur="1" fill="hold">
                                          <p:stCondLst>
                                            <p:cond delay="0"/>
                                          </p:stCondLst>
                                        </p:cTn>
                                        <p:tgtEl>
                                          <p:spTgt spid="412"/>
                                        </p:tgtEl>
                                        <p:attrNameLst>
                                          <p:attrName>style.visibility</p:attrName>
                                        </p:attrNameLst>
                                      </p:cBhvr>
                                      <p:to>
                                        <p:strVal val="visible"/>
                                      </p:to>
                                    </p:set>
                                    <p:anim calcmode="lin" valueType="num">
                                      <p:cBhvr additive="repl">
                                        <p:cTn id="60" dur="500" fill="hold"/>
                                        <p:tgtEl>
                                          <p:spTgt spid="412"/>
                                        </p:tgtEl>
                                        <p:attrNameLst>
                                          <p:attrName>ppt_w</p:attrName>
                                        </p:attrNameLst>
                                      </p:cBhvr>
                                      <p:tavLst>
                                        <p:tav tm="0">
                                          <p:val>
                                            <p:fltVal val="0"/>
                                          </p:val>
                                        </p:tav>
                                        <p:tav tm="100000">
                                          <p:val>
                                            <p:strVal val="#ppt_w"/>
                                          </p:val>
                                        </p:tav>
                                      </p:tavLst>
                                    </p:anim>
                                    <p:anim calcmode="lin" valueType="num">
                                      <p:cBhvr additive="repl">
                                        <p:cTn id="61" dur="500" fill="hold"/>
                                        <p:tgtEl>
                                          <p:spTgt spid="412"/>
                                        </p:tgtEl>
                                        <p:attrNameLst>
                                          <p:attrName>ppt_h</p:attrName>
                                        </p:attrNameLst>
                                      </p:cBhvr>
                                      <p:tavLst>
                                        <p:tav tm="0">
                                          <p:val>
                                            <p:fltVal val="0"/>
                                          </p:val>
                                        </p:tav>
                                        <p:tav tm="100000">
                                          <p:val>
                                            <p:strVal val="#ppt_h"/>
                                          </p:val>
                                        </p:tav>
                                      </p:tavLst>
                                    </p:anim>
                                    <p:animEffect filter="fade" transition="in">
                                      <p:cBhvr additive="repl">
                                        <p:cTn id="62" dur="500"/>
                                        <p:tgtEl>
                                          <p:spTgt spid="412"/>
                                        </p:tgtEl>
                                      </p:cBhvr>
                                    </p:animEffect>
                                  </p:childTnLst>
                                </p:cTn>
                              </p:par>
                            </p:childTnLst>
                          </p:cTn>
                        </p:par>
                        <p:par>
                          <p:cTn id="63" nodeType="afterEffect" fill="hold">
                            <p:stCondLst>
                              <p:cond delay="2500"/>
                            </p:stCondLst>
                            <p:childTnLst>
                              <p:par>
                                <p:cTn id="64" nodeType="afterEffect" fill="hold" presetClass="entr" presetID="22" presetSubtype="4">
                                  <p:stCondLst>
                                    <p:cond delay="0"/>
                                  </p:stCondLst>
                                  <p:childTnLst>
                                    <p:set>
                                      <p:cBhvr>
                                        <p:cTn id="65" dur="1" fill="hold">
                                          <p:stCondLst>
                                            <p:cond delay="0"/>
                                          </p:stCondLst>
                                        </p:cTn>
                                        <p:tgtEl>
                                          <p:spTgt spid="409"/>
                                        </p:tgtEl>
                                        <p:attrNameLst>
                                          <p:attrName>style.visibility</p:attrName>
                                        </p:attrNameLst>
                                      </p:cBhvr>
                                      <p:to>
                                        <p:strVal val="visible"/>
                                      </p:to>
                                    </p:set>
                                    <p:animEffect filter="wipe(down)" transition="in">
                                      <p:cBhvr additive="repl">
                                        <p:cTn id="66" dur="500"/>
                                        <p:tgtEl>
                                          <p:spTgt spid="409"/>
                                        </p:tgtEl>
                                      </p:cBhvr>
                                    </p:animEffect>
                                  </p:childTnLst>
                                </p:cTn>
                              </p:par>
                            </p:childTnLst>
                          </p:cTn>
                        </p:par>
                        <p:par>
                          <p:cTn id="67" nodeType="afterEffect" fill="hold">
                            <p:stCondLst>
                              <p:cond delay="3000"/>
                            </p:stCondLst>
                            <p:childTnLst>
                              <p:par>
                                <p:cTn id="68" nodeType="afterEffect" fill="hold" presetClass="entr" presetID="22" presetSubtype="8">
                                  <p:stCondLst>
                                    <p:cond delay="0"/>
                                  </p:stCondLst>
                                  <p:childTnLst>
                                    <p:set>
                                      <p:cBhvr>
                                        <p:cTn id="69" dur="1" fill="hold">
                                          <p:stCondLst>
                                            <p:cond delay="0"/>
                                          </p:stCondLst>
                                        </p:cTn>
                                        <p:tgtEl>
                                          <p:spTgt spid="410"/>
                                        </p:tgtEl>
                                        <p:attrNameLst>
                                          <p:attrName>style.visibility</p:attrName>
                                        </p:attrNameLst>
                                      </p:cBhvr>
                                      <p:to>
                                        <p:strVal val="visible"/>
                                      </p:to>
                                    </p:set>
                                    <p:animEffect filter="wipe(left)" transition="in">
                                      <p:cBhvr additive="repl">
                                        <p:cTn id="70" dur="500"/>
                                        <p:tgtEl>
                                          <p:spTgt spid="410"/>
                                        </p:tgtEl>
                                      </p:cBhvr>
                                    </p:animEffect>
                                  </p:childTnLst>
                                </p:cTn>
                              </p:par>
                            </p:childTnLst>
                          </p:cTn>
                        </p:par>
                        <p:par>
                          <p:cTn id="71" nodeType="afterEffect" fill="hold">
                            <p:stCondLst>
                              <p:cond delay="3500"/>
                            </p:stCondLst>
                            <p:childTnLst>
                              <p:par>
                                <p:cTn id="72" nodeType="afterEffect" fill="hold" presetClass="entr" presetID="22" presetSubtype="4">
                                  <p:stCondLst>
                                    <p:cond delay="0"/>
                                  </p:stCondLst>
                                  <p:childTnLst>
                                    <p:set>
                                      <p:cBhvr>
                                        <p:cTn id="73" dur="1" fill="hold">
                                          <p:stCondLst>
                                            <p:cond delay="0"/>
                                          </p:stCondLst>
                                        </p:cTn>
                                        <p:tgtEl>
                                          <p:spTgt spid="425"/>
                                        </p:tgtEl>
                                        <p:attrNameLst>
                                          <p:attrName>style.visibility</p:attrName>
                                        </p:attrNameLst>
                                      </p:cBhvr>
                                      <p:to>
                                        <p:strVal val="visible"/>
                                      </p:to>
                                    </p:set>
                                    <p:animEffect filter="wipe(down)" transition="in">
                                      <p:cBhvr additive="repl">
                                        <p:cTn id="74" dur="5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矩形 1"/>
          <p:cNvSpPr/>
          <p:nvPr/>
        </p:nvSpPr>
        <p:spPr>
          <a:xfrm>
            <a:off x="0" y="2540160"/>
            <a:ext cx="5619600" cy="19652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文本框 2"/>
          <p:cNvSpPr/>
          <p:nvPr/>
        </p:nvSpPr>
        <p:spPr>
          <a:xfrm>
            <a:off x="5854680" y="2292480"/>
            <a:ext cx="57085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b649f"/>
                </a:solidFill>
                <a:latin typeface="Arial"/>
              </a:rPr>
              <a:t>添加论文内容第四部分标题</a:t>
            </a:r>
            <a:endParaRPr b="0" lang="en-US" sz="3600" spc="-1" strike="noStrike">
              <a:solidFill>
                <a:srgbClr val="000000"/>
              </a:solidFill>
              <a:latin typeface="Arial"/>
            </a:endParaRPr>
          </a:p>
        </p:txBody>
      </p:sp>
      <p:sp>
        <p:nvSpPr>
          <p:cNvPr id="434" name="文本框 4"/>
          <p:cNvSpPr/>
          <p:nvPr/>
        </p:nvSpPr>
        <p:spPr>
          <a:xfrm>
            <a:off x="5854680" y="3216240"/>
            <a:ext cx="57085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培养学生综合运用、巩固与扩展所学的基础理论和专业知识，培养学生独立分析、解决实际问题能力、培养学生处理数据和信息的能力。</a:t>
            </a:r>
            <a:endParaRPr b="0" lang="en-US" sz="1800" spc="-1" strike="noStrike">
              <a:solidFill>
                <a:srgbClr val="000000"/>
              </a:solidFill>
              <a:latin typeface="Arial"/>
            </a:endParaRPr>
          </a:p>
        </p:txBody>
      </p:sp>
      <p:pic>
        <p:nvPicPr>
          <p:cNvPr id="435" name="图片 9" descr=""/>
          <p:cNvPicPr/>
          <p:nvPr/>
        </p:nvPicPr>
        <p:blipFill>
          <a:blip r:embed="rId1"/>
          <a:stretch/>
        </p:blipFill>
        <p:spPr>
          <a:xfrm>
            <a:off x="6326280" y="5200560"/>
            <a:ext cx="5865840" cy="1657440"/>
          </a:xfrm>
          <a:prstGeom prst="rect">
            <a:avLst/>
          </a:prstGeom>
          <a:ln w="0">
            <a:noFill/>
          </a:ln>
        </p:spPr>
      </p:pic>
      <p:pic>
        <p:nvPicPr>
          <p:cNvPr id="436" name="图片 10" descr=""/>
          <p:cNvPicPr/>
          <p:nvPr/>
        </p:nvPicPr>
        <p:blipFill>
          <a:blip r:embed="rId2"/>
          <a:stretch/>
        </p:blipFill>
        <p:spPr>
          <a:xfrm>
            <a:off x="0" y="0"/>
            <a:ext cx="7878600" cy="2216160"/>
          </a:xfrm>
          <a:prstGeom prst="rect">
            <a:avLst/>
          </a:prstGeom>
          <a:ln w="0">
            <a:noFill/>
          </a:ln>
        </p:spPr>
      </p:pic>
      <p:grpSp>
        <p:nvGrpSpPr>
          <p:cNvPr id="437" name="组合 11"/>
          <p:cNvGrpSpPr/>
          <p:nvPr/>
        </p:nvGrpSpPr>
        <p:grpSpPr>
          <a:xfrm>
            <a:off x="1511280" y="2216160"/>
            <a:ext cx="2597040" cy="2598840"/>
            <a:chOff x="1511280" y="2216160"/>
            <a:chExt cx="2597040" cy="2598840"/>
          </a:xfrm>
        </p:grpSpPr>
        <p:sp>
          <p:nvSpPr>
            <p:cNvPr id="438" name="椭圆 12"/>
            <p:cNvSpPr/>
            <p:nvPr/>
          </p:nvSpPr>
          <p:spPr>
            <a:xfrm>
              <a:off x="1511280" y="2216160"/>
              <a:ext cx="2597040" cy="259884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椭圆 13"/>
            <p:cNvSpPr/>
            <p:nvPr/>
          </p:nvSpPr>
          <p:spPr>
            <a:xfrm>
              <a:off x="1687320" y="2393640"/>
              <a:ext cx="2244600" cy="224352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KSO_Shape"/>
            <p:cNvSpPr/>
            <p:nvPr/>
          </p:nvSpPr>
          <p:spPr>
            <a:xfrm>
              <a:off x="2159640" y="2864880"/>
              <a:ext cx="1300320" cy="1301040"/>
            </a:xfrm>
            <a:custGeom>
              <a:avLst/>
              <a:gdLst/>
              <a:ahLst/>
              <a:rect l="l" t="t" r="r" b="b"/>
              <a:pathLst>
                <a:path w="3927" h="3928">
                  <a:moveTo>
                    <a:pt x="3857" y="672"/>
                  </a:moveTo>
                  <a:cubicBezTo>
                    <a:pt x="3675" y="852"/>
                    <a:pt x="3675" y="852"/>
                    <a:pt x="3675" y="852"/>
                  </a:cubicBezTo>
                  <a:cubicBezTo>
                    <a:pt x="3070" y="251"/>
                    <a:pt x="3070" y="251"/>
                    <a:pt x="3070" y="251"/>
                  </a:cubicBezTo>
                  <a:cubicBezTo>
                    <a:pt x="3252" y="70"/>
                    <a:pt x="3252" y="70"/>
                    <a:pt x="3252" y="70"/>
                  </a:cubicBezTo>
                  <a:cubicBezTo>
                    <a:pt x="3319" y="4"/>
                    <a:pt x="3424" y="0"/>
                    <a:pt x="3486" y="63"/>
                  </a:cubicBezTo>
                  <a:cubicBezTo>
                    <a:pt x="3864" y="438"/>
                    <a:pt x="3864" y="438"/>
                    <a:pt x="3864" y="438"/>
                  </a:cubicBezTo>
                  <a:cubicBezTo>
                    <a:pt x="3927" y="501"/>
                    <a:pt x="3924" y="605"/>
                    <a:pt x="3857" y="672"/>
                  </a:cubicBezTo>
                  <a:close/>
                  <a:moveTo>
                    <a:pt x="2252" y="2267"/>
                  </a:moveTo>
                  <a:cubicBezTo>
                    <a:pt x="1647" y="1665"/>
                    <a:pt x="1647" y="1665"/>
                    <a:pt x="1647" y="1665"/>
                  </a:cubicBezTo>
                  <a:cubicBezTo>
                    <a:pt x="2978" y="342"/>
                    <a:pt x="2978" y="342"/>
                    <a:pt x="2978" y="342"/>
                  </a:cubicBezTo>
                  <a:cubicBezTo>
                    <a:pt x="3583" y="944"/>
                    <a:pt x="3583" y="944"/>
                    <a:pt x="3583" y="944"/>
                  </a:cubicBezTo>
                  <a:lnTo>
                    <a:pt x="2252" y="2267"/>
                  </a:lnTo>
                  <a:close/>
                  <a:moveTo>
                    <a:pt x="2168" y="2350"/>
                  </a:moveTo>
                  <a:cubicBezTo>
                    <a:pt x="1321" y="2591"/>
                    <a:pt x="1321" y="2591"/>
                    <a:pt x="1321" y="2591"/>
                  </a:cubicBezTo>
                  <a:cubicBezTo>
                    <a:pt x="1563" y="1749"/>
                    <a:pt x="1563" y="1749"/>
                    <a:pt x="1563" y="1749"/>
                  </a:cubicBezTo>
                  <a:lnTo>
                    <a:pt x="2168" y="2350"/>
                  </a:lnTo>
                  <a:close/>
                  <a:moveTo>
                    <a:pt x="770" y="495"/>
                  </a:moveTo>
                  <a:cubicBezTo>
                    <a:pt x="561" y="495"/>
                    <a:pt x="392" y="665"/>
                    <a:pt x="392" y="874"/>
                  </a:cubicBezTo>
                  <a:cubicBezTo>
                    <a:pt x="392" y="3158"/>
                    <a:pt x="392" y="3158"/>
                    <a:pt x="392" y="3158"/>
                  </a:cubicBezTo>
                  <a:cubicBezTo>
                    <a:pt x="392" y="3367"/>
                    <a:pt x="561" y="3536"/>
                    <a:pt x="770" y="3536"/>
                  </a:cubicBezTo>
                  <a:cubicBezTo>
                    <a:pt x="3055" y="3536"/>
                    <a:pt x="3055" y="3536"/>
                    <a:pt x="3055" y="3536"/>
                  </a:cubicBezTo>
                  <a:cubicBezTo>
                    <a:pt x="3264" y="3536"/>
                    <a:pt x="3433" y="3367"/>
                    <a:pt x="3433" y="3158"/>
                  </a:cubicBezTo>
                  <a:cubicBezTo>
                    <a:pt x="3433" y="1657"/>
                    <a:pt x="3433" y="1657"/>
                    <a:pt x="3433" y="1657"/>
                  </a:cubicBezTo>
                  <a:cubicBezTo>
                    <a:pt x="3824" y="1278"/>
                    <a:pt x="3824" y="1278"/>
                    <a:pt x="3824" y="1278"/>
                  </a:cubicBezTo>
                  <a:cubicBezTo>
                    <a:pt x="3824" y="3297"/>
                    <a:pt x="3824" y="3297"/>
                    <a:pt x="3824" y="3297"/>
                  </a:cubicBezTo>
                  <a:cubicBezTo>
                    <a:pt x="3824" y="3645"/>
                    <a:pt x="3529" y="3928"/>
                    <a:pt x="3181" y="3928"/>
                  </a:cubicBezTo>
                  <a:cubicBezTo>
                    <a:pt x="631" y="3928"/>
                    <a:pt x="631" y="3928"/>
                    <a:pt x="631" y="3928"/>
                  </a:cubicBezTo>
                  <a:cubicBezTo>
                    <a:pt x="283" y="3928"/>
                    <a:pt x="0" y="3645"/>
                    <a:pt x="0" y="3297"/>
                  </a:cubicBezTo>
                  <a:cubicBezTo>
                    <a:pt x="0" y="773"/>
                    <a:pt x="0" y="773"/>
                    <a:pt x="0" y="773"/>
                  </a:cubicBezTo>
                  <a:cubicBezTo>
                    <a:pt x="0" y="425"/>
                    <a:pt x="283" y="103"/>
                    <a:pt x="631" y="103"/>
                  </a:cubicBezTo>
                  <a:cubicBezTo>
                    <a:pt x="2650" y="103"/>
                    <a:pt x="2650" y="103"/>
                    <a:pt x="2650" y="103"/>
                  </a:cubicBezTo>
                  <a:cubicBezTo>
                    <a:pt x="2271" y="495"/>
                    <a:pt x="2271" y="495"/>
                    <a:pt x="2271" y="495"/>
                  </a:cubicBezTo>
                  <a:lnTo>
                    <a:pt x="770" y="495"/>
                  </a:ln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圆角矩形 5"/>
          <p:cNvSpPr/>
          <p:nvPr/>
        </p:nvSpPr>
        <p:spPr>
          <a:xfrm>
            <a:off x="1333440" y="1882800"/>
            <a:ext cx="9487080" cy="4162320"/>
          </a:xfrm>
          <a:prstGeom prst="roundRect">
            <a:avLst>
              <a:gd name="adj" fmla="val 0"/>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图片 1" descr=""/>
          <p:cNvPicPr/>
          <p:nvPr/>
        </p:nvPicPr>
        <p:blipFill>
          <a:blip r:embed="rId1"/>
          <a:stretch/>
        </p:blipFill>
        <p:spPr>
          <a:xfrm>
            <a:off x="0" y="0"/>
            <a:ext cx="7878600" cy="2216160"/>
          </a:xfrm>
          <a:prstGeom prst="rect">
            <a:avLst/>
          </a:prstGeom>
          <a:ln w="0">
            <a:noFill/>
          </a:ln>
        </p:spPr>
      </p:pic>
      <p:sp>
        <p:nvSpPr>
          <p:cNvPr id="62" name="文本框 2"/>
          <p:cNvSpPr/>
          <p:nvPr/>
        </p:nvSpPr>
        <p:spPr>
          <a:xfrm>
            <a:off x="9928800" y="628560"/>
            <a:ext cx="851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4b649f"/>
                </a:solidFill>
                <a:latin typeface="Arial"/>
              </a:rPr>
              <a:t>摘要</a:t>
            </a:r>
            <a:endParaRPr b="0" lang="en-US" sz="4400" spc="-1" strike="noStrike">
              <a:solidFill>
                <a:srgbClr val="000000"/>
              </a:solidFill>
              <a:latin typeface="Arial"/>
            </a:endParaRPr>
          </a:p>
        </p:txBody>
      </p:sp>
      <p:sp>
        <p:nvSpPr>
          <p:cNvPr id="63" name="矩形 3"/>
          <p:cNvSpPr/>
          <p:nvPr/>
        </p:nvSpPr>
        <p:spPr>
          <a:xfrm>
            <a:off x="8967600" y="1352520"/>
            <a:ext cx="2070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649f"/>
                </a:solidFill>
                <a:latin typeface="Arial"/>
              </a:rPr>
              <a:t>ABSTRACT</a:t>
            </a:r>
            <a:endParaRPr b="0" lang="en-US" sz="2800" spc="-1" strike="noStrike">
              <a:solidFill>
                <a:srgbClr val="000000"/>
              </a:solidFill>
              <a:latin typeface="Arial"/>
            </a:endParaRPr>
          </a:p>
        </p:txBody>
      </p:sp>
      <p:sp>
        <p:nvSpPr>
          <p:cNvPr id="64" name="圆角矩形 4"/>
          <p:cNvSpPr/>
          <p:nvPr/>
        </p:nvSpPr>
        <p:spPr>
          <a:xfrm>
            <a:off x="1523880" y="2068560"/>
            <a:ext cx="9487080" cy="4162320"/>
          </a:xfrm>
          <a:prstGeom prst="roundRect">
            <a:avLst>
              <a:gd name="adj" fmla="val 0"/>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矩形 6"/>
          <p:cNvSpPr/>
          <p:nvPr/>
        </p:nvSpPr>
        <p:spPr>
          <a:xfrm>
            <a:off x="10726560" y="5940360"/>
            <a:ext cx="474840" cy="4748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矩形 7"/>
          <p:cNvSpPr/>
          <p:nvPr/>
        </p:nvSpPr>
        <p:spPr>
          <a:xfrm>
            <a:off x="10456920" y="5711760"/>
            <a:ext cx="476280" cy="474840"/>
          </a:xfrm>
          <a:prstGeom prst="rect">
            <a:avLst/>
          </a:prstGeom>
          <a:solidFill>
            <a:srgbClr val="4b649f">
              <a:alpha val="6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矩形 8"/>
          <p:cNvSpPr/>
          <p:nvPr/>
        </p:nvSpPr>
        <p:spPr>
          <a:xfrm>
            <a:off x="1220760" y="1874880"/>
            <a:ext cx="476280" cy="47628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矩形 9"/>
          <p:cNvSpPr/>
          <p:nvPr/>
        </p:nvSpPr>
        <p:spPr>
          <a:xfrm>
            <a:off x="1373040" y="2027160"/>
            <a:ext cx="476280" cy="476280"/>
          </a:xfrm>
          <a:prstGeom prst="rect">
            <a:avLst/>
          </a:prstGeom>
          <a:solidFill>
            <a:srgbClr val="4b649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文本框 10"/>
          <p:cNvSpPr/>
          <p:nvPr/>
        </p:nvSpPr>
        <p:spPr>
          <a:xfrm>
            <a:off x="1998720" y="2446200"/>
            <a:ext cx="878184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Arial"/>
              </a:rPr>
              <a:t>毕业论文，泛指专科毕业论文、本科毕业论文（学士学位毕业论文）、硕士研究生毕业论文（硕士学位论文）、博士研究生毕业论文（博士学位论文）等，即需要在学业完成前写作并提交的论文，是教学或科研活动的重要组成部分之一。</a:t>
            </a:r>
            <a:endParaRPr b="0" lang="en-US" sz="1800" spc="-1" strike="noStrike">
              <a:solidFill>
                <a:srgbClr val="000000"/>
              </a:solidFill>
              <a:latin typeface="Arial"/>
            </a:endParaRPr>
          </a:p>
        </p:txBody>
      </p:sp>
      <p:sp>
        <p:nvSpPr>
          <p:cNvPr id="70" name="文本框 14"/>
          <p:cNvSpPr/>
          <p:nvPr/>
        </p:nvSpPr>
        <p:spPr>
          <a:xfrm>
            <a:off x="2364840" y="38242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填写关键词</a:t>
            </a:r>
            <a:endParaRPr b="0" lang="en-US" sz="2800" spc="-1" strike="noStrike">
              <a:solidFill>
                <a:srgbClr val="000000"/>
              </a:solidFill>
              <a:latin typeface="Arial"/>
            </a:endParaRPr>
          </a:p>
        </p:txBody>
      </p:sp>
      <p:sp>
        <p:nvSpPr>
          <p:cNvPr id="71" name="文本框 15"/>
          <p:cNvSpPr/>
          <p:nvPr/>
        </p:nvSpPr>
        <p:spPr>
          <a:xfrm>
            <a:off x="4535640" y="38242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填写关键词</a:t>
            </a:r>
            <a:endParaRPr b="0" lang="en-US" sz="2800" spc="-1" strike="noStrike">
              <a:solidFill>
                <a:srgbClr val="000000"/>
              </a:solidFill>
              <a:latin typeface="Arial"/>
            </a:endParaRPr>
          </a:p>
        </p:txBody>
      </p:sp>
      <p:sp>
        <p:nvSpPr>
          <p:cNvPr id="72" name="文本框 16"/>
          <p:cNvSpPr/>
          <p:nvPr/>
        </p:nvSpPr>
        <p:spPr>
          <a:xfrm>
            <a:off x="6706440" y="38242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填写关键词</a:t>
            </a:r>
            <a:endParaRPr b="0" lang="en-US" sz="2800" spc="-1" strike="noStrike">
              <a:solidFill>
                <a:srgbClr val="000000"/>
              </a:solidFill>
              <a:latin typeface="Arial"/>
            </a:endParaRPr>
          </a:p>
        </p:txBody>
      </p:sp>
      <p:sp>
        <p:nvSpPr>
          <p:cNvPr id="73" name="文本框 17"/>
          <p:cNvSpPr/>
          <p:nvPr/>
        </p:nvSpPr>
        <p:spPr>
          <a:xfrm>
            <a:off x="8946360" y="38242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填写关键词</a:t>
            </a:r>
            <a:endParaRPr b="0" lang="en-US" sz="2800" spc="-1" strike="noStrike">
              <a:solidFill>
                <a:srgbClr val="000000"/>
              </a:solidFill>
              <a:latin typeface="Arial"/>
            </a:endParaRPr>
          </a:p>
        </p:txBody>
      </p:sp>
      <p:sp>
        <p:nvSpPr>
          <p:cNvPr id="74" name="文本框 18"/>
          <p:cNvSpPr/>
          <p:nvPr/>
        </p:nvSpPr>
        <p:spPr>
          <a:xfrm>
            <a:off x="1998720" y="4406760"/>
            <a:ext cx="856116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Graduation thesis, refers to the specialized graduation thesis, undergraduate graduation thesis (graduated with a bachelor's degree thesis), master's graduate student graduation thesis (M.A. thesis, doctoral students graduation thesis (Doctoral Dissertation), namely the need in studies of writing and submitting the is one of an important part of the teaching and scientific research activit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图片 1" descr=""/>
          <p:cNvPicPr/>
          <p:nvPr/>
        </p:nvPicPr>
        <p:blipFill>
          <a:blip r:embed="rId1"/>
          <a:stretch/>
        </p:blipFill>
        <p:spPr>
          <a:xfrm>
            <a:off x="8610480" y="0"/>
            <a:ext cx="3581640" cy="1006560"/>
          </a:xfrm>
          <a:prstGeom prst="rect">
            <a:avLst/>
          </a:prstGeom>
          <a:ln w="0">
            <a:noFill/>
          </a:ln>
        </p:spPr>
      </p:pic>
      <p:sp>
        <p:nvSpPr>
          <p:cNvPr id="442"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四部分标题</a:t>
            </a:r>
            <a:endParaRPr b="0" lang="en-US" sz="2800" spc="-1" strike="noStrike">
              <a:solidFill>
                <a:srgbClr val="000000"/>
              </a:solidFill>
              <a:latin typeface="Arial"/>
            </a:endParaRPr>
          </a:p>
        </p:txBody>
      </p:sp>
      <p:pic>
        <p:nvPicPr>
          <p:cNvPr id="443" name="直接连接符 3" descr=""/>
          <p:cNvPicPr/>
          <p:nvPr/>
        </p:nvPicPr>
        <p:blipFill>
          <a:blip r:embed="rId2"/>
          <a:stretch/>
        </p:blipFill>
        <p:spPr>
          <a:xfrm>
            <a:off x="0" y="798480"/>
            <a:ext cx="11192040" cy="23760"/>
          </a:xfrm>
          <a:prstGeom prst="rect">
            <a:avLst/>
          </a:prstGeom>
          <a:ln w="0">
            <a:noFill/>
          </a:ln>
        </p:spPr>
      </p:pic>
      <p:sp>
        <p:nvSpPr>
          <p:cNvPr id="444"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5" name="组合 5"/>
          <p:cNvGrpSpPr/>
          <p:nvPr/>
        </p:nvGrpSpPr>
        <p:grpSpPr>
          <a:xfrm>
            <a:off x="214200" y="125280"/>
            <a:ext cx="638280" cy="638280"/>
            <a:chOff x="214200" y="125280"/>
            <a:chExt cx="638280" cy="638280"/>
          </a:xfrm>
        </p:grpSpPr>
        <p:sp>
          <p:nvSpPr>
            <p:cNvPr id="446" name="椭圆 6"/>
            <p:cNvSpPr/>
            <p:nvPr/>
          </p:nvSpPr>
          <p:spPr>
            <a:xfrm>
              <a:off x="214200" y="125280"/>
              <a:ext cx="6382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椭圆 7"/>
            <p:cNvSpPr/>
            <p:nvPr/>
          </p:nvSpPr>
          <p:spPr>
            <a:xfrm>
              <a:off x="257040" y="168120"/>
              <a:ext cx="5526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KSO_Shape"/>
            <p:cNvSpPr/>
            <p:nvPr/>
          </p:nvSpPr>
          <p:spPr>
            <a:xfrm>
              <a:off x="366480" y="299880"/>
              <a:ext cx="333360" cy="289080"/>
            </a:xfrm>
            <a:custGeom>
              <a:avLst/>
              <a:gdLst/>
              <a:ahLst/>
              <a:rect l="l" t="t" r="r" b="b"/>
              <a:pathLst>
                <a:path w="5325" h="4595">
                  <a:moveTo>
                    <a:pt x="5325" y="2829"/>
                  </a:moveTo>
                  <a:lnTo>
                    <a:pt x="5073" y="2829"/>
                  </a:lnTo>
                  <a:lnTo>
                    <a:pt x="5073" y="0"/>
                  </a:lnTo>
                  <a:lnTo>
                    <a:pt x="253" y="0"/>
                  </a:lnTo>
                  <a:lnTo>
                    <a:pt x="253" y="2829"/>
                  </a:lnTo>
                  <a:lnTo>
                    <a:pt x="0" y="2829"/>
                  </a:lnTo>
                  <a:lnTo>
                    <a:pt x="0" y="3269"/>
                  </a:lnTo>
                  <a:lnTo>
                    <a:pt x="1284" y="3269"/>
                  </a:lnTo>
                  <a:lnTo>
                    <a:pt x="926" y="4595"/>
                  </a:lnTo>
                  <a:lnTo>
                    <a:pt x="1404" y="4595"/>
                  </a:lnTo>
                  <a:lnTo>
                    <a:pt x="1762" y="3269"/>
                  </a:lnTo>
                  <a:lnTo>
                    <a:pt x="3565" y="3269"/>
                  </a:lnTo>
                  <a:lnTo>
                    <a:pt x="3764" y="4009"/>
                  </a:lnTo>
                  <a:lnTo>
                    <a:pt x="3923" y="4595"/>
                  </a:lnTo>
                  <a:lnTo>
                    <a:pt x="4400" y="4595"/>
                  </a:lnTo>
                  <a:lnTo>
                    <a:pt x="4042" y="3269"/>
                  </a:lnTo>
                  <a:lnTo>
                    <a:pt x="5325" y="3269"/>
                  </a:lnTo>
                  <a:lnTo>
                    <a:pt x="5325" y="2829"/>
                  </a:lnTo>
                  <a:close/>
                  <a:moveTo>
                    <a:pt x="4623" y="2732"/>
                  </a:moveTo>
                  <a:lnTo>
                    <a:pt x="4623" y="2732"/>
                  </a:lnTo>
                  <a:lnTo>
                    <a:pt x="4623" y="2742"/>
                  </a:lnTo>
                  <a:lnTo>
                    <a:pt x="4622" y="2752"/>
                  </a:lnTo>
                  <a:lnTo>
                    <a:pt x="4619" y="2760"/>
                  </a:lnTo>
                  <a:lnTo>
                    <a:pt x="4615" y="2770"/>
                  </a:lnTo>
                  <a:lnTo>
                    <a:pt x="4612" y="2779"/>
                  </a:lnTo>
                  <a:lnTo>
                    <a:pt x="4607" y="2786"/>
                  </a:lnTo>
                  <a:lnTo>
                    <a:pt x="4601" y="2794"/>
                  </a:lnTo>
                  <a:lnTo>
                    <a:pt x="4595" y="2801"/>
                  </a:lnTo>
                  <a:lnTo>
                    <a:pt x="4588" y="2807"/>
                  </a:lnTo>
                  <a:lnTo>
                    <a:pt x="4581" y="2812"/>
                  </a:lnTo>
                  <a:lnTo>
                    <a:pt x="4573" y="2817"/>
                  </a:lnTo>
                  <a:lnTo>
                    <a:pt x="4564" y="2822"/>
                  </a:lnTo>
                  <a:lnTo>
                    <a:pt x="4555" y="2824"/>
                  </a:lnTo>
                  <a:lnTo>
                    <a:pt x="4547" y="2827"/>
                  </a:lnTo>
                  <a:lnTo>
                    <a:pt x="4537" y="2828"/>
                  </a:lnTo>
                  <a:lnTo>
                    <a:pt x="4527" y="2829"/>
                  </a:lnTo>
                  <a:lnTo>
                    <a:pt x="3213" y="2829"/>
                  </a:lnTo>
                  <a:lnTo>
                    <a:pt x="3203" y="2828"/>
                  </a:lnTo>
                  <a:lnTo>
                    <a:pt x="3194" y="2827"/>
                  </a:lnTo>
                  <a:lnTo>
                    <a:pt x="3185" y="2824"/>
                  </a:lnTo>
                  <a:lnTo>
                    <a:pt x="3175" y="2822"/>
                  </a:lnTo>
                  <a:lnTo>
                    <a:pt x="3168" y="2817"/>
                  </a:lnTo>
                  <a:lnTo>
                    <a:pt x="3159" y="2812"/>
                  </a:lnTo>
                  <a:lnTo>
                    <a:pt x="3152" y="2807"/>
                  </a:lnTo>
                  <a:lnTo>
                    <a:pt x="3146" y="2801"/>
                  </a:lnTo>
                  <a:lnTo>
                    <a:pt x="3140" y="2794"/>
                  </a:lnTo>
                  <a:lnTo>
                    <a:pt x="3133" y="2786"/>
                  </a:lnTo>
                  <a:lnTo>
                    <a:pt x="3129" y="2779"/>
                  </a:lnTo>
                  <a:lnTo>
                    <a:pt x="3125" y="2770"/>
                  </a:lnTo>
                  <a:lnTo>
                    <a:pt x="3121" y="2760"/>
                  </a:lnTo>
                  <a:lnTo>
                    <a:pt x="3119" y="2752"/>
                  </a:lnTo>
                  <a:lnTo>
                    <a:pt x="3118" y="2742"/>
                  </a:lnTo>
                  <a:lnTo>
                    <a:pt x="3118" y="2732"/>
                  </a:lnTo>
                  <a:lnTo>
                    <a:pt x="3118" y="2045"/>
                  </a:lnTo>
                  <a:lnTo>
                    <a:pt x="3118" y="2035"/>
                  </a:lnTo>
                  <a:lnTo>
                    <a:pt x="3119" y="2025"/>
                  </a:lnTo>
                  <a:lnTo>
                    <a:pt x="3121" y="2016"/>
                  </a:lnTo>
                  <a:lnTo>
                    <a:pt x="3125" y="2008"/>
                  </a:lnTo>
                  <a:lnTo>
                    <a:pt x="3129" y="1999"/>
                  </a:lnTo>
                  <a:lnTo>
                    <a:pt x="3133" y="1991"/>
                  </a:lnTo>
                  <a:lnTo>
                    <a:pt x="3140" y="1983"/>
                  </a:lnTo>
                  <a:lnTo>
                    <a:pt x="3146" y="1977"/>
                  </a:lnTo>
                  <a:lnTo>
                    <a:pt x="3152" y="1971"/>
                  </a:lnTo>
                  <a:lnTo>
                    <a:pt x="3159" y="1965"/>
                  </a:lnTo>
                  <a:lnTo>
                    <a:pt x="3168" y="1960"/>
                  </a:lnTo>
                  <a:lnTo>
                    <a:pt x="3175" y="1956"/>
                  </a:lnTo>
                  <a:lnTo>
                    <a:pt x="3185" y="1953"/>
                  </a:lnTo>
                  <a:lnTo>
                    <a:pt x="3194" y="1950"/>
                  </a:lnTo>
                  <a:lnTo>
                    <a:pt x="3203" y="1949"/>
                  </a:lnTo>
                  <a:lnTo>
                    <a:pt x="3213" y="1949"/>
                  </a:lnTo>
                  <a:lnTo>
                    <a:pt x="4527" y="1949"/>
                  </a:lnTo>
                  <a:lnTo>
                    <a:pt x="4537" y="1949"/>
                  </a:lnTo>
                  <a:lnTo>
                    <a:pt x="4547" y="1950"/>
                  </a:lnTo>
                  <a:lnTo>
                    <a:pt x="4555" y="1953"/>
                  </a:lnTo>
                  <a:lnTo>
                    <a:pt x="4564" y="1956"/>
                  </a:lnTo>
                  <a:lnTo>
                    <a:pt x="4573" y="1960"/>
                  </a:lnTo>
                  <a:lnTo>
                    <a:pt x="4581" y="1965"/>
                  </a:lnTo>
                  <a:lnTo>
                    <a:pt x="4588" y="1971"/>
                  </a:lnTo>
                  <a:lnTo>
                    <a:pt x="4595" y="1977"/>
                  </a:lnTo>
                  <a:lnTo>
                    <a:pt x="4601" y="1983"/>
                  </a:lnTo>
                  <a:lnTo>
                    <a:pt x="4607" y="1991"/>
                  </a:lnTo>
                  <a:lnTo>
                    <a:pt x="4612" y="1999"/>
                  </a:lnTo>
                  <a:lnTo>
                    <a:pt x="4615" y="2008"/>
                  </a:lnTo>
                  <a:lnTo>
                    <a:pt x="4619" y="2016"/>
                  </a:lnTo>
                  <a:lnTo>
                    <a:pt x="4622" y="2025"/>
                  </a:lnTo>
                  <a:lnTo>
                    <a:pt x="4623" y="2035"/>
                  </a:lnTo>
                  <a:lnTo>
                    <a:pt x="4623" y="2045"/>
                  </a:lnTo>
                  <a:lnTo>
                    <a:pt x="4623" y="2732"/>
                  </a:lnTo>
                  <a:close/>
                </a:path>
              </a:pathLst>
            </a:custGeom>
            <a:solidFill>
              <a:srgbClr val="4b649f"/>
            </a:solidFill>
            <a:ln w="0">
              <a:noFill/>
            </a:ln>
          </p:spPr>
          <p:style>
            <a:lnRef idx="0"/>
            <a:fillRef idx="0"/>
            <a:effectRef idx="0"/>
            <a:fontRef idx="minor"/>
          </p:style>
          <p:txBody>
            <a:bodyPr lIns="90000" rIns="90000" tIns="-430920" bIns="242280" anchor="ctr">
              <a:noAutofit/>
            </a:bodyPr>
            <a:p>
              <a:endParaRPr b="0" lang="en-US" sz="1800" spc="-1" strike="noStrike">
                <a:solidFill>
                  <a:srgbClr val="000000"/>
                </a:solidFill>
                <a:latin typeface="Arial"/>
              </a:endParaRPr>
            </a:p>
          </p:txBody>
        </p:sp>
      </p:grpSp>
      <p:sp>
        <p:nvSpPr>
          <p:cNvPr id="449" name="Title 13"/>
          <p:cNvSpPr/>
          <p:nvPr/>
        </p:nvSpPr>
        <p:spPr>
          <a:xfrm>
            <a:off x="7329600" y="1558800"/>
            <a:ext cx="3846240" cy="709560"/>
          </a:xfrm>
          <a:prstGeom prst="rect">
            <a:avLst/>
          </a:prstGeom>
          <a:noFill/>
          <a:ln w="0">
            <a:noFill/>
          </a:ln>
        </p:spPr>
        <p:style>
          <a:lnRef idx="0"/>
          <a:fillRef idx="0"/>
          <a:effectRef idx="0"/>
          <a:fontRef idx="minor"/>
        </p:style>
        <p:txBody>
          <a:bodyPr lIns="122040" rIns="122040" tIns="60840" bIns="60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这里添加文字标题</a:t>
            </a:r>
            <a:endParaRPr b="0" lang="en-US" sz="2400" spc="-1" strike="noStrike">
              <a:solidFill>
                <a:srgbClr val="000000"/>
              </a:solidFill>
              <a:latin typeface="Arial"/>
            </a:endParaRPr>
          </a:p>
        </p:txBody>
      </p:sp>
      <p:grpSp>
        <p:nvGrpSpPr>
          <p:cNvPr id="450" name="Group 2"/>
          <p:cNvGrpSpPr/>
          <p:nvPr/>
        </p:nvGrpSpPr>
        <p:grpSpPr>
          <a:xfrm>
            <a:off x="6696000" y="1738440"/>
            <a:ext cx="633600" cy="633240"/>
            <a:chOff x="6696000" y="1738440"/>
            <a:chExt cx="633600" cy="633240"/>
          </a:xfrm>
        </p:grpSpPr>
        <p:sp>
          <p:nvSpPr>
            <p:cNvPr id="451" name="Oval 11"/>
            <p:cNvSpPr/>
            <p:nvPr/>
          </p:nvSpPr>
          <p:spPr>
            <a:xfrm>
              <a:off x="6696000" y="1738440"/>
              <a:ext cx="633600" cy="63324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Freeform 6"/>
            <p:cNvSpPr/>
            <p:nvPr/>
          </p:nvSpPr>
          <p:spPr>
            <a:xfrm>
              <a:off x="6928200" y="1911960"/>
              <a:ext cx="169200" cy="285840"/>
            </a:xfrm>
            <a:custGeom>
              <a:avLst/>
              <a:gdLst/>
              <a:ahLst/>
              <a:rect l="l" t="t" r="r" b="b"/>
              <a:pathLst>
                <a:path w="232" h="392">
                  <a:moveTo>
                    <a:pt x="192" y="0"/>
                  </a:moveTo>
                  <a:cubicBezTo>
                    <a:pt x="40" y="0"/>
                    <a:pt x="40" y="0"/>
                    <a:pt x="40" y="0"/>
                  </a:cubicBezTo>
                  <a:cubicBezTo>
                    <a:pt x="18" y="0"/>
                    <a:pt x="0" y="18"/>
                    <a:pt x="0" y="40"/>
                  </a:cubicBezTo>
                  <a:cubicBezTo>
                    <a:pt x="0" y="352"/>
                    <a:pt x="0" y="352"/>
                    <a:pt x="0" y="352"/>
                  </a:cubicBezTo>
                  <a:cubicBezTo>
                    <a:pt x="0" y="374"/>
                    <a:pt x="18" y="392"/>
                    <a:pt x="40" y="392"/>
                  </a:cubicBezTo>
                  <a:cubicBezTo>
                    <a:pt x="192" y="392"/>
                    <a:pt x="192" y="392"/>
                    <a:pt x="192" y="392"/>
                  </a:cubicBezTo>
                  <a:cubicBezTo>
                    <a:pt x="214" y="392"/>
                    <a:pt x="232" y="374"/>
                    <a:pt x="232" y="352"/>
                  </a:cubicBezTo>
                  <a:cubicBezTo>
                    <a:pt x="232" y="40"/>
                    <a:pt x="232" y="40"/>
                    <a:pt x="232" y="40"/>
                  </a:cubicBezTo>
                  <a:cubicBezTo>
                    <a:pt x="232" y="18"/>
                    <a:pt x="214" y="0"/>
                    <a:pt x="192" y="0"/>
                  </a:cubicBezTo>
                  <a:close/>
                  <a:moveTo>
                    <a:pt x="116" y="376"/>
                  </a:moveTo>
                  <a:cubicBezTo>
                    <a:pt x="101" y="376"/>
                    <a:pt x="88" y="367"/>
                    <a:pt x="88" y="356"/>
                  </a:cubicBezTo>
                  <a:cubicBezTo>
                    <a:pt x="88" y="345"/>
                    <a:pt x="101" y="336"/>
                    <a:pt x="116" y="336"/>
                  </a:cubicBezTo>
                  <a:cubicBezTo>
                    <a:pt x="131" y="336"/>
                    <a:pt x="144" y="345"/>
                    <a:pt x="144" y="356"/>
                  </a:cubicBezTo>
                  <a:cubicBezTo>
                    <a:pt x="144" y="367"/>
                    <a:pt x="131" y="376"/>
                    <a:pt x="116" y="376"/>
                  </a:cubicBezTo>
                  <a:close/>
                  <a:moveTo>
                    <a:pt x="200" y="316"/>
                  </a:moveTo>
                  <a:cubicBezTo>
                    <a:pt x="32" y="316"/>
                    <a:pt x="32" y="316"/>
                    <a:pt x="32" y="316"/>
                  </a:cubicBezTo>
                  <a:cubicBezTo>
                    <a:pt x="32" y="52"/>
                    <a:pt x="32" y="52"/>
                    <a:pt x="32" y="52"/>
                  </a:cubicBezTo>
                  <a:cubicBezTo>
                    <a:pt x="200" y="52"/>
                    <a:pt x="200" y="52"/>
                    <a:pt x="200" y="52"/>
                  </a:cubicBezTo>
                  <a:lnTo>
                    <a:pt x="200" y="316"/>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grpSp>
      <p:grpSp>
        <p:nvGrpSpPr>
          <p:cNvPr id="453" name="Group 3"/>
          <p:cNvGrpSpPr/>
          <p:nvPr/>
        </p:nvGrpSpPr>
        <p:grpSpPr>
          <a:xfrm>
            <a:off x="6696000" y="3090960"/>
            <a:ext cx="633600" cy="633240"/>
            <a:chOff x="6696000" y="3090960"/>
            <a:chExt cx="633600" cy="633240"/>
          </a:xfrm>
        </p:grpSpPr>
        <p:sp>
          <p:nvSpPr>
            <p:cNvPr id="454" name="Oval 22"/>
            <p:cNvSpPr/>
            <p:nvPr/>
          </p:nvSpPr>
          <p:spPr>
            <a:xfrm>
              <a:off x="6696000" y="3090960"/>
              <a:ext cx="633600" cy="633240"/>
            </a:xfrm>
            <a:prstGeom prst="ellipse">
              <a:avLst/>
            </a:prstGeom>
            <a:solidFill>
              <a:srgbClr val="5e8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Freeform 11"/>
            <p:cNvSpPr/>
            <p:nvPr/>
          </p:nvSpPr>
          <p:spPr>
            <a:xfrm>
              <a:off x="6882480" y="3277800"/>
              <a:ext cx="260280" cy="259560"/>
            </a:xfrm>
            <a:custGeom>
              <a:avLst/>
              <a:gdLst/>
              <a:ahLst/>
              <a:rect l="l" t="t" r="r" b="b"/>
              <a:pathLst>
                <a:path w="358" h="357">
                  <a:moveTo>
                    <a:pt x="208" y="207"/>
                  </a:moveTo>
                  <a:cubicBezTo>
                    <a:pt x="177" y="239"/>
                    <a:pt x="140" y="269"/>
                    <a:pt x="126" y="255"/>
                  </a:cubicBezTo>
                  <a:cubicBezTo>
                    <a:pt x="105" y="234"/>
                    <a:pt x="92" y="216"/>
                    <a:pt x="46" y="253"/>
                  </a:cubicBezTo>
                  <a:cubicBezTo>
                    <a:pt x="0" y="290"/>
                    <a:pt x="36" y="314"/>
                    <a:pt x="56" y="334"/>
                  </a:cubicBezTo>
                  <a:cubicBezTo>
                    <a:pt x="79" y="357"/>
                    <a:pt x="165" y="335"/>
                    <a:pt x="251" y="250"/>
                  </a:cubicBezTo>
                  <a:cubicBezTo>
                    <a:pt x="336" y="165"/>
                    <a:pt x="358" y="78"/>
                    <a:pt x="335" y="55"/>
                  </a:cubicBezTo>
                  <a:cubicBezTo>
                    <a:pt x="315" y="35"/>
                    <a:pt x="290" y="0"/>
                    <a:pt x="254" y="45"/>
                  </a:cubicBezTo>
                  <a:cubicBezTo>
                    <a:pt x="217" y="91"/>
                    <a:pt x="235" y="104"/>
                    <a:pt x="256" y="125"/>
                  </a:cubicBezTo>
                  <a:cubicBezTo>
                    <a:pt x="270" y="139"/>
                    <a:pt x="240" y="176"/>
                    <a:pt x="208" y="20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grpSp>
      <p:grpSp>
        <p:nvGrpSpPr>
          <p:cNvPr id="456" name="Group 4"/>
          <p:cNvGrpSpPr/>
          <p:nvPr/>
        </p:nvGrpSpPr>
        <p:grpSpPr>
          <a:xfrm>
            <a:off x="6696000" y="4460760"/>
            <a:ext cx="633600" cy="633600"/>
            <a:chOff x="6696000" y="4460760"/>
            <a:chExt cx="633600" cy="633600"/>
          </a:xfrm>
        </p:grpSpPr>
        <p:sp>
          <p:nvSpPr>
            <p:cNvPr id="457" name="Oval 27"/>
            <p:cNvSpPr/>
            <p:nvPr/>
          </p:nvSpPr>
          <p:spPr>
            <a:xfrm>
              <a:off x="6696000" y="4460760"/>
              <a:ext cx="633600" cy="633600"/>
            </a:xfrm>
            <a:prstGeom prst="ellipse">
              <a:avLst/>
            </a:prstGeom>
            <a:solidFill>
              <a:srgbClr val="7db1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Freeform 16"/>
            <p:cNvSpPr/>
            <p:nvPr/>
          </p:nvSpPr>
          <p:spPr>
            <a:xfrm>
              <a:off x="6882840" y="4677480"/>
              <a:ext cx="254880" cy="224280"/>
            </a:xfrm>
            <a:custGeom>
              <a:avLst/>
              <a:gdLst/>
              <a:ahLst/>
              <a:rect l="l" t="t" r="r" b="b"/>
              <a:pathLst>
                <a:path w="400" h="352">
                  <a:moveTo>
                    <a:pt x="360" y="0"/>
                  </a:moveTo>
                  <a:cubicBezTo>
                    <a:pt x="40" y="0"/>
                    <a:pt x="40" y="0"/>
                    <a:pt x="40" y="0"/>
                  </a:cubicBezTo>
                  <a:cubicBezTo>
                    <a:pt x="18" y="0"/>
                    <a:pt x="0" y="18"/>
                    <a:pt x="0" y="40"/>
                  </a:cubicBezTo>
                  <a:cubicBezTo>
                    <a:pt x="0" y="260"/>
                    <a:pt x="0" y="260"/>
                    <a:pt x="0" y="260"/>
                  </a:cubicBezTo>
                  <a:cubicBezTo>
                    <a:pt x="0" y="282"/>
                    <a:pt x="17" y="303"/>
                    <a:pt x="39" y="308"/>
                  </a:cubicBezTo>
                  <a:cubicBezTo>
                    <a:pt x="126" y="325"/>
                    <a:pt x="126" y="325"/>
                    <a:pt x="126" y="325"/>
                  </a:cubicBezTo>
                  <a:cubicBezTo>
                    <a:pt x="126" y="325"/>
                    <a:pt x="51" y="352"/>
                    <a:pt x="100" y="352"/>
                  </a:cubicBezTo>
                  <a:cubicBezTo>
                    <a:pt x="300" y="352"/>
                    <a:pt x="300" y="352"/>
                    <a:pt x="300" y="352"/>
                  </a:cubicBezTo>
                  <a:cubicBezTo>
                    <a:pt x="348" y="352"/>
                    <a:pt x="273" y="325"/>
                    <a:pt x="273" y="325"/>
                  </a:cubicBezTo>
                  <a:cubicBezTo>
                    <a:pt x="361" y="308"/>
                    <a:pt x="361" y="308"/>
                    <a:pt x="361" y="308"/>
                  </a:cubicBezTo>
                  <a:cubicBezTo>
                    <a:pt x="382" y="303"/>
                    <a:pt x="400" y="282"/>
                    <a:pt x="400" y="260"/>
                  </a:cubicBezTo>
                  <a:cubicBezTo>
                    <a:pt x="400" y="40"/>
                    <a:pt x="400" y="40"/>
                    <a:pt x="400" y="40"/>
                  </a:cubicBezTo>
                  <a:cubicBezTo>
                    <a:pt x="400" y="18"/>
                    <a:pt x="382" y="0"/>
                    <a:pt x="360" y="0"/>
                  </a:cubicBezTo>
                  <a:close/>
                  <a:moveTo>
                    <a:pt x="360" y="258"/>
                  </a:moveTo>
                  <a:cubicBezTo>
                    <a:pt x="40" y="258"/>
                    <a:pt x="40" y="258"/>
                    <a:pt x="40" y="258"/>
                  </a:cubicBezTo>
                  <a:cubicBezTo>
                    <a:pt x="40" y="36"/>
                    <a:pt x="40" y="36"/>
                    <a:pt x="40" y="36"/>
                  </a:cubicBezTo>
                  <a:cubicBezTo>
                    <a:pt x="360" y="36"/>
                    <a:pt x="360" y="36"/>
                    <a:pt x="360" y="36"/>
                  </a:cubicBezTo>
                  <a:lnTo>
                    <a:pt x="360" y="258"/>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grpSp>
      <p:sp>
        <p:nvSpPr>
          <p:cNvPr id="459" name="Title 13"/>
          <p:cNvSpPr/>
          <p:nvPr/>
        </p:nvSpPr>
        <p:spPr>
          <a:xfrm>
            <a:off x="7329600" y="2908440"/>
            <a:ext cx="3846240" cy="709560"/>
          </a:xfrm>
          <a:prstGeom prst="rect">
            <a:avLst/>
          </a:prstGeom>
          <a:noFill/>
          <a:ln w="0">
            <a:noFill/>
          </a:ln>
        </p:spPr>
        <p:style>
          <a:lnRef idx="0"/>
          <a:fillRef idx="0"/>
          <a:effectRef idx="0"/>
          <a:fontRef idx="minor"/>
        </p:style>
        <p:txBody>
          <a:bodyPr lIns="122040" rIns="122040" tIns="60840" bIns="60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这里添加文字标题</a:t>
            </a:r>
            <a:endParaRPr b="0" lang="en-US" sz="2400" spc="-1" strike="noStrike">
              <a:solidFill>
                <a:srgbClr val="000000"/>
              </a:solidFill>
              <a:latin typeface="Arial"/>
            </a:endParaRPr>
          </a:p>
        </p:txBody>
      </p:sp>
      <p:sp>
        <p:nvSpPr>
          <p:cNvPr id="460" name="Title 13"/>
          <p:cNvSpPr/>
          <p:nvPr/>
        </p:nvSpPr>
        <p:spPr>
          <a:xfrm>
            <a:off x="7329600" y="4322880"/>
            <a:ext cx="3846240" cy="709560"/>
          </a:xfrm>
          <a:prstGeom prst="rect">
            <a:avLst/>
          </a:prstGeom>
          <a:noFill/>
          <a:ln w="0">
            <a:noFill/>
          </a:ln>
        </p:spPr>
        <p:style>
          <a:lnRef idx="0"/>
          <a:fillRef idx="0"/>
          <a:effectRef idx="0"/>
          <a:fontRef idx="minor"/>
        </p:style>
        <p:txBody>
          <a:bodyPr lIns="122040" rIns="122040" tIns="60840" bIns="60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这里添加文字标题</a:t>
            </a:r>
            <a:endParaRPr b="0" lang="en-US" sz="2400" spc="-1" strike="noStrike">
              <a:solidFill>
                <a:srgbClr val="000000"/>
              </a:solidFill>
              <a:latin typeface="Arial"/>
            </a:endParaRPr>
          </a:p>
        </p:txBody>
      </p:sp>
      <p:sp>
        <p:nvSpPr>
          <p:cNvPr id="461" name="文本框 21"/>
          <p:cNvSpPr/>
          <p:nvPr/>
        </p:nvSpPr>
        <p:spPr>
          <a:xfrm>
            <a:off x="7329600" y="2119320"/>
            <a:ext cx="3846240" cy="3859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462" name="文本框 22"/>
          <p:cNvSpPr/>
          <p:nvPr/>
        </p:nvSpPr>
        <p:spPr>
          <a:xfrm>
            <a:off x="7329600" y="3484440"/>
            <a:ext cx="3846240" cy="3859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463" name="文本框 23"/>
          <p:cNvSpPr/>
          <p:nvPr/>
        </p:nvSpPr>
        <p:spPr>
          <a:xfrm>
            <a:off x="7329600" y="4898880"/>
            <a:ext cx="3846240" cy="3859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pic>
        <p:nvPicPr>
          <p:cNvPr id="464" name="对象 27" descr=""/>
          <p:cNvPicPr/>
          <p:nvPr/>
        </p:nvPicPr>
        <p:blipFill>
          <a:blip r:embed="rId3"/>
          <a:stretch/>
        </p:blipFill>
        <p:spPr>
          <a:xfrm>
            <a:off x="-257040" y="1706400"/>
            <a:ext cx="6953040" cy="4037040"/>
          </a:xfrm>
          <a:prstGeom prst="rect">
            <a:avLst/>
          </a:prstGeom>
          <a:ln w="0">
            <a:noFill/>
          </a:ln>
        </p:spPr>
      </p:pic>
      <p:sp>
        <p:nvSpPr>
          <p:cNvPr id="465" name="直接连接符 25"/>
          <p:cNvSpPr/>
          <p:nvPr/>
        </p:nvSpPr>
        <p:spPr>
          <a:xfrm>
            <a:off x="5799240" y="1738440"/>
            <a:ext cx="0" cy="3994200"/>
          </a:xfrm>
          <a:prstGeom prst="line">
            <a:avLst/>
          </a:prstGeom>
          <a:ln w="6480">
            <a:solidFill>
              <a:srgbClr val="4b649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文本框 26"/>
          <p:cNvSpPr/>
          <p:nvPr/>
        </p:nvSpPr>
        <p:spPr>
          <a:xfrm>
            <a:off x="2179800" y="2819520"/>
            <a:ext cx="221544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4b649f"/>
                </a:solidFill>
                <a:latin typeface="Arial"/>
              </a:rPr>
              <a:t>26%</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afterEffect" fill="hold" presetClass="entr" presetID="53" presetSubtype="16">
                                  <p:stCondLst>
                                    <p:cond delay="0"/>
                                  </p:stCondLst>
                                  <p:childTnLst>
                                    <p:set>
                                      <p:cBhvr>
                                        <p:cTn id="80" dur="1" fill="hold">
                                          <p:stCondLst>
                                            <p:cond delay="0"/>
                                          </p:stCondLst>
                                        </p:cTn>
                                        <p:tgtEl>
                                          <p:spTgt spid="450"/>
                                        </p:tgtEl>
                                        <p:attrNameLst>
                                          <p:attrName>style.visibility</p:attrName>
                                        </p:attrNameLst>
                                      </p:cBhvr>
                                      <p:to>
                                        <p:strVal val="visible"/>
                                      </p:to>
                                    </p:set>
                                    <p:anim calcmode="lin" valueType="num">
                                      <p:cBhvr additive="repl">
                                        <p:cTn id="81" dur="500" fill="hold"/>
                                        <p:tgtEl>
                                          <p:spTgt spid="450"/>
                                        </p:tgtEl>
                                        <p:attrNameLst>
                                          <p:attrName>ppt_w</p:attrName>
                                        </p:attrNameLst>
                                      </p:cBhvr>
                                      <p:tavLst>
                                        <p:tav tm="0">
                                          <p:val>
                                            <p:fltVal val="0"/>
                                          </p:val>
                                        </p:tav>
                                        <p:tav tm="100000">
                                          <p:val>
                                            <p:strVal val="#ppt_w"/>
                                          </p:val>
                                        </p:tav>
                                      </p:tavLst>
                                    </p:anim>
                                    <p:anim calcmode="lin" valueType="num">
                                      <p:cBhvr additive="repl">
                                        <p:cTn id="82" dur="500" fill="hold"/>
                                        <p:tgtEl>
                                          <p:spTgt spid="450"/>
                                        </p:tgtEl>
                                        <p:attrNameLst>
                                          <p:attrName>ppt_h</p:attrName>
                                        </p:attrNameLst>
                                      </p:cBhvr>
                                      <p:tavLst>
                                        <p:tav tm="0">
                                          <p:val>
                                            <p:fltVal val="0"/>
                                          </p:val>
                                        </p:tav>
                                        <p:tav tm="100000">
                                          <p:val>
                                            <p:strVal val="#ppt_h"/>
                                          </p:val>
                                        </p:tav>
                                      </p:tavLst>
                                    </p:anim>
                                    <p:animEffect filter="fade" transition="in">
                                      <p:cBhvr additive="repl">
                                        <p:cTn id="83" dur="500"/>
                                        <p:tgtEl>
                                          <p:spTgt spid="450"/>
                                        </p:tgtEl>
                                      </p:cBhvr>
                                    </p:animEffect>
                                  </p:childTnLst>
                                </p:cTn>
                              </p:par>
                            </p:childTnLst>
                          </p:cTn>
                        </p:par>
                        <p:par>
                          <p:cTn id="84" nodeType="afterEffect" fill="hold">
                            <p:stCondLst>
                              <p:cond delay="500"/>
                            </p:stCondLst>
                            <p:childTnLst>
                              <p:par>
                                <p:cTn id="85" nodeType="afterEffect" fill="hold" presetClass="entr" presetID="53" presetSubtype="16">
                                  <p:stCondLst>
                                    <p:cond delay="0"/>
                                  </p:stCondLst>
                                  <p:childTnLst>
                                    <p:set>
                                      <p:cBhvr>
                                        <p:cTn id="86" dur="1" fill="hold">
                                          <p:stCondLst>
                                            <p:cond delay="0"/>
                                          </p:stCondLst>
                                        </p:cTn>
                                        <p:tgtEl>
                                          <p:spTgt spid="453"/>
                                        </p:tgtEl>
                                        <p:attrNameLst>
                                          <p:attrName>style.visibility</p:attrName>
                                        </p:attrNameLst>
                                      </p:cBhvr>
                                      <p:to>
                                        <p:strVal val="visible"/>
                                      </p:to>
                                    </p:set>
                                    <p:anim calcmode="lin" valueType="num">
                                      <p:cBhvr additive="repl">
                                        <p:cTn id="87" dur="500" fill="hold"/>
                                        <p:tgtEl>
                                          <p:spTgt spid="453"/>
                                        </p:tgtEl>
                                        <p:attrNameLst>
                                          <p:attrName>ppt_w</p:attrName>
                                        </p:attrNameLst>
                                      </p:cBhvr>
                                      <p:tavLst>
                                        <p:tav tm="0">
                                          <p:val>
                                            <p:fltVal val="0"/>
                                          </p:val>
                                        </p:tav>
                                        <p:tav tm="100000">
                                          <p:val>
                                            <p:strVal val="#ppt_w"/>
                                          </p:val>
                                        </p:tav>
                                      </p:tavLst>
                                    </p:anim>
                                    <p:anim calcmode="lin" valueType="num">
                                      <p:cBhvr additive="repl">
                                        <p:cTn id="88" dur="500" fill="hold"/>
                                        <p:tgtEl>
                                          <p:spTgt spid="453"/>
                                        </p:tgtEl>
                                        <p:attrNameLst>
                                          <p:attrName>ppt_h</p:attrName>
                                        </p:attrNameLst>
                                      </p:cBhvr>
                                      <p:tavLst>
                                        <p:tav tm="0">
                                          <p:val>
                                            <p:fltVal val="0"/>
                                          </p:val>
                                        </p:tav>
                                        <p:tav tm="100000">
                                          <p:val>
                                            <p:strVal val="#ppt_h"/>
                                          </p:val>
                                        </p:tav>
                                      </p:tavLst>
                                    </p:anim>
                                    <p:animEffect filter="fade" transition="in">
                                      <p:cBhvr additive="repl">
                                        <p:cTn id="89" dur="500"/>
                                        <p:tgtEl>
                                          <p:spTgt spid="453"/>
                                        </p:tgtEl>
                                      </p:cBhvr>
                                    </p:animEffect>
                                  </p:childTnLst>
                                </p:cTn>
                              </p:par>
                            </p:childTnLst>
                          </p:cTn>
                        </p:par>
                        <p:par>
                          <p:cTn id="90" nodeType="afterEffect" fill="hold">
                            <p:stCondLst>
                              <p:cond delay="1000"/>
                            </p:stCondLst>
                            <p:childTnLst>
                              <p:par>
                                <p:cTn id="91" nodeType="afterEffect" fill="hold" presetClass="entr" presetID="53" presetSubtype="16">
                                  <p:stCondLst>
                                    <p:cond delay="0"/>
                                  </p:stCondLst>
                                  <p:childTnLst>
                                    <p:set>
                                      <p:cBhvr>
                                        <p:cTn id="92" dur="1" fill="hold">
                                          <p:stCondLst>
                                            <p:cond delay="0"/>
                                          </p:stCondLst>
                                        </p:cTn>
                                        <p:tgtEl>
                                          <p:spTgt spid="456"/>
                                        </p:tgtEl>
                                        <p:attrNameLst>
                                          <p:attrName>style.visibility</p:attrName>
                                        </p:attrNameLst>
                                      </p:cBhvr>
                                      <p:to>
                                        <p:strVal val="visible"/>
                                      </p:to>
                                    </p:set>
                                    <p:anim calcmode="lin" valueType="num">
                                      <p:cBhvr additive="repl">
                                        <p:cTn id="93" dur="500" fill="hold"/>
                                        <p:tgtEl>
                                          <p:spTgt spid="456"/>
                                        </p:tgtEl>
                                        <p:attrNameLst>
                                          <p:attrName>ppt_w</p:attrName>
                                        </p:attrNameLst>
                                      </p:cBhvr>
                                      <p:tavLst>
                                        <p:tav tm="0">
                                          <p:val>
                                            <p:fltVal val="0"/>
                                          </p:val>
                                        </p:tav>
                                        <p:tav tm="100000">
                                          <p:val>
                                            <p:strVal val="#ppt_w"/>
                                          </p:val>
                                        </p:tav>
                                      </p:tavLst>
                                    </p:anim>
                                    <p:anim calcmode="lin" valueType="num">
                                      <p:cBhvr additive="repl">
                                        <p:cTn id="94" dur="500" fill="hold"/>
                                        <p:tgtEl>
                                          <p:spTgt spid="456"/>
                                        </p:tgtEl>
                                        <p:attrNameLst>
                                          <p:attrName>ppt_h</p:attrName>
                                        </p:attrNameLst>
                                      </p:cBhvr>
                                      <p:tavLst>
                                        <p:tav tm="0">
                                          <p:val>
                                            <p:fltVal val="0"/>
                                          </p:val>
                                        </p:tav>
                                        <p:tav tm="100000">
                                          <p:val>
                                            <p:strVal val="#ppt_h"/>
                                          </p:val>
                                        </p:tav>
                                      </p:tavLst>
                                    </p:anim>
                                    <p:animEffect filter="fade" transition="in">
                                      <p:cBhvr additive="repl">
                                        <p:cTn id="95" dur="500"/>
                                        <p:tgtEl>
                                          <p:spTgt spid="4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7" name="图片 1" descr=""/>
          <p:cNvPicPr/>
          <p:nvPr/>
        </p:nvPicPr>
        <p:blipFill>
          <a:blip r:embed="rId1"/>
          <a:stretch/>
        </p:blipFill>
        <p:spPr>
          <a:xfrm>
            <a:off x="8610480" y="0"/>
            <a:ext cx="3581640" cy="1006560"/>
          </a:xfrm>
          <a:prstGeom prst="rect">
            <a:avLst/>
          </a:prstGeom>
          <a:ln w="0">
            <a:noFill/>
          </a:ln>
        </p:spPr>
      </p:pic>
      <p:sp>
        <p:nvSpPr>
          <p:cNvPr id="468"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四部分标题</a:t>
            </a:r>
            <a:endParaRPr b="0" lang="en-US" sz="2800" spc="-1" strike="noStrike">
              <a:solidFill>
                <a:srgbClr val="000000"/>
              </a:solidFill>
              <a:latin typeface="Arial"/>
            </a:endParaRPr>
          </a:p>
        </p:txBody>
      </p:sp>
      <p:pic>
        <p:nvPicPr>
          <p:cNvPr id="469" name="直接连接符 3" descr=""/>
          <p:cNvPicPr/>
          <p:nvPr/>
        </p:nvPicPr>
        <p:blipFill>
          <a:blip r:embed="rId2"/>
          <a:stretch/>
        </p:blipFill>
        <p:spPr>
          <a:xfrm>
            <a:off x="0" y="798480"/>
            <a:ext cx="11192040" cy="23760"/>
          </a:xfrm>
          <a:prstGeom prst="rect">
            <a:avLst/>
          </a:prstGeom>
          <a:ln w="0">
            <a:noFill/>
          </a:ln>
        </p:spPr>
      </p:pic>
      <p:sp>
        <p:nvSpPr>
          <p:cNvPr id="470"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1" name="组合 5"/>
          <p:cNvGrpSpPr/>
          <p:nvPr/>
        </p:nvGrpSpPr>
        <p:grpSpPr>
          <a:xfrm>
            <a:off x="214200" y="125280"/>
            <a:ext cx="638280" cy="638280"/>
            <a:chOff x="214200" y="125280"/>
            <a:chExt cx="638280" cy="638280"/>
          </a:xfrm>
        </p:grpSpPr>
        <p:sp>
          <p:nvSpPr>
            <p:cNvPr id="472" name="椭圆 6"/>
            <p:cNvSpPr/>
            <p:nvPr/>
          </p:nvSpPr>
          <p:spPr>
            <a:xfrm>
              <a:off x="214200" y="125280"/>
              <a:ext cx="6382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椭圆 7"/>
            <p:cNvSpPr/>
            <p:nvPr/>
          </p:nvSpPr>
          <p:spPr>
            <a:xfrm>
              <a:off x="257040" y="168120"/>
              <a:ext cx="5526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KSO_Shape"/>
            <p:cNvSpPr/>
            <p:nvPr/>
          </p:nvSpPr>
          <p:spPr>
            <a:xfrm>
              <a:off x="366480" y="299880"/>
              <a:ext cx="333360" cy="289080"/>
            </a:xfrm>
            <a:custGeom>
              <a:avLst/>
              <a:gdLst/>
              <a:ahLst/>
              <a:rect l="l" t="t" r="r" b="b"/>
              <a:pathLst>
                <a:path w="5325" h="4595">
                  <a:moveTo>
                    <a:pt x="5325" y="2829"/>
                  </a:moveTo>
                  <a:lnTo>
                    <a:pt x="5073" y="2829"/>
                  </a:lnTo>
                  <a:lnTo>
                    <a:pt x="5073" y="0"/>
                  </a:lnTo>
                  <a:lnTo>
                    <a:pt x="253" y="0"/>
                  </a:lnTo>
                  <a:lnTo>
                    <a:pt x="253" y="2829"/>
                  </a:lnTo>
                  <a:lnTo>
                    <a:pt x="0" y="2829"/>
                  </a:lnTo>
                  <a:lnTo>
                    <a:pt x="0" y="3269"/>
                  </a:lnTo>
                  <a:lnTo>
                    <a:pt x="1284" y="3269"/>
                  </a:lnTo>
                  <a:lnTo>
                    <a:pt x="926" y="4595"/>
                  </a:lnTo>
                  <a:lnTo>
                    <a:pt x="1404" y="4595"/>
                  </a:lnTo>
                  <a:lnTo>
                    <a:pt x="1762" y="3269"/>
                  </a:lnTo>
                  <a:lnTo>
                    <a:pt x="3565" y="3269"/>
                  </a:lnTo>
                  <a:lnTo>
                    <a:pt x="3764" y="4009"/>
                  </a:lnTo>
                  <a:lnTo>
                    <a:pt x="3923" y="4595"/>
                  </a:lnTo>
                  <a:lnTo>
                    <a:pt x="4400" y="4595"/>
                  </a:lnTo>
                  <a:lnTo>
                    <a:pt x="4042" y="3269"/>
                  </a:lnTo>
                  <a:lnTo>
                    <a:pt x="5325" y="3269"/>
                  </a:lnTo>
                  <a:lnTo>
                    <a:pt x="5325" y="2829"/>
                  </a:lnTo>
                  <a:close/>
                  <a:moveTo>
                    <a:pt x="4623" y="2732"/>
                  </a:moveTo>
                  <a:lnTo>
                    <a:pt x="4623" y="2732"/>
                  </a:lnTo>
                  <a:lnTo>
                    <a:pt x="4623" y="2742"/>
                  </a:lnTo>
                  <a:lnTo>
                    <a:pt x="4622" y="2752"/>
                  </a:lnTo>
                  <a:lnTo>
                    <a:pt x="4619" y="2760"/>
                  </a:lnTo>
                  <a:lnTo>
                    <a:pt x="4615" y="2770"/>
                  </a:lnTo>
                  <a:lnTo>
                    <a:pt x="4612" y="2779"/>
                  </a:lnTo>
                  <a:lnTo>
                    <a:pt x="4607" y="2786"/>
                  </a:lnTo>
                  <a:lnTo>
                    <a:pt x="4601" y="2794"/>
                  </a:lnTo>
                  <a:lnTo>
                    <a:pt x="4595" y="2801"/>
                  </a:lnTo>
                  <a:lnTo>
                    <a:pt x="4588" y="2807"/>
                  </a:lnTo>
                  <a:lnTo>
                    <a:pt x="4581" y="2812"/>
                  </a:lnTo>
                  <a:lnTo>
                    <a:pt x="4573" y="2817"/>
                  </a:lnTo>
                  <a:lnTo>
                    <a:pt x="4564" y="2822"/>
                  </a:lnTo>
                  <a:lnTo>
                    <a:pt x="4555" y="2824"/>
                  </a:lnTo>
                  <a:lnTo>
                    <a:pt x="4547" y="2827"/>
                  </a:lnTo>
                  <a:lnTo>
                    <a:pt x="4537" y="2828"/>
                  </a:lnTo>
                  <a:lnTo>
                    <a:pt x="4527" y="2829"/>
                  </a:lnTo>
                  <a:lnTo>
                    <a:pt x="3213" y="2829"/>
                  </a:lnTo>
                  <a:lnTo>
                    <a:pt x="3203" y="2828"/>
                  </a:lnTo>
                  <a:lnTo>
                    <a:pt x="3194" y="2827"/>
                  </a:lnTo>
                  <a:lnTo>
                    <a:pt x="3185" y="2824"/>
                  </a:lnTo>
                  <a:lnTo>
                    <a:pt x="3175" y="2822"/>
                  </a:lnTo>
                  <a:lnTo>
                    <a:pt x="3168" y="2817"/>
                  </a:lnTo>
                  <a:lnTo>
                    <a:pt x="3159" y="2812"/>
                  </a:lnTo>
                  <a:lnTo>
                    <a:pt x="3152" y="2807"/>
                  </a:lnTo>
                  <a:lnTo>
                    <a:pt x="3146" y="2801"/>
                  </a:lnTo>
                  <a:lnTo>
                    <a:pt x="3140" y="2794"/>
                  </a:lnTo>
                  <a:lnTo>
                    <a:pt x="3133" y="2786"/>
                  </a:lnTo>
                  <a:lnTo>
                    <a:pt x="3129" y="2779"/>
                  </a:lnTo>
                  <a:lnTo>
                    <a:pt x="3125" y="2770"/>
                  </a:lnTo>
                  <a:lnTo>
                    <a:pt x="3121" y="2760"/>
                  </a:lnTo>
                  <a:lnTo>
                    <a:pt x="3119" y="2752"/>
                  </a:lnTo>
                  <a:lnTo>
                    <a:pt x="3118" y="2742"/>
                  </a:lnTo>
                  <a:lnTo>
                    <a:pt x="3118" y="2732"/>
                  </a:lnTo>
                  <a:lnTo>
                    <a:pt x="3118" y="2045"/>
                  </a:lnTo>
                  <a:lnTo>
                    <a:pt x="3118" y="2035"/>
                  </a:lnTo>
                  <a:lnTo>
                    <a:pt x="3119" y="2025"/>
                  </a:lnTo>
                  <a:lnTo>
                    <a:pt x="3121" y="2016"/>
                  </a:lnTo>
                  <a:lnTo>
                    <a:pt x="3125" y="2008"/>
                  </a:lnTo>
                  <a:lnTo>
                    <a:pt x="3129" y="1999"/>
                  </a:lnTo>
                  <a:lnTo>
                    <a:pt x="3133" y="1991"/>
                  </a:lnTo>
                  <a:lnTo>
                    <a:pt x="3140" y="1983"/>
                  </a:lnTo>
                  <a:lnTo>
                    <a:pt x="3146" y="1977"/>
                  </a:lnTo>
                  <a:lnTo>
                    <a:pt x="3152" y="1971"/>
                  </a:lnTo>
                  <a:lnTo>
                    <a:pt x="3159" y="1965"/>
                  </a:lnTo>
                  <a:lnTo>
                    <a:pt x="3168" y="1960"/>
                  </a:lnTo>
                  <a:lnTo>
                    <a:pt x="3175" y="1956"/>
                  </a:lnTo>
                  <a:lnTo>
                    <a:pt x="3185" y="1953"/>
                  </a:lnTo>
                  <a:lnTo>
                    <a:pt x="3194" y="1950"/>
                  </a:lnTo>
                  <a:lnTo>
                    <a:pt x="3203" y="1949"/>
                  </a:lnTo>
                  <a:lnTo>
                    <a:pt x="3213" y="1949"/>
                  </a:lnTo>
                  <a:lnTo>
                    <a:pt x="4527" y="1949"/>
                  </a:lnTo>
                  <a:lnTo>
                    <a:pt x="4537" y="1949"/>
                  </a:lnTo>
                  <a:lnTo>
                    <a:pt x="4547" y="1950"/>
                  </a:lnTo>
                  <a:lnTo>
                    <a:pt x="4555" y="1953"/>
                  </a:lnTo>
                  <a:lnTo>
                    <a:pt x="4564" y="1956"/>
                  </a:lnTo>
                  <a:lnTo>
                    <a:pt x="4573" y="1960"/>
                  </a:lnTo>
                  <a:lnTo>
                    <a:pt x="4581" y="1965"/>
                  </a:lnTo>
                  <a:lnTo>
                    <a:pt x="4588" y="1971"/>
                  </a:lnTo>
                  <a:lnTo>
                    <a:pt x="4595" y="1977"/>
                  </a:lnTo>
                  <a:lnTo>
                    <a:pt x="4601" y="1983"/>
                  </a:lnTo>
                  <a:lnTo>
                    <a:pt x="4607" y="1991"/>
                  </a:lnTo>
                  <a:lnTo>
                    <a:pt x="4612" y="1999"/>
                  </a:lnTo>
                  <a:lnTo>
                    <a:pt x="4615" y="2008"/>
                  </a:lnTo>
                  <a:lnTo>
                    <a:pt x="4619" y="2016"/>
                  </a:lnTo>
                  <a:lnTo>
                    <a:pt x="4622" y="2025"/>
                  </a:lnTo>
                  <a:lnTo>
                    <a:pt x="4623" y="2035"/>
                  </a:lnTo>
                  <a:lnTo>
                    <a:pt x="4623" y="2045"/>
                  </a:lnTo>
                  <a:lnTo>
                    <a:pt x="4623" y="2732"/>
                  </a:lnTo>
                  <a:close/>
                </a:path>
              </a:pathLst>
            </a:custGeom>
            <a:solidFill>
              <a:srgbClr val="4b649f"/>
            </a:solidFill>
            <a:ln w="0">
              <a:noFill/>
            </a:ln>
          </p:spPr>
          <p:style>
            <a:lnRef idx="0"/>
            <a:fillRef idx="0"/>
            <a:effectRef idx="0"/>
            <a:fontRef idx="minor"/>
          </p:style>
          <p:txBody>
            <a:bodyPr lIns="90000" rIns="90000" tIns="-430920" bIns="242280" anchor="ctr">
              <a:noAutofit/>
            </a:bodyPr>
            <a:p>
              <a:endParaRPr b="0" lang="en-US" sz="1800" spc="-1" strike="noStrike">
                <a:solidFill>
                  <a:srgbClr val="000000"/>
                </a:solidFill>
                <a:latin typeface="Arial"/>
              </a:endParaRPr>
            </a:p>
          </p:txBody>
        </p:sp>
      </p:grpSp>
      <p:pic>
        <p:nvPicPr>
          <p:cNvPr id="475" name="对象 22" descr=""/>
          <p:cNvPicPr/>
          <p:nvPr/>
        </p:nvPicPr>
        <p:blipFill>
          <a:blip r:embed="rId3"/>
          <a:stretch/>
        </p:blipFill>
        <p:spPr>
          <a:xfrm>
            <a:off x="844560" y="1579680"/>
            <a:ext cx="10528200" cy="2743200"/>
          </a:xfrm>
          <a:prstGeom prst="rect">
            <a:avLst/>
          </a:prstGeom>
          <a:ln w="0">
            <a:noFill/>
          </a:ln>
        </p:spPr>
      </p:pic>
      <p:sp>
        <p:nvSpPr>
          <p:cNvPr id="476" name="Title 13"/>
          <p:cNvSpPr/>
          <p:nvPr/>
        </p:nvSpPr>
        <p:spPr>
          <a:xfrm>
            <a:off x="1136520" y="4459320"/>
            <a:ext cx="3846600" cy="709560"/>
          </a:xfrm>
          <a:prstGeom prst="rect">
            <a:avLst/>
          </a:prstGeom>
          <a:noFill/>
          <a:ln w="0">
            <a:noFill/>
          </a:ln>
        </p:spPr>
        <p:style>
          <a:lnRef idx="0"/>
          <a:fillRef idx="0"/>
          <a:effectRef idx="0"/>
          <a:fontRef idx="minor"/>
        </p:style>
        <p:txBody>
          <a:bodyPr lIns="122040" rIns="122040" tIns="60840" bIns="60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类别</a:t>
            </a:r>
            <a:r>
              <a:rPr b="0" lang="en-US" sz="2400" spc="-1" strike="noStrike">
                <a:solidFill>
                  <a:srgbClr val="595959"/>
                </a:solidFill>
                <a:latin typeface="Arial"/>
              </a:rPr>
              <a:t>1</a:t>
            </a:r>
            <a:endParaRPr b="0" lang="en-US" sz="2400" spc="-1" strike="noStrike">
              <a:solidFill>
                <a:srgbClr val="000000"/>
              </a:solidFill>
              <a:latin typeface="Arial"/>
            </a:endParaRPr>
          </a:p>
        </p:txBody>
      </p:sp>
      <p:sp>
        <p:nvSpPr>
          <p:cNvPr id="477" name="文本框 11"/>
          <p:cNvSpPr/>
          <p:nvPr/>
        </p:nvSpPr>
        <p:spPr>
          <a:xfrm>
            <a:off x="1136520" y="5019840"/>
            <a:ext cx="2082960" cy="677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478" name="矩形 12"/>
          <p:cNvSpPr/>
          <p:nvPr/>
        </p:nvSpPr>
        <p:spPr>
          <a:xfrm>
            <a:off x="946080" y="4684680"/>
            <a:ext cx="190440" cy="190440"/>
          </a:xfrm>
          <a:prstGeom prst="rect">
            <a:avLst/>
          </a:prstGeom>
          <a:solidFill>
            <a:srgbClr val="4e67c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Title 13"/>
          <p:cNvSpPr/>
          <p:nvPr/>
        </p:nvSpPr>
        <p:spPr>
          <a:xfrm>
            <a:off x="3803760" y="4459320"/>
            <a:ext cx="3846240" cy="709560"/>
          </a:xfrm>
          <a:prstGeom prst="rect">
            <a:avLst/>
          </a:prstGeom>
          <a:noFill/>
          <a:ln w="0">
            <a:noFill/>
          </a:ln>
        </p:spPr>
        <p:style>
          <a:lnRef idx="0"/>
          <a:fillRef idx="0"/>
          <a:effectRef idx="0"/>
          <a:fontRef idx="minor"/>
        </p:style>
        <p:txBody>
          <a:bodyPr lIns="122040" rIns="122040" tIns="60840" bIns="60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类别</a:t>
            </a:r>
            <a:r>
              <a:rPr b="0" lang="en-US" sz="2400" spc="-1" strike="noStrike">
                <a:solidFill>
                  <a:srgbClr val="595959"/>
                </a:solidFill>
                <a:latin typeface="Arial"/>
              </a:rPr>
              <a:t>2</a:t>
            </a:r>
            <a:endParaRPr b="0" lang="en-US" sz="2400" spc="-1" strike="noStrike">
              <a:solidFill>
                <a:srgbClr val="000000"/>
              </a:solidFill>
              <a:latin typeface="Arial"/>
            </a:endParaRPr>
          </a:p>
        </p:txBody>
      </p:sp>
      <p:sp>
        <p:nvSpPr>
          <p:cNvPr id="480" name="文本框 14"/>
          <p:cNvSpPr/>
          <p:nvPr/>
        </p:nvSpPr>
        <p:spPr>
          <a:xfrm>
            <a:off x="3803760" y="5019840"/>
            <a:ext cx="2082600" cy="677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481" name="矩形 15"/>
          <p:cNvSpPr/>
          <p:nvPr/>
        </p:nvSpPr>
        <p:spPr>
          <a:xfrm>
            <a:off x="3613320" y="4684680"/>
            <a:ext cx="190440" cy="1904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Title 13"/>
          <p:cNvSpPr/>
          <p:nvPr/>
        </p:nvSpPr>
        <p:spPr>
          <a:xfrm>
            <a:off x="6529320" y="4459320"/>
            <a:ext cx="3845160" cy="709560"/>
          </a:xfrm>
          <a:prstGeom prst="rect">
            <a:avLst/>
          </a:prstGeom>
          <a:noFill/>
          <a:ln w="0">
            <a:noFill/>
          </a:ln>
        </p:spPr>
        <p:style>
          <a:lnRef idx="0"/>
          <a:fillRef idx="0"/>
          <a:effectRef idx="0"/>
          <a:fontRef idx="minor"/>
        </p:style>
        <p:txBody>
          <a:bodyPr lIns="122040" rIns="122040" tIns="60840" bIns="60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类别</a:t>
            </a:r>
            <a:r>
              <a:rPr b="0" lang="en-US" sz="2400" spc="-1" strike="noStrike">
                <a:solidFill>
                  <a:srgbClr val="595959"/>
                </a:solidFill>
                <a:latin typeface="Arial"/>
              </a:rPr>
              <a:t>3</a:t>
            </a:r>
            <a:endParaRPr b="0" lang="en-US" sz="2400" spc="-1" strike="noStrike">
              <a:solidFill>
                <a:srgbClr val="000000"/>
              </a:solidFill>
              <a:latin typeface="Arial"/>
            </a:endParaRPr>
          </a:p>
        </p:txBody>
      </p:sp>
      <p:sp>
        <p:nvSpPr>
          <p:cNvPr id="483" name="文本框 17"/>
          <p:cNvSpPr/>
          <p:nvPr/>
        </p:nvSpPr>
        <p:spPr>
          <a:xfrm>
            <a:off x="6527880" y="5019840"/>
            <a:ext cx="2084400" cy="677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484" name="矩形 18"/>
          <p:cNvSpPr/>
          <p:nvPr/>
        </p:nvSpPr>
        <p:spPr>
          <a:xfrm>
            <a:off x="6337440" y="4684680"/>
            <a:ext cx="190440" cy="190440"/>
          </a:xfrm>
          <a:prstGeom prst="rect">
            <a:avLst/>
          </a:prstGeom>
          <a:solidFill>
            <a:srgbClr val="5e8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Title 13"/>
          <p:cNvSpPr/>
          <p:nvPr/>
        </p:nvSpPr>
        <p:spPr>
          <a:xfrm>
            <a:off x="9117000" y="4459320"/>
            <a:ext cx="1335240" cy="709560"/>
          </a:xfrm>
          <a:prstGeom prst="rect">
            <a:avLst/>
          </a:prstGeom>
          <a:noFill/>
          <a:ln w="0">
            <a:noFill/>
          </a:ln>
        </p:spPr>
        <p:style>
          <a:lnRef idx="0"/>
          <a:fillRef idx="0"/>
          <a:effectRef idx="0"/>
          <a:fontRef idx="minor"/>
        </p:style>
        <p:txBody>
          <a:bodyPr lIns="122040" rIns="122040" tIns="60840" bIns="60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类别</a:t>
            </a:r>
            <a:r>
              <a:rPr b="0" lang="en-US" sz="2400" spc="-1" strike="noStrike">
                <a:solidFill>
                  <a:srgbClr val="595959"/>
                </a:solidFill>
                <a:latin typeface="Arial"/>
              </a:rPr>
              <a:t>4</a:t>
            </a:r>
            <a:endParaRPr b="0" lang="en-US" sz="2400" spc="-1" strike="noStrike">
              <a:solidFill>
                <a:srgbClr val="000000"/>
              </a:solidFill>
              <a:latin typeface="Arial"/>
            </a:endParaRPr>
          </a:p>
        </p:txBody>
      </p:sp>
      <p:sp>
        <p:nvSpPr>
          <p:cNvPr id="486" name="文本框 20"/>
          <p:cNvSpPr/>
          <p:nvPr/>
        </p:nvSpPr>
        <p:spPr>
          <a:xfrm>
            <a:off x="9117000" y="5019840"/>
            <a:ext cx="2084400" cy="677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487" name="矩形 21"/>
          <p:cNvSpPr/>
          <p:nvPr/>
        </p:nvSpPr>
        <p:spPr>
          <a:xfrm>
            <a:off x="8926560" y="4684680"/>
            <a:ext cx="190440" cy="190440"/>
          </a:xfrm>
          <a:prstGeom prst="rect">
            <a:avLst/>
          </a:prstGeom>
          <a:solidFill>
            <a:srgbClr val="7db1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8" name="图片 1" descr=""/>
          <p:cNvPicPr/>
          <p:nvPr/>
        </p:nvPicPr>
        <p:blipFill>
          <a:blip r:embed="rId1"/>
          <a:stretch/>
        </p:blipFill>
        <p:spPr>
          <a:xfrm>
            <a:off x="8610480" y="0"/>
            <a:ext cx="3581640" cy="1006560"/>
          </a:xfrm>
          <a:prstGeom prst="rect">
            <a:avLst/>
          </a:prstGeom>
          <a:ln w="0">
            <a:noFill/>
          </a:ln>
        </p:spPr>
      </p:pic>
      <p:sp>
        <p:nvSpPr>
          <p:cNvPr id="489"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四部分标题</a:t>
            </a:r>
            <a:endParaRPr b="0" lang="en-US" sz="2800" spc="-1" strike="noStrike">
              <a:solidFill>
                <a:srgbClr val="000000"/>
              </a:solidFill>
              <a:latin typeface="Arial"/>
            </a:endParaRPr>
          </a:p>
        </p:txBody>
      </p:sp>
      <p:pic>
        <p:nvPicPr>
          <p:cNvPr id="490" name="直接连接符 3" descr=""/>
          <p:cNvPicPr/>
          <p:nvPr/>
        </p:nvPicPr>
        <p:blipFill>
          <a:blip r:embed="rId2"/>
          <a:stretch/>
        </p:blipFill>
        <p:spPr>
          <a:xfrm>
            <a:off x="0" y="798480"/>
            <a:ext cx="11192040" cy="23760"/>
          </a:xfrm>
          <a:prstGeom prst="rect">
            <a:avLst/>
          </a:prstGeom>
          <a:ln w="0">
            <a:noFill/>
          </a:ln>
        </p:spPr>
      </p:pic>
      <p:sp>
        <p:nvSpPr>
          <p:cNvPr id="491"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2" name="组合 5"/>
          <p:cNvGrpSpPr/>
          <p:nvPr/>
        </p:nvGrpSpPr>
        <p:grpSpPr>
          <a:xfrm>
            <a:off x="214200" y="125280"/>
            <a:ext cx="638280" cy="638280"/>
            <a:chOff x="214200" y="125280"/>
            <a:chExt cx="638280" cy="638280"/>
          </a:xfrm>
        </p:grpSpPr>
        <p:sp>
          <p:nvSpPr>
            <p:cNvPr id="493" name="椭圆 6"/>
            <p:cNvSpPr/>
            <p:nvPr/>
          </p:nvSpPr>
          <p:spPr>
            <a:xfrm>
              <a:off x="214200" y="125280"/>
              <a:ext cx="6382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椭圆 7"/>
            <p:cNvSpPr/>
            <p:nvPr/>
          </p:nvSpPr>
          <p:spPr>
            <a:xfrm>
              <a:off x="257040" y="168120"/>
              <a:ext cx="5526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KSO_Shape"/>
            <p:cNvSpPr/>
            <p:nvPr/>
          </p:nvSpPr>
          <p:spPr>
            <a:xfrm>
              <a:off x="366480" y="299880"/>
              <a:ext cx="333360" cy="289080"/>
            </a:xfrm>
            <a:custGeom>
              <a:avLst/>
              <a:gdLst/>
              <a:ahLst/>
              <a:rect l="l" t="t" r="r" b="b"/>
              <a:pathLst>
                <a:path w="5325" h="4595">
                  <a:moveTo>
                    <a:pt x="5325" y="2829"/>
                  </a:moveTo>
                  <a:lnTo>
                    <a:pt x="5073" y="2829"/>
                  </a:lnTo>
                  <a:lnTo>
                    <a:pt x="5073" y="0"/>
                  </a:lnTo>
                  <a:lnTo>
                    <a:pt x="253" y="0"/>
                  </a:lnTo>
                  <a:lnTo>
                    <a:pt x="253" y="2829"/>
                  </a:lnTo>
                  <a:lnTo>
                    <a:pt x="0" y="2829"/>
                  </a:lnTo>
                  <a:lnTo>
                    <a:pt x="0" y="3269"/>
                  </a:lnTo>
                  <a:lnTo>
                    <a:pt x="1284" y="3269"/>
                  </a:lnTo>
                  <a:lnTo>
                    <a:pt x="926" y="4595"/>
                  </a:lnTo>
                  <a:lnTo>
                    <a:pt x="1404" y="4595"/>
                  </a:lnTo>
                  <a:lnTo>
                    <a:pt x="1762" y="3269"/>
                  </a:lnTo>
                  <a:lnTo>
                    <a:pt x="3565" y="3269"/>
                  </a:lnTo>
                  <a:lnTo>
                    <a:pt x="3764" y="4009"/>
                  </a:lnTo>
                  <a:lnTo>
                    <a:pt x="3923" y="4595"/>
                  </a:lnTo>
                  <a:lnTo>
                    <a:pt x="4400" y="4595"/>
                  </a:lnTo>
                  <a:lnTo>
                    <a:pt x="4042" y="3269"/>
                  </a:lnTo>
                  <a:lnTo>
                    <a:pt x="5325" y="3269"/>
                  </a:lnTo>
                  <a:lnTo>
                    <a:pt x="5325" y="2829"/>
                  </a:lnTo>
                  <a:close/>
                  <a:moveTo>
                    <a:pt x="4623" y="2732"/>
                  </a:moveTo>
                  <a:lnTo>
                    <a:pt x="4623" y="2732"/>
                  </a:lnTo>
                  <a:lnTo>
                    <a:pt x="4623" y="2742"/>
                  </a:lnTo>
                  <a:lnTo>
                    <a:pt x="4622" y="2752"/>
                  </a:lnTo>
                  <a:lnTo>
                    <a:pt x="4619" y="2760"/>
                  </a:lnTo>
                  <a:lnTo>
                    <a:pt x="4615" y="2770"/>
                  </a:lnTo>
                  <a:lnTo>
                    <a:pt x="4612" y="2779"/>
                  </a:lnTo>
                  <a:lnTo>
                    <a:pt x="4607" y="2786"/>
                  </a:lnTo>
                  <a:lnTo>
                    <a:pt x="4601" y="2794"/>
                  </a:lnTo>
                  <a:lnTo>
                    <a:pt x="4595" y="2801"/>
                  </a:lnTo>
                  <a:lnTo>
                    <a:pt x="4588" y="2807"/>
                  </a:lnTo>
                  <a:lnTo>
                    <a:pt x="4581" y="2812"/>
                  </a:lnTo>
                  <a:lnTo>
                    <a:pt x="4573" y="2817"/>
                  </a:lnTo>
                  <a:lnTo>
                    <a:pt x="4564" y="2822"/>
                  </a:lnTo>
                  <a:lnTo>
                    <a:pt x="4555" y="2824"/>
                  </a:lnTo>
                  <a:lnTo>
                    <a:pt x="4547" y="2827"/>
                  </a:lnTo>
                  <a:lnTo>
                    <a:pt x="4537" y="2828"/>
                  </a:lnTo>
                  <a:lnTo>
                    <a:pt x="4527" y="2829"/>
                  </a:lnTo>
                  <a:lnTo>
                    <a:pt x="3213" y="2829"/>
                  </a:lnTo>
                  <a:lnTo>
                    <a:pt x="3203" y="2828"/>
                  </a:lnTo>
                  <a:lnTo>
                    <a:pt x="3194" y="2827"/>
                  </a:lnTo>
                  <a:lnTo>
                    <a:pt x="3185" y="2824"/>
                  </a:lnTo>
                  <a:lnTo>
                    <a:pt x="3175" y="2822"/>
                  </a:lnTo>
                  <a:lnTo>
                    <a:pt x="3168" y="2817"/>
                  </a:lnTo>
                  <a:lnTo>
                    <a:pt x="3159" y="2812"/>
                  </a:lnTo>
                  <a:lnTo>
                    <a:pt x="3152" y="2807"/>
                  </a:lnTo>
                  <a:lnTo>
                    <a:pt x="3146" y="2801"/>
                  </a:lnTo>
                  <a:lnTo>
                    <a:pt x="3140" y="2794"/>
                  </a:lnTo>
                  <a:lnTo>
                    <a:pt x="3133" y="2786"/>
                  </a:lnTo>
                  <a:lnTo>
                    <a:pt x="3129" y="2779"/>
                  </a:lnTo>
                  <a:lnTo>
                    <a:pt x="3125" y="2770"/>
                  </a:lnTo>
                  <a:lnTo>
                    <a:pt x="3121" y="2760"/>
                  </a:lnTo>
                  <a:lnTo>
                    <a:pt x="3119" y="2752"/>
                  </a:lnTo>
                  <a:lnTo>
                    <a:pt x="3118" y="2742"/>
                  </a:lnTo>
                  <a:lnTo>
                    <a:pt x="3118" y="2732"/>
                  </a:lnTo>
                  <a:lnTo>
                    <a:pt x="3118" y="2045"/>
                  </a:lnTo>
                  <a:lnTo>
                    <a:pt x="3118" y="2035"/>
                  </a:lnTo>
                  <a:lnTo>
                    <a:pt x="3119" y="2025"/>
                  </a:lnTo>
                  <a:lnTo>
                    <a:pt x="3121" y="2016"/>
                  </a:lnTo>
                  <a:lnTo>
                    <a:pt x="3125" y="2008"/>
                  </a:lnTo>
                  <a:lnTo>
                    <a:pt x="3129" y="1999"/>
                  </a:lnTo>
                  <a:lnTo>
                    <a:pt x="3133" y="1991"/>
                  </a:lnTo>
                  <a:lnTo>
                    <a:pt x="3140" y="1983"/>
                  </a:lnTo>
                  <a:lnTo>
                    <a:pt x="3146" y="1977"/>
                  </a:lnTo>
                  <a:lnTo>
                    <a:pt x="3152" y="1971"/>
                  </a:lnTo>
                  <a:lnTo>
                    <a:pt x="3159" y="1965"/>
                  </a:lnTo>
                  <a:lnTo>
                    <a:pt x="3168" y="1960"/>
                  </a:lnTo>
                  <a:lnTo>
                    <a:pt x="3175" y="1956"/>
                  </a:lnTo>
                  <a:lnTo>
                    <a:pt x="3185" y="1953"/>
                  </a:lnTo>
                  <a:lnTo>
                    <a:pt x="3194" y="1950"/>
                  </a:lnTo>
                  <a:lnTo>
                    <a:pt x="3203" y="1949"/>
                  </a:lnTo>
                  <a:lnTo>
                    <a:pt x="3213" y="1949"/>
                  </a:lnTo>
                  <a:lnTo>
                    <a:pt x="4527" y="1949"/>
                  </a:lnTo>
                  <a:lnTo>
                    <a:pt x="4537" y="1949"/>
                  </a:lnTo>
                  <a:lnTo>
                    <a:pt x="4547" y="1950"/>
                  </a:lnTo>
                  <a:lnTo>
                    <a:pt x="4555" y="1953"/>
                  </a:lnTo>
                  <a:lnTo>
                    <a:pt x="4564" y="1956"/>
                  </a:lnTo>
                  <a:lnTo>
                    <a:pt x="4573" y="1960"/>
                  </a:lnTo>
                  <a:lnTo>
                    <a:pt x="4581" y="1965"/>
                  </a:lnTo>
                  <a:lnTo>
                    <a:pt x="4588" y="1971"/>
                  </a:lnTo>
                  <a:lnTo>
                    <a:pt x="4595" y="1977"/>
                  </a:lnTo>
                  <a:lnTo>
                    <a:pt x="4601" y="1983"/>
                  </a:lnTo>
                  <a:lnTo>
                    <a:pt x="4607" y="1991"/>
                  </a:lnTo>
                  <a:lnTo>
                    <a:pt x="4612" y="1999"/>
                  </a:lnTo>
                  <a:lnTo>
                    <a:pt x="4615" y="2008"/>
                  </a:lnTo>
                  <a:lnTo>
                    <a:pt x="4619" y="2016"/>
                  </a:lnTo>
                  <a:lnTo>
                    <a:pt x="4622" y="2025"/>
                  </a:lnTo>
                  <a:lnTo>
                    <a:pt x="4623" y="2035"/>
                  </a:lnTo>
                  <a:lnTo>
                    <a:pt x="4623" y="2045"/>
                  </a:lnTo>
                  <a:lnTo>
                    <a:pt x="4623" y="2732"/>
                  </a:lnTo>
                  <a:close/>
                </a:path>
              </a:pathLst>
            </a:custGeom>
            <a:solidFill>
              <a:srgbClr val="4b649f"/>
            </a:solidFill>
            <a:ln w="0">
              <a:noFill/>
            </a:ln>
          </p:spPr>
          <p:style>
            <a:lnRef idx="0"/>
            <a:fillRef idx="0"/>
            <a:effectRef idx="0"/>
            <a:fontRef idx="minor"/>
          </p:style>
          <p:txBody>
            <a:bodyPr lIns="90000" rIns="90000" tIns="-430920" bIns="242280" anchor="ctr">
              <a:noAutofit/>
            </a:bodyPr>
            <a:p>
              <a:endParaRPr b="0" lang="en-US" sz="1800" spc="-1" strike="noStrike">
                <a:solidFill>
                  <a:srgbClr val="000000"/>
                </a:solidFill>
                <a:latin typeface="Arial"/>
              </a:endParaRPr>
            </a:p>
          </p:txBody>
        </p:sp>
      </p:grpSp>
      <p:sp>
        <p:nvSpPr>
          <p:cNvPr id="496" name="Rectangle 86"/>
          <p:cNvSpPr/>
          <p:nvPr/>
        </p:nvSpPr>
        <p:spPr>
          <a:xfrm>
            <a:off x="9061560" y="2433600"/>
            <a:ext cx="3130560" cy="119052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Rectangle 84"/>
          <p:cNvSpPr/>
          <p:nvPr/>
        </p:nvSpPr>
        <p:spPr>
          <a:xfrm>
            <a:off x="0" y="2433600"/>
            <a:ext cx="3130560" cy="119052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Oval 3"/>
          <p:cNvSpPr/>
          <p:nvPr/>
        </p:nvSpPr>
        <p:spPr>
          <a:xfrm>
            <a:off x="2109960" y="1601640"/>
            <a:ext cx="2854080" cy="2854440"/>
          </a:xfrm>
          <a:prstGeom prst="ellipse">
            <a:avLst/>
          </a:prstGeom>
          <a:solidFill>
            <a:srgbClr val="5e80b0"/>
          </a:solidFill>
          <a:ln w="381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Oval 4"/>
          <p:cNvSpPr/>
          <p:nvPr/>
        </p:nvSpPr>
        <p:spPr>
          <a:xfrm>
            <a:off x="4668840" y="1601640"/>
            <a:ext cx="2854440" cy="2854440"/>
          </a:xfrm>
          <a:prstGeom prst="ellipse">
            <a:avLst/>
          </a:prstGeom>
          <a:solidFill>
            <a:srgbClr val="4b649f"/>
          </a:solidFill>
          <a:ln w="381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Oval 6"/>
          <p:cNvSpPr/>
          <p:nvPr/>
        </p:nvSpPr>
        <p:spPr>
          <a:xfrm>
            <a:off x="7227720" y="1601640"/>
            <a:ext cx="2854440" cy="2854440"/>
          </a:xfrm>
          <a:prstGeom prst="ellipse">
            <a:avLst/>
          </a:prstGeom>
          <a:solidFill>
            <a:srgbClr val="5e80b0"/>
          </a:solidFill>
          <a:ln w="381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1" name="Group 24" descr=""/>
          <p:cNvPicPr/>
          <p:nvPr/>
        </p:nvPicPr>
        <p:blipFill>
          <a:blip r:embed="rId3"/>
          <a:stretch/>
        </p:blipFill>
        <p:spPr>
          <a:xfrm>
            <a:off x="5522760" y="2457360"/>
            <a:ext cx="1146240" cy="1139760"/>
          </a:xfrm>
          <a:prstGeom prst="rect">
            <a:avLst/>
          </a:prstGeom>
          <a:ln w="0">
            <a:noFill/>
          </a:ln>
        </p:spPr>
      </p:pic>
      <p:sp>
        <p:nvSpPr>
          <p:cNvPr id="502" name="Freeform 26"/>
          <p:cNvSpPr/>
          <p:nvPr/>
        </p:nvSpPr>
        <p:spPr>
          <a:xfrm>
            <a:off x="8083440" y="2368440"/>
            <a:ext cx="1298520" cy="1249560"/>
          </a:xfrm>
          <a:custGeom>
            <a:avLst/>
            <a:gdLst/>
            <a:ahLst/>
            <a:rect l="l" t="t" r="r" b="b"/>
            <a:pathLst>
              <a:path w="132" h="128">
                <a:moveTo>
                  <a:pt x="118" y="10"/>
                </a:moveTo>
                <a:cubicBezTo>
                  <a:pt x="111" y="4"/>
                  <a:pt x="102" y="0"/>
                  <a:pt x="94" y="0"/>
                </a:cubicBezTo>
                <a:cubicBezTo>
                  <a:pt x="87" y="0"/>
                  <a:pt x="80" y="3"/>
                  <a:pt x="75" y="8"/>
                </a:cubicBezTo>
                <a:cubicBezTo>
                  <a:pt x="56" y="27"/>
                  <a:pt x="56" y="27"/>
                  <a:pt x="56" y="27"/>
                </a:cubicBezTo>
                <a:cubicBezTo>
                  <a:pt x="56" y="27"/>
                  <a:pt x="56" y="27"/>
                  <a:pt x="55" y="27"/>
                </a:cubicBezTo>
                <a:cubicBezTo>
                  <a:pt x="55" y="27"/>
                  <a:pt x="55" y="27"/>
                  <a:pt x="55" y="27"/>
                </a:cubicBezTo>
                <a:cubicBezTo>
                  <a:pt x="55" y="27"/>
                  <a:pt x="55" y="27"/>
                  <a:pt x="55" y="27"/>
                </a:cubicBezTo>
                <a:cubicBezTo>
                  <a:pt x="14" y="69"/>
                  <a:pt x="14" y="69"/>
                  <a:pt x="14" y="69"/>
                </a:cubicBezTo>
                <a:cubicBezTo>
                  <a:pt x="12" y="71"/>
                  <a:pt x="11" y="73"/>
                  <a:pt x="10" y="76"/>
                </a:cubicBezTo>
                <a:cubicBezTo>
                  <a:pt x="1" y="110"/>
                  <a:pt x="1" y="110"/>
                  <a:pt x="1" y="110"/>
                </a:cubicBezTo>
                <a:cubicBezTo>
                  <a:pt x="1" y="110"/>
                  <a:pt x="0" y="113"/>
                  <a:pt x="0" y="114"/>
                </a:cubicBezTo>
                <a:cubicBezTo>
                  <a:pt x="0" y="122"/>
                  <a:pt x="6" y="128"/>
                  <a:pt x="14" y="128"/>
                </a:cubicBezTo>
                <a:cubicBezTo>
                  <a:pt x="16" y="128"/>
                  <a:pt x="19" y="127"/>
                  <a:pt x="19" y="127"/>
                </a:cubicBezTo>
                <a:cubicBezTo>
                  <a:pt x="53" y="118"/>
                  <a:pt x="53" y="118"/>
                  <a:pt x="53" y="118"/>
                </a:cubicBezTo>
                <a:cubicBezTo>
                  <a:pt x="55" y="118"/>
                  <a:pt x="57" y="116"/>
                  <a:pt x="59" y="114"/>
                </a:cubicBezTo>
                <a:cubicBezTo>
                  <a:pt x="120" y="53"/>
                  <a:pt x="120" y="53"/>
                  <a:pt x="120" y="53"/>
                </a:cubicBezTo>
                <a:cubicBezTo>
                  <a:pt x="132" y="42"/>
                  <a:pt x="130" y="23"/>
                  <a:pt x="118" y="10"/>
                </a:cubicBezTo>
                <a:close/>
                <a:moveTo>
                  <a:pt x="64" y="95"/>
                </a:moveTo>
                <a:cubicBezTo>
                  <a:pt x="64" y="92"/>
                  <a:pt x="63" y="88"/>
                  <a:pt x="61" y="85"/>
                </a:cubicBezTo>
                <a:cubicBezTo>
                  <a:pt x="99" y="47"/>
                  <a:pt x="99" y="47"/>
                  <a:pt x="99" y="47"/>
                </a:cubicBezTo>
                <a:cubicBezTo>
                  <a:pt x="101" y="54"/>
                  <a:pt x="100" y="62"/>
                  <a:pt x="95" y="67"/>
                </a:cubicBezTo>
                <a:cubicBezTo>
                  <a:pt x="95" y="67"/>
                  <a:pt x="95" y="67"/>
                  <a:pt x="95" y="67"/>
                </a:cubicBezTo>
                <a:cubicBezTo>
                  <a:pt x="95" y="67"/>
                  <a:pt x="95" y="67"/>
                  <a:pt x="95" y="67"/>
                </a:cubicBezTo>
                <a:cubicBezTo>
                  <a:pt x="64" y="98"/>
                  <a:pt x="64" y="98"/>
                  <a:pt x="64" y="98"/>
                </a:cubicBezTo>
                <a:cubicBezTo>
                  <a:pt x="64" y="97"/>
                  <a:pt x="64" y="96"/>
                  <a:pt x="64" y="95"/>
                </a:cubicBezTo>
                <a:close/>
                <a:moveTo>
                  <a:pt x="59" y="81"/>
                </a:moveTo>
                <a:cubicBezTo>
                  <a:pt x="58" y="79"/>
                  <a:pt x="56" y="76"/>
                  <a:pt x="54" y="74"/>
                </a:cubicBezTo>
                <a:cubicBezTo>
                  <a:pt x="51" y="72"/>
                  <a:pt x="49" y="70"/>
                  <a:pt x="46" y="68"/>
                </a:cubicBezTo>
                <a:cubicBezTo>
                  <a:pt x="84" y="30"/>
                  <a:pt x="84" y="30"/>
                  <a:pt x="84" y="30"/>
                </a:cubicBezTo>
                <a:cubicBezTo>
                  <a:pt x="87" y="31"/>
                  <a:pt x="90" y="33"/>
                  <a:pt x="92" y="36"/>
                </a:cubicBezTo>
                <a:cubicBezTo>
                  <a:pt x="94" y="38"/>
                  <a:pt x="96" y="40"/>
                  <a:pt x="97" y="43"/>
                </a:cubicBezTo>
                <a:lnTo>
                  <a:pt x="59" y="81"/>
                </a:lnTo>
                <a:close/>
                <a:moveTo>
                  <a:pt x="42" y="66"/>
                </a:moveTo>
                <a:cubicBezTo>
                  <a:pt x="38" y="65"/>
                  <a:pt x="34" y="64"/>
                  <a:pt x="30" y="64"/>
                </a:cubicBezTo>
                <a:cubicBezTo>
                  <a:pt x="61" y="33"/>
                  <a:pt x="61" y="33"/>
                  <a:pt x="61" y="33"/>
                </a:cubicBezTo>
                <a:cubicBezTo>
                  <a:pt x="66" y="28"/>
                  <a:pt x="73" y="27"/>
                  <a:pt x="80" y="29"/>
                </a:cubicBezTo>
                <a:lnTo>
                  <a:pt x="42" y="66"/>
                </a:lnTo>
                <a:close/>
                <a:moveTo>
                  <a:pt x="17" y="119"/>
                </a:moveTo>
                <a:cubicBezTo>
                  <a:pt x="16" y="120"/>
                  <a:pt x="15" y="120"/>
                  <a:pt x="14" y="120"/>
                </a:cubicBezTo>
                <a:cubicBezTo>
                  <a:pt x="11" y="120"/>
                  <a:pt x="8" y="117"/>
                  <a:pt x="8" y="114"/>
                </a:cubicBezTo>
                <a:cubicBezTo>
                  <a:pt x="8" y="113"/>
                  <a:pt x="8" y="112"/>
                  <a:pt x="8" y="112"/>
                </a:cubicBezTo>
                <a:cubicBezTo>
                  <a:pt x="13" y="96"/>
                  <a:pt x="13" y="96"/>
                  <a:pt x="13" y="96"/>
                </a:cubicBezTo>
                <a:cubicBezTo>
                  <a:pt x="17" y="96"/>
                  <a:pt x="22" y="98"/>
                  <a:pt x="26" y="102"/>
                </a:cubicBezTo>
                <a:cubicBezTo>
                  <a:pt x="30" y="106"/>
                  <a:pt x="32" y="111"/>
                  <a:pt x="32" y="116"/>
                </a:cubicBezTo>
                <a:lnTo>
                  <a:pt x="17" y="119"/>
                </a:lnTo>
                <a:close/>
                <a:moveTo>
                  <a:pt x="35" y="115"/>
                </a:moveTo>
                <a:cubicBezTo>
                  <a:pt x="35" y="109"/>
                  <a:pt x="33" y="104"/>
                  <a:pt x="29" y="99"/>
                </a:cubicBezTo>
                <a:cubicBezTo>
                  <a:pt x="25" y="95"/>
                  <a:pt x="19" y="93"/>
                  <a:pt x="14" y="92"/>
                </a:cubicBezTo>
                <a:cubicBezTo>
                  <a:pt x="18" y="78"/>
                  <a:pt x="18" y="78"/>
                  <a:pt x="18" y="78"/>
                </a:cubicBezTo>
                <a:cubicBezTo>
                  <a:pt x="18" y="77"/>
                  <a:pt x="19" y="76"/>
                  <a:pt x="19" y="75"/>
                </a:cubicBezTo>
                <a:cubicBezTo>
                  <a:pt x="27" y="69"/>
                  <a:pt x="40" y="71"/>
                  <a:pt x="48" y="80"/>
                </a:cubicBezTo>
                <a:cubicBezTo>
                  <a:pt x="57" y="89"/>
                  <a:pt x="59" y="102"/>
                  <a:pt x="52" y="110"/>
                </a:cubicBezTo>
                <a:cubicBezTo>
                  <a:pt x="51" y="110"/>
                  <a:pt x="51" y="111"/>
                  <a:pt x="50" y="111"/>
                </a:cubicBezTo>
                <a:lnTo>
                  <a:pt x="35" y="115"/>
                </a:lnTo>
                <a:close/>
                <a:moveTo>
                  <a:pt x="115" y="47"/>
                </a:moveTo>
                <a:cubicBezTo>
                  <a:pt x="108" y="54"/>
                  <a:pt x="108" y="54"/>
                  <a:pt x="108" y="54"/>
                </a:cubicBezTo>
                <a:cubicBezTo>
                  <a:pt x="108" y="53"/>
                  <a:pt x="108" y="52"/>
                  <a:pt x="108" y="51"/>
                </a:cubicBezTo>
                <a:cubicBezTo>
                  <a:pt x="107" y="43"/>
                  <a:pt x="104" y="36"/>
                  <a:pt x="98" y="30"/>
                </a:cubicBezTo>
                <a:cubicBezTo>
                  <a:pt x="91" y="24"/>
                  <a:pt x="83" y="20"/>
                  <a:pt x="74" y="20"/>
                </a:cubicBezTo>
                <a:cubicBezTo>
                  <a:pt x="81" y="13"/>
                  <a:pt x="81" y="13"/>
                  <a:pt x="81" y="13"/>
                </a:cubicBezTo>
                <a:cubicBezTo>
                  <a:pt x="84" y="10"/>
                  <a:pt x="89" y="8"/>
                  <a:pt x="94" y="8"/>
                </a:cubicBezTo>
                <a:cubicBezTo>
                  <a:pt x="100" y="8"/>
                  <a:pt x="107" y="11"/>
                  <a:pt x="112" y="16"/>
                </a:cubicBezTo>
                <a:cubicBezTo>
                  <a:pt x="117" y="21"/>
                  <a:pt x="120" y="27"/>
                  <a:pt x="120" y="33"/>
                </a:cubicBezTo>
                <a:cubicBezTo>
                  <a:pt x="120" y="38"/>
                  <a:pt x="118" y="43"/>
                  <a:pt x="115" y="4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03" name="Group 82" descr=""/>
          <p:cNvPicPr/>
          <p:nvPr/>
        </p:nvPicPr>
        <p:blipFill>
          <a:blip r:embed="rId4"/>
          <a:stretch/>
        </p:blipFill>
        <p:spPr>
          <a:xfrm>
            <a:off x="3029040" y="2451240"/>
            <a:ext cx="1019160" cy="1157040"/>
          </a:xfrm>
          <a:prstGeom prst="rect">
            <a:avLst/>
          </a:prstGeom>
          <a:ln w="0">
            <a:noFill/>
          </a:ln>
        </p:spPr>
      </p:pic>
      <p:sp>
        <p:nvSpPr>
          <p:cNvPr id="504" name="Title 13"/>
          <p:cNvSpPr/>
          <p:nvPr/>
        </p:nvSpPr>
        <p:spPr>
          <a:xfrm>
            <a:off x="2959200" y="4471920"/>
            <a:ext cx="1334880" cy="709560"/>
          </a:xfrm>
          <a:prstGeom prst="rect">
            <a:avLst/>
          </a:prstGeom>
          <a:noFill/>
          <a:ln w="0">
            <a:noFill/>
          </a:ln>
        </p:spPr>
        <p:style>
          <a:lnRef idx="0"/>
          <a:fillRef idx="0"/>
          <a:effectRef idx="0"/>
          <a:fontRef idx="minor"/>
        </p:style>
        <p:txBody>
          <a:bodyPr lIns="122040" rIns="122040" tIns="60840" bIns="60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标题</a:t>
            </a:r>
            <a:endParaRPr b="0" lang="en-US" sz="2400" spc="-1" strike="noStrike">
              <a:solidFill>
                <a:srgbClr val="000000"/>
              </a:solidFill>
              <a:latin typeface="Arial"/>
            </a:endParaRPr>
          </a:p>
        </p:txBody>
      </p:sp>
      <p:sp>
        <p:nvSpPr>
          <p:cNvPr id="505" name="文本框 35"/>
          <p:cNvSpPr/>
          <p:nvPr/>
        </p:nvSpPr>
        <p:spPr>
          <a:xfrm>
            <a:off x="2585880" y="5032440"/>
            <a:ext cx="208296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506" name="Title 13"/>
          <p:cNvSpPr/>
          <p:nvPr/>
        </p:nvSpPr>
        <p:spPr>
          <a:xfrm>
            <a:off x="5464080" y="4471920"/>
            <a:ext cx="1335240" cy="709560"/>
          </a:xfrm>
          <a:prstGeom prst="rect">
            <a:avLst/>
          </a:prstGeom>
          <a:noFill/>
          <a:ln w="0">
            <a:noFill/>
          </a:ln>
        </p:spPr>
        <p:style>
          <a:lnRef idx="0"/>
          <a:fillRef idx="0"/>
          <a:effectRef idx="0"/>
          <a:fontRef idx="minor"/>
        </p:style>
        <p:txBody>
          <a:bodyPr lIns="122040" rIns="122040" tIns="60840" bIns="60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标题</a:t>
            </a:r>
            <a:endParaRPr b="0" lang="en-US" sz="2400" spc="-1" strike="noStrike">
              <a:solidFill>
                <a:srgbClr val="000000"/>
              </a:solidFill>
              <a:latin typeface="Arial"/>
            </a:endParaRPr>
          </a:p>
        </p:txBody>
      </p:sp>
      <p:sp>
        <p:nvSpPr>
          <p:cNvPr id="507" name="文本框 37"/>
          <p:cNvSpPr/>
          <p:nvPr/>
        </p:nvSpPr>
        <p:spPr>
          <a:xfrm>
            <a:off x="5089680" y="5032440"/>
            <a:ext cx="208260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508" name="Title 13"/>
          <p:cNvSpPr/>
          <p:nvPr/>
        </p:nvSpPr>
        <p:spPr>
          <a:xfrm>
            <a:off x="7967520" y="4471920"/>
            <a:ext cx="1335240" cy="709560"/>
          </a:xfrm>
          <a:prstGeom prst="rect">
            <a:avLst/>
          </a:prstGeom>
          <a:noFill/>
          <a:ln w="0">
            <a:noFill/>
          </a:ln>
        </p:spPr>
        <p:style>
          <a:lnRef idx="0"/>
          <a:fillRef idx="0"/>
          <a:effectRef idx="0"/>
          <a:fontRef idx="minor"/>
        </p:style>
        <p:txBody>
          <a:bodyPr lIns="122040" rIns="122040" tIns="60840" bIns="60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标题</a:t>
            </a:r>
            <a:endParaRPr b="0" lang="en-US" sz="2400" spc="-1" strike="noStrike">
              <a:solidFill>
                <a:srgbClr val="000000"/>
              </a:solidFill>
              <a:latin typeface="Arial"/>
            </a:endParaRPr>
          </a:p>
        </p:txBody>
      </p:sp>
      <p:sp>
        <p:nvSpPr>
          <p:cNvPr id="509" name="文本框 39"/>
          <p:cNvSpPr/>
          <p:nvPr/>
        </p:nvSpPr>
        <p:spPr>
          <a:xfrm>
            <a:off x="7593120" y="5032440"/>
            <a:ext cx="208260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0"/>
                      </p:stCondLst>
                      <p:childTnLst>
                        <p:par>
                          <p:cTn id="99" nodeType="withEffect" fill="hold">
                            <p:stCondLst>
                              <p:cond delay="0"/>
                            </p:stCondLst>
                            <p:childTnLst>
                              <p:par>
                                <p:cTn id="100" nodeType="afterEffect" fill="hold" presetClass="entr" presetID="22" presetSubtype="8">
                                  <p:stCondLst>
                                    <p:cond delay="0"/>
                                  </p:stCondLst>
                                  <p:childTnLst>
                                    <p:set>
                                      <p:cBhvr>
                                        <p:cTn id="101" dur="1" fill="hold">
                                          <p:stCondLst>
                                            <p:cond delay="0"/>
                                          </p:stCondLst>
                                        </p:cTn>
                                        <p:tgtEl>
                                          <p:spTgt spid="497"/>
                                        </p:tgtEl>
                                        <p:attrNameLst>
                                          <p:attrName>style.visibility</p:attrName>
                                        </p:attrNameLst>
                                      </p:cBhvr>
                                      <p:to>
                                        <p:strVal val="visible"/>
                                      </p:to>
                                    </p:set>
                                    <p:animEffect filter="wipe(left)" transition="in">
                                      <p:cBhvr additive="repl">
                                        <p:cTn id="102" dur="500"/>
                                        <p:tgtEl>
                                          <p:spTgt spid="497"/>
                                        </p:tgtEl>
                                      </p:cBhvr>
                                    </p:animEffect>
                                  </p:childTnLst>
                                </p:cTn>
                              </p:par>
                              <p:par>
                                <p:cTn id="103" nodeType="withEffect" fill="hold" presetClass="entr" presetID="53" presetSubtype="16">
                                  <p:stCondLst>
                                    <p:cond delay="0"/>
                                  </p:stCondLst>
                                  <p:childTnLst>
                                    <p:set>
                                      <p:cBhvr>
                                        <p:cTn id="104" dur="1" fill="hold">
                                          <p:stCondLst>
                                            <p:cond delay="0"/>
                                          </p:stCondLst>
                                        </p:cTn>
                                        <p:tgtEl>
                                          <p:spTgt spid="498"/>
                                        </p:tgtEl>
                                        <p:attrNameLst>
                                          <p:attrName>style.visibility</p:attrName>
                                        </p:attrNameLst>
                                      </p:cBhvr>
                                      <p:to>
                                        <p:strVal val="visible"/>
                                      </p:to>
                                    </p:set>
                                    <p:anim calcmode="lin" valueType="num">
                                      <p:cBhvr additive="repl">
                                        <p:cTn id="105" dur="500" fill="hold"/>
                                        <p:tgtEl>
                                          <p:spTgt spid="498"/>
                                        </p:tgtEl>
                                        <p:attrNameLst>
                                          <p:attrName>ppt_w</p:attrName>
                                        </p:attrNameLst>
                                      </p:cBhvr>
                                      <p:tavLst>
                                        <p:tav tm="0">
                                          <p:val>
                                            <p:fltVal val="0"/>
                                          </p:val>
                                        </p:tav>
                                        <p:tav tm="100000">
                                          <p:val>
                                            <p:strVal val="#ppt_w"/>
                                          </p:val>
                                        </p:tav>
                                      </p:tavLst>
                                    </p:anim>
                                    <p:anim calcmode="lin" valueType="num">
                                      <p:cBhvr additive="repl">
                                        <p:cTn id="106" dur="500" fill="hold"/>
                                        <p:tgtEl>
                                          <p:spTgt spid="498"/>
                                        </p:tgtEl>
                                        <p:attrNameLst>
                                          <p:attrName>ppt_h</p:attrName>
                                        </p:attrNameLst>
                                      </p:cBhvr>
                                      <p:tavLst>
                                        <p:tav tm="0">
                                          <p:val>
                                            <p:fltVal val="0"/>
                                          </p:val>
                                        </p:tav>
                                        <p:tav tm="100000">
                                          <p:val>
                                            <p:strVal val="#ppt_h"/>
                                          </p:val>
                                        </p:tav>
                                      </p:tavLst>
                                    </p:anim>
                                    <p:animEffect filter="fade" transition="in">
                                      <p:cBhvr additive="repl">
                                        <p:cTn id="107" dur="500"/>
                                        <p:tgtEl>
                                          <p:spTgt spid="498"/>
                                        </p:tgtEl>
                                      </p:cBhvr>
                                    </p:animEffect>
                                  </p:childTnLst>
                                </p:cTn>
                              </p:par>
                            </p:childTnLst>
                          </p:cTn>
                        </p:par>
                        <p:par>
                          <p:cTn id="108" nodeType="afterEffect" fill="hold">
                            <p:stCondLst>
                              <p:cond delay="500"/>
                            </p:stCondLst>
                            <p:childTnLst>
                              <p:par>
                                <p:cTn id="109" nodeType="afterEffect" fill="hold" presetClass="entr" presetID="10">
                                  <p:stCondLst>
                                    <p:cond delay="0"/>
                                  </p:stCondLst>
                                  <p:childTnLst>
                                    <p:set>
                                      <p:cBhvr>
                                        <p:cTn id="110" dur="1" fill="hold">
                                          <p:stCondLst>
                                            <p:cond delay="0"/>
                                          </p:stCondLst>
                                        </p:cTn>
                                        <p:tgtEl>
                                          <p:spTgt spid="503"/>
                                        </p:tgtEl>
                                        <p:attrNameLst>
                                          <p:attrName>style.visibility</p:attrName>
                                        </p:attrNameLst>
                                      </p:cBhvr>
                                      <p:to>
                                        <p:strVal val="visible"/>
                                      </p:to>
                                    </p:set>
                                    <p:animEffect filter="fade" transition="in">
                                      <p:cBhvr additive="repl">
                                        <p:cTn id="111" dur="500"/>
                                        <p:tgtEl>
                                          <p:spTgt spid="503"/>
                                        </p:tgtEl>
                                      </p:cBhvr>
                                    </p:animEffect>
                                  </p:childTnLst>
                                </p:cTn>
                              </p:par>
                            </p:childTnLst>
                          </p:cTn>
                        </p:par>
                        <p:par>
                          <p:cTn id="112" nodeType="afterEffect" fill="hold">
                            <p:stCondLst>
                              <p:cond delay="1000"/>
                            </p:stCondLst>
                            <p:childTnLst>
                              <p:par>
                                <p:cTn id="113" nodeType="afterEffect" fill="hold" presetClass="entr" presetID="53" presetSubtype="16">
                                  <p:stCondLst>
                                    <p:cond delay="0"/>
                                  </p:stCondLst>
                                  <p:childTnLst>
                                    <p:set>
                                      <p:cBhvr>
                                        <p:cTn id="114" dur="1" fill="hold">
                                          <p:stCondLst>
                                            <p:cond delay="0"/>
                                          </p:stCondLst>
                                        </p:cTn>
                                        <p:tgtEl>
                                          <p:spTgt spid="499"/>
                                        </p:tgtEl>
                                        <p:attrNameLst>
                                          <p:attrName>style.visibility</p:attrName>
                                        </p:attrNameLst>
                                      </p:cBhvr>
                                      <p:to>
                                        <p:strVal val="visible"/>
                                      </p:to>
                                    </p:set>
                                    <p:anim calcmode="lin" valueType="num">
                                      <p:cBhvr additive="repl">
                                        <p:cTn id="115" dur="500" fill="hold"/>
                                        <p:tgtEl>
                                          <p:spTgt spid="499"/>
                                        </p:tgtEl>
                                        <p:attrNameLst>
                                          <p:attrName>ppt_w</p:attrName>
                                        </p:attrNameLst>
                                      </p:cBhvr>
                                      <p:tavLst>
                                        <p:tav tm="0">
                                          <p:val>
                                            <p:fltVal val="0"/>
                                          </p:val>
                                        </p:tav>
                                        <p:tav tm="100000">
                                          <p:val>
                                            <p:strVal val="#ppt_w"/>
                                          </p:val>
                                        </p:tav>
                                      </p:tavLst>
                                    </p:anim>
                                    <p:anim calcmode="lin" valueType="num">
                                      <p:cBhvr additive="repl">
                                        <p:cTn id="116" dur="500" fill="hold"/>
                                        <p:tgtEl>
                                          <p:spTgt spid="499"/>
                                        </p:tgtEl>
                                        <p:attrNameLst>
                                          <p:attrName>ppt_h</p:attrName>
                                        </p:attrNameLst>
                                      </p:cBhvr>
                                      <p:tavLst>
                                        <p:tav tm="0">
                                          <p:val>
                                            <p:fltVal val="0"/>
                                          </p:val>
                                        </p:tav>
                                        <p:tav tm="100000">
                                          <p:val>
                                            <p:strVal val="#ppt_h"/>
                                          </p:val>
                                        </p:tav>
                                      </p:tavLst>
                                    </p:anim>
                                    <p:animEffect filter="fade" transition="in">
                                      <p:cBhvr additive="repl">
                                        <p:cTn id="117" dur="500"/>
                                        <p:tgtEl>
                                          <p:spTgt spid="499"/>
                                        </p:tgtEl>
                                      </p:cBhvr>
                                    </p:animEffect>
                                  </p:childTnLst>
                                </p:cTn>
                              </p:par>
                            </p:childTnLst>
                          </p:cTn>
                        </p:par>
                        <p:par>
                          <p:cTn id="118" nodeType="afterEffect" fill="hold">
                            <p:stCondLst>
                              <p:cond delay="1500"/>
                            </p:stCondLst>
                            <p:childTnLst>
                              <p:par>
                                <p:cTn id="119" nodeType="afterEffect" fill="hold" presetClass="entr" presetID="10">
                                  <p:stCondLst>
                                    <p:cond delay="0"/>
                                  </p:stCondLst>
                                  <p:childTnLst>
                                    <p:set>
                                      <p:cBhvr>
                                        <p:cTn id="120" dur="1" fill="hold">
                                          <p:stCondLst>
                                            <p:cond delay="0"/>
                                          </p:stCondLst>
                                        </p:cTn>
                                        <p:tgtEl>
                                          <p:spTgt spid="501"/>
                                        </p:tgtEl>
                                        <p:attrNameLst>
                                          <p:attrName>style.visibility</p:attrName>
                                        </p:attrNameLst>
                                      </p:cBhvr>
                                      <p:to>
                                        <p:strVal val="visible"/>
                                      </p:to>
                                    </p:set>
                                    <p:animEffect filter="fade" transition="in">
                                      <p:cBhvr additive="repl">
                                        <p:cTn id="121" dur="500"/>
                                        <p:tgtEl>
                                          <p:spTgt spid="501"/>
                                        </p:tgtEl>
                                      </p:cBhvr>
                                    </p:animEffect>
                                  </p:childTnLst>
                                </p:cTn>
                              </p:par>
                            </p:childTnLst>
                          </p:cTn>
                        </p:par>
                        <p:par>
                          <p:cTn id="122" nodeType="afterEffect" fill="hold">
                            <p:stCondLst>
                              <p:cond delay="2000"/>
                            </p:stCondLst>
                            <p:childTnLst>
                              <p:par>
                                <p:cTn id="123" nodeType="afterEffect" fill="hold" presetClass="entr" presetID="53" presetSubtype="16">
                                  <p:stCondLst>
                                    <p:cond delay="0"/>
                                  </p:stCondLst>
                                  <p:childTnLst>
                                    <p:set>
                                      <p:cBhvr>
                                        <p:cTn id="124" dur="1" fill="hold">
                                          <p:stCondLst>
                                            <p:cond delay="0"/>
                                          </p:stCondLst>
                                        </p:cTn>
                                        <p:tgtEl>
                                          <p:spTgt spid="500"/>
                                        </p:tgtEl>
                                        <p:attrNameLst>
                                          <p:attrName>style.visibility</p:attrName>
                                        </p:attrNameLst>
                                      </p:cBhvr>
                                      <p:to>
                                        <p:strVal val="visible"/>
                                      </p:to>
                                    </p:set>
                                    <p:anim calcmode="lin" valueType="num">
                                      <p:cBhvr additive="repl">
                                        <p:cTn id="125" dur="500" fill="hold"/>
                                        <p:tgtEl>
                                          <p:spTgt spid="500"/>
                                        </p:tgtEl>
                                        <p:attrNameLst>
                                          <p:attrName>ppt_w</p:attrName>
                                        </p:attrNameLst>
                                      </p:cBhvr>
                                      <p:tavLst>
                                        <p:tav tm="0">
                                          <p:val>
                                            <p:fltVal val="0"/>
                                          </p:val>
                                        </p:tav>
                                        <p:tav tm="100000">
                                          <p:val>
                                            <p:strVal val="#ppt_w"/>
                                          </p:val>
                                        </p:tav>
                                      </p:tavLst>
                                    </p:anim>
                                    <p:anim calcmode="lin" valueType="num">
                                      <p:cBhvr additive="repl">
                                        <p:cTn id="126" dur="500" fill="hold"/>
                                        <p:tgtEl>
                                          <p:spTgt spid="500"/>
                                        </p:tgtEl>
                                        <p:attrNameLst>
                                          <p:attrName>ppt_h</p:attrName>
                                        </p:attrNameLst>
                                      </p:cBhvr>
                                      <p:tavLst>
                                        <p:tav tm="0">
                                          <p:val>
                                            <p:fltVal val="0"/>
                                          </p:val>
                                        </p:tav>
                                        <p:tav tm="100000">
                                          <p:val>
                                            <p:strVal val="#ppt_h"/>
                                          </p:val>
                                        </p:tav>
                                      </p:tavLst>
                                    </p:anim>
                                    <p:animEffect filter="fade" transition="in">
                                      <p:cBhvr additive="repl">
                                        <p:cTn id="127" dur="500"/>
                                        <p:tgtEl>
                                          <p:spTgt spid="500"/>
                                        </p:tgtEl>
                                      </p:cBhvr>
                                    </p:animEffect>
                                  </p:childTnLst>
                                </p:cTn>
                              </p:par>
                            </p:childTnLst>
                          </p:cTn>
                        </p:par>
                        <p:par>
                          <p:cTn id="128" nodeType="afterEffect" fill="hold">
                            <p:stCondLst>
                              <p:cond delay="2500"/>
                            </p:stCondLst>
                            <p:childTnLst>
                              <p:par>
                                <p:cTn id="129" nodeType="afterEffect" fill="hold" presetClass="entr" presetID="10">
                                  <p:stCondLst>
                                    <p:cond delay="0"/>
                                  </p:stCondLst>
                                  <p:childTnLst>
                                    <p:set>
                                      <p:cBhvr>
                                        <p:cTn id="130" dur="1" fill="hold">
                                          <p:stCondLst>
                                            <p:cond delay="0"/>
                                          </p:stCondLst>
                                        </p:cTn>
                                        <p:tgtEl>
                                          <p:spTgt spid="502"/>
                                        </p:tgtEl>
                                        <p:attrNameLst>
                                          <p:attrName>style.visibility</p:attrName>
                                        </p:attrNameLst>
                                      </p:cBhvr>
                                      <p:to>
                                        <p:strVal val="visible"/>
                                      </p:to>
                                    </p:set>
                                    <p:animEffect filter="fade" transition="in">
                                      <p:cBhvr additive="repl">
                                        <p:cTn id="131" dur="500"/>
                                        <p:tgtEl>
                                          <p:spTgt spid="502"/>
                                        </p:tgtEl>
                                      </p:cBhvr>
                                    </p:animEffect>
                                  </p:childTnLst>
                                </p:cTn>
                              </p:par>
                              <p:par>
                                <p:cTn id="132" nodeType="withEffect" fill="hold" presetClass="entr" presetID="22" presetSubtype="8">
                                  <p:stCondLst>
                                    <p:cond delay="0"/>
                                  </p:stCondLst>
                                  <p:childTnLst>
                                    <p:set>
                                      <p:cBhvr>
                                        <p:cTn id="133" dur="1" fill="hold">
                                          <p:stCondLst>
                                            <p:cond delay="0"/>
                                          </p:stCondLst>
                                        </p:cTn>
                                        <p:tgtEl>
                                          <p:spTgt spid="496"/>
                                        </p:tgtEl>
                                        <p:attrNameLst>
                                          <p:attrName>style.visibility</p:attrName>
                                        </p:attrNameLst>
                                      </p:cBhvr>
                                      <p:to>
                                        <p:strVal val="visible"/>
                                      </p:to>
                                    </p:set>
                                    <p:animEffect filter="wipe(left)" transition="in">
                                      <p:cBhvr additive="repl">
                                        <p:cTn id="134" dur="500"/>
                                        <p:tgtEl>
                                          <p:spTgt spid="4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0" name="图片 1" descr=""/>
          <p:cNvPicPr/>
          <p:nvPr/>
        </p:nvPicPr>
        <p:blipFill>
          <a:blip r:embed="rId1"/>
          <a:stretch/>
        </p:blipFill>
        <p:spPr>
          <a:xfrm>
            <a:off x="8610480" y="0"/>
            <a:ext cx="3581640" cy="1006560"/>
          </a:xfrm>
          <a:prstGeom prst="rect">
            <a:avLst/>
          </a:prstGeom>
          <a:ln w="0">
            <a:noFill/>
          </a:ln>
        </p:spPr>
      </p:pic>
      <p:sp>
        <p:nvSpPr>
          <p:cNvPr id="511"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四部分标题</a:t>
            </a:r>
            <a:endParaRPr b="0" lang="en-US" sz="2800" spc="-1" strike="noStrike">
              <a:solidFill>
                <a:srgbClr val="000000"/>
              </a:solidFill>
              <a:latin typeface="Arial"/>
            </a:endParaRPr>
          </a:p>
        </p:txBody>
      </p:sp>
      <p:pic>
        <p:nvPicPr>
          <p:cNvPr id="512" name="直接连接符 3" descr=""/>
          <p:cNvPicPr/>
          <p:nvPr/>
        </p:nvPicPr>
        <p:blipFill>
          <a:blip r:embed="rId2"/>
          <a:stretch/>
        </p:blipFill>
        <p:spPr>
          <a:xfrm>
            <a:off x="0" y="798480"/>
            <a:ext cx="11192040" cy="23760"/>
          </a:xfrm>
          <a:prstGeom prst="rect">
            <a:avLst/>
          </a:prstGeom>
          <a:ln w="0">
            <a:noFill/>
          </a:ln>
        </p:spPr>
      </p:pic>
      <p:sp>
        <p:nvSpPr>
          <p:cNvPr id="513"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4" name="组合 5"/>
          <p:cNvGrpSpPr/>
          <p:nvPr/>
        </p:nvGrpSpPr>
        <p:grpSpPr>
          <a:xfrm>
            <a:off x="214200" y="125280"/>
            <a:ext cx="638280" cy="638280"/>
            <a:chOff x="214200" y="125280"/>
            <a:chExt cx="638280" cy="638280"/>
          </a:xfrm>
        </p:grpSpPr>
        <p:sp>
          <p:nvSpPr>
            <p:cNvPr id="515" name="椭圆 6"/>
            <p:cNvSpPr/>
            <p:nvPr/>
          </p:nvSpPr>
          <p:spPr>
            <a:xfrm>
              <a:off x="214200" y="125280"/>
              <a:ext cx="6382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椭圆 7"/>
            <p:cNvSpPr/>
            <p:nvPr/>
          </p:nvSpPr>
          <p:spPr>
            <a:xfrm>
              <a:off x="257040" y="168120"/>
              <a:ext cx="5526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KSO_Shape"/>
            <p:cNvSpPr/>
            <p:nvPr/>
          </p:nvSpPr>
          <p:spPr>
            <a:xfrm>
              <a:off x="366480" y="299880"/>
              <a:ext cx="333360" cy="289080"/>
            </a:xfrm>
            <a:custGeom>
              <a:avLst/>
              <a:gdLst/>
              <a:ahLst/>
              <a:rect l="l" t="t" r="r" b="b"/>
              <a:pathLst>
                <a:path w="5325" h="4595">
                  <a:moveTo>
                    <a:pt x="5325" y="2829"/>
                  </a:moveTo>
                  <a:lnTo>
                    <a:pt x="5073" y="2829"/>
                  </a:lnTo>
                  <a:lnTo>
                    <a:pt x="5073" y="0"/>
                  </a:lnTo>
                  <a:lnTo>
                    <a:pt x="253" y="0"/>
                  </a:lnTo>
                  <a:lnTo>
                    <a:pt x="253" y="2829"/>
                  </a:lnTo>
                  <a:lnTo>
                    <a:pt x="0" y="2829"/>
                  </a:lnTo>
                  <a:lnTo>
                    <a:pt x="0" y="3269"/>
                  </a:lnTo>
                  <a:lnTo>
                    <a:pt x="1284" y="3269"/>
                  </a:lnTo>
                  <a:lnTo>
                    <a:pt x="926" y="4595"/>
                  </a:lnTo>
                  <a:lnTo>
                    <a:pt x="1404" y="4595"/>
                  </a:lnTo>
                  <a:lnTo>
                    <a:pt x="1762" y="3269"/>
                  </a:lnTo>
                  <a:lnTo>
                    <a:pt x="3565" y="3269"/>
                  </a:lnTo>
                  <a:lnTo>
                    <a:pt x="3764" y="4009"/>
                  </a:lnTo>
                  <a:lnTo>
                    <a:pt x="3923" y="4595"/>
                  </a:lnTo>
                  <a:lnTo>
                    <a:pt x="4400" y="4595"/>
                  </a:lnTo>
                  <a:lnTo>
                    <a:pt x="4042" y="3269"/>
                  </a:lnTo>
                  <a:lnTo>
                    <a:pt x="5325" y="3269"/>
                  </a:lnTo>
                  <a:lnTo>
                    <a:pt x="5325" y="2829"/>
                  </a:lnTo>
                  <a:close/>
                  <a:moveTo>
                    <a:pt x="4623" y="2732"/>
                  </a:moveTo>
                  <a:lnTo>
                    <a:pt x="4623" y="2732"/>
                  </a:lnTo>
                  <a:lnTo>
                    <a:pt x="4623" y="2742"/>
                  </a:lnTo>
                  <a:lnTo>
                    <a:pt x="4622" y="2752"/>
                  </a:lnTo>
                  <a:lnTo>
                    <a:pt x="4619" y="2760"/>
                  </a:lnTo>
                  <a:lnTo>
                    <a:pt x="4615" y="2770"/>
                  </a:lnTo>
                  <a:lnTo>
                    <a:pt x="4612" y="2779"/>
                  </a:lnTo>
                  <a:lnTo>
                    <a:pt x="4607" y="2786"/>
                  </a:lnTo>
                  <a:lnTo>
                    <a:pt x="4601" y="2794"/>
                  </a:lnTo>
                  <a:lnTo>
                    <a:pt x="4595" y="2801"/>
                  </a:lnTo>
                  <a:lnTo>
                    <a:pt x="4588" y="2807"/>
                  </a:lnTo>
                  <a:lnTo>
                    <a:pt x="4581" y="2812"/>
                  </a:lnTo>
                  <a:lnTo>
                    <a:pt x="4573" y="2817"/>
                  </a:lnTo>
                  <a:lnTo>
                    <a:pt x="4564" y="2822"/>
                  </a:lnTo>
                  <a:lnTo>
                    <a:pt x="4555" y="2824"/>
                  </a:lnTo>
                  <a:lnTo>
                    <a:pt x="4547" y="2827"/>
                  </a:lnTo>
                  <a:lnTo>
                    <a:pt x="4537" y="2828"/>
                  </a:lnTo>
                  <a:lnTo>
                    <a:pt x="4527" y="2829"/>
                  </a:lnTo>
                  <a:lnTo>
                    <a:pt x="3213" y="2829"/>
                  </a:lnTo>
                  <a:lnTo>
                    <a:pt x="3203" y="2828"/>
                  </a:lnTo>
                  <a:lnTo>
                    <a:pt x="3194" y="2827"/>
                  </a:lnTo>
                  <a:lnTo>
                    <a:pt x="3185" y="2824"/>
                  </a:lnTo>
                  <a:lnTo>
                    <a:pt x="3175" y="2822"/>
                  </a:lnTo>
                  <a:lnTo>
                    <a:pt x="3168" y="2817"/>
                  </a:lnTo>
                  <a:lnTo>
                    <a:pt x="3159" y="2812"/>
                  </a:lnTo>
                  <a:lnTo>
                    <a:pt x="3152" y="2807"/>
                  </a:lnTo>
                  <a:lnTo>
                    <a:pt x="3146" y="2801"/>
                  </a:lnTo>
                  <a:lnTo>
                    <a:pt x="3140" y="2794"/>
                  </a:lnTo>
                  <a:lnTo>
                    <a:pt x="3133" y="2786"/>
                  </a:lnTo>
                  <a:lnTo>
                    <a:pt x="3129" y="2779"/>
                  </a:lnTo>
                  <a:lnTo>
                    <a:pt x="3125" y="2770"/>
                  </a:lnTo>
                  <a:lnTo>
                    <a:pt x="3121" y="2760"/>
                  </a:lnTo>
                  <a:lnTo>
                    <a:pt x="3119" y="2752"/>
                  </a:lnTo>
                  <a:lnTo>
                    <a:pt x="3118" y="2742"/>
                  </a:lnTo>
                  <a:lnTo>
                    <a:pt x="3118" y="2732"/>
                  </a:lnTo>
                  <a:lnTo>
                    <a:pt x="3118" y="2045"/>
                  </a:lnTo>
                  <a:lnTo>
                    <a:pt x="3118" y="2035"/>
                  </a:lnTo>
                  <a:lnTo>
                    <a:pt x="3119" y="2025"/>
                  </a:lnTo>
                  <a:lnTo>
                    <a:pt x="3121" y="2016"/>
                  </a:lnTo>
                  <a:lnTo>
                    <a:pt x="3125" y="2008"/>
                  </a:lnTo>
                  <a:lnTo>
                    <a:pt x="3129" y="1999"/>
                  </a:lnTo>
                  <a:lnTo>
                    <a:pt x="3133" y="1991"/>
                  </a:lnTo>
                  <a:lnTo>
                    <a:pt x="3140" y="1983"/>
                  </a:lnTo>
                  <a:lnTo>
                    <a:pt x="3146" y="1977"/>
                  </a:lnTo>
                  <a:lnTo>
                    <a:pt x="3152" y="1971"/>
                  </a:lnTo>
                  <a:lnTo>
                    <a:pt x="3159" y="1965"/>
                  </a:lnTo>
                  <a:lnTo>
                    <a:pt x="3168" y="1960"/>
                  </a:lnTo>
                  <a:lnTo>
                    <a:pt x="3175" y="1956"/>
                  </a:lnTo>
                  <a:lnTo>
                    <a:pt x="3185" y="1953"/>
                  </a:lnTo>
                  <a:lnTo>
                    <a:pt x="3194" y="1950"/>
                  </a:lnTo>
                  <a:lnTo>
                    <a:pt x="3203" y="1949"/>
                  </a:lnTo>
                  <a:lnTo>
                    <a:pt x="3213" y="1949"/>
                  </a:lnTo>
                  <a:lnTo>
                    <a:pt x="4527" y="1949"/>
                  </a:lnTo>
                  <a:lnTo>
                    <a:pt x="4537" y="1949"/>
                  </a:lnTo>
                  <a:lnTo>
                    <a:pt x="4547" y="1950"/>
                  </a:lnTo>
                  <a:lnTo>
                    <a:pt x="4555" y="1953"/>
                  </a:lnTo>
                  <a:lnTo>
                    <a:pt x="4564" y="1956"/>
                  </a:lnTo>
                  <a:lnTo>
                    <a:pt x="4573" y="1960"/>
                  </a:lnTo>
                  <a:lnTo>
                    <a:pt x="4581" y="1965"/>
                  </a:lnTo>
                  <a:lnTo>
                    <a:pt x="4588" y="1971"/>
                  </a:lnTo>
                  <a:lnTo>
                    <a:pt x="4595" y="1977"/>
                  </a:lnTo>
                  <a:lnTo>
                    <a:pt x="4601" y="1983"/>
                  </a:lnTo>
                  <a:lnTo>
                    <a:pt x="4607" y="1991"/>
                  </a:lnTo>
                  <a:lnTo>
                    <a:pt x="4612" y="1999"/>
                  </a:lnTo>
                  <a:lnTo>
                    <a:pt x="4615" y="2008"/>
                  </a:lnTo>
                  <a:lnTo>
                    <a:pt x="4619" y="2016"/>
                  </a:lnTo>
                  <a:lnTo>
                    <a:pt x="4622" y="2025"/>
                  </a:lnTo>
                  <a:lnTo>
                    <a:pt x="4623" y="2035"/>
                  </a:lnTo>
                  <a:lnTo>
                    <a:pt x="4623" y="2045"/>
                  </a:lnTo>
                  <a:lnTo>
                    <a:pt x="4623" y="2732"/>
                  </a:lnTo>
                  <a:close/>
                </a:path>
              </a:pathLst>
            </a:custGeom>
            <a:solidFill>
              <a:srgbClr val="4b649f"/>
            </a:solidFill>
            <a:ln w="0">
              <a:noFill/>
            </a:ln>
          </p:spPr>
          <p:style>
            <a:lnRef idx="0"/>
            <a:fillRef idx="0"/>
            <a:effectRef idx="0"/>
            <a:fontRef idx="minor"/>
          </p:style>
          <p:txBody>
            <a:bodyPr lIns="90000" rIns="90000" tIns="-430920" bIns="242280" anchor="ctr">
              <a:noAutofit/>
            </a:bodyPr>
            <a:p>
              <a:endParaRPr b="0" lang="en-US" sz="1800" spc="-1" strike="noStrike">
                <a:solidFill>
                  <a:srgbClr val="000000"/>
                </a:solidFill>
                <a:latin typeface="Arial"/>
              </a:endParaRPr>
            </a:p>
          </p:txBody>
        </p:sp>
      </p:grpSp>
      <p:sp>
        <p:nvSpPr>
          <p:cNvPr id="518" name="文本框 9"/>
          <p:cNvSpPr/>
          <p:nvPr/>
        </p:nvSpPr>
        <p:spPr>
          <a:xfrm>
            <a:off x="8915400" y="2168640"/>
            <a:ext cx="21844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Arial"/>
              </a:rPr>
              <a:t>请在这里添加相应的文字内容请在这里添加相应的文字内容</a:t>
            </a:r>
            <a:endParaRPr b="0" lang="en-US" sz="1200" spc="-1" strike="noStrike">
              <a:solidFill>
                <a:srgbClr val="000000"/>
              </a:solidFill>
              <a:latin typeface="Arial"/>
            </a:endParaRPr>
          </a:p>
        </p:txBody>
      </p:sp>
      <p:sp>
        <p:nvSpPr>
          <p:cNvPr id="519" name="文本框 10"/>
          <p:cNvSpPr/>
          <p:nvPr/>
        </p:nvSpPr>
        <p:spPr>
          <a:xfrm>
            <a:off x="9250920" y="1941480"/>
            <a:ext cx="1155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b649f"/>
                </a:solidFill>
                <a:latin typeface="Arial"/>
              </a:rPr>
              <a:t>请在这里添加标题</a:t>
            </a:r>
            <a:endParaRPr b="0" lang="en-US" sz="1600" spc="-1" strike="noStrike">
              <a:solidFill>
                <a:srgbClr val="000000"/>
              </a:solidFill>
              <a:latin typeface="Arial"/>
            </a:endParaRPr>
          </a:p>
        </p:txBody>
      </p:sp>
      <p:sp>
        <p:nvSpPr>
          <p:cNvPr id="520" name="文本框 11"/>
          <p:cNvSpPr/>
          <p:nvPr/>
        </p:nvSpPr>
        <p:spPr>
          <a:xfrm>
            <a:off x="8915400" y="3328920"/>
            <a:ext cx="21844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Arial"/>
              </a:rPr>
              <a:t>请在这里添加相应的文字内容请在这里添加相应的文字内容</a:t>
            </a:r>
            <a:endParaRPr b="0" lang="en-US" sz="1200" spc="-1" strike="noStrike">
              <a:solidFill>
                <a:srgbClr val="000000"/>
              </a:solidFill>
              <a:latin typeface="Arial"/>
            </a:endParaRPr>
          </a:p>
        </p:txBody>
      </p:sp>
      <p:sp>
        <p:nvSpPr>
          <p:cNvPr id="521" name="文本框 12"/>
          <p:cNvSpPr/>
          <p:nvPr/>
        </p:nvSpPr>
        <p:spPr>
          <a:xfrm>
            <a:off x="9250920" y="3102120"/>
            <a:ext cx="1155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b649f"/>
                </a:solidFill>
                <a:latin typeface="Arial"/>
              </a:rPr>
              <a:t>请在这里添加标题</a:t>
            </a:r>
            <a:endParaRPr b="0" lang="en-US" sz="1600" spc="-1" strike="noStrike">
              <a:solidFill>
                <a:srgbClr val="000000"/>
              </a:solidFill>
              <a:latin typeface="Arial"/>
            </a:endParaRPr>
          </a:p>
        </p:txBody>
      </p:sp>
      <p:sp>
        <p:nvSpPr>
          <p:cNvPr id="522" name="文本框 13"/>
          <p:cNvSpPr/>
          <p:nvPr/>
        </p:nvSpPr>
        <p:spPr>
          <a:xfrm>
            <a:off x="8915400" y="4495680"/>
            <a:ext cx="21844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Arial"/>
              </a:rPr>
              <a:t>请在这里添加相应的文字内容请在这里添加相应的文字内容</a:t>
            </a:r>
            <a:endParaRPr b="0" lang="en-US" sz="1200" spc="-1" strike="noStrike">
              <a:solidFill>
                <a:srgbClr val="000000"/>
              </a:solidFill>
              <a:latin typeface="Arial"/>
            </a:endParaRPr>
          </a:p>
        </p:txBody>
      </p:sp>
      <p:sp>
        <p:nvSpPr>
          <p:cNvPr id="523" name="文本框 14"/>
          <p:cNvSpPr/>
          <p:nvPr/>
        </p:nvSpPr>
        <p:spPr>
          <a:xfrm>
            <a:off x="9250920" y="4268880"/>
            <a:ext cx="1155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b649f"/>
                </a:solidFill>
                <a:latin typeface="Arial"/>
              </a:rPr>
              <a:t>请在这里添加标题</a:t>
            </a:r>
            <a:endParaRPr b="0" lang="en-US" sz="1600" spc="-1" strike="noStrike">
              <a:solidFill>
                <a:srgbClr val="000000"/>
              </a:solidFill>
              <a:latin typeface="Arial"/>
            </a:endParaRPr>
          </a:p>
        </p:txBody>
      </p:sp>
      <p:sp>
        <p:nvSpPr>
          <p:cNvPr id="524" name="文本框 15"/>
          <p:cNvSpPr/>
          <p:nvPr/>
        </p:nvSpPr>
        <p:spPr>
          <a:xfrm>
            <a:off x="1096920" y="2225520"/>
            <a:ext cx="2184480" cy="64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Arial"/>
              </a:rPr>
              <a:t>请在这里添加相应的文字内容请在这里添加相应的文字内容</a:t>
            </a:r>
            <a:endParaRPr b="0" lang="en-US" sz="1200" spc="-1" strike="noStrike">
              <a:solidFill>
                <a:srgbClr val="000000"/>
              </a:solidFill>
              <a:latin typeface="Arial"/>
            </a:endParaRPr>
          </a:p>
        </p:txBody>
      </p:sp>
      <p:sp>
        <p:nvSpPr>
          <p:cNvPr id="525" name="文本框 16"/>
          <p:cNvSpPr/>
          <p:nvPr/>
        </p:nvSpPr>
        <p:spPr>
          <a:xfrm>
            <a:off x="1789560" y="1998720"/>
            <a:ext cx="11559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b649f"/>
                </a:solidFill>
                <a:latin typeface="Arial"/>
              </a:rPr>
              <a:t>请在这里添加标题</a:t>
            </a:r>
            <a:endParaRPr b="0" lang="en-US" sz="1600" spc="-1" strike="noStrike">
              <a:solidFill>
                <a:srgbClr val="000000"/>
              </a:solidFill>
              <a:latin typeface="Arial"/>
            </a:endParaRPr>
          </a:p>
        </p:txBody>
      </p:sp>
      <p:sp>
        <p:nvSpPr>
          <p:cNvPr id="526" name="文本框 17"/>
          <p:cNvSpPr/>
          <p:nvPr/>
        </p:nvSpPr>
        <p:spPr>
          <a:xfrm>
            <a:off x="1096920" y="3386160"/>
            <a:ext cx="2184480" cy="64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Arial"/>
              </a:rPr>
              <a:t>请在这里添加相应的文字内容请在这里添加相应的文字内容</a:t>
            </a:r>
            <a:endParaRPr b="0" lang="en-US" sz="1200" spc="-1" strike="noStrike">
              <a:solidFill>
                <a:srgbClr val="000000"/>
              </a:solidFill>
              <a:latin typeface="Arial"/>
            </a:endParaRPr>
          </a:p>
        </p:txBody>
      </p:sp>
      <p:sp>
        <p:nvSpPr>
          <p:cNvPr id="527" name="文本框 18"/>
          <p:cNvSpPr/>
          <p:nvPr/>
        </p:nvSpPr>
        <p:spPr>
          <a:xfrm>
            <a:off x="1789560" y="3159000"/>
            <a:ext cx="11559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b649f"/>
                </a:solidFill>
                <a:latin typeface="Arial"/>
              </a:rPr>
              <a:t>请在这里添加标题</a:t>
            </a:r>
            <a:endParaRPr b="0" lang="en-US" sz="1600" spc="-1" strike="noStrike">
              <a:solidFill>
                <a:srgbClr val="000000"/>
              </a:solidFill>
              <a:latin typeface="Arial"/>
            </a:endParaRPr>
          </a:p>
        </p:txBody>
      </p:sp>
      <p:sp>
        <p:nvSpPr>
          <p:cNvPr id="528" name="文本框 19"/>
          <p:cNvSpPr/>
          <p:nvPr/>
        </p:nvSpPr>
        <p:spPr>
          <a:xfrm>
            <a:off x="1096920" y="4552920"/>
            <a:ext cx="2184480" cy="64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Arial"/>
              </a:rPr>
              <a:t>请在这里添加相应的文字内容请在这里添加相应的文字内容</a:t>
            </a:r>
            <a:endParaRPr b="0" lang="en-US" sz="1200" spc="-1" strike="noStrike">
              <a:solidFill>
                <a:srgbClr val="000000"/>
              </a:solidFill>
              <a:latin typeface="Arial"/>
            </a:endParaRPr>
          </a:p>
        </p:txBody>
      </p:sp>
      <p:sp>
        <p:nvSpPr>
          <p:cNvPr id="529" name="文本框 20"/>
          <p:cNvSpPr/>
          <p:nvPr/>
        </p:nvSpPr>
        <p:spPr>
          <a:xfrm>
            <a:off x="1789560" y="4325760"/>
            <a:ext cx="11559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b649f"/>
                </a:solidFill>
                <a:latin typeface="Arial"/>
              </a:rPr>
              <a:t>请在这里添加标题</a:t>
            </a:r>
            <a:endParaRPr b="0" lang="en-US" sz="1600" spc="-1" strike="noStrike">
              <a:solidFill>
                <a:srgbClr val="000000"/>
              </a:solidFill>
              <a:latin typeface="Arial"/>
            </a:endParaRPr>
          </a:p>
        </p:txBody>
      </p:sp>
      <p:sp>
        <p:nvSpPr>
          <p:cNvPr id="530" name="KSO_Shape"/>
          <p:cNvSpPr/>
          <p:nvPr/>
        </p:nvSpPr>
        <p:spPr>
          <a:xfrm>
            <a:off x="3552840" y="2111400"/>
            <a:ext cx="515880" cy="533520"/>
          </a:xfrm>
          <a:custGeom>
            <a:avLst/>
            <a:gdLst/>
            <a:ahLst/>
            <a:rect l="l" t="t" r="r" b="b"/>
            <a:pathLst>
              <a:path w="1119349" h="1157433">
                <a:moveTo>
                  <a:pt x="135620" y="818456"/>
                </a:moveTo>
                <a:cubicBezTo>
                  <a:pt x="71450" y="948523"/>
                  <a:pt x="57484" y="1054732"/>
                  <a:pt x="108323" y="1103729"/>
                </a:cubicBezTo>
                <a:cubicBezTo>
                  <a:pt x="164989" y="1158341"/>
                  <a:pt x="289713" y="1129874"/>
                  <a:pt x="437069" y="1040437"/>
                </a:cubicBezTo>
                <a:cubicBezTo>
                  <a:pt x="307239" y="1007168"/>
                  <a:pt x="198946" y="926245"/>
                  <a:pt x="135620" y="818456"/>
                </a:cubicBezTo>
                <a:close/>
                <a:moveTo>
                  <a:pt x="582086" y="345816"/>
                </a:moveTo>
                <a:cubicBezTo>
                  <a:pt x="490772" y="345817"/>
                  <a:pt x="434615" y="407693"/>
                  <a:pt x="413811" y="495363"/>
                </a:cubicBezTo>
                <a:lnTo>
                  <a:pt x="750361" y="495364"/>
                </a:lnTo>
                <a:cubicBezTo>
                  <a:pt x="729557" y="407692"/>
                  <a:pt x="673401" y="345816"/>
                  <a:pt x="582086" y="345816"/>
                </a:cubicBezTo>
                <a:close/>
                <a:moveTo>
                  <a:pt x="954622" y="129"/>
                </a:moveTo>
                <a:cubicBezTo>
                  <a:pt x="1007406" y="-1466"/>
                  <a:pt x="1051113" y="11645"/>
                  <a:pt x="1081775" y="41196"/>
                </a:cubicBezTo>
                <a:cubicBezTo>
                  <a:pt x="1101805" y="60500"/>
                  <a:pt x="1115030" y="85625"/>
                  <a:pt x="1119349" y="116033"/>
                </a:cubicBezTo>
                <a:cubicBezTo>
                  <a:pt x="1112931" y="103633"/>
                  <a:pt x="1104158" y="92219"/>
                  <a:pt x="1093494" y="81508"/>
                </a:cubicBezTo>
                <a:cubicBezTo>
                  <a:pt x="1010899" y="-1451"/>
                  <a:pt x="882017" y="28786"/>
                  <a:pt x="737350" y="130602"/>
                </a:cubicBezTo>
                <a:cubicBezTo>
                  <a:pt x="943277" y="190863"/>
                  <a:pt x="1091569" y="370605"/>
                  <a:pt x="1091569" y="582598"/>
                </a:cubicBezTo>
                <a:lnTo>
                  <a:pt x="1085273" y="640757"/>
                </a:lnTo>
                <a:lnTo>
                  <a:pt x="755888" y="640756"/>
                </a:lnTo>
                <a:lnTo>
                  <a:pt x="719073" y="640757"/>
                </a:lnTo>
                <a:lnTo>
                  <a:pt x="408284" y="640757"/>
                </a:lnTo>
                <a:cubicBezTo>
                  <a:pt x="424002" y="743453"/>
                  <a:pt x="484447" y="819382"/>
                  <a:pt x="582086" y="819383"/>
                </a:cubicBezTo>
                <a:cubicBezTo>
                  <a:pt x="648673" y="819382"/>
                  <a:pt x="697960" y="784070"/>
                  <a:pt x="725617" y="727992"/>
                </a:cubicBezTo>
                <a:lnTo>
                  <a:pt x="1064773" y="727992"/>
                </a:lnTo>
                <a:cubicBezTo>
                  <a:pt x="1000780" y="921122"/>
                  <a:pt x="807116" y="1060320"/>
                  <a:pt x="578539" y="1060320"/>
                </a:cubicBezTo>
                <a:cubicBezTo>
                  <a:pt x="541437" y="1060319"/>
                  <a:pt x="505255" y="1056652"/>
                  <a:pt x="470646" y="1048435"/>
                </a:cubicBezTo>
                <a:cubicBezTo>
                  <a:pt x="288189" y="1159820"/>
                  <a:pt x="124174" y="1191927"/>
                  <a:pt x="45670" y="1116267"/>
                </a:cubicBezTo>
                <a:cubicBezTo>
                  <a:pt x="-38972" y="1034693"/>
                  <a:pt x="-2092" y="849162"/>
                  <a:pt x="124297" y="645271"/>
                </a:cubicBezTo>
                <a:cubicBezTo>
                  <a:pt x="126384" y="641564"/>
                  <a:pt x="128546" y="637931"/>
                  <a:pt x="130887" y="634433"/>
                </a:cubicBezTo>
                <a:cubicBezTo>
                  <a:pt x="140131" y="616742"/>
                  <a:pt x="151256" y="599735"/>
                  <a:pt x="163296" y="582889"/>
                </a:cubicBezTo>
                <a:cubicBezTo>
                  <a:pt x="171413" y="570408"/>
                  <a:pt x="179765" y="558285"/>
                  <a:pt x="189707" y="547372"/>
                </a:cubicBezTo>
                <a:cubicBezTo>
                  <a:pt x="207410" y="520542"/>
                  <a:pt x="227598" y="494496"/>
                  <a:pt x="249351" y="468810"/>
                </a:cubicBezTo>
                <a:cubicBezTo>
                  <a:pt x="261501" y="453873"/>
                  <a:pt x="274484" y="439223"/>
                  <a:pt x="288439" y="424719"/>
                </a:cubicBezTo>
                <a:cubicBezTo>
                  <a:pt x="304701" y="403895"/>
                  <a:pt x="322841" y="384213"/>
                  <a:pt x="341644" y="364703"/>
                </a:cubicBezTo>
                <a:cubicBezTo>
                  <a:pt x="392793" y="311630"/>
                  <a:pt x="445389" y="263415"/>
                  <a:pt x="498166" y="220924"/>
                </a:cubicBezTo>
                <a:cubicBezTo>
                  <a:pt x="310657" y="309270"/>
                  <a:pt x="183697" y="431706"/>
                  <a:pt x="65845" y="579499"/>
                </a:cubicBezTo>
                <a:cubicBezTo>
                  <a:pt x="67312" y="317087"/>
                  <a:pt x="296312" y="104878"/>
                  <a:pt x="578538" y="104878"/>
                </a:cubicBezTo>
                <a:lnTo>
                  <a:pt x="651994" y="111773"/>
                </a:lnTo>
                <a:cubicBezTo>
                  <a:pt x="764896" y="41979"/>
                  <a:pt x="871117" y="2651"/>
                  <a:pt x="954622" y="129"/>
                </a:cubicBez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1" name="KSO_Shape"/>
          <p:cNvSpPr/>
          <p:nvPr/>
        </p:nvSpPr>
        <p:spPr>
          <a:xfrm>
            <a:off x="3552840" y="3325680"/>
            <a:ext cx="512640" cy="615960"/>
          </a:xfrm>
          <a:custGeom>
            <a:avLst/>
            <a:gdLst/>
            <a:ahLst/>
            <a:rect l="l" t="t" r="r" b="b"/>
            <a:pathLst>
              <a:path w="1674290" h="2018114">
                <a:moveTo>
                  <a:pt x="307141" y="691642"/>
                </a:moveTo>
                <a:lnTo>
                  <a:pt x="1378912" y="691642"/>
                </a:lnTo>
                <a:lnTo>
                  <a:pt x="1369387" y="1458335"/>
                </a:lnTo>
                <a:cubicBezTo>
                  <a:pt x="1369387" y="1541769"/>
                  <a:pt x="1301750" y="1609406"/>
                  <a:pt x="1218316" y="1609406"/>
                </a:cubicBezTo>
                <a:lnTo>
                  <a:pt x="1158892" y="1609406"/>
                </a:lnTo>
                <a:lnTo>
                  <a:pt x="1158892" y="1898352"/>
                </a:lnTo>
                <a:cubicBezTo>
                  <a:pt x="1158892" y="1964495"/>
                  <a:pt x="1105273" y="2018114"/>
                  <a:pt x="1039130" y="2018114"/>
                </a:cubicBezTo>
                <a:cubicBezTo>
                  <a:pt x="972987" y="2018114"/>
                  <a:pt x="919368" y="1964495"/>
                  <a:pt x="919368" y="1898352"/>
                </a:cubicBezTo>
                <a:lnTo>
                  <a:pt x="919368" y="1609406"/>
                </a:lnTo>
                <a:lnTo>
                  <a:pt x="765901" y="1609406"/>
                </a:lnTo>
                <a:lnTo>
                  <a:pt x="765901" y="1898351"/>
                </a:lnTo>
                <a:cubicBezTo>
                  <a:pt x="765901" y="1964494"/>
                  <a:pt x="712282" y="2018113"/>
                  <a:pt x="646139" y="2018113"/>
                </a:cubicBezTo>
                <a:cubicBezTo>
                  <a:pt x="579996" y="2018113"/>
                  <a:pt x="526377" y="1964494"/>
                  <a:pt x="526377" y="1898351"/>
                </a:cubicBezTo>
                <a:lnTo>
                  <a:pt x="526377" y="1609406"/>
                </a:lnTo>
                <a:lnTo>
                  <a:pt x="458213" y="1609406"/>
                </a:lnTo>
                <a:cubicBezTo>
                  <a:pt x="374779" y="1609406"/>
                  <a:pt x="307141" y="1541769"/>
                  <a:pt x="307141" y="1458335"/>
                </a:cubicBezTo>
                <a:lnTo>
                  <a:pt x="307141" y="1156202"/>
                </a:lnTo>
                <a:lnTo>
                  <a:pt x="307141" y="854070"/>
                </a:lnTo>
                <a:lnTo>
                  <a:pt x="307141" y="691642"/>
                </a:lnTo>
                <a:close/>
                <a:moveTo>
                  <a:pt x="1554528" y="683951"/>
                </a:moveTo>
                <a:cubicBezTo>
                  <a:pt x="1620671" y="683951"/>
                  <a:pt x="1674290" y="737570"/>
                  <a:pt x="1674290" y="803713"/>
                </a:cubicBezTo>
                <a:lnTo>
                  <a:pt x="1674290" y="1299148"/>
                </a:lnTo>
                <a:cubicBezTo>
                  <a:pt x="1674290" y="1365291"/>
                  <a:pt x="1620671" y="1418910"/>
                  <a:pt x="1554528" y="1418910"/>
                </a:cubicBezTo>
                <a:cubicBezTo>
                  <a:pt x="1488385" y="1418910"/>
                  <a:pt x="1434766" y="1365291"/>
                  <a:pt x="1434766" y="1299148"/>
                </a:cubicBezTo>
                <a:lnTo>
                  <a:pt x="1434766" y="803713"/>
                </a:lnTo>
                <a:cubicBezTo>
                  <a:pt x="1434766" y="737570"/>
                  <a:pt x="1488385" y="683951"/>
                  <a:pt x="1554528" y="683951"/>
                </a:cubicBezTo>
                <a:close/>
                <a:moveTo>
                  <a:pt x="119762" y="683950"/>
                </a:moveTo>
                <a:cubicBezTo>
                  <a:pt x="185905" y="683950"/>
                  <a:pt x="239524" y="737569"/>
                  <a:pt x="239524" y="803712"/>
                </a:cubicBezTo>
                <a:lnTo>
                  <a:pt x="239524" y="1299147"/>
                </a:lnTo>
                <a:cubicBezTo>
                  <a:pt x="239524" y="1365290"/>
                  <a:pt x="185905" y="1418909"/>
                  <a:pt x="119762" y="1418909"/>
                </a:cubicBezTo>
                <a:cubicBezTo>
                  <a:pt x="53619" y="1418909"/>
                  <a:pt x="0" y="1365290"/>
                  <a:pt x="0" y="1299147"/>
                </a:cubicBezTo>
                <a:lnTo>
                  <a:pt x="0" y="803712"/>
                </a:lnTo>
                <a:cubicBezTo>
                  <a:pt x="0" y="737569"/>
                  <a:pt x="53619" y="683950"/>
                  <a:pt x="119762" y="683950"/>
                </a:cubicBezTo>
                <a:close/>
                <a:moveTo>
                  <a:pt x="1058285" y="381191"/>
                </a:moveTo>
                <a:cubicBezTo>
                  <a:pt x="1028091" y="381191"/>
                  <a:pt x="1003614" y="405668"/>
                  <a:pt x="1003614" y="435862"/>
                </a:cubicBezTo>
                <a:cubicBezTo>
                  <a:pt x="1003614" y="466056"/>
                  <a:pt x="1028091" y="490533"/>
                  <a:pt x="1058285" y="490533"/>
                </a:cubicBezTo>
                <a:cubicBezTo>
                  <a:pt x="1088479" y="490533"/>
                  <a:pt x="1112956" y="466056"/>
                  <a:pt x="1112956" y="435862"/>
                </a:cubicBezTo>
                <a:cubicBezTo>
                  <a:pt x="1112956" y="405668"/>
                  <a:pt x="1088479" y="381191"/>
                  <a:pt x="1058285" y="381191"/>
                </a:cubicBezTo>
                <a:close/>
                <a:moveTo>
                  <a:pt x="620445" y="381191"/>
                </a:moveTo>
                <a:cubicBezTo>
                  <a:pt x="590251" y="381191"/>
                  <a:pt x="565774" y="405668"/>
                  <a:pt x="565774" y="435862"/>
                </a:cubicBezTo>
                <a:cubicBezTo>
                  <a:pt x="565774" y="466056"/>
                  <a:pt x="590251" y="490533"/>
                  <a:pt x="620445" y="490533"/>
                </a:cubicBezTo>
                <a:cubicBezTo>
                  <a:pt x="650639" y="490533"/>
                  <a:pt x="675116" y="466056"/>
                  <a:pt x="675116" y="435862"/>
                </a:cubicBezTo>
                <a:cubicBezTo>
                  <a:pt x="675116" y="405668"/>
                  <a:pt x="650639" y="381191"/>
                  <a:pt x="620445" y="381191"/>
                </a:cubicBezTo>
                <a:close/>
                <a:moveTo>
                  <a:pt x="508384" y="1373"/>
                </a:moveTo>
                <a:cubicBezTo>
                  <a:pt x="515956" y="3701"/>
                  <a:pt x="522639" y="8917"/>
                  <a:pt x="526639" y="16470"/>
                </a:cubicBezTo>
                <a:lnTo>
                  <a:pt x="615978" y="185144"/>
                </a:lnTo>
                <a:cubicBezTo>
                  <a:pt x="687009" y="148129"/>
                  <a:pt x="767930" y="128483"/>
                  <a:pt x="853439" y="128483"/>
                </a:cubicBezTo>
                <a:cubicBezTo>
                  <a:pt x="932860" y="128483"/>
                  <a:pt x="1008322" y="145431"/>
                  <a:pt x="1075718" y="177325"/>
                </a:cubicBezTo>
                <a:lnTo>
                  <a:pt x="1150798" y="40824"/>
                </a:lnTo>
                <a:cubicBezTo>
                  <a:pt x="1154917" y="33335"/>
                  <a:pt x="1161682" y="28224"/>
                  <a:pt x="1169289" y="26016"/>
                </a:cubicBezTo>
                <a:cubicBezTo>
                  <a:pt x="1176896" y="23808"/>
                  <a:pt x="1185346" y="24501"/>
                  <a:pt x="1192835" y="28621"/>
                </a:cubicBezTo>
                <a:cubicBezTo>
                  <a:pt x="1207813" y="36859"/>
                  <a:pt x="1213277" y="55680"/>
                  <a:pt x="1205038" y="70658"/>
                </a:cubicBezTo>
                <a:lnTo>
                  <a:pt x="1130773" y="205677"/>
                </a:lnTo>
                <a:cubicBezTo>
                  <a:pt x="1280708" y="293097"/>
                  <a:pt x="1383706" y="450928"/>
                  <a:pt x="1395615" y="633899"/>
                </a:cubicBezTo>
                <a:lnTo>
                  <a:pt x="311263" y="633899"/>
                </a:lnTo>
                <a:cubicBezTo>
                  <a:pt x="322782" y="456918"/>
                  <a:pt x="419524" y="303459"/>
                  <a:pt x="560939" y="213488"/>
                </a:cubicBezTo>
                <a:lnTo>
                  <a:pt x="471935" y="45445"/>
                </a:lnTo>
                <a:cubicBezTo>
                  <a:pt x="463934" y="30339"/>
                  <a:pt x="469694" y="11606"/>
                  <a:pt x="484800" y="3605"/>
                </a:cubicBezTo>
                <a:cubicBezTo>
                  <a:pt x="492353" y="-395"/>
                  <a:pt x="500812" y="-955"/>
                  <a:pt x="508384" y="1373"/>
                </a:cubicBez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2" name="KSO_Shape"/>
          <p:cNvSpPr/>
          <p:nvPr/>
        </p:nvSpPr>
        <p:spPr>
          <a:xfrm>
            <a:off x="3552840" y="4438800"/>
            <a:ext cx="519120" cy="436320"/>
          </a:xfrm>
          <a:custGeom>
            <a:avLst/>
            <a:gdLst/>
            <a:ahLst/>
            <a:rect l="l" t="t" r="r" b="b"/>
            <a:pathLst>
              <a:path w="2301876" h="1941513">
                <a:moveTo>
                  <a:pt x="475693" y="1664563"/>
                </a:moveTo>
                <a:lnTo>
                  <a:pt x="471250" y="1664880"/>
                </a:lnTo>
                <a:lnTo>
                  <a:pt x="466490" y="1665198"/>
                </a:lnTo>
                <a:lnTo>
                  <a:pt x="462047" y="1665515"/>
                </a:lnTo>
                <a:lnTo>
                  <a:pt x="457605" y="1666468"/>
                </a:lnTo>
                <a:lnTo>
                  <a:pt x="453162" y="1667421"/>
                </a:lnTo>
                <a:lnTo>
                  <a:pt x="449354" y="1668691"/>
                </a:lnTo>
                <a:lnTo>
                  <a:pt x="440786" y="1671550"/>
                </a:lnTo>
                <a:lnTo>
                  <a:pt x="433170" y="1675679"/>
                </a:lnTo>
                <a:lnTo>
                  <a:pt x="425553" y="1680125"/>
                </a:lnTo>
                <a:lnTo>
                  <a:pt x="418572" y="1685207"/>
                </a:lnTo>
                <a:lnTo>
                  <a:pt x="412542" y="1691241"/>
                </a:lnTo>
                <a:lnTo>
                  <a:pt x="406513" y="1697276"/>
                </a:lnTo>
                <a:lnTo>
                  <a:pt x="401435" y="1704263"/>
                </a:lnTo>
                <a:lnTo>
                  <a:pt x="396993" y="1711886"/>
                </a:lnTo>
                <a:lnTo>
                  <a:pt x="392867" y="1719508"/>
                </a:lnTo>
                <a:lnTo>
                  <a:pt x="390011" y="1728083"/>
                </a:lnTo>
                <a:lnTo>
                  <a:pt x="388742" y="1732212"/>
                </a:lnTo>
                <a:lnTo>
                  <a:pt x="387790" y="1736341"/>
                </a:lnTo>
                <a:lnTo>
                  <a:pt x="386838" y="1740787"/>
                </a:lnTo>
                <a:lnTo>
                  <a:pt x="386203" y="1745552"/>
                </a:lnTo>
                <a:lnTo>
                  <a:pt x="385886" y="1749998"/>
                </a:lnTo>
                <a:lnTo>
                  <a:pt x="385886" y="1754444"/>
                </a:lnTo>
                <a:lnTo>
                  <a:pt x="385886" y="1759209"/>
                </a:lnTo>
                <a:lnTo>
                  <a:pt x="386203" y="1763655"/>
                </a:lnTo>
                <a:lnTo>
                  <a:pt x="386838" y="1768419"/>
                </a:lnTo>
                <a:lnTo>
                  <a:pt x="387790" y="1772865"/>
                </a:lnTo>
                <a:lnTo>
                  <a:pt x="388742" y="1776994"/>
                </a:lnTo>
                <a:lnTo>
                  <a:pt x="390011" y="1781441"/>
                </a:lnTo>
                <a:lnTo>
                  <a:pt x="392867" y="1789698"/>
                </a:lnTo>
                <a:lnTo>
                  <a:pt x="396993" y="1797639"/>
                </a:lnTo>
                <a:lnTo>
                  <a:pt x="401435" y="1804943"/>
                </a:lnTo>
                <a:lnTo>
                  <a:pt x="406513" y="1812248"/>
                </a:lnTo>
                <a:lnTo>
                  <a:pt x="412542" y="1818283"/>
                </a:lnTo>
                <a:lnTo>
                  <a:pt x="418572" y="1824317"/>
                </a:lnTo>
                <a:lnTo>
                  <a:pt x="425553" y="1829399"/>
                </a:lnTo>
                <a:lnTo>
                  <a:pt x="433170" y="1833845"/>
                </a:lnTo>
                <a:lnTo>
                  <a:pt x="440786" y="1837657"/>
                </a:lnTo>
                <a:lnTo>
                  <a:pt x="449354" y="1840515"/>
                </a:lnTo>
                <a:lnTo>
                  <a:pt x="453162" y="1842103"/>
                </a:lnTo>
                <a:lnTo>
                  <a:pt x="457605" y="1842738"/>
                </a:lnTo>
                <a:lnTo>
                  <a:pt x="462047" y="1843374"/>
                </a:lnTo>
                <a:lnTo>
                  <a:pt x="466490" y="1844326"/>
                </a:lnTo>
                <a:lnTo>
                  <a:pt x="471250" y="1844644"/>
                </a:lnTo>
                <a:lnTo>
                  <a:pt x="475693" y="1844644"/>
                </a:lnTo>
                <a:lnTo>
                  <a:pt x="784465" y="1844644"/>
                </a:lnTo>
                <a:lnTo>
                  <a:pt x="788908" y="1844644"/>
                </a:lnTo>
                <a:lnTo>
                  <a:pt x="793668" y="1844326"/>
                </a:lnTo>
                <a:lnTo>
                  <a:pt x="798111" y="1843374"/>
                </a:lnTo>
                <a:lnTo>
                  <a:pt x="802553" y="1842738"/>
                </a:lnTo>
                <a:lnTo>
                  <a:pt x="806996" y="1842103"/>
                </a:lnTo>
                <a:lnTo>
                  <a:pt x="811122" y="1840515"/>
                </a:lnTo>
                <a:lnTo>
                  <a:pt x="819690" y="1837657"/>
                </a:lnTo>
                <a:lnTo>
                  <a:pt x="827306" y="1833845"/>
                </a:lnTo>
                <a:lnTo>
                  <a:pt x="834605" y="1829399"/>
                </a:lnTo>
                <a:lnTo>
                  <a:pt x="841586" y="1824317"/>
                </a:lnTo>
                <a:lnTo>
                  <a:pt x="847933" y="1818283"/>
                </a:lnTo>
                <a:lnTo>
                  <a:pt x="853963" y="1812248"/>
                </a:lnTo>
                <a:lnTo>
                  <a:pt x="859040" y="1804943"/>
                </a:lnTo>
                <a:lnTo>
                  <a:pt x="863483" y="1797639"/>
                </a:lnTo>
                <a:lnTo>
                  <a:pt x="867608" y="1789698"/>
                </a:lnTo>
                <a:lnTo>
                  <a:pt x="870464" y="1781441"/>
                </a:lnTo>
                <a:lnTo>
                  <a:pt x="871734" y="1776994"/>
                </a:lnTo>
                <a:lnTo>
                  <a:pt x="872686" y="1772865"/>
                </a:lnTo>
                <a:lnTo>
                  <a:pt x="873320" y="1768419"/>
                </a:lnTo>
                <a:lnTo>
                  <a:pt x="873638" y="1763655"/>
                </a:lnTo>
                <a:lnTo>
                  <a:pt x="874272" y="1759209"/>
                </a:lnTo>
                <a:lnTo>
                  <a:pt x="874590" y="1754444"/>
                </a:lnTo>
                <a:lnTo>
                  <a:pt x="874272" y="1749998"/>
                </a:lnTo>
                <a:lnTo>
                  <a:pt x="873638" y="1745552"/>
                </a:lnTo>
                <a:lnTo>
                  <a:pt x="873320" y="1740787"/>
                </a:lnTo>
                <a:lnTo>
                  <a:pt x="872686" y="1736341"/>
                </a:lnTo>
                <a:lnTo>
                  <a:pt x="871734" y="1732212"/>
                </a:lnTo>
                <a:lnTo>
                  <a:pt x="870464" y="1728083"/>
                </a:lnTo>
                <a:lnTo>
                  <a:pt x="867608" y="1719508"/>
                </a:lnTo>
                <a:lnTo>
                  <a:pt x="863483" y="1711886"/>
                </a:lnTo>
                <a:lnTo>
                  <a:pt x="859040" y="1704263"/>
                </a:lnTo>
                <a:lnTo>
                  <a:pt x="853963" y="1697276"/>
                </a:lnTo>
                <a:lnTo>
                  <a:pt x="847933" y="1691241"/>
                </a:lnTo>
                <a:lnTo>
                  <a:pt x="841586" y="1685207"/>
                </a:lnTo>
                <a:lnTo>
                  <a:pt x="834605" y="1680125"/>
                </a:lnTo>
                <a:lnTo>
                  <a:pt x="827306" y="1675679"/>
                </a:lnTo>
                <a:lnTo>
                  <a:pt x="819690" y="1671550"/>
                </a:lnTo>
                <a:lnTo>
                  <a:pt x="811122" y="1668691"/>
                </a:lnTo>
                <a:lnTo>
                  <a:pt x="806996" y="1667421"/>
                </a:lnTo>
                <a:lnTo>
                  <a:pt x="802553" y="1666468"/>
                </a:lnTo>
                <a:lnTo>
                  <a:pt x="798111" y="1665515"/>
                </a:lnTo>
                <a:lnTo>
                  <a:pt x="793668" y="1665198"/>
                </a:lnTo>
                <a:lnTo>
                  <a:pt x="788908" y="1664880"/>
                </a:lnTo>
                <a:lnTo>
                  <a:pt x="784465" y="1664563"/>
                </a:lnTo>
                <a:lnTo>
                  <a:pt x="475693" y="1664563"/>
                </a:lnTo>
                <a:close/>
                <a:moveTo>
                  <a:pt x="1670551" y="1495108"/>
                </a:moveTo>
                <a:lnTo>
                  <a:pt x="1662926" y="1495425"/>
                </a:lnTo>
                <a:lnTo>
                  <a:pt x="1655936" y="1496695"/>
                </a:lnTo>
                <a:lnTo>
                  <a:pt x="1648946" y="1498283"/>
                </a:lnTo>
                <a:lnTo>
                  <a:pt x="1642274" y="1500823"/>
                </a:lnTo>
                <a:lnTo>
                  <a:pt x="1636237" y="1503998"/>
                </a:lnTo>
                <a:lnTo>
                  <a:pt x="1629882" y="1507490"/>
                </a:lnTo>
                <a:lnTo>
                  <a:pt x="1624481" y="1511618"/>
                </a:lnTo>
                <a:lnTo>
                  <a:pt x="1619080" y="1516380"/>
                </a:lnTo>
                <a:lnTo>
                  <a:pt x="1614631" y="1521778"/>
                </a:lnTo>
                <a:lnTo>
                  <a:pt x="1610183" y="1527175"/>
                </a:lnTo>
                <a:lnTo>
                  <a:pt x="1606688" y="1533208"/>
                </a:lnTo>
                <a:lnTo>
                  <a:pt x="1603511" y="1539240"/>
                </a:lnTo>
                <a:lnTo>
                  <a:pt x="1601605" y="1545908"/>
                </a:lnTo>
                <a:lnTo>
                  <a:pt x="1599698" y="1552893"/>
                </a:lnTo>
                <a:lnTo>
                  <a:pt x="1598427" y="1559878"/>
                </a:lnTo>
                <a:lnTo>
                  <a:pt x="1598110" y="1567498"/>
                </a:lnTo>
                <a:lnTo>
                  <a:pt x="1598427" y="1574800"/>
                </a:lnTo>
                <a:lnTo>
                  <a:pt x="1599698" y="1582103"/>
                </a:lnTo>
                <a:lnTo>
                  <a:pt x="1601605" y="1589088"/>
                </a:lnTo>
                <a:lnTo>
                  <a:pt x="1603511" y="1595755"/>
                </a:lnTo>
                <a:lnTo>
                  <a:pt x="1606688" y="1602105"/>
                </a:lnTo>
                <a:lnTo>
                  <a:pt x="1610183" y="1607820"/>
                </a:lnTo>
                <a:lnTo>
                  <a:pt x="1614631" y="1613535"/>
                </a:lnTo>
                <a:lnTo>
                  <a:pt x="1619080" y="1618615"/>
                </a:lnTo>
                <a:lnTo>
                  <a:pt x="1624481" y="1623378"/>
                </a:lnTo>
                <a:lnTo>
                  <a:pt x="1629882" y="1627505"/>
                </a:lnTo>
                <a:lnTo>
                  <a:pt x="1636237" y="1630998"/>
                </a:lnTo>
                <a:lnTo>
                  <a:pt x="1642274" y="1634173"/>
                </a:lnTo>
                <a:lnTo>
                  <a:pt x="1648946" y="1636713"/>
                </a:lnTo>
                <a:lnTo>
                  <a:pt x="1655936" y="1638300"/>
                </a:lnTo>
                <a:lnTo>
                  <a:pt x="1662926" y="1639253"/>
                </a:lnTo>
                <a:lnTo>
                  <a:pt x="1670551" y="1639570"/>
                </a:lnTo>
                <a:lnTo>
                  <a:pt x="1918697" y="1639570"/>
                </a:lnTo>
                <a:lnTo>
                  <a:pt x="1926004" y="1639253"/>
                </a:lnTo>
                <a:lnTo>
                  <a:pt x="1933630" y="1638300"/>
                </a:lnTo>
                <a:lnTo>
                  <a:pt x="1940620" y="1636713"/>
                </a:lnTo>
                <a:lnTo>
                  <a:pt x="1947292" y="1634173"/>
                </a:lnTo>
                <a:lnTo>
                  <a:pt x="1953329" y="1630998"/>
                </a:lnTo>
                <a:lnTo>
                  <a:pt x="1959366" y="1627505"/>
                </a:lnTo>
                <a:lnTo>
                  <a:pt x="1964767" y="1623378"/>
                </a:lnTo>
                <a:lnTo>
                  <a:pt x="1970168" y="1618615"/>
                </a:lnTo>
                <a:lnTo>
                  <a:pt x="1974934" y="1613535"/>
                </a:lnTo>
                <a:lnTo>
                  <a:pt x="1979065" y="1607820"/>
                </a:lnTo>
                <a:lnTo>
                  <a:pt x="1982560" y="1602105"/>
                </a:lnTo>
                <a:lnTo>
                  <a:pt x="1985419" y="1595755"/>
                </a:lnTo>
                <a:lnTo>
                  <a:pt x="1988279" y="1589088"/>
                </a:lnTo>
                <a:lnTo>
                  <a:pt x="1989868" y="1582103"/>
                </a:lnTo>
                <a:lnTo>
                  <a:pt x="1991138" y="1574800"/>
                </a:lnTo>
                <a:lnTo>
                  <a:pt x="1991456" y="1567498"/>
                </a:lnTo>
                <a:lnTo>
                  <a:pt x="1991138" y="1559878"/>
                </a:lnTo>
                <a:lnTo>
                  <a:pt x="1989868" y="1552893"/>
                </a:lnTo>
                <a:lnTo>
                  <a:pt x="1988279" y="1545908"/>
                </a:lnTo>
                <a:lnTo>
                  <a:pt x="1985419" y="1539240"/>
                </a:lnTo>
                <a:lnTo>
                  <a:pt x="1982560" y="1533208"/>
                </a:lnTo>
                <a:lnTo>
                  <a:pt x="1979065" y="1527175"/>
                </a:lnTo>
                <a:lnTo>
                  <a:pt x="1974934" y="1521778"/>
                </a:lnTo>
                <a:lnTo>
                  <a:pt x="1970168" y="1516380"/>
                </a:lnTo>
                <a:lnTo>
                  <a:pt x="1964767" y="1511618"/>
                </a:lnTo>
                <a:lnTo>
                  <a:pt x="1959366" y="1507490"/>
                </a:lnTo>
                <a:lnTo>
                  <a:pt x="1953329" y="1503998"/>
                </a:lnTo>
                <a:lnTo>
                  <a:pt x="1947292" y="1500823"/>
                </a:lnTo>
                <a:lnTo>
                  <a:pt x="1940620" y="1498283"/>
                </a:lnTo>
                <a:lnTo>
                  <a:pt x="1933630" y="1496695"/>
                </a:lnTo>
                <a:lnTo>
                  <a:pt x="1926004" y="1495425"/>
                </a:lnTo>
                <a:lnTo>
                  <a:pt x="1918697" y="1495108"/>
                </a:lnTo>
                <a:lnTo>
                  <a:pt x="1670551" y="1495108"/>
                </a:lnTo>
                <a:close/>
                <a:moveTo>
                  <a:pt x="1787673" y="611187"/>
                </a:moveTo>
                <a:lnTo>
                  <a:pt x="1794669" y="611187"/>
                </a:lnTo>
                <a:lnTo>
                  <a:pt x="1801665" y="611187"/>
                </a:lnTo>
                <a:lnTo>
                  <a:pt x="1808661" y="612140"/>
                </a:lnTo>
                <a:lnTo>
                  <a:pt x="1815338" y="613093"/>
                </a:lnTo>
                <a:lnTo>
                  <a:pt x="1822016" y="614681"/>
                </a:lnTo>
                <a:lnTo>
                  <a:pt x="1828694" y="616587"/>
                </a:lnTo>
                <a:lnTo>
                  <a:pt x="1835372" y="618810"/>
                </a:lnTo>
                <a:lnTo>
                  <a:pt x="1841732" y="621352"/>
                </a:lnTo>
                <a:lnTo>
                  <a:pt x="1847773" y="624210"/>
                </a:lnTo>
                <a:lnTo>
                  <a:pt x="1853815" y="627387"/>
                </a:lnTo>
                <a:lnTo>
                  <a:pt x="1859539" y="631198"/>
                </a:lnTo>
                <a:lnTo>
                  <a:pt x="1865581" y="635010"/>
                </a:lnTo>
                <a:lnTo>
                  <a:pt x="1870987" y="639457"/>
                </a:lnTo>
                <a:lnTo>
                  <a:pt x="1876393" y="643904"/>
                </a:lnTo>
                <a:lnTo>
                  <a:pt x="1881480" y="648986"/>
                </a:lnTo>
                <a:lnTo>
                  <a:pt x="1886568" y="654068"/>
                </a:lnTo>
                <a:lnTo>
                  <a:pt x="1891338" y="659151"/>
                </a:lnTo>
                <a:lnTo>
                  <a:pt x="1895790" y="665186"/>
                </a:lnTo>
                <a:lnTo>
                  <a:pt x="1900242" y="670903"/>
                </a:lnTo>
                <a:lnTo>
                  <a:pt x="1904376" y="677256"/>
                </a:lnTo>
                <a:lnTo>
                  <a:pt x="1908192" y="683609"/>
                </a:lnTo>
                <a:lnTo>
                  <a:pt x="1911690" y="690597"/>
                </a:lnTo>
                <a:lnTo>
                  <a:pt x="1915188" y="697267"/>
                </a:lnTo>
                <a:lnTo>
                  <a:pt x="1918049" y="704255"/>
                </a:lnTo>
                <a:lnTo>
                  <a:pt x="1920593" y="711561"/>
                </a:lnTo>
                <a:lnTo>
                  <a:pt x="1923137" y="718867"/>
                </a:lnTo>
                <a:lnTo>
                  <a:pt x="1925363" y="726808"/>
                </a:lnTo>
                <a:lnTo>
                  <a:pt x="1927271" y="734431"/>
                </a:lnTo>
                <a:lnTo>
                  <a:pt x="1928861" y="742690"/>
                </a:lnTo>
                <a:lnTo>
                  <a:pt x="1929815" y="750631"/>
                </a:lnTo>
                <a:lnTo>
                  <a:pt x="1930451" y="758889"/>
                </a:lnTo>
                <a:lnTo>
                  <a:pt x="1931405" y="767466"/>
                </a:lnTo>
                <a:lnTo>
                  <a:pt x="1931405" y="775724"/>
                </a:lnTo>
                <a:lnTo>
                  <a:pt x="1931723" y="784301"/>
                </a:lnTo>
                <a:lnTo>
                  <a:pt x="1932359" y="791924"/>
                </a:lnTo>
                <a:lnTo>
                  <a:pt x="1933313" y="799865"/>
                </a:lnTo>
                <a:lnTo>
                  <a:pt x="1934585" y="806853"/>
                </a:lnTo>
                <a:lnTo>
                  <a:pt x="1936175" y="813206"/>
                </a:lnTo>
                <a:lnTo>
                  <a:pt x="1938401" y="819241"/>
                </a:lnTo>
                <a:lnTo>
                  <a:pt x="1940627" y="824958"/>
                </a:lnTo>
                <a:lnTo>
                  <a:pt x="1943171" y="830041"/>
                </a:lnTo>
                <a:lnTo>
                  <a:pt x="1945715" y="834805"/>
                </a:lnTo>
                <a:lnTo>
                  <a:pt x="1948576" y="839252"/>
                </a:lnTo>
                <a:lnTo>
                  <a:pt x="1951756" y="843381"/>
                </a:lnTo>
                <a:lnTo>
                  <a:pt x="1954936" y="846875"/>
                </a:lnTo>
                <a:lnTo>
                  <a:pt x="1958116" y="850687"/>
                </a:lnTo>
                <a:lnTo>
                  <a:pt x="1961614" y="853546"/>
                </a:lnTo>
                <a:lnTo>
                  <a:pt x="1965430" y="856087"/>
                </a:lnTo>
                <a:lnTo>
                  <a:pt x="1968610" y="858946"/>
                </a:lnTo>
                <a:lnTo>
                  <a:pt x="1975606" y="862757"/>
                </a:lnTo>
                <a:lnTo>
                  <a:pt x="1982284" y="866251"/>
                </a:lnTo>
                <a:lnTo>
                  <a:pt x="1988643" y="868475"/>
                </a:lnTo>
                <a:lnTo>
                  <a:pt x="1994049" y="869745"/>
                </a:lnTo>
                <a:lnTo>
                  <a:pt x="1998819" y="871016"/>
                </a:lnTo>
                <a:lnTo>
                  <a:pt x="2002635" y="871334"/>
                </a:lnTo>
                <a:lnTo>
                  <a:pt x="2005815" y="871651"/>
                </a:lnTo>
                <a:lnTo>
                  <a:pt x="2005815" y="932320"/>
                </a:lnTo>
                <a:lnTo>
                  <a:pt x="1841096" y="932320"/>
                </a:lnTo>
                <a:lnTo>
                  <a:pt x="1841096" y="997119"/>
                </a:lnTo>
                <a:lnTo>
                  <a:pt x="1853815" y="999025"/>
                </a:lnTo>
                <a:lnTo>
                  <a:pt x="1865899" y="1001566"/>
                </a:lnTo>
                <a:lnTo>
                  <a:pt x="1877983" y="1004107"/>
                </a:lnTo>
                <a:lnTo>
                  <a:pt x="1890066" y="1007601"/>
                </a:lnTo>
                <a:lnTo>
                  <a:pt x="1901514" y="1011095"/>
                </a:lnTo>
                <a:lnTo>
                  <a:pt x="1912962" y="1015224"/>
                </a:lnTo>
                <a:lnTo>
                  <a:pt x="1923773" y="1019354"/>
                </a:lnTo>
                <a:lnTo>
                  <a:pt x="1934903" y="1024118"/>
                </a:lnTo>
                <a:lnTo>
                  <a:pt x="1945715" y="1029200"/>
                </a:lnTo>
                <a:lnTo>
                  <a:pt x="1956208" y="1034918"/>
                </a:lnTo>
                <a:lnTo>
                  <a:pt x="1966384" y="1040635"/>
                </a:lnTo>
                <a:lnTo>
                  <a:pt x="1976242" y="1046988"/>
                </a:lnTo>
                <a:lnTo>
                  <a:pt x="1986099" y="1053659"/>
                </a:lnTo>
                <a:lnTo>
                  <a:pt x="1995321" y="1060329"/>
                </a:lnTo>
                <a:lnTo>
                  <a:pt x="2003907" y="1067635"/>
                </a:lnTo>
                <a:lnTo>
                  <a:pt x="2012811" y="1074940"/>
                </a:lnTo>
                <a:lnTo>
                  <a:pt x="2021396" y="1082881"/>
                </a:lnTo>
                <a:lnTo>
                  <a:pt x="2029028" y="1090822"/>
                </a:lnTo>
                <a:lnTo>
                  <a:pt x="2036978" y="1099081"/>
                </a:lnTo>
                <a:lnTo>
                  <a:pt x="2044292" y="1107975"/>
                </a:lnTo>
                <a:lnTo>
                  <a:pt x="2051288" y="1116551"/>
                </a:lnTo>
                <a:lnTo>
                  <a:pt x="2057965" y="1125445"/>
                </a:lnTo>
                <a:lnTo>
                  <a:pt x="2064325" y="1135292"/>
                </a:lnTo>
                <a:lnTo>
                  <a:pt x="2069731" y="1144821"/>
                </a:lnTo>
                <a:lnTo>
                  <a:pt x="2075455" y="1154350"/>
                </a:lnTo>
                <a:lnTo>
                  <a:pt x="2080225" y="1164515"/>
                </a:lnTo>
                <a:lnTo>
                  <a:pt x="2084995" y="1174679"/>
                </a:lnTo>
                <a:lnTo>
                  <a:pt x="2089128" y="1185161"/>
                </a:lnTo>
                <a:lnTo>
                  <a:pt x="2092626" y="1195643"/>
                </a:lnTo>
                <a:lnTo>
                  <a:pt x="2095488" y="1206761"/>
                </a:lnTo>
                <a:lnTo>
                  <a:pt x="2098668" y="1217560"/>
                </a:lnTo>
                <a:lnTo>
                  <a:pt x="2100894" y="1228995"/>
                </a:lnTo>
                <a:lnTo>
                  <a:pt x="2103438" y="1336675"/>
                </a:lnTo>
                <a:lnTo>
                  <a:pt x="1485900" y="1336675"/>
                </a:lnTo>
                <a:lnTo>
                  <a:pt x="1488444" y="1228995"/>
                </a:lnTo>
                <a:lnTo>
                  <a:pt x="1490670" y="1217560"/>
                </a:lnTo>
                <a:lnTo>
                  <a:pt x="1493214" y="1206761"/>
                </a:lnTo>
                <a:lnTo>
                  <a:pt x="1496712" y="1195643"/>
                </a:lnTo>
                <a:lnTo>
                  <a:pt x="1500210" y="1185161"/>
                </a:lnTo>
                <a:lnTo>
                  <a:pt x="1504343" y="1174679"/>
                </a:lnTo>
                <a:lnTo>
                  <a:pt x="1508795" y="1164515"/>
                </a:lnTo>
                <a:lnTo>
                  <a:pt x="1513565" y="1154350"/>
                </a:lnTo>
                <a:lnTo>
                  <a:pt x="1519289" y="1144821"/>
                </a:lnTo>
                <a:lnTo>
                  <a:pt x="1525013" y="1135292"/>
                </a:lnTo>
                <a:lnTo>
                  <a:pt x="1531055" y="1125763"/>
                </a:lnTo>
                <a:lnTo>
                  <a:pt x="1537732" y="1116551"/>
                </a:lnTo>
                <a:lnTo>
                  <a:pt x="1544728" y="1107975"/>
                </a:lnTo>
                <a:lnTo>
                  <a:pt x="1552042" y="1099081"/>
                </a:lnTo>
                <a:lnTo>
                  <a:pt x="1559674" y="1090822"/>
                </a:lnTo>
                <a:lnTo>
                  <a:pt x="1567942" y="1082881"/>
                </a:lnTo>
                <a:lnTo>
                  <a:pt x="1576209" y="1074940"/>
                </a:lnTo>
                <a:lnTo>
                  <a:pt x="1584795" y="1067635"/>
                </a:lnTo>
                <a:lnTo>
                  <a:pt x="1593699" y="1060329"/>
                </a:lnTo>
                <a:lnTo>
                  <a:pt x="1603239" y="1053659"/>
                </a:lnTo>
                <a:lnTo>
                  <a:pt x="1613096" y="1046988"/>
                </a:lnTo>
                <a:lnTo>
                  <a:pt x="1622954" y="1040635"/>
                </a:lnTo>
                <a:lnTo>
                  <a:pt x="1632812" y="1034918"/>
                </a:lnTo>
                <a:lnTo>
                  <a:pt x="1643305" y="1029200"/>
                </a:lnTo>
                <a:lnTo>
                  <a:pt x="1654117" y="1024118"/>
                </a:lnTo>
                <a:lnTo>
                  <a:pt x="1664929" y="1019671"/>
                </a:lnTo>
                <a:lnTo>
                  <a:pt x="1676058" y="1015224"/>
                </a:lnTo>
                <a:lnTo>
                  <a:pt x="1687506" y="1011095"/>
                </a:lnTo>
                <a:lnTo>
                  <a:pt x="1699272" y="1007601"/>
                </a:lnTo>
                <a:lnTo>
                  <a:pt x="1711355" y="1004107"/>
                </a:lnTo>
                <a:lnTo>
                  <a:pt x="1723439" y="1001566"/>
                </a:lnTo>
                <a:lnTo>
                  <a:pt x="1735523" y="999025"/>
                </a:lnTo>
                <a:lnTo>
                  <a:pt x="1747924" y="997119"/>
                </a:lnTo>
                <a:lnTo>
                  <a:pt x="1747924" y="932320"/>
                </a:lnTo>
                <a:lnTo>
                  <a:pt x="1583205" y="932320"/>
                </a:lnTo>
                <a:lnTo>
                  <a:pt x="1583205" y="871651"/>
                </a:lnTo>
                <a:lnTo>
                  <a:pt x="1586385" y="871334"/>
                </a:lnTo>
                <a:lnTo>
                  <a:pt x="1590201" y="870698"/>
                </a:lnTo>
                <a:lnTo>
                  <a:pt x="1594971" y="869110"/>
                </a:lnTo>
                <a:lnTo>
                  <a:pt x="1600377" y="867204"/>
                </a:lnTo>
                <a:lnTo>
                  <a:pt x="1606736" y="864663"/>
                </a:lnTo>
                <a:lnTo>
                  <a:pt x="1613414" y="861487"/>
                </a:lnTo>
                <a:lnTo>
                  <a:pt x="1620410" y="857358"/>
                </a:lnTo>
                <a:lnTo>
                  <a:pt x="1624226" y="854816"/>
                </a:lnTo>
                <a:lnTo>
                  <a:pt x="1627406" y="851958"/>
                </a:lnTo>
                <a:lnTo>
                  <a:pt x="1630586" y="848464"/>
                </a:lnTo>
                <a:lnTo>
                  <a:pt x="1634084" y="845287"/>
                </a:lnTo>
                <a:lnTo>
                  <a:pt x="1637264" y="841476"/>
                </a:lnTo>
                <a:lnTo>
                  <a:pt x="1640444" y="837346"/>
                </a:lnTo>
                <a:lnTo>
                  <a:pt x="1643305" y="832899"/>
                </a:lnTo>
                <a:lnTo>
                  <a:pt x="1646167" y="828135"/>
                </a:lnTo>
                <a:lnTo>
                  <a:pt x="1648393" y="823052"/>
                </a:lnTo>
                <a:lnTo>
                  <a:pt x="1650619" y="817653"/>
                </a:lnTo>
                <a:lnTo>
                  <a:pt x="1652845" y="811617"/>
                </a:lnTo>
                <a:lnTo>
                  <a:pt x="1654435" y="805265"/>
                </a:lnTo>
                <a:lnTo>
                  <a:pt x="1655707" y="798594"/>
                </a:lnTo>
                <a:lnTo>
                  <a:pt x="1656979" y="791289"/>
                </a:lnTo>
                <a:lnTo>
                  <a:pt x="1657297" y="783983"/>
                </a:lnTo>
                <a:lnTo>
                  <a:pt x="1657615" y="775724"/>
                </a:lnTo>
                <a:lnTo>
                  <a:pt x="1657933" y="767466"/>
                </a:lnTo>
                <a:lnTo>
                  <a:pt x="1658569" y="758889"/>
                </a:lnTo>
                <a:lnTo>
                  <a:pt x="1659205" y="750631"/>
                </a:lnTo>
                <a:lnTo>
                  <a:pt x="1660477" y="742690"/>
                </a:lnTo>
                <a:lnTo>
                  <a:pt x="1662067" y="734431"/>
                </a:lnTo>
                <a:lnTo>
                  <a:pt x="1663975" y="726808"/>
                </a:lnTo>
                <a:lnTo>
                  <a:pt x="1666201" y="718867"/>
                </a:lnTo>
                <a:lnTo>
                  <a:pt x="1668427" y="711561"/>
                </a:lnTo>
                <a:lnTo>
                  <a:pt x="1671289" y="704255"/>
                </a:lnTo>
                <a:lnTo>
                  <a:pt x="1674151" y="697267"/>
                </a:lnTo>
                <a:lnTo>
                  <a:pt x="1677648" y="690597"/>
                </a:lnTo>
                <a:lnTo>
                  <a:pt x="1680828" y="683609"/>
                </a:lnTo>
                <a:lnTo>
                  <a:pt x="1684962" y="677256"/>
                </a:lnTo>
                <a:lnTo>
                  <a:pt x="1689096" y="670903"/>
                </a:lnTo>
                <a:lnTo>
                  <a:pt x="1693230" y="665186"/>
                </a:lnTo>
                <a:lnTo>
                  <a:pt x="1698000" y="659151"/>
                </a:lnTo>
                <a:lnTo>
                  <a:pt x="1702770" y="654068"/>
                </a:lnTo>
                <a:lnTo>
                  <a:pt x="1707540" y="648986"/>
                </a:lnTo>
                <a:lnTo>
                  <a:pt x="1712627" y="643904"/>
                </a:lnTo>
                <a:lnTo>
                  <a:pt x="1718351" y="639457"/>
                </a:lnTo>
                <a:lnTo>
                  <a:pt x="1723757" y="635010"/>
                </a:lnTo>
                <a:lnTo>
                  <a:pt x="1729163" y="631198"/>
                </a:lnTo>
                <a:lnTo>
                  <a:pt x="1735205" y="627387"/>
                </a:lnTo>
                <a:lnTo>
                  <a:pt x="1741565" y="624210"/>
                </a:lnTo>
                <a:lnTo>
                  <a:pt x="1747288" y="621352"/>
                </a:lnTo>
                <a:lnTo>
                  <a:pt x="1753966" y="618810"/>
                </a:lnTo>
                <a:lnTo>
                  <a:pt x="1760326" y="616587"/>
                </a:lnTo>
                <a:lnTo>
                  <a:pt x="1767004" y="614681"/>
                </a:lnTo>
                <a:lnTo>
                  <a:pt x="1773682" y="613093"/>
                </a:lnTo>
                <a:lnTo>
                  <a:pt x="1780677" y="612140"/>
                </a:lnTo>
                <a:lnTo>
                  <a:pt x="1787673" y="611187"/>
                </a:lnTo>
                <a:close/>
                <a:moveTo>
                  <a:pt x="630238" y="565150"/>
                </a:moveTo>
                <a:lnTo>
                  <a:pt x="639136" y="565468"/>
                </a:lnTo>
                <a:lnTo>
                  <a:pt x="647397" y="566420"/>
                </a:lnTo>
                <a:lnTo>
                  <a:pt x="655977" y="567372"/>
                </a:lnTo>
                <a:lnTo>
                  <a:pt x="664557" y="569276"/>
                </a:lnTo>
                <a:lnTo>
                  <a:pt x="672501" y="571498"/>
                </a:lnTo>
                <a:lnTo>
                  <a:pt x="680762" y="574354"/>
                </a:lnTo>
                <a:lnTo>
                  <a:pt x="689024" y="577211"/>
                </a:lnTo>
                <a:lnTo>
                  <a:pt x="696333" y="581020"/>
                </a:lnTo>
                <a:lnTo>
                  <a:pt x="703959" y="585463"/>
                </a:lnTo>
                <a:lnTo>
                  <a:pt x="711268" y="589907"/>
                </a:lnTo>
                <a:lnTo>
                  <a:pt x="718258" y="594667"/>
                </a:lnTo>
                <a:lnTo>
                  <a:pt x="725249" y="600063"/>
                </a:lnTo>
                <a:lnTo>
                  <a:pt x="731922" y="605776"/>
                </a:lnTo>
                <a:lnTo>
                  <a:pt x="738278" y="611489"/>
                </a:lnTo>
                <a:lnTo>
                  <a:pt x="744633" y="618154"/>
                </a:lnTo>
                <a:lnTo>
                  <a:pt x="750353" y="624820"/>
                </a:lnTo>
                <a:lnTo>
                  <a:pt x="756072" y="632437"/>
                </a:lnTo>
                <a:lnTo>
                  <a:pt x="761474" y="639737"/>
                </a:lnTo>
                <a:lnTo>
                  <a:pt x="766241" y="647354"/>
                </a:lnTo>
                <a:lnTo>
                  <a:pt x="771007" y="655289"/>
                </a:lnTo>
                <a:lnTo>
                  <a:pt x="775456" y="663541"/>
                </a:lnTo>
                <a:lnTo>
                  <a:pt x="779587" y="672111"/>
                </a:lnTo>
                <a:lnTo>
                  <a:pt x="783400" y="680998"/>
                </a:lnTo>
                <a:lnTo>
                  <a:pt x="786895" y="690202"/>
                </a:lnTo>
                <a:lnTo>
                  <a:pt x="790073" y="699406"/>
                </a:lnTo>
                <a:lnTo>
                  <a:pt x="792615" y="708611"/>
                </a:lnTo>
                <a:lnTo>
                  <a:pt x="794839" y="718450"/>
                </a:lnTo>
                <a:lnTo>
                  <a:pt x="796746" y="728606"/>
                </a:lnTo>
                <a:lnTo>
                  <a:pt x="798017" y="738445"/>
                </a:lnTo>
                <a:lnTo>
                  <a:pt x="799288" y="748919"/>
                </a:lnTo>
                <a:lnTo>
                  <a:pt x="799923" y="759076"/>
                </a:lnTo>
                <a:lnTo>
                  <a:pt x="800241" y="769550"/>
                </a:lnTo>
                <a:lnTo>
                  <a:pt x="799923" y="777802"/>
                </a:lnTo>
                <a:lnTo>
                  <a:pt x="799606" y="786054"/>
                </a:lnTo>
                <a:lnTo>
                  <a:pt x="798970" y="793989"/>
                </a:lnTo>
                <a:lnTo>
                  <a:pt x="798017" y="801923"/>
                </a:lnTo>
                <a:lnTo>
                  <a:pt x="797064" y="809541"/>
                </a:lnTo>
                <a:lnTo>
                  <a:pt x="795475" y="817476"/>
                </a:lnTo>
                <a:lnTo>
                  <a:pt x="793568" y="825093"/>
                </a:lnTo>
                <a:lnTo>
                  <a:pt x="791979" y="832710"/>
                </a:lnTo>
                <a:lnTo>
                  <a:pt x="789755" y="840328"/>
                </a:lnTo>
                <a:lnTo>
                  <a:pt x="787531" y="847310"/>
                </a:lnTo>
                <a:lnTo>
                  <a:pt x="784671" y="854293"/>
                </a:lnTo>
                <a:lnTo>
                  <a:pt x="781811" y="861276"/>
                </a:lnTo>
                <a:lnTo>
                  <a:pt x="778951" y="868258"/>
                </a:lnTo>
                <a:lnTo>
                  <a:pt x="775456" y="874923"/>
                </a:lnTo>
                <a:lnTo>
                  <a:pt x="772278" y="880954"/>
                </a:lnTo>
                <a:lnTo>
                  <a:pt x="768465" y="887619"/>
                </a:lnTo>
                <a:lnTo>
                  <a:pt x="764970" y="893649"/>
                </a:lnTo>
                <a:lnTo>
                  <a:pt x="760839" y="899680"/>
                </a:lnTo>
                <a:lnTo>
                  <a:pt x="756708" y="905393"/>
                </a:lnTo>
                <a:lnTo>
                  <a:pt x="752259" y="911106"/>
                </a:lnTo>
                <a:lnTo>
                  <a:pt x="747810" y="916501"/>
                </a:lnTo>
                <a:lnTo>
                  <a:pt x="743044" y="921580"/>
                </a:lnTo>
                <a:lnTo>
                  <a:pt x="738278" y="926341"/>
                </a:lnTo>
                <a:lnTo>
                  <a:pt x="733193" y="931101"/>
                </a:lnTo>
                <a:lnTo>
                  <a:pt x="728109" y="936180"/>
                </a:lnTo>
                <a:lnTo>
                  <a:pt x="722707" y="939988"/>
                </a:lnTo>
                <a:lnTo>
                  <a:pt x="717305" y="944114"/>
                </a:lnTo>
                <a:lnTo>
                  <a:pt x="711903" y="948241"/>
                </a:lnTo>
                <a:lnTo>
                  <a:pt x="706183" y="951414"/>
                </a:lnTo>
                <a:lnTo>
                  <a:pt x="700464" y="954906"/>
                </a:lnTo>
                <a:lnTo>
                  <a:pt x="694426" y="958080"/>
                </a:lnTo>
                <a:lnTo>
                  <a:pt x="688071" y="960619"/>
                </a:lnTo>
                <a:lnTo>
                  <a:pt x="688071" y="1044727"/>
                </a:lnTo>
                <a:lnTo>
                  <a:pt x="703641" y="1047266"/>
                </a:lnTo>
                <a:lnTo>
                  <a:pt x="718894" y="1050440"/>
                </a:lnTo>
                <a:lnTo>
                  <a:pt x="733829" y="1053614"/>
                </a:lnTo>
                <a:lnTo>
                  <a:pt x="748764" y="1057740"/>
                </a:lnTo>
                <a:lnTo>
                  <a:pt x="763063" y="1062184"/>
                </a:lnTo>
                <a:lnTo>
                  <a:pt x="777045" y="1066945"/>
                </a:lnTo>
                <a:lnTo>
                  <a:pt x="791026" y="1072340"/>
                </a:lnTo>
                <a:lnTo>
                  <a:pt x="804690" y="1078371"/>
                </a:lnTo>
                <a:lnTo>
                  <a:pt x="818036" y="1085036"/>
                </a:lnTo>
                <a:lnTo>
                  <a:pt x="831064" y="1091701"/>
                </a:lnTo>
                <a:lnTo>
                  <a:pt x="843775" y="1099001"/>
                </a:lnTo>
                <a:lnTo>
                  <a:pt x="856167" y="1106618"/>
                </a:lnTo>
                <a:lnTo>
                  <a:pt x="867925" y="1114871"/>
                </a:lnTo>
                <a:lnTo>
                  <a:pt x="879682" y="1123440"/>
                </a:lnTo>
                <a:lnTo>
                  <a:pt x="890804" y="1132010"/>
                </a:lnTo>
                <a:lnTo>
                  <a:pt x="901925" y="1141214"/>
                </a:lnTo>
                <a:lnTo>
                  <a:pt x="912094" y="1151370"/>
                </a:lnTo>
                <a:lnTo>
                  <a:pt x="921944" y="1161210"/>
                </a:lnTo>
                <a:lnTo>
                  <a:pt x="931795" y="1171683"/>
                </a:lnTo>
                <a:lnTo>
                  <a:pt x="940692" y="1182157"/>
                </a:lnTo>
                <a:lnTo>
                  <a:pt x="949272" y="1193266"/>
                </a:lnTo>
                <a:lnTo>
                  <a:pt x="957534" y="1204692"/>
                </a:lnTo>
                <a:lnTo>
                  <a:pt x="965160" y="1216118"/>
                </a:lnTo>
                <a:lnTo>
                  <a:pt x="972151" y="1227862"/>
                </a:lnTo>
                <a:lnTo>
                  <a:pt x="979142" y="1240557"/>
                </a:lnTo>
                <a:lnTo>
                  <a:pt x="985179" y="1252618"/>
                </a:lnTo>
                <a:lnTo>
                  <a:pt x="991217" y="1265631"/>
                </a:lnTo>
                <a:lnTo>
                  <a:pt x="995983" y="1278327"/>
                </a:lnTo>
                <a:lnTo>
                  <a:pt x="1000749" y="1291657"/>
                </a:lnTo>
                <a:lnTo>
                  <a:pt x="1004880" y="1304988"/>
                </a:lnTo>
                <a:lnTo>
                  <a:pt x="1008058" y="1318635"/>
                </a:lnTo>
                <a:lnTo>
                  <a:pt x="1010600" y="1332600"/>
                </a:lnTo>
                <a:lnTo>
                  <a:pt x="1014413" y="1484313"/>
                </a:lnTo>
                <a:lnTo>
                  <a:pt x="246063" y="1484313"/>
                </a:lnTo>
                <a:lnTo>
                  <a:pt x="249876" y="1332600"/>
                </a:lnTo>
                <a:lnTo>
                  <a:pt x="252419" y="1318635"/>
                </a:lnTo>
                <a:lnTo>
                  <a:pt x="255596" y="1304988"/>
                </a:lnTo>
                <a:lnTo>
                  <a:pt x="259727" y="1291657"/>
                </a:lnTo>
                <a:lnTo>
                  <a:pt x="264176" y="1278327"/>
                </a:lnTo>
                <a:lnTo>
                  <a:pt x="269260" y="1265631"/>
                </a:lnTo>
                <a:lnTo>
                  <a:pt x="275297" y="1252618"/>
                </a:lnTo>
                <a:lnTo>
                  <a:pt x="281017" y="1240557"/>
                </a:lnTo>
                <a:lnTo>
                  <a:pt x="288008" y="1227862"/>
                </a:lnTo>
                <a:lnTo>
                  <a:pt x="294999" y="1216118"/>
                </a:lnTo>
                <a:lnTo>
                  <a:pt x="302943" y="1204692"/>
                </a:lnTo>
                <a:lnTo>
                  <a:pt x="310887" y="1193266"/>
                </a:lnTo>
                <a:lnTo>
                  <a:pt x="319784" y="1182157"/>
                </a:lnTo>
                <a:lnTo>
                  <a:pt x="328682" y="1171683"/>
                </a:lnTo>
                <a:lnTo>
                  <a:pt x="338214" y="1161210"/>
                </a:lnTo>
                <a:lnTo>
                  <a:pt x="348383" y="1151370"/>
                </a:lnTo>
                <a:lnTo>
                  <a:pt x="358869" y="1141214"/>
                </a:lnTo>
                <a:lnTo>
                  <a:pt x="369673" y="1132010"/>
                </a:lnTo>
                <a:lnTo>
                  <a:pt x="380795" y="1123440"/>
                </a:lnTo>
                <a:lnTo>
                  <a:pt x="392552" y="1114871"/>
                </a:lnTo>
                <a:lnTo>
                  <a:pt x="404309" y="1106618"/>
                </a:lnTo>
                <a:lnTo>
                  <a:pt x="417020" y="1099001"/>
                </a:lnTo>
                <a:lnTo>
                  <a:pt x="429412" y="1091701"/>
                </a:lnTo>
                <a:lnTo>
                  <a:pt x="442441" y="1085036"/>
                </a:lnTo>
                <a:lnTo>
                  <a:pt x="455787" y="1078371"/>
                </a:lnTo>
                <a:lnTo>
                  <a:pt x="469450" y="1072340"/>
                </a:lnTo>
                <a:lnTo>
                  <a:pt x="483432" y="1066945"/>
                </a:lnTo>
                <a:lnTo>
                  <a:pt x="497413" y="1062184"/>
                </a:lnTo>
                <a:lnTo>
                  <a:pt x="511713" y="1057740"/>
                </a:lnTo>
                <a:lnTo>
                  <a:pt x="526648" y="1053614"/>
                </a:lnTo>
                <a:lnTo>
                  <a:pt x="541582" y="1050440"/>
                </a:lnTo>
                <a:lnTo>
                  <a:pt x="556835" y="1047266"/>
                </a:lnTo>
                <a:lnTo>
                  <a:pt x="571770" y="1044727"/>
                </a:lnTo>
                <a:lnTo>
                  <a:pt x="571770" y="960619"/>
                </a:lnTo>
                <a:lnTo>
                  <a:pt x="566050" y="958080"/>
                </a:lnTo>
                <a:lnTo>
                  <a:pt x="560013" y="954906"/>
                </a:lnTo>
                <a:lnTo>
                  <a:pt x="554293" y="951414"/>
                </a:lnTo>
                <a:lnTo>
                  <a:pt x="548573" y="948241"/>
                </a:lnTo>
                <a:lnTo>
                  <a:pt x="543171" y="944114"/>
                </a:lnTo>
                <a:lnTo>
                  <a:pt x="537452" y="939988"/>
                </a:lnTo>
                <a:lnTo>
                  <a:pt x="532367" y="935545"/>
                </a:lnTo>
                <a:lnTo>
                  <a:pt x="527283" y="931101"/>
                </a:lnTo>
                <a:lnTo>
                  <a:pt x="522199" y="926341"/>
                </a:lnTo>
                <a:lnTo>
                  <a:pt x="517433" y="921580"/>
                </a:lnTo>
                <a:lnTo>
                  <a:pt x="512348" y="916501"/>
                </a:lnTo>
                <a:lnTo>
                  <a:pt x="507900" y="911106"/>
                </a:lnTo>
                <a:lnTo>
                  <a:pt x="503769" y="905393"/>
                </a:lnTo>
                <a:lnTo>
                  <a:pt x="499638" y="899680"/>
                </a:lnTo>
                <a:lnTo>
                  <a:pt x="495507" y="893649"/>
                </a:lnTo>
                <a:lnTo>
                  <a:pt x="491694" y="887302"/>
                </a:lnTo>
                <a:lnTo>
                  <a:pt x="488198" y="880954"/>
                </a:lnTo>
                <a:lnTo>
                  <a:pt x="484385" y="874923"/>
                </a:lnTo>
                <a:lnTo>
                  <a:pt x="481525" y="868258"/>
                </a:lnTo>
                <a:lnTo>
                  <a:pt x="478665" y="861276"/>
                </a:lnTo>
                <a:lnTo>
                  <a:pt x="475488" y="854293"/>
                </a:lnTo>
                <a:lnTo>
                  <a:pt x="472946" y="847310"/>
                </a:lnTo>
                <a:lnTo>
                  <a:pt x="470404" y="839693"/>
                </a:lnTo>
                <a:lnTo>
                  <a:pt x="468497" y="832393"/>
                </a:lnTo>
                <a:lnTo>
                  <a:pt x="466273" y="825093"/>
                </a:lnTo>
                <a:lnTo>
                  <a:pt x="465002" y="817476"/>
                </a:lnTo>
                <a:lnTo>
                  <a:pt x="463413" y="809541"/>
                </a:lnTo>
                <a:lnTo>
                  <a:pt x="462142" y="801923"/>
                </a:lnTo>
                <a:lnTo>
                  <a:pt x="461189" y="793989"/>
                </a:lnTo>
                <a:lnTo>
                  <a:pt x="460871" y="786054"/>
                </a:lnTo>
                <a:lnTo>
                  <a:pt x="460235" y="777802"/>
                </a:lnTo>
                <a:lnTo>
                  <a:pt x="460235" y="769550"/>
                </a:lnTo>
                <a:lnTo>
                  <a:pt x="460553" y="759076"/>
                </a:lnTo>
                <a:lnTo>
                  <a:pt x="460871" y="748919"/>
                </a:lnTo>
                <a:lnTo>
                  <a:pt x="461824" y="738445"/>
                </a:lnTo>
                <a:lnTo>
                  <a:pt x="463413" y="728606"/>
                </a:lnTo>
                <a:lnTo>
                  <a:pt x="465637" y="718450"/>
                </a:lnTo>
                <a:lnTo>
                  <a:pt x="467862" y="708611"/>
                </a:lnTo>
                <a:lnTo>
                  <a:pt x="470404" y="699406"/>
                </a:lnTo>
                <a:lnTo>
                  <a:pt x="473264" y="690202"/>
                </a:lnTo>
                <a:lnTo>
                  <a:pt x="477077" y="680998"/>
                </a:lnTo>
                <a:lnTo>
                  <a:pt x="480890" y="672111"/>
                </a:lnTo>
                <a:lnTo>
                  <a:pt x="484703" y="663541"/>
                </a:lnTo>
                <a:lnTo>
                  <a:pt x="489152" y="655289"/>
                </a:lnTo>
                <a:lnTo>
                  <a:pt x="493918" y="647354"/>
                </a:lnTo>
                <a:lnTo>
                  <a:pt x="498685" y="639737"/>
                </a:lnTo>
                <a:lnTo>
                  <a:pt x="504404" y="632437"/>
                </a:lnTo>
                <a:lnTo>
                  <a:pt x="509806" y="624820"/>
                </a:lnTo>
                <a:lnTo>
                  <a:pt x="515844" y="618154"/>
                </a:lnTo>
                <a:lnTo>
                  <a:pt x="522199" y="611489"/>
                </a:lnTo>
                <a:lnTo>
                  <a:pt x="528236" y="605776"/>
                </a:lnTo>
                <a:lnTo>
                  <a:pt x="534909" y="600063"/>
                </a:lnTo>
                <a:lnTo>
                  <a:pt x="541900" y="594667"/>
                </a:lnTo>
                <a:lnTo>
                  <a:pt x="548891" y="589907"/>
                </a:lnTo>
                <a:lnTo>
                  <a:pt x="556517" y="585463"/>
                </a:lnTo>
                <a:lnTo>
                  <a:pt x="564144" y="581020"/>
                </a:lnTo>
                <a:lnTo>
                  <a:pt x="571770" y="577211"/>
                </a:lnTo>
                <a:lnTo>
                  <a:pt x="579714" y="574354"/>
                </a:lnTo>
                <a:lnTo>
                  <a:pt x="587658" y="571498"/>
                </a:lnTo>
                <a:lnTo>
                  <a:pt x="595920" y="569276"/>
                </a:lnTo>
                <a:lnTo>
                  <a:pt x="604499" y="567372"/>
                </a:lnTo>
                <a:lnTo>
                  <a:pt x="612761" y="566420"/>
                </a:lnTo>
                <a:lnTo>
                  <a:pt x="621659" y="565468"/>
                </a:lnTo>
                <a:lnTo>
                  <a:pt x="630238" y="565150"/>
                </a:lnTo>
                <a:close/>
                <a:moveTo>
                  <a:pt x="181836" y="158167"/>
                </a:moveTo>
                <a:lnTo>
                  <a:pt x="178980" y="158484"/>
                </a:lnTo>
                <a:lnTo>
                  <a:pt x="176441" y="159119"/>
                </a:lnTo>
                <a:lnTo>
                  <a:pt x="173902" y="160390"/>
                </a:lnTo>
                <a:lnTo>
                  <a:pt x="171681" y="161343"/>
                </a:lnTo>
                <a:lnTo>
                  <a:pt x="169459" y="162613"/>
                </a:lnTo>
                <a:lnTo>
                  <a:pt x="167238" y="163884"/>
                </a:lnTo>
                <a:lnTo>
                  <a:pt x="165651" y="165789"/>
                </a:lnTo>
                <a:lnTo>
                  <a:pt x="164065" y="167695"/>
                </a:lnTo>
                <a:lnTo>
                  <a:pt x="162478" y="169918"/>
                </a:lnTo>
                <a:lnTo>
                  <a:pt x="161209" y="171824"/>
                </a:lnTo>
                <a:lnTo>
                  <a:pt x="159939" y="174364"/>
                </a:lnTo>
                <a:lnTo>
                  <a:pt x="159305" y="176588"/>
                </a:lnTo>
                <a:lnTo>
                  <a:pt x="158352" y="179128"/>
                </a:lnTo>
                <a:lnTo>
                  <a:pt x="158035" y="181669"/>
                </a:lnTo>
                <a:lnTo>
                  <a:pt x="157718" y="184210"/>
                </a:lnTo>
                <a:lnTo>
                  <a:pt x="157718" y="1440334"/>
                </a:lnTo>
                <a:lnTo>
                  <a:pt x="158352" y="1447639"/>
                </a:lnTo>
                <a:lnTo>
                  <a:pt x="159622" y="1454944"/>
                </a:lnTo>
                <a:lnTo>
                  <a:pt x="161526" y="1463202"/>
                </a:lnTo>
                <a:lnTo>
                  <a:pt x="164065" y="1471142"/>
                </a:lnTo>
                <a:lnTo>
                  <a:pt x="167238" y="1479717"/>
                </a:lnTo>
                <a:lnTo>
                  <a:pt x="171363" y="1488610"/>
                </a:lnTo>
                <a:lnTo>
                  <a:pt x="175806" y="1497185"/>
                </a:lnTo>
                <a:lnTo>
                  <a:pt x="181201" y="1506078"/>
                </a:lnTo>
                <a:lnTo>
                  <a:pt x="187230" y="1514336"/>
                </a:lnTo>
                <a:lnTo>
                  <a:pt x="193577" y="1522594"/>
                </a:lnTo>
                <a:lnTo>
                  <a:pt x="200876" y="1530534"/>
                </a:lnTo>
                <a:lnTo>
                  <a:pt x="208492" y="1538156"/>
                </a:lnTo>
                <a:lnTo>
                  <a:pt x="216743" y="1545143"/>
                </a:lnTo>
                <a:lnTo>
                  <a:pt x="225629" y="1551178"/>
                </a:lnTo>
                <a:lnTo>
                  <a:pt x="230389" y="1554354"/>
                </a:lnTo>
                <a:lnTo>
                  <a:pt x="235149" y="1557212"/>
                </a:lnTo>
                <a:lnTo>
                  <a:pt x="239909" y="1559753"/>
                </a:lnTo>
                <a:lnTo>
                  <a:pt x="244669" y="1561976"/>
                </a:lnTo>
                <a:lnTo>
                  <a:pt x="1018979" y="1561976"/>
                </a:lnTo>
                <a:lnTo>
                  <a:pt x="1018979" y="1559436"/>
                </a:lnTo>
                <a:lnTo>
                  <a:pt x="1028182" y="1554354"/>
                </a:lnTo>
                <a:lnTo>
                  <a:pt x="1037068" y="1548637"/>
                </a:lnTo>
                <a:lnTo>
                  <a:pt x="1045636" y="1542603"/>
                </a:lnTo>
                <a:lnTo>
                  <a:pt x="1053252" y="1535298"/>
                </a:lnTo>
                <a:lnTo>
                  <a:pt x="1060551" y="1527993"/>
                </a:lnTo>
                <a:lnTo>
                  <a:pt x="1067532" y="1520370"/>
                </a:lnTo>
                <a:lnTo>
                  <a:pt x="1073879" y="1512113"/>
                </a:lnTo>
                <a:lnTo>
                  <a:pt x="1079908" y="1504173"/>
                </a:lnTo>
                <a:lnTo>
                  <a:pt x="1084986" y="1495597"/>
                </a:lnTo>
                <a:lnTo>
                  <a:pt x="1089429" y="1487022"/>
                </a:lnTo>
                <a:lnTo>
                  <a:pt x="1093554" y="1479082"/>
                </a:lnTo>
                <a:lnTo>
                  <a:pt x="1096728" y="1470507"/>
                </a:lnTo>
                <a:lnTo>
                  <a:pt x="1099266" y="1462884"/>
                </a:lnTo>
                <a:lnTo>
                  <a:pt x="1101170" y="1454626"/>
                </a:lnTo>
                <a:lnTo>
                  <a:pt x="1102122" y="1447321"/>
                </a:lnTo>
                <a:lnTo>
                  <a:pt x="1102757" y="1440334"/>
                </a:lnTo>
                <a:lnTo>
                  <a:pt x="1102757" y="184210"/>
                </a:lnTo>
                <a:lnTo>
                  <a:pt x="1102122" y="181669"/>
                </a:lnTo>
                <a:lnTo>
                  <a:pt x="1101805" y="179128"/>
                </a:lnTo>
                <a:lnTo>
                  <a:pt x="1101170" y="176588"/>
                </a:lnTo>
                <a:lnTo>
                  <a:pt x="1100536" y="174364"/>
                </a:lnTo>
                <a:lnTo>
                  <a:pt x="1099266" y="171824"/>
                </a:lnTo>
                <a:lnTo>
                  <a:pt x="1097997" y="169918"/>
                </a:lnTo>
                <a:lnTo>
                  <a:pt x="1096410" y="167695"/>
                </a:lnTo>
                <a:lnTo>
                  <a:pt x="1094824" y="165789"/>
                </a:lnTo>
                <a:lnTo>
                  <a:pt x="1092919" y="163884"/>
                </a:lnTo>
                <a:lnTo>
                  <a:pt x="1090698" y="162613"/>
                </a:lnTo>
                <a:lnTo>
                  <a:pt x="1088794" y="161343"/>
                </a:lnTo>
                <a:lnTo>
                  <a:pt x="1086573" y="160390"/>
                </a:lnTo>
                <a:lnTo>
                  <a:pt x="1083716" y="159119"/>
                </a:lnTo>
                <a:lnTo>
                  <a:pt x="1081178" y="158484"/>
                </a:lnTo>
                <a:lnTo>
                  <a:pt x="1078639" y="158167"/>
                </a:lnTo>
                <a:lnTo>
                  <a:pt x="1076100" y="158167"/>
                </a:lnTo>
                <a:lnTo>
                  <a:pt x="184374" y="158167"/>
                </a:lnTo>
                <a:lnTo>
                  <a:pt x="181836" y="158167"/>
                </a:lnTo>
                <a:close/>
                <a:moveTo>
                  <a:pt x="1414463" y="157162"/>
                </a:moveTo>
                <a:lnTo>
                  <a:pt x="2153497" y="157162"/>
                </a:lnTo>
                <a:lnTo>
                  <a:pt x="2161123" y="157162"/>
                </a:lnTo>
                <a:lnTo>
                  <a:pt x="2169066" y="158114"/>
                </a:lnTo>
                <a:lnTo>
                  <a:pt x="2176374" y="158749"/>
                </a:lnTo>
                <a:lnTo>
                  <a:pt x="2183364" y="160337"/>
                </a:lnTo>
                <a:lnTo>
                  <a:pt x="2190671" y="161924"/>
                </a:lnTo>
                <a:lnTo>
                  <a:pt x="2197661" y="163829"/>
                </a:lnTo>
                <a:lnTo>
                  <a:pt x="2204651" y="166052"/>
                </a:lnTo>
                <a:lnTo>
                  <a:pt x="2211324" y="168909"/>
                </a:lnTo>
                <a:lnTo>
                  <a:pt x="2217996" y="172084"/>
                </a:lnTo>
                <a:lnTo>
                  <a:pt x="2224350" y="174942"/>
                </a:lnTo>
                <a:lnTo>
                  <a:pt x="2230387" y="178752"/>
                </a:lnTo>
                <a:lnTo>
                  <a:pt x="2236424" y="182562"/>
                </a:lnTo>
                <a:lnTo>
                  <a:pt x="2242461" y="186689"/>
                </a:lnTo>
                <a:lnTo>
                  <a:pt x="2247862" y="191134"/>
                </a:lnTo>
                <a:lnTo>
                  <a:pt x="2253264" y="195579"/>
                </a:lnTo>
                <a:lnTo>
                  <a:pt x="2258665" y="200659"/>
                </a:lnTo>
                <a:lnTo>
                  <a:pt x="2263431" y="206057"/>
                </a:lnTo>
                <a:lnTo>
                  <a:pt x="2268197" y="211137"/>
                </a:lnTo>
                <a:lnTo>
                  <a:pt x="2272645" y="216852"/>
                </a:lnTo>
                <a:lnTo>
                  <a:pt x="2276776" y="222567"/>
                </a:lnTo>
                <a:lnTo>
                  <a:pt x="2280270" y="228917"/>
                </a:lnTo>
                <a:lnTo>
                  <a:pt x="2284083" y="234949"/>
                </a:lnTo>
                <a:lnTo>
                  <a:pt x="2287261" y="241299"/>
                </a:lnTo>
                <a:lnTo>
                  <a:pt x="2290438" y="247967"/>
                </a:lnTo>
                <a:lnTo>
                  <a:pt x="2292980" y="254634"/>
                </a:lnTo>
                <a:lnTo>
                  <a:pt x="2295204" y="261619"/>
                </a:lnTo>
                <a:lnTo>
                  <a:pt x="2297428" y="268604"/>
                </a:lnTo>
                <a:lnTo>
                  <a:pt x="2298699" y="275589"/>
                </a:lnTo>
                <a:lnTo>
                  <a:pt x="2300287" y="282892"/>
                </a:lnTo>
                <a:lnTo>
                  <a:pt x="2300923" y="290512"/>
                </a:lnTo>
                <a:lnTo>
                  <a:pt x="2301876" y="297814"/>
                </a:lnTo>
                <a:lnTo>
                  <a:pt x="2301876" y="305434"/>
                </a:lnTo>
                <a:lnTo>
                  <a:pt x="2301876" y="1484630"/>
                </a:lnTo>
                <a:lnTo>
                  <a:pt x="2301876" y="1497013"/>
                </a:lnTo>
                <a:lnTo>
                  <a:pt x="2300923" y="1509078"/>
                </a:lnTo>
                <a:lnTo>
                  <a:pt x="2299652" y="1521143"/>
                </a:lnTo>
                <a:lnTo>
                  <a:pt x="2298063" y="1533208"/>
                </a:lnTo>
                <a:lnTo>
                  <a:pt x="2295839" y="1544638"/>
                </a:lnTo>
                <a:lnTo>
                  <a:pt x="2292980" y="1555433"/>
                </a:lnTo>
                <a:lnTo>
                  <a:pt x="2289802" y="1566545"/>
                </a:lnTo>
                <a:lnTo>
                  <a:pt x="2285990" y="1577340"/>
                </a:lnTo>
                <a:lnTo>
                  <a:pt x="2281859" y="1587500"/>
                </a:lnTo>
                <a:lnTo>
                  <a:pt x="2277093" y="1597660"/>
                </a:lnTo>
                <a:lnTo>
                  <a:pt x="2271374" y="1607503"/>
                </a:lnTo>
                <a:lnTo>
                  <a:pt x="2265655" y="1616710"/>
                </a:lnTo>
                <a:lnTo>
                  <a:pt x="2259300" y="1625918"/>
                </a:lnTo>
                <a:lnTo>
                  <a:pt x="2252310" y="1634808"/>
                </a:lnTo>
                <a:lnTo>
                  <a:pt x="2244685" y="1643063"/>
                </a:lnTo>
                <a:lnTo>
                  <a:pt x="2236424" y="1651000"/>
                </a:lnTo>
                <a:lnTo>
                  <a:pt x="2227846" y="1658938"/>
                </a:lnTo>
                <a:lnTo>
                  <a:pt x="2218631" y="1665923"/>
                </a:lnTo>
                <a:lnTo>
                  <a:pt x="2208782" y="1672908"/>
                </a:lnTo>
                <a:lnTo>
                  <a:pt x="2198297" y="1678940"/>
                </a:lnTo>
                <a:lnTo>
                  <a:pt x="2187494" y="1684973"/>
                </a:lnTo>
                <a:lnTo>
                  <a:pt x="2176056" y="1690370"/>
                </a:lnTo>
                <a:lnTo>
                  <a:pt x="2163664" y="1695450"/>
                </a:lnTo>
                <a:lnTo>
                  <a:pt x="2150955" y="1700213"/>
                </a:lnTo>
                <a:lnTo>
                  <a:pt x="2137611" y="1704023"/>
                </a:lnTo>
                <a:lnTo>
                  <a:pt x="2123631" y="1707515"/>
                </a:lnTo>
                <a:lnTo>
                  <a:pt x="2108698" y="1710373"/>
                </a:lnTo>
                <a:lnTo>
                  <a:pt x="2093764" y="1712913"/>
                </a:lnTo>
                <a:lnTo>
                  <a:pt x="2077878" y="1715135"/>
                </a:lnTo>
                <a:lnTo>
                  <a:pt x="2061038" y="1716405"/>
                </a:lnTo>
                <a:lnTo>
                  <a:pt x="2044199" y="1717358"/>
                </a:lnTo>
                <a:lnTo>
                  <a:pt x="2026406" y="1717675"/>
                </a:lnTo>
                <a:lnTo>
                  <a:pt x="1563159" y="1717675"/>
                </a:lnTo>
                <a:lnTo>
                  <a:pt x="1551721" y="1717358"/>
                </a:lnTo>
                <a:lnTo>
                  <a:pt x="1540601" y="1716723"/>
                </a:lnTo>
                <a:lnTo>
                  <a:pt x="1529163" y="1715453"/>
                </a:lnTo>
                <a:lnTo>
                  <a:pt x="1518042" y="1714500"/>
                </a:lnTo>
                <a:lnTo>
                  <a:pt x="1506922" y="1712913"/>
                </a:lnTo>
                <a:lnTo>
                  <a:pt x="1495801" y="1710690"/>
                </a:lnTo>
                <a:lnTo>
                  <a:pt x="1485634" y="1709103"/>
                </a:lnTo>
                <a:lnTo>
                  <a:pt x="1475149" y="1706880"/>
                </a:lnTo>
                <a:lnTo>
                  <a:pt x="1456085" y="1701800"/>
                </a:lnTo>
                <a:lnTo>
                  <a:pt x="1439246" y="1697038"/>
                </a:lnTo>
                <a:lnTo>
                  <a:pt x="1424948" y="1692593"/>
                </a:lnTo>
                <a:lnTo>
                  <a:pt x="1414463" y="1688783"/>
                </a:lnTo>
                <a:lnTo>
                  <a:pt x="1414463" y="1342708"/>
                </a:lnTo>
                <a:lnTo>
                  <a:pt x="1416687" y="1347470"/>
                </a:lnTo>
                <a:lnTo>
                  <a:pt x="1419229" y="1352233"/>
                </a:lnTo>
                <a:lnTo>
                  <a:pt x="1422088" y="1357630"/>
                </a:lnTo>
                <a:lnTo>
                  <a:pt x="1425583" y="1362393"/>
                </a:lnTo>
                <a:lnTo>
                  <a:pt x="1429078" y="1367473"/>
                </a:lnTo>
                <a:lnTo>
                  <a:pt x="1433209" y="1372235"/>
                </a:lnTo>
                <a:lnTo>
                  <a:pt x="1437657" y="1376998"/>
                </a:lnTo>
                <a:lnTo>
                  <a:pt x="1442105" y="1381760"/>
                </a:lnTo>
                <a:lnTo>
                  <a:pt x="1446871" y="1386523"/>
                </a:lnTo>
                <a:lnTo>
                  <a:pt x="1451637" y="1390968"/>
                </a:lnTo>
                <a:lnTo>
                  <a:pt x="1456721" y="1395413"/>
                </a:lnTo>
                <a:lnTo>
                  <a:pt x="1462440" y="1399540"/>
                </a:lnTo>
                <a:lnTo>
                  <a:pt x="1467523" y="1403350"/>
                </a:lnTo>
                <a:lnTo>
                  <a:pt x="1472925" y="1406525"/>
                </a:lnTo>
                <a:lnTo>
                  <a:pt x="1478644" y="1410018"/>
                </a:lnTo>
                <a:lnTo>
                  <a:pt x="1484045" y="1412558"/>
                </a:lnTo>
                <a:lnTo>
                  <a:pt x="1484045" y="1413510"/>
                </a:lnTo>
                <a:lnTo>
                  <a:pt x="2108062" y="1413510"/>
                </a:lnTo>
                <a:lnTo>
                  <a:pt x="2108062" y="1410335"/>
                </a:lnTo>
                <a:lnTo>
                  <a:pt x="2115370" y="1406208"/>
                </a:lnTo>
                <a:lnTo>
                  <a:pt x="2122360" y="1401763"/>
                </a:lnTo>
                <a:lnTo>
                  <a:pt x="2129032" y="1396683"/>
                </a:lnTo>
                <a:lnTo>
                  <a:pt x="2135387" y="1390968"/>
                </a:lnTo>
                <a:lnTo>
                  <a:pt x="2141106" y="1385253"/>
                </a:lnTo>
                <a:lnTo>
                  <a:pt x="2146825" y="1378903"/>
                </a:lnTo>
                <a:lnTo>
                  <a:pt x="2151909" y="1372235"/>
                </a:lnTo>
                <a:lnTo>
                  <a:pt x="2156357" y="1365568"/>
                </a:lnTo>
                <a:lnTo>
                  <a:pt x="2160805" y="1358900"/>
                </a:lnTo>
                <a:lnTo>
                  <a:pt x="2163982" y="1352233"/>
                </a:lnTo>
                <a:lnTo>
                  <a:pt x="2167477" y="1345883"/>
                </a:lnTo>
                <a:lnTo>
                  <a:pt x="2170019" y="1339215"/>
                </a:lnTo>
                <a:lnTo>
                  <a:pt x="2172243" y="1332865"/>
                </a:lnTo>
                <a:lnTo>
                  <a:pt x="2173832" y="1326515"/>
                </a:lnTo>
                <a:lnTo>
                  <a:pt x="2174467" y="1320800"/>
                </a:lnTo>
                <a:lnTo>
                  <a:pt x="2174785" y="1315085"/>
                </a:lnTo>
                <a:lnTo>
                  <a:pt x="2174785" y="305434"/>
                </a:lnTo>
                <a:lnTo>
                  <a:pt x="2174467" y="301307"/>
                </a:lnTo>
                <a:lnTo>
                  <a:pt x="2172879" y="297497"/>
                </a:lnTo>
                <a:lnTo>
                  <a:pt x="2171290" y="293687"/>
                </a:lnTo>
                <a:lnTo>
                  <a:pt x="2168430" y="290829"/>
                </a:lnTo>
                <a:lnTo>
                  <a:pt x="2165571" y="288289"/>
                </a:lnTo>
                <a:lnTo>
                  <a:pt x="2162076" y="286067"/>
                </a:lnTo>
                <a:lnTo>
                  <a:pt x="2157945" y="284797"/>
                </a:lnTo>
                <a:lnTo>
                  <a:pt x="2153497" y="284479"/>
                </a:lnTo>
                <a:lnTo>
                  <a:pt x="1414463" y="284479"/>
                </a:lnTo>
                <a:lnTo>
                  <a:pt x="1414463" y="157162"/>
                </a:lnTo>
                <a:close/>
                <a:moveTo>
                  <a:pt x="184374" y="0"/>
                </a:moveTo>
                <a:lnTo>
                  <a:pt x="1076100" y="0"/>
                </a:lnTo>
                <a:lnTo>
                  <a:pt x="1085621" y="317"/>
                </a:lnTo>
                <a:lnTo>
                  <a:pt x="1094824" y="953"/>
                </a:lnTo>
                <a:lnTo>
                  <a:pt x="1104026" y="1905"/>
                </a:lnTo>
                <a:lnTo>
                  <a:pt x="1113229" y="3494"/>
                </a:lnTo>
                <a:lnTo>
                  <a:pt x="1122115" y="5717"/>
                </a:lnTo>
                <a:lnTo>
                  <a:pt x="1131000" y="8258"/>
                </a:lnTo>
                <a:lnTo>
                  <a:pt x="1139568" y="11434"/>
                </a:lnTo>
                <a:lnTo>
                  <a:pt x="1147502" y="14610"/>
                </a:lnTo>
                <a:lnTo>
                  <a:pt x="1156070" y="18421"/>
                </a:lnTo>
                <a:lnTo>
                  <a:pt x="1163686" y="22232"/>
                </a:lnTo>
                <a:lnTo>
                  <a:pt x="1171620" y="26679"/>
                </a:lnTo>
                <a:lnTo>
                  <a:pt x="1178919" y="31443"/>
                </a:lnTo>
                <a:lnTo>
                  <a:pt x="1186217" y="36842"/>
                </a:lnTo>
                <a:lnTo>
                  <a:pt x="1193199" y="42241"/>
                </a:lnTo>
                <a:lnTo>
                  <a:pt x="1199863" y="47640"/>
                </a:lnTo>
                <a:lnTo>
                  <a:pt x="1206210" y="53993"/>
                </a:lnTo>
                <a:lnTo>
                  <a:pt x="1212557" y="60345"/>
                </a:lnTo>
                <a:lnTo>
                  <a:pt x="1218269" y="67014"/>
                </a:lnTo>
                <a:lnTo>
                  <a:pt x="1223981" y="74002"/>
                </a:lnTo>
                <a:lnTo>
                  <a:pt x="1229058" y="81306"/>
                </a:lnTo>
                <a:lnTo>
                  <a:pt x="1233818" y="88611"/>
                </a:lnTo>
                <a:lnTo>
                  <a:pt x="1238261" y="96551"/>
                </a:lnTo>
                <a:lnTo>
                  <a:pt x="1242387" y="104492"/>
                </a:lnTo>
                <a:lnTo>
                  <a:pt x="1245877" y="112749"/>
                </a:lnTo>
                <a:lnTo>
                  <a:pt x="1249368" y="121325"/>
                </a:lnTo>
                <a:lnTo>
                  <a:pt x="1252224" y="129582"/>
                </a:lnTo>
                <a:lnTo>
                  <a:pt x="1254446" y="138475"/>
                </a:lnTo>
                <a:lnTo>
                  <a:pt x="1256667" y="147368"/>
                </a:lnTo>
                <a:lnTo>
                  <a:pt x="1258254" y="156261"/>
                </a:lnTo>
                <a:lnTo>
                  <a:pt x="1259523" y="165472"/>
                </a:lnTo>
                <a:lnTo>
                  <a:pt x="1259840" y="175000"/>
                </a:lnTo>
                <a:lnTo>
                  <a:pt x="1260475" y="184210"/>
                </a:lnTo>
                <a:lnTo>
                  <a:pt x="1260475" y="1651541"/>
                </a:lnTo>
                <a:lnTo>
                  <a:pt x="1259840" y="1667103"/>
                </a:lnTo>
                <a:lnTo>
                  <a:pt x="1259206" y="1682348"/>
                </a:lnTo>
                <a:lnTo>
                  <a:pt x="1257936" y="1696958"/>
                </a:lnTo>
                <a:lnTo>
                  <a:pt x="1255715" y="1711886"/>
                </a:lnTo>
                <a:lnTo>
                  <a:pt x="1252542" y="1725860"/>
                </a:lnTo>
                <a:lnTo>
                  <a:pt x="1249368" y="1739835"/>
                </a:lnTo>
                <a:lnTo>
                  <a:pt x="1245243" y="1753492"/>
                </a:lnTo>
                <a:lnTo>
                  <a:pt x="1240483" y="1766831"/>
                </a:lnTo>
                <a:lnTo>
                  <a:pt x="1235405" y="1779535"/>
                </a:lnTo>
                <a:lnTo>
                  <a:pt x="1229376" y="1792239"/>
                </a:lnTo>
                <a:lnTo>
                  <a:pt x="1222712" y="1804308"/>
                </a:lnTo>
                <a:lnTo>
                  <a:pt x="1215413" y="1816060"/>
                </a:lnTo>
                <a:lnTo>
                  <a:pt x="1207162" y="1827493"/>
                </a:lnTo>
                <a:lnTo>
                  <a:pt x="1198594" y="1838292"/>
                </a:lnTo>
                <a:lnTo>
                  <a:pt x="1189391" y="1848773"/>
                </a:lnTo>
                <a:lnTo>
                  <a:pt x="1179236" y="1858619"/>
                </a:lnTo>
                <a:lnTo>
                  <a:pt x="1168129" y="1868147"/>
                </a:lnTo>
                <a:lnTo>
                  <a:pt x="1156705" y="1877040"/>
                </a:lnTo>
                <a:lnTo>
                  <a:pt x="1144646" y="1885615"/>
                </a:lnTo>
                <a:lnTo>
                  <a:pt x="1131635" y="1893555"/>
                </a:lnTo>
                <a:lnTo>
                  <a:pt x="1117989" y="1900860"/>
                </a:lnTo>
                <a:lnTo>
                  <a:pt x="1103709" y="1907530"/>
                </a:lnTo>
                <a:lnTo>
                  <a:pt x="1088794" y="1913882"/>
                </a:lnTo>
                <a:lnTo>
                  <a:pt x="1072927" y="1919599"/>
                </a:lnTo>
                <a:lnTo>
                  <a:pt x="1056108" y="1924680"/>
                </a:lnTo>
                <a:lnTo>
                  <a:pt x="1038654" y="1929127"/>
                </a:lnTo>
                <a:lnTo>
                  <a:pt x="1020566" y="1932620"/>
                </a:lnTo>
                <a:lnTo>
                  <a:pt x="1001526" y="1936114"/>
                </a:lnTo>
                <a:lnTo>
                  <a:pt x="981851" y="1938337"/>
                </a:lnTo>
                <a:lnTo>
                  <a:pt x="961541" y="1940243"/>
                </a:lnTo>
                <a:lnTo>
                  <a:pt x="940279" y="1941196"/>
                </a:lnTo>
                <a:lnTo>
                  <a:pt x="918065" y="1941513"/>
                </a:lnTo>
                <a:lnTo>
                  <a:pt x="342410" y="1941513"/>
                </a:lnTo>
                <a:lnTo>
                  <a:pt x="321148" y="1941196"/>
                </a:lnTo>
                <a:lnTo>
                  <a:pt x="300839" y="1940243"/>
                </a:lnTo>
                <a:lnTo>
                  <a:pt x="280846" y="1938337"/>
                </a:lnTo>
                <a:lnTo>
                  <a:pt x="261806" y="1936114"/>
                </a:lnTo>
                <a:lnTo>
                  <a:pt x="242765" y="1932938"/>
                </a:lnTo>
                <a:lnTo>
                  <a:pt x="225311" y="1929444"/>
                </a:lnTo>
                <a:lnTo>
                  <a:pt x="208175" y="1924998"/>
                </a:lnTo>
                <a:lnTo>
                  <a:pt x="191673" y="1920234"/>
                </a:lnTo>
                <a:lnTo>
                  <a:pt x="175806" y="1914517"/>
                </a:lnTo>
                <a:lnTo>
                  <a:pt x="160574" y="1908800"/>
                </a:lnTo>
                <a:lnTo>
                  <a:pt x="146294" y="1902130"/>
                </a:lnTo>
                <a:lnTo>
                  <a:pt x="132648" y="1894825"/>
                </a:lnTo>
                <a:lnTo>
                  <a:pt x="119954" y="1886885"/>
                </a:lnTo>
                <a:lnTo>
                  <a:pt x="107261" y="1878628"/>
                </a:lnTo>
                <a:lnTo>
                  <a:pt x="95836" y="1869735"/>
                </a:lnTo>
                <a:lnTo>
                  <a:pt x="84730" y="1860524"/>
                </a:lnTo>
                <a:lnTo>
                  <a:pt x="74575" y="1850361"/>
                </a:lnTo>
                <a:lnTo>
                  <a:pt x="64737" y="1840198"/>
                </a:lnTo>
                <a:lnTo>
                  <a:pt x="55534" y="1829399"/>
                </a:lnTo>
                <a:lnTo>
                  <a:pt x="47601" y="1817965"/>
                </a:lnTo>
                <a:lnTo>
                  <a:pt x="39985" y="1806532"/>
                </a:lnTo>
                <a:lnTo>
                  <a:pt x="32686" y="1794463"/>
                </a:lnTo>
                <a:lnTo>
                  <a:pt x="26656" y="1781758"/>
                </a:lnTo>
                <a:lnTo>
                  <a:pt x="20944" y="1768419"/>
                </a:lnTo>
                <a:lnTo>
                  <a:pt x="16184" y="1755397"/>
                </a:lnTo>
                <a:lnTo>
                  <a:pt x="11741" y="1741740"/>
                </a:lnTo>
                <a:lnTo>
                  <a:pt x="8251" y="1727131"/>
                </a:lnTo>
                <a:lnTo>
                  <a:pt x="5077" y="1712838"/>
                </a:lnTo>
                <a:lnTo>
                  <a:pt x="2856" y="1698229"/>
                </a:lnTo>
                <a:lnTo>
                  <a:pt x="1269" y="1682984"/>
                </a:lnTo>
                <a:lnTo>
                  <a:pt x="317" y="1667421"/>
                </a:lnTo>
                <a:lnTo>
                  <a:pt x="0" y="1651541"/>
                </a:lnTo>
                <a:lnTo>
                  <a:pt x="0" y="184210"/>
                </a:lnTo>
                <a:lnTo>
                  <a:pt x="0" y="175000"/>
                </a:lnTo>
                <a:lnTo>
                  <a:pt x="634" y="165472"/>
                </a:lnTo>
                <a:lnTo>
                  <a:pt x="1904" y="156261"/>
                </a:lnTo>
                <a:lnTo>
                  <a:pt x="3808" y="147368"/>
                </a:lnTo>
                <a:lnTo>
                  <a:pt x="6029" y="138475"/>
                </a:lnTo>
                <a:lnTo>
                  <a:pt x="8251" y="129582"/>
                </a:lnTo>
                <a:lnTo>
                  <a:pt x="11107" y="121325"/>
                </a:lnTo>
                <a:lnTo>
                  <a:pt x="14280" y="112749"/>
                </a:lnTo>
                <a:lnTo>
                  <a:pt x="18088" y="104492"/>
                </a:lnTo>
                <a:lnTo>
                  <a:pt x="22214" y="96551"/>
                </a:lnTo>
                <a:lnTo>
                  <a:pt x="26656" y="88611"/>
                </a:lnTo>
                <a:lnTo>
                  <a:pt x="31416" y="81306"/>
                </a:lnTo>
                <a:lnTo>
                  <a:pt x="36494" y="74002"/>
                </a:lnTo>
                <a:lnTo>
                  <a:pt x="41889" y="67014"/>
                </a:lnTo>
                <a:lnTo>
                  <a:pt x="47918" y="60345"/>
                </a:lnTo>
                <a:lnTo>
                  <a:pt x="53948" y="53993"/>
                </a:lnTo>
                <a:lnTo>
                  <a:pt x="60612" y="47640"/>
                </a:lnTo>
                <a:lnTo>
                  <a:pt x="66959" y="42241"/>
                </a:lnTo>
                <a:lnTo>
                  <a:pt x="74257" y="36842"/>
                </a:lnTo>
                <a:lnTo>
                  <a:pt x="81556" y="31443"/>
                </a:lnTo>
                <a:lnTo>
                  <a:pt x="88855" y="26679"/>
                </a:lnTo>
                <a:lnTo>
                  <a:pt x="96471" y="22232"/>
                </a:lnTo>
                <a:lnTo>
                  <a:pt x="104405" y="18421"/>
                </a:lnTo>
                <a:lnTo>
                  <a:pt x="112338" y="14610"/>
                </a:lnTo>
                <a:lnTo>
                  <a:pt x="120906" y="11434"/>
                </a:lnTo>
                <a:lnTo>
                  <a:pt x="129475" y="8258"/>
                </a:lnTo>
                <a:lnTo>
                  <a:pt x="138360" y="5717"/>
                </a:lnTo>
                <a:lnTo>
                  <a:pt x="146928" y="3494"/>
                </a:lnTo>
                <a:lnTo>
                  <a:pt x="156131" y="1905"/>
                </a:lnTo>
                <a:lnTo>
                  <a:pt x="165651" y="953"/>
                </a:lnTo>
                <a:lnTo>
                  <a:pt x="174854" y="317"/>
                </a:lnTo>
                <a:lnTo>
                  <a:pt x="184374" y="0"/>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3" name="KSO_Shape"/>
          <p:cNvSpPr/>
          <p:nvPr/>
        </p:nvSpPr>
        <p:spPr>
          <a:xfrm>
            <a:off x="8294760" y="2095560"/>
            <a:ext cx="466560" cy="482400"/>
          </a:xfrm>
          <a:custGeom>
            <a:avLst/>
            <a:gdLst/>
            <a:ahLst/>
            <a:rect l="l" t="t" r="r" b="b"/>
            <a:pathLst>
              <a:path w="90" h="93">
                <a:moveTo>
                  <a:pt x="86" y="38"/>
                </a:moveTo>
                <a:cubicBezTo>
                  <a:pt x="88" y="40"/>
                  <a:pt x="90" y="43"/>
                  <a:pt x="90" y="46"/>
                </a:cubicBezTo>
                <a:cubicBezTo>
                  <a:pt x="90" y="83"/>
                  <a:pt x="90" y="83"/>
                  <a:pt x="90" y="83"/>
                </a:cubicBezTo>
                <a:cubicBezTo>
                  <a:pt x="90" y="88"/>
                  <a:pt x="86" y="93"/>
                  <a:pt x="81" y="93"/>
                </a:cubicBezTo>
                <a:cubicBezTo>
                  <a:pt x="9" y="93"/>
                  <a:pt x="9" y="93"/>
                  <a:pt x="9" y="93"/>
                </a:cubicBezTo>
                <a:cubicBezTo>
                  <a:pt x="4" y="93"/>
                  <a:pt x="0" y="88"/>
                  <a:pt x="0" y="83"/>
                </a:cubicBezTo>
                <a:cubicBezTo>
                  <a:pt x="0" y="46"/>
                  <a:pt x="0" y="46"/>
                  <a:pt x="0" y="46"/>
                </a:cubicBezTo>
                <a:cubicBezTo>
                  <a:pt x="0" y="44"/>
                  <a:pt x="1" y="41"/>
                  <a:pt x="2" y="40"/>
                </a:cubicBezTo>
                <a:cubicBezTo>
                  <a:pt x="2" y="40"/>
                  <a:pt x="2" y="40"/>
                  <a:pt x="2" y="40"/>
                </a:cubicBezTo>
                <a:cubicBezTo>
                  <a:pt x="2" y="40"/>
                  <a:pt x="2" y="40"/>
                  <a:pt x="2" y="40"/>
                </a:cubicBezTo>
                <a:cubicBezTo>
                  <a:pt x="2" y="39"/>
                  <a:pt x="2" y="39"/>
                  <a:pt x="3" y="39"/>
                </a:cubicBezTo>
                <a:cubicBezTo>
                  <a:pt x="39" y="3"/>
                  <a:pt x="39" y="3"/>
                  <a:pt x="39" y="3"/>
                </a:cubicBezTo>
                <a:cubicBezTo>
                  <a:pt x="43" y="0"/>
                  <a:pt x="46" y="0"/>
                  <a:pt x="50" y="3"/>
                </a:cubicBezTo>
                <a:cubicBezTo>
                  <a:pt x="86" y="38"/>
                  <a:pt x="86" y="38"/>
                  <a:pt x="86" y="38"/>
                </a:cubicBezTo>
                <a:close/>
                <a:moveTo>
                  <a:pt x="15" y="30"/>
                </a:moveTo>
                <a:cubicBezTo>
                  <a:pt x="15" y="52"/>
                  <a:pt x="15" y="52"/>
                  <a:pt x="15" y="52"/>
                </a:cubicBezTo>
                <a:cubicBezTo>
                  <a:pt x="45" y="75"/>
                  <a:pt x="45" y="75"/>
                  <a:pt x="45" y="75"/>
                </a:cubicBezTo>
                <a:cubicBezTo>
                  <a:pt x="72" y="54"/>
                  <a:pt x="72" y="54"/>
                  <a:pt x="72" y="54"/>
                </a:cubicBezTo>
                <a:cubicBezTo>
                  <a:pt x="72" y="30"/>
                  <a:pt x="72" y="30"/>
                  <a:pt x="72" y="30"/>
                </a:cubicBezTo>
                <a:cubicBezTo>
                  <a:pt x="15" y="30"/>
                  <a:pt x="15" y="30"/>
                  <a:pt x="15" y="30"/>
                </a:cubicBezTo>
                <a:close/>
                <a:moveTo>
                  <a:pt x="25" y="35"/>
                </a:moveTo>
                <a:cubicBezTo>
                  <a:pt x="25" y="39"/>
                  <a:pt x="25" y="39"/>
                  <a:pt x="25" y="39"/>
                </a:cubicBezTo>
                <a:cubicBezTo>
                  <a:pt x="63" y="39"/>
                  <a:pt x="63" y="39"/>
                  <a:pt x="63" y="39"/>
                </a:cubicBezTo>
                <a:cubicBezTo>
                  <a:pt x="63" y="35"/>
                  <a:pt x="63" y="35"/>
                  <a:pt x="63" y="35"/>
                </a:cubicBezTo>
                <a:cubicBezTo>
                  <a:pt x="25" y="35"/>
                  <a:pt x="25" y="35"/>
                  <a:pt x="25" y="35"/>
                </a:cubicBezTo>
                <a:close/>
                <a:moveTo>
                  <a:pt x="25" y="51"/>
                </a:moveTo>
                <a:cubicBezTo>
                  <a:pt x="25" y="55"/>
                  <a:pt x="25" y="55"/>
                  <a:pt x="25" y="55"/>
                </a:cubicBezTo>
                <a:cubicBezTo>
                  <a:pt x="63" y="55"/>
                  <a:pt x="63" y="55"/>
                  <a:pt x="63" y="55"/>
                </a:cubicBezTo>
                <a:cubicBezTo>
                  <a:pt x="63" y="51"/>
                  <a:pt x="63" y="51"/>
                  <a:pt x="63" y="51"/>
                </a:cubicBezTo>
                <a:cubicBezTo>
                  <a:pt x="25" y="51"/>
                  <a:pt x="25" y="51"/>
                  <a:pt x="25" y="51"/>
                </a:cubicBezTo>
                <a:close/>
                <a:moveTo>
                  <a:pt x="25" y="43"/>
                </a:moveTo>
                <a:cubicBezTo>
                  <a:pt x="25" y="47"/>
                  <a:pt x="25" y="47"/>
                  <a:pt x="25" y="47"/>
                </a:cubicBezTo>
                <a:cubicBezTo>
                  <a:pt x="63" y="47"/>
                  <a:pt x="63" y="47"/>
                  <a:pt x="63" y="47"/>
                </a:cubicBezTo>
                <a:cubicBezTo>
                  <a:pt x="63" y="43"/>
                  <a:pt x="63" y="43"/>
                  <a:pt x="63" y="43"/>
                </a:cubicBezTo>
                <a:cubicBezTo>
                  <a:pt x="25" y="43"/>
                  <a:pt x="25" y="43"/>
                  <a:pt x="25" y="43"/>
                </a:cubicBezTo>
                <a:close/>
                <a:moveTo>
                  <a:pt x="10" y="87"/>
                </a:moveTo>
                <a:cubicBezTo>
                  <a:pt x="28" y="69"/>
                  <a:pt x="28" y="69"/>
                  <a:pt x="28" y="69"/>
                </a:cubicBezTo>
                <a:cubicBezTo>
                  <a:pt x="28" y="69"/>
                  <a:pt x="28" y="68"/>
                  <a:pt x="28" y="67"/>
                </a:cubicBezTo>
                <a:cubicBezTo>
                  <a:pt x="27" y="66"/>
                  <a:pt x="26" y="66"/>
                  <a:pt x="25" y="67"/>
                </a:cubicBezTo>
                <a:cubicBezTo>
                  <a:pt x="7" y="84"/>
                  <a:pt x="7" y="84"/>
                  <a:pt x="7" y="84"/>
                </a:cubicBezTo>
                <a:cubicBezTo>
                  <a:pt x="6" y="85"/>
                  <a:pt x="6" y="86"/>
                  <a:pt x="7" y="87"/>
                </a:cubicBezTo>
                <a:cubicBezTo>
                  <a:pt x="8" y="87"/>
                  <a:pt x="9" y="87"/>
                  <a:pt x="10" y="87"/>
                </a:cubicBezTo>
                <a:close/>
                <a:moveTo>
                  <a:pt x="84" y="84"/>
                </a:moveTo>
                <a:cubicBezTo>
                  <a:pt x="66" y="67"/>
                  <a:pt x="66" y="67"/>
                  <a:pt x="66" y="67"/>
                </a:cubicBezTo>
                <a:cubicBezTo>
                  <a:pt x="65" y="66"/>
                  <a:pt x="64" y="66"/>
                  <a:pt x="63" y="67"/>
                </a:cubicBezTo>
                <a:cubicBezTo>
                  <a:pt x="62" y="68"/>
                  <a:pt x="62" y="69"/>
                  <a:pt x="63" y="69"/>
                </a:cubicBezTo>
                <a:cubicBezTo>
                  <a:pt x="81" y="87"/>
                  <a:pt x="81" y="87"/>
                  <a:pt x="81" y="87"/>
                </a:cubicBezTo>
                <a:cubicBezTo>
                  <a:pt x="82" y="87"/>
                  <a:pt x="83" y="87"/>
                  <a:pt x="84" y="87"/>
                </a:cubicBezTo>
                <a:cubicBezTo>
                  <a:pt x="85" y="86"/>
                  <a:pt x="85" y="85"/>
                  <a:pt x="84" y="84"/>
                </a:cubicBez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4" name="KSO_Shape"/>
          <p:cNvSpPr/>
          <p:nvPr/>
        </p:nvSpPr>
        <p:spPr>
          <a:xfrm>
            <a:off x="8294760" y="3252960"/>
            <a:ext cx="504720" cy="542880"/>
          </a:xfrm>
          <a:custGeom>
            <a:avLst/>
            <a:gdLst/>
            <a:ahLst/>
            <a:rect l="l" t="t" r="r" b="b"/>
            <a:pathLst>
              <a:path w="2578" h="2775">
                <a:moveTo>
                  <a:pt x="2578" y="2101"/>
                </a:moveTo>
                <a:cubicBezTo>
                  <a:pt x="2578" y="2473"/>
                  <a:pt x="2277" y="2775"/>
                  <a:pt x="1905" y="2775"/>
                </a:cubicBezTo>
                <a:cubicBezTo>
                  <a:pt x="1533" y="2775"/>
                  <a:pt x="1232" y="2473"/>
                  <a:pt x="1232" y="2101"/>
                </a:cubicBezTo>
                <a:cubicBezTo>
                  <a:pt x="1232" y="1750"/>
                  <a:pt x="1487" y="1462"/>
                  <a:pt x="1830" y="1431"/>
                </a:cubicBezTo>
                <a:cubicBezTo>
                  <a:pt x="1830" y="1278"/>
                  <a:pt x="1830" y="1278"/>
                  <a:pt x="1830" y="1278"/>
                </a:cubicBezTo>
                <a:cubicBezTo>
                  <a:pt x="1727" y="1278"/>
                  <a:pt x="1727" y="1278"/>
                  <a:pt x="1727" y="1278"/>
                </a:cubicBezTo>
                <a:cubicBezTo>
                  <a:pt x="1727" y="1162"/>
                  <a:pt x="1727" y="1162"/>
                  <a:pt x="1727" y="1162"/>
                </a:cubicBezTo>
                <a:cubicBezTo>
                  <a:pt x="2051" y="1162"/>
                  <a:pt x="2051" y="1162"/>
                  <a:pt x="2051" y="1162"/>
                </a:cubicBezTo>
                <a:cubicBezTo>
                  <a:pt x="2051" y="1278"/>
                  <a:pt x="2051" y="1278"/>
                  <a:pt x="2051" y="1278"/>
                </a:cubicBezTo>
                <a:cubicBezTo>
                  <a:pt x="1952" y="1278"/>
                  <a:pt x="1952" y="1278"/>
                  <a:pt x="1952" y="1278"/>
                </a:cubicBezTo>
                <a:cubicBezTo>
                  <a:pt x="1952" y="1431"/>
                  <a:pt x="1952" y="1431"/>
                  <a:pt x="1952" y="1431"/>
                </a:cubicBezTo>
                <a:cubicBezTo>
                  <a:pt x="2081" y="1443"/>
                  <a:pt x="2214" y="1491"/>
                  <a:pt x="2311" y="1565"/>
                </a:cubicBezTo>
                <a:cubicBezTo>
                  <a:pt x="2445" y="1431"/>
                  <a:pt x="2445" y="1431"/>
                  <a:pt x="2445" y="1431"/>
                </a:cubicBezTo>
                <a:cubicBezTo>
                  <a:pt x="2575" y="1561"/>
                  <a:pt x="2575" y="1561"/>
                  <a:pt x="2575" y="1561"/>
                </a:cubicBezTo>
                <a:cubicBezTo>
                  <a:pt x="2441" y="1695"/>
                  <a:pt x="2441" y="1695"/>
                  <a:pt x="2441" y="1695"/>
                </a:cubicBezTo>
                <a:cubicBezTo>
                  <a:pt x="2527" y="1808"/>
                  <a:pt x="2578" y="1949"/>
                  <a:pt x="2578" y="2101"/>
                </a:cubicBezTo>
                <a:close/>
                <a:moveTo>
                  <a:pt x="1905" y="1550"/>
                </a:moveTo>
                <a:cubicBezTo>
                  <a:pt x="1601" y="1550"/>
                  <a:pt x="1354" y="1798"/>
                  <a:pt x="1354" y="2101"/>
                </a:cubicBezTo>
                <a:cubicBezTo>
                  <a:pt x="1354" y="2405"/>
                  <a:pt x="1601" y="2652"/>
                  <a:pt x="1905" y="2652"/>
                </a:cubicBezTo>
                <a:cubicBezTo>
                  <a:pt x="2209" y="2652"/>
                  <a:pt x="2456" y="2405"/>
                  <a:pt x="2456" y="2101"/>
                </a:cubicBezTo>
                <a:cubicBezTo>
                  <a:pt x="2456" y="1798"/>
                  <a:pt x="2209" y="1550"/>
                  <a:pt x="1905" y="1550"/>
                </a:cubicBezTo>
                <a:close/>
                <a:moveTo>
                  <a:pt x="1952" y="2207"/>
                </a:moveTo>
                <a:cubicBezTo>
                  <a:pt x="1952" y="2280"/>
                  <a:pt x="1952" y="2280"/>
                  <a:pt x="1952" y="2280"/>
                </a:cubicBezTo>
                <a:cubicBezTo>
                  <a:pt x="1844" y="2280"/>
                  <a:pt x="1844" y="2280"/>
                  <a:pt x="1844" y="2280"/>
                </a:cubicBezTo>
                <a:cubicBezTo>
                  <a:pt x="1844" y="2207"/>
                  <a:pt x="1844" y="2207"/>
                  <a:pt x="1844" y="2207"/>
                </a:cubicBezTo>
                <a:cubicBezTo>
                  <a:pt x="1807" y="2186"/>
                  <a:pt x="1783" y="2147"/>
                  <a:pt x="1783" y="2101"/>
                </a:cubicBezTo>
                <a:cubicBezTo>
                  <a:pt x="1783" y="2056"/>
                  <a:pt x="1812" y="2017"/>
                  <a:pt x="1848" y="1996"/>
                </a:cubicBezTo>
                <a:cubicBezTo>
                  <a:pt x="1848" y="1724"/>
                  <a:pt x="1848" y="1724"/>
                  <a:pt x="1848" y="1724"/>
                </a:cubicBezTo>
                <a:cubicBezTo>
                  <a:pt x="1952" y="1724"/>
                  <a:pt x="1952" y="1724"/>
                  <a:pt x="1952" y="1724"/>
                </a:cubicBezTo>
                <a:cubicBezTo>
                  <a:pt x="1952" y="1996"/>
                  <a:pt x="1952" y="1996"/>
                  <a:pt x="1952" y="1996"/>
                </a:cubicBezTo>
                <a:cubicBezTo>
                  <a:pt x="1989" y="2017"/>
                  <a:pt x="2027" y="2056"/>
                  <a:pt x="2027" y="2101"/>
                </a:cubicBezTo>
                <a:cubicBezTo>
                  <a:pt x="2027" y="2147"/>
                  <a:pt x="1989" y="2186"/>
                  <a:pt x="1952" y="2207"/>
                </a:cubicBezTo>
                <a:close/>
                <a:moveTo>
                  <a:pt x="416" y="1720"/>
                </a:moveTo>
                <a:cubicBezTo>
                  <a:pt x="1120" y="1720"/>
                  <a:pt x="1120" y="1720"/>
                  <a:pt x="1120" y="1720"/>
                </a:cubicBezTo>
                <a:cubicBezTo>
                  <a:pt x="1094" y="1773"/>
                  <a:pt x="1074" y="1828"/>
                  <a:pt x="1060" y="1886"/>
                </a:cubicBezTo>
                <a:cubicBezTo>
                  <a:pt x="416" y="1886"/>
                  <a:pt x="416" y="1886"/>
                  <a:pt x="416" y="1886"/>
                </a:cubicBezTo>
                <a:cubicBezTo>
                  <a:pt x="370" y="1886"/>
                  <a:pt x="333" y="1849"/>
                  <a:pt x="333" y="1803"/>
                </a:cubicBezTo>
                <a:cubicBezTo>
                  <a:pt x="333" y="1757"/>
                  <a:pt x="370" y="1720"/>
                  <a:pt x="416" y="1720"/>
                </a:cubicBezTo>
                <a:close/>
                <a:moveTo>
                  <a:pt x="1185" y="1609"/>
                </a:moveTo>
                <a:cubicBezTo>
                  <a:pt x="416" y="1609"/>
                  <a:pt x="416" y="1609"/>
                  <a:pt x="416" y="1609"/>
                </a:cubicBezTo>
                <a:cubicBezTo>
                  <a:pt x="370" y="1609"/>
                  <a:pt x="333" y="1572"/>
                  <a:pt x="333" y="1526"/>
                </a:cubicBezTo>
                <a:cubicBezTo>
                  <a:pt x="333" y="1480"/>
                  <a:pt x="370" y="1442"/>
                  <a:pt x="416" y="1442"/>
                </a:cubicBezTo>
                <a:cubicBezTo>
                  <a:pt x="1338" y="1442"/>
                  <a:pt x="1338" y="1442"/>
                  <a:pt x="1338" y="1442"/>
                </a:cubicBezTo>
                <a:cubicBezTo>
                  <a:pt x="1279" y="1491"/>
                  <a:pt x="1228" y="1547"/>
                  <a:pt x="1185" y="1609"/>
                </a:cubicBezTo>
                <a:close/>
                <a:moveTo>
                  <a:pt x="416" y="1054"/>
                </a:moveTo>
                <a:cubicBezTo>
                  <a:pt x="370" y="1054"/>
                  <a:pt x="333" y="1017"/>
                  <a:pt x="333" y="971"/>
                </a:cubicBezTo>
                <a:cubicBezTo>
                  <a:pt x="333" y="925"/>
                  <a:pt x="370" y="888"/>
                  <a:pt x="416" y="888"/>
                </a:cubicBezTo>
                <a:cubicBezTo>
                  <a:pt x="1526" y="888"/>
                  <a:pt x="1526" y="888"/>
                  <a:pt x="1526" y="888"/>
                </a:cubicBezTo>
                <a:cubicBezTo>
                  <a:pt x="1572" y="888"/>
                  <a:pt x="1609" y="925"/>
                  <a:pt x="1609" y="971"/>
                </a:cubicBezTo>
                <a:cubicBezTo>
                  <a:pt x="1609" y="1017"/>
                  <a:pt x="1572" y="1054"/>
                  <a:pt x="1526" y="1054"/>
                </a:cubicBezTo>
                <a:lnTo>
                  <a:pt x="416" y="1054"/>
                </a:lnTo>
                <a:close/>
                <a:moveTo>
                  <a:pt x="416" y="1332"/>
                </a:moveTo>
                <a:cubicBezTo>
                  <a:pt x="370" y="1332"/>
                  <a:pt x="333" y="1294"/>
                  <a:pt x="333" y="1248"/>
                </a:cubicBezTo>
                <a:cubicBezTo>
                  <a:pt x="333" y="1202"/>
                  <a:pt x="370" y="1165"/>
                  <a:pt x="416" y="1165"/>
                </a:cubicBezTo>
                <a:cubicBezTo>
                  <a:pt x="1526" y="1165"/>
                  <a:pt x="1526" y="1165"/>
                  <a:pt x="1526" y="1165"/>
                </a:cubicBezTo>
                <a:cubicBezTo>
                  <a:pt x="1536" y="1165"/>
                  <a:pt x="1545" y="1168"/>
                  <a:pt x="1554" y="1170"/>
                </a:cubicBezTo>
                <a:cubicBezTo>
                  <a:pt x="1554" y="1311"/>
                  <a:pt x="1554" y="1311"/>
                  <a:pt x="1554" y="1311"/>
                </a:cubicBezTo>
                <a:cubicBezTo>
                  <a:pt x="1539" y="1318"/>
                  <a:pt x="1525" y="1324"/>
                  <a:pt x="1510" y="1332"/>
                </a:cubicBezTo>
                <a:lnTo>
                  <a:pt x="416" y="1332"/>
                </a:lnTo>
                <a:close/>
                <a:moveTo>
                  <a:pt x="1776" y="721"/>
                </a:moveTo>
                <a:cubicBezTo>
                  <a:pt x="1776" y="568"/>
                  <a:pt x="1651" y="444"/>
                  <a:pt x="1498" y="444"/>
                </a:cubicBezTo>
                <a:cubicBezTo>
                  <a:pt x="1495" y="444"/>
                  <a:pt x="1495" y="444"/>
                  <a:pt x="1495" y="444"/>
                </a:cubicBezTo>
                <a:cubicBezTo>
                  <a:pt x="1497" y="453"/>
                  <a:pt x="1498" y="462"/>
                  <a:pt x="1498" y="471"/>
                </a:cubicBezTo>
                <a:cubicBezTo>
                  <a:pt x="1498" y="579"/>
                  <a:pt x="1411" y="666"/>
                  <a:pt x="1304" y="666"/>
                </a:cubicBezTo>
                <a:cubicBezTo>
                  <a:pt x="638" y="666"/>
                  <a:pt x="638" y="666"/>
                  <a:pt x="638" y="666"/>
                </a:cubicBezTo>
                <a:cubicBezTo>
                  <a:pt x="531" y="666"/>
                  <a:pt x="444" y="579"/>
                  <a:pt x="444" y="471"/>
                </a:cubicBezTo>
                <a:cubicBezTo>
                  <a:pt x="444" y="462"/>
                  <a:pt x="445" y="453"/>
                  <a:pt x="447" y="444"/>
                </a:cubicBezTo>
                <a:cubicBezTo>
                  <a:pt x="444" y="444"/>
                  <a:pt x="444" y="444"/>
                  <a:pt x="444" y="444"/>
                </a:cubicBezTo>
                <a:cubicBezTo>
                  <a:pt x="291" y="444"/>
                  <a:pt x="166" y="568"/>
                  <a:pt x="166" y="721"/>
                </a:cubicBezTo>
                <a:cubicBezTo>
                  <a:pt x="166" y="2330"/>
                  <a:pt x="166" y="2330"/>
                  <a:pt x="166" y="2330"/>
                </a:cubicBezTo>
                <a:cubicBezTo>
                  <a:pt x="166" y="2483"/>
                  <a:pt x="291" y="2608"/>
                  <a:pt x="444" y="2608"/>
                </a:cubicBezTo>
                <a:cubicBezTo>
                  <a:pt x="1220" y="2608"/>
                  <a:pt x="1220" y="2608"/>
                  <a:pt x="1220" y="2608"/>
                </a:cubicBezTo>
                <a:cubicBezTo>
                  <a:pt x="1271" y="2672"/>
                  <a:pt x="1331" y="2728"/>
                  <a:pt x="1398" y="2774"/>
                </a:cubicBezTo>
                <a:cubicBezTo>
                  <a:pt x="333" y="2774"/>
                  <a:pt x="333" y="2774"/>
                  <a:pt x="333" y="2774"/>
                </a:cubicBezTo>
                <a:cubicBezTo>
                  <a:pt x="180" y="2774"/>
                  <a:pt x="0" y="2650"/>
                  <a:pt x="0" y="2497"/>
                </a:cubicBezTo>
                <a:cubicBezTo>
                  <a:pt x="0" y="610"/>
                  <a:pt x="0" y="610"/>
                  <a:pt x="0" y="610"/>
                </a:cubicBezTo>
                <a:cubicBezTo>
                  <a:pt x="0" y="457"/>
                  <a:pt x="180" y="333"/>
                  <a:pt x="333" y="333"/>
                </a:cubicBezTo>
                <a:cubicBezTo>
                  <a:pt x="502" y="333"/>
                  <a:pt x="502" y="333"/>
                  <a:pt x="502" y="333"/>
                </a:cubicBezTo>
                <a:cubicBezTo>
                  <a:pt x="537" y="298"/>
                  <a:pt x="585" y="277"/>
                  <a:pt x="638" y="277"/>
                </a:cubicBezTo>
                <a:cubicBezTo>
                  <a:pt x="662" y="277"/>
                  <a:pt x="662" y="277"/>
                  <a:pt x="662" y="277"/>
                </a:cubicBezTo>
                <a:cubicBezTo>
                  <a:pt x="678" y="122"/>
                  <a:pt x="808" y="0"/>
                  <a:pt x="968" y="0"/>
                </a:cubicBezTo>
                <a:cubicBezTo>
                  <a:pt x="1127" y="0"/>
                  <a:pt x="1257" y="122"/>
                  <a:pt x="1273" y="277"/>
                </a:cubicBezTo>
                <a:cubicBezTo>
                  <a:pt x="1304" y="277"/>
                  <a:pt x="1304" y="277"/>
                  <a:pt x="1304" y="277"/>
                </a:cubicBezTo>
                <a:cubicBezTo>
                  <a:pt x="1357" y="277"/>
                  <a:pt x="1405" y="298"/>
                  <a:pt x="1440" y="333"/>
                </a:cubicBezTo>
                <a:cubicBezTo>
                  <a:pt x="1609" y="333"/>
                  <a:pt x="1609" y="333"/>
                  <a:pt x="1609" y="333"/>
                </a:cubicBezTo>
                <a:cubicBezTo>
                  <a:pt x="1763" y="333"/>
                  <a:pt x="1942" y="457"/>
                  <a:pt x="1942" y="610"/>
                </a:cubicBezTo>
                <a:cubicBezTo>
                  <a:pt x="1942" y="1109"/>
                  <a:pt x="1942" y="1109"/>
                  <a:pt x="1942" y="1109"/>
                </a:cubicBezTo>
                <a:cubicBezTo>
                  <a:pt x="1776" y="1109"/>
                  <a:pt x="1776" y="1109"/>
                  <a:pt x="1776" y="1109"/>
                </a:cubicBezTo>
                <a:lnTo>
                  <a:pt x="1776" y="721"/>
                </a:lnTo>
                <a:close/>
                <a:moveTo>
                  <a:pt x="968" y="151"/>
                </a:moveTo>
                <a:cubicBezTo>
                  <a:pt x="881" y="151"/>
                  <a:pt x="810" y="222"/>
                  <a:pt x="810" y="308"/>
                </a:cubicBezTo>
                <a:cubicBezTo>
                  <a:pt x="810" y="395"/>
                  <a:pt x="881" y="466"/>
                  <a:pt x="968" y="466"/>
                </a:cubicBezTo>
                <a:cubicBezTo>
                  <a:pt x="1055" y="466"/>
                  <a:pt x="1125" y="395"/>
                  <a:pt x="1125" y="308"/>
                </a:cubicBezTo>
                <a:cubicBezTo>
                  <a:pt x="1125" y="222"/>
                  <a:pt x="1055" y="151"/>
                  <a:pt x="968" y="151"/>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535" name="KSO_Shape"/>
          <p:cNvSpPr/>
          <p:nvPr/>
        </p:nvSpPr>
        <p:spPr>
          <a:xfrm>
            <a:off x="8294760" y="4371840"/>
            <a:ext cx="504720" cy="505080"/>
          </a:xfrm>
          <a:custGeom>
            <a:avLst/>
            <a:gdLst/>
            <a:ahLst/>
            <a:rect l="l" t="t" r="r" b="b"/>
            <a:pathLst>
              <a:path w="3279" h="3279">
                <a:moveTo>
                  <a:pt x="2657" y="3279"/>
                </a:moveTo>
                <a:cubicBezTo>
                  <a:pt x="614" y="3279"/>
                  <a:pt x="614" y="3279"/>
                  <a:pt x="614" y="3279"/>
                </a:cubicBezTo>
                <a:cubicBezTo>
                  <a:pt x="275" y="3279"/>
                  <a:pt x="0" y="2996"/>
                  <a:pt x="0" y="2657"/>
                </a:cubicBezTo>
                <a:cubicBezTo>
                  <a:pt x="0" y="0"/>
                  <a:pt x="0" y="0"/>
                  <a:pt x="0" y="0"/>
                </a:cubicBezTo>
                <a:cubicBezTo>
                  <a:pt x="2429" y="0"/>
                  <a:pt x="2429" y="0"/>
                  <a:pt x="2429" y="0"/>
                </a:cubicBezTo>
                <a:cubicBezTo>
                  <a:pt x="2429" y="196"/>
                  <a:pt x="2429" y="196"/>
                  <a:pt x="2429" y="196"/>
                </a:cubicBezTo>
                <a:cubicBezTo>
                  <a:pt x="2887" y="196"/>
                  <a:pt x="2887" y="196"/>
                  <a:pt x="2887" y="196"/>
                </a:cubicBezTo>
                <a:cubicBezTo>
                  <a:pt x="2887" y="196"/>
                  <a:pt x="2887" y="196"/>
                  <a:pt x="2887" y="196"/>
                </a:cubicBezTo>
                <a:cubicBezTo>
                  <a:pt x="2887" y="392"/>
                  <a:pt x="2887" y="392"/>
                  <a:pt x="2887" y="392"/>
                </a:cubicBezTo>
                <a:cubicBezTo>
                  <a:pt x="3066" y="392"/>
                  <a:pt x="3066" y="392"/>
                  <a:pt x="3066" y="392"/>
                </a:cubicBezTo>
                <a:cubicBezTo>
                  <a:pt x="3279" y="392"/>
                  <a:pt x="3279" y="392"/>
                  <a:pt x="3279" y="392"/>
                </a:cubicBezTo>
                <a:cubicBezTo>
                  <a:pt x="3279" y="2657"/>
                  <a:pt x="3279" y="2657"/>
                  <a:pt x="3279" y="2657"/>
                </a:cubicBezTo>
                <a:cubicBezTo>
                  <a:pt x="3279" y="2996"/>
                  <a:pt x="2996" y="3279"/>
                  <a:pt x="2657" y="3279"/>
                </a:cubicBezTo>
                <a:close/>
                <a:moveTo>
                  <a:pt x="2167" y="261"/>
                </a:moveTo>
                <a:cubicBezTo>
                  <a:pt x="262" y="261"/>
                  <a:pt x="262" y="261"/>
                  <a:pt x="262" y="261"/>
                </a:cubicBezTo>
                <a:cubicBezTo>
                  <a:pt x="262" y="2723"/>
                  <a:pt x="262" y="2723"/>
                  <a:pt x="262" y="2723"/>
                </a:cubicBezTo>
                <a:cubicBezTo>
                  <a:pt x="262" y="2836"/>
                  <a:pt x="370" y="2952"/>
                  <a:pt x="482" y="2952"/>
                </a:cubicBezTo>
                <a:cubicBezTo>
                  <a:pt x="2167" y="2952"/>
                  <a:pt x="2167" y="2952"/>
                  <a:pt x="2167" y="2952"/>
                </a:cubicBezTo>
                <a:lnTo>
                  <a:pt x="2167" y="261"/>
                </a:lnTo>
                <a:close/>
                <a:moveTo>
                  <a:pt x="3075" y="587"/>
                </a:moveTo>
                <a:cubicBezTo>
                  <a:pt x="2887" y="587"/>
                  <a:pt x="2887" y="587"/>
                  <a:pt x="2887" y="587"/>
                </a:cubicBezTo>
                <a:cubicBezTo>
                  <a:pt x="2887" y="2555"/>
                  <a:pt x="2887" y="2555"/>
                  <a:pt x="2887" y="2555"/>
                </a:cubicBezTo>
                <a:cubicBezTo>
                  <a:pt x="2887" y="2611"/>
                  <a:pt x="2816" y="2657"/>
                  <a:pt x="2760" y="2657"/>
                </a:cubicBezTo>
                <a:cubicBezTo>
                  <a:pt x="2703" y="2657"/>
                  <a:pt x="2625" y="2611"/>
                  <a:pt x="2625" y="2555"/>
                </a:cubicBezTo>
                <a:cubicBezTo>
                  <a:pt x="2625" y="392"/>
                  <a:pt x="2625" y="392"/>
                  <a:pt x="2625" y="392"/>
                </a:cubicBezTo>
                <a:cubicBezTo>
                  <a:pt x="2429" y="392"/>
                  <a:pt x="2429" y="392"/>
                  <a:pt x="2429" y="392"/>
                </a:cubicBezTo>
                <a:cubicBezTo>
                  <a:pt x="2429" y="2653"/>
                  <a:pt x="2429" y="2653"/>
                  <a:pt x="2429" y="2653"/>
                </a:cubicBezTo>
                <a:cubicBezTo>
                  <a:pt x="2429" y="2823"/>
                  <a:pt x="2590" y="2960"/>
                  <a:pt x="2760" y="2960"/>
                </a:cubicBezTo>
                <a:cubicBezTo>
                  <a:pt x="2929" y="2960"/>
                  <a:pt x="3075" y="2823"/>
                  <a:pt x="3075" y="2653"/>
                </a:cubicBezTo>
                <a:lnTo>
                  <a:pt x="3075" y="587"/>
                </a:lnTo>
                <a:close/>
                <a:moveTo>
                  <a:pt x="589" y="2428"/>
                </a:moveTo>
                <a:cubicBezTo>
                  <a:pt x="1251" y="2428"/>
                  <a:pt x="1251" y="2428"/>
                  <a:pt x="1251" y="2428"/>
                </a:cubicBezTo>
                <a:cubicBezTo>
                  <a:pt x="1251" y="2624"/>
                  <a:pt x="1251" y="2624"/>
                  <a:pt x="1251" y="2624"/>
                </a:cubicBezTo>
                <a:cubicBezTo>
                  <a:pt x="589" y="2624"/>
                  <a:pt x="589" y="2624"/>
                  <a:pt x="589" y="2624"/>
                </a:cubicBezTo>
                <a:lnTo>
                  <a:pt x="589" y="2428"/>
                </a:lnTo>
                <a:close/>
                <a:moveTo>
                  <a:pt x="589" y="2028"/>
                </a:moveTo>
                <a:cubicBezTo>
                  <a:pt x="1439" y="2028"/>
                  <a:pt x="1439" y="2028"/>
                  <a:pt x="1439" y="2028"/>
                </a:cubicBezTo>
                <a:cubicBezTo>
                  <a:pt x="1439" y="2232"/>
                  <a:pt x="1439" y="2232"/>
                  <a:pt x="1439" y="2232"/>
                </a:cubicBezTo>
                <a:cubicBezTo>
                  <a:pt x="589" y="2232"/>
                  <a:pt x="589" y="2232"/>
                  <a:pt x="589" y="2232"/>
                </a:cubicBezTo>
                <a:lnTo>
                  <a:pt x="589" y="2028"/>
                </a:lnTo>
                <a:close/>
                <a:moveTo>
                  <a:pt x="1840" y="2232"/>
                </a:moveTo>
                <a:cubicBezTo>
                  <a:pt x="1636" y="2232"/>
                  <a:pt x="1636" y="2232"/>
                  <a:pt x="1636" y="2232"/>
                </a:cubicBezTo>
                <a:cubicBezTo>
                  <a:pt x="1636" y="2028"/>
                  <a:pt x="1636" y="2028"/>
                  <a:pt x="1636" y="2028"/>
                </a:cubicBezTo>
                <a:cubicBezTo>
                  <a:pt x="1840" y="2028"/>
                  <a:pt x="1840" y="2028"/>
                  <a:pt x="1840" y="2028"/>
                </a:cubicBezTo>
                <a:lnTo>
                  <a:pt x="1840" y="2232"/>
                </a:lnTo>
                <a:close/>
                <a:moveTo>
                  <a:pt x="1439" y="1635"/>
                </a:moveTo>
                <a:cubicBezTo>
                  <a:pt x="1840" y="1635"/>
                  <a:pt x="1840" y="1635"/>
                  <a:pt x="1840" y="1635"/>
                </a:cubicBezTo>
                <a:cubicBezTo>
                  <a:pt x="1840" y="1840"/>
                  <a:pt x="1840" y="1840"/>
                  <a:pt x="1840" y="1840"/>
                </a:cubicBezTo>
                <a:cubicBezTo>
                  <a:pt x="1439" y="1840"/>
                  <a:pt x="1439" y="1840"/>
                  <a:pt x="1439" y="1840"/>
                </a:cubicBezTo>
                <a:lnTo>
                  <a:pt x="1439" y="1635"/>
                </a:lnTo>
                <a:close/>
                <a:moveTo>
                  <a:pt x="589" y="597"/>
                </a:moveTo>
                <a:cubicBezTo>
                  <a:pt x="1840" y="597"/>
                  <a:pt x="1840" y="597"/>
                  <a:pt x="1840" y="597"/>
                </a:cubicBezTo>
                <a:cubicBezTo>
                  <a:pt x="1840" y="1439"/>
                  <a:pt x="1840" y="1439"/>
                  <a:pt x="1840" y="1439"/>
                </a:cubicBezTo>
                <a:cubicBezTo>
                  <a:pt x="589" y="1439"/>
                  <a:pt x="589" y="1439"/>
                  <a:pt x="589" y="1439"/>
                </a:cubicBezTo>
                <a:lnTo>
                  <a:pt x="589" y="597"/>
                </a:lnTo>
                <a:close/>
                <a:moveTo>
                  <a:pt x="1243" y="1840"/>
                </a:moveTo>
                <a:cubicBezTo>
                  <a:pt x="589" y="1840"/>
                  <a:pt x="589" y="1840"/>
                  <a:pt x="589" y="1840"/>
                </a:cubicBezTo>
                <a:cubicBezTo>
                  <a:pt x="589" y="1635"/>
                  <a:pt x="589" y="1635"/>
                  <a:pt x="589" y="1635"/>
                </a:cubicBezTo>
                <a:cubicBezTo>
                  <a:pt x="1243" y="1635"/>
                  <a:pt x="1243" y="1635"/>
                  <a:pt x="1243" y="1635"/>
                </a:cubicBezTo>
                <a:lnTo>
                  <a:pt x="1243" y="1840"/>
                </a:ln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536" name="椭圆 27"/>
          <p:cNvSpPr/>
          <p:nvPr/>
        </p:nvSpPr>
        <p:spPr>
          <a:xfrm>
            <a:off x="4540320" y="1998720"/>
            <a:ext cx="3128760" cy="3128760"/>
          </a:xfrm>
          <a:prstGeom prst="ellipse">
            <a:avLst/>
          </a:prstGeom>
          <a:noFill/>
          <a:ln w="12600">
            <a:solidFill>
              <a:srgbClr val="4e67c8"/>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椭圆 28"/>
          <p:cNvSpPr/>
          <p:nvPr/>
        </p:nvSpPr>
        <p:spPr>
          <a:xfrm>
            <a:off x="4678200" y="2138400"/>
            <a:ext cx="2851200" cy="284940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KSO_Shape"/>
          <p:cNvSpPr/>
          <p:nvPr/>
        </p:nvSpPr>
        <p:spPr>
          <a:xfrm>
            <a:off x="5595840" y="2712960"/>
            <a:ext cx="1046160" cy="892080"/>
          </a:xfrm>
          <a:custGeom>
            <a:avLst/>
            <a:gdLst/>
            <a:ahLst/>
            <a:rect l="l" t="t" r="r" b="b"/>
            <a:pathLst>
              <a:path w="4999037" h="4260141">
                <a:moveTo>
                  <a:pt x="1900345" y="3557911"/>
                </a:moveTo>
                <a:lnTo>
                  <a:pt x="3097730" y="3557911"/>
                </a:lnTo>
                <a:lnTo>
                  <a:pt x="3102535" y="3590573"/>
                </a:lnTo>
                <a:lnTo>
                  <a:pt x="3107340" y="3623235"/>
                </a:lnTo>
                <a:lnTo>
                  <a:pt x="3113106" y="3656858"/>
                </a:lnTo>
                <a:lnTo>
                  <a:pt x="3119833" y="3691441"/>
                </a:lnTo>
                <a:lnTo>
                  <a:pt x="3126560" y="3717378"/>
                </a:lnTo>
                <a:lnTo>
                  <a:pt x="3134248" y="3744276"/>
                </a:lnTo>
                <a:lnTo>
                  <a:pt x="3140975" y="3769253"/>
                </a:lnTo>
                <a:lnTo>
                  <a:pt x="3148663" y="3795190"/>
                </a:lnTo>
                <a:lnTo>
                  <a:pt x="3158272" y="3821127"/>
                </a:lnTo>
                <a:lnTo>
                  <a:pt x="3166921" y="3846104"/>
                </a:lnTo>
                <a:lnTo>
                  <a:pt x="3177492" y="3871081"/>
                </a:lnTo>
                <a:lnTo>
                  <a:pt x="3189024" y="3895097"/>
                </a:lnTo>
                <a:lnTo>
                  <a:pt x="3200556" y="3919113"/>
                </a:lnTo>
                <a:lnTo>
                  <a:pt x="3213048" y="3941208"/>
                </a:lnTo>
                <a:lnTo>
                  <a:pt x="3226502" y="3964263"/>
                </a:lnTo>
                <a:lnTo>
                  <a:pt x="3240917" y="3984437"/>
                </a:lnTo>
                <a:lnTo>
                  <a:pt x="3256293" y="4004610"/>
                </a:lnTo>
                <a:lnTo>
                  <a:pt x="3271668" y="4024784"/>
                </a:lnTo>
                <a:lnTo>
                  <a:pt x="3288966" y="4042075"/>
                </a:lnTo>
                <a:lnTo>
                  <a:pt x="3306264" y="4058406"/>
                </a:lnTo>
                <a:lnTo>
                  <a:pt x="3318757" y="4069934"/>
                </a:lnTo>
                <a:lnTo>
                  <a:pt x="3331249" y="4079540"/>
                </a:lnTo>
                <a:lnTo>
                  <a:pt x="3344703" y="4089147"/>
                </a:lnTo>
                <a:lnTo>
                  <a:pt x="3358157" y="4097793"/>
                </a:lnTo>
                <a:lnTo>
                  <a:pt x="3372572" y="4106438"/>
                </a:lnTo>
                <a:lnTo>
                  <a:pt x="3386026" y="4114123"/>
                </a:lnTo>
                <a:lnTo>
                  <a:pt x="3402362" y="4121809"/>
                </a:lnTo>
                <a:lnTo>
                  <a:pt x="3417738" y="4127573"/>
                </a:lnTo>
                <a:lnTo>
                  <a:pt x="3433114" y="4133336"/>
                </a:lnTo>
                <a:lnTo>
                  <a:pt x="3450411" y="4138140"/>
                </a:lnTo>
                <a:lnTo>
                  <a:pt x="3467709" y="4142943"/>
                </a:lnTo>
                <a:lnTo>
                  <a:pt x="3485007" y="4145825"/>
                </a:lnTo>
                <a:lnTo>
                  <a:pt x="3504227" y="4148707"/>
                </a:lnTo>
                <a:lnTo>
                  <a:pt x="3523446" y="4151589"/>
                </a:lnTo>
                <a:lnTo>
                  <a:pt x="3543627" y="4152549"/>
                </a:lnTo>
                <a:lnTo>
                  <a:pt x="3564769" y="4152549"/>
                </a:lnTo>
                <a:lnTo>
                  <a:pt x="3564769" y="4260141"/>
                </a:lnTo>
                <a:lnTo>
                  <a:pt x="1434268" y="4260141"/>
                </a:lnTo>
                <a:lnTo>
                  <a:pt x="1434268" y="4152549"/>
                </a:lnTo>
                <a:lnTo>
                  <a:pt x="1455409" y="4152549"/>
                </a:lnTo>
                <a:lnTo>
                  <a:pt x="1474629" y="4151589"/>
                </a:lnTo>
                <a:lnTo>
                  <a:pt x="1493849" y="4148707"/>
                </a:lnTo>
                <a:lnTo>
                  <a:pt x="1513068" y="4145825"/>
                </a:lnTo>
                <a:lnTo>
                  <a:pt x="1530366" y="4142943"/>
                </a:lnTo>
                <a:lnTo>
                  <a:pt x="1547664" y="4138140"/>
                </a:lnTo>
                <a:lnTo>
                  <a:pt x="1564962" y="4133336"/>
                </a:lnTo>
                <a:lnTo>
                  <a:pt x="1581298" y="4127573"/>
                </a:lnTo>
                <a:lnTo>
                  <a:pt x="1596674" y="4121809"/>
                </a:lnTo>
                <a:lnTo>
                  <a:pt x="1612050" y="4114123"/>
                </a:lnTo>
                <a:lnTo>
                  <a:pt x="1626465" y="4106438"/>
                </a:lnTo>
                <a:lnTo>
                  <a:pt x="1639918" y="4097793"/>
                </a:lnTo>
                <a:lnTo>
                  <a:pt x="1653372" y="4089147"/>
                </a:lnTo>
                <a:lnTo>
                  <a:pt x="1666826" y="4079540"/>
                </a:lnTo>
                <a:lnTo>
                  <a:pt x="1679319" y="4069934"/>
                </a:lnTo>
                <a:lnTo>
                  <a:pt x="1691811" y="4058406"/>
                </a:lnTo>
                <a:lnTo>
                  <a:pt x="1703343" y="4047839"/>
                </a:lnTo>
                <a:lnTo>
                  <a:pt x="1715836" y="4036311"/>
                </a:lnTo>
                <a:lnTo>
                  <a:pt x="1726407" y="4024784"/>
                </a:lnTo>
                <a:lnTo>
                  <a:pt x="1736978" y="4012295"/>
                </a:lnTo>
                <a:lnTo>
                  <a:pt x="1757158" y="3985397"/>
                </a:lnTo>
                <a:lnTo>
                  <a:pt x="1776378" y="3956578"/>
                </a:lnTo>
                <a:lnTo>
                  <a:pt x="1793676" y="3926798"/>
                </a:lnTo>
                <a:lnTo>
                  <a:pt x="1809052" y="3895097"/>
                </a:lnTo>
                <a:lnTo>
                  <a:pt x="1824427" y="3863396"/>
                </a:lnTo>
                <a:lnTo>
                  <a:pt x="1837881" y="3829773"/>
                </a:lnTo>
                <a:lnTo>
                  <a:pt x="1849413" y="3795190"/>
                </a:lnTo>
                <a:lnTo>
                  <a:pt x="1859984" y="3761568"/>
                </a:lnTo>
                <a:lnTo>
                  <a:pt x="1868632" y="3726984"/>
                </a:lnTo>
                <a:lnTo>
                  <a:pt x="1878242" y="3692401"/>
                </a:lnTo>
                <a:lnTo>
                  <a:pt x="1884969" y="3657818"/>
                </a:lnTo>
                <a:lnTo>
                  <a:pt x="1890735" y="3623235"/>
                </a:lnTo>
                <a:lnTo>
                  <a:pt x="1896501" y="3590573"/>
                </a:lnTo>
                <a:lnTo>
                  <a:pt x="1900345" y="3557911"/>
                </a:lnTo>
                <a:close/>
                <a:moveTo>
                  <a:pt x="344993" y="345832"/>
                </a:moveTo>
                <a:lnTo>
                  <a:pt x="344993" y="3036592"/>
                </a:lnTo>
                <a:lnTo>
                  <a:pt x="4655005" y="3036592"/>
                </a:lnTo>
                <a:lnTo>
                  <a:pt x="4655005" y="345832"/>
                </a:lnTo>
                <a:lnTo>
                  <a:pt x="344993" y="345832"/>
                </a:lnTo>
                <a:close/>
                <a:moveTo>
                  <a:pt x="142226" y="0"/>
                </a:moveTo>
                <a:lnTo>
                  <a:pt x="4857773" y="0"/>
                </a:lnTo>
                <a:lnTo>
                  <a:pt x="4872187" y="961"/>
                </a:lnTo>
                <a:lnTo>
                  <a:pt x="4885641" y="2882"/>
                </a:lnTo>
                <a:lnTo>
                  <a:pt x="4899095" y="6725"/>
                </a:lnTo>
                <a:lnTo>
                  <a:pt x="4913510" y="10567"/>
                </a:lnTo>
                <a:lnTo>
                  <a:pt x="4925042" y="17292"/>
                </a:lnTo>
                <a:lnTo>
                  <a:pt x="4936573" y="24016"/>
                </a:lnTo>
                <a:lnTo>
                  <a:pt x="4947144" y="32662"/>
                </a:lnTo>
                <a:lnTo>
                  <a:pt x="4957715" y="42268"/>
                </a:lnTo>
                <a:lnTo>
                  <a:pt x="4967325" y="51875"/>
                </a:lnTo>
                <a:lnTo>
                  <a:pt x="4975974" y="62442"/>
                </a:lnTo>
                <a:lnTo>
                  <a:pt x="4982701" y="73970"/>
                </a:lnTo>
                <a:lnTo>
                  <a:pt x="4988466" y="87419"/>
                </a:lnTo>
                <a:lnTo>
                  <a:pt x="4993271" y="99907"/>
                </a:lnTo>
                <a:lnTo>
                  <a:pt x="4996154" y="113356"/>
                </a:lnTo>
                <a:lnTo>
                  <a:pt x="4999037" y="127766"/>
                </a:lnTo>
                <a:lnTo>
                  <a:pt x="4999037" y="142175"/>
                </a:lnTo>
                <a:lnTo>
                  <a:pt x="4999037" y="3238327"/>
                </a:lnTo>
                <a:lnTo>
                  <a:pt x="4999037" y="3253697"/>
                </a:lnTo>
                <a:lnTo>
                  <a:pt x="4996154" y="3268106"/>
                </a:lnTo>
                <a:lnTo>
                  <a:pt x="4993271" y="3281555"/>
                </a:lnTo>
                <a:lnTo>
                  <a:pt x="4988466" y="3295004"/>
                </a:lnTo>
                <a:lnTo>
                  <a:pt x="4982701" y="3307493"/>
                </a:lnTo>
                <a:lnTo>
                  <a:pt x="4975974" y="3319021"/>
                </a:lnTo>
                <a:lnTo>
                  <a:pt x="4967325" y="3329588"/>
                </a:lnTo>
                <a:lnTo>
                  <a:pt x="4957715" y="3339194"/>
                </a:lnTo>
                <a:lnTo>
                  <a:pt x="4947144" y="3349761"/>
                </a:lnTo>
                <a:lnTo>
                  <a:pt x="4936573" y="3357446"/>
                </a:lnTo>
                <a:lnTo>
                  <a:pt x="4925042" y="3364171"/>
                </a:lnTo>
                <a:lnTo>
                  <a:pt x="4913510" y="3369935"/>
                </a:lnTo>
                <a:lnTo>
                  <a:pt x="4899095" y="3374738"/>
                </a:lnTo>
                <a:lnTo>
                  <a:pt x="4885641" y="3378580"/>
                </a:lnTo>
                <a:lnTo>
                  <a:pt x="4872187" y="3380502"/>
                </a:lnTo>
                <a:lnTo>
                  <a:pt x="4857773" y="3381462"/>
                </a:lnTo>
                <a:lnTo>
                  <a:pt x="142226" y="3381462"/>
                </a:lnTo>
                <a:lnTo>
                  <a:pt x="127811" y="3380502"/>
                </a:lnTo>
                <a:lnTo>
                  <a:pt x="113396" y="3378580"/>
                </a:lnTo>
                <a:lnTo>
                  <a:pt x="99942" y="3374738"/>
                </a:lnTo>
                <a:lnTo>
                  <a:pt x="86489" y="3369935"/>
                </a:lnTo>
                <a:lnTo>
                  <a:pt x="73996" y="3364171"/>
                </a:lnTo>
                <a:lnTo>
                  <a:pt x="62464" y="3357446"/>
                </a:lnTo>
                <a:lnTo>
                  <a:pt x="51893" y="3349761"/>
                </a:lnTo>
                <a:lnTo>
                  <a:pt x="42283" y="3339194"/>
                </a:lnTo>
                <a:lnTo>
                  <a:pt x="31713" y="3329588"/>
                </a:lnTo>
                <a:lnTo>
                  <a:pt x="24025" y="3319021"/>
                </a:lnTo>
                <a:lnTo>
                  <a:pt x="17298" y="3307493"/>
                </a:lnTo>
                <a:lnTo>
                  <a:pt x="11532" y="3295004"/>
                </a:lnTo>
                <a:lnTo>
                  <a:pt x="6727" y="3281555"/>
                </a:lnTo>
                <a:lnTo>
                  <a:pt x="2883" y="3268106"/>
                </a:lnTo>
                <a:lnTo>
                  <a:pt x="961" y="3253697"/>
                </a:lnTo>
                <a:lnTo>
                  <a:pt x="0" y="3238327"/>
                </a:lnTo>
                <a:lnTo>
                  <a:pt x="0" y="142175"/>
                </a:lnTo>
                <a:lnTo>
                  <a:pt x="961" y="127766"/>
                </a:lnTo>
                <a:lnTo>
                  <a:pt x="2883" y="113356"/>
                </a:lnTo>
                <a:lnTo>
                  <a:pt x="6727" y="99907"/>
                </a:lnTo>
                <a:lnTo>
                  <a:pt x="11532" y="87419"/>
                </a:lnTo>
                <a:lnTo>
                  <a:pt x="17298" y="73970"/>
                </a:lnTo>
                <a:lnTo>
                  <a:pt x="24025" y="62442"/>
                </a:lnTo>
                <a:lnTo>
                  <a:pt x="31713" y="51875"/>
                </a:lnTo>
                <a:lnTo>
                  <a:pt x="42283" y="42268"/>
                </a:lnTo>
                <a:lnTo>
                  <a:pt x="51893" y="32662"/>
                </a:lnTo>
                <a:lnTo>
                  <a:pt x="62464" y="24016"/>
                </a:lnTo>
                <a:lnTo>
                  <a:pt x="73996" y="17292"/>
                </a:lnTo>
                <a:lnTo>
                  <a:pt x="86489" y="10567"/>
                </a:lnTo>
                <a:lnTo>
                  <a:pt x="99942" y="6725"/>
                </a:lnTo>
                <a:lnTo>
                  <a:pt x="113396" y="2882"/>
                </a:lnTo>
                <a:lnTo>
                  <a:pt x="127811" y="961"/>
                </a:lnTo>
                <a:lnTo>
                  <a:pt x="142226" y="0"/>
                </a:lnTo>
                <a:close/>
              </a:path>
            </a:pathLst>
          </a:custGeom>
          <a:solidFill>
            <a:srgbClr val="ffffff"/>
          </a:solidFill>
          <a:ln w="0">
            <a:noFill/>
          </a:ln>
        </p:spPr>
        <p:style>
          <a:lnRef idx="0"/>
          <a:fillRef idx="0"/>
          <a:effectRef idx="0"/>
          <a:fontRef idx="minor"/>
        </p:style>
        <p:txBody>
          <a:bodyPr lIns="90000" rIns="90000" tIns="46800" bIns="396000" anchor="ctr">
            <a:noAutofit/>
          </a:bodyPr>
          <a:p>
            <a:endParaRPr b="0" lang="en-US" sz="1800" spc="-1" strike="noStrike">
              <a:solidFill>
                <a:srgbClr val="000000"/>
              </a:solidFill>
              <a:latin typeface="Arial"/>
            </a:endParaRPr>
          </a:p>
        </p:txBody>
      </p:sp>
      <p:sp>
        <p:nvSpPr>
          <p:cNvPr id="539" name="文本框 30"/>
          <p:cNvSpPr/>
          <p:nvPr/>
        </p:nvSpPr>
        <p:spPr>
          <a:xfrm>
            <a:off x="5406120" y="3897360"/>
            <a:ext cx="14000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请在这里添加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0" name="图片 6" descr=""/>
          <p:cNvPicPr/>
          <p:nvPr/>
        </p:nvPicPr>
        <p:blipFill>
          <a:blip r:embed="rId1"/>
          <a:stretch/>
        </p:blipFill>
        <p:spPr>
          <a:xfrm>
            <a:off x="6326280" y="5200560"/>
            <a:ext cx="5865840" cy="1657440"/>
          </a:xfrm>
          <a:prstGeom prst="rect">
            <a:avLst/>
          </a:prstGeom>
          <a:ln w="0">
            <a:noFill/>
          </a:ln>
        </p:spPr>
      </p:pic>
      <p:sp>
        <p:nvSpPr>
          <p:cNvPr id="541" name="任意多边形 47"/>
          <p:cNvSpPr/>
          <p:nvPr/>
        </p:nvSpPr>
        <p:spPr>
          <a:xfrm rot="5400000">
            <a:off x="1882800" y="-1425600"/>
            <a:ext cx="914400" cy="4680000"/>
          </a:xfrm>
          <a:custGeom>
            <a:avLst/>
            <a:gdLst/>
            <a:ahLst/>
            <a:rect l="l" t="t" r="r" b="b"/>
            <a:pathLst>
              <a:path w="990604" h="5956738">
                <a:moveTo>
                  <a:pt x="0" y="5956738"/>
                </a:moveTo>
                <a:lnTo>
                  <a:pt x="0" y="317938"/>
                </a:lnTo>
                <a:lnTo>
                  <a:pt x="6" y="317938"/>
                </a:lnTo>
                <a:lnTo>
                  <a:pt x="495305" y="0"/>
                </a:lnTo>
                <a:lnTo>
                  <a:pt x="990604" y="317938"/>
                </a:lnTo>
                <a:lnTo>
                  <a:pt x="990601" y="317938"/>
                </a:lnTo>
                <a:lnTo>
                  <a:pt x="990601" y="5956738"/>
                </a:lnTo>
                <a:lnTo>
                  <a:pt x="0" y="5956738"/>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2" name="椭圆 9"/>
          <p:cNvSpPr/>
          <p:nvPr/>
        </p:nvSpPr>
        <p:spPr>
          <a:xfrm>
            <a:off x="324000" y="247680"/>
            <a:ext cx="1333440" cy="1333440"/>
          </a:xfrm>
          <a:prstGeom prst="ellipse">
            <a:avLst/>
          </a:prstGeom>
          <a:solidFill>
            <a:srgbClr val="ffffff"/>
          </a:solidFill>
          <a:ln w="3816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3" name="组合 61" descr=""/>
          <p:cNvPicPr/>
          <p:nvPr/>
        </p:nvPicPr>
        <p:blipFill>
          <a:blip r:embed="rId2"/>
          <a:stretch/>
        </p:blipFill>
        <p:spPr>
          <a:xfrm>
            <a:off x="476280" y="573120"/>
            <a:ext cx="1028520" cy="682560"/>
          </a:xfrm>
          <a:prstGeom prst="rect">
            <a:avLst/>
          </a:prstGeom>
          <a:ln w="0">
            <a:noFill/>
          </a:ln>
        </p:spPr>
      </p:pic>
      <p:sp>
        <p:nvSpPr>
          <p:cNvPr id="544" name="文本框 62"/>
          <p:cNvSpPr/>
          <p:nvPr/>
        </p:nvSpPr>
        <p:spPr>
          <a:xfrm>
            <a:off x="3653640" y="2633760"/>
            <a:ext cx="58636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4b649f"/>
                </a:solidFill>
                <a:latin typeface="Arial"/>
              </a:rPr>
              <a:t>展示完毕  感谢您的聆听 </a:t>
            </a:r>
            <a:endParaRPr b="0" lang="en-US" sz="6600" spc="-1" strike="noStrike">
              <a:solidFill>
                <a:srgbClr val="000000"/>
              </a:solidFill>
              <a:latin typeface="Arial"/>
            </a:endParaRPr>
          </a:p>
        </p:txBody>
      </p:sp>
      <p:grpSp>
        <p:nvGrpSpPr>
          <p:cNvPr id="545" name="组合 1026"/>
          <p:cNvGrpSpPr/>
          <p:nvPr/>
        </p:nvGrpSpPr>
        <p:grpSpPr>
          <a:xfrm>
            <a:off x="2095560" y="3898800"/>
            <a:ext cx="315720" cy="317520"/>
            <a:chOff x="2095560" y="3898800"/>
            <a:chExt cx="315720" cy="317520"/>
          </a:xfrm>
        </p:grpSpPr>
        <p:sp>
          <p:nvSpPr>
            <p:cNvPr id="546" name="椭圆 1023"/>
            <p:cNvSpPr/>
            <p:nvPr/>
          </p:nvSpPr>
          <p:spPr>
            <a:xfrm>
              <a:off x="2095560" y="3898800"/>
              <a:ext cx="315720" cy="31752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KSO_Shape"/>
            <p:cNvSpPr/>
            <p:nvPr/>
          </p:nvSpPr>
          <p:spPr>
            <a:xfrm>
              <a:off x="2170080" y="3951000"/>
              <a:ext cx="166680" cy="212760"/>
            </a:xfrm>
            <a:custGeom>
              <a:avLst/>
              <a:gdLst/>
              <a:ahLst/>
              <a:rect l="l" t="t" r="r" b="b"/>
              <a:pathLst>
                <a:path w="5367" h="6897">
                  <a:moveTo>
                    <a:pt x="2684" y="3025"/>
                  </a:moveTo>
                  <a:lnTo>
                    <a:pt x="2684" y="3025"/>
                  </a:lnTo>
                  <a:lnTo>
                    <a:pt x="2615" y="3026"/>
                  </a:lnTo>
                  <a:lnTo>
                    <a:pt x="2545" y="3029"/>
                  </a:lnTo>
                  <a:lnTo>
                    <a:pt x="2478" y="3035"/>
                  </a:lnTo>
                  <a:lnTo>
                    <a:pt x="2409" y="3043"/>
                  </a:lnTo>
                  <a:lnTo>
                    <a:pt x="2342" y="3054"/>
                  </a:lnTo>
                  <a:lnTo>
                    <a:pt x="2275" y="3066"/>
                  </a:lnTo>
                  <a:lnTo>
                    <a:pt x="2209" y="3081"/>
                  </a:lnTo>
                  <a:lnTo>
                    <a:pt x="2143" y="3099"/>
                  </a:lnTo>
                  <a:lnTo>
                    <a:pt x="2077" y="3118"/>
                  </a:lnTo>
                  <a:lnTo>
                    <a:pt x="2013" y="3140"/>
                  </a:lnTo>
                  <a:lnTo>
                    <a:pt x="1949" y="3163"/>
                  </a:lnTo>
                  <a:lnTo>
                    <a:pt x="1886" y="3189"/>
                  </a:lnTo>
                  <a:lnTo>
                    <a:pt x="1823" y="3217"/>
                  </a:lnTo>
                  <a:lnTo>
                    <a:pt x="1761" y="3247"/>
                  </a:lnTo>
                  <a:lnTo>
                    <a:pt x="1700" y="3279"/>
                  </a:lnTo>
                  <a:lnTo>
                    <a:pt x="1639" y="3313"/>
                  </a:lnTo>
                  <a:lnTo>
                    <a:pt x="1579" y="3349"/>
                  </a:lnTo>
                  <a:lnTo>
                    <a:pt x="1521" y="3386"/>
                  </a:lnTo>
                  <a:lnTo>
                    <a:pt x="1462" y="3426"/>
                  </a:lnTo>
                  <a:lnTo>
                    <a:pt x="1405" y="3468"/>
                  </a:lnTo>
                  <a:lnTo>
                    <a:pt x="1348" y="3511"/>
                  </a:lnTo>
                  <a:lnTo>
                    <a:pt x="1293" y="3556"/>
                  </a:lnTo>
                  <a:lnTo>
                    <a:pt x="1237" y="3603"/>
                  </a:lnTo>
                  <a:lnTo>
                    <a:pt x="1183" y="3651"/>
                  </a:lnTo>
                  <a:lnTo>
                    <a:pt x="1131" y="3702"/>
                  </a:lnTo>
                  <a:lnTo>
                    <a:pt x="1078" y="3753"/>
                  </a:lnTo>
                  <a:lnTo>
                    <a:pt x="1027" y="3807"/>
                  </a:lnTo>
                  <a:lnTo>
                    <a:pt x="976" y="3863"/>
                  </a:lnTo>
                  <a:lnTo>
                    <a:pt x="927" y="3920"/>
                  </a:lnTo>
                  <a:lnTo>
                    <a:pt x="880" y="3978"/>
                  </a:lnTo>
                  <a:lnTo>
                    <a:pt x="833" y="4038"/>
                  </a:lnTo>
                  <a:lnTo>
                    <a:pt x="786" y="4100"/>
                  </a:lnTo>
                  <a:lnTo>
                    <a:pt x="741" y="4163"/>
                  </a:lnTo>
                  <a:lnTo>
                    <a:pt x="698" y="4227"/>
                  </a:lnTo>
                  <a:lnTo>
                    <a:pt x="655" y="4293"/>
                  </a:lnTo>
                  <a:lnTo>
                    <a:pt x="613" y="4361"/>
                  </a:lnTo>
                  <a:lnTo>
                    <a:pt x="573" y="4429"/>
                  </a:lnTo>
                  <a:lnTo>
                    <a:pt x="533" y="4499"/>
                  </a:lnTo>
                  <a:lnTo>
                    <a:pt x="495" y="4570"/>
                  </a:lnTo>
                  <a:lnTo>
                    <a:pt x="458" y="4643"/>
                  </a:lnTo>
                  <a:lnTo>
                    <a:pt x="423" y="4717"/>
                  </a:lnTo>
                  <a:lnTo>
                    <a:pt x="388" y="4791"/>
                  </a:lnTo>
                  <a:lnTo>
                    <a:pt x="356" y="4868"/>
                  </a:lnTo>
                  <a:lnTo>
                    <a:pt x="324" y="4945"/>
                  </a:lnTo>
                  <a:lnTo>
                    <a:pt x="294" y="5024"/>
                  </a:lnTo>
                  <a:lnTo>
                    <a:pt x="265" y="5104"/>
                  </a:lnTo>
                  <a:lnTo>
                    <a:pt x="238" y="5185"/>
                  </a:lnTo>
                  <a:lnTo>
                    <a:pt x="211" y="5266"/>
                  </a:lnTo>
                  <a:lnTo>
                    <a:pt x="186" y="5349"/>
                  </a:lnTo>
                  <a:lnTo>
                    <a:pt x="163" y="5433"/>
                  </a:lnTo>
                  <a:lnTo>
                    <a:pt x="141" y="5518"/>
                  </a:lnTo>
                  <a:lnTo>
                    <a:pt x="121" y="5603"/>
                  </a:lnTo>
                  <a:lnTo>
                    <a:pt x="102" y="5690"/>
                  </a:lnTo>
                  <a:lnTo>
                    <a:pt x="85" y="5777"/>
                  </a:lnTo>
                  <a:lnTo>
                    <a:pt x="69" y="5866"/>
                  </a:lnTo>
                  <a:lnTo>
                    <a:pt x="54" y="5955"/>
                  </a:lnTo>
                  <a:lnTo>
                    <a:pt x="42" y="6045"/>
                  </a:lnTo>
                  <a:lnTo>
                    <a:pt x="31" y="6136"/>
                  </a:lnTo>
                  <a:lnTo>
                    <a:pt x="22" y="6227"/>
                  </a:lnTo>
                  <a:lnTo>
                    <a:pt x="14" y="6319"/>
                  </a:lnTo>
                  <a:lnTo>
                    <a:pt x="8" y="6413"/>
                  </a:lnTo>
                  <a:lnTo>
                    <a:pt x="4" y="6506"/>
                  </a:lnTo>
                  <a:lnTo>
                    <a:pt x="1" y="6600"/>
                  </a:lnTo>
                  <a:lnTo>
                    <a:pt x="0" y="6695"/>
                  </a:lnTo>
                  <a:lnTo>
                    <a:pt x="1" y="6796"/>
                  </a:lnTo>
                  <a:lnTo>
                    <a:pt x="5" y="6897"/>
                  </a:lnTo>
                  <a:lnTo>
                    <a:pt x="5364" y="6897"/>
                  </a:lnTo>
                  <a:lnTo>
                    <a:pt x="5366" y="6796"/>
                  </a:lnTo>
                  <a:lnTo>
                    <a:pt x="5367" y="6695"/>
                  </a:lnTo>
                  <a:lnTo>
                    <a:pt x="5367" y="6600"/>
                  </a:lnTo>
                  <a:lnTo>
                    <a:pt x="5364" y="6506"/>
                  </a:lnTo>
                  <a:lnTo>
                    <a:pt x="5359" y="6413"/>
                  </a:lnTo>
                  <a:lnTo>
                    <a:pt x="5353" y="6319"/>
                  </a:lnTo>
                  <a:lnTo>
                    <a:pt x="5346" y="6227"/>
                  </a:lnTo>
                  <a:lnTo>
                    <a:pt x="5337" y="6136"/>
                  </a:lnTo>
                  <a:lnTo>
                    <a:pt x="5325" y="6045"/>
                  </a:lnTo>
                  <a:lnTo>
                    <a:pt x="5313" y="5955"/>
                  </a:lnTo>
                  <a:lnTo>
                    <a:pt x="5298" y="5866"/>
                  </a:lnTo>
                  <a:lnTo>
                    <a:pt x="5283" y="5777"/>
                  </a:lnTo>
                  <a:lnTo>
                    <a:pt x="5266" y="5690"/>
                  </a:lnTo>
                  <a:lnTo>
                    <a:pt x="5247" y="5603"/>
                  </a:lnTo>
                  <a:lnTo>
                    <a:pt x="5226" y="5518"/>
                  </a:lnTo>
                  <a:lnTo>
                    <a:pt x="5205" y="5433"/>
                  </a:lnTo>
                  <a:lnTo>
                    <a:pt x="5181" y="5349"/>
                  </a:lnTo>
                  <a:lnTo>
                    <a:pt x="5157" y="5266"/>
                  </a:lnTo>
                  <a:lnTo>
                    <a:pt x="5131" y="5185"/>
                  </a:lnTo>
                  <a:lnTo>
                    <a:pt x="5103" y="5104"/>
                  </a:lnTo>
                  <a:lnTo>
                    <a:pt x="5073" y="5024"/>
                  </a:lnTo>
                  <a:lnTo>
                    <a:pt x="5043" y="4945"/>
                  </a:lnTo>
                  <a:lnTo>
                    <a:pt x="5012" y="4868"/>
                  </a:lnTo>
                  <a:lnTo>
                    <a:pt x="4979" y="4791"/>
                  </a:lnTo>
                  <a:lnTo>
                    <a:pt x="4945" y="4717"/>
                  </a:lnTo>
                  <a:lnTo>
                    <a:pt x="4909" y="4643"/>
                  </a:lnTo>
                  <a:lnTo>
                    <a:pt x="4872" y="4570"/>
                  </a:lnTo>
                  <a:lnTo>
                    <a:pt x="4834" y="4499"/>
                  </a:lnTo>
                  <a:lnTo>
                    <a:pt x="4796" y="4429"/>
                  </a:lnTo>
                  <a:lnTo>
                    <a:pt x="4755" y="4361"/>
                  </a:lnTo>
                  <a:lnTo>
                    <a:pt x="4713" y="4293"/>
                  </a:lnTo>
                  <a:lnTo>
                    <a:pt x="4671" y="4227"/>
                  </a:lnTo>
                  <a:lnTo>
                    <a:pt x="4627" y="4163"/>
                  </a:lnTo>
                  <a:lnTo>
                    <a:pt x="4582" y="4100"/>
                  </a:lnTo>
                  <a:lnTo>
                    <a:pt x="4536" y="4038"/>
                  </a:lnTo>
                  <a:lnTo>
                    <a:pt x="4489" y="3978"/>
                  </a:lnTo>
                  <a:lnTo>
                    <a:pt x="4440" y="3920"/>
                  </a:lnTo>
                  <a:lnTo>
                    <a:pt x="4391" y="3863"/>
                  </a:lnTo>
                  <a:lnTo>
                    <a:pt x="4340" y="3807"/>
                  </a:lnTo>
                  <a:lnTo>
                    <a:pt x="4290" y="3753"/>
                  </a:lnTo>
                  <a:lnTo>
                    <a:pt x="4238" y="3702"/>
                  </a:lnTo>
                  <a:lnTo>
                    <a:pt x="4184" y="3651"/>
                  </a:lnTo>
                  <a:lnTo>
                    <a:pt x="4130" y="3603"/>
                  </a:lnTo>
                  <a:lnTo>
                    <a:pt x="4076" y="3556"/>
                  </a:lnTo>
                  <a:lnTo>
                    <a:pt x="4020" y="3511"/>
                  </a:lnTo>
                  <a:lnTo>
                    <a:pt x="3963" y="3468"/>
                  </a:lnTo>
                  <a:lnTo>
                    <a:pt x="3906" y="3426"/>
                  </a:lnTo>
                  <a:lnTo>
                    <a:pt x="3848" y="3386"/>
                  </a:lnTo>
                  <a:lnTo>
                    <a:pt x="3788" y="3349"/>
                  </a:lnTo>
                  <a:lnTo>
                    <a:pt x="3728" y="3313"/>
                  </a:lnTo>
                  <a:lnTo>
                    <a:pt x="3668" y="3279"/>
                  </a:lnTo>
                  <a:lnTo>
                    <a:pt x="3607" y="3247"/>
                  </a:lnTo>
                  <a:lnTo>
                    <a:pt x="3545" y="3217"/>
                  </a:lnTo>
                  <a:lnTo>
                    <a:pt x="3482" y="3189"/>
                  </a:lnTo>
                  <a:lnTo>
                    <a:pt x="3419" y="3163"/>
                  </a:lnTo>
                  <a:lnTo>
                    <a:pt x="3355" y="3140"/>
                  </a:lnTo>
                  <a:lnTo>
                    <a:pt x="3290" y="3118"/>
                  </a:lnTo>
                  <a:lnTo>
                    <a:pt x="3225" y="3099"/>
                  </a:lnTo>
                  <a:lnTo>
                    <a:pt x="3159" y="3081"/>
                  </a:lnTo>
                  <a:lnTo>
                    <a:pt x="3093" y="3066"/>
                  </a:lnTo>
                  <a:lnTo>
                    <a:pt x="3025" y="3054"/>
                  </a:lnTo>
                  <a:lnTo>
                    <a:pt x="2958" y="3043"/>
                  </a:lnTo>
                  <a:lnTo>
                    <a:pt x="2891" y="3035"/>
                  </a:lnTo>
                  <a:lnTo>
                    <a:pt x="2822" y="3029"/>
                  </a:lnTo>
                  <a:lnTo>
                    <a:pt x="2753" y="3026"/>
                  </a:lnTo>
                  <a:lnTo>
                    <a:pt x="2684" y="3025"/>
                  </a:lnTo>
                  <a:close/>
                  <a:moveTo>
                    <a:pt x="2708" y="2647"/>
                  </a:moveTo>
                  <a:lnTo>
                    <a:pt x="2708" y="2647"/>
                  </a:lnTo>
                  <a:lnTo>
                    <a:pt x="2743" y="2646"/>
                  </a:lnTo>
                  <a:lnTo>
                    <a:pt x="2778" y="2645"/>
                  </a:lnTo>
                  <a:lnTo>
                    <a:pt x="2813" y="2643"/>
                  </a:lnTo>
                  <a:lnTo>
                    <a:pt x="2847" y="2640"/>
                  </a:lnTo>
                  <a:lnTo>
                    <a:pt x="2882" y="2636"/>
                  </a:lnTo>
                  <a:lnTo>
                    <a:pt x="2915" y="2631"/>
                  </a:lnTo>
                  <a:lnTo>
                    <a:pt x="2949" y="2626"/>
                  </a:lnTo>
                  <a:lnTo>
                    <a:pt x="2982" y="2620"/>
                  </a:lnTo>
                  <a:lnTo>
                    <a:pt x="3014" y="2613"/>
                  </a:lnTo>
                  <a:lnTo>
                    <a:pt x="3047" y="2605"/>
                  </a:lnTo>
                  <a:lnTo>
                    <a:pt x="3079" y="2596"/>
                  </a:lnTo>
                  <a:lnTo>
                    <a:pt x="3112" y="2587"/>
                  </a:lnTo>
                  <a:lnTo>
                    <a:pt x="3144" y="2577"/>
                  </a:lnTo>
                  <a:lnTo>
                    <a:pt x="3175" y="2566"/>
                  </a:lnTo>
                  <a:lnTo>
                    <a:pt x="3205" y="2555"/>
                  </a:lnTo>
                  <a:lnTo>
                    <a:pt x="3236" y="2542"/>
                  </a:lnTo>
                  <a:lnTo>
                    <a:pt x="3266" y="2530"/>
                  </a:lnTo>
                  <a:lnTo>
                    <a:pt x="3297" y="2517"/>
                  </a:lnTo>
                  <a:lnTo>
                    <a:pt x="3326" y="2502"/>
                  </a:lnTo>
                  <a:lnTo>
                    <a:pt x="3355" y="2487"/>
                  </a:lnTo>
                  <a:lnTo>
                    <a:pt x="3383" y="2472"/>
                  </a:lnTo>
                  <a:lnTo>
                    <a:pt x="3411" y="2455"/>
                  </a:lnTo>
                  <a:lnTo>
                    <a:pt x="3439" y="2438"/>
                  </a:lnTo>
                  <a:lnTo>
                    <a:pt x="3466" y="2421"/>
                  </a:lnTo>
                  <a:lnTo>
                    <a:pt x="3493" y="2403"/>
                  </a:lnTo>
                  <a:lnTo>
                    <a:pt x="3519" y="2384"/>
                  </a:lnTo>
                  <a:lnTo>
                    <a:pt x="3545" y="2365"/>
                  </a:lnTo>
                  <a:lnTo>
                    <a:pt x="3571" y="2345"/>
                  </a:lnTo>
                  <a:lnTo>
                    <a:pt x="3596" y="2324"/>
                  </a:lnTo>
                  <a:lnTo>
                    <a:pt x="3619" y="2303"/>
                  </a:lnTo>
                  <a:lnTo>
                    <a:pt x="3643" y="2282"/>
                  </a:lnTo>
                  <a:lnTo>
                    <a:pt x="3667" y="2259"/>
                  </a:lnTo>
                  <a:lnTo>
                    <a:pt x="3689" y="2237"/>
                  </a:lnTo>
                  <a:lnTo>
                    <a:pt x="3711" y="2213"/>
                  </a:lnTo>
                  <a:lnTo>
                    <a:pt x="3733" y="2189"/>
                  </a:lnTo>
                  <a:lnTo>
                    <a:pt x="3754" y="2165"/>
                  </a:lnTo>
                  <a:lnTo>
                    <a:pt x="3774" y="2140"/>
                  </a:lnTo>
                  <a:lnTo>
                    <a:pt x="3795" y="2115"/>
                  </a:lnTo>
                  <a:lnTo>
                    <a:pt x="3814" y="2089"/>
                  </a:lnTo>
                  <a:lnTo>
                    <a:pt x="3832" y="2063"/>
                  </a:lnTo>
                  <a:lnTo>
                    <a:pt x="3850" y="2036"/>
                  </a:lnTo>
                  <a:lnTo>
                    <a:pt x="3868" y="2010"/>
                  </a:lnTo>
                  <a:lnTo>
                    <a:pt x="3884" y="1983"/>
                  </a:lnTo>
                  <a:lnTo>
                    <a:pt x="3900" y="1954"/>
                  </a:lnTo>
                  <a:lnTo>
                    <a:pt x="3915" y="1925"/>
                  </a:lnTo>
                  <a:lnTo>
                    <a:pt x="3930" y="1897"/>
                  </a:lnTo>
                  <a:lnTo>
                    <a:pt x="3944" y="1868"/>
                  </a:lnTo>
                  <a:lnTo>
                    <a:pt x="3957" y="1839"/>
                  </a:lnTo>
                  <a:lnTo>
                    <a:pt x="3970" y="1808"/>
                  </a:lnTo>
                  <a:lnTo>
                    <a:pt x="3981" y="1778"/>
                  </a:lnTo>
                  <a:lnTo>
                    <a:pt x="3993" y="1748"/>
                  </a:lnTo>
                  <a:lnTo>
                    <a:pt x="4003" y="1717"/>
                  </a:lnTo>
                  <a:lnTo>
                    <a:pt x="4012" y="1686"/>
                  </a:lnTo>
                  <a:lnTo>
                    <a:pt x="4021" y="1654"/>
                  </a:lnTo>
                  <a:lnTo>
                    <a:pt x="4029" y="1622"/>
                  </a:lnTo>
                  <a:lnTo>
                    <a:pt x="4036" y="1590"/>
                  </a:lnTo>
                  <a:lnTo>
                    <a:pt x="4042" y="1557"/>
                  </a:lnTo>
                  <a:lnTo>
                    <a:pt x="4048" y="1525"/>
                  </a:lnTo>
                  <a:lnTo>
                    <a:pt x="4052" y="1492"/>
                  </a:lnTo>
                  <a:lnTo>
                    <a:pt x="4057" y="1459"/>
                  </a:lnTo>
                  <a:lnTo>
                    <a:pt x="4060" y="1425"/>
                  </a:lnTo>
                  <a:lnTo>
                    <a:pt x="4062" y="1391"/>
                  </a:lnTo>
                  <a:lnTo>
                    <a:pt x="4063" y="1357"/>
                  </a:lnTo>
                  <a:lnTo>
                    <a:pt x="4063" y="1324"/>
                  </a:lnTo>
                  <a:lnTo>
                    <a:pt x="4063" y="1289"/>
                  </a:lnTo>
                  <a:lnTo>
                    <a:pt x="4062" y="1255"/>
                  </a:lnTo>
                  <a:lnTo>
                    <a:pt x="4060" y="1221"/>
                  </a:lnTo>
                  <a:lnTo>
                    <a:pt x="4057" y="1188"/>
                  </a:lnTo>
                  <a:lnTo>
                    <a:pt x="4052" y="1155"/>
                  </a:lnTo>
                  <a:lnTo>
                    <a:pt x="4048" y="1121"/>
                  </a:lnTo>
                  <a:lnTo>
                    <a:pt x="4042" y="1089"/>
                  </a:lnTo>
                  <a:lnTo>
                    <a:pt x="4036" y="1057"/>
                  </a:lnTo>
                  <a:lnTo>
                    <a:pt x="4029" y="1025"/>
                  </a:lnTo>
                  <a:lnTo>
                    <a:pt x="4021" y="993"/>
                  </a:lnTo>
                  <a:lnTo>
                    <a:pt x="4012" y="962"/>
                  </a:lnTo>
                  <a:lnTo>
                    <a:pt x="4003" y="930"/>
                  </a:lnTo>
                  <a:lnTo>
                    <a:pt x="3993" y="899"/>
                  </a:lnTo>
                  <a:lnTo>
                    <a:pt x="3981" y="868"/>
                  </a:lnTo>
                  <a:lnTo>
                    <a:pt x="3970" y="838"/>
                  </a:lnTo>
                  <a:lnTo>
                    <a:pt x="3957" y="809"/>
                  </a:lnTo>
                  <a:lnTo>
                    <a:pt x="3944" y="778"/>
                  </a:lnTo>
                  <a:lnTo>
                    <a:pt x="3930" y="750"/>
                  </a:lnTo>
                  <a:lnTo>
                    <a:pt x="3915" y="721"/>
                  </a:lnTo>
                  <a:lnTo>
                    <a:pt x="3900" y="693"/>
                  </a:lnTo>
                  <a:lnTo>
                    <a:pt x="3884" y="665"/>
                  </a:lnTo>
                  <a:lnTo>
                    <a:pt x="3868" y="638"/>
                  </a:lnTo>
                  <a:lnTo>
                    <a:pt x="3850" y="610"/>
                  </a:lnTo>
                  <a:lnTo>
                    <a:pt x="3832" y="584"/>
                  </a:lnTo>
                  <a:lnTo>
                    <a:pt x="3814" y="557"/>
                  </a:lnTo>
                  <a:lnTo>
                    <a:pt x="3795" y="532"/>
                  </a:lnTo>
                  <a:lnTo>
                    <a:pt x="3774" y="506"/>
                  </a:lnTo>
                  <a:lnTo>
                    <a:pt x="3754" y="481"/>
                  </a:lnTo>
                  <a:lnTo>
                    <a:pt x="3733" y="458"/>
                  </a:lnTo>
                  <a:lnTo>
                    <a:pt x="3711" y="433"/>
                  </a:lnTo>
                  <a:lnTo>
                    <a:pt x="3689" y="411"/>
                  </a:lnTo>
                  <a:lnTo>
                    <a:pt x="3667" y="388"/>
                  </a:lnTo>
                  <a:lnTo>
                    <a:pt x="3643" y="366"/>
                  </a:lnTo>
                  <a:lnTo>
                    <a:pt x="3619" y="344"/>
                  </a:lnTo>
                  <a:lnTo>
                    <a:pt x="3596" y="323"/>
                  </a:lnTo>
                  <a:lnTo>
                    <a:pt x="3571" y="303"/>
                  </a:lnTo>
                  <a:lnTo>
                    <a:pt x="3545" y="282"/>
                  </a:lnTo>
                  <a:lnTo>
                    <a:pt x="3519" y="263"/>
                  </a:lnTo>
                  <a:lnTo>
                    <a:pt x="3493" y="244"/>
                  </a:lnTo>
                  <a:lnTo>
                    <a:pt x="3466" y="226"/>
                  </a:lnTo>
                  <a:lnTo>
                    <a:pt x="3439" y="208"/>
                  </a:lnTo>
                  <a:lnTo>
                    <a:pt x="3411" y="191"/>
                  </a:lnTo>
                  <a:lnTo>
                    <a:pt x="3383" y="176"/>
                  </a:lnTo>
                  <a:lnTo>
                    <a:pt x="3355" y="160"/>
                  </a:lnTo>
                  <a:lnTo>
                    <a:pt x="3326" y="145"/>
                  </a:lnTo>
                  <a:lnTo>
                    <a:pt x="3297" y="131"/>
                  </a:lnTo>
                  <a:lnTo>
                    <a:pt x="3266" y="117"/>
                  </a:lnTo>
                  <a:lnTo>
                    <a:pt x="3236" y="104"/>
                  </a:lnTo>
                  <a:lnTo>
                    <a:pt x="3205" y="92"/>
                  </a:lnTo>
                  <a:lnTo>
                    <a:pt x="3175" y="80"/>
                  </a:lnTo>
                  <a:lnTo>
                    <a:pt x="3144" y="70"/>
                  </a:lnTo>
                  <a:lnTo>
                    <a:pt x="3112" y="60"/>
                  </a:lnTo>
                  <a:lnTo>
                    <a:pt x="3079" y="51"/>
                  </a:lnTo>
                  <a:lnTo>
                    <a:pt x="3047" y="42"/>
                  </a:lnTo>
                  <a:lnTo>
                    <a:pt x="3014" y="34"/>
                  </a:lnTo>
                  <a:lnTo>
                    <a:pt x="2982" y="27"/>
                  </a:lnTo>
                  <a:lnTo>
                    <a:pt x="2949" y="20"/>
                  </a:lnTo>
                  <a:lnTo>
                    <a:pt x="2915" y="15"/>
                  </a:lnTo>
                  <a:lnTo>
                    <a:pt x="2882" y="10"/>
                  </a:lnTo>
                  <a:lnTo>
                    <a:pt x="2847" y="7"/>
                  </a:lnTo>
                  <a:lnTo>
                    <a:pt x="2813" y="4"/>
                  </a:lnTo>
                  <a:lnTo>
                    <a:pt x="2778" y="1"/>
                  </a:lnTo>
                  <a:lnTo>
                    <a:pt x="2743" y="0"/>
                  </a:lnTo>
                  <a:lnTo>
                    <a:pt x="2708" y="0"/>
                  </a:lnTo>
                  <a:lnTo>
                    <a:pt x="2673" y="0"/>
                  </a:lnTo>
                  <a:lnTo>
                    <a:pt x="2639" y="1"/>
                  </a:lnTo>
                  <a:lnTo>
                    <a:pt x="2605" y="4"/>
                  </a:lnTo>
                  <a:lnTo>
                    <a:pt x="2570" y="7"/>
                  </a:lnTo>
                  <a:lnTo>
                    <a:pt x="2536" y="10"/>
                  </a:lnTo>
                  <a:lnTo>
                    <a:pt x="2503" y="15"/>
                  </a:lnTo>
                  <a:lnTo>
                    <a:pt x="2469" y="20"/>
                  </a:lnTo>
                  <a:lnTo>
                    <a:pt x="2436" y="27"/>
                  </a:lnTo>
                  <a:lnTo>
                    <a:pt x="2402" y="34"/>
                  </a:lnTo>
                  <a:lnTo>
                    <a:pt x="2370" y="42"/>
                  </a:lnTo>
                  <a:lnTo>
                    <a:pt x="2338" y="51"/>
                  </a:lnTo>
                  <a:lnTo>
                    <a:pt x="2306" y="60"/>
                  </a:lnTo>
                  <a:lnTo>
                    <a:pt x="2274" y="70"/>
                  </a:lnTo>
                  <a:lnTo>
                    <a:pt x="2243" y="80"/>
                  </a:lnTo>
                  <a:lnTo>
                    <a:pt x="2212" y="92"/>
                  </a:lnTo>
                  <a:lnTo>
                    <a:pt x="2181" y="104"/>
                  </a:lnTo>
                  <a:lnTo>
                    <a:pt x="2152" y="117"/>
                  </a:lnTo>
                  <a:lnTo>
                    <a:pt x="2121" y="131"/>
                  </a:lnTo>
                  <a:lnTo>
                    <a:pt x="2092" y="145"/>
                  </a:lnTo>
                  <a:lnTo>
                    <a:pt x="2063" y="160"/>
                  </a:lnTo>
                  <a:lnTo>
                    <a:pt x="2035" y="176"/>
                  </a:lnTo>
                  <a:lnTo>
                    <a:pt x="2007" y="191"/>
                  </a:lnTo>
                  <a:lnTo>
                    <a:pt x="1979" y="208"/>
                  </a:lnTo>
                  <a:lnTo>
                    <a:pt x="1952" y="226"/>
                  </a:lnTo>
                  <a:lnTo>
                    <a:pt x="1925" y="244"/>
                  </a:lnTo>
                  <a:lnTo>
                    <a:pt x="1899" y="263"/>
                  </a:lnTo>
                  <a:lnTo>
                    <a:pt x="1873" y="282"/>
                  </a:lnTo>
                  <a:lnTo>
                    <a:pt x="1847" y="303"/>
                  </a:lnTo>
                  <a:lnTo>
                    <a:pt x="1822" y="323"/>
                  </a:lnTo>
                  <a:lnTo>
                    <a:pt x="1797" y="344"/>
                  </a:lnTo>
                  <a:lnTo>
                    <a:pt x="1774" y="366"/>
                  </a:lnTo>
                  <a:lnTo>
                    <a:pt x="1751" y="388"/>
                  </a:lnTo>
                  <a:lnTo>
                    <a:pt x="1728" y="411"/>
                  </a:lnTo>
                  <a:lnTo>
                    <a:pt x="1706" y="433"/>
                  </a:lnTo>
                  <a:lnTo>
                    <a:pt x="1685" y="458"/>
                  </a:lnTo>
                  <a:lnTo>
                    <a:pt x="1664" y="481"/>
                  </a:lnTo>
                  <a:lnTo>
                    <a:pt x="1643" y="506"/>
                  </a:lnTo>
                  <a:lnTo>
                    <a:pt x="1623" y="532"/>
                  </a:lnTo>
                  <a:lnTo>
                    <a:pt x="1604" y="557"/>
                  </a:lnTo>
                  <a:lnTo>
                    <a:pt x="1586" y="584"/>
                  </a:lnTo>
                  <a:lnTo>
                    <a:pt x="1568" y="610"/>
                  </a:lnTo>
                  <a:lnTo>
                    <a:pt x="1550" y="638"/>
                  </a:lnTo>
                  <a:lnTo>
                    <a:pt x="1533" y="665"/>
                  </a:lnTo>
                  <a:lnTo>
                    <a:pt x="1517" y="693"/>
                  </a:lnTo>
                  <a:lnTo>
                    <a:pt x="1503" y="721"/>
                  </a:lnTo>
                  <a:lnTo>
                    <a:pt x="1488" y="750"/>
                  </a:lnTo>
                  <a:lnTo>
                    <a:pt x="1474" y="778"/>
                  </a:lnTo>
                  <a:lnTo>
                    <a:pt x="1461" y="809"/>
                  </a:lnTo>
                  <a:lnTo>
                    <a:pt x="1448" y="838"/>
                  </a:lnTo>
                  <a:lnTo>
                    <a:pt x="1436" y="868"/>
                  </a:lnTo>
                  <a:lnTo>
                    <a:pt x="1425" y="899"/>
                  </a:lnTo>
                  <a:lnTo>
                    <a:pt x="1415" y="930"/>
                  </a:lnTo>
                  <a:lnTo>
                    <a:pt x="1406" y="962"/>
                  </a:lnTo>
                  <a:lnTo>
                    <a:pt x="1397" y="993"/>
                  </a:lnTo>
                  <a:lnTo>
                    <a:pt x="1389" y="1025"/>
                  </a:lnTo>
                  <a:lnTo>
                    <a:pt x="1381" y="1057"/>
                  </a:lnTo>
                  <a:lnTo>
                    <a:pt x="1376" y="1089"/>
                  </a:lnTo>
                  <a:lnTo>
                    <a:pt x="1370" y="1121"/>
                  </a:lnTo>
                  <a:lnTo>
                    <a:pt x="1366" y="1155"/>
                  </a:lnTo>
                  <a:lnTo>
                    <a:pt x="1361" y="1188"/>
                  </a:lnTo>
                  <a:lnTo>
                    <a:pt x="1358" y="1221"/>
                  </a:lnTo>
                  <a:lnTo>
                    <a:pt x="1355" y="1255"/>
                  </a:lnTo>
                  <a:lnTo>
                    <a:pt x="1354" y="1289"/>
                  </a:lnTo>
                  <a:lnTo>
                    <a:pt x="1354" y="1324"/>
                  </a:lnTo>
                  <a:lnTo>
                    <a:pt x="1354" y="1357"/>
                  </a:lnTo>
                  <a:lnTo>
                    <a:pt x="1355" y="1391"/>
                  </a:lnTo>
                  <a:lnTo>
                    <a:pt x="1358" y="1425"/>
                  </a:lnTo>
                  <a:lnTo>
                    <a:pt x="1361" y="1459"/>
                  </a:lnTo>
                  <a:lnTo>
                    <a:pt x="1366" y="1492"/>
                  </a:lnTo>
                  <a:lnTo>
                    <a:pt x="1370" y="1525"/>
                  </a:lnTo>
                  <a:lnTo>
                    <a:pt x="1376" y="1557"/>
                  </a:lnTo>
                  <a:lnTo>
                    <a:pt x="1381" y="1590"/>
                  </a:lnTo>
                  <a:lnTo>
                    <a:pt x="1389" y="1622"/>
                  </a:lnTo>
                  <a:lnTo>
                    <a:pt x="1397" y="1654"/>
                  </a:lnTo>
                  <a:lnTo>
                    <a:pt x="1406" y="1686"/>
                  </a:lnTo>
                  <a:lnTo>
                    <a:pt x="1415" y="1717"/>
                  </a:lnTo>
                  <a:lnTo>
                    <a:pt x="1425" y="1748"/>
                  </a:lnTo>
                  <a:lnTo>
                    <a:pt x="1436" y="1778"/>
                  </a:lnTo>
                  <a:lnTo>
                    <a:pt x="1448" y="1808"/>
                  </a:lnTo>
                  <a:lnTo>
                    <a:pt x="1461" y="1839"/>
                  </a:lnTo>
                  <a:lnTo>
                    <a:pt x="1474" y="1868"/>
                  </a:lnTo>
                  <a:lnTo>
                    <a:pt x="1488" y="1897"/>
                  </a:lnTo>
                  <a:lnTo>
                    <a:pt x="1503" y="1925"/>
                  </a:lnTo>
                  <a:lnTo>
                    <a:pt x="1517" y="1954"/>
                  </a:lnTo>
                  <a:lnTo>
                    <a:pt x="1533" y="1983"/>
                  </a:lnTo>
                  <a:lnTo>
                    <a:pt x="1550" y="2010"/>
                  </a:lnTo>
                  <a:lnTo>
                    <a:pt x="1568" y="2036"/>
                  </a:lnTo>
                  <a:lnTo>
                    <a:pt x="1586" y="2063"/>
                  </a:lnTo>
                  <a:lnTo>
                    <a:pt x="1604" y="2089"/>
                  </a:lnTo>
                  <a:lnTo>
                    <a:pt x="1623" y="2115"/>
                  </a:lnTo>
                  <a:lnTo>
                    <a:pt x="1643" y="2140"/>
                  </a:lnTo>
                  <a:lnTo>
                    <a:pt x="1664" y="2165"/>
                  </a:lnTo>
                  <a:lnTo>
                    <a:pt x="1685" y="2189"/>
                  </a:lnTo>
                  <a:lnTo>
                    <a:pt x="1706" y="2213"/>
                  </a:lnTo>
                  <a:lnTo>
                    <a:pt x="1728" y="2237"/>
                  </a:lnTo>
                  <a:lnTo>
                    <a:pt x="1751" y="2259"/>
                  </a:lnTo>
                  <a:lnTo>
                    <a:pt x="1774" y="2282"/>
                  </a:lnTo>
                  <a:lnTo>
                    <a:pt x="1797" y="2303"/>
                  </a:lnTo>
                  <a:lnTo>
                    <a:pt x="1822" y="2324"/>
                  </a:lnTo>
                  <a:lnTo>
                    <a:pt x="1847" y="2345"/>
                  </a:lnTo>
                  <a:lnTo>
                    <a:pt x="1873" y="2365"/>
                  </a:lnTo>
                  <a:lnTo>
                    <a:pt x="1899" y="2384"/>
                  </a:lnTo>
                  <a:lnTo>
                    <a:pt x="1925" y="2403"/>
                  </a:lnTo>
                  <a:lnTo>
                    <a:pt x="1952" y="2421"/>
                  </a:lnTo>
                  <a:lnTo>
                    <a:pt x="1979" y="2438"/>
                  </a:lnTo>
                  <a:lnTo>
                    <a:pt x="2007" y="2455"/>
                  </a:lnTo>
                  <a:lnTo>
                    <a:pt x="2035" y="2472"/>
                  </a:lnTo>
                  <a:lnTo>
                    <a:pt x="2063" y="2487"/>
                  </a:lnTo>
                  <a:lnTo>
                    <a:pt x="2092" y="2502"/>
                  </a:lnTo>
                  <a:lnTo>
                    <a:pt x="2121" y="2517"/>
                  </a:lnTo>
                  <a:lnTo>
                    <a:pt x="2152" y="2530"/>
                  </a:lnTo>
                  <a:lnTo>
                    <a:pt x="2181" y="2542"/>
                  </a:lnTo>
                  <a:lnTo>
                    <a:pt x="2212" y="2555"/>
                  </a:lnTo>
                  <a:lnTo>
                    <a:pt x="2243" y="2566"/>
                  </a:lnTo>
                  <a:lnTo>
                    <a:pt x="2274" y="2577"/>
                  </a:lnTo>
                  <a:lnTo>
                    <a:pt x="2306" y="2587"/>
                  </a:lnTo>
                  <a:lnTo>
                    <a:pt x="2338" y="2596"/>
                  </a:lnTo>
                  <a:lnTo>
                    <a:pt x="2370" y="2605"/>
                  </a:lnTo>
                  <a:lnTo>
                    <a:pt x="2402" y="2613"/>
                  </a:lnTo>
                  <a:lnTo>
                    <a:pt x="2436" y="2620"/>
                  </a:lnTo>
                  <a:lnTo>
                    <a:pt x="2469" y="2626"/>
                  </a:lnTo>
                  <a:lnTo>
                    <a:pt x="2503" y="2631"/>
                  </a:lnTo>
                  <a:lnTo>
                    <a:pt x="2536" y="2636"/>
                  </a:lnTo>
                  <a:lnTo>
                    <a:pt x="2570" y="2640"/>
                  </a:lnTo>
                  <a:lnTo>
                    <a:pt x="2605" y="2643"/>
                  </a:lnTo>
                  <a:lnTo>
                    <a:pt x="2639" y="2645"/>
                  </a:lnTo>
                  <a:lnTo>
                    <a:pt x="2673" y="2646"/>
                  </a:lnTo>
                  <a:lnTo>
                    <a:pt x="2708" y="2647"/>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48" name="组合 1025"/>
          <p:cNvGrpSpPr/>
          <p:nvPr/>
        </p:nvGrpSpPr>
        <p:grpSpPr>
          <a:xfrm>
            <a:off x="4624560" y="3898800"/>
            <a:ext cx="315720" cy="317520"/>
            <a:chOff x="4624560" y="3898800"/>
            <a:chExt cx="315720" cy="317520"/>
          </a:xfrm>
        </p:grpSpPr>
        <p:sp>
          <p:nvSpPr>
            <p:cNvPr id="549" name="椭圆 103"/>
            <p:cNvSpPr/>
            <p:nvPr/>
          </p:nvSpPr>
          <p:spPr>
            <a:xfrm>
              <a:off x="4624560" y="3898800"/>
              <a:ext cx="315720" cy="31752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KSO_Shape"/>
            <p:cNvSpPr/>
            <p:nvPr/>
          </p:nvSpPr>
          <p:spPr>
            <a:xfrm>
              <a:off x="4680000" y="3951000"/>
              <a:ext cx="204840" cy="193680"/>
            </a:xfrm>
            <a:custGeom>
              <a:avLst/>
              <a:gdLst/>
              <a:ahLst/>
              <a:rect l="l" t="t" r="r" b="b"/>
              <a:pathLst>
                <a:path w="1917701" h="1819275">
                  <a:moveTo>
                    <a:pt x="711992" y="795933"/>
                  </a:moveTo>
                  <a:lnTo>
                    <a:pt x="722042" y="796197"/>
                  </a:lnTo>
                  <a:lnTo>
                    <a:pt x="731828" y="796462"/>
                  </a:lnTo>
                  <a:lnTo>
                    <a:pt x="742143" y="796991"/>
                  </a:lnTo>
                  <a:lnTo>
                    <a:pt x="751929" y="797784"/>
                  </a:lnTo>
                  <a:lnTo>
                    <a:pt x="761979" y="798577"/>
                  </a:lnTo>
                  <a:lnTo>
                    <a:pt x="771765" y="799635"/>
                  </a:lnTo>
                  <a:lnTo>
                    <a:pt x="781551" y="800957"/>
                  </a:lnTo>
                  <a:lnTo>
                    <a:pt x="791337" y="802544"/>
                  </a:lnTo>
                  <a:lnTo>
                    <a:pt x="800858" y="804130"/>
                  </a:lnTo>
                  <a:lnTo>
                    <a:pt x="810644" y="805981"/>
                  </a:lnTo>
                  <a:lnTo>
                    <a:pt x="820166" y="807832"/>
                  </a:lnTo>
                  <a:lnTo>
                    <a:pt x="829687" y="810212"/>
                  </a:lnTo>
                  <a:lnTo>
                    <a:pt x="839473" y="812592"/>
                  </a:lnTo>
                  <a:lnTo>
                    <a:pt x="848994" y="814972"/>
                  </a:lnTo>
                  <a:lnTo>
                    <a:pt x="858252" y="817616"/>
                  </a:lnTo>
                  <a:lnTo>
                    <a:pt x="867773" y="820525"/>
                  </a:lnTo>
                  <a:lnTo>
                    <a:pt x="886551" y="826871"/>
                  </a:lnTo>
                  <a:lnTo>
                    <a:pt x="905065" y="833746"/>
                  </a:lnTo>
                  <a:lnTo>
                    <a:pt x="923315" y="841415"/>
                  </a:lnTo>
                  <a:lnTo>
                    <a:pt x="941300" y="849612"/>
                  </a:lnTo>
                  <a:lnTo>
                    <a:pt x="959284" y="858603"/>
                  </a:lnTo>
                  <a:lnTo>
                    <a:pt x="976740" y="868122"/>
                  </a:lnTo>
                  <a:lnTo>
                    <a:pt x="993932" y="878170"/>
                  </a:lnTo>
                  <a:lnTo>
                    <a:pt x="1011123" y="889012"/>
                  </a:lnTo>
                  <a:lnTo>
                    <a:pt x="1003189" y="891392"/>
                  </a:lnTo>
                  <a:lnTo>
                    <a:pt x="995254" y="893772"/>
                  </a:lnTo>
                  <a:lnTo>
                    <a:pt x="987055" y="896416"/>
                  </a:lnTo>
                  <a:lnTo>
                    <a:pt x="979121" y="899325"/>
                  </a:lnTo>
                  <a:lnTo>
                    <a:pt x="971186" y="902762"/>
                  </a:lnTo>
                  <a:lnTo>
                    <a:pt x="962987" y="905936"/>
                  </a:lnTo>
                  <a:lnTo>
                    <a:pt x="955053" y="909638"/>
                  </a:lnTo>
                  <a:lnTo>
                    <a:pt x="947383" y="913604"/>
                  </a:lnTo>
                  <a:lnTo>
                    <a:pt x="939448" y="917835"/>
                  </a:lnTo>
                  <a:lnTo>
                    <a:pt x="932043" y="922066"/>
                  </a:lnTo>
                  <a:lnTo>
                    <a:pt x="924637" y="926826"/>
                  </a:lnTo>
                  <a:lnTo>
                    <a:pt x="917231" y="931850"/>
                  </a:lnTo>
                  <a:lnTo>
                    <a:pt x="910090" y="936874"/>
                  </a:lnTo>
                  <a:lnTo>
                    <a:pt x="902949" y="942427"/>
                  </a:lnTo>
                  <a:lnTo>
                    <a:pt x="896073" y="948509"/>
                  </a:lnTo>
                  <a:lnTo>
                    <a:pt x="889461" y="954326"/>
                  </a:lnTo>
                  <a:lnTo>
                    <a:pt x="883113" y="960937"/>
                  </a:lnTo>
                  <a:lnTo>
                    <a:pt x="877030" y="967812"/>
                  </a:lnTo>
                  <a:lnTo>
                    <a:pt x="871211" y="974952"/>
                  </a:lnTo>
                  <a:lnTo>
                    <a:pt x="865393" y="982356"/>
                  </a:lnTo>
                  <a:lnTo>
                    <a:pt x="859838" y="990024"/>
                  </a:lnTo>
                  <a:lnTo>
                    <a:pt x="854813" y="998486"/>
                  </a:lnTo>
                  <a:lnTo>
                    <a:pt x="850052" y="1006683"/>
                  </a:lnTo>
                  <a:lnTo>
                    <a:pt x="845556" y="1015674"/>
                  </a:lnTo>
                  <a:lnTo>
                    <a:pt x="841324" y="1025193"/>
                  </a:lnTo>
                  <a:lnTo>
                    <a:pt x="837886" y="1034713"/>
                  </a:lnTo>
                  <a:lnTo>
                    <a:pt x="834183" y="1044761"/>
                  </a:lnTo>
                  <a:lnTo>
                    <a:pt x="831274" y="1055074"/>
                  </a:lnTo>
                  <a:lnTo>
                    <a:pt x="828629" y="1066180"/>
                  </a:lnTo>
                  <a:lnTo>
                    <a:pt x="826249" y="1077550"/>
                  </a:lnTo>
                  <a:lnTo>
                    <a:pt x="824398" y="1089185"/>
                  </a:lnTo>
                  <a:lnTo>
                    <a:pt x="823340" y="1101349"/>
                  </a:lnTo>
                  <a:lnTo>
                    <a:pt x="822017" y="1115893"/>
                  </a:lnTo>
                  <a:lnTo>
                    <a:pt x="821488" y="1129907"/>
                  </a:lnTo>
                  <a:lnTo>
                    <a:pt x="821488" y="1143129"/>
                  </a:lnTo>
                  <a:lnTo>
                    <a:pt x="821753" y="1156086"/>
                  </a:lnTo>
                  <a:lnTo>
                    <a:pt x="822546" y="1168514"/>
                  </a:lnTo>
                  <a:lnTo>
                    <a:pt x="824133" y="1180413"/>
                  </a:lnTo>
                  <a:lnTo>
                    <a:pt x="825984" y="1192048"/>
                  </a:lnTo>
                  <a:lnTo>
                    <a:pt x="828100" y="1203154"/>
                  </a:lnTo>
                  <a:lnTo>
                    <a:pt x="830745" y="1213731"/>
                  </a:lnTo>
                  <a:lnTo>
                    <a:pt x="833654" y="1224044"/>
                  </a:lnTo>
                  <a:lnTo>
                    <a:pt x="836828" y="1233828"/>
                  </a:lnTo>
                  <a:lnTo>
                    <a:pt x="840531" y="1243348"/>
                  </a:lnTo>
                  <a:lnTo>
                    <a:pt x="844763" y="1252338"/>
                  </a:lnTo>
                  <a:lnTo>
                    <a:pt x="848994" y="1260800"/>
                  </a:lnTo>
                  <a:lnTo>
                    <a:pt x="853491" y="1269262"/>
                  </a:lnTo>
                  <a:lnTo>
                    <a:pt x="858516" y="1276930"/>
                  </a:lnTo>
                  <a:lnTo>
                    <a:pt x="863806" y="1284334"/>
                  </a:lnTo>
                  <a:lnTo>
                    <a:pt x="869360" y="1291474"/>
                  </a:lnTo>
                  <a:lnTo>
                    <a:pt x="874914" y="1298349"/>
                  </a:lnTo>
                  <a:lnTo>
                    <a:pt x="880997" y="1304960"/>
                  </a:lnTo>
                  <a:lnTo>
                    <a:pt x="887080" y="1311042"/>
                  </a:lnTo>
                  <a:lnTo>
                    <a:pt x="893428" y="1316859"/>
                  </a:lnTo>
                  <a:lnTo>
                    <a:pt x="900040" y="1322412"/>
                  </a:lnTo>
                  <a:lnTo>
                    <a:pt x="906652" y="1327436"/>
                  </a:lnTo>
                  <a:lnTo>
                    <a:pt x="913264" y="1332196"/>
                  </a:lnTo>
                  <a:lnTo>
                    <a:pt x="920405" y="1336956"/>
                  </a:lnTo>
                  <a:lnTo>
                    <a:pt x="927546" y="1341187"/>
                  </a:lnTo>
                  <a:lnTo>
                    <a:pt x="934687" y="1345417"/>
                  </a:lnTo>
                  <a:lnTo>
                    <a:pt x="941828" y="1349119"/>
                  </a:lnTo>
                  <a:lnTo>
                    <a:pt x="949234" y="1352821"/>
                  </a:lnTo>
                  <a:lnTo>
                    <a:pt x="956904" y="1355995"/>
                  </a:lnTo>
                  <a:lnTo>
                    <a:pt x="964310" y="1358903"/>
                  </a:lnTo>
                  <a:lnTo>
                    <a:pt x="971715" y="1361812"/>
                  </a:lnTo>
                  <a:lnTo>
                    <a:pt x="979121" y="1364456"/>
                  </a:lnTo>
                  <a:lnTo>
                    <a:pt x="986526" y="1366836"/>
                  </a:lnTo>
                  <a:lnTo>
                    <a:pt x="993932" y="1368952"/>
                  </a:lnTo>
                  <a:lnTo>
                    <a:pt x="1008479" y="1372654"/>
                  </a:lnTo>
                  <a:lnTo>
                    <a:pt x="1023025" y="1375562"/>
                  </a:lnTo>
                  <a:lnTo>
                    <a:pt x="1037043" y="1378471"/>
                  </a:lnTo>
                  <a:lnTo>
                    <a:pt x="1050532" y="1380058"/>
                  </a:lnTo>
                  <a:lnTo>
                    <a:pt x="1063227" y="1381380"/>
                  </a:lnTo>
                  <a:lnTo>
                    <a:pt x="1075129" y="1382438"/>
                  </a:lnTo>
                  <a:lnTo>
                    <a:pt x="1086237" y="1382702"/>
                  </a:lnTo>
                  <a:lnTo>
                    <a:pt x="1096287" y="1383231"/>
                  </a:lnTo>
                  <a:lnTo>
                    <a:pt x="1105015" y="1383495"/>
                  </a:lnTo>
                  <a:lnTo>
                    <a:pt x="1112421" y="1383231"/>
                  </a:lnTo>
                  <a:lnTo>
                    <a:pt x="1122736" y="1382702"/>
                  </a:lnTo>
                  <a:lnTo>
                    <a:pt x="1126703" y="1382438"/>
                  </a:lnTo>
                  <a:lnTo>
                    <a:pt x="1126703" y="1394337"/>
                  </a:lnTo>
                  <a:lnTo>
                    <a:pt x="1126968" y="1406236"/>
                  </a:lnTo>
                  <a:lnTo>
                    <a:pt x="1127232" y="1417607"/>
                  </a:lnTo>
                  <a:lnTo>
                    <a:pt x="1128025" y="1428977"/>
                  </a:lnTo>
                  <a:lnTo>
                    <a:pt x="1129083" y="1439554"/>
                  </a:lnTo>
                  <a:lnTo>
                    <a:pt x="1130141" y="1450131"/>
                  </a:lnTo>
                  <a:lnTo>
                    <a:pt x="1131728" y="1460444"/>
                  </a:lnTo>
                  <a:lnTo>
                    <a:pt x="1133580" y="1470228"/>
                  </a:lnTo>
                  <a:lnTo>
                    <a:pt x="1135431" y="1480012"/>
                  </a:lnTo>
                  <a:lnTo>
                    <a:pt x="1137547" y="1489267"/>
                  </a:lnTo>
                  <a:lnTo>
                    <a:pt x="1139927" y="1498522"/>
                  </a:lnTo>
                  <a:lnTo>
                    <a:pt x="1142572" y="1507513"/>
                  </a:lnTo>
                  <a:lnTo>
                    <a:pt x="1145481" y="1515710"/>
                  </a:lnTo>
                  <a:lnTo>
                    <a:pt x="1148391" y="1524172"/>
                  </a:lnTo>
                  <a:lnTo>
                    <a:pt x="1151564" y="1532105"/>
                  </a:lnTo>
                  <a:lnTo>
                    <a:pt x="1155003" y="1539773"/>
                  </a:lnTo>
                  <a:lnTo>
                    <a:pt x="1158441" y="1547442"/>
                  </a:lnTo>
                  <a:lnTo>
                    <a:pt x="1162408" y="1554581"/>
                  </a:lnTo>
                  <a:lnTo>
                    <a:pt x="1166111" y="1561721"/>
                  </a:lnTo>
                  <a:lnTo>
                    <a:pt x="1170078" y="1568596"/>
                  </a:lnTo>
                  <a:lnTo>
                    <a:pt x="1174575" y="1575207"/>
                  </a:lnTo>
                  <a:lnTo>
                    <a:pt x="1178806" y="1581553"/>
                  </a:lnTo>
                  <a:lnTo>
                    <a:pt x="1183038" y="1587370"/>
                  </a:lnTo>
                  <a:lnTo>
                    <a:pt x="1187799" y="1593452"/>
                  </a:lnTo>
                  <a:lnTo>
                    <a:pt x="1192560" y="1599005"/>
                  </a:lnTo>
                  <a:lnTo>
                    <a:pt x="1197320" y="1604558"/>
                  </a:lnTo>
                  <a:lnTo>
                    <a:pt x="1202346" y="1609582"/>
                  </a:lnTo>
                  <a:lnTo>
                    <a:pt x="1207635" y="1614607"/>
                  </a:lnTo>
                  <a:lnTo>
                    <a:pt x="1212660" y="1619366"/>
                  </a:lnTo>
                  <a:lnTo>
                    <a:pt x="1217950" y="1624126"/>
                  </a:lnTo>
                  <a:lnTo>
                    <a:pt x="1223240" y="1628357"/>
                  </a:lnTo>
                  <a:lnTo>
                    <a:pt x="1229058" y="1632852"/>
                  </a:lnTo>
                  <a:lnTo>
                    <a:pt x="1234348" y="1636819"/>
                  </a:lnTo>
                  <a:lnTo>
                    <a:pt x="1239902" y="1640521"/>
                  </a:lnTo>
                  <a:lnTo>
                    <a:pt x="1245721" y="1644487"/>
                  </a:lnTo>
                  <a:lnTo>
                    <a:pt x="1251540" y="1647660"/>
                  </a:lnTo>
                  <a:lnTo>
                    <a:pt x="1263177" y="1654271"/>
                  </a:lnTo>
                  <a:lnTo>
                    <a:pt x="1274814" y="1660353"/>
                  </a:lnTo>
                  <a:lnTo>
                    <a:pt x="1286716" y="1665377"/>
                  </a:lnTo>
                  <a:lnTo>
                    <a:pt x="1298882" y="1670137"/>
                  </a:lnTo>
                  <a:lnTo>
                    <a:pt x="1310784" y="1673839"/>
                  </a:lnTo>
                  <a:lnTo>
                    <a:pt x="1322686" y="1677541"/>
                  </a:lnTo>
                  <a:lnTo>
                    <a:pt x="1334588" y="1680714"/>
                  </a:lnTo>
                  <a:lnTo>
                    <a:pt x="1346225" y="1683094"/>
                  </a:lnTo>
                  <a:lnTo>
                    <a:pt x="1357862" y="1685474"/>
                  </a:lnTo>
                  <a:lnTo>
                    <a:pt x="1368971" y="1687325"/>
                  </a:lnTo>
                  <a:lnTo>
                    <a:pt x="1380079" y="1688382"/>
                  </a:lnTo>
                  <a:lnTo>
                    <a:pt x="1390658" y="1689705"/>
                  </a:lnTo>
                  <a:lnTo>
                    <a:pt x="1401238" y="1690498"/>
                  </a:lnTo>
                  <a:lnTo>
                    <a:pt x="1411024" y="1690762"/>
                  </a:lnTo>
                  <a:lnTo>
                    <a:pt x="1411817" y="1709537"/>
                  </a:lnTo>
                  <a:lnTo>
                    <a:pt x="1412346" y="1728311"/>
                  </a:lnTo>
                  <a:lnTo>
                    <a:pt x="1412875" y="1747086"/>
                  </a:lnTo>
                  <a:lnTo>
                    <a:pt x="1412875" y="1766125"/>
                  </a:lnTo>
                  <a:lnTo>
                    <a:pt x="1412346" y="1792832"/>
                  </a:lnTo>
                  <a:lnTo>
                    <a:pt x="1411553" y="1819275"/>
                  </a:lnTo>
                  <a:lnTo>
                    <a:pt x="793" y="1811078"/>
                  </a:lnTo>
                  <a:lnTo>
                    <a:pt x="264" y="1784635"/>
                  </a:lnTo>
                  <a:lnTo>
                    <a:pt x="0" y="1757928"/>
                  </a:lnTo>
                  <a:lnTo>
                    <a:pt x="529" y="1733071"/>
                  </a:lnTo>
                  <a:lnTo>
                    <a:pt x="1058" y="1708215"/>
                  </a:lnTo>
                  <a:lnTo>
                    <a:pt x="2645" y="1683623"/>
                  </a:lnTo>
                  <a:lnTo>
                    <a:pt x="4232" y="1659031"/>
                  </a:lnTo>
                  <a:lnTo>
                    <a:pt x="6612" y="1634968"/>
                  </a:lnTo>
                  <a:lnTo>
                    <a:pt x="8992" y="1610905"/>
                  </a:lnTo>
                  <a:lnTo>
                    <a:pt x="12166" y="1587106"/>
                  </a:lnTo>
                  <a:lnTo>
                    <a:pt x="15340" y="1563307"/>
                  </a:lnTo>
                  <a:lnTo>
                    <a:pt x="19307" y="1539773"/>
                  </a:lnTo>
                  <a:lnTo>
                    <a:pt x="23804" y="1516503"/>
                  </a:lnTo>
                  <a:lnTo>
                    <a:pt x="28300" y="1493762"/>
                  </a:lnTo>
                  <a:lnTo>
                    <a:pt x="33590" y="1470757"/>
                  </a:lnTo>
                  <a:lnTo>
                    <a:pt x="38879" y="1448280"/>
                  </a:lnTo>
                  <a:lnTo>
                    <a:pt x="44962" y="1425804"/>
                  </a:lnTo>
                  <a:lnTo>
                    <a:pt x="51045" y="1403856"/>
                  </a:lnTo>
                  <a:lnTo>
                    <a:pt x="57658" y="1382173"/>
                  </a:lnTo>
                  <a:lnTo>
                    <a:pt x="64799" y="1360754"/>
                  </a:lnTo>
                  <a:lnTo>
                    <a:pt x="72204" y="1339336"/>
                  </a:lnTo>
                  <a:lnTo>
                    <a:pt x="79874" y="1318710"/>
                  </a:lnTo>
                  <a:lnTo>
                    <a:pt x="88073" y="1298085"/>
                  </a:lnTo>
                  <a:lnTo>
                    <a:pt x="96272" y="1277459"/>
                  </a:lnTo>
                  <a:lnTo>
                    <a:pt x="105265" y="1257627"/>
                  </a:lnTo>
                  <a:lnTo>
                    <a:pt x="114522" y="1238059"/>
                  </a:lnTo>
                  <a:lnTo>
                    <a:pt x="123779" y="1218491"/>
                  </a:lnTo>
                  <a:lnTo>
                    <a:pt x="133565" y="1199452"/>
                  </a:lnTo>
                  <a:lnTo>
                    <a:pt x="143615" y="1180678"/>
                  </a:lnTo>
                  <a:lnTo>
                    <a:pt x="153930" y="1162432"/>
                  </a:lnTo>
                  <a:lnTo>
                    <a:pt x="165038" y="1144451"/>
                  </a:lnTo>
                  <a:lnTo>
                    <a:pt x="176147" y="1126734"/>
                  </a:lnTo>
                  <a:lnTo>
                    <a:pt x="187255" y="1109546"/>
                  </a:lnTo>
                  <a:lnTo>
                    <a:pt x="198892" y="1092623"/>
                  </a:lnTo>
                  <a:lnTo>
                    <a:pt x="210794" y="1075964"/>
                  </a:lnTo>
                  <a:lnTo>
                    <a:pt x="222960" y="1059834"/>
                  </a:lnTo>
                  <a:lnTo>
                    <a:pt x="235391" y="1044232"/>
                  </a:lnTo>
                  <a:lnTo>
                    <a:pt x="248351" y="1028895"/>
                  </a:lnTo>
                  <a:lnTo>
                    <a:pt x="261310" y="1013823"/>
                  </a:lnTo>
                  <a:lnTo>
                    <a:pt x="274799" y="999544"/>
                  </a:lnTo>
                  <a:lnTo>
                    <a:pt x="288288" y="985529"/>
                  </a:lnTo>
                  <a:lnTo>
                    <a:pt x="302041" y="971779"/>
                  </a:lnTo>
                  <a:lnTo>
                    <a:pt x="316059" y="958557"/>
                  </a:lnTo>
                  <a:lnTo>
                    <a:pt x="330341" y="946129"/>
                  </a:lnTo>
                  <a:lnTo>
                    <a:pt x="344888" y="933965"/>
                  </a:lnTo>
                  <a:lnTo>
                    <a:pt x="359963" y="922066"/>
                  </a:lnTo>
                  <a:lnTo>
                    <a:pt x="374774" y="910695"/>
                  </a:lnTo>
                  <a:lnTo>
                    <a:pt x="389850" y="899589"/>
                  </a:lnTo>
                  <a:lnTo>
                    <a:pt x="405454" y="889541"/>
                  </a:lnTo>
                  <a:lnTo>
                    <a:pt x="420794" y="879757"/>
                  </a:lnTo>
                  <a:lnTo>
                    <a:pt x="436664" y="870238"/>
                  </a:lnTo>
                  <a:lnTo>
                    <a:pt x="452533" y="861511"/>
                  </a:lnTo>
                  <a:lnTo>
                    <a:pt x="468666" y="853314"/>
                  </a:lnTo>
                  <a:lnTo>
                    <a:pt x="485064" y="845646"/>
                  </a:lnTo>
                  <a:lnTo>
                    <a:pt x="501727" y="838242"/>
                  </a:lnTo>
                  <a:lnTo>
                    <a:pt x="518389" y="831631"/>
                  </a:lnTo>
                  <a:lnTo>
                    <a:pt x="535316" y="825285"/>
                  </a:lnTo>
                  <a:lnTo>
                    <a:pt x="552243" y="819732"/>
                  </a:lnTo>
                  <a:lnTo>
                    <a:pt x="569435" y="814972"/>
                  </a:lnTo>
                  <a:lnTo>
                    <a:pt x="586891" y="810477"/>
                  </a:lnTo>
                  <a:lnTo>
                    <a:pt x="604347" y="806510"/>
                  </a:lnTo>
                  <a:lnTo>
                    <a:pt x="622067" y="803337"/>
                  </a:lnTo>
                  <a:lnTo>
                    <a:pt x="639787" y="800693"/>
                  </a:lnTo>
                  <a:lnTo>
                    <a:pt x="657508" y="798577"/>
                  </a:lnTo>
                  <a:lnTo>
                    <a:pt x="675757" y="796991"/>
                  </a:lnTo>
                  <a:lnTo>
                    <a:pt x="693742" y="796197"/>
                  </a:lnTo>
                  <a:lnTo>
                    <a:pt x="711992" y="795933"/>
                  </a:lnTo>
                  <a:close/>
                  <a:moveTo>
                    <a:pt x="1463280" y="660400"/>
                  </a:moveTo>
                  <a:lnTo>
                    <a:pt x="1469893" y="660400"/>
                  </a:lnTo>
                  <a:lnTo>
                    <a:pt x="1477034" y="660665"/>
                  </a:lnTo>
                  <a:lnTo>
                    <a:pt x="1483912" y="660929"/>
                  </a:lnTo>
                  <a:lnTo>
                    <a:pt x="1490789" y="661988"/>
                  </a:lnTo>
                  <a:lnTo>
                    <a:pt x="1497666" y="663046"/>
                  </a:lnTo>
                  <a:lnTo>
                    <a:pt x="1504279" y="664898"/>
                  </a:lnTo>
                  <a:lnTo>
                    <a:pt x="1510891" y="666750"/>
                  </a:lnTo>
                  <a:lnTo>
                    <a:pt x="1516975" y="668867"/>
                  </a:lnTo>
                  <a:lnTo>
                    <a:pt x="1523323" y="671248"/>
                  </a:lnTo>
                  <a:lnTo>
                    <a:pt x="1529142" y="673894"/>
                  </a:lnTo>
                  <a:lnTo>
                    <a:pt x="1535226" y="676804"/>
                  </a:lnTo>
                  <a:lnTo>
                    <a:pt x="1540780" y="679979"/>
                  </a:lnTo>
                  <a:lnTo>
                    <a:pt x="1546599" y="683683"/>
                  </a:lnTo>
                  <a:lnTo>
                    <a:pt x="1551625" y="687123"/>
                  </a:lnTo>
                  <a:lnTo>
                    <a:pt x="1556915" y="691356"/>
                  </a:lnTo>
                  <a:lnTo>
                    <a:pt x="1561676" y="695590"/>
                  </a:lnTo>
                  <a:lnTo>
                    <a:pt x="1566437" y="700088"/>
                  </a:lnTo>
                  <a:lnTo>
                    <a:pt x="1570934" y="704850"/>
                  </a:lnTo>
                  <a:lnTo>
                    <a:pt x="1575431" y="709613"/>
                  </a:lnTo>
                  <a:lnTo>
                    <a:pt x="1579134" y="714640"/>
                  </a:lnTo>
                  <a:lnTo>
                    <a:pt x="1583101" y="719931"/>
                  </a:lnTo>
                  <a:lnTo>
                    <a:pt x="1586540" y="725223"/>
                  </a:lnTo>
                  <a:lnTo>
                    <a:pt x="1589978" y="731044"/>
                  </a:lnTo>
                  <a:lnTo>
                    <a:pt x="1592888" y="736600"/>
                  </a:lnTo>
                  <a:lnTo>
                    <a:pt x="1595533" y="742685"/>
                  </a:lnTo>
                  <a:lnTo>
                    <a:pt x="1597914" y="748771"/>
                  </a:lnTo>
                  <a:lnTo>
                    <a:pt x="1600030" y="754856"/>
                  </a:lnTo>
                  <a:lnTo>
                    <a:pt x="1601881" y="761206"/>
                  </a:lnTo>
                  <a:lnTo>
                    <a:pt x="1603204" y="767556"/>
                  </a:lnTo>
                  <a:lnTo>
                    <a:pt x="1604526" y="774435"/>
                  </a:lnTo>
                  <a:lnTo>
                    <a:pt x="1605320" y="781050"/>
                  </a:lnTo>
                  <a:lnTo>
                    <a:pt x="1605584" y="787665"/>
                  </a:lnTo>
                  <a:lnTo>
                    <a:pt x="1605849" y="794544"/>
                  </a:lnTo>
                  <a:lnTo>
                    <a:pt x="1604791" y="967581"/>
                  </a:lnTo>
                  <a:lnTo>
                    <a:pt x="1781745" y="968375"/>
                  </a:lnTo>
                  <a:lnTo>
                    <a:pt x="1788887" y="968640"/>
                  </a:lnTo>
                  <a:lnTo>
                    <a:pt x="1795764" y="969169"/>
                  </a:lnTo>
                  <a:lnTo>
                    <a:pt x="1802641" y="970227"/>
                  </a:lnTo>
                  <a:lnTo>
                    <a:pt x="1809518" y="971285"/>
                  </a:lnTo>
                  <a:lnTo>
                    <a:pt x="1815866" y="972873"/>
                  </a:lnTo>
                  <a:lnTo>
                    <a:pt x="1822479" y="974725"/>
                  </a:lnTo>
                  <a:lnTo>
                    <a:pt x="1828827" y="977106"/>
                  </a:lnTo>
                  <a:lnTo>
                    <a:pt x="1834911" y="979488"/>
                  </a:lnTo>
                  <a:lnTo>
                    <a:pt x="1840994" y="982133"/>
                  </a:lnTo>
                  <a:lnTo>
                    <a:pt x="1846813" y="985044"/>
                  </a:lnTo>
                  <a:lnTo>
                    <a:pt x="1852633" y="988219"/>
                  </a:lnTo>
                  <a:lnTo>
                    <a:pt x="1857923" y="991923"/>
                  </a:lnTo>
                  <a:lnTo>
                    <a:pt x="1863213" y="995363"/>
                  </a:lnTo>
                  <a:lnTo>
                    <a:pt x="1868503" y="999596"/>
                  </a:lnTo>
                  <a:lnTo>
                    <a:pt x="1873264" y="1003829"/>
                  </a:lnTo>
                  <a:lnTo>
                    <a:pt x="1878025" y="1008327"/>
                  </a:lnTo>
                  <a:lnTo>
                    <a:pt x="1882522" y="1012825"/>
                  </a:lnTo>
                  <a:lnTo>
                    <a:pt x="1886754" y="1017852"/>
                  </a:lnTo>
                  <a:lnTo>
                    <a:pt x="1890986" y="1022879"/>
                  </a:lnTo>
                  <a:lnTo>
                    <a:pt x="1894689" y="1027906"/>
                  </a:lnTo>
                  <a:lnTo>
                    <a:pt x="1898128" y="1033463"/>
                  </a:lnTo>
                  <a:lnTo>
                    <a:pt x="1901302" y="1039283"/>
                  </a:lnTo>
                  <a:lnTo>
                    <a:pt x="1904211" y="1044840"/>
                  </a:lnTo>
                  <a:lnTo>
                    <a:pt x="1907385" y="1050660"/>
                  </a:lnTo>
                  <a:lnTo>
                    <a:pt x="1909766" y="1056746"/>
                  </a:lnTo>
                  <a:lnTo>
                    <a:pt x="1911882" y="1063096"/>
                  </a:lnTo>
                  <a:lnTo>
                    <a:pt x="1913469" y="1069181"/>
                  </a:lnTo>
                  <a:lnTo>
                    <a:pt x="1915056" y="1075796"/>
                  </a:lnTo>
                  <a:lnTo>
                    <a:pt x="1916114" y="1082410"/>
                  </a:lnTo>
                  <a:lnTo>
                    <a:pt x="1916908" y="1089290"/>
                  </a:lnTo>
                  <a:lnTo>
                    <a:pt x="1917436" y="1095640"/>
                  </a:lnTo>
                  <a:lnTo>
                    <a:pt x="1917701" y="1102783"/>
                  </a:lnTo>
                  <a:lnTo>
                    <a:pt x="1917436" y="1109663"/>
                  </a:lnTo>
                  <a:lnTo>
                    <a:pt x="1916908" y="1116277"/>
                  </a:lnTo>
                  <a:lnTo>
                    <a:pt x="1915849" y="1123156"/>
                  </a:lnTo>
                  <a:lnTo>
                    <a:pt x="1914791" y="1129506"/>
                  </a:lnTo>
                  <a:lnTo>
                    <a:pt x="1913204" y="1136121"/>
                  </a:lnTo>
                  <a:lnTo>
                    <a:pt x="1911088" y="1142471"/>
                  </a:lnTo>
                  <a:lnTo>
                    <a:pt x="1908972" y="1148556"/>
                  </a:lnTo>
                  <a:lnTo>
                    <a:pt x="1906592" y="1154642"/>
                  </a:lnTo>
                  <a:lnTo>
                    <a:pt x="1903682" y="1160463"/>
                  </a:lnTo>
                  <a:lnTo>
                    <a:pt x="1900773" y="1166283"/>
                  </a:lnTo>
                  <a:lnTo>
                    <a:pt x="1897599" y="1171840"/>
                  </a:lnTo>
                  <a:lnTo>
                    <a:pt x="1893896" y="1177131"/>
                  </a:lnTo>
                  <a:lnTo>
                    <a:pt x="1889928" y="1182158"/>
                  </a:lnTo>
                  <a:lnTo>
                    <a:pt x="1885960" y="1187450"/>
                  </a:lnTo>
                  <a:lnTo>
                    <a:pt x="1881728" y="1192213"/>
                  </a:lnTo>
                  <a:lnTo>
                    <a:pt x="1876967" y="1196975"/>
                  </a:lnTo>
                  <a:lnTo>
                    <a:pt x="1872206" y="1201208"/>
                  </a:lnTo>
                  <a:lnTo>
                    <a:pt x="1867445" y="1205442"/>
                  </a:lnTo>
                  <a:lnTo>
                    <a:pt x="1862155" y="1209411"/>
                  </a:lnTo>
                  <a:lnTo>
                    <a:pt x="1856600" y="1212850"/>
                  </a:lnTo>
                  <a:lnTo>
                    <a:pt x="1851046" y="1216554"/>
                  </a:lnTo>
                  <a:lnTo>
                    <a:pt x="1845491" y="1219465"/>
                  </a:lnTo>
                  <a:lnTo>
                    <a:pt x="1839407" y="1222375"/>
                  </a:lnTo>
                  <a:lnTo>
                    <a:pt x="1833588" y="1225021"/>
                  </a:lnTo>
                  <a:lnTo>
                    <a:pt x="1827240" y="1227402"/>
                  </a:lnTo>
                  <a:lnTo>
                    <a:pt x="1821156" y="1229519"/>
                  </a:lnTo>
                  <a:lnTo>
                    <a:pt x="1814544" y="1231371"/>
                  </a:lnTo>
                  <a:lnTo>
                    <a:pt x="1807931" y="1232958"/>
                  </a:lnTo>
                  <a:lnTo>
                    <a:pt x="1801054" y="1234017"/>
                  </a:lnTo>
                  <a:lnTo>
                    <a:pt x="1794177" y="1234546"/>
                  </a:lnTo>
                  <a:lnTo>
                    <a:pt x="1787300" y="1235340"/>
                  </a:lnTo>
                  <a:lnTo>
                    <a:pt x="1780158" y="1235340"/>
                  </a:lnTo>
                  <a:lnTo>
                    <a:pt x="1603204" y="1234281"/>
                  </a:lnTo>
                  <a:lnTo>
                    <a:pt x="1602410" y="1407319"/>
                  </a:lnTo>
                  <a:lnTo>
                    <a:pt x="1602146" y="1413933"/>
                  </a:lnTo>
                  <a:lnTo>
                    <a:pt x="1601617" y="1420813"/>
                  </a:lnTo>
                  <a:lnTo>
                    <a:pt x="1600559" y="1427692"/>
                  </a:lnTo>
                  <a:lnTo>
                    <a:pt x="1599501" y="1434306"/>
                  </a:lnTo>
                  <a:lnTo>
                    <a:pt x="1597914" y="1440392"/>
                  </a:lnTo>
                  <a:lnTo>
                    <a:pt x="1595798" y="1446742"/>
                  </a:lnTo>
                  <a:lnTo>
                    <a:pt x="1593682" y="1453092"/>
                  </a:lnTo>
                  <a:lnTo>
                    <a:pt x="1591301" y="1459177"/>
                  </a:lnTo>
                  <a:lnTo>
                    <a:pt x="1588656" y="1464998"/>
                  </a:lnTo>
                  <a:lnTo>
                    <a:pt x="1585482" y="1470819"/>
                  </a:lnTo>
                  <a:lnTo>
                    <a:pt x="1582043" y="1476111"/>
                  </a:lnTo>
                  <a:lnTo>
                    <a:pt x="1578605" y="1481931"/>
                  </a:lnTo>
                  <a:lnTo>
                    <a:pt x="1574637" y="1486958"/>
                  </a:lnTo>
                  <a:lnTo>
                    <a:pt x="1570670" y="1491986"/>
                  </a:lnTo>
                  <a:lnTo>
                    <a:pt x="1566437" y="1496748"/>
                  </a:lnTo>
                  <a:lnTo>
                    <a:pt x="1561941" y="1501511"/>
                  </a:lnTo>
                  <a:lnTo>
                    <a:pt x="1557180" y="1505744"/>
                  </a:lnTo>
                  <a:lnTo>
                    <a:pt x="1552154" y="1509713"/>
                  </a:lnTo>
                  <a:lnTo>
                    <a:pt x="1546864" y="1513946"/>
                  </a:lnTo>
                  <a:lnTo>
                    <a:pt x="1541309" y="1517650"/>
                  </a:lnTo>
                  <a:lnTo>
                    <a:pt x="1536019" y="1521090"/>
                  </a:lnTo>
                  <a:lnTo>
                    <a:pt x="1530200" y="1524000"/>
                  </a:lnTo>
                  <a:lnTo>
                    <a:pt x="1524381" y="1527175"/>
                  </a:lnTo>
                  <a:lnTo>
                    <a:pt x="1518297" y="1529821"/>
                  </a:lnTo>
                  <a:lnTo>
                    <a:pt x="1511949" y="1532202"/>
                  </a:lnTo>
                  <a:lnTo>
                    <a:pt x="1505601" y="1534319"/>
                  </a:lnTo>
                  <a:lnTo>
                    <a:pt x="1499253" y="1535906"/>
                  </a:lnTo>
                  <a:lnTo>
                    <a:pt x="1492640" y="1537494"/>
                  </a:lnTo>
                  <a:lnTo>
                    <a:pt x="1485763" y="1538288"/>
                  </a:lnTo>
                  <a:lnTo>
                    <a:pt x="1478886" y="1539346"/>
                  </a:lnTo>
                  <a:lnTo>
                    <a:pt x="1472009" y="1539875"/>
                  </a:lnTo>
                  <a:lnTo>
                    <a:pt x="1464867" y="1539875"/>
                  </a:lnTo>
                  <a:lnTo>
                    <a:pt x="1458255" y="1539611"/>
                  </a:lnTo>
                  <a:lnTo>
                    <a:pt x="1451113" y="1539346"/>
                  </a:lnTo>
                  <a:lnTo>
                    <a:pt x="1444236" y="1538288"/>
                  </a:lnTo>
                  <a:lnTo>
                    <a:pt x="1437623" y="1536965"/>
                  </a:lnTo>
                  <a:lnTo>
                    <a:pt x="1431010" y="1535377"/>
                  </a:lnTo>
                  <a:lnTo>
                    <a:pt x="1424398" y="1533525"/>
                  </a:lnTo>
                  <a:lnTo>
                    <a:pt x="1418314" y="1531673"/>
                  </a:lnTo>
                  <a:lnTo>
                    <a:pt x="1411966" y="1529292"/>
                  </a:lnTo>
                  <a:lnTo>
                    <a:pt x="1406147" y="1526381"/>
                  </a:lnTo>
                  <a:lnTo>
                    <a:pt x="1400063" y="1523471"/>
                  </a:lnTo>
                  <a:lnTo>
                    <a:pt x="1394509" y="1520296"/>
                  </a:lnTo>
                  <a:lnTo>
                    <a:pt x="1388690" y="1516592"/>
                  </a:lnTo>
                  <a:lnTo>
                    <a:pt x="1383399" y="1512888"/>
                  </a:lnTo>
                  <a:lnTo>
                    <a:pt x="1378374" y="1508919"/>
                  </a:lnTo>
                  <a:lnTo>
                    <a:pt x="1373348" y="1504686"/>
                  </a:lnTo>
                  <a:lnTo>
                    <a:pt x="1368852" y="1500188"/>
                  </a:lnTo>
                  <a:lnTo>
                    <a:pt x="1364355" y="1495425"/>
                  </a:lnTo>
                  <a:lnTo>
                    <a:pt x="1359858" y="1490663"/>
                  </a:lnTo>
                  <a:lnTo>
                    <a:pt x="1356155" y="1485636"/>
                  </a:lnTo>
                  <a:lnTo>
                    <a:pt x="1352188" y="1480344"/>
                  </a:lnTo>
                  <a:lnTo>
                    <a:pt x="1348749" y="1475052"/>
                  </a:lnTo>
                  <a:lnTo>
                    <a:pt x="1345311" y="1469496"/>
                  </a:lnTo>
                  <a:lnTo>
                    <a:pt x="1342401" y="1463675"/>
                  </a:lnTo>
                  <a:lnTo>
                    <a:pt x="1339756" y="1457854"/>
                  </a:lnTo>
                  <a:lnTo>
                    <a:pt x="1337375" y="1451504"/>
                  </a:lnTo>
                  <a:lnTo>
                    <a:pt x="1335259" y="1445154"/>
                  </a:lnTo>
                  <a:lnTo>
                    <a:pt x="1333408" y="1439069"/>
                  </a:lnTo>
                  <a:lnTo>
                    <a:pt x="1332085" y="1432454"/>
                  </a:lnTo>
                  <a:lnTo>
                    <a:pt x="1330763" y="1425840"/>
                  </a:lnTo>
                  <a:lnTo>
                    <a:pt x="1329969" y="1419490"/>
                  </a:lnTo>
                  <a:lnTo>
                    <a:pt x="1329440" y="1412611"/>
                  </a:lnTo>
                  <a:lnTo>
                    <a:pt x="1329440" y="1405731"/>
                  </a:lnTo>
                  <a:lnTo>
                    <a:pt x="1330234" y="1232958"/>
                  </a:lnTo>
                  <a:lnTo>
                    <a:pt x="1153279" y="1231636"/>
                  </a:lnTo>
                  <a:lnTo>
                    <a:pt x="1146402" y="1231371"/>
                  </a:lnTo>
                  <a:lnTo>
                    <a:pt x="1139525" y="1231106"/>
                  </a:lnTo>
                  <a:lnTo>
                    <a:pt x="1132648" y="1230048"/>
                  </a:lnTo>
                  <a:lnTo>
                    <a:pt x="1125771" y="1228990"/>
                  </a:lnTo>
                  <a:lnTo>
                    <a:pt x="1119423" y="1227138"/>
                  </a:lnTo>
                  <a:lnTo>
                    <a:pt x="1112810" y="1225286"/>
                  </a:lnTo>
                  <a:lnTo>
                    <a:pt x="1106462" y="1223433"/>
                  </a:lnTo>
                  <a:lnTo>
                    <a:pt x="1100378" y="1221052"/>
                  </a:lnTo>
                  <a:lnTo>
                    <a:pt x="1094295" y="1218406"/>
                  </a:lnTo>
                  <a:lnTo>
                    <a:pt x="1088476" y="1215231"/>
                  </a:lnTo>
                  <a:lnTo>
                    <a:pt x="1082656" y="1212056"/>
                  </a:lnTo>
                  <a:lnTo>
                    <a:pt x="1077102" y="1208352"/>
                  </a:lnTo>
                  <a:lnTo>
                    <a:pt x="1071812" y="1204648"/>
                  </a:lnTo>
                  <a:lnTo>
                    <a:pt x="1066786" y="1200679"/>
                  </a:lnTo>
                  <a:lnTo>
                    <a:pt x="1062025" y="1196446"/>
                  </a:lnTo>
                  <a:lnTo>
                    <a:pt x="1057264" y="1192213"/>
                  </a:lnTo>
                  <a:lnTo>
                    <a:pt x="1052767" y="1187450"/>
                  </a:lnTo>
                  <a:lnTo>
                    <a:pt x="1048271" y="1182688"/>
                  </a:lnTo>
                  <a:lnTo>
                    <a:pt x="1044303" y="1177396"/>
                  </a:lnTo>
                  <a:lnTo>
                    <a:pt x="1040600" y="1172104"/>
                  </a:lnTo>
                  <a:lnTo>
                    <a:pt x="1036897" y="1166813"/>
                  </a:lnTo>
                  <a:lnTo>
                    <a:pt x="1033723" y="1161256"/>
                  </a:lnTo>
                  <a:lnTo>
                    <a:pt x="1030549" y="1155435"/>
                  </a:lnTo>
                  <a:lnTo>
                    <a:pt x="1027904" y="1149615"/>
                  </a:lnTo>
                  <a:lnTo>
                    <a:pt x="1025523" y="1143265"/>
                  </a:lnTo>
                  <a:lnTo>
                    <a:pt x="1023407" y="1137444"/>
                  </a:lnTo>
                  <a:lnTo>
                    <a:pt x="1021820" y="1130829"/>
                  </a:lnTo>
                  <a:lnTo>
                    <a:pt x="1020233" y="1124215"/>
                  </a:lnTo>
                  <a:lnTo>
                    <a:pt x="1019175" y="1117600"/>
                  </a:lnTo>
                  <a:lnTo>
                    <a:pt x="1018117" y="1111250"/>
                  </a:lnTo>
                  <a:lnTo>
                    <a:pt x="1017853" y="1104371"/>
                  </a:lnTo>
                  <a:lnTo>
                    <a:pt x="1017588" y="1097492"/>
                  </a:lnTo>
                  <a:lnTo>
                    <a:pt x="1017853" y="1090613"/>
                  </a:lnTo>
                  <a:lnTo>
                    <a:pt x="1018382" y="1083733"/>
                  </a:lnTo>
                  <a:lnTo>
                    <a:pt x="1019440" y="1077383"/>
                  </a:lnTo>
                  <a:lnTo>
                    <a:pt x="1020498" y="1070769"/>
                  </a:lnTo>
                  <a:lnTo>
                    <a:pt x="1022085" y="1064154"/>
                  </a:lnTo>
                  <a:lnTo>
                    <a:pt x="1024201" y="1057804"/>
                  </a:lnTo>
                  <a:lnTo>
                    <a:pt x="1026317" y="1051719"/>
                  </a:lnTo>
                  <a:lnTo>
                    <a:pt x="1028697" y="1045633"/>
                  </a:lnTo>
                  <a:lnTo>
                    <a:pt x="1031607" y="1039813"/>
                  </a:lnTo>
                  <a:lnTo>
                    <a:pt x="1034516" y="1033992"/>
                  </a:lnTo>
                  <a:lnTo>
                    <a:pt x="1037690" y="1028435"/>
                  </a:lnTo>
                  <a:lnTo>
                    <a:pt x="1041394" y="1023144"/>
                  </a:lnTo>
                  <a:lnTo>
                    <a:pt x="1045361" y="1017852"/>
                  </a:lnTo>
                  <a:lnTo>
                    <a:pt x="1049329" y="1012825"/>
                  </a:lnTo>
                  <a:lnTo>
                    <a:pt x="1053561" y="1008063"/>
                  </a:lnTo>
                  <a:lnTo>
                    <a:pt x="1058057" y="1003565"/>
                  </a:lnTo>
                  <a:lnTo>
                    <a:pt x="1062818" y="999067"/>
                  </a:lnTo>
                  <a:lnTo>
                    <a:pt x="1067844" y="994833"/>
                  </a:lnTo>
                  <a:lnTo>
                    <a:pt x="1073134" y="990865"/>
                  </a:lnTo>
                  <a:lnTo>
                    <a:pt x="1078689" y="987160"/>
                  </a:lnTo>
                  <a:lnTo>
                    <a:pt x="1083979" y="983721"/>
                  </a:lnTo>
                  <a:lnTo>
                    <a:pt x="1089798" y="980546"/>
                  </a:lnTo>
                  <a:lnTo>
                    <a:pt x="1095617" y="977635"/>
                  </a:lnTo>
                  <a:lnTo>
                    <a:pt x="1101701" y="975254"/>
                  </a:lnTo>
                  <a:lnTo>
                    <a:pt x="1108049" y="972873"/>
                  </a:lnTo>
                  <a:lnTo>
                    <a:pt x="1114133" y="970756"/>
                  </a:lnTo>
                  <a:lnTo>
                    <a:pt x="1120745" y="968904"/>
                  </a:lnTo>
                  <a:lnTo>
                    <a:pt x="1127358" y="967581"/>
                  </a:lnTo>
                  <a:lnTo>
                    <a:pt x="1134235" y="966258"/>
                  </a:lnTo>
                  <a:lnTo>
                    <a:pt x="1141112" y="965465"/>
                  </a:lnTo>
                  <a:lnTo>
                    <a:pt x="1147989" y="965200"/>
                  </a:lnTo>
                  <a:lnTo>
                    <a:pt x="1155131" y="964935"/>
                  </a:lnTo>
                  <a:lnTo>
                    <a:pt x="1332085" y="965994"/>
                  </a:lnTo>
                  <a:lnTo>
                    <a:pt x="1332879" y="793221"/>
                  </a:lnTo>
                  <a:lnTo>
                    <a:pt x="1333143" y="786342"/>
                  </a:lnTo>
                  <a:lnTo>
                    <a:pt x="1333672" y="779463"/>
                  </a:lnTo>
                  <a:lnTo>
                    <a:pt x="1334730" y="772583"/>
                  </a:lnTo>
                  <a:lnTo>
                    <a:pt x="1335788" y="765969"/>
                  </a:lnTo>
                  <a:lnTo>
                    <a:pt x="1337375" y="759883"/>
                  </a:lnTo>
                  <a:lnTo>
                    <a:pt x="1339227" y="753269"/>
                  </a:lnTo>
                  <a:lnTo>
                    <a:pt x="1341608" y="747448"/>
                  </a:lnTo>
                  <a:lnTo>
                    <a:pt x="1343988" y="741098"/>
                  </a:lnTo>
                  <a:lnTo>
                    <a:pt x="1346633" y="735013"/>
                  </a:lnTo>
                  <a:lnTo>
                    <a:pt x="1349807" y="729456"/>
                  </a:lnTo>
                  <a:lnTo>
                    <a:pt x="1353246" y="723900"/>
                  </a:lnTo>
                  <a:lnTo>
                    <a:pt x="1356684" y="718344"/>
                  </a:lnTo>
                  <a:lnTo>
                    <a:pt x="1360652" y="713317"/>
                  </a:lnTo>
                  <a:lnTo>
                    <a:pt x="1364355" y="708290"/>
                  </a:lnTo>
                  <a:lnTo>
                    <a:pt x="1368852" y="703527"/>
                  </a:lnTo>
                  <a:lnTo>
                    <a:pt x="1373348" y="698765"/>
                  </a:lnTo>
                  <a:lnTo>
                    <a:pt x="1378109" y="694267"/>
                  </a:lnTo>
                  <a:lnTo>
                    <a:pt x="1383135" y="690298"/>
                  </a:lnTo>
                  <a:lnTo>
                    <a:pt x="1388161" y="686329"/>
                  </a:lnTo>
                  <a:lnTo>
                    <a:pt x="1393451" y="682890"/>
                  </a:lnTo>
                  <a:lnTo>
                    <a:pt x="1399270" y="679186"/>
                  </a:lnTo>
                  <a:lnTo>
                    <a:pt x="1404824" y="676275"/>
                  </a:lnTo>
                  <a:lnTo>
                    <a:pt x="1410908" y="673365"/>
                  </a:lnTo>
                  <a:lnTo>
                    <a:pt x="1416992" y="670454"/>
                  </a:lnTo>
                  <a:lnTo>
                    <a:pt x="1423075" y="668073"/>
                  </a:lnTo>
                  <a:lnTo>
                    <a:pt x="1429688" y="666221"/>
                  </a:lnTo>
                  <a:lnTo>
                    <a:pt x="1436036" y="664369"/>
                  </a:lnTo>
                  <a:lnTo>
                    <a:pt x="1442649" y="662781"/>
                  </a:lnTo>
                  <a:lnTo>
                    <a:pt x="1449261" y="661988"/>
                  </a:lnTo>
                  <a:lnTo>
                    <a:pt x="1456138" y="660929"/>
                  </a:lnTo>
                  <a:lnTo>
                    <a:pt x="1463280" y="660400"/>
                  </a:lnTo>
                  <a:close/>
                  <a:moveTo>
                    <a:pt x="714108" y="0"/>
                  </a:moveTo>
                  <a:lnTo>
                    <a:pt x="723364" y="0"/>
                  </a:lnTo>
                  <a:lnTo>
                    <a:pt x="732621" y="264"/>
                  </a:lnTo>
                  <a:lnTo>
                    <a:pt x="741349" y="529"/>
                  </a:lnTo>
                  <a:lnTo>
                    <a:pt x="750606" y="1058"/>
                  </a:lnTo>
                  <a:lnTo>
                    <a:pt x="759599" y="2115"/>
                  </a:lnTo>
                  <a:lnTo>
                    <a:pt x="768591" y="3173"/>
                  </a:lnTo>
                  <a:lnTo>
                    <a:pt x="777319" y="4495"/>
                  </a:lnTo>
                  <a:lnTo>
                    <a:pt x="786312" y="5817"/>
                  </a:lnTo>
                  <a:lnTo>
                    <a:pt x="795040" y="7404"/>
                  </a:lnTo>
                  <a:lnTo>
                    <a:pt x="803503" y="9520"/>
                  </a:lnTo>
                  <a:lnTo>
                    <a:pt x="812231" y="11635"/>
                  </a:lnTo>
                  <a:lnTo>
                    <a:pt x="820959" y="14015"/>
                  </a:lnTo>
                  <a:lnTo>
                    <a:pt x="829158" y="16395"/>
                  </a:lnTo>
                  <a:lnTo>
                    <a:pt x="837622" y="19039"/>
                  </a:lnTo>
                  <a:lnTo>
                    <a:pt x="845821" y="21948"/>
                  </a:lnTo>
                  <a:lnTo>
                    <a:pt x="853755" y="24856"/>
                  </a:lnTo>
                  <a:lnTo>
                    <a:pt x="861954" y="28294"/>
                  </a:lnTo>
                  <a:lnTo>
                    <a:pt x="869889" y="31732"/>
                  </a:lnTo>
                  <a:lnTo>
                    <a:pt x="877559" y="35434"/>
                  </a:lnTo>
                  <a:lnTo>
                    <a:pt x="885493" y="39136"/>
                  </a:lnTo>
                  <a:lnTo>
                    <a:pt x="892899" y="43102"/>
                  </a:lnTo>
                  <a:lnTo>
                    <a:pt x="900569" y="47333"/>
                  </a:lnTo>
                  <a:lnTo>
                    <a:pt x="907710" y="51299"/>
                  </a:lnTo>
                  <a:lnTo>
                    <a:pt x="915116" y="56059"/>
                  </a:lnTo>
                  <a:lnTo>
                    <a:pt x="922257" y="60554"/>
                  </a:lnTo>
                  <a:lnTo>
                    <a:pt x="929398" y="65314"/>
                  </a:lnTo>
                  <a:lnTo>
                    <a:pt x="936274" y="70338"/>
                  </a:lnTo>
                  <a:lnTo>
                    <a:pt x="943151" y="75362"/>
                  </a:lnTo>
                  <a:lnTo>
                    <a:pt x="949763" y="80915"/>
                  </a:lnTo>
                  <a:lnTo>
                    <a:pt x="956111" y="86204"/>
                  </a:lnTo>
                  <a:lnTo>
                    <a:pt x="962458" y="91757"/>
                  </a:lnTo>
                  <a:lnTo>
                    <a:pt x="968806" y="97575"/>
                  </a:lnTo>
                  <a:lnTo>
                    <a:pt x="974889" y="103392"/>
                  </a:lnTo>
                  <a:lnTo>
                    <a:pt x="980972" y="109474"/>
                  </a:lnTo>
                  <a:lnTo>
                    <a:pt x="986526" y="115556"/>
                  </a:lnTo>
                  <a:lnTo>
                    <a:pt x="992080" y="121902"/>
                  </a:lnTo>
                  <a:lnTo>
                    <a:pt x="997635" y="128513"/>
                  </a:lnTo>
                  <a:lnTo>
                    <a:pt x="1002924" y="134859"/>
                  </a:lnTo>
                  <a:lnTo>
                    <a:pt x="1008214" y="141470"/>
                  </a:lnTo>
                  <a:lnTo>
                    <a:pt x="1013239" y="148345"/>
                  </a:lnTo>
                  <a:lnTo>
                    <a:pt x="1018000" y="155220"/>
                  </a:lnTo>
                  <a:lnTo>
                    <a:pt x="1022761" y="162360"/>
                  </a:lnTo>
                  <a:lnTo>
                    <a:pt x="1027257" y="169499"/>
                  </a:lnTo>
                  <a:lnTo>
                    <a:pt x="1031489" y="176903"/>
                  </a:lnTo>
                  <a:lnTo>
                    <a:pt x="1035720" y="184043"/>
                  </a:lnTo>
                  <a:lnTo>
                    <a:pt x="1039688" y="191711"/>
                  </a:lnTo>
                  <a:lnTo>
                    <a:pt x="1043655" y="199115"/>
                  </a:lnTo>
                  <a:lnTo>
                    <a:pt x="1047093" y="206784"/>
                  </a:lnTo>
                  <a:lnTo>
                    <a:pt x="1050532" y="214717"/>
                  </a:lnTo>
                  <a:lnTo>
                    <a:pt x="1053705" y="222650"/>
                  </a:lnTo>
                  <a:lnTo>
                    <a:pt x="1057144" y="230318"/>
                  </a:lnTo>
                  <a:lnTo>
                    <a:pt x="1059788" y="238780"/>
                  </a:lnTo>
                  <a:lnTo>
                    <a:pt x="1062433" y="246713"/>
                  </a:lnTo>
                  <a:lnTo>
                    <a:pt x="1064814" y="255175"/>
                  </a:lnTo>
                  <a:lnTo>
                    <a:pt x="1067194" y="263372"/>
                  </a:lnTo>
                  <a:lnTo>
                    <a:pt x="1069310" y="271834"/>
                  </a:lnTo>
                  <a:lnTo>
                    <a:pt x="1070897" y="280031"/>
                  </a:lnTo>
                  <a:lnTo>
                    <a:pt x="1072484" y="288757"/>
                  </a:lnTo>
                  <a:lnTo>
                    <a:pt x="1074071" y="297219"/>
                  </a:lnTo>
                  <a:lnTo>
                    <a:pt x="1075129" y="305945"/>
                  </a:lnTo>
                  <a:lnTo>
                    <a:pt x="1076186" y="314936"/>
                  </a:lnTo>
                  <a:lnTo>
                    <a:pt x="1076980" y="323397"/>
                  </a:lnTo>
                  <a:lnTo>
                    <a:pt x="1077509" y="332388"/>
                  </a:lnTo>
                  <a:lnTo>
                    <a:pt x="1077773" y="341379"/>
                  </a:lnTo>
                  <a:lnTo>
                    <a:pt x="1077773" y="350369"/>
                  </a:lnTo>
                  <a:lnTo>
                    <a:pt x="1077509" y="359360"/>
                  </a:lnTo>
                  <a:lnTo>
                    <a:pt x="1077244" y="368350"/>
                  </a:lnTo>
                  <a:lnTo>
                    <a:pt x="1076716" y="377341"/>
                  </a:lnTo>
                  <a:lnTo>
                    <a:pt x="1075658" y="385803"/>
                  </a:lnTo>
                  <a:lnTo>
                    <a:pt x="1074600" y="394793"/>
                  </a:lnTo>
                  <a:lnTo>
                    <a:pt x="1073277" y="403519"/>
                  </a:lnTo>
                  <a:lnTo>
                    <a:pt x="1071955" y="411981"/>
                  </a:lnTo>
                  <a:lnTo>
                    <a:pt x="1070103" y="420707"/>
                  </a:lnTo>
                  <a:lnTo>
                    <a:pt x="1068252" y="428905"/>
                  </a:lnTo>
                  <a:lnTo>
                    <a:pt x="1065872" y="437366"/>
                  </a:lnTo>
                  <a:lnTo>
                    <a:pt x="1063756" y="445564"/>
                  </a:lnTo>
                  <a:lnTo>
                    <a:pt x="1061111" y="454026"/>
                  </a:lnTo>
                  <a:lnTo>
                    <a:pt x="1058466" y="461958"/>
                  </a:lnTo>
                  <a:lnTo>
                    <a:pt x="1055557" y="469891"/>
                  </a:lnTo>
                  <a:lnTo>
                    <a:pt x="1052383" y="478089"/>
                  </a:lnTo>
                  <a:lnTo>
                    <a:pt x="1048945" y="485757"/>
                  </a:lnTo>
                  <a:lnTo>
                    <a:pt x="1045506" y="493426"/>
                  </a:lnTo>
                  <a:lnTo>
                    <a:pt x="1041804" y="501358"/>
                  </a:lnTo>
                  <a:lnTo>
                    <a:pt x="1038101" y="508762"/>
                  </a:lnTo>
                  <a:lnTo>
                    <a:pt x="1033869" y="516166"/>
                  </a:lnTo>
                  <a:lnTo>
                    <a:pt x="1029637" y="523570"/>
                  </a:lnTo>
                  <a:lnTo>
                    <a:pt x="1025141" y="530710"/>
                  </a:lnTo>
                  <a:lnTo>
                    <a:pt x="1020380" y="537850"/>
                  </a:lnTo>
                  <a:lnTo>
                    <a:pt x="1015620" y="544725"/>
                  </a:lnTo>
                  <a:lnTo>
                    <a:pt x="1010859" y="551864"/>
                  </a:lnTo>
                  <a:lnTo>
                    <a:pt x="1005834" y="558211"/>
                  </a:lnTo>
                  <a:lnTo>
                    <a:pt x="1000544" y="564821"/>
                  </a:lnTo>
                  <a:lnTo>
                    <a:pt x="995254" y="571432"/>
                  </a:lnTo>
                  <a:lnTo>
                    <a:pt x="989436" y="578043"/>
                  </a:lnTo>
                  <a:lnTo>
                    <a:pt x="983882" y="584125"/>
                  </a:lnTo>
                  <a:lnTo>
                    <a:pt x="977798" y="590207"/>
                  </a:lnTo>
                  <a:lnTo>
                    <a:pt x="971980" y="596024"/>
                  </a:lnTo>
                  <a:lnTo>
                    <a:pt x="965632" y="601842"/>
                  </a:lnTo>
                  <a:lnTo>
                    <a:pt x="959549" y="607659"/>
                  </a:lnTo>
                  <a:lnTo>
                    <a:pt x="953201" y="612948"/>
                  </a:lnTo>
                  <a:lnTo>
                    <a:pt x="946325" y="618501"/>
                  </a:lnTo>
                  <a:lnTo>
                    <a:pt x="939713" y="623789"/>
                  </a:lnTo>
                  <a:lnTo>
                    <a:pt x="933100" y="628813"/>
                  </a:lnTo>
                  <a:lnTo>
                    <a:pt x="926224" y="633573"/>
                  </a:lnTo>
                  <a:lnTo>
                    <a:pt x="919083" y="638333"/>
                  </a:lnTo>
                  <a:lnTo>
                    <a:pt x="911942" y="642828"/>
                  </a:lnTo>
                  <a:lnTo>
                    <a:pt x="904536" y="647323"/>
                  </a:lnTo>
                  <a:lnTo>
                    <a:pt x="897131" y="651290"/>
                  </a:lnTo>
                  <a:lnTo>
                    <a:pt x="889461" y="655521"/>
                  </a:lnTo>
                  <a:lnTo>
                    <a:pt x="881791" y="659487"/>
                  </a:lnTo>
                  <a:lnTo>
                    <a:pt x="874120" y="663189"/>
                  </a:lnTo>
                  <a:lnTo>
                    <a:pt x="866186" y="666627"/>
                  </a:lnTo>
                  <a:lnTo>
                    <a:pt x="857987" y="670064"/>
                  </a:lnTo>
                  <a:lnTo>
                    <a:pt x="850052" y="672973"/>
                  </a:lnTo>
                  <a:lnTo>
                    <a:pt x="841853" y="676146"/>
                  </a:lnTo>
                  <a:lnTo>
                    <a:pt x="833654" y="679055"/>
                  </a:lnTo>
                  <a:lnTo>
                    <a:pt x="825455" y="681699"/>
                  </a:lnTo>
                  <a:lnTo>
                    <a:pt x="816992" y="684079"/>
                  </a:lnTo>
                  <a:lnTo>
                    <a:pt x="808264" y="686195"/>
                  </a:lnTo>
                  <a:lnTo>
                    <a:pt x="799800" y="688310"/>
                  </a:lnTo>
                  <a:lnTo>
                    <a:pt x="791072" y="690161"/>
                  </a:lnTo>
                  <a:lnTo>
                    <a:pt x="782609" y="691483"/>
                  </a:lnTo>
                  <a:lnTo>
                    <a:pt x="773616" y="693070"/>
                  </a:lnTo>
                  <a:lnTo>
                    <a:pt x="764624" y="694128"/>
                  </a:lnTo>
                  <a:lnTo>
                    <a:pt x="755632" y="695185"/>
                  </a:lnTo>
                  <a:lnTo>
                    <a:pt x="746639" y="695714"/>
                  </a:lnTo>
                  <a:lnTo>
                    <a:pt x="737647" y="696243"/>
                  </a:lnTo>
                  <a:lnTo>
                    <a:pt x="728390" y="696507"/>
                  </a:lnTo>
                  <a:lnTo>
                    <a:pt x="719133" y="696507"/>
                  </a:lnTo>
                  <a:lnTo>
                    <a:pt x="709876" y="696507"/>
                  </a:lnTo>
                  <a:lnTo>
                    <a:pt x="700883" y="695979"/>
                  </a:lnTo>
                  <a:lnTo>
                    <a:pt x="691891" y="695450"/>
                  </a:lnTo>
                  <a:lnTo>
                    <a:pt x="682898" y="694392"/>
                  </a:lnTo>
                  <a:lnTo>
                    <a:pt x="673906" y="693599"/>
                  </a:lnTo>
                  <a:lnTo>
                    <a:pt x="664913" y="692541"/>
                  </a:lnTo>
                  <a:lnTo>
                    <a:pt x="656186" y="690954"/>
                  </a:lnTo>
                  <a:lnTo>
                    <a:pt x="647458" y="689103"/>
                  </a:lnTo>
                  <a:lnTo>
                    <a:pt x="638730" y="687252"/>
                  </a:lnTo>
                  <a:lnTo>
                    <a:pt x="630266" y="684872"/>
                  </a:lnTo>
                  <a:lnTo>
                    <a:pt x="621538" y="683021"/>
                  </a:lnTo>
                  <a:lnTo>
                    <a:pt x="613339" y="680113"/>
                  </a:lnTo>
                  <a:lnTo>
                    <a:pt x="604876" y="677468"/>
                  </a:lnTo>
                  <a:lnTo>
                    <a:pt x="596676" y="674824"/>
                  </a:lnTo>
                  <a:lnTo>
                    <a:pt x="588478" y="671651"/>
                  </a:lnTo>
                  <a:lnTo>
                    <a:pt x="580543" y="668213"/>
                  </a:lnTo>
                  <a:lnTo>
                    <a:pt x="572873" y="665040"/>
                  </a:lnTo>
                  <a:lnTo>
                    <a:pt x="564674" y="661603"/>
                  </a:lnTo>
                  <a:lnTo>
                    <a:pt x="557004" y="657636"/>
                  </a:lnTo>
                  <a:lnTo>
                    <a:pt x="549598" y="653405"/>
                  </a:lnTo>
                  <a:lnTo>
                    <a:pt x="541928" y="649439"/>
                  </a:lnTo>
                  <a:lnTo>
                    <a:pt x="534787" y="645208"/>
                  </a:lnTo>
                  <a:lnTo>
                    <a:pt x="527382" y="640713"/>
                  </a:lnTo>
                  <a:lnTo>
                    <a:pt x="520241" y="635953"/>
                  </a:lnTo>
                  <a:lnTo>
                    <a:pt x="513364" y="631193"/>
                  </a:lnTo>
                  <a:lnTo>
                    <a:pt x="506223" y="626169"/>
                  </a:lnTo>
                  <a:lnTo>
                    <a:pt x="499611" y="621145"/>
                  </a:lnTo>
                  <a:lnTo>
                    <a:pt x="492734" y="615592"/>
                  </a:lnTo>
                  <a:lnTo>
                    <a:pt x="486122" y="610303"/>
                  </a:lnTo>
                  <a:lnTo>
                    <a:pt x="480039" y="604750"/>
                  </a:lnTo>
                  <a:lnTo>
                    <a:pt x="473691" y="598933"/>
                  </a:lnTo>
                  <a:lnTo>
                    <a:pt x="467873" y="593115"/>
                  </a:lnTo>
                  <a:lnTo>
                    <a:pt x="461790" y="587298"/>
                  </a:lnTo>
                  <a:lnTo>
                    <a:pt x="455971" y="580952"/>
                  </a:lnTo>
                  <a:lnTo>
                    <a:pt x="450152" y="574605"/>
                  </a:lnTo>
                  <a:lnTo>
                    <a:pt x="444863" y="568523"/>
                  </a:lnTo>
                  <a:lnTo>
                    <a:pt x="439573" y="561913"/>
                  </a:lnTo>
                  <a:lnTo>
                    <a:pt x="434283" y="555038"/>
                  </a:lnTo>
                  <a:lnTo>
                    <a:pt x="429258" y="548162"/>
                  </a:lnTo>
                  <a:lnTo>
                    <a:pt x="424497" y="541287"/>
                  </a:lnTo>
                  <a:lnTo>
                    <a:pt x="419737" y="534148"/>
                  </a:lnTo>
                  <a:lnTo>
                    <a:pt x="415240" y="527008"/>
                  </a:lnTo>
                  <a:lnTo>
                    <a:pt x="411009" y="519868"/>
                  </a:lnTo>
                  <a:lnTo>
                    <a:pt x="406777" y="512464"/>
                  </a:lnTo>
                  <a:lnTo>
                    <a:pt x="402545" y="505060"/>
                  </a:lnTo>
                  <a:lnTo>
                    <a:pt x="398842" y="497392"/>
                  </a:lnTo>
                  <a:lnTo>
                    <a:pt x="395140" y="489988"/>
                  </a:lnTo>
                  <a:lnTo>
                    <a:pt x="391966" y="481791"/>
                  </a:lnTo>
                  <a:lnTo>
                    <a:pt x="388792" y="474122"/>
                  </a:lnTo>
                  <a:lnTo>
                    <a:pt x="385618" y="466189"/>
                  </a:lnTo>
                  <a:lnTo>
                    <a:pt x="382709" y="458256"/>
                  </a:lnTo>
                  <a:lnTo>
                    <a:pt x="380064" y="449795"/>
                  </a:lnTo>
                  <a:lnTo>
                    <a:pt x="377684" y="441862"/>
                  </a:lnTo>
                  <a:lnTo>
                    <a:pt x="375303" y="433400"/>
                  </a:lnTo>
                  <a:lnTo>
                    <a:pt x="373187" y="425203"/>
                  </a:lnTo>
                  <a:lnTo>
                    <a:pt x="371336" y="416477"/>
                  </a:lnTo>
                  <a:lnTo>
                    <a:pt x="370014" y="407750"/>
                  </a:lnTo>
                  <a:lnTo>
                    <a:pt x="368427" y="399289"/>
                  </a:lnTo>
                  <a:lnTo>
                    <a:pt x="367369" y="390562"/>
                  </a:lnTo>
                  <a:lnTo>
                    <a:pt x="366311" y="382101"/>
                  </a:lnTo>
                  <a:lnTo>
                    <a:pt x="365517" y="373110"/>
                  </a:lnTo>
                  <a:lnTo>
                    <a:pt x="364988" y="364120"/>
                  </a:lnTo>
                  <a:lnTo>
                    <a:pt x="364724" y="355129"/>
                  </a:lnTo>
                  <a:lnTo>
                    <a:pt x="364724" y="346403"/>
                  </a:lnTo>
                  <a:lnTo>
                    <a:pt x="364988" y="337412"/>
                  </a:lnTo>
                  <a:lnTo>
                    <a:pt x="365253" y="328422"/>
                  </a:lnTo>
                  <a:lnTo>
                    <a:pt x="365782" y="319695"/>
                  </a:lnTo>
                  <a:lnTo>
                    <a:pt x="366575" y="310705"/>
                  </a:lnTo>
                  <a:lnTo>
                    <a:pt x="367898" y="301979"/>
                  </a:lnTo>
                  <a:lnTo>
                    <a:pt x="368956" y="292988"/>
                  </a:lnTo>
                  <a:lnTo>
                    <a:pt x="370542" y="284791"/>
                  </a:lnTo>
                  <a:lnTo>
                    <a:pt x="372394" y="276064"/>
                  </a:lnTo>
                  <a:lnTo>
                    <a:pt x="374245" y="267603"/>
                  </a:lnTo>
                  <a:lnTo>
                    <a:pt x="376626" y="259141"/>
                  </a:lnTo>
                  <a:lnTo>
                    <a:pt x="378477" y="250944"/>
                  </a:lnTo>
                  <a:lnTo>
                    <a:pt x="381386" y="242746"/>
                  </a:lnTo>
                  <a:lnTo>
                    <a:pt x="384031" y="234549"/>
                  </a:lnTo>
                  <a:lnTo>
                    <a:pt x="386940" y="226616"/>
                  </a:lnTo>
                  <a:lnTo>
                    <a:pt x="390114" y="218683"/>
                  </a:lnTo>
                  <a:lnTo>
                    <a:pt x="393553" y="210750"/>
                  </a:lnTo>
                  <a:lnTo>
                    <a:pt x="396991" y="203082"/>
                  </a:lnTo>
                  <a:lnTo>
                    <a:pt x="400694" y="195678"/>
                  </a:lnTo>
                  <a:lnTo>
                    <a:pt x="404396" y="187745"/>
                  </a:lnTo>
                  <a:lnTo>
                    <a:pt x="408628" y="180341"/>
                  </a:lnTo>
                  <a:lnTo>
                    <a:pt x="412860" y="173201"/>
                  </a:lnTo>
                  <a:lnTo>
                    <a:pt x="417356" y="165797"/>
                  </a:lnTo>
                  <a:lnTo>
                    <a:pt x="422117" y="158658"/>
                  </a:lnTo>
                  <a:lnTo>
                    <a:pt x="426878" y="151783"/>
                  </a:lnTo>
                  <a:lnTo>
                    <a:pt x="431638" y="144907"/>
                  </a:lnTo>
                  <a:lnTo>
                    <a:pt x="436664" y="138297"/>
                  </a:lnTo>
                  <a:lnTo>
                    <a:pt x="441953" y="131686"/>
                  </a:lnTo>
                  <a:lnTo>
                    <a:pt x="447243" y="125075"/>
                  </a:lnTo>
                  <a:lnTo>
                    <a:pt x="453062" y="118993"/>
                  </a:lnTo>
                  <a:lnTo>
                    <a:pt x="458616" y="112647"/>
                  </a:lnTo>
                  <a:lnTo>
                    <a:pt x="464434" y="106301"/>
                  </a:lnTo>
                  <a:lnTo>
                    <a:pt x="470518" y="100483"/>
                  </a:lnTo>
                  <a:lnTo>
                    <a:pt x="476865" y="94666"/>
                  </a:lnTo>
                  <a:lnTo>
                    <a:pt x="482948" y="89113"/>
                  </a:lnTo>
                  <a:lnTo>
                    <a:pt x="489560" y="83560"/>
                  </a:lnTo>
                  <a:lnTo>
                    <a:pt x="496172" y="78271"/>
                  </a:lnTo>
                  <a:lnTo>
                    <a:pt x="502520" y="72983"/>
                  </a:lnTo>
                  <a:lnTo>
                    <a:pt x="509397" y="67958"/>
                  </a:lnTo>
                  <a:lnTo>
                    <a:pt x="516538" y="62934"/>
                  </a:lnTo>
                  <a:lnTo>
                    <a:pt x="523414" y="58175"/>
                  </a:lnTo>
                  <a:lnTo>
                    <a:pt x="530820" y="53679"/>
                  </a:lnTo>
                  <a:lnTo>
                    <a:pt x="537961" y="49184"/>
                  </a:lnTo>
                  <a:lnTo>
                    <a:pt x="545367" y="45217"/>
                  </a:lnTo>
                  <a:lnTo>
                    <a:pt x="553301" y="40987"/>
                  </a:lnTo>
                  <a:lnTo>
                    <a:pt x="560707" y="37020"/>
                  </a:lnTo>
                  <a:lnTo>
                    <a:pt x="568377" y="33583"/>
                  </a:lnTo>
                  <a:lnTo>
                    <a:pt x="576311" y="29881"/>
                  </a:lnTo>
                  <a:lnTo>
                    <a:pt x="584510" y="26707"/>
                  </a:lnTo>
                  <a:lnTo>
                    <a:pt x="592445" y="23534"/>
                  </a:lnTo>
                  <a:lnTo>
                    <a:pt x="600379" y="20361"/>
                  </a:lnTo>
                  <a:lnTo>
                    <a:pt x="608843" y="17717"/>
                  </a:lnTo>
                  <a:lnTo>
                    <a:pt x="617042" y="15073"/>
                  </a:lnTo>
                  <a:lnTo>
                    <a:pt x="625505" y="12693"/>
                  </a:lnTo>
                  <a:lnTo>
                    <a:pt x="633969" y="10313"/>
                  </a:lnTo>
                  <a:lnTo>
                    <a:pt x="642697" y="8462"/>
                  </a:lnTo>
                  <a:lnTo>
                    <a:pt x="651425" y="6875"/>
                  </a:lnTo>
                  <a:lnTo>
                    <a:pt x="659888" y="5024"/>
                  </a:lnTo>
                  <a:lnTo>
                    <a:pt x="668881" y="3702"/>
                  </a:lnTo>
                  <a:lnTo>
                    <a:pt x="677873" y="2644"/>
                  </a:lnTo>
                  <a:lnTo>
                    <a:pt x="686601" y="1851"/>
                  </a:lnTo>
                  <a:lnTo>
                    <a:pt x="695858" y="793"/>
                  </a:lnTo>
                  <a:lnTo>
                    <a:pt x="704851" y="264"/>
                  </a:lnTo>
                  <a:lnTo>
                    <a:pt x="71410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51" name="文本框 1027"/>
          <p:cNvSpPr/>
          <p:nvPr/>
        </p:nvSpPr>
        <p:spPr>
          <a:xfrm>
            <a:off x="2741040" y="384660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答辩人：代用名</a:t>
            </a:r>
            <a:endParaRPr b="0" lang="en-US" sz="1800" spc="-1" strike="noStrike">
              <a:solidFill>
                <a:srgbClr val="000000"/>
              </a:solidFill>
              <a:latin typeface="Arial"/>
            </a:endParaRPr>
          </a:p>
        </p:txBody>
      </p:sp>
      <p:sp>
        <p:nvSpPr>
          <p:cNvPr id="552" name="文本框 112"/>
          <p:cNvSpPr/>
          <p:nvPr/>
        </p:nvSpPr>
        <p:spPr>
          <a:xfrm>
            <a:off x="5317200" y="384660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指导教师：代用名</a:t>
            </a:r>
            <a:endParaRPr b="0" lang="en-US" sz="1800" spc="-1" strike="noStrike">
              <a:solidFill>
                <a:srgbClr val="000000"/>
              </a:solidFill>
              <a:latin typeface="Arial"/>
            </a:endParaRPr>
          </a:p>
        </p:txBody>
      </p:sp>
      <p:sp>
        <p:nvSpPr>
          <p:cNvPr id="553" name="文本框 1066"/>
          <p:cNvSpPr/>
          <p:nvPr/>
        </p:nvSpPr>
        <p:spPr>
          <a:xfrm>
            <a:off x="2268720" y="59832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中国人民大学</a:t>
            </a:r>
            <a:endParaRPr b="0" lang="en-US" sz="3200" spc="-1" strike="noStrike">
              <a:solidFill>
                <a:srgbClr val="000000"/>
              </a:solidFill>
              <a:latin typeface="Arial"/>
            </a:endParaRPr>
          </a:p>
        </p:txBody>
      </p:sp>
      <p:sp>
        <p:nvSpPr>
          <p:cNvPr id="554" name="矩形 1067"/>
          <p:cNvSpPr/>
          <p:nvPr/>
        </p:nvSpPr>
        <p:spPr>
          <a:xfrm>
            <a:off x="1467000" y="2440080"/>
            <a:ext cx="9677160" cy="2114280"/>
          </a:xfrm>
          <a:prstGeom prst="rect">
            <a:avLst/>
          </a:prstGeom>
          <a:noFill/>
          <a:ln w="2556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矩形 1068"/>
          <p:cNvSpPr/>
          <p:nvPr/>
        </p:nvSpPr>
        <p:spPr>
          <a:xfrm>
            <a:off x="10906200" y="4237200"/>
            <a:ext cx="476280" cy="47592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矩形 116"/>
          <p:cNvSpPr/>
          <p:nvPr/>
        </p:nvSpPr>
        <p:spPr>
          <a:xfrm>
            <a:off x="10638000" y="4008600"/>
            <a:ext cx="474480" cy="474480"/>
          </a:xfrm>
          <a:prstGeom prst="rect">
            <a:avLst/>
          </a:prstGeom>
          <a:solidFill>
            <a:srgbClr val="4b649f">
              <a:alpha val="6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矩形 117"/>
          <p:cNvSpPr/>
          <p:nvPr/>
        </p:nvSpPr>
        <p:spPr>
          <a:xfrm>
            <a:off x="1308240" y="2233440"/>
            <a:ext cx="474480" cy="4748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矩形 118"/>
          <p:cNvSpPr/>
          <p:nvPr/>
        </p:nvSpPr>
        <p:spPr>
          <a:xfrm>
            <a:off x="1460520" y="2386080"/>
            <a:ext cx="474480" cy="474480"/>
          </a:xfrm>
          <a:prstGeom prst="rect">
            <a:avLst/>
          </a:prstGeom>
          <a:solidFill>
            <a:srgbClr val="4b649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矩形 15"/>
          <p:cNvSpPr/>
          <p:nvPr/>
        </p:nvSpPr>
        <p:spPr>
          <a:xfrm>
            <a:off x="509760" y="2098800"/>
            <a:ext cx="5545080" cy="3009600"/>
          </a:xfrm>
          <a:prstGeom prst="rect">
            <a:avLst/>
          </a:prstGeom>
          <a:solidFill>
            <a:srgbClr val="4b649f"/>
          </a:solidFill>
          <a:ln w="1260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任意多边形 10"/>
          <p:cNvSpPr/>
          <p:nvPr/>
        </p:nvSpPr>
        <p:spPr>
          <a:xfrm rot="5400000">
            <a:off x="1882800" y="-1425600"/>
            <a:ext cx="914400" cy="4680000"/>
          </a:xfrm>
          <a:custGeom>
            <a:avLst/>
            <a:gdLst/>
            <a:ahLst/>
            <a:rect l="l" t="t" r="r" b="b"/>
            <a:pathLst>
              <a:path w="990604" h="5956738">
                <a:moveTo>
                  <a:pt x="0" y="5956738"/>
                </a:moveTo>
                <a:lnTo>
                  <a:pt x="0" y="317938"/>
                </a:lnTo>
                <a:lnTo>
                  <a:pt x="6" y="317938"/>
                </a:lnTo>
                <a:lnTo>
                  <a:pt x="495305" y="0"/>
                </a:lnTo>
                <a:lnTo>
                  <a:pt x="990604" y="317938"/>
                </a:lnTo>
                <a:lnTo>
                  <a:pt x="990601" y="317938"/>
                </a:lnTo>
                <a:lnTo>
                  <a:pt x="990601" y="5956738"/>
                </a:lnTo>
                <a:lnTo>
                  <a:pt x="0" y="5956738"/>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椭圆 1"/>
          <p:cNvSpPr/>
          <p:nvPr/>
        </p:nvSpPr>
        <p:spPr>
          <a:xfrm>
            <a:off x="324000" y="247680"/>
            <a:ext cx="1333440" cy="1333440"/>
          </a:xfrm>
          <a:prstGeom prst="ellipse">
            <a:avLst/>
          </a:prstGeom>
          <a:solidFill>
            <a:srgbClr val="ffffff"/>
          </a:solidFill>
          <a:ln w="3816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 name="组合 2" descr=""/>
          <p:cNvPicPr/>
          <p:nvPr/>
        </p:nvPicPr>
        <p:blipFill>
          <a:blip r:embed="rId1"/>
          <a:stretch/>
        </p:blipFill>
        <p:spPr>
          <a:xfrm>
            <a:off x="476280" y="573120"/>
            <a:ext cx="1028520" cy="682560"/>
          </a:xfrm>
          <a:prstGeom prst="rect">
            <a:avLst/>
          </a:prstGeom>
          <a:ln w="0">
            <a:noFill/>
          </a:ln>
        </p:spPr>
      </p:pic>
      <p:sp>
        <p:nvSpPr>
          <p:cNvPr id="79" name="文本框 11"/>
          <p:cNvSpPr/>
          <p:nvPr/>
        </p:nvSpPr>
        <p:spPr>
          <a:xfrm>
            <a:off x="2208960" y="552600"/>
            <a:ext cx="1552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背景及意义</a:t>
            </a:r>
            <a:endParaRPr b="0" lang="en-US" sz="3600" spc="-1" strike="noStrike">
              <a:solidFill>
                <a:srgbClr val="000000"/>
              </a:solidFill>
              <a:latin typeface="Arial"/>
            </a:endParaRPr>
          </a:p>
        </p:txBody>
      </p:sp>
      <p:pic>
        <p:nvPicPr>
          <p:cNvPr id="80" name="图片 12" descr=""/>
          <p:cNvPicPr/>
          <p:nvPr/>
        </p:nvPicPr>
        <p:blipFill>
          <a:blip r:embed="rId2"/>
          <a:stretch/>
        </p:blipFill>
        <p:spPr>
          <a:xfrm>
            <a:off x="6326280" y="5200560"/>
            <a:ext cx="5865840" cy="1657440"/>
          </a:xfrm>
          <a:prstGeom prst="rect">
            <a:avLst/>
          </a:prstGeom>
          <a:ln w="0">
            <a:noFill/>
          </a:ln>
        </p:spPr>
      </p:pic>
      <p:sp>
        <p:nvSpPr>
          <p:cNvPr id="81" name="文本框 13"/>
          <p:cNvSpPr/>
          <p:nvPr/>
        </p:nvSpPr>
        <p:spPr>
          <a:xfrm>
            <a:off x="673200" y="2276640"/>
            <a:ext cx="516096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rPr>
              <a:t>撰写毕业论文是检验学生在校学习成果的重要措施，也是提高教学质量的重要环节。大学生在毕业前都必须完成毕业论文的撰写任务。申请学位必须提交相应的学位论文，经答辩通过后，方可取得学位。可以这么说，毕业论文是结束大学学习生活走向社会的一个中介和桥梁。</a:t>
            </a:r>
            <a:endParaRPr b="0" lang="en-US" sz="1800" spc="-1" strike="noStrike">
              <a:solidFill>
                <a:srgbClr val="000000"/>
              </a:solidFill>
              <a:latin typeface="Arial"/>
            </a:endParaRPr>
          </a:p>
        </p:txBody>
      </p:sp>
      <p:sp>
        <p:nvSpPr>
          <p:cNvPr id="82" name="矩形 14"/>
          <p:cNvSpPr/>
          <p:nvPr/>
        </p:nvSpPr>
        <p:spPr>
          <a:xfrm>
            <a:off x="6481800" y="2276640"/>
            <a:ext cx="476244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b649f"/>
                </a:solidFill>
                <a:latin typeface="微软雅黑"/>
              </a:rPr>
              <a:t>毕业论文是大学生才华的第一次显露，是向祖国和人民所交的一份有份量的答卷，是投身社会主义现代化建设事业的报到书。一篇毕业论文虽然不能全面地反映出一个人的才华，也不一定能对社会直接带来巨大的效益，对专业产生开拓性的影响。</a:t>
            </a:r>
            <a:endParaRPr b="0" lang="en-US" sz="1800" spc="-1" strike="noStrike">
              <a:solidFill>
                <a:srgbClr val="000000"/>
              </a:solidFill>
              <a:latin typeface="Arial"/>
            </a:endParaRPr>
          </a:p>
        </p:txBody>
      </p:sp>
      <p:sp>
        <p:nvSpPr>
          <p:cNvPr id="83" name="矩形 16"/>
          <p:cNvSpPr/>
          <p:nvPr/>
        </p:nvSpPr>
        <p:spPr>
          <a:xfrm>
            <a:off x="6054840" y="2098800"/>
            <a:ext cx="5545080" cy="3009600"/>
          </a:xfrm>
          <a:prstGeom prst="rect">
            <a:avLst/>
          </a:prstGeom>
          <a:noFill/>
          <a:ln w="1260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矩形 17"/>
          <p:cNvSpPr/>
          <p:nvPr/>
        </p:nvSpPr>
        <p:spPr>
          <a:xfrm>
            <a:off x="11272680" y="2106720"/>
            <a:ext cx="338400" cy="3380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矩形 18"/>
          <p:cNvSpPr/>
          <p:nvPr/>
        </p:nvSpPr>
        <p:spPr>
          <a:xfrm>
            <a:off x="11272680" y="4772160"/>
            <a:ext cx="338400" cy="3362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任意多边形 10"/>
          <p:cNvSpPr/>
          <p:nvPr/>
        </p:nvSpPr>
        <p:spPr>
          <a:xfrm rot="5400000">
            <a:off x="2009160" y="-1552320"/>
            <a:ext cx="914400" cy="4933800"/>
          </a:xfrm>
          <a:custGeom>
            <a:avLst/>
            <a:gdLst/>
            <a:ahLst/>
            <a:rect l="l" t="t" r="r" b="b"/>
            <a:pathLst>
              <a:path w="990604" h="5956738">
                <a:moveTo>
                  <a:pt x="0" y="5956738"/>
                </a:moveTo>
                <a:lnTo>
                  <a:pt x="0" y="317938"/>
                </a:lnTo>
                <a:lnTo>
                  <a:pt x="6" y="317938"/>
                </a:lnTo>
                <a:lnTo>
                  <a:pt x="495305" y="0"/>
                </a:lnTo>
                <a:lnTo>
                  <a:pt x="990604" y="317938"/>
                </a:lnTo>
                <a:lnTo>
                  <a:pt x="990601" y="317938"/>
                </a:lnTo>
                <a:lnTo>
                  <a:pt x="990601" y="5956738"/>
                </a:lnTo>
                <a:lnTo>
                  <a:pt x="0" y="5956738"/>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椭圆 1"/>
          <p:cNvSpPr/>
          <p:nvPr/>
        </p:nvSpPr>
        <p:spPr>
          <a:xfrm>
            <a:off x="324000" y="247680"/>
            <a:ext cx="1333440" cy="1333440"/>
          </a:xfrm>
          <a:prstGeom prst="ellipse">
            <a:avLst/>
          </a:prstGeom>
          <a:solidFill>
            <a:srgbClr val="ffffff"/>
          </a:solidFill>
          <a:ln w="3816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组合 2" descr=""/>
          <p:cNvPicPr/>
          <p:nvPr/>
        </p:nvPicPr>
        <p:blipFill>
          <a:blip r:embed="rId1"/>
          <a:stretch/>
        </p:blipFill>
        <p:spPr>
          <a:xfrm>
            <a:off x="476280" y="573120"/>
            <a:ext cx="1028520" cy="682560"/>
          </a:xfrm>
          <a:prstGeom prst="rect">
            <a:avLst/>
          </a:prstGeom>
          <a:ln w="0">
            <a:noFill/>
          </a:ln>
        </p:spPr>
      </p:pic>
      <p:sp>
        <p:nvSpPr>
          <p:cNvPr id="89" name="文本框 11"/>
          <p:cNvSpPr/>
          <p:nvPr/>
        </p:nvSpPr>
        <p:spPr>
          <a:xfrm>
            <a:off x="2302200" y="588960"/>
            <a:ext cx="182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论文主要内容</a:t>
            </a:r>
            <a:endParaRPr b="0" lang="en-US" sz="3600" spc="-1" strike="noStrike">
              <a:solidFill>
                <a:srgbClr val="000000"/>
              </a:solidFill>
              <a:latin typeface="Arial"/>
            </a:endParaRPr>
          </a:p>
        </p:txBody>
      </p:sp>
      <p:pic>
        <p:nvPicPr>
          <p:cNvPr id="90" name="图片 12" descr=""/>
          <p:cNvPicPr/>
          <p:nvPr/>
        </p:nvPicPr>
        <p:blipFill>
          <a:blip r:embed="rId2"/>
          <a:stretch/>
        </p:blipFill>
        <p:spPr>
          <a:xfrm>
            <a:off x="6326280" y="5200560"/>
            <a:ext cx="5865840" cy="1657440"/>
          </a:xfrm>
          <a:prstGeom prst="rect">
            <a:avLst/>
          </a:prstGeom>
          <a:ln w="0">
            <a:noFill/>
          </a:ln>
        </p:spPr>
      </p:pic>
      <p:grpSp>
        <p:nvGrpSpPr>
          <p:cNvPr id="91" name="组合 49"/>
          <p:cNvGrpSpPr/>
          <p:nvPr/>
        </p:nvGrpSpPr>
        <p:grpSpPr>
          <a:xfrm>
            <a:off x="1625760" y="1947960"/>
            <a:ext cx="1278720" cy="1851840"/>
            <a:chOff x="1625760" y="1947960"/>
            <a:chExt cx="1278720" cy="1851840"/>
          </a:xfrm>
        </p:grpSpPr>
        <p:grpSp>
          <p:nvGrpSpPr>
            <p:cNvPr id="92" name="组合 34"/>
            <p:cNvGrpSpPr/>
            <p:nvPr/>
          </p:nvGrpSpPr>
          <p:grpSpPr>
            <a:xfrm>
              <a:off x="1625760" y="1947960"/>
              <a:ext cx="1278720" cy="1278720"/>
              <a:chOff x="1625760" y="1947960"/>
              <a:chExt cx="1278720" cy="1278720"/>
            </a:xfrm>
          </p:grpSpPr>
          <p:sp>
            <p:nvSpPr>
              <p:cNvPr id="93" name="椭圆 24"/>
              <p:cNvSpPr/>
              <p:nvPr/>
            </p:nvSpPr>
            <p:spPr>
              <a:xfrm>
                <a:off x="1625760" y="1947960"/>
                <a:ext cx="1278720" cy="127872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椭圆 29"/>
              <p:cNvSpPr/>
              <p:nvPr/>
            </p:nvSpPr>
            <p:spPr>
              <a:xfrm>
                <a:off x="1712880" y="2035080"/>
                <a:ext cx="1104120" cy="110448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KSO_Shape"/>
              <p:cNvSpPr/>
              <p:nvPr/>
            </p:nvSpPr>
            <p:spPr>
              <a:xfrm>
                <a:off x="1903320" y="2236680"/>
                <a:ext cx="724320" cy="700560"/>
              </a:xfrm>
              <a:custGeom>
                <a:avLst/>
                <a:gdLst/>
                <a:ahLst/>
                <a:rect l="l" t="t" r="r" b="b"/>
                <a:pathLst>
                  <a:path w="8965002" h="8673857">
                    <a:moveTo>
                      <a:pt x="8267042" y="3603669"/>
                    </a:moveTo>
                    <a:cubicBezTo>
                      <a:pt x="8267042" y="3603669"/>
                      <a:pt x="8267042" y="3603669"/>
                      <a:pt x="8503636" y="3603669"/>
                    </a:cubicBezTo>
                    <a:cubicBezTo>
                      <a:pt x="8770275" y="3603669"/>
                      <a:pt x="9115779" y="3885289"/>
                      <a:pt x="8894206" y="4343392"/>
                    </a:cubicBezTo>
                    <a:cubicBezTo>
                      <a:pt x="8894206" y="4343392"/>
                      <a:pt x="8894206" y="4343392"/>
                      <a:pt x="6963891" y="7249712"/>
                    </a:cubicBezTo>
                    <a:cubicBezTo>
                      <a:pt x="6817428" y="7463743"/>
                      <a:pt x="6610877" y="7475008"/>
                      <a:pt x="6509479" y="7475008"/>
                    </a:cubicBezTo>
                    <a:cubicBezTo>
                      <a:pt x="6509479" y="7475008"/>
                      <a:pt x="6509479" y="7475008"/>
                      <a:pt x="5375325" y="7475008"/>
                    </a:cubicBezTo>
                    <a:cubicBezTo>
                      <a:pt x="5375325" y="7475008"/>
                      <a:pt x="5375325" y="7475008"/>
                      <a:pt x="5375325" y="8391212"/>
                    </a:cubicBezTo>
                    <a:cubicBezTo>
                      <a:pt x="5375325" y="8503860"/>
                      <a:pt x="5326504" y="8586469"/>
                      <a:pt x="5225106" y="8639038"/>
                    </a:cubicBezTo>
                    <a:cubicBezTo>
                      <a:pt x="5180040" y="8661567"/>
                      <a:pt x="5131219" y="8672833"/>
                      <a:pt x="5086153" y="8672833"/>
                    </a:cubicBezTo>
                    <a:cubicBezTo>
                      <a:pt x="5026066" y="8672833"/>
                      <a:pt x="4962223" y="8654057"/>
                      <a:pt x="4909646" y="8620263"/>
                    </a:cubicBezTo>
                    <a:cubicBezTo>
                      <a:pt x="4909646" y="8620263"/>
                      <a:pt x="4909646" y="8620263"/>
                      <a:pt x="4027109" y="8023229"/>
                    </a:cubicBezTo>
                    <a:cubicBezTo>
                      <a:pt x="4027109" y="8023229"/>
                      <a:pt x="4027109" y="8023229"/>
                      <a:pt x="3163349" y="8620263"/>
                    </a:cubicBezTo>
                    <a:cubicBezTo>
                      <a:pt x="3069463" y="8684097"/>
                      <a:pt x="2949287" y="8691607"/>
                      <a:pt x="2847889" y="8639038"/>
                    </a:cubicBezTo>
                    <a:cubicBezTo>
                      <a:pt x="2750247" y="8586469"/>
                      <a:pt x="2686404" y="8503860"/>
                      <a:pt x="2686404" y="8391212"/>
                    </a:cubicBezTo>
                    <a:cubicBezTo>
                      <a:pt x="2686404" y="8391212"/>
                      <a:pt x="2686404" y="8391212"/>
                      <a:pt x="2686404" y="6100701"/>
                    </a:cubicBezTo>
                    <a:cubicBezTo>
                      <a:pt x="2686404" y="5559991"/>
                      <a:pt x="2990598" y="5237066"/>
                      <a:pt x="3170860" y="5131928"/>
                    </a:cubicBezTo>
                    <a:cubicBezTo>
                      <a:pt x="3215926" y="5105644"/>
                      <a:pt x="3268503" y="5090624"/>
                      <a:pt x="3324835" y="5090624"/>
                    </a:cubicBezTo>
                    <a:cubicBezTo>
                      <a:pt x="3324835" y="5090624"/>
                      <a:pt x="3324835" y="5090624"/>
                      <a:pt x="5690785" y="5090624"/>
                    </a:cubicBezTo>
                    <a:cubicBezTo>
                      <a:pt x="5371570" y="5406038"/>
                      <a:pt x="5367814" y="5980543"/>
                      <a:pt x="5367814" y="6280938"/>
                    </a:cubicBezTo>
                    <a:cubicBezTo>
                      <a:pt x="5367814" y="6280938"/>
                      <a:pt x="5367814" y="6280938"/>
                      <a:pt x="6227818" y="6280938"/>
                    </a:cubicBezTo>
                    <a:cubicBezTo>
                      <a:pt x="6227818" y="6280938"/>
                      <a:pt x="6227818" y="6280938"/>
                      <a:pt x="8267042" y="3603669"/>
                    </a:cubicBezTo>
                    <a:close/>
                    <a:moveTo>
                      <a:pt x="6109875" y="128"/>
                    </a:moveTo>
                    <a:cubicBezTo>
                      <a:pt x="6829153" y="-2490"/>
                      <a:pt x="7579192" y="34821"/>
                      <a:pt x="8198796" y="137601"/>
                    </a:cubicBezTo>
                    <a:cubicBezTo>
                      <a:pt x="8705745" y="220201"/>
                      <a:pt x="8739542" y="678257"/>
                      <a:pt x="8578069" y="884757"/>
                    </a:cubicBezTo>
                    <a:cubicBezTo>
                      <a:pt x="8578069" y="884757"/>
                      <a:pt x="6234838" y="3955980"/>
                      <a:pt x="6208552" y="3974753"/>
                    </a:cubicBezTo>
                    <a:cubicBezTo>
                      <a:pt x="6107162" y="4098653"/>
                      <a:pt x="5953199" y="4177498"/>
                      <a:pt x="5780461" y="4177498"/>
                    </a:cubicBezTo>
                    <a:cubicBezTo>
                      <a:pt x="5780461" y="4177498"/>
                      <a:pt x="5780461" y="4177498"/>
                      <a:pt x="2209285" y="4177498"/>
                    </a:cubicBezTo>
                    <a:cubicBezTo>
                      <a:pt x="1818747" y="4177498"/>
                      <a:pt x="970076" y="4545444"/>
                      <a:pt x="1150325" y="5476573"/>
                    </a:cubicBezTo>
                    <a:cubicBezTo>
                      <a:pt x="1217918" y="5825746"/>
                      <a:pt x="1465760" y="6103583"/>
                      <a:pt x="1799971" y="6223729"/>
                    </a:cubicBezTo>
                    <a:cubicBezTo>
                      <a:pt x="1875075" y="6253765"/>
                      <a:pt x="2002751" y="6268783"/>
                      <a:pt x="2085365" y="6280047"/>
                    </a:cubicBezTo>
                    <a:cubicBezTo>
                      <a:pt x="2085365" y="6280047"/>
                      <a:pt x="2085365" y="6280047"/>
                      <a:pt x="2085365" y="7473994"/>
                    </a:cubicBezTo>
                    <a:cubicBezTo>
                      <a:pt x="1582171" y="7440203"/>
                      <a:pt x="335451" y="7004675"/>
                      <a:pt x="53813" y="5720619"/>
                    </a:cubicBezTo>
                    <a:cubicBezTo>
                      <a:pt x="-25046" y="5397728"/>
                      <a:pt x="-13780" y="5056063"/>
                      <a:pt x="65078" y="4729417"/>
                    </a:cubicBezTo>
                    <a:cubicBezTo>
                      <a:pt x="282879" y="3283915"/>
                      <a:pt x="2351982" y="944830"/>
                      <a:pt x="2716235" y="670748"/>
                    </a:cubicBezTo>
                    <a:cubicBezTo>
                      <a:pt x="2960321" y="471756"/>
                      <a:pt x="3234449" y="310311"/>
                      <a:pt x="3516088" y="227711"/>
                    </a:cubicBezTo>
                    <a:cubicBezTo>
                      <a:pt x="3797726" y="119767"/>
                      <a:pt x="4911078" y="4491"/>
                      <a:pt x="6109875" y="128"/>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sp>
          <p:nvSpPr>
            <p:cNvPr id="96" name="文本框 39"/>
            <p:cNvSpPr/>
            <p:nvPr/>
          </p:nvSpPr>
          <p:spPr>
            <a:xfrm>
              <a:off x="2093760" y="33400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一部分</a:t>
              </a:r>
              <a:endParaRPr b="0" lang="en-US" sz="2400" spc="-1" strike="noStrike">
                <a:solidFill>
                  <a:srgbClr val="000000"/>
                </a:solidFill>
                <a:latin typeface="Arial"/>
              </a:endParaRPr>
            </a:p>
          </p:txBody>
        </p:sp>
      </p:grpSp>
      <p:grpSp>
        <p:nvGrpSpPr>
          <p:cNvPr id="97" name="组合 50"/>
          <p:cNvGrpSpPr/>
          <p:nvPr/>
        </p:nvGrpSpPr>
        <p:grpSpPr>
          <a:xfrm>
            <a:off x="4178880" y="1947960"/>
            <a:ext cx="1276920" cy="1851840"/>
            <a:chOff x="4178880" y="1947960"/>
            <a:chExt cx="1276920" cy="1851840"/>
          </a:xfrm>
        </p:grpSpPr>
        <p:grpSp>
          <p:nvGrpSpPr>
            <p:cNvPr id="98" name="组合 35"/>
            <p:cNvGrpSpPr/>
            <p:nvPr/>
          </p:nvGrpSpPr>
          <p:grpSpPr>
            <a:xfrm>
              <a:off x="4178880" y="1947960"/>
              <a:ext cx="1276920" cy="1278720"/>
              <a:chOff x="4178880" y="1947960"/>
              <a:chExt cx="1276920" cy="1278720"/>
            </a:xfrm>
          </p:grpSpPr>
          <p:sp>
            <p:nvSpPr>
              <p:cNvPr id="99" name="椭圆 25"/>
              <p:cNvSpPr/>
              <p:nvPr/>
            </p:nvSpPr>
            <p:spPr>
              <a:xfrm>
                <a:off x="4178880" y="1947960"/>
                <a:ext cx="1276920" cy="127872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椭圆 30"/>
              <p:cNvSpPr/>
              <p:nvPr/>
            </p:nvSpPr>
            <p:spPr>
              <a:xfrm>
                <a:off x="4266000" y="2035080"/>
                <a:ext cx="1102680" cy="110448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KSO_Shape"/>
              <p:cNvSpPr/>
              <p:nvPr/>
            </p:nvSpPr>
            <p:spPr>
              <a:xfrm>
                <a:off x="4449960" y="2236680"/>
                <a:ext cx="734400" cy="701280"/>
              </a:xfrm>
              <a:custGeom>
                <a:avLst/>
                <a:gdLst/>
                <a:ahLst/>
                <a:rect l="l" t="t" r="r" b="b"/>
                <a:pathLst>
                  <a:path w="5871" h="5585">
                    <a:moveTo>
                      <a:pt x="774" y="374"/>
                    </a:moveTo>
                    <a:lnTo>
                      <a:pt x="774" y="1910"/>
                    </a:lnTo>
                    <a:lnTo>
                      <a:pt x="5107" y="1910"/>
                    </a:lnTo>
                    <a:lnTo>
                      <a:pt x="5107" y="374"/>
                    </a:lnTo>
                    <a:lnTo>
                      <a:pt x="774" y="374"/>
                    </a:lnTo>
                    <a:close/>
                    <a:moveTo>
                      <a:pt x="1597" y="3265"/>
                    </a:moveTo>
                    <a:lnTo>
                      <a:pt x="1597" y="3265"/>
                    </a:lnTo>
                    <a:lnTo>
                      <a:pt x="1591" y="3265"/>
                    </a:lnTo>
                    <a:lnTo>
                      <a:pt x="1587" y="3265"/>
                    </a:lnTo>
                    <a:lnTo>
                      <a:pt x="1586" y="3265"/>
                    </a:lnTo>
                    <a:lnTo>
                      <a:pt x="1581" y="3265"/>
                    </a:lnTo>
                    <a:lnTo>
                      <a:pt x="1576" y="3265"/>
                    </a:lnTo>
                    <a:lnTo>
                      <a:pt x="1571" y="3265"/>
                    </a:lnTo>
                    <a:lnTo>
                      <a:pt x="1570" y="3265"/>
                    </a:lnTo>
                    <a:lnTo>
                      <a:pt x="1566" y="3265"/>
                    </a:lnTo>
                    <a:lnTo>
                      <a:pt x="1560" y="3265"/>
                    </a:lnTo>
                    <a:lnTo>
                      <a:pt x="1555" y="3265"/>
                    </a:lnTo>
                    <a:lnTo>
                      <a:pt x="1550" y="3265"/>
                    </a:lnTo>
                    <a:lnTo>
                      <a:pt x="1545" y="3265"/>
                    </a:lnTo>
                    <a:lnTo>
                      <a:pt x="1540" y="3265"/>
                    </a:lnTo>
                    <a:lnTo>
                      <a:pt x="1539" y="3265"/>
                    </a:lnTo>
                    <a:lnTo>
                      <a:pt x="1535" y="3265"/>
                    </a:lnTo>
                    <a:lnTo>
                      <a:pt x="1529" y="3265"/>
                    </a:lnTo>
                    <a:lnTo>
                      <a:pt x="1525" y="3265"/>
                    </a:lnTo>
                    <a:lnTo>
                      <a:pt x="1524" y="3265"/>
                    </a:lnTo>
                    <a:lnTo>
                      <a:pt x="1519" y="3265"/>
                    </a:lnTo>
                    <a:lnTo>
                      <a:pt x="1514" y="3265"/>
                    </a:lnTo>
                    <a:lnTo>
                      <a:pt x="1509" y="3265"/>
                    </a:lnTo>
                    <a:lnTo>
                      <a:pt x="1508" y="3265"/>
                    </a:lnTo>
                    <a:lnTo>
                      <a:pt x="1504" y="3265"/>
                    </a:lnTo>
                    <a:lnTo>
                      <a:pt x="1498" y="3265"/>
                    </a:lnTo>
                    <a:lnTo>
                      <a:pt x="1494" y="3265"/>
                    </a:lnTo>
                    <a:lnTo>
                      <a:pt x="1493" y="3265"/>
                    </a:lnTo>
                    <a:lnTo>
                      <a:pt x="1488" y="3265"/>
                    </a:lnTo>
                    <a:lnTo>
                      <a:pt x="1483" y="3265"/>
                    </a:lnTo>
                    <a:lnTo>
                      <a:pt x="1478" y="3265"/>
                    </a:lnTo>
                    <a:lnTo>
                      <a:pt x="1477" y="3265"/>
                    </a:lnTo>
                    <a:lnTo>
                      <a:pt x="1473" y="3265"/>
                    </a:lnTo>
                    <a:lnTo>
                      <a:pt x="1467" y="3265"/>
                    </a:lnTo>
                    <a:lnTo>
                      <a:pt x="1463" y="3265"/>
                    </a:lnTo>
                    <a:lnTo>
                      <a:pt x="1462" y="3265"/>
                    </a:lnTo>
                    <a:lnTo>
                      <a:pt x="1457" y="3265"/>
                    </a:lnTo>
                    <a:lnTo>
                      <a:pt x="1452" y="3265"/>
                    </a:lnTo>
                    <a:lnTo>
                      <a:pt x="1446" y="3265"/>
                    </a:lnTo>
                    <a:lnTo>
                      <a:pt x="1442" y="3265"/>
                    </a:lnTo>
                    <a:lnTo>
                      <a:pt x="1266" y="3265"/>
                    </a:lnTo>
                    <a:lnTo>
                      <a:pt x="1345" y="3830"/>
                    </a:lnTo>
                    <a:lnTo>
                      <a:pt x="1294" y="3911"/>
                    </a:lnTo>
                    <a:lnTo>
                      <a:pt x="1345" y="3977"/>
                    </a:lnTo>
                    <a:lnTo>
                      <a:pt x="1117" y="4116"/>
                    </a:lnTo>
                    <a:lnTo>
                      <a:pt x="1112" y="4144"/>
                    </a:lnTo>
                    <a:lnTo>
                      <a:pt x="1106" y="4173"/>
                    </a:lnTo>
                    <a:lnTo>
                      <a:pt x="1103" y="4201"/>
                    </a:lnTo>
                    <a:lnTo>
                      <a:pt x="1099" y="4228"/>
                    </a:lnTo>
                    <a:lnTo>
                      <a:pt x="1097" y="4255"/>
                    </a:lnTo>
                    <a:lnTo>
                      <a:pt x="1096" y="4281"/>
                    </a:lnTo>
                    <a:lnTo>
                      <a:pt x="1096" y="4308"/>
                    </a:lnTo>
                    <a:lnTo>
                      <a:pt x="1096" y="4333"/>
                    </a:lnTo>
                    <a:lnTo>
                      <a:pt x="1097" y="4359"/>
                    </a:lnTo>
                    <a:lnTo>
                      <a:pt x="1098" y="4383"/>
                    </a:lnTo>
                    <a:lnTo>
                      <a:pt x="1100" y="4407"/>
                    </a:lnTo>
                    <a:lnTo>
                      <a:pt x="1104" y="4432"/>
                    </a:lnTo>
                    <a:lnTo>
                      <a:pt x="1112" y="4478"/>
                    </a:lnTo>
                    <a:lnTo>
                      <a:pt x="1121" y="4523"/>
                    </a:lnTo>
                    <a:lnTo>
                      <a:pt x="1133" y="4568"/>
                    </a:lnTo>
                    <a:lnTo>
                      <a:pt x="1147" y="4611"/>
                    </a:lnTo>
                    <a:lnTo>
                      <a:pt x="1162" y="4653"/>
                    </a:lnTo>
                    <a:lnTo>
                      <a:pt x="1179" y="4694"/>
                    </a:lnTo>
                    <a:lnTo>
                      <a:pt x="1198" y="4733"/>
                    </a:lnTo>
                    <a:lnTo>
                      <a:pt x="1218" y="4772"/>
                    </a:lnTo>
                    <a:lnTo>
                      <a:pt x="1238" y="4812"/>
                    </a:lnTo>
                    <a:lnTo>
                      <a:pt x="1259" y="4849"/>
                    </a:lnTo>
                    <a:lnTo>
                      <a:pt x="774" y="4849"/>
                    </a:lnTo>
                    <a:lnTo>
                      <a:pt x="774" y="2135"/>
                    </a:lnTo>
                    <a:lnTo>
                      <a:pt x="2185" y="2135"/>
                    </a:lnTo>
                    <a:lnTo>
                      <a:pt x="2185" y="4849"/>
                    </a:lnTo>
                    <a:lnTo>
                      <a:pt x="1780" y="4849"/>
                    </a:lnTo>
                    <a:lnTo>
                      <a:pt x="1801" y="4812"/>
                    </a:lnTo>
                    <a:lnTo>
                      <a:pt x="1821" y="4772"/>
                    </a:lnTo>
                    <a:lnTo>
                      <a:pt x="1841" y="4733"/>
                    </a:lnTo>
                    <a:lnTo>
                      <a:pt x="1859" y="4694"/>
                    </a:lnTo>
                    <a:lnTo>
                      <a:pt x="1876" y="4653"/>
                    </a:lnTo>
                    <a:lnTo>
                      <a:pt x="1892" y="4611"/>
                    </a:lnTo>
                    <a:lnTo>
                      <a:pt x="1905" y="4568"/>
                    </a:lnTo>
                    <a:lnTo>
                      <a:pt x="1917" y="4523"/>
                    </a:lnTo>
                    <a:lnTo>
                      <a:pt x="1927" y="4478"/>
                    </a:lnTo>
                    <a:lnTo>
                      <a:pt x="1935" y="4432"/>
                    </a:lnTo>
                    <a:lnTo>
                      <a:pt x="1938" y="4407"/>
                    </a:lnTo>
                    <a:lnTo>
                      <a:pt x="1941" y="4383"/>
                    </a:lnTo>
                    <a:lnTo>
                      <a:pt x="1942" y="4359"/>
                    </a:lnTo>
                    <a:lnTo>
                      <a:pt x="1943" y="4333"/>
                    </a:lnTo>
                    <a:lnTo>
                      <a:pt x="1943" y="4308"/>
                    </a:lnTo>
                    <a:lnTo>
                      <a:pt x="1942" y="4281"/>
                    </a:lnTo>
                    <a:lnTo>
                      <a:pt x="1941" y="4255"/>
                    </a:lnTo>
                    <a:lnTo>
                      <a:pt x="1938" y="4228"/>
                    </a:lnTo>
                    <a:lnTo>
                      <a:pt x="1936" y="4201"/>
                    </a:lnTo>
                    <a:lnTo>
                      <a:pt x="1932" y="4173"/>
                    </a:lnTo>
                    <a:lnTo>
                      <a:pt x="1927" y="4144"/>
                    </a:lnTo>
                    <a:lnTo>
                      <a:pt x="1922" y="4116"/>
                    </a:lnTo>
                    <a:lnTo>
                      <a:pt x="1694" y="3977"/>
                    </a:lnTo>
                    <a:lnTo>
                      <a:pt x="1745" y="3911"/>
                    </a:lnTo>
                    <a:lnTo>
                      <a:pt x="1694" y="3830"/>
                    </a:lnTo>
                    <a:lnTo>
                      <a:pt x="1771" y="3265"/>
                    </a:lnTo>
                    <a:lnTo>
                      <a:pt x="1597" y="3265"/>
                    </a:lnTo>
                    <a:close/>
                    <a:moveTo>
                      <a:pt x="4819" y="863"/>
                    </a:moveTo>
                    <a:lnTo>
                      <a:pt x="4819" y="1057"/>
                    </a:lnTo>
                    <a:lnTo>
                      <a:pt x="3585" y="1057"/>
                    </a:lnTo>
                    <a:lnTo>
                      <a:pt x="3585" y="863"/>
                    </a:lnTo>
                    <a:lnTo>
                      <a:pt x="4819" y="863"/>
                    </a:lnTo>
                    <a:close/>
                    <a:moveTo>
                      <a:pt x="5002" y="1108"/>
                    </a:moveTo>
                    <a:lnTo>
                      <a:pt x="5002" y="1379"/>
                    </a:lnTo>
                    <a:lnTo>
                      <a:pt x="3769" y="1379"/>
                    </a:lnTo>
                    <a:lnTo>
                      <a:pt x="3769" y="1108"/>
                    </a:lnTo>
                    <a:lnTo>
                      <a:pt x="5002" y="1108"/>
                    </a:lnTo>
                    <a:close/>
                    <a:moveTo>
                      <a:pt x="4891" y="1429"/>
                    </a:moveTo>
                    <a:lnTo>
                      <a:pt x="4891" y="1623"/>
                    </a:lnTo>
                    <a:lnTo>
                      <a:pt x="3657" y="1623"/>
                    </a:lnTo>
                    <a:lnTo>
                      <a:pt x="3657" y="1429"/>
                    </a:lnTo>
                    <a:lnTo>
                      <a:pt x="4891" y="1429"/>
                    </a:lnTo>
                    <a:close/>
                    <a:moveTo>
                      <a:pt x="4977" y="1659"/>
                    </a:moveTo>
                    <a:lnTo>
                      <a:pt x="4977" y="1853"/>
                    </a:lnTo>
                    <a:lnTo>
                      <a:pt x="3743" y="1853"/>
                    </a:lnTo>
                    <a:lnTo>
                      <a:pt x="3743" y="1659"/>
                    </a:lnTo>
                    <a:lnTo>
                      <a:pt x="4977" y="1659"/>
                    </a:lnTo>
                    <a:close/>
                    <a:moveTo>
                      <a:pt x="1643" y="596"/>
                    </a:moveTo>
                    <a:lnTo>
                      <a:pt x="1833" y="561"/>
                    </a:lnTo>
                    <a:lnTo>
                      <a:pt x="2061" y="1773"/>
                    </a:lnTo>
                    <a:lnTo>
                      <a:pt x="1871" y="1809"/>
                    </a:lnTo>
                    <a:lnTo>
                      <a:pt x="1643" y="596"/>
                    </a:lnTo>
                    <a:close/>
                    <a:moveTo>
                      <a:pt x="1388" y="596"/>
                    </a:moveTo>
                    <a:lnTo>
                      <a:pt x="1579" y="561"/>
                    </a:lnTo>
                    <a:lnTo>
                      <a:pt x="1807" y="1773"/>
                    </a:lnTo>
                    <a:lnTo>
                      <a:pt x="1616" y="1809"/>
                    </a:lnTo>
                    <a:lnTo>
                      <a:pt x="1388" y="596"/>
                    </a:lnTo>
                    <a:close/>
                    <a:moveTo>
                      <a:pt x="1134" y="596"/>
                    </a:moveTo>
                    <a:lnTo>
                      <a:pt x="1324" y="561"/>
                    </a:lnTo>
                    <a:lnTo>
                      <a:pt x="1551" y="1773"/>
                    </a:lnTo>
                    <a:lnTo>
                      <a:pt x="1361" y="1809"/>
                    </a:lnTo>
                    <a:lnTo>
                      <a:pt x="1134" y="596"/>
                    </a:lnTo>
                    <a:close/>
                    <a:moveTo>
                      <a:pt x="884" y="568"/>
                    </a:moveTo>
                    <a:lnTo>
                      <a:pt x="1077" y="568"/>
                    </a:lnTo>
                    <a:lnTo>
                      <a:pt x="1077" y="1802"/>
                    </a:lnTo>
                    <a:lnTo>
                      <a:pt x="884" y="1802"/>
                    </a:lnTo>
                    <a:lnTo>
                      <a:pt x="884" y="568"/>
                    </a:lnTo>
                    <a:close/>
                    <a:moveTo>
                      <a:pt x="3540" y="2418"/>
                    </a:moveTo>
                    <a:lnTo>
                      <a:pt x="3807" y="2354"/>
                    </a:lnTo>
                    <a:lnTo>
                      <a:pt x="4033" y="3306"/>
                    </a:lnTo>
                    <a:lnTo>
                      <a:pt x="3765" y="3369"/>
                    </a:lnTo>
                    <a:lnTo>
                      <a:pt x="3540" y="2418"/>
                    </a:lnTo>
                    <a:close/>
                    <a:moveTo>
                      <a:pt x="3622" y="2531"/>
                    </a:moveTo>
                    <a:lnTo>
                      <a:pt x="3639" y="2606"/>
                    </a:lnTo>
                    <a:lnTo>
                      <a:pt x="3791" y="2570"/>
                    </a:lnTo>
                    <a:lnTo>
                      <a:pt x="3773" y="2496"/>
                    </a:lnTo>
                    <a:lnTo>
                      <a:pt x="3622" y="2531"/>
                    </a:lnTo>
                    <a:close/>
                    <a:moveTo>
                      <a:pt x="3739" y="3028"/>
                    </a:moveTo>
                    <a:lnTo>
                      <a:pt x="3776" y="3184"/>
                    </a:lnTo>
                    <a:lnTo>
                      <a:pt x="3928" y="3148"/>
                    </a:lnTo>
                    <a:lnTo>
                      <a:pt x="3890" y="2991"/>
                    </a:lnTo>
                    <a:lnTo>
                      <a:pt x="3739" y="3028"/>
                    </a:lnTo>
                    <a:close/>
                    <a:moveTo>
                      <a:pt x="3193" y="2418"/>
                    </a:moveTo>
                    <a:lnTo>
                      <a:pt x="3418" y="3369"/>
                    </a:lnTo>
                    <a:lnTo>
                      <a:pt x="3687" y="3306"/>
                    </a:lnTo>
                    <a:lnTo>
                      <a:pt x="3461" y="2354"/>
                    </a:lnTo>
                    <a:lnTo>
                      <a:pt x="3193" y="2418"/>
                    </a:lnTo>
                    <a:close/>
                    <a:moveTo>
                      <a:pt x="3276" y="2531"/>
                    </a:moveTo>
                    <a:lnTo>
                      <a:pt x="3426" y="2496"/>
                    </a:lnTo>
                    <a:lnTo>
                      <a:pt x="3444" y="2570"/>
                    </a:lnTo>
                    <a:lnTo>
                      <a:pt x="3292" y="2606"/>
                    </a:lnTo>
                    <a:lnTo>
                      <a:pt x="3276" y="2531"/>
                    </a:lnTo>
                    <a:close/>
                    <a:moveTo>
                      <a:pt x="3393" y="3028"/>
                    </a:moveTo>
                    <a:lnTo>
                      <a:pt x="3429" y="3184"/>
                    </a:lnTo>
                    <a:lnTo>
                      <a:pt x="3581" y="3148"/>
                    </a:lnTo>
                    <a:lnTo>
                      <a:pt x="3544" y="2991"/>
                    </a:lnTo>
                    <a:lnTo>
                      <a:pt x="3393" y="3028"/>
                    </a:lnTo>
                    <a:close/>
                    <a:moveTo>
                      <a:pt x="2841" y="2418"/>
                    </a:moveTo>
                    <a:lnTo>
                      <a:pt x="3109" y="2354"/>
                    </a:lnTo>
                    <a:lnTo>
                      <a:pt x="3335" y="3306"/>
                    </a:lnTo>
                    <a:lnTo>
                      <a:pt x="3067" y="3369"/>
                    </a:lnTo>
                    <a:lnTo>
                      <a:pt x="2841" y="2418"/>
                    </a:lnTo>
                    <a:close/>
                    <a:moveTo>
                      <a:pt x="2923" y="2531"/>
                    </a:moveTo>
                    <a:lnTo>
                      <a:pt x="2941" y="2606"/>
                    </a:lnTo>
                    <a:lnTo>
                      <a:pt x="3092" y="2570"/>
                    </a:lnTo>
                    <a:lnTo>
                      <a:pt x="3075" y="2496"/>
                    </a:lnTo>
                    <a:lnTo>
                      <a:pt x="2923" y="2531"/>
                    </a:lnTo>
                    <a:close/>
                    <a:moveTo>
                      <a:pt x="3041" y="3028"/>
                    </a:moveTo>
                    <a:lnTo>
                      <a:pt x="3192" y="2991"/>
                    </a:lnTo>
                    <a:lnTo>
                      <a:pt x="3229" y="3148"/>
                    </a:lnTo>
                    <a:lnTo>
                      <a:pt x="3078" y="3184"/>
                    </a:lnTo>
                    <a:lnTo>
                      <a:pt x="3041" y="3028"/>
                    </a:lnTo>
                    <a:close/>
                    <a:moveTo>
                      <a:pt x="2553" y="2372"/>
                    </a:moveTo>
                    <a:lnTo>
                      <a:pt x="2828" y="2372"/>
                    </a:lnTo>
                    <a:lnTo>
                      <a:pt x="2828" y="3352"/>
                    </a:lnTo>
                    <a:lnTo>
                      <a:pt x="2553" y="3352"/>
                    </a:lnTo>
                    <a:lnTo>
                      <a:pt x="2553" y="2372"/>
                    </a:lnTo>
                    <a:close/>
                    <a:moveTo>
                      <a:pt x="2606" y="2503"/>
                    </a:moveTo>
                    <a:lnTo>
                      <a:pt x="2606" y="2579"/>
                    </a:lnTo>
                    <a:lnTo>
                      <a:pt x="2762" y="2579"/>
                    </a:lnTo>
                    <a:lnTo>
                      <a:pt x="2762" y="2503"/>
                    </a:lnTo>
                    <a:lnTo>
                      <a:pt x="2606" y="2503"/>
                    </a:lnTo>
                    <a:close/>
                    <a:moveTo>
                      <a:pt x="2606" y="3012"/>
                    </a:moveTo>
                    <a:lnTo>
                      <a:pt x="2606" y="3173"/>
                    </a:lnTo>
                    <a:lnTo>
                      <a:pt x="2762" y="3173"/>
                    </a:lnTo>
                    <a:lnTo>
                      <a:pt x="2762" y="3012"/>
                    </a:lnTo>
                    <a:lnTo>
                      <a:pt x="2606" y="3012"/>
                    </a:lnTo>
                    <a:close/>
                    <a:moveTo>
                      <a:pt x="5555" y="151"/>
                    </a:moveTo>
                    <a:lnTo>
                      <a:pt x="5555" y="374"/>
                    </a:lnTo>
                    <a:lnTo>
                      <a:pt x="5555" y="4849"/>
                    </a:lnTo>
                    <a:lnTo>
                      <a:pt x="5871" y="4849"/>
                    </a:lnTo>
                    <a:lnTo>
                      <a:pt x="5871" y="5585"/>
                    </a:lnTo>
                    <a:lnTo>
                      <a:pt x="0" y="5585"/>
                    </a:lnTo>
                    <a:lnTo>
                      <a:pt x="0" y="4849"/>
                    </a:lnTo>
                    <a:lnTo>
                      <a:pt x="326" y="4849"/>
                    </a:lnTo>
                    <a:lnTo>
                      <a:pt x="326" y="374"/>
                    </a:lnTo>
                    <a:lnTo>
                      <a:pt x="326" y="151"/>
                    </a:lnTo>
                    <a:lnTo>
                      <a:pt x="326" y="0"/>
                    </a:lnTo>
                    <a:lnTo>
                      <a:pt x="5555" y="0"/>
                    </a:lnTo>
                    <a:lnTo>
                      <a:pt x="5555" y="151"/>
                    </a:lnTo>
                    <a:close/>
                    <a:moveTo>
                      <a:pt x="2409" y="2135"/>
                    </a:moveTo>
                    <a:lnTo>
                      <a:pt x="2409" y="3385"/>
                    </a:lnTo>
                    <a:lnTo>
                      <a:pt x="5107" y="3385"/>
                    </a:lnTo>
                    <a:lnTo>
                      <a:pt x="5107" y="2135"/>
                    </a:lnTo>
                    <a:lnTo>
                      <a:pt x="2409" y="2135"/>
                    </a:lnTo>
                    <a:close/>
                    <a:moveTo>
                      <a:pt x="2409" y="3609"/>
                    </a:moveTo>
                    <a:lnTo>
                      <a:pt x="2409" y="4849"/>
                    </a:lnTo>
                    <a:lnTo>
                      <a:pt x="5107" y="4849"/>
                    </a:lnTo>
                    <a:lnTo>
                      <a:pt x="5107" y="3609"/>
                    </a:lnTo>
                    <a:lnTo>
                      <a:pt x="2409" y="3609"/>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2" name="文本框 40"/>
            <p:cNvSpPr/>
            <p:nvPr/>
          </p:nvSpPr>
          <p:spPr>
            <a:xfrm>
              <a:off x="4361040" y="33400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二部分</a:t>
              </a:r>
              <a:endParaRPr b="0" lang="en-US" sz="2400" spc="-1" strike="noStrike">
                <a:solidFill>
                  <a:srgbClr val="000000"/>
                </a:solidFill>
                <a:latin typeface="Arial"/>
              </a:endParaRPr>
            </a:p>
          </p:txBody>
        </p:sp>
      </p:grpSp>
      <p:grpSp>
        <p:nvGrpSpPr>
          <p:cNvPr id="103" name="组合 51"/>
          <p:cNvGrpSpPr/>
          <p:nvPr/>
        </p:nvGrpSpPr>
        <p:grpSpPr>
          <a:xfrm>
            <a:off x="6658560" y="1947960"/>
            <a:ext cx="1278360" cy="1851840"/>
            <a:chOff x="6658560" y="1947960"/>
            <a:chExt cx="1278360" cy="1851840"/>
          </a:xfrm>
        </p:grpSpPr>
        <p:grpSp>
          <p:nvGrpSpPr>
            <p:cNvPr id="104" name="组合 36"/>
            <p:cNvGrpSpPr/>
            <p:nvPr/>
          </p:nvGrpSpPr>
          <p:grpSpPr>
            <a:xfrm>
              <a:off x="6658560" y="1947960"/>
              <a:ext cx="1278360" cy="1278720"/>
              <a:chOff x="6658560" y="1947960"/>
              <a:chExt cx="1278360" cy="1278720"/>
            </a:xfrm>
          </p:grpSpPr>
          <p:sp>
            <p:nvSpPr>
              <p:cNvPr id="105" name="椭圆 26"/>
              <p:cNvSpPr/>
              <p:nvPr/>
            </p:nvSpPr>
            <p:spPr>
              <a:xfrm>
                <a:off x="6658560" y="1947960"/>
                <a:ext cx="1278360" cy="127872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椭圆 31"/>
              <p:cNvSpPr/>
              <p:nvPr/>
            </p:nvSpPr>
            <p:spPr>
              <a:xfrm>
                <a:off x="6745680" y="2028600"/>
                <a:ext cx="1104120" cy="110448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KSO_Shape"/>
              <p:cNvSpPr/>
              <p:nvPr/>
            </p:nvSpPr>
            <p:spPr>
              <a:xfrm>
                <a:off x="6864840" y="2316600"/>
                <a:ext cx="865440" cy="527040"/>
              </a:xfrm>
              <a:custGeom>
                <a:avLst/>
                <a:gdLst/>
                <a:ahLst/>
                <a:rect l="l" t="t" r="r" b="b"/>
                <a:pathLst>
                  <a:path w="3931" h="2392">
                    <a:moveTo>
                      <a:pt x="3046" y="1287"/>
                    </a:moveTo>
                    <a:cubicBezTo>
                      <a:pt x="3046" y="1287"/>
                      <a:pt x="2618" y="850"/>
                      <a:pt x="2027" y="850"/>
                    </a:cubicBezTo>
                    <a:cubicBezTo>
                      <a:pt x="1450" y="850"/>
                      <a:pt x="880" y="1287"/>
                      <a:pt x="880" y="1287"/>
                    </a:cubicBezTo>
                    <a:cubicBezTo>
                      <a:pt x="560" y="1154"/>
                      <a:pt x="560" y="1154"/>
                      <a:pt x="560" y="1154"/>
                    </a:cubicBezTo>
                    <a:cubicBezTo>
                      <a:pt x="560" y="1546"/>
                      <a:pt x="560" y="1546"/>
                      <a:pt x="560" y="1546"/>
                    </a:cubicBezTo>
                    <a:cubicBezTo>
                      <a:pt x="610" y="1563"/>
                      <a:pt x="647" y="1610"/>
                      <a:pt x="647" y="1666"/>
                    </a:cubicBezTo>
                    <a:cubicBezTo>
                      <a:pt x="647" y="1723"/>
                      <a:pt x="609" y="1769"/>
                      <a:pt x="558" y="1786"/>
                    </a:cubicBezTo>
                    <a:cubicBezTo>
                      <a:pt x="653" y="2208"/>
                      <a:pt x="653" y="2208"/>
                      <a:pt x="653" y="2208"/>
                    </a:cubicBezTo>
                    <a:cubicBezTo>
                      <a:pt x="373" y="2208"/>
                      <a:pt x="373" y="2208"/>
                      <a:pt x="373" y="2208"/>
                    </a:cubicBezTo>
                    <a:cubicBezTo>
                      <a:pt x="469" y="1784"/>
                      <a:pt x="469" y="1784"/>
                      <a:pt x="469" y="1784"/>
                    </a:cubicBezTo>
                    <a:cubicBezTo>
                      <a:pt x="423" y="1764"/>
                      <a:pt x="391" y="1719"/>
                      <a:pt x="391" y="1666"/>
                    </a:cubicBezTo>
                    <a:cubicBezTo>
                      <a:pt x="391" y="1614"/>
                      <a:pt x="422" y="1570"/>
                      <a:pt x="466" y="1549"/>
                    </a:cubicBezTo>
                    <a:cubicBezTo>
                      <a:pt x="466" y="1115"/>
                      <a:pt x="466" y="1115"/>
                      <a:pt x="466" y="1115"/>
                    </a:cubicBezTo>
                    <a:cubicBezTo>
                      <a:pt x="0" y="920"/>
                      <a:pt x="0" y="920"/>
                      <a:pt x="0" y="920"/>
                    </a:cubicBezTo>
                    <a:cubicBezTo>
                      <a:pt x="2050" y="0"/>
                      <a:pt x="2050" y="0"/>
                      <a:pt x="2050" y="0"/>
                    </a:cubicBezTo>
                    <a:cubicBezTo>
                      <a:pt x="3931" y="932"/>
                      <a:pt x="3931" y="932"/>
                      <a:pt x="3931" y="932"/>
                    </a:cubicBezTo>
                    <a:lnTo>
                      <a:pt x="3046" y="1287"/>
                    </a:lnTo>
                    <a:close/>
                    <a:moveTo>
                      <a:pt x="2004" y="1072"/>
                    </a:moveTo>
                    <a:cubicBezTo>
                      <a:pt x="2598" y="1072"/>
                      <a:pt x="2929" y="1386"/>
                      <a:pt x="2929" y="1386"/>
                    </a:cubicBezTo>
                    <a:cubicBezTo>
                      <a:pt x="2929" y="2147"/>
                      <a:pt x="2929" y="2147"/>
                      <a:pt x="2929" y="2147"/>
                    </a:cubicBezTo>
                    <a:cubicBezTo>
                      <a:pt x="2929" y="2147"/>
                      <a:pt x="2586" y="2392"/>
                      <a:pt x="1957" y="2392"/>
                    </a:cubicBezTo>
                    <a:cubicBezTo>
                      <a:pt x="1328" y="2392"/>
                      <a:pt x="1099" y="2147"/>
                      <a:pt x="1099" y="2147"/>
                    </a:cubicBezTo>
                    <a:cubicBezTo>
                      <a:pt x="1099" y="1386"/>
                      <a:pt x="1099" y="1386"/>
                      <a:pt x="1099" y="1386"/>
                    </a:cubicBezTo>
                    <a:cubicBezTo>
                      <a:pt x="1099" y="1386"/>
                      <a:pt x="1410" y="1072"/>
                      <a:pt x="2004" y="1072"/>
                    </a:cubicBezTo>
                    <a:close/>
                    <a:moveTo>
                      <a:pt x="1992" y="2252"/>
                    </a:moveTo>
                    <a:cubicBezTo>
                      <a:pt x="2404" y="2252"/>
                      <a:pt x="2738" y="2168"/>
                      <a:pt x="2738" y="2066"/>
                    </a:cubicBezTo>
                    <a:cubicBezTo>
                      <a:pt x="2738" y="1963"/>
                      <a:pt x="2404" y="1879"/>
                      <a:pt x="1992" y="1879"/>
                    </a:cubicBezTo>
                    <a:cubicBezTo>
                      <a:pt x="1581" y="1879"/>
                      <a:pt x="1247" y="1963"/>
                      <a:pt x="1247" y="2066"/>
                    </a:cubicBezTo>
                    <a:cubicBezTo>
                      <a:pt x="1247" y="2168"/>
                      <a:pt x="1581" y="2252"/>
                      <a:pt x="1992" y="2252"/>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sp>
          <p:nvSpPr>
            <p:cNvPr id="108" name="文本框 41"/>
            <p:cNvSpPr/>
            <p:nvPr/>
          </p:nvSpPr>
          <p:spPr>
            <a:xfrm>
              <a:off x="6841440" y="33400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三部分</a:t>
              </a:r>
              <a:endParaRPr b="0" lang="en-US" sz="2400" spc="-1" strike="noStrike">
                <a:solidFill>
                  <a:srgbClr val="000000"/>
                </a:solidFill>
                <a:latin typeface="Arial"/>
              </a:endParaRPr>
            </a:p>
          </p:txBody>
        </p:sp>
      </p:grpSp>
      <p:grpSp>
        <p:nvGrpSpPr>
          <p:cNvPr id="109" name="组合 52"/>
          <p:cNvGrpSpPr/>
          <p:nvPr/>
        </p:nvGrpSpPr>
        <p:grpSpPr>
          <a:xfrm>
            <a:off x="9139680" y="1947960"/>
            <a:ext cx="1278360" cy="1851840"/>
            <a:chOff x="9139680" y="1947960"/>
            <a:chExt cx="1278360" cy="1851840"/>
          </a:xfrm>
        </p:grpSpPr>
        <p:grpSp>
          <p:nvGrpSpPr>
            <p:cNvPr id="110" name="组合 37"/>
            <p:cNvGrpSpPr/>
            <p:nvPr/>
          </p:nvGrpSpPr>
          <p:grpSpPr>
            <a:xfrm>
              <a:off x="9139680" y="1947960"/>
              <a:ext cx="1278360" cy="1278720"/>
              <a:chOff x="9139680" y="1947960"/>
              <a:chExt cx="1278360" cy="1278720"/>
            </a:xfrm>
          </p:grpSpPr>
          <p:sp>
            <p:nvSpPr>
              <p:cNvPr id="111" name="椭圆 27"/>
              <p:cNvSpPr/>
              <p:nvPr/>
            </p:nvSpPr>
            <p:spPr>
              <a:xfrm>
                <a:off x="9139680" y="1947960"/>
                <a:ext cx="1278360" cy="127872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椭圆 32"/>
              <p:cNvSpPr/>
              <p:nvPr/>
            </p:nvSpPr>
            <p:spPr>
              <a:xfrm>
                <a:off x="9226800" y="2035080"/>
                <a:ext cx="1104120" cy="110448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KSO_Shape"/>
              <p:cNvSpPr/>
              <p:nvPr/>
            </p:nvSpPr>
            <p:spPr>
              <a:xfrm>
                <a:off x="9459000" y="2266920"/>
                <a:ext cx="639360" cy="639720"/>
              </a:xfrm>
              <a:custGeom>
                <a:avLst/>
                <a:gdLst/>
                <a:ahLst/>
                <a:rect l="l" t="t" r="r" b="b"/>
                <a:pathLst>
                  <a:path w="3927" h="3928">
                    <a:moveTo>
                      <a:pt x="3857" y="672"/>
                    </a:moveTo>
                    <a:cubicBezTo>
                      <a:pt x="3675" y="852"/>
                      <a:pt x="3675" y="852"/>
                      <a:pt x="3675" y="852"/>
                    </a:cubicBezTo>
                    <a:cubicBezTo>
                      <a:pt x="3070" y="251"/>
                      <a:pt x="3070" y="251"/>
                      <a:pt x="3070" y="251"/>
                    </a:cubicBezTo>
                    <a:cubicBezTo>
                      <a:pt x="3252" y="70"/>
                      <a:pt x="3252" y="70"/>
                      <a:pt x="3252" y="70"/>
                    </a:cubicBezTo>
                    <a:cubicBezTo>
                      <a:pt x="3319" y="4"/>
                      <a:pt x="3424" y="0"/>
                      <a:pt x="3486" y="63"/>
                    </a:cubicBezTo>
                    <a:cubicBezTo>
                      <a:pt x="3864" y="438"/>
                      <a:pt x="3864" y="438"/>
                      <a:pt x="3864" y="438"/>
                    </a:cubicBezTo>
                    <a:cubicBezTo>
                      <a:pt x="3927" y="501"/>
                      <a:pt x="3924" y="605"/>
                      <a:pt x="3857" y="672"/>
                    </a:cubicBezTo>
                    <a:close/>
                    <a:moveTo>
                      <a:pt x="2252" y="2267"/>
                    </a:moveTo>
                    <a:cubicBezTo>
                      <a:pt x="1647" y="1665"/>
                      <a:pt x="1647" y="1665"/>
                      <a:pt x="1647" y="1665"/>
                    </a:cubicBezTo>
                    <a:cubicBezTo>
                      <a:pt x="2978" y="342"/>
                      <a:pt x="2978" y="342"/>
                      <a:pt x="2978" y="342"/>
                    </a:cubicBezTo>
                    <a:cubicBezTo>
                      <a:pt x="3583" y="944"/>
                      <a:pt x="3583" y="944"/>
                      <a:pt x="3583" y="944"/>
                    </a:cubicBezTo>
                    <a:lnTo>
                      <a:pt x="2252" y="2267"/>
                    </a:lnTo>
                    <a:close/>
                    <a:moveTo>
                      <a:pt x="2168" y="2350"/>
                    </a:moveTo>
                    <a:cubicBezTo>
                      <a:pt x="1321" y="2591"/>
                      <a:pt x="1321" y="2591"/>
                      <a:pt x="1321" y="2591"/>
                    </a:cubicBezTo>
                    <a:cubicBezTo>
                      <a:pt x="1563" y="1749"/>
                      <a:pt x="1563" y="1749"/>
                      <a:pt x="1563" y="1749"/>
                    </a:cubicBezTo>
                    <a:lnTo>
                      <a:pt x="2168" y="2350"/>
                    </a:lnTo>
                    <a:close/>
                    <a:moveTo>
                      <a:pt x="770" y="495"/>
                    </a:moveTo>
                    <a:cubicBezTo>
                      <a:pt x="561" y="495"/>
                      <a:pt x="392" y="665"/>
                      <a:pt x="392" y="874"/>
                    </a:cubicBezTo>
                    <a:cubicBezTo>
                      <a:pt x="392" y="3158"/>
                      <a:pt x="392" y="3158"/>
                      <a:pt x="392" y="3158"/>
                    </a:cubicBezTo>
                    <a:cubicBezTo>
                      <a:pt x="392" y="3367"/>
                      <a:pt x="561" y="3536"/>
                      <a:pt x="770" y="3536"/>
                    </a:cubicBezTo>
                    <a:cubicBezTo>
                      <a:pt x="3055" y="3536"/>
                      <a:pt x="3055" y="3536"/>
                      <a:pt x="3055" y="3536"/>
                    </a:cubicBezTo>
                    <a:cubicBezTo>
                      <a:pt x="3264" y="3536"/>
                      <a:pt x="3433" y="3367"/>
                      <a:pt x="3433" y="3158"/>
                    </a:cubicBezTo>
                    <a:cubicBezTo>
                      <a:pt x="3433" y="1657"/>
                      <a:pt x="3433" y="1657"/>
                      <a:pt x="3433" y="1657"/>
                    </a:cubicBezTo>
                    <a:cubicBezTo>
                      <a:pt x="3824" y="1278"/>
                      <a:pt x="3824" y="1278"/>
                      <a:pt x="3824" y="1278"/>
                    </a:cubicBezTo>
                    <a:cubicBezTo>
                      <a:pt x="3824" y="3297"/>
                      <a:pt x="3824" y="3297"/>
                      <a:pt x="3824" y="3297"/>
                    </a:cubicBezTo>
                    <a:cubicBezTo>
                      <a:pt x="3824" y="3645"/>
                      <a:pt x="3529" y="3928"/>
                      <a:pt x="3181" y="3928"/>
                    </a:cubicBezTo>
                    <a:cubicBezTo>
                      <a:pt x="631" y="3928"/>
                      <a:pt x="631" y="3928"/>
                      <a:pt x="631" y="3928"/>
                    </a:cubicBezTo>
                    <a:cubicBezTo>
                      <a:pt x="283" y="3928"/>
                      <a:pt x="0" y="3645"/>
                      <a:pt x="0" y="3297"/>
                    </a:cubicBezTo>
                    <a:cubicBezTo>
                      <a:pt x="0" y="773"/>
                      <a:pt x="0" y="773"/>
                      <a:pt x="0" y="773"/>
                    </a:cubicBezTo>
                    <a:cubicBezTo>
                      <a:pt x="0" y="425"/>
                      <a:pt x="283" y="103"/>
                      <a:pt x="631" y="103"/>
                    </a:cubicBezTo>
                    <a:cubicBezTo>
                      <a:pt x="2650" y="103"/>
                      <a:pt x="2650" y="103"/>
                      <a:pt x="2650" y="103"/>
                    </a:cubicBezTo>
                    <a:cubicBezTo>
                      <a:pt x="2271" y="495"/>
                      <a:pt x="2271" y="495"/>
                      <a:pt x="2271" y="495"/>
                    </a:cubicBezTo>
                    <a:lnTo>
                      <a:pt x="770" y="495"/>
                    </a:ln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sp>
          <p:nvSpPr>
            <p:cNvPr id="114" name="文本框 42"/>
            <p:cNvSpPr/>
            <p:nvPr/>
          </p:nvSpPr>
          <p:spPr>
            <a:xfrm>
              <a:off x="9322920" y="33400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四部分</a:t>
              </a:r>
              <a:endParaRPr b="0" lang="en-US" sz="2400" spc="-1" strike="noStrike">
                <a:solidFill>
                  <a:srgbClr val="000000"/>
                </a:solidFill>
                <a:latin typeface="Arial"/>
              </a:endParaRPr>
            </a:p>
          </p:txBody>
        </p:sp>
      </p:grpSp>
      <p:sp>
        <p:nvSpPr>
          <p:cNvPr id="115" name="文本框 44"/>
          <p:cNvSpPr/>
          <p:nvPr/>
        </p:nvSpPr>
        <p:spPr>
          <a:xfrm>
            <a:off x="1262160" y="3776760"/>
            <a:ext cx="2076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Arial"/>
              </a:rPr>
              <a:t>添加论文内容第一部分标题</a:t>
            </a:r>
            <a:endParaRPr b="0" lang="en-US" sz="2400" spc="-1" strike="noStrike">
              <a:solidFill>
                <a:srgbClr val="000000"/>
              </a:solidFill>
              <a:latin typeface="Arial"/>
            </a:endParaRPr>
          </a:p>
        </p:txBody>
      </p:sp>
      <p:sp>
        <p:nvSpPr>
          <p:cNvPr id="116" name="文本框 45"/>
          <p:cNvSpPr/>
          <p:nvPr/>
        </p:nvSpPr>
        <p:spPr>
          <a:xfrm>
            <a:off x="3776760" y="3776760"/>
            <a:ext cx="215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Arial"/>
              </a:rPr>
              <a:t>添加论文内容第二部分标题</a:t>
            </a:r>
            <a:endParaRPr b="0" lang="en-US" sz="2400" spc="-1" strike="noStrike">
              <a:solidFill>
                <a:srgbClr val="000000"/>
              </a:solidFill>
              <a:latin typeface="Arial"/>
            </a:endParaRPr>
          </a:p>
        </p:txBody>
      </p:sp>
      <p:sp>
        <p:nvSpPr>
          <p:cNvPr id="117" name="文本框 46"/>
          <p:cNvSpPr/>
          <p:nvPr/>
        </p:nvSpPr>
        <p:spPr>
          <a:xfrm>
            <a:off x="6221520" y="3776760"/>
            <a:ext cx="21542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Arial"/>
              </a:rPr>
              <a:t>添加论文内容第三部分标题</a:t>
            </a:r>
            <a:endParaRPr b="0" lang="en-US" sz="2400" spc="-1" strike="noStrike">
              <a:solidFill>
                <a:srgbClr val="000000"/>
              </a:solidFill>
              <a:latin typeface="Arial"/>
            </a:endParaRPr>
          </a:p>
        </p:txBody>
      </p:sp>
      <p:sp>
        <p:nvSpPr>
          <p:cNvPr id="118" name="文本框 47"/>
          <p:cNvSpPr/>
          <p:nvPr/>
        </p:nvSpPr>
        <p:spPr>
          <a:xfrm>
            <a:off x="8632800" y="3776760"/>
            <a:ext cx="2292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Arial"/>
              </a:rPr>
              <a:t>添加论文内容第四部分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任意多边形 10"/>
          <p:cNvSpPr/>
          <p:nvPr/>
        </p:nvSpPr>
        <p:spPr>
          <a:xfrm rot="5400000">
            <a:off x="2009160" y="-1552320"/>
            <a:ext cx="914400" cy="4933800"/>
          </a:xfrm>
          <a:custGeom>
            <a:avLst/>
            <a:gdLst/>
            <a:ahLst/>
            <a:rect l="l" t="t" r="r" b="b"/>
            <a:pathLst>
              <a:path w="990604" h="5956738">
                <a:moveTo>
                  <a:pt x="0" y="5956738"/>
                </a:moveTo>
                <a:lnTo>
                  <a:pt x="0" y="317938"/>
                </a:lnTo>
                <a:lnTo>
                  <a:pt x="6" y="317938"/>
                </a:lnTo>
                <a:lnTo>
                  <a:pt x="495305" y="0"/>
                </a:lnTo>
                <a:lnTo>
                  <a:pt x="990604" y="317938"/>
                </a:lnTo>
                <a:lnTo>
                  <a:pt x="990601" y="317938"/>
                </a:lnTo>
                <a:lnTo>
                  <a:pt x="990601" y="5956738"/>
                </a:lnTo>
                <a:lnTo>
                  <a:pt x="0" y="5956738"/>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椭圆 1"/>
          <p:cNvSpPr/>
          <p:nvPr/>
        </p:nvSpPr>
        <p:spPr>
          <a:xfrm>
            <a:off x="324000" y="247680"/>
            <a:ext cx="1333440" cy="1333440"/>
          </a:xfrm>
          <a:prstGeom prst="ellipse">
            <a:avLst/>
          </a:prstGeom>
          <a:solidFill>
            <a:srgbClr val="ffffff"/>
          </a:solidFill>
          <a:ln w="3816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 name="组合 2" descr=""/>
          <p:cNvPicPr/>
          <p:nvPr/>
        </p:nvPicPr>
        <p:blipFill>
          <a:blip r:embed="rId1"/>
          <a:stretch/>
        </p:blipFill>
        <p:spPr>
          <a:xfrm>
            <a:off x="476280" y="573120"/>
            <a:ext cx="1028520" cy="682560"/>
          </a:xfrm>
          <a:prstGeom prst="rect">
            <a:avLst/>
          </a:prstGeom>
          <a:ln w="0">
            <a:noFill/>
          </a:ln>
        </p:spPr>
      </p:pic>
      <p:sp>
        <p:nvSpPr>
          <p:cNvPr id="122" name="文本框 11"/>
          <p:cNvSpPr/>
          <p:nvPr/>
        </p:nvSpPr>
        <p:spPr>
          <a:xfrm>
            <a:off x="2302200" y="588960"/>
            <a:ext cx="182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论文主要内容</a:t>
            </a:r>
            <a:endParaRPr b="0" lang="en-US" sz="3600" spc="-1" strike="noStrike">
              <a:solidFill>
                <a:srgbClr val="000000"/>
              </a:solidFill>
              <a:latin typeface="Arial"/>
            </a:endParaRPr>
          </a:p>
        </p:txBody>
      </p:sp>
      <p:pic>
        <p:nvPicPr>
          <p:cNvPr id="123" name="图片 12" descr=""/>
          <p:cNvPicPr/>
          <p:nvPr/>
        </p:nvPicPr>
        <p:blipFill>
          <a:blip r:embed="rId2"/>
          <a:stretch/>
        </p:blipFill>
        <p:spPr>
          <a:xfrm>
            <a:off x="6326280" y="5200560"/>
            <a:ext cx="5865840" cy="1657440"/>
          </a:xfrm>
          <a:prstGeom prst="rect">
            <a:avLst/>
          </a:prstGeom>
          <a:ln w="0">
            <a:noFill/>
          </a:ln>
        </p:spPr>
      </p:pic>
      <p:grpSp>
        <p:nvGrpSpPr>
          <p:cNvPr id="124" name="组合 38"/>
          <p:cNvGrpSpPr/>
          <p:nvPr/>
        </p:nvGrpSpPr>
        <p:grpSpPr>
          <a:xfrm>
            <a:off x="9578880" y="2025720"/>
            <a:ext cx="1278000" cy="1278000"/>
            <a:chOff x="9578880" y="2025720"/>
            <a:chExt cx="1278000" cy="1278000"/>
          </a:xfrm>
        </p:grpSpPr>
        <p:sp>
          <p:nvSpPr>
            <p:cNvPr id="125" name="椭圆 28"/>
            <p:cNvSpPr/>
            <p:nvPr/>
          </p:nvSpPr>
          <p:spPr>
            <a:xfrm>
              <a:off x="9578880" y="2025720"/>
              <a:ext cx="1278000" cy="127800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椭圆 33"/>
            <p:cNvSpPr/>
            <p:nvPr/>
          </p:nvSpPr>
          <p:spPr>
            <a:xfrm>
              <a:off x="9666000" y="2112840"/>
              <a:ext cx="1103400" cy="11034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KSO_Shape"/>
            <p:cNvSpPr/>
            <p:nvPr/>
          </p:nvSpPr>
          <p:spPr>
            <a:xfrm>
              <a:off x="9883440" y="2376360"/>
              <a:ext cx="668520" cy="576360"/>
            </a:xfrm>
            <a:custGeom>
              <a:avLst/>
              <a:gdLst/>
              <a:ahLst/>
              <a:rect l="l" t="t" r="r" b="b"/>
              <a:pathLst>
                <a:path w="5325" h="4595">
                  <a:moveTo>
                    <a:pt x="5325" y="2829"/>
                  </a:moveTo>
                  <a:lnTo>
                    <a:pt x="5073" y="2829"/>
                  </a:lnTo>
                  <a:lnTo>
                    <a:pt x="5073" y="0"/>
                  </a:lnTo>
                  <a:lnTo>
                    <a:pt x="253" y="0"/>
                  </a:lnTo>
                  <a:lnTo>
                    <a:pt x="253" y="2829"/>
                  </a:lnTo>
                  <a:lnTo>
                    <a:pt x="0" y="2829"/>
                  </a:lnTo>
                  <a:lnTo>
                    <a:pt x="0" y="3269"/>
                  </a:lnTo>
                  <a:lnTo>
                    <a:pt x="1284" y="3269"/>
                  </a:lnTo>
                  <a:lnTo>
                    <a:pt x="926" y="4595"/>
                  </a:lnTo>
                  <a:lnTo>
                    <a:pt x="1404" y="4595"/>
                  </a:lnTo>
                  <a:lnTo>
                    <a:pt x="1762" y="3269"/>
                  </a:lnTo>
                  <a:lnTo>
                    <a:pt x="3565" y="3269"/>
                  </a:lnTo>
                  <a:lnTo>
                    <a:pt x="3764" y="4009"/>
                  </a:lnTo>
                  <a:lnTo>
                    <a:pt x="3923" y="4595"/>
                  </a:lnTo>
                  <a:lnTo>
                    <a:pt x="4400" y="4595"/>
                  </a:lnTo>
                  <a:lnTo>
                    <a:pt x="4042" y="3269"/>
                  </a:lnTo>
                  <a:lnTo>
                    <a:pt x="5325" y="3269"/>
                  </a:lnTo>
                  <a:lnTo>
                    <a:pt x="5325" y="2829"/>
                  </a:lnTo>
                  <a:close/>
                  <a:moveTo>
                    <a:pt x="4623" y="2732"/>
                  </a:moveTo>
                  <a:lnTo>
                    <a:pt x="4623" y="2732"/>
                  </a:lnTo>
                  <a:lnTo>
                    <a:pt x="4623" y="2742"/>
                  </a:lnTo>
                  <a:lnTo>
                    <a:pt x="4622" y="2752"/>
                  </a:lnTo>
                  <a:lnTo>
                    <a:pt x="4619" y="2760"/>
                  </a:lnTo>
                  <a:lnTo>
                    <a:pt x="4615" y="2770"/>
                  </a:lnTo>
                  <a:lnTo>
                    <a:pt x="4612" y="2779"/>
                  </a:lnTo>
                  <a:lnTo>
                    <a:pt x="4607" y="2786"/>
                  </a:lnTo>
                  <a:lnTo>
                    <a:pt x="4601" y="2794"/>
                  </a:lnTo>
                  <a:lnTo>
                    <a:pt x="4595" y="2801"/>
                  </a:lnTo>
                  <a:lnTo>
                    <a:pt x="4588" y="2807"/>
                  </a:lnTo>
                  <a:lnTo>
                    <a:pt x="4581" y="2812"/>
                  </a:lnTo>
                  <a:lnTo>
                    <a:pt x="4573" y="2817"/>
                  </a:lnTo>
                  <a:lnTo>
                    <a:pt x="4564" y="2822"/>
                  </a:lnTo>
                  <a:lnTo>
                    <a:pt x="4555" y="2824"/>
                  </a:lnTo>
                  <a:lnTo>
                    <a:pt x="4547" y="2827"/>
                  </a:lnTo>
                  <a:lnTo>
                    <a:pt x="4537" y="2828"/>
                  </a:lnTo>
                  <a:lnTo>
                    <a:pt x="4527" y="2829"/>
                  </a:lnTo>
                  <a:lnTo>
                    <a:pt x="3213" y="2829"/>
                  </a:lnTo>
                  <a:lnTo>
                    <a:pt x="3203" y="2828"/>
                  </a:lnTo>
                  <a:lnTo>
                    <a:pt x="3194" y="2827"/>
                  </a:lnTo>
                  <a:lnTo>
                    <a:pt x="3185" y="2824"/>
                  </a:lnTo>
                  <a:lnTo>
                    <a:pt x="3175" y="2822"/>
                  </a:lnTo>
                  <a:lnTo>
                    <a:pt x="3168" y="2817"/>
                  </a:lnTo>
                  <a:lnTo>
                    <a:pt x="3159" y="2812"/>
                  </a:lnTo>
                  <a:lnTo>
                    <a:pt x="3152" y="2807"/>
                  </a:lnTo>
                  <a:lnTo>
                    <a:pt x="3146" y="2801"/>
                  </a:lnTo>
                  <a:lnTo>
                    <a:pt x="3140" y="2794"/>
                  </a:lnTo>
                  <a:lnTo>
                    <a:pt x="3133" y="2786"/>
                  </a:lnTo>
                  <a:lnTo>
                    <a:pt x="3129" y="2779"/>
                  </a:lnTo>
                  <a:lnTo>
                    <a:pt x="3125" y="2770"/>
                  </a:lnTo>
                  <a:lnTo>
                    <a:pt x="3121" y="2760"/>
                  </a:lnTo>
                  <a:lnTo>
                    <a:pt x="3119" y="2752"/>
                  </a:lnTo>
                  <a:lnTo>
                    <a:pt x="3118" y="2742"/>
                  </a:lnTo>
                  <a:lnTo>
                    <a:pt x="3118" y="2732"/>
                  </a:lnTo>
                  <a:lnTo>
                    <a:pt x="3118" y="2045"/>
                  </a:lnTo>
                  <a:lnTo>
                    <a:pt x="3118" y="2035"/>
                  </a:lnTo>
                  <a:lnTo>
                    <a:pt x="3119" y="2025"/>
                  </a:lnTo>
                  <a:lnTo>
                    <a:pt x="3121" y="2016"/>
                  </a:lnTo>
                  <a:lnTo>
                    <a:pt x="3125" y="2008"/>
                  </a:lnTo>
                  <a:lnTo>
                    <a:pt x="3129" y="1999"/>
                  </a:lnTo>
                  <a:lnTo>
                    <a:pt x="3133" y="1991"/>
                  </a:lnTo>
                  <a:lnTo>
                    <a:pt x="3140" y="1983"/>
                  </a:lnTo>
                  <a:lnTo>
                    <a:pt x="3146" y="1977"/>
                  </a:lnTo>
                  <a:lnTo>
                    <a:pt x="3152" y="1971"/>
                  </a:lnTo>
                  <a:lnTo>
                    <a:pt x="3159" y="1965"/>
                  </a:lnTo>
                  <a:lnTo>
                    <a:pt x="3168" y="1960"/>
                  </a:lnTo>
                  <a:lnTo>
                    <a:pt x="3175" y="1956"/>
                  </a:lnTo>
                  <a:lnTo>
                    <a:pt x="3185" y="1953"/>
                  </a:lnTo>
                  <a:lnTo>
                    <a:pt x="3194" y="1950"/>
                  </a:lnTo>
                  <a:lnTo>
                    <a:pt x="3203" y="1949"/>
                  </a:lnTo>
                  <a:lnTo>
                    <a:pt x="3213" y="1949"/>
                  </a:lnTo>
                  <a:lnTo>
                    <a:pt x="4527" y="1949"/>
                  </a:lnTo>
                  <a:lnTo>
                    <a:pt x="4537" y="1949"/>
                  </a:lnTo>
                  <a:lnTo>
                    <a:pt x="4547" y="1950"/>
                  </a:lnTo>
                  <a:lnTo>
                    <a:pt x="4555" y="1953"/>
                  </a:lnTo>
                  <a:lnTo>
                    <a:pt x="4564" y="1956"/>
                  </a:lnTo>
                  <a:lnTo>
                    <a:pt x="4573" y="1960"/>
                  </a:lnTo>
                  <a:lnTo>
                    <a:pt x="4581" y="1965"/>
                  </a:lnTo>
                  <a:lnTo>
                    <a:pt x="4588" y="1971"/>
                  </a:lnTo>
                  <a:lnTo>
                    <a:pt x="4595" y="1977"/>
                  </a:lnTo>
                  <a:lnTo>
                    <a:pt x="4601" y="1983"/>
                  </a:lnTo>
                  <a:lnTo>
                    <a:pt x="4607" y="1991"/>
                  </a:lnTo>
                  <a:lnTo>
                    <a:pt x="4612" y="1999"/>
                  </a:lnTo>
                  <a:lnTo>
                    <a:pt x="4615" y="2008"/>
                  </a:lnTo>
                  <a:lnTo>
                    <a:pt x="4619" y="2016"/>
                  </a:lnTo>
                  <a:lnTo>
                    <a:pt x="4622" y="2025"/>
                  </a:lnTo>
                  <a:lnTo>
                    <a:pt x="4623" y="2035"/>
                  </a:lnTo>
                  <a:lnTo>
                    <a:pt x="4623" y="2045"/>
                  </a:lnTo>
                  <a:lnTo>
                    <a:pt x="4623" y="2732"/>
                  </a:lnTo>
                  <a:close/>
                </a:path>
              </a:pathLst>
            </a:custGeom>
            <a:solidFill>
              <a:srgbClr val="4b649f"/>
            </a:solidFill>
            <a:ln w="0">
              <a:noFill/>
            </a:ln>
          </p:spPr>
          <p:style>
            <a:lnRef idx="0"/>
            <a:fillRef idx="0"/>
            <a:effectRef idx="0"/>
            <a:fontRef idx="minor"/>
          </p:style>
          <p:txBody>
            <a:bodyPr lIns="90000" rIns="90000" tIns="-143640" bIns="529560" anchor="ctr">
              <a:noAutofit/>
            </a:bodyPr>
            <a:p>
              <a:endParaRPr b="0" lang="en-US" sz="1800" spc="-1" strike="noStrike">
                <a:solidFill>
                  <a:srgbClr val="000000"/>
                </a:solidFill>
                <a:latin typeface="Arial"/>
              </a:endParaRPr>
            </a:p>
          </p:txBody>
        </p:sp>
      </p:grpSp>
      <p:grpSp>
        <p:nvGrpSpPr>
          <p:cNvPr id="128" name="组合 36"/>
          <p:cNvGrpSpPr/>
          <p:nvPr/>
        </p:nvGrpSpPr>
        <p:grpSpPr>
          <a:xfrm>
            <a:off x="5421240" y="2025720"/>
            <a:ext cx="1278000" cy="1278000"/>
            <a:chOff x="5421240" y="2025720"/>
            <a:chExt cx="1278000" cy="1278000"/>
          </a:xfrm>
        </p:grpSpPr>
        <p:sp>
          <p:nvSpPr>
            <p:cNvPr id="129" name="椭圆 26"/>
            <p:cNvSpPr/>
            <p:nvPr/>
          </p:nvSpPr>
          <p:spPr>
            <a:xfrm>
              <a:off x="5421240" y="2025720"/>
              <a:ext cx="1278000" cy="127800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椭圆 31"/>
            <p:cNvSpPr/>
            <p:nvPr/>
          </p:nvSpPr>
          <p:spPr>
            <a:xfrm>
              <a:off x="5508360" y="2106360"/>
              <a:ext cx="1103400" cy="11034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KSO_Shape"/>
            <p:cNvSpPr/>
            <p:nvPr/>
          </p:nvSpPr>
          <p:spPr>
            <a:xfrm>
              <a:off x="5627160" y="2394360"/>
              <a:ext cx="866160" cy="527040"/>
            </a:xfrm>
            <a:custGeom>
              <a:avLst/>
              <a:gdLst/>
              <a:ahLst/>
              <a:rect l="l" t="t" r="r" b="b"/>
              <a:pathLst>
                <a:path w="3931" h="2392">
                  <a:moveTo>
                    <a:pt x="3046" y="1287"/>
                  </a:moveTo>
                  <a:cubicBezTo>
                    <a:pt x="3046" y="1287"/>
                    <a:pt x="2618" y="850"/>
                    <a:pt x="2027" y="850"/>
                  </a:cubicBezTo>
                  <a:cubicBezTo>
                    <a:pt x="1450" y="850"/>
                    <a:pt x="880" y="1287"/>
                    <a:pt x="880" y="1287"/>
                  </a:cubicBezTo>
                  <a:cubicBezTo>
                    <a:pt x="560" y="1154"/>
                    <a:pt x="560" y="1154"/>
                    <a:pt x="560" y="1154"/>
                  </a:cubicBezTo>
                  <a:cubicBezTo>
                    <a:pt x="560" y="1546"/>
                    <a:pt x="560" y="1546"/>
                    <a:pt x="560" y="1546"/>
                  </a:cubicBezTo>
                  <a:cubicBezTo>
                    <a:pt x="610" y="1563"/>
                    <a:pt x="647" y="1610"/>
                    <a:pt x="647" y="1666"/>
                  </a:cubicBezTo>
                  <a:cubicBezTo>
                    <a:pt x="647" y="1723"/>
                    <a:pt x="609" y="1769"/>
                    <a:pt x="558" y="1786"/>
                  </a:cubicBezTo>
                  <a:cubicBezTo>
                    <a:pt x="653" y="2208"/>
                    <a:pt x="653" y="2208"/>
                    <a:pt x="653" y="2208"/>
                  </a:cubicBezTo>
                  <a:cubicBezTo>
                    <a:pt x="373" y="2208"/>
                    <a:pt x="373" y="2208"/>
                    <a:pt x="373" y="2208"/>
                  </a:cubicBezTo>
                  <a:cubicBezTo>
                    <a:pt x="469" y="1784"/>
                    <a:pt x="469" y="1784"/>
                    <a:pt x="469" y="1784"/>
                  </a:cubicBezTo>
                  <a:cubicBezTo>
                    <a:pt x="423" y="1764"/>
                    <a:pt x="391" y="1719"/>
                    <a:pt x="391" y="1666"/>
                  </a:cubicBezTo>
                  <a:cubicBezTo>
                    <a:pt x="391" y="1614"/>
                    <a:pt x="422" y="1570"/>
                    <a:pt x="466" y="1549"/>
                  </a:cubicBezTo>
                  <a:cubicBezTo>
                    <a:pt x="466" y="1115"/>
                    <a:pt x="466" y="1115"/>
                    <a:pt x="466" y="1115"/>
                  </a:cubicBezTo>
                  <a:cubicBezTo>
                    <a:pt x="0" y="920"/>
                    <a:pt x="0" y="920"/>
                    <a:pt x="0" y="920"/>
                  </a:cubicBezTo>
                  <a:cubicBezTo>
                    <a:pt x="2050" y="0"/>
                    <a:pt x="2050" y="0"/>
                    <a:pt x="2050" y="0"/>
                  </a:cubicBezTo>
                  <a:cubicBezTo>
                    <a:pt x="3931" y="932"/>
                    <a:pt x="3931" y="932"/>
                    <a:pt x="3931" y="932"/>
                  </a:cubicBezTo>
                  <a:lnTo>
                    <a:pt x="3046" y="1287"/>
                  </a:lnTo>
                  <a:close/>
                  <a:moveTo>
                    <a:pt x="2004" y="1072"/>
                  </a:moveTo>
                  <a:cubicBezTo>
                    <a:pt x="2598" y="1072"/>
                    <a:pt x="2929" y="1386"/>
                    <a:pt x="2929" y="1386"/>
                  </a:cubicBezTo>
                  <a:cubicBezTo>
                    <a:pt x="2929" y="2147"/>
                    <a:pt x="2929" y="2147"/>
                    <a:pt x="2929" y="2147"/>
                  </a:cubicBezTo>
                  <a:cubicBezTo>
                    <a:pt x="2929" y="2147"/>
                    <a:pt x="2586" y="2392"/>
                    <a:pt x="1957" y="2392"/>
                  </a:cubicBezTo>
                  <a:cubicBezTo>
                    <a:pt x="1328" y="2392"/>
                    <a:pt x="1099" y="2147"/>
                    <a:pt x="1099" y="2147"/>
                  </a:cubicBezTo>
                  <a:cubicBezTo>
                    <a:pt x="1099" y="1386"/>
                    <a:pt x="1099" y="1386"/>
                    <a:pt x="1099" y="1386"/>
                  </a:cubicBezTo>
                  <a:cubicBezTo>
                    <a:pt x="1099" y="1386"/>
                    <a:pt x="1410" y="1072"/>
                    <a:pt x="2004" y="1072"/>
                  </a:cubicBezTo>
                  <a:close/>
                  <a:moveTo>
                    <a:pt x="1992" y="2252"/>
                  </a:moveTo>
                  <a:cubicBezTo>
                    <a:pt x="2404" y="2252"/>
                    <a:pt x="2738" y="2168"/>
                    <a:pt x="2738" y="2066"/>
                  </a:cubicBezTo>
                  <a:cubicBezTo>
                    <a:pt x="2738" y="1963"/>
                    <a:pt x="2404" y="1879"/>
                    <a:pt x="1992" y="1879"/>
                  </a:cubicBezTo>
                  <a:cubicBezTo>
                    <a:pt x="1581" y="1879"/>
                    <a:pt x="1247" y="1963"/>
                    <a:pt x="1247" y="2066"/>
                  </a:cubicBezTo>
                  <a:cubicBezTo>
                    <a:pt x="1247" y="2168"/>
                    <a:pt x="1581" y="2252"/>
                    <a:pt x="1992" y="2252"/>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grpSp>
        <p:nvGrpSpPr>
          <p:cNvPr id="132" name="组合 37"/>
          <p:cNvGrpSpPr/>
          <p:nvPr/>
        </p:nvGrpSpPr>
        <p:grpSpPr>
          <a:xfrm>
            <a:off x="7500960" y="2025720"/>
            <a:ext cx="1278000" cy="1278000"/>
            <a:chOff x="7500960" y="2025720"/>
            <a:chExt cx="1278000" cy="1278000"/>
          </a:xfrm>
        </p:grpSpPr>
        <p:sp>
          <p:nvSpPr>
            <p:cNvPr id="133" name="椭圆 27"/>
            <p:cNvSpPr/>
            <p:nvPr/>
          </p:nvSpPr>
          <p:spPr>
            <a:xfrm>
              <a:off x="7500960" y="2025720"/>
              <a:ext cx="1278000" cy="127800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椭圆 32"/>
            <p:cNvSpPr/>
            <p:nvPr/>
          </p:nvSpPr>
          <p:spPr>
            <a:xfrm>
              <a:off x="7588080" y="2112840"/>
              <a:ext cx="1103400" cy="11034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KSO_Shape"/>
            <p:cNvSpPr/>
            <p:nvPr/>
          </p:nvSpPr>
          <p:spPr>
            <a:xfrm>
              <a:off x="7819920" y="2344680"/>
              <a:ext cx="639720" cy="639720"/>
            </a:xfrm>
            <a:custGeom>
              <a:avLst/>
              <a:gdLst/>
              <a:ahLst/>
              <a:rect l="l" t="t" r="r" b="b"/>
              <a:pathLst>
                <a:path w="3927" h="3928">
                  <a:moveTo>
                    <a:pt x="3857" y="672"/>
                  </a:moveTo>
                  <a:cubicBezTo>
                    <a:pt x="3675" y="852"/>
                    <a:pt x="3675" y="852"/>
                    <a:pt x="3675" y="852"/>
                  </a:cubicBezTo>
                  <a:cubicBezTo>
                    <a:pt x="3070" y="251"/>
                    <a:pt x="3070" y="251"/>
                    <a:pt x="3070" y="251"/>
                  </a:cubicBezTo>
                  <a:cubicBezTo>
                    <a:pt x="3252" y="70"/>
                    <a:pt x="3252" y="70"/>
                    <a:pt x="3252" y="70"/>
                  </a:cubicBezTo>
                  <a:cubicBezTo>
                    <a:pt x="3319" y="4"/>
                    <a:pt x="3424" y="0"/>
                    <a:pt x="3486" y="63"/>
                  </a:cubicBezTo>
                  <a:cubicBezTo>
                    <a:pt x="3864" y="438"/>
                    <a:pt x="3864" y="438"/>
                    <a:pt x="3864" y="438"/>
                  </a:cubicBezTo>
                  <a:cubicBezTo>
                    <a:pt x="3927" y="501"/>
                    <a:pt x="3924" y="605"/>
                    <a:pt x="3857" y="672"/>
                  </a:cubicBezTo>
                  <a:close/>
                  <a:moveTo>
                    <a:pt x="2252" y="2267"/>
                  </a:moveTo>
                  <a:cubicBezTo>
                    <a:pt x="1647" y="1665"/>
                    <a:pt x="1647" y="1665"/>
                    <a:pt x="1647" y="1665"/>
                  </a:cubicBezTo>
                  <a:cubicBezTo>
                    <a:pt x="2978" y="342"/>
                    <a:pt x="2978" y="342"/>
                    <a:pt x="2978" y="342"/>
                  </a:cubicBezTo>
                  <a:cubicBezTo>
                    <a:pt x="3583" y="944"/>
                    <a:pt x="3583" y="944"/>
                    <a:pt x="3583" y="944"/>
                  </a:cubicBezTo>
                  <a:lnTo>
                    <a:pt x="2252" y="2267"/>
                  </a:lnTo>
                  <a:close/>
                  <a:moveTo>
                    <a:pt x="2168" y="2350"/>
                  </a:moveTo>
                  <a:cubicBezTo>
                    <a:pt x="1321" y="2591"/>
                    <a:pt x="1321" y="2591"/>
                    <a:pt x="1321" y="2591"/>
                  </a:cubicBezTo>
                  <a:cubicBezTo>
                    <a:pt x="1563" y="1749"/>
                    <a:pt x="1563" y="1749"/>
                    <a:pt x="1563" y="1749"/>
                  </a:cubicBezTo>
                  <a:lnTo>
                    <a:pt x="2168" y="2350"/>
                  </a:lnTo>
                  <a:close/>
                  <a:moveTo>
                    <a:pt x="770" y="495"/>
                  </a:moveTo>
                  <a:cubicBezTo>
                    <a:pt x="561" y="495"/>
                    <a:pt x="392" y="665"/>
                    <a:pt x="392" y="874"/>
                  </a:cubicBezTo>
                  <a:cubicBezTo>
                    <a:pt x="392" y="3158"/>
                    <a:pt x="392" y="3158"/>
                    <a:pt x="392" y="3158"/>
                  </a:cubicBezTo>
                  <a:cubicBezTo>
                    <a:pt x="392" y="3367"/>
                    <a:pt x="561" y="3536"/>
                    <a:pt x="770" y="3536"/>
                  </a:cubicBezTo>
                  <a:cubicBezTo>
                    <a:pt x="3055" y="3536"/>
                    <a:pt x="3055" y="3536"/>
                    <a:pt x="3055" y="3536"/>
                  </a:cubicBezTo>
                  <a:cubicBezTo>
                    <a:pt x="3264" y="3536"/>
                    <a:pt x="3433" y="3367"/>
                    <a:pt x="3433" y="3158"/>
                  </a:cubicBezTo>
                  <a:cubicBezTo>
                    <a:pt x="3433" y="1657"/>
                    <a:pt x="3433" y="1657"/>
                    <a:pt x="3433" y="1657"/>
                  </a:cubicBezTo>
                  <a:cubicBezTo>
                    <a:pt x="3824" y="1278"/>
                    <a:pt x="3824" y="1278"/>
                    <a:pt x="3824" y="1278"/>
                  </a:cubicBezTo>
                  <a:cubicBezTo>
                    <a:pt x="3824" y="3297"/>
                    <a:pt x="3824" y="3297"/>
                    <a:pt x="3824" y="3297"/>
                  </a:cubicBezTo>
                  <a:cubicBezTo>
                    <a:pt x="3824" y="3645"/>
                    <a:pt x="3529" y="3928"/>
                    <a:pt x="3181" y="3928"/>
                  </a:cubicBezTo>
                  <a:cubicBezTo>
                    <a:pt x="631" y="3928"/>
                    <a:pt x="631" y="3928"/>
                    <a:pt x="631" y="3928"/>
                  </a:cubicBezTo>
                  <a:cubicBezTo>
                    <a:pt x="283" y="3928"/>
                    <a:pt x="0" y="3645"/>
                    <a:pt x="0" y="3297"/>
                  </a:cubicBezTo>
                  <a:cubicBezTo>
                    <a:pt x="0" y="773"/>
                    <a:pt x="0" y="773"/>
                    <a:pt x="0" y="773"/>
                  </a:cubicBezTo>
                  <a:cubicBezTo>
                    <a:pt x="0" y="425"/>
                    <a:pt x="283" y="103"/>
                    <a:pt x="631" y="103"/>
                  </a:cubicBezTo>
                  <a:cubicBezTo>
                    <a:pt x="2650" y="103"/>
                    <a:pt x="2650" y="103"/>
                    <a:pt x="2650" y="103"/>
                  </a:cubicBezTo>
                  <a:cubicBezTo>
                    <a:pt x="2271" y="495"/>
                    <a:pt x="2271" y="495"/>
                    <a:pt x="2271" y="495"/>
                  </a:cubicBezTo>
                  <a:lnTo>
                    <a:pt x="770" y="495"/>
                  </a:ln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grpSp>
        <p:nvGrpSpPr>
          <p:cNvPr id="136" name="组合 34"/>
          <p:cNvGrpSpPr/>
          <p:nvPr/>
        </p:nvGrpSpPr>
        <p:grpSpPr>
          <a:xfrm>
            <a:off x="1265400" y="2025720"/>
            <a:ext cx="1277640" cy="1278000"/>
            <a:chOff x="1265400" y="2025720"/>
            <a:chExt cx="1277640" cy="1278000"/>
          </a:xfrm>
        </p:grpSpPr>
        <p:sp>
          <p:nvSpPr>
            <p:cNvPr id="137" name="椭圆 24"/>
            <p:cNvSpPr/>
            <p:nvPr/>
          </p:nvSpPr>
          <p:spPr>
            <a:xfrm>
              <a:off x="1265400" y="2025720"/>
              <a:ext cx="1277640" cy="127800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椭圆 29"/>
            <p:cNvSpPr/>
            <p:nvPr/>
          </p:nvSpPr>
          <p:spPr>
            <a:xfrm>
              <a:off x="1352520" y="2112840"/>
              <a:ext cx="1103040" cy="11034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KSO_Shape"/>
            <p:cNvSpPr/>
            <p:nvPr/>
          </p:nvSpPr>
          <p:spPr>
            <a:xfrm>
              <a:off x="1542600" y="2314440"/>
              <a:ext cx="723240" cy="700560"/>
            </a:xfrm>
            <a:custGeom>
              <a:avLst/>
              <a:gdLst/>
              <a:ahLst/>
              <a:rect l="l" t="t" r="r" b="b"/>
              <a:pathLst>
                <a:path w="8965002" h="8673857">
                  <a:moveTo>
                    <a:pt x="8267042" y="3603669"/>
                  </a:moveTo>
                  <a:cubicBezTo>
                    <a:pt x="8267042" y="3603669"/>
                    <a:pt x="8267042" y="3603669"/>
                    <a:pt x="8503636" y="3603669"/>
                  </a:cubicBezTo>
                  <a:cubicBezTo>
                    <a:pt x="8770275" y="3603669"/>
                    <a:pt x="9115779" y="3885289"/>
                    <a:pt x="8894206" y="4343392"/>
                  </a:cubicBezTo>
                  <a:cubicBezTo>
                    <a:pt x="8894206" y="4343392"/>
                    <a:pt x="8894206" y="4343392"/>
                    <a:pt x="6963891" y="7249712"/>
                  </a:cubicBezTo>
                  <a:cubicBezTo>
                    <a:pt x="6817428" y="7463743"/>
                    <a:pt x="6610877" y="7475008"/>
                    <a:pt x="6509479" y="7475008"/>
                  </a:cubicBezTo>
                  <a:cubicBezTo>
                    <a:pt x="6509479" y="7475008"/>
                    <a:pt x="6509479" y="7475008"/>
                    <a:pt x="5375325" y="7475008"/>
                  </a:cubicBezTo>
                  <a:cubicBezTo>
                    <a:pt x="5375325" y="7475008"/>
                    <a:pt x="5375325" y="7475008"/>
                    <a:pt x="5375325" y="8391212"/>
                  </a:cubicBezTo>
                  <a:cubicBezTo>
                    <a:pt x="5375325" y="8503860"/>
                    <a:pt x="5326504" y="8586469"/>
                    <a:pt x="5225106" y="8639038"/>
                  </a:cubicBezTo>
                  <a:cubicBezTo>
                    <a:pt x="5180040" y="8661567"/>
                    <a:pt x="5131219" y="8672833"/>
                    <a:pt x="5086153" y="8672833"/>
                  </a:cubicBezTo>
                  <a:cubicBezTo>
                    <a:pt x="5026066" y="8672833"/>
                    <a:pt x="4962223" y="8654057"/>
                    <a:pt x="4909646" y="8620263"/>
                  </a:cubicBezTo>
                  <a:cubicBezTo>
                    <a:pt x="4909646" y="8620263"/>
                    <a:pt x="4909646" y="8620263"/>
                    <a:pt x="4027109" y="8023229"/>
                  </a:cubicBezTo>
                  <a:cubicBezTo>
                    <a:pt x="4027109" y="8023229"/>
                    <a:pt x="4027109" y="8023229"/>
                    <a:pt x="3163349" y="8620263"/>
                  </a:cubicBezTo>
                  <a:cubicBezTo>
                    <a:pt x="3069463" y="8684097"/>
                    <a:pt x="2949287" y="8691607"/>
                    <a:pt x="2847889" y="8639038"/>
                  </a:cubicBezTo>
                  <a:cubicBezTo>
                    <a:pt x="2750247" y="8586469"/>
                    <a:pt x="2686404" y="8503860"/>
                    <a:pt x="2686404" y="8391212"/>
                  </a:cubicBezTo>
                  <a:cubicBezTo>
                    <a:pt x="2686404" y="8391212"/>
                    <a:pt x="2686404" y="8391212"/>
                    <a:pt x="2686404" y="6100701"/>
                  </a:cubicBezTo>
                  <a:cubicBezTo>
                    <a:pt x="2686404" y="5559991"/>
                    <a:pt x="2990598" y="5237066"/>
                    <a:pt x="3170860" y="5131928"/>
                  </a:cubicBezTo>
                  <a:cubicBezTo>
                    <a:pt x="3215926" y="5105644"/>
                    <a:pt x="3268503" y="5090624"/>
                    <a:pt x="3324835" y="5090624"/>
                  </a:cubicBezTo>
                  <a:cubicBezTo>
                    <a:pt x="3324835" y="5090624"/>
                    <a:pt x="3324835" y="5090624"/>
                    <a:pt x="5690785" y="5090624"/>
                  </a:cubicBezTo>
                  <a:cubicBezTo>
                    <a:pt x="5371570" y="5406038"/>
                    <a:pt x="5367814" y="5980543"/>
                    <a:pt x="5367814" y="6280938"/>
                  </a:cubicBezTo>
                  <a:cubicBezTo>
                    <a:pt x="5367814" y="6280938"/>
                    <a:pt x="5367814" y="6280938"/>
                    <a:pt x="6227818" y="6280938"/>
                  </a:cubicBezTo>
                  <a:cubicBezTo>
                    <a:pt x="6227818" y="6280938"/>
                    <a:pt x="6227818" y="6280938"/>
                    <a:pt x="8267042" y="3603669"/>
                  </a:cubicBezTo>
                  <a:close/>
                  <a:moveTo>
                    <a:pt x="6109875" y="128"/>
                  </a:moveTo>
                  <a:cubicBezTo>
                    <a:pt x="6829153" y="-2490"/>
                    <a:pt x="7579192" y="34821"/>
                    <a:pt x="8198796" y="137601"/>
                  </a:cubicBezTo>
                  <a:cubicBezTo>
                    <a:pt x="8705745" y="220201"/>
                    <a:pt x="8739542" y="678257"/>
                    <a:pt x="8578069" y="884757"/>
                  </a:cubicBezTo>
                  <a:cubicBezTo>
                    <a:pt x="8578069" y="884757"/>
                    <a:pt x="6234838" y="3955980"/>
                    <a:pt x="6208552" y="3974753"/>
                  </a:cubicBezTo>
                  <a:cubicBezTo>
                    <a:pt x="6107162" y="4098653"/>
                    <a:pt x="5953199" y="4177498"/>
                    <a:pt x="5780461" y="4177498"/>
                  </a:cubicBezTo>
                  <a:cubicBezTo>
                    <a:pt x="5780461" y="4177498"/>
                    <a:pt x="5780461" y="4177498"/>
                    <a:pt x="2209285" y="4177498"/>
                  </a:cubicBezTo>
                  <a:cubicBezTo>
                    <a:pt x="1818747" y="4177498"/>
                    <a:pt x="970076" y="4545444"/>
                    <a:pt x="1150325" y="5476573"/>
                  </a:cubicBezTo>
                  <a:cubicBezTo>
                    <a:pt x="1217918" y="5825746"/>
                    <a:pt x="1465760" y="6103583"/>
                    <a:pt x="1799971" y="6223729"/>
                  </a:cubicBezTo>
                  <a:cubicBezTo>
                    <a:pt x="1875075" y="6253765"/>
                    <a:pt x="2002751" y="6268783"/>
                    <a:pt x="2085365" y="6280047"/>
                  </a:cubicBezTo>
                  <a:cubicBezTo>
                    <a:pt x="2085365" y="6280047"/>
                    <a:pt x="2085365" y="6280047"/>
                    <a:pt x="2085365" y="7473994"/>
                  </a:cubicBezTo>
                  <a:cubicBezTo>
                    <a:pt x="1582171" y="7440203"/>
                    <a:pt x="335451" y="7004675"/>
                    <a:pt x="53813" y="5720619"/>
                  </a:cubicBezTo>
                  <a:cubicBezTo>
                    <a:pt x="-25046" y="5397728"/>
                    <a:pt x="-13780" y="5056063"/>
                    <a:pt x="65078" y="4729417"/>
                  </a:cubicBezTo>
                  <a:cubicBezTo>
                    <a:pt x="282879" y="3283915"/>
                    <a:pt x="2351982" y="944830"/>
                    <a:pt x="2716235" y="670748"/>
                  </a:cubicBezTo>
                  <a:cubicBezTo>
                    <a:pt x="2960321" y="471756"/>
                    <a:pt x="3234449" y="310311"/>
                    <a:pt x="3516088" y="227711"/>
                  </a:cubicBezTo>
                  <a:cubicBezTo>
                    <a:pt x="3797726" y="119767"/>
                    <a:pt x="4911078" y="4491"/>
                    <a:pt x="6109875" y="128"/>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grpSp>
        <p:nvGrpSpPr>
          <p:cNvPr id="140" name="组合 35"/>
          <p:cNvGrpSpPr/>
          <p:nvPr/>
        </p:nvGrpSpPr>
        <p:grpSpPr>
          <a:xfrm>
            <a:off x="3343320" y="2025720"/>
            <a:ext cx="1278000" cy="1278000"/>
            <a:chOff x="3343320" y="2025720"/>
            <a:chExt cx="1278000" cy="1278000"/>
          </a:xfrm>
        </p:grpSpPr>
        <p:sp>
          <p:nvSpPr>
            <p:cNvPr id="141" name="椭圆 25"/>
            <p:cNvSpPr/>
            <p:nvPr/>
          </p:nvSpPr>
          <p:spPr>
            <a:xfrm>
              <a:off x="3343320" y="2025720"/>
              <a:ext cx="1278000" cy="127800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椭圆 30"/>
            <p:cNvSpPr/>
            <p:nvPr/>
          </p:nvSpPr>
          <p:spPr>
            <a:xfrm>
              <a:off x="3430440" y="2112840"/>
              <a:ext cx="1103400" cy="11034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KSO_Shape"/>
            <p:cNvSpPr/>
            <p:nvPr/>
          </p:nvSpPr>
          <p:spPr>
            <a:xfrm>
              <a:off x="3614760" y="2314440"/>
              <a:ext cx="735120" cy="700200"/>
            </a:xfrm>
            <a:custGeom>
              <a:avLst/>
              <a:gdLst/>
              <a:ahLst/>
              <a:rect l="l" t="t" r="r" b="b"/>
              <a:pathLst>
                <a:path w="5871" h="5585">
                  <a:moveTo>
                    <a:pt x="774" y="374"/>
                  </a:moveTo>
                  <a:lnTo>
                    <a:pt x="774" y="1910"/>
                  </a:lnTo>
                  <a:lnTo>
                    <a:pt x="5107" y="1910"/>
                  </a:lnTo>
                  <a:lnTo>
                    <a:pt x="5107" y="374"/>
                  </a:lnTo>
                  <a:lnTo>
                    <a:pt x="774" y="374"/>
                  </a:lnTo>
                  <a:close/>
                  <a:moveTo>
                    <a:pt x="1597" y="3265"/>
                  </a:moveTo>
                  <a:lnTo>
                    <a:pt x="1597" y="3265"/>
                  </a:lnTo>
                  <a:lnTo>
                    <a:pt x="1591" y="3265"/>
                  </a:lnTo>
                  <a:lnTo>
                    <a:pt x="1587" y="3265"/>
                  </a:lnTo>
                  <a:lnTo>
                    <a:pt x="1586" y="3265"/>
                  </a:lnTo>
                  <a:lnTo>
                    <a:pt x="1581" y="3265"/>
                  </a:lnTo>
                  <a:lnTo>
                    <a:pt x="1576" y="3265"/>
                  </a:lnTo>
                  <a:lnTo>
                    <a:pt x="1571" y="3265"/>
                  </a:lnTo>
                  <a:lnTo>
                    <a:pt x="1570" y="3265"/>
                  </a:lnTo>
                  <a:lnTo>
                    <a:pt x="1566" y="3265"/>
                  </a:lnTo>
                  <a:lnTo>
                    <a:pt x="1560" y="3265"/>
                  </a:lnTo>
                  <a:lnTo>
                    <a:pt x="1555" y="3265"/>
                  </a:lnTo>
                  <a:lnTo>
                    <a:pt x="1550" y="3265"/>
                  </a:lnTo>
                  <a:lnTo>
                    <a:pt x="1545" y="3265"/>
                  </a:lnTo>
                  <a:lnTo>
                    <a:pt x="1540" y="3265"/>
                  </a:lnTo>
                  <a:lnTo>
                    <a:pt x="1539" y="3265"/>
                  </a:lnTo>
                  <a:lnTo>
                    <a:pt x="1535" y="3265"/>
                  </a:lnTo>
                  <a:lnTo>
                    <a:pt x="1529" y="3265"/>
                  </a:lnTo>
                  <a:lnTo>
                    <a:pt x="1525" y="3265"/>
                  </a:lnTo>
                  <a:lnTo>
                    <a:pt x="1524" y="3265"/>
                  </a:lnTo>
                  <a:lnTo>
                    <a:pt x="1519" y="3265"/>
                  </a:lnTo>
                  <a:lnTo>
                    <a:pt x="1514" y="3265"/>
                  </a:lnTo>
                  <a:lnTo>
                    <a:pt x="1509" y="3265"/>
                  </a:lnTo>
                  <a:lnTo>
                    <a:pt x="1508" y="3265"/>
                  </a:lnTo>
                  <a:lnTo>
                    <a:pt x="1504" y="3265"/>
                  </a:lnTo>
                  <a:lnTo>
                    <a:pt x="1498" y="3265"/>
                  </a:lnTo>
                  <a:lnTo>
                    <a:pt x="1494" y="3265"/>
                  </a:lnTo>
                  <a:lnTo>
                    <a:pt x="1493" y="3265"/>
                  </a:lnTo>
                  <a:lnTo>
                    <a:pt x="1488" y="3265"/>
                  </a:lnTo>
                  <a:lnTo>
                    <a:pt x="1483" y="3265"/>
                  </a:lnTo>
                  <a:lnTo>
                    <a:pt x="1478" y="3265"/>
                  </a:lnTo>
                  <a:lnTo>
                    <a:pt x="1477" y="3265"/>
                  </a:lnTo>
                  <a:lnTo>
                    <a:pt x="1473" y="3265"/>
                  </a:lnTo>
                  <a:lnTo>
                    <a:pt x="1467" y="3265"/>
                  </a:lnTo>
                  <a:lnTo>
                    <a:pt x="1463" y="3265"/>
                  </a:lnTo>
                  <a:lnTo>
                    <a:pt x="1462" y="3265"/>
                  </a:lnTo>
                  <a:lnTo>
                    <a:pt x="1457" y="3265"/>
                  </a:lnTo>
                  <a:lnTo>
                    <a:pt x="1452" y="3265"/>
                  </a:lnTo>
                  <a:lnTo>
                    <a:pt x="1446" y="3265"/>
                  </a:lnTo>
                  <a:lnTo>
                    <a:pt x="1442" y="3265"/>
                  </a:lnTo>
                  <a:lnTo>
                    <a:pt x="1266" y="3265"/>
                  </a:lnTo>
                  <a:lnTo>
                    <a:pt x="1345" y="3830"/>
                  </a:lnTo>
                  <a:lnTo>
                    <a:pt x="1294" y="3911"/>
                  </a:lnTo>
                  <a:lnTo>
                    <a:pt x="1345" y="3977"/>
                  </a:lnTo>
                  <a:lnTo>
                    <a:pt x="1117" y="4116"/>
                  </a:lnTo>
                  <a:lnTo>
                    <a:pt x="1112" y="4144"/>
                  </a:lnTo>
                  <a:lnTo>
                    <a:pt x="1106" y="4173"/>
                  </a:lnTo>
                  <a:lnTo>
                    <a:pt x="1103" y="4201"/>
                  </a:lnTo>
                  <a:lnTo>
                    <a:pt x="1099" y="4228"/>
                  </a:lnTo>
                  <a:lnTo>
                    <a:pt x="1097" y="4255"/>
                  </a:lnTo>
                  <a:lnTo>
                    <a:pt x="1096" y="4281"/>
                  </a:lnTo>
                  <a:lnTo>
                    <a:pt x="1096" y="4308"/>
                  </a:lnTo>
                  <a:lnTo>
                    <a:pt x="1096" y="4333"/>
                  </a:lnTo>
                  <a:lnTo>
                    <a:pt x="1097" y="4359"/>
                  </a:lnTo>
                  <a:lnTo>
                    <a:pt x="1098" y="4383"/>
                  </a:lnTo>
                  <a:lnTo>
                    <a:pt x="1100" y="4407"/>
                  </a:lnTo>
                  <a:lnTo>
                    <a:pt x="1104" y="4432"/>
                  </a:lnTo>
                  <a:lnTo>
                    <a:pt x="1112" y="4478"/>
                  </a:lnTo>
                  <a:lnTo>
                    <a:pt x="1121" y="4523"/>
                  </a:lnTo>
                  <a:lnTo>
                    <a:pt x="1133" y="4568"/>
                  </a:lnTo>
                  <a:lnTo>
                    <a:pt x="1147" y="4611"/>
                  </a:lnTo>
                  <a:lnTo>
                    <a:pt x="1162" y="4653"/>
                  </a:lnTo>
                  <a:lnTo>
                    <a:pt x="1179" y="4694"/>
                  </a:lnTo>
                  <a:lnTo>
                    <a:pt x="1198" y="4733"/>
                  </a:lnTo>
                  <a:lnTo>
                    <a:pt x="1218" y="4772"/>
                  </a:lnTo>
                  <a:lnTo>
                    <a:pt x="1238" y="4812"/>
                  </a:lnTo>
                  <a:lnTo>
                    <a:pt x="1259" y="4849"/>
                  </a:lnTo>
                  <a:lnTo>
                    <a:pt x="774" y="4849"/>
                  </a:lnTo>
                  <a:lnTo>
                    <a:pt x="774" y="2135"/>
                  </a:lnTo>
                  <a:lnTo>
                    <a:pt x="2185" y="2135"/>
                  </a:lnTo>
                  <a:lnTo>
                    <a:pt x="2185" y="4849"/>
                  </a:lnTo>
                  <a:lnTo>
                    <a:pt x="1780" y="4849"/>
                  </a:lnTo>
                  <a:lnTo>
                    <a:pt x="1801" y="4812"/>
                  </a:lnTo>
                  <a:lnTo>
                    <a:pt x="1821" y="4772"/>
                  </a:lnTo>
                  <a:lnTo>
                    <a:pt x="1841" y="4733"/>
                  </a:lnTo>
                  <a:lnTo>
                    <a:pt x="1859" y="4694"/>
                  </a:lnTo>
                  <a:lnTo>
                    <a:pt x="1876" y="4653"/>
                  </a:lnTo>
                  <a:lnTo>
                    <a:pt x="1892" y="4611"/>
                  </a:lnTo>
                  <a:lnTo>
                    <a:pt x="1905" y="4568"/>
                  </a:lnTo>
                  <a:lnTo>
                    <a:pt x="1917" y="4523"/>
                  </a:lnTo>
                  <a:lnTo>
                    <a:pt x="1927" y="4478"/>
                  </a:lnTo>
                  <a:lnTo>
                    <a:pt x="1935" y="4432"/>
                  </a:lnTo>
                  <a:lnTo>
                    <a:pt x="1938" y="4407"/>
                  </a:lnTo>
                  <a:lnTo>
                    <a:pt x="1941" y="4383"/>
                  </a:lnTo>
                  <a:lnTo>
                    <a:pt x="1942" y="4359"/>
                  </a:lnTo>
                  <a:lnTo>
                    <a:pt x="1943" y="4333"/>
                  </a:lnTo>
                  <a:lnTo>
                    <a:pt x="1943" y="4308"/>
                  </a:lnTo>
                  <a:lnTo>
                    <a:pt x="1942" y="4281"/>
                  </a:lnTo>
                  <a:lnTo>
                    <a:pt x="1941" y="4255"/>
                  </a:lnTo>
                  <a:lnTo>
                    <a:pt x="1938" y="4228"/>
                  </a:lnTo>
                  <a:lnTo>
                    <a:pt x="1936" y="4201"/>
                  </a:lnTo>
                  <a:lnTo>
                    <a:pt x="1932" y="4173"/>
                  </a:lnTo>
                  <a:lnTo>
                    <a:pt x="1927" y="4144"/>
                  </a:lnTo>
                  <a:lnTo>
                    <a:pt x="1922" y="4116"/>
                  </a:lnTo>
                  <a:lnTo>
                    <a:pt x="1694" y="3977"/>
                  </a:lnTo>
                  <a:lnTo>
                    <a:pt x="1745" y="3911"/>
                  </a:lnTo>
                  <a:lnTo>
                    <a:pt x="1694" y="3830"/>
                  </a:lnTo>
                  <a:lnTo>
                    <a:pt x="1771" y="3265"/>
                  </a:lnTo>
                  <a:lnTo>
                    <a:pt x="1597" y="3265"/>
                  </a:lnTo>
                  <a:close/>
                  <a:moveTo>
                    <a:pt x="4819" y="863"/>
                  </a:moveTo>
                  <a:lnTo>
                    <a:pt x="4819" y="1057"/>
                  </a:lnTo>
                  <a:lnTo>
                    <a:pt x="3585" y="1057"/>
                  </a:lnTo>
                  <a:lnTo>
                    <a:pt x="3585" y="863"/>
                  </a:lnTo>
                  <a:lnTo>
                    <a:pt x="4819" y="863"/>
                  </a:lnTo>
                  <a:close/>
                  <a:moveTo>
                    <a:pt x="5002" y="1108"/>
                  </a:moveTo>
                  <a:lnTo>
                    <a:pt x="5002" y="1379"/>
                  </a:lnTo>
                  <a:lnTo>
                    <a:pt x="3769" y="1379"/>
                  </a:lnTo>
                  <a:lnTo>
                    <a:pt x="3769" y="1108"/>
                  </a:lnTo>
                  <a:lnTo>
                    <a:pt x="5002" y="1108"/>
                  </a:lnTo>
                  <a:close/>
                  <a:moveTo>
                    <a:pt x="4891" y="1429"/>
                  </a:moveTo>
                  <a:lnTo>
                    <a:pt x="4891" y="1623"/>
                  </a:lnTo>
                  <a:lnTo>
                    <a:pt x="3657" y="1623"/>
                  </a:lnTo>
                  <a:lnTo>
                    <a:pt x="3657" y="1429"/>
                  </a:lnTo>
                  <a:lnTo>
                    <a:pt x="4891" y="1429"/>
                  </a:lnTo>
                  <a:close/>
                  <a:moveTo>
                    <a:pt x="4977" y="1659"/>
                  </a:moveTo>
                  <a:lnTo>
                    <a:pt x="4977" y="1853"/>
                  </a:lnTo>
                  <a:lnTo>
                    <a:pt x="3743" y="1853"/>
                  </a:lnTo>
                  <a:lnTo>
                    <a:pt x="3743" y="1659"/>
                  </a:lnTo>
                  <a:lnTo>
                    <a:pt x="4977" y="1659"/>
                  </a:lnTo>
                  <a:close/>
                  <a:moveTo>
                    <a:pt x="1643" y="596"/>
                  </a:moveTo>
                  <a:lnTo>
                    <a:pt x="1833" y="561"/>
                  </a:lnTo>
                  <a:lnTo>
                    <a:pt x="2061" y="1773"/>
                  </a:lnTo>
                  <a:lnTo>
                    <a:pt x="1871" y="1809"/>
                  </a:lnTo>
                  <a:lnTo>
                    <a:pt x="1643" y="596"/>
                  </a:lnTo>
                  <a:close/>
                  <a:moveTo>
                    <a:pt x="1388" y="596"/>
                  </a:moveTo>
                  <a:lnTo>
                    <a:pt x="1579" y="561"/>
                  </a:lnTo>
                  <a:lnTo>
                    <a:pt x="1807" y="1773"/>
                  </a:lnTo>
                  <a:lnTo>
                    <a:pt x="1616" y="1809"/>
                  </a:lnTo>
                  <a:lnTo>
                    <a:pt x="1388" y="596"/>
                  </a:lnTo>
                  <a:close/>
                  <a:moveTo>
                    <a:pt x="1134" y="596"/>
                  </a:moveTo>
                  <a:lnTo>
                    <a:pt x="1324" y="561"/>
                  </a:lnTo>
                  <a:lnTo>
                    <a:pt x="1551" y="1773"/>
                  </a:lnTo>
                  <a:lnTo>
                    <a:pt x="1361" y="1809"/>
                  </a:lnTo>
                  <a:lnTo>
                    <a:pt x="1134" y="596"/>
                  </a:lnTo>
                  <a:close/>
                  <a:moveTo>
                    <a:pt x="884" y="568"/>
                  </a:moveTo>
                  <a:lnTo>
                    <a:pt x="1077" y="568"/>
                  </a:lnTo>
                  <a:lnTo>
                    <a:pt x="1077" y="1802"/>
                  </a:lnTo>
                  <a:lnTo>
                    <a:pt x="884" y="1802"/>
                  </a:lnTo>
                  <a:lnTo>
                    <a:pt x="884" y="568"/>
                  </a:lnTo>
                  <a:close/>
                  <a:moveTo>
                    <a:pt x="3540" y="2418"/>
                  </a:moveTo>
                  <a:lnTo>
                    <a:pt x="3807" y="2354"/>
                  </a:lnTo>
                  <a:lnTo>
                    <a:pt x="4033" y="3306"/>
                  </a:lnTo>
                  <a:lnTo>
                    <a:pt x="3765" y="3369"/>
                  </a:lnTo>
                  <a:lnTo>
                    <a:pt x="3540" y="2418"/>
                  </a:lnTo>
                  <a:close/>
                  <a:moveTo>
                    <a:pt x="3622" y="2531"/>
                  </a:moveTo>
                  <a:lnTo>
                    <a:pt x="3639" y="2606"/>
                  </a:lnTo>
                  <a:lnTo>
                    <a:pt x="3791" y="2570"/>
                  </a:lnTo>
                  <a:lnTo>
                    <a:pt x="3773" y="2496"/>
                  </a:lnTo>
                  <a:lnTo>
                    <a:pt x="3622" y="2531"/>
                  </a:lnTo>
                  <a:close/>
                  <a:moveTo>
                    <a:pt x="3739" y="3028"/>
                  </a:moveTo>
                  <a:lnTo>
                    <a:pt x="3776" y="3184"/>
                  </a:lnTo>
                  <a:lnTo>
                    <a:pt x="3928" y="3148"/>
                  </a:lnTo>
                  <a:lnTo>
                    <a:pt x="3890" y="2991"/>
                  </a:lnTo>
                  <a:lnTo>
                    <a:pt x="3739" y="3028"/>
                  </a:lnTo>
                  <a:close/>
                  <a:moveTo>
                    <a:pt x="3193" y="2418"/>
                  </a:moveTo>
                  <a:lnTo>
                    <a:pt x="3418" y="3369"/>
                  </a:lnTo>
                  <a:lnTo>
                    <a:pt x="3687" y="3306"/>
                  </a:lnTo>
                  <a:lnTo>
                    <a:pt x="3461" y="2354"/>
                  </a:lnTo>
                  <a:lnTo>
                    <a:pt x="3193" y="2418"/>
                  </a:lnTo>
                  <a:close/>
                  <a:moveTo>
                    <a:pt x="3276" y="2531"/>
                  </a:moveTo>
                  <a:lnTo>
                    <a:pt x="3426" y="2496"/>
                  </a:lnTo>
                  <a:lnTo>
                    <a:pt x="3444" y="2570"/>
                  </a:lnTo>
                  <a:lnTo>
                    <a:pt x="3292" y="2606"/>
                  </a:lnTo>
                  <a:lnTo>
                    <a:pt x="3276" y="2531"/>
                  </a:lnTo>
                  <a:close/>
                  <a:moveTo>
                    <a:pt x="3393" y="3028"/>
                  </a:moveTo>
                  <a:lnTo>
                    <a:pt x="3429" y="3184"/>
                  </a:lnTo>
                  <a:lnTo>
                    <a:pt x="3581" y="3148"/>
                  </a:lnTo>
                  <a:lnTo>
                    <a:pt x="3544" y="2991"/>
                  </a:lnTo>
                  <a:lnTo>
                    <a:pt x="3393" y="3028"/>
                  </a:lnTo>
                  <a:close/>
                  <a:moveTo>
                    <a:pt x="2841" y="2418"/>
                  </a:moveTo>
                  <a:lnTo>
                    <a:pt x="3109" y="2354"/>
                  </a:lnTo>
                  <a:lnTo>
                    <a:pt x="3335" y="3306"/>
                  </a:lnTo>
                  <a:lnTo>
                    <a:pt x="3067" y="3369"/>
                  </a:lnTo>
                  <a:lnTo>
                    <a:pt x="2841" y="2418"/>
                  </a:lnTo>
                  <a:close/>
                  <a:moveTo>
                    <a:pt x="2923" y="2531"/>
                  </a:moveTo>
                  <a:lnTo>
                    <a:pt x="2941" y="2606"/>
                  </a:lnTo>
                  <a:lnTo>
                    <a:pt x="3092" y="2570"/>
                  </a:lnTo>
                  <a:lnTo>
                    <a:pt x="3075" y="2496"/>
                  </a:lnTo>
                  <a:lnTo>
                    <a:pt x="2923" y="2531"/>
                  </a:lnTo>
                  <a:close/>
                  <a:moveTo>
                    <a:pt x="3041" y="3028"/>
                  </a:moveTo>
                  <a:lnTo>
                    <a:pt x="3192" y="2991"/>
                  </a:lnTo>
                  <a:lnTo>
                    <a:pt x="3229" y="3148"/>
                  </a:lnTo>
                  <a:lnTo>
                    <a:pt x="3078" y="3184"/>
                  </a:lnTo>
                  <a:lnTo>
                    <a:pt x="3041" y="3028"/>
                  </a:lnTo>
                  <a:close/>
                  <a:moveTo>
                    <a:pt x="2553" y="2372"/>
                  </a:moveTo>
                  <a:lnTo>
                    <a:pt x="2828" y="2372"/>
                  </a:lnTo>
                  <a:lnTo>
                    <a:pt x="2828" y="3352"/>
                  </a:lnTo>
                  <a:lnTo>
                    <a:pt x="2553" y="3352"/>
                  </a:lnTo>
                  <a:lnTo>
                    <a:pt x="2553" y="2372"/>
                  </a:lnTo>
                  <a:close/>
                  <a:moveTo>
                    <a:pt x="2606" y="2503"/>
                  </a:moveTo>
                  <a:lnTo>
                    <a:pt x="2606" y="2579"/>
                  </a:lnTo>
                  <a:lnTo>
                    <a:pt x="2762" y="2579"/>
                  </a:lnTo>
                  <a:lnTo>
                    <a:pt x="2762" y="2503"/>
                  </a:lnTo>
                  <a:lnTo>
                    <a:pt x="2606" y="2503"/>
                  </a:lnTo>
                  <a:close/>
                  <a:moveTo>
                    <a:pt x="2606" y="3012"/>
                  </a:moveTo>
                  <a:lnTo>
                    <a:pt x="2606" y="3173"/>
                  </a:lnTo>
                  <a:lnTo>
                    <a:pt x="2762" y="3173"/>
                  </a:lnTo>
                  <a:lnTo>
                    <a:pt x="2762" y="3012"/>
                  </a:lnTo>
                  <a:lnTo>
                    <a:pt x="2606" y="3012"/>
                  </a:lnTo>
                  <a:close/>
                  <a:moveTo>
                    <a:pt x="5555" y="151"/>
                  </a:moveTo>
                  <a:lnTo>
                    <a:pt x="5555" y="374"/>
                  </a:lnTo>
                  <a:lnTo>
                    <a:pt x="5555" y="4849"/>
                  </a:lnTo>
                  <a:lnTo>
                    <a:pt x="5871" y="4849"/>
                  </a:lnTo>
                  <a:lnTo>
                    <a:pt x="5871" y="5585"/>
                  </a:lnTo>
                  <a:lnTo>
                    <a:pt x="0" y="5585"/>
                  </a:lnTo>
                  <a:lnTo>
                    <a:pt x="0" y="4849"/>
                  </a:lnTo>
                  <a:lnTo>
                    <a:pt x="326" y="4849"/>
                  </a:lnTo>
                  <a:lnTo>
                    <a:pt x="326" y="374"/>
                  </a:lnTo>
                  <a:lnTo>
                    <a:pt x="326" y="151"/>
                  </a:lnTo>
                  <a:lnTo>
                    <a:pt x="326" y="0"/>
                  </a:lnTo>
                  <a:lnTo>
                    <a:pt x="5555" y="0"/>
                  </a:lnTo>
                  <a:lnTo>
                    <a:pt x="5555" y="151"/>
                  </a:lnTo>
                  <a:close/>
                  <a:moveTo>
                    <a:pt x="2409" y="2135"/>
                  </a:moveTo>
                  <a:lnTo>
                    <a:pt x="2409" y="3385"/>
                  </a:lnTo>
                  <a:lnTo>
                    <a:pt x="5107" y="3385"/>
                  </a:lnTo>
                  <a:lnTo>
                    <a:pt x="5107" y="2135"/>
                  </a:lnTo>
                  <a:lnTo>
                    <a:pt x="2409" y="2135"/>
                  </a:lnTo>
                  <a:close/>
                  <a:moveTo>
                    <a:pt x="2409" y="3609"/>
                  </a:moveTo>
                  <a:lnTo>
                    <a:pt x="2409" y="4849"/>
                  </a:lnTo>
                  <a:lnTo>
                    <a:pt x="5107" y="4849"/>
                  </a:lnTo>
                  <a:lnTo>
                    <a:pt x="5107" y="3609"/>
                  </a:lnTo>
                  <a:lnTo>
                    <a:pt x="2409" y="3609"/>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44" name="文本框 39"/>
          <p:cNvSpPr/>
          <p:nvPr/>
        </p:nvSpPr>
        <p:spPr>
          <a:xfrm>
            <a:off x="1733400" y="34164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一部分</a:t>
            </a:r>
            <a:endParaRPr b="0" lang="en-US" sz="2400" spc="-1" strike="noStrike">
              <a:solidFill>
                <a:srgbClr val="000000"/>
              </a:solidFill>
              <a:latin typeface="Arial"/>
            </a:endParaRPr>
          </a:p>
        </p:txBody>
      </p:sp>
      <p:sp>
        <p:nvSpPr>
          <p:cNvPr id="145" name="文本框 40"/>
          <p:cNvSpPr/>
          <p:nvPr/>
        </p:nvSpPr>
        <p:spPr>
          <a:xfrm>
            <a:off x="3526920" y="34164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二部分</a:t>
            </a:r>
            <a:endParaRPr b="0" lang="en-US" sz="2400" spc="-1" strike="noStrike">
              <a:solidFill>
                <a:srgbClr val="000000"/>
              </a:solidFill>
              <a:latin typeface="Arial"/>
            </a:endParaRPr>
          </a:p>
        </p:txBody>
      </p:sp>
      <p:sp>
        <p:nvSpPr>
          <p:cNvPr id="146" name="文本框 41"/>
          <p:cNvSpPr/>
          <p:nvPr/>
        </p:nvSpPr>
        <p:spPr>
          <a:xfrm>
            <a:off x="5604840" y="34164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三部分</a:t>
            </a:r>
            <a:endParaRPr b="0" lang="en-US" sz="2400" spc="-1" strike="noStrike">
              <a:solidFill>
                <a:srgbClr val="000000"/>
              </a:solidFill>
              <a:latin typeface="Arial"/>
            </a:endParaRPr>
          </a:p>
        </p:txBody>
      </p:sp>
      <p:sp>
        <p:nvSpPr>
          <p:cNvPr id="147" name="文本框 42"/>
          <p:cNvSpPr/>
          <p:nvPr/>
        </p:nvSpPr>
        <p:spPr>
          <a:xfrm>
            <a:off x="7682760" y="34164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四部分</a:t>
            </a:r>
            <a:endParaRPr b="0" lang="en-US" sz="2400" spc="-1" strike="noStrike">
              <a:solidFill>
                <a:srgbClr val="000000"/>
              </a:solidFill>
              <a:latin typeface="Arial"/>
            </a:endParaRPr>
          </a:p>
        </p:txBody>
      </p:sp>
      <p:sp>
        <p:nvSpPr>
          <p:cNvPr id="148" name="文本框 43"/>
          <p:cNvSpPr/>
          <p:nvPr/>
        </p:nvSpPr>
        <p:spPr>
          <a:xfrm>
            <a:off x="9762480" y="34164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五部分</a:t>
            </a:r>
            <a:endParaRPr b="0" lang="en-US" sz="2400" spc="-1" strike="noStrike">
              <a:solidFill>
                <a:srgbClr val="000000"/>
              </a:solidFill>
              <a:latin typeface="Arial"/>
            </a:endParaRPr>
          </a:p>
        </p:txBody>
      </p:sp>
      <p:sp>
        <p:nvSpPr>
          <p:cNvPr id="149" name="文本框 44"/>
          <p:cNvSpPr/>
          <p:nvPr/>
        </p:nvSpPr>
        <p:spPr>
          <a:xfrm>
            <a:off x="1054080" y="3852720"/>
            <a:ext cx="1746360" cy="55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rPr>
              <a:t>添加论文内容第一部分标题</a:t>
            </a:r>
            <a:endParaRPr b="0" lang="en-US" sz="2000" spc="-1" strike="noStrike">
              <a:solidFill>
                <a:srgbClr val="000000"/>
              </a:solidFill>
              <a:latin typeface="Arial"/>
            </a:endParaRPr>
          </a:p>
        </p:txBody>
      </p:sp>
      <p:sp>
        <p:nvSpPr>
          <p:cNvPr id="150" name="文本框 45"/>
          <p:cNvSpPr/>
          <p:nvPr/>
        </p:nvSpPr>
        <p:spPr>
          <a:xfrm>
            <a:off x="3075120" y="3852720"/>
            <a:ext cx="18144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rPr>
              <a:t>添加论文内容第二部分标题</a:t>
            </a:r>
            <a:endParaRPr b="0" lang="en-US" sz="2000" spc="-1" strike="noStrike">
              <a:solidFill>
                <a:srgbClr val="000000"/>
              </a:solidFill>
              <a:latin typeface="Arial"/>
            </a:endParaRPr>
          </a:p>
        </p:txBody>
      </p:sp>
      <p:sp>
        <p:nvSpPr>
          <p:cNvPr id="151" name="文本框 46"/>
          <p:cNvSpPr/>
          <p:nvPr/>
        </p:nvSpPr>
        <p:spPr>
          <a:xfrm>
            <a:off x="5165640" y="3852720"/>
            <a:ext cx="18115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rPr>
              <a:t>添加论文内容第三部分标题</a:t>
            </a:r>
            <a:endParaRPr b="0" lang="en-US" sz="2000" spc="-1" strike="noStrike">
              <a:solidFill>
                <a:srgbClr val="000000"/>
              </a:solidFill>
              <a:latin typeface="Arial"/>
            </a:endParaRPr>
          </a:p>
        </p:txBody>
      </p:sp>
      <p:sp>
        <p:nvSpPr>
          <p:cNvPr id="152" name="文本框 47"/>
          <p:cNvSpPr/>
          <p:nvPr/>
        </p:nvSpPr>
        <p:spPr>
          <a:xfrm>
            <a:off x="7175520" y="3852720"/>
            <a:ext cx="19270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rPr>
              <a:t>添加论文内容第四部分标题</a:t>
            </a:r>
            <a:endParaRPr b="0" lang="en-US" sz="2000" spc="-1" strike="noStrike">
              <a:solidFill>
                <a:srgbClr val="000000"/>
              </a:solidFill>
              <a:latin typeface="Arial"/>
            </a:endParaRPr>
          </a:p>
        </p:txBody>
      </p:sp>
      <p:sp>
        <p:nvSpPr>
          <p:cNvPr id="153" name="文本框 48"/>
          <p:cNvSpPr/>
          <p:nvPr/>
        </p:nvSpPr>
        <p:spPr>
          <a:xfrm>
            <a:off x="9301320" y="3852720"/>
            <a:ext cx="1909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rPr>
              <a:t>添加论文内容第五部分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矩形 1"/>
          <p:cNvSpPr/>
          <p:nvPr/>
        </p:nvSpPr>
        <p:spPr>
          <a:xfrm>
            <a:off x="0" y="2540160"/>
            <a:ext cx="5619600" cy="19652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文本框 2"/>
          <p:cNvSpPr/>
          <p:nvPr/>
        </p:nvSpPr>
        <p:spPr>
          <a:xfrm>
            <a:off x="5854680" y="2292480"/>
            <a:ext cx="57085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b649f"/>
                </a:solidFill>
                <a:latin typeface="Arial"/>
              </a:rPr>
              <a:t>添加论文内容第一部分标题</a:t>
            </a:r>
            <a:endParaRPr b="0" lang="en-US" sz="3600" spc="-1" strike="noStrike">
              <a:solidFill>
                <a:srgbClr val="000000"/>
              </a:solidFill>
              <a:latin typeface="Arial"/>
            </a:endParaRPr>
          </a:p>
        </p:txBody>
      </p:sp>
      <p:sp>
        <p:nvSpPr>
          <p:cNvPr id="156" name="文本框 4"/>
          <p:cNvSpPr/>
          <p:nvPr/>
        </p:nvSpPr>
        <p:spPr>
          <a:xfrm>
            <a:off x="5854680" y="3216240"/>
            <a:ext cx="57085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培养学生综合运用、巩固与扩展所学的基础理论和专业知识，培养学生独立分析、解决实际问题能力、培养学生处理数据和信息的能力。</a:t>
            </a:r>
            <a:endParaRPr b="0" lang="en-US" sz="1800" spc="-1" strike="noStrike">
              <a:solidFill>
                <a:srgbClr val="000000"/>
              </a:solidFill>
              <a:latin typeface="Arial"/>
            </a:endParaRPr>
          </a:p>
        </p:txBody>
      </p:sp>
      <p:grpSp>
        <p:nvGrpSpPr>
          <p:cNvPr id="157" name="组合 5"/>
          <p:cNvGrpSpPr/>
          <p:nvPr/>
        </p:nvGrpSpPr>
        <p:grpSpPr>
          <a:xfrm>
            <a:off x="1519200" y="2232000"/>
            <a:ext cx="2581200" cy="2583000"/>
            <a:chOff x="1519200" y="2232000"/>
            <a:chExt cx="2581200" cy="2583000"/>
          </a:xfrm>
        </p:grpSpPr>
        <p:sp>
          <p:nvSpPr>
            <p:cNvPr id="158" name="椭圆 6"/>
            <p:cNvSpPr/>
            <p:nvPr/>
          </p:nvSpPr>
          <p:spPr>
            <a:xfrm>
              <a:off x="1519200" y="2232000"/>
              <a:ext cx="2581200" cy="258300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椭圆 7"/>
            <p:cNvSpPr/>
            <p:nvPr/>
          </p:nvSpPr>
          <p:spPr>
            <a:xfrm>
              <a:off x="1695240" y="2408040"/>
              <a:ext cx="2228760" cy="223056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KSO_Shape"/>
            <p:cNvSpPr/>
            <p:nvPr/>
          </p:nvSpPr>
          <p:spPr>
            <a:xfrm>
              <a:off x="2079000" y="2815560"/>
              <a:ext cx="1461240" cy="1415880"/>
            </a:xfrm>
            <a:custGeom>
              <a:avLst/>
              <a:gdLst/>
              <a:ahLst/>
              <a:rect l="l" t="t" r="r" b="b"/>
              <a:pathLst>
                <a:path w="8965002" h="8673857">
                  <a:moveTo>
                    <a:pt x="8267042" y="3603669"/>
                  </a:moveTo>
                  <a:cubicBezTo>
                    <a:pt x="8267042" y="3603669"/>
                    <a:pt x="8267042" y="3603669"/>
                    <a:pt x="8503636" y="3603669"/>
                  </a:cubicBezTo>
                  <a:cubicBezTo>
                    <a:pt x="8770275" y="3603669"/>
                    <a:pt x="9115779" y="3885289"/>
                    <a:pt x="8894206" y="4343392"/>
                  </a:cubicBezTo>
                  <a:cubicBezTo>
                    <a:pt x="8894206" y="4343392"/>
                    <a:pt x="8894206" y="4343392"/>
                    <a:pt x="6963891" y="7249712"/>
                  </a:cubicBezTo>
                  <a:cubicBezTo>
                    <a:pt x="6817428" y="7463743"/>
                    <a:pt x="6610877" y="7475008"/>
                    <a:pt x="6509479" y="7475008"/>
                  </a:cubicBezTo>
                  <a:cubicBezTo>
                    <a:pt x="6509479" y="7475008"/>
                    <a:pt x="6509479" y="7475008"/>
                    <a:pt x="5375325" y="7475008"/>
                  </a:cubicBezTo>
                  <a:cubicBezTo>
                    <a:pt x="5375325" y="7475008"/>
                    <a:pt x="5375325" y="7475008"/>
                    <a:pt x="5375325" y="8391212"/>
                  </a:cubicBezTo>
                  <a:cubicBezTo>
                    <a:pt x="5375325" y="8503860"/>
                    <a:pt x="5326504" y="8586469"/>
                    <a:pt x="5225106" y="8639038"/>
                  </a:cubicBezTo>
                  <a:cubicBezTo>
                    <a:pt x="5180040" y="8661567"/>
                    <a:pt x="5131219" y="8672833"/>
                    <a:pt x="5086153" y="8672833"/>
                  </a:cubicBezTo>
                  <a:cubicBezTo>
                    <a:pt x="5026066" y="8672833"/>
                    <a:pt x="4962223" y="8654057"/>
                    <a:pt x="4909646" y="8620263"/>
                  </a:cubicBezTo>
                  <a:cubicBezTo>
                    <a:pt x="4909646" y="8620263"/>
                    <a:pt x="4909646" y="8620263"/>
                    <a:pt x="4027109" y="8023229"/>
                  </a:cubicBezTo>
                  <a:cubicBezTo>
                    <a:pt x="4027109" y="8023229"/>
                    <a:pt x="4027109" y="8023229"/>
                    <a:pt x="3163349" y="8620263"/>
                  </a:cubicBezTo>
                  <a:cubicBezTo>
                    <a:pt x="3069463" y="8684097"/>
                    <a:pt x="2949287" y="8691607"/>
                    <a:pt x="2847889" y="8639038"/>
                  </a:cubicBezTo>
                  <a:cubicBezTo>
                    <a:pt x="2750247" y="8586469"/>
                    <a:pt x="2686404" y="8503860"/>
                    <a:pt x="2686404" y="8391212"/>
                  </a:cubicBezTo>
                  <a:cubicBezTo>
                    <a:pt x="2686404" y="8391212"/>
                    <a:pt x="2686404" y="8391212"/>
                    <a:pt x="2686404" y="6100701"/>
                  </a:cubicBezTo>
                  <a:cubicBezTo>
                    <a:pt x="2686404" y="5559991"/>
                    <a:pt x="2990598" y="5237066"/>
                    <a:pt x="3170860" y="5131928"/>
                  </a:cubicBezTo>
                  <a:cubicBezTo>
                    <a:pt x="3215926" y="5105644"/>
                    <a:pt x="3268503" y="5090624"/>
                    <a:pt x="3324835" y="5090624"/>
                  </a:cubicBezTo>
                  <a:cubicBezTo>
                    <a:pt x="3324835" y="5090624"/>
                    <a:pt x="3324835" y="5090624"/>
                    <a:pt x="5690785" y="5090624"/>
                  </a:cubicBezTo>
                  <a:cubicBezTo>
                    <a:pt x="5371570" y="5406038"/>
                    <a:pt x="5367814" y="5980543"/>
                    <a:pt x="5367814" y="6280938"/>
                  </a:cubicBezTo>
                  <a:cubicBezTo>
                    <a:pt x="5367814" y="6280938"/>
                    <a:pt x="5367814" y="6280938"/>
                    <a:pt x="6227818" y="6280938"/>
                  </a:cubicBezTo>
                  <a:cubicBezTo>
                    <a:pt x="6227818" y="6280938"/>
                    <a:pt x="6227818" y="6280938"/>
                    <a:pt x="8267042" y="3603669"/>
                  </a:cubicBezTo>
                  <a:close/>
                  <a:moveTo>
                    <a:pt x="6109875" y="128"/>
                  </a:moveTo>
                  <a:cubicBezTo>
                    <a:pt x="6829153" y="-2490"/>
                    <a:pt x="7579192" y="34821"/>
                    <a:pt x="8198796" y="137601"/>
                  </a:cubicBezTo>
                  <a:cubicBezTo>
                    <a:pt x="8705745" y="220201"/>
                    <a:pt x="8739542" y="678257"/>
                    <a:pt x="8578069" y="884757"/>
                  </a:cubicBezTo>
                  <a:cubicBezTo>
                    <a:pt x="8578069" y="884757"/>
                    <a:pt x="6234838" y="3955980"/>
                    <a:pt x="6208552" y="3974753"/>
                  </a:cubicBezTo>
                  <a:cubicBezTo>
                    <a:pt x="6107162" y="4098653"/>
                    <a:pt x="5953199" y="4177498"/>
                    <a:pt x="5780461" y="4177498"/>
                  </a:cubicBezTo>
                  <a:cubicBezTo>
                    <a:pt x="5780461" y="4177498"/>
                    <a:pt x="5780461" y="4177498"/>
                    <a:pt x="2209285" y="4177498"/>
                  </a:cubicBezTo>
                  <a:cubicBezTo>
                    <a:pt x="1818747" y="4177498"/>
                    <a:pt x="970076" y="4545444"/>
                    <a:pt x="1150325" y="5476573"/>
                  </a:cubicBezTo>
                  <a:cubicBezTo>
                    <a:pt x="1217918" y="5825746"/>
                    <a:pt x="1465760" y="6103583"/>
                    <a:pt x="1799971" y="6223729"/>
                  </a:cubicBezTo>
                  <a:cubicBezTo>
                    <a:pt x="1875075" y="6253765"/>
                    <a:pt x="2002751" y="6268783"/>
                    <a:pt x="2085365" y="6280047"/>
                  </a:cubicBezTo>
                  <a:cubicBezTo>
                    <a:pt x="2085365" y="6280047"/>
                    <a:pt x="2085365" y="6280047"/>
                    <a:pt x="2085365" y="7473994"/>
                  </a:cubicBezTo>
                  <a:cubicBezTo>
                    <a:pt x="1582171" y="7440203"/>
                    <a:pt x="335451" y="7004675"/>
                    <a:pt x="53813" y="5720619"/>
                  </a:cubicBezTo>
                  <a:cubicBezTo>
                    <a:pt x="-25046" y="5397728"/>
                    <a:pt x="-13780" y="5056063"/>
                    <a:pt x="65078" y="4729417"/>
                  </a:cubicBezTo>
                  <a:cubicBezTo>
                    <a:pt x="282879" y="3283915"/>
                    <a:pt x="2351982" y="944830"/>
                    <a:pt x="2716235" y="670748"/>
                  </a:cubicBezTo>
                  <a:cubicBezTo>
                    <a:pt x="2960321" y="471756"/>
                    <a:pt x="3234449" y="310311"/>
                    <a:pt x="3516088" y="227711"/>
                  </a:cubicBezTo>
                  <a:cubicBezTo>
                    <a:pt x="3797726" y="119767"/>
                    <a:pt x="4911078" y="4491"/>
                    <a:pt x="6109875" y="128"/>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pic>
        <p:nvPicPr>
          <p:cNvPr id="161" name="图片 9" descr=""/>
          <p:cNvPicPr/>
          <p:nvPr/>
        </p:nvPicPr>
        <p:blipFill>
          <a:blip r:embed="rId1"/>
          <a:stretch/>
        </p:blipFill>
        <p:spPr>
          <a:xfrm>
            <a:off x="6326280" y="5200560"/>
            <a:ext cx="5865840" cy="1657440"/>
          </a:xfrm>
          <a:prstGeom prst="rect">
            <a:avLst/>
          </a:prstGeom>
          <a:ln w="0">
            <a:noFill/>
          </a:ln>
        </p:spPr>
      </p:pic>
      <p:pic>
        <p:nvPicPr>
          <p:cNvPr id="162" name="图片 10" descr=""/>
          <p:cNvPicPr/>
          <p:nvPr/>
        </p:nvPicPr>
        <p:blipFill>
          <a:blip r:embed="rId2"/>
          <a:stretch/>
        </p:blipFill>
        <p:spPr>
          <a:xfrm>
            <a:off x="0" y="0"/>
            <a:ext cx="7878600" cy="2216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KSO_Shape"/>
          <p:cNvSpPr/>
          <p:nvPr/>
        </p:nvSpPr>
        <p:spPr>
          <a:xfrm>
            <a:off x="6019920" y="2604960"/>
            <a:ext cx="3254400" cy="3205440"/>
          </a:xfrm>
          <a:custGeom>
            <a:avLst/>
            <a:gdLst/>
            <a:ahLst/>
            <a:rect l="l" t="t" r="r" b="b"/>
            <a:pathLst>
              <a:path w="2443615" h="2406492">
                <a:moveTo>
                  <a:pt x="1221807" y="443178"/>
                </a:moveTo>
                <a:cubicBezTo>
                  <a:pt x="791117" y="443178"/>
                  <a:pt x="441973" y="792322"/>
                  <a:pt x="441973" y="1223012"/>
                </a:cubicBezTo>
                <a:cubicBezTo>
                  <a:pt x="441973" y="1653702"/>
                  <a:pt x="791117" y="2002846"/>
                  <a:pt x="1221807" y="2002846"/>
                </a:cubicBezTo>
                <a:cubicBezTo>
                  <a:pt x="1652497" y="2002846"/>
                  <a:pt x="2001641" y="1653702"/>
                  <a:pt x="2001641" y="1223012"/>
                </a:cubicBezTo>
                <a:cubicBezTo>
                  <a:pt x="2001641" y="792322"/>
                  <a:pt x="1652497" y="443178"/>
                  <a:pt x="1221807" y="443178"/>
                </a:cubicBezTo>
                <a:close/>
                <a:moveTo>
                  <a:pt x="1121747" y="0"/>
                </a:moveTo>
                <a:lnTo>
                  <a:pt x="1321868" y="0"/>
                </a:lnTo>
                <a:lnTo>
                  <a:pt x="1365362" y="246702"/>
                </a:lnTo>
                <a:cubicBezTo>
                  <a:pt x="1497994" y="266203"/>
                  <a:pt x="1625261" y="312525"/>
                  <a:pt x="1739400" y="382840"/>
                </a:cubicBezTo>
                <a:lnTo>
                  <a:pt x="1931295" y="221813"/>
                </a:lnTo>
                <a:lnTo>
                  <a:pt x="2084596" y="350449"/>
                </a:lnTo>
                <a:lnTo>
                  <a:pt x="1959337" y="567390"/>
                </a:lnTo>
                <a:cubicBezTo>
                  <a:pt x="2048403" y="667584"/>
                  <a:pt x="2116120" y="784874"/>
                  <a:pt x="2158357" y="912104"/>
                </a:cubicBezTo>
                <a:lnTo>
                  <a:pt x="2408865" y="912098"/>
                </a:lnTo>
                <a:lnTo>
                  <a:pt x="2443615" y="1109179"/>
                </a:lnTo>
                <a:lnTo>
                  <a:pt x="2208214" y="1194851"/>
                </a:lnTo>
                <a:cubicBezTo>
                  <a:pt x="2212040" y="1328854"/>
                  <a:pt x="2188522" y="1462233"/>
                  <a:pt x="2139095" y="1586846"/>
                </a:cubicBezTo>
                <a:lnTo>
                  <a:pt x="2330998" y="1747864"/>
                </a:lnTo>
                <a:lnTo>
                  <a:pt x="2230938" y="1921175"/>
                </a:lnTo>
                <a:lnTo>
                  <a:pt x="1995541" y="1835490"/>
                </a:lnTo>
                <a:cubicBezTo>
                  <a:pt x="1912336" y="1940602"/>
                  <a:pt x="1808586" y="2027658"/>
                  <a:pt x="1690623" y="2091346"/>
                </a:cubicBezTo>
                <a:lnTo>
                  <a:pt x="1734130" y="2338046"/>
                </a:lnTo>
                <a:lnTo>
                  <a:pt x="1546077" y="2406492"/>
                </a:lnTo>
                <a:lnTo>
                  <a:pt x="1420828" y="2189544"/>
                </a:lnTo>
                <a:cubicBezTo>
                  <a:pt x="1289525" y="2216580"/>
                  <a:pt x="1154089" y="2216580"/>
                  <a:pt x="1022786" y="2189544"/>
                </a:cubicBezTo>
                <a:lnTo>
                  <a:pt x="897539" y="2406492"/>
                </a:lnTo>
                <a:lnTo>
                  <a:pt x="709486" y="2338046"/>
                </a:lnTo>
                <a:lnTo>
                  <a:pt x="752993" y="2091346"/>
                </a:lnTo>
                <a:cubicBezTo>
                  <a:pt x="635030" y="2027658"/>
                  <a:pt x="531280" y="1940601"/>
                  <a:pt x="448076" y="1835490"/>
                </a:cubicBezTo>
                <a:lnTo>
                  <a:pt x="212678" y="1921175"/>
                </a:lnTo>
                <a:lnTo>
                  <a:pt x="112617" y="1747864"/>
                </a:lnTo>
                <a:lnTo>
                  <a:pt x="304520" y="1586846"/>
                </a:lnTo>
                <a:cubicBezTo>
                  <a:pt x="255094" y="1462233"/>
                  <a:pt x="231575" y="1328854"/>
                  <a:pt x="235401" y="1194851"/>
                </a:cubicBezTo>
                <a:lnTo>
                  <a:pt x="0" y="1109179"/>
                </a:lnTo>
                <a:lnTo>
                  <a:pt x="34750" y="912098"/>
                </a:lnTo>
                <a:lnTo>
                  <a:pt x="285257" y="912104"/>
                </a:lnTo>
                <a:cubicBezTo>
                  <a:pt x="327494" y="784874"/>
                  <a:pt x="395211" y="667583"/>
                  <a:pt x="484278" y="567390"/>
                </a:cubicBezTo>
                <a:lnTo>
                  <a:pt x="359019" y="350449"/>
                </a:lnTo>
                <a:lnTo>
                  <a:pt x="512321" y="221813"/>
                </a:lnTo>
                <a:lnTo>
                  <a:pt x="704216" y="382840"/>
                </a:lnTo>
                <a:cubicBezTo>
                  <a:pt x="818353" y="312525"/>
                  <a:pt x="945621" y="266204"/>
                  <a:pt x="1078253" y="246702"/>
                </a:cubicBezTo>
                <a:lnTo>
                  <a:pt x="1121747" y="0"/>
                </a:lnTo>
                <a:close/>
              </a:path>
            </a:pathLst>
          </a:custGeom>
          <a:solidFill>
            <a:srgbClr val="4b649f"/>
          </a:solidFill>
          <a:ln w="0">
            <a:noFill/>
          </a:ln>
        </p:spPr>
        <p:style>
          <a:lnRef idx="0"/>
          <a:fillRef idx="0"/>
          <a:effectRef idx="0"/>
          <a:fontRef idx="minor"/>
        </p:style>
        <p:txBody>
          <a:bodyPr lIns="501120" rIns="501120" tIns="575640" bIns="614520" anchor="ctr">
            <a:noAutofit/>
          </a:bodyPr>
          <a:p>
            <a:endParaRPr b="0" lang="en-US" sz="1800" spc="-1" strike="noStrike">
              <a:solidFill>
                <a:srgbClr val="000000"/>
              </a:solidFill>
              <a:latin typeface="Arial"/>
            </a:endParaRPr>
          </a:p>
        </p:txBody>
      </p:sp>
      <p:sp>
        <p:nvSpPr>
          <p:cNvPr id="164" name="KSO_Shape"/>
          <p:cNvSpPr/>
          <p:nvPr/>
        </p:nvSpPr>
        <p:spPr>
          <a:xfrm>
            <a:off x="4267080" y="1751040"/>
            <a:ext cx="2206800" cy="2173320"/>
          </a:xfrm>
          <a:custGeom>
            <a:avLst/>
            <a:gdLst/>
            <a:ahLst/>
            <a:rect l="l" t="t" r="r" b="b"/>
            <a:pathLst>
              <a:path w="2443615" h="2406492">
                <a:moveTo>
                  <a:pt x="1221807" y="443178"/>
                </a:moveTo>
                <a:cubicBezTo>
                  <a:pt x="791117" y="443178"/>
                  <a:pt x="441973" y="792322"/>
                  <a:pt x="441973" y="1223012"/>
                </a:cubicBezTo>
                <a:cubicBezTo>
                  <a:pt x="441973" y="1653702"/>
                  <a:pt x="791117" y="2002846"/>
                  <a:pt x="1221807" y="2002846"/>
                </a:cubicBezTo>
                <a:cubicBezTo>
                  <a:pt x="1652497" y="2002846"/>
                  <a:pt x="2001641" y="1653702"/>
                  <a:pt x="2001641" y="1223012"/>
                </a:cubicBezTo>
                <a:cubicBezTo>
                  <a:pt x="2001641" y="792322"/>
                  <a:pt x="1652497" y="443178"/>
                  <a:pt x="1221807" y="443178"/>
                </a:cubicBezTo>
                <a:close/>
                <a:moveTo>
                  <a:pt x="1121747" y="0"/>
                </a:moveTo>
                <a:lnTo>
                  <a:pt x="1321868" y="0"/>
                </a:lnTo>
                <a:lnTo>
                  <a:pt x="1365362" y="246702"/>
                </a:lnTo>
                <a:cubicBezTo>
                  <a:pt x="1497994" y="266203"/>
                  <a:pt x="1625261" y="312525"/>
                  <a:pt x="1739400" y="382840"/>
                </a:cubicBezTo>
                <a:lnTo>
                  <a:pt x="1931295" y="221813"/>
                </a:lnTo>
                <a:lnTo>
                  <a:pt x="2084596" y="350449"/>
                </a:lnTo>
                <a:lnTo>
                  <a:pt x="1959337" y="567390"/>
                </a:lnTo>
                <a:cubicBezTo>
                  <a:pt x="2048403" y="667584"/>
                  <a:pt x="2116120" y="784874"/>
                  <a:pt x="2158357" y="912104"/>
                </a:cubicBezTo>
                <a:lnTo>
                  <a:pt x="2408865" y="912098"/>
                </a:lnTo>
                <a:lnTo>
                  <a:pt x="2443615" y="1109179"/>
                </a:lnTo>
                <a:lnTo>
                  <a:pt x="2208214" y="1194851"/>
                </a:lnTo>
                <a:cubicBezTo>
                  <a:pt x="2212040" y="1328854"/>
                  <a:pt x="2188522" y="1462233"/>
                  <a:pt x="2139095" y="1586846"/>
                </a:cubicBezTo>
                <a:lnTo>
                  <a:pt x="2330998" y="1747864"/>
                </a:lnTo>
                <a:lnTo>
                  <a:pt x="2230938" y="1921175"/>
                </a:lnTo>
                <a:lnTo>
                  <a:pt x="1995541" y="1835490"/>
                </a:lnTo>
                <a:cubicBezTo>
                  <a:pt x="1912336" y="1940602"/>
                  <a:pt x="1808586" y="2027658"/>
                  <a:pt x="1690623" y="2091346"/>
                </a:cubicBezTo>
                <a:lnTo>
                  <a:pt x="1734130" y="2338046"/>
                </a:lnTo>
                <a:lnTo>
                  <a:pt x="1546077" y="2406492"/>
                </a:lnTo>
                <a:lnTo>
                  <a:pt x="1420828" y="2189544"/>
                </a:lnTo>
                <a:cubicBezTo>
                  <a:pt x="1289525" y="2216580"/>
                  <a:pt x="1154089" y="2216580"/>
                  <a:pt x="1022786" y="2189544"/>
                </a:cubicBezTo>
                <a:lnTo>
                  <a:pt x="897539" y="2406492"/>
                </a:lnTo>
                <a:lnTo>
                  <a:pt x="709486" y="2338046"/>
                </a:lnTo>
                <a:lnTo>
                  <a:pt x="752993" y="2091346"/>
                </a:lnTo>
                <a:cubicBezTo>
                  <a:pt x="635030" y="2027658"/>
                  <a:pt x="531280" y="1940601"/>
                  <a:pt x="448076" y="1835490"/>
                </a:cubicBezTo>
                <a:lnTo>
                  <a:pt x="212678" y="1921175"/>
                </a:lnTo>
                <a:lnTo>
                  <a:pt x="112617" y="1747864"/>
                </a:lnTo>
                <a:lnTo>
                  <a:pt x="304520" y="1586846"/>
                </a:lnTo>
                <a:cubicBezTo>
                  <a:pt x="255094" y="1462233"/>
                  <a:pt x="231575" y="1328854"/>
                  <a:pt x="235401" y="1194851"/>
                </a:cubicBezTo>
                <a:lnTo>
                  <a:pt x="0" y="1109179"/>
                </a:lnTo>
                <a:lnTo>
                  <a:pt x="34750" y="912098"/>
                </a:lnTo>
                <a:lnTo>
                  <a:pt x="285257" y="912104"/>
                </a:lnTo>
                <a:cubicBezTo>
                  <a:pt x="327494" y="784874"/>
                  <a:pt x="395211" y="667583"/>
                  <a:pt x="484278" y="567390"/>
                </a:cubicBezTo>
                <a:lnTo>
                  <a:pt x="359019" y="350449"/>
                </a:lnTo>
                <a:lnTo>
                  <a:pt x="512321" y="221813"/>
                </a:lnTo>
                <a:lnTo>
                  <a:pt x="704216" y="382840"/>
                </a:lnTo>
                <a:cubicBezTo>
                  <a:pt x="818353" y="312525"/>
                  <a:pt x="945621" y="266204"/>
                  <a:pt x="1078253" y="246702"/>
                </a:cubicBezTo>
                <a:lnTo>
                  <a:pt x="1121747" y="0"/>
                </a:lnTo>
                <a:close/>
              </a:path>
            </a:pathLst>
          </a:custGeom>
          <a:solidFill>
            <a:srgbClr val="4b649f"/>
          </a:solidFill>
          <a:ln w="0">
            <a:noFill/>
          </a:ln>
        </p:spPr>
        <p:style>
          <a:lnRef idx="0"/>
          <a:fillRef idx="0"/>
          <a:effectRef idx="0"/>
          <a:fontRef idx="minor"/>
        </p:style>
        <p:txBody>
          <a:bodyPr lIns="501120" rIns="501120" tIns="575640" bIns="614520" anchor="ctr">
            <a:noAutofit/>
          </a:bodyPr>
          <a:p>
            <a:endParaRPr b="0" lang="en-US" sz="1800" spc="-1" strike="noStrike">
              <a:solidFill>
                <a:srgbClr val="000000"/>
              </a:solidFill>
              <a:latin typeface="Arial"/>
            </a:endParaRPr>
          </a:p>
        </p:txBody>
      </p:sp>
      <p:sp>
        <p:nvSpPr>
          <p:cNvPr id="165" name="KSO_Shape"/>
          <p:cNvSpPr/>
          <p:nvPr/>
        </p:nvSpPr>
        <p:spPr>
          <a:xfrm>
            <a:off x="3227400" y="3637080"/>
            <a:ext cx="1627200" cy="1601640"/>
          </a:xfrm>
          <a:custGeom>
            <a:avLst/>
            <a:gdLst/>
            <a:ahLst/>
            <a:rect l="l" t="t" r="r" b="b"/>
            <a:pathLst>
              <a:path w="2443615" h="2406492">
                <a:moveTo>
                  <a:pt x="1221807" y="443178"/>
                </a:moveTo>
                <a:cubicBezTo>
                  <a:pt x="791117" y="443178"/>
                  <a:pt x="441973" y="792322"/>
                  <a:pt x="441973" y="1223012"/>
                </a:cubicBezTo>
                <a:cubicBezTo>
                  <a:pt x="441973" y="1653702"/>
                  <a:pt x="791117" y="2002846"/>
                  <a:pt x="1221807" y="2002846"/>
                </a:cubicBezTo>
                <a:cubicBezTo>
                  <a:pt x="1652497" y="2002846"/>
                  <a:pt x="2001641" y="1653702"/>
                  <a:pt x="2001641" y="1223012"/>
                </a:cubicBezTo>
                <a:cubicBezTo>
                  <a:pt x="2001641" y="792322"/>
                  <a:pt x="1652497" y="443178"/>
                  <a:pt x="1221807" y="443178"/>
                </a:cubicBezTo>
                <a:close/>
                <a:moveTo>
                  <a:pt x="1121747" y="0"/>
                </a:moveTo>
                <a:lnTo>
                  <a:pt x="1321868" y="0"/>
                </a:lnTo>
                <a:lnTo>
                  <a:pt x="1365362" y="246702"/>
                </a:lnTo>
                <a:cubicBezTo>
                  <a:pt x="1497994" y="266203"/>
                  <a:pt x="1625261" y="312525"/>
                  <a:pt x="1739400" y="382840"/>
                </a:cubicBezTo>
                <a:lnTo>
                  <a:pt x="1931295" y="221813"/>
                </a:lnTo>
                <a:lnTo>
                  <a:pt x="2084596" y="350449"/>
                </a:lnTo>
                <a:lnTo>
                  <a:pt x="1959337" y="567390"/>
                </a:lnTo>
                <a:cubicBezTo>
                  <a:pt x="2048403" y="667584"/>
                  <a:pt x="2116120" y="784874"/>
                  <a:pt x="2158357" y="912104"/>
                </a:cubicBezTo>
                <a:lnTo>
                  <a:pt x="2408865" y="912098"/>
                </a:lnTo>
                <a:lnTo>
                  <a:pt x="2443615" y="1109179"/>
                </a:lnTo>
                <a:lnTo>
                  <a:pt x="2208214" y="1194851"/>
                </a:lnTo>
                <a:cubicBezTo>
                  <a:pt x="2212040" y="1328854"/>
                  <a:pt x="2188522" y="1462233"/>
                  <a:pt x="2139095" y="1586846"/>
                </a:cubicBezTo>
                <a:lnTo>
                  <a:pt x="2330998" y="1747864"/>
                </a:lnTo>
                <a:lnTo>
                  <a:pt x="2230938" y="1921175"/>
                </a:lnTo>
                <a:lnTo>
                  <a:pt x="1995541" y="1835490"/>
                </a:lnTo>
                <a:cubicBezTo>
                  <a:pt x="1912336" y="1940602"/>
                  <a:pt x="1808586" y="2027658"/>
                  <a:pt x="1690623" y="2091346"/>
                </a:cubicBezTo>
                <a:lnTo>
                  <a:pt x="1734130" y="2338046"/>
                </a:lnTo>
                <a:lnTo>
                  <a:pt x="1546077" y="2406492"/>
                </a:lnTo>
                <a:lnTo>
                  <a:pt x="1420828" y="2189544"/>
                </a:lnTo>
                <a:cubicBezTo>
                  <a:pt x="1289525" y="2216580"/>
                  <a:pt x="1154089" y="2216580"/>
                  <a:pt x="1022786" y="2189544"/>
                </a:cubicBezTo>
                <a:lnTo>
                  <a:pt x="897539" y="2406492"/>
                </a:lnTo>
                <a:lnTo>
                  <a:pt x="709486" y="2338046"/>
                </a:lnTo>
                <a:lnTo>
                  <a:pt x="752993" y="2091346"/>
                </a:lnTo>
                <a:cubicBezTo>
                  <a:pt x="635030" y="2027658"/>
                  <a:pt x="531280" y="1940601"/>
                  <a:pt x="448076" y="1835490"/>
                </a:cubicBezTo>
                <a:lnTo>
                  <a:pt x="212678" y="1921175"/>
                </a:lnTo>
                <a:lnTo>
                  <a:pt x="112617" y="1747864"/>
                </a:lnTo>
                <a:lnTo>
                  <a:pt x="304520" y="1586846"/>
                </a:lnTo>
                <a:cubicBezTo>
                  <a:pt x="255094" y="1462233"/>
                  <a:pt x="231575" y="1328854"/>
                  <a:pt x="235401" y="1194851"/>
                </a:cubicBezTo>
                <a:lnTo>
                  <a:pt x="0" y="1109179"/>
                </a:lnTo>
                <a:lnTo>
                  <a:pt x="34750" y="912098"/>
                </a:lnTo>
                <a:lnTo>
                  <a:pt x="285257" y="912104"/>
                </a:lnTo>
                <a:cubicBezTo>
                  <a:pt x="327494" y="784874"/>
                  <a:pt x="395211" y="667583"/>
                  <a:pt x="484278" y="567390"/>
                </a:cubicBezTo>
                <a:lnTo>
                  <a:pt x="359019" y="350449"/>
                </a:lnTo>
                <a:lnTo>
                  <a:pt x="512321" y="221813"/>
                </a:lnTo>
                <a:lnTo>
                  <a:pt x="704216" y="382840"/>
                </a:lnTo>
                <a:cubicBezTo>
                  <a:pt x="818353" y="312525"/>
                  <a:pt x="945621" y="266204"/>
                  <a:pt x="1078253" y="246702"/>
                </a:cubicBezTo>
                <a:lnTo>
                  <a:pt x="1121747" y="0"/>
                </a:lnTo>
                <a:close/>
              </a:path>
            </a:pathLst>
          </a:custGeom>
          <a:solidFill>
            <a:srgbClr val="4b649f"/>
          </a:solidFill>
          <a:ln w="0">
            <a:noFill/>
          </a:ln>
        </p:spPr>
        <p:style>
          <a:lnRef idx="0"/>
          <a:fillRef idx="0"/>
          <a:effectRef idx="0"/>
          <a:fontRef idx="minor"/>
        </p:style>
        <p:txBody>
          <a:bodyPr lIns="501120" rIns="501120" tIns="575640" bIns="614520" anchor="ctr">
            <a:noAutofit/>
          </a:bodyPr>
          <a:p>
            <a:endParaRPr b="0" lang="en-US" sz="1800" spc="-1" strike="noStrike">
              <a:solidFill>
                <a:srgbClr val="000000"/>
              </a:solidFill>
              <a:latin typeface="Arial"/>
            </a:endParaRPr>
          </a:p>
        </p:txBody>
      </p:sp>
      <p:sp>
        <p:nvSpPr>
          <p:cNvPr id="166" name="文本框 5"/>
          <p:cNvSpPr/>
          <p:nvPr/>
        </p:nvSpPr>
        <p:spPr>
          <a:xfrm>
            <a:off x="9274320" y="4721400"/>
            <a:ext cx="228276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167" name="文本框 6"/>
          <p:cNvSpPr/>
          <p:nvPr/>
        </p:nvSpPr>
        <p:spPr>
          <a:xfrm>
            <a:off x="9621000" y="425916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4e67c8"/>
                </a:solidFill>
                <a:latin typeface="Arial"/>
              </a:rPr>
              <a:t>这里添加标题</a:t>
            </a:r>
            <a:endParaRPr b="0" lang="en-US" sz="2400" spc="-1" strike="noStrike">
              <a:solidFill>
                <a:srgbClr val="000000"/>
              </a:solidFill>
              <a:latin typeface="Arial"/>
            </a:endParaRPr>
          </a:p>
        </p:txBody>
      </p:sp>
      <p:sp>
        <p:nvSpPr>
          <p:cNvPr id="168" name="KSO_Shape"/>
          <p:cNvSpPr/>
          <p:nvPr/>
        </p:nvSpPr>
        <p:spPr>
          <a:xfrm>
            <a:off x="7097760" y="3683160"/>
            <a:ext cx="1104840" cy="1049040"/>
          </a:xfrm>
          <a:custGeom>
            <a:avLst/>
            <a:gdLst/>
            <a:ahLst/>
            <a:rect l="l" t="t" r="r" b="b"/>
            <a:pathLst>
              <a:path w="1917701" h="1819275">
                <a:moveTo>
                  <a:pt x="711992" y="795933"/>
                </a:moveTo>
                <a:lnTo>
                  <a:pt x="722042" y="796197"/>
                </a:lnTo>
                <a:lnTo>
                  <a:pt x="731828" y="796462"/>
                </a:lnTo>
                <a:lnTo>
                  <a:pt x="742143" y="796991"/>
                </a:lnTo>
                <a:lnTo>
                  <a:pt x="751929" y="797784"/>
                </a:lnTo>
                <a:lnTo>
                  <a:pt x="761979" y="798577"/>
                </a:lnTo>
                <a:lnTo>
                  <a:pt x="771765" y="799635"/>
                </a:lnTo>
                <a:lnTo>
                  <a:pt x="781551" y="800957"/>
                </a:lnTo>
                <a:lnTo>
                  <a:pt x="791337" y="802544"/>
                </a:lnTo>
                <a:lnTo>
                  <a:pt x="800858" y="804130"/>
                </a:lnTo>
                <a:lnTo>
                  <a:pt x="810644" y="805981"/>
                </a:lnTo>
                <a:lnTo>
                  <a:pt x="820166" y="807832"/>
                </a:lnTo>
                <a:lnTo>
                  <a:pt x="829687" y="810212"/>
                </a:lnTo>
                <a:lnTo>
                  <a:pt x="839473" y="812592"/>
                </a:lnTo>
                <a:lnTo>
                  <a:pt x="848994" y="814972"/>
                </a:lnTo>
                <a:lnTo>
                  <a:pt x="858252" y="817616"/>
                </a:lnTo>
                <a:lnTo>
                  <a:pt x="867773" y="820525"/>
                </a:lnTo>
                <a:lnTo>
                  <a:pt x="886551" y="826871"/>
                </a:lnTo>
                <a:lnTo>
                  <a:pt x="905065" y="833746"/>
                </a:lnTo>
                <a:lnTo>
                  <a:pt x="923315" y="841415"/>
                </a:lnTo>
                <a:lnTo>
                  <a:pt x="941300" y="849612"/>
                </a:lnTo>
                <a:lnTo>
                  <a:pt x="959284" y="858603"/>
                </a:lnTo>
                <a:lnTo>
                  <a:pt x="976740" y="868122"/>
                </a:lnTo>
                <a:lnTo>
                  <a:pt x="993932" y="878170"/>
                </a:lnTo>
                <a:lnTo>
                  <a:pt x="1011123" y="889012"/>
                </a:lnTo>
                <a:lnTo>
                  <a:pt x="1003189" y="891392"/>
                </a:lnTo>
                <a:lnTo>
                  <a:pt x="995254" y="893772"/>
                </a:lnTo>
                <a:lnTo>
                  <a:pt x="987055" y="896416"/>
                </a:lnTo>
                <a:lnTo>
                  <a:pt x="979121" y="899325"/>
                </a:lnTo>
                <a:lnTo>
                  <a:pt x="971186" y="902762"/>
                </a:lnTo>
                <a:lnTo>
                  <a:pt x="962987" y="905936"/>
                </a:lnTo>
                <a:lnTo>
                  <a:pt x="955053" y="909638"/>
                </a:lnTo>
                <a:lnTo>
                  <a:pt x="947383" y="913604"/>
                </a:lnTo>
                <a:lnTo>
                  <a:pt x="939448" y="917835"/>
                </a:lnTo>
                <a:lnTo>
                  <a:pt x="932043" y="922066"/>
                </a:lnTo>
                <a:lnTo>
                  <a:pt x="924637" y="926826"/>
                </a:lnTo>
                <a:lnTo>
                  <a:pt x="917231" y="931850"/>
                </a:lnTo>
                <a:lnTo>
                  <a:pt x="910090" y="936874"/>
                </a:lnTo>
                <a:lnTo>
                  <a:pt x="902949" y="942427"/>
                </a:lnTo>
                <a:lnTo>
                  <a:pt x="896073" y="948509"/>
                </a:lnTo>
                <a:lnTo>
                  <a:pt x="889461" y="954326"/>
                </a:lnTo>
                <a:lnTo>
                  <a:pt x="883113" y="960937"/>
                </a:lnTo>
                <a:lnTo>
                  <a:pt x="877030" y="967812"/>
                </a:lnTo>
                <a:lnTo>
                  <a:pt x="871211" y="974952"/>
                </a:lnTo>
                <a:lnTo>
                  <a:pt x="865393" y="982356"/>
                </a:lnTo>
                <a:lnTo>
                  <a:pt x="859838" y="990024"/>
                </a:lnTo>
                <a:lnTo>
                  <a:pt x="854813" y="998486"/>
                </a:lnTo>
                <a:lnTo>
                  <a:pt x="850052" y="1006683"/>
                </a:lnTo>
                <a:lnTo>
                  <a:pt x="845556" y="1015674"/>
                </a:lnTo>
                <a:lnTo>
                  <a:pt x="841324" y="1025193"/>
                </a:lnTo>
                <a:lnTo>
                  <a:pt x="837886" y="1034713"/>
                </a:lnTo>
                <a:lnTo>
                  <a:pt x="834183" y="1044761"/>
                </a:lnTo>
                <a:lnTo>
                  <a:pt x="831274" y="1055074"/>
                </a:lnTo>
                <a:lnTo>
                  <a:pt x="828629" y="1066180"/>
                </a:lnTo>
                <a:lnTo>
                  <a:pt x="826249" y="1077550"/>
                </a:lnTo>
                <a:lnTo>
                  <a:pt x="824398" y="1089185"/>
                </a:lnTo>
                <a:lnTo>
                  <a:pt x="823340" y="1101349"/>
                </a:lnTo>
                <a:lnTo>
                  <a:pt x="822017" y="1115893"/>
                </a:lnTo>
                <a:lnTo>
                  <a:pt x="821488" y="1129907"/>
                </a:lnTo>
                <a:lnTo>
                  <a:pt x="821488" y="1143129"/>
                </a:lnTo>
                <a:lnTo>
                  <a:pt x="821753" y="1156086"/>
                </a:lnTo>
                <a:lnTo>
                  <a:pt x="822546" y="1168514"/>
                </a:lnTo>
                <a:lnTo>
                  <a:pt x="824133" y="1180413"/>
                </a:lnTo>
                <a:lnTo>
                  <a:pt x="825984" y="1192048"/>
                </a:lnTo>
                <a:lnTo>
                  <a:pt x="828100" y="1203154"/>
                </a:lnTo>
                <a:lnTo>
                  <a:pt x="830745" y="1213731"/>
                </a:lnTo>
                <a:lnTo>
                  <a:pt x="833654" y="1224044"/>
                </a:lnTo>
                <a:lnTo>
                  <a:pt x="836828" y="1233828"/>
                </a:lnTo>
                <a:lnTo>
                  <a:pt x="840531" y="1243348"/>
                </a:lnTo>
                <a:lnTo>
                  <a:pt x="844763" y="1252338"/>
                </a:lnTo>
                <a:lnTo>
                  <a:pt x="848994" y="1260800"/>
                </a:lnTo>
                <a:lnTo>
                  <a:pt x="853491" y="1269262"/>
                </a:lnTo>
                <a:lnTo>
                  <a:pt x="858516" y="1276930"/>
                </a:lnTo>
                <a:lnTo>
                  <a:pt x="863806" y="1284334"/>
                </a:lnTo>
                <a:lnTo>
                  <a:pt x="869360" y="1291474"/>
                </a:lnTo>
                <a:lnTo>
                  <a:pt x="874914" y="1298349"/>
                </a:lnTo>
                <a:lnTo>
                  <a:pt x="880997" y="1304960"/>
                </a:lnTo>
                <a:lnTo>
                  <a:pt x="887080" y="1311042"/>
                </a:lnTo>
                <a:lnTo>
                  <a:pt x="893428" y="1316859"/>
                </a:lnTo>
                <a:lnTo>
                  <a:pt x="900040" y="1322412"/>
                </a:lnTo>
                <a:lnTo>
                  <a:pt x="906652" y="1327436"/>
                </a:lnTo>
                <a:lnTo>
                  <a:pt x="913264" y="1332196"/>
                </a:lnTo>
                <a:lnTo>
                  <a:pt x="920405" y="1336956"/>
                </a:lnTo>
                <a:lnTo>
                  <a:pt x="927546" y="1341187"/>
                </a:lnTo>
                <a:lnTo>
                  <a:pt x="934687" y="1345417"/>
                </a:lnTo>
                <a:lnTo>
                  <a:pt x="941828" y="1349119"/>
                </a:lnTo>
                <a:lnTo>
                  <a:pt x="949234" y="1352821"/>
                </a:lnTo>
                <a:lnTo>
                  <a:pt x="956904" y="1355995"/>
                </a:lnTo>
                <a:lnTo>
                  <a:pt x="964310" y="1358903"/>
                </a:lnTo>
                <a:lnTo>
                  <a:pt x="971715" y="1361812"/>
                </a:lnTo>
                <a:lnTo>
                  <a:pt x="979121" y="1364456"/>
                </a:lnTo>
                <a:lnTo>
                  <a:pt x="986526" y="1366836"/>
                </a:lnTo>
                <a:lnTo>
                  <a:pt x="993932" y="1368952"/>
                </a:lnTo>
                <a:lnTo>
                  <a:pt x="1008479" y="1372654"/>
                </a:lnTo>
                <a:lnTo>
                  <a:pt x="1023025" y="1375562"/>
                </a:lnTo>
                <a:lnTo>
                  <a:pt x="1037043" y="1378471"/>
                </a:lnTo>
                <a:lnTo>
                  <a:pt x="1050532" y="1380058"/>
                </a:lnTo>
                <a:lnTo>
                  <a:pt x="1063227" y="1381380"/>
                </a:lnTo>
                <a:lnTo>
                  <a:pt x="1075129" y="1382438"/>
                </a:lnTo>
                <a:lnTo>
                  <a:pt x="1086237" y="1382702"/>
                </a:lnTo>
                <a:lnTo>
                  <a:pt x="1096287" y="1383231"/>
                </a:lnTo>
                <a:lnTo>
                  <a:pt x="1105015" y="1383495"/>
                </a:lnTo>
                <a:lnTo>
                  <a:pt x="1112421" y="1383231"/>
                </a:lnTo>
                <a:lnTo>
                  <a:pt x="1122736" y="1382702"/>
                </a:lnTo>
                <a:lnTo>
                  <a:pt x="1126703" y="1382438"/>
                </a:lnTo>
                <a:lnTo>
                  <a:pt x="1126703" y="1394337"/>
                </a:lnTo>
                <a:lnTo>
                  <a:pt x="1126968" y="1406236"/>
                </a:lnTo>
                <a:lnTo>
                  <a:pt x="1127232" y="1417607"/>
                </a:lnTo>
                <a:lnTo>
                  <a:pt x="1128025" y="1428977"/>
                </a:lnTo>
                <a:lnTo>
                  <a:pt x="1129083" y="1439554"/>
                </a:lnTo>
                <a:lnTo>
                  <a:pt x="1130141" y="1450131"/>
                </a:lnTo>
                <a:lnTo>
                  <a:pt x="1131728" y="1460444"/>
                </a:lnTo>
                <a:lnTo>
                  <a:pt x="1133580" y="1470228"/>
                </a:lnTo>
                <a:lnTo>
                  <a:pt x="1135431" y="1480012"/>
                </a:lnTo>
                <a:lnTo>
                  <a:pt x="1137547" y="1489267"/>
                </a:lnTo>
                <a:lnTo>
                  <a:pt x="1139927" y="1498522"/>
                </a:lnTo>
                <a:lnTo>
                  <a:pt x="1142572" y="1507513"/>
                </a:lnTo>
                <a:lnTo>
                  <a:pt x="1145481" y="1515710"/>
                </a:lnTo>
                <a:lnTo>
                  <a:pt x="1148391" y="1524172"/>
                </a:lnTo>
                <a:lnTo>
                  <a:pt x="1151564" y="1532105"/>
                </a:lnTo>
                <a:lnTo>
                  <a:pt x="1155003" y="1539773"/>
                </a:lnTo>
                <a:lnTo>
                  <a:pt x="1158441" y="1547442"/>
                </a:lnTo>
                <a:lnTo>
                  <a:pt x="1162408" y="1554581"/>
                </a:lnTo>
                <a:lnTo>
                  <a:pt x="1166111" y="1561721"/>
                </a:lnTo>
                <a:lnTo>
                  <a:pt x="1170078" y="1568596"/>
                </a:lnTo>
                <a:lnTo>
                  <a:pt x="1174575" y="1575207"/>
                </a:lnTo>
                <a:lnTo>
                  <a:pt x="1178806" y="1581553"/>
                </a:lnTo>
                <a:lnTo>
                  <a:pt x="1183038" y="1587370"/>
                </a:lnTo>
                <a:lnTo>
                  <a:pt x="1187799" y="1593452"/>
                </a:lnTo>
                <a:lnTo>
                  <a:pt x="1192560" y="1599005"/>
                </a:lnTo>
                <a:lnTo>
                  <a:pt x="1197320" y="1604558"/>
                </a:lnTo>
                <a:lnTo>
                  <a:pt x="1202346" y="1609582"/>
                </a:lnTo>
                <a:lnTo>
                  <a:pt x="1207635" y="1614607"/>
                </a:lnTo>
                <a:lnTo>
                  <a:pt x="1212660" y="1619366"/>
                </a:lnTo>
                <a:lnTo>
                  <a:pt x="1217950" y="1624126"/>
                </a:lnTo>
                <a:lnTo>
                  <a:pt x="1223240" y="1628357"/>
                </a:lnTo>
                <a:lnTo>
                  <a:pt x="1229058" y="1632852"/>
                </a:lnTo>
                <a:lnTo>
                  <a:pt x="1234348" y="1636819"/>
                </a:lnTo>
                <a:lnTo>
                  <a:pt x="1239902" y="1640521"/>
                </a:lnTo>
                <a:lnTo>
                  <a:pt x="1245721" y="1644487"/>
                </a:lnTo>
                <a:lnTo>
                  <a:pt x="1251540" y="1647660"/>
                </a:lnTo>
                <a:lnTo>
                  <a:pt x="1263177" y="1654271"/>
                </a:lnTo>
                <a:lnTo>
                  <a:pt x="1274814" y="1660353"/>
                </a:lnTo>
                <a:lnTo>
                  <a:pt x="1286716" y="1665377"/>
                </a:lnTo>
                <a:lnTo>
                  <a:pt x="1298882" y="1670137"/>
                </a:lnTo>
                <a:lnTo>
                  <a:pt x="1310784" y="1673839"/>
                </a:lnTo>
                <a:lnTo>
                  <a:pt x="1322686" y="1677541"/>
                </a:lnTo>
                <a:lnTo>
                  <a:pt x="1334588" y="1680714"/>
                </a:lnTo>
                <a:lnTo>
                  <a:pt x="1346225" y="1683094"/>
                </a:lnTo>
                <a:lnTo>
                  <a:pt x="1357862" y="1685474"/>
                </a:lnTo>
                <a:lnTo>
                  <a:pt x="1368971" y="1687325"/>
                </a:lnTo>
                <a:lnTo>
                  <a:pt x="1380079" y="1688382"/>
                </a:lnTo>
                <a:lnTo>
                  <a:pt x="1390658" y="1689705"/>
                </a:lnTo>
                <a:lnTo>
                  <a:pt x="1401238" y="1690498"/>
                </a:lnTo>
                <a:lnTo>
                  <a:pt x="1411024" y="1690762"/>
                </a:lnTo>
                <a:lnTo>
                  <a:pt x="1411817" y="1709537"/>
                </a:lnTo>
                <a:lnTo>
                  <a:pt x="1412346" y="1728311"/>
                </a:lnTo>
                <a:lnTo>
                  <a:pt x="1412875" y="1747086"/>
                </a:lnTo>
                <a:lnTo>
                  <a:pt x="1412875" y="1766125"/>
                </a:lnTo>
                <a:lnTo>
                  <a:pt x="1412346" y="1792832"/>
                </a:lnTo>
                <a:lnTo>
                  <a:pt x="1411553" y="1819275"/>
                </a:lnTo>
                <a:lnTo>
                  <a:pt x="793" y="1811078"/>
                </a:lnTo>
                <a:lnTo>
                  <a:pt x="264" y="1784635"/>
                </a:lnTo>
                <a:lnTo>
                  <a:pt x="0" y="1757928"/>
                </a:lnTo>
                <a:lnTo>
                  <a:pt x="529" y="1733071"/>
                </a:lnTo>
                <a:lnTo>
                  <a:pt x="1058" y="1708215"/>
                </a:lnTo>
                <a:lnTo>
                  <a:pt x="2645" y="1683623"/>
                </a:lnTo>
                <a:lnTo>
                  <a:pt x="4232" y="1659031"/>
                </a:lnTo>
                <a:lnTo>
                  <a:pt x="6612" y="1634968"/>
                </a:lnTo>
                <a:lnTo>
                  <a:pt x="8992" y="1610905"/>
                </a:lnTo>
                <a:lnTo>
                  <a:pt x="12166" y="1587106"/>
                </a:lnTo>
                <a:lnTo>
                  <a:pt x="15340" y="1563307"/>
                </a:lnTo>
                <a:lnTo>
                  <a:pt x="19307" y="1539773"/>
                </a:lnTo>
                <a:lnTo>
                  <a:pt x="23804" y="1516503"/>
                </a:lnTo>
                <a:lnTo>
                  <a:pt x="28300" y="1493762"/>
                </a:lnTo>
                <a:lnTo>
                  <a:pt x="33590" y="1470757"/>
                </a:lnTo>
                <a:lnTo>
                  <a:pt x="38879" y="1448280"/>
                </a:lnTo>
                <a:lnTo>
                  <a:pt x="44962" y="1425804"/>
                </a:lnTo>
                <a:lnTo>
                  <a:pt x="51045" y="1403856"/>
                </a:lnTo>
                <a:lnTo>
                  <a:pt x="57658" y="1382173"/>
                </a:lnTo>
                <a:lnTo>
                  <a:pt x="64799" y="1360754"/>
                </a:lnTo>
                <a:lnTo>
                  <a:pt x="72204" y="1339336"/>
                </a:lnTo>
                <a:lnTo>
                  <a:pt x="79874" y="1318710"/>
                </a:lnTo>
                <a:lnTo>
                  <a:pt x="88073" y="1298085"/>
                </a:lnTo>
                <a:lnTo>
                  <a:pt x="96272" y="1277459"/>
                </a:lnTo>
                <a:lnTo>
                  <a:pt x="105265" y="1257627"/>
                </a:lnTo>
                <a:lnTo>
                  <a:pt x="114522" y="1238059"/>
                </a:lnTo>
                <a:lnTo>
                  <a:pt x="123779" y="1218491"/>
                </a:lnTo>
                <a:lnTo>
                  <a:pt x="133565" y="1199452"/>
                </a:lnTo>
                <a:lnTo>
                  <a:pt x="143615" y="1180678"/>
                </a:lnTo>
                <a:lnTo>
                  <a:pt x="153930" y="1162432"/>
                </a:lnTo>
                <a:lnTo>
                  <a:pt x="165038" y="1144451"/>
                </a:lnTo>
                <a:lnTo>
                  <a:pt x="176147" y="1126734"/>
                </a:lnTo>
                <a:lnTo>
                  <a:pt x="187255" y="1109546"/>
                </a:lnTo>
                <a:lnTo>
                  <a:pt x="198892" y="1092623"/>
                </a:lnTo>
                <a:lnTo>
                  <a:pt x="210794" y="1075964"/>
                </a:lnTo>
                <a:lnTo>
                  <a:pt x="222960" y="1059834"/>
                </a:lnTo>
                <a:lnTo>
                  <a:pt x="235391" y="1044232"/>
                </a:lnTo>
                <a:lnTo>
                  <a:pt x="248351" y="1028895"/>
                </a:lnTo>
                <a:lnTo>
                  <a:pt x="261310" y="1013823"/>
                </a:lnTo>
                <a:lnTo>
                  <a:pt x="274799" y="999544"/>
                </a:lnTo>
                <a:lnTo>
                  <a:pt x="288288" y="985529"/>
                </a:lnTo>
                <a:lnTo>
                  <a:pt x="302041" y="971779"/>
                </a:lnTo>
                <a:lnTo>
                  <a:pt x="316059" y="958557"/>
                </a:lnTo>
                <a:lnTo>
                  <a:pt x="330341" y="946129"/>
                </a:lnTo>
                <a:lnTo>
                  <a:pt x="344888" y="933965"/>
                </a:lnTo>
                <a:lnTo>
                  <a:pt x="359963" y="922066"/>
                </a:lnTo>
                <a:lnTo>
                  <a:pt x="374774" y="910695"/>
                </a:lnTo>
                <a:lnTo>
                  <a:pt x="389850" y="899589"/>
                </a:lnTo>
                <a:lnTo>
                  <a:pt x="405454" y="889541"/>
                </a:lnTo>
                <a:lnTo>
                  <a:pt x="420794" y="879757"/>
                </a:lnTo>
                <a:lnTo>
                  <a:pt x="436664" y="870238"/>
                </a:lnTo>
                <a:lnTo>
                  <a:pt x="452533" y="861511"/>
                </a:lnTo>
                <a:lnTo>
                  <a:pt x="468666" y="853314"/>
                </a:lnTo>
                <a:lnTo>
                  <a:pt x="485064" y="845646"/>
                </a:lnTo>
                <a:lnTo>
                  <a:pt x="501727" y="838242"/>
                </a:lnTo>
                <a:lnTo>
                  <a:pt x="518389" y="831631"/>
                </a:lnTo>
                <a:lnTo>
                  <a:pt x="535316" y="825285"/>
                </a:lnTo>
                <a:lnTo>
                  <a:pt x="552243" y="819732"/>
                </a:lnTo>
                <a:lnTo>
                  <a:pt x="569435" y="814972"/>
                </a:lnTo>
                <a:lnTo>
                  <a:pt x="586891" y="810477"/>
                </a:lnTo>
                <a:lnTo>
                  <a:pt x="604347" y="806510"/>
                </a:lnTo>
                <a:lnTo>
                  <a:pt x="622067" y="803337"/>
                </a:lnTo>
                <a:lnTo>
                  <a:pt x="639787" y="800693"/>
                </a:lnTo>
                <a:lnTo>
                  <a:pt x="657508" y="798577"/>
                </a:lnTo>
                <a:lnTo>
                  <a:pt x="675757" y="796991"/>
                </a:lnTo>
                <a:lnTo>
                  <a:pt x="693742" y="796197"/>
                </a:lnTo>
                <a:lnTo>
                  <a:pt x="711992" y="795933"/>
                </a:lnTo>
                <a:close/>
                <a:moveTo>
                  <a:pt x="1463280" y="660400"/>
                </a:moveTo>
                <a:lnTo>
                  <a:pt x="1469893" y="660400"/>
                </a:lnTo>
                <a:lnTo>
                  <a:pt x="1477034" y="660665"/>
                </a:lnTo>
                <a:lnTo>
                  <a:pt x="1483912" y="660929"/>
                </a:lnTo>
                <a:lnTo>
                  <a:pt x="1490789" y="661988"/>
                </a:lnTo>
                <a:lnTo>
                  <a:pt x="1497666" y="663046"/>
                </a:lnTo>
                <a:lnTo>
                  <a:pt x="1504279" y="664898"/>
                </a:lnTo>
                <a:lnTo>
                  <a:pt x="1510891" y="666750"/>
                </a:lnTo>
                <a:lnTo>
                  <a:pt x="1516975" y="668867"/>
                </a:lnTo>
                <a:lnTo>
                  <a:pt x="1523323" y="671248"/>
                </a:lnTo>
                <a:lnTo>
                  <a:pt x="1529142" y="673894"/>
                </a:lnTo>
                <a:lnTo>
                  <a:pt x="1535226" y="676804"/>
                </a:lnTo>
                <a:lnTo>
                  <a:pt x="1540780" y="679979"/>
                </a:lnTo>
                <a:lnTo>
                  <a:pt x="1546599" y="683683"/>
                </a:lnTo>
                <a:lnTo>
                  <a:pt x="1551625" y="687123"/>
                </a:lnTo>
                <a:lnTo>
                  <a:pt x="1556915" y="691356"/>
                </a:lnTo>
                <a:lnTo>
                  <a:pt x="1561676" y="695590"/>
                </a:lnTo>
                <a:lnTo>
                  <a:pt x="1566437" y="700088"/>
                </a:lnTo>
                <a:lnTo>
                  <a:pt x="1570934" y="704850"/>
                </a:lnTo>
                <a:lnTo>
                  <a:pt x="1575431" y="709613"/>
                </a:lnTo>
                <a:lnTo>
                  <a:pt x="1579134" y="714640"/>
                </a:lnTo>
                <a:lnTo>
                  <a:pt x="1583101" y="719931"/>
                </a:lnTo>
                <a:lnTo>
                  <a:pt x="1586540" y="725223"/>
                </a:lnTo>
                <a:lnTo>
                  <a:pt x="1589978" y="731044"/>
                </a:lnTo>
                <a:lnTo>
                  <a:pt x="1592888" y="736600"/>
                </a:lnTo>
                <a:lnTo>
                  <a:pt x="1595533" y="742685"/>
                </a:lnTo>
                <a:lnTo>
                  <a:pt x="1597914" y="748771"/>
                </a:lnTo>
                <a:lnTo>
                  <a:pt x="1600030" y="754856"/>
                </a:lnTo>
                <a:lnTo>
                  <a:pt x="1601881" y="761206"/>
                </a:lnTo>
                <a:lnTo>
                  <a:pt x="1603204" y="767556"/>
                </a:lnTo>
                <a:lnTo>
                  <a:pt x="1604526" y="774435"/>
                </a:lnTo>
                <a:lnTo>
                  <a:pt x="1605320" y="781050"/>
                </a:lnTo>
                <a:lnTo>
                  <a:pt x="1605584" y="787665"/>
                </a:lnTo>
                <a:lnTo>
                  <a:pt x="1605849" y="794544"/>
                </a:lnTo>
                <a:lnTo>
                  <a:pt x="1604791" y="967581"/>
                </a:lnTo>
                <a:lnTo>
                  <a:pt x="1781745" y="968375"/>
                </a:lnTo>
                <a:lnTo>
                  <a:pt x="1788887" y="968640"/>
                </a:lnTo>
                <a:lnTo>
                  <a:pt x="1795764" y="969169"/>
                </a:lnTo>
                <a:lnTo>
                  <a:pt x="1802641" y="970227"/>
                </a:lnTo>
                <a:lnTo>
                  <a:pt x="1809518" y="971285"/>
                </a:lnTo>
                <a:lnTo>
                  <a:pt x="1815866" y="972873"/>
                </a:lnTo>
                <a:lnTo>
                  <a:pt x="1822479" y="974725"/>
                </a:lnTo>
                <a:lnTo>
                  <a:pt x="1828827" y="977106"/>
                </a:lnTo>
                <a:lnTo>
                  <a:pt x="1834911" y="979488"/>
                </a:lnTo>
                <a:lnTo>
                  <a:pt x="1840994" y="982133"/>
                </a:lnTo>
                <a:lnTo>
                  <a:pt x="1846813" y="985044"/>
                </a:lnTo>
                <a:lnTo>
                  <a:pt x="1852633" y="988219"/>
                </a:lnTo>
                <a:lnTo>
                  <a:pt x="1857923" y="991923"/>
                </a:lnTo>
                <a:lnTo>
                  <a:pt x="1863213" y="995363"/>
                </a:lnTo>
                <a:lnTo>
                  <a:pt x="1868503" y="999596"/>
                </a:lnTo>
                <a:lnTo>
                  <a:pt x="1873264" y="1003829"/>
                </a:lnTo>
                <a:lnTo>
                  <a:pt x="1878025" y="1008327"/>
                </a:lnTo>
                <a:lnTo>
                  <a:pt x="1882522" y="1012825"/>
                </a:lnTo>
                <a:lnTo>
                  <a:pt x="1886754" y="1017852"/>
                </a:lnTo>
                <a:lnTo>
                  <a:pt x="1890986" y="1022879"/>
                </a:lnTo>
                <a:lnTo>
                  <a:pt x="1894689" y="1027906"/>
                </a:lnTo>
                <a:lnTo>
                  <a:pt x="1898128" y="1033463"/>
                </a:lnTo>
                <a:lnTo>
                  <a:pt x="1901302" y="1039283"/>
                </a:lnTo>
                <a:lnTo>
                  <a:pt x="1904211" y="1044840"/>
                </a:lnTo>
                <a:lnTo>
                  <a:pt x="1907385" y="1050660"/>
                </a:lnTo>
                <a:lnTo>
                  <a:pt x="1909766" y="1056746"/>
                </a:lnTo>
                <a:lnTo>
                  <a:pt x="1911882" y="1063096"/>
                </a:lnTo>
                <a:lnTo>
                  <a:pt x="1913469" y="1069181"/>
                </a:lnTo>
                <a:lnTo>
                  <a:pt x="1915056" y="1075796"/>
                </a:lnTo>
                <a:lnTo>
                  <a:pt x="1916114" y="1082410"/>
                </a:lnTo>
                <a:lnTo>
                  <a:pt x="1916908" y="1089290"/>
                </a:lnTo>
                <a:lnTo>
                  <a:pt x="1917436" y="1095640"/>
                </a:lnTo>
                <a:lnTo>
                  <a:pt x="1917701" y="1102783"/>
                </a:lnTo>
                <a:lnTo>
                  <a:pt x="1917436" y="1109663"/>
                </a:lnTo>
                <a:lnTo>
                  <a:pt x="1916908" y="1116277"/>
                </a:lnTo>
                <a:lnTo>
                  <a:pt x="1915849" y="1123156"/>
                </a:lnTo>
                <a:lnTo>
                  <a:pt x="1914791" y="1129506"/>
                </a:lnTo>
                <a:lnTo>
                  <a:pt x="1913204" y="1136121"/>
                </a:lnTo>
                <a:lnTo>
                  <a:pt x="1911088" y="1142471"/>
                </a:lnTo>
                <a:lnTo>
                  <a:pt x="1908972" y="1148556"/>
                </a:lnTo>
                <a:lnTo>
                  <a:pt x="1906592" y="1154642"/>
                </a:lnTo>
                <a:lnTo>
                  <a:pt x="1903682" y="1160463"/>
                </a:lnTo>
                <a:lnTo>
                  <a:pt x="1900773" y="1166283"/>
                </a:lnTo>
                <a:lnTo>
                  <a:pt x="1897599" y="1171840"/>
                </a:lnTo>
                <a:lnTo>
                  <a:pt x="1893896" y="1177131"/>
                </a:lnTo>
                <a:lnTo>
                  <a:pt x="1889928" y="1182158"/>
                </a:lnTo>
                <a:lnTo>
                  <a:pt x="1885960" y="1187450"/>
                </a:lnTo>
                <a:lnTo>
                  <a:pt x="1881728" y="1192213"/>
                </a:lnTo>
                <a:lnTo>
                  <a:pt x="1876967" y="1196975"/>
                </a:lnTo>
                <a:lnTo>
                  <a:pt x="1872206" y="1201208"/>
                </a:lnTo>
                <a:lnTo>
                  <a:pt x="1867445" y="1205442"/>
                </a:lnTo>
                <a:lnTo>
                  <a:pt x="1862155" y="1209411"/>
                </a:lnTo>
                <a:lnTo>
                  <a:pt x="1856600" y="1212850"/>
                </a:lnTo>
                <a:lnTo>
                  <a:pt x="1851046" y="1216554"/>
                </a:lnTo>
                <a:lnTo>
                  <a:pt x="1845491" y="1219465"/>
                </a:lnTo>
                <a:lnTo>
                  <a:pt x="1839407" y="1222375"/>
                </a:lnTo>
                <a:lnTo>
                  <a:pt x="1833588" y="1225021"/>
                </a:lnTo>
                <a:lnTo>
                  <a:pt x="1827240" y="1227402"/>
                </a:lnTo>
                <a:lnTo>
                  <a:pt x="1821156" y="1229519"/>
                </a:lnTo>
                <a:lnTo>
                  <a:pt x="1814544" y="1231371"/>
                </a:lnTo>
                <a:lnTo>
                  <a:pt x="1807931" y="1232958"/>
                </a:lnTo>
                <a:lnTo>
                  <a:pt x="1801054" y="1234017"/>
                </a:lnTo>
                <a:lnTo>
                  <a:pt x="1794177" y="1234546"/>
                </a:lnTo>
                <a:lnTo>
                  <a:pt x="1787300" y="1235340"/>
                </a:lnTo>
                <a:lnTo>
                  <a:pt x="1780158" y="1235340"/>
                </a:lnTo>
                <a:lnTo>
                  <a:pt x="1603204" y="1234281"/>
                </a:lnTo>
                <a:lnTo>
                  <a:pt x="1602410" y="1407319"/>
                </a:lnTo>
                <a:lnTo>
                  <a:pt x="1602146" y="1413933"/>
                </a:lnTo>
                <a:lnTo>
                  <a:pt x="1601617" y="1420813"/>
                </a:lnTo>
                <a:lnTo>
                  <a:pt x="1600559" y="1427692"/>
                </a:lnTo>
                <a:lnTo>
                  <a:pt x="1599501" y="1434306"/>
                </a:lnTo>
                <a:lnTo>
                  <a:pt x="1597914" y="1440392"/>
                </a:lnTo>
                <a:lnTo>
                  <a:pt x="1595798" y="1446742"/>
                </a:lnTo>
                <a:lnTo>
                  <a:pt x="1593682" y="1453092"/>
                </a:lnTo>
                <a:lnTo>
                  <a:pt x="1591301" y="1459177"/>
                </a:lnTo>
                <a:lnTo>
                  <a:pt x="1588656" y="1464998"/>
                </a:lnTo>
                <a:lnTo>
                  <a:pt x="1585482" y="1470819"/>
                </a:lnTo>
                <a:lnTo>
                  <a:pt x="1582043" y="1476111"/>
                </a:lnTo>
                <a:lnTo>
                  <a:pt x="1578605" y="1481931"/>
                </a:lnTo>
                <a:lnTo>
                  <a:pt x="1574637" y="1486958"/>
                </a:lnTo>
                <a:lnTo>
                  <a:pt x="1570670" y="1491986"/>
                </a:lnTo>
                <a:lnTo>
                  <a:pt x="1566437" y="1496748"/>
                </a:lnTo>
                <a:lnTo>
                  <a:pt x="1561941" y="1501511"/>
                </a:lnTo>
                <a:lnTo>
                  <a:pt x="1557180" y="1505744"/>
                </a:lnTo>
                <a:lnTo>
                  <a:pt x="1552154" y="1509713"/>
                </a:lnTo>
                <a:lnTo>
                  <a:pt x="1546864" y="1513946"/>
                </a:lnTo>
                <a:lnTo>
                  <a:pt x="1541309" y="1517650"/>
                </a:lnTo>
                <a:lnTo>
                  <a:pt x="1536019" y="1521090"/>
                </a:lnTo>
                <a:lnTo>
                  <a:pt x="1530200" y="1524000"/>
                </a:lnTo>
                <a:lnTo>
                  <a:pt x="1524381" y="1527175"/>
                </a:lnTo>
                <a:lnTo>
                  <a:pt x="1518297" y="1529821"/>
                </a:lnTo>
                <a:lnTo>
                  <a:pt x="1511949" y="1532202"/>
                </a:lnTo>
                <a:lnTo>
                  <a:pt x="1505601" y="1534319"/>
                </a:lnTo>
                <a:lnTo>
                  <a:pt x="1499253" y="1535906"/>
                </a:lnTo>
                <a:lnTo>
                  <a:pt x="1492640" y="1537494"/>
                </a:lnTo>
                <a:lnTo>
                  <a:pt x="1485763" y="1538288"/>
                </a:lnTo>
                <a:lnTo>
                  <a:pt x="1478886" y="1539346"/>
                </a:lnTo>
                <a:lnTo>
                  <a:pt x="1472009" y="1539875"/>
                </a:lnTo>
                <a:lnTo>
                  <a:pt x="1464867" y="1539875"/>
                </a:lnTo>
                <a:lnTo>
                  <a:pt x="1458255" y="1539611"/>
                </a:lnTo>
                <a:lnTo>
                  <a:pt x="1451113" y="1539346"/>
                </a:lnTo>
                <a:lnTo>
                  <a:pt x="1444236" y="1538288"/>
                </a:lnTo>
                <a:lnTo>
                  <a:pt x="1437623" y="1536965"/>
                </a:lnTo>
                <a:lnTo>
                  <a:pt x="1431010" y="1535377"/>
                </a:lnTo>
                <a:lnTo>
                  <a:pt x="1424398" y="1533525"/>
                </a:lnTo>
                <a:lnTo>
                  <a:pt x="1418314" y="1531673"/>
                </a:lnTo>
                <a:lnTo>
                  <a:pt x="1411966" y="1529292"/>
                </a:lnTo>
                <a:lnTo>
                  <a:pt x="1406147" y="1526381"/>
                </a:lnTo>
                <a:lnTo>
                  <a:pt x="1400063" y="1523471"/>
                </a:lnTo>
                <a:lnTo>
                  <a:pt x="1394509" y="1520296"/>
                </a:lnTo>
                <a:lnTo>
                  <a:pt x="1388690" y="1516592"/>
                </a:lnTo>
                <a:lnTo>
                  <a:pt x="1383399" y="1512888"/>
                </a:lnTo>
                <a:lnTo>
                  <a:pt x="1378374" y="1508919"/>
                </a:lnTo>
                <a:lnTo>
                  <a:pt x="1373348" y="1504686"/>
                </a:lnTo>
                <a:lnTo>
                  <a:pt x="1368852" y="1500188"/>
                </a:lnTo>
                <a:lnTo>
                  <a:pt x="1364355" y="1495425"/>
                </a:lnTo>
                <a:lnTo>
                  <a:pt x="1359858" y="1490663"/>
                </a:lnTo>
                <a:lnTo>
                  <a:pt x="1356155" y="1485636"/>
                </a:lnTo>
                <a:lnTo>
                  <a:pt x="1352188" y="1480344"/>
                </a:lnTo>
                <a:lnTo>
                  <a:pt x="1348749" y="1475052"/>
                </a:lnTo>
                <a:lnTo>
                  <a:pt x="1345311" y="1469496"/>
                </a:lnTo>
                <a:lnTo>
                  <a:pt x="1342401" y="1463675"/>
                </a:lnTo>
                <a:lnTo>
                  <a:pt x="1339756" y="1457854"/>
                </a:lnTo>
                <a:lnTo>
                  <a:pt x="1337375" y="1451504"/>
                </a:lnTo>
                <a:lnTo>
                  <a:pt x="1335259" y="1445154"/>
                </a:lnTo>
                <a:lnTo>
                  <a:pt x="1333408" y="1439069"/>
                </a:lnTo>
                <a:lnTo>
                  <a:pt x="1332085" y="1432454"/>
                </a:lnTo>
                <a:lnTo>
                  <a:pt x="1330763" y="1425840"/>
                </a:lnTo>
                <a:lnTo>
                  <a:pt x="1329969" y="1419490"/>
                </a:lnTo>
                <a:lnTo>
                  <a:pt x="1329440" y="1412611"/>
                </a:lnTo>
                <a:lnTo>
                  <a:pt x="1329440" y="1405731"/>
                </a:lnTo>
                <a:lnTo>
                  <a:pt x="1330234" y="1232958"/>
                </a:lnTo>
                <a:lnTo>
                  <a:pt x="1153279" y="1231636"/>
                </a:lnTo>
                <a:lnTo>
                  <a:pt x="1146402" y="1231371"/>
                </a:lnTo>
                <a:lnTo>
                  <a:pt x="1139525" y="1231106"/>
                </a:lnTo>
                <a:lnTo>
                  <a:pt x="1132648" y="1230048"/>
                </a:lnTo>
                <a:lnTo>
                  <a:pt x="1125771" y="1228990"/>
                </a:lnTo>
                <a:lnTo>
                  <a:pt x="1119423" y="1227138"/>
                </a:lnTo>
                <a:lnTo>
                  <a:pt x="1112810" y="1225286"/>
                </a:lnTo>
                <a:lnTo>
                  <a:pt x="1106462" y="1223433"/>
                </a:lnTo>
                <a:lnTo>
                  <a:pt x="1100378" y="1221052"/>
                </a:lnTo>
                <a:lnTo>
                  <a:pt x="1094295" y="1218406"/>
                </a:lnTo>
                <a:lnTo>
                  <a:pt x="1088476" y="1215231"/>
                </a:lnTo>
                <a:lnTo>
                  <a:pt x="1082656" y="1212056"/>
                </a:lnTo>
                <a:lnTo>
                  <a:pt x="1077102" y="1208352"/>
                </a:lnTo>
                <a:lnTo>
                  <a:pt x="1071812" y="1204648"/>
                </a:lnTo>
                <a:lnTo>
                  <a:pt x="1066786" y="1200679"/>
                </a:lnTo>
                <a:lnTo>
                  <a:pt x="1062025" y="1196446"/>
                </a:lnTo>
                <a:lnTo>
                  <a:pt x="1057264" y="1192213"/>
                </a:lnTo>
                <a:lnTo>
                  <a:pt x="1052767" y="1187450"/>
                </a:lnTo>
                <a:lnTo>
                  <a:pt x="1048271" y="1182688"/>
                </a:lnTo>
                <a:lnTo>
                  <a:pt x="1044303" y="1177396"/>
                </a:lnTo>
                <a:lnTo>
                  <a:pt x="1040600" y="1172104"/>
                </a:lnTo>
                <a:lnTo>
                  <a:pt x="1036897" y="1166813"/>
                </a:lnTo>
                <a:lnTo>
                  <a:pt x="1033723" y="1161256"/>
                </a:lnTo>
                <a:lnTo>
                  <a:pt x="1030549" y="1155435"/>
                </a:lnTo>
                <a:lnTo>
                  <a:pt x="1027904" y="1149615"/>
                </a:lnTo>
                <a:lnTo>
                  <a:pt x="1025523" y="1143265"/>
                </a:lnTo>
                <a:lnTo>
                  <a:pt x="1023407" y="1137444"/>
                </a:lnTo>
                <a:lnTo>
                  <a:pt x="1021820" y="1130829"/>
                </a:lnTo>
                <a:lnTo>
                  <a:pt x="1020233" y="1124215"/>
                </a:lnTo>
                <a:lnTo>
                  <a:pt x="1019175" y="1117600"/>
                </a:lnTo>
                <a:lnTo>
                  <a:pt x="1018117" y="1111250"/>
                </a:lnTo>
                <a:lnTo>
                  <a:pt x="1017853" y="1104371"/>
                </a:lnTo>
                <a:lnTo>
                  <a:pt x="1017588" y="1097492"/>
                </a:lnTo>
                <a:lnTo>
                  <a:pt x="1017853" y="1090613"/>
                </a:lnTo>
                <a:lnTo>
                  <a:pt x="1018382" y="1083733"/>
                </a:lnTo>
                <a:lnTo>
                  <a:pt x="1019440" y="1077383"/>
                </a:lnTo>
                <a:lnTo>
                  <a:pt x="1020498" y="1070769"/>
                </a:lnTo>
                <a:lnTo>
                  <a:pt x="1022085" y="1064154"/>
                </a:lnTo>
                <a:lnTo>
                  <a:pt x="1024201" y="1057804"/>
                </a:lnTo>
                <a:lnTo>
                  <a:pt x="1026317" y="1051719"/>
                </a:lnTo>
                <a:lnTo>
                  <a:pt x="1028697" y="1045633"/>
                </a:lnTo>
                <a:lnTo>
                  <a:pt x="1031607" y="1039813"/>
                </a:lnTo>
                <a:lnTo>
                  <a:pt x="1034516" y="1033992"/>
                </a:lnTo>
                <a:lnTo>
                  <a:pt x="1037690" y="1028435"/>
                </a:lnTo>
                <a:lnTo>
                  <a:pt x="1041394" y="1023144"/>
                </a:lnTo>
                <a:lnTo>
                  <a:pt x="1045361" y="1017852"/>
                </a:lnTo>
                <a:lnTo>
                  <a:pt x="1049329" y="1012825"/>
                </a:lnTo>
                <a:lnTo>
                  <a:pt x="1053561" y="1008063"/>
                </a:lnTo>
                <a:lnTo>
                  <a:pt x="1058057" y="1003565"/>
                </a:lnTo>
                <a:lnTo>
                  <a:pt x="1062818" y="999067"/>
                </a:lnTo>
                <a:lnTo>
                  <a:pt x="1067844" y="994833"/>
                </a:lnTo>
                <a:lnTo>
                  <a:pt x="1073134" y="990865"/>
                </a:lnTo>
                <a:lnTo>
                  <a:pt x="1078689" y="987160"/>
                </a:lnTo>
                <a:lnTo>
                  <a:pt x="1083979" y="983721"/>
                </a:lnTo>
                <a:lnTo>
                  <a:pt x="1089798" y="980546"/>
                </a:lnTo>
                <a:lnTo>
                  <a:pt x="1095617" y="977635"/>
                </a:lnTo>
                <a:lnTo>
                  <a:pt x="1101701" y="975254"/>
                </a:lnTo>
                <a:lnTo>
                  <a:pt x="1108049" y="972873"/>
                </a:lnTo>
                <a:lnTo>
                  <a:pt x="1114133" y="970756"/>
                </a:lnTo>
                <a:lnTo>
                  <a:pt x="1120745" y="968904"/>
                </a:lnTo>
                <a:lnTo>
                  <a:pt x="1127358" y="967581"/>
                </a:lnTo>
                <a:lnTo>
                  <a:pt x="1134235" y="966258"/>
                </a:lnTo>
                <a:lnTo>
                  <a:pt x="1141112" y="965465"/>
                </a:lnTo>
                <a:lnTo>
                  <a:pt x="1147989" y="965200"/>
                </a:lnTo>
                <a:lnTo>
                  <a:pt x="1155131" y="964935"/>
                </a:lnTo>
                <a:lnTo>
                  <a:pt x="1332085" y="965994"/>
                </a:lnTo>
                <a:lnTo>
                  <a:pt x="1332879" y="793221"/>
                </a:lnTo>
                <a:lnTo>
                  <a:pt x="1333143" y="786342"/>
                </a:lnTo>
                <a:lnTo>
                  <a:pt x="1333672" y="779463"/>
                </a:lnTo>
                <a:lnTo>
                  <a:pt x="1334730" y="772583"/>
                </a:lnTo>
                <a:lnTo>
                  <a:pt x="1335788" y="765969"/>
                </a:lnTo>
                <a:lnTo>
                  <a:pt x="1337375" y="759883"/>
                </a:lnTo>
                <a:lnTo>
                  <a:pt x="1339227" y="753269"/>
                </a:lnTo>
                <a:lnTo>
                  <a:pt x="1341608" y="747448"/>
                </a:lnTo>
                <a:lnTo>
                  <a:pt x="1343988" y="741098"/>
                </a:lnTo>
                <a:lnTo>
                  <a:pt x="1346633" y="735013"/>
                </a:lnTo>
                <a:lnTo>
                  <a:pt x="1349807" y="729456"/>
                </a:lnTo>
                <a:lnTo>
                  <a:pt x="1353246" y="723900"/>
                </a:lnTo>
                <a:lnTo>
                  <a:pt x="1356684" y="718344"/>
                </a:lnTo>
                <a:lnTo>
                  <a:pt x="1360652" y="713317"/>
                </a:lnTo>
                <a:lnTo>
                  <a:pt x="1364355" y="708290"/>
                </a:lnTo>
                <a:lnTo>
                  <a:pt x="1368852" y="703527"/>
                </a:lnTo>
                <a:lnTo>
                  <a:pt x="1373348" y="698765"/>
                </a:lnTo>
                <a:lnTo>
                  <a:pt x="1378109" y="694267"/>
                </a:lnTo>
                <a:lnTo>
                  <a:pt x="1383135" y="690298"/>
                </a:lnTo>
                <a:lnTo>
                  <a:pt x="1388161" y="686329"/>
                </a:lnTo>
                <a:lnTo>
                  <a:pt x="1393451" y="682890"/>
                </a:lnTo>
                <a:lnTo>
                  <a:pt x="1399270" y="679186"/>
                </a:lnTo>
                <a:lnTo>
                  <a:pt x="1404824" y="676275"/>
                </a:lnTo>
                <a:lnTo>
                  <a:pt x="1410908" y="673365"/>
                </a:lnTo>
                <a:lnTo>
                  <a:pt x="1416992" y="670454"/>
                </a:lnTo>
                <a:lnTo>
                  <a:pt x="1423075" y="668073"/>
                </a:lnTo>
                <a:lnTo>
                  <a:pt x="1429688" y="666221"/>
                </a:lnTo>
                <a:lnTo>
                  <a:pt x="1436036" y="664369"/>
                </a:lnTo>
                <a:lnTo>
                  <a:pt x="1442649" y="662781"/>
                </a:lnTo>
                <a:lnTo>
                  <a:pt x="1449261" y="661988"/>
                </a:lnTo>
                <a:lnTo>
                  <a:pt x="1456138" y="660929"/>
                </a:lnTo>
                <a:lnTo>
                  <a:pt x="1463280" y="660400"/>
                </a:lnTo>
                <a:close/>
                <a:moveTo>
                  <a:pt x="714108" y="0"/>
                </a:moveTo>
                <a:lnTo>
                  <a:pt x="723364" y="0"/>
                </a:lnTo>
                <a:lnTo>
                  <a:pt x="732621" y="264"/>
                </a:lnTo>
                <a:lnTo>
                  <a:pt x="741349" y="529"/>
                </a:lnTo>
                <a:lnTo>
                  <a:pt x="750606" y="1058"/>
                </a:lnTo>
                <a:lnTo>
                  <a:pt x="759599" y="2115"/>
                </a:lnTo>
                <a:lnTo>
                  <a:pt x="768591" y="3173"/>
                </a:lnTo>
                <a:lnTo>
                  <a:pt x="777319" y="4495"/>
                </a:lnTo>
                <a:lnTo>
                  <a:pt x="786312" y="5817"/>
                </a:lnTo>
                <a:lnTo>
                  <a:pt x="795040" y="7404"/>
                </a:lnTo>
                <a:lnTo>
                  <a:pt x="803503" y="9520"/>
                </a:lnTo>
                <a:lnTo>
                  <a:pt x="812231" y="11635"/>
                </a:lnTo>
                <a:lnTo>
                  <a:pt x="820959" y="14015"/>
                </a:lnTo>
                <a:lnTo>
                  <a:pt x="829158" y="16395"/>
                </a:lnTo>
                <a:lnTo>
                  <a:pt x="837622" y="19039"/>
                </a:lnTo>
                <a:lnTo>
                  <a:pt x="845821" y="21948"/>
                </a:lnTo>
                <a:lnTo>
                  <a:pt x="853755" y="24856"/>
                </a:lnTo>
                <a:lnTo>
                  <a:pt x="861954" y="28294"/>
                </a:lnTo>
                <a:lnTo>
                  <a:pt x="869889" y="31732"/>
                </a:lnTo>
                <a:lnTo>
                  <a:pt x="877559" y="35434"/>
                </a:lnTo>
                <a:lnTo>
                  <a:pt x="885493" y="39136"/>
                </a:lnTo>
                <a:lnTo>
                  <a:pt x="892899" y="43102"/>
                </a:lnTo>
                <a:lnTo>
                  <a:pt x="900569" y="47333"/>
                </a:lnTo>
                <a:lnTo>
                  <a:pt x="907710" y="51299"/>
                </a:lnTo>
                <a:lnTo>
                  <a:pt x="915116" y="56059"/>
                </a:lnTo>
                <a:lnTo>
                  <a:pt x="922257" y="60554"/>
                </a:lnTo>
                <a:lnTo>
                  <a:pt x="929398" y="65314"/>
                </a:lnTo>
                <a:lnTo>
                  <a:pt x="936274" y="70338"/>
                </a:lnTo>
                <a:lnTo>
                  <a:pt x="943151" y="75362"/>
                </a:lnTo>
                <a:lnTo>
                  <a:pt x="949763" y="80915"/>
                </a:lnTo>
                <a:lnTo>
                  <a:pt x="956111" y="86204"/>
                </a:lnTo>
                <a:lnTo>
                  <a:pt x="962458" y="91757"/>
                </a:lnTo>
                <a:lnTo>
                  <a:pt x="968806" y="97575"/>
                </a:lnTo>
                <a:lnTo>
                  <a:pt x="974889" y="103392"/>
                </a:lnTo>
                <a:lnTo>
                  <a:pt x="980972" y="109474"/>
                </a:lnTo>
                <a:lnTo>
                  <a:pt x="986526" y="115556"/>
                </a:lnTo>
                <a:lnTo>
                  <a:pt x="992080" y="121902"/>
                </a:lnTo>
                <a:lnTo>
                  <a:pt x="997635" y="128513"/>
                </a:lnTo>
                <a:lnTo>
                  <a:pt x="1002924" y="134859"/>
                </a:lnTo>
                <a:lnTo>
                  <a:pt x="1008214" y="141470"/>
                </a:lnTo>
                <a:lnTo>
                  <a:pt x="1013239" y="148345"/>
                </a:lnTo>
                <a:lnTo>
                  <a:pt x="1018000" y="155220"/>
                </a:lnTo>
                <a:lnTo>
                  <a:pt x="1022761" y="162360"/>
                </a:lnTo>
                <a:lnTo>
                  <a:pt x="1027257" y="169499"/>
                </a:lnTo>
                <a:lnTo>
                  <a:pt x="1031489" y="176903"/>
                </a:lnTo>
                <a:lnTo>
                  <a:pt x="1035720" y="184043"/>
                </a:lnTo>
                <a:lnTo>
                  <a:pt x="1039688" y="191711"/>
                </a:lnTo>
                <a:lnTo>
                  <a:pt x="1043655" y="199115"/>
                </a:lnTo>
                <a:lnTo>
                  <a:pt x="1047093" y="206784"/>
                </a:lnTo>
                <a:lnTo>
                  <a:pt x="1050532" y="214717"/>
                </a:lnTo>
                <a:lnTo>
                  <a:pt x="1053705" y="222650"/>
                </a:lnTo>
                <a:lnTo>
                  <a:pt x="1057144" y="230318"/>
                </a:lnTo>
                <a:lnTo>
                  <a:pt x="1059788" y="238780"/>
                </a:lnTo>
                <a:lnTo>
                  <a:pt x="1062433" y="246713"/>
                </a:lnTo>
                <a:lnTo>
                  <a:pt x="1064814" y="255175"/>
                </a:lnTo>
                <a:lnTo>
                  <a:pt x="1067194" y="263372"/>
                </a:lnTo>
                <a:lnTo>
                  <a:pt x="1069310" y="271834"/>
                </a:lnTo>
                <a:lnTo>
                  <a:pt x="1070897" y="280031"/>
                </a:lnTo>
                <a:lnTo>
                  <a:pt x="1072484" y="288757"/>
                </a:lnTo>
                <a:lnTo>
                  <a:pt x="1074071" y="297219"/>
                </a:lnTo>
                <a:lnTo>
                  <a:pt x="1075129" y="305945"/>
                </a:lnTo>
                <a:lnTo>
                  <a:pt x="1076186" y="314936"/>
                </a:lnTo>
                <a:lnTo>
                  <a:pt x="1076980" y="323397"/>
                </a:lnTo>
                <a:lnTo>
                  <a:pt x="1077509" y="332388"/>
                </a:lnTo>
                <a:lnTo>
                  <a:pt x="1077773" y="341379"/>
                </a:lnTo>
                <a:lnTo>
                  <a:pt x="1077773" y="350369"/>
                </a:lnTo>
                <a:lnTo>
                  <a:pt x="1077509" y="359360"/>
                </a:lnTo>
                <a:lnTo>
                  <a:pt x="1077244" y="368350"/>
                </a:lnTo>
                <a:lnTo>
                  <a:pt x="1076716" y="377341"/>
                </a:lnTo>
                <a:lnTo>
                  <a:pt x="1075658" y="385803"/>
                </a:lnTo>
                <a:lnTo>
                  <a:pt x="1074600" y="394793"/>
                </a:lnTo>
                <a:lnTo>
                  <a:pt x="1073277" y="403519"/>
                </a:lnTo>
                <a:lnTo>
                  <a:pt x="1071955" y="411981"/>
                </a:lnTo>
                <a:lnTo>
                  <a:pt x="1070103" y="420707"/>
                </a:lnTo>
                <a:lnTo>
                  <a:pt x="1068252" y="428905"/>
                </a:lnTo>
                <a:lnTo>
                  <a:pt x="1065872" y="437366"/>
                </a:lnTo>
                <a:lnTo>
                  <a:pt x="1063756" y="445564"/>
                </a:lnTo>
                <a:lnTo>
                  <a:pt x="1061111" y="454026"/>
                </a:lnTo>
                <a:lnTo>
                  <a:pt x="1058466" y="461958"/>
                </a:lnTo>
                <a:lnTo>
                  <a:pt x="1055557" y="469891"/>
                </a:lnTo>
                <a:lnTo>
                  <a:pt x="1052383" y="478089"/>
                </a:lnTo>
                <a:lnTo>
                  <a:pt x="1048945" y="485757"/>
                </a:lnTo>
                <a:lnTo>
                  <a:pt x="1045506" y="493426"/>
                </a:lnTo>
                <a:lnTo>
                  <a:pt x="1041804" y="501358"/>
                </a:lnTo>
                <a:lnTo>
                  <a:pt x="1038101" y="508762"/>
                </a:lnTo>
                <a:lnTo>
                  <a:pt x="1033869" y="516166"/>
                </a:lnTo>
                <a:lnTo>
                  <a:pt x="1029637" y="523570"/>
                </a:lnTo>
                <a:lnTo>
                  <a:pt x="1025141" y="530710"/>
                </a:lnTo>
                <a:lnTo>
                  <a:pt x="1020380" y="537850"/>
                </a:lnTo>
                <a:lnTo>
                  <a:pt x="1015620" y="544725"/>
                </a:lnTo>
                <a:lnTo>
                  <a:pt x="1010859" y="551864"/>
                </a:lnTo>
                <a:lnTo>
                  <a:pt x="1005834" y="558211"/>
                </a:lnTo>
                <a:lnTo>
                  <a:pt x="1000544" y="564821"/>
                </a:lnTo>
                <a:lnTo>
                  <a:pt x="995254" y="571432"/>
                </a:lnTo>
                <a:lnTo>
                  <a:pt x="989436" y="578043"/>
                </a:lnTo>
                <a:lnTo>
                  <a:pt x="983882" y="584125"/>
                </a:lnTo>
                <a:lnTo>
                  <a:pt x="977798" y="590207"/>
                </a:lnTo>
                <a:lnTo>
                  <a:pt x="971980" y="596024"/>
                </a:lnTo>
                <a:lnTo>
                  <a:pt x="965632" y="601842"/>
                </a:lnTo>
                <a:lnTo>
                  <a:pt x="959549" y="607659"/>
                </a:lnTo>
                <a:lnTo>
                  <a:pt x="953201" y="612948"/>
                </a:lnTo>
                <a:lnTo>
                  <a:pt x="946325" y="618501"/>
                </a:lnTo>
                <a:lnTo>
                  <a:pt x="939713" y="623789"/>
                </a:lnTo>
                <a:lnTo>
                  <a:pt x="933100" y="628813"/>
                </a:lnTo>
                <a:lnTo>
                  <a:pt x="926224" y="633573"/>
                </a:lnTo>
                <a:lnTo>
                  <a:pt x="919083" y="638333"/>
                </a:lnTo>
                <a:lnTo>
                  <a:pt x="911942" y="642828"/>
                </a:lnTo>
                <a:lnTo>
                  <a:pt x="904536" y="647323"/>
                </a:lnTo>
                <a:lnTo>
                  <a:pt x="897131" y="651290"/>
                </a:lnTo>
                <a:lnTo>
                  <a:pt x="889461" y="655521"/>
                </a:lnTo>
                <a:lnTo>
                  <a:pt x="881791" y="659487"/>
                </a:lnTo>
                <a:lnTo>
                  <a:pt x="874120" y="663189"/>
                </a:lnTo>
                <a:lnTo>
                  <a:pt x="866186" y="666627"/>
                </a:lnTo>
                <a:lnTo>
                  <a:pt x="857987" y="670064"/>
                </a:lnTo>
                <a:lnTo>
                  <a:pt x="850052" y="672973"/>
                </a:lnTo>
                <a:lnTo>
                  <a:pt x="841853" y="676146"/>
                </a:lnTo>
                <a:lnTo>
                  <a:pt x="833654" y="679055"/>
                </a:lnTo>
                <a:lnTo>
                  <a:pt x="825455" y="681699"/>
                </a:lnTo>
                <a:lnTo>
                  <a:pt x="816992" y="684079"/>
                </a:lnTo>
                <a:lnTo>
                  <a:pt x="808264" y="686195"/>
                </a:lnTo>
                <a:lnTo>
                  <a:pt x="799800" y="688310"/>
                </a:lnTo>
                <a:lnTo>
                  <a:pt x="791072" y="690161"/>
                </a:lnTo>
                <a:lnTo>
                  <a:pt x="782609" y="691483"/>
                </a:lnTo>
                <a:lnTo>
                  <a:pt x="773616" y="693070"/>
                </a:lnTo>
                <a:lnTo>
                  <a:pt x="764624" y="694128"/>
                </a:lnTo>
                <a:lnTo>
                  <a:pt x="755632" y="695185"/>
                </a:lnTo>
                <a:lnTo>
                  <a:pt x="746639" y="695714"/>
                </a:lnTo>
                <a:lnTo>
                  <a:pt x="737647" y="696243"/>
                </a:lnTo>
                <a:lnTo>
                  <a:pt x="728390" y="696507"/>
                </a:lnTo>
                <a:lnTo>
                  <a:pt x="719133" y="696507"/>
                </a:lnTo>
                <a:lnTo>
                  <a:pt x="709876" y="696507"/>
                </a:lnTo>
                <a:lnTo>
                  <a:pt x="700883" y="695979"/>
                </a:lnTo>
                <a:lnTo>
                  <a:pt x="691891" y="695450"/>
                </a:lnTo>
                <a:lnTo>
                  <a:pt x="682898" y="694392"/>
                </a:lnTo>
                <a:lnTo>
                  <a:pt x="673906" y="693599"/>
                </a:lnTo>
                <a:lnTo>
                  <a:pt x="664913" y="692541"/>
                </a:lnTo>
                <a:lnTo>
                  <a:pt x="656186" y="690954"/>
                </a:lnTo>
                <a:lnTo>
                  <a:pt x="647458" y="689103"/>
                </a:lnTo>
                <a:lnTo>
                  <a:pt x="638730" y="687252"/>
                </a:lnTo>
                <a:lnTo>
                  <a:pt x="630266" y="684872"/>
                </a:lnTo>
                <a:lnTo>
                  <a:pt x="621538" y="683021"/>
                </a:lnTo>
                <a:lnTo>
                  <a:pt x="613339" y="680113"/>
                </a:lnTo>
                <a:lnTo>
                  <a:pt x="604876" y="677468"/>
                </a:lnTo>
                <a:lnTo>
                  <a:pt x="596676" y="674824"/>
                </a:lnTo>
                <a:lnTo>
                  <a:pt x="588478" y="671651"/>
                </a:lnTo>
                <a:lnTo>
                  <a:pt x="580543" y="668213"/>
                </a:lnTo>
                <a:lnTo>
                  <a:pt x="572873" y="665040"/>
                </a:lnTo>
                <a:lnTo>
                  <a:pt x="564674" y="661603"/>
                </a:lnTo>
                <a:lnTo>
                  <a:pt x="557004" y="657636"/>
                </a:lnTo>
                <a:lnTo>
                  <a:pt x="549598" y="653405"/>
                </a:lnTo>
                <a:lnTo>
                  <a:pt x="541928" y="649439"/>
                </a:lnTo>
                <a:lnTo>
                  <a:pt x="534787" y="645208"/>
                </a:lnTo>
                <a:lnTo>
                  <a:pt x="527382" y="640713"/>
                </a:lnTo>
                <a:lnTo>
                  <a:pt x="520241" y="635953"/>
                </a:lnTo>
                <a:lnTo>
                  <a:pt x="513364" y="631193"/>
                </a:lnTo>
                <a:lnTo>
                  <a:pt x="506223" y="626169"/>
                </a:lnTo>
                <a:lnTo>
                  <a:pt x="499611" y="621145"/>
                </a:lnTo>
                <a:lnTo>
                  <a:pt x="492734" y="615592"/>
                </a:lnTo>
                <a:lnTo>
                  <a:pt x="486122" y="610303"/>
                </a:lnTo>
                <a:lnTo>
                  <a:pt x="480039" y="604750"/>
                </a:lnTo>
                <a:lnTo>
                  <a:pt x="473691" y="598933"/>
                </a:lnTo>
                <a:lnTo>
                  <a:pt x="467873" y="593115"/>
                </a:lnTo>
                <a:lnTo>
                  <a:pt x="461790" y="587298"/>
                </a:lnTo>
                <a:lnTo>
                  <a:pt x="455971" y="580952"/>
                </a:lnTo>
                <a:lnTo>
                  <a:pt x="450152" y="574605"/>
                </a:lnTo>
                <a:lnTo>
                  <a:pt x="444863" y="568523"/>
                </a:lnTo>
                <a:lnTo>
                  <a:pt x="439573" y="561913"/>
                </a:lnTo>
                <a:lnTo>
                  <a:pt x="434283" y="555038"/>
                </a:lnTo>
                <a:lnTo>
                  <a:pt x="429258" y="548162"/>
                </a:lnTo>
                <a:lnTo>
                  <a:pt x="424497" y="541287"/>
                </a:lnTo>
                <a:lnTo>
                  <a:pt x="419737" y="534148"/>
                </a:lnTo>
                <a:lnTo>
                  <a:pt x="415240" y="527008"/>
                </a:lnTo>
                <a:lnTo>
                  <a:pt x="411009" y="519868"/>
                </a:lnTo>
                <a:lnTo>
                  <a:pt x="406777" y="512464"/>
                </a:lnTo>
                <a:lnTo>
                  <a:pt x="402545" y="505060"/>
                </a:lnTo>
                <a:lnTo>
                  <a:pt x="398842" y="497392"/>
                </a:lnTo>
                <a:lnTo>
                  <a:pt x="395140" y="489988"/>
                </a:lnTo>
                <a:lnTo>
                  <a:pt x="391966" y="481791"/>
                </a:lnTo>
                <a:lnTo>
                  <a:pt x="388792" y="474122"/>
                </a:lnTo>
                <a:lnTo>
                  <a:pt x="385618" y="466189"/>
                </a:lnTo>
                <a:lnTo>
                  <a:pt x="382709" y="458256"/>
                </a:lnTo>
                <a:lnTo>
                  <a:pt x="380064" y="449795"/>
                </a:lnTo>
                <a:lnTo>
                  <a:pt x="377684" y="441862"/>
                </a:lnTo>
                <a:lnTo>
                  <a:pt x="375303" y="433400"/>
                </a:lnTo>
                <a:lnTo>
                  <a:pt x="373187" y="425203"/>
                </a:lnTo>
                <a:lnTo>
                  <a:pt x="371336" y="416477"/>
                </a:lnTo>
                <a:lnTo>
                  <a:pt x="370014" y="407750"/>
                </a:lnTo>
                <a:lnTo>
                  <a:pt x="368427" y="399289"/>
                </a:lnTo>
                <a:lnTo>
                  <a:pt x="367369" y="390562"/>
                </a:lnTo>
                <a:lnTo>
                  <a:pt x="366311" y="382101"/>
                </a:lnTo>
                <a:lnTo>
                  <a:pt x="365517" y="373110"/>
                </a:lnTo>
                <a:lnTo>
                  <a:pt x="364988" y="364120"/>
                </a:lnTo>
                <a:lnTo>
                  <a:pt x="364724" y="355129"/>
                </a:lnTo>
                <a:lnTo>
                  <a:pt x="364724" y="346403"/>
                </a:lnTo>
                <a:lnTo>
                  <a:pt x="364988" y="337412"/>
                </a:lnTo>
                <a:lnTo>
                  <a:pt x="365253" y="328422"/>
                </a:lnTo>
                <a:lnTo>
                  <a:pt x="365782" y="319695"/>
                </a:lnTo>
                <a:lnTo>
                  <a:pt x="366575" y="310705"/>
                </a:lnTo>
                <a:lnTo>
                  <a:pt x="367898" y="301979"/>
                </a:lnTo>
                <a:lnTo>
                  <a:pt x="368956" y="292988"/>
                </a:lnTo>
                <a:lnTo>
                  <a:pt x="370542" y="284791"/>
                </a:lnTo>
                <a:lnTo>
                  <a:pt x="372394" y="276064"/>
                </a:lnTo>
                <a:lnTo>
                  <a:pt x="374245" y="267603"/>
                </a:lnTo>
                <a:lnTo>
                  <a:pt x="376626" y="259141"/>
                </a:lnTo>
                <a:lnTo>
                  <a:pt x="378477" y="250944"/>
                </a:lnTo>
                <a:lnTo>
                  <a:pt x="381386" y="242746"/>
                </a:lnTo>
                <a:lnTo>
                  <a:pt x="384031" y="234549"/>
                </a:lnTo>
                <a:lnTo>
                  <a:pt x="386940" y="226616"/>
                </a:lnTo>
                <a:lnTo>
                  <a:pt x="390114" y="218683"/>
                </a:lnTo>
                <a:lnTo>
                  <a:pt x="393553" y="210750"/>
                </a:lnTo>
                <a:lnTo>
                  <a:pt x="396991" y="203082"/>
                </a:lnTo>
                <a:lnTo>
                  <a:pt x="400694" y="195678"/>
                </a:lnTo>
                <a:lnTo>
                  <a:pt x="404396" y="187745"/>
                </a:lnTo>
                <a:lnTo>
                  <a:pt x="408628" y="180341"/>
                </a:lnTo>
                <a:lnTo>
                  <a:pt x="412860" y="173201"/>
                </a:lnTo>
                <a:lnTo>
                  <a:pt x="417356" y="165797"/>
                </a:lnTo>
                <a:lnTo>
                  <a:pt x="422117" y="158658"/>
                </a:lnTo>
                <a:lnTo>
                  <a:pt x="426878" y="151783"/>
                </a:lnTo>
                <a:lnTo>
                  <a:pt x="431638" y="144907"/>
                </a:lnTo>
                <a:lnTo>
                  <a:pt x="436664" y="138297"/>
                </a:lnTo>
                <a:lnTo>
                  <a:pt x="441953" y="131686"/>
                </a:lnTo>
                <a:lnTo>
                  <a:pt x="447243" y="125075"/>
                </a:lnTo>
                <a:lnTo>
                  <a:pt x="453062" y="118993"/>
                </a:lnTo>
                <a:lnTo>
                  <a:pt x="458616" y="112647"/>
                </a:lnTo>
                <a:lnTo>
                  <a:pt x="464434" y="106301"/>
                </a:lnTo>
                <a:lnTo>
                  <a:pt x="470518" y="100483"/>
                </a:lnTo>
                <a:lnTo>
                  <a:pt x="476865" y="94666"/>
                </a:lnTo>
                <a:lnTo>
                  <a:pt x="482948" y="89113"/>
                </a:lnTo>
                <a:lnTo>
                  <a:pt x="489560" y="83560"/>
                </a:lnTo>
                <a:lnTo>
                  <a:pt x="496172" y="78271"/>
                </a:lnTo>
                <a:lnTo>
                  <a:pt x="502520" y="72983"/>
                </a:lnTo>
                <a:lnTo>
                  <a:pt x="509397" y="67958"/>
                </a:lnTo>
                <a:lnTo>
                  <a:pt x="516538" y="62934"/>
                </a:lnTo>
                <a:lnTo>
                  <a:pt x="523414" y="58175"/>
                </a:lnTo>
                <a:lnTo>
                  <a:pt x="530820" y="53679"/>
                </a:lnTo>
                <a:lnTo>
                  <a:pt x="537961" y="49184"/>
                </a:lnTo>
                <a:lnTo>
                  <a:pt x="545367" y="45217"/>
                </a:lnTo>
                <a:lnTo>
                  <a:pt x="553301" y="40987"/>
                </a:lnTo>
                <a:lnTo>
                  <a:pt x="560707" y="37020"/>
                </a:lnTo>
                <a:lnTo>
                  <a:pt x="568377" y="33583"/>
                </a:lnTo>
                <a:lnTo>
                  <a:pt x="576311" y="29881"/>
                </a:lnTo>
                <a:lnTo>
                  <a:pt x="584510" y="26707"/>
                </a:lnTo>
                <a:lnTo>
                  <a:pt x="592445" y="23534"/>
                </a:lnTo>
                <a:lnTo>
                  <a:pt x="600379" y="20361"/>
                </a:lnTo>
                <a:lnTo>
                  <a:pt x="608843" y="17717"/>
                </a:lnTo>
                <a:lnTo>
                  <a:pt x="617042" y="15073"/>
                </a:lnTo>
                <a:lnTo>
                  <a:pt x="625505" y="12693"/>
                </a:lnTo>
                <a:lnTo>
                  <a:pt x="633969" y="10313"/>
                </a:lnTo>
                <a:lnTo>
                  <a:pt x="642697" y="8462"/>
                </a:lnTo>
                <a:lnTo>
                  <a:pt x="651425" y="6875"/>
                </a:lnTo>
                <a:lnTo>
                  <a:pt x="659888" y="5024"/>
                </a:lnTo>
                <a:lnTo>
                  <a:pt x="668881" y="3702"/>
                </a:lnTo>
                <a:lnTo>
                  <a:pt x="677873" y="2644"/>
                </a:lnTo>
                <a:lnTo>
                  <a:pt x="686601" y="1851"/>
                </a:lnTo>
                <a:lnTo>
                  <a:pt x="695858" y="793"/>
                </a:lnTo>
                <a:lnTo>
                  <a:pt x="704851" y="264"/>
                </a:lnTo>
                <a:lnTo>
                  <a:pt x="714108" y="0"/>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KSO_Shape"/>
          <p:cNvSpPr/>
          <p:nvPr/>
        </p:nvSpPr>
        <p:spPr>
          <a:xfrm>
            <a:off x="4923000" y="2532240"/>
            <a:ext cx="895320" cy="610920"/>
          </a:xfrm>
          <a:custGeom>
            <a:avLst/>
            <a:gdLst/>
            <a:ahLst/>
            <a:rect l="l" t="t" r="r" b="b"/>
            <a:pathLst>
              <a:path w="2608263" h="1778000">
                <a:moveTo>
                  <a:pt x="1956693" y="381000"/>
                </a:moveTo>
                <a:lnTo>
                  <a:pt x="1966217" y="381397"/>
                </a:lnTo>
                <a:lnTo>
                  <a:pt x="1975740" y="382192"/>
                </a:lnTo>
                <a:lnTo>
                  <a:pt x="1986057" y="382986"/>
                </a:lnTo>
                <a:lnTo>
                  <a:pt x="1995581" y="384575"/>
                </a:lnTo>
                <a:lnTo>
                  <a:pt x="2005501" y="386562"/>
                </a:lnTo>
                <a:lnTo>
                  <a:pt x="2015819" y="388548"/>
                </a:lnTo>
                <a:lnTo>
                  <a:pt x="2025739" y="391726"/>
                </a:lnTo>
                <a:lnTo>
                  <a:pt x="2035263" y="394904"/>
                </a:lnTo>
                <a:lnTo>
                  <a:pt x="2045580" y="398876"/>
                </a:lnTo>
                <a:lnTo>
                  <a:pt x="2055500" y="403246"/>
                </a:lnTo>
                <a:lnTo>
                  <a:pt x="2065421" y="408807"/>
                </a:lnTo>
                <a:lnTo>
                  <a:pt x="2075738" y="414766"/>
                </a:lnTo>
                <a:lnTo>
                  <a:pt x="2101927" y="438998"/>
                </a:lnTo>
                <a:lnTo>
                  <a:pt x="2143990" y="446149"/>
                </a:lnTo>
                <a:lnTo>
                  <a:pt x="2147958" y="448929"/>
                </a:lnTo>
                <a:lnTo>
                  <a:pt x="2151926" y="452107"/>
                </a:lnTo>
                <a:lnTo>
                  <a:pt x="2155497" y="455683"/>
                </a:lnTo>
                <a:lnTo>
                  <a:pt x="2158672" y="459655"/>
                </a:lnTo>
                <a:lnTo>
                  <a:pt x="2161847" y="464025"/>
                </a:lnTo>
                <a:lnTo>
                  <a:pt x="2164624" y="468395"/>
                </a:lnTo>
                <a:lnTo>
                  <a:pt x="2169783" y="477531"/>
                </a:lnTo>
                <a:lnTo>
                  <a:pt x="2173751" y="485874"/>
                </a:lnTo>
                <a:lnTo>
                  <a:pt x="2176529" y="493024"/>
                </a:lnTo>
                <a:lnTo>
                  <a:pt x="2179306" y="499380"/>
                </a:lnTo>
                <a:lnTo>
                  <a:pt x="2182878" y="516064"/>
                </a:lnTo>
                <a:lnTo>
                  <a:pt x="2186052" y="532749"/>
                </a:lnTo>
                <a:lnTo>
                  <a:pt x="2188036" y="549433"/>
                </a:lnTo>
                <a:lnTo>
                  <a:pt x="2189623" y="565720"/>
                </a:lnTo>
                <a:lnTo>
                  <a:pt x="2190417" y="582008"/>
                </a:lnTo>
                <a:lnTo>
                  <a:pt x="2190814" y="598692"/>
                </a:lnTo>
                <a:lnTo>
                  <a:pt x="2190814" y="615376"/>
                </a:lnTo>
                <a:lnTo>
                  <a:pt x="2190417" y="632855"/>
                </a:lnTo>
                <a:lnTo>
                  <a:pt x="2190020" y="642389"/>
                </a:lnTo>
                <a:lnTo>
                  <a:pt x="2188830" y="656293"/>
                </a:lnTo>
                <a:lnTo>
                  <a:pt x="2185259" y="692840"/>
                </a:lnTo>
                <a:lnTo>
                  <a:pt x="2183671" y="711908"/>
                </a:lnTo>
                <a:lnTo>
                  <a:pt x="2182878" y="730578"/>
                </a:lnTo>
                <a:lnTo>
                  <a:pt x="2182084" y="746468"/>
                </a:lnTo>
                <a:lnTo>
                  <a:pt x="2182481" y="753221"/>
                </a:lnTo>
                <a:lnTo>
                  <a:pt x="2182878" y="758386"/>
                </a:lnTo>
                <a:lnTo>
                  <a:pt x="2183671" y="765139"/>
                </a:lnTo>
                <a:lnTo>
                  <a:pt x="2184862" y="771098"/>
                </a:lnTo>
                <a:lnTo>
                  <a:pt x="2186449" y="775865"/>
                </a:lnTo>
                <a:lnTo>
                  <a:pt x="2188433" y="779837"/>
                </a:lnTo>
                <a:lnTo>
                  <a:pt x="2192798" y="787782"/>
                </a:lnTo>
                <a:lnTo>
                  <a:pt x="2195179" y="792152"/>
                </a:lnTo>
                <a:lnTo>
                  <a:pt x="2198353" y="798508"/>
                </a:lnTo>
                <a:lnTo>
                  <a:pt x="2200734" y="804069"/>
                </a:lnTo>
                <a:lnTo>
                  <a:pt x="2202719" y="810028"/>
                </a:lnTo>
                <a:lnTo>
                  <a:pt x="2204306" y="815987"/>
                </a:lnTo>
                <a:lnTo>
                  <a:pt x="2205496" y="822343"/>
                </a:lnTo>
                <a:lnTo>
                  <a:pt x="2206687" y="829096"/>
                </a:lnTo>
                <a:lnTo>
                  <a:pt x="2207480" y="835452"/>
                </a:lnTo>
                <a:lnTo>
                  <a:pt x="2207877" y="842205"/>
                </a:lnTo>
                <a:lnTo>
                  <a:pt x="2207877" y="848561"/>
                </a:lnTo>
                <a:lnTo>
                  <a:pt x="2207480" y="862465"/>
                </a:lnTo>
                <a:lnTo>
                  <a:pt x="2206290" y="875177"/>
                </a:lnTo>
                <a:lnTo>
                  <a:pt x="2204306" y="887889"/>
                </a:lnTo>
                <a:lnTo>
                  <a:pt x="2202321" y="899806"/>
                </a:lnTo>
                <a:lnTo>
                  <a:pt x="2199544" y="913312"/>
                </a:lnTo>
                <a:lnTo>
                  <a:pt x="2197560" y="920463"/>
                </a:lnTo>
                <a:lnTo>
                  <a:pt x="2195179" y="927613"/>
                </a:lnTo>
                <a:lnTo>
                  <a:pt x="2192798" y="934367"/>
                </a:lnTo>
                <a:lnTo>
                  <a:pt x="2190020" y="941517"/>
                </a:lnTo>
                <a:lnTo>
                  <a:pt x="2186846" y="947873"/>
                </a:lnTo>
                <a:lnTo>
                  <a:pt x="2183275" y="953037"/>
                </a:lnTo>
                <a:lnTo>
                  <a:pt x="2181291" y="955818"/>
                </a:lnTo>
                <a:lnTo>
                  <a:pt x="2178909" y="958201"/>
                </a:lnTo>
                <a:lnTo>
                  <a:pt x="2176132" y="960188"/>
                </a:lnTo>
                <a:lnTo>
                  <a:pt x="2173354" y="961777"/>
                </a:lnTo>
                <a:lnTo>
                  <a:pt x="2167799" y="965749"/>
                </a:lnTo>
                <a:lnTo>
                  <a:pt x="2162243" y="968530"/>
                </a:lnTo>
                <a:lnTo>
                  <a:pt x="2156291" y="971708"/>
                </a:lnTo>
                <a:lnTo>
                  <a:pt x="2151133" y="975283"/>
                </a:lnTo>
                <a:lnTo>
                  <a:pt x="2147958" y="977269"/>
                </a:lnTo>
                <a:lnTo>
                  <a:pt x="2145974" y="979653"/>
                </a:lnTo>
                <a:lnTo>
                  <a:pt x="2143593" y="982434"/>
                </a:lnTo>
                <a:lnTo>
                  <a:pt x="2142006" y="985612"/>
                </a:lnTo>
                <a:lnTo>
                  <a:pt x="2139625" y="990379"/>
                </a:lnTo>
                <a:lnTo>
                  <a:pt x="2137641" y="995543"/>
                </a:lnTo>
                <a:lnTo>
                  <a:pt x="2136450" y="1000707"/>
                </a:lnTo>
                <a:lnTo>
                  <a:pt x="2135260" y="1005871"/>
                </a:lnTo>
                <a:lnTo>
                  <a:pt x="2134466" y="1011433"/>
                </a:lnTo>
                <a:lnTo>
                  <a:pt x="2133673" y="1016597"/>
                </a:lnTo>
                <a:lnTo>
                  <a:pt x="2132879" y="1028514"/>
                </a:lnTo>
                <a:lnTo>
                  <a:pt x="2132085" y="1039637"/>
                </a:lnTo>
                <a:lnTo>
                  <a:pt x="2131292" y="1051158"/>
                </a:lnTo>
                <a:lnTo>
                  <a:pt x="2130895" y="1056719"/>
                </a:lnTo>
                <a:lnTo>
                  <a:pt x="2130101" y="1061883"/>
                </a:lnTo>
                <a:lnTo>
                  <a:pt x="2128911" y="1067445"/>
                </a:lnTo>
                <a:lnTo>
                  <a:pt x="2127721" y="1072212"/>
                </a:lnTo>
                <a:lnTo>
                  <a:pt x="2125736" y="1078170"/>
                </a:lnTo>
                <a:lnTo>
                  <a:pt x="2123355" y="1082937"/>
                </a:lnTo>
                <a:lnTo>
                  <a:pt x="2120578" y="1087307"/>
                </a:lnTo>
                <a:lnTo>
                  <a:pt x="2117800" y="1091280"/>
                </a:lnTo>
                <a:lnTo>
                  <a:pt x="2112245" y="1098430"/>
                </a:lnTo>
                <a:lnTo>
                  <a:pt x="2106293" y="1105183"/>
                </a:lnTo>
                <a:lnTo>
                  <a:pt x="2103515" y="1109156"/>
                </a:lnTo>
                <a:lnTo>
                  <a:pt x="2101134" y="1112731"/>
                </a:lnTo>
                <a:lnTo>
                  <a:pt x="2098356" y="1116703"/>
                </a:lnTo>
                <a:lnTo>
                  <a:pt x="2096372" y="1121470"/>
                </a:lnTo>
                <a:lnTo>
                  <a:pt x="2093991" y="1126237"/>
                </a:lnTo>
                <a:lnTo>
                  <a:pt x="2092801" y="1131799"/>
                </a:lnTo>
                <a:lnTo>
                  <a:pt x="2091610" y="1138155"/>
                </a:lnTo>
                <a:lnTo>
                  <a:pt x="2090817" y="1145305"/>
                </a:lnTo>
                <a:lnTo>
                  <a:pt x="2127721" y="1150470"/>
                </a:lnTo>
                <a:lnTo>
                  <a:pt x="2138435" y="1173907"/>
                </a:lnTo>
                <a:lnTo>
                  <a:pt x="2144783" y="1187016"/>
                </a:lnTo>
                <a:lnTo>
                  <a:pt x="2152323" y="1201317"/>
                </a:lnTo>
                <a:lnTo>
                  <a:pt x="2159863" y="1214426"/>
                </a:lnTo>
                <a:lnTo>
                  <a:pt x="2163831" y="1220782"/>
                </a:lnTo>
                <a:lnTo>
                  <a:pt x="2167799" y="1226741"/>
                </a:lnTo>
                <a:lnTo>
                  <a:pt x="2171767" y="1231905"/>
                </a:lnTo>
                <a:lnTo>
                  <a:pt x="2175735" y="1236672"/>
                </a:lnTo>
                <a:lnTo>
                  <a:pt x="2180497" y="1240645"/>
                </a:lnTo>
                <a:lnTo>
                  <a:pt x="2184862" y="1243823"/>
                </a:lnTo>
                <a:lnTo>
                  <a:pt x="2241606" y="1259713"/>
                </a:lnTo>
                <a:lnTo>
                  <a:pt x="2293192" y="1281164"/>
                </a:lnTo>
                <a:lnTo>
                  <a:pt x="2345572" y="1303807"/>
                </a:lnTo>
                <a:lnTo>
                  <a:pt x="2397951" y="1326053"/>
                </a:lnTo>
                <a:lnTo>
                  <a:pt x="2449140" y="1347902"/>
                </a:lnTo>
                <a:lnTo>
                  <a:pt x="2461045" y="1352669"/>
                </a:lnTo>
                <a:lnTo>
                  <a:pt x="2472552" y="1356641"/>
                </a:lnTo>
                <a:lnTo>
                  <a:pt x="2496361" y="1365381"/>
                </a:lnTo>
                <a:lnTo>
                  <a:pt x="2519773" y="1373723"/>
                </a:lnTo>
                <a:lnTo>
                  <a:pt x="2530884" y="1378093"/>
                </a:lnTo>
                <a:lnTo>
                  <a:pt x="2541995" y="1382860"/>
                </a:lnTo>
                <a:lnTo>
                  <a:pt x="2552312" y="1388421"/>
                </a:lnTo>
                <a:lnTo>
                  <a:pt x="2562233" y="1394380"/>
                </a:lnTo>
                <a:lnTo>
                  <a:pt x="2566597" y="1397558"/>
                </a:lnTo>
                <a:lnTo>
                  <a:pt x="2571756" y="1400736"/>
                </a:lnTo>
                <a:lnTo>
                  <a:pt x="2576121" y="1404311"/>
                </a:lnTo>
                <a:lnTo>
                  <a:pt x="2580089" y="1407886"/>
                </a:lnTo>
                <a:lnTo>
                  <a:pt x="2584057" y="1411859"/>
                </a:lnTo>
                <a:lnTo>
                  <a:pt x="2587629" y="1416228"/>
                </a:lnTo>
                <a:lnTo>
                  <a:pt x="2591200" y="1420598"/>
                </a:lnTo>
                <a:lnTo>
                  <a:pt x="2594375" y="1425365"/>
                </a:lnTo>
                <a:lnTo>
                  <a:pt x="2597946" y="1430132"/>
                </a:lnTo>
                <a:lnTo>
                  <a:pt x="2600723" y="1435296"/>
                </a:lnTo>
                <a:lnTo>
                  <a:pt x="2603105" y="1440858"/>
                </a:lnTo>
                <a:lnTo>
                  <a:pt x="2605089" y="1446817"/>
                </a:lnTo>
                <a:lnTo>
                  <a:pt x="2605485" y="1465487"/>
                </a:lnTo>
                <a:lnTo>
                  <a:pt x="2605882" y="1488528"/>
                </a:lnTo>
                <a:lnTo>
                  <a:pt x="2607073" y="1542951"/>
                </a:lnTo>
                <a:lnTo>
                  <a:pt x="2608263" y="1599757"/>
                </a:lnTo>
                <a:lnTo>
                  <a:pt x="2608263" y="1625975"/>
                </a:lnTo>
                <a:lnTo>
                  <a:pt x="2608263" y="1649413"/>
                </a:lnTo>
                <a:lnTo>
                  <a:pt x="2308271" y="1649413"/>
                </a:lnTo>
                <a:lnTo>
                  <a:pt x="2307081" y="1594196"/>
                </a:lnTo>
                <a:lnTo>
                  <a:pt x="2305493" y="1538581"/>
                </a:lnTo>
                <a:lnTo>
                  <a:pt x="2305097" y="1494486"/>
                </a:lnTo>
                <a:lnTo>
                  <a:pt x="2305097" y="1482172"/>
                </a:lnTo>
                <a:lnTo>
                  <a:pt x="2301129" y="1470651"/>
                </a:lnTo>
                <a:lnTo>
                  <a:pt x="2297557" y="1461117"/>
                </a:lnTo>
                <a:lnTo>
                  <a:pt x="2293986" y="1451981"/>
                </a:lnTo>
                <a:lnTo>
                  <a:pt x="2289224" y="1443241"/>
                </a:lnTo>
                <a:lnTo>
                  <a:pt x="2284859" y="1434899"/>
                </a:lnTo>
                <a:lnTo>
                  <a:pt x="2280097" y="1426954"/>
                </a:lnTo>
                <a:lnTo>
                  <a:pt x="2275335" y="1419406"/>
                </a:lnTo>
                <a:lnTo>
                  <a:pt x="2270177" y="1411859"/>
                </a:lnTo>
                <a:lnTo>
                  <a:pt x="2264621" y="1405106"/>
                </a:lnTo>
                <a:lnTo>
                  <a:pt x="2258669" y="1398352"/>
                </a:lnTo>
                <a:lnTo>
                  <a:pt x="2252717" y="1391996"/>
                </a:lnTo>
                <a:lnTo>
                  <a:pt x="2246765" y="1386435"/>
                </a:lnTo>
                <a:lnTo>
                  <a:pt x="2240416" y="1380079"/>
                </a:lnTo>
                <a:lnTo>
                  <a:pt x="2234067" y="1374915"/>
                </a:lnTo>
                <a:lnTo>
                  <a:pt x="2226924" y="1369750"/>
                </a:lnTo>
                <a:lnTo>
                  <a:pt x="2220178" y="1364983"/>
                </a:lnTo>
                <a:lnTo>
                  <a:pt x="2213433" y="1360217"/>
                </a:lnTo>
                <a:lnTo>
                  <a:pt x="2206290" y="1355450"/>
                </a:lnTo>
                <a:lnTo>
                  <a:pt x="2198750" y="1351080"/>
                </a:lnTo>
                <a:lnTo>
                  <a:pt x="2184465" y="1343532"/>
                </a:lnTo>
                <a:lnTo>
                  <a:pt x="2169386" y="1336382"/>
                </a:lnTo>
                <a:lnTo>
                  <a:pt x="2154307" y="1330026"/>
                </a:lnTo>
                <a:lnTo>
                  <a:pt x="2139228" y="1323670"/>
                </a:lnTo>
                <a:lnTo>
                  <a:pt x="2124546" y="1318108"/>
                </a:lnTo>
                <a:lnTo>
                  <a:pt x="2095578" y="1307780"/>
                </a:lnTo>
                <a:lnTo>
                  <a:pt x="2067405" y="1297849"/>
                </a:lnTo>
                <a:lnTo>
                  <a:pt x="2053913" y="1293082"/>
                </a:lnTo>
                <a:lnTo>
                  <a:pt x="2041215" y="1287917"/>
                </a:lnTo>
                <a:lnTo>
                  <a:pt x="1985264" y="1263685"/>
                </a:lnTo>
                <a:lnTo>
                  <a:pt x="1926932" y="1239056"/>
                </a:lnTo>
                <a:lnTo>
                  <a:pt x="1840427" y="1202112"/>
                </a:lnTo>
                <a:lnTo>
                  <a:pt x="1797571" y="1183441"/>
                </a:lnTo>
                <a:lnTo>
                  <a:pt x="1755111" y="1166359"/>
                </a:lnTo>
                <a:lnTo>
                  <a:pt x="1762651" y="1150470"/>
                </a:lnTo>
                <a:lnTo>
                  <a:pt x="1790031" y="1143716"/>
                </a:lnTo>
                <a:lnTo>
                  <a:pt x="1788047" y="1138155"/>
                </a:lnTo>
                <a:lnTo>
                  <a:pt x="1786460" y="1132196"/>
                </a:lnTo>
                <a:lnTo>
                  <a:pt x="1784873" y="1127429"/>
                </a:lnTo>
                <a:lnTo>
                  <a:pt x="1782492" y="1123457"/>
                </a:lnTo>
                <a:lnTo>
                  <a:pt x="1780111" y="1119484"/>
                </a:lnTo>
                <a:lnTo>
                  <a:pt x="1777730" y="1115909"/>
                </a:lnTo>
                <a:lnTo>
                  <a:pt x="1772571" y="1109950"/>
                </a:lnTo>
                <a:lnTo>
                  <a:pt x="1767413" y="1103594"/>
                </a:lnTo>
                <a:lnTo>
                  <a:pt x="1762254" y="1097636"/>
                </a:lnTo>
                <a:lnTo>
                  <a:pt x="1759476" y="1094458"/>
                </a:lnTo>
                <a:lnTo>
                  <a:pt x="1757095" y="1091280"/>
                </a:lnTo>
                <a:lnTo>
                  <a:pt x="1755111" y="1087307"/>
                </a:lnTo>
                <a:lnTo>
                  <a:pt x="1753524" y="1082937"/>
                </a:lnTo>
                <a:lnTo>
                  <a:pt x="1743207" y="973694"/>
                </a:lnTo>
                <a:lnTo>
                  <a:pt x="1743207" y="974091"/>
                </a:lnTo>
                <a:lnTo>
                  <a:pt x="1742413" y="974091"/>
                </a:lnTo>
                <a:lnTo>
                  <a:pt x="1739636" y="973694"/>
                </a:lnTo>
                <a:lnTo>
                  <a:pt x="1730112" y="972105"/>
                </a:lnTo>
                <a:lnTo>
                  <a:pt x="1720985" y="969324"/>
                </a:lnTo>
                <a:lnTo>
                  <a:pt x="1717414" y="968133"/>
                </a:lnTo>
                <a:lnTo>
                  <a:pt x="1715033" y="967338"/>
                </a:lnTo>
                <a:lnTo>
                  <a:pt x="1711065" y="963763"/>
                </a:lnTo>
                <a:lnTo>
                  <a:pt x="1707097" y="960188"/>
                </a:lnTo>
                <a:lnTo>
                  <a:pt x="1703129" y="955818"/>
                </a:lnTo>
                <a:lnTo>
                  <a:pt x="1699954" y="950654"/>
                </a:lnTo>
                <a:lnTo>
                  <a:pt x="1697177" y="945490"/>
                </a:lnTo>
                <a:lnTo>
                  <a:pt x="1694399" y="939531"/>
                </a:lnTo>
                <a:lnTo>
                  <a:pt x="1692018" y="932778"/>
                </a:lnTo>
                <a:lnTo>
                  <a:pt x="1689637" y="926422"/>
                </a:lnTo>
                <a:lnTo>
                  <a:pt x="1688050" y="919668"/>
                </a:lnTo>
                <a:lnTo>
                  <a:pt x="1686066" y="912518"/>
                </a:lnTo>
                <a:lnTo>
                  <a:pt x="1683288" y="897423"/>
                </a:lnTo>
                <a:lnTo>
                  <a:pt x="1681304" y="882327"/>
                </a:lnTo>
                <a:lnTo>
                  <a:pt x="1679717" y="867232"/>
                </a:lnTo>
                <a:lnTo>
                  <a:pt x="1684875" y="862465"/>
                </a:lnTo>
                <a:lnTo>
                  <a:pt x="1689637" y="857698"/>
                </a:lnTo>
                <a:lnTo>
                  <a:pt x="1694796" y="851739"/>
                </a:lnTo>
                <a:lnTo>
                  <a:pt x="1699161" y="845780"/>
                </a:lnTo>
                <a:lnTo>
                  <a:pt x="1703525" y="839424"/>
                </a:lnTo>
                <a:lnTo>
                  <a:pt x="1707891" y="832671"/>
                </a:lnTo>
                <a:lnTo>
                  <a:pt x="1711462" y="825918"/>
                </a:lnTo>
                <a:lnTo>
                  <a:pt x="1715033" y="818767"/>
                </a:lnTo>
                <a:lnTo>
                  <a:pt x="1718208" y="811617"/>
                </a:lnTo>
                <a:lnTo>
                  <a:pt x="1720985" y="804466"/>
                </a:lnTo>
                <a:lnTo>
                  <a:pt x="1726144" y="790166"/>
                </a:lnTo>
                <a:lnTo>
                  <a:pt x="1730509" y="776262"/>
                </a:lnTo>
                <a:lnTo>
                  <a:pt x="1734080" y="762755"/>
                </a:lnTo>
                <a:lnTo>
                  <a:pt x="1736858" y="750838"/>
                </a:lnTo>
                <a:lnTo>
                  <a:pt x="1738842" y="740510"/>
                </a:lnTo>
                <a:lnTo>
                  <a:pt x="1742413" y="720647"/>
                </a:lnTo>
                <a:lnTo>
                  <a:pt x="1743604" y="709524"/>
                </a:lnTo>
                <a:lnTo>
                  <a:pt x="1745191" y="698798"/>
                </a:lnTo>
                <a:lnTo>
                  <a:pt x="1746381" y="687278"/>
                </a:lnTo>
                <a:lnTo>
                  <a:pt x="1747175" y="675361"/>
                </a:lnTo>
                <a:lnTo>
                  <a:pt x="1747572" y="663443"/>
                </a:lnTo>
                <a:lnTo>
                  <a:pt x="1747572" y="651129"/>
                </a:lnTo>
                <a:lnTo>
                  <a:pt x="1747175" y="638814"/>
                </a:lnTo>
                <a:lnTo>
                  <a:pt x="1746381" y="626102"/>
                </a:lnTo>
                <a:lnTo>
                  <a:pt x="1744794" y="613787"/>
                </a:lnTo>
                <a:lnTo>
                  <a:pt x="1742810" y="601473"/>
                </a:lnTo>
                <a:lnTo>
                  <a:pt x="1740033" y="589158"/>
                </a:lnTo>
                <a:lnTo>
                  <a:pt x="1736461" y="576843"/>
                </a:lnTo>
                <a:lnTo>
                  <a:pt x="1732096" y="564529"/>
                </a:lnTo>
                <a:lnTo>
                  <a:pt x="1726937" y="553008"/>
                </a:lnTo>
                <a:lnTo>
                  <a:pt x="1723366" y="546255"/>
                </a:lnTo>
                <a:lnTo>
                  <a:pt x="1720192" y="539899"/>
                </a:lnTo>
                <a:lnTo>
                  <a:pt x="1715033" y="530365"/>
                </a:lnTo>
                <a:lnTo>
                  <a:pt x="1712652" y="526393"/>
                </a:lnTo>
                <a:lnTo>
                  <a:pt x="1711859" y="521229"/>
                </a:lnTo>
                <a:lnTo>
                  <a:pt x="1711859" y="516064"/>
                </a:lnTo>
                <a:lnTo>
                  <a:pt x="1711462" y="509708"/>
                </a:lnTo>
                <a:lnTo>
                  <a:pt x="1712255" y="493421"/>
                </a:lnTo>
                <a:lnTo>
                  <a:pt x="1716223" y="486271"/>
                </a:lnTo>
                <a:lnTo>
                  <a:pt x="1720192" y="479915"/>
                </a:lnTo>
                <a:lnTo>
                  <a:pt x="1724557" y="473559"/>
                </a:lnTo>
                <a:lnTo>
                  <a:pt x="1728922" y="467600"/>
                </a:lnTo>
                <a:lnTo>
                  <a:pt x="1734080" y="462039"/>
                </a:lnTo>
                <a:lnTo>
                  <a:pt x="1738842" y="456477"/>
                </a:lnTo>
                <a:lnTo>
                  <a:pt x="1743604" y="451313"/>
                </a:lnTo>
                <a:lnTo>
                  <a:pt x="1748762" y="446546"/>
                </a:lnTo>
                <a:lnTo>
                  <a:pt x="1754318" y="442176"/>
                </a:lnTo>
                <a:lnTo>
                  <a:pt x="1759476" y="438204"/>
                </a:lnTo>
                <a:lnTo>
                  <a:pt x="1765429" y="434231"/>
                </a:lnTo>
                <a:lnTo>
                  <a:pt x="1771381" y="430259"/>
                </a:lnTo>
                <a:lnTo>
                  <a:pt x="1776936" y="427081"/>
                </a:lnTo>
                <a:lnTo>
                  <a:pt x="1782888" y="424300"/>
                </a:lnTo>
                <a:lnTo>
                  <a:pt x="1789634" y="421917"/>
                </a:lnTo>
                <a:lnTo>
                  <a:pt x="1795587" y="419533"/>
                </a:lnTo>
                <a:lnTo>
                  <a:pt x="1820983" y="409999"/>
                </a:lnTo>
                <a:lnTo>
                  <a:pt x="1834871" y="404438"/>
                </a:lnTo>
                <a:lnTo>
                  <a:pt x="1849950" y="399273"/>
                </a:lnTo>
                <a:lnTo>
                  <a:pt x="1865823" y="394506"/>
                </a:lnTo>
                <a:lnTo>
                  <a:pt x="1882886" y="390137"/>
                </a:lnTo>
                <a:lnTo>
                  <a:pt x="1900742" y="386562"/>
                </a:lnTo>
                <a:lnTo>
                  <a:pt x="1909472" y="384973"/>
                </a:lnTo>
                <a:lnTo>
                  <a:pt x="1918599" y="383384"/>
                </a:lnTo>
                <a:lnTo>
                  <a:pt x="1927726" y="382589"/>
                </a:lnTo>
                <a:lnTo>
                  <a:pt x="1937249" y="381795"/>
                </a:lnTo>
                <a:lnTo>
                  <a:pt x="1946773" y="381397"/>
                </a:lnTo>
                <a:lnTo>
                  <a:pt x="1956693" y="381000"/>
                </a:lnTo>
                <a:close/>
                <a:moveTo>
                  <a:pt x="674585" y="381000"/>
                </a:moveTo>
                <a:lnTo>
                  <a:pt x="684505" y="381397"/>
                </a:lnTo>
                <a:lnTo>
                  <a:pt x="694029" y="382192"/>
                </a:lnTo>
                <a:lnTo>
                  <a:pt x="703552" y="382986"/>
                </a:lnTo>
                <a:lnTo>
                  <a:pt x="713870" y="384575"/>
                </a:lnTo>
                <a:lnTo>
                  <a:pt x="723790" y="386562"/>
                </a:lnTo>
                <a:lnTo>
                  <a:pt x="733710" y="388548"/>
                </a:lnTo>
                <a:lnTo>
                  <a:pt x="743631" y="391726"/>
                </a:lnTo>
                <a:lnTo>
                  <a:pt x="753551" y="394904"/>
                </a:lnTo>
                <a:lnTo>
                  <a:pt x="763868" y="398876"/>
                </a:lnTo>
                <a:lnTo>
                  <a:pt x="773789" y="403246"/>
                </a:lnTo>
                <a:lnTo>
                  <a:pt x="783709" y="408807"/>
                </a:lnTo>
                <a:lnTo>
                  <a:pt x="793629" y="414766"/>
                </a:lnTo>
                <a:lnTo>
                  <a:pt x="820216" y="438998"/>
                </a:lnTo>
                <a:lnTo>
                  <a:pt x="861088" y="446149"/>
                </a:lnTo>
                <a:lnTo>
                  <a:pt x="863866" y="468792"/>
                </a:lnTo>
                <a:lnTo>
                  <a:pt x="867040" y="491832"/>
                </a:lnTo>
                <a:lnTo>
                  <a:pt x="871008" y="514873"/>
                </a:lnTo>
                <a:lnTo>
                  <a:pt x="876167" y="539105"/>
                </a:lnTo>
                <a:lnTo>
                  <a:pt x="871405" y="548241"/>
                </a:lnTo>
                <a:lnTo>
                  <a:pt x="868231" y="554200"/>
                </a:lnTo>
                <a:lnTo>
                  <a:pt x="864659" y="560556"/>
                </a:lnTo>
                <a:lnTo>
                  <a:pt x="861088" y="568501"/>
                </a:lnTo>
                <a:lnTo>
                  <a:pt x="858310" y="577241"/>
                </a:lnTo>
                <a:lnTo>
                  <a:pt x="855533" y="586377"/>
                </a:lnTo>
                <a:lnTo>
                  <a:pt x="854342" y="591144"/>
                </a:lnTo>
                <a:lnTo>
                  <a:pt x="853548" y="596309"/>
                </a:lnTo>
                <a:lnTo>
                  <a:pt x="853152" y="602267"/>
                </a:lnTo>
                <a:lnTo>
                  <a:pt x="852755" y="607431"/>
                </a:lnTo>
                <a:lnTo>
                  <a:pt x="852755" y="613390"/>
                </a:lnTo>
                <a:lnTo>
                  <a:pt x="853152" y="619349"/>
                </a:lnTo>
                <a:lnTo>
                  <a:pt x="854739" y="642786"/>
                </a:lnTo>
                <a:lnTo>
                  <a:pt x="856723" y="670991"/>
                </a:lnTo>
                <a:lnTo>
                  <a:pt x="857913" y="686087"/>
                </a:lnTo>
                <a:lnTo>
                  <a:pt x="859501" y="700785"/>
                </a:lnTo>
                <a:lnTo>
                  <a:pt x="861485" y="716675"/>
                </a:lnTo>
                <a:lnTo>
                  <a:pt x="863469" y="732167"/>
                </a:lnTo>
                <a:lnTo>
                  <a:pt x="866247" y="748057"/>
                </a:lnTo>
                <a:lnTo>
                  <a:pt x="869818" y="763153"/>
                </a:lnTo>
                <a:lnTo>
                  <a:pt x="873786" y="779043"/>
                </a:lnTo>
                <a:lnTo>
                  <a:pt x="878548" y="793741"/>
                </a:lnTo>
                <a:lnTo>
                  <a:pt x="883706" y="808439"/>
                </a:lnTo>
                <a:lnTo>
                  <a:pt x="886881" y="815589"/>
                </a:lnTo>
                <a:lnTo>
                  <a:pt x="890055" y="822343"/>
                </a:lnTo>
                <a:lnTo>
                  <a:pt x="893230" y="829493"/>
                </a:lnTo>
                <a:lnTo>
                  <a:pt x="896801" y="835849"/>
                </a:lnTo>
                <a:lnTo>
                  <a:pt x="901166" y="842205"/>
                </a:lnTo>
                <a:lnTo>
                  <a:pt x="905134" y="848561"/>
                </a:lnTo>
                <a:lnTo>
                  <a:pt x="909896" y="854520"/>
                </a:lnTo>
                <a:lnTo>
                  <a:pt x="914261" y="860081"/>
                </a:lnTo>
                <a:lnTo>
                  <a:pt x="919420" y="865643"/>
                </a:lnTo>
                <a:lnTo>
                  <a:pt x="924578" y="870807"/>
                </a:lnTo>
                <a:lnTo>
                  <a:pt x="922594" y="885902"/>
                </a:lnTo>
                <a:lnTo>
                  <a:pt x="920213" y="899806"/>
                </a:lnTo>
                <a:lnTo>
                  <a:pt x="917436" y="913312"/>
                </a:lnTo>
                <a:lnTo>
                  <a:pt x="915451" y="920463"/>
                </a:lnTo>
                <a:lnTo>
                  <a:pt x="913467" y="927613"/>
                </a:lnTo>
                <a:lnTo>
                  <a:pt x="911087" y="934367"/>
                </a:lnTo>
                <a:lnTo>
                  <a:pt x="908309" y="941517"/>
                </a:lnTo>
                <a:lnTo>
                  <a:pt x="905134" y="947873"/>
                </a:lnTo>
                <a:lnTo>
                  <a:pt x="901563" y="953037"/>
                </a:lnTo>
                <a:lnTo>
                  <a:pt x="899182" y="955818"/>
                </a:lnTo>
                <a:lnTo>
                  <a:pt x="896801" y="958201"/>
                </a:lnTo>
                <a:lnTo>
                  <a:pt x="894420" y="960188"/>
                </a:lnTo>
                <a:lnTo>
                  <a:pt x="891643" y="961777"/>
                </a:lnTo>
                <a:lnTo>
                  <a:pt x="886087" y="965749"/>
                </a:lnTo>
                <a:lnTo>
                  <a:pt x="880532" y="968530"/>
                </a:lnTo>
                <a:lnTo>
                  <a:pt x="874580" y="971708"/>
                </a:lnTo>
                <a:lnTo>
                  <a:pt x="869024" y="975283"/>
                </a:lnTo>
                <a:lnTo>
                  <a:pt x="866247" y="977269"/>
                </a:lnTo>
                <a:lnTo>
                  <a:pt x="863866" y="979653"/>
                </a:lnTo>
                <a:lnTo>
                  <a:pt x="861881" y="982434"/>
                </a:lnTo>
                <a:lnTo>
                  <a:pt x="859897" y="985612"/>
                </a:lnTo>
                <a:lnTo>
                  <a:pt x="857913" y="990379"/>
                </a:lnTo>
                <a:lnTo>
                  <a:pt x="855929" y="995543"/>
                </a:lnTo>
                <a:lnTo>
                  <a:pt x="854342" y="1000707"/>
                </a:lnTo>
                <a:lnTo>
                  <a:pt x="853152" y="1005871"/>
                </a:lnTo>
                <a:lnTo>
                  <a:pt x="852358" y="1011433"/>
                </a:lnTo>
                <a:lnTo>
                  <a:pt x="851961" y="1016597"/>
                </a:lnTo>
                <a:lnTo>
                  <a:pt x="851167" y="1028514"/>
                </a:lnTo>
                <a:lnTo>
                  <a:pt x="850374" y="1039637"/>
                </a:lnTo>
                <a:lnTo>
                  <a:pt x="849580" y="1051158"/>
                </a:lnTo>
                <a:lnTo>
                  <a:pt x="849183" y="1056719"/>
                </a:lnTo>
                <a:lnTo>
                  <a:pt x="848390" y="1061883"/>
                </a:lnTo>
                <a:lnTo>
                  <a:pt x="847199" y="1067445"/>
                </a:lnTo>
                <a:lnTo>
                  <a:pt x="845612" y="1072212"/>
                </a:lnTo>
                <a:lnTo>
                  <a:pt x="843231" y="1078170"/>
                </a:lnTo>
                <a:lnTo>
                  <a:pt x="841247" y="1082937"/>
                </a:lnTo>
                <a:lnTo>
                  <a:pt x="838469" y="1087307"/>
                </a:lnTo>
                <a:lnTo>
                  <a:pt x="836089" y="1091280"/>
                </a:lnTo>
                <a:lnTo>
                  <a:pt x="830136" y="1098430"/>
                </a:lnTo>
                <a:lnTo>
                  <a:pt x="824581" y="1105183"/>
                </a:lnTo>
                <a:lnTo>
                  <a:pt x="821803" y="1109156"/>
                </a:lnTo>
                <a:lnTo>
                  <a:pt x="819026" y="1112731"/>
                </a:lnTo>
                <a:lnTo>
                  <a:pt x="816248" y="1116703"/>
                </a:lnTo>
                <a:lnTo>
                  <a:pt x="814264" y="1121470"/>
                </a:lnTo>
                <a:lnTo>
                  <a:pt x="812280" y="1126237"/>
                </a:lnTo>
                <a:lnTo>
                  <a:pt x="810692" y="1131799"/>
                </a:lnTo>
                <a:lnTo>
                  <a:pt x="809899" y="1138155"/>
                </a:lnTo>
                <a:lnTo>
                  <a:pt x="809105" y="1145305"/>
                </a:lnTo>
                <a:lnTo>
                  <a:pt x="845612" y="1150470"/>
                </a:lnTo>
                <a:lnTo>
                  <a:pt x="853152" y="1166757"/>
                </a:lnTo>
                <a:lnTo>
                  <a:pt x="811089" y="1183838"/>
                </a:lnTo>
                <a:lnTo>
                  <a:pt x="768233" y="1202112"/>
                </a:lnTo>
                <a:lnTo>
                  <a:pt x="682521" y="1239056"/>
                </a:lnTo>
                <a:lnTo>
                  <a:pt x="624586" y="1263685"/>
                </a:lnTo>
                <a:lnTo>
                  <a:pt x="568635" y="1287917"/>
                </a:lnTo>
                <a:lnTo>
                  <a:pt x="555541" y="1293082"/>
                </a:lnTo>
                <a:lnTo>
                  <a:pt x="542446" y="1297849"/>
                </a:lnTo>
                <a:lnTo>
                  <a:pt x="514669" y="1307780"/>
                </a:lnTo>
                <a:lnTo>
                  <a:pt x="485304" y="1318108"/>
                </a:lnTo>
                <a:lnTo>
                  <a:pt x="470225" y="1323670"/>
                </a:lnTo>
                <a:lnTo>
                  <a:pt x="455146" y="1330026"/>
                </a:lnTo>
                <a:lnTo>
                  <a:pt x="440464" y="1336382"/>
                </a:lnTo>
                <a:lnTo>
                  <a:pt x="425385" y="1343532"/>
                </a:lnTo>
                <a:lnTo>
                  <a:pt x="410703" y="1351080"/>
                </a:lnTo>
                <a:lnTo>
                  <a:pt x="403561" y="1355450"/>
                </a:lnTo>
                <a:lnTo>
                  <a:pt x="396418" y="1360217"/>
                </a:lnTo>
                <a:lnTo>
                  <a:pt x="389275" y="1364983"/>
                </a:lnTo>
                <a:lnTo>
                  <a:pt x="382529" y="1369750"/>
                </a:lnTo>
                <a:lnTo>
                  <a:pt x="376180" y="1374915"/>
                </a:lnTo>
                <a:lnTo>
                  <a:pt x="369038" y="1380079"/>
                </a:lnTo>
                <a:lnTo>
                  <a:pt x="363085" y="1386435"/>
                </a:lnTo>
                <a:lnTo>
                  <a:pt x="356736" y="1391996"/>
                </a:lnTo>
                <a:lnTo>
                  <a:pt x="350784" y="1398352"/>
                </a:lnTo>
                <a:lnTo>
                  <a:pt x="345229" y="1405106"/>
                </a:lnTo>
                <a:lnTo>
                  <a:pt x="339277" y="1411859"/>
                </a:lnTo>
                <a:lnTo>
                  <a:pt x="334118" y="1419406"/>
                </a:lnTo>
                <a:lnTo>
                  <a:pt x="329356" y="1426954"/>
                </a:lnTo>
                <a:lnTo>
                  <a:pt x="324594" y="1434899"/>
                </a:lnTo>
                <a:lnTo>
                  <a:pt x="320229" y="1443241"/>
                </a:lnTo>
                <a:lnTo>
                  <a:pt x="315865" y="1451981"/>
                </a:lnTo>
                <a:lnTo>
                  <a:pt x="311896" y="1461117"/>
                </a:lnTo>
                <a:lnTo>
                  <a:pt x="308325" y="1470651"/>
                </a:lnTo>
                <a:lnTo>
                  <a:pt x="304357" y="1482172"/>
                </a:lnTo>
                <a:lnTo>
                  <a:pt x="304357" y="1494486"/>
                </a:lnTo>
                <a:lnTo>
                  <a:pt x="303960" y="1538581"/>
                </a:lnTo>
                <a:lnTo>
                  <a:pt x="302770" y="1594196"/>
                </a:lnTo>
                <a:lnTo>
                  <a:pt x="301182" y="1649413"/>
                </a:lnTo>
                <a:lnTo>
                  <a:pt x="0" y="1649413"/>
                </a:lnTo>
                <a:lnTo>
                  <a:pt x="0" y="1625975"/>
                </a:lnTo>
                <a:lnTo>
                  <a:pt x="0" y="1599757"/>
                </a:lnTo>
                <a:lnTo>
                  <a:pt x="1190" y="1542951"/>
                </a:lnTo>
                <a:lnTo>
                  <a:pt x="2381" y="1488528"/>
                </a:lnTo>
                <a:lnTo>
                  <a:pt x="2778" y="1465487"/>
                </a:lnTo>
                <a:lnTo>
                  <a:pt x="2778" y="1446817"/>
                </a:lnTo>
                <a:lnTo>
                  <a:pt x="5159" y="1440858"/>
                </a:lnTo>
                <a:lnTo>
                  <a:pt x="7539" y="1435296"/>
                </a:lnTo>
                <a:lnTo>
                  <a:pt x="10317" y="1430132"/>
                </a:lnTo>
                <a:lnTo>
                  <a:pt x="13889" y="1425365"/>
                </a:lnTo>
                <a:lnTo>
                  <a:pt x="17063" y="1420598"/>
                </a:lnTo>
                <a:lnTo>
                  <a:pt x="20634" y="1416228"/>
                </a:lnTo>
                <a:lnTo>
                  <a:pt x="24206" y="1411859"/>
                </a:lnTo>
                <a:lnTo>
                  <a:pt x="28174" y="1407886"/>
                </a:lnTo>
                <a:lnTo>
                  <a:pt x="32142" y="1404311"/>
                </a:lnTo>
                <a:lnTo>
                  <a:pt x="36507" y="1400736"/>
                </a:lnTo>
                <a:lnTo>
                  <a:pt x="41269" y="1397558"/>
                </a:lnTo>
                <a:lnTo>
                  <a:pt x="46031" y="1394380"/>
                </a:lnTo>
                <a:lnTo>
                  <a:pt x="55951" y="1388421"/>
                </a:lnTo>
                <a:lnTo>
                  <a:pt x="66665" y="1382860"/>
                </a:lnTo>
                <a:lnTo>
                  <a:pt x="77379" y="1378093"/>
                </a:lnTo>
                <a:lnTo>
                  <a:pt x="88490" y="1373723"/>
                </a:lnTo>
                <a:lnTo>
                  <a:pt x="111902" y="1365381"/>
                </a:lnTo>
                <a:lnTo>
                  <a:pt x="135711" y="1356641"/>
                </a:lnTo>
                <a:lnTo>
                  <a:pt x="147218" y="1352669"/>
                </a:lnTo>
                <a:lnTo>
                  <a:pt x="158726" y="1347902"/>
                </a:lnTo>
                <a:lnTo>
                  <a:pt x="210312" y="1326053"/>
                </a:lnTo>
                <a:lnTo>
                  <a:pt x="263088" y="1303807"/>
                </a:lnTo>
                <a:lnTo>
                  <a:pt x="315071" y="1281164"/>
                </a:lnTo>
                <a:lnTo>
                  <a:pt x="366260" y="1259713"/>
                </a:lnTo>
                <a:lnTo>
                  <a:pt x="423401" y="1243823"/>
                </a:lnTo>
                <a:lnTo>
                  <a:pt x="428163" y="1240645"/>
                </a:lnTo>
                <a:lnTo>
                  <a:pt x="432131" y="1236672"/>
                </a:lnTo>
                <a:lnTo>
                  <a:pt x="436496" y="1231905"/>
                </a:lnTo>
                <a:lnTo>
                  <a:pt x="440464" y="1226741"/>
                </a:lnTo>
                <a:lnTo>
                  <a:pt x="444432" y="1220782"/>
                </a:lnTo>
                <a:lnTo>
                  <a:pt x="448401" y="1214426"/>
                </a:lnTo>
                <a:lnTo>
                  <a:pt x="456337" y="1201317"/>
                </a:lnTo>
                <a:lnTo>
                  <a:pt x="463480" y="1187016"/>
                </a:lnTo>
                <a:lnTo>
                  <a:pt x="469829" y="1173907"/>
                </a:lnTo>
                <a:lnTo>
                  <a:pt x="480543" y="1150470"/>
                </a:lnTo>
                <a:lnTo>
                  <a:pt x="507526" y="1143716"/>
                </a:lnTo>
                <a:lnTo>
                  <a:pt x="506336" y="1138155"/>
                </a:lnTo>
                <a:lnTo>
                  <a:pt x="504748" y="1132196"/>
                </a:lnTo>
                <a:lnTo>
                  <a:pt x="502764" y="1127429"/>
                </a:lnTo>
                <a:lnTo>
                  <a:pt x="500780" y="1123457"/>
                </a:lnTo>
                <a:lnTo>
                  <a:pt x="498399" y="1119484"/>
                </a:lnTo>
                <a:lnTo>
                  <a:pt x="496018" y="1115909"/>
                </a:lnTo>
                <a:lnTo>
                  <a:pt x="490860" y="1109950"/>
                </a:lnTo>
                <a:lnTo>
                  <a:pt x="485701" y="1103594"/>
                </a:lnTo>
                <a:lnTo>
                  <a:pt x="480146" y="1097636"/>
                </a:lnTo>
                <a:lnTo>
                  <a:pt x="477765" y="1094458"/>
                </a:lnTo>
                <a:lnTo>
                  <a:pt x="475384" y="1091280"/>
                </a:lnTo>
                <a:lnTo>
                  <a:pt x="473400" y="1087307"/>
                </a:lnTo>
                <a:lnTo>
                  <a:pt x="471813" y="1082937"/>
                </a:lnTo>
                <a:lnTo>
                  <a:pt x="461495" y="973694"/>
                </a:lnTo>
                <a:lnTo>
                  <a:pt x="461099" y="974091"/>
                </a:lnTo>
                <a:lnTo>
                  <a:pt x="460305" y="974091"/>
                </a:lnTo>
                <a:lnTo>
                  <a:pt x="457527" y="973694"/>
                </a:lnTo>
                <a:lnTo>
                  <a:pt x="448401" y="972105"/>
                </a:lnTo>
                <a:lnTo>
                  <a:pt x="438877" y="969324"/>
                </a:lnTo>
                <a:lnTo>
                  <a:pt x="435306" y="968133"/>
                </a:lnTo>
                <a:lnTo>
                  <a:pt x="433322" y="967338"/>
                </a:lnTo>
                <a:lnTo>
                  <a:pt x="430147" y="964557"/>
                </a:lnTo>
                <a:lnTo>
                  <a:pt x="426973" y="962174"/>
                </a:lnTo>
                <a:lnTo>
                  <a:pt x="424195" y="958996"/>
                </a:lnTo>
                <a:lnTo>
                  <a:pt x="421417" y="955818"/>
                </a:lnTo>
                <a:lnTo>
                  <a:pt x="419036" y="952243"/>
                </a:lnTo>
                <a:lnTo>
                  <a:pt x="416655" y="948270"/>
                </a:lnTo>
                <a:lnTo>
                  <a:pt x="414671" y="944298"/>
                </a:lnTo>
                <a:lnTo>
                  <a:pt x="412687" y="939928"/>
                </a:lnTo>
                <a:lnTo>
                  <a:pt x="409116" y="929997"/>
                </a:lnTo>
                <a:lnTo>
                  <a:pt x="406338" y="920066"/>
                </a:lnTo>
                <a:lnTo>
                  <a:pt x="403957" y="908943"/>
                </a:lnTo>
                <a:lnTo>
                  <a:pt x="401576" y="898217"/>
                </a:lnTo>
                <a:lnTo>
                  <a:pt x="399989" y="887094"/>
                </a:lnTo>
                <a:lnTo>
                  <a:pt x="398402" y="875574"/>
                </a:lnTo>
                <a:lnTo>
                  <a:pt x="396418" y="854122"/>
                </a:lnTo>
                <a:lnTo>
                  <a:pt x="394831" y="834260"/>
                </a:lnTo>
                <a:lnTo>
                  <a:pt x="393640" y="817576"/>
                </a:lnTo>
                <a:lnTo>
                  <a:pt x="393640" y="814795"/>
                </a:lnTo>
                <a:lnTo>
                  <a:pt x="394037" y="811617"/>
                </a:lnTo>
                <a:lnTo>
                  <a:pt x="395227" y="808439"/>
                </a:lnTo>
                <a:lnTo>
                  <a:pt x="396418" y="805261"/>
                </a:lnTo>
                <a:lnTo>
                  <a:pt x="399989" y="798905"/>
                </a:lnTo>
                <a:lnTo>
                  <a:pt x="403561" y="791755"/>
                </a:lnTo>
                <a:lnTo>
                  <a:pt x="407132" y="784604"/>
                </a:lnTo>
                <a:lnTo>
                  <a:pt x="408322" y="780234"/>
                </a:lnTo>
                <a:lnTo>
                  <a:pt x="409513" y="776262"/>
                </a:lnTo>
                <a:lnTo>
                  <a:pt x="410306" y="771495"/>
                </a:lnTo>
                <a:lnTo>
                  <a:pt x="410703" y="766331"/>
                </a:lnTo>
                <a:lnTo>
                  <a:pt x="410306" y="761166"/>
                </a:lnTo>
                <a:lnTo>
                  <a:pt x="409513" y="755605"/>
                </a:lnTo>
                <a:lnTo>
                  <a:pt x="406338" y="738126"/>
                </a:lnTo>
                <a:lnTo>
                  <a:pt x="403561" y="721839"/>
                </a:lnTo>
                <a:lnTo>
                  <a:pt x="401180" y="705552"/>
                </a:lnTo>
                <a:lnTo>
                  <a:pt x="399196" y="689662"/>
                </a:lnTo>
                <a:lnTo>
                  <a:pt x="397608" y="673772"/>
                </a:lnTo>
                <a:lnTo>
                  <a:pt x="397211" y="659074"/>
                </a:lnTo>
                <a:lnTo>
                  <a:pt x="396815" y="643978"/>
                </a:lnTo>
                <a:lnTo>
                  <a:pt x="396815" y="629677"/>
                </a:lnTo>
                <a:lnTo>
                  <a:pt x="397608" y="615774"/>
                </a:lnTo>
                <a:lnTo>
                  <a:pt x="398799" y="602267"/>
                </a:lnTo>
                <a:lnTo>
                  <a:pt x="400386" y="588761"/>
                </a:lnTo>
                <a:lnTo>
                  <a:pt x="402370" y="576446"/>
                </a:lnTo>
                <a:lnTo>
                  <a:pt x="404751" y="563734"/>
                </a:lnTo>
                <a:lnTo>
                  <a:pt x="407529" y="552214"/>
                </a:lnTo>
                <a:lnTo>
                  <a:pt x="410703" y="540297"/>
                </a:lnTo>
                <a:lnTo>
                  <a:pt x="414275" y="529571"/>
                </a:lnTo>
                <a:lnTo>
                  <a:pt x="418243" y="519242"/>
                </a:lnTo>
                <a:lnTo>
                  <a:pt x="422211" y="508914"/>
                </a:lnTo>
                <a:lnTo>
                  <a:pt x="426973" y="499380"/>
                </a:lnTo>
                <a:lnTo>
                  <a:pt x="432131" y="490243"/>
                </a:lnTo>
                <a:lnTo>
                  <a:pt x="437290" y="481504"/>
                </a:lnTo>
                <a:lnTo>
                  <a:pt x="442845" y="473162"/>
                </a:lnTo>
                <a:lnTo>
                  <a:pt x="448797" y="465614"/>
                </a:lnTo>
                <a:lnTo>
                  <a:pt x="454750" y="458066"/>
                </a:lnTo>
                <a:lnTo>
                  <a:pt x="461495" y="451710"/>
                </a:lnTo>
                <a:lnTo>
                  <a:pt x="468241" y="445752"/>
                </a:lnTo>
                <a:lnTo>
                  <a:pt x="474987" y="440190"/>
                </a:lnTo>
                <a:lnTo>
                  <a:pt x="482130" y="435026"/>
                </a:lnTo>
                <a:lnTo>
                  <a:pt x="490066" y="429862"/>
                </a:lnTo>
                <a:lnTo>
                  <a:pt x="497606" y="425889"/>
                </a:lnTo>
                <a:lnTo>
                  <a:pt x="505542" y="422711"/>
                </a:lnTo>
                <a:lnTo>
                  <a:pt x="513875" y="419533"/>
                </a:lnTo>
                <a:lnTo>
                  <a:pt x="538478" y="409999"/>
                </a:lnTo>
                <a:lnTo>
                  <a:pt x="553160" y="404438"/>
                </a:lnTo>
                <a:lnTo>
                  <a:pt x="568239" y="399273"/>
                </a:lnTo>
                <a:lnTo>
                  <a:pt x="584111" y="394506"/>
                </a:lnTo>
                <a:lnTo>
                  <a:pt x="601174" y="390137"/>
                </a:lnTo>
                <a:lnTo>
                  <a:pt x="618634" y="386562"/>
                </a:lnTo>
                <a:lnTo>
                  <a:pt x="627761" y="384973"/>
                </a:lnTo>
                <a:lnTo>
                  <a:pt x="636888" y="383384"/>
                </a:lnTo>
                <a:lnTo>
                  <a:pt x="646014" y="382589"/>
                </a:lnTo>
                <a:lnTo>
                  <a:pt x="655538" y="381795"/>
                </a:lnTo>
                <a:lnTo>
                  <a:pt x="665061" y="381397"/>
                </a:lnTo>
                <a:lnTo>
                  <a:pt x="674585" y="381000"/>
                </a:lnTo>
                <a:close/>
                <a:moveTo>
                  <a:pt x="1307704" y="0"/>
                </a:moveTo>
                <a:lnTo>
                  <a:pt x="1321601" y="0"/>
                </a:lnTo>
                <a:lnTo>
                  <a:pt x="1335100" y="0"/>
                </a:lnTo>
                <a:lnTo>
                  <a:pt x="1348997" y="1191"/>
                </a:lnTo>
                <a:lnTo>
                  <a:pt x="1362496" y="2381"/>
                </a:lnTo>
                <a:lnTo>
                  <a:pt x="1376790" y="4366"/>
                </a:lnTo>
                <a:lnTo>
                  <a:pt x="1390289" y="7144"/>
                </a:lnTo>
                <a:lnTo>
                  <a:pt x="1404583" y="10319"/>
                </a:lnTo>
                <a:lnTo>
                  <a:pt x="1418480" y="14684"/>
                </a:lnTo>
                <a:lnTo>
                  <a:pt x="1432773" y="19447"/>
                </a:lnTo>
                <a:lnTo>
                  <a:pt x="1446670" y="25003"/>
                </a:lnTo>
                <a:lnTo>
                  <a:pt x="1460566" y="31353"/>
                </a:lnTo>
                <a:lnTo>
                  <a:pt x="1474463" y="38497"/>
                </a:lnTo>
                <a:lnTo>
                  <a:pt x="1488757" y="46831"/>
                </a:lnTo>
                <a:lnTo>
                  <a:pt x="1525285" y="80963"/>
                </a:lnTo>
                <a:lnTo>
                  <a:pt x="1584841" y="90884"/>
                </a:lnTo>
                <a:lnTo>
                  <a:pt x="1590400" y="94853"/>
                </a:lnTo>
                <a:lnTo>
                  <a:pt x="1595958" y="99616"/>
                </a:lnTo>
                <a:lnTo>
                  <a:pt x="1600723" y="104775"/>
                </a:lnTo>
                <a:lnTo>
                  <a:pt x="1605487" y="110331"/>
                </a:lnTo>
                <a:lnTo>
                  <a:pt x="1609855" y="115888"/>
                </a:lnTo>
                <a:lnTo>
                  <a:pt x="1613825" y="122238"/>
                </a:lnTo>
                <a:lnTo>
                  <a:pt x="1617399" y="128984"/>
                </a:lnTo>
                <a:lnTo>
                  <a:pt x="1620575" y="134938"/>
                </a:lnTo>
                <a:lnTo>
                  <a:pt x="1626531" y="146447"/>
                </a:lnTo>
                <a:lnTo>
                  <a:pt x="1630898" y="156766"/>
                </a:lnTo>
                <a:lnTo>
                  <a:pt x="1634075" y="165894"/>
                </a:lnTo>
                <a:lnTo>
                  <a:pt x="1636854" y="177403"/>
                </a:lnTo>
                <a:lnTo>
                  <a:pt x="1639236" y="189309"/>
                </a:lnTo>
                <a:lnTo>
                  <a:pt x="1641619" y="200819"/>
                </a:lnTo>
                <a:lnTo>
                  <a:pt x="1643207" y="212725"/>
                </a:lnTo>
                <a:lnTo>
                  <a:pt x="1644795" y="223838"/>
                </a:lnTo>
                <a:lnTo>
                  <a:pt x="1646383" y="235347"/>
                </a:lnTo>
                <a:lnTo>
                  <a:pt x="1648368" y="258366"/>
                </a:lnTo>
                <a:lnTo>
                  <a:pt x="1649559" y="281781"/>
                </a:lnTo>
                <a:lnTo>
                  <a:pt x="1649957" y="304800"/>
                </a:lnTo>
                <a:lnTo>
                  <a:pt x="1649957" y="328613"/>
                </a:lnTo>
                <a:lnTo>
                  <a:pt x="1649559" y="352822"/>
                </a:lnTo>
                <a:lnTo>
                  <a:pt x="1648765" y="365919"/>
                </a:lnTo>
                <a:lnTo>
                  <a:pt x="1647177" y="385763"/>
                </a:lnTo>
                <a:lnTo>
                  <a:pt x="1642413" y="436959"/>
                </a:lnTo>
                <a:lnTo>
                  <a:pt x="1640427" y="464344"/>
                </a:lnTo>
                <a:lnTo>
                  <a:pt x="1638839" y="490141"/>
                </a:lnTo>
                <a:lnTo>
                  <a:pt x="1638442" y="501650"/>
                </a:lnTo>
                <a:lnTo>
                  <a:pt x="1638045" y="511969"/>
                </a:lnTo>
                <a:lnTo>
                  <a:pt x="1638442" y="521494"/>
                </a:lnTo>
                <a:lnTo>
                  <a:pt x="1638839" y="529034"/>
                </a:lnTo>
                <a:lnTo>
                  <a:pt x="1640030" y="538559"/>
                </a:lnTo>
                <a:lnTo>
                  <a:pt x="1642016" y="546497"/>
                </a:lnTo>
                <a:lnTo>
                  <a:pt x="1644001" y="553244"/>
                </a:lnTo>
                <a:lnTo>
                  <a:pt x="1646780" y="558800"/>
                </a:lnTo>
                <a:lnTo>
                  <a:pt x="1649559" y="563959"/>
                </a:lnTo>
                <a:lnTo>
                  <a:pt x="1653133" y="569516"/>
                </a:lnTo>
                <a:lnTo>
                  <a:pt x="1656706" y="576659"/>
                </a:lnTo>
                <a:lnTo>
                  <a:pt x="1661074" y="584597"/>
                </a:lnTo>
                <a:lnTo>
                  <a:pt x="1664250" y="592534"/>
                </a:lnTo>
                <a:lnTo>
                  <a:pt x="1667029" y="600869"/>
                </a:lnTo>
                <a:lnTo>
                  <a:pt x="1669412" y="609600"/>
                </a:lnTo>
                <a:lnTo>
                  <a:pt x="1671397" y="618331"/>
                </a:lnTo>
                <a:lnTo>
                  <a:pt x="1672588" y="627459"/>
                </a:lnTo>
                <a:lnTo>
                  <a:pt x="1673382" y="636984"/>
                </a:lnTo>
                <a:lnTo>
                  <a:pt x="1673779" y="646113"/>
                </a:lnTo>
                <a:lnTo>
                  <a:pt x="1674176" y="655241"/>
                </a:lnTo>
                <a:lnTo>
                  <a:pt x="1673779" y="665163"/>
                </a:lnTo>
                <a:lnTo>
                  <a:pt x="1673382" y="674291"/>
                </a:lnTo>
                <a:lnTo>
                  <a:pt x="1671794" y="692547"/>
                </a:lnTo>
                <a:lnTo>
                  <a:pt x="1669412" y="710009"/>
                </a:lnTo>
                <a:lnTo>
                  <a:pt x="1666632" y="726678"/>
                </a:lnTo>
                <a:lnTo>
                  <a:pt x="1664647" y="735806"/>
                </a:lnTo>
                <a:lnTo>
                  <a:pt x="1662662" y="745728"/>
                </a:lnTo>
                <a:lnTo>
                  <a:pt x="1659883" y="755650"/>
                </a:lnTo>
                <a:lnTo>
                  <a:pt x="1656706" y="765572"/>
                </a:lnTo>
                <a:lnTo>
                  <a:pt x="1653133" y="775891"/>
                </a:lnTo>
                <a:lnTo>
                  <a:pt x="1649162" y="785416"/>
                </a:lnTo>
                <a:lnTo>
                  <a:pt x="1644795" y="793750"/>
                </a:lnTo>
                <a:lnTo>
                  <a:pt x="1642413" y="798116"/>
                </a:lnTo>
                <a:lnTo>
                  <a:pt x="1639633" y="802084"/>
                </a:lnTo>
                <a:lnTo>
                  <a:pt x="1636854" y="805656"/>
                </a:lnTo>
                <a:lnTo>
                  <a:pt x="1633678" y="808831"/>
                </a:lnTo>
                <a:lnTo>
                  <a:pt x="1630104" y="811609"/>
                </a:lnTo>
                <a:lnTo>
                  <a:pt x="1626531" y="814388"/>
                </a:lnTo>
                <a:lnTo>
                  <a:pt x="1618193" y="818753"/>
                </a:lnTo>
                <a:lnTo>
                  <a:pt x="1610252" y="823119"/>
                </a:lnTo>
                <a:lnTo>
                  <a:pt x="1602311" y="827881"/>
                </a:lnTo>
                <a:lnTo>
                  <a:pt x="1598341" y="830263"/>
                </a:lnTo>
                <a:lnTo>
                  <a:pt x="1593973" y="832644"/>
                </a:lnTo>
                <a:lnTo>
                  <a:pt x="1590797" y="835819"/>
                </a:lnTo>
                <a:lnTo>
                  <a:pt x="1587223" y="838994"/>
                </a:lnTo>
                <a:lnTo>
                  <a:pt x="1584444" y="842963"/>
                </a:lnTo>
                <a:lnTo>
                  <a:pt x="1581665" y="846931"/>
                </a:lnTo>
                <a:lnTo>
                  <a:pt x="1578489" y="854075"/>
                </a:lnTo>
                <a:lnTo>
                  <a:pt x="1576106" y="860822"/>
                </a:lnTo>
                <a:lnTo>
                  <a:pt x="1574121" y="867966"/>
                </a:lnTo>
                <a:lnTo>
                  <a:pt x="1572533" y="875506"/>
                </a:lnTo>
                <a:lnTo>
                  <a:pt x="1571342" y="883444"/>
                </a:lnTo>
                <a:lnTo>
                  <a:pt x="1570151" y="890984"/>
                </a:lnTo>
                <a:lnTo>
                  <a:pt x="1568959" y="906859"/>
                </a:lnTo>
                <a:lnTo>
                  <a:pt x="1568165" y="923131"/>
                </a:lnTo>
                <a:lnTo>
                  <a:pt x="1566974" y="939006"/>
                </a:lnTo>
                <a:lnTo>
                  <a:pt x="1565783" y="946944"/>
                </a:lnTo>
                <a:lnTo>
                  <a:pt x="1564989" y="954484"/>
                </a:lnTo>
                <a:lnTo>
                  <a:pt x="1563401" y="961628"/>
                </a:lnTo>
                <a:lnTo>
                  <a:pt x="1561415" y="969169"/>
                </a:lnTo>
                <a:lnTo>
                  <a:pt x="1558636" y="976709"/>
                </a:lnTo>
                <a:lnTo>
                  <a:pt x="1555460" y="983456"/>
                </a:lnTo>
                <a:lnTo>
                  <a:pt x="1551887" y="989409"/>
                </a:lnTo>
                <a:lnTo>
                  <a:pt x="1548313" y="995363"/>
                </a:lnTo>
                <a:lnTo>
                  <a:pt x="1544343" y="1000522"/>
                </a:lnTo>
                <a:lnTo>
                  <a:pt x="1539578" y="1005284"/>
                </a:lnTo>
                <a:lnTo>
                  <a:pt x="1531637" y="1014809"/>
                </a:lnTo>
                <a:lnTo>
                  <a:pt x="1527667" y="1019969"/>
                </a:lnTo>
                <a:lnTo>
                  <a:pt x="1524093" y="1025525"/>
                </a:lnTo>
                <a:lnTo>
                  <a:pt x="1520520" y="1031081"/>
                </a:lnTo>
                <a:lnTo>
                  <a:pt x="1517741" y="1037431"/>
                </a:lnTo>
                <a:lnTo>
                  <a:pt x="1514961" y="1044178"/>
                </a:lnTo>
                <a:lnTo>
                  <a:pt x="1512976" y="1052513"/>
                </a:lnTo>
                <a:lnTo>
                  <a:pt x="1510991" y="1061244"/>
                </a:lnTo>
                <a:lnTo>
                  <a:pt x="1510197" y="1070769"/>
                </a:lnTo>
                <a:lnTo>
                  <a:pt x="1561415" y="1078309"/>
                </a:lnTo>
                <a:lnTo>
                  <a:pt x="1576900" y="1111250"/>
                </a:lnTo>
                <a:lnTo>
                  <a:pt x="1585635" y="1129903"/>
                </a:lnTo>
                <a:lnTo>
                  <a:pt x="1596355" y="1149350"/>
                </a:lnTo>
                <a:lnTo>
                  <a:pt x="1601517" y="1158478"/>
                </a:lnTo>
                <a:lnTo>
                  <a:pt x="1606679" y="1168003"/>
                </a:lnTo>
                <a:lnTo>
                  <a:pt x="1612237" y="1176734"/>
                </a:lnTo>
                <a:lnTo>
                  <a:pt x="1617796" y="1184672"/>
                </a:lnTo>
                <a:lnTo>
                  <a:pt x="1624149" y="1192609"/>
                </a:lnTo>
                <a:lnTo>
                  <a:pt x="1629707" y="1198959"/>
                </a:lnTo>
                <a:lnTo>
                  <a:pt x="1635663" y="1204516"/>
                </a:lnTo>
                <a:lnTo>
                  <a:pt x="1641619" y="1209278"/>
                </a:lnTo>
                <a:lnTo>
                  <a:pt x="1721821" y="1231106"/>
                </a:lnTo>
                <a:lnTo>
                  <a:pt x="1793687" y="1261269"/>
                </a:lnTo>
                <a:lnTo>
                  <a:pt x="1867537" y="1292622"/>
                </a:lnTo>
                <a:lnTo>
                  <a:pt x="1941387" y="1324372"/>
                </a:lnTo>
                <a:lnTo>
                  <a:pt x="2013649" y="1354931"/>
                </a:lnTo>
                <a:lnTo>
                  <a:pt x="2029531" y="1361678"/>
                </a:lnTo>
                <a:lnTo>
                  <a:pt x="2046207" y="1367631"/>
                </a:lnTo>
                <a:lnTo>
                  <a:pt x="2079161" y="1379141"/>
                </a:lnTo>
                <a:lnTo>
                  <a:pt x="2095440" y="1385094"/>
                </a:lnTo>
                <a:lnTo>
                  <a:pt x="2112116" y="1391444"/>
                </a:lnTo>
                <a:lnTo>
                  <a:pt x="2127998" y="1397397"/>
                </a:lnTo>
                <a:lnTo>
                  <a:pt x="2143085" y="1404144"/>
                </a:lnTo>
                <a:lnTo>
                  <a:pt x="2150232" y="1407716"/>
                </a:lnTo>
                <a:lnTo>
                  <a:pt x="2157776" y="1411684"/>
                </a:lnTo>
                <a:lnTo>
                  <a:pt x="2164923" y="1416050"/>
                </a:lnTo>
                <a:lnTo>
                  <a:pt x="2171673" y="1420019"/>
                </a:lnTo>
                <a:lnTo>
                  <a:pt x="2178423" y="1424384"/>
                </a:lnTo>
                <a:lnTo>
                  <a:pt x="2184775" y="1429147"/>
                </a:lnTo>
                <a:lnTo>
                  <a:pt x="2191128" y="1433909"/>
                </a:lnTo>
                <a:lnTo>
                  <a:pt x="2196687" y="1439069"/>
                </a:lnTo>
                <a:lnTo>
                  <a:pt x="2202245" y="1445022"/>
                </a:lnTo>
                <a:lnTo>
                  <a:pt x="2207804" y="1450578"/>
                </a:lnTo>
                <a:lnTo>
                  <a:pt x="2212965" y="1456928"/>
                </a:lnTo>
                <a:lnTo>
                  <a:pt x="2217333" y="1463278"/>
                </a:lnTo>
                <a:lnTo>
                  <a:pt x="2221700" y="1470422"/>
                </a:lnTo>
                <a:lnTo>
                  <a:pt x="2225274" y="1477566"/>
                </a:lnTo>
                <a:lnTo>
                  <a:pt x="2228847" y="1485503"/>
                </a:lnTo>
                <a:lnTo>
                  <a:pt x="2232023" y="1493441"/>
                </a:lnTo>
                <a:lnTo>
                  <a:pt x="2232023" y="1519634"/>
                </a:lnTo>
                <a:lnTo>
                  <a:pt x="2232817" y="1552178"/>
                </a:lnTo>
                <a:lnTo>
                  <a:pt x="2234406" y="1628378"/>
                </a:lnTo>
                <a:lnTo>
                  <a:pt x="2235597" y="1668859"/>
                </a:lnTo>
                <a:lnTo>
                  <a:pt x="2236391" y="1708150"/>
                </a:lnTo>
                <a:lnTo>
                  <a:pt x="2236788" y="1745059"/>
                </a:lnTo>
                <a:lnTo>
                  <a:pt x="2236391" y="1778000"/>
                </a:lnTo>
                <a:lnTo>
                  <a:pt x="374650" y="1778000"/>
                </a:lnTo>
                <a:lnTo>
                  <a:pt x="374650" y="1745059"/>
                </a:lnTo>
                <a:lnTo>
                  <a:pt x="374650" y="1708150"/>
                </a:lnTo>
                <a:lnTo>
                  <a:pt x="375444" y="1668859"/>
                </a:lnTo>
                <a:lnTo>
                  <a:pt x="376238" y="1628378"/>
                </a:lnTo>
                <a:lnTo>
                  <a:pt x="377826" y="1552178"/>
                </a:lnTo>
                <a:lnTo>
                  <a:pt x="378620" y="1519634"/>
                </a:lnTo>
                <a:lnTo>
                  <a:pt x="379017" y="1493441"/>
                </a:lnTo>
                <a:lnTo>
                  <a:pt x="381797" y="1485503"/>
                </a:lnTo>
                <a:lnTo>
                  <a:pt x="385370" y="1477566"/>
                </a:lnTo>
                <a:lnTo>
                  <a:pt x="389341" y="1470422"/>
                </a:lnTo>
                <a:lnTo>
                  <a:pt x="393311" y="1463278"/>
                </a:lnTo>
                <a:lnTo>
                  <a:pt x="398076" y="1456928"/>
                </a:lnTo>
                <a:lnTo>
                  <a:pt x="403237" y="1450578"/>
                </a:lnTo>
                <a:lnTo>
                  <a:pt x="408399" y="1445022"/>
                </a:lnTo>
                <a:lnTo>
                  <a:pt x="413957" y="1439069"/>
                </a:lnTo>
                <a:lnTo>
                  <a:pt x="419516" y="1433909"/>
                </a:lnTo>
                <a:lnTo>
                  <a:pt x="425869" y="1429147"/>
                </a:lnTo>
                <a:lnTo>
                  <a:pt x="432618" y="1424384"/>
                </a:lnTo>
                <a:lnTo>
                  <a:pt x="438971" y="1420019"/>
                </a:lnTo>
                <a:lnTo>
                  <a:pt x="445721" y="1416050"/>
                </a:lnTo>
                <a:lnTo>
                  <a:pt x="452868" y="1411684"/>
                </a:lnTo>
                <a:lnTo>
                  <a:pt x="460412" y="1407716"/>
                </a:lnTo>
                <a:lnTo>
                  <a:pt x="467558" y="1404144"/>
                </a:lnTo>
                <a:lnTo>
                  <a:pt x="482646" y="1397397"/>
                </a:lnTo>
                <a:lnTo>
                  <a:pt x="498925" y="1391444"/>
                </a:lnTo>
                <a:lnTo>
                  <a:pt x="515204" y="1385094"/>
                </a:lnTo>
                <a:lnTo>
                  <a:pt x="531483" y="1379141"/>
                </a:lnTo>
                <a:lnTo>
                  <a:pt x="564437" y="1367631"/>
                </a:lnTo>
                <a:lnTo>
                  <a:pt x="581113" y="1361678"/>
                </a:lnTo>
                <a:lnTo>
                  <a:pt x="597392" y="1354931"/>
                </a:lnTo>
                <a:lnTo>
                  <a:pt x="669257" y="1324372"/>
                </a:lnTo>
                <a:lnTo>
                  <a:pt x="743504" y="1292622"/>
                </a:lnTo>
                <a:lnTo>
                  <a:pt x="817354" y="1261269"/>
                </a:lnTo>
                <a:lnTo>
                  <a:pt x="888822" y="1231106"/>
                </a:lnTo>
                <a:lnTo>
                  <a:pt x="969025" y="1209278"/>
                </a:lnTo>
                <a:lnTo>
                  <a:pt x="974981" y="1204516"/>
                </a:lnTo>
                <a:lnTo>
                  <a:pt x="980937" y="1198959"/>
                </a:lnTo>
                <a:lnTo>
                  <a:pt x="986892" y="1192609"/>
                </a:lnTo>
                <a:lnTo>
                  <a:pt x="992848" y="1184672"/>
                </a:lnTo>
                <a:lnTo>
                  <a:pt x="998407" y="1176734"/>
                </a:lnTo>
                <a:lnTo>
                  <a:pt x="1003965" y="1168003"/>
                </a:lnTo>
                <a:lnTo>
                  <a:pt x="1009524" y="1158478"/>
                </a:lnTo>
                <a:lnTo>
                  <a:pt x="1015083" y="1149350"/>
                </a:lnTo>
                <a:lnTo>
                  <a:pt x="1025009" y="1129903"/>
                </a:lnTo>
                <a:lnTo>
                  <a:pt x="1034141" y="1111250"/>
                </a:lnTo>
                <a:lnTo>
                  <a:pt x="1049228" y="1078309"/>
                </a:lnTo>
                <a:lnTo>
                  <a:pt x="1087345" y="1068784"/>
                </a:lnTo>
                <a:lnTo>
                  <a:pt x="1085359" y="1060450"/>
                </a:lnTo>
                <a:lnTo>
                  <a:pt x="1082977" y="1053306"/>
                </a:lnTo>
                <a:lnTo>
                  <a:pt x="1080595" y="1046163"/>
                </a:lnTo>
                <a:lnTo>
                  <a:pt x="1077419" y="1040209"/>
                </a:lnTo>
                <a:lnTo>
                  <a:pt x="1074242" y="1034653"/>
                </a:lnTo>
                <a:lnTo>
                  <a:pt x="1071066" y="1029891"/>
                </a:lnTo>
                <a:lnTo>
                  <a:pt x="1067492" y="1025525"/>
                </a:lnTo>
                <a:lnTo>
                  <a:pt x="1063125" y="1020763"/>
                </a:lnTo>
                <a:lnTo>
                  <a:pt x="1055978" y="1012825"/>
                </a:lnTo>
                <a:lnTo>
                  <a:pt x="1048434" y="1004491"/>
                </a:lnTo>
                <a:lnTo>
                  <a:pt x="1045258" y="1000125"/>
                </a:lnTo>
                <a:lnTo>
                  <a:pt x="1042082" y="995363"/>
                </a:lnTo>
                <a:lnTo>
                  <a:pt x="1038905" y="989409"/>
                </a:lnTo>
                <a:lnTo>
                  <a:pt x="1036523" y="983456"/>
                </a:lnTo>
                <a:lnTo>
                  <a:pt x="1022229" y="830659"/>
                </a:lnTo>
                <a:lnTo>
                  <a:pt x="1021832" y="831056"/>
                </a:lnTo>
                <a:lnTo>
                  <a:pt x="1020641" y="831056"/>
                </a:lnTo>
                <a:lnTo>
                  <a:pt x="1016671" y="830659"/>
                </a:lnTo>
                <a:lnTo>
                  <a:pt x="1010715" y="829469"/>
                </a:lnTo>
                <a:lnTo>
                  <a:pt x="1003965" y="828278"/>
                </a:lnTo>
                <a:lnTo>
                  <a:pt x="990863" y="824309"/>
                </a:lnTo>
                <a:lnTo>
                  <a:pt x="985701" y="822325"/>
                </a:lnTo>
                <a:lnTo>
                  <a:pt x="982525" y="821134"/>
                </a:lnTo>
                <a:lnTo>
                  <a:pt x="978157" y="817959"/>
                </a:lnTo>
                <a:lnTo>
                  <a:pt x="973790" y="814388"/>
                </a:lnTo>
                <a:lnTo>
                  <a:pt x="969819" y="810419"/>
                </a:lnTo>
                <a:lnTo>
                  <a:pt x="966246" y="805656"/>
                </a:lnTo>
                <a:lnTo>
                  <a:pt x="962673" y="800497"/>
                </a:lnTo>
                <a:lnTo>
                  <a:pt x="959496" y="794941"/>
                </a:lnTo>
                <a:lnTo>
                  <a:pt x="956717" y="788988"/>
                </a:lnTo>
                <a:lnTo>
                  <a:pt x="953541" y="783034"/>
                </a:lnTo>
                <a:lnTo>
                  <a:pt x="951158" y="776684"/>
                </a:lnTo>
                <a:lnTo>
                  <a:pt x="948776" y="769541"/>
                </a:lnTo>
                <a:lnTo>
                  <a:pt x="944409" y="755253"/>
                </a:lnTo>
                <a:lnTo>
                  <a:pt x="941232" y="740172"/>
                </a:lnTo>
                <a:lnTo>
                  <a:pt x="938056" y="724694"/>
                </a:lnTo>
                <a:lnTo>
                  <a:pt x="935674" y="708819"/>
                </a:lnTo>
                <a:lnTo>
                  <a:pt x="934085" y="693341"/>
                </a:lnTo>
                <a:lnTo>
                  <a:pt x="932497" y="677466"/>
                </a:lnTo>
                <a:lnTo>
                  <a:pt x="931306" y="662781"/>
                </a:lnTo>
                <a:lnTo>
                  <a:pt x="929321" y="635000"/>
                </a:lnTo>
                <a:lnTo>
                  <a:pt x="926939" y="611981"/>
                </a:lnTo>
                <a:lnTo>
                  <a:pt x="926939" y="607616"/>
                </a:lnTo>
                <a:lnTo>
                  <a:pt x="927733" y="603250"/>
                </a:lnTo>
                <a:lnTo>
                  <a:pt x="929321" y="598884"/>
                </a:lnTo>
                <a:lnTo>
                  <a:pt x="931306" y="594519"/>
                </a:lnTo>
                <a:lnTo>
                  <a:pt x="935674" y="585391"/>
                </a:lnTo>
                <a:lnTo>
                  <a:pt x="940835" y="575866"/>
                </a:lnTo>
                <a:lnTo>
                  <a:pt x="943217" y="570706"/>
                </a:lnTo>
                <a:lnTo>
                  <a:pt x="945600" y="565150"/>
                </a:lnTo>
                <a:lnTo>
                  <a:pt x="947585" y="559594"/>
                </a:lnTo>
                <a:lnTo>
                  <a:pt x="949173" y="553641"/>
                </a:lnTo>
                <a:lnTo>
                  <a:pt x="950364" y="547291"/>
                </a:lnTo>
                <a:lnTo>
                  <a:pt x="950761" y="539750"/>
                </a:lnTo>
                <a:lnTo>
                  <a:pt x="950364" y="532606"/>
                </a:lnTo>
                <a:lnTo>
                  <a:pt x="949173" y="524669"/>
                </a:lnTo>
                <a:lnTo>
                  <a:pt x="944409" y="500856"/>
                </a:lnTo>
                <a:lnTo>
                  <a:pt x="940438" y="477441"/>
                </a:lnTo>
                <a:lnTo>
                  <a:pt x="937262" y="454422"/>
                </a:lnTo>
                <a:lnTo>
                  <a:pt x="934880" y="432197"/>
                </a:lnTo>
                <a:lnTo>
                  <a:pt x="933291" y="410766"/>
                </a:lnTo>
                <a:lnTo>
                  <a:pt x="932100" y="389334"/>
                </a:lnTo>
                <a:lnTo>
                  <a:pt x="931703" y="368300"/>
                </a:lnTo>
                <a:lnTo>
                  <a:pt x="932100" y="348059"/>
                </a:lnTo>
                <a:lnTo>
                  <a:pt x="932894" y="328613"/>
                </a:lnTo>
                <a:lnTo>
                  <a:pt x="934483" y="309563"/>
                </a:lnTo>
                <a:lnTo>
                  <a:pt x="936468" y="290909"/>
                </a:lnTo>
                <a:lnTo>
                  <a:pt x="939247" y="273447"/>
                </a:lnTo>
                <a:lnTo>
                  <a:pt x="942423" y="255984"/>
                </a:lnTo>
                <a:lnTo>
                  <a:pt x="946394" y="239713"/>
                </a:lnTo>
                <a:lnTo>
                  <a:pt x="950761" y="223441"/>
                </a:lnTo>
                <a:lnTo>
                  <a:pt x="956320" y="207566"/>
                </a:lnTo>
                <a:lnTo>
                  <a:pt x="961482" y="193278"/>
                </a:lnTo>
                <a:lnTo>
                  <a:pt x="967437" y="178991"/>
                </a:lnTo>
                <a:lnTo>
                  <a:pt x="973790" y="165497"/>
                </a:lnTo>
                <a:lnTo>
                  <a:pt x="980937" y="152400"/>
                </a:lnTo>
                <a:lnTo>
                  <a:pt x="988481" y="140494"/>
                </a:lnTo>
                <a:lnTo>
                  <a:pt x="996421" y="129381"/>
                </a:lnTo>
                <a:lnTo>
                  <a:pt x="1004362" y="118269"/>
                </a:lnTo>
                <a:lnTo>
                  <a:pt x="1013494" y="108347"/>
                </a:lnTo>
                <a:lnTo>
                  <a:pt x="1022229" y="99219"/>
                </a:lnTo>
                <a:lnTo>
                  <a:pt x="1031758" y="90091"/>
                </a:lnTo>
                <a:lnTo>
                  <a:pt x="1041685" y="82550"/>
                </a:lnTo>
                <a:lnTo>
                  <a:pt x="1051611" y="75406"/>
                </a:lnTo>
                <a:lnTo>
                  <a:pt x="1061934" y="68659"/>
                </a:lnTo>
                <a:lnTo>
                  <a:pt x="1073051" y="63103"/>
                </a:lnTo>
                <a:lnTo>
                  <a:pt x="1084168" y="58341"/>
                </a:lnTo>
                <a:lnTo>
                  <a:pt x="1095683" y="53975"/>
                </a:lnTo>
                <a:lnTo>
                  <a:pt x="1112358" y="47228"/>
                </a:lnTo>
                <a:lnTo>
                  <a:pt x="1131019" y="40084"/>
                </a:lnTo>
                <a:lnTo>
                  <a:pt x="1150872" y="32544"/>
                </a:lnTo>
                <a:lnTo>
                  <a:pt x="1171915" y="25400"/>
                </a:lnTo>
                <a:lnTo>
                  <a:pt x="1194547" y="18653"/>
                </a:lnTo>
                <a:lnTo>
                  <a:pt x="1206458" y="15875"/>
                </a:lnTo>
                <a:lnTo>
                  <a:pt x="1218369" y="12303"/>
                </a:lnTo>
                <a:lnTo>
                  <a:pt x="1230281" y="9525"/>
                </a:lnTo>
                <a:lnTo>
                  <a:pt x="1242986" y="7144"/>
                </a:lnTo>
                <a:lnTo>
                  <a:pt x="1255294" y="5159"/>
                </a:lnTo>
                <a:lnTo>
                  <a:pt x="1268397" y="3175"/>
                </a:lnTo>
                <a:lnTo>
                  <a:pt x="1281102" y="1588"/>
                </a:lnTo>
                <a:lnTo>
                  <a:pt x="1294602" y="794"/>
                </a:lnTo>
                <a:lnTo>
                  <a:pt x="1307704" y="0"/>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文本框 9"/>
          <p:cNvSpPr/>
          <p:nvPr/>
        </p:nvSpPr>
        <p:spPr>
          <a:xfrm>
            <a:off x="6502320" y="1751040"/>
            <a:ext cx="35244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171" name="文本框 10"/>
          <p:cNvSpPr/>
          <p:nvPr/>
        </p:nvSpPr>
        <p:spPr>
          <a:xfrm>
            <a:off x="6850080" y="128916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4e67c8"/>
                </a:solidFill>
                <a:latin typeface="Arial"/>
              </a:rPr>
              <a:t>这里添加标题</a:t>
            </a:r>
            <a:endParaRPr b="0" lang="en-US" sz="2400" spc="-1" strike="noStrike">
              <a:solidFill>
                <a:srgbClr val="000000"/>
              </a:solidFill>
              <a:latin typeface="Arial"/>
            </a:endParaRPr>
          </a:p>
        </p:txBody>
      </p:sp>
      <p:sp>
        <p:nvSpPr>
          <p:cNvPr id="172" name="KSO_Shape"/>
          <p:cNvSpPr/>
          <p:nvPr/>
        </p:nvSpPr>
        <p:spPr>
          <a:xfrm>
            <a:off x="3735360" y="4108320"/>
            <a:ext cx="666720" cy="658800"/>
          </a:xfrm>
          <a:custGeom>
            <a:avLst/>
            <a:gdLst/>
            <a:ahLst/>
            <a:rect l="l" t="t" r="r" b="b"/>
            <a:pathLst>
              <a:path w="2032000" h="2008188">
                <a:moveTo>
                  <a:pt x="1620816" y="1697038"/>
                </a:moveTo>
                <a:lnTo>
                  <a:pt x="1620867" y="1697102"/>
                </a:lnTo>
                <a:lnTo>
                  <a:pt x="1697900" y="1869077"/>
                </a:lnTo>
                <a:lnTo>
                  <a:pt x="1718975" y="1797019"/>
                </a:lnTo>
                <a:lnTo>
                  <a:pt x="1717237" y="1796753"/>
                </a:lnTo>
                <a:lnTo>
                  <a:pt x="1713121" y="1795497"/>
                </a:lnTo>
                <a:lnTo>
                  <a:pt x="1709639" y="1794241"/>
                </a:lnTo>
                <a:lnTo>
                  <a:pt x="1706156" y="1792670"/>
                </a:lnTo>
                <a:lnTo>
                  <a:pt x="1703307" y="1790785"/>
                </a:lnTo>
                <a:lnTo>
                  <a:pt x="1700141" y="1788901"/>
                </a:lnTo>
                <a:lnTo>
                  <a:pt x="1697608" y="1786702"/>
                </a:lnTo>
                <a:lnTo>
                  <a:pt x="1694759" y="1784189"/>
                </a:lnTo>
                <a:lnTo>
                  <a:pt x="1692542" y="1781990"/>
                </a:lnTo>
                <a:lnTo>
                  <a:pt x="1688427" y="1776965"/>
                </a:lnTo>
                <a:lnTo>
                  <a:pt x="1684944" y="1771625"/>
                </a:lnTo>
                <a:lnTo>
                  <a:pt x="1682095" y="1766599"/>
                </a:lnTo>
                <a:lnTo>
                  <a:pt x="1679879" y="1761574"/>
                </a:lnTo>
                <a:lnTo>
                  <a:pt x="1678296" y="1756862"/>
                </a:lnTo>
                <a:lnTo>
                  <a:pt x="1677029" y="1752464"/>
                </a:lnTo>
                <a:lnTo>
                  <a:pt x="1675130" y="1745868"/>
                </a:lnTo>
                <a:lnTo>
                  <a:pt x="1674813" y="1743669"/>
                </a:lnTo>
                <a:lnTo>
                  <a:pt x="1677662" y="1744926"/>
                </a:lnTo>
                <a:lnTo>
                  <a:pt x="1685261" y="1748695"/>
                </a:lnTo>
                <a:lnTo>
                  <a:pt x="1690643" y="1750894"/>
                </a:lnTo>
                <a:lnTo>
                  <a:pt x="1696975" y="1753407"/>
                </a:lnTo>
                <a:lnTo>
                  <a:pt x="1703940" y="1755291"/>
                </a:lnTo>
                <a:lnTo>
                  <a:pt x="1711538" y="1756862"/>
                </a:lnTo>
                <a:lnTo>
                  <a:pt x="1719770" y="1758118"/>
                </a:lnTo>
                <a:lnTo>
                  <a:pt x="1728951" y="1758747"/>
                </a:lnTo>
                <a:lnTo>
                  <a:pt x="1733383" y="1758747"/>
                </a:lnTo>
                <a:lnTo>
                  <a:pt x="1737816" y="1758747"/>
                </a:lnTo>
                <a:lnTo>
                  <a:pt x="1742565" y="1758432"/>
                </a:lnTo>
                <a:lnTo>
                  <a:pt x="1747630" y="1757490"/>
                </a:lnTo>
                <a:lnTo>
                  <a:pt x="1752062" y="1756862"/>
                </a:lnTo>
                <a:lnTo>
                  <a:pt x="1757128" y="1755605"/>
                </a:lnTo>
                <a:lnTo>
                  <a:pt x="1761877" y="1754035"/>
                </a:lnTo>
                <a:lnTo>
                  <a:pt x="1766942" y="1751836"/>
                </a:lnTo>
                <a:lnTo>
                  <a:pt x="1771375" y="1749637"/>
                </a:lnTo>
                <a:lnTo>
                  <a:pt x="1776124" y="1747125"/>
                </a:lnTo>
                <a:lnTo>
                  <a:pt x="1781189" y="1743669"/>
                </a:lnTo>
                <a:lnTo>
                  <a:pt x="1785938" y="1739900"/>
                </a:lnTo>
                <a:lnTo>
                  <a:pt x="1785622" y="1742727"/>
                </a:lnTo>
                <a:lnTo>
                  <a:pt x="1784355" y="1749009"/>
                </a:lnTo>
                <a:lnTo>
                  <a:pt x="1783089" y="1753407"/>
                </a:lnTo>
                <a:lnTo>
                  <a:pt x="1781822" y="1758118"/>
                </a:lnTo>
                <a:lnTo>
                  <a:pt x="1780239" y="1763144"/>
                </a:lnTo>
                <a:lnTo>
                  <a:pt x="1777707" y="1768484"/>
                </a:lnTo>
                <a:lnTo>
                  <a:pt x="1774857" y="1774138"/>
                </a:lnTo>
                <a:lnTo>
                  <a:pt x="1771375" y="1779163"/>
                </a:lnTo>
                <a:lnTo>
                  <a:pt x="1767259" y="1783875"/>
                </a:lnTo>
                <a:lnTo>
                  <a:pt x="1764726" y="1786388"/>
                </a:lnTo>
                <a:lnTo>
                  <a:pt x="1762510" y="1788587"/>
                </a:lnTo>
                <a:lnTo>
                  <a:pt x="1759977" y="1790471"/>
                </a:lnTo>
                <a:lnTo>
                  <a:pt x="1756811" y="1792356"/>
                </a:lnTo>
                <a:lnTo>
                  <a:pt x="1753962" y="1793927"/>
                </a:lnTo>
                <a:lnTo>
                  <a:pt x="1750479" y="1795497"/>
                </a:lnTo>
                <a:lnTo>
                  <a:pt x="1748394" y="1796061"/>
                </a:lnTo>
                <a:lnTo>
                  <a:pt x="1759510" y="1866209"/>
                </a:lnTo>
                <a:lnTo>
                  <a:pt x="1844644" y="1698694"/>
                </a:lnTo>
                <a:lnTo>
                  <a:pt x="1844694" y="1698627"/>
                </a:lnTo>
                <a:lnTo>
                  <a:pt x="1856142" y="1704984"/>
                </a:lnTo>
                <a:lnTo>
                  <a:pt x="1867590" y="1711340"/>
                </a:lnTo>
                <a:lnTo>
                  <a:pt x="1878403" y="1717697"/>
                </a:lnTo>
                <a:lnTo>
                  <a:pt x="1888579" y="1724053"/>
                </a:lnTo>
                <a:lnTo>
                  <a:pt x="1898755" y="1730728"/>
                </a:lnTo>
                <a:lnTo>
                  <a:pt x="1908931" y="1737402"/>
                </a:lnTo>
                <a:lnTo>
                  <a:pt x="1918153" y="1744394"/>
                </a:lnTo>
                <a:lnTo>
                  <a:pt x="1926740" y="1751386"/>
                </a:lnTo>
                <a:lnTo>
                  <a:pt x="1935644" y="1758378"/>
                </a:lnTo>
                <a:lnTo>
                  <a:pt x="1943912" y="1766324"/>
                </a:lnTo>
                <a:lnTo>
                  <a:pt x="1951544" y="1773634"/>
                </a:lnTo>
                <a:lnTo>
                  <a:pt x="1959176" y="1781579"/>
                </a:lnTo>
                <a:lnTo>
                  <a:pt x="1966173" y="1789525"/>
                </a:lnTo>
                <a:lnTo>
                  <a:pt x="1973169" y="1797788"/>
                </a:lnTo>
                <a:lnTo>
                  <a:pt x="1979529" y="1806688"/>
                </a:lnTo>
                <a:lnTo>
                  <a:pt x="1985253" y="1815269"/>
                </a:lnTo>
                <a:lnTo>
                  <a:pt x="1990977" y="1824804"/>
                </a:lnTo>
                <a:lnTo>
                  <a:pt x="1996383" y="1834021"/>
                </a:lnTo>
                <a:lnTo>
                  <a:pt x="2001153" y="1844191"/>
                </a:lnTo>
                <a:lnTo>
                  <a:pt x="2005924" y="1854043"/>
                </a:lnTo>
                <a:lnTo>
                  <a:pt x="2009740" y="1864532"/>
                </a:lnTo>
                <a:lnTo>
                  <a:pt x="2013874" y="1875656"/>
                </a:lnTo>
                <a:lnTo>
                  <a:pt x="2017054" y="1886779"/>
                </a:lnTo>
                <a:lnTo>
                  <a:pt x="2020234" y="1898539"/>
                </a:lnTo>
                <a:lnTo>
                  <a:pt x="2022778" y="1910616"/>
                </a:lnTo>
                <a:lnTo>
                  <a:pt x="2025322" y="1923011"/>
                </a:lnTo>
                <a:lnTo>
                  <a:pt x="2027230" y="1936042"/>
                </a:lnTo>
                <a:lnTo>
                  <a:pt x="2028820" y="1949391"/>
                </a:lnTo>
                <a:lnTo>
                  <a:pt x="2030092" y="1963375"/>
                </a:lnTo>
                <a:lnTo>
                  <a:pt x="2031364" y="1977677"/>
                </a:lnTo>
                <a:lnTo>
                  <a:pt x="2031682" y="1992933"/>
                </a:lnTo>
                <a:lnTo>
                  <a:pt x="2032000" y="2008188"/>
                </a:lnTo>
                <a:lnTo>
                  <a:pt x="1435100" y="2008188"/>
                </a:lnTo>
                <a:lnTo>
                  <a:pt x="1435100" y="1992297"/>
                </a:lnTo>
                <a:lnTo>
                  <a:pt x="1435418" y="1976724"/>
                </a:lnTo>
                <a:lnTo>
                  <a:pt x="1436054" y="1962104"/>
                </a:lnTo>
                <a:lnTo>
                  <a:pt x="1437008" y="1947802"/>
                </a:lnTo>
                <a:lnTo>
                  <a:pt x="1438280" y="1934135"/>
                </a:lnTo>
                <a:lnTo>
                  <a:pt x="1439552" y="1920787"/>
                </a:lnTo>
                <a:lnTo>
                  <a:pt x="1441460" y="1907438"/>
                </a:lnTo>
                <a:lnTo>
                  <a:pt x="1443368" y="1895361"/>
                </a:lnTo>
                <a:lnTo>
                  <a:pt x="1445912" y="1883601"/>
                </a:lnTo>
                <a:lnTo>
                  <a:pt x="1448456" y="1872159"/>
                </a:lnTo>
                <a:lnTo>
                  <a:pt x="1451637" y="1861036"/>
                </a:lnTo>
                <a:lnTo>
                  <a:pt x="1454817" y="1850547"/>
                </a:lnTo>
                <a:lnTo>
                  <a:pt x="1458951" y="1840059"/>
                </a:lnTo>
                <a:lnTo>
                  <a:pt x="1462767" y="1830524"/>
                </a:lnTo>
                <a:lnTo>
                  <a:pt x="1467537" y="1820672"/>
                </a:lnTo>
                <a:lnTo>
                  <a:pt x="1472625" y="1811773"/>
                </a:lnTo>
                <a:lnTo>
                  <a:pt x="1478349" y="1802556"/>
                </a:lnTo>
                <a:lnTo>
                  <a:pt x="1484073" y="1794292"/>
                </a:lnTo>
                <a:lnTo>
                  <a:pt x="1490433" y="1786029"/>
                </a:lnTo>
                <a:lnTo>
                  <a:pt x="1497430" y="1777766"/>
                </a:lnTo>
                <a:lnTo>
                  <a:pt x="1504744" y="1770138"/>
                </a:lnTo>
                <a:lnTo>
                  <a:pt x="1512376" y="1762510"/>
                </a:lnTo>
                <a:lnTo>
                  <a:pt x="1520644" y="1755200"/>
                </a:lnTo>
                <a:lnTo>
                  <a:pt x="1529548" y="1748208"/>
                </a:lnTo>
                <a:lnTo>
                  <a:pt x="1539089" y="1741534"/>
                </a:lnTo>
                <a:lnTo>
                  <a:pt x="1548947" y="1734859"/>
                </a:lnTo>
                <a:lnTo>
                  <a:pt x="1559441" y="1728185"/>
                </a:lnTo>
                <a:lnTo>
                  <a:pt x="1570571" y="1721828"/>
                </a:lnTo>
                <a:lnTo>
                  <a:pt x="1582338" y="1715472"/>
                </a:lnTo>
                <a:lnTo>
                  <a:pt x="1594740" y="1709115"/>
                </a:lnTo>
                <a:lnTo>
                  <a:pt x="1607460" y="1703077"/>
                </a:lnTo>
                <a:lnTo>
                  <a:pt x="1620816" y="1697038"/>
                </a:lnTo>
                <a:close/>
                <a:moveTo>
                  <a:pt x="902871" y="1697038"/>
                </a:moveTo>
                <a:lnTo>
                  <a:pt x="903937" y="1698486"/>
                </a:lnTo>
                <a:lnTo>
                  <a:pt x="980372" y="1869126"/>
                </a:lnTo>
                <a:lnTo>
                  <a:pt x="1001527" y="1797092"/>
                </a:lnTo>
                <a:lnTo>
                  <a:pt x="999293" y="1796753"/>
                </a:lnTo>
                <a:lnTo>
                  <a:pt x="995791" y="1795497"/>
                </a:lnTo>
                <a:lnTo>
                  <a:pt x="991970" y="1794241"/>
                </a:lnTo>
                <a:lnTo>
                  <a:pt x="988786" y="1792670"/>
                </a:lnTo>
                <a:lnTo>
                  <a:pt x="985283" y="1790785"/>
                </a:lnTo>
                <a:lnTo>
                  <a:pt x="982417" y="1788901"/>
                </a:lnTo>
                <a:lnTo>
                  <a:pt x="979552" y="1786702"/>
                </a:lnTo>
                <a:lnTo>
                  <a:pt x="977323" y="1784189"/>
                </a:lnTo>
                <a:lnTo>
                  <a:pt x="975094" y="1781990"/>
                </a:lnTo>
                <a:lnTo>
                  <a:pt x="970636" y="1776965"/>
                </a:lnTo>
                <a:lnTo>
                  <a:pt x="967134" y="1771625"/>
                </a:lnTo>
                <a:lnTo>
                  <a:pt x="964268" y="1766599"/>
                </a:lnTo>
                <a:lnTo>
                  <a:pt x="962357" y="1761574"/>
                </a:lnTo>
                <a:lnTo>
                  <a:pt x="960129" y="1756862"/>
                </a:lnTo>
                <a:lnTo>
                  <a:pt x="958855" y="1752464"/>
                </a:lnTo>
                <a:lnTo>
                  <a:pt x="957581" y="1745868"/>
                </a:lnTo>
                <a:lnTo>
                  <a:pt x="957263" y="1743669"/>
                </a:lnTo>
                <a:lnTo>
                  <a:pt x="959810" y="1744926"/>
                </a:lnTo>
                <a:lnTo>
                  <a:pt x="967452" y="1748695"/>
                </a:lnTo>
                <a:lnTo>
                  <a:pt x="972865" y="1750894"/>
                </a:lnTo>
                <a:lnTo>
                  <a:pt x="979233" y="1753407"/>
                </a:lnTo>
                <a:lnTo>
                  <a:pt x="986238" y="1755291"/>
                </a:lnTo>
                <a:lnTo>
                  <a:pt x="994199" y="1756862"/>
                </a:lnTo>
                <a:lnTo>
                  <a:pt x="1002477" y="1758118"/>
                </a:lnTo>
                <a:lnTo>
                  <a:pt x="1011074" y="1758747"/>
                </a:lnTo>
                <a:lnTo>
                  <a:pt x="1015851" y="1758747"/>
                </a:lnTo>
                <a:lnTo>
                  <a:pt x="1020627" y="1758747"/>
                </a:lnTo>
                <a:lnTo>
                  <a:pt x="1025084" y="1758432"/>
                </a:lnTo>
                <a:lnTo>
                  <a:pt x="1029861" y="1757490"/>
                </a:lnTo>
                <a:lnTo>
                  <a:pt x="1034955" y="1756862"/>
                </a:lnTo>
                <a:lnTo>
                  <a:pt x="1039731" y="1755605"/>
                </a:lnTo>
                <a:lnTo>
                  <a:pt x="1044507" y="1754035"/>
                </a:lnTo>
                <a:lnTo>
                  <a:pt x="1049284" y="1751836"/>
                </a:lnTo>
                <a:lnTo>
                  <a:pt x="1054378" y="1749637"/>
                </a:lnTo>
                <a:lnTo>
                  <a:pt x="1059154" y="1747125"/>
                </a:lnTo>
                <a:lnTo>
                  <a:pt x="1063612" y="1743669"/>
                </a:lnTo>
                <a:lnTo>
                  <a:pt x="1068388" y="1739900"/>
                </a:lnTo>
                <a:lnTo>
                  <a:pt x="1068070" y="1742727"/>
                </a:lnTo>
                <a:lnTo>
                  <a:pt x="1067114" y="1749009"/>
                </a:lnTo>
                <a:lnTo>
                  <a:pt x="1066159" y="1753407"/>
                </a:lnTo>
                <a:lnTo>
                  <a:pt x="1064886" y="1758118"/>
                </a:lnTo>
                <a:lnTo>
                  <a:pt x="1062657" y="1763144"/>
                </a:lnTo>
                <a:lnTo>
                  <a:pt x="1060428" y="1768484"/>
                </a:lnTo>
                <a:lnTo>
                  <a:pt x="1057562" y="1774138"/>
                </a:lnTo>
                <a:lnTo>
                  <a:pt x="1054060" y="1779163"/>
                </a:lnTo>
                <a:lnTo>
                  <a:pt x="1049920" y="1783875"/>
                </a:lnTo>
                <a:lnTo>
                  <a:pt x="1047691" y="1786388"/>
                </a:lnTo>
                <a:lnTo>
                  <a:pt x="1044826" y="1788587"/>
                </a:lnTo>
                <a:lnTo>
                  <a:pt x="1042279" y="1790471"/>
                </a:lnTo>
                <a:lnTo>
                  <a:pt x="1039413" y="1792356"/>
                </a:lnTo>
                <a:lnTo>
                  <a:pt x="1036229" y="1793927"/>
                </a:lnTo>
                <a:lnTo>
                  <a:pt x="1033045" y="1795497"/>
                </a:lnTo>
                <a:lnTo>
                  <a:pt x="1030775" y="1796108"/>
                </a:lnTo>
                <a:lnTo>
                  <a:pt x="1041937" y="1866254"/>
                </a:lnTo>
                <a:lnTo>
                  <a:pt x="1126943" y="1698990"/>
                </a:lnTo>
                <a:lnTo>
                  <a:pt x="1138014" y="1704984"/>
                </a:lnTo>
                <a:lnTo>
                  <a:pt x="1149120" y="1711340"/>
                </a:lnTo>
                <a:lnTo>
                  <a:pt x="1159592" y="1717697"/>
                </a:lnTo>
                <a:lnTo>
                  <a:pt x="1170382" y="1724053"/>
                </a:lnTo>
                <a:lnTo>
                  <a:pt x="1180536" y="1730728"/>
                </a:lnTo>
                <a:lnTo>
                  <a:pt x="1190056" y="1737402"/>
                </a:lnTo>
                <a:lnTo>
                  <a:pt x="1199576" y="1744394"/>
                </a:lnTo>
                <a:lnTo>
                  <a:pt x="1208461" y="1751386"/>
                </a:lnTo>
                <a:lnTo>
                  <a:pt x="1217029" y="1758378"/>
                </a:lnTo>
                <a:lnTo>
                  <a:pt x="1225280" y="1766324"/>
                </a:lnTo>
                <a:lnTo>
                  <a:pt x="1233213" y="1773634"/>
                </a:lnTo>
                <a:lnTo>
                  <a:pt x="1240512" y="1781579"/>
                </a:lnTo>
                <a:lnTo>
                  <a:pt x="1247493" y="1789525"/>
                </a:lnTo>
                <a:lnTo>
                  <a:pt x="1254474" y="1797788"/>
                </a:lnTo>
                <a:lnTo>
                  <a:pt x="1260821" y="1806688"/>
                </a:lnTo>
                <a:lnTo>
                  <a:pt x="1266850" y="1815269"/>
                </a:lnTo>
                <a:lnTo>
                  <a:pt x="1272245" y="1824804"/>
                </a:lnTo>
                <a:lnTo>
                  <a:pt x="1277639" y="1834021"/>
                </a:lnTo>
                <a:lnTo>
                  <a:pt x="1282399" y="1844191"/>
                </a:lnTo>
                <a:lnTo>
                  <a:pt x="1286842" y="1854043"/>
                </a:lnTo>
                <a:lnTo>
                  <a:pt x="1291285" y="1864532"/>
                </a:lnTo>
                <a:lnTo>
                  <a:pt x="1294775" y="1875656"/>
                </a:lnTo>
                <a:lnTo>
                  <a:pt x="1298583" y="1886779"/>
                </a:lnTo>
                <a:lnTo>
                  <a:pt x="1301439" y="1898539"/>
                </a:lnTo>
                <a:lnTo>
                  <a:pt x="1304295" y="1910616"/>
                </a:lnTo>
                <a:lnTo>
                  <a:pt x="1306517" y="1923011"/>
                </a:lnTo>
                <a:lnTo>
                  <a:pt x="1308421" y="1936042"/>
                </a:lnTo>
                <a:lnTo>
                  <a:pt x="1310325" y="1949391"/>
                </a:lnTo>
                <a:lnTo>
                  <a:pt x="1311594" y="1963375"/>
                </a:lnTo>
                <a:lnTo>
                  <a:pt x="1312228" y="1977677"/>
                </a:lnTo>
                <a:lnTo>
                  <a:pt x="1312863" y="1992933"/>
                </a:lnTo>
                <a:lnTo>
                  <a:pt x="1312863" y="2008188"/>
                </a:lnTo>
                <a:lnTo>
                  <a:pt x="717550" y="2008188"/>
                </a:lnTo>
                <a:lnTo>
                  <a:pt x="717867" y="1992297"/>
                </a:lnTo>
                <a:lnTo>
                  <a:pt x="718185" y="1976724"/>
                </a:lnTo>
                <a:lnTo>
                  <a:pt x="718819" y="1962104"/>
                </a:lnTo>
                <a:lnTo>
                  <a:pt x="719454" y="1947802"/>
                </a:lnTo>
                <a:lnTo>
                  <a:pt x="720723" y="1934135"/>
                </a:lnTo>
                <a:lnTo>
                  <a:pt x="721993" y="1920787"/>
                </a:lnTo>
                <a:lnTo>
                  <a:pt x="723897" y="1907438"/>
                </a:lnTo>
                <a:lnTo>
                  <a:pt x="725801" y="1895361"/>
                </a:lnTo>
                <a:lnTo>
                  <a:pt x="728022" y="1883601"/>
                </a:lnTo>
                <a:lnTo>
                  <a:pt x="730878" y="1872159"/>
                </a:lnTo>
                <a:lnTo>
                  <a:pt x="734051" y="1861036"/>
                </a:lnTo>
                <a:lnTo>
                  <a:pt x="737542" y="1850547"/>
                </a:lnTo>
                <a:lnTo>
                  <a:pt x="741033" y="1840059"/>
                </a:lnTo>
                <a:lnTo>
                  <a:pt x="745475" y="1830524"/>
                </a:lnTo>
                <a:lnTo>
                  <a:pt x="750235" y="1820672"/>
                </a:lnTo>
                <a:lnTo>
                  <a:pt x="755313" y="1811773"/>
                </a:lnTo>
                <a:lnTo>
                  <a:pt x="760390" y="1802556"/>
                </a:lnTo>
                <a:lnTo>
                  <a:pt x="766419" y="1794292"/>
                </a:lnTo>
                <a:lnTo>
                  <a:pt x="772766" y="1786029"/>
                </a:lnTo>
                <a:lnTo>
                  <a:pt x="779430" y="1777766"/>
                </a:lnTo>
                <a:lnTo>
                  <a:pt x="786728" y="1770138"/>
                </a:lnTo>
                <a:lnTo>
                  <a:pt x="794979" y="1762510"/>
                </a:lnTo>
                <a:lnTo>
                  <a:pt x="802912" y="1755200"/>
                </a:lnTo>
                <a:lnTo>
                  <a:pt x="811797" y="1748208"/>
                </a:lnTo>
                <a:lnTo>
                  <a:pt x="821317" y="1741534"/>
                </a:lnTo>
                <a:lnTo>
                  <a:pt x="831155" y="1734859"/>
                </a:lnTo>
                <a:lnTo>
                  <a:pt x="841627" y="1728185"/>
                </a:lnTo>
                <a:lnTo>
                  <a:pt x="852733" y="1721828"/>
                </a:lnTo>
                <a:lnTo>
                  <a:pt x="864157" y="1715472"/>
                </a:lnTo>
                <a:lnTo>
                  <a:pt x="876533" y="1709115"/>
                </a:lnTo>
                <a:lnTo>
                  <a:pt x="889544" y="1703077"/>
                </a:lnTo>
                <a:lnTo>
                  <a:pt x="902871" y="1697038"/>
                </a:lnTo>
                <a:close/>
                <a:moveTo>
                  <a:pt x="185540" y="1697038"/>
                </a:moveTo>
                <a:lnTo>
                  <a:pt x="186040" y="1697719"/>
                </a:lnTo>
                <a:lnTo>
                  <a:pt x="262534" y="1869986"/>
                </a:lnTo>
                <a:lnTo>
                  <a:pt x="283868" y="1797044"/>
                </a:lnTo>
                <a:lnTo>
                  <a:pt x="281820" y="1796753"/>
                </a:lnTo>
                <a:lnTo>
                  <a:pt x="278021" y="1795497"/>
                </a:lnTo>
                <a:lnTo>
                  <a:pt x="274538" y="1794241"/>
                </a:lnTo>
                <a:lnTo>
                  <a:pt x="271056" y="1792670"/>
                </a:lnTo>
                <a:lnTo>
                  <a:pt x="268207" y="1790785"/>
                </a:lnTo>
                <a:lnTo>
                  <a:pt x="265041" y="1788901"/>
                </a:lnTo>
                <a:lnTo>
                  <a:pt x="262508" y="1786702"/>
                </a:lnTo>
                <a:lnTo>
                  <a:pt x="259975" y="1784189"/>
                </a:lnTo>
                <a:lnTo>
                  <a:pt x="257442" y="1781990"/>
                </a:lnTo>
                <a:lnTo>
                  <a:pt x="253643" y="1776965"/>
                </a:lnTo>
                <a:lnTo>
                  <a:pt x="249844" y="1771625"/>
                </a:lnTo>
                <a:lnTo>
                  <a:pt x="247311" y="1766599"/>
                </a:lnTo>
                <a:lnTo>
                  <a:pt x="244778" y="1761574"/>
                </a:lnTo>
                <a:lnTo>
                  <a:pt x="243195" y="1756862"/>
                </a:lnTo>
                <a:lnTo>
                  <a:pt x="241929" y="1752464"/>
                </a:lnTo>
                <a:lnTo>
                  <a:pt x="240030" y="1745868"/>
                </a:lnTo>
                <a:lnTo>
                  <a:pt x="239713" y="1743669"/>
                </a:lnTo>
                <a:lnTo>
                  <a:pt x="242562" y="1744926"/>
                </a:lnTo>
                <a:lnTo>
                  <a:pt x="250161" y="1748695"/>
                </a:lnTo>
                <a:lnTo>
                  <a:pt x="255543" y="1750894"/>
                </a:lnTo>
                <a:lnTo>
                  <a:pt x="261875" y="1753407"/>
                </a:lnTo>
                <a:lnTo>
                  <a:pt x="268840" y="1755291"/>
                </a:lnTo>
                <a:lnTo>
                  <a:pt x="276438" y="1756862"/>
                </a:lnTo>
                <a:lnTo>
                  <a:pt x="284669" y="1758118"/>
                </a:lnTo>
                <a:lnTo>
                  <a:pt x="293851" y="1758747"/>
                </a:lnTo>
                <a:lnTo>
                  <a:pt x="297966" y="1758747"/>
                </a:lnTo>
                <a:lnTo>
                  <a:pt x="302715" y="1758747"/>
                </a:lnTo>
                <a:lnTo>
                  <a:pt x="307464" y="1758432"/>
                </a:lnTo>
                <a:lnTo>
                  <a:pt x="312530" y="1757490"/>
                </a:lnTo>
                <a:lnTo>
                  <a:pt x="316962" y="1756862"/>
                </a:lnTo>
                <a:lnTo>
                  <a:pt x="322028" y="1755605"/>
                </a:lnTo>
                <a:lnTo>
                  <a:pt x="326777" y="1754035"/>
                </a:lnTo>
                <a:lnTo>
                  <a:pt x="331526" y="1751836"/>
                </a:lnTo>
                <a:lnTo>
                  <a:pt x="336274" y="1749637"/>
                </a:lnTo>
                <a:lnTo>
                  <a:pt x="341023" y="1747125"/>
                </a:lnTo>
                <a:lnTo>
                  <a:pt x="346089" y="1743669"/>
                </a:lnTo>
                <a:lnTo>
                  <a:pt x="350838" y="1739900"/>
                </a:lnTo>
                <a:lnTo>
                  <a:pt x="350521" y="1742727"/>
                </a:lnTo>
                <a:lnTo>
                  <a:pt x="348938" y="1749009"/>
                </a:lnTo>
                <a:lnTo>
                  <a:pt x="347989" y="1753407"/>
                </a:lnTo>
                <a:lnTo>
                  <a:pt x="346722" y="1758118"/>
                </a:lnTo>
                <a:lnTo>
                  <a:pt x="345139" y="1763144"/>
                </a:lnTo>
                <a:lnTo>
                  <a:pt x="342606" y="1768484"/>
                </a:lnTo>
                <a:lnTo>
                  <a:pt x="339757" y="1774138"/>
                </a:lnTo>
                <a:lnTo>
                  <a:pt x="336274" y="1779163"/>
                </a:lnTo>
                <a:lnTo>
                  <a:pt x="332159" y="1783875"/>
                </a:lnTo>
                <a:lnTo>
                  <a:pt x="329626" y="1786388"/>
                </a:lnTo>
                <a:lnTo>
                  <a:pt x="327410" y="1788587"/>
                </a:lnTo>
                <a:lnTo>
                  <a:pt x="324877" y="1790471"/>
                </a:lnTo>
                <a:lnTo>
                  <a:pt x="321711" y="1792356"/>
                </a:lnTo>
                <a:lnTo>
                  <a:pt x="318862" y="1793927"/>
                </a:lnTo>
                <a:lnTo>
                  <a:pt x="315379" y="1795497"/>
                </a:lnTo>
                <a:lnTo>
                  <a:pt x="313294" y="1796061"/>
                </a:lnTo>
                <a:lnTo>
                  <a:pt x="324147" y="1864546"/>
                </a:lnTo>
                <a:lnTo>
                  <a:pt x="406919" y="1700746"/>
                </a:lnTo>
                <a:lnTo>
                  <a:pt x="408505" y="1698627"/>
                </a:lnTo>
                <a:lnTo>
                  <a:pt x="419923" y="1704984"/>
                </a:lnTo>
                <a:lnTo>
                  <a:pt x="431023" y="1711340"/>
                </a:lnTo>
                <a:lnTo>
                  <a:pt x="442124" y="1717697"/>
                </a:lnTo>
                <a:lnTo>
                  <a:pt x="452590" y="1724053"/>
                </a:lnTo>
                <a:lnTo>
                  <a:pt x="462422" y="1730728"/>
                </a:lnTo>
                <a:lnTo>
                  <a:pt x="472254" y="1737402"/>
                </a:lnTo>
                <a:lnTo>
                  <a:pt x="481452" y="1744394"/>
                </a:lnTo>
                <a:lnTo>
                  <a:pt x="490333" y="1751386"/>
                </a:lnTo>
                <a:lnTo>
                  <a:pt x="499213" y="1758378"/>
                </a:lnTo>
                <a:lnTo>
                  <a:pt x="507459" y="1766324"/>
                </a:lnTo>
                <a:lnTo>
                  <a:pt x="515071" y="1773634"/>
                </a:lnTo>
                <a:lnTo>
                  <a:pt x="522683" y="1781579"/>
                </a:lnTo>
                <a:lnTo>
                  <a:pt x="529978" y="1789525"/>
                </a:lnTo>
                <a:lnTo>
                  <a:pt x="536638" y="1797788"/>
                </a:lnTo>
                <a:lnTo>
                  <a:pt x="542981" y="1806688"/>
                </a:lnTo>
                <a:lnTo>
                  <a:pt x="549008" y="1815269"/>
                </a:lnTo>
                <a:lnTo>
                  <a:pt x="554399" y="1824804"/>
                </a:lnTo>
                <a:lnTo>
                  <a:pt x="559791" y="1834021"/>
                </a:lnTo>
                <a:lnTo>
                  <a:pt x="564548" y="1844191"/>
                </a:lnTo>
                <a:lnTo>
                  <a:pt x="569306" y="1854043"/>
                </a:lnTo>
                <a:lnTo>
                  <a:pt x="573112" y="1864532"/>
                </a:lnTo>
                <a:lnTo>
                  <a:pt x="577235" y="1875656"/>
                </a:lnTo>
                <a:lnTo>
                  <a:pt x="580407" y="1886779"/>
                </a:lnTo>
                <a:lnTo>
                  <a:pt x="583578" y="1898539"/>
                </a:lnTo>
                <a:lnTo>
                  <a:pt x="586115" y="1910616"/>
                </a:lnTo>
                <a:lnTo>
                  <a:pt x="588653" y="1923011"/>
                </a:lnTo>
                <a:lnTo>
                  <a:pt x="590556" y="1936042"/>
                </a:lnTo>
                <a:lnTo>
                  <a:pt x="592142" y="1949391"/>
                </a:lnTo>
                <a:lnTo>
                  <a:pt x="593410" y="1963375"/>
                </a:lnTo>
                <a:lnTo>
                  <a:pt x="594679" y="1977677"/>
                </a:lnTo>
                <a:lnTo>
                  <a:pt x="594996" y="1992933"/>
                </a:lnTo>
                <a:lnTo>
                  <a:pt x="595313" y="2008188"/>
                </a:lnTo>
                <a:lnTo>
                  <a:pt x="0" y="2008188"/>
                </a:lnTo>
                <a:lnTo>
                  <a:pt x="0" y="1992297"/>
                </a:lnTo>
                <a:lnTo>
                  <a:pt x="317" y="1976724"/>
                </a:lnTo>
                <a:lnTo>
                  <a:pt x="952" y="1962104"/>
                </a:lnTo>
                <a:lnTo>
                  <a:pt x="2220" y="1947802"/>
                </a:lnTo>
                <a:lnTo>
                  <a:pt x="3172" y="1934135"/>
                </a:lnTo>
                <a:lnTo>
                  <a:pt x="4440" y="1920787"/>
                </a:lnTo>
                <a:lnTo>
                  <a:pt x="6343" y="1907438"/>
                </a:lnTo>
                <a:lnTo>
                  <a:pt x="8563" y="1895361"/>
                </a:lnTo>
                <a:lnTo>
                  <a:pt x="10784" y="1883601"/>
                </a:lnTo>
                <a:lnTo>
                  <a:pt x="13321" y="1872159"/>
                </a:lnTo>
                <a:lnTo>
                  <a:pt x="16492" y="1861036"/>
                </a:lnTo>
                <a:lnTo>
                  <a:pt x="19664" y="1850547"/>
                </a:lnTo>
                <a:lnTo>
                  <a:pt x="23787" y="1840059"/>
                </a:lnTo>
                <a:lnTo>
                  <a:pt x="27910" y="1830524"/>
                </a:lnTo>
                <a:lnTo>
                  <a:pt x="32351" y="1820672"/>
                </a:lnTo>
                <a:lnTo>
                  <a:pt x="37425" y="1811773"/>
                </a:lnTo>
                <a:lnTo>
                  <a:pt x="43134" y="1802556"/>
                </a:lnTo>
                <a:lnTo>
                  <a:pt x="48843" y="1794292"/>
                </a:lnTo>
                <a:lnTo>
                  <a:pt x="55186" y="1786029"/>
                </a:lnTo>
                <a:lnTo>
                  <a:pt x="62164" y="1777766"/>
                </a:lnTo>
                <a:lnTo>
                  <a:pt x="69459" y="1770138"/>
                </a:lnTo>
                <a:lnTo>
                  <a:pt x="77070" y="1762510"/>
                </a:lnTo>
                <a:lnTo>
                  <a:pt x="85317" y="1755200"/>
                </a:lnTo>
                <a:lnTo>
                  <a:pt x="94514" y="1748208"/>
                </a:lnTo>
                <a:lnTo>
                  <a:pt x="103712" y="1741534"/>
                </a:lnTo>
                <a:lnTo>
                  <a:pt x="113544" y="1734859"/>
                </a:lnTo>
                <a:lnTo>
                  <a:pt x="124010" y="1728185"/>
                </a:lnTo>
                <a:lnTo>
                  <a:pt x="135111" y="1721828"/>
                </a:lnTo>
                <a:lnTo>
                  <a:pt x="146846" y="1715472"/>
                </a:lnTo>
                <a:lnTo>
                  <a:pt x="159215" y="1709115"/>
                </a:lnTo>
                <a:lnTo>
                  <a:pt x="171902" y="1703077"/>
                </a:lnTo>
                <a:lnTo>
                  <a:pt x="185540" y="1697038"/>
                </a:lnTo>
                <a:close/>
                <a:moveTo>
                  <a:pt x="1733551" y="1376363"/>
                </a:moveTo>
                <a:lnTo>
                  <a:pt x="1742737" y="1376998"/>
                </a:lnTo>
                <a:lnTo>
                  <a:pt x="1752557" y="1378268"/>
                </a:lnTo>
                <a:lnTo>
                  <a:pt x="1763644" y="1380491"/>
                </a:lnTo>
                <a:lnTo>
                  <a:pt x="1774731" y="1383348"/>
                </a:lnTo>
                <a:lnTo>
                  <a:pt x="1780433" y="1384936"/>
                </a:lnTo>
                <a:lnTo>
                  <a:pt x="1786135" y="1387158"/>
                </a:lnTo>
                <a:lnTo>
                  <a:pt x="1791520" y="1389063"/>
                </a:lnTo>
                <a:lnTo>
                  <a:pt x="1797222" y="1391603"/>
                </a:lnTo>
                <a:lnTo>
                  <a:pt x="1802924" y="1394461"/>
                </a:lnTo>
                <a:lnTo>
                  <a:pt x="1808309" y="1397001"/>
                </a:lnTo>
                <a:lnTo>
                  <a:pt x="1813694" y="1400493"/>
                </a:lnTo>
                <a:lnTo>
                  <a:pt x="1819079" y="1403986"/>
                </a:lnTo>
                <a:lnTo>
                  <a:pt x="1823831" y="1407796"/>
                </a:lnTo>
                <a:lnTo>
                  <a:pt x="1828582" y="1411606"/>
                </a:lnTo>
                <a:lnTo>
                  <a:pt x="1833334" y="1416051"/>
                </a:lnTo>
                <a:lnTo>
                  <a:pt x="1837769" y="1421131"/>
                </a:lnTo>
                <a:lnTo>
                  <a:pt x="1841570" y="1426211"/>
                </a:lnTo>
                <a:lnTo>
                  <a:pt x="1845371" y="1431608"/>
                </a:lnTo>
                <a:lnTo>
                  <a:pt x="1848222" y="1437006"/>
                </a:lnTo>
                <a:lnTo>
                  <a:pt x="1851390" y="1443038"/>
                </a:lnTo>
                <a:lnTo>
                  <a:pt x="1853607" y="1449388"/>
                </a:lnTo>
                <a:lnTo>
                  <a:pt x="1855508" y="1456373"/>
                </a:lnTo>
                <a:lnTo>
                  <a:pt x="1857408" y="1463676"/>
                </a:lnTo>
                <a:lnTo>
                  <a:pt x="1858359" y="1471296"/>
                </a:lnTo>
                <a:lnTo>
                  <a:pt x="1858675" y="1479233"/>
                </a:lnTo>
                <a:lnTo>
                  <a:pt x="1858675" y="1487488"/>
                </a:lnTo>
                <a:lnTo>
                  <a:pt x="1858042" y="1496378"/>
                </a:lnTo>
                <a:lnTo>
                  <a:pt x="1856775" y="1505586"/>
                </a:lnTo>
                <a:lnTo>
                  <a:pt x="1857408" y="1505586"/>
                </a:lnTo>
                <a:lnTo>
                  <a:pt x="1858992" y="1506221"/>
                </a:lnTo>
                <a:lnTo>
                  <a:pt x="1861210" y="1507491"/>
                </a:lnTo>
                <a:lnTo>
                  <a:pt x="1864377" y="1509713"/>
                </a:lnTo>
                <a:lnTo>
                  <a:pt x="1865644" y="1511301"/>
                </a:lnTo>
                <a:lnTo>
                  <a:pt x="1866912" y="1512888"/>
                </a:lnTo>
                <a:lnTo>
                  <a:pt x="1868179" y="1514793"/>
                </a:lnTo>
                <a:lnTo>
                  <a:pt x="1869446" y="1517651"/>
                </a:lnTo>
                <a:lnTo>
                  <a:pt x="1870396" y="1520191"/>
                </a:lnTo>
                <a:lnTo>
                  <a:pt x="1871030" y="1523683"/>
                </a:lnTo>
                <a:lnTo>
                  <a:pt x="1871663" y="1527176"/>
                </a:lnTo>
                <a:lnTo>
                  <a:pt x="1871663" y="1531621"/>
                </a:lnTo>
                <a:lnTo>
                  <a:pt x="1871663" y="1539558"/>
                </a:lnTo>
                <a:lnTo>
                  <a:pt x="1871030" y="1546543"/>
                </a:lnTo>
                <a:lnTo>
                  <a:pt x="1870079" y="1552893"/>
                </a:lnTo>
                <a:lnTo>
                  <a:pt x="1868495" y="1557973"/>
                </a:lnTo>
                <a:lnTo>
                  <a:pt x="1866912" y="1562418"/>
                </a:lnTo>
                <a:lnTo>
                  <a:pt x="1865011" y="1566228"/>
                </a:lnTo>
                <a:lnTo>
                  <a:pt x="1863110" y="1569721"/>
                </a:lnTo>
                <a:lnTo>
                  <a:pt x="1860576" y="1572578"/>
                </a:lnTo>
                <a:lnTo>
                  <a:pt x="1858359" y="1575753"/>
                </a:lnTo>
                <a:lnTo>
                  <a:pt x="1857092" y="1577341"/>
                </a:lnTo>
                <a:lnTo>
                  <a:pt x="1855508" y="1579881"/>
                </a:lnTo>
                <a:lnTo>
                  <a:pt x="1854241" y="1582421"/>
                </a:lnTo>
                <a:lnTo>
                  <a:pt x="1853290" y="1585596"/>
                </a:lnTo>
                <a:lnTo>
                  <a:pt x="1852340" y="1589406"/>
                </a:lnTo>
                <a:lnTo>
                  <a:pt x="1851707" y="1593851"/>
                </a:lnTo>
                <a:lnTo>
                  <a:pt x="1851073" y="1598931"/>
                </a:lnTo>
                <a:lnTo>
                  <a:pt x="1850439" y="1603693"/>
                </a:lnTo>
                <a:lnTo>
                  <a:pt x="1848856" y="1608773"/>
                </a:lnTo>
                <a:lnTo>
                  <a:pt x="1847588" y="1614171"/>
                </a:lnTo>
                <a:lnTo>
                  <a:pt x="1846005" y="1619568"/>
                </a:lnTo>
                <a:lnTo>
                  <a:pt x="1844104" y="1624966"/>
                </a:lnTo>
                <a:lnTo>
                  <a:pt x="1839669" y="1635444"/>
                </a:lnTo>
                <a:lnTo>
                  <a:pt x="1834284" y="1646239"/>
                </a:lnTo>
                <a:lnTo>
                  <a:pt x="1831433" y="1651636"/>
                </a:lnTo>
                <a:lnTo>
                  <a:pt x="1827949" y="1657034"/>
                </a:lnTo>
                <a:lnTo>
                  <a:pt x="1824781" y="1661796"/>
                </a:lnTo>
                <a:lnTo>
                  <a:pt x="1821296" y="1666876"/>
                </a:lnTo>
                <a:lnTo>
                  <a:pt x="1817178" y="1671956"/>
                </a:lnTo>
                <a:lnTo>
                  <a:pt x="1813694" y="1676719"/>
                </a:lnTo>
                <a:lnTo>
                  <a:pt x="1809576" y="1681164"/>
                </a:lnTo>
                <a:lnTo>
                  <a:pt x="1805458" y="1685926"/>
                </a:lnTo>
                <a:lnTo>
                  <a:pt x="1801023" y="1690371"/>
                </a:lnTo>
                <a:lnTo>
                  <a:pt x="1796588" y="1694181"/>
                </a:lnTo>
                <a:lnTo>
                  <a:pt x="1791837" y="1698309"/>
                </a:lnTo>
                <a:lnTo>
                  <a:pt x="1787085" y="1702119"/>
                </a:lnTo>
                <a:lnTo>
                  <a:pt x="1782333" y="1705294"/>
                </a:lnTo>
                <a:lnTo>
                  <a:pt x="1777265" y="1708469"/>
                </a:lnTo>
                <a:lnTo>
                  <a:pt x="1771880" y="1711009"/>
                </a:lnTo>
                <a:lnTo>
                  <a:pt x="1767128" y="1713549"/>
                </a:lnTo>
                <a:lnTo>
                  <a:pt x="1761743" y="1715771"/>
                </a:lnTo>
                <a:lnTo>
                  <a:pt x="1756041" y="1717676"/>
                </a:lnTo>
                <a:lnTo>
                  <a:pt x="1750656" y="1718946"/>
                </a:lnTo>
                <a:lnTo>
                  <a:pt x="1744954" y="1719899"/>
                </a:lnTo>
                <a:lnTo>
                  <a:pt x="1739253" y="1720534"/>
                </a:lnTo>
                <a:lnTo>
                  <a:pt x="1733551" y="1720851"/>
                </a:lnTo>
                <a:lnTo>
                  <a:pt x="1728166" y="1720534"/>
                </a:lnTo>
                <a:lnTo>
                  <a:pt x="1722464" y="1719899"/>
                </a:lnTo>
                <a:lnTo>
                  <a:pt x="1716762" y="1718946"/>
                </a:lnTo>
                <a:lnTo>
                  <a:pt x="1711060" y="1717676"/>
                </a:lnTo>
                <a:lnTo>
                  <a:pt x="1705675" y="1715771"/>
                </a:lnTo>
                <a:lnTo>
                  <a:pt x="1700290" y="1713549"/>
                </a:lnTo>
                <a:lnTo>
                  <a:pt x="1694904" y="1711009"/>
                </a:lnTo>
                <a:lnTo>
                  <a:pt x="1690153" y="1708469"/>
                </a:lnTo>
                <a:lnTo>
                  <a:pt x="1685085" y="1705294"/>
                </a:lnTo>
                <a:lnTo>
                  <a:pt x="1680016" y="1702119"/>
                </a:lnTo>
                <a:lnTo>
                  <a:pt x="1675265" y="1698309"/>
                </a:lnTo>
                <a:lnTo>
                  <a:pt x="1670830" y="1694181"/>
                </a:lnTo>
                <a:lnTo>
                  <a:pt x="1666395" y="1690371"/>
                </a:lnTo>
                <a:lnTo>
                  <a:pt x="1661960" y="1685926"/>
                </a:lnTo>
                <a:lnTo>
                  <a:pt x="1657842" y="1681164"/>
                </a:lnTo>
                <a:lnTo>
                  <a:pt x="1653724" y="1676719"/>
                </a:lnTo>
                <a:lnTo>
                  <a:pt x="1649606" y="1671956"/>
                </a:lnTo>
                <a:lnTo>
                  <a:pt x="1646122" y="1666876"/>
                </a:lnTo>
                <a:lnTo>
                  <a:pt x="1642637" y="1661796"/>
                </a:lnTo>
                <a:lnTo>
                  <a:pt x="1639469" y="1657034"/>
                </a:lnTo>
                <a:lnTo>
                  <a:pt x="1635985" y="1651636"/>
                </a:lnTo>
                <a:lnTo>
                  <a:pt x="1633134" y="1646239"/>
                </a:lnTo>
                <a:lnTo>
                  <a:pt x="1627749" y="1635444"/>
                </a:lnTo>
                <a:lnTo>
                  <a:pt x="1623314" y="1624966"/>
                </a:lnTo>
                <a:lnTo>
                  <a:pt x="1621413" y="1619568"/>
                </a:lnTo>
                <a:lnTo>
                  <a:pt x="1619830" y="1614171"/>
                </a:lnTo>
                <a:lnTo>
                  <a:pt x="1618246" y="1608773"/>
                </a:lnTo>
                <a:lnTo>
                  <a:pt x="1616979" y="1603693"/>
                </a:lnTo>
                <a:lnTo>
                  <a:pt x="1616028" y="1598931"/>
                </a:lnTo>
                <a:lnTo>
                  <a:pt x="1615395" y="1593851"/>
                </a:lnTo>
                <a:lnTo>
                  <a:pt x="1614761" y="1589406"/>
                </a:lnTo>
                <a:lnTo>
                  <a:pt x="1614128" y="1585596"/>
                </a:lnTo>
                <a:lnTo>
                  <a:pt x="1612861" y="1582421"/>
                </a:lnTo>
                <a:lnTo>
                  <a:pt x="1611593" y="1579881"/>
                </a:lnTo>
                <a:lnTo>
                  <a:pt x="1610326" y="1577341"/>
                </a:lnTo>
                <a:lnTo>
                  <a:pt x="1609059" y="1575753"/>
                </a:lnTo>
                <a:lnTo>
                  <a:pt x="1606842" y="1572578"/>
                </a:lnTo>
                <a:lnTo>
                  <a:pt x="1604308" y="1569721"/>
                </a:lnTo>
                <a:lnTo>
                  <a:pt x="1602090" y="1566228"/>
                </a:lnTo>
                <a:lnTo>
                  <a:pt x="1600506" y="1562418"/>
                </a:lnTo>
                <a:lnTo>
                  <a:pt x="1598606" y="1557973"/>
                </a:lnTo>
                <a:lnTo>
                  <a:pt x="1597339" y="1552893"/>
                </a:lnTo>
                <a:lnTo>
                  <a:pt x="1596388" y="1546543"/>
                </a:lnTo>
                <a:lnTo>
                  <a:pt x="1595755" y="1539558"/>
                </a:lnTo>
                <a:lnTo>
                  <a:pt x="1595438" y="1531621"/>
                </a:lnTo>
                <a:lnTo>
                  <a:pt x="1595755" y="1527176"/>
                </a:lnTo>
                <a:lnTo>
                  <a:pt x="1596072" y="1523683"/>
                </a:lnTo>
                <a:lnTo>
                  <a:pt x="1596705" y="1520191"/>
                </a:lnTo>
                <a:lnTo>
                  <a:pt x="1597656" y="1517651"/>
                </a:lnTo>
                <a:lnTo>
                  <a:pt x="1598923" y="1514793"/>
                </a:lnTo>
                <a:lnTo>
                  <a:pt x="1600506" y="1512888"/>
                </a:lnTo>
                <a:lnTo>
                  <a:pt x="1601774" y="1511301"/>
                </a:lnTo>
                <a:lnTo>
                  <a:pt x="1603041" y="1509713"/>
                </a:lnTo>
                <a:lnTo>
                  <a:pt x="1605575" y="1507491"/>
                </a:lnTo>
                <a:lnTo>
                  <a:pt x="1608426" y="1506221"/>
                </a:lnTo>
                <a:lnTo>
                  <a:pt x="1610010" y="1505586"/>
                </a:lnTo>
                <a:lnTo>
                  <a:pt x="1610643" y="1505586"/>
                </a:lnTo>
                <a:lnTo>
                  <a:pt x="1609376" y="1496378"/>
                </a:lnTo>
                <a:lnTo>
                  <a:pt x="1608743" y="1487488"/>
                </a:lnTo>
                <a:lnTo>
                  <a:pt x="1608426" y="1479233"/>
                </a:lnTo>
                <a:lnTo>
                  <a:pt x="1609059" y="1471296"/>
                </a:lnTo>
                <a:lnTo>
                  <a:pt x="1610010" y="1463676"/>
                </a:lnTo>
                <a:lnTo>
                  <a:pt x="1611277" y="1456373"/>
                </a:lnTo>
                <a:lnTo>
                  <a:pt x="1613494" y="1449388"/>
                </a:lnTo>
                <a:lnTo>
                  <a:pt x="1616028" y="1443038"/>
                </a:lnTo>
                <a:lnTo>
                  <a:pt x="1618879" y="1437006"/>
                </a:lnTo>
                <a:lnTo>
                  <a:pt x="1622047" y="1431608"/>
                </a:lnTo>
                <a:lnTo>
                  <a:pt x="1625848" y="1426211"/>
                </a:lnTo>
                <a:lnTo>
                  <a:pt x="1629649" y="1421131"/>
                </a:lnTo>
                <a:lnTo>
                  <a:pt x="1634084" y="1416051"/>
                </a:lnTo>
                <a:lnTo>
                  <a:pt x="1638519" y="1411606"/>
                </a:lnTo>
                <a:lnTo>
                  <a:pt x="1643271" y="1407796"/>
                </a:lnTo>
                <a:lnTo>
                  <a:pt x="1648339" y="1403986"/>
                </a:lnTo>
                <a:lnTo>
                  <a:pt x="1653407" y="1400493"/>
                </a:lnTo>
                <a:lnTo>
                  <a:pt x="1658792" y="1397001"/>
                </a:lnTo>
                <a:lnTo>
                  <a:pt x="1664494" y="1394461"/>
                </a:lnTo>
                <a:lnTo>
                  <a:pt x="1670196" y="1391603"/>
                </a:lnTo>
                <a:lnTo>
                  <a:pt x="1675581" y="1389063"/>
                </a:lnTo>
                <a:lnTo>
                  <a:pt x="1681283" y="1387158"/>
                </a:lnTo>
                <a:lnTo>
                  <a:pt x="1686985" y="1384936"/>
                </a:lnTo>
                <a:lnTo>
                  <a:pt x="1692687" y="1383348"/>
                </a:lnTo>
                <a:lnTo>
                  <a:pt x="1703774" y="1380491"/>
                </a:lnTo>
                <a:lnTo>
                  <a:pt x="1714228" y="1378268"/>
                </a:lnTo>
                <a:lnTo>
                  <a:pt x="1724364" y="1376998"/>
                </a:lnTo>
                <a:lnTo>
                  <a:pt x="1733551" y="1376363"/>
                </a:lnTo>
                <a:close/>
                <a:moveTo>
                  <a:pt x="1015207" y="1376363"/>
                </a:moveTo>
                <a:lnTo>
                  <a:pt x="1024446" y="1376998"/>
                </a:lnTo>
                <a:lnTo>
                  <a:pt x="1034641" y="1378268"/>
                </a:lnTo>
                <a:lnTo>
                  <a:pt x="1045473" y="1380491"/>
                </a:lnTo>
                <a:lnTo>
                  <a:pt x="1056624" y="1383348"/>
                </a:lnTo>
                <a:lnTo>
                  <a:pt x="1062358" y="1384936"/>
                </a:lnTo>
                <a:lnTo>
                  <a:pt x="1068093" y="1387158"/>
                </a:lnTo>
                <a:lnTo>
                  <a:pt x="1073828" y="1389063"/>
                </a:lnTo>
                <a:lnTo>
                  <a:pt x="1079562" y="1391603"/>
                </a:lnTo>
                <a:lnTo>
                  <a:pt x="1084978" y="1394461"/>
                </a:lnTo>
                <a:lnTo>
                  <a:pt x="1090713" y="1397001"/>
                </a:lnTo>
                <a:lnTo>
                  <a:pt x="1095811" y="1400493"/>
                </a:lnTo>
                <a:lnTo>
                  <a:pt x="1100908" y="1403986"/>
                </a:lnTo>
                <a:lnTo>
                  <a:pt x="1106006" y="1407796"/>
                </a:lnTo>
                <a:lnTo>
                  <a:pt x="1111103" y="1411606"/>
                </a:lnTo>
                <a:lnTo>
                  <a:pt x="1115245" y="1416051"/>
                </a:lnTo>
                <a:lnTo>
                  <a:pt x="1119705" y="1421131"/>
                </a:lnTo>
                <a:lnTo>
                  <a:pt x="1123847" y="1426211"/>
                </a:lnTo>
                <a:lnTo>
                  <a:pt x="1127351" y="1431608"/>
                </a:lnTo>
                <a:lnTo>
                  <a:pt x="1130856" y="1437006"/>
                </a:lnTo>
                <a:lnTo>
                  <a:pt x="1133723" y="1443038"/>
                </a:lnTo>
                <a:lnTo>
                  <a:pt x="1136272" y="1449388"/>
                </a:lnTo>
                <a:lnTo>
                  <a:pt x="1138183" y="1456373"/>
                </a:lnTo>
                <a:lnTo>
                  <a:pt x="1139776" y="1463676"/>
                </a:lnTo>
                <a:lnTo>
                  <a:pt x="1140732" y="1471296"/>
                </a:lnTo>
                <a:lnTo>
                  <a:pt x="1141051" y="1479233"/>
                </a:lnTo>
                <a:lnTo>
                  <a:pt x="1141051" y="1487488"/>
                </a:lnTo>
                <a:lnTo>
                  <a:pt x="1140414" y="1496378"/>
                </a:lnTo>
                <a:lnTo>
                  <a:pt x="1139139" y="1505586"/>
                </a:lnTo>
                <a:lnTo>
                  <a:pt x="1139776" y="1505586"/>
                </a:lnTo>
                <a:lnTo>
                  <a:pt x="1141369" y="1506221"/>
                </a:lnTo>
                <a:lnTo>
                  <a:pt x="1143918" y="1507491"/>
                </a:lnTo>
                <a:lnTo>
                  <a:pt x="1146467" y="1509713"/>
                </a:lnTo>
                <a:lnTo>
                  <a:pt x="1148060" y="1511301"/>
                </a:lnTo>
                <a:lnTo>
                  <a:pt x="1149653" y="1512888"/>
                </a:lnTo>
                <a:lnTo>
                  <a:pt x="1150609" y="1514793"/>
                </a:lnTo>
                <a:lnTo>
                  <a:pt x="1151883" y="1517651"/>
                </a:lnTo>
                <a:lnTo>
                  <a:pt x="1152839" y="1520191"/>
                </a:lnTo>
                <a:lnTo>
                  <a:pt x="1153476" y="1523683"/>
                </a:lnTo>
                <a:lnTo>
                  <a:pt x="1153795" y="1527176"/>
                </a:lnTo>
                <a:lnTo>
                  <a:pt x="1154113" y="1531621"/>
                </a:lnTo>
                <a:lnTo>
                  <a:pt x="1153795" y="1539558"/>
                </a:lnTo>
                <a:lnTo>
                  <a:pt x="1153157" y="1546543"/>
                </a:lnTo>
                <a:lnTo>
                  <a:pt x="1152202" y="1552893"/>
                </a:lnTo>
                <a:lnTo>
                  <a:pt x="1150927" y="1557973"/>
                </a:lnTo>
                <a:lnTo>
                  <a:pt x="1149653" y="1562418"/>
                </a:lnTo>
                <a:lnTo>
                  <a:pt x="1147423" y="1566228"/>
                </a:lnTo>
                <a:lnTo>
                  <a:pt x="1145193" y="1569721"/>
                </a:lnTo>
                <a:lnTo>
                  <a:pt x="1142962" y="1572578"/>
                </a:lnTo>
                <a:lnTo>
                  <a:pt x="1140414" y="1575753"/>
                </a:lnTo>
                <a:lnTo>
                  <a:pt x="1139139" y="1577341"/>
                </a:lnTo>
                <a:lnTo>
                  <a:pt x="1137865" y="1579881"/>
                </a:lnTo>
                <a:lnTo>
                  <a:pt x="1136909" y="1582421"/>
                </a:lnTo>
                <a:lnTo>
                  <a:pt x="1135953" y="1585596"/>
                </a:lnTo>
                <a:lnTo>
                  <a:pt x="1134679" y="1589406"/>
                </a:lnTo>
                <a:lnTo>
                  <a:pt x="1134042" y="1593851"/>
                </a:lnTo>
                <a:lnTo>
                  <a:pt x="1133405" y="1598931"/>
                </a:lnTo>
                <a:lnTo>
                  <a:pt x="1132449" y="1603693"/>
                </a:lnTo>
                <a:lnTo>
                  <a:pt x="1131493" y="1608773"/>
                </a:lnTo>
                <a:lnTo>
                  <a:pt x="1129900" y="1614171"/>
                </a:lnTo>
                <a:lnTo>
                  <a:pt x="1127989" y="1619568"/>
                </a:lnTo>
                <a:lnTo>
                  <a:pt x="1126396" y="1624966"/>
                </a:lnTo>
                <a:lnTo>
                  <a:pt x="1121617" y="1635444"/>
                </a:lnTo>
                <a:lnTo>
                  <a:pt x="1116519" y="1646239"/>
                </a:lnTo>
                <a:lnTo>
                  <a:pt x="1113333" y="1651636"/>
                </a:lnTo>
                <a:lnTo>
                  <a:pt x="1110466" y="1657034"/>
                </a:lnTo>
                <a:lnTo>
                  <a:pt x="1106961" y="1661796"/>
                </a:lnTo>
                <a:lnTo>
                  <a:pt x="1103457" y="1666876"/>
                </a:lnTo>
                <a:lnTo>
                  <a:pt x="1099634" y="1671956"/>
                </a:lnTo>
                <a:lnTo>
                  <a:pt x="1095492" y="1676719"/>
                </a:lnTo>
                <a:lnTo>
                  <a:pt x="1091669" y="1681164"/>
                </a:lnTo>
                <a:lnTo>
                  <a:pt x="1087527" y="1685926"/>
                </a:lnTo>
                <a:lnTo>
                  <a:pt x="1083067" y="1690371"/>
                </a:lnTo>
                <a:lnTo>
                  <a:pt x="1078607" y="1694181"/>
                </a:lnTo>
                <a:lnTo>
                  <a:pt x="1073828" y="1698309"/>
                </a:lnTo>
                <a:lnTo>
                  <a:pt x="1069049" y="1702119"/>
                </a:lnTo>
                <a:lnTo>
                  <a:pt x="1063951" y="1705294"/>
                </a:lnTo>
                <a:lnTo>
                  <a:pt x="1059172" y="1708469"/>
                </a:lnTo>
                <a:lnTo>
                  <a:pt x="1054075" y="1711009"/>
                </a:lnTo>
                <a:lnTo>
                  <a:pt x="1048659" y="1713549"/>
                </a:lnTo>
                <a:lnTo>
                  <a:pt x="1043243" y="1715771"/>
                </a:lnTo>
                <a:lnTo>
                  <a:pt x="1037827" y="1717676"/>
                </a:lnTo>
                <a:lnTo>
                  <a:pt x="1032411" y="1718946"/>
                </a:lnTo>
                <a:lnTo>
                  <a:pt x="1026995" y="1719899"/>
                </a:lnTo>
                <a:lnTo>
                  <a:pt x="1020941" y="1720534"/>
                </a:lnTo>
                <a:lnTo>
                  <a:pt x="1015207" y="1720851"/>
                </a:lnTo>
                <a:lnTo>
                  <a:pt x="1009472" y="1720534"/>
                </a:lnTo>
                <a:lnTo>
                  <a:pt x="1003737" y="1719899"/>
                </a:lnTo>
                <a:lnTo>
                  <a:pt x="998003" y="1718946"/>
                </a:lnTo>
                <a:lnTo>
                  <a:pt x="992587" y="1717676"/>
                </a:lnTo>
                <a:lnTo>
                  <a:pt x="987489" y="1715771"/>
                </a:lnTo>
                <a:lnTo>
                  <a:pt x="982073" y="1713549"/>
                </a:lnTo>
                <a:lnTo>
                  <a:pt x="976657" y="1711009"/>
                </a:lnTo>
                <a:lnTo>
                  <a:pt x="971559" y="1708469"/>
                </a:lnTo>
                <a:lnTo>
                  <a:pt x="966462" y="1705294"/>
                </a:lnTo>
                <a:lnTo>
                  <a:pt x="961683" y="1702119"/>
                </a:lnTo>
                <a:lnTo>
                  <a:pt x="956904" y="1698309"/>
                </a:lnTo>
                <a:lnTo>
                  <a:pt x="952125" y="1694181"/>
                </a:lnTo>
                <a:lnTo>
                  <a:pt x="947346" y="1690371"/>
                </a:lnTo>
                <a:lnTo>
                  <a:pt x="943204" y="1685926"/>
                </a:lnTo>
                <a:lnTo>
                  <a:pt x="939063" y="1681164"/>
                </a:lnTo>
                <a:lnTo>
                  <a:pt x="934602" y="1676719"/>
                </a:lnTo>
                <a:lnTo>
                  <a:pt x="931098" y="1671956"/>
                </a:lnTo>
                <a:lnTo>
                  <a:pt x="927275" y="1666876"/>
                </a:lnTo>
                <a:lnTo>
                  <a:pt x="923770" y="1661796"/>
                </a:lnTo>
                <a:lnTo>
                  <a:pt x="920266" y="1657034"/>
                </a:lnTo>
                <a:lnTo>
                  <a:pt x="914212" y="1646239"/>
                </a:lnTo>
                <a:lnTo>
                  <a:pt x="908796" y="1635444"/>
                </a:lnTo>
                <a:lnTo>
                  <a:pt x="904336" y="1624966"/>
                </a:lnTo>
                <a:lnTo>
                  <a:pt x="902424" y="1619568"/>
                </a:lnTo>
                <a:lnTo>
                  <a:pt x="900832" y="1614171"/>
                </a:lnTo>
                <a:lnTo>
                  <a:pt x="899239" y="1608773"/>
                </a:lnTo>
                <a:lnTo>
                  <a:pt x="898283" y="1603693"/>
                </a:lnTo>
                <a:lnTo>
                  <a:pt x="897327" y="1598931"/>
                </a:lnTo>
                <a:lnTo>
                  <a:pt x="896690" y="1593851"/>
                </a:lnTo>
                <a:lnTo>
                  <a:pt x="895734" y="1589406"/>
                </a:lnTo>
                <a:lnTo>
                  <a:pt x="894778" y="1585596"/>
                </a:lnTo>
                <a:lnTo>
                  <a:pt x="893822" y="1582421"/>
                </a:lnTo>
                <a:lnTo>
                  <a:pt x="892548" y="1579881"/>
                </a:lnTo>
                <a:lnTo>
                  <a:pt x="891592" y="1577341"/>
                </a:lnTo>
                <a:lnTo>
                  <a:pt x="890318" y="1575753"/>
                </a:lnTo>
                <a:lnTo>
                  <a:pt x="887451" y="1572578"/>
                </a:lnTo>
                <a:lnTo>
                  <a:pt x="885220" y="1569721"/>
                </a:lnTo>
                <a:lnTo>
                  <a:pt x="882990" y="1566228"/>
                </a:lnTo>
                <a:lnTo>
                  <a:pt x="881079" y="1562418"/>
                </a:lnTo>
                <a:lnTo>
                  <a:pt x="879486" y="1557973"/>
                </a:lnTo>
                <a:lnTo>
                  <a:pt x="878211" y="1552893"/>
                </a:lnTo>
                <a:lnTo>
                  <a:pt x="877256" y="1546543"/>
                </a:lnTo>
                <a:lnTo>
                  <a:pt x="876300" y="1539558"/>
                </a:lnTo>
                <a:lnTo>
                  <a:pt x="876300" y="1531621"/>
                </a:lnTo>
                <a:lnTo>
                  <a:pt x="876300" y="1527176"/>
                </a:lnTo>
                <a:lnTo>
                  <a:pt x="877256" y="1523683"/>
                </a:lnTo>
                <a:lnTo>
                  <a:pt x="877893" y="1520191"/>
                </a:lnTo>
                <a:lnTo>
                  <a:pt x="878849" y="1517651"/>
                </a:lnTo>
                <a:lnTo>
                  <a:pt x="879804" y="1514793"/>
                </a:lnTo>
                <a:lnTo>
                  <a:pt x="881079" y="1512888"/>
                </a:lnTo>
                <a:lnTo>
                  <a:pt x="882353" y="1511301"/>
                </a:lnTo>
                <a:lnTo>
                  <a:pt x="883946" y="1509713"/>
                </a:lnTo>
                <a:lnTo>
                  <a:pt x="886813" y="1507491"/>
                </a:lnTo>
                <a:lnTo>
                  <a:pt x="889044" y="1506221"/>
                </a:lnTo>
                <a:lnTo>
                  <a:pt x="890955" y="1505586"/>
                </a:lnTo>
                <a:lnTo>
                  <a:pt x="891592" y="1505586"/>
                </a:lnTo>
                <a:lnTo>
                  <a:pt x="890318" y="1496378"/>
                </a:lnTo>
                <a:lnTo>
                  <a:pt x="889362" y="1487488"/>
                </a:lnTo>
                <a:lnTo>
                  <a:pt x="889362" y="1479233"/>
                </a:lnTo>
                <a:lnTo>
                  <a:pt x="889999" y="1471296"/>
                </a:lnTo>
                <a:lnTo>
                  <a:pt x="890955" y="1463676"/>
                </a:lnTo>
                <a:lnTo>
                  <a:pt x="892548" y="1456373"/>
                </a:lnTo>
                <a:lnTo>
                  <a:pt x="894460" y="1449388"/>
                </a:lnTo>
                <a:lnTo>
                  <a:pt x="897008" y="1443038"/>
                </a:lnTo>
                <a:lnTo>
                  <a:pt x="899876" y="1437006"/>
                </a:lnTo>
                <a:lnTo>
                  <a:pt x="903380" y="1431608"/>
                </a:lnTo>
                <a:lnTo>
                  <a:pt x="906885" y="1426211"/>
                </a:lnTo>
                <a:lnTo>
                  <a:pt x="910708" y="1421131"/>
                </a:lnTo>
                <a:lnTo>
                  <a:pt x="914850" y="1416051"/>
                </a:lnTo>
                <a:lnTo>
                  <a:pt x="919629" y="1411606"/>
                </a:lnTo>
                <a:lnTo>
                  <a:pt x="924407" y="1407796"/>
                </a:lnTo>
                <a:lnTo>
                  <a:pt x="929505" y="1403986"/>
                </a:lnTo>
                <a:lnTo>
                  <a:pt x="934602" y="1400493"/>
                </a:lnTo>
                <a:lnTo>
                  <a:pt x="940018" y="1397001"/>
                </a:lnTo>
                <a:lnTo>
                  <a:pt x="945435" y="1394461"/>
                </a:lnTo>
                <a:lnTo>
                  <a:pt x="951169" y="1391603"/>
                </a:lnTo>
                <a:lnTo>
                  <a:pt x="956904" y="1389063"/>
                </a:lnTo>
                <a:lnTo>
                  <a:pt x="962639" y="1387158"/>
                </a:lnTo>
                <a:lnTo>
                  <a:pt x="968373" y="1384936"/>
                </a:lnTo>
                <a:lnTo>
                  <a:pt x="974108" y="1383348"/>
                </a:lnTo>
                <a:lnTo>
                  <a:pt x="985259" y="1380491"/>
                </a:lnTo>
                <a:lnTo>
                  <a:pt x="996091" y="1378268"/>
                </a:lnTo>
                <a:lnTo>
                  <a:pt x="1006286" y="1376998"/>
                </a:lnTo>
                <a:lnTo>
                  <a:pt x="1015207" y="1376363"/>
                </a:lnTo>
                <a:close/>
                <a:moveTo>
                  <a:pt x="297497" y="1376363"/>
                </a:moveTo>
                <a:lnTo>
                  <a:pt x="306726" y="1376998"/>
                </a:lnTo>
                <a:lnTo>
                  <a:pt x="316591" y="1378268"/>
                </a:lnTo>
                <a:lnTo>
                  <a:pt x="327729" y="1380491"/>
                </a:lnTo>
                <a:lnTo>
                  <a:pt x="338867" y="1383348"/>
                </a:lnTo>
                <a:lnTo>
                  <a:pt x="344595" y="1384936"/>
                </a:lnTo>
                <a:lnTo>
                  <a:pt x="350323" y="1387158"/>
                </a:lnTo>
                <a:lnTo>
                  <a:pt x="355733" y="1389063"/>
                </a:lnTo>
                <a:lnTo>
                  <a:pt x="361461" y="1391603"/>
                </a:lnTo>
                <a:lnTo>
                  <a:pt x="367189" y="1394461"/>
                </a:lnTo>
                <a:lnTo>
                  <a:pt x="372599" y="1397001"/>
                </a:lnTo>
                <a:lnTo>
                  <a:pt x="378009" y="1400493"/>
                </a:lnTo>
                <a:lnTo>
                  <a:pt x="383419" y="1403986"/>
                </a:lnTo>
                <a:lnTo>
                  <a:pt x="388510" y="1407796"/>
                </a:lnTo>
                <a:lnTo>
                  <a:pt x="392966" y="1411606"/>
                </a:lnTo>
                <a:lnTo>
                  <a:pt x="397739" y="1416051"/>
                </a:lnTo>
                <a:lnTo>
                  <a:pt x="402194" y="1421131"/>
                </a:lnTo>
                <a:lnTo>
                  <a:pt x="406013" y="1426211"/>
                </a:lnTo>
                <a:lnTo>
                  <a:pt x="409832" y="1431608"/>
                </a:lnTo>
                <a:lnTo>
                  <a:pt x="412696" y="1437006"/>
                </a:lnTo>
                <a:lnTo>
                  <a:pt x="415878" y="1443038"/>
                </a:lnTo>
                <a:lnTo>
                  <a:pt x="418106" y="1449388"/>
                </a:lnTo>
                <a:lnTo>
                  <a:pt x="420015" y="1456373"/>
                </a:lnTo>
                <a:lnTo>
                  <a:pt x="421924" y="1463676"/>
                </a:lnTo>
                <a:lnTo>
                  <a:pt x="422879" y="1471296"/>
                </a:lnTo>
                <a:lnTo>
                  <a:pt x="423197" y="1479233"/>
                </a:lnTo>
                <a:lnTo>
                  <a:pt x="423197" y="1487488"/>
                </a:lnTo>
                <a:lnTo>
                  <a:pt x="422561" y="1496378"/>
                </a:lnTo>
                <a:lnTo>
                  <a:pt x="421288" y="1505586"/>
                </a:lnTo>
                <a:lnTo>
                  <a:pt x="421924" y="1505586"/>
                </a:lnTo>
                <a:lnTo>
                  <a:pt x="423516" y="1506221"/>
                </a:lnTo>
                <a:lnTo>
                  <a:pt x="426061" y="1507491"/>
                </a:lnTo>
                <a:lnTo>
                  <a:pt x="428925" y="1509713"/>
                </a:lnTo>
                <a:lnTo>
                  <a:pt x="430198" y="1511301"/>
                </a:lnTo>
                <a:lnTo>
                  <a:pt x="431471" y="1512888"/>
                </a:lnTo>
                <a:lnTo>
                  <a:pt x="432744" y="1514793"/>
                </a:lnTo>
                <a:lnTo>
                  <a:pt x="434017" y="1517651"/>
                </a:lnTo>
                <a:lnTo>
                  <a:pt x="434972" y="1520191"/>
                </a:lnTo>
                <a:lnTo>
                  <a:pt x="435926" y="1523683"/>
                </a:lnTo>
                <a:lnTo>
                  <a:pt x="436245" y="1527176"/>
                </a:lnTo>
                <a:lnTo>
                  <a:pt x="436563" y="1531621"/>
                </a:lnTo>
                <a:lnTo>
                  <a:pt x="436245" y="1539558"/>
                </a:lnTo>
                <a:lnTo>
                  <a:pt x="435608" y="1546543"/>
                </a:lnTo>
                <a:lnTo>
                  <a:pt x="434653" y="1552893"/>
                </a:lnTo>
                <a:lnTo>
                  <a:pt x="433062" y="1557973"/>
                </a:lnTo>
                <a:lnTo>
                  <a:pt x="431471" y="1562418"/>
                </a:lnTo>
                <a:lnTo>
                  <a:pt x="429562" y="1566228"/>
                </a:lnTo>
                <a:lnTo>
                  <a:pt x="427652" y="1569721"/>
                </a:lnTo>
                <a:lnTo>
                  <a:pt x="425107" y="1572578"/>
                </a:lnTo>
                <a:lnTo>
                  <a:pt x="422879" y="1575753"/>
                </a:lnTo>
                <a:lnTo>
                  <a:pt x="421606" y="1577341"/>
                </a:lnTo>
                <a:lnTo>
                  <a:pt x="420015" y="1579881"/>
                </a:lnTo>
                <a:lnTo>
                  <a:pt x="418742" y="1582421"/>
                </a:lnTo>
                <a:lnTo>
                  <a:pt x="417787" y="1585596"/>
                </a:lnTo>
                <a:lnTo>
                  <a:pt x="416833" y="1589406"/>
                </a:lnTo>
                <a:lnTo>
                  <a:pt x="416515" y="1593851"/>
                </a:lnTo>
                <a:lnTo>
                  <a:pt x="415560" y="1598931"/>
                </a:lnTo>
                <a:lnTo>
                  <a:pt x="414923" y="1603693"/>
                </a:lnTo>
                <a:lnTo>
                  <a:pt x="413332" y="1608773"/>
                </a:lnTo>
                <a:lnTo>
                  <a:pt x="412059" y="1614171"/>
                </a:lnTo>
                <a:lnTo>
                  <a:pt x="410468" y="1619568"/>
                </a:lnTo>
                <a:lnTo>
                  <a:pt x="408559" y="1624966"/>
                </a:lnTo>
                <a:lnTo>
                  <a:pt x="404104" y="1635444"/>
                </a:lnTo>
                <a:lnTo>
                  <a:pt x="398694" y="1646239"/>
                </a:lnTo>
                <a:lnTo>
                  <a:pt x="395830" y="1651636"/>
                </a:lnTo>
                <a:lnTo>
                  <a:pt x="392329" y="1657034"/>
                </a:lnTo>
                <a:lnTo>
                  <a:pt x="389147" y="1661796"/>
                </a:lnTo>
                <a:lnTo>
                  <a:pt x="385646" y="1666876"/>
                </a:lnTo>
                <a:lnTo>
                  <a:pt x="381509" y="1671956"/>
                </a:lnTo>
                <a:lnTo>
                  <a:pt x="378009" y="1676719"/>
                </a:lnTo>
                <a:lnTo>
                  <a:pt x="373872" y="1681164"/>
                </a:lnTo>
                <a:lnTo>
                  <a:pt x="369735" y="1685926"/>
                </a:lnTo>
                <a:lnTo>
                  <a:pt x="365280" y="1690371"/>
                </a:lnTo>
                <a:lnTo>
                  <a:pt x="360825" y="1694181"/>
                </a:lnTo>
                <a:lnTo>
                  <a:pt x="356369" y="1698309"/>
                </a:lnTo>
                <a:lnTo>
                  <a:pt x="351278" y="1702119"/>
                </a:lnTo>
                <a:lnTo>
                  <a:pt x="346504" y="1705294"/>
                </a:lnTo>
                <a:lnTo>
                  <a:pt x="341413" y="1708469"/>
                </a:lnTo>
                <a:lnTo>
                  <a:pt x="336003" y="1711009"/>
                </a:lnTo>
                <a:lnTo>
                  <a:pt x="331229" y="1713549"/>
                </a:lnTo>
                <a:lnTo>
                  <a:pt x="325820" y="1715771"/>
                </a:lnTo>
                <a:lnTo>
                  <a:pt x="320092" y="1717676"/>
                </a:lnTo>
                <a:lnTo>
                  <a:pt x="314682" y="1718946"/>
                </a:lnTo>
                <a:lnTo>
                  <a:pt x="308954" y="1719899"/>
                </a:lnTo>
                <a:lnTo>
                  <a:pt x="303225" y="1720534"/>
                </a:lnTo>
                <a:lnTo>
                  <a:pt x="297497" y="1720851"/>
                </a:lnTo>
                <a:lnTo>
                  <a:pt x="292087" y="1720534"/>
                </a:lnTo>
                <a:lnTo>
                  <a:pt x="286359" y="1719899"/>
                </a:lnTo>
                <a:lnTo>
                  <a:pt x="280631" y="1718946"/>
                </a:lnTo>
                <a:lnTo>
                  <a:pt x="274903" y="1717676"/>
                </a:lnTo>
                <a:lnTo>
                  <a:pt x="269493" y="1715771"/>
                </a:lnTo>
                <a:lnTo>
                  <a:pt x="264083" y="1713549"/>
                </a:lnTo>
                <a:lnTo>
                  <a:pt x="258674" y="1711009"/>
                </a:lnTo>
                <a:lnTo>
                  <a:pt x="253900" y="1708469"/>
                </a:lnTo>
                <a:lnTo>
                  <a:pt x="248808" y="1705294"/>
                </a:lnTo>
                <a:lnTo>
                  <a:pt x="243717" y="1702119"/>
                </a:lnTo>
                <a:lnTo>
                  <a:pt x="238943" y="1698309"/>
                </a:lnTo>
                <a:lnTo>
                  <a:pt x="234488" y="1694181"/>
                </a:lnTo>
                <a:lnTo>
                  <a:pt x="230033" y="1690371"/>
                </a:lnTo>
                <a:lnTo>
                  <a:pt x="225578" y="1685926"/>
                </a:lnTo>
                <a:lnTo>
                  <a:pt x="221441" y="1681164"/>
                </a:lnTo>
                <a:lnTo>
                  <a:pt x="217304" y="1676719"/>
                </a:lnTo>
                <a:lnTo>
                  <a:pt x="213167" y="1671956"/>
                </a:lnTo>
                <a:lnTo>
                  <a:pt x="209666" y="1666876"/>
                </a:lnTo>
                <a:lnTo>
                  <a:pt x="206166" y="1661796"/>
                </a:lnTo>
                <a:lnTo>
                  <a:pt x="202984" y="1657034"/>
                </a:lnTo>
                <a:lnTo>
                  <a:pt x="196619" y="1646239"/>
                </a:lnTo>
                <a:lnTo>
                  <a:pt x="191209" y="1635444"/>
                </a:lnTo>
                <a:lnTo>
                  <a:pt x="186754" y="1624966"/>
                </a:lnTo>
                <a:lnTo>
                  <a:pt x="184845" y="1619568"/>
                </a:lnTo>
                <a:lnTo>
                  <a:pt x="183253" y="1614171"/>
                </a:lnTo>
                <a:lnTo>
                  <a:pt x="181981" y="1608773"/>
                </a:lnTo>
                <a:lnTo>
                  <a:pt x="180389" y="1603693"/>
                </a:lnTo>
                <a:lnTo>
                  <a:pt x="179435" y="1598931"/>
                </a:lnTo>
                <a:lnTo>
                  <a:pt x="178798" y="1593851"/>
                </a:lnTo>
                <a:lnTo>
                  <a:pt x="178162" y="1589406"/>
                </a:lnTo>
                <a:lnTo>
                  <a:pt x="177525" y="1585596"/>
                </a:lnTo>
                <a:lnTo>
                  <a:pt x="176252" y="1582421"/>
                </a:lnTo>
                <a:lnTo>
                  <a:pt x="174980" y="1579881"/>
                </a:lnTo>
                <a:lnTo>
                  <a:pt x="173707" y="1577341"/>
                </a:lnTo>
                <a:lnTo>
                  <a:pt x="172434" y="1575753"/>
                </a:lnTo>
                <a:lnTo>
                  <a:pt x="170206" y="1572578"/>
                </a:lnTo>
                <a:lnTo>
                  <a:pt x="167660" y="1569721"/>
                </a:lnTo>
                <a:lnTo>
                  <a:pt x="165433" y="1566228"/>
                </a:lnTo>
                <a:lnTo>
                  <a:pt x="163842" y="1562418"/>
                </a:lnTo>
                <a:lnTo>
                  <a:pt x="161932" y="1557973"/>
                </a:lnTo>
                <a:lnTo>
                  <a:pt x="160659" y="1552893"/>
                </a:lnTo>
                <a:lnTo>
                  <a:pt x="159705" y="1546543"/>
                </a:lnTo>
                <a:lnTo>
                  <a:pt x="159068" y="1539558"/>
                </a:lnTo>
                <a:lnTo>
                  <a:pt x="158750" y="1531621"/>
                </a:lnTo>
                <a:lnTo>
                  <a:pt x="159068" y="1527176"/>
                </a:lnTo>
                <a:lnTo>
                  <a:pt x="159386" y="1523683"/>
                </a:lnTo>
                <a:lnTo>
                  <a:pt x="160023" y="1520191"/>
                </a:lnTo>
                <a:lnTo>
                  <a:pt x="160978" y="1517651"/>
                </a:lnTo>
                <a:lnTo>
                  <a:pt x="162569" y="1514793"/>
                </a:lnTo>
                <a:lnTo>
                  <a:pt x="163842" y="1512888"/>
                </a:lnTo>
                <a:lnTo>
                  <a:pt x="165114" y="1511301"/>
                </a:lnTo>
                <a:lnTo>
                  <a:pt x="166387" y="1509713"/>
                </a:lnTo>
                <a:lnTo>
                  <a:pt x="169251" y="1507491"/>
                </a:lnTo>
                <a:lnTo>
                  <a:pt x="171797" y="1506221"/>
                </a:lnTo>
                <a:lnTo>
                  <a:pt x="173388" y="1505586"/>
                </a:lnTo>
                <a:lnTo>
                  <a:pt x="174025" y="1505586"/>
                </a:lnTo>
                <a:lnTo>
                  <a:pt x="172752" y="1496378"/>
                </a:lnTo>
                <a:lnTo>
                  <a:pt x="172116" y="1487488"/>
                </a:lnTo>
                <a:lnTo>
                  <a:pt x="171797" y="1479233"/>
                </a:lnTo>
                <a:lnTo>
                  <a:pt x="172434" y="1471296"/>
                </a:lnTo>
                <a:lnTo>
                  <a:pt x="173388" y="1463676"/>
                </a:lnTo>
                <a:lnTo>
                  <a:pt x="174661" y="1456373"/>
                </a:lnTo>
                <a:lnTo>
                  <a:pt x="176889" y="1449388"/>
                </a:lnTo>
                <a:lnTo>
                  <a:pt x="179435" y="1443038"/>
                </a:lnTo>
                <a:lnTo>
                  <a:pt x="182299" y="1437006"/>
                </a:lnTo>
                <a:lnTo>
                  <a:pt x="185481" y="1431608"/>
                </a:lnTo>
                <a:lnTo>
                  <a:pt x="189300" y="1426211"/>
                </a:lnTo>
                <a:lnTo>
                  <a:pt x="193119" y="1421131"/>
                </a:lnTo>
                <a:lnTo>
                  <a:pt x="197574" y="1416051"/>
                </a:lnTo>
                <a:lnTo>
                  <a:pt x="202029" y="1411606"/>
                </a:lnTo>
                <a:lnTo>
                  <a:pt x="206802" y="1407796"/>
                </a:lnTo>
                <a:lnTo>
                  <a:pt x="211894" y="1403986"/>
                </a:lnTo>
                <a:lnTo>
                  <a:pt x="216986" y="1400493"/>
                </a:lnTo>
                <a:lnTo>
                  <a:pt x="222396" y="1397001"/>
                </a:lnTo>
                <a:lnTo>
                  <a:pt x="228124" y="1394461"/>
                </a:lnTo>
                <a:lnTo>
                  <a:pt x="233852" y="1391603"/>
                </a:lnTo>
                <a:lnTo>
                  <a:pt x="239262" y="1389063"/>
                </a:lnTo>
                <a:lnTo>
                  <a:pt x="244990" y="1387158"/>
                </a:lnTo>
                <a:lnTo>
                  <a:pt x="250718" y="1384936"/>
                </a:lnTo>
                <a:lnTo>
                  <a:pt x="256446" y="1383348"/>
                </a:lnTo>
                <a:lnTo>
                  <a:pt x="267584" y="1380491"/>
                </a:lnTo>
                <a:lnTo>
                  <a:pt x="278085" y="1378268"/>
                </a:lnTo>
                <a:lnTo>
                  <a:pt x="288269" y="1376998"/>
                </a:lnTo>
                <a:lnTo>
                  <a:pt x="297497" y="1376363"/>
                </a:lnTo>
                <a:close/>
                <a:moveTo>
                  <a:pt x="1006793" y="977900"/>
                </a:moveTo>
                <a:lnTo>
                  <a:pt x="1009651" y="977900"/>
                </a:lnTo>
                <a:lnTo>
                  <a:pt x="1012508" y="977900"/>
                </a:lnTo>
                <a:lnTo>
                  <a:pt x="1015683" y="978536"/>
                </a:lnTo>
                <a:lnTo>
                  <a:pt x="1018541" y="979173"/>
                </a:lnTo>
                <a:lnTo>
                  <a:pt x="1021398" y="980445"/>
                </a:lnTo>
                <a:lnTo>
                  <a:pt x="1023938" y="981718"/>
                </a:lnTo>
                <a:lnTo>
                  <a:pt x="1026478" y="982990"/>
                </a:lnTo>
                <a:lnTo>
                  <a:pt x="1028701" y="984581"/>
                </a:lnTo>
                <a:lnTo>
                  <a:pt x="1030923" y="986807"/>
                </a:lnTo>
                <a:lnTo>
                  <a:pt x="1032828" y="989034"/>
                </a:lnTo>
                <a:lnTo>
                  <a:pt x="1034733" y="991261"/>
                </a:lnTo>
                <a:lnTo>
                  <a:pt x="1036003" y="993806"/>
                </a:lnTo>
                <a:lnTo>
                  <a:pt x="1037273" y="996351"/>
                </a:lnTo>
                <a:lnTo>
                  <a:pt x="1038226" y="998896"/>
                </a:lnTo>
                <a:lnTo>
                  <a:pt x="1039178" y="1002077"/>
                </a:lnTo>
                <a:lnTo>
                  <a:pt x="1039496" y="1004940"/>
                </a:lnTo>
                <a:lnTo>
                  <a:pt x="1039813" y="1008121"/>
                </a:lnTo>
                <a:lnTo>
                  <a:pt x="1039813" y="1276292"/>
                </a:lnTo>
                <a:lnTo>
                  <a:pt x="1039496" y="1279473"/>
                </a:lnTo>
                <a:lnTo>
                  <a:pt x="1039178" y="1282336"/>
                </a:lnTo>
                <a:lnTo>
                  <a:pt x="1038226" y="1285199"/>
                </a:lnTo>
                <a:lnTo>
                  <a:pt x="1037273" y="1288062"/>
                </a:lnTo>
                <a:lnTo>
                  <a:pt x="1036003" y="1290925"/>
                </a:lnTo>
                <a:lnTo>
                  <a:pt x="1034733" y="1293152"/>
                </a:lnTo>
                <a:lnTo>
                  <a:pt x="1032828" y="1295379"/>
                </a:lnTo>
                <a:lnTo>
                  <a:pt x="1030923" y="1297606"/>
                </a:lnTo>
                <a:lnTo>
                  <a:pt x="1028701" y="1299515"/>
                </a:lnTo>
                <a:lnTo>
                  <a:pt x="1026478" y="1301105"/>
                </a:lnTo>
                <a:lnTo>
                  <a:pt x="1023938" y="1303014"/>
                </a:lnTo>
                <a:lnTo>
                  <a:pt x="1021398" y="1304286"/>
                </a:lnTo>
                <a:lnTo>
                  <a:pt x="1018541" y="1305241"/>
                </a:lnTo>
                <a:lnTo>
                  <a:pt x="1015683" y="1305877"/>
                </a:lnTo>
                <a:lnTo>
                  <a:pt x="1012508" y="1306195"/>
                </a:lnTo>
                <a:lnTo>
                  <a:pt x="1009651" y="1306513"/>
                </a:lnTo>
                <a:lnTo>
                  <a:pt x="1006793" y="1306195"/>
                </a:lnTo>
                <a:lnTo>
                  <a:pt x="1003618" y="1305877"/>
                </a:lnTo>
                <a:lnTo>
                  <a:pt x="1000761" y="1305241"/>
                </a:lnTo>
                <a:lnTo>
                  <a:pt x="997903" y="1304286"/>
                </a:lnTo>
                <a:lnTo>
                  <a:pt x="995363" y="1303014"/>
                </a:lnTo>
                <a:lnTo>
                  <a:pt x="992506" y="1301105"/>
                </a:lnTo>
                <a:lnTo>
                  <a:pt x="990601" y="1299515"/>
                </a:lnTo>
                <a:lnTo>
                  <a:pt x="988378" y="1297606"/>
                </a:lnTo>
                <a:lnTo>
                  <a:pt x="986156" y="1295379"/>
                </a:lnTo>
                <a:lnTo>
                  <a:pt x="984568" y="1293152"/>
                </a:lnTo>
                <a:lnTo>
                  <a:pt x="983298" y="1290925"/>
                </a:lnTo>
                <a:lnTo>
                  <a:pt x="982028" y="1288062"/>
                </a:lnTo>
                <a:lnTo>
                  <a:pt x="981076" y="1285199"/>
                </a:lnTo>
                <a:lnTo>
                  <a:pt x="979806" y="1282336"/>
                </a:lnTo>
                <a:lnTo>
                  <a:pt x="979488" y="1279473"/>
                </a:lnTo>
                <a:lnTo>
                  <a:pt x="979488" y="1276292"/>
                </a:lnTo>
                <a:lnTo>
                  <a:pt x="979488" y="1008121"/>
                </a:lnTo>
                <a:lnTo>
                  <a:pt x="979488" y="1004940"/>
                </a:lnTo>
                <a:lnTo>
                  <a:pt x="979806" y="1002077"/>
                </a:lnTo>
                <a:lnTo>
                  <a:pt x="981076" y="998896"/>
                </a:lnTo>
                <a:lnTo>
                  <a:pt x="982028" y="996351"/>
                </a:lnTo>
                <a:lnTo>
                  <a:pt x="983298" y="993806"/>
                </a:lnTo>
                <a:lnTo>
                  <a:pt x="984568" y="991261"/>
                </a:lnTo>
                <a:lnTo>
                  <a:pt x="986156" y="989034"/>
                </a:lnTo>
                <a:lnTo>
                  <a:pt x="988378" y="986807"/>
                </a:lnTo>
                <a:lnTo>
                  <a:pt x="990601" y="984581"/>
                </a:lnTo>
                <a:lnTo>
                  <a:pt x="992506" y="982990"/>
                </a:lnTo>
                <a:lnTo>
                  <a:pt x="995363" y="981718"/>
                </a:lnTo>
                <a:lnTo>
                  <a:pt x="997903" y="980445"/>
                </a:lnTo>
                <a:lnTo>
                  <a:pt x="1000761" y="979173"/>
                </a:lnTo>
                <a:lnTo>
                  <a:pt x="1003618" y="978536"/>
                </a:lnTo>
                <a:lnTo>
                  <a:pt x="1006793" y="977900"/>
                </a:lnTo>
                <a:close/>
                <a:moveTo>
                  <a:pt x="1223947" y="968375"/>
                </a:moveTo>
                <a:lnTo>
                  <a:pt x="1227121" y="968375"/>
                </a:lnTo>
                <a:lnTo>
                  <a:pt x="1229976" y="968375"/>
                </a:lnTo>
                <a:lnTo>
                  <a:pt x="1233150" y="968693"/>
                </a:lnTo>
                <a:lnTo>
                  <a:pt x="1236006" y="969646"/>
                </a:lnTo>
                <a:lnTo>
                  <a:pt x="1238861" y="970599"/>
                </a:lnTo>
                <a:lnTo>
                  <a:pt x="1241400" y="971870"/>
                </a:lnTo>
                <a:lnTo>
                  <a:pt x="1243939" y="973141"/>
                </a:lnTo>
                <a:lnTo>
                  <a:pt x="1246477" y="975048"/>
                </a:lnTo>
                <a:lnTo>
                  <a:pt x="1248381" y="976955"/>
                </a:lnTo>
                <a:lnTo>
                  <a:pt x="1250285" y="978862"/>
                </a:lnTo>
                <a:lnTo>
                  <a:pt x="1252189" y="981404"/>
                </a:lnTo>
                <a:lnTo>
                  <a:pt x="1253776" y="983946"/>
                </a:lnTo>
                <a:lnTo>
                  <a:pt x="1254727" y="986488"/>
                </a:lnTo>
                <a:lnTo>
                  <a:pt x="1255679" y="989348"/>
                </a:lnTo>
                <a:lnTo>
                  <a:pt x="1256631" y="992208"/>
                </a:lnTo>
                <a:lnTo>
                  <a:pt x="1256949" y="995386"/>
                </a:lnTo>
                <a:lnTo>
                  <a:pt x="1256949" y="998246"/>
                </a:lnTo>
                <a:lnTo>
                  <a:pt x="1256949" y="1068473"/>
                </a:lnTo>
                <a:lnTo>
                  <a:pt x="1257583" y="1072604"/>
                </a:lnTo>
                <a:lnTo>
                  <a:pt x="1258535" y="1076417"/>
                </a:lnTo>
                <a:lnTo>
                  <a:pt x="1259805" y="1080549"/>
                </a:lnTo>
                <a:lnTo>
                  <a:pt x="1261709" y="1084362"/>
                </a:lnTo>
                <a:lnTo>
                  <a:pt x="1264247" y="1087539"/>
                </a:lnTo>
                <a:lnTo>
                  <a:pt x="1266786" y="1091035"/>
                </a:lnTo>
                <a:lnTo>
                  <a:pt x="1269959" y="1093895"/>
                </a:lnTo>
                <a:lnTo>
                  <a:pt x="1273767" y="1097073"/>
                </a:lnTo>
                <a:lnTo>
                  <a:pt x="1277575" y="1099615"/>
                </a:lnTo>
                <a:lnTo>
                  <a:pt x="1281700" y="1101839"/>
                </a:lnTo>
                <a:lnTo>
                  <a:pt x="1286460" y="1104064"/>
                </a:lnTo>
                <a:lnTo>
                  <a:pt x="1291219" y="1105652"/>
                </a:lnTo>
                <a:lnTo>
                  <a:pt x="1296297" y="1106924"/>
                </a:lnTo>
                <a:lnTo>
                  <a:pt x="1301374" y="1107877"/>
                </a:lnTo>
                <a:lnTo>
                  <a:pt x="1306768" y="1108512"/>
                </a:lnTo>
                <a:lnTo>
                  <a:pt x="1312480" y="1108512"/>
                </a:lnTo>
                <a:lnTo>
                  <a:pt x="1643763" y="1108512"/>
                </a:lnTo>
                <a:lnTo>
                  <a:pt x="1649157" y="1108830"/>
                </a:lnTo>
                <a:lnTo>
                  <a:pt x="1655186" y="1109148"/>
                </a:lnTo>
                <a:lnTo>
                  <a:pt x="1660898" y="1110101"/>
                </a:lnTo>
                <a:lnTo>
                  <a:pt x="1666610" y="1111055"/>
                </a:lnTo>
                <a:lnTo>
                  <a:pt x="1672322" y="1112326"/>
                </a:lnTo>
                <a:lnTo>
                  <a:pt x="1677716" y="1113915"/>
                </a:lnTo>
                <a:lnTo>
                  <a:pt x="1683110" y="1115503"/>
                </a:lnTo>
                <a:lnTo>
                  <a:pt x="1688188" y="1118046"/>
                </a:lnTo>
                <a:lnTo>
                  <a:pt x="1693265" y="1120270"/>
                </a:lnTo>
                <a:lnTo>
                  <a:pt x="1698342" y="1122812"/>
                </a:lnTo>
                <a:lnTo>
                  <a:pt x="1703419" y="1125672"/>
                </a:lnTo>
                <a:lnTo>
                  <a:pt x="1708179" y="1128532"/>
                </a:lnTo>
                <a:lnTo>
                  <a:pt x="1712304" y="1131710"/>
                </a:lnTo>
                <a:lnTo>
                  <a:pt x="1717064" y="1135523"/>
                </a:lnTo>
                <a:lnTo>
                  <a:pt x="1721189" y="1138701"/>
                </a:lnTo>
                <a:lnTo>
                  <a:pt x="1724997" y="1142832"/>
                </a:lnTo>
                <a:lnTo>
                  <a:pt x="1729122" y="1146645"/>
                </a:lnTo>
                <a:lnTo>
                  <a:pt x="1732295" y="1150776"/>
                </a:lnTo>
                <a:lnTo>
                  <a:pt x="1736103" y="1155225"/>
                </a:lnTo>
                <a:lnTo>
                  <a:pt x="1738959" y="1159674"/>
                </a:lnTo>
                <a:lnTo>
                  <a:pt x="1742132" y="1164440"/>
                </a:lnTo>
                <a:lnTo>
                  <a:pt x="1744988" y="1169525"/>
                </a:lnTo>
                <a:lnTo>
                  <a:pt x="1747527" y="1174291"/>
                </a:lnTo>
                <a:lnTo>
                  <a:pt x="1749748" y="1179375"/>
                </a:lnTo>
                <a:lnTo>
                  <a:pt x="1751969" y="1184460"/>
                </a:lnTo>
                <a:lnTo>
                  <a:pt x="1753873" y="1189862"/>
                </a:lnTo>
                <a:lnTo>
                  <a:pt x="1755460" y="1195582"/>
                </a:lnTo>
                <a:lnTo>
                  <a:pt x="1756729" y="1201302"/>
                </a:lnTo>
                <a:lnTo>
                  <a:pt x="1757681" y="1207022"/>
                </a:lnTo>
                <a:lnTo>
                  <a:pt x="1758316" y="1212741"/>
                </a:lnTo>
                <a:lnTo>
                  <a:pt x="1758633" y="1218144"/>
                </a:lnTo>
                <a:lnTo>
                  <a:pt x="1758950" y="1224181"/>
                </a:lnTo>
                <a:lnTo>
                  <a:pt x="1758950" y="1309980"/>
                </a:lnTo>
                <a:lnTo>
                  <a:pt x="1758633" y="1312840"/>
                </a:lnTo>
                <a:lnTo>
                  <a:pt x="1758316" y="1316017"/>
                </a:lnTo>
                <a:lnTo>
                  <a:pt x="1757681" y="1318877"/>
                </a:lnTo>
                <a:lnTo>
                  <a:pt x="1756412" y="1321419"/>
                </a:lnTo>
                <a:lnTo>
                  <a:pt x="1755460" y="1324279"/>
                </a:lnTo>
                <a:lnTo>
                  <a:pt x="1753873" y="1326504"/>
                </a:lnTo>
                <a:lnTo>
                  <a:pt x="1751969" y="1329046"/>
                </a:lnTo>
                <a:lnTo>
                  <a:pt x="1750065" y="1331270"/>
                </a:lnTo>
                <a:lnTo>
                  <a:pt x="1748161" y="1332859"/>
                </a:lnTo>
                <a:lnTo>
                  <a:pt x="1745623" y="1334766"/>
                </a:lnTo>
                <a:lnTo>
                  <a:pt x="1743084" y="1336355"/>
                </a:lnTo>
                <a:lnTo>
                  <a:pt x="1740546" y="1337626"/>
                </a:lnTo>
                <a:lnTo>
                  <a:pt x="1737690" y="1338579"/>
                </a:lnTo>
                <a:lnTo>
                  <a:pt x="1734834" y="1339215"/>
                </a:lnTo>
                <a:lnTo>
                  <a:pt x="1731978" y="1339532"/>
                </a:lnTo>
                <a:lnTo>
                  <a:pt x="1728805" y="1339850"/>
                </a:lnTo>
                <a:lnTo>
                  <a:pt x="1725631" y="1339532"/>
                </a:lnTo>
                <a:lnTo>
                  <a:pt x="1722776" y="1339215"/>
                </a:lnTo>
                <a:lnTo>
                  <a:pt x="1719920" y="1338579"/>
                </a:lnTo>
                <a:lnTo>
                  <a:pt x="1717064" y="1337626"/>
                </a:lnTo>
                <a:lnTo>
                  <a:pt x="1714525" y="1336355"/>
                </a:lnTo>
                <a:lnTo>
                  <a:pt x="1711987" y="1334766"/>
                </a:lnTo>
                <a:lnTo>
                  <a:pt x="1709765" y="1332859"/>
                </a:lnTo>
                <a:lnTo>
                  <a:pt x="1707544" y="1331270"/>
                </a:lnTo>
                <a:lnTo>
                  <a:pt x="1705640" y="1329046"/>
                </a:lnTo>
                <a:lnTo>
                  <a:pt x="1704054" y="1326504"/>
                </a:lnTo>
                <a:lnTo>
                  <a:pt x="1702467" y="1324279"/>
                </a:lnTo>
                <a:lnTo>
                  <a:pt x="1700880" y="1321419"/>
                </a:lnTo>
                <a:lnTo>
                  <a:pt x="1699928" y="1318877"/>
                </a:lnTo>
                <a:lnTo>
                  <a:pt x="1699294" y="1316017"/>
                </a:lnTo>
                <a:lnTo>
                  <a:pt x="1698977" y="1312840"/>
                </a:lnTo>
                <a:lnTo>
                  <a:pt x="1698659" y="1309980"/>
                </a:lnTo>
                <a:lnTo>
                  <a:pt x="1698659" y="1224181"/>
                </a:lnTo>
                <a:lnTo>
                  <a:pt x="1698342" y="1218461"/>
                </a:lnTo>
                <a:lnTo>
                  <a:pt x="1697707" y="1213377"/>
                </a:lnTo>
                <a:lnTo>
                  <a:pt x="1696438" y="1207975"/>
                </a:lnTo>
                <a:lnTo>
                  <a:pt x="1694217" y="1202891"/>
                </a:lnTo>
                <a:lnTo>
                  <a:pt x="1691995" y="1197806"/>
                </a:lnTo>
                <a:lnTo>
                  <a:pt x="1689457" y="1193675"/>
                </a:lnTo>
                <a:lnTo>
                  <a:pt x="1685966" y="1189226"/>
                </a:lnTo>
                <a:lnTo>
                  <a:pt x="1682793" y="1185095"/>
                </a:lnTo>
                <a:lnTo>
                  <a:pt x="1678668" y="1181918"/>
                </a:lnTo>
                <a:lnTo>
                  <a:pt x="1674226" y="1178422"/>
                </a:lnTo>
                <a:lnTo>
                  <a:pt x="1670100" y="1175880"/>
                </a:lnTo>
                <a:lnTo>
                  <a:pt x="1665023" y="1173338"/>
                </a:lnTo>
                <a:lnTo>
                  <a:pt x="1659946" y="1171431"/>
                </a:lnTo>
                <a:lnTo>
                  <a:pt x="1654552" y="1170160"/>
                </a:lnTo>
                <a:lnTo>
                  <a:pt x="1649157" y="1169525"/>
                </a:lnTo>
                <a:lnTo>
                  <a:pt x="1643763" y="1169207"/>
                </a:lnTo>
                <a:lnTo>
                  <a:pt x="1312480" y="1169207"/>
                </a:lnTo>
                <a:lnTo>
                  <a:pt x="1306451" y="1169207"/>
                </a:lnTo>
                <a:lnTo>
                  <a:pt x="1300739" y="1168571"/>
                </a:lnTo>
                <a:lnTo>
                  <a:pt x="1294710" y="1167936"/>
                </a:lnTo>
                <a:lnTo>
                  <a:pt x="1288998" y="1166982"/>
                </a:lnTo>
                <a:lnTo>
                  <a:pt x="1283604" y="1165711"/>
                </a:lnTo>
                <a:lnTo>
                  <a:pt x="1278209" y="1164440"/>
                </a:lnTo>
                <a:lnTo>
                  <a:pt x="1272815" y="1163169"/>
                </a:lnTo>
                <a:lnTo>
                  <a:pt x="1267420" y="1161262"/>
                </a:lnTo>
                <a:lnTo>
                  <a:pt x="1262343" y="1159038"/>
                </a:lnTo>
                <a:lnTo>
                  <a:pt x="1257583" y="1157131"/>
                </a:lnTo>
                <a:lnTo>
                  <a:pt x="1252824" y="1154272"/>
                </a:lnTo>
                <a:lnTo>
                  <a:pt x="1248064" y="1152047"/>
                </a:lnTo>
                <a:lnTo>
                  <a:pt x="1243304" y="1149187"/>
                </a:lnTo>
                <a:lnTo>
                  <a:pt x="1239179" y="1146009"/>
                </a:lnTo>
                <a:lnTo>
                  <a:pt x="1234736" y="1143150"/>
                </a:lnTo>
                <a:lnTo>
                  <a:pt x="1230611" y="1139654"/>
                </a:lnTo>
                <a:lnTo>
                  <a:pt x="1227121" y="1136159"/>
                </a:lnTo>
                <a:lnTo>
                  <a:pt x="1223313" y="1132345"/>
                </a:lnTo>
                <a:lnTo>
                  <a:pt x="1220140" y="1128532"/>
                </a:lnTo>
                <a:lnTo>
                  <a:pt x="1216649" y="1124719"/>
                </a:lnTo>
                <a:lnTo>
                  <a:pt x="1213793" y="1120588"/>
                </a:lnTo>
                <a:lnTo>
                  <a:pt x="1210937" y="1116457"/>
                </a:lnTo>
                <a:lnTo>
                  <a:pt x="1208399" y="1112008"/>
                </a:lnTo>
                <a:lnTo>
                  <a:pt x="1206177" y="1107559"/>
                </a:lnTo>
                <a:lnTo>
                  <a:pt x="1203956" y="1103428"/>
                </a:lnTo>
                <a:lnTo>
                  <a:pt x="1202052" y="1098661"/>
                </a:lnTo>
                <a:lnTo>
                  <a:pt x="1200783" y="1093577"/>
                </a:lnTo>
                <a:lnTo>
                  <a:pt x="1199196" y="1088811"/>
                </a:lnTo>
                <a:lnTo>
                  <a:pt x="1198244" y="1084044"/>
                </a:lnTo>
                <a:lnTo>
                  <a:pt x="1197610" y="1078960"/>
                </a:lnTo>
                <a:lnTo>
                  <a:pt x="1196975" y="1073875"/>
                </a:lnTo>
                <a:lnTo>
                  <a:pt x="1196975" y="1068473"/>
                </a:lnTo>
                <a:lnTo>
                  <a:pt x="1196975" y="998246"/>
                </a:lnTo>
                <a:lnTo>
                  <a:pt x="1196975" y="995386"/>
                </a:lnTo>
                <a:lnTo>
                  <a:pt x="1197610" y="992208"/>
                </a:lnTo>
                <a:lnTo>
                  <a:pt x="1198244" y="989348"/>
                </a:lnTo>
                <a:lnTo>
                  <a:pt x="1199196" y="986488"/>
                </a:lnTo>
                <a:lnTo>
                  <a:pt x="1200783" y="983946"/>
                </a:lnTo>
                <a:lnTo>
                  <a:pt x="1202052" y="981404"/>
                </a:lnTo>
                <a:lnTo>
                  <a:pt x="1203956" y="978862"/>
                </a:lnTo>
                <a:lnTo>
                  <a:pt x="1205543" y="976955"/>
                </a:lnTo>
                <a:lnTo>
                  <a:pt x="1208081" y="975048"/>
                </a:lnTo>
                <a:lnTo>
                  <a:pt x="1210303" y="973141"/>
                </a:lnTo>
                <a:lnTo>
                  <a:pt x="1212841" y="971870"/>
                </a:lnTo>
                <a:lnTo>
                  <a:pt x="1215380" y="970599"/>
                </a:lnTo>
                <a:lnTo>
                  <a:pt x="1217918" y="969646"/>
                </a:lnTo>
                <a:lnTo>
                  <a:pt x="1221092" y="968693"/>
                </a:lnTo>
                <a:lnTo>
                  <a:pt x="1223947" y="968375"/>
                </a:lnTo>
                <a:close/>
                <a:moveTo>
                  <a:pt x="792181" y="968375"/>
                </a:moveTo>
                <a:lnTo>
                  <a:pt x="795354" y="968375"/>
                </a:lnTo>
                <a:lnTo>
                  <a:pt x="798528" y="968375"/>
                </a:lnTo>
                <a:lnTo>
                  <a:pt x="801701" y="968693"/>
                </a:lnTo>
                <a:lnTo>
                  <a:pt x="804239" y="969646"/>
                </a:lnTo>
                <a:lnTo>
                  <a:pt x="807413" y="970599"/>
                </a:lnTo>
                <a:lnTo>
                  <a:pt x="809634" y="971870"/>
                </a:lnTo>
                <a:lnTo>
                  <a:pt x="812172" y="973141"/>
                </a:lnTo>
                <a:lnTo>
                  <a:pt x="814711" y="975048"/>
                </a:lnTo>
                <a:lnTo>
                  <a:pt x="816615" y="976955"/>
                </a:lnTo>
                <a:lnTo>
                  <a:pt x="818519" y="978862"/>
                </a:lnTo>
                <a:lnTo>
                  <a:pt x="820423" y="981404"/>
                </a:lnTo>
                <a:lnTo>
                  <a:pt x="822009" y="983946"/>
                </a:lnTo>
                <a:lnTo>
                  <a:pt x="822961" y="986488"/>
                </a:lnTo>
                <a:lnTo>
                  <a:pt x="824231" y="989348"/>
                </a:lnTo>
                <a:lnTo>
                  <a:pt x="824865" y="992208"/>
                </a:lnTo>
                <a:lnTo>
                  <a:pt x="825183" y="995386"/>
                </a:lnTo>
                <a:lnTo>
                  <a:pt x="825500" y="998246"/>
                </a:lnTo>
                <a:lnTo>
                  <a:pt x="825500" y="1083408"/>
                </a:lnTo>
                <a:lnTo>
                  <a:pt x="825183" y="1089446"/>
                </a:lnTo>
                <a:lnTo>
                  <a:pt x="824865" y="1095484"/>
                </a:lnTo>
                <a:lnTo>
                  <a:pt x="824231" y="1101204"/>
                </a:lnTo>
                <a:lnTo>
                  <a:pt x="823279" y="1106924"/>
                </a:lnTo>
                <a:lnTo>
                  <a:pt x="822009" y="1112643"/>
                </a:lnTo>
                <a:lnTo>
                  <a:pt x="820423" y="1118046"/>
                </a:lnTo>
                <a:lnTo>
                  <a:pt x="818519" y="1123448"/>
                </a:lnTo>
                <a:lnTo>
                  <a:pt x="816298" y="1128532"/>
                </a:lnTo>
                <a:lnTo>
                  <a:pt x="814076" y="1133616"/>
                </a:lnTo>
                <a:lnTo>
                  <a:pt x="811538" y="1138701"/>
                </a:lnTo>
                <a:lnTo>
                  <a:pt x="808682" y="1143467"/>
                </a:lnTo>
                <a:lnTo>
                  <a:pt x="805509" y="1147916"/>
                </a:lnTo>
                <a:lnTo>
                  <a:pt x="802653" y="1152683"/>
                </a:lnTo>
                <a:lnTo>
                  <a:pt x="799162" y="1157131"/>
                </a:lnTo>
                <a:lnTo>
                  <a:pt x="795672" y="1161580"/>
                </a:lnTo>
                <a:lnTo>
                  <a:pt x="791547" y="1165394"/>
                </a:lnTo>
                <a:lnTo>
                  <a:pt x="787739" y="1169207"/>
                </a:lnTo>
                <a:lnTo>
                  <a:pt x="783614" y="1172702"/>
                </a:lnTo>
                <a:lnTo>
                  <a:pt x="779171" y="1176198"/>
                </a:lnTo>
                <a:lnTo>
                  <a:pt x="774729" y="1179375"/>
                </a:lnTo>
                <a:lnTo>
                  <a:pt x="769969" y="1182553"/>
                </a:lnTo>
                <a:lnTo>
                  <a:pt x="764892" y="1185095"/>
                </a:lnTo>
                <a:lnTo>
                  <a:pt x="760132" y="1187955"/>
                </a:lnTo>
                <a:lnTo>
                  <a:pt x="754737" y="1190180"/>
                </a:lnTo>
                <a:lnTo>
                  <a:pt x="749978" y="1192086"/>
                </a:lnTo>
                <a:lnTo>
                  <a:pt x="744583" y="1193993"/>
                </a:lnTo>
                <a:lnTo>
                  <a:pt x="738871" y="1195582"/>
                </a:lnTo>
                <a:lnTo>
                  <a:pt x="733160" y="1196853"/>
                </a:lnTo>
                <a:lnTo>
                  <a:pt x="727448" y="1197806"/>
                </a:lnTo>
                <a:lnTo>
                  <a:pt x="721736" y="1198442"/>
                </a:lnTo>
                <a:lnTo>
                  <a:pt x="716024" y="1199077"/>
                </a:lnTo>
                <a:lnTo>
                  <a:pt x="710312" y="1199077"/>
                </a:lnTo>
                <a:lnTo>
                  <a:pt x="379030" y="1199077"/>
                </a:lnTo>
                <a:lnTo>
                  <a:pt x="373318" y="1199395"/>
                </a:lnTo>
                <a:lnTo>
                  <a:pt x="367923" y="1200348"/>
                </a:lnTo>
                <a:lnTo>
                  <a:pt x="362846" y="1201302"/>
                </a:lnTo>
                <a:lnTo>
                  <a:pt x="357769" y="1202573"/>
                </a:lnTo>
                <a:lnTo>
                  <a:pt x="353009" y="1204162"/>
                </a:lnTo>
                <a:lnTo>
                  <a:pt x="348250" y="1206386"/>
                </a:lnTo>
                <a:lnTo>
                  <a:pt x="344124" y="1208610"/>
                </a:lnTo>
                <a:lnTo>
                  <a:pt x="340316" y="1211153"/>
                </a:lnTo>
                <a:lnTo>
                  <a:pt x="336509" y="1214013"/>
                </a:lnTo>
                <a:lnTo>
                  <a:pt x="333335" y="1217190"/>
                </a:lnTo>
                <a:lnTo>
                  <a:pt x="330797" y="1220686"/>
                </a:lnTo>
                <a:lnTo>
                  <a:pt x="328258" y="1223863"/>
                </a:lnTo>
                <a:lnTo>
                  <a:pt x="326354" y="1227677"/>
                </a:lnTo>
                <a:lnTo>
                  <a:pt x="325085" y="1231490"/>
                </a:lnTo>
                <a:lnTo>
                  <a:pt x="324133" y="1235303"/>
                </a:lnTo>
                <a:lnTo>
                  <a:pt x="324133" y="1239434"/>
                </a:lnTo>
                <a:lnTo>
                  <a:pt x="324133" y="1309980"/>
                </a:lnTo>
                <a:lnTo>
                  <a:pt x="323498" y="1312840"/>
                </a:lnTo>
                <a:lnTo>
                  <a:pt x="323181" y="1316017"/>
                </a:lnTo>
                <a:lnTo>
                  <a:pt x="322547" y="1318877"/>
                </a:lnTo>
                <a:lnTo>
                  <a:pt x="321595" y="1321419"/>
                </a:lnTo>
                <a:lnTo>
                  <a:pt x="320325" y="1324279"/>
                </a:lnTo>
                <a:lnTo>
                  <a:pt x="318739" y="1326504"/>
                </a:lnTo>
                <a:lnTo>
                  <a:pt x="316835" y="1329046"/>
                </a:lnTo>
                <a:lnTo>
                  <a:pt x="314931" y="1331270"/>
                </a:lnTo>
                <a:lnTo>
                  <a:pt x="313027" y="1332859"/>
                </a:lnTo>
                <a:lnTo>
                  <a:pt x="310488" y="1334766"/>
                </a:lnTo>
                <a:lnTo>
                  <a:pt x="307950" y="1336355"/>
                </a:lnTo>
                <a:lnTo>
                  <a:pt x="305411" y="1337626"/>
                </a:lnTo>
                <a:lnTo>
                  <a:pt x="302555" y="1338579"/>
                </a:lnTo>
                <a:lnTo>
                  <a:pt x="300017" y="1339215"/>
                </a:lnTo>
                <a:lnTo>
                  <a:pt x="296844" y="1339532"/>
                </a:lnTo>
                <a:lnTo>
                  <a:pt x="293670" y="1339850"/>
                </a:lnTo>
                <a:lnTo>
                  <a:pt x="290497" y="1339532"/>
                </a:lnTo>
                <a:lnTo>
                  <a:pt x="287641" y="1339215"/>
                </a:lnTo>
                <a:lnTo>
                  <a:pt x="284785" y="1338579"/>
                </a:lnTo>
                <a:lnTo>
                  <a:pt x="281930" y="1337626"/>
                </a:lnTo>
                <a:lnTo>
                  <a:pt x="279391" y="1336355"/>
                </a:lnTo>
                <a:lnTo>
                  <a:pt x="276852" y="1334766"/>
                </a:lnTo>
                <a:lnTo>
                  <a:pt x="274631" y="1332859"/>
                </a:lnTo>
                <a:lnTo>
                  <a:pt x="272727" y="1331270"/>
                </a:lnTo>
                <a:lnTo>
                  <a:pt x="270506" y="1329046"/>
                </a:lnTo>
                <a:lnTo>
                  <a:pt x="268919" y="1326504"/>
                </a:lnTo>
                <a:lnTo>
                  <a:pt x="267333" y="1324279"/>
                </a:lnTo>
                <a:lnTo>
                  <a:pt x="265746" y="1321419"/>
                </a:lnTo>
                <a:lnTo>
                  <a:pt x="264794" y="1318877"/>
                </a:lnTo>
                <a:lnTo>
                  <a:pt x="264160" y="1316017"/>
                </a:lnTo>
                <a:lnTo>
                  <a:pt x="263842" y="1312840"/>
                </a:lnTo>
                <a:lnTo>
                  <a:pt x="263525" y="1309980"/>
                </a:lnTo>
                <a:lnTo>
                  <a:pt x="263525" y="1239434"/>
                </a:lnTo>
                <a:lnTo>
                  <a:pt x="263842" y="1234350"/>
                </a:lnTo>
                <a:lnTo>
                  <a:pt x="264160" y="1229266"/>
                </a:lnTo>
                <a:lnTo>
                  <a:pt x="264794" y="1224181"/>
                </a:lnTo>
                <a:lnTo>
                  <a:pt x="265746" y="1219415"/>
                </a:lnTo>
                <a:lnTo>
                  <a:pt x="267333" y="1214330"/>
                </a:lnTo>
                <a:lnTo>
                  <a:pt x="268919" y="1209564"/>
                </a:lnTo>
                <a:lnTo>
                  <a:pt x="270506" y="1204797"/>
                </a:lnTo>
                <a:lnTo>
                  <a:pt x="272727" y="1200348"/>
                </a:lnTo>
                <a:lnTo>
                  <a:pt x="274948" y="1195900"/>
                </a:lnTo>
                <a:lnTo>
                  <a:pt x="277487" y="1191451"/>
                </a:lnTo>
                <a:lnTo>
                  <a:pt x="280343" y="1187638"/>
                </a:lnTo>
                <a:lnTo>
                  <a:pt x="283199" y="1183189"/>
                </a:lnTo>
                <a:lnTo>
                  <a:pt x="286689" y="1179375"/>
                </a:lnTo>
                <a:lnTo>
                  <a:pt x="289863" y="1175562"/>
                </a:lnTo>
                <a:lnTo>
                  <a:pt x="293670" y="1171749"/>
                </a:lnTo>
                <a:lnTo>
                  <a:pt x="297478" y="1168571"/>
                </a:lnTo>
                <a:lnTo>
                  <a:pt x="301603" y="1165076"/>
                </a:lnTo>
                <a:lnTo>
                  <a:pt x="305729" y="1162216"/>
                </a:lnTo>
                <a:lnTo>
                  <a:pt x="309854" y="1159038"/>
                </a:lnTo>
                <a:lnTo>
                  <a:pt x="314614" y="1156178"/>
                </a:lnTo>
                <a:lnTo>
                  <a:pt x="319373" y="1153318"/>
                </a:lnTo>
                <a:lnTo>
                  <a:pt x="324133" y="1151094"/>
                </a:lnTo>
                <a:lnTo>
                  <a:pt x="328893" y="1149187"/>
                </a:lnTo>
                <a:lnTo>
                  <a:pt x="334287" y="1146963"/>
                </a:lnTo>
                <a:lnTo>
                  <a:pt x="339365" y="1145056"/>
                </a:lnTo>
                <a:lnTo>
                  <a:pt x="344759" y="1143467"/>
                </a:lnTo>
                <a:lnTo>
                  <a:pt x="350471" y="1142196"/>
                </a:lnTo>
                <a:lnTo>
                  <a:pt x="355548" y="1140925"/>
                </a:lnTo>
                <a:lnTo>
                  <a:pt x="361260" y="1139972"/>
                </a:lnTo>
                <a:lnTo>
                  <a:pt x="367289" y="1139336"/>
                </a:lnTo>
                <a:lnTo>
                  <a:pt x="373001" y="1139018"/>
                </a:lnTo>
                <a:lnTo>
                  <a:pt x="379030" y="1139018"/>
                </a:lnTo>
                <a:lnTo>
                  <a:pt x="710312" y="1139018"/>
                </a:lnTo>
                <a:lnTo>
                  <a:pt x="715707" y="1138701"/>
                </a:lnTo>
                <a:lnTo>
                  <a:pt x="721101" y="1138065"/>
                </a:lnTo>
                <a:lnTo>
                  <a:pt x="726496" y="1136476"/>
                </a:lnTo>
                <a:lnTo>
                  <a:pt x="731573" y="1134570"/>
                </a:lnTo>
                <a:lnTo>
                  <a:pt x="736650" y="1132345"/>
                </a:lnTo>
                <a:lnTo>
                  <a:pt x="740775" y="1129803"/>
                </a:lnTo>
                <a:lnTo>
                  <a:pt x="745218" y="1126308"/>
                </a:lnTo>
                <a:lnTo>
                  <a:pt x="749343" y="1122812"/>
                </a:lnTo>
                <a:lnTo>
                  <a:pt x="752833" y="1118999"/>
                </a:lnTo>
                <a:lnTo>
                  <a:pt x="756007" y="1114550"/>
                </a:lnTo>
                <a:lnTo>
                  <a:pt x="758545" y="1110101"/>
                </a:lnTo>
                <a:lnTo>
                  <a:pt x="760766" y="1105335"/>
                </a:lnTo>
                <a:lnTo>
                  <a:pt x="762988" y="1099933"/>
                </a:lnTo>
                <a:lnTo>
                  <a:pt x="764257" y="1094848"/>
                </a:lnTo>
                <a:lnTo>
                  <a:pt x="765209" y="1089128"/>
                </a:lnTo>
                <a:lnTo>
                  <a:pt x="765209" y="1083408"/>
                </a:lnTo>
                <a:lnTo>
                  <a:pt x="765209" y="998246"/>
                </a:lnTo>
                <a:lnTo>
                  <a:pt x="765526" y="995386"/>
                </a:lnTo>
                <a:lnTo>
                  <a:pt x="765844" y="992208"/>
                </a:lnTo>
                <a:lnTo>
                  <a:pt x="766478" y="989348"/>
                </a:lnTo>
                <a:lnTo>
                  <a:pt x="767747" y="986488"/>
                </a:lnTo>
                <a:lnTo>
                  <a:pt x="769017" y="983946"/>
                </a:lnTo>
                <a:lnTo>
                  <a:pt x="770603" y="981404"/>
                </a:lnTo>
                <a:lnTo>
                  <a:pt x="772190" y="978862"/>
                </a:lnTo>
                <a:lnTo>
                  <a:pt x="774094" y="976955"/>
                </a:lnTo>
                <a:lnTo>
                  <a:pt x="776315" y="975048"/>
                </a:lnTo>
                <a:lnTo>
                  <a:pt x="778536" y="973141"/>
                </a:lnTo>
                <a:lnTo>
                  <a:pt x="781392" y="971870"/>
                </a:lnTo>
                <a:lnTo>
                  <a:pt x="783614" y="970599"/>
                </a:lnTo>
                <a:lnTo>
                  <a:pt x="786469" y="969646"/>
                </a:lnTo>
                <a:lnTo>
                  <a:pt x="789325" y="968693"/>
                </a:lnTo>
                <a:lnTo>
                  <a:pt x="792181" y="968375"/>
                </a:lnTo>
                <a:close/>
                <a:moveTo>
                  <a:pt x="854248" y="475049"/>
                </a:moveTo>
                <a:lnTo>
                  <a:pt x="968334" y="729382"/>
                </a:lnTo>
                <a:lnTo>
                  <a:pt x="999072" y="623496"/>
                </a:lnTo>
                <a:lnTo>
                  <a:pt x="996361" y="622927"/>
                </a:lnTo>
                <a:lnTo>
                  <a:pt x="990612" y="621333"/>
                </a:lnTo>
                <a:lnTo>
                  <a:pt x="985184" y="619103"/>
                </a:lnTo>
                <a:lnTo>
                  <a:pt x="980393" y="616553"/>
                </a:lnTo>
                <a:lnTo>
                  <a:pt x="975603" y="614004"/>
                </a:lnTo>
                <a:lnTo>
                  <a:pt x="971132" y="611136"/>
                </a:lnTo>
                <a:lnTo>
                  <a:pt x="966981" y="607950"/>
                </a:lnTo>
                <a:lnTo>
                  <a:pt x="963468" y="604444"/>
                </a:lnTo>
                <a:lnTo>
                  <a:pt x="959636" y="600620"/>
                </a:lnTo>
                <a:lnTo>
                  <a:pt x="956762" y="597115"/>
                </a:lnTo>
                <a:lnTo>
                  <a:pt x="953568" y="593291"/>
                </a:lnTo>
                <a:lnTo>
                  <a:pt x="951014" y="589467"/>
                </a:lnTo>
                <a:lnTo>
                  <a:pt x="948778" y="585325"/>
                </a:lnTo>
                <a:lnTo>
                  <a:pt x="944308" y="577677"/>
                </a:lnTo>
                <a:lnTo>
                  <a:pt x="940795" y="570029"/>
                </a:lnTo>
                <a:lnTo>
                  <a:pt x="938559" y="563018"/>
                </a:lnTo>
                <a:lnTo>
                  <a:pt x="936643" y="556645"/>
                </a:lnTo>
                <a:lnTo>
                  <a:pt x="935366" y="550909"/>
                </a:lnTo>
                <a:lnTo>
                  <a:pt x="934089" y="546767"/>
                </a:lnTo>
                <a:lnTo>
                  <a:pt x="933450" y="543261"/>
                </a:lnTo>
                <a:lnTo>
                  <a:pt x="937921" y="545492"/>
                </a:lnTo>
                <a:lnTo>
                  <a:pt x="942711" y="547723"/>
                </a:lnTo>
                <a:lnTo>
                  <a:pt x="949098" y="550909"/>
                </a:lnTo>
                <a:lnTo>
                  <a:pt x="957081" y="554096"/>
                </a:lnTo>
                <a:lnTo>
                  <a:pt x="966342" y="557601"/>
                </a:lnTo>
                <a:lnTo>
                  <a:pt x="976880" y="560469"/>
                </a:lnTo>
                <a:lnTo>
                  <a:pt x="982629" y="561744"/>
                </a:lnTo>
                <a:lnTo>
                  <a:pt x="988377" y="563337"/>
                </a:lnTo>
                <a:lnTo>
                  <a:pt x="994445" y="564293"/>
                </a:lnTo>
                <a:lnTo>
                  <a:pt x="1000831" y="565249"/>
                </a:lnTo>
                <a:lnTo>
                  <a:pt x="1007218" y="565886"/>
                </a:lnTo>
                <a:lnTo>
                  <a:pt x="1013924" y="566205"/>
                </a:lnTo>
                <a:lnTo>
                  <a:pt x="1020631" y="566205"/>
                </a:lnTo>
                <a:lnTo>
                  <a:pt x="1027656" y="565886"/>
                </a:lnTo>
                <a:lnTo>
                  <a:pt x="1034682" y="565568"/>
                </a:lnTo>
                <a:lnTo>
                  <a:pt x="1041707" y="564293"/>
                </a:lnTo>
                <a:lnTo>
                  <a:pt x="1048733" y="563018"/>
                </a:lnTo>
                <a:lnTo>
                  <a:pt x="1055758" y="560788"/>
                </a:lnTo>
                <a:lnTo>
                  <a:pt x="1063103" y="558557"/>
                </a:lnTo>
                <a:lnTo>
                  <a:pt x="1070129" y="555371"/>
                </a:lnTo>
                <a:lnTo>
                  <a:pt x="1077474" y="552184"/>
                </a:lnTo>
                <a:lnTo>
                  <a:pt x="1084499" y="548041"/>
                </a:lnTo>
                <a:lnTo>
                  <a:pt x="1091525" y="543580"/>
                </a:lnTo>
                <a:lnTo>
                  <a:pt x="1098550" y="538163"/>
                </a:lnTo>
                <a:lnTo>
                  <a:pt x="1098231" y="541668"/>
                </a:lnTo>
                <a:lnTo>
                  <a:pt x="1097592" y="545811"/>
                </a:lnTo>
                <a:lnTo>
                  <a:pt x="1096315" y="551228"/>
                </a:lnTo>
                <a:lnTo>
                  <a:pt x="1095037" y="557920"/>
                </a:lnTo>
                <a:lnTo>
                  <a:pt x="1092802" y="564930"/>
                </a:lnTo>
                <a:lnTo>
                  <a:pt x="1089928" y="572578"/>
                </a:lnTo>
                <a:lnTo>
                  <a:pt x="1086734" y="580545"/>
                </a:lnTo>
                <a:lnTo>
                  <a:pt x="1084818" y="584687"/>
                </a:lnTo>
                <a:lnTo>
                  <a:pt x="1082264" y="588830"/>
                </a:lnTo>
                <a:lnTo>
                  <a:pt x="1080028" y="592654"/>
                </a:lnTo>
                <a:lnTo>
                  <a:pt x="1077474" y="596478"/>
                </a:lnTo>
                <a:lnTo>
                  <a:pt x="1074280" y="599983"/>
                </a:lnTo>
                <a:lnTo>
                  <a:pt x="1071406" y="603807"/>
                </a:lnTo>
                <a:lnTo>
                  <a:pt x="1067574" y="606994"/>
                </a:lnTo>
                <a:lnTo>
                  <a:pt x="1063742" y="610499"/>
                </a:lnTo>
                <a:lnTo>
                  <a:pt x="1059910" y="613367"/>
                </a:lnTo>
                <a:lnTo>
                  <a:pt x="1055439" y="616235"/>
                </a:lnTo>
                <a:lnTo>
                  <a:pt x="1050968" y="618465"/>
                </a:lnTo>
                <a:lnTo>
                  <a:pt x="1046178" y="621015"/>
                </a:lnTo>
                <a:lnTo>
                  <a:pt x="1043098" y="621918"/>
                </a:lnTo>
                <a:lnTo>
                  <a:pt x="1058953" y="723182"/>
                </a:lnTo>
                <a:lnTo>
                  <a:pt x="1183794" y="477832"/>
                </a:lnTo>
                <a:lnTo>
                  <a:pt x="1184474" y="476886"/>
                </a:lnTo>
                <a:lnTo>
                  <a:pt x="1201924" y="486411"/>
                </a:lnTo>
                <a:lnTo>
                  <a:pt x="1218105" y="495301"/>
                </a:lnTo>
                <a:lnTo>
                  <a:pt x="1234286" y="505143"/>
                </a:lnTo>
                <a:lnTo>
                  <a:pt x="1249515" y="514351"/>
                </a:lnTo>
                <a:lnTo>
                  <a:pt x="1264744" y="524193"/>
                </a:lnTo>
                <a:lnTo>
                  <a:pt x="1279021" y="534036"/>
                </a:lnTo>
                <a:lnTo>
                  <a:pt x="1292664" y="544513"/>
                </a:lnTo>
                <a:lnTo>
                  <a:pt x="1305989" y="554673"/>
                </a:lnTo>
                <a:lnTo>
                  <a:pt x="1318680" y="565468"/>
                </a:lnTo>
                <a:lnTo>
                  <a:pt x="1330736" y="576263"/>
                </a:lnTo>
                <a:lnTo>
                  <a:pt x="1342475" y="587693"/>
                </a:lnTo>
                <a:lnTo>
                  <a:pt x="1353263" y="599123"/>
                </a:lnTo>
                <a:lnTo>
                  <a:pt x="1363733" y="611188"/>
                </a:lnTo>
                <a:lnTo>
                  <a:pt x="1373885" y="623253"/>
                </a:lnTo>
                <a:lnTo>
                  <a:pt x="1383086" y="635953"/>
                </a:lnTo>
                <a:lnTo>
                  <a:pt x="1391970" y="649288"/>
                </a:lnTo>
                <a:lnTo>
                  <a:pt x="1400536" y="662623"/>
                </a:lnTo>
                <a:lnTo>
                  <a:pt x="1408150" y="676593"/>
                </a:lnTo>
                <a:lnTo>
                  <a:pt x="1415130" y="691516"/>
                </a:lnTo>
                <a:lnTo>
                  <a:pt x="1422110" y="706121"/>
                </a:lnTo>
                <a:lnTo>
                  <a:pt x="1428139" y="721678"/>
                </a:lnTo>
                <a:lnTo>
                  <a:pt x="1433849" y="737871"/>
                </a:lnTo>
                <a:lnTo>
                  <a:pt x="1438926" y="754381"/>
                </a:lnTo>
                <a:lnTo>
                  <a:pt x="1443368" y="771526"/>
                </a:lnTo>
                <a:lnTo>
                  <a:pt x="1447492" y="789623"/>
                </a:lnTo>
                <a:lnTo>
                  <a:pt x="1450982" y="808039"/>
                </a:lnTo>
                <a:lnTo>
                  <a:pt x="1453837" y="827406"/>
                </a:lnTo>
                <a:lnTo>
                  <a:pt x="1456058" y="847091"/>
                </a:lnTo>
                <a:lnTo>
                  <a:pt x="1457962" y="867729"/>
                </a:lnTo>
                <a:lnTo>
                  <a:pt x="1459231" y="888684"/>
                </a:lnTo>
                <a:lnTo>
                  <a:pt x="1460183" y="910909"/>
                </a:lnTo>
                <a:lnTo>
                  <a:pt x="1460500" y="933451"/>
                </a:lnTo>
                <a:lnTo>
                  <a:pt x="581025" y="933451"/>
                </a:lnTo>
                <a:lnTo>
                  <a:pt x="581342" y="910274"/>
                </a:lnTo>
                <a:lnTo>
                  <a:pt x="581660" y="887414"/>
                </a:lnTo>
                <a:lnTo>
                  <a:pt x="582929" y="865506"/>
                </a:lnTo>
                <a:lnTo>
                  <a:pt x="584198" y="844234"/>
                </a:lnTo>
                <a:lnTo>
                  <a:pt x="585784" y="823914"/>
                </a:lnTo>
                <a:lnTo>
                  <a:pt x="587688" y="804228"/>
                </a:lnTo>
                <a:lnTo>
                  <a:pt x="590543" y="785178"/>
                </a:lnTo>
                <a:lnTo>
                  <a:pt x="593399" y="767081"/>
                </a:lnTo>
                <a:lnTo>
                  <a:pt x="596889" y="749618"/>
                </a:lnTo>
                <a:lnTo>
                  <a:pt x="600696" y="732791"/>
                </a:lnTo>
                <a:lnTo>
                  <a:pt x="605455" y="716598"/>
                </a:lnTo>
                <a:lnTo>
                  <a:pt x="610531" y="700723"/>
                </a:lnTo>
                <a:lnTo>
                  <a:pt x="616242" y="685801"/>
                </a:lnTo>
                <a:lnTo>
                  <a:pt x="622270" y="670878"/>
                </a:lnTo>
                <a:lnTo>
                  <a:pt x="629250" y="656908"/>
                </a:lnTo>
                <a:lnTo>
                  <a:pt x="636548" y="643573"/>
                </a:lnTo>
                <a:lnTo>
                  <a:pt x="644479" y="630238"/>
                </a:lnTo>
                <a:lnTo>
                  <a:pt x="653363" y="617856"/>
                </a:lnTo>
                <a:lnTo>
                  <a:pt x="662564" y="605473"/>
                </a:lnTo>
                <a:lnTo>
                  <a:pt x="673034" y="594043"/>
                </a:lnTo>
                <a:lnTo>
                  <a:pt x="683504" y="582296"/>
                </a:lnTo>
                <a:lnTo>
                  <a:pt x="695243" y="571183"/>
                </a:lnTo>
                <a:lnTo>
                  <a:pt x="707299" y="560388"/>
                </a:lnTo>
                <a:lnTo>
                  <a:pt x="720624" y="550228"/>
                </a:lnTo>
                <a:lnTo>
                  <a:pt x="734267" y="539751"/>
                </a:lnTo>
                <a:lnTo>
                  <a:pt x="748861" y="530226"/>
                </a:lnTo>
                <a:lnTo>
                  <a:pt x="764408" y="520383"/>
                </a:lnTo>
                <a:lnTo>
                  <a:pt x="780589" y="510858"/>
                </a:lnTo>
                <a:lnTo>
                  <a:pt x="798038" y="501651"/>
                </a:lnTo>
                <a:lnTo>
                  <a:pt x="816123" y="492443"/>
                </a:lnTo>
                <a:lnTo>
                  <a:pt x="835159" y="483236"/>
                </a:lnTo>
                <a:lnTo>
                  <a:pt x="854248" y="475049"/>
                </a:lnTo>
                <a:close/>
                <a:moveTo>
                  <a:pt x="855147" y="474663"/>
                </a:moveTo>
                <a:lnTo>
                  <a:pt x="855153" y="474670"/>
                </a:lnTo>
                <a:lnTo>
                  <a:pt x="855131" y="474670"/>
                </a:lnTo>
                <a:lnTo>
                  <a:pt x="855147" y="474663"/>
                </a:lnTo>
                <a:close/>
                <a:moveTo>
                  <a:pt x="1020763" y="0"/>
                </a:moveTo>
                <a:lnTo>
                  <a:pt x="1027440" y="318"/>
                </a:lnTo>
                <a:lnTo>
                  <a:pt x="1034436" y="1272"/>
                </a:lnTo>
                <a:lnTo>
                  <a:pt x="1041750" y="1908"/>
                </a:lnTo>
                <a:lnTo>
                  <a:pt x="1049064" y="2863"/>
                </a:lnTo>
                <a:lnTo>
                  <a:pt x="1057014" y="4135"/>
                </a:lnTo>
                <a:lnTo>
                  <a:pt x="1065282" y="5726"/>
                </a:lnTo>
                <a:lnTo>
                  <a:pt x="1073231" y="7952"/>
                </a:lnTo>
                <a:lnTo>
                  <a:pt x="1081499" y="10179"/>
                </a:lnTo>
                <a:lnTo>
                  <a:pt x="1089767" y="12406"/>
                </a:lnTo>
                <a:lnTo>
                  <a:pt x="1098671" y="15587"/>
                </a:lnTo>
                <a:lnTo>
                  <a:pt x="1106939" y="18767"/>
                </a:lnTo>
                <a:lnTo>
                  <a:pt x="1115207" y="22585"/>
                </a:lnTo>
                <a:lnTo>
                  <a:pt x="1123474" y="26720"/>
                </a:lnTo>
                <a:lnTo>
                  <a:pt x="1131742" y="30855"/>
                </a:lnTo>
                <a:lnTo>
                  <a:pt x="1139374" y="35626"/>
                </a:lnTo>
                <a:lnTo>
                  <a:pt x="1147006" y="40716"/>
                </a:lnTo>
                <a:lnTo>
                  <a:pt x="1154638" y="46442"/>
                </a:lnTo>
                <a:lnTo>
                  <a:pt x="1161952" y="52167"/>
                </a:lnTo>
                <a:lnTo>
                  <a:pt x="1168629" y="59166"/>
                </a:lnTo>
                <a:lnTo>
                  <a:pt x="1174989" y="65846"/>
                </a:lnTo>
                <a:lnTo>
                  <a:pt x="1181031" y="73480"/>
                </a:lnTo>
                <a:lnTo>
                  <a:pt x="1186119" y="81432"/>
                </a:lnTo>
                <a:lnTo>
                  <a:pt x="1190889" y="89703"/>
                </a:lnTo>
                <a:lnTo>
                  <a:pt x="1195341" y="98927"/>
                </a:lnTo>
                <a:lnTo>
                  <a:pt x="1197249" y="103381"/>
                </a:lnTo>
                <a:lnTo>
                  <a:pt x="1198839" y="108152"/>
                </a:lnTo>
                <a:lnTo>
                  <a:pt x="1200429" y="113242"/>
                </a:lnTo>
                <a:lnTo>
                  <a:pt x="1202019" y="118331"/>
                </a:lnTo>
                <a:lnTo>
                  <a:pt x="1202973" y="123739"/>
                </a:lnTo>
                <a:lnTo>
                  <a:pt x="1203927" y="128828"/>
                </a:lnTo>
                <a:lnTo>
                  <a:pt x="1204881" y="134554"/>
                </a:lnTo>
                <a:lnTo>
                  <a:pt x="1205517" y="140280"/>
                </a:lnTo>
                <a:lnTo>
                  <a:pt x="1205835" y="146005"/>
                </a:lnTo>
                <a:lnTo>
                  <a:pt x="1206153" y="152049"/>
                </a:lnTo>
                <a:lnTo>
                  <a:pt x="1206153" y="158093"/>
                </a:lnTo>
                <a:lnTo>
                  <a:pt x="1206153" y="164455"/>
                </a:lnTo>
                <a:lnTo>
                  <a:pt x="1205517" y="170817"/>
                </a:lnTo>
                <a:lnTo>
                  <a:pt x="1204881" y="177497"/>
                </a:lnTo>
                <a:lnTo>
                  <a:pt x="1204245" y="184177"/>
                </a:lnTo>
                <a:lnTo>
                  <a:pt x="1203291" y="191175"/>
                </a:lnTo>
                <a:lnTo>
                  <a:pt x="1204245" y="191175"/>
                </a:lnTo>
                <a:lnTo>
                  <a:pt x="1206789" y="192129"/>
                </a:lnTo>
                <a:lnTo>
                  <a:pt x="1210286" y="194038"/>
                </a:lnTo>
                <a:lnTo>
                  <a:pt x="1212194" y="195628"/>
                </a:lnTo>
                <a:lnTo>
                  <a:pt x="1214420" y="197219"/>
                </a:lnTo>
                <a:lnTo>
                  <a:pt x="1216328" y="199445"/>
                </a:lnTo>
                <a:lnTo>
                  <a:pt x="1218554" y="202308"/>
                </a:lnTo>
                <a:lnTo>
                  <a:pt x="1220462" y="205171"/>
                </a:lnTo>
                <a:lnTo>
                  <a:pt x="1222052" y="208988"/>
                </a:lnTo>
                <a:lnTo>
                  <a:pt x="1223642" y="212805"/>
                </a:lnTo>
                <a:lnTo>
                  <a:pt x="1224596" y="217895"/>
                </a:lnTo>
                <a:lnTo>
                  <a:pt x="1225232" y="223302"/>
                </a:lnTo>
                <a:lnTo>
                  <a:pt x="1225550" y="229664"/>
                </a:lnTo>
                <a:lnTo>
                  <a:pt x="1225232" y="241752"/>
                </a:lnTo>
                <a:lnTo>
                  <a:pt x="1224278" y="251931"/>
                </a:lnTo>
                <a:lnTo>
                  <a:pt x="1223006" y="261156"/>
                </a:lnTo>
                <a:lnTo>
                  <a:pt x="1221098" y="268790"/>
                </a:lnTo>
                <a:lnTo>
                  <a:pt x="1218236" y="275152"/>
                </a:lnTo>
                <a:lnTo>
                  <a:pt x="1215692" y="280878"/>
                </a:lnTo>
                <a:lnTo>
                  <a:pt x="1212194" y="285967"/>
                </a:lnTo>
                <a:lnTo>
                  <a:pt x="1209015" y="290102"/>
                </a:lnTo>
                <a:lnTo>
                  <a:pt x="1205199" y="294556"/>
                </a:lnTo>
                <a:lnTo>
                  <a:pt x="1203609" y="297737"/>
                </a:lnTo>
                <a:lnTo>
                  <a:pt x="1201701" y="300918"/>
                </a:lnTo>
                <a:lnTo>
                  <a:pt x="1199793" y="305053"/>
                </a:lnTo>
                <a:lnTo>
                  <a:pt x="1198203" y="309506"/>
                </a:lnTo>
                <a:lnTo>
                  <a:pt x="1196931" y="314914"/>
                </a:lnTo>
                <a:lnTo>
                  <a:pt x="1195977" y="321276"/>
                </a:lnTo>
                <a:lnTo>
                  <a:pt x="1195023" y="328592"/>
                </a:lnTo>
                <a:lnTo>
                  <a:pt x="1193433" y="335908"/>
                </a:lnTo>
                <a:lnTo>
                  <a:pt x="1191843" y="343860"/>
                </a:lnTo>
                <a:lnTo>
                  <a:pt x="1189617" y="351495"/>
                </a:lnTo>
                <a:lnTo>
                  <a:pt x="1187391" y="359447"/>
                </a:lnTo>
                <a:lnTo>
                  <a:pt x="1184211" y="367081"/>
                </a:lnTo>
                <a:lnTo>
                  <a:pt x="1181349" y="375352"/>
                </a:lnTo>
                <a:lnTo>
                  <a:pt x="1177851" y="383304"/>
                </a:lnTo>
                <a:lnTo>
                  <a:pt x="1173717" y="391257"/>
                </a:lnTo>
                <a:lnTo>
                  <a:pt x="1169901" y="398891"/>
                </a:lnTo>
                <a:lnTo>
                  <a:pt x="1165449" y="406843"/>
                </a:lnTo>
                <a:lnTo>
                  <a:pt x="1160680" y="414796"/>
                </a:lnTo>
                <a:lnTo>
                  <a:pt x="1155910" y="422430"/>
                </a:lnTo>
                <a:lnTo>
                  <a:pt x="1150504" y="429746"/>
                </a:lnTo>
                <a:lnTo>
                  <a:pt x="1145098" y="437062"/>
                </a:lnTo>
                <a:lnTo>
                  <a:pt x="1139374" y="444378"/>
                </a:lnTo>
                <a:lnTo>
                  <a:pt x="1133332" y="451058"/>
                </a:lnTo>
                <a:lnTo>
                  <a:pt x="1126972" y="457738"/>
                </a:lnTo>
                <a:lnTo>
                  <a:pt x="1120612" y="464100"/>
                </a:lnTo>
                <a:lnTo>
                  <a:pt x="1113935" y="470144"/>
                </a:lnTo>
                <a:lnTo>
                  <a:pt x="1106939" y="475870"/>
                </a:lnTo>
                <a:lnTo>
                  <a:pt x="1099943" y="481596"/>
                </a:lnTo>
                <a:lnTo>
                  <a:pt x="1092947" y="486367"/>
                </a:lnTo>
                <a:lnTo>
                  <a:pt x="1085633" y="490820"/>
                </a:lnTo>
                <a:lnTo>
                  <a:pt x="1078001" y="495274"/>
                </a:lnTo>
                <a:lnTo>
                  <a:pt x="1070052" y="499091"/>
                </a:lnTo>
                <a:lnTo>
                  <a:pt x="1062102" y="501954"/>
                </a:lnTo>
                <a:lnTo>
                  <a:pt x="1054152" y="504816"/>
                </a:lnTo>
                <a:lnTo>
                  <a:pt x="1046202" y="506725"/>
                </a:lnTo>
                <a:lnTo>
                  <a:pt x="1037616" y="508315"/>
                </a:lnTo>
                <a:lnTo>
                  <a:pt x="1029348" y="509270"/>
                </a:lnTo>
                <a:lnTo>
                  <a:pt x="1020763" y="509588"/>
                </a:lnTo>
                <a:lnTo>
                  <a:pt x="1012177" y="509270"/>
                </a:lnTo>
                <a:lnTo>
                  <a:pt x="1003909" y="508315"/>
                </a:lnTo>
                <a:lnTo>
                  <a:pt x="995641" y="506725"/>
                </a:lnTo>
                <a:lnTo>
                  <a:pt x="987691" y="504816"/>
                </a:lnTo>
                <a:lnTo>
                  <a:pt x="979423" y="501954"/>
                </a:lnTo>
                <a:lnTo>
                  <a:pt x="971473" y="499091"/>
                </a:lnTo>
                <a:lnTo>
                  <a:pt x="963842" y="495274"/>
                </a:lnTo>
                <a:lnTo>
                  <a:pt x="956210" y="490820"/>
                </a:lnTo>
                <a:lnTo>
                  <a:pt x="948896" y="486367"/>
                </a:lnTo>
                <a:lnTo>
                  <a:pt x="941264" y="481596"/>
                </a:lnTo>
                <a:lnTo>
                  <a:pt x="934268" y="475870"/>
                </a:lnTo>
                <a:lnTo>
                  <a:pt x="927590" y="470144"/>
                </a:lnTo>
                <a:lnTo>
                  <a:pt x="920913" y="464100"/>
                </a:lnTo>
                <a:lnTo>
                  <a:pt x="914553" y="457738"/>
                </a:lnTo>
                <a:lnTo>
                  <a:pt x="908193" y="451058"/>
                </a:lnTo>
                <a:lnTo>
                  <a:pt x="902151" y="444378"/>
                </a:lnTo>
                <a:lnTo>
                  <a:pt x="896427" y="437062"/>
                </a:lnTo>
                <a:lnTo>
                  <a:pt x="891339" y="429746"/>
                </a:lnTo>
                <a:lnTo>
                  <a:pt x="885933" y="422430"/>
                </a:lnTo>
                <a:lnTo>
                  <a:pt x="880845" y="414796"/>
                </a:lnTo>
                <a:lnTo>
                  <a:pt x="876076" y="406843"/>
                </a:lnTo>
                <a:lnTo>
                  <a:pt x="871942" y="398891"/>
                </a:lnTo>
                <a:lnTo>
                  <a:pt x="867808" y="391257"/>
                </a:lnTo>
                <a:lnTo>
                  <a:pt x="863674" y="383304"/>
                </a:lnTo>
                <a:lnTo>
                  <a:pt x="860494" y="375352"/>
                </a:lnTo>
                <a:lnTo>
                  <a:pt x="856996" y="367081"/>
                </a:lnTo>
                <a:lnTo>
                  <a:pt x="854452" y="359447"/>
                </a:lnTo>
                <a:lnTo>
                  <a:pt x="852226" y="351495"/>
                </a:lnTo>
                <a:lnTo>
                  <a:pt x="849682" y="343860"/>
                </a:lnTo>
                <a:lnTo>
                  <a:pt x="848092" y="335908"/>
                </a:lnTo>
                <a:lnTo>
                  <a:pt x="846820" y="328592"/>
                </a:lnTo>
                <a:lnTo>
                  <a:pt x="845866" y="321276"/>
                </a:lnTo>
                <a:lnTo>
                  <a:pt x="844594" y="314914"/>
                </a:lnTo>
                <a:lnTo>
                  <a:pt x="843322" y="309506"/>
                </a:lnTo>
                <a:lnTo>
                  <a:pt x="841732" y="305053"/>
                </a:lnTo>
                <a:lnTo>
                  <a:pt x="840142" y="300918"/>
                </a:lnTo>
                <a:lnTo>
                  <a:pt x="837916" y="297737"/>
                </a:lnTo>
                <a:lnTo>
                  <a:pt x="836326" y="294556"/>
                </a:lnTo>
                <a:lnTo>
                  <a:pt x="832829" y="290102"/>
                </a:lnTo>
                <a:lnTo>
                  <a:pt x="829013" y="285967"/>
                </a:lnTo>
                <a:lnTo>
                  <a:pt x="826151" y="280878"/>
                </a:lnTo>
                <a:lnTo>
                  <a:pt x="822971" y="275152"/>
                </a:lnTo>
                <a:lnTo>
                  <a:pt x="820745" y="268790"/>
                </a:lnTo>
                <a:lnTo>
                  <a:pt x="818519" y="261156"/>
                </a:lnTo>
                <a:lnTo>
                  <a:pt x="817247" y="251931"/>
                </a:lnTo>
                <a:lnTo>
                  <a:pt x="816293" y="241752"/>
                </a:lnTo>
                <a:lnTo>
                  <a:pt x="815975" y="229664"/>
                </a:lnTo>
                <a:lnTo>
                  <a:pt x="816293" y="223302"/>
                </a:lnTo>
                <a:lnTo>
                  <a:pt x="816929" y="217895"/>
                </a:lnTo>
                <a:lnTo>
                  <a:pt x="817883" y="212805"/>
                </a:lnTo>
                <a:lnTo>
                  <a:pt x="819791" y="208988"/>
                </a:lnTo>
                <a:lnTo>
                  <a:pt x="821381" y="205171"/>
                </a:lnTo>
                <a:lnTo>
                  <a:pt x="822971" y="202308"/>
                </a:lnTo>
                <a:lnTo>
                  <a:pt x="824879" y="199445"/>
                </a:lnTo>
                <a:lnTo>
                  <a:pt x="827423" y="197219"/>
                </a:lnTo>
                <a:lnTo>
                  <a:pt x="829331" y="195628"/>
                </a:lnTo>
                <a:lnTo>
                  <a:pt x="831239" y="194038"/>
                </a:lnTo>
                <a:lnTo>
                  <a:pt x="835054" y="192129"/>
                </a:lnTo>
                <a:lnTo>
                  <a:pt x="837280" y="191175"/>
                </a:lnTo>
                <a:lnTo>
                  <a:pt x="838234" y="191175"/>
                </a:lnTo>
                <a:lnTo>
                  <a:pt x="837280" y="184177"/>
                </a:lnTo>
                <a:lnTo>
                  <a:pt x="836326" y="177497"/>
                </a:lnTo>
                <a:lnTo>
                  <a:pt x="835690" y="170817"/>
                </a:lnTo>
                <a:lnTo>
                  <a:pt x="835372" y="164455"/>
                </a:lnTo>
                <a:lnTo>
                  <a:pt x="835372" y="158093"/>
                </a:lnTo>
                <a:lnTo>
                  <a:pt x="835372" y="152049"/>
                </a:lnTo>
                <a:lnTo>
                  <a:pt x="835690" y="146005"/>
                </a:lnTo>
                <a:lnTo>
                  <a:pt x="836008" y="140280"/>
                </a:lnTo>
                <a:lnTo>
                  <a:pt x="836644" y="134554"/>
                </a:lnTo>
                <a:lnTo>
                  <a:pt x="837280" y="128828"/>
                </a:lnTo>
                <a:lnTo>
                  <a:pt x="838234" y="123739"/>
                </a:lnTo>
                <a:lnTo>
                  <a:pt x="839824" y="118331"/>
                </a:lnTo>
                <a:lnTo>
                  <a:pt x="841096" y="113242"/>
                </a:lnTo>
                <a:lnTo>
                  <a:pt x="842686" y="108152"/>
                </a:lnTo>
                <a:lnTo>
                  <a:pt x="844276" y="103381"/>
                </a:lnTo>
                <a:lnTo>
                  <a:pt x="846502" y="98927"/>
                </a:lnTo>
                <a:lnTo>
                  <a:pt x="850636" y="89703"/>
                </a:lnTo>
                <a:lnTo>
                  <a:pt x="855406" y="81432"/>
                </a:lnTo>
                <a:lnTo>
                  <a:pt x="860812" y="73480"/>
                </a:lnTo>
                <a:lnTo>
                  <a:pt x="866854" y="65846"/>
                </a:lnTo>
                <a:lnTo>
                  <a:pt x="873214" y="59166"/>
                </a:lnTo>
                <a:lnTo>
                  <a:pt x="879891" y="52167"/>
                </a:lnTo>
                <a:lnTo>
                  <a:pt x="886887" y="46442"/>
                </a:lnTo>
                <a:lnTo>
                  <a:pt x="894201" y="40716"/>
                </a:lnTo>
                <a:lnTo>
                  <a:pt x="901833" y="35626"/>
                </a:lnTo>
                <a:lnTo>
                  <a:pt x="910101" y="30855"/>
                </a:lnTo>
                <a:lnTo>
                  <a:pt x="918051" y="26720"/>
                </a:lnTo>
                <a:lnTo>
                  <a:pt x="926318" y="22585"/>
                </a:lnTo>
                <a:lnTo>
                  <a:pt x="934586" y="18767"/>
                </a:lnTo>
                <a:lnTo>
                  <a:pt x="943172" y="15587"/>
                </a:lnTo>
                <a:lnTo>
                  <a:pt x="951440" y="12406"/>
                </a:lnTo>
                <a:lnTo>
                  <a:pt x="959708" y="10179"/>
                </a:lnTo>
                <a:lnTo>
                  <a:pt x="968294" y="7952"/>
                </a:lnTo>
                <a:lnTo>
                  <a:pt x="976561" y="5726"/>
                </a:lnTo>
                <a:lnTo>
                  <a:pt x="984511" y="4135"/>
                </a:lnTo>
                <a:lnTo>
                  <a:pt x="992143" y="2863"/>
                </a:lnTo>
                <a:lnTo>
                  <a:pt x="999775" y="1908"/>
                </a:lnTo>
                <a:lnTo>
                  <a:pt x="1007407" y="1272"/>
                </a:lnTo>
                <a:lnTo>
                  <a:pt x="1014403" y="318"/>
                </a:lnTo>
                <a:lnTo>
                  <a:pt x="1020763" y="0"/>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文本框 13"/>
          <p:cNvSpPr/>
          <p:nvPr/>
        </p:nvSpPr>
        <p:spPr>
          <a:xfrm>
            <a:off x="1225440" y="5432400"/>
            <a:ext cx="35244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174" name="文本框 14"/>
          <p:cNvSpPr/>
          <p:nvPr/>
        </p:nvSpPr>
        <p:spPr>
          <a:xfrm>
            <a:off x="1573200" y="497052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4e67c8"/>
                </a:solidFill>
                <a:latin typeface="Arial"/>
              </a:rPr>
              <a:t>这里添加标题</a:t>
            </a:r>
            <a:endParaRPr b="0" lang="en-US" sz="2400" spc="-1" strike="noStrike">
              <a:solidFill>
                <a:srgbClr val="000000"/>
              </a:solidFill>
              <a:latin typeface="Arial"/>
            </a:endParaRPr>
          </a:p>
        </p:txBody>
      </p:sp>
      <p:sp>
        <p:nvSpPr>
          <p:cNvPr id="175" name="圆角矩形 15"/>
          <p:cNvSpPr/>
          <p:nvPr/>
        </p:nvSpPr>
        <p:spPr>
          <a:xfrm>
            <a:off x="725400" y="1289160"/>
            <a:ext cx="2438640" cy="691920"/>
          </a:xfrm>
          <a:prstGeom prst="roundRect">
            <a:avLst>
              <a:gd name="adj" fmla="val 16667"/>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文本框 16"/>
          <p:cNvSpPr/>
          <p:nvPr/>
        </p:nvSpPr>
        <p:spPr>
          <a:xfrm>
            <a:off x="1333440" y="14050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这里添加标题</a:t>
            </a:r>
            <a:endParaRPr b="0" lang="en-US" sz="2400" spc="-1" strike="noStrike">
              <a:solidFill>
                <a:srgbClr val="000000"/>
              </a:solidFill>
              <a:latin typeface="Arial"/>
            </a:endParaRPr>
          </a:p>
        </p:txBody>
      </p:sp>
      <p:pic>
        <p:nvPicPr>
          <p:cNvPr id="177" name="图片 17" descr=""/>
          <p:cNvPicPr/>
          <p:nvPr/>
        </p:nvPicPr>
        <p:blipFill>
          <a:blip r:embed="rId1"/>
          <a:stretch/>
        </p:blipFill>
        <p:spPr>
          <a:xfrm>
            <a:off x="8610480" y="0"/>
            <a:ext cx="3581640" cy="1006560"/>
          </a:xfrm>
          <a:prstGeom prst="rect">
            <a:avLst/>
          </a:prstGeom>
          <a:ln w="0">
            <a:noFill/>
          </a:ln>
        </p:spPr>
      </p:pic>
      <p:grpSp>
        <p:nvGrpSpPr>
          <p:cNvPr id="178" name="组合 18"/>
          <p:cNvGrpSpPr/>
          <p:nvPr/>
        </p:nvGrpSpPr>
        <p:grpSpPr>
          <a:xfrm>
            <a:off x="133200" y="125280"/>
            <a:ext cx="640080" cy="638280"/>
            <a:chOff x="133200" y="125280"/>
            <a:chExt cx="640080" cy="638280"/>
          </a:xfrm>
        </p:grpSpPr>
        <p:sp>
          <p:nvSpPr>
            <p:cNvPr id="179" name="椭圆 19"/>
            <p:cNvSpPr/>
            <p:nvPr/>
          </p:nvSpPr>
          <p:spPr>
            <a:xfrm>
              <a:off x="133200" y="125280"/>
              <a:ext cx="6400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椭圆 20"/>
            <p:cNvSpPr/>
            <p:nvPr/>
          </p:nvSpPr>
          <p:spPr>
            <a:xfrm>
              <a:off x="176040" y="168120"/>
              <a:ext cx="5544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KSO_Shape"/>
            <p:cNvSpPr/>
            <p:nvPr/>
          </p:nvSpPr>
          <p:spPr>
            <a:xfrm>
              <a:off x="271800" y="269280"/>
              <a:ext cx="362520" cy="349920"/>
            </a:xfrm>
            <a:custGeom>
              <a:avLst/>
              <a:gdLst/>
              <a:ahLst/>
              <a:rect l="l" t="t" r="r" b="b"/>
              <a:pathLst>
                <a:path w="8965002" h="8673857">
                  <a:moveTo>
                    <a:pt x="8267042" y="3603669"/>
                  </a:moveTo>
                  <a:cubicBezTo>
                    <a:pt x="8267042" y="3603669"/>
                    <a:pt x="8267042" y="3603669"/>
                    <a:pt x="8503636" y="3603669"/>
                  </a:cubicBezTo>
                  <a:cubicBezTo>
                    <a:pt x="8770275" y="3603669"/>
                    <a:pt x="9115779" y="3885289"/>
                    <a:pt x="8894206" y="4343392"/>
                  </a:cubicBezTo>
                  <a:cubicBezTo>
                    <a:pt x="8894206" y="4343392"/>
                    <a:pt x="8894206" y="4343392"/>
                    <a:pt x="6963891" y="7249712"/>
                  </a:cubicBezTo>
                  <a:cubicBezTo>
                    <a:pt x="6817428" y="7463743"/>
                    <a:pt x="6610877" y="7475008"/>
                    <a:pt x="6509479" y="7475008"/>
                  </a:cubicBezTo>
                  <a:cubicBezTo>
                    <a:pt x="6509479" y="7475008"/>
                    <a:pt x="6509479" y="7475008"/>
                    <a:pt x="5375325" y="7475008"/>
                  </a:cubicBezTo>
                  <a:cubicBezTo>
                    <a:pt x="5375325" y="7475008"/>
                    <a:pt x="5375325" y="7475008"/>
                    <a:pt x="5375325" y="8391212"/>
                  </a:cubicBezTo>
                  <a:cubicBezTo>
                    <a:pt x="5375325" y="8503860"/>
                    <a:pt x="5326504" y="8586469"/>
                    <a:pt x="5225106" y="8639038"/>
                  </a:cubicBezTo>
                  <a:cubicBezTo>
                    <a:pt x="5180040" y="8661567"/>
                    <a:pt x="5131219" y="8672833"/>
                    <a:pt x="5086153" y="8672833"/>
                  </a:cubicBezTo>
                  <a:cubicBezTo>
                    <a:pt x="5026066" y="8672833"/>
                    <a:pt x="4962223" y="8654057"/>
                    <a:pt x="4909646" y="8620263"/>
                  </a:cubicBezTo>
                  <a:cubicBezTo>
                    <a:pt x="4909646" y="8620263"/>
                    <a:pt x="4909646" y="8620263"/>
                    <a:pt x="4027109" y="8023229"/>
                  </a:cubicBezTo>
                  <a:cubicBezTo>
                    <a:pt x="4027109" y="8023229"/>
                    <a:pt x="4027109" y="8023229"/>
                    <a:pt x="3163349" y="8620263"/>
                  </a:cubicBezTo>
                  <a:cubicBezTo>
                    <a:pt x="3069463" y="8684097"/>
                    <a:pt x="2949287" y="8691607"/>
                    <a:pt x="2847889" y="8639038"/>
                  </a:cubicBezTo>
                  <a:cubicBezTo>
                    <a:pt x="2750247" y="8586469"/>
                    <a:pt x="2686404" y="8503860"/>
                    <a:pt x="2686404" y="8391212"/>
                  </a:cubicBezTo>
                  <a:cubicBezTo>
                    <a:pt x="2686404" y="8391212"/>
                    <a:pt x="2686404" y="8391212"/>
                    <a:pt x="2686404" y="6100701"/>
                  </a:cubicBezTo>
                  <a:cubicBezTo>
                    <a:pt x="2686404" y="5559991"/>
                    <a:pt x="2990598" y="5237066"/>
                    <a:pt x="3170860" y="5131928"/>
                  </a:cubicBezTo>
                  <a:cubicBezTo>
                    <a:pt x="3215926" y="5105644"/>
                    <a:pt x="3268503" y="5090624"/>
                    <a:pt x="3324835" y="5090624"/>
                  </a:cubicBezTo>
                  <a:cubicBezTo>
                    <a:pt x="3324835" y="5090624"/>
                    <a:pt x="3324835" y="5090624"/>
                    <a:pt x="5690785" y="5090624"/>
                  </a:cubicBezTo>
                  <a:cubicBezTo>
                    <a:pt x="5371570" y="5406038"/>
                    <a:pt x="5367814" y="5980543"/>
                    <a:pt x="5367814" y="6280938"/>
                  </a:cubicBezTo>
                  <a:cubicBezTo>
                    <a:pt x="5367814" y="6280938"/>
                    <a:pt x="5367814" y="6280938"/>
                    <a:pt x="6227818" y="6280938"/>
                  </a:cubicBezTo>
                  <a:cubicBezTo>
                    <a:pt x="6227818" y="6280938"/>
                    <a:pt x="6227818" y="6280938"/>
                    <a:pt x="8267042" y="3603669"/>
                  </a:cubicBezTo>
                  <a:close/>
                  <a:moveTo>
                    <a:pt x="6109875" y="128"/>
                  </a:moveTo>
                  <a:cubicBezTo>
                    <a:pt x="6829153" y="-2490"/>
                    <a:pt x="7579192" y="34821"/>
                    <a:pt x="8198796" y="137601"/>
                  </a:cubicBezTo>
                  <a:cubicBezTo>
                    <a:pt x="8705745" y="220201"/>
                    <a:pt x="8739542" y="678257"/>
                    <a:pt x="8578069" y="884757"/>
                  </a:cubicBezTo>
                  <a:cubicBezTo>
                    <a:pt x="8578069" y="884757"/>
                    <a:pt x="6234838" y="3955980"/>
                    <a:pt x="6208552" y="3974753"/>
                  </a:cubicBezTo>
                  <a:cubicBezTo>
                    <a:pt x="6107162" y="4098653"/>
                    <a:pt x="5953199" y="4177498"/>
                    <a:pt x="5780461" y="4177498"/>
                  </a:cubicBezTo>
                  <a:cubicBezTo>
                    <a:pt x="5780461" y="4177498"/>
                    <a:pt x="5780461" y="4177498"/>
                    <a:pt x="2209285" y="4177498"/>
                  </a:cubicBezTo>
                  <a:cubicBezTo>
                    <a:pt x="1818747" y="4177498"/>
                    <a:pt x="970076" y="4545444"/>
                    <a:pt x="1150325" y="5476573"/>
                  </a:cubicBezTo>
                  <a:cubicBezTo>
                    <a:pt x="1217918" y="5825746"/>
                    <a:pt x="1465760" y="6103583"/>
                    <a:pt x="1799971" y="6223729"/>
                  </a:cubicBezTo>
                  <a:cubicBezTo>
                    <a:pt x="1875075" y="6253765"/>
                    <a:pt x="2002751" y="6268783"/>
                    <a:pt x="2085365" y="6280047"/>
                  </a:cubicBezTo>
                  <a:cubicBezTo>
                    <a:pt x="2085365" y="6280047"/>
                    <a:pt x="2085365" y="6280047"/>
                    <a:pt x="2085365" y="7473994"/>
                  </a:cubicBezTo>
                  <a:cubicBezTo>
                    <a:pt x="1582171" y="7440203"/>
                    <a:pt x="335451" y="7004675"/>
                    <a:pt x="53813" y="5720619"/>
                  </a:cubicBezTo>
                  <a:cubicBezTo>
                    <a:pt x="-25046" y="5397728"/>
                    <a:pt x="-13780" y="5056063"/>
                    <a:pt x="65078" y="4729417"/>
                  </a:cubicBezTo>
                  <a:cubicBezTo>
                    <a:pt x="282879" y="3283915"/>
                    <a:pt x="2351982" y="944830"/>
                    <a:pt x="2716235" y="670748"/>
                  </a:cubicBezTo>
                  <a:cubicBezTo>
                    <a:pt x="2960321" y="471756"/>
                    <a:pt x="3234449" y="310311"/>
                    <a:pt x="3516088" y="227711"/>
                  </a:cubicBezTo>
                  <a:cubicBezTo>
                    <a:pt x="3797726" y="119767"/>
                    <a:pt x="4911078" y="4491"/>
                    <a:pt x="6109875" y="128"/>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sp>
        <p:nvSpPr>
          <p:cNvPr id="182" name="文本框 2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一部分标题</a:t>
            </a:r>
            <a:endParaRPr b="0" lang="en-US" sz="2800" spc="-1" strike="noStrike">
              <a:solidFill>
                <a:srgbClr val="000000"/>
              </a:solidFill>
              <a:latin typeface="Arial"/>
            </a:endParaRPr>
          </a:p>
        </p:txBody>
      </p:sp>
      <p:pic>
        <p:nvPicPr>
          <p:cNvPr id="183" name="直接连接符 23" descr=""/>
          <p:cNvPicPr/>
          <p:nvPr/>
        </p:nvPicPr>
        <p:blipFill>
          <a:blip r:embed="rId2"/>
          <a:stretch/>
        </p:blipFill>
        <p:spPr>
          <a:xfrm>
            <a:off x="0" y="798480"/>
            <a:ext cx="11192040" cy="23760"/>
          </a:xfrm>
          <a:prstGeom prst="rect">
            <a:avLst/>
          </a:prstGeom>
          <a:ln w="0">
            <a:noFill/>
          </a:ln>
        </p:spPr>
      </p:pic>
      <p:sp>
        <p:nvSpPr>
          <p:cNvPr id="184" name="矩形 2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矩形 1"/>
          <p:cNvSpPr/>
          <p:nvPr/>
        </p:nvSpPr>
        <p:spPr>
          <a:xfrm>
            <a:off x="6267600" y="0"/>
            <a:ext cx="5924520" cy="68580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6" name="对象 2" descr=""/>
          <p:cNvPicPr/>
          <p:nvPr/>
        </p:nvPicPr>
        <p:blipFill>
          <a:blip r:embed="rId1"/>
          <a:stretch/>
        </p:blipFill>
        <p:spPr>
          <a:xfrm>
            <a:off x="488880" y="681120"/>
            <a:ext cx="5569200" cy="5419800"/>
          </a:xfrm>
          <a:prstGeom prst="rect">
            <a:avLst/>
          </a:prstGeom>
          <a:ln w="0">
            <a:noFill/>
          </a:ln>
        </p:spPr>
      </p:pic>
      <p:sp>
        <p:nvSpPr>
          <p:cNvPr id="187" name="文本框 5"/>
          <p:cNvSpPr/>
          <p:nvPr/>
        </p:nvSpPr>
        <p:spPr>
          <a:xfrm>
            <a:off x="8134200" y="1765440"/>
            <a:ext cx="337824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188" name="文本框 6"/>
          <p:cNvSpPr/>
          <p:nvPr/>
        </p:nvSpPr>
        <p:spPr>
          <a:xfrm>
            <a:off x="8511120" y="13032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这里添加标题</a:t>
            </a:r>
            <a:endParaRPr b="0" lang="en-US" sz="2400" spc="-1" strike="noStrike">
              <a:solidFill>
                <a:srgbClr val="000000"/>
              </a:solidFill>
              <a:latin typeface="Arial"/>
            </a:endParaRPr>
          </a:p>
        </p:txBody>
      </p:sp>
      <p:sp>
        <p:nvSpPr>
          <p:cNvPr id="189" name="文本框 7"/>
          <p:cNvSpPr/>
          <p:nvPr/>
        </p:nvSpPr>
        <p:spPr>
          <a:xfrm>
            <a:off x="8134200" y="3379680"/>
            <a:ext cx="337824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190" name="文本框 8"/>
          <p:cNvSpPr/>
          <p:nvPr/>
        </p:nvSpPr>
        <p:spPr>
          <a:xfrm>
            <a:off x="8511120" y="29178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这里添加标题</a:t>
            </a:r>
            <a:endParaRPr b="0" lang="en-US" sz="2400" spc="-1" strike="noStrike">
              <a:solidFill>
                <a:srgbClr val="000000"/>
              </a:solidFill>
              <a:latin typeface="Arial"/>
            </a:endParaRPr>
          </a:p>
        </p:txBody>
      </p:sp>
      <p:sp>
        <p:nvSpPr>
          <p:cNvPr id="191" name="文本框 9"/>
          <p:cNvSpPr/>
          <p:nvPr/>
        </p:nvSpPr>
        <p:spPr>
          <a:xfrm>
            <a:off x="8134200" y="5059440"/>
            <a:ext cx="337824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192" name="文本框 10"/>
          <p:cNvSpPr/>
          <p:nvPr/>
        </p:nvSpPr>
        <p:spPr>
          <a:xfrm>
            <a:off x="8511120" y="45990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这里添加标题</a:t>
            </a:r>
            <a:endParaRPr b="0" lang="en-US" sz="2400" spc="-1" strike="noStrike">
              <a:solidFill>
                <a:srgbClr val="000000"/>
              </a:solidFill>
              <a:latin typeface="Arial"/>
            </a:endParaRPr>
          </a:p>
        </p:txBody>
      </p:sp>
      <p:sp>
        <p:nvSpPr>
          <p:cNvPr id="193" name="Freeform 19"/>
          <p:cNvSpPr/>
          <p:nvPr/>
        </p:nvSpPr>
        <p:spPr>
          <a:xfrm>
            <a:off x="7056360" y="3243240"/>
            <a:ext cx="673200" cy="623880"/>
          </a:xfrm>
          <a:custGeom>
            <a:avLst/>
            <a:gdLst/>
            <a:ahLst/>
            <a:rect l="l" t="t" r="r" b="b"/>
            <a:pathLst>
              <a:path w="144" h="132">
                <a:moveTo>
                  <a:pt x="108" y="0"/>
                </a:moveTo>
                <a:cubicBezTo>
                  <a:pt x="36" y="0"/>
                  <a:pt x="36" y="0"/>
                  <a:pt x="36" y="0"/>
                </a:cubicBezTo>
                <a:cubicBezTo>
                  <a:pt x="16" y="0"/>
                  <a:pt x="0" y="16"/>
                  <a:pt x="0" y="36"/>
                </a:cubicBezTo>
                <a:cubicBezTo>
                  <a:pt x="0" y="60"/>
                  <a:pt x="0" y="60"/>
                  <a:pt x="0" y="60"/>
                </a:cubicBezTo>
                <a:cubicBezTo>
                  <a:pt x="0" y="80"/>
                  <a:pt x="16" y="96"/>
                  <a:pt x="36" y="96"/>
                </a:cubicBezTo>
                <a:cubicBezTo>
                  <a:pt x="42" y="96"/>
                  <a:pt x="42" y="96"/>
                  <a:pt x="42" y="96"/>
                </a:cubicBezTo>
                <a:cubicBezTo>
                  <a:pt x="42" y="132"/>
                  <a:pt x="42" y="132"/>
                  <a:pt x="42" y="132"/>
                </a:cubicBezTo>
                <a:cubicBezTo>
                  <a:pt x="83" y="96"/>
                  <a:pt x="83" y="96"/>
                  <a:pt x="83" y="96"/>
                </a:cubicBezTo>
                <a:cubicBezTo>
                  <a:pt x="108" y="96"/>
                  <a:pt x="108" y="96"/>
                  <a:pt x="108" y="96"/>
                </a:cubicBezTo>
                <a:cubicBezTo>
                  <a:pt x="128" y="96"/>
                  <a:pt x="144" y="80"/>
                  <a:pt x="144" y="60"/>
                </a:cubicBezTo>
                <a:cubicBezTo>
                  <a:pt x="144" y="36"/>
                  <a:pt x="144" y="36"/>
                  <a:pt x="144" y="36"/>
                </a:cubicBezTo>
                <a:cubicBezTo>
                  <a:pt x="144" y="16"/>
                  <a:pt x="128" y="0"/>
                  <a:pt x="108" y="0"/>
                </a:cubicBezTo>
                <a:moveTo>
                  <a:pt x="36" y="60"/>
                </a:moveTo>
                <a:cubicBezTo>
                  <a:pt x="29" y="60"/>
                  <a:pt x="24" y="55"/>
                  <a:pt x="24" y="48"/>
                </a:cubicBezTo>
                <a:cubicBezTo>
                  <a:pt x="24" y="41"/>
                  <a:pt x="29" y="36"/>
                  <a:pt x="36" y="36"/>
                </a:cubicBezTo>
                <a:cubicBezTo>
                  <a:pt x="43" y="36"/>
                  <a:pt x="48" y="41"/>
                  <a:pt x="48" y="48"/>
                </a:cubicBezTo>
                <a:cubicBezTo>
                  <a:pt x="48" y="55"/>
                  <a:pt x="43" y="60"/>
                  <a:pt x="36" y="60"/>
                </a:cubicBezTo>
                <a:moveTo>
                  <a:pt x="72" y="60"/>
                </a:moveTo>
                <a:cubicBezTo>
                  <a:pt x="65" y="60"/>
                  <a:pt x="60" y="55"/>
                  <a:pt x="60" y="48"/>
                </a:cubicBezTo>
                <a:cubicBezTo>
                  <a:pt x="60" y="41"/>
                  <a:pt x="65" y="36"/>
                  <a:pt x="72" y="36"/>
                </a:cubicBezTo>
                <a:cubicBezTo>
                  <a:pt x="79" y="36"/>
                  <a:pt x="84" y="41"/>
                  <a:pt x="84" y="48"/>
                </a:cubicBezTo>
                <a:cubicBezTo>
                  <a:pt x="84" y="55"/>
                  <a:pt x="79" y="60"/>
                  <a:pt x="72" y="60"/>
                </a:cubicBezTo>
                <a:moveTo>
                  <a:pt x="108" y="60"/>
                </a:moveTo>
                <a:cubicBezTo>
                  <a:pt x="101" y="60"/>
                  <a:pt x="96" y="55"/>
                  <a:pt x="96" y="48"/>
                </a:cubicBezTo>
                <a:cubicBezTo>
                  <a:pt x="96" y="41"/>
                  <a:pt x="101" y="36"/>
                  <a:pt x="108" y="36"/>
                </a:cubicBezTo>
                <a:cubicBezTo>
                  <a:pt x="115" y="36"/>
                  <a:pt x="120" y="41"/>
                  <a:pt x="120" y="48"/>
                </a:cubicBezTo>
                <a:cubicBezTo>
                  <a:pt x="120" y="55"/>
                  <a:pt x="115" y="60"/>
                  <a:pt x="108" y="6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Freeform 28"/>
          <p:cNvSpPr/>
          <p:nvPr/>
        </p:nvSpPr>
        <p:spPr>
          <a:xfrm>
            <a:off x="7124760" y="4818240"/>
            <a:ext cx="681120" cy="676080"/>
          </a:xfrm>
          <a:custGeom>
            <a:avLst/>
            <a:gdLst/>
            <a:ahLst/>
            <a:rect l="l" t="t" r="r" b="b"/>
            <a:pathLst>
              <a:path w="144" h="144">
                <a:moveTo>
                  <a:pt x="138" y="61"/>
                </a:moveTo>
                <a:cubicBezTo>
                  <a:pt x="132" y="61"/>
                  <a:pt x="132" y="61"/>
                  <a:pt x="132" y="61"/>
                </a:cubicBezTo>
                <a:cubicBezTo>
                  <a:pt x="129" y="61"/>
                  <a:pt x="126" y="59"/>
                  <a:pt x="125" y="56"/>
                </a:cubicBezTo>
                <a:cubicBezTo>
                  <a:pt x="121" y="46"/>
                  <a:pt x="121" y="46"/>
                  <a:pt x="121" y="46"/>
                </a:cubicBezTo>
                <a:cubicBezTo>
                  <a:pt x="119" y="44"/>
                  <a:pt x="120" y="40"/>
                  <a:pt x="122" y="38"/>
                </a:cubicBezTo>
                <a:cubicBezTo>
                  <a:pt x="127" y="33"/>
                  <a:pt x="127" y="33"/>
                  <a:pt x="127" y="33"/>
                </a:cubicBezTo>
                <a:cubicBezTo>
                  <a:pt x="129" y="31"/>
                  <a:pt x="129" y="27"/>
                  <a:pt x="127" y="25"/>
                </a:cubicBezTo>
                <a:cubicBezTo>
                  <a:pt x="119" y="17"/>
                  <a:pt x="119" y="17"/>
                  <a:pt x="119" y="17"/>
                </a:cubicBezTo>
                <a:cubicBezTo>
                  <a:pt x="117" y="15"/>
                  <a:pt x="113" y="15"/>
                  <a:pt x="111" y="17"/>
                </a:cubicBezTo>
                <a:cubicBezTo>
                  <a:pt x="106" y="22"/>
                  <a:pt x="106" y="22"/>
                  <a:pt x="106" y="22"/>
                </a:cubicBezTo>
                <a:cubicBezTo>
                  <a:pt x="104" y="24"/>
                  <a:pt x="100" y="25"/>
                  <a:pt x="98" y="23"/>
                </a:cubicBezTo>
                <a:cubicBezTo>
                  <a:pt x="88" y="19"/>
                  <a:pt x="88" y="19"/>
                  <a:pt x="88" y="19"/>
                </a:cubicBezTo>
                <a:cubicBezTo>
                  <a:pt x="85" y="18"/>
                  <a:pt x="83" y="15"/>
                  <a:pt x="83" y="12"/>
                </a:cubicBezTo>
                <a:cubicBezTo>
                  <a:pt x="83" y="6"/>
                  <a:pt x="83" y="6"/>
                  <a:pt x="83" y="6"/>
                </a:cubicBezTo>
                <a:cubicBezTo>
                  <a:pt x="83" y="2"/>
                  <a:pt x="81" y="0"/>
                  <a:pt x="78" y="0"/>
                </a:cubicBezTo>
                <a:cubicBezTo>
                  <a:pt x="66" y="0"/>
                  <a:pt x="66" y="0"/>
                  <a:pt x="66" y="0"/>
                </a:cubicBezTo>
                <a:cubicBezTo>
                  <a:pt x="63" y="0"/>
                  <a:pt x="61" y="2"/>
                  <a:pt x="61" y="6"/>
                </a:cubicBezTo>
                <a:cubicBezTo>
                  <a:pt x="61" y="12"/>
                  <a:pt x="61" y="12"/>
                  <a:pt x="61" y="12"/>
                </a:cubicBezTo>
                <a:cubicBezTo>
                  <a:pt x="61" y="15"/>
                  <a:pt x="59" y="18"/>
                  <a:pt x="56" y="19"/>
                </a:cubicBezTo>
                <a:cubicBezTo>
                  <a:pt x="46" y="23"/>
                  <a:pt x="46" y="23"/>
                  <a:pt x="46" y="23"/>
                </a:cubicBezTo>
                <a:cubicBezTo>
                  <a:pt x="44" y="25"/>
                  <a:pt x="40" y="24"/>
                  <a:pt x="38" y="22"/>
                </a:cubicBezTo>
                <a:cubicBezTo>
                  <a:pt x="33" y="17"/>
                  <a:pt x="33" y="17"/>
                  <a:pt x="33" y="17"/>
                </a:cubicBezTo>
                <a:cubicBezTo>
                  <a:pt x="31" y="15"/>
                  <a:pt x="27" y="15"/>
                  <a:pt x="25" y="17"/>
                </a:cubicBezTo>
                <a:cubicBezTo>
                  <a:pt x="17" y="25"/>
                  <a:pt x="17" y="25"/>
                  <a:pt x="17" y="25"/>
                </a:cubicBezTo>
                <a:cubicBezTo>
                  <a:pt x="15" y="27"/>
                  <a:pt x="15" y="31"/>
                  <a:pt x="17" y="33"/>
                </a:cubicBezTo>
                <a:cubicBezTo>
                  <a:pt x="22" y="38"/>
                  <a:pt x="22" y="38"/>
                  <a:pt x="22" y="38"/>
                </a:cubicBezTo>
                <a:cubicBezTo>
                  <a:pt x="24" y="40"/>
                  <a:pt x="25" y="44"/>
                  <a:pt x="23" y="46"/>
                </a:cubicBezTo>
                <a:cubicBezTo>
                  <a:pt x="19" y="56"/>
                  <a:pt x="19" y="56"/>
                  <a:pt x="19" y="56"/>
                </a:cubicBezTo>
                <a:cubicBezTo>
                  <a:pt x="18" y="59"/>
                  <a:pt x="15" y="61"/>
                  <a:pt x="12" y="61"/>
                </a:cubicBezTo>
                <a:cubicBezTo>
                  <a:pt x="6" y="61"/>
                  <a:pt x="6" y="61"/>
                  <a:pt x="6" y="61"/>
                </a:cubicBezTo>
                <a:cubicBezTo>
                  <a:pt x="2" y="61"/>
                  <a:pt x="0" y="63"/>
                  <a:pt x="0" y="66"/>
                </a:cubicBezTo>
                <a:cubicBezTo>
                  <a:pt x="0" y="78"/>
                  <a:pt x="0" y="78"/>
                  <a:pt x="0" y="78"/>
                </a:cubicBezTo>
                <a:cubicBezTo>
                  <a:pt x="0" y="81"/>
                  <a:pt x="2" y="83"/>
                  <a:pt x="6" y="83"/>
                </a:cubicBezTo>
                <a:cubicBezTo>
                  <a:pt x="12" y="83"/>
                  <a:pt x="12" y="83"/>
                  <a:pt x="12" y="83"/>
                </a:cubicBezTo>
                <a:cubicBezTo>
                  <a:pt x="15" y="83"/>
                  <a:pt x="18" y="85"/>
                  <a:pt x="19" y="88"/>
                </a:cubicBezTo>
                <a:cubicBezTo>
                  <a:pt x="23" y="98"/>
                  <a:pt x="23" y="98"/>
                  <a:pt x="23" y="98"/>
                </a:cubicBezTo>
                <a:cubicBezTo>
                  <a:pt x="25" y="100"/>
                  <a:pt x="24" y="104"/>
                  <a:pt x="22" y="106"/>
                </a:cubicBezTo>
                <a:cubicBezTo>
                  <a:pt x="17" y="111"/>
                  <a:pt x="17" y="111"/>
                  <a:pt x="17" y="111"/>
                </a:cubicBezTo>
                <a:cubicBezTo>
                  <a:pt x="15" y="113"/>
                  <a:pt x="15" y="117"/>
                  <a:pt x="17" y="119"/>
                </a:cubicBezTo>
                <a:cubicBezTo>
                  <a:pt x="25" y="127"/>
                  <a:pt x="25" y="127"/>
                  <a:pt x="25" y="127"/>
                </a:cubicBezTo>
                <a:cubicBezTo>
                  <a:pt x="27" y="129"/>
                  <a:pt x="31" y="129"/>
                  <a:pt x="33" y="127"/>
                </a:cubicBezTo>
                <a:cubicBezTo>
                  <a:pt x="38" y="122"/>
                  <a:pt x="38" y="122"/>
                  <a:pt x="38" y="122"/>
                </a:cubicBezTo>
                <a:cubicBezTo>
                  <a:pt x="40" y="120"/>
                  <a:pt x="44" y="119"/>
                  <a:pt x="46" y="121"/>
                </a:cubicBezTo>
                <a:cubicBezTo>
                  <a:pt x="56" y="125"/>
                  <a:pt x="56" y="125"/>
                  <a:pt x="56" y="125"/>
                </a:cubicBezTo>
                <a:cubicBezTo>
                  <a:pt x="59" y="126"/>
                  <a:pt x="61" y="129"/>
                  <a:pt x="61" y="132"/>
                </a:cubicBezTo>
                <a:cubicBezTo>
                  <a:pt x="61" y="138"/>
                  <a:pt x="61" y="138"/>
                  <a:pt x="61" y="138"/>
                </a:cubicBezTo>
                <a:cubicBezTo>
                  <a:pt x="61" y="142"/>
                  <a:pt x="63" y="144"/>
                  <a:pt x="66" y="144"/>
                </a:cubicBezTo>
                <a:cubicBezTo>
                  <a:pt x="78" y="144"/>
                  <a:pt x="78" y="144"/>
                  <a:pt x="78" y="144"/>
                </a:cubicBezTo>
                <a:cubicBezTo>
                  <a:pt x="81" y="144"/>
                  <a:pt x="83" y="142"/>
                  <a:pt x="83" y="138"/>
                </a:cubicBezTo>
                <a:cubicBezTo>
                  <a:pt x="83" y="132"/>
                  <a:pt x="83" y="132"/>
                  <a:pt x="83" y="132"/>
                </a:cubicBezTo>
                <a:cubicBezTo>
                  <a:pt x="83" y="129"/>
                  <a:pt x="85" y="126"/>
                  <a:pt x="88" y="125"/>
                </a:cubicBezTo>
                <a:cubicBezTo>
                  <a:pt x="98" y="121"/>
                  <a:pt x="98" y="121"/>
                  <a:pt x="98" y="121"/>
                </a:cubicBezTo>
                <a:cubicBezTo>
                  <a:pt x="100" y="119"/>
                  <a:pt x="104" y="120"/>
                  <a:pt x="106" y="122"/>
                </a:cubicBezTo>
                <a:cubicBezTo>
                  <a:pt x="111" y="127"/>
                  <a:pt x="111" y="127"/>
                  <a:pt x="111" y="127"/>
                </a:cubicBezTo>
                <a:cubicBezTo>
                  <a:pt x="113" y="129"/>
                  <a:pt x="117" y="129"/>
                  <a:pt x="119" y="127"/>
                </a:cubicBezTo>
                <a:cubicBezTo>
                  <a:pt x="127" y="119"/>
                  <a:pt x="127" y="119"/>
                  <a:pt x="127" y="119"/>
                </a:cubicBezTo>
                <a:cubicBezTo>
                  <a:pt x="129" y="117"/>
                  <a:pt x="129" y="113"/>
                  <a:pt x="127" y="111"/>
                </a:cubicBezTo>
                <a:cubicBezTo>
                  <a:pt x="122" y="106"/>
                  <a:pt x="122" y="106"/>
                  <a:pt x="122" y="106"/>
                </a:cubicBezTo>
                <a:cubicBezTo>
                  <a:pt x="120" y="104"/>
                  <a:pt x="119" y="100"/>
                  <a:pt x="121" y="98"/>
                </a:cubicBezTo>
                <a:cubicBezTo>
                  <a:pt x="125" y="88"/>
                  <a:pt x="125" y="88"/>
                  <a:pt x="125" y="88"/>
                </a:cubicBezTo>
                <a:cubicBezTo>
                  <a:pt x="126" y="85"/>
                  <a:pt x="129" y="83"/>
                  <a:pt x="132" y="83"/>
                </a:cubicBezTo>
                <a:cubicBezTo>
                  <a:pt x="138" y="83"/>
                  <a:pt x="138" y="83"/>
                  <a:pt x="138" y="83"/>
                </a:cubicBezTo>
                <a:cubicBezTo>
                  <a:pt x="142" y="83"/>
                  <a:pt x="144" y="81"/>
                  <a:pt x="144" y="78"/>
                </a:cubicBezTo>
                <a:cubicBezTo>
                  <a:pt x="144" y="66"/>
                  <a:pt x="144" y="66"/>
                  <a:pt x="144" y="66"/>
                </a:cubicBezTo>
                <a:cubicBezTo>
                  <a:pt x="144" y="63"/>
                  <a:pt x="142" y="61"/>
                  <a:pt x="138" y="61"/>
                </a:cubicBezTo>
                <a:moveTo>
                  <a:pt x="100" y="72"/>
                </a:moveTo>
                <a:cubicBezTo>
                  <a:pt x="100" y="87"/>
                  <a:pt x="87" y="100"/>
                  <a:pt x="72" y="100"/>
                </a:cubicBezTo>
                <a:cubicBezTo>
                  <a:pt x="57" y="100"/>
                  <a:pt x="44" y="87"/>
                  <a:pt x="44" y="72"/>
                </a:cubicBezTo>
                <a:cubicBezTo>
                  <a:pt x="44" y="57"/>
                  <a:pt x="57" y="44"/>
                  <a:pt x="72" y="44"/>
                </a:cubicBezTo>
                <a:cubicBezTo>
                  <a:pt x="87" y="44"/>
                  <a:pt x="100" y="57"/>
                  <a:pt x="100" y="72"/>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5" name="组合 13" descr=""/>
          <p:cNvPicPr/>
          <p:nvPr/>
        </p:nvPicPr>
        <p:blipFill>
          <a:blip r:embed="rId2"/>
          <a:stretch/>
        </p:blipFill>
        <p:spPr>
          <a:xfrm>
            <a:off x="7059600" y="1542960"/>
            <a:ext cx="743040" cy="534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右箭头 21"/>
          <p:cNvSpPr/>
          <p:nvPr/>
        </p:nvSpPr>
        <p:spPr>
          <a:xfrm>
            <a:off x="1085760" y="2367000"/>
            <a:ext cx="10244160" cy="1162080"/>
          </a:xfrm>
          <a:prstGeom prst="rightArrow">
            <a:avLst>
              <a:gd name="adj1" fmla="val 50000"/>
              <a:gd name="adj2" fmla="val 87256"/>
            </a:avLst>
          </a:prstGeom>
          <a:solidFill>
            <a:srgbClr val="dce1f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MH_Other_1"/>
          <p:cNvSpPr/>
          <p:nvPr/>
        </p:nvSpPr>
        <p:spPr>
          <a:xfrm>
            <a:off x="3963960" y="2116080"/>
            <a:ext cx="1646280" cy="1649520"/>
          </a:xfrm>
          <a:prstGeom prst="ellipse">
            <a:avLst/>
          </a:prstGeom>
          <a:solidFill>
            <a:srgbClr val="7db1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MH_Other_3"/>
          <p:cNvSpPr/>
          <p:nvPr/>
        </p:nvSpPr>
        <p:spPr>
          <a:xfrm>
            <a:off x="1728720" y="2116080"/>
            <a:ext cx="1649520" cy="164952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MH_Other_6"/>
          <p:cNvSpPr/>
          <p:nvPr/>
        </p:nvSpPr>
        <p:spPr>
          <a:xfrm>
            <a:off x="6208560" y="2116080"/>
            <a:ext cx="1646280" cy="1649520"/>
          </a:xfrm>
          <a:prstGeom prst="ellipse">
            <a:avLst/>
          </a:prstGeom>
          <a:solidFill>
            <a:srgbClr val="5e8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MH_Other_8"/>
          <p:cNvSpPr/>
          <p:nvPr/>
        </p:nvSpPr>
        <p:spPr>
          <a:xfrm>
            <a:off x="8453520" y="2116080"/>
            <a:ext cx="1647720" cy="1649520"/>
          </a:xfrm>
          <a:prstGeom prst="ellipse">
            <a:avLst/>
          </a:prstGeom>
          <a:solidFill>
            <a:srgbClr val="4e67c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KSO_Shape"/>
          <p:cNvSpPr/>
          <p:nvPr/>
        </p:nvSpPr>
        <p:spPr>
          <a:xfrm>
            <a:off x="6750000" y="2602080"/>
            <a:ext cx="563760" cy="677520"/>
          </a:xfrm>
          <a:custGeom>
            <a:avLst/>
            <a:gdLst/>
            <a:ahLst/>
            <a:rect l="l" t="t" r="r" b="b"/>
            <a:pathLst>
              <a:path w="1208088" h="1452563">
                <a:moveTo>
                  <a:pt x="331068" y="665573"/>
                </a:moveTo>
                <a:cubicBezTo>
                  <a:pt x="331068" y="665573"/>
                  <a:pt x="331068" y="665573"/>
                  <a:pt x="508820" y="932822"/>
                </a:cubicBezTo>
                <a:cubicBezTo>
                  <a:pt x="508820" y="932822"/>
                  <a:pt x="508820" y="932822"/>
                  <a:pt x="369158" y="932822"/>
                </a:cubicBezTo>
                <a:cubicBezTo>
                  <a:pt x="369158" y="932822"/>
                  <a:pt x="369158" y="932822"/>
                  <a:pt x="369158" y="983727"/>
                </a:cubicBezTo>
                <a:cubicBezTo>
                  <a:pt x="369158" y="983727"/>
                  <a:pt x="369158" y="983727"/>
                  <a:pt x="534213" y="983727"/>
                </a:cubicBezTo>
                <a:cubicBezTo>
                  <a:pt x="534213" y="983727"/>
                  <a:pt x="534213" y="983727"/>
                  <a:pt x="534213" y="1034632"/>
                </a:cubicBezTo>
                <a:cubicBezTo>
                  <a:pt x="534213" y="1034632"/>
                  <a:pt x="534213" y="1034632"/>
                  <a:pt x="369158" y="1034632"/>
                </a:cubicBezTo>
                <a:cubicBezTo>
                  <a:pt x="369158" y="1034632"/>
                  <a:pt x="369158" y="1034632"/>
                  <a:pt x="369158" y="1085536"/>
                </a:cubicBezTo>
                <a:cubicBezTo>
                  <a:pt x="369158" y="1085536"/>
                  <a:pt x="369158" y="1085536"/>
                  <a:pt x="534213" y="1085536"/>
                </a:cubicBezTo>
                <a:cubicBezTo>
                  <a:pt x="534213" y="1085536"/>
                  <a:pt x="534213" y="1085536"/>
                  <a:pt x="534213" y="1238250"/>
                </a:cubicBezTo>
                <a:cubicBezTo>
                  <a:pt x="534213" y="1238250"/>
                  <a:pt x="534213" y="1238250"/>
                  <a:pt x="673875" y="1238250"/>
                </a:cubicBezTo>
                <a:cubicBezTo>
                  <a:pt x="673875" y="1238250"/>
                  <a:pt x="673875" y="1238250"/>
                  <a:pt x="673875" y="1085536"/>
                </a:cubicBezTo>
                <a:cubicBezTo>
                  <a:pt x="673875" y="1085536"/>
                  <a:pt x="673875" y="1085536"/>
                  <a:pt x="864324" y="1085536"/>
                </a:cubicBezTo>
                <a:cubicBezTo>
                  <a:pt x="864324" y="1085536"/>
                  <a:pt x="864324" y="1085536"/>
                  <a:pt x="864324" y="1034632"/>
                </a:cubicBezTo>
                <a:cubicBezTo>
                  <a:pt x="864324" y="1034632"/>
                  <a:pt x="864324" y="1034632"/>
                  <a:pt x="673875" y="1034632"/>
                </a:cubicBezTo>
                <a:cubicBezTo>
                  <a:pt x="673875" y="1034632"/>
                  <a:pt x="673875" y="1034632"/>
                  <a:pt x="673875" y="983727"/>
                </a:cubicBezTo>
                <a:cubicBezTo>
                  <a:pt x="673875" y="983727"/>
                  <a:pt x="673875" y="983727"/>
                  <a:pt x="864324" y="983727"/>
                </a:cubicBezTo>
                <a:cubicBezTo>
                  <a:pt x="864324" y="983727"/>
                  <a:pt x="864324" y="983727"/>
                  <a:pt x="864324" y="932822"/>
                </a:cubicBezTo>
                <a:cubicBezTo>
                  <a:pt x="864324" y="932822"/>
                  <a:pt x="864324" y="932822"/>
                  <a:pt x="699268" y="932822"/>
                </a:cubicBezTo>
                <a:cubicBezTo>
                  <a:pt x="699268" y="932822"/>
                  <a:pt x="699268" y="932822"/>
                  <a:pt x="877020" y="665573"/>
                </a:cubicBezTo>
                <a:cubicBezTo>
                  <a:pt x="877020" y="665573"/>
                  <a:pt x="877020" y="665573"/>
                  <a:pt x="737358" y="665573"/>
                </a:cubicBezTo>
                <a:cubicBezTo>
                  <a:pt x="737358" y="665573"/>
                  <a:pt x="737358" y="665573"/>
                  <a:pt x="597696" y="881918"/>
                </a:cubicBezTo>
                <a:cubicBezTo>
                  <a:pt x="597696" y="881918"/>
                  <a:pt x="597696" y="881918"/>
                  <a:pt x="458034" y="665573"/>
                </a:cubicBezTo>
                <a:cubicBezTo>
                  <a:pt x="458034" y="665573"/>
                  <a:pt x="458034" y="665573"/>
                  <a:pt x="331068" y="665573"/>
                </a:cubicBezTo>
                <a:close/>
                <a:moveTo>
                  <a:pt x="719206" y="0"/>
                </a:moveTo>
                <a:lnTo>
                  <a:pt x="727454" y="317"/>
                </a:lnTo>
                <a:lnTo>
                  <a:pt x="736654" y="952"/>
                </a:lnTo>
                <a:lnTo>
                  <a:pt x="746172" y="2538"/>
                </a:lnTo>
                <a:lnTo>
                  <a:pt x="756641" y="4125"/>
                </a:lnTo>
                <a:lnTo>
                  <a:pt x="767428" y="6028"/>
                </a:lnTo>
                <a:lnTo>
                  <a:pt x="778849" y="8567"/>
                </a:lnTo>
                <a:lnTo>
                  <a:pt x="791222" y="11422"/>
                </a:lnTo>
                <a:lnTo>
                  <a:pt x="804546" y="14913"/>
                </a:lnTo>
                <a:lnTo>
                  <a:pt x="818822" y="18720"/>
                </a:lnTo>
                <a:lnTo>
                  <a:pt x="833416" y="23480"/>
                </a:lnTo>
                <a:lnTo>
                  <a:pt x="829609" y="36171"/>
                </a:lnTo>
                <a:lnTo>
                  <a:pt x="825802" y="48228"/>
                </a:lnTo>
                <a:lnTo>
                  <a:pt x="818188" y="70439"/>
                </a:lnTo>
                <a:lnTo>
                  <a:pt x="810256" y="91063"/>
                </a:lnTo>
                <a:lnTo>
                  <a:pt x="802960" y="108831"/>
                </a:lnTo>
                <a:lnTo>
                  <a:pt x="795663" y="125013"/>
                </a:lnTo>
                <a:lnTo>
                  <a:pt x="788684" y="138974"/>
                </a:lnTo>
                <a:lnTo>
                  <a:pt x="782021" y="151983"/>
                </a:lnTo>
                <a:lnTo>
                  <a:pt x="775994" y="163405"/>
                </a:lnTo>
                <a:lnTo>
                  <a:pt x="764572" y="183077"/>
                </a:lnTo>
                <a:lnTo>
                  <a:pt x="760131" y="191644"/>
                </a:lnTo>
                <a:lnTo>
                  <a:pt x="756007" y="200211"/>
                </a:lnTo>
                <a:lnTo>
                  <a:pt x="752517" y="207826"/>
                </a:lnTo>
                <a:lnTo>
                  <a:pt x="749662" y="215759"/>
                </a:lnTo>
                <a:lnTo>
                  <a:pt x="748393" y="219566"/>
                </a:lnTo>
                <a:lnTo>
                  <a:pt x="747441" y="223374"/>
                </a:lnTo>
                <a:lnTo>
                  <a:pt x="746806" y="227181"/>
                </a:lnTo>
                <a:lnTo>
                  <a:pt x="746489" y="231623"/>
                </a:lnTo>
                <a:lnTo>
                  <a:pt x="748076" y="231623"/>
                </a:lnTo>
                <a:lnTo>
                  <a:pt x="750931" y="231623"/>
                </a:lnTo>
                <a:lnTo>
                  <a:pt x="753786" y="231940"/>
                </a:lnTo>
                <a:lnTo>
                  <a:pt x="756324" y="232258"/>
                </a:lnTo>
                <a:lnTo>
                  <a:pt x="758862" y="233210"/>
                </a:lnTo>
                <a:lnTo>
                  <a:pt x="761400" y="233844"/>
                </a:lnTo>
                <a:lnTo>
                  <a:pt x="763621" y="234796"/>
                </a:lnTo>
                <a:lnTo>
                  <a:pt x="765842" y="236065"/>
                </a:lnTo>
                <a:lnTo>
                  <a:pt x="768062" y="237334"/>
                </a:lnTo>
                <a:lnTo>
                  <a:pt x="769966" y="238921"/>
                </a:lnTo>
                <a:lnTo>
                  <a:pt x="771552" y="240190"/>
                </a:lnTo>
                <a:lnTo>
                  <a:pt x="772821" y="242094"/>
                </a:lnTo>
                <a:lnTo>
                  <a:pt x="774090" y="243680"/>
                </a:lnTo>
                <a:lnTo>
                  <a:pt x="775042" y="245901"/>
                </a:lnTo>
                <a:lnTo>
                  <a:pt x="775676" y="247805"/>
                </a:lnTo>
                <a:lnTo>
                  <a:pt x="775994" y="249709"/>
                </a:lnTo>
                <a:lnTo>
                  <a:pt x="776311" y="251930"/>
                </a:lnTo>
                <a:lnTo>
                  <a:pt x="776311" y="253834"/>
                </a:lnTo>
                <a:lnTo>
                  <a:pt x="775676" y="255420"/>
                </a:lnTo>
                <a:lnTo>
                  <a:pt x="775359" y="257324"/>
                </a:lnTo>
                <a:lnTo>
                  <a:pt x="774407" y="258910"/>
                </a:lnTo>
                <a:lnTo>
                  <a:pt x="773456" y="260497"/>
                </a:lnTo>
                <a:lnTo>
                  <a:pt x="772186" y="262083"/>
                </a:lnTo>
                <a:lnTo>
                  <a:pt x="769331" y="265256"/>
                </a:lnTo>
                <a:lnTo>
                  <a:pt x="765524" y="267794"/>
                </a:lnTo>
                <a:lnTo>
                  <a:pt x="761717" y="269698"/>
                </a:lnTo>
                <a:lnTo>
                  <a:pt x="756958" y="270967"/>
                </a:lnTo>
                <a:lnTo>
                  <a:pt x="752200" y="271919"/>
                </a:lnTo>
                <a:lnTo>
                  <a:pt x="756324" y="284611"/>
                </a:lnTo>
                <a:lnTo>
                  <a:pt x="757910" y="289053"/>
                </a:lnTo>
                <a:lnTo>
                  <a:pt x="760448" y="293812"/>
                </a:lnTo>
                <a:lnTo>
                  <a:pt x="763621" y="299206"/>
                </a:lnTo>
                <a:lnTo>
                  <a:pt x="768062" y="304283"/>
                </a:lnTo>
                <a:lnTo>
                  <a:pt x="772504" y="309677"/>
                </a:lnTo>
                <a:lnTo>
                  <a:pt x="777580" y="315706"/>
                </a:lnTo>
                <a:lnTo>
                  <a:pt x="783608" y="321417"/>
                </a:lnTo>
                <a:lnTo>
                  <a:pt x="789952" y="327445"/>
                </a:lnTo>
                <a:lnTo>
                  <a:pt x="796615" y="333791"/>
                </a:lnTo>
                <a:lnTo>
                  <a:pt x="803912" y="339820"/>
                </a:lnTo>
                <a:lnTo>
                  <a:pt x="819774" y="353146"/>
                </a:lnTo>
                <a:lnTo>
                  <a:pt x="836588" y="366155"/>
                </a:lnTo>
                <a:lnTo>
                  <a:pt x="854672" y="379798"/>
                </a:lnTo>
                <a:lnTo>
                  <a:pt x="891472" y="407720"/>
                </a:lnTo>
                <a:lnTo>
                  <a:pt x="928274" y="435008"/>
                </a:lnTo>
                <a:lnTo>
                  <a:pt x="945405" y="448334"/>
                </a:lnTo>
                <a:lnTo>
                  <a:pt x="961902" y="461343"/>
                </a:lnTo>
                <a:lnTo>
                  <a:pt x="976496" y="474034"/>
                </a:lnTo>
                <a:lnTo>
                  <a:pt x="983158" y="479746"/>
                </a:lnTo>
                <a:lnTo>
                  <a:pt x="989186" y="485457"/>
                </a:lnTo>
                <a:lnTo>
                  <a:pt x="996482" y="493072"/>
                </a:lnTo>
                <a:lnTo>
                  <a:pt x="1003779" y="501004"/>
                </a:lnTo>
                <a:lnTo>
                  <a:pt x="1011393" y="510206"/>
                </a:lnTo>
                <a:lnTo>
                  <a:pt x="1019007" y="519725"/>
                </a:lnTo>
                <a:lnTo>
                  <a:pt x="1026938" y="530830"/>
                </a:lnTo>
                <a:lnTo>
                  <a:pt x="1034552" y="542252"/>
                </a:lnTo>
                <a:lnTo>
                  <a:pt x="1042801" y="554309"/>
                </a:lnTo>
                <a:lnTo>
                  <a:pt x="1050732" y="567318"/>
                </a:lnTo>
                <a:lnTo>
                  <a:pt x="1058663" y="581279"/>
                </a:lnTo>
                <a:lnTo>
                  <a:pt x="1066912" y="595557"/>
                </a:lnTo>
                <a:lnTo>
                  <a:pt x="1074843" y="610153"/>
                </a:lnTo>
                <a:lnTo>
                  <a:pt x="1083092" y="626017"/>
                </a:lnTo>
                <a:lnTo>
                  <a:pt x="1091023" y="641882"/>
                </a:lnTo>
                <a:lnTo>
                  <a:pt x="1098954" y="658698"/>
                </a:lnTo>
                <a:lnTo>
                  <a:pt x="1106568" y="675832"/>
                </a:lnTo>
                <a:lnTo>
                  <a:pt x="1114499" y="693283"/>
                </a:lnTo>
                <a:lnTo>
                  <a:pt x="1122113" y="711369"/>
                </a:lnTo>
                <a:lnTo>
                  <a:pt x="1129727" y="729772"/>
                </a:lnTo>
                <a:lnTo>
                  <a:pt x="1136707" y="748492"/>
                </a:lnTo>
                <a:lnTo>
                  <a:pt x="1143686" y="768164"/>
                </a:lnTo>
                <a:lnTo>
                  <a:pt x="1150348" y="787519"/>
                </a:lnTo>
                <a:lnTo>
                  <a:pt x="1157011" y="807191"/>
                </a:lnTo>
                <a:lnTo>
                  <a:pt x="1163038" y="826863"/>
                </a:lnTo>
                <a:lnTo>
                  <a:pt x="1169066" y="847170"/>
                </a:lnTo>
                <a:lnTo>
                  <a:pt x="1174460" y="867477"/>
                </a:lnTo>
                <a:lnTo>
                  <a:pt x="1179853" y="887783"/>
                </a:lnTo>
                <a:lnTo>
                  <a:pt x="1184929" y="908407"/>
                </a:lnTo>
                <a:lnTo>
                  <a:pt x="1189370" y="929031"/>
                </a:lnTo>
                <a:lnTo>
                  <a:pt x="1193177" y="949655"/>
                </a:lnTo>
                <a:lnTo>
                  <a:pt x="1196667" y="970279"/>
                </a:lnTo>
                <a:lnTo>
                  <a:pt x="1200157" y="990903"/>
                </a:lnTo>
                <a:lnTo>
                  <a:pt x="1202695" y="1011845"/>
                </a:lnTo>
                <a:lnTo>
                  <a:pt x="1204916" y="1032151"/>
                </a:lnTo>
                <a:lnTo>
                  <a:pt x="1206502" y="1052458"/>
                </a:lnTo>
                <a:lnTo>
                  <a:pt x="1207454" y="1072447"/>
                </a:lnTo>
                <a:lnTo>
                  <a:pt x="1208088" y="1092437"/>
                </a:lnTo>
                <a:lnTo>
                  <a:pt x="1207771" y="1112426"/>
                </a:lnTo>
                <a:lnTo>
                  <a:pt x="1207136" y="1131781"/>
                </a:lnTo>
                <a:lnTo>
                  <a:pt x="1205867" y="1151453"/>
                </a:lnTo>
                <a:lnTo>
                  <a:pt x="1203646" y="1170173"/>
                </a:lnTo>
                <a:lnTo>
                  <a:pt x="1201108" y="1188893"/>
                </a:lnTo>
                <a:lnTo>
                  <a:pt x="1199522" y="1197778"/>
                </a:lnTo>
                <a:lnTo>
                  <a:pt x="1197302" y="1206979"/>
                </a:lnTo>
                <a:lnTo>
                  <a:pt x="1195398" y="1215863"/>
                </a:lnTo>
                <a:lnTo>
                  <a:pt x="1193177" y="1224747"/>
                </a:lnTo>
                <a:lnTo>
                  <a:pt x="1190956" y="1233314"/>
                </a:lnTo>
                <a:lnTo>
                  <a:pt x="1188418" y="1242199"/>
                </a:lnTo>
                <a:lnTo>
                  <a:pt x="1185563" y="1250448"/>
                </a:lnTo>
                <a:lnTo>
                  <a:pt x="1182708" y="1259015"/>
                </a:lnTo>
                <a:lnTo>
                  <a:pt x="1179218" y="1266947"/>
                </a:lnTo>
                <a:lnTo>
                  <a:pt x="1175728" y="1275197"/>
                </a:lnTo>
                <a:lnTo>
                  <a:pt x="1172239" y="1283129"/>
                </a:lnTo>
                <a:lnTo>
                  <a:pt x="1168749" y="1291062"/>
                </a:lnTo>
                <a:lnTo>
                  <a:pt x="1164625" y="1298677"/>
                </a:lnTo>
                <a:lnTo>
                  <a:pt x="1160183" y="1305974"/>
                </a:lnTo>
                <a:lnTo>
                  <a:pt x="1155742" y="1313589"/>
                </a:lnTo>
                <a:lnTo>
                  <a:pt x="1151300" y="1320570"/>
                </a:lnTo>
                <a:lnTo>
                  <a:pt x="1146542" y="1327867"/>
                </a:lnTo>
                <a:lnTo>
                  <a:pt x="1141148" y="1334531"/>
                </a:lnTo>
                <a:lnTo>
                  <a:pt x="1135755" y="1341194"/>
                </a:lnTo>
                <a:lnTo>
                  <a:pt x="1130362" y="1347857"/>
                </a:lnTo>
                <a:lnTo>
                  <a:pt x="1124334" y="1354203"/>
                </a:lnTo>
                <a:lnTo>
                  <a:pt x="1118306" y="1360548"/>
                </a:lnTo>
                <a:lnTo>
                  <a:pt x="1112278" y="1366577"/>
                </a:lnTo>
                <a:lnTo>
                  <a:pt x="1105299" y="1372288"/>
                </a:lnTo>
                <a:lnTo>
                  <a:pt x="1098637" y="1378000"/>
                </a:lnTo>
                <a:lnTo>
                  <a:pt x="1091657" y="1383394"/>
                </a:lnTo>
                <a:lnTo>
                  <a:pt x="1084360" y="1388470"/>
                </a:lnTo>
                <a:lnTo>
                  <a:pt x="1076746" y="1393230"/>
                </a:lnTo>
                <a:lnTo>
                  <a:pt x="1068815" y="1398306"/>
                </a:lnTo>
                <a:lnTo>
                  <a:pt x="1061201" y="1402748"/>
                </a:lnTo>
                <a:lnTo>
                  <a:pt x="1052636" y="1407190"/>
                </a:lnTo>
                <a:lnTo>
                  <a:pt x="1044070" y="1411633"/>
                </a:lnTo>
                <a:lnTo>
                  <a:pt x="1035187" y="1415440"/>
                </a:lnTo>
                <a:lnTo>
                  <a:pt x="1025986" y="1418930"/>
                </a:lnTo>
                <a:lnTo>
                  <a:pt x="1016469" y="1422420"/>
                </a:lnTo>
                <a:lnTo>
                  <a:pt x="1006634" y="1425593"/>
                </a:lnTo>
                <a:lnTo>
                  <a:pt x="996800" y="1428766"/>
                </a:lnTo>
                <a:lnTo>
                  <a:pt x="986330" y="1431305"/>
                </a:lnTo>
                <a:lnTo>
                  <a:pt x="976178" y="1433843"/>
                </a:lnTo>
                <a:lnTo>
                  <a:pt x="965074" y="1436064"/>
                </a:lnTo>
                <a:lnTo>
                  <a:pt x="953971" y="1437968"/>
                </a:lnTo>
                <a:lnTo>
                  <a:pt x="942550" y="1439554"/>
                </a:lnTo>
                <a:lnTo>
                  <a:pt x="930812" y="1440823"/>
                </a:lnTo>
                <a:lnTo>
                  <a:pt x="918756" y="1442093"/>
                </a:lnTo>
                <a:lnTo>
                  <a:pt x="906383" y="1443044"/>
                </a:lnTo>
                <a:lnTo>
                  <a:pt x="893693" y="1443362"/>
                </a:lnTo>
                <a:lnTo>
                  <a:pt x="740144" y="1448756"/>
                </a:lnTo>
                <a:lnTo>
                  <a:pt x="652583" y="1451611"/>
                </a:lnTo>
                <a:lnTo>
                  <a:pt x="613244" y="1452563"/>
                </a:lnTo>
                <a:lnTo>
                  <a:pt x="604044" y="1452563"/>
                </a:lnTo>
                <a:lnTo>
                  <a:pt x="595161" y="1452563"/>
                </a:lnTo>
                <a:lnTo>
                  <a:pt x="555505" y="1451611"/>
                </a:lnTo>
                <a:lnTo>
                  <a:pt x="467944" y="1448756"/>
                </a:lnTo>
                <a:lnTo>
                  <a:pt x="314395" y="1443362"/>
                </a:lnTo>
                <a:lnTo>
                  <a:pt x="302022" y="1443044"/>
                </a:lnTo>
                <a:lnTo>
                  <a:pt x="289332" y="1442093"/>
                </a:lnTo>
                <a:lnTo>
                  <a:pt x="277276" y="1440823"/>
                </a:lnTo>
                <a:lnTo>
                  <a:pt x="265856" y="1439554"/>
                </a:lnTo>
                <a:lnTo>
                  <a:pt x="254117" y="1437968"/>
                </a:lnTo>
                <a:lnTo>
                  <a:pt x="243014" y="1436064"/>
                </a:lnTo>
                <a:lnTo>
                  <a:pt x="232227" y="1433843"/>
                </a:lnTo>
                <a:lnTo>
                  <a:pt x="221758" y="1431305"/>
                </a:lnTo>
                <a:lnTo>
                  <a:pt x="211288" y="1428766"/>
                </a:lnTo>
                <a:lnTo>
                  <a:pt x="201454" y="1425593"/>
                </a:lnTo>
                <a:lnTo>
                  <a:pt x="191619" y="1422420"/>
                </a:lnTo>
                <a:lnTo>
                  <a:pt x="182419" y="1418930"/>
                </a:lnTo>
                <a:lnTo>
                  <a:pt x="172901" y="1415440"/>
                </a:lnTo>
                <a:lnTo>
                  <a:pt x="164336" y="1411633"/>
                </a:lnTo>
                <a:lnTo>
                  <a:pt x="155452" y="1407190"/>
                </a:lnTo>
                <a:lnTo>
                  <a:pt x="147521" y="1402748"/>
                </a:lnTo>
                <a:lnTo>
                  <a:pt x="139273" y="1398306"/>
                </a:lnTo>
                <a:lnTo>
                  <a:pt x="131342" y="1393230"/>
                </a:lnTo>
                <a:lnTo>
                  <a:pt x="123728" y="1388470"/>
                </a:lnTo>
                <a:lnTo>
                  <a:pt x="116431" y="1383394"/>
                </a:lnTo>
                <a:lnTo>
                  <a:pt x="109768" y="1378000"/>
                </a:lnTo>
                <a:lnTo>
                  <a:pt x="102789" y="1372288"/>
                </a:lnTo>
                <a:lnTo>
                  <a:pt x="96127" y="1366577"/>
                </a:lnTo>
                <a:lnTo>
                  <a:pt x="89782" y="1360548"/>
                </a:lnTo>
                <a:lnTo>
                  <a:pt x="83754" y="1354203"/>
                </a:lnTo>
                <a:lnTo>
                  <a:pt x="78044" y="1347857"/>
                </a:lnTo>
                <a:lnTo>
                  <a:pt x="72333" y="1341194"/>
                </a:lnTo>
                <a:lnTo>
                  <a:pt x="66940" y="1334531"/>
                </a:lnTo>
                <a:lnTo>
                  <a:pt x="61864" y="1327867"/>
                </a:lnTo>
                <a:lnTo>
                  <a:pt x="56788" y="1320570"/>
                </a:lnTo>
                <a:lnTo>
                  <a:pt x="52346" y="1313589"/>
                </a:lnTo>
                <a:lnTo>
                  <a:pt x="47905" y="1305974"/>
                </a:lnTo>
                <a:lnTo>
                  <a:pt x="43780" y="1298677"/>
                </a:lnTo>
                <a:lnTo>
                  <a:pt x="39339" y="1291062"/>
                </a:lnTo>
                <a:lnTo>
                  <a:pt x="35849" y="1283129"/>
                </a:lnTo>
                <a:lnTo>
                  <a:pt x="32360" y="1275197"/>
                </a:lnTo>
                <a:lnTo>
                  <a:pt x="28870" y="1266947"/>
                </a:lnTo>
                <a:lnTo>
                  <a:pt x="25697" y="1259015"/>
                </a:lnTo>
                <a:lnTo>
                  <a:pt x="22525" y="1250448"/>
                </a:lnTo>
                <a:lnTo>
                  <a:pt x="19670" y="1242199"/>
                </a:lnTo>
                <a:lnTo>
                  <a:pt x="17132" y="1233314"/>
                </a:lnTo>
                <a:lnTo>
                  <a:pt x="14911" y="1224747"/>
                </a:lnTo>
                <a:lnTo>
                  <a:pt x="12690" y="1215863"/>
                </a:lnTo>
                <a:lnTo>
                  <a:pt x="10786" y="1206979"/>
                </a:lnTo>
                <a:lnTo>
                  <a:pt x="8883" y="1197778"/>
                </a:lnTo>
                <a:lnTo>
                  <a:pt x="7297" y="1188893"/>
                </a:lnTo>
                <a:lnTo>
                  <a:pt x="4442" y="1170173"/>
                </a:lnTo>
                <a:lnTo>
                  <a:pt x="2221" y="1151453"/>
                </a:lnTo>
                <a:lnTo>
                  <a:pt x="952" y="1131781"/>
                </a:lnTo>
                <a:lnTo>
                  <a:pt x="317" y="1112426"/>
                </a:lnTo>
                <a:lnTo>
                  <a:pt x="0" y="1092437"/>
                </a:lnTo>
                <a:lnTo>
                  <a:pt x="634" y="1072447"/>
                </a:lnTo>
                <a:lnTo>
                  <a:pt x="1586" y="1052458"/>
                </a:lnTo>
                <a:lnTo>
                  <a:pt x="3172" y="1032151"/>
                </a:lnTo>
                <a:lnTo>
                  <a:pt x="5393" y="1011845"/>
                </a:lnTo>
                <a:lnTo>
                  <a:pt x="8248" y="990903"/>
                </a:lnTo>
                <a:lnTo>
                  <a:pt x="11421" y="970279"/>
                </a:lnTo>
                <a:lnTo>
                  <a:pt x="14911" y="949655"/>
                </a:lnTo>
                <a:lnTo>
                  <a:pt x="19035" y="929031"/>
                </a:lnTo>
                <a:lnTo>
                  <a:pt x="23476" y="908407"/>
                </a:lnTo>
                <a:lnTo>
                  <a:pt x="28235" y="887783"/>
                </a:lnTo>
                <a:lnTo>
                  <a:pt x="33628" y="867477"/>
                </a:lnTo>
                <a:lnTo>
                  <a:pt x="39022" y="847170"/>
                </a:lnTo>
                <a:lnTo>
                  <a:pt x="45050" y="826863"/>
                </a:lnTo>
                <a:lnTo>
                  <a:pt x="51077" y="807191"/>
                </a:lnTo>
                <a:lnTo>
                  <a:pt x="58057" y="787519"/>
                </a:lnTo>
                <a:lnTo>
                  <a:pt x="64402" y="768164"/>
                </a:lnTo>
                <a:lnTo>
                  <a:pt x="71381" y="748492"/>
                </a:lnTo>
                <a:lnTo>
                  <a:pt x="78678" y="729772"/>
                </a:lnTo>
                <a:lnTo>
                  <a:pt x="85975" y="711369"/>
                </a:lnTo>
                <a:lnTo>
                  <a:pt x="93906" y="693283"/>
                </a:lnTo>
                <a:lnTo>
                  <a:pt x="101520" y="675832"/>
                </a:lnTo>
                <a:lnTo>
                  <a:pt x="109134" y="658698"/>
                </a:lnTo>
                <a:lnTo>
                  <a:pt x="117065" y="641882"/>
                </a:lnTo>
                <a:lnTo>
                  <a:pt x="124996" y="626017"/>
                </a:lnTo>
                <a:lnTo>
                  <a:pt x="133245" y="610153"/>
                </a:lnTo>
                <a:lnTo>
                  <a:pt x="141176" y="595557"/>
                </a:lnTo>
                <a:lnTo>
                  <a:pt x="149425" y="581279"/>
                </a:lnTo>
                <a:lnTo>
                  <a:pt x="157356" y="567318"/>
                </a:lnTo>
                <a:lnTo>
                  <a:pt x="165604" y="554309"/>
                </a:lnTo>
                <a:lnTo>
                  <a:pt x="173536" y="542252"/>
                </a:lnTo>
                <a:lnTo>
                  <a:pt x="181467" y="530830"/>
                </a:lnTo>
                <a:lnTo>
                  <a:pt x="189081" y="519725"/>
                </a:lnTo>
                <a:lnTo>
                  <a:pt x="197012" y="510206"/>
                </a:lnTo>
                <a:lnTo>
                  <a:pt x="204309" y="501004"/>
                </a:lnTo>
                <a:lnTo>
                  <a:pt x="211606" y="493072"/>
                </a:lnTo>
                <a:lnTo>
                  <a:pt x="218902" y="485457"/>
                </a:lnTo>
                <a:lnTo>
                  <a:pt x="225248" y="479428"/>
                </a:lnTo>
                <a:lnTo>
                  <a:pt x="232862" y="473083"/>
                </a:lnTo>
                <a:lnTo>
                  <a:pt x="248407" y="460074"/>
                </a:lnTo>
                <a:lnTo>
                  <a:pt x="265538" y="446430"/>
                </a:lnTo>
                <a:lnTo>
                  <a:pt x="283622" y="432469"/>
                </a:lnTo>
                <a:lnTo>
                  <a:pt x="322009" y="404548"/>
                </a:lnTo>
                <a:lnTo>
                  <a:pt x="360396" y="375991"/>
                </a:lnTo>
                <a:lnTo>
                  <a:pt x="379114" y="362030"/>
                </a:lnTo>
                <a:lnTo>
                  <a:pt x="396562" y="348387"/>
                </a:lnTo>
                <a:lnTo>
                  <a:pt x="412742" y="335060"/>
                </a:lnTo>
                <a:lnTo>
                  <a:pt x="420039" y="328397"/>
                </a:lnTo>
                <a:lnTo>
                  <a:pt x="427018" y="322369"/>
                </a:lnTo>
                <a:lnTo>
                  <a:pt x="433364" y="316340"/>
                </a:lnTo>
                <a:lnTo>
                  <a:pt x="439391" y="309994"/>
                </a:lnTo>
                <a:lnTo>
                  <a:pt x="444784" y="304283"/>
                </a:lnTo>
                <a:lnTo>
                  <a:pt x="449226" y="298572"/>
                </a:lnTo>
                <a:lnTo>
                  <a:pt x="453033" y="293178"/>
                </a:lnTo>
                <a:lnTo>
                  <a:pt x="456523" y="287784"/>
                </a:lnTo>
                <a:lnTo>
                  <a:pt x="459061" y="283024"/>
                </a:lnTo>
                <a:lnTo>
                  <a:pt x="460647" y="277948"/>
                </a:lnTo>
                <a:lnTo>
                  <a:pt x="461282" y="274775"/>
                </a:lnTo>
                <a:lnTo>
                  <a:pt x="461916" y="271919"/>
                </a:lnTo>
                <a:lnTo>
                  <a:pt x="456840" y="270967"/>
                </a:lnTo>
                <a:lnTo>
                  <a:pt x="452081" y="269698"/>
                </a:lnTo>
                <a:lnTo>
                  <a:pt x="448274" y="267794"/>
                </a:lnTo>
                <a:lnTo>
                  <a:pt x="444784" y="265256"/>
                </a:lnTo>
                <a:lnTo>
                  <a:pt x="441929" y="262083"/>
                </a:lnTo>
                <a:lnTo>
                  <a:pt x="440660" y="260497"/>
                </a:lnTo>
                <a:lnTo>
                  <a:pt x="439708" y="258910"/>
                </a:lnTo>
                <a:lnTo>
                  <a:pt x="438757" y="257324"/>
                </a:lnTo>
                <a:lnTo>
                  <a:pt x="438440" y="255420"/>
                </a:lnTo>
                <a:lnTo>
                  <a:pt x="438122" y="253834"/>
                </a:lnTo>
                <a:lnTo>
                  <a:pt x="437488" y="251930"/>
                </a:lnTo>
                <a:lnTo>
                  <a:pt x="438122" y="250026"/>
                </a:lnTo>
                <a:lnTo>
                  <a:pt x="438440" y="248122"/>
                </a:lnTo>
                <a:lnTo>
                  <a:pt x="438757" y="246536"/>
                </a:lnTo>
                <a:lnTo>
                  <a:pt x="439708" y="244315"/>
                </a:lnTo>
                <a:lnTo>
                  <a:pt x="440660" y="242728"/>
                </a:lnTo>
                <a:lnTo>
                  <a:pt x="441929" y="241142"/>
                </a:lnTo>
                <a:lnTo>
                  <a:pt x="444784" y="238286"/>
                </a:lnTo>
                <a:lnTo>
                  <a:pt x="448274" y="236065"/>
                </a:lnTo>
                <a:lnTo>
                  <a:pt x="452081" y="234161"/>
                </a:lnTo>
                <a:lnTo>
                  <a:pt x="456840" y="232575"/>
                </a:lnTo>
                <a:lnTo>
                  <a:pt x="461916" y="231940"/>
                </a:lnTo>
                <a:lnTo>
                  <a:pt x="460647" y="227498"/>
                </a:lnTo>
                <a:lnTo>
                  <a:pt x="459378" y="223374"/>
                </a:lnTo>
                <a:lnTo>
                  <a:pt x="457792" y="219249"/>
                </a:lnTo>
                <a:lnTo>
                  <a:pt x="456206" y="215124"/>
                </a:lnTo>
                <a:lnTo>
                  <a:pt x="451764" y="206874"/>
                </a:lnTo>
                <a:lnTo>
                  <a:pt x="447005" y="198307"/>
                </a:lnTo>
                <a:lnTo>
                  <a:pt x="441295" y="189423"/>
                </a:lnTo>
                <a:lnTo>
                  <a:pt x="434632" y="180222"/>
                </a:lnTo>
                <a:lnTo>
                  <a:pt x="420039" y="159598"/>
                </a:lnTo>
                <a:lnTo>
                  <a:pt x="412108" y="147541"/>
                </a:lnTo>
                <a:lnTo>
                  <a:pt x="403542" y="134532"/>
                </a:lnTo>
                <a:lnTo>
                  <a:pt x="394024" y="120254"/>
                </a:lnTo>
                <a:lnTo>
                  <a:pt x="384190" y="104706"/>
                </a:lnTo>
                <a:lnTo>
                  <a:pt x="374355" y="87573"/>
                </a:lnTo>
                <a:lnTo>
                  <a:pt x="363886" y="68535"/>
                </a:lnTo>
                <a:lnTo>
                  <a:pt x="353099" y="47911"/>
                </a:lnTo>
                <a:lnTo>
                  <a:pt x="341996" y="25066"/>
                </a:lnTo>
                <a:lnTo>
                  <a:pt x="352782" y="20307"/>
                </a:lnTo>
                <a:lnTo>
                  <a:pt x="362617" y="15865"/>
                </a:lnTo>
                <a:lnTo>
                  <a:pt x="372134" y="13009"/>
                </a:lnTo>
                <a:lnTo>
                  <a:pt x="380700" y="11105"/>
                </a:lnTo>
                <a:lnTo>
                  <a:pt x="388948" y="9836"/>
                </a:lnTo>
                <a:lnTo>
                  <a:pt x="396562" y="9519"/>
                </a:lnTo>
                <a:lnTo>
                  <a:pt x="403859" y="9519"/>
                </a:lnTo>
                <a:lnTo>
                  <a:pt x="410522" y="10471"/>
                </a:lnTo>
                <a:lnTo>
                  <a:pt x="416549" y="12057"/>
                </a:lnTo>
                <a:lnTo>
                  <a:pt x="422894" y="14278"/>
                </a:lnTo>
                <a:lnTo>
                  <a:pt x="428288" y="16816"/>
                </a:lnTo>
                <a:lnTo>
                  <a:pt x="433681" y="19989"/>
                </a:lnTo>
                <a:lnTo>
                  <a:pt x="439074" y="23162"/>
                </a:lnTo>
                <a:lnTo>
                  <a:pt x="443833" y="26970"/>
                </a:lnTo>
                <a:lnTo>
                  <a:pt x="448592" y="30777"/>
                </a:lnTo>
                <a:lnTo>
                  <a:pt x="453033" y="34585"/>
                </a:lnTo>
                <a:lnTo>
                  <a:pt x="462550" y="43152"/>
                </a:lnTo>
                <a:lnTo>
                  <a:pt x="471434" y="51401"/>
                </a:lnTo>
                <a:lnTo>
                  <a:pt x="476510" y="55843"/>
                </a:lnTo>
                <a:lnTo>
                  <a:pt x="481268" y="59651"/>
                </a:lnTo>
                <a:lnTo>
                  <a:pt x="486027" y="63141"/>
                </a:lnTo>
                <a:lnTo>
                  <a:pt x="491738" y="66314"/>
                </a:lnTo>
                <a:lnTo>
                  <a:pt x="497131" y="69170"/>
                </a:lnTo>
                <a:lnTo>
                  <a:pt x="502841" y="72025"/>
                </a:lnTo>
                <a:lnTo>
                  <a:pt x="509186" y="73929"/>
                </a:lnTo>
                <a:lnTo>
                  <a:pt x="515531" y="75198"/>
                </a:lnTo>
                <a:lnTo>
                  <a:pt x="522194" y="76150"/>
                </a:lnTo>
                <a:lnTo>
                  <a:pt x="529808" y="76150"/>
                </a:lnTo>
                <a:lnTo>
                  <a:pt x="537739" y="75515"/>
                </a:lnTo>
                <a:lnTo>
                  <a:pt x="546304" y="74246"/>
                </a:lnTo>
                <a:lnTo>
                  <a:pt x="557408" y="68218"/>
                </a:lnTo>
                <a:lnTo>
                  <a:pt x="568195" y="62824"/>
                </a:lnTo>
                <a:lnTo>
                  <a:pt x="587864" y="51719"/>
                </a:lnTo>
                <a:lnTo>
                  <a:pt x="605313" y="41882"/>
                </a:lnTo>
                <a:lnTo>
                  <a:pt x="620858" y="32681"/>
                </a:lnTo>
                <a:lnTo>
                  <a:pt x="635452" y="24749"/>
                </a:lnTo>
                <a:lnTo>
                  <a:pt x="648776" y="17134"/>
                </a:lnTo>
                <a:lnTo>
                  <a:pt x="655438" y="13961"/>
                </a:lnTo>
                <a:lnTo>
                  <a:pt x="661784" y="11422"/>
                </a:lnTo>
                <a:lnTo>
                  <a:pt x="668446" y="8884"/>
                </a:lnTo>
                <a:lnTo>
                  <a:pt x="675108" y="6663"/>
                </a:lnTo>
                <a:lnTo>
                  <a:pt x="682088" y="4759"/>
                </a:lnTo>
                <a:lnTo>
                  <a:pt x="688750" y="3173"/>
                </a:lnTo>
                <a:lnTo>
                  <a:pt x="695729" y="1586"/>
                </a:lnTo>
                <a:lnTo>
                  <a:pt x="703343" y="635"/>
                </a:lnTo>
                <a:lnTo>
                  <a:pt x="710957" y="317"/>
                </a:lnTo>
                <a:lnTo>
                  <a:pt x="71920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KSO_Shape"/>
          <p:cNvSpPr/>
          <p:nvPr/>
        </p:nvSpPr>
        <p:spPr>
          <a:xfrm>
            <a:off x="2268360" y="2655720"/>
            <a:ext cx="571680" cy="570240"/>
          </a:xfrm>
          <a:custGeom>
            <a:avLst/>
            <a:gdLst/>
            <a:ahLst/>
            <a:rect l="l" t="t" r="r" b="b"/>
            <a:pathLst>
              <a:path w="5026" h="5027">
                <a:moveTo>
                  <a:pt x="4113" y="0"/>
                </a:moveTo>
                <a:lnTo>
                  <a:pt x="914" y="0"/>
                </a:lnTo>
                <a:lnTo>
                  <a:pt x="867" y="1"/>
                </a:lnTo>
                <a:lnTo>
                  <a:pt x="821" y="5"/>
                </a:lnTo>
                <a:lnTo>
                  <a:pt x="775" y="11"/>
                </a:lnTo>
                <a:lnTo>
                  <a:pt x="730" y="19"/>
                </a:lnTo>
                <a:lnTo>
                  <a:pt x="686" y="29"/>
                </a:lnTo>
                <a:lnTo>
                  <a:pt x="642" y="42"/>
                </a:lnTo>
                <a:lnTo>
                  <a:pt x="599" y="56"/>
                </a:lnTo>
                <a:lnTo>
                  <a:pt x="558" y="72"/>
                </a:lnTo>
                <a:lnTo>
                  <a:pt x="518" y="90"/>
                </a:lnTo>
                <a:lnTo>
                  <a:pt x="478" y="111"/>
                </a:lnTo>
                <a:lnTo>
                  <a:pt x="440" y="133"/>
                </a:lnTo>
                <a:lnTo>
                  <a:pt x="404" y="156"/>
                </a:lnTo>
                <a:lnTo>
                  <a:pt x="368" y="182"/>
                </a:lnTo>
                <a:lnTo>
                  <a:pt x="333" y="209"/>
                </a:lnTo>
                <a:lnTo>
                  <a:pt x="300" y="238"/>
                </a:lnTo>
                <a:lnTo>
                  <a:pt x="268" y="268"/>
                </a:lnTo>
                <a:lnTo>
                  <a:pt x="238" y="300"/>
                </a:lnTo>
                <a:lnTo>
                  <a:pt x="209" y="333"/>
                </a:lnTo>
                <a:lnTo>
                  <a:pt x="181" y="368"/>
                </a:lnTo>
                <a:lnTo>
                  <a:pt x="156" y="404"/>
                </a:lnTo>
                <a:lnTo>
                  <a:pt x="133" y="440"/>
                </a:lnTo>
                <a:lnTo>
                  <a:pt x="111" y="478"/>
                </a:lnTo>
                <a:lnTo>
                  <a:pt x="90" y="518"/>
                </a:lnTo>
                <a:lnTo>
                  <a:pt x="72" y="558"/>
                </a:lnTo>
                <a:lnTo>
                  <a:pt x="56" y="599"/>
                </a:lnTo>
                <a:lnTo>
                  <a:pt x="42" y="642"/>
                </a:lnTo>
                <a:lnTo>
                  <a:pt x="29" y="686"/>
                </a:lnTo>
                <a:lnTo>
                  <a:pt x="19" y="730"/>
                </a:lnTo>
                <a:lnTo>
                  <a:pt x="11" y="775"/>
                </a:lnTo>
                <a:lnTo>
                  <a:pt x="5" y="821"/>
                </a:lnTo>
                <a:lnTo>
                  <a:pt x="1" y="867"/>
                </a:lnTo>
                <a:lnTo>
                  <a:pt x="0" y="914"/>
                </a:lnTo>
                <a:lnTo>
                  <a:pt x="0" y="4113"/>
                </a:lnTo>
                <a:lnTo>
                  <a:pt x="1" y="4160"/>
                </a:lnTo>
                <a:lnTo>
                  <a:pt x="5" y="4206"/>
                </a:lnTo>
                <a:lnTo>
                  <a:pt x="11" y="4252"/>
                </a:lnTo>
                <a:lnTo>
                  <a:pt x="19" y="4297"/>
                </a:lnTo>
                <a:lnTo>
                  <a:pt x="29" y="4341"/>
                </a:lnTo>
                <a:lnTo>
                  <a:pt x="42" y="4385"/>
                </a:lnTo>
                <a:lnTo>
                  <a:pt x="56" y="4427"/>
                </a:lnTo>
                <a:lnTo>
                  <a:pt x="72" y="4469"/>
                </a:lnTo>
                <a:lnTo>
                  <a:pt x="90" y="4509"/>
                </a:lnTo>
                <a:lnTo>
                  <a:pt x="111" y="4548"/>
                </a:lnTo>
                <a:lnTo>
                  <a:pt x="133" y="4588"/>
                </a:lnTo>
                <a:lnTo>
                  <a:pt x="156" y="4624"/>
                </a:lnTo>
                <a:lnTo>
                  <a:pt x="181" y="4660"/>
                </a:lnTo>
                <a:lnTo>
                  <a:pt x="209" y="4695"/>
                </a:lnTo>
                <a:lnTo>
                  <a:pt x="238" y="4728"/>
                </a:lnTo>
                <a:lnTo>
                  <a:pt x="268" y="4759"/>
                </a:lnTo>
                <a:lnTo>
                  <a:pt x="300" y="4789"/>
                </a:lnTo>
                <a:lnTo>
                  <a:pt x="333" y="4818"/>
                </a:lnTo>
                <a:lnTo>
                  <a:pt x="368" y="4846"/>
                </a:lnTo>
                <a:lnTo>
                  <a:pt x="404" y="4871"/>
                </a:lnTo>
                <a:lnTo>
                  <a:pt x="440" y="4895"/>
                </a:lnTo>
                <a:lnTo>
                  <a:pt x="478" y="4917"/>
                </a:lnTo>
                <a:lnTo>
                  <a:pt x="518" y="4937"/>
                </a:lnTo>
                <a:lnTo>
                  <a:pt x="558" y="4955"/>
                </a:lnTo>
                <a:lnTo>
                  <a:pt x="599" y="4971"/>
                </a:lnTo>
                <a:lnTo>
                  <a:pt x="642" y="4986"/>
                </a:lnTo>
                <a:lnTo>
                  <a:pt x="686" y="4999"/>
                </a:lnTo>
                <a:lnTo>
                  <a:pt x="730" y="5008"/>
                </a:lnTo>
                <a:lnTo>
                  <a:pt x="775" y="5016"/>
                </a:lnTo>
                <a:lnTo>
                  <a:pt x="821" y="5022"/>
                </a:lnTo>
                <a:lnTo>
                  <a:pt x="867" y="5025"/>
                </a:lnTo>
                <a:lnTo>
                  <a:pt x="914" y="5027"/>
                </a:lnTo>
                <a:lnTo>
                  <a:pt x="4113" y="5027"/>
                </a:lnTo>
                <a:lnTo>
                  <a:pt x="4160" y="5025"/>
                </a:lnTo>
                <a:lnTo>
                  <a:pt x="4206" y="5022"/>
                </a:lnTo>
                <a:lnTo>
                  <a:pt x="4252" y="5016"/>
                </a:lnTo>
                <a:lnTo>
                  <a:pt x="4297" y="5008"/>
                </a:lnTo>
                <a:lnTo>
                  <a:pt x="4342" y="4999"/>
                </a:lnTo>
                <a:lnTo>
                  <a:pt x="4384" y="4986"/>
                </a:lnTo>
                <a:lnTo>
                  <a:pt x="4427" y="4971"/>
                </a:lnTo>
                <a:lnTo>
                  <a:pt x="4469" y="4955"/>
                </a:lnTo>
                <a:lnTo>
                  <a:pt x="4509" y="4937"/>
                </a:lnTo>
                <a:lnTo>
                  <a:pt x="4548" y="4917"/>
                </a:lnTo>
                <a:lnTo>
                  <a:pt x="4587" y="4895"/>
                </a:lnTo>
                <a:lnTo>
                  <a:pt x="4624" y="4871"/>
                </a:lnTo>
                <a:lnTo>
                  <a:pt x="4660" y="4846"/>
                </a:lnTo>
                <a:lnTo>
                  <a:pt x="4694" y="4818"/>
                </a:lnTo>
                <a:lnTo>
                  <a:pt x="4728" y="4789"/>
                </a:lnTo>
                <a:lnTo>
                  <a:pt x="4759" y="4759"/>
                </a:lnTo>
                <a:lnTo>
                  <a:pt x="4789" y="4728"/>
                </a:lnTo>
                <a:lnTo>
                  <a:pt x="4818" y="4695"/>
                </a:lnTo>
                <a:lnTo>
                  <a:pt x="4845" y="4660"/>
                </a:lnTo>
                <a:lnTo>
                  <a:pt x="4871" y="4624"/>
                </a:lnTo>
                <a:lnTo>
                  <a:pt x="4895" y="4588"/>
                </a:lnTo>
                <a:lnTo>
                  <a:pt x="4917" y="4548"/>
                </a:lnTo>
                <a:lnTo>
                  <a:pt x="4936" y="4509"/>
                </a:lnTo>
                <a:lnTo>
                  <a:pt x="4955" y="4469"/>
                </a:lnTo>
                <a:lnTo>
                  <a:pt x="4971" y="4427"/>
                </a:lnTo>
                <a:lnTo>
                  <a:pt x="4986" y="4385"/>
                </a:lnTo>
                <a:lnTo>
                  <a:pt x="4997" y="4341"/>
                </a:lnTo>
                <a:lnTo>
                  <a:pt x="5008" y="4297"/>
                </a:lnTo>
                <a:lnTo>
                  <a:pt x="5016" y="4252"/>
                </a:lnTo>
                <a:lnTo>
                  <a:pt x="5022" y="4206"/>
                </a:lnTo>
                <a:lnTo>
                  <a:pt x="5025" y="4160"/>
                </a:lnTo>
                <a:lnTo>
                  <a:pt x="5026" y="4113"/>
                </a:lnTo>
                <a:lnTo>
                  <a:pt x="5026" y="914"/>
                </a:lnTo>
                <a:lnTo>
                  <a:pt x="5025" y="867"/>
                </a:lnTo>
                <a:lnTo>
                  <a:pt x="5022" y="821"/>
                </a:lnTo>
                <a:lnTo>
                  <a:pt x="5016" y="775"/>
                </a:lnTo>
                <a:lnTo>
                  <a:pt x="5008" y="730"/>
                </a:lnTo>
                <a:lnTo>
                  <a:pt x="4997" y="686"/>
                </a:lnTo>
                <a:lnTo>
                  <a:pt x="4986" y="642"/>
                </a:lnTo>
                <a:lnTo>
                  <a:pt x="4971" y="599"/>
                </a:lnTo>
                <a:lnTo>
                  <a:pt x="4955" y="558"/>
                </a:lnTo>
                <a:lnTo>
                  <a:pt x="4936" y="518"/>
                </a:lnTo>
                <a:lnTo>
                  <a:pt x="4917" y="478"/>
                </a:lnTo>
                <a:lnTo>
                  <a:pt x="4895" y="440"/>
                </a:lnTo>
                <a:lnTo>
                  <a:pt x="4871" y="404"/>
                </a:lnTo>
                <a:lnTo>
                  <a:pt x="4845" y="368"/>
                </a:lnTo>
                <a:lnTo>
                  <a:pt x="4818" y="333"/>
                </a:lnTo>
                <a:lnTo>
                  <a:pt x="4789" y="300"/>
                </a:lnTo>
                <a:lnTo>
                  <a:pt x="4759" y="268"/>
                </a:lnTo>
                <a:lnTo>
                  <a:pt x="4728" y="238"/>
                </a:lnTo>
                <a:lnTo>
                  <a:pt x="4694" y="209"/>
                </a:lnTo>
                <a:lnTo>
                  <a:pt x="4660" y="182"/>
                </a:lnTo>
                <a:lnTo>
                  <a:pt x="4624" y="156"/>
                </a:lnTo>
                <a:lnTo>
                  <a:pt x="4587" y="133"/>
                </a:lnTo>
                <a:lnTo>
                  <a:pt x="4548" y="111"/>
                </a:lnTo>
                <a:lnTo>
                  <a:pt x="4509" y="90"/>
                </a:lnTo>
                <a:lnTo>
                  <a:pt x="4469" y="72"/>
                </a:lnTo>
                <a:lnTo>
                  <a:pt x="4427" y="56"/>
                </a:lnTo>
                <a:lnTo>
                  <a:pt x="4384" y="42"/>
                </a:lnTo>
                <a:lnTo>
                  <a:pt x="4342" y="29"/>
                </a:lnTo>
                <a:lnTo>
                  <a:pt x="4297" y="19"/>
                </a:lnTo>
                <a:lnTo>
                  <a:pt x="4252" y="11"/>
                </a:lnTo>
                <a:lnTo>
                  <a:pt x="4206" y="5"/>
                </a:lnTo>
                <a:lnTo>
                  <a:pt x="4160" y="1"/>
                </a:lnTo>
                <a:lnTo>
                  <a:pt x="4113" y="0"/>
                </a:lnTo>
                <a:close/>
                <a:moveTo>
                  <a:pt x="4114" y="2971"/>
                </a:moveTo>
                <a:lnTo>
                  <a:pt x="2971" y="2971"/>
                </a:lnTo>
                <a:lnTo>
                  <a:pt x="2971" y="4114"/>
                </a:lnTo>
                <a:lnTo>
                  <a:pt x="2057" y="4114"/>
                </a:lnTo>
                <a:lnTo>
                  <a:pt x="2057" y="2971"/>
                </a:lnTo>
                <a:lnTo>
                  <a:pt x="914" y="2971"/>
                </a:lnTo>
                <a:lnTo>
                  <a:pt x="914" y="2057"/>
                </a:lnTo>
                <a:lnTo>
                  <a:pt x="2057" y="2057"/>
                </a:lnTo>
                <a:lnTo>
                  <a:pt x="2057" y="914"/>
                </a:lnTo>
                <a:lnTo>
                  <a:pt x="2971" y="914"/>
                </a:lnTo>
                <a:lnTo>
                  <a:pt x="2971" y="2057"/>
                </a:lnTo>
                <a:lnTo>
                  <a:pt x="4114" y="2057"/>
                </a:lnTo>
                <a:lnTo>
                  <a:pt x="4114" y="2971"/>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 name="KSO_Shape"/>
          <p:cNvSpPr/>
          <p:nvPr/>
        </p:nvSpPr>
        <p:spPr>
          <a:xfrm>
            <a:off x="8937720" y="2655720"/>
            <a:ext cx="677880" cy="570240"/>
          </a:xfrm>
          <a:custGeom>
            <a:avLst/>
            <a:gdLst/>
            <a:ahLst/>
            <a:rect l="l" t="t" r="r" b="b"/>
            <a:pathLst>
              <a:path w="5559425" h="4676774">
                <a:moveTo>
                  <a:pt x="2733675" y="1498599"/>
                </a:moveTo>
                <a:lnTo>
                  <a:pt x="2708275" y="1501774"/>
                </a:lnTo>
                <a:lnTo>
                  <a:pt x="2689225" y="1511299"/>
                </a:lnTo>
                <a:lnTo>
                  <a:pt x="2673350" y="1520824"/>
                </a:lnTo>
                <a:lnTo>
                  <a:pt x="2663825" y="1536699"/>
                </a:lnTo>
                <a:lnTo>
                  <a:pt x="2657475" y="1555749"/>
                </a:lnTo>
                <a:lnTo>
                  <a:pt x="2654300" y="1577974"/>
                </a:lnTo>
                <a:lnTo>
                  <a:pt x="2654300" y="1603374"/>
                </a:lnTo>
                <a:lnTo>
                  <a:pt x="2654300" y="1758949"/>
                </a:lnTo>
                <a:lnTo>
                  <a:pt x="2593975" y="1771649"/>
                </a:lnTo>
                <a:lnTo>
                  <a:pt x="2540000" y="1787524"/>
                </a:lnTo>
                <a:lnTo>
                  <a:pt x="2492375" y="1806574"/>
                </a:lnTo>
                <a:lnTo>
                  <a:pt x="2444750" y="1828799"/>
                </a:lnTo>
                <a:lnTo>
                  <a:pt x="2400300" y="1854199"/>
                </a:lnTo>
                <a:lnTo>
                  <a:pt x="2362200" y="1879599"/>
                </a:lnTo>
                <a:lnTo>
                  <a:pt x="2327275" y="1911349"/>
                </a:lnTo>
                <a:lnTo>
                  <a:pt x="2292350" y="1943099"/>
                </a:lnTo>
                <a:lnTo>
                  <a:pt x="2266950" y="1978024"/>
                </a:lnTo>
                <a:lnTo>
                  <a:pt x="2241550" y="2016124"/>
                </a:lnTo>
                <a:lnTo>
                  <a:pt x="2219325" y="2054224"/>
                </a:lnTo>
                <a:lnTo>
                  <a:pt x="2203450" y="2092324"/>
                </a:lnTo>
                <a:lnTo>
                  <a:pt x="2190750" y="2130424"/>
                </a:lnTo>
                <a:lnTo>
                  <a:pt x="2181225" y="2168524"/>
                </a:lnTo>
                <a:lnTo>
                  <a:pt x="2174875" y="2209799"/>
                </a:lnTo>
                <a:lnTo>
                  <a:pt x="2171700" y="2251074"/>
                </a:lnTo>
                <a:lnTo>
                  <a:pt x="2174875" y="2314574"/>
                </a:lnTo>
                <a:lnTo>
                  <a:pt x="2184400" y="2371724"/>
                </a:lnTo>
                <a:lnTo>
                  <a:pt x="2197100" y="2425699"/>
                </a:lnTo>
                <a:lnTo>
                  <a:pt x="2216150" y="2476499"/>
                </a:lnTo>
                <a:lnTo>
                  <a:pt x="2238375" y="2520949"/>
                </a:lnTo>
                <a:lnTo>
                  <a:pt x="2266950" y="2562224"/>
                </a:lnTo>
                <a:lnTo>
                  <a:pt x="2298700" y="2603499"/>
                </a:lnTo>
                <a:lnTo>
                  <a:pt x="2333625" y="2638424"/>
                </a:lnTo>
                <a:lnTo>
                  <a:pt x="2371725" y="2670174"/>
                </a:lnTo>
                <a:lnTo>
                  <a:pt x="2413000" y="2701924"/>
                </a:lnTo>
                <a:lnTo>
                  <a:pt x="2457450" y="2730499"/>
                </a:lnTo>
                <a:lnTo>
                  <a:pt x="2501900" y="2755899"/>
                </a:lnTo>
                <a:lnTo>
                  <a:pt x="2600325" y="2803524"/>
                </a:lnTo>
                <a:lnTo>
                  <a:pt x="2701925" y="2844799"/>
                </a:lnTo>
                <a:lnTo>
                  <a:pt x="2790825" y="2882899"/>
                </a:lnTo>
                <a:lnTo>
                  <a:pt x="2863850" y="2920999"/>
                </a:lnTo>
                <a:lnTo>
                  <a:pt x="2924175" y="2955924"/>
                </a:lnTo>
                <a:lnTo>
                  <a:pt x="2946400" y="2974974"/>
                </a:lnTo>
                <a:lnTo>
                  <a:pt x="2968625" y="2994024"/>
                </a:lnTo>
                <a:lnTo>
                  <a:pt x="2984500" y="3009899"/>
                </a:lnTo>
                <a:lnTo>
                  <a:pt x="3000375" y="3032124"/>
                </a:lnTo>
                <a:lnTo>
                  <a:pt x="3013075" y="3051174"/>
                </a:lnTo>
                <a:lnTo>
                  <a:pt x="3022600" y="3073399"/>
                </a:lnTo>
                <a:lnTo>
                  <a:pt x="3028950" y="3095624"/>
                </a:lnTo>
                <a:lnTo>
                  <a:pt x="3035300" y="3121024"/>
                </a:lnTo>
                <a:lnTo>
                  <a:pt x="3038475" y="3146424"/>
                </a:lnTo>
                <a:lnTo>
                  <a:pt x="3041650" y="3171824"/>
                </a:lnTo>
                <a:lnTo>
                  <a:pt x="3038475" y="3203574"/>
                </a:lnTo>
                <a:lnTo>
                  <a:pt x="3032125" y="3232149"/>
                </a:lnTo>
                <a:lnTo>
                  <a:pt x="3025775" y="3257549"/>
                </a:lnTo>
                <a:lnTo>
                  <a:pt x="3013075" y="3279774"/>
                </a:lnTo>
                <a:lnTo>
                  <a:pt x="2997200" y="3301999"/>
                </a:lnTo>
                <a:lnTo>
                  <a:pt x="2978150" y="3317874"/>
                </a:lnTo>
                <a:lnTo>
                  <a:pt x="2955925" y="3333749"/>
                </a:lnTo>
                <a:lnTo>
                  <a:pt x="2927350" y="3349624"/>
                </a:lnTo>
                <a:lnTo>
                  <a:pt x="2898775" y="3359149"/>
                </a:lnTo>
                <a:lnTo>
                  <a:pt x="2870200" y="3371849"/>
                </a:lnTo>
                <a:lnTo>
                  <a:pt x="2803525" y="3384549"/>
                </a:lnTo>
                <a:lnTo>
                  <a:pt x="2733675" y="3394074"/>
                </a:lnTo>
                <a:lnTo>
                  <a:pt x="2657475" y="3397249"/>
                </a:lnTo>
                <a:lnTo>
                  <a:pt x="2581275" y="3397249"/>
                </a:lnTo>
                <a:lnTo>
                  <a:pt x="2517775" y="3390899"/>
                </a:lnTo>
                <a:lnTo>
                  <a:pt x="2457450" y="3384549"/>
                </a:lnTo>
                <a:lnTo>
                  <a:pt x="2406650" y="3375024"/>
                </a:lnTo>
                <a:lnTo>
                  <a:pt x="2324100" y="3349624"/>
                </a:lnTo>
                <a:lnTo>
                  <a:pt x="2257425" y="3324224"/>
                </a:lnTo>
                <a:lnTo>
                  <a:pt x="2232025" y="3314699"/>
                </a:lnTo>
                <a:lnTo>
                  <a:pt x="2212975" y="3308349"/>
                </a:lnTo>
                <a:lnTo>
                  <a:pt x="2203450" y="3311524"/>
                </a:lnTo>
                <a:lnTo>
                  <a:pt x="2193925" y="3317874"/>
                </a:lnTo>
                <a:lnTo>
                  <a:pt x="2184400" y="3330574"/>
                </a:lnTo>
                <a:lnTo>
                  <a:pt x="2174875" y="3346449"/>
                </a:lnTo>
                <a:lnTo>
                  <a:pt x="2159000" y="3390899"/>
                </a:lnTo>
                <a:lnTo>
                  <a:pt x="2146300" y="3441699"/>
                </a:lnTo>
                <a:lnTo>
                  <a:pt x="2133600" y="3495674"/>
                </a:lnTo>
                <a:lnTo>
                  <a:pt x="2130425" y="3546474"/>
                </a:lnTo>
                <a:lnTo>
                  <a:pt x="2130425" y="3568699"/>
                </a:lnTo>
                <a:lnTo>
                  <a:pt x="2130425" y="3587749"/>
                </a:lnTo>
                <a:lnTo>
                  <a:pt x="2133600" y="3600449"/>
                </a:lnTo>
                <a:lnTo>
                  <a:pt x="2139950" y="3606799"/>
                </a:lnTo>
                <a:lnTo>
                  <a:pt x="2168525" y="3622674"/>
                </a:lnTo>
                <a:lnTo>
                  <a:pt x="2203450" y="3641724"/>
                </a:lnTo>
                <a:lnTo>
                  <a:pt x="2247900" y="3657599"/>
                </a:lnTo>
                <a:lnTo>
                  <a:pt x="2301875" y="3673474"/>
                </a:lnTo>
                <a:lnTo>
                  <a:pt x="2362200" y="3689349"/>
                </a:lnTo>
                <a:lnTo>
                  <a:pt x="2432050" y="3702049"/>
                </a:lnTo>
                <a:lnTo>
                  <a:pt x="2511425" y="3711574"/>
                </a:lnTo>
                <a:lnTo>
                  <a:pt x="2597150" y="3717924"/>
                </a:lnTo>
                <a:lnTo>
                  <a:pt x="2597150" y="3829049"/>
                </a:lnTo>
                <a:lnTo>
                  <a:pt x="2597150" y="3860799"/>
                </a:lnTo>
                <a:lnTo>
                  <a:pt x="2603500" y="3886199"/>
                </a:lnTo>
                <a:lnTo>
                  <a:pt x="2609850" y="3905249"/>
                </a:lnTo>
                <a:lnTo>
                  <a:pt x="2619375" y="3921124"/>
                </a:lnTo>
                <a:lnTo>
                  <a:pt x="2632075" y="3930649"/>
                </a:lnTo>
                <a:lnTo>
                  <a:pt x="2647950" y="3936999"/>
                </a:lnTo>
                <a:lnTo>
                  <a:pt x="2670175" y="3940174"/>
                </a:lnTo>
                <a:lnTo>
                  <a:pt x="2695575" y="3940174"/>
                </a:lnTo>
                <a:lnTo>
                  <a:pt x="2879725" y="3940174"/>
                </a:lnTo>
                <a:lnTo>
                  <a:pt x="2905125" y="3940174"/>
                </a:lnTo>
                <a:lnTo>
                  <a:pt x="2924175" y="3936999"/>
                </a:lnTo>
                <a:lnTo>
                  <a:pt x="2940050" y="3930649"/>
                </a:lnTo>
                <a:lnTo>
                  <a:pt x="2946400" y="3924299"/>
                </a:lnTo>
                <a:lnTo>
                  <a:pt x="2952750" y="3911599"/>
                </a:lnTo>
                <a:lnTo>
                  <a:pt x="2959100" y="3892549"/>
                </a:lnTo>
                <a:lnTo>
                  <a:pt x="2959100" y="3870324"/>
                </a:lnTo>
                <a:lnTo>
                  <a:pt x="2962275" y="3841749"/>
                </a:lnTo>
                <a:lnTo>
                  <a:pt x="2962275" y="3689349"/>
                </a:lnTo>
                <a:lnTo>
                  <a:pt x="3009900" y="3679824"/>
                </a:lnTo>
                <a:lnTo>
                  <a:pt x="3057525" y="3663949"/>
                </a:lnTo>
                <a:lnTo>
                  <a:pt x="3101975" y="3648074"/>
                </a:lnTo>
                <a:lnTo>
                  <a:pt x="3146425" y="3629024"/>
                </a:lnTo>
                <a:lnTo>
                  <a:pt x="3187700" y="3609974"/>
                </a:lnTo>
                <a:lnTo>
                  <a:pt x="3225800" y="3584574"/>
                </a:lnTo>
                <a:lnTo>
                  <a:pt x="3260725" y="3555999"/>
                </a:lnTo>
                <a:lnTo>
                  <a:pt x="3295650" y="3527424"/>
                </a:lnTo>
                <a:lnTo>
                  <a:pt x="3324225" y="3492499"/>
                </a:lnTo>
                <a:lnTo>
                  <a:pt x="3349625" y="3454399"/>
                </a:lnTo>
                <a:lnTo>
                  <a:pt x="3371850" y="3413124"/>
                </a:lnTo>
                <a:lnTo>
                  <a:pt x="3390900" y="3371849"/>
                </a:lnTo>
                <a:lnTo>
                  <a:pt x="3406775" y="3324224"/>
                </a:lnTo>
                <a:lnTo>
                  <a:pt x="3419475" y="3270249"/>
                </a:lnTo>
                <a:lnTo>
                  <a:pt x="3425825" y="3216274"/>
                </a:lnTo>
                <a:lnTo>
                  <a:pt x="3429000" y="3155949"/>
                </a:lnTo>
                <a:lnTo>
                  <a:pt x="3425825" y="3101974"/>
                </a:lnTo>
                <a:lnTo>
                  <a:pt x="3419475" y="3051174"/>
                </a:lnTo>
                <a:lnTo>
                  <a:pt x="3406775" y="3003549"/>
                </a:lnTo>
                <a:lnTo>
                  <a:pt x="3394075" y="2955924"/>
                </a:lnTo>
                <a:lnTo>
                  <a:pt x="3371850" y="2911474"/>
                </a:lnTo>
                <a:lnTo>
                  <a:pt x="3349625" y="2870199"/>
                </a:lnTo>
                <a:lnTo>
                  <a:pt x="3317875" y="2828924"/>
                </a:lnTo>
                <a:lnTo>
                  <a:pt x="3286125" y="2790824"/>
                </a:lnTo>
                <a:lnTo>
                  <a:pt x="3248025" y="2755899"/>
                </a:lnTo>
                <a:lnTo>
                  <a:pt x="3206750" y="2720974"/>
                </a:lnTo>
                <a:lnTo>
                  <a:pt x="3162300" y="2689224"/>
                </a:lnTo>
                <a:lnTo>
                  <a:pt x="3114675" y="2657474"/>
                </a:lnTo>
                <a:lnTo>
                  <a:pt x="3063875" y="2625724"/>
                </a:lnTo>
                <a:lnTo>
                  <a:pt x="3006725" y="2597149"/>
                </a:lnTo>
                <a:lnTo>
                  <a:pt x="2946400" y="2568574"/>
                </a:lnTo>
                <a:lnTo>
                  <a:pt x="2886075" y="2539999"/>
                </a:lnTo>
                <a:lnTo>
                  <a:pt x="2806700" y="2508249"/>
                </a:lnTo>
                <a:lnTo>
                  <a:pt x="2740025" y="2476499"/>
                </a:lnTo>
                <a:lnTo>
                  <a:pt x="2682875" y="2441574"/>
                </a:lnTo>
                <a:lnTo>
                  <a:pt x="2635250" y="2409824"/>
                </a:lnTo>
                <a:lnTo>
                  <a:pt x="2616200" y="2393949"/>
                </a:lnTo>
                <a:lnTo>
                  <a:pt x="2600325" y="2378074"/>
                </a:lnTo>
                <a:lnTo>
                  <a:pt x="2587625" y="2359024"/>
                </a:lnTo>
                <a:lnTo>
                  <a:pt x="2574925" y="2339974"/>
                </a:lnTo>
                <a:lnTo>
                  <a:pt x="2565400" y="2320924"/>
                </a:lnTo>
                <a:lnTo>
                  <a:pt x="2559050" y="2298699"/>
                </a:lnTo>
                <a:lnTo>
                  <a:pt x="2555875" y="2276474"/>
                </a:lnTo>
                <a:lnTo>
                  <a:pt x="2552700" y="2251074"/>
                </a:lnTo>
                <a:lnTo>
                  <a:pt x="2555875" y="2228849"/>
                </a:lnTo>
                <a:lnTo>
                  <a:pt x="2559050" y="2206624"/>
                </a:lnTo>
                <a:lnTo>
                  <a:pt x="2562225" y="2184399"/>
                </a:lnTo>
                <a:lnTo>
                  <a:pt x="2571750" y="2162174"/>
                </a:lnTo>
                <a:lnTo>
                  <a:pt x="2581275" y="2143124"/>
                </a:lnTo>
                <a:lnTo>
                  <a:pt x="2593975" y="2124074"/>
                </a:lnTo>
                <a:lnTo>
                  <a:pt x="2609850" y="2108199"/>
                </a:lnTo>
                <a:lnTo>
                  <a:pt x="2625725" y="2092324"/>
                </a:lnTo>
                <a:lnTo>
                  <a:pt x="2644775" y="2079624"/>
                </a:lnTo>
                <a:lnTo>
                  <a:pt x="2667000" y="2066924"/>
                </a:lnTo>
                <a:lnTo>
                  <a:pt x="2695575" y="2057399"/>
                </a:lnTo>
                <a:lnTo>
                  <a:pt x="2724150" y="2047874"/>
                </a:lnTo>
                <a:lnTo>
                  <a:pt x="2759075" y="2041524"/>
                </a:lnTo>
                <a:lnTo>
                  <a:pt x="2797175" y="2038349"/>
                </a:lnTo>
                <a:lnTo>
                  <a:pt x="2838450" y="2035174"/>
                </a:lnTo>
                <a:lnTo>
                  <a:pt x="2886075" y="2035174"/>
                </a:lnTo>
                <a:lnTo>
                  <a:pt x="2933700" y="2035174"/>
                </a:lnTo>
                <a:lnTo>
                  <a:pt x="2981325" y="2038349"/>
                </a:lnTo>
                <a:lnTo>
                  <a:pt x="3032125" y="2044699"/>
                </a:lnTo>
                <a:lnTo>
                  <a:pt x="3079750" y="2054224"/>
                </a:lnTo>
                <a:lnTo>
                  <a:pt x="3165475" y="2073274"/>
                </a:lnTo>
                <a:lnTo>
                  <a:pt x="3225800" y="2089149"/>
                </a:lnTo>
                <a:lnTo>
                  <a:pt x="3238500" y="2089149"/>
                </a:lnTo>
                <a:lnTo>
                  <a:pt x="3251200" y="2082799"/>
                </a:lnTo>
                <a:lnTo>
                  <a:pt x="3260725" y="2073274"/>
                </a:lnTo>
                <a:lnTo>
                  <a:pt x="3273425" y="2054224"/>
                </a:lnTo>
                <a:lnTo>
                  <a:pt x="3295650" y="2006599"/>
                </a:lnTo>
                <a:lnTo>
                  <a:pt x="3311525" y="1958974"/>
                </a:lnTo>
                <a:lnTo>
                  <a:pt x="3321050" y="1904999"/>
                </a:lnTo>
                <a:lnTo>
                  <a:pt x="3324225" y="1857374"/>
                </a:lnTo>
                <a:lnTo>
                  <a:pt x="3324225" y="1835149"/>
                </a:lnTo>
                <a:lnTo>
                  <a:pt x="3317875" y="1819274"/>
                </a:lnTo>
                <a:lnTo>
                  <a:pt x="3311525" y="1806574"/>
                </a:lnTo>
                <a:lnTo>
                  <a:pt x="3298825" y="1797049"/>
                </a:lnTo>
                <a:lnTo>
                  <a:pt x="3254375" y="1784349"/>
                </a:lnTo>
                <a:lnTo>
                  <a:pt x="3197225" y="1768474"/>
                </a:lnTo>
                <a:lnTo>
                  <a:pt x="3159125" y="1762124"/>
                </a:lnTo>
                <a:lnTo>
                  <a:pt x="3117850" y="1755774"/>
                </a:lnTo>
                <a:lnTo>
                  <a:pt x="3019425" y="1746249"/>
                </a:lnTo>
                <a:lnTo>
                  <a:pt x="3019425" y="1609724"/>
                </a:lnTo>
                <a:lnTo>
                  <a:pt x="3019425" y="1555749"/>
                </a:lnTo>
                <a:lnTo>
                  <a:pt x="3016250" y="1533524"/>
                </a:lnTo>
                <a:lnTo>
                  <a:pt x="3009900" y="1520824"/>
                </a:lnTo>
                <a:lnTo>
                  <a:pt x="3003550" y="1511299"/>
                </a:lnTo>
                <a:lnTo>
                  <a:pt x="2990850" y="1501774"/>
                </a:lnTo>
                <a:lnTo>
                  <a:pt x="2968625" y="1498599"/>
                </a:lnTo>
                <a:lnTo>
                  <a:pt x="2943225" y="1498599"/>
                </a:lnTo>
                <a:lnTo>
                  <a:pt x="2762250" y="1498599"/>
                </a:lnTo>
                <a:lnTo>
                  <a:pt x="2733675" y="1498599"/>
                </a:lnTo>
                <a:close/>
                <a:moveTo>
                  <a:pt x="2077933" y="438148"/>
                </a:moveTo>
                <a:cubicBezTo>
                  <a:pt x="2061771" y="438148"/>
                  <a:pt x="2048669" y="451250"/>
                  <a:pt x="2048669" y="467412"/>
                </a:cubicBezTo>
                <a:lnTo>
                  <a:pt x="2048669" y="769928"/>
                </a:lnTo>
                <a:lnTo>
                  <a:pt x="2075397" y="778225"/>
                </a:lnTo>
                <a:cubicBezTo>
                  <a:pt x="2119967" y="797076"/>
                  <a:pt x="2155673" y="832782"/>
                  <a:pt x="2174524" y="877352"/>
                </a:cubicBezTo>
                <a:lnTo>
                  <a:pt x="2184888" y="928686"/>
                </a:lnTo>
                <a:lnTo>
                  <a:pt x="3371361" y="928686"/>
                </a:lnTo>
                <a:lnTo>
                  <a:pt x="3381725" y="877352"/>
                </a:lnTo>
                <a:cubicBezTo>
                  <a:pt x="3400577" y="832782"/>
                  <a:pt x="3436283" y="797076"/>
                  <a:pt x="3480853" y="778224"/>
                </a:cubicBezTo>
                <a:lnTo>
                  <a:pt x="3507582" y="769927"/>
                </a:lnTo>
                <a:lnTo>
                  <a:pt x="3507582" y="467412"/>
                </a:lnTo>
                <a:cubicBezTo>
                  <a:pt x="3507582" y="451250"/>
                  <a:pt x="3494480" y="438148"/>
                  <a:pt x="3478318" y="438148"/>
                </a:cubicBezTo>
                <a:lnTo>
                  <a:pt x="2077933" y="438148"/>
                </a:lnTo>
                <a:close/>
                <a:moveTo>
                  <a:pt x="2060754" y="0"/>
                </a:moveTo>
                <a:lnTo>
                  <a:pt x="3495494" y="0"/>
                </a:lnTo>
                <a:cubicBezTo>
                  <a:pt x="3746344" y="0"/>
                  <a:pt x="3949699" y="203354"/>
                  <a:pt x="3949699" y="454204"/>
                </a:cubicBezTo>
                <a:lnTo>
                  <a:pt x="3949699" y="772638"/>
                </a:lnTo>
                <a:lnTo>
                  <a:pt x="3967697" y="778224"/>
                </a:lnTo>
                <a:cubicBezTo>
                  <a:pt x="4012267" y="797076"/>
                  <a:pt x="4047973" y="832782"/>
                  <a:pt x="4066824" y="877352"/>
                </a:cubicBezTo>
                <a:lnTo>
                  <a:pt x="4077188" y="928686"/>
                </a:lnTo>
                <a:lnTo>
                  <a:pt x="5316011" y="928686"/>
                </a:lnTo>
                <a:cubicBezTo>
                  <a:pt x="5450445" y="928686"/>
                  <a:pt x="5559425" y="1037666"/>
                  <a:pt x="5559425" y="1172100"/>
                </a:cubicBezTo>
                <a:lnTo>
                  <a:pt x="5559425" y="4355572"/>
                </a:lnTo>
                <a:cubicBezTo>
                  <a:pt x="5559425" y="4490006"/>
                  <a:pt x="5450445" y="4598986"/>
                  <a:pt x="5316011" y="4598986"/>
                </a:cubicBezTo>
                <a:lnTo>
                  <a:pt x="4950129" y="4598986"/>
                </a:lnTo>
                <a:lnTo>
                  <a:pt x="4924434" y="4637096"/>
                </a:lnTo>
                <a:cubicBezTo>
                  <a:pt x="4899919" y="4661611"/>
                  <a:pt x="4866052" y="4676774"/>
                  <a:pt x="4828643" y="4676774"/>
                </a:cubicBezTo>
                <a:lnTo>
                  <a:pt x="4572531" y="4676774"/>
                </a:lnTo>
                <a:cubicBezTo>
                  <a:pt x="4535123" y="4676774"/>
                  <a:pt x="4501256" y="4661611"/>
                  <a:pt x="4476740" y="4637096"/>
                </a:cubicBezTo>
                <a:lnTo>
                  <a:pt x="4451046" y="4598986"/>
                </a:lnTo>
                <a:lnTo>
                  <a:pt x="1063928" y="4598986"/>
                </a:lnTo>
                <a:lnTo>
                  <a:pt x="1038234" y="4637096"/>
                </a:lnTo>
                <a:cubicBezTo>
                  <a:pt x="1013719" y="4661611"/>
                  <a:pt x="979851" y="4676774"/>
                  <a:pt x="942443" y="4676774"/>
                </a:cubicBezTo>
                <a:lnTo>
                  <a:pt x="686331" y="4676774"/>
                </a:lnTo>
                <a:cubicBezTo>
                  <a:pt x="648922" y="4676774"/>
                  <a:pt x="615055" y="4661611"/>
                  <a:pt x="590540" y="4637096"/>
                </a:cubicBezTo>
                <a:lnTo>
                  <a:pt x="564846" y="4598986"/>
                </a:lnTo>
                <a:lnTo>
                  <a:pt x="243414" y="4598986"/>
                </a:lnTo>
                <a:cubicBezTo>
                  <a:pt x="108980" y="4598986"/>
                  <a:pt x="0" y="4490006"/>
                  <a:pt x="0" y="4355572"/>
                </a:cubicBezTo>
                <a:lnTo>
                  <a:pt x="0" y="1172100"/>
                </a:lnTo>
                <a:cubicBezTo>
                  <a:pt x="0" y="1037666"/>
                  <a:pt x="108980" y="928686"/>
                  <a:pt x="243414" y="928686"/>
                </a:cubicBezTo>
                <a:lnTo>
                  <a:pt x="1479061" y="928686"/>
                </a:lnTo>
                <a:lnTo>
                  <a:pt x="1489425" y="877352"/>
                </a:lnTo>
                <a:cubicBezTo>
                  <a:pt x="1508276" y="832782"/>
                  <a:pt x="1543982" y="797076"/>
                  <a:pt x="1588552" y="778225"/>
                </a:cubicBezTo>
                <a:lnTo>
                  <a:pt x="1606549" y="772638"/>
                </a:lnTo>
                <a:lnTo>
                  <a:pt x="1606549" y="454204"/>
                </a:lnTo>
                <a:cubicBezTo>
                  <a:pt x="1606549" y="203354"/>
                  <a:pt x="1809904" y="0"/>
                  <a:pt x="2060754"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KSO_Shape"/>
          <p:cNvSpPr/>
          <p:nvPr/>
        </p:nvSpPr>
        <p:spPr>
          <a:xfrm>
            <a:off x="4559400" y="2604960"/>
            <a:ext cx="455400" cy="671760"/>
          </a:xfrm>
          <a:custGeom>
            <a:avLst/>
            <a:gdLst/>
            <a:ahLst/>
            <a:rect l="l" t="t" r="r" b="b"/>
            <a:pathLst>
              <a:path w="709759" h="1043506">
                <a:moveTo>
                  <a:pt x="487089" y="0"/>
                </a:moveTo>
                <a:cubicBezTo>
                  <a:pt x="570591" y="0"/>
                  <a:pt x="640175" y="27827"/>
                  <a:pt x="681925" y="41740"/>
                </a:cubicBezTo>
                <a:cubicBezTo>
                  <a:pt x="681925" y="41740"/>
                  <a:pt x="681925" y="41740"/>
                  <a:pt x="640175" y="222615"/>
                </a:cubicBezTo>
                <a:cubicBezTo>
                  <a:pt x="598424" y="208701"/>
                  <a:pt x="556674" y="194788"/>
                  <a:pt x="501006" y="194788"/>
                </a:cubicBezTo>
                <a:cubicBezTo>
                  <a:pt x="389672" y="194788"/>
                  <a:pt x="361838" y="264355"/>
                  <a:pt x="361838" y="347835"/>
                </a:cubicBezTo>
                <a:cubicBezTo>
                  <a:pt x="361838" y="389576"/>
                  <a:pt x="361838" y="417402"/>
                  <a:pt x="375755" y="459143"/>
                </a:cubicBezTo>
                <a:cubicBezTo>
                  <a:pt x="375755" y="459143"/>
                  <a:pt x="375755" y="459143"/>
                  <a:pt x="584507" y="459143"/>
                </a:cubicBezTo>
                <a:cubicBezTo>
                  <a:pt x="584507" y="459143"/>
                  <a:pt x="584507" y="459143"/>
                  <a:pt x="584507" y="626104"/>
                </a:cubicBezTo>
                <a:cubicBezTo>
                  <a:pt x="584507" y="626104"/>
                  <a:pt x="584507" y="626104"/>
                  <a:pt x="389672" y="626104"/>
                </a:cubicBezTo>
                <a:cubicBezTo>
                  <a:pt x="389672" y="667844"/>
                  <a:pt x="389672" y="695671"/>
                  <a:pt x="375755" y="737411"/>
                </a:cubicBezTo>
                <a:cubicBezTo>
                  <a:pt x="361838" y="779151"/>
                  <a:pt x="334004" y="806978"/>
                  <a:pt x="292254" y="848718"/>
                </a:cubicBezTo>
                <a:cubicBezTo>
                  <a:pt x="292254" y="848718"/>
                  <a:pt x="292254" y="848718"/>
                  <a:pt x="709759" y="848718"/>
                </a:cubicBezTo>
                <a:lnTo>
                  <a:pt x="709759" y="1043506"/>
                </a:lnTo>
                <a:cubicBezTo>
                  <a:pt x="709759" y="1043506"/>
                  <a:pt x="709759" y="1043506"/>
                  <a:pt x="0" y="1043506"/>
                </a:cubicBezTo>
                <a:cubicBezTo>
                  <a:pt x="0" y="1043506"/>
                  <a:pt x="0" y="1043506"/>
                  <a:pt x="0" y="918285"/>
                </a:cubicBezTo>
                <a:cubicBezTo>
                  <a:pt x="83501" y="876545"/>
                  <a:pt x="167002" y="793065"/>
                  <a:pt x="180919" y="681757"/>
                </a:cubicBezTo>
                <a:cubicBezTo>
                  <a:pt x="180919" y="667844"/>
                  <a:pt x="180919" y="640017"/>
                  <a:pt x="167002" y="626104"/>
                </a:cubicBezTo>
                <a:cubicBezTo>
                  <a:pt x="167002" y="626104"/>
                  <a:pt x="167002" y="626104"/>
                  <a:pt x="13917" y="626104"/>
                </a:cubicBezTo>
                <a:cubicBezTo>
                  <a:pt x="13917" y="626104"/>
                  <a:pt x="13917" y="626104"/>
                  <a:pt x="13917" y="459143"/>
                </a:cubicBezTo>
                <a:cubicBezTo>
                  <a:pt x="13917" y="459143"/>
                  <a:pt x="13917" y="459143"/>
                  <a:pt x="139168" y="459143"/>
                </a:cubicBezTo>
                <a:cubicBezTo>
                  <a:pt x="139168" y="417402"/>
                  <a:pt x="139168" y="375662"/>
                  <a:pt x="139168" y="333922"/>
                </a:cubicBezTo>
                <a:cubicBezTo>
                  <a:pt x="139168" y="139134"/>
                  <a:pt x="278337" y="0"/>
                  <a:pt x="487089"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文本框 13"/>
          <p:cNvSpPr/>
          <p:nvPr/>
        </p:nvSpPr>
        <p:spPr>
          <a:xfrm>
            <a:off x="1266840" y="4416480"/>
            <a:ext cx="2286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206" name="矩形 14"/>
          <p:cNvSpPr/>
          <p:nvPr/>
        </p:nvSpPr>
        <p:spPr>
          <a:xfrm>
            <a:off x="1708920" y="401652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b649f"/>
                </a:solidFill>
                <a:latin typeface="Arial"/>
              </a:rPr>
              <a:t>这里添加文字标题</a:t>
            </a:r>
            <a:endParaRPr b="0" lang="en-US" sz="2000" spc="-1" strike="noStrike">
              <a:solidFill>
                <a:srgbClr val="000000"/>
              </a:solidFill>
              <a:latin typeface="Arial"/>
            </a:endParaRPr>
          </a:p>
        </p:txBody>
      </p:sp>
      <p:sp>
        <p:nvSpPr>
          <p:cNvPr id="207" name="文本框 15"/>
          <p:cNvSpPr/>
          <p:nvPr/>
        </p:nvSpPr>
        <p:spPr>
          <a:xfrm>
            <a:off x="3668760" y="4416480"/>
            <a:ext cx="2286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208" name="矩形 16"/>
          <p:cNvSpPr/>
          <p:nvPr/>
        </p:nvSpPr>
        <p:spPr>
          <a:xfrm>
            <a:off x="4110840" y="401652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db1cd"/>
                </a:solidFill>
                <a:latin typeface="Arial"/>
              </a:rPr>
              <a:t>这里添加文字标题</a:t>
            </a:r>
            <a:endParaRPr b="0" lang="en-US" sz="2000" spc="-1" strike="noStrike">
              <a:solidFill>
                <a:srgbClr val="000000"/>
              </a:solidFill>
              <a:latin typeface="Arial"/>
            </a:endParaRPr>
          </a:p>
        </p:txBody>
      </p:sp>
      <p:sp>
        <p:nvSpPr>
          <p:cNvPr id="209" name="文本框 17"/>
          <p:cNvSpPr/>
          <p:nvPr/>
        </p:nvSpPr>
        <p:spPr>
          <a:xfrm>
            <a:off x="5954760" y="4416480"/>
            <a:ext cx="2286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210" name="矩形 18"/>
          <p:cNvSpPr/>
          <p:nvPr/>
        </p:nvSpPr>
        <p:spPr>
          <a:xfrm>
            <a:off x="6396840" y="401652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e80b0"/>
                </a:solidFill>
                <a:latin typeface="Arial"/>
              </a:rPr>
              <a:t>这里添加文字标题</a:t>
            </a:r>
            <a:endParaRPr b="0" lang="en-US" sz="2000" spc="-1" strike="noStrike">
              <a:solidFill>
                <a:srgbClr val="000000"/>
              </a:solidFill>
              <a:latin typeface="Arial"/>
            </a:endParaRPr>
          </a:p>
        </p:txBody>
      </p:sp>
      <p:sp>
        <p:nvSpPr>
          <p:cNvPr id="211" name="文本框 19"/>
          <p:cNvSpPr/>
          <p:nvPr/>
        </p:nvSpPr>
        <p:spPr>
          <a:xfrm>
            <a:off x="8264520" y="4416480"/>
            <a:ext cx="2286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212" name="矩形 20"/>
          <p:cNvSpPr/>
          <p:nvPr/>
        </p:nvSpPr>
        <p:spPr>
          <a:xfrm>
            <a:off x="8708400" y="401652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4e67c8"/>
                </a:solidFill>
                <a:latin typeface="Arial"/>
                <a:ea typeface="微软雅黑"/>
              </a:rPr>
              <a:t>这里添加文字标题</a:t>
            </a:r>
            <a:endParaRPr b="0" lang="en-US" sz="2000" spc="-1" strike="noStrike">
              <a:solidFill>
                <a:srgbClr val="000000"/>
              </a:solidFill>
              <a:latin typeface="Arial"/>
            </a:endParaRPr>
          </a:p>
        </p:txBody>
      </p:sp>
      <p:pic>
        <p:nvPicPr>
          <p:cNvPr id="213" name="图片 22" descr=""/>
          <p:cNvPicPr/>
          <p:nvPr/>
        </p:nvPicPr>
        <p:blipFill>
          <a:blip r:embed="rId1"/>
          <a:stretch/>
        </p:blipFill>
        <p:spPr>
          <a:xfrm>
            <a:off x="8610480" y="0"/>
            <a:ext cx="3581640" cy="1006560"/>
          </a:xfrm>
          <a:prstGeom prst="rect">
            <a:avLst/>
          </a:prstGeom>
          <a:ln w="0">
            <a:noFill/>
          </a:ln>
        </p:spPr>
      </p:pic>
      <p:grpSp>
        <p:nvGrpSpPr>
          <p:cNvPr id="214" name="组合 23"/>
          <p:cNvGrpSpPr/>
          <p:nvPr/>
        </p:nvGrpSpPr>
        <p:grpSpPr>
          <a:xfrm>
            <a:off x="133200" y="125280"/>
            <a:ext cx="640080" cy="638280"/>
            <a:chOff x="133200" y="125280"/>
            <a:chExt cx="640080" cy="638280"/>
          </a:xfrm>
        </p:grpSpPr>
        <p:sp>
          <p:nvSpPr>
            <p:cNvPr id="215" name="椭圆 24"/>
            <p:cNvSpPr/>
            <p:nvPr/>
          </p:nvSpPr>
          <p:spPr>
            <a:xfrm>
              <a:off x="133200" y="125280"/>
              <a:ext cx="6400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椭圆 25"/>
            <p:cNvSpPr/>
            <p:nvPr/>
          </p:nvSpPr>
          <p:spPr>
            <a:xfrm>
              <a:off x="176040" y="168120"/>
              <a:ext cx="5544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KSO_Shape"/>
            <p:cNvSpPr/>
            <p:nvPr/>
          </p:nvSpPr>
          <p:spPr>
            <a:xfrm>
              <a:off x="271800" y="269280"/>
              <a:ext cx="362520" cy="349920"/>
            </a:xfrm>
            <a:custGeom>
              <a:avLst/>
              <a:gdLst/>
              <a:ahLst/>
              <a:rect l="l" t="t" r="r" b="b"/>
              <a:pathLst>
                <a:path w="8965002" h="8673857">
                  <a:moveTo>
                    <a:pt x="8267042" y="3603669"/>
                  </a:moveTo>
                  <a:cubicBezTo>
                    <a:pt x="8267042" y="3603669"/>
                    <a:pt x="8267042" y="3603669"/>
                    <a:pt x="8503636" y="3603669"/>
                  </a:cubicBezTo>
                  <a:cubicBezTo>
                    <a:pt x="8770275" y="3603669"/>
                    <a:pt x="9115779" y="3885289"/>
                    <a:pt x="8894206" y="4343392"/>
                  </a:cubicBezTo>
                  <a:cubicBezTo>
                    <a:pt x="8894206" y="4343392"/>
                    <a:pt x="8894206" y="4343392"/>
                    <a:pt x="6963891" y="7249712"/>
                  </a:cubicBezTo>
                  <a:cubicBezTo>
                    <a:pt x="6817428" y="7463743"/>
                    <a:pt x="6610877" y="7475008"/>
                    <a:pt x="6509479" y="7475008"/>
                  </a:cubicBezTo>
                  <a:cubicBezTo>
                    <a:pt x="6509479" y="7475008"/>
                    <a:pt x="6509479" y="7475008"/>
                    <a:pt x="5375325" y="7475008"/>
                  </a:cubicBezTo>
                  <a:cubicBezTo>
                    <a:pt x="5375325" y="7475008"/>
                    <a:pt x="5375325" y="7475008"/>
                    <a:pt x="5375325" y="8391212"/>
                  </a:cubicBezTo>
                  <a:cubicBezTo>
                    <a:pt x="5375325" y="8503860"/>
                    <a:pt x="5326504" y="8586469"/>
                    <a:pt x="5225106" y="8639038"/>
                  </a:cubicBezTo>
                  <a:cubicBezTo>
                    <a:pt x="5180040" y="8661567"/>
                    <a:pt x="5131219" y="8672833"/>
                    <a:pt x="5086153" y="8672833"/>
                  </a:cubicBezTo>
                  <a:cubicBezTo>
                    <a:pt x="5026066" y="8672833"/>
                    <a:pt x="4962223" y="8654057"/>
                    <a:pt x="4909646" y="8620263"/>
                  </a:cubicBezTo>
                  <a:cubicBezTo>
                    <a:pt x="4909646" y="8620263"/>
                    <a:pt x="4909646" y="8620263"/>
                    <a:pt x="4027109" y="8023229"/>
                  </a:cubicBezTo>
                  <a:cubicBezTo>
                    <a:pt x="4027109" y="8023229"/>
                    <a:pt x="4027109" y="8023229"/>
                    <a:pt x="3163349" y="8620263"/>
                  </a:cubicBezTo>
                  <a:cubicBezTo>
                    <a:pt x="3069463" y="8684097"/>
                    <a:pt x="2949287" y="8691607"/>
                    <a:pt x="2847889" y="8639038"/>
                  </a:cubicBezTo>
                  <a:cubicBezTo>
                    <a:pt x="2750247" y="8586469"/>
                    <a:pt x="2686404" y="8503860"/>
                    <a:pt x="2686404" y="8391212"/>
                  </a:cubicBezTo>
                  <a:cubicBezTo>
                    <a:pt x="2686404" y="8391212"/>
                    <a:pt x="2686404" y="8391212"/>
                    <a:pt x="2686404" y="6100701"/>
                  </a:cubicBezTo>
                  <a:cubicBezTo>
                    <a:pt x="2686404" y="5559991"/>
                    <a:pt x="2990598" y="5237066"/>
                    <a:pt x="3170860" y="5131928"/>
                  </a:cubicBezTo>
                  <a:cubicBezTo>
                    <a:pt x="3215926" y="5105644"/>
                    <a:pt x="3268503" y="5090624"/>
                    <a:pt x="3324835" y="5090624"/>
                  </a:cubicBezTo>
                  <a:cubicBezTo>
                    <a:pt x="3324835" y="5090624"/>
                    <a:pt x="3324835" y="5090624"/>
                    <a:pt x="5690785" y="5090624"/>
                  </a:cubicBezTo>
                  <a:cubicBezTo>
                    <a:pt x="5371570" y="5406038"/>
                    <a:pt x="5367814" y="5980543"/>
                    <a:pt x="5367814" y="6280938"/>
                  </a:cubicBezTo>
                  <a:cubicBezTo>
                    <a:pt x="5367814" y="6280938"/>
                    <a:pt x="5367814" y="6280938"/>
                    <a:pt x="6227818" y="6280938"/>
                  </a:cubicBezTo>
                  <a:cubicBezTo>
                    <a:pt x="6227818" y="6280938"/>
                    <a:pt x="6227818" y="6280938"/>
                    <a:pt x="8267042" y="3603669"/>
                  </a:cubicBezTo>
                  <a:close/>
                  <a:moveTo>
                    <a:pt x="6109875" y="128"/>
                  </a:moveTo>
                  <a:cubicBezTo>
                    <a:pt x="6829153" y="-2490"/>
                    <a:pt x="7579192" y="34821"/>
                    <a:pt x="8198796" y="137601"/>
                  </a:cubicBezTo>
                  <a:cubicBezTo>
                    <a:pt x="8705745" y="220201"/>
                    <a:pt x="8739542" y="678257"/>
                    <a:pt x="8578069" y="884757"/>
                  </a:cubicBezTo>
                  <a:cubicBezTo>
                    <a:pt x="8578069" y="884757"/>
                    <a:pt x="6234838" y="3955980"/>
                    <a:pt x="6208552" y="3974753"/>
                  </a:cubicBezTo>
                  <a:cubicBezTo>
                    <a:pt x="6107162" y="4098653"/>
                    <a:pt x="5953199" y="4177498"/>
                    <a:pt x="5780461" y="4177498"/>
                  </a:cubicBezTo>
                  <a:cubicBezTo>
                    <a:pt x="5780461" y="4177498"/>
                    <a:pt x="5780461" y="4177498"/>
                    <a:pt x="2209285" y="4177498"/>
                  </a:cubicBezTo>
                  <a:cubicBezTo>
                    <a:pt x="1818747" y="4177498"/>
                    <a:pt x="970076" y="4545444"/>
                    <a:pt x="1150325" y="5476573"/>
                  </a:cubicBezTo>
                  <a:cubicBezTo>
                    <a:pt x="1217918" y="5825746"/>
                    <a:pt x="1465760" y="6103583"/>
                    <a:pt x="1799971" y="6223729"/>
                  </a:cubicBezTo>
                  <a:cubicBezTo>
                    <a:pt x="1875075" y="6253765"/>
                    <a:pt x="2002751" y="6268783"/>
                    <a:pt x="2085365" y="6280047"/>
                  </a:cubicBezTo>
                  <a:cubicBezTo>
                    <a:pt x="2085365" y="6280047"/>
                    <a:pt x="2085365" y="6280047"/>
                    <a:pt x="2085365" y="7473994"/>
                  </a:cubicBezTo>
                  <a:cubicBezTo>
                    <a:pt x="1582171" y="7440203"/>
                    <a:pt x="335451" y="7004675"/>
                    <a:pt x="53813" y="5720619"/>
                  </a:cubicBezTo>
                  <a:cubicBezTo>
                    <a:pt x="-25046" y="5397728"/>
                    <a:pt x="-13780" y="5056063"/>
                    <a:pt x="65078" y="4729417"/>
                  </a:cubicBezTo>
                  <a:cubicBezTo>
                    <a:pt x="282879" y="3283915"/>
                    <a:pt x="2351982" y="944830"/>
                    <a:pt x="2716235" y="670748"/>
                  </a:cubicBezTo>
                  <a:cubicBezTo>
                    <a:pt x="2960321" y="471756"/>
                    <a:pt x="3234449" y="310311"/>
                    <a:pt x="3516088" y="227711"/>
                  </a:cubicBezTo>
                  <a:cubicBezTo>
                    <a:pt x="3797726" y="119767"/>
                    <a:pt x="4911078" y="4491"/>
                    <a:pt x="6109875" y="128"/>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sp>
        <p:nvSpPr>
          <p:cNvPr id="218" name="文本框 27"/>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一部分标题</a:t>
            </a:r>
            <a:endParaRPr b="0" lang="en-US" sz="2800" spc="-1" strike="noStrike">
              <a:solidFill>
                <a:srgbClr val="000000"/>
              </a:solidFill>
              <a:latin typeface="Arial"/>
            </a:endParaRPr>
          </a:p>
        </p:txBody>
      </p:sp>
      <p:pic>
        <p:nvPicPr>
          <p:cNvPr id="219" name="直接连接符 28" descr=""/>
          <p:cNvPicPr/>
          <p:nvPr/>
        </p:nvPicPr>
        <p:blipFill>
          <a:blip r:embed="rId2"/>
          <a:stretch/>
        </p:blipFill>
        <p:spPr>
          <a:xfrm>
            <a:off x="0" y="798480"/>
            <a:ext cx="11192040" cy="23760"/>
          </a:xfrm>
          <a:prstGeom prst="rect">
            <a:avLst/>
          </a:prstGeom>
          <a:ln w="0">
            <a:noFill/>
          </a:ln>
        </p:spPr>
      </p:pic>
      <p:sp>
        <p:nvSpPr>
          <p:cNvPr id="220" name="矩形 29"/>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15T03:19:00Z</dcterms:created>
  <dc:creator>PC</dc:creator>
  <dc:description/>
  <cp:keywords/>
  <dc:language>en-US</dc:language>
  <cp:lastModifiedBy>admin</cp:lastModifiedBy>
  <dcterms:modified xsi:type="dcterms:W3CDTF">2017-05-29T10:06:53Z</dcterms:modified>
  <cp:revision>22</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457</vt:lpwstr>
  </property>
</Properties>
</file>