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664-ADAA-41E1-BEE5-8BD1A228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A2B-B051-4AE8-9BB0-45B6786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EB7-9A0C-49F3-A642-6FD0CC2C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D23-2E31-4D06-B1C2-122584CD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D12-F702-453F-9D3A-730590D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DDF-1DA5-4886-A5BF-80BD7317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606-3DF6-44F8-9845-AEDF0E41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D09-7B35-47FA-97DE-66A3719F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03D-4FB3-408E-B139-A579B8B7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065-D77D-4FFD-AECD-88F8B9FC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243-86E0-4A06-9834-F8195B1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DA7-0CD2-4EFF-8C91-F341673C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0CE-CB4F-4F32-BABB-2C28852A61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4"/>
          <p:cNvSpPr/>
          <p:nvPr/>
        </p:nvSpPr>
        <p:spPr>
          <a:xfrm>
            <a:off x="17640" y="3691080"/>
            <a:ext cx="9126360" cy="8650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0" y="2058840"/>
            <a:ext cx="9144000" cy="23767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xcb.njupt.edu.cn/picture/article/4/dc/0f/ee00742f47c4b34b08503f6a2c22/ebe38335-0d9d-4b4b-8e2c-8ace70c1c411.jpg"/>
          <p:cNvPicPr/>
          <p:nvPr/>
        </p:nvPicPr>
        <p:blipFill>
          <a:blip r:embed="rId1"/>
          <a:stretch/>
        </p:blipFill>
        <p:spPr>
          <a:xfrm>
            <a:off x="222120" y="250920"/>
            <a:ext cx="4421160" cy="117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53880" y="1573200"/>
            <a:ext cx="3541680" cy="2316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4921560" y="23702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地铁列车中无线监测通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系统的研究与实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6616800" y="47847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张  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566040" y="5245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李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248880" y="568008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0" y="11160"/>
            <a:ext cx="3059280" cy="6846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517040" y="1515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355400" y="26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635280" y="1461960"/>
          <a:ext cx="5184720" cy="3178440"/>
        </p:xfrm>
        <a:graphic>
          <a:graphicData uri="http://schemas.openxmlformats.org/drawingml/2006/table">
            <a:tbl>
              <a:tblPr/>
              <a:tblGrid>
                <a:gridCol w="647640"/>
                <a:gridCol w="453708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选题背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设计理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仿真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7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结论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803240" y="1808280"/>
            <a:ext cx="1500480" cy="4316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10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12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13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2683080" y="17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5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2831400" y="17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1227240" y="2990880"/>
            <a:ext cx="11127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技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78960" y="193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高温超导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TS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低温共烧陶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341440" y="4229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DS HFSS CS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636000" y="299556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单片微波集成电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MIC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微电子机械系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416600" y="419112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418760" y="187308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材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23"/>
          <p:cNvSpPr/>
          <p:nvPr/>
        </p:nvSpPr>
        <p:spPr>
          <a:xfrm>
            <a:off x="2340000" y="2541600"/>
            <a:ext cx="56880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24"/>
          <p:cNvSpPr/>
          <p:nvPr/>
        </p:nvSpPr>
        <p:spPr>
          <a:xfrm>
            <a:off x="2446200" y="3549600"/>
            <a:ext cx="54738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25"/>
          <p:cNvSpPr/>
          <p:nvPr/>
        </p:nvSpPr>
        <p:spPr>
          <a:xfrm flipV="1">
            <a:off x="2446200" y="4653000"/>
            <a:ext cx="5488200" cy="3024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5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流程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779400" y="1952640"/>
            <a:ext cx="351144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2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给定的指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确定滤波器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779400" y="1405080"/>
            <a:ext cx="35258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滤波器参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5278320" y="1952640"/>
            <a:ext cx="324180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设计好低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转化为带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779400" y="4627440"/>
            <a:ext cx="351144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带通原型设计分布参数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利用微带线实现交指型滤波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4357800" y="2440080"/>
            <a:ext cx="920520" cy="649080"/>
          </a:xfrm>
          <a:prstGeom prst="rightArrow">
            <a:avLst>
              <a:gd name="adj1" fmla="val 50000"/>
              <a:gd name="adj2" fmla="val 30327"/>
            </a:avLst>
          </a:prstGeom>
          <a:solidFill>
            <a:srgbClr val="8bab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18" descr=""/>
          <p:cNvPicPr/>
          <p:nvPr/>
        </p:nvPicPr>
        <p:blipFill>
          <a:blip r:embed="rId1"/>
          <a:stretch/>
        </p:blipFill>
        <p:spPr>
          <a:xfrm>
            <a:off x="5894280" y="4273560"/>
            <a:ext cx="1390680" cy="13590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6"/>
          <p:cNvSpPr/>
          <p:nvPr/>
        </p:nvSpPr>
        <p:spPr>
          <a:xfrm>
            <a:off x="5278320" y="1422360"/>
            <a:ext cx="324180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通原型转变成带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793800" y="4038480"/>
            <a:ext cx="35114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转变成分布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下箭头 6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16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下箭头 4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154" name="矩形 7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1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13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8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4299480" y="189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接连接符 5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rcRect l="23125" t="23443" r="22988" b="0"/>
          <a:stretch/>
        </p:blipFill>
        <p:spPr>
          <a:xfrm>
            <a:off x="603360" y="1614600"/>
            <a:ext cx="4973400" cy="4335480"/>
          </a:xfrm>
          <a:prstGeom prst="rect">
            <a:avLst/>
          </a:prstGeom>
          <a:ln w="0">
            <a:noFill/>
          </a:ln>
        </p:spPr>
      </p:pic>
      <p:sp>
        <p:nvSpPr>
          <p:cNvPr id="178" name="矩形 2"/>
          <p:cNvSpPr/>
          <p:nvPr/>
        </p:nvSpPr>
        <p:spPr>
          <a:xfrm>
            <a:off x="5576760" y="1825560"/>
            <a:ext cx="10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3"/>
          <p:cNvSpPr/>
          <p:nvPr/>
        </p:nvSpPr>
        <p:spPr>
          <a:xfrm>
            <a:off x="5576760" y="236520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147720" y="248436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5"/>
          <p:cNvSpPr/>
          <p:nvPr/>
        </p:nvSpPr>
        <p:spPr>
          <a:xfrm>
            <a:off x="5803920" y="2538360"/>
            <a:ext cx="183960" cy="185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5803920" y="2927520"/>
            <a:ext cx="183960" cy="185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5803920" y="3317760"/>
            <a:ext cx="183960" cy="1843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180120" y="2835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6148440" y="32259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0"/>
          <p:cNvSpPr/>
          <p:nvPr/>
        </p:nvSpPr>
        <p:spPr>
          <a:xfrm>
            <a:off x="5576760" y="4005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967360" y="4089240"/>
            <a:ext cx="17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化之后满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了指标，但由于原理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仿真和版图仿真采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是不同的算法，所以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仿真时依然会出现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符合指标的情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6005520" y="1908000"/>
            <a:ext cx="139212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之后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5724360" y="3573360"/>
            <a:ext cx="197496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 果 分 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5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18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0:14:01Z</dcterms:created>
  <dc:creator>张奔</dc:creator>
  <dc:description/>
  <dc:language>en-US</dc:language>
  <cp:lastModifiedBy>Administrator</cp:lastModifiedBy>
  <dcterms:modified xsi:type="dcterms:W3CDTF">2016-07-25T06:08:39Z</dcterms:modified>
  <cp:revision>13</cp:revision>
  <dc:subject/>
  <dc:title>PowerPoint 演示文稿</dc:title>
</cp:coreProperties>
</file>