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7.png" ContentType="image/png"/>
  <Override PartName="/ppt/media/image45.jpeg" ContentType="image/jpeg"/>
  <Override PartName="/ppt/media/image30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14F-C241-4DB7-A436-A4956A60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5E1-E4B6-4573-9A14-36A5B50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806-D5AB-4313-BFD6-2C077E5A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E47-92A5-495F-B758-B99228F8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3BA-5870-4F4C-B6D6-3BBB48F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7FB-68F7-4919-BDDC-2A1657C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E66-34FE-4283-82AE-C17A67C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23E-BC54-419D-A939-C991D85C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23A-649A-4456-B209-DC25497D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922-18A5-43CF-84F5-5A2028F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AD6-46C3-4FBA-88A8-1C71204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6FA-5382-4D97-A743-BB829D9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C8B-E031-4621-A519-4242BC80CA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34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接连接符 7"/>
            <p:cNvSpPr/>
            <p:nvPr/>
          </p:nvSpPr>
          <p:spPr>
            <a:xfrm flipH="1">
              <a:off x="2732040" y="313380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64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66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0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74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0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83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85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89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393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02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04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17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0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23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26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28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0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32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42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45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48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51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54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5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56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72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3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74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3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5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1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8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23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24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35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37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5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4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5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5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6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6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6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/>
            <a:ahLst/>
            <a:rect l="l" t="t" r="r" b="b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0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83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6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7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8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89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94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96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8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29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31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36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39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41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7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48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0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6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08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11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14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0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1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22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4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38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0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2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64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6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6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6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11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14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17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2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25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29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35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17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741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5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5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 Box 30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68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71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74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77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0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1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82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 Box 2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89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3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01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06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08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0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14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19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24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0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32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4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5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46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0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54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58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62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71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2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73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 Box 4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6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7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7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8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8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8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78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197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0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02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06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09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12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15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18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29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31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2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57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8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59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74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76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8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29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29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29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0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0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0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13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15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19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21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3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25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28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9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0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2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Administrator</cp:lastModifiedBy>
  <dcterms:modified xsi:type="dcterms:W3CDTF">2016-08-02T03:45:4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