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424E7-A78B-4D1B-B845-60640A144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A41DC-F0ED-45B0-82D1-638D1CE1F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191CB-1E14-474E-B4CB-83995466B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18A5D-8959-401A-8355-F2F98A655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B1402-576B-4944-B299-08FC58F2D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DE526-5465-41D0-83A2-80CB434DA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916F9-94CB-4448-AD2A-D5047CC1B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B4AD5-DA02-41DF-B61B-B72DD63DD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A31B8-539D-44B8-81CF-9E2912E35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9A342-B3A7-434E-8093-3B5A5BAE5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359B9-610E-4A29-8991-3C029F3B1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B7CC5-956B-432E-9F4C-FA8D9A429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E77B-82D0-4504-9BD0-D562F16DB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3A56B-FADF-4AA4-9F9B-554674146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669D9-1AB1-44BD-84B7-C6CA74B2B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9EDDE-E3A0-4B0E-9A3B-67D0C19A0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EF7B6-31FB-465B-8AC8-02A1BBC1A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39A4A8-8D61-4963-B037-07F84145FC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09E1AE-3A16-46E2-B6A4-D29E28404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8944E-6AC7-443B-9462-7958986E81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4B62A-73BD-4107-BA00-F64E70D820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D5FB9D-CF48-4715-B7B5-A82ECB506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3862D-2B63-4C2F-9560-0571EA43D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27817-7EAE-4574-BFE9-A6629A0FF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D9BFD-38D4-4163-876C-E5D7D3715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E7CC9-6FB7-4467-8BBE-08A94571C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39590-A728-4055-9CB0-96C78F72A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FFB3A-FB21-4B23-8CAD-B8F0A134FA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48B287-AE94-4D2D-9FCA-E5EE0A07B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F07E03-51C7-4E6D-89CA-B928AD9745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0ED641-B16C-4202-8CF2-492E14C6C9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A729C-09B7-4E16-A15F-35285E447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DA868-0AE3-4FA9-A645-98CBE7F43F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11E26-F669-4CD4-A93D-D7D7365D9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A0B6C3-A979-4839-96B6-B8647F6DE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A32DC-39B8-4A5F-97E6-8DFF61308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74225-5B05-4B1C-ADB4-172F11ABF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88DC8-B279-4D5B-B2B7-F17330B92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9692D-1456-407B-8D1A-E963C29C4E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E65B5-ED1C-4DC1-BF5C-38F12A607E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04CDE-18F7-4686-8E93-42BF61B8D5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64467-4603-47D7-B402-BB5F92E1D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D56281-F841-4EDF-9C29-22958CE4D8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2AC400-9386-403C-AE11-098A230B9A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4C755-456C-4F2A-9A16-89D876EA7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761685-B84F-4C5E-8680-DC5930EC5A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5E6005-6E5D-41E7-AC8F-77ABA365F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61F02B-A8AC-4D27-9DEE-D9D4CECDE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2E0D86-9C07-443F-80C9-7AEC2C80B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53B332-28CB-4D78-A0FD-2C1A689CD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BCFA2-C100-48CA-917D-FB486FF4DD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18FC72-8B87-4A43-AEEF-9BAFD7E60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A9B4F5-5208-4E68-BCBC-9A295AFF6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DF0D50-6B4E-438D-A3E0-99496B2BE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727718-E17A-4399-966E-FD0BE00299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BDF4A-AEE8-46CE-B8BE-ADDD4EF1B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FF7CE4-61C9-4F66-8C1A-5152FE2FDC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A1171-72B8-4A6C-B59D-0A0450AD7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14E1D-C48B-4673-88B4-1196FF54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23F0-B95C-4528-AF76-1243C89DF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FC16-4677-44F5-AB89-DD62C9860A7C}"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C1A8-7E8F-45F3-A6DF-33296D6EFFF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A026-96E3-4552-BC98-B8EA251C07A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693E-205B-4A0F-AE18-BB3CC89F9EC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17CB-F4ED-4D0B-86E5-363CFBDA7B9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职场懒人帮职场懒人帮职场懒人帮职场懒人帮职场懒人帮假字</a:t>
            </a:r>
            <a:endParaRPr b="0" lang="en-US" sz="2000" spc="-1" strike="noStrike">
              <a:solidFill>
                <a:srgbClr val="000000"/>
              </a:solidFill>
              <a:latin typeface="Calibri"/>
            </a:endParaRPr>
          </a:p>
        </p:txBody>
      </p:sp>
      <p:sp>
        <p:nvSpPr>
          <p:cNvPr id="239" name="Text Box 8"/>
          <p:cNvSpPr/>
          <p:nvPr/>
        </p:nvSpPr>
        <p:spPr>
          <a:xfrm>
            <a:off x="639720" y="1917720"/>
            <a:ext cx="10603080" cy="2849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572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31946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629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职场懒人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职场懒人帮职场懒人帮职场懒人帮职场懒人帮职场懒人帮职场懒人帮职场懒人帮职场懒人帮职场懒人帮职场懒人帮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p:txBody>
      </p:sp>
      <p:sp>
        <p:nvSpPr>
          <p:cNvPr id="296" name="Text Box 23"/>
          <p:cNvSpPr/>
          <p:nvPr/>
        </p:nvSpPr>
        <p:spPr>
          <a:xfrm>
            <a:off x="5362560" y="1376280"/>
            <a:ext cx="277020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p:txBody>
      </p:sp>
      <p:sp>
        <p:nvSpPr>
          <p:cNvPr id="297" name="Text Box 24"/>
          <p:cNvSpPr/>
          <p:nvPr/>
        </p:nvSpPr>
        <p:spPr>
          <a:xfrm>
            <a:off x="9634680" y="1378080"/>
            <a:ext cx="2047680" cy="596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假字</a:t>
            </a:r>
            <a:endParaRPr b="0" lang="en-US" sz="1000" spc="-1" strike="noStrike">
              <a:solidFill>
                <a:srgbClr val="000000"/>
              </a:solidFill>
              <a:latin typeface="Calibri"/>
            </a:endParaRPr>
          </a:p>
        </p:txBody>
      </p:sp>
      <p:sp>
        <p:nvSpPr>
          <p:cNvPr id="298" name="Text Box 25"/>
          <p:cNvSpPr/>
          <p:nvPr/>
        </p:nvSpPr>
        <p:spPr>
          <a:xfrm>
            <a:off x="3394080" y="4857840"/>
            <a:ext cx="2770200" cy="71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71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职场懒人帮</a:t>
            </a:r>
            <a:r>
              <a:rPr b="0" lang="zh-CN" sz="1000" spc="-1" strike="noStrike">
                <a:solidFill>
                  <a:srgbClr val="777777"/>
                </a:solidFill>
                <a:latin typeface="Calibri"/>
                <a:ea typeface="微软雅黑"/>
              </a:rPr>
              <a:t>职场懒人帮职场懒人帮职场懒人帮职场懒人帮职场懒人帮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职场懒人帮</a:t>
            </a:r>
            <a:r>
              <a:rPr b="0" lang="zh-CN" sz="1200" spc="-1" strike="noStrike">
                <a:solidFill>
                  <a:srgbClr val="777777"/>
                </a:solidFill>
                <a:latin typeface="Calibri"/>
                <a:ea typeface="微软雅黑"/>
              </a:rPr>
              <a:t>职场懒人帮职场懒人帮职场懒人帮职场懒人帮职场懒人帮职场懒人帮职场懒人帮职场懒人帮</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许敏斌</cp:lastModifiedBy>
  <dcterms:modified xsi:type="dcterms:W3CDTF">2016-03-26T07:21:01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