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347C-F088-4938-ACED-AD29B7E12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33360" y="532368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76C2-6E94-4F60-BFB0-9CCE65A90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3336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361332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90A4-44D9-4207-9952-8249391FE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497320" y="508464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1640" y="508464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333360" y="532368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2497320" y="532368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4661640" y="532368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3B83-013E-492B-8E44-7CD2A6A5E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13A18-7AB3-4445-AC27-2876D1E2B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333360" y="508464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936C5-919E-4775-9466-7A43303C0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53F60-95D0-4042-AAE9-FD8B6DE31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56E69-712F-4EB7-B183-4A0031504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8C5FC-6417-45EA-B55A-9471614C8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33360" y="1884240"/>
            <a:ext cx="82296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30C3C-7750-4798-B9AA-FB7B41029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3336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80E05-3B30-491B-974B-F24C3CBE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333360" y="508464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6B7B-7AEB-4DF7-9375-F5FF46E73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61332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BF479-6E43-4DA7-B3A3-43CF0BFF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33360" y="532368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4F359-B862-4C06-9790-2BBB2A00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3360" y="532368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1AED8-DDA1-4015-9F88-9B7CD0310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3336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361332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1316C-7354-4B21-896C-72E65D70F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2497320" y="508464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61640" y="508464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333360" y="532368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2497320" y="532368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4661640" y="532368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24AE9-777F-4821-972F-74D82AF39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C6B7-AF30-4ABC-8FFD-D424E3077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5554-9898-4CF1-9E48-00014F523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823D-2718-400D-9E44-6A3FEA502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333360" y="1884240"/>
            <a:ext cx="82296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FE8C-660D-4360-BE64-C2819D010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3336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9F79-DB4F-4415-BC36-56600096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361332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6BB8-DA9C-491E-8AC1-46F454F2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333360" y="532368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31B8-3E18-4D94-806D-2EAC19A5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7920" y="-7920"/>
            <a:ext cx="9155160" cy="6870600"/>
          </a:xfrm>
          <a:custGeom>
            <a:avLst/>
            <a:gdLst/>
            <a:ahLst/>
            <a:rect l="l" t="t" r="r" b="b"/>
            <a:pathLst>
              <a:path w="5768" h="4329">
                <a:moveTo>
                  <a:pt x="5766" y="605"/>
                </a:moveTo>
                <a:cubicBezTo>
                  <a:pt x="5767" y="2464"/>
                  <a:pt x="5768" y="4325"/>
                  <a:pt x="5768" y="4325"/>
                </a:cubicBezTo>
                <a:lnTo>
                  <a:pt x="1082" y="4329"/>
                </a:lnTo>
                <a:cubicBezTo>
                  <a:pt x="318" y="3809"/>
                  <a:pt x="9" y="3349"/>
                  <a:pt x="13" y="3351"/>
                </a:cubicBezTo>
                <a:lnTo>
                  <a:pt x="0" y="0"/>
                </a:lnTo>
                <a:lnTo>
                  <a:pt x="2428" y="7"/>
                </a:lnTo>
                <a:cubicBezTo>
                  <a:pt x="2428" y="12"/>
                  <a:pt x="3096" y="401"/>
                  <a:pt x="5766" y="605"/>
                </a:cubicBezTo>
                <a:close/>
              </a:path>
            </a:pathLst>
          </a:custGeom>
          <a:gradFill rotWithShape="0">
            <a:gsLst>
              <a:gs pos="0">
                <a:srgbClr val="fee9de">
                  <a:alpha val="70196"/>
                </a:srgbClr>
              </a:gs>
              <a:gs pos="100000">
                <a:srgbClr val="fdfdf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3240" y="5500800"/>
            <a:ext cx="1440000" cy="1358640"/>
          </a:xfrm>
          <a:custGeom>
            <a:avLst/>
            <a:gdLst/>
            <a:ahLst/>
            <a:rect l="l" t="t" r="r" b="b"/>
            <a:pathLst>
              <a:path w="1089" h="1100">
                <a:moveTo>
                  <a:pt x="0" y="0"/>
                </a:moveTo>
                <a:cubicBezTo>
                  <a:pt x="0" y="550"/>
                  <a:pt x="0" y="1100"/>
                  <a:pt x="0" y="1100"/>
                </a:cubicBezTo>
                <a:lnTo>
                  <a:pt x="1089" y="1100"/>
                </a:lnTo>
                <a:cubicBezTo>
                  <a:pt x="1089" y="1100"/>
                  <a:pt x="596" y="865"/>
                  <a:pt x="0" y="0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27040" y="0"/>
            <a:ext cx="0" cy="591012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77960" y="0"/>
            <a:ext cx="0" cy="6832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830680" y="0"/>
            <a:ext cx="0" cy="68612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983040" y="0"/>
            <a:ext cx="0" cy="68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133960" y="388800"/>
            <a:ext cx="0" cy="64868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286680" y="619200"/>
            <a:ext cx="0" cy="6256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7439040" y="773280"/>
            <a:ext cx="0" cy="610236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591400" y="900000"/>
            <a:ext cx="0" cy="59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 flipH="1">
            <a:off x="0" y="419040"/>
            <a:ext cx="51912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-360" y="154152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-360" y="266544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3240" y="378792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3240" y="491184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693720" y="6035760"/>
            <a:ext cx="842328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4005360" y="2692440"/>
            <a:ext cx="1128600" cy="1079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7459560" y="4937040"/>
            <a:ext cx="112104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549360" y="3808440"/>
            <a:ext cx="1128600" cy="10796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6307200" y="6064200"/>
            <a:ext cx="1128600" cy="7970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2846520" y="0"/>
            <a:ext cx="1128600" cy="404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"/>
          <p:cNvSpPr/>
          <p:nvPr/>
        </p:nvSpPr>
        <p:spPr>
          <a:xfrm>
            <a:off x="2852640" y="4938840"/>
            <a:ext cx="1121040" cy="1079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/>
          <p:nvPr/>
        </p:nvSpPr>
        <p:spPr>
          <a:xfrm>
            <a:off x="6300720" y="1566720"/>
            <a:ext cx="112068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B2CFD-689B-49A3-833D-043FAF49707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4041720" y="0"/>
            <a:ext cx="5105520" cy="739800"/>
          </a:xfrm>
          <a:custGeom>
            <a:avLst/>
            <a:gdLst/>
            <a:ahLst/>
            <a:rect l="l" t="t" r="r" b="b"/>
            <a:pathLst>
              <a:path w="3130" h="453">
                <a:moveTo>
                  <a:pt x="3130" y="453"/>
                </a:moveTo>
                <a:cubicBezTo>
                  <a:pt x="3130" y="226"/>
                  <a:pt x="3130" y="0"/>
                  <a:pt x="3130" y="0"/>
                </a:cubicBezTo>
                <a:lnTo>
                  <a:pt x="0" y="0"/>
                </a:lnTo>
                <a:cubicBezTo>
                  <a:pt x="0" y="0"/>
                  <a:pt x="1298" y="389"/>
                  <a:pt x="3130" y="453"/>
                </a:cubicBez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9" name="" descr=""/>
          <p:cNvPicPr/>
          <p:nvPr/>
        </p:nvPicPr>
        <p:blipFill>
          <a:blip r:embed="rId2"/>
          <a:srcRect l="22412" t="16378" r="0" b="27484"/>
          <a:stretch/>
        </p:blipFill>
        <p:spPr>
          <a:xfrm rot="786600">
            <a:off x="6629400" y="-379080"/>
            <a:ext cx="2417760" cy="1994040"/>
          </a:xfrm>
          <a:prstGeom prst="rect">
            <a:avLst/>
          </a:prstGeom>
          <a:ln w="0">
            <a:noFill/>
          </a:ln>
        </p:spPr>
      </p:pic>
      <p:pic>
        <p:nvPicPr>
          <p:cNvPr id="30" name="" descr=""/>
          <p:cNvPicPr/>
          <p:nvPr/>
        </p:nvPicPr>
        <p:blipFill>
          <a:blip r:embed="rId3"/>
          <a:stretch/>
        </p:blipFill>
        <p:spPr>
          <a:xfrm flipH="1" rot="20740800">
            <a:off x="49320" y="5726160"/>
            <a:ext cx="122400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6048360"/>
            <a:ext cx="2762280" cy="809640"/>
          </a:xfrm>
          <a:custGeom>
            <a:avLst/>
            <a:gdLst/>
            <a:ahLst/>
            <a:rect l="l" t="t" r="r" b="b"/>
            <a:pathLst>
              <a:path w="1740" h="510">
                <a:moveTo>
                  <a:pt x="0" y="0"/>
                </a:moveTo>
                <a:lnTo>
                  <a:pt x="0" y="510"/>
                </a:lnTo>
                <a:cubicBezTo>
                  <a:pt x="0" y="510"/>
                  <a:pt x="870" y="510"/>
                  <a:pt x="1740" y="510"/>
                </a:cubicBezTo>
                <a:cubicBezTo>
                  <a:pt x="1650" y="258"/>
                  <a:pt x="1595" y="30"/>
                  <a:pt x="1595" y="30"/>
                </a:cubicBezTo>
                <a:cubicBezTo>
                  <a:pt x="798" y="54"/>
                  <a:pt x="0" y="0"/>
                  <a:pt x="0" y="0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90920" y="4705200"/>
            <a:ext cx="6400800" cy="2152800"/>
          </a:xfrm>
          <a:custGeom>
            <a:avLst/>
            <a:gdLst/>
            <a:ahLst/>
            <a:rect l="l" t="t" r="r" b="b"/>
            <a:pathLst>
              <a:path w="4032" h="1356">
                <a:moveTo>
                  <a:pt x="1116" y="0"/>
                </a:moveTo>
                <a:cubicBezTo>
                  <a:pt x="2370" y="1254"/>
                  <a:pt x="3840" y="636"/>
                  <a:pt x="3840" y="636"/>
                </a:cubicBezTo>
                <a:cubicBezTo>
                  <a:pt x="4032" y="966"/>
                  <a:pt x="4032" y="1356"/>
                  <a:pt x="4032" y="1356"/>
                </a:cubicBezTo>
                <a:cubicBezTo>
                  <a:pt x="4032" y="1356"/>
                  <a:pt x="2160" y="1356"/>
                  <a:pt x="288" y="1356"/>
                </a:cubicBezTo>
                <a:cubicBezTo>
                  <a:pt x="120" y="1140"/>
                  <a:pt x="0" y="828"/>
                  <a:pt x="0" y="828"/>
                </a:cubicBezTo>
                <a:lnTo>
                  <a:pt x="1116" y="0"/>
                </a:ln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00640" y="781200"/>
            <a:ext cx="4743360" cy="5048280"/>
          </a:xfrm>
          <a:custGeom>
            <a:avLst/>
            <a:gdLst/>
            <a:ahLst/>
            <a:rect l="l" t="t" r="r" b="b"/>
            <a:pathLst>
              <a:path w="2988" h="3180">
                <a:moveTo>
                  <a:pt x="510" y="1098"/>
                </a:moveTo>
                <a:cubicBezTo>
                  <a:pt x="1710" y="840"/>
                  <a:pt x="2280" y="0"/>
                  <a:pt x="2280" y="0"/>
                </a:cubicBezTo>
                <a:cubicBezTo>
                  <a:pt x="2700" y="96"/>
                  <a:pt x="2988" y="342"/>
                  <a:pt x="2988" y="342"/>
                </a:cubicBezTo>
                <a:lnTo>
                  <a:pt x="2988" y="2772"/>
                </a:lnTo>
                <a:cubicBezTo>
                  <a:pt x="2988" y="2772"/>
                  <a:pt x="2202" y="3180"/>
                  <a:pt x="1452" y="3060"/>
                </a:cubicBezTo>
                <a:cubicBezTo>
                  <a:pt x="636" y="2940"/>
                  <a:pt x="0" y="2406"/>
                  <a:pt x="0" y="2406"/>
                </a:cubicBezTo>
                <a:lnTo>
                  <a:pt x="510" y="1098"/>
                </a:lnTo>
                <a:close/>
              </a:path>
            </a:pathLst>
          </a:custGeom>
          <a:solidFill>
            <a:srgbClr val="ff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0"/>
            <a:ext cx="3276720" cy="2409840"/>
          </a:xfrm>
          <a:custGeom>
            <a:avLst/>
            <a:gdLst/>
            <a:ahLst/>
            <a:rect l="l" t="t" r="r" b="b"/>
            <a:pathLst>
              <a:path w="2064" h="1518">
                <a:moveTo>
                  <a:pt x="0" y="0"/>
                </a:moveTo>
                <a:cubicBezTo>
                  <a:pt x="0" y="0"/>
                  <a:pt x="138" y="759"/>
                  <a:pt x="276" y="1518"/>
                </a:cubicBezTo>
                <a:cubicBezTo>
                  <a:pt x="1518" y="1194"/>
                  <a:pt x="2064" y="0"/>
                  <a:pt x="206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6583320" cy="726768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6372360" cy="707220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ee9de"/>
              </a:gs>
              <a:gs pos="100000">
                <a:srgbClr val="fdf8f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1440"/>
            <a:ext cx="0" cy="6015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93840" y="1440"/>
            <a:ext cx="0" cy="6207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338560" y="1440"/>
            <a:ext cx="0" cy="618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382920" y="1440"/>
            <a:ext cx="0" cy="5972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27640" y="1440"/>
            <a:ext cx="0" cy="545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480" y="252360"/>
            <a:ext cx="581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480" y="1317600"/>
            <a:ext cx="600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6120" y="2382840"/>
            <a:ext cx="601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120" y="3449520"/>
            <a:ext cx="580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120" y="4514760"/>
            <a:ext cx="5319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480" y="5581800"/>
            <a:ext cx="4217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62320" y="277920"/>
            <a:ext cx="1012680" cy="1025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5840" y="2427120"/>
            <a:ext cx="101268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71440"/>
            <a:ext cx="25092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32000" y="1440"/>
            <a:ext cx="1012680" cy="235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65200" y="4541760"/>
            <a:ext cx="1009800" cy="1033560"/>
          </a:xfrm>
          <a:custGeom>
            <a:avLst/>
            <a:gdLst/>
            <a:ahLst/>
            <a:rect l="l" t="t" r="r" b="b"/>
            <a:pathLst>
              <a:path w="636" h="651">
                <a:moveTo>
                  <a:pt x="0" y="0"/>
                </a:moveTo>
                <a:lnTo>
                  <a:pt x="0" y="645"/>
                </a:lnTo>
                <a:lnTo>
                  <a:pt x="636" y="651"/>
                </a:lnTo>
                <a:lnTo>
                  <a:pt x="63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5840" y="2435400"/>
            <a:ext cx="1012680" cy="1025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406920"/>
            <a:ext cx="28958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E40A9-C554-4480-B796-E805478E02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6680" y="4714920"/>
            <a:ext cx="127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L/O/G/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8077320" y="0"/>
            <a:ext cx="1075680" cy="6858000"/>
            <a:chOff x="8077320" y="0"/>
            <a:chExt cx="1075680" cy="6858000"/>
          </a:xfrm>
        </p:grpSpPr>
        <p:sp>
          <p:nvSpPr>
            <p:cNvPr id="95" name=""/>
            <p:cNvSpPr/>
            <p:nvPr/>
          </p:nvSpPr>
          <p:spPr>
            <a:xfrm>
              <a:off x="8077320" y="0"/>
              <a:ext cx="1066320" cy="1114560"/>
            </a:xfrm>
            <a:custGeom>
              <a:avLst/>
              <a:gdLst/>
              <a:ahLst/>
              <a:rect l="l" t="t" r="r" b="b"/>
              <a:pathLst>
                <a:path w="672" h="720">
                  <a:moveTo>
                    <a:pt x="0" y="432"/>
                  </a:moveTo>
                  <a:cubicBezTo>
                    <a:pt x="186" y="216"/>
                    <a:pt x="288" y="0"/>
                    <a:pt x="288" y="0"/>
                  </a:cubicBezTo>
                  <a:lnTo>
                    <a:pt x="672" y="0"/>
                  </a:lnTo>
                  <a:lnTo>
                    <a:pt x="672" y="720"/>
                  </a:lnTo>
                  <a:cubicBezTo>
                    <a:pt x="672" y="720"/>
                    <a:pt x="384" y="516"/>
                    <a:pt x="0" y="432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893080" y="5549760"/>
              <a:ext cx="259920" cy="1308240"/>
            </a:xfrm>
            <a:custGeom>
              <a:avLst/>
              <a:gdLst/>
              <a:ahLst/>
              <a:rect l="l" t="t" r="r" b="b"/>
              <a:pathLst>
                <a:path w="212" h="824">
                  <a:moveTo>
                    <a:pt x="206" y="0"/>
                  </a:moveTo>
                  <a:cubicBezTo>
                    <a:pt x="104" y="54"/>
                    <a:pt x="0" y="82"/>
                    <a:pt x="0" y="82"/>
                  </a:cubicBezTo>
                  <a:cubicBezTo>
                    <a:pt x="0" y="82"/>
                    <a:pt x="148" y="378"/>
                    <a:pt x="168" y="824"/>
                  </a:cubicBezTo>
                  <a:lnTo>
                    <a:pt x="212" y="822"/>
                  </a:lnTo>
                  <a:cubicBezTo>
                    <a:pt x="212" y="822"/>
                    <a:pt x="209" y="411"/>
                    <a:pt x="206" y="0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495760" y="1333440"/>
            <a:ext cx="66060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79920" y="1440"/>
            <a:ext cx="0" cy="4238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57880" y="3495600"/>
            <a:ext cx="1012680" cy="1025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rcRect l="22412" t="16378" r="0" b="27484"/>
          <a:stretch/>
        </p:blipFill>
        <p:spPr>
          <a:xfrm rot="393000">
            <a:off x="2666520" y="609480"/>
            <a:ext cx="2664000" cy="21970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196992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br>
              <a:rPr sz="4800"/>
            </a:br>
            <a:r>
              <a:rPr b="1" lang="en-US" sz="4800" spc="-1" strike="noStrike">
                <a:solidFill>
                  <a:srgbClr val="000066"/>
                </a:solidFill>
                <a:latin typeface="Arial"/>
                <a:ea typeface="宋体"/>
              </a:rPr>
              <a:t>PowerTemplat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33360" y="508464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rot="5400000">
            <a:off x="185760" y="3351960"/>
            <a:ext cx="3821400" cy="197172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bfbfbf">
                  <a:alpha val="98039"/>
                </a:srgbClr>
              </a:gs>
              <a:gs pos="50000">
                <a:srgbClr val="f8f8f8"/>
              </a:gs>
              <a:gs pos="100000">
                <a:srgbClr val="bfbfbf">
                  <a:alpha val="98039"/>
                </a:srgbClr>
              </a:gs>
            </a:gsLst>
            <a:lin ang="0"/>
          </a:gradFill>
          <a:ln w="38160">
            <a:solidFill>
              <a:srgbClr val="808080"/>
            </a:solidFill>
            <a:miter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128600" y="4549680"/>
            <a:ext cx="1954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ThemeGalle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is a Design Digital Content &amp; Cont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mall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rot="5400000">
            <a:off x="2512800" y="3351960"/>
            <a:ext cx="3821400" cy="197172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bfbfbf">
                  <a:alpha val="98039"/>
                </a:srgbClr>
              </a:gs>
              <a:gs pos="50000">
                <a:srgbClr val="f8f8f8"/>
              </a:gs>
              <a:gs pos="100000">
                <a:srgbClr val="bfbfbf">
                  <a:alpha val="98039"/>
                </a:srgbClr>
              </a:gs>
            </a:gsLst>
            <a:lin ang="0"/>
          </a:gradFill>
          <a:ln w="38160">
            <a:solidFill>
              <a:srgbClr val="808080"/>
            </a:solidFill>
            <a:miter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456000" y="4549680"/>
            <a:ext cx="1954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ThemeGalle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is a Design Digital Content &amp; Cont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mall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rot="5400000">
            <a:off x="4875480" y="3351960"/>
            <a:ext cx="3821400" cy="197172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bfbfbf">
                  <a:alpha val="98039"/>
                </a:srgbClr>
              </a:gs>
              <a:gs pos="50000">
                <a:srgbClr val="f8f8f8"/>
              </a:gs>
              <a:gs pos="100000">
                <a:srgbClr val="bfbfbf">
                  <a:alpha val="98039"/>
                </a:srgbClr>
              </a:gs>
            </a:gsLst>
            <a:lin ang="0"/>
          </a:gradFill>
          <a:ln w="38160">
            <a:solidFill>
              <a:srgbClr val="808080"/>
            </a:solidFill>
            <a:miter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816520" y="4549680"/>
            <a:ext cx="1955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ThemeGalle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is a Design Digital Content &amp; Cont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mall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6202440" y="2633760"/>
            <a:ext cx="1108080" cy="110808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1477800" y="2633760"/>
            <a:ext cx="1176480" cy="117468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3"/>
          <a:stretch/>
        </p:blipFill>
        <p:spPr>
          <a:xfrm>
            <a:off x="3803760" y="2608200"/>
            <a:ext cx="1191960" cy="119232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1608120" y="2913120"/>
            <a:ext cx="91296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3f11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d13f11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286680" y="2913120"/>
            <a:ext cx="91440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3f11"/>
                </a:solidFill>
                <a:latin typeface="Arial"/>
              </a:rPr>
              <a:t>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933720" y="2913120"/>
            <a:ext cx="91440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3f11"/>
                </a:solidFill>
                <a:latin typeface="Arial"/>
              </a:rPr>
              <a:t>B</a:t>
            </a:r>
            <a:r>
              <a:rPr b="1" lang="en-US" sz="1400" spc="-1" strike="noStrike">
                <a:solidFill>
                  <a:srgbClr val="d13f11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4"/>
          <a:stretch/>
        </p:blipFill>
        <p:spPr>
          <a:xfrm>
            <a:off x="4216320" y="4021200"/>
            <a:ext cx="412920" cy="36360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5"/>
          <a:stretch/>
        </p:blipFill>
        <p:spPr>
          <a:xfrm>
            <a:off x="1847880" y="4021200"/>
            <a:ext cx="412560" cy="36360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6"/>
          <a:stretch/>
        </p:blipFill>
        <p:spPr>
          <a:xfrm>
            <a:off x="6564240" y="4021200"/>
            <a:ext cx="412920" cy="3636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2001960" y="1409760"/>
            <a:ext cx="5308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03440" y="4871880"/>
            <a:ext cx="2143080" cy="1035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353280" y="4870440"/>
            <a:ext cx="2143080" cy="993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369120" y="1771560"/>
            <a:ext cx="2143080" cy="965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2400" y="1747800"/>
            <a:ext cx="2143080" cy="987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708280" y="2003400"/>
            <a:ext cx="1022400" cy="48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H="1" flipV="1" rot="5400000">
            <a:off x="3361320" y="2032200"/>
            <a:ext cx="418680" cy="419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" y="11096"/>
                </a:moveTo>
                <a:arcTo wR="10800" hR="10800" stAng="10705729" swAng="10926193"/>
                <a:lnTo>
                  <a:pt x="10800" y="10800"/>
                </a:lnTo>
                <a:close/>
              </a:path>
              <a:path fill="none" w="21600" h="21600">
                <a:moveTo>
                  <a:pt x="4" y="11096"/>
                </a:moveTo>
                <a:arcTo wR="10800" hR="10800" stAng="10705729" swAng="10926193"/>
              </a:path>
            </a:pathLst>
          </a:custGeom>
          <a:solidFill>
            <a:srgbClr val="a8d02a"/>
          </a:solidFill>
          <a:ln w="0">
            <a:noFill/>
          </a:ln>
          <a:effectLst>
            <a:outerShdw dist="52300" dir="4563564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679840" y="5157720"/>
            <a:ext cx="995400" cy="455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rot="9670200">
            <a:off x="2999160" y="4837320"/>
            <a:ext cx="763560" cy="71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20" y="364"/>
                </a:moveTo>
                <a:arcTo wR="10800" hR="10800" stAng="-6294958" swAng="1879222"/>
                <a:lnTo>
                  <a:pt x="10800" y="10800"/>
                </a:lnTo>
                <a:close/>
              </a:path>
              <a:path fill="none" w="21600" h="21600">
                <a:moveTo>
                  <a:pt x="8020" y="364"/>
                </a:moveTo>
                <a:arcTo wR="10800" hR="10800" stAng="-6294958" swAng="1879222"/>
              </a:path>
            </a:pathLst>
          </a:custGeom>
          <a:solidFill>
            <a:srgbClr val="ffc319"/>
          </a:solidFill>
          <a:ln w="9360">
            <a:solidFill>
              <a:srgbClr val="808080"/>
            </a:solidFill>
            <a:miter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630760" y="5170320"/>
            <a:ext cx="960480" cy="454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648400" y="2036880"/>
            <a:ext cx="95868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rot="5400000">
            <a:off x="5971680" y="5099400"/>
            <a:ext cx="505800" cy="50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226" y="2231"/>
                </a:moveTo>
                <a:arcTo wR="10800" hR="10800" stAng="-7649716" swAng="5638102"/>
                <a:lnTo>
                  <a:pt x="10800" y="10800"/>
                </a:lnTo>
                <a:close/>
              </a:path>
              <a:path fill="none" w="21600" h="21600">
                <a:moveTo>
                  <a:pt x="4226" y="2231"/>
                </a:moveTo>
                <a:arcTo wR="10800" hR="10800" stAng="-7649716" swAng="5638102"/>
              </a:path>
            </a:pathLst>
          </a:custGeom>
          <a:solidFill>
            <a:srgbClr val="ff6600"/>
          </a:solidFill>
          <a:ln w="0">
            <a:noFill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929920" y="2076480"/>
            <a:ext cx="690840" cy="694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12674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126747"/>
              </a:path>
            </a:pathLst>
          </a:custGeom>
          <a:solidFill>
            <a:srgbClr val="ff7575"/>
          </a:solidFill>
          <a:ln w="9360">
            <a:solidFill>
              <a:srgbClr val="ff7575"/>
            </a:solidFill>
            <a:miter/>
          </a:ln>
          <a:effectLst>
            <a:outerShdw dist="81185" dir="2321969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638440" y="203976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540400" y="521028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598840" y="520380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549760" y="208116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820800" y="1793880"/>
            <a:ext cx="17463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800760" y="4906800"/>
            <a:ext cx="16160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63560" y="4944960"/>
            <a:ext cx="1925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834240" y="1793880"/>
            <a:ext cx="1598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3111480" y="2271600"/>
            <a:ext cx="3051360" cy="304488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3111480" y="2276640"/>
            <a:ext cx="3041640" cy="3020760"/>
          </a:xfrm>
          <a:prstGeom prst="ellipse">
            <a:avLst/>
          </a:prstGeom>
          <a:gradFill rotWithShape="0">
            <a:gsLst>
              <a:gs pos="0">
                <a:srgbClr val="000000">
                  <a:alpha val="27058"/>
                </a:srgbClr>
              </a:gs>
              <a:gs pos="50000">
                <a:srgbClr val="fee9de">
                  <a:alpha val="0"/>
                </a:srgbClr>
              </a:gs>
              <a:gs pos="100000">
                <a:srgbClr val="000000">
                  <a:alpha val="27058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111480" y="2271600"/>
            <a:ext cx="3035880" cy="304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9" y="1"/>
                </a:moveTo>
                <a:arcTo wR="10800" hR="10800" stAng="-5451245" swAng="3177992"/>
                <a:lnTo>
                  <a:pt x="10800" y="10800"/>
                </a:lnTo>
                <a:close/>
              </a:path>
              <a:path fill="none" w="21600" h="21600">
                <a:moveTo>
                  <a:pt x="10639" y="1"/>
                </a:moveTo>
                <a:arcTo wR="10800" hR="10800" stAng="-5451245" swAng="3177992"/>
              </a:path>
            </a:pathLst>
          </a:custGeom>
          <a:solidFill>
            <a:srgbClr val="ff7575">
              <a:alpha val="70000"/>
            </a:srgbClr>
          </a:solidFill>
          <a:ln w="9360">
            <a:solidFill>
              <a:srgbClr val="ff75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rot="5400000">
            <a:off x="3118320" y="2272320"/>
            <a:ext cx="3040920" cy="303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032" y="2384"/>
                </a:moveTo>
                <a:arcTo wR="10800" hR="10800" stAng="-7728407" swAng="5716793"/>
                <a:lnTo>
                  <a:pt x="10800" y="10800"/>
                </a:lnTo>
                <a:close/>
              </a:path>
              <a:path fill="none" w="21600" h="21600">
                <a:moveTo>
                  <a:pt x="4032" y="2384"/>
                </a:moveTo>
                <a:arcTo wR="10800" hR="10800" stAng="-7728407" swAng="5716793"/>
              </a:path>
            </a:pathLst>
          </a:custGeom>
          <a:solidFill>
            <a:srgbClr val="ff66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H="1" flipV="1" rot="5400000">
            <a:off x="3112200" y="2265480"/>
            <a:ext cx="3050640" cy="303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" y="11240"/>
                </a:moveTo>
                <a:arcTo wR="10800" hR="10800" stAng="10660061" swAng="10878067"/>
                <a:lnTo>
                  <a:pt x="10800" y="10800"/>
                </a:lnTo>
                <a:close/>
              </a:path>
              <a:path fill="none" w="21600" h="21600">
                <a:moveTo>
                  <a:pt x="9" y="11240"/>
                </a:moveTo>
                <a:arcTo wR="10800" hR="10800" stAng="10660061" swAng="10878067"/>
              </a:path>
            </a:pathLst>
          </a:custGeom>
          <a:solidFill>
            <a:srgbClr val="a8d02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3074400" y="3822480"/>
            <a:ext cx="1738440" cy="1637640"/>
            <a:chOff x="3074400" y="3822480"/>
            <a:chExt cx="1738440" cy="1637640"/>
          </a:xfrm>
        </p:grpSpPr>
        <p:sp>
          <p:nvSpPr>
            <p:cNvPr id="477" name=""/>
            <p:cNvSpPr/>
            <p:nvPr/>
          </p:nvSpPr>
          <p:spPr>
            <a:xfrm flipV="1" rot="19510800">
              <a:off x="3480840" y="3782520"/>
              <a:ext cx="340920" cy="1530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 rot="18694800">
              <a:off x="3635640" y="3984120"/>
              <a:ext cx="340920" cy="1531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 rot="18399600">
              <a:off x="3746880" y="4079160"/>
              <a:ext cx="340920" cy="1530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 rot="17867400">
              <a:off x="3885480" y="4186440"/>
              <a:ext cx="340920" cy="1530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"/>
          <p:cNvSpPr/>
          <p:nvPr/>
        </p:nvSpPr>
        <p:spPr>
          <a:xfrm rot="9670200">
            <a:off x="3115800" y="2269800"/>
            <a:ext cx="3040560" cy="303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20" y="364"/>
                </a:moveTo>
                <a:arcTo wR="10800" hR="10800" stAng="-6294958" swAng="1879222"/>
                <a:lnTo>
                  <a:pt x="10800" y="10800"/>
                </a:lnTo>
                <a:close/>
              </a:path>
              <a:path fill="none" w="21600" h="21600">
                <a:moveTo>
                  <a:pt x="8020" y="364"/>
                </a:moveTo>
                <a:arcTo wR="10800" hR="10800" stAng="-6294958" swAng="1879222"/>
              </a:path>
            </a:pathLst>
          </a:custGeom>
          <a:gradFill rotWithShape="0">
            <a:gsLst>
              <a:gs pos="0">
                <a:srgbClr val="ffc319">
                  <a:alpha val="70196"/>
                </a:srgbClr>
              </a:gs>
              <a:gs pos="100000">
                <a:srgbClr val="75590b"/>
              </a:gs>
            </a:gsLst>
            <a:lin ang="173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14800" y="3284640"/>
            <a:ext cx="1035000" cy="1035000"/>
          </a:xfrm>
          <a:prstGeom prst="ellipse">
            <a:avLst/>
          </a:prstGeom>
          <a:solidFill>
            <a:srgbClr val="fee9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144960" y="3560760"/>
            <a:ext cx="89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340240" y="3740040"/>
            <a:ext cx="6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664160" y="2684520"/>
            <a:ext cx="69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664160" y="4646520"/>
            <a:ext cx="69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4418280" y="2278440"/>
            <a:ext cx="1680120" cy="1389240"/>
            <a:chOff x="4418280" y="2278440"/>
            <a:chExt cx="1680120" cy="1389240"/>
          </a:xfrm>
        </p:grpSpPr>
        <p:grpSp>
          <p:nvGrpSpPr>
            <p:cNvPr id="488" name=""/>
            <p:cNvGrpSpPr/>
            <p:nvPr/>
          </p:nvGrpSpPr>
          <p:grpSpPr>
            <a:xfrm>
              <a:off x="4785840" y="2278440"/>
              <a:ext cx="1312560" cy="1389240"/>
              <a:chOff x="4785840" y="2278440"/>
              <a:chExt cx="1312560" cy="1389240"/>
            </a:xfrm>
          </p:grpSpPr>
          <p:sp>
            <p:nvSpPr>
              <p:cNvPr id="489" name=""/>
              <p:cNvSpPr/>
              <p:nvPr/>
            </p:nvSpPr>
            <p:spPr>
              <a:xfrm flipV="1" rot="8983800">
                <a:off x="5535720" y="2457720"/>
                <a:ext cx="272880" cy="1224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V="1" rot="8167800">
                <a:off x="5425560" y="2285640"/>
                <a:ext cx="272880" cy="1225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V="1" rot="7872600">
                <a:off x="5342400" y="2202840"/>
                <a:ext cx="272880" cy="1224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V="1" rot="7340400">
                <a:off x="5239800" y="2108160"/>
                <a:ext cx="272520" cy="1224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3" name=""/>
            <p:cNvGrpSpPr/>
            <p:nvPr/>
          </p:nvGrpSpPr>
          <p:grpSpPr>
            <a:xfrm>
              <a:off x="4418280" y="2285280"/>
              <a:ext cx="1606320" cy="966960"/>
              <a:chOff x="4418280" y="2285280"/>
              <a:chExt cx="1606320" cy="966960"/>
            </a:xfrm>
          </p:grpSpPr>
          <p:sp>
            <p:nvSpPr>
              <p:cNvPr id="494" name=""/>
              <p:cNvSpPr/>
              <p:nvPr/>
            </p:nvSpPr>
            <p:spPr>
              <a:xfrm flipV="1" rot="7630800">
                <a:off x="5316120" y="2160000"/>
                <a:ext cx="274320" cy="1225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V="1" rot="6814800">
                <a:off x="5148360" y="2043000"/>
                <a:ext cx="274320" cy="122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V="1" rot="6519600">
                <a:off x="5039280" y="1999800"/>
                <a:ext cx="274320" cy="122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V="1" rot="5987400">
                <a:off x="4908240" y="1952280"/>
                <a:ext cx="274320" cy="1225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33320" y="5551560"/>
            <a:ext cx="188604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V="1" rot="16200000">
            <a:off x="1733400" y="5311080"/>
            <a:ext cx="546120" cy="4442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319"/>
              </a:gs>
              <a:gs pos="100000">
                <a:srgbClr val="c093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V="1" rot="16200000">
            <a:off x="936360" y="5130000"/>
            <a:ext cx="908280" cy="4442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cb1fe"/>
              </a:gs>
              <a:gs pos="100000">
                <a:srgbClr val="4585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226880" y="58420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1101600" y="2200320"/>
            <a:ext cx="6857640" cy="1493280"/>
            <a:chOff x="1101600" y="2200320"/>
            <a:chExt cx="6857640" cy="1493280"/>
          </a:xfrm>
        </p:grpSpPr>
        <p:sp>
          <p:nvSpPr>
            <p:cNvPr id="504" name=""/>
            <p:cNvSpPr/>
            <p:nvPr/>
          </p:nvSpPr>
          <p:spPr>
            <a:xfrm>
              <a:off x="1117440" y="2200320"/>
              <a:ext cx="6828480" cy="1442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101600" y="2251440"/>
              <a:ext cx="6857640" cy="1442160"/>
            </a:xfrm>
            <a:prstGeom prst="roundRect">
              <a:avLst>
                <a:gd name="adj" fmla="val 16667"/>
              </a:avLst>
            </a:prstGeom>
            <a:solidFill>
              <a:srgbClr val="f5f5f5"/>
            </a:solidFill>
            <a:ln w="0">
              <a:noFill/>
            </a:ln>
            <a:effectLst>
              <a:outerShdw dist="77353" dir="483752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1495440" y="2290680"/>
            <a:ext cx="1238400" cy="1265040"/>
            <a:chOff x="1495440" y="2290680"/>
            <a:chExt cx="1238400" cy="1265040"/>
          </a:xfrm>
        </p:grpSpPr>
        <p:sp>
          <p:nvSpPr>
            <p:cNvPr id="507" name=""/>
            <p:cNvSpPr/>
            <p:nvPr/>
          </p:nvSpPr>
          <p:spPr>
            <a:xfrm>
              <a:off x="1495440" y="2333160"/>
              <a:ext cx="1238400" cy="1222560"/>
            </a:xfrm>
            <a:prstGeom prst="ellipse">
              <a:avLst/>
            </a:prstGeom>
            <a:solidFill>
              <a:srgbClr val="5cb1fe"/>
            </a:solidFill>
            <a:ln w="63360">
              <a:solidFill>
                <a:srgbClr val="f8f8f8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8" name="" descr=""/>
            <p:cNvPicPr/>
            <p:nvPr/>
          </p:nvPicPr>
          <p:blipFill>
            <a:blip r:embed="rId1"/>
            <a:stretch/>
          </p:blipFill>
          <p:spPr>
            <a:xfrm>
              <a:off x="1600560" y="2290680"/>
              <a:ext cx="1021680" cy="102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9" name=""/>
          <p:cNvSpPr/>
          <p:nvPr/>
        </p:nvSpPr>
        <p:spPr>
          <a:xfrm>
            <a:off x="1764000" y="2779560"/>
            <a:ext cx="6501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995560" y="2693880"/>
            <a:ext cx="696960" cy="443160"/>
          </a:xfrm>
          <a:prstGeom prst="rightArrow">
            <a:avLst>
              <a:gd name="adj1" fmla="val 49380"/>
              <a:gd name="adj2" fmla="val 38852"/>
            </a:avLst>
          </a:prstGeom>
          <a:gradFill rotWithShape="0">
            <a:gsLst>
              <a:gs pos="0">
                <a:srgbClr val="c0c0c0"/>
              </a:gs>
              <a:gs pos="100000">
                <a:srgbClr val="585858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3921120" y="2266920"/>
            <a:ext cx="1238400" cy="1265040"/>
            <a:chOff x="3921120" y="2266920"/>
            <a:chExt cx="1238400" cy="1265040"/>
          </a:xfrm>
        </p:grpSpPr>
        <p:sp>
          <p:nvSpPr>
            <p:cNvPr id="512" name=""/>
            <p:cNvSpPr/>
            <p:nvPr/>
          </p:nvSpPr>
          <p:spPr>
            <a:xfrm>
              <a:off x="3921120" y="2309400"/>
              <a:ext cx="1238400" cy="1222560"/>
            </a:xfrm>
            <a:prstGeom prst="ellipse">
              <a:avLst/>
            </a:prstGeom>
            <a:solidFill>
              <a:srgbClr val="ff7575"/>
            </a:solidFill>
            <a:ln w="63360">
              <a:solidFill>
                <a:srgbClr val="f8f8f8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3" name="" descr=""/>
            <p:cNvPicPr/>
            <p:nvPr/>
          </p:nvPicPr>
          <p:blipFill>
            <a:blip r:embed="rId2"/>
            <a:stretch/>
          </p:blipFill>
          <p:spPr>
            <a:xfrm>
              <a:off x="4026240" y="2266920"/>
              <a:ext cx="1021680" cy="102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4" name=""/>
          <p:cNvSpPr/>
          <p:nvPr/>
        </p:nvSpPr>
        <p:spPr>
          <a:xfrm>
            <a:off x="4187880" y="2757600"/>
            <a:ext cx="6501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292720" y="2709720"/>
            <a:ext cx="696960" cy="441360"/>
          </a:xfrm>
          <a:prstGeom prst="rightArrow">
            <a:avLst>
              <a:gd name="adj1" fmla="val 49380"/>
              <a:gd name="adj2" fmla="val 39010"/>
            </a:avLst>
          </a:prstGeom>
          <a:gradFill rotWithShape="0">
            <a:gsLst>
              <a:gs pos="0">
                <a:srgbClr val="c0c0c0"/>
              </a:gs>
              <a:gs pos="100000">
                <a:srgbClr val="585858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6372360" y="2266920"/>
            <a:ext cx="1236600" cy="1265040"/>
            <a:chOff x="6372360" y="2266920"/>
            <a:chExt cx="1236600" cy="1265040"/>
          </a:xfrm>
        </p:grpSpPr>
        <p:sp>
          <p:nvSpPr>
            <p:cNvPr id="517" name=""/>
            <p:cNvSpPr/>
            <p:nvPr/>
          </p:nvSpPr>
          <p:spPr>
            <a:xfrm>
              <a:off x="6372360" y="2309400"/>
              <a:ext cx="1236600" cy="1222560"/>
            </a:xfrm>
            <a:prstGeom prst="ellipse">
              <a:avLst/>
            </a:prstGeom>
            <a:solidFill>
              <a:srgbClr val="ffc319"/>
            </a:solidFill>
            <a:ln w="63360">
              <a:solidFill>
                <a:srgbClr val="f8f8f8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8" name="" descr=""/>
            <p:cNvPicPr/>
            <p:nvPr/>
          </p:nvPicPr>
          <p:blipFill>
            <a:blip r:embed="rId3"/>
            <a:stretch/>
          </p:blipFill>
          <p:spPr>
            <a:xfrm>
              <a:off x="6477120" y="2266920"/>
              <a:ext cx="1020240" cy="102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"/>
          <p:cNvSpPr/>
          <p:nvPr/>
        </p:nvSpPr>
        <p:spPr>
          <a:xfrm>
            <a:off x="6637680" y="2757600"/>
            <a:ext cx="6501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433680" y="5551560"/>
            <a:ext cx="188604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V="1" rot="16200000">
            <a:off x="4255560" y="5130000"/>
            <a:ext cx="90828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319"/>
              </a:gs>
              <a:gs pos="100000">
                <a:srgbClr val="c093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V="1" rot="16200000">
            <a:off x="3376800" y="4881600"/>
            <a:ext cx="142740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cb1fe"/>
              </a:gs>
              <a:gs pos="100000">
                <a:srgbClr val="4585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045120" y="5551560"/>
            <a:ext cx="188460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V="1" rot="16200000">
            <a:off x="6641640" y="4914720"/>
            <a:ext cx="133992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319"/>
              </a:gs>
              <a:gs pos="100000">
                <a:srgbClr val="c093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V="1" rot="16200000">
            <a:off x="5753520" y="4637160"/>
            <a:ext cx="1895400" cy="4431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cb1fe"/>
              </a:gs>
              <a:gs pos="100000">
                <a:srgbClr val="4585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941640" y="58420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575400" y="58420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603440" y="454824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243160" y="5005440"/>
            <a:ext cx="15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356000" y="4361040"/>
            <a:ext cx="15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938840" y="4869000"/>
            <a:ext cx="14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959520" y="3906720"/>
            <a:ext cx="16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597800" y="4435560"/>
            <a:ext cx="13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197000" y="1484280"/>
            <a:ext cx="553860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rot="5400000">
            <a:off x="741240" y="380340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828720" y="3726000"/>
            <a:ext cx="2006640" cy="480960"/>
          </a:xfrm>
          <a:custGeom>
            <a:avLst/>
            <a:gdLst/>
            <a:ahLst/>
            <a:rect l="l" t="t" r="r" b="b"/>
            <a:pathLst>
              <a:path w="1270" h="303">
                <a:moveTo>
                  <a:pt x="5" y="303"/>
                </a:moveTo>
                <a:cubicBezTo>
                  <a:pt x="5" y="303"/>
                  <a:pt x="0" y="253"/>
                  <a:pt x="21" y="177"/>
                </a:cubicBezTo>
                <a:cubicBezTo>
                  <a:pt x="48" y="130"/>
                  <a:pt x="69" y="44"/>
                  <a:pt x="172" y="22"/>
                </a:cubicBezTo>
                <a:cubicBezTo>
                  <a:pt x="275" y="0"/>
                  <a:pt x="235" y="13"/>
                  <a:pt x="361" y="11"/>
                </a:cubicBezTo>
                <a:cubicBezTo>
                  <a:pt x="487" y="9"/>
                  <a:pt x="813" y="12"/>
                  <a:pt x="932" y="12"/>
                </a:cubicBezTo>
                <a:cubicBezTo>
                  <a:pt x="1050" y="12"/>
                  <a:pt x="998" y="2"/>
                  <a:pt x="1070" y="14"/>
                </a:cubicBezTo>
                <a:cubicBezTo>
                  <a:pt x="1143" y="26"/>
                  <a:pt x="1215" y="84"/>
                  <a:pt x="1260" y="189"/>
                </a:cubicBezTo>
                <a:cubicBezTo>
                  <a:pt x="1270" y="262"/>
                  <a:pt x="1266" y="302"/>
                  <a:pt x="1266" y="302"/>
                </a:cubicBezTo>
                <a:lnTo>
                  <a:pt x="5" y="303"/>
                </a:lnTo>
                <a:close/>
              </a:path>
            </a:pathLst>
          </a:custGeom>
          <a:solidFill>
            <a:srgbClr val="ff757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094400" y="38131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817560" y="440388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rot="5400000">
            <a:off x="3484440" y="380340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576600" y="3724200"/>
            <a:ext cx="2001960" cy="480960"/>
          </a:xfrm>
          <a:custGeom>
            <a:avLst/>
            <a:gdLst/>
            <a:ahLst/>
            <a:rect l="l" t="t" r="r" b="b"/>
            <a:pathLst>
              <a:path w="1261" h="303">
                <a:moveTo>
                  <a:pt x="6" y="297"/>
                </a:moveTo>
                <a:cubicBezTo>
                  <a:pt x="6" y="297"/>
                  <a:pt x="0" y="225"/>
                  <a:pt x="18" y="174"/>
                </a:cubicBezTo>
                <a:cubicBezTo>
                  <a:pt x="36" y="123"/>
                  <a:pt x="105" y="45"/>
                  <a:pt x="171" y="30"/>
                </a:cubicBezTo>
                <a:cubicBezTo>
                  <a:pt x="237" y="15"/>
                  <a:pt x="227" y="16"/>
                  <a:pt x="352" y="13"/>
                </a:cubicBezTo>
                <a:cubicBezTo>
                  <a:pt x="477" y="10"/>
                  <a:pt x="804" y="10"/>
                  <a:pt x="922" y="10"/>
                </a:cubicBezTo>
                <a:cubicBezTo>
                  <a:pt x="1039" y="10"/>
                  <a:pt x="988" y="0"/>
                  <a:pt x="1061" y="12"/>
                </a:cubicBezTo>
                <a:cubicBezTo>
                  <a:pt x="1133" y="24"/>
                  <a:pt x="1206" y="83"/>
                  <a:pt x="1251" y="190"/>
                </a:cubicBezTo>
                <a:cubicBezTo>
                  <a:pt x="1261" y="263"/>
                  <a:pt x="1257" y="303"/>
                  <a:pt x="1257" y="303"/>
                </a:cubicBezTo>
                <a:lnTo>
                  <a:pt x="6" y="297"/>
                </a:lnTo>
                <a:close/>
              </a:path>
            </a:pathLst>
          </a:custGeom>
          <a:solidFill>
            <a:srgbClr val="ffc31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837600" y="38131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560760" y="440388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rot="5400000">
            <a:off x="6189480" y="380340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276960" y="3743280"/>
            <a:ext cx="2000160" cy="463680"/>
          </a:xfrm>
          <a:custGeom>
            <a:avLst/>
            <a:gdLst/>
            <a:ahLst/>
            <a:rect l="l" t="t" r="r" b="b"/>
            <a:pathLst>
              <a:path w="1260" h="292">
                <a:moveTo>
                  <a:pt x="5" y="292"/>
                </a:moveTo>
                <a:cubicBezTo>
                  <a:pt x="0" y="270"/>
                  <a:pt x="16" y="49"/>
                  <a:pt x="192" y="0"/>
                </a:cubicBezTo>
                <a:lnTo>
                  <a:pt x="1060" y="0"/>
                </a:lnTo>
                <a:cubicBezTo>
                  <a:pt x="1241" y="48"/>
                  <a:pt x="1260" y="186"/>
                  <a:pt x="1254" y="291"/>
                </a:cubicBezTo>
                <a:lnTo>
                  <a:pt x="5" y="292"/>
                </a:lnTo>
                <a:close/>
              </a:path>
            </a:pathLst>
          </a:custGeom>
          <a:solidFill>
            <a:srgbClr val="a8d02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590160" y="37846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265800" y="440388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3378240" y="1771560"/>
            <a:ext cx="2382840" cy="538200"/>
            <a:chOff x="3378240" y="1771560"/>
            <a:chExt cx="2382840" cy="538200"/>
          </a:xfrm>
        </p:grpSpPr>
        <p:sp>
          <p:nvSpPr>
            <p:cNvPr id="549" name=""/>
            <p:cNvSpPr/>
            <p:nvPr/>
          </p:nvSpPr>
          <p:spPr>
            <a:xfrm>
              <a:off x="3378240" y="1771560"/>
              <a:ext cx="23828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406680" y="1801800"/>
              <a:ext cx="23259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319">
                    <a:alpha val="90196"/>
                  </a:srgbClr>
                </a:gs>
                <a:gs pos="50000">
                  <a:srgbClr val="fee9b0"/>
                </a:gs>
                <a:gs pos="100000">
                  <a:srgbClr val="ffc319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3848760" y="1841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6105600" y="1771560"/>
            <a:ext cx="2384280" cy="538200"/>
            <a:chOff x="6105600" y="1771560"/>
            <a:chExt cx="2384280" cy="538200"/>
          </a:xfrm>
        </p:grpSpPr>
        <p:sp>
          <p:nvSpPr>
            <p:cNvPr id="553" name=""/>
            <p:cNvSpPr/>
            <p:nvPr/>
          </p:nvSpPr>
          <p:spPr>
            <a:xfrm>
              <a:off x="6105600" y="177156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135840" y="1801800"/>
              <a:ext cx="23241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8d02a">
                    <a:alpha val="90196"/>
                  </a:srgbClr>
                </a:gs>
                <a:gs pos="50000">
                  <a:srgbClr val="e0eeb6"/>
                </a:gs>
                <a:gs pos="100000">
                  <a:srgbClr val="a8d02a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6578280" y="1841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685800" y="1771560"/>
            <a:ext cx="2384280" cy="538200"/>
            <a:chOff x="685800" y="1771560"/>
            <a:chExt cx="2384280" cy="538200"/>
          </a:xfrm>
        </p:grpSpPr>
        <p:sp>
          <p:nvSpPr>
            <p:cNvPr id="557" name=""/>
            <p:cNvSpPr/>
            <p:nvPr/>
          </p:nvSpPr>
          <p:spPr>
            <a:xfrm>
              <a:off x="685800" y="177156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2a2a"/>
                </a:gs>
                <a:gs pos="50000">
                  <a:srgbClr val="ff7575"/>
                </a:gs>
                <a:gs pos="100000">
                  <a:srgbClr val="5b2a2a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16040" y="1801800"/>
              <a:ext cx="23241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7575">
                    <a:alpha val="90196"/>
                  </a:srgbClr>
                </a:gs>
                <a:gs pos="50000">
                  <a:srgbClr val="fecfcf"/>
                </a:gs>
                <a:gs pos="100000">
                  <a:srgbClr val="ff7575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1158840" y="1841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871560" y="232416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7575"/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3538440" y="232416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c319"/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6281640" y="232416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8d02a"/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887480" y="3041640"/>
            <a:ext cx="2097000" cy="2016000"/>
          </a:xfrm>
          <a:custGeom>
            <a:avLst/>
            <a:gdLst/>
            <a:ahLst/>
            <a:rect l="l" t="t" r="r" b="b"/>
            <a:pathLst>
              <a:path w="1335" h="1479">
                <a:moveTo>
                  <a:pt x="763" y="102"/>
                </a:moveTo>
                <a:cubicBezTo>
                  <a:pt x="920" y="0"/>
                  <a:pt x="1137" y="178"/>
                  <a:pt x="1209" y="244"/>
                </a:cubicBezTo>
                <a:cubicBezTo>
                  <a:pt x="1281" y="310"/>
                  <a:pt x="1335" y="312"/>
                  <a:pt x="1325" y="314"/>
                </a:cubicBezTo>
                <a:cubicBezTo>
                  <a:pt x="1262" y="339"/>
                  <a:pt x="1010" y="74"/>
                  <a:pt x="843" y="267"/>
                </a:cubicBezTo>
                <a:cubicBezTo>
                  <a:pt x="554" y="534"/>
                  <a:pt x="389" y="1337"/>
                  <a:pt x="305" y="1479"/>
                </a:cubicBezTo>
                <a:lnTo>
                  <a:pt x="0" y="1303"/>
                </a:lnTo>
                <a:cubicBezTo>
                  <a:pt x="76" y="1074"/>
                  <a:pt x="398" y="270"/>
                  <a:pt x="763" y="102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4979880" y="3087720"/>
            <a:ext cx="2097360" cy="2016000"/>
          </a:xfrm>
          <a:custGeom>
            <a:avLst/>
            <a:gdLst/>
            <a:ahLst/>
            <a:rect l="l" t="t" r="r" b="b"/>
            <a:pathLst>
              <a:path w="1335" h="1479">
                <a:moveTo>
                  <a:pt x="763" y="102"/>
                </a:moveTo>
                <a:cubicBezTo>
                  <a:pt x="920" y="0"/>
                  <a:pt x="1137" y="178"/>
                  <a:pt x="1209" y="244"/>
                </a:cubicBezTo>
                <a:cubicBezTo>
                  <a:pt x="1281" y="310"/>
                  <a:pt x="1335" y="312"/>
                  <a:pt x="1325" y="314"/>
                </a:cubicBezTo>
                <a:cubicBezTo>
                  <a:pt x="1262" y="339"/>
                  <a:pt x="1010" y="74"/>
                  <a:pt x="843" y="267"/>
                </a:cubicBezTo>
                <a:cubicBezTo>
                  <a:pt x="554" y="534"/>
                  <a:pt x="389" y="1337"/>
                  <a:pt x="305" y="1479"/>
                </a:cubicBezTo>
                <a:lnTo>
                  <a:pt x="0" y="1303"/>
                </a:lnTo>
                <a:cubicBezTo>
                  <a:pt x="76" y="1074"/>
                  <a:pt x="398" y="270"/>
                  <a:pt x="763" y="102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202280" y="3036960"/>
            <a:ext cx="625320" cy="2103480"/>
          </a:xfrm>
          <a:custGeom>
            <a:avLst/>
            <a:gdLst/>
            <a:ahLst/>
            <a:rect l="l" t="t" r="r" b="b"/>
            <a:pathLst>
              <a:path w="398" h="1542">
                <a:moveTo>
                  <a:pt x="229" y="318"/>
                </a:moveTo>
                <a:cubicBezTo>
                  <a:pt x="169" y="114"/>
                  <a:pt x="110" y="0"/>
                  <a:pt x="80" y="240"/>
                </a:cubicBezTo>
                <a:cubicBezTo>
                  <a:pt x="50" y="480"/>
                  <a:pt x="0" y="1379"/>
                  <a:pt x="10" y="1542"/>
                </a:cubicBezTo>
                <a:lnTo>
                  <a:pt x="362" y="1525"/>
                </a:lnTo>
                <a:cubicBezTo>
                  <a:pt x="398" y="1321"/>
                  <a:pt x="289" y="522"/>
                  <a:pt x="229" y="318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990720" y="4438800"/>
            <a:ext cx="1749240" cy="173340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065240" y="4518000"/>
            <a:ext cx="1595520" cy="158292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4f4f4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1122480" y="4575240"/>
            <a:ext cx="1492200" cy="145728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/>
          <p:nvPr/>
        </p:nvSpPr>
        <p:spPr>
          <a:xfrm>
            <a:off x="1122480" y="4575240"/>
            <a:ext cx="1482480" cy="1460520"/>
          </a:xfrm>
          <a:prstGeom prst="ellipse">
            <a:avLst/>
          </a:prstGeom>
          <a:gradFill rotWithShape="0">
            <a:gsLst>
              <a:gs pos="0">
                <a:srgbClr val="182e42">
                  <a:alpha val="90196"/>
                </a:srgbClr>
              </a:gs>
              <a:gs pos="50000">
                <a:srgbClr val="5cb1fe">
                  <a:alpha val="45098"/>
                </a:srgbClr>
              </a:gs>
              <a:gs pos="100000">
                <a:srgbClr val="182e42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083280" y="4438800"/>
            <a:ext cx="1747800" cy="173340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156360" y="4518000"/>
            <a:ext cx="1596960" cy="158292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4f4f4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2"/>
          <a:stretch/>
        </p:blipFill>
        <p:spPr>
          <a:xfrm>
            <a:off x="6215040" y="4575240"/>
            <a:ext cx="1490760" cy="145728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6215040" y="4575240"/>
            <a:ext cx="1481040" cy="1460520"/>
          </a:xfrm>
          <a:prstGeom prst="ellipse">
            <a:avLst/>
          </a:prstGeom>
          <a:gradFill rotWithShape="0">
            <a:gsLst>
              <a:gs pos="0">
                <a:srgbClr val="2b360a">
                  <a:alpha val="90196"/>
                </a:srgbClr>
              </a:gs>
              <a:gs pos="50000">
                <a:srgbClr val="a8d02a">
                  <a:alpha val="45098"/>
                </a:srgbClr>
              </a:gs>
              <a:gs pos="100000">
                <a:srgbClr val="2b360a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6320520" y="5586480"/>
            <a:ext cx="1310040" cy="522000"/>
            <a:chOff x="6320520" y="5586480"/>
            <a:chExt cx="1310040" cy="522000"/>
          </a:xfrm>
        </p:grpSpPr>
        <p:grpSp>
          <p:nvGrpSpPr>
            <p:cNvPr id="576" name=""/>
            <p:cNvGrpSpPr/>
            <p:nvPr/>
          </p:nvGrpSpPr>
          <p:grpSpPr>
            <a:xfrm>
              <a:off x="6549120" y="5586480"/>
              <a:ext cx="1081440" cy="491040"/>
              <a:chOff x="6549120" y="5586480"/>
              <a:chExt cx="1081440" cy="491040"/>
            </a:xfrm>
          </p:grpSpPr>
          <p:sp>
            <p:nvSpPr>
              <p:cNvPr id="577" name=""/>
              <p:cNvSpPr/>
              <p:nvPr/>
            </p:nvSpPr>
            <p:spPr>
              <a:xfrm flipH="1" flipV="1" rot="3964800">
                <a:off x="7138440" y="5439240"/>
                <a:ext cx="189360" cy="784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H="1" flipV="1" rot="4780200">
                <a:off x="7017120" y="5487120"/>
                <a:ext cx="18900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H="1" flipV="1" rot="5076000">
                <a:off x="6941880" y="5496480"/>
                <a:ext cx="18936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H="1" flipV="1" rot="5608200">
                <a:off x="6852240" y="550620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6320520" y="5592600"/>
              <a:ext cx="1079640" cy="515880"/>
              <a:chOff x="6320520" y="5592600"/>
              <a:chExt cx="1079640" cy="515880"/>
            </a:xfrm>
          </p:grpSpPr>
          <p:sp>
            <p:nvSpPr>
              <p:cNvPr id="582" name=""/>
              <p:cNvSpPr/>
              <p:nvPr/>
            </p:nvSpPr>
            <p:spPr>
              <a:xfrm flipH="1" flipV="1" rot="5317800">
                <a:off x="6909120" y="550476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H="1" flipV="1" rot="6133800">
                <a:off x="6779160" y="550296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 flipV="1" rot="6429000">
                <a:off x="6706440" y="548388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H="1" flipV="1" rot="6961200">
                <a:off x="6619680" y="545724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6" name=""/>
          <p:cNvSpPr/>
          <p:nvPr/>
        </p:nvSpPr>
        <p:spPr>
          <a:xfrm>
            <a:off x="3611520" y="4438800"/>
            <a:ext cx="1747800" cy="173340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684600" y="4518000"/>
            <a:ext cx="1596960" cy="158292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4f4f4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" descr=""/>
          <p:cNvPicPr/>
          <p:nvPr/>
        </p:nvPicPr>
        <p:blipFill>
          <a:blip r:embed="rId3"/>
          <a:stretch/>
        </p:blipFill>
        <p:spPr>
          <a:xfrm>
            <a:off x="3743280" y="4575240"/>
            <a:ext cx="1490760" cy="1457280"/>
          </a:xfrm>
          <a:prstGeom prst="rect">
            <a:avLst/>
          </a:prstGeom>
          <a:ln w="0">
            <a:noFill/>
          </a:ln>
        </p:spPr>
      </p:pic>
      <p:sp>
        <p:nvSpPr>
          <p:cNvPr id="589" name=""/>
          <p:cNvSpPr/>
          <p:nvPr/>
        </p:nvSpPr>
        <p:spPr>
          <a:xfrm>
            <a:off x="3743280" y="4575240"/>
            <a:ext cx="1481040" cy="1460520"/>
          </a:xfrm>
          <a:prstGeom prst="ellipse">
            <a:avLst/>
          </a:prstGeom>
          <a:gradFill rotWithShape="0">
            <a:gsLst>
              <a:gs pos="0">
                <a:srgbClr val="423306">
                  <a:alpha val="90196"/>
                </a:srgbClr>
              </a:gs>
              <a:gs pos="50000">
                <a:srgbClr val="ffc319">
                  <a:alpha val="45098"/>
                </a:srgbClr>
              </a:gs>
              <a:gs pos="100000">
                <a:srgbClr val="423306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3848760" y="5586480"/>
            <a:ext cx="1310040" cy="522000"/>
            <a:chOff x="3848760" y="5586480"/>
            <a:chExt cx="1310040" cy="522000"/>
          </a:xfrm>
        </p:grpSpPr>
        <p:grpSp>
          <p:nvGrpSpPr>
            <p:cNvPr id="591" name=""/>
            <p:cNvGrpSpPr/>
            <p:nvPr/>
          </p:nvGrpSpPr>
          <p:grpSpPr>
            <a:xfrm>
              <a:off x="4077360" y="5586480"/>
              <a:ext cx="1081440" cy="491040"/>
              <a:chOff x="4077360" y="5586480"/>
              <a:chExt cx="1081440" cy="491040"/>
            </a:xfrm>
          </p:grpSpPr>
          <p:sp>
            <p:nvSpPr>
              <p:cNvPr id="592" name=""/>
              <p:cNvSpPr/>
              <p:nvPr/>
            </p:nvSpPr>
            <p:spPr>
              <a:xfrm flipH="1" flipV="1" rot="3964800">
                <a:off x="4666680" y="5439240"/>
                <a:ext cx="189360" cy="784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H="1" flipV="1" rot="4780200">
                <a:off x="4545360" y="5487120"/>
                <a:ext cx="18900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 flipV="1" rot="5076000">
                <a:off x="4470120" y="5496480"/>
                <a:ext cx="18936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H="1" flipV="1" rot="5608200">
                <a:off x="4380480" y="550620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3848760" y="5592600"/>
              <a:ext cx="1079640" cy="515880"/>
              <a:chOff x="3848760" y="5592600"/>
              <a:chExt cx="1079640" cy="515880"/>
            </a:xfrm>
          </p:grpSpPr>
          <p:sp>
            <p:nvSpPr>
              <p:cNvPr id="597" name=""/>
              <p:cNvSpPr/>
              <p:nvPr/>
            </p:nvSpPr>
            <p:spPr>
              <a:xfrm flipH="1" flipV="1" rot="5317800">
                <a:off x="4437360" y="550476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H="1" flipV="1" rot="6133800">
                <a:off x="4307400" y="550296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H="1" flipV="1" rot="6429000">
                <a:off x="4234680" y="548388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 flipV="1" rot="6961200">
                <a:off x="4147920" y="545724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1" name=""/>
          <p:cNvSpPr/>
          <p:nvPr/>
        </p:nvSpPr>
        <p:spPr>
          <a:xfrm>
            <a:off x="3863160" y="51274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215360" y="51274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339600" y="51274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633680" y="2448000"/>
            <a:ext cx="619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216800" y="5586480"/>
            <a:ext cx="1310040" cy="522000"/>
            <a:chOff x="1216800" y="5586480"/>
            <a:chExt cx="1310040" cy="522000"/>
          </a:xfrm>
        </p:grpSpPr>
        <p:grpSp>
          <p:nvGrpSpPr>
            <p:cNvPr id="606" name=""/>
            <p:cNvGrpSpPr/>
            <p:nvPr/>
          </p:nvGrpSpPr>
          <p:grpSpPr>
            <a:xfrm>
              <a:off x="1445400" y="5586480"/>
              <a:ext cx="1081440" cy="491040"/>
              <a:chOff x="1445400" y="5586480"/>
              <a:chExt cx="1081440" cy="491040"/>
            </a:xfrm>
          </p:grpSpPr>
          <p:sp>
            <p:nvSpPr>
              <p:cNvPr id="607" name=""/>
              <p:cNvSpPr/>
              <p:nvPr/>
            </p:nvSpPr>
            <p:spPr>
              <a:xfrm flipH="1" flipV="1" rot="3964800">
                <a:off x="2034720" y="5439240"/>
                <a:ext cx="189360" cy="784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H="1" flipV="1" rot="4780200">
                <a:off x="1913400" y="5487120"/>
                <a:ext cx="18900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H="1" flipV="1" rot="5076000">
                <a:off x="1838160" y="5496480"/>
                <a:ext cx="18936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 flipV="1" rot="5608200">
                <a:off x="1748520" y="550620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1216800" y="5592600"/>
              <a:ext cx="1079640" cy="515880"/>
              <a:chOff x="1216800" y="5592600"/>
              <a:chExt cx="1079640" cy="515880"/>
            </a:xfrm>
          </p:grpSpPr>
          <p:sp>
            <p:nvSpPr>
              <p:cNvPr id="612" name=""/>
              <p:cNvSpPr/>
              <p:nvPr/>
            </p:nvSpPr>
            <p:spPr>
              <a:xfrm flipH="1" flipV="1" rot="5317800">
                <a:off x="1805400" y="550476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 flipV="1" rot="6133800">
                <a:off x="1675440" y="550296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 flipV="1" rot="6429000">
                <a:off x="1602720" y="548388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 flipV="1" rot="6961200">
                <a:off x="1515960" y="545724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6" name=""/>
          <p:cNvGrpSpPr/>
          <p:nvPr/>
        </p:nvGrpSpPr>
        <p:grpSpPr>
          <a:xfrm>
            <a:off x="2286000" y="1495440"/>
            <a:ext cx="4266720" cy="617400"/>
            <a:chOff x="2286000" y="1495440"/>
            <a:chExt cx="4266720" cy="617400"/>
          </a:xfrm>
        </p:grpSpPr>
        <p:grpSp>
          <p:nvGrpSpPr>
            <p:cNvPr id="617" name=""/>
            <p:cNvGrpSpPr/>
            <p:nvPr/>
          </p:nvGrpSpPr>
          <p:grpSpPr>
            <a:xfrm>
              <a:off x="2286000" y="1495440"/>
              <a:ext cx="4266720" cy="617400"/>
              <a:chOff x="2286000" y="1495440"/>
              <a:chExt cx="4266720" cy="617400"/>
            </a:xfrm>
          </p:grpSpPr>
          <p:sp>
            <p:nvSpPr>
              <p:cNvPr id="618" name=""/>
              <p:cNvSpPr/>
              <p:nvPr/>
            </p:nvSpPr>
            <p:spPr>
              <a:xfrm>
                <a:off x="2286000" y="1495440"/>
                <a:ext cx="4266720" cy="617400"/>
              </a:xfrm>
              <a:prstGeom prst="roundRect">
                <a:avLst>
                  <a:gd name="adj" fmla="val 50000"/>
                </a:avLst>
              </a:prstGeom>
              <a:solidFill>
                <a:srgbClr val="fcfcfc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348640" y="1548000"/>
                <a:ext cx="4132440" cy="520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49"/>
                  </a:gs>
                  <a:gs pos="50000">
                    <a:srgbClr val="000066">
                      <a:alpha val="90196"/>
                    </a:srgbClr>
                  </a:gs>
                  <a:gs pos="100000">
                    <a:srgbClr val="00004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0" name=""/>
            <p:cNvSpPr/>
            <p:nvPr/>
          </p:nvSpPr>
          <p:spPr>
            <a:xfrm>
              <a:off x="2638440" y="1690560"/>
              <a:ext cx="355752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1819080" y="861840"/>
            <a:ext cx="4983480" cy="3741840"/>
            <a:chOff x="1819080" y="861840"/>
            <a:chExt cx="4983480" cy="3741840"/>
          </a:xfrm>
        </p:grpSpPr>
        <p:sp>
          <p:nvSpPr>
            <p:cNvPr id="623" name=""/>
            <p:cNvSpPr/>
            <p:nvPr/>
          </p:nvSpPr>
          <p:spPr>
            <a:xfrm>
              <a:off x="2850840" y="3392640"/>
              <a:ext cx="3765600" cy="883800"/>
            </a:xfrm>
            <a:prstGeom prst="ellipse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00000">
                    <a:alpha val="6000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20601600">
              <a:off x="2359800" y="1983240"/>
              <a:ext cx="3900960" cy="201132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dada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20601600">
              <a:off x="2398320" y="1875960"/>
              <a:ext cx="3765600" cy="19486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20601600">
              <a:off x="2341440" y="1869840"/>
              <a:ext cx="3857400" cy="195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ff7575"/>
                </a:gs>
                <a:gs pos="100000">
                  <a:srgbClr val="fea6a6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 rot="20602200">
              <a:off x="2377800" y="1863360"/>
              <a:ext cx="3819600" cy="196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5cb1fe"/>
                </a:gs>
                <a:gs pos="100000">
                  <a:srgbClr val="3f7bb0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20601600">
              <a:off x="2344320" y="1874160"/>
              <a:ext cx="3845520" cy="189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79" y="1186"/>
                  </a:moveTo>
                  <a:arcTo wR="10800" hR="10800" stAng="-7026499" swAng="420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5879" y="1186"/>
                  </a:moveTo>
                  <a:arcTo wR="10800" hR="10800" stAng="-7026499" swAng="4201110"/>
                </a:path>
              </a:pathLst>
            </a:custGeom>
            <a:gradFill rotWithShape="0">
              <a:gsLst>
                <a:gs pos="0">
                  <a:srgbClr val="b88c12"/>
                </a:gs>
                <a:gs pos="100000">
                  <a:srgbClr val="ffc319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 rot="20602200">
              <a:off x="2352600" y="1868400"/>
              <a:ext cx="3859560" cy="195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6" y="828"/>
                  </a:moveTo>
                  <a:arcTo wR="10800" hR="10800" stAng="-4045467" swAng="57948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6" y="828"/>
                  </a:moveTo>
                  <a:arcTo wR="10800" hR="10800" stAng="-4045467" swAng="5794864"/>
                </a:path>
              </a:pathLst>
            </a:custGeom>
            <a:gradFill rotWithShape="0">
              <a:gsLst>
                <a:gs pos="0">
                  <a:srgbClr val="753535"/>
                </a:gs>
                <a:gs pos="100000">
                  <a:srgbClr val="ff7575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102280" y="2830680"/>
              <a:ext cx="1187280" cy="118548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a8d02a"/>
                </a:gs>
                <a:gs pos="100000">
                  <a:srgbClr val="d6e89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rot="20539200">
              <a:off x="2096280" y="1474560"/>
              <a:ext cx="4428720" cy="2515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08" y="16758"/>
                  </a:moveTo>
                  <a:arcTo wR="10800" hR="10800" stAng="2008784" swAng="2800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08" y="16758"/>
                  </a:moveTo>
                  <a:arcTo wR="10800" hR="10800" stAng="2008784" swAng="2800242"/>
                </a:path>
              </a:pathLst>
            </a:custGeom>
            <a:gradFill rotWithShape="0">
              <a:gsLst>
                <a:gs pos="0">
                  <a:srgbClr val="a8d02a"/>
                </a:gs>
                <a:gs pos="100000">
                  <a:srgbClr val="4d5f13"/>
                </a:gs>
              </a:gsLst>
              <a:lin ang="145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433040" y="3057120"/>
              <a:ext cx="696240" cy="98208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a8d02a"/>
                </a:gs>
                <a:gs pos="100000">
                  <a:srgbClr val="d6e8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rot="20601600">
              <a:off x="3387240" y="2352240"/>
              <a:ext cx="1824840" cy="8935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658600" y="285372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949200" y="204408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185800" y="224640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979160" y="305928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483720" y="351684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377960" y="3201120"/>
              <a:ext cx="584640" cy="71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rot="20601600">
              <a:off x="3456000" y="2520000"/>
              <a:ext cx="1750320" cy="72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5961240" y="1506600"/>
            <a:ext cx="142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2" name=""/>
          <p:cNvCxnSpPr/>
          <p:nvPr/>
        </p:nvCxnSpPr>
        <p:spPr>
          <a:xfrm flipV="1" rot="10800000">
            <a:off x="5768280" y="1623960"/>
            <a:ext cx="192960" cy="2955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643" name=""/>
          <p:cNvSpPr/>
          <p:nvPr/>
        </p:nvSpPr>
        <p:spPr>
          <a:xfrm>
            <a:off x="1143000" y="2214720"/>
            <a:ext cx="142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4" name=""/>
          <p:cNvCxnSpPr/>
          <p:nvPr/>
        </p:nvCxnSpPr>
        <p:spPr>
          <a:xfrm>
            <a:off x="2569680" y="2332080"/>
            <a:ext cx="180360" cy="2955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645" name=""/>
          <p:cNvSpPr/>
          <p:nvPr/>
        </p:nvSpPr>
        <p:spPr>
          <a:xfrm>
            <a:off x="2570040" y="1447920"/>
            <a:ext cx="142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6" name=""/>
          <p:cNvCxnSpPr/>
          <p:nvPr/>
        </p:nvCxnSpPr>
        <p:spPr>
          <a:xfrm>
            <a:off x="3998880" y="1565280"/>
            <a:ext cx="178200" cy="2955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647" name=""/>
          <p:cNvSpPr/>
          <p:nvPr/>
        </p:nvSpPr>
        <p:spPr>
          <a:xfrm>
            <a:off x="6497640" y="3451320"/>
            <a:ext cx="142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8" name=""/>
          <p:cNvCxnSpPr/>
          <p:nvPr/>
        </p:nvCxnSpPr>
        <p:spPr>
          <a:xfrm rot="10800000">
            <a:off x="5960520" y="3156840"/>
            <a:ext cx="492840" cy="472320"/>
          </a:xfrm>
          <a:prstGeom prst="bentConnector3">
            <a:avLst>
              <a:gd name="adj1" fmla="val 51242"/>
            </a:avLst>
          </a:prstGeom>
          <a:ln w="9360">
            <a:solidFill>
              <a:srgbClr val="292929"/>
            </a:solidFill>
            <a:miter/>
          </a:ln>
        </p:spPr>
      </p:cxnSp>
      <p:sp>
        <p:nvSpPr>
          <p:cNvPr id="649" name=""/>
          <p:cNvSpPr/>
          <p:nvPr/>
        </p:nvSpPr>
        <p:spPr>
          <a:xfrm>
            <a:off x="1447920" y="419112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0" name=""/>
          <p:cNvCxnSpPr>
            <a:stCxn id="649" idx="3"/>
          </p:cNvCxnSpPr>
          <p:nvPr/>
        </p:nvCxnSpPr>
        <p:spPr>
          <a:xfrm flipV="1">
            <a:off x="3276720" y="3938400"/>
            <a:ext cx="343440" cy="4053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grpSp>
        <p:nvGrpSpPr>
          <p:cNvPr id="651" name=""/>
          <p:cNvGrpSpPr/>
          <p:nvPr/>
        </p:nvGrpSpPr>
        <p:grpSpPr>
          <a:xfrm>
            <a:off x="1371600" y="4487400"/>
            <a:ext cx="6359400" cy="1708560"/>
            <a:chOff x="1371600" y="4487400"/>
            <a:chExt cx="6359400" cy="1708560"/>
          </a:xfrm>
        </p:grpSpPr>
        <p:grpSp>
          <p:nvGrpSpPr>
            <p:cNvPr id="652" name=""/>
            <p:cNvGrpSpPr/>
            <p:nvPr/>
          </p:nvGrpSpPr>
          <p:grpSpPr>
            <a:xfrm>
              <a:off x="1371600" y="4724280"/>
              <a:ext cx="6359400" cy="1471680"/>
              <a:chOff x="1371600" y="4724280"/>
              <a:chExt cx="6359400" cy="1471680"/>
            </a:xfrm>
          </p:grpSpPr>
          <p:sp>
            <p:nvSpPr>
              <p:cNvPr id="653" name=""/>
              <p:cNvSpPr/>
              <p:nvPr/>
            </p:nvSpPr>
            <p:spPr>
              <a:xfrm>
                <a:off x="1371600" y="5154480"/>
                <a:ext cx="2111400" cy="104148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2f2f2"/>
                  </a:gs>
                  <a:gs pos="100000">
                    <a:srgbClr val="ddddd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371600" y="4727520"/>
                <a:ext cx="2111400" cy="426960"/>
              </a:xfrm>
              <a:prstGeom prst="bevel">
                <a:avLst>
                  <a:gd name="adj" fmla="val 3718"/>
                </a:avLst>
              </a:prstGeom>
              <a:solidFill>
                <a:srgbClr val="ffc31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505320" y="5154480"/>
                <a:ext cx="2111400" cy="104148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2f2f2"/>
                  </a:gs>
                  <a:gs pos="100000">
                    <a:srgbClr val="ddddd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505320" y="4727520"/>
                <a:ext cx="2111400" cy="426960"/>
              </a:xfrm>
              <a:prstGeom prst="bevel">
                <a:avLst>
                  <a:gd name="adj" fmla="val 3718"/>
                </a:avLst>
              </a:prstGeom>
              <a:solidFill>
                <a:srgbClr val="99cc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1836360" y="4773600"/>
                <a:ext cx="1181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c1c1c"/>
                    </a:solidFill>
                    <a:latin typeface="Arial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970080" y="4782960"/>
                <a:ext cx="1181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c1c1c"/>
                    </a:solidFill>
                    <a:latin typeface="Arial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1371600" y="5254560"/>
                <a:ext cx="20350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1c1c1c"/>
                    </a:solidFill>
                    <a:latin typeface="Arial"/>
                  </a:rPr>
                  <a:t>ThemeGallery</a:t>
                </a:r>
                <a:r>
                  <a:rPr b="0" lang="en-US" sz="1200" spc="-1" strike="noStrike">
                    <a:solidFill>
                      <a:srgbClr val="1c1c1c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505320" y="5254560"/>
                <a:ext cx="20350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1c1c1c"/>
                    </a:solidFill>
                    <a:latin typeface="Arial"/>
                  </a:rPr>
                  <a:t>ThemeGallery</a:t>
                </a:r>
                <a:r>
                  <a:rPr b="0" lang="en-US" sz="1200" spc="-1" strike="noStrike">
                    <a:solidFill>
                      <a:srgbClr val="1c1c1c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619600" y="5151240"/>
                <a:ext cx="2111400" cy="104148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2f2f2"/>
                  </a:gs>
                  <a:gs pos="100000">
                    <a:srgbClr val="ddddd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5619600" y="4724280"/>
                <a:ext cx="2111400" cy="426960"/>
              </a:xfrm>
              <a:prstGeom prst="bevel">
                <a:avLst>
                  <a:gd name="adj" fmla="val 3718"/>
                </a:avLst>
              </a:prstGeom>
              <a:solidFill>
                <a:srgbClr val="5cb1f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084720" y="4779720"/>
                <a:ext cx="1181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c1c1c"/>
                    </a:solidFill>
                    <a:latin typeface="Arial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5619600" y="5251320"/>
                <a:ext cx="20354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1c1c1c"/>
                    </a:solidFill>
                    <a:latin typeface="Arial"/>
                  </a:rPr>
                  <a:t>ThemeGallery</a:t>
                </a:r>
                <a:r>
                  <a:rPr b="0" lang="en-US" sz="1200" spc="-1" strike="noStrike">
                    <a:solidFill>
                      <a:srgbClr val="1c1c1c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5" name=""/>
            <p:cNvSpPr/>
            <p:nvPr/>
          </p:nvSpPr>
          <p:spPr>
            <a:xfrm>
              <a:off x="1371600" y="4495680"/>
              <a:ext cx="6324480" cy="228600"/>
            </a:xfrm>
            <a:custGeom>
              <a:avLst/>
              <a:gdLst/>
              <a:ahLst/>
              <a:rect l="l" t="t" r="r" b="b"/>
              <a:pathLst>
                <a:path w="3984" h="144">
                  <a:moveTo>
                    <a:pt x="0" y="144"/>
                  </a:moveTo>
                  <a:lnTo>
                    <a:pt x="624" y="0"/>
                  </a:lnTo>
                  <a:lnTo>
                    <a:pt x="3529" y="0"/>
                  </a:lnTo>
                  <a:lnTo>
                    <a:pt x="3984" y="144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50000">
                  <a:srgbClr val="bdbdbd"/>
                </a:gs>
                <a:gs pos="100000">
                  <a:srgbClr val="8080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>
              <a:off x="3502080" y="4487400"/>
              <a:ext cx="187200" cy="206280"/>
            </a:xfrm>
            <a:prstGeom prst="line">
              <a:avLst/>
            </a:prstGeom>
            <a:ln w="9360">
              <a:solidFill>
                <a:srgbClr val="fee9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 flipV="1">
              <a:off x="5419440" y="4492440"/>
              <a:ext cx="190440" cy="222480"/>
            </a:xfrm>
            <a:prstGeom prst="line">
              <a:avLst/>
            </a:prstGeom>
            <a:ln w="9360">
              <a:solidFill>
                <a:srgbClr val="fee9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rot="16200000">
            <a:off x="3292560" y="1553040"/>
            <a:ext cx="1907640" cy="503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90" y="19853"/>
                </a:moveTo>
                <a:arcTo wR="10800" hR="10800" stAng="3417072" swAng="20509822"/>
                <a:lnTo>
                  <a:pt x="10800" y="10800"/>
                </a:lnTo>
                <a:close/>
              </a:path>
              <a:path fill="none" w="21600" h="21600">
                <a:moveTo>
                  <a:pt x="16690" y="19853"/>
                </a:moveTo>
                <a:arcTo wR="10800" hR="10800" stAng="3417072" swAng="20509822"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rot="16200000">
            <a:off x="3462120" y="1427400"/>
            <a:ext cx="1712520" cy="4846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346" y="21001"/>
                </a:moveTo>
                <a:arcTo wR="10800" hR="10800" stAng="4249894" swAng="21115163"/>
                <a:lnTo>
                  <a:pt x="10800" y="10800"/>
                </a:lnTo>
                <a:close/>
              </a:path>
              <a:path fill="none" w="21600" h="21600">
                <a:moveTo>
                  <a:pt x="14346" y="21001"/>
                </a:moveTo>
                <a:arcTo wR="10800" hR="10800" stAng="4249894" swAng="21115163"/>
              </a:path>
            </a:pathLst>
          </a:custGeom>
          <a:gradFill rotWithShape="0">
            <a:gsLst>
              <a:gs pos="0">
                <a:srgbClr val="b9ddfd"/>
              </a:gs>
              <a:gs pos="100000">
                <a:srgbClr val="5cb1f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rot="16200000">
            <a:off x="3378600" y="1540800"/>
            <a:ext cx="1755720" cy="4776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62" y="20932"/>
                </a:moveTo>
                <a:arcTo wR="10800" hR="10800" stAng="6615024" swAng="18750034"/>
                <a:lnTo>
                  <a:pt x="10800" y="10800"/>
                </a:lnTo>
                <a:close/>
              </a:path>
              <a:path fill="none" w="21600" h="21600">
                <a:moveTo>
                  <a:pt x="7062" y="20932"/>
                </a:moveTo>
                <a:arcTo wR="10800" hR="10800" stAng="6615024" swAng="18750034"/>
              </a:path>
            </a:pathLst>
          </a:custGeom>
          <a:gradFill rotWithShape="0">
            <a:gsLst>
              <a:gs pos="0">
                <a:srgbClr val="fec6c6"/>
              </a:gs>
              <a:gs pos="100000">
                <a:srgbClr val="ff7575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5630760" y="3776760"/>
            <a:ext cx="7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3218040" y="3900600"/>
            <a:ext cx="1258560" cy="103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1552680" y="2855880"/>
            <a:ext cx="5844240" cy="2289960"/>
            <a:chOff x="1552680" y="2855880"/>
            <a:chExt cx="5844240" cy="2289960"/>
          </a:xfrm>
        </p:grpSpPr>
        <p:sp>
          <p:nvSpPr>
            <p:cNvPr id="675" name=""/>
            <p:cNvSpPr/>
            <p:nvPr/>
          </p:nvSpPr>
          <p:spPr>
            <a:xfrm rot="16200000">
              <a:off x="3329640" y="1078560"/>
              <a:ext cx="2289960" cy="5844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94" y="6497"/>
                  </a:moveTo>
                  <a:arcTo wR="10800" hR="10800" stAng="-9391229" swAng="13448554"/>
                  <a:lnTo>
                    <a:pt x="10800" y="10800"/>
                  </a:lnTo>
                  <a:close/>
                </a:path>
                <a:path fill="none" w="21600" h="21600">
                  <a:moveTo>
                    <a:pt x="894" y="6497"/>
                  </a:moveTo>
                  <a:arcTo wR="10800" hR="10800" stAng="-9391229" swAng="13448554"/>
                </a:path>
              </a:pathLst>
            </a:custGeom>
            <a:gradFill rotWithShape="0">
              <a:gsLst>
                <a:gs pos="0">
                  <a:srgbClr val="82630c"/>
                </a:gs>
                <a:gs pos="100000">
                  <a:srgbClr val="ffc31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954840" y="3227400"/>
              <a:ext cx="277560" cy="366840"/>
            </a:xfrm>
            <a:custGeom>
              <a:avLst/>
              <a:gdLst/>
              <a:ahLst/>
              <a:rect l="l" t="t" r="r" b="b"/>
              <a:pathLst>
                <a:path w="141" h="186">
                  <a:moveTo>
                    <a:pt x="133" y="72"/>
                  </a:moveTo>
                  <a:lnTo>
                    <a:pt x="141" y="161"/>
                  </a:lnTo>
                  <a:lnTo>
                    <a:pt x="15" y="186"/>
                  </a:lnTo>
                  <a:lnTo>
                    <a:pt x="0" y="0"/>
                  </a:lnTo>
                  <a:lnTo>
                    <a:pt x="133" y="72"/>
                  </a:lnTo>
                  <a:close/>
                </a:path>
              </a:pathLst>
            </a:custGeom>
            <a:solidFill>
              <a:srgbClr val="ffc3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7" name=""/>
          <p:cNvSpPr/>
          <p:nvPr/>
        </p:nvSpPr>
        <p:spPr>
          <a:xfrm rot="16200000">
            <a:off x="3342240" y="873720"/>
            <a:ext cx="2291760" cy="585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3" y="6191"/>
                </a:moveTo>
                <a:arcTo wR="10800" hR="10800" stAng="-9284196" swAng="13341521"/>
                <a:lnTo>
                  <a:pt x="10800" y="10800"/>
                </a:lnTo>
                <a:close/>
              </a:path>
              <a:path fill="none" w="21600" h="21600">
                <a:moveTo>
                  <a:pt x="1033" y="6191"/>
                </a:moveTo>
                <a:arcTo wR="10800" hR="10800" stAng="-9284196" swAng="13341521"/>
              </a:path>
            </a:pathLst>
          </a:custGeom>
          <a:gradFill rotWithShape="0">
            <a:gsLst>
              <a:gs pos="0">
                <a:srgbClr val="ffc319"/>
              </a:gs>
              <a:gs pos="100000">
                <a:srgbClr val="fee6a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390760" y="3187800"/>
            <a:ext cx="11635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6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219560" y="4186080"/>
            <a:ext cx="82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814720" y="5153040"/>
            <a:ext cx="160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067280" y="5092560"/>
            <a:ext cx="20286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7191000" y="400356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886440" y="3645000"/>
            <a:ext cx="20289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99840" y="5102280"/>
            <a:ext cx="160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714240" y="4749840"/>
            <a:ext cx="15145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87280" y="3720960"/>
            <a:ext cx="16941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4371840" y="2197080"/>
            <a:ext cx="701640" cy="1295280"/>
            <a:chOff x="4371840" y="2197080"/>
            <a:chExt cx="701640" cy="1295280"/>
          </a:xfrm>
        </p:grpSpPr>
        <p:sp>
          <p:nvSpPr>
            <p:cNvPr id="688" name=""/>
            <p:cNvSpPr/>
            <p:nvPr/>
          </p:nvSpPr>
          <p:spPr>
            <a:xfrm>
              <a:off x="4371840" y="2450160"/>
              <a:ext cx="701640" cy="104220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739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>
              <a:off x="4579200" y="2197080"/>
              <a:ext cx="235440" cy="26928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739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5133960" y="2197080"/>
            <a:ext cx="660240" cy="1314000"/>
            <a:chOff x="5133960" y="2197080"/>
            <a:chExt cx="660240" cy="1314000"/>
          </a:xfrm>
        </p:grpSpPr>
        <p:sp>
          <p:nvSpPr>
            <p:cNvPr id="691" name=""/>
            <p:cNvSpPr/>
            <p:nvPr/>
          </p:nvSpPr>
          <p:spPr>
            <a:xfrm>
              <a:off x="5133960" y="2426760"/>
              <a:ext cx="660240" cy="108432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gradFill rotWithShape="0">
              <a:gsLst>
                <a:gs pos="0">
                  <a:srgbClr val="f5d6d5"/>
                </a:gs>
                <a:gs pos="100000">
                  <a:srgbClr val="f0b5b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329800" y="2197080"/>
              <a:ext cx="237960" cy="250920"/>
            </a:xfrm>
            <a:prstGeom prst="ellipse">
              <a:avLst/>
            </a:prstGeom>
            <a:gradFill rotWithShape="0">
              <a:gsLst>
                <a:gs pos="0">
                  <a:srgbClr val="f5d6d5"/>
                </a:gs>
                <a:gs pos="100000">
                  <a:srgbClr val="f0b5b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682560" y="1492200"/>
            <a:ext cx="6867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1165320" y="1892160"/>
            <a:ext cx="510516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1380960" y="3835440"/>
            <a:ext cx="3781440" cy="1096920"/>
          </a:xfrm>
          <a:prstGeom prst="ellipse">
            <a:avLst/>
          </a:prstGeom>
          <a:solidFill>
            <a:srgbClr val="1c1c1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rot="16200000">
            <a:off x="2795760" y="2359080"/>
            <a:ext cx="1315440" cy="3515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90" y="19853"/>
                </a:moveTo>
                <a:arcTo wR="10800" hR="10800" stAng="3417072" swAng="20509822"/>
                <a:lnTo>
                  <a:pt x="10800" y="10800"/>
                </a:lnTo>
                <a:close/>
              </a:path>
              <a:path fill="none" w="21600" h="21600">
                <a:moveTo>
                  <a:pt x="16690" y="19853"/>
                </a:moveTo>
                <a:arcTo wR="10800" hR="10800" stAng="3417072" swAng="20509822"/>
              </a:path>
            </a:pathLst>
          </a:custGeom>
          <a:gradFill rotWithShape="0">
            <a:gsLst>
              <a:gs pos="0">
                <a:srgbClr val="454545"/>
              </a:gs>
              <a:gs pos="100000">
                <a:srgbClr val="96969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rot="16200000">
            <a:off x="2904840" y="2287440"/>
            <a:ext cx="1196640" cy="3384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346" y="21001"/>
                </a:moveTo>
                <a:arcTo wR="10800" hR="10800" stAng="4249894" swAng="21115163"/>
                <a:lnTo>
                  <a:pt x="10800" y="10800"/>
                </a:lnTo>
                <a:close/>
              </a:path>
              <a:path fill="none" w="21600" h="21600">
                <a:moveTo>
                  <a:pt x="14346" y="21001"/>
                </a:moveTo>
                <a:arcTo wR="10800" hR="10800" stAng="4249894" swAng="21115163"/>
              </a:path>
            </a:pathLst>
          </a:custGeom>
          <a:gradFill rotWithShape="0">
            <a:gsLst>
              <a:gs pos="0">
                <a:srgbClr val="d9eaa4"/>
              </a:gs>
              <a:gs pos="100000">
                <a:srgbClr val="a8d02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 rot="16200000">
            <a:off x="2852640" y="2375280"/>
            <a:ext cx="1194840" cy="334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513" y="21088"/>
                </a:moveTo>
                <a:arcTo wR="10800" hR="10800" stAng="6463041" swAng="18902017"/>
                <a:lnTo>
                  <a:pt x="10800" y="10800"/>
                </a:lnTo>
                <a:close/>
              </a:path>
              <a:path fill="none" w="21600" h="21600">
                <a:moveTo>
                  <a:pt x="7513" y="21088"/>
                </a:moveTo>
                <a:arcTo wR="10800" hR="10800" stAng="6463041" swAng="18902017"/>
              </a:path>
            </a:pathLst>
          </a:custGeom>
          <a:gradFill rotWithShape="0">
            <a:gsLst>
              <a:gs pos="0">
                <a:srgbClr val="ffc319"/>
              </a:gs>
              <a:gs pos="100000">
                <a:srgbClr val="fee08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rot="16200000">
            <a:off x="2844720" y="2364840"/>
            <a:ext cx="1226160" cy="333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471" y="18733"/>
                </a:moveTo>
                <a:arcTo wR="10800" hR="10800" stAng="7963962" swAng="17401096"/>
                <a:lnTo>
                  <a:pt x="10800" y="10800"/>
                </a:lnTo>
                <a:close/>
              </a:path>
              <a:path fill="none" w="21600" h="21600">
                <a:moveTo>
                  <a:pt x="3471" y="18733"/>
                </a:moveTo>
                <a:arcTo wR="10800" hR="10800" stAng="7963962" swAng="17401096"/>
              </a:path>
            </a:pathLst>
          </a:custGeom>
          <a:gradFill rotWithShape="0">
            <a:gsLst>
              <a:gs pos="0">
                <a:srgbClr val="fec6c6"/>
              </a:gs>
              <a:gs pos="100000">
                <a:srgbClr val="ff7575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241880" y="411480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4675320" y="3849840"/>
            <a:ext cx="46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5038560" y="4230720"/>
            <a:ext cx="0" cy="160200"/>
          </a:xfrm>
          <a:prstGeom prst="line">
            <a:avLst/>
          </a:prstGeom>
          <a:ln w="9360">
            <a:solidFill>
              <a:srgbClr val="1c1c1c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680000" y="4454640"/>
            <a:ext cx="0" cy="112680"/>
          </a:xfrm>
          <a:prstGeom prst="line">
            <a:avLst/>
          </a:prstGeom>
          <a:ln w="9360">
            <a:solidFill>
              <a:srgbClr val="1c1c1c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H="1">
            <a:off x="2734920" y="4014720"/>
            <a:ext cx="879480" cy="71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rot="16200000">
            <a:off x="2813400" y="2043360"/>
            <a:ext cx="1599120" cy="4082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94" y="6497"/>
                </a:moveTo>
                <a:arcTo wR="10800" hR="10800" stAng="-9391229" swAng="13448554"/>
                <a:lnTo>
                  <a:pt x="10800" y="10800"/>
                </a:lnTo>
                <a:close/>
              </a:path>
              <a:path fill="none" w="21600" h="21600">
                <a:moveTo>
                  <a:pt x="894" y="6497"/>
                </a:moveTo>
                <a:arcTo wR="10800" hR="10800" stAng="-9391229" swAng="13448554"/>
              </a:path>
            </a:pathLst>
          </a:custGeom>
          <a:gradFill rotWithShape="0">
            <a:gsLst>
              <a:gs pos="0">
                <a:srgbClr val="2f5a81"/>
              </a:gs>
              <a:gs pos="100000">
                <a:srgbClr val="5cb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5343480" y="3544920"/>
            <a:ext cx="195480" cy="25560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rot="16200000">
            <a:off x="2822400" y="1901880"/>
            <a:ext cx="1599840" cy="408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3" y="6191"/>
                </a:moveTo>
                <a:arcTo wR="10800" hR="10800" stAng="-9284196" swAng="13341521"/>
                <a:lnTo>
                  <a:pt x="10800" y="10800"/>
                </a:lnTo>
                <a:close/>
              </a:path>
              <a:path fill="none" w="21600" h="21600">
                <a:moveTo>
                  <a:pt x="1033" y="6191"/>
                </a:moveTo>
                <a:arcTo wR="10800" hR="10800" stAng="-9284196" swAng="13341521"/>
              </a:path>
            </a:pathLst>
          </a:custGeom>
          <a:gradFill rotWithShape="0">
            <a:gsLst>
              <a:gs pos="0">
                <a:srgbClr val="5cb1fe"/>
              </a:gs>
              <a:gs pos="100000">
                <a:srgbClr val="bddef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164040" y="3346560"/>
            <a:ext cx="81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0" name=""/>
          <p:cNvCxnSpPr>
            <a:endCxn id="709" idx="3"/>
          </p:cNvCxnSpPr>
          <p:nvPr/>
        </p:nvCxnSpPr>
        <p:spPr>
          <a:xfrm flipV="1" rot="10800000">
            <a:off x="3975840" y="2777760"/>
            <a:ext cx="2094840" cy="767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1" name=""/>
          <p:cNvCxnSpPr>
            <a:endCxn id="702" idx="3"/>
          </p:cNvCxnSpPr>
          <p:nvPr/>
        </p:nvCxnSpPr>
        <p:spPr>
          <a:xfrm rot="10800000">
            <a:off x="5139720" y="4001400"/>
            <a:ext cx="1062720" cy="159480"/>
          </a:xfrm>
          <a:prstGeom prst="bentConnector3">
            <a:avLst>
              <a:gd name="adj1" fmla="val 499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2" name=""/>
          <p:cNvSpPr/>
          <p:nvPr/>
        </p:nvSpPr>
        <p:spPr>
          <a:xfrm>
            <a:off x="3433680" y="421488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6070680" y="2593800"/>
            <a:ext cx="1758960" cy="419400"/>
            <a:chOff x="6070680" y="2593800"/>
            <a:chExt cx="1758960" cy="419400"/>
          </a:xfrm>
        </p:grpSpPr>
        <p:sp>
          <p:nvSpPr>
            <p:cNvPr id="714" name=""/>
            <p:cNvSpPr/>
            <p:nvPr/>
          </p:nvSpPr>
          <p:spPr>
            <a:xfrm>
              <a:off x="6174360" y="2835360"/>
              <a:ext cx="1551240" cy="17784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070680" y="2593800"/>
              <a:ext cx="1758960" cy="367920"/>
            </a:xfrm>
            <a:prstGeom prst="rect">
              <a:avLst/>
            </a:prstGeom>
            <a:gradFill rotWithShape="0">
              <a:gsLst>
                <a:gs pos="0">
                  <a:srgbClr val="5cb1fe"/>
                </a:gs>
                <a:gs pos="100000">
                  <a:srgbClr val="a5d3f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6070680" y="3941640"/>
            <a:ext cx="1758960" cy="419400"/>
            <a:chOff x="6070680" y="3941640"/>
            <a:chExt cx="1758960" cy="419400"/>
          </a:xfrm>
        </p:grpSpPr>
        <p:sp>
          <p:nvSpPr>
            <p:cNvPr id="717" name=""/>
            <p:cNvSpPr/>
            <p:nvPr/>
          </p:nvSpPr>
          <p:spPr>
            <a:xfrm>
              <a:off x="6174360" y="4183200"/>
              <a:ext cx="1551240" cy="17784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070680" y="3941640"/>
              <a:ext cx="1758960" cy="367920"/>
            </a:xfrm>
            <a:prstGeom prst="rect">
              <a:avLst/>
            </a:prstGeom>
            <a:gradFill rotWithShape="0">
              <a:gsLst>
                <a:gs pos="0">
                  <a:srgbClr val="a8d02a"/>
                </a:gs>
                <a:gs pos="100000">
                  <a:srgbClr val="d3e79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357800" y="4827600"/>
            <a:ext cx="1758960" cy="418680"/>
            <a:chOff x="4357800" y="4827600"/>
            <a:chExt cx="1758960" cy="418680"/>
          </a:xfrm>
        </p:grpSpPr>
        <p:sp>
          <p:nvSpPr>
            <p:cNvPr id="720" name=""/>
            <p:cNvSpPr/>
            <p:nvPr/>
          </p:nvSpPr>
          <p:spPr>
            <a:xfrm>
              <a:off x="4461480" y="5068800"/>
              <a:ext cx="1551240" cy="177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357800" y="4827600"/>
              <a:ext cx="1758960" cy="367560"/>
            </a:xfrm>
            <a:prstGeom prst="rect">
              <a:avLst/>
            </a:prstGeom>
            <a:gradFill rotWithShape="0">
              <a:gsLst>
                <a:gs pos="0">
                  <a:srgbClr val="ffc319"/>
                </a:gs>
                <a:gs pos="100000">
                  <a:srgbClr val="fee29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1452600" y="5037120"/>
            <a:ext cx="1758960" cy="418680"/>
            <a:chOff x="1452600" y="5037120"/>
            <a:chExt cx="1758960" cy="418680"/>
          </a:xfrm>
        </p:grpSpPr>
        <p:sp>
          <p:nvSpPr>
            <p:cNvPr id="723" name=""/>
            <p:cNvSpPr/>
            <p:nvPr/>
          </p:nvSpPr>
          <p:spPr>
            <a:xfrm>
              <a:off x="1556280" y="5278320"/>
              <a:ext cx="1551240" cy="177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452600" y="5037120"/>
              <a:ext cx="1758960" cy="367560"/>
            </a:xfrm>
            <a:prstGeom prst="rect">
              <a:avLst/>
            </a:prstGeom>
            <a:gradFill rotWithShape="0">
              <a:gsLst>
                <a:gs pos="0">
                  <a:srgbClr val="ff7575"/>
                </a:gs>
                <a:gs pos="100000">
                  <a:srgbClr val="fed8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25" name=""/>
          <p:cNvCxnSpPr>
            <a:stCxn id="721" idx="0"/>
            <a:endCxn id="701" idx="3"/>
          </p:cNvCxnSpPr>
          <p:nvPr/>
        </p:nvCxnSpPr>
        <p:spPr>
          <a:xfrm flipV="1" rot="16200000">
            <a:off x="4818240" y="4408200"/>
            <a:ext cx="561240" cy="277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6" name=""/>
          <p:cNvCxnSpPr>
            <a:stCxn id="724" idx="3"/>
            <a:endCxn id="712" idx="2"/>
          </p:cNvCxnSpPr>
          <p:nvPr/>
        </p:nvCxnSpPr>
        <p:spPr>
          <a:xfrm flipV="1">
            <a:off x="3211560" y="4519080"/>
            <a:ext cx="511920" cy="702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7" name=""/>
          <p:cNvSpPr/>
          <p:nvPr/>
        </p:nvSpPr>
        <p:spPr>
          <a:xfrm>
            <a:off x="6334560" y="433872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375600" y="2990880"/>
            <a:ext cx="139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626360" y="5251320"/>
            <a:ext cx="139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2367360" y="2725560"/>
            <a:ext cx="863280" cy="1123200"/>
            <a:chOff x="2367360" y="2725560"/>
            <a:chExt cx="863280" cy="1123200"/>
          </a:xfrm>
        </p:grpSpPr>
        <p:grpSp>
          <p:nvGrpSpPr>
            <p:cNvPr id="731" name=""/>
            <p:cNvGrpSpPr/>
            <p:nvPr/>
          </p:nvGrpSpPr>
          <p:grpSpPr>
            <a:xfrm>
              <a:off x="2367360" y="2727720"/>
              <a:ext cx="858240" cy="1121040"/>
              <a:chOff x="2367360" y="2727720"/>
              <a:chExt cx="858240" cy="1121040"/>
            </a:xfrm>
          </p:grpSpPr>
          <p:sp>
            <p:nvSpPr>
              <p:cNvPr id="732" name=""/>
              <p:cNvSpPr/>
              <p:nvPr/>
            </p:nvSpPr>
            <p:spPr>
              <a:xfrm>
                <a:off x="2367360" y="3167280"/>
                <a:ext cx="858240" cy="68148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2599200" y="2727720"/>
                <a:ext cx="416880" cy="50148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4" name=""/>
            <p:cNvSpPr/>
            <p:nvPr/>
          </p:nvSpPr>
          <p:spPr>
            <a:xfrm>
              <a:off x="2372760" y="3163320"/>
              <a:ext cx="857880" cy="68364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abb4"/>
                </a:gs>
                <a:gs pos="100000">
                  <a:srgbClr val="002c2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540880" y="3206880"/>
              <a:ext cx="528840" cy="2170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9ca4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604240" y="2725560"/>
              <a:ext cx="417960" cy="502920"/>
            </a:xfrm>
            <a:prstGeom prst="ellipse">
              <a:avLst/>
            </a:prstGeom>
            <a:gradFill rotWithShape="0">
              <a:gsLst>
                <a:gs pos="0">
                  <a:srgbClr val="005b60"/>
                </a:gs>
                <a:gs pos="50000">
                  <a:srgbClr val="00a4ac"/>
                </a:gs>
                <a:gs pos="100000">
                  <a:srgbClr val="005b6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646360" y="2733480"/>
              <a:ext cx="330840" cy="1656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59d3d9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8" name=""/>
            <p:cNvGrpSpPr/>
            <p:nvPr/>
          </p:nvGrpSpPr>
          <p:grpSpPr>
            <a:xfrm>
              <a:off x="2586600" y="2730960"/>
              <a:ext cx="299160" cy="310680"/>
              <a:chOff x="2586600" y="2730960"/>
              <a:chExt cx="299160" cy="310680"/>
            </a:xfrm>
          </p:grpSpPr>
          <p:grpSp>
            <p:nvGrpSpPr>
              <p:cNvPr id="739" name=""/>
              <p:cNvGrpSpPr/>
              <p:nvPr/>
            </p:nvGrpSpPr>
            <p:grpSpPr>
              <a:xfrm>
                <a:off x="2594520" y="2730960"/>
                <a:ext cx="291240" cy="237240"/>
                <a:chOff x="2594520" y="2730960"/>
                <a:chExt cx="291240" cy="237240"/>
              </a:xfrm>
            </p:grpSpPr>
            <p:sp>
              <p:nvSpPr>
                <p:cNvPr id="740" name=""/>
                <p:cNvSpPr/>
                <p:nvPr/>
              </p:nvSpPr>
              <p:spPr>
                <a:xfrm flipH="1" rot="15040200">
                  <a:off x="2726640" y="2702520"/>
                  <a:ext cx="8316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 flipH="1" rot="14224200">
                  <a:off x="2692800" y="2715480"/>
                  <a:ext cx="8316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 flipH="1" rot="13928400">
                  <a:off x="2676600" y="2730960"/>
                  <a:ext cx="83160" cy="21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 flipH="1" rot="13396200">
                  <a:off x="2658240" y="2749680"/>
                  <a:ext cx="8316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4" name=""/>
              <p:cNvGrpSpPr/>
              <p:nvPr/>
            </p:nvGrpSpPr>
            <p:grpSpPr>
              <a:xfrm>
                <a:off x="2586600" y="2749320"/>
                <a:ext cx="235800" cy="292320"/>
                <a:chOff x="2586600" y="2749320"/>
                <a:chExt cx="235800" cy="292320"/>
              </a:xfrm>
            </p:grpSpPr>
            <p:sp>
              <p:nvSpPr>
                <p:cNvPr id="745" name=""/>
                <p:cNvSpPr/>
                <p:nvPr/>
              </p:nvSpPr>
              <p:spPr>
                <a:xfrm flipH="1" rot="13687200">
                  <a:off x="2670120" y="2744280"/>
                  <a:ext cx="8388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 flipH="1" rot="12871200">
                  <a:off x="2644560" y="2769120"/>
                  <a:ext cx="83880" cy="21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 flipH="1" rot="12576000">
                  <a:off x="2635200" y="2789640"/>
                  <a:ext cx="8388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 flipH="1" rot="12043800">
                  <a:off x="2625840" y="2814120"/>
                  <a:ext cx="8388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49" name=""/>
            <p:cNvGrpSpPr/>
            <p:nvPr/>
          </p:nvGrpSpPr>
          <p:grpSpPr>
            <a:xfrm>
              <a:off x="2430720" y="3195360"/>
              <a:ext cx="372240" cy="449280"/>
              <a:chOff x="2430720" y="3195360"/>
              <a:chExt cx="372240" cy="449280"/>
            </a:xfrm>
          </p:grpSpPr>
          <p:grpSp>
            <p:nvGrpSpPr>
              <p:cNvPr id="750" name=""/>
              <p:cNvGrpSpPr/>
              <p:nvPr/>
            </p:nvGrpSpPr>
            <p:grpSpPr>
              <a:xfrm>
                <a:off x="2430720" y="3195360"/>
                <a:ext cx="372240" cy="352080"/>
                <a:chOff x="2430720" y="3195360"/>
                <a:chExt cx="372240" cy="352080"/>
              </a:xfrm>
            </p:grpSpPr>
            <p:sp>
              <p:nvSpPr>
                <p:cNvPr id="751" name=""/>
                <p:cNvSpPr/>
                <p:nvPr/>
              </p:nvSpPr>
              <p:spPr>
                <a:xfrm flipH="1" rot="14424600">
                  <a:off x="2600640" y="3151440"/>
                  <a:ext cx="8424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 flipH="1" rot="13608600">
                  <a:off x="2556360" y="3179520"/>
                  <a:ext cx="8424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 flipH="1" rot="13313400">
                  <a:off x="2534760" y="3202200"/>
                  <a:ext cx="8424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 flipH="1" rot="12781200">
                  <a:off x="2511360" y="3230640"/>
                  <a:ext cx="8424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5" name=""/>
              <p:cNvGrpSpPr/>
              <p:nvPr/>
            </p:nvGrpSpPr>
            <p:grpSpPr>
              <a:xfrm>
                <a:off x="2432880" y="3220200"/>
                <a:ext cx="266400" cy="424440"/>
                <a:chOff x="2432880" y="3220200"/>
                <a:chExt cx="266400" cy="424440"/>
              </a:xfrm>
            </p:grpSpPr>
            <p:sp>
              <p:nvSpPr>
                <p:cNvPr id="756" name=""/>
                <p:cNvSpPr/>
                <p:nvPr/>
              </p:nvSpPr>
              <p:spPr>
                <a:xfrm flipH="1" rot="13071600">
                  <a:off x="2525400" y="3212280"/>
                  <a:ext cx="8460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 flipH="1" rot="12256200">
                  <a:off x="2494800" y="3255840"/>
                  <a:ext cx="8460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 flipH="1" rot="11960400">
                  <a:off x="2484000" y="3285000"/>
                  <a:ext cx="8460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 flipH="1" rot="11428200">
                  <a:off x="2472480" y="3319200"/>
                  <a:ext cx="8460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60" name=""/>
          <p:cNvSpPr/>
          <p:nvPr/>
        </p:nvSpPr>
        <p:spPr>
          <a:xfrm>
            <a:off x="1971000" y="384984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1904400" y="2725560"/>
            <a:ext cx="864000" cy="1123200"/>
            <a:chOff x="1904400" y="2725560"/>
            <a:chExt cx="864000" cy="1123200"/>
          </a:xfrm>
        </p:grpSpPr>
        <p:grpSp>
          <p:nvGrpSpPr>
            <p:cNvPr id="762" name=""/>
            <p:cNvGrpSpPr/>
            <p:nvPr/>
          </p:nvGrpSpPr>
          <p:grpSpPr>
            <a:xfrm>
              <a:off x="1904400" y="2727720"/>
              <a:ext cx="859680" cy="1121040"/>
              <a:chOff x="1904400" y="2727720"/>
              <a:chExt cx="859680" cy="1121040"/>
            </a:xfrm>
          </p:grpSpPr>
          <p:sp>
            <p:nvSpPr>
              <p:cNvPr id="763" name=""/>
              <p:cNvSpPr/>
              <p:nvPr/>
            </p:nvSpPr>
            <p:spPr>
              <a:xfrm>
                <a:off x="1904400" y="3167280"/>
                <a:ext cx="859680" cy="68148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2136600" y="2727720"/>
                <a:ext cx="417600" cy="50148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5" name=""/>
            <p:cNvSpPr/>
            <p:nvPr/>
          </p:nvSpPr>
          <p:spPr>
            <a:xfrm>
              <a:off x="1909440" y="3163320"/>
              <a:ext cx="858960" cy="68364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93c052"/>
                </a:gs>
                <a:gs pos="100000">
                  <a:srgbClr val="26321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077920" y="3206880"/>
              <a:ext cx="529560" cy="2170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3c052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141280" y="2725560"/>
              <a:ext cx="418320" cy="502920"/>
            </a:xfrm>
            <a:prstGeom prst="ellipse">
              <a:avLst/>
            </a:prstGeom>
            <a:gradFill rotWithShape="0">
              <a:gsLst>
                <a:gs pos="0">
                  <a:srgbClr val="526b2d"/>
                </a:gs>
                <a:gs pos="50000">
                  <a:srgbClr val="93c052"/>
                </a:gs>
                <a:gs pos="100000">
                  <a:srgbClr val="526b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183760" y="2733480"/>
              <a:ext cx="331200" cy="1656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3c052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9" name=""/>
            <p:cNvGrpSpPr/>
            <p:nvPr/>
          </p:nvGrpSpPr>
          <p:grpSpPr>
            <a:xfrm>
              <a:off x="2123640" y="2730960"/>
              <a:ext cx="300240" cy="311400"/>
              <a:chOff x="2123640" y="2730960"/>
              <a:chExt cx="300240" cy="311400"/>
            </a:xfrm>
          </p:grpSpPr>
          <p:grpSp>
            <p:nvGrpSpPr>
              <p:cNvPr id="770" name=""/>
              <p:cNvGrpSpPr/>
              <p:nvPr/>
            </p:nvGrpSpPr>
            <p:grpSpPr>
              <a:xfrm>
                <a:off x="2131560" y="2730960"/>
                <a:ext cx="292320" cy="237600"/>
                <a:chOff x="2131560" y="2730960"/>
                <a:chExt cx="292320" cy="237600"/>
              </a:xfrm>
            </p:grpSpPr>
            <p:sp>
              <p:nvSpPr>
                <p:cNvPr id="771" name=""/>
                <p:cNvSpPr/>
                <p:nvPr/>
              </p:nvSpPr>
              <p:spPr>
                <a:xfrm flipH="1" rot="15040200">
                  <a:off x="2264040" y="2701800"/>
                  <a:ext cx="83160" cy="220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 flipH="1" rot="14224200">
                  <a:off x="2229480" y="2715480"/>
                  <a:ext cx="8316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 flipH="1" rot="13928400">
                  <a:off x="2214000" y="2730240"/>
                  <a:ext cx="83160" cy="21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 flipH="1" rot="13396200">
                  <a:off x="2194920" y="2749680"/>
                  <a:ext cx="8316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5" name=""/>
              <p:cNvGrpSpPr/>
              <p:nvPr/>
            </p:nvGrpSpPr>
            <p:grpSpPr>
              <a:xfrm>
                <a:off x="2123640" y="2749680"/>
                <a:ext cx="235800" cy="292680"/>
                <a:chOff x="2123640" y="2749680"/>
                <a:chExt cx="235800" cy="292680"/>
              </a:xfrm>
            </p:grpSpPr>
            <p:sp>
              <p:nvSpPr>
                <p:cNvPr id="776" name=""/>
                <p:cNvSpPr/>
                <p:nvPr/>
              </p:nvSpPr>
              <p:spPr>
                <a:xfrm flipH="1" rot="13687200">
                  <a:off x="2207520" y="2744280"/>
                  <a:ext cx="83880" cy="21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 flipH="1" rot="12871200">
                  <a:off x="2181600" y="2769120"/>
                  <a:ext cx="8388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 flipH="1" rot="12576000">
                  <a:off x="2172240" y="2789640"/>
                  <a:ext cx="8388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 flipH="1" rot="12043800">
                  <a:off x="2161800" y="2814120"/>
                  <a:ext cx="8388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0" name=""/>
            <p:cNvGrpSpPr/>
            <p:nvPr/>
          </p:nvGrpSpPr>
          <p:grpSpPr>
            <a:xfrm>
              <a:off x="1967400" y="3195360"/>
              <a:ext cx="372600" cy="450360"/>
              <a:chOff x="1967400" y="3195360"/>
              <a:chExt cx="372600" cy="450360"/>
            </a:xfrm>
          </p:grpSpPr>
          <p:grpSp>
            <p:nvGrpSpPr>
              <p:cNvPr id="781" name=""/>
              <p:cNvGrpSpPr/>
              <p:nvPr/>
            </p:nvGrpSpPr>
            <p:grpSpPr>
              <a:xfrm>
                <a:off x="1967400" y="3195360"/>
                <a:ext cx="372600" cy="352800"/>
                <a:chOff x="1967400" y="3195360"/>
                <a:chExt cx="372600" cy="352800"/>
              </a:xfrm>
            </p:grpSpPr>
            <p:sp>
              <p:nvSpPr>
                <p:cNvPr id="782" name=""/>
                <p:cNvSpPr/>
                <p:nvPr/>
              </p:nvSpPr>
              <p:spPr>
                <a:xfrm flipH="1" rot="14424600">
                  <a:off x="2138040" y="3151080"/>
                  <a:ext cx="8424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 flipH="1" rot="13608600">
                  <a:off x="2093400" y="3179520"/>
                  <a:ext cx="84240" cy="320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 flipH="1" rot="13313400">
                  <a:off x="2071080" y="3202200"/>
                  <a:ext cx="8424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 flipH="1" rot="12781200">
                  <a:off x="2047680" y="3230280"/>
                  <a:ext cx="84240" cy="320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6" name=""/>
              <p:cNvGrpSpPr/>
              <p:nvPr/>
            </p:nvGrpSpPr>
            <p:grpSpPr>
              <a:xfrm>
                <a:off x="1969200" y="3220200"/>
                <a:ext cx="266400" cy="425520"/>
                <a:chOff x="1969200" y="3220200"/>
                <a:chExt cx="266400" cy="425520"/>
              </a:xfrm>
            </p:grpSpPr>
            <p:sp>
              <p:nvSpPr>
                <p:cNvPr id="787" name=""/>
                <p:cNvSpPr/>
                <p:nvPr/>
              </p:nvSpPr>
              <p:spPr>
                <a:xfrm flipH="1" rot="13071600">
                  <a:off x="2061720" y="3212280"/>
                  <a:ext cx="8460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 flipH="1" rot="12256200">
                  <a:off x="2031480" y="3255480"/>
                  <a:ext cx="84600" cy="320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 flipH="1" rot="11960400">
                  <a:off x="2020320" y="3285000"/>
                  <a:ext cx="84600" cy="320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 flipH="1" rot="11428200">
                  <a:off x="2009160" y="3320280"/>
                  <a:ext cx="84600" cy="320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91" name=""/>
          <p:cNvSpPr/>
          <p:nvPr/>
        </p:nvSpPr>
        <p:spPr>
          <a:xfrm>
            <a:off x="1744920" y="545616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>
            <a:off x="5135400" y="2570040"/>
            <a:ext cx="2713320" cy="727200"/>
          </a:xfrm>
          <a:custGeom>
            <a:avLst/>
            <a:gdLst>
              <a:gd name="textAreaLeft" fmla="*/ 0 w 2713320"/>
              <a:gd name="textAreaRight" fmla="*/ 2713680 w 2713320"/>
              <a:gd name="textAreaTop" fmla="*/ 0 h 727200"/>
              <a:gd name="textAreaBottom" fmla="*/ 727200 h 72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9" y="0"/>
                </a:lnTo>
                <a:lnTo>
                  <a:pt x="21600" y="10800"/>
                </a:lnTo>
                <a:lnTo>
                  <a:pt x="18519" y="21600"/>
                </a:lnTo>
                <a:lnTo>
                  <a:pt x="0" y="21600"/>
                </a:lnTo>
                <a:lnTo>
                  <a:pt x="3081" y="10800"/>
                </a:lnTo>
                <a:close/>
              </a:path>
            </a:pathLst>
          </a:custGeom>
          <a:gradFill rotWithShape="0">
            <a:gsLst>
              <a:gs pos="0">
                <a:srgbClr val="5cb1fe"/>
              </a:gs>
              <a:gs pos="100000">
                <a:srgbClr val="3f7bb0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2158920" y="2482920"/>
            <a:ext cx="3378240" cy="914400"/>
          </a:xfrm>
          <a:custGeom>
            <a:avLst/>
            <a:gdLst>
              <a:gd name="textAreaLeft" fmla="*/ 0 w 3378240"/>
              <a:gd name="textAreaRight" fmla="*/ 3378600 w 33782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6" y="0"/>
                </a:lnTo>
                <a:lnTo>
                  <a:pt x="21600" y="10800"/>
                </a:lnTo>
                <a:lnTo>
                  <a:pt x="185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8cc7fd"/>
              </a:gs>
              <a:gs pos="100000">
                <a:srgbClr val="5cb1fe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1508040" y="2452680"/>
            <a:ext cx="1130400" cy="1123920"/>
            <a:chOff x="1508040" y="2452680"/>
            <a:chExt cx="1130400" cy="1123920"/>
          </a:xfrm>
        </p:grpSpPr>
        <p:grpSp>
          <p:nvGrpSpPr>
            <p:cNvPr id="795" name=""/>
            <p:cNvGrpSpPr/>
            <p:nvPr/>
          </p:nvGrpSpPr>
          <p:grpSpPr>
            <a:xfrm>
              <a:off x="1508040" y="2452680"/>
              <a:ext cx="1130400" cy="1123920"/>
              <a:chOff x="1508040" y="2452680"/>
              <a:chExt cx="1130400" cy="1123920"/>
            </a:xfrm>
          </p:grpSpPr>
          <p:sp>
            <p:nvSpPr>
              <p:cNvPr id="796" name=""/>
              <p:cNvSpPr/>
              <p:nvPr/>
            </p:nvSpPr>
            <p:spPr>
              <a:xfrm>
                <a:off x="1508040" y="2452680"/>
                <a:ext cx="1130400" cy="112392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1537920" y="2475000"/>
                <a:ext cx="1077840" cy="1078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2424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82200" y="2519640"/>
                <a:ext cx="988920" cy="99000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612080" y="2542320"/>
                <a:ext cx="929160" cy="92988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1624680" y="2556720"/>
                <a:ext cx="899280" cy="900720"/>
              </a:xfrm>
              <a:prstGeom prst="ellipse">
                <a:avLst/>
              </a:prstGeom>
              <a:gradFill rotWithShape="0">
                <a:gsLst>
                  <a:gs pos="0">
                    <a:srgbClr val="5b5b5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"/>
            <p:cNvSpPr/>
            <p:nvPr/>
          </p:nvSpPr>
          <p:spPr>
            <a:xfrm>
              <a:off x="1641600" y="2576160"/>
              <a:ext cx="876240" cy="873360"/>
            </a:xfrm>
            <a:prstGeom prst="ellipse">
              <a:avLst/>
            </a:prstGeom>
            <a:gradFill rotWithShape="0">
              <a:gsLst>
                <a:gs pos="0">
                  <a:srgbClr val="2a5175"/>
                </a:gs>
                <a:gs pos="100000">
                  <a:srgbClr val="5cb1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2" name=""/>
          <p:cNvSpPr/>
          <p:nvPr/>
        </p:nvSpPr>
        <p:spPr>
          <a:xfrm>
            <a:off x="1593360" y="28242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730600" y="2651040"/>
            <a:ext cx="261612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scription of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pany’s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5398920" y="2641680"/>
            <a:ext cx="2248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,00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5135400" y="3886200"/>
            <a:ext cx="2713320" cy="728640"/>
          </a:xfrm>
          <a:custGeom>
            <a:avLst/>
            <a:gdLst>
              <a:gd name="textAreaLeft" fmla="*/ 0 w 2713320"/>
              <a:gd name="textAreaRight" fmla="*/ 2713680 w 271332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9" y="0"/>
                </a:lnTo>
                <a:lnTo>
                  <a:pt x="21600" y="10800"/>
                </a:lnTo>
                <a:lnTo>
                  <a:pt x="18519" y="21600"/>
                </a:lnTo>
                <a:lnTo>
                  <a:pt x="0" y="21600"/>
                </a:lnTo>
                <a:lnTo>
                  <a:pt x="3081" y="10800"/>
                </a:lnTo>
                <a:close/>
              </a:path>
            </a:pathLst>
          </a:custGeom>
          <a:gradFill rotWithShape="0">
            <a:gsLst>
              <a:gs pos="0">
                <a:srgbClr val="a8d02a"/>
              </a:gs>
              <a:gs pos="100000">
                <a:srgbClr val="74901d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2158920" y="3800520"/>
            <a:ext cx="3378240" cy="914400"/>
          </a:xfrm>
          <a:custGeom>
            <a:avLst/>
            <a:gdLst>
              <a:gd name="textAreaLeft" fmla="*/ 0 w 3378240"/>
              <a:gd name="textAreaRight" fmla="*/ 3378600 w 33782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6" y="0"/>
                </a:lnTo>
                <a:lnTo>
                  <a:pt x="21600" y="10800"/>
                </a:lnTo>
                <a:lnTo>
                  <a:pt x="185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1dd69"/>
              </a:gs>
              <a:gs pos="100000">
                <a:srgbClr val="a8d02a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"/>
          <p:cNvGrpSpPr/>
          <p:nvPr/>
        </p:nvGrpSpPr>
        <p:grpSpPr>
          <a:xfrm>
            <a:off x="1508040" y="3770280"/>
            <a:ext cx="1130400" cy="1123920"/>
            <a:chOff x="1508040" y="3770280"/>
            <a:chExt cx="1130400" cy="1123920"/>
          </a:xfrm>
        </p:grpSpPr>
        <p:grpSp>
          <p:nvGrpSpPr>
            <p:cNvPr id="808" name=""/>
            <p:cNvGrpSpPr/>
            <p:nvPr/>
          </p:nvGrpSpPr>
          <p:grpSpPr>
            <a:xfrm>
              <a:off x="1508040" y="3770280"/>
              <a:ext cx="1130400" cy="1123920"/>
              <a:chOff x="1508040" y="3770280"/>
              <a:chExt cx="1130400" cy="1123920"/>
            </a:xfrm>
          </p:grpSpPr>
          <p:sp>
            <p:nvSpPr>
              <p:cNvPr id="809" name=""/>
              <p:cNvSpPr/>
              <p:nvPr/>
            </p:nvSpPr>
            <p:spPr>
              <a:xfrm>
                <a:off x="1508040" y="3770280"/>
                <a:ext cx="1130400" cy="112392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1537920" y="3792600"/>
                <a:ext cx="1077840" cy="1078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2424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1582200" y="3837240"/>
                <a:ext cx="988920" cy="99000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1612080" y="3859920"/>
                <a:ext cx="929160" cy="92988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624680" y="3874320"/>
                <a:ext cx="899280" cy="900720"/>
              </a:xfrm>
              <a:prstGeom prst="ellipse">
                <a:avLst/>
              </a:prstGeom>
              <a:gradFill rotWithShape="0">
                <a:gsLst>
                  <a:gs pos="0">
                    <a:srgbClr val="5b5b5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>
              <a:off x="1641600" y="3893760"/>
              <a:ext cx="876240" cy="873360"/>
            </a:xfrm>
            <a:prstGeom prst="ellipse">
              <a:avLst/>
            </a:prstGeom>
            <a:gradFill rotWithShape="0">
              <a:gsLst>
                <a:gs pos="0">
                  <a:srgbClr val="4d5f13"/>
                </a:gs>
                <a:gs pos="100000">
                  <a:srgbClr val="a8d02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5" name=""/>
          <p:cNvSpPr/>
          <p:nvPr/>
        </p:nvSpPr>
        <p:spPr>
          <a:xfrm>
            <a:off x="1593360" y="414036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2730600" y="3968640"/>
            <a:ext cx="261612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scription of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pany’s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5398920" y="3959280"/>
            <a:ext cx="2248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0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135400" y="5240160"/>
            <a:ext cx="2713320" cy="729000"/>
          </a:xfrm>
          <a:custGeom>
            <a:avLst/>
            <a:gdLst>
              <a:gd name="textAreaLeft" fmla="*/ 0 w 2713320"/>
              <a:gd name="textAreaRight" fmla="*/ 2713680 w 2713320"/>
              <a:gd name="textAreaTop" fmla="*/ 0 h 729000"/>
              <a:gd name="textAreaBottom" fmla="*/ 729360 h 72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9" y="0"/>
                </a:lnTo>
                <a:lnTo>
                  <a:pt x="21600" y="10800"/>
                </a:lnTo>
                <a:lnTo>
                  <a:pt x="18519" y="21600"/>
                </a:lnTo>
                <a:lnTo>
                  <a:pt x="0" y="21600"/>
                </a:lnTo>
                <a:lnTo>
                  <a:pt x="3081" y="10800"/>
                </a:lnTo>
                <a:close/>
              </a:path>
            </a:pathLst>
          </a:custGeom>
          <a:gradFill rotWithShape="0">
            <a:gsLst>
              <a:gs pos="0">
                <a:srgbClr val="ffc319"/>
              </a:gs>
              <a:gs pos="100000">
                <a:srgbClr val="b18711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2158920" y="5154480"/>
            <a:ext cx="3378240" cy="914400"/>
          </a:xfrm>
          <a:custGeom>
            <a:avLst/>
            <a:gdLst>
              <a:gd name="textAreaLeft" fmla="*/ 0 w 3378240"/>
              <a:gd name="textAreaRight" fmla="*/ 3378600 w 33782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6" y="0"/>
                </a:lnTo>
                <a:lnTo>
                  <a:pt x="21600" y="10800"/>
                </a:lnTo>
                <a:lnTo>
                  <a:pt x="185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d45d"/>
              </a:gs>
              <a:gs pos="100000">
                <a:srgbClr val="ffc319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1508040" y="5124600"/>
            <a:ext cx="1130400" cy="1123920"/>
            <a:chOff x="1508040" y="5124600"/>
            <a:chExt cx="1130400" cy="1123920"/>
          </a:xfrm>
        </p:grpSpPr>
        <p:grpSp>
          <p:nvGrpSpPr>
            <p:cNvPr id="821" name=""/>
            <p:cNvGrpSpPr/>
            <p:nvPr/>
          </p:nvGrpSpPr>
          <p:grpSpPr>
            <a:xfrm>
              <a:off x="1508040" y="5124600"/>
              <a:ext cx="1130400" cy="1123920"/>
              <a:chOff x="1508040" y="5124600"/>
              <a:chExt cx="1130400" cy="1123920"/>
            </a:xfrm>
          </p:grpSpPr>
          <p:sp>
            <p:nvSpPr>
              <p:cNvPr id="822" name=""/>
              <p:cNvSpPr/>
              <p:nvPr/>
            </p:nvSpPr>
            <p:spPr>
              <a:xfrm>
                <a:off x="1508040" y="5124600"/>
                <a:ext cx="1130400" cy="112392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1537920" y="5146920"/>
                <a:ext cx="1077840" cy="1078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2424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82200" y="5191560"/>
                <a:ext cx="988920" cy="99000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1612080" y="5214240"/>
                <a:ext cx="929160" cy="92988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1624680" y="5228640"/>
                <a:ext cx="899280" cy="900720"/>
              </a:xfrm>
              <a:prstGeom prst="ellipse">
                <a:avLst/>
              </a:prstGeom>
              <a:gradFill rotWithShape="0">
                <a:gsLst>
                  <a:gs pos="0">
                    <a:srgbClr val="5b5b5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7" name=""/>
            <p:cNvSpPr/>
            <p:nvPr/>
          </p:nvSpPr>
          <p:spPr>
            <a:xfrm>
              <a:off x="1641600" y="5248080"/>
              <a:ext cx="876240" cy="873360"/>
            </a:xfrm>
            <a:prstGeom prst="ellipse">
              <a:avLst/>
            </a:prstGeom>
            <a:gradFill rotWithShape="0">
              <a:gsLst>
                <a:gs pos="0">
                  <a:srgbClr val="75590b"/>
                </a:gs>
                <a:gs pos="100000">
                  <a:srgbClr val="ffc3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8" name=""/>
          <p:cNvSpPr/>
          <p:nvPr/>
        </p:nvSpPr>
        <p:spPr>
          <a:xfrm>
            <a:off x="1593360" y="54943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2730600" y="5322960"/>
            <a:ext cx="261612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scription of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pany’s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398920" y="5311800"/>
            <a:ext cx="2248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,10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82560" y="1504800"/>
            <a:ext cx="6867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"/>
          <p:cNvSpPr/>
          <p:nvPr/>
        </p:nvSpPr>
        <p:spPr>
          <a:xfrm rot="3418800">
            <a:off x="7265520" y="1560240"/>
            <a:ext cx="923760" cy="1003320"/>
          </a:xfrm>
          <a:prstGeom prst="rect">
            <a:avLst/>
          </a:prstGeom>
          <a:gradFill rotWithShape="0">
            <a:gsLst>
              <a:gs pos="0">
                <a:srgbClr val="5cb1fe"/>
              </a:gs>
              <a:gs pos="100000">
                <a:srgbClr val="2a5175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77353" dir="56247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648480" y="29052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rot="3418800">
            <a:off x="1410840" y="2268360"/>
            <a:ext cx="923760" cy="1003320"/>
          </a:xfrm>
          <a:prstGeom prst="rect">
            <a:avLst/>
          </a:prstGeom>
          <a:gradFill rotWithShape="0">
            <a:gsLst>
              <a:gs pos="0">
                <a:srgbClr val="a8d02a"/>
              </a:gs>
              <a:gs pos="100000">
                <a:srgbClr val="4d5f13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77353" dir="56247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507680" y="2627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 rot="3418800">
            <a:off x="2845800" y="4173480"/>
            <a:ext cx="924120" cy="1003320"/>
          </a:xfrm>
          <a:prstGeom prst="rect">
            <a:avLst/>
          </a:prstGeom>
          <a:gradFill rotWithShape="0">
            <a:gsLst>
              <a:gs pos="0">
                <a:srgbClr val="ffc319"/>
              </a:gs>
              <a:gs pos="100000">
                <a:srgbClr val="75590b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77353" dir="56247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2942640" y="45324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 rot="3418800">
            <a:off x="4916160" y="3020760"/>
            <a:ext cx="923760" cy="1003320"/>
          </a:xfrm>
          <a:prstGeom prst="rect">
            <a:avLst/>
          </a:prstGeom>
          <a:gradFill rotWithShape="0">
            <a:gsLst>
              <a:gs pos="0">
                <a:srgbClr val="ff7575"/>
              </a:gs>
              <a:gs pos="100000">
                <a:srgbClr val="753535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77353" dir="56247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5013000" y="3379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7362360" y="1919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209680" y="3222720"/>
            <a:ext cx="762120" cy="106668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V="1">
            <a:off x="3809880" y="3755880"/>
            <a:ext cx="1067040" cy="60984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5943600" y="2371680"/>
            <a:ext cx="1295280" cy="77472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514600" y="1806480"/>
            <a:ext cx="4114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575"/>
                </a:solidFill>
                <a:latin typeface="Arial"/>
              </a:rPr>
              <a:t>Compan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a8d02a"/>
                </a:solidFill>
                <a:latin typeface="Arial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432160" y="549576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4718160" y="442908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98440" y="35910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 flipV="1">
            <a:off x="1042920" y="5370480"/>
            <a:ext cx="3306960" cy="487440"/>
          </a:xfrm>
          <a:prstGeom prst="ellipse">
            <a:avLst/>
          </a:prstGeom>
          <a:solidFill>
            <a:srgbClr val="5cb1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611600" y="5343480"/>
            <a:ext cx="3305160" cy="486000"/>
          </a:xfrm>
          <a:prstGeom prst="ellipse">
            <a:avLst/>
          </a:prstGeom>
          <a:solidFill>
            <a:srgbClr val="ffc31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22320" y="325080"/>
            <a:ext cx="776448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ontent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147680" y="2422440"/>
            <a:ext cx="3106800" cy="3076560"/>
            <a:chOff x="1147680" y="2422440"/>
            <a:chExt cx="3106800" cy="3076560"/>
          </a:xfrm>
        </p:grpSpPr>
        <p:sp>
          <p:nvSpPr>
            <p:cNvPr id="145" name=""/>
            <p:cNvSpPr/>
            <p:nvPr/>
          </p:nvSpPr>
          <p:spPr>
            <a:xfrm>
              <a:off x="3757680" y="2425680"/>
              <a:ext cx="120600" cy="3073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ccccc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492200" y="2422440"/>
              <a:ext cx="120600" cy="3073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ccccc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147680" y="2620800"/>
              <a:ext cx="3106800" cy="3812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3f7bb0"/>
                </a:gs>
                <a:gs pos="50000">
                  <a:srgbClr val="5cb1fe"/>
                </a:gs>
                <a:gs pos="100000">
                  <a:srgbClr val="3f7b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47680" y="3154320"/>
              <a:ext cx="310680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366895"/>
                </a:gs>
                <a:gs pos="50000">
                  <a:srgbClr val="5cb1fe"/>
                </a:gs>
                <a:gs pos="100000">
                  <a:srgbClr val="36689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47680" y="3687840"/>
              <a:ext cx="310680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3f7bb0"/>
                </a:gs>
                <a:gs pos="50000">
                  <a:srgbClr val="5cb1fe"/>
                </a:gs>
                <a:gs pos="100000">
                  <a:srgbClr val="3f7b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47680" y="4221000"/>
              <a:ext cx="3106800" cy="3812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366895"/>
                </a:gs>
                <a:gs pos="50000">
                  <a:srgbClr val="5cb1fe"/>
                </a:gs>
                <a:gs pos="100000">
                  <a:srgbClr val="36689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47680" y="4754520"/>
              <a:ext cx="310680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3f7bb0"/>
                </a:gs>
                <a:gs pos="50000">
                  <a:srgbClr val="5cb1fe"/>
                </a:gs>
                <a:gs pos="100000">
                  <a:srgbClr val="3f7b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1273320" y="1303200"/>
            <a:ext cx="6553080" cy="866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4668840" y="2417760"/>
            <a:ext cx="3191040" cy="3081240"/>
            <a:chOff x="4668840" y="2417760"/>
            <a:chExt cx="3191040" cy="3081240"/>
          </a:xfrm>
        </p:grpSpPr>
        <p:sp>
          <p:nvSpPr>
            <p:cNvPr id="154" name=""/>
            <p:cNvSpPr/>
            <p:nvPr/>
          </p:nvSpPr>
          <p:spPr>
            <a:xfrm>
              <a:off x="7399440" y="2417760"/>
              <a:ext cx="120600" cy="3073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ccccc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06880" y="2425680"/>
              <a:ext cx="120600" cy="3073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ccccc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68840" y="2625840"/>
              <a:ext cx="319104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b18711"/>
                </a:gs>
                <a:gs pos="50000">
                  <a:srgbClr val="ffc319"/>
                </a:gs>
                <a:gs pos="100000">
                  <a:srgbClr val="b1871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68840" y="3159000"/>
              <a:ext cx="3191040" cy="3812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96730e"/>
                </a:gs>
                <a:gs pos="50000">
                  <a:srgbClr val="ffc319"/>
                </a:gs>
                <a:gs pos="100000">
                  <a:srgbClr val="9673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668840" y="3692520"/>
              <a:ext cx="319104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b18711"/>
                </a:gs>
                <a:gs pos="50000">
                  <a:srgbClr val="ffc319"/>
                </a:gs>
                <a:gs pos="100000">
                  <a:srgbClr val="b1871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668840" y="4226040"/>
              <a:ext cx="319104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96730e"/>
                </a:gs>
                <a:gs pos="50000">
                  <a:srgbClr val="ffc319"/>
                </a:gs>
                <a:gs pos="100000">
                  <a:srgbClr val="9673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668840" y="4759200"/>
              <a:ext cx="3191040" cy="3812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b18711"/>
                </a:gs>
                <a:gs pos="50000">
                  <a:srgbClr val="ffc319"/>
                </a:gs>
                <a:gs pos="100000">
                  <a:srgbClr val="b1871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2009880" y="5429160"/>
            <a:ext cx="1361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fc"/>
                </a:solidFill>
                <a:latin typeface="Arial"/>
              </a:rPr>
              <a:t>Contents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575320" y="5389560"/>
            <a:ext cx="1361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fc"/>
                </a:solidFill>
                <a:latin typeface="Arial"/>
              </a:rPr>
              <a:t>Contents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  <a:ea typeface="宋体"/>
              </a:rPr>
              <a:t>Thank You!</a:t>
            </a: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333360" y="508464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Hot Tip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2960" y="1917720"/>
            <a:ext cx="7378560" cy="25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n the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[View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menu, point to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[Master]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and then click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[Slide Master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or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[Notes Master]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31960" y="4867200"/>
            <a:ext cx="63244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 Image information in product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: 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 may not extract the image for any other u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776840" y="2440080"/>
            <a:ext cx="3508200" cy="14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0303"/>
                </a:solidFill>
                <a:latin typeface="Arial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4627440" y="2279520"/>
            <a:ext cx="5040" cy="30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2692800">
            <a:off x="845640" y="2112840"/>
            <a:ext cx="3449880" cy="3463920"/>
          </a:xfrm>
          <a:prstGeom prst="blockArc">
            <a:avLst>
              <a:gd name="adj1" fmla="val 13516087"/>
              <a:gd name="adj2" fmla="val 18883913"/>
              <a:gd name="adj3" fmla="val 17824"/>
            </a:avLst>
          </a:prstGeom>
          <a:gradFill rotWithShape="0">
            <a:gsLst>
              <a:gs pos="0">
                <a:srgbClr val="ffc319"/>
              </a:gs>
              <a:gs pos="100000">
                <a:srgbClr val="fed155"/>
              </a:gs>
            </a:gsLst>
            <a:lin ang="2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18892800">
            <a:off x="871920" y="2111760"/>
            <a:ext cx="3449520" cy="3463920"/>
          </a:xfrm>
          <a:prstGeom prst="blockArc">
            <a:avLst>
              <a:gd name="adj1" fmla="val 13516087"/>
              <a:gd name="adj2" fmla="val 18883913"/>
              <a:gd name="adj3" fmla="val 17824"/>
            </a:avLst>
          </a:pr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 rot="18907200">
            <a:off x="843120" y="2073960"/>
            <a:ext cx="3449520" cy="3463920"/>
          </a:xfrm>
          <a:prstGeom prst="blockArc">
            <a:avLst>
              <a:gd name="adj1" fmla="val 13516087"/>
              <a:gd name="adj2" fmla="val 18883913"/>
              <a:gd name="adj3" fmla="val 17824"/>
            </a:avLst>
          </a:prstGeom>
          <a:gradFill rotWithShape="0">
            <a:gsLst>
              <a:gs pos="0">
                <a:srgbClr val="5cb1fe"/>
              </a:gs>
              <a:gs pos="100000">
                <a:srgbClr val="86c4fd"/>
              </a:gs>
            </a:gsLst>
            <a:lin ang="2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 flipV="1" rot="2692800">
            <a:off x="871560" y="2073960"/>
            <a:ext cx="3449520" cy="3463920"/>
          </a:xfrm>
          <a:prstGeom prst="blockArc">
            <a:avLst>
              <a:gd name="adj1" fmla="val 13516087"/>
              <a:gd name="adj2" fmla="val 18883913"/>
              <a:gd name="adj3" fmla="val 17824"/>
            </a:avLst>
          </a:prstGeom>
          <a:gradFill rotWithShape="0">
            <a:gsLst>
              <a:gs pos="0">
                <a:srgbClr val="ff7575"/>
              </a:gs>
              <a:gs pos="100000">
                <a:srgbClr val="fe9898"/>
              </a:gs>
            </a:gsLst>
            <a:lin ang="2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 rot="18991800">
            <a:off x="917280" y="2700000"/>
            <a:ext cx="2162160" cy="107964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31235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4" name=""/>
          <p:cNvSpPr txBox="1"/>
          <p:nvPr/>
        </p:nvSpPr>
        <p:spPr>
          <a:xfrm rot="2855400">
            <a:off x="2084040" y="2757600"/>
            <a:ext cx="2162160" cy="107928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30548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5" name=""/>
          <p:cNvSpPr txBox="1"/>
          <p:nvPr/>
        </p:nvSpPr>
        <p:spPr>
          <a:xfrm rot="2855400">
            <a:off x="910800" y="3897360"/>
            <a:ext cx="2162160" cy="107964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Down">
              <a:avLst>
                <a:gd name="adj" fmla="val 24050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6" name=""/>
          <p:cNvSpPr txBox="1"/>
          <p:nvPr/>
        </p:nvSpPr>
        <p:spPr>
          <a:xfrm rot="18739200">
            <a:off x="2107440" y="3836160"/>
            <a:ext cx="2162160" cy="114480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Down">
              <a:avLst>
                <a:gd name="adj" fmla="val 24050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28720" y="3767040"/>
            <a:ext cx="17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608120" y="3097080"/>
            <a:ext cx="194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28640" y="3556080"/>
            <a:ext cx="1895760" cy="0"/>
          </a:xfrm>
          <a:prstGeom prst="line">
            <a:avLst/>
          </a:prstGeom>
          <a:ln w="2844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008680" y="4086360"/>
            <a:ext cx="247680" cy="247680"/>
          </a:xfrm>
          <a:prstGeom prst="donut">
            <a:avLst>
              <a:gd name="adj" fmla="val 25000"/>
            </a:avLst>
          </a:prstGeom>
          <a:solidFill>
            <a:srgbClr val="ff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008680" y="4419720"/>
            <a:ext cx="247680" cy="247680"/>
          </a:xfrm>
          <a:prstGeom prst="donut">
            <a:avLst>
              <a:gd name="adj" fmla="val 25000"/>
            </a:avLst>
          </a:pr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008680" y="4724280"/>
            <a:ext cx="247680" cy="247680"/>
          </a:xfrm>
          <a:prstGeom prst="donut">
            <a:avLst>
              <a:gd name="adj" fmla="val 25000"/>
            </a:avLst>
          </a:pr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008680" y="5029200"/>
            <a:ext cx="247680" cy="247680"/>
          </a:xfrm>
          <a:prstGeom prst="donut">
            <a:avLst>
              <a:gd name="adj" fmla="val 25000"/>
            </a:avLst>
          </a:pr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62480" y="404496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62480" y="438156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62480" y="469584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62480" y="500076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69560" y="2970360"/>
            <a:ext cx="35578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357960" y="2124000"/>
            <a:ext cx="2023920" cy="20257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812880" y="2106720"/>
            <a:ext cx="2146320" cy="21463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3005280" y="2860560"/>
            <a:ext cx="517320" cy="5828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5783400" y="2782800"/>
            <a:ext cx="517320" cy="5828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>
            <a:off x="3562200" y="2130480"/>
            <a:ext cx="2183040" cy="21826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063800" y="2886120"/>
            <a:ext cx="160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21040" y="2914560"/>
            <a:ext cx="16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556320" y="2876400"/>
            <a:ext cx="160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184400" y="4675320"/>
            <a:ext cx="6138720" cy="9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514600" y="2271600"/>
            <a:ext cx="2743200" cy="2743200"/>
          </a:xfrm>
          <a:prstGeom prst="ellips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657600" y="2786040"/>
            <a:ext cx="1619280" cy="1619280"/>
          </a:xfrm>
          <a:prstGeom prst="ellipse">
            <a:avLst/>
          </a:prstGeom>
          <a:solidFill>
            <a:srgbClr val="dcdcd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895480" y="3567240"/>
            <a:ext cx="152424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733920" y="2424240"/>
            <a:ext cx="91440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3828960" y="3948120"/>
            <a:ext cx="819360" cy="140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029200" y="3871800"/>
            <a:ext cx="2286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5029200" y="2576520"/>
            <a:ext cx="5335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95880" y="3176640"/>
            <a:ext cx="895320" cy="89532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914560" y="1547640"/>
            <a:ext cx="1171080" cy="1175400"/>
            <a:chOff x="2914560" y="1547640"/>
            <a:chExt cx="1171080" cy="1175400"/>
          </a:xfrm>
        </p:grpSpPr>
        <p:sp>
          <p:nvSpPr>
            <p:cNvPr id="209" name=""/>
            <p:cNvSpPr/>
            <p:nvPr/>
          </p:nvSpPr>
          <p:spPr>
            <a:xfrm>
              <a:off x="2914560" y="154764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2949480" y="1584000"/>
              <a:ext cx="1118520" cy="1139040"/>
              <a:chOff x="2949480" y="1584000"/>
              <a:chExt cx="1118520" cy="1139040"/>
            </a:xfrm>
          </p:grpSpPr>
          <p:pic>
            <p:nvPicPr>
              <p:cNvPr id="21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949480" y="158400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"/>
              <p:cNvSpPr/>
              <p:nvPr/>
            </p:nvSpPr>
            <p:spPr>
              <a:xfrm>
                <a:off x="2949480" y="1584000"/>
                <a:ext cx="1079640" cy="1085760"/>
              </a:xfrm>
              <a:prstGeom prst="ellipse">
                <a:avLst/>
              </a:prstGeom>
              <a:solidFill>
                <a:srgbClr val="ffc31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3" name="" descr=""/>
              <p:cNvPicPr/>
              <p:nvPr/>
            </p:nvPicPr>
            <p:blipFill>
              <a:blip r:embed="rId2"/>
              <a:srcRect l="0" t="14289" r="0" b="0"/>
              <a:stretch/>
            </p:blipFill>
            <p:spPr>
              <a:xfrm>
                <a:off x="2959920" y="162900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14" name=""/>
              <p:cNvGrpSpPr/>
              <p:nvPr/>
            </p:nvGrpSpPr>
            <p:grpSpPr>
              <a:xfrm>
                <a:off x="3299760" y="2021400"/>
                <a:ext cx="768240" cy="701640"/>
                <a:chOff x="3299760" y="2021400"/>
                <a:chExt cx="768240" cy="701640"/>
              </a:xfrm>
            </p:grpSpPr>
            <p:grpSp>
              <p:nvGrpSpPr>
                <p:cNvPr id="215" name=""/>
                <p:cNvGrpSpPr/>
                <p:nvPr/>
              </p:nvGrpSpPr>
              <p:grpSpPr>
                <a:xfrm>
                  <a:off x="3476880" y="2021400"/>
                  <a:ext cx="591120" cy="694080"/>
                  <a:chOff x="3476880" y="2021400"/>
                  <a:chExt cx="591120" cy="69408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 flipH="1" flipV="1" rot="1528800">
                    <a:off x="3806640" y="20232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 flipH="1" flipV="1" rot="2344200">
                    <a:off x="3760920" y="21078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 flipH="1" flipV="1" rot="2640000">
                    <a:off x="3723840" y="21492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 flipH="1" flipV="1" rot="3172200">
                    <a:off x="3678480" y="21967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3299760" y="2213280"/>
                  <a:ext cx="743760" cy="509760"/>
                  <a:chOff x="3299760" y="2213280"/>
                  <a:chExt cx="743760" cy="50976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 flipH="1" flipV="1" rot="2881800">
                    <a:off x="3711240" y="216936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flipH="1" flipV="1" rot="3697200">
                    <a:off x="3637080" y="222984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 flipH="1" flipV="1" rot="3993000">
                    <a:off x="3586680" y="225468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 flipH="1" flipV="1" rot="4525200">
                    <a:off x="3526560" y="22813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25" name=""/>
            <p:cNvGrpSpPr/>
            <p:nvPr/>
          </p:nvGrpSpPr>
          <p:grpSpPr>
            <a:xfrm>
              <a:off x="3407760" y="2052720"/>
              <a:ext cx="677880" cy="618120"/>
              <a:chOff x="3407760" y="2052720"/>
              <a:chExt cx="677880" cy="618120"/>
            </a:xfrm>
          </p:grpSpPr>
          <p:grpSp>
            <p:nvGrpSpPr>
              <p:cNvPr id="226" name=""/>
              <p:cNvGrpSpPr/>
              <p:nvPr/>
            </p:nvGrpSpPr>
            <p:grpSpPr>
              <a:xfrm>
                <a:off x="3564360" y="2052720"/>
                <a:ext cx="521280" cy="611280"/>
                <a:chOff x="3564360" y="2052720"/>
                <a:chExt cx="521280" cy="611280"/>
              </a:xfrm>
            </p:grpSpPr>
            <p:sp>
              <p:nvSpPr>
                <p:cNvPr id="227" name=""/>
                <p:cNvSpPr/>
                <p:nvPr/>
              </p:nvSpPr>
              <p:spPr>
                <a:xfrm flipH="1" flipV="1" rot="1528800">
                  <a:off x="3854160" y="205452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flipH="1" flipV="1" rot="2344200">
                  <a:off x="3815280" y="21286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flipH="1" flipV="1" rot="2640000">
                  <a:off x="3782160" y="21654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flipH="1" flipV="1" rot="3172200">
                  <a:off x="3741480" y="22071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3407760" y="2220840"/>
                <a:ext cx="655200" cy="450000"/>
                <a:chOff x="3407760" y="2220840"/>
                <a:chExt cx="655200" cy="450000"/>
              </a:xfrm>
            </p:grpSpPr>
            <p:sp>
              <p:nvSpPr>
                <p:cNvPr id="232" name=""/>
                <p:cNvSpPr/>
                <p:nvPr/>
              </p:nvSpPr>
              <p:spPr>
                <a:xfrm flipH="1" flipV="1" rot="2881800">
                  <a:off x="3769200" y="218268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flipH="1" flipV="1" rot="3697200">
                  <a:off x="3704400" y="2236680"/>
                  <a:ext cx="12492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 flipH="1" flipV="1" rot="3993000">
                  <a:off x="3660120" y="2258280"/>
                  <a:ext cx="12492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 flipH="1" flipV="1" rot="4525200">
                  <a:off x="3606480" y="228168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6" name=""/>
            <p:cNvSpPr/>
            <p:nvPr/>
          </p:nvSpPr>
          <p:spPr>
            <a:xfrm>
              <a:off x="3199320" y="19666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1830240" y="2830680"/>
            <a:ext cx="1171080" cy="1175400"/>
            <a:chOff x="1830240" y="2830680"/>
            <a:chExt cx="1171080" cy="1175400"/>
          </a:xfrm>
        </p:grpSpPr>
        <p:sp>
          <p:nvSpPr>
            <p:cNvPr id="238" name=""/>
            <p:cNvSpPr/>
            <p:nvPr/>
          </p:nvSpPr>
          <p:spPr>
            <a:xfrm>
              <a:off x="1830240" y="283068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1865160" y="2867040"/>
              <a:ext cx="1118520" cy="1139040"/>
              <a:chOff x="1865160" y="2867040"/>
              <a:chExt cx="1118520" cy="1139040"/>
            </a:xfrm>
          </p:grpSpPr>
          <p:pic>
            <p:nvPicPr>
              <p:cNvPr id="24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65160" y="286704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1" name=""/>
              <p:cNvSpPr/>
              <p:nvPr/>
            </p:nvSpPr>
            <p:spPr>
              <a:xfrm>
                <a:off x="1865160" y="2867040"/>
                <a:ext cx="1079640" cy="1085760"/>
              </a:xfrm>
              <a:prstGeom prst="ellipse">
                <a:avLst/>
              </a:prstGeom>
              <a:solidFill>
                <a:srgbClr val="ff757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2" name="" descr=""/>
              <p:cNvPicPr/>
              <p:nvPr/>
            </p:nvPicPr>
            <p:blipFill>
              <a:blip r:embed="rId4"/>
              <a:srcRect l="0" t="14289" r="0" b="0"/>
              <a:stretch/>
            </p:blipFill>
            <p:spPr>
              <a:xfrm>
                <a:off x="1875600" y="291204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3" name=""/>
              <p:cNvGrpSpPr/>
              <p:nvPr/>
            </p:nvGrpSpPr>
            <p:grpSpPr>
              <a:xfrm>
                <a:off x="2215440" y="3304440"/>
                <a:ext cx="768240" cy="701640"/>
                <a:chOff x="2215440" y="3304440"/>
                <a:chExt cx="768240" cy="701640"/>
              </a:xfrm>
            </p:grpSpPr>
            <p:grpSp>
              <p:nvGrpSpPr>
                <p:cNvPr id="244" name=""/>
                <p:cNvGrpSpPr/>
                <p:nvPr/>
              </p:nvGrpSpPr>
              <p:grpSpPr>
                <a:xfrm>
                  <a:off x="2392560" y="3304440"/>
                  <a:ext cx="591120" cy="694080"/>
                  <a:chOff x="2392560" y="3304440"/>
                  <a:chExt cx="591120" cy="694080"/>
                </a:xfrm>
              </p:grpSpPr>
              <p:sp>
                <p:nvSpPr>
                  <p:cNvPr id="245" name=""/>
                  <p:cNvSpPr/>
                  <p:nvPr/>
                </p:nvSpPr>
                <p:spPr>
                  <a:xfrm flipH="1" flipV="1" rot="1528800">
                    <a:off x="2722320" y="33062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 flipH="1" flipV="1" rot="2344200">
                    <a:off x="2676600" y="33908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 flipH="1" flipV="1" rot="2640000">
                    <a:off x="2639520" y="34322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 flipH="1" flipV="1" rot="3172200">
                    <a:off x="2594160" y="34797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9" name=""/>
                <p:cNvGrpSpPr/>
                <p:nvPr/>
              </p:nvGrpSpPr>
              <p:grpSpPr>
                <a:xfrm>
                  <a:off x="2215440" y="3496320"/>
                  <a:ext cx="743760" cy="509760"/>
                  <a:chOff x="2215440" y="3496320"/>
                  <a:chExt cx="743760" cy="509760"/>
                </a:xfrm>
              </p:grpSpPr>
              <p:sp>
                <p:nvSpPr>
                  <p:cNvPr id="250" name=""/>
                  <p:cNvSpPr/>
                  <p:nvPr/>
                </p:nvSpPr>
                <p:spPr>
                  <a:xfrm flipH="1" flipV="1" rot="2881800">
                    <a:off x="2626920" y="345240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 flipH="1" flipV="1" rot="3697200">
                    <a:off x="2552760" y="351288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 flipH="1" flipV="1" rot="3993000">
                    <a:off x="2502360" y="353772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 flipH="1" flipV="1" rot="4525200">
                    <a:off x="2442240" y="35643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54" name=""/>
            <p:cNvGrpSpPr/>
            <p:nvPr/>
          </p:nvGrpSpPr>
          <p:grpSpPr>
            <a:xfrm>
              <a:off x="2323440" y="3335760"/>
              <a:ext cx="677880" cy="618120"/>
              <a:chOff x="2323440" y="3335760"/>
              <a:chExt cx="677880" cy="618120"/>
            </a:xfrm>
          </p:grpSpPr>
          <p:grpSp>
            <p:nvGrpSpPr>
              <p:cNvPr id="255" name=""/>
              <p:cNvGrpSpPr/>
              <p:nvPr/>
            </p:nvGrpSpPr>
            <p:grpSpPr>
              <a:xfrm>
                <a:off x="2480040" y="3335760"/>
                <a:ext cx="521280" cy="611280"/>
                <a:chOff x="2480040" y="3335760"/>
                <a:chExt cx="521280" cy="611280"/>
              </a:xfrm>
            </p:grpSpPr>
            <p:sp>
              <p:nvSpPr>
                <p:cNvPr id="256" name=""/>
                <p:cNvSpPr/>
                <p:nvPr/>
              </p:nvSpPr>
              <p:spPr>
                <a:xfrm flipH="1" flipV="1" rot="1528800">
                  <a:off x="2769840" y="333756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flipH="1" flipV="1" rot="2344200">
                  <a:off x="2730960" y="341172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flipH="1" flipV="1" rot="2640000">
                  <a:off x="2697840" y="344844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 flipH="1" flipV="1" rot="3172200">
                  <a:off x="2657160" y="34902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2323440" y="3503880"/>
                <a:ext cx="655200" cy="450000"/>
                <a:chOff x="2323440" y="3503880"/>
                <a:chExt cx="655200" cy="450000"/>
              </a:xfrm>
            </p:grpSpPr>
            <p:sp>
              <p:nvSpPr>
                <p:cNvPr id="261" name=""/>
                <p:cNvSpPr/>
                <p:nvPr/>
              </p:nvSpPr>
              <p:spPr>
                <a:xfrm flipH="1" flipV="1" rot="2881800">
                  <a:off x="2684880" y="346572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 rot="3697200">
                  <a:off x="2620080" y="3519720"/>
                  <a:ext cx="12492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flipH="1" flipV="1" rot="3993000">
                  <a:off x="2575800" y="3541320"/>
                  <a:ext cx="12492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 rot="4525200">
                  <a:off x="2522160" y="356472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2115000" y="324972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2943360" y="5178600"/>
            <a:ext cx="1170360" cy="1175400"/>
            <a:chOff x="2943360" y="5178600"/>
            <a:chExt cx="1170360" cy="1175400"/>
          </a:xfrm>
        </p:grpSpPr>
        <p:sp>
          <p:nvSpPr>
            <p:cNvPr id="267" name=""/>
            <p:cNvSpPr/>
            <p:nvPr/>
          </p:nvSpPr>
          <p:spPr>
            <a:xfrm>
              <a:off x="2943360" y="517860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2977920" y="5214960"/>
              <a:ext cx="1118520" cy="1139040"/>
              <a:chOff x="2977920" y="5214960"/>
              <a:chExt cx="1118520" cy="1139040"/>
            </a:xfrm>
          </p:grpSpPr>
          <p:pic>
            <p:nvPicPr>
              <p:cNvPr id="26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977920" y="5214960"/>
                <a:ext cx="107244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0" name=""/>
              <p:cNvSpPr/>
              <p:nvPr/>
            </p:nvSpPr>
            <p:spPr>
              <a:xfrm>
                <a:off x="2977920" y="5214960"/>
                <a:ext cx="1079280" cy="1085760"/>
              </a:xfrm>
              <a:prstGeom prst="ellipse">
                <a:avLst/>
              </a:prstGeom>
              <a:solidFill>
                <a:srgbClr val="5cb1f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1" name="" descr=""/>
              <p:cNvPicPr/>
              <p:nvPr/>
            </p:nvPicPr>
            <p:blipFill>
              <a:blip r:embed="rId6"/>
              <a:srcRect l="0" t="14289" r="0" b="0"/>
              <a:stretch/>
            </p:blipFill>
            <p:spPr>
              <a:xfrm>
                <a:off x="2988360" y="5259960"/>
                <a:ext cx="79056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72" name=""/>
              <p:cNvGrpSpPr/>
              <p:nvPr/>
            </p:nvGrpSpPr>
            <p:grpSpPr>
              <a:xfrm>
                <a:off x="3328200" y="5652360"/>
                <a:ext cx="768240" cy="701640"/>
                <a:chOff x="3328200" y="5652360"/>
                <a:chExt cx="768240" cy="701640"/>
              </a:xfrm>
            </p:grpSpPr>
            <p:grpSp>
              <p:nvGrpSpPr>
                <p:cNvPr id="273" name=""/>
                <p:cNvGrpSpPr/>
                <p:nvPr/>
              </p:nvGrpSpPr>
              <p:grpSpPr>
                <a:xfrm>
                  <a:off x="3505320" y="5652360"/>
                  <a:ext cx="591120" cy="694080"/>
                  <a:chOff x="3505320" y="5652360"/>
                  <a:chExt cx="591120" cy="694080"/>
                </a:xfrm>
              </p:grpSpPr>
              <p:sp>
                <p:nvSpPr>
                  <p:cNvPr id="274" name=""/>
                  <p:cNvSpPr/>
                  <p:nvPr/>
                </p:nvSpPr>
                <p:spPr>
                  <a:xfrm flipH="1" flipV="1" rot="1528800">
                    <a:off x="3835080" y="56541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H="1" flipV="1" rot="2344200">
                    <a:off x="3789360" y="57387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 flipH="1" flipV="1" rot="2640000">
                    <a:off x="3752280" y="57801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 flipH="1" flipV="1" rot="3172200">
                    <a:off x="3706920" y="58276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8" name=""/>
                <p:cNvGrpSpPr/>
                <p:nvPr/>
              </p:nvGrpSpPr>
              <p:grpSpPr>
                <a:xfrm>
                  <a:off x="3328200" y="5844240"/>
                  <a:ext cx="743760" cy="509760"/>
                  <a:chOff x="3328200" y="5844240"/>
                  <a:chExt cx="743760" cy="509760"/>
                </a:xfrm>
              </p:grpSpPr>
              <p:sp>
                <p:nvSpPr>
                  <p:cNvPr id="279" name=""/>
                  <p:cNvSpPr/>
                  <p:nvPr/>
                </p:nvSpPr>
                <p:spPr>
                  <a:xfrm flipH="1" flipV="1" rot="2881800">
                    <a:off x="3739680" y="580032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 flipH="1" flipV="1" rot="3697200">
                    <a:off x="3665520" y="586080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 flipH="1" flipV="1" rot="3993000">
                    <a:off x="3615120" y="588564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 flipH="1" flipV="1" rot="4525200">
                    <a:off x="3555000" y="59122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83" name=""/>
            <p:cNvGrpSpPr/>
            <p:nvPr/>
          </p:nvGrpSpPr>
          <p:grpSpPr>
            <a:xfrm>
              <a:off x="3435480" y="5683320"/>
              <a:ext cx="678240" cy="618120"/>
              <a:chOff x="3435480" y="5683320"/>
              <a:chExt cx="678240" cy="618120"/>
            </a:xfrm>
          </p:grpSpPr>
          <p:grpSp>
            <p:nvGrpSpPr>
              <p:cNvPr id="284" name=""/>
              <p:cNvGrpSpPr/>
              <p:nvPr/>
            </p:nvGrpSpPr>
            <p:grpSpPr>
              <a:xfrm>
                <a:off x="3592440" y="5683320"/>
                <a:ext cx="521280" cy="611640"/>
                <a:chOff x="3592440" y="5683320"/>
                <a:chExt cx="521280" cy="611640"/>
              </a:xfrm>
            </p:grpSpPr>
            <p:sp>
              <p:nvSpPr>
                <p:cNvPr id="285" name=""/>
                <p:cNvSpPr/>
                <p:nvPr/>
              </p:nvSpPr>
              <p:spPr>
                <a:xfrm flipH="1" flipV="1" rot="1528800">
                  <a:off x="3881880" y="568512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 flipV="1" rot="2344200">
                  <a:off x="3843360" y="5759640"/>
                  <a:ext cx="12384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flipH="1" flipV="1" rot="2640000">
                  <a:off x="3810960" y="579600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flipH="1" flipV="1" rot="3172200">
                  <a:off x="3770280" y="583776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3435480" y="5851800"/>
                <a:ext cx="655200" cy="449640"/>
                <a:chOff x="3435480" y="5851800"/>
                <a:chExt cx="655200" cy="449640"/>
              </a:xfrm>
            </p:grpSpPr>
            <p:sp>
              <p:nvSpPr>
                <p:cNvPr id="290" name=""/>
                <p:cNvSpPr/>
                <p:nvPr/>
              </p:nvSpPr>
              <p:spPr>
                <a:xfrm flipH="1" flipV="1" rot="2881800">
                  <a:off x="3797640" y="581328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 flipH="1" flipV="1" rot="3697200">
                  <a:off x="3732840" y="5868000"/>
                  <a:ext cx="12420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 flipV="1" rot="3993000">
                  <a:off x="3688920" y="5888160"/>
                  <a:ext cx="12456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 flipH="1" flipV="1" rot="4525200">
                  <a:off x="3634200" y="591192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94" name=""/>
            <p:cNvSpPr/>
            <p:nvPr/>
          </p:nvSpPr>
          <p:spPr>
            <a:xfrm>
              <a:off x="3227760" y="559764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5187960" y="3719520"/>
            <a:ext cx="1171080" cy="1175400"/>
            <a:chOff x="5187960" y="3719520"/>
            <a:chExt cx="1171080" cy="1175400"/>
          </a:xfrm>
        </p:grpSpPr>
        <p:sp>
          <p:nvSpPr>
            <p:cNvPr id="296" name=""/>
            <p:cNvSpPr/>
            <p:nvPr/>
          </p:nvSpPr>
          <p:spPr>
            <a:xfrm>
              <a:off x="5187960" y="371952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5222880" y="3755880"/>
              <a:ext cx="1118520" cy="1139040"/>
              <a:chOff x="5222880" y="3755880"/>
              <a:chExt cx="1118520" cy="1139040"/>
            </a:xfrm>
          </p:grpSpPr>
          <p:pic>
            <p:nvPicPr>
              <p:cNvPr id="298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222880" y="375588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"/>
              <p:cNvSpPr/>
              <p:nvPr/>
            </p:nvSpPr>
            <p:spPr>
              <a:xfrm>
                <a:off x="5222880" y="3755880"/>
                <a:ext cx="1079640" cy="1085760"/>
              </a:xfrm>
              <a:prstGeom prst="ellipse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00" name="" descr=""/>
              <p:cNvPicPr/>
              <p:nvPr/>
            </p:nvPicPr>
            <p:blipFill>
              <a:blip r:embed="rId8"/>
              <a:srcRect l="0" t="14289" r="0" b="0"/>
              <a:stretch/>
            </p:blipFill>
            <p:spPr>
              <a:xfrm>
                <a:off x="5233320" y="380088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01" name=""/>
              <p:cNvGrpSpPr/>
              <p:nvPr/>
            </p:nvGrpSpPr>
            <p:grpSpPr>
              <a:xfrm>
                <a:off x="5573160" y="4193280"/>
                <a:ext cx="768240" cy="701640"/>
                <a:chOff x="5573160" y="4193280"/>
                <a:chExt cx="768240" cy="701640"/>
              </a:xfrm>
            </p:grpSpPr>
            <p:grpSp>
              <p:nvGrpSpPr>
                <p:cNvPr id="302" name=""/>
                <p:cNvGrpSpPr/>
                <p:nvPr/>
              </p:nvGrpSpPr>
              <p:grpSpPr>
                <a:xfrm>
                  <a:off x="5750280" y="4193280"/>
                  <a:ext cx="591120" cy="694080"/>
                  <a:chOff x="5750280" y="4193280"/>
                  <a:chExt cx="591120" cy="694080"/>
                </a:xfrm>
              </p:grpSpPr>
              <p:sp>
                <p:nvSpPr>
                  <p:cNvPr id="303" name=""/>
                  <p:cNvSpPr/>
                  <p:nvPr/>
                </p:nvSpPr>
                <p:spPr>
                  <a:xfrm flipH="1" flipV="1" rot="1528800">
                    <a:off x="6080040" y="41950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 flipH="1" flipV="1" rot="2344200">
                    <a:off x="6034320" y="42796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 flipH="1" flipV="1" rot="2640000">
                    <a:off x="5997240" y="43210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 flipH="1" flipV="1" rot="3172200">
                    <a:off x="5951880" y="43686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7" name=""/>
                <p:cNvGrpSpPr/>
                <p:nvPr/>
              </p:nvGrpSpPr>
              <p:grpSpPr>
                <a:xfrm>
                  <a:off x="5573160" y="4385160"/>
                  <a:ext cx="743760" cy="509760"/>
                  <a:chOff x="5573160" y="4385160"/>
                  <a:chExt cx="743760" cy="509760"/>
                </a:xfrm>
              </p:grpSpPr>
              <p:sp>
                <p:nvSpPr>
                  <p:cNvPr id="308" name=""/>
                  <p:cNvSpPr/>
                  <p:nvPr/>
                </p:nvSpPr>
                <p:spPr>
                  <a:xfrm flipH="1" flipV="1" rot="2881800">
                    <a:off x="5984640" y="434124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 flipH="1" flipV="1" rot="3697200">
                    <a:off x="5910480" y="440172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 flipH="1" flipV="1" rot="3993000">
                    <a:off x="5860080" y="442656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 flipH="1" flipV="1" rot="4525200">
                    <a:off x="5799960" y="44532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12" name=""/>
            <p:cNvGrpSpPr/>
            <p:nvPr/>
          </p:nvGrpSpPr>
          <p:grpSpPr>
            <a:xfrm>
              <a:off x="5681160" y="4224600"/>
              <a:ext cx="677880" cy="618120"/>
              <a:chOff x="5681160" y="4224600"/>
              <a:chExt cx="677880" cy="6181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5837760" y="4224600"/>
                <a:ext cx="521280" cy="611280"/>
                <a:chOff x="5837760" y="4224600"/>
                <a:chExt cx="521280" cy="611280"/>
              </a:xfrm>
            </p:grpSpPr>
            <p:sp>
              <p:nvSpPr>
                <p:cNvPr id="314" name=""/>
                <p:cNvSpPr/>
                <p:nvPr/>
              </p:nvSpPr>
              <p:spPr>
                <a:xfrm flipH="1" flipV="1" rot="1528800">
                  <a:off x="6127560" y="422640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flipH="1" flipV="1" rot="2344200">
                  <a:off x="6088680" y="43005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flipH="1" flipV="1" rot="2640000">
                  <a:off x="6055560" y="43372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flipH="1" flipV="1" rot="3172200">
                  <a:off x="6014880" y="437904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5681160" y="4392720"/>
                <a:ext cx="655200" cy="450000"/>
                <a:chOff x="5681160" y="4392720"/>
                <a:chExt cx="655200" cy="450000"/>
              </a:xfrm>
            </p:grpSpPr>
            <p:sp>
              <p:nvSpPr>
                <p:cNvPr id="319" name=""/>
                <p:cNvSpPr/>
                <p:nvPr/>
              </p:nvSpPr>
              <p:spPr>
                <a:xfrm flipH="1" flipV="1" rot="2881800">
                  <a:off x="6042600" y="435456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 flipH="1" flipV="1" rot="3697200">
                  <a:off x="5977800" y="4408560"/>
                  <a:ext cx="12492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flipH="1" flipV="1" rot="3993000">
                  <a:off x="5933520" y="4430160"/>
                  <a:ext cx="12492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 flipH="1" flipV="1" rot="4525200">
                  <a:off x="5879880" y="445356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3" name=""/>
            <p:cNvSpPr/>
            <p:nvPr/>
          </p:nvSpPr>
          <p:spPr>
            <a:xfrm>
              <a:off x="5472720" y="413856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5181480" y="1557360"/>
            <a:ext cx="1171080" cy="1175400"/>
            <a:chOff x="5181480" y="1557360"/>
            <a:chExt cx="1171080" cy="1175400"/>
          </a:xfrm>
        </p:grpSpPr>
        <p:sp>
          <p:nvSpPr>
            <p:cNvPr id="325" name=""/>
            <p:cNvSpPr/>
            <p:nvPr/>
          </p:nvSpPr>
          <p:spPr>
            <a:xfrm>
              <a:off x="5181480" y="155736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6" name=""/>
            <p:cNvGrpSpPr/>
            <p:nvPr/>
          </p:nvGrpSpPr>
          <p:grpSpPr>
            <a:xfrm>
              <a:off x="5216400" y="1593720"/>
              <a:ext cx="1118520" cy="1139040"/>
              <a:chOff x="5216400" y="1593720"/>
              <a:chExt cx="1118520" cy="1139040"/>
            </a:xfrm>
          </p:grpSpPr>
          <p:pic>
            <p:nvPicPr>
              <p:cNvPr id="327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216400" y="159372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8" name=""/>
              <p:cNvSpPr/>
              <p:nvPr/>
            </p:nvSpPr>
            <p:spPr>
              <a:xfrm>
                <a:off x="5216400" y="1593720"/>
                <a:ext cx="1079640" cy="1085760"/>
              </a:xfrm>
              <a:prstGeom prst="ellipse">
                <a:avLst/>
              </a:prstGeom>
              <a:solidFill>
                <a:srgbClr val="a8d02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29" name="" descr=""/>
              <p:cNvPicPr/>
              <p:nvPr/>
            </p:nvPicPr>
            <p:blipFill>
              <a:blip r:embed="rId10"/>
              <a:srcRect l="0" t="14289" r="0" b="0"/>
              <a:stretch/>
            </p:blipFill>
            <p:spPr>
              <a:xfrm>
                <a:off x="5226840" y="163872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30" name=""/>
              <p:cNvGrpSpPr/>
              <p:nvPr/>
            </p:nvGrpSpPr>
            <p:grpSpPr>
              <a:xfrm>
                <a:off x="5566680" y="2031120"/>
                <a:ext cx="768240" cy="701640"/>
                <a:chOff x="5566680" y="2031120"/>
                <a:chExt cx="768240" cy="701640"/>
              </a:xfrm>
            </p:grpSpPr>
            <p:grpSp>
              <p:nvGrpSpPr>
                <p:cNvPr id="331" name=""/>
                <p:cNvGrpSpPr/>
                <p:nvPr/>
              </p:nvGrpSpPr>
              <p:grpSpPr>
                <a:xfrm>
                  <a:off x="5743800" y="2031120"/>
                  <a:ext cx="591120" cy="694080"/>
                  <a:chOff x="5743800" y="2031120"/>
                  <a:chExt cx="591120" cy="694080"/>
                </a:xfrm>
              </p:grpSpPr>
              <p:sp>
                <p:nvSpPr>
                  <p:cNvPr id="332" name=""/>
                  <p:cNvSpPr/>
                  <p:nvPr/>
                </p:nvSpPr>
                <p:spPr>
                  <a:xfrm flipH="1" flipV="1" rot="1528800">
                    <a:off x="6073560" y="20329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 flipH="1" flipV="1" rot="2344200">
                    <a:off x="6027840" y="21175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 flipH="1" flipV="1" rot="2640000">
                    <a:off x="5990760" y="21589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 flipH="1" flipV="1" rot="3172200">
                    <a:off x="5945400" y="22064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6" name=""/>
                <p:cNvGrpSpPr/>
                <p:nvPr/>
              </p:nvGrpSpPr>
              <p:grpSpPr>
                <a:xfrm>
                  <a:off x="5566680" y="2223000"/>
                  <a:ext cx="743760" cy="509760"/>
                  <a:chOff x="5566680" y="2223000"/>
                  <a:chExt cx="743760" cy="50976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 flipH="1" flipV="1" rot="2881800">
                    <a:off x="5978160" y="217908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 flipH="1" flipV="1" rot="3697200">
                    <a:off x="5904000" y="223956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 flipH="1" flipV="1" rot="3993000">
                    <a:off x="5853600" y="226440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 flipH="1" flipV="1" rot="4525200">
                    <a:off x="5793480" y="22910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41" name=""/>
            <p:cNvGrpSpPr/>
            <p:nvPr/>
          </p:nvGrpSpPr>
          <p:grpSpPr>
            <a:xfrm>
              <a:off x="5674680" y="2062440"/>
              <a:ext cx="677880" cy="618120"/>
              <a:chOff x="5674680" y="2062440"/>
              <a:chExt cx="677880" cy="618120"/>
            </a:xfrm>
          </p:grpSpPr>
          <p:grpSp>
            <p:nvGrpSpPr>
              <p:cNvPr id="342" name=""/>
              <p:cNvGrpSpPr/>
              <p:nvPr/>
            </p:nvGrpSpPr>
            <p:grpSpPr>
              <a:xfrm>
                <a:off x="5831280" y="2062440"/>
                <a:ext cx="521280" cy="611280"/>
                <a:chOff x="5831280" y="2062440"/>
                <a:chExt cx="521280" cy="611280"/>
              </a:xfrm>
            </p:grpSpPr>
            <p:sp>
              <p:nvSpPr>
                <p:cNvPr id="343" name=""/>
                <p:cNvSpPr/>
                <p:nvPr/>
              </p:nvSpPr>
              <p:spPr>
                <a:xfrm flipH="1" flipV="1" rot="1528800">
                  <a:off x="6121080" y="206424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flipH="1" flipV="1" rot="2344200">
                  <a:off x="6082200" y="21384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flipH="1" flipV="1" rot="2640000">
                  <a:off x="6049080" y="217512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flipH="1" flipV="1" rot="3172200">
                  <a:off x="6008400" y="22168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5674680" y="2230560"/>
                <a:ext cx="655200" cy="450000"/>
                <a:chOff x="5674680" y="2230560"/>
                <a:chExt cx="655200" cy="450000"/>
              </a:xfrm>
            </p:grpSpPr>
            <p:sp>
              <p:nvSpPr>
                <p:cNvPr id="348" name=""/>
                <p:cNvSpPr/>
                <p:nvPr/>
              </p:nvSpPr>
              <p:spPr>
                <a:xfrm flipH="1" flipV="1" rot="2881800">
                  <a:off x="6036120" y="219240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flipH="1" flipV="1" rot="3697200">
                  <a:off x="5971320" y="2246400"/>
                  <a:ext cx="12492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 flipH="1" flipV="1" rot="3993000">
                  <a:off x="5927040" y="2268000"/>
                  <a:ext cx="12492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H="1" flipV="1" rot="4525200">
                  <a:off x="5873400" y="229140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2" name=""/>
            <p:cNvSpPr/>
            <p:nvPr/>
          </p:nvSpPr>
          <p:spPr>
            <a:xfrm>
              <a:off x="5466240" y="197640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4405320" y="3252960"/>
            <a:ext cx="829440" cy="844920"/>
            <a:chOff x="4405320" y="3252960"/>
            <a:chExt cx="829440" cy="844920"/>
          </a:xfrm>
        </p:grpSpPr>
        <p:pic>
          <p:nvPicPr>
            <p:cNvPr id="354" name="" descr=""/>
            <p:cNvPicPr/>
            <p:nvPr/>
          </p:nvPicPr>
          <p:blipFill>
            <a:blip r:embed="rId11"/>
            <a:stretch/>
          </p:blipFill>
          <p:spPr>
            <a:xfrm rot="4977600">
              <a:off x="4529520" y="3385080"/>
              <a:ext cx="572760" cy="56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 rot="4977000">
              <a:off x="4530960" y="3383640"/>
              <a:ext cx="569880" cy="568800"/>
            </a:xfrm>
            <a:prstGeom prst="ellipse">
              <a:avLst/>
            </a:prstGeom>
            <a:gradFill rotWithShape="0">
              <a:gsLst>
                <a:gs pos="0">
                  <a:srgbClr val="3b3b3b"/>
                </a:gs>
                <a:gs pos="50000">
                  <a:srgbClr val="808080">
                    <a:alpha val="50196"/>
                  </a:srgbClr>
                </a:gs>
                <a:gs pos="100000">
                  <a:srgbClr val="3b3b3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" name=""/>
            <p:cNvGrpSpPr/>
            <p:nvPr/>
          </p:nvGrpSpPr>
          <p:grpSpPr>
            <a:xfrm>
              <a:off x="4509000" y="3445920"/>
              <a:ext cx="225720" cy="500760"/>
              <a:chOff x="4509000" y="3445920"/>
              <a:chExt cx="225720" cy="500760"/>
            </a:xfrm>
          </p:grpSpPr>
          <p:grpSp>
            <p:nvGrpSpPr>
              <p:cNvPr id="357" name=""/>
              <p:cNvGrpSpPr/>
              <p:nvPr/>
            </p:nvGrpSpPr>
            <p:grpSpPr>
              <a:xfrm>
                <a:off x="4515120" y="3538800"/>
                <a:ext cx="219600" cy="407880"/>
                <a:chOff x="4515120" y="3538800"/>
                <a:chExt cx="219600" cy="407880"/>
              </a:xfrm>
            </p:grpSpPr>
            <p:sp>
              <p:nvSpPr>
                <p:cNvPr id="358" name=""/>
                <p:cNvSpPr/>
                <p:nvPr/>
              </p:nvSpPr>
              <p:spPr>
                <a:xfrm flipH="1" flipV="1" rot="8941800">
                  <a:off x="4587480" y="3646800"/>
                  <a:ext cx="74880" cy="30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flipH="1" flipV="1" rot="9757200">
                  <a:off x="4562640" y="360252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 flipH="1" flipV="1" rot="10053000">
                  <a:off x="4556160" y="3574080"/>
                  <a:ext cx="74880" cy="302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 flipH="1" flipV="1" rot="10585200">
                  <a:off x="4548600" y="354024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4509000" y="3445920"/>
                <a:ext cx="169560" cy="423000"/>
                <a:chOff x="4509000" y="3445920"/>
                <a:chExt cx="169560" cy="423000"/>
              </a:xfrm>
            </p:grpSpPr>
            <p:sp>
              <p:nvSpPr>
                <p:cNvPr id="363" name=""/>
                <p:cNvSpPr/>
                <p:nvPr/>
              </p:nvSpPr>
              <p:spPr>
                <a:xfrm flipH="1" flipV="1" rot="10294800">
                  <a:off x="4550400" y="356292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flipH="1" flipV="1" rot="11110200">
                  <a:off x="4545360" y="351216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 flipH="1" flipV="1" rot="11406000">
                  <a:off x="4550760" y="348336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 flipH="1" flipV="1" rot="11938200">
                  <a:off x="4555800" y="3449520"/>
                  <a:ext cx="74880" cy="302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7" name=""/>
            <p:cNvSpPr/>
            <p:nvPr/>
          </p:nvSpPr>
          <p:spPr>
            <a:xfrm flipH="1" rot="1129200">
              <a:off x="4496400" y="3339360"/>
              <a:ext cx="646920" cy="67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02" y="16773"/>
                  </a:moveTo>
                  <a:arcTo wR="10800" hR="10800" stAng="8785564" swAng="179920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802" y="16773"/>
                  </a:moveTo>
                  <a:arcTo wR="10800" hR="10800" stAng="8785564" swAng="17992071"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8" name="" descr=""/>
            <p:cNvPicPr/>
            <p:nvPr/>
          </p:nvPicPr>
          <p:blipFill>
            <a:blip r:embed="rId12"/>
            <a:srcRect l="0" t="23740" r="0" b="0"/>
            <a:stretch/>
          </p:blipFill>
          <p:spPr>
            <a:xfrm rot="2407200">
              <a:off x="4685760" y="3415320"/>
              <a:ext cx="424440" cy="27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"/>
          <p:cNvSpPr/>
          <p:nvPr/>
        </p:nvSpPr>
        <p:spPr>
          <a:xfrm>
            <a:off x="7176960" y="1828800"/>
            <a:ext cx="1509840" cy="366840"/>
          </a:xfrm>
          <a:noFill/>
          <a:ln w="9360">
            <a:solidFill>
              <a:srgbClr val="a8d02a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872400" y="3784680"/>
            <a:ext cx="1509480" cy="392040"/>
          </a:xfrm>
          <a:noFill/>
          <a:ln w="9360">
            <a:solidFill>
              <a:srgbClr val="80808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009800" y="1620720"/>
            <a:ext cx="1593720" cy="435240"/>
          </a:xfrm>
          <a:noFill/>
          <a:ln w="9360">
            <a:solidFill>
              <a:srgbClr val="ffc319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35080" y="3936960"/>
            <a:ext cx="1593720" cy="434880"/>
          </a:xfrm>
          <a:noFill/>
          <a:ln w="9360">
            <a:solidFill>
              <a:srgbClr val="ff7575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63680" y="5243400"/>
            <a:ext cx="1509480" cy="392400"/>
          </a:xfrm>
          <a:noFill/>
          <a:ln w="9360">
            <a:solidFill>
              <a:srgbClr val="5cb1fe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646520" y="5362560"/>
            <a:ext cx="3335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481640" y="5403960"/>
            <a:ext cx="42840" cy="7412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192320" y="1654200"/>
            <a:ext cx="57560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1066680" y="2112480"/>
            <a:ext cx="7513560" cy="3899160"/>
            <a:chOff x="1066680" y="2112480"/>
            <a:chExt cx="7513560" cy="3899160"/>
          </a:xfrm>
        </p:grpSpPr>
        <p:pic>
          <p:nvPicPr>
            <p:cNvPr id="379" name="" descr=""/>
            <p:cNvPicPr/>
            <p:nvPr/>
          </p:nvPicPr>
          <p:blipFill>
            <a:blip r:embed="rId1"/>
            <a:stretch/>
          </p:blipFill>
          <p:spPr>
            <a:xfrm>
              <a:off x="5985360" y="2295360"/>
              <a:ext cx="2536560" cy="263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" descr=""/>
            <p:cNvPicPr/>
            <p:nvPr/>
          </p:nvPicPr>
          <p:blipFill>
            <a:blip r:embed="rId2"/>
            <a:stretch/>
          </p:blipFill>
          <p:spPr>
            <a:xfrm>
              <a:off x="3362760" y="2766960"/>
              <a:ext cx="1907280" cy="19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" descr=""/>
            <p:cNvPicPr/>
            <p:nvPr/>
          </p:nvPicPr>
          <p:blipFill>
            <a:blip r:embed="rId3"/>
            <a:stretch/>
          </p:blipFill>
          <p:spPr>
            <a:xfrm>
              <a:off x="1207080" y="3206520"/>
              <a:ext cx="1482840" cy="154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 flipV="1">
              <a:off x="1066680" y="2112480"/>
              <a:ext cx="0" cy="325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084320" y="5365800"/>
              <a:ext cx="749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214320" y="3344760"/>
              <a:ext cx="21722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of the cont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67960" y="3421080"/>
              <a:ext cx="1563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306800" y="3801960"/>
              <a:ext cx="1240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scription of the 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114360" y="4813200"/>
              <a:ext cx="0" cy="1198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397840" y="4813200"/>
              <a:ext cx="0" cy="1187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153440" y="5459400"/>
              <a:ext cx="187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321000" y="5459400"/>
              <a:ext cx="187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940000" y="5459400"/>
              <a:ext cx="187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2" name="" descr=""/>
            <p:cNvPicPr/>
            <p:nvPr/>
          </p:nvPicPr>
          <p:blipFill>
            <a:blip r:embed="rId4"/>
            <a:stretch/>
          </p:blipFill>
          <p:spPr>
            <a:xfrm>
              <a:off x="2795040" y="3830400"/>
              <a:ext cx="48888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" descr=""/>
            <p:cNvPicPr/>
            <p:nvPr/>
          </p:nvPicPr>
          <p:blipFill>
            <a:blip r:embed="rId5"/>
            <a:stretch/>
          </p:blipFill>
          <p:spPr>
            <a:xfrm>
              <a:off x="5375160" y="3830400"/>
              <a:ext cx="490680" cy="576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1969920" y="2600280"/>
            <a:ext cx="5556240" cy="144792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5cb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398760" y="2746440"/>
            <a:ext cx="5095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782800" y="3105000"/>
            <a:ext cx="533520" cy="381240"/>
          </a:xfrm>
          <a:prstGeom prst="rightArrow">
            <a:avLst>
              <a:gd name="adj1" fmla="val 50000"/>
              <a:gd name="adj2" fmla="val 58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1085760" y="2454120"/>
            <a:ext cx="1714680" cy="171468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092240" y="3139920"/>
            <a:ext cx="167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969920" y="4562640"/>
            <a:ext cx="5556240" cy="144756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ffc31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460680" y="4667400"/>
            <a:ext cx="5095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811600" y="5057640"/>
            <a:ext cx="533160" cy="381240"/>
          </a:xfrm>
          <a:prstGeom prst="rightArrow">
            <a:avLst>
              <a:gd name="adj1" fmla="val 50000"/>
              <a:gd name="adj2" fmla="val 582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1104840" y="4359240"/>
            <a:ext cx="1727280" cy="172728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1111320" y="5068800"/>
            <a:ext cx="167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427040" y="1477800"/>
            <a:ext cx="64771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003320" y="2228760"/>
            <a:ext cx="7389720" cy="3273480"/>
          </a:xfrm>
          <a:custGeom>
            <a:avLst/>
            <a:gdLst/>
            <a:ahLst/>
            <a:rect l="l" t="t" r="r" b="b"/>
            <a:pathLst>
              <a:path w="5190" h="2298">
                <a:moveTo>
                  <a:pt x="496" y="157"/>
                </a:moveTo>
                <a:lnTo>
                  <a:pt x="0" y="0"/>
                </a:lnTo>
                <a:lnTo>
                  <a:pt x="231" y="124"/>
                </a:lnTo>
                <a:lnTo>
                  <a:pt x="4282" y="2025"/>
                </a:lnTo>
                <a:lnTo>
                  <a:pt x="3974" y="2298"/>
                </a:lnTo>
                <a:lnTo>
                  <a:pt x="5190" y="2065"/>
                </a:lnTo>
                <a:lnTo>
                  <a:pt x="5039" y="1268"/>
                </a:lnTo>
                <a:lnTo>
                  <a:pt x="4748" y="1507"/>
                </a:lnTo>
                <a:lnTo>
                  <a:pt x="496" y="157"/>
                </a:lnTo>
                <a:close/>
              </a:path>
            </a:pathLst>
          </a:custGeom>
          <a:gradFill rotWithShape="0">
            <a:gsLst>
              <a:gs pos="0">
                <a:srgbClr val="654d09"/>
              </a:gs>
              <a:gs pos="50000">
                <a:srgbClr val="ffc319"/>
              </a:gs>
              <a:gs pos="100000">
                <a:srgbClr val="654d0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076480" y="2577960"/>
            <a:ext cx="227160" cy="139680"/>
          </a:xfrm>
          <a:prstGeom prst="can">
            <a:avLst>
              <a:gd name="adj" fmla="val 39796"/>
            </a:avLst>
          </a:prstGeom>
          <a:gradFill rotWithShape="0">
            <a:gsLst>
              <a:gs pos="0">
                <a:srgbClr val="ff7575"/>
              </a:gs>
              <a:gs pos="50000">
                <a:srgbClr val="fecccc"/>
              </a:gs>
              <a:gs pos="100000">
                <a:srgbClr val="ff7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982960" y="2908440"/>
            <a:ext cx="263520" cy="190440"/>
          </a:xfrm>
          <a:prstGeom prst="can">
            <a:avLst>
              <a:gd name="adj" fmla="val 27342"/>
            </a:avLst>
          </a:prstGeom>
          <a:gradFill rotWithShape="0">
            <a:gsLst>
              <a:gs pos="0">
                <a:srgbClr val="ff7575"/>
              </a:gs>
              <a:gs pos="50000">
                <a:srgbClr val="fecccc"/>
              </a:gs>
              <a:gs pos="100000">
                <a:srgbClr val="ff7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967200" y="3224160"/>
            <a:ext cx="358560" cy="3081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7575"/>
              </a:gs>
              <a:gs pos="50000">
                <a:srgbClr val="fecccc"/>
              </a:gs>
              <a:gs pos="100000">
                <a:srgbClr val="ff7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335640" y="3881520"/>
            <a:ext cx="565200" cy="682560"/>
          </a:xfrm>
          <a:prstGeom prst="can">
            <a:avLst>
              <a:gd name="adj" fmla="val 17745"/>
            </a:avLst>
          </a:prstGeom>
          <a:gradFill rotWithShape="0">
            <a:gsLst>
              <a:gs pos="0">
                <a:srgbClr val="ff7575"/>
              </a:gs>
              <a:gs pos="50000">
                <a:srgbClr val="fecccc"/>
              </a:gs>
              <a:gs pos="100000">
                <a:srgbClr val="ff7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124600" y="3606840"/>
            <a:ext cx="442800" cy="426960"/>
          </a:xfrm>
          <a:prstGeom prst="can">
            <a:avLst>
              <a:gd name="adj" fmla="val 21666"/>
            </a:avLst>
          </a:prstGeom>
          <a:gradFill rotWithShape="0">
            <a:gsLst>
              <a:gs pos="0">
                <a:srgbClr val="ff7575"/>
              </a:gs>
              <a:gs pos="50000">
                <a:srgbClr val="fecccc"/>
              </a:gs>
              <a:gs pos="100000">
                <a:srgbClr val="ff7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712880" y="184932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652840" y="186372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687840" y="186840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879800" y="18604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134040" y="1859040"/>
            <a:ext cx="12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42960" y="2921040"/>
            <a:ext cx="23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192320" y="3411360"/>
            <a:ext cx="2450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135160" y="3978360"/>
            <a:ext cx="24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348000" y="4543560"/>
            <a:ext cx="24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284720" y="5197320"/>
            <a:ext cx="24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3" name=""/>
          <p:cNvCxnSpPr>
            <a:stCxn id="408" idx="3"/>
            <a:endCxn id="418" idx="0"/>
          </p:cNvCxnSpPr>
          <p:nvPr/>
        </p:nvCxnSpPr>
        <p:spPr>
          <a:xfrm rot="5400000">
            <a:off x="1891440" y="2622240"/>
            <a:ext cx="204120" cy="394200"/>
          </a:xfrm>
          <a:prstGeom prst="bentConnector3">
            <a:avLst>
              <a:gd name="adj1" fmla="val 49646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24" name=""/>
          <p:cNvCxnSpPr>
            <a:stCxn id="409" idx="3"/>
            <a:endCxn id="419" idx="0"/>
          </p:cNvCxnSpPr>
          <p:nvPr/>
        </p:nvCxnSpPr>
        <p:spPr>
          <a:xfrm rot="5400000">
            <a:off x="2609280" y="2906640"/>
            <a:ext cx="313200" cy="697680"/>
          </a:xfrm>
          <a:prstGeom prst="bentConnector3">
            <a:avLst>
              <a:gd name="adj1" fmla="val 49712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25" name=""/>
          <p:cNvCxnSpPr>
            <a:stCxn id="410" idx="3"/>
            <a:endCxn id="420" idx="0"/>
          </p:cNvCxnSpPr>
          <p:nvPr/>
        </p:nvCxnSpPr>
        <p:spPr>
          <a:xfrm rot="5400000">
            <a:off x="3529800" y="3362040"/>
            <a:ext cx="446760" cy="786600"/>
          </a:xfrm>
          <a:prstGeom prst="bentConnector3">
            <a:avLst>
              <a:gd name="adj1" fmla="val 49758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26" name=""/>
          <p:cNvCxnSpPr>
            <a:stCxn id="412" idx="3"/>
            <a:endCxn id="421" idx="0"/>
          </p:cNvCxnSpPr>
          <p:nvPr/>
        </p:nvCxnSpPr>
        <p:spPr>
          <a:xfrm rot="5400000">
            <a:off x="4704480" y="3902040"/>
            <a:ext cx="510480" cy="774000"/>
          </a:xfrm>
          <a:prstGeom prst="bentConnector3">
            <a:avLst>
              <a:gd name="adj1" fmla="val 49964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27" name=""/>
          <p:cNvCxnSpPr>
            <a:stCxn id="411" idx="3"/>
            <a:endCxn id="422" idx="0"/>
          </p:cNvCxnSpPr>
          <p:nvPr/>
        </p:nvCxnSpPr>
        <p:spPr>
          <a:xfrm rot="5400000">
            <a:off x="5747760" y="4327200"/>
            <a:ext cx="633960" cy="1107000"/>
          </a:xfrm>
          <a:prstGeom prst="bentConnector3">
            <a:avLst>
              <a:gd name="adj1" fmla="val 49886"/>
            </a:avLst>
          </a:prstGeom>
          <a:ln w="9360">
            <a:solidFill>
              <a:srgbClr val="1c1c1c"/>
            </a:solidFill>
            <a:miter/>
          </a:ln>
        </p:spPr>
      </p:cxnSp>
      <p:sp>
        <p:nvSpPr>
          <p:cNvPr id="428" name=""/>
          <p:cNvSpPr/>
          <p:nvPr/>
        </p:nvSpPr>
        <p:spPr>
          <a:xfrm>
            <a:off x="6335640" y="2273400"/>
            <a:ext cx="565200" cy="1730160"/>
          </a:xfrm>
          <a:prstGeom prst="can">
            <a:avLst>
              <a:gd name="adj" fmla="val 9143"/>
            </a:avLst>
          </a:prstGeom>
          <a:gradFill rotWithShape="0">
            <a:gsLst>
              <a:gs pos="0">
                <a:srgbClr val="5cb1fe"/>
              </a:gs>
              <a:gs pos="50000">
                <a:srgbClr val="c4e2fd"/>
              </a:gs>
              <a:gs pos="100000">
                <a:srgbClr val="5cb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124600" y="2271600"/>
            <a:ext cx="442800" cy="1433520"/>
          </a:xfrm>
          <a:prstGeom prst="can">
            <a:avLst>
              <a:gd name="adj" fmla="val 8513"/>
            </a:avLst>
          </a:prstGeom>
          <a:gradFill rotWithShape="0">
            <a:gsLst>
              <a:gs pos="0">
                <a:srgbClr val="5cb1fe"/>
              </a:gs>
              <a:gs pos="50000">
                <a:srgbClr val="c4e2fd"/>
              </a:gs>
              <a:gs pos="100000">
                <a:srgbClr val="5cb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967200" y="2268360"/>
            <a:ext cx="358560" cy="1049400"/>
          </a:xfrm>
          <a:prstGeom prst="can">
            <a:avLst>
              <a:gd name="adj" fmla="val 9657"/>
            </a:avLst>
          </a:prstGeom>
          <a:gradFill rotWithShape="0">
            <a:gsLst>
              <a:gs pos="0">
                <a:srgbClr val="5cb1fe"/>
              </a:gs>
              <a:gs pos="50000">
                <a:srgbClr val="c4e2fd"/>
              </a:gs>
              <a:gs pos="100000">
                <a:srgbClr val="5cb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982960" y="2274840"/>
            <a:ext cx="263520" cy="689040"/>
          </a:xfrm>
          <a:prstGeom prst="can">
            <a:avLst>
              <a:gd name="adj" fmla="val 9129"/>
            </a:avLst>
          </a:prstGeom>
          <a:gradFill rotWithShape="0">
            <a:gsLst>
              <a:gs pos="0">
                <a:srgbClr val="5cb1fe"/>
              </a:gs>
              <a:gs pos="50000">
                <a:srgbClr val="c4e2fd"/>
              </a:gs>
              <a:gs pos="100000">
                <a:srgbClr val="5cb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076480" y="2276640"/>
            <a:ext cx="227160" cy="358560"/>
          </a:xfrm>
          <a:prstGeom prst="can">
            <a:avLst>
              <a:gd name="adj" fmla="val 16976"/>
            </a:avLst>
          </a:prstGeom>
          <a:gradFill rotWithShape="0">
            <a:gsLst>
              <a:gs pos="0">
                <a:srgbClr val="5cb1fe"/>
              </a:gs>
              <a:gs pos="50000">
                <a:srgbClr val="c4e2fd"/>
              </a:gs>
              <a:gs pos="100000">
                <a:srgbClr val="5cb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09:13:42Z</dcterms:created>
  <dc:creator/>
  <dc:description/>
  <dc:language>en-US</dc:language>
  <cp:lastModifiedBy>GZB</cp:lastModifiedBy>
  <dcterms:modified xsi:type="dcterms:W3CDTF">2014-09-06T15:05:05Z</dcterms:modified>
  <cp:revision>31</cp:revision>
  <dc:subject/>
  <dc:title>www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