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4.wmf" ContentType="image/x-wmf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3882960" y="0"/>
            <a:ext cx="29736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F8197-C4D4-4BF2-8FE7-2771BA189110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备注占位符 4"/>
          <p:cNvSpPr/>
          <p:nvPr/>
        </p:nvSpPr>
        <p:spPr>
          <a:xfrm>
            <a:off x="685800" y="4400640"/>
            <a:ext cx="54864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编辑母版文本样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二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三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四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五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03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5"/>
          </p:nvPr>
        </p:nvSpPr>
        <p:spPr>
          <a:xfrm>
            <a:off x="3882960" y="8685360"/>
            <a:ext cx="29736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A260F-6773-4B01-8989-D9273ACD6D4B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ldImg"/>
          </p:nvPr>
        </p:nvSpPr>
        <p:spPr>
          <a:xfrm>
            <a:off x="682560" y="113976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-561960" y="8206920"/>
            <a:ext cx="6981840" cy="89283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是由百世汇通总部实施，直接为寄件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收件人提供服务的最末端网络，存在形式可以是末端代理点类、规模化商业类、智能设备类和软件工具类四大类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为迎合公司发展目标，快递事业部将全面开展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SO900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质量体系认证；网管中心部门相关内审工作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直发车是百世汇通总部为缓解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/1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分拨压力，保障站点部分快件时效的策略。由站点自行安排，不经过始发分拨直接到目的分拨的派件车辆。此类车辆不收取中转费，需统一报备并审批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-552960" y="8210520"/>
            <a:ext cx="6975720" cy="89280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01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日审议通过了《关于提升快递末端投递服务水平的指导意见》，提出以多种形式提升快递末端投递服务水平，如鼓励和引导快递企业因地制宜与第三方开展合作，引导快递企业加快自有品牌末端网点建设，鼓励企业探索使用智能快件箱等自取服务设备等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01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年交易额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7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亿，虽然其购物热潮已悄然离去，但其余温仍充斥着整个快递行业，中国快递行业又将面临新的严峻挑战。经过五年多的实战，如今，淘宝电商快件已占百世业务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5%-87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高比，虽然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快递包裹发货和中转环节顺畅不少，但“最后一公里”配送压力之大，依然挑战了百世的极限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91" name="PlaceHolder 2"/>
          <p:cNvSpPr>
            <a:spLocks noGrp="1"/>
          </p:cNvSpPr>
          <p:nvPr>
            <p:ph type="body"/>
          </p:nvPr>
        </p:nvSpPr>
        <p:spPr>
          <a:xfrm>
            <a:off x="-552960" y="8210520"/>
            <a:ext cx="6975720" cy="89280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简介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一般以实体商业的形式存在，主要针对派件困难区、散件集中区，直接为寄件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收件人提供服务的百世汇通为推广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网最末端网络的主要形式之一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意义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提升派件效率，解决派件困难；降低各站点的再派成本和增加其揽件收入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目标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提高百世汇通网络密度和渗透力，为客户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用户提供优质的、可控的快递及增值服务，提升客户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用户体验，同时增强百世汇通的品牌知名度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93" name="PlaceHolder 2"/>
          <p:cNvSpPr>
            <a:spLocks noGrp="1"/>
          </p:cNvSpPr>
          <p:nvPr>
            <p:ph type="body"/>
          </p:nvPr>
        </p:nvSpPr>
        <p:spPr>
          <a:xfrm>
            <a:off x="-598320" y="8210520"/>
            <a:ext cx="7021440" cy="89280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末端代理点 全网增长率自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月起依次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9.8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9.1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9.9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.7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；第一集团对比增长率依次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7.1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3.0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1.2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.6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。就推广月增长率看，第一集团推进工作是领先于全网均值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F2EFA-395D-4DFB-B98A-0A0D6E29A5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B2979-19BA-4169-83AB-C3C5AB54E8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EB3DA-970C-487E-999E-56B83C0B12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917DD-C8FC-4695-8DB7-DDDDDD9915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46E8F-5173-4805-BE5D-B7CC2A6B7FA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13E89-A268-4954-8961-E203ADC764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57D85-1456-4A7F-80D4-EB107C3761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79FE9-BBFA-4FCD-B77F-3262A6E1C7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59D1D-C7C9-4A50-915B-D10A7136DE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32535-1692-497E-B571-7AD836CC25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C0133-17C9-4BC1-B520-CB1D946F30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08410-CC67-44D5-B761-D417D4D9F6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86C85-D958-46C4-AB34-25021EA54D1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标题 1"/>
          <p:cNvSpPr/>
          <p:nvPr/>
        </p:nvSpPr>
        <p:spPr>
          <a:xfrm>
            <a:off x="9418680" y="-738360"/>
            <a:ext cx="349416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LO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AutoShape 7"/>
          <p:cNvSpPr/>
          <p:nvPr/>
        </p:nvSpPr>
        <p:spPr>
          <a:xfrm>
            <a:off x="-22320" y="6372360"/>
            <a:ext cx="12207960" cy="485640"/>
          </a:xfrm>
          <a:prstGeom prst="rtTriangle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-22320" y="6384960"/>
            <a:ext cx="12227040" cy="490320"/>
            <a:chOff x="-22320" y="6384960"/>
            <a:chExt cx="12227040" cy="490320"/>
          </a:xfrm>
        </p:grpSpPr>
        <p:sp>
          <p:nvSpPr>
            <p:cNvPr id="7" name="AutoShape 9"/>
            <p:cNvSpPr/>
            <p:nvPr/>
          </p:nvSpPr>
          <p:spPr>
            <a:xfrm>
              <a:off x="-22320" y="6384960"/>
              <a:ext cx="12206880" cy="486360"/>
            </a:xfrm>
            <a:prstGeom prst="rtTriangle">
              <a:avLst/>
            </a:prstGeom>
            <a:solidFill>
              <a:srgbClr val="032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AutoShape 10"/>
            <p:cNvSpPr/>
            <p:nvPr/>
          </p:nvSpPr>
          <p:spPr>
            <a:xfrm rot="10800000">
              <a:off x="0" y="6388560"/>
              <a:ext cx="12204720" cy="486360"/>
            </a:xfrm>
            <a:prstGeom prst="rtTriangle">
              <a:avLst/>
            </a:prstGeom>
            <a:solidFill>
              <a:srgbClr val="d9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wmf"/><Relationship Id="rId1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63D15-FE76-4358-98BB-A41BE68B5DE4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04:47:55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5"/>
          <p:cNvSpPr/>
          <p:nvPr/>
        </p:nvSpPr>
        <p:spPr>
          <a:xfrm>
            <a:off x="6480" y="4024440"/>
            <a:ext cx="12182400" cy="129852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图片1"/>
          <p:cNvPicPr/>
          <p:nvPr/>
        </p:nvPicPr>
        <p:blipFill>
          <a:blip r:embed="rId1"/>
          <a:stretch/>
        </p:blipFill>
        <p:spPr>
          <a:xfrm>
            <a:off x="3805200" y="1389240"/>
            <a:ext cx="3706920" cy="589752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4"/>
          <p:cNvGrpSpPr/>
          <p:nvPr/>
        </p:nvGrpSpPr>
        <p:grpSpPr>
          <a:xfrm>
            <a:off x="7056360" y="2197080"/>
            <a:ext cx="4243320" cy="2898720"/>
            <a:chOff x="7056360" y="2197080"/>
            <a:chExt cx="4243320" cy="2898720"/>
          </a:xfrm>
        </p:grpSpPr>
        <p:sp>
          <p:nvSpPr>
            <p:cNvPr id="57" name="圆角矩形 56"/>
            <p:cNvSpPr/>
            <p:nvPr/>
          </p:nvSpPr>
          <p:spPr>
            <a:xfrm>
              <a:off x="7056360" y="2197080"/>
              <a:ext cx="4075200" cy="2898720"/>
            </a:xfrm>
            <a:prstGeom prst="roundRect">
              <a:avLst>
                <a:gd name="adj" fmla="val 6116"/>
              </a:avLst>
            </a:prstGeom>
            <a:solidFill>
              <a:srgbClr val="d92817"/>
            </a:solidFill>
            <a:ln w="9360">
              <a:solidFill>
                <a:srgbClr val="0323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矩形 4"/>
            <p:cNvSpPr/>
            <p:nvPr/>
          </p:nvSpPr>
          <p:spPr>
            <a:xfrm>
              <a:off x="7335360" y="2366280"/>
              <a:ext cx="3597120" cy="1973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2f2f2"/>
                </a:gs>
              </a:gsLst>
              <a:lin ang="5400000"/>
            </a:gradFill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矩形 65"/>
            <p:cNvSpPr/>
            <p:nvPr/>
          </p:nvSpPr>
          <p:spPr>
            <a:xfrm>
              <a:off x="7365960" y="4540320"/>
              <a:ext cx="3600000" cy="326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2f2f2"/>
                </a:gs>
              </a:gsLst>
              <a:lin ang="5400000"/>
            </a:gradFill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文本框 66"/>
            <p:cNvSpPr/>
            <p:nvPr/>
          </p:nvSpPr>
          <p:spPr>
            <a:xfrm>
              <a:off x="7081560" y="4529520"/>
              <a:ext cx="421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图片 6" descr=""/>
            <p:cNvPicPr/>
            <p:nvPr/>
          </p:nvPicPr>
          <p:blipFill>
            <a:blip r:embed="rId2"/>
            <a:stretch/>
          </p:blipFill>
          <p:spPr>
            <a:xfrm>
              <a:off x="9015120" y="2460240"/>
              <a:ext cx="465120" cy="464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2" name="组合 1029"/>
            <p:cNvGrpSpPr/>
            <p:nvPr/>
          </p:nvGrpSpPr>
          <p:grpSpPr>
            <a:xfrm>
              <a:off x="7372440" y="3743640"/>
              <a:ext cx="549000" cy="480960"/>
              <a:chOff x="7372440" y="3743640"/>
              <a:chExt cx="549000" cy="480960"/>
            </a:xfrm>
          </p:grpSpPr>
          <p:sp>
            <p:nvSpPr>
              <p:cNvPr id="63" name="Oval 1545"/>
              <p:cNvSpPr/>
              <p:nvPr/>
            </p:nvSpPr>
            <p:spPr>
              <a:xfrm>
                <a:off x="7465320" y="3790080"/>
                <a:ext cx="403560" cy="404640"/>
              </a:xfrm>
              <a:prstGeom prst="ellipse">
                <a:avLst/>
              </a:prstGeom>
              <a:solidFill>
                <a:srgbClr val="fc61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1546"/>
              <p:cNvSpPr/>
              <p:nvPr/>
            </p:nvSpPr>
            <p:spPr>
              <a:xfrm>
                <a:off x="7626600" y="4075560"/>
                <a:ext cx="77400" cy="2160"/>
              </a:xfrm>
              <a:custGeom>
                <a:avLst/>
                <a:gdLst/>
                <a:ahLst/>
                <a:rect l="l" t="t" r="r" b="b"/>
                <a:pathLst>
                  <a:path w="130" h="4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3"/>
                      <a:pt x="2" y="4"/>
                      <a:pt x="13" y="4"/>
                    </a:cubicBezTo>
                    <a:cubicBezTo>
                      <a:pt x="33" y="4"/>
                      <a:pt x="55" y="4"/>
                      <a:pt x="63" y="4"/>
                    </a:cubicBezTo>
                    <a:cubicBezTo>
                      <a:pt x="65" y="4"/>
                      <a:pt x="66" y="4"/>
                      <a:pt x="66" y="4"/>
                    </a:cubicBezTo>
                    <a:cubicBezTo>
                      <a:pt x="74" y="4"/>
                      <a:pt x="95" y="4"/>
                      <a:pt x="116" y="4"/>
                    </a:cubicBezTo>
                    <a:cubicBezTo>
                      <a:pt x="126" y="4"/>
                      <a:pt x="130" y="4"/>
                      <a:pt x="130" y="0"/>
                    </a:cubicBezTo>
                    <a:cubicBezTo>
                      <a:pt x="129" y="0"/>
                      <a:pt x="129" y="0"/>
                      <a:pt x="129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1547"/>
              <p:cNvSpPr/>
              <p:nvPr/>
            </p:nvSpPr>
            <p:spPr>
              <a:xfrm>
                <a:off x="7619040" y="4048920"/>
                <a:ext cx="90720" cy="28440"/>
              </a:xfrm>
              <a:custGeom>
                <a:avLst/>
                <a:gdLst/>
                <a:ahLst/>
                <a:rect l="l" t="t" r="r" b="b"/>
                <a:pathLst>
                  <a:path w="153" h="48">
                    <a:moveTo>
                      <a:pt x="129" y="30"/>
                    </a:moveTo>
                    <a:cubicBezTo>
                      <a:pt x="120" y="21"/>
                      <a:pt x="120" y="0"/>
                      <a:pt x="120" y="0"/>
                    </a:cubicBezTo>
                    <a:cubicBezTo>
                      <a:pt x="78" y="0"/>
                      <a:pt x="78" y="0"/>
                      <a:pt x="78" y="0"/>
                    </a:cubicBezTo>
                    <a:cubicBezTo>
                      <a:pt x="75" y="0"/>
                      <a:pt x="75" y="0"/>
                      <a:pt x="75" y="0"/>
                    </a:cubicBezTo>
                    <a:cubicBezTo>
                      <a:pt x="33" y="0"/>
                      <a:pt x="33" y="0"/>
                      <a:pt x="33" y="0"/>
                    </a:cubicBezTo>
                    <a:cubicBezTo>
                      <a:pt x="33" y="0"/>
                      <a:pt x="33" y="21"/>
                      <a:pt x="24" y="30"/>
                    </a:cubicBezTo>
                    <a:cubicBezTo>
                      <a:pt x="14" y="40"/>
                      <a:pt x="0" y="48"/>
                      <a:pt x="25" y="48"/>
                    </a:cubicBezTo>
                    <a:cubicBezTo>
                      <a:pt x="45" y="48"/>
                      <a:pt x="67" y="48"/>
                      <a:pt x="75" y="48"/>
                    </a:cubicBezTo>
                    <a:cubicBezTo>
                      <a:pt x="77" y="48"/>
                      <a:pt x="78" y="48"/>
                      <a:pt x="78" y="48"/>
                    </a:cubicBezTo>
                    <a:cubicBezTo>
                      <a:pt x="86" y="48"/>
                      <a:pt x="108" y="48"/>
                      <a:pt x="128" y="48"/>
                    </a:cubicBezTo>
                    <a:cubicBezTo>
                      <a:pt x="153" y="48"/>
                      <a:pt x="139" y="40"/>
                      <a:pt x="129" y="30"/>
                    </a:cubicBezTo>
                    <a:close/>
                  </a:path>
                </a:pathLst>
              </a:cu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1548"/>
              <p:cNvSpPr/>
              <p:nvPr/>
            </p:nvSpPr>
            <p:spPr>
              <a:xfrm>
                <a:off x="7669440" y="4064040"/>
                <a:ext cx="40320" cy="13320"/>
              </a:xfrm>
              <a:custGeom>
                <a:avLst/>
                <a:gdLst/>
                <a:ahLst/>
                <a:rect l="l" t="t" r="r" b="b"/>
                <a:pathLst>
                  <a:path w="68" h="23">
                    <a:moveTo>
                      <a:pt x="0" y="23"/>
                    </a:moveTo>
                    <a:cubicBezTo>
                      <a:pt x="5" y="12"/>
                      <a:pt x="21" y="2"/>
                      <a:pt x="42" y="0"/>
                    </a:cubicBezTo>
                    <a:cubicBezTo>
                      <a:pt x="43" y="1"/>
                      <a:pt x="44" y="3"/>
                      <a:pt x="45" y="4"/>
                    </a:cubicBezTo>
                    <a:cubicBezTo>
                      <a:pt x="54" y="14"/>
                      <a:pt x="68" y="23"/>
                      <a:pt x="45" y="23"/>
                    </a:cubicBez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4250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1549"/>
              <p:cNvSpPr/>
              <p:nvPr/>
            </p:nvSpPr>
            <p:spPr>
              <a:xfrm>
                <a:off x="7619400" y="4064040"/>
                <a:ext cx="41040" cy="13320"/>
              </a:xfrm>
              <a:custGeom>
                <a:avLst/>
                <a:gdLst/>
                <a:ahLst/>
                <a:rect l="l" t="t" r="r" b="b"/>
                <a:pathLst>
                  <a:path w="69" h="23">
                    <a:moveTo>
                      <a:pt x="69" y="23"/>
                    </a:moveTo>
                    <a:cubicBezTo>
                      <a:pt x="63" y="12"/>
                      <a:pt x="47" y="2"/>
                      <a:pt x="27" y="0"/>
                    </a:cubicBezTo>
                    <a:cubicBezTo>
                      <a:pt x="26" y="1"/>
                      <a:pt x="25" y="3"/>
                      <a:pt x="23" y="4"/>
                    </a:cubicBezTo>
                    <a:cubicBezTo>
                      <a:pt x="14" y="14"/>
                      <a:pt x="0" y="23"/>
                      <a:pt x="23" y="23"/>
                    </a:cubicBezTo>
                    <a:lnTo>
                      <a:pt x="69" y="23"/>
                    </a:lnTo>
                    <a:close/>
                  </a:path>
                </a:pathLst>
              </a:custGeom>
              <a:solidFill>
                <a:srgbClr val="4250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1550"/>
              <p:cNvSpPr/>
              <p:nvPr/>
            </p:nvSpPr>
            <p:spPr>
              <a:xfrm>
                <a:off x="7633080" y="4077360"/>
                <a:ext cx="62280" cy="360"/>
              </a:xfrm>
              <a:custGeom>
                <a:avLst/>
                <a:gdLst/>
                <a:ahLst/>
                <a:rect l="l" t="t" r="r" b="b"/>
                <a:pathLst>
                  <a:path w="105" h="1">
                    <a:moveTo>
                      <a:pt x="0" y="0"/>
                    </a:moveTo>
                    <a:cubicBezTo>
                      <a:pt x="9" y="0"/>
                      <a:pt x="18" y="0"/>
                      <a:pt x="26" y="0"/>
                    </a:cubicBezTo>
                    <a:cubicBezTo>
                      <a:pt x="52" y="0"/>
                      <a:pt x="52" y="0"/>
                      <a:pt x="52" y="0"/>
                    </a:cubicBezTo>
                    <a:cubicBezTo>
                      <a:pt x="79" y="0"/>
                      <a:pt x="79" y="0"/>
                      <a:pt x="79" y="0"/>
                    </a:cubicBezTo>
                    <a:cubicBezTo>
                      <a:pt x="92" y="0"/>
                      <a:pt x="92" y="0"/>
                      <a:pt x="92" y="0"/>
                    </a:cubicBezTo>
                    <a:cubicBezTo>
                      <a:pt x="105" y="0"/>
                      <a:pt x="105" y="0"/>
                      <a:pt x="105" y="0"/>
                    </a:cubicBezTo>
                    <a:cubicBezTo>
                      <a:pt x="92" y="0"/>
                      <a:pt x="92" y="0"/>
                      <a:pt x="92" y="0"/>
                    </a:cubicBezTo>
                    <a:cubicBezTo>
                      <a:pt x="79" y="0"/>
                      <a:pt x="79" y="0"/>
                      <a:pt x="79" y="0"/>
                    </a:cubicBezTo>
                    <a:cubicBezTo>
                      <a:pt x="52" y="0"/>
                      <a:pt x="52" y="0"/>
                      <a:pt x="52" y="0"/>
                    </a:cubicBezTo>
                    <a:cubicBezTo>
                      <a:pt x="26" y="0"/>
                      <a:pt x="26" y="0"/>
                      <a:pt x="26" y="0"/>
                    </a:cubicBezTo>
                    <a:cubicBezTo>
                      <a:pt x="18" y="0"/>
                      <a:pt x="9" y="0"/>
                      <a:pt x="0" y="0"/>
                    </a:cubicBezTo>
                    <a:close/>
                  </a:path>
                </a:pathLst>
              </a:cu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1551"/>
              <p:cNvSpPr/>
              <p:nvPr/>
            </p:nvSpPr>
            <p:spPr>
              <a:xfrm>
                <a:off x="7536240" y="4027680"/>
                <a:ext cx="254880" cy="21240"/>
              </a:xfrm>
              <a:custGeom>
                <a:avLst/>
                <a:gdLst/>
                <a:ahLst/>
                <a:rect l="l" t="t" r="r" b="b"/>
                <a:pathLst>
                  <a:path w="428" h="36">
                    <a:moveTo>
                      <a:pt x="0" y="23"/>
                    </a:moveTo>
                    <a:cubicBezTo>
                      <a:pt x="0" y="30"/>
                      <a:pt x="9" y="36"/>
                      <a:pt x="16" y="36"/>
                    </a:cubicBezTo>
                    <a:cubicBezTo>
                      <a:pt x="211" y="36"/>
                      <a:pt x="211" y="36"/>
                      <a:pt x="211" y="36"/>
                    </a:cubicBezTo>
                    <a:cubicBezTo>
                      <a:pt x="218" y="36"/>
                      <a:pt x="218" y="36"/>
                      <a:pt x="218" y="36"/>
                    </a:cubicBezTo>
                    <a:cubicBezTo>
                      <a:pt x="413" y="36"/>
                      <a:pt x="413" y="36"/>
                      <a:pt x="413" y="36"/>
                    </a:cubicBezTo>
                    <a:cubicBezTo>
                      <a:pt x="420" y="36"/>
                      <a:pt x="428" y="30"/>
                      <a:pt x="428" y="23"/>
                    </a:cubicBezTo>
                    <a:cubicBezTo>
                      <a:pt x="428" y="0"/>
                      <a:pt x="428" y="0"/>
                      <a:pt x="428" y="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414f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1552"/>
              <p:cNvSpPr/>
              <p:nvPr/>
            </p:nvSpPr>
            <p:spPr>
              <a:xfrm>
                <a:off x="7536240" y="3875040"/>
                <a:ext cx="254880" cy="152640"/>
              </a:xfrm>
              <a:custGeom>
                <a:avLst/>
                <a:gdLst/>
                <a:ahLst/>
                <a:rect l="l" t="t" r="r" b="b"/>
                <a:pathLst>
                  <a:path w="428" h="256">
                    <a:moveTo>
                      <a:pt x="413" y="0"/>
                    </a:moveTo>
                    <a:cubicBezTo>
                      <a:pt x="218" y="0"/>
                      <a:pt x="218" y="0"/>
                      <a:pt x="218" y="0"/>
                    </a:cubicBezTo>
                    <a:cubicBezTo>
                      <a:pt x="211" y="0"/>
                      <a:pt x="211" y="0"/>
                      <a:pt x="211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9" y="0"/>
                      <a:pt x="0" y="7"/>
                      <a:pt x="0" y="13"/>
                    </a:cubicBezTo>
                    <a:cubicBezTo>
                      <a:pt x="0" y="256"/>
                      <a:pt x="0" y="256"/>
                      <a:pt x="0" y="256"/>
                    </a:cubicBezTo>
                    <a:cubicBezTo>
                      <a:pt x="428" y="256"/>
                      <a:pt x="428" y="256"/>
                      <a:pt x="428" y="256"/>
                    </a:cubicBezTo>
                    <a:cubicBezTo>
                      <a:pt x="428" y="13"/>
                      <a:pt x="428" y="13"/>
                      <a:pt x="428" y="13"/>
                    </a:cubicBezTo>
                    <a:cubicBezTo>
                      <a:pt x="428" y="7"/>
                      <a:pt x="420" y="0"/>
                      <a:pt x="413" y="0"/>
                    </a:cubicBezTo>
                    <a:close/>
                    <a:moveTo>
                      <a:pt x="408" y="236"/>
                    </a:moveTo>
                    <a:cubicBezTo>
                      <a:pt x="20" y="236"/>
                      <a:pt x="20" y="236"/>
                      <a:pt x="20" y="236"/>
                    </a:cubicBezTo>
                    <a:cubicBezTo>
                      <a:pt x="20" y="20"/>
                      <a:pt x="20" y="20"/>
                      <a:pt x="20" y="20"/>
                    </a:cubicBezTo>
                    <a:cubicBezTo>
                      <a:pt x="408" y="20"/>
                      <a:pt x="408" y="20"/>
                      <a:pt x="408" y="20"/>
                    </a:cubicBezTo>
                    <a:lnTo>
                      <a:pt x="408" y="236"/>
                    </a:lnTo>
                    <a:close/>
                  </a:path>
                </a:pathLst>
              </a:cu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1553"/>
              <p:cNvSpPr/>
              <p:nvPr/>
            </p:nvSpPr>
            <p:spPr>
              <a:xfrm>
                <a:off x="7536240" y="4027680"/>
                <a:ext cx="254880" cy="21240"/>
              </a:xfrm>
              <a:custGeom>
                <a:avLst/>
                <a:gdLst/>
                <a:ahLst/>
                <a:rect l="l" t="t" r="r" b="b"/>
                <a:pathLst>
                  <a:path w="428" h="36">
                    <a:moveTo>
                      <a:pt x="0" y="21"/>
                    </a:moveTo>
                    <a:cubicBezTo>
                      <a:pt x="0" y="28"/>
                      <a:pt x="9" y="36"/>
                      <a:pt x="16" y="36"/>
                    </a:cubicBezTo>
                    <a:cubicBezTo>
                      <a:pt x="211" y="36"/>
                      <a:pt x="211" y="36"/>
                      <a:pt x="211" y="36"/>
                    </a:cubicBezTo>
                    <a:cubicBezTo>
                      <a:pt x="218" y="36"/>
                      <a:pt x="218" y="36"/>
                      <a:pt x="218" y="36"/>
                    </a:cubicBezTo>
                    <a:cubicBezTo>
                      <a:pt x="413" y="36"/>
                      <a:pt x="413" y="36"/>
                      <a:pt x="413" y="36"/>
                    </a:cubicBezTo>
                    <a:cubicBezTo>
                      <a:pt x="420" y="36"/>
                      <a:pt x="428" y="28"/>
                      <a:pt x="428" y="21"/>
                    </a:cubicBezTo>
                    <a:cubicBezTo>
                      <a:pt x="428" y="0"/>
                      <a:pt x="428" y="0"/>
                      <a:pt x="428" y="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Rectangle 1554"/>
              <p:cNvSpPr/>
              <p:nvPr/>
            </p:nvSpPr>
            <p:spPr>
              <a:xfrm>
                <a:off x="7548840" y="3885480"/>
                <a:ext cx="229680" cy="131400"/>
              </a:xfrm>
              <a:prstGeom prst="rect">
                <a:avLst/>
              </a:prstGeom>
              <a:solidFill>
                <a:srgbClr val="fe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Rectangle 1555"/>
              <p:cNvSpPr/>
              <p:nvPr/>
            </p:nvSpPr>
            <p:spPr>
              <a:xfrm>
                <a:off x="7560360" y="3894840"/>
                <a:ext cx="212400" cy="10800"/>
              </a:xfrm>
              <a:prstGeom prst="rect">
                <a:avLst/>
              </a:prstGeom>
              <a:solidFill>
                <a:srgbClr val="ff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Rectangle 1556"/>
              <p:cNvSpPr/>
              <p:nvPr/>
            </p:nvSpPr>
            <p:spPr>
              <a:xfrm>
                <a:off x="7656120" y="3931920"/>
                <a:ext cx="117000" cy="3600"/>
              </a:xfrm>
              <a:prstGeom prst="rect">
                <a:avLst/>
              </a:prstGeom>
              <a:solidFill>
                <a:srgbClr val="ff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1557"/>
              <p:cNvSpPr/>
              <p:nvPr/>
            </p:nvSpPr>
            <p:spPr>
              <a:xfrm>
                <a:off x="7567200" y="3915000"/>
                <a:ext cx="47520" cy="40680"/>
              </a:xfrm>
              <a:custGeom>
                <a:avLst/>
                <a:gdLst/>
                <a:ahLst/>
                <a:rect l="l" t="t" r="r" b="b"/>
                <a:pathLst>
                  <a:path w="80" h="69">
                    <a:moveTo>
                      <a:pt x="40" y="0"/>
                    </a:moveTo>
                    <a:cubicBezTo>
                      <a:pt x="18" y="0"/>
                      <a:pt x="0" y="12"/>
                      <a:pt x="0" y="26"/>
                    </a:cubicBezTo>
                    <a:cubicBezTo>
                      <a:pt x="0" y="37"/>
                      <a:pt x="10" y="46"/>
                      <a:pt x="25" y="50"/>
                    </a:cubicBezTo>
                    <a:cubicBezTo>
                      <a:pt x="27" y="57"/>
                      <a:pt x="31" y="63"/>
                      <a:pt x="37" y="69"/>
                    </a:cubicBezTo>
                    <a:cubicBezTo>
                      <a:pt x="34" y="64"/>
                      <a:pt x="33" y="58"/>
                      <a:pt x="33" y="52"/>
                    </a:cubicBezTo>
                    <a:cubicBezTo>
                      <a:pt x="35" y="52"/>
                      <a:pt x="37" y="52"/>
                      <a:pt x="40" y="52"/>
                    </a:cubicBezTo>
                    <a:cubicBezTo>
                      <a:pt x="62" y="52"/>
                      <a:pt x="80" y="40"/>
                      <a:pt x="80" y="26"/>
                    </a:cubicBezTo>
                    <a:cubicBezTo>
                      <a:pt x="80" y="12"/>
                      <a:pt x="62" y="0"/>
                      <a:pt x="40" y="0"/>
                    </a:cubicBezTo>
                    <a:close/>
                  </a:path>
                </a:pathLst>
              </a:custGeom>
              <a:solidFill>
                <a:srgbClr val="6bd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Rectangle 1558"/>
              <p:cNvSpPr/>
              <p:nvPr/>
            </p:nvSpPr>
            <p:spPr>
              <a:xfrm>
                <a:off x="7656120" y="3935880"/>
                <a:ext cx="117000" cy="43920"/>
              </a:xfrm>
              <a:prstGeom prst="rect">
                <a:avLst/>
              </a:pr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Rectangle 1559"/>
              <p:cNvSpPr/>
              <p:nvPr/>
            </p:nvSpPr>
            <p:spPr>
              <a:xfrm>
                <a:off x="7567200" y="3963240"/>
                <a:ext cx="47520" cy="6840"/>
              </a:xfrm>
              <a:prstGeom prst="rect">
                <a:avLst/>
              </a:prstGeom>
              <a:solidFill>
                <a:srgbClr val="ff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Rectangle 1560"/>
              <p:cNvSpPr/>
              <p:nvPr/>
            </p:nvSpPr>
            <p:spPr>
              <a:xfrm>
                <a:off x="7567200" y="3977640"/>
                <a:ext cx="47520" cy="6840"/>
              </a:xfrm>
              <a:prstGeom prst="rect">
                <a:avLst/>
              </a:prstGeom>
              <a:solidFill>
                <a:srgbClr val="ffd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Rectangle 1561"/>
              <p:cNvSpPr/>
              <p:nvPr/>
            </p:nvSpPr>
            <p:spPr>
              <a:xfrm>
                <a:off x="7567200" y="3992040"/>
                <a:ext cx="47520" cy="4680"/>
              </a:xfrm>
              <a:prstGeom prst="rect">
                <a:avLst/>
              </a:prstGeom>
              <a:solidFill>
                <a:srgbClr val="ffba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Rectangle 1562"/>
              <p:cNvSpPr/>
              <p:nvPr/>
            </p:nvSpPr>
            <p:spPr>
              <a:xfrm>
                <a:off x="7655400" y="3994200"/>
                <a:ext cx="118800" cy="11880"/>
              </a:xfrm>
              <a:prstGeom prst="rect">
                <a:avLst/>
              </a:prstGeom>
              <a:solidFill>
                <a:srgbClr val="ffba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Rectangle 1563"/>
              <p:cNvSpPr/>
              <p:nvPr/>
            </p:nvSpPr>
            <p:spPr>
              <a:xfrm>
                <a:off x="7814160" y="3944160"/>
                <a:ext cx="94680" cy="128160"/>
              </a:xfrm>
              <a:prstGeom prst="rect">
                <a:avLst/>
              </a:prstGeom>
              <a:solidFill>
                <a:srgbClr val="fe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1564"/>
              <p:cNvSpPr/>
              <p:nvPr/>
            </p:nvSpPr>
            <p:spPr>
              <a:xfrm>
                <a:off x="7802640" y="3930840"/>
                <a:ext cx="118800" cy="154440"/>
              </a:xfrm>
              <a:custGeom>
                <a:avLst/>
                <a:gdLst/>
                <a:ahLst/>
                <a:rect l="l" t="t" r="r" b="b"/>
                <a:pathLst>
                  <a:path w="200" h="259">
                    <a:moveTo>
                      <a:pt x="200" y="10"/>
                    </a:moveTo>
                    <a:cubicBezTo>
                      <a:pt x="200" y="4"/>
                      <a:pt x="196" y="0"/>
                      <a:pt x="190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5" y="0"/>
                      <a:pt x="0" y="4"/>
                      <a:pt x="0" y="10"/>
                    </a:cubicBezTo>
                    <a:cubicBezTo>
                      <a:pt x="0" y="249"/>
                      <a:pt x="0" y="249"/>
                      <a:pt x="0" y="249"/>
                    </a:cubicBezTo>
                    <a:cubicBezTo>
                      <a:pt x="0" y="255"/>
                      <a:pt x="5" y="259"/>
                      <a:pt x="11" y="259"/>
                    </a:cubicBezTo>
                    <a:cubicBezTo>
                      <a:pt x="190" y="259"/>
                      <a:pt x="190" y="259"/>
                      <a:pt x="190" y="259"/>
                    </a:cubicBezTo>
                    <a:cubicBezTo>
                      <a:pt x="196" y="259"/>
                      <a:pt x="200" y="255"/>
                      <a:pt x="200" y="249"/>
                    </a:cubicBezTo>
                    <a:lnTo>
                      <a:pt x="200" y="10"/>
                    </a:lnTo>
                    <a:close/>
                    <a:moveTo>
                      <a:pt x="180" y="237"/>
                    </a:moveTo>
                    <a:cubicBezTo>
                      <a:pt x="20" y="237"/>
                      <a:pt x="20" y="237"/>
                      <a:pt x="20" y="237"/>
                    </a:cubicBezTo>
                    <a:cubicBezTo>
                      <a:pt x="20" y="22"/>
                      <a:pt x="20" y="22"/>
                      <a:pt x="20" y="22"/>
                    </a:cubicBezTo>
                    <a:cubicBezTo>
                      <a:pt x="180" y="22"/>
                      <a:pt x="180" y="22"/>
                      <a:pt x="180" y="22"/>
                    </a:cubicBezTo>
                    <a:lnTo>
                      <a:pt x="180" y="237"/>
                    </a:lnTo>
                    <a:close/>
                  </a:path>
                </a:pathLst>
              </a:cu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1565"/>
              <p:cNvSpPr/>
              <p:nvPr/>
            </p:nvSpPr>
            <p:spPr>
              <a:xfrm>
                <a:off x="7842960" y="3974040"/>
                <a:ext cx="35640" cy="32040"/>
              </a:xfrm>
              <a:custGeom>
                <a:avLst/>
                <a:gdLst/>
                <a:ahLst/>
                <a:rect l="l" t="t" r="r" b="b"/>
                <a:pathLst>
                  <a:path w="60" h="54">
                    <a:moveTo>
                      <a:pt x="30" y="0"/>
                    </a:moveTo>
                    <a:cubicBezTo>
                      <a:pt x="14" y="0"/>
                      <a:pt x="0" y="14"/>
                      <a:pt x="0" y="30"/>
                    </a:cubicBezTo>
                    <a:cubicBezTo>
                      <a:pt x="0" y="40"/>
                      <a:pt x="5" y="49"/>
                      <a:pt x="13" y="54"/>
                    </a:cubicBezTo>
                    <a:cubicBezTo>
                      <a:pt x="47" y="54"/>
                      <a:pt x="47" y="54"/>
                      <a:pt x="47" y="54"/>
                    </a:cubicBezTo>
                    <a:cubicBezTo>
                      <a:pt x="55" y="49"/>
                      <a:pt x="60" y="40"/>
                      <a:pt x="60" y="30"/>
                    </a:cubicBezTo>
                    <a:cubicBezTo>
                      <a:pt x="60" y="14"/>
                      <a:pt x="47" y="0"/>
                      <a:pt x="30" y="0"/>
                    </a:cubicBezTo>
                    <a:close/>
                    <a:moveTo>
                      <a:pt x="30" y="49"/>
                    </a:moveTo>
                    <a:cubicBezTo>
                      <a:pt x="28" y="49"/>
                      <a:pt x="27" y="44"/>
                      <a:pt x="27" y="38"/>
                    </a:cubicBezTo>
                    <a:cubicBezTo>
                      <a:pt x="27" y="31"/>
                      <a:pt x="28" y="26"/>
                      <a:pt x="30" y="26"/>
                    </a:cubicBezTo>
                    <a:cubicBezTo>
                      <a:pt x="32" y="26"/>
                      <a:pt x="33" y="31"/>
                      <a:pt x="33" y="38"/>
                    </a:cubicBezTo>
                    <a:cubicBezTo>
                      <a:pt x="33" y="44"/>
                      <a:pt x="32" y="49"/>
                      <a:pt x="30" y="49"/>
                    </a:cubicBezTo>
                    <a:close/>
                  </a:path>
                </a:pathLst>
              </a:custGeom>
              <a:solidFill>
                <a:srgbClr val="ffd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1566"/>
              <p:cNvSpPr/>
              <p:nvPr/>
            </p:nvSpPr>
            <p:spPr>
              <a:xfrm>
                <a:off x="7850880" y="4008600"/>
                <a:ext cx="19800" cy="14760"/>
              </a:xfrm>
              <a:custGeom>
                <a:avLst/>
                <a:gdLst/>
                <a:ahLst/>
                <a:rect l="l" t="t" r="r" b="b"/>
                <a:pathLst>
                  <a:path w="34" h="25">
                    <a:moveTo>
                      <a:pt x="0" y="21"/>
                    </a:moveTo>
                    <a:cubicBezTo>
                      <a:pt x="8" y="21"/>
                      <a:pt x="8" y="21"/>
                      <a:pt x="8" y="21"/>
                    </a:cubicBezTo>
                    <a:cubicBezTo>
                      <a:pt x="9" y="23"/>
                      <a:pt x="13" y="25"/>
                      <a:pt x="17" y="25"/>
                    </a:cubicBezTo>
                    <a:cubicBezTo>
                      <a:pt x="22" y="25"/>
                      <a:pt x="25" y="23"/>
                      <a:pt x="26" y="21"/>
                    </a:cubicBezTo>
                    <a:cubicBezTo>
                      <a:pt x="34" y="21"/>
                      <a:pt x="34" y="21"/>
                      <a:pt x="34" y="21"/>
                    </a:cubicBezTo>
                    <a:cubicBezTo>
                      <a:pt x="34" y="0"/>
                      <a:pt x="34" y="0"/>
                      <a:pt x="34" y="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0" y="21"/>
                    </a:lnTo>
                    <a:close/>
                    <a:moveTo>
                      <a:pt x="4" y="4"/>
                    </a:moveTo>
                    <a:cubicBezTo>
                      <a:pt x="30" y="4"/>
                      <a:pt x="30" y="4"/>
                      <a:pt x="30" y="4"/>
                    </a:cubicBezTo>
                    <a:cubicBezTo>
                      <a:pt x="30" y="8"/>
                      <a:pt x="30" y="8"/>
                      <a:pt x="30" y="8"/>
                    </a:cubicBezTo>
                    <a:cubicBezTo>
                      <a:pt x="4" y="8"/>
                      <a:pt x="4" y="8"/>
                      <a:pt x="4" y="8"/>
                    </a:cubicBezTo>
                    <a:lnTo>
                      <a:pt x="4" y="4"/>
                    </a:lnTo>
                    <a:close/>
                    <a:moveTo>
                      <a:pt x="4" y="12"/>
                    </a:moveTo>
                    <a:cubicBezTo>
                      <a:pt x="30" y="12"/>
                      <a:pt x="30" y="12"/>
                      <a:pt x="30" y="12"/>
                    </a:cubicBezTo>
                    <a:cubicBezTo>
                      <a:pt x="30" y="15"/>
                      <a:pt x="30" y="15"/>
                      <a:pt x="30" y="15"/>
                    </a:cubicBezTo>
                    <a:cubicBezTo>
                      <a:pt x="4" y="15"/>
                      <a:pt x="4" y="15"/>
                      <a:pt x="4" y="15"/>
                    </a:cubicBezTo>
                    <a:lnTo>
                      <a:pt x="4" y="12"/>
                    </a:lnTo>
                    <a:close/>
                  </a:path>
                </a:pathLst>
              </a:custGeom>
              <a:solidFill>
                <a:srgbClr val="ffd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1567"/>
              <p:cNvSpPr/>
              <p:nvPr/>
            </p:nvSpPr>
            <p:spPr>
              <a:xfrm>
                <a:off x="7835040" y="3958920"/>
                <a:ext cx="51120" cy="19440"/>
              </a:xfrm>
              <a:custGeom>
                <a:avLst/>
                <a:gdLst/>
                <a:ahLst/>
                <a:rect l="l" t="t" r="r" b="b"/>
                <a:pathLst>
                  <a:path w="204" h="78">
                    <a:moveTo>
                      <a:pt x="92" y="0"/>
                    </a:moveTo>
                    <a:lnTo>
                      <a:pt x="111" y="0"/>
                    </a:lnTo>
                    <a:lnTo>
                      <a:pt x="111" y="41"/>
                    </a:lnTo>
                    <a:lnTo>
                      <a:pt x="92" y="41"/>
                    </a:lnTo>
                    <a:lnTo>
                      <a:pt x="92" y="0"/>
                    </a:lnTo>
                    <a:close/>
                    <a:moveTo>
                      <a:pt x="0" y="48"/>
                    </a:moveTo>
                    <a:lnTo>
                      <a:pt x="14" y="36"/>
                    </a:lnTo>
                    <a:lnTo>
                      <a:pt x="43" y="67"/>
                    </a:lnTo>
                    <a:lnTo>
                      <a:pt x="31" y="78"/>
                    </a:lnTo>
                    <a:lnTo>
                      <a:pt x="0" y="48"/>
                    </a:lnTo>
                    <a:close/>
                    <a:moveTo>
                      <a:pt x="161" y="67"/>
                    </a:moveTo>
                    <a:lnTo>
                      <a:pt x="192" y="36"/>
                    </a:lnTo>
                    <a:lnTo>
                      <a:pt x="204" y="48"/>
                    </a:lnTo>
                    <a:lnTo>
                      <a:pt x="173" y="78"/>
                    </a:lnTo>
                    <a:lnTo>
                      <a:pt x="161" y="67"/>
                    </a:lnTo>
                    <a:close/>
                  </a:path>
                </a:pathLst>
              </a:custGeom>
              <a:solidFill>
                <a:srgbClr val="ffd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Rectangle 1568"/>
              <p:cNvSpPr/>
              <p:nvPr/>
            </p:nvSpPr>
            <p:spPr>
              <a:xfrm>
                <a:off x="7822440" y="4044240"/>
                <a:ext cx="78120" cy="3960"/>
              </a:xfrm>
              <a:prstGeom prst="rect">
                <a:avLst/>
              </a:prstGeom>
              <a:solidFill>
                <a:srgbClr val="ff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Rectangle 1569"/>
              <p:cNvSpPr/>
              <p:nvPr/>
            </p:nvSpPr>
            <p:spPr>
              <a:xfrm>
                <a:off x="7822440" y="4047480"/>
                <a:ext cx="78120" cy="18360"/>
              </a:xfrm>
              <a:prstGeom prst="rect">
                <a:avLst/>
              </a:pr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Freeform 1570"/>
              <p:cNvSpPr/>
              <p:nvPr/>
            </p:nvSpPr>
            <p:spPr>
              <a:xfrm>
                <a:off x="7459920" y="3954240"/>
                <a:ext cx="58680" cy="124200"/>
              </a:xfrm>
              <a:custGeom>
                <a:avLst/>
                <a:gdLst/>
                <a:ahLst/>
                <a:rect l="l" t="t" r="r" b="b"/>
                <a:pathLst>
                  <a:path w="99" h="208">
                    <a:moveTo>
                      <a:pt x="99" y="14"/>
                    </a:moveTo>
                    <a:cubicBezTo>
                      <a:pt x="99" y="6"/>
                      <a:pt x="92" y="0"/>
                      <a:pt x="85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7" y="0"/>
                      <a:pt x="0" y="6"/>
                      <a:pt x="0" y="14"/>
                    </a:cubicBezTo>
                    <a:cubicBezTo>
                      <a:pt x="0" y="194"/>
                      <a:pt x="0" y="194"/>
                      <a:pt x="0" y="194"/>
                    </a:cubicBezTo>
                    <a:cubicBezTo>
                      <a:pt x="0" y="202"/>
                      <a:pt x="7" y="208"/>
                      <a:pt x="14" y="208"/>
                    </a:cubicBezTo>
                    <a:cubicBezTo>
                      <a:pt x="85" y="208"/>
                      <a:pt x="85" y="208"/>
                      <a:pt x="85" y="208"/>
                    </a:cubicBezTo>
                    <a:cubicBezTo>
                      <a:pt x="92" y="208"/>
                      <a:pt x="99" y="202"/>
                      <a:pt x="99" y="194"/>
                    </a:cubicBezTo>
                    <a:cubicBezTo>
                      <a:pt x="99" y="14"/>
                      <a:pt x="99" y="14"/>
                      <a:pt x="99" y="14"/>
                    </a:cubicBezTo>
                    <a:moveTo>
                      <a:pt x="60" y="18"/>
                    </a:moveTo>
                    <a:cubicBezTo>
                      <a:pt x="60" y="19"/>
                      <a:pt x="59" y="20"/>
                      <a:pt x="57" y="20"/>
                    </a:cubicBezTo>
                    <a:cubicBezTo>
                      <a:pt x="42" y="20"/>
                      <a:pt x="42" y="20"/>
                      <a:pt x="42" y="20"/>
                    </a:cubicBezTo>
                    <a:cubicBezTo>
                      <a:pt x="41" y="20"/>
                      <a:pt x="40" y="19"/>
                      <a:pt x="40" y="18"/>
                    </a:cubicBezTo>
                    <a:cubicBezTo>
                      <a:pt x="40" y="18"/>
                      <a:pt x="40" y="18"/>
                      <a:pt x="40" y="18"/>
                    </a:cubicBezTo>
                    <a:cubicBezTo>
                      <a:pt x="40" y="17"/>
                      <a:pt x="41" y="16"/>
                      <a:pt x="42" y="16"/>
                    </a:cubicBezTo>
                    <a:cubicBezTo>
                      <a:pt x="57" y="16"/>
                      <a:pt x="57" y="16"/>
                      <a:pt x="57" y="16"/>
                    </a:cubicBezTo>
                    <a:cubicBezTo>
                      <a:pt x="59" y="16"/>
                      <a:pt x="60" y="17"/>
                      <a:pt x="60" y="18"/>
                    </a:cubicBezTo>
                    <a:cubicBezTo>
                      <a:pt x="60" y="18"/>
                      <a:pt x="60" y="18"/>
                      <a:pt x="60" y="18"/>
                    </a:cubicBezTo>
                    <a:moveTo>
                      <a:pt x="92" y="178"/>
                    </a:moveTo>
                    <a:cubicBezTo>
                      <a:pt x="8" y="178"/>
                      <a:pt x="8" y="178"/>
                      <a:pt x="8" y="178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92" y="30"/>
                      <a:pt x="92" y="30"/>
                      <a:pt x="92" y="30"/>
                    </a:cubicBezTo>
                    <a:cubicBezTo>
                      <a:pt x="92" y="178"/>
                      <a:pt x="92" y="178"/>
                      <a:pt x="92" y="178"/>
                    </a:cubicBezTo>
                  </a:path>
                </a:pathLst>
              </a:cu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Rectangle 1571"/>
              <p:cNvSpPr/>
              <p:nvPr/>
            </p:nvSpPr>
            <p:spPr>
              <a:xfrm>
                <a:off x="7464600" y="3971880"/>
                <a:ext cx="49680" cy="88200"/>
              </a:xfrm>
              <a:prstGeom prst="rect">
                <a:avLst/>
              </a:prstGeom>
              <a:solidFill>
                <a:srgbClr val="fe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Rectangle 1572"/>
              <p:cNvSpPr/>
              <p:nvPr/>
            </p:nvSpPr>
            <p:spPr>
              <a:xfrm>
                <a:off x="7464600" y="3971880"/>
                <a:ext cx="49680" cy="8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1" name="Picture 1573" descr=""/>
              <p:cNvPicPr/>
              <p:nvPr/>
            </p:nvPicPr>
            <p:blipFill>
              <a:blip r:embed="rId3"/>
              <a:stretch/>
            </p:blipFill>
            <p:spPr>
              <a:xfrm>
                <a:off x="7490520" y="3951000"/>
                <a:ext cx="30240" cy="1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Picture 1574" descr=""/>
              <p:cNvPicPr/>
              <p:nvPr/>
            </p:nvPicPr>
            <p:blipFill>
              <a:blip r:embed="rId4"/>
              <a:stretch/>
            </p:blipFill>
            <p:spPr>
              <a:xfrm>
                <a:off x="7488720" y="3951000"/>
                <a:ext cx="32040" cy="2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Picture 1575" descr=""/>
              <p:cNvPicPr/>
              <p:nvPr/>
            </p:nvPicPr>
            <p:blipFill>
              <a:blip r:embed="rId5"/>
              <a:stretch/>
            </p:blipFill>
            <p:spPr>
              <a:xfrm>
                <a:off x="7457400" y="4044960"/>
                <a:ext cx="9000" cy="1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" name="Picture 1576" descr=""/>
              <p:cNvPicPr/>
              <p:nvPr/>
            </p:nvPicPr>
            <p:blipFill>
              <a:blip r:embed="rId6"/>
              <a:stretch/>
            </p:blipFill>
            <p:spPr>
              <a:xfrm>
                <a:off x="7457760" y="4044240"/>
                <a:ext cx="8640" cy="1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5" name="Picture 1577" descr=""/>
              <p:cNvPicPr/>
              <p:nvPr/>
            </p:nvPicPr>
            <p:blipFill>
              <a:blip r:embed="rId7"/>
              <a:stretch/>
            </p:blipFill>
            <p:spPr>
              <a:xfrm>
                <a:off x="7462440" y="3970080"/>
                <a:ext cx="30240" cy="78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6" name="Picture 1578" descr=""/>
              <p:cNvPicPr/>
              <p:nvPr/>
            </p:nvPicPr>
            <p:blipFill>
              <a:blip r:embed="rId8"/>
              <a:stretch/>
            </p:blipFill>
            <p:spPr>
              <a:xfrm>
                <a:off x="7516080" y="4053240"/>
                <a:ext cx="5040" cy="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7" name="Picture 1579" descr=""/>
              <p:cNvPicPr/>
              <p:nvPr/>
            </p:nvPicPr>
            <p:blipFill>
              <a:blip r:embed="rId9"/>
              <a:stretch/>
            </p:blipFill>
            <p:spPr>
              <a:xfrm>
                <a:off x="7491960" y="3952800"/>
                <a:ext cx="28440" cy="1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8" name="Picture 1580" descr=""/>
              <p:cNvPicPr/>
              <p:nvPr/>
            </p:nvPicPr>
            <p:blipFill>
              <a:blip r:embed="rId10"/>
              <a:stretch/>
            </p:blipFill>
            <p:spPr>
              <a:xfrm>
                <a:off x="7489800" y="3952800"/>
                <a:ext cx="30600" cy="108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" name="Picture 1581" descr=""/>
              <p:cNvPicPr/>
              <p:nvPr/>
            </p:nvPicPr>
            <p:blipFill>
              <a:blip r:embed="rId11"/>
              <a:stretch/>
            </p:blipFill>
            <p:spPr>
              <a:xfrm>
                <a:off x="7458840" y="4044960"/>
                <a:ext cx="7920" cy="1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" name="Picture 1582" descr=""/>
              <p:cNvPicPr/>
              <p:nvPr/>
            </p:nvPicPr>
            <p:blipFill>
              <a:blip r:embed="rId12"/>
              <a:stretch/>
            </p:blipFill>
            <p:spPr>
              <a:xfrm>
                <a:off x="7458840" y="4044960"/>
                <a:ext cx="7920" cy="1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" name="Picture 1583" descr=""/>
              <p:cNvPicPr/>
              <p:nvPr/>
            </p:nvPicPr>
            <p:blipFill>
              <a:blip r:embed="rId13"/>
              <a:stretch/>
            </p:blipFill>
            <p:spPr>
              <a:xfrm>
                <a:off x="7463160" y="3970440"/>
                <a:ext cx="52200" cy="9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" name="Freeform 1584"/>
              <p:cNvSpPr/>
              <p:nvPr/>
            </p:nvSpPr>
            <p:spPr>
              <a:xfrm>
                <a:off x="7474320" y="3978720"/>
                <a:ext cx="16920" cy="19080"/>
              </a:xfrm>
              <a:custGeom>
                <a:avLst/>
                <a:gdLst/>
                <a:ahLst/>
                <a:rect l="l" t="t" r="r" b="b"/>
                <a:pathLst>
                  <a:path w="29" h="32">
                    <a:moveTo>
                      <a:pt x="3" y="4"/>
                    </a:moveTo>
                    <a:cubicBezTo>
                      <a:pt x="5" y="1"/>
                      <a:pt x="9" y="0"/>
                      <a:pt x="13" y="0"/>
                    </a:cubicBezTo>
                    <a:cubicBezTo>
                      <a:pt x="13" y="14"/>
                      <a:pt x="13" y="14"/>
                      <a:pt x="13" y="14"/>
                    </a:cubicBezTo>
                    <a:lnTo>
                      <a:pt x="3" y="4"/>
                    </a:lnTo>
                    <a:close/>
                    <a:moveTo>
                      <a:pt x="14" y="4"/>
                    </a:moveTo>
                    <a:cubicBezTo>
                      <a:pt x="14" y="18"/>
                      <a:pt x="14" y="18"/>
                      <a:pt x="14" y="1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2" y="10"/>
                      <a:pt x="0" y="14"/>
                      <a:pt x="0" y="18"/>
                    </a:cubicBezTo>
                    <a:cubicBezTo>
                      <a:pt x="0" y="26"/>
                      <a:pt x="7" y="32"/>
                      <a:pt x="14" y="32"/>
                    </a:cubicBezTo>
                    <a:cubicBezTo>
                      <a:pt x="22" y="32"/>
                      <a:pt x="29" y="26"/>
                      <a:pt x="29" y="18"/>
                    </a:cubicBezTo>
                    <a:cubicBezTo>
                      <a:pt x="29" y="10"/>
                      <a:pt x="22" y="4"/>
                      <a:pt x="14" y="4"/>
                    </a:cubicBezTo>
                    <a:close/>
                  </a:path>
                </a:pathLst>
              </a:custGeom>
              <a:solidFill>
                <a:srgbClr val="ff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1585"/>
              <p:cNvSpPr/>
              <p:nvPr/>
            </p:nvSpPr>
            <p:spPr>
              <a:xfrm>
                <a:off x="7467840" y="4001400"/>
                <a:ext cx="43920" cy="1440"/>
              </a:xfrm>
              <a:prstGeom prst="rect">
                <a:avLst/>
              </a:prstGeom>
              <a:solidFill>
                <a:srgbClr val="ff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1586"/>
              <p:cNvSpPr/>
              <p:nvPr/>
            </p:nvSpPr>
            <p:spPr>
              <a:xfrm>
                <a:off x="7467840" y="4017600"/>
                <a:ext cx="43920" cy="2160"/>
              </a:xfrm>
              <a:prstGeom prst="rect">
                <a:avLst/>
              </a:prstGeom>
              <a:solidFill>
                <a:srgbClr val="ffd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1587"/>
              <p:cNvSpPr/>
              <p:nvPr/>
            </p:nvSpPr>
            <p:spPr>
              <a:xfrm>
                <a:off x="7467840" y="4024080"/>
                <a:ext cx="43920" cy="1440"/>
              </a:xfrm>
              <a:prstGeom prst="rect">
                <a:avLst/>
              </a:prstGeom>
              <a:solidFill>
                <a:srgbClr val="ff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Rectangle 1588"/>
              <p:cNvSpPr/>
              <p:nvPr/>
            </p:nvSpPr>
            <p:spPr>
              <a:xfrm>
                <a:off x="7467840" y="4029840"/>
                <a:ext cx="43920" cy="1800"/>
              </a:xfrm>
              <a:prstGeom prst="rect">
                <a:avLst/>
              </a:prstGeom>
              <a:solidFill>
                <a:srgbClr val="6bd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Rectangle 1589"/>
              <p:cNvSpPr/>
              <p:nvPr/>
            </p:nvSpPr>
            <p:spPr>
              <a:xfrm>
                <a:off x="7467840" y="4035960"/>
                <a:ext cx="43920" cy="1440"/>
              </a:xfrm>
              <a:prstGeom prst="rect">
                <a:avLst/>
              </a:prstGeom>
              <a:solidFill>
                <a:srgbClr val="ff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1590"/>
              <p:cNvSpPr/>
              <p:nvPr/>
            </p:nvSpPr>
            <p:spPr>
              <a:xfrm>
                <a:off x="7467840" y="4002480"/>
                <a:ext cx="43920" cy="10800"/>
              </a:xfrm>
              <a:prstGeom prst="rect">
                <a:avLst/>
              </a:prstGeom>
              <a:solidFill>
                <a:srgbClr val="414f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1591"/>
              <p:cNvSpPr/>
              <p:nvPr/>
            </p:nvSpPr>
            <p:spPr>
              <a:xfrm>
                <a:off x="7691760" y="3743640"/>
                <a:ext cx="165600" cy="112680"/>
              </a:xfrm>
              <a:custGeom>
                <a:avLst/>
                <a:gdLst/>
                <a:ahLst/>
                <a:rect l="l" t="t" r="r" b="b"/>
                <a:pathLst>
                  <a:path w="278" h="189">
                    <a:moveTo>
                      <a:pt x="278" y="134"/>
                    </a:moveTo>
                    <a:cubicBezTo>
                      <a:pt x="278" y="164"/>
                      <a:pt x="253" y="189"/>
                      <a:pt x="223" y="189"/>
                    </a:cubicBezTo>
                    <a:cubicBezTo>
                      <a:pt x="55" y="189"/>
                      <a:pt x="55" y="189"/>
                      <a:pt x="55" y="189"/>
                    </a:cubicBezTo>
                    <a:cubicBezTo>
                      <a:pt x="24" y="189"/>
                      <a:pt x="0" y="164"/>
                      <a:pt x="0" y="134"/>
                    </a:cubicBezTo>
                    <a:cubicBezTo>
                      <a:pt x="0" y="106"/>
                      <a:pt x="20" y="84"/>
                      <a:pt x="46" y="79"/>
                    </a:cubicBezTo>
                    <a:cubicBezTo>
                      <a:pt x="46" y="77"/>
                      <a:pt x="46" y="75"/>
                      <a:pt x="46" y="73"/>
                    </a:cubicBezTo>
                    <a:cubicBezTo>
                      <a:pt x="46" y="54"/>
                      <a:pt x="61" y="39"/>
                      <a:pt x="80" y="39"/>
                    </a:cubicBezTo>
                    <a:cubicBezTo>
                      <a:pt x="89" y="39"/>
                      <a:pt x="96" y="42"/>
                      <a:pt x="102" y="47"/>
                    </a:cubicBezTo>
                    <a:cubicBezTo>
                      <a:pt x="113" y="23"/>
                      <a:pt x="127" y="0"/>
                      <a:pt x="166" y="0"/>
                    </a:cubicBezTo>
                    <a:cubicBezTo>
                      <a:pt x="212" y="0"/>
                      <a:pt x="235" y="37"/>
                      <a:pt x="235" y="75"/>
                    </a:cubicBezTo>
                    <a:cubicBezTo>
                      <a:pt x="235" y="77"/>
                      <a:pt x="234" y="78"/>
                      <a:pt x="234" y="80"/>
                    </a:cubicBezTo>
                    <a:cubicBezTo>
                      <a:pt x="259" y="85"/>
                      <a:pt x="278" y="107"/>
                      <a:pt x="278" y="134"/>
                    </a:cubicBezTo>
                    <a:close/>
                  </a:path>
                </a:pathLst>
              </a:custGeom>
              <a:solidFill>
                <a:srgbClr val="1037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1592"/>
              <p:cNvSpPr/>
              <p:nvPr/>
            </p:nvSpPr>
            <p:spPr>
              <a:xfrm>
                <a:off x="7741800" y="3781080"/>
                <a:ext cx="68040" cy="5688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13" y="19"/>
                    </a:moveTo>
                    <a:cubicBezTo>
                      <a:pt x="13" y="8"/>
                      <a:pt x="21" y="0"/>
                      <a:pt x="32" y="0"/>
                    </a:cubicBezTo>
                    <a:cubicBezTo>
                      <a:pt x="42" y="0"/>
                      <a:pt x="50" y="8"/>
                      <a:pt x="50" y="19"/>
                    </a:cubicBezTo>
                    <a:cubicBezTo>
                      <a:pt x="50" y="29"/>
                      <a:pt x="42" y="37"/>
                      <a:pt x="32" y="37"/>
                    </a:cubicBezTo>
                    <a:cubicBezTo>
                      <a:pt x="21" y="37"/>
                      <a:pt x="13" y="29"/>
                      <a:pt x="13" y="19"/>
                    </a:cubicBezTo>
                    <a:close/>
                    <a:moveTo>
                      <a:pt x="41" y="61"/>
                    </a:moveTo>
                    <a:cubicBezTo>
                      <a:pt x="39" y="58"/>
                      <a:pt x="38" y="55"/>
                      <a:pt x="38" y="52"/>
                    </a:cubicBezTo>
                    <a:cubicBezTo>
                      <a:pt x="38" y="47"/>
                      <a:pt x="40" y="42"/>
                      <a:pt x="44" y="39"/>
                    </a:cubicBezTo>
                    <a:cubicBezTo>
                      <a:pt x="42" y="39"/>
                      <a:pt x="41" y="39"/>
                      <a:pt x="39" y="39"/>
                    </a:cubicBezTo>
                    <a:cubicBezTo>
                      <a:pt x="24" y="39"/>
                      <a:pt x="24" y="39"/>
                      <a:pt x="24" y="39"/>
                    </a:cubicBezTo>
                    <a:cubicBezTo>
                      <a:pt x="10" y="39"/>
                      <a:pt x="0" y="49"/>
                      <a:pt x="0" y="62"/>
                    </a:cubicBezTo>
                    <a:cubicBezTo>
                      <a:pt x="0" y="82"/>
                      <a:pt x="0" y="82"/>
                      <a:pt x="0" y="82"/>
                    </a:cubicBezTo>
                    <a:cubicBezTo>
                      <a:pt x="0" y="82"/>
                      <a:pt x="0" y="82"/>
                      <a:pt x="0" y="82"/>
                    </a:cubicBezTo>
                    <a:cubicBezTo>
                      <a:pt x="1" y="83"/>
                      <a:pt x="1" y="83"/>
                      <a:pt x="1" y="83"/>
                    </a:cubicBezTo>
                    <a:cubicBezTo>
                      <a:pt x="12" y="86"/>
                      <a:pt x="22" y="87"/>
                      <a:pt x="30" y="88"/>
                    </a:cubicBezTo>
                    <a:cubicBezTo>
                      <a:pt x="30" y="79"/>
                      <a:pt x="30" y="79"/>
                      <a:pt x="30" y="79"/>
                    </a:cubicBezTo>
                    <a:cubicBezTo>
                      <a:pt x="30" y="71"/>
                      <a:pt x="34" y="64"/>
                      <a:pt x="41" y="61"/>
                    </a:cubicBezTo>
                    <a:close/>
                    <a:moveTo>
                      <a:pt x="83" y="37"/>
                    </a:moveTo>
                    <a:cubicBezTo>
                      <a:pt x="94" y="37"/>
                      <a:pt x="102" y="29"/>
                      <a:pt x="102" y="19"/>
                    </a:cubicBezTo>
                    <a:cubicBezTo>
                      <a:pt x="102" y="8"/>
                      <a:pt x="94" y="0"/>
                      <a:pt x="83" y="0"/>
                    </a:cubicBezTo>
                    <a:cubicBezTo>
                      <a:pt x="73" y="0"/>
                      <a:pt x="65" y="8"/>
                      <a:pt x="65" y="19"/>
                    </a:cubicBezTo>
                    <a:cubicBezTo>
                      <a:pt x="65" y="29"/>
                      <a:pt x="73" y="37"/>
                      <a:pt x="83" y="37"/>
                    </a:cubicBezTo>
                    <a:close/>
                    <a:moveTo>
                      <a:pt x="91" y="39"/>
                    </a:moveTo>
                    <a:cubicBezTo>
                      <a:pt x="75" y="39"/>
                      <a:pt x="75" y="39"/>
                      <a:pt x="75" y="39"/>
                    </a:cubicBezTo>
                    <a:cubicBezTo>
                      <a:pt x="73" y="39"/>
                      <a:pt x="70" y="39"/>
                      <a:pt x="68" y="40"/>
                    </a:cubicBezTo>
                    <a:cubicBezTo>
                      <a:pt x="71" y="43"/>
                      <a:pt x="73" y="47"/>
                      <a:pt x="73" y="52"/>
                    </a:cubicBezTo>
                    <a:cubicBezTo>
                      <a:pt x="73" y="55"/>
                      <a:pt x="72" y="58"/>
                      <a:pt x="70" y="61"/>
                    </a:cubicBezTo>
                    <a:cubicBezTo>
                      <a:pt x="76" y="64"/>
                      <a:pt x="81" y="71"/>
                      <a:pt x="81" y="79"/>
                    </a:cubicBezTo>
                    <a:cubicBezTo>
                      <a:pt x="81" y="88"/>
                      <a:pt x="81" y="88"/>
                      <a:pt x="81" y="88"/>
                    </a:cubicBezTo>
                    <a:cubicBezTo>
                      <a:pt x="82" y="88"/>
                      <a:pt x="84" y="88"/>
                      <a:pt x="85" y="88"/>
                    </a:cubicBezTo>
                    <a:cubicBezTo>
                      <a:pt x="103" y="88"/>
                      <a:pt x="113" y="83"/>
                      <a:pt x="114" y="83"/>
                    </a:cubicBezTo>
                    <a:cubicBezTo>
                      <a:pt x="115" y="82"/>
                      <a:pt x="115" y="82"/>
                      <a:pt x="115" y="82"/>
                    </a:cubicBezTo>
                    <a:cubicBezTo>
                      <a:pt x="115" y="82"/>
                      <a:pt x="115" y="82"/>
                      <a:pt x="115" y="82"/>
                    </a:cubicBezTo>
                    <a:cubicBezTo>
                      <a:pt x="115" y="62"/>
                      <a:pt x="115" y="62"/>
                      <a:pt x="115" y="62"/>
                    </a:cubicBezTo>
                    <a:cubicBezTo>
                      <a:pt x="115" y="49"/>
                      <a:pt x="104" y="39"/>
                      <a:pt x="91" y="39"/>
                    </a:cubicBezTo>
                    <a:close/>
                    <a:moveTo>
                      <a:pt x="44" y="52"/>
                    </a:moveTo>
                    <a:cubicBezTo>
                      <a:pt x="44" y="59"/>
                      <a:pt x="49" y="64"/>
                      <a:pt x="55" y="64"/>
                    </a:cubicBezTo>
                    <a:cubicBezTo>
                      <a:pt x="62" y="64"/>
                      <a:pt x="67" y="59"/>
                      <a:pt x="67" y="52"/>
                    </a:cubicBezTo>
                    <a:cubicBezTo>
                      <a:pt x="67" y="46"/>
                      <a:pt x="62" y="41"/>
                      <a:pt x="55" y="41"/>
                    </a:cubicBezTo>
                    <a:cubicBezTo>
                      <a:pt x="49" y="41"/>
                      <a:pt x="44" y="46"/>
                      <a:pt x="44" y="52"/>
                    </a:cubicBezTo>
                    <a:close/>
                    <a:moveTo>
                      <a:pt x="60" y="65"/>
                    </a:moveTo>
                    <a:cubicBezTo>
                      <a:pt x="50" y="65"/>
                      <a:pt x="50" y="65"/>
                      <a:pt x="50" y="65"/>
                    </a:cubicBezTo>
                    <a:cubicBezTo>
                      <a:pt x="42" y="65"/>
                      <a:pt x="35" y="71"/>
                      <a:pt x="35" y="80"/>
                    </a:cubicBezTo>
                    <a:cubicBezTo>
                      <a:pt x="35" y="92"/>
                      <a:pt x="35" y="92"/>
                      <a:pt x="35" y="92"/>
                    </a:cubicBezTo>
                    <a:cubicBezTo>
                      <a:pt x="35" y="92"/>
                      <a:pt x="35" y="92"/>
                      <a:pt x="35" y="92"/>
                    </a:cubicBezTo>
                    <a:cubicBezTo>
                      <a:pt x="36" y="92"/>
                      <a:pt x="36" y="92"/>
                      <a:pt x="36" y="92"/>
                    </a:cubicBezTo>
                    <a:cubicBezTo>
                      <a:pt x="44" y="95"/>
                      <a:pt x="51" y="95"/>
                      <a:pt x="57" y="95"/>
                    </a:cubicBezTo>
                    <a:cubicBezTo>
                      <a:pt x="67" y="95"/>
                      <a:pt x="74" y="92"/>
                      <a:pt x="74" y="92"/>
                    </a:cubicBezTo>
                    <a:cubicBezTo>
                      <a:pt x="75" y="92"/>
                      <a:pt x="75" y="92"/>
                      <a:pt x="75" y="92"/>
                    </a:cubicBezTo>
                    <a:cubicBezTo>
                      <a:pt x="75" y="92"/>
                      <a:pt x="75" y="92"/>
                      <a:pt x="75" y="92"/>
                    </a:cubicBezTo>
                    <a:cubicBezTo>
                      <a:pt x="75" y="80"/>
                      <a:pt x="75" y="80"/>
                      <a:pt x="75" y="80"/>
                    </a:cubicBezTo>
                    <a:cubicBezTo>
                      <a:pt x="75" y="71"/>
                      <a:pt x="68" y="65"/>
                      <a:pt x="60" y="65"/>
                    </a:cubicBezTo>
                    <a:close/>
                  </a:path>
                </a:pathLst>
              </a:custGeom>
              <a:solidFill>
                <a:srgbClr val="ffd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1593"/>
              <p:cNvSpPr/>
              <p:nvPr/>
            </p:nvSpPr>
            <p:spPr>
              <a:xfrm>
                <a:off x="7372440" y="3821040"/>
                <a:ext cx="137880" cy="94320"/>
              </a:xfrm>
              <a:custGeom>
                <a:avLst/>
                <a:gdLst/>
                <a:ahLst/>
                <a:rect l="l" t="t" r="r" b="b"/>
                <a:pathLst>
                  <a:path w="232" h="158">
                    <a:moveTo>
                      <a:pt x="232" y="112"/>
                    </a:moveTo>
                    <a:cubicBezTo>
                      <a:pt x="232" y="137"/>
                      <a:pt x="212" y="158"/>
                      <a:pt x="186" y="158"/>
                    </a:cubicBezTo>
                    <a:cubicBezTo>
                      <a:pt x="45" y="158"/>
                      <a:pt x="45" y="158"/>
                      <a:pt x="45" y="158"/>
                    </a:cubicBezTo>
                    <a:cubicBezTo>
                      <a:pt x="20" y="158"/>
                      <a:pt x="0" y="137"/>
                      <a:pt x="0" y="112"/>
                    </a:cubicBezTo>
                    <a:cubicBezTo>
                      <a:pt x="0" y="89"/>
                      <a:pt x="17" y="70"/>
                      <a:pt x="38" y="66"/>
                    </a:cubicBezTo>
                    <a:cubicBezTo>
                      <a:pt x="38" y="65"/>
                      <a:pt x="38" y="63"/>
                      <a:pt x="38" y="61"/>
                    </a:cubicBezTo>
                    <a:cubicBezTo>
                      <a:pt x="38" y="45"/>
                      <a:pt x="51" y="32"/>
                      <a:pt x="67" y="32"/>
                    </a:cubicBezTo>
                    <a:cubicBezTo>
                      <a:pt x="74" y="32"/>
                      <a:pt x="80" y="35"/>
                      <a:pt x="85" y="39"/>
                    </a:cubicBezTo>
                    <a:cubicBezTo>
                      <a:pt x="94" y="19"/>
                      <a:pt x="106" y="0"/>
                      <a:pt x="138" y="0"/>
                    </a:cubicBezTo>
                    <a:cubicBezTo>
                      <a:pt x="177" y="0"/>
                      <a:pt x="196" y="31"/>
                      <a:pt x="196" y="63"/>
                    </a:cubicBezTo>
                    <a:cubicBezTo>
                      <a:pt x="196" y="64"/>
                      <a:pt x="196" y="65"/>
                      <a:pt x="196" y="67"/>
                    </a:cubicBezTo>
                    <a:cubicBezTo>
                      <a:pt x="216" y="71"/>
                      <a:pt x="232" y="90"/>
                      <a:pt x="232" y="112"/>
                    </a:cubicBezTo>
                    <a:close/>
                  </a:path>
                </a:pathLst>
              </a:custGeom>
              <a:solidFill>
                <a:srgbClr val="fe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1594"/>
              <p:cNvSpPr/>
              <p:nvPr/>
            </p:nvSpPr>
            <p:spPr>
              <a:xfrm>
                <a:off x="7431480" y="3864600"/>
                <a:ext cx="41400" cy="4176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65" y="28"/>
                    </a:moveTo>
                    <a:cubicBezTo>
                      <a:pt x="62" y="28"/>
                      <a:pt x="62" y="28"/>
                      <a:pt x="62" y="28"/>
                    </a:cubicBezTo>
                    <a:cubicBezTo>
                      <a:pt x="61" y="28"/>
                      <a:pt x="60" y="27"/>
                      <a:pt x="60" y="26"/>
                    </a:cubicBezTo>
                    <a:cubicBezTo>
                      <a:pt x="59" y="25"/>
                      <a:pt x="59" y="24"/>
                      <a:pt x="59" y="24"/>
                    </a:cubicBezTo>
                    <a:cubicBezTo>
                      <a:pt x="58" y="23"/>
                      <a:pt x="58" y="21"/>
                      <a:pt x="59" y="21"/>
                    </a:cubicBezTo>
                    <a:cubicBezTo>
                      <a:pt x="61" y="18"/>
                      <a:pt x="61" y="18"/>
                      <a:pt x="61" y="18"/>
                    </a:cubicBezTo>
                    <a:cubicBezTo>
                      <a:pt x="63" y="17"/>
                      <a:pt x="63" y="14"/>
                      <a:pt x="61" y="12"/>
                    </a:cubicBezTo>
                    <a:cubicBezTo>
                      <a:pt x="58" y="9"/>
                      <a:pt x="58" y="9"/>
                      <a:pt x="58" y="9"/>
                    </a:cubicBezTo>
                    <a:cubicBezTo>
                      <a:pt x="57" y="8"/>
                      <a:pt x="56" y="7"/>
                      <a:pt x="55" y="7"/>
                    </a:cubicBezTo>
                    <a:cubicBezTo>
                      <a:pt x="53" y="7"/>
                      <a:pt x="52" y="8"/>
                      <a:pt x="52" y="9"/>
                    </a:cubicBezTo>
                    <a:cubicBezTo>
                      <a:pt x="49" y="11"/>
                      <a:pt x="49" y="11"/>
                      <a:pt x="49" y="11"/>
                    </a:cubicBezTo>
                    <a:cubicBezTo>
                      <a:pt x="49" y="11"/>
                      <a:pt x="48" y="12"/>
                      <a:pt x="48" y="12"/>
                    </a:cubicBezTo>
                    <a:cubicBezTo>
                      <a:pt x="47" y="12"/>
                      <a:pt x="47" y="11"/>
                      <a:pt x="46" y="11"/>
                    </a:cubicBezTo>
                    <a:cubicBezTo>
                      <a:pt x="46" y="11"/>
                      <a:pt x="45" y="10"/>
                      <a:pt x="44" y="10"/>
                    </a:cubicBezTo>
                    <a:cubicBezTo>
                      <a:pt x="43" y="10"/>
                      <a:pt x="42" y="9"/>
                      <a:pt x="42" y="8"/>
                    </a:cubicBezTo>
                    <a:cubicBezTo>
                      <a:pt x="42" y="5"/>
                      <a:pt x="42" y="5"/>
                      <a:pt x="42" y="5"/>
                    </a:cubicBezTo>
                    <a:cubicBezTo>
                      <a:pt x="42" y="2"/>
                      <a:pt x="40" y="0"/>
                      <a:pt x="38" y="0"/>
                    </a:cubicBezTo>
                    <a:cubicBezTo>
                      <a:pt x="32" y="0"/>
                      <a:pt x="32" y="0"/>
                      <a:pt x="32" y="0"/>
                    </a:cubicBezTo>
                    <a:cubicBezTo>
                      <a:pt x="30" y="0"/>
                      <a:pt x="28" y="2"/>
                      <a:pt x="28" y="5"/>
                    </a:cubicBezTo>
                    <a:cubicBezTo>
                      <a:pt x="28" y="8"/>
                      <a:pt x="28" y="8"/>
                      <a:pt x="28" y="8"/>
                    </a:cubicBezTo>
                    <a:cubicBezTo>
                      <a:pt x="28" y="9"/>
                      <a:pt x="27" y="10"/>
                      <a:pt x="26" y="10"/>
                    </a:cubicBezTo>
                    <a:cubicBezTo>
                      <a:pt x="25" y="10"/>
                      <a:pt x="25" y="11"/>
                      <a:pt x="24" y="11"/>
                    </a:cubicBezTo>
                    <a:cubicBezTo>
                      <a:pt x="23" y="11"/>
                      <a:pt x="23" y="12"/>
                      <a:pt x="23" y="12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18" y="9"/>
                      <a:pt x="18" y="9"/>
                      <a:pt x="18" y="9"/>
                    </a:cubicBezTo>
                    <a:cubicBezTo>
                      <a:pt x="18" y="8"/>
                      <a:pt x="17" y="7"/>
                      <a:pt x="15" y="7"/>
                    </a:cubicBezTo>
                    <a:cubicBezTo>
                      <a:pt x="14" y="7"/>
                      <a:pt x="13" y="8"/>
                      <a:pt x="12" y="9"/>
                    </a:cubicBezTo>
                    <a:cubicBezTo>
                      <a:pt x="9" y="12"/>
                      <a:pt x="9" y="12"/>
                      <a:pt x="9" y="12"/>
                    </a:cubicBezTo>
                    <a:cubicBezTo>
                      <a:pt x="8" y="13"/>
                      <a:pt x="7" y="14"/>
                      <a:pt x="7" y="15"/>
                    </a:cubicBezTo>
                    <a:cubicBezTo>
                      <a:pt x="7" y="17"/>
                      <a:pt x="8" y="18"/>
                      <a:pt x="9" y="18"/>
                    </a:cubicBezTo>
                    <a:cubicBezTo>
                      <a:pt x="11" y="21"/>
                      <a:pt x="11" y="21"/>
                      <a:pt x="11" y="21"/>
                    </a:cubicBezTo>
                    <a:cubicBezTo>
                      <a:pt x="12" y="21"/>
                      <a:pt x="12" y="23"/>
                      <a:pt x="11" y="24"/>
                    </a:cubicBezTo>
                    <a:cubicBezTo>
                      <a:pt x="11" y="24"/>
                      <a:pt x="11" y="25"/>
                      <a:pt x="10" y="26"/>
                    </a:cubicBezTo>
                    <a:cubicBezTo>
                      <a:pt x="10" y="27"/>
                      <a:pt x="9" y="28"/>
                      <a:pt x="8" y="28"/>
                    </a:cubicBezTo>
                    <a:cubicBezTo>
                      <a:pt x="5" y="28"/>
                      <a:pt x="5" y="28"/>
                      <a:pt x="5" y="28"/>
                    </a:cubicBezTo>
                    <a:cubicBezTo>
                      <a:pt x="2" y="28"/>
                      <a:pt x="0" y="30"/>
                      <a:pt x="0" y="32"/>
                    </a:cubicBezTo>
                    <a:cubicBezTo>
                      <a:pt x="0" y="38"/>
                      <a:pt x="0" y="38"/>
                      <a:pt x="0" y="38"/>
                    </a:cubicBezTo>
                    <a:cubicBezTo>
                      <a:pt x="0" y="40"/>
                      <a:pt x="2" y="42"/>
                      <a:pt x="5" y="42"/>
                    </a:cubicBezTo>
                    <a:cubicBezTo>
                      <a:pt x="8" y="42"/>
                      <a:pt x="8" y="42"/>
                      <a:pt x="8" y="42"/>
                    </a:cubicBezTo>
                    <a:cubicBezTo>
                      <a:pt x="9" y="42"/>
                      <a:pt x="10" y="43"/>
                      <a:pt x="10" y="44"/>
                    </a:cubicBezTo>
                    <a:cubicBezTo>
                      <a:pt x="11" y="45"/>
                      <a:pt x="11" y="45"/>
                      <a:pt x="11" y="46"/>
                    </a:cubicBezTo>
                    <a:cubicBezTo>
                      <a:pt x="12" y="47"/>
                      <a:pt x="12" y="48"/>
                      <a:pt x="11" y="49"/>
                    </a:cubicBezTo>
                    <a:cubicBezTo>
                      <a:pt x="9" y="51"/>
                      <a:pt x="9" y="51"/>
                      <a:pt x="9" y="51"/>
                    </a:cubicBezTo>
                    <a:cubicBezTo>
                      <a:pt x="7" y="53"/>
                      <a:pt x="7" y="56"/>
                      <a:pt x="9" y="57"/>
                    </a:cubicBezTo>
                    <a:cubicBezTo>
                      <a:pt x="12" y="61"/>
                      <a:pt x="12" y="61"/>
                      <a:pt x="12" y="61"/>
                    </a:cubicBezTo>
                    <a:cubicBezTo>
                      <a:pt x="13" y="62"/>
                      <a:pt x="14" y="63"/>
                      <a:pt x="15" y="63"/>
                    </a:cubicBezTo>
                    <a:cubicBezTo>
                      <a:pt x="17" y="63"/>
                      <a:pt x="18" y="62"/>
                      <a:pt x="18" y="61"/>
                    </a:cubicBezTo>
                    <a:cubicBezTo>
                      <a:pt x="21" y="59"/>
                      <a:pt x="21" y="59"/>
                      <a:pt x="21" y="59"/>
                    </a:cubicBezTo>
                    <a:cubicBezTo>
                      <a:pt x="21" y="59"/>
                      <a:pt x="22" y="58"/>
                      <a:pt x="23" y="58"/>
                    </a:cubicBezTo>
                    <a:cubicBezTo>
                      <a:pt x="23" y="58"/>
                      <a:pt x="23" y="58"/>
                      <a:pt x="24" y="59"/>
                    </a:cubicBezTo>
                    <a:cubicBezTo>
                      <a:pt x="25" y="59"/>
                      <a:pt x="25" y="59"/>
                      <a:pt x="26" y="60"/>
                    </a:cubicBezTo>
                    <a:cubicBezTo>
                      <a:pt x="27" y="60"/>
                      <a:pt x="28" y="61"/>
                      <a:pt x="28" y="62"/>
                    </a:cubicBezTo>
                    <a:cubicBezTo>
                      <a:pt x="28" y="65"/>
                      <a:pt x="28" y="65"/>
                      <a:pt x="28" y="65"/>
                    </a:cubicBezTo>
                    <a:cubicBezTo>
                      <a:pt x="28" y="68"/>
                      <a:pt x="30" y="70"/>
                      <a:pt x="32" y="70"/>
                    </a:cubicBezTo>
                    <a:cubicBezTo>
                      <a:pt x="38" y="70"/>
                      <a:pt x="38" y="70"/>
                      <a:pt x="38" y="70"/>
                    </a:cubicBezTo>
                    <a:cubicBezTo>
                      <a:pt x="40" y="70"/>
                      <a:pt x="42" y="68"/>
                      <a:pt x="42" y="65"/>
                    </a:cubicBezTo>
                    <a:cubicBezTo>
                      <a:pt x="42" y="62"/>
                      <a:pt x="42" y="62"/>
                      <a:pt x="42" y="62"/>
                    </a:cubicBezTo>
                    <a:cubicBezTo>
                      <a:pt x="42" y="61"/>
                      <a:pt x="43" y="60"/>
                      <a:pt x="44" y="60"/>
                    </a:cubicBezTo>
                    <a:cubicBezTo>
                      <a:pt x="45" y="59"/>
                      <a:pt x="46" y="59"/>
                      <a:pt x="46" y="59"/>
                    </a:cubicBezTo>
                    <a:cubicBezTo>
                      <a:pt x="47" y="58"/>
                      <a:pt x="47" y="58"/>
                      <a:pt x="48" y="58"/>
                    </a:cubicBezTo>
                    <a:cubicBezTo>
                      <a:pt x="48" y="58"/>
                      <a:pt x="49" y="59"/>
                      <a:pt x="49" y="59"/>
                    </a:cubicBezTo>
                    <a:cubicBezTo>
                      <a:pt x="52" y="61"/>
                      <a:pt x="52" y="61"/>
                      <a:pt x="52" y="61"/>
                    </a:cubicBezTo>
                    <a:cubicBezTo>
                      <a:pt x="52" y="62"/>
                      <a:pt x="53" y="63"/>
                      <a:pt x="55" y="63"/>
                    </a:cubicBezTo>
                    <a:cubicBezTo>
                      <a:pt x="56" y="63"/>
                      <a:pt x="57" y="62"/>
                      <a:pt x="58" y="61"/>
                    </a:cubicBezTo>
                    <a:cubicBezTo>
                      <a:pt x="61" y="57"/>
                      <a:pt x="61" y="57"/>
                      <a:pt x="61" y="57"/>
                    </a:cubicBezTo>
                    <a:cubicBezTo>
                      <a:pt x="63" y="56"/>
                      <a:pt x="63" y="53"/>
                      <a:pt x="61" y="51"/>
                    </a:cubicBezTo>
                    <a:cubicBezTo>
                      <a:pt x="59" y="49"/>
                      <a:pt x="59" y="49"/>
                      <a:pt x="59" y="49"/>
                    </a:cubicBezTo>
                    <a:cubicBezTo>
                      <a:pt x="58" y="48"/>
                      <a:pt x="58" y="47"/>
                      <a:pt x="59" y="46"/>
                    </a:cubicBezTo>
                    <a:cubicBezTo>
                      <a:pt x="59" y="45"/>
                      <a:pt x="59" y="45"/>
                      <a:pt x="60" y="44"/>
                    </a:cubicBezTo>
                    <a:cubicBezTo>
                      <a:pt x="60" y="43"/>
                      <a:pt x="61" y="42"/>
                      <a:pt x="62" y="42"/>
                    </a:cubicBezTo>
                    <a:cubicBezTo>
                      <a:pt x="65" y="42"/>
                      <a:pt x="65" y="42"/>
                      <a:pt x="65" y="42"/>
                    </a:cubicBezTo>
                    <a:cubicBezTo>
                      <a:pt x="68" y="42"/>
                      <a:pt x="70" y="40"/>
                      <a:pt x="70" y="38"/>
                    </a:cubicBezTo>
                    <a:cubicBezTo>
                      <a:pt x="70" y="32"/>
                      <a:pt x="70" y="32"/>
                      <a:pt x="70" y="32"/>
                    </a:cubicBezTo>
                    <a:cubicBezTo>
                      <a:pt x="70" y="30"/>
                      <a:pt x="68" y="28"/>
                      <a:pt x="65" y="28"/>
                    </a:cubicBezTo>
                    <a:close/>
                    <a:moveTo>
                      <a:pt x="47" y="35"/>
                    </a:moveTo>
                    <a:cubicBezTo>
                      <a:pt x="47" y="42"/>
                      <a:pt x="42" y="47"/>
                      <a:pt x="35" y="47"/>
                    </a:cubicBezTo>
                    <a:cubicBezTo>
                      <a:pt x="28" y="47"/>
                      <a:pt x="23" y="42"/>
                      <a:pt x="23" y="35"/>
                    </a:cubicBezTo>
                    <a:cubicBezTo>
                      <a:pt x="23" y="28"/>
                      <a:pt x="28" y="23"/>
                      <a:pt x="35" y="23"/>
                    </a:cubicBezTo>
                    <a:cubicBezTo>
                      <a:pt x="42" y="23"/>
                      <a:pt x="47" y="28"/>
                      <a:pt x="47" y="35"/>
                    </a:cubicBezTo>
                    <a:close/>
                  </a:path>
                </a:pathLst>
              </a:custGeom>
              <a:solidFill>
                <a:srgbClr val="6bd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1595"/>
              <p:cNvSpPr/>
              <p:nvPr/>
            </p:nvSpPr>
            <p:spPr>
              <a:xfrm>
                <a:off x="7418160" y="3851280"/>
                <a:ext cx="21240" cy="2160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31" y="23"/>
                    </a:moveTo>
                    <a:cubicBezTo>
                      <a:pt x="32" y="22"/>
                      <a:pt x="32" y="22"/>
                      <a:pt x="32" y="22"/>
                    </a:cubicBezTo>
                    <a:cubicBezTo>
                      <a:pt x="34" y="22"/>
                      <a:pt x="34" y="22"/>
                      <a:pt x="34" y="22"/>
                    </a:cubicBezTo>
                    <a:cubicBezTo>
                      <a:pt x="35" y="22"/>
                      <a:pt x="36" y="21"/>
                      <a:pt x="36" y="20"/>
                    </a:cubicBezTo>
                    <a:cubicBezTo>
                      <a:pt x="36" y="17"/>
                      <a:pt x="36" y="17"/>
                      <a:pt x="36" y="17"/>
                    </a:cubicBezTo>
                    <a:cubicBezTo>
                      <a:pt x="36" y="15"/>
                      <a:pt x="35" y="14"/>
                      <a:pt x="34" y="14"/>
                    </a:cubicBezTo>
                    <a:cubicBezTo>
                      <a:pt x="32" y="14"/>
                      <a:pt x="32" y="14"/>
                      <a:pt x="32" y="14"/>
                    </a:cubicBezTo>
                    <a:cubicBezTo>
                      <a:pt x="31" y="14"/>
                      <a:pt x="31" y="14"/>
                      <a:pt x="31" y="14"/>
                    </a:cubicBezTo>
                    <a:cubicBezTo>
                      <a:pt x="31" y="13"/>
                      <a:pt x="31" y="13"/>
                      <a:pt x="31" y="12"/>
                    </a:cubicBezTo>
                    <a:cubicBezTo>
                      <a:pt x="31" y="12"/>
                      <a:pt x="31" y="12"/>
                      <a:pt x="31" y="12"/>
                    </a:cubicBezTo>
                    <a:cubicBezTo>
                      <a:pt x="32" y="10"/>
                      <a:pt x="32" y="10"/>
                      <a:pt x="32" y="10"/>
                    </a:cubicBezTo>
                    <a:cubicBezTo>
                      <a:pt x="33" y="9"/>
                      <a:pt x="33" y="8"/>
                      <a:pt x="32" y="6"/>
                    </a:cubicBezTo>
                    <a:cubicBezTo>
                      <a:pt x="30" y="5"/>
                      <a:pt x="30" y="5"/>
                      <a:pt x="30" y="5"/>
                    </a:cubicBezTo>
                    <a:cubicBezTo>
                      <a:pt x="30" y="4"/>
                      <a:pt x="29" y="4"/>
                      <a:pt x="28" y="4"/>
                    </a:cubicBezTo>
                    <a:cubicBezTo>
                      <a:pt x="27" y="4"/>
                      <a:pt x="27" y="4"/>
                      <a:pt x="26" y="5"/>
                    </a:cubicBezTo>
                    <a:cubicBezTo>
                      <a:pt x="25" y="6"/>
                      <a:pt x="25" y="6"/>
                      <a:pt x="25" y="6"/>
                    </a:cubicBezTo>
                    <a:cubicBezTo>
                      <a:pt x="25" y="6"/>
                      <a:pt x="25" y="6"/>
                      <a:pt x="25" y="6"/>
                    </a:cubicBezTo>
                    <a:cubicBezTo>
                      <a:pt x="24" y="6"/>
                      <a:pt x="24" y="6"/>
                      <a:pt x="24" y="6"/>
                    </a:cubicBezTo>
                    <a:cubicBezTo>
                      <a:pt x="24" y="6"/>
                      <a:pt x="23" y="5"/>
                      <a:pt x="23" y="5"/>
                    </a:cubicBezTo>
                    <a:cubicBezTo>
                      <a:pt x="23" y="5"/>
                      <a:pt x="23" y="5"/>
                      <a:pt x="23" y="5"/>
                    </a:cubicBezTo>
                    <a:cubicBezTo>
                      <a:pt x="23" y="3"/>
                      <a:pt x="23" y="3"/>
                      <a:pt x="23" y="3"/>
                    </a:cubicBezTo>
                    <a:cubicBezTo>
                      <a:pt x="23" y="1"/>
                      <a:pt x="21" y="0"/>
                      <a:pt x="20" y="0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5" y="0"/>
                      <a:pt x="14" y="1"/>
                      <a:pt x="14" y="3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3" y="5"/>
                      <a:pt x="13" y="6"/>
                      <a:pt x="12" y="6"/>
                    </a:cubicBezTo>
                    <a:cubicBezTo>
                      <a:pt x="12" y="6"/>
                      <a:pt x="12" y="6"/>
                      <a:pt x="12" y="6"/>
                    </a:cubicBezTo>
                    <a:cubicBezTo>
                      <a:pt x="12" y="6"/>
                      <a:pt x="12" y="6"/>
                      <a:pt x="12" y="6"/>
                    </a:cubicBezTo>
                    <a:cubicBezTo>
                      <a:pt x="11" y="5"/>
                      <a:pt x="11" y="5"/>
                      <a:pt x="11" y="5"/>
                    </a:cubicBezTo>
                    <a:cubicBezTo>
                      <a:pt x="10" y="4"/>
                      <a:pt x="9" y="4"/>
                      <a:pt x="9" y="4"/>
                    </a:cubicBezTo>
                    <a:cubicBezTo>
                      <a:pt x="8" y="4"/>
                      <a:pt x="7" y="4"/>
                      <a:pt x="7" y="5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4" y="8"/>
                      <a:pt x="4" y="9"/>
                      <a:pt x="5" y="10"/>
                    </a:cubicBezTo>
                    <a:cubicBezTo>
                      <a:pt x="6" y="12"/>
                      <a:pt x="6" y="12"/>
                      <a:pt x="6" y="12"/>
                    </a:cubicBezTo>
                    <a:cubicBezTo>
                      <a:pt x="6" y="12"/>
                      <a:pt x="6" y="12"/>
                      <a:pt x="6" y="12"/>
                    </a:cubicBezTo>
                    <a:cubicBezTo>
                      <a:pt x="6" y="13"/>
                      <a:pt x="5" y="13"/>
                      <a:pt x="5" y="14"/>
                    </a:cubicBezTo>
                    <a:cubicBezTo>
                      <a:pt x="5" y="14"/>
                      <a:pt x="5" y="14"/>
                      <a:pt x="5" y="14"/>
                    </a:cubicBezTo>
                    <a:cubicBezTo>
                      <a:pt x="3" y="14"/>
                      <a:pt x="3" y="14"/>
                      <a:pt x="3" y="14"/>
                    </a:cubicBezTo>
                    <a:cubicBezTo>
                      <a:pt x="2" y="14"/>
                      <a:pt x="0" y="15"/>
                      <a:pt x="0" y="17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21"/>
                      <a:pt x="2" y="22"/>
                      <a:pt x="3" y="22"/>
                    </a:cubicBezTo>
                    <a:cubicBezTo>
                      <a:pt x="5" y="22"/>
                      <a:pt x="5" y="22"/>
                      <a:pt x="5" y="22"/>
                    </a:cubicBezTo>
                    <a:cubicBezTo>
                      <a:pt x="5" y="23"/>
                      <a:pt x="5" y="23"/>
                      <a:pt x="5" y="23"/>
                    </a:cubicBezTo>
                    <a:cubicBezTo>
                      <a:pt x="5" y="23"/>
                      <a:pt x="6" y="24"/>
                      <a:pt x="6" y="24"/>
                    </a:cubicBezTo>
                    <a:cubicBezTo>
                      <a:pt x="6" y="25"/>
                      <a:pt x="6" y="25"/>
                      <a:pt x="6" y="25"/>
                    </a:cubicBezTo>
                    <a:cubicBezTo>
                      <a:pt x="5" y="26"/>
                      <a:pt x="5" y="26"/>
                      <a:pt x="5" y="26"/>
                    </a:cubicBezTo>
                    <a:cubicBezTo>
                      <a:pt x="4" y="27"/>
                      <a:pt x="4" y="27"/>
                      <a:pt x="4" y="28"/>
                    </a:cubicBezTo>
                    <a:cubicBezTo>
                      <a:pt x="4" y="29"/>
                      <a:pt x="4" y="29"/>
                      <a:pt x="5" y="30"/>
                    </a:cubicBezTo>
                    <a:cubicBezTo>
                      <a:pt x="7" y="32"/>
                      <a:pt x="7" y="32"/>
                      <a:pt x="7" y="32"/>
                    </a:cubicBezTo>
                    <a:cubicBezTo>
                      <a:pt x="7" y="32"/>
                      <a:pt x="8" y="33"/>
                      <a:pt x="9" y="33"/>
                    </a:cubicBezTo>
                    <a:cubicBezTo>
                      <a:pt x="9" y="33"/>
                      <a:pt x="10" y="32"/>
                      <a:pt x="11" y="32"/>
                    </a:cubicBezTo>
                    <a:cubicBezTo>
                      <a:pt x="12" y="31"/>
                      <a:pt x="12" y="31"/>
                      <a:pt x="12" y="31"/>
                    </a:cubicBezTo>
                    <a:cubicBezTo>
                      <a:pt x="12" y="31"/>
                      <a:pt x="12" y="31"/>
                      <a:pt x="12" y="31"/>
                    </a:cubicBezTo>
                    <a:cubicBezTo>
                      <a:pt x="12" y="31"/>
                      <a:pt x="12" y="31"/>
                      <a:pt x="12" y="31"/>
                    </a:cubicBezTo>
                    <a:cubicBezTo>
                      <a:pt x="13" y="31"/>
                      <a:pt x="13" y="31"/>
                      <a:pt x="14" y="31"/>
                    </a:cubicBezTo>
                    <a:cubicBezTo>
                      <a:pt x="14" y="32"/>
                      <a:pt x="14" y="32"/>
                      <a:pt x="14" y="32"/>
                    </a:cubicBezTo>
                    <a:cubicBezTo>
                      <a:pt x="14" y="33"/>
                      <a:pt x="14" y="33"/>
                      <a:pt x="14" y="33"/>
                    </a:cubicBezTo>
                    <a:cubicBezTo>
                      <a:pt x="14" y="35"/>
                      <a:pt x="15" y="36"/>
                      <a:pt x="17" y="36"/>
                    </a:cubicBezTo>
                    <a:cubicBezTo>
                      <a:pt x="20" y="36"/>
                      <a:pt x="20" y="36"/>
                      <a:pt x="20" y="36"/>
                    </a:cubicBezTo>
                    <a:cubicBezTo>
                      <a:pt x="21" y="36"/>
                      <a:pt x="23" y="35"/>
                      <a:pt x="23" y="33"/>
                    </a:cubicBezTo>
                    <a:cubicBezTo>
                      <a:pt x="23" y="32"/>
                      <a:pt x="23" y="32"/>
                      <a:pt x="23" y="32"/>
                    </a:cubicBezTo>
                    <a:cubicBezTo>
                      <a:pt x="23" y="31"/>
                      <a:pt x="23" y="31"/>
                      <a:pt x="23" y="31"/>
                    </a:cubicBezTo>
                    <a:cubicBezTo>
                      <a:pt x="23" y="31"/>
                      <a:pt x="24" y="31"/>
                      <a:pt x="24" y="31"/>
                    </a:cubicBezTo>
                    <a:cubicBezTo>
                      <a:pt x="25" y="31"/>
                      <a:pt x="25" y="31"/>
                      <a:pt x="25" y="31"/>
                    </a:cubicBezTo>
                    <a:cubicBezTo>
                      <a:pt x="25" y="31"/>
                      <a:pt x="25" y="31"/>
                      <a:pt x="25" y="31"/>
                    </a:cubicBezTo>
                    <a:cubicBezTo>
                      <a:pt x="26" y="32"/>
                      <a:pt x="26" y="32"/>
                      <a:pt x="26" y="32"/>
                    </a:cubicBezTo>
                    <a:cubicBezTo>
                      <a:pt x="27" y="32"/>
                      <a:pt x="27" y="33"/>
                      <a:pt x="28" y="33"/>
                    </a:cubicBezTo>
                    <a:cubicBezTo>
                      <a:pt x="29" y="33"/>
                      <a:pt x="30" y="32"/>
                      <a:pt x="30" y="32"/>
                    </a:cubicBezTo>
                    <a:cubicBezTo>
                      <a:pt x="32" y="30"/>
                      <a:pt x="32" y="30"/>
                      <a:pt x="32" y="30"/>
                    </a:cubicBezTo>
                    <a:cubicBezTo>
                      <a:pt x="33" y="29"/>
                      <a:pt x="33" y="27"/>
                      <a:pt x="32" y="26"/>
                    </a:cubicBezTo>
                    <a:cubicBezTo>
                      <a:pt x="31" y="25"/>
                      <a:pt x="31" y="25"/>
                      <a:pt x="31" y="25"/>
                    </a:cubicBezTo>
                    <a:cubicBezTo>
                      <a:pt x="31" y="24"/>
                      <a:pt x="31" y="24"/>
                      <a:pt x="31" y="24"/>
                    </a:cubicBezTo>
                    <a:cubicBezTo>
                      <a:pt x="31" y="24"/>
                      <a:pt x="31" y="23"/>
                      <a:pt x="31" y="23"/>
                    </a:cubicBezTo>
                    <a:close/>
                    <a:moveTo>
                      <a:pt x="24" y="18"/>
                    </a:moveTo>
                    <a:cubicBezTo>
                      <a:pt x="24" y="21"/>
                      <a:pt x="21" y="24"/>
                      <a:pt x="18" y="24"/>
                    </a:cubicBezTo>
                    <a:cubicBezTo>
                      <a:pt x="15" y="24"/>
                      <a:pt x="13" y="21"/>
                      <a:pt x="13" y="18"/>
                    </a:cubicBezTo>
                    <a:cubicBezTo>
                      <a:pt x="13" y="15"/>
                      <a:pt x="15" y="13"/>
                      <a:pt x="18" y="13"/>
                    </a:cubicBezTo>
                    <a:cubicBezTo>
                      <a:pt x="21" y="13"/>
                      <a:pt x="24" y="15"/>
                      <a:pt x="24" y="18"/>
                    </a:cubicBezTo>
                    <a:close/>
                  </a:path>
                </a:pathLst>
              </a:custGeom>
              <a:solidFill>
                <a:srgbClr val="6bd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1596"/>
              <p:cNvSpPr/>
              <p:nvPr/>
            </p:nvSpPr>
            <p:spPr>
              <a:xfrm>
                <a:off x="7585560" y="4110840"/>
                <a:ext cx="167040" cy="113760"/>
              </a:xfrm>
              <a:custGeom>
                <a:avLst/>
                <a:gdLst/>
                <a:ahLst/>
                <a:rect l="l" t="t" r="r" b="b"/>
                <a:pathLst>
                  <a:path w="281" h="191">
                    <a:moveTo>
                      <a:pt x="281" y="135"/>
                    </a:moveTo>
                    <a:cubicBezTo>
                      <a:pt x="281" y="166"/>
                      <a:pt x="257" y="191"/>
                      <a:pt x="226" y="191"/>
                    </a:cubicBezTo>
                    <a:cubicBezTo>
                      <a:pt x="55" y="191"/>
                      <a:pt x="55" y="191"/>
                      <a:pt x="55" y="191"/>
                    </a:cubicBezTo>
                    <a:cubicBezTo>
                      <a:pt x="25" y="191"/>
                      <a:pt x="0" y="166"/>
                      <a:pt x="0" y="135"/>
                    </a:cubicBezTo>
                    <a:cubicBezTo>
                      <a:pt x="0" y="107"/>
                      <a:pt x="20" y="84"/>
                      <a:pt x="47" y="80"/>
                    </a:cubicBezTo>
                    <a:cubicBezTo>
                      <a:pt x="46" y="78"/>
                      <a:pt x="46" y="76"/>
                      <a:pt x="46" y="74"/>
                    </a:cubicBezTo>
                    <a:cubicBezTo>
                      <a:pt x="46" y="55"/>
                      <a:pt x="62" y="39"/>
                      <a:pt x="81" y="39"/>
                    </a:cubicBezTo>
                    <a:cubicBezTo>
                      <a:pt x="90" y="39"/>
                      <a:pt x="98" y="42"/>
                      <a:pt x="104" y="47"/>
                    </a:cubicBezTo>
                    <a:cubicBezTo>
                      <a:pt x="115" y="23"/>
                      <a:pt x="128" y="0"/>
                      <a:pt x="168" y="0"/>
                    </a:cubicBezTo>
                    <a:cubicBezTo>
                      <a:pt x="215" y="0"/>
                      <a:pt x="237" y="37"/>
                      <a:pt x="237" y="76"/>
                    </a:cubicBezTo>
                    <a:cubicBezTo>
                      <a:pt x="237" y="77"/>
                      <a:pt x="237" y="79"/>
                      <a:pt x="237" y="81"/>
                    </a:cubicBezTo>
                    <a:cubicBezTo>
                      <a:pt x="262" y="86"/>
                      <a:pt x="281" y="108"/>
                      <a:pt x="281" y="135"/>
                    </a:cubicBezTo>
                    <a:close/>
                  </a:path>
                </a:pathLst>
              </a:custGeom>
              <a:solidFill>
                <a:srgbClr val="ffd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1597"/>
              <p:cNvSpPr/>
              <p:nvPr/>
            </p:nvSpPr>
            <p:spPr>
              <a:xfrm>
                <a:off x="7653600" y="4165560"/>
                <a:ext cx="56520" cy="51840"/>
              </a:xfrm>
              <a:custGeom>
                <a:avLst/>
                <a:gdLst/>
                <a:ahLst/>
                <a:rect l="l" t="t" r="r" b="b"/>
                <a:pathLst>
                  <a:path w="95" h="87">
                    <a:moveTo>
                      <a:pt x="89" y="0"/>
                    </a:moveTo>
                    <a:cubicBezTo>
                      <a:pt x="58" y="0"/>
                      <a:pt x="58" y="0"/>
                      <a:pt x="58" y="0"/>
                    </a:cubicBezTo>
                    <a:cubicBezTo>
                      <a:pt x="58" y="39"/>
                      <a:pt x="58" y="39"/>
                      <a:pt x="58" y="39"/>
                    </a:cubicBezTo>
                    <a:cubicBezTo>
                      <a:pt x="58" y="45"/>
                      <a:pt x="53" y="50"/>
                      <a:pt x="47" y="50"/>
                    </a:cubicBezTo>
                    <a:cubicBezTo>
                      <a:pt x="0" y="50"/>
                      <a:pt x="0" y="50"/>
                      <a:pt x="0" y="50"/>
                    </a:cubicBezTo>
                    <a:cubicBezTo>
                      <a:pt x="0" y="63"/>
                      <a:pt x="0" y="63"/>
                      <a:pt x="0" y="63"/>
                    </a:cubicBezTo>
                    <a:cubicBezTo>
                      <a:pt x="0" y="66"/>
                      <a:pt x="3" y="69"/>
                      <a:pt x="6" y="69"/>
                    </a:cubicBezTo>
                    <a:cubicBezTo>
                      <a:pt x="53" y="69"/>
                      <a:pt x="53" y="69"/>
                      <a:pt x="53" y="69"/>
                    </a:cubicBezTo>
                    <a:cubicBezTo>
                      <a:pt x="72" y="85"/>
                      <a:pt x="72" y="85"/>
                      <a:pt x="72" y="85"/>
                    </a:cubicBezTo>
                    <a:cubicBezTo>
                      <a:pt x="74" y="87"/>
                      <a:pt x="76" y="87"/>
                      <a:pt x="75" y="83"/>
                    </a:cubicBezTo>
                    <a:cubicBezTo>
                      <a:pt x="71" y="69"/>
                      <a:pt x="71" y="69"/>
                      <a:pt x="71" y="69"/>
                    </a:cubicBezTo>
                    <a:cubicBezTo>
                      <a:pt x="71" y="69"/>
                      <a:pt x="71" y="69"/>
                      <a:pt x="71" y="69"/>
                    </a:cubicBezTo>
                    <a:cubicBezTo>
                      <a:pt x="89" y="69"/>
                      <a:pt x="89" y="69"/>
                      <a:pt x="89" y="69"/>
                    </a:cubicBezTo>
                    <a:cubicBezTo>
                      <a:pt x="92" y="69"/>
                      <a:pt x="95" y="66"/>
                      <a:pt x="95" y="63"/>
                    </a:cubicBezTo>
                    <a:cubicBezTo>
                      <a:pt x="95" y="6"/>
                      <a:pt x="95" y="6"/>
                      <a:pt x="95" y="6"/>
                    </a:cubicBezTo>
                    <a:cubicBezTo>
                      <a:pt x="95" y="2"/>
                      <a:pt x="92" y="0"/>
                      <a:pt x="89" y="0"/>
                    </a:cubicBezTo>
                    <a:close/>
                  </a:path>
                </a:pathLst>
              </a:custGeom>
              <a:solidFill>
                <a:srgbClr val="1037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1598"/>
              <p:cNvSpPr/>
              <p:nvPr/>
            </p:nvSpPr>
            <p:spPr>
              <a:xfrm>
                <a:off x="7629120" y="4151160"/>
                <a:ext cx="55800" cy="51840"/>
              </a:xfrm>
              <a:custGeom>
                <a:avLst/>
                <a:gdLst/>
                <a:ahLst/>
                <a:rect l="l" t="t" r="r" b="b"/>
                <a:pathLst>
                  <a:path w="94" h="87">
                    <a:moveTo>
                      <a:pt x="6" y="69"/>
                    </a:moveTo>
                    <a:cubicBezTo>
                      <a:pt x="15" y="69"/>
                      <a:pt x="15" y="69"/>
                      <a:pt x="15" y="69"/>
                    </a:cubicBezTo>
                    <a:cubicBezTo>
                      <a:pt x="15" y="69"/>
                      <a:pt x="15" y="69"/>
                      <a:pt x="15" y="69"/>
                    </a:cubicBezTo>
                    <a:cubicBezTo>
                      <a:pt x="11" y="84"/>
                      <a:pt x="11" y="84"/>
                      <a:pt x="11" y="84"/>
                    </a:cubicBezTo>
                    <a:cubicBezTo>
                      <a:pt x="11" y="86"/>
                      <a:pt x="11" y="87"/>
                      <a:pt x="12" y="87"/>
                    </a:cubicBezTo>
                    <a:cubicBezTo>
                      <a:pt x="13" y="87"/>
                      <a:pt x="13" y="86"/>
                      <a:pt x="14" y="86"/>
                    </a:cubicBezTo>
                    <a:cubicBezTo>
                      <a:pt x="34" y="69"/>
                      <a:pt x="34" y="69"/>
                      <a:pt x="34" y="69"/>
                    </a:cubicBezTo>
                    <a:cubicBezTo>
                      <a:pt x="41" y="69"/>
                      <a:pt x="41" y="69"/>
                      <a:pt x="41" y="69"/>
                    </a:cubicBezTo>
                    <a:cubicBezTo>
                      <a:pt x="88" y="69"/>
                      <a:pt x="88" y="69"/>
                      <a:pt x="88" y="69"/>
                    </a:cubicBezTo>
                    <a:cubicBezTo>
                      <a:pt x="92" y="69"/>
                      <a:pt x="94" y="67"/>
                      <a:pt x="94" y="63"/>
                    </a:cubicBezTo>
                    <a:cubicBezTo>
                      <a:pt x="94" y="24"/>
                      <a:pt x="94" y="24"/>
                      <a:pt x="94" y="24"/>
                    </a:cubicBezTo>
                    <a:cubicBezTo>
                      <a:pt x="94" y="6"/>
                      <a:pt x="94" y="6"/>
                      <a:pt x="94" y="6"/>
                    </a:cubicBezTo>
                    <a:cubicBezTo>
                      <a:pt x="94" y="3"/>
                      <a:pt x="92" y="0"/>
                      <a:pt x="88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3" y="0"/>
                      <a:pt x="0" y="3"/>
                      <a:pt x="0" y="6"/>
                    </a:cubicBezTo>
                    <a:cubicBezTo>
                      <a:pt x="0" y="63"/>
                      <a:pt x="0" y="63"/>
                      <a:pt x="0" y="63"/>
                    </a:cubicBezTo>
                    <a:cubicBezTo>
                      <a:pt x="0" y="67"/>
                      <a:pt x="3" y="69"/>
                      <a:pt x="6" y="69"/>
                    </a:cubicBezTo>
                    <a:close/>
                  </a:path>
                </a:pathLst>
              </a:custGeom>
              <a:solidFill>
                <a:srgbClr val="1037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" name="组合 1130"/>
            <p:cNvGrpSpPr/>
            <p:nvPr/>
          </p:nvGrpSpPr>
          <p:grpSpPr>
            <a:xfrm>
              <a:off x="7443360" y="3111120"/>
              <a:ext cx="439920" cy="441000"/>
              <a:chOff x="7443360" y="3111120"/>
              <a:chExt cx="439920" cy="441000"/>
            </a:xfrm>
          </p:grpSpPr>
          <p:sp>
            <p:nvSpPr>
              <p:cNvPr id="118" name="Oval 1650"/>
              <p:cNvSpPr/>
              <p:nvPr/>
            </p:nvSpPr>
            <p:spPr>
              <a:xfrm>
                <a:off x="7443360" y="3111120"/>
                <a:ext cx="439920" cy="441000"/>
              </a:xfrm>
              <a:prstGeom prst="ellipse">
                <a:avLst/>
              </a:prstGeom>
              <a:solidFill>
                <a:srgbClr val="ffd7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1651"/>
              <p:cNvSpPr/>
              <p:nvPr/>
            </p:nvSpPr>
            <p:spPr>
              <a:xfrm>
                <a:off x="7728120" y="3303360"/>
                <a:ext cx="126000" cy="117000"/>
              </a:xfrm>
              <a:custGeom>
                <a:avLst/>
                <a:gdLst/>
                <a:ahLst/>
                <a:rect l="l" t="t" r="r" b="b"/>
                <a:pathLst>
                  <a:path w="194" h="180">
                    <a:moveTo>
                      <a:pt x="97" y="180"/>
                    </a:moveTo>
                    <a:cubicBezTo>
                      <a:pt x="53" y="180"/>
                      <a:pt x="16" y="148"/>
                      <a:pt x="8" y="105"/>
                    </a:cubicBezTo>
                    <a:cubicBezTo>
                      <a:pt x="0" y="56"/>
                      <a:pt x="33" y="10"/>
                      <a:pt x="82" y="1"/>
                    </a:cubicBezTo>
                    <a:cubicBezTo>
                      <a:pt x="87" y="0"/>
                      <a:pt x="92" y="0"/>
                      <a:pt x="97" y="0"/>
                    </a:cubicBezTo>
                    <a:cubicBezTo>
                      <a:pt x="141" y="0"/>
                      <a:pt x="178" y="31"/>
                      <a:pt x="186" y="75"/>
                    </a:cubicBezTo>
                    <a:cubicBezTo>
                      <a:pt x="194" y="124"/>
                      <a:pt x="161" y="170"/>
                      <a:pt x="112" y="179"/>
                    </a:cubicBezTo>
                    <a:cubicBezTo>
                      <a:pt x="107" y="179"/>
                      <a:pt x="102" y="180"/>
                      <a:pt x="97" y="18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1652"/>
              <p:cNvSpPr/>
              <p:nvPr/>
            </p:nvSpPr>
            <p:spPr>
              <a:xfrm>
                <a:off x="7733520" y="3303720"/>
                <a:ext cx="115200" cy="115560"/>
              </a:xfrm>
              <a:custGeom>
                <a:avLst/>
                <a:gdLst/>
                <a:ahLst/>
                <a:rect l="l" t="t" r="r" b="b"/>
                <a:pathLst>
                  <a:path w="178" h="178">
                    <a:moveTo>
                      <a:pt x="103" y="171"/>
                    </a:moveTo>
                    <a:cubicBezTo>
                      <a:pt x="148" y="163"/>
                      <a:pt x="178" y="120"/>
                      <a:pt x="171" y="75"/>
                    </a:cubicBezTo>
                    <a:cubicBezTo>
                      <a:pt x="163" y="30"/>
                      <a:pt x="120" y="0"/>
                      <a:pt x="75" y="7"/>
                    </a:cubicBezTo>
                    <a:cubicBezTo>
                      <a:pt x="30" y="15"/>
                      <a:pt x="0" y="58"/>
                      <a:pt x="7" y="103"/>
                    </a:cubicBezTo>
                    <a:cubicBezTo>
                      <a:pt x="15" y="148"/>
                      <a:pt x="58" y="178"/>
                      <a:pt x="103" y="171"/>
                    </a:cubicBezTo>
                    <a:close/>
                  </a:path>
                </a:pathLst>
              </a:custGeom>
              <a:solidFill>
                <a:srgbClr val="e0e4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1653"/>
              <p:cNvSpPr/>
              <p:nvPr/>
            </p:nvSpPr>
            <p:spPr>
              <a:xfrm>
                <a:off x="7768080" y="3340440"/>
                <a:ext cx="46440" cy="42480"/>
              </a:xfrm>
              <a:custGeom>
                <a:avLst/>
                <a:gdLst/>
                <a:ahLst/>
                <a:rect l="l" t="t" r="r" b="b"/>
                <a:pathLst>
                  <a:path w="72" h="66">
                    <a:moveTo>
                      <a:pt x="36" y="66"/>
                    </a:moveTo>
                    <a:cubicBezTo>
                      <a:pt x="20" y="66"/>
                      <a:pt x="6" y="54"/>
                      <a:pt x="3" y="38"/>
                    </a:cubicBezTo>
                    <a:cubicBezTo>
                      <a:pt x="0" y="21"/>
                      <a:pt x="13" y="3"/>
                      <a:pt x="30" y="0"/>
                    </a:cubicBezTo>
                    <a:cubicBezTo>
                      <a:pt x="32" y="0"/>
                      <a:pt x="34" y="0"/>
                      <a:pt x="36" y="0"/>
                    </a:cubicBezTo>
                    <a:cubicBezTo>
                      <a:pt x="52" y="0"/>
                      <a:pt x="66" y="11"/>
                      <a:pt x="69" y="27"/>
                    </a:cubicBezTo>
                    <a:cubicBezTo>
                      <a:pt x="72" y="45"/>
                      <a:pt x="59" y="62"/>
                      <a:pt x="42" y="65"/>
                    </a:cubicBezTo>
                    <a:cubicBezTo>
                      <a:pt x="40" y="66"/>
                      <a:pt x="38" y="66"/>
                      <a:pt x="36" y="66"/>
                    </a:cubicBezTo>
                    <a:close/>
                  </a:path>
                </a:pathLst>
              </a:custGeom>
              <a:solidFill>
                <a:srgbClr val="414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1654"/>
              <p:cNvSpPr/>
              <p:nvPr/>
            </p:nvSpPr>
            <p:spPr>
              <a:xfrm>
                <a:off x="7773480" y="33436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3" y="2"/>
                    </a:moveTo>
                    <a:cubicBezTo>
                      <a:pt x="36" y="0"/>
                      <a:pt x="49" y="9"/>
                      <a:pt x="52" y="23"/>
                    </a:cubicBezTo>
                    <a:cubicBezTo>
                      <a:pt x="54" y="36"/>
                      <a:pt x="45" y="49"/>
                      <a:pt x="31" y="51"/>
                    </a:cubicBezTo>
                    <a:cubicBezTo>
                      <a:pt x="18" y="54"/>
                      <a:pt x="5" y="45"/>
                      <a:pt x="2" y="31"/>
                    </a:cubicBezTo>
                    <a:cubicBezTo>
                      <a:pt x="0" y="18"/>
                      <a:pt x="9" y="5"/>
                      <a:pt x="23" y="2"/>
                    </a:cubicBezTo>
                    <a:close/>
                  </a:path>
                </a:pathLst>
              </a:custGeom>
              <a:solidFill>
                <a:srgbClr val="8de1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1655"/>
              <p:cNvSpPr/>
              <p:nvPr/>
            </p:nvSpPr>
            <p:spPr>
              <a:xfrm>
                <a:off x="7780680" y="3351240"/>
                <a:ext cx="20880" cy="20880"/>
              </a:xfrm>
              <a:custGeom>
                <a:avLst/>
                <a:gdLst/>
                <a:ahLst/>
                <a:rect l="l" t="t" r="r" b="b"/>
                <a:pathLst>
                  <a:path w="32" h="32">
                    <a:moveTo>
                      <a:pt x="1" y="18"/>
                    </a:moveTo>
                    <a:cubicBezTo>
                      <a:pt x="0" y="10"/>
                      <a:pt x="5" y="3"/>
                      <a:pt x="13" y="1"/>
                    </a:cubicBezTo>
                    <a:cubicBezTo>
                      <a:pt x="22" y="0"/>
                      <a:pt x="29" y="5"/>
                      <a:pt x="31" y="13"/>
                    </a:cubicBezTo>
                    <a:cubicBezTo>
                      <a:pt x="32" y="22"/>
                      <a:pt x="27" y="29"/>
                      <a:pt x="19" y="31"/>
                    </a:cubicBezTo>
                    <a:cubicBezTo>
                      <a:pt x="10" y="32"/>
                      <a:pt x="3" y="27"/>
                      <a:pt x="1" y="18"/>
                    </a:cubicBezTo>
                    <a:close/>
                  </a:path>
                </a:pathLst>
              </a:custGeom>
              <a:solidFill>
                <a:srgbClr val="414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1656"/>
              <p:cNvSpPr/>
              <p:nvPr/>
            </p:nvSpPr>
            <p:spPr>
              <a:xfrm>
                <a:off x="7574040" y="3209040"/>
                <a:ext cx="179280" cy="254520"/>
              </a:xfrm>
              <a:custGeom>
                <a:avLst/>
                <a:gdLst/>
                <a:ahLst/>
                <a:rect l="l" t="t" r="r" b="b"/>
                <a:pathLst>
                  <a:path w="276" h="391">
                    <a:moveTo>
                      <a:pt x="274" y="358"/>
                    </a:moveTo>
                    <a:cubicBezTo>
                      <a:pt x="273" y="376"/>
                      <a:pt x="259" y="391"/>
                      <a:pt x="241" y="390"/>
                    </a:cubicBezTo>
                    <a:cubicBezTo>
                      <a:pt x="32" y="389"/>
                      <a:pt x="32" y="389"/>
                      <a:pt x="32" y="389"/>
                    </a:cubicBezTo>
                    <a:cubicBezTo>
                      <a:pt x="14" y="388"/>
                      <a:pt x="0" y="374"/>
                      <a:pt x="0" y="356"/>
                    </a:cubicBezTo>
                    <a:cubicBezTo>
                      <a:pt x="2" y="32"/>
                      <a:pt x="2" y="32"/>
                      <a:pt x="2" y="32"/>
                    </a:cubicBezTo>
                    <a:cubicBezTo>
                      <a:pt x="3" y="14"/>
                      <a:pt x="17" y="0"/>
                      <a:pt x="35" y="0"/>
                    </a:cubicBezTo>
                    <a:cubicBezTo>
                      <a:pt x="244" y="2"/>
                      <a:pt x="244" y="2"/>
                      <a:pt x="244" y="2"/>
                    </a:cubicBezTo>
                    <a:cubicBezTo>
                      <a:pt x="262" y="2"/>
                      <a:pt x="276" y="16"/>
                      <a:pt x="276" y="34"/>
                    </a:cubicBezTo>
                    <a:cubicBezTo>
                      <a:pt x="274" y="358"/>
                      <a:pt x="274" y="358"/>
                      <a:pt x="274" y="358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1657"/>
              <p:cNvSpPr/>
              <p:nvPr/>
            </p:nvSpPr>
            <p:spPr>
              <a:xfrm>
                <a:off x="7620120" y="3224160"/>
                <a:ext cx="89640" cy="11880"/>
              </a:xfrm>
              <a:custGeom>
                <a:avLst/>
                <a:gdLst/>
                <a:ahLst/>
                <a:rect l="l" t="t" r="r" b="b"/>
                <a:pathLst>
                  <a:path w="139" h="18">
                    <a:moveTo>
                      <a:pt x="139" y="10"/>
                    </a:moveTo>
                    <a:cubicBezTo>
                      <a:pt x="139" y="14"/>
                      <a:pt x="135" y="18"/>
                      <a:pt x="130" y="18"/>
                    </a:cubicBezTo>
                    <a:cubicBezTo>
                      <a:pt x="9" y="17"/>
                      <a:pt x="9" y="17"/>
                      <a:pt x="9" y="17"/>
                    </a:cubicBezTo>
                    <a:cubicBezTo>
                      <a:pt x="4" y="17"/>
                      <a:pt x="0" y="13"/>
                      <a:pt x="0" y="9"/>
                    </a:cubicBezTo>
                    <a:cubicBezTo>
                      <a:pt x="0" y="4"/>
                      <a:pt x="4" y="0"/>
                      <a:pt x="9" y="0"/>
                    </a:cubicBezTo>
                    <a:cubicBezTo>
                      <a:pt x="130" y="1"/>
                      <a:pt x="130" y="1"/>
                      <a:pt x="130" y="1"/>
                    </a:cubicBezTo>
                    <a:cubicBezTo>
                      <a:pt x="135" y="1"/>
                      <a:pt x="139" y="5"/>
                      <a:pt x="139" y="10"/>
                    </a:cubicBezTo>
                    <a:close/>
                  </a:path>
                </a:pathLst>
              </a:custGeom>
              <a:solidFill>
                <a:srgbClr val="ff84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1658"/>
              <p:cNvSpPr/>
              <p:nvPr/>
            </p:nvSpPr>
            <p:spPr>
              <a:xfrm>
                <a:off x="7639560" y="3232800"/>
                <a:ext cx="48960" cy="14760"/>
              </a:xfrm>
              <a:custGeom>
                <a:avLst/>
                <a:gdLst/>
                <a:ahLst/>
                <a:rect l="l" t="t" r="r" b="b"/>
                <a:pathLst>
                  <a:path w="76" h="23">
                    <a:moveTo>
                      <a:pt x="76" y="12"/>
                    </a:moveTo>
                    <a:cubicBezTo>
                      <a:pt x="76" y="18"/>
                      <a:pt x="71" y="23"/>
                      <a:pt x="65" y="23"/>
                    </a:cubicBezTo>
                    <a:cubicBezTo>
                      <a:pt x="11" y="22"/>
                      <a:pt x="11" y="22"/>
                      <a:pt x="11" y="22"/>
                    </a:cubicBezTo>
                    <a:cubicBezTo>
                      <a:pt x="5" y="22"/>
                      <a:pt x="0" y="17"/>
                      <a:pt x="1" y="11"/>
                    </a:cubicBezTo>
                    <a:cubicBezTo>
                      <a:pt x="1" y="5"/>
                      <a:pt x="5" y="0"/>
                      <a:pt x="12" y="0"/>
                    </a:cubicBezTo>
                    <a:cubicBezTo>
                      <a:pt x="65" y="1"/>
                      <a:pt x="65" y="1"/>
                      <a:pt x="65" y="1"/>
                    </a:cubicBezTo>
                    <a:cubicBezTo>
                      <a:pt x="71" y="1"/>
                      <a:pt x="76" y="6"/>
                      <a:pt x="76" y="12"/>
                    </a:cubicBezTo>
                    <a:close/>
                  </a:path>
                </a:pathLst>
              </a:custGeom>
              <a:solidFill>
                <a:srgbClr val="4351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1659"/>
              <p:cNvSpPr/>
              <p:nvPr/>
            </p:nvSpPr>
            <p:spPr>
              <a:xfrm>
                <a:off x="7617960" y="3319560"/>
                <a:ext cx="15480" cy="1692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23" y="25"/>
                    </a:moveTo>
                    <a:lnTo>
                      <a:pt x="11" y="0"/>
                    </a:lnTo>
                    <a:lnTo>
                      <a:pt x="0" y="25"/>
                    </a:lnTo>
                    <a:lnTo>
                      <a:pt x="23" y="25"/>
                    </a:lnTo>
                    <a:close/>
                  </a:path>
                </a:pathLst>
              </a:custGeom>
              <a:solidFill>
                <a:srgbClr val="72d3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1660"/>
              <p:cNvSpPr/>
              <p:nvPr/>
            </p:nvSpPr>
            <p:spPr>
              <a:xfrm>
                <a:off x="7628040" y="3304440"/>
                <a:ext cx="27360" cy="3168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41" y="47"/>
                    </a:moveTo>
                    <a:lnTo>
                      <a:pt x="20" y="0"/>
                    </a:lnTo>
                    <a:lnTo>
                      <a:pt x="0" y="47"/>
                    </a:lnTo>
                    <a:lnTo>
                      <a:pt x="41" y="47"/>
                    </a:lnTo>
                    <a:close/>
                  </a:path>
                </a:pathLst>
              </a:custGeom>
              <a:solidFill>
                <a:srgbClr val="ffd7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1661"/>
              <p:cNvSpPr/>
              <p:nvPr/>
            </p:nvSpPr>
            <p:spPr>
              <a:xfrm>
                <a:off x="7648560" y="3280320"/>
                <a:ext cx="35640" cy="56160"/>
              </a:xfrm>
              <a:custGeom>
                <a:avLst/>
                <a:gdLst/>
                <a:ahLst/>
                <a:rect l="l" t="t" r="r" b="b"/>
                <a:pathLst>
                  <a:path w="53" h="83">
                    <a:moveTo>
                      <a:pt x="53" y="83"/>
                    </a:moveTo>
                    <a:lnTo>
                      <a:pt x="26" y="0"/>
                    </a:lnTo>
                    <a:lnTo>
                      <a:pt x="0" y="83"/>
                    </a:lnTo>
                    <a:lnTo>
                      <a:pt x="53" y="83"/>
                    </a:lnTo>
                    <a:close/>
                  </a:path>
                </a:pathLst>
              </a:custGeom>
              <a:solidFill>
                <a:srgbClr val="4250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1662"/>
              <p:cNvSpPr/>
              <p:nvPr/>
            </p:nvSpPr>
            <p:spPr>
              <a:xfrm>
                <a:off x="7676280" y="3291840"/>
                <a:ext cx="35640" cy="44640"/>
              </a:xfrm>
              <a:custGeom>
                <a:avLst/>
                <a:gdLst/>
                <a:ahLst/>
                <a:rect l="l" t="t" r="r" b="b"/>
                <a:pathLst>
                  <a:path w="53" h="66">
                    <a:moveTo>
                      <a:pt x="53" y="66"/>
                    </a:moveTo>
                    <a:lnTo>
                      <a:pt x="26" y="0"/>
                    </a:lnTo>
                    <a:lnTo>
                      <a:pt x="0" y="66"/>
                    </a:lnTo>
                    <a:lnTo>
                      <a:pt x="53" y="66"/>
                    </a:lnTo>
                    <a:close/>
                  </a:path>
                </a:pathLst>
              </a:custGeom>
              <a:solidFill>
                <a:srgbClr val="ff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1663"/>
              <p:cNvSpPr/>
              <p:nvPr/>
            </p:nvSpPr>
            <p:spPr>
              <a:xfrm>
                <a:off x="7645680" y="33580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12"/>
                    </a:moveTo>
                    <a:cubicBezTo>
                      <a:pt x="35" y="12"/>
                      <a:pt x="42" y="19"/>
                      <a:pt x="42" y="27"/>
                    </a:cubicBezTo>
                    <a:cubicBezTo>
                      <a:pt x="42" y="36"/>
                      <a:pt x="35" y="42"/>
                      <a:pt x="27" y="42"/>
                    </a:cubicBezTo>
                    <a:cubicBezTo>
                      <a:pt x="18" y="42"/>
                      <a:pt x="11" y="36"/>
                      <a:pt x="11" y="27"/>
                    </a:cubicBezTo>
                    <a:cubicBezTo>
                      <a:pt x="11" y="19"/>
                      <a:pt x="18" y="12"/>
                      <a:pt x="27" y="12"/>
                    </a:cubicBezTo>
                    <a:moveTo>
                      <a:pt x="27" y="0"/>
                    </a:moveTo>
                    <a:cubicBezTo>
                      <a:pt x="12" y="0"/>
                      <a:pt x="0" y="12"/>
                      <a:pt x="0" y="27"/>
                    </a:cubicBezTo>
                    <a:cubicBezTo>
                      <a:pt x="0" y="42"/>
                      <a:pt x="12" y="54"/>
                      <a:pt x="27" y="54"/>
                    </a:cubicBezTo>
                    <a:cubicBezTo>
                      <a:pt x="41" y="54"/>
                      <a:pt x="54" y="42"/>
                      <a:pt x="54" y="27"/>
                    </a:cubicBezTo>
                    <a:cubicBezTo>
                      <a:pt x="54" y="12"/>
                      <a:pt x="41" y="0"/>
                      <a:pt x="27" y="0"/>
                    </a:cubicBezTo>
                    <a:close/>
                  </a:path>
                </a:pathLst>
              </a:custGeom>
              <a:solidFill>
                <a:srgbClr val="eba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1664"/>
              <p:cNvSpPr/>
              <p:nvPr/>
            </p:nvSpPr>
            <p:spPr>
              <a:xfrm>
                <a:off x="7645680" y="3358080"/>
                <a:ext cx="16560" cy="34920"/>
              </a:xfrm>
              <a:custGeom>
                <a:avLst/>
                <a:gdLst/>
                <a:ahLst/>
                <a:rect l="l" t="t" r="r" b="b"/>
                <a:pathLst>
                  <a:path w="26" h="54">
                    <a:moveTo>
                      <a:pt x="11" y="27"/>
                    </a:moveTo>
                    <a:cubicBezTo>
                      <a:pt x="11" y="19"/>
                      <a:pt x="18" y="13"/>
                      <a:pt x="26" y="12"/>
                    </a:cubicBezTo>
                    <a:cubicBezTo>
                      <a:pt x="26" y="0"/>
                      <a:pt x="26" y="0"/>
                      <a:pt x="26" y="0"/>
                    </a:cubicBezTo>
                    <a:cubicBezTo>
                      <a:pt x="11" y="1"/>
                      <a:pt x="0" y="13"/>
                      <a:pt x="0" y="27"/>
                    </a:cubicBezTo>
                    <a:cubicBezTo>
                      <a:pt x="0" y="42"/>
                      <a:pt x="11" y="54"/>
                      <a:pt x="26" y="54"/>
                    </a:cubicBezTo>
                    <a:cubicBezTo>
                      <a:pt x="26" y="42"/>
                      <a:pt x="26" y="42"/>
                      <a:pt x="26" y="42"/>
                    </a:cubicBezTo>
                    <a:cubicBezTo>
                      <a:pt x="18" y="42"/>
                      <a:pt x="11" y="35"/>
                      <a:pt x="11" y="27"/>
                    </a:cubicBezTo>
                    <a:close/>
                  </a:path>
                </a:pathLst>
              </a:custGeom>
              <a:solidFill>
                <a:srgbClr val="ce8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1665"/>
              <p:cNvSpPr/>
              <p:nvPr/>
            </p:nvSpPr>
            <p:spPr>
              <a:xfrm>
                <a:off x="7697160" y="33595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12"/>
                    </a:moveTo>
                    <a:cubicBezTo>
                      <a:pt x="36" y="12"/>
                      <a:pt x="42" y="18"/>
                      <a:pt x="42" y="27"/>
                    </a:cubicBezTo>
                    <a:cubicBezTo>
                      <a:pt x="42" y="35"/>
                      <a:pt x="36" y="42"/>
                      <a:pt x="27" y="42"/>
                    </a:cubicBezTo>
                    <a:cubicBezTo>
                      <a:pt x="19" y="42"/>
                      <a:pt x="12" y="35"/>
                      <a:pt x="12" y="27"/>
                    </a:cubicBezTo>
                    <a:cubicBezTo>
                      <a:pt x="12" y="18"/>
                      <a:pt x="19" y="12"/>
                      <a:pt x="27" y="12"/>
                    </a:cubicBezTo>
                    <a:moveTo>
                      <a:pt x="27" y="0"/>
                    </a:moveTo>
                    <a:cubicBezTo>
                      <a:pt x="12" y="0"/>
                      <a:pt x="0" y="12"/>
                      <a:pt x="0" y="27"/>
                    </a:cubicBezTo>
                    <a:cubicBezTo>
                      <a:pt x="0" y="42"/>
                      <a:pt x="12" y="54"/>
                      <a:pt x="27" y="54"/>
                    </a:cubicBezTo>
                    <a:cubicBezTo>
                      <a:pt x="42" y="54"/>
                      <a:pt x="54" y="42"/>
                      <a:pt x="54" y="27"/>
                    </a:cubicBezTo>
                    <a:cubicBezTo>
                      <a:pt x="54" y="12"/>
                      <a:pt x="42" y="0"/>
                      <a:pt x="27" y="0"/>
                    </a:cubicBezTo>
                    <a:close/>
                  </a:path>
                </a:pathLst>
              </a:custGeom>
              <a:solidFill>
                <a:srgbClr val="f057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1666"/>
              <p:cNvSpPr/>
              <p:nvPr/>
            </p:nvSpPr>
            <p:spPr>
              <a:xfrm>
                <a:off x="7697160" y="3378240"/>
                <a:ext cx="17280" cy="16200"/>
              </a:xfrm>
              <a:custGeom>
                <a:avLst/>
                <a:gdLst/>
                <a:ahLst/>
                <a:rect l="l" t="t" r="r" b="b"/>
                <a:pathLst>
                  <a:path w="27" h="25">
                    <a:moveTo>
                      <a:pt x="12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2" y="14"/>
                      <a:pt x="13" y="25"/>
                      <a:pt x="27" y="25"/>
                    </a:cubicBezTo>
                    <a:cubicBezTo>
                      <a:pt x="27" y="13"/>
                      <a:pt x="27" y="13"/>
                      <a:pt x="27" y="13"/>
                    </a:cubicBezTo>
                    <a:cubicBezTo>
                      <a:pt x="20" y="13"/>
                      <a:pt x="14" y="7"/>
                      <a:pt x="12" y="0"/>
                    </a:cubicBezTo>
                    <a:close/>
                  </a:path>
                </a:pathLst>
              </a:custGeom>
              <a:solidFill>
                <a:srgbClr val="bc3b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1667"/>
              <p:cNvSpPr/>
              <p:nvPr/>
            </p:nvSpPr>
            <p:spPr>
              <a:xfrm>
                <a:off x="7714080" y="3359520"/>
                <a:ext cx="18000" cy="18720"/>
              </a:xfrm>
              <a:custGeom>
                <a:avLst/>
                <a:gdLst/>
                <a:ahLst/>
                <a:rect l="l" t="t" r="r" b="b"/>
                <a:pathLst>
                  <a:path w="28" h="29">
                    <a:moveTo>
                      <a:pt x="1" y="12"/>
                    </a:moveTo>
                    <a:cubicBezTo>
                      <a:pt x="10" y="12"/>
                      <a:pt x="16" y="18"/>
                      <a:pt x="16" y="27"/>
                    </a:cubicBezTo>
                    <a:cubicBezTo>
                      <a:pt x="16" y="28"/>
                      <a:pt x="16" y="28"/>
                      <a:pt x="16" y="29"/>
                    </a:cubicBezTo>
                    <a:cubicBezTo>
                      <a:pt x="28" y="29"/>
                      <a:pt x="28" y="29"/>
                      <a:pt x="28" y="29"/>
                    </a:cubicBezTo>
                    <a:cubicBezTo>
                      <a:pt x="28" y="28"/>
                      <a:pt x="28" y="28"/>
                      <a:pt x="28" y="27"/>
                    </a:cubicBezTo>
                    <a:cubicBezTo>
                      <a:pt x="28" y="12"/>
                      <a:pt x="16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2"/>
                      <a:pt x="1" y="12"/>
                      <a:pt x="1" y="12"/>
                    </a:cubicBezTo>
                    <a:close/>
                  </a:path>
                </a:pathLst>
              </a:custGeom>
              <a:solidFill>
                <a:srgbClr val="bc3b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1668"/>
              <p:cNvSpPr/>
              <p:nvPr/>
            </p:nvSpPr>
            <p:spPr>
              <a:xfrm>
                <a:off x="7697160" y="3359520"/>
                <a:ext cx="16560" cy="18720"/>
              </a:xfrm>
              <a:custGeom>
                <a:avLst/>
                <a:gdLst/>
                <a:ahLst/>
                <a:rect l="l" t="t" r="r" b="b"/>
                <a:pathLst>
                  <a:path w="26" h="29">
                    <a:moveTo>
                      <a:pt x="12" y="27"/>
                    </a:moveTo>
                    <a:cubicBezTo>
                      <a:pt x="12" y="19"/>
                      <a:pt x="18" y="12"/>
                      <a:pt x="26" y="12"/>
                    </a:cubicBezTo>
                    <a:cubicBezTo>
                      <a:pt x="26" y="0"/>
                      <a:pt x="26" y="0"/>
                      <a:pt x="26" y="0"/>
                    </a:cubicBezTo>
                    <a:cubicBezTo>
                      <a:pt x="12" y="0"/>
                      <a:pt x="0" y="12"/>
                      <a:pt x="0" y="27"/>
                    </a:cubicBezTo>
                    <a:cubicBezTo>
                      <a:pt x="0" y="28"/>
                      <a:pt x="0" y="28"/>
                      <a:pt x="0" y="29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8"/>
                      <a:pt x="12" y="28"/>
                      <a:pt x="12" y="27"/>
                    </a:cubicBezTo>
                    <a:close/>
                  </a:path>
                </a:pathLst>
              </a:custGeom>
              <a:solidFill>
                <a:srgbClr val="bc3b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1669"/>
              <p:cNvSpPr/>
              <p:nvPr/>
            </p:nvSpPr>
            <p:spPr>
              <a:xfrm>
                <a:off x="7595280" y="33595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12"/>
                    </a:moveTo>
                    <a:cubicBezTo>
                      <a:pt x="35" y="12"/>
                      <a:pt x="42" y="18"/>
                      <a:pt x="42" y="27"/>
                    </a:cubicBezTo>
                    <a:cubicBezTo>
                      <a:pt x="42" y="35"/>
                      <a:pt x="35" y="42"/>
                      <a:pt x="27" y="42"/>
                    </a:cubicBezTo>
                    <a:cubicBezTo>
                      <a:pt x="19" y="42"/>
                      <a:pt x="12" y="35"/>
                      <a:pt x="12" y="27"/>
                    </a:cubicBezTo>
                    <a:cubicBezTo>
                      <a:pt x="12" y="18"/>
                      <a:pt x="19" y="12"/>
                      <a:pt x="27" y="12"/>
                    </a:cubicBezTo>
                    <a:moveTo>
                      <a:pt x="27" y="0"/>
                    </a:moveTo>
                    <a:cubicBezTo>
                      <a:pt x="12" y="0"/>
                      <a:pt x="0" y="12"/>
                      <a:pt x="0" y="27"/>
                    </a:cubicBezTo>
                    <a:cubicBezTo>
                      <a:pt x="0" y="42"/>
                      <a:pt x="12" y="54"/>
                      <a:pt x="27" y="54"/>
                    </a:cubicBezTo>
                    <a:cubicBezTo>
                      <a:pt x="42" y="54"/>
                      <a:pt x="54" y="42"/>
                      <a:pt x="54" y="27"/>
                    </a:cubicBezTo>
                    <a:cubicBezTo>
                      <a:pt x="54" y="12"/>
                      <a:pt x="42" y="0"/>
                      <a:pt x="27" y="0"/>
                    </a:cubicBezTo>
                    <a:close/>
                  </a:path>
                </a:pathLst>
              </a:custGeom>
              <a:solidFill>
                <a:srgbClr val="414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1670"/>
              <p:cNvSpPr/>
              <p:nvPr/>
            </p:nvSpPr>
            <p:spPr>
              <a:xfrm>
                <a:off x="7595280" y="3378240"/>
                <a:ext cx="17280" cy="16200"/>
              </a:xfrm>
              <a:custGeom>
                <a:avLst/>
                <a:gdLst/>
                <a:ahLst/>
                <a:rect l="l" t="t" r="r" b="b"/>
                <a:pathLst>
                  <a:path w="27" h="25">
                    <a:moveTo>
                      <a:pt x="12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14"/>
                      <a:pt x="13" y="25"/>
                      <a:pt x="27" y="25"/>
                    </a:cubicBezTo>
                    <a:cubicBezTo>
                      <a:pt x="27" y="13"/>
                      <a:pt x="27" y="13"/>
                      <a:pt x="27" y="13"/>
                    </a:cubicBezTo>
                    <a:cubicBezTo>
                      <a:pt x="19" y="13"/>
                      <a:pt x="13" y="7"/>
                      <a:pt x="12" y="0"/>
                    </a:cubicBezTo>
                    <a:close/>
                  </a:path>
                </a:pathLst>
              </a:custGeom>
              <a:solidFill>
                <a:srgbClr val="1d2c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Rectangle 1671"/>
              <p:cNvSpPr/>
              <p:nvPr/>
            </p:nvSpPr>
            <p:spPr>
              <a:xfrm>
                <a:off x="7595280" y="3411360"/>
                <a:ext cx="137520" cy="7920"/>
              </a:xfrm>
              <a:prstGeom prst="rect">
                <a:avLst/>
              </a:prstGeom>
              <a:solidFill>
                <a:srgbClr val="ff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Rectangle 1672"/>
              <p:cNvSpPr/>
              <p:nvPr/>
            </p:nvSpPr>
            <p:spPr>
              <a:xfrm>
                <a:off x="7595280" y="3429720"/>
                <a:ext cx="137520" cy="7920"/>
              </a:xfrm>
              <a:prstGeom prst="rect">
                <a:avLst/>
              </a:prstGeom>
              <a:solidFill>
                <a:srgbClr val="72d3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1673"/>
              <p:cNvSpPr/>
              <p:nvPr/>
            </p:nvSpPr>
            <p:spPr>
              <a:xfrm>
                <a:off x="7762680" y="3174480"/>
                <a:ext cx="105120" cy="158400"/>
              </a:xfrm>
              <a:custGeom>
                <a:avLst/>
                <a:gdLst/>
                <a:ahLst/>
                <a:rect l="l" t="t" r="r" b="b"/>
                <a:pathLst>
                  <a:path w="156" h="234">
                    <a:moveTo>
                      <a:pt x="2" y="0"/>
                    </a:moveTo>
                    <a:lnTo>
                      <a:pt x="0" y="233"/>
                    </a:lnTo>
                    <a:lnTo>
                      <a:pt x="156" y="234"/>
                    </a:lnTo>
                    <a:lnTo>
                      <a:pt x="2" y="0"/>
                    </a:lnTo>
                    <a:close/>
                    <a:moveTo>
                      <a:pt x="25" y="87"/>
                    </a:moveTo>
                    <a:lnTo>
                      <a:pt x="105" y="202"/>
                    </a:lnTo>
                    <a:lnTo>
                      <a:pt x="24" y="201"/>
                    </a:lnTo>
                    <a:lnTo>
                      <a:pt x="25" y="87"/>
                    </a:lnTo>
                    <a:close/>
                  </a:path>
                </a:pathLst>
              </a:custGeom>
              <a:solidFill>
                <a:srgbClr val="fc61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1674"/>
              <p:cNvSpPr/>
              <p:nvPr/>
            </p:nvSpPr>
            <p:spPr>
              <a:xfrm>
                <a:off x="7524720" y="3266640"/>
                <a:ext cx="3960" cy="166320"/>
              </a:xfrm>
              <a:custGeom>
                <a:avLst/>
                <a:gdLst/>
                <a:ahLst/>
                <a:rect l="l" t="t" r="r" b="b"/>
                <a:pathLst>
                  <a:path w="6" h="246">
                    <a:moveTo>
                      <a:pt x="0" y="0"/>
                    </a:moveTo>
                    <a:lnTo>
                      <a:pt x="6" y="3"/>
                    </a:lnTo>
                    <a:lnTo>
                      <a:pt x="5" y="246"/>
                    </a:lnTo>
                    <a:lnTo>
                      <a:pt x="0" y="24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81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1675"/>
              <p:cNvSpPr/>
              <p:nvPr/>
            </p:nvSpPr>
            <p:spPr>
              <a:xfrm>
                <a:off x="7516080" y="3266640"/>
                <a:ext cx="2520" cy="166320"/>
              </a:xfrm>
              <a:custGeom>
                <a:avLst/>
                <a:gdLst/>
                <a:ahLst/>
                <a:rect l="l" t="t" r="r" b="b"/>
                <a:pathLst>
                  <a:path w="4" h="246">
                    <a:moveTo>
                      <a:pt x="0" y="2"/>
                    </a:moveTo>
                    <a:lnTo>
                      <a:pt x="4" y="0"/>
                    </a:lnTo>
                    <a:lnTo>
                      <a:pt x="4" y="246"/>
                    </a:lnTo>
                    <a:lnTo>
                      <a:pt x="0" y="246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84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1676"/>
              <p:cNvSpPr/>
              <p:nvPr/>
            </p:nvSpPr>
            <p:spPr>
              <a:xfrm>
                <a:off x="7518960" y="3266640"/>
                <a:ext cx="6480" cy="166320"/>
              </a:xfrm>
              <a:custGeom>
                <a:avLst/>
                <a:gdLst/>
                <a:ahLst/>
                <a:rect l="l" t="t" r="r" b="b"/>
                <a:pathLst>
                  <a:path w="10" h="246">
                    <a:moveTo>
                      <a:pt x="0" y="0"/>
                    </a:moveTo>
                    <a:lnTo>
                      <a:pt x="10" y="0"/>
                    </a:lnTo>
                    <a:lnTo>
                      <a:pt x="9" y="246"/>
                    </a:lnTo>
                    <a:lnTo>
                      <a:pt x="0" y="24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1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1677"/>
              <p:cNvSpPr/>
              <p:nvPr/>
            </p:nvSpPr>
            <p:spPr>
              <a:xfrm>
                <a:off x="7516080" y="3244320"/>
                <a:ext cx="12600" cy="27000"/>
              </a:xfrm>
              <a:custGeom>
                <a:avLst/>
                <a:gdLst/>
                <a:ahLst/>
                <a:rect l="l" t="t" r="r" b="b"/>
                <a:pathLst>
                  <a:path w="20" h="41">
                    <a:moveTo>
                      <a:pt x="15" y="34"/>
                    </a:moveTo>
                    <a:cubicBezTo>
                      <a:pt x="15" y="34"/>
                      <a:pt x="12" y="40"/>
                      <a:pt x="10" y="39"/>
                    </a:cubicBezTo>
                    <a:cubicBezTo>
                      <a:pt x="9" y="39"/>
                      <a:pt x="6" y="34"/>
                      <a:pt x="5" y="34"/>
                    </a:cubicBezTo>
                    <a:cubicBezTo>
                      <a:pt x="4" y="35"/>
                      <a:pt x="3" y="39"/>
                      <a:pt x="2" y="39"/>
                    </a:cubicBezTo>
                    <a:cubicBezTo>
                      <a:pt x="0" y="39"/>
                      <a:pt x="0" y="37"/>
                      <a:pt x="0" y="37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20" y="37"/>
                      <a:pt x="20" y="37"/>
                      <a:pt x="20" y="37"/>
                    </a:cubicBezTo>
                    <a:cubicBezTo>
                      <a:pt x="20" y="37"/>
                      <a:pt x="17" y="41"/>
                      <a:pt x="15" y="34"/>
                    </a:cubicBezTo>
                    <a:close/>
                  </a:path>
                </a:pathLst>
              </a:custGeom>
              <a:solidFill>
                <a:srgbClr val="f7f5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1678"/>
              <p:cNvSpPr/>
              <p:nvPr/>
            </p:nvSpPr>
            <p:spPr>
              <a:xfrm>
                <a:off x="7519320" y="3244320"/>
                <a:ext cx="4680" cy="11160"/>
              </a:xfrm>
              <a:custGeom>
                <a:avLst/>
                <a:gdLst/>
                <a:ahLst/>
                <a:rect l="l" t="t" r="r" b="b"/>
                <a:pathLst>
                  <a:path w="7" h="17">
                    <a:moveTo>
                      <a:pt x="7" y="14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3" y="17"/>
                      <a:pt x="7" y="14"/>
                    </a:cubicBezTo>
                    <a:close/>
                  </a:path>
                </a:pathLst>
              </a:custGeom>
              <a:solidFill>
                <a:srgbClr val="ff84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1679"/>
              <p:cNvSpPr/>
              <p:nvPr/>
            </p:nvSpPr>
            <p:spPr>
              <a:xfrm>
                <a:off x="7551720" y="3275280"/>
                <a:ext cx="3240" cy="156240"/>
              </a:xfrm>
              <a:custGeom>
                <a:avLst/>
                <a:gdLst/>
                <a:ahLst/>
                <a:rect l="l" t="t" r="r" b="b"/>
                <a:pathLst>
                  <a:path w="5" h="231">
                    <a:moveTo>
                      <a:pt x="0" y="0"/>
                    </a:moveTo>
                    <a:lnTo>
                      <a:pt x="5" y="3"/>
                    </a:lnTo>
                    <a:lnTo>
                      <a:pt x="5" y="231"/>
                    </a:lnTo>
                    <a:lnTo>
                      <a:pt x="0" y="23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de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1680"/>
              <p:cNvSpPr/>
              <p:nvPr/>
            </p:nvSpPr>
            <p:spPr>
              <a:xfrm>
                <a:off x="7543080" y="3275280"/>
                <a:ext cx="3240" cy="156240"/>
              </a:xfrm>
              <a:custGeom>
                <a:avLst/>
                <a:gdLst/>
                <a:ahLst/>
                <a:rect l="l" t="t" r="r" b="b"/>
                <a:pathLst>
                  <a:path w="5" h="231">
                    <a:moveTo>
                      <a:pt x="0" y="2"/>
                    </a:moveTo>
                    <a:lnTo>
                      <a:pt x="5" y="0"/>
                    </a:lnTo>
                    <a:lnTo>
                      <a:pt x="5" y="231"/>
                    </a:lnTo>
                    <a:lnTo>
                      <a:pt x="0" y="23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8dde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Rectangle 1681"/>
              <p:cNvSpPr/>
              <p:nvPr/>
            </p:nvSpPr>
            <p:spPr>
              <a:xfrm>
                <a:off x="7546320" y="3275280"/>
                <a:ext cx="5400" cy="156240"/>
              </a:xfrm>
              <a:prstGeom prst="rect">
                <a:avLst/>
              </a:prstGeom>
              <a:solidFill>
                <a:srgbClr val="d8f6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1682"/>
              <p:cNvSpPr/>
              <p:nvPr/>
            </p:nvSpPr>
            <p:spPr>
              <a:xfrm>
                <a:off x="7543080" y="3255120"/>
                <a:ext cx="11880" cy="2484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4" y="32"/>
                    </a:moveTo>
                    <a:cubicBezTo>
                      <a:pt x="14" y="32"/>
                      <a:pt x="12" y="37"/>
                      <a:pt x="10" y="37"/>
                    </a:cubicBezTo>
                    <a:cubicBezTo>
                      <a:pt x="8" y="36"/>
                      <a:pt x="6" y="32"/>
                      <a:pt x="5" y="32"/>
                    </a:cubicBezTo>
                    <a:cubicBezTo>
                      <a:pt x="4" y="33"/>
                      <a:pt x="4" y="37"/>
                      <a:pt x="2" y="37"/>
                    </a:cubicBezTo>
                    <a:cubicBezTo>
                      <a:pt x="1" y="37"/>
                      <a:pt x="0" y="35"/>
                      <a:pt x="0" y="35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19" y="35"/>
                      <a:pt x="19" y="35"/>
                      <a:pt x="19" y="35"/>
                    </a:cubicBezTo>
                    <a:cubicBezTo>
                      <a:pt x="19" y="35"/>
                      <a:pt x="16" y="39"/>
                      <a:pt x="14" y="32"/>
                    </a:cubicBezTo>
                    <a:close/>
                  </a:path>
                </a:pathLst>
              </a:custGeom>
              <a:solidFill>
                <a:srgbClr val="d9d6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1683"/>
              <p:cNvSpPr/>
              <p:nvPr/>
            </p:nvSpPr>
            <p:spPr>
              <a:xfrm>
                <a:off x="7547040" y="3255120"/>
                <a:ext cx="4680" cy="10080"/>
              </a:xfrm>
              <a:custGeom>
                <a:avLst/>
                <a:gdLst/>
                <a:ahLst/>
                <a:rect l="l" t="t" r="r" b="b"/>
                <a:pathLst>
                  <a:path w="7" h="16">
                    <a:moveTo>
                      <a:pt x="7" y="13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3" y="16"/>
                      <a:pt x="7" y="13"/>
                    </a:cubicBezTo>
                    <a:close/>
                  </a:path>
                </a:pathLst>
              </a:custGeom>
              <a:solidFill>
                <a:srgbClr val="414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1684"/>
              <p:cNvSpPr/>
              <p:nvPr/>
            </p:nvSpPr>
            <p:spPr>
              <a:xfrm>
                <a:off x="7629480" y="3409560"/>
                <a:ext cx="210600" cy="115560"/>
              </a:xfrm>
              <a:custGeom>
                <a:avLst/>
                <a:gdLst/>
                <a:ahLst/>
                <a:rect l="l" t="t" r="r" b="b"/>
                <a:pathLst>
                  <a:path w="312" h="171">
                    <a:moveTo>
                      <a:pt x="18" y="171"/>
                    </a:moveTo>
                    <a:lnTo>
                      <a:pt x="0" y="130"/>
                    </a:lnTo>
                    <a:lnTo>
                      <a:pt x="294" y="0"/>
                    </a:lnTo>
                    <a:lnTo>
                      <a:pt x="312" y="41"/>
                    </a:lnTo>
                    <a:lnTo>
                      <a:pt x="18" y="171"/>
                    </a:lnTo>
                    <a:close/>
                  </a:path>
                </a:pathLst>
              </a:custGeom>
              <a:solidFill>
                <a:srgbClr val="6bd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1685"/>
              <p:cNvSpPr/>
              <p:nvPr/>
            </p:nvSpPr>
            <p:spPr>
              <a:xfrm>
                <a:off x="7818480" y="3414240"/>
                <a:ext cx="8640" cy="21600"/>
              </a:xfrm>
              <a:custGeom>
                <a:avLst/>
                <a:gdLst/>
                <a:ahLst/>
                <a:rect l="l" t="t" r="r" b="b"/>
                <a:pathLst>
                  <a:path w="13" h="32">
                    <a:moveTo>
                      <a:pt x="0" y="0"/>
                    </a:moveTo>
                    <a:lnTo>
                      <a:pt x="13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Line 1686"/>
              <p:cNvSpPr/>
              <p:nvPr/>
            </p:nvSpPr>
            <p:spPr>
              <a:xfrm>
                <a:off x="7818480" y="3414240"/>
                <a:ext cx="864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1687"/>
              <p:cNvSpPr/>
              <p:nvPr/>
            </p:nvSpPr>
            <p:spPr>
              <a:xfrm>
                <a:off x="7810560" y="3418200"/>
                <a:ext cx="9360" cy="20880"/>
              </a:xfrm>
              <a:custGeom>
                <a:avLst/>
                <a:gdLst/>
                <a:ahLst/>
                <a:rect l="l" t="t" r="r" b="b"/>
                <a:pathLst>
                  <a:path w="14" h="31">
                    <a:moveTo>
                      <a:pt x="0" y="0"/>
                    </a:moveTo>
                    <a:lnTo>
                      <a:pt x="14" y="3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Line 1688"/>
              <p:cNvSpPr/>
              <p:nvPr/>
            </p:nvSpPr>
            <p:spPr>
              <a:xfrm>
                <a:off x="7810560" y="3418200"/>
                <a:ext cx="936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1689"/>
              <p:cNvSpPr/>
              <p:nvPr/>
            </p:nvSpPr>
            <p:spPr>
              <a:xfrm>
                <a:off x="7803000" y="3421800"/>
                <a:ext cx="8640" cy="20160"/>
              </a:xfrm>
              <a:custGeom>
                <a:avLst/>
                <a:gdLst/>
                <a:ahLst/>
                <a:rect l="l" t="t" r="r" b="b"/>
                <a:pathLst>
                  <a:path w="13" h="30">
                    <a:moveTo>
                      <a:pt x="0" y="0"/>
                    </a:moveTo>
                    <a:lnTo>
                      <a:pt x="13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Line 1690"/>
              <p:cNvSpPr/>
              <p:nvPr/>
            </p:nvSpPr>
            <p:spPr>
              <a:xfrm>
                <a:off x="7803000" y="3421800"/>
                <a:ext cx="8640" cy="201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1691"/>
              <p:cNvSpPr/>
              <p:nvPr/>
            </p:nvSpPr>
            <p:spPr>
              <a:xfrm>
                <a:off x="7795080" y="3425040"/>
                <a:ext cx="9360" cy="20880"/>
              </a:xfrm>
              <a:custGeom>
                <a:avLst/>
                <a:gdLst/>
                <a:ahLst/>
                <a:rect l="l" t="t" r="r" b="b"/>
                <a:pathLst>
                  <a:path w="14" h="31">
                    <a:moveTo>
                      <a:pt x="0" y="0"/>
                    </a:moveTo>
                    <a:lnTo>
                      <a:pt x="14" y="3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Line 1692"/>
              <p:cNvSpPr/>
              <p:nvPr/>
            </p:nvSpPr>
            <p:spPr>
              <a:xfrm>
                <a:off x="7795080" y="3425040"/>
                <a:ext cx="936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1693"/>
              <p:cNvSpPr/>
              <p:nvPr/>
            </p:nvSpPr>
            <p:spPr>
              <a:xfrm>
                <a:off x="7787520" y="3428280"/>
                <a:ext cx="8640" cy="20880"/>
              </a:xfrm>
              <a:custGeom>
                <a:avLst/>
                <a:gdLst/>
                <a:ahLst/>
                <a:rect l="l" t="t" r="r" b="b"/>
                <a:pathLst>
                  <a:path w="13" h="31">
                    <a:moveTo>
                      <a:pt x="0" y="0"/>
                    </a:moveTo>
                    <a:lnTo>
                      <a:pt x="13" y="3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Line 1694"/>
              <p:cNvSpPr/>
              <p:nvPr/>
            </p:nvSpPr>
            <p:spPr>
              <a:xfrm>
                <a:off x="7787520" y="3428280"/>
                <a:ext cx="864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1695"/>
              <p:cNvSpPr/>
              <p:nvPr/>
            </p:nvSpPr>
            <p:spPr>
              <a:xfrm>
                <a:off x="7778880" y="3431880"/>
                <a:ext cx="10080" cy="20880"/>
              </a:xfrm>
              <a:custGeom>
                <a:avLst/>
                <a:gdLst/>
                <a:ahLst/>
                <a:rect l="l" t="t" r="r" b="b"/>
                <a:pathLst>
                  <a:path w="15" h="31">
                    <a:moveTo>
                      <a:pt x="0" y="0"/>
                    </a:moveTo>
                    <a:lnTo>
                      <a:pt x="15" y="3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Line 1696"/>
              <p:cNvSpPr/>
              <p:nvPr/>
            </p:nvSpPr>
            <p:spPr>
              <a:xfrm>
                <a:off x="7778880" y="3431880"/>
                <a:ext cx="1008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1697"/>
              <p:cNvSpPr/>
              <p:nvPr/>
            </p:nvSpPr>
            <p:spPr>
              <a:xfrm>
                <a:off x="7771320" y="3435120"/>
                <a:ext cx="9360" cy="21600"/>
              </a:xfrm>
              <a:custGeom>
                <a:avLst/>
                <a:gdLst/>
                <a:ahLst/>
                <a:rect l="l" t="t" r="r" b="b"/>
                <a:pathLst>
                  <a:path w="14" h="32">
                    <a:moveTo>
                      <a:pt x="0" y="0"/>
                    </a:moveTo>
                    <a:lnTo>
                      <a:pt x="14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Line 1698"/>
              <p:cNvSpPr/>
              <p:nvPr/>
            </p:nvSpPr>
            <p:spPr>
              <a:xfrm>
                <a:off x="7771320" y="3435120"/>
                <a:ext cx="936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1699"/>
              <p:cNvSpPr/>
              <p:nvPr/>
            </p:nvSpPr>
            <p:spPr>
              <a:xfrm>
                <a:off x="7763400" y="3438720"/>
                <a:ext cx="9360" cy="20880"/>
              </a:xfrm>
              <a:custGeom>
                <a:avLst/>
                <a:gdLst/>
                <a:ahLst/>
                <a:rect l="l" t="t" r="r" b="b"/>
                <a:pathLst>
                  <a:path w="14" h="31">
                    <a:moveTo>
                      <a:pt x="0" y="0"/>
                    </a:moveTo>
                    <a:lnTo>
                      <a:pt x="14" y="3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Line 1700"/>
              <p:cNvSpPr/>
              <p:nvPr/>
            </p:nvSpPr>
            <p:spPr>
              <a:xfrm>
                <a:off x="7763400" y="3438720"/>
                <a:ext cx="936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1701"/>
              <p:cNvSpPr/>
              <p:nvPr/>
            </p:nvSpPr>
            <p:spPr>
              <a:xfrm>
                <a:off x="7755840" y="3441960"/>
                <a:ext cx="8640" cy="20880"/>
              </a:xfrm>
              <a:custGeom>
                <a:avLst/>
                <a:gdLst/>
                <a:ahLst/>
                <a:rect l="l" t="t" r="r" b="b"/>
                <a:pathLst>
                  <a:path w="13" h="31">
                    <a:moveTo>
                      <a:pt x="0" y="0"/>
                    </a:moveTo>
                    <a:lnTo>
                      <a:pt x="13" y="3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Line 1702"/>
              <p:cNvSpPr/>
              <p:nvPr/>
            </p:nvSpPr>
            <p:spPr>
              <a:xfrm>
                <a:off x="7755840" y="3441960"/>
                <a:ext cx="864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1703"/>
              <p:cNvSpPr/>
              <p:nvPr/>
            </p:nvSpPr>
            <p:spPr>
              <a:xfrm>
                <a:off x="7747560" y="3445200"/>
                <a:ext cx="8640" cy="21600"/>
              </a:xfrm>
              <a:custGeom>
                <a:avLst/>
                <a:gdLst/>
                <a:ahLst/>
                <a:rect l="l" t="t" r="r" b="b"/>
                <a:pathLst>
                  <a:path w="13" h="32">
                    <a:moveTo>
                      <a:pt x="0" y="0"/>
                    </a:moveTo>
                    <a:lnTo>
                      <a:pt x="13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Line 1704"/>
              <p:cNvSpPr/>
              <p:nvPr/>
            </p:nvSpPr>
            <p:spPr>
              <a:xfrm>
                <a:off x="7747560" y="3445200"/>
                <a:ext cx="864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1705"/>
              <p:cNvSpPr/>
              <p:nvPr/>
            </p:nvSpPr>
            <p:spPr>
              <a:xfrm>
                <a:off x="7739640" y="3448800"/>
                <a:ext cx="9360" cy="21600"/>
              </a:xfrm>
              <a:custGeom>
                <a:avLst/>
                <a:gdLst/>
                <a:ahLst/>
                <a:rect l="l" t="t" r="r" b="b"/>
                <a:pathLst>
                  <a:path w="14" h="32">
                    <a:moveTo>
                      <a:pt x="0" y="0"/>
                    </a:moveTo>
                    <a:lnTo>
                      <a:pt x="14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Line 1706"/>
              <p:cNvSpPr/>
              <p:nvPr/>
            </p:nvSpPr>
            <p:spPr>
              <a:xfrm>
                <a:off x="7739640" y="3448800"/>
                <a:ext cx="936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1707"/>
              <p:cNvSpPr/>
              <p:nvPr/>
            </p:nvSpPr>
            <p:spPr>
              <a:xfrm>
                <a:off x="7732080" y="3452760"/>
                <a:ext cx="8640" cy="20880"/>
              </a:xfrm>
              <a:custGeom>
                <a:avLst/>
                <a:gdLst/>
                <a:ahLst/>
                <a:rect l="l" t="t" r="r" b="b"/>
                <a:pathLst>
                  <a:path w="13" h="31">
                    <a:moveTo>
                      <a:pt x="0" y="0"/>
                    </a:moveTo>
                    <a:lnTo>
                      <a:pt x="13" y="3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Line 1708"/>
              <p:cNvSpPr/>
              <p:nvPr/>
            </p:nvSpPr>
            <p:spPr>
              <a:xfrm>
                <a:off x="7732080" y="3452760"/>
                <a:ext cx="864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1709"/>
              <p:cNvSpPr/>
              <p:nvPr/>
            </p:nvSpPr>
            <p:spPr>
              <a:xfrm>
                <a:off x="7724160" y="3456000"/>
                <a:ext cx="9360" cy="20160"/>
              </a:xfrm>
              <a:custGeom>
                <a:avLst/>
                <a:gdLst/>
                <a:ahLst/>
                <a:rect l="l" t="t" r="r" b="b"/>
                <a:pathLst>
                  <a:path w="14" h="30">
                    <a:moveTo>
                      <a:pt x="0" y="0"/>
                    </a:moveTo>
                    <a:lnTo>
                      <a:pt x="14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Line 1710"/>
              <p:cNvSpPr/>
              <p:nvPr/>
            </p:nvSpPr>
            <p:spPr>
              <a:xfrm>
                <a:off x="7724160" y="3456000"/>
                <a:ext cx="9360" cy="201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1711"/>
              <p:cNvSpPr/>
              <p:nvPr/>
            </p:nvSpPr>
            <p:spPr>
              <a:xfrm>
                <a:off x="7716600" y="3458880"/>
                <a:ext cx="8640" cy="21600"/>
              </a:xfrm>
              <a:custGeom>
                <a:avLst/>
                <a:gdLst/>
                <a:ahLst/>
                <a:rect l="l" t="t" r="r" b="b"/>
                <a:pathLst>
                  <a:path w="13" h="32">
                    <a:moveTo>
                      <a:pt x="0" y="0"/>
                    </a:moveTo>
                    <a:lnTo>
                      <a:pt x="13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Line 1712"/>
              <p:cNvSpPr/>
              <p:nvPr/>
            </p:nvSpPr>
            <p:spPr>
              <a:xfrm>
                <a:off x="7716600" y="3458880"/>
                <a:ext cx="864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1713"/>
              <p:cNvSpPr/>
              <p:nvPr/>
            </p:nvSpPr>
            <p:spPr>
              <a:xfrm>
                <a:off x="7708680" y="3462840"/>
                <a:ext cx="9360" cy="20880"/>
              </a:xfrm>
              <a:custGeom>
                <a:avLst/>
                <a:gdLst/>
                <a:ahLst/>
                <a:rect l="l" t="t" r="r" b="b"/>
                <a:pathLst>
                  <a:path w="14" h="31">
                    <a:moveTo>
                      <a:pt x="0" y="0"/>
                    </a:moveTo>
                    <a:lnTo>
                      <a:pt x="14" y="3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Line 1714"/>
              <p:cNvSpPr/>
              <p:nvPr/>
            </p:nvSpPr>
            <p:spPr>
              <a:xfrm>
                <a:off x="7708680" y="3462840"/>
                <a:ext cx="936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1715"/>
              <p:cNvSpPr/>
              <p:nvPr/>
            </p:nvSpPr>
            <p:spPr>
              <a:xfrm>
                <a:off x="7701120" y="3466440"/>
                <a:ext cx="8640" cy="20880"/>
              </a:xfrm>
              <a:custGeom>
                <a:avLst/>
                <a:gdLst/>
                <a:ahLst/>
                <a:rect l="l" t="t" r="r" b="b"/>
                <a:pathLst>
                  <a:path w="13" h="31">
                    <a:moveTo>
                      <a:pt x="0" y="0"/>
                    </a:moveTo>
                    <a:lnTo>
                      <a:pt x="13" y="3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Line 1716"/>
              <p:cNvSpPr/>
              <p:nvPr/>
            </p:nvSpPr>
            <p:spPr>
              <a:xfrm>
                <a:off x="7701120" y="3466440"/>
                <a:ext cx="864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1717"/>
              <p:cNvSpPr/>
              <p:nvPr/>
            </p:nvSpPr>
            <p:spPr>
              <a:xfrm>
                <a:off x="7692480" y="3469680"/>
                <a:ext cx="10080" cy="21600"/>
              </a:xfrm>
              <a:custGeom>
                <a:avLst/>
                <a:gdLst/>
                <a:ahLst/>
                <a:rect l="l" t="t" r="r" b="b"/>
                <a:pathLst>
                  <a:path w="15" h="32">
                    <a:moveTo>
                      <a:pt x="0" y="0"/>
                    </a:moveTo>
                    <a:lnTo>
                      <a:pt x="15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Line 1718"/>
              <p:cNvSpPr/>
              <p:nvPr/>
            </p:nvSpPr>
            <p:spPr>
              <a:xfrm>
                <a:off x="7692480" y="3469680"/>
                <a:ext cx="1008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1719"/>
              <p:cNvSpPr/>
              <p:nvPr/>
            </p:nvSpPr>
            <p:spPr>
              <a:xfrm>
                <a:off x="7684920" y="3473640"/>
                <a:ext cx="9360" cy="20160"/>
              </a:xfrm>
              <a:custGeom>
                <a:avLst/>
                <a:gdLst/>
                <a:ahLst/>
                <a:rect l="l" t="t" r="r" b="b"/>
                <a:pathLst>
                  <a:path w="14" h="30">
                    <a:moveTo>
                      <a:pt x="0" y="0"/>
                    </a:moveTo>
                    <a:lnTo>
                      <a:pt x="14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Line 1720"/>
              <p:cNvSpPr/>
              <p:nvPr/>
            </p:nvSpPr>
            <p:spPr>
              <a:xfrm>
                <a:off x="7684920" y="3473640"/>
                <a:ext cx="9360" cy="201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1721"/>
              <p:cNvSpPr/>
              <p:nvPr/>
            </p:nvSpPr>
            <p:spPr>
              <a:xfrm>
                <a:off x="7677000" y="3476520"/>
                <a:ext cx="9360" cy="20880"/>
              </a:xfrm>
              <a:custGeom>
                <a:avLst/>
                <a:gdLst/>
                <a:ahLst/>
                <a:rect l="l" t="t" r="r" b="b"/>
                <a:pathLst>
                  <a:path w="14" h="31">
                    <a:moveTo>
                      <a:pt x="0" y="0"/>
                    </a:moveTo>
                    <a:lnTo>
                      <a:pt x="14" y="3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Line 1722"/>
              <p:cNvSpPr/>
              <p:nvPr/>
            </p:nvSpPr>
            <p:spPr>
              <a:xfrm>
                <a:off x="7677000" y="3476520"/>
                <a:ext cx="936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1723"/>
              <p:cNvSpPr/>
              <p:nvPr/>
            </p:nvSpPr>
            <p:spPr>
              <a:xfrm>
                <a:off x="7669440" y="3479760"/>
                <a:ext cx="8640" cy="21600"/>
              </a:xfrm>
              <a:custGeom>
                <a:avLst/>
                <a:gdLst/>
                <a:ahLst/>
                <a:rect l="l" t="t" r="r" b="b"/>
                <a:pathLst>
                  <a:path w="13" h="32">
                    <a:moveTo>
                      <a:pt x="0" y="0"/>
                    </a:moveTo>
                    <a:lnTo>
                      <a:pt x="13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Line 1724"/>
              <p:cNvSpPr/>
              <p:nvPr/>
            </p:nvSpPr>
            <p:spPr>
              <a:xfrm>
                <a:off x="7669440" y="3479760"/>
                <a:ext cx="864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1725"/>
              <p:cNvSpPr/>
              <p:nvPr/>
            </p:nvSpPr>
            <p:spPr>
              <a:xfrm>
                <a:off x="7661160" y="3483360"/>
                <a:ext cx="9360" cy="21600"/>
              </a:xfrm>
              <a:custGeom>
                <a:avLst/>
                <a:gdLst/>
                <a:ahLst/>
                <a:rect l="l" t="t" r="r" b="b"/>
                <a:pathLst>
                  <a:path w="14" h="32">
                    <a:moveTo>
                      <a:pt x="0" y="0"/>
                    </a:moveTo>
                    <a:lnTo>
                      <a:pt x="14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Line 1726"/>
              <p:cNvSpPr/>
              <p:nvPr/>
            </p:nvSpPr>
            <p:spPr>
              <a:xfrm>
                <a:off x="7661160" y="3483360"/>
                <a:ext cx="936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1727"/>
              <p:cNvSpPr/>
              <p:nvPr/>
            </p:nvSpPr>
            <p:spPr>
              <a:xfrm>
                <a:off x="7653960" y="3487320"/>
                <a:ext cx="8640" cy="20880"/>
              </a:xfrm>
              <a:custGeom>
                <a:avLst/>
                <a:gdLst/>
                <a:ahLst/>
                <a:rect l="l" t="t" r="r" b="b"/>
                <a:pathLst>
                  <a:path w="13" h="31">
                    <a:moveTo>
                      <a:pt x="0" y="0"/>
                    </a:moveTo>
                    <a:lnTo>
                      <a:pt x="13" y="3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Line 1728"/>
              <p:cNvSpPr/>
              <p:nvPr/>
            </p:nvSpPr>
            <p:spPr>
              <a:xfrm>
                <a:off x="7653960" y="3487320"/>
                <a:ext cx="864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1729"/>
              <p:cNvSpPr/>
              <p:nvPr/>
            </p:nvSpPr>
            <p:spPr>
              <a:xfrm>
                <a:off x="7645680" y="3490560"/>
                <a:ext cx="8640" cy="20880"/>
              </a:xfrm>
              <a:custGeom>
                <a:avLst/>
                <a:gdLst/>
                <a:ahLst/>
                <a:rect l="l" t="t" r="r" b="b"/>
                <a:pathLst>
                  <a:path w="13" h="31">
                    <a:moveTo>
                      <a:pt x="0" y="0"/>
                    </a:moveTo>
                    <a:lnTo>
                      <a:pt x="13" y="3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Line 1730"/>
              <p:cNvSpPr/>
              <p:nvPr/>
            </p:nvSpPr>
            <p:spPr>
              <a:xfrm>
                <a:off x="7645680" y="3490560"/>
                <a:ext cx="864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1731"/>
              <p:cNvSpPr/>
              <p:nvPr/>
            </p:nvSpPr>
            <p:spPr>
              <a:xfrm>
                <a:off x="7637760" y="3493440"/>
                <a:ext cx="9360" cy="21600"/>
              </a:xfrm>
              <a:custGeom>
                <a:avLst/>
                <a:gdLst/>
                <a:ahLst/>
                <a:rect l="l" t="t" r="r" b="b"/>
                <a:pathLst>
                  <a:path w="14" h="32">
                    <a:moveTo>
                      <a:pt x="0" y="0"/>
                    </a:moveTo>
                    <a:lnTo>
                      <a:pt x="14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Line 1732"/>
              <p:cNvSpPr/>
              <p:nvPr/>
            </p:nvSpPr>
            <p:spPr>
              <a:xfrm>
                <a:off x="7637760" y="3493440"/>
                <a:ext cx="936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1733"/>
              <p:cNvSpPr/>
              <p:nvPr/>
            </p:nvSpPr>
            <p:spPr>
              <a:xfrm>
                <a:off x="7557840" y="3455640"/>
                <a:ext cx="47160" cy="47160"/>
              </a:xfrm>
              <a:custGeom>
                <a:avLst/>
                <a:gdLst/>
                <a:ahLst/>
                <a:rect l="l" t="t" r="r" b="b"/>
                <a:pathLst>
                  <a:path w="73" h="73">
                    <a:moveTo>
                      <a:pt x="31" y="0"/>
                    </a:moveTo>
                    <a:cubicBezTo>
                      <a:pt x="59" y="21"/>
                      <a:pt x="59" y="21"/>
                      <a:pt x="59" y="21"/>
                    </a:cubicBezTo>
                    <a:cubicBezTo>
                      <a:pt x="71" y="29"/>
                      <a:pt x="73" y="46"/>
                      <a:pt x="64" y="57"/>
                    </a:cubicBezTo>
                    <a:cubicBezTo>
                      <a:pt x="63" y="59"/>
                      <a:pt x="63" y="59"/>
                      <a:pt x="63" y="59"/>
                    </a:cubicBezTo>
                    <a:cubicBezTo>
                      <a:pt x="55" y="70"/>
                      <a:pt x="39" y="73"/>
                      <a:pt x="27" y="64"/>
                    </a:cubicBezTo>
                    <a:cubicBezTo>
                      <a:pt x="0" y="44"/>
                      <a:pt x="0" y="44"/>
                      <a:pt x="0" y="44"/>
                    </a:cubicBezTo>
                    <a:cubicBezTo>
                      <a:pt x="31" y="0"/>
                      <a:pt x="31" y="0"/>
                      <a:pt x="31" y="0"/>
                    </a:cubicBezTo>
                  </a:path>
                </a:pathLst>
              </a:custGeom>
              <a:solidFill>
                <a:srgbClr val="414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1734"/>
              <p:cNvSpPr/>
              <p:nvPr/>
            </p:nvSpPr>
            <p:spPr>
              <a:xfrm>
                <a:off x="7530120" y="3435840"/>
                <a:ext cx="47880" cy="47880"/>
              </a:xfrm>
              <a:custGeom>
                <a:avLst/>
                <a:gdLst/>
                <a:ahLst/>
                <a:rect l="l" t="t" r="r" b="b"/>
                <a:pathLst>
                  <a:path w="74" h="74">
                    <a:moveTo>
                      <a:pt x="43" y="74"/>
                    </a:moveTo>
                    <a:cubicBezTo>
                      <a:pt x="13" y="52"/>
                      <a:pt x="13" y="52"/>
                      <a:pt x="13" y="52"/>
                    </a:cubicBezTo>
                    <a:cubicBezTo>
                      <a:pt x="2" y="43"/>
                      <a:pt x="0" y="27"/>
                      <a:pt x="8" y="16"/>
                    </a:cubicBezTo>
                    <a:cubicBezTo>
                      <a:pt x="9" y="14"/>
                      <a:pt x="9" y="14"/>
                      <a:pt x="9" y="14"/>
                    </a:cubicBezTo>
                    <a:cubicBezTo>
                      <a:pt x="18" y="3"/>
                      <a:pt x="34" y="0"/>
                      <a:pt x="46" y="9"/>
                    </a:cubicBezTo>
                    <a:cubicBezTo>
                      <a:pt x="74" y="30"/>
                      <a:pt x="74" y="30"/>
                      <a:pt x="74" y="30"/>
                    </a:cubicBezTo>
                    <a:cubicBezTo>
                      <a:pt x="43" y="74"/>
                      <a:pt x="43" y="74"/>
                      <a:pt x="43" y="74"/>
                    </a:cubicBezTo>
                  </a:path>
                </a:pathLst>
              </a:custGeom>
              <a:solidFill>
                <a:srgbClr val="ff84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Rectangle 1735"/>
              <p:cNvSpPr/>
              <p:nvPr/>
            </p:nvSpPr>
            <p:spPr>
              <a:xfrm>
                <a:off x="7535520" y="3438720"/>
                <a:ext cx="67320" cy="43920"/>
              </a:xfrm>
              <a:prstGeom prst="rect">
                <a:avLst/>
              </a:prstGeom>
              <a:solidFill>
                <a:srgbClr val="ffa7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1736"/>
              <p:cNvSpPr/>
              <p:nvPr/>
            </p:nvSpPr>
            <p:spPr>
              <a:xfrm>
                <a:off x="7568280" y="3455640"/>
                <a:ext cx="34920" cy="37800"/>
              </a:xfrm>
              <a:custGeom>
                <a:avLst/>
                <a:gdLst/>
                <a:ahLst/>
                <a:rect l="l" t="t" r="r" b="b"/>
                <a:pathLst>
                  <a:path w="55" h="59">
                    <a:moveTo>
                      <a:pt x="16" y="0"/>
                    </a:moveTo>
                    <a:cubicBezTo>
                      <a:pt x="0" y="23"/>
                      <a:pt x="0" y="23"/>
                      <a:pt x="0" y="23"/>
                    </a:cubicBezTo>
                    <a:cubicBezTo>
                      <a:pt x="48" y="59"/>
                      <a:pt x="48" y="59"/>
                      <a:pt x="48" y="59"/>
                    </a:cubicBezTo>
                    <a:cubicBezTo>
                      <a:pt x="49" y="57"/>
                      <a:pt x="49" y="57"/>
                      <a:pt x="49" y="57"/>
                    </a:cubicBezTo>
                    <a:cubicBezTo>
                      <a:pt x="53" y="53"/>
                      <a:pt x="55" y="47"/>
                      <a:pt x="55" y="42"/>
                    </a:cubicBezTo>
                    <a:cubicBezTo>
                      <a:pt x="55" y="34"/>
                      <a:pt x="51" y="26"/>
                      <a:pt x="44" y="21"/>
                    </a:cubicBezTo>
                    <a:cubicBezTo>
                      <a:pt x="16" y="0"/>
                      <a:pt x="16" y="0"/>
                      <a:pt x="16" y="0"/>
                    </a:cubicBezTo>
                  </a:path>
                </a:pathLst>
              </a:custGeom>
              <a:solidFill>
                <a:srgbClr val="413e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737"/>
              <p:cNvSpPr/>
              <p:nvPr/>
            </p:nvSpPr>
            <p:spPr>
              <a:xfrm>
                <a:off x="7535160" y="3438720"/>
                <a:ext cx="43200" cy="31680"/>
              </a:xfrm>
              <a:custGeom>
                <a:avLst/>
                <a:gdLst/>
                <a:ahLst/>
                <a:rect l="l" t="t" r="r" b="b"/>
                <a:pathLst>
                  <a:path w="66" h="49">
                    <a:moveTo>
                      <a:pt x="22" y="0"/>
                    </a:moveTo>
                    <a:cubicBezTo>
                      <a:pt x="22" y="0"/>
                      <a:pt x="22" y="0"/>
                      <a:pt x="22" y="0"/>
                    </a:cubicBezTo>
                    <a:cubicBezTo>
                      <a:pt x="14" y="0"/>
                      <a:pt x="7" y="3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50" y="49"/>
                      <a:pt x="50" y="49"/>
                      <a:pt x="50" y="49"/>
                    </a:cubicBezTo>
                    <a:cubicBezTo>
                      <a:pt x="66" y="26"/>
                      <a:pt x="66" y="26"/>
                      <a:pt x="66" y="26"/>
                    </a:cubicBezTo>
                    <a:cubicBezTo>
                      <a:pt x="38" y="5"/>
                      <a:pt x="38" y="5"/>
                      <a:pt x="38" y="5"/>
                    </a:cubicBezTo>
                    <a:cubicBezTo>
                      <a:pt x="38" y="5"/>
                      <a:pt x="38" y="5"/>
                      <a:pt x="38" y="5"/>
                    </a:cubicBezTo>
                    <a:cubicBezTo>
                      <a:pt x="33" y="1"/>
                      <a:pt x="27" y="0"/>
                      <a:pt x="22" y="0"/>
                    </a:cubicBezTo>
                    <a:cubicBezTo>
                      <a:pt x="22" y="0"/>
                      <a:pt x="22" y="0"/>
                      <a:pt x="22" y="0"/>
                    </a:cubicBezTo>
                  </a:path>
                </a:pathLst>
              </a:custGeom>
              <a:solidFill>
                <a:srgbClr val="ff67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1738"/>
              <p:cNvSpPr/>
              <p:nvPr/>
            </p:nvSpPr>
            <p:spPr>
              <a:xfrm>
                <a:off x="7617240" y="3171960"/>
                <a:ext cx="81360" cy="18000"/>
              </a:xfrm>
              <a:custGeom>
                <a:avLst/>
                <a:gdLst/>
                <a:ahLst/>
                <a:rect l="l" t="t" r="r" b="b"/>
                <a:pathLst>
                  <a:path w="126" h="28">
                    <a:moveTo>
                      <a:pt x="24" y="0"/>
                    </a:moveTo>
                    <a:cubicBezTo>
                      <a:pt x="23" y="0"/>
                      <a:pt x="22" y="1"/>
                      <a:pt x="22" y="2"/>
                    </a:cubicBezTo>
                    <a:cubicBezTo>
                      <a:pt x="16" y="5"/>
                      <a:pt x="0" y="12"/>
                      <a:pt x="0" y="14"/>
                    </a:cubicBezTo>
                    <a:cubicBezTo>
                      <a:pt x="0" y="17"/>
                      <a:pt x="16" y="24"/>
                      <a:pt x="22" y="26"/>
                    </a:cubicBezTo>
                    <a:cubicBezTo>
                      <a:pt x="23" y="27"/>
                      <a:pt x="23" y="28"/>
                      <a:pt x="24" y="28"/>
                    </a:cubicBezTo>
                    <a:cubicBezTo>
                      <a:pt x="25" y="28"/>
                      <a:pt x="26" y="27"/>
                      <a:pt x="26" y="26"/>
                    </a:cubicBezTo>
                    <a:cubicBezTo>
                      <a:pt x="27" y="26"/>
                      <a:pt x="27" y="26"/>
                      <a:pt x="27" y="26"/>
                    </a:cubicBezTo>
                    <a:cubicBezTo>
                      <a:pt x="119" y="25"/>
                      <a:pt x="119" y="25"/>
                      <a:pt x="119" y="25"/>
                    </a:cubicBezTo>
                    <a:cubicBezTo>
                      <a:pt x="123" y="25"/>
                      <a:pt x="126" y="22"/>
                      <a:pt x="126" y="18"/>
                    </a:cubicBezTo>
                    <a:cubicBezTo>
                      <a:pt x="126" y="8"/>
                      <a:pt x="126" y="8"/>
                      <a:pt x="126" y="8"/>
                    </a:cubicBezTo>
                    <a:cubicBezTo>
                      <a:pt x="126" y="4"/>
                      <a:pt x="123" y="1"/>
                      <a:pt x="119" y="1"/>
                    </a:cubicBezTo>
                    <a:cubicBezTo>
                      <a:pt x="26" y="2"/>
                      <a:pt x="26" y="2"/>
                      <a:pt x="26" y="2"/>
                    </a:cubicBezTo>
                    <a:cubicBezTo>
                      <a:pt x="26" y="2"/>
                      <a:pt x="26" y="2"/>
                      <a:pt x="26" y="2"/>
                    </a:cubicBezTo>
                    <a:cubicBezTo>
                      <a:pt x="26" y="1"/>
                      <a:pt x="25" y="0"/>
                      <a:pt x="2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07" name="图片 9" descr=""/>
            <p:cNvPicPr/>
            <p:nvPr/>
          </p:nvPicPr>
          <p:blipFill>
            <a:blip r:embed="rId14"/>
            <a:stretch/>
          </p:blipFill>
          <p:spPr>
            <a:xfrm>
              <a:off x="7448400" y="2474280"/>
              <a:ext cx="448920" cy="44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Rectangle 156"/>
            <p:cNvSpPr/>
            <p:nvPr/>
          </p:nvSpPr>
          <p:spPr>
            <a:xfrm>
              <a:off x="7754040" y="2477520"/>
              <a:ext cx="947160" cy="4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32345"/>
                  </a:solidFill>
                  <a:latin typeface="Arial"/>
                  <a:ea typeface="微软雅黑"/>
                </a:rPr>
                <a:t>   </a:t>
              </a:r>
              <a:r>
                <a:rPr b="0" lang="zh-CN" sz="2000" spc="-1" strike="noStrike">
                  <a:solidFill>
                    <a:srgbClr val="032345"/>
                  </a:solidFill>
                  <a:latin typeface="Arial"/>
                  <a:ea typeface="微软雅黑"/>
                </a:rPr>
                <a:t>na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157"/>
            <p:cNvSpPr/>
            <p:nvPr/>
          </p:nvSpPr>
          <p:spPr>
            <a:xfrm>
              <a:off x="9697680" y="2479320"/>
              <a:ext cx="947880" cy="42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32345"/>
                  </a:solidFill>
                  <a:latin typeface="微软雅黑"/>
                  <a:ea typeface="微软雅黑"/>
                </a:rPr>
                <a:t>birthda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158"/>
            <p:cNvSpPr/>
            <p:nvPr/>
          </p:nvSpPr>
          <p:spPr>
            <a:xfrm>
              <a:off x="7984440" y="3092400"/>
              <a:ext cx="2774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32345"/>
                  </a:solidFill>
                  <a:latin typeface="微软雅黑"/>
                  <a:ea typeface="微软雅黑"/>
                </a:rPr>
                <a:t>bor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59"/>
            <p:cNvSpPr/>
            <p:nvPr/>
          </p:nvSpPr>
          <p:spPr>
            <a:xfrm>
              <a:off x="7924320" y="3751920"/>
              <a:ext cx="2995560" cy="50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32345"/>
                  </a:solidFill>
                  <a:latin typeface="Arial"/>
                  <a:ea typeface="微软雅黑"/>
                </a:rPr>
                <a:t>  </a:t>
              </a:r>
              <a:r>
                <a:rPr b="0" lang="zh-CN" sz="2000" spc="-1" strike="noStrike">
                  <a:solidFill>
                    <a:srgbClr val="032345"/>
                  </a:solidFill>
                  <a:latin typeface="Arial"/>
                  <a:ea typeface="微软雅黑"/>
                </a:rPr>
                <a:t>schoo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网络 509"/>
          <p:cNvSpPr/>
          <p:nvPr/>
        </p:nvSpPr>
        <p:spPr>
          <a:xfrm flipV="1">
            <a:off x="317520" y="180720"/>
            <a:ext cx="482760" cy="482400"/>
          </a:xfrm>
          <a:custGeom>
            <a:avLst/>
            <a:gdLst/>
            <a:ahLst/>
            <a:rect l="l" t="t" r="r" b="b"/>
            <a:pathLst>
              <a:path w="1889279" h="1810503">
                <a:moveTo>
                  <a:pt x="1408636" y="1462945"/>
                </a:moveTo>
                <a:cubicBezTo>
                  <a:pt x="1471912" y="1494489"/>
                  <a:pt x="1528819" y="1532588"/>
                  <a:pt x="1575786" y="1578162"/>
                </a:cubicBezTo>
                <a:cubicBezTo>
                  <a:pt x="1467281" y="1672800"/>
                  <a:pt x="1335058" y="1742507"/>
                  <a:pt x="1188886" y="1779443"/>
                </a:cubicBezTo>
                <a:cubicBezTo>
                  <a:pt x="1278166" y="1700386"/>
                  <a:pt x="1353810" y="1592053"/>
                  <a:pt x="1408636" y="1462945"/>
                </a:cubicBezTo>
                <a:close/>
                <a:moveTo>
                  <a:pt x="494888" y="1445849"/>
                </a:moveTo>
                <a:cubicBezTo>
                  <a:pt x="556747" y="1590569"/>
                  <a:pt x="643865" y="1709702"/>
                  <a:pt x="747068" y="1790925"/>
                </a:cubicBezTo>
                <a:cubicBezTo>
                  <a:pt x="576321" y="1756303"/>
                  <a:pt x="422614" y="1677538"/>
                  <a:pt x="300900" y="1566189"/>
                </a:cubicBezTo>
                <a:cubicBezTo>
                  <a:pt x="355309" y="1517036"/>
                  <a:pt x="421005" y="1476420"/>
                  <a:pt x="494888" y="1445849"/>
                </a:cubicBezTo>
                <a:close/>
                <a:moveTo>
                  <a:pt x="900586" y="1355871"/>
                </a:moveTo>
                <a:lnTo>
                  <a:pt x="900586" y="1808904"/>
                </a:lnTo>
                <a:lnTo>
                  <a:pt x="884222" y="1808113"/>
                </a:lnTo>
                <a:cubicBezTo>
                  <a:pt x="745280" y="1742581"/>
                  <a:pt x="627378" y="1604992"/>
                  <a:pt x="551037" y="1423344"/>
                </a:cubicBezTo>
                <a:cubicBezTo>
                  <a:pt x="655969" y="1381011"/>
                  <a:pt x="774745" y="1357337"/>
                  <a:pt x="900586" y="1355871"/>
                </a:cubicBezTo>
                <a:close/>
                <a:moveTo>
                  <a:pt x="953521" y="1355186"/>
                </a:moveTo>
                <a:cubicBezTo>
                  <a:pt x="1099660" y="1356509"/>
                  <a:pt x="1236550" y="1386650"/>
                  <a:pt x="1354036" y="1440083"/>
                </a:cubicBezTo>
                <a:cubicBezTo>
                  <a:pt x="1283551" y="1605630"/>
                  <a:pt x="1178611" y="1734316"/>
                  <a:pt x="1054486" y="1804443"/>
                </a:cubicBezTo>
                <a:lnTo>
                  <a:pt x="953521" y="1810503"/>
                </a:lnTo>
                <a:lnTo>
                  <a:pt x="953521" y="1355186"/>
                </a:lnTo>
                <a:close/>
                <a:moveTo>
                  <a:pt x="1517159" y="931303"/>
                </a:moveTo>
                <a:lnTo>
                  <a:pt x="1889279" y="931303"/>
                </a:lnTo>
                <a:cubicBezTo>
                  <a:pt x="1883282" y="1167646"/>
                  <a:pt x="1781715" y="1381244"/>
                  <a:pt x="1618873" y="1536894"/>
                </a:cubicBezTo>
                <a:cubicBezTo>
                  <a:pt x="1566437" y="1485571"/>
                  <a:pt x="1502786" y="1442774"/>
                  <a:pt x="1431939" y="1407715"/>
                </a:cubicBezTo>
                <a:cubicBezTo>
                  <a:pt x="1485774" y="1266553"/>
                  <a:pt x="1516428" y="1104135"/>
                  <a:pt x="1517159" y="931303"/>
                </a:cubicBezTo>
                <a:close/>
                <a:moveTo>
                  <a:pt x="953521" y="931303"/>
                </a:moveTo>
                <a:lnTo>
                  <a:pt x="1456842" y="931303"/>
                </a:lnTo>
                <a:cubicBezTo>
                  <a:pt x="1456123" y="1096196"/>
                  <a:pt x="1427268" y="1250986"/>
                  <a:pt x="1375819" y="1384691"/>
                </a:cubicBezTo>
                <a:cubicBezTo>
                  <a:pt x="1251537" y="1327928"/>
                  <a:pt x="1107288" y="1296191"/>
                  <a:pt x="953521" y="1294902"/>
                </a:cubicBezTo>
                <a:lnTo>
                  <a:pt x="953521" y="931303"/>
                </a:lnTo>
                <a:close/>
                <a:moveTo>
                  <a:pt x="448568" y="931303"/>
                </a:moveTo>
                <a:lnTo>
                  <a:pt x="900586" y="931303"/>
                </a:lnTo>
                <a:lnTo>
                  <a:pt x="900586" y="1295603"/>
                </a:lnTo>
                <a:cubicBezTo>
                  <a:pt x="766605" y="1297053"/>
                  <a:pt x="640053" y="1322469"/>
                  <a:pt x="528061" y="1368046"/>
                </a:cubicBezTo>
                <a:cubicBezTo>
                  <a:pt x="478984" y="1238632"/>
                  <a:pt x="450499" y="1089843"/>
                  <a:pt x="448568" y="931303"/>
                </a:cubicBezTo>
                <a:close/>
                <a:moveTo>
                  <a:pt x="0" y="931303"/>
                </a:moveTo>
                <a:lnTo>
                  <a:pt x="388264" y="931303"/>
                </a:lnTo>
                <a:cubicBezTo>
                  <a:pt x="390220" y="1097785"/>
                  <a:pt x="420532" y="1254193"/>
                  <a:pt x="473139" y="1390578"/>
                </a:cubicBezTo>
                <a:cubicBezTo>
                  <a:pt x="391203" y="1423988"/>
                  <a:pt x="318506" y="1469260"/>
                  <a:pt x="258353" y="1524144"/>
                </a:cubicBezTo>
                <a:cubicBezTo>
                  <a:pt x="102364" y="1370026"/>
                  <a:pt x="5849" y="1161456"/>
                  <a:pt x="0" y="931303"/>
                </a:cubicBezTo>
                <a:close/>
                <a:moveTo>
                  <a:pt x="536834" y="421694"/>
                </a:moveTo>
                <a:cubicBezTo>
                  <a:pt x="646682" y="464986"/>
                  <a:pt x="770110" y="489176"/>
                  <a:pt x="900586" y="490537"/>
                </a:cubicBezTo>
                <a:lnTo>
                  <a:pt x="900586" y="875390"/>
                </a:lnTo>
                <a:lnTo>
                  <a:pt x="448805" y="875390"/>
                </a:lnTo>
                <a:cubicBezTo>
                  <a:pt x="451150" y="709592"/>
                  <a:pt x="482649" y="554587"/>
                  <a:pt x="536834" y="421694"/>
                </a:cubicBezTo>
                <a:close/>
                <a:moveTo>
                  <a:pt x="1356131" y="409527"/>
                </a:moveTo>
                <a:cubicBezTo>
                  <a:pt x="1415590" y="544412"/>
                  <a:pt x="1451132" y="703874"/>
                  <a:pt x="1455052" y="875390"/>
                </a:cubicBezTo>
                <a:lnTo>
                  <a:pt x="953521" y="875390"/>
                </a:lnTo>
                <a:lnTo>
                  <a:pt x="953521" y="491238"/>
                </a:lnTo>
                <a:cubicBezTo>
                  <a:pt x="1099303" y="490092"/>
                  <a:pt x="1236528" y="461431"/>
                  <a:pt x="1356131" y="409527"/>
                </a:cubicBezTo>
                <a:close/>
                <a:moveTo>
                  <a:pt x="271202" y="273767"/>
                </a:moveTo>
                <a:cubicBezTo>
                  <a:pt x="330895" y="324894"/>
                  <a:pt x="401533" y="367494"/>
                  <a:pt x="480768" y="398692"/>
                </a:cubicBezTo>
                <a:cubicBezTo>
                  <a:pt x="424147" y="539118"/>
                  <a:pt x="390867" y="701724"/>
                  <a:pt x="388496" y="875390"/>
                </a:cubicBezTo>
                <a:lnTo>
                  <a:pt x="238" y="875390"/>
                </a:lnTo>
                <a:cubicBezTo>
                  <a:pt x="7162" y="640451"/>
                  <a:pt x="108645" y="428248"/>
                  <a:pt x="271202" y="273767"/>
                </a:cubicBezTo>
                <a:close/>
                <a:moveTo>
                  <a:pt x="1605567" y="261436"/>
                </a:moveTo>
                <a:cubicBezTo>
                  <a:pt x="1775300" y="417133"/>
                  <a:pt x="1881942" y="634296"/>
                  <a:pt x="1889035" y="875390"/>
                </a:cubicBezTo>
                <a:lnTo>
                  <a:pt x="1515364" y="875390"/>
                </a:lnTo>
                <a:cubicBezTo>
                  <a:pt x="1511419" y="696081"/>
                  <a:pt x="1474168" y="529014"/>
                  <a:pt x="1413107" y="386152"/>
                </a:cubicBezTo>
                <a:cubicBezTo>
                  <a:pt x="1485941" y="353453"/>
                  <a:pt x="1551126" y="311628"/>
                  <a:pt x="1605567" y="261436"/>
                </a:cubicBezTo>
                <a:close/>
                <a:moveTo>
                  <a:pt x="748157" y="19413"/>
                </a:moveTo>
                <a:cubicBezTo>
                  <a:pt x="649482" y="96557"/>
                  <a:pt x="565491" y="208310"/>
                  <a:pt x="504779" y="344256"/>
                </a:cubicBezTo>
                <a:cubicBezTo>
                  <a:pt x="432706" y="315858"/>
                  <a:pt x="368354" y="277545"/>
                  <a:pt x="313920" y="231604"/>
                </a:cubicBezTo>
                <a:cubicBezTo>
                  <a:pt x="434240" y="127070"/>
                  <a:pt x="583275" y="52667"/>
                  <a:pt x="748157" y="19413"/>
                </a:cubicBezTo>
                <a:close/>
                <a:moveTo>
                  <a:pt x="1137621" y="18543"/>
                </a:moveTo>
                <a:cubicBezTo>
                  <a:pt x="1297904" y="50310"/>
                  <a:pt x="1443338" y="120918"/>
                  <a:pt x="1562575" y="219802"/>
                </a:cubicBezTo>
                <a:cubicBezTo>
                  <a:pt x="1512842" y="265093"/>
                  <a:pt x="1453308" y="302843"/>
                  <a:pt x="1386970" y="332857"/>
                </a:cubicBezTo>
                <a:cubicBezTo>
                  <a:pt x="1323718" y="199817"/>
                  <a:pt x="1237626" y="91674"/>
                  <a:pt x="1137621" y="18543"/>
                </a:cubicBezTo>
                <a:close/>
                <a:moveTo>
                  <a:pt x="900586" y="1702"/>
                </a:moveTo>
                <a:lnTo>
                  <a:pt x="900586" y="430269"/>
                </a:lnTo>
                <a:cubicBezTo>
                  <a:pt x="778345" y="428899"/>
                  <a:pt x="662774" y="406468"/>
                  <a:pt x="560047" y="366408"/>
                </a:cubicBezTo>
                <a:cubicBezTo>
                  <a:pt x="637783" y="193348"/>
                  <a:pt x="753999" y="63227"/>
                  <a:pt x="890213" y="2203"/>
                </a:cubicBezTo>
                <a:lnTo>
                  <a:pt x="900586" y="1702"/>
                </a:lnTo>
                <a:close/>
                <a:moveTo>
                  <a:pt x="953521" y="0"/>
                </a:moveTo>
                <a:lnTo>
                  <a:pt x="981035" y="1330"/>
                </a:lnTo>
                <a:cubicBezTo>
                  <a:pt x="1124068" y="53565"/>
                  <a:pt x="1247786" y="180867"/>
                  <a:pt x="1332000" y="354889"/>
                </a:cubicBezTo>
                <a:cubicBezTo>
                  <a:pt x="1219743" y="403080"/>
                  <a:pt x="1090709" y="429800"/>
                  <a:pt x="953521" y="430954"/>
                </a:cubicBezTo>
                <a:lnTo>
                  <a:pt x="953521" y="0"/>
                </a:lnTo>
                <a:close/>
              </a:path>
            </a:pathLst>
          </a:cu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文本框 4"/>
          <p:cNvSpPr/>
          <p:nvPr/>
        </p:nvSpPr>
        <p:spPr>
          <a:xfrm>
            <a:off x="896760" y="18108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个人简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Group 162"/>
          <p:cNvGrpSpPr/>
          <p:nvPr/>
        </p:nvGrpSpPr>
        <p:grpSpPr>
          <a:xfrm>
            <a:off x="689040" y="852480"/>
            <a:ext cx="3902040" cy="3720960"/>
            <a:chOff x="689040" y="852480"/>
            <a:chExt cx="3902040" cy="3720960"/>
          </a:xfrm>
        </p:grpSpPr>
        <p:grpSp>
          <p:nvGrpSpPr>
            <p:cNvPr id="215" name="Group 163"/>
            <p:cNvGrpSpPr/>
            <p:nvPr/>
          </p:nvGrpSpPr>
          <p:grpSpPr>
            <a:xfrm>
              <a:off x="689040" y="852480"/>
              <a:ext cx="3751920" cy="3720960"/>
              <a:chOff x="689040" y="852480"/>
              <a:chExt cx="3751920" cy="3720960"/>
            </a:xfrm>
          </p:grpSpPr>
          <p:grpSp>
            <p:nvGrpSpPr>
              <p:cNvPr id="216" name="Group 164"/>
              <p:cNvGrpSpPr/>
              <p:nvPr/>
            </p:nvGrpSpPr>
            <p:grpSpPr>
              <a:xfrm>
                <a:off x="1473840" y="1263960"/>
                <a:ext cx="2149560" cy="2931480"/>
                <a:chOff x="1473840" y="1263960"/>
                <a:chExt cx="2149560" cy="2931480"/>
              </a:xfrm>
            </p:grpSpPr>
            <p:grpSp>
              <p:nvGrpSpPr>
                <p:cNvPr id="217" name="Group 165"/>
                <p:cNvGrpSpPr/>
                <p:nvPr/>
              </p:nvGrpSpPr>
              <p:grpSpPr>
                <a:xfrm>
                  <a:off x="1473840" y="1264320"/>
                  <a:ext cx="2149560" cy="2931120"/>
                  <a:chOff x="1473840" y="1264320"/>
                  <a:chExt cx="2149560" cy="2931120"/>
                </a:xfrm>
              </p:grpSpPr>
              <p:sp>
                <p:nvSpPr>
                  <p:cNvPr id="218" name="Line 166"/>
                  <p:cNvSpPr/>
                  <p:nvPr/>
                </p:nvSpPr>
                <p:spPr>
                  <a:xfrm flipH="1">
                    <a:off x="1473840" y="1264320"/>
                    <a:ext cx="1043280" cy="841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Line 167"/>
                  <p:cNvSpPr/>
                  <p:nvPr/>
                </p:nvSpPr>
                <p:spPr>
                  <a:xfrm>
                    <a:off x="1485720" y="2107080"/>
                    <a:ext cx="8640" cy="1255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Line 168"/>
                  <p:cNvSpPr/>
                  <p:nvPr/>
                </p:nvSpPr>
                <p:spPr>
                  <a:xfrm>
                    <a:off x="3614760" y="2068200"/>
                    <a:ext cx="8640" cy="1255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Line 169"/>
                  <p:cNvSpPr/>
                  <p:nvPr/>
                </p:nvSpPr>
                <p:spPr>
                  <a:xfrm flipH="1">
                    <a:off x="2589120" y="3362760"/>
                    <a:ext cx="1021320" cy="832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Line 170"/>
                  <p:cNvSpPr/>
                  <p:nvPr/>
                </p:nvSpPr>
                <p:spPr>
                  <a:xfrm flipH="1" flipV="1">
                    <a:off x="1475280" y="3415320"/>
                    <a:ext cx="1112040" cy="758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Line 171"/>
                  <p:cNvSpPr/>
                  <p:nvPr/>
                </p:nvSpPr>
                <p:spPr>
                  <a:xfrm flipH="1" flipV="1">
                    <a:off x="2539440" y="1276560"/>
                    <a:ext cx="1081080" cy="767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4" name="Group 172"/>
                <p:cNvGrpSpPr/>
                <p:nvPr/>
              </p:nvGrpSpPr>
              <p:grpSpPr>
                <a:xfrm>
                  <a:off x="1627560" y="1527120"/>
                  <a:ext cx="1823040" cy="2486520"/>
                  <a:chOff x="1627560" y="1527120"/>
                  <a:chExt cx="1823040" cy="2486520"/>
                </a:xfrm>
              </p:grpSpPr>
              <p:sp>
                <p:nvSpPr>
                  <p:cNvPr id="225" name="Line 173"/>
                  <p:cNvSpPr/>
                  <p:nvPr/>
                </p:nvSpPr>
                <p:spPr>
                  <a:xfrm flipH="1">
                    <a:off x="1627560" y="1527120"/>
                    <a:ext cx="884880" cy="713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Line 174"/>
                  <p:cNvSpPr/>
                  <p:nvPr/>
                </p:nvSpPr>
                <p:spPr>
                  <a:xfrm>
                    <a:off x="1637640" y="2242080"/>
                    <a:ext cx="7200" cy="1064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Line 175"/>
                  <p:cNvSpPr/>
                  <p:nvPr/>
                </p:nvSpPr>
                <p:spPr>
                  <a:xfrm>
                    <a:off x="3443400" y="2208960"/>
                    <a:ext cx="7200" cy="1065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Line 176"/>
                  <p:cNvSpPr/>
                  <p:nvPr/>
                </p:nvSpPr>
                <p:spPr>
                  <a:xfrm flipH="1">
                    <a:off x="2573640" y="3307320"/>
                    <a:ext cx="866520" cy="706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Line 177"/>
                  <p:cNvSpPr/>
                  <p:nvPr/>
                </p:nvSpPr>
                <p:spPr>
                  <a:xfrm flipH="1" flipV="1">
                    <a:off x="1628640" y="3351600"/>
                    <a:ext cx="943560" cy="643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Line 178"/>
                  <p:cNvSpPr/>
                  <p:nvPr/>
                </p:nvSpPr>
                <p:spPr>
                  <a:xfrm flipH="1" flipV="1">
                    <a:off x="2531880" y="1537560"/>
                    <a:ext cx="917280" cy="651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1" name="Group 179"/>
                <p:cNvGrpSpPr/>
                <p:nvPr/>
              </p:nvGrpSpPr>
              <p:grpSpPr>
                <a:xfrm>
                  <a:off x="1811520" y="1778040"/>
                  <a:ext cx="1456200" cy="1985760"/>
                  <a:chOff x="1811520" y="1778040"/>
                  <a:chExt cx="1456200" cy="1985760"/>
                </a:xfrm>
              </p:grpSpPr>
              <p:sp>
                <p:nvSpPr>
                  <p:cNvPr id="232" name="Line 180"/>
                  <p:cNvSpPr/>
                  <p:nvPr/>
                </p:nvSpPr>
                <p:spPr>
                  <a:xfrm flipH="1">
                    <a:off x="1811520" y="1778040"/>
                    <a:ext cx="706680" cy="569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Line 181"/>
                  <p:cNvSpPr/>
                  <p:nvPr/>
                </p:nvSpPr>
                <p:spPr>
                  <a:xfrm>
                    <a:off x="1819800" y="2349000"/>
                    <a:ext cx="5760" cy="850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Line 182"/>
                  <p:cNvSpPr/>
                  <p:nvPr/>
                </p:nvSpPr>
                <p:spPr>
                  <a:xfrm>
                    <a:off x="3261960" y="2322720"/>
                    <a:ext cx="5760" cy="850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Line 183"/>
                  <p:cNvSpPr/>
                  <p:nvPr/>
                </p:nvSpPr>
                <p:spPr>
                  <a:xfrm flipH="1">
                    <a:off x="2567520" y="3199680"/>
                    <a:ext cx="691920" cy="564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Line 184"/>
                  <p:cNvSpPr/>
                  <p:nvPr/>
                </p:nvSpPr>
                <p:spPr>
                  <a:xfrm flipH="1" flipV="1">
                    <a:off x="1812960" y="3235320"/>
                    <a:ext cx="753120" cy="514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Line 185"/>
                  <p:cNvSpPr/>
                  <p:nvPr/>
                </p:nvSpPr>
                <p:spPr>
                  <a:xfrm flipH="1" flipV="1">
                    <a:off x="2533680" y="1786320"/>
                    <a:ext cx="732240" cy="520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" name="Group 186"/>
                <p:cNvGrpSpPr/>
                <p:nvPr/>
              </p:nvGrpSpPr>
              <p:grpSpPr>
                <a:xfrm>
                  <a:off x="1997280" y="2045520"/>
                  <a:ext cx="1067760" cy="1457280"/>
                  <a:chOff x="1997280" y="2045520"/>
                  <a:chExt cx="1067760" cy="1457280"/>
                </a:xfrm>
              </p:grpSpPr>
              <p:sp>
                <p:nvSpPr>
                  <p:cNvPr id="239" name="Line 187"/>
                  <p:cNvSpPr/>
                  <p:nvPr/>
                </p:nvSpPr>
                <p:spPr>
                  <a:xfrm flipH="1">
                    <a:off x="1997280" y="2045520"/>
                    <a:ext cx="518040" cy="418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Line 188"/>
                  <p:cNvSpPr/>
                  <p:nvPr/>
                </p:nvSpPr>
                <p:spPr>
                  <a:xfrm>
                    <a:off x="2003400" y="2464560"/>
                    <a:ext cx="4320" cy="624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Line 189"/>
                  <p:cNvSpPr/>
                  <p:nvPr/>
                </p:nvSpPr>
                <p:spPr>
                  <a:xfrm>
                    <a:off x="3060720" y="2445120"/>
                    <a:ext cx="4320" cy="624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Line 190"/>
                  <p:cNvSpPr/>
                  <p:nvPr/>
                </p:nvSpPr>
                <p:spPr>
                  <a:xfrm flipH="1">
                    <a:off x="2551320" y="3088800"/>
                    <a:ext cx="507240" cy="414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Line 191"/>
                  <p:cNvSpPr/>
                  <p:nvPr/>
                </p:nvSpPr>
                <p:spPr>
                  <a:xfrm flipH="1" flipV="1">
                    <a:off x="1998360" y="3115080"/>
                    <a:ext cx="552240" cy="377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Line 192"/>
                  <p:cNvSpPr/>
                  <p:nvPr/>
                </p:nvSpPr>
                <p:spPr>
                  <a:xfrm flipH="1" flipV="1">
                    <a:off x="2526480" y="2051640"/>
                    <a:ext cx="536760" cy="381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5" name="Group 193"/>
                <p:cNvGrpSpPr/>
                <p:nvPr/>
              </p:nvGrpSpPr>
              <p:grpSpPr>
                <a:xfrm>
                  <a:off x="2181240" y="2310120"/>
                  <a:ext cx="705600" cy="963000"/>
                  <a:chOff x="2181240" y="2310120"/>
                  <a:chExt cx="705600" cy="963000"/>
                </a:xfrm>
              </p:grpSpPr>
              <p:sp>
                <p:nvSpPr>
                  <p:cNvPr id="246" name="Line 194"/>
                  <p:cNvSpPr/>
                  <p:nvPr/>
                </p:nvSpPr>
                <p:spPr>
                  <a:xfrm flipH="1">
                    <a:off x="2181240" y="2310120"/>
                    <a:ext cx="342360" cy="276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Line 195"/>
                  <p:cNvSpPr/>
                  <p:nvPr/>
                </p:nvSpPr>
                <p:spPr>
                  <a:xfrm>
                    <a:off x="2185560" y="2586960"/>
                    <a:ext cx="2520" cy="412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Line 196"/>
                  <p:cNvSpPr/>
                  <p:nvPr/>
                </p:nvSpPr>
                <p:spPr>
                  <a:xfrm>
                    <a:off x="2883960" y="2574000"/>
                    <a:ext cx="2880" cy="412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Line 197"/>
                  <p:cNvSpPr/>
                  <p:nvPr/>
                </p:nvSpPr>
                <p:spPr>
                  <a:xfrm flipH="1">
                    <a:off x="2547360" y="2999520"/>
                    <a:ext cx="335160" cy="273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Line 198"/>
                  <p:cNvSpPr/>
                  <p:nvPr/>
                </p:nvSpPr>
                <p:spPr>
                  <a:xfrm flipH="1" flipV="1">
                    <a:off x="2181960" y="3016800"/>
                    <a:ext cx="365040" cy="249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Line 199"/>
                  <p:cNvSpPr/>
                  <p:nvPr/>
                </p:nvSpPr>
                <p:spPr>
                  <a:xfrm flipH="1" flipV="1">
                    <a:off x="2530800" y="2314080"/>
                    <a:ext cx="354600" cy="252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2" name="Line 200"/>
                <p:cNvSpPr/>
                <p:nvPr/>
              </p:nvSpPr>
              <p:spPr>
                <a:xfrm>
                  <a:off x="2517480" y="1263960"/>
                  <a:ext cx="360" cy="1023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Line 201"/>
                <p:cNvSpPr/>
                <p:nvPr/>
              </p:nvSpPr>
              <p:spPr>
                <a:xfrm>
                  <a:off x="2549520" y="3242160"/>
                  <a:ext cx="58680" cy="94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Line 202"/>
                <p:cNvSpPr/>
                <p:nvPr/>
              </p:nvSpPr>
              <p:spPr>
                <a:xfrm>
                  <a:off x="1504080" y="2105640"/>
                  <a:ext cx="668160" cy="485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Line 203"/>
                <p:cNvSpPr/>
                <p:nvPr/>
              </p:nvSpPr>
              <p:spPr>
                <a:xfrm>
                  <a:off x="2904120" y="3009960"/>
                  <a:ext cx="686880" cy="342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Line 204"/>
                <p:cNvSpPr/>
                <p:nvPr/>
              </p:nvSpPr>
              <p:spPr>
                <a:xfrm flipH="1">
                  <a:off x="1514520" y="3021480"/>
                  <a:ext cx="68256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Line 205"/>
                <p:cNvSpPr/>
                <p:nvPr/>
              </p:nvSpPr>
              <p:spPr>
                <a:xfrm flipH="1">
                  <a:off x="2873160" y="2064600"/>
                  <a:ext cx="727920" cy="518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8" name="Rectangle 206"/>
              <p:cNvSpPr/>
              <p:nvPr/>
            </p:nvSpPr>
            <p:spPr>
              <a:xfrm>
                <a:off x="2090520" y="852480"/>
                <a:ext cx="947520" cy="43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d92817"/>
                    </a:solidFill>
                    <a:latin typeface="Arial"/>
                    <a:ea typeface="微软雅黑"/>
                  </a:rPr>
                  <a:t>学习能力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Rectangle 207"/>
              <p:cNvSpPr/>
              <p:nvPr/>
            </p:nvSpPr>
            <p:spPr>
              <a:xfrm>
                <a:off x="3493800" y="1604880"/>
                <a:ext cx="947160" cy="43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d92817"/>
                    </a:solidFill>
                    <a:latin typeface="Arial"/>
                    <a:ea typeface="微软雅黑"/>
                  </a:rPr>
                  <a:t>行业熟知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Rectangle 208"/>
              <p:cNvSpPr/>
              <p:nvPr/>
            </p:nvSpPr>
            <p:spPr>
              <a:xfrm>
                <a:off x="788040" y="1659600"/>
                <a:ext cx="947160" cy="43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d92817"/>
                    </a:solidFill>
                    <a:latin typeface="Arial"/>
                    <a:ea typeface="微软雅黑"/>
                  </a:rPr>
                  <a:t>执行力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Rectangle 209"/>
              <p:cNvSpPr/>
              <p:nvPr/>
            </p:nvSpPr>
            <p:spPr>
              <a:xfrm>
                <a:off x="689040" y="3354120"/>
                <a:ext cx="947160" cy="43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d92817"/>
                    </a:solidFill>
                    <a:latin typeface="Arial"/>
                    <a:ea typeface="微软雅黑"/>
                  </a:rPr>
                  <a:t>团队协作力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Rectangle 210"/>
              <p:cNvSpPr/>
              <p:nvPr/>
            </p:nvSpPr>
            <p:spPr>
              <a:xfrm>
                <a:off x="2131560" y="4142880"/>
                <a:ext cx="947160" cy="43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d92817"/>
                    </a:solidFill>
                    <a:latin typeface="Arial"/>
                    <a:ea typeface="微软雅黑"/>
                  </a:rPr>
                  <a:t>资源协调力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Rectangle 211"/>
              <p:cNvSpPr/>
              <p:nvPr/>
            </p:nvSpPr>
            <p:spPr>
              <a:xfrm>
                <a:off x="3478680" y="3267360"/>
                <a:ext cx="947160" cy="43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d92817"/>
                    </a:solidFill>
                    <a:latin typeface="Arial"/>
                    <a:ea typeface="微软雅黑"/>
                  </a:rPr>
                  <a:t>沟通能力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Oval 212"/>
              <p:cNvSpPr/>
              <p:nvPr/>
            </p:nvSpPr>
            <p:spPr>
              <a:xfrm>
                <a:off x="2487240" y="1243440"/>
                <a:ext cx="75600" cy="75600"/>
              </a:xfrm>
              <a:prstGeom prst="ellipse">
                <a:avLst/>
              </a:prstGeom>
              <a:solidFill>
                <a:srgbClr val="d92817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Oval 213"/>
              <p:cNvSpPr/>
              <p:nvPr/>
            </p:nvSpPr>
            <p:spPr>
              <a:xfrm>
                <a:off x="1448280" y="2078640"/>
                <a:ext cx="75600" cy="75600"/>
              </a:xfrm>
              <a:prstGeom prst="ellipse">
                <a:avLst/>
              </a:prstGeom>
              <a:solidFill>
                <a:srgbClr val="d92817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Oval 214"/>
              <p:cNvSpPr/>
              <p:nvPr/>
            </p:nvSpPr>
            <p:spPr>
              <a:xfrm>
                <a:off x="1475640" y="3383280"/>
                <a:ext cx="75240" cy="75600"/>
              </a:xfrm>
              <a:prstGeom prst="ellipse">
                <a:avLst/>
              </a:prstGeom>
              <a:solidFill>
                <a:srgbClr val="d92817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Oval 215"/>
              <p:cNvSpPr/>
              <p:nvPr/>
            </p:nvSpPr>
            <p:spPr>
              <a:xfrm>
                <a:off x="2573280" y="3952440"/>
                <a:ext cx="75240" cy="75600"/>
              </a:xfrm>
              <a:prstGeom prst="ellipse">
                <a:avLst/>
              </a:prstGeom>
              <a:solidFill>
                <a:srgbClr val="d92817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Oval 216"/>
              <p:cNvSpPr/>
              <p:nvPr/>
            </p:nvSpPr>
            <p:spPr>
              <a:xfrm>
                <a:off x="3211200" y="3161160"/>
                <a:ext cx="75600" cy="75600"/>
              </a:xfrm>
              <a:prstGeom prst="ellipse">
                <a:avLst/>
              </a:prstGeom>
              <a:solidFill>
                <a:srgbClr val="d92817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Oval 217"/>
              <p:cNvSpPr/>
              <p:nvPr/>
            </p:nvSpPr>
            <p:spPr>
              <a:xfrm>
                <a:off x="3225240" y="2273040"/>
                <a:ext cx="75600" cy="75240"/>
              </a:xfrm>
              <a:prstGeom prst="ellipse">
                <a:avLst/>
              </a:prstGeom>
              <a:solidFill>
                <a:srgbClr val="d92817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Line 218"/>
              <p:cNvSpPr/>
              <p:nvPr/>
            </p:nvSpPr>
            <p:spPr>
              <a:xfrm>
                <a:off x="2529000" y="1290960"/>
                <a:ext cx="707760" cy="98532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Line 219"/>
              <p:cNvSpPr/>
              <p:nvPr/>
            </p:nvSpPr>
            <p:spPr>
              <a:xfrm>
                <a:off x="3267720" y="2334240"/>
                <a:ext cx="10800" cy="84456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Line 220"/>
              <p:cNvSpPr/>
              <p:nvPr/>
            </p:nvSpPr>
            <p:spPr>
              <a:xfrm>
                <a:off x="1493280" y="2142720"/>
                <a:ext cx="7920" cy="123120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Line 221"/>
              <p:cNvSpPr/>
              <p:nvPr/>
            </p:nvSpPr>
            <p:spPr>
              <a:xfrm flipH="1">
                <a:off x="1500840" y="1305000"/>
                <a:ext cx="971640" cy="77724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Line 222"/>
              <p:cNvSpPr/>
              <p:nvPr/>
            </p:nvSpPr>
            <p:spPr>
              <a:xfrm flipH="1" flipV="1">
                <a:off x="1546560" y="3418920"/>
                <a:ext cx="1050840" cy="57888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Line 223"/>
              <p:cNvSpPr/>
              <p:nvPr/>
            </p:nvSpPr>
            <p:spPr>
              <a:xfrm flipV="1">
                <a:off x="2611800" y="3226680"/>
                <a:ext cx="630360" cy="72900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" name="文本框 17"/>
            <p:cNvSpPr/>
            <p:nvPr/>
          </p:nvSpPr>
          <p:spPr>
            <a:xfrm>
              <a:off x="2269080" y="216108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9900"/>
                  </a:solidFill>
                  <a:latin typeface="微软雅黑"/>
                  <a:ea typeface="微软雅黑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文本框 17"/>
            <p:cNvSpPr/>
            <p:nvPr/>
          </p:nvSpPr>
          <p:spPr>
            <a:xfrm>
              <a:off x="2257200" y="187164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9900"/>
                  </a:solidFill>
                  <a:latin typeface="微软雅黑"/>
                  <a:ea typeface="微软雅黑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文本框 17"/>
            <p:cNvSpPr/>
            <p:nvPr/>
          </p:nvSpPr>
          <p:spPr>
            <a:xfrm>
              <a:off x="2259720" y="163800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9900"/>
                  </a:solidFill>
                  <a:latin typeface="微软雅黑"/>
                  <a:ea typeface="微软雅黑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文本框 17"/>
            <p:cNvSpPr/>
            <p:nvPr/>
          </p:nvSpPr>
          <p:spPr>
            <a:xfrm>
              <a:off x="2257200" y="1374480"/>
              <a:ext cx="260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9900"/>
                  </a:solidFill>
                  <a:latin typeface="微软雅黑"/>
                  <a:ea typeface="微软雅黑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文本框 17"/>
            <p:cNvSpPr/>
            <p:nvPr/>
          </p:nvSpPr>
          <p:spPr>
            <a:xfrm>
              <a:off x="2259360" y="1125360"/>
              <a:ext cx="260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9900"/>
                  </a:solidFill>
                  <a:latin typeface="微软雅黑"/>
                  <a:ea typeface="微软雅黑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文本框 17"/>
            <p:cNvSpPr/>
            <p:nvPr/>
          </p:nvSpPr>
          <p:spPr>
            <a:xfrm>
              <a:off x="4330800" y="1407240"/>
              <a:ext cx="260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网络 509"/>
          <p:cNvSpPr/>
          <p:nvPr/>
        </p:nvSpPr>
        <p:spPr>
          <a:xfrm flipV="1">
            <a:off x="317520" y="180720"/>
            <a:ext cx="482760" cy="482400"/>
          </a:xfrm>
          <a:custGeom>
            <a:avLst/>
            <a:gdLst/>
            <a:ahLst/>
            <a:rect l="l" t="t" r="r" b="b"/>
            <a:pathLst>
              <a:path w="1889279" h="1810503">
                <a:moveTo>
                  <a:pt x="1408636" y="1462945"/>
                </a:moveTo>
                <a:cubicBezTo>
                  <a:pt x="1471912" y="1494489"/>
                  <a:pt x="1528819" y="1532588"/>
                  <a:pt x="1575786" y="1578162"/>
                </a:cubicBezTo>
                <a:cubicBezTo>
                  <a:pt x="1467281" y="1672800"/>
                  <a:pt x="1335058" y="1742507"/>
                  <a:pt x="1188886" y="1779443"/>
                </a:cubicBezTo>
                <a:cubicBezTo>
                  <a:pt x="1278166" y="1700386"/>
                  <a:pt x="1353810" y="1592053"/>
                  <a:pt x="1408636" y="1462945"/>
                </a:cubicBezTo>
                <a:close/>
                <a:moveTo>
                  <a:pt x="494888" y="1445849"/>
                </a:moveTo>
                <a:cubicBezTo>
                  <a:pt x="556747" y="1590569"/>
                  <a:pt x="643865" y="1709702"/>
                  <a:pt x="747068" y="1790925"/>
                </a:cubicBezTo>
                <a:cubicBezTo>
                  <a:pt x="576321" y="1756303"/>
                  <a:pt x="422614" y="1677538"/>
                  <a:pt x="300900" y="1566189"/>
                </a:cubicBezTo>
                <a:cubicBezTo>
                  <a:pt x="355309" y="1517036"/>
                  <a:pt x="421005" y="1476420"/>
                  <a:pt x="494888" y="1445849"/>
                </a:cubicBezTo>
                <a:close/>
                <a:moveTo>
                  <a:pt x="900586" y="1355871"/>
                </a:moveTo>
                <a:lnTo>
                  <a:pt x="900586" y="1808904"/>
                </a:lnTo>
                <a:lnTo>
                  <a:pt x="884222" y="1808113"/>
                </a:lnTo>
                <a:cubicBezTo>
                  <a:pt x="745280" y="1742581"/>
                  <a:pt x="627378" y="1604992"/>
                  <a:pt x="551037" y="1423344"/>
                </a:cubicBezTo>
                <a:cubicBezTo>
                  <a:pt x="655969" y="1381011"/>
                  <a:pt x="774745" y="1357337"/>
                  <a:pt x="900586" y="1355871"/>
                </a:cubicBezTo>
                <a:close/>
                <a:moveTo>
                  <a:pt x="953521" y="1355186"/>
                </a:moveTo>
                <a:cubicBezTo>
                  <a:pt x="1099660" y="1356509"/>
                  <a:pt x="1236550" y="1386650"/>
                  <a:pt x="1354036" y="1440083"/>
                </a:cubicBezTo>
                <a:cubicBezTo>
                  <a:pt x="1283551" y="1605630"/>
                  <a:pt x="1178611" y="1734316"/>
                  <a:pt x="1054486" y="1804443"/>
                </a:cubicBezTo>
                <a:lnTo>
                  <a:pt x="953521" y="1810503"/>
                </a:lnTo>
                <a:lnTo>
                  <a:pt x="953521" y="1355186"/>
                </a:lnTo>
                <a:close/>
                <a:moveTo>
                  <a:pt x="1517159" y="931303"/>
                </a:moveTo>
                <a:lnTo>
                  <a:pt x="1889279" y="931303"/>
                </a:lnTo>
                <a:cubicBezTo>
                  <a:pt x="1883282" y="1167646"/>
                  <a:pt x="1781715" y="1381244"/>
                  <a:pt x="1618873" y="1536894"/>
                </a:cubicBezTo>
                <a:cubicBezTo>
                  <a:pt x="1566437" y="1485571"/>
                  <a:pt x="1502786" y="1442774"/>
                  <a:pt x="1431939" y="1407715"/>
                </a:cubicBezTo>
                <a:cubicBezTo>
                  <a:pt x="1485774" y="1266553"/>
                  <a:pt x="1516428" y="1104135"/>
                  <a:pt x="1517159" y="931303"/>
                </a:cubicBezTo>
                <a:close/>
                <a:moveTo>
                  <a:pt x="953521" y="931303"/>
                </a:moveTo>
                <a:lnTo>
                  <a:pt x="1456842" y="931303"/>
                </a:lnTo>
                <a:cubicBezTo>
                  <a:pt x="1456123" y="1096196"/>
                  <a:pt x="1427268" y="1250986"/>
                  <a:pt x="1375819" y="1384691"/>
                </a:cubicBezTo>
                <a:cubicBezTo>
                  <a:pt x="1251537" y="1327928"/>
                  <a:pt x="1107288" y="1296191"/>
                  <a:pt x="953521" y="1294902"/>
                </a:cubicBezTo>
                <a:lnTo>
                  <a:pt x="953521" y="931303"/>
                </a:lnTo>
                <a:close/>
                <a:moveTo>
                  <a:pt x="448568" y="931303"/>
                </a:moveTo>
                <a:lnTo>
                  <a:pt x="900586" y="931303"/>
                </a:lnTo>
                <a:lnTo>
                  <a:pt x="900586" y="1295603"/>
                </a:lnTo>
                <a:cubicBezTo>
                  <a:pt x="766605" y="1297053"/>
                  <a:pt x="640053" y="1322469"/>
                  <a:pt x="528061" y="1368046"/>
                </a:cubicBezTo>
                <a:cubicBezTo>
                  <a:pt x="478984" y="1238632"/>
                  <a:pt x="450499" y="1089843"/>
                  <a:pt x="448568" y="931303"/>
                </a:cubicBezTo>
                <a:close/>
                <a:moveTo>
                  <a:pt x="0" y="931303"/>
                </a:moveTo>
                <a:lnTo>
                  <a:pt x="388264" y="931303"/>
                </a:lnTo>
                <a:cubicBezTo>
                  <a:pt x="390220" y="1097785"/>
                  <a:pt x="420532" y="1254193"/>
                  <a:pt x="473139" y="1390578"/>
                </a:cubicBezTo>
                <a:cubicBezTo>
                  <a:pt x="391203" y="1423988"/>
                  <a:pt x="318506" y="1469260"/>
                  <a:pt x="258353" y="1524144"/>
                </a:cubicBezTo>
                <a:cubicBezTo>
                  <a:pt x="102364" y="1370026"/>
                  <a:pt x="5849" y="1161456"/>
                  <a:pt x="0" y="931303"/>
                </a:cubicBezTo>
                <a:close/>
                <a:moveTo>
                  <a:pt x="536834" y="421694"/>
                </a:moveTo>
                <a:cubicBezTo>
                  <a:pt x="646682" y="464986"/>
                  <a:pt x="770110" y="489176"/>
                  <a:pt x="900586" y="490537"/>
                </a:cubicBezTo>
                <a:lnTo>
                  <a:pt x="900586" y="875390"/>
                </a:lnTo>
                <a:lnTo>
                  <a:pt x="448805" y="875390"/>
                </a:lnTo>
                <a:cubicBezTo>
                  <a:pt x="451150" y="709592"/>
                  <a:pt x="482649" y="554587"/>
                  <a:pt x="536834" y="421694"/>
                </a:cubicBezTo>
                <a:close/>
                <a:moveTo>
                  <a:pt x="1356131" y="409527"/>
                </a:moveTo>
                <a:cubicBezTo>
                  <a:pt x="1415590" y="544412"/>
                  <a:pt x="1451132" y="703874"/>
                  <a:pt x="1455052" y="875390"/>
                </a:cubicBezTo>
                <a:lnTo>
                  <a:pt x="953521" y="875390"/>
                </a:lnTo>
                <a:lnTo>
                  <a:pt x="953521" y="491238"/>
                </a:lnTo>
                <a:cubicBezTo>
                  <a:pt x="1099303" y="490092"/>
                  <a:pt x="1236528" y="461431"/>
                  <a:pt x="1356131" y="409527"/>
                </a:cubicBezTo>
                <a:close/>
                <a:moveTo>
                  <a:pt x="271202" y="273767"/>
                </a:moveTo>
                <a:cubicBezTo>
                  <a:pt x="330895" y="324894"/>
                  <a:pt x="401533" y="367494"/>
                  <a:pt x="480768" y="398692"/>
                </a:cubicBezTo>
                <a:cubicBezTo>
                  <a:pt x="424147" y="539118"/>
                  <a:pt x="390867" y="701724"/>
                  <a:pt x="388496" y="875390"/>
                </a:cubicBezTo>
                <a:lnTo>
                  <a:pt x="238" y="875390"/>
                </a:lnTo>
                <a:cubicBezTo>
                  <a:pt x="7162" y="640451"/>
                  <a:pt x="108645" y="428248"/>
                  <a:pt x="271202" y="273767"/>
                </a:cubicBezTo>
                <a:close/>
                <a:moveTo>
                  <a:pt x="1605567" y="261436"/>
                </a:moveTo>
                <a:cubicBezTo>
                  <a:pt x="1775300" y="417133"/>
                  <a:pt x="1881942" y="634296"/>
                  <a:pt x="1889035" y="875390"/>
                </a:cubicBezTo>
                <a:lnTo>
                  <a:pt x="1515364" y="875390"/>
                </a:lnTo>
                <a:cubicBezTo>
                  <a:pt x="1511419" y="696081"/>
                  <a:pt x="1474168" y="529014"/>
                  <a:pt x="1413107" y="386152"/>
                </a:cubicBezTo>
                <a:cubicBezTo>
                  <a:pt x="1485941" y="353453"/>
                  <a:pt x="1551126" y="311628"/>
                  <a:pt x="1605567" y="261436"/>
                </a:cubicBezTo>
                <a:close/>
                <a:moveTo>
                  <a:pt x="748157" y="19413"/>
                </a:moveTo>
                <a:cubicBezTo>
                  <a:pt x="649482" y="96557"/>
                  <a:pt x="565491" y="208310"/>
                  <a:pt x="504779" y="344256"/>
                </a:cubicBezTo>
                <a:cubicBezTo>
                  <a:pt x="432706" y="315858"/>
                  <a:pt x="368354" y="277545"/>
                  <a:pt x="313920" y="231604"/>
                </a:cubicBezTo>
                <a:cubicBezTo>
                  <a:pt x="434240" y="127070"/>
                  <a:pt x="583275" y="52667"/>
                  <a:pt x="748157" y="19413"/>
                </a:cubicBezTo>
                <a:close/>
                <a:moveTo>
                  <a:pt x="1137621" y="18543"/>
                </a:moveTo>
                <a:cubicBezTo>
                  <a:pt x="1297904" y="50310"/>
                  <a:pt x="1443338" y="120918"/>
                  <a:pt x="1562575" y="219802"/>
                </a:cubicBezTo>
                <a:cubicBezTo>
                  <a:pt x="1512842" y="265093"/>
                  <a:pt x="1453308" y="302843"/>
                  <a:pt x="1386970" y="332857"/>
                </a:cubicBezTo>
                <a:cubicBezTo>
                  <a:pt x="1323718" y="199817"/>
                  <a:pt x="1237626" y="91674"/>
                  <a:pt x="1137621" y="18543"/>
                </a:cubicBezTo>
                <a:close/>
                <a:moveTo>
                  <a:pt x="900586" y="1702"/>
                </a:moveTo>
                <a:lnTo>
                  <a:pt x="900586" y="430269"/>
                </a:lnTo>
                <a:cubicBezTo>
                  <a:pt x="778345" y="428899"/>
                  <a:pt x="662774" y="406468"/>
                  <a:pt x="560047" y="366408"/>
                </a:cubicBezTo>
                <a:cubicBezTo>
                  <a:pt x="637783" y="193348"/>
                  <a:pt x="753999" y="63227"/>
                  <a:pt x="890213" y="2203"/>
                </a:cubicBezTo>
                <a:lnTo>
                  <a:pt x="900586" y="1702"/>
                </a:lnTo>
                <a:close/>
                <a:moveTo>
                  <a:pt x="953521" y="0"/>
                </a:moveTo>
                <a:lnTo>
                  <a:pt x="981035" y="1330"/>
                </a:lnTo>
                <a:cubicBezTo>
                  <a:pt x="1124068" y="53565"/>
                  <a:pt x="1247786" y="180867"/>
                  <a:pt x="1332000" y="354889"/>
                </a:cubicBezTo>
                <a:cubicBezTo>
                  <a:pt x="1219743" y="403080"/>
                  <a:pt x="1090709" y="429800"/>
                  <a:pt x="953521" y="430954"/>
                </a:cubicBezTo>
                <a:lnTo>
                  <a:pt x="953521" y="0"/>
                </a:lnTo>
                <a:close/>
              </a:path>
            </a:pathLst>
          </a:cu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文本框 4"/>
          <p:cNvSpPr/>
          <p:nvPr/>
        </p:nvSpPr>
        <p:spPr>
          <a:xfrm>
            <a:off x="896760" y="18108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职能规划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工作计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Group 4"/>
          <p:cNvGrpSpPr/>
          <p:nvPr/>
        </p:nvGrpSpPr>
        <p:grpSpPr>
          <a:xfrm>
            <a:off x="1677960" y="1695600"/>
            <a:ext cx="8835840" cy="4019400"/>
            <a:chOff x="1677960" y="1695600"/>
            <a:chExt cx="8835840" cy="4019400"/>
          </a:xfrm>
        </p:grpSpPr>
        <p:sp>
          <p:nvSpPr>
            <p:cNvPr id="530" name="Rectangle 5"/>
            <p:cNvSpPr/>
            <p:nvPr/>
          </p:nvSpPr>
          <p:spPr>
            <a:xfrm>
              <a:off x="4124880" y="1695600"/>
              <a:ext cx="6388920" cy="4019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Rectangle 6"/>
            <p:cNvSpPr/>
            <p:nvPr/>
          </p:nvSpPr>
          <p:spPr>
            <a:xfrm>
              <a:off x="1677960" y="1881000"/>
              <a:ext cx="4046040" cy="366048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Rectangle 7"/>
            <p:cNvSpPr/>
            <p:nvPr/>
          </p:nvSpPr>
          <p:spPr>
            <a:xfrm>
              <a:off x="2527200" y="2465640"/>
              <a:ext cx="7161840" cy="2476800"/>
            </a:xfrm>
            <a:prstGeom prst="rect">
              <a:avLst/>
            </a:prstGeom>
            <a:solidFill>
              <a:srgbClr val="03234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正圆 1079"/>
            <p:cNvSpPr/>
            <p:nvPr/>
          </p:nvSpPr>
          <p:spPr>
            <a:xfrm flipV="1" rot="10800000">
              <a:off x="2778480" y="2665800"/>
              <a:ext cx="2116440" cy="2116800"/>
            </a:xfrm>
            <a:prstGeom prst="ellipse">
              <a:avLst/>
            </a:prstGeom>
            <a:solidFill>
              <a:srgbClr val="d9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数  量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正圆 1079"/>
            <p:cNvSpPr/>
            <p:nvPr/>
          </p:nvSpPr>
          <p:spPr>
            <a:xfrm flipV="1" rot="10800000">
              <a:off x="5099760" y="2670840"/>
              <a:ext cx="2116440" cy="211680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质  量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正圆 1079"/>
            <p:cNvSpPr/>
            <p:nvPr/>
          </p:nvSpPr>
          <p:spPr>
            <a:xfrm flipV="1" rot="10800000">
              <a:off x="7404120" y="2656440"/>
              <a:ext cx="2116440" cy="211716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增  值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AutoShape 11"/>
            <p:cNvSpPr/>
            <p:nvPr/>
          </p:nvSpPr>
          <p:spPr>
            <a:xfrm flipV="1">
              <a:off x="2569320" y="1945080"/>
              <a:ext cx="7134480" cy="516600"/>
            </a:xfrm>
            <a:prstGeom prst="pie">
              <a:avLst/>
            </a:prstGeom>
            <a:solidFill>
              <a:srgbClr val="032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AutoShape 12"/>
            <p:cNvSpPr/>
            <p:nvPr/>
          </p:nvSpPr>
          <p:spPr>
            <a:xfrm flipV="1" rot="10800000">
              <a:off x="2532960" y="4959360"/>
              <a:ext cx="7133760" cy="515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278" y="21600"/>
                  </a:lnTo>
                  <a:lnTo>
                    <a:pt x="16322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32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3"/>
            <p:cNvSpPr/>
            <p:nvPr/>
          </p:nvSpPr>
          <p:spPr>
            <a:xfrm>
              <a:off x="3822120" y="5028480"/>
              <a:ext cx="461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4"/>
            <p:cNvSpPr/>
            <p:nvPr/>
          </p:nvSpPr>
          <p:spPr>
            <a:xfrm>
              <a:off x="1905840" y="2850120"/>
              <a:ext cx="42444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今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工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作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5"/>
            <p:cNvSpPr/>
            <p:nvPr/>
          </p:nvSpPr>
          <p:spPr>
            <a:xfrm>
              <a:off x="9897840" y="2881800"/>
              <a:ext cx="42444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明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化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" name="Text Box 16"/>
          <p:cNvSpPr/>
          <p:nvPr/>
        </p:nvSpPr>
        <p:spPr>
          <a:xfrm>
            <a:off x="1638360" y="917640"/>
            <a:ext cx="96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Calibri"/>
                <a:ea typeface="微软雅黑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C970E-0E05-4B45-977B-1B3E913DD032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04:47:55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B9FFF-7E51-4213-ABCB-08EFE43C68D2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04:47:55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网络 509"/>
          <p:cNvSpPr/>
          <p:nvPr/>
        </p:nvSpPr>
        <p:spPr>
          <a:xfrm flipV="1">
            <a:off x="317520" y="180720"/>
            <a:ext cx="482760" cy="482400"/>
          </a:xfrm>
          <a:custGeom>
            <a:avLst/>
            <a:gdLst/>
            <a:ahLst/>
            <a:rect l="l" t="t" r="r" b="b"/>
            <a:pathLst>
              <a:path w="1889279" h="1810503">
                <a:moveTo>
                  <a:pt x="1408636" y="1462945"/>
                </a:moveTo>
                <a:cubicBezTo>
                  <a:pt x="1471912" y="1494489"/>
                  <a:pt x="1528819" y="1532588"/>
                  <a:pt x="1575786" y="1578162"/>
                </a:cubicBezTo>
                <a:cubicBezTo>
                  <a:pt x="1467281" y="1672800"/>
                  <a:pt x="1335058" y="1742507"/>
                  <a:pt x="1188886" y="1779443"/>
                </a:cubicBezTo>
                <a:cubicBezTo>
                  <a:pt x="1278166" y="1700386"/>
                  <a:pt x="1353810" y="1592053"/>
                  <a:pt x="1408636" y="1462945"/>
                </a:cubicBezTo>
                <a:close/>
                <a:moveTo>
                  <a:pt x="494888" y="1445849"/>
                </a:moveTo>
                <a:cubicBezTo>
                  <a:pt x="556747" y="1590569"/>
                  <a:pt x="643865" y="1709702"/>
                  <a:pt x="747068" y="1790925"/>
                </a:cubicBezTo>
                <a:cubicBezTo>
                  <a:pt x="576321" y="1756303"/>
                  <a:pt x="422614" y="1677538"/>
                  <a:pt x="300900" y="1566189"/>
                </a:cubicBezTo>
                <a:cubicBezTo>
                  <a:pt x="355309" y="1517036"/>
                  <a:pt x="421005" y="1476420"/>
                  <a:pt x="494888" y="1445849"/>
                </a:cubicBezTo>
                <a:close/>
                <a:moveTo>
                  <a:pt x="900586" y="1355871"/>
                </a:moveTo>
                <a:lnTo>
                  <a:pt x="900586" y="1808904"/>
                </a:lnTo>
                <a:lnTo>
                  <a:pt x="884222" y="1808113"/>
                </a:lnTo>
                <a:cubicBezTo>
                  <a:pt x="745280" y="1742581"/>
                  <a:pt x="627378" y="1604992"/>
                  <a:pt x="551037" y="1423344"/>
                </a:cubicBezTo>
                <a:cubicBezTo>
                  <a:pt x="655969" y="1381011"/>
                  <a:pt x="774745" y="1357337"/>
                  <a:pt x="900586" y="1355871"/>
                </a:cubicBezTo>
                <a:close/>
                <a:moveTo>
                  <a:pt x="953521" y="1355186"/>
                </a:moveTo>
                <a:cubicBezTo>
                  <a:pt x="1099660" y="1356509"/>
                  <a:pt x="1236550" y="1386650"/>
                  <a:pt x="1354036" y="1440083"/>
                </a:cubicBezTo>
                <a:cubicBezTo>
                  <a:pt x="1283551" y="1605630"/>
                  <a:pt x="1178611" y="1734316"/>
                  <a:pt x="1054486" y="1804443"/>
                </a:cubicBezTo>
                <a:lnTo>
                  <a:pt x="953521" y="1810503"/>
                </a:lnTo>
                <a:lnTo>
                  <a:pt x="953521" y="1355186"/>
                </a:lnTo>
                <a:close/>
                <a:moveTo>
                  <a:pt x="1517159" y="931303"/>
                </a:moveTo>
                <a:lnTo>
                  <a:pt x="1889279" y="931303"/>
                </a:lnTo>
                <a:cubicBezTo>
                  <a:pt x="1883282" y="1167646"/>
                  <a:pt x="1781715" y="1381244"/>
                  <a:pt x="1618873" y="1536894"/>
                </a:cubicBezTo>
                <a:cubicBezTo>
                  <a:pt x="1566437" y="1485571"/>
                  <a:pt x="1502786" y="1442774"/>
                  <a:pt x="1431939" y="1407715"/>
                </a:cubicBezTo>
                <a:cubicBezTo>
                  <a:pt x="1485774" y="1266553"/>
                  <a:pt x="1516428" y="1104135"/>
                  <a:pt x="1517159" y="931303"/>
                </a:cubicBezTo>
                <a:close/>
                <a:moveTo>
                  <a:pt x="953521" y="931303"/>
                </a:moveTo>
                <a:lnTo>
                  <a:pt x="1456842" y="931303"/>
                </a:lnTo>
                <a:cubicBezTo>
                  <a:pt x="1456123" y="1096196"/>
                  <a:pt x="1427268" y="1250986"/>
                  <a:pt x="1375819" y="1384691"/>
                </a:cubicBezTo>
                <a:cubicBezTo>
                  <a:pt x="1251537" y="1327928"/>
                  <a:pt x="1107288" y="1296191"/>
                  <a:pt x="953521" y="1294902"/>
                </a:cubicBezTo>
                <a:lnTo>
                  <a:pt x="953521" y="931303"/>
                </a:lnTo>
                <a:close/>
                <a:moveTo>
                  <a:pt x="448568" y="931303"/>
                </a:moveTo>
                <a:lnTo>
                  <a:pt x="900586" y="931303"/>
                </a:lnTo>
                <a:lnTo>
                  <a:pt x="900586" y="1295603"/>
                </a:lnTo>
                <a:cubicBezTo>
                  <a:pt x="766605" y="1297053"/>
                  <a:pt x="640053" y="1322469"/>
                  <a:pt x="528061" y="1368046"/>
                </a:cubicBezTo>
                <a:cubicBezTo>
                  <a:pt x="478984" y="1238632"/>
                  <a:pt x="450499" y="1089843"/>
                  <a:pt x="448568" y="931303"/>
                </a:cubicBezTo>
                <a:close/>
                <a:moveTo>
                  <a:pt x="0" y="931303"/>
                </a:moveTo>
                <a:lnTo>
                  <a:pt x="388264" y="931303"/>
                </a:lnTo>
                <a:cubicBezTo>
                  <a:pt x="390220" y="1097785"/>
                  <a:pt x="420532" y="1254193"/>
                  <a:pt x="473139" y="1390578"/>
                </a:cubicBezTo>
                <a:cubicBezTo>
                  <a:pt x="391203" y="1423988"/>
                  <a:pt x="318506" y="1469260"/>
                  <a:pt x="258353" y="1524144"/>
                </a:cubicBezTo>
                <a:cubicBezTo>
                  <a:pt x="102364" y="1370026"/>
                  <a:pt x="5849" y="1161456"/>
                  <a:pt x="0" y="931303"/>
                </a:cubicBezTo>
                <a:close/>
                <a:moveTo>
                  <a:pt x="536834" y="421694"/>
                </a:moveTo>
                <a:cubicBezTo>
                  <a:pt x="646682" y="464986"/>
                  <a:pt x="770110" y="489176"/>
                  <a:pt x="900586" y="490537"/>
                </a:cubicBezTo>
                <a:lnTo>
                  <a:pt x="900586" y="875390"/>
                </a:lnTo>
                <a:lnTo>
                  <a:pt x="448805" y="875390"/>
                </a:lnTo>
                <a:cubicBezTo>
                  <a:pt x="451150" y="709592"/>
                  <a:pt x="482649" y="554587"/>
                  <a:pt x="536834" y="421694"/>
                </a:cubicBezTo>
                <a:close/>
                <a:moveTo>
                  <a:pt x="1356131" y="409527"/>
                </a:moveTo>
                <a:cubicBezTo>
                  <a:pt x="1415590" y="544412"/>
                  <a:pt x="1451132" y="703874"/>
                  <a:pt x="1455052" y="875390"/>
                </a:cubicBezTo>
                <a:lnTo>
                  <a:pt x="953521" y="875390"/>
                </a:lnTo>
                <a:lnTo>
                  <a:pt x="953521" y="491238"/>
                </a:lnTo>
                <a:cubicBezTo>
                  <a:pt x="1099303" y="490092"/>
                  <a:pt x="1236528" y="461431"/>
                  <a:pt x="1356131" y="409527"/>
                </a:cubicBezTo>
                <a:close/>
                <a:moveTo>
                  <a:pt x="271202" y="273767"/>
                </a:moveTo>
                <a:cubicBezTo>
                  <a:pt x="330895" y="324894"/>
                  <a:pt x="401533" y="367494"/>
                  <a:pt x="480768" y="398692"/>
                </a:cubicBezTo>
                <a:cubicBezTo>
                  <a:pt x="424147" y="539118"/>
                  <a:pt x="390867" y="701724"/>
                  <a:pt x="388496" y="875390"/>
                </a:cubicBezTo>
                <a:lnTo>
                  <a:pt x="238" y="875390"/>
                </a:lnTo>
                <a:cubicBezTo>
                  <a:pt x="7162" y="640451"/>
                  <a:pt x="108645" y="428248"/>
                  <a:pt x="271202" y="273767"/>
                </a:cubicBezTo>
                <a:close/>
                <a:moveTo>
                  <a:pt x="1605567" y="261436"/>
                </a:moveTo>
                <a:cubicBezTo>
                  <a:pt x="1775300" y="417133"/>
                  <a:pt x="1881942" y="634296"/>
                  <a:pt x="1889035" y="875390"/>
                </a:cubicBezTo>
                <a:lnTo>
                  <a:pt x="1515364" y="875390"/>
                </a:lnTo>
                <a:cubicBezTo>
                  <a:pt x="1511419" y="696081"/>
                  <a:pt x="1474168" y="529014"/>
                  <a:pt x="1413107" y="386152"/>
                </a:cubicBezTo>
                <a:cubicBezTo>
                  <a:pt x="1485941" y="353453"/>
                  <a:pt x="1551126" y="311628"/>
                  <a:pt x="1605567" y="261436"/>
                </a:cubicBezTo>
                <a:close/>
                <a:moveTo>
                  <a:pt x="748157" y="19413"/>
                </a:moveTo>
                <a:cubicBezTo>
                  <a:pt x="649482" y="96557"/>
                  <a:pt x="565491" y="208310"/>
                  <a:pt x="504779" y="344256"/>
                </a:cubicBezTo>
                <a:cubicBezTo>
                  <a:pt x="432706" y="315858"/>
                  <a:pt x="368354" y="277545"/>
                  <a:pt x="313920" y="231604"/>
                </a:cubicBezTo>
                <a:cubicBezTo>
                  <a:pt x="434240" y="127070"/>
                  <a:pt x="583275" y="52667"/>
                  <a:pt x="748157" y="19413"/>
                </a:cubicBezTo>
                <a:close/>
                <a:moveTo>
                  <a:pt x="1137621" y="18543"/>
                </a:moveTo>
                <a:cubicBezTo>
                  <a:pt x="1297904" y="50310"/>
                  <a:pt x="1443338" y="120918"/>
                  <a:pt x="1562575" y="219802"/>
                </a:cubicBezTo>
                <a:cubicBezTo>
                  <a:pt x="1512842" y="265093"/>
                  <a:pt x="1453308" y="302843"/>
                  <a:pt x="1386970" y="332857"/>
                </a:cubicBezTo>
                <a:cubicBezTo>
                  <a:pt x="1323718" y="199817"/>
                  <a:pt x="1237626" y="91674"/>
                  <a:pt x="1137621" y="18543"/>
                </a:cubicBezTo>
                <a:close/>
                <a:moveTo>
                  <a:pt x="900586" y="1702"/>
                </a:moveTo>
                <a:lnTo>
                  <a:pt x="900586" y="430269"/>
                </a:lnTo>
                <a:cubicBezTo>
                  <a:pt x="778345" y="428899"/>
                  <a:pt x="662774" y="406468"/>
                  <a:pt x="560047" y="366408"/>
                </a:cubicBezTo>
                <a:cubicBezTo>
                  <a:pt x="637783" y="193348"/>
                  <a:pt x="753999" y="63227"/>
                  <a:pt x="890213" y="2203"/>
                </a:cubicBezTo>
                <a:lnTo>
                  <a:pt x="900586" y="1702"/>
                </a:lnTo>
                <a:close/>
                <a:moveTo>
                  <a:pt x="953521" y="0"/>
                </a:moveTo>
                <a:lnTo>
                  <a:pt x="981035" y="1330"/>
                </a:lnTo>
                <a:cubicBezTo>
                  <a:pt x="1124068" y="53565"/>
                  <a:pt x="1247786" y="180867"/>
                  <a:pt x="1332000" y="354889"/>
                </a:cubicBezTo>
                <a:cubicBezTo>
                  <a:pt x="1219743" y="403080"/>
                  <a:pt x="1090709" y="429800"/>
                  <a:pt x="953521" y="430954"/>
                </a:cubicBezTo>
                <a:lnTo>
                  <a:pt x="953521" y="0"/>
                </a:lnTo>
                <a:close/>
              </a:path>
            </a:pathLst>
          </a:cu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文本框 4"/>
          <p:cNvSpPr/>
          <p:nvPr/>
        </p:nvSpPr>
        <p:spPr>
          <a:xfrm>
            <a:off x="896760" y="181080"/>
            <a:ext cx="31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职能规划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工作期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组合 25"/>
          <p:cNvGrpSpPr/>
          <p:nvPr/>
        </p:nvGrpSpPr>
        <p:grpSpPr>
          <a:xfrm>
            <a:off x="1026720" y="3130560"/>
            <a:ext cx="2349360" cy="1078200"/>
            <a:chOff x="1026720" y="3130560"/>
            <a:chExt cx="2349360" cy="1078200"/>
          </a:xfrm>
        </p:grpSpPr>
        <p:sp>
          <p:nvSpPr>
            <p:cNvPr id="547" name="矩形 21"/>
            <p:cNvSpPr/>
            <p:nvPr/>
          </p:nvSpPr>
          <p:spPr>
            <a:xfrm>
              <a:off x="1150920" y="3130560"/>
              <a:ext cx="128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More than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矩形 22"/>
            <p:cNvSpPr/>
            <p:nvPr/>
          </p:nvSpPr>
          <p:spPr>
            <a:xfrm>
              <a:off x="1026720" y="3416400"/>
              <a:ext cx="2032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Meiryo UI"/>
                  <a:ea typeface="Meiryo UI"/>
                </a:rPr>
                <a:t>1,606,66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矩形 23"/>
            <p:cNvSpPr/>
            <p:nvPr/>
          </p:nvSpPr>
          <p:spPr>
            <a:xfrm>
              <a:off x="2902320" y="3602520"/>
              <a:ext cx="39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矩形 24"/>
            <p:cNvSpPr/>
            <p:nvPr/>
          </p:nvSpPr>
          <p:spPr>
            <a:xfrm>
              <a:off x="3108600" y="3545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矩形 30"/>
            <p:cNvSpPr/>
            <p:nvPr/>
          </p:nvSpPr>
          <p:spPr>
            <a:xfrm>
              <a:off x="1139040" y="3871440"/>
              <a:ext cx="1095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improv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矩形 10"/>
          <p:cNvSpPr/>
          <p:nvPr/>
        </p:nvSpPr>
        <p:spPr>
          <a:xfrm>
            <a:off x="1566720" y="1708200"/>
            <a:ext cx="3837240" cy="370692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矩形 26"/>
          <p:cNvSpPr/>
          <p:nvPr/>
        </p:nvSpPr>
        <p:spPr>
          <a:xfrm>
            <a:off x="1569960" y="2178000"/>
            <a:ext cx="4013280" cy="31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期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地点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岗位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                                   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2014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年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12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月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24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4" name="组合 2"/>
          <p:cNvGrpSpPr/>
          <p:nvPr/>
        </p:nvGrpSpPr>
        <p:grpSpPr>
          <a:xfrm>
            <a:off x="8248680" y="2962440"/>
            <a:ext cx="1647720" cy="2279520"/>
            <a:chOff x="8248680" y="2962440"/>
            <a:chExt cx="1647720" cy="2279520"/>
          </a:xfrm>
        </p:grpSpPr>
        <p:sp>
          <p:nvSpPr>
            <p:cNvPr id="555" name="椭圆 3"/>
            <p:cNvSpPr/>
            <p:nvPr/>
          </p:nvSpPr>
          <p:spPr>
            <a:xfrm>
              <a:off x="8768880" y="2962440"/>
              <a:ext cx="439920" cy="43992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直接连接符 5"/>
            <p:cNvSpPr/>
            <p:nvPr/>
          </p:nvSpPr>
          <p:spPr>
            <a:xfrm>
              <a:off x="8995320" y="3413880"/>
              <a:ext cx="15120" cy="951840"/>
            </a:xfrm>
            <a:prstGeom prst="line">
              <a:avLst/>
            </a:prstGeom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椭圆 14"/>
            <p:cNvSpPr/>
            <p:nvPr/>
          </p:nvSpPr>
          <p:spPr>
            <a:xfrm>
              <a:off x="8849520" y="388656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任意多边形 15"/>
            <p:cNvSpPr/>
            <p:nvPr/>
          </p:nvSpPr>
          <p:spPr>
            <a:xfrm>
              <a:off x="8740800" y="3575520"/>
              <a:ext cx="250560" cy="447480"/>
            </a:xfrm>
            <a:custGeom>
              <a:avLst/>
              <a:gdLst/>
              <a:ahLst/>
              <a:rect l="l" t="t" r="r" b="b"/>
              <a:pathLst>
                <a:path w="334147" h="596900">
                  <a:moveTo>
                    <a:pt x="334147" y="0"/>
                  </a:moveTo>
                  <a:cubicBezTo>
                    <a:pt x="181747" y="102658"/>
                    <a:pt x="29347" y="205317"/>
                    <a:pt x="3947" y="304800"/>
                  </a:cubicBezTo>
                  <a:cubicBezTo>
                    <a:pt x="-21453" y="404283"/>
                    <a:pt x="80147" y="500591"/>
                    <a:pt x="181747" y="5969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任意多边形 16"/>
            <p:cNvSpPr/>
            <p:nvPr/>
          </p:nvSpPr>
          <p:spPr>
            <a:xfrm>
              <a:off x="9005760" y="3575520"/>
              <a:ext cx="496800" cy="542520"/>
            </a:xfrm>
            <a:custGeom>
              <a:avLst/>
              <a:gdLst/>
              <a:ahLst/>
              <a:rect l="l" t="t" r="r" b="b"/>
              <a:pathLst>
                <a:path w="662397" h="723900">
                  <a:moveTo>
                    <a:pt x="0" y="0"/>
                  </a:moveTo>
                  <a:cubicBezTo>
                    <a:pt x="316441" y="123825"/>
                    <a:pt x="632883" y="247650"/>
                    <a:pt x="660400" y="368300"/>
                  </a:cubicBezTo>
                  <a:cubicBezTo>
                    <a:pt x="687917" y="488950"/>
                    <a:pt x="426508" y="606425"/>
                    <a:pt x="165100" y="7239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任意多边形 19"/>
            <p:cNvSpPr/>
            <p:nvPr/>
          </p:nvSpPr>
          <p:spPr>
            <a:xfrm>
              <a:off x="8248680" y="4337280"/>
              <a:ext cx="743040" cy="676080"/>
            </a:xfrm>
            <a:custGeom>
              <a:avLst/>
              <a:gdLst/>
              <a:ahLst/>
              <a:rect l="l" t="t" r="r" b="b"/>
              <a:pathLst>
                <a:path w="990600" h="901700">
                  <a:moveTo>
                    <a:pt x="990600" y="0"/>
                  </a:moveTo>
                  <a:lnTo>
                    <a:pt x="0" y="901700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任意多边形 20"/>
            <p:cNvSpPr/>
            <p:nvPr/>
          </p:nvSpPr>
          <p:spPr>
            <a:xfrm>
              <a:off x="9020160" y="4356360"/>
              <a:ext cx="876240" cy="885600"/>
            </a:xfrm>
            <a:custGeom>
              <a:avLst/>
              <a:gdLst/>
              <a:ahLst/>
              <a:rect l="l" t="t" r="r" b="b"/>
              <a:pathLst>
                <a:path w="1168400" h="1181100">
                  <a:moveTo>
                    <a:pt x="0" y="0"/>
                  </a:moveTo>
                  <a:lnTo>
                    <a:pt x="1168400" y="1181100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" name="组合 23"/>
          <p:cNvGrpSpPr/>
          <p:nvPr/>
        </p:nvGrpSpPr>
        <p:grpSpPr>
          <a:xfrm>
            <a:off x="8298000" y="2962440"/>
            <a:ext cx="1504800" cy="2355840"/>
            <a:chOff x="8298000" y="2962440"/>
            <a:chExt cx="1504800" cy="2355840"/>
          </a:xfrm>
        </p:grpSpPr>
        <p:sp>
          <p:nvSpPr>
            <p:cNvPr id="563" name="椭圆 24"/>
            <p:cNvSpPr/>
            <p:nvPr/>
          </p:nvSpPr>
          <p:spPr>
            <a:xfrm>
              <a:off x="8892000" y="2962440"/>
              <a:ext cx="439920" cy="43992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直接连接符 25"/>
            <p:cNvSpPr/>
            <p:nvPr/>
          </p:nvSpPr>
          <p:spPr>
            <a:xfrm flipH="1">
              <a:off x="9009720" y="3402360"/>
              <a:ext cx="101880" cy="963360"/>
            </a:xfrm>
            <a:prstGeom prst="line">
              <a:avLst/>
            </a:prstGeom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任意多边形 26"/>
            <p:cNvSpPr/>
            <p:nvPr/>
          </p:nvSpPr>
          <p:spPr>
            <a:xfrm>
              <a:off x="8298000" y="4363560"/>
              <a:ext cx="707040" cy="854640"/>
            </a:xfrm>
            <a:custGeom>
              <a:avLst/>
              <a:gdLst/>
              <a:ahLst/>
              <a:rect l="l" t="t" r="r" b="b"/>
              <a:pathLst>
                <a:path w="914400" h="1098550">
                  <a:moveTo>
                    <a:pt x="914400" y="0"/>
                  </a:moveTo>
                  <a:cubicBezTo>
                    <a:pt x="700087" y="137054"/>
                    <a:pt x="485775" y="274108"/>
                    <a:pt x="333375" y="457200"/>
                  </a:cubicBezTo>
                  <a:cubicBezTo>
                    <a:pt x="180975" y="640292"/>
                    <a:pt x="90487" y="869421"/>
                    <a:pt x="0" y="10985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任意多边形 27"/>
            <p:cNvSpPr/>
            <p:nvPr/>
          </p:nvSpPr>
          <p:spPr>
            <a:xfrm>
              <a:off x="9007560" y="4361400"/>
              <a:ext cx="795240" cy="956880"/>
            </a:xfrm>
            <a:custGeom>
              <a:avLst/>
              <a:gdLst/>
              <a:ahLst/>
              <a:rect l="l" t="t" r="r" b="b"/>
              <a:pathLst>
                <a:path w="1060450" h="1276350">
                  <a:moveTo>
                    <a:pt x="0" y="0"/>
                  </a:moveTo>
                  <a:cubicBezTo>
                    <a:pt x="156104" y="277812"/>
                    <a:pt x="312208" y="555625"/>
                    <a:pt x="488950" y="768350"/>
                  </a:cubicBezTo>
                  <a:cubicBezTo>
                    <a:pt x="665692" y="981075"/>
                    <a:pt x="863071" y="1128712"/>
                    <a:pt x="1060450" y="12763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椭圆 28"/>
            <p:cNvSpPr/>
            <p:nvPr/>
          </p:nvSpPr>
          <p:spPr>
            <a:xfrm>
              <a:off x="8799840" y="410760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任意多边形 29"/>
            <p:cNvSpPr/>
            <p:nvPr/>
          </p:nvSpPr>
          <p:spPr>
            <a:xfrm>
              <a:off x="8791920" y="3513600"/>
              <a:ext cx="300960" cy="632160"/>
            </a:xfrm>
            <a:custGeom>
              <a:avLst/>
              <a:gdLst/>
              <a:ahLst/>
              <a:rect l="l" t="t" r="r" b="b"/>
              <a:pathLst>
                <a:path w="401570" h="843372">
                  <a:moveTo>
                    <a:pt x="401570" y="0"/>
                  </a:moveTo>
                  <a:cubicBezTo>
                    <a:pt x="310818" y="57679"/>
                    <a:pt x="220066" y="115358"/>
                    <a:pt x="153920" y="196850"/>
                  </a:cubicBezTo>
                  <a:cubicBezTo>
                    <a:pt x="87774" y="278342"/>
                    <a:pt x="23745" y="389996"/>
                    <a:pt x="4695" y="488950"/>
                  </a:cubicBezTo>
                  <a:cubicBezTo>
                    <a:pt x="-14355" y="587904"/>
                    <a:pt x="30095" y="731838"/>
                    <a:pt x="39620" y="790575"/>
                  </a:cubicBezTo>
                  <a:cubicBezTo>
                    <a:pt x="49145" y="849313"/>
                    <a:pt x="55495" y="845344"/>
                    <a:pt x="61845" y="841375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任意多边形 30"/>
            <p:cNvSpPr/>
            <p:nvPr/>
          </p:nvSpPr>
          <p:spPr>
            <a:xfrm>
              <a:off x="9064800" y="3516120"/>
              <a:ext cx="398880" cy="742680"/>
            </a:xfrm>
            <a:custGeom>
              <a:avLst/>
              <a:gdLst/>
              <a:ahLst/>
              <a:rect l="l" t="t" r="r" b="b"/>
              <a:pathLst>
                <a:path w="532089" h="990600">
                  <a:moveTo>
                    <a:pt x="50800" y="0"/>
                  </a:moveTo>
                  <a:cubicBezTo>
                    <a:pt x="136789" y="94456"/>
                    <a:pt x="222779" y="188913"/>
                    <a:pt x="301625" y="295275"/>
                  </a:cubicBezTo>
                  <a:cubicBezTo>
                    <a:pt x="380471" y="401637"/>
                    <a:pt x="574146" y="522288"/>
                    <a:pt x="523875" y="638175"/>
                  </a:cubicBezTo>
                  <a:cubicBezTo>
                    <a:pt x="473604" y="754062"/>
                    <a:pt x="236802" y="872331"/>
                    <a:pt x="0" y="9906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" name="组合 47"/>
          <p:cNvGrpSpPr/>
          <p:nvPr/>
        </p:nvGrpSpPr>
        <p:grpSpPr>
          <a:xfrm>
            <a:off x="8616960" y="2959200"/>
            <a:ext cx="1357200" cy="2396880"/>
            <a:chOff x="8616960" y="2959200"/>
            <a:chExt cx="1357200" cy="2396880"/>
          </a:xfrm>
        </p:grpSpPr>
        <p:sp>
          <p:nvSpPr>
            <p:cNvPr id="571" name="椭圆 48"/>
            <p:cNvSpPr/>
            <p:nvPr/>
          </p:nvSpPr>
          <p:spPr>
            <a:xfrm>
              <a:off x="8963280" y="295920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直接连接符 49"/>
            <p:cNvSpPr/>
            <p:nvPr/>
          </p:nvSpPr>
          <p:spPr>
            <a:xfrm>
              <a:off x="9188280" y="3401640"/>
              <a:ext cx="0" cy="996840"/>
            </a:xfrm>
            <a:prstGeom prst="line">
              <a:avLst/>
            </a:prstGeom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任意多边形 50"/>
            <p:cNvSpPr/>
            <p:nvPr/>
          </p:nvSpPr>
          <p:spPr>
            <a:xfrm>
              <a:off x="9178920" y="4394160"/>
              <a:ext cx="795240" cy="957240"/>
            </a:xfrm>
            <a:custGeom>
              <a:avLst/>
              <a:gdLst/>
              <a:ahLst/>
              <a:rect l="l" t="t" r="r" b="b"/>
              <a:pathLst>
                <a:path w="1060450" h="1276350">
                  <a:moveTo>
                    <a:pt x="0" y="0"/>
                  </a:moveTo>
                  <a:cubicBezTo>
                    <a:pt x="156104" y="277812"/>
                    <a:pt x="312208" y="555625"/>
                    <a:pt x="488950" y="768350"/>
                  </a:cubicBezTo>
                  <a:cubicBezTo>
                    <a:pt x="665692" y="981075"/>
                    <a:pt x="863071" y="1128712"/>
                    <a:pt x="1060450" y="12763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任意多边形 51"/>
            <p:cNvSpPr/>
            <p:nvPr/>
          </p:nvSpPr>
          <p:spPr>
            <a:xfrm>
              <a:off x="8693280" y="3574800"/>
              <a:ext cx="485640" cy="511200"/>
            </a:xfrm>
            <a:custGeom>
              <a:avLst/>
              <a:gdLst/>
              <a:ahLst/>
              <a:rect l="l" t="t" r="r" b="b"/>
              <a:pathLst>
                <a:path w="596900" h="590550">
                  <a:moveTo>
                    <a:pt x="596900" y="0"/>
                  </a:moveTo>
                  <a:lnTo>
                    <a:pt x="0" y="590550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椭圆 52"/>
            <p:cNvSpPr/>
            <p:nvPr/>
          </p:nvSpPr>
          <p:spPr>
            <a:xfrm>
              <a:off x="8616960" y="398412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任意多边形 53"/>
            <p:cNvSpPr/>
            <p:nvPr/>
          </p:nvSpPr>
          <p:spPr>
            <a:xfrm>
              <a:off x="8852760" y="3584160"/>
              <a:ext cx="450720" cy="623880"/>
            </a:xfrm>
            <a:custGeom>
              <a:avLst/>
              <a:gdLst/>
              <a:ahLst/>
              <a:rect l="l" t="t" r="r" b="b"/>
              <a:pathLst>
                <a:path w="556936" h="831850">
                  <a:moveTo>
                    <a:pt x="412750" y="0"/>
                  </a:moveTo>
                  <a:cubicBezTo>
                    <a:pt x="507471" y="191029"/>
                    <a:pt x="602192" y="382058"/>
                    <a:pt x="533400" y="520700"/>
                  </a:cubicBezTo>
                  <a:cubicBezTo>
                    <a:pt x="464608" y="659342"/>
                    <a:pt x="232304" y="745596"/>
                    <a:pt x="0" y="8318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任意多边形 54"/>
            <p:cNvSpPr/>
            <p:nvPr/>
          </p:nvSpPr>
          <p:spPr>
            <a:xfrm>
              <a:off x="8752680" y="4389480"/>
              <a:ext cx="423720" cy="966600"/>
            </a:xfrm>
            <a:custGeom>
              <a:avLst/>
              <a:gdLst/>
              <a:ahLst/>
              <a:rect l="l" t="t" r="r" b="b"/>
              <a:pathLst>
                <a:path w="539750" h="1244600">
                  <a:moveTo>
                    <a:pt x="539750" y="0"/>
                  </a:moveTo>
                  <a:cubicBezTo>
                    <a:pt x="381529" y="80433"/>
                    <a:pt x="223308" y="160867"/>
                    <a:pt x="133350" y="368300"/>
                  </a:cubicBezTo>
                  <a:cubicBezTo>
                    <a:pt x="43392" y="575733"/>
                    <a:pt x="21696" y="910166"/>
                    <a:pt x="0" y="12446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8" name="组合 55"/>
          <p:cNvGrpSpPr/>
          <p:nvPr/>
        </p:nvGrpSpPr>
        <p:grpSpPr>
          <a:xfrm>
            <a:off x="8548560" y="2959200"/>
            <a:ext cx="1013040" cy="2411280"/>
            <a:chOff x="8548560" y="2959200"/>
            <a:chExt cx="1013040" cy="2411280"/>
          </a:xfrm>
        </p:grpSpPr>
        <p:sp>
          <p:nvSpPr>
            <p:cNvPr id="579" name="椭圆 56"/>
            <p:cNvSpPr/>
            <p:nvPr/>
          </p:nvSpPr>
          <p:spPr>
            <a:xfrm>
              <a:off x="9121320" y="2959200"/>
              <a:ext cx="44028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直接连接符 57"/>
            <p:cNvSpPr/>
            <p:nvPr/>
          </p:nvSpPr>
          <p:spPr>
            <a:xfrm flipH="1">
              <a:off x="9284400" y="3401640"/>
              <a:ext cx="56520" cy="911520"/>
            </a:xfrm>
            <a:prstGeom prst="line">
              <a:avLst/>
            </a:prstGeom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任意多边形 58"/>
            <p:cNvSpPr/>
            <p:nvPr/>
          </p:nvSpPr>
          <p:spPr>
            <a:xfrm>
              <a:off x="8662680" y="3450960"/>
              <a:ext cx="671760" cy="309600"/>
            </a:xfrm>
            <a:custGeom>
              <a:avLst/>
              <a:gdLst/>
              <a:ahLst/>
              <a:rect l="l" t="t" r="r" b="b"/>
              <a:pathLst>
                <a:path w="838200" h="393700">
                  <a:moveTo>
                    <a:pt x="838200" y="0"/>
                  </a:moveTo>
                  <a:cubicBezTo>
                    <a:pt x="647700" y="49741"/>
                    <a:pt x="457200" y="99483"/>
                    <a:pt x="317500" y="165100"/>
                  </a:cubicBezTo>
                  <a:cubicBezTo>
                    <a:pt x="177800" y="230717"/>
                    <a:pt x="88900" y="312208"/>
                    <a:pt x="0" y="3937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任意多边形 59"/>
            <p:cNvSpPr/>
            <p:nvPr/>
          </p:nvSpPr>
          <p:spPr>
            <a:xfrm>
              <a:off x="8834400" y="3455640"/>
              <a:ext cx="709560" cy="747360"/>
            </a:xfrm>
            <a:custGeom>
              <a:avLst/>
              <a:gdLst/>
              <a:ahLst/>
              <a:rect l="l" t="t" r="r" b="b"/>
              <a:pathLst>
                <a:path w="945512" h="893303">
                  <a:moveTo>
                    <a:pt x="685800" y="0"/>
                  </a:moveTo>
                  <a:cubicBezTo>
                    <a:pt x="854075" y="388408"/>
                    <a:pt x="1022350" y="776817"/>
                    <a:pt x="908050" y="869950"/>
                  </a:cubicBezTo>
                  <a:cubicBezTo>
                    <a:pt x="793750" y="963083"/>
                    <a:pt x="396875" y="760941"/>
                    <a:pt x="0" y="5588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任意多边形 60"/>
            <p:cNvSpPr/>
            <p:nvPr/>
          </p:nvSpPr>
          <p:spPr>
            <a:xfrm>
              <a:off x="8861400" y="4298760"/>
              <a:ext cx="434520" cy="1071720"/>
            </a:xfrm>
            <a:custGeom>
              <a:avLst/>
              <a:gdLst/>
              <a:ahLst/>
              <a:rect l="l" t="t" r="r" b="b"/>
              <a:pathLst>
                <a:path w="570128" h="1365250">
                  <a:moveTo>
                    <a:pt x="570128" y="0"/>
                  </a:moveTo>
                  <a:cubicBezTo>
                    <a:pt x="348407" y="95779"/>
                    <a:pt x="126686" y="191558"/>
                    <a:pt x="43078" y="419100"/>
                  </a:cubicBezTo>
                  <a:cubicBezTo>
                    <a:pt x="-40530" y="646642"/>
                    <a:pt x="13974" y="1005946"/>
                    <a:pt x="68478" y="13652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任意多边形 61"/>
            <p:cNvSpPr/>
            <p:nvPr/>
          </p:nvSpPr>
          <p:spPr>
            <a:xfrm>
              <a:off x="9016200" y="4308480"/>
              <a:ext cx="392400" cy="816120"/>
            </a:xfrm>
            <a:custGeom>
              <a:avLst/>
              <a:gdLst/>
              <a:ahLst/>
              <a:rect l="l" t="t" r="r" b="b"/>
              <a:pathLst>
                <a:path w="497447" h="990600">
                  <a:moveTo>
                    <a:pt x="351397" y="0"/>
                  </a:moveTo>
                  <a:cubicBezTo>
                    <a:pt x="164601" y="123825"/>
                    <a:pt x="-22195" y="247650"/>
                    <a:pt x="2147" y="412750"/>
                  </a:cubicBezTo>
                  <a:cubicBezTo>
                    <a:pt x="26489" y="577850"/>
                    <a:pt x="261968" y="784225"/>
                    <a:pt x="497447" y="9906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椭圆 62"/>
            <p:cNvSpPr/>
            <p:nvPr/>
          </p:nvSpPr>
          <p:spPr>
            <a:xfrm>
              <a:off x="8548560" y="370620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组合 63"/>
          <p:cNvGrpSpPr/>
          <p:nvPr/>
        </p:nvGrpSpPr>
        <p:grpSpPr>
          <a:xfrm>
            <a:off x="8609040" y="2860560"/>
            <a:ext cx="1087560" cy="2519640"/>
            <a:chOff x="8609040" y="2860560"/>
            <a:chExt cx="1087560" cy="2519640"/>
          </a:xfrm>
        </p:grpSpPr>
        <p:sp>
          <p:nvSpPr>
            <p:cNvPr id="587" name="椭圆 64"/>
            <p:cNvSpPr/>
            <p:nvPr/>
          </p:nvSpPr>
          <p:spPr>
            <a:xfrm>
              <a:off x="9256320" y="2860560"/>
              <a:ext cx="44028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直接连接符 65"/>
            <p:cNvSpPr/>
            <p:nvPr/>
          </p:nvSpPr>
          <p:spPr>
            <a:xfrm flipH="1">
              <a:off x="9179280" y="3310200"/>
              <a:ext cx="253800" cy="866880"/>
            </a:xfrm>
            <a:prstGeom prst="line">
              <a:avLst/>
            </a:prstGeom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任意多边形 66"/>
            <p:cNvSpPr/>
            <p:nvPr/>
          </p:nvSpPr>
          <p:spPr>
            <a:xfrm>
              <a:off x="8760960" y="3208320"/>
              <a:ext cx="668880" cy="112680"/>
            </a:xfrm>
            <a:custGeom>
              <a:avLst/>
              <a:gdLst/>
              <a:ahLst/>
              <a:rect l="l" t="t" r="r" b="b"/>
              <a:pathLst>
                <a:path w="891540" h="150358">
                  <a:moveTo>
                    <a:pt x="891540" y="150358"/>
                  </a:moveTo>
                  <a:cubicBezTo>
                    <a:pt x="756285" y="93208"/>
                    <a:pt x="621030" y="36058"/>
                    <a:pt x="472440" y="13198"/>
                  </a:cubicBezTo>
                  <a:cubicBezTo>
                    <a:pt x="323850" y="-9662"/>
                    <a:pt x="161925" y="1768"/>
                    <a:pt x="0" y="13198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任意多边形 67"/>
            <p:cNvSpPr/>
            <p:nvPr/>
          </p:nvSpPr>
          <p:spPr>
            <a:xfrm>
              <a:off x="8905320" y="4160160"/>
              <a:ext cx="280080" cy="783000"/>
            </a:xfrm>
            <a:custGeom>
              <a:avLst/>
              <a:gdLst/>
              <a:ahLst/>
              <a:rect l="l" t="t" r="r" b="b"/>
              <a:pathLst>
                <a:path w="373502" h="1043940">
                  <a:moveTo>
                    <a:pt x="373502" y="0"/>
                  </a:moveTo>
                  <a:cubicBezTo>
                    <a:pt x="229992" y="19685"/>
                    <a:pt x="86482" y="39370"/>
                    <a:pt x="30602" y="213360"/>
                  </a:cubicBezTo>
                  <a:cubicBezTo>
                    <a:pt x="-25278" y="387350"/>
                    <a:pt x="6472" y="715645"/>
                    <a:pt x="38222" y="104394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任意多边形 68"/>
            <p:cNvSpPr/>
            <p:nvPr/>
          </p:nvSpPr>
          <p:spPr>
            <a:xfrm>
              <a:off x="9117720" y="4168440"/>
              <a:ext cx="157680" cy="1211760"/>
            </a:xfrm>
            <a:custGeom>
              <a:avLst/>
              <a:gdLst/>
              <a:ahLst/>
              <a:rect l="l" t="t" r="r" b="b"/>
              <a:pathLst>
                <a:path w="210242" h="1615440">
                  <a:moveTo>
                    <a:pt x="88322" y="0"/>
                  </a:moveTo>
                  <a:cubicBezTo>
                    <a:pt x="36252" y="154940"/>
                    <a:pt x="-15818" y="309880"/>
                    <a:pt x="4502" y="579120"/>
                  </a:cubicBezTo>
                  <a:cubicBezTo>
                    <a:pt x="24822" y="848360"/>
                    <a:pt x="117532" y="1231900"/>
                    <a:pt x="210242" y="161544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椭圆 69"/>
            <p:cNvSpPr/>
            <p:nvPr/>
          </p:nvSpPr>
          <p:spPr>
            <a:xfrm>
              <a:off x="8609040" y="321300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任意多边形 70"/>
            <p:cNvSpPr/>
            <p:nvPr/>
          </p:nvSpPr>
          <p:spPr>
            <a:xfrm>
              <a:off x="8842320" y="3331080"/>
              <a:ext cx="577080" cy="546480"/>
            </a:xfrm>
            <a:custGeom>
              <a:avLst/>
              <a:gdLst/>
              <a:ahLst/>
              <a:rect l="l" t="t" r="r" b="b"/>
              <a:pathLst>
                <a:path w="784860" h="650743">
                  <a:moveTo>
                    <a:pt x="784860" y="0"/>
                  </a:moveTo>
                  <a:cubicBezTo>
                    <a:pt x="686435" y="307340"/>
                    <a:pt x="588010" y="614680"/>
                    <a:pt x="457200" y="647700"/>
                  </a:cubicBezTo>
                  <a:cubicBezTo>
                    <a:pt x="326390" y="680720"/>
                    <a:pt x="163195" y="439420"/>
                    <a:pt x="0" y="19812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组合 71"/>
          <p:cNvGrpSpPr/>
          <p:nvPr/>
        </p:nvGrpSpPr>
        <p:grpSpPr>
          <a:xfrm>
            <a:off x="8783640" y="2711520"/>
            <a:ext cx="1038240" cy="2757240"/>
            <a:chOff x="8783640" y="2711520"/>
            <a:chExt cx="1038240" cy="2757240"/>
          </a:xfrm>
        </p:grpSpPr>
        <p:sp>
          <p:nvSpPr>
            <p:cNvPr id="595" name="椭圆 72"/>
            <p:cNvSpPr/>
            <p:nvPr/>
          </p:nvSpPr>
          <p:spPr>
            <a:xfrm>
              <a:off x="9381600" y="2775240"/>
              <a:ext cx="440280" cy="44208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椭圆 73"/>
            <p:cNvSpPr/>
            <p:nvPr/>
          </p:nvSpPr>
          <p:spPr>
            <a:xfrm>
              <a:off x="8783640" y="2736000"/>
              <a:ext cx="312480" cy="3117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任意多边形 74"/>
            <p:cNvSpPr/>
            <p:nvPr/>
          </p:nvSpPr>
          <p:spPr>
            <a:xfrm>
              <a:off x="9509040" y="3225600"/>
              <a:ext cx="100080" cy="689040"/>
            </a:xfrm>
            <a:custGeom>
              <a:avLst/>
              <a:gdLst/>
              <a:ahLst/>
              <a:rect l="l" t="t" r="r" b="b"/>
              <a:pathLst>
                <a:path w="133350" h="919163">
                  <a:moveTo>
                    <a:pt x="133350" y="0"/>
                  </a:moveTo>
                  <a:lnTo>
                    <a:pt x="0" y="919163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任意多边形 75"/>
            <p:cNvSpPr/>
            <p:nvPr/>
          </p:nvSpPr>
          <p:spPr>
            <a:xfrm>
              <a:off x="9008640" y="3247560"/>
              <a:ext cx="568440" cy="550080"/>
            </a:xfrm>
            <a:custGeom>
              <a:avLst/>
              <a:gdLst/>
              <a:ahLst/>
              <a:rect l="l" t="t" r="r" b="b"/>
              <a:pathLst>
                <a:path w="757237" h="733981">
                  <a:moveTo>
                    <a:pt x="757237" y="271463"/>
                  </a:moveTo>
                  <a:cubicBezTo>
                    <a:pt x="658415" y="522685"/>
                    <a:pt x="559593" y="773907"/>
                    <a:pt x="433387" y="728663"/>
                  </a:cubicBezTo>
                  <a:cubicBezTo>
                    <a:pt x="307181" y="683419"/>
                    <a:pt x="153590" y="341709"/>
                    <a:pt x="0" y="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任意多边形 76"/>
            <p:cNvSpPr/>
            <p:nvPr/>
          </p:nvSpPr>
          <p:spPr>
            <a:xfrm>
              <a:off x="8876160" y="2711520"/>
              <a:ext cx="507600" cy="254160"/>
            </a:xfrm>
            <a:custGeom>
              <a:avLst/>
              <a:gdLst/>
              <a:ahLst/>
              <a:rect l="l" t="t" r="r" b="b"/>
              <a:pathLst>
                <a:path w="676275" h="339142">
                  <a:moveTo>
                    <a:pt x="676275" y="339142"/>
                  </a:moveTo>
                  <a:cubicBezTo>
                    <a:pt x="560784" y="248257"/>
                    <a:pt x="445294" y="157373"/>
                    <a:pt x="352425" y="101017"/>
                  </a:cubicBezTo>
                  <a:cubicBezTo>
                    <a:pt x="259556" y="44661"/>
                    <a:pt x="177800" y="8149"/>
                    <a:pt x="119063" y="1005"/>
                  </a:cubicBezTo>
                  <a:cubicBezTo>
                    <a:pt x="60325" y="-6139"/>
                    <a:pt x="30162" y="26008"/>
                    <a:pt x="0" y="58155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任意多边形 77"/>
            <p:cNvSpPr/>
            <p:nvPr/>
          </p:nvSpPr>
          <p:spPr>
            <a:xfrm>
              <a:off x="8943840" y="3931200"/>
              <a:ext cx="572040" cy="799920"/>
            </a:xfrm>
            <a:custGeom>
              <a:avLst/>
              <a:gdLst/>
              <a:ahLst/>
              <a:rect l="l" t="t" r="r" b="b"/>
              <a:pathLst>
                <a:path w="762000" h="1067013">
                  <a:moveTo>
                    <a:pt x="762000" y="213"/>
                  </a:moveTo>
                  <a:cubicBezTo>
                    <a:pt x="516890" y="-1057"/>
                    <a:pt x="271780" y="-2327"/>
                    <a:pt x="144780" y="175473"/>
                  </a:cubicBezTo>
                  <a:cubicBezTo>
                    <a:pt x="17780" y="353273"/>
                    <a:pt x="8890" y="710143"/>
                    <a:pt x="0" y="1067013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任意多边形 78"/>
            <p:cNvSpPr/>
            <p:nvPr/>
          </p:nvSpPr>
          <p:spPr>
            <a:xfrm>
              <a:off x="9501840" y="3914640"/>
              <a:ext cx="111960" cy="1554120"/>
            </a:xfrm>
            <a:custGeom>
              <a:avLst/>
              <a:gdLst/>
              <a:ahLst/>
              <a:rect l="l" t="t" r="r" b="b"/>
              <a:pathLst>
                <a:path w="160020" h="2183368">
                  <a:moveTo>
                    <a:pt x="0" y="34528"/>
                  </a:moveTo>
                  <a:cubicBezTo>
                    <a:pt x="9525" y="-15002"/>
                    <a:pt x="19050" y="-64532"/>
                    <a:pt x="45720" y="293608"/>
                  </a:cubicBezTo>
                  <a:cubicBezTo>
                    <a:pt x="72390" y="651748"/>
                    <a:pt x="116205" y="1417558"/>
                    <a:pt x="160020" y="2183368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" name="组合 79"/>
          <p:cNvGrpSpPr/>
          <p:nvPr/>
        </p:nvGrpSpPr>
        <p:grpSpPr>
          <a:xfrm>
            <a:off x="8907480" y="2405160"/>
            <a:ext cx="1020600" cy="3000240"/>
            <a:chOff x="8907480" y="2405160"/>
            <a:chExt cx="1020600" cy="3000240"/>
          </a:xfrm>
        </p:grpSpPr>
        <p:sp>
          <p:nvSpPr>
            <p:cNvPr id="603" name="椭圆 80"/>
            <p:cNvSpPr/>
            <p:nvPr/>
          </p:nvSpPr>
          <p:spPr>
            <a:xfrm>
              <a:off x="9466920" y="2641320"/>
              <a:ext cx="44028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椭圆 81"/>
            <p:cNvSpPr/>
            <p:nvPr/>
          </p:nvSpPr>
          <p:spPr>
            <a:xfrm>
              <a:off x="9104400" y="240516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任意多边形 82"/>
            <p:cNvSpPr/>
            <p:nvPr/>
          </p:nvSpPr>
          <p:spPr>
            <a:xfrm>
              <a:off x="9586800" y="3083760"/>
              <a:ext cx="100080" cy="689400"/>
            </a:xfrm>
            <a:custGeom>
              <a:avLst/>
              <a:gdLst/>
              <a:ahLst/>
              <a:rect l="l" t="t" r="r" b="b"/>
              <a:pathLst>
                <a:path w="133350" h="919163">
                  <a:moveTo>
                    <a:pt x="133350" y="0"/>
                  </a:moveTo>
                  <a:lnTo>
                    <a:pt x="0" y="919163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任意多边形 83"/>
            <p:cNvSpPr/>
            <p:nvPr/>
          </p:nvSpPr>
          <p:spPr>
            <a:xfrm>
              <a:off x="8971200" y="3155760"/>
              <a:ext cx="686160" cy="421200"/>
            </a:xfrm>
            <a:custGeom>
              <a:avLst/>
              <a:gdLst/>
              <a:ahLst/>
              <a:rect l="l" t="t" r="r" b="b"/>
              <a:pathLst>
                <a:path w="914400" h="561664">
                  <a:moveTo>
                    <a:pt x="914400" y="177800"/>
                  </a:moveTo>
                  <a:cubicBezTo>
                    <a:pt x="723900" y="383116"/>
                    <a:pt x="533400" y="588433"/>
                    <a:pt x="381000" y="558800"/>
                  </a:cubicBezTo>
                  <a:cubicBezTo>
                    <a:pt x="228600" y="529167"/>
                    <a:pt x="114300" y="264583"/>
                    <a:pt x="0" y="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任意多边形 84"/>
            <p:cNvSpPr/>
            <p:nvPr/>
          </p:nvSpPr>
          <p:spPr>
            <a:xfrm>
              <a:off x="8907480" y="3747960"/>
              <a:ext cx="683280" cy="788400"/>
            </a:xfrm>
            <a:custGeom>
              <a:avLst/>
              <a:gdLst/>
              <a:ahLst/>
              <a:rect l="l" t="t" r="r" b="b"/>
              <a:pathLst>
                <a:path w="910740" h="1051560">
                  <a:moveTo>
                    <a:pt x="910740" y="0"/>
                  </a:moveTo>
                  <a:cubicBezTo>
                    <a:pt x="593240" y="7620"/>
                    <a:pt x="275740" y="15240"/>
                    <a:pt x="125880" y="190500"/>
                  </a:cubicBezTo>
                  <a:cubicBezTo>
                    <a:pt x="-23980" y="365760"/>
                    <a:pt x="-6200" y="708660"/>
                    <a:pt x="11580" y="105156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任意多边形 85"/>
            <p:cNvSpPr/>
            <p:nvPr/>
          </p:nvSpPr>
          <p:spPr>
            <a:xfrm>
              <a:off x="9567000" y="3776760"/>
              <a:ext cx="361080" cy="1628640"/>
            </a:xfrm>
            <a:custGeom>
              <a:avLst/>
              <a:gdLst/>
              <a:ahLst/>
              <a:rect l="l" t="t" r="r" b="b"/>
              <a:pathLst>
                <a:path w="481437" h="2171700">
                  <a:moveTo>
                    <a:pt x="31857" y="0"/>
                  </a:moveTo>
                  <a:cubicBezTo>
                    <a:pt x="2012" y="508635"/>
                    <a:pt x="-27833" y="1017270"/>
                    <a:pt x="47097" y="1379220"/>
                  </a:cubicBezTo>
                  <a:cubicBezTo>
                    <a:pt x="122027" y="1741170"/>
                    <a:pt x="301732" y="1956435"/>
                    <a:pt x="481437" y="21717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任意多边形 86"/>
            <p:cNvSpPr/>
            <p:nvPr/>
          </p:nvSpPr>
          <p:spPr>
            <a:xfrm>
              <a:off x="9322200" y="2416320"/>
              <a:ext cx="280080" cy="234000"/>
            </a:xfrm>
            <a:custGeom>
              <a:avLst/>
              <a:gdLst/>
              <a:ahLst/>
              <a:rect l="l" t="t" r="r" b="b"/>
              <a:pathLst>
                <a:path w="373380" h="312420">
                  <a:moveTo>
                    <a:pt x="373380" y="312420"/>
                  </a:moveTo>
                  <a:cubicBezTo>
                    <a:pt x="267335" y="208915"/>
                    <a:pt x="161290" y="105410"/>
                    <a:pt x="99060" y="53340"/>
                  </a:cubicBezTo>
                  <a:cubicBezTo>
                    <a:pt x="36830" y="1270"/>
                    <a:pt x="18415" y="635"/>
                    <a:pt x="0" y="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0" name="组合 87"/>
          <p:cNvGrpSpPr/>
          <p:nvPr/>
        </p:nvGrpSpPr>
        <p:grpSpPr>
          <a:xfrm>
            <a:off x="8939160" y="2022480"/>
            <a:ext cx="1343160" cy="3371760"/>
            <a:chOff x="8939160" y="2022480"/>
            <a:chExt cx="1343160" cy="3371760"/>
          </a:xfrm>
        </p:grpSpPr>
        <p:sp>
          <p:nvSpPr>
            <p:cNvPr id="611" name="椭圆 88"/>
            <p:cNvSpPr/>
            <p:nvPr/>
          </p:nvSpPr>
          <p:spPr>
            <a:xfrm>
              <a:off x="9579960" y="252900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椭圆 89"/>
            <p:cNvSpPr/>
            <p:nvPr/>
          </p:nvSpPr>
          <p:spPr>
            <a:xfrm>
              <a:off x="9322560" y="2022480"/>
              <a:ext cx="31176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任意多边形 90"/>
            <p:cNvSpPr/>
            <p:nvPr/>
          </p:nvSpPr>
          <p:spPr>
            <a:xfrm>
              <a:off x="9591120" y="2971440"/>
              <a:ext cx="156240" cy="656640"/>
            </a:xfrm>
            <a:custGeom>
              <a:avLst/>
              <a:gdLst/>
              <a:ahLst/>
              <a:rect l="l" t="t" r="r" b="b"/>
              <a:pathLst>
                <a:path w="133350" h="919163">
                  <a:moveTo>
                    <a:pt x="133350" y="0"/>
                  </a:moveTo>
                  <a:lnTo>
                    <a:pt x="0" y="919163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任意多边形 91"/>
            <p:cNvSpPr/>
            <p:nvPr/>
          </p:nvSpPr>
          <p:spPr>
            <a:xfrm>
              <a:off x="9528480" y="2022480"/>
              <a:ext cx="285480" cy="508320"/>
            </a:xfrm>
            <a:custGeom>
              <a:avLst/>
              <a:gdLst/>
              <a:ahLst/>
              <a:rect l="l" t="t" r="r" b="b"/>
              <a:pathLst>
                <a:path w="381000" h="678180">
                  <a:moveTo>
                    <a:pt x="381000" y="678180"/>
                  </a:moveTo>
                  <a:cubicBezTo>
                    <a:pt x="302260" y="464185"/>
                    <a:pt x="223520" y="250190"/>
                    <a:pt x="160020" y="137160"/>
                  </a:cubicBezTo>
                  <a:cubicBezTo>
                    <a:pt x="96520" y="24130"/>
                    <a:pt x="48260" y="12065"/>
                    <a:pt x="0" y="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任意多边形 92"/>
            <p:cNvSpPr/>
            <p:nvPr/>
          </p:nvSpPr>
          <p:spPr>
            <a:xfrm>
              <a:off x="8945640" y="3045240"/>
              <a:ext cx="759600" cy="401040"/>
            </a:xfrm>
            <a:custGeom>
              <a:avLst/>
              <a:gdLst/>
              <a:ahLst/>
              <a:rect l="l" t="t" r="r" b="b"/>
              <a:pathLst>
                <a:path w="1013460" h="534730">
                  <a:moveTo>
                    <a:pt x="1013460" y="121920"/>
                  </a:moveTo>
                  <a:cubicBezTo>
                    <a:pt x="800735" y="337820"/>
                    <a:pt x="588010" y="553720"/>
                    <a:pt x="419100" y="533400"/>
                  </a:cubicBezTo>
                  <a:cubicBezTo>
                    <a:pt x="250190" y="513080"/>
                    <a:pt x="125095" y="256540"/>
                    <a:pt x="0" y="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任意多边形 93"/>
            <p:cNvSpPr/>
            <p:nvPr/>
          </p:nvSpPr>
          <p:spPr>
            <a:xfrm>
              <a:off x="8939160" y="3616920"/>
              <a:ext cx="657720" cy="788400"/>
            </a:xfrm>
            <a:custGeom>
              <a:avLst/>
              <a:gdLst/>
              <a:ahLst/>
              <a:rect l="l" t="t" r="r" b="b"/>
              <a:pathLst>
                <a:path w="877553" h="1051560">
                  <a:moveTo>
                    <a:pt x="877553" y="0"/>
                  </a:moveTo>
                  <a:cubicBezTo>
                    <a:pt x="563863" y="34290"/>
                    <a:pt x="250173" y="68580"/>
                    <a:pt x="107933" y="243840"/>
                  </a:cubicBezTo>
                  <a:cubicBezTo>
                    <a:pt x="-34307" y="419100"/>
                    <a:pt x="-5097" y="735330"/>
                    <a:pt x="24113" y="105156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任意多边形 94"/>
            <p:cNvSpPr/>
            <p:nvPr/>
          </p:nvSpPr>
          <p:spPr>
            <a:xfrm>
              <a:off x="9596880" y="3616920"/>
              <a:ext cx="685440" cy="1777320"/>
            </a:xfrm>
            <a:custGeom>
              <a:avLst/>
              <a:gdLst/>
              <a:ahLst/>
              <a:rect l="l" t="t" r="r" b="b"/>
              <a:pathLst>
                <a:path w="914400" h="2369820">
                  <a:moveTo>
                    <a:pt x="0" y="0"/>
                  </a:moveTo>
                  <a:cubicBezTo>
                    <a:pt x="68580" y="324485"/>
                    <a:pt x="137160" y="648970"/>
                    <a:pt x="289560" y="1043940"/>
                  </a:cubicBezTo>
                  <a:cubicBezTo>
                    <a:pt x="441960" y="1438910"/>
                    <a:pt x="678180" y="1904365"/>
                    <a:pt x="914400" y="236982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组合 95"/>
          <p:cNvGrpSpPr/>
          <p:nvPr/>
        </p:nvGrpSpPr>
        <p:grpSpPr>
          <a:xfrm>
            <a:off x="8812080" y="1887480"/>
            <a:ext cx="1670040" cy="3416400"/>
            <a:chOff x="8812080" y="1887480"/>
            <a:chExt cx="1670040" cy="3416400"/>
          </a:xfrm>
        </p:grpSpPr>
        <p:sp>
          <p:nvSpPr>
            <p:cNvPr id="619" name="椭圆 96"/>
            <p:cNvSpPr/>
            <p:nvPr/>
          </p:nvSpPr>
          <p:spPr>
            <a:xfrm>
              <a:off x="9665640" y="2471400"/>
              <a:ext cx="44028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椭圆 97"/>
            <p:cNvSpPr/>
            <p:nvPr/>
          </p:nvSpPr>
          <p:spPr>
            <a:xfrm>
              <a:off x="9622440" y="188748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 98"/>
            <p:cNvSpPr/>
            <p:nvPr/>
          </p:nvSpPr>
          <p:spPr>
            <a:xfrm>
              <a:off x="9700560" y="2914200"/>
              <a:ext cx="156600" cy="656640"/>
            </a:xfrm>
            <a:custGeom>
              <a:avLst/>
              <a:gdLst/>
              <a:ahLst/>
              <a:rect l="l" t="t" r="r" b="b"/>
              <a:pathLst>
                <a:path w="133350" h="919163">
                  <a:moveTo>
                    <a:pt x="133350" y="0"/>
                  </a:moveTo>
                  <a:lnTo>
                    <a:pt x="0" y="919163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 99"/>
            <p:cNvSpPr/>
            <p:nvPr/>
          </p:nvSpPr>
          <p:spPr>
            <a:xfrm>
              <a:off x="9857880" y="1917000"/>
              <a:ext cx="118440" cy="552600"/>
            </a:xfrm>
            <a:custGeom>
              <a:avLst/>
              <a:gdLst/>
              <a:ahLst/>
              <a:rect l="l" t="t" r="r" b="b"/>
              <a:pathLst>
                <a:path w="158079" h="736600">
                  <a:moveTo>
                    <a:pt x="152400" y="736600"/>
                  </a:moveTo>
                  <a:cubicBezTo>
                    <a:pt x="158750" y="493183"/>
                    <a:pt x="165100" y="249767"/>
                    <a:pt x="139700" y="127000"/>
                  </a:cubicBezTo>
                  <a:cubicBezTo>
                    <a:pt x="114300" y="4233"/>
                    <a:pt x="57150" y="2116"/>
                    <a:pt x="0" y="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任意多边形 100"/>
            <p:cNvSpPr/>
            <p:nvPr/>
          </p:nvSpPr>
          <p:spPr>
            <a:xfrm>
              <a:off x="9000720" y="3565440"/>
              <a:ext cx="704520" cy="847800"/>
            </a:xfrm>
            <a:custGeom>
              <a:avLst/>
              <a:gdLst/>
              <a:ahLst/>
              <a:rect l="l" t="t" r="r" b="b"/>
              <a:pathLst>
                <a:path w="939099" h="1130300">
                  <a:moveTo>
                    <a:pt x="939099" y="0"/>
                  </a:moveTo>
                  <a:cubicBezTo>
                    <a:pt x="567624" y="32808"/>
                    <a:pt x="196149" y="65617"/>
                    <a:pt x="62799" y="254000"/>
                  </a:cubicBezTo>
                  <a:cubicBezTo>
                    <a:pt x="-70551" y="442383"/>
                    <a:pt x="34224" y="786341"/>
                    <a:pt x="138999" y="11303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任意多边形 101"/>
            <p:cNvSpPr/>
            <p:nvPr/>
          </p:nvSpPr>
          <p:spPr>
            <a:xfrm>
              <a:off x="8812080" y="3086640"/>
              <a:ext cx="1014840" cy="304560"/>
            </a:xfrm>
            <a:custGeom>
              <a:avLst/>
              <a:gdLst/>
              <a:ahLst/>
              <a:rect l="l" t="t" r="r" b="b"/>
              <a:pathLst>
                <a:path w="1352550" h="406231">
                  <a:moveTo>
                    <a:pt x="1352550" y="0"/>
                  </a:moveTo>
                  <a:cubicBezTo>
                    <a:pt x="1143264" y="160337"/>
                    <a:pt x="933979" y="320675"/>
                    <a:pt x="784225" y="377825"/>
                  </a:cubicBezTo>
                  <a:cubicBezTo>
                    <a:pt x="634471" y="434975"/>
                    <a:pt x="584729" y="396875"/>
                    <a:pt x="454025" y="342900"/>
                  </a:cubicBezTo>
                  <a:cubicBezTo>
                    <a:pt x="323321" y="288925"/>
                    <a:pt x="161660" y="171450"/>
                    <a:pt x="0" y="53975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 102"/>
            <p:cNvSpPr/>
            <p:nvPr/>
          </p:nvSpPr>
          <p:spPr>
            <a:xfrm>
              <a:off x="9705600" y="3546360"/>
              <a:ext cx="776520" cy="1757520"/>
            </a:xfrm>
            <a:custGeom>
              <a:avLst/>
              <a:gdLst/>
              <a:ahLst/>
              <a:rect l="l" t="t" r="r" b="b"/>
              <a:pathLst>
                <a:path w="1035050" h="2343150">
                  <a:moveTo>
                    <a:pt x="0" y="0"/>
                  </a:moveTo>
                  <a:cubicBezTo>
                    <a:pt x="78846" y="477837"/>
                    <a:pt x="157692" y="955675"/>
                    <a:pt x="330200" y="1346200"/>
                  </a:cubicBezTo>
                  <a:cubicBezTo>
                    <a:pt x="502708" y="1736725"/>
                    <a:pt x="768879" y="2039937"/>
                    <a:pt x="1035050" y="23431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组合 103"/>
          <p:cNvGrpSpPr/>
          <p:nvPr/>
        </p:nvGrpSpPr>
        <p:grpSpPr>
          <a:xfrm>
            <a:off x="8879040" y="1928880"/>
            <a:ext cx="1699920" cy="3074760"/>
            <a:chOff x="8879040" y="1928880"/>
            <a:chExt cx="1699920" cy="3074760"/>
          </a:xfrm>
        </p:grpSpPr>
        <p:sp>
          <p:nvSpPr>
            <p:cNvPr id="627" name="椭圆 104"/>
            <p:cNvSpPr/>
            <p:nvPr/>
          </p:nvSpPr>
          <p:spPr>
            <a:xfrm>
              <a:off x="9730440" y="240696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任意多边形 105"/>
            <p:cNvSpPr/>
            <p:nvPr/>
          </p:nvSpPr>
          <p:spPr>
            <a:xfrm>
              <a:off x="9735840" y="2843280"/>
              <a:ext cx="156600" cy="656640"/>
            </a:xfrm>
            <a:custGeom>
              <a:avLst/>
              <a:gdLst/>
              <a:ahLst/>
              <a:rect l="l" t="t" r="r" b="b"/>
              <a:pathLst>
                <a:path w="133350" h="919163">
                  <a:moveTo>
                    <a:pt x="133350" y="0"/>
                  </a:moveTo>
                  <a:lnTo>
                    <a:pt x="0" y="919163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任意多边形 106"/>
            <p:cNvSpPr/>
            <p:nvPr/>
          </p:nvSpPr>
          <p:spPr>
            <a:xfrm>
              <a:off x="8879040" y="3020400"/>
              <a:ext cx="964440" cy="399240"/>
            </a:xfrm>
            <a:custGeom>
              <a:avLst/>
              <a:gdLst/>
              <a:ahLst/>
              <a:rect l="l" t="t" r="r" b="b"/>
              <a:pathLst>
                <a:path w="1285875" h="532507">
                  <a:moveTo>
                    <a:pt x="1285875" y="0"/>
                  </a:moveTo>
                  <a:cubicBezTo>
                    <a:pt x="1159668" y="196056"/>
                    <a:pt x="1033462" y="392113"/>
                    <a:pt x="819150" y="476250"/>
                  </a:cubicBezTo>
                  <a:cubicBezTo>
                    <a:pt x="604838" y="560387"/>
                    <a:pt x="302419" y="532606"/>
                    <a:pt x="0" y="504825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任意多边形 107"/>
            <p:cNvSpPr/>
            <p:nvPr/>
          </p:nvSpPr>
          <p:spPr>
            <a:xfrm>
              <a:off x="9991080" y="2208600"/>
              <a:ext cx="64080" cy="192600"/>
            </a:xfrm>
            <a:custGeom>
              <a:avLst/>
              <a:gdLst/>
              <a:ahLst/>
              <a:rect l="l" t="t" r="r" b="b"/>
              <a:pathLst>
                <a:path w="85725" h="257175">
                  <a:moveTo>
                    <a:pt x="0" y="257175"/>
                  </a:moveTo>
                  <a:lnTo>
                    <a:pt x="85725" y="0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椭圆 108"/>
            <p:cNvSpPr/>
            <p:nvPr/>
          </p:nvSpPr>
          <p:spPr>
            <a:xfrm>
              <a:off x="9950760" y="192888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任意多边形 109"/>
            <p:cNvSpPr/>
            <p:nvPr/>
          </p:nvSpPr>
          <p:spPr>
            <a:xfrm>
              <a:off x="8988840" y="3480120"/>
              <a:ext cx="752040" cy="1049760"/>
            </a:xfrm>
            <a:custGeom>
              <a:avLst/>
              <a:gdLst/>
              <a:ahLst/>
              <a:rect l="l" t="t" r="r" b="b"/>
              <a:pathLst>
                <a:path w="1002731" h="1400175">
                  <a:moveTo>
                    <a:pt x="1002731" y="0"/>
                  </a:moveTo>
                  <a:cubicBezTo>
                    <a:pt x="728887" y="100806"/>
                    <a:pt x="455043" y="201613"/>
                    <a:pt x="288356" y="295275"/>
                  </a:cubicBezTo>
                  <a:cubicBezTo>
                    <a:pt x="121669" y="388937"/>
                    <a:pt x="-21207" y="377825"/>
                    <a:pt x="2606" y="561975"/>
                  </a:cubicBezTo>
                  <a:cubicBezTo>
                    <a:pt x="26418" y="746125"/>
                    <a:pt x="228824" y="1073150"/>
                    <a:pt x="431231" y="1400175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任意多边形 110"/>
            <p:cNvSpPr/>
            <p:nvPr/>
          </p:nvSpPr>
          <p:spPr>
            <a:xfrm>
              <a:off x="9736200" y="3475440"/>
              <a:ext cx="842760" cy="1528200"/>
            </a:xfrm>
            <a:custGeom>
              <a:avLst/>
              <a:gdLst/>
              <a:ahLst/>
              <a:rect l="l" t="t" r="r" b="b"/>
              <a:pathLst>
                <a:path w="1123950" h="2038350">
                  <a:moveTo>
                    <a:pt x="0" y="0"/>
                  </a:moveTo>
                  <a:cubicBezTo>
                    <a:pt x="15875" y="487362"/>
                    <a:pt x="31750" y="974725"/>
                    <a:pt x="219075" y="1314450"/>
                  </a:cubicBezTo>
                  <a:cubicBezTo>
                    <a:pt x="406400" y="1654175"/>
                    <a:pt x="765175" y="1846262"/>
                    <a:pt x="1123950" y="20383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4" name="组合 119"/>
          <p:cNvGrpSpPr/>
          <p:nvPr/>
        </p:nvGrpSpPr>
        <p:grpSpPr>
          <a:xfrm>
            <a:off x="8956800" y="1886040"/>
            <a:ext cx="1627200" cy="2905200"/>
            <a:chOff x="8956800" y="1886040"/>
            <a:chExt cx="1627200" cy="2905200"/>
          </a:xfrm>
        </p:grpSpPr>
        <p:sp>
          <p:nvSpPr>
            <p:cNvPr id="635" name="椭圆 120"/>
            <p:cNvSpPr/>
            <p:nvPr/>
          </p:nvSpPr>
          <p:spPr>
            <a:xfrm>
              <a:off x="9673560" y="240660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任意多边形 121"/>
            <p:cNvSpPr/>
            <p:nvPr/>
          </p:nvSpPr>
          <p:spPr>
            <a:xfrm>
              <a:off x="9736200" y="2843280"/>
              <a:ext cx="156600" cy="656640"/>
            </a:xfrm>
            <a:custGeom>
              <a:avLst/>
              <a:gdLst/>
              <a:ahLst/>
              <a:rect l="l" t="t" r="r" b="b"/>
              <a:pathLst>
                <a:path w="133350" h="919163">
                  <a:moveTo>
                    <a:pt x="133350" y="0"/>
                  </a:moveTo>
                  <a:lnTo>
                    <a:pt x="0" y="919163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任意多边形 122"/>
            <p:cNvSpPr/>
            <p:nvPr/>
          </p:nvSpPr>
          <p:spPr>
            <a:xfrm>
              <a:off x="10107360" y="2088360"/>
              <a:ext cx="476640" cy="543600"/>
            </a:xfrm>
            <a:custGeom>
              <a:avLst/>
              <a:gdLst/>
              <a:ahLst/>
              <a:rect l="l" t="t" r="r" b="b"/>
              <a:pathLst>
                <a:path w="635488" h="724916">
                  <a:moveTo>
                    <a:pt x="0" y="724916"/>
                  </a:moveTo>
                  <a:cubicBezTo>
                    <a:pt x="236008" y="480441"/>
                    <a:pt x="472017" y="235966"/>
                    <a:pt x="571500" y="115316"/>
                  </a:cubicBezTo>
                  <a:cubicBezTo>
                    <a:pt x="670983" y="-5334"/>
                    <a:pt x="633941" y="-2159"/>
                    <a:pt x="596900" y="1016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任意多边形 123"/>
            <p:cNvSpPr/>
            <p:nvPr/>
          </p:nvSpPr>
          <p:spPr>
            <a:xfrm>
              <a:off x="8956800" y="3011400"/>
              <a:ext cx="897120" cy="645480"/>
            </a:xfrm>
            <a:custGeom>
              <a:avLst/>
              <a:gdLst/>
              <a:ahLst/>
              <a:rect l="l" t="t" r="r" b="b"/>
              <a:pathLst>
                <a:path w="1196340" h="861060">
                  <a:moveTo>
                    <a:pt x="1196340" y="0"/>
                  </a:moveTo>
                  <a:cubicBezTo>
                    <a:pt x="1099185" y="164465"/>
                    <a:pt x="1002030" y="328930"/>
                    <a:pt x="914400" y="426720"/>
                  </a:cubicBezTo>
                  <a:cubicBezTo>
                    <a:pt x="826770" y="524510"/>
                    <a:pt x="822960" y="514350"/>
                    <a:pt x="670560" y="586740"/>
                  </a:cubicBezTo>
                  <a:cubicBezTo>
                    <a:pt x="518160" y="659130"/>
                    <a:pt x="259080" y="760095"/>
                    <a:pt x="0" y="86106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任意多边形 124"/>
            <p:cNvSpPr/>
            <p:nvPr/>
          </p:nvSpPr>
          <p:spPr>
            <a:xfrm>
              <a:off x="9053640" y="3494520"/>
              <a:ext cx="680040" cy="1142640"/>
            </a:xfrm>
            <a:custGeom>
              <a:avLst/>
              <a:gdLst/>
              <a:ahLst/>
              <a:rect l="l" t="t" r="r" b="b"/>
              <a:pathLst>
                <a:path w="906800" h="1524000">
                  <a:moveTo>
                    <a:pt x="906800" y="0"/>
                  </a:moveTo>
                  <a:cubicBezTo>
                    <a:pt x="487065" y="215900"/>
                    <a:pt x="67330" y="431800"/>
                    <a:pt x="7640" y="685800"/>
                  </a:cubicBezTo>
                  <a:cubicBezTo>
                    <a:pt x="-52050" y="939800"/>
                    <a:pt x="248305" y="1231900"/>
                    <a:pt x="548660" y="15240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任意多边形 125"/>
            <p:cNvSpPr/>
            <p:nvPr/>
          </p:nvSpPr>
          <p:spPr>
            <a:xfrm>
              <a:off x="9737280" y="3494160"/>
              <a:ext cx="840240" cy="1297080"/>
            </a:xfrm>
            <a:custGeom>
              <a:avLst/>
              <a:gdLst/>
              <a:ahLst/>
              <a:rect l="l" t="t" r="r" b="b"/>
              <a:pathLst>
                <a:path w="1120140" h="1729740">
                  <a:moveTo>
                    <a:pt x="0" y="0"/>
                  </a:moveTo>
                  <a:cubicBezTo>
                    <a:pt x="17145" y="541655"/>
                    <a:pt x="34290" y="1083310"/>
                    <a:pt x="220980" y="1371600"/>
                  </a:cubicBezTo>
                  <a:cubicBezTo>
                    <a:pt x="407670" y="1659890"/>
                    <a:pt x="763905" y="1694815"/>
                    <a:pt x="1120140" y="172974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椭圆 126"/>
            <p:cNvSpPr/>
            <p:nvPr/>
          </p:nvSpPr>
          <p:spPr>
            <a:xfrm>
              <a:off x="10267920" y="188604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2" name="组合 127"/>
          <p:cNvGrpSpPr/>
          <p:nvPr/>
        </p:nvGrpSpPr>
        <p:grpSpPr>
          <a:xfrm>
            <a:off x="5492880" y="1908000"/>
            <a:ext cx="5290920" cy="2901960"/>
            <a:chOff x="5492880" y="1908000"/>
            <a:chExt cx="5290920" cy="2901960"/>
          </a:xfrm>
        </p:grpSpPr>
        <p:sp>
          <p:nvSpPr>
            <p:cNvPr id="643" name="椭圆 128"/>
            <p:cNvSpPr/>
            <p:nvPr/>
          </p:nvSpPr>
          <p:spPr>
            <a:xfrm>
              <a:off x="9626400" y="239184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任意多边形 129"/>
            <p:cNvSpPr/>
            <p:nvPr/>
          </p:nvSpPr>
          <p:spPr>
            <a:xfrm>
              <a:off x="9654840" y="2835360"/>
              <a:ext cx="215640" cy="822240"/>
            </a:xfrm>
            <a:custGeom>
              <a:avLst/>
              <a:gdLst/>
              <a:ahLst/>
              <a:rect l="l" t="t" r="r" b="b"/>
              <a:pathLst>
                <a:path w="133350" h="919163">
                  <a:moveTo>
                    <a:pt x="133350" y="0"/>
                  </a:moveTo>
                  <a:lnTo>
                    <a:pt x="0" y="919163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椭圆 130"/>
            <p:cNvSpPr/>
            <p:nvPr/>
          </p:nvSpPr>
          <p:spPr>
            <a:xfrm>
              <a:off x="10339920" y="1930320"/>
              <a:ext cx="411480" cy="41148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任意多边形 131"/>
            <p:cNvSpPr/>
            <p:nvPr/>
          </p:nvSpPr>
          <p:spPr>
            <a:xfrm>
              <a:off x="9855000" y="1950840"/>
              <a:ext cx="928800" cy="964080"/>
            </a:xfrm>
            <a:custGeom>
              <a:avLst/>
              <a:gdLst/>
              <a:ahLst/>
              <a:rect l="l" t="t" r="r" b="b"/>
              <a:pathLst>
                <a:path w="1238588" h="1285875">
                  <a:moveTo>
                    <a:pt x="0" y="1285875"/>
                  </a:moveTo>
                  <a:cubicBezTo>
                    <a:pt x="415925" y="1013618"/>
                    <a:pt x="831850" y="741362"/>
                    <a:pt x="1038225" y="552450"/>
                  </a:cubicBezTo>
                  <a:cubicBezTo>
                    <a:pt x="1244600" y="363538"/>
                    <a:pt x="1231900" y="244475"/>
                    <a:pt x="1238250" y="152400"/>
                  </a:cubicBezTo>
                  <a:cubicBezTo>
                    <a:pt x="1244600" y="60325"/>
                    <a:pt x="1160462" y="30162"/>
                    <a:pt x="1076325" y="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任意多边形 132"/>
            <p:cNvSpPr/>
            <p:nvPr/>
          </p:nvSpPr>
          <p:spPr>
            <a:xfrm>
              <a:off x="9025920" y="3652920"/>
              <a:ext cx="624240" cy="1157040"/>
            </a:xfrm>
            <a:custGeom>
              <a:avLst/>
              <a:gdLst/>
              <a:ahLst/>
              <a:rect l="l" t="t" r="r" b="b"/>
              <a:pathLst>
                <a:path w="832366" h="1543050">
                  <a:moveTo>
                    <a:pt x="832366" y="0"/>
                  </a:moveTo>
                  <a:cubicBezTo>
                    <a:pt x="549791" y="212725"/>
                    <a:pt x="267216" y="425450"/>
                    <a:pt x="137041" y="561975"/>
                  </a:cubicBezTo>
                  <a:cubicBezTo>
                    <a:pt x="6866" y="698500"/>
                    <a:pt x="-48696" y="655638"/>
                    <a:pt x="51316" y="819150"/>
                  </a:cubicBezTo>
                  <a:cubicBezTo>
                    <a:pt x="151328" y="982662"/>
                    <a:pt x="444222" y="1262856"/>
                    <a:pt x="737116" y="15430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任意多边形 133"/>
            <p:cNvSpPr/>
            <p:nvPr/>
          </p:nvSpPr>
          <p:spPr>
            <a:xfrm>
              <a:off x="9662040" y="3650760"/>
              <a:ext cx="857160" cy="1041120"/>
            </a:xfrm>
            <a:custGeom>
              <a:avLst/>
              <a:gdLst/>
              <a:ahLst/>
              <a:rect l="l" t="t" r="r" b="b"/>
              <a:pathLst>
                <a:path w="1143000" h="1388604">
                  <a:moveTo>
                    <a:pt x="0" y="0"/>
                  </a:moveTo>
                  <a:cubicBezTo>
                    <a:pt x="23812" y="475456"/>
                    <a:pt x="47625" y="950913"/>
                    <a:pt x="238125" y="1181100"/>
                  </a:cubicBezTo>
                  <a:cubicBezTo>
                    <a:pt x="428625" y="1411287"/>
                    <a:pt x="785812" y="1396206"/>
                    <a:pt x="1143000" y="1381125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任意多边形 134"/>
            <p:cNvSpPr/>
            <p:nvPr/>
          </p:nvSpPr>
          <p:spPr>
            <a:xfrm>
              <a:off x="5492880" y="1908000"/>
              <a:ext cx="632880" cy="389880"/>
            </a:xfrm>
            <a:custGeom>
              <a:avLst/>
              <a:gdLst/>
              <a:ahLst/>
              <a:rect l="l" t="t" r="r" b="b"/>
              <a:pathLst>
                <a:path w="844092" h="520392">
                  <a:moveTo>
                    <a:pt x="15417" y="0"/>
                  </a:moveTo>
                  <a:cubicBezTo>
                    <a:pt x="-2840" y="234950"/>
                    <a:pt x="-21096" y="469900"/>
                    <a:pt x="63042" y="514350"/>
                  </a:cubicBezTo>
                  <a:cubicBezTo>
                    <a:pt x="147180" y="558800"/>
                    <a:pt x="390067" y="346075"/>
                    <a:pt x="520242" y="266700"/>
                  </a:cubicBezTo>
                  <a:cubicBezTo>
                    <a:pt x="650417" y="187325"/>
                    <a:pt x="747254" y="112712"/>
                    <a:pt x="844092" y="3810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0" name="组合 135"/>
          <p:cNvGrpSpPr/>
          <p:nvPr/>
        </p:nvGrpSpPr>
        <p:grpSpPr>
          <a:xfrm>
            <a:off x="5408640" y="1844640"/>
            <a:ext cx="5379840" cy="3083040"/>
            <a:chOff x="5408640" y="1844640"/>
            <a:chExt cx="5379840" cy="3083040"/>
          </a:xfrm>
        </p:grpSpPr>
        <p:sp>
          <p:nvSpPr>
            <p:cNvPr id="651" name="椭圆 136"/>
            <p:cNvSpPr/>
            <p:nvPr/>
          </p:nvSpPr>
          <p:spPr>
            <a:xfrm>
              <a:off x="9598320" y="251352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椭圆 137"/>
            <p:cNvSpPr/>
            <p:nvPr/>
          </p:nvSpPr>
          <p:spPr>
            <a:xfrm>
              <a:off x="10377000" y="2085120"/>
              <a:ext cx="411480" cy="4118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任意多边形 138"/>
            <p:cNvSpPr/>
            <p:nvPr/>
          </p:nvSpPr>
          <p:spPr>
            <a:xfrm>
              <a:off x="9652320" y="3074760"/>
              <a:ext cx="34200" cy="1076400"/>
            </a:xfrm>
            <a:custGeom>
              <a:avLst/>
              <a:gdLst/>
              <a:ahLst/>
              <a:rect l="l" t="t" r="r" b="b"/>
              <a:pathLst>
                <a:path w="76200" h="1295400">
                  <a:moveTo>
                    <a:pt x="76200" y="0"/>
                  </a:moveTo>
                  <a:lnTo>
                    <a:pt x="0" y="1295400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任意多边形 139"/>
            <p:cNvSpPr/>
            <p:nvPr/>
          </p:nvSpPr>
          <p:spPr>
            <a:xfrm>
              <a:off x="9977040" y="2393640"/>
              <a:ext cx="771480" cy="485640"/>
            </a:xfrm>
            <a:custGeom>
              <a:avLst/>
              <a:gdLst/>
              <a:ahLst/>
              <a:rect l="l" t="t" r="r" b="b"/>
              <a:pathLst>
                <a:path w="1314450" h="819150">
                  <a:moveTo>
                    <a:pt x="0" y="819150"/>
                  </a:moveTo>
                  <a:cubicBezTo>
                    <a:pt x="423862" y="630237"/>
                    <a:pt x="847725" y="441325"/>
                    <a:pt x="1066800" y="304800"/>
                  </a:cubicBezTo>
                  <a:cubicBezTo>
                    <a:pt x="1285875" y="168275"/>
                    <a:pt x="1314450" y="0"/>
                    <a:pt x="1314450" y="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任意多边形 140"/>
            <p:cNvSpPr/>
            <p:nvPr/>
          </p:nvSpPr>
          <p:spPr>
            <a:xfrm>
              <a:off x="9448560" y="2950920"/>
              <a:ext cx="333360" cy="876240"/>
            </a:xfrm>
            <a:custGeom>
              <a:avLst/>
              <a:gdLst/>
              <a:ahLst/>
              <a:rect l="l" t="t" r="r" b="b"/>
              <a:pathLst>
                <a:path w="444500" h="1168400">
                  <a:moveTo>
                    <a:pt x="444500" y="0"/>
                  </a:moveTo>
                  <a:cubicBezTo>
                    <a:pt x="310091" y="166158"/>
                    <a:pt x="175683" y="332317"/>
                    <a:pt x="101600" y="527050"/>
                  </a:cubicBezTo>
                  <a:cubicBezTo>
                    <a:pt x="27517" y="721783"/>
                    <a:pt x="13758" y="945091"/>
                    <a:pt x="0" y="11684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任意多边形 141"/>
            <p:cNvSpPr/>
            <p:nvPr/>
          </p:nvSpPr>
          <p:spPr>
            <a:xfrm>
              <a:off x="9102600" y="3817800"/>
              <a:ext cx="526680" cy="1109880"/>
            </a:xfrm>
            <a:custGeom>
              <a:avLst/>
              <a:gdLst/>
              <a:ahLst/>
              <a:rect l="l" t="t" r="r" b="b"/>
              <a:pathLst>
                <a:path w="702235" h="1479550">
                  <a:moveTo>
                    <a:pt x="460935" y="0"/>
                  </a:moveTo>
                  <a:cubicBezTo>
                    <a:pt x="299010" y="197908"/>
                    <a:pt x="137085" y="395817"/>
                    <a:pt x="67235" y="539750"/>
                  </a:cubicBezTo>
                  <a:cubicBezTo>
                    <a:pt x="-2615" y="683683"/>
                    <a:pt x="-29073" y="735542"/>
                    <a:pt x="41835" y="863600"/>
                  </a:cubicBezTo>
                  <a:cubicBezTo>
                    <a:pt x="112743" y="991658"/>
                    <a:pt x="382618" y="1205442"/>
                    <a:pt x="492685" y="1308100"/>
                  </a:cubicBezTo>
                  <a:cubicBezTo>
                    <a:pt x="602752" y="1410758"/>
                    <a:pt x="652493" y="1445154"/>
                    <a:pt x="702235" y="14795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任意多边形 142"/>
            <p:cNvSpPr/>
            <p:nvPr/>
          </p:nvSpPr>
          <p:spPr>
            <a:xfrm>
              <a:off x="9453240" y="3822840"/>
              <a:ext cx="961920" cy="749160"/>
            </a:xfrm>
            <a:custGeom>
              <a:avLst/>
              <a:gdLst/>
              <a:ahLst/>
              <a:rect l="l" t="t" r="r" b="b"/>
              <a:pathLst>
                <a:path w="1282700" h="998893">
                  <a:moveTo>
                    <a:pt x="0" y="0"/>
                  </a:moveTo>
                  <a:cubicBezTo>
                    <a:pt x="84666" y="299508"/>
                    <a:pt x="169333" y="599017"/>
                    <a:pt x="234950" y="762000"/>
                  </a:cubicBezTo>
                  <a:cubicBezTo>
                    <a:pt x="300567" y="924983"/>
                    <a:pt x="300567" y="939800"/>
                    <a:pt x="393700" y="977900"/>
                  </a:cubicBezTo>
                  <a:cubicBezTo>
                    <a:pt x="486833" y="1016000"/>
                    <a:pt x="793750" y="990600"/>
                    <a:pt x="793750" y="990600"/>
                  </a:cubicBezTo>
                  <a:lnTo>
                    <a:pt x="1282700" y="984250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直接连接符 143"/>
            <p:cNvSpPr/>
            <p:nvPr/>
          </p:nvSpPr>
          <p:spPr>
            <a:xfrm>
              <a:off x="5408640" y="2277000"/>
              <a:ext cx="260280" cy="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直接连接符 144"/>
            <p:cNvSpPr/>
            <p:nvPr/>
          </p:nvSpPr>
          <p:spPr>
            <a:xfrm>
              <a:off x="5711040" y="1844640"/>
              <a:ext cx="10800" cy="7261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直接连接符 145"/>
            <p:cNvSpPr/>
            <p:nvPr/>
          </p:nvSpPr>
          <p:spPr>
            <a:xfrm flipV="1">
              <a:off x="5722200" y="2084760"/>
              <a:ext cx="571320" cy="4856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椭圆 146"/>
            <p:cNvSpPr/>
            <p:nvPr/>
          </p:nvSpPr>
          <p:spPr>
            <a:xfrm rot="21378600">
              <a:off x="6251040" y="1891440"/>
              <a:ext cx="560880" cy="160920"/>
            </a:xfrm>
            <a:prstGeom prst="ellipse">
              <a:avLst/>
            </a:prstGeom>
            <a:noFill/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任意多边形 147"/>
            <p:cNvSpPr/>
            <p:nvPr/>
          </p:nvSpPr>
          <p:spPr>
            <a:xfrm>
              <a:off x="6247800" y="1982160"/>
              <a:ext cx="559800" cy="617400"/>
            </a:xfrm>
            <a:custGeom>
              <a:avLst/>
              <a:gdLst/>
              <a:ahLst/>
              <a:rect l="l" t="t" r="r" b="b"/>
              <a:pathLst>
                <a:path w="746760" h="823342">
                  <a:moveTo>
                    <a:pt x="0" y="30480"/>
                  </a:moveTo>
                  <a:cubicBezTo>
                    <a:pt x="65405" y="128270"/>
                    <a:pt x="130810" y="226060"/>
                    <a:pt x="167640" y="342900"/>
                  </a:cubicBezTo>
                  <a:cubicBezTo>
                    <a:pt x="204470" y="459740"/>
                    <a:pt x="137160" y="659130"/>
                    <a:pt x="220980" y="731520"/>
                  </a:cubicBezTo>
                  <a:cubicBezTo>
                    <a:pt x="304800" y="803910"/>
                    <a:pt x="598170" y="871220"/>
                    <a:pt x="670560" y="777240"/>
                  </a:cubicBezTo>
                  <a:cubicBezTo>
                    <a:pt x="742950" y="683260"/>
                    <a:pt x="642620" y="297180"/>
                    <a:pt x="655320" y="167640"/>
                  </a:cubicBezTo>
                  <a:cubicBezTo>
                    <a:pt x="668020" y="38100"/>
                    <a:pt x="707390" y="19050"/>
                    <a:pt x="746760" y="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3" name="组合 148"/>
          <p:cNvGrpSpPr/>
          <p:nvPr/>
        </p:nvGrpSpPr>
        <p:grpSpPr>
          <a:xfrm>
            <a:off x="5511960" y="1844640"/>
            <a:ext cx="5295600" cy="3175200"/>
            <a:chOff x="5511960" y="1844640"/>
            <a:chExt cx="5295600" cy="3175200"/>
          </a:xfrm>
        </p:grpSpPr>
        <p:sp>
          <p:nvSpPr>
            <p:cNvPr id="664" name="椭圆 149"/>
            <p:cNvSpPr/>
            <p:nvPr/>
          </p:nvSpPr>
          <p:spPr>
            <a:xfrm>
              <a:off x="9450360" y="258732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椭圆 150"/>
            <p:cNvSpPr/>
            <p:nvPr/>
          </p:nvSpPr>
          <p:spPr>
            <a:xfrm>
              <a:off x="10396080" y="2327760"/>
              <a:ext cx="411480" cy="41148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任意多边形 151"/>
            <p:cNvSpPr/>
            <p:nvPr/>
          </p:nvSpPr>
          <p:spPr>
            <a:xfrm>
              <a:off x="9353160" y="3013920"/>
              <a:ext cx="333360" cy="875880"/>
            </a:xfrm>
            <a:custGeom>
              <a:avLst/>
              <a:gdLst/>
              <a:ahLst/>
              <a:rect l="l" t="t" r="r" b="b"/>
              <a:pathLst>
                <a:path w="444500" h="1168400">
                  <a:moveTo>
                    <a:pt x="444500" y="0"/>
                  </a:moveTo>
                  <a:cubicBezTo>
                    <a:pt x="310091" y="166158"/>
                    <a:pt x="175683" y="332317"/>
                    <a:pt x="101600" y="527050"/>
                  </a:cubicBezTo>
                  <a:cubicBezTo>
                    <a:pt x="27517" y="721783"/>
                    <a:pt x="13758" y="945091"/>
                    <a:pt x="0" y="11684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任意多边形 152"/>
            <p:cNvSpPr/>
            <p:nvPr/>
          </p:nvSpPr>
          <p:spPr>
            <a:xfrm>
              <a:off x="9614880" y="3110400"/>
              <a:ext cx="221400" cy="1096920"/>
            </a:xfrm>
            <a:custGeom>
              <a:avLst/>
              <a:gdLst/>
              <a:ahLst/>
              <a:rect l="l" t="t" r="r" b="b"/>
              <a:pathLst>
                <a:path w="295422" h="1463040">
                  <a:moveTo>
                    <a:pt x="0" y="0"/>
                  </a:moveTo>
                  <a:cubicBezTo>
                    <a:pt x="66821" y="461889"/>
                    <a:pt x="133643" y="923778"/>
                    <a:pt x="182880" y="1167618"/>
                  </a:cubicBezTo>
                  <a:cubicBezTo>
                    <a:pt x="232117" y="1411458"/>
                    <a:pt x="263769" y="1437249"/>
                    <a:pt x="295422" y="146304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任意多边形 153"/>
            <p:cNvSpPr/>
            <p:nvPr/>
          </p:nvSpPr>
          <p:spPr>
            <a:xfrm>
              <a:off x="9783720" y="2651040"/>
              <a:ext cx="991800" cy="358560"/>
            </a:xfrm>
            <a:custGeom>
              <a:avLst/>
              <a:gdLst/>
              <a:ahLst/>
              <a:rect l="l" t="t" r="r" b="b"/>
              <a:pathLst>
                <a:path w="1322363" h="478302">
                  <a:moveTo>
                    <a:pt x="0" y="478302"/>
                  </a:moveTo>
                  <a:lnTo>
                    <a:pt x="787791" y="225083"/>
                  </a:lnTo>
                  <a:cubicBezTo>
                    <a:pt x="982394" y="161778"/>
                    <a:pt x="1078524" y="135988"/>
                    <a:pt x="1167619" y="98474"/>
                  </a:cubicBezTo>
                  <a:cubicBezTo>
                    <a:pt x="1256714" y="60960"/>
                    <a:pt x="1289538" y="30480"/>
                    <a:pt x="1322363" y="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任意多边形 154"/>
            <p:cNvSpPr/>
            <p:nvPr/>
          </p:nvSpPr>
          <p:spPr>
            <a:xfrm>
              <a:off x="9073080" y="3877560"/>
              <a:ext cx="594360" cy="1142280"/>
            </a:xfrm>
            <a:custGeom>
              <a:avLst/>
              <a:gdLst/>
              <a:ahLst/>
              <a:rect l="l" t="t" r="r" b="b"/>
              <a:pathLst>
                <a:path w="792727" h="1523548">
                  <a:moveTo>
                    <a:pt x="342561" y="4237"/>
                  </a:moveTo>
                  <a:cubicBezTo>
                    <a:pt x="370696" y="-3969"/>
                    <a:pt x="398832" y="-12175"/>
                    <a:pt x="342561" y="102711"/>
                  </a:cubicBezTo>
                  <a:cubicBezTo>
                    <a:pt x="286290" y="217597"/>
                    <a:pt x="30727" y="524742"/>
                    <a:pt x="4936" y="693554"/>
                  </a:cubicBezTo>
                  <a:cubicBezTo>
                    <a:pt x="-20855" y="862366"/>
                    <a:pt x="56518" y="977253"/>
                    <a:pt x="187816" y="1115585"/>
                  </a:cubicBezTo>
                  <a:cubicBezTo>
                    <a:pt x="319114" y="1253917"/>
                    <a:pt x="555920" y="1388732"/>
                    <a:pt x="792727" y="1523548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任意多边形 155"/>
            <p:cNvSpPr/>
            <p:nvPr/>
          </p:nvSpPr>
          <p:spPr>
            <a:xfrm>
              <a:off x="9358560" y="3868200"/>
              <a:ext cx="942840" cy="775800"/>
            </a:xfrm>
            <a:custGeom>
              <a:avLst/>
              <a:gdLst/>
              <a:ahLst/>
              <a:rect l="l" t="t" r="r" b="b"/>
              <a:pathLst>
                <a:path w="1257069" h="1034483">
                  <a:moveTo>
                    <a:pt x="5044" y="16352"/>
                  </a:moveTo>
                  <a:cubicBezTo>
                    <a:pt x="-818" y="-5922"/>
                    <a:pt x="-6679" y="-28196"/>
                    <a:pt x="19112" y="114826"/>
                  </a:cubicBezTo>
                  <a:cubicBezTo>
                    <a:pt x="44903" y="257848"/>
                    <a:pt x="82417" y="722082"/>
                    <a:pt x="159789" y="874482"/>
                  </a:cubicBezTo>
                  <a:cubicBezTo>
                    <a:pt x="237161" y="1026882"/>
                    <a:pt x="300466" y="1008125"/>
                    <a:pt x="483346" y="1029226"/>
                  </a:cubicBezTo>
                  <a:cubicBezTo>
                    <a:pt x="666226" y="1050328"/>
                    <a:pt x="1257069" y="1001091"/>
                    <a:pt x="1257069" y="1001091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直接连接符 156"/>
            <p:cNvSpPr/>
            <p:nvPr/>
          </p:nvSpPr>
          <p:spPr>
            <a:xfrm flipH="1">
              <a:off x="5985000" y="1849320"/>
              <a:ext cx="20880" cy="894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直接连接符 157"/>
            <p:cNvSpPr/>
            <p:nvPr/>
          </p:nvSpPr>
          <p:spPr>
            <a:xfrm>
              <a:off x="5511960" y="2436480"/>
              <a:ext cx="473040" cy="3031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直接连接符 158"/>
            <p:cNvSpPr/>
            <p:nvPr/>
          </p:nvSpPr>
          <p:spPr>
            <a:xfrm flipV="1">
              <a:off x="5985000" y="2436480"/>
              <a:ext cx="405000" cy="3031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直接连接符 159"/>
            <p:cNvSpPr/>
            <p:nvPr/>
          </p:nvSpPr>
          <p:spPr>
            <a:xfrm>
              <a:off x="6966720" y="1844640"/>
              <a:ext cx="0" cy="3276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椭圆 160"/>
            <p:cNvSpPr/>
            <p:nvPr/>
          </p:nvSpPr>
          <p:spPr>
            <a:xfrm>
              <a:off x="6316560" y="2079360"/>
              <a:ext cx="506880" cy="149760"/>
            </a:xfrm>
            <a:prstGeom prst="ellipse">
              <a:avLst/>
            </a:prstGeom>
            <a:noFill/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任意多边形 161"/>
            <p:cNvSpPr/>
            <p:nvPr/>
          </p:nvSpPr>
          <p:spPr>
            <a:xfrm>
              <a:off x="6314040" y="2156040"/>
              <a:ext cx="512280" cy="447480"/>
            </a:xfrm>
            <a:custGeom>
              <a:avLst/>
              <a:gdLst/>
              <a:ahLst/>
              <a:rect l="l" t="t" r="r" b="b"/>
              <a:pathLst>
                <a:path w="683138" h="597154">
                  <a:moveTo>
                    <a:pt x="6863" y="2310"/>
                  </a:moveTo>
                  <a:cubicBezTo>
                    <a:pt x="-281" y="-2453"/>
                    <a:pt x="-7424" y="-7215"/>
                    <a:pt x="16388" y="68985"/>
                  </a:cubicBezTo>
                  <a:cubicBezTo>
                    <a:pt x="40200" y="145185"/>
                    <a:pt x="125926" y="375373"/>
                    <a:pt x="149738" y="459510"/>
                  </a:cubicBezTo>
                  <a:cubicBezTo>
                    <a:pt x="173550" y="543647"/>
                    <a:pt x="108463" y="554760"/>
                    <a:pt x="159263" y="573810"/>
                  </a:cubicBezTo>
                  <a:cubicBezTo>
                    <a:pt x="210063" y="592860"/>
                    <a:pt x="408501" y="615085"/>
                    <a:pt x="454538" y="573810"/>
                  </a:cubicBezTo>
                  <a:cubicBezTo>
                    <a:pt x="500575" y="532535"/>
                    <a:pt x="397388" y="416647"/>
                    <a:pt x="435488" y="326160"/>
                  </a:cubicBezTo>
                  <a:cubicBezTo>
                    <a:pt x="473588" y="235673"/>
                    <a:pt x="578363" y="133279"/>
                    <a:pt x="683138" y="30885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直接连接符 162"/>
            <p:cNvSpPr/>
            <p:nvPr/>
          </p:nvSpPr>
          <p:spPr>
            <a:xfrm flipV="1">
              <a:off x="6753960" y="2167200"/>
              <a:ext cx="216360" cy="943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8" name="组合 163"/>
          <p:cNvGrpSpPr/>
          <p:nvPr/>
        </p:nvGrpSpPr>
        <p:grpSpPr>
          <a:xfrm>
            <a:off x="5415120" y="1905120"/>
            <a:ext cx="5392440" cy="3225600"/>
            <a:chOff x="5415120" y="1905120"/>
            <a:chExt cx="5392440" cy="3225600"/>
          </a:xfrm>
        </p:grpSpPr>
        <p:sp>
          <p:nvSpPr>
            <p:cNvPr id="679" name="椭圆 164"/>
            <p:cNvSpPr/>
            <p:nvPr/>
          </p:nvSpPr>
          <p:spPr>
            <a:xfrm>
              <a:off x="9450360" y="270180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任意多边形 165"/>
            <p:cNvSpPr/>
            <p:nvPr/>
          </p:nvSpPr>
          <p:spPr>
            <a:xfrm>
              <a:off x="9338760" y="3143160"/>
              <a:ext cx="333360" cy="876600"/>
            </a:xfrm>
            <a:custGeom>
              <a:avLst/>
              <a:gdLst/>
              <a:ahLst/>
              <a:rect l="l" t="t" r="r" b="b"/>
              <a:pathLst>
                <a:path w="444500" h="1168400">
                  <a:moveTo>
                    <a:pt x="444500" y="0"/>
                  </a:moveTo>
                  <a:cubicBezTo>
                    <a:pt x="310091" y="166158"/>
                    <a:pt x="175683" y="332317"/>
                    <a:pt x="101600" y="527050"/>
                  </a:cubicBezTo>
                  <a:cubicBezTo>
                    <a:pt x="27517" y="721783"/>
                    <a:pt x="13758" y="945091"/>
                    <a:pt x="0" y="11684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任意多边形 166"/>
            <p:cNvSpPr/>
            <p:nvPr/>
          </p:nvSpPr>
          <p:spPr>
            <a:xfrm>
              <a:off x="9805320" y="2929680"/>
              <a:ext cx="849960" cy="171360"/>
            </a:xfrm>
            <a:custGeom>
              <a:avLst/>
              <a:gdLst/>
              <a:ahLst/>
              <a:rect l="l" t="t" r="r" b="b"/>
              <a:pathLst>
                <a:path w="1133475" h="228600">
                  <a:moveTo>
                    <a:pt x="0" y="228600"/>
                  </a:moveTo>
                  <a:cubicBezTo>
                    <a:pt x="253206" y="190500"/>
                    <a:pt x="506413" y="152400"/>
                    <a:pt x="695325" y="114300"/>
                  </a:cubicBezTo>
                  <a:cubicBezTo>
                    <a:pt x="884237" y="76200"/>
                    <a:pt x="1008856" y="38100"/>
                    <a:pt x="1133475" y="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任意多边形 167"/>
            <p:cNvSpPr/>
            <p:nvPr/>
          </p:nvSpPr>
          <p:spPr>
            <a:xfrm>
              <a:off x="9519480" y="3351240"/>
              <a:ext cx="471240" cy="1100520"/>
            </a:xfrm>
            <a:custGeom>
              <a:avLst/>
              <a:gdLst/>
              <a:ahLst/>
              <a:rect l="l" t="t" r="r" b="b"/>
              <a:pathLst>
                <a:path w="628650" h="1466850">
                  <a:moveTo>
                    <a:pt x="0" y="0"/>
                  </a:moveTo>
                  <a:cubicBezTo>
                    <a:pt x="14287" y="268287"/>
                    <a:pt x="28575" y="536575"/>
                    <a:pt x="133350" y="781050"/>
                  </a:cubicBezTo>
                  <a:cubicBezTo>
                    <a:pt x="238125" y="1025525"/>
                    <a:pt x="433387" y="1246187"/>
                    <a:pt x="628650" y="14668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任意多边形 168"/>
            <p:cNvSpPr/>
            <p:nvPr/>
          </p:nvSpPr>
          <p:spPr>
            <a:xfrm>
              <a:off x="9100080" y="4001760"/>
              <a:ext cx="554760" cy="1128960"/>
            </a:xfrm>
            <a:custGeom>
              <a:avLst/>
              <a:gdLst/>
              <a:ahLst/>
              <a:rect l="l" t="t" r="r" b="b"/>
              <a:pathLst>
                <a:path w="739998" h="1504950">
                  <a:moveTo>
                    <a:pt x="320898" y="0"/>
                  </a:moveTo>
                  <a:cubicBezTo>
                    <a:pt x="177229" y="262731"/>
                    <a:pt x="33560" y="525463"/>
                    <a:pt x="6573" y="704850"/>
                  </a:cubicBezTo>
                  <a:cubicBezTo>
                    <a:pt x="-20415" y="884238"/>
                    <a:pt x="36736" y="942975"/>
                    <a:pt x="158973" y="1076325"/>
                  </a:cubicBezTo>
                  <a:cubicBezTo>
                    <a:pt x="281210" y="1209675"/>
                    <a:pt x="510604" y="1357312"/>
                    <a:pt x="739998" y="15049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任意多边形 169"/>
            <p:cNvSpPr/>
            <p:nvPr/>
          </p:nvSpPr>
          <p:spPr>
            <a:xfrm>
              <a:off x="9348120" y="4023000"/>
              <a:ext cx="885600" cy="689040"/>
            </a:xfrm>
            <a:custGeom>
              <a:avLst/>
              <a:gdLst/>
              <a:ahLst/>
              <a:rect l="l" t="t" r="r" b="b"/>
              <a:pathLst>
                <a:path w="1181100" h="918543">
                  <a:moveTo>
                    <a:pt x="0" y="0"/>
                  </a:moveTo>
                  <a:cubicBezTo>
                    <a:pt x="61119" y="291306"/>
                    <a:pt x="122238" y="582613"/>
                    <a:pt x="219075" y="733425"/>
                  </a:cubicBezTo>
                  <a:cubicBezTo>
                    <a:pt x="315912" y="884237"/>
                    <a:pt x="420688" y="877888"/>
                    <a:pt x="581025" y="904875"/>
                  </a:cubicBezTo>
                  <a:cubicBezTo>
                    <a:pt x="741362" y="931862"/>
                    <a:pt x="961231" y="913606"/>
                    <a:pt x="1181100" y="8953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椭圆 170"/>
            <p:cNvSpPr/>
            <p:nvPr/>
          </p:nvSpPr>
          <p:spPr>
            <a:xfrm>
              <a:off x="10396080" y="2549520"/>
              <a:ext cx="411480" cy="4118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直接连接符 171"/>
            <p:cNvSpPr/>
            <p:nvPr/>
          </p:nvSpPr>
          <p:spPr>
            <a:xfrm>
              <a:off x="5415120" y="2350800"/>
              <a:ext cx="685800" cy="1054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直接连接符 172"/>
            <p:cNvSpPr/>
            <p:nvPr/>
          </p:nvSpPr>
          <p:spPr>
            <a:xfrm>
              <a:off x="6100920" y="1939320"/>
              <a:ext cx="94680" cy="1071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直接连接符 173"/>
            <p:cNvSpPr/>
            <p:nvPr/>
          </p:nvSpPr>
          <p:spPr>
            <a:xfrm flipV="1">
              <a:off x="6195960" y="2415960"/>
              <a:ext cx="874440" cy="5943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直接连接符 174"/>
            <p:cNvSpPr/>
            <p:nvPr/>
          </p:nvSpPr>
          <p:spPr>
            <a:xfrm flipH="1">
              <a:off x="7070040" y="1905120"/>
              <a:ext cx="5400" cy="516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任意多边形 175"/>
            <p:cNvSpPr/>
            <p:nvPr/>
          </p:nvSpPr>
          <p:spPr>
            <a:xfrm>
              <a:off x="6601320" y="2312280"/>
              <a:ext cx="610200" cy="250200"/>
            </a:xfrm>
            <a:custGeom>
              <a:avLst/>
              <a:gdLst/>
              <a:ahLst/>
              <a:rect l="l" t="t" r="r" b="b"/>
              <a:pathLst>
                <a:path w="813812" h="333776">
                  <a:moveTo>
                    <a:pt x="99427" y="40007"/>
                  </a:moveTo>
                  <a:cubicBezTo>
                    <a:pt x="143877" y="24767"/>
                    <a:pt x="174357" y="-8253"/>
                    <a:pt x="274687" y="1907"/>
                  </a:cubicBezTo>
                  <a:cubicBezTo>
                    <a:pt x="375017" y="12067"/>
                    <a:pt x="615047" y="48897"/>
                    <a:pt x="701407" y="100967"/>
                  </a:cubicBezTo>
                  <a:cubicBezTo>
                    <a:pt x="787767" y="153037"/>
                    <a:pt x="847457" y="280037"/>
                    <a:pt x="792847" y="314327"/>
                  </a:cubicBezTo>
                  <a:cubicBezTo>
                    <a:pt x="738237" y="348617"/>
                    <a:pt x="498207" y="332107"/>
                    <a:pt x="373747" y="306707"/>
                  </a:cubicBezTo>
                  <a:cubicBezTo>
                    <a:pt x="249287" y="281307"/>
                    <a:pt x="107047" y="197487"/>
                    <a:pt x="46087" y="161927"/>
                  </a:cubicBezTo>
                  <a:cubicBezTo>
                    <a:pt x="-14873" y="126367"/>
                    <a:pt x="-903" y="113667"/>
                    <a:pt x="7987" y="93347"/>
                  </a:cubicBezTo>
                  <a:cubicBezTo>
                    <a:pt x="16877" y="73027"/>
                    <a:pt x="54977" y="55247"/>
                    <a:pt x="99427" y="40007"/>
                  </a:cubicBezTo>
                  <a:close/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任意多边形 176"/>
            <p:cNvSpPr/>
            <p:nvPr/>
          </p:nvSpPr>
          <p:spPr>
            <a:xfrm>
              <a:off x="6635880" y="2439360"/>
              <a:ext cx="542880" cy="510480"/>
            </a:xfrm>
            <a:custGeom>
              <a:avLst/>
              <a:gdLst/>
              <a:ahLst/>
              <a:rect l="l" t="t" r="r" b="b"/>
              <a:pathLst>
                <a:path w="723900" h="680605">
                  <a:moveTo>
                    <a:pt x="0" y="0"/>
                  </a:moveTo>
                  <a:cubicBezTo>
                    <a:pt x="81915" y="65405"/>
                    <a:pt x="163830" y="130810"/>
                    <a:pt x="205740" y="236220"/>
                  </a:cubicBezTo>
                  <a:cubicBezTo>
                    <a:pt x="247650" y="341630"/>
                    <a:pt x="186690" y="561340"/>
                    <a:pt x="251460" y="632460"/>
                  </a:cubicBezTo>
                  <a:cubicBezTo>
                    <a:pt x="316230" y="703580"/>
                    <a:pt x="535940" y="679450"/>
                    <a:pt x="594360" y="662940"/>
                  </a:cubicBezTo>
                  <a:cubicBezTo>
                    <a:pt x="652780" y="646430"/>
                    <a:pt x="605790" y="577850"/>
                    <a:pt x="601980" y="533400"/>
                  </a:cubicBezTo>
                  <a:cubicBezTo>
                    <a:pt x="598170" y="488950"/>
                    <a:pt x="551180" y="459740"/>
                    <a:pt x="571500" y="396240"/>
                  </a:cubicBezTo>
                  <a:cubicBezTo>
                    <a:pt x="591820" y="332740"/>
                    <a:pt x="657860" y="242570"/>
                    <a:pt x="723900" y="15240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2" name="组合 177"/>
          <p:cNvGrpSpPr/>
          <p:nvPr/>
        </p:nvGrpSpPr>
        <p:grpSpPr>
          <a:xfrm>
            <a:off x="5425920" y="1879560"/>
            <a:ext cx="5381640" cy="3299040"/>
            <a:chOff x="5425920" y="1879560"/>
            <a:chExt cx="5381640" cy="3299040"/>
          </a:xfrm>
        </p:grpSpPr>
        <p:sp>
          <p:nvSpPr>
            <p:cNvPr id="693" name="椭圆 178"/>
            <p:cNvSpPr/>
            <p:nvPr/>
          </p:nvSpPr>
          <p:spPr>
            <a:xfrm>
              <a:off x="9315360" y="278640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任意多边形 179"/>
            <p:cNvSpPr/>
            <p:nvPr/>
          </p:nvSpPr>
          <p:spPr>
            <a:xfrm>
              <a:off x="9205920" y="3227760"/>
              <a:ext cx="333360" cy="876600"/>
            </a:xfrm>
            <a:custGeom>
              <a:avLst/>
              <a:gdLst/>
              <a:ahLst/>
              <a:rect l="l" t="t" r="r" b="b"/>
              <a:pathLst>
                <a:path w="444500" h="1168400">
                  <a:moveTo>
                    <a:pt x="444500" y="0"/>
                  </a:moveTo>
                  <a:cubicBezTo>
                    <a:pt x="310091" y="166158"/>
                    <a:pt x="175683" y="332317"/>
                    <a:pt x="101600" y="527050"/>
                  </a:cubicBezTo>
                  <a:cubicBezTo>
                    <a:pt x="27517" y="721783"/>
                    <a:pt x="13758" y="945091"/>
                    <a:pt x="0" y="11684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任意多边形 180"/>
            <p:cNvSpPr/>
            <p:nvPr/>
          </p:nvSpPr>
          <p:spPr>
            <a:xfrm>
              <a:off x="9482760" y="3307680"/>
              <a:ext cx="471240" cy="1100520"/>
            </a:xfrm>
            <a:custGeom>
              <a:avLst/>
              <a:gdLst/>
              <a:ahLst/>
              <a:rect l="l" t="t" r="r" b="b"/>
              <a:pathLst>
                <a:path w="628650" h="1466850">
                  <a:moveTo>
                    <a:pt x="0" y="0"/>
                  </a:moveTo>
                  <a:cubicBezTo>
                    <a:pt x="14287" y="268287"/>
                    <a:pt x="28575" y="536575"/>
                    <a:pt x="133350" y="781050"/>
                  </a:cubicBezTo>
                  <a:cubicBezTo>
                    <a:pt x="238125" y="1025525"/>
                    <a:pt x="433387" y="1246187"/>
                    <a:pt x="628650" y="14668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椭圆 181"/>
            <p:cNvSpPr/>
            <p:nvPr/>
          </p:nvSpPr>
          <p:spPr>
            <a:xfrm>
              <a:off x="10396080" y="2549880"/>
              <a:ext cx="411480" cy="4118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任意多边形 182"/>
            <p:cNvSpPr/>
            <p:nvPr/>
          </p:nvSpPr>
          <p:spPr>
            <a:xfrm>
              <a:off x="9653040" y="2951280"/>
              <a:ext cx="923760" cy="270360"/>
            </a:xfrm>
            <a:custGeom>
              <a:avLst/>
              <a:gdLst/>
              <a:ahLst/>
              <a:rect l="l" t="t" r="r" b="b"/>
              <a:pathLst>
                <a:path w="1231900" h="360715">
                  <a:moveTo>
                    <a:pt x="0" y="330200"/>
                  </a:moveTo>
                  <a:cubicBezTo>
                    <a:pt x="94191" y="350308"/>
                    <a:pt x="188383" y="370417"/>
                    <a:pt x="317500" y="355600"/>
                  </a:cubicBezTo>
                  <a:cubicBezTo>
                    <a:pt x="446617" y="340783"/>
                    <a:pt x="635000" y="279400"/>
                    <a:pt x="774700" y="241300"/>
                  </a:cubicBezTo>
                  <a:cubicBezTo>
                    <a:pt x="914400" y="203200"/>
                    <a:pt x="1079500" y="167217"/>
                    <a:pt x="1155700" y="127000"/>
                  </a:cubicBezTo>
                  <a:cubicBezTo>
                    <a:pt x="1231900" y="86783"/>
                    <a:pt x="1231900" y="43391"/>
                    <a:pt x="1231900" y="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任意多边形 183"/>
            <p:cNvSpPr/>
            <p:nvPr/>
          </p:nvSpPr>
          <p:spPr>
            <a:xfrm>
              <a:off x="9031320" y="4101840"/>
              <a:ext cx="618840" cy="1076760"/>
            </a:xfrm>
            <a:custGeom>
              <a:avLst/>
              <a:gdLst/>
              <a:ahLst/>
              <a:rect l="l" t="t" r="r" b="b"/>
              <a:pathLst>
                <a:path w="825500" h="1435100">
                  <a:moveTo>
                    <a:pt x="228600" y="0"/>
                  </a:moveTo>
                  <a:cubicBezTo>
                    <a:pt x="114300" y="259291"/>
                    <a:pt x="0" y="518583"/>
                    <a:pt x="0" y="685800"/>
                  </a:cubicBezTo>
                  <a:cubicBezTo>
                    <a:pt x="0" y="853017"/>
                    <a:pt x="91017" y="878417"/>
                    <a:pt x="228600" y="1003300"/>
                  </a:cubicBezTo>
                  <a:cubicBezTo>
                    <a:pt x="366183" y="1128183"/>
                    <a:pt x="595841" y="1281641"/>
                    <a:pt x="825500" y="14351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任意多边形 184"/>
            <p:cNvSpPr/>
            <p:nvPr/>
          </p:nvSpPr>
          <p:spPr>
            <a:xfrm>
              <a:off x="9209880" y="4104360"/>
              <a:ext cx="840600" cy="762480"/>
            </a:xfrm>
            <a:custGeom>
              <a:avLst/>
              <a:gdLst/>
              <a:ahLst/>
              <a:rect l="l" t="t" r="r" b="b"/>
              <a:pathLst>
                <a:path w="1120775" h="1016227">
                  <a:moveTo>
                    <a:pt x="0" y="0"/>
                  </a:moveTo>
                  <a:cubicBezTo>
                    <a:pt x="61383" y="368035"/>
                    <a:pt x="122767" y="736071"/>
                    <a:pt x="206375" y="901700"/>
                  </a:cubicBezTo>
                  <a:cubicBezTo>
                    <a:pt x="289983" y="1067329"/>
                    <a:pt x="349250" y="1009121"/>
                    <a:pt x="501650" y="993775"/>
                  </a:cubicBezTo>
                  <a:cubicBezTo>
                    <a:pt x="654050" y="978429"/>
                    <a:pt x="887412" y="894027"/>
                    <a:pt x="1120775" y="809625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直接连接符 185"/>
            <p:cNvSpPr/>
            <p:nvPr/>
          </p:nvSpPr>
          <p:spPr>
            <a:xfrm flipV="1">
              <a:off x="5425920" y="2601000"/>
              <a:ext cx="907200" cy="54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直接连接符 186"/>
            <p:cNvSpPr/>
            <p:nvPr/>
          </p:nvSpPr>
          <p:spPr>
            <a:xfrm>
              <a:off x="6333120" y="1879560"/>
              <a:ext cx="49680" cy="12434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直接连接符 187"/>
            <p:cNvSpPr/>
            <p:nvPr/>
          </p:nvSpPr>
          <p:spPr>
            <a:xfrm flipH="1">
              <a:off x="6383160" y="2386800"/>
              <a:ext cx="817920" cy="7358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直接连接符 188"/>
            <p:cNvSpPr/>
            <p:nvPr/>
          </p:nvSpPr>
          <p:spPr>
            <a:xfrm>
              <a:off x="7154640" y="1879560"/>
              <a:ext cx="46080" cy="5144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直接连接符 189"/>
            <p:cNvSpPr/>
            <p:nvPr/>
          </p:nvSpPr>
          <p:spPr>
            <a:xfrm>
              <a:off x="6899040" y="266832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椭圆 190"/>
            <p:cNvSpPr/>
            <p:nvPr/>
          </p:nvSpPr>
          <p:spPr>
            <a:xfrm>
              <a:off x="7143480" y="2601360"/>
              <a:ext cx="527040" cy="244080"/>
            </a:xfrm>
            <a:prstGeom prst="ellipse">
              <a:avLst/>
            </a:prstGeom>
            <a:noFill/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任意多边形 191"/>
            <p:cNvSpPr/>
            <p:nvPr/>
          </p:nvSpPr>
          <p:spPr>
            <a:xfrm>
              <a:off x="7144920" y="2731320"/>
              <a:ext cx="525600" cy="513360"/>
            </a:xfrm>
            <a:custGeom>
              <a:avLst/>
              <a:gdLst/>
              <a:ahLst/>
              <a:rect l="l" t="t" r="r" b="b"/>
              <a:pathLst>
                <a:path w="701040" h="684466">
                  <a:moveTo>
                    <a:pt x="0" y="0"/>
                  </a:moveTo>
                  <a:cubicBezTo>
                    <a:pt x="30480" y="106045"/>
                    <a:pt x="60960" y="212090"/>
                    <a:pt x="76200" y="320040"/>
                  </a:cubicBezTo>
                  <a:cubicBezTo>
                    <a:pt x="91440" y="427990"/>
                    <a:pt x="50800" y="589280"/>
                    <a:pt x="91440" y="647700"/>
                  </a:cubicBezTo>
                  <a:cubicBezTo>
                    <a:pt x="132080" y="706120"/>
                    <a:pt x="247650" y="668020"/>
                    <a:pt x="320040" y="670560"/>
                  </a:cubicBezTo>
                  <a:cubicBezTo>
                    <a:pt x="392430" y="673100"/>
                    <a:pt x="488950" y="704850"/>
                    <a:pt x="525780" y="662940"/>
                  </a:cubicBezTo>
                  <a:cubicBezTo>
                    <a:pt x="562610" y="621030"/>
                    <a:pt x="530860" y="499110"/>
                    <a:pt x="541020" y="419100"/>
                  </a:cubicBezTo>
                  <a:cubicBezTo>
                    <a:pt x="551180" y="339090"/>
                    <a:pt x="560070" y="243840"/>
                    <a:pt x="586740" y="182880"/>
                  </a:cubicBezTo>
                  <a:cubicBezTo>
                    <a:pt x="613410" y="121920"/>
                    <a:pt x="657225" y="87630"/>
                    <a:pt x="701040" y="5334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组合 192"/>
          <p:cNvGrpSpPr/>
          <p:nvPr/>
        </p:nvGrpSpPr>
        <p:grpSpPr>
          <a:xfrm>
            <a:off x="5408640" y="1889280"/>
            <a:ext cx="5154480" cy="3340080"/>
            <a:chOff x="5408640" y="1889280"/>
            <a:chExt cx="5154480" cy="3340080"/>
          </a:xfrm>
        </p:grpSpPr>
        <p:sp>
          <p:nvSpPr>
            <p:cNvPr id="708" name="椭圆 193"/>
            <p:cNvSpPr/>
            <p:nvPr/>
          </p:nvSpPr>
          <p:spPr>
            <a:xfrm>
              <a:off x="9261360" y="295668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任意多边形 194"/>
            <p:cNvSpPr/>
            <p:nvPr/>
          </p:nvSpPr>
          <p:spPr>
            <a:xfrm>
              <a:off x="9119520" y="3390480"/>
              <a:ext cx="333360" cy="875880"/>
            </a:xfrm>
            <a:custGeom>
              <a:avLst/>
              <a:gdLst/>
              <a:ahLst/>
              <a:rect l="l" t="t" r="r" b="b"/>
              <a:pathLst>
                <a:path w="444500" h="1168400">
                  <a:moveTo>
                    <a:pt x="444500" y="0"/>
                  </a:moveTo>
                  <a:cubicBezTo>
                    <a:pt x="310091" y="166158"/>
                    <a:pt x="175683" y="332317"/>
                    <a:pt x="101600" y="527050"/>
                  </a:cubicBezTo>
                  <a:cubicBezTo>
                    <a:pt x="27517" y="721783"/>
                    <a:pt x="13758" y="945091"/>
                    <a:pt x="0" y="11684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直接连接符 195"/>
            <p:cNvSpPr/>
            <p:nvPr/>
          </p:nvSpPr>
          <p:spPr>
            <a:xfrm>
              <a:off x="5408640" y="2724840"/>
              <a:ext cx="1165680" cy="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直接连接符 196"/>
            <p:cNvSpPr/>
            <p:nvPr/>
          </p:nvSpPr>
          <p:spPr>
            <a:xfrm>
              <a:off x="6555240" y="1889280"/>
              <a:ext cx="28440" cy="14616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直接连接符 197"/>
            <p:cNvSpPr/>
            <p:nvPr/>
          </p:nvSpPr>
          <p:spPr>
            <a:xfrm flipH="1">
              <a:off x="6580080" y="2645280"/>
              <a:ext cx="741600" cy="7228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直接连接符 198"/>
            <p:cNvSpPr/>
            <p:nvPr/>
          </p:nvSpPr>
          <p:spPr>
            <a:xfrm flipH="1">
              <a:off x="7321320" y="2022120"/>
              <a:ext cx="11160" cy="6433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直接连接符 199"/>
            <p:cNvSpPr/>
            <p:nvPr/>
          </p:nvSpPr>
          <p:spPr>
            <a:xfrm>
              <a:off x="6994800" y="279180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椭圆 200"/>
            <p:cNvSpPr/>
            <p:nvPr/>
          </p:nvSpPr>
          <p:spPr>
            <a:xfrm>
              <a:off x="7228440" y="2724840"/>
              <a:ext cx="581760" cy="231840"/>
            </a:xfrm>
            <a:prstGeom prst="ellipse">
              <a:avLst/>
            </a:prstGeom>
            <a:noFill/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任意多边形 201"/>
            <p:cNvSpPr/>
            <p:nvPr/>
          </p:nvSpPr>
          <p:spPr>
            <a:xfrm>
              <a:off x="7240680" y="2864160"/>
              <a:ext cx="525600" cy="513000"/>
            </a:xfrm>
            <a:custGeom>
              <a:avLst/>
              <a:gdLst/>
              <a:ahLst/>
              <a:rect l="l" t="t" r="r" b="b"/>
              <a:pathLst>
                <a:path w="701040" h="684466">
                  <a:moveTo>
                    <a:pt x="0" y="0"/>
                  </a:moveTo>
                  <a:cubicBezTo>
                    <a:pt x="30480" y="106045"/>
                    <a:pt x="60960" y="212090"/>
                    <a:pt x="76200" y="320040"/>
                  </a:cubicBezTo>
                  <a:cubicBezTo>
                    <a:pt x="91440" y="427990"/>
                    <a:pt x="50800" y="589280"/>
                    <a:pt x="91440" y="647700"/>
                  </a:cubicBezTo>
                  <a:cubicBezTo>
                    <a:pt x="132080" y="706120"/>
                    <a:pt x="247650" y="668020"/>
                    <a:pt x="320040" y="670560"/>
                  </a:cubicBezTo>
                  <a:cubicBezTo>
                    <a:pt x="392430" y="673100"/>
                    <a:pt x="488950" y="704850"/>
                    <a:pt x="525780" y="662940"/>
                  </a:cubicBezTo>
                  <a:cubicBezTo>
                    <a:pt x="562610" y="621030"/>
                    <a:pt x="530860" y="499110"/>
                    <a:pt x="541020" y="419100"/>
                  </a:cubicBezTo>
                  <a:cubicBezTo>
                    <a:pt x="551180" y="339090"/>
                    <a:pt x="560070" y="243840"/>
                    <a:pt x="586740" y="182880"/>
                  </a:cubicBezTo>
                  <a:cubicBezTo>
                    <a:pt x="613410" y="121920"/>
                    <a:pt x="657225" y="87630"/>
                    <a:pt x="701040" y="5334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任意多边形 202"/>
            <p:cNvSpPr/>
            <p:nvPr/>
          </p:nvSpPr>
          <p:spPr>
            <a:xfrm>
              <a:off x="9627480" y="3054600"/>
              <a:ext cx="728640" cy="299880"/>
            </a:xfrm>
            <a:custGeom>
              <a:avLst/>
              <a:gdLst/>
              <a:ahLst/>
              <a:rect l="l" t="t" r="r" b="b"/>
              <a:pathLst>
                <a:path w="971550" h="400050">
                  <a:moveTo>
                    <a:pt x="0" y="400050"/>
                  </a:moveTo>
                  <a:cubicBezTo>
                    <a:pt x="219075" y="361950"/>
                    <a:pt x="438150" y="323850"/>
                    <a:pt x="600075" y="257175"/>
                  </a:cubicBezTo>
                  <a:cubicBezTo>
                    <a:pt x="762000" y="190500"/>
                    <a:pt x="866775" y="95250"/>
                    <a:pt x="971550" y="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任意多边形 203"/>
            <p:cNvSpPr/>
            <p:nvPr/>
          </p:nvSpPr>
          <p:spPr>
            <a:xfrm>
              <a:off x="9298800" y="3593880"/>
              <a:ext cx="457200" cy="1028520"/>
            </a:xfrm>
            <a:custGeom>
              <a:avLst/>
              <a:gdLst/>
              <a:ahLst/>
              <a:rect l="l" t="t" r="r" b="b"/>
              <a:pathLst>
                <a:path w="609600" h="1371600">
                  <a:moveTo>
                    <a:pt x="0" y="0"/>
                  </a:moveTo>
                  <a:lnTo>
                    <a:pt x="609600" y="1371600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任意多边形 204"/>
            <p:cNvSpPr/>
            <p:nvPr/>
          </p:nvSpPr>
          <p:spPr>
            <a:xfrm>
              <a:off x="8982000" y="4243680"/>
              <a:ext cx="659520" cy="985680"/>
            </a:xfrm>
            <a:custGeom>
              <a:avLst/>
              <a:gdLst/>
              <a:ahLst/>
              <a:rect l="l" t="t" r="r" b="b"/>
              <a:pathLst>
                <a:path w="879513" h="1314450">
                  <a:moveTo>
                    <a:pt x="184188" y="0"/>
                  </a:moveTo>
                  <a:cubicBezTo>
                    <a:pt x="97669" y="171450"/>
                    <a:pt x="11150" y="342900"/>
                    <a:pt x="3213" y="495300"/>
                  </a:cubicBezTo>
                  <a:cubicBezTo>
                    <a:pt x="-4725" y="647700"/>
                    <a:pt x="-9487" y="777875"/>
                    <a:pt x="136563" y="914400"/>
                  </a:cubicBezTo>
                  <a:cubicBezTo>
                    <a:pt x="282613" y="1050925"/>
                    <a:pt x="581063" y="1182687"/>
                    <a:pt x="879513" y="13144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任意多边形 205"/>
            <p:cNvSpPr/>
            <p:nvPr/>
          </p:nvSpPr>
          <p:spPr>
            <a:xfrm>
              <a:off x="9123840" y="4261680"/>
              <a:ext cx="749880" cy="673560"/>
            </a:xfrm>
            <a:custGeom>
              <a:avLst/>
              <a:gdLst/>
              <a:ahLst/>
              <a:rect l="l" t="t" r="r" b="b"/>
              <a:pathLst>
                <a:path w="1000125" h="898369">
                  <a:moveTo>
                    <a:pt x="0" y="0"/>
                  </a:moveTo>
                  <a:cubicBezTo>
                    <a:pt x="52387" y="330994"/>
                    <a:pt x="104775" y="661988"/>
                    <a:pt x="209550" y="809625"/>
                  </a:cubicBezTo>
                  <a:cubicBezTo>
                    <a:pt x="314325" y="957262"/>
                    <a:pt x="496888" y="873125"/>
                    <a:pt x="628650" y="885825"/>
                  </a:cubicBezTo>
                  <a:cubicBezTo>
                    <a:pt x="760412" y="898525"/>
                    <a:pt x="880268" y="892175"/>
                    <a:pt x="1000125" y="885825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椭圆 206"/>
            <p:cNvSpPr/>
            <p:nvPr/>
          </p:nvSpPr>
          <p:spPr>
            <a:xfrm>
              <a:off x="10151280" y="2645280"/>
              <a:ext cx="411840" cy="41148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2" name="组合 207"/>
          <p:cNvGrpSpPr/>
          <p:nvPr/>
        </p:nvGrpSpPr>
        <p:grpSpPr>
          <a:xfrm>
            <a:off x="5408640" y="1870200"/>
            <a:ext cx="4840200" cy="3438360"/>
            <a:chOff x="5408640" y="1870200"/>
            <a:chExt cx="4840200" cy="3438360"/>
          </a:xfrm>
        </p:grpSpPr>
        <p:sp>
          <p:nvSpPr>
            <p:cNvPr id="723" name="椭圆 208"/>
            <p:cNvSpPr/>
            <p:nvPr/>
          </p:nvSpPr>
          <p:spPr>
            <a:xfrm>
              <a:off x="9146520" y="314748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任意多边形 209"/>
            <p:cNvSpPr/>
            <p:nvPr/>
          </p:nvSpPr>
          <p:spPr>
            <a:xfrm>
              <a:off x="9036720" y="3558600"/>
              <a:ext cx="244800" cy="883080"/>
            </a:xfrm>
            <a:custGeom>
              <a:avLst/>
              <a:gdLst/>
              <a:ahLst/>
              <a:rect l="l" t="t" r="r" b="b"/>
              <a:pathLst>
                <a:path w="444500" h="1168400">
                  <a:moveTo>
                    <a:pt x="444500" y="0"/>
                  </a:moveTo>
                  <a:cubicBezTo>
                    <a:pt x="310091" y="166158"/>
                    <a:pt x="175683" y="332317"/>
                    <a:pt x="101600" y="527050"/>
                  </a:cubicBezTo>
                  <a:cubicBezTo>
                    <a:pt x="27517" y="721783"/>
                    <a:pt x="13758" y="945091"/>
                    <a:pt x="0" y="11684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直接连接符 210"/>
            <p:cNvSpPr/>
            <p:nvPr/>
          </p:nvSpPr>
          <p:spPr>
            <a:xfrm flipV="1">
              <a:off x="5408640" y="3006360"/>
              <a:ext cx="1364040" cy="118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直接连接符 211"/>
            <p:cNvSpPr/>
            <p:nvPr/>
          </p:nvSpPr>
          <p:spPr>
            <a:xfrm>
              <a:off x="6772680" y="1987200"/>
              <a:ext cx="14760" cy="1587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直接连接符 212"/>
            <p:cNvSpPr/>
            <p:nvPr/>
          </p:nvSpPr>
          <p:spPr>
            <a:xfrm flipH="1">
              <a:off x="6775560" y="2851920"/>
              <a:ext cx="741600" cy="7228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直接连接符 213"/>
            <p:cNvSpPr/>
            <p:nvPr/>
          </p:nvSpPr>
          <p:spPr>
            <a:xfrm>
              <a:off x="7496280" y="1944000"/>
              <a:ext cx="20880" cy="9072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直接连接符 214"/>
            <p:cNvSpPr/>
            <p:nvPr/>
          </p:nvSpPr>
          <p:spPr>
            <a:xfrm>
              <a:off x="7216560" y="304920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直接连接符 215"/>
            <p:cNvSpPr/>
            <p:nvPr/>
          </p:nvSpPr>
          <p:spPr>
            <a:xfrm flipV="1">
              <a:off x="6780240" y="1870200"/>
              <a:ext cx="227160" cy="1260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任意多边形 216"/>
            <p:cNvSpPr/>
            <p:nvPr/>
          </p:nvSpPr>
          <p:spPr>
            <a:xfrm>
              <a:off x="7475040" y="2926080"/>
              <a:ext cx="444960" cy="225360"/>
            </a:xfrm>
            <a:custGeom>
              <a:avLst/>
              <a:gdLst/>
              <a:ahLst/>
              <a:rect l="l" t="t" r="r" b="b"/>
              <a:pathLst>
                <a:path w="593547" h="300737">
                  <a:moveTo>
                    <a:pt x="129150" y="27230"/>
                  </a:moveTo>
                  <a:cubicBezTo>
                    <a:pt x="82583" y="48397"/>
                    <a:pt x="12733" y="97080"/>
                    <a:pt x="2150" y="128830"/>
                  </a:cubicBezTo>
                  <a:cubicBezTo>
                    <a:pt x="-8433" y="160580"/>
                    <a:pt x="21200" y="190213"/>
                    <a:pt x="65650" y="217730"/>
                  </a:cubicBezTo>
                  <a:cubicBezTo>
                    <a:pt x="110100" y="245247"/>
                    <a:pt x="186300" y="283347"/>
                    <a:pt x="268850" y="293930"/>
                  </a:cubicBezTo>
                  <a:cubicBezTo>
                    <a:pt x="351400" y="304513"/>
                    <a:pt x="510150" y="304513"/>
                    <a:pt x="560950" y="281230"/>
                  </a:cubicBezTo>
                  <a:cubicBezTo>
                    <a:pt x="611750" y="257947"/>
                    <a:pt x="592700" y="192330"/>
                    <a:pt x="573650" y="154230"/>
                  </a:cubicBezTo>
                  <a:cubicBezTo>
                    <a:pt x="554600" y="116130"/>
                    <a:pt x="495333" y="78030"/>
                    <a:pt x="446650" y="52630"/>
                  </a:cubicBezTo>
                  <a:cubicBezTo>
                    <a:pt x="397967" y="27230"/>
                    <a:pt x="330233" y="8180"/>
                    <a:pt x="281550" y="1830"/>
                  </a:cubicBezTo>
                  <a:cubicBezTo>
                    <a:pt x="232867" y="-4520"/>
                    <a:pt x="175717" y="6063"/>
                    <a:pt x="129150" y="27230"/>
                  </a:cubicBezTo>
                  <a:close/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任意多边形 217"/>
            <p:cNvSpPr/>
            <p:nvPr/>
          </p:nvSpPr>
          <p:spPr>
            <a:xfrm>
              <a:off x="7474320" y="3079800"/>
              <a:ext cx="373680" cy="533160"/>
            </a:xfrm>
            <a:custGeom>
              <a:avLst/>
              <a:gdLst/>
              <a:ahLst/>
              <a:rect l="l" t="t" r="r" b="b"/>
              <a:pathLst>
                <a:path w="498266" h="711211">
                  <a:moveTo>
                    <a:pt x="28366" y="0"/>
                  </a:moveTo>
                  <a:cubicBezTo>
                    <a:pt x="1907" y="261408"/>
                    <a:pt x="-24551" y="522817"/>
                    <a:pt x="41066" y="635000"/>
                  </a:cubicBezTo>
                  <a:cubicBezTo>
                    <a:pt x="106683" y="747183"/>
                    <a:pt x="354333" y="713317"/>
                    <a:pt x="422066" y="673100"/>
                  </a:cubicBezTo>
                  <a:cubicBezTo>
                    <a:pt x="489799" y="632883"/>
                    <a:pt x="434766" y="488950"/>
                    <a:pt x="447466" y="393700"/>
                  </a:cubicBezTo>
                  <a:cubicBezTo>
                    <a:pt x="460166" y="298450"/>
                    <a:pt x="479216" y="200025"/>
                    <a:pt x="498266" y="10160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任意多边形 218"/>
            <p:cNvSpPr/>
            <p:nvPr/>
          </p:nvSpPr>
          <p:spPr>
            <a:xfrm>
              <a:off x="9581400" y="3079800"/>
              <a:ext cx="543600" cy="342720"/>
            </a:xfrm>
            <a:custGeom>
              <a:avLst/>
              <a:gdLst/>
              <a:ahLst/>
              <a:rect l="l" t="t" r="r" b="b"/>
              <a:pathLst>
                <a:path w="724916" h="457200">
                  <a:moveTo>
                    <a:pt x="0" y="457200"/>
                  </a:moveTo>
                  <a:cubicBezTo>
                    <a:pt x="244475" y="323850"/>
                    <a:pt x="488950" y="190500"/>
                    <a:pt x="609600" y="114300"/>
                  </a:cubicBezTo>
                  <a:cubicBezTo>
                    <a:pt x="730250" y="38100"/>
                    <a:pt x="727075" y="19050"/>
                    <a:pt x="723900" y="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椭圆 219"/>
            <p:cNvSpPr/>
            <p:nvPr/>
          </p:nvSpPr>
          <p:spPr>
            <a:xfrm>
              <a:off x="9837360" y="2720160"/>
              <a:ext cx="411480" cy="41148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任意多边形 220"/>
            <p:cNvSpPr/>
            <p:nvPr/>
          </p:nvSpPr>
          <p:spPr>
            <a:xfrm>
              <a:off x="8915040" y="4434120"/>
              <a:ext cx="555840" cy="874440"/>
            </a:xfrm>
            <a:custGeom>
              <a:avLst/>
              <a:gdLst/>
              <a:ahLst/>
              <a:rect l="l" t="t" r="r" b="b"/>
              <a:pathLst>
                <a:path w="741428" h="1165860">
                  <a:moveTo>
                    <a:pt x="162308" y="0"/>
                  </a:moveTo>
                  <a:cubicBezTo>
                    <a:pt x="73408" y="180340"/>
                    <a:pt x="-15492" y="360680"/>
                    <a:pt x="2288" y="495300"/>
                  </a:cubicBezTo>
                  <a:cubicBezTo>
                    <a:pt x="20068" y="629920"/>
                    <a:pt x="145798" y="695960"/>
                    <a:pt x="268988" y="807720"/>
                  </a:cubicBezTo>
                  <a:cubicBezTo>
                    <a:pt x="392178" y="919480"/>
                    <a:pt x="566803" y="1042670"/>
                    <a:pt x="741428" y="116586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任意多边形 221"/>
            <p:cNvSpPr/>
            <p:nvPr/>
          </p:nvSpPr>
          <p:spPr>
            <a:xfrm>
              <a:off x="9042480" y="4428720"/>
              <a:ext cx="657000" cy="771480"/>
            </a:xfrm>
            <a:custGeom>
              <a:avLst/>
              <a:gdLst/>
              <a:ahLst/>
              <a:rect l="l" t="t" r="r" b="b"/>
              <a:pathLst>
                <a:path w="876300" h="1028700">
                  <a:moveTo>
                    <a:pt x="0" y="0"/>
                  </a:moveTo>
                  <a:cubicBezTo>
                    <a:pt x="22860" y="257810"/>
                    <a:pt x="45720" y="515620"/>
                    <a:pt x="144780" y="670560"/>
                  </a:cubicBezTo>
                  <a:cubicBezTo>
                    <a:pt x="243840" y="825500"/>
                    <a:pt x="472440" y="869950"/>
                    <a:pt x="594360" y="929640"/>
                  </a:cubicBezTo>
                  <a:cubicBezTo>
                    <a:pt x="716280" y="989330"/>
                    <a:pt x="796290" y="1009015"/>
                    <a:pt x="876300" y="10287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任意多边形 222"/>
            <p:cNvSpPr/>
            <p:nvPr/>
          </p:nvSpPr>
          <p:spPr>
            <a:xfrm>
              <a:off x="9202320" y="3702600"/>
              <a:ext cx="302760" cy="1057320"/>
            </a:xfrm>
            <a:custGeom>
              <a:avLst/>
              <a:gdLst/>
              <a:ahLst/>
              <a:rect l="l" t="t" r="r" b="b"/>
              <a:pathLst>
                <a:path w="403860" h="1409700">
                  <a:moveTo>
                    <a:pt x="0" y="0"/>
                  </a:moveTo>
                  <a:lnTo>
                    <a:pt x="403860" y="1409700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8" name="组合 223"/>
          <p:cNvGrpSpPr/>
          <p:nvPr/>
        </p:nvGrpSpPr>
        <p:grpSpPr>
          <a:xfrm>
            <a:off x="5446800" y="1879200"/>
            <a:ext cx="4516200" cy="3600720"/>
            <a:chOff x="5446800" y="1879200"/>
            <a:chExt cx="4516200" cy="3600720"/>
          </a:xfrm>
        </p:grpSpPr>
        <p:sp>
          <p:nvSpPr>
            <p:cNvPr id="739" name="椭圆 224"/>
            <p:cNvSpPr/>
            <p:nvPr/>
          </p:nvSpPr>
          <p:spPr>
            <a:xfrm>
              <a:off x="9074160" y="330012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直接连接符 225"/>
            <p:cNvSpPr/>
            <p:nvPr/>
          </p:nvSpPr>
          <p:spPr>
            <a:xfrm flipV="1">
              <a:off x="5446800" y="3132000"/>
              <a:ext cx="1455480" cy="20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直接连接符 226"/>
            <p:cNvSpPr/>
            <p:nvPr/>
          </p:nvSpPr>
          <p:spPr>
            <a:xfrm>
              <a:off x="6887160" y="2158560"/>
              <a:ext cx="14760" cy="15883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直接连接符 227"/>
            <p:cNvSpPr/>
            <p:nvPr/>
          </p:nvSpPr>
          <p:spPr>
            <a:xfrm flipH="1">
              <a:off x="6909120" y="3033000"/>
              <a:ext cx="741600" cy="7232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直接连接符 228"/>
            <p:cNvSpPr/>
            <p:nvPr/>
          </p:nvSpPr>
          <p:spPr>
            <a:xfrm>
              <a:off x="7641720" y="1892160"/>
              <a:ext cx="0" cy="11534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直接连接符 229"/>
            <p:cNvSpPr/>
            <p:nvPr/>
          </p:nvSpPr>
          <p:spPr>
            <a:xfrm>
              <a:off x="7235640" y="323028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直接连接符 230"/>
            <p:cNvSpPr/>
            <p:nvPr/>
          </p:nvSpPr>
          <p:spPr>
            <a:xfrm flipV="1">
              <a:off x="6885000" y="1879200"/>
              <a:ext cx="632520" cy="3070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任意多边形 231"/>
            <p:cNvSpPr/>
            <p:nvPr/>
          </p:nvSpPr>
          <p:spPr>
            <a:xfrm>
              <a:off x="7475040" y="3103920"/>
              <a:ext cx="528480" cy="225360"/>
            </a:xfrm>
            <a:custGeom>
              <a:avLst/>
              <a:gdLst/>
              <a:ahLst/>
              <a:rect l="l" t="t" r="r" b="b"/>
              <a:pathLst>
                <a:path w="593547" h="300737">
                  <a:moveTo>
                    <a:pt x="129150" y="27230"/>
                  </a:moveTo>
                  <a:cubicBezTo>
                    <a:pt x="82583" y="48397"/>
                    <a:pt x="12733" y="97080"/>
                    <a:pt x="2150" y="128830"/>
                  </a:cubicBezTo>
                  <a:cubicBezTo>
                    <a:pt x="-8433" y="160580"/>
                    <a:pt x="21200" y="190213"/>
                    <a:pt x="65650" y="217730"/>
                  </a:cubicBezTo>
                  <a:cubicBezTo>
                    <a:pt x="110100" y="245247"/>
                    <a:pt x="186300" y="283347"/>
                    <a:pt x="268850" y="293930"/>
                  </a:cubicBezTo>
                  <a:cubicBezTo>
                    <a:pt x="351400" y="304513"/>
                    <a:pt x="510150" y="304513"/>
                    <a:pt x="560950" y="281230"/>
                  </a:cubicBezTo>
                  <a:cubicBezTo>
                    <a:pt x="611750" y="257947"/>
                    <a:pt x="592700" y="192330"/>
                    <a:pt x="573650" y="154230"/>
                  </a:cubicBezTo>
                  <a:cubicBezTo>
                    <a:pt x="554600" y="116130"/>
                    <a:pt x="495333" y="78030"/>
                    <a:pt x="446650" y="52630"/>
                  </a:cubicBezTo>
                  <a:cubicBezTo>
                    <a:pt x="397967" y="27230"/>
                    <a:pt x="330233" y="8180"/>
                    <a:pt x="281550" y="1830"/>
                  </a:cubicBezTo>
                  <a:cubicBezTo>
                    <a:pt x="232867" y="-4520"/>
                    <a:pt x="175717" y="6063"/>
                    <a:pt x="129150" y="27230"/>
                  </a:cubicBezTo>
                  <a:close/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任意多边形 232"/>
            <p:cNvSpPr/>
            <p:nvPr/>
          </p:nvSpPr>
          <p:spPr>
            <a:xfrm>
              <a:off x="7486200" y="3241800"/>
              <a:ext cx="498240" cy="573480"/>
            </a:xfrm>
            <a:custGeom>
              <a:avLst/>
              <a:gdLst/>
              <a:ahLst/>
              <a:rect l="l" t="t" r="r" b="b"/>
              <a:pathLst>
                <a:path w="498475" h="573353">
                  <a:moveTo>
                    <a:pt x="0" y="0"/>
                  </a:moveTo>
                  <a:cubicBezTo>
                    <a:pt x="15081" y="77787"/>
                    <a:pt x="30163" y="155575"/>
                    <a:pt x="50800" y="234950"/>
                  </a:cubicBezTo>
                  <a:cubicBezTo>
                    <a:pt x="71437" y="314325"/>
                    <a:pt x="109538" y="422275"/>
                    <a:pt x="123825" y="476250"/>
                  </a:cubicBezTo>
                  <a:cubicBezTo>
                    <a:pt x="138113" y="530225"/>
                    <a:pt x="84667" y="545042"/>
                    <a:pt x="136525" y="558800"/>
                  </a:cubicBezTo>
                  <a:cubicBezTo>
                    <a:pt x="188383" y="572558"/>
                    <a:pt x="390525" y="583142"/>
                    <a:pt x="434975" y="558800"/>
                  </a:cubicBezTo>
                  <a:cubicBezTo>
                    <a:pt x="479425" y="534458"/>
                    <a:pt x="410633" y="457729"/>
                    <a:pt x="403225" y="412750"/>
                  </a:cubicBezTo>
                  <a:cubicBezTo>
                    <a:pt x="395817" y="367771"/>
                    <a:pt x="383117" y="329671"/>
                    <a:pt x="390525" y="288925"/>
                  </a:cubicBezTo>
                  <a:cubicBezTo>
                    <a:pt x="397933" y="248179"/>
                    <a:pt x="429683" y="204258"/>
                    <a:pt x="447675" y="168275"/>
                  </a:cubicBezTo>
                  <a:cubicBezTo>
                    <a:pt x="465667" y="132292"/>
                    <a:pt x="482071" y="102658"/>
                    <a:pt x="498475" y="73025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任意多边形 233"/>
            <p:cNvSpPr/>
            <p:nvPr/>
          </p:nvSpPr>
          <p:spPr>
            <a:xfrm>
              <a:off x="9467640" y="3123000"/>
              <a:ext cx="251640" cy="252000"/>
            </a:xfrm>
            <a:custGeom>
              <a:avLst/>
              <a:gdLst/>
              <a:ahLst/>
              <a:rect l="l" t="t" r="r" b="b"/>
              <a:pathLst>
                <a:path w="190500" h="195262">
                  <a:moveTo>
                    <a:pt x="0" y="195262"/>
                  </a:moveTo>
                  <a:lnTo>
                    <a:pt x="190500" y="0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椭圆 234"/>
            <p:cNvSpPr/>
            <p:nvPr/>
          </p:nvSpPr>
          <p:spPr>
            <a:xfrm>
              <a:off x="9551520" y="2744280"/>
              <a:ext cx="411480" cy="4118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任意多边形 235"/>
            <p:cNvSpPr/>
            <p:nvPr/>
          </p:nvSpPr>
          <p:spPr>
            <a:xfrm>
              <a:off x="8925840" y="3724560"/>
              <a:ext cx="250920" cy="795240"/>
            </a:xfrm>
            <a:custGeom>
              <a:avLst/>
              <a:gdLst/>
              <a:ahLst/>
              <a:rect l="l" t="t" r="r" b="b"/>
              <a:pathLst>
                <a:path w="251232" h="795338">
                  <a:moveTo>
                    <a:pt x="251232" y="0"/>
                  </a:moveTo>
                  <a:cubicBezTo>
                    <a:pt x="144075" y="93266"/>
                    <a:pt x="36919" y="186532"/>
                    <a:pt x="8344" y="319088"/>
                  </a:cubicBezTo>
                  <a:cubicBezTo>
                    <a:pt x="-20231" y="451644"/>
                    <a:pt x="29775" y="623491"/>
                    <a:pt x="79782" y="795338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任意多边形 236"/>
            <p:cNvSpPr/>
            <p:nvPr/>
          </p:nvSpPr>
          <p:spPr>
            <a:xfrm>
              <a:off x="9086760" y="3808800"/>
              <a:ext cx="109440" cy="676440"/>
            </a:xfrm>
            <a:custGeom>
              <a:avLst/>
              <a:gdLst/>
              <a:ahLst/>
              <a:rect l="l" t="t" r="r" b="b"/>
              <a:pathLst>
                <a:path w="109538" h="676275">
                  <a:moveTo>
                    <a:pt x="0" y="0"/>
                  </a:moveTo>
                  <a:cubicBezTo>
                    <a:pt x="31353" y="26988"/>
                    <a:pt x="62707" y="53976"/>
                    <a:pt x="80963" y="166688"/>
                  </a:cubicBezTo>
                  <a:cubicBezTo>
                    <a:pt x="99219" y="279400"/>
                    <a:pt x="104378" y="477837"/>
                    <a:pt x="109538" y="676275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任意多边形 237"/>
            <p:cNvSpPr/>
            <p:nvPr/>
          </p:nvSpPr>
          <p:spPr>
            <a:xfrm>
              <a:off x="8827920" y="4512240"/>
              <a:ext cx="576720" cy="967680"/>
            </a:xfrm>
            <a:custGeom>
              <a:avLst/>
              <a:gdLst/>
              <a:ahLst/>
              <a:rect l="l" t="t" r="r" b="b"/>
              <a:pathLst>
                <a:path w="576869" h="967740">
                  <a:moveTo>
                    <a:pt x="173009" y="0"/>
                  </a:moveTo>
                  <a:cubicBezTo>
                    <a:pt x="63154" y="155575"/>
                    <a:pt x="-46701" y="311150"/>
                    <a:pt x="20609" y="472440"/>
                  </a:cubicBezTo>
                  <a:cubicBezTo>
                    <a:pt x="87919" y="633730"/>
                    <a:pt x="332394" y="800735"/>
                    <a:pt x="576869" y="96774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任意多边形 238"/>
            <p:cNvSpPr/>
            <p:nvPr/>
          </p:nvSpPr>
          <p:spPr>
            <a:xfrm>
              <a:off x="8949240" y="4504320"/>
              <a:ext cx="615600" cy="937440"/>
            </a:xfrm>
            <a:custGeom>
              <a:avLst/>
              <a:gdLst/>
              <a:ahLst/>
              <a:rect l="l" t="t" r="r" b="b"/>
              <a:pathLst>
                <a:path w="615710" h="937260">
                  <a:moveTo>
                    <a:pt x="59450" y="0"/>
                  </a:moveTo>
                  <a:cubicBezTo>
                    <a:pt x="9285" y="139065"/>
                    <a:pt x="-40880" y="278130"/>
                    <a:pt x="51830" y="434340"/>
                  </a:cubicBezTo>
                  <a:cubicBezTo>
                    <a:pt x="144540" y="590550"/>
                    <a:pt x="380125" y="763905"/>
                    <a:pt x="615710" y="93726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4" name="组合 239"/>
          <p:cNvGrpSpPr/>
          <p:nvPr/>
        </p:nvGrpSpPr>
        <p:grpSpPr>
          <a:xfrm>
            <a:off x="5446800" y="2066760"/>
            <a:ext cx="4116240" cy="3641760"/>
            <a:chOff x="5446800" y="2066760"/>
            <a:chExt cx="4116240" cy="3641760"/>
          </a:xfrm>
        </p:grpSpPr>
        <p:sp>
          <p:nvSpPr>
            <p:cNvPr id="755" name="椭圆 240"/>
            <p:cNvSpPr/>
            <p:nvPr/>
          </p:nvSpPr>
          <p:spPr>
            <a:xfrm>
              <a:off x="8967600" y="3492720"/>
              <a:ext cx="391680" cy="3938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直接连接符 241"/>
            <p:cNvSpPr/>
            <p:nvPr/>
          </p:nvSpPr>
          <p:spPr>
            <a:xfrm flipV="1">
              <a:off x="5446800" y="3222720"/>
              <a:ext cx="1455480" cy="20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直接连接符 242"/>
            <p:cNvSpPr/>
            <p:nvPr/>
          </p:nvSpPr>
          <p:spPr>
            <a:xfrm>
              <a:off x="6984360" y="2482920"/>
              <a:ext cx="1440" cy="13543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直接连接符 243"/>
            <p:cNvSpPr/>
            <p:nvPr/>
          </p:nvSpPr>
          <p:spPr>
            <a:xfrm flipH="1">
              <a:off x="6962400" y="3386880"/>
              <a:ext cx="834120" cy="4755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直接连接符 244"/>
            <p:cNvSpPr/>
            <p:nvPr/>
          </p:nvSpPr>
          <p:spPr>
            <a:xfrm>
              <a:off x="7649280" y="2066760"/>
              <a:ext cx="56160" cy="1155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直接连接符 245"/>
            <p:cNvSpPr/>
            <p:nvPr/>
          </p:nvSpPr>
          <p:spPr>
            <a:xfrm>
              <a:off x="7281720" y="335916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直接连接符 246"/>
            <p:cNvSpPr/>
            <p:nvPr/>
          </p:nvSpPr>
          <p:spPr>
            <a:xfrm flipV="1">
              <a:off x="6984360" y="2066760"/>
              <a:ext cx="664920" cy="416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任意多边形 247"/>
            <p:cNvSpPr/>
            <p:nvPr/>
          </p:nvSpPr>
          <p:spPr>
            <a:xfrm>
              <a:off x="7574400" y="3278520"/>
              <a:ext cx="428040" cy="182520"/>
            </a:xfrm>
            <a:custGeom>
              <a:avLst/>
              <a:gdLst/>
              <a:ahLst/>
              <a:rect l="l" t="t" r="r" b="b"/>
              <a:pathLst>
                <a:path w="593547" h="300737">
                  <a:moveTo>
                    <a:pt x="129150" y="27230"/>
                  </a:moveTo>
                  <a:cubicBezTo>
                    <a:pt x="82583" y="48397"/>
                    <a:pt x="12733" y="97080"/>
                    <a:pt x="2150" y="128830"/>
                  </a:cubicBezTo>
                  <a:cubicBezTo>
                    <a:pt x="-8433" y="160580"/>
                    <a:pt x="21200" y="190213"/>
                    <a:pt x="65650" y="217730"/>
                  </a:cubicBezTo>
                  <a:cubicBezTo>
                    <a:pt x="110100" y="245247"/>
                    <a:pt x="186300" y="283347"/>
                    <a:pt x="268850" y="293930"/>
                  </a:cubicBezTo>
                  <a:cubicBezTo>
                    <a:pt x="351400" y="304513"/>
                    <a:pt x="510150" y="304513"/>
                    <a:pt x="560950" y="281230"/>
                  </a:cubicBezTo>
                  <a:cubicBezTo>
                    <a:pt x="611750" y="257947"/>
                    <a:pt x="592700" y="192330"/>
                    <a:pt x="573650" y="154230"/>
                  </a:cubicBezTo>
                  <a:cubicBezTo>
                    <a:pt x="554600" y="116130"/>
                    <a:pt x="495333" y="78030"/>
                    <a:pt x="446650" y="52630"/>
                  </a:cubicBezTo>
                  <a:cubicBezTo>
                    <a:pt x="397967" y="27230"/>
                    <a:pt x="330233" y="8180"/>
                    <a:pt x="281550" y="1830"/>
                  </a:cubicBezTo>
                  <a:cubicBezTo>
                    <a:pt x="232867" y="-4520"/>
                    <a:pt x="175717" y="6063"/>
                    <a:pt x="129150" y="27230"/>
                  </a:cubicBezTo>
                  <a:close/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任意多边形 248"/>
            <p:cNvSpPr/>
            <p:nvPr/>
          </p:nvSpPr>
          <p:spPr>
            <a:xfrm>
              <a:off x="9153720" y="3079080"/>
              <a:ext cx="218880" cy="419040"/>
            </a:xfrm>
            <a:custGeom>
              <a:avLst/>
              <a:gdLst/>
              <a:ahLst/>
              <a:rect l="l" t="t" r="r" b="b"/>
              <a:pathLst>
                <a:path w="190500" h="195262">
                  <a:moveTo>
                    <a:pt x="0" y="195262"/>
                  </a:moveTo>
                  <a:lnTo>
                    <a:pt x="190500" y="0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椭圆 249"/>
            <p:cNvSpPr/>
            <p:nvPr/>
          </p:nvSpPr>
          <p:spPr>
            <a:xfrm>
              <a:off x="9182520" y="2766960"/>
              <a:ext cx="380520" cy="3805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任意多边形 250"/>
            <p:cNvSpPr/>
            <p:nvPr/>
          </p:nvSpPr>
          <p:spPr>
            <a:xfrm>
              <a:off x="7606440" y="3420000"/>
              <a:ext cx="380880" cy="443520"/>
            </a:xfrm>
            <a:custGeom>
              <a:avLst/>
              <a:gdLst/>
              <a:ahLst/>
              <a:rect l="l" t="t" r="r" b="b"/>
              <a:pathLst>
                <a:path w="381000" h="443560">
                  <a:moveTo>
                    <a:pt x="0" y="0"/>
                  </a:moveTo>
                  <a:cubicBezTo>
                    <a:pt x="38735" y="37465"/>
                    <a:pt x="77470" y="74930"/>
                    <a:pt x="91440" y="129540"/>
                  </a:cubicBezTo>
                  <a:cubicBezTo>
                    <a:pt x="105410" y="184150"/>
                    <a:pt x="86360" y="275590"/>
                    <a:pt x="83820" y="327660"/>
                  </a:cubicBezTo>
                  <a:cubicBezTo>
                    <a:pt x="81280" y="379730"/>
                    <a:pt x="35560" y="434340"/>
                    <a:pt x="76200" y="441960"/>
                  </a:cubicBezTo>
                  <a:cubicBezTo>
                    <a:pt x="116840" y="449580"/>
                    <a:pt x="289560" y="430530"/>
                    <a:pt x="327660" y="373380"/>
                  </a:cubicBezTo>
                  <a:cubicBezTo>
                    <a:pt x="365760" y="316230"/>
                    <a:pt x="295910" y="156210"/>
                    <a:pt x="304800" y="99060"/>
                  </a:cubicBezTo>
                  <a:cubicBezTo>
                    <a:pt x="313690" y="41910"/>
                    <a:pt x="347345" y="36195"/>
                    <a:pt x="381000" y="3048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任意多边形 251"/>
            <p:cNvSpPr/>
            <p:nvPr/>
          </p:nvSpPr>
          <p:spPr>
            <a:xfrm>
              <a:off x="8898120" y="3889080"/>
              <a:ext cx="178920" cy="704880"/>
            </a:xfrm>
            <a:custGeom>
              <a:avLst/>
              <a:gdLst/>
              <a:ahLst/>
              <a:rect l="l" t="t" r="r" b="b"/>
              <a:pathLst>
                <a:path w="179123" h="704850">
                  <a:moveTo>
                    <a:pt x="179123" y="0"/>
                  </a:moveTo>
                  <a:cubicBezTo>
                    <a:pt x="104510" y="41275"/>
                    <a:pt x="29898" y="82550"/>
                    <a:pt x="7673" y="200025"/>
                  </a:cubicBezTo>
                  <a:cubicBezTo>
                    <a:pt x="-14552" y="317500"/>
                    <a:pt x="15610" y="511175"/>
                    <a:pt x="45773" y="7048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任意多边形 252"/>
            <p:cNvSpPr/>
            <p:nvPr/>
          </p:nvSpPr>
          <p:spPr>
            <a:xfrm>
              <a:off x="8943840" y="4593960"/>
              <a:ext cx="133200" cy="1114560"/>
            </a:xfrm>
            <a:custGeom>
              <a:avLst/>
              <a:gdLst/>
              <a:ahLst/>
              <a:rect l="l" t="t" r="r" b="b"/>
              <a:pathLst>
                <a:path w="28575" h="1076325">
                  <a:moveTo>
                    <a:pt x="0" y="0"/>
                  </a:moveTo>
                  <a:lnTo>
                    <a:pt x="28575" y="1076325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任意多边形 253"/>
            <p:cNvSpPr/>
            <p:nvPr/>
          </p:nvSpPr>
          <p:spPr>
            <a:xfrm>
              <a:off x="8840160" y="4546440"/>
              <a:ext cx="548280" cy="933480"/>
            </a:xfrm>
            <a:custGeom>
              <a:avLst/>
              <a:gdLst/>
              <a:ahLst/>
              <a:rect l="l" t="t" r="r" b="b"/>
              <a:pathLst>
                <a:path w="548295" h="933450">
                  <a:moveTo>
                    <a:pt x="91095" y="0"/>
                  </a:moveTo>
                  <a:cubicBezTo>
                    <a:pt x="24420" y="169862"/>
                    <a:pt x="-42255" y="339725"/>
                    <a:pt x="33945" y="495300"/>
                  </a:cubicBezTo>
                  <a:cubicBezTo>
                    <a:pt x="110145" y="650875"/>
                    <a:pt x="329220" y="792162"/>
                    <a:pt x="548295" y="9334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任意多边形 254"/>
            <p:cNvSpPr/>
            <p:nvPr/>
          </p:nvSpPr>
          <p:spPr>
            <a:xfrm>
              <a:off x="8993520" y="3938400"/>
              <a:ext cx="327600" cy="708840"/>
            </a:xfrm>
            <a:custGeom>
              <a:avLst/>
              <a:gdLst/>
              <a:ahLst/>
              <a:rect l="l" t="t" r="r" b="b"/>
              <a:pathLst>
                <a:path w="327660" h="708660">
                  <a:moveTo>
                    <a:pt x="0" y="0"/>
                  </a:moveTo>
                  <a:cubicBezTo>
                    <a:pt x="14605" y="188595"/>
                    <a:pt x="29210" y="377190"/>
                    <a:pt x="83820" y="495300"/>
                  </a:cubicBezTo>
                  <a:cubicBezTo>
                    <a:pt x="138430" y="613410"/>
                    <a:pt x="233045" y="661035"/>
                    <a:pt x="327660" y="70866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0" name="组合 255"/>
          <p:cNvGrpSpPr/>
          <p:nvPr/>
        </p:nvGrpSpPr>
        <p:grpSpPr>
          <a:xfrm>
            <a:off x="5637240" y="2168640"/>
            <a:ext cx="3516120" cy="3467160"/>
            <a:chOff x="5637240" y="2168640"/>
            <a:chExt cx="3516120" cy="3467160"/>
          </a:xfrm>
        </p:grpSpPr>
        <p:sp>
          <p:nvSpPr>
            <p:cNvPr id="771" name="椭圆 256"/>
            <p:cNvSpPr/>
            <p:nvPr/>
          </p:nvSpPr>
          <p:spPr>
            <a:xfrm>
              <a:off x="8807400" y="3539520"/>
              <a:ext cx="345960" cy="34776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直接连接符 257"/>
            <p:cNvSpPr/>
            <p:nvPr/>
          </p:nvSpPr>
          <p:spPr>
            <a:xfrm flipV="1">
              <a:off x="5637240" y="3428640"/>
              <a:ext cx="1455480" cy="20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直接连接符 258"/>
            <p:cNvSpPr/>
            <p:nvPr/>
          </p:nvSpPr>
          <p:spPr>
            <a:xfrm>
              <a:off x="7104600" y="2557440"/>
              <a:ext cx="3600" cy="1389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直接连接符 259"/>
            <p:cNvSpPr/>
            <p:nvPr/>
          </p:nvSpPr>
          <p:spPr>
            <a:xfrm flipH="1">
              <a:off x="7120080" y="3393720"/>
              <a:ext cx="735120" cy="5263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直接连接符 260"/>
            <p:cNvSpPr/>
            <p:nvPr/>
          </p:nvSpPr>
          <p:spPr>
            <a:xfrm>
              <a:off x="7772040" y="2190960"/>
              <a:ext cx="56160" cy="11556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直接连接符 261"/>
            <p:cNvSpPr/>
            <p:nvPr/>
          </p:nvSpPr>
          <p:spPr>
            <a:xfrm>
              <a:off x="7431480" y="353772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直接连接符 262"/>
            <p:cNvSpPr/>
            <p:nvPr/>
          </p:nvSpPr>
          <p:spPr>
            <a:xfrm flipV="1">
              <a:off x="7106760" y="2168640"/>
              <a:ext cx="664920" cy="3888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任意多边形 263"/>
            <p:cNvSpPr/>
            <p:nvPr/>
          </p:nvSpPr>
          <p:spPr>
            <a:xfrm>
              <a:off x="7578360" y="3416040"/>
              <a:ext cx="583200" cy="182520"/>
            </a:xfrm>
            <a:custGeom>
              <a:avLst/>
              <a:gdLst/>
              <a:ahLst/>
              <a:rect l="l" t="t" r="r" b="b"/>
              <a:pathLst>
                <a:path w="593547" h="300737">
                  <a:moveTo>
                    <a:pt x="129150" y="27230"/>
                  </a:moveTo>
                  <a:cubicBezTo>
                    <a:pt x="82583" y="48397"/>
                    <a:pt x="12733" y="97080"/>
                    <a:pt x="2150" y="128830"/>
                  </a:cubicBezTo>
                  <a:cubicBezTo>
                    <a:pt x="-8433" y="160580"/>
                    <a:pt x="21200" y="190213"/>
                    <a:pt x="65650" y="217730"/>
                  </a:cubicBezTo>
                  <a:cubicBezTo>
                    <a:pt x="110100" y="245247"/>
                    <a:pt x="186300" y="283347"/>
                    <a:pt x="268850" y="293930"/>
                  </a:cubicBezTo>
                  <a:cubicBezTo>
                    <a:pt x="351400" y="304513"/>
                    <a:pt x="510150" y="304513"/>
                    <a:pt x="560950" y="281230"/>
                  </a:cubicBezTo>
                  <a:cubicBezTo>
                    <a:pt x="611750" y="257947"/>
                    <a:pt x="592700" y="192330"/>
                    <a:pt x="573650" y="154230"/>
                  </a:cubicBezTo>
                  <a:cubicBezTo>
                    <a:pt x="554600" y="116130"/>
                    <a:pt x="495333" y="78030"/>
                    <a:pt x="446650" y="52630"/>
                  </a:cubicBezTo>
                  <a:cubicBezTo>
                    <a:pt x="397967" y="27230"/>
                    <a:pt x="330233" y="8180"/>
                    <a:pt x="281550" y="1830"/>
                  </a:cubicBezTo>
                  <a:cubicBezTo>
                    <a:pt x="232867" y="-4520"/>
                    <a:pt x="175717" y="6063"/>
                    <a:pt x="129150" y="27230"/>
                  </a:cubicBezTo>
                  <a:close/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任意多边形 264"/>
            <p:cNvSpPr/>
            <p:nvPr/>
          </p:nvSpPr>
          <p:spPr>
            <a:xfrm flipH="1">
              <a:off x="8878320" y="3101760"/>
              <a:ext cx="45720" cy="450720"/>
            </a:xfrm>
            <a:custGeom>
              <a:avLst/>
              <a:gdLst/>
              <a:ahLst/>
              <a:rect l="l" t="t" r="r" b="b"/>
              <a:pathLst>
                <a:path w="190500" h="195262">
                  <a:moveTo>
                    <a:pt x="0" y="195262"/>
                  </a:moveTo>
                  <a:lnTo>
                    <a:pt x="190500" y="0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椭圆 265"/>
            <p:cNvSpPr/>
            <p:nvPr/>
          </p:nvSpPr>
          <p:spPr>
            <a:xfrm>
              <a:off x="8746920" y="2806200"/>
              <a:ext cx="380520" cy="3805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任意多边形 266"/>
            <p:cNvSpPr/>
            <p:nvPr/>
          </p:nvSpPr>
          <p:spPr>
            <a:xfrm>
              <a:off x="7627680" y="3569040"/>
              <a:ext cx="474480" cy="496080"/>
            </a:xfrm>
            <a:custGeom>
              <a:avLst/>
              <a:gdLst/>
              <a:ahLst/>
              <a:rect l="l" t="t" r="r" b="b"/>
              <a:pathLst>
                <a:path w="381000" h="443560">
                  <a:moveTo>
                    <a:pt x="0" y="0"/>
                  </a:moveTo>
                  <a:cubicBezTo>
                    <a:pt x="38735" y="37465"/>
                    <a:pt x="77470" y="74930"/>
                    <a:pt x="91440" y="129540"/>
                  </a:cubicBezTo>
                  <a:cubicBezTo>
                    <a:pt x="105410" y="184150"/>
                    <a:pt x="86360" y="275590"/>
                    <a:pt x="83820" y="327660"/>
                  </a:cubicBezTo>
                  <a:cubicBezTo>
                    <a:pt x="81280" y="379730"/>
                    <a:pt x="35560" y="434340"/>
                    <a:pt x="76200" y="441960"/>
                  </a:cubicBezTo>
                  <a:cubicBezTo>
                    <a:pt x="116840" y="449580"/>
                    <a:pt x="289560" y="430530"/>
                    <a:pt x="327660" y="373380"/>
                  </a:cubicBezTo>
                  <a:cubicBezTo>
                    <a:pt x="365760" y="316230"/>
                    <a:pt x="295910" y="156210"/>
                    <a:pt x="304800" y="99060"/>
                  </a:cubicBezTo>
                  <a:cubicBezTo>
                    <a:pt x="313690" y="41910"/>
                    <a:pt x="347345" y="36195"/>
                    <a:pt x="381000" y="3048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任意多边形 267"/>
            <p:cNvSpPr/>
            <p:nvPr/>
          </p:nvSpPr>
          <p:spPr>
            <a:xfrm>
              <a:off x="8797680" y="3882240"/>
              <a:ext cx="178920" cy="704520"/>
            </a:xfrm>
            <a:custGeom>
              <a:avLst/>
              <a:gdLst/>
              <a:ahLst/>
              <a:rect l="l" t="t" r="r" b="b"/>
              <a:pathLst>
                <a:path w="179123" h="704850">
                  <a:moveTo>
                    <a:pt x="179123" y="0"/>
                  </a:moveTo>
                  <a:cubicBezTo>
                    <a:pt x="104510" y="41275"/>
                    <a:pt x="29898" y="82550"/>
                    <a:pt x="7673" y="200025"/>
                  </a:cubicBezTo>
                  <a:cubicBezTo>
                    <a:pt x="-14552" y="317500"/>
                    <a:pt x="15610" y="511175"/>
                    <a:pt x="45773" y="7048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任意多边形 268"/>
            <p:cNvSpPr/>
            <p:nvPr/>
          </p:nvSpPr>
          <p:spPr>
            <a:xfrm>
              <a:off x="8843760" y="3985200"/>
              <a:ext cx="237240" cy="816480"/>
            </a:xfrm>
            <a:custGeom>
              <a:avLst/>
              <a:gdLst/>
              <a:ahLst/>
              <a:rect l="l" t="t" r="r" b="b"/>
              <a:pathLst>
                <a:path w="237175" h="816769">
                  <a:moveTo>
                    <a:pt x="0" y="0"/>
                  </a:moveTo>
                  <a:cubicBezTo>
                    <a:pt x="111124" y="80764"/>
                    <a:pt x="222249" y="161528"/>
                    <a:pt x="235743" y="297656"/>
                  </a:cubicBezTo>
                  <a:cubicBezTo>
                    <a:pt x="249237" y="433784"/>
                    <a:pt x="165099" y="625276"/>
                    <a:pt x="80962" y="816769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任意多边形 269"/>
            <p:cNvSpPr/>
            <p:nvPr/>
          </p:nvSpPr>
          <p:spPr>
            <a:xfrm>
              <a:off x="8750880" y="4575600"/>
              <a:ext cx="358200" cy="1060200"/>
            </a:xfrm>
            <a:custGeom>
              <a:avLst/>
              <a:gdLst/>
              <a:ahLst/>
              <a:rect l="l" t="t" r="r" b="b"/>
              <a:pathLst>
                <a:path w="358247" h="1060450">
                  <a:moveTo>
                    <a:pt x="91547" y="0"/>
                  </a:moveTo>
                  <a:cubicBezTo>
                    <a:pt x="31222" y="241829"/>
                    <a:pt x="-29103" y="483658"/>
                    <a:pt x="15347" y="660400"/>
                  </a:cubicBezTo>
                  <a:cubicBezTo>
                    <a:pt x="59797" y="837142"/>
                    <a:pt x="209022" y="948796"/>
                    <a:pt x="358247" y="10604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任意多边形 270"/>
            <p:cNvSpPr/>
            <p:nvPr/>
          </p:nvSpPr>
          <p:spPr>
            <a:xfrm>
              <a:off x="8841240" y="4563000"/>
              <a:ext cx="299520" cy="933120"/>
            </a:xfrm>
            <a:custGeom>
              <a:avLst/>
              <a:gdLst/>
              <a:ahLst/>
              <a:rect l="l" t="t" r="r" b="b"/>
              <a:pathLst>
                <a:path w="299639" h="933450">
                  <a:moveTo>
                    <a:pt x="1189" y="0"/>
                  </a:moveTo>
                  <a:cubicBezTo>
                    <a:pt x="-1457" y="271462"/>
                    <a:pt x="-4103" y="542925"/>
                    <a:pt x="45639" y="698500"/>
                  </a:cubicBezTo>
                  <a:cubicBezTo>
                    <a:pt x="95381" y="854075"/>
                    <a:pt x="197510" y="893762"/>
                    <a:pt x="299639" y="9334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6" name="组合 271"/>
          <p:cNvGrpSpPr/>
          <p:nvPr/>
        </p:nvGrpSpPr>
        <p:grpSpPr>
          <a:xfrm>
            <a:off x="5408640" y="2200320"/>
            <a:ext cx="3744720" cy="3403440"/>
            <a:chOff x="5408640" y="2200320"/>
            <a:chExt cx="3744720" cy="3403440"/>
          </a:xfrm>
        </p:grpSpPr>
        <p:sp>
          <p:nvSpPr>
            <p:cNvPr id="787" name="椭圆 272"/>
            <p:cNvSpPr/>
            <p:nvPr/>
          </p:nvSpPr>
          <p:spPr>
            <a:xfrm>
              <a:off x="8807400" y="3658320"/>
              <a:ext cx="345960" cy="34776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直接连接符 273"/>
            <p:cNvSpPr/>
            <p:nvPr/>
          </p:nvSpPr>
          <p:spPr>
            <a:xfrm>
              <a:off x="5408640" y="3472920"/>
              <a:ext cx="1896480" cy="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直接连接符 274"/>
            <p:cNvSpPr/>
            <p:nvPr/>
          </p:nvSpPr>
          <p:spPr>
            <a:xfrm>
              <a:off x="7305120" y="2652480"/>
              <a:ext cx="3600" cy="1389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直接连接符 275"/>
            <p:cNvSpPr/>
            <p:nvPr/>
          </p:nvSpPr>
          <p:spPr>
            <a:xfrm flipH="1">
              <a:off x="7292160" y="3396600"/>
              <a:ext cx="651600" cy="6375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直接连接符 276"/>
            <p:cNvSpPr/>
            <p:nvPr/>
          </p:nvSpPr>
          <p:spPr>
            <a:xfrm>
              <a:off x="7876800" y="2200320"/>
              <a:ext cx="47520" cy="12153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直接连接符 277"/>
            <p:cNvSpPr/>
            <p:nvPr/>
          </p:nvSpPr>
          <p:spPr>
            <a:xfrm>
              <a:off x="7526880" y="358488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直接连接符 278"/>
            <p:cNvSpPr/>
            <p:nvPr/>
          </p:nvSpPr>
          <p:spPr>
            <a:xfrm flipV="1">
              <a:off x="7259400" y="2212920"/>
              <a:ext cx="595800" cy="4770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任意多边形 279"/>
            <p:cNvSpPr/>
            <p:nvPr/>
          </p:nvSpPr>
          <p:spPr>
            <a:xfrm>
              <a:off x="7731360" y="3486960"/>
              <a:ext cx="531360" cy="182520"/>
            </a:xfrm>
            <a:custGeom>
              <a:avLst/>
              <a:gdLst/>
              <a:ahLst/>
              <a:rect l="l" t="t" r="r" b="b"/>
              <a:pathLst>
                <a:path w="593547" h="300737">
                  <a:moveTo>
                    <a:pt x="129150" y="27230"/>
                  </a:moveTo>
                  <a:cubicBezTo>
                    <a:pt x="82583" y="48397"/>
                    <a:pt x="12733" y="97080"/>
                    <a:pt x="2150" y="128830"/>
                  </a:cubicBezTo>
                  <a:cubicBezTo>
                    <a:pt x="-8433" y="160580"/>
                    <a:pt x="21200" y="190213"/>
                    <a:pt x="65650" y="217730"/>
                  </a:cubicBezTo>
                  <a:cubicBezTo>
                    <a:pt x="110100" y="245247"/>
                    <a:pt x="186300" y="283347"/>
                    <a:pt x="268850" y="293930"/>
                  </a:cubicBezTo>
                  <a:cubicBezTo>
                    <a:pt x="351400" y="304513"/>
                    <a:pt x="510150" y="304513"/>
                    <a:pt x="560950" y="281230"/>
                  </a:cubicBezTo>
                  <a:cubicBezTo>
                    <a:pt x="611750" y="257947"/>
                    <a:pt x="592700" y="192330"/>
                    <a:pt x="573650" y="154230"/>
                  </a:cubicBezTo>
                  <a:cubicBezTo>
                    <a:pt x="554600" y="116130"/>
                    <a:pt x="495333" y="78030"/>
                    <a:pt x="446650" y="52630"/>
                  </a:cubicBezTo>
                  <a:cubicBezTo>
                    <a:pt x="397967" y="27230"/>
                    <a:pt x="330233" y="8180"/>
                    <a:pt x="281550" y="1830"/>
                  </a:cubicBezTo>
                  <a:cubicBezTo>
                    <a:pt x="232867" y="-4520"/>
                    <a:pt x="175717" y="6063"/>
                    <a:pt x="129150" y="27230"/>
                  </a:cubicBezTo>
                  <a:close/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任意多边形 280"/>
            <p:cNvSpPr/>
            <p:nvPr/>
          </p:nvSpPr>
          <p:spPr>
            <a:xfrm flipH="1">
              <a:off x="8636040" y="3320280"/>
              <a:ext cx="197640" cy="412560"/>
            </a:xfrm>
            <a:custGeom>
              <a:avLst/>
              <a:gdLst/>
              <a:ahLst/>
              <a:rect l="l" t="t" r="r" b="b"/>
              <a:pathLst>
                <a:path w="190500" h="195262">
                  <a:moveTo>
                    <a:pt x="0" y="195262"/>
                  </a:moveTo>
                  <a:lnTo>
                    <a:pt x="190500" y="0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椭圆 281"/>
            <p:cNvSpPr/>
            <p:nvPr/>
          </p:nvSpPr>
          <p:spPr>
            <a:xfrm>
              <a:off x="8397000" y="2966760"/>
              <a:ext cx="380520" cy="3805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任意多边形 282"/>
            <p:cNvSpPr/>
            <p:nvPr/>
          </p:nvSpPr>
          <p:spPr>
            <a:xfrm>
              <a:off x="7762680" y="3608640"/>
              <a:ext cx="476280" cy="419400"/>
            </a:xfrm>
            <a:custGeom>
              <a:avLst/>
              <a:gdLst/>
              <a:ahLst/>
              <a:rect l="l" t="t" r="r" b="b"/>
              <a:pathLst>
                <a:path w="476250" h="419643">
                  <a:moveTo>
                    <a:pt x="0" y="0"/>
                  </a:moveTo>
                  <a:lnTo>
                    <a:pt x="76200" y="109537"/>
                  </a:lnTo>
                  <a:cubicBezTo>
                    <a:pt x="96837" y="138906"/>
                    <a:pt x="114300" y="135731"/>
                    <a:pt x="123825" y="176212"/>
                  </a:cubicBezTo>
                  <a:cubicBezTo>
                    <a:pt x="133350" y="216693"/>
                    <a:pt x="132556" y="314325"/>
                    <a:pt x="133350" y="352425"/>
                  </a:cubicBezTo>
                  <a:cubicBezTo>
                    <a:pt x="134144" y="390525"/>
                    <a:pt x="102394" y="393700"/>
                    <a:pt x="128588" y="404812"/>
                  </a:cubicBezTo>
                  <a:cubicBezTo>
                    <a:pt x="154782" y="415924"/>
                    <a:pt x="247651" y="421481"/>
                    <a:pt x="290513" y="419100"/>
                  </a:cubicBezTo>
                  <a:cubicBezTo>
                    <a:pt x="333376" y="416719"/>
                    <a:pt x="373063" y="419100"/>
                    <a:pt x="385763" y="390525"/>
                  </a:cubicBezTo>
                  <a:cubicBezTo>
                    <a:pt x="398463" y="361950"/>
                    <a:pt x="369888" y="282575"/>
                    <a:pt x="366713" y="247650"/>
                  </a:cubicBezTo>
                  <a:cubicBezTo>
                    <a:pt x="363538" y="212725"/>
                    <a:pt x="356394" y="203200"/>
                    <a:pt x="366713" y="180975"/>
                  </a:cubicBezTo>
                  <a:cubicBezTo>
                    <a:pt x="377032" y="158750"/>
                    <a:pt x="410369" y="136525"/>
                    <a:pt x="428625" y="114300"/>
                  </a:cubicBezTo>
                  <a:cubicBezTo>
                    <a:pt x="446881" y="92075"/>
                    <a:pt x="461565" y="69850"/>
                    <a:pt x="476250" y="47625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任意多边形 283"/>
            <p:cNvSpPr/>
            <p:nvPr/>
          </p:nvSpPr>
          <p:spPr>
            <a:xfrm>
              <a:off x="8724960" y="4027680"/>
              <a:ext cx="231120" cy="733320"/>
            </a:xfrm>
            <a:custGeom>
              <a:avLst/>
              <a:gdLst/>
              <a:ahLst/>
              <a:rect l="l" t="t" r="r" b="b"/>
              <a:pathLst>
                <a:path w="231333" h="733425">
                  <a:moveTo>
                    <a:pt x="214313" y="0"/>
                  </a:moveTo>
                  <a:cubicBezTo>
                    <a:pt x="229791" y="122237"/>
                    <a:pt x="245269" y="244475"/>
                    <a:pt x="209550" y="366712"/>
                  </a:cubicBezTo>
                  <a:cubicBezTo>
                    <a:pt x="173831" y="488950"/>
                    <a:pt x="86915" y="611187"/>
                    <a:pt x="0" y="733425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任意多边形 284"/>
            <p:cNvSpPr/>
            <p:nvPr/>
          </p:nvSpPr>
          <p:spPr>
            <a:xfrm>
              <a:off x="8638200" y="4753080"/>
              <a:ext cx="254880" cy="850680"/>
            </a:xfrm>
            <a:custGeom>
              <a:avLst/>
              <a:gdLst/>
              <a:ahLst/>
              <a:rect l="l" t="t" r="r" b="b"/>
              <a:pathLst>
                <a:path w="254969" h="850900">
                  <a:moveTo>
                    <a:pt x="89869" y="0"/>
                  </a:moveTo>
                  <a:cubicBezTo>
                    <a:pt x="34835" y="192616"/>
                    <a:pt x="-20198" y="385233"/>
                    <a:pt x="7319" y="527050"/>
                  </a:cubicBezTo>
                  <a:cubicBezTo>
                    <a:pt x="34836" y="668867"/>
                    <a:pt x="144902" y="759883"/>
                    <a:pt x="254969" y="8509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任意多边形 285"/>
            <p:cNvSpPr/>
            <p:nvPr/>
          </p:nvSpPr>
          <p:spPr>
            <a:xfrm>
              <a:off x="8719560" y="4765680"/>
              <a:ext cx="276480" cy="757080"/>
            </a:xfrm>
            <a:custGeom>
              <a:avLst/>
              <a:gdLst/>
              <a:ahLst/>
              <a:rect l="l" t="t" r="r" b="b"/>
              <a:pathLst>
                <a:path w="276671" h="757238">
                  <a:moveTo>
                    <a:pt x="14733" y="0"/>
                  </a:moveTo>
                  <a:cubicBezTo>
                    <a:pt x="49" y="153591"/>
                    <a:pt x="-14635" y="307182"/>
                    <a:pt x="29021" y="433388"/>
                  </a:cubicBezTo>
                  <a:cubicBezTo>
                    <a:pt x="72677" y="559594"/>
                    <a:pt x="174674" y="658416"/>
                    <a:pt x="276671" y="757238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任意多边形 286"/>
            <p:cNvSpPr/>
            <p:nvPr/>
          </p:nvSpPr>
          <p:spPr>
            <a:xfrm>
              <a:off x="8410320" y="4294440"/>
              <a:ext cx="542880" cy="438120"/>
            </a:xfrm>
            <a:custGeom>
              <a:avLst/>
              <a:gdLst/>
              <a:ahLst/>
              <a:rect l="l" t="t" r="r" b="b"/>
              <a:pathLst>
                <a:path w="542925" h="438150">
                  <a:moveTo>
                    <a:pt x="542925" y="0"/>
                  </a:moveTo>
                  <a:cubicBezTo>
                    <a:pt x="473868" y="144462"/>
                    <a:pt x="404812" y="288925"/>
                    <a:pt x="314325" y="361950"/>
                  </a:cubicBezTo>
                  <a:cubicBezTo>
                    <a:pt x="223837" y="434975"/>
                    <a:pt x="111918" y="436562"/>
                    <a:pt x="0" y="4381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2" name="组合 287"/>
          <p:cNvGrpSpPr/>
          <p:nvPr/>
        </p:nvGrpSpPr>
        <p:grpSpPr>
          <a:xfrm>
            <a:off x="5389560" y="2308320"/>
            <a:ext cx="3662280" cy="3375000"/>
            <a:chOff x="5389560" y="2308320"/>
            <a:chExt cx="3662280" cy="3375000"/>
          </a:xfrm>
        </p:grpSpPr>
        <p:sp>
          <p:nvSpPr>
            <p:cNvPr id="803" name="椭圆 288"/>
            <p:cNvSpPr/>
            <p:nvPr/>
          </p:nvSpPr>
          <p:spPr>
            <a:xfrm>
              <a:off x="8750160" y="3810600"/>
              <a:ext cx="301680" cy="30312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直接连接符 289"/>
            <p:cNvSpPr/>
            <p:nvPr/>
          </p:nvSpPr>
          <p:spPr>
            <a:xfrm>
              <a:off x="5389560" y="3586680"/>
              <a:ext cx="1896480" cy="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直接连接符 290"/>
            <p:cNvSpPr/>
            <p:nvPr/>
          </p:nvSpPr>
          <p:spPr>
            <a:xfrm>
              <a:off x="7305120" y="2829960"/>
              <a:ext cx="3600" cy="1389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直接连接符 291"/>
            <p:cNvSpPr/>
            <p:nvPr/>
          </p:nvSpPr>
          <p:spPr>
            <a:xfrm flipH="1">
              <a:off x="7323840" y="3567600"/>
              <a:ext cx="651600" cy="6375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直接连接符 292"/>
            <p:cNvSpPr/>
            <p:nvPr/>
          </p:nvSpPr>
          <p:spPr>
            <a:xfrm>
              <a:off x="7984800" y="2320560"/>
              <a:ext cx="19080" cy="1263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直接连接符 293"/>
            <p:cNvSpPr/>
            <p:nvPr/>
          </p:nvSpPr>
          <p:spPr>
            <a:xfrm>
              <a:off x="7552440" y="371772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直接连接符 294"/>
            <p:cNvSpPr/>
            <p:nvPr/>
          </p:nvSpPr>
          <p:spPr>
            <a:xfrm flipV="1">
              <a:off x="7297560" y="2308320"/>
              <a:ext cx="699840" cy="540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任意多边形 295"/>
            <p:cNvSpPr/>
            <p:nvPr/>
          </p:nvSpPr>
          <p:spPr>
            <a:xfrm>
              <a:off x="7794720" y="3620160"/>
              <a:ext cx="409320" cy="182520"/>
            </a:xfrm>
            <a:custGeom>
              <a:avLst/>
              <a:gdLst/>
              <a:ahLst/>
              <a:rect l="l" t="t" r="r" b="b"/>
              <a:pathLst>
                <a:path w="593547" h="300737">
                  <a:moveTo>
                    <a:pt x="129150" y="27230"/>
                  </a:moveTo>
                  <a:cubicBezTo>
                    <a:pt x="82583" y="48397"/>
                    <a:pt x="12733" y="97080"/>
                    <a:pt x="2150" y="128830"/>
                  </a:cubicBezTo>
                  <a:cubicBezTo>
                    <a:pt x="-8433" y="160580"/>
                    <a:pt x="21200" y="190213"/>
                    <a:pt x="65650" y="217730"/>
                  </a:cubicBezTo>
                  <a:cubicBezTo>
                    <a:pt x="110100" y="245247"/>
                    <a:pt x="186300" y="283347"/>
                    <a:pt x="268850" y="293930"/>
                  </a:cubicBezTo>
                  <a:cubicBezTo>
                    <a:pt x="351400" y="304513"/>
                    <a:pt x="510150" y="304513"/>
                    <a:pt x="560950" y="281230"/>
                  </a:cubicBezTo>
                  <a:cubicBezTo>
                    <a:pt x="611750" y="257947"/>
                    <a:pt x="592700" y="192330"/>
                    <a:pt x="573650" y="154230"/>
                  </a:cubicBezTo>
                  <a:cubicBezTo>
                    <a:pt x="554600" y="116130"/>
                    <a:pt x="495333" y="78030"/>
                    <a:pt x="446650" y="52630"/>
                  </a:cubicBezTo>
                  <a:cubicBezTo>
                    <a:pt x="397967" y="27230"/>
                    <a:pt x="330233" y="8180"/>
                    <a:pt x="281550" y="1830"/>
                  </a:cubicBezTo>
                  <a:cubicBezTo>
                    <a:pt x="232867" y="-4520"/>
                    <a:pt x="175717" y="6063"/>
                    <a:pt x="129150" y="27230"/>
                  </a:cubicBezTo>
                  <a:close/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任意多边形 296"/>
            <p:cNvSpPr/>
            <p:nvPr/>
          </p:nvSpPr>
          <p:spPr>
            <a:xfrm flipH="1">
              <a:off x="8385120" y="3632760"/>
              <a:ext cx="442080" cy="464400"/>
            </a:xfrm>
            <a:custGeom>
              <a:avLst/>
              <a:gdLst/>
              <a:ahLst/>
              <a:rect l="l" t="t" r="r" b="b"/>
              <a:pathLst>
                <a:path w="190500" h="195262">
                  <a:moveTo>
                    <a:pt x="0" y="195262"/>
                  </a:moveTo>
                  <a:lnTo>
                    <a:pt x="190500" y="0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椭圆 297"/>
            <p:cNvSpPr/>
            <p:nvPr/>
          </p:nvSpPr>
          <p:spPr>
            <a:xfrm>
              <a:off x="8124480" y="3292920"/>
              <a:ext cx="380520" cy="3805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任意多边形 298"/>
            <p:cNvSpPr/>
            <p:nvPr/>
          </p:nvSpPr>
          <p:spPr>
            <a:xfrm>
              <a:off x="8682840" y="4097160"/>
              <a:ext cx="185760" cy="632520"/>
            </a:xfrm>
            <a:custGeom>
              <a:avLst/>
              <a:gdLst/>
              <a:ahLst/>
              <a:rect l="l" t="t" r="r" b="b"/>
              <a:pathLst>
                <a:path w="231333" h="733425">
                  <a:moveTo>
                    <a:pt x="214313" y="0"/>
                  </a:moveTo>
                  <a:cubicBezTo>
                    <a:pt x="229791" y="122237"/>
                    <a:pt x="245269" y="244475"/>
                    <a:pt x="209550" y="366712"/>
                  </a:cubicBezTo>
                  <a:cubicBezTo>
                    <a:pt x="173831" y="488950"/>
                    <a:pt x="86915" y="611187"/>
                    <a:pt x="0" y="733425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任意多边形 299"/>
            <p:cNvSpPr/>
            <p:nvPr/>
          </p:nvSpPr>
          <p:spPr>
            <a:xfrm>
              <a:off x="7807320" y="3743280"/>
              <a:ext cx="361800" cy="392760"/>
            </a:xfrm>
            <a:custGeom>
              <a:avLst/>
              <a:gdLst/>
              <a:ahLst/>
              <a:rect l="l" t="t" r="r" b="b"/>
              <a:pathLst>
                <a:path w="361950" h="392906">
                  <a:moveTo>
                    <a:pt x="0" y="0"/>
                  </a:moveTo>
                  <a:cubicBezTo>
                    <a:pt x="20637" y="83079"/>
                    <a:pt x="41275" y="166158"/>
                    <a:pt x="44450" y="228600"/>
                  </a:cubicBezTo>
                  <a:cubicBezTo>
                    <a:pt x="47625" y="291042"/>
                    <a:pt x="-13758" y="350308"/>
                    <a:pt x="19050" y="374650"/>
                  </a:cubicBezTo>
                  <a:cubicBezTo>
                    <a:pt x="51858" y="398992"/>
                    <a:pt x="209550" y="398992"/>
                    <a:pt x="241300" y="374650"/>
                  </a:cubicBezTo>
                  <a:cubicBezTo>
                    <a:pt x="273050" y="350308"/>
                    <a:pt x="204258" y="268817"/>
                    <a:pt x="209550" y="228600"/>
                  </a:cubicBezTo>
                  <a:cubicBezTo>
                    <a:pt x="214842" y="188383"/>
                    <a:pt x="247650" y="162983"/>
                    <a:pt x="273050" y="133350"/>
                  </a:cubicBezTo>
                  <a:cubicBezTo>
                    <a:pt x="298450" y="103717"/>
                    <a:pt x="330200" y="77258"/>
                    <a:pt x="361950" y="5080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任意多边形 300"/>
            <p:cNvSpPr/>
            <p:nvPr/>
          </p:nvSpPr>
          <p:spPr>
            <a:xfrm>
              <a:off x="8384040" y="4296960"/>
              <a:ext cx="487440" cy="398520"/>
            </a:xfrm>
            <a:custGeom>
              <a:avLst/>
              <a:gdLst/>
              <a:ahLst/>
              <a:rect l="l" t="t" r="r" b="b"/>
              <a:pathLst>
                <a:path w="487680" h="398556">
                  <a:moveTo>
                    <a:pt x="487680" y="0"/>
                  </a:moveTo>
                  <a:cubicBezTo>
                    <a:pt x="436880" y="153035"/>
                    <a:pt x="386080" y="306070"/>
                    <a:pt x="304800" y="365760"/>
                  </a:cubicBezTo>
                  <a:cubicBezTo>
                    <a:pt x="223520" y="425450"/>
                    <a:pt x="111760" y="391795"/>
                    <a:pt x="0" y="35814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任意多边形 301"/>
            <p:cNvSpPr/>
            <p:nvPr/>
          </p:nvSpPr>
          <p:spPr>
            <a:xfrm>
              <a:off x="8459640" y="4723560"/>
              <a:ext cx="282240" cy="929520"/>
            </a:xfrm>
            <a:custGeom>
              <a:avLst/>
              <a:gdLst/>
              <a:ahLst/>
              <a:rect l="l" t="t" r="r" b="b"/>
              <a:pathLst>
                <a:path w="282409" h="929640">
                  <a:moveTo>
                    <a:pt x="229069" y="0"/>
                  </a:moveTo>
                  <a:cubicBezTo>
                    <a:pt x="110324" y="173990"/>
                    <a:pt x="-8421" y="347980"/>
                    <a:pt x="469" y="502920"/>
                  </a:cubicBezTo>
                  <a:cubicBezTo>
                    <a:pt x="9359" y="657860"/>
                    <a:pt x="145884" y="793750"/>
                    <a:pt x="282409" y="92964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任意多边形 302"/>
            <p:cNvSpPr/>
            <p:nvPr/>
          </p:nvSpPr>
          <p:spPr>
            <a:xfrm>
              <a:off x="8594280" y="4731120"/>
              <a:ext cx="322920" cy="952200"/>
            </a:xfrm>
            <a:custGeom>
              <a:avLst/>
              <a:gdLst/>
              <a:ahLst/>
              <a:rect l="l" t="t" r="r" b="b"/>
              <a:pathLst>
                <a:path w="323212" h="952500">
                  <a:moveTo>
                    <a:pt x="102232" y="0"/>
                  </a:moveTo>
                  <a:cubicBezTo>
                    <a:pt x="38097" y="202565"/>
                    <a:pt x="-26038" y="405130"/>
                    <a:pt x="10792" y="563880"/>
                  </a:cubicBezTo>
                  <a:cubicBezTo>
                    <a:pt x="47622" y="722630"/>
                    <a:pt x="185417" y="837565"/>
                    <a:pt x="323212" y="9525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8" name="组合 303"/>
          <p:cNvGrpSpPr/>
          <p:nvPr/>
        </p:nvGrpSpPr>
        <p:grpSpPr>
          <a:xfrm>
            <a:off x="5464080" y="2320560"/>
            <a:ext cx="3568680" cy="3362760"/>
            <a:chOff x="5464080" y="2320560"/>
            <a:chExt cx="3568680" cy="3362760"/>
          </a:xfrm>
        </p:grpSpPr>
        <p:sp>
          <p:nvSpPr>
            <p:cNvPr id="819" name="椭圆 304"/>
            <p:cNvSpPr/>
            <p:nvPr/>
          </p:nvSpPr>
          <p:spPr>
            <a:xfrm>
              <a:off x="8731440" y="3817080"/>
              <a:ext cx="301320" cy="30312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直接连接符 305"/>
            <p:cNvSpPr/>
            <p:nvPr/>
          </p:nvSpPr>
          <p:spPr>
            <a:xfrm>
              <a:off x="5464080" y="3451320"/>
              <a:ext cx="1968120" cy="1713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直接连接符 306"/>
            <p:cNvSpPr/>
            <p:nvPr/>
          </p:nvSpPr>
          <p:spPr>
            <a:xfrm>
              <a:off x="7432200" y="2708280"/>
              <a:ext cx="3600" cy="1389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直接连接符 307"/>
            <p:cNvSpPr/>
            <p:nvPr/>
          </p:nvSpPr>
          <p:spPr>
            <a:xfrm flipH="1">
              <a:off x="7432200" y="3555360"/>
              <a:ext cx="663840" cy="525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直接连接符 308"/>
            <p:cNvSpPr/>
            <p:nvPr/>
          </p:nvSpPr>
          <p:spPr>
            <a:xfrm>
              <a:off x="8080200" y="2320920"/>
              <a:ext cx="19080" cy="12636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直接连接符 309"/>
            <p:cNvSpPr/>
            <p:nvPr/>
          </p:nvSpPr>
          <p:spPr>
            <a:xfrm>
              <a:off x="7670160" y="367056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直接连接符 310"/>
            <p:cNvSpPr/>
            <p:nvPr/>
          </p:nvSpPr>
          <p:spPr>
            <a:xfrm flipV="1">
              <a:off x="7392960" y="2320560"/>
              <a:ext cx="686880" cy="5410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任意多边形 311"/>
            <p:cNvSpPr/>
            <p:nvPr/>
          </p:nvSpPr>
          <p:spPr>
            <a:xfrm>
              <a:off x="8663760" y="4097160"/>
              <a:ext cx="185400" cy="632520"/>
            </a:xfrm>
            <a:custGeom>
              <a:avLst/>
              <a:gdLst/>
              <a:ahLst/>
              <a:rect l="l" t="t" r="r" b="b"/>
              <a:pathLst>
                <a:path w="231333" h="733425">
                  <a:moveTo>
                    <a:pt x="214313" y="0"/>
                  </a:moveTo>
                  <a:cubicBezTo>
                    <a:pt x="229791" y="122237"/>
                    <a:pt x="245269" y="244475"/>
                    <a:pt x="209550" y="366712"/>
                  </a:cubicBezTo>
                  <a:cubicBezTo>
                    <a:pt x="173831" y="488950"/>
                    <a:pt x="86915" y="611187"/>
                    <a:pt x="0" y="733425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任意多边形 312"/>
            <p:cNvSpPr/>
            <p:nvPr/>
          </p:nvSpPr>
          <p:spPr>
            <a:xfrm>
              <a:off x="8169120" y="4239720"/>
              <a:ext cx="683280" cy="432720"/>
            </a:xfrm>
            <a:custGeom>
              <a:avLst/>
              <a:gdLst/>
              <a:ahLst/>
              <a:rect l="l" t="t" r="r" b="b"/>
              <a:pathLst>
                <a:path w="487680" h="398556">
                  <a:moveTo>
                    <a:pt x="487680" y="0"/>
                  </a:moveTo>
                  <a:cubicBezTo>
                    <a:pt x="436880" y="153035"/>
                    <a:pt x="386080" y="306070"/>
                    <a:pt x="304800" y="365760"/>
                  </a:cubicBezTo>
                  <a:cubicBezTo>
                    <a:pt x="223520" y="425450"/>
                    <a:pt x="111760" y="391795"/>
                    <a:pt x="0" y="35814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任意多边形 313"/>
            <p:cNvSpPr/>
            <p:nvPr/>
          </p:nvSpPr>
          <p:spPr>
            <a:xfrm>
              <a:off x="8334360" y="4723560"/>
              <a:ext cx="407520" cy="929160"/>
            </a:xfrm>
            <a:custGeom>
              <a:avLst/>
              <a:gdLst/>
              <a:ahLst/>
              <a:rect l="l" t="t" r="r" b="b"/>
              <a:pathLst>
                <a:path w="282409" h="929640">
                  <a:moveTo>
                    <a:pt x="229069" y="0"/>
                  </a:moveTo>
                  <a:cubicBezTo>
                    <a:pt x="110324" y="173990"/>
                    <a:pt x="-8421" y="347980"/>
                    <a:pt x="469" y="502920"/>
                  </a:cubicBezTo>
                  <a:cubicBezTo>
                    <a:pt x="9359" y="657860"/>
                    <a:pt x="145884" y="793750"/>
                    <a:pt x="282409" y="92964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任意多边形 314"/>
            <p:cNvSpPr/>
            <p:nvPr/>
          </p:nvSpPr>
          <p:spPr>
            <a:xfrm>
              <a:off x="8537760" y="4731120"/>
              <a:ext cx="379440" cy="952200"/>
            </a:xfrm>
            <a:custGeom>
              <a:avLst/>
              <a:gdLst/>
              <a:ahLst/>
              <a:rect l="l" t="t" r="r" b="b"/>
              <a:pathLst>
                <a:path w="323212" h="952500">
                  <a:moveTo>
                    <a:pt x="102232" y="0"/>
                  </a:moveTo>
                  <a:cubicBezTo>
                    <a:pt x="38097" y="202565"/>
                    <a:pt x="-26038" y="405130"/>
                    <a:pt x="10792" y="563880"/>
                  </a:cubicBezTo>
                  <a:cubicBezTo>
                    <a:pt x="47622" y="722630"/>
                    <a:pt x="185417" y="837565"/>
                    <a:pt x="323212" y="9525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任意多边形 315"/>
            <p:cNvSpPr/>
            <p:nvPr/>
          </p:nvSpPr>
          <p:spPr>
            <a:xfrm>
              <a:off x="7845480" y="3547080"/>
              <a:ext cx="488880" cy="157680"/>
            </a:xfrm>
            <a:custGeom>
              <a:avLst/>
              <a:gdLst/>
              <a:ahLst/>
              <a:rect l="l" t="t" r="r" b="b"/>
              <a:pathLst>
                <a:path w="488950" h="157956">
                  <a:moveTo>
                    <a:pt x="0" y="107156"/>
                  </a:moveTo>
                  <a:cubicBezTo>
                    <a:pt x="25400" y="67468"/>
                    <a:pt x="50800" y="27781"/>
                    <a:pt x="114300" y="11906"/>
                  </a:cubicBezTo>
                  <a:cubicBezTo>
                    <a:pt x="177800" y="-3969"/>
                    <a:pt x="322792" y="-3969"/>
                    <a:pt x="381000" y="11906"/>
                  </a:cubicBezTo>
                  <a:cubicBezTo>
                    <a:pt x="439208" y="27781"/>
                    <a:pt x="445558" y="82814"/>
                    <a:pt x="463550" y="107156"/>
                  </a:cubicBezTo>
                  <a:cubicBezTo>
                    <a:pt x="481542" y="131498"/>
                    <a:pt x="485246" y="144727"/>
                    <a:pt x="488950" y="157956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椭圆 316"/>
            <p:cNvSpPr/>
            <p:nvPr/>
          </p:nvSpPr>
          <p:spPr>
            <a:xfrm>
              <a:off x="7916400" y="3520800"/>
              <a:ext cx="324360" cy="32400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任意多边形 317"/>
            <p:cNvSpPr/>
            <p:nvPr/>
          </p:nvSpPr>
          <p:spPr>
            <a:xfrm>
              <a:off x="7827120" y="3647880"/>
              <a:ext cx="500760" cy="121320"/>
            </a:xfrm>
            <a:custGeom>
              <a:avLst/>
              <a:gdLst/>
              <a:ahLst/>
              <a:rect l="l" t="t" r="r" b="b"/>
              <a:pathLst>
                <a:path w="500902" h="121372">
                  <a:moveTo>
                    <a:pt x="18302" y="0"/>
                  </a:moveTo>
                  <a:cubicBezTo>
                    <a:pt x="-748" y="24871"/>
                    <a:pt x="-19798" y="49742"/>
                    <a:pt x="43702" y="69850"/>
                  </a:cubicBezTo>
                  <a:cubicBezTo>
                    <a:pt x="107202" y="89958"/>
                    <a:pt x="323102" y="127000"/>
                    <a:pt x="399302" y="120650"/>
                  </a:cubicBezTo>
                  <a:cubicBezTo>
                    <a:pt x="475502" y="114300"/>
                    <a:pt x="488202" y="73025"/>
                    <a:pt x="500902" y="3175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任意多边形 318"/>
            <p:cNvSpPr/>
            <p:nvPr/>
          </p:nvSpPr>
          <p:spPr>
            <a:xfrm>
              <a:off x="7845480" y="3705120"/>
              <a:ext cx="457200" cy="376200"/>
            </a:xfrm>
            <a:custGeom>
              <a:avLst/>
              <a:gdLst/>
              <a:ahLst/>
              <a:rect l="l" t="t" r="r" b="b"/>
              <a:pathLst>
                <a:path w="457200" h="376291">
                  <a:moveTo>
                    <a:pt x="0" y="0"/>
                  </a:moveTo>
                  <a:cubicBezTo>
                    <a:pt x="47625" y="115887"/>
                    <a:pt x="95250" y="231775"/>
                    <a:pt x="120650" y="292100"/>
                  </a:cubicBezTo>
                  <a:cubicBezTo>
                    <a:pt x="146050" y="352425"/>
                    <a:pt x="110067" y="350308"/>
                    <a:pt x="152400" y="361950"/>
                  </a:cubicBezTo>
                  <a:cubicBezTo>
                    <a:pt x="194733" y="373592"/>
                    <a:pt x="338667" y="387350"/>
                    <a:pt x="374650" y="361950"/>
                  </a:cubicBezTo>
                  <a:cubicBezTo>
                    <a:pt x="410633" y="336550"/>
                    <a:pt x="367242" y="251883"/>
                    <a:pt x="368300" y="209550"/>
                  </a:cubicBezTo>
                  <a:cubicBezTo>
                    <a:pt x="369358" y="167217"/>
                    <a:pt x="366183" y="136525"/>
                    <a:pt x="381000" y="107950"/>
                  </a:cubicBezTo>
                  <a:cubicBezTo>
                    <a:pt x="395817" y="79375"/>
                    <a:pt x="426508" y="58737"/>
                    <a:pt x="457200" y="3810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任意多边形 319"/>
            <p:cNvSpPr/>
            <p:nvPr/>
          </p:nvSpPr>
          <p:spPr>
            <a:xfrm>
              <a:off x="8283600" y="3622680"/>
              <a:ext cx="565200" cy="679320"/>
            </a:xfrm>
            <a:custGeom>
              <a:avLst/>
              <a:gdLst/>
              <a:ahLst/>
              <a:rect l="l" t="t" r="r" b="b"/>
              <a:pathLst>
                <a:path w="565150" h="679450">
                  <a:moveTo>
                    <a:pt x="0" y="0"/>
                  </a:moveTo>
                  <a:cubicBezTo>
                    <a:pt x="40216" y="529"/>
                    <a:pt x="75671" y="4233"/>
                    <a:pt x="114300" y="44450"/>
                  </a:cubicBezTo>
                  <a:cubicBezTo>
                    <a:pt x="152929" y="84667"/>
                    <a:pt x="162983" y="138642"/>
                    <a:pt x="231775" y="241300"/>
                  </a:cubicBezTo>
                  <a:cubicBezTo>
                    <a:pt x="306917" y="347133"/>
                    <a:pt x="421746" y="522816"/>
                    <a:pt x="565150" y="6794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5" name="组合 320"/>
          <p:cNvGrpSpPr/>
          <p:nvPr/>
        </p:nvGrpSpPr>
        <p:grpSpPr>
          <a:xfrm>
            <a:off x="5483160" y="2406600"/>
            <a:ext cx="3435480" cy="3252960"/>
            <a:chOff x="5483160" y="2406600"/>
            <a:chExt cx="3435480" cy="3252960"/>
          </a:xfrm>
        </p:grpSpPr>
        <p:sp>
          <p:nvSpPr>
            <p:cNvPr id="836" name="椭圆 321"/>
            <p:cNvSpPr/>
            <p:nvPr/>
          </p:nvSpPr>
          <p:spPr>
            <a:xfrm>
              <a:off x="8617320" y="3836160"/>
              <a:ext cx="301320" cy="30312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直接连接符 322"/>
            <p:cNvSpPr/>
            <p:nvPr/>
          </p:nvSpPr>
          <p:spPr>
            <a:xfrm>
              <a:off x="5483160" y="3555000"/>
              <a:ext cx="2044440" cy="1180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直接连接符 323"/>
            <p:cNvSpPr/>
            <p:nvPr/>
          </p:nvSpPr>
          <p:spPr>
            <a:xfrm>
              <a:off x="7527600" y="2829600"/>
              <a:ext cx="3600" cy="13903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直接连接符 324"/>
            <p:cNvSpPr/>
            <p:nvPr/>
          </p:nvSpPr>
          <p:spPr>
            <a:xfrm flipH="1">
              <a:off x="7527600" y="3520800"/>
              <a:ext cx="651600" cy="6375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直接连接符 325"/>
            <p:cNvSpPr/>
            <p:nvPr/>
          </p:nvSpPr>
          <p:spPr>
            <a:xfrm>
              <a:off x="8179200" y="2406600"/>
              <a:ext cx="9360" cy="11984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直接连接符 326"/>
            <p:cNvSpPr/>
            <p:nvPr/>
          </p:nvSpPr>
          <p:spPr>
            <a:xfrm>
              <a:off x="7689240" y="366408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直接连接符 327"/>
            <p:cNvSpPr/>
            <p:nvPr/>
          </p:nvSpPr>
          <p:spPr>
            <a:xfrm flipV="1">
              <a:off x="7502040" y="2406600"/>
              <a:ext cx="699840" cy="540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任意多边形 328"/>
            <p:cNvSpPr/>
            <p:nvPr/>
          </p:nvSpPr>
          <p:spPr>
            <a:xfrm>
              <a:off x="8556120" y="4116240"/>
              <a:ext cx="185760" cy="632520"/>
            </a:xfrm>
            <a:custGeom>
              <a:avLst/>
              <a:gdLst/>
              <a:ahLst/>
              <a:rect l="l" t="t" r="r" b="b"/>
              <a:pathLst>
                <a:path w="231333" h="733425">
                  <a:moveTo>
                    <a:pt x="214313" y="0"/>
                  </a:moveTo>
                  <a:cubicBezTo>
                    <a:pt x="229791" y="122237"/>
                    <a:pt x="245269" y="244475"/>
                    <a:pt x="209550" y="366712"/>
                  </a:cubicBezTo>
                  <a:cubicBezTo>
                    <a:pt x="173831" y="488950"/>
                    <a:pt x="86915" y="611187"/>
                    <a:pt x="0" y="733425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任意多边形 329"/>
            <p:cNvSpPr/>
            <p:nvPr/>
          </p:nvSpPr>
          <p:spPr>
            <a:xfrm>
              <a:off x="8245800" y="4730040"/>
              <a:ext cx="407520" cy="929520"/>
            </a:xfrm>
            <a:custGeom>
              <a:avLst/>
              <a:gdLst/>
              <a:ahLst/>
              <a:rect l="l" t="t" r="r" b="b"/>
              <a:pathLst>
                <a:path w="282409" h="929640">
                  <a:moveTo>
                    <a:pt x="229069" y="0"/>
                  </a:moveTo>
                  <a:cubicBezTo>
                    <a:pt x="110324" y="173990"/>
                    <a:pt x="-8421" y="347980"/>
                    <a:pt x="469" y="502920"/>
                  </a:cubicBezTo>
                  <a:cubicBezTo>
                    <a:pt x="9359" y="657860"/>
                    <a:pt x="145884" y="793750"/>
                    <a:pt x="282409" y="92964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任意多边形 330"/>
            <p:cNvSpPr/>
            <p:nvPr/>
          </p:nvSpPr>
          <p:spPr>
            <a:xfrm>
              <a:off x="7953480" y="3547080"/>
              <a:ext cx="488880" cy="157680"/>
            </a:xfrm>
            <a:custGeom>
              <a:avLst/>
              <a:gdLst/>
              <a:ahLst/>
              <a:rect l="l" t="t" r="r" b="b"/>
              <a:pathLst>
                <a:path w="488950" h="157956">
                  <a:moveTo>
                    <a:pt x="0" y="107156"/>
                  </a:moveTo>
                  <a:cubicBezTo>
                    <a:pt x="25400" y="67468"/>
                    <a:pt x="50800" y="27781"/>
                    <a:pt x="114300" y="11906"/>
                  </a:cubicBezTo>
                  <a:cubicBezTo>
                    <a:pt x="177800" y="-3969"/>
                    <a:pt x="322792" y="-3969"/>
                    <a:pt x="381000" y="11906"/>
                  </a:cubicBezTo>
                  <a:cubicBezTo>
                    <a:pt x="439208" y="27781"/>
                    <a:pt x="445558" y="82814"/>
                    <a:pt x="463550" y="107156"/>
                  </a:cubicBezTo>
                  <a:cubicBezTo>
                    <a:pt x="481542" y="131498"/>
                    <a:pt x="485246" y="144727"/>
                    <a:pt x="488950" y="157956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椭圆 331"/>
            <p:cNvSpPr/>
            <p:nvPr/>
          </p:nvSpPr>
          <p:spPr>
            <a:xfrm>
              <a:off x="8017560" y="3624480"/>
              <a:ext cx="324360" cy="3243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任意多边形 332"/>
            <p:cNvSpPr/>
            <p:nvPr/>
          </p:nvSpPr>
          <p:spPr>
            <a:xfrm>
              <a:off x="7941600" y="3647880"/>
              <a:ext cx="500760" cy="121320"/>
            </a:xfrm>
            <a:custGeom>
              <a:avLst/>
              <a:gdLst/>
              <a:ahLst/>
              <a:rect l="l" t="t" r="r" b="b"/>
              <a:pathLst>
                <a:path w="500902" h="121372">
                  <a:moveTo>
                    <a:pt x="18302" y="0"/>
                  </a:moveTo>
                  <a:cubicBezTo>
                    <a:pt x="-748" y="24871"/>
                    <a:pt x="-19798" y="49742"/>
                    <a:pt x="43702" y="69850"/>
                  </a:cubicBezTo>
                  <a:cubicBezTo>
                    <a:pt x="107202" y="89958"/>
                    <a:pt x="323102" y="127000"/>
                    <a:pt x="399302" y="120650"/>
                  </a:cubicBezTo>
                  <a:cubicBezTo>
                    <a:pt x="475502" y="114300"/>
                    <a:pt x="488202" y="73025"/>
                    <a:pt x="500902" y="3175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任意多边形 333"/>
            <p:cNvSpPr/>
            <p:nvPr/>
          </p:nvSpPr>
          <p:spPr>
            <a:xfrm>
              <a:off x="7931160" y="3730320"/>
              <a:ext cx="464040" cy="417600"/>
            </a:xfrm>
            <a:custGeom>
              <a:avLst/>
              <a:gdLst/>
              <a:ahLst/>
              <a:rect l="l" t="t" r="r" b="b"/>
              <a:pathLst>
                <a:path w="457200" h="376291">
                  <a:moveTo>
                    <a:pt x="0" y="0"/>
                  </a:moveTo>
                  <a:cubicBezTo>
                    <a:pt x="47625" y="115887"/>
                    <a:pt x="95250" y="231775"/>
                    <a:pt x="120650" y="292100"/>
                  </a:cubicBezTo>
                  <a:cubicBezTo>
                    <a:pt x="146050" y="352425"/>
                    <a:pt x="110067" y="350308"/>
                    <a:pt x="152400" y="361950"/>
                  </a:cubicBezTo>
                  <a:cubicBezTo>
                    <a:pt x="194733" y="373592"/>
                    <a:pt x="338667" y="387350"/>
                    <a:pt x="374650" y="361950"/>
                  </a:cubicBezTo>
                  <a:cubicBezTo>
                    <a:pt x="410633" y="336550"/>
                    <a:pt x="367242" y="251883"/>
                    <a:pt x="368300" y="209550"/>
                  </a:cubicBezTo>
                  <a:cubicBezTo>
                    <a:pt x="369358" y="167217"/>
                    <a:pt x="366183" y="136525"/>
                    <a:pt x="381000" y="107950"/>
                  </a:cubicBezTo>
                  <a:cubicBezTo>
                    <a:pt x="395817" y="79375"/>
                    <a:pt x="426508" y="58737"/>
                    <a:pt x="457200" y="3810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任意多边形 334"/>
            <p:cNvSpPr/>
            <p:nvPr/>
          </p:nvSpPr>
          <p:spPr>
            <a:xfrm>
              <a:off x="8359920" y="3558960"/>
              <a:ext cx="266400" cy="368280"/>
            </a:xfrm>
            <a:custGeom>
              <a:avLst/>
              <a:gdLst/>
              <a:ahLst/>
              <a:rect l="l" t="t" r="r" b="b"/>
              <a:pathLst>
                <a:path w="266700" h="368300">
                  <a:moveTo>
                    <a:pt x="266700" y="361950"/>
                  </a:moveTo>
                  <a:cubicBezTo>
                    <a:pt x="214841" y="368300"/>
                    <a:pt x="162983" y="374650"/>
                    <a:pt x="133350" y="355600"/>
                  </a:cubicBezTo>
                  <a:cubicBezTo>
                    <a:pt x="103717" y="336550"/>
                    <a:pt x="94192" y="299508"/>
                    <a:pt x="88900" y="247650"/>
                  </a:cubicBezTo>
                  <a:cubicBezTo>
                    <a:pt x="83608" y="195792"/>
                    <a:pt x="116417" y="85725"/>
                    <a:pt x="101600" y="44450"/>
                  </a:cubicBezTo>
                  <a:cubicBezTo>
                    <a:pt x="86783" y="3175"/>
                    <a:pt x="43391" y="1587"/>
                    <a:pt x="0" y="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任意多边形 335"/>
            <p:cNvSpPr/>
            <p:nvPr/>
          </p:nvSpPr>
          <p:spPr>
            <a:xfrm>
              <a:off x="8232840" y="4384440"/>
              <a:ext cx="495360" cy="387360"/>
            </a:xfrm>
            <a:custGeom>
              <a:avLst/>
              <a:gdLst/>
              <a:ahLst/>
              <a:rect l="l" t="t" r="r" b="b"/>
              <a:pathLst>
                <a:path w="495300" h="387350">
                  <a:moveTo>
                    <a:pt x="495300" y="0"/>
                  </a:moveTo>
                  <a:cubicBezTo>
                    <a:pt x="462491" y="127529"/>
                    <a:pt x="429683" y="255058"/>
                    <a:pt x="368300" y="311150"/>
                  </a:cubicBezTo>
                  <a:cubicBezTo>
                    <a:pt x="306917" y="367242"/>
                    <a:pt x="188383" y="323850"/>
                    <a:pt x="127000" y="336550"/>
                  </a:cubicBezTo>
                  <a:cubicBezTo>
                    <a:pt x="65617" y="349250"/>
                    <a:pt x="32808" y="368300"/>
                    <a:pt x="0" y="3873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任意多边形 336"/>
            <p:cNvSpPr/>
            <p:nvPr/>
          </p:nvSpPr>
          <p:spPr>
            <a:xfrm>
              <a:off x="8467560" y="4746600"/>
              <a:ext cx="362160" cy="806400"/>
            </a:xfrm>
            <a:custGeom>
              <a:avLst/>
              <a:gdLst/>
              <a:ahLst/>
              <a:rect l="l" t="t" r="r" b="b"/>
              <a:pathLst>
                <a:path w="362192" h="806450">
                  <a:moveTo>
                    <a:pt x="89142" y="0"/>
                  </a:moveTo>
                  <a:cubicBezTo>
                    <a:pt x="60567" y="192087"/>
                    <a:pt x="28817" y="380471"/>
                    <a:pt x="19292" y="488950"/>
                  </a:cubicBezTo>
                  <a:cubicBezTo>
                    <a:pt x="9767" y="597429"/>
                    <a:pt x="-25158" y="597958"/>
                    <a:pt x="31992" y="650875"/>
                  </a:cubicBezTo>
                  <a:cubicBezTo>
                    <a:pt x="89142" y="703792"/>
                    <a:pt x="216142" y="744008"/>
                    <a:pt x="362192" y="8064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2" name="组合 337"/>
          <p:cNvGrpSpPr/>
          <p:nvPr/>
        </p:nvGrpSpPr>
        <p:grpSpPr>
          <a:xfrm>
            <a:off x="5483160" y="2387520"/>
            <a:ext cx="3378240" cy="3260880"/>
            <a:chOff x="5483160" y="2387520"/>
            <a:chExt cx="3378240" cy="3260880"/>
          </a:xfrm>
        </p:grpSpPr>
        <p:sp>
          <p:nvSpPr>
            <p:cNvPr id="853" name="椭圆 338"/>
            <p:cNvSpPr/>
            <p:nvPr/>
          </p:nvSpPr>
          <p:spPr>
            <a:xfrm>
              <a:off x="8515440" y="3886920"/>
              <a:ext cx="301320" cy="30312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直接连接符 339"/>
            <p:cNvSpPr/>
            <p:nvPr/>
          </p:nvSpPr>
          <p:spPr>
            <a:xfrm>
              <a:off x="5483160" y="3535920"/>
              <a:ext cx="2117880" cy="691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直接连接符 340"/>
            <p:cNvSpPr/>
            <p:nvPr/>
          </p:nvSpPr>
          <p:spPr>
            <a:xfrm>
              <a:off x="7610400" y="2890080"/>
              <a:ext cx="25560" cy="1215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直接连接符 341"/>
            <p:cNvSpPr/>
            <p:nvPr/>
          </p:nvSpPr>
          <p:spPr>
            <a:xfrm flipH="1">
              <a:off x="7629480" y="3520800"/>
              <a:ext cx="663840" cy="5018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直接连接符 342"/>
            <p:cNvSpPr/>
            <p:nvPr/>
          </p:nvSpPr>
          <p:spPr>
            <a:xfrm>
              <a:off x="8264880" y="2406240"/>
              <a:ext cx="9360" cy="11988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直接连接符 343"/>
            <p:cNvSpPr/>
            <p:nvPr/>
          </p:nvSpPr>
          <p:spPr>
            <a:xfrm>
              <a:off x="7822440" y="365940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直接连接符 344"/>
            <p:cNvSpPr/>
            <p:nvPr/>
          </p:nvSpPr>
          <p:spPr>
            <a:xfrm flipV="1">
              <a:off x="7587720" y="2387520"/>
              <a:ext cx="699840" cy="540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任意多边形 345"/>
            <p:cNvSpPr/>
            <p:nvPr/>
          </p:nvSpPr>
          <p:spPr>
            <a:xfrm>
              <a:off x="8479800" y="4186080"/>
              <a:ext cx="185760" cy="632880"/>
            </a:xfrm>
            <a:custGeom>
              <a:avLst/>
              <a:gdLst/>
              <a:ahLst/>
              <a:rect l="l" t="t" r="r" b="b"/>
              <a:pathLst>
                <a:path w="231333" h="733425">
                  <a:moveTo>
                    <a:pt x="214313" y="0"/>
                  </a:moveTo>
                  <a:cubicBezTo>
                    <a:pt x="229791" y="122237"/>
                    <a:pt x="245269" y="244475"/>
                    <a:pt x="209550" y="366712"/>
                  </a:cubicBezTo>
                  <a:cubicBezTo>
                    <a:pt x="173831" y="488950"/>
                    <a:pt x="86915" y="611187"/>
                    <a:pt x="0" y="733425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椭圆 346"/>
            <p:cNvSpPr/>
            <p:nvPr/>
          </p:nvSpPr>
          <p:spPr>
            <a:xfrm>
              <a:off x="8112600" y="3748680"/>
              <a:ext cx="324360" cy="3243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任意多边形 347"/>
            <p:cNvSpPr/>
            <p:nvPr/>
          </p:nvSpPr>
          <p:spPr>
            <a:xfrm>
              <a:off x="8070120" y="3630600"/>
              <a:ext cx="500760" cy="121320"/>
            </a:xfrm>
            <a:custGeom>
              <a:avLst/>
              <a:gdLst/>
              <a:ahLst/>
              <a:rect l="l" t="t" r="r" b="b"/>
              <a:pathLst>
                <a:path w="500902" h="121372">
                  <a:moveTo>
                    <a:pt x="18302" y="0"/>
                  </a:moveTo>
                  <a:cubicBezTo>
                    <a:pt x="-748" y="24871"/>
                    <a:pt x="-19798" y="49742"/>
                    <a:pt x="43702" y="69850"/>
                  </a:cubicBezTo>
                  <a:cubicBezTo>
                    <a:pt x="107202" y="89958"/>
                    <a:pt x="323102" y="127000"/>
                    <a:pt x="399302" y="120650"/>
                  </a:cubicBezTo>
                  <a:cubicBezTo>
                    <a:pt x="475502" y="114300"/>
                    <a:pt x="488202" y="73025"/>
                    <a:pt x="500902" y="3175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任意多边形 348"/>
            <p:cNvSpPr/>
            <p:nvPr/>
          </p:nvSpPr>
          <p:spPr>
            <a:xfrm>
              <a:off x="8283600" y="3768480"/>
              <a:ext cx="266400" cy="368280"/>
            </a:xfrm>
            <a:custGeom>
              <a:avLst/>
              <a:gdLst/>
              <a:ahLst/>
              <a:rect l="l" t="t" r="r" b="b"/>
              <a:pathLst>
                <a:path w="266700" h="368300">
                  <a:moveTo>
                    <a:pt x="266700" y="361950"/>
                  </a:moveTo>
                  <a:cubicBezTo>
                    <a:pt x="214841" y="368300"/>
                    <a:pt x="162983" y="374650"/>
                    <a:pt x="133350" y="355600"/>
                  </a:cubicBezTo>
                  <a:cubicBezTo>
                    <a:pt x="103717" y="336550"/>
                    <a:pt x="94192" y="299508"/>
                    <a:pt x="88900" y="247650"/>
                  </a:cubicBezTo>
                  <a:cubicBezTo>
                    <a:pt x="83608" y="195792"/>
                    <a:pt x="116417" y="85725"/>
                    <a:pt x="101600" y="44450"/>
                  </a:cubicBezTo>
                  <a:cubicBezTo>
                    <a:pt x="86783" y="3175"/>
                    <a:pt x="43391" y="1587"/>
                    <a:pt x="0" y="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任意多边形 349"/>
            <p:cNvSpPr/>
            <p:nvPr/>
          </p:nvSpPr>
          <p:spPr>
            <a:xfrm>
              <a:off x="8066160" y="3684600"/>
              <a:ext cx="444240" cy="446040"/>
            </a:xfrm>
            <a:custGeom>
              <a:avLst/>
              <a:gdLst/>
              <a:ahLst/>
              <a:rect l="l" t="t" r="r" b="b"/>
              <a:pathLst>
                <a:path w="444386" h="446267">
                  <a:moveTo>
                    <a:pt x="10998" y="0"/>
                  </a:moveTo>
                  <a:cubicBezTo>
                    <a:pt x="-2099" y="166687"/>
                    <a:pt x="-13608" y="333375"/>
                    <a:pt x="39573" y="400050"/>
                  </a:cubicBezTo>
                  <a:cubicBezTo>
                    <a:pt x="92754" y="466725"/>
                    <a:pt x="262617" y="456406"/>
                    <a:pt x="330086" y="400050"/>
                  </a:cubicBezTo>
                  <a:cubicBezTo>
                    <a:pt x="397555" y="343694"/>
                    <a:pt x="425733" y="202803"/>
                    <a:pt x="444386" y="61912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任意多边形 350"/>
            <p:cNvSpPr/>
            <p:nvPr/>
          </p:nvSpPr>
          <p:spPr>
            <a:xfrm>
              <a:off x="8266320" y="4803840"/>
              <a:ext cx="544320" cy="844560"/>
            </a:xfrm>
            <a:custGeom>
              <a:avLst/>
              <a:gdLst/>
              <a:ahLst/>
              <a:rect l="l" t="t" r="r" b="b"/>
              <a:pathLst>
                <a:path w="544487" h="844550">
                  <a:moveTo>
                    <a:pt x="207937" y="0"/>
                  </a:moveTo>
                  <a:cubicBezTo>
                    <a:pt x="120095" y="152400"/>
                    <a:pt x="32254" y="304800"/>
                    <a:pt x="11087" y="406400"/>
                  </a:cubicBezTo>
                  <a:cubicBezTo>
                    <a:pt x="-10080" y="508000"/>
                    <a:pt x="-7963" y="536575"/>
                    <a:pt x="80937" y="609600"/>
                  </a:cubicBezTo>
                  <a:cubicBezTo>
                    <a:pt x="169837" y="682625"/>
                    <a:pt x="357162" y="763587"/>
                    <a:pt x="544487" y="8445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任意多边形 351"/>
            <p:cNvSpPr/>
            <p:nvPr/>
          </p:nvSpPr>
          <p:spPr>
            <a:xfrm>
              <a:off x="8451000" y="4803840"/>
              <a:ext cx="410400" cy="647640"/>
            </a:xfrm>
            <a:custGeom>
              <a:avLst/>
              <a:gdLst/>
              <a:ahLst/>
              <a:rect l="l" t="t" r="r" b="b"/>
              <a:pathLst>
                <a:path w="410700" h="647700">
                  <a:moveTo>
                    <a:pt x="36050" y="0"/>
                  </a:moveTo>
                  <a:cubicBezTo>
                    <a:pt x="4829" y="196850"/>
                    <a:pt x="-26392" y="393700"/>
                    <a:pt x="36050" y="501650"/>
                  </a:cubicBezTo>
                  <a:cubicBezTo>
                    <a:pt x="98492" y="609600"/>
                    <a:pt x="254596" y="628650"/>
                    <a:pt x="410700" y="6477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任意多边形 352"/>
            <p:cNvSpPr/>
            <p:nvPr/>
          </p:nvSpPr>
          <p:spPr>
            <a:xfrm>
              <a:off x="8156520" y="4429080"/>
              <a:ext cx="507960" cy="520560"/>
            </a:xfrm>
            <a:custGeom>
              <a:avLst/>
              <a:gdLst/>
              <a:ahLst/>
              <a:rect l="l" t="t" r="r" b="b"/>
              <a:pathLst>
                <a:path w="508000" h="520700">
                  <a:moveTo>
                    <a:pt x="508000" y="0"/>
                  </a:moveTo>
                  <a:cubicBezTo>
                    <a:pt x="493183" y="102658"/>
                    <a:pt x="478367" y="205317"/>
                    <a:pt x="393700" y="292100"/>
                  </a:cubicBezTo>
                  <a:cubicBezTo>
                    <a:pt x="309033" y="378883"/>
                    <a:pt x="154516" y="449791"/>
                    <a:pt x="0" y="5207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任意多边形 353"/>
            <p:cNvSpPr/>
            <p:nvPr/>
          </p:nvSpPr>
          <p:spPr>
            <a:xfrm>
              <a:off x="8048520" y="3549960"/>
              <a:ext cx="527040" cy="129600"/>
            </a:xfrm>
            <a:custGeom>
              <a:avLst/>
              <a:gdLst/>
              <a:ahLst/>
              <a:rect l="l" t="t" r="r" b="b"/>
              <a:pathLst>
                <a:path w="527050" h="129853">
                  <a:moveTo>
                    <a:pt x="0" y="72703"/>
                  </a:moveTo>
                  <a:cubicBezTo>
                    <a:pt x="64558" y="42540"/>
                    <a:pt x="129117" y="12378"/>
                    <a:pt x="184150" y="2853"/>
                  </a:cubicBezTo>
                  <a:cubicBezTo>
                    <a:pt x="239183" y="-6672"/>
                    <a:pt x="279400" y="10261"/>
                    <a:pt x="330200" y="15553"/>
                  </a:cubicBezTo>
                  <a:cubicBezTo>
                    <a:pt x="381000" y="20845"/>
                    <a:pt x="456142" y="15553"/>
                    <a:pt x="488950" y="34603"/>
                  </a:cubicBezTo>
                  <a:cubicBezTo>
                    <a:pt x="521758" y="53653"/>
                    <a:pt x="524404" y="91753"/>
                    <a:pt x="527050" y="129853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9" name="组合 354"/>
          <p:cNvGrpSpPr/>
          <p:nvPr/>
        </p:nvGrpSpPr>
        <p:grpSpPr>
          <a:xfrm>
            <a:off x="5418000" y="2378160"/>
            <a:ext cx="3380040" cy="3232080"/>
            <a:chOff x="5418000" y="2378160"/>
            <a:chExt cx="3380040" cy="3232080"/>
          </a:xfrm>
        </p:grpSpPr>
        <p:sp>
          <p:nvSpPr>
            <p:cNvPr id="870" name="直接连接符 355"/>
            <p:cNvSpPr/>
            <p:nvPr/>
          </p:nvSpPr>
          <p:spPr>
            <a:xfrm>
              <a:off x="5418000" y="3475080"/>
              <a:ext cx="2244240" cy="619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直接连接符 356"/>
            <p:cNvSpPr/>
            <p:nvPr/>
          </p:nvSpPr>
          <p:spPr>
            <a:xfrm>
              <a:off x="7734240" y="2809440"/>
              <a:ext cx="25560" cy="12153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直接连接符 357"/>
            <p:cNvSpPr/>
            <p:nvPr/>
          </p:nvSpPr>
          <p:spPr>
            <a:xfrm flipH="1">
              <a:off x="7767360" y="3379680"/>
              <a:ext cx="669240" cy="6238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直接连接符 358"/>
            <p:cNvSpPr/>
            <p:nvPr/>
          </p:nvSpPr>
          <p:spPr>
            <a:xfrm>
              <a:off x="8325000" y="2387520"/>
              <a:ext cx="75960" cy="992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直接连接符 359"/>
            <p:cNvSpPr/>
            <p:nvPr/>
          </p:nvSpPr>
          <p:spPr>
            <a:xfrm>
              <a:off x="8132760" y="3551400"/>
              <a:ext cx="145800" cy="54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直接连接符 360"/>
            <p:cNvSpPr/>
            <p:nvPr/>
          </p:nvSpPr>
          <p:spPr>
            <a:xfrm flipV="1">
              <a:off x="7734240" y="2378160"/>
              <a:ext cx="624600" cy="4312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任意多边形 361"/>
            <p:cNvSpPr/>
            <p:nvPr/>
          </p:nvSpPr>
          <p:spPr>
            <a:xfrm>
              <a:off x="8454600" y="4148280"/>
              <a:ext cx="185760" cy="632520"/>
            </a:xfrm>
            <a:custGeom>
              <a:avLst/>
              <a:gdLst/>
              <a:ahLst/>
              <a:rect l="l" t="t" r="r" b="b"/>
              <a:pathLst>
                <a:path w="231333" h="733425">
                  <a:moveTo>
                    <a:pt x="214313" y="0"/>
                  </a:moveTo>
                  <a:cubicBezTo>
                    <a:pt x="229791" y="122237"/>
                    <a:pt x="245269" y="244475"/>
                    <a:pt x="209550" y="366712"/>
                  </a:cubicBezTo>
                  <a:cubicBezTo>
                    <a:pt x="173831" y="488950"/>
                    <a:pt x="86915" y="611187"/>
                    <a:pt x="0" y="733425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椭圆 362"/>
            <p:cNvSpPr/>
            <p:nvPr/>
          </p:nvSpPr>
          <p:spPr>
            <a:xfrm>
              <a:off x="8250480" y="3624480"/>
              <a:ext cx="324360" cy="3243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任意多边形 363"/>
            <p:cNvSpPr/>
            <p:nvPr/>
          </p:nvSpPr>
          <p:spPr>
            <a:xfrm>
              <a:off x="8222400" y="3558960"/>
              <a:ext cx="442080" cy="121320"/>
            </a:xfrm>
            <a:custGeom>
              <a:avLst/>
              <a:gdLst/>
              <a:ahLst/>
              <a:rect l="l" t="t" r="r" b="b"/>
              <a:pathLst>
                <a:path w="500902" h="121372">
                  <a:moveTo>
                    <a:pt x="18302" y="0"/>
                  </a:moveTo>
                  <a:cubicBezTo>
                    <a:pt x="-748" y="24871"/>
                    <a:pt x="-19798" y="49742"/>
                    <a:pt x="43702" y="69850"/>
                  </a:cubicBezTo>
                  <a:cubicBezTo>
                    <a:pt x="107202" y="89958"/>
                    <a:pt x="323102" y="127000"/>
                    <a:pt x="399302" y="120650"/>
                  </a:cubicBezTo>
                  <a:cubicBezTo>
                    <a:pt x="475502" y="114300"/>
                    <a:pt x="488202" y="73025"/>
                    <a:pt x="500902" y="3175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任意多边形 364"/>
            <p:cNvSpPr/>
            <p:nvPr/>
          </p:nvSpPr>
          <p:spPr>
            <a:xfrm>
              <a:off x="8253720" y="4765680"/>
              <a:ext cx="544320" cy="844560"/>
            </a:xfrm>
            <a:custGeom>
              <a:avLst/>
              <a:gdLst/>
              <a:ahLst/>
              <a:rect l="l" t="t" r="r" b="b"/>
              <a:pathLst>
                <a:path w="544487" h="844550">
                  <a:moveTo>
                    <a:pt x="207937" y="0"/>
                  </a:moveTo>
                  <a:cubicBezTo>
                    <a:pt x="120095" y="152400"/>
                    <a:pt x="32254" y="304800"/>
                    <a:pt x="11087" y="406400"/>
                  </a:cubicBezTo>
                  <a:cubicBezTo>
                    <a:pt x="-10080" y="508000"/>
                    <a:pt x="-7963" y="536575"/>
                    <a:pt x="80937" y="609600"/>
                  </a:cubicBezTo>
                  <a:cubicBezTo>
                    <a:pt x="169837" y="682625"/>
                    <a:pt x="357162" y="763587"/>
                    <a:pt x="544487" y="8445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任意多边形 365"/>
            <p:cNvSpPr/>
            <p:nvPr/>
          </p:nvSpPr>
          <p:spPr>
            <a:xfrm>
              <a:off x="8196480" y="3492720"/>
              <a:ext cx="463680" cy="129600"/>
            </a:xfrm>
            <a:custGeom>
              <a:avLst/>
              <a:gdLst/>
              <a:ahLst/>
              <a:rect l="l" t="t" r="r" b="b"/>
              <a:pathLst>
                <a:path w="527050" h="129853">
                  <a:moveTo>
                    <a:pt x="0" y="72703"/>
                  </a:moveTo>
                  <a:cubicBezTo>
                    <a:pt x="64558" y="42540"/>
                    <a:pt x="129117" y="12378"/>
                    <a:pt x="184150" y="2853"/>
                  </a:cubicBezTo>
                  <a:cubicBezTo>
                    <a:pt x="239183" y="-6672"/>
                    <a:pt x="279400" y="10261"/>
                    <a:pt x="330200" y="15553"/>
                  </a:cubicBezTo>
                  <a:cubicBezTo>
                    <a:pt x="381000" y="20845"/>
                    <a:pt x="456142" y="15553"/>
                    <a:pt x="488950" y="34603"/>
                  </a:cubicBezTo>
                  <a:cubicBezTo>
                    <a:pt x="521758" y="53653"/>
                    <a:pt x="524404" y="91753"/>
                    <a:pt x="527050" y="129853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任意多边形 366"/>
            <p:cNvSpPr/>
            <p:nvPr/>
          </p:nvSpPr>
          <p:spPr>
            <a:xfrm>
              <a:off x="8210520" y="3594240"/>
              <a:ext cx="366480" cy="388080"/>
            </a:xfrm>
            <a:custGeom>
              <a:avLst/>
              <a:gdLst/>
              <a:ahLst/>
              <a:rect l="l" t="t" r="r" b="b"/>
              <a:pathLst>
                <a:path w="366713" h="388234">
                  <a:moveTo>
                    <a:pt x="0" y="0"/>
                  </a:moveTo>
                  <a:cubicBezTo>
                    <a:pt x="3572" y="96837"/>
                    <a:pt x="7144" y="193675"/>
                    <a:pt x="19050" y="257175"/>
                  </a:cubicBezTo>
                  <a:cubicBezTo>
                    <a:pt x="30956" y="320675"/>
                    <a:pt x="29369" y="362744"/>
                    <a:pt x="71438" y="381000"/>
                  </a:cubicBezTo>
                  <a:cubicBezTo>
                    <a:pt x="113507" y="399256"/>
                    <a:pt x="227013" y="378619"/>
                    <a:pt x="271463" y="366713"/>
                  </a:cubicBezTo>
                  <a:cubicBezTo>
                    <a:pt x="315913" y="354807"/>
                    <a:pt x="322263" y="355601"/>
                    <a:pt x="338138" y="309563"/>
                  </a:cubicBezTo>
                  <a:cubicBezTo>
                    <a:pt x="354013" y="263526"/>
                    <a:pt x="360363" y="177007"/>
                    <a:pt x="366713" y="90488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椭圆 367"/>
            <p:cNvSpPr/>
            <p:nvPr/>
          </p:nvSpPr>
          <p:spPr>
            <a:xfrm>
              <a:off x="8479800" y="3839400"/>
              <a:ext cx="301680" cy="30312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任意多边形 368"/>
            <p:cNvSpPr/>
            <p:nvPr/>
          </p:nvSpPr>
          <p:spPr>
            <a:xfrm>
              <a:off x="8668080" y="3584520"/>
              <a:ext cx="18720" cy="261720"/>
            </a:xfrm>
            <a:custGeom>
              <a:avLst/>
              <a:gdLst/>
              <a:ahLst/>
              <a:rect l="l" t="t" r="r" b="b"/>
              <a:pathLst>
                <a:path w="19050" h="261938">
                  <a:moveTo>
                    <a:pt x="19050" y="261938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任意多边形 369"/>
            <p:cNvSpPr/>
            <p:nvPr/>
          </p:nvSpPr>
          <p:spPr>
            <a:xfrm>
              <a:off x="8423280" y="4410000"/>
              <a:ext cx="209520" cy="711000"/>
            </a:xfrm>
            <a:custGeom>
              <a:avLst/>
              <a:gdLst/>
              <a:ahLst/>
              <a:rect l="l" t="t" r="r" b="b"/>
              <a:pathLst>
                <a:path w="209550" h="711200">
                  <a:moveTo>
                    <a:pt x="209550" y="0"/>
                  </a:moveTo>
                  <a:cubicBezTo>
                    <a:pt x="188912" y="159808"/>
                    <a:pt x="168275" y="319617"/>
                    <a:pt x="133350" y="438150"/>
                  </a:cubicBezTo>
                  <a:cubicBezTo>
                    <a:pt x="98425" y="556683"/>
                    <a:pt x="49212" y="633941"/>
                    <a:pt x="0" y="7112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任意多边形 370"/>
            <p:cNvSpPr/>
            <p:nvPr/>
          </p:nvSpPr>
          <p:spPr>
            <a:xfrm>
              <a:off x="8422560" y="4791240"/>
              <a:ext cx="375480" cy="607320"/>
            </a:xfrm>
            <a:custGeom>
              <a:avLst/>
              <a:gdLst/>
              <a:ahLst/>
              <a:rect l="l" t="t" r="r" b="b"/>
              <a:pathLst>
                <a:path w="337412" h="584200">
                  <a:moveTo>
                    <a:pt x="19912" y="0"/>
                  </a:moveTo>
                  <a:cubicBezTo>
                    <a:pt x="13562" y="104246"/>
                    <a:pt x="5095" y="208492"/>
                    <a:pt x="7212" y="285750"/>
                  </a:cubicBezTo>
                  <a:cubicBezTo>
                    <a:pt x="9329" y="363008"/>
                    <a:pt x="-22421" y="413808"/>
                    <a:pt x="32612" y="463550"/>
                  </a:cubicBezTo>
                  <a:cubicBezTo>
                    <a:pt x="87645" y="513292"/>
                    <a:pt x="206178" y="548746"/>
                    <a:pt x="337412" y="5842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6" name="组合 371"/>
          <p:cNvGrpSpPr/>
          <p:nvPr/>
        </p:nvGrpSpPr>
        <p:grpSpPr>
          <a:xfrm>
            <a:off x="5408640" y="2203560"/>
            <a:ext cx="3402000" cy="3278160"/>
            <a:chOff x="5408640" y="2203560"/>
            <a:chExt cx="3402000" cy="3278160"/>
          </a:xfrm>
        </p:grpSpPr>
        <p:sp>
          <p:nvSpPr>
            <p:cNvPr id="887" name="直接连接符 372"/>
            <p:cNvSpPr/>
            <p:nvPr/>
          </p:nvSpPr>
          <p:spPr>
            <a:xfrm>
              <a:off x="5408640" y="3444120"/>
              <a:ext cx="2430360" cy="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直接连接符 373"/>
            <p:cNvSpPr/>
            <p:nvPr/>
          </p:nvSpPr>
          <p:spPr>
            <a:xfrm>
              <a:off x="7849080" y="2732760"/>
              <a:ext cx="25560" cy="1215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直接连接符 374"/>
            <p:cNvSpPr/>
            <p:nvPr/>
          </p:nvSpPr>
          <p:spPr>
            <a:xfrm flipH="1">
              <a:off x="7881840" y="3313080"/>
              <a:ext cx="678960" cy="6422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直接连接符 375"/>
            <p:cNvSpPr/>
            <p:nvPr/>
          </p:nvSpPr>
          <p:spPr>
            <a:xfrm>
              <a:off x="8558640" y="2203560"/>
              <a:ext cx="4320" cy="11372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直接连接符 376"/>
            <p:cNvSpPr/>
            <p:nvPr/>
          </p:nvSpPr>
          <p:spPr>
            <a:xfrm>
              <a:off x="8151840" y="3461400"/>
              <a:ext cx="145800" cy="54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直接连接符 377"/>
            <p:cNvSpPr/>
            <p:nvPr/>
          </p:nvSpPr>
          <p:spPr>
            <a:xfrm flipV="1">
              <a:off x="7839000" y="2205000"/>
              <a:ext cx="735840" cy="5554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任意多边形 378"/>
            <p:cNvSpPr/>
            <p:nvPr/>
          </p:nvSpPr>
          <p:spPr>
            <a:xfrm>
              <a:off x="8392680" y="4304520"/>
              <a:ext cx="185760" cy="632880"/>
            </a:xfrm>
            <a:custGeom>
              <a:avLst/>
              <a:gdLst/>
              <a:ahLst/>
              <a:rect l="l" t="t" r="r" b="b"/>
              <a:pathLst>
                <a:path w="231333" h="733425">
                  <a:moveTo>
                    <a:pt x="214313" y="0"/>
                  </a:moveTo>
                  <a:cubicBezTo>
                    <a:pt x="229791" y="122237"/>
                    <a:pt x="245269" y="244475"/>
                    <a:pt x="209550" y="366712"/>
                  </a:cubicBezTo>
                  <a:cubicBezTo>
                    <a:pt x="173831" y="488950"/>
                    <a:pt x="86915" y="611187"/>
                    <a:pt x="0" y="733425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椭圆 379"/>
            <p:cNvSpPr/>
            <p:nvPr/>
          </p:nvSpPr>
          <p:spPr>
            <a:xfrm>
              <a:off x="8414280" y="3646080"/>
              <a:ext cx="288720" cy="2887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任意多边形 380"/>
            <p:cNvSpPr/>
            <p:nvPr/>
          </p:nvSpPr>
          <p:spPr>
            <a:xfrm>
              <a:off x="8257320" y="3469680"/>
              <a:ext cx="552600" cy="121320"/>
            </a:xfrm>
            <a:custGeom>
              <a:avLst/>
              <a:gdLst/>
              <a:ahLst/>
              <a:rect l="l" t="t" r="r" b="b"/>
              <a:pathLst>
                <a:path w="500902" h="121372">
                  <a:moveTo>
                    <a:pt x="18302" y="0"/>
                  </a:moveTo>
                  <a:cubicBezTo>
                    <a:pt x="-748" y="24871"/>
                    <a:pt x="-19798" y="49742"/>
                    <a:pt x="43702" y="69850"/>
                  </a:cubicBezTo>
                  <a:cubicBezTo>
                    <a:pt x="107202" y="89958"/>
                    <a:pt x="323102" y="127000"/>
                    <a:pt x="399302" y="120650"/>
                  </a:cubicBezTo>
                  <a:cubicBezTo>
                    <a:pt x="475502" y="114300"/>
                    <a:pt x="488202" y="73025"/>
                    <a:pt x="500902" y="3175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任意多边形 381"/>
            <p:cNvSpPr/>
            <p:nvPr/>
          </p:nvSpPr>
          <p:spPr>
            <a:xfrm>
              <a:off x="8224920" y="3403080"/>
              <a:ext cx="578520" cy="129600"/>
            </a:xfrm>
            <a:custGeom>
              <a:avLst/>
              <a:gdLst/>
              <a:ahLst/>
              <a:rect l="l" t="t" r="r" b="b"/>
              <a:pathLst>
                <a:path w="527050" h="129853">
                  <a:moveTo>
                    <a:pt x="0" y="72703"/>
                  </a:moveTo>
                  <a:cubicBezTo>
                    <a:pt x="64558" y="42540"/>
                    <a:pt x="129117" y="12378"/>
                    <a:pt x="184150" y="2853"/>
                  </a:cubicBezTo>
                  <a:cubicBezTo>
                    <a:pt x="239183" y="-6672"/>
                    <a:pt x="279400" y="10261"/>
                    <a:pt x="330200" y="15553"/>
                  </a:cubicBezTo>
                  <a:cubicBezTo>
                    <a:pt x="381000" y="20845"/>
                    <a:pt x="456142" y="15553"/>
                    <a:pt x="488950" y="34603"/>
                  </a:cubicBezTo>
                  <a:cubicBezTo>
                    <a:pt x="521758" y="53653"/>
                    <a:pt x="524404" y="91753"/>
                    <a:pt x="527050" y="129853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任意多边形 382"/>
            <p:cNvSpPr/>
            <p:nvPr/>
          </p:nvSpPr>
          <p:spPr>
            <a:xfrm>
              <a:off x="8356680" y="3552120"/>
              <a:ext cx="415080" cy="397080"/>
            </a:xfrm>
            <a:custGeom>
              <a:avLst/>
              <a:gdLst/>
              <a:ahLst/>
              <a:rect l="l" t="t" r="r" b="b"/>
              <a:pathLst>
                <a:path w="415212" h="397128">
                  <a:moveTo>
                    <a:pt x="0" y="0"/>
                  </a:moveTo>
                  <a:cubicBezTo>
                    <a:pt x="12700" y="49477"/>
                    <a:pt x="25400" y="98954"/>
                    <a:pt x="28575" y="146050"/>
                  </a:cubicBezTo>
                  <a:cubicBezTo>
                    <a:pt x="31750" y="193146"/>
                    <a:pt x="5821" y="244475"/>
                    <a:pt x="19050" y="282575"/>
                  </a:cubicBezTo>
                  <a:cubicBezTo>
                    <a:pt x="32279" y="320675"/>
                    <a:pt x="70379" y="356129"/>
                    <a:pt x="107950" y="374650"/>
                  </a:cubicBezTo>
                  <a:cubicBezTo>
                    <a:pt x="145521" y="393171"/>
                    <a:pt x="203729" y="402696"/>
                    <a:pt x="244475" y="393700"/>
                  </a:cubicBezTo>
                  <a:cubicBezTo>
                    <a:pt x="285221" y="384704"/>
                    <a:pt x="324908" y="349779"/>
                    <a:pt x="352425" y="320675"/>
                  </a:cubicBezTo>
                  <a:cubicBezTo>
                    <a:pt x="379942" y="291571"/>
                    <a:pt x="399521" y="257175"/>
                    <a:pt x="409575" y="219075"/>
                  </a:cubicBezTo>
                  <a:cubicBezTo>
                    <a:pt x="419629" y="180975"/>
                    <a:pt x="413279" y="124883"/>
                    <a:pt x="412750" y="92075"/>
                  </a:cubicBezTo>
                  <a:cubicBezTo>
                    <a:pt x="412221" y="59267"/>
                    <a:pt x="409310" y="40746"/>
                    <a:pt x="406400" y="22225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椭圆 383"/>
            <p:cNvSpPr/>
            <p:nvPr/>
          </p:nvSpPr>
          <p:spPr>
            <a:xfrm>
              <a:off x="8446320" y="3943800"/>
              <a:ext cx="254160" cy="25560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任意多边形 384"/>
            <p:cNvSpPr/>
            <p:nvPr/>
          </p:nvSpPr>
          <p:spPr>
            <a:xfrm>
              <a:off x="8501040" y="4208040"/>
              <a:ext cx="75960" cy="657360"/>
            </a:xfrm>
            <a:custGeom>
              <a:avLst/>
              <a:gdLst/>
              <a:ahLst/>
              <a:rect l="l" t="t" r="r" b="b"/>
              <a:pathLst>
                <a:path w="38100" h="595312">
                  <a:moveTo>
                    <a:pt x="38100" y="0"/>
                  </a:moveTo>
                  <a:lnTo>
                    <a:pt x="0" y="595312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任意多边形 385"/>
            <p:cNvSpPr/>
            <p:nvPr/>
          </p:nvSpPr>
          <p:spPr>
            <a:xfrm>
              <a:off x="8337960" y="4851000"/>
              <a:ext cx="472680" cy="630720"/>
            </a:xfrm>
            <a:custGeom>
              <a:avLst/>
              <a:gdLst/>
              <a:ahLst/>
              <a:rect l="l" t="t" r="r" b="b"/>
              <a:pathLst>
                <a:path w="472794" h="630755">
                  <a:moveTo>
                    <a:pt x="163232" y="0"/>
                  </a:moveTo>
                  <a:cubicBezTo>
                    <a:pt x="108860" y="191294"/>
                    <a:pt x="54488" y="382588"/>
                    <a:pt x="29882" y="485775"/>
                  </a:cubicBezTo>
                  <a:cubicBezTo>
                    <a:pt x="5276" y="588962"/>
                    <a:pt x="-15362" y="596106"/>
                    <a:pt x="15594" y="619125"/>
                  </a:cubicBezTo>
                  <a:cubicBezTo>
                    <a:pt x="46550" y="642144"/>
                    <a:pt x="139419" y="623888"/>
                    <a:pt x="215619" y="623888"/>
                  </a:cubicBezTo>
                  <a:cubicBezTo>
                    <a:pt x="291819" y="623888"/>
                    <a:pt x="382306" y="621506"/>
                    <a:pt x="472794" y="619125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任意多边形 386"/>
            <p:cNvSpPr/>
            <p:nvPr/>
          </p:nvSpPr>
          <p:spPr>
            <a:xfrm>
              <a:off x="8420040" y="4851000"/>
              <a:ext cx="276120" cy="474120"/>
            </a:xfrm>
            <a:custGeom>
              <a:avLst/>
              <a:gdLst/>
              <a:ahLst/>
              <a:rect l="l" t="t" r="r" b="b"/>
              <a:pathLst>
                <a:path w="276235" h="474194">
                  <a:moveTo>
                    <a:pt x="85735" y="0"/>
                  </a:moveTo>
                  <a:cubicBezTo>
                    <a:pt x="42475" y="170259"/>
                    <a:pt x="-784" y="340519"/>
                    <a:pt x="10" y="419100"/>
                  </a:cubicBezTo>
                  <a:cubicBezTo>
                    <a:pt x="804" y="497681"/>
                    <a:pt x="44461" y="464344"/>
                    <a:pt x="90498" y="471488"/>
                  </a:cubicBezTo>
                  <a:cubicBezTo>
                    <a:pt x="136535" y="478632"/>
                    <a:pt x="206385" y="470297"/>
                    <a:pt x="276235" y="461963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2" name="组合 387"/>
          <p:cNvGrpSpPr/>
          <p:nvPr/>
        </p:nvGrpSpPr>
        <p:grpSpPr>
          <a:xfrm>
            <a:off x="5462640" y="2203560"/>
            <a:ext cx="3585960" cy="3386160"/>
            <a:chOff x="5462640" y="2203560"/>
            <a:chExt cx="3585960" cy="3386160"/>
          </a:xfrm>
        </p:grpSpPr>
        <p:sp>
          <p:nvSpPr>
            <p:cNvPr id="903" name="直接连接符 388"/>
            <p:cNvSpPr/>
            <p:nvPr/>
          </p:nvSpPr>
          <p:spPr>
            <a:xfrm flipV="1">
              <a:off x="5462640" y="3385800"/>
              <a:ext cx="2561400" cy="169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直接连接符 389"/>
            <p:cNvSpPr/>
            <p:nvPr/>
          </p:nvSpPr>
          <p:spPr>
            <a:xfrm>
              <a:off x="8022960" y="2630880"/>
              <a:ext cx="25560" cy="1215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直接连接符 390"/>
            <p:cNvSpPr/>
            <p:nvPr/>
          </p:nvSpPr>
          <p:spPr>
            <a:xfrm flipH="1">
              <a:off x="8022600" y="3252240"/>
              <a:ext cx="716760" cy="594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直接连接符 391"/>
            <p:cNvSpPr/>
            <p:nvPr/>
          </p:nvSpPr>
          <p:spPr>
            <a:xfrm>
              <a:off x="8698320" y="2203560"/>
              <a:ext cx="4320" cy="11376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直接连接符 392"/>
            <p:cNvSpPr/>
            <p:nvPr/>
          </p:nvSpPr>
          <p:spPr>
            <a:xfrm flipV="1">
              <a:off x="8022960" y="2205360"/>
              <a:ext cx="653400" cy="4255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椭圆 393"/>
            <p:cNvSpPr/>
            <p:nvPr/>
          </p:nvSpPr>
          <p:spPr>
            <a:xfrm>
              <a:off x="8702640" y="3598920"/>
              <a:ext cx="288720" cy="2887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任意多边形 394"/>
            <p:cNvSpPr/>
            <p:nvPr/>
          </p:nvSpPr>
          <p:spPr>
            <a:xfrm>
              <a:off x="8420040" y="3336480"/>
              <a:ext cx="628560" cy="121320"/>
            </a:xfrm>
            <a:custGeom>
              <a:avLst/>
              <a:gdLst/>
              <a:ahLst/>
              <a:rect l="l" t="t" r="r" b="b"/>
              <a:pathLst>
                <a:path w="500902" h="121372">
                  <a:moveTo>
                    <a:pt x="18302" y="0"/>
                  </a:moveTo>
                  <a:cubicBezTo>
                    <a:pt x="-748" y="24871"/>
                    <a:pt x="-19798" y="49742"/>
                    <a:pt x="43702" y="69850"/>
                  </a:cubicBezTo>
                  <a:cubicBezTo>
                    <a:pt x="107202" y="89958"/>
                    <a:pt x="323102" y="127000"/>
                    <a:pt x="399302" y="120650"/>
                  </a:cubicBezTo>
                  <a:cubicBezTo>
                    <a:pt x="475502" y="114300"/>
                    <a:pt x="488202" y="73025"/>
                    <a:pt x="500902" y="3175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任意多边形 395"/>
            <p:cNvSpPr/>
            <p:nvPr/>
          </p:nvSpPr>
          <p:spPr>
            <a:xfrm>
              <a:off x="8436600" y="3265560"/>
              <a:ext cx="602280" cy="129600"/>
            </a:xfrm>
            <a:custGeom>
              <a:avLst/>
              <a:gdLst/>
              <a:ahLst/>
              <a:rect l="l" t="t" r="r" b="b"/>
              <a:pathLst>
                <a:path w="527050" h="129853">
                  <a:moveTo>
                    <a:pt x="0" y="72703"/>
                  </a:moveTo>
                  <a:cubicBezTo>
                    <a:pt x="64558" y="42540"/>
                    <a:pt x="129117" y="12378"/>
                    <a:pt x="184150" y="2853"/>
                  </a:cubicBezTo>
                  <a:cubicBezTo>
                    <a:pt x="239183" y="-6672"/>
                    <a:pt x="279400" y="10261"/>
                    <a:pt x="330200" y="15553"/>
                  </a:cubicBezTo>
                  <a:cubicBezTo>
                    <a:pt x="381000" y="20845"/>
                    <a:pt x="456142" y="15553"/>
                    <a:pt x="488950" y="34603"/>
                  </a:cubicBezTo>
                  <a:cubicBezTo>
                    <a:pt x="521758" y="53653"/>
                    <a:pt x="524404" y="91753"/>
                    <a:pt x="527050" y="129853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任意多边形 396"/>
            <p:cNvSpPr/>
            <p:nvPr/>
          </p:nvSpPr>
          <p:spPr>
            <a:xfrm>
              <a:off x="8539200" y="3437640"/>
              <a:ext cx="414360" cy="392040"/>
            </a:xfrm>
            <a:custGeom>
              <a:avLst/>
              <a:gdLst/>
              <a:ahLst/>
              <a:rect l="l" t="t" r="r" b="b"/>
              <a:pathLst>
                <a:path w="415212" h="397128">
                  <a:moveTo>
                    <a:pt x="0" y="0"/>
                  </a:moveTo>
                  <a:cubicBezTo>
                    <a:pt x="12700" y="49477"/>
                    <a:pt x="25400" y="98954"/>
                    <a:pt x="28575" y="146050"/>
                  </a:cubicBezTo>
                  <a:cubicBezTo>
                    <a:pt x="31750" y="193146"/>
                    <a:pt x="5821" y="244475"/>
                    <a:pt x="19050" y="282575"/>
                  </a:cubicBezTo>
                  <a:cubicBezTo>
                    <a:pt x="32279" y="320675"/>
                    <a:pt x="70379" y="356129"/>
                    <a:pt x="107950" y="374650"/>
                  </a:cubicBezTo>
                  <a:cubicBezTo>
                    <a:pt x="145521" y="393171"/>
                    <a:pt x="203729" y="402696"/>
                    <a:pt x="244475" y="393700"/>
                  </a:cubicBezTo>
                  <a:cubicBezTo>
                    <a:pt x="285221" y="384704"/>
                    <a:pt x="324908" y="349779"/>
                    <a:pt x="352425" y="320675"/>
                  </a:cubicBezTo>
                  <a:cubicBezTo>
                    <a:pt x="379942" y="291571"/>
                    <a:pt x="399521" y="257175"/>
                    <a:pt x="409575" y="219075"/>
                  </a:cubicBezTo>
                  <a:cubicBezTo>
                    <a:pt x="419629" y="180975"/>
                    <a:pt x="413279" y="124883"/>
                    <a:pt x="412750" y="92075"/>
                  </a:cubicBezTo>
                  <a:cubicBezTo>
                    <a:pt x="412221" y="59267"/>
                    <a:pt x="409310" y="40746"/>
                    <a:pt x="406400" y="22225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椭圆 397"/>
            <p:cNvSpPr/>
            <p:nvPr/>
          </p:nvSpPr>
          <p:spPr>
            <a:xfrm>
              <a:off x="8360280" y="3786840"/>
              <a:ext cx="254160" cy="25560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任意多边形 398"/>
            <p:cNvSpPr/>
            <p:nvPr/>
          </p:nvSpPr>
          <p:spPr>
            <a:xfrm>
              <a:off x="8434080" y="4036680"/>
              <a:ext cx="92520" cy="776520"/>
            </a:xfrm>
            <a:custGeom>
              <a:avLst/>
              <a:gdLst/>
              <a:ahLst/>
              <a:rect l="l" t="t" r="r" b="b"/>
              <a:pathLst>
                <a:path w="92813" h="776287">
                  <a:moveTo>
                    <a:pt x="57150" y="0"/>
                  </a:moveTo>
                  <a:cubicBezTo>
                    <a:pt x="78581" y="156765"/>
                    <a:pt x="100012" y="313531"/>
                    <a:pt x="90487" y="442912"/>
                  </a:cubicBezTo>
                  <a:cubicBezTo>
                    <a:pt x="80962" y="572293"/>
                    <a:pt x="40481" y="674290"/>
                    <a:pt x="0" y="776287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任意多边形 399"/>
            <p:cNvSpPr/>
            <p:nvPr/>
          </p:nvSpPr>
          <p:spPr>
            <a:xfrm>
              <a:off x="8318160" y="4808520"/>
              <a:ext cx="468360" cy="781200"/>
            </a:xfrm>
            <a:custGeom>
              <a:avLst/>
              <a:gdLst/>
              <a:ahLst/>
              <a:rect l="l" t="t" r="r" b="b"/>
              <a:pathLst>
                <a:path w="468402" h="781050">
                  <a:moveTo>
                    <a:pt x="115977" y="0"/>
                  </a:moveTo>
                  <a:cubicBezTo>
                    <a:pt x="38983" y="208756"/>
                    <a:pt x="-38011" y="417512"/>
                    <a:pt x="20727" y="547687"/>
                  </a:cubicBezTo>
                  <a:cubicBezTo>
                    <a:pt x="79464" y="677862"/>
                    <a:pt x="273933" y="729456"/>
                    <a:pt x="468402" y="7810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任意多边形 400"/>
            <p:cNvSpPr/>
            <p:nvPr/>
          </p:nvSpPr>
          <p:spPr>
            <a:xfrm>
              <a:off x="8426880" y="4789440"/>
              <a:ext cx="283320" cy="549720"/>
            </a:xfrm>
            <a:custGeom>
              <a:avLst/>
              <a:gdLst/>
              <a:ahLst/>
              <a:rect l="l" t="t" r="r" b="b"/>
              <a:pathLst>
                <a:path w="283528" h="549630">
                  <a:moveTo>
                    <a:pt x="21591" y="0"/>
                  </a:moveTo>
                  <a:cubicBezTo>
                    <a:pt x="2144" y="204787"/>
                    <a:pt x="-17303" y="409575"/>
                    <a:pt x="26353" y="495300"/>
                  </a:cubicBezTo>
                  <a:cubicBezTo>
                    <a:pt x="70009" y="581025"/>
                    <a:pt x="176768" y="547687"/>
                    <a:pt x="283528" y="5143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任意多边形 401"/>
            <p:cNvSpPr/>
            <p:nvPr/>
          </p:nvSpPr>
          <p:spPr>
            <a:xfrm>
              <a:off x="8515080" y="4184280"/>
              <a:ext cx="324360" cy="485640"/>
            </a:xfrm>
            <a:custGeom>
              <a:avLst/>
              <a:gdLst/>
              <a:ahLst/>
              <a:rect l="l" t="t" r="r" b="b"/>
              <a:pathLst>
                <a:path w="324609" h="485775">
                  <a:moveTo>
                    <a:pt x="0" y="0"/>
                  </a:moveTo>
                  <a:cubicBezTo>
                    <a:pt x="126206" y="59531"/>
                    <a:pt x="252413" y="119063"/>
                    <a:pt x="300038" y="200025"/>
                  </a:cubicBezTo>
                  <a:cubicBezTo>
                    <a:pt x="347663" y="280988"/>
                    <a:pt x="316706" y="383381"/>
                    <a:pt x="285750" y="485775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任意多边形 402"/>
            <p:cNvSpPr/>
            <p:nvPr/>
          </p:nvSpPr>
          <p:spPr>
            <a:xfrm>
              <a:off x="8510400" y="4208400"/>
              <a:ext cx="128880" cy="652680"/>
            </a:xfrm>
            <a:custGeom>
              <a:avLst/>
              <a:gdLst/>
              <a:ahLst/>
              <a:rect l="l" t="t" r="r" b="b"/>
              <a:pathLst>
                <a:path w="129199" h="652462">
                  <a:moveTo>
                    <a:pt x="0" y="0"/>
                  </a:moveTo>
                  <a:cubicBezTo>
                    <a:pt x="53975" y="159940"/>
                    <a:pt x="107950" y="319881"/>
                    <a:pt x="123825" y="428625"/>
                  </a:cubicBezTo>
                  <a:cubicBezTo>
                    <a:pt x="139700" y="537369"/>
                    <a:pt x="117475" y="594915"/>
                    <a:pt x="95250" y="652462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8" name="组合 403"/>
          <p:cNvGrpSpPr/>
          <p:nvPr/>
        </p:nvGrpSpPr>
        <p:grpSpPr>
          <a:xfrm>
            <a:off x="5462640" y="2063880"/>
            <a:ext cx="3816360" cy="3678120"/>
            <a:chOff x="5462640" y="2063880"/>
            <a:chExt cx="3816360" cy="3678120"/>
          </a:xfrm>
        </p:grpSpPr>
        <p:sp>
          <p:nvSpPr>
            <p:cNvPr id="919" name="直接连接符 404"/>
            <p:cNvSpPr/>
            <p:nvPr/>
          </p:nvSpPr>
          <p:spPr>
            <a:xfrm flipV="1">
              <a:off x="5462640" y="3265560"/>
              <a:ext cx="2854800" cy="108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直接连接符 405"/>
            <p:cNvSpPr/>
            <p:nvPr/>
          </p:nvSpPr>
          <p:spPr>
            <a:xfrm>
              <a:off x="8314200" y="2440440"/>
              <a:ext cx="25560" cy="1215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直接连接符 406"/>
            <p:cNvSpPr/>
            <p:nvPr/>
          </p:nvSpPr>
          <p:spPr>
            <a:xfrm flipH="1">
              <a:off x="8301600" y="3094920"/>
              <a:ext cx="650880" cy="5612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直接连接符 407"/>
            <p:cNvSpPr/>
            <p:nvPr/>
          </p:nvSpPr>
          <p:spPr>
            <a:xfrm>
              <a:off x="8913240" y="2063880"/>
              <a:ext cx="4320" cy="11376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直接连接符 408"/>
            <p:cNvSpPr/>
            <p:nvPr/>
          </p:nvSpPr>
          <p:spPr>
            <a:xfrm flipV="1">
              <a:off x="8276040" y="2065680"/>
              <a:ext cx="653040" cy="4255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椭圆 409"/>
            <p:cNvSpPr/>
            <p:nvPr/>
          </p:nvSpPr>
          <p:spPr>
            <a:xfrm>
              <a:off x="8909280" y="3498120"/>
              <a:ext cx="288360" cy="2887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任意多边形 410"/>
            <p:cNvSpPr/>
            <p:nvPr/>
          </p:nvSpPr>
          <p:spPr>
            <a:xfrm>
              <a:off x="8730360" y="3257280"/>
              <a:ext cx="547560" cy="122040"/>
            </a:xfrm>
            <a:custGeom>
              <a:avLst/>
              <a:gdLst/>
              <a:ahLst/>
              <a:rect l="l" t="t" r="r" b="b"/>
              <a:pathLst>
                <a:path w="500902" h="121372">
                  <a:moveTo>
                    <a:pt x="18302" y="0"/>
                  </a:moveTo>
                  <a:cubicBezTo>
                    <a:pt x="-748" y="24871"/>
                    <a:pt x="-19798" y="49742"/>
                    <a:pt x="43702" y="69850"/>
                  </a:cubicBezTo>
                  <a:cubicBezTo>
                    <a:pt x="107202" y="89958"/>
                    <a:pt x="323102" y="127000"/>
                    <a:pt x="399302" y="120650"/>
                  </a:cubicBezTo>
                  <a:cubicBezTo>
                    <a:pt x="475502" y="114300"/>
                    <a:pt x="488202" y="73025"/>
                    <a:pt x="500902" y="3175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任意多边形 411"/>
            <p:cNvSpPr/>
            <p:nvPr/>
          </p:nvSpPr>
          <p:spPr>
            <a:xfrm>
              <a:off x="8730360" y="3169080"/>
              <a:ext cx="548640" cy="169920"/>
            </a:xfrm>
            <a:custGeom>
              <a:avLst/>
              <a:gdLst/>
              <a:ahLst/>
              <a:rect l="l" t="t" r="r" b="b"/>
              <a:pathLst>
                <a:path w="527050" h="129853">
                  <a:moveTo>
                    <a:pt x="0" y="72703"/>
                  </a:moveTo>
                  <a:cubicBezTo>
                    <a:pt x="64558" y="42540"/>
                    <a:pt x="129117" y="12378"/>
                    <a:pt x="184150" y="2853"/>
                  </a:cubicBezTo>
                  <a:cubicBezTo>
                    <a:pt x="239183" y="-6672"/>
                    <a:pt x="279400" y="10261"/>
                    <a:pt x="330200" y="15553"/>
                  </a:cubicBezTo>
                  <a:cubicBezTo>
                    <a:pt x="381000" y="20845"/>
                    <a:pt x="456142" y="15553"/>
                    <a:pt x="488950" y="34603"/>
                  </a:cubicBezTo>
                  <a:cubicBezTo>
                    <a:pt x="521758" y="53653"/>
                    <a:pt x="524404" y="91753"/>
                    <a:pt x="527050" y="129853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任意多边形 412"/>
            <p:cNvSpPr/>
            <p:nvPr/>
          </p:nvSpPr>
          <p:spPr>
            <a:xfrm>
              <a:off x="8839080" y="3338640"/>
              <a:ext cx="358920" cy="392040"/>
            </a:xfrm>
            <a:custGeom>
              <a:avLst/>
              <a:gdLst/>
              <a:ahLst/>
              <a:rect l="l" t="t" r="r" b="b"/>
              <a:pathLst>
                <a:path w="415212" h="397128">
                  <a:moveTo>
                    <a:pt x="0" y="0"/>
                  </a:moveTo>
                  <a:cubicBezTo>
                    <a:pt x="12700" y="49477"/>
                    <a:pt x="25400" y="98954"/>
                    <a:pt x="28575" y="146050"/>
                  </a:cubicBezTo>
                  <a:cubicBezTo>
                    <a:pt x="31750" y="193146"/>
                    <a:pt x="5821" y="244475"/>
                    <a:pt x="19050" y="282575"/>
                  </a:cubicBezTo>
                  <a:cubicBezTo>
                    <a:pt x="32279" y="320675"/>
                    <a:pt x="70379" y="356129"/>
                    <a:pt x="107950" y="374650"/>
                  </a:cubicBezTo>
                  <a:cubicBezTo>
                    <a:pt x="145521" y="393171"/>
                    <a:pt x="203729" y="402696"/>
                    <a:pt x="244475" y="393700"/>
                  </a:cubicBezTo>
                  <a:cubicBezTo>
                    <a:pt x="285221" y="384704"/>
                    <a:pt x="324908" y="349779"/>
                    <a:pt x="352425" y="320675"/>
                  </a:cubicBezTo>
                  <a:cubicBezTo>
                    <a:pt x="379942" y="291571"/>
                    <a:pt x="399521" y="257175"/>
                    <a:pt x="409575" y="219075"/>
                  </a:cubicBezTo>
                  <a:cubicBezTo>
                    <a:pt x="419629" y="180975"/>
                    <a:pt x="413279" y="124883"/>
                    <a:pt x="412750" y="92075"/>
                  </a:cubicBezTo>
                  <a:cubicBezTo>
                    <a:pt x="412221" y="59267"/>
                    <a:pt x="409310" y="40746"/>
                    <a:pt x="406400" y="22225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椭圆 413"/>
            <p:cNvSpPr/>
            <p:nvPr/>
          </p:nvSpPr>
          <p:spPr>
            <a:xfrm>
              <a:off x="8359560" y="3786840"/>
              <a:ext cx="254160" cy="25560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任意多边形 414"/>
            <p:cNvSpPr/>
            <p:nvPr/>
          </p:nvSpPr>
          <p:spPr>
            <a:xfrm>
              <a:off x="8433360" y="4036680"/>
              <a:ext cx="92520" cy="776520"/>
            </a:xfrm>
            <a:custGeom>
              <a:avLst/>
              <a:gdLst/>
              <a:ahLst/>
              <a:rect l="l" t="t" r="r" b="b"/>
              <a:pathLst>
                <a:path w="92813" h="776287">
                  <a:moveTo>
                    <a:pt x="57150" y="0"/>
                  </a:moveTo>
                  <a:cubicBezTo>
                    <a:pt x="78581" y="156765"/>
                    <a:pt x="100012" y="313531"/>
                    <a:pt x="90487" y="442912"/>
                  </a:cubicBezTo>
                  <a:cubicBezTo>
                    <a:pt x="80962" y="572293"/>
                    <a:pt x="40481" y="674290"/>
                    <a:pt x="0" y="776287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任意多边形 415"/>
            <p:cNvSpPr/>
            <p:nvPr/>
          </p:nvSpPr>
          <p:spPr>
            <a:xfrm rot="20494800">
              <a:off x="8561880" y="3171240"/>
              <a:ext cx="158760" cy="85680"/>
            </a:xfrm>
            <a:custGeom>
              <a:avLst/>
              <a:gdLst/>
              <a:ahLst/>
              <a:rect l="l" t="t" r="r" b="b"/>
              <a:pathLst>
                <a:path w="158898" h="85961">
                  <a:moveTo>
                    <a:pt x="0" y="0"/>
                  </a:moveTo>
                  <a:cubicBezTo>
                    <a:pt x="53446" y="31221"/>
                    <a:pt x="106892" y="62442"/>
                    <a:pt x="133350" y="76200"/>
                  </a:cubicBezTo>
                  <a:cubicBezTo>
                    <a:pt x="159808" y="89958"/>
                    <a:pt x="159279" y="86254"/>
                    <a:pt x="158750" y="8255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任意多边形 416"/>
            <p:cNvSpPr/>
            <p:nvPr/>
          </p:nvSpPr>
          <p:spPr>
            <a:xfrm>
              <a:off x="8514360" y="3974760"/>
              <a:ext cx="423720" cy="195120"/>
            </a:xfrm>
            <a:custGeom>
              <a:avLst/>
              <a:gdLst/>
              <a:ahLst/>
              <a:rect l="l" t="t" r="r" b="b"/>
              <a:pathLst>
                <a:path w="423863" h="195263">
                  <a:moveTo>
                    <a:pt x="0" y="195263"/>
                  </a:moveTo>
                  <a:lnTo>
                    <a:pt x="423863" y="0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任意多边形 417"/>
            <p:cNvSpPr/>
            <p:nvPr/>
          </p:nvSpPr>
          <p:spPr>
            <a:xfrm>
              <a:off x="8505000" y="4222440"/>
              <a:ext cx="338040" cy="552600"/>
            </a:xfrm>
            <a:custGeom>
              <a:avLst/>
              <a:gdLst/>
              <a:ahLst/>
              <a:rect l="l" t="t" r="r" b="b"/>
              <a:pathLst>
                <a:path w="338138" h="552596">
                  <a:moveTo>
                    <a:pt x="0" y="0"/>
                  </a:moveTo>
                  <a:cubicBezTo>
                    <a:pt x="81359" y="184944"/>
                    <a:pt x="162719" y="369888"/>
                    <a:pt x="219075" y="461963"/>
                  </a:cubicBezTo>
                  <a:cubicBezTo>
                    <a:pt x="275431" y="554038"/>
                    <a:pt x="306784" y="553244"/>
                    <a:pt x="338138" y="5524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任意多边形 418"/>
            <p:cNvSpPr/>
            <p:nvPr/>
          </p:nvSpPr>
          <p:spPr>
            <a:xfrm>
              <a:off x="8358480" y="4794120"/>
              <a:ext cx="241560" cy="947880"/>
            </a:xfrm>
            <a:custGeom>
              <a:avLst/>
              <a:gdLst/>
              <a:ahLst/>
              <a:rect l="l" t="t" r="r" b="b"/>
              <a:pathLst>
                <a:path w="241637" h="947738">
                  <a:moveTo>
                    <a:pt x="74950" y="0"/>
                  </a:moveTo>
                  <a:cubicBezTo>
                    <a:pt x="27722" y="209153"/>
                    <a:pt x="-19506" y="418307"/>
                    <a:pt x="8275" y="576263"/>
                  </a:cubicBezTo>
                  <a:cubicBezTo>
                    <a:pt x="36056" y="734219"/>
                    <a:pt x="138846" y="840978"/>
                    <a:pt x="241637" y="947738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任意多边形 419"/>
            <p:cNvSpPr/>
            <p:nvPr/>
          </p:nvSpPr>
          <p:spPr>
            <a:xfrm>
              <a:off x="8433360" y="4789440"/>
              <a:ext cx="209880" cy="487440"/>
            </a:xfrm>
            <a:custGeom>
              <a:avLst/>
              <a:gdLst/>
              <a:ahLst/>
              <a:rect l="l" t="t" r="r" b="b"/>
              <a:pathLst>
                <a:path w="210057" h="487534">
                  <a:moveTo>
                    <a:pt x="254" y="0"/>
                  </a:moveTo>
                  <a:cubicBezTo>
                    <a:pt x="-540" y="184944"/>
                    <a:pt x="-1334" y="369888"/>
                    <a:pt x="28829" y="447675"/>
                  </a:cubicBezTo>
                  <a:cubicBezTo>
                    <a:pt x="58992" y="525463"/>
                    <a:pt x="151067" y="465138"/>
                    <a:pt x="181229" y="466725"/>
                  </a:cubicBezTo>
                  <a:cubicBezTo>
                    <a:pt x="211391" y="468312"/>
                    <a:pt x="210597" y="462756"/>
                    <a:pt x="209804" y="4572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5" name="组合 420"/>
          <p:cNvGrpSpPr/>
          <p:nvPr/>
        </p:nvGrpSpPr>
        <p:grpSpPr>
          <a:xfrm>
            <a:off x="5580000" y="1895040"/>
            <a:ext cx="3828960" cy="3759480"/>
            <a:chOff x="5580000" y="1895040"/>
            <a:chExt cx="3828960" cy="3759480"/>
          </a:xfrm>
        </p:grpSpPr>
        <p:sp>
          <p:nvSpPr>
            <p:cNvPr id="936" name="直接连接符 421"/>
            <p:cNvSpPr/>
            <p:nvPr/>
          </p:nvSpPr>
          <p:spPr>
            <a:xfrm flipV="1">
              <a:off x="5580000" y="3138120"/>
              <a:ext cx="2854440" cy="108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直接连接符 422"/>
            <p:cNvSpPr/>
            <p:nvPr/>
          </p:nvSpPr>
          <p:spPr>
            <a:xfrm flipH="1">
              <a:off x="8447400" y="2320560"/>
              <a:ext cx="360" cy="1278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直接连接符 423"/>
            <p:cNvSpPr/>
            <p:nvPr/>
          </p:nvSpPr>
          <p:spPr>
            <a:xfrm flipH="1">
              <a:off x="8407440" y="3023280"/>
              <a:ext cx="650520" cy="5612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直接连接符 424"/>
            <p:cNvSpPr/>
            <p:nvPr/>
          </p:nvSpPr>
          <p:spPr>
            <a:xfrm>
              <a:off x="9049320" y="1932840"/>
              <a:ext cx="4320" cy="11372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直接连接符 425"/>
            <p:cNvSpPr/>
            <p:nvPr/>
          </p:nvSpPr>
          <p:spPr>
            <a:xfrm flipV="1">
              <a:off x="8441280" y="1895040"/>
              <a:ext cx="653040" cy="425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椭圆 426"/>
            <p:cNvSpPr/>
            <p:nvPr/>
          </p:nvSpPr>
          <p:spPr>
            <a:xfrm>
              <a:off x="9086040" y="3455280"/>
              <a:ext cx="306720" cy="3067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任意多边形 427"/>
            <p:cNvSpPr/>
            <p:nvPr/>
          </p:nvSpPr>
          <p:spPr>
            <a:xfrm>
              <a:off x="8861400" y="3148920"/>
              <a:ext cx="547560" cy="122040"/>
            </a:xfrm>
            <a:custGeom>
              <a:avLst/>
              <a:gdLst/>
              <a:ahLst/>
              <a:rect l="l" t="t" r="r" b="b"/>
              <a:pathLst>
                <a:path w="500902" h="121372">
                  <a:moveTo>
                    <a:pt x="18302" y="0"/>
                  </a:moveTo>
                  <a:cubicBezTo>
                    <a:pt x="-748" y="24871"/>
                    <a:pt x="-19798" y="49742"/>
                    <a:pt x="43702" y="69850"/>
                  </a:cubicBezTo>
                  <a:cubicBezTo>
                    <a:pt x="107202" y="89958"/>
                    <a:pt x="323102" y="127000"/>
                    <a:pt x="399302" y="120650"/>
                  </a:cubicBezTo>
                  <a:cubicBezTo>
                    <a:pt x="475502" y="114300"/>
                    <a:pt x="488202" y="73025"/>
                    <a:pt x="500902" y="3175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任意多边形 428"/>
            <p:cNvSpPr/>
            <p:nvPr/>
          </p:nvSpPr>
          <p:spPr>
            <a:xfrm>
              <a:off x="8853120" y="3063600"/>
              <a:ext cx="548280" cy="169920"/>
            </a:xfrm>
            <a:custGeom>
              <a:avLst/>
              <a:gdLst/>
              <a:ahLst/>
              <a:rect l="l" t="t" r="r" b="b"/>
              <a:pathLst>
                <a:path w="527050" h="129853">
                  <a:moveTo>
                    <a:pt x="0" y="72703"/>
                  </a:moveTo>
                  <a:cubicBezTo>
                    <a:pt x="64558" y="42540"/>
                    <a:pt x="129117" y="12378"/>
                    <a:pt x="184150" y="2853"/>
                  </a:cubicBezTo>
                  <a:cubicBezTo>
                    <a:pt x="239183" y="-6672"/>
                    <a:pt x="279400" y="10261"/>
                    <a:pt x="330200" y="15553"/>
                  </a:cubicBezTo>
                  <a:cubicBezTo>
                    <a:pt x="381000" y="20845"/>
                    <a:pt x="456142" y="15553"/>
                    <a:pt x="488950" y="34603"/>
                  </a:cubicBezTo>
                  <a:cubicBezTo>
                    <a:pt x="521758" y="53653"/>
                    <a:pt x="524404" y="91753"/>
                    <a:pt x="527050" y="129853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椭圆 429"/>
            <p:cNvSpPr/>
            <p:nvPr/>
          </p:nvSpPr>
          <p:spPr>
            <a:xfrm>
              <a:off x="8359560" y="3787200"/>
              <a:ext cx="254160" cy="2552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任意多边形 430"/>
            <p:cNvSpPr/>
            <p:nvPr/>
          </p:nvSpPr>
          <p:spPr>
            <a:xfrm>
              <a:off x="8433360" y="4037040"/>
              <a:ext cx="92520" cy="776160"/>
            </a:xfrm>
            <a:custGeom>
              <a:avLst/>
              <a:gdLst/>
              <a:ahLst/>
              <a:rect l="l" t="t" r="r" b="b"/>
              <a:pathLst>
                <a:path w="92813" h="776287">
                  <a:moveTo>
                    <a:pt x="57150" y="0"/>
                  </a:moveTo>
                  <a:cubicBezTo>
                    <a:pt x="78581" y="156765"/>
                    <a:pt x="100012" y="313531"/>
                    <a:pt x="90487" y="442912"/>
                  </a:cubicBezTo>
                  <a:cubicBezTo>
                    <a:pt x="80962" y="572293"/>
                    <a:pt x="40481" y="674290"/>
                    <a:pt x="0" y="776287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任意多边形 431"/>
            <p:cNvSpPr/>
            <p:nvPr/>
          </p:nvSpPr>
          <p:spPr>
            <a:xfrm rot="20494800">
              <a:off x="8561880" y="3171960"/>
              <a:ext cx="158760" cy="85680"/>
            </a:xfrm>
            <a:custGeom>
              <a:avLst/>
              <a:gdLst/>
              <a:ahLst/>
              <a:rect l="l" t="t" r="r" b="b"/>
              <a:pathLst>
                <a:path w="158898" h="85961">
                  <a:moveTo>
                    <a:pt x="0" y="0"/>
                  </a:moveTo>
                  <a:cubicBezTo>
                    <a:pt x="53446" y="31221"/>
                    <a:pt x="106892" y="62442"/>
                    <a:pt x="133350" y="76200"/>
                  </a:cubicBezTo>
                  <a:cubicBezTo>
                    <a:pt x="159808" y="89958"/>
                    <a:pt x="159279" y="86254"/>
                    <a:pt x="158750" y="8255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任意多边形 432"/>
            <p:cNvSpPr/>
            <p:nvPr/>
          </p:nvSpPr>
          <p:spPr>
            <a:xfrm>
              <a:off x="8928360" y="3235320"/>
              <a:ext cx="395280" cy="189360"/>
            </a:xfrm>
            <a:custGeom>
              <a:avLst/>
              <a:gdLst/>
              <a:ahLst/>
              <a:rect l="l" t="t" r="r" b="b"/>
              <a:pathLst>
                <a:path w="395572" h="189559">
                  <a:moveTo>
                    <a:pt x="27272" y="0"/>
                  </a:moveTo>
                  <a:cubicBezTo>
                    <a:pt x="44734" y="35454"/>
                    <a:pt x="62197" y="70908"/>
                    <a:pt x="59022" y="101600"/>
                  </a:cubicBezTo>
                  <a:cubicBezTo>
                    <a:pt x="55847" y="132292"/>
                    <a:pt x="-25645" y="173567"/>
                    <a:pt x="8222" y="184150"/>
                  </a:cubicBezTo>
                  <a:cubicBezTo>
                    <a:pt x="42089" y="194733"/>
                    <a:pt x="197664" y="190500"/>
                    <a:pt x="262222" y="165100"/>
                  </a:cubicBezTo>
                  <a:cubicBezTo>
                    <a:pt x="326780" y="139700"/>
                    <a:pt x="361176" y="85725"/>
                    <a:pt x="395572" y="3175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任意多边形 433"/>
            <p:cNvSpPr/>
            <p:nvPr/>
          </p:nvSpPr>
          <p:spPr>
            <a:xfrm>
              <a:off x="8504640" y="4175280"/>
              <a:ext cx="291600" cy="539640"/>
            </a:xfrm>
            <a:custGeom>
              <a:avLst/>
              <a:gdLst/>
              <a:ahLst/>
              <a:rect l="l" t="t" r="r" b="b"/>
              <a:pathLst>
                <a:path w="291749" h="539750">
                  <a:moveTo>
                    <a:pt x="0" y="0"/>
                  </a:moveTo>
                  <a:cubicBezTo>
                    <a:pt x="103187" y="50271"/>
                    <a:pt x="206375" y="100542"/>
                    <a:pt x="254000" y="190500"/>
                  </a:cubicBezTo>
                  <a:cubicBezTo>
                    <a:pt x="301625" y="280458"/>
                    <a:pt x="293687" y="410104"/>
                    <a:pt x="285750" y="5397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任意多边形 434"/>
            <p:cNvSpPr/>
            <p:nvPr/>
          </p:nvSpPr>
          <p:spPr>
            <a:xfrm>
              <a:off x="8511120" y="4054320"/>
              <a:ext cx="418680" cy="114120"/>
            </a:xfrm>
            <a:custGeom>
              <a:avLst/>
              <a:gdLst/>
              <a:ahLst/>
              <a:rect l="l" t="t" r="r" b="b"/>
              <a:pathLst>
                <a:path w="419100" h="114362">
                  <a:moveTo>
                    <a:pt x="0" y="101662"/>
                  </a:moveTo>
                  <a:cubicBezTo>
                    <a:pt x="82550" y="49803"/>
                    <a:pt x="165100" y="-2055"/>
                    <a:pt x="234950" y="62"/>
                  </a:cubicBezTo>
                  <a:cubicBezTo>
                    <a:pt x="304800" y="2179"/>
                    <a:pt x="361950" y="58270"/>
                    <a:pt x="419100" y="114362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任意多边形 435"/>
            <p:cNvSpPr/>
            <p:nvPr/>
          </p:nvSpPr>
          <p:spPr>
            <a:xfrm>
              <a:off x="8189280" y="4803840"/>
              <a:ext cx="245520" cy="615600"/>
            </a:xfrm>
            <a:custGeom>
              <a:avLst/>
              <a:gdLst/>
              <a:ahLst/>
              <a:rect l="l" t="t" r="r" b="b"/>
              <a:pathLst>
                <a:path w="245872" h="615950">
                  <a:moveTo>
                    <a:pt x="245872" y="0"/>
                  </a:moveTo>
                  <a:cubicBezTo>
                    <a:pt x="144272" y="10054"/>
                    <a:pt x="42672" y="20108"/>
                    <a:pt x="10922" y="63500"/>
                  </a:cubicBezTo>
                  <a:cubicBezTo>
                    <a:pt x="-20828" y="106892"/>
                    <a:pt x="23622" y="168275"/>
                    <a:pt x="55372" y="260350"/>
                  </a:cubicBezTo>
                  <a:cubicBezTo>
                    <a:pt x="87122" y="352425"/>
                    <a:pt x="144272" y="484187"/>
                    <a:pt x="201422" y="6159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任意多边形 436"/>
            <p:cNvSpPr/>
            <p:nvPr/>
          </p:nvSpPr>
          <p:spPr>
            <a:xfrm>
              <a:off x="8379360" y="4797360"/>
              <a:ext cx="182520" cy="857160"/>
            </a:xfrm>
            <a:custGeom>
              <a:avLst/>
              <a:gdLst/>
              <a:ahLst/>
              <a:rect l="l" t="t" r="r" b="b"/>
              <a:pathLst>
                <a:path w="182582" h="857250">
                  <a:moveTo>
                    <a:pt x="68282" y="0"/>
                  </a:moveTo>
                  <a:cubicBezTo>
                    <a:pt x="27007" y="30162"/>
                    <a:pt x="-14268" y="60325"/>
                    <a:pt x="4782" y="203200"/>
                  </a:cubicBezTo>
                  <a:cubicBezTo>
                    <a:pt x="23832" y="346075"/>
                    <a:pt x="103207" y="601662"/>
                    <a:pt x="182582" y="8572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2" name="组合 437"/>
          <p:cNvGrpSpPr/>
          <p:nvPr/>
        </p:nvGrpSpPr>
        <p:grpSpPr>
          <a:xfrm>
            <a:off x="5580000" y="1730520"/>
            <a:ext cx="4106880" cy="3968640"/>
            <a:chOff x="5580000" y="1730520"/>
            <a:chExt cx="4106880" cy="3968640"/>
          </a:xfrm>
        </p:grpSpPr>
        <p:sp>
          <p:nvSpPr>
            <p:cNvPr id="953" name="直接连接符 438"/>
            <p:cNvSpPr/>
            <p:nvPr/>
          </p:nvSpPr>
          <p:spPr>
            <a:xfrm flipV="1">
              <a:off x="5580000" y="2867760"/>
              <a:ext cx="3033720" cy="2815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直接连接符 439"/>
            <p:cNvSpPr/>
            <p:nvPr/>
          </p:nvSpPr>
          <p:spPr>
            <a:xfrm flipH="1">
              <a:off x="8650800" y="2143800"/>
              <a:ext cx="360" cy="1278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直接连接符 440"/>
            <p:cNvSpPr/>
            <p:nvPr/>
          </p:nvSpPr>
          <p:spPr>
            <a:xfrm flipH="1">
              <a:off x="8674560" y="2833560"/>
              <a:ext cx="650880" cy="5608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直接连接符 441"/>
            <p:cNvSpPr/>
            <p:nvPr/>
          </p:nvSpPr>
          <p:spPr>
            <a:xfrm>
              <a:off x="9316080" y="1730520"/>
              <a:ext cx="4320" cy="11368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直接连接符 442"/>
            <p:cNvSpPr/>
            <p:nvPr/>
          </p:nvSpPr>
          <p:spPr>
            <a:xfrm flipV="1">
              <a:off x="8631720" y="1768680"/>
              <a:ext cx="653040" cy="425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椭圆 443"/>
            <p:cNvSpPr/>
            <p:nvPr/>
          </p:nvSpPr>
          <p:spPr>
            <a:xfrm>
              <a:off x="9380160" y="3360600"/>
              <a:ext cx="306720" cy="3067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任意多边形 444"/>
            <p:cNvSpPr/>
            <p:nvPr/>
          </p:nvSpPr>
          <p:spPr>
            <a:xfrm>
              <a:off x="9124560" y="2953800"/>
              <a:ext cx="527760" cy="122040"/>
            </a:xfrm>
            <a:custGeom>
              <a:avLst/>
              <a:gdLst/>
              <a:ahLst/>
              <a:rect l="l" t="t" r="r" b="b"/>
              <a:pathLst>
                <a:path w="500902" h="121372">
                  <a:moveTo>
                    <a:pt x="18302" y="0"/>
                  </a:moveTo>
                  <a:cubicBezTo>
                    <a:pt x="-748" y="24871"/>
                    <a:pt x="-19798" y="49742"/>
                    <a:pt x="43702" y="69850"/>
                  </a:cubicBezTo>
                  <a:cubicBezTo>
                    <a:pt x="107202" y="89958"/>
                    <a:pt x="323102" y="127000"/>
                    <a:pt x="399302" y="120650"/>
                  </a:cubicBezTo>
                  <a:cubicBezTo>
                    <a:pt x="475502" y="114300"/>
                    <a:pt x="488202" y="73025"/>
                    <a:pt x="500902" y="3175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任意多边形 445"/>
            <p:cNvSpPr/>
            <p:nvPr/>
          </p:nvSpPr>
          <p:spPr>
            <a:xfrm>
              <a:off x="9107640" y="2868840"/>
              <a:ext cx="544680" cy="169920"/>
            </a:xfrm>
            <a:custGeom>
              <a:avLst/>
              <a:gdLst/>
              <a:ahLst/>
              <a:rect l="l" t="t" r="r" b="b"/>
              <a:pathLst>
                <a:path w="527050" h="129853">
                  <a:moveTo>
                    <a:pt x="0" y="72703"/>
                  </a:moveTo>
                  <a:cubicBezTo>
                    <a:pt x="64558" y="42540"/>
                    <a:pt x="129117" y="12378"/>
                    <a:pt x="184150" y="2853"/>
                  </a:cubicBezTo>
                  <a:cubicBezTo>
                    <a:pt x="239183" y="-6672"/>
                    <a:pt x="279400" y="10261"/>
                    <a:pt x="330200" y="15553"/>
                  </a:cubicBezTo>
                  <a:cubicBezTo>
                    <a:pt x="381000" y="20845"/>
                    <a:pt x="456142" y="15553"/>
                    <a:pt x="488950" y="34603"/>
                  </a:cubicBezTo>
                  <a:cubicBezTo>
                    <a:pt x="521758" y="53653"/>
                    <a:pt x="524404" y="91753"/>
                    <a:pt x="527050" y="129853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椭圆 446"/>
            <p:cNvSpPr/>
            <p:nvPr/>
          </p:nvSpPr>
          <p:spPr>
            <a:xfrm>
              <a:off x="8435160" y="3773160"/>
              <a:ext cx="254160" cy="2552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任意多边形 447"/>
            <p:cNvSpPr/>
            <p:nvPr/>
          </p:nvSpPr>
          <p:spPr>
            <a:xfrm>
              <a:off x="9228600" y="3037320"/>
              <a:ext cx="390240" cy="288720"/>
            </a:xfrm>
            <a:custGeom>
              <a:avLst/>
              <a:gdLst/>
              <a:ahLst/>
              <a:rect l="l" t="t" r="r" b="b"/>
              <a:pathLst>
                <a:path w="390525" h="289086">
                  <a:moveTo>
                    <a:pt x="0" y="14287"/>
                  </a:moveTo>
                  <a:cubicBezTo>
                    <a:pt x="5556" y="125809"/>
                    <a:pt x="11113" y="237331"/>
                    <a:pt x="47625" y="276225"/>
                  </a:cubicBezTo>
                  <a:cubicBezTo>
                    <a:pt x="84137" y="315119"/>
                    <a:pt x="172244" y="254000"/>
                    <a:pt x="219075" y="247650"/>
                  </a:cubicBezTo>
                  <a:cubicBezTo>
                    <a:pt x="265906" y="241300"/>
                    <a:pt x="300037" y="279400"/>
                    <a:pt x="328612" y="238125"/>
                  </a:cubicBezTo>
                  <a:cubicBezTo>
                    <a:pt x="357187" y="196850"/>
                    <a:pt x="373856" y="98425"/>
                    <a:pt x="390525" y="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任意多边形 448"/>
            <p:cNvSpPr/>
            <p:nvPr/>
          </p:nvSpPr>
          <p:spPr>
            <a:xfrm>
              <a:off x="8543160" y="4037400"/>
              <a:ext cx="129960" cy="704520"/>
            </a:xfrm>
            <a:custGeom>
              <a:avLst/>
              <a:gdLst/>
              <a:ahLst/>
              <a:rect l="l" t="t" r="r" b="b"/>
              <a:pathLst>
                <a:path w="129995" h="704850">
                  <a:moveTo>
                    <a:pt x="0" y="0"/>
                  </a:moveTo>
                  <a:cubicBezTo>
                    <a:pt x="59531" y="155575"/>
                    <a:pt x="119063" y="311150"/>
                    <a:pt x="128588" y="428625"/>
                  </a:cubicBezTo>
                  <a:cubicBezTo>
                    <a:pt x="138113" y="546100"/>
                    <a:pt x="97631" y="625475"/>
                    <a:pt x="57150" y="7048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任意多边形 449"/>
            <p:cNvSpPr/>
            <p:nvPr/>
          </p:nvSpPr>
          <p:spPr>
            <a:xfrm>
              <a:off x="8586000" y="4156560"/>
              <a:ext cx="161640" cy="571320"/>
            </a:xfrm>
            <a:custGeom>
              <a:avLst/>
              <a:gdLst/>
              <a:ahLst/>
              <a:rect l="l" t="t" r="r" b="b"/>
              <a:pathLst>
                <a:path w="161843" h="571500">
                  <a:moveTo>
                    <a:pt x="0" y="0"/>
                  </a:moveTo>
                  <a:cubicBezTo>
                    <a:pt x="61515" y="104775"/>
                    <a:pt x="123031" y="209550"/>
                    <a:pt x="147637" y="304800"/>
                  </a:cubicBezTo>
                  <a:cubicBezTo>
                    <a:pt x="172243" y="400050"/>
                    <a:pt x="159940" y="485775"/>
                    <a:pt x="147637" y="5715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任意多边形 450"/>
            <p:cNvSpPr/>
            <p:nvPr/>
          </p:nvSpPr>
          <p:spPr>
            <a:xfrm>
              <a:off x="8586000" y="4150440"/>
              <a:ext cx="338040" cy="82080"/>
            </a:xfrm>
            <a:custGeom>
              <a:avLst/>
              <a:gdLst/>
              <a:ahLst/>
              <a:rect l="l" t="t" r="r" b="b"/>
              <a:pathLst>
                <a:path w="338138" h="82383">
                  <a:moveTo>
                    <a:pt x="0" y="1421"/>
                  </a:moveTo>
                  <a:cubicBezTo>
                    <a:pt x="86122" y="-564"/>
                    <a:pt x="172244" y="-2548"/>
                    <a:pt x="228600" y="10946"/>
                  </a:cubicBezTo>
                  <a:cubicBezTo>
                    <a:pt x="284956" y="24440"/>
                    <a:pt x="311547" y="53411"/>
                    <a:pt x="338138" y="82383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任意多边形 451"/>
            <p:cNvSpPr/>
            <p:nvPr/>
          </p:nvSpPr>
          <p:spPr>
            <a:xfrm>
              <a:off x="8256240" y="4732560"/>
              <a:ext cx="343800" cy="704520"/>
            </a:xfrm>
            <a:custGeom>
              <a:avLst/>
              <a:gdLst/>
              <a:ahLst/>
              <a:rect l="l" t="t" r="r" b="b"/>
              <a:pathLst>
                <a:path w="343994" h="704850">
                  <a:moveTo>
                    <a:pt x="343994" y="0"/>
                  </a:moveTo>
                  <a:cubicBezTo>
                    <a:pt x="211438" y="25796"/>
                    <a:pt x="78882" y="51593"/>
                    <a:pt x="24907" y="128587"/>
                  </a:cubicBezTo>
                  <a:cubicBezTo>
                    <a:pt x="-29068" y="205581"/>
                    <a:pt x="21731" y="365918"/>
                    <a:pt x="20144" y="461962"/>
                  </a:cubicBezTo>
                  <a:cubicBezTo>
                    <a:pt x="18557" y="558006"/>
                    <a:pt x="16969" y="631428"/>
                    <a:pt x="15382" y="7048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任意多边形 452"/>
            <p:cNvSpPr/>
            <p:nvPr/>
          </p:nvSpPr>
          <p:spPr>
            <a:xfrm>
              <a:off x="8571600" y="4737600"/>
              <a:ext cx="33120" cy="961560"/>
            </a:xfrm>
            <a:custGeom>
              <a:avLst/>
              <a:gdLst/>
              <a:ahLst/>
              <a:rect l="l" t="t" r="r" b="b"/>
              <a:pathLst>
                <a:path w="33338" h="962025">
                  <a:moveTo>
                    <a:pt x="33338" y="0"/>
                  </a:moveTo>
                  <a:lnTo>
                    <a:pt x="0" y="962025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组合 453"/>
          <p:cNvGrpSpPr/>
          <p:nvPr/>
        </p:nvGrpSpPr>
        <p:grpSpPr>
          <a:xfrm>
            <a:off x="5438880" y="1634760"/>
            <a:ext cx="4516200" cy="4092840"/>
            <a:chOff x="5438880" y="1634760"/>
            <a:chExt cx="4516200" cy="4092840"/>
          </a:xfrm>
        </p:grpSpPr>
        <p:sp>
          <p:nvSpPr>
            <p:cNvPr id="969" name="直接连接符 454"/>
            <p:cNvSpPr/>
            <p:nvPr/>
          </p:nvSpPr>
          <p:spPr>
            <a:xfrm flipH="1">
              <a:off x="8927280" y="1990440"/>
              <a:ext cx="360" cy="1278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直接连接符 455"/>
            <p:cNvSpPr/>
            <p:nvPr/>
          </p:nvSpPr>
          <p:spPr>
            <a:xfrm flipH="1">
              <a:off x="8912520" y="2699640"/>
              <a:ext cx="650520" cy="5612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直接连接符 456"/>
            <p:cNvSpPr/>
            <p:nvPr/>
          </p:nvSpPr>
          <p:spPr>
            <a:xfrm>
              <a:off x="9525600" y="1653480"/>
              <a:ext cx="4320" cy="11372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直接连接符 457"/>
            <p:cNvSpPr/>
            <p:nvPr/>
          </p:nvSpPr>
          <p:spPr>
            <a:xfrm flipV="1">
              <a:off x="8870040" y="1634760"/>
              <a:ext cx="653040" cy="425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椭圆 458"/>
            <p:cNvSpPr/>
            <p:nvPr/>
          </p:nvSpPr>
          <p:spPr>
            <a:xfrm>
              <a:off x="9648360" y="3268440"/>
              <a:ext cx="306720" cy="3067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任意多边形 459"/>
            <p:cNvSpPr/>
            <p:nvPr/>
          </p:nvSpPr>
          <p:spPr>
            <a:xfrm>
              <a:off x="9333720" y="2845800"/>
              <a:ext cx="527760" cy="153000"/>
            </a:xfrm>
            <a:custGeom>
              <a:avLst/>
              <a:gdLst/>
              <a:ahLst/>
              <a:rect l="l" t="t" r="r" b="b"/>
              <a:pathLst>
                <a:path w="500902" h="121372">
                  <a:moveTo>
                    <a:pt x="18302" y="0"/>
                  </a:moveTo>
                  <a:cubicBezTo>
                    <a:pt x="-748" y="24871"/>
                    <a:pt x="-19798" y="49742"/>
                    <a:pt x="43702" y="69850"/>
                  </a:cubicBezTo>
                  <a:cubicBezTo>
                    <a:pt x="107202" y="89958"/>
                    <a:pt x="323102" y="127000"/>
                    <a:pt x="399302" y="120650"/>
                  </a:cubicBezTo>
                  <a:cubicBezTo>
                    <a:pt x="475502" y="114300"/>
                    <a:pt x="488202" y="73025"/>
                    <a:pt x="500902" y="3175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任意多边形 460"/>
            <p:cNvSpPr/>
            <p:nvPr/>
          </p:nvSpPr>
          <p:spPr>
            <a:xfrm>
              <a:off x="9307800" y="2750760"/>
              <a:ext cx="553320" cy="193680"/>
            </a:xfrm>
            <a:custGeom>
              <a:avLst/>
              <a:gdLst/>
              <a:ahLst/>
              <a:rect l="l" t="t" r="r" b="b"/>
              <a:pathLst>
                <a:path w="527050" h="129853">
                  <a:moveTo>
                    <a:pt x="0" y="72703"/>
                  </a:moveTo>
                  <a:cubicBezTo>
                    <a:pt x="64558" y="42540"/>
                    <a:pt x="129117" y="12378"/>
                    <a:pt x="184150" y="2853"/>
                  </a:cubicBezTo>
                  <a:cubicBezTo>
                    <a:pt x="239183" y="-6672"/>
                    <a:pt x="279400" y="10261"/>
                    <a:pt x="330200" y="15553"/>
                  </a:cubicBezTo>
                  <a:cubicBezTo>
                    <a:pt x="381000" y="20845"/>
                    <a:pt x="456142" y="15553"/>
                    <a:pt x="488950" y="34603"/>
                  </a:cubicBezTo>
                  <a:cubicBezTo>
                    <a:pt x="521758" y="53653"/>
                    <a:pt x="524404" y="91753"/>
                    <a:pt x="527050" y="129853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椭圆 461"/>
            <p:cNvSpPr/>
            <p:nvPr/>
          </p:nvSpPr>
          <p:spPr>
            <a:xfrm>
              <a:off x="8435160" y="3772800"/>
              <a:ext cx="253800" cy="2552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任意多边形 462"/>
            <p:cNvSpPr/>
            <p:nvPr/>
          </p:nvSpPr>
          <p:spPr>
            <a:xfrm>
              <a:off x="5438880" y="2750760"/>
              <a:ext cx="3494880" cy="424440"/>
            </a:xfrm>
            <a:custGeom>
              <a:avLst/>
              <a:gdLst/>
              <a:ahLst/>
              <a:rect l="l" t="t" r="r" b="b"/>
              <a:pathLst>
                <a:path w="3495675" h="424481">
                  <a:moveTo>
                    <a:pt x="0" y="424481"/>
                  </a:moveTo>
                  <a:cubicBezTo>
                    <a:pt x="418306" y="267318"/>
                    <a:pt x="836613" y="110156"/>
                    <a:pt x="1419225" y="43481"/>
                  </a:cubicBezTo>
                  <a:cubicBezTo>
                    <a:pt x="2001837" y="-23194"/>
                    <a:pt x="2748756" y="618"/>
                    <a:pt x="3495675" y="24431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任意多边形 463"/>
            <p:cNvSpPr/>
            <p:nvPr/>
          </p:nvSpPr>
          <p:spPr>
            <a:xfrm>
              <a:off x="9349560" y="2898720"/>
              <a:ext cx="514080" cy="361080"/>
            </a:xfrm>
            <a:custGeom>
              <a:avLst/>
              <a:gdLst/>
              <a:ahLst/>
              <a:rect l="l" t="t" r="r" b="b"/>
              <a:pathLst>
                <a:path w="514350" h="361282">
                  <a:moveTo>
                    <a:pt x="0" y="0"/>
                  </a:moveTo>
                  <a:cubicBezTo>
                    <a:pt x="67204" y="107421"/>
                    <a:pt x="134408" y="214842"/>
                    <a:pt x="165100" y="273050"/>
                  </a:cubicBezTo>
                  <a:cubicBezTo>
                    <a:pt x="195792" y="331258"/>
                    <a:pt x="125942" y="386292"/>
                    <a:pt x="184150" y="349250"/>
                  </a:cubicBezTo>
                  <a:cubicBezTo>
                    <a:pt x="242358" y="312208"/>
                    <a:pt x="378354" y="181504"/>
                    <a:pt x="514350" y="5080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任意多边形 464"/>
            <p:cNvSpPr/>
            <p:nvPr/>
          </p:nvSpPr>
          <p:spPr>
            <a:xfrm>
              <a:off x="8591040" y="4041720"/>
              <a:ext cx="161640" cy="790560"/>
            </a:xfrm>
            <a:custGeom>
              <a:avLst/>
              <a:gdLst/>
              <a:ahLst/>
              <a:rect l="l" t="t" r="r" b="b"/>
              <a:pathLst>
                <a:path w="161990" h="790575">
                  <a:moveTo>
                    <a:pt x="0" y="0"/>
                  </a:moveTo>
                  <a:cubicBezTo>
                    <a:pt x="65087" y="238919"/>
                    <a:pt x="130175" y="477838"/>
                    <a:pt x="152400" y="609600"/>
                  </a:cubicBezTo>
                  <a:cubicBezTo>
                    <a:pt x="174625" y="741363"/>
                    <a:pt x="153987" y="765969"/>
                    <a:pt x="133350" y="790575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任意多边形 465"/>
            <p:cNvSpPr/>
            <p:nvPr/>
          </p:nvSpPr>
          <p:spPr>
            <a:xfrm>
              <a:off x="8624160" y="4194360"/>
              <a:ext cx="250560" cy="571320"/>
            </a:xfrm>
            <a:custGeom>
              <a:avLst/>
              <a:gdLst/>
              <a:ahLst/>
              <a:rect l="l" t="t" r="r" b="b"/>
              <a:pathLst>
                <a:path w="206027" h="571500">
                  <a:moveTo>
                    <a:pt x="0" y="0"/>
                  </a:moveTo>
                  <a:cubicBezTo>
                    <a:pt x="73819" y="90487"/>
                    <a:pt x="147638" y="180975"/>
                    <a:pt x="180975" y="276225"/>
                  </a:cubicBezTo>
                  <a:cubicBezTo>
                    <a:pt x="214313" y="371475"/>
                    <a:pt x="207169" y="471487"/>
                    <a:pt x="200025" y="5715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任意多边形 466"/>
            <p:cNvSpPr/>
            <p:nvPr/>
          </p:nvSpPr>
          <p:spPr>
            <a:xfrm>
              <a:off x="8647920" y="4241880"/>
              <a:ext cx="159840" cy="504720"/>
            </a:xfrm>
            <a:custGeom>
              <a:avLst/>
              <a:gdLst/>
              <a:ahLst/>
              <a:rect l="l" t="t" r="r" b="b"/>
              <a:pathLst>
                <a:path w="160146" h="504825">
                  <a:moveTo>
                    <a:pt x="0" y="0"/>
                  </a:moveTo>
                  <a:cubicBezTo>
                    <a:pt x="58737" y="138906"/>
                    <a:pt x="117475" y="277813"/>
                    <a:pt x="142875" y="361950"/>
                  </a:cubicBezTo>
                  <a:cubicBezTo>
                    <a:pt x="168275" y="446088"/>
                    <a:pt x="160337" y="475456"/>
                    <a:pt x="152400" y="504825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任意多边形 467"/>
            <p:cNvSpPr/>
            <p:nvPr/>
          </p:nvSpPr>
          <p:spPr>
            <a:xfrm>
              <a:off x="8362440" y="4842000"/>
              <a:ext cx="361800" cy="685800"/>
            </a:xfrm>
            <a:custGeom>
              <a:avLst/>
              <a:gdLst/>
              <a:ahLst/>
              <a:rect l="l" t="t" r="r" b="b"/>
              <a:pathLst>
                <a:path w="361950" h="685800">
                  <a:moveTo>
                    <a:pt x="361950" y="0"/>
                  </a:moveTo>
                  <a:lnTo>
                    <a:pt x="0" y="685800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任意多边形 468"/>
            <p:cNvSpPr/>
            <p:nvPr/>
          </p:nvSpPr>
          <p:spPr>
            <a:xfrm>
              <a:off x="8600400" y="4813200"/>
              <a:ext cx="161640" cy="914400"/>
            </a:xfrm>
            <a:custGeom>
              <a:avLst/>
              <a:gdLst/>
              <a:ahLst/>
              <a:rect l="l" t="t" r="r" b="b"/>
              <a:pathLst>
                <a:path w="161949" h="914400">
                  <a:moveTo>
                    <a:pt x="161949" y="0"/>
                  </a:moveTo>
                  <a:cubicBezTo>
                    <a:pt x="81780" y="171450"/>
                    <a:pt x="1611" y="342900"/>
                    <a:pt x="24" y="495300"/>
                  </a:cubicBezTo>
                  <a:cubicBezTo>
                    <a:pt x="-1563" y="647700"/>
                    <a:pt x="75430" y="781050"/>
                    <a:pt x="152424" y="9144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4" name="矩形 26"/>
          <p:cNvSpPr/>
          <p:nvPr/>
        </p:nvSpPr>
        <p:spPr>
          <a:xfrm>
            <a:off x="6019920" y="1870200"/>
            <a:ext cx="46609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我是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屌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一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但也有自己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梦想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和努力的</a:t>
            </a:r>
            <a:r>
              <a:rPr b="0" lang="zh-CN" sz="1800" spc="-1" strike="noStrike">
                <a:solidFill>
                  <a:srgbClr val="d92817"/>
                </a:solidFill>
                <a:latin typeface="Arial"/>
                <a:ea typeface="微软雅黑"/>
              </a:rPr>
              <a:t>方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庆幸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得是我遇到了</a:t>
            </a:r>
            <a:r>
              <a:rPr b="0" lang="zh-CN" sz="1800" spc="-1" strike="noStrike">
                <a:solidFill>
                  <a:srgbClr val="d92817"/>
                </a:solidFill>
                <a:latin typeface="Arial"/>
                <a:ea typeface="微软雅黑"/>
              </a:rPr>
              <a:t>伯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“</a:t>
            </a:r>
            <a:r>
              <a:rPr b="0" lang="zh-CN" sz="1800" spc="-1" strike="noStrike">
                <a:solidFill>
                  <a:srgbClr val="d92817"/>
                </a:solidFill>
                <a:latin typeface="Arial"/>
                <a:ea typeface="微软雅黑"/>
              </a:rPr>
              <a:t>得屌丝者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，得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天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！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我愿为百世快递贡献自己的</a:t>
            </a:r>
            <a:r>
              <a:rPr b="0" lang="zh-CN" sz="2400" spc="-1" strike="noStrike">
                <a:solidFill>
                  <a:srgbClr val="d92817"/>
                </a:solidFill>
                <a:latin typeface="Arial"/>
                <a:ea typeface="微软雅黑"/>
              </a:rPr>
              <a:t>青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和能量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9" dur="5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2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26" dur="5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3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33" dur="5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3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40" dur="5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4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47" dur="5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54" dur="5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6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61" dur="5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6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68" dur="5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7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75" dur="5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8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82" dur="5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89" dur="5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9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96" dur="5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10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03" dur="5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0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10" dur="5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1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17" dur="5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24" dur="5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13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31" dur="5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13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38" dur="5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14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45" dur="5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1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52" dur="5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59" dur="5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16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66" dur="5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17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73" dur="5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17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80" dur="5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18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87" dur="5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94" dur="5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20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201" dur="5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20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208" dur="5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21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215" dur="5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22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222" dur="5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2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229" dur="5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2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236" dur="5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24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243" dur="5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2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8" dur="200"/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9" dur="200"/>
                                        <p:tgtEl>
                                          <p:spTgt spid="9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200"/>
                                        <p:tgtEl>
                                          <p:spTgt spid="9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矩形 1"/>
          <p:cNvSpPr/>
          <p:nvPr/>
        </p:nvSpPr>
        <p:spPr>
          <a:xfrm>
            <a:off x="8988480" y="136440"/>
            <a:ext cx="3184560" cy="1024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Text Box 3"/>
          <p:cNvSpPr/>
          <p:nvPr/>
        </p:nvSpPr>
        <p:spPr>
          <a:xfrm>
            <a:off x="5149440" y="2165400"/>
            <a:ext cx="286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感谢收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7" name="Picture 2" descr="E:\小小草店铺中的素材\Y3030-30套合集+文艺唯美风格（把时间改成了2016）\扫一扫更多惊喜等着您.jpg"/>
          <p:cNvPicPr/>
          <p:nvPr/>
        </p:nvPicPr>
        <p:blipFill>
          <a:blip r:embed="rId1"/>
          <a:stretch/>
        </p:blipFill>
        <p:spPr>
          <a:xfrm>
            <a:off x="138240" y="57240"/>
            <a:ext cx="1191564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2517E-59E4-4CAA-A942-B4562D4DDA40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04:47:55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文本框 17"/>
          <p:cNvSpPr/>
          <p:nvPr/>
        </p:nvSpPr>
        <p:spPr>
          <a:xfrm>
            <a:off x="6797160" y="1447920"/>
            <a:ext cx="156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d92817"/>
                </a:solidFill>
                <a:latin typeface="微软雅黑"/>
                <a:ea typeface="微软雅黑"/>
              </a:rPr>
              <a:t>Job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s Introdu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文本框 17"/>
          <p:cNvSpPr/>
          <p:nvPr/>
        </p:nvSpPr>
        <p:spPr>
          <a:xfrm>
            <a:off x="6804000" y="3206880"/>
            <a:ext cx="170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Found Q</a:t>
            </a:r>
            <a:r>
              <a:rPr b="0" lang="zh-CN" sz="1600" spc="-1" strike="noStrike">
                <a:solidFill>
                  <a:srgbClr val="0563c1"/>
                </a:solidFill>
                <a:latin typeface="微软雅黑"/>
                <a:ea typeface="微软雅黑"/>
              </a:rPr>
              <a:t>ues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文本框 17"/>
          <p:cNvSpPr/>
          <p:nvPr/>
        </p:nvSpPr>
        <p:spPr>
          <a:xfrm>
            <a:off x="6800760" y="411624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So</a:t>
            </a:r>
            <a:r>
              <a:rPr b="0" lang="zh-CN" sz="1600" spc="-1" strike="noStrike">
                <a:solidFill>
                  <a:srgbClr val="cc3300"/>
                </a:solidFill>
                <a:latin typeface="微软雅黑"/>
                <a:ea typeface="微软雅黑"/>
              </a:rPr>
              <a:t>lu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文本框 17"/>
          <p:cNvSpPr/>
          <p:nvPr/>
        </p:nvSpPr>
        <p:spPr>
          <a:xfrm>
            <a:off x="6775560" y="2316240"/>
            <a:ext cx="14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563c1"/>
                </a:solidFill>
                <a:latin typeface="微软雅黑"/>
                <a:ea typeface="微软雅黑"/>
              </a:rPr>
              <a:t>Result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s Sh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文本框 17"/>
          <p:cNvSpPr/>
          <p:nvPr/>
        </p:nvSpPr>
        <p:spPr>
          <a:xfrm>
            <a:off x="6806880" y="4943520"/>
            <a:ext cx="190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ersonal</a:t>
            </a:r>
            <a:r>
              <a:rPr b="0" lang="zh-CN" sz="1600" spc="-1" strike="noStrike">
                <a:solidFill>
                  <a:srgbClr val="ffcc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cc3300"/>
                </a:solidFill>
                <a:latin typeface="微软雅黑"/>
                <a:ea typeface="微软雅黑"/>
              </a:rPr>
              <a:t>Plan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网络 511"/>
          <p:cNvSpPr/>
          <p:nvPr/>
        </p:nvSpPr>
        <p:spPr>
          <a:xfrm flipV="1">
            <a:off x="1390680" y="1842840"/>
            <a:ext cx="2870280" cy="2869920"/>
          </a:xfrm>
          <a:custGeom>
            <a:avLst/>
            <a:gdLst/>
            <a:ahLst/>
            <a:rect l="l" t="t" r="r" b="b"/>
            <a:pathLst>
              <a:path w="1889279" h="1810503">
                <a:moveTo>
                  <a:pt x="1408636" y="1462945"/>
                </a:moveTo>
                <a:cubicBezTo>
                  <a:pt x="1471912" y="1494489"/>
                  <a:pt x="1528819" y="1532588"/>
                  <a:pt x="1575786" y="1578162"/>
                </a:cubicBezTo>
                <a:cubicBezTo>
                  <a:pt x="1467281" y="1672800"/>
                  <a:pt x="1335058" y="1742507"/>
                  <a:pt x="1188886" y="1779443"/>
                </a:cubicBezTo>
                <a:cubicBezTo>
                  <a:pt x="1278166" y="1700386"/>
                  <a:pt x="1353810" y="1592053"/>
                  <a:pt x="1408636" y="1462945"/>
                </a:cubicBezTo>
                <a:close/>
                <a:moveTo>
                  <a:pt x="494888" y="1445849"/>
                </a:moveTo>
                <a:cubicBezTo>
                  <a:pt x="556747" y="1590569"/>
                  <a:pt x="643865" y="1709702"/>
                  <a:pt x="747068" y="1790925"/>
                </a:cubicBezTo>
                <a:cubicBezTo>
                  <a:pt x="576321" y="1756303"/>
                  <a:pt x="422614" y="1677538"/>
                  <a:pt x="300900" y="1566189"/>
                </a:cubicBezTo>
                <a:cubicBezTo>
                  <a:pt x="355309" y="1517036"/>
                  <a:pt x="421005" y="1476420"/>
                  <a:pt x="494888" y="1445849"/>
                </a:cubicBezTo>
                <a:close/>
                <a:moveTo>
                  <a:pt x="900586" y="1355871"/>
                </a:moveTo>
                <a:lnTo>
                  <a:pt x="900586" y="1808904"/>
                </a:lnTo>
                <a:lnTo>
                  <a:pt x="884222" y="1808113"/>
                </a:lnTo>
                <a:cubicBezTo>
                  <a:pt x="745280" y="1742581"/>
                  <a:pt x="627378" y="1604992"/>
                  <a:pt x="551037" y="1423344"/>
                </a:cubicBezTo>
                <a:cubicBezTo>
                  <a:pt x="655969" y="1381011"/>
                  <a:pt x="774745" y="1357337"/>
                  <a:pt x="900586" y="1355871"/>
                </a:cubicBezTo>
                <a:close/>
                <a:moveTo>
                  <a:pt x="953521" y="1355186"/>
                </a:moveTo>
                <a:cubicBezTo>
                  <a:pt x="1099660" y="1356509"/>
                  <a:pt x="1236550" y="1386650"/>
                  <a:pt x="1354036" y="1440083"/>
                </a:cubicBezTo>
                <a:cubicBezTo>
                  <a:pt x="1283551" y="1605630"/>
                  <a:pt x="1178611" y="1734316"/>
                  <a:pt x="1054486" y="1804443"/>
                </a:cubicBezTo>
                <a:lnTo>
                  <a:pt x="953521" y="1810503"/>
                </a:lnTo>
                <a:lnTo>
                  <a:pt x="953521" y="1355186"/>
                </a:lnTo>
                <a:close/>
                <a:moveTo>
                  <a:pt x="1517159" y="931303"/>
                </a:moveTo>
                <a:lnTo>
                  <a:pt x="1889279" y="931303"/>
                </a:lnTo>
                <a:cubicBezTo>
                  <a:pt x="1883282" y="1167646"/>
                  <a:pt x="1781715" y="1381244"/>
                  <a:pt x="1618873" y="1536894"/>
                </a:cubicBezTo>
                <a:cubicBezTo>
                  <a:pt x="1566437" y="1485571"/>
                  <a:pt x="1502786" y="1442774"/>
                  <a:pt x="1431939" y="1407715"/>
                </a:cubicBezTo>
                <a:cubicBezTo>
                  <a:pt x="1485774" y="1266553"/>
                  <a:pt x="1516428" y="1104135"/>
                  <a:pt x="1517159" y="931303"/>
                </a:cubicBezTo>
                <a:close/>
                <a:moveTo>
                  <a:pt x="953521" y="931303"/>
                </a:moveTo>
                <a:lnTo>
                  <a:pt x="1456842" y="931303"/>
                </a:lnTo>
                <a:cubicBezTo>
                  <a:pt x="1456123" y="1096196"/>
                  <a:pt x="1427268" y="1250986"/>
                  <a:pt x="1375819" y="1384691"/>
                </a:cubicBezTo>
                <a:cubicBezTo>
                  <a:pt x="1251537" y="1327928"/>
                  <a:pt x="1107288" y="1296191"/>
                  <a:pt x="953521" y="1294902"/>
                </a:cubicBezTo>
                <a:lnTo>
                  <a:pt x="953521" y="931303"/>
                </a:lnTo>
                <a:close/>
                <a:moveTo>
                  <a:pt x="448568" y="931303"/>
                </a:moveTo>
                <a:lnTo>
                  <a:pt x="900586" y="931303"/>
                </a:lnTo>
                <a:lnTo>
                  <a:pt x="900586" y="1295603"/>
                </a:lnTo>
                <a:cubicBezTo>
                  <a:pt x="766605" y="1297053"/>
                  <a:pt x="640053" y="1322469"/>
                  <a:pt x="528061" y="1368046"/>
                </a:cubicBezTo>
                <a:cubicBezTo>
                  <a:pt x="478984" y="1238632"/>
                  <a:pt x="450499" y="1089843"/>
                  <a:pt x="448568" y="931303"/>
                </a:cubicBezTo>
                <a:close/>
                <a:moveTo>
                  <a:pt x="0" y="931303"/>
                </a:moveTo>
                <a:lnTo>
                  <a:pt x="388264" y="931303"/>
                </a:lnTo>
                <a:cubicBezTo>
                  <a:pt x="390220" y="1097785"/>
                  <a:pt x="420532" y="1254193"/>
                  <a:pt x="473139" y="1390578"/>
                </a:cubicBezTo>
                <a:cubicBezTo>
                  <a:pt x="391203" y="1423988"/>
                  <a:pt x="318506" y="1469260"/>
                  <a:pt x="258353" y="1524144"/>
                </a:cubicBezTo>
                <a:cubicBezTo>
                  <a:pt x="102364" y="1370026"/>
                  <a:pt x="5849" y="1161456"/>
                  <a:pt x="0" y="931303"/>
                </a:cubicBezTo>
                <a:close/>
                <a:moveTo>
                  <a:pt x="536834" y="421694"/>
                </a:moveTo>
                <a:cubicBezTo>
                  <a:pt x="646682" y="464986"/>
                  <a:pt x="770110" y="489176"/>
                  <a:pt x="900586" y="490537"/>
                </a:cubicBezTo>
                <a:lnTo>
                  <a:pt x="900586" y="875390"/>
                </a:lnTo>
                <a:lnTo>
                  <a:pt x="448805" y="875390"/>
                </a:lnTo>
                <a:cubicBezTo>
                  <a:pt x="451150" y="709592"/>
                  <a:pt x="482649" y="554587"/>
                  <a:pt x="536834" y="421694"/>
                </a:cubicBezTo>
                <a:close/>
                <a:moveTo>
                  <a:pt x="1356131" y="409527"/>
                </a:moveTo>
                <a:cubicBezTo>
                  <a:pt x="1415590" y="544412"/>
                  <a:pt x="1451132" y="703874"/>
                  <a:pt x="1455052" y="875390"/>
                </a:cubicBezTo>
                <a:lnTo>
                  <a:pt x="953521" y="875390"/>
                </a:lnTo>
                <a:lnTo>
                  <a:pt x="953521" y="491238"/>
                </a:lnTo>
                <a:cubicBezTo>
                  <a:pt x="1099303" y="490092"/>
                  <a:pt x="1236528" y="461431"/>
                  <a:pt x="1356131" y="409527"/>
                </a:cubicBezTo>
                <a:close/>
                <a:moveTo>
                  <a:pt x="271202" y="273767"/>
                </a:moveTo>
                <a:cubicBezTo>
                  <a:pt x="330895" y="324894"/>
                  <a:pt x="401533" y="367494"/>
                  <a:pt x="480768" y="398692"/>
                </a:cubicBezTo>
                <a:cubicBezTo>
                  <a:pt x="424147" y="539118"/>
                  <a:pt x="390867" y="701724"/>
                  <a:pt x="388496" y="875390"/>
                </a:cubicBezTo>
                <a:lnTo>
                  <a:pt x="238" y="875390"/>
                </a:lnTo>
                <a:cubicBezTo>
                  <a:pt x="7162" y="640451"/>
                  <a:pt x="108645" y="428248"/>
                  <a:pt x="271202" y="273767"/>
                </a:cubicBezTo>
                <a:close/>
                <a:moveTo>
                  <a:pt x="1605567" y="261436"/>
                </a:moveTo>
                <a:cubicBezTo>
                  <a:pt x="1775300" y="417133"/>
                  <a:pt x="1881942" y="634296"/>
                  <a:pt x="1889035" y="875390"/>
                </a:cubicBezTo>
                <a:lnTo>
                  <a:pt x="1515364" y="875390"/>
                </a:lnTo>
                <a:cubicBezTo>
                  <a:pt x="1511419" y="696081"/>
                  <a:pt x="1474168" y="529014"/>
                  <a:pt x="1413107" y="386152"/>
                </a:cubicBezTo>
                <a:cubicBezTo>
                  <a:pt x="1485941" y="353453"/>
                  <a:pt x="1551126" y="311628"/>
                  <a:pt x="1605567" y="261436"/>
                </a:cubicBezTo>
                <a:close/>
                <a:moveTo>
                  <a:pt x="748157" y="19413"/>
                </a:moveTo>
                <a:cubicBezTo>
                  <a:pt x="649482" y="96557"/>
                  <a:pt x="565491" y="208310"/>
                  <a:pt x="504779" y="344256"/>
                </a:cubicBezTo>
                <a:cubicBezTo>
                  <a:pt x="432706" y="315858"/>
                  <a:pt x="368354" y="277545"/>
                  <a:pt x="313920" y="231604"/>
                </a:cubicBezTo>
                <a:cubicBezTo>
                  <a:pt x="434240" y="127070"/>
                  <a:pt x="583275" y="52667"/>
                  <a:pt x="748157" y="19413"/>
                </a:cubicBezTo>
                <a:close/>
                <a:moveTo>
                  <a:pt x="1137621" y="18543"/>
                </a:moveTo>
                <a:cubicBezTo>
                  <a:pt x="1297904" y="50310"/>
                  <a:pt x="1443338" y="120918"/>
                  <a:pt x="1562575" y="219802"/>
                </a:cubicBezTo>
                <a:cubicBezTo>
                  <a:pt x="1512842" y="265093"/>
                  <a:pt x="1453308" y="302843"/>
                  <a:pt x="1386970" y="332857"/>
                </a:cubicBezTo>
                <a:cubicBezTo>
                  <a:pt x="1323718" y="199817"/>
                  <a:pt x="1237626" y="91674"/>
                  <a:pt x="1137621" y="18543"/>
                </a:cubicBezTo>
                <a:close/>
                <a:moveTo>
                  <a:pt x="900586" y="1702"/>
                </a:moveTo>
                <a:lnTo>
                  <a:pt x="900586" y="430269"/>
                </a:lnTo>
                <a:cubicBezTo>
                  <a:pt x="778345" y="428899"/>
                  <a:pt x="662774" y="406468"/>
                  <a:pt x="560047" y="366408"/>
                </a:cubicBezTo>
                <a:cubicBezTo>
                  <a:pt x="637783" y="193348"/>
                  <a:pt x="753999" y="63227"/>
                  <a:pt x="890213" y="2203"/>
                </a:cubicBezTo>
                <a:lnTo>
                  <a:pt x="900586" y="1702"/>
                </a:lnTo>
                <a:close/>
                <a:moveTo>
                  <a:pt x="953521" y="0"/>
                </a:moveTo>
                <a:lnTo>
                  <a:pt x="981035" y="1330"/>
                </a:lnTo>
                <a:cubicBezTo>
                  <a:pt x="1124068" y="53565"/>
                  <a:pt x="1247786" y="180867"/>
                  <a:pt x="1332000" y="354889"/>
                </a:cubicBezTo>
                <a:cubicBezTo>
                  <a:pt x="1219743" y="403080"/>
                  <a:pt x="1090709" y="429800"/>
                  <a:pt x="953521" y="430954"/>
                </a:cubicBezTo>
                <a:lnTo>
                  <a:pt x="953521" y="0"/>
                </a:lnTo>
                <a:close/>
              </a:path>
            </a:pathLst>
          </a:custGeom>
          <a:solidFill>
            <a:srgbClr val="d62817"/>
          </a:solidFill>
          <a:ln w="0">
            <a:noFill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文本框 17"/>
          <p:cNvSpPr/>
          <p:nvPr/>
        </p:nvSpPr>
        <p:spPr>
          <a:xfrm>
            <a:off x="2303280" y="2901960"/>
            <a:ext cx="105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 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9"/>
          <p:cNvSpPr/>
          <p:nvPr/>
        </p:nvSpPr>
        <p:spPr>
          <a:xfrm>
            <a:off x="2795760" y="14400"/>
            <a:ext cx="0" cy="178272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0"/>
          <p:cNvSpPr/>
          <p:nvPr/>
        </p:nvSpPr>
        <p:spPr>
          <a:xfrm>
            <a:off x="5484240" y="1295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陈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1"/>
          <p:cNvSpPr/>
          <p:nvPr/>
        </p:nvSpPr>
        <p:spPr>
          <a:xfrm>
            <a:off x="5536800" y="47656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职能规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2"/>
          <p:cNvSpPr/>
          <p:nvPr/>
        </p:nvSpPr>
        <p:spPr>
          <a:xfrm>
            <a:off x="5484240" y="21654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主要业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3"/>
          <p:cNvSpPr/>
          <p:nvPr/>
        </p:nvSpPr>
        <p:spPr>
          <a:xfrm>
            <a:off x="5517720" y="3909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解决方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4"/>
          <p:cNvSpPr/>
          <p:nvPr/>
        </p:nvSpPr>
        <p:spPr>
          <a:xfrm>
            <a:off x="5495400" y="30225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问题描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5"/>
          <p:cNvSpPr/>
          <p:nvPr/>
        </p:nvSpPr>
        <p:spPr>
          <a:xfrm flipH="1">
            <a:off x="4298760" y="3294000"/>
            <a:ext cx="747720" cy="46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10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日期占位符 5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5542B-37F4-46FE-89A3-0BEDE4C014C7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04:47:55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2"/>
          <p:cNvSpPr/>
          <p:nvPr/>
        </p:nvSpPr>
        <p:spPr>
          <a:xfrm>
            <a:off x="2116080" y="2606760"/>
            <a:ext cx="8113680" cy="170820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3"/>
          <p:cNvSpPr/>
          <p:nvPr/>
        </p:nvSpPr>
        <p:spPr>
          <a:xfrm flipV="1">
            <a:off x="2327400" y="4297320"/>
            <a:ext cx="468360" cy="393840"/>
          </a:xfrm>
          <a:prstGeom prst="triangle">
            <a:avLst>
              <a:gd name="adj" fmla="val 50000"/>
            </a:avLst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4"/>
          <p:cNvSpPr/>
          <p:nvPr/>
        </p:nvSpPr>
        <p:spPr>
          <a:xfrm flipV="1">
            <a:off x="6064200" y="4304520"/>
            <a:ext cx="468360" cy="392040"/>
          </a:xfrm>
          <a:prstGeom prst="triangle">
            <a:avLst>
              <a:gd name="adj" fmla="val 50000"/>
            </a:avLst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5"/>
          <p:cNvSpPr/>
          <p:nvPr/>
        </p:nvSpPr>
        <p:spPr>
          <a:xfrm flipV="1">
            <a:off x="8739360" y="4273560"/>
            <a:ext cx="468000" cy="393840"/>
          </a:xfrm>
          <a:prstGeom prst="triangle">
            <a:avLst>
              <a:gd name="adj" fmla="val 50000"/>
            </a:avLst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文本框 17"/>
          <p:cNvSpPr/>
          <p:nvPr/>
        </p:nvSpPr>
        <p:spPr>
          <a:xfrm>
            <a:off x="399960" y="3322800"/>
            <a:ext cx="1274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.08.11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7"/>
          <p:cNvGrpSpPr/>
          <p:nvPr/>
        </p:nvGrpSpPr>
        <p:grpSpPr>
          <a:xfrm>
            <a:off x="4522680" y="2809440"/>
            <a:ext cx="1405080" cy="1405080"/>
            <a:chOff x="4522680" y="2809440"/>
            <a:chExt cx="1405080" cy="1405080"/>
          </a:xfrm>
        </p:grpSpPr>
        <p:sp>
          <p:nvSpPr>
            <p:cNvPr id="304" name="Oval 8"/>
            <p:cNvSpPr/>
            <p:nvPr/>
          </p:nvSpPr>
          <p:spPr>
            <a:xfrm flipV="1">
              <a:off x="4522680" y="2809080"/>
              <a:ext cx="1405080" cy="1405080"/>
            </a:xfrm>
            <a:prstGeom prst="ellipse">
              <a:avLst/>
            </a:prstGeom>
            <a:solidFill>
              <a:srgbClr val="d9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5" name="中国 1026"/>
            <p:cNvGrpSpPr/>
            <p:nvPr/>
          </p:nvGrpSpPr>
          <p:grpSpPr>
            <a:xfrm>
              <a:off x="4591800" y="3012840"/>
              <a:ext cx="1133280" cy="1133280"/>
              <a:chOff x="4591800" y="3012840"/>
              <a:chExt cx="1133280" cy="1133280"/>
            </a:xfrm>
          </p:grpSpPr>
          <p:sp>
            <p:nvSpPr>
              <p:cNvPr id="306" name="Freeform 10"/>
              <p:cNvSpPr/>
              <p:nvPr/>
            </p:nvSpPr>
            <p:spPr>
              <a:xfrm>
                <a:off x="5067720" y="3025440"/>
                <a:ext cx="496800" cy="512640"/>
              </a:xfrm>
              <a:custGeom>
                <a:avLst/>
                <a:gdLst/>
                <a:ahLst/>
                <a:rect l="l" t="t" r="r" b="b"/>
                <a:pathLst>
                  <a:path w="1428" h="1218">
                    <a:moveTo>
                      <a:pt x="1398" y="128"/>
                    </a:moveTo>
                    <a:lnTo>
                      <a:pt x="1394" y="112"/>
                    </a:lnTo>
                    <a:lnTo>
                      <a:pt x="1378" y="86"/>
                    </a:lnTo>
                    <a:lnTo>
                      <a:pt x="1366" y="80"/>
                    </a:lnTo>
                    <a:lnTo>
                      <a:pt x="1354" y="86"/>
                    </a:lnTo>
                    <a:lnTo>
                      <a:pt x="1348" y="100"/>
                    </a:lnTo>
                    <a:lnTo>
                      <a:pt x="1346" y="102"/>
                    </a:lnTo>
                    <a:lnTo>
                      <a:pt x="1344" y="102"/>
                    </a:lnTo>
                    <a:lnTo>
                      <a:pt x="1322" y="106"/>
                    </a:lnTo>
                    <a:lnTo>
                      <a:pt x="1318" y="108"/>
                    </a:lnTo>
                    <a:lnTo>
                      <a:pt x="1316" y="112"/>
                    </a:lnTo>
                    <a:lnTo>
                      <a:pt x="1310" y="116"/>
                    </a:lnTo>
                    <a:lnTo>
                      <a:pt x="1298" y="126"/>
                    </a:lnTo>
                    <a:lnTo>
                      <a:pt x="1296" y="128"/>
                    </a:lnTo>
                    <a:lnTo>
                      <a:pt x="1286" y="130"/>
                    </a:lnTo>
                    <a:lnTo>
                      <a:pt x="1276" y="126"/>
                    </a:lnTo>
                    <a:lnTo>
                      <a:pt x="1264" y="118"/>
                    </a:lnTo>
                    <a:lnTo>
                      <a:pt x="1262" y="116"/>
                    </a:lnTo>
                    <a:lnTo>
                      <a:pt x="1244" y="96"/>
                    </a:lnTo>
                    <a:lnTo>
                      <a:pt x="1240" y="90"/>
                    </a:lnTo>
                    <a:lnTo>
                      <a:pt x="1238" y="84"/>
                    </a:lnTo>
                    <a:lnTo>
                      <a:pt x="1238" y="62"/>
                    </a:lnTo>
                    <a:lnTo>
                      <a:pt x="1238" y="60"/>
                    </a:lnTo>
                    <a:lnTo>
                      <a:pt x="1242" y="56"/>
                    </a:lnTo>
                    <a:lnTo>
                      <a:pt x="1218" y="48"/>
                    </a:lnTo>
                    <a:lnTo>
                      <a:pt x="1218" y="56"/>
                    </a:lnTo>
                    <a:lnTo>
                      <a:pt x="1216" y="60"/>
                    </a:lnTo>
                    <a:lnTo>
                      <a:pt x="1210" y="64"/>
                    </a:lnTo>
                    <a:lnTo>
                      <a:pt x="1202" y="68"/>
                    </a:lnTo>
                    <a:lnTo>
                      <a:pt x="1200" y="68"/>
                    </a:lnTo>
                    <a:lnTo>
                      <a:pt x="1200" y="66"/>
                    </a:lnTo>
                    <a:lnTo>
                      <a:pt x="1188" y="64"/>
                    </a:lnTo>
                    <a:lnTo>
                      <a:pt x="1190" y="72"/>
                    </a:lnTo>
                    <a:lnTo>
                      <a:pt x="1170" y="60"/>
                    </a:lnTo>
                    <a:lnTo>
                      <a:pt x="1168" y="60"/>
                    </a:lnTo>
                    <a:lnTo>
                      <a:pt x="1168" y="58"/>
                    </a:lnTo>
                    <a:lnTo>
                      <a:pt x="1164" y="46"/>
                    </a:lnTo>
                    <a:lnTo>
                      <a:pt x="1162" y="32"/>
                    </a:lnTo>
                    <a:lnTo>
                      <a:pt x="1164" y="22"/>
                    </a:lnTo>
                    <a:lnTo>
                      <a:pt x="1166" y="16"/>
                    </a:lnTo>
                    <a:lnTo>
                      <a:pt x="1172" y="6"/>
                    </a:lnTo>
                    <a:lnTo>
                      <a:pt x="1170" y="0"/>
                    </a:lnTo>
                    <a:lnTo>
                      <a:pt x="1150" y="2"/>
                    </a:lnTo>
                    <a:lnTo>
                      <a:pt x="1142" y="4"/>
                    </a:lnTo>
                    <a:lnTo>
                      <a:pt x="1136" y="8"/>
                    </a:lnTo>
                    <a:lnTo>
                      <a:pt x="1132" y="14"/>
                    </a:lnTo>
                    <a:lnTo>
                      <a:pt x="1128" y="22"/>
                    </a:lnTo>
                    <a:lnTo>
                      <a:pt x="1116" y="40"/>
                    </a:lnTo>
                    <a:lnTo>
                      <a:pt x="1128" y="40"/>
                    </a:lnTo>
                    <a:lnTo>
                      <a:pt x="1130" y="40"/>
                    </a:lnTo>
                    <a:lnTo>
                      <a:pt x="1140" y="44"/>
                    </a:lnTo>
                    <a:lnTo>
                      <a:pt x="1142" y="44"/>
                    </a:lnTo>
                    <a:lnTo>
                      <a:pt x="1142" y="46"/>
                    </a:lnTo>
                    <a:lnTo>
                      <a:pt x="1142" y="48"/>
                    </a:lnTo>
                    <a:lnTo>
                      <a:pt x="1144" y="64"/>
                    </a:lnTo>
                    <a:lnTo>
                      <a:pt x="1150" y="80"/>
                    </a:lnTo>
                    <a:lnTo>
                      <a:pt x="1150" y="82"/>
                    </a:lnTo>
                    <a:lnTo>
                      <a:pt x="1150" y="84"/>
                    </a:lnTo>
                    <a:lnTo>
                      <a:pt x="1122" y="136"/>
                    </a:lnTo>
                    <a:lnTo>
                      <a:pt x="1120" y="142"/>
                    </a:lnTo>
                    <a:lnTo>
                      <a:pt x="1118" y="154"/>
                    </a:lnTo>
                    <a:lnTo>
                      <a:pt x="1114" y="190"/>
                    </a:lnTo>
                    <a:lnTo>
                      <a:pt x="1114" y="192"/>
                    </a:lnTo>
                    <a:lnTo>
                      <a:pt x="1104" y="212"/>
                    </a:lnTo>
                    <a:lnTo>
                      <a:pt x="1110" y="220"/>
                    </a:lnTo>
                    <a:lnTo>
                      <a:pt x="1110" y="222"/>
                    </a:lnTo>
                    <a:lnTo>
                      <a:pt x="1110" y="236"/>
                    </a:lnTo>
                    <a:lnTo>
                      <a:pt x="1110" y="242"/>
                    </a:lnTo>
                    <a:lnTo>
                      <a:pt x="1108" y="244"/>
                    </a:lnTo>
                    <a:lnTo>
                      <a:pt x="1106" y="244"/>
                    </a:lnTo>
                    <a:lnTo>
                      <a:pt x="1098" y="250"/>
                    </a:lnTo>
                    <a:lnTo>
                      <a:pt x="1088" y="262"/>
                    </a:lnTo>
                    <a:lnTo>
                      <a:pt x="1052" y="302"/>
                    </a:lnTo>
                    <a:lnTo>
                      <a:pt x="1050" y="304"/>
                    </a:lnTo>
                    <a:lnTo>
                      <a:pt x="1048" y="304"/>
                    </a:lnTo>
                    <a:lnTo>
                      <a:pt x="1046" y="302"/>
                    </a:lnTo>
                    <a:lnTo>
                      <a:pt x="1030" y="292"/>
                    </a:lnTo>
                    <a:lnTo>
                      <a:pt x="1020" y="282"/>
                    </a:lnTo>
                    <a:lnTo>
                      <a:pt x="1014" y="280"/>
                    </a:lnTo>
                    <a:lnTo>
                      <a:pt x="1008" y="278"/>
                    </a:lnTo>
                    <a:lnTo>
                      <a:pt x="982" y="276"/>
                    </a:lnTo>
                    <a:lnTo>
                      <a:pt x="982" y="314"/>
                    </a:lnTo>
                    <a:lnTo>
                      <a:pt x="966" y="384"/>
                    </a:lnTo>
                    <a:lnTo>
                      <a:pt x="964" y="392"/>
                    </a:lnTo>
                    <a:lnTo>
                      <a:pt x="964" y="402"/>
                    </a:lnTo>
                    <a:lnTo>
                      <a:pt x="962" y="432"/>
                    </a:lnTo>
                    <a:lnTo>
                      <a:pt x="968" y="440"/>
                    </a:lnTo>
                    <a:lnTo>
                      <a:pt x="974" y="430"/>
                    </a:lnTo>
                    <a:lnTo>
                      <a:pt x="974" y="428"/>
                    </a:lnTo>
                    <a:lnTo>
                      <a:pt x="994" y="420"/>
                    </a:lnTo>
                    <a:lnTo>
                      <a:pt x="1044" y="428"/>
                    </a:lnTo>
                    <a:lnTo>
                      <a:pt x="1050" y="420"/>
                    </a:lnTo>
                    <a:lnTo>
                      <a:pt x="1058" y="408"/>
                    </a:lnTo>
                    <a:lnTo>
                      <a:pt x="1060" y="406"/>
                    </a:lnTo>
                    <a:lnTo>
                      <a:pt x="1080" y="402"/>
                    </a:lnTo>
                    <a:lnTo>
                      <a:pt x="1106" y="400"/>
                    </a:lnTo>
                    <a:lnTo>
                      <a:pt x="1112" y="404"/>
                    </a:lnTo>
                    <a:lnTo>
                      <a:pt x="1120" y="410"/>
                    </a:lnTo>
                    <a:lnTo>
                      <a:pt x="1136" y="428"/>
                    </a:lnTo>
                    <a:lnTo>
                      <a:pt x="1158" y="440"/>
                    </a:lnTo>
                    <a:lnTo>
                      <a:pt x="1174" y="452"/>
                    </a:lnTo>
                    <a:lnTo>
                      <a:pt x="1184" y="462"/>
                    </a:lnTo>
                    <a:lnTo>
                      <a:pt x="1190" y="472"/>
                    </a:lnTo>
                    <a:lnTo>
                      <a:pt x="1192" y="480"/>
                    </a:lnTo>
                    <a:lnTo>
                      <a:pt x="1190" y="488"/>
                    </a:lnTo>
                    <a:lnTo>
                      <a:pt x="1186" y="492"/>
                    </a:lnTo>
                    <a:lnTo>
                      <a:pt x="1184" y="496"/>
                    </a:lnTo>
                    <a:lnTo>
                      <a:pt x="1174" y="498"/>
                    </a:lnTo>
                    <a:lnTo>
                      <a:pt x="1172" y="498"/>
                    </a:lnTo>
                    <a:lnTo>
                      <a:pt x="1126" y="498"/>
                    </a:lnTo>
                    <a:lnTo>
                      <a:pt x="1112" y="498"/>
                    </a:lnTo>
                    <a:lnTo>
                      <a:pt x="1102" y="500"/>
                    </a:lnTo>
                    <a:lnTo>
                      <a:pt x="1084" y="512"/>
                    </a:lnTo>
                    <a:lnTo>
                      <a:pt x="1054" y="532"/>
                    </a:lnTo>
                    <a:lnTo>
                      <a:pt x="1042" y="536"/>
                    </a:lnTo>
                    <a:lnTo>
                      <a:pt x="1034" y="538"/>
                    </a:lnTo>
                    <a:lnTo>
                      <a:pt x="1018" y="540"/>
                    </a:lnTo>
                    <a:lnTo>
                      <a:pt x="1010" y="580"/>
                    </a:lnTo>
                    <a:lnTo>
                      <a:pt x="1004" y="596"/>
                    </a:lnTo>
                    <a:lnTo>
                      <a:pt x="1000" y="602"/>
                    </a:lnTo>
                    <a:lnTo>
                      <a:pt x="996" y="606"/>
                    </a:lnTo>
                    <a:lnTo>
                      <a:pt x="990" y="610"/>
                    </a:lnTo>
                    <a:lnTo>
                      <a:pt x="984" y="614"/>
                    </a:lnTo>
                    <a:lnTo>
                      <a:pt x="966" y="620"/>
                    </a:lnTo>
                    <a:lnTo>
                      <a:pt x="956" y="622"/>
                    </a:lnTo>
                    <a:lnTo>
                      <a:pt x="946" y="626"/>
                    </a:lnTo>
                    <a:lnTo>
                      <a:pt x="926" y="634"/>
                    </a:lnTo>
                    <a:lnTo>
                      <a:pt x="914" y="664"/>
                    </a:lnTo>
                    <a:lnTo>
                      <a:pt x="912" y="664"/>
                    </a:lnTo>
                    <a:lnTo>
                      <a:pt x="910" y="664"/>
                    </a:lnTo>
                    <a:lnTo>
                      <a:pt x="874" y="680"/>
                    </a:lnTo>
                    <a:lnTo>
                      <a:pt x="872" y="680"/>
                    </a:lnTo>
                    <a:lnTo>
                      <a:pt x="854" y="676"/>
                    </a:lnTo>
                    <a:lnTo>
                      <a:pt x="834" y="670"/>
                    </a:lnTo>
                    <a:lnTo>
                      <a:pt x="820" y="664"/>
                    </a:lnTo>
                    <a:lnTo>
                      <a:pt x="814" y="662"/>
                    </a:lnTo>
                    <a:lnTo>
                      <a:pt x="806" y="660"/>
                    </a:lnTo>
                    <a:lnTo>
                      <a:pt x="798" y="660"/>
                    </a:lnTo>
                    <a:lnTo>
                      <a:pt x="790" y="662"/>
                    </a:lnTo>
                    <a:lnTo>
                      <a:pt x="784" y="672"/>
                    </a:lnTo>
                    <a:lnTo>
                      <a:pt x="778" y="684"/>
                    </a:lnTo>
                    <a:lnTo>
                      <a:pt x="776" y="698"/>
                    </a:lnTo>
                    <a:lnTo>
                      <a:pt x="776" y="710"/>
                    </a:lnTo>
                    <a:lnTo>
                      <a:pt x="778" y="722"/>
                    </a:lnTo>
                    <a:lnTo>
                      <a:pt x="782" y="728"/>
                    </a:lnTo>
                    <a:lnTo>
                      <a:pt x="786" y="728"/>
                    </a:lnTo>
                    <a:lnTo>
                      <a:pt x="794" y="724"/>
                    </a:lnTo>
                    <a:lnTo>
                      <a:pt x="794" y="748"/>
                    </a:lnTo>
                    <a:lnTo>
                      <a:pt x="794" y="756"/>
                    </a:lnTo>
                    <a:lnTo>
                      <a:pt x="792" y="760"/>
                    </a:lnTo>
                    <a:lnTo>
                      <a:pt x="790" y="764"/>
                    </a:lnTo>
                    <a:lnTo>
                      <a:pt x="786" y="768"/>
                    </a:lnTo>
                    <a:lnTo>
                      <a:pt x="776" y="774"/>
                    </a:lnTo>
                    <a:lnTo>
                      <a:pt x="764" y="778"/>
                    </a:lnTo>
                    <a:lnTo>
                      <a:pt x="758" y="780"/>
                    </a:lnTo>
                    <a:lnTo>
                      <a:pt x="750" y="786"/>
                    </a:lnTo>
                    <a:lnTo>
                      <a:pt x="738" y="798"/>
                    </a:lnTo>
                    <a:lnTo>
                      <a:pt x="724" y="818"/>
                    </a:lnTo>
                    <a:lnTo>
                      <a:pt x="708" y="844"/>
                    </a:lnTo>
                    <a:lnTo>
                      <a:pt x="706" y="844"/>
                    </a:lnTo>
                    <a:lnTo>
                      <a:pt x="682" y="860"/>
                    </a:lnTo>
                    <a:lnTo>
                      <a:pt x="688" y="860"/>
                    </a:lnTo>
                    <a:lnTo>
                      <a:pt x="688" y="862"/>
                    </a:lnTo>
                    <a:lnTo>
                      <a:pt x="688" y="864"/>
                    </a:lnTo>
                    <a:lnTo>
                      <a:pt x="686" y="868"/>
                    </a:lnTo>
                    <a:lnTo>
                      <a:pt x="678" y="868"/>
                    </a:lnTo>
                    <a:lnTo>
                      <a:pt x="610" y="868"/>
                    </a:lnTo>
                    <a:lnTo>
                      <a:pt x="584" y="868"/>
                    </a:lnTo>
                    <a:lnTo>
                      <a:pt x="558" y="870"/>
                    </a:lnTo>
                    <a:lnTo>
                      <a:pt x="532" y="874"/>
                    </a:lnTo>
                    <a:lnTo>
                      <a:pt x="510" y="882"/>
                    </a:lnTo>
                    <a:lnTo>
                      <a:pt x="488" y="890"/>
                    </a:lnTo>
                    <a:lnTo>
                      <a:pt x="468" y="900"/>
                    </a:lnTo>
                    <a:lnTo>
                      <a:pt x="450" y="914"/>
                    </a:lnTo>
                    <a:lnTo>
                      <a:pt x="434" y="928"/>
                    </a:lnTo>
                    <a:lnTo>
                      <a:pt x="432" y="930"/>
                    </a:lnTo>
                    <a:lnTo>
                      <a:pt x="430" y="930"/>
                    </a:lnTo>
                    <a:lnTo>
                      <a:pt x="402" y="934"/>
                    </a:lnTo>
                    <a:lnTo>
                      <a:pt x="400" y="934"/>
                    </a:lnTo>
                    <a:lnTo>
                      <a:pt x="398" y="934"/>
                    </a:lnTo>
                    <a:lnTo>
                      <a:pt x="390" y="916"/>
                    </a:lnTo>
                    <a:lnTo>
                      <a:pt x="362" y="922"/>
                    </a:lnTo>
                    <a:lnTo>
                      <a:pt x="350" y="922"/>
                    </a:lnTo>
                    <a:lnTo>
                      <a:pt x="336" y="920"/>
                    </a:lnTo>
                    <a:lnTo>
                      <a:pt x="320" y="916"/>
                    </a:lnTo>
                    <a:lnTo>
                      <a:pt x="304" y="908"/>
                    </a:lnTo>
                    <a:lnTo>
                      <a:pt x="290" y="900"/>
                    </a:lnTo>
                    <a:lnTo>
                      <a:pt x="274" y="892"/>
                    </a:lnTo>
                    <a:lnTo>
                      <a:pt x="246" y="872"/>
                    </a:lnTo>
                    <a:lnTo>
                      <a:pt x="238" y="866"/>
                    </a:lnTo>
                    <a:lnTo>
                      <a:pt x="226" y="860"/>
                    </a:lnTo>
                    <a:lnTo>
                      <a:pt x="214" y="856"/>
                    </a:lnTo>
                    <a:lnTo>
                      <a:pt x="202" y="854"/>
                    </a:lnTo>
                    <a:lnTo>
                      <a:pt x="176" y="852"/>
                    </a:lnTo>
                    <a:lnTo>
                      <a:pt x="148" y="856"/>
                    </a:lnTo>
                    <a:lnTo>
                      <a:pt x="116" y="858"/>
                    </a:lnTo>
                    <a:lnTo>
                      <a:pt x="86" y="856"/>
                    </a:lnTo>
                    <a:lnTo>
                      <a:pt x="68" y="854"/>
                    </a:lnTo>
                    <a:lnTo>
                      <a:pt x="48" y="852"/>
                    </a:lnTo>
                    <a:lnTo>
                      <a:pt x="2" y="838"/>
                    </a:lnTo>
                    <a:lnTo>
                      <a:pt x="0" y="844"/>
                    </a:lnTo>
                    <a:lnTo>
                      <a:pt x="2" y="844"/>
                    </a:lnTo>
                    <a:lnTo>
                      <a:pt x="2" y="852"/>
                    </a:lnTo>
                    <a:lnTo>
                      <a:pt x="10" y="868"/>
                    </a:lnTo>
                    <a:lnTo>
                      <a:pt x="26" y="888"/>
                    </a:lnTo>
                    <a:lnTo>
                      <a:pt x="28" y="892"/>
                    </a:lnTo>
                    <a:lnTo>
                      <a:pt x="24" y="906"/>
                    </a:lnTo>
                    <a:lnTo>
                      <a:pt x="24" y="908"/>
                    </a:lnTo>
                    <a:lnTo>
                      <a:pt x="14" y="920"/>
                    </a:lnTo>
                    <a:lnTo>
                      <a:pt x="24" y="930"/>
                    </a:lnTo>
                    <a:lnTo>
                      <a:pt x="30" y="936"/>
                    </a:lnTo>
                    <a:lnTo>
                      <a:pt x="30" y="940"/>
                    </a:lnTo>
                    <a:lnTo>
                      <a:pt x="34" y="956"/>
                    </a:lnTo>
                    <a:lnTo>
                      <a:pt x="46" y="968"/>
                    </a:lnTo>
                    <a:lnTo>
                      <a:pt x="46" y="970"/>
                    </a:lnTo>
                    <a:lnTo>
                      <a:pt x="46" y="980"/>
                    </a:lnTo>
                    <a:lnTo>
                      <a:pt x="46" y="988"/>
                    </a:lnTo>
                    <a:lnTo>
                      <a:pt x="54" y="994"/>
                    </a:lnTo>
                    <a:lnTo>
                      <a:pt x="58" y="992"/>
                    </a:lnTo>
                    <a:lnTo>
                      <a:pt x="60" y="990"/>
                    </a:lnTo>
                    <a:lnTo>
                      <a:pt x="64" y="982"/>
                    </a:lnTo>
                    <a:lnTo>
                      <a:pt x="72" y="980"/>
                    </a:lnTo>
                    <a:lnTo>
                      <a:pt x="78" y="976"/>
                    </a:lnTo>
                    <a:lnTo>
                      <a:pt x="120" y="972"/>
                    </a:lnTo>
                    <a:lnTo>
                      <a:pt x="138" y="966"/>
                    </a:lnTo>
                    <a:lnTo>
                      <a:pt x="142" y="964"/>
                    </a:lnTo>
                    <a:lnTo>
                      <a:pt x="150" y="984"/>
                    </a:lnTo>
                    <a:lnTo>
                      <a:pt x="150" y="990"/>
                    </a:lnTo>
                    <a:lnTo>
                      <a:pt x="148" y="996"/>
                    </a:lnTo>
                    <a:lnTo>
                      <a:pt x="126" y="1028"/>
                    </a:lnTo>
                    <a:lnTo>
                      <a:pt x="126" y="1034"/>
                    </a:lnTo>
                    <a:lnTo>
                      <a:pt x="138" y="1044"/>
                    </a:lnTo>
                    <a:lnTo>
                      <a:pt x="148" y="1052"/>
                    </a:lnTo>
                    <a:lnTo>
                      <a:pt x="156" y="1060"/>
                    </a:lnTo>
                    <a:lnTo>
                      <a:pt x="162" y="1064"/>
                    </a:lnTo>
                    <a:lnTo>
                      <a:pt x="170" y="1068"/>
                    </a:lnTo>
                    <a:lnTo>
                      <a:pt x="178" y="1076"/>
                    </a:lnTo>
                    <a:lnTo>
                      <a:pt x="178" y="1078"/>
                    </a:lnTo>
                    <a:lnTo>
                      <a:pt x="186" y="1082"/>
                    </a:lnTo>
                    <a:lnTo>
                      <a:pt x="190" y="1082"/>
                    </a:lnTo>
                    <a:lnTo>
                      <a:pt x="192" y="1092"/>
                    </a:lnTo>
                    <a:lnTo>
                      <a:pt x="194" y="1100"/>
                    </a:lnTo>
                    <a:lnTo>
                      <a:pt x="196" y="1112"/>
                    </a:lnTo>
                    <a:lnTo>
                      <a:pt x="216" y="1116"/>
                    </a:lnTo>
                    <a:lnTo>
                      <a:pt x="218" y="1116"/>
                    </a:lnTo>
                    <a:lnTo>
                      <a:pt x="218" y="1118"/>
                    </a:lnTo>
                    <a:lnTo>
                      <a:pt x="220" y="1120"/>
                    </a:lnTo>
                    <a:lnTo>
                      <a:pt x="226" y="1130"/>
                    </a:lnTo>
                    <a:lnTo>
                      <a:pt x="242" y="1136"/>
                    </a:lnTo>
                    <a:lnTo>
                      <a:pt x="252" y="1130"/>
                    </a:lnTo>
                    <a:lnTo>
                      <a:pt x="250" y="1124"/>
                    </a:lnTo>
                    <a:lnTo>
                      <a:pt x="240" y="1114"/>
                    </a:lnTo>
                    <a:lnTo>
                      <a:pt x="242" y="1112"/>
                    </a:lnTo>
                    <a:lnTo>
                      <a:pt x="250" y="1094"/>
                    </a:lnTo>
                    <a:lnTo>
                      <a:pt x="270" y="1094"/>
                    </a:lnTo>
                    <a:lnTo>
                      <a:pt x="270" y="1096"/>
                    </a:lnTo>
                    <a:lnTo>
                      <a:pt x="298" y="1104"/>
                    </a:lnTo>
                    <a:lnTo>
                      <a:pt x="314" y="1102"/>
                    </a:lnTo>
                    <a:lnTo>
                      <a:pt x="326" y="1092"/>
                    </a:lnTo>
                    <a:lnTo>
                      <a:pt x="334" y="1080"/>
                    </a:lnTo>
                    <a:lnTo>
                      <a:pt x="342" y="1074"/>
                    </a:lnTo>
                    <a:lnTo>
                      <a:pt x="348" y="1070"/>
                    </a:lnTo>
                    <a:lnTo>
                      <a:pt x="354" y="1072"/>
                    </a:lnTo>
                    <a:lnTo>
                      <a:pt x="360" y="1070"/>
                    </a:lnTo>
                    <a:lnTo>
                      <a:pt x="368" y="1072"/>
                    </a:lnTo>
                    <a:lnTo>
                      <a:pt x="374" y="1072"/>
                    </a:lnTo>
                    <a:lnTo>
                      <a:pt x="374" y="1076"/>
                    </a:lnTo>
                    <a:lnTo>
                      <a:pt x="378" y="1084"/>
                    </a:lnTo>
                    <a:lnTo>
                      <a:pt x="382" y="1096"/>
                    </a:lnTo>
                    <a:lnTo>
                      <a:pt x="386" y="1108"/>
                    </a:lnTo>
                    <a:lnTo>
                      <a:pt x="386" y="1110"/>
                    </a:lnTo>
                    <a:lnTo>
                      <a:pt x="382" y="1124"/>
                    </a:lnTo>
                    <a:lnTo>
                      <a:pt x="368" y="1140"/>
                    </a:lnTo>
                    <a:lnTo>
                      <a:pt x="366" y="1142"/>
                    </a:lnTo>
                    <a:lnTo>
                      <a:pt x="338" y="1154"/>
                    </a:lnTo>
                    <a:lnTo>
                      <a:pt x="334" y="1162"/>
                    </a:lnTo>
                    <a:lnTo>
                      <a:pt x="330" y="1186"/>
                    </a:lnTo>
                    <a:lnTo>
                      <a:pt x="332" y="1196"/>
                    </a:lnTo>
                    <a:lnTo>
                      <a:pt x="340" y="1208"/>
                    </a:lnTo>
                    <a:lnTo>
                      <a:pt x="342" y="1212"/>
                    </a:lnTo>
                    <a:lnTo>
                      <a:pt x="352" y="1218"/>
                    </a:lnTo>
                    <a:lnTo>
                      <a:pt x="386" y="1218"/>
                    </a:lnTo>
                    <a:lnTo>
                      <a:pt x="414" y="1214"/>
                    </a:lnTo>
                    <a:lnTo>
                      <a:pt x="418" y="1210"/>
                    </a:lnTo>
                    <a:lnTo>
                      <a:pt x="424" y="1204"/>
                    </a:lnTo>
                    <a:lnTo>
                      <a:pt x="428" y="1204"/>
                    </a:lnTo>
                    <a:lnTo>
                      <a:pt x="448" y="1206"/>
                    </a:lnTo>
                    <a:lnTo>
                      <a:pt x="450" y="1204"/>
                    </a:lnTo>
                    <a:lnTo>
                      <a:pt x="448" y="1196"/>
                    </a:lnTo>
                    <a:lnTo>
                      <a:pt x="450" y="1188"/>
                    </a:lnTo>
                    <a:lnTo>
                      <a:pt x="458" y="1174"/>
                    </a:lnTo>
                    <a:lnTo>
                      <a:pt x="458" y="1148"/>
                    </a:lnTo>
                    <a:lnTo>
                      <a:pt x="474" y="1106"/>
                    </a:lnTo>
                    <a:lnTo>
                      <a:pt x="474" y="1104"/>
                    </a:lnTo>
                    <a:lnTo>
                      <a:pt x="500" y="1084"/>
                    </a:lnTo>
                    <a:lnTo>
                      <a:pt x="502" y="1082"/>
                    </a:lnTo>
                    <a:lnTo>
                      <a:pt x="522" y="1092"/>
                    </a:lnTo>
                    <a:lnTo>
                      <a:pt x="536" y="1102"/>
                    </a:lnTo>
                    <a:lnTo>
                      <a:pt x="538" y="1108"/>
                    </a:lnTo>
                    <a:lnTo>
                      <a:pt x="540" y="1110"/>
                    </a:lnTo>
                    <a:lnTo>
                      <a:pt x="538" y="1128"/>
                    </a:lnTo>
                    <a:lnTo>
                      <a:pt x="530" y="1140"/>
                    </a:lnTo>
                    <a:lnTo>
                      <a:pt x="526" y="1156"/>
                    </a:lnTo>
                    <a:lnTo>
                      <a:pt x="526" y="1172"/>
                    </a:lnTo>
                    <a:lnTo>
                      <a:pt x="530" y="1180"/>
                    </a:lnTo>
                    <a:lnTo>
                      <a:pt x="538" y="1180"/>
                    </a:lnTo>
                    <a:lnTo>
                      <a:pt x="540" y="1180"/>
                    </a:lnTo>
                    <a:lnTo>
                      <a:pt x="552" y="1180"/>
                    </a:lnTo>
                    <a:lnTo>
                      <a:pt x="556" y="1182"/>
                    </a:lnTo>
                    <a:lnTo>
                      <a:pt x="560" y="1186"/>
                    </a:lnTo>
                    <a:lnTo>
                      <a:pt x="566" y="1196"/>
                    </a:lnTo>
                    <a:lnTo>
                      <a:pt x="572" y="1200"/>
                    </a:lnTo>
                    <a:lnTo>
                      <a:pt x="574" y="1200"/>
                    </a:lnTo>
                    <a:lnTo>
                      <a:pt x="602" y="1212"/>
                    </a:lnTo>
                    <a:lnTo>
                      <a:pt x="614" y="1216"/>
                    </a:lnTo>
                    <a:lnTo>
                      <a:pt x="630" y="1214"/>
                    </a:lnTo>
                    <a:lnTo>
                      <a:pt x="638" y="1204"/>
                    </a:lnTo>
                    <a:lnTo>
                      <a:pt x="646" y="1164"/>
                    </a:lnTo>
                    <a:lnTo>
                      <a:pt x="648" y="1144"/>
                    </a:lnTo>
                    <a:lnTo>
                      <a:pt x="648" y="1142"/>
                    </a:lnTo>
                    <a:lnTo>
                      <a:pt x="650" y="1140"/>
                    </a:lnTo>
                    <a:lnTo>
                      <a:pt x="666" y="1128"/>
                    </a:lnTo>
                    <a:lnTo>
                      <a:pt x="674" y="1116"/>
                    </a:lnTo>
                    <a:lnTo>
                      <a:pt x="690" y="1108"/>
                    </a:lnTo>
                    <a:lnTo>
                      <a:pt x="700" y="1102"/>
                    </a:lnTo>
                    <a:lnTo>
                      <a:pt x="712" y="1098"/>
                    </a:lnTo>
                    <a:lnTo>
                      <a:pt x="706" y="1074"/>
                    </a:lnTo>
                    <a:lnTo>
                      <a:pt x="734" y="1076"/>
                    </a:lnTo>
                    <a:lnTo>
                      <a:pt x="734" y="1078"/>
                    </a:lnTo>
                    <a:lnTo>
                      <a:pt x="748" y="1084"/>
                    </a:lnTo>
                    <a:lnTo>
                      <a:pt x="748" y="1082"/>
                    </a:lnTo>
                    <a:lnTo>
                      <a:pt x="752" y="1068"/>
                    </a:lnTo>
                    <a:lnTo>
                      <a:pt x="752" y="1064"/>
                    </a:lnTo>
                    <a:lnTo>
                      <a:pt x="754" y="1066"/>
                    </a:lnTo>
                    <a:lnTo>
                      <a:pt x="756" y="1066"/>
                    </a:lnTo>
                    <a:lnTo>
                      <a:pt x="768" y="1068"/>
                    </a:lnTo>
                    <a:lnTo>
                      <a:pt x="774" y="1068"/>
                    </a:lnTo>
                    <a:lnTo>
                      <a:pt x="786" y="1056"/>
                    </a:lnTo>
                    <a:lnTo>
                      <a:pt x="788" y="1056"/>
                    </a:lnTo>
                    <a:lnTo>
                      <a:pt x="788" y="1054"/>
                    </a:lnTo>
                    <a:lnTo>
                      <a:pt x="790" y="1054"/>
                    </a:lnTo>
                    <a:lnTo>
                      <a:pt x="806" y="1052"/>
                    </a:lnTo>
                    <a:lnTo>
                      <a:pt x="818" y="1038"/>
                    </a:lnTo>
                    <a:lnTo>
                      <a:pt x="826" y="1028"/>
                    </a:lnTo>
                    <a:lnTo>
                      <a:pt x="826" y="1016"/>
                    </a:lnTo>
                    <a:lnTo>
                      <a:pt x="828" y="1010"/>
                    </a:lnTo>
                    <a:lnTo>
                      <a:pt x="834" y="1004"/>
                    </a:lnTo>
                    <a:lnTo>
                      <a:pt x="836" y="1004"/>
                    </a:lnTo>
                    <a:lnTo>
                      <a:pt x="850" y="1006"/>
                    </a:lnTo>
                    <a:lnTo>
                      <a:pt x="858" y="1002"/>
                    </a:lnTo>
                    <a:lnTo>
                      <a:pt x="860" y="992"/>
                    </a:lnTo>
                    <a:lnTo>
                      <a:pt x="876" y="986"/>
                    </a:lnTo>
                    <a:lnTo>
                      <a:pt x="878" y="986"/>
                    </a:lnTo>
                    <a:lnTo>
                      <a:pt x="898" y="988"/>
                    </a:lnTo>
                    <a:lnTo>
                      <a:pt x="914" y="984"/>
                    </a:lnTo>
                    <a:lnTo>
                      <a:pt x="922" y="976"/>
                    </a:lnTo>
                    <a:lnTo>
                      <a:pt x="930" y="962"/>
                    </a:lnTo>
                    <a:lnTo>
                      <a:pt x="918" y="950"/>
                    </a:lnTo>
                    <a:lnTo>
                      <a:pt x="918" y="948"/>
                    </a:lnTo>
                    <a:lnTo>
                      <a:pt x="914" y="940"/>
                    </a:lnTo>
                    <a:lnTo>
                      <a:pt x="912" y="924"/>
                    </a:lnTo>
                    <a:lnTo>
                      <a:pt x="918" y="912"/>
                    </a:lnTo>
                    <a:lnTo>
                      <a:pt x="920" y="904"/>
                    </a:lnTo>
                    <a:lnTo>
                      <a:pt x="928" y="896"/>
                    </a:lnTo>
                    <a:lnTo>
                      <a:pt x="936" y="878"/>
                    </a:lnTo>
                    <a:lnTo>
                      <a:pt x="936" y="876"/>
                    </a:lnTo>
                    <a:lnTo>
                      <a:pt x="938" y="876"/>
                    </a:lnTo>
                    <a:lnTo>
                      <a:pt x="946" y="864"/>
                    </a:lnTo>
                    <a:lnTo>
                      <a:pt x="958" y="840"/>
                    </a:lnTo>
                    <a:lnTo>
                      <a:pt x="968" y="856"/>
                    </a:lnTo>
                    <a:lnTo>
                      <a:pt x="970" y="856"/>
                    </a:lnTo>
                    <a:lnTo>
                      <a:pt x="970" y="858"/>
                    </a:lnTo>
                    <a:lnTo>
                      <a:pt x="974" y="874"/>
                    </a:lnTo>
                    <a:lnTo>
                      <a:pt x="976" y="890"/>
                    </a:lnTo>
                    <a:lnTo>
                      <a:pt x="986" y="896"/>
                    </a:lnTo>
                    <a:lnTo>
                      <a:pt x="988" y="896"/>
                    </a:lnTo>
                    <a:lnTo>
                      <a:pt x="990" y="896"/>
                    </a:lnTo>
                    <a:lnTo>
                      <a:pt x="992" y="896"/>
                    </a:lnTo>
                    <a:lnTo>
                      <a:pt x="1002" y="880"/>
                    </a:lnTo>
                    <a:lnTo>
                      <a:pt x="1006" y="864"/>
                    </a:lnTo>
                    <a:lnTo>
                      <a:pt x="1010" y="864"/>
                    </a:lnTo>
                    <a:lnTo>
                      <a:pt x="1012" y="864"/>
                    </a:lnTo>
                    <a:lnTo>
                      <a:pt x="1034" y="872"/>
                    </a:lnTo>
                    <a:lnTo>
                      <a:pt x="1046" y="864"/>
                    </a:lnTo>
                    <a:lnTo>
                      <a:pt x="1048" y="864"/>
                    </a:lnTo>
                    <a:lnTo>
                      <a:pt x="1060" y="862"/>
                    </a:lnTo>
                    <a:lnTo>
                      <a:pt x="1068" y="848"/>
                    </a:lnTo>
                    <a:lnTo>
                      <a:pt x="1068" y="832"/>
                    </a:lnTo>
                    <a:lnTo>
                      <a:pt x="1074" y="806"/>
                    </a:lnTo>
                    <a:lnTo>
                      <a:pt x="1074" y="808"/>
                    </a:lnTo>
                    <a:lnTo>
                      <a:pt x="1078" y="808"/>
                    </a:lnTo>
                    <a:lnTo>
                      <a:pt x="1094" y="812"/>
                    </a:lnTo>
                    <a:lnTo>
                      <a:pt x="1102" y="796"/>
                    </a:lnTo>
                    <a:lnTo>
                      <a:pt x="1104" y="796"/>
                    </a:lnTo>
                    <a:lnTo>
                      <a:pt x="1106" y="796"/>
                    </a:lnTo>
                    <a:lnTo>
                      <a:pt x="1122" y="796"/>
                    </a:lnTo>
                    <a:lnTo>
                      <a:pt x="1124" y="796"/>
                    </a:lnTo>
                    <a:lnTo>
                      <a:pt x="1126" y="796"/>
                    </a:lnTo>
                    <a:lnTo>
                      <a:pt x="1134" y="808"/>
                    </a:lnTo>
                    <a:lnTo>
                      <a:pt x="1134" y="810"/>
                    </a:lnTo>
                    <a:lnTo>
                      <a:pt x="1134" y="812"/>
                    </a:lnTo>
                    <a:lnTo>
                      <a:pt x="1136" y="828"/>
                    </a:lnTo>
                    <a:lnTo>
                      <a:pt x="1144" y="834"/>
                    </a:lnTo>
                    <a:lnTo>
                      <a:pt x="1154" y="824"/>
                    </a:lnTo>
                    <a:lnTo>
                      <a:pt x="1158" y="828"/>
                    </a:lnTo>
                    <a:lnTo>
                      <a:pt x="1162" y="834"/>
                    </a:lnTo>
                    <a:lnTo>
                      <a:pt x="1162" y="840"/>
                    </a:lnTo>
                    <a:lnTo>
                      <a:pt x="1162" y="854"/>
                    </a:lnTo>
                    <a:lnTo>
                      <a:pt x="1158" y="868"/>
                    </a:lnTo>
                    <a:lnTo>
                      <a:pt x="1162" y="876"/>
                    </a:lnTo>
                    <a:lnTo>
                      <a:pt x="1170" y="884"/>
                    </a:lnTo>
                    <a:lnTo>
                      <a:pt x="1202" y="888"/>
                    </a:lnTo>
                    <a:lnTo>
                      <a:pt x="1204" y="890"/>
                    </a:lnTo>
                    <a:lnTo>
                      <a:pt x="1206" y="890"/>
                    </a:lnTo>
                    <a:lnTo>
                      <a:pt x="1208" y="892"/>
                    </a:lnTo>
                    <a:lnTo>
                      <a:pt x="1218" y="880"/>
                    </a:lnTo>
                    <a:lnTo>
                      <a:pt x="1226" y="872"/>
                    </a:lnTo>
                    <a:lnTo>
                      <a:pt x="1222" y="860"/>
                    </a:lnTo>
                    <a:lnTo>
                      <a:pt x="1214" y="808"/>
                    </a:lnTo>
                    <a:lnTo>
                      <a:pt x="1238" y="820"/>
                    </a:lnTo>
                    <a:lnTo>
                      <a:pt x="1250" y="832"/>
                    </a:lnTo>
                    <a:lnTo>
                      <a:pt x="1256" y="838"/>
                    </a:lnTo>
                    <a:lnTo>
                      <a:pt x="1266" y="832"/>
                    </a:lnTo>
                    <a:lnTo>
                      <a:pt x="1298" y="796"/>
                    </a:lnTo>
                    <a:lnTo>
                      <a:pt x="1300" y="796"/>
                    </a:lnTo>
                    <a:lnTo>
                      <a:pt x="1312" y="786"/>
                    </a:lnTo>
                    <a:lnTo>
                      <a:pt x="1326" y="768"/>
                    </a:lnTo>
                    <a:lnTo>
                      <a:pt x="1326" y="766"/>
                    </a:lnTo>
                    <a:lnTo>
                      <a:pt x="1344" y="770"/>
                    </a:lnTo>
                    <a:lnTo>
                      <a:pt x="1354" y="770"/>
                    </a:lnTo>
                    <a:lnTo>
                      <a:pt x="1354" y="762"/>
                    </a:lnTo>
                    <a:lnTo>
                      <a:pt x="1356" y="756"/>
                    </a:lnTo>
                    <a:lnTo>
                      <a:pt x="1370" y="740"/>
                    </a:lnTo>
                    <a:lnTo>
                      <a:pt x="1374" y="736"/>
                    </a:lnTo>
                    <a:lnTo>
                      <a:pt x="1390" y="742"/>
                    </a:lnTo>
                    <a:lnTo>
                      <a:pt x="1408" y="740"/>
                    </a:lnTo>
                    <a:lnTo>
                      <a:pt x="1422" y="726"/>
                    </a:lnTo>
                    <a:lnTo>
                      <a:pt x="1428" y="714"/>
                    </a:lnTo>
                    <a:lnTo>
                      <a:pt x="1424" y="708"/>
                    </a:lnTo>
                    <a:lnTo>
                      <a:pt x="1412" y="714"/>
                    </a:lnTo>
                    <a:lnTo>
                      <a:pt x="1412" y="712"/>
                    </a:lnTo>
                    <a:lnTo>
                      <a:pt x="1410" y="712"/>
                    </a:lnTo>
                    <a:lnTo>
                      <a:pt x="1396" y="700"/>
                    </a:lnTo>
                    <a:lnTo>
                      <a:pt x="1396" y="698"/>
                    </a:lnTo>
                    <a:lnTo>
                      <a:pt x="1402" y="676"/>
                    </a:lnTo>
                    <a:lnTo>
                      <a:pt x="1402" y="660"/>
                    </a:lnTo>
                    <a:lnTo>
                      <a:pt x="1398" y="648"/>
                    </a:lnTo>
                    <a:lnTo>
                      <a:pt x="1388" y="644"/>
                    </a:lnTo>
                    <a:lnTo>
                      <a:pt x="1388" y="642"/>
                    </a:lnTo>
                    <a:lnTo>
                      <a:pt x="1386" y="642"/>
                    </a:lnTo>
                    <a:lnTo>
                      <a:pt x="1386" y="640"/>
                    </a:lnTo>
                    <a:lnTo>
                      <a:pt x="1376" y="622"/>
                    </a:lnTo>
                    <a:lnTo>
                      <a:pt x="1374" y="620"/>
                    </a:lnTo>
                    <a:lnTo>
                      <a:pt x="1362" y="636"/>
                    </a:lnTo>
                    <a:lnTo>
                      <a:pt x="1348" y="644"/>
                    </a:lnTo>
                    <a:lnTo>
                      <a:pt x="1344" y="646"/>
                    </a:lnTo>
                    <a:lnTo>
                      <a:pt x="1344" y="644"/>
                    </a:lnTo>
                    <a:lnTo>
                      <a:pt x="1342" y="644"/>
                    </a:lnTo>
                    <a:lnTo>
                      <a:pt x="1328" y="630"/>
                    </a:lnTo>
                    <a:lnTo>
                      <a:pt x="1328" y="628"/>
                    </a:lnTo>
                    <a:lnTo>
                      <a:pt x="1318" y="606"/>
                    </a:lnTo>
                    <a:lnTo>
                      <a:pt x="1314" y="590"/>
                    </a:lnTo>
                    <a:lnTo>
                      <a:pt x="1314" y="588"/>
                    </a:lnTo>
                    <a:lnTo>
                      <a:pt x="1314" y="564"/>
                    </a:lnTo>
                    <a:lnTo>
                      <a:pt x="1312" y="550"/>
                    </a:lnTo>
                    <a:lnTo>
                      <a:pt x="1300" y="546"/>
                    </a:lnTo>
                    <a:lnTo>
                      <a:pt x="1274" y="526"/>
                    </a:lnTo>
                    <a:lnTo>
                      <a:pt x="1276" y="524"/>
                    </a:lnTo>
                    <a:lnTo>
                      <a:pt x="1288" y="510"/>
                    </a:lnTo>
                    <a:lnTo>
                      <a:pt x="1288" y="508"/>
                    </a:lnTo>
                    <a:lnTo>
                      <a:pt x="1290" y="508"/>
                    </a:lnTo>
                    <a:lnTo>
                      <a:pt x="1302" y="508"/>
                    </a:lnTo>
                    <a:lnTo>
                      <a:pt x="1304" y="508"/>
                    </a:lnTo>
                    <a:lnTo>
                      <a:pt x="1310" y="510"/>
                    </a:lnTo>
                    <a:lnTo>
                      <a:pt x="1314" y="514"/>
                    </a:lnTo>
                    <a:lnTo>
                      <a:pt x="1326" y="522"/>
                    </a:lnTo>
                    <a:lnTo>
                      <a:pt x="1338" y="512"/>
                    </a:lnTo>
                    <a:lnTo>
                      <a:pt x="1346" y="500"/>
                    </a:lnTo>
                    <a:lnTo>
                      <a:pt x="1346" y="490"/>
                    </a:lnTo>
                    <a:lnTo>
                      <a:pt x="1344" y="464"/>
                    </a:lnTo>
                    <a:lnTo>
                      <a:pt x="1342" y="454"/>
                    </a:lnTo>
                    <a:lnTo>
                      <a:pt x="1324" y="452"/>
                    </a:lnTo>
                    <a:lnTo>
                      <a:pt x="1324" y="440"/>
                    </a:lnTo>
                    <a:lnTo>
                      <a:pt x="1308" y="420"/>
                    </a:lnTo>
                    <a:lnTo>
                      <a:pt x="1306" y="420"/>
                    </a:lnTo>
                    <a:lnTo>
                      <a:pt x="1298" y="406"/>
                    </a:lnTo>
                    <a:lnTo>
                      <a:pt x="1298" y="404"/>
                    </a:lnTo>
                    <a:lnTo>
                      <a:pt x="1298" y="402"/>
                    </a:lnTo>
                    <a:lnTo>
                      <a:pt x="1314" y="380"/>
                    </a:lnTo>
                    <a:lnTo>
                      <a:pt x="1314" y="378"/>
                    </a:lnTo>
                    <a:lnTo>
                      <a:pt x="1316" y="378"/>
                    </a:lnTo>
                    <a:lnTo>
                      <a:pt x="1316" y="376"/>
                    </a:lnTo>
                    <a:lnTo>
                      <a:pt x="1318" y="376"/>
                    </a:lnTo>
                    <a:lnTo>
                      <a:pt x="1324" y="376"/>
                    </a:lnTo>
                    <a:lnTo>
                      <a:pt x="1334" y="368"/>
                    </a:lnTo>
                    <a:lnTo>
                      <a:pt x="1344" y="336"/>
                    </a:lnTo>
                    <a:lnTo>
                      <a:pt x="1358" y="322"/>
                    </a:lnTo>
                    <a:lnTo>
                      <a:pt x="1358" y="320"/>
                    </a:lnTo>
                    <a:lnTo>
                      <a:pt x="1374" y="316"/>
                    </a:lnTo>
                    <a:lnTo>
                      <a:pt x="1374" y="318"/>
                    </a:lnTo>
                    <a:lnTo>
                      <a:pt x="1382" y="326"/>
                    </a:lnTo>
                    <a:lnTo>
                      <a:pt x="1386" y="328"/>
                    </a:lnTo>
                    <a:lnTo>
                      <a:pt x="1392" y="302"/>
                    </a:lnTo>
                    <a:lnTo>
                      <a:pt x="1386" y="284"/>
                    </a:lnTo>
                    <a:lnTo>
                      <a:pt x="1386" y="282"/>
                    </a:lnTo>
                    <a:lnTo>
                      <a:pt x="1388" y="262"/>
                    </a:lnTo>
                    <a:lnTo>
                      <a:pt x="1388" y="260"/>
                    </a:lnTo>
                    <a:lnTo>
                      <a:pt x="1398" y="250"/>
                    </a:lnTo>
                    <a:lnTo>
                      <a:pt x="1404" y="240"/>
                    </a:lnTo>
                    <a:lnTo>
                      <a:pt x="1404" y="230"/>
                    </a:lnTo>
                    <a:lnTo>
                      <a:pt x="1402" y="220"/>
                    </a:lnTo>
                    <a:lnTo>
                      <a:pt x="1398" y="204"/>
                    </a:lnTo>
                    <a:lnTo>
                      <a:pt x="1398" y="186"/>
                    </a:lnTo>
                    <a:lnTo>
                      <a:pt x="1398" y="184"/>
                    </a:lnTo>
                    <a:lnTo>
                      <a:pt x="1402" y="168"/>
                    </a:lnTo>
                    <a:lnTo>
                      <a:pt x="1398" y="158"/>
                    </a:lnTo>
                    <a:lnTo>
                      <a:pt x="1396" y="152"/>
                    </a:lnTo>
                    <a:lnTo>
                      <a:pt x="1398" y="1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11"/>
              <p:cNvSpPr/>
              <p:nvPr/>
            </p:nvSpPr>
            <p:spPr>
              <a:xfrm>
                <a:off x="4972320" y="3372120"/>
                <a:ext cx="317160" cy="325080"/>
              </a:xfrm>
              <a:custGeom>
                <a:avLst/>
                <a:gdLst/>
                <a:ahLst/>
                <a:rect l="l" t="t" r="r" b="b"/>
                <a:pathLst>
                  <a:path w="912" h="772">
                    <a:moveTo>
                      <a:pt x="542" y="280"/>
                    </a:moveTo>
                    <a:lnTo>
                      <a:pt x="530" y="280"/>
                    </a:lnTo>
                    <a:lnTo>
                      <a:pt x="526" y="288"/>
                    </a:lnTo>
                    <a:lnTo>
                      <a:pt x="532" y="296"/>
                    </a:lnTo>
                    <a:lnTo>
                      <a:pt x="536" y="308"/>
                    </a:lnTo>
                    <a:lnTo>
                      <a:pt x="536" y="310"/>
                    </a:lnTo>
                    <a:lnTo>
                      <a:pt x="536" y="312"/>
                    </a:lnTo>
                    <a:lnTo>
                      <a:pt x="518" y="320"/>
                    </a:lnTo>
                    <a:lnTo>
                      <a:pt x="516" y="320"/>
                    </a:lnTo>
                    <a:lnTo>
                      <a:pt x="506" y="320"/>
                    </a:lnTo>
                    <a:lnTo>
                      <a:pt x="500" y="316"/>
                    </a:lnTo>
                    <a:lnTo>
                      <a:pt x="494" y="314"/>
                    </a:lnTo>
                    <a:lnTo>
                      <a:pt x="492" y="310"/>
                    </a:lnTo>
                    <a:lnTo>
                      <a:pt x="488" y="300"/>
                    </a:lnTo>
                    <a:lnTo>
                      <a:pt x="464" y="296"/>
                    </a:lnTo>
                    <a:lnTo>
                      <a:pt x="456" y="264"/>
                    </a:lnTo>
                    <a:lnTo>
                      <a:pt x="450" y="262"/>
                    </a:lnTo>
                    <a:lnTo>
                      <a:pt x="446" y="258"/>
                    </a:lnTo>
                    <a:lnTo>
                      <a:pt x="444" y="256"/>
                    </a:lnTo>
                    <a:lnTo>
                      <a:pt x="440" y="250"/>
                    </a:lnTo>
                    <a:lnTo>
                      <a:pt x="432" y="248"/>
                    </a:lnTo>
                    <a:lnTo>
                      <a:pt x="424" y="242"/>
                    </a:lnTo>
                    <a:lnTo>
                      <a:pt x="416" y="232"/>
                    </a:lnTo>
                    <a:lnTo>
                      <a:pt x="406" y="228"/>
                    </a:lnTo>
                    <a:lnTo>
                      <a:pt x="392" y="214"/>
                    </a:lnTo>
                    <a:lnTo>
                      <a:pt x="390" y="204"/>
                    </a:lnTo>
                    <a:lnTo>
                      <a:pt x="390" y="202"/>
                    </a:lnTo>
                    <a:lnTo>
                      <a:pt x="416" y="168"/>
                    </a:lnTo>
                    <a:lnTo>
                      <a:pt x="416" y="164"/>
                    </a:lnTo>
                    <a:lnTo>
                      <a:pt x="416" y="162"/>
                    </a:lnTo>
                    <a:lnTo>
                      <a:pt x="412" y="152"/>
                    </a:lnTo>
                    <a:lnTo>
                      <a:pt x="398" y="156"/>
                    </a:lnTo>
                    <a:lnTo>
                      <a:pt x="396" y="156"/>
                    </a:lnTo>
                    <a:lnTo>
                      <a:pt x="396" y="158"/>
                    </a:lnTo>
                    <a:lnTo>
                      <a:pt x="360" y="160"/>
                    </a:lnTo>
                    <a:lnTo>
                      <a:pt x="348" y="164"/>
                    </a:lnTo>
                    <a:lnTo>
                      <a:pt x="342" y="168"/>
                    </a:lnTo>
                    <a:lnTo>
                      <a:pt x="340" y="172"/>
                    </a:lnTo>
                    <a:lnTo>
                      <a:pt x="334" y="178"/>
                    </a:lnTo>
                    <a:lnTo>
                      <a:pt x="330" y="178"/>
                    </a:lnTo>
                    <a:lnTo>
                      <a:pt x="324" y="178"/>
                    </a:lnTo>
                    <a:lnTo>
                      <a:pt x="324" y="176"/>
                    </a:lnTo>
                    <a:lnTo>
                      <a:pt x="312" y="168"/>
                    </a:lnTo>
                    <a:lnTo>
                      <a:pt x="312" y="148"/>
                    </a:lnTo>
                    <a:lnTo>
                      <a:pt x="304" y="142"/>
                    </a:lnTo>
                    <a:lnTo>
                      <a:pt x="300" y="134"/>
                    </a:lnTo>
                    <a:lnTo>
                      <a:pt x="296" y="116"/>
                    </a:lnTo>
                    <a:lnTo>
                      <a:pt x="288" y="108"/>
                    </a:lnTo>
                    <a:lnTo>
                      <a:pt x="280" y="100"/>
                    </a:lnTo>
                    <a:lnTo>
                      <a:pt x="276" y="98"/>
                    </a:lnTo>
                    <a:lnTo>
                      <a:pt x="290" y="80"/>
                    </a:lnTo>
                    <a:lnTo>
                      <a:pt x="292" y="68"/>
                    </a:lnTo>
                    <a:lnTo>
                      <a:pt x="276" y="48"/>
                    </a:lnTo>
                    <a:lnTo>
                      <a:pt x="268" y="32"/>
                    </a:lnTo>
                    <a:lnTo>
                      <a:pt x="268" y="24"/>
                    </a:lnTo>
                    <a:lnTo>
                      <a:pt x="256" y="16"/>
                    </a:lnTo>
                    <a:lnTo>
                      <a:pt x="256" y="14"/>
                    </a:lnTo>
                    <a:lnTo>
                      <a:pt x="246" y="2"/>
                    </a:lnTo>
                    <a:lnTo>
                      <a:pt x="232" y="0"/>
                    </a:lnTo>
                    <a:lnTo>
                      <a:pt x="216" y="4"/>
                    </a:lnTo>
                    <a:lnTo>
                      <a:pt x="212" y="8"/>
                    </a:lnTo>
                    <a:lnTo>
                      <a:pt x="210" y="30"/>
                    </a:lnTo>
                    <a:lnTo>
                      <a:pt x="210" y="56"/>
                    </a:lnTo>
                    <a:lnTo>
                      <a:pt x="208" y="56"/>
                    </a:lnTo>
                    <a:lnTo>
                      <a:pt x="192" y="62"/>
                    </a:lnTo>
                    <a:lnTo>
                      <a:pt x="178" y="64"/>
                    </a:lnTo>
                    <a:lnTo>
                      <a:pt x="168" y="70"/>
                    </a:lnTo>
                    <a:lnTo>
                      <a:pt x="154" y="74"/>
                    </a:lnTo>
                    <a:lnTo>
                      <a:pt x="152" y="76"/>
                    </a:lnTo>
                    <a:lnTo>
                      <a:pt x="124" y="68"/>
                    </a:lnTo>
                    <a:lnTo>
                      <a:pt x="114" y="80"/>
                    </a:lnTo>
                    <a:lnTo>
                      <a:pt x="108" y="86"/>
                    </a:lnTo>
                    <a:lnTo>
                      <a:pt x="98" y="88"/>
                    </a:lnTo>
                    <a:lnTo>
                      <a:pt x="82" y="102"/>
                    </a:lnTo>
                    <a:lnTo>
                      <a:pt x="72" y="116"/>
                    </a:lnTo>
                    <a:lnTo>
                      <a:pt x="72" y="118"/>
                    </a:lnTo>
                    <a:lnTo>
                      <a:pt x="66" y="128"/>
                    </a:lnTo>
                    <a:lnTo>
                      <a:pt x="60" y="132"/>
                    </a:lnTo>
                    <a:lnTo>
                      <a:pt x="50" y="144"/>
                    </a:lnTo>
                    <a:lnTo>
                      <a:pt x="50" y="146"/>
                    </a:lnTo>
                    <a:lnTo>
                      <a:pt x="44" y="150"/>
                    </a:lnTo>
                    <a:lnTo>
                      <a:pt x="32" y="152"/>
                    </a:lnTo>
                    <a:lnTo>
                      <a:pt x="12" y="152"/>
                    </a:lnTo>
                    <a:lnTo>
                      <a:pt x="8" y="158"/>
                    </a:lnTo>
                    <a:lnTo>
                      <a:pt x="0" y="172"/>
                    </a:lnTo>
                    <a:lnTo>
                      <a:pt x="4" y="184"/>
                    </a:lnTo>
                    <a:lnTo>
                      <a:pt x="2" y="216"/>
                    </a:lnTo>
                    <a:lnTo>
                      <a:pt x="8" y="224"/>
                    </a:lnTo>
                    <a:lnTo>
                      <a:pt x="8" y="226"/>
                    </a:lnTo>
                    <a:lnTo>
                      <a:pt x="10" y="232"/>
                    </a:lnTo>
                    <a:lnTo>
                      <a:pt x="22" y="232"/>
                    </a:lnTo>
                    <a:lnTo>
                      <a:pt x="40" y="236"/>
                    </a:lnTo>
                    <a:lnTo>
                      <a:pt x="66" y="238"/>
                    </a:lnTo>
                    <a:lnTo>
                      <a:pt x="76" y="236"/>
                    </a:lnTo>
                    <a:lnTo>
                      <a:pt x="78" y="236"/>
                    </a:lnTo>
                    <a:lnTo>
                      <a:pt x="80" y="236"/>
                    </a:lnTo>
                    <a:lnTo>
                      <a:pt x="100" y="244"/>
                    </a:lnTo>
                    <a:lnTo>
                      <a:pt x="102" y="244"/>
                    </a:lnTo>
                    <a:lnTo>
                      <a:pt x="112" y="254"/>
                    </a:lnTo>
                    <a:lnTo>
                      <a:pt x="136" y="262"/>
                    </a:lnTo>
                    <a:lnTo>
                      <a:pt x="138" y="262"/>
                    </a:lnTo>
                    <a:lnTo>
                      <a:pt x="154" y="272"/>
                    </a:lnTo>
                    <a:lnTo>
                      <a:pt x="192" y="308"/>
                    </a:lnTo>
                    <a:lnTo>
                      <a:pt x="210" y="316"/>
                    </a:lnTo>
                    <a:lnTo>
                      <a:pt x="218" y="312"/>
                    </a:lnTo>
                    <a:lnTo>
                      <a:pt x="224" y="300"/>
                    </a:lnTo>
                    <a:lnTo>
                      <a:pt x="220" y="278"/>
                    </a:lnTo>
                    <a:lnTo>
                      <a:pt x="222" y="274"/>
                    </a:lnTo>
                    <a:lnTo>
                      <a:pt x="224" y="270"/>
                    </a:lnTo>
                    <a:lnTo>
                      <a:pt x="236" y="264"/>
                    </a:lnTo>
                    <a:lnTo>
                      <a:pt x="236" y="262"/>
                    </a:lnTo>
                    <a:lnTo>
                      <a:pt x="286" y="292"/>
                    </a:lnTo>
                    <a:lnTo>
                      <a:pt x="292" y="290"/>
                    </a:lnTo>
                    <a:lnTo>
                      <a:pt x="302" y="284"/>
                    </a:lnTo>
                    <a:lnTo>
                      <a:pt x="304" y="284"/>
                    </a:lnTo>
                    <a:lnTo>
                      <a:pt x="310" y="284"/>
                    </a:lnTo>
                    <a:lnTo>
                      <a:pt x="320" y="276"/>
                    </a:lnTo>
                    <a:lnTo>
                      <a:pt x="322" y="276"/>
                    </a:lnTo>
                    <a:lnTo>
                      <a:pt x="324" y="276"/>
                    </a:lnTo>
                    <a:lnTo>
                      <a:pt x="352" y="296"/>
                    </a:lnTo>
                    <a:lnTo>
                      <a:pt x="354" y="298"/>
                    </a:lnTo>
                    <a:lnTo>
                      <a:pt x="372" y="312"/>
                    </a:lnTo>
                    <a:lnTo>
                      <a:pt x="380" y="320"/>
                    </a:lnTo>
                    <a:lnTo>
                      <a:pt x="388" y="330"/>
                    </a:lnTo>
                    <a:lnTo>
                      <a:pt x="398" y="340"/>
                    </a:lnTo>
                    <a:lnTo>
                      <a:pt x="404" y="338"/>
                    </a:lnTo>
                    <a:lnTo>
                      <a:pt x="412" y="324"/>
                    </a:lnTo>
                    <a:lnTo>
                      <a:pt x="430" y="336"/>
                    </a:lnTo>
                    <a:lnTo>
                      <a:pt x="432" y="336"/>
                    </a:lnTo>
                    <a:lnTo>
                      <a:pt x="444" y="352"/>
                    </a:lnTo>
                    <a:lnTo>
                      <a:pt x="480" y="380"/>
                    </a:lnTo>
                    <a:lnTo>
                      <a:pt x="492" y="392"/>
                    </a:lnTo>
                    <a:lnTo>
                      <a:pt x="522" y="382"/>
                    </a:lnTo>
                    <a:lnTo>
                      <a:pt x="524" y="406"/>
                    </a:lnTo>
                    <a:lnTo>
                      <a:pt x="538" y="420"/>
                    </a:lnTo>
                    <a:lnTo>
                      <a:pt x="548" y="436"/>
                    </a:lnTo>
                    <a:lnTo>
                      <a:pt x="548" y="438"/>
                    </a:lnTo>
                    <a:lnTo>
                      <a:pt x="548" y="440"/>
                    </a:lnTo>
                    <a:lnTo>
                      <a:pt x="560" y="494"/>
                    </a:lnTo>
                    <a:lnTo>
                      <a:pt x="572" y="516"/>
                    </a:lnTo>
                    <a:lnTo>
                      <a:pt x="556" y="558"/>
                    </a:lnTo>
                    <a:lnTo>
                      <a:pt x="556" y="560"/>
                    </a:lnTo>
                    <a:lnTo>
                      <a:pt x="544" y="564"/>
                    </a:lnTo>
                    <a:lnTo>
                      <a:pt x="544" y="576"/>
                    </a:lnTo>
                    <a:lnTo>
                      <a:pt x="542" y="576"/>
                    </a:lnTo>
                    <a:lnTo>
                      <a:pt x="528" y="598"/>
                    </a:lnTo>
                    <a:lnTo>
                      <a:pt x="508" y="600"/>
                    </a:lnTo>
                    <a:lnTo>
                      <a:pt x="488" y="616"/>
                    </a:lnTo>
                    <a:lnTo>
                      <a:pt x="494" y="620"/>
                    </a:lnTo>
                    <a:lnTo>
                      <a:pt x="500" y="622"/>
                    </a:lnTo>
                    <a:lnTo>
                      <a:pt x="504" y="626"/>
                    </a:lnTo>
                    <a:lnTo>
                      <a:pt x="508" y="630"/>
                    </a:lnTo>
                    <a:lnTo>
                      <a:pt x="508" y="634"/>
                    </a:lnTo>
                    <a:lnTo>
                      <a:pt x="504" y="642"/>
                    </a:lnTo>
                    <a:lnTo>
                      <a:pt x="504" y="644"/>
                    </a:lnTo>
                    <a:lnTo>
                      <a:pt x="492" y="656"/>
                    </a:lnTo>
                    <a:lnTo>
                      <a:pt x="490" y="656"/>
                    </a:lnTo>
                    <a:lnTo>
                      <a:pt x="490" y="658"/>
                    </a:lnTo>
                    <a:lnTo>
                      <a:pt x="488" y="658"/>
                    </a:lnTo>
                    <a:lnTo>
                      <a:pt x="450" y="652"/>
                    </a:lnTo>
                    <a:lnTo>
                      <a:pt x="448" y="666"/>
                    </a:lnTo>
                    <a:lnTo>
                      <a:pt x="452" y="696"/>
                    </a:lnTo>
                    <a:lnTo>
                      <a:pt x="484" y="708"/>
                    </a:lnTo>
                    <a:lnTo>
                      <a:pt x="484" y="710"/>
                    </a:lnTo>
                    <a:lnTo>
                      <a:pt x="496" y="706"/>
                    </a:lnTo>
                    <a:lnTo>
                      <a:pt x="498" y="706"/>
                    </a:lnTo>
                    <a:lnTo>
                      <a:pt x="500" y="704"/>
                    </a:lnTo>
                    <a:lnTo>
                      <a:pt x="500" y="706"/>
                    </a:lnTo>
                    <a:lnTo>
                      <a:pt x="510" y="712"/>
                    </a:lnTo>
                    <a:lnTo>
                      <a:pt x="524" y="712"/>
                    </a:lnTo>
                    <a:lnTo>
                      <a:pt x="528" y="710"/>
                    </a:lnTo>
                    <a:lnTo>
                      <a:pt x="524" y="696"/>
                    </a:lnTo>
                    <a:lnTo>
                      <a:pt x="520" y="680"/>
                    </a:lnTo>
                    <a:lnTo>
                      <a:pt x="520" y="678"/>
                    </a:lnTo>
                    <a:lnTo>
                      <a:pt x="520" y="676"/>
                    </a:lnTo>
                    <a:lnTo>
                      <a:pt x="526" y="670"/>
                    </a:lnTo>
                    <a:lnTo>
                      <a:pt x="528" y="668"/>
                    </a:lnTo>
                    <a:lnTo>
                      <a:pt x="536" y="656"/>
                    </a:lnTo>
                    <a:lnTo>
                      <a:pt x="538" y="654"/>
                    </a:lnTo>
                    <a:lnTo>
                      <a:pt x="552" y="644"/>
                    </a:lnTo>
                    <a:lnTo>
                      <a:pt x="552" y="642"/>
                    </a:lnTo>
                    <a:lnTo>
                      <a:pt x="554" y="642"/>
                    </a:lnTo>
                    <a:lnTo>
                      <a:pt x="572" y="640"/>
                    </a:lnTo>
                    <a:lnTo>
                      <a:pt x="572" y="644"/>
                    </a:lnTo>
                    <a:lnTo>
                      <a:pt x="572" y="656"/>
                    </a:lnTo>
                    <a:lnTo>
                      <a:pt x="576" y="664"/>
                    </a:lnTo>
                    <a:lnTo>
                      <a:pt x="580" y="674"/>
                    </a:lnTo>
                    <a:lnTo>
                      <a:pt x="596" y="684"/>
                    </a:lnTo>
                    <a:lnTo>
                      <a:pt x="640" y="688"/>
                    </a:lnTo>
                    <a:lnTo>
                      <a:pt x="642" y="688"/>
                    </a:lnTo>
                    <a:lnTo>
                      <a:pt x="644" y="688"/>
                    </a:lnTo>
                    <a:lnTo>
                      <a:pt x="644" y="690"/>
                    </a:lnTo>
                    <a:lnTo>
                      <a:pt x="644" y="692"/>
                    </a:lnTo>
                    <a:lnTo>
                      <a:pt x="644" y="706"/>
                    </a:lnTo>
                    <a:lnTo>
                      <a:pt x="656" y="720"/>
                    </a:lnTo>
                    <a:lnTo>
                      <a:pt x="666" y="724"/>
                    </a:lnTo>
                    <a:lnTo>
                      <a:pt x="668" y="724"/>
                    </a:lnTo>
                    <a:lnTo>
                      <a:pt x="668" y="726"/>
                    </a:lnTo>
                    <a:lnTo>
                      <a:pt x="668" y="732"/>
                    </a:lnTo>
                    <a:lnTo>
                      <a:pt x="668" y="740"/>
                    </a:lnTo>
                    <a:lnTo>
                      <a:pt x="664" y="756"/>
                    </a:lnTo>
                    <a:lnTo>
                      <a:pt x="670" y="760"/>
                    </a:lnTo>
                    <a:lnTo>
                      <a:pt x="678" y="760"/>
                    </a:lnTo>
                    <a:lnTo>
                      <a:pt x="684" y="762"/>
                    </a:lnTo>
                    <a:lnTo>
                      <a:pt x="688" y="764"/>
                    </a:lnTo>
                    <a:lnTo>
                      <a:pt x="706" y="772"/>
                    </a:lnTo>
                    <a:lnTo>
                      <a:pt x="716" y="764"/>
                    </a:lnTo>
                    <a:lnTo>
                      <a:pt x="728" y="750"/>
                    </a:lnTo>
                    <a:lnTo>
                      <a:pt x="730" y="744"/>
                    </a:lnTo>
                    <a:lnTo>
                      <a:pt x="732" y="742"/>
                    </a:lnTo>
                    <a:lnTo>
                      <a:pt x="734" y="740"/>
                    </a:lnTo>
                    <a:lnTo>
                      <a:pt x="730" y="722"/>
                    </a:lnTo>
                    <a:lnTo>
                      <a:pt x="728" y="714"/>
                    </a:lnTo>
                    <a:lnTo>
                      <a:pt x="728" y="712"/>
                    </a:lnTo>
                    <a:lnTo>
                      <a:pt x="728" y="710"/>
                    </a:lnTo>
                    <a:lnTo>
                      <a:pt x="736" y="700"/>
                    </a:lnTo>
                    <a:lnTo>
                      <a:pt x="748" y="690"/>
                    </a:lnTo>
                    <a:lnTo>
                      <a:pt x="750" y="690"/>
                    </a:lnTo>
                    <a:lnTo>
                      <a:pt x="776" y="690"/>
                    </a:lnTo>
                    <a:lnTo>
                      <a:pt x="780" y="688"/>
                    </a:lnTo>
                    <a:lnTo>
                      <a:pt x="780" y="676"/>
                    </a:lnTo>
                    <a:lnTo>
                      <a:pt x="776" y="664"/>
                    </a:lnTo>
                    <a:lnTo>
                      <a:pt x="766" y="648"/>
                    </a:lnTo>
                    <a:lnTo>
                      <a:pt x="766" y="628"/>
                    </a:lnTo>
                    <a:lnTo>
                      <a:pt x="766" y="626"/>
                    </a:lnTo>
                    <a:lnTo>
                      <a:pt x="770" y="614"/>
                    </a:lnTo>
                    <a:lnTo>
                      <a:pt x="772" y="614"/>
                    </a:lnTo>
                    <a:lnTo>
                      <a:pt x="792" y="582"/>
                    </a:lnTo>
                    <a:lnTo>
                      <a:pt x="794" y="582"/>
                    </a:lnTo>
                    <a:lnTo>
                      <a:pt x="796" y="580"/>
                    </a:lnTo>
                    <a:lnTo>
                      <a:pt x="800" y="580"/>
                    </a:lnTo>
                    <a:lnTo>
                      <a:pt x="808" y="582"/>
                    </a:lnTo>
                    <a:lnTo>
                      <a:pt x="828" y="592"/>
                    </a:lnTo>
                    <a:lnTo>
                      <a:pt x="840" y="596"/>
                    </a:lnTo>
                    <a:lnTo>
                      <a:pt x="840" y="590"/>
                    </a:lnTo>
                    <a:lnTo>
                      <a:pt x="838" y="588"/>
                    </a:lnTo>
                    <a:lnTo>
                      <a:pt x="838" y="586"/>
                    </a:lnTo>
                    <a:lnTo>
                      <a:pt x="840" y="580"/>
                    </a:lnTo>
                    <a:lnTo>
                      <a:pt x="846" y="572"/>
                    </a:lnTo>
                    <a:lnTo>
                      <a:pt x="860" y="562"/>
                    </a:lnTo>
                    <a:lnTo>
                      <a:pt x="860" y="560"/>
                    </a:lnTo>
                    <a:lnTo>
                      <a:pt x="876" y="556"/>
                    </a:lnTo>
                    <a:lnTo>
                      <a:pt x="890" y="556"/>
                    </a:lnTo>
                    <a:lnTo>
                      <a:pt x="892" y="556"/>
                    </a:lnTo>
                    <a:lnTo>
                      <a:pt x="900" y="556"/>
                    </a:lnTo>
                    <a:lnTo>
                      <a:pt x="904" y="536"/>
                    </a:lnTo>
                    <a:lnTo>
                      <a:pt x="904" y="524"/>
                    </a:lnTo>
                    <a:lnTo>
                      <a:pt x="906" y="512"/>
                    </a:lnTo>
                    <a:lnTo>
                      <a:pt x="906" y="510"/>
                    </a:lnTo>
                    <a:lnTo>
                      <a:pt x="908" y="508"/>
                    </a:lnTo>
                    <a:lnTo>
                      <a:pt x="912" y="496"/>
                    </a:lnTo>
                    <a:lnTo>
                      <a:pt x="906" y="488"/>
                    </a:lnTo>
                    <a:lnTo>
                      <a:pt x="896" y="480"/>
                    </a:lnTo>
                    <a:lnTo>
                      <a:pt x="876" y="476"/>
                    </a:lnTo>
                    <a:lnTo>
                      <a:pt x="868" y="472"/>
                    </a:lnTo>
                    <a:lnTo>
                      <a:pt x="852" y="460"/>
                    </a:lnTo>
                    <a:lnTo>
                      <a:pt x="840" y="456"/>
                    </a:lnTo>
                    <a:lnTo>
                      <a:pt x="840" y="454"/>
                    </a:lnTo>
                    <a:lnTo>
                      <a:pt x="824" y="436"/>
                    </a:lnTo>
                    <a:lnTo>
                      <a:pt x="812" y="436"/>
                    </a:lnTo>
                    <a:lnTo>
                      <a:pt x="810" y="436"/>
                    </a:lnTo>
                    <a:lnTo>
                      <a:pt x="798" y="430"/>
                    </a:lnTo>
                    <a:lnTo>
                      <a:pt x="790" y="440"/>
                    </a:lnTo>
                    <a:lnTo>
                      <a:pt x="788" y="476"/>
                    </a:lnTo>
                    <a:lnTo>
                      <a:pt x="792" y="492"/>
                    </a:lnTo>
                    <a:lnTo>
                      <a:pt x="796" y="492"/>
                    </a:lnTo>
                    <a:lnTo>
                      <a:pt x="798" y="492"/>
                    </a:lnTo>
                    <a:lnTo>
                      <a:pt x="808" y="496"/>
                    </a:lnTo>
                    <a:lnTo>
                      <a:pt x="814" y="510"/>
                    </a:lnTo>
                    <a:lnTo>
                      <a:pt x="816" y="510"/>
                    </a:lnTo>
                    <a:lnTo>
                      <a:pt x="816" y="512"/>
                    </a:lnTo>
                    <a:lnTo>
                      <a:pt x="812" y="536"/>
                    </a:lnTo>
                    <a:lnTo>
                      <a:pt x="812" y="538"/>
                    </a:lnTo>
                    <a:lnTo>
                      <a:pt x="812" y="540"/>
                    </a:lnTo>
                    <a:lnTo>
                      <a:pt x="800" y="546"/>
                    </a:lnTo>
                    <a:lnTo>
                      <a:pt x="798" y="548"/>
                    </a:lnTo>
                    <a:lnTo>
                      <a:pt x="798" y="546"/>
                    </a:lnTo>
                    <a:lnTo>
                      <a:pt x="796" y="546"/>
                    </a:lnTo>
                    <a:lnTo>
                      <a:pt x="792" y="544"/>
                    </a:lnTo>
                    <a:lnTo>
                      <a:pt x="778" y="550"/>
                    </a:lnTo>
                    <a:lnTo>
                      <a:pt x="778" y="552"/>
                    </a:lnTo>
                    <a:lnTo>
                      <a:pt x="780" y="552"/>
                    </a:lnTo>
                    <a:lnTo>
                      <a:pt x="782" y="574"/>
                    </a:lnTo>
                    <a:lnTo>
                      <a:pt x="780" y="578"/>
                    </a:lnTo>
                    <a:lnTo>
                      <a:pt x="776" y="580"/>
                    </a:lnTo>
                    <a:lnTo>
                      <a:pt x="768" y="580"/>
                    </a:lnTo>
                    <a:lnTo>
                      <a:pt x="762" y="578"/>
                    </a:lnTo>
                    <a:lnTo>
                      <a:pt x="758" y="576"/>
                    </a:lnTo>
                    <a:lnTo>
                      <a:pt x="748" y="568"/>
                    </a:lnTo>
                    <a:lnTo>
                      <a:pt x="746" y="568"/>
                    </a:lnTo>
                    <a:lnTo>
                      <a:pt x="746" y="566"/>
                    </a:lnTo>
                    <a:lnTo>
                      <a:pt x="740" y="552"/>
                    </a:lnTo>
                    <a:lnTo>
                      <a:pt x="736" y="550"/>
                    </a:lnTo>
                    <a:lnTo>
                      <a:pt x="728" y="546"/>
                    </a:lnTo>
                    <a:lnTo>
                      <a:pt x="726" y="546"/>
                    </a:lnTo>
                    <a:lnTo>
                      <a:pt x="714" y="538"/>
                    </a:lnTo>
                    <a:lnTo>
                      <a:pt x="712" y="538"/>
                    </a:lnTo>
                    <a:lnTo>
                      <a:pt x="712" y="536"/>
                    </a:lnTo>
                    <a:lnTo>
                      <a:pt x="710" y="524"/>
                    </a:lnTo>
                    <a:lnTo>
                      <a:pt x="712" y="512"/>
                    </a:lnTo>
                    <a:lnTo>
                      <a:pt x="716" y="506"/>
                    </a:lnTo>
                    <a:lnTo>
                      <a:pt x="716" y="502"/>
                    </a:lnTo>
                    <a:lnTo>
                      <a:pt x="712" y="488"/>
                    </a:lnTo>
                    <a:lnTo>
                      <a:pt x="700" y="478"/>
                    </a:lnTo>
                    <a:lnTo>
                      <a:pt x="700" y="476"/>
                    </a:lnTo>
                    <a:lnTo>
                      <a:pt x="698" y="444"/>
                    </a:lnTo>
                    <a:lnTo>
                      <a:pt x="690" y="436"/>
                    </a:lnTo>
                    <a:lnTo>
                      <a:pt x="688" y="436"/>
                    </a:lnTo>
                    <a:lnTo>
                      <a:pt x="688" y="434"/>
                    </a:lnTo>
                    <a:lnTo>
                      <a:pt x="682" y="420"/>
                    </a:lnTo>
                    <a:lnTo>
                      <a:pt x="652" y="416"/>
                    </a:lnTo>
                    <a:lnTo>
                      <a:pt x="644" y="410"/>
                    </a:lnTo>
                    <a:lnTo>
                      <a:pt x="638" y="402"/>
                    </a:lnTo>
                    <a:lnTo>
                      <a:pt x="624" y="402"/>
                    </a:lnTo>
                    <a:lnTo>
                      <a:pt x="618" y="398"/>
                    </a:lnTo>
                    <a:lnTo>
                      <a:pt x="610" y="392"/>
                    </a:lnTo>
                    <a:lnTo>
                      <a:pt x="608" y="390"/>
                    </a:lnTo>
                    <a:lnTo>
                      <a:pt x="604" y="384"/>
                    </a:lnTo>
                    <a:lnTo>
                      <a:pt x="598" y="376"/>
                    </a:lnTo>
                    <a:lnTo>
                      <a:pt x="596" y="362"/>
                    </a:lnTo>
                    <a:lnTo>
                      <a:pt x="596" y="360"/>
                    </a:lnTo>
                    <a:lnTo>
                      <a:pt x="600" y="336"/>
                    </a:lnTo>
                    <a:lnTo>
                      <a:pt x="604" y="324"/>
                    </a:lnTo>
                    <a:lnTo>
                      <a:pt x="606" y="324"/>
                    </a:lnTo>
                    <a:lnTo>
                      <a:pt x="636" y="310"/>
                    </a:lnTo>
                    <a:lnTo>
                      <a:pt x="648" y="296"/>
                    </a:lnTo>
                    <a:lnTo>
                      <a:pt x="650" y="284"/>
                    </a:lnTo>
                    <a:lnTo>
                      <a:pt x="648" y="276"/>
                    </a:lnTo>
                    <a:lnTo>
                      <a:pt x="644" y="262"/>
                    </a:lnTo>
                    <a:lnTo>
                      <a:pt x="640" y="254"/>
                    </a:lnTo>
                    <a:lnTo>
                      <a:pt x="634" y="256"/>
                    </a:lnTo>
                    <a:lnTo>
                      <a:pt x="624" y="254"/>
                    </a:lnTo>
                    <a:lnTo>
                      <a:pt x="616" y="260"/>
                    </a:lnTo>
                    <a:lnTo>
                      <a:pt x="606" y="272"/>
                    </a:lnTo>
                    <a:lnTo>
                      <a:pt x="592" y="286"/>
                    </a:lnTo>
                    <a:lnTo>
                      <a:pt x="590" y="286"/>
                    </a:lnTo>
                    <a:lnTo>
                      <a:pt x="578" y="290"/>
                    </a:lnTo>
                    <a:lnTo>
                      <a:pt x="568" y="288"/>
                    </a:lnTo>
                    <a:lnTo>
                      <a:pt x="542" y="2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12"/>
              <p:cNvSpPr/>
              <p:nvPr/>
            </p:nvSpPr>
            <p:spPr>
              <a:xfrm>
                <a:off x="5197680" y="3485160"/>
                <a:ext cx="63720" cy="127800"/>
              </a:xfrm>
              <a:custGeom>
                <a:avLst/>
                <a:gdLst/>
                <a:ahLst/>
                <a:rect l="l" t="t" r="r" b="b"/>
                <a:pathLst>
                  <a:path w="184" h="304">
                    <a:moveTo>
                      <a:pt x="108" y="18"/>
                    </a:moveTo>
                    <a:lnTo>
                      <a:pt x="92" y="58"/>
                    </a:lnTo>
                    <a:lnTo>
                      <a:pt x="92" y="84"/>
                    </a:lnTo>
                    <a:lnTo>
                      <a:pt x="92" y="86"/>
                    </a:lnTo>
                    <a:lnTo>
                      <a:pt x="84" y="100"/>
                    </a:lnTo>
                    <a:lnTo>
                      <a:pt x="84" y="108"/>
                    </a:lnTo>
                    <a:lnTo>
                      <a:pt x="84" y="112"/>
                    </a:lnTo>
                    <a:lnTo>
                      <a:pt x="82" y="116"/>
                    </a:lnTo>
                    <a:lnTo>
                      <a:pt x="80" y="120"/>
                    </a:lnTo>
                    <a:lnTo>
                      <a:pt x="76" y="122"/>
                    </a:lnTo>
                    <a:lnTo>
                      <a:pt x="76" y="124"/>
                    </a:lnTo>
                    <a:lnTo>
                      <a:pt x="74" y="124"/>
                    </a:lnTo>
                    <a:lnTo>
                      <a:pt x="74" y="122"/>
                    </a:lnTo>
                    <a:lnTo>
                      <a:pt x="54" y="120"/>
                    </a:lnTo>
                    <a:lnTo>
                      <a:pt x="44" y="130"/>
                    </a:lnTo>
                    <a:lnTo>
                      <a:pt x="12" y="134"/>
                    </a:lnTo>
                    <a:lnTo>
                      <a:pt x="0" y="134"/>
                    </a:lnTo>
                    <a:lnTo>
                      <a:pt x="8" y="140"/>
                    </a:lnTo>
                    <a:lnTo>
                      <a:pt x="36" y="144"/>
                    </a:lnTo>
                    <a:lnTo>
                      <a:pt x="38" y="144"/>
                    </a:lnTo>
                    <a:lnTo>
                      <a:pt x="40" y="144"/>
                    </a:lnTo>
                    <a:lnTo>
                      <a:pt x="48" y="162"/>
                    </a:lnTo>
                    <a:lnTo>
                      <a:pt x="56" y="168"/>
                    </a:lnTo>
                    <a:lnTo>
                      <a:pt x="60" y="174"/>
                    </a:lnTo>
                    <a:lnTo>
                      <a:pt x="60" y="184"/>
                    </a:lnTo>
                    <a:lnTo>
                      <a:pt x="60" y="206"/>
                    </a:lnTo>
                    <a:lnTo>
                      <a:pt x="70" y="216"/>
                    </a:lnTo>
                    <a:lnTo>
                      <a:pt x="72" y="216"/>
                    </a:lnTo>
                    <a:lnTo>
                      <a:pt x="76" y="232"/>
                    </a:lnTo>
                    <a:lnTo>
                      <a:pt x="76" y="240"/>
                    </a:lnTo>
                    <a:lnTo>
                      <a:pt x="72" y="248"/>
                    </a:lnTo>
                    <a:lnTo>
                      <a:pt x="70" y="256"/>
                    </a:lnTo>
                    <a:lnTo>
                      <a:pt x="72" y="264"/>
                    </a:lnTo>
                    <a:lnTo>
                      <a:pt x="82" y="270"/>
                    </a:lnTo>
                    <a:lnTo>
                      <a:pt x="94" y="276"/>
                    </a:lnTo>
                    <a:lnTo>
                      <a:pt x="100" y="280"/>
                    </a:lnTo>
                    <a:lnTo>
                      <a:pt x="106" y="292"/>
                    </a:lnTo>
                    <a:lnTo>
                      <a:pt x="114" y="298"/>
                    </a:lnTo>
                    <a:lnTo>
                      <a:pt x="116" y="302"/>
                    </a:lnTo>
                    <a:lnTo>
                      <a:pt x="124" y="304"/>
                    </a:lnTo>
                    <a:lnTo>
                      <a:pt x="122" y="288"/>
                    </a:lnTo>
                    <a:lnTo>
                      <a:pt x="122" y="282"/>
                    </a:lnTo>
                    <a:lnTo>
                      <a:pt x="122" y="278"/>
                    </a:lnTo>
                    <a:lnTo>
                      <a:pt x="126" y="274"/>
                    </a:lnTo>
                    <a:lnTo>
                      <a:pt x="128" y="272"/>
                    </a:lnTo>
                    <a:lnTo>
                      <a:pt x="140" y="268"/>
                    </a:lnTo>
                    <a:lnTo>
                      <a:pt x="142" y="268"/>
                    </a:lnTo>
                    <a:lnTo>
                      <a:pt x="144" y="268"/>
                    </a:lnTo>
                    <a:lnTo>
                      <a:pt x="148" y="270"/>
                    </a:lnTo>
                    <a:lnTo>
                      <a:pt x="156" y="266"/>
                    </a:lnTo>
                    <a:lnTo>
                      <a:pt x="156" y="264"/>
                    </a:lnTo>
                    <a:lnTo>
                      <a:pt x="158" y="244"/>
                    </a:lnTo>
                    <a:lnTo>
                      <a:pt x="154" y="236"/>
                    </a:lnTo>
                    <a:lnTo>
                      <a:pt x="148" y="232"/>
                    </a:lnTo>
                    <a:lnTo>
                      <a:pt x="140" y="232"/>
                    </a:lnTo>
                    <a:lnTo>
                      <a:pt x="138" y="232"/>
                    </a:lnTo>
                    <a:lnTo>
                      <a:pt x="136" y="230"/>
                    </a:lnTo>
                    <a:lnTo>
                      <a:pt x="132" y="210"/>
                    </a:lnTo>
                    <a:lnTo>
                      <a:pt x="134" y="168"/>
                    </a:lnTo>
                    <a:lnTo>
                      <a:pt x="136" y="168"/>
                    </a:lnTo>
                    <a:lnTo>
                      <a:pt x="148" y="150"/>
                    </a:lnTo>
                    <a:lnTo>
                      <a:pt x="164" y="160"/>
                    </a:lnTo>
                    <a:lnTo>
                      <a:pt x="176" y="160"/>
                    </a:lnTo>
                    <a:lnTo>
                      <a:pt x="184" y="108"/>
                    </a:lnTo>
                    <a:lnTo>
                      <a:pt x="180" y="100"/>
                    </a:lnTo>
                    <a:lnTo>
                      <a:pt x="174" y="96"/>
                    </a:lnTo>
                    <a:lnTo>
                      <a:pt x="168" y="96"/>
                    </a:lnTo>
                    <a:lnTo>
                      <a:pt x="166" y="96"/>
                    </a:lnTo>
                    <a:lnTo>
                      <a:pt x="154" y="98"/>
                    </a:lnTo>
                    <a:lnTo>
                      <a:pt x="152" y="96"/>
                    </a:lnTo>
                    <a:lnTo>
                      <a:pt x="144" y="84"/>
                    </a:lnTo>
                    <a:lnTo>
                      <a:pt x="142" y="84"/>
                    </a:lnTo>
                    <a:lnTo>
                      <a:pt x="142" y="64"/>
                    </a:lnTo>
                    <a:lnTo>
                      <a:pt x="146" y="52"/>
                    </a:lnTo>
                    <a:lnTo>
                      <a:pt x="148" y="48"/>
                    </a:lnTo>
                    <a:lnTo>
                      <a:pt x="150" y="42"/>
                    </a:lnTo>
                    <a:lnTo>
                      <a:pt x="152" y="36"/>
                    </a:lnTo>
                    <a:lnTo>
                      <a:pt x="156" y="32"/>
                    </a:lnTo>
                    <a:lnTo>
                      <a:pt x="156" y="20"/>
                    </a:lnTo>
                    <a:lnTo>
                      <a:pt x="144" y="8"/>
                    </a:lnTo>
                    <a:lnTo>
                      <a:pt x="128" y="0"/>
                    </a:lnTo>
                    <a:lnTo>
                      <a:pt x="10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13"/>
              <p:cNvSpPr/>
              <p:nvPr/>
            </p:nvSpPr>
            <p:spPr>
              <a:xfrm>
                <a:off x="4591800" y="3148200"/>
                <a:ext cx="453600" cy="415080"/>
              </a:xfrm>
              <a:custGeom>
                <a:avLst/>
                <a:gdLst/>
                <a:ahLst/>
                <a:rect l="l" t="t" r="r" b="b"/>
                <a:pathLst>
                  <a:path w="1304" h="986">
                    <a:moveTo>
                      <a:pt x="1302" y="530"/>
                    </a:moveTo>
                    <a:lnTo>
                      <a:pt x="1304" y="530"/>
                    </a:lnTo>
                    <a:lnTo>
                      <a:pt x="1304" y="528"/>
                    </a:lnTo>
                    <a:lnTo>
                      <a:pt x="1278" y="456"/>
                    </a:lnTo>
                    <a:lnTo>
                      <a:pt x="1262" y="444"/>
                    </a:lnTo>
                    <a:lnTo>
                      <a:pt x="1262" y="442"/>
                    </a:lnTo>
                    <a:lnTo>
                      <a:pt x="1258" y="412"/>
                    </a:lnTo>
                    <a:lnTo>
                      <a:pt x="1226" y="408"/>
                    </a:lnTo>
                    <a:lnTo>
                      <a:pt x="1224" y="408"/>
                    </a:lnTo>
                    <a:lnTo>
                      <a:pt x="1222" y="408"/>
                    </a:lnTo>
                    <a:lnTo>
                      <a:pt x="1222" y="406"/>
                    </a:lnTo>
                    <a:lnTo>
                      <a:pt x="1222" y="404"/>
                    </a:lnTo>
                    <a:lnTo>
                      <a:pt x="1218" y="396"/>
                    </a:lnTo>
                    <a:lnTo>
                      <a:pt x="1212" y="386"/>
                    </a:lnTo>
                    <a:lnTo>
                      <a:pt x="1202" y="378"/>
                    </a:lnTo>
                    <a:lnTo>
                      <a:pt x="1192" y="368"/>
                    </a:lnTo>
                    <a:lnTo>
                      <a:pt x="1178" y="360"/>
                    </a:lnTo>
                    <a:lnTo>
                      <a:pt x="1166" y="354"/>
                    </a:lnTo>
                    <a:lnTo>
                      <a:pt x="1152" y="346"/>
                    </a:lnTo>
                    <a:lnTo>
                      <a:pt x="1140" y="340"/>
                    </a:lnTo>
                    <a:lnTo>
                      <a:pt x="1116" y="336"/>
                    </a:lnTo>
                    <a:lnTo>
                      <a:pt x="1084" y="334"/>
                    </a:lnTo>
                    <a:lnTo>
                      <a:pt x="1042" y="332"/>
                    </a:lnTo>
                    <a:lnTo>
                      <a:pt x="1040" y="332"/>
                    </a:lnTo>
                    <a:lnTo>
                      <a:pt x="1032" y="320"/>
                    </a:lnTo>
                    <a:lnTo>
                      <a:pt x="1028" y="310"/>
                    </a:lnTo>
                    <a:lnTo>
                      <a:pt x="1026" y="300"/>
                    </a:lnTo>
                    <a:lnTo>
                      <a:pt x="1028" y="288"/>
                    </a:lnTo>
                    <a:lnTo>
                      <a:pt x="1034" y="272"/>
                    </a:lnTo>
                    <a:lnTo>
                      <a:pt x="1044" y="246"/>
                    </a:lnTo>
                    <a:lnTo>
                      <a:pt x="1058" y="214"/>
                    </a:lnTo>
                    <a:lnTo>
                      <a:pt x="1048" y="180"/>
                    </a:lnTo>
                    <a:lnTo>
                      <a:pt x="1036" y="124"/>
                    </a:lnTo>
                    <a:lnTo>
                      <a:pt x="1032" y="118"/>
                    </a:lnTo>
                    <a:lnTo>
                      <a:pt x="1024" y="112"/>
                    </a:lnTo>
                    <a:lnTo>
                      <a:pt x="1012" y="106"/>
                    </a:lnTo>
                    <a:lnTo>
                      <a:pt x="996" y="100"/>
                    </a:lnTo>
                    <a:lnTo>
                      <a:pt x="990" y="98"/>
                    </a:lnTo>
                    <a:lnTo>
                      <a:pt x="982" y="94"/>
                    </a:lnTo>
                    <a:lnTo>
                      <a:pt x="976" y="90"/>
                    </a:lnTo>
                    <a:lnTo>
                      <a:pt x="970" y="86"/>
                    </a:lnTo>
                    <a:lnTo>
                      <a:pt x="966" y="80"/>
                    </a:lnTo>
                    <a:lnTo>
                      <a:pt x="964" y="74"/>
                    </a:lnTo>
                    <a:lnTo>
                      <a:pt x="960" y="68"/>
                    </a:lnTo>
                    <a:lnTo>
                      <a:pt x="954" y="60"/>
                    </a:lnTo>
                    <a:lnTo>
                      <a:pt x="948" y="54"/>
                    </a:lnTo>
                    <a:lnTo>
                      <a:pt x="940" y="50"/>
                    </a:lnTo>
                    <a:lnTo>
                      <a:pt x="938" y="50"/>
                    </a:lnTo>
                    <a:lnTo>
                      <a:pt x="938" y="48"/>
                    </a:lnTo>
                    <a:lnTo>
                      <a:pt x="928" y="0"/>
                    </a:lnTo>
                    <a:lnTo>
                      <a:pt x="890" y="4"/>
                    </a:lnTo>
                    <a:lnTo>
                      <a:pt x="886" y="14"/>
                    </a:lnTo>
                    <a:lnTo>
                      <a:pt x="882" y="24"/>
                    </a:lnTo>
                    <a:lnTo>
                      <a:pt x="878" y="32"/>
                    </a:lnTo>
                    <a:lnTo>
                      <a:pt x="876" y="36"/>
                    </a:lnTo>
                    <a:lnTo>
                      <a:pt x="870" y="38"/>
                    </a:lnTo>
                    <a:lnTo>
                      <a:pt x="846" y="46"/>
                    </a:lnTo>
                    <a:lnTo>
                      <a:pt x="828" y="56"/>
                    </a:lnTo>
                    <a:lnTo>
                      <a:pt x="822" y="60"/>
                    </a:lnTo>
                    <a:lnTo>
                      <a:pt x="816" y="66"/>
                    </a:lnTo>
                    <a:lnTo>
                      <a:pt x="814" y="74"/>
                    </a:lnTo>
                    <a:lnTo>
                      <a:pt x="810" y="92"/>
                    </a:lnTo>
                    <a:lnTo>
                      <a:pt x="806" y="110"/>
                    </a:lnTo>
                    <a:lnTo>
                      <a:pt x="802" y="122"/>
                    </a:lnTo>
                    <a:lnTo>
                      <a:pt x="798" y="130"/>
                    </a:lnTo>
                    <a:lnTo>
                      <a:pt x="792" y="136"/>
                    </a:lnTo>
                    <a:lnTo>
                      <a:pt x="786" y="142"/>
                    </a:lnTo>
                    <a:lnTo>
                      <a:pt x="778" y="144"/>
                    </a:lnTo>
                    <a:lnTo>
                      <a:pt x="770" y="146"/>
                    </a:lnTo>
                    <a:lnTo>
                      <a:pt x="760" y="146"/>
                    </a:lnTo>
                    <a:lnTo>
                      <a:pt x="750" y="144"/>
                    </a:lnTo>
                    <a:lnTo>
                      <a:pt x="738" y="140"/>
                    </a:lnTo>
                    <a:lnTo>
                      <a:pt x="724" y="134"/>
                    </a:lnTo>
                    <a:lnTo>
                      <a:pt x="708" y="126"/>
                    </a:lnTo>
                    <a:lnTo>
                      <a:pt x="674" y="104"/>
                    </a:lnTo>
                    <a:lnTo>
                      <a:pt x="608" y="188"/>
                    </a:lnTo>
                    <a:lnTo>
                      <a:pt x="616" y="224"/>
                    </a:lnTo>
                    <a:lnTo>
                      <a:pt x="618" y="224"/>
                    </a:lnTo>
                    <a:lnTo>
                      <a:pt x="616" y="226"/>
                    </a:lnTo>
                    <a:lnTo>
                      <a:pt x="610" y="232"/>
                    </a:lnTo>
                    <a:lnTo>
                      <a:pt x="602" y="236"/>
                    </a:lnTo>
                    <a:lnTo>
                      <a:pt x="598" y="236"/>
                    </a:lnTo>
                    <a:lnTo>
                      <a:pt x="594" y="234"/>
                    </a:lnTo>
                    <a:lnTo>
                      <a:pt x="582" y="230"/>
                    </a:lnTo>
                    <a:lnTo>
                      <a:pt x="576" y="226"/>
                    </a:lnTo>
                    <a:lnTo>
                      <a:pt x="564" y="224"/>
                    </a:lnTo>
                    <a:lnTo>
                      <a:pt x="548" y="220"/>
                    </a:lnTo>
                    <a:lnTo>
                      <a:pt x="528" y="220"/>
                    </a:lnTo>
                    <a:lnTo>
                      <a:pt x="514" y="218"/>
                    </a:lnTo>
                    <a:lnTo>
                      <a:pt x="494" y="216"/>
                    </a:lnTo>
                    <a:lnTo>
                      <a:pt x="474" y="220"/>
                    </a:lnTo>
                    <a:lnTo>
                      <a:pt x="482" y="234"/>
                    </a:lnTo>
                    <a:lnTo>
                      <a:pt x="492" y="248"/>
                    </a:lnTo>
                    <a:lnTo>
                      <a:pt x="494" y="252"/>
                    </a:lnTo>
                    <a:lnTo>
                      <a:pt x="494" y="256"/>
                    </a:lnTo>
                    <a:lnTo>
                      <a:pt x="484" y="308"/>
                    </a:lnTo>
                    <a:lnTo>
                      <a:pt x="488" y="336"/>
                    </a:lnTo>
                    <a:lnTo>
                      <a:pt x="490" y="336"/>
                    </a:lnTo>
                    <a:lnTo>
                      <a:pt x="488" y="336"/>
                    </a:lnTo>
                    <a:lnTo>
                      <a:pt x="472" y="388"/>
                    </a:lnTo>
                    <a:lnTo>
                      <a:pt x="470" y="394"/>
                    </a:lnTo>
                    <a:lnTo>
                      <a:pt x="468" y="396"/>
                    </a:lnTo>
                    <a:lnTo>
                      <a:pt x="466" y="396"/>
                    </a:lnTo>
                    <a:lnTo>
                      <a:pt x="466" y="394"/>
                    </a:lnTo>
                    <a:lnTo>
                      <a:pt x="464" y="390"/>
                    </a:lnTo>
                    <a:lnTo>
                      <a:pt x="460" y="384"/>
                    </a:lnTo>
                    <a:lnTo>
                      <a:pt x="460" y="382"/>
                    </a:lnTo>
                    <a:lnTo>
                      <a:pt x="458" y="382"/>
                    </a:lnTo>
                    <a:lnTo>
                      <a:pt x="454" y="384"/>
                    </a:lnTo>
                    <a:lnTo>
                      <a:pt x="452" y="392"/>
                    </a:lnTo>
                    <a:lnTo>
                      <a:pt x="450" y="404"/>
                    </a:lnTo>
                    <a:lnTo>
                      <a:pt x="444" y="414"/>
                    </a:lnTo>
                    <a:lnTo>
                      <a:pt x="436" y="422"/>
                    </a:lnTo>
                    <a:lnTo>
                      <a:pt x="426" y="432"/>
                    </a:lnTo>
                    <a:lnTo>
                      <a:pt x="412" y="444"/>
                    </a:lnTo>
                    <a:lnTo>
                      <a:pt x="406" y="448"/>
                    </a:lnTo>
                    <a:lnTo>
                      <a:pt x="404" y="448"/>
                    </a:lnTo>
                    <a:lnTo>
                      <a:pt x="352" y="448"/>
                    </a:lnTo>
                    <a:lnTo>
                      <a:pt x="332" y="468"/>
                    </a:lnTo>
                    <a:lnTo>
                      <a:pt x="330" y="468"/>
                    </a:lnTo>
                    <a:lnTo>
                      <a:pt x="274" y="460"/>
                    </a:lnTo>
                    <a:lnTo>
                      <a:pt x="268" y="466"/>
                    </a:lnTo>
                    <a:lnTo>
                      <a:pt x="260" y="470"/>
                    </a:lnTo>
                    <a:lnTo>
                      <a:pt x="254" y="470"/>
                    </a:lnTo>
                    <a:lnTo>
                      <a:pt x="248" y="470"/>
                    </a:lnTo>
                    <a:lnTo>
                      <a:pt x="240" y="470"/>
                    </a:lnTo>
                    <a:lnTo>
                      <a:pt x="232" y="470"/>
                    </a:lnTo>
                    <a:lnTo>
                      <a:pt x="206" y="478"/>
                    </a:lnTo>
                    <a:lnTo>
                      <a:pt x="184" y="504"/>
                    </a:lnTo>
                    <a:lnTo>
                      <a:pt x="184" y="506"/>
                    </a:lnTo>
                    <a:lnTo>
                      <a:pt x="148" y="508"/>
                    </a:lnTo>
                    <a:lnTo>
                      <a:pt x="148" y="478"/>
                    </a:lnTo>
                    <a:lnTo>
                      <a:pt x="126" y="478"/>
                    </a:lnTo>
                    <a:lnTo>
                      <a:pt x="122" y="490"/>
                    </a:lnTo>
                    <a:lnTo>
                      <a:pt x="106" y="494"/>
                    </a:lnTo>
                    <a:lnTo>
                      <a:pt x="104" y="494"/>
                    </a:lnTo>
                    <a:lnTo>
                      <a:pt x="102" y="494"/>
                    </a:lnTo>
                    <a:lnTo>
                      <a:pt x="86" y="486"/>
                    </a:lnTo>
                    <a:lnTo>
                      <a:pt x="66" y="480"/>
                    </a:lnTo>
                    <a:lnTo>
                      <a:pt x="60" y="482"/>
                    </a:lnTo>
                    <a:lnTo>
                      <a:pt x="54" y="484"/>
                    </a:lnTo>
                    <a:lnTo>
                      <a:pt x="38" y="496"/>
                    </a:lnTo>
                    <a:lnTo>
                      <a:pt x="20" y="512"/>
                    </a:lnTo>
                    <a:lnTo>
                      <a:pt x="14" y="520"/>
                    </a:lnTo>
                    <a:lnTo>
                      <a:pt x="10" y="528"/>
                    </a:lnTo>
                    <a:lnTo>
                      <a:pt x="12" y="530"/>
                    </a:lnTo>
                    <a:lnTo>
                      <a:pt x="14" y="536"/>
                    </a:lnTo>
                    <a:lnTo>
                      <a:pt x="16" y="546"/>
                    </a:lnTo>
                    <a:lnTo>
                      <a:pt x="16" y="554"/>
                    </a:lnTo>
                    <a:lnTo>
                      <a:pt x="14" y="562"/>
                    </a:lnTo>
                    <a:lnTo>
                      <a:pt x="10" y="568"/>
                    </a:lnTo>
                    <a:lnTo>
                      <a:pt x="6" y="570"/>
                    </a:lnTo>
                    <a:lnTo>
                      <a:pt x="4" y="574"/>
                    </a:lnTo>
                    <a:lnTo>
                      <a:pt x="0" y="590"/>
                    </a:lnTo>
                    <a:lnTo>
                      <a:pt x="14" y="598"/>
                    </a:lnTo>
                    <a:lnTo>
                      <a:pt x="30" y="580"/>
                    </a:lnTo>
                    <a:lnTo>
                      <a:pt x="54" y="604"/>
                    </a:lnTo>
                    <a:lnTo>
                      <a:pt x="54" y="606"/>
                    </a:lnTo>
                    <a:lnTo>
                      <a:pt x="58" y="650"/>
                    </a:lnTo>
                    <a:lnTo>
                      <a:pt x="58" y="652"/>
                    </a:lnTo>
                    <a:lnTo>
                      <a:pt x="44" y="712"/>
                    </a:lnTo>
                    <a:lnTo>
                      <a:pt x="42" y="712"/>
                    </a:lnTo>
                    <a:lnTo>
                      <a:pt x="18" y="712"/>
                    </a:lnTo>
                    <a:lnTo>
                      <a:pt x="12" y="714"/>
                    </a:lnTo>
                    <a:lnTo>
                      <a:pt x="6" y="716"/>
                    </a:lnTo>
                    <a:lnTo>
                      <a:pt x="8" y="720"/>
                    </a:lnTo>
                    <a:lnTo>
                      <a:pt x="12" y="724"/>
                    </a:lnTo>
                    <a:lnTo>
                      <a:pt x="28" y="736"/>
                    </a:lnTo>
                    <a:lnTo>
                      <a:pt x="40" y="734"/>
                    </a:lnTo>
                    <a:lnTo>
                      <a:pt x="42" y="734"/>
                    </a:lnTo>
                    <a:lnTo>
                      <a:pt x="70" y="760"/>
                    </a:lnTo>
                    <a:lnTo>
                      <a:pt x="72" y="764"/>
                    </a:lnTo>
                    <a:lnTo>
                      <a:pt x="76" y="768"/>
                    </a:lnTo>
                    <a:lnTo>
                      <a:pt x="76" y="778"/>
                    </a:lnTo>
                    <a:lnTo>
                      <a:pt x="74" y="792"/>
                    </a:lnTo>
                    <a:lnTo>
                      <a:pt x="66" y="806"/>
                    </a:lnTo>
                    <a:lnTo>
                      <a:pt x="70" y="832"/>
                    </a:lnTo>
                    <a:lnTo>
                      <a:pt x="80" y="834"/>
                    </a:lnTo>
                    <a:lnTo>
                      <a:pt x="120" y="834"/>
                    </a:lnTo>
                    <a:lnTo>
                      <a:pt x="100" y="852"/>
                    </a:lnTo>
                    <a:lnTo>
                      <a:pt x="112" y="860"/>
                    </a:lnTo>
                    <a:lnTo>
                      <a:pt x="128" y="868"/>
                    </a:lnTo>
                    <a:lnTo>
                      <a:pt x="170" y="886"/>
                    </a:lnTo>
                    <a:lnTo>
                      <a:pt x="172" y="888"/>
                    </a:lnTo>
                    <a:lnTo>
                      <a:pt x="174" y="888"/>
                    </a:lnTo>
                    <a:lnTo>
                      <a:pt x="178" y="952"/>
                    </a:lnTo>
                    <a:lnTo>
                      <a:pt x="180" y="962"/>
                    </a:lnTo>
                    <a:lnTo>
                      <a:pt x="186" y="970"/>
                    </a:lnTo>
                    <a:lnTo>
                      <a:pt x="194" y="976"/>
                    </a:lnTo>
                    <a:lnTo>
                      <a:pt x="206" y="982"/>
                    </a:lnTo>
                    <a:lnTo>
                      <a:pt x="210" y="980"/>
                    </a:lnTo>
                    <a:lnTo>
                      <a:pt x="212" y="980"/>
                    </a:lnTo>
                    <a:lnTo>
                      <a:pt x="256" y="986"/>
                    </a:lnTo>
                    <a:lnTo>
                      <a:pt x="260" y="986"/>
                    </a:lnTo>
                    <a:lnTo>
                      <a:pt x="260" y="984"/>
                    </a:lnTo>
                    <a:lnTo>
                      <a:pt x="268" y="968"/>
                    </a:lnTo>
                    <a:lnTo>
                      <a:pt x="268" y="966"/>
                    </a:lnTo>
                    <a:lnTo>
                      <a:pt x="268" y="960"/>
                    </a:lnTo>
                    <a:lnTo>
                      <a:pt x="270" y="956"/>
                    </a:lnTo>
                    <a:lnTo>
                      <a:pt x="274" y="952"/>
                    </a:lnTo>
                    <a:lnTo>
                      <a:pt x="278" y="948"/>
                    </a:lnTo>
                    <a:lnTo>
                      <a:pt x="286" y="940"/>
                    </a:lnTo>
                    <a:lnTo>
                      <a:pt x="290" y="932"/>
                    </a:lnTo>
                    <a:lnTo>
                      <a:pt x="294" y="928"/>
                    </a:lnTo>
                    <a:lnTo>
                      <a:pt x="298" y="926"/>
                    </a:lnTo>
                    <a:lnTo>
                      <a:pt x="306" y="926"/>
                    </a:lnTo>
                    <a:lnTo>
                      <a:pt x="314" y="928"/>
                    </a:lnTo>
                    <a:lnTo>
                      <a:pt x="316" y="928"/>
                    </a:lnTo>
                    <a:lnTo>
                      <a:pt x="330" y="936"/>
                    </a:lnTo>
                    <a:lnTo>
                      <a:pt x="382" y="946"/>
                    </a:lnTo>
                    <a:lnTo>
                      <a:pt x="412" y="944"/>
                    </a:lnTo>
                    <a:lnTo>
                      <a:pt x="434" y="934"/>
                    </a:lnTo>
                    <a:lnTo>
                      <a:pt x="440" y="928"/>
                    </a:lnTo>
                    <a:lnTo>
                      <a:pt x="444" y="924"/>
                    </a:lnTo>
                    <a:lnTo>
                      <a:pt x="452" y="924"/>
                    </a:lnTo>
                    <a:lnTo>
                      <a:pt x="460" y="930"/>
                    </a:lnTo>
                    <a:lnTo>
                      <a:pt x="464" y="932"/>
                    </a:lnTo>
                    <a:lnTo>
                      <a:pt x="468" y="938"/>
                    </a:lnTo>
                    <a:lnTo>
                      <a:pt x="472" y="948"/>
                    </a:lnTo>
                    <a:lnTo>
                      <a:pt x="488" y="960"/>
                    </a:lnTo>
                    <a:lnTo>
                      <a:pt x="500" y="960"/>
                    </a:lnTo>
                    <a:lnTo>
                      <a:pt x="502" y="960"/>
                    </a:lnTo>
                    <a:lnTo>
                      <a:pt x="504" y="960"/>
                    </a:lnTo>
                    <a:lnTo>
                      <a:pt x="520" y="968"/>
                    </a:lnTo>
                    <a:lnTo>
                      <a:pt x="552" y="964"/>
                    </a:lnTo>
                    <a:lnTo>
                      <a:pt x="570" y="960"/>
                    </a:lnTo>
                    <a:lnTo>
                      <a:pt x="614" y="964"/>
                    </a:lnTo>
                    <a:lnTo>
                      <a:pt x="634" y="958"/>
                    </a:lnTo>
                    <a:lnTo>
                      <a:pt x="658" y="948"/>
                    </a:lnTo>
                    <a:lnTo>
                      <a:pt x="666" y="944"/>
                    </a:lnTo>
                    <a:lnTo>
                      <a:pt x="676" y="940"/>
                    </a:lnTo>
                    <a:lnTo>
                      <a:pt x="720" y="940"/>
                    </a:lnTo>
                    <a:lnTo>
                      <a:pt x="736" y="934"/>
                    </a:lnTo>
                    <a:lnTo>
                      <a:pt x="746" y="930"/>
                    </a:lnTo>
                    <a:lnTo>
                      <a:pt x="754" y="928"/>
                    </a:lnTo>
                    <a:lnTo>
                      <a:pt x="778" y="928"/>
                    </a:lnTo>
                    <a:lnTo>
                      <a:pt x="790" y="936"/>
                    </a:lnTo>
                    <a:lnTo>
                      <a:pt x="826" y="944"/>
                    </a:lnTo>
                    <a:lnTo>
                      <a:pt x="830" y="944"/>
                    </a:lnTo>
                    <a:lnTo>
                      <a:pt x="832" y="948"/>
                    </a:lnTo>
                    <a:lnTo>
                      <a:pt x="842" y="956"/>
                    </a:lnTo>
                    <a:lnTo>
                      <a:pt x="858" y="964"/>
                    </a:lnTo>
                    <a:lnTo>
                      <a:pt x="858" y="966"/>
                    </a:lnTo>
                    <a:lnTo>
                      <a:pt x="892" y="968"/>
                    </a:lnTo>
                    <a:lnTo>
                      <a:pt x="908" y="976"/>
                    </a:lnTo>
                    <a:lnTo>
                      <a:pt x="928" y="980"/>
                    </a:lnTo>
                    <a:lnTo>
                      <a:pt x="946" y="982"/>
                    </a:lnTo>
                    <a:lnTo>
                      <a:pt x="950" y="972"/>
                    </a:lnTo>
                    <a:lnTo>
                      <a:pt x="942" y="956"/>
                    </a:lnTo>
                    <a:lnTo>
                      <a:pt x="940" y="940"/>
                    </a:lnTo>
                    <a:lnTo>
                      <a:pt x="938" y="940"/>
                    </a:lnTo>
                    <a:lnTo>
                      <a:pt x="942" y="936"/>
                    </a:lnTo>
                    <a:lnTo>
                      <a:pt x="952" y="922"/>
                    </a:lnTo>
                    <a:lnTo>
                      <a:pt x="952" y="920"/>
                    </a:lnTo>
                    <a:lnTo>
                      <a:pt x="954" y="920"/>
                    </a:lnTo>
                    <a:lnTo>
                      <a:pt x="964" y="912"/>
                    </a:lnTo>
                    <a:lnTo>
                      <a:pt x="962" y="908"/>
                    </a:lnTo>
                    <a:lnTo>
                      <a:pt x="958" y="892"/>
                    </a:lnTo>
                    <a:lnTo>
                      <a:pt x="956" y="888"/>
                    </a:lnTo>
                    <a:lnTo>
                      <a:pt x="950" y="884"/>
                    </a:lnTo>
                    <a:lnTo>
                      <a:pt x="938" y="872"/>
                    </a:lnTo>
                    <a:lnTo>
                      <a:pt x="922" y="858"/>
                    </a:lnTo>
                    <a:lnTo>
                      <a:pt x="922" y="856"/>
                    </a:lnTo>
                    <a:lnTo>
                      <a:pt x="920" y="856"/>
                    </a:lnTo>
                    <a:lnTo>
                      <a:pt x="922" y="856"/>
                    </a:lnTo>
                    <a:lnTo>
                      <a:pt x="922" y="854"/>
                    </a:lnTo>
                    <a:lnTo>
                      <a:pt x="924" y="838"/>
                    </a:lnTo>
                    <a:lnTo>
                      <a:pt x="924" y="828"/>
                    </a:lnTo>
                    <a:lnTo>
                      <a:pt x="916" y="808"/>
                    </a:lnTo>
                    <a:lnTo>
                      <a:pt x="934" y="804"/>
                    </a:lnTo>
                    <a:lnTo>
                      <a:pt x="944" y="796"/>
                    </a:lnTo>
                    <a:lnTo>
                      <a:pt x="966" y="796"/>
                    </a:lnTo>
                    <a:lnTo>
                      <a:pt x="988" y="792"/>
                    </a:lnTo>
                    <a:lnTo>
                      <a:pt x="990" y="792"/>
                    </a:lnTo>
                    <a:lnTo>
                      <a:pt x="1004" y="794"/>
                    </a:lnTo>
                    <a:lnTo>
                      <a:pt x="1022" y="788"/>
                    </a:lnTo>
                    <a:lnTo>
                      <a:pt x="1042" y="784"/>
                    </a:lnTo>
                    <a:lnTo>
                      <a:pt x="1054" y="780"/>
                    </a:lnTo>
                    <a:lnTo>
                      <a:pt x="1056" y="780"/>
                    </a:lnTo>
                    <a:lnTo>
                      <a:pt x="1090" y="772"/>
                    </a:lnTo>
                    <a:lnTo>
                      <a:pt x="1096" y="768"/>
                    </a:lnTo>
                    <a:lnTo>
                      <a:pt x="1094" y="760"/>
                    </a:lnTo>
                    <a:lnTo>
                      <a:pt x="1088" y="750"/>
                    </a:lnTo>
                    <a:lnTo>
                      <a:pt x="1088" y="748"/>
                    </a:lnTo>
                    <a:lnTo>
                      <a:pt x="1086" y="748"/>
                    </a:lnTo>
                    <a:lnTo>
                      <a:pt x="1088" y="736"/>
                    </a:lnTo>
                    <a:lnTo>
                      <a:pt x="1090" y="734"/>
                    </a:lnTo>
                    <a:lnTo>
                      <a:pt x="1090" y="718"/>
                    </a:lnTo>
                    <a:lnTo>
                      <a:pt x="1086" y="704"/>
                    </a:lnTo>
                    <a:lnTo>
                      <a:pt x="1086" y="702"/>
                    </a:lnTo>
                    <a:lnTo>
                      <a:pt x="1094" y="686"/>
                    </a:lnTo>
                    <a:lnTo>
                      <a:pt x="1100" y="678"/>
                    </a:lnTo>
                    <a:lnTo>
                      <a:pt x="1102" y="676"/>
                    </a:lnTo>
                    <a:lnTo>
                      <a:pt x="1106" y="676"/>
                    </a:lnTo>
                    <a:lnTo>
                      <a:pt x="1126" y="676"/>
                    </a:lnTo>
                    <a:lnTo>
                      <a:pt x="1132" y="676"/>
                    </a:lnTo>
                    <a:lnTo>
                      <a:pt x="1138" y="672"/>
                    </a:lnTo>
                    <a:lnTo>
                      <a:pt x="1170" y="630"/>
                    </a:lnTo>
                    <a:lnTo>
                      <a:pt x="1170" y="628"/>
                    </a:lnTo>
                    <a:lnTo>
                      <a:pt x="1186" y="614"/>
                    </a:lnTo>
                    <a:lnTo>
                      <a:pt x="1188" y="612"/>
                    </a:lnTo>
                    <a:lnTo>
                      <a:pt x="1196" y="610"/>
                    </a:lnTo>
                    <a:lnTo>
                      <a:pt x="1202" y="608"/>
                    </a:lnTo>
                    <a:lnTo>
                      <a:pt x="1206" y="604"/>
                    </a:lnTo>
                    <a:lnTo>
                      <a:pt x="1214" y="596"/>
                    </a:lnTo>
                    <a:lnTo>
                      <a:pt x="1218" y="592"/>
                    </a:lnTo>
                    <a:lnTo>
                      <a:pt x="1246" y="598"/>
                    </a:lnTo>
                    <a:lnTo>
                      <a:pt x="1270" y="588"/>
                    </a:lnTo>
                    <a:lnTo>
                      <a:pt x="1284" y="586"/>
                    </a:lnTo>
                    <a:lnTo>
                      <a:pt x="1296" y="580"/>
                    </a:lnTo>
                    <a:lnTo>
                      <a:pt x="1296" y="562"/>
                    </a:lnTo>
                    <a:lnTo>
                      <a:pt x="1298" y="540"/>
                    </a:lnTo>
                    <a:lnTo>
                      <a:pt x="1298" y="538"/>
                    </a:lnTo>
                    <a:lnTo>
                      <a:pt x="1302" y="532"/>
                    </a:lnTo>
                    <a:lnTo>
                      <a:pt x="1302" y="5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14"/>
              <p:cNvSpPr/>
              <p:nvPr/>
            </p:nvSpPr>
            <p:spPr>
              <a:xfrm>
                <a:off x="4885920" y="3474360"/>
                <a:ext cx="282240" cy="244800"/>
              </a:xfrm>
              <a:custGeom>
                <a:avLst/>
                <a:gdLst/>
                <a:ahLst/>
                <a:rect l="l" t="t" r="r" b="b"/>
                <a:pathLst>
                  <a:path w="812" h="582">
                    <a:moveTo>
                      <a:pt x="484" y="30"/>
                    </a:moveTo>
                    <a:lnTo>
                      <a:pt x="476" y="36"/>
                    </a:lnTo>
                    <a:lnTo>
                      <a:pt x="480" y="56"/>
                    </a:lnTo>
                    <a:lnTo>
                      <a:pt x="480" y="58"/>
                    </a:lnTo>
                    <a:lnTo>
                      <a:pt x="482" y="58"/>
                    </a:lnTo>
                    <a:lnTo>
                      <a:pt x="480" y="58"/>
                    </a:lnTo>
                    <a:lnTo>
                      <a:pt x="472" y="78"/>
                    </a:lnTo>
                    <a:lnTo>
                      <a:pt x="460" y="82"/>
                    </a:lnTo>
                    <a:lnTo>
                      <a:pt x="458" y="84"/>
                    </a:lnTo>
                    <a:lnTo>
                      <a:pt x="456" y="84"/>
                    </a:lnTo>
                    <a:lnTo>
                      <a:pt x="436" y="74"/>
                    </a:lnTo>
                    <a:lnTo>
                      <a:pt x="396" y="38"/>
                    </a:lnTo>
                    <a:lnTo>
                      <a:pt x="380" y="28"/>
                    </a:lnTo>
                    <a:lnTo>
                      <a:pt x="356" y="20"/>
                    </a:lnTo>
                    <a:lnTo>
                      <a:pt x="356" y="18"/>
                    </a:lnTo>
                    <a:lnTo>
                      <a:pt x="344" y="10"/>
                    </a:lnTo>
                    <a:lnTo>
                      <a:pt x="324" y="4"/>
                    </a:lnTo>
                    <a:lnTo>
                      <a:pt x="314" y="6"/>
                    </a:lnTo>
                    <a:lnTo>
                      <a:pt x="312" y="6"/>
                    </a:lnTo>
                    <a:lnTo>
                      <a:pt x="288" y="4"/>
                    </a:lnTo>
                    <a:lnTo>
                      <a:pt x="286" y="4"/>
                    </a:lnTo>
                    <a:lnTo>
                      <a:pt x="268" y="0"/>
                    </a:lnTo>
                    <a:lnTo>
                      <a:pt x="256" y="0"/>
                    </a:lnTo>
                    <a:lnTo>
                      <a:pt x="248" y="6"/>
                    </a:lnTo>
                    <a:lnTo>
                      <a:pt x="240" y="8"/>
                    </a:lnTo>
                    <a:lnTo>
                      <a:pt x="228" y="10"/>
                    </a:lnTo>
                    <a:lnTo>
                      <a:pt x="212" y="14"/>
                    </a:lnTo>
                    <a:lnTo>
                      <a:pt x="198" y="18"/>
                    </a:lnTo>
                    <a:lnTo>
                      <a:pt x="196" y="20"/>
                    </a:lnTo>
                    <a:lnTo>
                      <a:pt x="180" y="22"/>
                    </a:lnTo>
                    <a:lnTo>
                      <a:pt x="160" y="28"/>
                    </a:lnTo>
                    <a:lnTo>
                      <a:pt x="158" y="28"/>
                    </a:lnTo>
                    <a:lnTo>
                      <a:pt x="144" y="26"/>
                    </a:lnTo>
                    <a:lnTo>
                      <a:pt x="120" y="30"/>
                    </a:lnTo>
                    <a:lnTo>
                      <a:pt x="100" y="30"/>
                    </a:lnTo>
                    <a:lnTo>
                      <a:pt x="92" y="38"/>
                    </a:lnTo>
                    <a:lnTo>
                      <a:pt x="82" y="40"/>
                    </a:lnTo>
                    <a:lnTo>
                      <a:pt x="86" y="50"/>
                    </a:lnTo>
                    <a:lnTo>
                      <a:pt x="86" y="66"/>
                    </a:lnTo>
                    <a:lnTo>
                      <a:pt x="84" y="78"/>
                    </a:lnTo>
                    <a:lnTo>
                      <a:pt x="98" y="90"/>
                    </a:lnTo>
                    <a:lnTo>
                      <a:pt x="110" y="102"/>
                    </a:lnTo>
                    <a:lnTo>
                      <a:pt x="118" y="110"/>
                    </a:lnTo>
                    <a:lnTo>
                      <a:pt x="120" y="114"/>
                    </a:lnTo>
                    <a:lnTo>
                      <a:pt x="120" y="118"/>
                    </a:lnTo>
                    <a:lnTo>
                      <a:pt x="124" y="130"/>
                    </a:lnTo>
                    <a:lnTo>
                      <a:pt x="130" y="142"/>
                    </a:lnTo>
                    <a:lnTo>
                      <a:pt x="128" y="142"/>
                    </a:lnTo>
                    <a:lnTo>
                      <a:pt x="112" y="154"/>
                    </a:lnTo>
                    <a:lnTo>
                      <a:pt x="102" y="166"/>
                    </a:lnTo>
                    <a:lnTo>
                      <a:pt x="104" y="178"/>
                    </a:lnTo>
                    <a:lnTo>
                      <a:pt x="112" y="196"/>
                    </a:lnTo>
                    <a:lnTo>
                      <a:pt x="112" y="198"/>
                    </a:lnTo>
                    <a:lnTo>
                      <a:pt x="112" y="204"/>
                    </a:lnTo>
                    <a:lnTo>
                      <a:pt x="108" y="210"/>
                    </a:lnTo>
                    <a:lnTo>
                      <a:pt x="106" y="214"/>
                    </a:lnTo>
                    <a:lnTo>
                      <a:pt x="102" y="216"/>
                    </a:lnTo>
                    <a:lnTo>
                      <a:pt x="96" y="216"/>
                    </a:lnTo>
                    <a:lnTo>
                      <a:pt x="80" y="214"/>
                    </a:lnTo>
                    <a:lnTo>
                      <a:pt x="60" y="210"/>
                    </a:lnTo>
                    <a:lnTo>
                      <a:pt x="58" y="210"/>
                    </a:lnTo>
                    <a:lnTo>
                      <a:pt x="44" y="202"/>
                    </a:lnTo>
                    <a:lnTo>
                      <a:pt x="20" y="202"/>
                    </a:lnTo>
                    <a:lnTo>
                      <a:pt x="22" y="202"/>
                    </a:lnTo>
                    <a:lnTo>
                      <a:pt x="20" y="242"/>
                    </a:lnTo>
                    <a:lnTo>
                      <a:pt x="18" y="246"/>
                    </a:lnTo>
                    <a:lnTo>
                      <a:pt x="16" y="248"/>
                    </a:lnTo>
                    <a:lnTo>
                      <a:pt x="8" y="250"/>
                    </a:lnTo>
                    <a:lnTo>
                      <a:pt x="6" y="254"/>
                    </a:lnTo>
                    <a:lnTo>
                      <a:pt x="6" y="262"/>
                    </a:lnTo>
                    <a:lnTo>
                      <a:pt x="4" y="262"/>
                    </a:lnTo>
                    <a:lnTo>
                      <a:pt x="4" y="272"/>
                    </a:lnTo>
                    <a:lnTo>
                      <a:pt x="10" y="280"/>
                    </a:lnTo>
                    <a:lnTo>
                      <a:pt x="14" y="284"/>
                    </a:lnTo>
                    <a:lnTo>
                      <a:pt x="18" y="304"/>
                    </a:lnTo>
                    <a:lnTo>
                      <a:pt x="18" y="310"/>
                    </a:lnTo>
                    <a:lnTo>
                      <a:pt x="16" y="322"/>
                    </a:lnTo>
                    <a:lnTo>
                      <a:pt x="10" y="338"/>
                    </a:lnTo>
                    <a:lnTo>
                      <a:pt x="0" y="358"/>
                    </a:lnTo>
                    <a:lnTo>
                      <a:pt x="0" y="362"/>
                    </a:lnTo>
                    <a:lnTo>
                      <a:pt x="0" y="370"/>
                    </a:lnTo>
                    <a:lnTo>
                      <a:pt x="12" y="384"/>
                    </a:lnTo>
                    <a:lnTo>
                      <a:pt x="16" y="394"/>
                    </a:lnTo>
                    <a:lnTo>
                      <a:pt x="26" y="406"/>
                    </a:lnTo>
                    <a:lnTo>
                      <a:pt x="40" y="422"/>
                    </a:lnTo>
                    <a:lnTo>
                      <a:pt x="48" y="430"/>
                    </a:lnTo>
                    <a:lnTo>
                      <a:pt x="52" y="430"/>
                    </a:lnTo>
                    <a:lnTo>
                      <a:pt x="68" y="422"/>
                    </a:lnTo>
                    <a:lnTo>
                      <a:pt x="72" y="418"/>
                    </a:lnTo>
                    <a:lnTo>
                      <a:pt x="76" y="418"/>
                    </a:lnTo>
                    <a:lnTo>
                      <a:pt x="84" y="420"/>
                    </a:lnTo>
                    <a:lnTo>
                      <a:pt x="92" y="424"/>
                    </a:lnTo>
                    <a:lnTo>
                      <a:pt x="92" y="426"/>
                    </a:lnTo>
                    <a:lnTo>
                      <a:pt x="100" y="434"/>
                    </a:lnTo>
                    <a:lnTo>
                      <a:pt x="104" y="444"/>
                    </a:lnTo>
                    <a:lnTo>
                      <a:pt x="108" y="448"/>
                    </a:lnTo>
                    <a:lnTo>
                      <a:pt x="110" y="450"/>
                    </a:lnTo>
                    <a:lnTo>
                      <a:pt x="120" y="458"/>
                    </a:lnTo>
                    <a:lnTo>
                      <a:pt x="126" y="458"/>
                    </a:lnTo>
                    <a:lnTo>
                      <a:pt x="132" y="460"/>
                    </a:lnTo>
                    <a:lnTo>
                      <a:pt x="136" y="464"/>
                    </a:lnTo>
                    <a:lnTo>
                      <a:pt x="144" y="468"/>
                    </a:lnTo>
                    <a:lnTo>
                      <a:pt x="160" y="474"/>
                    </a:lnTo>
                    <a:lnTo>
                      <a:pt x="162" y="474"/>
                    </a:lnTo>
                    <a:lnTo>
                      <a:pt x="186" y="482"/>
                    </a:lnTo>
                    <a:lnTo>
                      <a:pt x="188" y="482"/>
                    </a:lnTo>
                    <a:lnTo>
                      <a:pt x="204" y="490"/>
                    </a:lnTo>
                    <a:lnTo>
                      <a:pt x="232" y="498"/>
                    </a:lnTo>
                    <a:lnTo>
                      <a:pt x="234" y="498"/>
                    </a:lnTo>
                    <a:lnTo>
                      <a:pt x="272" y="500"/>
                    </a:lnTo>
                    <a:lnTo>
                      <a:pt x="288" y="494"/>
                    </a:lnTo>
                    <a:lnTo>
                      <a:pt x="304" y="494"/>
                    </a:lnTo>
                    <a:lnTo>
                      <a:pt x="304" y="496"/>
                    </a:lnTo>
                    <a:lnTo>
                      <a:pt x="316" y="512"/>
                    </a:lnTo>
                    <a:lnTo>
                      <a:pt x="324" y="526"/>
                    </a:lnTo>
                    <a:lnTo>
                      <a:pt x="332" y="532"/>
                    </a:lnTo>
                    <a:lnTo>
                      <a:pt x="340" y="536"/>
                    </a:lnTo>
                    <a:lnTo>
                      <a:pt x="340" y="538"/>
                    </a:lnTo>
                    <a:lnTo>
                      <a:pt x="342" y="538"/>
                    </a:lnTo>
                    <a:lnTo>
                      <a:pt x="348" y="554"/>
                    </a:lnTo>
                    <a:lnTo>
                      <a:pt x="350" y="554"/>
                    </a:lnTo>
                    <a:lnTo>
                      <a:pt x="350" y="556"/>
                    </a:lnTo>
                    <a:lnTo>
                      <a:pt x="354" y="574"/>
                    </a:lnTo>
                    <a:lnTo>
                      <a:pt x="364" y="578"/>
                    </a:lnTo>
                    <a:lnTo>
                      <a:pt x="366" y="578"/>
                    </a:lnTo>
                    <a:lnTo>
                      <a:pt x="376" y="582"/>
                    </a:lnTo>
                    <a:lnTo>
                      <a:pt x="388" y="580"/>
                    </a:lnTo>
                    <a:lnTo>
                      <a:pt x="390" y="568"/>
                    </a:lnTo>
                    <a:lnTo>
                      <a:pt x="392" y="566"/>
                    </a:lnTo>
                    <a:lnTo>
                      <a:pt x="404" y="554"/>
                    </a:lnTo>
                    <a:lnTo>
                      <a:pt x="420" y="558"/>
                    </a:lnTo>
                    <a:lnTo>
                      <a:pt x="428" y="574"/>
                    </a:lnTo>
                    <a:lnTo>
                      <a:pt x="442" y="570"/>
                    </a:lnTo>
                    <a:lnTo>
                      <a:pt x="444" y="554"/>
                    </a:lnTo>
                    <a:lnTo>
                      <a:pt x="444" y="552"/>
                    </a:lnTo>
                    <a:lnTo>
                      <a:pt x="456" y="546"/>
                    </a:lnTo>
                    <a:lnTo>
                      <a:pt x="452" y="524"/>
                    </a:lnTo>
                    <a:lnTo>
                      <a:pt x="452" y="522"/>
                    </a:lnTo>
                    <a:lnTo>
                      <a:pt x="464" y="496"/>
                    </a:lnTo>
                    <a:lnTo>
                      <a:pt x="476" y="492"/>
                    </a:lnTo>
                    <a:lnTo>
                      <a:pt x="472" y="470"/>
                    </a:lnTo>
                    <a:lnTo>
                      <a:pt x="484" y="470"/>
                    </a:lnTo>
                    <a:lnTo>
                      <a:pt x="484" y="458"/>
                    </a:lnTo>
                    <a:lnTo>
                      <a:pt x="476" y="438"/>
                    </a:lnTo>
                    <a:lnTo>
                      <a:pt x="476" y="436"/>
                    </a:lnTo>
                    <a:lnTo>
                      <a:pt x="478" y="420"/>
                    </a:lnTo>
                    <a:lnTo>
                      <a:pt x="478" y="418"/>
                    </a:lnTo>
                    <a:lnTo>
                      <a:pt x="480" y="418"/>
                    </a:lnTo>
                    <a:lnTo>
                      <a:pt x="488" y="406"/>
                    </a:lnTo>
                    <a:lnTo>
                      <a:pt x="490" y="406"/>
                    </a:lnTo>
                    <a:lnTo>
                      <a:pt x="492" y="406"/>
                    </a:lnTo>
                    <a:lnTo>
                      <a:pt x="514" y="410"/>
                    </a:lnTo>
                    <a:lnTo>
                      <a:pt x="532" y="414"/>
                    </a:lnTo>
                    <a:lnTo>
                      <a:pt x="548" y="410"/>
                    </a:lnTo>
                    <a:lnTo>
                      <a:pt x="556" y="426"/>
                    </a:lnTo>
                    <a:lnTo>
                      <a:pt x="556" y="428"/>
                    </a:lnTo>
                    <a:lnTo>
                      <a:pt x="556" y="440"/>
                    </a:lnTo>
                    <a:lnTo>
                      <a:pt x="560" y="452"/>
                    </a:lnTo>
                    <a:lnTo>
                      <a:pt x="562" y="458"/>
                    </a:lnTo>
                    <a:lnTo>
                      <a:pt x="568" y="462"/>
                    </a:lnTo>
                    <a:lnTo>
                      <a:pt x="578" y="464"/>
                    </a:lnTo>
                    <a:lnTo>
                      <a:pt x="580" y="468"/>
                    </a:lnTo>
                    <a:lnTo>
                      <a:pt x="580" y="470"/>
                    </a:lnTo>
                    <a:lnTo>
                      <a:pt x="584" y="478"/>
                    </a:lnTo>
                    <a:lnTo>
                      <a:pt x="590" y="486"/>
                    </a:lnTo>
                    <a:lnTo>
                      <a:pt x="598" y="498"/>
                    </a:lnTo>
                    <a:lnTo>
                      <a:pt x="602" y="506"/>
                    </a:lnTo>
                    <a:lnTo>
                      <a:pt x="610" y="506"/>
                    </a:lnTo>
                    <a:lnTo>
                      <a:pt x="624" y="494"/>
                    </a:lnTo>
                    <a:lnTo>
                      <a:pt x="632" y="512"/>
                    </a:lnTo>
                    <a:lnTo>
                      <a:pt x="650" y="518"/>
                    </a:lnTo>
                    <a:lnTo>
                      <a:pt x="652" y="518"/>
                    </a:lnTo>
                    <a:lnTo>
                      <a:pt x="660" y="534"/>
                    </a:lnTo>
                    <a:lnTo>
                      <a:pt x="664" y="538"/>
                    </a:lnTo>
                    <a:lnTo>
                      <a:pt x="664" y="522"/>
                    </a:lnTo>
                    <a:lnTo>
                      <a:pt x="664" y="518"/>
                    </a:lnTo>
                    <a:lnTo>
                      <a:pt x="700" y="518"/>
                    </a:lnTo>
                    <a:lnTo>
                      <a:pt x="700" y="514"/>
                    </a:lnTo>
                    <a:lnTo>
                      <a:pt x="702" y="512"/>
                    </a:lnTo>
                    <a:lnTo>
                      <a:pt x="700" y="508"/>
                    </a:lnTo>
                    <a:lnTo>
                      <a:pt x="698" y="500"/>
                    </a:lnTo>
                    <a:lnTo>
                      <a:pt x="696" y="494"/>
                    </a:lnTo>
                    <a:lnTo>
                      <a:pt x="696" y="486"/>
                    </a:lnTo>
                    <a:lnTo>
                      <a:pt x="698" y="480"/>
                    </a:lnTo>
                    <a:lnTo>
                      <a:pt x="702" y="478"/>
                    </a:lnTo>
                    <a:lnTo>
                      <a:pt x="706" y="478"/>
                    </a:lnTo>
                    <a:lnTo>
                      <a:pt x="720" y="482"/>
                    </a:lnTo>
                    <a:lnTo>
                      <a:pt x="722" y="472"/>
                    </a:lnTo>
                    <a:lnTo>
                      <a:pt x="696" y="460"/>
                    </a:lnTo>
                    <a:lnTo>
                      <a:pt x="694" y="460"/>
                    </a:lnTo>
                    <a:lnTo>
                      <a:pt x="692" y="458"/>
                    </a:lnTo>
                    <a:lnTo>
                      <a:pt x="688" y="426"/>
                    </a:lnTo>
                    <a:lnTo>
                      <a:pt x="690" y="406"/>
                    </a:lnTo>
                    <a:lnTo>
                      <a:pt x="690" y="402"/>
                    </a:lnTo>
                    <a:lnTo>
                      <a:pt x="734" y="406"/>
                    </a:lnTo>
                    <a:lnTo>
                      <a:pt x="744" y="396"/>
                    </a:lnTo>
                    <a:lnTo>
                      <a:pt x="746" y="392"/>
                    </a:lnTo>
                    <a:lnTo>
                      <a:pt x="744" y="388"/>
                    </a:lnTo>
                    <a:lnTo>
                      <a:pt x="732" y="382"/>
                    </a:lnTo>
                    <a:lnTo>
                      <a:pt x="730" y="378"/>
                    </a:lnTo>
                    <a:lnTo>
                      <a:pt x="728" y="374"/>
                    </a:lnTo>
                    <a:lnTo>
                      <a:pt x="730" y="372"/>
                    </a:lnTo>
                    <a:lnTo>
                      <a:pt x="732" y="368"/>
                    </a:lnTo>
                    <a:lnTo>
                      <a:pt x="752" y="350"/>
                    </a:lnTo>
                    <a:lnTo>
                      <a:pt x="772" y="348"/>
                    </a:lnTo>
                    <a:lnTo>
                      <a:pt x="782" y="330"/>
                    </a:lnTo>
                    <a:lnTo>
                      <a:pt x="782" y="314"/>
                    </a:lnTo>
                    <a:lnTo>
                      <a:pt x="796" y="310"/>
                    </a:lnTo>
                    <a:lnTo>
                      <a:pt x="804" y="290"/>
                    </a:lnTo>
                    <a:lnTo>
                      <a:pt x="812" y="276"/>
                    </a:lnTo>
                    <a:lnTo>
                      <a:pt x="800" y="256"/>
                    </a:lnTo>
                    <a:lnTo>
                      <a:pt x="800" y="254"/>
                    </a:lnTo>
                    <a:lnTo>
                      <a:pt x="792" y="228"/>
                    </a:lnTo>
                    <a:lnTo>
                      <a:pt x="792" y="226"/>
                    </a:lnTo>
                    <a:lnTo>
                      <a:pt x="788" y="198"/>
                    </a:lnTo>
                    <a:lnTo>
                      <a:pt x="778" y="182"/>
                    </a:lnTo>
                    <a:lnTo>
                      <a:pt x="764" y="168"/>
                    </a:lnTo>
                    <a:lnTo>
                      <a:pt x="764" y="166"/>
                    </a:lnTo>
                    <a:lnTo>
                      <a:pt x="762" y="150"/>
                    </a:lnTo>
                    <a:lnTo>
                      <a:pt x="736" y="158"/>
                    </a:lnTo>
                    <a:lnTo>
                      <a:pt x="724" y="144"/>
                    </a:lnTo>
                    <a:lnTo>
                      <a:pt x="688" y="118"/>
                    </a:lnTo>
                    <a:lnTo>
                      <a:pt x="686" y="118"/>
                    </a:lnTo>
                    <a:lnTo>
                      <a:pt x="672" y="100"/>
                    </a:lnTo>
                    <a:lnTo>
                      <a:pt x="664" y="94"/>
                    </a:lnTo>
                    <a:lnTo>
                      <a:pt x="658" y="102"/>
                    </a:lnTo>
                    <a:lnTo>
                      <a:pt x="658" y="104"/>
                    </a:lnTo>
                    <a:lnTo>
                      <a:pt x="658" y="106"/>
                    </a:lnTo>
                    <a:lnTo>
                      <a:pt x="656" y="106"/>
                    </a:lnTo>
                    <a:lnTo>
                      <a:pt x="644" y="106"/>
                    </a:lnTo>
                    <a:lnTo>
                      <a:pt x="642" y="106"/>
                    </a:lnTo>
                    <a:lnTo>
                      <a:pt x="616" y="78"/>
                    </a:lnTo>
                    <a:lnTo>
                      <a:pt x="606" y="72"/>
                    </a:lnTo>
                    <a:lnTo>
                      <a:pt x="596" y="62"/>
                    </a:lnTo>
                    <a:lnTo>
                      <a:pt x="584" y="54"/>
                    </a:lnTo>
                    <a:lnTo>
                      <a:pt x="584" y="52"/>
                    </a:lnTo>
                    <a:lnTo>
                      <a:pt x="570" y="44"/>
                    </a:lnTo>
                    <a:lnTo>
                      <a:pt x="562" y="50"/>
                    </a:lnTo>
                    <a:lnTo>
                      <a:pt x="560" y="52"/>
                    </a:lnTo>
                    <a:lnTo>
                      <a:pt x="552" y="50"/>
                    </a:lnTo>
                    <a:lnTo>
                      <a:pt x="544" y="54"/>
                    </a:lnTo>
                    <a:lnTo>
                      <a:pt x="542" y="56"/>
                    </a:lnTo>
                    <a:lnTo>
                      <a:pt x="530" y="58"/>
                    </a:lnTo>
                    <a:lnTo>
                      <a:pt x="484" y="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15"/>
              <p:cNvSpPr/>
              <p:nvPr/>
            </p:nvSpPr>
            <p:spPr>
              <a:xfrm>
                <a:off x="5048280" y="3646080"/>
                <a:ext cx="244080" cy="259200"/>
              </a:xfrm>
              <a:custGeom>
                <a:avLst/>
                <a:gdLst/>
                <a:ahLst/>
                <a:rect l="l" t="t" r="r" b="b"/>
                <a:pathLst>
                  <a:path w="702" h="616">
                    <a:moveTo>
                      <a:pt x="66" y="14"/>
                    </a:moveTo>
                    <a:lnTo>
                      <a:pt x="46" y="10"/>
                    </a:lnTo>
                    <a:lnTo>
                      <a:pt x="28" y="6"/>
                    </a:lnTo>
                    <a:lnTo>
                      <a:pt x="22" y="14"/>
                    </a:lnTo>
                    <a:lnTo>
                      <a:pt x="20" y="28"/>
                    </a:lnTo>
                    <a:lnTo>
                      <a:pt x="26" y="50"/>
                    </a:lnTo>
                    <a:lnTo>
                      <a:pt x="26" y="66"/>
                    </a:lnTo>
                    <a:lnTo>
                      <a:pt x="26" y="70"/>
                    </a:lnTo>
                    <a:lnTo>
                      <a:pt x="18" y="70"/>
                    </a:lnTo>
                    <a:lnTo>
                      <a:pt x="22" y="90"/>
                    </a:lnTo>
                    <a:lnTo>
                      <a:pt x="6" y="94"/>
                    </a:lnTo>
                    <a:lnTo>
                      <a:pt x="0" y="106"/>
                    </a:lnTo>
                    <a:lnTo>
                      <a:pt x="8" y="114"/>
                    </a:lnTo>
                    <a:lnTo>
                      <a:pt x="10" y="114"/>
                    </a:lnTo>
                    <a:lnTo>
                      <a:pt x="38" y="136"/>
                    </a:lnTo>
                    <a:lnTo>
                      <a:pt x="38" y="138"/>
                    </a:lnTo>
                    <a:lnTo>
                      <a:pt x="42" y="158"/>
                    </a:lnTo>
                    <a:lnTo>
                      <a:pt x="56" y="178"/>
                    </a:lnTo>
                    <a:lnTo>
                      <a:pt x="62" y="184"/>
                    </a:lnTo>
                    <a:lnTo>
                      <a:pt x="70" y="194"/>
                    </a:lnTo>
                    <a:lnTo>
                      <a:pt x="72" y="194"/>
                    </a:lnTo>
                    <a:lnTo>
                      <a:pt x="70" y="196"/>
                    </a:lnTo>
                    <a:lnTo>
                      <a:pt x="70" y="214"/>
                    </a:lnTo>
                    <a:lnTo>
                      <a:pt x="74" y="226"/>
                    </a:lnTo>
                    <a:lnTo>
                      <a:pt x="74" y="244"/>
                    </a:lnTo>
                    <a:lnTo>
                      <a:pt x="82" y="258"/>
                    </a:lnTo>
                    <a:lnTo>
                      <a:pt x="84" y="266"/>
                    </a:lnTo>
                    <a:lnTo>
                      <a:pt x="86" y="274"/>
                    </a:lnTo>
                    <a:lnTo>
                      <a:pt x="90" y="286"/>
                    </a:lnTo>
                    <a:lnTo>
                      <a:pt x="92" y="302"/>
                    </a:lnTo>
                    <a:lnTo>
                      <a:pt x="90" y="314"/>
                    </a:lnTo>
                    <a:lnTo>
                      <a:pt x="88" y="320"/>
                    </a:lnTo>
                    <a:lnTo>
                      <a:pt x="90" y="326"/>
                    </a:lnTo>
                    <a:lnTo>
                      <a:pt x="94" y="336"/>
                    </a:lnTo>
                    <a:lnTo>
                      <a:pt x="98" y="346"/>
                    </a:lnTo>
                    <a:lnTo>
                      <a:pt x="100" y="346"/>
                    </a:lnTo>
                    <a:lnTo>
                      <a:pt x="100" y="348"/>
                    </a:lnTo>
                    <a:lnTo>
                      <a:pt x="100" y="350"/>
                    </a:lnTo>
                    <a:lnTo>
                      <a:pt x="86" y="378"/>
                    </a:lnTo>
                    <a:lnTo>
                      <a:pt x="90" y="386"/>
                    </a:lnTo>
                    <a:lnTo>
                      <a:pt x="90" y="392"/>
                    </a:lnTo>
                    <a:lnTo>
                      <a:pt x="86" y="418"/>
                    </a:lnTo>
                    <a:lnTo>
                      <a:pt x="86" y="428"/>
                    </a:lnTo>
                    <a:lnTo>
                      <a:pt x="88" y="432"/>
                    </a:lnTo>
                    <a:lnTo>
                      <a:pt x="90" y="434"/>
                    </a:lnTo>
                    <a:lnTo>
                      <a:pt x="94" y="436"/>
                    </a:lnTo>
                    <a:lnTo>
                      <a:pt x="102" y="442"/>
                    </a:lnTo>
                    <a:lnTo>
                      <a:pt x="104" y="448"/>
                    </a:lnTo>
                    <a:lnTo>
                      <a:pt x="102" y="462"/>
                    </a:lnTo>
                    <a:lnTo>
                      <a:pt x="106" y="462"/>
                    </a:lnTo>
                    <a:lnTo>
                      <a:pt x="108" y="464"/>
                    </a:lnTo>
                    <a:lnTo>
                      <a:pt x="110" y="462"/>
                    </a:lnTo>
                    <a:lnTo>
                      <a:pt x="114" y="458"/>
                    </a:lnTo>
                    <a:lnTo>
                      <a:pt x="116" y="452"/>
                    </a:lnTo>
                    <a:lnTo>
                      <a:pt x="118" y="450"/>
                    </a:lnTo>
                    <a:lnTo>
                      <a:pt x="118" y="448"/>
                    </a:lnTo>
                    <a:lnTo>
                      <a:pt x="122" y="444"/>
                    </a:lnTo>
                    <a:lnTo>
                      <a:pt x="126" y="440"/>
                    </a:lnTo>
                    <a:lnTo>
                      <a:pt x="126" y="434"/>
                    </a:lnTo>
                    <a:lnTo>
                      <a:pt x="124" y="426"/>
                    </a:lnTo>
                    <a:lnTo>
                      <a:pt x="122" y="422"/>
                    </a:lnTo>
                    <a:lnTo>
                      <a:pt x="126" y="420"/>
                    </a:lnTo>
                    <a:lnTo>
                      <a:pt x="136" y="418"/>
                    </a:lnTo>
                    <a:lnTo>
                      <a:pt x="142" y="418"/>
                    </a:lnTo>
                    <a:lnTo>
                      <a:pt x="146" y="420"/>
                    </a:lnTo>
                    <a:lnTo>
                      <a:pt x="150" y="424"/>
                    </a:lnTo>
                    <a:lnTo>
                      <a:pt x="156" y="440"/>
                    </a:lnTo>
                    <a:lnTo>
                      <a:pt x="156" y="442"/>
                    </a:lnTo>
                    <a:lnTo>
                      <a:pt x="158" y="468"/>
                    </a:lnTo>
                    <a:lnTo>
                      <a:pt x="170" y="474"/>
                    </a:lnTo>
                    <a:lnTo>
                      <a:pt x="178" y="478"/>
                    </a:lnTo>
                    <a:lnTo>
                      <a:pt x="184" y="472"/>
                    </a:lnTo>
                    <a:lnTo>
                      <a:pt x="190" y="466"/>
                    </a:lnTo>
                    <a:lnTo>
                      <a:pt x="194" y="466"/>
                    </a:lnTo>
                    <a:lnTo>
                      <a:pt x="200" y="470"/>
                    </a:lnTo>
                    <a:lnTo>
                      <a:pt x="204" y="478"/>
                    </a:lnTo>
                    <a:lnTo>
                      <a:pt x="206" y="498"/>
                    </a:lnTo>
                    <a:lnTo>
                      <a:pt x="208" y="502"/>
                    </a:lnTo>
                    <a:lnTo>
                      <a:pt x="230" y="548"/>
                    </a:lnTo>
                    <a:lnTo>
                      <a:pt x="238" y="556"/>
                    </a:lnTo>
                    <a:lnTo>
                      <a:pt x="238" y="558"/>
                    </a:lnTo>
                    <a:lnTo>
                      <a:pt x="242" y="578"/>
                    </a:lnTo>
                    <a:lnTo>
                      <a:pt x="244" y="596"/>
                    </a:lnTo>
                    <a:lnTo>
                      <a:pt x="246" y="598"/>
                    </a:lnTo>
                    <a:lnTo>
                      <a:pt x="254" y="588"/>
                    </a:lnTo>
                    <a:lnTo>
                      <a:pt x="256" y="586"/>
                    </a:lnTo>
                    <a:lnTo>
                      <a:pt x="258" y="586"/>
                    </a:lnTo>
                    <a:lnTo>
                      <a:pt x="262" y="588"/>
                    </a:lnTo>
                    <a:lnTo>
                      <a:pt x="262" y="592"/>
                    </a:lnTo>
                    <a:lnTo>
                      <a:pt x="262" y="598"/>
                    </a:lnTo>
                    <a:lnTo>
                      <a:pt x="262" y="612"/>
                    </a:lnTo>
                    <a:lnTo>
                      <a:pt x="262" y="616"/>
                    </a:lnTo>
                    <a:lnTo>
                      <a:pt x="268" y="616"/>
                    </a:lnTo>
                    <a:lnTo>
                      <a:pt x="270" y="614"/>
                    </a:lnTo>
                    <a:lnTo>
                      <a:pt x="278" y="602"/>
                    </a:lnTo>
                    <a:lnTo>
                      <a:pt x="288" y="594"/>
                    </a:lnTo>
                    <a:lnTo>
                      <a:pt x="296" y="588"/>
                    </a:lnTo>
                    <a:lnTo>
                      <a:pt x="306" y="586"/>
                    </a:lnTo>
                    <a:lnTo>
                      <a:pt x="322" y="590"/>
                    </a:lnTo>
                    <a:lnTo>
                      <a:pt x="328" y="588"/>
                    </a:lnTo>
                    <a:lnTo>
                      <a:pt x="336" y="576"/>
                    </a:lnTo>
                    <a:lnTo>
                      <a:pt x="334" y="558"/>
                    </a:lnTo>
                    <a:lnTo>
                      <a:pt x="330" y="546"/>
                    </a:lnTo>
                    <a:lnTo>
                      <a:pt x="328" y="540"/>
                    </a:lnTo>
                    <a:lnTo>
                      <a:pt x="328" y="536"/>
                    </a:lnTo>
                    <a:lnTo>
                      <a:pt x="330" y="522"/>
                    </a:lnTo>
                    <a:lnTo>
                      <a:pt x="330" y="520"/>
                    </a:lnTo>
                    <a:lnTo>
                      <a:pt x="332" y="518"/>
                    </a:lnTo>
                    <a:lnTo>
                      <a:pt x="346" y="510"/>
                    </a:lnTo>
                    <a:lnTo>
                      <a:pt x="348" y="510"/>
                    </a:lnTo>
                    <a:lnTo>
                      <a:pt x="358" y="502"/>
                    </a:lnTo>
                    <a:lnTo>
                      <a:pt x="372" y="484"/>
                    </a:lnTo>
                    <a:lnTo>
                      <a:pt x="374" y="470"/>
                    </a:lnTo>
                    <a:lnTo>
                      <a:pt x="358" y="436"/>
                    </a:lnTo>
                    <a:lnTo>
                      <a:pt x="390" y="450"/>
                    </a:lnTo>
                    <a:lnTo>
                      <a:pt x="390" y="438"/>
                    </a:lnTo>
                    <a:lnTo>
                      <a:pt x="390" y="436"/>
                    </a:lnTo>
                    <a:lnTo>
                      <a:pt x="402" y="426"/>
                    </a:lnTo>
                    <a:lnTo>
                      <a:pt x="426" y="420"/>
                    </a:lnTo>
                    <a:lnTo>
                      <a:pt x="428" y="420"/>
                    </a:lnTo>
                    <a:lnTo>
                      <a:pt x="442" y="450"/>
                    </a:lnTo>
                    <a:lnTo>
                      <a:pt x="440" y="462"/>
                    </a:lnTo>
                    <a:lnTo>
                      <a:pt x="442" y="472"/>
                    </a:lnTo>
                    <a:lnTo>
                      <a:pt x="444" y="478"/>
                    </a:lnTo>
                    <a:lnTo>
                      <a:pt x="448" y="480"/>
                    </a:lnTo>
                    <a:lnTo>
                      <a:pt x="454" y="478"/>
                    </a:lnTo>
                    <a:lnTo>
                      <a:pt x="458" y="474"/>
                    </a:lnTo>
                    <a:lnTo>
                      <a:pt x="458" y="472"/>
                    </a:lnTo>
                    <a:lnTo>
                      <a:pt x="460" y="472"/>
                    </a:lnTo>
                    <a:lnTo>
                      <a:pt x="478" y="466"/>
                    </a:lnTo>
                    <a:lnTo>
                      <a:pt x="480" y="466"/>
                    </a:lnTo>
                    <a:lnTo>
                      <a:pt x="492" y="468"/>
                    </a:lnTo>
                    <a:lnTo>
                      <a:pt x="496" y="470"/>
                    </a:lnTo>
                    <a:lnTo>
                      <a:pt x="498" y="472"/>
                    </a:lnTo>
                    <a:lnTo>
                      <a:pt x="498" y="494"/>
                    </a:lnTo>
                    <a:lnTo>
                      <a:pt x="502" y="496"/>
                    </a:lnTo>
                    <a:lnTo>
                      <a:pt x="510" y="498"/>
                    </a:lnTo>
                    <a:lnTo>
                      <a:pt x="522" y="498"/>
                    </a:lnTo>
                    <a:lnTo>
                      <a:pt x="542" y="492"/>
                    </a:lnTo>
                    <a:lnTo>
                      <a:pt x="554" y="482"/>
                    </a:lnTo>
                    <a:lnTo>
                      <a:pt x="556" y="472"/>
                    </a:lnTo>
                    <a:lnTo>
                      <a:pt x="550" y="466"/>
                    </a:lnTo>
                    <a:lnTo>
                      <a:pt x="530" y="458"/>
                    </a:lnTo>
                    <a:lnTo>
                      <a:pt x="528" y="458"/>
                    </a:lnTo>
                    <a:lnTo>
                      <a:pt x="504" y="434"/>
                    </a:lnTo>
                    <a:lnTo>
                      <a:pt x="506" y="432"/>
                    </a:lnTo>
                    <a:lnTo>
                      <a:pt x="518" y="422"/>
                    </a:lnTo>
                    <a:lnTo>
                      <a:pt x="518" y="420"/>
                    </a:lnTo>
                    <a:lnTo>
                      <a:pt x="530" y="416"/>
                    </a:lnTo>
                    <a:lnTo>
                      <a:pt x="534" y="416"/>
                    </a:lnTo>
                    <a:lnTo>
                      <a:pt x="550" y="418"/>
                    </a:lnTo>
                    <a:lnTo>
                      <a:pt x="550" y="420"/>
                    </a:lnTo>
                    <a:lnTo>
                      <a:pt x="550" y="414"/>
                    </a:lnTo>
                    <a:lnTo>
                      <a:pt x="544" y="402"/>
                    </a:lnTo>
                    <a:lnTo>
                      <a:pt x="532" y="396"/>
                    </a:lnTo>
                    <a:lnTo>
                      <a:pt x="518" y="374"/>
                    </a:lnTo>
                    <a:lnTo>
                      <a:pt x="516" y="372"/>
                    </a:lnTo>
                    <a:lnTo>
                      <a:pt x="510" y="346"/>
                    </a:lnTo>
                    <a:lnTo>
                      <a:pt x="510" y="326"/>
                    </a:lnTo>
                    <a:lnTo>
                      <a:pt x="522" y="314"/>
                    </a:lnTo>
                    <a:lnTo>
                      <a:pt x="542" y="314"/>
                    </a:lnTo>
                    <a:lnTo>
                      <a:pt x="586" y="318"/>
                    </a:lnTo>
                    <a:lnTo>
                      <a:pt x="606" y="288"/>
                    </a:lnTo>
                    <a:lnTo>
                      <a:pt x="606" y="286"/>
                    </a:lnTo>
                    <a:lnTo>
                      <a:pt x="608" y="286"/>
                    </a:lnTo>
                    <a:lnTo>
                      <a:pt x="626" y="278"/>
                    </a:lnTo>
                    <a:lnTo>
                      <a:pt x="634" y="260"/>
                    </a:lnTo>
                    <a:lnTo>
                      <a:pt x="634" y="258"/>
                    </a:lnTo>
                    <a:lnTo>
                      <a:pt x="654" y="242"/>
                    </a:lnTo>
                    <a:lnTo>
                      <a:pt x="664" y="224"/>
                    </a:lnTo>
                    <a:lnTo>
                      <a:pt x="666" y="224"/>
                    </a:lnTo>
                    <a:lnTo>
                      <a:pt x="666" y="222"/>
                    </a:lnTo>
                    <a:lnTo>
                      <a:pt x="674" y="214"/>
                    </a:lnTo>
                    <a:lnTo>
                      <a:pt x="682" y="198"/>
                    </a:lnTo>
                    <a:lnTo>
                      <a:pt x="686" y="174"/>
                    </a:lnTo>
                    <a:lnTo>
                      <a:pt x="686" y="172"/>
                    </a:lnTo>
                    <a:lnTo>
                      <a:pt x="686" y="170"/>
                    </a:lnTo>
                    <a:lnTo>
                      <a:pt x="700" y="162"/>
                    </a:lnTo>
                    <a:lnTo>
                      <a:pt x="702" y="158"/>
                    </a:lnTo>
                    <a:lnTo>
                      <a:pt x="684" y="156"/>
                    </a:lnTo>
                    <a:lnTo>
                      <a:pt x="652" y="158"/>
                    </a:lnTo>
                    <a:lnTo>
                      <a:pt x="650" y="156"/>
                    </a:lnTo>
                    <a:lnTo>
                      <a:pt x="638" y="146"/>
                    </a:lnTo>
                    <a:lnTo>
                      <a:pt x="630" y="136"/>
                    </a:lnTo>
                    <a:lnTo>
                      <a:pt x="630" y="138"/>
                    </a:lnTo>
                    <a:lnTo>
                      <a:pt x="628" y="138"/>
                    </a:lnTo>
                    <a:lnTo>
                      <a:pt x="624" y="142"/>
                    </a:lnTo>
                    <a:lnTo>
                      <a:pt x="618" y="142"/>
                    </a:lnTo>
                    <a:lnTo>
                      <a:pt x="614" y="144"/>
                    </a:lnTo>
                    <a:lnTo>
                      <a:pt x="612" y="146"/>
                    </a:lnTo>
                    <a:lnTo>
                      <a:pt x="608" y="146"/>
                    </a:lnTo>
                    <a:lnTo>
                      <a:pt x="606" y="144"/>
                    </a:lnTo>
                    <a:lnTo>
                      <a:pt x="604" y="138"/>
                    </a:lnTo>
                    <a:lnTo>
                      <a:pt x="602" y="132"/>
                    </a:lnTo>
                    <a:lnTo>
                      <a:pt x="598" y="126"/>
                    </a:lnTo>
                    <a:lnTo>
                      <a:pt x="596" y="126"/>
                    </a:lnTo>
                    <a:lnTo>
                      <a:pt x="592" y="114"/>
                    </a:lnTo>
                    <a:lnTo>
                      <a:pt x="588" y="114"/>
                    </a:lnTo>
                    <a:lnTo>
                      <a:pt x="576" y="122"/>
                    </a:lnTo>
                    <a:lnTo>
                      <a:pt x="576" y="124"/>
                    </a:lnTo>
                    <a:lnTo>
                      <a:pt x="574" y="124"/>
                    </a:lnTo>
                    <a:lnTo>
                      <a:pt x="546" y="130"/>
                    </a:lnTo>
                    <a:lnTo>
                      <a:pt x="544" y="128"/>
                    </a:lnTo>
                    <a:lnTo>
                      <a:pt x="526" y="116"/>
                    </a:lnTo>
                    <a:lnTo>
                      <a:pt x="524" y="114"/>
                    </a:lnTo>
                    <a:lnTo>
                      <a:pt x="518" y="104"/>
                    </a:lnTo>
                    <a:lnTo>
                      <a:pt x="506" y="118"/>
                    </a:lnTo>
                    <a:lnTo>
                      <a:pt x="498" y="126"/>
                    </a:lnTo>
                    <a:lnTo>
                      <a:pt x="492" y="130"/>
                    </a:lnTo>
                    <a:lnTo>
                      <a:pt x="488" y="132"/>
                    </a:lnTo>
                    <a:lnTo>
                      <a:pt x="484" y="130"/>
                    </a:lnTo>
                    <a:lnTo>
                      <a:pt x="466" y="120"/>
                    </a:lnTo>
                    <a:lnTo>
                      <a:pt x="452" y="118"/>
                    </a:lnTo>
                    <a:lnTo>
                      <a:pt x="450" y="120"/>
                    </a:lnTo>
                    <a:lnTo>
                      <a:pt x="438" y="110"/>
                    </a:lnTo>
                    <a:lnTo>
                      <a:pt x="436" y="110"/>
                    </a:lnTo>
                    <a:lnTo>
                      <a:pt x="442" y="88"/>
                    </a:lnTo>
                    <a:lnTo>
                      <a:pt x="442" y="80"/>
                    </a:lnTo>
                    <a:lnTo>
                      <a:pt x="434" y="78"/>
                    </a:lnTo>
                    <a:lnTo>
                      <a:pt x="416" y="58"/>
                    </a:lnTo>
                    <a:lnTo>
                      <a:pt x="418" y="46"/>
                    </a:lnTo>
                    <a:lnTo>
                      <a:pt x="376" y="42"/>
                    </a:lnTo>
                    <a:lnTo>
                      <a:pt x="360" y="32"/>
                    </a:lnTo>
                    <a:lnTo>
                      <a:pt x="354" y="28"/>
                    </a:lnTo>
                    <a:lnTo>
                      <a:pt x="350" y="18"/>
                    </a:lnTo>
                    <a:lnTo>
                      <a:pt x="348" y="12"/>
                    </a:lnTo>
                    <a:lnTo>
                      <a:pt x="344" y="0"/>
                    </a:lnTo>
                    <a:lnTo>
                      <a:pt x="338" y="0"/>
                    </a:lnTo>
                    <a:lnTo>
                      <a:pt x="326" y="10"/>
                    </a:lnTo>
                    <a:lnTo>
                      <a:pt x="310" y="30"/>
                    </a:lnTo>
                    <a:lnTo>
                      <a:pt x="314" y="42"/>
                    </a:lnTo>
                    <a:lnTo>
                      <a:pt x="318" y="60"/>
                    </a:lnTo>
                    <a:lnTo>
                      <a:pt x="318" y="62"/>
                    </a:lnTo>
                    <a:lnTo>
                      <a:pt x="320" y="62"/>
                    </a:lnTo>
                    <a:lnTo>
                      <a:pt x="318" y="62"/>
                    </a:lnTo>
                    <a:lnTo>
                      <a:pt x="318" y="66"/>
                    </a:lnTo>
                    <a:lnTo>
                      <a:pt x="314" y="68"/>
                    </a:lnTo>
                    <a:lnTo>
                      <a:pt x="306" y="70"/>
                    </a:lnTo>
                    <a:lnTo>
                      <a:pt x="290" y="70"/>
                    </a:lnTo>
                    <a:lnTo>
                      <a:pt x="280" y="66"/>
                    </a:lnTo>
                    <a:lnTo>
                      <a:pt x="268" y="70"/>
                    </a:lnTo>
                    <a:lnTo>
                      <a:pt x="266" y="70"/>
                    </a:lnTo>
                    <a:lnTo>
                      <a:pt x="264" y="70"/>
                    </a:lnTo>
                    <a:lnTo>
                      <a:pt x="262" y="82"/>
                    </a:lnTo>
                    <a:lnTo>
                      <a:pt x="262" y="86"/>
                    </a:lnTo>
                    <a:lnTo>
                      <a:pt x="258" y="86"/>
                    </a:lnTo>
                    <a:lnTo>
                      <a:pt x="238" y="78"/>
                    </a:lnTo>
                    <a:lnTo>
                      <a:pt x="240" y="88"/>
                    </a:lnTo>
                    <a:lnTo>
                      <a:pt x="242" y="96"/>
                    </a:lnTo>
                    <a:lnTo>
                      <a:pt x="246" y="104"/>
                    </a:lnTo>
                    <a:lnTo>
                      <a:pt x="244" y="110"/>
                    </a:lnTo>
                    <a:lnTo>
                      <a:pt x="242" y="116"/>
                    </a:lnTo>
                    <a:lnTo>
                      <a:pt x="234" y="118"/>
                    </a:lnTo>
                    <a:lnTo>
                      <a:pt x="222" y="118"/>
                    </a:lnTo>
                    <a:lnTo>
                      <a:pt x="208" y="118"/>
                    </a:lnTo>
                    <a:lnTo>
                      <a:pt x="206" y="142"/>
                    </a:lnTo>
                    <a:lnTo>
                      <a:pt x="190" y="134"/>
                    </a:lnTo>
                    <a:lnTo>
                      <a:pt x="188" y="134"/>
                    </a:lnTo>
                    <a:lnTo>
                      <a:pt x="178" y="118"/>
                    </a:lnTo>
                    <a:lnTo>
                      <a:pt x="160" y="110"/>
                    </a:lnTo>
                    <a:lnTo>
                      <a:pt x="154" y="100"/>
                    </a:lnTo>
                    <a:lnTo>
                      <a:pt x="148" y="106"/>
                    </a:lnTo>
                    <a:lnTo>
                      <a:pt x="146" y="106"/>
                    </a:lnTo>
                    <a:lnTo>
                      <a:pt x="134" y="108"/>
                    </a:lnTo>
                    <a:lnTo>
                      <a:pt x="132" y="108"/>
                    </a:lnTo>
                    <a:lnTo>
                      <a:pt x="126" y="94"/>
                    </a:lnTo>
                    <a:lnTo>
                      <a:pt x="118" y="86"/>
                    </a:lnTo>
                    <a:lnTo>
                      <a:pt x="118" y="84"/>
                    </a:lnTo>
                    <a:lnTo>
                      <a:pt x="110" y="74"/>
                    </a:lnTo>
                    <a:lnTo>
                      <a:pt x="106" y="66"/>
                    </a:lnTo>
                    <a:lnTo>
                      <a:pt x="106" y="64"/>
                    </a:lnTo>
                    <a:lnTo>
                      <a:pt x="102" y="62"/>
                    </a:lnTo>
                    <a:lnTo>
                      <a:pt x="98" y="62"/>
                    </a:lnTo>
                    <a:lnTo>
                      <a:pt x="90" y="56"/>
                    </a:lnTo>
                    <a:lnTo>
                      <a:pt x="86" y="46"/>
                    </a:lnTo>
                    <a:lnTo>
                      <a:pt x="82" y="34"/>
                    </a:lnTo>
                    <a:lnTo>
                      <a:pt x="82" y="22"/>
                    </a:lnTo>
                    <a:lnTo>
                      <a:pt x="78" y="12"/>
                    </a:lnTo>
                    <a:lnTo>
                      <a:pt x="68" y="14"/>
                    </a:lnTo>
                    <a:lnTo>
                      <a:pt x="66" y="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16"/>
              <p:cNvSpPr/>
              <p:nvPr/>
            </p:nvSpPr>
            <p:spPr>
              <a:xfrm>
                <a:off x="4642560" y="3540600"/>
                <a:ext cx="436680" cy="321480"/>
              </a:xfrm>
              <a:custGeom>
                <a:avLst/>
                <a:gdLst/>
                <a:ahLst/>
                <a:rect l="l" t="t" r="r" b="b"/>
                <a:pathLst>
                  <a:path w="1256" h="764">
                    <a:moveTo>
                      <a:pt x="152" y="4"/>
                    </a:moveTo>
                    <a:lnTo>
                      <a:pt x="152" y="4"/>
                    </a:lnTo>
                    <a:lnTo>
                      <a:pt x="146" y="14"/>
                    </a:lnTo>
                    <a:lnTo>
                      <a:pt x="138" y="22"/>
                    </a:lnTo>
                    <a:lnTo>
                      <a:pt x="132" y="26"/>
                    </a:lnTo>
                    <a:lnTo>
                      <a:pt x="132" y="32"/>
                    </a:lnTo>
                    <a:lnTo>
                      <a:pt x="132" y="36"/>
                    </a:lnTo>
                    <a:lnTo>
                      <a:pt x="130" y="44"/>
                    </a:lnTo>
                    <a:lnTo>
                      <a:pt x="122" y="56"/>
                    </a:lnTo>
                    <a:lnTo>
                      <a:pt x="122" y="60"/>
                    </a:lnTo>
                    <a:lnTo>
                      <a:pt x="118" y="62"/>
                    </a:lnTo>
                    <a:lnTo>
                      <a:pt x="112" y="64"/>
                    </a:lnTo>
                    <a:lnTo>
                      <a:pt x="66" y="58"/>
                    </a:lnTo>
                    <a:lnTo>
                      <a:pt x="62" y="68"/>
                    </a:lnTo>
                    <a:lnTo>
                      <a:pt x="62" y="70"/>
                    </a:lnTo>
                    <a:lnTo>
                      <a:pt x="48" y="92"/>
                    </a:lnTo>
                    <a:lnTo>
                      <a:pt x="42" y="100"/>
                    </a:lnTo>
                    <a:lnTo>
                      <a:pt x="40" y="108"/>
                    </a:lnTo>
                    <a:lnTo>
                      <a:pt x="42" y="112"/>
                    </a:lnTo>
                    <a:lnTo>
                      <a:pt x="44" y="122"/>
                    </a:lnTo>
                    <a:lnTo>
                      <a:pt x="56" y="150"/>
                    </a:lnTo>
                    <a:lnTo>
                      <a:pt x="62" y="168"/>
                    </a:lnTo>
                    <a:lnTo>
                      <a:pt x="64" y="174"/>
                    </a:lnTo>
                    <a:lnTo>
                      <a:pt x="64" y="180"/>
                    </a:lnTo>
                    <a:lnTo>
                      <a:pt x="60" y="188"/>
                    </a:lnTo>
                    <a:lnTo>
                      <a:pt x="56" y="196"/>
                    </a:lnTo>
                    <a:lnTo>
                      <a:pt x="42" y="210"/>
                    </a:lnTo>
                    <a:lnTo>
                      <a:pt x="18" y="210"/>
                    </a:lnTo>
                    <a:lnTo>
                      <a:pt x="12" y="184"/>
                    </a:lnTo>
                    <a:lnTo>
                      <a:pt x="6" y="216"/>
                    </a:lnTo>
                    <a:lnTo>
                      <a:pt x="16" y="232"/>
                    </a:lnTo>
                    <a:lnTo>
                      <a:pt x="16" y="236"/>
                    </a:lnTo>
                    <a:lnTo>
                      <a:pt x="16" y="238"/>
                    </a:lnTo>
                    <a:lnTo>
                      <a:pt x="10" y="246"/>
                    </a:lnTo>
                    <a:lnTo>
                      <a:pt x="2" y="262"/>
                    </a:lnTo>
                    <a:lnTo>
                      <a:pt x="0" y="272"/>
                    </a:lnTo>
                    <a:lnTo>
                      <a:pt x="0" y="280"/>
                    </a:lnTo>
                    <a:lnTo>
                      <a:pt x="4" y="290"/>
                    </a:lnTo>
                    <a:lnTo>
                      <a:pt x="10" y="300"/>
                    </a:lnTo>
                    <a:lnTo>
                      <a:pt x="28" y="300"/>
                    </a:lnTo>
                    <a:lnTo>
                      <a:pt x="34" y="302"/>
                    </a:lnTo>
                    <a:lnTo>
                      <a:pt x="42" y="308"/>
                    </a:lnTo>
                    <a:lnTo>
                      <a:pt x="58" y="330"/>
                    </a:lnTo>
                    <a:lnTo>
                      <a:pt x="60" y="332"/>
                    </a:lnTo>
                    <a:lnTo>
                      <a:pt x="62" y="338"/>
                    </a:lnTo>
                    <a:lnTo>
                      <a:pt x="66" y="344"/>
                    </a:lnTo>
                    <a:lnTo>
                      <a:pt x="108" y="384"/>
                    </a:lnTo>
                    <a:lnTo>
                      <a:pt x="128" y="408"/>
                    </a:lnTo>
                    <a:lnTo>
                      <a:pt x="138" y="408"/>
                    </a:lnTo>
                    <a:lnTo>
                      <a:pt x="150" y="386"/>
                    </a:lnTo>
                    <a:lnTo>
                      <a:pt x="152" y="384"/>
                    </a:lnTo>
                    <a:lnTo>
                      <a:pt x="182" y="392"/>
                    </a:lnTo>
                    <a:lnTo>
                      <a:pt x="182" y="394"/>
                    </a:lnTo>
                    <a:lnTo>
                      <a:pt x="186" y="414"/>
                    </a:lnTo>
                    <a:lnTo>
                      <a:pt x="222" y="454"/>
                    </a:lnTo>
                    <a:lnTo>
                      <a:pt x="234" y="460"/>
                    </a:lnTo>
                    <a:lnTo>
                      <a:pt x="240" y="464"/>
                    </a:lnTo>
                    <a:lnTo>
                      <a:pt x="268" y="504"/>
                    </a:lnTo>
                    <a:lnTo>
                      <a:pt x="288" y="500"/>
                    </a:lnTo>
                    <a:lnTo>
                      <a:pt x="290" y="500"/>
                    </a:lnTo>
                    <a:lnTo>
                      <a:pt x="292" y="500"/>
                    </a:lnTo>
                    <a:lnTo>
                      <a:pt x="292" y="502"/>
                    </a:lnTo>
                    <a:lnTo>
                      <a:pt x="294" y="504"/>
                    </a:lnTo>
                    <a:lnTo>
                      <a:pt x="312" y="542"/>
                    </a:lnTo>
                    <a:lnTo>
                      <a:pt x="334" y="556"/>
                    </a:lnTo>
                    <a:lnTo>
                      <a:pt x="352" y="560"/>
                    </a:lnTo>
                    <a:lnTo>
                      <a:pt x="362" y="584"/>
                    </a:lnTo>
                    <a:lnTo>
                      <a:pt x="376" y="584"/>
                    </a:lnTo>
                    <a:lnTo>
                      <a:pt x="376" y="586"/>
                    </a:lnTo>
                    <a:lnTo>
                      <a:pt x="404" y="602"/>
                    </a:lnTo>
                    <a:lnTo>
                      <a:pt x="406" y="604"/>
                    </a:lnTo>
                    <a:lnTo>
                      <a:pt x="426" y="628"/>
                    </a:lnTo>
                    <a:lnTo>
                      <a:pt x="456" y="624"/>
                    </a:lnTo>
                    <a:lnTo>
                      <a:pt x="458" y="624"/>
                    </a:lnTo>
                    <a:lnTo>
                      <a:pt x="470" y="628"/>
                    </a:lnTo>
                    <a:lnTo>
                      <a:pt x="490" y="644"/>
                    </a:lnTo>
                    <a:lnTo>
                      <a:pt x="524" y="648"/>
                    </a:lnTo>
                    <a:lnTo>
                      <a:pt x="544" y="644"/>
                    </a:lnTo>
                    <a:lnTo>
                      <a:pt x="564" y="642"/>
                    </a:lnTo>
                    <a:lnTo>
                      <a:pt x="580" y="642"/>
                    </a:lnTo>
                    <a:lnTo>
                      <a:pt x="590" y="644"/>
                    </a:lnTo>
                    <a:lnTo>
                      <a:pt x="596" y="648"/>
                    </a:lnTo>
                    <a:lnTo>
                      <a:pt x="598" y="654"/>
                    </a:lnTo>
                    <a:lnTo>
                      <a:pt x="598" y="658"/>
                    </a:lnTo>
                    <a:lnTo>
                      <a:pt x="594" y="664"/>
                    </a:lnTo>
                    <a:lnTo>
                      <a:pt x="588" y="670"/>
                    </a:lnTo>
                    <a:lnTo>
                      <a:pt x="580" y="678"/>
                    </a:lnTo>
                    <a:lnTo>
                      <a:pt x="580" y="682"/>
                    </a:lnTo>
                    <a:lnTo>
                      <a:pt x="582" y="686"/>
                    </a:lnTo>
                    <a:lnTo>
                      <a:pt x="586" y="692"/>
                    </a:lnTo>
                    <a:lnTo>
                      <a:pt x="592" y="698"/>
                    </a:lnTo>
                    <a:lnTo>
                      <a:pt x="592" y="700"/>
                    </a:lnTo>
                    <a:lnTo>
                      <a:pt x="598" y="704"/>
                    </a:lnTo>
                    <a:lnTo>
                      <a:pt x="600" y="702"/>
                    </a:lnTo>
                    <a:lnTo>
                      <a:pt x="616" y="676"/>
                    </a:lnTo>
                    <a:lnTo>
                      <a:pt x="628" y="658"/>
                    </a:lnTo>
                    <a:lnTo>
                      <a:pt x="638" y="646"/>
                    </a:lnTo>
                    <a:lnTo>
                      <a:pt x="648" y="640"/>
                    </a:lnTo>
                    <a:lnTo>
                      <a:pt x="654" y="638"/>
                    </a:lnTo>
                    <a:lnTo>
                      <a:pt x="660" y="638"/>
                    </a:lnTo>
                    <a:lnTo>
                      <a:pt x="676" y="644"/>
                    </a:lnTo>
                    <a:lnTo>
                      <a:pt x="698" y="654"/>
                    </a:lnTo>
                    <a:lnTo>
                      <a:pt x="724" y="670"/>
                    </a:lnTo>
                    <a:lnTo>
                      <a:pt x="772" y="678"/>
                    </a:lnTo>
                    <a:lnTo>
                      <a:pt x="772" y="680"/>
                    </a:lnTo>
                    <a:lnTo>
                      <a:pt x="772" y="682"/>
                    </a:lnTo>
                    <a:lnTo>
                      <a:pt x="768" y="704"/>
                    </a:lnTo>
                    <a:lnTo>
                      <a:pt x="792" y="708"/>
                    </a:lnTo>
                    <a:lnTo>
                      <a:pt x="792" y="738"/>
                    </a:lnTo>
                    <a:lnTo>
                      <a:pt x="802" y="754"/>
                    </a:lnTo>
                    <a:lnTo>
                      <a:pt x="808" y="762"/>
                    </a:lnTo>
                    <a:lnTo>
                      <a:pt x="816" y="764"/>
                    </a:lnTo>
                    <a:lnTo>
                      <a:pt x="830" y="764"/>
                    </a:lnTo>
                    <a:lnTo>
                      <a:pt x="880" y="762"/>
                    </a:lnTo>
                    <a:lnTo>
                      <a:pt x="904" y="748"/>
                    </a:lnTo>
                    <a:lnTo>
                      <a:pt x="928" y="716"/>
                    </a:lnTo>
                    <a:lnTo>
                      <a:pt x="956" y="714"/>
                    </a:lnTo>
                    <a:lnTo>
                      <a:pt x="970" y="710"/>
                    </a:lnTo>
                    <a:lnTo>
                      <a:pt x="1022" y="680"/>
                    </a:lnTo>
                    <a:lnTo>
                      <a:pt x="1024" y="680"/>
                    </a:lnTo>
                    <a:lnTo>
                      <a:pt x="1060" y="676"/>
                    </a:lnTo>
                    <a:lnTo>
                      <a:pt x="1070" y="678"/>
                    </a:lnTo>
                    <a:lnTo>
                      <a:pt x="1076" y="680"/>
                    </a:lnTo>
                    <a:lnTo>
                      <a:pt x="1112" y="708"/>
                    </a:lnTo>
                    <a:lnTo>
                      <a:pt x="1122" y="712"/>
                    </a:lnTo>
                    <a:lnTo>
                      <a:pt x="1124" y="714"/>
                    </a:lnTo>
                    <a:lnTo>
                      <a:pt x="1136" y="720"/>
                    </a:lnTo>
                    <a:lnTo>
                      <a:pt x="1138" y="720"/>
                    </a:lnTo>
                    <a:lnTo>
                      <a:pt x="1138" y="718"/>
                    </a:lnTo>
                    <a:lnTo>
                      <a:pt x="1138" y="716"/>
                    </a:lnTo>
                    <a:lnTo>
                      <a:pt x="1144" y="692"/>
                    </a:lnTo>
                    <a:lnTo>
                      <a:pt x="1142" y="682"/>
                    </a:lnTo>
                    <a:lnTo>
                      <a:pt x="1144" y="674"/>
                    </a:lnTo>
                    <a:lnTo>
                      <a:pt x="1148" y="668"/>
                    </a:lnTo>
                    <a:lnTo>
                      <a:pt x="1156" y="666"/>
                    </a:lnTo>
                    <a:lnTo>
                      <a:pt x="1164" y="666"/>
                    </a:lnTo>
                    <a:lnTo>
                      <a:pt x="1172" y="672"/>
                    </a:lnTo>
                    <a:lnTo>
                      <a:pt x="1182" y="682"/>
                    </a:lnTo>
                    <a:lnTo>
                      <a:pt x="1190" y="696"/>
                    </a:lnTo>
                    <a:lnTo>
                      <a:pt x="1192" y="696"/>
                    </a:lnTo>
                    <a:lnTo>
                      <a:pt x="1212" y="688"/>
                    </a:lnTo>
                    <a:lnTo>
                      <a:pt x="1214" y="686"/>
                    </a:lnTo>
                    <a:lnTo>
                      <a:pt x="1216" y="684"/>
                    </a:lnTo>
                    <a:lnTo>
                      <a:pt x="1218" y="680"/>
                    </a:lnTo>
                    <a:lnTo>
                      <a:pt x="1214" y="664"/>
                    </a:lnTo>
                    <a:lnTo>
                      <a:pt x="1214" y="660"/>
                    </a:lnTo>
                    <a:lnTo>
                      <a:pt x="1214" y="656"/>
                    </a:lnTo>
                    <a:lnTo>
                      <a:pt x="1216" y="652"/>
                    </a:lnTo>
                    <a:lnTo>
                      <a:pt x="1220" y="650"/>
                    </a:lnTo>
                    <a:lnTo>
                      <a:pt x="1228" y="644"/>
                    </a:lnTo>
                    <a:lnTo>
                      <a:pt x="1244" y="624"/>
                    </a:lnTo>
                    <a:lnTo>
                      <a:pt x="1256" y="598"/>
                    </a:lnTo>
                    <a:lnTo>
                      <a:pt x="1250" y="586"/>
                    </a:lnTo>
                    <a:lnTo>
                      <a:pt x="1246" y="576"/>
                    </a:lnTo>
                    <a:lnTo>
                      <a:pt x="1246" y="568"/>
                    </a:lnTo>
                    <a:lnTo>
                      <a:pt x="1246" y="562"/>
                    </a:lnTo>
                    <a:lnTo>
                      <a:pt x="1248" y="540"/>
                    </a:lnTo>
                    <a:lnTo>
                      <a:pt x="1244" y="528"/>
                    </a:lnTo>
                    <a:lnTo>
                      <a:pt x="1242" y="518"/>
                    </a:lnTo>
                    <a:lnTo>
                      <a:pt x="1240" y="510"/>
                    </a:lnTo>
                    <a:lnTo>
                      <a:pt x="1232" y="498"/>
                    </a:lnTo>
                    <a:lnTo>
                      <a:pt x="1232" y="496"/>
                    </a:lnTo>
                    <a:lnTo>
                      <a:pt x="1228" y="468"/>
                    </a:lnTo>
                    <a:lnTo>
                      <a:pt x="1228" y="458"/>
                    </a:lnTo>
                    <a:lnTo>
                      <a:pt x="1228" y="448"/>
                    </a:lnTo>
                    <a:lnTo>
                      <a:pt x="1220" y="440"/>
                    </a:lnTo>
                    <a:lnTo>
                      <a:pt x="1214" y="432"/>
                    </a:lnTo>
                    <a:lnTo>
                      <a:pt x="1202" y="416"/>
                    </a:lnTo>
                    <a:lnTo>
                      <a:pt x="1200" y="414"/>
                    </a:lnTo>
                    <a:lnTo>
                      <a:pt x="1200" y="412"/>
                    </a:lnTo>
                    <a:lnTo>
                      <a:pt x="1196" y="392"/>
                    </a:lnTo>
                    <a:lnTo>
                      <a:pt x="1184" y="382"/>
                    </a:lnTo>
                    <a:lnTo>
                      <a:pt x="1184" y="384"/>
                    </a:lnTo>
                    <a:lnTo>
                      <a:pt x="1162" y="364"/>
                    </a:lnTo>
                    <a:lnTo>
                      <a:pt x="1162" y="366"/>
                    </a:lnTo>
                    <a:lnTo>
                      <a:pt x="1164" y="392"/>
                    </a:lnTo>
                    <a:lnTo>
                      <a:pt x="1164" y="394"/>
                    </a:lnTo>
                    <a:lnTo>
                      <a:pt x="1152" y="400"/>
                    </a:lnTo>
                    <a:lnTo>
                      <a:pt x="1152" y="416"/>
                    </a:lnTo>
                    <a:lnTo>
                      <a:pt x="1152" y="418"/>
                    </a:lnTo>
                    <a:lnTo>
                      <a:pt x="1124" y="428"/>
                    </a:lnTo>
                    <a:lnTo>
                      <a:pt x="1114" y="406"/>
                    </a:lnTo>
                    <a:lnTo>
                      <a:pt x="1108" y="404"/>
                    </a:lnTo>
                    <a:lnTo>
                      <a:pt x="1100" y="414"/>
                    </a:lnTo>
                    <a:lnTo>
                      <a:pt x="1094" y="430"/>
                    </a:lnTo>
                    <a:lnTo>
                      <a:pt x="1074" y="436"/>
                    </a:lnTo>
                    <a:lnTo>
                      <a:pt x="1062" y="428"/>
                    </a:lnTo>
                    <a:lnTo>
                      <a:pt x="1046" y="422"/>
                    </a:lnTo>
                    <a:lnTo>
                      <a:pt x="1042" y="400"/>
                    </a:lnTo>
                    <a:lnTo>
                      <a:pt x="1036" y="386"/>
                    </a:lnTo>
                    <a:lnTo>
                      <a:pt x="1026" y="382"/>
                    </a:lnTo>
                    <a:lnTo>
                      <a:pt x="1024" y="380"/>
                    </a:lnTo>
                    <a:lnTo>
                      <a:pt x="1018" y="372"/>
                    </a:lnTo>
                    <a:lnTo>
                      <a:pt x="1010" y="360"/>
                    </a:lnTo>
                    <a:lnTo>
                      <a:pt x="1000" y="344"/>
                    </a:lnTo>
                    <a:lnTo>
                      <a:pt x="990" y="344"/>
                    </a:lnTo>
                    <a:lnTo>
                      <a:pt x="974" y="350"/>
                    </a:lnTo>
                    <a:lnTo>
                      <a:pt x="972" y="352"/>
                    </a:lnTo>
                    <a:lnTo>
                      <a:pt x="932" y="348"/>
                    </a:lnTo>
                    <a:lnTo>
                      <a:pt x="900" y="342"/>
                    </a:lnTo>
                    <a:lnTo>
                      <a:pt x="884" y="332"/>
                    </a:lnTo>
                    <a:lnTo>
                      <a:pt x="860" y="324"/>
                    </a:lnTo>
                    <a:lnTo>
                      <a:pt x="838" y="318"/>
                    </a:lnTo>
                    <a:lnTo>
                      <a:pt x="832" y="314"/>
                    </a:lnTo>
                    <a:lnTo>
                      <a:pt x="828" y="312"/>
                    </a:lnTo>
                    <a:lnTo>
                      <a:pt x="824" y="308"/>
                    </a:lnTo>
                    <a:lnTo>
                      <a:pt x="820" y="308"/>
                    </a:lnTo>
                    <a:lnTo>
                      <a:pt x="804" y="300"/>
                    </a:lnTo>
                    <a:lnTo>
                      <a:pt x="804" y="298"/>
                    </a:lnTo>
                    <a:lnTo>
                      <a:pt x="796" y="290"/>
                    </a:lnTo>
                    <a:lnTo>
                      <a:pt x="794" y="282"/>
                    </a:lnTo>
                    <a:lnTo>
                      <a:pt x="788" y="272"/>
                    </a:lnTo>
                    <a:lnTo>
                      <a:pt x="776" y="268"/>
                    </a:lnTo>
                    <a:lnTo>
                      <a:pt x="772" y="270"/>
                    </a:lnTo>
                    <a:lnTo>
                      <a:pt x="768" y="274"/>
                    </a:lnTo>
                    <a:lnTo>
                      <a:pt x="766" y="276"/>
                    </a:lnTo>
                    <a:lnTo>
                      <a:pt x="760" y="280"/>
                    </a:lnTo>
                    <a:lnTo>
                      <a:pt x="756" y="280"/>
                    </a:lnTo>
                    <a:lnTo>
                      <a:pt x="750" y="282"/>
                    </a:lnTo>
                    <a:lnTo>
                      <a:pt x="746" y="280"/>
                    </a:lnTo>
                    <a:lnTo>
                      <a:pt x="740" y="276"/>
                    </a:lnTo>
                    <a:lnTo>
                      <a:pt x="736" y="272"/>
                    </a:lnTo>
                    <a:lnTo>
                      <a:pt x="720" y="256"/>
                    </a:lnTo>
                    <a:lnTo>
                      <a:pt x="714" y="246"/>
                    </a:lnTo>
                    <a:lnTo>
                      <a:pt x="708" y="238"/>
                    </a:lnTo>
                    <a:lnTo>
                      <a:pt x="704" y="232"/>
                    </a:lnTo>
                    <a:lnTo>
                      <a:pt x="698" y="224"/>
                    </a:lnTo>
                    <a:lnTo>
                      <a:pt x="692" y="216"/>
                    </a:lnTo>
                    <a:lnTo>
                      <a:pt x="690" y="206"/>
                    </a:lnTo>
                    <a:lnTo>
                      <a:pt x="692" y="196"/>
                    </a:lnTo>
                    <a:lnTo>
                      <a:pt x="702" y="178"/>
                    </a:lnTo>
                    <a:lnTo>
                      <a:pt x="708" y="160"/>
                    </a:lnTo>
                    <a:lnTo>
                      <a:pt x="710" y="148"/>
                    </a:lnTo>
                    <a:lnTo>
                      <a:pt x="706" y="128"/>
                    </a:lnTo>
                    <a:lnTo>
                      <a:pt x="694" y="118"/>
                    </a:lnTo>
                    <a:lnTo>
                      <a:pt x="696" y="104"/>
                    </a:lnTo>
                    <a:lnTo>
                      <a:pt x="698" y="96"/>
                    </a:lnTo>
                    <a:lnTo>
                      <a:pt x="700" y="90"/>
                    </a:lnTo>
                    <a:lnTo>
                      <a:pt x="704" y="86"/>
                    </a:lnTo>
                    <a:lnTo>
                      <a:pt x="708" y="84"/>
                    </a:lnTo>
                    <a:lnTo>
                      <a:pt x="712" y="84"/>
                    </a:lnTo>
                    <a:lnTo>
                      <a:pt x="712" y="80"/>
                    </a:lnTo>
                    <a:lnTo>
                      <a:pt x="712" y="78"/>
                    </a:lnTo>
                    <a:lnTo>
                      <a:pt x="712" y="62"/>
                    </a:lnTo>
                    <a:lnTo>
                      <a:pt x="712" y="44"/>
                    </a:lnTo>
                    <a:lnTo>
                      <a:pt x="710" y="42"/>
                    </a:lnTo>
                    <a:lnTo>
                      <a:pt x="708" y="40"/>
                    </a:lnTo>
                    <a:lnTo>
                      <a:pt x="706" y="40"/>
                    </a:lnTo>
                    <a:lnTo>
                      <a:pt x="692" y="30"/>
                    </a:lnTo>
                    <a:lnTo>
                      <a:pt x="680" y="20"/>
                    </a:lnTo>
                    <a:lnTo>
                      <a:pt x="642" y="14"/>
                    </a:lnTo>
                    <a:lnTo>
                      <a:pt x="630" y="4"/>
                    </a:lnTo>
                    <a:lnTo>
                      <a:pt x="608" y="4"/>
                    </a:lnTo>
                    <a:lnTo>
                      <a:pt x="602" y="6"/>
                    </a:lnTo>
                    <a:lnTo>
                      <a:pt x="596" y="10"/>
                    </a:lnTo>
                    <a:lnTo>
                      <a:pt x="594" y="10"/>
                    </a:lnTo>
                    <a:lnTo>
                      <a:pt x="576" y="16"/>
                    </a:lnTo>
                    <a:lnTo>
                      <a:pt x="532" y="16"/>
                    </a:lnTo>
                    <a:lnTo>
                      <a:pt x="524" y="20"/>
                    </a:lnTo>
                    <a:lnTo>
                      <a:pt x="518" y="24"/>
                    </a:lnTo>
                    <a:lnTo>
                      <a:pt x="508" y="28"/>
                    </a:lnTo>
                    <a:lnTo>
                      <a:pt x="492" y="34"/>
                    </a:lnTo>
                    <a:lnTo>
                      <a:pt x="472" y="40"/>
                    </a:lnTo>
                    <a:lnTo>
                      <a:pt x="470" y="40"/>
                    </a:lnTo>
                    <a:lnTo>
                      <a:pt x="440" y="36"/>
                    </a:lnTo>
                    <a:lnTo>
                      <a:pt x="438" y="36"/>
                    </a:lnTo>
                    <a:lnTo>
                      <a:pt x="428" y="36"/>
                    </a:lnTo>
                    <a:lnTo>
                      <a:pt x="410" y="40"/>
                    </a:lnTo>
                    <a:lnTo>
                      <a:pt x="374" y="44"/>
                    </a:lnTo>
                    <a:lnTo>
                      <a:pt x="372" y="44"/>
                    </a:lnTo>
                    <a:lnTo>
                      <a:pt x="356" y="36"/>
                    </a:lnTo>
                    <a:lnTo>
                      <a:pt x="340" y="36"/>
                    </a:lnTo>
                    <a:lnTo>
                      <a:pt x="330" y="32"/>
                    </a:lnTo>
                    <a:lnTo>
                      <a:pt x="320" y="20"/>
                    </a:lnTo>
                    <a:lnTo>
                      <a:pt x="318" y="20"/>
                    </a:lnTo>
                    <a:lnTo>
                      <a:pt x="316" y="12"/>
                    </a:lnTo>
                    <a:lnTo>
                      <a:pt x="314" y="8"/>
                    </a:lnTo>
                    <a:lnTo>
                      <a:pt x="310" y="4"/>
                    </a:lnTo>
                    <a:lnTo>
                      <a:pt x="302" y="0"/>
                    </a:lnTo>
                    <a:lnTo>
                      <a:pt x="296" y="8"/>
                    </a:lnTo>
                    <a:lnTo>
                      <a:pt x="270" y="20"/>
                    </a:lnTo>
                    <a:lnTo>
                      <a:pt x="268" y="20"/>
                    </a:lnTo>
                    <a:lnTo>
                      <a:pt x="236" y="22"/>
                    </a:lnTo>
                    <a:lnTo>
                      <a:pt x="226" y="20"/>
                    </a:lnTo>
                    <a:lnTo>
                      <a:pt x="210" y="16"/>
                    </a:lnTo>
                    <a:lnTo>
                      <a:pt x="184" y="12"/>
                    </a:lnTo>
                    <a:lnTo>
                      <a:pt x="182" y="12"/>
                    </a:lnTo>
                    <a:lnTo>
                      <a:pt x="166" y="4"/>
                    </a:lnTo>
                    <a:lnTo>
                      <a:pt x="152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17"/>
              <p:cNvSpPr/>
              <p:nvPr/>
            </p:nvSpPr>
            <p:spPr>
              <a:xfrm>
                <a:off x="5040360" y="3808440"/>
                <a:ext cx="197280" cy="249120"/>
              </a:xfrm>
              <a:custGeom>
                <a:avLst/>
                <a:gdLst/>
                <a:ahLst/>
                <a:rect l="l" t="t" r="r" b="b"/>
                <a:pathLst>
                  <a:path w="568" h="592">
                    <a:moveTo>
                      <a:pt x="4" y="364"/>
                    </a:moveTo>
                    <a:lnTo>
                      <a:pt x="0" y="374"/>
                    </a:lnTo>
                    <a:lnTo>
                      <a:pt x="10" y="372"/>
                    </a:lnTo>
                    <a:lnTo>
                      <a:pt x="18" y="366"/>
                    </a:lnTo>
                    <a:lnTo>
                      <a:pt x="20" y="364"/>
                    </a:lnTo>
                    <a:lnTo>
                      <a:pt x="52" y="360"/>
                    </a:lnTo>
                    <a:lnTo>
                      <a:pt x="74" y="350"/>
                    </a:lnTo>
                    <a:lnTo>
                      <a:pt x="82" y="362"/>
                    </a:lnTo>
                    <a:lnTo>
                      <a:pt x="84" y="362"/>
                    </a:lnTo>
                    <a:lnTo>
                      <a:pt x="74" y="378"/>
                    </a:lnTo>
                    <a:lnTo>
                      <a:pt x="84" y="388"/>
                    </a:lnTo>
                    <a:lnTo>
                      <a:pt x="84" y="390"/>
                    </a:lnTo>
                    <a:lnTo>
                      <a:pt x="84" y="392"/>
                    </a:lnTo>
                    <a:lnTo>
                      <a:pt x="76" y="426"/>
                    </a:lnTo>
                    <a:lnTo>
                      <a:pt x="98" y="440"/>
                    </a:lnTo>
                    <a:lnTo>
                      <a:pt x="136" y="442"/>
                    </a:lnTo>
                    <a:lnTo>
                      <a:pt x="130" y="450"/>
                    </a:lnTo>
                    <a:lnTo>
                      <a:pt x="104" y="486"/>
                    </a:lnTo>
                    <a:lnTo>
                      <a:pt x="98" y="496"/>
                    </a:lnTo>
                    <a:lnTo>
                      <a:pt x="96" y="502"/>
                    </a:lnTo>
                    <a:lnTo>
                      <a:pt x="110" y="506"/>
                    </a:lnTo>
                    <a:lnTo>
                      <a:pt x="122" y="508"/>
                    </a:lnTo>
                    <a:lnTo>
                      <a:pt x="132" y="510"/>
                    </a:lnTo>
                    <a:lnTo>
                      <a:pt x="140" y="516"/>
                    </a:lnTo>
                    <a:lnTo>
                      <a:pt x="144" y="520"/>
                    </a:lnTo>
                    <a:lnTo>
                      <a:pt x="152" y="534"/>
                    </a:lnTo>
                    <a:lnTo>
                      <a:pt x="158" y="550"/>
                    </a:lnTo>
                    <a:lnTo>
                      <a:pt x="180" y="562"/>
                    </a:lnTo>
                    <a:lnTo>
                      <a:pt x="192" y="564"/>
                    </a:lnTo>
                    <a:lnTo>
                      <a:pt x="220" y="540"/>
                    </a:lnTo>
                    <a:lnTo>
                      <a:pt x="236" y="562"/>
                    </a:lnTo>
                    <a:lnTo>
                      <a:pt x="236" y="564"/>
                    </a:lnTo>
                    <a:lnTo>
                      <a:pt x="240" y="584"/>
                    </a:lnTo>
                    <a:lnTo>
                      <a:pt x="252" y="586"/>
                    </a:lnTo>
                    <a:lnTo>
                      <a:pt x="272" y="592"/>
                    </a:lnTo>
                    <a:lnTo>
                      <a:pt x="276" y="592"/>
                    </a:lnTo>
                    <a:lnTo>
                      <a:pt x="276" y="590"/>
                    </a:lnTo>
                    <a:lnTo>
                      <a:pt x="272" y="570"/>
                    </a:lnTo>
                    <a:lnTo>
                      <a:pt x="272" y="568"/>
                    </a:lnTo>
                    <a:lnTo>
                      <a:pt x="262" y="522"/>
                    </a:lnTo>
                    <a:lnTo>
                      <a:pt x="262" y="520"/>
                    </a:lnTo>
                    <a:lnTo>
                      <a:pt x="268" y="488"/>
                    </a:lnTo>
                    <a:lnTo>
                      <a:pt x="270" y="488"/>
                    </a:lnTo>
                    <a:lnTo>
                      <a:pt x="272" y="488"/>
                    </a:lnTo>
                    <a:lnTo>
                      <a:pt x="294" y="490"/>
                    </a:lnTo>
                    <a:lnTo>
                      <a:pt x="320" y="470"/>
                    </a:lnTo>
                    <a:lnTo>
                      <a:pt x="324" y="472"/>
                    </a:lnTo>
                    <a:lnTo>
                      <a:pt x="342" y="486"/>
                    </a:lnTo>
                    <a:lnTo>
                      <a:pt x="352" y="498"/>
                    </a:lnTo>
                    <a:lnTo>
                      <a:pt x="362" y="490"/>
                    </a:lnTo>
                    <a:lnTo>
                      <a:pt x="378" y="474"/>
                    </a:lnTo>
                    <a:lnTo>
                      <a:pt x="378" y="472"/>
                    </a:lnTo>
                    <a:lnTo>
                      <a:pt x="380" y="472"/>
                    </a:lnTo>
                    <a:lnTo>
                      <a:pt x="420" y="482"/>
                    </a:lnTo>
                    <a:lnTo>
                      <a:pt x="438" y="468"/>
                    </a:lnTo>
                    <a:lnTo>
                      <a:pt x="438" y="466"/>
                    </a:lnTo>
                    <a:lnTo>
                      <a:pt x="440" y="466"/>
                    </a:lnTo>
                    <a:lnTo>
                      <a:pt x="458" y="470"/>
                    </a:lnTo>
                    <a:lnTo>
                      <a:pt x="512" y="422"/>
                    </a:lnTo>
                    <a:lnTo>
                      <a:pt x="528" y="426"/>
                    </a:lnTo>
                    <a:lnTo>
                      <a:pt x="530" y="428"/>
                    </a:lnTo>
                    <a:lnTo>
                      <a:pt x="532" y="428"/>
                    </a:lnTo>
                    <a:lnTo>
                      <a:pt x="536" y="436"/>
                    </a:lnTo>
                    <a:lnTo>
                      <a:pt x="540" y="432"/>
                    </a:lnTo>
                    <a:lnTo>
                      <a:pt x="540" y="430"/>
                    </a:lnTo>
                    <a:lnTo>
                      <a:pt x="556" y="422"/>
                    </a:lnTo>
                    <a:lnTo>
                      <a:pt x="568" y="410"/>
                    </a:lnTo>
                    <a:lnTo>
                      <a:pt x="566" y="386"/>
                    </a:lnTo>
                    <a:lnTo>
                      <a:pt x="564" y="382"/>
                    </a:lnTo>
                    <a:lnTo>
                      <a:pt x="548" y="388"/>
                    </a:lnTo>
                    <a:lnTo>
                      <a:pt x="542" y="392"/>
                    </a:lnTo>
                    <a:lnTo>
                      <a:pt x="534" y="392"/>
                    </a:lnTo>
                    <a:lnTo>
                      <a:pt x="516" y="392"/>
                    </a:lnTo>
                    <a:lnTo>
                      <a:pt x="510" y="390"/>
                    </a:lnTo>
                    <a:lnTo>
                      <a:pt x="504" y="386"/>
                    </a:lnTo>
                    <a:lnTo>
                      <a:pt x="504" y="360"/>
                    </a:lnTo>
                    <a:lnTo>
                      <a:pt x="496" y="358"/>
                    </a:lnTo>
                    <a:lnTo>
                      <a:pt x="492" y="356"/>
                    </a:lnTo>
                    <a:lnTo>
                      <a:pt x="488" y="358"/>
                    </a:lnTo>
                    <a:lnTo>
                      <a:pt x="484" y="360"/>
                    </a:lnTo>
                    <a:lnTo>
                      <a:pt x="472" y="364"/>
                    </a:lnTo>
                    <a:lnTo>
                      <a:pt x="468" y="364"/>
                    </a:lnTo>
                    <a:lnTo>
                      <a:pt x="468" y="362"/>
                    </a:lnTo>
                    <a:lnTo>
                      <a:pt x="462" y="350"/>
                    </a:lnTo>
                    <a:lnTo>
                      <a:pt x="460" y="340"/>
                    </a:lnTo>
                    <a:lnTo>
                      <a:pt x="468" y="310"/>
                    </a:lnTo>
                    <a:lnTo>
                      <a:pt x="468" y="308"/>
                    </a:lnTo>
                    <a:lnTo>
                      <a:pt x="476" y="294"/>
                    </a:lnTo>
                    <a:lnTo>
                      <a:pt x="452" y="274"/>
                    </a:lnTo>
                    <a:lnTo>
                      <a:pt x="452" y="272"/>
                    </a:lnTo>
                    <a:lnTo>
                      <a:pt x="452" y="248"/>
                    </a:lnTo>
                    <a:lnTo>
                      <a:pt x="464" y="212"/>
                    </a:lnTo>
                    <a:lnTo>
                      <a:pt x="456" y="192"/>
                    </a:lnTo>
                    <a:lnTo>
                      <a:pt x="450" y="190"/>
                    </a:lnTo>
                    <a:lnTo>
                      <a:pt x="440" y="190"/>
                    </a:lnTo>
                    <a:lnTo>
                      <a:pt x="432" y="204"/>
                    </a:lnTo>
                    <a:lnTo>
                      <a:pt x="420" y="196"/>
                    </a:lnTo>
                    <a:lnTo>
                      <a:pt x="410" y="190"/>
                    </a:lnTo>
                    <a:lnTo>
                      <a:pt x="400" y="168"/>
                    </a:lnTo>
                    <a:lnTo>
                      <a:pt x="398" y="152"/>
                    </a:lnTo>
                    <a:lnTo>
                      <a:pt x="398" y="150"/>
                    </a:lnTo>
                    <a:lnTo>
                      <a:pt x="396" y="148"/>
                    </a:lnTo>
                    <a:lnTo>
                      <a:pt x="400" y="148"/>
                    </a:lnTo>
                    <a:lnTo>
                      <a:pt x="410" y="132"/>
                    </a:lnTo>
                    <a:lnTo>
                      <a:pt x="412" y="132"/>
                    </a:lnTo>
                    <a:lnTo>
                      <a:pt x="420" y="130"/>
                    </a:lnTo>
                    <a:lnTo>
                      <a:pt x="430" y="128"/>
                    </a:lnTo>
                    <a:lnTo>
                      <a:pt x="472" y="126"/>
                    </a:lnTo>
                    <a:lnTo>
                      <a:pt x="478" y="128"/>
                    </a:lnTo>
                    <a:lnTo>
                      <a:pt x="480" y="128"/>
                    </a:lnTo>
                    <a:lnTo>
                      <a:pt x="486" y="132"/>
                    </a:lnTo>
                    <a:lnTo>
                      <a:pt x="496" y="126"/>
                    </a:lnTo>
                    <a:lnTo>
                      <a:pt x="506" y="120"/>
                    </a:lnTo>
                    <a:lnTo>
                      <a:pt x="512" y="112"/>
                    </a:lnTo>
                    <a:lnTo>
                      <a:pt x="512" y="108"/>
                    </a:lnTo>
                    <a:lnTo>
                      <a:pt x="512" y="90"/>
                    </a:lnTo>
                    <a:lnTo>
                      <a:pt x="502" y="88"/>
                    </a:lnTo>
                    <a:lnTo>
                      <a:pt x="486" y="94"/>
                    </a:lnTo>
                    <a:lnTo>
                      <a:pt x="478" y="100"/>
                    </a:lnTo>
                    <a:lnTo>
                      <a:pt x="474" y="102"/>
                    </a:lnTo>
                    <a:lnTo>
                      <a:pt x="470" y="104"/>
                    </a:lnTo>
                    <a:lnTo>
                      <a:pt x="466" y="102"/>
                    </a:lnTo>
                    <a:lnTo>
                      <a:pt x="462" y="100"/>
                    </a:lnTo>
                    <a:lnTo>
                      <a:pt x="454" y="90"/>
                    </a:lnTo>
                    <a:lnTo>
                      <a:pt x="454" y="88"/>
                    </a:lnTo>
                    <a:lnTo>
                      <a:pt x="452" y="78"/>
                    </a:lnTo>
                    <a:lnTo>
                      <a:pt x="452" y="76"/>
                    </a:lnTo>
                    <a:lnTo>
                      <a:pt x="454" y="66"/>
                    </a:lnTo>
                    <a:lnTo>
                      <a:pt x="444" y="44"/>
                    </a:lnTo>
                    <a:lnTo>
                      <a:pt x="428" y="48"/>
                    </a:lnTo>
                    <a:lnTo>
                      <a:pt x="420" y="56"/>
                    </a:lnTo>
                    <a:lnTo>
                      <a:pt x="424" y="80"/>
                    </a:lnTo>
                    <a:lnTo>
                      <a:pt x="396" y="68"/>
                    </a:lnTo>
                    <a:lnTo>
                      <a:pt x="404" y="82"/>
                    </a:lnTo>
                    <a:lnTo>
                      <a:pt x="404" y="84"/>
                    </a:lnTo>
                    <a:lnTo>
                      <a:pt x="402" y="100"/>
                    </a:lnTo>
                    <a:lnTo>
                      <a:pt x="402" y="102"/>
                    </a:lnTo>
                    <a:lnTo>
                      <a:pt x="400" y="102"/>
                    </a:lnTo>
                    <a:lnTo>
                      <a:pt x="386" y="124"/>
                    </a:lnTo>
                    <a:lnTo>
                      <a:pt x="360" y="138"/>
                    </a:lnTo>
                    <a:lnTo>
                      <a:pt x="358" y="152"/>
                    </a:lnTo>
                    <a:lnTo>
                      <a:pt x="360" y="160"/>
                    </a:lnTo>
                    <a:lnTo>
                      <a:pt x="364" y="170"/>
                    </a:lnTo>
                    <a:lnTo>
                      <a:pt x="366" y="170"/>
                    </a:lnTo>
                    <a:lnTo>
                      <a:pt x="366" y="172"/>
                    </a:lnTo>
                    <a:lnTo>
                      <a:pt x="368" y="192"/>
                    </a:lnTo>
                    <a:lnTo>
                      <a:pt x="368" y="194"/>
                    </a:lnTo>
                    <a:lnTo>
                      <a:pt x="366" y="196"/>
                    </a:lnTo>
                    <a:lnTo>
                      <a:pt x="356" y="208"/>
                    </a:lnTo>
                    <a:lnTo>
                      <a:pt x="348" y="214"/>
                    </a:lnTo>
                    <a:lnTo>
                      <a:pt x="346" y="214"/>
                    </a:lnTo>
                    <a:lnTo>
                      <a:pt x="344" y="214"/>
                    </a:lnTo>
                    <a:lnTo>
                      <a:pt x="326" y="210"/>
                    </a:lnTo>
                    <a:lnTo>
                      <a:pt x="322" y="210"/>
                    </a:lnTo>
                    <a:lnTo>
                      <a:pt x="316" y="214"/>
                    </a:lnTo>
                    <a:lnTo>
                      <a:pt x="308" y="224"/>
                    </a:lnTo>
                    <a:lnTo>
                      <a:pt x="300" y="232"/>
                    </a:lnTo>
                    <a:lnTo>
                      <a:pt x="298" y="236"/>
                    </a:lnTo>
                    <a:lnTo>
                      <a:pt x="294" y="238"/>
                    </a:lnTo>
                    <a:lnTo>
                      <a:pt x="288" y="240"/>
                    </a:lnTo>
                    <a:lnTo>
                      <a:pt x="282" y="238"/>
                    </a:lnTo>
                    <a:lnTo>
                      <a:pt x="280" y="238"/>
                    </a:lnTo>
                    <a:lnTo>
                      <a:pt x="278" y="234"/>
                    </a:lnTo>
                    <a:lnTo>
                      <a:pt x="276" y="230"/>
                    </a:lnTo>
                    <a:lnTo>
                      <a:pt x="276" y="224"/>
                    </a:lnTo>
                    <a:lnTo>
                      <a:pt x="276" y="220"/>
                    </a:lnTo>
                    <a:lnTo>
                      <a:pt x="276" y="214"/>
                    </a:lnTo>
                    <a:lnTo>
                      <a:pt x="272" y="218"/>
                    </a:lnTo>
                    <a:lnTo>
                      <a:pt x="270" y="220"/>
                    </a:lnTo>
                    <a:lnTo>
                      <a:pt x="264" y="222"/>
                    </a:lnTo>
                    <a:lnTo>
                      <a:pt x="260" y="218"/>
                    </a:lnTo>
                    <a:lnTo>
                      <a:pt x="258" y="212"/>
                    </a:lnTo>
                    <a:lnTo>
                      <a:pt x="256" y="192"/>
                    </a:lnTo>
                    <a:lnTo>
                      <a:pt x="252" y="176"/>
                    </a:lnTo>
                    <a:lnTo>
                      <a:pt x="244" y="168"/>
                    </a:lnTo>
                    <a:lnTo>
                      <a:pt x="244" y="166"/>
                    </a:lnTo>
                    <a:lnTo>
                      <a:pt x="226" y="128"/>
                    </a:lnTo>
                    <a:lnTo>
                      <a:pt x="220" y="116"/>
                    </a:lnTo>
                    <a:lnTo>
                      <a:pt x="220" y="114"/>
                    </a:lnTo>
                    <a:lnTo>
                      <a:pt x="216" y="94"/>
                    </a:lnTo>
                    <a:lnTo>
                      <a:pt x="214" y="90"/>
                    </a:lnTo>
                    <a:lnTo>
                      <a:pt x="212" y="92"/>
                    </a:lnTo>
                    <a:lnTo>
                      <a:pt x="204" y="100"/>
                    </a:lnTo>
                    <a:lnTo>
                      <a:pt x="200" y="104"/>
                    </a:lnTo>
                    <a:lnTo>
                      <a:pt x="196" y="102"/>
                    </a:lnTo>
                    <a:lnTo>
                      <a:pt x="188" y="96"/>
                    </a:lnTo>
                    <a:lnTo>
                      <a:pt x="176" y="90"/>
                    </a:lnTo>
                    <a:lnTo>
                      <a:pt x="174" y="88"/>
                    </a:lnTo>
                    <a:lnTo>
                      <a:pt x="172" y="88"/>
                    </a:lnTo>
                    <a:lnTo>
                      <a:pt x="172" y="86"/>
                    </a:lnTo>
                    <a:lnTo>
                      <a:pt x="172" y="70"/>
                    </a:lnTo>
                    <a:lnTo>
                      <a:pt x="168" y="58"/>
                    </a:lnTo>
                    <a:lnTo>
                      <a:pt x="162" y="42"/>
                    </a:lnTo>
                    <a:lnTo>
                      <a:pt x="156" y="42"/>
                    </a:lnTo>
                    <a:lnTo>
                      <a:pt x="156" y="50"/>
                    </a:lnTo>
                    <a:lnTo>
                      <a:pt x="154" y="58"/>
                    </a:lnTo>
                    <a:lnTo>
                      <a:pt x="150" y="64"/>
                    </a:lnTo>
                    <a:lnTo>
                      <a:pt x="144" y="70"/>
                    </a:lnTo>
                    <a:lnTo>
                      <a:pt x="142" y="78"/>
                    </a:lnTo>
                    <a:lnTo>
                      <a:pt x="138" y="82"/>
                    </a:lnTo>
                    <a:lnTo>
                      <a:pt x="134" y="86"/>
                    </a:lnTo>
                    <a:lnTo>
                      <a:pt x="130" y="86"/>
                    </a:lnTo>
                    <a:lnTo>
                      <a:pt x="128" y="86"/>
                    </a:lnTo>
                    <a:lnTo>
                      <a:pt x="124" y="84"/>
                    </a:lnTo>
                    <a:lnTo>
                      <a:pt x="122" y="84"/>
                    </a:lnTo>
                    <a:lnTo>
                      <a:pt x="118" y="82"/>
                    </a:lnTo>
                    <a:lnTo>
                      <a:pt x="118" y="78"/>
                    </a:lnTo>
                    <a:lnTo>
                      <a:pt x="116" y="66"/>
                    </a:lnTo>
                    <a:lnTo>
                      <a:pt x="116" y="62"/>
                    </a:lnTo>
                    <a:lnTo>
                      <a:pt x="106" y="56"/>
                    </a:lnTo>
                    <a:lnTo>
                      <a:pt x="104" y="54"/>
                    </a:lnTo>
                    <a:lnTo>
                      <a:pt x="102" y="50"/>
                    </a:lnTo>
                    <a:lnTo>
                      <a:pt x="100" y="42"/>
                    </a:lnTo>
                    <a:lnTo>
                      <a:pt x="104" y="6"/>
                    </a:lnTo>
                    <a:lnTo>
                      <a:pt x="102" y="0"/>
                    </a:lnTo>
                    <a:lnTo>
                      <a:pt x="88" y="14"/>
                    </a:lnTo>
                    <a:lnTo>
                      <a:pt x="80" y="20"/>
                    </a:lnTo>
                    <a:lnTo>
                      <a:pt x="78" y="26"/>
                    </a:lnTo>
                    <a:lnTo>
                      <a:pt x="82" y="36"/>
                    </a:lnTo>
                    <a:lnTo>
                      <a:pt x="82" y="44"/>
                    </a:lnTo>
                    <a:lnTo>
                      <a:pt x="82" y="48"/>
                    </a:lnTo>
                    <a:lnTo>
                      <a:pt x="80" y="54"/>
                    </a:lnTo>
                    <a:lnTo>
                      <a:pt x="76" y="58"/>
                    </a:lnTo>
                    <a:lnTo>
                      <a:pt x="72" y="60"/>
                    </a:lnTo>
                    <a:lnTo>
                      <a:pt x="56" y="66"/>
                    </a:lnTo>
                    <a:lnTo>
                      <a:pt x="52" y="68"/>
                    </a:lnTo>
                    <a:lnTo>
                      <a:pt x="52" y="74"/>
                    </a:lnTo>
                    <a:lnTo>
                      <a:pt x="52" y="96"/>
                    </a:lnTo>
                    <a:lnTo>
                      <a:pt x="54" y="104"/>
                    </a:lnTo>
                    <a:lnTo>
                      <a:pt x="54" y="106"/>
                    </a:lnTo>
                    <a:lnTo>
                      <a:pt x="56" y="108"/>
                    </a:lnTo>
                    <a:lnTo>
                      <a:pt x="64" y="108"/>
                    </a:lnTo>
                    <a:lnTo>
                      <a:pt x="68" y="108"/>
                    </a:lnTo>
                    <a:lnTo>
                      <a:pt x="72" y="106"/>
                    </a:lnTo>
                    <a:lnTo>
                      <a:pt x="76" y="104"/>
                    </a:lnTo>
                    <a:lnTo>
                      <a:pt x="92" y="138"/>
                    </a:lnTo>
                    <a:lnTo>
                      <a:pt x="92" y="140"/>
                    </a:lnTo>
                    <a:lnTo>
                      <a:pt x="88" y="184"/>
                    </a:lnTo>
                    <a:lnTo>
                      <a:pt x="82" y="216"/>
                    </a:lnTo>
                    <a:lnTo>
                      <a:pt x="78" y="238"/>
                    </a:lnTo>
                    <a:lnTo>
                      <a:pt x="72" y="250"/>
                    </a:lnTo>
                    <a:lnTo>
                      <a:pt x="68" y="254"/>
                    </a:lnTo>
                    <a:lnTo>
                      <a:pt x="62" y="256"/>
                    </a:lnTo>
                    <a:lnTo>
                      <a:pt x="54" y="254"/>
                    </a:lnTo>
                    <a:lnTo>
                      <a:pt x="48" y="252"/>
                    </a:lnTo>
                    <a:lnTo>
                      <a:pt x="22" y="298"/>
                    </a:lnTo>
                    <a:lnTo>
                      <a:pt x="12" y="312"/>
                    </a:lnTo>
                    <a:lnTo>
                      <a:pt x="6" y="318"/>
                    </a:lnTo>
                    <a:lnTo>
                      <a:pt x="8" y="318"/>
                    </a:lnTo>
                    <a:lnTo>
                      <a:pt x="6" y="320"/>
                    </a:lnTo>
                    <a:lnTo>
                      <a:pt x="4" y="326"/>
                    </a:lnTo>
                    <a:lnTo>
                      <a:pt x="4" y="348"/>
                    </a:lnTo>
                    <a:lnTo>
                      <a:pt x="8" y="352"/>
                    </a:lnTo>
                    <a:lnTo>
                      <a:pt x="10" y="352"/>
                    </a:lnTo>
                    <a:lnTo>
                      <a:pt x="12" y="354"/>
                    </a:lnTo>
                    <a:lnTo>
                      <a:pt x="4" y="3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18"/>
              <p:cNvSpPr/>
              <p:nvPr/>
            </p:nvSpPr>
            <p:spPr>
              <a:xfrm>
                <a:off x="5182560" y="3805200"/>
                <a:ext cx="133560" cy="139680"/>
              </a:xfrm>
              <a:custGeom>
                <a:avLst/>
                <a:gdLst/>
                <a:ahLst/>
                <a:rect l="l" t="t" r="r" b="b"/>
                <a:pathLst>
                  <a:path w="384" h="332">
                    <a:moveTo>
                      <a:pt x="300" y="6"/>
                    </a:moveTo>
                    <a:lnTo>
                      <a:pt x="296" y="4"/>
                    </a:lnTo>
                    <a:lnTo>
                      <a:pt x="288" y="8"/>
                    </a:lnTo>
                    <a:lnTo>
                      <a:pt x="284" y="14"/>
                    </a:lnTo>
                    <a:lnTo>
                      <a:pt x="280" y="22"/>
                    </a:lnTo>
                    <a:lnTo>
                      <a:pt x="276" y="24"/>
                    </a:lnTo>
                    <a:lnTo>
                      <a:pt x="272" y="26"/>
                    </a:lnTo>
                    <a:lnTo>
                      <a:pt x="268" y="24"/>
                    </a:lnTo>
                    <a:lnTo>
                      <a:pt x="264" y="20"/>
                    </a:lnTo>
                    <a:lnTo>
                      <a:pt x="262" y="20"/>
                    </a:lnTo>
                    <a:lnTo>
                      <a:pt x="260" y="12"/>
                    </a:lnTo>
                    <a:lnTo>
                      <a:pt x="260" y="10"/>
                    </a:lnTo>
                    <a:lnTo>
                      <a:pt x="258" y="0"/>
                    </a:lnTo>
                    <a:lnTo>
                      <a:pt x="254" y="0"/>
                    </a:lnTo>
                    <a:lnTo>
                      <a:pt x="252" y="0"/>
                    </a:lnTo>
                    <a:lnTo>
                      <a:pt x="250" y="8"/>
                    </a:lnTo>
                    <a:lnTo>
                      <a:pt x="250" y="20"/>
                    </a:lnTo>
                    <a:lnTo>
                      <a:pt x="248" y="20"/>
                    </a:lnTo>
                    <a:lnTo>
                      <a:pt x="240" y="34"/>
                    </a:lnTo>
                    <a:lnTo>
                      <a:pt x="238" y="36"/>
                    </a:lnTo>
                    <a:lnTo>
                      <a:pt x="236" y="36"/>
                    </a:lnTo>
                    <a:lnTo>
                      <a:pt x="216" y="34"/>
                    </a:lnTo>
                    <a:lnTo>
                      <a:pt x="216" y="36"/>
                    </a:lnTo>
                    <a:lnTo>
                      <a:pt x="208" y="44"/>
                    </a:lnTo>
                    <a:lnTo>
                      <a:pt x="212" y="50"/>
                    </a:lnTo>
                    <a:lnTo>
                      <a:pt x="206" y="58"/>
                    </a:lnTo>
                    <a:lnTo>
                      <a:pt x="188" y="58"/>
                    </a:lnTo>
                    <a:lnTo>
                      <a:pt x="188" y="56"/>
                    </a:lnTo>
                    <a:lnTo>
                      <a:pt x="188" y="54"/>
                    </a:lnTo>
                    <a:lnTo>
                      <a:pt x="184" y="52"/>
                    </a:lnTo>
                    <a:lnTo>
                      <a:pt x="182" y="58"/>
                    </a:lnTo>
                    <a:lnTo>
                      <a:pt x="180" y="60"/>
                    </a:lnTo>
                    <a:lnTo>
                      <a:pt x="168" y="60"/>
                    </a:lnTo>
                    <a:lnTo>
                      <a:pt x="160" y="54"/>
                    </a:lnTo>
                    <a:lnTo>
                      <a:pt x="160" y="52"/>
                    </a:lnTo>
                    <a:lnTo>
                      <a:pt x="160" y="50"/>
                    </a:lnTo>
                    <a:lnTo>
                      <a:pt x="146" y="48"/>
                    </a:lnTo>
                    <a:lnTo>
                      <a:pt x="136" y="52"/>
                    </a:lnTo>
                    <a:lnTo>
                      <a:pt x="132" y="56"/>
                    </a:lnTo>
                    <a:lnTo>
                      <a:pt x="148" y="74"/>
                    </a:lnTo>
                    <a:lnTo>
                      <a:pt x="168" y="80"/>
                    </a:lnTo>
                    <a:lnTo>
                      <a:pt x="170" y="82"/>
                    </a:lnTo>
                    <a:lnTo>
                      <a:pt x="180" y="92"/>
                    </a:lnTo>
                    <a:lnTo>
                      <a:pt x="176" y="108"/>
                    </a:lnTo>
                    <a:lnTo>
                      <a:pt x="176" y="110"/>
                    </a:lnTo>
                    <a:lnTo>
                      <a:pt x="162" y="120"/>
                    </a:lnTo>
                    <a:lnTo>
                      <a:pt x="162" y="122"/>
                    </a:lnTo>
                    <a:lnTo>
                      <a:pt x="160" y="122"/>
                    </a:lnTo>
                    <a:lnTo>
                      <a:pt x="138" y="128"/>
                    </a:lnTo>
                    <a:lnTo>
                      <a:pt x="124" y="130"/>
                    </a:lnTo>
                    <a:lnTo>
                      <a:pt x="114" y="126"/>
                    </a:lnTo>
                    <a:lnTo>
                      <a:pt x="110" y="126"/>
                    </a:lnTo>
                    <a:lnTo>
                      <a:pt x="104" y="134"/>
                    </a:lnTo>
                    <a:lnTo>
                      <a:pt x="94" y="142"/>
                    </a:lnTo>
                    <a:lnTo>
                      <a:pt x="92" y="142"/>
                    </a:lnTo>
                    <a:lnTo>
                      <a:pt x="78" y="148"/>
                    </a:lnTo>
                    <a:lnTo>
                      <a:pt x="60" y="142"/>
                    </a:lnTo>
                    <a:lnTo>
                      <a:pt x="24" y="144"/>
                    </a:lnTo>
                    <a:lnTo>
                      <a:pt x="16" y="146"/>
                    </a:lnTo>
                    <a:lnTo>
                      <a:pt x="16" y="148"/>
                    </a:lnTo>
                    <a:lnTo>
                      <a:pt x="8" y="148"/>
                    </a:lnTo>
                    <a:lnTo>
                      <a:pt x="0" y="160"/>
                    </a:lnTo>
                    <a:lnTo>
                      <a:pt x="0" y="172"/>
                    </a:lnTo>
                    <a:lnTo>
                      <a:pt x="8" y="192"/>
                    </a:lnTo>
                    <a:lnTo>
                      <a:pt x="18" y="196"/>
                    </a:lnTo>
                    <a:lnTo>
                      <a:pt x="22" y="200"/>
                    </a:lnTo>
                    <a:lnTo>
                      <a:pt x="28" y="192"/>
                    </a:lnTo>
                    <a:lnTo>
                      <a:pt x="28" y="190"/>
                    </a:lnTo>
                    <a:lnTo>
                      <a:pt x="30" y="190"/>
                    </a:lnTo>
                    <a:lnTo>
                      <a:pt x="42" y="188"/>
                    </a:lnTo>
                    <a:lnTo>
                      <a:pt x="44" y="188"/>
                    </a:lnTo>
                    <a:lnTo>
                      <a:pt x="56" y="192"/>
                    </a:lnTo>
                    <a:lnTo>
                      <a:pt x="68" y="220"/>
                    </a:lnTo>
                    <a:lnTo>
                      <a:pt x="66" y="220"/>
                    </a:lnTo>
                    <a:lnTo>
                      <a:pt x="62" y="236"/>
                    </a:lnTo>
                    <a:lnTo>
                      <a:pt x="58" y="244"/>
                    </a:lnTo>
                    <a:lnTo>
                      <a:pt x="58" y="246"/>
                    </a:lnTo>
                    <a:lnTo>
                      <a:pt x="52" y="260"/>
                    </a:lnTo>
                    <a:lnTo>
                      <a:pt x="52" y="276"/>
                    </a:lnTo>
                    <a:lnTo>
                      <a:pt x="62" y="286"/>
                    </a:lnTo>
                    <a:lnTo>
                      <a:pt x="76" y="296"/>
                    </a:lnTo>
                    <a:lnTo>
                      <a:pt x="76" y="298"/>
                    </a:lnTo>
                    <a:lnTo>
                      <a:pt x="78" y="298"/>
                    </a:lnTo>
                    <a:lnTo>
                      <a:pt x="68" y="320"/>
                    </a:lnTo>
                    <a:lnTo>
                      <a:pt x="66" y="332"/>
                    </a:lnTo>
                    <a:lnTo>
                      <a:pt x="68" y="330"/>
                    </a:lnTo>
                    <a:lnTo>
                      <a:pt x="70" y="330"/>
                    </a:lnTo>
                    <a:lnTo>
                      <a:pt x="78" y="326"/>
                    </a:lnTo>
                    <a:lnTo>
                      <a:pt x="92" y="318"/>
                    </a:lnTo>
                    <a:lnTo>
                      <a:pt x="108" y="320"/>
                    </a:lnTo>
                    <a:lnTo>
                      <a:pt x="110" y="320"/>
                    </a:lnTo>
                    <a:lnTo>
                      <a:pt x="134" y="330"/>
                    </a:lnTo>
                    <a:lnTo>
                      <a:pt x="160" y="330"/>
                    </a:lnTo>
                    <a:lnTo>
                      <a:pt x="168" y="320"/>
                    </a:lnTo>
                    <a:lnTo>
                      <a:pt x="182" y="312"/>
                    </a:lnTo>
                    <a:lnTo>
                      <a:pt x="196" y="302"/>
                    </a:lnTo>
                    <a:lnTo>
                      <a:pt x="196" y="300"/>
                    </a:lnTo>
                    <a:lnTo>
                      <a:pt x="206" y="298"/>
                    </a:lnTo>
                    <a:lnTo>
                      <a:pt x="216" y="290"/>
                    </a:lnTo>
                    <a:lnTo>
                      <a:pt x="228" y="274"/>
                    </a:lnTo>
                    <a:lnTo>
                      <a:pt x="246" y="280"/>
                    </a:lnTo>
                    <a:lnTo>
                      <a:pt x="248" y="280"/>
                    </a:lnTo>
                    <a:lnTo>
                      <a:pt x="248" y="282"/>
                    </a:lnTo>
                    <a:lnTo>
                      <a:pt x="252" y="290"/>
                    </a:lnTo>
                    <a:lnTo>
                      <a:pt x="256" y="292"/>
                    </a:lnTo>
                    <a:lnTo>
                      <a:pt x="266" y="292"/>
                    </a:lnTo>
                    <a:lnTo>
                      <a:pt x="268" y="292"/>
                    </a:lnTo>
                    <a:lnTo>
                      <a:pt x="274" y="292"/>
                    </a:lnTo>
                    <a:lnTo>
                      <a:pt x="276" y="292"/>
                    </a:lnTo>
                    <a:lnTo>
                      <a:pt x="276" y="294"/>
                    </a:lnTo>
                    <a:lnTo>
                      <a:pt x="288" y="298"/>
                    </a:lnTo>
                    <a:lnTo>
                      <a:pt x="292" y="298"/>
                    </a:lnTo>
                    <a:lnTo>
                      <a:pt x="294" y="296"/>
                    </a:lnTo>
                    <a:lnTo>
                      <a:pt x="296" y="290"/>
                    </a:lnTo>
                    <a:lnTo>
                      <a:pt x="296" y="288"/>
                    </a:lnTo>
                    <a:lnTo>
                      <a:pt x="302" y="284"/>
                    </a:lnTo>
                    <a:lnTo>
                      <a:pt x="312" y="276"/>
                    </a:lnTo>
                    <a:lnTo>
                      <a:pt x="314" y="276"/>
                    </a:lnTo>
                    <a:lnTo>
                      <a:pt x="322" y="276"/>
                    </a:lnTo>
                    <a:lnTo>
                      <a:pt x="324" y="268"/>
                    </a:lnTo>
                    <a:lnTo>
                      <a:pt x="330" y="262"/>
                    </a:lnTo>
                    <a:lnTo>
                      <a:pt x="336" y="258"/>
                    </a:lnTo>
                    <a:lnTo>
                      <a:pt x="342" y="256"/>
                    </a:lnTo>
                    <a:lnTo>
                      <a:pt x="346" y="252"/>
                    </a:lnTo>
                    <a:lnTo>
                      <a:pt x="348" y="252"/>
                    </a:lnTo>
                    <a:lnTo>
                      <a:pt x="352" y="248"/>
                    </a:lnTo>
                    <a:lnTo>
                      <a:pt x="352" y="246"/>
                    </a:lnTo>
                    <a:lnTo>
                      <a:pt x="354" y="246"/>
                    </a:lnTo>
                    <a:lnTo>
                      <a:pt x="366" y="244"/>
                    </a:lnTo>
                    <a:lnTo>
                      <a:pt x="374" y="244"/>
                    </a:lnTo>
                    <a:lnTo>
                      <a:pt x="376" y="240"/>
                    </a:lnTo>
                    <a:lnTo>
                      <a:pt x="380" y="236"/>
                    </a:lnTo>
                    <a:lnTo>
                      <a:pt x="384" y="228"/>
                    </a:lnTo>
                    <a:lnTo>
                      <a:pt x="382" y="228"/>
                    </a:lnTo>
                    <a:lnTo>
                      <a:pt x="376" y="218"/>
                    </a:lnTo>
                    <a:lnTo>
                      <a:pt x="372" y="206"/>
                    </a:lnTo>
                    <a:lnTo>
                      <a:pt x="372" y="204"/>
                    </a:lnTo>
                    <a:lnTo>
                      <a:pt x="376" y="188"/>
                    </a:lnTo>
                    <a:lnTo>
                      <a:pt x="376" y="180"/>
                    </a:lnTo>
                    <a:lnTo>
                      <a:pt x="380" y="174"/>
                    </a:lnTo>
                    <a:lnTo>
                      <a:pt x="380" y="160"/>
                    </a:lnTo>
                    <a:lnTo>
                      <a:pt x="378" y="158"/>
                    </a:lnTo>
                    <a:lnTo>
                      <a:pt x="372" y="156"/>
                    </a:lnTo>
                    <a:lnTo>
                      <a:pt x="348" y="166"/>
                    </a:lnTo>
                    <a:lnTo>
                      <a:pt x="348" y="140"/>
                    </a:lnTo>
                    <a:lnTo>
                      <a:pt x="350" y="136"/>
                    </a:lnTo>
                    <a:lnTo>
                      <a:pt x="356" y="132"/>
                    </a:lnTo>
                    <a:lnTo>
                      <a:pt x="372" y="120"/>
                    </a:lnTo>
                    <a:lnTo>
                      <a:pt x="366" y="92"/>
                    </a:lnTo>
                    <a:lnTo>
                      <a:pt x="366" y="84"/>
                    </a:lnTo>
                    <a:lnTo>
                      <a:pt x="366" y="78"/>
                    </a:lnTo>
                    <a:lnTo>
                      <a:pt x="368" y="74"/>
                    </a:lnTo>
                    <a:lnTo>
                      <a:pt x="372" y="68"/>
                    </a:lnTo>
                    <a:lnTo>
                      <a:pt x="372" y="64"/>
                    </a:lnTo>
                    <a:lnTo>
                      <a:pt x="364" y="64"/>
                    </a:lnTo>
                    <a:lnTo>
                      <a:pt x="360" y="64"/>
                    </a:lnTo>
                    <a:lnTo>
                      <a:pt x="356" y="76"/>
                    </a:lnTo>
                    <a:lnTo>
                      <a:pt x="352" y="80"/>
                    </a:lnTo>
                    <a:lnTo>
                      <a:pt x="348" y="82"/>
                    </a:lnTo>
                    <a:lnTo>
                      <a:pt x="346" y="82"/>
                    </a:lnTo>
                    <a:lnTo>
                      <a:pt x="338" y="76"/>
                    </a:lnTo>
                    <a:lnTo>
                      <a:pt x="336" y="76"/>
                    </a:lnTo>
                    <a:lnTo>
                      <a:pt x="336" y="74"/>
                    </a:lnTo>
                    <a:lnTo>
                      <a:pt x="334" y="68"/>
                    </a:lnTo>
                    <a:lnTo>
                      <a:pt x="332" y="60"/>
                    </a:lnTo>
                    <a:lnTo>
                      <a:pt x="332" y="64"/>
                    </a:lnTo>
                    <a:lnTo>
                      <a:pt x="316" y="64"/>
                    </a:lnTo>
                    <a:lnTo>
                      <a:pt x="316" y="60"/>
                    </a:lnTo>
                    <a:lnTo>
                      <a:pt x="312" y="52"/>
                    </a:lnTo>
                    <a:lnTo>
                      <a:pt x="312" y="40"/>
                    </a:lnTo>
                    <a:lnTo>
                      <a:pt x="304" y="24"/>
                    </a:lnTo>
                    <a:lnTo>
                      <a:pt x="304" y="12"/>
                    </a:lnTo>
                    <a:lnTo>
                      <a:pt x="300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19"/>
              <p:cNvSpPr/>
              <p:nvPr/>
            </p:nvSpPr>
            <p:spPr>
              <a:xfrm>
                <a:off x="5204160" y="3891240"/>
                <a:ext cx="174600" cy="160560"/>
              </a:xfrm>
              <a:custGeom>
                <a:avLst/>
                <a:gdLst/>
                <a:ahLst/>
                <a:rect l="l" t="t" r="r" b="b"/>
                <a:pathLst>
                  <a:path w="502" h="382">
                    <a:moveTo>
                      <a:pt x="402" y="8"/>
                    </a:moveTo>
                    <a:lnTo>
                      <a:pt x="402" y="10"/>
                    </a:lnTo>
                    <a:lnTo>
                      <a:pt x="404" y="12"/>
                    </a:lnTo>
                    <a:lnTo>
                      <a:pt x="394" y="28"/>
                    </a:lnTo>
                    <a:lnTo>
                      <a:pt x="386" y="34"/>
                    </a:lnTo>
                    <a:lnTo>
                      <a:pt x="378" y="36"/>
                    </a:lnTo>
                    <a:lnTo>
                      <a:pt x="376" y="36"/>
                    </a:lnTo>
                    <a:lnTo>
                      <a:pt x="368" y="30"/>
                    </a:lnTo>
                    <a:lnTo>
                      <a:pt x="360" y="32"/>
                    </a:lnTo>
                    <a:lnTo>
                      <a:pt x="344" y="44"/>
                    </a:lnTo>
                    <a:lnTo>
                      <a:pt x="340" y="44"/>
                    </a:lnTo>
                    <a:lnTo>
                      <a:pt x="336" y="42"/>
                    </a:lnTo>
                    <a:lnTo>
                      <a:pt x="328" y="32"/>
                    </a:lnTo>
                    <a:lnTo>
                      <a:pt x="322" y="42"/>
                    </a:lnTo>
                    <a:lnTo>
                      <a:pt x="316" y="48"/>
                    </a:lnTo>
                    <a:lnTo>
                      <a:pt x="306" y="48"/>
                    </a:lnTo>
                    <a:lnTo>
                      <a:pt x="294" y="52"/>
                    </a:lnTo>
                    <a:lnTo>
                      <a:pt x="282" y="60"/>
                    </a:lnTo>
                    <a:lnTo>
                      <a:pt x="278" y="60"/>
                    </a:lnTo>
                    <a:lnTo>
                      <a:pt x="274" y="64"/>
                    </a:lnTo>
                    <a:lnTo>
                      <a:pt x="270" y="70"/>
                    </a:lnTo>
                    <a:lnTo>
                      <a:pt x="270" y="72"/>
                    </a:lnTo>
                    <a:lnTo>
                      <a:pt x="270" y="74"/>
                    </a:lnTo>
                    <a:lnTo>
                      <a:pt x="276" y="82"/>
                    </a:lnTo>
                    <a:lnTo>
                      <a:pt x="254" y="80"/>
                    </a:lnTo>
                    <a:lnTo>
                      <a:pt x="242" y="90"/>
                    </a:lnTo>
                    <a:lnTo>
                      <a:pt x="240" y="94"/>
                    </a:lnTo>
                    <a:lnTo>
                      <a:pt x="238" y="100"/>
                    </a:lnTo>
                    <a:lnTo>
                      <a:pt x="236" y="102"/>
                    </a:lnTo>
                    <a:lnTo>
                      <a:pt x="224" y="102"/>
                    </a:lnTo>
                    <a:lnTo>
                      <a:pt x="210" y="96"/>
                    </a:lnTo>
                    <a:lnTo>
                      <a:pt x="206" y="96"/>
                    </a:lnTo>
                    <a:lnTo>
                      <a:pt x="194" y="98"/>
                    </a:lnTo>
                    <a:lnTo>
                      <a:pt x="190" y="96"/>
                    </a:lnTo>
                    <a:lnTo>
                      <a:pt x="186" y="94"/>
                    </a:lnTo>
                    <a:lnTo>
                      <a:pt x="178" y="84"/>
                    </a:lnTo>
                    <a:lnTo>
                      <a:pt x="170" y="80"/>
                    </a:lnTo>
                    <a:lnTo>
                      <a:pt x="162" y="92"/>
                    </a:lnTo>
                    <a:lnTo>
                      <a:pt x="160" y="92"/>
                    </a:lnTo>
                    <a:lnTo>
                      <a:pt x="150" y="100"/>
                    </a:lnTo>
                    <a:lnTo>
                      <a:pt x="148" y="100"/>
                    </a:lnTo>
                    <a:lnTo>
                      <a:pt x="148" y="102"/>
                    </a:lnTo>
                    <a:lnTo>
                      <a:pt x="146" y="102"/>
                    </a:lnTo>
                    <a:lnTo>
                      <a:pt x="138" y="104"/>
                    </a:lnTo>
                    <a:lnTo>
                      <a:pt x="126" y="116"/>
                    </a:lnTo>
                    <a:lnTo>
                      <a:pt x="112" y="122"/>
                    </a:lnTo>
                    <a:lnTo>
                      <a:pt x="102" y="134"/>
                    </a:lnTo>
                    <a:lnTo>
                      <a:pt x="70" y="134"/>
                    </a:lnTo>
                    <a:lnTo>
                      <a:pt x="46" y="124"/>
                    </a:lnTo>
                    <a:lnTo>
                      <a:pt x="32" y="124"/>
                    </a:lnTo>
                    <a:lnTo>
                      <a:pt x="20" y="130"/>
                    </a:lnTo>
                    <a:lnTo>
                      <a:pt x="18" y="130"/>
                    </a:lnTo>
                    <a:lnTo>
                      <a:pt x="10" y="132"/>
                    </a:lnTo>
                    <a:lnTo>
                      <a:pt x="2" y="138"/>
                    </a:lnTo>
                    <a:lnTo>
                      <a:pt x="0" y="142"/>
                    </a:lnTo>
                    <a:lnTo>
                      <a:pt x="0" y="152"/>
                    </a:lnTo>
                    <a:lnTo>
                      <a:pt x="4" y="158"/>
                    </a:lnTo>
                    <a:lnTo>
                      <a:pt x="22" y="152"/>
                    </a:lnTo>
                    <a:lnTo>
                      <a:pt x="30" y="154"/>
                    </a:lnTo>
                    <a:lnTo>
                      <a:pt x="40" y="158"/>
                    </a:lnTo>
                    <a:lnTo>
                      <a:pt x="42" y="158"/>
                    </a:lnTo>
                    <a:lnTo>
                      <a:pt x="42" y="160"/>
                    </a:lnTo>
                    <a:lnTo>
                      <a:pt x="42" y="186"/>
                    </a:lnTo>
                    <a:lnTo>
                      <a:pt x="46" y="188"/>
                    </a:lnTo>
                    <a:lnTo>
                      <a:pt x="64" y="188"/>
                    </a:lnTo>
                    <a:lnTo>
                      <a:pt x="74" y="184"/>
                    </a:lnTo>
                    <a:lnTo>
                      <a:pt x="76" y="184"/>
                    </a:lnTo>
                    <a:lnTo>
                      <a:pt x="86" y="180"/>
                    </a:lnTo>
                    <a:lnTo>
                      <a:pt x="94" y="176"/>
                    </a:lnTo>
                    <a:lnTo>
                      <a:pt x="98" y="176"/>
                    </a:lnTo>
                    <a:lnTo>
                      <a:pt x="100" y="178"/>
                    </a:lnTo>
                    <a:lnTo>
                      <a:pt x="104" y="188"/>
                    </a:lnTo>
                    <a:lnTo>
                      <a:pt x="106" y="216"/>
                    </a:lnTo>
                    <a:lnTo>
                      <a:pt x="106" y="218"/>
                    </a:lnTo>
                    <a:lnTo>
                      <a:pt x="92" y="232"/>
                    </a:lnTo>
                    <a:lnTo>
                      <a:pt x="92" y="234"/>
                    </a:lnTo>
                    <a:lnTo>
                      <a:pt x="74" y="242"/>
                    </a:lnTo>
                    <a:lnTo>
                      <a:pt x="70" y="248"/>
                    </a:lnTo>
                    <a:lnTo>
                      <a:pt x="72" y="252"/>
                    </a:lnTo>
                    <a:lnTo>
                      <a:pt x="106" y="256"/>
                    </a:lnTo>
                    <a:lnTo>
                      <a:pt x="108" y="258"/>
                    </a:lnTo>
                    <a:lnTo>
                      <a:pt x="122" y="266"/>
                    </a:lnTo>
                    <a:lnTo>
                      <a:pt x="152" y="264"/>
                    </a:lnTo>
                    <a:lnTo>
                      <a:pt x="152" y="268"/>
                    </a:lnTo>
                    <a:lnTo>
                      <a:pt x="154" y="284"/>
                    </a:lnTo>
                    <a:lnTo>
                      <a:pt x="154" y="286"/>
                    </a:lnTo>
                    <a:lnTo>
                      <a:pt x="140" y="300"/>
                    </a:lnTo>
                    <a:lnTo>
                      <a:pt x="140" y="312"/>
                    </a:lnTo>
                    <a:lnTo>
                      <a:pt x="142" y="320"/>
                    </a:lnTo>
                    <a:lnTo>
                      <a:pt x="144" y="326"/>
                    </a:lnTo>
                    <a:lnTo>
                      <a:pt x="150" y="330"/>
                    </a:lnTo>
                    <a:lnTo>
                      <a:pt x="174" y="344"/>
                    </a:lnTo>
                    <a:lnTo>
                      <a:pt x="194" y="356"/>
                    </a:lnTo>
                    <a:lnTo>
                      <a:pt x="212" y="348"/>
                    </a:lnTo>
                    <a:lnTo>
                      <a:pt x="214" y="348"/>
                    </a:lnTo>
                    <a:lnTo>
                      <a:pt x="216" y="348"/>
                    </a:lnTo>
                    <a:lnTo>
                      <a:pt x="242" y="368"/>
                    </a:lnTo>
                    <a:lnTo>
                      <a:pt x="246" y="368"/>
                    </a:lnTo>
                    <a:lnTo>
                      <a:pt x="252" y="360"/>
                    </a:lnTo>
                    <a:lnTo>
                      <a:pt x="254" y="360"/>
                    </a:lnTo>
                    <a:lnTo>
                      <a:pt x="254" y="358"/>
                    </a:lnTo>
                    <a:lnTo>
                      <a:pt x="256" y="358"/>
                    </a:lnTo>
                    <a:lnTo>
                      <a:pt x="270" y="360"/>
                    </a:lnTo>
                    <a:lnTo>
                      <a:pt x="274" y="334"/>
                    </a:lnTo>
                    <a:lnTo>
                      <a:pt x="294" y="368"/>
                    </a:lnTo>
                    <a:lnTo>
                      <a:pt x="310" y="370"/>
                    </a:lnTo>
                    <a:lnTo>
                      <a:pt x="312" y="370"/>
                    </a:lnTo>
                    <a:lnTo>
                      <a:pt x="314" y="370"/>
                    </a:lnTo>
                    <a:lnTo>
                      <a:pt x="314" y="372"/>
                    </a:lnTo>
                    <a:lnTo>
                      <a:pt x="314" y="382"/>
                    </a:lnTo>
                    <a:lnTo>
                      <a:pt x="320" y="380"/>
                    </a:lnTo>
                    <a:lnTo>
                      <a:pt x="346" y="346"/>
                    </a:lnTo>
                    <a:lnTo>
                      <a:pt x="358" y="362"/>
                    </a:lnTo>
                    <a:lnTo>
                      <a:pt x="358" y="356"/>
                    </a:lnTo>
                    <a:lnTo>
                      <a:pt x="366" y="340"/>
                    </a:lnTo>
                    <a:lnTo>
                      <a:pt x="372" y="328"/>
                    </a:lnTo>
                    <a:lnTo>
                      <a:pt x="392" y="328"/>
                    </a:lnTo>
                    <a:lnTo>
                      <a:pt x="396" y="304"/>
                    </a:lnTo>
                    <a:lnTo>
                      <a:pt x="398" y="304"/>
                    </a:lnTo>
                    <a:lnTo>
                      <a:pt x="400" y="306"/>
                    </a:lnTo>
                    <a:lnTo>
                      <a:pt x="414" y="308"/>
                    </a:lnTo>
                    <a:lnTo>
                      <a:pt x="416" y="300"/>
                    </a:lnTo>
                    <a:lnTo>
                      <a:pt x="410" y="288"/>
                    </a:lnTo>
                    <a:lnTo>
                      <a:pt x="410" y="286"/>
                    </a:lnTo>
                    <a:lnTo>
                      <a:pt x="414" y="276"/>
                    </a:lnTo>
                    <a:lnTo>
                      <a:pt x="414" y="274"/>
                    </a:lnTo>
                    <a:lnTo>
                      <a:pt x="416" y="274"/>
                    </a:lnTo>
                    <a:lnTo>
                      <a:pt x="458" y="252"/>
                    </a:lnTo>
                    <a:lnTo>
                      <a:pt x="456" y="230"/>
                    </a:lnTo>
                    <a:lnTo>
                      <a:pt x="456" y="228"/>
                    </a:lnTo>
                    <a:lnTo>
                      <a:pt x="464" y="212"/>
                    </a:lnTo>
                    <a:lnTo>
                      <a:pt x="466" y="210"/>
                    </a:lnTo>
                    <a:lnTo>
                      <a:pt x="478" y="180"/>
                    </a:lnTo>
                    <a:lnTo>
                      <a:pt x="490" y="168"/>
                    </a:lnTo>
                    <a:lnTo>
                      <a:pt x="496" y="156"/>
                    </a:lnTo>
                    <a:lnTo>
                      <a:pt x="502" y="146"/>
                    </a:lnTo>
                    <a:lnTo>
                      <a:pt x="496" y="134"/>
                    </a:lnTo>
                    <a:lnTo>
                      <a:pt x="496" y="132"/>
                    </a:lnTo>
                    <a:lnTo>
                      <a:pt x="496" y="120"/>
                    </a:lnTo>
                    <a:lnTo>
                      <a:pt x="490" y="120"/>
                    </a:lnTo>
                    <a:lnTo>
                      <a:pt x="478" y="126"/>
                    </a:lnTo>
                    <a:lnTo>
                      <a:pt x="472" y="128"/>
                    </a:lnTo>
                    <a:lnTo>
                      <a:pt x="468" y="128"/>
                    </a:lnTo>
                    <a:lnTo>
                      <a:pt x="460" y="126"/>
                    </a:lnTo>
                    <a:lnTo>
                      <a:pt x="454" y="122"/>
                    </a:lnTo>
                    <a:lnTo>
                      <a:pt x="452" y="118"/>
                    </a:lnTo>
                    <a:lnTo>
                      <a:pt x="450" y="114"/>
                    </a:lnTo>
                    <a:lnTo>
                      <a:pt x="452" y="98"/>
                    </a:lnTo>
                    <a:lnTo>
                      <a:pt x="446" y="98"/>
                    </a:lnTo>
                    <a:lnTo>
                      <a:pt x="442" y="102"/>
                    </a:lnTo>
                    <a:lnTo>
                      <a:pt x="432" y="112"/>
                    </a:lnTo>
                    <a:lnTo>
                      <a:pt x="428" y="114"/>
                    </a:lnTo>
                    <a:lnTo>
                      <a:pt x="424" y="114"/>
                    </a:lnTo>
                    <a:lnTo>
                      <a:pt x="422" y="108"/>
                    </a:lnTo>
                    <a:lnTo>
                      <a:pt x="422" y="100"/>
                    </a:lnTo>
                    <a:lnTo>
                      <a:pt x="422" y="92"/>
                    </a:lnTo>
                    <a:lnTo>
                      <a:pt x="424" y="88"/>
                    </a:lnTo>
                    <a:lnTo>
                      <a:pt x="426" y="86"/>
                    </a:lnTo>
                    <a:lnTo>
                      <a:pt x="428" y="86"/>
                    </a:lnTo>
                    <a:lnTo>
                      <a:pt x="444" y="58"/>
                    </a:lnTo>
                    <a:lnTo>
                      <a:pt x="448" y="48"/>
                    </a:lnTo>
                    <a:lnTo>
                      <a:pt x="450" y="36"/>
                    </a:lnTo>
                    <a:lnTo>
                      <a:pt x="442" y="28"/>
                    </a:lnTo>
                    <a:lnTo>
                      <a:pt x="440" y="22"/>
                    </a:lnTo>
                    <a:lnTo>
                      <a:pt x="440" y="12"/>
                    </a:lnTo>
                    <a:lnTo>
                      <a:pt x="440" y="8"/>
                    </a:lnTo>
                    <a:lnTo>
                      <a:pt x="438" y="4"/>
                    </a:lnTo>
                    <a:lnTo>
                      <a:pt x="434" y="0"/>
                    </a:lnTo>
                    <a:lnTo>
                      <a:pt x="432" y="2"/>
                    </a:lnTo>
                    <a:lnTo>
                      <a:pt x="430" y="6"/>
                    </a:lnTo>
                    <a:lnTo>
                      <a:pt x="426" y="8"/>
                    </a:lnTo>
                    <a:lnTo>
                      <a:pt x="422" y="10"/>
                    </a:lnTo>
                    <a:lnTo>
                      <a:pt x="416" y="8"/>
                    </a:lnTo>
                    <a:lnTo>
                      <a:pt x="410" y="8"/>
                    </a:lnTo>
                    <a:lnTo>
                      <a:pt x="402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20"/>
              <p:cNvSpPr/>
              <p:nvPr/>
            </p:nvSpPr>
            <p:spPr>
              <a:xfrm>
                <a:off x="5228280" y="3714120"/>
                <a:ext cx="98640" cy="120960"/>
              </a:xfrm>
              <a:custGeom>
                <a:avLst/>
                <a:gdLst/>
                <a:ahLst/>
                <a:rect l="l" t="t" r="r" b="b"/>
                <a:pathLst>
                  <a:path w="284" h="288">
                    <a:moveTo>
                      <a:pt x="284" y="58"/>
                    </a:moveTo>
                    <a:lnTo>
                      <a:pt x="278" y="44"/>
                    </a:lnTo>
                    <a:lnTo>
                      <a:pt x="268" y="32"/>
                    </a:lnTo>
                    <a:lnTo>
                      <a:pt x="260" y="30"/>
                    </a:lnTo>
                    <a:lnTo>
                      <a:pt x="258" y="30"/>
                    </a:lnTo>
                    <a:lnTo>
                      <a:pt x="258" y="28"/>
                    </a:lnTo>
                    <a:lnTo>
                      <a:pt x="250" y="24"/>
                    </a:lnTo>
                    <a:lnTo>
                      <a:pt x="248" y="24"/>
                    </a:lnTo>
                    <a:lnTo>
                      <a:pt x="244" y="26"/>
                    </a:lnTo>
                    <a:lnTo>
                      <a:pt x="234" y="28"/>
                    </a:lnTo>
                    <a:lnTo>
                      <a:pt x="232" y="26"/>
                    </a:lnTo>
                    <a:lnTo>
                      <a:pt x="222" y="22"/>
                    </a:lnTo>
                    <a:lnTo>
                      <a:pt x="220" y="22"/>
                    </a:lnTo>
                    <a:lnTo>
                      <a:pt x="220" y="20"/>
                    </a:lnTo>
                    <a:lnTo>
                      <a:pt x="212" y="12"/>
                    </a:lnTo>
                    <a:lnTo>
                      <a:pt x="204" y="4"/>
                    </a:lnTo>
                    <a:lnTo>
                      <a:pt x="196" y="0"/>
                    </a:lnTo>
                    <a:lnTo>
                      <a:pt x="188" y="8"/>
                    </a:lnTo>
                    <a:lnTo>
                      <a:pt x="176" y="16"/>
                    </a:lnTo>
                    <a:lnTo>
                      <a:pt x="172" y="40"/>
                    </a:lnTo>
                    <a:lnTo>
                      <a:pt x="162" y="58"/>
                    </a:lnTo>
                    <a:lnTo>
                      <a:pt x="162" y="60"/>
                    </a:lnTo>
                    <a:lnTo>
                      <a:pt x="154" y="68"/>
                    </a:lnTo>
                    <a:lnTo>
                      <a:pt x="144" y="86"/>
                    </a:lnTo>
                    <a:lnTo>
                      <a:pt x="144" y="88"/>
                    </a:lnTo>
                    <a:lnTo>
                      <a:pt x="124" y="104"/>
                    </a:lnTo>
                    <a:lnTo>
                      <a:pt x="116" y="118"/>
                    </a:lnTo>
                    <a:lnTo>
                      <a:pt x="114" y="120"/>
                    </a:lnTo>
                    <a:lnTo>
                      <a:pt x="110" y="124"/>
                    </a:lnTo>
                    <a:lnTo>
                      <a:pt x="96" y="132"/>
                    </a:lnTo>
                    <a:lnTo>
                      <a:pt x="88" y="144"/>
                    </a:lnTo>
                    <a:lnTo>
                      <a:pt x="74" y="164"/>
                    </a:lnTo>
                    <a:lnTo>
                      <a:pt x="72" y="164"/>
                    </a:lnTo>
                    <a:lnTo>
                      <a:pt x="8" y="160"/>
                    </a:lnTo>
                    <a:lnTo>
                      <a:pt x="0" y="168"/>
                    </a:lnTo>
                    <a:lnTo>
                      <a:pt x="0" y="180"/>
                    </a:lnTo>
                    <a:lnTo>
                      <a:pt x="6" y="208"/>
                    </a:lnTo>
                    <a:lnTo>
                      <a:pt x="20" y="226"/>
                    </a:lnTo>
                    <a:lnTo>
                      <a:pt x="32" y="232"/>
                    </a:lnTo>
                    <a:lnTo>
                      <a:pt x="32" y="234"/>
                    </a:lnTo>
                    <a:lnTo>
                      <a:pt x="40" y="244"/>
                    </a:lnTo>
                    <a:lnTo>
                      <a:pt x="42" y="252"/>
                    </a:lnTo>
                    <a:lnTo>
                      <a:pt x="42" y="262"/>
                    </a:lnTo>
                    <a:lnTo>
                      <a:pt x="38" y="266"/>
                    </a:lnTo>
                    <a:lnTo>
                      <a:pt x="40" y="268"/>
                    </a:lnTo>
                    <a:lnTo>
                      <a:pt x="44" y="268"/>
                    </a:lnTo>
                    <a:lnTo>
                      <a:pt x="48" y="258"/>
                    </a:lnTo>
                    <a:lnTo>
                      <a:pt x="50" y="258"/>
                    </a:lnTo>
                    <a:lnTo>
                      <a:pt x="62" y="262"/>
                    </a:lnTo>
                    <a:lnTo>
                      <a:pt x="64" y="266"/>
                    </a:lnTo>
                    <a:lnTo>
                      <a:pt x="70" y="266"/>
                    </a:lnTo>
                    <a:lnTo>
                      <a:pt x="68" y="260"/>
                    </a:lnTo>
                    <a:lnTo>
                      <a:pt x="76" y="246"/>
                    </a:lnTo>
                    <a:lnTo>
                      <a:pt x="78" y="244"/>
                    </a:lnTo>
                    <a:lnTo>
                      <a:pt x="80" y="242"/>
                    </a:lnTo>
                    <a:lnTo>
                      <a:pt x="88" y="242"/>
                    </a:lnTo>
                    <a:lnTo>
                      <a:pt x="102" y="242"/>
                    </a:lnTo>
                    <a:lnTo>
                      <a:pt x="110" y="232"/>
                    </a:lnTo>
                    <a:lnTo>
                      <a:pt x="110" y="222"/>
                    </a:lnTo>
                    <a:lnTo>
                      <a:pt x="112" y="212"/>
                    </a:lnTo>
                    <a:lnTo>
                      <a:pt x="114" y="210"/>
                    </a:lnTo>
                    <a:lnTo>
                      <a:pt x="120" y="206"/>
                    </a:lnTo>
                    <a:lnTo>
                      <a:pt x="122" y="206"/>
                    </a:lnTo>
                    <a:lnTo>
                      <a:pt x="134" y="208"/>
                    </a:lnTo>
                    <a:lnTo>
                      <a:pt x="134" y="210"/>
                    </a:lnTo>
                    <a:lnTo>
                      <a:pt x="136" y="220"/>
                    </a:lnTo>
                    <a:lnTo>
                      <a:pt x="136" y="224"/>
                    </a:lnTo>
                    <a:lnTo>
                      <a:pt x="138" y="232"/>
                    </a:lnTo>
                    <a:lnTo>
                      <a:pt x="140" y="232"/>
                    </a:lnTo>
                    <a:lnTo>
                      <a:pt x="144" y="226"/>
                    </a:lnTo>
                    <a:lnTo>
                      <a:pt x="152" y="216"/>
                    </a:lnTo>
                    <a:lnTo>
                      <a:pt x="160" y="212"/>
                    </a:lnTo>
                    <a:lnTo>
                      <a:pt x="162" y="212"/>
                    </a:lnTo>
                    <a:lnTo>
                      <a:pt x="162" y="210"/>
                    </a:lnTo>
                    <a:lnTo>
                      <a:pt x="172" y="214"/>
                    </a:lnTo>
                    <a:lnTo>
                      <a:pt x="174" y="214"/>
                    </a:lnTo>
                    <a:lnTo>
                      <a:pt x="176" y="214"/>
                    </a:lnTo>
                    <a:lnTo>
                      <a:pt x="180" y="226"/>
                    </a:lnTo>
                    <a:lnTo>
                      <a:pt x="180" y="236"/>
                    </a:lnTo>
                    <a:lnTo>
                      <a:pt x="188" y="252"/>
                    </a:lnTo>
                    <a:lnTo>
                      <a:pt x="188" y="254"/>
                    </a:lnTo>
                    <a:lnTo>
                      <a:pt x="188" y="264"/>
                    </a:lnTo>
                    <a:lnTo>
                      <a:pt x="192" y="270"/>
                    </a:lnTo>
                    <a:lnTo>
                      <a:pt x="194" y="270"/>
                    </a:lnTo>
                    <a:lnTo>
                      <a:pt x="196" y="266"/>
                    </a:lnTo>
                    <a:lnTo>
                      <a:pt x="198" y="264"/>
                    </a:lnTo>
                    <a:lnTo>
                      <a:pt x="208" y="270"/>
                    </a:lnTo>
                    <a:lnTo>
                      <a:pt x="208" y="272"/>
                    </a:lnTo>
                    <a:lnTo>
                      <a:pt x="212" y="286"/>
                    </a:lnTo>
                    <a:lnTo>
                      <a:pt x="216" y="288"/>
                    </a:lnTo>
                    <a:lnTo>
                      <a:pt x="216" y="286"/>
                    </a:lnTo>
                    <a:lnTo>
                      <a:pt x="220" y="276"/>
                    </a:lnTo>
                    <a:lnTo>
                      <a:pt x="222" y="274"/>
                    </a:lnTo>
                    <a:lnTo>
                      <a:pt x="224" y="274"/>
                    </a:lnTo>
                    <a:lnTo>
                      <a:pt x="228" y="270"/>
                    </a:lnTo>
                    <a:lnTo>
                      <a:pt x="230" y="270"/>
                    </a:lnTo>
                    <a:lnTo>
                      <a:pt x="236" y="270"/>
                    </a:lnTo>
                    <a:lnTo>
                      <a:pt x="236" y="266"/>
                    </a:lnTo>
                    <a:lnTo>
                      <a:pt x="236" y="264"/>
                    </a:lnTo>
                    <a:lnTo>
                      <a:pt x="232" y="226"/>
                    </a:lnTo>
                    <a:lnTo>
                      <a:pt x="216" y="202"/>
                    </a:lnTo>
                    <a:lnTo>
                      <a:pt x="188" y="168"/>
                    </a:lnTo>
                    <a:lnTo>
                      <a:pt x="186" y="168"/>
                    </a:lnTo>
                    <a:lnTo>
                      <a:pt x="184" y="146"/>
                    </a:lnTo>
                    <a:lnTo>
                      <a:pt x="176" y="128"/>
                    </a:lnTo>
                    <a:lnTo>
                      <a:pt x="174" y="128"/>
                    </a:lnTo>
                    <a:lnTo>
                      <a:pt x="176" y="126"/>
                    </a:lnTo>
                    <a:lnTo>
                      <a:pt x="180" y="104"/>
                    </a:lnTo>
                    <a:lnTo>
                      <a:pt x="182" y="104"/>
                    </a:lnTo>
                    <a:lnTo>
                      <a:pt x="184" y="104"/>
                    </a:lnTo>
                    <a:lnTo>
                      <a:pt x="234" y="102"/>
                    </a:lnTo>
                    <a:lnTo>
                      <a:pt x="260" y="88"/>
                    </a:lnTo>
                    <a:lnTo>
                      <a:pt x="262" y="86"/>
                    </a:lnTo>
                    <a:lnTo>
                      <a:pt x="274" y="82"/>
                    </a:lnTo>
                    <a:lnTo>
                      <a:pt x="278" y="78"/>
                    </a:lnTo>
                    <a:lnTo>
                      <a:pt x="280" y="76"/>
                    </a:lnTo>
                    <a:lnTo>
                      <a:pt x="282" y="68"/>
                    </a:lnTo>
                    <a:lnTo>
                      <a:pt x="284" y="5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21"/>
              <p:cNvSpPr/>
              <p:nvPr/>
            </p:nvSpPr>
            <p:spPr>
              <a:xfrm>
                <a:off x="5228280" y="3478320"/>
                <a:ext cx="112680" cy="243360"/>
              </a:xfrm>
              <a:custGeom>
                <a:avLst/>
                <a:gdLst/>
                <a:ahLst/>
                <a:rect l="l" t="t" r="r" b="b"/>
                <a:pathLst>
                  <a:path w="324" h="578">
                    <a:moveTo>
                      <a:pt x="108" y="132"/>
                    </a:moveTo>
                    <a:lnTo>
                      <a:pt x="104" y="130"/>
                    </a:lnTo>
                    <a:lnTo>
                      <a:pt x="96" y="180"/>
                    </a:lnTo>
                    <a:lnTo>
                      <a:pt x="108" y="196"/>
                    </a:lnTo>
                    <a:lnTo>
                      <a:pt x="122" y="200"/>
                    </a:lnTo>
                    <a:lnTo>
                      <a:pt x="124" y="202"/>
                    </a:lnTo>
                    <a:lnTo>
                      <a:pt x="140" y="216"/>
                    </a:lnTo>
                    <a:lnTo>
                      <a:pt x="164" y="220"/>
                    </a:lnTo>
                    <a:lnTo>
                      <a:pt x="176" y="228"/>
                    </a:lnTo>
                    <a:lnTo>
                      <a:pt x="176" y="230"/>
                    </a:lnTo>
                    <a:lnTo>
                      <a:pt x="186" y="244"/>
                    </a:lnTo>
                    <a:lnTo>
                      <a:pt x="188" y="244"/>
                    </a:lnTo>
                    <a:lnTo>
                      <a:pt x="186" y="246"/>
                    </a:lnTo>
                    <a:lnTo>
                      <a:pt x="178" y="260"/>
                    </a:lnTo>
                    <a:lnTo>
                      <a:pt x="178" y="264"/>
                    </a:lnTo>
                    <a:lnTo>
                      <a:pt x="176" y="272"/>
                    </a:lnTo>
                    <a:lnTo>
                      <a:pt x="178" y="272"/>
                    </a:lnTo>
                    <a:lnTo>
                      <a:pt x="178" y="286"/>
                    </a:lnTo>
                    <a:lnTo>
                      <a:pt x="176" y="288"/>
                    </a:lnTo>
                    <a:lnTo>
                      <a:pt x="170" y="312"/>
                    </a:lnTo>
                    <a:lnTo>
                      <a:pt x="168" y="316"/>
                    </a:lnTo>
                    <a:lnTo>
                      <a:pt x="164" y="314"/>
                    </a:lnTo>
                    <a:lnTo>
                      <a:pt x="154" y="312"/>
                    </a:lnTo>
                    <a:lnTo>
                      <a:pt x="140" y="312"/>
                    </a:lnTo>
                    <a:lnTo>
                      <a:pt x="128" y="316"/>
                    </a:lnTo>
                    <a:lnTo>
                      <a:pt x="116" y="328"/>
                    </a:lnTo>
                    <a:lnTo>
                      <a:pt x="112" y="332"/>
                    </a:lnTo>
                    <a:lnTo>
                      <a:pt x="130" y="340"/>
                    </a:lnTo>
                    <a:lnTo>
                      <a:pt x="128" y="344"/>
                    </a:lnTo>
                    <a:lnTo>
                      <a:pt x="124" y="350"/>
                    </a:lnTo>
                    <a:lnTo>
                      <a:pt x="116" y="354"/>
                    </a:lnTo>
                    <a:lnTo>
                      <a:pt x="106" y="354"/>
                    </a:lnTo>
                    <a:lnTo>
                      <a:pt x="88" y="348"/>
                    </a:lnTo>
                    <a:lnTo>
                      <a:pt x="70" y="338"/>
                    </a:lnTo>
                    <a:lnTo>
                      <a:pt x="64" y="338"/>
                    </a:lnTo>
                    <a:lnTo>
                      <a:pt x="44" y="366"/>
                    </a:lnTo>
                    <a:lnTo>
                      <a:pt x="40" y="376"/>
                    </a:lnTo>
                    <a:lnTo>
                      <a:pt x="40" y="392"/>
                    </a:lnTo>
                    <a:lnTo>
                      <a:pt x="48" y="406"/>
                    </a:lnTo>
                    <a:lnTo>
                      <a:pt x="48" y="408"/>
                    </a:lnTo>
                    <a:lnTo>
                      <a:pt x="52" y="420"/>
                    </a:lnTo>
                    <a:lnTo>
                      <a:pt x="52" y="422"/>
                    </a:lnTo>
                    <a:lnTo>
                      <a:pt x="52" y="440"/>
                    </a:lnTo>
                    <a:lnTo>
                      <a:pt x="52" y="442"/>
                    </a:lnTo>
                    <a:lnTo>
                      <a:pt x="54" y="444"/>
                    </a:lnTo>
                    <a:lnTo>
                      <a:pt x="40" y="446"/>
                    </a:lnTo>
                    <a:lnTo>
                      <a:pt x="16" y="446"/>
                    </a:lnTo>
                    <a:lnTo>
                      <a:pt x="6" y="454"/>
                    </a:lnTo>
                    <a:lnTo>
                      <a:pt x="0" y="462"/>
                    </a:lnTo>
                    <a:lnTo>
                      <a:pt x="2" y="462"/>
                    </a:lnTo>
                    <a:lnTo>
                      <a:pt x="6" y="486"/>
                    </a:lnTo>
                    <a:lnTo>
                      <a:pt x="8" y="486"/>
                    </a:lnTo>
                    <a:lnTo>
                      <a:pt x="8" y="496"/>
                    </a:lnTo>
                    <a:lnTo>
                      <a:pt x="12" y="508"/>
                    </a:lnTo>
                    <a:lnTo>
                      <a:pt x="30" y="518"/>
                    </a:lnTo>
                    <a:lnTo>
                      <a:pt x="54" y="512"/>
                    </a:lnTo>
                    <a:lnTo>
                      <a:pt x="66" y="504"/>
                    </a:lnTo>
                    <a:lnTo>
                      <a:pt x="68" y="504"/>
                    </a:lnTo>
                    <a:lnTo>
                      <a:pt x="80" y="504"/>
                    </a:lnTo>
                    <a:lnTo>
                      <a:pt x="86" y="520"/>
                    </a:lnTo>
                    <a:lnTo>
                      <a:pt x="92" y="526"/>
                    </a:lnTo>
                    <a:lnTo>
                      <a:pt x="94" y="532"/>
                    </a:lnTo>
                    <a:lnTo>
                      <a:pt x="100" y="532"/>
                    </a:lnTo>
                    <a:lnTo>
                      <a:pt x="102" y="532"/>
                    </a:lnTo>
                    <a:lnTo>
                      <a:pt x="104" y="532"/>
                    </a:lnTo>
                    <a:lnTo>
                      <a:pt x="104" y="530"/>
                    </a:lnTo>
                    <a:lnTo>
                      <a:pt x="116" y="520"/>
                    </a:lnTo>
                    <a:lnTo>
                      <a:pt x="126" y="540"/>
                    </a:lnTo>
                    <a:lnTo>
                      <a:pt x="136" y="546"/>
                    </a:lnTo>
                    <a:lnTo>
                      <a:pt x="152" y="546"/>
                    </a:lnTo>
                    <a:lnTo>
                      <a:pt x="164" y="544"/>
                    </a:lnTo>
                    <a:lnTo>
                      <a:pt x="168" y="544"/>
                    </a:lnTo>
                    <a:lnTo>
                      <a:pt x="196" y="548"/>
                    </a:lnTo>
                    <a:lnTo>
                      <a:pt x="196" y="550"/>
                    </a:lnTo>
                    <a:lnTo>
                      <a:pt x="208" y="556"/>
                    </a:lnTo>
                    <a:lnTo>
                      <a:pt x="208" y="558"/>
                    </a:lnTo>
                    <a:lnTo>
                      <a:pt x="220" y="566"/>
                    </a:lnTo>
                    <a:lnTo>
                      <a:pt x="226" y="574"/>
                    </a:lnTo>
                    <a:lnTo>
                      <a:pt x="234" y="578"/>
                    </a:lnTo>
                    <a:lnTo>
                      <a:pt x="248" y="576"/>
                    </a:lnTo>
                    <a:lnTo>
                      <a:pt x="248" y="560"/>
                    </a:lnTo>
                    <a:lnTo>
                      <a:pt x="240" y="548"/>
                    </a:lnTo>
                    <a:lnTo>
                      <a:pt x="236" y="526"/>
                    </a:lnTo>
                    <a:lnTo>
                      <a:pt x="246" y="516"/>
                    </a:lnTo>
                    <a:lnTo>
                      <a:pt x="248" y="514"/>
                    </a:lnTo>
                    <a:lnTo>
                      <a:pt x="258" y="512"/>
                    </a:lnTo>
                    <a:lnTo>
                      <a:pt x="268" y="512"/>
                    </a:lnTo>
                    <a:lnTo>
                      <a:pt x="272" y="508"/>
                    </a:lnTo>
                    <a:lnTo>
                      <a:pt x="264" y="500"/>
                    </a:lnTo>
                    <a:lnTo>
                      <a:pt x="242" y="484"/>
                    </a:lnTo>
                    <a:lnTo>
                      <a:pt x="236" y="476"/>
                    </a:lnTo>
                    <a:lnTo>
                      <a:pt x="234" y="474"/>
                    </a:lnTo>
                    <a:lnTo>
                      <a:pt x="236" y="472"/>
                    </a:lnTo>
                    <a:lnTo>
                      <a:pt x="242" y="460"/>
                    </a:lnTo>
                    <a:lnTo>
                      <a:pt x="244" y="462"/>
                    </a:lnTo>
                    <a:lnTo>
                      <a:pt x="260" y="466"/>
                    </a:lnTo>
                    <a:lnTo>
                      <a:pt x="302" y="464"/>
                    </a:lnTo>
                    <a:lnTo>
                      <a:pt x="302" y="466"/>
                    </a:lnTo>
                    <a:lnTo>
                      <a:pt x="304" y="466"/>
                    </a:lnTo>
                    <a:lnTo>
                      <a:pt x="316" y="470"/>
                    </a:lnTo>
                    <a:lnTo>
                      <a:pt x="324" y="462"/>
                    </a:lnTo>
                    <a:lnTo>
                      <a:pt x="320" y="438"/>
                    </a:lnTo>
                    <a:lnTo>
                      <a:pt x="304" y="428"/>
                    </a:lnTo>
                    <a:lnTo>
                      <a:pt x="300" y="424"/>
                    </a:lnTo>
                    <a:lnTo>
                      <a:pt x="296" y="420"/>
                    </a:lnTo>
                    <a:lnTo>
                      <a:pt x="292" y="410"/>
                    </a:lnTo>
                    <a:lnTo>
                      <a:pt x="290" y="394"/>
                    </a:lnTo>
                    <a:lnTo>
                      <a:pt x="290" y="374"/>
                    </a:lnTo>
                    <a:lnTo>
                      <a:pt x="276" y="368"/>
                    </a:lnTo>
                    <a:lnTo>
                      <a:pt x="274" y="368"/>
                    </a:lnTo>
                    <a:lnTo>
                      <a:pt x="274" y="366"/>
                    </a:lnTo>
                    <a:lnTo>
                      <a:pt x="274" y="364"/>
                    </a:lnTo>
                    <a:lnTo>
                      <a:pt x="272" y="344"/>
                    </a:lnTo>
                    <a:lnTo>
                      <a:pt x="288" y="262"/>
                    </a:lnTo>
                    <a:lnTo>
                      <a:pt x="280" y="232"/>
                    </a:lnTo>
                    <a:lnTo>
                      <a:pt x="278" y="214"/>
                    </a:lnTo>
                    <a:lnTo>
                      <a:pt x="276" y="190"/>
                    </a:lnTo>
                    <a:lnTo>
                      <a:pt x="278" y="164"/>
                    </a:lnTo>
                    <a:lnTo>
                      <a:pt x="278" y="162"/>
                    </a:lnTo>
                    <a:lnTo>
                      <a:pt x="280" y="160"/>
                    </a:lnTo>
                    <a:lnTo>
                      <a:pt x="296" y="148"/>
                    </a:lnTo>
                    <a:lnTo>
                      <a:pt x="296" y="136"/>
                    </a:lnTo>
                    <a:lnTo>
                      <a:pt x="294" y="130"/>
                    </a:lnTo>
                    <a:lnTo>
                      <a:pt x="290" y="122"/>
                    </a:lnTo>
                    <a:lnTo>
                      <a:pt x="280" y="110"/>
                    </a:lnTo>
                    <a:lnTo>
                      <a:pt x="278" y="110"/>
                    </a:lnTo>
                    <a:lnTo>
                      <a:pt x="278" y="108"/>
                    </a:lnTo>
                    <a:lnTo>
                      <a:pt x="276" y="88"/>
                    </a:lnTo>
                    <a:lnTo>
                      <a:pt x="276" y="86"/>
                    </a:lnTo>
                    <a:lnTo>
                      <a:pt x="298" y="60"/>
                    </a:lnTo>
                    <a:lnTo>
                      <a:pt x="298" y="48"/>
                    </a:lnTo>
                    <a:lnTo>
                      <a:pt x="292" y="36"/>
                    </a:lnTo>
                    <a:lnTo>
                      <a:pt x="290" y="34"/>
                    </a:lnTo>
                    <a:lnTo>
                      <a:pt x="300" y="20"/>
                    </a:lnTo>
                    <a:lnTo>
                      <a:pt x="302" y="20"/>
                    </a:lnTo>
                    <a:lnTo>
                      <a:pt x="312" y="12"/>
                    </a:lnTo>
                    <a:lnTo>
                      <a:pt x="312" y="0"/>
                    </a:lnTo>
                    <a:lnTo>
                      <a:pt x="306" y="0"/>
                    </a:lnTo>
                    <a:lnTo>
                      <a:pt x="296" y="0"/>
                    </a:lnTo>
                    <a:lnTo>
                      <a:pt x="292" y="18"/>
                    </a:lnTo>
                    <a:lnTo>
                      <a:pt x="290" y="18"/>
                    </a:lnTo>
                    <a:lnTo>
                      <a:pt x="268" y="10"/>
                    </a:lnTo>
                    <a:lnTo>
                      <a:pt x="256" y="8"/>
                    </a:lnTo>
                    <a:lnTo>
                      <a:pt x="260" y="28"/>
                    </a:lnTo>
                    <a:lnTo>
                      <a:pt x="244" y="32"/>
                    </a:lnTo>
                    <a:lnTo>
                      <a:pt x="218" y="46"/>
                    </a:lnTo>
                    <a:lnTo>
                      <a:pt x="210" y="56"/>
                    </a:lnTo>
                    <a:lnTo>
                      <a:pt x="210" y="58"/>
                    </a:lnTo>
                    <a:lnTo>
                      <a:pt x="208" y="58"/>
                    </a:lnTo>
                    <a:lnTo>
                      <a:pt x="196" y="70"/>
                    </a:lnTo>
                    <a:lnTo>
                      <a:pt x="192" y="88"/>
                    </a:lnTo>
                    <a:lnTo>
                      <a:pt x="192" y="90"/>
                    </a:lnTo>
                    <a:lnTo>
                      <a:pt x="186" y="118"/>
                    </a:lnTo>
                    <a:lnTo>
                      <a:pt x="184" y="130"/>
                    </a:lnTo>
                    <a:lnTo>
                      <a:pt x="184" y="132"/>
                    </a:lnTo>
                    <a:lnTo>
                      <a:pt x="182" y="132"/>
                    </a:lnTo>
                    <a:lnTo>
                      <a:pt x="174" y="144"/>
                    </a:lnTo>
                    <a:lnTo>
                      <a:pt x="172" y="144"/>
                    </a:lnTo>
                    <a:lnTo>
                      <a:pt x="172" y="146"/>
                    </a:lnTo>
                    <a:lnTo>
                      <a:pt x="152" y="148"/>
                    </a:lnTo>
                    <a:lnTo>
                      <a:pt x="122" y="138"/>
                    </a:lnTo>
                    <a:lnTo>
                      <a:pt x="108" y="1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22"/>
              <p:cNvSpPr/>
              <p:nvPr/>
            </p:nvSpPr>
            <p:spPr>
              <a:xfrm>
                <a:off x="5325840" y="3432960"/>
                <a:ext cx="74880" cy="199440"/>
              </a:xfrm>
              <a:custGeom>
                <a:avLst/>
                <a:gdLst/>
                <a:ahLst/>
                <a:rect l="l" t="t" r="r" b="b"/>
                <a:pathLst>
                  <a:path w="216" h="474">
                    <a:moveTo>
                      <a:pt x="202" y="24"/>
                    </a:moveTo>
                    <a:lnTo>
                      <a:pt x="204" y="20"/>
                    </a:lnTo>
                    <a:lnTo>
                      <a:pt x="200" y="8"/>
                    </a:lnTo>
                    <a:lnTo>
                      <a:pt x="194" y="0"/>
                    </a:lnTo>
                    <a:lnTo>
                      <a:pt x="188" y="12"/>
                    </a:lnTo>
                    <a:lnTo>
                      <a:pt x="176" y="24"/>
                    </a:lnTo>
                    <a:lnTo>
                      <a:pt x="174" y="24"/>
                    </a:lnTo>
                    <a:lnTo>
                      <a:pt x="156" y="30"/>
                    </a:lnTo>
                    <a:lnTo>
                      <a:pt x="154" y="30"/>
                    </a:lnTo>
                    <a:lnTo>
                      <a:pt x="136" y="28"/>
                    </a:lnTo>
                    <a:lnTo>
                      <a:pt x="124" y="30"/>
                    </a:lnTo>
                    <a:lnTo>
                      <a:pt x="122" y="40"/>
                    </a:lnTo>
                    <a:lnTo>
                      <a:pt x="112" y="46"/>
                    </a:lnTo>
                    <a:lnTo>
                      <a:pt x="112" y="48"/>
                    </a:lnTo>
                    <a:lnTo>
                      <a:pt x="110" y="48"/>
                    </a:lnTo>
                    <a:lnTo>
                      <a:pt x="94" y="46"/>
                    </a:lnTo>
                    <a:lnTo>
                      <a:pt x="92" y="48"/>
                    </a:lnTo>
                    <a:lnTo>
                      <a:pt x="92" y="64"/>
                    </a:lnTo>
                    <a:lnTo>
                      <a:pt x="84" y="76"/>
                    </a:lnTo>
                    <a:lnTo>
                      <a:pt x="82" y="76"/>
                    </a:lnTo>
                    <a:lnTo>
                      <a:pt x="68" y="92"/>
                    </a:lnTo>
                    <a:lnTo>
                      <a:pt x="66" y="92"/>
                    </a:lnTo>
                    <a:lnTo>
                      <a:pt x="50" y="96"/>
                    </a:lnTo>
                    <a:lnTo>
                      <a:pt x="40" y="106"/>
                    </a:lnTo>
                    <a:lnTo>
                      <a:pt x="42" y="120"/>
                    </a:lnTo>
                    <a:lnTo>
                      <a:pt x="42" y="124"/>
                    </a:lnTo>
                    <a:lnTo>
                      <a:pt x="40" y="124"/>
                    </a:lnTo>
                    <a:lnTo>
                      <a:pt x="28" y="136"/>
                    </a:lnTo>
                    <a:lnTo>
                      <a:pt x="20" y="144"/>
                    </a:lnTo>
                    <a:lnTo>
                      <a:pt x="26" y="154"/>
                    </a:lnTo>
                    <a:lnTo>
                      <a:pt x="26" y="156"/>
                    </a:lnTo>
                    <a:lnTo>
                      <a:pt x="26" y="170"/>
                    </a:lnTo>
                    <a:lnTo>
                      <a:pt x="26" y="172"/>
                    </a:lnTo>
                    <a:lnTo>
                      <a:pt x="16" y="184"/>
                    </a:lnTo>
                    <a:lnTo>
                      <a:pt x="4" y="198"/>
                    </a:lnTo>
                    <a:lnTo>
                      <a:pt x="6" y="214"/>
                    </a:lnTo>
                    <a:lnTo>
                      <a:pt x="16" y="224"/>
                    </a:lnTo>
                    <a:lnTo>
                      <a:pt x="22" y="236"/>
                    </a:lnTo>
                    <a:lnTo>
                      <a:pt x="24" y="244"/>
                    </a:lnTo>
                    <a:lnTo>
                      <a:pt x="24" y="262"/>
                    </a:lnTo>
                    <a:lnTo>
                      <a:pt x="22" y="264"/>
                    </a:lnTo>
                    <a:lnTo>
                      <a:pt x="6" y="276"/>
                    </a:lnTo>
                    <a:lnTo>
                      <a:pt x="4" y="300"/>
                    </a:lnTo>
                    <a:lnTo>
                      <a:pt x="6" y="324"/>
                    </a:lnTo>
                    <a:lnTo>
                      <a:pt x="10" y="340"/>
                    </a:lnTo>
                    <a:lnTo>
                      <a:pt x="18" y="368"/>
                    </a:lnTo>
                    <a:lnTo>
                      <a:pt x="18" y="370"/>
                    </a:lnTo>
                    <a:lnTo>
                      <a:pt x="18" y="372"/>
                    </a:lnTo>
                    <a:lnTo>
                      <a:pt x="0" y="452"/>
                    </a:lnTo>
                    <a:lnTo>
                      <a:pt x="2" y="468"/>
                    </a:lnTo>
                    <a:lnTo>
                      <a:pt x="14" y="474"/>
                    </a:lnTo>
                    <a:lnTo>
                      <a:pt x="32" y="456"/>
                    </a:lnTo>
                    <a:lnTo>
                      <a:pt x="34" y="456"/>
                    </a:lnTo>
                    <a:lnTo>
                      <a:pt x="96" y="432"/>
                    </a:lnTo>
                    <a:lnTo>
                      <a:pt x="112" y="416"/>
                    </a:lnTo>
                    <a:lnTo>
                      <a:pt x="114" y="416"/>
                    </a:lnTo>
                    <a:lnTo>
                      <a:pt x="116" y="416"/>
                    </a:lnTo>
                    <a:lnTo>
                      <a:pt x="150" y="420"/>
                    </a:lnTo>
                    <a:lnTo>
                      <a:pt x="162" y="416"/>
                    </a:lnTo>
                    <a:lnTo>
                      <a:pt x="180" y="408"/>
                    </a:lnTo>
                    <a:lnTo>
                      <a:pt x="180" y="392"/>
                    </a:lnTo>
                    <a:lnTo>
                      <a:pt x="182" y="392"/>
                    </a:lnTo>
                    <a:lnTo>
                      <a:pt x="192" y="382"/>
                    </a:lnTo>
                    <a:lnTo>
                      <a:pt x="190" y="372"/>
                    </a:lnTo>
                    <a:lnTo>
                      <a:pt x="190" y="370"/>
                    </a:lnTo>
                    <a:lnTo>
                      <a:pt x="190" y="368"/>
                    </a:lnTo>
                    <a:lnTo>
                      <a:pt x="194" y="364"/>
                    </a:lnTo>
                    <a:lnTo>
                      <a:pt x="192" y="360"/>
                    </a:lnTo>
                    <a:lnTo>
                      <a:pt x="190" y="356"/>
                    </a:lnTo>
                    <a:lnTo>
                      <a:pt x="190" y="352"/>
                    </a:lnTo>
                    <a:lnTo>
                      <a:pt x="194" y="340"/>
                    </a:lnTo>
                    <a:lnTo>
                      <a:pt x="198" y="336"/>
                    </a:lnTo>
                    <a:lnTo>
                      <a:pt x="196" y="324"/>
                    </a:lnTo>
                    <a:lnTo>
                      <a:pt x="184" y="310"/>
                    </a:lnTo>
                    <a:lnTo>
                      <a:pt x="182" y="306"/>
                    </a:lnTo>
                    <a:lnTo>
                      <a:pt x="180" y="302"/>
                    </a:lnTo>
                    <a:lnTo>
                      <a:pt x="180" y="298"/>
                    </a:lnTo>
                    <a:lnTo>
                      <a:pt x="182" y="294"/>
                    </a:lnTo>
                    <a:lnTo>
                      <a:pt x="184" y="288"/>
                    </a:lnTo>
                    <a:lnTo>
                      <a:pt x="190" y="280"/>
                    </a:lnTo>
                    <a:lnTo>
                      <a:pt x="192" y="268"/>
                    </a:lnTo>
                    <a:lnTo>
                      <a:pt x="202" y="248"/>
                    </a:lnTo>
                    <a:lnTo>
                      <a:pt x="204" y="240"/>
                    </a:lnTo>
                    <a:lnTo>
                      <a:pt x="216" y="216"/>
                    </a:lnTo>
                    <a:lnTo>
                      <a:pt x="208" y="200"/>
                    </a:lnTo>
                    <a:lnTo>
                      <a:pt x="184" y="184"/>
                    </a:lnTo>
                    <a:lnTo>
                      <a:pt x="182" y="184"/>
                    </a:lnTo>
                    <a:lnTo>
                      <a:pt x="176" y="170"/>
                    </a:lnTo>
                    <a:lnTo>
                      <a:pt x="176" y="168"/>
                    </a:lnTo>
                    <a:lnTo>
                      <a:pt x="180" y="146"/>
                    </a:lnTo>
                    <a:lnTo>
                      <a:pt x="184" y="130"/>
                    </a:lnTo>
                    <a:lnTo>
                      <a:pt x="184" y="122"/>
                    </a:lnTo>
                    <a:lnTo>
                      <a:pt x="188" y="116"/>
                    </a:lnTo>
                    <a:lnTo>
                      <a:pt x="190" y="114"/>
                    </a:lnTo>
                    <a:lnTo>
                      <a:pt x="194" y="114"/>
                    </a:lnTo>
                    <a:lnTo>
                      <a:pt x="208" y="112"/>
                    </a:lnTo>
                    <a:lnTo>
                      <a:pt x="212" y="102"/>
                    </a:lnTo>
                    <a:lnTo>
                      <a:pt x="216" y="76"/>
                    </a:lnTo>
                    <a:lnTo>
                      <a:pt x="214" y="66"/>
                    </a:lnTo>
                    <a:lnTo>
                      <a:pt x="200" y="64"/>
                    </a:lnTo>
                    <a:lnTo>
                      <a:pt x="184" y="56"/>
                    </a:lnTo>
                    <a:lnTo>
                      <a:pt x="182" y="54"/>
                    </a:lnTo>
                    <a:lnTo>
                      <a:pt x="182" y="52"/>
                    </a:lnTo>
                    <a:lnTo>
                      <a:pt x="180" y="32"/>
                    </a:lnTo>
                    <a:lnTo>
                      <a:pt x="180" y="28"/>
                    </a:lnTo>
                    <a:lnTo>
                      <a:pt x="202" y="2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23"/>
              <p:cNvSpPr/>
              <p:nvPr/>
            </p:nvSpPr>
            <p:spPr>
              <a:xfrm>
                <a:off x="5306400" y="3773160"/>
                <a:ext cx="119520" cy="168120"/>
              </a:xfrm>
              <a:custGeom>
                <a:avLst/>
                <a:gdLst/>
                <a:ahLst/>
                <a:rect l="l" t="t" r="r" b="b"/>
                <a:pathLst>
                  <a:path w="344" h="400">
                    <a:moveTo>
                      <a:pt x="300" y="68"/>
                    </a:moveTo>
                    <a:lnTo>
                      <a:pt x="300" y="68"/>
                    </a:lnTo>
                    <a:lnTo>
                      <a:pt x="300" y="66"/>
                    </a:lnTo>
                    <a:lnTo>
                      <a:pt x="292" y="54"/>
                    </a:lnTo>
                    <a:lnTo>
                      <a:pt x="292" y="52"/>
                    </a:lnTo>
                    <a:lnTo>
                      <a:pt x="294" y="32"/>
                    </a:lnTo>
                    <a:lnTo>
                      <a:pt x="292" y="28"/>
                    </a:lnTo>
                    <a:lnTo>
                      <a:pt x="286" y="24"/>
                    </a:lnTo>
                    <a:lnTo>
                      <a:pt x="282" y="24"/>
                    </a:lnTo>
                    <a:lnTo>
                      <a:pt x="274" y="34"/>
                    </a:lnTo>
                    <a:lnTo>
                      <a:pt x="272" y="34"/>
                    </a:lnTo>
                    <a:lnTo>
                      <a:pt x="252" y="44"/>
                    </a:lnTo>
                    <a:lnTo>
                      <a:pt x="250" y="30"/>
                    </a:lnTo>
                    <a:lnTo>
                      <a:pt x="250" y="28"/>
                    </a:lnTo>
                    <a:lnTo>
                      <a:pt x="252" y="22"/>
                    </a:lnTo>
                    <a:lnTo>
                      <a:pt x="250" y="14"/>
                    </a:lnTo>
                    <a:lnTo>
                      <a:pt x="248" y="12"/>
                    </a:lnTo>
                    <a:lnTo>
                      <a:pt x="244" y="20"/>
                    </a:lnTo>
                    <a:lnTo>
                      <a:pt x="218" y="42"/>
                    </a:lnTo>
                    <a:lnTo>
                      <a:pt x="218" y="44"/>
                    </a:lnTo>
                    <a:lnTo>
                      <a:pt x="216" y="44"/>
                    </a:lnTo>
                    <a:lnTo>
                      <a:pt x="214" y="44"/>
                    </a:lnTo>
                    <a:lnTo>
                      <a:pt x="206" y="40"/>
                    </a:lnTo>
                    <a:lnTo>
                      <a:pt x="198" y="32"/>
                    </a:lnTo>
                    <a:lnTo>
                      <a:pt x="184" y="28"/>
                    </a:lnTo>
                    <a:lnTo>
                      <a:pt x="184" y="26"/>
                    </a:lnTo>
                    <a:lnTo>
                      <a:pt x="176" y="20"/>
                    </a:lnTo>
                    <a:lnTo>
                      <a:pt x="150" y="16"/>
                    </a:lnTo>
                    <a:lnTo>
                      <a:pt x="148" y="16"/>
                    </a:lnTo>
                    <a:lnTo>
                      <a:pt x="132" y="6"/>
                    </a:lnTo>
                    <a:lnTo>
                      <a:pt x="132" y="8"/>
                    </a:lnTo>
                    <a:lnTo>
                      <a:pt x="118" y="0"/>
                    </a:lnTo>
                    <a:lnTo>
                      <a:pt x="100" y="0"/>
                    </a:lnTo>
                    <a:lnTo>
                      <a:pt x="94" y="0"/>
                    </a:lnTo>
                    <a:lnTo>
                      <a:pt x="100" y="30"/>
                    </a:lnTo>
                    <a:lnTo>
                      <a:pt x="96" y="30"/>
                    </a:lnTo>
                    <a:lnTo>
                      <a:pt x="80" y="32"/>
                    </a:lnTo>
                    <a:lnTo>
                      <a:pt x="70" y="32"/>
                    </a:lnTo>
                    <a:lnTo>
                      <a:pt x="68" y="32"/>
                    </a:lnTo>
                    <a:lnTo>
                      <a:pt x="60" y="24"/>
                    </a:lnTo>
                    <a:lnTo>
                      <a:pt x="44" y="32"/>
                    </a:lnTo>
                    <a:lnTo>
                      <a:pt x="28" y="52"/>
                    </a:lnTo>
                    <a:lnTo>
                      <a:pt x="16" y="86"/>
                    </a:lnTo>
                    <a:lnTo>
                      <a:pt x="20" y="124"/>
                    </a:lnTo>
                    <a:lnTo>
                      <a:pt x="26" y="144"/>
                    </a:lnTo>
                    <a:lnTo>
                      <a:pt x="26" y="148"/>
                    </a:lnTo>
                    <a:lnTo>
                      <a:pt x="24" y="150"/>
                    </a:lnTo>
                    <a:lnTo>
                      <a:pt x="20" y="152"/>
                    </a:lnTo>
                    <a:lnTo>
                      <a:pt x="20" y="156"/>
                    </a:lnTo>
                    <a:lnTo>
                      <a:pt x="18" y="166"/>
                    </a:lnTo>
                    <a:lnTo>
                      <a:pt x="26" y="198"/>
                    </a:lnTo>
                    <a:lnTo>
                      <a:pt x="24" y="200"/>
                    </a:lnTo>
                    <a:lnTo>
                      <a:pt x="8" y="210"/>
                    </a:lnTo>
                    <a:lnTo>
                      <a:pt x="4" y="214"/>
                    </a:lnTo>
                    <a:lnTo>
                      <a:pt x="2" y="218"/>
                    </a:lnTo>
                    <a:lnTo>
                      <a:pt x="0" y="228"/>
                    </a:lnTo>
                    <a:lnTo>
                      <a:pt x="14" y="224"/>
                    </a:lnTo>
                    <a:lnTo>
                      <a:pt x="14" y="222"/>
                    </a:lnTo>
                    <a:lnTo>
                      <a:pt x="16" y="222"/>
                    </a:lnTo>
                    <a:lnTo>
                      <a:pt x="22" y="224"/>
                    </a:lnTo>
                    <a:lnTo>
                      <a:pt x="26" y="226"/>
                    </a:lnTo>
                    <a:lnTo>
                      <a:pt x="30" y="228"/>
                    </a:lnTo>
                    <a:lnTo>
                      <a:pt x="32" y="234"/>
                    </a:lnTo>
                    <a:lnTo>
                      <a:pt x="34" y="252"/>
                    </a:lnTo>
                    <a:lnTo>
                      <a:pt x="32" y="254"/>
                    </a:lnTo>
                    <a:lnTo>
                      <a:pt x="32" y="256"/>
                    </a:lnTo>
                    <a:lnTo>
                      <a:pt x="28" y="260"/>
                    </a:lnTo>
                    <a:lnTo>
                      <a:pt x="28" y="264"/>
                    </a:lnTo>
                    <a:lnTo>
                      <a:pt x="24" y="282"/>
                    </a:lnTo>
                    <a:lnTo>
                      <a:pt x="28" y="290"/>
                    </a:lnTo>
                    <a:lnTo>
                      <a:pt x="32" y="296"/>
                    </a:lnTo>
                    <a:lnTo>
                      <a:pt x="48" y="316"/>
                    </a:lnTo>
                    <a:lnTo>
                      <a:pt x="64" y="304"/>
                    </a:lnTo>
                    <a:lnTo>
                      <a:pt x="76" y="302"/>
                    </a:lnTo>
                    <a:lnTo>
                      <a:pt x="76" y="304"/>
                    </a:lnTo>
                    <a:lnTo>
                      <a:pt x="84" y="306"/>
                    </a:lnTo>
                    <a:lnTo>
                      <a:pt x="88" y="306"/>
                    </a:lnTo>
                    <a:lnTo>
                      <a:pt x="92" y="302"/>
                    </a:lnTo>
                    <a:lnTo>
                      <a:pt x="100" y="292"/>
                    </a:lnTo>
                    <a:lnTo>
                      <a:pt x="98" y="286"/>
                    </a:lnTo>
                    <a:lnTo>
                      <a:pt x="100" y="282"/>
                    </a:lnTo>
                    <a:lnTo>
                      <a:pt x="104" y="280"/>
                    </a:lnTo>
                    <a:lnTo>
                      <a:pt x="124" y="280"/>
                    </a:lnTo>
                    <a:lnTo>
                      <a:pt x="128" y="280"/>
                    </a:lnTo>
                    <a:lnTo>
                      <a:pt x="130" y="280"/>
                    </a:lnTo>
                    <a:lnTo>
                      <a:pt x="134" y="274"/>
                    </a:lnTo>
                    <a:lnTo>
                      <a:pt x="136" y="270"/>
                    </a:lnTo>
                    <a:lnTo>
                      <a:pt x="142" y="270"/>
                    </a:lnTo>
                    <a:lnTo>
                      <a:pt x="146" y="272"/>
                    </a:lnTo>
                    <a:lnTo>
                      <a:pt x="152" y="280"/>
                    </a:lnTo>
                    <a:lnTo>
                      <a:pt x="154" y="284"/>
                    </a:lnTo>
                    <a:lnTo>
                      <a:pt x="156" y="288"/>
                    </a:lnTo>
                    <a:lnTo>
                      <a:pt x="154" y="302"/>
                    </a:lnTo>
                    <a:lnTo>
                      <a:pt x="156" y="304"/>
                    </a:lnTo>
                    <a:lnTo>
                      <a:pt x="162" y="310"/>
                    </a:lnTo>
                    <a:lnTo>
                      <a:pt x="164" y="316"/>
                    </a:lnTo>
                    <a:lnTo>
                      <a:pt x="162" y="330"/>
                    </a:lnTo>
                    <a:lnTo>
                      <a:pt x="158" y="340"/>
                    </a:lnTo>
                    <a:lnTo>
                      <a:pt x="154" y="344"/>
                    </a:lnTo>
                    <a:lnTo>
                      <a:pt x="142" y="370"/>
                    </a:lnTo>
                    <a:lnTo>
                      <a:pt x="146" y="372"/>
                    </a:lnTo>
                    <a:lnTo>
                      <a:pt x="164" y="372"/>
                    </a:lnTo>
                    <a:lnTo>
                      <a:pt x="168" y="374"/>
                    </a:lnTo>
                    <a:lnTo>
                      <a:pt x="168" y="376"/>
                    </a:lnTo>
                    <a:lnTo>
                      <a:pt x="164" y="388"/>
                    </a:lnTo>
                    <a:lnTo>
                      <a:pt x="164" y="394"/>
                    </a:lnTo>
                    <a:lnTo>
                      <a:pt x="172" y="398"/>
                    </a:lnTo>
                    <a:lnTo>
                      <a:pt x="176" y="400"/>
                    </a:lnTo>
                    <a:lnTo>
                      <a:pt x="178" y="398"/>
                    </a:lnTo>
                    <a:lnTo>
                      <a:pt x="188" y="394"/>
                    </a:lnTo>
                    <a:lnTo>
                      <a:pt x="194" y="392"/>
                    </a:lnTo>
                    <a:lnTo>
                      <a:pt x="204" y="392"/>
                    </a:lnTo>
                    <a:lnTo>
                      <a:pt x="216" y="380"/>
                    </a:lnTo>
                    <a:lnTo>
                      <a:pt x="216" y="366"/>
                    </a:lnTo>
                    <a:lnTo>
                      <a:pt x="216" y="360"/>
                    </a:lnTo>
                    <a:lnTo>
                      <a:pt x="216" y="356"/>
                    </a:lnTo>
                    <a:lnTo>
                      <a:pt x="220" y="354"/>
                    </a:lnTo>
                    <a:lnTo>
                      <a:pt x="224" y="354"/>
                    </a:lnTo>
                    <a:lnTo>
                      <a:pt x="230" y="356"/>
                    </a:lnTo>
                    <a:lnTo>
                      <a:pt x="236" y="360"/>
                    </a:lnTo>
                    <a:lnTo>
                      <a:pt x="256" y="372"/>
                    </a:lnTo>
                    <a:lnTo>
                      <a:pt x="264" y="376"/>
                    </a:lnTo>
                    <a:lnTo>
                      <a:pt x="270" y="378"/>
                    </a:lnTo>
                    <a:lnTo>
                      <a:pt x="270" y="376"/>
                    </a:lnTo>
                    <a:lnTo>
                      <a:pt x="270" y="370"/>
                    </a:lnTo>
                    <a:lnTo>
                      <a:pt x="266" y="360"/>
                    </a:lnTo>
                    <a:lnTo>
                      <a:pt x="256" y="344"/>
                    </a:lnTo>
                    <a:lnTo>
                      <a:pt x="256" y="342"/>
                    </a:lnTo>
                    <a:lnTo>
                      <a:pt x="256" y="340"/>
                    </a:lnTo>
                    <a:lnTo>
                      <a:pt x="264" y="332"/>
                    </a:lnTo>
                    <a:lnTo>
                      <a:pt x="274" y="326"/>
                    </a:lnTo>
                    <a:lnTo>
                      <a:pt x="282" y="324"/>
                    </a:lnTo>
                    <a:lnTo>
                      <a:pt x="292" y="326"/>
                    </a:lnTo>
                    <a:lnTo>
                      <a:pt x="320" y="340"/>
                    </a:lnTo>
                    <a:lnTo>
                      <a:pt x="332" y="332"/>
                    </a:lnTo>
                    <a:lnTo>
                      <a:pt x="334" y="332"/>
                    </a:lnTo>
                    <a:lnTo>
                      <a:pt x="334" y="330"/>
                    </a:lnTo>
                    <a:lnTo>
                      <a:pt x="332" y="328"/>
                    </a:lnTo>
                    <a:lnTo>
                      <a:pt x="334" y="326"/>
                    </a:lnTo>
                    <a:lnTo>
                      <a:pt x="340" y="314"/>
                    </a:lnTo>
                    <a:lnTo>
                      <a:pt x="344" y="304"/>
                    </a:lnTo>
                    <a:lnTo>
                      <a:pt x="344" y="298"/>
                    </a:lnTo>
                    <a:lnTo>
                      <a:pt x="344" y="292"/>
                    </a:lnTo>
                    <a:lnTo>
                      <a:pt x="338" y="286"/>
                    </a:lnTo>
                    <a:lnTo>
                      <a:pt x="334" y="284"/>
                    </a:lnTo>
                    <a:lnTo>
                      <a:pt x="332" y="284"/>
                    </a:lnTo>
                    <a:lnTo>
                      <a:pt x="330" y="276"/>
                    </a:lnTo>
                    <a:lnTo>
                      <a:pt x="332" y="276"/>
                    </a:lnTo>
                    <a:lnTo>
                      <a:pt x="338" y="272"/>
                    </a:lnTo>
                    <a:lnTo>
                      <a:pt x="340" y="268"/>
                    </a:lnTo>
                    <a:lnTo>
                      <a:pt x="338" y="264"/>
                    </a:lnTo>
                    <a:lnTo>
                      <a:pt x="326" y="252"/>
                    </a:lnTo>
                    <a:lnTo>
                      <a:pt x="326" y="250"/>
                    </a:lnTo>
                    <a:lnTo>
                      <a:pt x="320" y="232"/>
                    </a:lnTo>
                    <a:lnTo>
                      <a:pt x="316" y="214"/>
                    </a:lnTo>
                    <a:lnTo>
                      <a:pt x="316" y="196"/>
                    </a:lnTo>
                    <a:lnTo>
                      <a:pt x="316" y="188"/>
                    </a:lnTo>
                    <a:lnTo>
                      <a:pt x="308" y="196"/>
                    </a:lnTo>
                    <a:lnTo>
                      <a:pt x="302" y="204"/>
                    </a:lnTo>
                    <a:lnTo>
                      <a:pt x="300" y="170"/>
                    </a:lnTo>
                    <a:lnTo>
                      <a:pt x="300" y="168"/>
                    </a:lnTo>
                    <a:lnTo>
                      <a:pt x="322" y="138"/>
                    </a:lnTo>
                    <a:lnTo>
                      <a:pt x="334" y="124"/>
                    </a:lnTo>
                    <a:lnTo>
                      <a:pt x="326" y="100"/>
                    </a:lnTo>
                    <a:lnTo>
                      <a:pt x="322" y="76"/>
                    </a:lnTo>
                    <a:lnTo>
                      <a:pt x="308" y="70"/>
                    </a:lnTo>
                    <a:lnTo>
                      <a:pt x="300" y="6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24"/>
              <p:cNvSpPr/>
              <p:nvPr/>
            </p:nvSpPr>
            <p:spPr>
              <a:xfrm>
                <a:off x="5292360" y="3676320"/>
                <a:ext cx="169560" cy="128520"/>
              </a:xfrm>
              <a:custGeom>
                <a:avLst/>
                <a:gdLst/>
                <a:ahLst/>
                <a:rect l="l" t="t" r="r" b="b"/>
                <a:pathLst>
                  <a:path w="488" h="306">
                    <a:moveTo>
                      <a:pt x="62" y="2"/>
                    </a:moveTo>
                    <a:lnTo>
                      <a:pt x="60" y="4"/>
                    </a:lnTo>
                    <a:lnTo>
                      <a:pt x="64" y="10"/>
                    </a:lnTo>
                    <a:lnTo>
                      <a:pt x="86" y="24"/>
                    </a:lnTo>
                    <a:lnTo>
                      <a:pt x="100" y="38"/>
                    </a:lnTo>
                    <a:lnTo>
                      <a:pt x="98" y="40"/>
                    </a:lnTo>
                    <a:lnTo>
                      <a:pt x="90" y="50"/>
                    </a:lnTo>
                    <a:lnTo>
                      <a:pt x="88" y="50"/>
                    </a:lnTo>
                    <a:lnTo>
                      <a:pt x="88" y="52"/>
                    </a:lnTo>
                    <a:lnTo>
                      <a:pt x="74" y="52"/>
                    </a:lnTo>
                    <a:lnTo>
                      <a:pt x="66" y="54"/>
                    </a:lnTo>
                    <a:lnTo>
                      <a:pt x="60" y="58"/>
                    </a:lnTo>
                    <a:lnTo>
                      <a:pt x="64" y="66"/>
                    </a:lnTo>
                    <a:lnTo>
                      <a:pt x="64" y="74"/>
                    </a:lnTo>
                    <a:lnTo>
                      <a:pt x="72" y="86"/>
                    </a:lnTo>
                    <a:lnTo>
                      <a:pt x="72" y="108"/>
                    </a:lnTo>
                    <a:lnTo>
                      <a:pt x="78" y="110"/>
                    </a:lnTo>
                    <a:lnTo>
                      <a:pt x="88" y="114"/>
                    </a:lnTo>
                    <a:lnTo>
                      <a:pt x="90" y="114"/>
                    </a:lnTo>
                    <a:lnTo>
                      <a:pt x="92" y="116"/>
                    </a:lnTo>
                    <a:lnTo>
                      <a:pt x="102" y="130"/>
                    </a:lnTo>
                    <a:lnTo>
                      <a:pt x="108" y="146"/>
                    </a:lnTo>
                    <a:lnTo>
                      <a:pt x="108" y="156"/>
                    </a:lnTo>
                    <a:lnTo>
                      <a:pt x="106" y="164"/>
                    </a:lnTo>
                    <a:lnTo>
                      <a:pt x="104" y="170"/>
                    </a:lnTo>
                    <a:lnTo>
                      <a:pt x="94" y="178"/>
                    </a:lnTo>
                    <a:lnTo>
                      <a:pt x="80" y="184"/>
                    </a:lnTo>
                    <a:lnTo>
                      <a:pt x="54" y="200"/>
                    </a:lnTo>
                    <a:lnTo>
                      <a:pt x="52" y="200"/>
                    </a:lnTo>
                    <a:lnTo>
                      <a:pt x="4" y="204"/>
                    </a:lnTo>
                    <a:lnTo>
                      <a:pt x="0" y="216"/>
                    </a:lnTo>
                    <a:lnTo>
                      <a:pt x="8" y="232"/>
                    </a:lnTo>
                    <a:lnTo>
                      <a:pt x="8" y="234"/>
                    </a:lnTo>
                    <a:lnTo>
                      <a:pt x="12" y="254"/>
                    </a:lnTo>
                    <a:lnTo>
                      <a:pt x="38" y="286"/>
                    </a:lnTo>
                    <a:lnTo>
                      <a:pt x="40" y="286"/>
                    </a:lnTo>
                    <a:lnTo>
                      <a:pt x="50" y="306"/>
                    </a:lnTo>
                    <a:lnTo>
                      <a:pt x="52" y="302"/>
                    </a:lnTo>
                    <a:lnTo>
                      <a:pt x="60" y="278"/>
                    </a:lnTo>
                    <a:lnTo>
                      <a:pt x="60" y="276"/>
                    </a:lnTo>
                    <a:lnTo>
                      <a:pt x="76" y="256"/>
                    </a:lnTo>
                    <a:lnTo>
                      <a:pt x="78" y="254"/>
                    </a:lnTo>
                    <a:lnTo>
                      <a:pt x="98" y="246"/>
                    </a:lnTo>
                    <a:lnTo>
                      <a:pt x="100" y="246"/>
                    </a:lnTo>
                    <a:lnTo>
                      <a:pt x="112" y="254"/>
                    </a:lnTo>
                    <a:lnTo>
                      <a:pt x="128" y="252"/>
                    </a:lnTo>
                    <a:lnTo>
                      <a:pt x="124" y="224"/>
                    </a:lnTo>
                    <a:lnTo>
                      <a:pt x="126" y="222"/>
                    </a:lnTo>
                    <a:lnTo>
                      <a:pt x="142" y="222"/>
                    </a:lnTo>
                    <a:lnTo>
                      <a:pt x="158" y="222"/>
                    </a:lnTo>
                    <a:lnTo>
                      <a:pt x="160" y="222"/>
                    </a:lnTo>
                    <a:lnTo>
                      <a:pt x="192" y="238"/>
                    </a:lnTo>
                    <a:lnTo>
                      <a:pt x="218" y="242"/>
                    </a:lnTo>
                    <a:lnTo>
                      <a:pt x="220" y="242"/>
                    </a:lnTo>
                    <a:lnTo>
                      <a:pt x="228" y="250"/>
                    </a:lnTo>
                    <a:lnTo>
                      <a:pt x="242" y="254"/>
                    </a:lnTo>
                    <a:lnTo>
                      <a:pt x="250" y="262"/>
                    </a:lnTo>
                    <a:lnTo>
                      <a:pt x="254" y="264"/>
                    </a:lnTo>
                    <a:lnTo>
                      <a:pt x="264" y="256"/>
                    </a:lnTo>
                    <a:lnTo>
                      <a:pt x="264" y="254"/>
                    </a:lnTo>
                    <a:lnTo>
                      <a:pt x="276" y="244"/>
                    </a:lnTo>
                    <a:lnTo>
                      <a:pt x="284" y="230"/>
                    </a:lnTo>
                    <a:lnTo>
                      <a:pt x="296" y="238"/>
                    </a:lnTo>
                    <a:lnTo>
                      <a:pt x="296" y="240"/>
                    </a:lnTo>
                    <a:lnTo>
                      <a:pt x="300" y="250"/>
                    </a:lnTo>
                    <a:lnTo>
                      <a:pt x="300" y="252"/>
                    </a:lnTo>
                    <a:lnTo>
                      <a:pt x="298" y="258"/>
                    </a:lnTo>
                    <a:lnTo>
                      <a:pt x="300" y="260"/>
                    </a:lnTo>
                    <a:lnTo>
                      <a:pt x="308" y="256"/>
                    </a:lnTo>
                    <a:lnTo>
                      <a:pt x="318" y="246"/>
                    </a:lnTo>
                    <a:lnTo>
                      <a:pt x="328" y="246"/>
                    </a:lnTo>
                    <a:lnTo>
                      <a:pt x="330" y="246"/>
                    </a:lnTo>
                    <a:lnTo>
                      <a:pt x="336" y="250"/>
                    </a:lnTo>
                    <a:lnTo>
                      <a:pt x="342" y="258"/>
                    </a:lnTo>
                    <a:lnTo>
                      <a:pt x="342" y="260"/>
                    </a:lnTo>
                    <a:lnTo>
                      <a:pt x="342" y="264"/>
                    </a:lnTo>
                    <a:lnTo>
                      <a:pt x="340" y="282"/>
                    </a:lnTo>
                    <a:lnTo>
                      <a:pt x="346" y="290"/>
                    </a:lnTo>
                    <a:lnTo>
                      <a:pt x="348" y="290"/>
                    </a:lnTo>
                    <a:lnTo>
                      <a:pt x="360" y="278"/>
                    </a:lnTo>
                    <a:lnTo>
                      <a:pt x="372" y="268"/>
                    </a:lnTo>
                    <a:lnTo>
                      <a:pt x="380" y="262"/>
                    </a:lnTo>
                    <a:lnTo>
                      <a:pt x="388" y="260"/>
                    </a:lnTo>
                    <a:lnTo>
                      <a:pt x="408" y="260"/>
                    </a:lnTo>
                    <a:lnTo>
                      <a:pt x="414" y="250"/>
                    </a:lnTo>
                    <a:lnTo>
                      <a:pt x="430" y="242"/>
                    </a:lnTo>
                    <a:lnTo>
                      <a:pt x="432" y="242"/>
                    </a:lnTo>
                    <a:lnTo>
                      <a:pt x="452" y="240"/>
                    </a:lnTo>
                    <a:lnTo>
                      <a:pt x="474" y="228"/>
                    </a:lnTo>
                    <a:lnTo>
                      <a:pt x="488" y="228"/>
                    </a:lnTo>
                    <a:lnTo>
                      <a:pt x="484" y="222"/>
                    </a:lnTo>
                    <a:lnTo>
                      <a:pt x="486" y="220"/>
                    </a:lnTo>
                    <a:lnTo>
                      <a:pt x="488" y="216"/>
                    </a:lnTo>
                    <a:lnTo>
                      <a:pt x="460" y="154"/>
                    </a:lnTo>
                    <a:lnTo>
                      <a:pt x="460" y="152"/>
                    </a:lnTo>
                    <a:lnTo>
                      <a:pt x="458" y="150"/>
                    </a:lnTo>
                    <a:lnTo>
                      <a:pt x="472" y="134"/>
                    </a:lnTo>
                    <a:lnTo>
                      <a:pt x="468" y="130"/>
                    </a:lnTo>
                    <a:lnTo>
                      <a:pt x="446" y="126"/>
                    </a:lnTo>
                    <a:lnTo>
                      <a:pt x="444" y="126"/>
                    </a:lnTo>
                    <a:lnTo>
                      <a:pt x="444" y="124"/>
                    </a:lnTo>
                    <a:lnTo>
                      <a:pt x="430" y="110"/>
                    </a:lnTo>
                    <a:lnTo>
                      <a:pt x="430" y="106"/>
                    </a:lnTo>
                    <a:lnTo>
                      <a:pt x="428" y="108"/>
                    </a:lnTo>
                    <a:lnTo>
                      <a:pt x="416" y="100"/>
                    </a:lnTo>
                    <a:lnTo>
                      <a:pt x="408" y="108"/>
                    </a:lnTo>
                    <a:lnTo>
                      <a:pt x="400" y="114"/>
                    </a:lnTo>
                    <a:lnTo>
                      <a:pt x="394" y="114"/>
                    </a:lnTo>
                    <a:lnTo>
                      <a:pt x="388" y="110"/>
                    </a:lnTo>
                    <a:lnTo>
                      <a:pt x="382" y="104"/>
                    </a:lnTo>
                    <a:lnTo>
                      <a:pt x="372" y="94"/>
                    </a:lnTo>
                    <a:lnTo>
                      <a:pt x="366" y="86"/>
                    </a:lnTo>
                    <a:lnTo>
                      <a:pt x="362" y="86"/>
                    </a:lnTo>
                    <a:lnTo>
                      <a:pt x="352" y="90"/>
                    </a:lnTo>
                    <a:lnTo>
                      <a:pt x="334" y="94"/>
                    </a:lnTo>
                    <a:lnTo>
                      <a:pt x="328" y="94"/>
                    </a:lnTo>
                    <a:lnTo>
                      <a:pt x="324" y="94"/>
                    </a:lnTo>
                    <a:lnTo>
                      <a:pt x="322" y="90"/>
                    </a:lnTo>
                    <a:lnTo>
                      <a:pt x="320" y="84"/>
                    </a:lnTo>
                    <a:lnTo>
                      <a:pt x="320" y="70"/>
                    </a:lnTo>
                    <a:lnTo>
                      <a:pt x="322" y="60"/>
                    </a:lnTo>
                    <a:lnTo>
                      <a:pt x="320" y="54"/>
                    </a:lnTo>
                    <a:lnTo>
                      <a:pt x="216" y="50"/>
                    </a:lnTo>
                    <a:lnTo>
                      <a:pt x="202" y="44"/>
                    </a:lnTo>
                    <a:lnTo>
                      <a:pt x="194" y="38"/>
                    </a:lnTo>
                    <a:lnTo>
                      <a:pt x="178" y="34"/>
                    </a:lnTo>
                    <a:lnTo>
                      <a:pt x="172" y="30"/>
                    </a:lnTo>
                    <a:lnTo>
                      <a:pt x="164" y="24"/>
                    </a:lnTo>
                    <a:lnTo>
                      <a:pt x="144" y="0"/>
                    </a:lnTo>
                    <a:lnTo>
                      <a:pt x="132" y="10"/>
                    </a:lnTo>
                    <a:lnTo>
                      <a:pt x="116" y="4"/>
                    </a:lnTo>
                    <a:lnTo>
                      <a:pt x="74" y="6"/>
                    </a:lnTo>
                    <a:lnTo>
                      <a:pt x="62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25"/>
              <p:cNvSpPr/>
              <p:nvPr/>
            </p:nvSpPr>
            <p:spPr>
              <a:xfrm>
                <a:off x="5330160" y="3912840"/>
                <a:ext cx="176760" cy="169200"/>
              </a:xfrm>
              <a:custGeom>
                <a:avLst/>
                <a:gdLst/>
                <a:ahLst/>
                <a:rect l="l" t="t" r="r" b="b"/>
                <a:pathLst>
                  <a:path w="508" h="402">
                    <a:moveTo>
                      <a:pt x="476" y="138"/>
                    </a:moveTo>
                    <a:lnTo>
                      <a:pt x="476" y="138"/>
                    </a:lnTo>
                    <a:lnTo>
                      <a:pt x="484" y="134"/>
                    </a:lnTo>
                    <a:lnTo>
                      <a:pt x="488" y="130"/>
                    </a:lnTo>
                    <a:lnTo>
                      <a:pt x="488" y="128"/>
                    </a:lnTo>
                    <a:lnTo>
                      <a:pt x="490" y="126"/>
                    </a:lnTo>
                    <a:lnTo>
                      <a:pt x="492" y="126"/>
                    </a:lnTo>
                    <a:lnTo>
                      <a:pt x="508" y="126"/>
                    </a:lnTo>
                    <a:lnTo>
                      <a:pt x="508" y="116"/>
                    </a:lnTo>
                    <a:lnTo>
                      <a:pt x="502" y="114"/>
                    </a:lnTo>
                    <a:lnTo>
                      <a:pt x="496" y="110"/>
                    </a:lnTo>
                    <a:lnTo>
                      <a:pt x="472" y="88"/>
                    </a:lnTo>
                    <a:lnTo>
                      <a:pt x="460" y="58"/>
                    </a:lnTo>
                    <a:lnTo>
                      <a:pt x="446" y="44"/>
                    </a:lnTo>
                    <a:lnTo>
                      <a:pt x="424" y="42"/>
                    </a:lnTo>
                    <a:lnTo>
                      <a:pt x="406" y="44"/>
                    </a:lnTo>
                    <a:lnTo>
                      <a:pt x="402" y="44"/>
                    </a:lnTo>
                    <a:lnTo>
                      <a:pt x="404" y="54"/>
                    </a:lnTo>
                    <a:lnTo>
                      <a:pt x="404" y="56"/>
                    </a:lnTo>
                    <a:lnTo>
                      <a:pt x="404" y="58"/>
                    </a:lnTo>
                    <a:lnTo>
                      <a:pt x="400" y="58"/>
                    </a:lnTo>
                    <a:lnTo>
                      <a:pt x="388" y="64"/>
                    </a:lnTo>
                    <a:lnTo>
                      <a:pt x="386" y="62"/>
                    </a:lnTo>
                    <a:lnTo>
                      <a:pt x="372" y="50"/>
                    </a:lnTo>
                    <a:lnTo>
                      <a:pt x="368" y="50"/>
                    </a:lnTo>
                    <a:lnTo>
                      <a:pt x="364" y="50"/>
                    </a:lnTo>
                    <a:lnTo>
                      <a:pt x="332" y="64"/>
                    </a:lnTo>
                    <a:lnTo>
                      <a:pt x="322" y="68"/>
                    </a:lnTo>
                    <a:lnTo>
                      <a:pt x="316" y="66"/>
                    </a:lnTo>
                    <a:lnTo>
                      <a:pt x="310" y="70"/>
                    </a:lnTo>
                    <a:lnTo>
                      <a:pt x="304" y="76"/>
                    </a:lnTo>
                    <a:lnTo>
                      <a:pt x="300" y="80"/>
                    </a:lnTo>
                    <a:lnTo>
                      <a:pt x="298" y="76"/>
                    </a:lnTo>
                    <a:lnTo>
                      <a:pt x="288" y="66"/>
                    </a:lnTo>
                    <a:lnTo>
                      <a:pt x="286" y="62"/>
                    </a:lnTo>
                    <a:lnTo>
                      <a:pt x="286" y="58"/>
                    </a:lnTo>
                    <a:lnTo>
                      <a:pt x="290" y="50"/>
                    </a:lnTo>
                    <a:lnTo>
                      <a:pt x="300" y="38"/>
                    </a:lnTo>
                    <a:lnTo>
                      <a:pt x="314" y="22"/>
                    </a:lnTo>
                    <a:lnTo>
                      <a:pt x="318" y="16"/>
                    </a:lnTo>
                    <a:lnTo>
                      <a:pt x="316" y="12"/>
                    </a:lnTo>
                    <a:lnTo>
                      <a:pt x="312" y="12"/>
                    </a:lnTo>
                    <a:lnTo>
                      <a:pt x="308" y="14"/>
                    </a:lnTo>
                    <a:lnTo>
                      <a:pt x="298" y="20"/>
                    </a:lnTo>
                    <a:lnTo>
                      <a:pt x="288" y="26"/>
                    </a:lnTo>
                    <a:lnTo>
                      <a:pt x="282" y="28"/>
                    </a:lnTo>
                    <a:lnTo>
                      <a:pt x="280" y="26"/>
                    </a:lnTo>
                    <a:lnTo>
                      <a:pt x="278" y="20"/>
                    </a:lnTo>
                    <a:lnTo>
                      <a:pt x="276" y="20"/>
                    </a:lnTo>
                    <a:lnTo>
                      <a:pt x="270" y="6"/>
                    </a:lnTo>
                    <a:lnTo>
                      <a:pt x="254" y="16"/>
                    </a:lnTo>
                    <a:lnTo>
                      <a:pt x="252" y="18"/>
                    </a:lnTo>
                    <a:lnTo>
                      <a:pt x="252" y="16"/>
                    </a:lnTo>
                    <a:lnTo>
                      <a:pt x="236" y="8"/>
                    </a:lnTo>
                    <a:lnTo>
                      <a:pt x="220" y="2"/>
                    </a:lnTo>
                    <a:lnTo>
                      <a:pt x="214" y="0"/>
                    </a:lnTo>
                    <a:lnTo>
                      <a:pt x="208" y="2"/>
                    </a:lnTo>
                    <a:lnTo>
                      <a:pt x="204" y="6"/>
                    </a:lnTo>
                    <a:lnTo>
                      <a:pt x="198" y="12"/>
                    </a:lnTo>
                    <a:lnTo>
                      <a:pt x="204" y="24"/>
                    </a:lnTo>
                    <a:lnTo>
                      <a:pt x="210" y="38"/>
                    </a:lnTo>
                    <a:lnTo>
                      <a:pt x="210" y="44"/>
                    </a:lnTo>
                    <a:lnTo>
                      <a:pt x="210" y="48"/>
                    </a:lnTo>
                    <a:lnTo>
                      <a:pt x="208" y="52"/>
                    </a:lnTo>
                    <a:lnTo>
                      <a:pt x="204" y="54"/>
                    </a:lnTo>
                    <a:lnTo>
                      <a:pt x="200" y="54"/>
                    </a:lnTo>
                    <a:lnTo>
                      <a:pt x="194" y="54"/>
                    </a:lnTo>
                    <a:lnTo>
                      <a:pt x="188" y="50"/>
                    </a:lnTo>
                    <a:lnTo>
                      <a:pt x="182" y="46"/>
                    </a:lnTo>
                    <a:lnTo>
                      <a:pt x="164" y="36"/>
                    </a:lnTo>
                    <a:lnTo>
                      <a:pt x="156" y="32"/>
                    </a:lnTo>
                    <a:lnTo>
                      <a:pt x="156" y="34"/>
                    </a:lnTo>
                    <a:lnTo>
                      <a:pt x="156" y="52"/>
                    </a:lnTo>
                    <a:lnTo>
                      <a:pt x="144" y="66"/>
                    </a:lnTo>
                    <a:lnTo>
                      <a:pt x="144" y="80"/>
                    </a:lnTo>
                    <a:lnTo>
                      <a:pt x="148" y="94"/>
                    </a:lnTo>
                    <a:lnTo>
                      <a:pt x="150" y="94"/>
                    </a:lnTo>
                    <a:lnTo>
                      <a:pt x="140" y="108"/>
                    </a:lnTo>
                    <a:lnTo>
                      <a:pt x="136" y="120"/>
                    </a:lnTo>
                    <a:lnTo>
                      <a:pt x="136" y="122"/>
                    </a:lnTo>
                    <a:lnTo>
                      <a:pt x="124" y="134"/>
                    </a:lnTo>
                    <a:lnTo>
                      <a:pt x="104" y="180"/>
                    </a:lnTo>
                    <a:lnTo>
                      <a:pt x="104" y="204"/>
                    </a:lnTo>
                    <a:lnTo>
                      <a:pt x="60" y="230"/>
                    </a:lnTo>
                    <a:lnTo>
                      <a:pt x="58" y="234"/>
                    </a:lnTo>
                    <a:lnTo>
                      <a:pt x="64" y="248"/>
                    </a:lnTo>
                    <a:lnTo>
                      <a:pt x="60" y="266"/>
                    </a:lnTo>
                    <a:lnTo>
                      <a:pt x="42" y="264"/>
                    </a:lnTo>
                    <a:lnTo>
                      <a:pt x="38" y="284"/>
                    </a:lnTo>
                    <a:lnTo>
                      <a:pt x="16" y="284"/>
                    </a:lnTo>
                    <a:lnTo>
                      <a:pt x="10" y="292"/>
                    </a:lnTo>
                    <a:lnTo>
                      <a:pt x="4" y="306"/>
                    </a:lnTo>
                    <a:lnTo>
                      <a:pt x="0" y="356"/>
                    </a:lnTo>
                    <a:lnTo>
                      <a:pt x="4" y="368"/>
                    </a:lnTo>
                    <a:lnTo>
                      <a:pt x="6" y="368"/>
                    </a:lnTo>
                    <a:lnTo>
                      <a:pt x="6" y="380"/>
                    </a:lnTo>
                    <a:lnTo>
                      <a:pt x="16" y="392"/>
                    </a:lnTo>
                    <a:lnTo>
                      <a:pt x="16" y="402"/>
                    </a:lnTo>
                    <a:lnTo>
                      <a:pt x="42" y="400"/>
                    </a:lnTo>
                    <a:lnTo>
                      <a:pt x="44" y="398"/>
                    </a:lnTo>
                    <a:lnTo>
                      <a:pt x="44" y="396"/>
                    </a:lnTo>
                    <a:lnTo>
                      <a:pt x="52" y="388"/>
                    </a:lnTo>
                    <a:lnTo>
                      <a:pt x="36" y="372"/>
                    </a:lnTo>
                    <a:lnTo>
                      <a:pt x="34" y="372"/>
                    </a:lnTo>
                    <a:lnTo>
                      <a:pt x="24" y="364"/>
                    </a:lnTo>
                    <a:lnTo>
                      <a:pt x="24" y="362"/>
                    </a:lnTo>
                    <a:lnTo>
                      <a:pt x="24" y="346"/>
                    </a:lnTo>
                    <a:lnTo>
                      <a:pt x="36" y="346"/>
                    </a:lnTo>
                    <a:lnTo>
                      <a:pt x="38" y="340"/>
                    </a:lnTo>
                    <a:lnTo>
                      <a:pt x="32" y="324"/>
                    </a:lnTo>
                    <a:lnTo>
                      <a:pt x="64" y="324"/>
                    </a:lnTo>
                    <a:lnTo>
                      <a:pt x="120" y="298"/>
                    </a:lnTo>
                    <a:lnTo>
                      <a:pt x="126" y="286"/>
                    </a:lnTo>
                    <a:lnTo>
                      <a:pt x="128" y="282"/>
                    </a:lnTo>
                    <a:lnTo>
                      <a:pt x="140" y="288"/>
                    </a:lnTo>
                    <a:lnTo>
                      <a:pt x="140" y="290"/>
                    </a:lnTo>
                    <a:lnTo>
                      <a:pt x="146" y="296"/>
                    </a:lnTo>
                    <a:lnTo>
                      <a:pt x="152" y="294"/>
                    </a:lnTo>
                    <a:lnTo>
                      <a:pt x="150" y="282"/>
                    </a:lnTo>
                    <a:lnTo>
                      <a:pt x="168" y="282"/>
                    </a:lnTo>
                    <a:lnTo>
                      <a:pt x="186" y="286"/>
                    </a:lnTo>
                    <a:lnTo>
                      <a:pt x="192" y="274"/>
                    </a:lnTo>
                    <a:lnTo>
                      <a:pt x="194" y="272"/>
                    </a:lnTo>
                    <a:lnTo>
                      <a:pt x="196" y="272"/>
                    </a:lnTo>
                    <a:lnTo>
                      <a:pt x="214" y="266"/>
                    </a:lnTo>
                    <a:lnTo>
                      <a:pt x="218" y="238"/>
                    </a:lnTo>
                    <a:lnTo>
                      <a:pt x="238" y="256"/>
                    </a:lnTo>
                    <a:lnTo>
                      <a:pt x="246" y="256"/>
                    </a:lnTo>
                    <a:lnTo>
                      <a:pt x="250" y="252"/>
                    </a:lnTo>
                    <a:lnTo>
                      <a:pt x="248" y="192"/>
                    </a:lnTo>
                    <a:lnTo>
                      <a:pt x="248" y="190"/>
                    </a:lnTo>
                    <a:lnTo>
                      <a:pt x="248" y="186"/>
                    </a:lnTo>
                    <a:lnTo>
                      <a:pt x="260" y="188"/>
                    </a:lnTo>
                    <a:lnTo>
                      <a:pt x="262" y="188"/>
                    </a:lnTo>
                    <a:lnTo>
                      <a:pt x="264" y="190"/>
                    </a:lnTo>
                    <a:lnTo>
                      <a:pt x="286" y="230"/>
                    </a:lnTo>
                    <a:lnTo>
                      <a:pt x="312" y="226"/>
                    </a:lnTo>
                    <a:lnTo>
                      <a:pt x="318" y="224"/>
                    </a:lnTo>
                    <a:lnTo>
                      <a:pt x="322" y="216"/>
                    </a:lnTo>
                    <a:lnTo>
                      <a:pt x="314" y="208"/>
                    </a:lnTo>
                    <a:lnTo>
                      <a:pt x="312" y="206"/>
                    </a:lnTo>
                    <a:lnTo>
                      <a:pt x="330" y="200"/>
                    </a:lnTo>
                    <a:lnTo>
                      <a:pt x="332" y="198"/>
                    </a:lnTo>
                    <a:lnTo>
                      <a:pt x="340" y="206"/>
                    </a:lnTo>
                    <a:lnTo>
                      <a:pt x="346" y="202"/>
                    </a:lnTo>
                    <a:lnTo>
                      <a:pt x="346" y="190"/>
                    </a:lnTo>
                    <a:lnTo>
                      <a:pt x="350" y="190"/>
                    </a:lnTo>
                    <a:lnTo>
                      <a:pt x="364" y="190"/>
                    </a:lnTo>
                    <a:lnTo>
                      <a:pt x="370" y="192"/>
                    </a:lnTo>
                    <a:lnTo>
                      <a:pt x="376" y="194"/>
                    </a:lnTo>
                    <a:lnTo>
                      <a:pt x="382" y="198"/>
                    </a:lnTo>
                    <a:lnTo>
                      <a:pt x="386" y="202"/>
                    </a:lnTo>
                    <a:lnTo>
                      <a:pt x="388" y="206"/>
                    </a:lnTo>
                    <a:lnTo>
                      <a:pt x="392" y="186"/>
                    </a:lnTo>
                    <a:lnTo>
                      <a:pt x="396" y="184"/>
                    </a:lnTo>
                    <a:lnTo>
                      <a:pt x="400" y="182"/>
                    </a:lnTo>
                    <a:lnTo>
                      <a:pt x="406" y="182"/>
                    </a:lnTo>
                    <a:lnTo>
                      <a:pt x="412" y="184"/>
                    </a:lnTo>
                    <a:lnTo>
                      <a:pt x="414" y="186"/>
                    </a:lnTo>
                    <a:lnTo>
                      <a:pt x="414" y="188"/>
                    </a:lnTo>
                    <a:lnTo>
                      <a:pt x="418" y="188"/>
                    </a:lnTo>
                    <a:lnTo>
                      <a:pt x="432" y="180"/>
                    </a:lnTo>
                    <a:lnTo>
                      <a:pt x="460" y="160"/>
                    </a:lnTo>
                    <a:lnTo>
                      <a:pt x="460" y="152"/>
                    </a:lnTo>
                    <a:lnTo>
                      <a:pt x="464" y="146"/>
                    </a:lnTo>
                    <a:lnTo>
                      <a:pt x="470" y="140"/>
                    </a:lnTo>
                    <a:lnTo>
                      <a:pt x="476" y="1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26"/>
              <p:cNvSpPr/>
              <p:nvPr/>
            </p:nvSpPr>
            <p:spPr>
              <a:xfrm>
                <a:off x="5413320" y="3766320"/>
                <a:ext cx="105480" cy="174240"/>
              </a:xfrm>
              <a:custGeom>
                <a:avLst/>
                <a:gdLst/>
                <a:ahLst/>
                <a:rect l="l" t="t" r="r" b="b"/>
                <a:pathLst>
                  <a:path w="304" h="414">
                    <a:moveTo>
                      <a:pt x="240" y="16"/>
                    </a:moveTo>
                    <a:lnTo>
                      <a:pt x="238" y="16"/>
                    </a:lnTo>
                    <a:lnTo>
                      <a:pt x="220" y="0"/>
                    </a:lnTo>
                    <a:lnTo>
                      <a:pt x="212" y="6"/>
                    </a:lnTo>
                    <a:lnTo>
                      <a:pt x="206" y="16"/>
                    </a:lnTo>
                    <a:lnTo>
                      <a:pt x="200" y="24"/>
                    </a:lnTo>
                    <a:lnTo>
                      <a:pt x="192" y="28"/>
                    </a:lnTo>
                    <a:lnTo>
                      <a:pt x="184" y="32"/>
                    </a:lnTo>
                    <a:lnTo>
                      <a:pt x="180" y="34"/>
                    </a:lnTo>
                    <a:lnTo>
                      <a:pt x="176" y="32"/>
                    </a:lnTo>
                    <a:lnTo>
                      <a:pt x="174" y="28"/>
                    </a:lnTo>
                    <a:lnTo>
                      <a:pt x="174" y="22"/>
                    </a:lnTo>
                    <a:lnTo>
                      <a:pt x="180" y="4"/>
                    </a:lnTo>
                    <a:lnTo>
                      <a:pt x="152" y="22"/>
                    </a:lnTo>
                    <a:lnTo>
                      <a:pt x="152" y="24"/>
                    </a:lnTo>
                    <a:lnTo>
                      <a:pt x="128" y="24"/>
                    </a:lnTo>
                    <a:lnTo>
                      <a:pt x="108" y="34"/>
                    </a:lnTo>
                    <a:lnTo>
                      <a:pt x="108" y="36"/>
                    </a:lnTo>
                    <a:lnTo>
                      <a:pt x="84" y="36"/>
                    </a:lnTo>
                    <a:lnTo>
                      <a:pt x="72" y="42"/>
                    </a:lnTo>
                    <a:lnTo>
                      <a:pt x="68" y="54"/>
                    </a:lnTo>
                    <a:lnTo>
                      <a:pt x="66" y="56"/>
                    </a:lnTo>
                    <a:lnTo>
                      <a:pt x="40" y="56"/>
                    </a:lnTo>
                    <a:lnTo>
                      <a:pt x="34" y="56"/>
                    </a:lnTo>
                    <a:lnTo>
                      <a:pt x="28" y="62"/>
                    </a:lnTo>
                    <a:lnTo>
                      <a:pt x="8" y="80"/>
                    </a:lnTo>
                    <a:lnTo>
                      <a:pt x="16" y="84"/>
                    </a:lnTo>
                    <a:lnTo>
                      <a:pt x="20" y="88"/>
                    </a:lnTo>
                    <a:lnTo>
                      <a:pt x="22" y="94"/>
                    </a:lnTo>
                    <a:lnTo>
                      <a:pt x="22" y="92"/>
                    </a:lnTo>
                    <a:lnTo>
                      <a:pt x="34" y="138"/>
                    </a:lnTo>
                    <a:lnTo>
                      <a:pt x="34" y="140"/>
                    </a:lnTo>
                    <a:lnTo>
                      <a:pt x="34" y="144"/>
                    </a:lnTo>
                    <a:lnTo>
                      <a:pt x="32" y="144"/>
                    </a:lnTo>
                    <a:lnTo>
                      <a:pt x="0" y="188"/>
                    </a:lnTo>
                    <a:lnTo>
                      <a:pt x="0" y="200"/>
                    </a:lnTo>
                    <a:lnTo>
                      <a:pt x="8" y="196"/>
                    </a:lnTo>
                    <a:lnTo>
                      <a:pt x="12" y="196"/>
                    </a:lnTo>
                    <a:lnTo>
                      <a:pt x="16" y="198"/>
                    </a:lnTo>
                    <a:lnTo>
                      <a:pt x="18" y="202"/>
                    </a:lnTo>
                    <a:lnTo>
                      <a:pt x="16" y="214"/>
                    </a:lnTo>
                    <a:lnTo>
                      <a:pt x="16" y="226"/>
                    </a:lnTo>
                    <a:lnTo>
                      <a:pt x="18" y="238"/>
                    </a:lnTo>
                    <a:lnTo>
                      <a:pt x="20" y="250"/>
                    </a:lnTo>
                    <a:lnTo>
                      <a:pt x="24" y="262"/>
                    </a:lnTo>
                    <a:lnTo>
                      <a:pt x="36" y="274"/>
                    </a:lnTo>
                    <a:lnTo>
                      <a:pt x="40" y="280"/>
                    </a:lnTo>
                    <a:lnTo>
                      <a:pt x="40" y="286"/>
                    </a:lnTo>
                    <a:lnTo>
                      <a:pt x="36" y="294"/>
                    </a:lnTo>
                    <a:lnTo>
                      <a:pt x="42" y="304"/>
                    </a:lnTo>
                    <a:lnTo>
                      <a:pt x="44" y="310"/>
                    </a:lnTo>
                    <a:lnTo>
                      <a:pt x="44" y="320"/>
                    </a:lnTo>
                    <a:lnTo>
                      <a:pt x="40" y="330"/>
                    </a:lnTo>
                    <a:lnTo>
                      <a:pt x="34" y="344"/>
                    </a:lnTo>
                    <a:lnTo>
                      <a:pt x="44" y="362"/>
                    </a:lnTo>
                    <a:lnTo>
                      <a:pt x="46" y="366"/>
                    </a:lnTo>
                    <a:lnTo>
                      <a:pt x="52" y="362"/>
                    </a:lnTo>
                    <a:lnTo>
                      <a:pt x="60" y="356"/>
                    </a:lnTo>
                    <a:lnTo>
                      <a:pt x="66" y="352"/>
                    </a:lnTo>
                    <a:lnTo>
                      <a:pt x="72" y="352"/>
                    </a:lnTo>
                    <a:lnTo>
                      <a:pt x="78" y="352"/>
                    </a:lnTo>
                    <a:lnTo>
                      <a:pt x="84" y="356"/>
                    </a:lnTo>
                    <a:lnTo>
                      <a:pt x="86" y="362"/>
                    </a:lnTo>
                    <a:lnTo>
                      <a:pt x="86" y="366"/>
                    </a:lnTo>
                    <a:lnTo>
                      <a:pt x="82" y="374"/>
                    </a:lnTo>
                    <a:lnTo>
                      <a:pt x="66" y="392"/>
                    </a:lnTo>
                    <a:lnTo>
                      <a:pt x="56" y="406"/>
                    </a:lnTo>
                    <a:lnTo>
                      <a:pt x="60" y="414"/>
                    </a:lnTo>
                    <a:lnTo>
                      <a:pt x="72" y="408"/>
                    </a:lnTo>
                    <a:lnTo>
                      <a:pt x="76" y="406"/>
                    </a:lnTo>
                    <a:lnTo>
                      <a:pt x="80" y="406"/>
                    </a:lnTo>
                    <a:lnTo>
                      <a:pt x="94" y="402"/>
                    </a:lnTo>
                    <a:lnTo>
                      <a:pt x="120" y="390"/>
                    </a:lnTo>
                    <a:lnTo>
                      <a:pt x="126" y="388"/>
                    </a:lnTo>
                    <a:lnTo>
                      <a:pt x="134" y="390"/>
                    </a:lnTo>
                    <a:lnTo>
                      <a:pt x="142" y="394"/>
                    </a:lnTo>
                    <a:lnTo>
                      <a:pt x="150" y="402"/>
                    </a:lnTo>
                    <a:lnTo>
                      <a:pt x="154" y="400"/>
                    </a:lnTo>
                    <a:lnTo>
                      <a:pt x="154" y="390"/>
                    </a:lnTo>
                    <a:lnTo>
                      <a:pt x="152" y="388"/>
                    </a:lnTo>
                    <a:lnTo>
                      <a:pt x="152" y="384"/>
                    </a:lnTo>
                    <a:lnTo>
                      <a:pt x="154" y="380"/>
                    </a:lnTo>
                    <a:lnTo>
                      <a:pt x="150" y="366"/>
                    </a:lnTo>
                    <a:lnTo>
                      <a:pt x="150" y="362"/>
                    </a:lnTo>
                    <a:lnTo>
                      <a:pt x="150" y="358"/>
                    </a:lnTo>
                    <a:lnTo>
                      <a:pt x="158" y="352"/>
                    </a:lnTo>
                    <a:lnTo>
                      <a:pt x="166" y="346"/>
                    </a:lnTo>
                    <a:lnTo>
                      <a:pt x="162" y="336"/>
                    </a:lnTo>
                    <a:lnTo>
                      <a:pt x="162" y="334"/>
                    </a:lnTo>
                    <a:lnTo>
                      <a:pt x="166" y="328"/>
                    </a:lnTo>
                    <a:lnTo>
                      <a:pt x="164" y="324"/>
                    </a:lnTo>
                    <a:lnTo>
                      <a:pt x="164" y="320"/>
                    </a:lnTo>
                    <a:lnTo>
                      <a:pt x="164" y="316"/>
                    </a:lnTo>
                    <a:lnTo>
                      <a:pt x="170" y="308"/>
                    </a:lnTo>
                    <a:lnTo>
                      <a:pt x="180" y="300"/>
                    </a:lnTo>
                    <a:lnTo>
                      <a:pt x="178" y="298"/>
                    </a:lnTo>
                    <a:lnTo>
                      <a:pt x="176" y="296"/>
                    </a:lnTo>
                    <a:lnTo>
                      <a:pt x="186" y="292"/>
                    </a:lnTo>
                    <a:lnTo>
                      <a:pt x="186" y="278"/>
                    </a:lnTo>
                    <a:lnTo>
                      <a:pt x="186" y="274"/>
                    </a:lnTo>
                    <a:lnTo>
                      <a:pt x="190" y="270"/>
                    </a:lnTo>
                    <a:lnTo>
                      <a:pt x="194" y="266"/>
                    </a:lnTo>
                    <a:lnTo>
                      <a:pt x="200" y="260"/>
                    </a:lnTo>
                    <a:lnTo>
                      <a:pt x="206" y="256"/>
                    </a:lnTo>
                    <a:lnTo>
                      <a:pt x="194" y="242"/>
                    </a:lnTo>
                    <a:lnTo>
                      <a:pt x="192" y="238"/>
                    </a:lnTo>
                    <a:lnTo>
                      <a:pt x="192" y="232"/>
                    </a:lnTo>
                    <a:lnTo>
                      <a:pt x="194" y="228"/>
                    </a:lnTo>
                    <a:lnTo>
                      <a:pt x="198" y="222"/>
                    </a:lnTo>
                    <a:lnTo>
                      <a:pt x="198" y="220"/>
                    </a:lnTo>
                    <a:lnTo>
                      <a:pt x="224" y="200"/>
                    </a:lnTo>
                    <a:lnTo>
                      <a:pt x="224" y="194"/>
                    </a:lnTo>
                    <a:lnTo>
                      <a:pt x="222" y="192"/>
                    </a:lnTo>
                    <a:lnTo>
                      <a:pt x="220" y="186"/>
                    </a:lnTo>
                    <a:lnTo>
                      <a:pt x="220" y="178"/>
                    </a:lnTo>
                    <a:lnTo>
                      <a:pt x="220" y="170"/>
                    </a:lnTo>
                    <a:lnTo>
                      <a:pt x="224" y="156"/>
                    </a:lnTo>
                    <a:lnTo>
                      <a:pt x="230" y="146"/>
                    </a:lnTo>
                    <a:lnTo>
                      <a:pt x="238" y="138"/>
                    </a:lnTo>
                    <a:lnTo>
                      <a:pt x="250" y="136"/>
                    </a:lnTo>
                    <a:lnTo>
                      <a:pt x="252" y="136"/>
                    </a:lnTo>
                    <a:lnTo>
                      <a:pt x="262" y="140"/>
                    </a:lnTo>
                    <a:lnTo>
                      <a:pt x="272" y="140"/>
                    </a:lnTo>
                    <a:lnTo>
                      <a:pt x="284" y="128"/>
                    </a:lnTo>
                    <a:lnTo>
                      <a:pt x="296" y="120"/>
                    </a:lnTo>
                    <a:lnTo>
                      <a:pt x="296" y="108"/>
                    </a:lnTo>
                    <a:lnTo>
                      <a:pt x="296" y="106"/>
                    </a:lnTo>
                    <a:lnTo>
                      <a:pt x="296" y="104"/>
                    </a:lnTo>
                    <a:lnTo>
                      <a:pt x="300" y="102"/>
                    </a:lnTo>
                    <a:lnTo>
                      <a:pt x="304" y="98"/>
                    </a:lnTo>
                    <a:lnTo>
                      <a:pt x="304" y="96"/>
                    </a:lnTo>
                    <a:lnTo>
                      <a:pt x="296" y="84"/>
                    </a:lnTo>
                    <a:lnTo>
                      <a:pt x="286" y="68"/>
                    </a:lnTo>
                    <a:lnTo>
                      <a:pt x="276" y="52"/>
                    </a:lnTo>
                    <a:lnTo>
                      <a:pt x="274" y="46"/>
                    </a:lnTo>
                    <a:lnTo>
                      <a:pt x="274" y="40"/>
                    </a:lnTo>
                    <a:lnTo>
                      <a:pt x="276" y="34"/>
                    </a:lnTo>
                    <a:lnTo>
                      <a:pt x="280" y="28"/>
                    </a:lnTo>
                    <a:lnTo>
                      <a:pt x="264" y="20"/>
                    </a:lnTo>
                    <a:lnTo>
                      <a:pt x="240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27"/>
              <p:cNvSpPr/>
              <p:nvPr/>
            </p:nvSpPr>
            <p:spPr>
              <a:xfrm>
                <a:off x="5468400" y="3812760"/>
                <a:ext cx="97920" cy="144720"/>
              </a:xfrm>
              <a:custGeom>
                <a:avLst/>
                <a:gdLst/>
                <a:ahLst/>
                <a:rect l="l" t="t" r="r" b="b"/>
                <a:pathLst>
                  <a:path w="282" h="344">
                    <a:moveTo>
                      <a:pt x="146" y="14"/>
                    </a:moveTo>
                    <a:lnTo>
                      <a:pt x="146" y="14"/>
                    </a:lnTo>
                    <a:lnTo>
                      <a:pt x="132" y="24"/>
                    </a:lnTo>
                    <a:lnTo>
                      <a:pt x="120" y="38"/>
                    </a:lnTo>
                    <a:lnTo>
                      <a:pt x="118" y="38"/>
                    </a:lnTo>
                    <a:lnTo>
                      <a:pt x="118" y="40"/>
                    </a:lnTo>
                    <a:lnTo>
                      <a:pt x="102" y="40"/>
                    </a:lnTo>
                    <a:lnTo>
                      <a:pt x="92" y="34"/>
                    </a:lnTo>
                    <a:lnTo>
                      <a:pt x="84" y="38"/>
                    </a:lnTo>
                    <a:lnTo>
                      <a:pt x="78" y="42"/>
                    </a:lnTo>
                    <a:lnTo>
                      <a:pt x="74" y="50"/>
                    </a:lnTo>
                    <a:lnTo>
                      <a:pt x="70" y="60"/>
                    </a:lnTo>
                    <a:lnTo>
                      <a:pt x="70" y="74"/>
                    </a:lnTo>
                    <a:lnTo>
                      <a:pt x="80" y="66"/>
                    </a:lnTo>
                    <a:lnTo>
                      <a:pt x="74" y="92"/>
                    </a:lnTo>
                    <a:lnTo>
                      <a:pt x="74" y="94"/>
                    </a:lnTo>
                    <a:lnTo>
                      <a:pt x="46" y="116"/>
                    </a:lnTo>
                    <a:lnTo>
                      <a:pt x="42" y="124"/>
                    </a:lnTo>
                    <a:lnTo>
                      <a:pt x="42" y="128"/>
                    </a:lnTo>
                    <a:lnTo>
                      <a:pt x="48" y="134"/>
                    </a:lnTo>
                    <a:lnTo>
                      <a:pt x="54" y="140"/>
                    </a:lnTo>
                    <a:lnTo>
                      <a:pt x="56" y="142"/>
                    </a:lnTo>
                    <a:lnTo>
                      <a:pt x="56" y="146"/>
                    </a:lnTo>
                    <a:lnTo>
                      <a:pt x="56" y="148"/>
                    </a:lnTo>
                    <a:lnTo>
                      <a:pt x="54" y="152"/>
                    </a:lnTo>
                    <a:lnTo>
                      <a:pt x="36" y="166"/>
                    </a:lnTo>
                    <a:lnTo>
                      <a:pt x="38" y="174"/>
                    </a:lnTo>
                    <a:lnTo>
                      <a:pt x="36" y="184"/>
                    </a:lnTo>
                    <a:lnTo>
                      <a:pt x="36" y="186"/>
                    </a:lnTo>
                    <a:lnTo>
                      <a:pt x="30" y="190"/>
                    </a:lnTo>
                    <a:lnTo>
                      <a:pt x="28" y="194"/>
                    </a:lnTo>
                    <a:lnTo>
                      <a:pt x="24" y="200"/>
                    </a:lnTo>
                    <a:lnTo>
                      <a:pt x="14" y="208"/>
                    </a:lnTo>
                    <a:lnTo>
                      <a:pt x="14" y="210"/>
                    </a:lnTo>
                    <a:lnTo>
                      <a:pt x="16" y="216"/>
                    </a:lnTo>
                    <a:lnTo>
                      <a:pt x="14" y="226"/>
                    </a:lnTo>
                    <a:lnTo>
                      <a:pt x="16" y="236"/>
                    </a:lnTo>
                    <a:lnTo>
                      <a:pt x="16" y="238"/>
                    </a:lnTo>
                    <a:lnTo>
                      <a:pt x="14" y="242"/>
                    </a:lnTo>
                    <a:lnTo>
                      <a:pt x="6" y="250"/>
                    </a:lnTo>
                    <a:lnTo>
                      <a:pt x="4" y="250"/>
                    </a:lnTo>
                    <a:lnTo>
                      <a:pt x="0" y="252"/>
                    </a:lnTo>
                    <a:lnTo>
                      <a:pt x="0" y="254"/>
                    </a:lnTo>
                    <a:lnTo>
                      <a:pt x="6" y="272"/>
                    </a:lnTo>
                    <a:lnTo>
                      <a:pt x="28" y="272"/>
                    </a:lnTo>
                    <a:lnTo>
                      <a:pt x="50" y="272"/>
                    </a:lnTo>
                    <a:lnTo>
                      <a:pt x="52" y="272"/>
                    </a:lnTo>
                    <a:lnTo>
                      <a:pt x="52" y="274"/>
                    </a:lnTo>
                    <a:lnTo>
                      <a:pt x="70" y="290"/>
                    </a:lnTo>
                    <a:lnTo>
                      <a:pt x="70" y="292"/>
                    </a:lnTo>
                    <a:lnTo>
                      <a:pt x="82" y="322"/>
                    </a:lnTo>
                    <a:lnTo>
                      <a:pt x="102" y="342"/>
                    </a:lnTo>
                    <a:lnTo>
                      <a:pt x="112" y="344"/>
                    </a:lnTo>
                    <a:lnTo>
                      <a:pt x="112" y="320"/>
                    </a:lnTo>
                    <a:lnTo>
                      <a:pt x="132" y="340"/>
                    </a:lnTo>
                    <a:lnTo>
                      <a:pt x="136" y="336"/>
                    </a:lnTo>
                    <a:lnTo>
                      <a:pt x="150" y="306"/>
                    </a:lnTo>
                    <a:lnTo>
                      <a:pt x="152" y="290"/>
                    </a:lnTo>
                    <a:lnTo>
                      <a:pt x="154" y="290"/>
                    </a:lnTo>
                    <a:lnTo>
                      <a:pt x="156" y="290"/>
                    </a:lnTo>
                    <a:lnTo>
                      <a:pt x="172" y="292"/>
                    </a:lnTo>
                    <a:lnTo>
                      <a:pt x="170" y="280"/>
                    </a:lnTo>
                    <a:lnTo>
                      <a:pt x="170" y="278"/>
                    </a:lnTo>
                    <a:lnTo>
                      <a:pt x="170" y="276"/>
                    </a:lnTo>
                    <a:lnTo>
                      <a:pt x="174" y="276"/>
                    </a:lnTo>
                    <a:lnTo>
                      <a:pt x="194" y="276"/>
                    </a:lnTo>
                    <a:lnTo>
                      <a:pt x="200" y="270"/>
                    </a:lnTo>
                    <a:lnTo>
                      <a:pt x="204" y="262"/>
                    </a:lnTo>
                    <a:lnTo>
                      <a:pt x="208" y="256"/>
                    </a:lnTo>
                    <a:lnTo>
                      <a:pt x="208" y="250"/>
                    </a:lnTo>
                    <a:lnTo>
                      <a:pt x="206" y="222"/>
                    </a:lnTo>
                    <a:lnTo>
                      <a:pt x="222" y="226"/>
                    </a:lnTo>
                    <a:lnTo>
                      <a:pt x="228" y="218"/>
                    </a:lnTo>
                    <a:lnTo>
                      <a:pt x="220" y="210"/>
                    </a:lnTo>
                    <a:lnTo>
                      <a:pt x="218" y="208"/>
                    </a:lnTo>
                    <a:lnTo>
                      <a:pt x="234" y="192"/>
                    </a:lnTo>
                    <a:lnTo>
                      <a:pt x="234" y="194"/>
                    </a:lnTo>
                    <a:lnTo>
                      <a:pt x="236" y="194"/>
                    </a:lnTo>
                    <a:lnTo>
                      <a:pt x="246" y="198"/>
                    </a:lnTo>
                    <a:lnTo>
                      <a:pt x="246" y="196"/>
                    </a:lnTo>
                    <a:lnTo>
                      <a:pt x="238" y="182"/>
                    </a:lnTo>
                    <a:lnTo>
                      <a:pt x="242" y="180"/>
                    </a:lnTo>
                    <a:lnTo>
                      <a:pt x="246" y="178"/>
                    </a:lnTo>
                    <a:lnTo>
                      <a:pt x="244" y="172"/>
                    </a:lnTo>
                    <a:lnTo>
                      <a:pt x="236" y="156"/>
                    </a:lnTo>
                    <a:lnTo>
                      <a:pt x="238" y="156"/>
                    </a:lnTo>
                    <a:lnTo>
                      <a:pt x="238" y="154"/>
                    </a:lnTo>
                    <a:lnTo>
                      <a:pt x="260" y="142"/>
                    </a:lnTo>
                    <a:lnTo>
                      <a:pt x="262" y="134"/>
                    </a:lnTo>
                    <a:lnTo>
                      <a:pt x="240" y="120"/>
                    </a:lnTo>
                    <a:lnTo>
                      <a:pt x="236" y="116"/>
                    </a:lnTo>
                    <a:lnTo>
                      <a:pt x="234" y="112"/>
                    </a:lnTo>
                    <a:lnTo>
                      <a:pt x="236" y="108"/>
                    </a:lnTo>
                    <a:lnTo>
                      <a:pt x="242" y="108"/>
                    </a:lnTo>
                    <a:lnTo>
                      <a:pt x="266" y="112"/>
                    </a:lnTo>
                    <a:lnTo>
                      <a:pt x="266" y="98"/>
                    </a:lnTo>
                    <a:lnTo>
                      <a:pt x="266" y="96"/>
                    </a:lnTo>
                    <a:lnTo>
                      <a:pt x="278" y="84"/>
                    </a:lnTo>
                    <a:lnTo>
                      <a:pt x="282" y="74"/>
                    </a:lnTo>
                    <a:lnTo>
                      <a:pt x="276" y="72"/>
                    </a:lnTo>
                    <a:lnTo>
                      <a:pt x="270" y="66"/>
                    </a:lnTo>
                    <a:lnTo>
                      <a:pt x="270" y="64"/>
                    </a:lnTo>
                    <a:lnTo>
                      <a:pt x="270" y="60"/>
                    </a:lnTo>
                    <a:lnTo>
                      <a:pt x="270" y="58"/>
                    </a:lnTo>
                    <a:lnTo>
                      <a:pt x="268" y="58"/>
                    </a:lnTo>
                    <a:lnTo>
                      <a:pt x="266" y="58"/>
                    </a:lnTo>
                    <a:lnTo>
                      <a:pt x="262" y="62"/>
                    </a:lnTo>
                    <a:lnTo>
                      <a:pt x="256" y="64"/>
                    </a:lnTo>
                    <a:lnTo>
                      <a:pt x="250" y="62"/>
                    </a:lnTo>
                    <a:lnTo>
                      <a:pt x="244" y="62"/>
                    </a:lnTo>
                    <a:lnTo>
                      <a:pt x="234" y="54"/>
                    </a:lnTo>
                    <a:lnTo>
                      <a:pt x="226" y="42"/>
                    </a:lnTo>
                    <a:lnTo>
                      <a:pt x="226" y="44"/>
                    </a:lnTo>
                    <a:lnTo>
                      <a:pt x="222" y="50"/>
                    </a:lnTo>
                    <a:lnTo>
                      <a:pt x="216" y="58"/>
                    </a:lnTo>
                    <a:lnTo>
                      <a:pt x="208" y="60"/>
                    </a:lnTo>
                    <a:lnTo>
                      <a:pt x="200" y="62"/>
                    </a:lnTo>
                    <a:lnTo>
                      <a:pt x="194" y="62"/>
                    </a:lnTo>
                    <a:lnTo>
                      <a:pt x="186" y="60"/>
                    </a:lnTo>
                    <a:lnTo>
                      <a:pt x="182" y="58"/>
                    </a:lnTo>
                    <a:lnTo>
                      <a:pt x="178" y="54"/>
                    </a:lnTo>
                    <a:lnTo>
                      <a:pt x="174" y="46"/>
                    </a:lnTo>
                    <a:lnTo>
                      <a:pt x="170" y="30"/>
                    </a:lnTo>
                    <a:lnTo>
                      <a:pt x="166" y="12"/>
                    </a:lnTo>
                    <a:lnTo>
                      <a:pt x="164" y="6"/>
                    </a:lnTo>
                    <a:lnTo>
                      <a:pt x="160" y="2"/>
                    </a:lnTo>
                    <a:lnTo>
                      <a:pt x="154" y="0"/>
                    </a:lnTo>
                    <a:lnTo>
                      <a:pt x="146" y="0"/>
                    </a:lnTo>
                    <a:lnTo>
                      <a:pt x="148" y="14"/>
                    </a:lnTo>
                    <a:lnTo>
                      <a:pt x="146" y="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28"/>
              <p:cNvSpPr/>
              <p:nvPr/>
            </p:nvSpPr>
            <p:spPr>
              <a:xfrm>
                <a:off x="5512320" y="3720960"/>
                <a:ext cx="83880" cy="117720"/>
              </a:xfrm>
              <a:custGeom>
                <a:avLst/>
                <a:gdLst/>
                <a:ahLst/>
                <a:rect l="l" t="t" r="r" b="b"/>
                <a:pathLst>
                  <a:path w="242" h="280">
                    <a:moveTo>
                      <a:pt x="148" y="4"/>
                    </a:moveTo>
                    <a:lnTo>
                      <a:pt x="148" y="4"/>
                    </a:lnTo>
                    <a:lnTo>
                      <a:pt x="136" y="8"/>
                    </a:lnTo>
                    <a:lnTo>
                      <a:pt x="126" y="12"/>
                    </a:lnTo>
                    <a:lnTo>
                      <a:pt x="116" y="10"/>
                    </a:lnTo>
                    <a:lnTo>
                      <a:pt x="102" y="6"/>
                    </a:lnTo>
                    <a:lnTo>
                      <a:pt x="84" y="4"/>
                    </a:lnTo>
                    <a:lnTo>
                      <a:pt x="78" y="6"/>
                    </a:lnTo>
                    <a:lnTo>
                      <a:pt x="74" y="12"/>
                    </a:lnTo>
                    <a:lnTo>
                      <a:pt x="62" y="28"/>
                    </a:lnTo>
                    <a:lnTo>
                      <a:pt x="74" y="52"/>
                    </a:lnTo>
                    <a:lnTo>
                      <a:pt x="54" y="64"/>
                    </a:lnTo>
                    <a:lnTo>
                      <a:pt x="38" y="60"/>
                    </a:lnTo>
                    <a:lnTo>
                      <a:pt x="44" y="74"/>
                    </a:lnTo>
                    <a:lnTo>
                      <a:pt x="44" y="78"/>
                    </a:lnTo>
                    <a:lnTo>
                      <a:pt x="44" y="82"/>
                    </a:lnTo>
                    <a:lnTo>
                      <a:pt x="42" y="88"/>
                    </a:lnTo>
                    <a:lnTo>
                      <a:pt x="36" y="100"/>
                    </a:lnTo>
                    <a:lnTo>
                      <a:pt x="32" y="106"/>
                    </a:lnTo>
                    <a:lnTo>
                      <a:pt x="4" y="132"/>
                    </a:lnTo>
                    <a:lnTo>
                      <a:pt x="10" y="136"/>
                    </a:lnTo>
                    <a:lnTo>
                      <a:pt x="6" y="140"/>
                    </a:lnTo>
                    <a:lnTo>
                      <a:pt x="2" y="144"/>
                    </a:lnTo>
                    <a:lnTo>
                      <a:pt x="0" y="148"/>
                    </a:lnTo>
                    <a:lnTo>
                      <a:pt x="0" y="152"/>
                    </a:lnTo>
                    <a:lnTo>
                      <a:pt x="0" y="156"/>
                    </a:lnTo>
                    <a:lnTo>
                      <a:pt x="20" y="186"/>
                    </a:lnTo>
                    <a:lnTo>
                      <a:pt x="30" y="202"/>
                    </a:lnTo>
                    <a:lnTo>
                      <a:pt x="30" y="204"/>
                    </a:lnTo>
                    <a:lnTo>
                      <a:pt x="30" y="206"/>
                    </a:lnTo>
                    <a:lnTo>
                      <a:pt x="30" y="208"/>
                    </a:lnTo>
                    <a:lnTo>
                      <a:pt x="28" y="210"/>
                    </a:lnTo>
                    <a:lnTo>
                      <a:pt x="34" y="210"/>
                    </a:lnTo>
                    <a:lnTo>
                      <a:pt x="40" y="214"/>
                    </a:lnTo>
                    <a:lnTo>
                      <a:pt x="44" y="218"/>
                    </a:lnTo>
                    <a:lnTo>
                      <a:pt x="48" y="224"/>
                    </a:lnTo>
                    <a:lnTo>
                      <a:pt x="50" y="234"/>
                    </a:lnTo>
                    <a:lnTo>
                      <a:pt x="52" y="246"/>
                    </a:lnTo>
                    <a:lnTo>
                      <a:pt x="56" y="262"/>
                    </a:lnTo>
                    <a:lnTo>
                      <a:pt x="58" y="266"/>
                    </a:lnTo>
                    <a:lnTo>
                      <a:pt x="64" y="270"/>
                    </a:lnTo>
                    <a:lnTo>
                      <a:pt x="68" y="272"/>
                    </a:lnTo>
                    <a:lnTo>
                      <a:pt x="74" y="272"/>
                    </a:lnTo>
                    <a:lnTo>
                      <a:pt x="80" y="270"/>
                    </a:lnTo>
                    <a:lnTo>
                      <a:pt x="84" y="268"/>
                    </a:lnTo>
                    <a:lnTo>
                      <a:pt x="90" y="264"/>
                    </a:lnTo>
                    <a:lnTo>
                      <a:pt x="90" y="260"/>
                    </a:lnTo>
                    <a:lnTo>
                      <a:pt x="90" y="258"/>
                    </a:lnTo>
                    <a:lnTo>
                      <a:pt x="104" y="248"/>
                    </a:lnTo>
                    <a:lnTo>
                      <a:pt x="104" y="250"/>
                    </a:lnTo>
                    <a:lnTo>
                      <a:pt x="116" y="268"/>
                    </a:lnTo>
                    <a:lnTo>
                      <a:pt x="122" y="270"/>
                    </a:lnTo>
                    <a:lnTo>
                      <a:pt x="130" y="272"/>
                    </a:lnTo>
                    <a:lnTo>
                      <a:pt x="134" y="272"/>
                    </a:lnTo>
                    <a:lnTo>
                      <a:pt x="130" y="262"/>
                    </a:lnTo>
                    <a:lnTo>
                      <a:pt x="146" y="268"/>
                    </a:lnTo>
                    <a:lnTo>
                      <a:pt x="150" y="268"/>
                    </a:lnTo>
                    <a:lnTo>
                      <a:pt x="152" y="270"/>
                    </a:lnTo>
                    <a:lnTo>
                      <a:pt x="166" y="280"/>
                    </a:lnTo>
                    <a:lnTo>
                      <a:pt x="170" y="274"/>
                    </a:lnTo>
                    <a:lnTo>
                      <a:pt x="168" y="248"/>
                    </a:lnTo>
                    <a:lnTo>
                      <a:pt x="170" y="246"/>
                    </a:lnTo>
                    <a:lnTo>
                      <a:pt x="180" y="234"/>
                    </a:lnTo>
                    <a:lnTo>
                      <a:pt x="180" y="232"/>
                    </a:lnTo>
                    <a:lnTo>
                      <a:pt x="176" y="226"/>
                    </a:lnTo>
                    <a:lnTo>
                      <a:pt x="172" y="224"/>
                    </a:lnTo>
                    <a:lnTo>
                      <a:pt x="174" y="222"/>
                    </a:lnTo>
                    <a:lnTo>
                      <a:pt x="176" y="220"/>
                    </a:lnTo>
                    <a:lnTo>
                      <a:pt x="178" y="220"/>
                    </a:lnTo>
                    <a:lnTo>
                      <a:pt x="198" y="186"/>
                    </a:lnTo>
                    <a:lnTo>
                      <a:pt x="200" y="188"/>
                    </a:lnTo>
                    <a:lnTo>
                      <a:pt x="204" y="188"/>
                    </a:lnTo>
                    <a:lnTo>
                      <a:pt x="204" y="190"/>
                    </a:lnTo>
                    <a:lnTo>
                      <a:pt x="204" y="204"/>
                    </a:lnTo>
                    <a:lnTo>
                      <a:pt x="228" y="184"/>
                    </a:lnTo>
                    <a:lnTo>
                      <a:pt x="226" y="172"/>
                    </a:lnTo>
                    <a:lnTo>
                      <a:pt x="222" y="172"/>
                    </a:lnTo>
                    <a:lnTo>
                      <a:pt x="214" y="174"/>
                    </a:lnTo>
                    <a:lnTo>
                      <a:pt x="228" y="136"/>
                    </a:lnTo>
                    <a:lnTo>
                      <a:pt x="216" y="136"/>
                    </a:lnTo>
                    <a:lnTo>
                      <a:pt x="214" y="136"/>
                    </a:lnTo>
                    <a:lnTo>
                      <a:pt x="214" y="134"/>
                    </a:lnTo>
                    <a:lnTo>
                      <a:pt x="210" y="128"/>
                    </a:lnTo>
                    <a:lnTo>
                      <a:pt x="208" y="122"/>
                    </a:lnTo>
                    <a:lnTo>
                      <a:pt x="210" y="116"/>
                    </a:lnTo>
                    <a:lnTo>
                      <a:pt x="230" y="116"/>
                    </a:lnTo>
                    <a:lnTo>
                      <a:pt x="242" y="116"/>
                    </a:lnTo>
                    <a:lnTo>
                      <a:pt x="240" y="106"/>
                    </a:lnTo>
                    <a:lnTo>
                      <a:pt x="232" y="92"/>
                    </a:lnTo>
                    <a:lnTo>
                      <a:pt x="216" y="86"/>
                    </a:lnTo>
                    <a:lnTo>
                      <a:pt x="232" y="70"/>
                    </a:lnTo>
                    <a:lnTo>
                      <a:pt x="232" y="66"/>
                    </a:lnTo>
                    <a:lnTo>
                      <a:pt x="224" y="68"/>
                    </a:lnTo>
                    <a:lnTo>
                      <a:pt x="220" y="68"/>
                    </a:lnTo>
                    <a:lnTo>
                      <a:pt x="220" y="66"/>
                    </a:lnTo>
                    <a:lnTo>
                      <a:pt x="220" y="64"/>
                    </a:lnTo>
                    <a:lnTo>
                      <a:pt x="218" y="58"/>
                    </a:lnTo>
                    <a:lnTo>
                      <a:pt x="214" y="54"/>
                    </a:lnTo>
                    <a:lnTo>
                      <a:pt x="210" y="50"/>
                    </a:lnTo>
                    <a:lnTo>
                      <a:pt x="204" y="48"/>
                    </a:lnTo>
                    <a:lnTo>
                      <a:pt x="172" y="48"/>
                    </a:lnTo>
                    <a:lnTo>
                      <a:pt x="160" y="64"/>
                    </a:lnTo>
                    <a:lnTo>
                      <a:pt x="156" y="64"/>
                    </a:lnTo>
                    <a:lnTo>
                      <a:pt x="104" y="48"/>
                    </a:lnTo>
                    <a:lnTo>
                      <a:pt x="154" y="36"/>
                    </a:lnTo>
                    <a:lnTo>
                      <a:pt x="158" y="34"/>
                    </a:lnTo>
                    <a:lnTo>
                      <a:pt x="162" y="30"/>
                    </a:lnTo>
                    <a:lnTo>
                      <a:pt x="178" y="12"/>
                    </a:lnTo>
                    <a:lnTo>
                      <a:pt x="162" y="0"/>
                    </a:lnTo>
                    <a:lnTo>
                      <a:pt x="148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29"/>
              <p:cNvSpPr/>
              <p:nvPr/>
            </p:nvSpPr>
            <p:spPr>
              <a:xfrm>
                <a:off x="5430240" y="3619080"/>
                <a:ext cx="106200" cy="157320"/>
              </a:xfrm>
              <a:custGeom>
                <a:avLst/>
                <a:gdLst/>
                <a:ahLst/>
                <a:rect l="l" t="t" r="r" b="b"/>
                <a:pathLst>
                  <a:path w="306" h="374">
                    <a:moveTo>
                      <a:pt x="192" y="106"/>
                    </a:moveTo>
                    <a:lnTo>
                      <a:pt x="192" y="106"/>
                    </a:lnTo>
                    <a:lnTo>
                      <a:pt x="186" y="86"/>
                    </a:lnTo>
                    <a:lnTo>
                      <a:pt x="180" y="70"/>
                    </a:lnTo>
                    <a:lnTo>
                      <a:pt x="174" y="60"/>
                    </a:lnTo>
                    <a:lnTo>
                      <a:pt x="170" y="56"/>
                    </a:lnTo>
                    <a:lnTo>
                      <a:pt x="142" y="46"/>
                    </a:lnTo>
                    <a:lnTo>
                      <a:pt x="122" y="40"/>
                    </a:lnTo>
                    <a:lnTo>
                      <a:pt x="110" y="34"/>
                    </a:lnTo>
                    <a:lnTo>
                      <a:pt x="104" y="30"/>
                    </a:lnTo>
                    <a:lnTo>
                      <a:pt x="96" y="22"/>
                    </a:lnTo>
                    <a:lnTo>
                      <a:pt x="80" y="0"/>
                    </a:lnTo>
                    <a:lnTo>
                      <a:pt x="74" y="0"/>
                    </a:lnTo>
                    <a:lnTo>
                      <a:pt x="76" y="2"/>
                    </a:lnTo>
                    <a:lnTo>
                      <a:pt x="82" y="14"/>
                    </a:lnTo>
                    <a:lnTo>
                      <a:pt x="96" y="34"/>
                    </a:lnTo>
                    <a:lnTo>
                      <a:pt x="98" y="36"/>
                    </a:lnTo>
                    <a:lnTo>
                      <a:pt x="98" y="38"/>
                    </a:lnTo>
                    <a:lnTo>
                      <a:pt x="86" y="60"/>
                    </a:lnTo>
                    <a:lnTo>
                      <a:pt x="78" y="70"/>
                    </a:lnTo>
                    <a:lnTo>
                      <a:pt x="74" y="72"/>
                    </a:lnTo>
                    <a:lnTo>
                      <a:pt x="72" y="72"/>
                    </a:lnTo>
                    <a:lnTo>
                      <a:pt x="64" y="66"/>
                    </a:lnTo>
                    <a:lnTo>
                      <a:pt x="52" y="50"/>
                    </a:lnTo>
                    <a:lnTo>
                      <a:pt x="38" y="46"/>
                    </a:lnTo>
                    <a:lnTo>
                      <a:pt x="40" y="54"/>
                    </a:lnTo>
                    <a:lnTo>
                      <a:pt x="46" y="70"/>
                    </a:lnTo>
                    <a:lnTo>
                      <a:pt x="46" y="72"/>
                    </a:lnTo>
                    <a:lnTo>
                      <a:pt x="46" y="74"/>
                    </a:lnTo>
                    <a:lnTo>
                      <a:pt x="44" y="82"/>
                    </a:lnTo>
                    <a:lnTo>
                      <a:pt x="28" y="88"/>
                    </a:lnTo>
                    <a:lnTo>
                      <a:pt x="24" y="90"/>
                    </a:lnTo>
                    <a:lnTo>
                      <a:pt x="22" y="94"/>
                    </a:lnTo>
                    <a:lnTo>
                      <a:pt x="22" y="102"/>
                    </a:lnTo>
                    <a:lnTo>
                      <a:pt x="24" y="116"/>
                    </a:lnTo>
                    <a:lnTo>
                      <a:pt x="20" y="124"/>
                    </a:lnTo>
                    <a:lnTo>
                      <a:pt x="18" y="126"/>
                    </a:lnTo>
                    <a:lnTo>
                      <a:pt x="16" y="126"/>
                    </a:lnTo>
                    <a:lnTo>
                      <a:pt x="0" y="122"/>
                    </a:lnTo>
                    <a:lnTo>
                      <a:pt x="2" y="126"/>
                    </a:lnTo>
                    <a:lnTo>
                      <a:pt x="8" y="130"/>
                    </a:lnTo>
                    <a:lnTo>
                      <a:pt x="18" y="144"/>
                    </a:lnTo>
                    <a:lnTo>
                      <a:pt x="28" y="160"/>
                    </a:lnTo>
                    <a:lnTo>
                      <a:pt x="28" y="162"/>
                    </a:lnTo>
                    <a:lnTo>
                      <a:pt x="36" y="162"/>
                    </a:lnTo>
                    <a:lnTo>
                      <a:pt x="42" y="160"/>
                    </a:lnTo>
                    <a:lnTo>
                      <a:pt x="48" y="162"/>
                    </a:lnTo>
                    <a:lnTo>
                      <a:pt x="54" y="164"/>
                    </a:lnTo>
                    <a:lnTo>
                      <a:pt x="60" y="166"/>
                    </a:lnTo>
                    <a:lnTo>
                      <a:pt x="70" y="178"/>
                    </a:lnTo>
                    <a:lnTo>
                      <a:pt x="68" y="200"/>
                    </a:lnTo>
                    <a:lnTo>
                      <a:pt x="72" y="204"/>
                    </a:lnTo>
                    <a:lnTo>
                      <a:pt x="72" y="210"/>
                    </a:lnTo>
                    <a:lnTo>
                      <a:pt x="68" y="214"/>
                    </a:lnTo>
                    <a:lnTo>
                      <a:pt x="60" y="218"/>
                    </a:lnTo>
                    <a:lnTo>
                      <a:pt x="56" y="218"/>
                    </a:lnTo>
                    <a:lnTo>
                      <a:pt x="54" y="220"/>
                    </a:lnTo>
                    <a:lnTo>
                      <a:pt x="52" y="224"/>
                    </a:lnTo>
                    <a:lnTo>
                      <a:pt x="50" y="230"/>
                    </a:lnTo>
                    <a:lnTo>
                      <a:pt x="44" y="244"/>
                    </a:lnTo>
                    <a:lnTo>
                      <a:pt x="52" y="254"/>
                    </a:lnTo>
                    <a:lnTo>
                      <a:pt x="74" y="258"/>
                    </a:lnTo>
                    <a:lnTo>
                      <a:pt x="76" y="258"/>
                    </a:lnTo>
                    <a:lnTo>
                      <a:pt x="86" y="268"/>
                    </a:lnTo>
                    <a:lnTo>
                      <a:pt x="72" y="288"/>
                    </a:lnTo>
                    <a:lnTo>
                      <a:pt x="102" y="352"/>
                    </a:lnTo>
                    <a:lnTo>
                      <a:pt x="104" y="354"/>
                    </a:lnTo>
                    <a:lnTo>
                      <a:pt x="98" y="358"/>
                    </a:lnTo>
                    <a:lnTo>
                      <a:pt x="100" y="364"/>
                    </a:lnTo>
                    <a:lnTo>
                      <a:pt x="156" y="330"/>
                    </a:lnTo>
                    <a:lnTo>
                      <a:pt x="146" y="346"/>
                    </a:lnTo>
                    <a:lnTo>
                      <a:pt x="138" y="362"/>
                    </a:lnTo>
                    <a:lnTo>
                      <a:pt x="134" y="374"/>
                    </a:lnTo>
                    <a:lnTo>
                      <a:pt x="140" y="372"/>
                    </a:lnTo>
                    <a:lnTo>
                      <a:pt x="146" y="366"/>
                    </a:lnTo>
                    <a:lnTo>
                      <a:pt x="152" y="360"/>
                    </a:lnTo>
                    <a:lnTo>
                      <a:pt x="156" y="350"/>
                    </a:lnTo>
                    <a:lnTo>
                      <a:pt x="158" y="350"/>
                    </a:lnTo>
                    <a:lnTo>
                      <a:pt x="172" y="342"/>
                    </a:lnTo>
                    <a:lnTo>
                      <a:pt x="174" y="340"/>
                    </a:lnTo>
                    <a:lnTo>
                      <a:pt x="196" y="358"/>
                    </a:lnTo>
                    <a:lnTo>
                      <a:pt x="220" y="360"/>
                    </a:lnTo>
                    <a:lnTo>
                      <a:pt x="232" y="368"/>
                    </a:lnTo>
                    <a:lnTo>
                      <a:pt x="260" y="342"/>
                    </a:lnTo>
                    <a:lnTo>
                      <a:pt x="264" y="336"/>
                    </a:lnTo>
                    <a:lnTo>
                      <a:pt x="268" y="326"/>
                    </a:lnTo>
                    <a:lnTo>
                      <a:pt x="272" y="320"/>
                    </a:lnTo>
                    <a:lnTo>
                      <a:pt x="270" y="312"/>
                    </a:lnTo>
                    <a:lnTo>
                      <a:pt x="260" y="296"/>
                    </a:lnTo>
                    <a:lnTo>
                      <a:pt x="254" y="286"/>
                    </a:lnTo>
                    <a:lnTo>
                      <a:pt x="288" y="298"/>
                    </a:lnTo>
                    <a:lnTo>
                      <a:pt x="300" y="292"/>
                    </a:lnTo>
                    <a:lnTo>
                      <a:pt x="288" y="270"/>
                    </a:lnTo>
                    <a:lnTo>
                      <a:pt x="288" y="268"/>
                    </a:lnTo>
                    <a:lnTo>
                      <a:pt x="306" y="246"/>
                    </a:lnTo>
                    <a:lnTo>
                      <a:pt x="298" y="234"/>
                    </a:lnTo>
                    <a:lnTo>
                      <a:pt x="290" y="226"/>
                    </a:lnTo>
                    <a:lnTo>
                      <a:pt x="284" y="222"/>
                    </a:lnTo>
                    <a:lnTo>
                      <a:pt x="282" y="222"/>
                    </a:lnTo>
                    <a:lnTo>
                      <a:pt x="272" y="232"/>
                    </a:lnTo>
                    <a:lnTo>
                      <a:pt x="272" y="230"/>
                    </a:lnTo>
                    <a:lnTo>
                      <a:pt x="270" y="230"/>
                    </a:lnTo>
                    <a:lnTo>
                      <a:pt x="256" y="226"/>
                    </a:lnTo>
                    <a:lnTo>
                      <a:pt x="252" y="214"/>
                    </a:lnTo>
                    <a:lnTo>
                      <a:pt x="244" y="210"/>
                    </a:lnTo>
                    <a:lnTo>
                      <a:pt x="236" y="204"/>
                    </a:lnTo>
                    <a:lnTo>
                      <a:pt x="226" y="198"/>
                    </a:lnTo>
                    <a:lnTo>
                      <a:pt x="218" y="192"/>
                    </a:lnTo>
                    <a:lnTo>
                      <a:pt x="216" y="190"/>
                    </a:lnTo>
                    <a:lnTo>
                      <a:pt x="216" y="186"/>
                    </a:lnTo>
                    <a:lnTo>
                      <a:pt x="214" y="184"/>
                    </a:lnTo>
                    <a:lnTo>
                      <a:pt x="216" y="180"/>
                    </a:lnTo>
                    <a:lnTo>
                      <a:pt x="220" y="170"/>
                    </a:lnTo>
                    <a:lnTo>
                      <a:pt x="230" y="152"/>
                    </a:lnTo>
                    <a:lnTo>
                      <a:pt x="232" y="144"/>
                    </a:lnTo>
                    <a:lnTo>
                      <a:pt x="234" y="138"/>
                    </a:lnTo>
                    <a:lnTo>
                      <a:pt x="234" y="128"/>
                    </a:lnTo>
                    <a:lnTo>
                      <a:pt x="240" y="128"/>
                    </a:lnTo>
                    <a:lnTo>
                      <a:pt x="258" y="130"/>
                    </a:lnTo>
                    <a:lnTo>
                      <a:pt x="260" y="122"/>
                    </a:lnTo>
                    <a:lnTo>
                      <a:pt x="264" y="106"/>
                    </a:lnTo>
                    <a:lnTo>
                      <a:pt x="260" y="104"/>
                    </a:lnTo>
                    <a:lnTo>
                      <a:pt x="242" y="116"/>
                    </a:lnTo>
                    <a:lnTo>
                      <a:pt x="230" y="122"/>
                    </a:lnTo>
                    <a:lnTo>
                      <a:pt x="222" y="122"/>
                    </a:lnTo>
                    <a:lnTo>
                      <a:pt x="214" y="120"/>
                    </a:lnTo>
                    <a:lnTo>
                      <a:pt x="204" y="114"/>
                    </a:lnTo>
                    <a:lnTo>
                      <a:pt x="194" y="108"/>
                    </a:lnTo>
                    <a:lnTo>
                      <a:pt x="194" y="106"/>
                    </a:lnTo>
                    <a:lnTo>
                      <a:pt x="192" y="10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30"/>
              <p:cNvSpPr/>
              <p:nvPr/>
            </p:nvSpPr>
            <p:spPr>
              <a:xfrm>
                <a:off x="5451120" y="3437280"/>
                <a:ext cx="27720" cy="48600"/>
              </a:xfrm>
              <a:custGeom>
                <a:avLst/>
                <a:gdLst/>
                <a:ahLst/>
                <a:rect l="l" t="t" r="r" b="b"/>
                <a:pathLst>
                  <a:path w="80" h="116">
                    <a:moveTo>
                      <a:pt x="46" y="2"/>
                    </a:moveTo>
                    <a:lnTo>
                      <a:pt x="44" y="0"/>
                    </a:lnTo>
                    <a:lnTo>
                      <a:pt x="40" y="2"/>
                    </a:lnTo>
                    <a:lnTo>
                      <a:pt x="38" y="4"/>
                    </a:lnTo>
                    <a:lnTo>
                      <a:pt x="32" y="14"/>
                    </a:lnTo>
                    <a:lnTo>
                      <a:pt x="28" y="12"/>
                    </a:lnTo>
                    <a:lnTo>
                      <a:pt x="28" y="14"/>
                    </a:lnTo>
                    <a:lnTo>
                      <a:pt x="22" y="20"/>
                    </a:lnTo>
                    <a:lnTo>
                      <a:pt x="18" y="22"/>
                    </a:lnTo>
                    <a:lnTo>
                      <a:pt x="10" y="26"/>
                    </a:lnTo>
                    <a:lnTo>
                      <a:pt x="8" y="32"/>
                    </a:lnTo>
                    <a:lnTo>
                      <a:pt x="8" y="44"/>
                    </a:lnTo>
                    <a:lnTo>
                      <a:pt x="6" y="48"/>
                    </a:lnTo>
                    <a:lnTo>
                      <a:pt x="4" y="50"/>
                    </a:lnTo>
                    <a:lnTo>
                      <a:pt x="0" y="60"/>
                    </a:lnTo>
                    <a:lnTo>
                      <a:pt x="0" y="66"/>
                    </a:lnTo>
                    <a:lnTo>
                      <a:pt x="0" y="78"/>
                    </a:lnTo>
                    <a:lnTo>
                      <a:pt x="4" y="102"/>
                    </a:lnTo>
                    <a:lnTo>
                      <a:pt x="8" y="106"/>
                    </a:lnTo>
                    <a:lnTo>
                      <a:pt x="18" y="112"/>
                    </a:lnTo>
                    <a:lnTo>
                      <a:pt x="36" y="116"/>
                    </a:lnTo>
                    <a:lnTo>
                      <a:pt x="44" y="114"/>
                    </a:lnTo>
                    <a:lnTo>
                      <a:pt x="54" y="110"/>
                    </a:lnTo>
                    <a:lnTo>
                      <a:pt x="50" y="100"/>
                    </a:lnTo>
                    <a:lnTo>
                      <a:pt x="50" y="98"/>
                    </a:lnTo>
                    <a:lnTo>
                      <a:pt x="52" y="90"/>
                    </a:lnTo>
                    <a:lnTo>
                      <a:pt x="60" y="74"/>
                    </a:lnTo>
                    <a:lnTo>
                      <a:pt x="76" y="74"/>
                    </a:lnTo>
                    <a:lnTo>
                      <a:pt x="80" y="74"/>
                    </a:lnTo>
                    <a:lnTo>
                      <a:pt x="74" y="64"/>
                    </a:lnTo>
                    <a:lnTo>
                      <a:pt x="64" y="48"/>
                    </a:lnTo>
                    <a:lnTo>
                      <a:pt x="58" y="40"/>
                    </a:lnTo>
                    <a:lnTo>
                      <a:pt x="54" y="30"/>
                    </a:lnTo>
                    <a:lnTo>
                      <a:pt x="52" y="18"/>
                    </a:lnTo>
                    <a:lnTo>
                      <a:pt x="48" y="8"/>
                    </a:lnTo>
                    <a:lnTo>
                      <a:pt x="46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31"/>
              <p:cNvSpPr/>
              <p:nvPr/>
            </p:nvSpPr>
            <p:spPr>
              <a:xfrm>
                <a:off x="5423400" y="3415320"/>
                <a:ext cx="36720" cy="47880"/>
              </a:xfrm>
              <a:custGeom>
                <a:avLst/>
                <a:gdLst/>
                <a:ahLst/>
                <a:rect l="l" t="t" r="r" b="b"/>
                <a:pathLst>
                  <a:path w="106" h="114">
                    <a:moveTo>
                      <a:pt x="52" y="24"/>
                    </a:moveTo>
                    <a:lnTo>
                      <a:pt x="52" y="26"/>
                    </a:lnTo>
                    <a:lnTo>
                      <a:pt x="48" y="26"/>
                    </a:lnTo>
                    <a:lnTo>
                      <a:pt x="38" y="24"/>
                    </a:lnTo>
                    <a:lnTo>
                      <a:pt x="38" y="28"/>
                    </a:lnTo>
                    <a:lnTo>
                      <a:pt x="38" y="30"/>
                    </a:lnTo>
                    <a:lnTo>
                      <a:pt x="36" y="30"/>
                    </a:lnTo>
                    <a:lnTo>
                      <a:pt x="18" y="38"/>
                    </a:lnTo>
                    <a:lnTo>
                      <a:pt x="18" y="40"/>
                    </a:lnTo>
                    <a:lnTo>
                      <a:pt x="16" y="44"/>
                    </a:lnTo>
                    <a:lnTo>
                      <a:pt x="18" y="48"/>
                    </a:lnTo>
                    <a:lnTo>
                      <a:pt x="24" y="56"/>
                    </a:lnTo>
                    <a:lnTo>
                      <a:pt x="24" y="58"/>
                    </a:lnTo>
                    <a:lnTo>
                      <a:pt x="24" y="60"/>
                    </a:lnTo>
                    <a:lnTo>
                      <a:pt x="14" y="72"/>
                    </a:lnTo>
                    <a:lnTo>
                      <a:pt x="4" y="82"/>
                    </a:lnTo>
                    <a:lnTo>
                      <a:pt x="0" y="86"/>
                    </a:lnTo>
                    <a:lnTo>
                      <a:pt x="0" y="90"/>
                    </a:lnTo>
                    <a:lnTo>
                      <a:pt x="4" y="96"/>
                    </a:lnTo>
                    <a:lnTo>
                      <a:pt x="14" y="100"/>
                    </a:lnTo>
                    <a:lnTo>
                      <a:pt x="20" y="100"/>
                    </a:lnTo>
                    <a:lnTo>
                      <a:pt x="32" y="102"/>
                    </a:lnTo>
                    <a:lnTo>
                      <a:pt x="36" y="102"/>
                    </a:lnTo>
                    <a:lnTo>
                      <a:pt x="40" y="106"/>
                    </a:lnTo>
                    <a:lnTo>
                      <a:pt x="48" y="110"/>
                    </a:lnTo>
                    <a:lnTo>
                      <a:pt x="56" y="114"/>
                    </a:lnTo>
                    <a:lnTo>
                      <a:pt x="62" y="114"/>
                    </a:lnTo>
                    <a:lnTo>
                      <a:pt x="66" y="112"/>
                    </a:lnTo>
                    <a:lnTo>
                      <a:pt x="72" y="106"/>
                    </a:lnTo>
                    <a:lnTo>
                      <a:pt x="78" y="98"/>
                    </a:lnTo>
                    <a:lnTo>
                      <a:pt x="84" y="84"/>
                    </a:lnTo>
                    <a:lnTo>
                      <a:pt x="80" y="66"/>
                    </a:lnTo>
                    <a:lnTo>
                      <a:pt x="86" y="68"/>
                    </a:lnTo>
                    <a:lnTo>
                      <a:pt x="96" y="68"/>
                    </a:lnTo>
                    <a:lnTo>
                      <a:pt x="100" y="66"/>
                    </a:lnTo>
                    <a:lnTo>
                      <a:pt x="102" y="62"/>
                    </a:lnTo>
                    <a:lnTo>
                      <a:pt x="94" y="38"/>
                    </a:lnTo>
                    <a:lnTo>
                      <a:pt x="96" y="30"/>
                    </a:lnTo>
                    <a:lnTo>
                      <a:pt x="102" y="26"/>
                    </a:lnTo>
                    <a:lnTo>
                      <a:pt x="106" y="22"/>
                    </a:lnTo>
                    <a:lnTo>
                      <a:pt x="104" y="18"/>
                    </a:lnTo>
                    <a:lnTo>
                      <a:pt x="86" y="18"/>
                    </a:lnTo>
                    <a:lnTo>
                      <a:pt x="68" y="6"/>
                    </a:lnTo>
                    <a:lnTo>
                      <a:pt x="62" y="2"/>
                    </a:lnTo>
                    <a:lnTo>
                      <a:pt x="58" y="0"/>
                    </a:lnTo>
                    <a:lnTo>
                      <a:pt x="48" y="2"/>
                    </a:lnTo>
                    <a:lnTo>
                      <a:pt x="44" y="2"/>
                    </a:lnTo>
                    <a:lnTo>
                      <a:pt x="44" y="8"/>
                    </a:lnTo>
                    <a:lnTo>
                      <a:pt x="50" y="10"/>
                    </a:lnTo>
                    <a:lnTo>
                      <a:pt x="54" y="16"/>
                    </a:lnTo>
                    <a:lnTo>
                      <a:pt x="54" y="20"/>
                    </a:lnTo>
                    <a:lnTo>
                      <a:pt x="52" y="2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32"/>
              <p:cNvSpPr/>
              <p:nvPr/>
            </p:nvSpPr>
            <p:spPr>
              <a:xfrm>
                <a:off x="5486040" y="3319920"/>
                <a:ext cx="130680" cy="150480"/>
              </a:xfrm>
              <a:custGeom>
                <a:avLst/>
                <a:gdLst/>
                <a:ahLst/>
                <a:rect l="l" t="t" r="r" b="b"/>
                <a:pathLst>
                  <a:path w="376" h="358">
                    <a:moveTo>
                      <a:pt x="172" y="46"/>
                    </a:moveTo>
                    <a:lnTo>
                      <a:pt x="162" y="60"/>
                    </a:lnTo>
                    <a:lnTo>
                      <a:pt x="160" y="64"/>
                    </a:lnTo>
                    <a:lnTo>
                      <a:pt x="160" y="74"/>
                    </a:lnTo>
                    <a:lnTo>
                      <a:pt x="160" y="80"/>
                    </a:lnTo>
                    <a:lnTo>
                      <a:pt x="142" y="80"/>
                    </a:lnTo>
                    <a:lnTo>
                      <a:pt x="140" y="80"/>
                    </a:lnTo>
                    <a:lnTo>
                      <a:pt x="128" y="76"/>
                    </a:lnTo>
                    <a:lnTo>
                      <a:pt x="116" y="92"/>
                    </a:lnTo>
                    <a:lnTo>
                      <a:pt x="102" y="100"/>
                    </a:lnTo>
                    <a:lnTo>
                      <a:pt x="92" y="112"/>
                    </a:lnTo>
                    <a:lnTo>
                      <a:pt x="90" y="116"/>
                    </a:lnTo>
                    <a:lnTo>
                      <a:pt x="70" y="138"/>
                    </a:lnTo>
                    <a:lnTo>
                      <a:pt x="70" y="140"/>
                    </a:lnTo>
                    <a:lnTo>
                      <a:pt x="68" y="140"/>
                    </a:lnTo>
                    <a:lnTo>
                      <a:pt x="54" y="148"/>
                    </a:lnTo>
                    <a:lnTo>
                      <a:pt x="42" y="140"/>
                    </a:lnTo>
                    <a:lnTo>
                      <a:pt x="42" y="138"/>
                    </a:lnTo>
                    <a:lnTo>
                      <a:pt x="30" y="126"/>
                    </a:lnTo>
                    <a:lnTo>
                      <a:pt x="24" y="122"/>
                    </a:lnTo>
                    <a:lnTo>
                      <a:pt x="28" y="156"/>
                    </a:lnTo>
                    <a:lnTo>
                      <a:pt x="34" y="172"/>
                    </a:lnTo>
                    <a:lnTo>
                      <a:pt x="22" y="184"/>
                    </a:lnTo>
                    <a:lnTo>
                      <a:pt x="4" y="208"/>
                    </a:lnTo>
                    <a:lnTo>
                      <a:pt x="4" y="220"/>
                    </a:lnTo>
                    <a:lnTo>
                      <a:pt x="0" y="226"/>
                    </a:lnTo>
                    <a:lnTo>
                      <a:pt x="2" y="232"/>
                    </a:lnTo>
                    <a:lnTo>
                      <a:pt x="8" y="232"/>
                    </a:lnTo>
                    <a:lnTo>
                      <a:pt x="32" y="238"/>
                    </a:lnTo>
                    <a:lnTo>
                      <a:pt x="34" y="238"/>
                    </a:lnTo>
                    <a:lnTo>
                      <a:pt x="34" y="240"/>
                    </a:lnTo>
                    <a:lnTo>
                      <a:pt x="40" y="244"/>
                    </a:lnTo>
                    <a:lnTo>
                      <a:pt x="46" y="248"/>
                    </a:lnTo>
                    <a:lnTo>
                      <a:pt x="48" y="248"/>
                    </a:lnTo>
                    <a:lnTo>
                      <a:pt x="50" y="252"/>
                    </a:lnTo>
                    <a:lnTo>
                      <a:pt x="52" y="258"/>
                    </a:lnTo>
                    <a:lnTo>
                      <a:pt x="54" y="264"/>
                    </a:lnTo>
                    <a:lnTo>
                      <a:pt x="78" y="272"/>
                    </a:lnTo>
                    <a:lnTo>
                      <a:pt x="86" y="270"/>
                    </a:lnTo>
                    <a:lnTo>
                      <a:pt x="92" y="260"/>
                    </a:lnTo>
                    <a:lnTo>
                      <a:pt x="112" y="224"/>
                    </a:lnTo>
                    <a:lnTo>
                      <a:pt x="122" y="212"/>
                    </a:lnTo>
                    <a:lnTo>
                      <a:pt x="122" y="210"/>
                    </a:lnTo>
                    <a:lnTo>
                      <a:pt x="138" y="204"/>
                    </a:lnTo>
                    <a:lnTo>
                      <a:pt x="148" y="202"/>
                    </a:lnTo>
                    <a:lnTo>
                      <a:pt x="154" y="196"/>
                    </a:lnTo>
                    <a:lnTo>
                      <a:pt x="160" y="192"/>
                    </a:lnTo>
                    <a:lnTo>
                      <a:pt x="164" y="194"/>
                    </a:lnTo>
                    <a:lnTo>
                      <a:pt x="172" y="198"/>
                    </a:lnTo>
                    <a:lnTo>
                      <a:pt x="174" y="198"/>
                    </a:lnTo>
                    <a:lnTo>
                      <a:pt x="174" y="200"/>
                    </a:lnTo>
                    <a:lnTo>
                      <a:pt x="188" y="220"/>
                    </a:lnTo>
                    <a:lnTo>
                      <a:pt x="188" y="222"/>
                    </a:lnTo>
                    <a:lnTo>
                      <a:pt x="190" y="238"/>
                    </a:lnTo>
                    <a:lnTo>
                      <a:pt x="188" y="254"/>
                    </a:lnTo>
                    <a:lnTo>
                      <a:pt x="184" y="268"/>
                    </a:lnTo>
                    <a:lnTo>
                      <a:pt x="184" y="270"/>
                    </a:lnTo>
                    <a:lnTo>
                      <a:pt x="174" y="284"/>
                    </a:lnTo>
                    <a:lnTo>
                      <a:pt x="168" y="294"/>
                    </a:lnTo>
                    <a:lnTo>
                      <a:pt x="170" y="312"/>
                    </a:lnTo>
                    <a:lnTo>
                      <a:pt x="172" y="312"/>
                    </a:lnTo>
                    <a:lnTo>
                      <a:pt x="176" y="308"/>
                    </a:lnTo>
                    <a:lnTo>
                      <a:pt x="184" y="304"/>
                    </a:lnTo>
                    <a:lnTo>
                      <a:pt x="184" y="302"/>
                    </a:lnTo>
                    <a:lnTo>
                      <a:pt x="186" y="300"/>
                    </a:lnTo>
                    <a:lnTo>
                      <a:pt x="194" y="308"/>
                    </a:lnTo>
                    <a:lnTo>
                      <a:pt x="194" y="320"/>
                    </a:lnTo>
                    <a:lnTo>
                      <a:pt x="192" y="320"/>
                    </a:lnTo>
                    <a:lnTo>
                      <a:pt x="186" y="324"/>
                    </a:lnTo>
                    <a:lnTo>
                      <a:pt x="184" y="328"/>
                    </a:lnTo>
                    <a:lnTo>
                      <a:pt x="184" y="334"/>
                    </a:lnTo>
                    <a:lnTo>
                      <a:pt x="182" y="336"/>
                    </a:lnTo>
                    <a:lnTo>
                      <a:pt x="178" y="344"/>
                    </a:lnTo>
                    <a:lnTo>
                      <a:pt x="176" y="344"/>
                    </a:lnTo>
                    <a:lnTo>
                      <a:pt x="168" y="346"/>
                    </a:lnTo>
                    <a:lnTo>
                      <a:pt x="162" y="348"/>
                    </a:lnTo>
                    <a:lnTo>
                      <a:pt x="158" y="356"/>
                    </a:lnTo>
                    <a:lnTo>
                      <a:pt x="158" y="358"/>
                    </a:lnTo>
                    <a:lnTo>
                      <a:pt x="184" y="354"/>
                    </a:lnTo>
                    <a:lnTo>
                      <a:pt x="190" y="350"/>
                    </a:lnTo>
                    <a:lnTo>
                      <a:pt x="198" y="328"/>
                    </a:lnTo>
                    <a:lnTo>
                      <a:pt x="258" y="266"/>
                    </a:lnTo>
                    <a:lnTo>
                      <a:pt x="260" y="266"/>
                    </a:lnTo>
                    <a:lnTo>
                      <a:pt x="272" y="260"/>
                    </a:lnTo>
                    <a:lnTo>
                      <a:pt x="284" y="260"/>
                    </a:lnTo>
                    <a:lnTo>
                      <a:pt x="294" y="258"/>
                    </a:lnTo>
                    <a:lnTo>
                      <a:pt x="304" y="252"/>
                    </a:lnTo>
                    <a:lnTo>
                      <a:pt x="312" y="244"/>
                    </a:lnTo>
                    <a:lnTo>
                      <a:pt x="326" y="208"/>
                    </a:lnTo>
                    <a:lnTo>
                      <a:pt x="376" y="156"/>
                    </a:lnTo>
                    <a:lnTo>
                      <a:pt x="372" y="128"/>
                    </a:lnTo>
                    <a:lnTo>
                      <a:pt x="368" y="126"/>
                    </a:lnTo>
                    <a:lnTo>
                      <a:pt x="364" y="122"/>
                    </a:lnTo>
                    <a:lnTo>
                      <a:pt x="364" y="120"/>
                    </a:lnTo>
                    <a:lnTo>
                      <a:pt x="364" y="122"/>
                    </a:lnTo>
                    <a:lnTo>
                      <a:pt x="356" y="122"/>
                    </a:lnTo>
                    <a:lnTo>
                      <a:pt x="350" y="120"/>
                    </a:lnTo>
                    <a:lnTo>
                      <a:pt x="346" y="116"/>
                    </a:lnTo>
                    <a:lnTo>
                      <a:pt x="344" y="110"/>
                    </a:lnTo>
                    <a:lnTo>
                      <a:pt x="342" y="108"/>
                    </a:lnTo>
                    <a:lnTo>
                      <a:pt x="342" y="66"/>
                    </a:lnTo>
                    <a:lnTo>
                      <a:pt x="336" y="62"/>
                    </a:lnTo>
                    <a:lnTo>
                      <a:pt x="328" y="56"/>
                    </a:lnTo>
                    <a:lnTo>
                      <a:pt x="316" y="44"/>
                    </a:lnTo>
                    <a:lnTo>
                      <a:pt x="308" y="30"/>
                    </a:lnTo>
                    <a:lnTo>
                      <a:pt x="306" y="24"/>
                    </a:lnTo>
                    <a:lnTo>
                      <a:pt x="306" y="16"/>
                    </a:lnTo>
                    <a:lnTo>
                      <a:pt x="308" y="12"/>
                    </a:lnTo>
                    <a:lnTo>
                      <a:pt x="302" y="4"/>
                    </a:lnTo>
                    <a:lnTo>
                      <a:pt x="300" y="10"/>
                    </a:lnTo>
                    <a:lnTo>
                      <a:pt x="294" y="24"/>
                    </a:lnTo>
                    <a:lnTo>
                      <a:pt x="292" y="24"/>
                    </a:lnTo>
                    <a:lnTo>
                      <a:pt x="282" y="24"/>
                    </a:lnTo>
                    <a:lnTo>
                      <a:pt x="274" y="20"/>
                    </a:lnTo>
                    <a:lnTo>
                      <a:pt x="270" y="16"/>
                    </a:lnTo>
                    <a:lnTo>
                      <a:pt x="268" y="10"/>
                    </a:lnTo>
                    <a:lnTo>
                      <a:pt x="268" y="8"/>
                    </a:lnTo>
                    <a:lnTo>
                      <a:pt x="264" y="8"/>
                    </a:lnTo>
                    <a:lnTo>
                      <a:pt x="248" y="12"/>
                    </a:lnTo>
                    <a:lnTo>
                      <a:pt x="236" y="0"/>
                    </a:lnTo>
                    <a:lnTo>
                      <a:pt x="232" y="0"/>
                    </a:lnTo>
                    <a:lnTo>
                      <a:pt x="228" y="4"/>
                    </a:lnTo>
                    <a:lnTo>
                      <a:pt x="234" y="12"/>
                    </a:lnTo>
                    <a:lnTo>
                      <a:pt x="236" y="14"/>
                    </a:lnTo>
                    <a:lnTo>
                      <a:pt x="228" y="30"/>
                    </a:lnTo>
                    <a:lnTo>
                      <a:pt x="226" y="30"/>
                    </a:lnTo>
                    <a:lnTo>
                      <a:pt x="226" y="32"/>
                    </a:lnTo>
                    <a:lnTo>
                      <a:pt x="212" y="48"/>
                    </a:lnTo>
                    <a:lnTo>
                      <a:pt x="210" y="48"/>
                    </a:lnTo>
                    <a:lnTo>
                      <a:pt x="208" y="48"/>
                    </a:lnTo>
                    <a:lnTo>
                      <a:pt x="186" y="50"/>
                    </a:lnTo>
                    <a:lnTo>
                      <a:pt x="172" y="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33"/>
              <p:cNvSpPr/>
              <p:nvPr/>
            </p:nvSpPr>
            <p:spPr>
              <a:xfrm>
                <a:off x="5515200" y="3229200"/>
                <a:ext cx="186480" cy="153000"/>
              </a:xfrm>
              <a:custGeom>
                <a:avLst/>
                <a:gdLst/>
                <a:ahLst/>
                <a:rect l="l" t="t" r="r" b="b"/>
                <a:pathLst>
                  <a:path w="536" h="364">
                    <a:moveTo>
                      <a:pt x="104" y="18"/>
                    </a:moveTo>
                    <a:lnTo>
                      <a:pt x="102" y="0"/>
                    </a:lnTo>
                    <a:lnTo>
                      <a:pt x="94" y="6"/>
                    </a:lnTo>
                    <a:lnTo>
                      <a:pt x="92" y="6"/>
                    </a:lnTo>
                    <a:lnTo>
                      <a:pt x="74" y="12"/>
                    </a:lnTo>
                    <a:lnTo>
                      <a:pt x="72" y="12"/>
                    </a:lnTo>
                    <a:lnTo>
                      <a:pt x="70" y="10"/>
                    </a:lnTo>
                    <a:lnTo>
                      <a:pt x="70" y="20"/>
                    </a:lnTo>
                    <a:lnTo>
                      <a:pt x="68" y="20"/>
                    </a:lnTo>
                    <a:lnTo>
                      <a:pt x="60" y="34"/>
                    </a:lnTo>
                    <a:lnTo>
                      <a:pt x="58" y="34"/>
                    </a:lnTo>
                    <a:lnTo>
                      <a:pt x="58" y="36"/>
                    </a:lnTo>
                    <a:lnTo>
                      <a:pt x="44" y="48"/>
                    </a:lnTo>
                    <a:lnTo>
                      <a:pt x="42" y="48"/>
                    </a:lnTo>
                    <a:lnTo>
                      <a:pt x="40" y="48"/>
                    </a:lnTo>
                    <a:lnTo>
                      <a:pt x="28" y="40"/>
                    </a:lnTo>
                    <a:lnTo>
                      <a:pt x="22" y="34"/>
                    </a:lnTo>
                    <a:lnTo>
                      <a:pt x="18" y="32"/>
                    </a:lnTo>
                    <a:lnTo>
                      <a:pt x="8" y="34"/>
                    </a:lnTo>
                    <a:lnTo>
                      <a:pt x="0" y="40"/>
                    </a:lnTo>
                    <a:lnTo>
                      <a:pt x="18" y="54"/>
                    </a:lnTo>
                    <a:lnTo>
                      <a:pt x="32" y="60"/>
                    </a:lnTo>
                    <a:lnTo>
                      <a:pt x="34" y="62"/>
                    </a:lnTo>
                    <a:lnTo>
                      <a:pt x="34" y="64"/>
                    </a:lnTo>
                    <a:lnTo>
                      <a:pt x="36" y="80"/>
                    </a:lnTo>
                    <a:lnTo>
                      <a:pt x="36" y="104"/>
                    </a:lnTo>
                    <a:lnTo>
                      <a:pt x="40" y="118"/>
                    </a:lnTo>
                    <a:lnTo>
                      <a:pt x="50" y="140"/>
                    </a:lnTo>
                    <a:lnTo>
                      <a:pt x="60" y="152"/>
                    </a:lnTo>
                    <a:lnTo>
                      <a:pt x="70" y="144"/>
                    </a:lnTo>
                    <a:lnTo>
                      <a:pt x="76" y="136"/>
                    </a:lnTo>
                    <a:lnTo>
                      <a:pt x="88" y="122"/>
                    </a:lnTo>
                    <a:lnTo>
                      <a:pt x="98" y="132"/>
                    </a:lnTo>
                    <a:lnTo>
                      <a:pt x="108" y="152"/>
                    </a:lnTo>
                    <a:lnTo>
                      <a:pt x="120" y="156"/>
                    </a:lnTo>
                    <a:lnTo>
                      <a:pt x="126" y="176"/>
                    </a:lnTo>
                    <a:lnTo>
                      <a:pt x="124" y="194"/>
                    </a:lnTo>
                    <a:lnTo>
                      <a:pt x="124" y="196"/>
                    </a:lnTo>
                    <a:lnTo>
                      <a:pt x="120" y="212"/>
                    </a:lnTo>
                    <a:lnTo>
                      <a:pt x="128" y="220"/>
                    </a:lnTo>
                    <a:lnTo>
                      <a:pt x="138" y="214"/>
                    </a:lnTo>
                    <a:lnTo>
                      <a:pt x="148" y="204"/>
                    </a:lnTo>
                    <a:lnTo>
                      <a:pt x="150" y="206"/>
                    </a:lnTo>
                    <a:lnTo>
                      <a:pt x="158" y="208"/>
                    </a:lnTo>
                    <a:lnTo>
                      <a:pt x="168" y="218"/>
                    </a:lnTo>
                    <a:lnTo>
                      <a:pt x="178" y="216"/>
                    </a:lnTo>
                    <a:lnTo>
                      <a:pt x="184" y="214"/>
                    </a:lnTo>
                    <a:lnTo>
                      <a:pt x="188" y="216"/>
                    </a:lnTo>
                    <a:lnTo>
                      <a:pt x="190" y="218"/>
                    </a:lnTo>
                    <a:lnTo>
                      <a:pt x="192" y="220"/>
                    </a:lnTo>
                    <a:lnTo>
                      <a:pt x="192" y="228"/>
                    </a:lnTo>
                    <a:lnTo>
                      <a:pt x="194" y="228"/>
                    </a:lnTo>
                    <a:lnTo>
                      <a:pt x="204" y="232"/>
                    </a:lnTo>
                    <a:lnTo>
                      <a:pt x="210" y="222"/>
                    </a:lnTo>
                    <a:lnTo>
                      <a:pt x="210" y="218"/>
                    </a:lnTo>
                    <a:lnTo>
                      <a:pt x="210" y="214"/>
                    </a:lnTo>
                    <a:lnTo>
                      <a:pt x="212" y="210"/>
                    </a:lnTo>
                    <a:lnTo>
                      <a:pt x="220" y="212"/>
                    </a:lnTo>
                    <a:lnTo>
                      <a:pt x="226" y="214"/>
                    </a:lnTo>
                    <a:lnTo>
                      <a:pt x="230" y="218"/>
                    </a:lnTo>
                    <a:lnTo>
                      <a:pt x="232" y="222"/>
                    </a:lnTo>
                    <a:lnTo>
                      <a:pt x="232" y="228"/>
                    </a:lnTo>
                    <a:lnTo>
                      <a:pt x="232" y="232"/>
                    </a:lnTo>
                    <a:lnTo>
                      <a:pt x="232" y="242"/>
                    </a:lnTo>
                    <a:lnTo>
                      <a:pt x="240" y="256"/>
                    </a:lnTo>
                    <a:lnTo>
                      <a:pt x="250" y="266"/>
                    </a:lnTo>
                    <a:lnTo>
                      <a:pt x="256" y="272"/>
                    </a:lnTo>
                    <a:lnTo>
                      <a:pt x="262" y="274"/>
                    </a:lnTo>
                    <a:lnTo>
                      <a:pt x="264" y="274"/>
                    </a:lnTo>
                    <a:lnTo>
                      <a:pt x="266" y="278"/>
                    </a:lnTo>
                    <a:lnTo>
                      <a:pt x="268" y="288"/>
                    </a:lnTo>
                    <a:lnTo>
                      <a:pt x="268" y="324"/>
                    </a:lnTo>
                    <a:lnTo>
                      <a:pt x="270" y="328"/>
                    </a:lnTo>
                    <a:lnTo>
                      <a:pt x="274" y="330"/>
                    </a:lnTo>
                    <a:lnTo>
                      <a:pt x="276" y="330"/>
                    </a:lnTo>
                    <a:lnTo>
                      <a:pt x="282" y="330"/>
                    </a:lnTo>
                    <a:lnTo>
                      <a:pt x="288" y="332"/>
                    </a:lnTo>
                    <a:lnTo>
                      <a:pt x="290" y="334"/>
                    </a:lnTo>
                    <a:lnTo>
                      <a:pt x="294" y="338"/>
                    </a:lnTo>
                    <a:lnTo>
                      <a:pt x="298" y="344"/>
                    </a:lnTo>
                    <a:lnTo>
                      <a:pt x="300" y="364"/>
                    </a:lnTo>
                    <a:lnTo>
                      <a:pt x="318" y="328"/>
                    </a:lnTo>
                    <a:lnTo>
                      <a:pt x="322" y="314"/>
                    </a:lnTo>
                    <a:lnTo>
                      <a:pt x="326" y="304"/>
                    </a:lnTo>
                    <a:lnTo>
                      <a:pt x="332" y="296"/>
                    </a:lnTo>
                    <a:lnTo>
                      <a:pt x="338" y="294"/>
                    </a:lnTo>
                    <a:lnTo>
                      <a:pt x="344" y="294"/>
                    </a:lnTo>
                    <a:lnTo>
                      <a:pt x="352" y="294"/>
                    </a:lnTo>
                    <a:lnTo>
                      <a:pt x="372" y="304"/>
                    </a:lnTo>
                    <a:lnTo>
                      <a:pt x="424" y="308"/>
                    </a:lnTo>
                    <a:lnTo>
                      <a:pt x="424" y="296"/>
                    </a:lnTo>
                    <a:lnTo>
                      <a:pt x="400" y="272"/>
                    </a:lnTo>
                    <a:lnTo>
                      <a:pt x="388" y="264"/>
                    </a:lnTo>
                    <a:lnTo>
                      <a:pt x="386" y="262"/>
                    </a:lnTo>
                    <a:lnTo>
                      <a:pt x="386" y="258"/>
                    </a:lnTo>
                    <a:lnTo>
                      <a:pt x="404" y="260"/>
                    </a:lnTo>
                    <a:lnTo>
                      <a:pt x="412" y="260"/>
                    </a:lnTo>
                    <a:lnTo>
                      <a:pt x="418" y="260"/>
                    </a:lnTo>
                    <a:lnTo>
                      <a:pt x="424" y="260"/>
                    </a:lnTo>
                    <a:lnTo>
                      <a:pt x="430" y="256"/>
                    </a:lnTo>
                    <a:lnTo>
                      <a:pt x="436" y="252"/>
                    </a:lnTo>
                    <a:lnTo>
                      <a:pt x="442" y="246"/>
                    </a:lnTo>
                    <a:lnTo>
                      <a:pt x="452" y="228"/>
                    </a:lnTo>
                    <a:lnTo>
                      <a:pt x="454" y="228"/>
                    </a:lnTo>
                    <a:lnTo>
                      <a:pt x="472" y="212"/>
                    </a:lnTo>
                    <a:lnTo>
                      <a:pt x="474" y="174"/>
                    </a:lnTo>
                    <a:lnTo>
                      <a:pt x="474" y="170"/>
                    </a:lnTo>
                    <a:lnTo>
                      <a:pt x="476" y="170"/>
                    </a:lnTo>
                    <a:lnTo>
                      <a:pt x="478" y="170"/>
                    </a:lnTo>
                    <a:lnTo>
                      <a:pt x="492" y="168"/>
                    </a:lnTo>
                    <a:lnTo>
                      <a:pt x="494" y="168"/>
                    </a:lnTo>
                    <a:lnTo>
                      <a:pt x="496" y="168"/>
                    </a:lnTo>
                    <a:lnTo>
                      <a:pt x="524" y="198"/>
                    </a:lnTo>
                    <a:lnTo>
                      <a:pt x="532" y="196"/>
                    </a:lnTo>
                    <a:lnTo>
                      <a:pt x="532" y="190"/>
                    </a:lnTo>
                    <a:lnTo>
                      <a:pt x="518" y="176"/>
                    </a:lnTo>
                    <a:lnTo>
                      <a:pt x="516" y="174"/>
                    </a:lnTo>
                    <a:lnTo>
                      <a:pt x="514" y="172"/>
                    </a:lnTo>
                    <a:lnTo>
                      <a:pt x="536" y="158"/>
                    </a:lnTo>
                    <a:lnTo>
                      <a:pt x="536" y="124"/>
                    </a:lnTo>
                    <a:lnTo>
                      <a:pt x="526" y="126"/>
                    </a:lnTo>
                    <a:lnTo>
                      <a:pt x="524" y="126"/>
                    </a:lnTo>
                    <a:lnTo>
                      <a:pt x="512" y="120"/>
                    </a:lnTo>
                    <a:lnTo>
                      <a:pt x="504" y="118"/>
                    </a:lnTo>
                    <a:lnTo>
                      <a:pt x="492" y="110"/>
                    </a:lnTo>
                    <a:lnTo>
                      <a:pt x="486" y="106"/>
                    </a:lnTo>
                    <a:lnTo>
                      <a:pt x="484" y="102"/>
                    </a:lnTo>
                    <a:lnTo>
                      <a:pt x="484" y="104"/>
                    </a:lnTo>
                    <a:lnTo>
                      <a:pt x="482" y="108"/>
                    </a:lnTo>
                    <a:lnTo>
                      <a:pt x="480" y="108"/>
                    </a:lnTo>
                    <a:lnTo>
                      <a:pt x="476" y="110"/>
                    </a:lnTo>
                    <a:lnTo>
                      <a:pt x="470" y="112"/>
                    </a:lnTo>
                    <a:lnTo>
                      <a:pt x="468" y="112"/>
                    </a:lnTo>
                    <a:lnTo>
                      <a:pt x="468" y="110"/>
                    </a:lnTo>
                    <a:lnTo>
                      <a:pt x="456" y="102"/>
                    </a:lnTo>
                    <a:lnTo>
                      <a:pt x="446" y="110"/>
                    </a:lnTo>
                    <a:lnTo>
                      <a:pt x="440" y="116"/>
                    </a:lnTo>
                    <a:lnTo>
                      <a:pt x="438" y="120"/>
                    </a:lnTo>
                    <a:lnTo>
                      <a:pt x="444" y="132"/>
                    </a:lnTo>
                    <a:lnTo>
                      <a:pt x="446" y="136"/>
                    </a:lnTo>
                    <a:lnTo>
                      <a:pt x="444" y="138"/>
                    </a:lnTo>
                    <a:lnTo>
                      <a:pt x="440" y="142"/>
                    </a:lnTo>
                    <a:lnTo>
                      <a:pt x="434" y="144"/>
                    </a:lnTo>
                    <a:lnTo>
                      <a:pt x="428" y="146"/>
                    </a:lnTo>
                    <a:lnTo>
                      <a:pt x="422" y="148"/>
                    </a:lnTo>
                    <a:lnTo>
                      <a:pt x="418" y="146"/>
                    </a:lnTo>
                    <a:lnTo>
                      <a:pt x="416" y="144"/>
                    </a:lnTo>
                    <a:lnTo>
                      <a:pt x="414" y="140"/>
                    </a:lnTo>
                    <a:lnTo>
                      <a:pt x="392" y="120"/>
                    </a:lnTo>
                    <a:lnTo>
                      <a:pt x="382" y="114"/>
                    </a:lnTo>
                    <a:lnTo>
                      <a:pt x="376" y="108"/>
                    </a:lnTo>
                    <a:lnTo>
                      <a:pt x="374" y="104"/>
                    </a:lnTo>
                    <a:lnTo>
                      <a:pt x="374" y="100"/>
                    </a:lnTo>
                    <a:lnTo>
                      <a:pt x="372" y="92"/>
                    </a:lnTo>
                    <a:lnTo>
                      <a:pt x="370" y="86"/>
                    </a:lnTo>
                    <a:lnTo>
                      <a:pt x="366" y="88"/>
                    </a:lnTo>
                    <a:lnTo>
                      <a:pt x="364" y="90"/>
                    </a:lnTo>
                    <a:lnTo>
                      <a:pt x="366" y="94"/>
                    </a:lnTo>
                    <a:lnTo>
                      <a:pt x="368" y="98"/>
                    </a:lnTo>
                    <a:lnTo>
                      <a:pt x="368" y="100"/>
                    </a:lnTo>
                    <a:lnTo>
                      <a:pt x="370" y="100"/>
                    </a:lnTo>
                    <a:lnTo>
                      <a:pt x="368" y="102"/>
                    </a:lnTo>
                    <a:lnTo>
                      <a:pt x="358" y="120"/>
                    </a:lnTo>
                    <a:lnTo>
                      <a:pt x="340" y="116"/>
                    </a:lnTo>
                    <a:lnTo>
                      <a:pt x="336" y="114"/>
                    </a:lnTo>
                    <a:lnTo>
                      <a:pt x="336" y="112"/>
                    </a:lnTo>
                    <a:lnTo>
                      <a:pt x="336" y="106"/>
                    </a:lnTo>
                    <a:lnTo>
                      <a:pt x="336" y="100"/>
                    </a:lnTo>
                    <a:lnTo>
                      <a:pt x="332" y="94"/>
                    </a:lnTo>
                    <a:lnTo>
                      <a:pt x="318" y="84"/>
                    </a:lnTo>
                    <a:lnTo>
                      <a:pt x="316" y="82"/>
                    </a:lnTo>
                    <a:lnTo>
                      <a:pt x="314" y="84"/>
                    </a:lnTo>
                    <a:lnTo>
                      <a:pt x="312" y="86"/>
                    </a:lnTo>
                    <a:lnTo>
                      <a:pt x="298" y="84"/>
                    </a:lnTo>
                    <a:lnTo>
                      <a:pt x="292" y="82"/>
                    </a:lnTo>
                    <a:lnTo>
                      <a:pt x="288" y="80"/>
                    </a:lnTo>
                    <a:lnTo>
                      <a:pt x="288" y="76"/>
                    </a:lnTo>
                    <a:lnTo>
                      <a:pt x="288" y="70"/>
                    </a:lnTo>
                    <a:lnTo>
                      <a:pt x="290" y="68"/>
                    </a:lnTo>
                    <a:lnTo>
                      <a:pt x="284" y="56"/>
                    </a:lnTo>
                    <a:lnTo>
                      <a:pt x="256" y="58"/>
                    </a:lnTo>
                    <a:lnTo>
                      <a:pt x="256" y="64"/>
                    </a:lnTo>
                    <a:lnTo>
                      <a:pt x="254" y="68"/>
                    </a:lnTo>
                    <a:lnTo>
                      <a:pt x="252" y="70"/>
                    </a:lnTo>
                    <a:lnTo>
                      <a:pt x="248" y="72"/>
                    </a:lnTo>
                    <a:lnTo>
                      <a:pt x="240" y="72"/>
                    </a:lnTo>
                    <a:lnTo>
                      <a:pt x="234" y="68"/>
                    </a:lnTo>
                    <a:lnTo>
                      <a:pt x="234" y="66"/>
                    </a:lnTo>
                    <a:lnTo>
                      <a:pt x="226" y="56"/>
                    </a:lnTo>
                    <a:lnTo>
                      <a:pt x="224" y="48"/>
                    </a:lnTo>
                    <a:lnTo>
                      <a:pt x="220" y="40"/>
                    </a:lnTo>
                    <a:lnTo>
                      <a:pt x="212" y="46"/>
                    </a:lnTo>
                    <a:lnTo>
                      <a:pt x="202" y="50"/>
                    </a:lnTo>
                    <a:lnTo>
                      <a:pt x="200" y="50"/>
                    </a:lnTo>
                    <a:lnTo>
                      <a:pt x="196" y="48"/>
                    </a:lnTo>
                    <a:lnTo>
                      <a:pt x="194" y="46"/>
                    </a:lnTo>
                    <a:lnTo>
                      <a:pt x="186" y="48"/>
                    </a:lnTo>
                    <a:lnTo>
                      <a:pt x="164" y="54"/>
                    </a:lnTo>
                    <a:lnTo>
                      <a:pt x="158" y="58"/>
                    </a:lnTo>
                    <a:lnTo>
                      <a:pt x="152" y="58"/>
                    </a:lnTo>
                    <a:lnTo>
                      <a:pt x="150" y="58"/>
                    </a:lnTo>
                    <a:lnTo>
                      <a:pt x="140" y="56"/>
                    </a:lnTo>
                    <a:lnTo>
                      <a:pt x="134" y="52"/>
                    </a:lnTo>
                    <a:lnTo>
                      <a:pt x="120" y="42"/>
                    </a:lnTo>
                    <a:lnTo>
                      <a:pt x="104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34"/>
              <p:cNvSpPr/>
              <p:nvPr/>
            </p:nvSpPr>
            <p:spPr>
              <a:xfrm>
                <a:off x="5475600" y="3012840"/>
                <a:ext cx="249480" cy="274320"/>
              </a:xfrm>
              <a:custGeom>
                <a:avLst/>
                <a:gdLst/>
                <a:ahLst/>
                <a:rect l="l" t="t" r="r" b="b"/>
                <a:pathLst>
                  <a:path w="718" h="652">
                    <a:moveTo>
                      <a:pt x="716" y="382"/>
                    </a:moveTo>
                    <a:lnTo>
                      <a:pt x="704" y="302"/>
                    </a:lnTo>
                    <a:lnTo>
                      <a:pt x="706" y="302"/>
                    </a:lnTo>
                    <a:lnTo>
                      <a:pt x="712" y="290"/>
                    </a:lnTo>
                    <a:lnTo>
                      <a:pt x="714" y="284"/>
                    </a:lnTo>
                    <a:lnTo>
                      <a:pt x="714" y="280"/>
                    </a:lnTo>
                    <a:lnTo>
                      <a:pt x="710" y="274"/>
                    </a:lnTo>
                    <a:lnTo>
                      <a:pt x="704" y="270"/>
                    </a:lnTo>
                    <a:lnTo>
                      <a:pt x="700" y="260"/>
                    </a:lnTo>
                    <a:lnTo>
                      <a:pt x="700" y="250"/>
                    </a:lnTo>
                    <a:lnTo>
                      <a:pt x="700" y="234"/>
                    </a:lnTo>
                    <a:lnTo>
                      <a:pt x="692" y="234"/>
                    </a:lnTo>
                    <a:lnTo>
                      <a:pt x="684" y="236"/>
                    </a:lnTo>
                    <a:lnTo>
                      <a:pt x="674" y="240"/>
                    </a:lnTo>
                    <a:lnTo>
                      <a:pt x="666" y="248"/>
                    </a:lnTo>
                    <a:lnTo>
                      <a:pt x="662" y="254"/>
                    </a:lnTo>
                    <a:lnTo>
                      <a:pt x="660" y="262"/>
                    </a:lnTo>
                    <a:lnTo>
                      <a:pt x="652" y="268"/>
                    </a:lnTo>
                    <a:lnTo>
                      <a:pt x="644" y="272"/>
                    </a:lnTo>
                    <a:lnTo>
                      <a:pt x="632" y="276"/>
                    </a:lnTo>
                    <a:lnTo>
                      <a:pt x="628" y="302"/>
                    </a:lnTo>
                    <a:lnTo>
                      <a:pt x="626" y="302"/>
                    </a:lnTo>
                    <a:lnTo>
                      <a:pt x="618" y="318"/>
                    </a:lnTo>
                    <a:lnTo>
                      <a:pt x="618" y="320"/>
                    </a:lnTo>
                    <a:lnTo>
                      <a:pt x="616" y="320"/>
                    </a:lnTo>
                    <a:lnTo>
                      <a:pt x="536" y="334"/>
                    </a:lnTo>
                    <a:lnTo>
                      <a:pt x="534" y="334"/>
                    </a:lnTo>
                    <a:lnTo>
                      <a:pt x="510" y="308"/>
                    </a:lnTo>
                    <a:lnTo>
                      <a:pt x="518" y="302"/>
                    </a:lnTo>
                    <a:lnTo>
                      <a:pt x="508" y="290"/>
                    </a:lnTo>
                    <a:lnTo>
                      <a:pt x="498" y="282"/>
                    </a:lnTo>
                    <a:lnTo>
                      <a:pt x="496" y="280"/>
                    </a:lnTo>
                    <a:lnTo>
                      <a:pt x="496" y="278"/>
                    </a:lnTo>
                    <a:lnTo>
                      <a:pt x="492" y="258"/>
                    </a:lnTo>
                    <a:lnTo>
                      <a:pt x="470" y="258"/>
                    </a:lnTo>
                    <a:lnTo>
                      <a:pt x="452" y="246"/>
                    </a:lnTo>
                    <a:lnTo>
                      <a:pt x="388" y="236"/>
                    </a:lnTo>
                    <a:lnTo>
                      <a:pt x="336" y="234"/>
                    </a:lnTo>
                    <a:lnTo>
                      <a:pt x="334" y="234"/>
                    </a:lnTo>
                    <a:lnTo>
                      <a:pt x="332" y="234"/>
                    </a:lnTo>
                    <a:lnTo>
                      <a:pt x="330" y="232"/>
                    </a:lnTo>
                    <a:lnTo>
                      <a:pt x="298" y="164"/>
                    </a:lnTo>
                    <a:lnTo>
                      <a:pt x="286" y="146"/>
                    </a:lnTo>
                    <a:lnTo>
                      <a:pt x="258" y="110"/>
                    </a:lnTo>
                    <a:lnTo>
                      <a:pt x="230" y="76"/>
                    </a:lnTo>
                    <a:lnTo>
                      <a:pt x="216" y="62"/>
                    </a:lnTo>
                    <a:lnTo>
                      <a:pt x="170" y="18"/>
                    </a:lnTo>
                    <a:lnTo>
                      <a:pt x="164" y="14"/>
                    </a:lnTo>
                    <a:lnTo>
                      <a:pt x="108" y="12"/>
                    </a:lnTo>
                    <a:lnTo>
                      <a:pt x="106" y="12"/>
                    </a:lnTo>
                    <a:lnTo>
                      <a:pt x="106" y="10"/>
                    </a:lnTo>
                    <a:lnTo>
                      <a:pt x="94" y="6"/>
                    </a:lnTo>
                    <a:lnTo>
                      <a:pt x="80" y="0"/>
                    </a:lnTo>
                    <a:lnTo>
                      <a:pt x="76" y="0"/>
                    </a:lnTo>
                    <a:lnTo>
                      <a:pt x="70" y="0"/>
                    </a:lnTo>
                    <a:lnTo>
                      <a:pt x="54" y="4"/>
                    </a:lnTo>
                    <a:lnTo>
                      <a:pt x="34" y="12"/>
                    </a:lnTo>
                    <a:lnTo>
                      <a:pt x="8" y="24"/>
                    </a:lnTo>
                    <a:lnTo>
                      <a:pt x="6" y="26"/>
                    </a:lnTo>
                    <a:lnTo>
                      <a:pt x="8" y="36"/>
                    </a:lnTo>
                    <a:lnTo>
                      <a:pt x="8" y="38"/>
                    </a:lnTo>
                    <a:lnTo>
                      <a:pt x="2" y="52"/>
                    </a:lnTo>
                    <a:lnTo>
                      <a:pt x="0" y="52"/>
                    </a:lnTo>
                    <a:lnTo>
                      <a:pt x="0" y="62"/>
                    </a:lnTo>
                    <a:lnTo>
                      <a:pt x="0" y="72"/>
                    </a:lnTo>
                    <a:lnTo>
                      <a:pt x="4" y="82"/>
                    </a:lnTo>
                    <a:lnTo>
                      <a:pt x="10" y="86"/>
                    </a:lnTo>
                    <a:lnTo>
                      <a:pt x="22" y="86"/>
                    </a:lnTo>
                    <a:lnTo>
                      <a:pt x="32" y="88"/>
                    </a:lnTo>
                    <a:lnTo>
                      <a:pt x="36" y="86"/>
                    </a:lnTo>
                    <a:lnTo>
                      <a:pt x="38" y="76"/>
                    </a:lnTo>
                    <a:lnTo>
                      <a:pt x="42" y="70"/>
                    </a:lnTo>
                    <a:lnTo>
                      <a:pt x="50" y="70"/>
                    </a:lnTo>
                    <a:lnTo>
                      <a:pt x="78" y="78"/>
                    </a:lnTo>
                    <a:lnTo>
                      <a:pt x="84" y="80"/>
                    </a:lnTo>
                    <a:lnTo>
                      <a:pt x="74" y="94"/>
                    </a:lnTo>
                    <a:lnTo>
                      <a:pt x="74" y="114"/>
                    </a:lnTo>
                    <a:lnTo>
                      <a:pt x="76" y="118"/>
                    </a:lnTo>
                    <a:lnTo>
                      <a:pt x="80" y="124"/>
                    </a:lnTo>
                    <a:lnTo>
                      <a:pt x="96" y="140"/>
                    </a:lnTo>
                    <a:lnTo>
                      <a:pt x="108" y="148"/>
                    </a:lnTo>
                    <a:lnTo>
                      <a:pt x="116" y="150"/>
                    </a:lnTo>
                    <a:lnTo>
                      <a:pt x="120" y="150"/>
                    </a:lnTo>
                    <a:lnTo>
                      <a:pt x="124" y="148"/>
                    </a:lnTo>
                    <a:lnTo>
                      <a:pt x="138" y="134"/>
                    </a:lnTo>
                    <a:lnTo>
                      <a:pt x="148" y="128"/>
                    </a:lnTo>
                    <a:lnTo>
                      <a:pt x="170" y="124"/>
                    </a:lnTo>
                    <a:lnTo>
                      <a:pt x="176" y="110"/>
                    </a:lnTo>
                    <a:lnTo>
                      <a:pt x="194" y="100"/>
                    </a:lnTo>
                    <a:lnTo>
                      <a:pt x="212" y="110"/>
                    </a:lnTo>
                    <a:lnTo>
                      <a:pt x="214" y="110"/>
                    </a:lnTo>
                    <a:lnTo>
                      <a:pt x="230" y="138"/>
                    </a:lnTo>
                    <a:lnTo>
                      <a:pt x="236" y="156"/>
                    </a:lnTo>
                    <a:lnTo>
                      <a:pt x="236" y="158"/>
                    </a:lnTo>
                    <a:lnTo>
                      <a:pt x="232" y="182"/>
                    </a:lnTo>
                    <a:lnTo>
                      <a:pt x="238" y="196"/>
                    </a:lnTo>
                    <a:lnTo>
                      <a:pt x="238" y="198"/>
                    </a:lnTo>
                    <a:lnTo>
                      <a:pt x="234" y="216"/>
                    </a:lnTo>
                    <a:lnTo>
                      <a:pt x="234" y="232"/>
                    </a:lnTo>
                    <a:lnTo>
                      <a:pt x="240" y="250"/>
                    </a:lnTo>
                    <a:lnTo>
                      <a:pt x="242" y="258"/>
                    </a:lnTo>
                    <a:lnTo>
                      <a:pt x="240" y="272"/>
                    </a:lnTo>
                    <a:lnTo>
                      <a:pt x="240" y="274"/>
                    </a:lnTo>
                    <a:lnTo>
                      <a:pt x="232" y="284"/>
                    </a:lnTo>
                    <a:lnTo>
                      <a:pt x="232" y="286"/>
                    </a:lnTo>
                    <a:lnTo>
                      <a:pt x="224" y="294"/>
                    </a:lnTo>
                    <a:lnTo>
                      <a:pt x="222" y="312"/>
                    </a:lnTo>
                    <a:lnTo>
                      <a:pt x="228" y="330"/>
                    </a:lnTo>
                    <a:lnTo>
                      <a:pt x="228" y="332"/>
                    </a:lnTo>
                    <a:lnTo>
                      <a:pt x="222" y="360"/>
                    </a:lnTo>
                    <a:lnTo>
                      <a:pt x="218" y="364"/>
                    </a:lnTo>
                    <a:lnTo>
                      <a:pt x="214" y="366"/>
                    </a:lnTo>
                    <a:lnTo>
                      <a:pt x="206" y="364"/>
                    </a:lnTo>
                    <a:lnTo>
                      <a:pt x="198" y="356"/>
                    </a:lnTo>
                    <a:lnTo>
                      <a:pt x="190" y="358"/>
                    </a:lnTo>
                    <a:lnTo>
                      <a:pt x="180" y="370"/>
                    </a:lnTo>
                    <a:lnTo>
                      <a:pt x="168" y="402"/>
                    </a:lnTo>
                    <a:lnTo>
                      <a:pt x="168" y="404"/>
                    </a:lnTo>
                    <a:lnTo>
                      <a:pt x="156" y="414"/>
                    </a:lnTo>
                    <a:lnTo>
                      <a:pt x="154" y="414"/>
                    </a:lnTo>
                    <a:lnTo>
                      <a:pt x="148" y="414"/>
                    </a:lnTo>
                    <a:lnTo>
                      <a:pt x="136" y="434"/>
                    </a:lnTo>
                    <a:lnTo>
                      <a:pt x="142" y="446"/>
                    </a:lnTo>
                    <a:lnTo>
                      <a:pt x="144" y="446"/>
                    </a:lnTo>
                    <a:lnTo>
                      <a:pt x="160" y="466"/>
                    </a:lnTo>
                    <a:lnTo>
                      <a:pt x="160" y="468"/>
                    </a:lnTo>
                    <a:lnTo>
                      <a:pt x="160" y="474"/>
                    </a:lnTo>
                    <a:lnTo>
                      <a:pt x="178" y="476"/>
                    </a:lnTo>
                    <a:lnTo>
                      <a:pt x="180" y="492"/>
                    </a:lnTo>
                    <a:lnTo>
                      <a:pt x="180" y="494"/>
                    </a:lnTo>
                    <a:lnTo>
                      <a:pt x="182" y="512"/>
                    </a:lnTo>
                    <a:lnTo>
                      <a:pt x="188" y="516"/>
                    </a:lnTo>
                    <a:lnTo>
                      <a:pt x="204" y="512"/>
                    </a:lnTo>
                    <a:lnTo>
                      <a:pt x="218" y="502"/>
                    </a:lnTo>
                    <a:lnTo>
                      <a:pt x="222" y="502"/>
                    </a:lnTo>
                    <a:lnTo>
                      <a:pt x="226" y="528"/>
                    </a:lnTo>
                    <a:lnTo>
                      <a:pt x="234" y="538"/>
                    </a:lnTo>
                    <a:lnTo>
                      <a:pt x="236" y="540"/>
                    </a:lnTo>
                    <a:lnTo>
                      <a:pt x="242" y="550"/>
                    </a:lnTo>
                    <a:lnTo>
                      <a:pt x="254" y="560"/>
                    </a:lnTo>
                    <a:lnTo>
                      <a:pt x="258" y="562"/>
                    </a:lnTo>
                    <a:lnTo>
                      <a:pt x="262" y="562"/>
                    </a:lnTo>
                    <a:lnTo>
                      <a:pt x="266" y="564"/>
                    </a:lnTo>
                    <a:lnTo>
                      <a:pt x="274" y="560"/>
                    </a:lnTo>
                    <a:lnTo>
                      <a:pt x="282" y="558"/>
                    </a:lnTo>
                    <a:lnTo>
                      <a:pt x="292" y="554"/>
                    </a:lnTo>
                    <a:lnTo>
                      <a:pt x="296" y="552"/>
                    </a:lnTo>
                    <a:lnTo>
                      <a:pt x="308" y="552"/>
                    </a:lnTo>
                    <a:lnTo>
                      <a:pt x="312" y="552"/>
                    </a:lnTo>
                    <a:lnTo>
                      <a:pt x="316" y="554"/>
                    </a:lnTo>
                    <a:lnTo>
                      <a:pt x="332" y="544"/>
                    </a:lnTo>
                    <a:lnTo>
                      <a:pt x="334" y="544"/>
                    </a:lnTo>
                    <a:lnTo>
                      <a:pt x="334" y="546"/>
                    </a:lnTo>
                    <a:lnTo>
                      <a:pt x="336" y="544"/>
                    </a:lnTo>
                    <a:lnTo>
                      <a:pt x="338" y="546"/>
                    </a:lnTo>
                    <a:lnTo>
                      <a:pt x="344" y="556"/>
                    </a:lnTo>
                    <a:lnTo>
                      <a:pt x="346" y="562"/>
                    </a:lnTo>
                    <a:lnTo>
                      <a:pt x="354" y="574"/>
                    </a:lnTo>
                    <a:lnTo>
                      <a:pt x="360" y="576"/>
                    </a:lnTo>
                    <a:lnTo>
                      <a:pt x="362" y="576"/>
                    </a:lnTo>
                    <a:lnTo>
                      <a:pt x="360" y="574"/>
                    </a:lnTo>
                    <a:lnTo>
                      <a:pt x="360" y="570"/>
                    </a:lnTo>
                    <a:lnTo>
                      <a:pt x="360" y="566"/>
                    </a:lnTo>
                    <a:lnTo>
                      <a:pt x="364" y="564"/>
                    </a:lnTo>
                    <a:lnTo>
                      <a:pt x="370" y="562"/>
                    </a:lnTo>
                    <a:lnTo>
                      <a:pt x="398" y="562"/>
                    </a:lnTo>
                    <a:lnTo>
                      <a:pt x="400" y="562"/>
                    </a:lnTo>
                    <a:lnTo>
                      <a:pt x="402" y="562"/>
                    </a:lnTo>
                    <a:lnTo>
                      <a:pt x="412" y="580"/>
                    </a:lnTo>
                    <a:lnTo>
                      <a:pt x="410" y="588"/>
                    </a:lnTo>
                    <a:lnTo>
                      <a:pt x="422" y="590"/>
                    </a:lnTo>
                    <a:lnTo>
                      <a:pt x="422" y="588"/>
                    </a:lnTo>
                    <a:lnTo>
                      <a:pt x="422" y="586"/>
                    </a:lnTo>
                    <a:lnTo>
                      <a:pt x="426" y="584"/>
                    </a:lnTo>
                    <a:lnTo>
                      <a:pt x="454" y="602"/>
                    </a:lnTo>
                    <a:lnTo>
                      <a:pt x="456" y="608"/>
                    </a:lnTo>
                    <a:lnTo>
                      <a:pt x="458" y="612"/>
                    </a:lnTo>
                    <a:lnTo>
                      <a:pt x="458" y="624"/>
                    </a:lnTo>
                    <a:lnTo>
                      <a:pt x="468" y="626"/>
                    </a:lnTo>
                    <a:lnTo>
                      <a:pt x="474" y="616"/>
                    </a:lnTo>
                    <a:lnTo>
                      <a:pt x="470" y="608"/>
                    </a:lnTo>
                    <a:lnTo>
                      <a:pt x="470" y="602"/>
                    </a:lnTo>
                    <a:lnTo>
                      <a:pt x="472" y="598"/>
                    </a:lnTo>
                    <a:lnTo>
                      <a:pt x="474" y="596"/>
                    </a:lnTo>
                    <a:lnTo>
                      <a:pt x="478" y="594"/>
                    </a:lnTo>
                    <a:lnTo>
                      <a:pt x="478" y="592"/>
                    </a:lnTo>
                    <a:lnTo>
                      <a:pt x="480" y="590"/>
                    </a:lnTo>
                    <a:lnTo>
                      <a:pt x="486" y="590"/>
                    </a:lnTo>
                    <a:lnTo>
                      <a:pt x="490" y="594"/>
                    </a:lnTo>
                    <a:lnTo>
                      <a:pt x="492" y="598"/>
                    </a:lnTo>
                    <a:lnTo>
                      <a:pt x="496" y="614"/>
                    </a:lnTo>
                    <a:lnTo>
                      <a:pt x="496" y="616"/>
                    </a:lnTo>
                    <a:lnTo>
                      <a:pt x="498" y="618"/>
                    </a:lnTo>
                    <a:lnTo>
                      <a:pt x="502" y="622"/>
                    </a:lnTo>
                    <a:lnTo>
                      <a:pt x="510" y="626"/>
                    </a:lnTo>
                    <a:lnTo>
                      <a:pt x="512" y="626"/>
                    </a:lnTo>
                    <a:lnTo>
                      <a:pt x="538" y="652"/>
                    </a:lnTo>
                    <a:lnTo>
                      <a:pt x="550" y="648"/>
                    </a:lnTo>
                    <a:lnTo>
                      <a:pt x="548" y="644"/>
                    </a:lnTo>
                    <a:lnTo>
                      <a:pt x="544" y="638"/>
                    </a:lnTo>
                    <a:lnTo>
                      <a:pt x="544" y="634"/>
                    </a:lnTo>
                    <a:lnTo>
                      <a:pt x="544" y="630"/>
                    </a:lnTo>
                    <a:lnTo>
                      <a:pt x="546" y="626"/>
                    </a:lnTo>
                    <a:lnTo>
                      <a:pt x="556" y="618"/>
                    </a:lnTo>
                    <a:lnTo>
                      <a:pt x="570" y="606"/>
                    </a:lnTo>
                    <a:lnTo>
                      <a:pt x="586" y="616"/>
                    </a:lnTo>
                    <a:lnTo>
                      <a:pt x="588" y="616"/>
                    </a:lnTo>
                    <a:lnTo>
                      <a:pt x="592" y="598"/>
                    </a:lnTo>
                    <a:lnTo>
                      <a:pt x="592" y="596"/>
                    </a:lnTo>
                    <a:lnTo>
                      <a:pt x="594" y="594"/>
                    </a:lnTo>
                    <a:lnTo>
                      <a:pt x="608" y="596"/>
                    </a:lnTo>
                    <a:lnTo>
                      <a:pt x="610" y="600"/>
                    </a:lnTo>
                    <a:lnTo>
                      <a:pt x="612" y="606"/>
                    </a:lnTo>
                    <a:lnTo>
                      <a:pt x="610" y="610"/>
                    </a:lnTo>
                    <a:lnTo>
                      <a:pt x="606" y="616"/>
                    </a:lnTo>
                    <a:lnTo>
                      <a:pt x="610" y="618"/>
                    </a:lnTo>
                    <a:lnTo>
                      <a:pt x="620" y="622"/>
                    </a:lnTo>
                    <a:lnTo>
                      <a:pt x="628" y="626"/>
                    </a:lnTo>
                    <a:lnTo>
                      <a:pt x="630" y="626"/>
                    </a:lnTo>
                    <a:lnTo>
                      <a:pt x="640" y="630"/>
                    </a:lnTo>
                    <a:lnTo>
                      <a:pt x="648" y="630"/>
                    </a:lnTo>
                    <a:lnTo>
                      <a:pt x="636" y="572"/>
                    </a:lnTo>
                    <a:lnTo>
                      <a:pt x="630" y="568"/>
                    </a:lnTo>
                    <a:lnTo>
                      <a:pt x="624" y="562"/>
                    </a:lnTo>
                    <a:lnTo>
                      <a:pt x="614" y="546"/>
                    </a:lnTo>
                    <a:lnTo>
                      <a:pt x="610" y="538"/>
                    </a:lnTo>
                    <a:lnTo>
                      <a:pt x="612" y="528"/>
                    </a:lnTo>
                    <a:lnTo>
                      <a:pt x="616" y="518"/>
                    </a:lnTo>
                    <a:lnTo>
                      <a:pt x="624" y="506"/>
                    </a:lnTo>
                    <a:lnTo>
                      <a:pt x="636" y="494"/>
                    </a:lnTo>
                    <a:lnTo>
                      <a:pt x="650" y="482"/>
                    </a:lnTo>
                    <a:lnTo>
                      <a:pt x="662" y="482"/>
                    </a:lnTo>
                    <a:lnTo>
                      <a:pt x="672" y="486"/>
                    </a:lnTo>
                    <a:lnTo>
                      <a:pt x="692" y="486"/>
                    </a:lnTo>
                    <a:lnTo>
                      <a:pt x="698" y="482"/>
                    </a:lnTo>
                    <a:lnTo>
                      <a:pt x="704" y="476"/>
                    </a:lnTo>
                    <a:lnTo>
                      <a:pt x="714" y="452"/>
                    </a:lnTo>
                    <a:lnTo>
                      <a:pt x="718" y="442"/>
                    </a:lnTo>
                    <a:lnTo>
                      <a:pt x="718" y="426"/>
                    </a:lnTo>
                    <a:lnTo>
                      <a:pt x="716" y="3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35"/>
              <p:cNvSpPr/>
              <p:nvPr/>
            </p:nvSpPr>
            <p:spPr>
              <a:xfrm>
                <a:off x="5425920" y="3505320"/>
                <a:ext cx="150840" cy="114480"/>
              </a:xfrm>
              <a:custGeom>
                <a:avLst/>
                <a:gdLst/>
                <a:ahLst/>
                <a:rect l="l" t="t" r="r" b="b"/>
                <a:pathLst>
                  <a:path w="434" h="272">
                    <a:moveTo>
                      <a:pt x="396" y="8"/>
                    </a:moveTo>
                    <a:lnTo>
                      <a:pt x="396" y="8"/>
                    </a:lnTo>
                    <a:lnTo>
                      <a:pt x="394" y="12"/>
                    </a:lnTo>
                    <a:lnTo>
                      <a:pt x="388" y="14"/>
                    </a:lnTo>
                    <a:lnTo>
                      <a:pt x="358" y="12"/>
                    </a:lnTo>
                    <a:lnTo>
                      <a:pt x="330" y="6"/>
                    </a:lnTo>
                    <a:lnTo>
                      <a:pt x="314" y="0"/>
                    </a:lnTo>
                    <a:lnTo>
                      <a:pt x="270" y="42"/>
                    </a:lnTo>
                    <a:lnTo>
                      <a:pt x="272" y="60"/>
                    </a:lnTo>
                    <a:lnTo>
                      <a:pt x="268" y="62"/>
                    </a:lnTo>
                    <a:lnTo>
                      <a:pt x="246" y="64"/>
                    </a:lnTo>
                    <a:lnTo>
                      <a:pt x="228" y="62"/>
                    </a:lnTo>
                    <a:lnTo>
                      <a:pt x="222" y="62"/>
                    </a:lnTo>
                    <a:lnTo>
                      <a:pt x="218" y="60"/>
                    </a:lnTo>
                    <a:lnTo>
                      <a:pt x="214" y="56"/>
                    </a:lnTo>
                    <a:lnTo>
                      <a:pt x="212" y="52"/>
                    </a:lnTo>
                    <a:lnTo>
                      <a:pt x="208" y="2"/>
                    </a:lnTo>
                    <a:lnTo>
                      <a:pt x="168" y="0"/>
                    </a:lnTo>
                    <a:lnTo>
                      <a:pt x="152" y="36"/>
                    </a:lnTo>
                    <a:lnTo>
                      <a:pt x="150" y="20"/>
                    </a:lnTo>
                    <a:lnTo>
                      <a:pt x="148" y="6"/>
                    </a:lnTo>
                    <a:lnTo>
                      <a:pt x="144" y="0"/>
                    </a:lnTo>
                    <a:lnTo>
                      <a:pt x="128" y="8"/>
                    </a:lnTo>
                    <a:lnTo>
                      <a:pt x="120" y="18"/>
                    </a:lnTo>
                    <a:lnTo>
                      <a:pt x="118" y="20"/>
                    </a:lnTo>
                    <a:lnTo>
                      <a:pt x="102" y="24"/>
                    </a:lnTo>
                    <a:lnTo>
                      <a:pt x="78" y="48"/>
                    </a:lnTo>
                    <a:lnTo>
                      <a:pt x="56" y="70"/>
                    </a:lnTo>
                    <a:lnTo>
                      <a:pt x="12" y="128"/>
                    </a:lnTo>
                    <a:lnTo>
                      <a:pt x="22" y="148"/>
                    </a:lnTo>
                    <a:lnTo>
                      <a:pt x="22" y="152"/>
                    </a:lnTo>
                    <a:lnTo>
                      <a:pt x="20" y="152"/>
                    </a:lnTo>
                    <a:lnTo>
                      <a:pt x="20" y="156"/>
                    </a:lnTo>
                    <a:lnTo>
                      <a:pt x="20" y="160"/>
                    </a:lnTo>
                    <a:lnTo>
                      <a:pt x="24" y="172"/>
                    </a:lnTo>
                    <a:lnTo>
                      <a:pt x="32" y="188"/>
                    </a:lnTo>
                    <a:lnTo>
                      <a:pt x="34" y="198"/>
                    </a:lnTo>
                    <a:lnTo>
                      <a:pt x="34" y="206"/>
                    </a:lnTo>
                    <a:lnTo>
                      <a:pt x="34" y="208"/>
                    </a:lnTo>
                    <a:lnTo>
                      <a:pt x="0" y="228"/>
                    </a:lnTo>
                    <a:lnTo>
                      <a:pt x="0" y="236"/>
                    </a:lnTo>
                    <a:lnTo>
                      <a:pt x="16" y="244"/>
                    </a:lnTo>
                    <a:lnTo>
                      <a:pt x="18" y="248"/>
                    </a:lnTo>
                    <a:lnTo>
                      <a:pt x="18" y="252"/>
                    </a:lnTo>
                    <a:lnTo>
                      <a:pt x="22" y="256"/>
                    </a:lnTo>
                    <a:lnTo>
                      <a:pt x="36" y="264"/>
                    </a:lnTo>
                    <a:lnTo>
                      <a:pt x="64" y="272"/>
                    </a:lnTo>
                    <a:lnTo>
                      <a:pt x="74" y="266"/>
                    </a:lnTo>
                    <a:lnTo>
                      <a:pt x="84" y="252"/>
                    </a:lnTo>
                    <a:lnTo>
                      <a:pt x="92" y="230"/>
                    </a:lnTo>
                    <a:lnTo>
                      <a:pt x="114" y="238"/>
                    </a:lnTo>
                    <a:lnTo>
                      <a:pt x="118" y="240"/>
                    </a:lnTo>
                    <a:lnTo>
                      <a:pt x="118" y="242"/>
                    </a:lnTo>
                    <a:lnTo>
                      <a:pt x="118" y="244"/>
                    </a:lnTo>
                    <a:lnTo>
                      <a:pt x="116" y="250"/>
                    </a:lnTo>
                    <a:lnTo>
                      <a:pt x="116" y="256"/>
                    </a:lnTo>
                    <a:lnTo>
                      <a:pt x="118" y="260"/>
                    </a:lnTo>
                    <a:lnTo>
                      <a:pt x="124" y="264"/>
                    </a:lnTo>
                    <a:lnTo>
                      <a:pt x="148" y="264"/>
                    </a:lnTo>
                    <a:lnTo>
                      <a:pt x="160" y="260"/>
                    </a:lnTo>
                    <a:lnTo>
                      <a:pt x="170" y="256"/>
                    </a:lnTo>
                    <a:lnTo>
                      <a:pt x="172" y="252"/>
                    </a:lnTo>
                    <a:lnTo>
                      <a:pt x="176" y="252"/>
                    </a:lnTo>
                    <a:lnTo>
                      <a:pt x="184" y="252"/>
                    </a:lnTo>
                    <a:lnTo>
                      <a:pt x="198" y="256"/>
                    </a:lnTo>
                    <a:lnTo>
                      <a:pt x="202" y="258"/>
                    </a:lnTo>
                    <a:lnTo>
                      <a:pt x="208" y="264"/>
                    </a:lnTo>
                    <a:lnTo>
                      <a:pt x="212" y="250"/>
                    </a:lnTo>
                    <a:lnTo>
                      <a:pt x="214" y="248"/>
                    </a:lnTo>
                    <a:lnTo>
                      <a:pt x="216" y="248"/>
                    </a:lnTo>
                    <a:lnTo>
                      <a:pt x="220" y="242"/>
                    </a:lnTo>
                    <a:lnTo>
                      <a:pt x="224" y="236"/>
                    </a:lnTo>
                    <a:lnTo>
                      <a:pt x="230" y="228"/>
                    </a:lnTo>
                    <a:lnTo>
                      <a:pt x="238" y="220"/>
                    </a:lnTo>
                    <a:lnTo>
                      <a:pt x="248" y="214"/>
                    </a:lnTo>
                    <a:lnTo>
                      <a:pt x="250" y="212"/>
                    </a:lnTo>
                    <a:lnTo>
                      <a:pt x="250" y="214"/>
                    </a:lnTo>
                    <a:lnTo>
                      <a:pt x="252" y="214"/>
                    </a:lnTo>
                    <a:lnTo>
                      <a:pt x="258" y="216"/>
                    </a:lnTo>
                    <a:lnTo>
                      <a:pt x="260" y="216"/>
                    </a:lnTo>
                    <a:lnTo>
                      <a:pt x="268" y="176"/>
                    </a:lnTo>
                    <a:lnTo>
                      <a:pt x="280" y="172"/>
                    </a:lnTo>
                    <a:lnTo>
                      <a:pt x="290" y="166"/>
                    </a:lnTo>
                    <a:lnTo>
                      <a:pt x="296" y="160"/>
                    </a:lnTo>
                    <a:lnTo>
                      <a:pt x="298" y="156"/>
                    </a:lnTo>
                    <a:lnTo>
                      <a:pt x="300" y="150"/>
                    </a:lnTo>
                    <a:lnTo>
                      <a:pt x="296" y="138"/>
                    </a:lnTo>
                    <a:lnTo>
                      <a:pt x="294" y="128"/>
                    </a:lnTo>
                    <a:lnTo>
                      <a:pt x="296" y="122"/>
                    </a:lnTo>
                    <a:lnTo>
                      <a:pt x="298" y="120"/>
                    </a:lnTo>
                    <a:lnTo>
                      <a:pt x="302" y="120"/>
                    </a:lnTo>
                    <a:lnTo>
                      <a:pt x="310" y="120"/>
                    </a:lnTo>
                    <a:lnTo>
                      <a:pt x="320" y="124"/>
                    </a:lnTo>
                    <a:lnTo>
                      <a:pt x="322" y="112"/>
                    </a:lnTo>
                    <a:lnTo>
                      <a:pt x="322" y="110"/>
                    </a:lnTo>
                    <a:lnTo>
                      <a:pt x="322" y="108"/>
                    </a:lnTo>
                    <a:lnTo>
                      <a:pt x="336" y="102"/>
                    </a:lnTo>
                    <a:lnTo>
                      <a:pt x="338" y="96"/>
                    </a:lnTo>
                    <a:lnTo>
                      <a:pt x="330" y="96"/>
                    </a:lnTo>
                    <a:lnTo>
                      <a:pt x="328" y="94"/>
                    </a:lnTo>
                    <a:lnTo>
                      <a:pt x="328" y="90"/>
                    </a:lnTo>
                    <a:lnTo>
                      <a:pt x="328" y="88"/>
                    </a:lnTo>
                    <a:lnTo>
                      <a:pt x="330" y="86"/>
                    </a:lnTo>
                    <a:lnTo>
                      <a:pt x="332" y="86"/>
                    </a:lnTo>
                    <a:lnTo>
                      <a:pt x="334" y="86"/>
                    </a:lnTo>
                    <a:lnTo>
                      <a:pt x="342" y="84"/>
                    </a:lnTo>
                    <a:lnTo>
                      <a:pt x="352" y="76"/>
                    </a:lnTo>
                    <a:lnTo>
                      <a:pt x="404" y="40"/>
                    </a:lnTo>
                    <a:lnTo>
                      <a:pt x="420" y="48"/>
                    </a:lnTo>
                    <a:lnTo>
                      <a:pt x="428" y="48"/>
                    </a:lnTo>
                    <a:lnTo>
                      <a:pt x="424" y="30"/>
                    </a:lnTo>
                    <a:lnTo>
                      <a:pt x="424" y="28"/>
                    </a:lnTo>
                    <a:lnTo>
                      <a:pt x="434" y="12"/>
                    </a:lnTo>
                    <a:lnTo>
                      <a:pt x="432" y="12"/>
                    </a:lnTo>
                    <a:lnTo>
                      <a:pt x="426" y="12"/>
                    </a:lnTo>
                    <a:lnTo>
                      <a:pt x="426" y="14"/>
                    </a:lnTo>
                    <a:lnTo>
                      <a:pt x="424" y="14"/>
                    </a:lnTo>
                    <a:lnTo>
                      <a:pt x="408" y="16"/>
                    </a:lnTo>
                    <a:lnTo>
                      <a:pt x="404" y="16"/>
                    </a:lnTo>
                    <a:lnTo>
                      <a:pt x="404" y="12"/>
                    </a:lnTo>
                    <a:lnTo>
                      <a:pt x="400" y="8"/>
                    </a:lnTo>
                    <a:lnTo>
                      <a:pt x="396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36"/>
              <p:cNvSpPr/>
              <p:nvPr/>
            </p:nvSpPr>
            <p:spPr>
              <a:xfrm>
                <a:off x="5567400" y="3695760"/>
                <a:ext cx="23400" cy="25200"/>
              </a:xfrm>
              <a:custGeom>
                <a:avLst/>
                <a:gdLst/>
                <a:ahLst/>
                <a:rect l="l" t="t" r="r" b="b"/>
                <a:pathLst>
                  <a:path w="68" h="60">
                    <a:moveTo>
                      <a:pt x="62" y="32"/>
                    </a:moveTo>
                    <a:lnTo>
                      <a:pt x="68" y="24"/>
                    </a:lnTo>
                    <a:lnTo>
                      <a:pt x="48" y="8"/>
                    </a:lnTo>
                    <a:lnTo>
                      <a:pt x="40" y="4"/>
                    </a:lnTo>
                    <a:lnTo>
                      <a:pt x="34" y="0"/>
                    </a:lnTo>
                    <a:lnTo>
                      <a:pt x="28" y="0"/>
                    </a:lnTo>
                    <a:lnTo>
                      <a:pt x="22" y="0"/>
                    </a:lnTo>
                    <a:lnTo>
                      <a:pt x="14" y="2"/>
                    </a:lnTo>
                    <a:lnTo>
                      <a:pt x="14" y="20"/>
                    </a:lnTo>
                    <a:lnTo>
                      <a:pt x="10" y="28"/>
                    </a:lnTo>
                    <a:lnTo>
                      <a:pt x="4" y="36"/>
                    </a:lnTo>
                    <a:lnTo>
                      <a:pt x="0" y="40"/>
                    </a:lnTo>
                    <a:lnTo>
                      <a:pt x="8" y="48"/>
                    </a:lnTo>
                    <a:lnTo>
                      <a:pt x="10" y="48"/>
                    </a:lnTo>
                    <a:lnTo>
                      <a:pt x="12" y="56"/>
                    </a:lnTo>
                    <a:lnTo>
                      <a:pt x="22" y="60"/>
                    </a:lnTo>
                    <a:lnTo>
                      <a:pt x="28" y="56"/>
                    </a:lnTo>
                    <a:lnTo>
                      <a:pt x="34" y="54"/>
                    </a:lnTo>
                    <a:lnTo>
                      <a:pt x="52" y="58"/>
                    </a:lnTo>
                    <a:lnTo>
                      <a:pt x="52" y="52"/>
                    </a:lnTo>
                    <a:lnTo>
                      <a:pt x="54" y="44"/>
                    </a:lnTo>
                    <a:lnTo>
                      <a:pt x="56" y="38"/>
                    </a:lnTo>
                    <a:lnTo>
                      <a:pt x="58" y="34"/>
                    </a:lnTo>
                    <a:lnTo>
                      <a:pt x="62" y="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37"/>
              <p:cNvSpPr/>
              <p:nvPr/>
            </p:nvSpPr>
            <p:spPr>
              <a:xfrm>
                <a:off x="5456520" y="3598920"/>
                <a:ext cx="131400" cy="122760"/>
              </a:xfrm>
              <a:custGeom>
                <a:avLst/>
                <a:gdLst/>
                <a:ahLst/>
                <a:rect l="l" t="t" r="r" b="b"/>
                <a:pathLst>
                  <a:path w="378" h="292">
                    <a:moveTo>
                      <a:pt x="264" y="86"/>
                    </a:moveTo>
                    <a:lnTo>
                      <a:pt x="264" y="86"/>
                    </a:lnTo>
                    <a:lnTo>
                      <a:pt x="258" y="78"/>
                    </a:lnTo>
                    <a:lnTo>
                      <a:pt x="252" y="70"/>
                    </a:lnTo>
                    <a:lnTo>
                      <a:pt x="240" y="46"/>
                    </a:lnTo>
                    <a:lnTo>
                      <a:pt x="226" y="44"/>
                    </a:lnTo>
                    <a:lnTo>
                      <a:pt x="214" y="42"/>
                    </a:lnTo>
                    <a:lnTo>
                      <a:pt x="204" y="38"/>
                    </a:lnTo>
                    <a:lnTo>
                      <a:pt x="198" y="34"/>
                    </a:lnTo>
                    <a:lnTo>
                      <a:pt x="194" y="28"/>
                    </a:lnTo>
                    <a:lnTo>
                      <a:pt x="188" y="24"/>
                    </a:lnTo>
                    <a:lnTo>
                      <a:pt x="170" y="18"/>
                    </a:lnTo>
                    <a:lnTo>
                      <a:pt x="166" y="16"/>
                    </a:lnTo>
                    <a:lnTo>
                      <a:pt x="170" y="2"/>
                    </a:lnTo>
                    <a:lnTo>
                      <a:pt x="168" y="2"/>
                    </a:lnTo>
                    <a:lnTo>
                      <a:pt x="164" y="0"/>
                    </a:lnTo>
                    <a:lnTo>
                      <a:pt x="152" y="8"/>
                    </a:lnTo>
                    <a:lnTo>
                      <a:pt x="148" y="12"/>
                    </a:lnTo>
                    <a:lnTo>
                      <a:pt x="144" y="16"/>
                    </a:lnTo>
                    <a:lnTo>
                      <a:pt x="140" y="26"/>
                    </a:lnTo>
                    <a:lnTo>
                      <a:pt x="132" y="32"/>
                    </a:lnTo>
                    <a:lnTo>
                      <a:pt x="126" y="46"/>
                    </a:lnTo>
                    <a:lnTo>
                      <a:pt x="124" y="50"/>
                    </a:lnTo>
                    <a:lnTo>
                      <a:pt x="120" y="52"/>
                    </a:lnTo>
                    <a:lnTo>
                      <a:pt x="118" y="52"/>
                    </a:lnTo>
                    <a:lnTo>
                      <a:pt x="116" y="48"/>
                    </a:lnTo>
                    <a:lnTo>
                      <a:pt x="108" y="42"/>
                    </a:lnTo>
                    <a:lnTo>
                      <a:pt x="102" y="40"/>
                    </a:lnTo>
                    <a:lnTo>
                      <a:pt x="96" y="38"/>
                    </a:lnTo>
                    <a:lnTo>
                      <a:pt x="88" y="40"/>
                    </a:lnTo>
                    <a:lnTo>
                      <a:pt x="76" y="46"/>
                    </a:lnTo>
                    <a:lnTo>
                      <a:pt x="62" y="50"/>
                    </a:lnTo>
                    <a:lnTo>
                      <a:pt x="32" y="50"/>
                    </a:lnTo>
                    <a:lnTo>
                      <a:pt x="26" y="44"/>
                    </a:lnTo>
                    <a:lnTo>
                      <a:pt x="22" y="38"/>
                    </a:lnTo>
                    <a:lnTo>
                      <a:pt x="20" y="32"/>
                    </a:lnTo>
                    <a:lnTo>
                      <a:pt x="20" y="22"/>
                    </a:lnTo>
                    <a:lnTo>
                      <a:pt x="8" y="18"/>
                    </a:lnTo>
                    <a:lnTo>
                      <a:pt x="4" y="34"/>
                    </a:lnTo>
                    <a:lnTo>
                      <a:pt x="4" y="36"/>
                    </a:lnTo>
                    <a:lnTo>
                      <a:pt x="2" y="36"/>
                    </a:lnTo>
                    <a:lnTo>
                      <a:pt x="0" y="40"/>
                    </a:lnTo>
                    <a:lnTo>
                      <a:pt x="8" y="42"/>
                    </a:lnTo>
                    <a:lnTo>
                      <a:pt x="10" y="42"/>
                    </a:lnTo>
                    <a:lnTo>
                      <a:pt x="28" y="66"/>
                    </a:lnTo>
                    <a:lnTo>
                      <a:pt x="40" y="76"/>
                    </a:lnTo>
                    <a:lnTo>
                      <a:pt x="68" y="86"/>
                    </a:lnTo>
                    <a:lnTo>
                      <a:pt x="98" y="96"/>
                    </a:lnTo>
                    <a:lnTo>
                      <a:pt x="104" y="102"/>
                    </a:lnTo>
                    <a:lnTo>
                      <a:pt x="112" y="112"/>
                    </a:lnTo>
                    <a:lnTo>
                      <a:pt x="118" y="128"/>
                    </a:lnTo>
                    <a:lnTo>
                      <a:pt x="124" y="150"/>
                    </a:lnTo>
                    <a:lnTo>
                      <a:pt x="140" y="158"/>
                    </a:lnTo>
                    <a:lnTo>
                      <a:pt x="146" y="162"/>
                    </a:lnTo>
                    <a:lnTo>
                      <a:pt x="152" y="162"/>
                    </a:lnTo>
                    <a:lnTo>
                      <a:pt x="180" y="144"/>
                    </a:lnTo>
                    <a:lnTo>
                      <a:pt x="182" y="142"/>
                    </a:lnTo>
                    <a:lnTo>
                      <a:pt x="184" y="144"/>
                    </a:lnTo>
                    <a:lnTo>
                      <a:pt x="198" y="146"/>
                    </a:lnTo>
                    <a:lnTo>
                      <a:pt x="200" y="146"/>
                    </a:lnTo>
                    <a:lnTo>
                      <a:pt x="200" y="150"/>
                    </a:lnTo>
                    <a:lnTo>
                      <a:pt x="198" y="152"/>
                    </a:lnTo>
                    <a:lnTo>
                      <a:pt x="192" y="174"/>
                    </a:lnTo>
                    <a:lnTo>
                      <a:pt x="186" y="186"/>
                    </a:lnTo>
                    <a:lnTo>
                      <a:pt x="168" y="186"/>
                    </a:lnTo>
                    <a:lnTo>
                      <a:pt x="166" y="194"/>
                    </a:lnTo>
                    <a:lnTo>
                      <a:pt x="164" y="202"/>
                    </a:lnTo>
                    <a:lnTo>
                      <a:pt x="152" y="222"/>
                    </a:lnTo>
                    <a:lnTo>
                      <a:pt x="148" y="228"/>
                    </a:lnTo>
                    <a:lnTo>
                      <a:pt x="148" y="234"/>
                    </a:lnTo>
                    <a:lnTo>
                      <a:pt x="166" y="246"/>
                    </a:lnTo>
                    <a:lnTo>
                      <a:pt x="172" y="252"/>
                    </a:lnTo>
                    <a:lnTo>
                      <a:pt x="178" y="254"/>
                    </a:lnTo>
                    <a:lnTo>
                      <a:pt x="182" y="254"/>
                    </a:lnTo>
                    <a:lnTo>
                      <a:pt x="186" y="266"/>
                    </a:lnTo>
                    <a:lnTo>
                      <a:pt x="194" y="270"/>
                    </a:lnTo>
                    <a:lnTo>
                      <a:pt x="200" y="266"/>
                    </a:lnTo>
                    <a:lnTo>
                      <a:pt x="204" y="262"/>
                    </a:lnTo>
                    <a:lnTo>
                      <a:pt x="208" y="262"/>
                    </a:lnTo>
                    <a:lnTo>
                      <a:pt x="214" y="264"/>
                    </a:lnTo>
                    <a:lnTo>
                      <a:pt x="218" y="266"/>
                    </a:lnTo>
                    <a:lnTo>
                      <a:pt x="224" y="270"/>
                    </a:lnTo>
                    <a:lnTo>
                      <a:pt x="230" y="278"/>
                    </a:lnTo>
                    <a:lnTo>
                      <a:pt x="236" y="286"/>
                    </a:lnTo>
                    <a:lnTo>
                      <a:pt x="238" y="286"/>
                    </a:lnTo>
                    <a:lnTo>
                      <a:pt x="242" y="284"/>
                    </a:lnTo>
                    <a:lnTo>
                      <a:pt x="248" y="284"/>
                    </a:lnTo>
                    <a:lnTo>
                      <a:pt x="264" y="288"/>
                    </a:lnTo>
                    <a:lnTo>
                      <a:pt x="284" y="292"/>
                    </a:lnTo>
                    <a:lnTo>
                      <a:pt x="304" y="286"/>
                    </a:lnTo>
                    <a:lnTo>
                      <a:pt x="312" y="282"/>
                    </a:lnTo>
                    <a:lnTo>
                      <a:pt x="318" y="278"/>
                    </a:lnTo>
                    <a:lnTo>
                      <a:pt x="312" y="272"/>
                    </a:lnTo>
                    <a:lnTo>
                      <a:pt x="312" y="268"/>
                    </a:lnTo>
                    <a:lnTo>
                      <a:pt x="316" y="262"/>
                    </a:lnTo>
                    <a:lnTo>
                      <a:pt x="322" y="256"/>
                    </a:lnTo>
                    <a:lnTo>
                      <a:pt x="324" y="248"/>
                    </a:lnTo>
                    <a:lnTo>
                      <a:pt x="324" y="238"/>
                    </a:lnTo>
                    <a:lnTo>
                      <a:pt x="324" y="232"/>
                    </a:lnTo>
                    <a:lnTo>
                      <a:pt x="326" y="230"/>
                    </a:lnTo>
                    <a:lnTo>
                      <a:pt x="330" y="226"/>
                    </a:lnTo>
                    <a:lnTo>
                      <a:pt x="340" y="222"/>
                    </a:lnTo>
                    <a:lnTo>
                      <a:pt x="348" y="222"/>
                    </a:lnTo>
                    <a:lnTo>
                      <a:pt x="356" y="226"/>
                    </a:lnTo>
                    <a:lnTo>
                      <a:pt x="366" y="230"/>
                    </a:lnTo>
                    <a:lnTo>
                      <a:pt x="378" y="238"/>
                    </a:lnTo>
                    <a:lnTo>
                      <a:pt x="372" y="222"/>
                    </a:lnTo>
                    <a:lnTo>
                      <a:pt x="364" y="210"/>
                    </a:lnTo>
                    <a:lnTo>
                      <a:pt x="362" y="196"/>
                    </a:lnTo>
                    <a:lnTo>
                      <a:pt x="348" y="194"/>
                    </a:lnTo>
                    <a:lnTo>
                      <a:pt x="312" y="172"/>
                    </a:lnTo>
                    <a:lnTo>
                      <a:pt x="294" y="170"/>
                    </a:lnTo>
                    <a:lnTo>
                      <a:pt x="294" y="166"/>
                    </a:lnTo>
                    <a:lnTo>
                      <a:pt x="292" y="146"/>
                    </a:lnTo>
                    <a:lnTo>
                      <a:pt x="276" y="106"/>
                    </a:lnTo>
                    <a:lnTo>
                      <a:pt x="270" y="94"/>
                    </a:lnTo>
                    <a:lnTo>
                      <a:pt x="264" y="8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38"/>
              <p:cNvSpPr/>
              <p:nvPr/>
            </p:nvSpPr>
            <p:spPr>
              <a:xfrm>
                <a:off x="5387760" y="3363840"/>
                <a:ext cx="122400" cy="211320"/>
              </a:xfrm>
              <a:custGeom>
                <a:avLst/>
                <a:gdLst/>
                <a:ahLst/>
                <a:rect l="l" t="t" r="r" b="b"/>
                <a:pathLst>
                  <a:path w="352" h="502">
                    <a:moveTo>
                      <a:pt x="324" y="152"/>
                    </a:moveTo>
                    <a:lnTo>
                      <a:pt x="318" y="148"/>
                    </a:lnTo>
                    <a:lnTo>
                      <a:pt x="316" y="148"/>
                    </a:lnTo>
                    <a:lnTo>
                      <a:pt x="312" y="144"/>
                    </a:lnTo>
                    <a:lnTo>
                      <a:pt x="290" y="136"/>
                    </a:lnTo>
                    <a:lnTo>
                      <a:pt x="284" y="136"/>
                    </a:lnTo>
                    <a:lnTo>
                      <a:pt x="280" y="138"/>
                    </a:lnTo>
                    <a:lnTo>
                      <a:pt x="270" y="122"/>
                    </a:lnTo>
                    <a:lnTo>
                      <a:pt x="272" y="120"/>
                    </a:lnTo>
                    <a:lnTo>
                      <a:pt x="278" y="112"/>
                    </a:lnTo>
                    <a:lnTo>
                      <a:pt x="278" y="104"/>
                    </a:lnTo>
                    <a:lnTo>
                      <a:pt x="278" y="102"/>
                    </a:lnTo>
                    <a:lnTo>
                      <a:pt x="282" y="96"/>
                    </a:lnTo>
                    <a:lnTo>
                      <a:pt x="280" y="94"/>
                    </a:lnTo>
                    <a:lnTo>
                      <a:pt x="268" y="92"/>
                    </a:lnTo>
                    <a:lnTo>
                      <a:pt x="246" y="88"/>
                    </a:lnTo>
                    <a:lnTo>
                      <a:pt x="234" y="76"/>
                    </a:lnTo>
                    <a:lnTo>
                      <a:pt x="230" y="68"/>
                    </a:lnTo>
                    <a:lnTo>
                      <a:pt x="228" y="64"/>
                    </a:lnTo>
                    <a:lnTo>
                      <a:pt x="234" y="48"/>
                    </a:lnTo>
                    <a:lnTo>
                      <a:pt x="234" y="36"/>
                    </a:lnTo>
                    <a:lnTo>
                      <a:pt x="234" y="32"/>
                    </a:lnTo>
                    <a:lnTo>
                      <a:pt x="228" y="40"/>
                    </a:lnTo>
                    <a:lnTo>
                      <a:pt x="226" y="40"/>
                    </a:lnTo>
                    <a:lnTo>
                      <a:pt x="226" y="42"/>
                    </a:lnTo>
                    <a:lnTo>
                      <a:pt x="224" y="40"/>
                    </a:lnTo>
                    <a:lnTo>
                      <a:pt x="222" y="40"/>
                    </a:lnTo>
                    <a:lnTo>
                      <a:pt x="210" y="30"/>
                    </a:lnTo>
                    <a:lnTo>
                      <a:pt x="208" y="28"/>
                    </a:lnTo>
                    <a:lnTo>
                      <a:pt x="208" y="26"/>
                    </a:lnTo>
                    <a:lnTo>
                      <a:pt x="206" y="8"/>
                    </a:lnTo>
                    <a:lnTo>
                      <a:pt x="200" y="0"/>
                    </a:lnTo>
                    <a:lnTo>
                      <a:pt x="188" y="0"/>
                    </a:lnTo>
                    <a:lnTo>
                      <a:pt x="180" y="14"/>
                    </a:lnTo>
                    <a:lnTo>
                      <a:pt x="180" y="16"/>
                    </a:lnTo>
                    <a:lnTo>
                      <a:pt x="178" y="16"/>
                    </a:lnTo>
                    <a:lnTo>
                      <a:pt x="160" y="12"/>
                    </a:lnTo>
                    <a:lnTo>
                      <a:pt x="156" y="30"/>
                    </a:lnTo>
                    <a:lnTo>
                      <a:pt x="156" y="48"/>
                    </a:lnTo>
                    <a:lnTo>
                      <a:pt x="146" y="64"/>
                    </a:lnTo>
                    <a:lnTo>
                      <a:pt x="146" y="66"/>
                    </a:lnTo>
                    <a:lnTo>
                      <a:pt x="144" y="66"/>
                    </a:lnTo>
                    <a:lnTo>
                      <a:pt x="142" y="66"/>
                    </a:lnTo>
                    <a:lnTo>
                      <a:pt x="130" y="68"/>
                    </a:lnTo>
                    <a:lnTo>
                      <a:pt x="118" y="76"/>
                    </a:lnTo>
                    <a:lnTo>
                      <a:pt x="118" y="78"/>
                    </a:lnTo>
                    <a:lnTo>
                      <a:pt x="116" y="78"/>
                    </a:lnTo>
                    <a:lnTo>
                      <a:pt x="114" y="78"/>
                    </a:lnTo>
                    <a:lnTo>
                      <a:pt x="92" y="70"/>
                    </a:lnTo>
                    <a:lnTo>
                      <a:pt x="90" y="78"/>
                    </a:lnTo>
                    <a:lnTo>
                      <a:pt x="90" y="80"/>
                    </a:lnTo>
                    <a:lnTo>
                      <a:pt x="80" y="96"/>
                    </a:lnTo>
                    <a:lnTo>
                      <a:pt x="76" y="100"/>
                    </a:lnTo>
                    <a:lnTo>
                      <a:pt x="74" y="100"/>
                    </a:lnTo>
                    <a:lnTo>
                      <a:pt x="64" y="100"/>
                    </a:lnTo>
                    <a:lnTo>
                      <a:pt x="50" y="94"/>
                    </a:lnTo>
                    <a:lnTo>
                      <a:pt x="48" y="92"/>
                    </a:lnTo>
                    <a:lnTo>
                      <a:pt x="48" y="90"/>
                    </a:lnTo>
                    <a:lnTo>
                      <a:pt x="46" y="72"/>
                    </a:lnTo>
                    <a:lnTo>
                      <a:pt x="42" y="56"/>
                    </a:lnTo>
                    <a:lnTo>
                      <a:pt x="38" y="52"/>
                    </a:lnTo>
                    <a:lnTo>
                      <a:pt x="34" y="64"/>
                    </a:lnTo>
                    <a:lnTo>
                      <a:pt x="24" y="76"/>
                    </a:lnTo>
                    <a:lnTo>
                      <a:pt x="16" y="96"/>
                    </a:lnTo>
                    <a:lnTo>
                      <a:pt x="14" y="96"/>
                    </a:lnTo>
                    <a:lnTo>
                      <a:pt x="8" y="108"/>
                    </a:lnTo>
                    <a:lnTo>
                      <a:pt x="6" y="114"/>
                    </a:lnTo>
                    <a:lnTo>
                      <a:pt x="0" y="122"/>
                    </a:lnTo>
                    <a:lnTo>
                      <a:pt x="6" y="140"/>
                    </a:lnTo>
                    <a:lnTo>
                      <a:pt x="30" y="168"/>
                    </a:lnTo>
                    <a:lnTo>
                      <a:pt x="38" y="184"/>
                    </a:lnTo>
                    <a:lnTo>
                      <a:pt x="38" y="186"/>
                    </a:lnTo>
                    <a:lnTo>
                      <a:pt x="36" y="188"/>
                    </a:lnTo>
                    <a:lnTo>
                      <a:pt x="30" y="196"/>
                    </a:lnTo>
                    <a:lnTo>
                      <a:pt x="28" y="196"/>
                    </a:lnTo>
                    <a:lnTo>
                      <a:pt x="12" y="200"/>
                    </a:lnTo>
                    <a:lnTo>
                      <a:pt x="14" y="212"/>
                    </a:lnTo>
                    <a:lnTo>
                      <a:pt x="26" y="220"/>
                    </a:lnTo>
                    <a:lnTo>
                      <a:pt x="42" y="224"/>
                    </a:lnTo>
                    <a:lnTo>
                      <a:pt x="48" y="240"/>
                    </a:lnTo>
                    <a:lnTo>
                      <a:pt x="44" y="268"/>
                    </a:lnTo>
                    <a:lnTo>
                      <a:pt x="38" y="280"/>
                    </a:lnTo>
                    <a:lnTo>
                      <a:pt x="38" y="284"/>
                    </a:lnTo>
                    <a:lnTo>
                      <a:pt x="36" y="284"/>
                    </a:lnTo>
                    <a:lnTo>
                      <a:pt x="16" y="286"/>
                    </a:lnTo>
                    <a:lnTo>
                      <a:pt x="16" y="294"/>
                    </a:lnTo>
                    <a:lnTo>
                      <a:pt x="10" y="312"/>
                    </a:lnTo>
                    <a:lnTo>
                      <a:pt x="8" y="332"/>
                    </a:lnTo>
                    <a:lnTo>
                      <a:pt x="12" y="344"/>
                    </a:lnTo>
                    <a:lnTo>
                      <a:pt x="36" y="358"/>
                    </a:lnTo>
                    <a:lnTo>
                      <a:pt x="38" y="360"/>
                    </a:lnTo>
                    <a:lnTo>
                      <a:pt x="48" y="376"/>
                    </a:lnTo>
                    <a:lnTo>
                      <a:pt x="48" y="378"/>
                    </a:lnTo>
                    <a:lnTo>
                      <a:pt x="48" y="380"/>
                    </a:lnTo>
                    <a:lnTo>
                      <a:pt x="34" y="408"/>
                    </a:lnTo>
                    <a:lnTo>
                      <a:pt x="32" y="416"/>
                    </a:lnTo>
                    <a:lnTo>
                      <a:pt x="24" y="434"/>
                    </a:lnTo>
                    <a:lnTo>
                      <a:pt x="20" y="448"/>
                    </a:lnTo>
                    <a:lnTo>
                      <a:pt x="20" y="450"/>
                    </a:lnTo>
                    <a:lnTo>
                      <a:pt x="14" y="456"/>
                    </a:lnTo>
                    <a:lnTo>
                      <a:pt x="12" y="462"/>
                    </a:lnTo>
                    <a:lnTo>
                      <a:pt x="12" y="464"/>
                    </a:lnTo>
                    <a:lnTo>
                      <a:pt x="12" y="466"/>
                    </a:lnTo>
                    <a:lnTo>
                      <a:pt x="14" y="468"/>
                    </a:lnTo>
                    <a:lnTo>
                      <a:pt x="22" y="476"/>
                    </a:lnTo>
                    <a:lnTo>
                      <a:pt x="26" y="482"/>
                    </a:lnTo>
                    <a:lnTo>
                      <a:pt x="28" y="484"/>
                    </a:lnTo>
                    <a:lnTo>
                      <a:pt x="28" y="488"/>
                    </a:lnTo>
                    <a:lnTo>
                      <a:pt x="30" y="492"/>
                    </a:lnTo>
                    <a:lnTo>
                      <a:pt x="36" y="496"/>
                    </a:lnTo>
                    <a:lnTo>
                      <a:pt x="66" y="502"/>
                    </a:lnTo>
                    <a:lnTo>
                      <a:pt x="80" y="500"/>
                    </a:lnTo>
                    <a:lnTo>
                      <a:pt x="94" y="496"/>
                    </a:lnTo>
                    <a:lnTo>
                      <a:pt x="108" y="492"/>
                    </a:lnTo>
                    <a:lnTo>
                      <a:pt x="122" y="492"/>
                    </a:lnTo>
                    <a:lnTo>
                      <a:pt x="122" y="486"/>
                    </a:lnTo>
                    <a:lnTo>
                      <a:pt x="114" y="464"/>
                    </a:lnTo>
                    <a:lnTo>
                      <a:pt x="112" y="464"/>
                    </a:lnTo>
                    <a:lnTo>
                      <a:pt x="114" y="464"/>
                    </a:lnTo>
                    <a:lnTo>
                      <a:pt x="158" y="400"/>
                    </a:lnTo>
                    <a:lnTo>
                      <a:pt x="208" y="352"/>
                    </a:lnTo>
                    <a:lnTo>
                      <a:pt x="224" y="348"/>
                    </a:lnTo>
                    <a:lnTo>
                      <a:pt x="232" y="338"/>
                    </a:lnTo>
                    <a:lnTo>
                      <a:pt x="240" y="332"/>
                    </a:lnTo>
                    <a:lnTo>
                      <a:pt x="250" y="328"/>
                    </a:lnTo>
                    <a:lnTo>
                      <a:pt x="246" y="324"/>
                    </a:lnTo>
                    <a:lnTo>
                      <a:pt x="234" y="312"/>
                    </a:lnTo>
                    <a:lnTo>
                      <a:pt x="226" y="302"/>
                    </a:lnTo>
                    <a:lnTo>
                      <a:pt x="226" y="300"/>
                    </a:lnTo>
                    <a:lnTo>
                      <a:pt x="230" y="294"/>
                    </a:lnTo>
                    <a:lnTo>
                      <a:pt x="218" y="296"/>
                    </a:lnTo>
                    <a:lnTo>
                      <a:pt x="196" y="292"/>
                    </a:lnTo>
                    <a:lnTo>
                      <a:pt x="186" y="284"/>
                    </a:lnTo>
                    <a:lnTo>
                      <a:pt x="182" y="280"/>
                    </a:lnTo>
                    <a:lnTo>
                      <a:pt x="180" y="276"/>
                    </a:lnTo>
                    <a:lnTo>
                      <a:pt x="176" y="256"/>
                    </a:lnTo>
                    <a:lnTo>
                      <a:pt x="174" y="238"/>
                    </a:lnTo>
                    <a:lnTo>
                      <a:pt x="170" y="242"/>
                    </a:lnTo>
                    <a:lnTo>
                      <a:pt x="164" y="244"/>
                    </a:lnTo>
                    <a:lnTo>
                      <a:pt x="146" y="240"/>
                    </a:lnTo>
                    <a:lnTo>
                      <a:pt x="136" y="232"/>
                    </a:lnTo>
                    <a:lnTo>
                      <a:pt x="122" y="228"/>
                    </a:lnTo>
                    <a:lnTo>
                      <a:pt x="116" y="228"/>
                    </a:lnTo>
                    <a:lnTo>
                      <a:pt x="110" y="226"/>
                    </a:lnTo>
                    <a:lnTo>
                      <a:pt x="104" y="224"/>
                    </a:lnTo>
                    <a:lnTo>
                      <a:pt x="98" y="218"/>
                    </a:lnTo>
                    <a:lnTo>
                      <a:pt x="96" y="214"/>
                    </a:lnTo>
                    <a:lnTo>
                      <a:pt x="96" y="210"/>
                    </a:lnTo>
                    <a:lnTo>
                      <a:pt x="96" y="206"/>
                    </a:lnTo>
                    <a:lnTo>
                      <a:pt x="98" y="202"/>
                    </a:lnTo>
                    <a:lnTo>
                      <a:pt x="102" y="200"/>
                    </a:lnTo>
                    <a:lnTo>
                      <a:pt x="110" y="192"/>
                    </a:lnTo>
                    <a:lnTo>
                      <a:pt x="118" y="180"/>
                    </a:lnTo>
                    <a:lnTo>
                      <a:pt x="116" y="176"/>
                    </a:lnTo>
                    <a:lnTo>
                      <a:pt x="114" y="170"/>
                    </a:lnTo>
                    <a:lnTo>
                      <a:pt x="112" y="164"/>
                    </a:lnTo>
                    <a:lnTo>
                      <a:pt x="114" y="160"/>
                    </a:lnTo>
                    <a:lnTo>
                      <a:pt x="114" y="158"/>
                    </a:lnTo>
                    <a:lnTo>
                      <a:pt x="116" y="156"/>
                    </a:lnTo>
                    <a:lnTo>
                      <a:pt x="120" y="152"/>
                    </a:lnTo>
                    <a:lnTo>
                      <a:pt x="134" y="148"/>
                    </a:lnTo>
                    <a:lnTo>
                      <a:pt x="136" y="142"/>
                    </a:lnTo>
                    <a:lnTo>
                      <a:pt x="138" y="140"/>
                    </a:lnTo>
                    <a:lnTo>
                      <a:pt x="150" y="140"/>
                    </a:lnTo>
                    <a:lnTo>
                      <a:pt x="148" y="140"/>
                    </a:lnTo>
                    <a:lnTo>
                      <a:pt x="142" y="136"/>
                    </a:lnTo>
                    <a:lnTo>
                      <a:pt x="140" y="132"/>
                    </a:lnTo>
                    <a:lnTo>
                      <a:pt x="140" y="128"/>
                    </a:lnTo>
                    <a:lnTo>
                      <a:pt x="142" y="122"/>
                    </a:lnTo>
                    <a:lnTo>
                      <a:pt x="148" y="118"/>
                    </a:lnTo>
                    <a:lnTo>
                      <a:pt x="154" y="116"/>
                    </a:lnTo>
                    <a:lnTo>
                      <a:pt x="160" y="116"/>
                    </a:lnTo>
                    <a:lnTo>
                      <a:pt x="166" y="118"/>
                    </a:lnTo>
                    <a:lnTo>
                      <a:pt x="172" y="120"/>
                    </a:lnTo>
                    <a:lnTo>
                      <a:pt x="190" y="134"/>
                    </a:lnTo>
                    <a:lnTo>
                      <a:pt x="208" y="134"/>
                    </a:lnTo>
                    <a:lnTo>
                      <a:pt x="214" y="138"/>
                    </a:lnTo>
                    <a:lnTo>
                      <a:pt x="214" y="144"/>
                    </a:lnTo>
                    <a:lnTo>
                      <a:pt x="214" y="150"/>
                    </a:lnTo>
                    <a:lnTo>
                      <a:pt x="210" y="152"/>
                    </a:lnTo>
                    <a:lnTo>
                      <a:pt x="206" y="152"/>
                    </a:lnTo>
                    <a:lnTo>
                      <a:pt x="204" y="154"/>
                    </a:lnTo>
                    <a:lnTo>
                      <a:pt x="202" y="160"/>
                    </a:lnTo>
                    <a:lnTo>
                      <a:pt x="210" y="180"/>
                    </a:lnTo>
                    <a:lnTo>
                      <a:pt x="218" y="170"/>
                    </a:lnTo>
                    <a:lnTo>
                      <a:pt x="226" y="168"/>
                    </a:lnTo>
                    <a:lnTo>
                      <a:pt x="230" y="168"/>
                    </a:lnTo>
                    <a:lnTo>
                      <a:pt x="234" y="172"/>
                    </a:lnTo>
                    <a:lnTo>
                      <a:pt x="236" y="180"/>
                    </a:lnTo>
                    <a:lnTo>
                      <a:pt x="240" y="190"/>
                    </a:lnTo>
                    <a:lnTo>
                      <a:pt x="242" y="202"/>
                    </a:lnTo>
                    <a:lnTo>
                      <a:pt x="246" y="210"/>
                    </a:lnTo>
                    <a:lnTo>
                      <a:pt x="252" y="220"/>
                    </a:lnTo>
                    <a:lnTo>
                      <a:pt x="264" y="236"/>
                    </a:lnTo>
                    <a:lnTo>
                      <a:pt x="268" y="248"/>
                    </a:lnTo>
                    <a:lnTo>
                      <a:pt x="300" y="244"/>
                    </a:lnTo>
                    <a:lnTo>
                      <a:pt x="314" y="236"/>
                    </a:lnTo>
                    <a:lnTo>
                      <a:pt x="326" y="220"/>
                    </a:lnTo>
                    <a:lnTo>
                      <a:pt x="332" y="204"/>
                    </a:lnTo>
                    <a:lnTo>
                      <a:pt x="336" y="188"/>
                    </a:lnTo>
                    <a:lnTo>
                      <a:pt x="336" y="186"/>
                    </a:lnTo>
                    <a:lnTo>
                      <a:pt x="336" y="184"/>
                    </a:lnTo>
                    <a:lnTo>
                      <a:pt x="338" y="184"/>
                    </a:lnTo>
                    <a:lnTo>
                      <a:pt x="350" y="176"/>
                    </a:lnTo>
                    <a:lnTo>
                      <a:pt x="352" y="176"/>
                    </a:lnTo>
                    <a:lnTo>
                      <a:pt x="350" y="174"/>
                    </a:lnTo>
                    <a:lnTo>
                      <a:pt x="330" y="168"/>
                    </a:lnTo>
                    <a:lnTo>
                      <a:pt x="326" y="156"/>
                    </a:lnTo>
                    <a:lnTo>
                      <a:pt x="324" y="1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39"/>
              <p:cNvSpPr/>
              <p:nvPr/>
            </p:nvSpPr>
            <p:spPr>
              <a:xfrm>
                <a:off x="5331960" y="3566880"/>
                <a:ext cx="128520" cy="154080"/>
              </a:xfrm>
              <a:custGeom>
                <a:avLst/>
                <a:gdLst/>
                <a:ahLst/>
                <a:rect l="l" t="t" r="r" b="b"/>
                <a:pathLst>
                  <a:path w="370" h="366">
                    <a:moveTo>
                      <a:pt x="82" y="120"/>
                    </a:moveTo>
                    <a:lnTo>
                      <a:pt x="80" y="120"/>
                    </a:lnTo>
                    <a:lnTo>
                      <a:pt x="20" y="146"/>
                    </a:lnTo>
                    <a:lnTo>
                      <a:pt x="2" y="162"/>
                    </a:lnTo>
                    <a:lnTo>
                      <a:pt x="0" y="182"/>
                    </a:lnTo>
                    <a:lnTo>
                      <a:pt x="2" y="196"/>
                    </a:lnTo>
                    <a:lnTo>
                      <a:pt x="4" y="206"/>
                    </a:lnTo>
                    <a:lnTo>
                      <a:pt x="10" y="210"/>
                    </a:lnTo>
                    <a:lnTo>
                      <a:pt x="28" y="222"/>
                    </a:lnTo>
                    <a:lnTo>
                      <a:pt x="30" y="222"/>
                    </a:lnTo>
                    <a:lnTo>
                      <a:pt x="34" y="252"/>
                    </a:lnTo>
                    <a:lnTo>
                      <a:pt x="54" y="276"/>
                    </a:lnTo>
                    <a:lnTo>
                      <a:pt x="60" y="282"/>
                    </a:lnTo>
                    <a:lnTo>
                      <a:pt x="66" y="286"/>
                    </a:lnTo>
                    <a:lnTo>
                      <a:pt x="82" y="290"/>
                    </a:lnTo>
                    <a:lnTo>
                      <a:pt x="86" y="290"/>
                    </a:lnTo>
                    <a:lnTo>
                      <a:pt x="92" y="296"/>
                    </a:lnTo>
                    <a:lnTo>
                      <a:pt x="104" y="300"/>
                    </a:lnTo>
                    <a:lnTo>
                      <a:pt x="152" y="302"/>
                    </a:lnTo>
                    <a:lnTo>
                      <a:pt x="194" y="304"/>
                    </a:lnTo>
                    <a:lnTo>
                      <a:pt x="204" y="306"/>
                    </a:lnTo>
                    <a:lnTo>
                      <a:pt x="210" y="310"/>
                    </a:lnTo>
                    <a:lnTo>
                      <a:pt x="214" y="312"/>
                    </a:lnTo>
                    <a:lnTo>
                      <a:pt x="214" y="318"/>
                    </a:lnTo>
                    <a:lnTo>
                      <a:pt x="214" y="332"/>
                    </a:lnTo>
                    <a:lnTo>
                      <a:pt x="214" y="342"/>
                    </a:lnTo>
                    <a:lnTo>
                      <a:pt x="216" y="346"/>
                    </a:lnTo>
                    <a:lnTo>
                      <a:pt x="234" y="342"/>
                    </a:lnTo>
                    <a:lnTo>
                      <a:pt x="242" y="340"/>
                    </a:lnTo>
                    <a:lnTo>
                      <a:pt x="250" y="338"/>
                    </a:lnTo>
                    <a:lnTo>
                      <a:pt x="256" y="340"/>
                    </a:lnTo>
                    <a:lnTo>
                      <a:pt x="258" y="342"/>
                    </a:lnTo>
                    <a:lnTo>
                      <a:pt x="266" y="350"/>
                    </a:lnTo>
                    <a:lnTo>
                      <a:pt x="278" y="362"/>
                    </a:lnTo>
                    <a:lnTo>
                      <a:pt x="280" y="364"/>
                    </a:lnTo>
                    <a:lnTo>
                      <a:pt x="282" y="366"/>
                    </a:lnTo>
                    <a:lnTo>
                      <a:pt x="290" y="360"/>
                    </a:lnTo>
                    <a:lnTo>
                      <a:pt x="298" y="350"/>
                    </a:lnTo>
                    <a:lnTo>
                      <a:pt x="300" y="348"/>
                    </a:lnTo>
                    <a:lnTo>
                      <a:pt x="314" y="358"/>
                    </a:lnTo>
                    <a:lnTo>
                      <a:pt x="324" y="350"/>
                    </a:lnTo>
                    <a:lnTo>
                      <a:pt x="326" y="342"/>
                    </a:lnTo>
                    <a:lnTo>
                      <a:pt x="330" y="338"/>
                    </a:lnTo>
                    <a:lnTo>
                      <a:pt x="334" y="334"/>
                    </a:lnTo>
                    <a:lnTo>
                      <a:pt x="342" y="332"/>
                    </a:lnTo>
                    <a:lnTo>
                      <a:pt x="346" y="330"/>
                    </a:lnTo>
                    <a:lnTo>
                      <a:pt x="344" y="328"/>
                    </a:lnTo>
                    <a:lnTo>
                      <a:pt x="342" y="326"/>
                    </a:lnTo>
                    <a:lnTo>
                      <a:pt x="344" y="306"/>
                    </a:lnTo>
                    <a:lnTo>
                      <a:pt x="338" y="300"/>
                    </a:lnTo>
                    <a:lnTo>
                      <a:pt x="334" y="296"/>
                    </a:lnTo>
                    <a:lnTo>
                      <a:pt x="328" y="294"/>
                    </a:lnTo>
                    <a:lnTo>
                      <a:pt x="320" y="294"/>
                    </a:lnTo>
                    <a:lnTo>
                      <a:pt x="310" y="296"/>
                    </a:lnTo>
                    <a:lnTo>
                      <a:pt x="306" y="296"/>
                    </a:lnTo>
                    <a:lnTo>
                      <a:pt x="302" y="294"/>
                    </a:lnTo>
                    <a:lnTo>
                      <a:pt x="302" y="290"/>
                    </a:lnTo>
                    <a:lnTo>
                      <a:pt x="302" y="286"/>
                    </a:lnTo>
                    <a:lnTo>
                      <a:pt x="292" y="272"/>
                    </a:lnTo>
                    <a:lnTo>
                      <a:pt x="282" y="262"/>
                    </a:lnTo>
                    <a:lnTo>
                      <a:pt x="278" y="256"/>
                    </a:lnTo>
                    <a:lnTo>
                      <a:pt x="274" y="250"/>
                    </a:lnTo>
                    <a:lnTo>
                      <a:pt x="272" y="244"/>
                    </a:lnTo>
                    <a:lnTo>
                      <a:pt x="274" y="238"/>
                    </a:lnTo>
                    <a:lnTo>
                      <a:pt x="274" y="236"/>
                    </a:lnTo>
                    <a:lnTo>
                      <a:pt x="298" y="240"/>
                    </a:lnTo>
                    <a:lnTo>
                      <a:pt x="296" y="226"/>
                    </a:lnTo>
                    <a:lnTo>
                      <a:pt x="296" y="216"/>
                    </a:lnTo>
                    <a:lnTo>
                      <a:pt x="298" y="212"/>
                    </a:lnTo>
                    <a:lnTo>
                      <a:pt x="300" y="210"/>
                    </a:lnTo>
                    <a:lnTo>
                      <a:pt x="304" y="206"/>
                    </a:lnTo>
                    <a:lnTo>
                      <a:pt x="310" y="204"/>
                    </a:lnTo>
                    <a:lnTo>
                      <a:pt x="318" y="200"/>
                    </a:lnTo>
                    <a:lnTo>
                      <a:pt x="318" y="196"/>
                    </a:lnTo>
                    <a:lnTo>
                      <a:pt x="312" y="178"/>
                    </a:lnTo>
                    <a:lnTo>
                      <a:pt x="312" y="170"/>
                    </a:lnTo>
                    <a:lnTo>
                      <a:pt x="312" y="166"/>
                    </a:lnTo>
                    <a:lnTo>
                      <a:pt x="318" y="162"/>
                    </a:lnTo>
                    <a:lnTo>
                      <a:pt x="324" y="162"/>
                    </a:lnTo>
                    <a:lnTo>
                      <a:pt x="338" y="166"/>
                    </a:lnTo>
                    <a:lnTo>
                      <a:pt x="340" y="166"/>
                    </a:lnTo>
                    <a:lnTo>
                      <a:pt x="340" y="168"/>
                    </a:lnTo>
                    <a:lnTo>
                      <a:pt x="356" y="186"/>
                    </a:lnTo>
                    <a:lnTo>
                      <a:pt x="370" y="162"/>
                    </a:lnTo>
                    <a:lnTo>
                      <a:pt x="356" y="140"/>
                    </a:lnTo>
                    <a:lnTo>
                      <a:pt x="348" y="128"/>
                    </a:lnTo>
                    <a:lnTo>
                      <a:pt x="336" y="136"/>
                    </a:lnTo>
                    <a:lnTo>
                      <a:pt x="334" y="134"/>
                    </a:lnTo>
                    <a:lnTo>
                      <a:pt x="302" y="126"/>
                    </a:lnTo>
                    <a:lnTo>
                      <a:pt x="292" y="122"/>
                    </a:lnTo>
                    <a:lnTo>
                      <a:pt x="286" y="116"/>
                    </a:lnTo>
                    <a:lnTo>
                      <a:pt x="280" y="110"/>
                    </a:lnTo>
                    <a:lnTo>
                      <a:pt x="278" y="106"/>
                    </a:lnTo>
                    <a:lnTo>
                      <a:pt x="260" y="96"/>
                    </a:lnTo>
                    <a:lnTo>
                      <a:pt x="260" y="78"/>
                    </a:lnTo>
                    <a:lnTo>
                      <a:pt x="294" y="58"/>
                    </a:lnTo>
                    <a:lnTo>
                      <a:pt x="292" y="44"/>
                    </a:lnTo>
                    <a:lnTo>
                      <a:pt x="286" y="30"/>
                    </a:lnTo>
                    <a:lnTo>
                      <a:pt x="282" y="18"/>
                    </a:lnTo>
                    <a:lnTo>
                      <a:pt x="258" y="22"/>
                    </a:lnTo>
                    <a:lnTo>
                      <a:pt x="242" y="26"/>
                    </a:lnTo>
                    <a:lnTo>
                      <a:pt x="226" y="28"/>
                    </a:lnTo>
                    <a:lnTo>
                      <a:pt x="200" y="22"/>
                    </a:lnTo>
                    <a:lnTo>
                      <a:pt x="200" y="14"/>
                    </a:lnTo>
                    <a:lnTo>
                      <a:pt x="196" y="14"/>
                    </a:lnTo>
                    <a:lnTo>
                      <a:pt x="190" y="10"/>
                    </a:lnTo>
                    <a:lnTo>
                      <a:pt x="188" y="6"/>
                    </a:lnTo>
                    <a:lnTo>
                      <a:pt x="186" y="2"/>
                    </a:lnTo>
                    <a:lnTo>
                      <a:pt x="186" y="0"/>
                    </a:lnTo>
                    <a:lnTo>
                      <a:pt x="184" y="22"/>
                    </a:lnTo>
                    <a:lnTo>
                      <a:pt x="182" y="28"/>
                    </a:lnTo>
                    <a:lnTo>
                      <a:pt x="180" y="34"/>
                    </a:lnTo>
                    <a:lnTo>
                      <a:pt x="182" y="36"/>
                    </a:lnTo>
                    <a:lnTo>
                      <a:pt x="184" y="40"/>
                    </a:lnTo>
                    <a:lnTo>
                      <a:pt x="184" y="46"/>
                    </a:lnTo>
                    <a:lnTo>
                      <a:pt x="182" y="50"/>
                    </a:lnTo>
                    <a:lnTo>
                      <a:pt x="180" y="54"/>
                    </a:lnTo>
                    <a:lnTo>
                      <a:pt x="184" y="68"/>
                    </a:lnTo>
                    <a:lnTo>
                      <a:pt x="182" y="68"/>
                    </a:lnTo>
                    <a:lnTo>
                      <a:pt x="182" y="70"/>
                    </a:lnTo>
                    <a:lnTo>
                      <a:pt x="172" y="78"/>
                    </a:lnTo>
                    <a:lnTo>
                      <a:pt x="172" y="96"/>
                    </a:lnTo>
                    <a:lnTo>
                      <a:pt x="170" y="98"/>
                    </a:lnTo>
                    <a:lnTo>
                      <a:pt x="148" y="106"/>
                    </a:lnTo>
                    <a:lnTo>
                      <a:pt x="132" y="110"/>
                    </a:lnTo>
                    <a:lnTo>
                      <a:pt x="98" y="106"/>
                    </a:lnTo>
                    <a:lnTo>
                      <a:pt x="82" y="1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40"/>
              <p:cNvSpPr/>
              <p:nvPr/>
            </p:nvSpPr>
            <p:spPr>
              <a:xfrm>
                <a:off x="5574240" y="3896280"/>
                <a:ext cx="36720" cy="107640"/>
              </a:xfrm>
              <a:custGeom>
                <a:avLst/>
                <a:gdLst/>
                <a:ahLst/>
                <a:rect l="l" t="t" r="r" b="b"/>
                <a:pathLst>
                  <a:path w="106" h="256">
                    <a:moveTo>
                      <a:pt x="80" y="0"/>
                    </a:moveTo>
                    <a:lnTo>
                      <a:pt x="80" y="0"/>
                    </a:lnTo>
                    <a:lnTo>
                      <a:pt x="62" y="14"/>
                    </a:lnTo>
                    <a:lnTo>
                      <a:pt x="46" y="32"/>
                    </a:lnTo>
                    <a:lnTo>
                      <a:pt x="34" y="50"/>
                    </a:lnTo>
                    <a:lnTo>
                      <a:pt x="24" y="70"/>
                    </a:lnTo>
                    <a:lnTo>
                      <a:pt x="10" y="98"/>
                    </a:lnTo>
                    <a:lnTo>
                      <a:pt x="4" y="104"/>
                    </a:lnTo>
                    <a:lnTo>
                      <a:pt x="0" y="108"/>
                    </a:lnTo>
                    <a:lnTo>
                      <a:pt x="6" y="152"/>
                    </a:lnTo>
                    <a:lnTo>
                      <a:pt x="6" y="154"/>
                    </a:lnTo>
                    <a:lnTo>
                      <a:pt x="2" y="184"/>
                    </a:lnTo>
                    <a:lnTo>
                      <a:pt x="2" y="196"/>
                    </a:lnTo>
                    <a:lnTo>
                      <a:pt x="2" y="200"/>
                    </a:lnTo>
                    <a:lnTo>
                      <a:pt x="4" y="202"/>
                    </a:lnTo>
                    <a:lnTo>
                      <a:pt x="36" y="224"/>
                    </a:lnTo>
                    <a:lnTo>
                      <a:pt x="38" y="224"/>
                    </a:lnTo>
                    <a:lnTo>
                      <a:pt x="38" y="226"/>
                    </a:lnTo>
                    <a:lnTo>
                      <a:pt x="42" y="236"/>
                    </a:lnTo>
                    <a:lnTo>
                      <a:pt x="50" y="248"/>
                    </a:lnTo>
                    <a:lnTo>
                      <a:pt x="56" y="252"/>
                    </a:lnTo>
                    <a:lnTo>
                      <a:pt x="62" y="256"/>
                    </a:lnTo>
                    <a:lnTo>
                      <a:pt x="66" y="204"/>
                    </a:lnTo>
                    <a:lnTo>
                      <a:pt x="66" y="202"/>
                    </a:lnTo>
                    <a:lnTo>
                      <a:pt x="90" y="146"/>
                    </a:lnTo>
                    <a:lnTo>
                      <a:pt x="98" y="80"/>
                    </a:lnTo>
                    <a:lnTo>
                      <a:pt x="98" y="78"/>
                    </a:lnTo>
                    <a:lnTo>
                      <a:pt x="106" y="60"/>
                    </a:lnTo>
                    <a:lnTo>
                      <a:pt x="100" y="44"/>
                    </a:lnTo>
                    <a:lnTo>
                      <a:pt x="98" y="44"/>
                    </a:lnTo>
                    <a:lnTo>
                      <a:pt x="98" y="24"/>
                    </a:lnTo>
                    <a:lnTo>
                      <a:pt x="98" y="22"/>
                    </a:lnTo>
                    <a:lnTo>
                      <a:pt x="102" y="16"/>
                    </a:lnTo>
                    <a:lnTo>
                      <a:pt x="106" y="12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41"/>
              <p:cNvSpPr/>
              <p:nvPr/>
            </p:nvSpPr>
            <p:spPr>
              <a:xfrm>
                <a:off x="5302800" y="4087440"/>
                <a:ext cx="55440" cy="58680"/>
              </a:xfrm>
              <a:custGeom>
                <a:avLst/>
                <a:gdLst/>
                <a:ahLst/>
                <a:rect l="l" t="t" r="r" b="b"/>
                <a:pathLst>
                  <a:path w="160" h="140">
                    <a:moveTo>
                      <a:pt x="72" y="14"/>
                    </a:moveTo>
                    <a:lnTo>
                      <a:pt x="70" y="18"/>
                    </a:lnTo>
                    <a:lnTo>
                      <a:pt x="68" y="20"/>
                    </a:lnTo>
                    <a:lnTo>
                      <a:pt x="36" y="28"/>
                    </a:lnTo>
                    <a:lnTo>
                      <a:pt x="38" y="32"/>
                    </a:lnTo>
                    <a:lnTo>
                      <a:pt x="48" y="44"/>
                    </a:lnTo>
                    <a:lnTo>
                      <a:pt x="44" y="46"/>
                    </a:lnTo>
                    <a:lnTo>
                      <a:pt x="30" y="54"/>
                    </a:lnTo>
                    <a:lnTo>
                      <a:pt x="6" y="72"/>
                    </a:lnTo>
                    <a:lnTo>
                      <a:pt x="2" y="80"/>
                    </a:lnTo>
                    <a:lnTo>
                      <a:pt x="0" y="92"/>
                    </a:lnTo>
                    <a:lnTo>
                      <a:pt x="4" y="108"/>
                    </a:lnTo>
                    <a:lnTo>
                      <a:pt x="10" y="126"/>
                    </a:lnTo>
                    <a:lnTo>
                      <a:pt x="34" y="128"/>
                    </a:lnTo>
                    <a:lnTo>
                      <a:pt x="36" y="128"/>
                    </a:lnTo>
                    <a:lnTo>
                      <a:pt x="60" y="140"/>
                    </a:lnTo>
                    <a:lnTo>
                      <a:pt x="86" y="136"/>
                    </a:lnTo>
                    <a:lnTo>
                      <a:pt x="94" y="132"/>
                    </a:lnTo>
                    <a:lnTo>
                      <a:pt x="102" y="126"/>
                    </a:lnTo>
                    <a:lnTo>
                      <a:pt x="112" y="118"/>
                    </a:lnTo>
                    <a:lnTo>
                      <a:pt x="122" y="106"/>
                    </a:lnTo>
                    <a:lnTo>
                      <a:pt x="124" y="106"/>
                    </a:lnTo>
                    <a:lnTo>
                      <a:pt x="126" y="104"/>
                    </a:lnTo>
                    <a:lnTo>
                      <a:pt x="136" y="100"/>
                    </a:lnTo>
                    <a:lnTo>
                      <a:pt x="134" y="66"/>
                    </a:lnTo>
                    <a:lnTo>
                      <a:pt x="148" y="44"/>
                    </a:lnTo>
                    <a:lnTo>
                      <a:pt x="160" y="34"/>
                    </a:lnTo>
                    <a:lnTo>
                      <a:pt x="160" y="22"/>
                    </a:lnTo>
                    <a:lnTo>
                      <a:pt x="158" y="14"/>
                    </a:lnTo>
                    <a:lnTo>
                      <a:pt x="156" y="10"/>
                    </a:lnTo>
                    <a:lnTo>
                      <a:pt x="152" y="2"/>
                    </a:lnTo>
                    <a:lnTo>
                      <a:pt x="146" y="0"/>
                    </a:lnTo>
                    <a:lnTo>
                      <a:pt x="146" y="12"/>
                    </a:lnTo>
                    <a:lnTo>
                      <a:pt x="126" y="8"/>
                    </a:lnTo>
                    <a:lnTo>
                      <a:pt x="116" y="14"/>
                    </a:lnTo>
                    <a:lnTo>
                      <a:pt x="114" y="14"/>
                    </a:lnTo>
                    <a:lnTo>
                      <a:pt x="72" y="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8" name="Group 42"/>
          <p:cNvGrpSpPr/>
          <p:nvPr/>
        </p:nvGrpSpPr>
        <p:grpSpPr>
          <a:xfrm>
            <a:off x="2570040" y="2789280"/>
            <a:ext cx="1405080" cy="1404720"/>
            <a:chOff x="2570040" y="2789280"/>
            <a:chExt cx="1405080" cy="1404720"/>
          </a:xfrm>
        </p:grpSpPr>
        <p:sp>
          <p:nvSpPr>
            <p:cNvPr id="339" name="Oval 43"/>
            <p:cNvSpPr/>
            <p:nvPr/>
          </p:nvSpPr>
          <p:spPr>
            <a:xfrm flipV="1">
              <a:off x="2570040" y="2789280"/>
              <a:ext cx="1405080" cy="1404720"/>
            </a:xfrm>
            <a:prstGeom prst="ellipse">
              <a:avLst/>
            </a:prstGeom>
            <a:solidFill>
              <a:srgbClr val="d9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拉手小人 1059"/>
            <p:cNvSpPr/>
            <p:nvPr/>
          </p:nvSpPr>
          <p:spPr>
            <a:xfrm>
              <a:off x="2794680" y="3030840"/>
              <a:ext cx="921960" cy="921600"/>
            </a:xfrm>
            <a:custGeom>
              <a:avLst/>
              <a:gdLst/>
              <a:ahLst/>
              <a:rect l="l" t="t" r="r" b="b"/>
              <a:pathLst>
                <a:path w="104" h="100">
                  <a:moveTo>
                    <a:pt x="15" y="30"/>
                  </a:moveTo>
                  <a:cubicBezTo>
                    <a:pt x="39" y="30"/>
                    <a:pt x="39" y="30"/>
                    <a:pt x="39" y="30"/>
                  </a:cubicBezTo>
                  <a:cubicBezTo>
                    <a:pt x="47" y="44"/>
                    <a:pt x="47" y="44"/>
                    <a:pt x="47" y="44"/>
                  </a:cubicBezTo>
                  <a:cubicBezTo>
                    <a:pt x="54" y="53"/>
                    <a:pt x="54" y="53"/>
                    <a:pt x="54" y="53"/>
                  </a:cubicBezTo>
                  <a:cubicBezTo>
                    <a:pt x="69" y="30"/>
                    <a:pt x="69" y="30"/>
                    <a:pt x="69" y="30"/>
                  </a:cubicBezTo>
                  <a:cubicBezTo>
                    <a:pt x="96" y="30"/>
                    <a:pt x="96" y="30"/>
                    <a:pt x="96" y="30"/>
                  </a:cubicBezTo>
                  <a:cubicBezTo>
                    <a:pt x="104" y="53"/>
                    <a:pt x="104" y="53"/>
                    <a:pt x="104" y="53"/>
                  </a:cubicBezTo>
                  <a:cubicBezTo>
                    <a:pt x="100" y="66"/>
                    <a:pt x="100" y="66"/>
                    <a:pt x="100" y="66"/>
                  </a:cubicBezTo>
                  <a:cubicBezTo>
                    <a:pt x="96" y="65"/>
                    <a:pt x="96" y="65"/>
                    <a:pt x="96" y="65"/>
                  </a:cubicBezTo>
                  <a:cubicBezTo>
                    <a:pt x="97" y="55"/>
                    <a:pt x="97" y="55"/>
                    <a:pt x="97" y="55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3" y="65"/>
                    <a:pt x="93" y="65"/>
                    <a:pt x="93" y="65"/>
                  </a:cubicBezTo>
                  <a:cubicBezTo>
                    <a:pt x="90" y="100"/>
                    <a:pt x="90" y="100"/>
                    <a:pt x="90" y="100"/>
                  </a:cubicBezTo>
                  <a:cubicBezTo>
                    <a:pt x="83" y="100"/>
                    <a:pt x="83" y="100"/>
                    <a:pt x="83" y="100"/>
                  </a:cubicBezTo>
                  <a:cubicBezTo>
                    <a:pt x="83" y="68"/>
                    <a:pt x="83" y="68"/>
                    <a:pt x="83" y="68"/>
                  </a:cubicBezTo>
                  <a:cubicBezTo>
                    <a:pt x="79" y="68"/>
                    <a:pt x="79" y="68"/>
                    <a:pt x="79" y="68"/>
                  </a:cubicBezTo>
                  <a:cubicBezTo>
                    <a:pt x="74" y="100"/>
                    <a:pt x="74" y="100"/>
                    <a:pt x="74" y="100"/>
                  </a:cubicBezTo>
                  <a:cubicBezTo>
                    <a:pt x="67" y="100"/>
                    <a:pt x="67" y="100"/>
                    <a:pt x="67" y="100"/>
                  </a:cubicBezTo>
                  <a:cubicBezTo>
                    <a:pt x="69" y="65"/>
                    <a:pt x="69" y="65"/>
                    <a:pt x="69" y="65"/>
                  </a:cubicBezTo>
                  <a:cubicBezTo>
                    <a:pt x="69" y="48"/>
                    <a:pt x="69" y="48"/>
                    <a:pt x="69" y="48"/>
                  </a:cubicBezTo>
                  <a:cubicBezTo>
                    <a:pt x="53" y="61"/>
                    <a:pt x="53" y="61"/>
                    <a:pt x="53" y="61"/>
                  </a:cubicBezTo>
                  <a:cubicBezTo>
                    <a:pt x="41" y="53"/>
                    <a:pt x="41" y="53"/>
                    <a:pt x="41" y="53"/>
                  </a:cubicBezTo>
                  <a:cubicBezTo>
                    <a:pt x="41" y="65"/>
                    <a:pt x="41" y="65"/>
                    <a:pt x="41" y="65"/>
                  </a:cubicBezTo>
                  <a:cubicBezTo>
                    <a:pt x="37" y="100"/>
                    <a:pt x="37" y="100"/>
                    <a:pt x="37" y="100"/>
                  </a:cubicBezTo>
                  <a:cubicBezTo>
                    <a:pt x="30" y="100"/>
                    <a:pt x="30" y="100"/>
                    <a:pt x="30" y="100"/>
                  </a:cubicBezTo>
                  <a:cubicBezTo>
                    <a:pt x="30" y="68"/>
                    <a:pt x="30" y="68"/>
                    <a:pt x="30" y="68"/>
                  </a:cubicBezTo>
                  <a:cubicBezTo>
                    <a:pt x="27" y="68"/>
                    <a:pt x="27" y="68"/>
                    <a:pt x="27" y="68"/>
                  </a:cubicBezTo>
                  <a:cubicBezTo>
                    <a:pt x="20" y="100"/>
                    <a:pt x="20" y="100"/>
                    <a:pt x="20" y="100"/>
                  </a:cubicBezTo>
                  <a:cubicBezTo>
                    <a:pt x="14" y="100"/>
                    <a:pt x="14" y="100"/>
                    <a:pt x="14" y="100"/>
                  </a:cubicBezTo>
                  <a:cubicBezTo>
                    <a:pt x="16" y="65"/>
                    <a:pt x="16" y="65"/>
                    <a:pt x="16" y="65"/>
                  </a:cubicBezTo>
                  <a:cubicBezTo>
                    <a:pt x="16" y="49"/>
                    <a:pt x="16" y="49"/>
                    <a:pt x="16" y="49"/>
                  </a:cubicBezTo>
                  <a:cubicBezTo>
                    <a:pt x="7" y="60"/>
                    <a:pt x="7" y="60"/>
                    <a:pt x="7" y="60"/>
                  </a:cubicBezTo>
                  <a:cubicBezTo>
                    <a:pt x="7" y="65"/>
                    <a:pt x="7" y="65"/>
                    <a:pt x="7" y="65"/>
                  </a:cubicBezTo>
                  <a:cubicBezTo>
                    <a:pt x="10" y="65"/>
                    <a:pt x="10" y="65"/>
                    <a:pt x="10" y="65"/>
                  </a:cubicBezTo>
                  <a:cubicBezTo>
                    <a:pt x="10" y="89"/>
                    <a:pt x="10" y="89"/>
                    <a:pt x="10" y="89"/>
                  </a:cubicBezTo>
                  <a:cubicBezTo>
                    <a:pt x="0" y="89"/>
                    <a:pt x="0" y="89"/>
                    <a:pt x="0" y="89"/>
                  </a:cubicBezTo>
                  <a:cubicBezTo>
                    <a:pt x="0" y="65"/>
                    <a:pt x="0" y="65"/>
                    <a:pt x="0" y="65"/>
                  </a:cubicBezTo>
                  <a:cubicBezTo>
                    <a:pt x="3" y="65"/>
                    <a:pt x="3" y="65"/>
                    <a:pt x="3" y="65"/>
                  </a:cubicBezTo>
                  <a:cubicBezTo>
                    <a:pt x="3" y="60"/>
                    <a:pt x="3" y="60"/>
                    <a:pt x="3" y="60"/>
                  </a:cubicBezTo>
                  <a:cubicBezTo>
                    <a:pt x="1" y="59"/>
                    <a:pt x="1" y="59"/>
                    <a:pt x="1" y="59"/>
                  </a:cubicBezTo>
                  <a:cubicBezTo>
                    <a:pt x="15" y="30"/>
                    <a:pt x="15" y="30"/>
                    <a:pt x="15" y="30"/>
                  </a:cubicBezTo>
                  <a:close/>
                  <a:moveTo>
                    <a:pt x="86" y="4"/>
                  </a:moveTo>
                  <a:cubicBezTo>
                    <a:pt x="80" y="0"/>
                    <a:pt x="73" y="2"/>
                    <a:pt x="70" y="8"/>
                  </a:cubicBezTo>
                  <a:cubicBezTo>
                    <a:pt x="67" y="13"/>
                    <a:pt x="68" y="20"/>
                    <a:pt x="74" y="24"/>
                  </a:cubicBezTo>
                  <a:cubicBezTo>
                    <a:pt x="79" y="27"/>
                    <a:pt x="87" y="25"/>
                    <a:pt x="90" y="20"/>
                  </a:cubicBezTo>
                  <a:cubicBezTo>
                    <a:pt x="93" y="14"/>
                    <a:pt x="91" y="7"/>
                    <a:pt x="86" y="4"/>
                  </a:cubicBezTo>
                  <a:close/>
                  <a:moveTo>
                    <a:pt x="22" y="4"/>
                  </a:moveTo>
                  <a:cubicBezTo>
                    <a:pt x="28" y="0"/>
                    <a:pt x="35" y="2"/>
                    <a:pt x="38" y="8"/>
                  </a:cubicBezTo>
                  <a:cubicBezTo>
                    <a:pt x="41" y="13"/>
                    <a:pt x="40" y="20"/>
                    <a:pt x="34" y="24"/>
                  </a:cubicBezTo>
                  <a:cubicBezTo>
                    <a:pt x="29" y="27"/>
                    <a:pt x="21" y="25"/>
                    <a:pt x="18" y="20"/>
                  </a:cubicBezTo>
                  <a:cubicBezTo>
                    <a:pt x="15" y="14"/>
                    <a:pt x="17" y="7"/>
                    <a:pt x="2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Group 45"/>
          <p:cNvGrpSpPr/>
          <p:nvPr/>
        </p:nvGrpSpPr>
        <p:grpSpPr>
          <a:xfrm>
            <a:off x="6470640" y="2795760"/>
            <a:ext cx="1405080" cy="1404720"/>
            <a:chOff x="6470640" y="2795760"/>
            <a:chExt cx="1405080" cy="1404720"/>
          </a:xfrm>
        </p:grpSpPr>
        <p:sp>
          <p:nvSpPr>
            <p:cNvPr id="342" name="Oval 46"/>
            <p:cNvSpPr/>
            <p:nvPr/>
          </p:nvSpPr>
          <p:spPr>
            <a:xfrm flipV="1">
              <a:off x="6470640" y="2795760"/>
              <a:ext cx="1405080" cy="1404720"/>
            </a:xfrm>
            <a:prstGeom prst="ellipse">
              <a:avLst/>
            </a:prstGeom>
            <a:solidFill>
              <a:srgbClr val="d9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网络 1060"/>
            <p:cNvSpPr/>
            <p:nvPr/>
          </p:nvSpPr>
          <p:spPr>
            <a:xfrm flipV="1">
              <a:off x="6616080" y="2939400"/>
              <a:ext cx="1102320" cy="1101960"/>
            </a:xfrm>
            <a:custGeom>
              <a:avLst/>
              <a:gdLst/>
              <a:ahLst/>
              <a:rect l="l" t="t" r="r" b="b"/>
              <a:pathLst>
                <a:path w="1889279" h="1810503">
                  <a:moveTo>
                    <a:pt x="1408636" y="1462945"/>
                  </a:moveTo>
                  <a:cubicBezTo>
                    <a:pt x="1471912" y="1494489"/>
                    <a:pt x="1528819" y="1532588"/>
                    <a:pt x="1575786" y="1578162"/>
                  </a:cubicBezTo>
                  <a:cubicBezTo>
                    <a:pt x="1467281" y="1672800"/>
                    <a:pt x="1335058" y="1742507"/>
                    <a:pt x="1188886" y="1779443"/>
                  </a:cubicBezTo>
                  <a:cubicBezTo>
                    <a:pt x="1278166" y="1700386"/>
                    <a:pt x="1353810" y="1592053"/>
                    <a:pt x="1408636" y="1462945"/>
                  </a:cubicBezTo>
                  <a:close/>
                  <a:moveTo>
                    <a:pt x="494888" y="1445849"/>
                  </a:moveTo>
                  <a:cubicBezTo>
                    <a:pt x="556747" y="1590569"/>
                    <a:pt x="643865" y="1709702"/>
                    <a:pt x="747068" y="1790925"/>
                  </a:cubicBezTo>
                  <a:cubicBezTo>
                    <a:pt x="576321" y="1756303"/>
                    <a:pt x="422614" y="1677538"/>
                    <a:pt x="300900" y="1566189"/>
                  </a:cubicBezTo>
                  <a:cubicBezTo>
                    <a:pt x="355309" y="1517036"/>
                    <a:pt x="421005" y="1476420"/>
                    <a:pt x="494888" y="1445849"/>
                  </a:cubicBezTo>
                  <a:close/>
                  <a:moveTo>
                    <a:pt x="900586" y="1355871"/>
                  </a:moveTo>
                  <a:lnTo>
                    <a:pt x="900586" y="1808904"/>
                  </a:lnTo>
                  <a:lnTo>
                    <a:pt x="884222" y="1808113"/>
                  </a:lnTo>
                  <a:cubicBezTo>
                    <a:pt x="745280" y="1742581"/>
                    <a:pt x="627378" y="1604992"/>
                    <a:pt x="551037" y="1423344"/>
                  </a:cubicBezTo>
                  <a:cubicBezTo>
                    <a:pt x="655969" y="1381011"/>
                    <a:pt x="774745" y="1357337"/>
                    <a:pt x="900586" y="1355871"/>
                  </a:cubicBezTo>
                  <a:close/>
                  <a:moveTo>
                    <a:pt x="953521" y="1355186"/>
                  </a:moveTo>
                  <a:cubicBezTo>
                    <a:pt x="1099660" y="1356509"/>
                    <a:pt x="1236550" y="1386650"/>
                    <a:pt x="1354036" y="1440083"/>
                  </a:cubicBezTo>
                  <a:cubicBezTo>
                    <a:pt x="1283551" y="1605630"/>
                    <a:pt x="1178611" y="1734316"/>
                    <a:pt x="1054486" y="1804443"/>
                  </a:cubicBezTo>
                  <a:lnTo>
                    <a:pt x="953521" y="1810503"/>
                  </a:lnTo>
                  <a:lnTo>
                    <a:pt x="953521" y="1355186"/>
                  </a:lnTo>
                  <a:close/>
                  <a:moveTo>
                    <a:pt x="1517159" y="931303"/>
                  </a:moveTo>
                  <a:lnTo>
                    <a:pt x="1889279" y="931303"/>
                  </a:lnTo>
                  <a:cubicBezTo>
                    <a:pt x="1883282" y="1167646"/>
                    <a:pt x="1781715" y="1381244"/>
                    <a:pt x="1618873" y="1536894"/>
                  </a:cubicBezTo>
                  <a:cubicBezTo>
                    <a:pt x="1566437" y="1485571"/>
                    <a:pt x="1502786" y="1442774"/>
                    <a:pt x="1431939" y="1407715"/>
                  </a:cubicBezTo>
                  <a:cubicBezTo>
                    <a:pt x="1485774" y="1266553"/>
                    <a:pt x="1516428" y="1104135"/>
                    <a:pt x="1517159" y="931303"/>
                  </a:cubicBezTo>
                  <a:close/>
                  <a:moveTo>
                    <a:pt x="953521" y="931303"/>
                  </a:moveTo>
                  <a:lnTo>
                    <a:pt x="1456842" y="931303"/>
                  </a:lnTo>
                  <a:cubicBezTo>
                    <a:pt x="1456123" y="1096196"/>
                    <a:pt x="1427268" y="1250986"/>
                    <a:pt x="1375819" y="1384691"/>
                  </a:cubicBezTo>
                  <a:cubicBezTo>
                    <a:pt x="1251537" y="1327928"/>
                    <a:pt x="1107288" y="1296191"/>
                    <a:pt x="953521" y="1294902"/>
                  </a:cubicBezTo>
                  <a:lnTo>
                    <a:pt x="953521" y="931303"/>
                  </a:lnTo>
                  <a:close/>
                  <a:moveTo>
                    <a:pt x="448568" y="931303"/>
                  </a:moveTo>
                  <a:lnTo>
                    <a:pt x="900586" y="931303"/>
                  </a:lnTo>
                  <a:lnTo>
                    <a:pt x="900586" y="1295603"/>
                  </a:lnTo>
                  <a:cubicBezTo>
                    <a:pt x="766605" y="1297053"/>
                    <a:pt x="640053" y="1322469"/>
                    <a:pt x="528061" y="1368046"/>
                  </a:cubicBezTo>
                  <a:cubicBezTo>
                    <a:pt x="478984" y="1238632"/>
                    <a:pt x="450499" y="1089843"/>
                    <a:pt x="448568" y="931303"/>
                  </a:cubicBezTo>
                  <a:close/>
                  <a:moveTo>
                    <a:pt x="0" y="931303"/>
                  </a:moveTo>
                  <a:lnTo>
                    <a:pt x="388264" y="931303"/>
                  </a:lnTo>
                  <a:cubicBezTo>
                    <a:pt x="390220" y="1097785"/>
                    <a:pt x="420532" y="1254193"/>
                    <a:pt x="473139" y="1390578"/>
                  </a:cubicBezTo>
                  <a:cubicBezTo>
                    <a:pt x="391203" y="1423988"/>
                    <a:pt x="318506" y="1469260"/>
                    <a:pt x="258353" y="1524144"/>
                  </a:cubicBezTo>
                  <a:cubicBezTo>
                    <a:pt x="102364" y="1370026"/>
                    <a:pt x="5849" y="1161456"/>
                    <a:pt x="0" y="931303"/>
                  </a:cubicBezTo>
                  <a:close/>
                  <a:moveTo>
                    <a:pt x="536834" y="421694"/>
                  </a:moveTo>
                  <a:cubicBezTo>
                    <a:pt x="646682" y="464986"/>
                    <a:pt x="770110" y="489176"/>
                    <a:pt x="900586" y="490537"/>
                  </a:cubicBezTo>
                  <a:lnTo>
                    <a:pt x="900586" y="875390"/>
                  </a:lnTo>
                  <a:lnTo>
                    <a:pt x="448805" y="875390"/>
                  </a:lnTo>
                  <a:cubicBezTo>
                    <a:pt x="451150" y="709592"/>
                    <a:pt x="482649" y="554587"/>
                    <a:pt x="536834" y="421694"/>
                  </a:cubicBezTo>
                  <a:close/>
                  <a:moveTo>
                    <a:pt x="1356131" y="409527"/>
                  </a:moveTo>
                  <a:cubicBezTo>
                    <a:pt x="1415590" y="544412"/>
                    <a:pt x="1451132" y="703874"/>
                    <a:pt x="1455052" y="875390"/>
                  </a:cubicBezTo>
                  <a:lnTo>
                    <a:pt x="953521" y="875390"/>
                  </a:lnTo>
                  <a:lnTo>
                    <a:pt x="953521" y="491238"/>
                  </a:lnTo>
                  <a:cubicBezTo>
                    <a:pt x="1099303" y="490092"/>
                    <a:pt x="1236528" y="461431"/>
                    <a:pt x="1356131" y="409527"/>
                  </a:cubicBezTo>
                  <a:close/>
                  <a:moveTo>
                    <a:pt x="271202" y="273767"/>
                  </a:moveTo>
                  <a:cubicBezTo>
                    <a:pt x="330895" y="324894"/>
                    <a:pt x="401533" y="367494"/>
                    <a:pt x="480768" y="398692"/>
                  </a:cubicBezTo>
                  <a:cubicBezTo>
                    <a:pt x="424147" y="539118"/>
                    <a:pt x="390867" y="701724"/>
                    <a:pt x="388496" y="875390"/>
                  </a:cubicBezTo>
                  <a:lnTo>
                    <a:pt x="238" y="875390"/>
                  </a:lnTo>
                  <a:cubicBezTo>
                    <a:pt x="7162" y="640451"/>
                    <a:pt x="108645" y="428248"/>
                    <a:pt x="271202" y="273767"/>
                  </a:cubicBezTo>
                  <a:close/>
                  <a:moveTo>
                    <a:pt x="1605567" y="261436"/>
                  </a:moveTo>
                  <a:cubicBezTo>
                    <a:pt x="1775300" y="417133"/>
                    <a:pt x="1881942" y="634296"/>
                    <a:pt x="1889035" y="875390"/>
                  </a:cubicBezTo>
                  <a:lnTo>
                    <a:pt x="1515364" y="875390"/>
                  </a:lnTo>
                  <a:cubicBezTo>
                    <a:pt x="1511419" y="696081"/>
                    <a:pt x="1474168" y="529014"/>
                    <a:pt x="1413107" y="386152"/>
                  </a:cubicBezTo>
                  <a:cubicBezTo>
                    <a:pt x="1485941" y="353453"/>
                    <a:pt x="1551126" y="311628"/>
                    <a:pt x="1605567" y="261436"/>
                  </a:cubicBezTo>
                  <a:close/>
                  <a:moveTo>
                    <a:pt x="748157" y="19413"/>
                  </a:moveTo>
                  <a:cubicBezTo>
                    <a:pt x="649482" y="96557"/>
                    <a:pt x="565491" y="208310"/>
                    <a:pt x="504779" y="344256"/>
                  </a:cubicBezTo>
                  <a:cubicBezTo>
                    <a:pt x="432706" y="315858"/>
                    <a:pt x="368354" y="277545"/>
                    <a:pt x="313920" y="231604"/>
                  </a:cubicBezTo>
                  <a:cubicBezTo>
                    <a:pt x="434240" y="127070"/>
                    <a:pt x="583275" y="52667"/>
                    <a:pt x="748157" y="19413"/>
                  </a:cubicBezTo>
                  <a:close/>
                  <a:moveTo>
                    <a:pt x="1137621" y="18543"/>
                  </a:moveTo>
                  <a:cubicBezTo>
                    <a:pt x="1297904" y="50310"/>
                    <a:pt x="1443338" y="120918"/>
                    <a:pt x="1562575" y="219802"/>
                  </a:cubicBezTo>
                  <a:cubicBezTo>
                    <a:pt x="1512842" y="265093"/>
                    <a:pt x="1453308" y="302843"/>
                    <a:pt x="1386970" y="332857"/>
                  </a:cubicBezTo>
                  <a:cubicBezTo>
                    <a:pt x="1323718" y="199817"/>
                    <a:pt x="1237626" y="91674"/>
                    <a:pt x="1137621" y="18543"/>
                  </a:cubicBezTo>
                  <a:close/>
                  <a:moveTo>
                    <a:pt x="900586" y="1702"/>
                  </a:moveTo>
                  <a:lnTo>
                    <a:pt x="900586" y="430269"/>
                  </a:lnTo>
                  <a:cubicBezTo>
                    <a:pt x="778345" y="428899"/>
                    <a:pt x="662774" y="406468"/>
                    <a:pt x="560047" y="366408"/>
                  </a:cubicBezTo>
                  <a:cubicBezTo>
                    <a:pt x="637783" y="193348"/>
                    <a:pt x="753999" y="63227"/>
                    <a:pt x="890213" y="2203"/>
                  </a:cubicBezTo>
                  <a:lnTo>
                    <a:pt x="900586" y="1702"/>
                  </a:lnTo>
                  <a:close/>
                  <a:moveTo>
                    <a:pt x="953521" y="0"/>
                  </a:moveTo>
                  <a:lnTo>
                    <a:pt x="981035" y="1330"/>
                  </a:lnTo>
                  <a:cubicBezTo>
                    <a:pt x="1124068" y="53565"/>
                    <a:pt x="1247786" y="180867"/>
                    <a:pt x="1332000" y="354889"/>
                  </a:cubicBezTo>
                  <a:cubicBezTo>
                    <a:pt x="1219743" y="403080"/>
                    <a:pt x="1090709" y="429800"/>
                    <a:pt x="953521" y="430954"/>
                  </a:cubicBezTo>
                  <a:lnTo>
                    <a:pt x="9535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Group 48"/>
          <p:cNvGrpSpPr/>
          <p:nvPr/>
        </p:nvGrpSpPr>
        <p:grpSpPr>
          <a:xfrm>
            <a:off x="8361360" y="2793600"/>
            <a:ext cx="1405080" cy="1405080"/>
            <a:chOff x="8361360" y="2793600"/>
            <a:chExt cx="1405080" cy="1405080"/>
          </a:xfrm>
        </p:grpSpPr>
        <p:sp>
          <p:nvSpPr>
            <p:cNvPr id="345" name="Oval 49"/>
            <p:cNvSpPr/>
            <p:nvPr/>
          </p:nvSpPr>
          <p:spPr>
            <a:xfrm flipV="1">
              <a:off x="8361360" y="2793240"/>
              <a:ext cx="1405080" cy="1405080"/>
            </a:xfrm>
            <a:prstGeom prst="ellipse">
              <a:avLst/>
            </a:prstGeom>
            <a:solidFill>
              <a:srgbClr val="d9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安卓 1061"/>
            <p:cNvSpPr/>
            <p:nvPr/>
          </p:nvSpPr>
          <p:spPr>
            <a:xfrm>
              <a:off x="8566920" y="2941200"/>
              <a:ext cx="936360" cy="1132200"/>
            </a:xfrm>
            <a:custGeom>
              <a:avLst/>
              <a:gdLst/>
              <a:ahLst/>
              <a:rect l="l" t="t" r="r" b="b"/>
              <a:pathLst>
                <a:path w="1674290" h="2018114">
                  <a:moveTo>
                    <a:pt x="307141" y="691642"/>
                  </a:moveTo>
                  <a:lnTo>
                    <a:pt x="1378912" y="691642"/>
                  </a:lnTo>
                  <a:lnTo>
                    <a:pt x="1369387" y="1458335"/>
                  </a:lnTo>
                  <a:cubicBezTo>
                    <a:pt x="1369387" y="1541769"/>
                    <a:pt x="1301750" y="1609406"/>
                    <a:pt x="1218316" y="1609406"/>
                  </a:cubicBezTo>
                  <a:lnTo>
                    <a:pt x="1158892" y="1609406"/>
                  </a:lnTo>
                  <a:lnTo>
                    <a:pt x="1158892" y="1898352"/>
                  </a:lnTo>
                  <a:cubicBezTo>
                    <a:pt x="1158892" y="1964495"/>
                    <a:pt x="1105273" y="2018114"/>
                    <a:pt x="1039130" y="2018114"/>
                  </a:cubicBezTo>
                  <a:cubicBezTo>
                    <a:pt x="972987" y="2018114"/>
                    <a:pt x="919368" y="1964495"/>
                    <a:pt x="919368" y="1898352"/>
                  </a:cubicBezTo>
                  <a:lnTo>
                    <a:pt x="919368" y="1609406"/>
                  </a:lnTo>
                  <a:lnTo>
                    <a:pt x="765901" y="1609406"/>
                  </a:lnTo>
                  <a:lnTo>
                    <a:pt x="765901" y="1898351"/>
                  </a:lnTo>
                  <a:cubicBezTo>
                    <a:pt x="765901" y="1964494"/>
                    <a:pt x="712282" y="2018113"/>
                    <a:pt x="646139" y="2018113"/>
                  </a:cubicBezTo>
                  <a:cubicBezTo>
                    <a:pt x="579996" y="2018113"/>
                    <a:pt x="526377" y="1964494"/>
                    <a:pt x="526377" y="1898351"/>
                  </a:cubicBezTo>
                  <a:lnTo>
                    <a:pt x="526377" y="1609406"/>
                  </a:lnTo>
                  <a:lnTo>
                    <a:pt x="458213" y="1609406"/>
                  </a:lnTo>
                  <a:cubicBezTo>
                    <a:pt x="374779" y="1609406"/>
                    <a:pt x="307141" y="1541769"/>
                    <a:pt x="307141" y="1458335"/>
                  </a:cubicBezTo>
                  <a:lnTo>
                    <a:pt x="307141" y="1156202"/>
                  </a:lnTo>
                  <a:lnTo>
                    <a:pt x="307141" y="854070"/>
                  </a:lnTo>
                  <a:lnTo>
                    <a:pt x="307141" y="691642"/>
                  </a:lnTo>
                  <a:close/>
                  <a:moveTo>
                    <a:pt x="1554528" y="683951"/>
                  </a:moveTo>
                  <a:cubicBezTo>
                    <a:pt x="1620671" y="683951"/>
                    <a:pt x="1674290" y="737570"/>
                    <a:pt x="1674290" y="803713"/>
                  </a:cubicBezTo>
                  <a:lnTo>
                    <a:pt x="1674290" y="1299148"/>
                  </a:lnTo>
                  <a:cubicBezTo>
                    <a:pt x="1674290" y="1365291"/>
                    <a:pt x="1620671" y="1418910"/>
                    <a:pt x="1554528" y="1418910"/>
                  </a:cubicBezTo>
                  <a:cubicBezTo>
                    <a:pt x="1488385" y="1418910"/>
                    <a:pt x="1434766" y="1365291"/>
                    <a:pt x="1434766" y="1299148"/>
                  </a:cubicBezTo>
                  <a:lnTo>
                    <a:pt x="1434766" y="803713"/>
                  </a:lnTo>
                  <a:cubicBezTo>
                    <a:pt x="1434766" y="737570"/>
                    <a:pt x="1488385" y="683951"/>
                    <a:pt x="1554528" y="683951"/>
                  </a:cubicBezTo>
                  <a:close/>
                  <a:moveTo>
                    <a:pt x="119762" y="683950"/>
                  </a:moveTo>
                  <a:cubicBezTo>
                    <a:pt x="185905" y="683950"/>
                    <a:pt x="239524" y="737569"/>
                    <a:pt x="239524" y="803712"/>
                  </a:cubicBezTo>
                  <a:lnTo>
                    <a:pt x="239524" y="1299147"/>
                  </a:lnTo>
                  <a:cubicBezTo>
                    <a:pt x="239524" y="1365290"/>
                    <a:pt x="185905" y="1418909"/>
                    <a:pt x="119762" y="1418909"/>
                  </a:cubicBezTo>
                  <a:cubicBezTo>
                    <a:pt x="53619" y="1418909"/>
                    <a:pt x="0" y="1365290"/>
                    <a:pt x="0" y="1299147"/>
                  </a:cubicBezTo>
                  <a:lnTo>
                    <a:pt x="0" y="803712"/>
                  </a:lnTo>
                  <a:cubicBezTo>
                    <a:pt x="0" y="737569"/>
                    <a:pt x="53619" y="683950"/>
                    <a:pt x="119762" y="683950"/>
                  </a:cubicBezTo>
                  <a:close/>
                  <a:moveTo>
                    <a:pt x="1058285" y="381191"/>
                  </a:moveTo>
                  <a:cubicBezTo>
                    <a:pt x="1028091" y="381191"/>
                    <a:pt x="1003614" y="405668"/>
                    <a:pt x="1003614" y="435862"/>
                  </a:cubicBezTo>
                  <a:cubicBezTo>
                    <a:pt x="1003614" y="466056"/>
                    <a:pt x="1028091" y="490533"/>
                    <a:pt x="1058285" y="490533"/>
                  </a:cubicBezTo>
                  <a:cubicBezTo>
                    <a:pt x="1088479" y="490533"/>
                    <a:pt x="1112956" y="466056"/>
                    <a:pt x="1112956" y="435862"/>
                  </a:cubicBezTo>
                  <a:cubicBezTo>
                    <a:pt x="1112956" y="405668"/>
                    <a:pt x="1088479" y="381191"/>
                    <a:pt x="1058285" y="381191"/>
                  </a:cubicBezTo>
                  <a:close/>
                  <a:moveTo>
                    <a:pt x="620445" y="381191"/>
                  </a:moveTo>
                  <a:cubicBezTo>
                    <a:pt x="590251" y="381191"/>
                    <a:pt x="565774" y="405668"/>
                    <a:pt x="565774" y="435862"/>
                  </a:cubicBezTo>
                  <a:cubicBezTo>
                    <a:pt x="565774" y="466056"/>
                    <a:pt x="590251" y="490533"/>
                    <a:pt x="620445" y="490533"/>
                  </a:cubicBezTo>
                  <a:cubicBezTo>
                    <a:pt x="650639" y="490533"/>
                    <a:pt x="675116" y="466056"/>
                    <a:pt x="675116" y="435862"/>
                  </a:cubicBezTo>
                  <a:cubicBezTo>
                    <a:pt x="675116" y="405668"/>
                    <a:pt x="650639" y="381191"/>
                    <a:pt x="620445" y="381191"/>
                  </a:cubicBezTo>
                  <a:close/>
                  <a:moveTo>
                    <a:pt x="508384" y="1373"/>
                  </a:moveTo>
                  <a:cubicBezTo>
                    <a:pt x="515956" y="3701"/>
                    <a:pt x="522639" y="8917"/>
                    <a:pt x="526639" y="16470"/>
                  </a:cubicBezTo>
                  <a:lnTo>
                    <a:pt x="615978" y="185144"/>
                  </a:lnTo>
                  <a:cubicBezTo>
                    <a:pt x="687009" y="148129"/>
                    <a:pt x="767930" y="128483"/>
                    <a:pt x="853439" y="128483"/>
                  </a:cubicBezTo>
                  <a:cubicBezTo>
                    <a:pt x="932860" y="128483"/>
                    <a:pt x="1008322" y="145431"/>
                    <a:pt x="1075718" y="177325"/>
                  </a:cubicBezTo>
                  <a:lnTo>
                    <a:pt x="1150798" y="40824"/>
                  </a:lnTo>
                  <a:cubicBezTo>
                    <a:pt x="1154917" y="33335"/>
                    <a:pt x="1161682" y="28224"/>
                    <a:pt x="1169289" y="26016"/>
                  </a:cubicBezTo>
                  <a:cubicBezTo>
                    <a:pt x="1176896" y="23808"/>
                    <a:pt x="1185346" y="24501"/>
                    <a:pt x="1192835" y="28621"/>
                  </a:cubicBezTo>
                  <a:cubicBezTo>
                    <a:pt x="1207813" y="36859"/>
                    <a:pt x="1213277" y="55680"/>
                    <a:pt x="1205038" y="70658"/>
                  </a:cubicBezTo>
                  <a:lnTo>
                    <a:pt x="1130773" y="205677"/>
                  </a:lnTo>
                  <a:cubicBezTo>
                    <a:pt x="1280708" y="293097"/>
                    <a:pt x="1383706" y="450928"/>
                    <a:pt x="1395615" y="633899"/>
                  </a:cubicBezTo>
                  <a:lnTo>
                    <a:pt x="311263" y="633899"/>
                  </a:lnTo>
                  <a:cubicBezTo>
                    <a:pt x="322782" y="456918"/>
                    <a:pt x="419524" y="303459"/>
                    <a:pt x="560939" y="213488"/>
                  </a:cubicBezTo>
                  <a:lnTo>
                    <a:pt x="471935" y="45445"/>
                  </a:lnTo>
                  <a:cubicBezTo>
                    <a:pt x="463934" y="30339"/>
                    <a:pt x="469694" y="11606"/>
                    <a:pt x="484800" y="3605"/>
                  </a:cubicBezTo>
                  <a:cubicBezTo>
                    <a:pt x="492353" y="-395"/>
                    <a:pt x="500812" y="-955"/>
                    <a:pt x="508384" y="137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Text Box 51"/>
          <p:cNvSpPr/>
          <p:nvPr/>
        </p:nvSpPr>
        <p:spPr>
          <a:xfrm>
            <a:off x="1821960" y="4815000"/>
            <a:ext cx="121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d92817"/>
                </a:solidFill>
                <a:latin typeface="微软雅黑"/>
                <a:ea typeface="微软雅黑"/>
              </a:rPr>
              <a:t>2014.09.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52"/>
          <p:cNvSpPr/>
          <p:nvPr/>
        </p:nvSpPr>
        <p:spPr>
          <a:xfrm>
            <a:off x="3324240" y="2227320"/>
            <a:ext cx="468360" cy="393480"/>
          </a:xfrm>
          <a:prstGeom prst="triangle">
            <a:avLst>
              <a:gd name="adj" fmla="val 50000"/>
            </a:avLst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3093480" y="1779480"/>
            <a:ext cx="148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d92817"/>
                </a:solidFill>
                <a:latin typeface="微软雅黑"/>
                <a:ea typeface="微软雅黑"/>
              </a:rPr>
              <a:t>2014.10.24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54"/>
          <p:cNvSpPr/>
          <p:nvPr/>
        </p:nvSpPr>
        <p:spPr>
          <a:xfrm>
            <a:off x="6175440" y="1781280"/>
            <a:ext cx="121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.11.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55"/>
          <p:cNvSpPr/>
          <p:nvPr/>
        </p:nvSpPr>
        <p:spPr>
          <a:xfrm>
            <a:off x="7213680" y="2219400"/>
            <a:ext cx="468360" cy="393480"/>
          </a:xfrm>
          <a:prstGeom prst="triangle">
            <a:avLst>
              <a:gd name="adj" fmla="val 50000"/>
            </a:avLst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56"/>
          <p:cNvSpPr/>
          <p:nvPr/>
        </p:nvSpPr>
        <p:spPr>
          <a:xfrm rot="1500000">
            <a:off x="1812600" y="3179880"/>
            <a:ext cx="438120" cy="438120"/>
          </a:xfrm>
          <a:prstGeom prst="triangle">
            <a:avLst>
              <a:gd name="adj" fmla="val 50000"/>
            </a:avLst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5817240" y="4772160"/>
            <a:ext cx="180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.11.11/12.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文本框 17"/>
          <p:cNvSpPr/>
          <p:nvPr/>
        </p:nvSpPr>
        <p:spPr>
          <a:xfrm>
            <a:off x="10658520" y="3130560"/>
            <a:ext cx="131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.12.26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59"/>
          <p:cNvSpPr/>
          <p:nvPr/>
        </p:nvSpPr>
        <p:spPr>
          <a:xfrm rot="12420000">
            <a:off x="10083600" y="3290400"/>
            <a:ext cx="438120" cy="438120"/>
          </a:xfrm>
          <a:prstGeom prst="triangle">
            <a:avLst>
              <a:gd name="adj" fmla="val 50000"/>
            </a:avLst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网络 509"/>
          <p:cNvSpPr/>
          <p:nvPr/>
        </p:nvSpPr>
        <p:spPr>
          <a:xfrm flipV="1">
            <a:off x="317520" y="180720"/>
            <a:ext cx="482760" cy="482400"/>
          </a:xfrm>
          <a:custGeom>
            <a:avLst/>
            <a:gdLst/>
            <a:ahLst/>
            <a:rect l="l" t="t" r="r" b="b"/>
            <a:pathLst>
              <a:path w="1889279" h="1810503">
                <a:moveTo>
                  <a:pt x="1408636" y="1462945"/>
                </a:moveTo>
                <a:cubicBezTo>
                  <a:pt x="1471912" y="1494489"/>
                  <a:pt x="1528819" y="1532588"/>
                  <a:pt x="1575786" y="1578162"/>
                </a:cubicBezTo>
                <a:cubicBezTo>
                  <a:pt x="1467281" y="1672800"/>
                  <a:pt x="1335058" y="1742507"/>
                  <a:pt x="1188886" y="1779443"/>
                </a:cubicBezTo>
                <a:cubicBezTo>
                  <a:pt x="1278166" y="1700386"/>
                  <a:pt x="1353810" y="1592053"/>
                  <a:pt x="1408636" y="1462945"/>
                </a:cubicBezTo>
                <a:close/>
                <a:moveTo>
                  <a:pt x="494888" y="1445849"/>
                </a:moveTo>
                <a:cubicBezTo>
                  <a:pt x="556747" y="1590569"/>
                  <a:pt x="643865" y="1709702"/>
                  <a:pt x="747068" y="1790925"/>
                </a:cubicBezTo>
                <a:cubicBezTo>
                  <a:pt x="576321" y="1756303"/>
                  <a:pt x="422614" y="1677538"/>
                  <a:pt x="300900" y="1566189"/>
                </a:cubicBezTo>
                <a:cubicBezTo>
                  <a:pt x="355309" y="1517036"/>
                  <a:pt x="421005" y="1476420"/>
                  <a:pt x="494888" y="1445849"/>
                </a:cubicBezTo>
                <a:close/>
                <a:moveTo>
                  <a:pt x="900586" y="1355871"/>
                </a:moveTo>
                <a:lnTo>
                  <a:pt x="900586" y="1808904"/>
                </a:lnTo>
                <a:lnTo>
                  <a:pt x="884222" y="1808113"/>
                </a:lnTo>
                <a:cubicBezTo>
                  <a:pt x="745280" y="1742581"/>
                  <a:pt x="627378" y="1604992"/>
                  <a:pt x="551037" y="1423344"/>
                </a:cubicBezTo>
                <a:cubicBezTo>
                  <a:pt x="655969" y="1381011"/>
                  <a:pt x="774745" y="1357337"/>
                  <a:pt x="900586" y="1355871"/>
                </a:cubicBezTo>
                <a:close/>
                <a:moveTo>
                  <a:pt x="953521" y="1355186"/>
                </a:moveTo>
                <a:cubicBezTo>
                  <a:pt x="1099660" y="1356509"/>
                  <a:pt x="1236550" y="1386650"/>
                  <a:pt x="1354036" y="1440083"/>
                </a:cubicBezTo>
                <a:cubicBezTo>
                  <a:pt x="1283551" y="1605630"/>
                  <a:pt x="1178611" y="1734316"/>
                  <a:pt x="1054486" y="1804443"/>
                </a:cubicBezTo>
                <a:lnTo>
                  <a:pt x="953521" y="1810503"/>
                </a:lnTo>
                <a:lnTo>
                  <a:pt x="953521" y="1355186"/>
                </a:lnTo>
                <a:close/>
                <a:moveTo>
                  <a:pt x="1517159" y="931303"/>
                </a:moveTo>
                <a:lnTo>
                  <a:pt x="1889279" y="931303"/>
                </a:lnTo>
                <a:cubicBezTo>
                  <a:pt x="1883282" y="1167646"/>
                  <a:pt x="1781715" y="1381244"/>
                  <a:pt x="1618873" y="1536894"/>
                </a:cubicBezTo>
                <a:cubicBezTo>
                  <a:pt x="1566437" y="1485571"/>
                  <a:pt x="1502786" y="1442774"/>
                  <a:pt x="1431939" y="1407715"/>
                </a:cubicBezTo>
                <a:cubicBezTo>
                  <a:pt x="1485774" y="1266553"/>
                  <a:pt x="1516428" y="1104135"/>
                  <a:pt x="1517159" y="931303"/>
                </a:cubicBezTo>
                <a:close/>
                <a:moveTo>
                  <a:pt x="953521" y="931303"/>
                </a:moveTo>
                <a:lnTo>
                  <a:pt x="1456842" y="931303"/>
                </a:lnTo>
                <a:cubicBezTo>
                  <a:pt x="1456123" y="1096196"/>
                  <a:pt x="1427268" y="1250986"/>
                  <a:pt x="1375819" y="1384691"/>
                </a:cubicBezTo>
                <a:cubicBezTo>
                  <a:pt x="1251537" y="1327928"/>
                  <a:pt x="1107288" y="1296191"/>
                  <a:pt x="953521" y="1294902"/>
                </a:cubicBezTo>
                <a:lnTo>
                  <a:pt x="953521" y="931303"/>
                </a:lnTo>
                <a:close/>
                <a:moveTo>
                  <a:pt x="448568" y="931303"/>
                </a:moveTo>
                <a:lnTo>
                  <a:pt x="900586" y="931303"/>
                </a:lnTo>
                <a:lnTo>
                  <a:pt x="900586" y="1295603"/>
                </a:lnTo>
                <a:cubicBezTo>
                  <a:pt x="766605" y="1297053"/>
                  <a:pt x="640053" y="1322469"/>
                  <a:pt x="528061" y="1368046"/>
                </a:cubicBezTo>
                <a:cubicBezTo>
                  <a:pt x="478984" y="1238632"/>
                  <a:pt x="450499" y="1089843"/>
                  <a:pt x="448568" y="931303"/>
                </a:cubicBezTo>
                <a:close/>
                <a:moveTo>
                  <a:pt x="0" y="931303"/>
                </a:moveTo>
                <a:lnTo>
                  <a:pt x="388264" y="931303"/>
                </a:lnTo>
                <a:cubicBezTo>
                  <a:pt x="390220" y="1097785"/>
                  <a:pt x="420532" y="1254193"/>
                  <a:pt x="473139" y="1390578"/>
                </a:cubicBezTo>
                <a:cubicBezTo>
                  <a:pt x="391203" y="1423988"/>
                  <a:pt x="318506" y="1469260"/>
                  <a:pt x="258353" y="1524144"/>
                </a:cubicBezTo>
                <a:cubicBezTo>
                  <a:pt x="102364" y="1370026"/>
                  <a:pt x="5849" y="1161456"/>
                  <a:pt x="0" y="931303"/>
                </a:cubicBezTo>
                <a:close/>
                <a:moveTo>
                  <a:pt x="536834" y="421694"/>
                </a:moveTo>
                <a:cubicBezTo>
                  <a:pt x="646682" y="464986"/>
                  <a:pt x="770110" y="489176"/>
                  <a:pt x="900586" y="490537"/>
                </a:cubicBezTo>
                <a:lnTo>
                  <a:pt x="900586" y="875390"/>
                </a:lnTo>
                <a:lnTo>
                  <a:pt x="448805" y="875390"/>
                </a:lnTo>
                <a:cubicBezTo>
                  <a:pt x="451150" y="709592"/>
                  <a:pt x="482649" y="554587"/>
                  <a:pt x="536834" y="421694"/>
                </a:cubicBezTo>
                <a:close/>
                <a:moveTo>
                  <a:pt x="1356131" y="409527"/>
                </a:moveTo>
                <a:cubicBezTo>
                  <a:pt x="1415590" y="544412"/>
                  <a:pt x="1451132" y="703874"/>
                  <a:pt x="1455052" y="875390"/>
                </a:cubicBezTo>
                <a:lnTo>
                  <a:pt x="953521" y="875390"/>
                </a:lnTo>
                <a:lnTo>
                  <a:pt x="953521" y="491238"/>
                </a:lnTo>
                <a:cubicBezTo>
                  <a:pt x="1099303" y="490092"/>
                  <a:pt x="1236528" y="461431"/>
                  <a:pt x="1356131" y="409527"/>
                </a:cubicBezTo>
                <a:close/>
                <a:moveTo>
                  <a:pt x="271202" y="273767"/>
                </a:moveTo>
                <a:cubicBezTo>
                  <a:pt x="330895" y="324894"/>
                  <a:pt x="401533" y="367494"/>
                  <a:pt x="480768" y="398692"/>
                </a:cubicBezTo>
                <a:cubicBezTo>
                  <a:pt x="424147" y="539118"/>
                  <a:pt x="390867" y="701724"/>
                  <a:pt x="388496" y="875390"/>
                </a:cubicBezTo>
                <a:lnTo>
                  <a:pt x="238" y="875390"/>
                </a:lnTo>
                <a:cubicBezTo>
                  <a:pt x="7162" y="640451"/>
                  <a:pt x="108645" y="428248"/>
                  <a:pt x="271202" y="273767"/>
                </a:cubicBezTo>
                <a:close/>
                <a:moveTo>
                  <a:pt x="1605567" y="261436"/>
                </a:moveTo>
                <a:cubicBezTo>
                  <a:pt x="1775300" y="417133"/>
                  <a:pt x="1881942" y="634296"/>
                  <a:pt x="1889035" y="875390"/>
                </a:cubicBezTo>
                <a:lnTo>
                  <a:pt x="1515364" y="875390"/>
                </a:lnTo>
                <a:cubicBezTo>
                  <a:pt x="1511419" y="696081"/>
                  <a:pt x="1474168" y="529014"/>
                  <a:pt x="1413107" y="386152"/>
                </a:cubicBezTo>
                <a:cubicBezTo>
                  <a:pt x="1485941" y="353453"/>
                  <a:pt x="1551126" y="311628"/>
                  <a:pt x="1605567" y="261436"/>
                </a:cubicBezTo>
                <a:close/>
                <a:moveTo>
                  <a:pt x="748157" y="19413"/>
                </a:moveTo>
                <a:cubicBezTo>
                  <a:pt x="649482" y="96557"/>
                  <a:pt x="565491" y="208310"/>
                  <a:pt x="504779" y="344256"/>
                </a:cubicBezTo>
                <a:cubicBezTo>
                  <a:pt x="432706" y="315858"/>
                  <a:pt x="368354" y="277545"/>
                  <a:pt x="313920" y="231604"/>
                </a:cubicBezTo>
                <a:cubicBezTo>
                  <a:pt x="434240" y="127070"/>
                  <a:pt x="583275" y="52667"/>
                  <a:pt x="748157" y="19413"/>
                </a:cubicBezTo>
                <a:close/>
                <a:moveTo>
                  <a:pt x="1137621" y="18543"/>
                </a:moveTo>
                <a:cubicBezTo>
                  <a:pt x="1297904" y="50310"/>
                  <a:pt x="1443338" y="120918"/>
                  <a:pt x="1562575" y="219802"/>
                </a:cubicBezTo>
                <a:cubicBezTo>
                  <a:pt x="1512842" y="265093"/>
                  <a:pt x="1453308" y="302843"/>
                  <a:pt x="1386970" y="332857"/>
                </a:cubicBezTo>
                <a:cubicBezTo>
                  <a:pt x="1323718" y="199817"/>
                  <a:pt x="1237626" y="91674"/>
                  <a:pt x="1137621" y="18543"/>
                </a:cubicBezTo>
                <a:close/>
                <a:moveTo>
                  <a:pt x="900586" y="1702"/>
                </a:moveTo>
                <a:lnTo>
                  <a:pt x="900586" y="430269"/>
                </a:lnTo>
                <a:cubicBezTo>
                  <a:pt x="778345" y="428899"/>
                  <a:pt x="662774" y="406468"/>
                  <a:pt x="560047" y="366408"/>
                </a:cubicBezTo>
                <a:cubicBezTo>
                  <a:pt x="637783" y="193348"/>
                  <a:pt x="753999" y="63227"/>
                  <a:pt x="890213" y="2203"/>
                </a:cubicBezTo>
                <a:lnTo>
                  <a:pt x="900586" y="1702"/>
                </a:lnTo>
                <a:close/>
                <a:moveTo>
                  <a:pt x="953521" y="0"/>
                </a:moveTo>
                <a:lnTo>
                  <a:pt x="981035" y="1330"/>
                </a:lnTo>
                <a:cubicBezTo>
                  <a:pt x="1124068" y="53565"/>
                  <a:pt x="1247786" y="180867"/>
                  <a:pt x="1332000" y="354889"/>
                </a:cubicBezTo>
                <a:cubicBezTo>
                  <a:pt x="1219743" y="403080"/>
                  <a:pt x="1090709" y="429800"/>
                  <a:pt x="953521" y="430954"/>
                </a:cubicBezTo>
                <a:lnTo>
                  <a:pt x="953521" y="0"/>
                </a:lnTo>
                <a:close/>
              </a:path>
            </a:pathLst>
          </a:cu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文本框 4"/>
          <p:cNvSpPr/>
          <p:nvPr/>
        </p:nvSpPr>
        <p:spPr>
          <a:xfrm>
            <a:off x="896760" y="181080"/>
            <a:ext cx="31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工作陈述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工作历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3F544-B0D9-436D-B68B-03A4B00123D7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04:47:55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网络 509"/>
          <p:cNvSpPr/>
          <p:nvPr/>
        </p:nvSpPr>
        <p:spPr>
          <a:xfrm flipV="1">
            <a:off x="317520" y="180720"/>
            <a:ext cx="482760" cy="482400"/>
          </a:xfrm>
          <a:custGeom>
            <a:avLst/>
            <a:gdLst/>
            <a:ahLst/>
            <a:rect l="l" t="t" r="r" b="b"/>
            <a:pathLst>
              <a:path w="1889279" h="1810503">
                <a:moveTo>
                  <a:pt x="1408636" y="1462945"/>
                </a:moveTo>
                <a:cubicBezTo>
                  <a:pt x="1471912" y="1494489"/>
                  <a:pt x="1528819" y="1532588"/>
                  <a:pt x="1575786" y="1578162"/>
                </a:cubicBezTo>
                <a:cubicBezTo>
                  <a:pt x="1467281" y="1672800"/>
                  <a:pt x="1335058" y="1742507"/>
                  <a:pt x="1188886" y="1779443"/>
                </a:cubicBezTo>
                <a:cubicBezTo>
                  <a:pt x="1278166" y="1700386"/>
                  <a:pt x="1353810" y="1592053"/>
                  <a:pt x="1408636" y="1462945"/>
                </a:cubicBezTo>
                <a:close/>
                <a:moveTo>
                  <a:pt x="494888" y="1445849"/>
                </a:moveTo>
                <a:cubicBezTo>
                  <a:pt x="556747" y="1590569"/>
                  <a:pt x="643865" y="1709702"/>
                  <a:pt x="747068" y="1790925"/>
                </a:cubicBezTo>
                <a:cubicBezTo>
                  <a:pt x="576321" y="1756303"/>
                  <a:pt x="422614" y="1677538"/>
                  <a:pt x="300900" y="1566189"/>
                </a:cubicBezTo>
                <a:cubicBezTo>
                  <a:pt x="355309" y="1517036"/>
                  <a:pt x="421005" y="1476420"/>
                  <a:pt x="494888" y="1445849"/>
                </a:cubicBezTo>
                <a:close/>
                <a:moveTo>
                  <a:pt x="900586" y="1355871"/>
                </a:moveTo>
                <a:lnTo>
                  <a:pt x="900586" y="1808904"/>
                </a:lnTo>
                <a:lnTo>
                  <a:pt x="884222" y="1808113"/>
                </a:lnTo>
                <a:cubicBezTo>
                  <a:pt x="745280" y="1742581"/>
                  <a:pt x="627378" y="1604992"/>
                  <a:pt x="551037" y="1423344"/>
                </a:cubicBezTo>
                <a:cubicBezTo>
                  <a:pt x="655969" y="1381011"/>
                  <a:pt x="774745" y="1357337"/>
                  <a:pt x="900586" y="1355871"/>
                </a:cubicBezTo>
                <a:close/>
                <a:moveTo>
                  <a:pt x="953521" y="1355186"/>
                </a:moveTo>
                <a:cubicBezTo>
                  <a:pt x="1099660" y="1356509"/>
                  <a:pt x="1236550" y="1386650"/>
                  <a:pt x="1354036" y="1440083"/>
                </a:cubicBezTo>
                <a:cubicBezTo>
                  <a:pt x="1283551" y="1605630"/>
                  <a:pt x="1178611" y="1734316"/>
                  <a:pt x="1054486" y="1804443"/>
                </a:cubicBezTo>
                <a:lnTo>
                  <a:pt x="953521" y="1810503"/>
                </a:lnTo>
                <a:lnTo>
                  <a:pt x="953521" y="1355186"/>
                </a:lnTo>
                <a:close/>
                <a:moveTo>
                  <a:pt x="1517159" y="931303"/>
                </a:moveTo>
                <a:lnTo>
                  <a:pt x="1889279" y="931303"/>
                </a:lnTo>
                <a:cubicBezTo>
                  <a:pt x="1883282" y="1167646"/>
                  <a:pt x="1781715" y="1381244"/>
                  <a:pt x="1618873" y="1536894"/>
                </a:cubicBezTo>
                <a:cubicBezTo>
                  <a:pt x="1566437" y="1485571"/>
                  <a:pt x="1502786" y="1442774"/>
                  <a:pt x="1431939" y="1407715"/>
                </a:cubicBezTo>
                <a:cubicBezTo>
                  <a:pt x="1485774" y="1266553"/>
                  <a:pt x="1516428" y="1104135"/>
                  <a:pt x="1517159" y="931303"/>
                </a:cubicBezTo>
                <a:close/>
                <a:moveTo>
                  <a:pt x="953521" y="931303"/>
                </a:moveTo>
                <a:lnTo>
                  <a:pt x="1456842" y="931303"/>
                </a:lnTo>
                <a:cubicBezTo>
                  <a:pt x="1456123" y="1096196"/>
                  <a:pt x="1427268" y="1250986"/>
                  <a:pt x="1375819" y="1384691"/>
                </a:cubicBezTo>
                <a:cubicBezTo>
                  <a:pt x="1251537" y="1327928"/>
                  <a:pt x="1107288" y="1296191"/>
                  <a:pt x="953521" y="1294902"/>
                </a:cubicBezTo>
                <a:lnTo>
                  <a:pt x="953521" y="931303"/>
                </a:lnTo>
                <a:close/>
                <a:moveTo>
                  <a:pt x="448568" y="931303"/>
                </a:moveTo>
                <a:lnTo>
                  <a:pt x="900586" y="931303"/>
                </a:lnTo>
                <a:lnTo>
                  <a:pt x="900586" y="1295603"/>
                </a:lnTo>
                <a:cubicBezTo>
                  <a:pt x="766605" y="1297053"/>
                  <a:pt x="640053" y="1322469"/>
                  <a:pt x="528061" y="1368046"/>
                </a:cubicBezTo>
                <a:cubicBezTo>
                  <a:pt x="478984" y="1238632"/>
                  <a:pt x="450499" y="1089843"/>
                  <a:pt x="448568" y="931303"/>
                </a:cubicBezTo>
                <a:close/>
                <a:moveTo>
                  <a:pt x="0" y="931303"/>
                </a:moveTo>
                <a:lnTo>
                  <a:pt x="388264" y="931303"/>
                </a:lnTo>
                <a:cubicBezTo>
                  <a:pt x="390220" y="1097785"/>
                  <a:pt x="420532" y="1254193"/>
                  <a:pt x="473139" y="1390578"/>
                </a:cubicBezTo>
                <a:cubicBezTo>
                  <a:pt x="391203" y="1423988"/>
                  <a:pt x="318506" y="1469260"/>
                  <a:pt x="258353" y="1524144"/>
                </a:cubicBezTo>
                <a:cubicBezTo>
                  <a:pt x="102364" y="1370026"/>
                  <a:pt x="5849" y="1161456"/>
                  <a:pt x="0" y="931303"/>
                </a:cubicBezTo>
                <a:close/>
                <a:moveTo>
                  <a:pt x="536834" y="421694"/>
                </a:moveTo>
                <a:cubicBezTo>
                  <a:pt x="646682" y="464986"/>
                  <a:pt x="770110" y="489176"/>
                  <a:pt x="900586" y="490537"/>
                </a:cubicBezTo>
                <a:lnTo>
                  <a:pt x="900586" y="875390"/>
                </a:lnTo>
                <a:lnTo>
                  <a:pt x="448805" y="875390"/>
                </a:lnTo>
                <a:cubicBezTo>
                  <a:pt x="451150" y="709592"/>
                  <a:pt x="482649" y="554587"/>
                  <a:pt x="536834" y="421694"/>
                </a:cubicBezTo>
                <a:close/>
                <a:moveTo>
                  <a:pt x="1356131" y="409527"/>
                </a:moveTo>
                <a:cubicBezTo>
                  <a:pt x="1415590" y="544412"/>
                  <a:pt x="1451132" y="703874"/>
                  <a:pt x="1455052" y="875390"/>
                </a:cubicBezTo>
                <a:lnTo>
                  <a:pt x="953521" y="875390"/>
                </a:lnTo>
                <a:lnTo>
                  <a:pt x="953521" y="491238"/>
                </a:lnTo>
                <a:cubicBezTo>
                  <a:pt x="1099303" y="490092"/>
                  <a:pt x="1236528" y="461431"/>
                  <a:pt x="1356131" y="409527"/>
                </a:cubicBezTo>
                <a:close/>
                <a:moveTo>
                  <a:pt x="271202" y="273767"/>
                </a:moveTo>
                <a:cubicBezTo>
                  <a:pt x="330895" y="324894"/>
                  <a:pt x="401533" y="367494"/>
                  <a:pt x="480768" y="398692"/>
                </a:cubicBezTo>
                <a:cubicBezTo>
                  <a:pt x="424147" y="539118"/>
                  <a:pt x="390867" y="701724"/>
                  <a:pt x="388496" y="875390"/>
                </a:cubicBezTo>
                <a:lnTo>
                  <a:pt x="238" y="875390"/>
                </a:lnTo>
                <a:cubicBezTo>
                  <a:pt x="7162" y="640451"/>
                  <a:pt x="108645" y="428248"/>
                  <a:pt x="271202" y="273767"/>
                </a:cubicBezTo>
                <a:close/>
                <a:moveTo>
                  <a:pt x="1605567" y="261436"/>
                </a:moveTo>
                <a:cubicBezTo>
                  <a:pt x="1775300" y="417133"/>
                  <a:pt x="1881942" y="634296"/>
                  <a:pt x="1889035" y="875390"/>
                </a:cubicBezTo>
                <a:lnTo>
                  <a:pt x="1515364" y="875390"/>
                </a:lnTo>
                <a:cubicBezTo>
                  <a:pt x="1511419" y="696081"/>
                  <a:pt x="1474168" y="529014"/>
                  <a:pt x="1413107" y="386152"/>
                </a:cubicBezTo>
                <a:cubicBezTo>
                  <a:pt x="1485941" y="353453"/>
                  <a:pt x="1551126" y="311628"/>
                  <a:pt x="1605567" y="261436"/>
                </a:cubicBezTo>
                <a:close/>
                <a:moveTo>
                  <a:pt x="748157" y="19413"/>
                </a:moveTo>
                <a:cubicBezTo>
                  <a:pt x="649482" y="96557"/>
                  <a:pt x="565491" y="208310"/>
                  <a:pt x="504779" y="344256"/>
                </a:cubicBezTo>
                <a:cubicBezTo>
                  <a:pt x="432706" y="315858"/>
                  <a:pt x="368354" y="277545"/>
                  <a:pt x="313920" y="231604"/>
                </a:cubicBezTo>
                <a:cubicBezTo>
                  <a:pt x="434240" y="127070"/>
                  <a:pt x="583275" y="52667"/>
                  <a:pt x="748157" y="19413"/>
                </a:cubicBezTo>
                <a:close/>
                <a:moveTo>
                  <a:pt x="1137621" y="18543"/>
                </a:moveTo>
                <a:cubicBezTo>
                  <a:pt x="1297904" y="50310"/>
                  <a:pt x="1443338" y="120918"/>
                  <a:pt x="1562575" y="219802"/>
                </a:cubicBezTo>
                <a:cubicBezTo>
                  <a:pt x="1512842" y="265093"/>
                  <a:pt x="1453308" y="302843"/>
                  <a:pt x="1386970" y="332857"/>
                </a:cubicBezTo>
                <a:cubicBezTo>
                  <a:pt x="1323718" y="199817"/>
                  <a:pt x="1237626" y="91674"/>
                  <a:pt x="1137621" y="18543"/>
                </a:cubicBezTo>
                <a:close/>
                <a:moveTo>
                  <a:pt x="900586" y="1702"/>
                </a:moveTo>
                <a:lnTo>
                  <a:pt x="900586" y="430269"/>
                </a:lnTo>
                <a:cubicBezTo>
                  <a:pt x="778345" y="428899"/>
                  <a:pt x="662774" y="406468"/>
                  <a:pt x="560047" y="366408"/>
                </a:cubicBezTo>
                <a:cubicBezTo>
                  <a:pt x="637783" y="193348"/>
                  <a:pt x="753999" y="63227"/>
                  <a:pt x="890213" y="2203"/>
                </a:cubicBezTo>
                <a:lnTo>
                  <a:pt x="900586" y="1702"/>
                </a:lnTo>
                <a:close/>
                <a:moveTo>
                  <a:pt x="953521" y="0"/>
                </a:moveTo>
                <a:lnTo>
                  <a:pt x="981035" y="1330"/>
                </a:lnTo>
                <a:cubicBezTo>
                  <a:pt x="1124068" y="53565"/>
                  <a:pt x="1247786" y="180867"/>
                  <a:pt x="1332000" y="354889"/>
                </a:cubicBezTo>
                <a:cubicBezTo>
                  <a:pt x="1219743" y="403080"/>
                  <a:pt x="1090709" y="429800"/>
                  <a:pt x="953521" y="430954"/>
                </a:cubicBezTo>
                <a:lnTo>
                  <a:pt x="953521" y="0"/>
                </a:lnTo>
                <a:close/>
              </a:path>
            </a:pathLst>
          </a:cu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文本框 4"/>
          <p:cNvSpPr/>
          <p:nvPr/>
        </p:nvSpPr>
        <p:spPr>
          <a:xfrm>
            <a:off x="896760" y="181080"/>
            <a:ext cx="31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团队介绍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工作计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Group 4"/>
          <p:cNvGrpSpPr/>
          <p:nvPr/>
        </p:nvGrpSpPr>
        <p:grpSpPr>
          <a:xfrm>
            <a:off x="5092560" y="4110120"/>
            <a:ext cx="1785960" cy="1008000"/>
            <a:chOff x="5092560" y="4110120"/>
            <a:chExt cx="1785960" cy="1008000"/>
          </a:xfrm>
        </p:grpSpPr>
        <p:sp>
          <p:nvSpPr>
            <p:cNvPr id="362" name="矩形 9"/>
            <p:cNvSpPr/>
            <p:nvPr/>
          </p:nvSpPr>
          <p:spPr>
            <a:xfrm>
              <a:off x="5092560" y="4110120"/>
              <a:ext cx="1785960" cy="1008000"/>
            </a:xfrm>
            <a:prstGeom prst="rect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3" name="图片 18" descr=""/>
            <p:cNvPicPr/>
            <p:nvPr/>
          </p:nvPicPr>
          <p:blipFill>
            <a:blip r:embed="rId1"/>
            <a:stretch/>
          </p:blipFill>
          <p:spPr>
            <a:xfrm>
              <a:off x="5202720" y="4295880"/>
              <a:ext cx="552960" cy="65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矩形 20"/>
            <p:cNvSpPr/>
            <p:nvPr/>
          </p:nvSpPr>
          <p:spPr>
            <a:xfrm>
              <a:off x="6198480" y="4504680"/>
              <a:ext cx="612000" cy="277200"/>
            </a:xfrm>
            <a:prstGeom prst="rect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d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矩形 26"/>
          <p:cNvSpPr/>
          <p:nvPr/>
        </p:nvSpPr>
        <p:spPr>
          <a:xfrm>
            <a:off x="7045200" y="1523880"/>
            <a:ext cx="4149720" cy="100836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26"/>
          <p:cNvSpPr/>
          <p:nvPr/>
        </p:nvSpPr>
        <p:spPr>
          <a:xfrm>
            <a:off x="7037280" y="2838600"/>
            <a:ext cx="4157640" cy="100800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矩形 26"/>
          <p:cNvSpPr/>
          <p:nvPr/>
        </p:nvSpPr>
        <p:spPr>
          <a:xfrm>
            <a:off x="7037280" y="4105440"/>
            <a:ext cx="4127760" cy="100800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Group 11"/>
          <p:cNvGrpSpPr/>
          <p:nvPr/>
        </p:nvGrpSpPr>
        <p:grpSpPr>
          <a:xfrm>
            <a:off x="5089680" y="2833560"/>
            <a:ext cx="1784160" cy="1008360"/>
            <a:chOff x="5089680" y="2833560"/>
            <a:chExt cx="1784160" cy="1008360"/>
          </a:xfrm>
        </p:grpSpPr>
        <p:sp>
          <p:nvSpPr>
            <p:cNvPr id="369" name="矩形 8"/>
            <p:cNvSpPr/>
            <p:nvPr/>
          </p:nvSpPr>
          <p:spPr>
            <a:xfrm>
              <a:off x="5089680" y="2833560"/>
              <a:ext cx="1784160" cy="1008360"/>
            </a:xfrm>
            <a:prstGeom prst="rect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0" name="图片 15" descr=""/>
            <p:cNvPicPr/>
            <p:nvPr/>
          </p:nvPicPr>
          <p:blipFill>
            <a:blip r:embed="rId2"/>
            <a:stretch/>
          </p:blipFill>
          <p:spPr>
            <a:xfrm>
              <a:off x="5090400" y="2982600"/>
              <a:ext cx="637560" cy="76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矩形 19"/>
            <p:cNvSpPr/>
            <p:nvPr/>
          </p:nvSpPr>
          <p:spPr>
            <a:xfrm>
              <a:off x="6211440" y="3222720"/>
              <a:ext cx="622800" cy="277200"/>
            </a:xfrm>
            <a:prstGeom prst="rect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d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Group 15"/>
          <p:cNvGrpSpPr/>
          <p:nvPr/>
        </p:nvGrpSpPr>
        <p:grpSpPr>
          <a:xfrm>
            <a:off x="5102280" y="1531800"/>
            <a:ext cx="1787400" cy="1008360"/>
            <a:chOff x="5102280" y="1531800"/>
            <a:chExt cx="1787400" cy="1008360"/>
          </a:xfrm>
        </p:grpSpPr>
        <p:sp>
          <p:nvSpPr>
            <p:cNvPr id="373" name="矩形 7"/>
            <p:cNvSpPr/>
            <p:nvPr/>
          </p:nvSpPr>
          <p:spPr>
            <a:xfrm>
              <a:off x="5102280" y="1531800"/>
              <a:ext cx="1787400" cy="1008360"/>
            </a:xfrm>
            <a:prstGeom prst="rect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4" name="图片 10" descr=""/>
            <p:cNvPicPr/>
            <p:nvPr/>
          </p:nvPicPr>
          <p:blipFill>
            <a:blip r:embed="rId3"/>
            <a:stretch/>
          </p:blipFill>
          <p:spPr>
            <a:xfrm>
              <a:off x="5175360" y="1668240"/>
              <a:ext cx="620640" cy="69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矩形 21"/>
            <p:cNvSpPr/>
            <p:nvPr/>
          </p:nvSpPr>
          <p:spPr>
            <a:xfrm>
              <a:off x="6219000" y="1890000"/>
              <a:ext cx="649440" cy="276480"/>
            </a:xfrm>
            <a:prstGeom prst="rect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d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6" name="Picture 20" descr="图片1"/>
          <p:cNvPicPr/>
          <p:nvPr/>
        </p:nvPicPr>
        <p:blipFill>
          <a:blip r:embed="rId4"/>
          <a:stretch/>
        </p:blipFill>
        <p:spPr>
          <a:xfrm>
            <a:off x="114480" y="706320"/>
            <a:ext cx="5402160" cy="5402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01C4B-7F42-489F-A6BE-136073795702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04:47:55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Group 8"/>
          <p:cNvGrpSpPr/>
          <p:nvPr/>
        </p:nvGrpSpPr>
        <p:grpSpPr>
          <a:xfrm>
            <a:off x="4178880" y="1218240"/>
            <a:ext cx="4119840" cy="4084560"/>
            <a:chOff x="4178880" y="1218240"/>
            <a:chExt cx="4119840" cy="4084560"/>
          </a:xfrm>
        </p:grpSpPr>
        <p:sp>
          <p:nvSpPr>
            <p:cNvPr id="379" name="同心圆 14"/>
            <p:cNvSpPr/>
            <p:nvPr/>
          </p:nvSpPr>
          <p:spPr>
            <a:xfrm>
              <a:off x="4854960" y="1873080"/>
              <a:ext cx="2779200" cy="2774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776" y="10800"/>
                  </a:moveTo>
                  <a:cubicBezTo>
                    <a:pt x="776" y="16336"/>
                    <a:pt x="5264" y="20824"/>
                    <a:pt x="10800" y="20824"/>
                  </a:cubicBezTo>
                  <a:cubicBezTo>
                    <a:pt x="16336" y="20824"/>
                    <a:pt x="20824" y="16336"/>
                    <a:pt x="20824" y="10800"/>
                  </a:cubicBezTo>
                  <a:cubicBezTo>
                    <a:pt x="20824" y="5264"/>
                    <a:pt x="16336" y="776"/>
                    <a:pt x="10800" y="776"/>
                  </a:cubicBezTo>
                  <a:cubicBezTo>
                    <a:pt x="5264" y="776"/>
                    <a:pt x="776" y="5264"/>
                    <a:pt x="776" y="10800"/>
                  </a:cubicBezTo>
                  <a:close/>
                </a:path>
              </a:pathLst>
            </a:cu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同心圆 15"/>
            <p:cNvSpPr/>
            <p:nvPr/>
          </p:nvSpPr>
          <p:spPr>
            <a:xfrm>
              <a:off x="5016960" y="2024280"/>
              <a:ext cx="2465640" cy="2459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78" y="10800"/>
                  </a:moveTo>
                  <a:cubicBezTo>
                    <a:pt x="178" y="16666"/>
                    <a:pt x="4934" y="21422"/>
                    <a:pt x="10800" y="21422"/>
                  </a:cubicBezTo>
                  <a:cubicBezTo>
                    <a:pt x="16666" y="21422"/>
                    <a:pt x="21422" y="16666"/>
                    <a:pt x="21422" y="10800"/>
                  </a:cubicBezTo>
                  <a:cubicBezTo>
                    <a:pt x="21422" y="4934"/>
                    <a:pt x="16666" y="178"/>
                    <a:pt x="10800" y="178"/>
                  </a:cubicBezTo>
                  <a:cubicBezTo>
                    <a:pt x="4934" y="178"/>
                    <a:pt x="178" y="4934"/>
                    <a:pt x="178" y="10800"/>
                  </a:cubicBezTo>
                  <a:close/>
                </a:path>
              </a:pathLst>
            </a:cu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同心圆 16" hidden="1"/>
            <p:cNvSpPr/>
            <p:nvPr/>
          </p:nvSpPr>
          <p:spPr>
            <a:xfrm>
              <a:off x="4965120" y="1983960"/>
              <a:ext cx="2559240" cy="2553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422" y="10800"/>
                  </a:moveTo>
                  <a:cubicBezTo>
                    <a:pt x="422" y="16532"/>
                    <a:pt x="5068" y="21178"/>
                    <a:pt x="10800" y="21178"/>
                  </a:cubicBezTo>
                  <a:cubicBezTo>
                    <a:pt x="16532" y="21178"/>
                    <a:pt x="21178" y="16532"/>
                    <a:pt x="21178" y="10800"/>
                  </a:cubicBezTo>
                  <a:cubicBezTo>
                    <a:pt x="21178" y="5068"/>
                    <a:pt x="16532" y="422"/>
                    <a:pt x="10800" y="422"/>
                  </a:cubicBezTo>
                  <a:cubicBezTo>
                    <a:pt x="5068" y="422"/>
                    <a:pt x="422" y="5068"/>
                    <a:pt x="422" y="10800"/>
                  </a:cubicBez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2" name="人"/>
            <p:cNvGrpSpPr/>
            <p:nvPr/>
          </p:nvGrpSpPr>
          <p:grpSpPr>
            <a:xfrm>
              <a:off x="4265640" y="2500920"/>
              <a:ext cx="611640" cy="381600"/>
              <a:chOff x="4265640" y="2500920"/>
              <a:chExt cx="611640" cy="381600"/>
            </a:xfrm>
          </p:grpSpPr>
          <p:sp>
            <p:nvSpPr>
              <p:cNvPr id="383" name="头"/>
              <p:cNvSpPr/>
              <p:nvPr/>
            </p:nvSpPr>
            <p:spPr>
              <a:xfrm rot="17340000">
                <a:off x="4278600" y="2546280"/>
                <a:ext cx="95400" cy="9576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body"/>
              <p:cNvSpPr/>
              <p:nvPr/>
            </p:nvSpPr>
            <p:spPr>
              <a:xfrm rot="17340000">
                <a:off x="4491000" y="2449440"/>
                <a:ext cx="236880" cy="484200"/>
              </a:xfrm>
              <a:custGeom>
                <a:avLst/>
                <a:gdLst/>
                <a:ahLst/>
                <a:rect l="l" t="t" r="r" b="b"/>
                <a:pathLst>
                  <a:path w="4724400" h="9632950">
                    <a:moveTo>
                      <a:pt x="1263683" y="0"/>
                    </a:moveTo>
                    <a:lnTo>
                      <a:pt x="3460717" y="0"/>
                    </a:lnTo>
                    <a:cubicBezTo>
                      <a:pt x="4158630" y="0"/>
                      <a:pt x="4724400" y="565770"/>
                      <a:pt x="4724400" y="1263683"/>
                    </a:cubicBezTo>
                    <a:lnTo>
                      <a:pt x="4724400" y="4181475"/>
                    </a:lnTo>
                    <a:lnTo>
                      <a:pt x="4724400" y="4208530"/>
                    </a:lnTo>
                    <a:lnTo>
                      <a:pt x="4721672" y="4208530"/>
                    </a:lnTo>
                    <a:lnTo>
                      <a:pt x="4716852" y="4256340"/>
                    </a:lnTo>
                    <a:cubicBezTo>
                      <a:pt x="4682214" y="4425615"/>
                      <a:pt x="4532440" y="4552950"/>
                      <a:pt x="4352924" y="4552950"/>
                    </a:cubicBezTo>
                    <a:cubicBezTo>
                      <a:pt x="4173410" y="4552950"/>
                      <a:pt x="4023636" y="4425615"/>
                      <a:pt x="3988996" y="4256340"/>
                    </a:cubicBezTo>
                    <a:lnTo>
                      <a:pt x="3984178" y="4208530"/>
                    </a:lnTo>
                    <a:lnTo>
                      <a:pt x="3978728" y="4208530"/>
                    </a:lnTo>
                    <a:lnTo>
                      <a:pt x="3978728" y="1344167"/>
                    </a:lnTo>
                    <a:lnTo>
                      <a:pt x="3635828" y="1344167"/>
                    </a:lnTo>
                    <a:lnTo>
                      <a:pt x="3635828" y="3627883"/>
                    </a:lnTo>
                    <a:lnTo>
                      <a:pt x="3635828" y="4208530"/>
                    </a:lnTo>
                    <a:lnTo>
                      <a:pt x="3635828" y="9081294"/>
                    </a:lnTo>
                    <a:lnTo>
                      <a:pt x="3635828" y="9124950"/>
                    </a:lnTo>
                    <a:lnTo>
                      <a:pt x="3631427" y="9124950"/>
                    </a:lnTo>
                    <a:lnTo>
                      <a:pt x="3624620" y="9192472"/>
                    </a:lnTo>
                    <a:cubicBezTo>
                      <a:pt x="3573180" y="9443852"/>
                      <a:pt x="3350759" y="9632950"/>
                      <a:pt x="3084172" y="9632950"/>
                    </a:cubicBezTo>
                    <a:cubicBezTo>
                      <a:pt x="2817585" y="9632950"/>
                      <a:pt x="2595164" y="9443852"/>
                      <a:pt x="2543724" y="9192472"/>
                    </a:cubicBezTo>
                    <a:lnTo>
                      <a:pt x="2536917" y="9124950"/>
                    </a:lnTo>
                    <a:lnTo>
                      <a:pt x="2533650" y="9124950"/>
                    </a:lnTo>
                    <a:lnTo>
                      <a:pt x="2533650" y="9092543"/>
                    </a:lnTo>
                    <a:lnTo>
                      <a:pt x="2532516" y="9081294"/>
                    </a:lnTo>
                    <a:lnTo>
                      <a:pt x="2533650" y="9070045"/>
                    </a:lnTo>
                    <a:lnTo>
                      <a:pt x="2533650" y="4572000"/>
                    </a:lnTo>
                    <a:lnTo>
                      <a:pt x="2171700" y="4572000"/>
                    </a:lnTo>
                    <a:lnTo>
                      <a:pt x="2171700" y="9099550"/>
                    </a:lnTo>
                    <a:lnTo>
                      <a:pt x="2171700" y="9124950"/>
                    </a:lnTo>
                    <a:lnTo>
                      <a:pt x="2169140" y="9124950"/>
                    </a:lnTo>
                    <a:lnTo>
                      <a:pt x="2160863" y="9207049"/>
                    </a:lnTo>
                    <a:cubicBezTo>
                      <a:pt x="2111126" y="9450110"/>
                      <a:pt x="1896065" y="9632950"/>
                      <a:pt x="1638300" y="9632950"/>
                    </a:cubicBezTo>
                    <a:cubicBezTo>
                      <a:pt x="1380535" y="9632950"/>
                      <a:pt x="1165474" y="9450110"/>
                      <a:pt x="1115737" y="9207049"/>
                    </a:cubicBezTo>
                    <a:lnTo>
                      <a:pt x="1107461" y="9124950"/>
                    </a:lnTo>
                    <a:lnTo>
                      <a:pt x="1104900" y="9124950"/>
                    </a:lnTo>
                    <a:lnTo>
                      <a:pt x="1104900" y="9099550"/>
                    </a:lnTo>
                    <a:lnTo>
                      <a:pt x="1104900" y="4208530"/>
                    </a:lnTo>
                    <a:lnTo>
                      <a:pt x="1104900" y="3627883"/>
                    </a:lnTo>
                    <a:lnTo>
                      <a:pt x="1104900" y="1344167"/>
                    </a:lnTo>
                    <a:lnTo>
                      <a:pt x="762000" y="1344167"/>
                    </a:lnTo>
                    <a:lnTo>
                      <a:pt x="762000" y="4191000"/>
                    </a:lnTo>
                    <a:lnTo>
                      <a:pt x="762000" y="4208530"/>
                    </a:lnTo>
                    <a:lnTo>
                      <a:pt x="760233" y="4208530"/>
                    </a:lnTo>
                    <a:lnTo>
                      <a:pt x="754259" y="4267785"/>
                    </a:lnTo>
                    <a:cubicBezTo>
                      <a:pt x="718733" y="4441400"/>
                      <a:pt x="565118" y="4572000"/>
                      <a:pt x="381000" y="4572000"/>
                    </a:cubicBezTo>
                    <a:cubicBezTo>
                      <a:pt x="196883" y="4572000"/>
                      <a:pt x="43268" y="4441400"/>
                      <a:pt x="7741" y="4267785"/>
                    </a:cubicBezTo>
                    <a:lnTo>
                      <a:pt x="1767" y="4208530"/>
                    </a:lnTo>
                    <a:lnTo>
                      <a:pt x="0" y="4208530"/>
                    </a:lnTo>
                    <a:lnTo>
                      <a:pt x="0" y="4191000"/>
                    </a:lnTo>
                    <a:lnTo>
                      <a:pt x="0" y="1263683"/>
                    </a:lnTo>
                    <a:cubicBezTo>
                      <a:pt x="0" y="565770"/>
                      <a:pt x="565770" y="0"/>
                      <a:pt x="1263683" y="0"/>
                    </a:cubicBezTo>
                    <a:close/>
                  </a:path>
                </a:pathLst>
              </a:cu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5" name="人"/>
            <p:cNvGrpSpPr/>
            <p:nvPr/>
          </p:nvGrpSpPr>
          <p:grpSpPr>
            <a:xfrm>
              <a:off x="4599360" y="1915200"/>
              <a:ext cx="562320" cy="499680"/>
              <a:chOff x="4599360" y="1915200"/>
              <a:chExt cx="562320" cy="499680"/>
            </a:xfrm>
          </p:grpSpPr>
          <p:sp>
            <p:nvSpPr>
              <p:cNvPr id="386" name="头"/>
              <p:cNvSpPr/>
              <p:nvPr/>
            </p:nvSpPr>
            <p:spPr>
              <a:xfrm rot="18540000">
                <a:off x="4618440" y="1934280"/>
                <a:ext cx="9540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body"/>
              <p:cNvSpPr/>
              <p:nvPr/>
            </p:nvSpPr>
            <p:spPr>
              <a:xfrm rot="18540000">
                <a:off x="4780440" y="1928520"/>
                <a:ext cx="236880" cy="483840"/>
              </a:xfrm>
              <a:custGeom>
                <a:avLst/>
                <a:gdLst/>
                <a:ahLst/>
                <a:rect l="l" t="t" r="r" b="b"/>
                <a:pathLst>
                  <a:path w="4724400" h="9632950">
                    <a:moveTo>
                      <a:pt x="1263683" y="0"/>
                    </a:moveTo>
                    <a:lnTo>
                      <a:pt x="3460717" y="0"/>
                    </a:lnTo>
                    <a:cubicBezTo>
                      <a:pt x="4158630" y="0"/>
                      <a:pt x="4724400" y="565770"/>
                      <a:pt x="4724400" y="1263683"/>
                    </a:cubicBezTo>
                    <a:lnTo>
                      <a:pt x="4724400" y="4181475"/>
                    </a:lnTo>
                    <a:lnTo>
                      <a:pt x="4724400" y="4208530"/>
                    </a:lnTo>
                    <a:lnTo>
                      <a:pt x="4721672" y="4208530"/>
                    </a:lnTo>
                    <a:lnTo>
                      <a:pt x="4716852" y="4256340"/>
                    </a:lnTo>
                    <a:cubicBezTo>
                      <a:pt x="4682214" y="4425615"/>
                      <a:pt x="4532440" y="4552950"/>
                      <a:pt x="4352924" y="4552950"/>
                    </a:cubicBezTo>
                    <a:cubicBezTo>
                      <a:pt x="4173410" y="4552950"/>
                      <a:pt x="4023636" y="4425615"/>
                      <a:pt x="3988996" y="4256340"/>
                    </a:cubicBezTo>
                    <a:lnTo>
                      <a:pt x="3984178" y="4208530"/>
                    </a:lnTo>
                    <a:lnTo>
                      <a:pt x="3978728" y="4208530"/>
                    </a:lnTo>
                    <a:lnTo>
                      <a:pt x="3978728" y="1344167"/>
                    </a:lnTo>
                    <a:lnTo>
                      <a:pt x="3635828" y="1344167"/>
                    </a:lnTo>
                    <a:lnTo>
                      <a:pt x="3635828" y="3627883"/>
                    </a:lnTo>
                    <a:lnTo>
                      <a:pt x="3635828" y="4208530"/>
                    </a:lnTo>
                    <a:lnTo>
                      <a:pt x="3635828" y="9081294"/>
                    </a:lnTo>
                    <a:lnTo>
                      <a:pt x="3635828" y="9124950"/>
                    </a:lnTo>
                    <a:lnTo>
                      <a:pt x="3631427" y="9124950"/>
                    </a:lnTo>
                    <a:lnTo>
                      <a:pt x="3624620" y="9192472"/>
                    </a:lnTo>
                    <a:cubicBezTo>
                      <a:pt x="3573180" y="9443852"/>
                      <a:pt x="3350759" y="9632950"/>
                      <a:pt x="3084172" y="9632950"/>
                    </a:cubicBezTo>
                    <a:cubicBezTo>
                      <a:pt x="2817585" y="9632950"/>
                      <a:pt x="2595164" y="9443852"/>
                      <a:pt x="2543724" y="9192472"/>
                    </a:cubicBezTo>
                    <a:lnTo>
                      <a:pt x="2536917" y="9124950"/>
                    </a:lnTo>
                    <a:lnTo>
                      <a:pt x="2533650" y="9124950"/>
                    </a:lnTo>
                    <a:lnTo>
                      <a:pt x="2533650" y="9092543"/>
                    </a:lnTo>
                    <a:lnTo>
                      <a:pt x="2532516" y="9081294"/>
                    </a:lnTo>
                    <a:lnTo>
                      <a:pt x="2533650" y="9070045"/>
                    </a:lnTo>
                    <a:lnTo>
                      <a:pt x="2533650" y="4572000"/>
                    </a:lnTo>
                    <a:lnTo>
                      <a:pt x="2171700" y="4572000"/>
                    </a:lnTo>
                    <a:lnTo>
                      <a:pt x="2171700" y="9099550"/>
                    </a:lnTo>
                    <a:lnTo>
                      <a:pt x="2171700" y="9124950"/>
                    </a:lnTo>
                    <a:lnTo>
                      <a:pt x="2169140" y="9124950"/>
                    </a:lnTo>
                    <a:lnTo>
                      <a:pt x="2160863" y="9207049"/>
                    </a:lnTo>
                    <a:cubicBezTo>
                      <a:pt x="2111126" y="9450110"/>
                      <a:pt x="1896065" y="9632950"/>
                      <a:pt x="1638300" y="9632950"/>
                    </a:cubicBezTo>
                    <a:cubicBezTo>
                      <a:pt x="1380535" y="9632950"/>
                      <a:pt x="1165474" y="9450110"/>
                      <a:pt x="1115737" y="9207049"/>
                    </a:cubicBezTo>
                    <a:lnTo>
                      <a:pt x="1107461" y="9124950"/>
                    </a:lnTo>
                    <a:lnTo>
                      <a:pt x="1104900" y="9124950"/>
                    </a:lnTo>
                    <a:lnTo>
                      <a:pt x="1104900" y="9099550"/>
                    </a:lnTo>
                    <a:lnTo>
                      <a:pt x="1104900" y="4208530"/>
                    </a:lnTo>
                    <a:lnTo>
                      <a:pt x="1104900" y="3627883"/>
                    </a:lnTo>
                    <a:lnTo>
                      <a:pt x="1104900" y="1344167"/>
                    </a:lnTo>
                    <a:lnTo>
                      <a:pt x="762000" y="1344167"/>
                    </a:lnTo>
                    <a:lnTo>
                      <a:pt x="762000" y="4191000"/>
                    </a:lnTo>
                    <a:lnTo>
                      <a:pt x="762000" y="4208530"/>
                    </a:lnTo>
                    <a:lnTo>
                      <a:pt x="760233" y="4208530"/>
                    </a:lnTo>
                    <a:lnTo>
                      <a:pt x="754259" y="4267785"/>
                    </a:lnTo>
                    <a:cubicBezTo>
                      <a:pt x="718733" y="4441400"/>
                      <a:pt x="565118" y="4572000"/>
                      <a:pt x="381000" y="4572000"/>
                    </a:cubicBezTo>
                    <a:cubicBezTo>
                      <a:pt x="196883" y="4572000"/>
                      <a:pt x="43268" y="4441400"/>
                      <a:pt x="7741" y="4267785"/>
                    </a:cubicBezTo>
                    <a:lnTo>
                      <a:pt x="1767" y="4208530"/>
                    </a:lnTo>
                    <a:lnTo>
                      <a:pt x="0" y="4208530"/>
                    </a:lnTo>
                    <a:lnTo>
                      <a:pt x="0" y="4191000"/>
                    </a:lnTo>
                    <a:lnTo>
                      <a:pt x="0" y="1263683"/>
                    </a:lnTo>
                    <a:cubicBezTo>
                      <a:pt x="0" y="565770"/>
                      <a:pt x="565770" y="0"/>
                      <a:pt x="1263683" y="0"/>
                    </a:cubicBezTo>
                    <a:close/>
                  </a:path>
                </a:pathLst>
              </a:cu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8" name="人"/>
            <p:cNvGrpSpPr/>
            <p:nvPr/>
          </p:nvGrpSpPr>
          <p:grpSpPr>
            <a:xfrm>
              <a:off x="5133960" y="1470600"/>
              <a:ext cx="452160" cy="589320"/>
              <a:chOff x="5133960" y="1470600"/>
              <a:chExt cx="452160" cy="589320"/>
            </a:xfrm>
          </p:grpSpPr>
          <p:sp>
            <p:nvSpPr>
              <p:cNvPr id="389" name="头"/>
              <p:cNvSpPr/>
              <p:nvPr/>
            </p:nvSpPr>
            <p:spPr>
              <a:xfrm rot="19740000">
                <a:off x="5158440" y="1488240"/>
                <a:ext cx="9576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body"/>
              <p:cNvSpPr/>
              <p:nvPr/>
            </p:nvSpPr>
            <p:spPr>
              <a:xfrm rot="19740000">
                <a:off x="5241240" y="1550520"/>
                <a:ext cx="237600" cy="482760"/>
              </a:xfrm>
              <a:custGeom>
                <a:avLst/>
                <a:gdLst/>
                <a:ahLst/>
                <a:rect l="l" t="t" r="r" b="b"/>
                <a:pathLst>
                  <a:path w="4724400" h="9632950">
                    <a:moveTo>
                      <a:pt x="1263683" y="0"/>
                    </a:moveTo>
                    <a:lnTo>
                      <a:pt x="3460717" y="0"/>
                    </a:lnTo>
                    <a:cubicBezTo>
                      <a:pt x="4158630" y="0"/>
                      <a:pt x="4724400" y="565770"/>
                      <a:pt x="4724400" y="1263683"/>
                    </a:cubicBezTo>
                    <a:lnTo>
                      <a:pt x="4724400" y="4181475"/>
                    </a:lnTo>
                    <a:lnTo>
                      <a:pt x="4724400" y="4208530"/>
                    </a:lnTo>
                    <a:lnTo>
                      <a:pt x="4721672" y="4208530"/>
                    </a:lnTo>
                    <a:lnTo>
                      <a:pt x="4716852" y="4256340"/>
                    </a:lnTo>
                    <a:cubicBezTo>
                      <a:pt x="4682214" y="4425615"/>
                      <a:pt x="4532440" y="4552950"/>
                      <a:pt x="4352924" y="4552950"/>
                    </a:cubicBezTo>
                    <a:cubicBezTo>
                      <a:pt x="4173410" y="4552950"/>
                      <a:pt x="4023636" y="4425615"/>
                      <a:pt x="3988996" y="4256340"/>
                    </a:cubicBezTo>
                    <a:lnTo>
                      <a:pt x="3984178" y="4208530"/>
                    </a:lnTo>
                    <a:lnTo>
                      <a:pt x="3978728" y="4208530"/>
                    </a:lnTo>
                    <a:lnTo>
                      <a:pt x="3978728" y="1344167"/>
                    </a:lnTo>
                    <a:lnTo>
                      <a:pt x="3635828" y="1344167"/>
                    </a:lnTo>
                    <a:lnTo>
                      <a:pt x="3635828" y="3627883"/>
                    </a:lnTo>
                    <a:lnTo>
                      <a:pt x="3635828" y="4208530"/>
                    </a:lnTo>
                    <a:lnTo>
                      <a:pt x="3635828" y="9081294"/>
                    </a:lnTo>
                    <a:lnTo>
                      <a:pt x="3635828" y="9124950"/>
                    </a:lnTo>
                    <a:lnTo>
                      <a:pt x="3631427" y="9124950"/>
                    </a:lnTo>
                    <a:lnTo>
                      <a:pt x="3624620" y="9192472"/>
                    </a:lnTo>
                    <a:cubicBezTo>
                      <a:pt x="3573180" y="9443852"/>
                      <a:pt x="3350759" y="9632950"/>
                      <a:pt x="3084172" y="9632950"/>
                    </a:cubicBezTo>
                    <a:cubicBezTo>
                      <a:pt x="2817585" y="9632950"/>
                      <a:pt x="2595164" y="9443852"/>
                      <a:pt x="2543724" y="9192472"/>
                    </a:cubicBezTo>
                    <a:lnTo>
                      <a:pt x="2536917" y="9124950"/>
                    </a:lnTo>
                    <a:lnTo>
                      <a:pt x="2533650" y="9124950"/>
                    </a:lnTo>
                    <a:lnTo>
                      <a:pt x="2533650" y="9092543"/>
                    </a:lnTo>
                    <a:lnTo>
                      <a:pt x="2532516" y="9081294"/>
                    </a:lnTo>
                    <a:lnTo>
                      <a:pt x="2533650" y="9070045"/>
                    </a:lnTo>
                    <a:lnTo>
                      <a:pt x="2533650" y="4572000"/>
                    </a:lnTo>
                    <a:lnTo>
                      <a:pt x="2171700" y="4572000"/>
                    </a:lnTo>
                    <a:lnTo>
                      <a:pt x="2171700" y="9099550"/>
                    </a:lnTo>
                    <a:lnTo>
                      <a:pt x="2171700" y="9124950"/>
                    </a:lnTo>
                    <a:lnTo>
                      <a:pt x="2169140" y="9124950"/>
                    </a:lnTo>
                    <a:lnTo>
                      <a:pt x="2160863" y="9207049"/>
                    </a:lnTo>
                    <a:cubicBezTo>
                      <a:pt x="2111126" y="9450110"/>
                      <a:pt x="1896065" y="9632950"/>
                      <a:pt x="1638300" y="9632950"/>
                    </a:cubicBezTo>
                    <a:cubicBezTo>
                      <a:pt x="1380535" y="9632950"/>
                      <a:pt x="1165474" y="9450110"/>
                      <a:pt x="1115737" y="9207049"/>
                    </a:cubicBezTo>
                    <a:lnTo>
                      <a:pt x="1107461" y="9124950"/>
                    </a:lnTo>
                    <a:lnTo>
                      <a:pt x="1104900" y="9124950"/>
                    </a:lnTo>
                    <a:lnTo>
                      <a:pt x="1104900" y="9099550"/>
                    </a:lnTo>
                    <a:lnTo>
                      <a:pt x="1104900" y="4208530"/>
                    </a:lnTo>
                    <a:lnTo>
                      <a:pt x="1104900" y="3627883"/>
                    </a:lnTo>
                    <a:lnTo>
                      <a:pt x="1104900" y="1344167"/>
                    </a:lnTo>
                    <a:lnTo>
                      <a:pt x="762000" y="1344167"/>
                    </a:lnTo>
                    <a:lnTo>
                      <a:pt x="762000" y="4191000"/>
                    </a:lnTo>
                    <a:lnTo>
                      <a:pt x="762000" y="4208530"/>
                    </a:lnTo>
                    <a:lnTo>
                      <a:pt x="760233" y="4208530"/>
                    </a:lnTo>
                    <a:lnTo>
                      <a:pt x="754259" y="4267785"/>
                    </a:lnTo>
                    <a:cubicBezTo>
                      <a:pt x="718733" y="4441400"/>
                      <a:pt x="565118" y="4572000"/>
                      <a:pt x="381000" y="4572000"/>
                    </a:cubicBezTo>
                    <a:cubicBezTo>
                      <a:pt x="196883" y="4572000"/>
                      <a:pt x="43268" y="4441400"/>
                      <a:pt x="7741" y="4267785"/>
                    </a:cubicBezTo>
                    <a:lnTo>
                      <a:pt x="1767" y="4208530"/>
                    </a:lnTo>
                    <a:lnTo>
                      <a:pt x="0" y="4208530"/>
                    </a:lnTo>
                    <a:lnTo>
                      <a:pt x="0" y="4191000"/>
                    </a:lnTo>
                    <a:lnTo>
                      <a:pt x="0" y="1263683"/>
                    </a:lnTo>
                    <a:cubicBezTo>
                      <a:pt x="0" y="565770"/>
                      <a:pt x="565770" y="0"/>
                      <a:pt x="1263683" y="0"/>
                    </a:cubicBezTo>
                    <a:close/>
                  </a:path>
                </a:pathLst>
              </a:cu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1" name="人"/>
            <p:cNvGrpSpPr/>
            <p:nvPr/>
          </p:nvGrpSpPr>
          <p:grpSpPr>
            <a:xfrm>
              <a:off x="5754240" y="1227960"/>
              <a:ext cx="325440" cy="609120"/>
              <a:chOff x="5754240" y="1227960"/>
              <a:chExt cx="325440" cy="609120"/>
            </a:xfrm>
          </p:grpSpPr>
          <p:sp>
            <p:nvSpPr>
              <p:cNvPr id="392" name="头"/>
              <p:cNvSpPr/>
              <p:nvPr/>
            </p:nvSpPr>
            <p:spPr>
              <a:xfrm rot="20940000">
                <a:off x="5811840" y="1236240"/>
                <a:ext cx="9576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body"/>
              <p:cNvSpPr/>
              <p:nvPr/>
            </p:nvSpPr>
            <p:spPr>
              <a:xfrm rot="20940000">
                <a:off x="5797800" y="1335600"/>
                <a:ext cx="237600" cy="483120"/>
              </a:xfrm>
              <a:custGeom>
                <a:avLst/>
                <a:gdLst/>
                <a:ahLst/>
                <a:rect l="l" t="t" r="r" b="b"/>
                <a:pathLst>
                  <a:path w="4724400" h="9632950">
                    <a:moveTo>
                      <a:pt x="1263683" y="0"/>
                    </a:moveTo>
                    <a:lnTo>
                      <a:pt x="3460717" y="0"/>
                    </a:lnTo>
                    <a:cubicBezTo>
                      <a:pt x="4158630" y="0"/>
                      <a:pt x="4724400" y="565770"/>
                      <a:pt x="4724400" y="1263683"/>
                    </a:cubicBezTo>
                    <a:lnTo>
                      <a:pt x="4724400" y="4181475"/>
                    </a:lnTo>
                    <a:lnTo>
                      <a:pt x="4724400" y="4208530"/>
                    </a:lnTo>
                    <a:lnTo>
                      <a:pt x="4721672" y="4208530"/>
                    </a:lnTo>
                    <a:lnTo>
                      <a:pt x="4716852" y="4256340"/>
                    </a:lnTo>
                    <a:cubicBezTo>
                      <a:pt x="4682214" y="4425615"/>
                      <a:pt x="4532440" y="4552950"/>
                      <a:pt x="4352924" y="4552950"/>
                    </a:cubicBezTo>
                    <a:cubicBezTo>
                      <a:pt x="4173410" y="4552950"/>
                      <a:pt x="4023636" y="4425615"/>
                      <a:pt x="3988996" y="4256340"/>
                    </a:cubicBezTo>
                    <a:lnTo>
                      <a:pt x="3984178" y="4208530"/>
                    </a:lnTo>
                    <a:lnTo>
                      <a:pt x="3978728" y="4208530"/>
                    </a:lnTo>
                    <a:lnTo>
                      <a:pt x="3978728" y="1344167"/>
                    </a:lnTo>
                    <a:lnTo>
                      <a:pt x="3635828" y="1344167"/>
                    </a:lnTo>
                    <a:lnTo>
                      <a:pt x="3635828" y="3627883"/>
                    </a:lnTo>
                    <a:lnTo>
                      <a:pt x="3635828" y="4208530"/>
                    </a:lnTo>
                    <a:lnTo>
                      <a:pt x="3635828" y="9081294"/>
                    </a:lnTo>
                    <a:lnTo>
                      <a:pt x="3635828" y="9124950"/>
                    </a:lnTo>
                    <a:lnTo>
                      <a:pt x="3631427" y="9124950"/>
                    </a:lnTo>
                    <a:lnTo>
                      <a:pt x="3624620" y="9192472"/>
                    </a:lnTo>
                    <a:cubicBezTo>
                      <a:pt x="3573180" y="9443852"/>
                      <a:pt x="3350759" y="9632950"/>
                      <a:pt x="3084172" y="9632950"/>
                    </a:cubicBezTo>
                    <a:cubicBezTo>
                      <a:pt x="2817585" y="9632950"/>
                      <a:pt x="2595164" y="9443852"/>
                      <a:pt x="2543724" y="9192472"/>
                    </a:cubicBezTo>
                    <a:lnTo>
                      <a:pt x="2536917" y="9124950"/>
                    </a:lnTo>
                    <a:lnTo>
                      <a:pt x="2533650" y="9124950"/>
                    </a:lnTo>
                    <a:lnTo>
                      <a:pt x="2533650" y="9092543"/>
                    </a:lnTo>
                    <a:lnTo>
                      <a:pt x="2532516" y="9081294"/>
                    </a:lnTo>
                    <a:lnTo>
                      <a:pt x="2533650" y="9070045"/>
                    </a:lnTo>
                    <a:lnTo>
                      <a:pt x="2533650" y="4572000"/>
                    </a:lnTo>
                    <a:lnTo>
                      <a:pt x="2171700" y="4572000"/>
                    </a:lnTo>
                    <a:lnTo>
                      <a:pt x="2171700" y="9099550"/>
                    </a:lnTo>
                    <a:lnTo>
                      <a:pt x="2171700" y="9124950"/>
                    </a:lnTo>
                    <a:lnTo>
                      <a:pt x="2169140" y="9124950"/>
                    </a:lnTo>
                    <a:lnTo>
                      <a:pt x="2160863" y="9207049"/>
                    </a:lnTo>
                    <a:cubicBezTo>
                      <a:pt x="2111126" y="9450110"/>
                      <a:pt x="1896065" y="9632950"/>
                      <a:pt x="1638300" y="9632950"/>
                    </a:cubicBezTo>
                    <a:cubicBezTo>
                      <a:pt x="1380535" y="9632950"/>
                      <a:pt x="1165474" y="9450110"/>
                      <a:pt x="1115737" y="9207049"/>
                    </a:cubicBezTo>
                    <a:lnTo>
                      <a:pt x="1107461" y="9124950"/>
                    </a:lnTo>
                    <a:lnTo>
                      <a:pt x="1104900" y="9124950"/>
                    </a:lnTo>
                    <a:lnTo>
                      <a:pt x="1104900" y="9099550"/>
                    </a:lnTo>
                    <a:lnTo>
                      <a:pt x="1104900" y="4208530"/>
                    </a:lnTo>
                    <a:lnTo>
                      <a:pt x="1104900" y="3627883"/>
                    </a:lnTo>
                    <a:lnTo>
                      <a:pt x="1104900" y="1344167"/>
                    </a:lnTo>
                    <a:lnTo>
                      <a:pt x="762000" y="1344167"/>
                    </a:lnTo>
                    <a:lnTo>
                      <a:pt x="762000" y="4191000"/>
                    </a:lnTo>
                    <a:lnTo>
                      <a:pt x="762000" y="4208530"/>
                    </a:lnTo>
                    <a:lnTo>
                      <a:pt x="760233" y="4208530"/>
                    </a:lnTo>
                    <a:lnTo>
                      <a:pt x="754259" y="4267785"/>
                    </a:lnTo>
                    <a:cubicBezTo>
                      <a:pt x="718733" y="4441400"/>
                      <a:pt x="565118" y="4572000"/>
                      <a:pt x="381000" y="4572000"/>
                    </a:cubicBezTo>
                    <a:cubicBezTo>
                      <a:pt x="196883" y="4572000"/>
                      <a:pt x="43268" y="4441400"/>
                      <a:pt x="7741" y="4267785"/>
                    </a:cubicBezTo>
                    <a:lnTo>
                      <a:pt x="1767" y="4208530"/>
                    </a:lnTo>
                    <a:lnTo>
                      <a:pt x="0" y="4208530"/>
                    </a:lnTo>
                    <a:lnTo>
                      <a:pt x="0" y="4191000"/>
                    </a:lnTo>
                    <a:lnTo>
                      <a:pt x="0" y="1263683"/>
                    </a:lnTo>
                    <a:cubicBezTo>
                      <a:pt x="0" y="565770"/>
                      <a:pt x="565770" y="0"/>
                      <a:pt x="1263683" y="0"/>
                    </a:cubicBezTo>
                    <a:close/>
                  </a:path>
                </a:pathLst>
              </a:cu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4" name="人"/>
            <p:cNvGrpSpPr/>
            <p:nvPr/>
          </p:nvGrpSpPr>
          <p:grpSpPr>
            <a:xfrm>
              <a:off x="6358320" y="1218240"/>
              <a:ext cx="310320" cy="606600"/>
              <a:chOff x="6358320" y="1218240"/>
              <a:chExt cx="310320" cy="606600"/>
            </a:xfrm>
          </p:grpSpPr>
          <p:sp>
            <p:nvSpPr>
              <p:cNvPr id="395" name="头"/>
              <p:cNvSpPr/>
              <p:nvPr/>
            </p:nvSpPr>
            <p:spPr>
              <a:xfrm rot="540000">
                <a:off x="6512040" y="1225080"/>
                <a:ext cx="9576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body"/>
              <p:cNvSpPr/>
              <p:nvPr/>
            </p:nvSpPr>
            <p:spPr>
              <a:xfrm rot="540000">
                <a:off x="6394680" y="1326240"/>
                <a:ext cx="237600" cy="482760"/>
              </a:xfrm>
              <a:custGeom>
                <a:avLst/>
                <a:gdLst/>
                <a:ahLst/>
                <a:rect l="l" t="t" r="r" b="b"/>
                <a:pathLst>
                  <a:path w="4724400" h="9632950">
                    <a:moveTo>
                      <a:pt x="1263683" y="0"/>
                    </a:moveTo>
                    <a:lnTo>
                      <a:pt x="3460717" y="0"/>
                    </a:lnTo>
                    <a:cubicBezTo>
                      <a:pt x="4158630" y="0"/>
                      <a:pt x="4724400" y="565770"/>
                      <a:pt x="4724400" y="1263683"/>
                    </a:cubicBezTo>
                    <a:lnTo>
                      <a:pt x="4724400" y="4181475"/>
                    </a:lnTo>
                    <a:lnTo>
                      <a:pt x="4724400" y="4208530"/>
                    </a:lnTo>
                    <a:lnTo>
                      <a:pt x="4721672" y="4208530"/>
                    </a:lnTo>
                    <a:lnTo>
                      <a:pt x="4716852" y="4256340"/>
                    </a:lnTo>
                    <a:cubicBezTo>
                      <a:pt x="4682214" y="4425615"/>
                      <a:pt x="4532440" y="4552950"/>
                      <a:pt x="4352924" y="4552950"/>
                    </a:cubicBezTo>
                    <a:cubicBezTo>
                      <a:pt x="4173410" y="4552950"/>
                      <a:pt x="4023636" y="4425615"/>
                      <a:pt x="3988996" y="4256340"/>
                    </a:cubicBezTo>
                    <a:lnTo>
                      <a:pt x="3984178" y="4208530"/>
                    </a:lnTo>
                    <a:lnTo>
                      <a:pt x="3978728" y="4208530"/>
                    </a:lnTo>
                    <a:lnTo>
                      <a:pt x="3978728" y="1344167"/>
                    </a:lnTo>
                    <a:lnTo>
                      <a:pt x="3635828" y="1344167"/>
                    </a:lnTo>
                    <a:lnTo>
                      <a:pt x="3635828" y="3627883"/>
                    </a:lnTo>
                    <a:lnTo>
                      <a:pt x="3635828" y="4208530"/>
                    </a:lnTo>
                    <a:lnTo>
                      <a:pt x="3635828" y="9081294"/>
                    </a:lnTo>
                    <a:lnTo>
                      <a:pt x="3635828" y="9124950"/>
                    </a:lnTo>
                    <a:lnTo>
                      <a:pt x="3631427" y="9124950"/>
                    </a:lnTo>
                    <a:lnTo>
                      <a:pt x="3624620" y="9192472"/>
                    </a:lnTo>
                    <a:cubicBezTo>
                      <a:pt x="3573180" y="9443852"/>
                      <a:pt x="3350759" y="9632950"/>
                      <a:pt x="3084172" y="9632950"/>
                    </a:cubicBezTo>
                    <a:cubicBezTo>
                      <a:pt x="2817585" y="9632950"/>
                      <a:pt x="2595164" y="9443852"/>
                      <a:pt x="2543724" y="9192472"/>
                    </a:cubicBezTo>
                    <a:lnTo>
                      <a:pt x="2536917" y="9124950"/>
                    </a:lnTo>
                    <a:lnTo>
                      <a:pt x="2533650" y="9124950"/>
                    </a:lnTo>
                    <a:lnTo>
                      <a:pt x="2533650" y="9092543"/>
                    </a:lnTo>
                    <a:lnTo>
                      <a:pt x="2532516" y="9081294"/>
                    </a:lnTo>
                    <a:lnTo>
                      <a:pt x="2533650" y="9070045"/>
                    </a:lnTo>
                    <a:lnTo>
                      <a:pt x="2533650" y="4572000"/>
                    </a:lnTo>
                    <a:lnTo>
                      <a:pt x="2171700" y="4572000"/>
                    </a:lnTo>
                    <a:lnTo>
                      <a:pt x="2171700" y="9099550"/>
                    </a:lnTo>
                    <a:lnTo>
                      <a:pt x="2171700" y="9124950"/>
                    </a:lnTo>
                    <a:lnTo>
                      <a:pt x="2169140" y="9124950"/>
                    </a:lnTo>
                    <a:lnTo>
                      <a:pt x="2160863" y="9207049"/>
                    </a:lnTo>
                    <a:cubicBezTo>
                      <a:pt x="2111126" y="9450110"/>
                      <a:pt x="1896065" y="9632950"/>
                      <a:pt x="1638300" y="9632950"/>
                    </a:cubicBezTo>
                    <a:cubicBezTo>
                      <a:pt x="1380535" y="9632950"/>
                      <a:pt x="1165474" y="9450110"/>
                      <a:pt x="1115737" y="9207049"/>
                    </a:cubicBezTo>
                    <a:lnTo>
                      <a:pt x="1107461" y="9124950"/>
                    </a:lnTo>
                    <a:lnTo>
                      <a:pt x="1104900" y="9124950"/>
                    </a:lnTo>
                    <a:lnTo>
                      <a:pt x="1104900" y="9099550"/>
                    </a:lnTo>
                    <a:lnTo>
                      <a:pt x="1104900" y="4208530"/>
                    </a:lnTo>
                    <a:lnTo>
                      <a:pt x="1104900" y="3627883"/>
                    </a:lnTo>
                    <a:lnTo>
                      <a:pt x="1104900" y="1344167"/>
                    </a:lnTo>
                    <a:lnTo>
                      <a:pt x="762000" y="1344167"/>
                    </a:lnTo>
                    <a:lnTo>
                      <a:pt x="762000" y="4191000"/>
                    </a:lnTo>
                    <a:lnTo>
                      <a:pt x="762000" y="4208530"/>
                    </a:lnTo>
                    <a:lnTo>
                      <a:pt x="760233" y="4208530"/>
                    </a:lnTo>
                    <a:lnTo>
                      <a:pt x="754259" y="4267785"/>
                    </a:lnTo>
                    <a:cubicBezTo>
                      <a:pt x="718733" y="4441400"/>
                      <a:pt x="565118" y="4572000"/>
                      <a:pt x="381000" y="4572000"/>
                    </a:cubicBezTo>
                    <a:cubicBezTo>
                      <a:pt x="196883" y="4572000"/>
                      <a:pt x="43268" y="4441400"/>
                      <a:pt x="7741" y="4267785"/>
                    </a:cubicBezTo>
                    <a:lnTo>
                      <a:pt x="1767" y="4208530"/>
                    </a:lnTo>
                    <a:lnTo>
                      <a:pt x="0" y="4208530"/>
                    </a:lnTo>
                    <a:lnTo>
                      <a:pt x="0" y="4191000"/>
                    </a:lnTo>
                    <a:lnTo>
                      <a:pt x="0" y="1263683"/>
                    </a:lnTo>
                    <a:cubicBezTo>
                      <a:pt x="0" y="565770"/>
                      <a:pt x="565770" y="0"/>
                      <a:pt x="1263683" y="0"/>
                    </a:cubicBezTo>
                    <a:close/>
                  </a:path>
                </a:pathLst>
              </a:cu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7" name="人"/>
            <p:cNvGrpSpPr/>
            <p:nvPr/>
          </p:nvGrpSpPr>
          <p:grpSpPr>
            <a:xfrm>
              <a:off x="6856920" y="1434960"/>
              <a:ext cx="441720" cy="594720"/>
              <a:chOff x="6856920" y="1434960"/>
              <a:chExt cx="441720" cy="594720"/>
            </a:xfrm>
          </p:grpSpPr>
          <p:sp>
            <p:nvSpPr>
              <p:cNvPr id="398" name="头"/>
              <p:cNvSpPr/>
              <p:nvPr/>
            </p:nvSpPr>
            <p:spPr>
              <a:xfrm rot="1740000">
                <a:off x="7174440" y="1451880"/>
                <a:ext cx="9576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body"/>
              <p:cNvSpPr/>
              <p:nvPr/>
            </p:nvSpPr>
            <p:spPr>
              <a:xfrm rot="1740000">
                <a:off x="6958800" y="1519200"/>
                <a:ext cx="237600" cy="482760"/>
              </a:xfrm>
              <a:custGeom>
                <a:avLst/>
                <a:gdLst/>
                <a:ahLst/>
                <a:rect l="l" t="t" r="r" b="b"/>
                <a:pathLst>
                  <a:path w="4724400" h="9632950">
                    <a:moveTo>
                      <a:pt x="1263683" y="0"/>
                    </a:moveTo>
                    <a:lnTo>
                      <a:pt x="3460717" y="0"/>
                    </a:lnTo>
                    <a:cubicBezTo>
                      <a:pt x="4158630" y="0"/>
                      <a:pt x="4724400" y="565770"/>
                      <a:pt x="4724400" y="1263683"/>
                    </a:cubicBezTo>
                    <a:lnTo>
                      <a:pt x="4724400" y="4181475"/>
                    </a:lnTo>
                    <a:lnTo>
                      <a:pt x="4724400" y="4208530"/>
                    </a:lnTo>
                    <a:lnTo>
                      <a:pt x="4721672" y="4208530"/>
                    </a:lnTo>
                    <a:lnTo>
                      <a:pt x="4716852" y="4256340"/>
                    </a:lnTo>
                    <a:cubicBezTo>
                      <a:pt x="4682214" y="4425615"/>
                      <a:pt x="4532440" y="4552950"/>
                      <a:pt x="4352924" y="4552950"/>
                    </a:cubicBezTo>
                    <a:cubicBezTo>
                      <a:pt x="4173410" y="4552950"/>
                      <a:pt x="4023636" y="4425615"/>
                      <a:pt x="3988996" y="4256340"/>
                    </a:cubicBezTo>
                    <a:lnTo>
                      <a:pt x="3984178" y="4208530"/>
                    </a:lnTo>
                    <a:lnTo>
                      <a:pt x="3978728" y="4208530"/>
                    </a:lnTo>
                    <a:lnTo>
                      <a:pt x="3978728" y="1344167"/>
                    </a:lnTo>
                    <a:lnTo>
                      <a:pt x="3635828" y="1344167"/>
                    </a:lnTo>
                    <a:lnTo>
                      <a:pt x="3635828" y="3627883"/>
                    </a:lnTo>
                    <a:lnTo>
                      <a:pt x="3635828" y="4208530"/>
                    </a:lnTo>
                    <a:lnTo>
                      <a:pt x="3635828" y="9081294"/>
                    </a:lnTo>
                    <a:lnTo>
                      <a:pt x="3635828" y="9124950"/>
                    </a:lnTo>
                    <a:lnTo>
                      <a:pt x="3631427" y="9124950"/>
                    </a:lnTo>
                    <a:lnTo>
                      <a:pt x="3624620" y="9192472"/>
                    </a:lnTo>
                    <a:cubicBezTo>
                      <a:pt x="3573180" y="9443852"/>
                      <a:pt x="3350759" y="9632950"/>
                      <a:pt x="3084172" y="9632950"/>
                    </a:cubicBezTo>
                    <a:cubicBezTo>
                      <a:pt x="2817585" y="9632950"/>
                      <a:pt x="2595164" y="9443852"/>
                      <a:pt x="2543724" y="9192472"/>
                    </a:cubicBezTo>
                    <a:lnTo>
                      <a:pt x="2536917" y="9124950"/>
                    </a:lnTo>
                    <a:lnTo>
                      <a:pt x="2533650" y="9124950"/>
                    </a:lnTo>
                    <a:lnTo>
                      <a:pt x="2533650" y="9092543"/>
                    </a:lnTo>
                    <a:lnTo>
                      <a:pt x="2532516" y="9081294"/>
                    </a:lnTo>
                    <a:lnTo>
                      <a:pt x="2533650" y="9070045"/>
                    </a:lnTo>
                    <a:lnTo>
                      <a:pt x="2533650" y="4572000"/>
                    </a:lnTo>
                    <a:lnTo>
                      <a:pt x="2171700" y="4572000"/>
                    </a:lnTo>
                    <a:lnTo>
                      <a:pt x="2171700" y="9099550"/>
                    </a:lnTo>
                    <a:lnTo>
                      <a:pt x="2171700" y="9124950"/>
                    </a:lnTo>
                    <a:lnTo>
                      <a:pt x="2169140" y="9124950"/>
                    </a:lnTo>
                    <a:lnTo>
                      <a:pt x="2160863" y="9207049"/>
                    </a:lnTo>
                    <a:cubicBezTo>
                      <a:pt x="2111126" y="9450110"/>
                      <a:pt x="1896065" y="9632950"/>
                      <a:pt x="1638300" y="9632950"/>
                    </a:cubicBezTo>
                    <a:cubicBezTo>
                      <a:pt x="1380535" y="9632950"/>
                      <a:pt x="1165474" y="9450110"/>
                      <a:pt x="1115737" y="9207049"/>
                    </a:cubicBezTo>
                    <a:lnTo>
                      <a:pt x="1107461" y="9124950"/>
                    </a:lnTo>
                    <a:lnTo>
                      <a:pt x="1104900" y="9124950"/>
                    </a:lnTo>
                    <a:lnTo>
                      <a:pt x="1104900" y="9099550"/>
                    </a:lnTo>
                    <a:lnTo>
                      <a:pt x="1104900" y="4208530"/>
                    </a:lnTo>
                    <a:lnTo>
                      <a:pt x="1104900" y="3627883"/>
                    </a:lnTo>
                    <a:lnTo>
                      <a:pt x="1104900" y="1344167"/>
                    </a:lnTo>
                    <a:lnTo>
                      <a:pt x="762000" y="1344167"/>
                    </a:lnTo>
                    <a:lnTo>
                      <a:pt x="762000" y="4191000"/>
                    </a:lnTo>
                    <a:lnTo>
                      <a:pt x="762000" y="4208530"/>
                    </a:lnTo>
                    <a:lnTo>
                      <a:pt x="760233" y="4208530"/>
                    </a:lnTo>
                    <a:lnTo>
                      <a:pt x="754259" y="4267785"/>
                    </a:lnTo>
                    <a:cubicBezTo>
                      <a:pt x="718733" y="4441400"/>
                      <a:pt x="565118" y="4572000"/>
                      <a:pt x="381000" y="4572000"/>
                    </a:cubicBezTo>
                    <a:cubicBezTo>
                      <a:pt x="196883" y="4572000"/>
                      <a:pt x="43268" y="4441400"/>
                      <a:pt x="7741" y="4267785"/>
                    </a:cubicBezTo>
                    <a:lnTo>
                      <a:pt x="1767" y="4208530"/>
                    </a:lnTo>
                    <a:lnTo>
                      <a:pt x="0" y="4208530"/>
                    </a:lnTo>
                    <a:lnTo>
                      <a:pt x="0" y="4191000"/>
                    </a:lnTo>
                    <a:lnTo>
                      <a:pt x="0" y="1263683"/>
                    </a:lnTo>
                    <a:cubicBezTo>
                      <a:pt x="0" y="565770"/>
                      <a:pt x="565770" y="0"/>
                      <a:pt x="1263683" y="0"/>
                    </a:cubicBezTo>
                    <a:close/>
                  </a:path>
                </a:pathLst>
              </a:cu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0" name="人"/>
            <p:cNvGrpSpPr/>
            <p:nvPr/>
          </p:nvGrpSpPr>
          <p:grpSpPr>
            <a:xfrm>
              <a:off x="7269480" y="1861560"/>
              <a:ext cx="553320" cy="511920"/>
              <a:chOff x="7269480" y="1861560"/>
              <a:chExt cx="553320" cy="511920"/>
            </a:xfrm>
          </p:grpSpPr>
          <p:sp>
            <p:nvSpPr>
              <p:cNvPr id="401" name="头"/>
              <p:cNvSpPr/>
              <p:nvPr/>
            </p:nvSpPr>
            <p:spPr>
              <a:xfrm rot="2940000">
                <a:off x="7707600" y="1881000"/>
                <a:ext cx="9540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body"/>
              <p:cNvSpPr/>
              <p:nvPr/>
            </p:nvSpPr>
            <p:spPr>
              <a:xfrm rot="2940000">
                <a:off x="7410960" y="1883520"/>
                <a:ext cx="236880" cy="483840"/>
              </a:xfrm>
              <a:custGeom>
                <a:avLst/>
                <a:gdLst/>
                <a:ahLst/>
                <a:rect l="l" t="t" r="r" b="b"/>
                <a:pathLst>
                  <a:path w="4724400" h="9632950">
                    <a:moveTo>
                      <a:pt x="1263683" y="0"/>
                    </a:moveTo>
                    <a:lnTo>
                      <a:pt x="3460717" y="0"/>
                    </a:lnTo>
                    <a:cubicBezTo>
                      <a:pt x="4158630" y="0"/>
                      <a:pt x="4724400" y="565770"/>
                      <a:pt x="4724400" y="1263683"/>
                    </a:cubicBezTo>
                    <a:lnTo>
                      <a:pt x="4724400" y="4181475"/>
                    </a:lnTo>
                    <a:lnTo>
                      <a:pt x="4724400" y="4208530"/>
                    </a:lnTo>
                    <a:lnTo>
                      <a:pt x="4721672" y="4208530"/>
                    </a:lnTo>
                    <a:lnTo>
                      <a:pt x="4716852" y="4256340"/>
                    </a:lnTo>
                    <a:cubicBezTo>
                      <a:pt x="4682214" y="4425615"/>
                      <a:pt x="4532440" y="4552950"/>
                      <a:pt x="4352924" y="4552950"/>
                    </a:cubicBezTo>
                    <a:cubicBezTo>
                      <a:pt x="4173410" y="4552950"/>
                      <a:pt x="4023636" y="4425615"/>
                      <a:pt x="3988996" y="4256340"/>
                    </a:cubicBezTo>
                    <a:lnTo>
                      <a:pt x="3984178" y="4208530"/>
                    </a:lnTo>
                    <a:lnTo>
                      <a:pt x="3978728" y="4208530"/>
                    </a:lnTo>
                    <a:lnTo>
                      <a:pt x="3978728" y="1344167"/>
                    </a:lnTo>
                    <a:lnTo>
                      <a:pt x="3635828" y="1344167"/>
                    </a:lnTo>
                    <a:lnTo>
                      <a:pt x="3635828" y="3627883"/>
                    </a:lnTo>
                    <a:lnTo>
                      <a:pt x="3635828" y="4208530"/>
                    </a:lnTo>
                    <a:lnTo>
                      <a:pt x="3635828" y="9081294"/>
                    </a:lnTo>
                    <a:lnTo>
                      <a:pt x="3635828" y="9124950"/>
                    </a:lnTo>
                    <a:lnTo>
                      <a:pt x="3631427" y="9124950"/>
                    </a:lnTo>
                    <a:lnTo>
                      <a:pt x="3624620" y="9192472"/>
                    </a:lnTo>
                    <a:cubicBezTo>
                      <a:pt x="3573180" y="9443852"/>
                      <a:pt x="3350759" y="9632950"/>
                      <a:pt x="3084172" y="9632950"/>
                    </a:cubicBezTo>
                    <a:cubicBezTo>
                      <a:pt x="2817585" y="9632950"/>
                      <a:pt x="2595164" y="9443852"/>
                      <a:pt x="2543724" y="9192472"/>
                    </a:cubicBezTo>
                    <a:lnTo>
                      <a:pt x="2536917" y="9124950"/>
                    </a:lnTo>
                    <a:lnTo>
                      <a:pt x="2533650" y="9124950"/>
                    </a:lnTo>
                    <a:lnTo>
                      <a:pt x="2533650" y="9092543"/>
                    </a:lnTo>
                    <a:lnTo>
                      <a:pt x="2532516" y="9081294"/>
                    </a:lnTo>
                    <a:lnTo>
                      <a:pt x="2533650" y="9070045"/>
                    </a:lnTo>
                    <a:lnTo>
                      <a:pt x="2533650" y="4572000"/>
                    </a:lnTo>
                    <a:lnTo>
                      <a:pt x="2171700" y="4572000"/>
                    </a:lnTo>
                    <a:lnTo>
                      <a:pt x="2171700" y="9099550"/>
                    </a:lnTo>
                    <a:lnTo>
                      <a:pt x="2171700" y="9124950"/>
                    </a:lnTo>
                    <a:lnTo>
                      <a:pt x="2169140" y="9124950"/>
                    </a:lnTo>
                    <a:lnTo>
                      <a:pt x="2160863" y="9207049"/>
                    </a:lnTo>
                    <a:cubicBezTo>
                      <a:pt x="2111126" y="9450110"/>
                      <a:pt x="1896065" y="9632950"/>
                      <a:pt x="1638300" y="9632950"/>
                    </a:cubicBezTo>
                    <a:cubicBezTo>
                      <a:pt x="1380535" y="9632950"/>
                      <a:pt x="1165474" y="9450110"/>
                      <a:pt x="1115737" y="9207049"/>
                    </a:cubicBezTo>
                    <a:lnTo>
                      <a:pt x="1107461" y="9124950"/>
                    </a:lnTo>
                    <a:lnTo>
                      <a:pt x="1104900" y="9124950"/>
                    </a:lnTo>
                    <a:lnTo>
                      <a:pt x="1104900" y="9099550"/>
                    </a:lnTo>
                    <a:lnTo>
                      <a:pt x="1104900" y="4208530"/>
                    </a:lnTo>
                    <a:lnTo>
                      <a:pt x="1104900" y="3627883"/>
                    </a:lnTo>
                    <a:lnTo>
                      <a:pt x="1104900" y="1344167"/>
                    </a:lnTo>
                    <a:lnTo>
                      <a:pt x="762000" y="1344167"/>
                    </a:lnTo>
                    <a:lnTo>
                      <a:pt x="762000" y="4191000"/>
                    </a:lnTo>
                    <a:lnTo>
                      <a:pt x="762000" y="4208530"/>
                    </a:lnTo>
                    <a:lnTo>
                      <a:pt x="760233" y="4208530"/>
                    </a:lnTo>
                    <a:lnTo>
                      <a:pt x="754259" y="4267785"/>
                    </a:lnTo>
                    <a:cubicBezTo>
                      <a:pt x="718733" y="4441400"/>
                      <a:pt x="565118" y="4572000"/>
                      <a:pt x="381000" y="4572000"/>
                    </a:cubicBezTo>
                    <a:cubicBezTo>
                      <a:pt x="196883" y="4572000"/>
                      <a:pt x="43268" y="4441400"/>
                      <a:pt x="7741" y="4267785"/>
                    </a:cubicBezTo>
                    <a:lnTo>
                      <a:pt x="1767" y="4208530"/>
                    </a:lnTo>
                    <a:lnTo>
                      <a:pt x="0" y="4208530"/>
                    </a:lnTo>
                    <a:lnTo>
                      <a:pt x="0" y="4191000"/>
                    </a:lnTo>
                    <a:lnTo>
                      <a:pt x="0" y="1263683"/>
                    </a:lnTo>
                    <a:cubicBezTo>
                      <a:pt x="0" y="565770"/>
                      <a:pt x="565770" y="0"/>
                      <a:pt x="1263683" y="0"/>
                    </a:cubicBezTo>
                    <a:close/>
                  </a:path>
                </a:pathLst>
              </a:cu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人"/>
            <p:cNvGrpSpPr/>
            <p:nvPr/>
          </p:nvGrpSpPr>
          <p:grpSpPr>
            <a:xfrm>
              <a:off x="7567920" y="2437920"/>
              <a:ext cx="609480" cy="394560"/>
              <a:chOff x="7567920" y="2437920"/>
              <a:chExt cx="609480" cy="394560"/>
            </a:xfrm>
          </p:grpSpPr>
          <p:sp>
            <p:nvSpPr>
              <p:cNvPr id="404" name="头"/>
              <p:cNvSpPr/>
              <p:nvPr/>
            </p:nvSpPr>
            <p:spPr>
              <a:xfrm rot="4140000">
                <a:off x="8067960" y="2480040"/>
                <a:ext cx="9540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body"/>
              <p:cNvSpPr/>
              <p:nvPr/>
            </p:nvSpPr>
            <p:spPr>
              <a:xfrm rot="4140000">
                <a:off x="7717680" y="2392920"/>
                <a:ext cx="236880" cy="483840"/>
              </a:xfrm>
              <a:custGeom>
                <a:avLst/>
                <a:gdLst/>
                <a:ahLst/>
                <a:rect l="l" t="t" r="r" b="b"/>
                <a:pathLst>
                  <a:path w="4724400" h="9632950">
                    <a:moveTo>
                      <a:pt x="1263683" y="0"/>
                    </a:moveTo>
                    <a:lnTo>
                      <a:pt x="3460717" y="0"/>
                    </a:lnTo>
                    <a:cubicBezTo>
                      <a:pt x="4158630" y="0"/>
                      <a:pt x="4724400" y="565770"/>
                      <a:pt x="4724400" y="1263683"/>
                    </a:cubicBezTo>
                    <a:lnTo>
                      <a:pt x="4724400" y="4181475"/>
                    </a:lnTo>
                    <a:lnTo>
                      <a:pt x="4724400" y="4208530"/>
                    </a:lnTo>
                    <a:lnTo>
                      <a:pt x="4721672" y="4208530"/>
                    </a:lnTo>
                    <a:lnTo>
                      <a:pt x="4716852" y="4256340"/>
                    </a:lnTo>
                    <a:cubicBezTo>
                      <a:pt x="4682214" y="4425615"/>
                      <a:pt x="4532440" y="4552950"/>
                      <a:pt x="4352924" y="4552950"/>
                    </a:cubicBezTo>
                    <a:cubicBezTo>
                      <a:pt x="4173410" y="4552950"/>
                      <a:pt x="4023636" y="4425615"/>
                      <a:pt x="3988996" y="4256340"/>
                    </a:cubicBezTo>
                    <a:lnTo>
                      <a:pt x="3984178" y="4208530"/>
                    </a:lnTo>
                    <a:lnTo>
                      <a:pt x="3978728" y="4208530"/>
                    </a:lnTo>
                    <a:lnTo>
                      <a:pt x="3978728" y="1344167"/>
                    </a:lnTo>
                    <a:lnTo>
                      <a:pt x="3635828" y="1344167"/>
                    </a:lnTo>
                    <a:lnTo>
                      <a:pt x="3635828" y="3627883"/>
                    </a:lnTo>
                    <a:lnTo>
                      <a:pt x="3635828" y="4208530"/>
                    </a:lnTo>
                    <a:lnTo>
                      <a:pt x="3635828" y="9081294"/>
                    </a:lnTo>
                    <a:lnTo>
                      <a:pt x="3635828" y="9124950"/>
                    </a:lnTo>
                    <a:lnTo>
                      <a:pt x="3631427" y="9124950"/>
                    </a:lnTo>
                    <a:lnTo>
                      <a:pt x="3624620" y="9192472"/>
                    </a:lnTo>
                    <a:cubicBezTo>
                      <a:pt x="3573180" y="9443852"/>
                      <a:pt x="3350759" y="9632950"/>
                      <a:pt x="3084172" y="9632950"/>
                    </a:cubicBezTo>
                    <a:cubicBezTo>
                      <a:pt x="2817585" y="9632950"/>
                      <a:pt x="2595164" y="9443852"/>
                      <a:pt x="2543724" y="9192472"/>
                    </a:cubicBezTo>
                    <a:lnTo>
                      <a:pt x="2536917" y="9124950"/>
                    </a:lnTo>
                    <a:lnTo>
                      <a:pt x="2533650" y="9124950"/>
                    </a:lnTo>
                    <a:lnTo>
                      <a:pt x="2533650" y="9092543"/>
                    </a:lnTo>
                    <a:lnTo>
                      <a:pt x="2532516" y="9081294"/>
                    </a:lnTo>
                    <a:lnTo>
                      <a:pt x="2533650" y="9070045"/>
                    </a:lnTo>
                    <a:lnTo>
                      <a:pt x="2533650" y="4572000"/>
                    </a:lnTo>
                    <a:lnTo>
                      <a:pt x="2171700" y="4572000"/>
                    </a:lnTo>
                    <a:lnTo>
                      <a:pt x="2171700" y="9099550"/>
                    </a:lnTo>
                    <a:lnTo>
                      <a:pt x="2171700" y="9124950"/>
                    </a:lnTo>
                    <a:lnTo>
                      <a:pt x="2169140" y="9124950"/>
                    </a:lnTo>
                    <a:lnTo>
                      <a:pt x="2160863" y="9207049"/>
                    </a:lnTo>
                    <a:cubicBezTo>
                      <a:pt x="2111126" y="9450110"/>
                      <a:pt x="1896065" y="9632950"/>
                      <a:pt x="1638300" y="9632950"/>
                    </a:cubicBezTo>
                    <a:cubicBezTo>
                      <a:pt x="1380535" y="9632950"/>
                      <a:pt x="1165474" y="9450110"/>
                      <a:pt x="1115737" y="9207049"/>
                    </a:cubicBezTo>
                    <a:lnTo>
                      <a:pt x="1107461" y="9124950"/>
                    </a:lnTo>
                    <a:lnTo>
                      <a:pt x="1104900" y="9124950"/>
                    </a:lnTo>
                    <a:lnTo>
                      <a:pt x="1104900" y="9099550"/>
                    </a:lnTo>
                    <a:lnTo>
                      <a:pt x="1104900" y="4208530"/>
                    </a:lnTo>
                    <a:lnTo>
                      <a:pt x="1104900" y="3627883"/>
                    </a:lnTo>
                    <a:lnTo>
                      <a:pt x="1104900" y="1344167"/>
                    </a:lnTo>
                    <a:lnTo>
                      <a:pt x="762000" y="1344167"/>
                    </a:lnTo>
                    <a:lnTo>
                      <a:pt x="762000" y="4191000"/>
                    </a:lnTo>
                    <a:lnTo>
                      <a:pt x="762000" y="4208530"/>
                    </a:lnTo>
                    <a:lnTo>
                      <a:pt x="760233" y="4208530"/>
                    </a:lnTo>
                    <a:lnTo>
                      <a:pt x="754259" y="4267785"/>
                    </a:lnTo>
                    <a:cubicBezTo>
                      <a:pt x="718733" y="4441400"/>
                      <a:pt x="565118" y="4572000"/>
                      <a:pt x="381000" y="4572000"/>
                    </a:cubicBezTo>
                    <a:cubicBezTo>
                      <a:pt x="196883" y="4572000"/>
                      <a:pt x="43268" y="4441400"/>
                      <a:pt x="7741" y="4267785"/>
                    </a:cubicBezTo>
                    <a:lnTo>
                      <a:pt x="1767" y="4208530"/>
                    </a:lnTo>
                    <a:lnTo>
                      <a:pt x="0" y="4208530"/>
                    </a:lnTo>
                    <a:lnTo>
                      <a:pt x="0" y="4191000"/>
                    </a:lnTo>
                    <a:lnTo>
                      <a:pt x="0" y="1263683"/>
                    </a:lnTo>
                    <a:cubicBezTo>
                      <a:pt x="0" y="565770"/>
                      <a:pt x="565770" y="0"/>
                      <a:pt x="1263683" y="0"/>
                    </a:cubicBezTo>
                    <a:close/>
                  </a:path>
                </a:pathLst>
              </a:cu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人"/>
            <p:cNvGrpSpPr/>
            <p:nvPr/>
          </p:nvGrpSpPr>
          <p:grpSpPr>
            <a:xfrm>
              <a:off x="7706520" y="3097080"/>
              <a:ext cx="592200" cy="245160"/>
              <a:chOff x="7706520" y="3097080"/>
              <a:chExt cx="592200" cy="245160"/>
            </a:xfrm>
          </p:grpSpPr>
          <p:sp>
            <p:nvSpPr>
              <p:cNvPr id="407" name="头"/>
              <p:cNvSpPr/>
              <p:nvPr/>
            </p:nvSpPr>
            <p:spPr>
              <a:xfrm rot="5340000">
                <a:off x="8202240" y="3166560"/>
                <a:ext cx="9540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body"/>
              <p:cNvSpPr/>
              <p:nvPr/>
            </p:nvSpPr>
            <p:spPr>
              <a:xfrm rot="5340000">
                <a:off x="7831800" y="2977560"/>
                <a:ext cx="236880" cy="483840"/>
              </a:xfrm>
              <a:custGeom>
                <a:avLst/>
                <a:gdLst/>
                <a:ahLst/>
                <a:rect l="l" t="t" r="r" b="b"/>
                <a:pathLst>
                  <a:path w="4724400" h="9632950">
                    <a:moveTo>
                      <a:pt x="1263683" y="0"/>
                    </a:moveTo>
                    <a:lnTo>
                      <a:pt x="3460717" y="0"/>
                    </a:lnTo>
                    <a:cubicBezTo>
                      <a:pt x="4158630" y="0"/>
                      <a:pt x="4724400" y="565770"/>
                      <a:pt x="4724400" y="1263683"/>
                    </a:cubicBezTo>
                    <a:lnTo>
                      <a:pt x="4724400" y="4181475"/>
                    </a:lnTo>
                    <a:lnTo>
                      <a:pt x="4724400" y="4208530"/>
                    </a:lnTo>
                    <a:lnTo>
                      <a:pt x="4721672" y="4208530"/>
                    </a:lnTo>
                    <a:lnTo>
                      <a:pt x="4716852" y="4256340"/>
                    </a:lnTo>
                    <a:cubicBezTo>
                      <a:pt x="4682214" y="4425615"/>
                      <a:pt x="4532440" y="4552950"/>
                      <a:pt x="4352924" y="4552950"/>
                    </a:cubicBezTo>
                    <a:cubicBezTo>
                      <a:pt x="4173410" y="4552950"/>
                      <a:pt x="4023636" y="4425615"/>
                      <a:pt x="3988996" y="4256340"/>
                    </a:cubicBezTo>
                    <a:lnTo>
                      <a:pt x="3984178" y="4208530"/>
                    </a:lnTo>
                    <a:lnTo>
                      <a:pt x="3978728" y="4208530"/>
                    </a:lnTo>
                    <a:lnTo>
                      <a:pt x="3978728" y="1344167"/>
                    </a:lnTo>
                    <a:lnTo>
                      <a:pt x="3635828" y="1344167"/>
                    </a:lnTo>
                    <a:lnTo>
                      <a:pt x="3635828" y="3627883"/>
                    </a:lnTo>
                    <a:lnTo>
                      <a:pt x="3635828" y="4208530"/>
                    </a:lnTo>
                    <a:lnTo>
                      <a:pt x="3635828" y="9081294"/>
                    </a:lnTo>
                    <a:lnTo>
                      <a:pt x="3635828" y="9124950"/>
                    </a:lnTo>
                    <a:lnTo>
                      <a:pt x="3631427" y="9124950"/>
                    </a:lnTo>
                    <a:lnTo>
                      <a:pt x="3624620" y="9192472"/>
                    </a:lnTo>
                    <a:cubicBezTo>
                      <a:pt x="3573180" y="9443852"/>
                      <a:pt x="3350759" y="9632950"/>
                      <a:pt x="3084172" y="9632950"/>
                    </a:cubicBezTo>
                    <a:cubicBezTo>
                      <a:pt x="2817585" y="9632950"/>
                      <a:pt x="2595164" y="9443852"/>
                      <a:pt x="2543724" y="9192472"/>
                    </a:cubicBezTo>
                    <a:lnTo>
                      <a:pt x="2536917" y="9124950"/>
                    </a:lnTo>
                    <a:lnTo>
                      <a:pt x="2533650" y="9124950"/>
                    </a:lnTo>
                    <a:lnTo>
                      <a:pt x="2533650" y="9092543"/>
                    </a:lnTo>
                    <a:lnTo>
                      <a:pt x="2532516" y="9081294"/>
                    </a:lnTo>
                    <a:lnTo>
                      <a:pt x="2533650" y="9070045"/>
                    </a:lnTo>
                    <a:lnTo>
                      <a:pt x="2533650" y="4572000"/>
                    </a:lnTo>
                    <a:lnTo>
                      <a:pt x="2171700" y="4572000"/>
                    </a:lnTo>
                    <a:lnTo>
                      <a:pt x="2171700" y="9099550"/>
                    </a:lnTo>
                    <a:lnTo>
                      <a:pt x="2171700" y="9124950"/>
                    </a:lnTo>
                    <a:lnTo>
                      <a:pt x="2169140" y="9124950"/>
                    </a:lnTo>
                    <a:lnTo>
                      <a:pt x="2160863" y="9207049"/>
                    </a:lnTo>
                    <a:cubicBezTo>
                      <a:pt x="2111126" y="9450110"/>
                      <a:pt x="1896065" y="9632950"/>
                      <a:pt x="1638300" y="9632950"/>
                    </a:cubicBezTo>
                    <a:cubicBezTo>
                      <a:pt x="1380535" y="9632950"/>
                      <a:pt x="1165474" y="9450110"/>
                      <a:pt x="1115737" y="9207049"/>
                    </a:cubicBezTo>
                    <a:lnTo>
                      <a:pt x="1107461" y="9124950"/>
                    </a:lnTo>
                    <a:lnTo>
                      <a:pt x="1104900" y="9124950"/>
                    </a:lnTo>
                    <a:lnTo>
                      <a:pt x="1104900" y="9099550"/>
                    </a:lnTo>
                    <a:lnTo>
                      <a:pt x="1104900" y="4208530"/>
                    </a:lnTo>
                    <a:lnTo>
                      <a:pt x="1104900" y="3627883"/>
                    </a:lnTo>
                    <a:lnTo>
                      <a:pt x="1104900" y="1344167"/>
                    </a:lnTo>
                    <a:lnTo>
                      <a:pt x="762000" y="1344167"/>
                    </a:lnTo>
                    <a:lnTo>
                      <a:pt x="762000" y="4191000"/>
                    </a:lnTo>
                    <a:lnTo>
                      <a:pt x="762000" y="4208530"/>
                    </a:lnTo>
                    <a:lnTo>
                      <a:pt x="760233" y="4208530"/>
                    </a:lnTo>
                    <a:lnTo>
                      <a:pt x="754259" y="4267785"/>
                    </a:lnTo>
                    <a:cubicBezTo>
                      <a:pt x="718733" y="4441400"/>
                      <a:pt x="565118" y="4572000"/>
                      <a:pt x="381000" y="4572000"/>
                    </a:cubicBezTo>
                    <a:cubicBezTo>
                      <a:pt x="196883" y="4572000"/>
                      <a:pt x="43268" y="4441400"/>
                      <a:pt x="7741" y="4267785"/>
                    </a:cubicBezTo>
                    <a:lnTo>
                      <a:pt x="1767" y="4208530"/>
                    </a:lnTo>
                    <a:lnTo>
                      <a:pt x="0" y="4208530"/>
                    </a:lnTo>
                    <a:lnTo>
                      <a:pt x="0" y="4191000"/>
                    </a:lnTo>
                    <a:lnTo>
                      <a:pt x="0" y="1263683"/>
                    </a:lnTo>
                    <a:cubicBezTo>
                      <a:pt x="0" y="565770"/>
                      <a:pt x="565770" y="0"/>
                      <a:pt x="1263683" y="0"/>
                    </a:cubicBezTo>
                    <a:close/>
                  </a:path>
                </a:pathLst>
              </a:cu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9" name="人"/>
            <p:cNvGrpSpPr/>
            <p:nvPr/>
          </p:nvGrpSpPr>
          <p:grpSpPr>
            <a:xfrm>
              <a:off x="7590240" y="3616920"/>
              <a:ext cx="610560" cy="380880"/>
              <a:chOff x="7590240" y="3616920"/>
              <a:chExt cx="610560" cy="380880"/>
            </a:xfrm>
          </p:grpSpPr>
          <p:sp>
            <p:nvSpPr>
              <p:cNvPr id="410" name="头"/>
              <p:cNvSpPr/>
              <p:nvPr/>
            </p:nvSpPr>
            <p:spPr>
              <a:xfrm rot="6540000">
                <a:off x="8092440" y="3857400"/>
                <a:ext cx="9504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body"/>
              <p:cNvSpPr/>
              <p:nvPr/>
            </p:nvSpPr>
            <p:spPr>
              <a:xfrm rot="6540000">
                <a:off x="7738920" y="3565440"/>
                <a:ext cx="236160" cy="483840"/>
              </a:xfrm>
              <a:custGeom>
                <a:avLst/>
                <a:gdLst/>
                <a:ahLst/>
                <a:rect l="l" t="t" r="r" b="b"/>
                <a:pathLst>
                  <a:path w="4724400" h="9632950">
                    <a:moveTo>
                      <a:pt x="1263683" y="0"/>
                    </a:moveTo>
                    <a:lnTo>
                      <a:pt x="3460717" y="0"/>
                    </a:lnTo>
                    <a:cubicBezTo>
                      <a:pt x="4158630" y="0"/>
                      <a:pt x="4724400" y="565770"/>
                      <a:pt x="4724400" y="1263683"/>
                    </a:cubicBezTo>
                    <a:lnTo>
                      <a:pt x="4724400" y="4181475"/>
                    </a:lnTo>
                    <a:lnTo>
                      <a:pt x="4724400" y="4208530"/>
                    </a:lnTo>
                    <a:lnTo>
                      <a:pt x="4721672" y="4208530"/>
                    </a:lnTo>
                    <a:lnTo>
                      <a:pt x="4716852" y="4256340"/>
                    </a:lnTo>
                    <a:cubicBezTo>
                      <a:pt x="4682214" y="4425615"/>
                      <a:pt x="4532440" y="4552950"/>
                      <a:pt x="4352924" y="4552950"/>
                    </a:cubicBezTo>
                    <a:cubicBezTo>
                      <a:pt x="4173410" y="4552950"/>
                      <a:pt x="4023636" y="4425615"/>
                      <a:pt x="3988996" y="4256340"/>
                    </a:cubicBezTo>
                    <a:lnTo>
                      <a:pt x="3984178" y="4208530"/>
                    </a:lnTo>
                    <a:lnTo>
                      <a:pt x="3978728" y="4208530"/>
                    </a:lnTo>
                    <a:lnTo>
                      <a:pt x="3978728" y="1344167"/>
                    </a:lnTo>
                    <a:lnTo>
                      <a:pt x="3635828" y="1344167"/>
                    </a:lnTo>
                    <a:lnTo>
                      <a:pt x="3635828" y="3627883"/>
                    </a:lnTo>
                    <a:lnTo>
                      <a:pt x="3635828" y="4208530"/>
                    </a:lnTo>
                    <a:lnTo>
                      <a:pt x="3635828" y="9081294"/>
                    </a:lnTo>
                    <a:lnTo>
                      <a:pt x="3635828" y="9124950"/>
                    </a:lnTo>
                    <a:lnTo>
                      <a:pt x="3631427" y="9124950"/>
                    </a:lnTo>
                    <a:lnTo>
                      <a:pt x="3624620" y="9192472"/>
                    </a:lnTo>
                    <a:cubicBezTo>
                      <a:pt x="3573180" y="9443852"/>
                      <a:pt x="3350759" y="9632950"/>
                      <a:pt x="3084172" y="9632950"/>
                    </a:cubicBezTo>
                    <a:cubicBezTo>
                      <a:pt x="2817585" y="9632950"/>
                      <a:pt x="2595164" y="9443852"/>
                      <a:pt x="2543724" y="9192472"/>
                    </a:cubicBezTo>
                    <a:lnTo>
                      <a:pt x="2536917" y="9124950"/>
                    </a:lnTo>
                    <a:lnTo>
                      <a:pt x="2533650" y="9124950"/>
                    </a:lnTo>
                    <a:lnTo>
                      <a:pt x="2533650" y="9092543"/>
                    </a:lnTo>
                    <a:lnTo>
                      <a:pt x="2532516" y="9081294"/>
                    </a:lnTo>
                    <a:lnTo>
                      <a:pt x="2533650" y="9070045"/>
                    </a:lnTo>
                    <a:lnTo>
                      <a:pt x="2533650" y="4572000"/>
                    </a:lnTo>
                    <a:lnTo>
                      <a:pt x="2171700" y="4572000"/>
                    </a:lnTo>
                    <a:lnTo>
                      <a:pt x="2171700" y="9099550"/>
                    </a:lnTo>
                    <a:lnTo>
                      <a:pt x="2171700" y="9124950"/>
                    </a:lnTo>
                    <a:lnTo>
                      <a:pt x="2169140" y="9124950"/>
                    </a:lnTo>
                    <a:lnTo>
                      <a:pt x="2160863" y="9207049"/>
                    </a:lnTo>
                    <a:cubicBezTo>
                      <a:pt x="2111126" y="9450110"/>
                      <a:pt x="1896065" y="9632950"/>
                      <a:pt x="1638300" y="9632950"/>
                    </a:cubicBezTo>
                    <a:cubicBezTo>
                      <a:pt x="1380535" y="9632950"/>
                      <a:pt x="1165474" y="9450110"/>
                      <a:pt x="1115737" y="9207049"/>
                    </a:cubicBezTo>
                    <a:lnTo>
                      <a:pt x="1107461" y="9124950"/>
                    </a:lnTo>
                    <a:lnTo>
                      <a:pt x="1104900" y="9124950"/>
                    </a:lnTo>
                    <a:lnTo>
                      <a:pt x="1104900" y="9099550"/>
                    </a:lnTo>
                    <a:lnTo>
                      <a:pt x="1104900" y="4208530"/>
                    </a:lnTo>
                    <a:lnTo>
                      <a:pt x="1104900" y="3627883"/>
                    </a:lnTo>
                    <a:lnTo>
                      <a:pt x="1104900" y="1344167"/>
                    </a:lnTo>
                    <a:lnTo>
                      <a:pt x="762000" y="1344167"/>
                    </a:lnTo>
                    <a:lnTo>
                      <a:pt x="762000" y="4191000"/>
                    </a:lnTo>
                    <a:lnTo>
                      <a:pt x="762000" y="4208530"/>
                    </a:lnTo>
                    <a:lnTo>
                      <a:pt x="760233" y="4208530"/>
                    </a:lnTo>
                    <a:lnTo>
                      <a:pt x="754259" y="4267785"/>
                    </a:lnTo>
                    <a:cubicBezTo>
                      <a:pt x="718733" y="4441400"/>
                      <a:pt x="565118" y="4572000"/>
                      <a:pt x="381000" y="4572000"/>
                    </a:cubicBezTo>
                    <a:cubicBezTo>
                      <a:pt x="196883" y="4572000"/>
                      <a:pt x="43268" y="4441400"/>
                      <a:pt x="7741" y="4267785"/>
                    </a:cubicBezTo>
                    <a:lnTo>
                      <a:pt x="1767" y="4208530"/>
                    </a:lnTo>
                    <a:lnTo>
                      <a:pt x="0" y="4208530"/>
                    </a:lnTo>
                    <a:lnTo>
                      <a:pt x="0" y="4191000"/>
                    </a:lnTo>
                    <a:lnTo>
                      <a:pt x="0" y="1263683"/>
                    </a:lnTo>
                    <a:cubicBezTo>
                      <a:pt x="0" y="565770"/>
                      <a:pt x="565770" y="0"/>
                      <a:pt x="1263683" y="0"/>
                    </a:cubicBezTo>
                    <a:close/>
                  </a:path>
                </a:pathLst>
              </a:cu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2" name="人"/>
            <p:cNvGrpSpPr/>
            <p:nvPr/>
          </p:nvGrpSpPr>
          <p:grpSpPr>
            <a:xfrm>
              <a:off x="7306920" y="4083840"/>
              <a:ext cx="561600" cy="498960"/>
              <a:chOff x="7306920" y="4083840"/>
              <a:chExt cx="561600" cy="498960"/>
            </a:xfrm>
          </p:grpSpPr>
          <p:sp>
            <p:nvSpPr>
              <p:cNvPr id="413" name="头"/>
              <p:cNvSpPr/>
              <p:nvPr/>
            </p:nvSpPr>
            <p:spPr>
              <a:xfrm rot="7740000">
                <a:off x="7753680" y="4467960"/>
                <a:ext cx="9504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body"/>
              <p:cNvSpPr/>
              <p:nvPr/>
            </p:nvSpPr>
            <p:spPr>
              <a:xfrm rot="7740000">
                <a:off x="7450920" y="4085640"/>
                <a:ext cx="235440" cy="483840"/>
              </a:xfrm>
              <a:custGeom>
                <a:avLst/>
                <a:gdLst/>
                <a:ahLst/>
                <a:rect l="l" t="t" r="r" b="b"/>
                <a:pathLst>
                  <a:path w="4724400" h="9632950">
                    <a:moveTo>
                      <a:pt x="1263683" y="0"/>
                    </a:moveTo>
                    <a:lnTo>
                      <a:pt x="3460717" y="0"/>
                    </a:lnTo>
                    <a:cubicBezTo>
                      <a:pt x="4158630" y="0"/>
                      <a:pt x="4724400" y="565770"/>
                      <a:pt x="4724400" y="1263683"/>
                    </a:cubicBezTo>
                    <a:lnTo>
                      <a:pt x="4724400" y="4181475"/>
                    </a:lnTo>
                    <a:lnTo>
                      <a:pt x="4724400" y="4208530"/>
                    </a:lnTo>
                    <a:lnTo>
                      <a:pt x="4721672" y="4208530"/>
                    </a:lnTo>
                    <a:lnTo>
                      <a:pt x="4716852" y="4256340"/>
                    </a:lnTo>
                    <a:cubicBezTo>
                      <a:pt x="4682214" y="4425615"/>
                      <a:pt x="4532440" y="4552950"/>
                      <a:pt x="4352924" y="4552950"/>
                    </a:cubicBezTo>
                    <a:cubicBezTo>
                      <a:pt x="4173410" y="4552950"/>
                      <a:pt x="4023636" y="4425615"/>
                      <a:pt x="3988996" y="4256340"/>
                    </a:cubicBezTo>
                    <a:lnTo>
                      <a:pt x="3984178" y="4208530"/>
                    </a:lnTo>
                    <a:lnTo>
                      <a:pt x="3978728" y="4208530"/>
                    </a:lnTo>
                    <a:lnTo>
                      <a:pt x="3978728" y="1344167"/>
                    </a:lnTo>
                    <a:lnTo>
                      <a:pt x="3635828" y="1344167"/>
                    </a:lnTo>
                    <a:lnTo>
                      <a:pt x="3635828" y="3627883"/>
                    </a:lnTo>
                    <a:lnTo>
                      <a:pt x="3635828" y="4208530"/>
                    </a:lnTo>
                    <a:lnTo>
                      <a:pt x="3635828" y="9081294"/>
                    </a:lnTo>
                    <a:lnTo>
                      <a:pt x="3635828" y="9124950"/>
                    </a:lnTo>
                    <a:lnTo>
                      <a:pt x="3631427" y="9124950"/>
                    </a:lnTo>
                    <a:lnTo>
                      <a:pt x="3624620" y="9192472"/>
                    </a:lnTo>
                    <a:cubicBezTo>
                      <a:pt x="3573180" y="9443852"/>
                      <a:pt x="3350759" y="9632950"/>
                      <a:pt x="3084172" y="9632950"/>
                    </a:cubicBezTo>
                    <a:cubicBezTo>
                      <a:pt x="2817585" y="9632950"/>
                      <a:pt x="2595164" y="9443852"/>
                      <a:pt x="2543724" y="9192472"/>
                    </a:cubicBezTo>
                    <a:lnTo>
                      <a:pt x="2536917" y="9124950"/>
                    </a:lnTo>
                    <a:lnTo>
                      <a:pt x="2533650" y="9124950"/>
                    </a:lnTo>
                    <a:lnTo>
                      <a:pt x="2533650" y="9092543"/>
                    </a:lnTo>
                    <a:lnTo>
                      <a:pt x="2532516" y="9081294"/>
                    </a:lnTo>
                    <a:lnTo>
                      <a:pt x="2533650" y="9070045"/>
                    </a:lnTo>
                    <a:lnTo>
                      <a:pt x="2533650" y="4572000"/>
                    </a:lnTo>
                    <a:lnTo>
                      <a:pt x="2171700" y="4572000"/>
                    </a:lnTo>
                    <a:lnTo>
                      <a:pt x="2171700" y="9099550"/>
                    </a:lnTo>
                    <a:lnTo>
                      <a:pt x="2171700" y="9124950"/>
                    </a:lnTo>
                    <a:lnTo>
                      <a:pt x="2169140" y="9124950"/>
                    </a:lnTo>
                    <a:lnTo>
                      <a:pt x="2160863" y="9207049"/>
                    </a:lnTo>
                    <a:cubicBezTo>
                      <a:pt x="2111126" y="9450110"/>
                      <a:pt x="1896065" y="9632950"/>
                      <a:pt x="1638300" y="9632950"/>
                    </a:cubicBezTo>
                    <a:cubicBezTo>
                      <a:pt x="1380535" y="9632950"/>
                      <a:pt x="1165474" y="9450110"/>
                      <a:pt x="1115737" y="9207049"/>
                    </a:cubicBezTo>
                    <a:lnTo>
                      <a:pt x="1107461" y="9124950"/>
                    </a:lnTo>
                    <a:lnTo>
                      <a:pt x="1104900" y="9124950"/>
                    </a:lnTo>
                    <a:lnTo>
                      <a:pt x="1104900" y="9099550"/>
                    </a:lnTo>
                    <a:lnTo>
                      <a:pt x="1104900" y="4208530"/>
                    </a:lnTo>
                    <a:lnTo>
                      <a:pt x="1104900" y="3627883"/>
                    </a:lnTo>
                    <a:lnTo>
                      <a:pt x="1104900" y="1344167"/>
                    </a:lnTo>
                    <a:lnTo>
                      <a:pt x="762000" y="1344167"/>
                    </a:lnTo>
                    <a:lnTo>
                      <a:pt x="762000" y="4191000"/>
                    </a:lnTo>
                    <a:lnTo>
                      <a:pt x="762000" y="4208530"/>
                    </a:lnTo>
                    <a:lnTo>
                      <a:pt x="760233" y="4208530"/>
                    </a:lnTo>
                    <a:lnTo>
                      <a:pt x="754259" y="4267785"/>
                    </a:lnTo>
                    <a:cubicBezTo>
                      <a:pt x="718733" y="4441400"/>
                      <a:pt x="565118" y="4572000"/>
                      <a:pt x="381000" y="4572000"/>
                    </a:cubicBezTo>
                    <a:cubicBezTo>
                      <a:pt x="196883" y="4572000"/>
                      <a:pt x="43268" y="4441400"/>
                      <a:pt x="7741" y="4267785"/>
                    </a:cubicBezTo>
                    <a:lnTo>
                      <a:pt x="1767" y="4208530"/>
                    </a:lnTo>
                    <a:lnTo>
                      <a:pt x="0" y="4208530"/>
                    </a:lnTo>
                    <a:lnTo>
                      <a:pt x="0" y="4191000"/>
                    </a:lnTo>
                    <a:lnTo>
                      <a:pt x="0" y="1263683"/>
                    </a:lnTo>
                    <a:cubicBezTo>
                      <a:pt x="0" y="565770"/>
                      <a:pt x="565770" y="0"/>
                      <a:pt x="1263683" y="0"/>
                    </a:cubicBezTo>
                    <a:close/>
                  </a:path>
                </a:pathLst>
              </a:cu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5" name="人"/>
            <p:cNvGrpSpPr/>
            <p:nvPr/>
          </p:nvGrpSpPr>
          <p:grpSpPr>
            <a:xfrm>
              <a:off x="6903360" y="4461840"/>
              <a:ext cx="452160" cy="589320"/>
              <a:chOff x="6903360" y="4461840"/>
              <a:chExt cx="452160" cy="589320"/>
            </a:xfrm>
          </p:grpSpPr>
          <p:sp>
            <p:nvSpPr>
              <p:cNvPr id="416" name="头"/>
              <p:cNvSpPr/>
              <p:nvPr/>
            </p:nvSpPr>
            <p:spPr>
              <a:xfrm rot="8940000">
                <a:off x="7234920" y="4937760"/>
                <a:ext cx="9576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body"/>
              <p:cNvSpPr/>
              <p:nvPr/>
            </p:nvSpPr>
            <p:spPr>
              <a:xfrm rot="8940000">
                <a:off x="7010280" y="4488120"/>
                <a:ext cx="237600" cy="482760"/>
              </a:xfrm>
              <a:custGeom>
                <a:avLst/>
                <a:gdLst/>
                <a:ahLst/>
                <a:rect l="l" t="t" r="r" b="b"/>
                <a:pathLst>
                  <a:path w="4724400" h="9632950">
                    <a:moveTo>
                      <a:pt x="1263683" y="0"/>
                    </a:moveTo>
                    <a:lnTo>
                      <a:pt x="3460717" y="0"/>
                    </a:lnTo>
                    <a:cubicBezTo>
                      <a:pt x="4158630" y="0"/>
                      <a:pt x="4724400" y="565770"/>
                      <a:pt x="4724400" y="1263683"/>
                    </a:cubicBezTo>
                    <a:lnTo>
                      <a:pt x="4724400" y="4181475"/>
                    </a:lnTo>
                    <a:lnTo>
                      <a:pt x="4724400" y="4208530"/>
                    </a:lnTo>
                    <a:lnTo>
                      <a:pt x="4721672" y="4208530"/>
                    </a:lnTo>
                    <a:lnTo>
                      <a:pt x="4716852" y="4256340"/>
                    </a:lnTo>
                    <a:cubicBezTo>
                      <a:pt x="4682214" y="4425615"/>
                      <a:pt x="4532440" y="4552950"/>
                      <a:pt x="4352924" y="4552950"/>
                    </a:cubicBezTo>
                    <a:cubicBezTo>
                      <a:pt x="4173410" y="4552950"/>
                      <a:pt x="4023636" y="4425615"/>
                      <a:pt x="3988996" y="4256340"/>
                    </a:cubicBezTo>
                    <a:lnTo>
                      <a:pt x="3984178" y="4208530"/>
                    </a:lnTo>
                    <a:lnTo>
                      <a:pt x="3978728" y="4208530"/>
                    </a:lnTo>
                    <a:lnTo>
                      <a:pt x="3978728" y="1344167"/>
                    </a:lnTo>
                    <a:lnTo>
                      <a:pt x="3635828" y="1344167"/>
                    </a:lnTo>
                    <a:lnTo>
                      <a:pt x="3635828" y="3627883"/>
                    </a:lnTo>
                    <a:lnTo>
                      <a:pt x="3635828" y="4208530"/>
                    </a:lnTo>
                    <a:lnTo>
                      <a:pt x="3635828" y="9081294"/>
                    </a:lnTo>
                    <a:lnTo>
                      <a:pt x="3635828" y="9124950"/>
                    </a:lnTo>
                    <a:lnTo>
                      <a:pt x="3631427" y="9124950"/>
                    </a:lnTo>
                    <a:lnTo>
                      <a:pt x="3624620" y="9192472"/>
                    </a:lnTo>
                    <a:cubicBezTo>
                      <a:pt x="3573180" y="9443852"/>
                      <a:pt x="3350759" y="9632950"/>
                      <a:pt x="3084172" y="9632950"/>
                    </a:cubicBezTo>
                    <a:cubicBezTo>
                      <a:pt x="2817585" y="9632950"/>
                      <a:pt x="2595164" y="9443852"/>
                      <a:pt x="2543724" y="9192472"/>
                    </a:cubicBezTo>
                    <a:lnTo>
                      <a:pt x="2536917" y="9124950"/>
                    </a:lnTo>
                    <a:lnTo>
                      <a:pt x="2533650" y="9124950"/>
                    </a:lnTo>
                    <a:lnTo>
                      <a:pt x="2533650" y="9092543"/>
                    </a:lnTo>
                    <a:lnTo>
                      <a:pt x="2532516" y="9081294"/>
                    </a:lnTo>
                    <a:lnTo>
                      <a:pt x="2533650" y="9070045"/>
                    </a:lnTo>
                    <a:lnTo>
                      <a:pt x="2533650" y="4572000"/>
                    </a:lnTo>
                    <a:lnTo>
                      <a:pt x="2171700" y="4572000"/>
                    </a:lnTo>
                    <a:lnTo>
                      <a:pt x="2171700" y="9099550"/>
                    </a:lnTo>
                    <a:lnTo>
                      <a:pt x="2171700" y="9124950"/>
                    </a:lnTo>
                    <a:lnTo>
                      <a:pt x="2169140" y="9124950"/>
                    </a:lnTo>
                    <a:lnTo>
                      <a:pt x="2160863" y="9207049"/>
                    </a:lnTo>
                    <a:cubicBezTo>
                      <a:pt x="2111126" y="9450110"/>
                      <a:pt x="1896065" y="9632950"/>
                      <a:pt x="1638300" y="9632950"/>
                    </a:cubicBezTo>
                    <a:cubicBezTo>
                      <a:pt x="1380535" y="9632950"/>
                      <a:pt x="1165474" y="9450110"/>
                      <a:pt x="1115737" y="9207049"/>
                    </a:cubicBezTo>
                    <a:lnTo>
                      <a:pt x="1107461" y="9124950"/>
                    </a:lnTo>
                    <a:lnTo>
                      <a:pt x="1104900" y="9124950"/>
                    </a:lnTo>
                    <a:lnTo>
                      <a:pt x="1104900" y="9099550"/>
                    </a:lnTo>
                    <a:lnTo>
                      <a:pt x="1104900" y="4208530"/>
                    </a:lnTo>
                    <a:lnTo>
                      <a:pt x="1104900" y="3627883"/>
                    </a:lnTo>
                    <a:lnTo>
                      <a:pt x="1104900" y="1344167"/>
                    </a:lnTo>
                    <a:lnTo>
                      <a:pt x="762000" y="1344167"/>
                    </a:lnTo>
                    <a:lnTo>
                      <a:pt x="762000" y="4191000"/>
                    </a:lnTo>
                    <a:lnTo>
                      <a:pt x="762000" y="4208530"/>
                    </a:lnTo>
                    <a:lnTo>
                      <a:pt x="760233" y="4208530"/>
                    </a:lnTo>
                    <a:lnTo>
                      <a:pt x="754259" y="4267785"/>
                    </a:lnTo>
                    <a:cubicBezTo>
                      <a:pt x="718733" y="4441400"/>
                      <a:pt x="565118" y="4572000"/>
                      <a:pt x="381000" y="4572000"/>
                    </a:cubicBezTo>
                    <a:cubicBezTo>
                      <a:pt x="196883" y="4572000"/>
                      <a:pt x="43268" y="4441400"/>
                      <a:pt x="7741" y="4267785"/>
                    </a:cubicBezTo>
                    <a:lnTo>
                      <a:pt x="1767" y="4208530"/>
                    </a:lnTo>
                    <a:lnTo>
                      <a:pt x="0" y="4208530"/>
                    </a:lnTo>
                    <a:lnTo>
                      <a:pt x="0" y="4191000"/>
                    </a:lnTo>
                    <a:lnTo>
                      <a:pt x="0" y="1263683"/>
                    </a:lnTo>
                    <a:cubicBezTo>
                      <a:pt x="0" y="565770"/>
                      <a:pt x="565770" y="0"/>
                      <a:pt x="1263683" y="0"/>
                    </a:cubicBezTo>
                    <a:close/>
                  </a:path>
                </a:pathLst>
              </a:cu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8" name="人"/>
            <p:cNvGrpSpPr/>
            <p:nvPr/>
          </p:nvGrpSpPr>
          <p:grpSpPr>
            <a:xfrm>
              <a:off x="6409440" y="4682520"/>
              <a:ext cx="325440" cy="609120"/>
              <a:chOff x="6409440" y="4682520"/>
              <a:chExt cx="325440" cy="609120"/>
            </a:xfrm>
          </p:grpSpPr>
          <p:sp>
            <p:nvSpPr>
              <p:cNvPr id="419" name="头"/>
              <p:cNvSpPr/>
              <p:nvPr/>
            </p:nvSpPr>
            <p:spPr>
              <a:xfrm rot="10140000">
                <a:off x="6581160" y="5187600"/>
                <a:ext cx="9576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body"/>
              <p:cNvSpPr/>
              <p:nvPr/>
            </p:nvSpPr>
            <p:spPr>
              <a:xfrm rot="10140000">
                <a:off x="6453360" y="4700520"/>
                <a:ext cx="237600" cy="483120"/>
              </a:xfrm>
              <a:custGeom>
                <a:avLst/>
                <a:gdLst/>
                <a:ahLst/>
                <a:rect l="l" t="t" r="r" b="b"/>
                <a:pathLst>
                  <a:path w="4724400" h="9632950">
                    <a:moveTo>
                      <a:pt x="1263683" y="0"/>
                    </a:moveTo>
                    <a:lnTo>
                      <a:pt x="3460717" y="0"/>
                    </a:lnTo>
                    <a:cubicBezTo>
                      <a:pt x="4158630" y="0"/>
                      <a:pt x="4724400" y="565770"/>
                      <a:pt x="4724400" y="1263683"/>
                    </a:cubicBezTo>
                    <a:lnTo>
                      <a:pt x="4724400" y="4181475"/>
                    </a:lnTo>
                    <a:lnTo>
                      <a:pt x="4724400" y="4208530"/>
                    </a:lnTo>
                    <a:lnTo>
                      <a:pt x="4721672" y="4208530"/>
                    </a:lnTo>
                    <a:lnTo>
                      <a:pt x="4716852" y="4256340"/>
                    </a:lnTo>
                    <a:cubicBezTo>
                      <a:pt x="4682214" y="4425615"/>
                      <a:pt x="4532440" y="4552950"/>
                      <a:pt x="4352924" y="4552950"/>
                    </a:cubicBezTo>
                    <a:cubicBezTo>
                      <a:pt x="4173410" y="4552950"/>
                      <a:pt x="4023636" y="4425615"/>
                      <a:pt x="3988996" y="4256340"/>
                    </a:cubicBezTo>
                    <a:lnTo>
                      <a:pt x="3984178" y="4208530"/>
                    </a:lnTo>
                    <a:lnTo>
                      <a:pt x="3978728" y="4208530"/>
                    </a:lnTo>
                    <a:lnTo>
                      <a:pt x="3978728" y="1344167"/>
                    </a:lnTo>
                    <a:lnTo>
                      <a:pt x="3635828" y="1344167"/>
                    </a:lnTo>
                    <a:lnTo>
                      <a:pt x="3635828" y="3627883"/>
                    </a:lnTo>
                    <a:lnTo>
                      <a:pt x="3635828" y="4208530"/>
                    </a:lnTo>
                    <a:lnTo>
                      <a:pt x="3635828" y="9081294"/>
                    </a:lnTo>
                    <a:lnTo>
                      <a:pt x="3635828" y="9124950"/>
                    </a:lnTo>
                    <a:lnTo>
                      <a:pt x="3631427" y="9124950"/>
                    </a:lnTo>
                    <a:lnTo>
                      <a:pt x="3624620" y="9192472"/>
                    </a:lnTo>
                    <a:cubicBezTo>
                      <a:pt x="3573180" y="9443852"/>
                      <a:pt x="3350759" y="9632950"/>
                      <a:pt x="3084172" y="9632950"/>
                    </a:cubicBezTo>
                    <a:cubicBezTo>
                      <a:pt x="2817585" y="9632950"/>
                      <a:pt x="2595164" y="9443852"/>
                      <a:pt x="2543724" y="9192472"/>
                    </a:cubicBezTo>
                    <a:lnTo>
                      <a:pt x="2536917" y="9124950"/>
                    </a:lnTo>
                    <a:lnTo>
                      <a:pt x="2533650" y="9124950"/>
                    </a:lnTo>
                    <a:lnTo>
                      <a:pt x="2533650" y="9092543"/>
                    </a:lnTo>
                    <a:lnTo>
                      <a:pt x="2532516" y="9081294"/>
                    </a:lnTo>
                    <a:lnTo>
                      <a:pt x="2533650" y="9070045"/>
                    </a:lnTo>
                    <a:lnTo>
                      <a:pt x="2533650" y="4572000"/>
                    </a:lnTo>
                    <a:lnTo>
                      <a:pt x="2171700" y="4572000"/>
                    </a:lnTo>
                    <a:lnTo>
                      <a:pt x="2171700" y="9099550"/>
                    </a:lnTo>
                    <a:lnTo>
                      <a:pt x="2171700" y="9124950"/>
                    </a:lnTo>
                    <a:lnTo>
                      <a:pt x="2169140" y="9124950"/>
                    </a:lnTo>
                    <a:lnTo>
                      <a:pt x="2160863" y="9207049"/>
                    </a:lnTo>
                    <a:cubicBezTo>
                      <a:pt x="2111126" y="9450110"/>
                      <a:pt x="1896065" y="9632950"/>
                      <a:pt x="1638300" y="9632950"/>
                    </a:cubicBezTo>
                    <a:cubicBezTo>
                      <a:pt x="1380535" y="9632950"/>
                      <a:pt x="1165474" y="9450110"/>
                      <a:pt x="1115737" y="9207049"/>
                    </a:cubicBezTo>
                    <a:lnTo>
                      <a:pt x="1107461" y="9124950"/>
                    </a:lnTo>
                    <a:lnTo>
                      <a:pt x="1104900" y="9124950"/>
                    </a:lnTo>
                    <a:lnTo>
                      <a:pt x="1104900" y="9099550"/>
                    </a:lnTo>
                    <a:lnTo>
                      <a:pt x="1104900" y="4208530"/>
                    </a:lnTo>
                    <a:lnTo>
                      <a:pt x="1104900" y="3627883"/>
                    </a:lnTo>
                    <a:lnTo>
                      <a:pt x="1104900" y="1344167"/>
                    </a:lnTo>
                    <a:lnTo>
                      <a:pt x="762000" y="1344167"/>
                    </a:lnTo>
                    <a:lnTo>
                      <a:pt x="762000" y="4191000"/>
                    </a:lnTo>
                    <a:lnTo>
                      <a:pt x="762000" y="4208530"/>
                    </a:lnTo>
                    <a:lnTo>
                      <a:pt x="760233" y="4208530"/>
                    </a:lnTo>
                    <a:lnTo>
                      <a:pt x="754259" y="4267785"/>
                    </a:lnTo>
                    <a:cubicBezTo>
                      <a:pt x="718733" y="4441400"/>
                      <a:pt x="565118" y="4572000"/>
                      <a:pt x="381000" y="4572000"/>
                    </a:cubicBezTo>
                    <a:cubicBezTo>
                      <a:pt x="196883" y="4572000"/>
                      <a:pt x="43268" y="4441400"/>
                      <a:pt x="7741" y="4267785"/>
                    </a:cubicBezTo>
                    <a:lnTo>
                      <a:pt x="1767" y="4208530"/>
                    </a:lnTo>
                    <a:lnTo>
                      <a:pt x="0" y="4208530"/>
                    </a:lnTo>
                    <a:lnTo>
                      <a:pt x="0" y="4191000"/>
                    </a:lnTo>
                    <a:lnTo>
                      <a:pt x="0" y="1263683"/>
                    </a:lnTo>
                    <a:cubicBezTo>
                      <a:pt x="0" y="565770"/>
                      <a:pt x="565770" y="0"/>
                      <a:pt x="1263683" y="0"/>
                    </a:cubicBezTo>
                    <a:close/>
                  </a:path>
                </a:pathLst>
              </a:cu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人"/>
            <p:cNvGrpSpPr/>
            <p:nvPr/>
          </p:nvGrpSpPr>
          <p:grpSpPr>
            <a:xfrm>
              <a:off x="5820840" y="4695840"/>
              <a:ext cx="310320" cy="606960"/>
              <a:chOff x="5820840" y="4695840"/>
              <a:chExt cx="310320" cy="606960"/>
            </a:xfrm>
          </p:grpSpPr>
          <p:sp>
            <p:nvSpPr>
              <p:cNvPr id="422" name="头"/>
              <p:cNvSpPr/>
              <p:nvPr/>
            </p:nvSpPr>
            <p:spPr>
              <a:xfrm rot="11340000">
                <a:off x="5881320" y="5200200"/>
                <a:ext cx="9576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body"/>
              <p:cNvSpPr/>
              <p:nvPr/>
            </p:nvSpPr>
            <p:spPr>
              <a:xfrm rot="11340000">
                <a:off x="5857200" y="4711320"/>
                <a:ext cx="237600" cy="483120"/>
              </a:xfrm>
              <a:custGeom>
                <a:avLst/>
                <a:gdLst/>
                <a:ahLst/>
                <a:rect l="l" t="t" r="r" b="b"/>
                <a:pathLst>
                  <a:path w="4724400" h="9632950">
                    <a:moveTo>
                      <a:pt x="1263683" y="0"/>
                    </a:moveTo>
                    <a:lnTo>
                      <a:pt x="3460717" y="0"/>
                    </a:lnTo>
                    <a:cubicBezTo>
                      <a:pt x="4158630" y="0"/>
                      <a:pt x="4724400" y="565770"/>
                      <a:pt x="4724400" y="1263683"/>
                    </a:cubicBezTo>
                    <a:lnTo>
                      <a:pt x="4724400" y="4181475"/>
                    </a:lnTo>
                    <a:lnTo>
                      <a:pt x="4724400" y="4208530"/>
                    </a:lnTo>
                    <a:lnTo>
                      <a:pt x="4721672" y="4208530"/>
                    </a:lnTo>
                    <a:lnTo>
                      <a:pt x="4716852" y="4256340"/>
                    </a:lnTo>
                    <a:cubicBezTo>
                      <a:pt x="4682214" y="4425615"/>
                      <a:pt x="4532440" y="4552950"/>
                      <a:pt x="4352924" y="4552950"/>
                    </a:cubicBezTo>
                    <a:cubicBezTo>
                      <a:pt x="4173410" y="4552950"/>
                      <a:pt x="4023636" y="4425615"/>
                      <a:pt x="3988996" y="4256340"/>
                    </a:cubicBezTo>
                    <a:lnTo>
                      <a:pt x="3984178" y="4208530"/>
                    </a:lnTo>
                    <a:lnTo>
                      <a:pt x="3978728" y="4208530"/>
                    </a:lnTo>
                    <a:lnTo>
                      <a:pt x="3978728" y="1344167"/>
                    </a:lnTo>
                    <a:lnTo>
                      <a:pt x="3635828" y="1344167"/>
                    </a:lnTo>
                    <a:lnTo>
                      <a:pt x="3635828" y="3627883"/>
                    </a:lnTo>
                    <a:lnTo>
                      <a:pt x="3635828" y="4208530"/>
                    </a:lnTo>
                    <a:lnTo>
                      <a:pt x="3635828" y="9081294"/>
                    </a:lnTo>
                    <a:lnTo>
                      <a:pt x="3635828" y="9124950"/>
                    </a:lnTo>
                    <a:lnTo>
                      <a:pt x="3631427" y="9124950"/>
                    </a:lnTo>
                    <a:lnTo>
                      <a:pt x="3624620" y="9192472"/>
                    </a:lnTo>
                    <a:cubicBezTo>
                      <a:pt x="3573180" y="9443852"/>
                      <a:pt x="3350759" y="9632950"/>
                      <a:pt x="3084172" y="9632950"/>
                    </a:cubicBezTo>
                    <a:cubicBezTo>
                      <a:pt x="2817585" y="9632950"/>
                      <a:pt x="2595164" y="9443852"/>
                      <a:pt x="2543724" y="9192472"/>
                    </a:cubicBezTo>
                    <a:lnTo>
                      <a:pt x="2536917" y="9124950"/>
                    </a:lnTo>
                    <a:lnTo>
                      <a:pt x="2533650" y="9124950"/>
                    </a:lnTo>
                    <a:lnTo>
                      <a:pt x="2533650" y="9092543"/>
                    </a:lnTo>
                    <a:lnTo>
                      <a:pt x="2532516" y="9081294"/>
                    </a:lnTo>
                    <a:lnTo>
                      <a:pt x="2533650" y="9070045"/>
                    </a:lnTo>
                    <a:lnTo>
                      <a:pt x="2533650" y="4572000"/>
                    </a:lnTo>
                    <a:lnTo>
                      <a:pt x="2171700" y="4572000"/>
                    </a:lnTo>
                    <a:lnTo>
                      <a:pt x="2171700" y="9099550"/>
                    </a:lnTo>
                    <a:lnTo>
                      <a:pt x="2171700" y="9124950"/>
                    </a:lnTo>
                    <a:lnTo>
                      <a:pt x="2169140" y="9124950"/>
                    </a:lnTo>
                    <a:lnTo>
                      <a:pt x="2160863" y="9207049"/>
                    </a:lnTo>
                    <a:cubicBezTo>
                      <a:pt x="2111126" y="9450110"/>
                      <a:pt x="1896065" y="9632950"/>
                      <a:pt x="1638300" y="9632950"/>
                    </a:cubicBezTo>
                    <a:cubicBezTo>
                      <a:pt x="1380535" y="9632950"/>
                      <a:pt x="1165474" y="9450110"/>
                      <a:pt x="1115737" y="9207049"/>
                    </a:cubicBezTo>
                    <a:lnTo>
                      <a:pt x="1107461" y="9124950"/>
                    </a:lnTo>
                    <a:lnTo>
                      <a:pt x="1104900" y="9124950"/>
                    </a:lnTo>
                    <a:lnTo>
                      <a:pt x="1104900" y="9099550"/>
                    </a:lnTo>
                    <a:lnTo>
                      <a:pt x="1104900" y="4208530"/>
                    </a:lnTo>
                    <a:lnTo>
                      <a:pt x="1104900" y="3627883"/>
                    </a:lnTo>
                    <a:lnTo>
                      <a:pt x="1104900" y="1344167"/>
                    </a:lnTo>
                    <a:lnTo>
                      <a:pt x="762000" y="1344167"/>
                    </a:lnTo>
                    <a:lnTo>
                      <a:pt x="762000" y="4191000"/>
                    </a:lnTo>
                    <a:lnTo>
                      <a:pt x="762000" y="4208530"/>
                    </a:lnTo>
                    <a:lnTo>
                      <a:pt x="760233" y="4208530"/>
                    </a:lnTo>
                    <a:lnTo>
                      <a:pt x="754259" y="4267785"/>
                    </a:lnTo>
                    <a:cubicBezTo>
                      <a:pt x="718733" y="4441400"/>
                      <a:pt x="565118" y="4572000"/>
                      <a:pt x="381000" y="4572000"/>
                    </a:cubicBezTo>
                    <a:cubicBezTo>
                      <a:pt x="196883" y="4572000"/>
                      <a:pt x="43268" y="4441400"/>
                      <a:pt x="7741" y="4267785"/>
                    </a:cubicBezTo>
                    <a:lnTo>
                      <a:pt x="1767" y="4208530"/>
                    </a:lnTo>
                    <a:lnTo>
                      <a:pt x="0" y="4208530"/>
                    </a:lnTo>
                    <a:lnTo>
                      <a:pt x="0" y="4191000"/>
                    </a:lnTo>
                    <a:lnTo>
                      <a:pt x="0" y="1263683"/>
                    </a:lnTo>
                    <a:cubicBezTo>
                      <a:pt x="0" y="565770"/>
                      <a:pt x="565770" y="0"/>
                      <a:pt x="1263683" y="0"/>
                    </a:cubicBezTo>
                    <a:close/>
                  </a:path>
                </a:pathLst>
              </a:cu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人"/>
            <p:cNvGrpSpPr/>
            <p:nvPr/>
          </p:nvGrpSpPr>
          <p:grpSpPr>
            <a:xfrm>
              <a:off x="5190480" y="4490280"/>
              <a:ext cx="441720" cy="594720"/>
              <a:chOff x="5190480" y="4490280"/>
              <a:chExt cx="441720" cy="594720"/>
            </a:xfrm>
          </p:grpSpPr>
          <p:sp>
            <p:nvSpPr>
              <p:cNvPr id="425" name="头"/>
              <p:cNvSpPr/>
              <p:nvPr/>
            </p:nvSpPr>
            <p:spPr>
              <a:xfrm rot="12540000">
                <a:off x="5218560" y="4972320"/>
                <a:ext cx="9576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body"/>
              <p:cNvSpPr/>
              <p:nvPr/>
            </p:nvSpPr>
            <p:spPr>
              <a:xfrm rot="12540000">
                <a:off x="5292360" y="4517640"/>
                <a:ext cx="237600" cy="482760"/>
              </a:xfrm>
              <a:custGeom>
                <a:avLst/>
                <a:gdLst/>
                <a:ahLst/>
                <a:rect l="l" t="t" r="r" b="b"/>
                <a:pathLst>
                  <a:path w="4724400" h="9632950">
                    <a:moveTo>
                      <a:pt x="1263683" y="0"/>
                    </a:moveTo>
                    <a:lnTo>
                      <a:pt x="3460717" y="0"/>
                    </a:lnTo>
                    <a:cubicBezTo>
                      <a:pt x="4158630" y="0"/>
                      <a:pt x="4724400" y="565770"/>
                      <a:pt x="4724400" y="1263683"/>
                    </a:cubicBezTo>
                    <a:lnTo>
                      <a:pt x="4724400" y="4181475"/>
                    </a:lnTo>
                    <a:lnTo>
                      <a:pt x="4724400" y="4208530"/>
                    </a:lnTo>
                    <a:lnTo>
                      <a:pt x="4721672" y="4208530"/>
                    </a:lnTo>
                    <a:lnTo>
                      <a:pt x="4716852" y="4256340"/>
                    </a:lnTo>
                    <a:cubicBezTo>
                      <a:pt x="4682214" y="4425615"/>
                      <a:pt x="4532440" y="4552950"/>
                      <a:pt x="4352924" y="4552950"/>
                    </a:cubicBezTo>
                    <a:cubicBezTo>
                      <a:pt x="4173410" y="4552950"/>
                      <a:pt x="4023636" y="4425615"/>
                      <a:pt x="3988996" y="4256340"/>
                    </a:cubicBezTo>
                    <a:lnTo>
                      <a:pt x="3984178" y="4208530"/>
                    </a:lnTo>
                    <a:lnTo>
                      <a:pt x="3978728" y="4208530"/>
                    </a:lnTo>
                    <a:lnTo>
                      <a:pt x="3978728" y="1344167"/>
                    </a:lnTo>
                    <a:lnTo>
                      <a:pt x="3635828" y="1344167"/>
                    </a:lnTo>
                    <a:lnTo>
                      <a:pt x="3635828" y="3627883"/>
                    </a:lnTo>
                    <a:lnTo>
                      <a:pt x="3635828" y="4208530"/>
                    </a:lnTo>
                    <a:lnTo>
                      <a:pt x="3635828" y="9081294"/>
                    </a:lnTo>
                    <a:lnTo>
                      <a:pt x="3635828" y="9124950"/>
                    </a:lnTo>
                    <a:lnTo>
                      <a:pt x="3631427" y="9124950"/>
                    </a:lnTo>
                    <a:lnTo>
                      <a:pt x="3624620" y="9192472"/>
                    </a:lnTo>
                    <a:cubicBezTo>
                      <a:pt x="3573180" y="9443852"/>
                      <a:pt x="3350759" y="9632950"/>
                      <a:pt x="3084172" y="9632950"/>
                    </a:cubicBezTo>
                    <a:cubicBezTo>
                      <a:pt x="2817585" y="9632950"/>
                      <a:pt x="2595164" y="9443852"/>
                      <a:pt x="2543724" y="9192472"/>
                    </a:cubicBezTo>
                    <a:lnTo>
                      <a:pt x="2536917" y="9124950"/>
                    </a:lnTo>
                    <a:lnTo>
                      <a:pt x="2533650" y="9124950"/>
                    </a:lnTo>
                    <a:lnTo>
                      <a:pt x="2533650" y="9092543"/>
                    </a:lnTo>
                    <a:lnTo>
                      <a:pt x="2532516" y="9081294"/>
                    </a:lnTo>
                    <a:lnTo>
                      <a:pt x="2533650" y="9070045"/>
                    </a:lnTo>
                    <a:lnTo>
                      <a:pt x="2533650" y="4572000"/>
                    </a:lnTo>
                    <a:lnTo>
                      <a:pt x="2171700" y="4572000"/>
                    </a:lnTo>
                    <a:lnTo>
                      <a:pt x="2171700" y="9099550"/>
                    </a:lnTo>
                    <a:lnTo>
                      <a:pt x="2171700" y="9124950"/>
                    </a:lnTo>
                    <a:lnTo>
                      <a:pt x="2169140" y="9124950"/>
                    </a:lnTo>
                    <a:lnTo>
                      <a:pt x="2160863" y="9207049"/>
                    </a:lnTo>
                    <a:cubicBezTo>
                      <a:pt x="2111126" y="9450110"/>
                      <a:pt x="1896065" y="9632950"/>
                      <a:pt x="1638300" y="9632950"/>
                    </a:cubicBezTo>
                    <a:cubicBezTo>
                      <a:pt x="1380535" y="9632950"/>
                      <a:pt x="1165474" y="9450110"/>
                      <a:pt x="1115737" y="9207049"/>
                    </a:cubicBezTo>
                    <a:lnTo>
                      <a:pt x="1107461" y="9124950"/>
                    </a:lnTo>
                    <a:lnTo>
                      <a:pt x="1104900" y="9124950"/>
                    </a:lnTo>
                    <a:lnTo>
                      <a:pt x="1104900" y="9099550"/>
                    </a:lnTo>
                    <a:lnTo>
                      <a:pt x="1104900" y="4208530"/>
                    </a:lnTo>
                    <a:lnTo>
                      <a:pt x="1104900" y="3627883"/>
                    </a:lnTo>
                    <a:lnTo>
                      <a:pt x="1104900" y="1344167"/>
                    </a:lnTo>
                    <a:lnTo>
                      <a:pt x="762000" y="1344167"/>
                    </a:lnTo>
                    <a:lnTo>
                      <a:pt x="762000" y="4191000"/>
                    </a:lnTo>
                    <a:lnTo>
                      <a:pt x="762000" y="4208530"/>
                    </a:lnTo>
                    <a:lnTo>
                      <a:pt x="760233" y="4208530"/>
                    </a:lnTo>
                    <a:lnTo>
                      <a:pt x="754259" y="4267785"/>
                    </a:lnTo>
                    <a:cubicBezTo>
                      <a:pt x="718733" y="4441400"/>
                      <a:pt x="565118" y="4572000"/>
                      <a:pt x="381000" y="4572000"/>
                    </a:cubicBezTo>
                    <a:cubicBezTo>
                      <a:pt x="196883" y="4572000"/>
                      <a:pt x="43268" y="4441400"/>
                      <a:pt x="7741" y="4267785"/>
                    </a:cubicBezTo>
                    <a:lnTo>
                      <a:pt x="1767" y="4208530"/>
                    </a:lnTo>
                    <a:lnTo>
                      <a:pt x="0" y="4208530"/>
                    </a:lnTo>
                    <a:lnTo>
                      <a:pt x="0" y="4191000"/>
                    </a:lnTo>
                    <a:lnTo>
                      <a:pt x="0" y="1263683"/>
                    </a:lnTo>
                    <a:cubicBezTo>
                      <a:pt x="0" y="565770"/>
                      <a:pt x="565770" y="0"/>
                      <a:pt x="1263683" y="0"/>
                    </a:cubicBezTo>
                    <a:close/>
                  </a:path>
                </a:pathLst>
              </a:cu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7" name="人"/>
            <p:cNvGrpSpPr/>
            <p:nvPr/>
          </p:nvGrpSpPr>
          <p:grpSpPr>
            <a:xfrm>
              <a:off x="4644360" y="4125240"/>
              <a:ext cx="553320" cy="511920"/>
              <a:chOff x="4644360" y="4125240"/>
              <a:chExt cx="553320" cy="511920"/>
            </a:xfrm>
          </p:grpSpPr>
          <p:sp>
            <p:nvSpPr>
              <p:cNvPr id="428" name="头"/>
              <p:cNvSpPr/>
              <p:nvPr/>
            </p:nvSpPr>
            <p:spPr>
              <a:xfrm rot="13740000">
                <a:off x="4663800" y="4521960"/>
                <a:ext cx="9540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body"/>
              <p:cNvSpPr/>
              <p:nvPr/>
            </p:nvSpPr>
            <p:spPr>
              <a:xfrm rot="13740000">
                <a:off x="4818960" y="4131000"/>
                <a:ext cx="236880" cy="483840"/>
              </a:xfrm>
              <a:custGeom>
                <a:avLst/>
                <a:gdLst/>
                <a:ahLst/>
                <a:rect l="l" t="t" r="r" b="b"/>
                <a:pathLst>
                  <a:path w="4724400" h="9632950">
                    <a:moveTo>
                      <a:pt x="1263683" y="0"/>
                    </a:moveTo>
                    <a:lnTo>
                      <a:pt x="3460717" y="0"/>
                    </a:lnTo>
                    <a:cubicBezTo>
                      <a:pt x="4158630" y="0"/>
                      <a:pt x="4724400" y="565770"/>
                      <a:pt x="4724400" y="1263683"/>
                    </a:cubicBezTo>
                    <a:lnTo>
                      <a:pt x="4724400" y="4181475"/>
                    </a:lnTo>
                    <a:lnTo>
                      <a:pt x="4724400" y="4208530"/>
                    </a:lnTo>
                    <a:lnTo>
                      <a:pt x="4721672" y="4208530"/>
                    </a:lnTo>
                    <a:lnTo>
                      <a:pt x="4716852" y="4256340"/>
                    </a:lnTo>
                    <a:cubicBezTo>
                      <a:pt x="4682214" y="4425615"/>
                      <a:pt x="4532440" y="4552950"/>
                      <a:pt x="4352924" y="4552950"/>
                    </a:cubicBezTo>
                    <a:cubicBezTo>
                      <a:pt x="4173410" y="4552950"/>
                      <a:pt x="4023636" y="4425615"/>
                      <a:pt x="3988996" y="4256340"/>
                    </a:cubicBezTo>
                    <a:lnTo>
                      <a:pt x="3984178" y="4208530"/>
                    </a:lnTo>
                    <a:lnTo>
                      <a:pt x="3978728" y="4208530"/>
                    </a:lnTo>
                    <a:lnTo>
                      <a:pt x="3978728" y="1344167"/>
                    </a:lnTo>
                    <a:lnTo>
                      <a:pt x="3635828" y="1344167"/>
                    </a:lnTo>
                    <a:lnTo>
                      <a:pt x="3635828" y="3627883"/>
                    </a:lnTo>
                    <a:lnTo>
                      <a:pt x="3635828" y="4208530"/>
                    </a:lnTo>
                    <a:lnTo>
                      <a:pt x="3635828" y="9081294"/>
                    </a:lnTo>
                    <a:lnTo>
                      <a:pt x="3635828" y="9124950"/>
                    </a:lnTo>
                    <a:lnTo>
                      <a:pt x="3631427" y="9124950"/>
                    </a:lnTo>
                    <a:lnTo>
                      <a:pt x="3624620" y="9192472"/>
                    </a:lnTo>
                    <a:cubicBezTo>
                      <a:pt x="3573180" y="9443852"/>
                      <a:pt x="3350759" y="9632950"/>
                      <a:pt x="3084172" y="9632950"/>
                    </a:cubicBezTo>
                    <a:cubicBezTo>
                      <a:pt x="2817585" y="9632950"/>
                      <a:pt x="2595164" y="9443852"/>
                      <a:pt x="2543724" y="9192472"/>
                    </a:cubicBezTo>
                    <a:lnTo>
                      <a:pt x="2536917" y="9124950"/>
                    </a:lnTo>
                    <a:lnTo>
                      <a:pt x="2533650" y="9124950"/>
                    </a:lnTo>
                    <a:lnTo>
                      <a:pt x="2533650" y="9092543"/>
                    </a:lnTo>
                    <a:lnTo>
                      <a:pt x="2532516" y="9081294"/>
                    </a:lnTo>
                    <a:lnTo>
                      <a:pt x="2533650" y="9070045"/>
                    </a:lnTo>
                    <a:lnTo>
                      <a:pt x="2533650" y="4572000"/>
                    </a:lnTo>
                    <a:lnTo>
                      <a:pt x="2171700" y="4572000"/>
                    </a:lnTo>
                    <a:lnTo>
                      <a:pt x="2171700" y="9099550"/>
                    </a:lnTo>
                    <a:lnTo>
                      <a:pt x="2171700" y="9124950"/>
                    </a:lnTo>
                    <a:lnTo>
                      <a:pt x="2169140" y="9124950"/>
                    </a:lnTo>
                    <a:lnTo>
                      <a:pt x="2160863" y="9207049"/>
                    </a:lnTo>
                    <a:cubicBezTo>
                      <a:pt x="2111126" y="9450110"/>
                      <a:pt x="1896065" y="9632950"/>
                      <a:pt x="1638300" y="9632950"/>
                    </a:cubicBezTo>
                    <a:cubicBezTo>
                      <a:pt x="1380535" y="9632950"/>
                      <a:pt x="1165474" y="9450110"/>
                      <a:pt x="1115737" y="9207049"/>
                    </a:cubicBezTo>
                    <a:lnTo>
                      <a:pt x="1107461" y="9124950"/>
                    </a:lnTo>
                    <a:lnTo>
                      <a:pt x="1104900" y="9124950"/>
                    </a:lnTo>
                    <a:lnTo>
                      <a:pt x="1104900" y="9099550"/>
                    </a:lnTo>
                    <a:lnTo>
                      <a:pt x="1104900" y="4208530"/>
                    </a:lnTo>
                    <a:lnTo>
                      <a:pt x="1104900" y="3627883"/>
                    </a:lnTo>
                    <a:lnTo>
                      <a:pt x="1104900" y="1344167"/>
                    </a:lnTo>
                    <a:lnTo>
                      <a:pt x="762000" y="1344167"/>
                    </a:lnTo>
                    <a:lnTo>
                      <a:pt x="762000" y="4191000"/>
                    </a:lnTo>
                    <a:lnTo>
                      <a:pt x="762000" y="4208530"/>
                    </a:lnTo>
                    <a:lnTo>
                      <a:pt x="760233" y="4208530"/>
                    </a:lnTo>
                    <a:lnTo>
                      <a:pt x="754259" y="4267785"/>
                    </a:lnTo>
                    <a:cubicBezTo>
                      <a:pt x="718733" y="4441400"/>
                      <a:pt x="565118" y="4572000"/>
                      <a:pt x="381000" y="4572000"/>
                    </a:cubicBezTo>
                    <a:cubicBezTo>
                      <a:pt x="196883" y="4572000"/>
                      <a:pt x="43268" y="4441400"/>
                      <a:pt x="7741" y="4267785"/>
                    </a:cubicBezTo>
                    <a:lnTo>
                      <a:pt x="1767" y="4208530"/>
                    </a:lnTo>
                    <a:lnTo>
                      <a:pt x="0" y="4208530"/>
                    </a:lnTo>
                    <a:lnTo>
                      <a:pt x="0" y="4191000"/>
                    </a:lnTo>
                    <a:lnTo>
                      <a:pt x="0" y="1263683"/>
                    </a:lnTo>
                    <a:cubicBezTo>
                      <a:pt x="0" y="565770"/>
                      <a:pt x="565770" y="0"/>
                      <a:pt x="1263683" y="0"/>
                    </a:cubicBezTo>
                    <a:close/>
                  </a:path>
                </a:pathLst>
              </a:cu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0" name="人"/>
            <p:cNvGrpSpPr/>
            <p:nvPr/>
          </p:nvGrpSpPr>
          <p:grpSpPr>
            <a:xfrm>
              <a:off x="4287960" y="3666240"/>
              <a:ext cx="609480" cy="394560"/>
              <a:chOff x="4287960" y="3666240"/>
              <a:chExt cx="609480" cy="394560"/>
            </a:xfrm>
          </p:grpSpPr>
          <p:sp>
            <p:nvSpPr>
              <p:cNvPr id="431" name="头"/>
              <p:cNvSpPr/>
              <p:nvPr/>
            </p:nvSpPr>
            <p:spPr>
              <a:xfrm rot="14940000">
                <a:off x="4301640" y="3922920"/>
                <a:ext cx="9540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body"/>
              <p:cNvSpPr/>
              <p:nvPr/>
            </p:nvSpPr>
            <p:spPr>
              <a:xfrm rot="14940000">
                <a:off x="4510440" y="3621600"/>
                <a:ext cx="236880" cy="483840"/>
              </a:xfrm>
              <a:custGeom>
                <a:avLst/>
                <a:gdLst/>
                <a:ahLst/>
                <a:rect l="l" t="t" r="r" b="b"/>
                <a:pathLst>
                  <a:path w="4724400" h="9632950">
                    <a:moveTo>
                      <a:pt x="1263683" y="0"/>
                    </a:moveTo>
                    <a:lnTo>
                      <a:pt x="3460717" y="0"/>
                    </a:lnTo>
                    <a:cubicBezTo>
                      <a:pt x="4158630" y="0"/>
                      <a:pt x="4724400" y="565770"/>
                      <a:pt x="4724400" y="1263683"/>
                    </a:cubicBezTo>
                    <a:lnTo>
                      <a:pt x="4724400" y="4181475"/>
                    </a:lnTo>
                    <a:lnTo>
                      <a:pt x="4724400" y="4208530"/>
                    </a:lnTo>
                    <a:lnTo>
                      <a:pt x="4721672" y="4208530"/>
                    </a:lnTo>
                    <a:lnTo>
                      <a:pt x="4716852" y="4256340"/>
                    </a:lnTo>
                    <a:cubicBezTo>
                      <a:pt x="4682214" y="4425615"/>
                      <a:pt x="4532440" y="4552950"/>
                      <a:pt x="4352924" y="4552950"/>
                    </a:cubicBezTo>
                    <a:cubicBezTo>
                      <a:pt x="4173410" y="4552950"/>
                      <a:pt x="4023636" y="4425615"/>
                      <a:pt x="3988996" y="4256340"/>
                    </a:cubicBezTo>
                    <a:lnTo>
                      <a:pt x="3984178" y="4208530"/>
                    </a:lnTo>
                    <a:lnTo>
                      <a:pt x="3978728" y="4208530"/>
                    </a:lnTo>
                    <a:lnTo>
                      <a:pt x="3978728" y="1344167"/>
                    </a:lnTo>
                    <a:lnTo>
                      <a:pt x="3635828" y="1344167"/>
                    </a:lnTo>
                    <a:lnTo>
                      <a:pt x="3635828" y="3627883"/>
                    </a:lnTo>
                    <a:lnTo>
                      <a:pt x="3635828" y="4208530"/>
                    </a:lnTo>
                    <a:lnTo>
                      <a:pt x="3635828" y="9081294"/>
                    </a:lnTo>
                    <a:lnTo>
                      <a:pt x="3635828" y="9124950"/>
                    </a:lnTo>
                    <a:lnTo>
                      <a:pt x="3631427" y="9124950"/>
                    </a:lnTo>
                    <a:lnTo>
                      <a:pt x="3624620" y="9192472"/>
                    </a:lnTo>
                    <a:cubicBezTo>
                      <a:pt x="3573180" y="9443852"/>
                      <a:pt x="3350759" y="9632950"/>
                      <a:pt x="3084172" y="9632950"/>
                    </a:cubicBezTo>
                    <a:cubicBezTo>
                      <a:pt x="2817585" y="9632950"/>
                      <a:pt x="2595164" y="9443852"/>
                      <a:pt x="2543724" y="9192472"/>
                    </a:cubicBezTo>
                    <a:lnTo>
                      <a:pt x="2536917" y="9124950"/>
                    </a:lnTo>
                    <a:lnTo>
                      <a:pt x="2533650" y="9124950"/>
                    </a:lnTo>
                    <a:lnTo>
                      <a:pt x="2533650" y="9092543"/>
                    </a:lnTo>
                    <a:lnTo>
                      <a:pt x="2532516" y="9081294"/>
                    </a:lnTo>
                    <a:lnTo>
                      <a:pt x="2533650" y="9070045"/>
                    </a:lnTo>
                    <a:lnTo>
                      <a:pt x="2533650" y="4572000"/>
                    </a:lnTo>
                    <a:lnTo>
                      <a:pt x="2171700" y="4572000"/>
                    </a:lnTo>
                    <a:lnTo>
                      <a:pt x="2171700" y="9099550"/>
                    </a:lnTo>
                    <a:lnTo>
                      <a:pt x="2171700" y="9124950"/>
                    </a:lnTo>
                    <a:lnTo>
                      <a:pt x="2169140" y="9124950"/>
                    </a:lnTo>
                    <a:lnTo>
                      <a:pt x="2160863" y="9207049"/>
                    </a:lnTo>
                    <a:cubicBezTo>
                      <a:pt x="2111126" y="9450110"/>
                      <a:pt x="1896065" y="9632950"/>
                      <a:pt x="1638300" y="9632950"/>
                    </a:cubicBezTo>
                    <a:cubicBezTo>
                      <a:pt x="1380535" y="9632950"/>
                      <a:pt x="1165474" y="9450110"/>
                      <a:pt x="1115737" y="9207049"/>
                    </a:cubicBezTo>
                    <a:lnTo>
                      <a:pt x="1107461" y="9124950"/>
                    </a:lnTo>
                    <a:lnTo>
                      <a:pt x="1104900" y="9124950"/>
                    </a:lnTo>
                    <a:lnTo>
                      <a:pt x="1104900" y="9099550"/>
                    </a:lnTo>
                    <a:lnTo>
                      <a:pt x="1104900" y="4208530"/>
                    </a:lnTo>
                    <a:lnTo>
                      <a:pt x="1104900" y="3627883"/>
                    </a:lnTo>
                    <a:lnTo>
                      <a:pt x="1104900" y="1344167"/>
                    </a:lnTo>
                    <a:lnTo>
                      <a:pt x="762000" y="1344167"/>
                    </a:lnTo>
                    <a:lnTo>
                      <a:pt x="762000" y="4191000"/>
                    </a:lnTo>
                    <a:lnTo>
                      <a:pt x="762000" y="4208530"/>
                    </a:lnTo>
                    <a:lnTo>
                      <a:pt x="760233" y="4208530"/>
                    </a:lnTo>
                    <a:lnTo>
                      <a:pt x="754259" y="4267785"/>
                    </a:lnTo>
                    <a:cubicBezTo>
                      <a:pt x="718733" y="4441400"/>
                      <a:pt x="565118" y="4572000"/>
                      <a:pt x="381000" y="4572000"/>
                    </a:cubicBezTo>
                    <a:cubicBezTo>
                      <a:pt x="196883" y="4572000"/>
                      <a:pt x="43268" y="4441400"/>
                      <a:pt x="7741" y="4267785"/>
                    </a:cubicBezTo>
                    <a:lnTo>
                      <a:pt x="1767" y="4208530"/>
                    </a:lnTo>
                    <a:lnTo>
                      <a:pt x="0" y="4208530"/>
                    </a:lnTo>
                    <a:lnTo>
                      <a:pt x="0" y="4191000"/>
                    </a:lnTo>
                    <a:lnTo>
                      <a:pt x="0" y="1263683"/>
                    </a:lnTo>
                    <a:cubicBezTo>
                      <a:pt x="0" y="565770"/>
                      <a:pt x="565770" y="0"/>
                      <a:pt x="1263683" y="0"/>
                    </a:cubicBezTo>
                    <a:close/>
                  </a:path>
                </a:pathLst>
              </a:cu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人"/>
            <p:cNvGrpSpPr/>
            <p:nvPr/>
          </p:nvGrpSpPr>
          <p:grpSpPr>
            <a:xfrm>
              <a:off x="4178880" y="3156840"/>
              <a:ext cx="592200" cy="245160"/>
              <a:chOff x="4178880" y="3156840"/>
              <a:chExt cx="592200" cy="245160"/>
            </a:xfrm>
          </p:grpSpPr>
          <p:sp>
            <p:nvSpPr>
              <p:cNvPr id="434" name="头"/>
              <p:cNvSpPr/>
              <p:nvPr/>
            </p:nvSpPr>
            <p:spPr>
              <a:xfrm rot="16140000">
                <a:off x="4179600" y="3236760"/>
                <a:ext cx="9540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body"/>
              <p:cNvSpPr/>
              <p:nvPr/>
            </p:nvSpPr>
            <p:spPr>
              <a:xfrm rot="16140000">
                <a:off x="4408560" y="3037320"/>
                <a:ext cx="236880" cy="483840"/>
              </a:xfrm>
              <a:custGeom>
                <a:avLst/>
                <a:gdLst/>
                <a:ahLst/>
                <a:rect l="l" t="t" r="r" b="b"/>
                <a:pathLst>
                  <a:path w="4724400" h="9632950">
                    <a:moveTo>
                      <a:pt x="1263683" y="0"/>
                    </a:moveTo>
                    <a:lnTo>
                      <a:pt x="3460717" y="0"/>
                    </a:lnTo>
                    <a:cubicBezTo>
                      <a:pt x="4158630" y="0"/>
                      <a:pt x="4724400" y="565770"/>
                      <a:pt x="4724400" y="1263683"/>
                    </a:cubicBezTo>
                    <a:lnTo>
                      <a:pt x="4724400" y="4181475"/>
                    </a:lnTo>
                    <a:lnTo>
                      <a:pt x="4724400" y="4208530"/>
                    </a:lnTo>
                    <a:lnTo>
                      <a:pt x="4721672" y="4208530"/>
                    </a:lnTo>
                    <a:lnTo>
                      <a:pt x="4716852" y="4256340"/>
                    </a:lnTo>
                    <a:cubicBezTo>
                      <a:pt x="4682214" y="4425615"/>
                      <a:pt x="4532440" y="4552950"/>
                      <a:pt x="4352924" y="4552950"/>
                    </a:cubicBezTo>
                    <a:cubicBezTo>
                      <a:pt x="4173410" y="4552950"/>
                      <a:pt x="4023636" y="4425615"/>
                      <a:pt x="3988996" y="4256340"/>
                    </a:cubicBezTo>
                    <a:lnTo>
                      <a:pt x="3984178" y="4208530"/>
                    </a:lnTo>
                    <a:lnTo>
                      <a:pt x="3978728" y="4208530"/>
                    </a:lnTo>
                    <a:lnTo>
                      <a:pt x="3978728" y="1344167"/>
                    </a:lnTo>
                    <a:lnTo>
                      <a:pt x="3635828" y="1344167"/>
                    </a:lnTo>
                    <a:lnTo>
                      <a:pt x="3635828" y="3627883"/>
                    </a:lnTo>
                    <a:lnTo>
                      <a:pt x="3635828" y="4208530"/>
                    </a:lnTo>
                    <a:lnTo>
                      <a:pt x="3635828" y="9081294"/>
                    </a:lnTo>
                    <a:lnTo>
                      <a:pt x="3635828" y="9124950"/>
                    </a:lnTo>
                    <a:lnTo>
                      <a:pt x="3631427" y="9124950"/>
                    </a:lnTo>
                    <a:lnTo>
                      <a:pt x="3624620" y="9192472"/>
                    </a:lnTo>
                    <a:cubicBezTo>
                      <a:pt x="3573180" y="9443852"/>
                      <a:pt x="3350759" y="9632950"/>
                      <a:pt x="3084172" y="9632950"/>
                    </a:cubicBezTo>
                    <a:cubicBezTo>
                      <a:pt x="2817585" y="9632950"/>
                      <a:pt x="2595164" y="9443852"/>
                      <a:pt x="2543724" y="9192472"/>
                    </a:cubicBezTo>
                    <a:lnTo>
                      <a:pt x="2536917" y="9124950"/>
                    </a:lnTo>
                    <a:lnTo>
                      <a:pt x="2533650" y="9124950"/>
                    </a:lnTo>
                    <a:lnTo>
                      <a:pt x="2533650" y="9092543"/>
                    </a:lnTo>
                    <a:lnTo>
                      <a:pt x="2532516" y="9081294"/>
                    </a:lnTo>
                    <a:lnTo>
                      <a:pt x="2533650" y="9070045"/>
                    </a:lnTo>
                    <a:lnTo>
                      <a:pt x="2533650" y="4572000"/>
                    </a:lnTo>
                    <a:lnTo>
                      <a:pt x="2171700" y="4572000"/>
                    </a:lnTo>
                    <a:lnTo>
                      <a:pt x="2171700" y="9099550"/>
                    </a:lnTo>
                    <a:lnTo>
                      <a:pt x="2171700" y="9124950"/>
                    </a:lnTo>
                    <a:lnTo>
                      <a:pt x="2169140" y="9124950"/>
                    </a:lnTo>
                    <a:lnTo>
                      <a:pt x="2160863" y="9207049"/>
                    </a:lnTo>
                    <a:cubicBezTo>
                      <a:pt x="2111126" y="9450110"/>
                      <a:pt x="1896065" y="9632950"/>
                      <a:pt x="1638300" y="9632950"/>
                    </a:cubicBezTo>
                    <a:cubicBezTo>
                      <a:pt x="1380535" y="9632950"/>
                      <a:pt x="1165474" y="9450110"/>
                      <a:pt x="1115737" y="9207049"/>
                    </a:cubicBezTo>
                    <a:lnTo>
                      <a:pt x="1107461" y="9124950"/>
                    </a:lnTo>
                    <a:lnTo>
                      <a:pt x="1104900" y="9124950"/>
                    </a:lnTo>
                    <a:lnTo>
                      <a:pt x="1104900" y="9099550"/>
                    </a:lnTo>
                    <a:lnTo>
                      <a:pt x="1104900" y="4208530"/>
                    </a:lnTo>
                    <a:lnTo>
                      <a:pt x="1104900" y="3627883"/>
                    </a:lnTo>
                    <a:lnTo>
                      <a:pt x="1104900" y="1344167"/>
                    </a:lnTo>
                    <a:lnTo>
                      <a:pt x="762000" y="1344167"/>
                    </a:lnTo>
                    <a:lnTo>
                      <a:pt x="762000" y="4191000"/>
                    </a:lnTo>
                    <a:lnTo>
                      <a:pt x="762000" y="4208530"/>
                    </a:lnTo>
                    <a:lnTo>
                      <a:pt x="760233" y="4208530"/>
                    </a:lnTo>
                    <a:lnTo>
                      <a:pt x="754259" y="4267785"/>
                    </a:lnTo>
                    <a:cubicBezTo>
                      <a:pt x="718733" y="4441400"/>
                      <a:pt x="565118" y="4572000"/>
                      <a:pt x="381000" y="4572000"/>
                    </a:cubicBezTo>
                    <a:cubicBezTo>
                      <a:pt x="196883" y="4572000"/>
                      <a:pt x="43268" y="4441400"/>
                      <a:pt x="7741" y="4267785"/>
                    </a:cubicBezTo>
                    <a:lnTo>
                      <a:pt x="1767" y="4208530"/>
                    </a:lnTo>
                    <a:lnTo>
                      <a:pt x="0" y="4208530"/>
                    </a:lnTo>
                    <a:lnTo>
                      <a:pt x="0" y="4191000"/>
                    </a:lnTo>
                    <a:lnTo>
                      <a:pt x="0" y="1263683"/>
                    </a:lnTo>
                    <a:cubicBezTo>
                      <a:pt x="0" y="565770"/>
                      <a:pt x="565770" y="0"/>
                      <a:pt x="1263683" y="0"/>
                    </a:cubicBezTo>
                    <a:close/>
                  </a:path>
                </a:pathLst>
              </a:cu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6" name="文本框 120"/>
            <p:cNvSpPr/>
            <p:nvPr/>
          </p:nvSpPr>
          <p:spPr>
            <a:xfrm>
              <a:off x="5211720" y="3010680"/>
              <a:ext cx="204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62817"/>
                  </a:solidFill>
                  <a:latin typeface="Calibri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" name="文本框 120"/>
          <p:cNvSpPr/>
          <p:nvPr/>
        </p:nvSpPr>
        <p:spPr>
          <a:xfrm>
            <a:off x="2517840" y="2906640"/>
            <a:ext cx="1015920" cy="131292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 Unicode MS"/>
                <a:ea typeface="微软雅黑"/>
              </a:rPr>
              <a:t>tex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文本框 120"/>
          <p:cNvSpPr/>
          <p:nvPr/>
        </p:nvSpPr>
        <p:spPr>
          <a:xfrm>
            <a:off x="8969400" y="2897280"/>
            <a:ext cx="1012680" cy="131292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 Unicode MS"/>
                <a:ea typeface="微软雅黑"/>
              </a:rPr>
              <a:t>tex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网络 509"/>
          <p:cNvSpPr/>
          <p:nvPr/>
        </p:nvSpPr>
        <p:spPr>
          <a:xfrm flipV="1">
            <a:off x="317520" y="180720"/>
            <a:ext cx="482760" cy="482400"/>
          </a:xfrm>
          <a:custGeom>
            <a:avLst/>
            <a:gdLst/>
            <a:ahLst/>
            <a:rect l="l" t="t" r="r" b="b"/>
            <a:pathLst>
              <a:path w="1889279" h="1810503">
                <a:moveTo>
                  <a:pt x="1408636" y="1462945"/>
                </a:moveTo>
                <a:cubicBezTo>
                  <a:pt x="1471912" y="1494489"/>
                  <a:pt x="1528819" y="1532588"/>
                  <a:pt x="1575786" y="1578162"/>
                </a:cubicBezTo>
                <a:cubicBezTo>
                  <a:pt x="1467281" y="1672800"/>
                  <a:pt x="1335058" y="1742507"/>
                  <a:pt x="1188886" y="1779443"/>
                </a:cubicBezTo>
                <a:cubicBezTo>
                  <a:pt x="1278166" y="1700386"/>
                  <a:pt x="1353810" y="1592053"/>
                  <a:pt x="1408636" y="1462945"/>
                </a:cubicBezTo>
                <a:close/>
                <a:moveTo>
                  <a:pt x="494888" y="1445849"/>
                </a:moveTo>
                <a:cubicBezTo>
                  <a:pt x="556747" y="1590569"/>
                  <a:pt x="643865" y="1709702"/>
                  <a:pt x="747068" y="1790925"/>
                </a:cubicBezTo>
                <a:cubicBezTo>
                  <a:pt x="576321" y="1756303"/>
                  <a:pt x="422614" y="1677538"/>
                  <a:pt x="300900" y="1566189"/>
                </a:cubicBezTo>
                <a:cubicBezTo>
                  <a:pt x="355309" y="1517036"/>
                  <a:pt x="421005" y="1476420"/>
                  <a:pt x="494888" y="1445849"/>
                </a:cubicBezTo>
                <a:close/>
                <a:moveTo>
                  <a:pt x="900586" y="1355871"/>
                </a:moveTo>
                <a:lnTo>
                  <a:pt x="900586" y="1808904"/>
                </a:lnTo>
                <a:lnTo>
                  <a:pt x="884222" y="1808113"/>
                </a:lnTo>
                <a:cubicBezTo>
                  <a:pt x="745280" y="1742581"/>
                  <a:pt x="627378" y="1604992"/>
                  <a:pt x="551037" y="1423344"/>
                </a:cubicBezTo>
                <a:cubicBezTo>
                  <a:pt x="655969" y="1381011"/>
                  <a:pt x="774745" y="1357337"/>
                  <a:pt x="900586" y="1355871"/>
                </a:cubicBezTo>
                <a:close/>
                <a:moveTo>
                  <a:pt x="953521" y="1355186"/>
                </a:moveTo>
                <a:cubicBezTo>
                  <a:pt x="1099660" y="1356509"/>
                  <a:pt x="1236550" y="1386650"/>
                  <a:pt x="1354036" y="1440083"/>
                </a:cubicBezTo>
                <a:cubicBezTo>
                  <a:pt x="1283551" y="1605630"/>
                  <a:pt x="1178611" y="1734316"/>
                  <a:pt x="1054486" y="1804443"/>
                </a:cubicBezTo>
                <a:lnTo>
                  <a:pt x="953521" y="1810503"/>
                </a:lnTo>
                <a:lnTo>
                  <a:pt x="953521" y="1355186"/>
                </a:lnTo>
                <a:close/>
                <a:moveTo>
                  <a:pt x="1517159" y="931303"/>
                </a:moveTo>
                <a:lnTo>
                  <a:pt x="1889279" y="931303"/>
                </a:lnTo>
                <a:cubicBezTo>
                  <a:pt x="1883282" y="1167646"/>
                  <a:pt x="1781715" y="1381244"/>
                  <a:pt x="1618873" y="1536894"/>
                </a:cubicBezTo>
                <a:cubicBezTo>
                  <a:pt x="1566437" y="1485571"/>
                  <a:pt x="1502786" y="1442774"/>
                  <a:pt x="1431939" y="1407715"/>
                </a:cubicBezTo>
                <a:cubicBezTo>
                  <a:pt x="1485774" y="1266553"/>
                  <a:pt x="1516428" y="1104135"/>
                  <a:pt x="1517159" y="931303"/>
                </a:cubicBezTo>
                <a:close/>
                <a:moveTo>
                  <a:pt x="953521" y="931303"/>
                </a:moveTo>
                <a:lnTo>
                  <a:pt x="1456842" y="931303"/>
                </a:lnTo>
                <a:cubicBezTo>
                  <a:pt x="1456123" y="1096196"/>
                  <a:pt x="1427268" y="1250986"/>
                  <a:pt x="1375819" y="1384691"/>
                </a:cubicBezTo>
                <a:cubicBezTo>
                  <a:pt x="1251537" y="1327928"/>
                  <a:pt x="1107288" y="1296191"/>
                  <a:pt x="953521" y="1294902"/>
                </a:cubicBezTo>
                <a:lnTo>
                  <a:pt x="953521" y="931303"/>
                </a:lnTo>
                <a:close/>
                <a:moveTo>
                  <a:pt x="448568" y="931303"/>
                </a:moveTo>
                <a:lnTo>
                  <a:pt x="900586" y="931303"/>
                </a:lnTo>
                <a:lnTo>
                  <a:pt x="900586" y="1295603"/>
                </a:lnTo>
                <a:cubicBezTo>
                  <a:pt x="766605" y="1297053"/>
                  <a:pt x="640053" y="1322469"/>
                  <a:pt x="528061" y="1368046"/>
                </a:cubicBezTo>
                <a:cubicBezTo>
                  <a:pt x="478984" y="1238632"/>
                  <a:pt x="450499" y="1089843"/>
                  <a:pt x="448568" y="931303"/>
                </a:cubicBezTo>
                <a:close/>
                <a:moveTo>
                  <a:pt x="0" y="931303"/>
                </a:moveTo>
                <a:lnTo>
                  <a:pt x="388264" y="931303"/>
                </a:lnTo>
                <a:cubicBezTo>
                  <a:pt x="390220" y="1097785"/>
                  <a:pt x="420532" y="1254193"/>
                  <a:pt x="473139" y="1390578"/>
                </a:cubicBezTo>
                <a:cubicBezTo>
                  <a:pt x="391203" y="1423988"/>
                  <a:pt x="318506" y="1469260"/>
                  <a:pt x="258353" y="1524144"/>
                </a:cubicBezTo>
                <a:cubicBezTo>
                  <a:pt x="102364" y="1370026"/>
                  <a:pt x="5849" y="1161456"/>
                  <a:pt x="0" y="931303"/>
                </a:cubicBezTo>
                <a:close/>
                <a:moveTo>
                  <a:pt x="536834" y="421694"/>
                </a:moveTo>
                <a:cubicBezTo>
                  <a:pt x="646682" y="464986"/>
                  <a:pt x="770110" y="489176"/>
                  <a:pt x="900586" y="490537"/>
                </a:cubicBezTo>
                <a:lnTo>
                  <a:pt x="900586" y="875390"/>
                </a:lnTo>
                <a:lnTo>
                  <a:pt x="448805" y="875390"/>
                </a:lnTo>
                <a:cubicBezTo>
                  <a:pt x="451150" y="709592"/>
                  <a:pt x="482649" y="554587"/>
                  <a:pt x="536834" y="421694"/>
                </a:cubicBezTo>
                <a:close/>
                <a:moveTo>
                  <a:pt x="1356131" y="409527"/>
                </a:moveTo>
                <a:cubicBezTo>
                  <a:pt x="1415590" y="544412"/>
                  <a:pt x="1451132" y="703874"/>
                  <a:pt x="1455052" y="875390"/>
                </a:cubicBezTo>
                <a:lnTo>
                  <a:pt x="953521" y="875390"/>
                </a:lnTo>
                <a:lnTo>
                  <a:pt x="953521" y="491238"/>
                </a:lnTo>
                <a:cubicBezTo>
                  <a:pt x="1099303" y="490092"/>
                  <a:pt x="1236528" y="461431"/>
                  <a:pt x="1356131" y="409527"/>
                </a:cubicBezTo>
                <a:close/>
                <a:moveTo>
                  <a:pt x="271202" y="273767"/>
                </a:moveTo>
                <a:cubicBezTo>
                  <a:pt x="330895" y="324894"/>
                  <a:pt x="401533" y="367494"/>
                  <a:pt x="480768" y="398692"/>
                </a:cubicBezTo>
                <a:cubicBezTo>
                  <a:pt x="424147" y="539118"/>
                  <a:pt x="390867" y="701724"/>
                  <a:pt x="388496" y="875390"/>
                </a:cubicBezTo>
                <a:lnTo>
                  <a:pt x="238" y="875390"/>
                </a:lnTo>
                <a:cubicBezTo>
                  <a:pt x="7162" y="640451"/>
                  <a:pt x="108645" y="428248"/>
                  <a:pt x="271202" y="273767"/>
                </a:cubicBezTo>
                <a:close/>
                <a:moveTo>
                  <a:pt x="1605567" y="261436"/>
                </a:moveTo>
                <a:cubicBezTo>
                  <a:pt x="1775300" y="417133"/>
                  <a:pt x="1881942" y="634296"/>
                  <a:pt x="1889035" y="875390"/>
                </a:cubicBezTo>
                <a:lnTo>
                  <a:pt x="1515364" y="875390"/>
                </a:lnTo>
                <a:cubicBezTo>
                  <a:pt x="1511419" y="696081"/>
                  <a:pt x="1474168" y="529014"/>
                  <a:pt x="1413107" y="386152"/>
                </a:cubicBezTo>
                <a:cubicBezTo>
                  <a:pt x="1485941" y="353453"/>
                  <a:pt x="1551126" y="311628"/>
                  <a:pt x="1605567" y="261436"/>
                </a:cubicBezTo>
                <a:close/>
                <a:moveTo>
                  <a:pt x="748157" y="19413"/>
                </a:moveTo>
                <a:cubicBezTo>
                  <a:pt x="649482" y="96557"/>
                  <a:pt x="565491" y="208310"/>
                  <a:pt x="504779" y="344256"/>
                </a:cubicBezTo>
                <a:cubicBezTo>
                  <a:pt x="432706" y="315858"/>
                  <a:pt x="368354" y="277545"/>
                  <a:pt x="313920" y="231604"/>
                </a:cubicBezTo>
                <a:cubicBezTo>
                  <a:pt x="434240" y="127070"/>
                  <a:pt x="583275" y="52667"/>
                  <a:pt x="748157" y="19413"/>
                </a:cubicBezTo>
                <a:close/>
                <a:moveTo>
                  <a:pt x="1137621" y="18543"/>
                </a:moveTo>
                <a:cubicBezTo>
                  <a:pt x="1297904" y="50310"/>
                  <a:pt x="1443338" y="120918"/>
                  <a:pt x="1562575" y="219802"/>
                </a:cubicBezTo>
                <a:cubicBezTo>
                  <a:pt x="1512842" y="265093"/>
                  <a:pt x="1453308" y="302843"/>
                  <a:pt x="1386970" y="332857"/>
                </a:cubicBezTo>
                <a:cubicBezTo>
                  <a:pt x="1323718" y="199817"/>
                  <a:pt x="1237626" y="91674"/>
                  <a:pt x="1137621" y="18543"/>
                </a:cubicBezTo>
                <a:close/>
                <a:moveTo>
                  <a:pt x="900586" y="1702"/>
                </a:moveTo>
                <a:lnTo>
                  <a:pt x="900586" y="430269"/>
                </a:lnTo>
                <a:cubicBezTo>
                  <a:pt x="778345" y="428899"/>
                  <a:pt x="662774" y="406468"/>
                  <a:pt x="560047" y="366408"/>
                </a:cubicBezTo>
                <a:cubicBezTo>
                  <a:pt x="637783" y="193348"/>
                  <a:pt x="753999" y="63227"/>
                  <a:pt x="890213" y="2203"/>
                </a:cubicBezTo>
                <a:lnTo>
                  <a:pt x="900586" y="1702"/>
                </a:lnTo>
                <a:close/>
                <a:moveTo>
                  <a:pt x="953521" y="0"/>
                </a:moveTo>
                <a:lnTo>
                  <a:pt x="981035" y="1330"/>
                </a:lnTo>
                <a:cubicBezTo>
                  <a:pt x="1124068" y="53565"/>
                  <a:pt x="1247786" y="180867"/>
                  <a:pt x="1332000" y="354889"/>
                </a:cubicBezTo>
                <a:cubicBezTo>
                  <a:pt x="1219743" y="403080"/>
                  <a:pt x="1090709" y="429800"/>
                  <a:pt x="953521" y="430954"/>
                </a:cubicBezTo>
                <a:lnTo>
                  <a:pt x="953521" y="0"/>
                </a:lnTo>
                <a:close/>
              </a:path>
            </a:pathLst>
          </a:cu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文本框 4"/>
          <p:cNvSpPr/>
          <p:nvPr/>
        </p:nvSpPr>
        <p:spPr>
          <a:xfrm>
            <a:off x="896760" y="18108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工作陈述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44546a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61B83-3070-4A59-BE0A-72357BB3AC2E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04:47:55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日期占位符 3"/>
          <p:cNvSpPr/>
          <p:nvPr/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3A1E0-7277-4A0C-98DF-255D0126745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2"/>
          <p:cNvSpPr/>
          <p:nvPr/>
        </p:nvSpPr>
        <p:spPr>
          <a:xfrm flipH="1">
            <a:off x="3927600" y="1685880"/>
            <a:ext cx="6702480" cy="6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3"/>
          <p:cNvSpPr/>
          <p:nvPr/>
        </p:nvSpPr>
        <p:spPr>
          <a:xfrm flipH="1">
            <a:off x="4427280" y="3365640"/>
            <a:ext cx="6165720" cy="6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4"/>
          <p:cNvSpPr/>
          <p:nvPr/>
        </p:nvSpPr>
        <p:spPr>
          <a:xfrm flipH="1">
            <a:off x="4040280" y="4803840"/>
            <a:ext cx="6564240" cy="7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5" descr="图片4"/>
          <p:cNvPicPr/>
          <p:nvPr/>
        </p:nvPicPr>
        <p:blipFill>
          <a:blip r:embed="rId1"/>
          <a:stretch/>
        </p:blipFill>
        <p:spPr>
          <a:xfrm>
            <a:off x="679320" y="1663560"/>
            <a:ext cx="3598920" cy="3605400"/>
          </a:xfrm>
          <a:prstGeom prst="rect">
            <a:avLst/>
          </a:prstGeom>
          <a:ln w="0">
            <a:noFill/>
          </a:ln>
        </p:spPr>
      </p:pic>
      <p:sp>
        <p:nvSpPr>
          <p:cNvPr id="447" name="文本框 21"/>
          <p:cNvSpPr/>
          <p:nvPr/>
        </p:nvSpPr>
        <p:spPr>
          <a:xfrm>
            <a:off x="1033200" y="260208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文本框 21"/>
          <p:cNvSpPr/>
          <p:nvPr/>
        </p:nvSpPr>
        <p:spPr>
          <a:xfrm>
            <a:off x="3371760" y="223344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文本框 21"/>
          <p:cNvSpPr/>
          <p:nvPr/>
        </p:nvSpPr>
        <p:spPr>
          <a:xfrm>
            <a:off x="2601720" y="444960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文本框 21"/>
          <p:cNvSpPr/>
          <p:nvPr/>
        </p:nvSpPr>
        <p:spPr>
          <a:xfrm>
            <a:off x="1969920" y="455940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文本框 21"/>
          <p:cNvSpPr/>
          <p:nvPr/>
        </p:nvSpPr>
        <p:spPr>
          <a:xfrm>
            <a:off x="4721400" y="1225440"/>
            <a:ext cx="171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花边圆形2 702"/>
          <p:cNvSpPr/>
          <p:nvPr/>
        </p:nvSpPr>
        <p:spPr>
          <a:xfrm flipV="1">
            <a:off x="1692360" y="2724120"/>
            <a:ext cx="1527120" cy="1525680"/>
          </a:xfrm>
          <a:custGeom>
            <a:avLst/>
            <a:gdLst/>
            <a:ahLst/>
            <a:rect l="l" t="t" r="r" b="b"/>
            <a:pathLst>
              <a:path w="2587436" h="2587437">
                <a:moveTo>
                  <a:pt x="1293718" y="105586"/>
                </a:moveTo>
                <a:cubicBezTo>
                  <a:pt x="637531" y="105586"/>
                  <a:pt x="105586" y="637531"/>
                  <a:pt x="105586" y="1293718"/>
                </a:cubicBezTo>
                <a:cubicBezTo>
                  <a:pt x="105586" y="1949905"/>
                  <a:pt x="637531" y="2481850"/>
                  <a:pt x="1293718" y="2481850"/>
                </a:cubicBezTo>
                <a:cubicBezTo>
                  <a:pt x="1949905" y="2481850"/>
                  <a:pt x="2481850" y="1949905"/>
                  <a:pt x="2481850" y="1293718"/>
                </a:cubicBezTo>
                <a:cubicBezTo>
                  <a:pt x="2481850" y="637531"/>
                  <a:pt x="1949905" y="105586"/>
                  <a:pt x="1293718" y="105586"/>
                </a:cubicBezTo>
                <a:close/>
                <a:moveTo>
                  <a:pt x="1178351" y="781"/>
                </a:moveTo>
                <a:cubicBezTo>
                  <a:pt x="1220450" y="-5049"/>
                  <a:pt x="1268508" y="21422"/>
                  <a:pt x="1293718" y="92011"/>
                </a:cubicBezTo>
                <a:cubicBezTo>
                  <a:pt x="1318929" y="21422"/>
                  <a:pt x="1366986" y="-5049"/>
                  <a:pt x="1409085" y="781"/>
                </a:cubicBezTo>
                <a:cubicBezTo>
                  <a:pt x="1434345" y="4279"/>
                  <a:pt x="1457459" y="19405"/>
                  <a:pt x="1472207" y="43607"/>
                </a:cubicBezTo>
                <a:lnTo>
                  <a:pt x="1484604" y="88506"/>
                </a:lnTo>
                <a:lnTo>
                  <a:pt x="1510269" y="49635"/>
                </a:lnTo>
                <a:cubicBezTo>
                  <a:pt x="1567616" y="408"/>
                  <a:pt x="1661604" y="30947"/>
                  <a:pt x="1665065" y="150827"/>
                </a:cubicBezTo>
                <a:cubicBezTo>
                  <a:pt x="1738329" y="55877"/>
                  <a:pt x="1832316" y="86415"/>
                  <a:pt x="1849776" y="159948"/>
                </a:cubicBezTo>
                <a:lnTo>
                  <a:pt x="1847820" y="203618"/>
                </a:lnTo>
                <a:lnTo>
                  <a:pt x="1858676" y="192501"/>
                </a:lnTo>
                <a:cubicBezTo>
                  <a:pt x="1932101" y="134716"/>
                  <a:pt x="2038035" y="192050"/>
                  <a:pt x="2000063" y="321517"/>
                </a:cubicBezTo>
                <a:cubicBezTo>
                  <a:pt x="2099082" y="253854"/>
                  <a:pt x="2179033" y="311942"/>
                  <a:pt x="2172915" y="387271"/>
                </a:cubicBezTo>
                <a:lnTo>
                  <a:pt x="2157560" y="428199"/>
                </a:lnTo>
                <a:lnTo>
                  <a:pt x="2171320" y="420980"/>
                </a:lnTo>
                <a:cubicBezTo>
                  <a:pt x="2259007" y="388713"/>
                  <a:pt x="2342040" y="475977"/>
                  <a:pt x="2265919" y="587373"/>
                </a:cubicBezTo>
                <a:cubicBezTo>
                  <a:pt x="2381000" y="553620"/>
                  <a:pt x="2439088" y="633571"/>
                  <a:pt x="2409992" y="703323"/>
                </a:cubicBezTo>
                <a:lnTo>
                  <a:pt x="2382741" y="737503"/>
                </a:lnTo>
                <a:lnTo>
                  <a:pt x="2398059" y="734889"/>
                </a:lnTo>
                <a:cubicBezTo>
                  <a:pt x="2491425" y="731298"/>
                  <a:pt x="2543428" y="839949"/>
                  <a:pt x="2436609" y="922371"/>
                </a:cubicBezTo>
                <a:cubicBezTo>
                  <a:pt x="2556489" y="925832"/>
                  <a:pt x="2587027" y="1019820"/>
                  <a:pt x="2537801" y="1077167"/>
                </a:cubicBezTo>
                <a:lnTo>
                  <a:pt x="2501321" y="1101253"/>
                </a:lnTo>
                <a:lnTo>
                  <a:pt x="2516697" y="1103501"/>
                </a:lnTo>
                <a:cubicBezTo>
                  <a:pt x="2606603" y="1128937"/>
                  <a:pt x="2622486" y="1248340"/>
                  <a:pt x="2495425" y="1293719"/>
                </a:cubicBezTo>
                <a:cubicBezTo>
                  <a:pt x="2608368" y="1334056"/>
                  <a:pt x="2608368" y="1432880"/>
                  <a:pt x="2543829" y="1472208"/>
                </a:cubicBezTo>
                <a:lnTo>
                  <a:pt x="2498930" y="1484605"/>
                </a:lnTo>
                <a:lnTo>
                  <a:pt x="2537800" y="1510270"/>
                </a:lnTo>
                <a:cubicBezTo>
                  <a:pt x="2587027" y="1567617"/>
                  <a:pt x="2556488" y="1661605"/>
                  <a:pt x="2436609" y="1665066"/>
                </a:cubicBezTo>
                <a:cubicBezTo>
                  <a:pt x="2531559" y="1738330"/>
                  <a:pt x="2501021" y="1832318"/>
                  <a:pt x="2427488" y="1849777"/>
                </a:cubicBezTo>
                <a:lnTo>
                  <a:pt x="2383816" y="1847821"/>
                </a:lnTo>
                <a:lnTo>
                  <a:pt x="2394935" y="1858678"/>
                </a:lnTo>
                <a:cubicBezTo>
                  <a:pt x="2452719" y="1932103"/>
                  <a:pt x="2395386" y="2038037"/>
                  <a:pt x="2265918" y="2000065"/>
                </a:cubicBezTo>
                <a:cubicBezTo>
                  <a:pt x="2333581" y="2099084"/>
                  <a:pt x="2275494" y="2179035"/>
                  <a:pt x="2200165" y="2172917"/>
                </a:cubicBezTo>
                <a:lnTo>
                  <a:pt x="2159237" y="2157562"/>
                </a:lnTo>
                <a:lnTo>
                  <a:pt x="2166455" y="2171321"/>
                </a:lnTo>
                <a:cubicBezTo>
                  <a:pt x="2198722" y="2259008"/>
                  <a:pt x="2111459" y="2342041"/>
                  <a:pt x="2000062" y="2265920"/>
                </a:cubicBezTo>
                <a:cubicBezTo>
                  <a:pt x="2033815" y="2381001"/>
                  <a:pt x="1953865" y="2439089"/>
                  <a:pt x="1884113" y="2409993"/>
                </a:cubicBezTo>
                <a:lnTo>
                  <a:pt x="1849933" y="2382742"/>
                </a:lnTo>
                <a:lnTo>
                  <a:pt x="1852546" y="2398060"/>
                </a:lnTo>
                <a:cubicBezTo>
                  <a:pt x="1856137" y="2491426"/>
                  <a:pt x="1747486" y="2543429"/>
                  <a:pt x="1665064" y="2436610"/>
                </a:cubicBezTo>
                <a:cubicBezTo>
                  <a:pt x="1661603" y="2556490"/>
                  <a:pt x="1567616" y="2587028"/>
                  <a:pt x="1510269" y="2537802"/>
                </a:cubicBezTo>
                <a:lnTo>
                  <a:pt x="1486184" y="2501323"/>
                </a:lnTo>
                <a:lnTo>
                  <a:pt x="1483936" y="2516698"/>
                </a:lnTo>
                <a:cubicBezTo>
                  <a:pt x="1458499" y="2606604"/>
                  <a:pt x="1339096" y="2622487"/>
                  <a:pt x="1293717" y="2495426"/>
                </a:cubicBezTo>
                <a:cubicBezTo>
                  <a:pt x="1248339" y="2622487"/>
                  <a:pt x="1128936" y="2606604"/>
                  <a:pt x="1103499" y="2516698"/>
                </a:cubicBezTo>
                <a:lnTo>
                  <a:pt x="1101252" y="2501322"/>
                </a:lnTo>
                <a:lnTo>
                  <a:pt x="1077165" y="2537801"/>
                </a:lnTo>
                <a:cubicBezTo>
                  <a:pt x="1019818" y="2587028"/>
                  <a:pt x="925830" y="2556489"/>
                  <a:pt x="922369" y="2436610"/>
                </a:cubicBezTo>
                <a:cubicBezTo>
                  <a:pt x="839947" y="2543429"/>
                  <a:pt x="731297" y="2491426"/>
                  <a:pt x="734888" y="2398060"/>
                </a:cubicBezTo>
                <a:lnTo>
                  <a:pt x="737501" y="2382741"/>
                </a:lnTo>
                <a:lnTo>
                  <a:pt x="703321" y="2409993"/>
                </a:lnTo>
                <a:cubicBezTo>
                  <a:pt x="633569" y="2439089"/>
                  <a:pt x="553618" y="2381001"/>
                  <a:pt x="587371" y="2265919"/>
                </a:cubicBezTo>
                <a:cubicBezTo>
                  <a:pt x="475975" y="2342040"/>
                  <a:pt x="388712" y="2259008"/>
                  <a:pt x="420978" y="2171321"/>
                </a:cubicBezTo>
                <a:lnTo>
                  <a:pt x="426346" y="2161089"/>
                </a:lnTo>
                <a:lnTo>
                  <a:pt x="416114" y="2166457"/>
                </a:lnTo>
                <a:cubicBezTo>
                  <a:pt x="328427" y="2198724"/>
                  <a:pt x="245394" y="2111461"/>
                  <a:pt x="321515" y="2000064"/>
                </a:cubicBezTo>
                <a:cubicBezTo>
                  <a:pt x="192048" y="2038036"/>
                  <a:pt x="134715" y="1932102"/>
                  <a:pt x="192499" y="1858678"/>
                </a:cubicBezTo>
                <a:lnTo>
                  <a:pt x="200768" y="1850603"/>
                </a:lnTo>
                <a:lnTo>
                  <a:pt x="189375" y="1852547"/>
                </a:lnTo>
                <a:cubicBezTo>
                  <a:pt x="96009" y="1856138"/>
                  <a:pt x="44006" y="1747487"/>
                  <a:pt x="150825" y="1665065"/>
                </a:cubicBezTo>
                <a:cubicBezTo>
                  <a:pt x="30946" y="1661604"/>
                  <a:pt x="407" y="1567617"/>
                  <a:pt x="49634" y="1510270"/>
                </a:cubicBezTo>
                <a:lnTo>
                  <a:pt x="86113" y="1486184"/>
                </a:lnTo>
                <a:lnTo>
                  <a:pt x="70739" y="1483937"/>
                </a:lnTo>
                <a:cubicBezTo>
                  <a:pt x="-19168" y="1458500"/>
                  <a:pt x="-35050" y="1339097"/>
                  <a:pt x="92010" y="1293718"/>
                </a:cubicBezTo>
                <a:cubicBezTo>
                  <a:pt x="-35050" y="1248340"/>
                  <a:pt x="-19168" y="1128937"/>
                  <a:pt x="70739" y="1103500"/>
                </a:cubicBezTo>
                <a:lnTo>
                  <a:pt x="86114" y="1101253"/>
                </a:lnTo>
                <a:lnTo>
                  <a:pt x="49634" y="1077166"/>
                </a:lnTo>
                <a:cubicBezTo>
                  <a:pt x="407" y="1019820"/>
                  <a:pt x="30946" y="925832"/>
                  <a:pt x="150825" y="922370"/>
                </a:cubicBezTo>
                <a:cubicBezTo>
                  <a:pt x="44006" y="839949"/>
                  <a:pt x="96009" y="731298"/>
                  <a:pt x="189375" y="734889"/>
                </a:cubicBezTo>
                <a:lnTo>
                  <a:pt x="200767" y="736833"/>
                </a:lnTo>
                <a:lnTo>
                  <a:pt x="192499" y="728759"/>
                </a:lnTo>
                <a:cubicBezTo>
                  <a:pt x="134715" y="655335"/>
                  <a:pt x="192049" y="549401"/>
                  <a:pt x="321516" y="587372"/>
                </a:cubicBezTo>
                <a:cubicBezTo>
                  <a:pt x="245395" y="475976"/>
                  <a:pt x="328427" y="388713"/>
                  <a:pt x="416114" y="420980"/>
                </a:cubicBezTo>
                <a:lnTo>
                  <a:pt x="426347" y="426349"/>
                </a:lnTo>
                <a:lnTo>
                  <a:pt x="420979" y="416115"/>
                </a:lnTo>
                <a:cubicBezTo>
                  <a:pt x="388712" y="328428"/>
                  <a:pt x="475975" y="245396"/>
                  <a:pt x="587372" y="321517"/>
                </a:cubicBezTo>
                <a:cubicBezTo>
                  <a:pt x="549400" y="192050"/>
                  <a:pt x="655334" y="134716"/>
                  <a:pt x="728758" y="192500"/>
                </a:cubicBezTo>
                <a:lnTo>
                  <a:pt x="736832" y="200768"/>
                </a:lnTo>
                <a:lnTo>
                  <a:pt x="734888" y="189377"/>
                </a:lnTo>
                <a:cubicBezTo>
                  <a:pt x="731297" y="96010"/>
                  <a:pt x="839948" y="44008"/>
                  <a:pt x="922370" y="150826"/>
                </a:cubicBezTo>
                <a:cubicBezTo>
                  <a:pt x="925831" y="30947"/>
                  <a:pt x="1019818" y="408"/>
                  <a:pt x="1077165" y="49635"/>
                </a:cubicBezTo>
                <a:lnTo>
                  <a:pt x="1101686" y="86772"/>
                </a:lnTo>
                <a:lnTo>
                  <a:pt x="1102495" y="74529"/>
                </a:lnTo>
                <a:cubicBezTo>
                  <a:pt x="1112942" y="32385"/>
                  <a:pt x="1143619" y="5591"/>
                  <a:pt x="1178351" y="78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文本框 21"/>
          <p:cNvSpPr/>
          <p:nvPr/>
        </p:nvSpPr>
        <p:spPr>
          <a:xfrm>
            <a:off x="2065320" y="3078000"/>
            <a:ext cx="88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文本框 21"/>
          <p:cNvSpPr/>
          <p:nvPr/>
        </p:nvSpPr>
        <p:spPr>
          <a:xfrm>
            <a:off x="5153040" y="2913120"/>
            <a:ext cx="171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文本框 21"/>
          <p:cNvSpPr/>
          <p:nvPr/>
        </p:nvSpPr>
        <p:spPr>
          <a:xfrm>
            <a:off x="4459320" y="4349880"/>
            <a:ext cx="171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5"/>
          <p:cNvSpPr/>
          <p:nvPr/>
        </p:nvSpPr>
        <p:spPr>
          <a:xfrm>
            <a:off x="4676760" y="1744560"/>
            <a:ext cx="5854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16"/>
          <p:cNvSpPr/>
          <p:nvPr/>
        </p:nvSpPr>
        <p:spPr>
          <a:xfrm>
            <a:off x="5172120" y="3371760"/>
            <a:ext cx="5311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17"/>
          <p:cNvSpPr/>
          <p:nvPr/>
        </p:nvSpPr>
        <p:spPr>
          <a:xfrm>
            <a:off x="4519440" y="4815000"/>
            <a:ext cx="6000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网络 509"/>
          <p:cNvSpPr/>
          <p:nvPr/>
        </p:nvSpPr>
        <p:spPr>
          <a:xfrm flipV="1">
            <a:off x="317520" y="180720"/>
            <a:ext cx="482760" cy="482400"/>
          </a:xfrm>
          <a:custGeom>
            <a:avLst/>
            <a:gdLst/>
            <a:ahLst/>
            <a:rect l="l" t="t" r="r" b="b"/>
            <a:pathLst>
              <a:path w="1889279" h="1810503">
                <a:moveTo>
                  <a:pt x="1408636" y="1462945"/>
                </a:moveTo>
                <a:cubicBezTo>
                  <a:pt x="1471912" y="1494489"/>
                  <a:pt x="1528819" y="1532588"/>
                  <a:pt x="1575786" y="1578162"/>
                </a:cubicBezTo>
                <a:cubicBezTo>
                  <a:pt x="1467281" y="1672800"/>
                  <a:pt x="1335058" y="1742507"/>
                  <a:pt x="1188886" y="1779443"/>
                </a:cubicBezTo>
                <a:cubicBezTo>
                  <a:pt x="1278166" y="1700386"/>
                  <a:pt x="1353810" y="1592053"/>
                  <a:pt x="1408636" y="1462945"/>
                </a:cubicBezTo>
                <a:close/>
                <a:moveTo>
                  <a:pt x="494888" y="1445849"/>
                </a:moveTo>
                <a:cubicBezTo>
                  <a:pt x="556747" y="1590569"/>
                  <a:pt x="643865" y="1709702"/>
                  <a:pt x="747068" y="1790925"/>
                </a:cubicBezTo>
                <a:cubicBezTo>
                  <a:pt x="576321" y="1756303"/>
                  <a:pt x="422614" y="1677538"/>
                  <a:pt x="300900" y="1566189"/>
                </a:cubicBezTo>
                <a:cubicBezTo>
                  <a:pt x="355309" y="1517036"/>
                  <a:pt x="421005" y="1476420"/>
                  <a:pt x="494888" y="1445849"/>
                </a:cubicBezTo>
                <a:close/>
                <a:moveTo>
                  <a:pt x="900586" y="1355871"/>
                </a:moveTo>
                <a:lnTo>
                  <a:pt x="900586" y="1808904"/>
                </a:lnTo>
                <a:lnTo>
                  <a:pt x="884222" y="1808113"/>
                </a:lnTo>
                <a:cubicBezTo>
                  <a:pt x="745280" y="1742581"/>
                  <a:pt x="627378" y="1604992"/>
                  <a:pt x="551037" y="1423344"/>
                </a:cubicBezTo>
                <a:cubicBezTo>
                  <a:pt x="655969" y="1381011"/>
                  <a:pt x="774745" y="1357337"/>
                  <a:pt x="900586" y="1355871"/>
                </a:cubicBezTo>
                <a:close/>
                <a:moveTo>
                  <a:pt x="953521" y="1355186"/>
                </a:moveTo>
                <a:cubicBezTo>
                  <a:pt x="1099660" y="1356509"/>
                  <a:pt x="1236550" y="1386650"/>
                  <a:pt x="1354036" y="1440083"/>
                </a:cubicBezTo>
                <a:cubicBezTo>
                  <a:pt x="1283551" y="1605630"/>
                  <a:pt x="1178611" y="1734316"/>
                  <a:pt x="1054486" y="1804443"/>
                </a:cubicBezTo>
                <a:lnTo>
                  <a:pt x="953521" y="1810503"/>
                </a:lnTo>
                <a:lnTo>
                  <a:pt x="953521" y="1355186"/>
                </a:lnTo>
                <a:close/>
                <a:moveTo>
                  <a:pt x="1517159" y="931303"/>
                </a:moveTo>
                <a:lnTo>
                  <a:pt x="1889279" y="931303"/>
                </a:lnTo>
                <a:cubicBezTo>
                  <a:pt x="1883282" y="1167646"/>
                  <a:pt x="1781715" y="1381244"/>
                  <a:pt x="1618873" y="1536894"/>
                </a:cubicBezTo>
                <a:cubicBezTo>
                  <a:pt x="1566437" y="1485571"/>
                  <a:pt x="1502786" y="1442774"/>
                  <a:pt x="1431939" y="1407715"/>
                </a:cubicBezTo>
                <a:cubicBezTo>
                  <a:pt x="1485774" y="1266553"/>
                  <a:pt x="1516428" y="1104135"/>
                  <a:pt x="1517159" y="931303"/>
                </a:cubicBezTo>
                <a:close/>
                <a:moveTo>
                  <a:pt x="953521" y="931303"/>
                </a:moveTo>
                <a:lnTo>
                  <a:pt x="1456842" y="931303"/>
                </a:lnTo>
                <a:cubicBezTo>
                  <a:pt x="1456123" y="1096196"/>
                  <a:pt x="1427268" y="1250986"/>
                  <a:pt x="1375819" y="1384691"/>
                </a:cubicBezTo>
                <a:cubicBezTo>
                  <a:pt x="1251537" y="1327928"/>
                  <a:pt x="1107288" y="1296191"/>
                  <a:pt x="953521" y="1294902"/>
                </a:cubicBezTo>
                <a:lnTo>
                  <a:pt x="953521" y="931303"/>
                </a:lnTo>
                <a:close/>
                <a:moveTo>
                  <a:pt x="448568" y="931303"/>
                </a:moveTo>
                <a:lnTo>
                  <a:pt x="900586" y="931303"/>
                </a:lnTo>
                <a:lnTo>
                  <a:pt x="900586" y="1295603"/>
                </a:lnTo>
                <a:cubicBezTo>
                  <a:pt x="766605" y="1297053"/>
                  <a:pt x="640053" y="1322469"/>
                  <a:pt x="528061" y="1368046"/>
                </a:cubicBezTo>
                <a:cubicBezTo>
                  <a:pt x="478984" y="1238632"/>
                  <a:pt x="450499" y="1089843"/>
                  <a:pt x="448568" y="931303"/>
                </a:cubicBezTo>
                <a:close/>
                <a:moveTo>
                  <a:pt x="0" y="931303"/>
                </a:moveTo>
                <a:lnTo>
                  <a:pt x="388264" y="931303"/>
                </a:lnTo>
                <a:cubicBezTo>
                  <a:pt x="390220" y="1097785"/>
                  <a:pt x="420532" y="1254193"/>
                  <a:pt x="473139" y="1390578"/>
                </a:cubicBezTo>
                <a:cubicBezTo>
                  <a:pt x="391203" y="1423988"/>
                  <a:pt x="318506" y="1469260"/>
                  <a:pt x="258353" y="1524144"/>
                </a:cubicBezTo>
                <a:cubicBezTo>
                  <a:pt x="102364" y="1370026"/>
                  <a:pt x="5849" y="1161456"/>
                  <a:pt x="0" y="931303"/>
                </a:cubicBezTo>
                <a:close/>
                <a:moveTo>
                  <a:pt x="536834" y="421694"/>
                </a:moveTo>
                <a:cubicBezTo>
                  <a:pt x="646682" y="464986"/>
                  <a:pt x="770110" y="489176"/>
                  <a:pt x="900586" y="490537"/>
                </a:cubicBezTo>
                <a:lnTo>
                  <a:pt x="900586" y="875390"/>
                </a:lnTo>
                <a:lnTo>
                  <a:pt x="448805" y="875390"/>
                </a:lnTo>
                <a:cubicBezTo>
                  <a:pt x="451150" y="709592"/>
                  <a:pt x="482649" y="554587"/>
                  <a:pt x="536834" y="421694"/>
                </a:cubicBezTo>
                <a:close/>
                <a:moveTo>
                  <a:pt x="1356131" y="409527"/>
                </a:moveTo>
                <a:cubicBezTo>
                  <a:pt x="1415590" y="544412"/>
                  <a:pt x="1451132" y="703874"/>
                  <a:pt x="1455052" y="875390"/>
                </a:cubicBezTo>
                <a:lnTo>
                  <a:pt x="953521" y="875390"/>
                </a:lnTo>
                <a:lnTo>
                  <a:pt x="953521" y="491238"/>
                </a:lnTo>
                <a:cubicBezTo>
                  <a:pt x="1099303" y="490092"/>
                  <a:pt x="1236528" y="461431"/>
                  <a:pt x="1356131" y="409527"/>
                </a:cubicBezTo>
                <a:close/>
                <a:moveTo>
                  <a:pt x="271202" y="273767"/>
                </a:moveTo>
                <a:cubicBezTo>
                  <a:pt x="330895" y="324894"/>
                  <a:pt x="401533" y="367494"/>
                  <a:pt x="480768" y="398692"/>
                </a:cubicBezTo>
                <a:cubicBezTo>
                  <a:pt x="424147" y="539118"/>
                  <a:pt x="390867" y="701724"/>
                  <a:pt x="388496" y="875390"/>
                </a:cubicBezTo>
                <a:lnTo>
                  <a:pt x="238" y="875390"/>
                </a:lnTo>
                <a:cubicBezTo>
                  <a:pt x="7162" y="640451"/>
                  <a:pt x="108645" y="428248"/>
                  <a:pt x="271202" y="273767"/>
                </a:cubicBezTo>
                <a:close/>
                <a:moveTo>
                  <a:pt x="1605567" y="261436"/>
                </a:moveTo>
                <a:cubicBezTo>
                  <a:pt x="1775300" y="417133"/>
                  <a:pt x="1881942" y="634296"/>
                  <a:pt x="1889035" y="875390"/>
                </a:cubicBezTo>
                <a:lnTo>
                  <a:pt x="1515364" y="875390"/>
                </a:lnTo>
                <a:cubicBezTo>
                  <a:pt x="1511419" y="696081"/>
                  <a:pt x="1474168" y="529014"/>
                  <a:pt x="1413107" y="386152"/>
                </a:cubicBezTo>
                <a:cubicBezTo>
                  <a:pt x="1485941" y="353453"/>
                  <a:pt x="1551126" y="311628"/>
                  <a:pt x="1605567" y="261436"/>
                </a:cubicBezTo>
                <a:close/>
                <a:moveTo>
                  <a:pt x="748157" y="19413"/>
                </a:moveTo>
                <a:cubicBezTo>
                  <a:pt x="649482" y="96557"/>
                  <a:pt x="565491" y="208310"/>
                  <a:pt x="504779" y="344256"/>
                </a:cubicBezTo>
                <a:cubicBezTo>
                  <a:pt x="432706" y="315858"/>
                  <a:pt x="368354" y="277545"/>
                  <a:pt x="313920" y="231604"/>
                </a:cubicBezTo>
                <a:cubicBezTo>
                  <a:pt x="434240" y="127070"/>
                  <a:pt x="583275" y="52667"/>
                  <a:pt x="748157" y="19413"/>
                </a:cubicBezTo>
                <a:close/>
                <a:moveTo>
                  <a:pt x="1137621" y="18543"/>
                </a:moveTo>
                <a:cubicBezTo>
                  <a:pt x="1297904" y="50310"/>
                  <a:pt x="1443338" y="120918"/>
                  <a:pt x="1562575" y="219802"/>
                </a:cubicBezTo>
                <a:cubicBezTo>
                  <a:pt x="1512842" y="265093"/>
                  <a:pt x="1453308" y="302843"/>
                  <a:pt x="1386970" y="332857"/>
                </a:cubicBezTo>
                <a:cubicBezTo>
                  <a:pt x="1323718" y="199817"/>
                  <a:pt x="1237626" y="91674"/>
                  <a:pt x="1137621" y="18543"/>
                </a:cubicBezTo>
                <a:close/>
                <a:moveTo>
                  <a:pt x="900586" y="1702"/>
                </a:moveTo>
                <a:lnTo>
                  <a:pt x="900586" y="430269"/>
                </a:lnTo>
                <a:cubicBezTo>
                  <a:pt x="778345" y="428899"/>
                  <a:pt x="662774" y="406468"/>
                  <a:pt x="560047" y="366408"/>
                </a:cubicBezTo>
                <a:cubicBezTo>
                  <a:pt x="637783" y="193348"/>
                  <a:pt x="753999" y="63227"/>
                  <a:pt x="890213" y="2203"/>
                </a:cubicBezTo>
                <a:lnTo>
                  <a:pt x="900586" y="1702"/>
                </a:lnTo>
                <a:close/>
                <a:moveTo>
                  <a:pt x="953521" y="0"/>
                </a:moveTo>
                <a:lnTo>
                  <a:pt x="981035" y="1330"/>
                </a:lnTo>
                <a:cubicBezTo>
                  <a:pt x="1124068" y="53565"/>
                  <a:pt x="1247786" y="180867"/>
                  <a:pt x="1332000" y="354889"/>
                </a:cubicBezTo>
                <a:cubicBezTo>
                  <a:pt x="1219743" y="403080"/>
                  <a:pt x="1090709" y="429800"/>
                  <a:pt x="953521" y="430954"/>
                </a:cubicBezTo>
                <a:lnTo>
                  <a:pt x="953521" y="0"/>
                </a:lnTo>
                <a:close/>
              </a:path>
            </a:pathLst>
          </a:cu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文本框 4"/>
          <p:cNvSpPr/>
          <p:nvPr/>
        </p:nvSpPr>
        <p:spPr>
          <a:xfrm>
            <a:off x="896760" y="18108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工作陈述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44546a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F611C-676D-4C05-AE5C-20A86E80E902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04:47:55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2"/>
          <p:cNvSpPr/>
          <p:nvPr/>
        </p:nvSpPr>
        <p:spPr>
          <a:xfrm>
            <a:off x="1440000" y="1031760"/>
            <a:ext cx="937080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网络 509"/>
          <p:cNvSpPr/>
          <p:nvPr/>
        </p:nvSpPr>
        <p:spPr>
          <a:xfrm flipV="1">
            <a:off x="317520" y="180720"/>
            <a:ext cx="482760" cy="482400"/>
          </a:xfrm>
          <a:custGeom>
            <a:avLst/>
            <a:gdLst/>
            <a:ahLst/>
            <a:rect l="l" t="t" r="r" b="b"/>
            <a:pathLst>
              <a:path w="1889279" h="1810503">
                <a:moveTo>
                  <a:pt x="1408636" y="1462945"/>
                </a:moveTo>
                <a:cubicBezTo>
                  <a:pt x="1471912" y="1494489"/>
                  <a:pt x="1528819" y="1532588"/>
                  <a:pt x="1575786" y="1578162"/>
                </a:cubicBezTo>
                <a:cubicBezTo>
                  <a:pt x="1467281" y="1672800"/>
                  <a:pt x="1335058" y="1742507"/>
                  <a:pt x="1188886" y="1779443"/>
                </a:cubicBezTo>
                <a:cubicBezTo>
                  <a:pt x="1278166" y="1700386"/>
                  <a:pt x="1353810" y="1592053"/>
                  <a:pt x="1408636" y="1462945"/>
                </a:cubicBezTo>
                <a:close/>
                <a:moveTo>
                  <a:pt x="494888" y="1445849"/>
                </a:moveTo>
                <a:cubicBezTo>
                  <a:pt x="556747" y="1590569"/>
                  <a:pt x="643865" y="1709702"/>
                  <a:pt x="747068" y="1790925"/>
                </a:cubicBezTo>
                <a:cubicBezTo>
                  <a:pt x="576321" y="1756303"/>
                  <a:pt x="422614" y="1677538"/>
                  <a:pt x="300900" y="1566189"/>
                </a:cubicBezTo>
                <a:cubicBezTo>
                  <a:pt x="355309" y="1517036"/>
                  <a:pt x="421005" y="1476420"/>
                  <a:pt x="494888" y="1445849"/>
                </a:cubicBezTo>
                <a:close/>
                <a:moveTo>
                  <a:pt x="900586" y="1355871"/>
                </a:moveTo>
                <a:lnTo>
                  <a:pt x="900586" y="1808904"/>
                </a:lnTo>
                <a:lnTo>
                  <a:pt x="884222" y="1808113"/>
                </a:lnTo>
                <a:cubicBezTo>
                  <a:pt x="745280" y="1742581"/>
                  <a:pt x="627378" y="1604992"/>
                  <a:pt x="551037" y="1423344"/>
                </a:cubicBezTo>
                <a:cubicBezTo>
                  <a:pt x="655969" y="1381011"/>
                  <a:pt x="774745" y="1357337"/>
                  <a:pt x="900586" y="1355871"/>
                </a:cubicBezTo>
                <a:close/>
                <a:moveTo>
                  <a:pt x="953521" y="1355186"/>
                </a:moveTo>
                <a:cubicBezTo>
                  <a:pt x="1099660" y="1356509"/>
                  <a:pt x="1236550" y="1386650"/>
                  <a:pt x="1354036" y="1440083"/>
                </a:cubicBezTo>
                <a:cubicBezTo>
                  <a:pt x="1283551" y="1605630"/>
                  <a:pt x="1178611" y="1734316"/>
                  <a:pt x="1054486" y="1804443"/>
                </a:cubicBezTo>
                <a:lnTo>
                  <a:pt x="953521" y="1810503"/>
                </a:lnTo>
                <a:lnTo>
                  <a:pt x="953521" y="1355186"/>
                </a:lnTo>
                <a:close/>
                <a:moveTo>
                  <a:pt x="1517159" y="931303"/>
                </a:moveTo>
                <a:lnTo>
                  <a:pt x="1889279" y="931303"/>
                </a:lnTo>
                <a:cubicBezTo>
                  <a:pt x="1883282" y="1167646"/>
                  <a:pt x="1781715" y="1381244"/>
                  <a:pt x="1618873" y="1536894"/>
                </a:cubicBezTo>
                <a:cubicBezTo>
                  <a:pt x="1566437" y="1485571"/>
                  <a:pt x="1502786" y="1442774"/>
                  <a:pt x="1431939" y="1407715"/>
                </a:cubicBezTo>
                <a:cubicBezTo>
                  <a:pt x="1485774" y="1266553"/>
                  <a:pt x="1516428" y="1104135"/>
                  <a:pt x="1517159" y="931303"/>
                </a:cubicBezTo>
                <a:close/>
                <a:moveTo>
                  <a:pt x="953521" y="931303"/>
                </a:moveTo>
                <a:lnTo>
                  <a:pt x="1456842" y="931303"/>
                </a:lnTo>
                <a:cubicBezTo>
                  <a:pt x="1456123" y="1096196"/>
                  <a:pt x="1427268" y="1250986"/>
                  <a:pt x="1375819" y="1384691"/>
                </a:cubicBezTo>
                <a:cubicBezTo>
                  <a:pt x="1251537" y="1327928"/>
                  <a:pt x="1107288" y="1296191"/>
                  <a:pt x="953521" y="1294902"/>
                </a:cubicBezTo>
                <a:lnTo>
                  <a:pt x="953521" y="931303"/>
                </a:lnTo>
                <a:close/>
                <a:moveTo>
                  <a:pt x="448568" y="931303"/>
                </a:moveTo>
                <a:lnTo>
                  <a:pt x="900586" y="931303"/>
                </a:lnTo>
                <a:lnTo>
                  <a:pt x="900586" y="1295603"/>
                </a:lnTo>
                <a:cubicBezTo>
                  <a:pt x="766605" y="1297053"/>
                  <a:pt x="640053" y="1322469"/>
                  <a:pt x="528061" y="1368046"/>
                </a:cubicBezTo>
                <a:cubicBezTo>
                  <a:pt x="478984" y="1238632"/>
                  <a:pt x="450499" y="1089843"/>
                  <a:pt x="448568" y="931303"/>
                </a:cubicBezTo>
                <a:close/>
                <a:moveTo>
                  <a:pt x="0" y="931303"/>
                </a:moveTo>
                <a:lnTo>
                  <a:pt x="388264" y="931303"/>
                </a:lnTo>
                <a:cubicBezTo>
                  <a:pt x="390220" y="1097785"/>
                  <a:pt x="420532" y="1254193"/>
                  <a:pt x="473139" y="1390578"/>
                </a:cubicBezTo>
                <a:cubicBezTo>
                  <a:pt x="391203" y="1423988"/>
                  <a:pt x="318506" y="1469260"/>
                  <a:pt x="258353" y="1524144"/>
                </a:cubicBezTo>
                <a:cubicBezTo>
                  <a:pt x="102364" y="1370026"/>
                  <a:pt x="5849" y="1161456"/>
                  <a:pt x="0" y="931303"/>
                </a:cubicBezTo>
                <a:close/>
                <a:moveTo>
                  <a:pt x="536834" y="421694"/>
                </a:moveTo>
                <a:cubicBezTo>
                  <a:pt x="646682" y="464986"/>
                  <a:pt x="770110" y="489176"/>
                  <a:pt x="900586" y="490537"/>
                </a:cubicBezTo>
                <a:lnTo>
                  <a:pt x="900586" y="875390"/>
                </a:lnTo>
                <a:lnTo>
                  <a:pt x="448805" y="875390"/>
                </a:lnTo>
                <a:cubicBezTo>
                  <a:pt x="451150" y="709592"/>
                  <a:pt x="482649" y="554587"/>
                  <a:pt x="536834" y="421694"/>
                </a:cubicBezTo>
                <a:close/>
                <a:moveTo>
                  <a:pt x="1356131" y="409527"/>
                </a:moveTo>
                <a:cubicBezTo>
                  <a:pt x="1415590" y="544412"/>
                  <a:pt x="1451132" y="703874"/>
                  <a:pt x="1455052" y="875390"/>
                </a:cubicBezTo>
                <a:lnTo>
                  <a:pt x="953521" y="875390"/>
                </a:lnTo>
                <a:lnTo>
                  <a:pt x="953521" y="491238"/>
                </a:lnTo>
                <a:cubicBezTo>
                  <a:pt x="1099303" y="490092"/>
                  <a:pt x="1236528" y="461431"/>
                  <a:pt x="1356131" y="409527"/>
                </a:cubicBezTo>
                <a:close/>
                <a:moveTo>
                  <a:pt x="271202" y="273767"/>
                </a:moveTo>
                <a:cubicBezTo>
                  <a:pt x="330895" y="324894"/>
                  <a:pt x="401533" y="367494"/>
                  <a:pt x="480768" y="398692"/>
                </a:cubicBezTo>
                <a:cubicBezTo>
                  <a:pt x="424147" y="539118"/>
                  <a:pt x="390867" y="701724"/>
                  <a:pt x="388496" y="875390"/>
                </a:cubicBezTo>
                <a:lnTo>
                  <a:pt x="238" y="875390"/>
                </a:lnTo>
                <a:cubicBezTo>
                  <a:pt x="7162" y="640451"/>
                  <a:pt x="108645" y="428248"/>
                  <a:pt x="271202" y="273767"/>
                </a:cubicBezTo>
                <a:close/>
                <a:moveTo>
                  <a:pt x="1605567" y="261436"/>
                </a:moveTo>
                <a:cubicBezTo>
                  <a:pt x="1775300" y="417133"/>
                  <a:pt x="1881942" y="634296"/>
                  <a:pt x="1889035" y="875390"/>
                </a:cubicBezTo>
                <a:lnTo>
                  <a:pt x="1515364" y="875390"/>
                </a:lnTo>
                <a:cubicBezTo>
                  <a:pt x="1511419" y="696081"/>
                  <a:pt x="1474168" y="529014"/>
                  <a:pt x="1413107" y="386152"/>
                </a:cubicBezTo>
                <a:cubicBezTo>
                  <a:pt x="1485941" y="353453"/>
                  <a:pt x="1551126" y="311628"/>
                  <a:pt x="1605567" y="261436"/>
                </a:cubicBezTo>
                <a:close/>
                <a:moveTo>
                  <a:pt x="748157" y="19413"/>
                </a:moveTo>
                <a:cubicBezTo>
                  <a:pt x="649482" y="96557"/>
                  <a:pt x="565491" y="208310"/>
                  <a:pt x="504779" y="344256"/>
                </a:cubicBezTo>
                <a:cubicBezTo>
                  <a:pt x="432706" y="315858"/>
                  <a:pt x="368354" y="277545"/>
                  <a:pt x="313920" y="231604"/>
                </a:cubicBezTo>
                <a:cubicBezTo>
                  <a:pt x="434240" y="127070"/>
                  <a:pt x="583275" y="52667"/>
                  <a:pt x="748157" y="19413"/>
                </a:cubicBezTo>
                <a:close/>
                <a:moveTo>
                  <a:pt x="1137621" y="18543"/>
                </a:moveTo>
                <a:cubicBezTo>
                  <a:pt x="1297904" y="50310"/>
                  <a:pt x="1443338" y="120918"/>
                  <a:pt x="1562575" y="219802"/>
                </a:cubicBezTo>
                <a:cubicBezTo>
                  <a:pt x="1512842" y="265093"/>
                  <a:pt x="1453308" y="302843"/>
                  <a:pt x="1386970" y="332857"/>
                </a:cubicBezTo>
                <a:cubicBezTo>
                  <a:pt x="1323718" y="199817"/>
                  <a:pt x="1237626" y="91674"/>
                  <a:pt x="1137621" y="18543"/>
                </a:cubicBezTo>
                <a:close/>
                <a:moveTo>
                  <a:pt x="900586" y="1702"/>
                </a:moveTo>
                <a:lnTo>
                  <a:pt x="900586" y="430269"/>
                </a:lnTo>
                <a:cubicBezTo>
                  <a:pt x="778345" y="428899"/>
                  <a:pt x="662774" y="406468"/>
                  <a:pt x="560047" y="366408"/>
                </a:cubicBezTo>
                <a:cubicBezTo>
                  <a:pt x="637783" y="193348"/>
                  <a:pt x="753999" y="63227"/>
                  <a:pt x="890213" y="2203"/>
                </a:cubicBezTo>
                <a:lnTo>
                  <a:pt x="900586" y="1702"/>
                </a:lnTo>
                <a:close/>
                <a:moveTo>
                  <a:pt x="953521" y="0"/>
                </a:moveTo>
                <a:lnTo>
                  <a:pt x="981035" y="1330"/>
                </a:lnTo>
                <a:cubicBezTo>
                  <a:pt x="1124068" y="53565"/>
                  <a:pt x="1247786" y="180867"/>
                  <a:pt x="1332000" y="354889"/>
                </a:cubicBezTo>
                <a:cubicBezTo>
                  <a:pt x="1219743" y="403080"/>
                  <a:pt x="1090709" y="429800"/>
                  <a:pt x="953521" y="430954"/>
                </a:cubicBezTo>
                <a:lnTo>
                  <a:pt x="953521" y="0"/>
                </a:lnTo>
                <a:close/>
              </a:path>
            </a:pathLst>
          </a:cu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文本框 4"/>
          <p:cNvSpPr/>
          <p:nvPr/>
        </p:nvSpPr>
        <p:spPr>
          <a:xfrm>
            <a:off x="896760" y="181080"/>
            <a:ext cx="350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成果展示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4" descr="图片1"/>
          <p:cNvPicPr/>
          <p:nvPr/>
        </p:nvPicPr>
        <p:blipFill>
          <a:blip r:embed="rId1"/>
          <a:stretch/>
        </p:blipFill>
        <p:spPr>
          <a:xfrm>
            <a:off x="3986280" y="3243240"/>
            <a:ext cx="1376280" cy="1128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D0554-7028-48BD-8754-AC77AFD6B374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04:47:55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网络 509"/>
          <p:cNvSpPr/>
          <p:nvPr/>
        </p:nvSpPr>
        <p:spPr>
          <a:xfrm flipV="1">
            <a:off x="317520" y="180720"/>
            <a:ext cx="482760" cy="482400"/>
          </a:xfrm>
          <a:custGeom>
            <a:avLst/>
            <a:gdLst/>
            <a:ahLst/>
            <a:rect l="l" t="t" r="r" b="b"/>
            <a:pathLst>
              <a:path w="1889279" h="1810503">
                <a:moveTo>
                  <a:pt x="1408636" y="1462945"/>
                </a:moveTo>
                <a:cubicBezTo>
                  <a:pt x="1471912" y="1494489"/>
                  <a:pt x="1528819" y="1532588"/>
                  <a:pt x="1575786" y="1578162"/>
                </a:cubicBezTo>
                <a:cubicBezTo>
                  <a:pt x="1467281" y="1672800"/>
                  <a:pt x="1335058" y="1742507"/>
                  <a:pt x="1188886" y="1779443"/>
                </a:cubicBezTo>
                <a:cubicBezTo>
                  <a:pt x="1278166" y="1700386"/>
                  <a:pt x="1353810" y="1592053"/>
                  <a:pt x="1408636" y="1462945"/>
                </a:cubicBezTo>
                <a:close/>
                <a:moveTo>
                  <a:pt x="494888" y="1445849"/>
                </a:moveTo>
                <a:cubicBezTo>
                  <a:pt x="556747" y="1590569"/>
                  <a:pt x="643865" y="1709702"/>
                  <a:pt x="747068" y="1790925"/>
                </a:cubicBezTo>
                <a:cubicBezTo>
                  <a:pt x="576321" y="1756303"/>
                  <a:pt x="422614" y="1677538"/>
                  <a:pt x="300900" y="1566189"/>
                </a:cubicBezTo>
                <a:cubicBezTo>
                  <a:pt x="355309" y="1517036"/>
                  <a:pt x="421005" y="1476420"/>
                  <a:pt x="494888" y="1445849"/>
                </a:cubicBezTo>
                <a:close/>
                <a:moveTo>
                  <a:pt x="900586" y="1355871"/>
                </a:moveTo>
                <a:lnTo>
                  <a:pt x="900586" y="1808904"/>
                </a:lnTo>
                <a:lnTo>
                  <a:pt x="884222" y="1808113"/>
                </a:lnTo>
                <a:cubicBezTo>
                  <a:pt x="745280" y="1742581"/>
                  <a:pt x="627378" y="1604992"/>
                  <a:pt x="551037" y="1423344"/>
                </a:cubicBezTo>
                <a:cubicBezTo>
                  <a:pt x="655969" y="1381011"/>
                  <a:pt x="774745" y="1357337"/>
                  <a:pt x="900586" y="1355871"/>
                </a:cubicBezTo>
                <a:close/>
                <a:moveTo>
                  <a:pt x="953521" y="1355186"/>
                </a:moveTo>
                <a:cubicBezTo>
                  <a:pt x="1099660" y="1356509"/>
                  <a:pt x="1236550" y="1386650"/>
                  <a:pt x="1354036" y="1440083"/>
                </a:cubicBezTo>
                <a:cubicBezTo>
                  <a:pt x="1283551" y="1605630"/>
                  <a:pt x="1178611" y="1734316"/>
                  <a:pt x="1054486" y="1804443"/>
                </a:cubicBezTo>
                <a:lnTo>
                  <a:pt x="953521" y="1810503"/>
                </a:lnTo>
                <a:lnTo>
                  <a:pt x="953521" y="1355186"/>
                </a:lnTo>
                <a:close/>
                <a:moveTo>
                  <a:pt x="1517159" y="931303"/>
                </a:moveTo>
                <a:lnTo>
                  <a:pt x="1889279" y="931303"/>
                </a:lnTo>
                <a:cubicBezTo>
                  <a:pt x="1883282" y="1167646"/>
                  <a:pt x="1781715" y="1381244"/>
                  <a:pt x="1618873" y="1536894"/>
                </a:cubicBezTo>
                <a:cubicBezTo>
                  <a:pt x="1566437" y="1485571"/>
                  <a:pt x="1502786" y="1442774"/>
                  <a:pt x="1431939" y="1407715"/>
                </a:cubicBezTo>
                <a:cubicBezTo>
                  <a:pt x="1485774" y="1266553"/>
                  <a:pt x="1516428" y="1104135"/>
                  <a:pt x="1517159" y="931303"/>
                </a:cubicBezTo>
                <a:close/>
                <a:moveTo>
                  <a:pt x="953521" y="931303"/>
                </a:moveTo>
                <a:lnTo>
                  <a:pt x="1456842" y="931303"/>
                </a:lnTo>
                <a:cubicBezTo>
                  <a:pt x="1456123" y="1096196"/>
                  <a:pt x="1427268" y="1250986"/>
                  <a:pt x="1375819" y="1384691"/>
                </a:cubicBezTo>
                <a:cubicBezTo>
                  <a:pt x="1251537" y="1327928"/>
                  <a:pt x="1107288" y="1296191"/>
                  <a:pt x="953521" y="1294902"/>
                </a:cubicBezTo>
                <a:lnTo>
                  <a:pt x="953521" y="931303"/>
                </a:lnTo>
                <a:close/>
                <a:moveTo>
                  <a:pt x="448568" y="931303"/>
                </a:moveTo>
                <a:lnTo>
                  <a:pt x="900586" y="931303"/>
                </a:lnTo>
                <a:lnTo>
                  <a:pt x="900586" y="1295603"/>
                </a:lnTo>
                <a:cubicBezTo>
                  <a:pt x="766605" y="1297053"/>
                  <a:pt x="640053" y="1322469"/>
                  <a:pt x="528061" y="1368046"/>
                </a:cubicBezTo>
                <a:cubicBezTo>
                  <a:pt x="478984" y="1238632"/>
                  <a:pt x="450499" y="1089843"/>
                  <a:pt x="448568" y="931303"/>
                </a:cubicBezTo>
                <a:close/>
                <a:moveTo>
                  <a:pt x="0" y="931303"/>
                </a:moveTo>
                <a:lnTo>
                  <a:pt x="388264" y="931303"/>
                </a:lnTo>
                <a:cubicBezTo>
                  <a:pt x="390220" y="1097785"/>
                  <a:pt x="420532" y="1254193"/>
                  <a:pt x="473139" y="1390578"/>
                </a:cubicBezTo>
                <a:cubicBezTo>
                  <a:pt x="391203" y="1423988"/>
                  <a:pt x="318506" y="1469260"/>
                  <a:pt x="258353" y="1524144"/>
                </a:cubicBezTo>
                <a:cubicBezTo>
                  <a:pt x="102364" y="1370026"/>
                  <a:pt x="5849" y="1161456"/>
                  <a:pt x="0" y="931303"/>
                </a:cubicBezTo>
                <a:close/>
                <a:moveTo>
                  <a:pt x="536834" y="421694"/>
                </a:moveTo>
                <a:cubicBezTo>
                  <a:pt x="646682" y="464986"/>
                  <a:pt x="770110" y="489176"/>
                  <a:pt x="900586" y="490537"/>
                </a:cubicBezTo>
                <a:lnTo>
                  <a:pt x="900586" y="875390"/>
                </a:lnTo>
                <a:lnTo>
                  <a:pt x="448805" y="875390"/>
                </a:lnTo>
                <a:cubicBezTo>
                  <a:pt x="451150" y="709592"/>
                  <a:pt x="482649" y="554587"/>
                  <a:pt x="536834" y="421694"/>
                </a:cubicBezTo>
                <a:close/>
                <a:moveTo>
                  <a:pt x="1356131" y="409527"/>
                </a:moveTo>
                <a:cubicBezTo>
                  <a:pt x="1415590" y="544412"/>
                  <a:pt x="1451132" y="703874"/>
                  <a:pt x="1455052" y="875390"/>
                </a:cubicBezTo>
                <a:lnTo>
                  <a:pt x="953521" y="875390"/>
                </a:lnTo>
                <a:lnTo>
                  <a:pt x="953521" y="491238"/>
                </a:lnTo>
                <a:cubicBezTo>
                  <a:pt x="1099303" y="490092"/>
                  <a:pt x="1236528" y="461431"/>
                  <a:pt x="1356131" y="409527"/>
                </a:cubicBezTo>
                <a:close/>
                <a:moveTo>
                  <a:pt x="271202" y="273767"/>
                </a:moveTo>
                <a:cubicBezTo>
                  <a:pt x="330895" y="324894"/>
                  <a:pt x="401533" y="367494"/>
                  <a:pt x="480768" y="398692"/>
                </a:cubicBezTo>
                <a:cubicBezTo>
                  <a:pt x="424147" y="539118"/>
                  <a:pt x="390867" y="701724"/>
                  <a:pt x="388496" y="875390"/>
                </a:cubicBezTo>
                <a:lnTo>
                  <a:pt x="238" y="875390"/>
                </a:lnTo>
                <a:cubicBezTo>
                  <a:pt x="7162" y="640451"/>
                  <a:pt x="108645" y="428248"/>
                  <a:pt x="271202" y="273767"/>
                </a:cubicBezTo>
                <a:close/>
                <a:moveTo>
                  <a:pt x="1605567" y="261436"/>
                </a:moveTo>
                <a:cubicBezTo>
                  <a:pt x="1775300" y="417133"/>
                  <a:pt x="1881942" y="634296"/>
                  <a:pt x="1889035" y="875390"/>
                </a:cubicBezTo>
                <a:lnTo>
                  <a:pt x="1515364" y="875390"/>
                </a:lnTo>
                <a:cubicBezTo>
                  <a:pt x="1511419" y="696081"/>
                  <a:pt x="1474168" y="529014"/>
                  <a:pt x="1413107" y="386152"/>
                </a:cubicBezTo>
                <a:cubicBezTo>
                  <a:pt x="1485941" y="353453"/>
                  <a:pt x="1551126" y="311628"/>
                  <a:pt x="1605567" y="261436"/>
                </a:cubicBezTo>
                <a:close/>
                <a:moveTo>
                  <a:pt x="748157" y="19413"/>
                </a:moveTo>
                <a:cubicBezTo>
                  <a:pt x="649482" y="96557"/>
                  <a:pt x="565491" y="208310"/>
                  <a:pt x="504779" y="344256"/>
                </a:cubicBezTo>
                <a:cubicBezTo>
                  <a:pt x="432706" y="315858"/>
                  <a:pt x="368354" y="277545"/>
                  <a:pt x="313920" y="231604"/>
                </a:cubicBezTo>
                <a:cubicBezTo>
                  <a:pt x="434240" y="127070"/>
                  <a:pt x="583275" y="52667"/>
                  <a:pt x="748157" y="19413"/>
                </a:cubicBezTo>
                <a:close/>
                <a:moveTo>
                  <a:pt x="1137621" y="18543"/>
                </a:moveTo>
                <a:cubicBezTo>
                  <a:pt x="1297904" y="50310"/>
                  <a:pt x="1443338" y="120918"/>
                  <a:pt x="1562575" y="219802"/>
                </a:cubicBezTo>
                <a:cubicBezTo>
                  <a:pt x="1512842" y="265093"/>
                  <a:pt x="1453308" y="302843"/>
                  <a:pt x="1386970" y="332857"/>
                </a:cubicBezTo>
                <a:cubicBezTo>
                  <a:pt x="1323718" y="199817"/>
                  <a:pt x="1237626" y="91674"/>
                  <a:pt x="1137621" y="18543"/>
                </a:cubicBezTo>
                <a:close/>
                <a:moveTo>
                  <a:pt x="900586" y="1702"/>
                </a:moveTo>
                <a:lnTo>
                  <a:pt x="900586" y="430269"/>
                </a:lnTo>
                <a:cubicBezTo>
                  <a:pt x="778345" y="428899"/>
                  <a:pt x="662774" y="406468"/>
                  <a:pt x="560047" y="366408"/>
                </a:cubicBezTo>
                <a:cubicBezTo>
                  <a:pt x="637783" y="193348"/>
                  <a:pt x="753999" y="63227"/>
                  <a:pt x="890213" y="2203"/>
                </a:cubicBezTo>
                <a:lnTo>
                  <a:pt x="900586" y="1702"/>
                </a:lnTo>
                <a:close/>
                <a:moveTo>
                  <a:pt x="953521" y="0"/>
                </a:moveTo>
                <a:lnTo>
                  <a:pt x="981035" y="1330"/>
                </a:lnTo>
                <a:cubicBezTo>
                  <a:pt x="1124068" y="53565"/>
                  <a:pt x="1247786" y="180867"/>
                  <a:pt x="1332000" y="354889"/>
                </a:cubicBezTo>
                <a:cubicBezTo>
                  <a:pt x="1219743" y="403080"/>
                  <a:pt x="1090709" y="429800"/>
                  <a:pt x="953521" y="430954"/>
                </a:cubicBezTo>
                <a:lnTo>
                  <a:pt x="953521" y="0"/>
                </a:lnTo>
                <a:close/>
              </a:path>
            </a:pathLst>
          </a:cu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文本框 4"/>
          <p:cNvSpPr/>
          <p:nvPr/>
        </p:nvSpPr>
        <p:spPr>
          <a:xfrm>
            <a:off x="896760" y="18108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问题描述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44546a"/>
                </a:solidFill>
                <a:latin typeface="微软雅黑"/>
                <a:ea typeface="微软雅黑"/>
              </a:rPr>
              <a:t>解决方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Oval 4"/>
          <p:cNvSpPr/>
          <p:nvPr/>
        </p:nvSpPr>
        <p:spPr>
          <a:xfrm flipV="1">
            <a:off x="1749600" y="4510800"/>
            <a:ext cx="985680" cy="986040"/>
          </a:xfrm>
          <a:prstGeom prst="ellipse">
            <a:avLst/>
          </a:prstGeom>
          <a:solidFill>
            <a:srgbClr val="d9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Oval 5"/>
          <p:cNvSpPr/>
          <p:nvPr/>
        </p:nvSpPr>
        <p:spPr>
          <a:xfrm flipV="1">
            <a:off x="1725480" y="2874960"/>
            <a:ext cx="984240" cy="985680"/>
          </a:xfrm>
          <a:prstGeom prst="ellipse">
            <a:avLst/>
          </a:prstGeom>
          <a:solidFill>
            <a:srgbClr val="d9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Oval 6"/>
          <p:cNvSpPr/>
          <p:nvPr/>
        </p:nvSpPr>
        <p:spPr>
          <a:xfrm flipV="1">
            <a:off x="1739880" y="1308960"/>
            <a:ext cx="985680" cy="987480"/>
          </a:xfrm>
          <a:prstGeom prst="ellipse">
            <a:avLst/>
          </a:prstGeom>
          <a:solidFill>
            <a:srgbClr val="d9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7"/>
          <p:cNvSpPr/>
          <p:nvPr/>
        </p:nvSpPr>
        <p:spPr>
          <a:xfrm>
            <a:off x="6661080" y="1465200"/>
            <a:ext cx="3772080" cy="399744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8"/>
          <p:cNvSpPr/>
          <p:nvPr/>
        </p:nvSpPr>
        <p:spPr>
          <a:xfrm>
            <a:off x="2317680" y="5497560"/>
            <a:ext cx="36784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9"/>
          <p:cNvSpPr/>
          <p:nvPr/>
        </p:nvSpPr>
        <p:spPr>
          <a:xfrm>
            <a:off x="2279520" y="2293920"/>
            <a:ext cx="36784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10"/>
          <p:cNvSpPr/>
          <p:nvPr/>
        </p:nvSpPr>
        <p:spPr>
          <a:xfrm>
            <a:off x="2239920" y="3862440"/>
            <a:ext cx="3679920" cy="1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叶子 694"/>
          <p:cNvSpPr/>
          <p:nvPr/>
        </p:nvSpPr>
        <p:spPr>
          <a:xfrm flipV="1">
            <a:off x="1906560" y="4686480"/>
            <a:ext cx="689040" cy="615600"/>
          </a:xfrm>
          <a:custGeom>
            <a:avLst/>
            <a:gdLst/>
            <a:ahLst/>
            <a:rect l="l" t="t" r="r" b="b"/>
            <a:pathLst>
              <a:path w="63" h="57">
                <a:moveTo>
                  <a:pt x="0" y="55"/>
                </a:moveTo>
                <a:cubicBezTo>
                  <a:pt x="0" y="55"/>
                  <a:pt x="0" y="57"/>
                  <a:pt x="4" y="57"/>
                </a:cubicBezTo>
                <a:cubicBezTo>
                  <a:pt x="3" y="54"/>
                  <a:pt x="11" y="45"/>
                  <a:pt x="11" y="45"/>
                </a:cubicBezTo>
                <a:cubicBezTo>
                  <a:pt x="11" y="45"/>
                  <a:pt x="25" y="54"/>
                  <a:pt x="40" y="39"/>
                </a:cubicBezTo>
                <a:cubicBezTo>
                  <a:pt x="54" y="23"/>
                  <a:pt x="44" y="11"/>
                  <a:pt x="63" y="0"/>
                </a:cubicBezTo>
                <a:cubicBezTo>
                  <a:pt x="17" y="10"/>
                  <a:pt x="7" y="24"/>
                  <a:pt x="8" y="43"/>
                </a:cubicBezTo>
                <a:cubicBezTo>
                  <a:pt x="12" y="34"/>
                  <a:pt x="24" y="22"/>
                  <a:pt x="34" y="17"/>
                </a:cubicBezTo>
                <a:cubicBezTo>
                  <a:pt x="17" y="29"/>
                  <a:pt x="5" y="47"/>
                  <a:pt x="0" y="5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飞机1 695"/>
          <p:cNvSpPr/>
          <p:nvPr/>
        </p:nvSpPr>
        <p:spPr>
          <a:xfrm flipV="1" rot="10800000">
            <a:off x="1888920" y="3012120"/>
            <a:ext cx="749160" cy="749160"/>
          </a:xfrm>
          <a:custGeom>
            <a:avLst/>
            <a:gdLst/>
            <a:ahLst/>
            <a:rect l="l" t="t" r="r" b="b"/>
            <a:pathLst>
              <a:path w="2040" h="1697">
                <a:moveTo>
                  <a:pt x="2039" y="1166"/>
                </a:moveTo>
                <a:cubicBezTo>
                  <a:pt x="1952" y="866"/>
                  <a:pt x="1952" y="866"/>
                  <a:pt x="1952" y="866"/>
                </a:cubicBezTo>
                <a:cubicBezTo>
                  <a:pt x="1984" y="862"/>
                  <a:pt x="2003" y="855"/>
                  <a:pt x="2003" y="849"/>
                </a:cubicBezTo>
                <a:cubicBezTo>
                  <a:pt x="2003" y="842"/>
                  <a:pt x="1984" y="836"/>
                  <a:pt x="1952" y="831"/>
                </a:cubicBezTo>
                <a:cubicBezTo>
                  <a:pt x="2039" y="532"/>
                  <a:pt x="2039" y="532"/>
                  <a:pt x="2039" y="532"/>
                </a:cubicBezTo>
                <a:cubicBezTo>
                  <a:pt x="2040" y="529"/>
                  <a:pt x="2038" y="526"/>
                  <a:pt x="2034" y="526"/>
                </a:cubicBezTo>
                <a:cubicBezTo>
                  <a:pt x="1954" y="526"/>
                  <a:pt x="1954" y="526"/>
                  <a:pt x="1954" y="526"/>
                </a:cubicBezTo>
                <a:cubicBezTo>
                  <a:pt x="1951" y="526"/>
                  <a:pt x="1946" y="528"/>
                  <a:pt x="1944" y="531"/>
                </a:cubicBezTo>
                <a:cubicBezTo>
                  <a:pt x="1715" y="783"/>
                  <a:pt x="1715" y="783"/>
                  <a:pt x="1715" y="783"/>
                </a:cubicBezTo>
                <a:cubicBezTo>
                  <a:pt x="1694" y="780"/>
                  <a:pt x="1674" y="776"/>
                  <a:pt x="1661" y="774"/>
                </a:cubicBezTo>
                <a:cubicBezTo>
                  <a:pt x="1635" y="770"/>
                  <a:pt x="1593" y="764"/>
                  <a:pt x="1567" y="762"/>
                </a:cubicBezTo>
                <a:cubicBezTo>
                  <a:pt x="1542" y="760"/>
                  <a:pt x="1492" y="757"/>
                  <a:pt x="1457" y="757"/>
                </a:cubicBezTo>
                <a:cubicBezTo>
                  <a:pt x="1382" y="755"/>
                  <a:pt x="1382" y="755"/>
                  <a:pt x="1382" y="755"/>
                </a:cubicBezTo>
                <a:cubicBezTo>
                  <a:pt x="1346" y="754"/>
                  <a:pt x="1289" y="753"/>
                  <a:pt x="1254" y="753"/>
                </a:cubicBezTo>
                <a:cubicBezTo>
                  <a:pt x="1042" y="754"/>
                  <a:pt x="1042" y="754"/>
                  <a:pt x="1042" y="754"/>
                </a:cubicBezTo>
                <a:cubicBezTo>
                  <a:pt x="1057" y="706"/>
                  <a:pt x="1057" y="706"/>
                  <a:pt x="1057" y="706"/>
                </a:cubicBezTo>
                <a:cubicBezTo>
                  <a:pt x="1129" y="683"/>
                  <a:pt x="1129" y="683"/>
                  <a:pt x="1129" y="683"/>
                </a:cubicBezTo>
                <a:cubicBezTo>
                  <a:pt x="1064" y="684"/>
                  <a:pt x="1064" y="684"/>
                  <a:pt x="1064" y="684"/>
                </a:cubicBezTo>
                <a:cubicBezTo>
                  <a:pt x="1084" y="621"/>
                  <a:pt x="1084" y="621"/>
                  <a:pt x="1084" y="621"/>
                </a:cubicBezTo>
                <a:cubicBezTo>
                  <a:pt x="1154" y="599"/>
                  <a:pt x="1154" y="599"/>
                  <a:pt x="1154" y="599"/>
                </a:cubicBezTo>
                <a:cubicBezTo>
                  <a:pt x="1091" y="600"/>
                  <a:pt x="1091" y="600"/>
                  <a:pt x="1091" y="600"/>
                </a:cubicBezTo>
                <a:cubicBezTo>
                  <a:pt x="1126" y="489"/>
                  <a:pt x="1126" y="489"/>
                  <a:pt x="1126" y="489"/>
                </a:cubicBezTo>
                <a:cubicBezTo>
                  <a:pt x="1128" y="482"/>
                  <a:pt x="1133" y="472"/>
                  <a:pt x="1136" y="466"/>
                </a:cubicBezTo>
                <a:cubicBezTo>
                  <a:pt x="1142" y="457"/>
                  <a:pt x="1142" y="457"/>
                  <a:pt x="1142" y="457"/>
                </a:cubicBezTo>
                <a:cubicBezTo>
                  <a:pt x="1225" y="431"/>
                  <a:pt x="1225" y="431"/>
                  <a:pt x="1225" y="431"/>
                </a:cubicBezTo>
                <a:cubicBezTo>
                  <a:pt x="1157" y="432"/>
                  <a:pt x="1157" y="432"/>
                  <a:pt x="1157" y="432"/>
                </a:cubicBezTo>
                <a:cubicBezTo>
                  <a:pt x="1160" y="426"/>
                  <a:pt x="1160" y="426"/>
                  <a:pt x="1160" y="426"/>
                </a:cubicBezTo>
                <a:cubicBezTo>
                  <a:pt x="1163" y="420"/>
                  <a:pt x="1169" y="410"/>
                  <a:pt x="1173" y="404"/>
                </a:cubicBezTo>
                <a:cubicBezTo>
                  <a:pt x="1205" y="351"/>
                  <a:pt x="1205" y="351"/>
                  <a:pt x="1205" y="351"/>
                </a:cubicBezTo>
                <a:cubicBezTo>
                  <a:pt x="1293" y="323"/>
                  <a:pt x="1293" y="323"/>
                  <a:pt x="1293" y="323"/>
                </a:cubicBezTo>
                <a:cubicBezTo>
                  <a:pt x="1220" y="324"/>
                  <a:pt x="1220" y="324"/>
                  <a:pt x="1220" y="324"/>
                </a:cubicBezTo>
                <a:cubicBezTo>
                  <a:pt x="1294" y="200"/>
                  <a:pt x="1294" y="200"/>
                  <a:pt x="1294" y="200"/>
                </a:cubicBezTo>
                <a:cubicBezTo>
                  <a:pt x="1298" y="194"/>
                  <a:pt x="1304" y="184"/>
                  <a:pt x="1307" y="178"/>
                </a:cubicBezTo>
                <a:cubicBezTo>
                  <a:pt x="1370" y="80"/>
                  <a:pt x="1370" y="80"/>
                  <a:pt x="1370" y="80"/>
                </a:cubicBezTo>
                <a:cubicBezTo>
                  <a:pt x="1374" y="74"/>
                  <a:pt x="1381" y="65"/>
                  <a:pt x="1385" y="59"/>
                </a:cubicBezTo>
                <a:cubicBezTo>
                  <a:pt x="1396" y="44"/>
                  <a:pt x="1396" y="44"/>
                  <a:pt x="1396" y="44"/>
                </a:cubicBezTo>
                <a:cubicBezTo>
                  <a:pt x="1400" y="39"/>
                  <a:pt x="1409" y="33"/>
                  <a:pt x="1416" y="33"/>
                </a:cubicBezTo>
                <a:cubicBezTo>
                  <a:pt x="1445" y="30"/>
                  <a:pt x="1445" y="30"/>
                  <a:pt x="1445" y="30"/>
                </a:cubicBezTo>
                <a:cubicBezTo>
                  <a:pt x="1452" y="30"/>
                  <a:pt x="1464" y="28"/>
                  <a:pt x="1471" y="26"/>
                </a:cubicBezTo>
                <a:cubicBezTo>
                  <a:pt x="1495" y="20"/>
                  <a:pt x="1495" y="20"/>
                  <a:pt x="1495" y="20"/>
                </a:cubicBezTo>
                <a:cubicBezTo>
                  <a:pt x="1502" y="18"/>
                  <a:pt x="1502" y="16"/>
                  <a:pt x="1495" y="14"/>
                </a:cubicBezTo>
                <a:cubicBezTo>
                  <a:pt x="1469" y="8"/>
                  <a:pt x="1469" y="8"/>
                  <a:pt x="1469" y="8"/>
                </a:cubicBezTo>
                <a:cubicBezTo>
                  <a:pt x="1462" y="7"/>
                  <a:pt x="1451" y="5"/>
                  <a:pt x="1444" y="4"/>
                </a:cubicBezTo>
                <a:cubicBezTo>
                  <a:pt x="1399" y="0"/>
                  <a:pt x="1399" y="0"/>
                  <a:pt x="1399" y="0"/>
                </a:cubicBezTo>
                <a:cubicBezTo>
                  <a:pt x="1392" y="0"/>
                  <a:pt x="1380" y="0"/>
                  <a:pt x="1373" y="0"/>
                </a:cubicBezTo>
                <a:cubicBezTo>
                  <a:pt x="1332" y="4"/>
                  <a:pt x="1332" y="4"/>
                  <a:pt x="1332" y="4"/>
                </a:cubicBezTo>
                <a:cubicBezTo>
                  <a:pt x="1325" y="5"/>
                  <a:pt x="1314" y="7"/>
                  <a:pt x="1307" y="9"/>
                </a:cubicBezTo>
                <a:cubicBezTo>
                  <a:pt x="1281" y="17"/>
                  <a:pt x="1281" y="17"/>
                  <a:pt x="1281" y="17"/>
                </a:cubicBezTo>
                <a:cubicBezTo>
                  <a:pt x="1274" y="19"/>
                  <a:pt x="1265" y="25"/>
                  <a:pt x="1260" y="30"/>
                </a:cubicBezTo>
                <a:cubicBezTo>
                  <a:pt x="1071" y="241"/>
                  <a:pt x="1071" y="241"/>
                  <a:pt x="1071" y="241"/>
                </a:cubicBezTo>
                <a:cubicBezTo>
                  <a:pt x="1056" y="233"/>
                  <a:pt x="1035" y="228"/>
                  <a:pt x="1012" y="228"/>
                </a:cubicBezTo>
                <a:cubicBezTo>
                  <a:pt x="951" y="228"/>
                  <a:pt x="951" y="228"/>
                  <a:pt x="951" y="228"/>
                </a:cubicBezTo>
                <a:cubicBezTo>
                  <a:pt x="937" y="228"/>
                  <a:pt x="926" y="240"/>
                  <a:pt x="926" y="254"/>
                </a:cubicBezTo>
                <a:cubicBezTo>
                  <a:pt x="926" y="284"/>
                  <a:pt x="926" y="284"/>
                  <a:pt x="926" y="284"/>
                </a:cubicBezTo>
                <a:cubicBezTo>
                  <a:pt x="926" y="299"/>
                  <a:pt x="937" y="310"/>
                  <a:pt x="951" y="310"/>
                </a:cubicBezTo>
                <a:cubicBezTo>
                  <a:pt x="989" y="310"/>
                  <a:pt x="989" y="310"/>
                  <a:pt x="989" y="310"/>
                </a:cubicBezTo>
                <a:cubicBezTo>
                  <a:pt x="995" y="311"/>
                  <a:pt x="1002" y="311"/>
                  <a:pt x="1008" y="312"/>
                </a:cubicBezTo>
                <a:cubicBezTo>
                  <a:pt x="897" y="435"/>
                  <a:pt x="897" y="435"/>
                  <a:pt x="897" y="435"/>
                </a:cubicBezTo>
                <a:cubicBezTo>
                  <a:pt x="893" y="441"/>
                  <a:pt x="885" y="449"/>
                  <a:pt x="880" y="454"/>
                </a:cubicBezTo>
                <a:cubicBezTo>
                  <a:pt x="842" y="496"/>
                  <a:pt x="842" y="496"/>
                  <a:pt x="842" y="496"/>
                </a:cubicBezTo>
                <a:cubicBezTo>
                  <a:pt x="827" y="488"/>
                  <a:pt x="805" y="483"/>
                  <a:pt x="782" y="483"/>
                </a:cubicBezTo>
                <a:cubicBezTo>
                  <a:pt x="721" y="483"/>
                  <a:pt x="721" y="483"/>
                  <a:pt x="721" y="483"/>
                </a:cubicBezTo>
                <a:cubicBezTo>
                  <a:pt x="707" y="483"/>
                  <a:pt x="695" y="494"/>
                  <a:pt x="695" y="508"/>
                </a:cubicBezTo>
                <a:cubicBezTo>
                  <a:pt x="695" y="539"/>
                  <a:pt x="695" y="539"/>
                  <a:pt x="695" y="539"/>
                </a:cubicBezTo>
                <a:cubicBezTo>
                  <a:pt x="695" y="553"/>
                  <a:pt x="707" y="564"/>
                  <a:pt x="721" y="564"/>
                </a:cubicBezTo>
                <a:cubicBezTo>
                  <a:pt x="759" y="564"/>
                  <a:pt x="759" y="564"/>
                  <a:pt x="759" y="564"/>
                </a:cubicBezTo>
                <a:cubicBezTo>
                  <a:pt x="765" y="565"/>
                  <a:pt x="771" y="566"/>
                  <a:pt x="777" y="566"/>
                </a:cubicBezTo>
                <a:cubicBezTo>
                  <a:pt x="616" y="741"/>
                  <a:pt x="616" y="741"/>
                  <a:pt x="616" y="741"/>
                </a:cubicBezTo>
                <a:cubicBezTo>
                  <a:pt x="613" y="744"/>
                  <a:pt x="608" y="749"/>
                  <a:pt x="605" y="754"/>
                </a:cubicBezTo>
                <a:cubicBezTo>
                  <a:pt x="490" y="753"/>
                  <a:pt x="490" y="753"/>
                  <a:pt x="490" y="753"/>
                </a:cubicBezTo>
                <a:cubicBezTo>
                  <a:pt x="455" y="753"/>
                  <a:pt x="398" y="754"/>
                  <a:pt x="362" y="754"/>
                </a:cubicBezTo>
                <a:cubicBezTo>
                  <a:pt x="308" y="755"/>
                  <a:pt x="308" y="755"/>
                  <a:pt x="308" y="755"/>
                </a:cubicBezTo>
                <a:cubicBezTo>
                  <a:pt x="273" y="756"/>
                  <a:pt x="221" y="760"/>
                  <a:pt x="193" y="765"/>
                </a:cubicBezTo>
                <a:cubicBezTo>
                  <a:pt x="165" y="770"/>
                  <a:pt x="118" y="782"/>
                  <a:pt x="90" y="791"/>
                </a:cubicBezTo>
                <a:cubicBezTo>
                  <a:pt x="61" y="800"/>
                  <a:pt x="30" y="813"/>
                  <a:pt x="21" y="820"/>
                </a:cubicBezTo>
                <a:cubicBezTo>
                  <a:pt x="12" y="826"/>
                  <a:pt x="3" y="838"/>
                  <a:pt x="2" y="846"/>
                </a:cubicBezTo>
                <a:cubicBezTo>
                  <a:pt x="0" y="854"/>
                  <a:pt x="8" y="868"/>
                  <a:pt x="18" y="877"/>
                </a:cubicBezTo>
                <a:cubicBezTo>
                  <a:pt x="29" y="886"/>
                  <a:pt x="60" y="901"/>
                  <a:pt x="86" y="910"/>
                </a:cubicBezTo>
                <a:cubicBezTo>
                  <a:pt x="113" y="919"/>
                  <a:pt x="159" y="930"/>
                  <a:pt x="187" y="935"/>
                </a:cubicBezTo>
                <a:cubicBezTo>
                  <a:pt x="216" y="940"/>
                  <a:pt x="268" y="944"/>
                  <a:pt x="303" y="945"/>
                </a:cubicBezTo>
                <a:cubicBezTo>
                  <a:pt x="367" y="947"/>
                  <a:pt x="367" y="947"/>
                  <a:pt x="367" y="947"/>
                </a:cubicBezTo>
                <a:cubicBezTo>
                  <a:pt x="402" y="948"/>
                  <a:pt x="460" y="948"/>
                  <a:pt x="495" y="949"/>
                </a:cubicBezTo>
                <a:cubicBezTo>
                  <a:pt x="606" y="949"/>
                  <a:pt x="606" y="949"/>
                  <a:pt x="606" y="949"/>
                </a:cubicBezTo>
                <a:cubicBezTo>
                  <a:pt x="609" y="951"/>
                  <a:pt x="611" y="954"/>
                  <a:pt x="613" y="956"/>
                </a:cubicBezTo>
                <a:cubicBezTo>
                  <a:pt x="783" y="1140"/>
                  <a:pt x="783" y="1140"/>
                  <a:pt x="783" y="1140"/>
                </a:cubicBezTo>
                <a:cubicBezTo>
                  <a:pt x="775" y="1140"/>
                  <a:pt x="768" y="1141"/>
                  <a:pt x="761" y="1142"/>
                </a:cubicBezTo>
                <a:cubicBezTo>
                  <a:pt x="722" y="1142"/>
                  <a:pt x="722" y="1142"/>
                  <a:pt x="722" y="1142"/>
                </a:cubicBezTo>
                <a:cubicBezTo>
                  <a:pt x="708" y="1142"/>
                  <a:pt x="697" y="1154"/>
                  <a:pt x="697" y="1168"/>
                </a:cubicBezTo>
                <a:cubicBezTo>
                  <a:pt x="697" y="1198"/>
                  <a:pt x="697" y="1198"/>
                  <a:pt x="697" y="1198"/>
                </a:cubicBezTo>
                <a:cubicBezTo>
                  <a:pt x="697" y="1212"/>
                  <a:pt x="708" y="1224"/>
                  <a:pt x="722" y="1224"/>
                </a:cubicBezTo>
                <a:cubicBezTo>
                  <a:pt x="783" y="1224"/>
                  <a:pt x="783" y="1224"/>
                  <a:pt x="783" y="1224"/>
                </a:cubicBezTo>
                <a:cubicBezTo>
                  <a:pt x="809" y="1224"/>
                  <a:pt x="831" y="1218"/>
                  <a:pt x="847" y="1209"/>
                </a:cubicBezTo>
                <a:cubicBezTo>
                  <a:pt x="877" y="1242"/>
                  <a:pt x="877" y="1242"/>
                  <a:pt x="877" y="1242"/>
                </a:cubicBezTo>
                <a:cubicBezTo>
                  <a:pt x="882" y="1247"/>
                  <a:pt x="889" y="1256"/>
                  <a:pt x="894" y="1261"/>
                </a:cubicBezTo>
                <a:cubicBezTo>
                  <a:pt x="1014" y="1395"/>
                  <a:pt x="1014" y="1395"/>
                  <a:pt x="1014" y="1395"/>
                </a:cubicBezTo>
                <a:cubicBezTo>
                  <a:pt x="1008" y="1395"/>
                  <a:pt x="1002" y="1396"/>
                  <a:pt x="996" y="1396"/>
                </a:cubicBezTo>
                <a:cubicBezTo>
                  <a:pt x="958" y="1396"/>
                  <a:pt x="958" y="1396"/>
                  <a:pt x="958" y="1396"/>
                </a:cubicBezTo>
                <a:cubicBezTo>
                  <a:pt x="943" y="1396"/>
                  <a:pt x="932" y="1408"/>
                  <a:pt x="932" y="1422"/>
                </a:cubicBezTo>
                <a:cubicBezTo>
                  <a:pt x="932" y="1452"/>
                  <a:pt x="932" y="1452"/>
                  <a:pt x="932" y="1452"/>
                </a:cubicBezTo>
                <a:cubicBezTo>
                  <a:pt x="932" y="1467"/>
                  <a:pt x="943" y="1478"/>
                  <a:pt x="958" y="1478"/>
                </a:cubicBezTo>
                <a:cubicBezTo>
                  <a:pt x="1018" y="1478"/>
                  <a:pt x="1018" y="1478"/>
                  <a:pt x="1018" y="1478"/>
                </a:cubicBezTo>
                <a:cubicBezTo>
                  <a:pt x="1041" y="1478"/>
                  <a:pt x="1062" y="1473"/>
                  <a:pt x="1077" y="1466"/>
                </a:cubicBezTo>
                <a:cubicBezTo>
                  <a:pt x="1257" y="1666"/>
                  <a:pt x="1257" y="1666"/>
                  <a:pt x="1257" y="1666"/>
                </a:cubicBezTo>
                <a:cubicBezTo>
                  <a:pt x="1262" y="1672"/>
                  <a:pt x="1271" y="1678"/>
                  <a:pt x="1278" y="1680"/>
                </a:cubicBezTo>
                <a:cubicBezTo>
                  <a:pt x="1304" y="1687"/>
                  <a:pt x="1304" y="1687"/>
                  <a:pt x="1304" y="1687"/>
                </a:cubicBezTo>
                <a:cubicBezTo>
                  <a:pt x="1311" y="1689"/>
                  <a:pt x="1322" y="1691"/>
                  <a:pt x="1329" y="1692"/>
                </a:cubicBezTo>
                <a:cubicBezTo>
                  <a:pt x="1370" y="1696"/>
                  <a:pt x="1370" y="1696"/>
                  <a:pt x="1370" y="1696"/>
                </a:cubicBezTo>
                <a:cubicBezTo>
                  <a:pt x="1377" y="1697"/>
                  <a:pt x="1388" y="1697"/>
                  <a:pt x="1395" y="1696"/>
                </a:cubicBezTo>
                <a:cubicBezTo>
                  <a:pt x="1440" y="1692"/>
                  <a:pt x="1440" y="1692"/>
                  <a:pt x="1440" y="1692"/>
                </a:cubicBezTo>
                <a:cubicBezTo>
                  <a:pt x="1447" y="1691"/>
                  <a:pt x="1459" y="1690"/>
                  <a:pt x="1466" y="1688"/>
                </a:cubicBezTo>
                <a:cubicBezTo>
                  <a:pt x="1492" y="1682"/>
                  <a:pt x="1492" y="1682"/>
                  <a:pt x="1492" y="1682"/>
                </a:cubicBezTo>
                <a:cubicBezTo>
                  <a:pt x="1499" y="1681"/>
                  <a:pt x="1499" y="1678"/>
                  <a:pt x="1492" y="1676"/>
                </a:cubicBezTo>
                <a:cubicBezTo>
                  <a:pt x="1467" y="1670"/>
                  <a:pt x="1467" y="1670"/>
                  <a:pt x="1467" y="1670"/>
                </a:cubicBezTo>
                <a:cubicBezTo>
                  <a:pt x="1460" y="1669"/>
                  <a:pt x="1449" y="1667"/>
                  <a:pt x="1442" y="1666"/>
                </a:cubicBezTo>
                <a:cubicBezTo>
                  <a:pt x="1413" y="1664"/>
                  <a:pt x="1413" y="1664"/>
                  <a:pt x="1413" y="1664"/>
                </a:cubicBezTo>
                <a:cubicBezTo>
                  <a:pt x="1406" y="1663"/>
                  <a:pt x="1397" y="1658"/>
                  <a:pt x="1393" y="1652"/>
                </a:cubicBezTo>
                <a:cubicBezTo>
                  <a:pt x="1382" y="1637"/>
                  <a:pt x="1382" y="1637"/>
                  <a:pt x="1382" y="1637"/>
                </a:cubicBezTo>
                <a:cubicBezTo>
                  <a:pt x="1378" y="1632"/>
                  <a:pt x="1371" y="1622"/>
                  <a:pt x="1367" y="1616"/>
                </a:cubicBezTo>
                <a:cubicBezTo>
                  <a:pt x="1304" y="1518"/>
                  <a:pt x="1304" y="1518"/>
                  <a:pt x="1304" y="1518"/>
                </a:cubicBezTo>
                <a:cubicBezTo>
                  <a:pt x="1300" y="1512"/>
                  <a:pt x="1294" y="1502"/>
                  <a:pt x="1291" y="1496"/>
                </a:cubicBezTo>
                <a:cubicBezTo>
                  <a:pt x="1221" y="1379"/>
                  <a:pt x="1221" y="1379"/>
                  <a:pt x="1221" y="1379"/>
                </a:cubicBezTo>
                <a:cubicBezTo>
                  <a:pt x="1295" y="1380"/>
                  <a:pt x="1295" y="1380"/>
                  <a:pt x="1295" y="1380"/>
                </a:cubicBezTo>
                <a:cubicBezTo>
                  <a:pt x="1205" y="1352"/>
                  <a:pt x="1205" y="1352"/>
                  <a:pt x="1205" y="1352"/>
                </a:cubicBezTo>
                <a:cubicBezTo>
                  <a:pt x="1169" y="1292"/>
                  <a:pt x="1169" y="1292"/>
                  <a:pt x="1169" y="1292"/>
                </a:cubicBezTo>
                <a:cubicBezTo>
                  <a:pt x="1166" y="1287"/>
                  <a:pt x="1161" y="1278"/>
                  <a:pt x="1157" y="1272"/>
                </a:cubicBezTo>
                <a:cubicBezTo>
                  <a:pt x="1226" y="1273"/>
                  <a:pt x="1226" y="1273"/>
                  <a:pt x="1226" y="1273"/>
                </a:cubicBezTo>
                <a:cubicBezTo>
                  <a:pt x="1143" y="1246"/>
                  <a:pt x="1143" y="1246"/>
                  <a:pt x="1143" y="1246"/>
                </a:cubicBezTo>
                <a:cubicBezTo>
                  <a:pt x="1133" y="1230"/>
                  <a:pt x="1133" y="1230"/>
                  <a:pt x="1133" y="1230"/>
                </a:cubicBezTo>
                <a:cubicBezTo>
                  <a:pt x="1130" y="1224"/>
                  <a:pt x="1125" y="1214"/>
                  <a:pt x="1123" y="1207"/>
                </a:cubicBezTo>
                <a:cubicBezTo>
                  <a:pt x="1090" y="1103"/>
                  <a:pt x="1090" y="1103"/>
                  <a:pt x="1090" y="1103"/>
                </a:cubicBezTo>
                <a:cubicBezTo>
                  <a:pt x="1156" y="1104"/>
                  <a:pt x="1156" y="1104"/>
                  <a:pt x="1156" y="1104"/>
                </a:cubicBezTo>
                <a:cubicBezTo>
                  <a:pt x="1083" y="1081"/>
                  <a:pt x="1083" y="1081"/>
                  <a:pt x="1083" y="1081"/>
                </a:cubicBezTo>
                <a:cubicBezTo>
                  <a:pt x="1063" y="1019"/>
                  <a:pt x="1063" y="1019"/>
                  <a:pt x="1063" y="1019"/>
                </a:cubicBezTo>
                <a:cubicBezTo>
                  <a:pt x="1130" y="1020"/>
                  <a:pt x="1130" y="1020"/>
                  <a:pt x="1130" y="1020"/>
                </a:cubicBezTo>
                <a:cubicBezTo>
                  <a:pt x="1056" y="997"/>
                  <a:pt x="1056" y="997"/>
                  <a:pt x="1056" y="997"/>
                </a:cubicBezTo>
                <a:cubicBezTo>
                  <a:pt x="1040" y="948"/>
                  <a:pt x="1040" y="948"/>
                  <a:pt x="1040" y="948"/>
                </a:cubicBezTo>
                <a:cubicBezTo>
                  <a:pt x="1265" y="948"/>
                  <a:pt x="1265" y="948"/>
                  <a:pt x="1265" y="948"/>
                </a:cubicBezTo>
                <a:cubicBezTo>
                  <a:pt x="1300" y="948"/>
                  <a:pt x="1358" y="947"/>
                  <a:pt x="1393" y="946"/>
                </a:cubicBezTo>
                <a:cubicBezTo>
                  <a:pt x="1463" y="944"/>
                  <a:pt x="1463" y="944"/>
                  <a:pt x="1463" y="944"/>
                </a:cubicBezTo>
                <a:cubicBezTo>
                  <a:pt x="1498" y="943"/>
                  <a:pt x="1548" y="941"/>
                  <a:pt x="1574" y="939"/>
                </a:cubicBezTo>
                <a:cubicBezTo>
                  <a:pt x="1599" y="937"/>
                  <a:pt x="1641" y="932"/>
                  <a:pt x="1666" y="927"/>
                </a:cubicBezTo>
                <a:cubicBezTo>
                  <a:pt x="1679" y="924"/>
                  <a:pt x="1698" y="921"/>
                  <a:pt x="1718" y="917"/>
                </a:cubicBezTo>
                <a:cubicBezTo>
                  <a:pt x="1944" y="1167"/>
                  <a:pt x="1944" y="1167"/>
                  <a:pt x="1944" y="1167"/>
                </a:cubicBezTo>
                <a:cubicBezTo>
                  <a:pt x="1947" y="1170"/>
                  <a:pt x="1951" y="1172"/>
                  <a:pt x="1955" y="1172"/>
                </a:cubicBezTo>
                <a:cubicBezTo>
                  <a:pt x="2035" y="1172"/>
                  <a:pt x="2035" y="1172"/>
                  <a:pt x="2035" y="1172"/>
                </a:cubicBezTo>
                <a:cubicBezTo>
                  <a:pt x="2038" y="1172"/>
                  <a:pt x="2040" y="1169"/>
                  <a:pt x="2039" y="116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咖啡 696"/>
          <p:cNvSpPr/>
          <p:nvPr/>
        </p:nvSpPr>
        <p:spPr>
          <a:xfrm>
            <a:off x="1873080" y="1363680"/>
            <a:ext cx="806760" cy="806400"/>
          </a:xfrm>
          <a:custGeom>
            <a:avLst/>
            <a:gdLst/>
            <a:ahLst/>
            <a:rect l="l" t="t" r="r" b="b"/>
            <a:pathLst>
              <a:path w="968375" h="1170887">
                <a:moveTo>
                  <a:pt x="86328" y="968447"/>
                </a:moveTo>
                <a:cubicBezTo>
                  <a:pt x="120108" y="1054672"/>
                  <a:pt x="258984" y="1114654"/>
                  <a:pt x="416627" y="1114654"/>
                </a:cubicBezTo>
                <a:cubicBezTo>
                  <a:pt x="566762" y="1114654"/>
                  <a:pt x="701884" y="1058421"/>
                  <a:pt x="743172" y="975945"/>
                </a:cubicBezTo>
                <a:cubicBezTo>
                  <a:pt x="791966" y="998438"/>
                  <a:pt x="791966" y="998438"/>
                  <a:pt x="791966" y="998438"/>
                </a:cubicBezTo>
                <a:cubicBezTo>
                  <a:pt x="743172" y="1103407"/>
                  <a:pt x="589283" y="1170887"/>
                  <a:pt x="416627" y="1170887"/>
                </a:cubicBezTo>
                <a:cubicBezTo>
                  <a:pt x="236464" y="1170887"/>
                  <a:pt x="78821" y="1095909"/>
                  <a:pt x="33780" y="990941"/>
                </a:cubicBezTo>
                <a:cubicBezTo>
                  <a:pt x="86328" y="968447"/>
                  <a:pt x="86328" y="968447"/>
                  <a:pt x="86328" y="968447"/>
                </a:cubicBezTo>
                <a:close/>
                <a:moveTo>
                  <a:pt x="870787" y="619801"/>
                </a:moveTo>
                <a:cubicBezTo>
                  <a:pt x="927088" y="634796"/>
                  <a:pt x="968375" y="683532"/>
                  <a:pt x="968375" y="739765"/>
                </a:cubicBezTo>
                <a:cubicBezTo>
                  <a:pt x="968375" y="810994"/>
                  <a:pt x="912074" y="863478"/>
                  <a:pt x="844513" y="863478"/>
                </a:cubicBezTo>
                <a:cubicBezTo>
                  <a:pt x="829500" y="863478"/>
                  <a:pt x="814486" y="863478"/>
                  <a:pt x="799473" y="855981"/>
                </a:cubicBezTo>
                <a:cubicBezTo>
                  <a:pt x="810733" y="840985"/>
                  <a:pt x="821993" y="822241"/>
                  <a:pt x="829500" y="807245"/>
                </a:cubicBezTo>
                <a:cubicBezTo>
                  <a:pt x="833253" y="807245"/>
                  <a:pt x="840760" y="810994"/>
                  <a:pt x="844513" y="810994"/>
                </a:cubicBezTo>
                <a:cubicBezTo>
                  <a:pt x="882047" y="810994"/>
                  <a:pt x="912074" y="777254"/>
                  <a:pt x="912074" y="739765"/>
                </a:cubicBezTo>
                <a:cubicBezTo>
                  <a:pt x="912074" y="713523"/>
                  <a:pt x="893307" y="687281"/>
                  <a:pt x="867034" y="676034"/>
                </a:cubicBezTo>
                <a:cubicBezTo>
                  <a:pt x="870787" y="661038"/>
                  <a:pt x="870787" y="642294"/>
                  <a:pt x="870787" y="619801"/>
                </a:cubicBezTo>
                <a:close/>
                <a:moveTo>
                  <a:pt x="821993" y="537325"/>
                </a:moveTo>
                <a:cubicBezTo>
                  <a:pt x="825746" y="556070"/>
                  <a:pt x="829500" y="582312"/>
                  <a:pt x="829500" y="612303"/>
                </a:cubicBezTo>
                <a:cubicBezTo>
                  <a:pt x="829500" y="840985"/>
                  <a:pt x="645584" y="1024681"/>
                  <a:pt x="416627" y="1024681"/>
                </a:cubicBezTo>
                <a:cubicBezTo>
                  <a:pt x="187669" y="1024681"/>
                  <a:pt x="0" y="840985"/>
                  <a:pt x="0" y="612303"/>
                </a:cubicBezTo>
                <a:cubicBezTo>
                  <a:pt x="0" y="586061"/>
                  <a:pt x="3753" y="563567"/>
                  <a:pt x="7507" y="544823"/>
                </a:cubicBezTo>
                <a:cubicBezTo>
                  <a:pt x="7507" y="664787"/>
                  <a:pt x="187669" y="758510"/>
                  <a:pt x="416627" y="758510"/>
                </a:cubicBezTo>
                <a:cubicBezTo>
                  <a:pt x="641830" y="758510"/>
                  <a:pt x="821993" y="664787"/>
                  <a:pt x="821993" y="544823"/>
                </a:cubicBezTo>
                <a:cubicBezTo>
                  <a:pt x="821993" y="541074"/>
                  <a:pt x="821993" y="541074"/>
                  <a:pt x="821993" y="537325"/>
                </a:cubicBezTo>
                <a:close/>
                <a:moveTo>
                  <a:pt x="416627" y="372374"/>
                </a:moveTo>
                <a:cubicBezTo>
                  <a:pt x="611803" y="372374"/>
                  <a:pt x="776952" y="451101"/>
                  <a:pt x="776952" y="544823"/>
                </a:cubicBezTo>
                <a:cubicBezTo>
                  <a:pt x="776952" y="556070"/>
                  <a:pt x="776952" y="563567"/>
                  <a:pt x="773199" y="571065"/>
                </a:cubicBezTo>
                <a:cubicBezTo>
                  <a:pt x="716898" y="499836"/>
                  <a:pt x="578023" y="451101"/>
                  <a:pt x="416627" y="451101"/>
                </a:cubicBezTo>
                <a:cubicBezTo>
                  <a:pt x="251477" y="451101"/>
                  <a:pt x="112601" y="499836"/>
                  <a:pt x="56301" y="571065"/>
                </a:cubicBezTo>
                <a:cubicBezTo>
                  <a:pt x="52547" y="563567"/>
                  <a:pt x="52547" y="556070"/>
                  <a:pt x="52547" y="544823"/>
                </a:cubicBezTo>
                <a:cubicBezTo>
                  <a:pt x="52547" y="451101"/>
                  <a:pt x="217696" y="372374"/>
                  <a:pt x="416627" y="372374"/>
                </a:cubicBezTo>
                <a:close/>
                <a:moveTo>
                  <a:pt x="543902" y="62096"/>
                </a:moveTo>
                <a:cubicBezTo>
                  <a:pt x="636930" y="186288"/>
                  <a:pt x="492220" y="196637"/>
                  <a:pt x="554238" y="372576"/>
                </a:cubicBezTo>
                <a:cubicBezTo>
                  <a:pt x="409528" y="155240"/>
                  <a:pt x="585248" y="196637"/>
                  <a:pt x="543902" y="62096"/>
                </a:cubicBezTo>
                <a:close/>
                <a:moveTo>
                  <a:pt x="275155" y="41398"/>
                </a:moveTo>
                <a:cubicBezTo>
                  <a:pt x="368183" y="175939"/>
                  <a:pt x="223472" y="175939"/>
                  <a:pt x="285491" y="351878"/>
                </a:cubicBezTo>
                <a:cubicBezTo>
                  <a:pt x="140780" y="144891"/>
                  <a:pt x="316500" y="186288"/>
                  <a:pt x="275155" y="41398"/>
                </a:cubicBezTo>
                <a:close/>
                <a:moveTo>
                  <a:pt x="409528" y="0"/>
                </a:moveTo>
                <a:cubicBezTo>
                  <a:pt x="502556" y="124192"/>
                  <a:pt x="357846" y="134542"/>
                  <a:pt x="419865" y="310480"/>
                </a:cubicBezTo>
                <a:cubicBezTo>
                  <a:pt x="275155" y="103493"/>
                  <a:pt x="450874" y="144891"/>
                  <a:pt x="40952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6"/>
          <p:cNvSpPr/>
          <p:nvPr/>
        </p:nvSpPr>
        <p:spPr>
          <a:xfrm>
            <a:off x="2790720" y="4427640"/>
            <a:ext cx="124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6"/>
          <p:cNvSpPr/>
          <p:nvPr/>
        </p:nvSpPr>
        <p:spPr>
          <a:xfrm>
            <a:off x="2779560" y="1211400"/>
            <a:ext cx="124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6"/>
          <p:cNvSpPr/>
          <p:nvPr/>
        </p:nvSpPr>
        <p:spPr>
          <a:xfrm>
            <a:off x="2770200" y="2765520"/>
            <a:ext cx="124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6"/>
          <p:cNvSpPr/>
          <p:nvPr/>
        </p:nvSpPr>
        <p:spPr>
          <a:xfrm>
            <a:off x="2793960" y="4843440"/>
            <a:ext cx="320364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Box 6"/>
          <p:cNvSpPr/>
          <p:nvPr/>
        </p:nvSpPr>
        <p:spPr>
          <a:xfrm>
            <a:off x="2782800" y="5079960"/>
            <a:ext cx="35337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6"/>
          <p:cNvSpPr/>
          <p:nvPr/>
        </p:nvSpPr>
        <p:spPr>
          <a:xfrm>
            <a:off x="2770200" y="3195720"/>
            <a:ext cx="38955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6"/>
          <p:cNvSpPr/>
          <p:nvPr/>
        </p:nvSpPr>
        <p:spPr>
          <a:xfrm>
            <a:off x="2771640" y="3444840"/>
            <a:ext cx="396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Box 6"/>
          <p:cNvSpPr/>
          <p:nvPr/>
        </p:nvSpPr>
        <p:spPr>
          <a:xfrm>
            <a:off x="2798640" y="1619280"/>
            <a:ext cx="38959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Box 6"/>
          <p:cNvSpPr/>
          <p:nvPr/>
        </p:nvSpPr>
        <p:spPr>
          <a:xfrm>
            <a:off x="2798640" y="1868400"/>
            <a:ext cx="3202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18C9D-EB75-43DF-BD23-8227FC3DA7A1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04:47:55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Box 6"/>
          <p:cNvSpPr/>
          <p:nvPr/>
        </p:nvSpPr>
        <p:spPr>
          <a:xfrm>
            <a:off x="2782800" y="1627200"/>
            <a:ext cx="2684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1</a:t>
            </a: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、制定目标，分解跟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Box 6"/>
          <p:cNvSpPr/>
          <p:nvPr/>
        </p:nvSpPr>
        <p:spPr>
          <a:xfrm>
            <a:off x="7696080" y="3581280"/>
            <a:ext cx="2743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3</a:t>
            </a: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、梳理流程，操作指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6"/>
          <p:cNvSpPr/>
          <p:nvPr/>
        </p:nvSpPr>
        <p:spPr>
          <a:xfrm>
            <a:off x="7709040" y="2457360"/>
            <a:ext cx="2752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2</a:t>
            </a: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、调研需求，问题反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Box 6"/>
          <p:cNvSpPr/>
          <p:nvPr/>
        </p:nvSpPr>
        <p:spPr>
          <a:xfrm>
            <a:off x="6546960" y="4659480"/>
            <a:ext cx="3193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4</a:t>
            </a: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、设定模板，经验分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Box 6"/>
          <p:cNvSpPr/>
          <p:nvPr/>
        </p:nvSpPr>
        <p:spPr>
          <a:xfrm>
            <a:off x="1698480" y="2651040"/>
            <a:ext cx="2772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6</a:t>
            </a: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、对接系统，集思广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6"/>
          <p:cNvSpPr/>
          <p:nvPr/>
        </p:nvSpPr>
        <p:spPr>
          <a:xfrm>
            <a:off x="1727280" y="3814920"/>
            <a:ext cx="2644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5</a:t>
            </a: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、结合培训，规范操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30"/>
          <p:cNvSpPr/>
          <p:nvPr/>
        </p:nvSpPr>
        <p:spPr>
          <a:xfrm flipH="1">
            <a:off x="2825280" y="2138400"/>
            <a:ext cx="2343240" cy="11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31"/>
          <p:cNvSpPr/>
          <p:nvPr/>
        </p:nvSpPr>
        <p:spPr>
          <a:xfrm flipH="1">
            <a:off x="7845120" y="2973240"/>
            <a:ext cx="2343240" cy="11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32"/>
          <p:cNvSpPr/>
          <p:nvPr/>
        </p:nvSpPr>
        <p:spPr>
          <a:xfrm flipH="1">
            <a:off x="1862280" y="3152880"/>
            <a:ext cx="2342880" cy="12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33"/>
          <p:cNvSpPr/>
          <p:nvPr/>
        </p:nvSpPr>
        <p:spPr>
          <a:xfrm flipH="1">
            <a:off x="1872720" y="4335480"/>
            <a:ext cx="2343240" cy="12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34"/>
          <p:cNvSpPr/>
          <p:nvPr/>
        </p:nvSpPr>
        <p:spPr>
          <a:xfrm flipH="1">
            <a:off x="7829280" y="4097160"/>
            <a:ext cx="2343240" cy="129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35"/>
          <p:cNvSpPr/>
          <p:nvPr/>
        </p:nvSpPr>
        <p:spPr>
          <a:xfrm flipH="1">
            <a:off x="6663960" y="5194440"/>
            <a:ext cx="2343240" cy="12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网络 509"/>
          <p:cNvSpPr/>
          <p:nvPr/>
        </p:nvSpPr>
        <p:spPr>
          <a:xfrm flipV="1">
            <a:off x="317520" y="180720"/>
            <a:ext cx="482760" cy="482400"/>
          </a:xfrm>
          <a:custGeom>
            <a:avLst/>
            <a:gdLst/>
            <a:ahLst/>
            <a:rect l="l" t="t" r="r" b="b"/>
            <a:pathLst>
              <a:path w="1889279" h="1810503">
                <a:moveTo>
                  <a:pt x="1408636" y="1462945"/>
                </a:moveTo>
                <a:cubicBezTo>
                  <a:pt x="1471912" y="1494489"/>
                  <a:pt x="1528819" y="1532588"/>
                  <a:pt x="1575786" y="1578162"/>
                </a:cubicBezTo>
                <a:cubicBezTo>
                  <a:pt x="1467281" y="1672800"/>
                  <a:pt x="1335058" y="1742507"/>
                  <a:pt x="1188886" y="1779443"/>
                </a:cubicBezTo>
                <a:cubicBezTo>
                  <a:pt x="1278166" y="1700386"/>
                  <a:pt x="1353810" y="1592053"/>
                  <a:pt x="1408636" y="1462945"/>
                </a:cubicBezTo>
                <a:close/>
                <a:moveTo>
                  <a:pt x="494888" y="1445849"/>
                </a:moveTo>
                <a:cubicBezTo>
                  <a:pt x="556747" y="1590569"/>
                  <a:pt x="643865" y="1709702"/>
                  <a:pt x="747068" y="1790925"/>
                </a:cubicBezTo>
                <a:cubicBezTo>
                  <a:pt x="576321" y="1756303"/>
                  <a:pt x="422614" y="1677538"/>
                  <a:pt x="300900" y="1566189"/>
                </a:cubicBezTo>
                <a:cubicBezTo>
                  <a:pt x="355309" y="1517036"/>
                  <a:pt x="421005" y="1476420"/>
                  <a:pt x="494888" y="1445849"/>
                </a:cubicBezTo>
                <a:close/>
                <a:moveTo>
                  <a:pt x="900586" y="1355871"/>
                </a:moveTo>
                <a:lnTo>
                  <a:pt x="900586" y="1808904"/>
                </a:lnTo>
                <a:lnTo>
                  <a:pt x="884222" y="1808113"/>
                </a:lnTo>
                <a:cubicBezTo>
                  <a:pt x="745280" y="1742581"/>
                  <a:pt x="627378" y="1604992"/>
                  <a:pt x="551037" y="1423344"/>
                </a:cubicBezTo>
                <a:cubicBezTo>
                  <a:pt x="655969" y="1381011"/>
                  <a:pt x="774745" y="1357337"/>
                  <a:pt x="900586" y="1355871"/>
                </a:cubicBezTo>
                <a:close/>
                <a:moveTo>
                  <a:pt x="953521" y="1355186"/>
                </a:moveTo>
                <a:cubicBezTo>
                  <a:pt x="1099660" y="1356509"/>
                  <a:pt x="1236550" y="1386650"/>
                  <a:pt x="1354036" y="1440083"/>
                </a:cubicBezTo>
                <a:cubicBezTo>
                  <a:pt x="1283551" y="1605630"/>
                  <a:pt x="1178611" y="1734316"/>
                  <a:pt x="1054486" y="1804443"/>
                </a:cubicBezTo>
                <a:lnTo>
                  <a:pt x="953521" y="1810503"/>
                </a:lnTo>
                <a:lnTo>
                  <a:pt x="953521" y="1355186"/>
                </a:lnTo>
                <a:close/>
                <a:moveTo>
                  <a:pt x="1517159" y="931303"/>
                </a:moveTo>
                <a:lnTo>
                  <a:pt x="1889279" y="931303"/>
                </a:lnTo>
                <a:cubicBezTo>
                  <a:pt x="1883282" y="1167646"/>
                  <a:pt x="1781715" y="1381244"/>
                  <a:pt x="1618873" y="1536894"/>
                </a:cubicBezTo>
                <a:cubicBezTo>
                  <a:pt x="1566437" y="1485571"/>
                  <a:pt x="1502786" y="1442774"/>
                  <a:pt x="1431939" y="1407715"/>
                </a:cubicBezTo>
                <a:cubicBezTo>
                  <a:pt x="1485774" y="1266553"/>
                  <a:pt x="1516428" y="1104135"/>
                  <a:pt x="1517159" y="931303"/>
                </a:cubicBezTo>
                <a:close/>
                <a:moveTo>
                  <a:pt x="953521" y="931303"/>
                </a:moveTo>
                <a:lnTo>
                  <a:pt x="1456842" y="931303"/>
                </a:lnTo>
                <a:cubicBezTo>
                  <a:pt x="1456123" y="1096196"/>
                  <a:pt x="1427268" y="1250986"/>
                  <a:pt x="1375819" y="1384691"/>
                </a:cubicBezTo>
                <a:cubicBezTo>
                  <a:pt x="1251537" y="1327928"/>
                  <a:pt x="1107288" y="1296191"/>
                  <a:pt x="953521" y="1294902"/>
                </a:cubicBezTo>
                <a:lnTo>
                  <a:pt x="953521" y="931303"/>
                </a:lnTo>
                <a:close/>
                <a:moveTo>
                  <a:pt x="448568" y="931303"/>
                </a:moveTo>
                <a:lnTo>
                  <a:pt x="900586" y="931303"/>
                </a:lnTo>
                <a:lnTo>
                  <a:pt x="900586" y="1295603"/>
                </a:lnTo>
                <a:cubicBezTo>
                  <a:pt x="766605" y="1297053"/>
                  <a:pt x="640053" y="1322469"/>
                  <a:pt x="528061" y="1368046"/>
                </a:cubicBezTo>
                <a:cubicBezTo>
                  <a:pt x="478984" y="1238632"/>
                  <a:pt x="450499" y="1089843"/>
                  <a:pt x="448568" y="931303"/>
                </a:cubicBezTo>
                <a:close/>
                <a:moveTo>
                  <a:pt x="0" y="931303"/>
                </a:moveTo>
                <a:lnTo>
                  <a:pt x="388264" y="931303"/>
                </a:lnTo>
                <a:cubicBezTo>
                  <a:pt x="390220" y="1097785"/>
                  <a:pt x="420532" y="1254193"/>
                  <a:pt x="473139" y="1390578"/>
                </a:cubicBezTo>
                <a:cubicBezTo>
                  <a:pt x="391203" y="1423988"/>
                  <a:pt x="318506" y="1469260"/>
                  <a:pt x="258353" y="1524144"/>
                </a:cubicBezTo>
                <a:cubicBezTo>
                  <a:pt x="102364" y="1370026"/>
                  <a:pt x="5849" y="1161456"/>
                  <a:pt x="0" y="931303"/>
                </a:cubicBezTo>
                <a:close/>
                <a:moveTo>
                  <a:pt x="536834" y="421694"/>
                </a:moveTo>
                <a:cubicBezTo>
                  <a:pt x="646682" y="464986"/>
                  <a:pt x="770110" y="489176"/>
                  <a:pt x="900586" y="490537"/>
                </a:cubicBezTo>
                <a:lnTo>
                  <a:pt x="900586" y="875390"/>
                </a:lnTo>
                <a:lnTo>
                  <a:pt x="448805" y="875390"/>
                </a:lnTo>
                <a:cubicBezTo>
                  <a:pt x="451150" y="709592"/>
                  <a:pt x="482649" y="554587"/>
                  <a:pt x="536834" y="421694"/>
                </a:cubicBezTo>
                <a:close/>
                <a:moveTo>
                  <a:pt x="1356131" y="409527"/>
                </a:moveTo>
                <a:cubicBezTo>
                  <a:pt x="1415590" y="544412"/>
                  <a:pt x="1451132" y="703874"/>
                  <a:pt x="1455052" y="875390"/>
                </a:cubicBezTo>
                <a:lnTo>
                  <a:pt x="953521" y="875390"/>
                </a:lnTo>
                <a:lnTo>
                  <a:pt x="953521" y="491238"/>
                </a:lnTo>
                <a:cubicBezTo>
                  <a:pt x="1099303" y="490092"/>
                  <a:pt x="1236528" y="461431"/>
                  <a:pt x="1356131" y="409527"/>
                </a:cubicBezTo>
                <a:close/>
                <a:moveTo>
                  <a:pt x="271202" y="273767"/>
                </a:moveTo>
                <a:cubicBezTo>
                  <a:pt x="330895" y="324894"/>
                  <a:pt x="401533" y="367494"/>
                  <a:pt x="480768" y="398692"/>
                </a:cubicBezTo>
                <a:cubicBezTo>
                  <a:pt x="424147" y="539118"/>
                  <a:pt x="390867" y="701724"/>
                  <a:pt x="388496" y="875390"/>
                </a:cubicBezTo>
                <a:lnTo>
                  <a:pt x="238" y="875390"/>
                </a:lnTo>
                <a:cubicBezTo>
                  <a:pt x="7162" y="640451"/>
                  <a:pt x="108645" y="428248"/>
                  <a:pt x="271202" y="273767"/>
                </a:cubicBezTo>
                <a:close/>
                <a:moveTo>
                  <a:pt x="1605567" y="261436"/>
                </a:moveTo>
                <a:cubicBezTo>
                  <a:pt x="1775300" y="417133"/>
                  <a:pt x="1881942" y="634296"/>
                  <a:pt x="1889035" y="875390"/>
                </a:cubicBezTo>
                <a:lnTo>
                  <a:pt x="1515364" y="875390"/>
                </a:lnTo>
                <a:cubicBezTo>
                  <a:pt x="1511419" y="696081"/>
                  <a:pt x="1474168" y="529014"/>
                  <a:pt x="1413107" y="386152"/>
                </a:cubicBezTo>
                <a:cubicBezTo>
                  <a:pt x="1485941" y="353453"/>
                  <a:pt x="1551126" y="311628"/>
                  <a:pt x="1605567" y="261436"/>
                </a:cubicBezTo>
                <a:close/>
                <a:moveTo>
                  <a:pt x="748157" y="19413"/>
                </a:moveTo>
                <a:cubicBezTo>
                  <a:pt x="649482" y="96557"/>
                  <a:pt x="565491" y="208310"/>
                  <a:pt x="504779" y="344256"/>
                </a:cubicBezTo>
                <a:cubicBezTo>
                  <a:pt x="432706" y="315858"/>
                  <a:pt x="368354" y="277545"/>
                  <a:pt x="313920" y="231604"/>
                </a:cubicBezTo>
                <a:cubicBezTo>
                  <a:pt x="434240" y="127070"/>
                  <a:pt x="583275" y="52667"/>
                  <a:pt x="748157" y="19413"/>
                </a:cubicBezTo>
                <a:close/>
                <a:moveTo>
                  <a:pt x="1137621" y="18543"/>
                </a:moveTo>
                <a:cubicBezTo>
                  <a:pt x="1297904" y="50310"/>
                  <a:pt x="1443338" y="120918"/>
                  <a:pt x="1562575" y="219802"/>
                </a:cubicBezTo>
                <a:cubicBezTo>
                  <a:pt x="1512842" y="265093"/>
                  <a:pt x="1453308" y="302843"/>
                  <a:pt x="1386970" y="332857"/>
                </a:cubicBezTo>
                <a:cubicBezTo>
                  <a:pt x="1323718" y="199817"/>
                  <a:pt x="1237626" y="91674"/>
                  <a:pt x="1137621" y="18543"/>
                </a:cubicBezTo>
                <a:close/>
                <a:moveTo>
                  <a:pt x="900586" y="1702"/>
                </a:moveTo>
                <a:lnTo>
                  <a:pt x="900586" y="430269"/>
                </a:lnTo>
                <a:cubicBezTo>
                  <a:pt x="778345" y="428899"/>
                  <a:pt x="662774" y="406468"/>
                  <a:pt x="560047" y="366408"/>
                </a:cubicBezTo>
                <a:cubicBezTo>
                  <a:pt x="637783" y="193348"/>
                  <a:pt x="753999" y="63227"/>
                  <a:pt x="890213" y="2203"/>
                </a:cubicBezTo>
                <a:lnTo>
                  <a:pt x="900586" y="1702"/>
                </a:lnTo>
                <a:close/>
                <a:moveTo>
                  <a:pt x="953521" y="0"/>
                </a:moveTo>
                <a:lnTo>
                  <a:pt x="981035" y="1330"/>
                </a:lnTo>
                <a:cubicBezTo>
                  <a:pt x="1124068" y="53565"/>
                  <a:pt x="1247786" y="180867"/>
                  <a:pt x="1332000" y="354889"/>
                </a:cubicBezTo>
                <a:cubicBezTo>
                  <a:pt x="1219743" y="403080"/>
                  <a:pt x="1090709" y="429800"/>
                  <a:pt x="953521" y="430954"/>
                </a:cubicBezTo>
                <a:lnTo>
                  <a:pt x="953521" y="0"/>
                </a:lnTo>
                <a:close/>
              </a:path>
            </a:pathLst>
          </a:cu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文本框 4"/>
          <p:cNvSpPr/>
          <p:nvPr/>
        </p:nvSpPr>
        <p:spPr>
          <a:xfrm>
            <a:off x="896760" y="18108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解决方案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实施计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Group 17"/>
          <p:cNvGrpSpPr/>
          <p:nvPr/>
        </p:nvGrpSpPr>
        <p:grpSpPr>
          <a:xfrm>
            <a:off x="4334040" y="1695600"/>
            <a:ext cx="3333600" cy="3485880"/>
            <a:chOff x="4334040" y="1695600"/>
            <a:chExt cx="3333600" cy="3485880"/>
          </a:xfrm>
        </p:grpSpPr>
        <p:sp>
          <p:nvSpPr>
            <p:cNvPr id="504" name="Freeform 5"/>
            <p:cNvSpPr/>
            <p:nvPr/>
          </p:nvSpPr>
          <p:spPr>
            <a:xfrm>
              <a:off x="5454720" y="1695600"/>
              <a:ext cx="1092240" cy="1663560"/>
            </a:xfrm>
            <a:custGeom>
              <a:avLst/>
              <a:gdLst/>
              <a:ahLst/>
              <a:rect l="l" t="t" r="r" b="b"/>
              <a:pathLst>
                <a:path w="34" h="52">
                  <a:moveTo>
                    <a:pt x="34" y="18"/>
                  </a:moveTo>
                  <a:cubicBezTo>
                    <a:pt x="34" y="8"/>
                    <a:pt x="27" y="1"/>
                    <a:pt x="17" y="1"/>
                  </a:cubicBezTo>
                  <a:cubicBezTo>
                    <a:pt x="8" y="0"/>
                    <a:pt x="0" y="8"/>
                    <a:pt x="0" y="18"/>
                  </a:cubicBezTo>
                  <a:cubicBezTo>
                    <a:pt x="0" y="21"/>
                    <a:pt x="1" y="24"/>
                    <a:pt x="2" y="26"/>
                  </a:cubicBezTo>
                  <a:cubicBezTo>
                    <a:pt x="2" y="26"/>
                    <a:pt x="2" y="26"/>
                    <a:pt x="2" y="26"/>
                  </a:cubicBezTo>
                  <a:cubicBezTo>
                    <a:pt x="17" y="52"/>
                    <a:pt x="17" y="52"/>
                    <a:pt x="17" y="52"/>
                  </a:cubicBezTo>
                  <a:cubicBezTo>
                    <a:pt x="32" y="26"/>
                    <a:pt x="32" y="26"/>
                    <a:pt x="32" y="26"/>
                  </a:cubicBezTo>
                  <a:cubicBezTo>
                    <a:pt x="32" y="26"/>
                    <a:pt x="32" y="26"/>
                    <a:pt x="32" y="26"/>
                  </a:cubicBezTo>
                  <a:cubicBezTo>
                    <a:pt x="33" y="24"/>
                    <a:pt x="34" y="21"/>
                    <a:pt x="34" y="18"/>
                  </a:cubicBezTo>
                  <a:close/>
                  <a:moveTo>
                    <a:pt x="17" y="32"/>
                  </a:moveTo>
                  <a:cubicBezTo>
                    <a:pt x="9" y="32"/>
                    <a:pt x="3" y="26"/>
                    <a:pt x="3" y="18"/>
                  </a:cubicBezTo>
                  <a:cubicBezTo>
                    <a:pt x="3" y="10"/>
                    <a:pt x="9" y="3"/>
                    <a:pt x="17" y="3"/>
                  </a:cubicBezTo>
                  <a:cubicBezTo>
                    <a:pt x="25" y="3"/>
                    <a:pt x="31" y="10"/>
                    <a:pt x="31" y="18"/>
                  </a:cubicBezTo>
                  <a:cubicBezTo>
                    <a:pt x="31" y="26"/>
                    <a:pt x="25" y="32"/>
                    <a:pt x="17" y="32"/>
                  </a:cubicBezTo>
                  <a:close/>
                </a:path>
              </a:pathLst>
            </a:custGeom>
            <a:solidFill>
              <a:srgbClr val="032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6"/>
            <p:cNvSpPr/>
            <p:nvPr/>
          </p:nvSpPr>
          <p:spPr>
            <a:xfrm>
              <a:off x="5454720" y="3517920"/>
              <a:ext cx="1092240" cy="1663560"/>
            </a:xfrm>
            <a:custGeom>
              <a:avLst/>
              <a:gdLst/>
              <a:ahLst/>
              <a:rect l="l" t="t" r="r" b="b"/>
              <a:pathLst>
                <a:path w="34" h="52">
                  <a:moveTo>
                    <a:pt x="0" y="35"/>
                  </a:moveTo>
                  <a:cubicBezTo>
                    <a:pt x="0" y="44"/>
                    <a:pt x="8" y="52"/>
                    <a:pt x="17" y="52"/>
                  </a:cubicBezTo>
                  <a:cubicBezTo>
                    <a:pt x="27" y="52"/>
                    <a:pt x="34" y="44"/>
                    <a:pt x="34" y="35"/>
                  </a:cubicBezTo>
                  <a:cubicBezTo>
                    <a:pt x="34" y="32"/>
                    <a:pt x="34" y="29"/>
                    <a:pt x="32" y="26"/>
                  </a:cubicBezTo>
                  <a:cubicBezTo>
                    <a:pt x="32" y="26"/>
                    <a:pt x="32" y="26"/>
                    <a:pt x="32" y="26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2" y="26"/>
                    <a:pt x="2" y="26"/>
                    <a:pt x="2" y="26"/>
                  </a:cubicBezTo>
                  <a:cubicBezTo>
                    <a:pt x="2" y="26"/>
                    <a:pt x="2" y="26"/>
                    <a:pt x="2" y="26"/>
                  </a:cubicBezTo>
                  <a:cubicBezTo>
                    <a:pt x="1" y="29"/>
                    <a:pt x="0" y="32"/>
                    <a:pt x="0" y="35"/>
                  </a:cubicBezTo>
                  <a:close/>
                  <a:moveTo>
                    <a:pt x="17" y="21"/>
                  </a:moveTo>
                  <a:cubicBezTo>
                    <a:pt x="25" y="21"/>
                    <a:pt x="31" y="27"/>
                    <a:pt x="31" y="35"/>
                  </a:cubicBezTo>
                  <a:cubicBezTo>
                    <a:pt x="31" y="43"/>
                    <a:pt x="25" y="49"/>
                    <a:pt x="17" y="49"/>
                  </a:cubicBezTo>
                  <a:cubicBezTo>
                    <a:pt x="9" y="49"/>
                    <a:pt x="3" y="43"/>
                    <a:pt x="3" y="35"/>
                  </a:cubicBezTo>
                  <a:cubicBezTo>
                    <a:pt x="3" y="27"/>
                    <a:pt x="9" y="21"/>
                    <a:pt x="17" y="21"/>
                  </a:cubicBezTo>
                  <a:close/>
                </a:path>
              </a:pathLst>
            </a:cu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7"/>
            <p:cNvSpPr/>
            <p:nvPr/>
          </p:nvSpPr>
          <p:spPr>
            <a:xfrm>
              <a:off x="4334040" y="2238480"/>
              <a:ext cx="1603440" cy="1184040"/>
            </a:xfrm>
            <a:custGeom>
              <a:avLst/>
              <a:gdLst/>
              <a:ahLst/>
              <a:rect l="l" t="t" r="r" b="b"/>
              <a:pathLst>
                <a:path w="50" h="37">
                  <a:moveTo>
                    <a:pt x="29" y="4"/>
                  </a:moveTo>
                  <a:cubicBezTo>
                    <a:pt x="20" y="0"/>
                    <a:pt x="10" y="2"/>
                    <a:pt x="5" y="11"/>
                  </a:cubicBezTo>
                  <a:cubicBezTo>
                    <a:pt x="0" y="19"/>
                    <a:pt x="3" y="29"/>
                    <a:pt x="11" y="34"/>
                  </a:cubicBezTo>
                  <a:cubicBezTo>
                    <a:pt x="14" y="36"/>
                    <a:pt x="17" y="37"/>
                    <a:pt x="20" y="37"/>
                  </a:cubicBezTo>
                  <a:cubicBezTo>
                    <a:pt x="20" y="37"/>
                    <a:pt x="20" y="37"/>
                    <a:pt x="20" y="37"/>
                  </a:cubicBezTo>
                  <a:cubicBezTo>
                    <a:pt x="50" y="37"/>
                    <a:pt x="50" y="37"/>
                    <a:pt x="50" y="37"/>
                  </a:cubicBezTo>
                  <a:cubicBezTo>
                    <a:pt x="35" y="11"/>
                    <a:pt x="35" y="11"/>
                    <a:pt x="35" y="11"/>
                  </a:cubicBezTo>
                  <a:cubicBezTo>
                    <a:pt x="35" y="11"/>
                    <a:pt x="35" y="11"/>
                    <a:pt x="35" y="11"/>
                  </a:cubicBezTo>
                  <a:cubicBezTo>
                    <a:pt x="34" y="8"/>
                    <a:pt x="31" y="6"/>
                    <a:pt x="29" y="4"/>
                  </a:cubicBezTo>
                  <a:close/>
                  <a:moveTo>
                    <a:pt x="32" y="26"/>
                  </a:moveTo>
                  <a:cubicBezTo>
                    <a:pt x="28" y="33"/>
                    <a:pt x="20" y="36"/>
                    <a:pt x="13" y="32"/>
                  </a:cubicBezTo>
                  <a:cubicBezTo>
                    <a:pt x="6" y="28"/>
                    <a:pt x="4" y="19"/>
                    <a:pt x="8" y="12"/>
                  </a:cubicBezTo>
                  <a:cubicBezTo>
                    <a:pt x="12" y="5"/>
                    <a:pt x="20" y="3"/>
                    <a:pt x="27" y="7"/>
                  </a:cubicBezTo>
                  <a:cubicBezTo>
                    <a:pt x="34" y="11"/>
                    <a:pt x="36" y="20"/>
                    <a:pt x="32" y="26"/>
                  </a:cubicBezTo>
                  <a:close/>
                </a:path>
              </a:pathLst>
            </a:cu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8"/>
            <p:cNvSpPr/>
            <p:nvPr/>
          </p:nvSpPr>
          <p:spPr>
            <a:xfrm>
              <a:off x="6064200" y="3486240"/>
              <a:ext cx="1603440" cy="1184400"/>
            </a:xfrm>
            <a:custGeom>
              <a:avLst/>
              <a:gdLst/>
              <a:ahLst/>
              <a:rect l="l" t="t" r="r" b="b"/>
              <a:pathLst>
                <a:path w="50" h="37">
                  <a:moveTo>
                    <a:pt x="22" y="32"/>
                  </a:moveTo>
                  <a:cubicBezTo>
                    <a:pt x="30" y="37"/>
                    <a:pt x="40" y="34"/>
                    <a:pt x="45" y="26"/>
                  </a:cubicBezTo>
                  <a:cubicBezTo>
                    <a:pt x="50" y="18"/>
                    <a:pt x="47" y="7"/>
                    <a:pt x="39" y="2"/>
                  </a:cubicBezTo>
                  <a:cubicBezTo>
                    <a:pt x="36" y="1"/>
                    <a:pt x="33" y="0"/>
                    <a:pt x="30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5" y="26"/>
                    <a:pt x="15" y="26"/>
                    <a:pt x="15" y="26"/>
                  </a:cubicBezTo>
                  <a:cubicBezTo>
                    <a:pt x="15" y="26"/>
                    <a:pt x="15" y="26"/>
                    <a:pt x="15" y="26"/>
                  </a:cubicBezTo>
                  <a:cubicBezTo>
                    <a:pt x="17" y="28"/>
                    <a:pt x="19" y="31"/>
                    <a:pt x="22" y="32"/>
                  </a:cubicBezTo>
                  <a:close/>
                  <a:moveTo>
                    <a:pt x="18" y="10"/>
                  </a:moveTo>
                  <a:cubicBezTo>
                    <a:pt x="22" y="3"/>
                    <a:pt x="31" y="1"/>
                    <a:pt x="37" y="5"/>
                  </a:cubicBezTo>
                  <a:cubicBezTo>
                    <a:pt x="44" y="9"/>
                    <a:pt x="47" y="18"/>
                    <a:pt x="43" y="25"/>
                  </a:cubicBezTo>
                  <a:cubicBezTo>
                    <a:pt x="39" y="31"/>
                    <a:pt x="30" y="34"/>
                    <a:pt x="23" y="30"/>
                  </a:cubicBezTo>
                  <a:cubicBezTo>
                    <a:pt x="16" y="26"/>
                    <a:pt x="14" y="17"/>
                    <a:pt x="18" y="10"/>
                  </a:cubicBezTo>
                  <a:close/>
                </a:path>
              </a:pathLst>
            </a:custGeom>
            <a:solidFill>
              <a:srgbClr val="032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9"/>
            <p:cNvSpPr/>
            <p:nvPr/>
          </p:nvSpPr>
          <p:spPr>
            <a:xfrm>
              <a:off x="4334040" y="3486240"/>
              <a:ext cx="1603440" cy="1184400"/>
            </a:xfrm>
            <a:custGeom>
              <a:avLst/>
              <a:gdLst/>
              <a:ahLst/>
              <a:rect l="l" t="t" r="r" b="b"/>
              <a:pathLst>
                <a:path w="50" h="37">
                  <a:moveTo>
                    <a:pt x="11" y="2"/>
                  </a:moveTo>
                  <a:cubicBezTo>
                    <a:pt x="3" y="6"/>
                    <a:pt x="0" y="17"/>
                    <a:pt x="5" y="25"/>
                  </a:cubicBezTo>
                  <a:cubicBezTo>
                    <a:pt x="9" y="34"/>
                    <a:pt x="20" y="37"/>
                    <a:pt x="28" y="32"/>
                  </a:cubicBezTo>
                  <a:cubicBezTo>
                    <a:pt x="31" y="30"/>
                    <a:pt x="33" y="28"/>
                    <a:pt x="35" y="26"/>
                  </a:cubicBezTo>
                  <a:cubicBezTo>
                    <a:pt x="35" y="26"/>
                    <a:pt x="35" y="26"/>
                    <a:pt x="35" y="26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17" y="0"/>
                    <a:pt x="14" y="0"/>
                    <a:pt x="11" y="2"/>
                  </a:cubicBezTo>
                  <a:close/>
                  <a:moveTo>
                    <a:pt x="32" y="10"/>
                  </a:moveTo>
                  <a:cubicBezTo>
                    <a:pt x="36" y="17"/>
                    <a:pt x="34" y="26"/>
                    <a:pt x="27" y="29"/>
                  </a:cubicBezTo>
                  <a:cubicBezTo>
                    <a:pt x="20" y="33"/>
                    <a:pt x="11" y="31"/>
                    <a:pt x="7" y="24"/>
                  </a:cubicBezTo>
                  <a:cubicBezTo>
                    <a:pt x="3" y="17"/>
                    <a:pt x="6" y="8"/>
                    <a:pt x="13" y="4"/>
                  </a:cubicBezTo>
                  <a:cubicBezTo>
                    <a:pt x="20" y="0"/>
                    <a:pt x="28" y="3"/>
                    <a:pt x="32" y="10"/>
                  </a:cubicBezTo>
                  <a:close/>
                </a:path>
              </a:pathLst>
            </a:custGeom>
            <a:solidFill>
              <a:srgbClr val="032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10"/>
            <p:cNvSpPr/>
            <p:nvPr/>
          </p:nvSpPr>
          <p:spPr>
            <a:xfrm>
              <a:off x="6064200" y="2238480"/>
              <a:ext cx="1603440" cy="1184040"/>
            </a:xfrm>
            <a:custGeom>
              <a:avLst/>
              <a:gdLst/>
              <a:ahLst/>
              <a:rect l="l" t="t" r="r" b="b"/>
              <a:pathLst>
                <a:path w="50" h="37">
                  <a:moveTo>
                    <a:pt x="39" y="35"/>
                  </a:moveTo>
                  <a:cubicBezTo>
                    <a:pt x="47" y="30"/>
                    <a:pt x="50" y="20"/>
                    <a:pt x="46" y="11"/>
                  </a:cubicBezTo>
                  <a:cubicBezTo>
                    <a:pt x="41" y="3"/>
                    <a:pt x="30" y="0"/>
                    <a:pt x="22" y="5"/>
                  </a:cubicBezTo>
                  <a:cubicBezTo>
                    <a:pt x="19" y="6"/>
                    <a:pt x="17" y="8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30" y="37"/>
                    <a:pt x="30" y="37"/>
                    <a:pt x="30" y="37"/>
                  </a:cubicBezTo>
                  <a:cubicBezTo>
                    <a:pt x="30" y="37"/>
                    <a:pt x="30" y="37"/>
                    <a:pt x="30" y="37"/>
                  </a:cubicBezTo>
                  <a:cubicBezTo>
                    <a:pt x="33" y="37"/>
                    <a:pt x="36" y="36"/>
                    <a:pt x="39" y="35"/>
                  </a:cubicBezTo>
                  <a:close/>
                  <a:moveTo>
                    <a:pt x="18" y="27"/>
                  </a:moveTo>
                  <a:cubicBezTo>
                    <a:pt x="14" y="20"/>
                    <a:pt x="17" y="11"/>
                    <a:pt x="24" y="7"/>
                  </a:cubicBezTo>
                  <a:cubicBezTo>
                    <a:pt x="30" y="3"/>
                    <a:pt x="39" y="6"/>
                    <a:pt x="43" y="13"/>
                  </a:cubicBezTo>
                  <a:cubicBezTo>
                    <a:pt x="47" y="20"/>
                    <a:pt x="44" y="28"/>
                    <a:pt x="37" y="32"/>
                  </a:cubicBezTo>
                  <a:cubicBezTo>
                    <a:pt x="31" y="36"/>
                    <a:pt x="22" y="34"/>
                    <a:pt x="18" y="27"/>
                  </a:cubicBezTo>
                  <a:close/>
                </a:path>
              </a:pathLst>
            </a:cu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49"/>
            <p:cNvSpPr/>
            <p:nvPr/>
          </p:nvSpPr>
          <p:spPr>
            <a:xfrm>
              <a:off x="5232600" y="3006720"/>
              <a:ext cx="31680" cy="316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  <a:lnTo>
                    <a:pt x="0" y="1"/>
                  </a:lnTo>
                  <a:close/>
                  <a:moveTo>
                    <a:pt x="1" y="1"/>
                  </a:move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lnTo>
                    <a:pt x="1" y="1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Rectangle 50"/>
            <p:cNvSpPr/>
            <p:nvPr/>
          </p:nvSpPr>
          <p:spPr>
            <a:xfrm>
              <a:off x="5264280" y="3006720"/>
              <a:ext cx="1800" cy="31680"/>
            </a:xfrm>
            <a:prstGeom prst="rect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51"/>
            <p:cNvSpPr/>
            <p:nvPr/>
          </p:nvSpPr>
          <p:spPr>
            <a:xfrm>
              <a:off x="5295960" y="3006720"/>
              <a:ext cx="360" cy="31680"/>
            </a:xfrm>
            <a:custGeom>
              <a:avLst/>
              <a:gdLst/>
              <a:ahLst/>
              <a:rect l="l" t="t" r="r" b="b"/>
              <a:pathLst>
                <a:path w="635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52"/>
            <p:cNvSpPr/>
            <p:nvPr/>
          </p:nvSpPr>
          <p:spPr>
            <a:xfrm>
              <a:off x="5423040" y="3133800"/>
              <a:ext cx="360" cy="31680"/>
            </a:xfrm>
            <a:custGeom>
              <a:avLst/>
              <a:gdLst/>
              <a:ahLst/>
              <a:rect l="l" t="t" r="r" b="b"/>
              <a:pathLst>
                <a:path w="635" h="1">
                  <a:moveTo>
                    <a:pt x="0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72"/>
            <p:cNvSpPr/>
            <p:nvPr/>
          </p:nvSpPr>
          <p:spPr>
            <a:xfrm>
              <a:off x="5232600" y="2910240"/>
              <a:ext cx="31680" cy="327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0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73"/>
            <p:cNvSpPr/>
            <p:nvPr/>
          </p:nvSpPr>
          <p:spPr>
            <a:xfrm>
              <a:off x="5264280" y="2910240"/>
              <a:ext cx="31680" cy="327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lnTo>
                    <a:pt x="0" y="1"/>
                  </a:lnTo>
                  <a:close/>
                  <a:moveTo>
                    <a:pt x="1" y="1"/>
                  </a:move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lnTo>
                    <a:pt x="1" y="1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74"/>
            <p:cNvSpPr/>
            <p:nvPr/>
          </p:nvSpPr>
          <p:spPr>
            <a:xfrm>
              <a:off x="5295960" y="2910240"/>
              <a:ext cx="31680" cy="327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0" y="1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86"/>
            <p:cNvSpPr/>
            <p:nvPr/>
          </p:nvSpPr>
          <p:spPr>
            <a:xfrm>
              <a:off x="6000840" y="2527200"/>
              <a:ext cx="31680" cy="316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1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  <a:close/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89"/>
            <p:cNvSpPr/>
            <p:nvPr/>
          </p:nvSpPr>
          <p:spPr>
            <a:xfrm>
              <a:off x="6127560" y="2527200"/>
              <a:ext cx="1800" cy="31680"/>
            </a:xfrm>
            <a:custGeom>
              <a:avLst/>
              <a:gdLst/>
              <a:ahLst/>
              <a:rect l="l" t="t" r="r" b="b"/>
              <a:pathLst>
                <a:path w="635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405"/>
            <p:cNvSpPr/>
            <p:nvPr/>
          </p:nvSpPr>
          <p:spPr>
            <a:xfrm>
              <a:off x="5264280" y="4126320"/>
              <a:ext cx="31680" cy="331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文本框 17"/>
            <p:cNvSpPr/>
            <p:nvPr/>
          </p:nvSpPr>
          <p:spPr>
            <a:xfrm>
              <a:off x="4678920" y="2682360"/>
              <a:ext cx="543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te</a:t>
              </a:r>
              <a:r>
                <a:rPr b="1" lang="zh-CN" sz="12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文本框 18"/>
            <p:cNvSpPr/>
            <p:nvPr/>
          </p:nvSpPr>
          <p:spPr>
            <a:xfrm>
              <a:off x="5722920" y="1967040"/>
              <a:ext cx="515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cc3300"/>
                  </a:solidFill>
                  <a:latin typeface="Calibri"/>
                  <a:ea typeface="微软雅黑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文本框 19"/>
            <p:cNvSpPr/>
            <p:nvPr/>
          </p:nvSpPr>
          <p:spPr>
            <a:xfrm>
              <a:off x="5729760" y="4502160"/>
              <a:ext cx="57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tex</a:t>
              </a:r>
              <a:r>
                <a:rPr b="1" lang="zh-CN" sz="12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文本框 21"/>
            <p:cNvSpPr/>
            <p:nvPr/>
          </p:nvSpPr>
          <p:spPr>
            <a:xfrm>
              <a:off x="6781320" y="2678400"/>
              <a:ext cx="57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tex</a:t>
              </a:r>
              <a:r>
                <a:rPr b="1" lang="zh-CN" sz="12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文本框 22"/>
            <p:cNvSpPr/>
            <p:nvPr/>
          </p:nvSpPr>
          <p:spPr>
            <a:xfrm>
              <a:off x="4683240" y="3736800"/>
              <a:ext cx="515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cc3300"/>
                  </a:solidFill>
                  <a:latin typeface="Calibri"/>
                  <a:ea typeface="微软雅黑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文本框 23"/>
            <p:cNvSpPr/>
            <p:nvPr/>
          </p:nvSpPr>
          <p:spPr>
            <a:xfrm>
              <a:off x="6780240" y="3753000"/>
              <a:ext cx="515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cc3300"/>
                  </a:solidFill>
                  <a:latin typeface="Calibri"/>
                  <a:ea typeface="微软雅黑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Oval 39"/>
            <p:cNvSpPr/>
            <p:nvPr/>
          </p:nvSpPr>
          <p:spPr>
            <a:xfrm flipV="1">
              <a:off x="5692680" y="3152880"/>
              <a:ext cx="637920" cy="637920"/>
            </a:xfrm>
            <a:prstGeom prst="ellipse">
              <a:avLst/>
            </a:prstGeom>
            <a:solidFill>
              <a:srgbClr val="29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7T05:14:00Z</dcterms:created>
  <dc:creator>哎呀小小草</dc:creator>
  <dc:description>https://800sucai.taobao.com</dc:description>
  <cp:keywords>https://800sucai.taobao.com</cp:keywords>
  <dc:language>en-US</dc:language>
  <cp:lastModifiedBy>Administrator</cp:lastModifiedBy>
  <dcterms:modified xsi:type="dcterms:W3CDTF">2016-09-09T03:20:02Z</dcterms:modified>
  <cp:revision>149</cp:revision>
  <dc:subject>哎呀小小草</dc:subject>
  <dc:title>哎呀小小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