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7C8B-E86D-463D-8D26-FF6248591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DFF-E2AD-4499-901C-BB75DFE68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EEC3-2C22-4BF1-A8F4-628F7BBB9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854D-A7B2-4258-B5AA-36FA5E306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669A-9613-4149-8526-CEE3F4CF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F758-B7A7-44A1-80D1-876C2D3FE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A847-D677-4BAA-8E22-2A4182EB8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7866-5E77-4CBB-B643-928FE9034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0158-7724-4F22-BA8A-AA9BF58A2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68DA-1293-4747-87F0-94C5C0E19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880C-154A-47A7-BE26-DCADE3C2F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6882-C505-43E6-8E62-E4EC171FE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  <a:ea typeface="华文细黑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fld id="{253B9E2C-B801-4A6A-9260-36F770AF2A44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g1"/>
          <p:cNvPicPr/>
          <p:nvPr/>
        </p:nvPicPr>
        <p:blipFill>
          <a:blip r:embed="rId3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360" y="1773360"/>
            <a:ext cx="638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浅析如何降低毕业论文的查重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副标题 4"/>
          <p:cNvSpPr/>
          <p:nvPr/>
        </p:nvSpPr>
        <p:spPr>
          <a:xfrm>
            <a:off x="108000" y="3357720"/>
            <a:ext cx="482436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汇  报 人：王成聪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学       号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S2011380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长城特粗圆体"/>
              </a:rPr>
              <a:t>指导老师：高素萍 教授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44520" y="1341360"/>
            <a:ext cx="8207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检测论文的价格和万方、维普差不多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相比万方、维普检测系统更接近知网，但其检测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严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程度要高于知网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和知网一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可作为后期修改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56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3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数据库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484200" y="1268280"/>
            <a:ext cx="8207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主要包括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4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期刊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报纸、博硕士学位论文以及全国重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等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12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期刊全文，总量已达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227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是目前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华文细黑"/>
              </a:rPr>
              <a:t>最全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的中文数据库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主要收录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98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国家级学会、协会、研究会组织召开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会议论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452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科技类期刊全文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华文细黑"/>
              </a:rPr>
              <a:t>1989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以来共收录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中文期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细黑"/>
              </a:rPr>
              <a:t>8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余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，全文文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600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多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篇，中文报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外文期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余种，以及十多亿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网页资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。（使用不方便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万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&amp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内容占位符 2"/>
          <p:cNvSpPr/>
          <p:nvPr/>
        </p:nvSpPr>
        <p:spPr>
          <a:xfrm>
            <a:off x="324000" y="1138320"/>
            <a:ext cx="820728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年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李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丁辉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创建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www.paperpass.org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网站，两人编写并利用“爬虫”软件非法复制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公司的数据库，在网上进行论文查重检测，非法获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70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多万元。部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技术人员重新注册了域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:www. newpaperpass.org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因此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集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“万方”、“维普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等数据库于一身，无论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库容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还是学科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覆盖面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都不逊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，论文总数高达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900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万篇，网页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华文细黑"/>
              </a:rPr>
              <a:t>多亿个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数据库特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6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4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四种检测系统算法对比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内容占位符 2"/>
          <p:cNvSpPr/>
          <p:nvPr/>
        </p:nvSpPr>
        <p:spPr>
          <a:xfrm>
            <a:off x="465120" y="1628640"/>
            <a:ext cx="82072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各个检测系统的算法区别并不大，只是数据库有多有少；除了万方以外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、维普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都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；软件界定抄袭的阈值设置不同，这些都会影响检测结果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下面以知网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对比算法为例进行讲解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内容占位符 2"/>
          <p:cNvSpPr/>
          <p:nvPr/>
        </p:nvSpPr>
        <p:spPr>
          <a:xfrm>
            <a:off x="324000" y="1628640"/>
            <a:ext cx="8207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知网检测采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，整篇上传检测，格式对检测结果的影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几乎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如果该论文有自动生成的目录，系统会将按论文章节分段检测，否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自动分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进行检测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内容占位符 2"/>
          <p:cNvSpPr/>
          <p:nvPr/>
        </p:nvSpPr>
        <p:spPr>
          <a:xfrm>
            <a:off x="209520" y="1341360"/>
            <a:ext cx="82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对界定抄袭的灵敏度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阀值设为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以段落计，低于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抄袭或引用会被忽略。例如：某段有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100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个字，单篇引用文献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5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字以下是不会被检测出来的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连续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13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个字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相似或抄袭都会被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红字标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但是必须满足第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点里面的前提条件：即你所引用或抄袭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某篇文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总字数在检测段落中要超过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5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2392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内容占位符 2"/>
          <p:cNvSpPr/>
          <p:nvPr/>
        </p:nvSpPr>
        <p:spPr>
          <a:xfrm>
            <a:off x="225360" y="1052640"/>
            <a:ext cx="820728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的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复写率算法（红色字体）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类似，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引用率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内嵌算法不合理，系统默认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凡是参考文献上标所在的两个句号之间的文字都算是引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会用蓝色字体标示出来，用来计算引用率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通达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G:\小鸟依人\N[Y1COBUGW6Q{%XY%69ORKB.jpg"/>
          <p:cNvPicPr/>
          <p:nvPr/>
        </p:nvPicPr>
        <p:blipFill>
          <a:blip r:embed="rId1"/>
          <a:stretch/>
        </p:blipFill>
        <p:spPr>
          <a:xfrm>
            <a:off x="395280" y="3716280"/>
            <a:ext cx="8317080" cy="2960640"/>
          </a:xfrm>
          <a:prstGeom prst="rect">
            <a:avLst/>
          </a:prstGeom>
          <a:ln w="0">
            <a:noFill/>
          </a:ln>
        </p:spPr>
      </p:pic>
      <p:sp>
        <p:nvSpPr>
          <p:cNvPr id="183" name="椭圆 8"/>
          <p:cNvSpPr/>
          <p:nvPr/>
        </p:nvSpPr>
        <p:spPr>
          <a:xfrm>
            <a:off x="5759280" y="4724280"/>
            <a:ext cx="61308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5"/>
          <p:cNvSpPr/>
          <p:nvPr/>
        </p:nvSpPr>
        <p:spPr>
          <a:xfrm>
            <a:off x="1187280" y="5516640"/>
            <a:ext cx="576360" cy="420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6"/>
          <p:cNvSpPr/>
          <p:nvPr/>
        </p:nvSpPr>
        <p:spPr>
          <a:xfrm>
            <a:off x="395280" y="4365720"/>
            <a:ext cx="57636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内容占位符 2"/>
          <p:cNvSpPr/>
          <p:nvPr/>
        </p:nvSpPr>
        <p:spPr>
          <a:xfrm>
            <a:off x="204840" y="1341360"/>
            <a:ext cx="8207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和知网检测系统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对算法相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以句子为最小检测单位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也采用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模糊算法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（类似于杀毒软件的云查杀），加上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的数据库集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万方、维普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于一身，检测算法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比知网还要严格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准确率达到了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99%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  <a:ea typeface="华文细黑"/>
              </a:rPr>
              <a:t>以上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往往偏高于知网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华文细黑"/>
              </a:rPr>
              <a:t>7%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华文细黑"/>
              </a:rPr>
              <a:t>左右。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287280" y="189000"/>
            <a:ext cx="820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检测系统算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V="1">
            <a:off x="2227320" y="2168640"/>
            <a:ext cx="38088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263680" y="4724280"/>
            <a:ext cx="344520" cy="2476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608200" y="216864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608200" y="497196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532240" y="28656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532240" y="42624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987640" y="44280"/>
            <a:ext cx="597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Arial"/>
              </a:rPr>
              <a:t>Contents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目录  </a:t>
            </a:r>
            <a:endParaRPr b="0" i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63440" y="2397240"/>
            <a:ext cx="2673360" cy="2673000"/>
            <a:chOff x="163440" y="2397240"/>
            <a:chExt cx="2673360" cy="2673000"/>
          </a:xfrm>
        </p:grpSpPr>
        <p:sp>
          <p:nvSpPr>
            <p:cNvPr id="93" name="Oval 11"/>
            <p:cNvSpPr/>
            <p:nvPr/>
          </p:nvSpPr>
          <p:spPr>
            <a:xfrm>
              <a:off x="163440" y="2397240"/>
              <a:ext cx="2673360" cy="267300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ffffff"/>
                </a:gs>
                <a:gs pos="100000">
                  <a:srgbClr val="7bd5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339480" y="2570400"/>
              <a:ext cx="2319480" cy="2323440"/>
            </a:xfrm>
            <a:prstGeom prst="ellipse">
              <a:avLst/>
            </a:prstGeom>
            <a:gradFill rotWithShape="0">
              <a:gsLst>
                <a:gs pos="0">
                  <a:srgbClr val="7bd520"/>
                </a:gs>
                <a:gs pos="50000">
                  <a:srgbClr val="31672a"/>
                </a:gs>
                <a:gs pos="100000">
                  <a:srgbClr val="7bd5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350640" y="258300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7bd52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4"/>
            <p:cNvSpPr/>
            <p:nvPr/>
          </p:nvSpPr>
          <p:spPr>
            <a:xfrm>
              <a:off x="453960" y="2687760"/>
              <a:ext cx="2090880" cy="2090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487440" y="2721240"/>
              <a:ext cx="2025360" cy="20282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6"/>
            <p:cNvSpPr/>
            <p:nvPr/>
          </p:nvSpPr>
          <p:spPr>
            <a:xfrm>
              <a:off x="512640" y="2732040"/>
              <a:ext cx="1978200" cy="1978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534960" y="2751120"/>
              <a:ext cx="1879560" cy="1848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644400" y="2803680"/>
              <a:ext cx="1671840" cy="150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9" descr="mark"/>
            <p:cNvPicPr/>
            <p:nvPr/>
          </p:nvPicPr>
          <p:blipFill>
            <a:blip r:embed="rId1"/>
            <a:stretch/>
          </p:blipFill>
          <p:spPr>
            <a:xfrm>
              <a:off x="658800" y="2959200"/>
              <a:ext cx="1604880" cy="15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AutoShape 20"/>
          <p:cNvSpPr/>
          <p:nvPr/>
        </p:nvSpPr>
        <p:spPr>
          <a:xfrm>
            <a:off x="3211560" y="19400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3440160" y="2016000"/>
            <a:ext cx="44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3211560" y="2637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3440160" y="270036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312264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3135240" y="2757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3211560" y="40482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92440" y="4124160"/>
            <a:ext cx="44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四种检测系统算法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3122640" y="4186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3211560" y="47847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4120920" y="48196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的六大误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3135240" y="4917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92440" y="27129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种常见检测系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36800" y="3555720"/>
            <a:ext cx="381240" cy="61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3211560" y="33274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3440160" y="3390840"/>
            <a:ext cx="32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3135240" y="344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3592440" y="34034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种检测系统数据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比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1908000" y="5056200"/>
            <a:ext cx="719280" cy="6476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627280" y="570384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3230640" y="55166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4077720" y="5551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论文修改实战攻略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4"/>
          <p:cNvSpPr/>
          <p:nvPr/>
        </p:nvSpPr>
        <p:spPr>
          <a:xfrm>
            <a:off x="3154320" y="5649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89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5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的七大误区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内容占位符 2"/>
          <p:cNvSpPr/>
          <p:nvPr/>
        </p:nvSpPr>
        <p:spPr>
          <a:xfrm>
            <a:off x="325440" y="1019160"/>
            <a:ext cx="820728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将大段落分割成小段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文章中所有的字间插入空格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抄袭那些没有在数据库中的书籍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书籍中经典部分很可能已经被人引用而进入数据库，容易躺枪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不同文章抽取不同章节拼接成新文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是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句子为最小单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的，这对抄袭检测的结果影响几乎为零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665280" y="3092400"/>
            <a:ext cx="6134040" cy="9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633240" y="1557360"/>
            <a:ext cx="77630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将抄袭句子的后面标注参考文献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在检测专用术语中有两种库：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抄袭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，一种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引用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。断句的时候，当发现一句话，来自于抄袭库，他则算是抄袭，如果发现是引用库的时候，则算引用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他只以两个库为标准，所以建议不要过度引用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打乱一句话的顺序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知网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都采用模糊算法，只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关键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不替换就会标红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直接删除标红的句子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模糊算法会自动关联前后句，这样修改会引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“蝴蝶效应”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的七大误区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202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6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论文修改实战攻略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外文文献翻译法（杨雪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细黑"/>
              </a:rPr>
              <a:t>0.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变化措辞法（更换关键词、重写等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掐头去尾留核心，同义替换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双向翻译法（文字功底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转换图片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插入文本框法（投机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自己原创法（伤脑筋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、参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PaperPa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生成的修改建议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注：所有检测软件算法都在升级，灵活运用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1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日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PaperPass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论文检测系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V2.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版本研发测试完毕，正式上线运行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论文修改八种方法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0520" y="981000"/>
            <a:ext cx="9144000" cy="4861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1680" y="1006560"/>
            <a:ext cx="9132840" cy="5008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"/>
          <p:cNvSpPr/>
          <p:nvPr/>
        </p:nvSpPr>
        <p:spPr>
          <a:xfrm>
            <a:off x="7081920" y="907920"/>
            <a:ext cx="180000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7694640" y="1989000"/>
            <a:ext cx="1449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59840" cy="5014800"/>
          </a:xfrm>
          <a:prstGeom prst="rect">
            <a:avLst/>
          </a:prstGeom>
          <a:ln w="0">
            <a:noFill/>
          </a:ln>
        </p:spPr>
      </p:pic>
      <p:sp>
        <p:nvSpPr>
          <p:cNvPr id="222" name="椭圆 5"/>
          <p:cNvSpPr/>
          <p:nvPr/>
        </p:nvSpPr>
        <p:spPr>
          <a:xfrm>
            <a:off x="7524720" y="1773360"/>
            <a:ext cx="1800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1014480"/>
            <a:ext cx="9164520" cy="5078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（替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细黑"/>
              </a:rPr>
              <a:t>[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]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7669080" y="20145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006560"/>
            <a:ext cx="9164520" cy="5584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287280" y="18900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维普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次检测结果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524720" y="992160"/>
            <a:ext cx="1449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26" name="Rectangle 5"/>
            <p:cNvSpPr/>
            <p:nvPr/>
          </p:nvSpPr>
          <p:spPr>
            <a:xfrm>
              <a:off x="1089000" y="320832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1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前言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4520" cy="6872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258920" y="5516640"/>
            <a:ext cx="1081080" cy="649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3203640" y="6308640"/>
            <a:ext cx="22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bg3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8835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36" name="Rectangle 3"/>
          <p:cNvSpPr/>
          <p:nvPr/>
        </p:nvSpPr>
        <p:spPr>
          <a:xfrm>
            <a:off x="5268960" y="364500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2"/>
          <p:cNvSpPr txBox="1"/>
          <p:nvPr/>
        </p:nvSpPr>
        <p:spPr>
          <a:xfrm>
            <a:off x="4440240" y="3139920"/>
            <a:ext cx="403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fc01e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i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fc01e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92520" y="3902040"/>
            <a:ext cx="43736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敬请大家斧正！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03"/>
          <p:cNvSpPr/>
          <p:nvPr/>
        </p:nvSpPr>
        <p:spPr>
          <a:xfrm>
            <a:off x="0" y="981000"/>
            <a:ext cx="9144000" cy="502920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4"/>
          <p:cNvSpPr/>
          <p:nvPr/>
        </p:nvSpPr>
        <p:spPr>
          <a:xfrm>
            <a:off x="468360" y="2060640"/>
            <a:ext cx="79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很多高校都明确规定，如果检测重复率超过学校规定范围，就会被延迟毕业甚至取消学位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但而软件毕竟是人工设置的一种机制，里面内嵌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检测算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我们只要摸清其中的机理，通过简单的修改，就能成功通过检测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拒绝剽窃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-_-|||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1089000" y="3122640"/>
            <a:ext cx="6912000" cy="1092240"/>
            <a:chOff x="1089000" y="3122640"/>
            <a:chExt cx="6912000" cy="1092240"/>
          </a:xfrm>
        </p:grpSpPr>
        <p:sp>
          <p:nvSpPr>
            <p:cNvPr id="135" name="Rectangle 5"/>
            <p:cNvSpPr/>
            <p:nvPr/>
          </p:nvSpPr>
          <p:spPr>
            <a:xfrm>
              <a:off x="1089000" y="3137040"/>
              <a:ext cx="6912000" cy="718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1376280" y="3122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7"/>
            <p:cNvSpPr txBox="1"/>
            <p:nvPr/>
          </p:nvSpPr>
          <p:spPr>
            <a:xfrm>
              <a:off x="2116080" y="3292560"/>
              <a:ext cx="9288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PART 2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3753000" y="3208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几种常见检测系统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089000" y="39276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1376280" y="363060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88880" y="1209600"/>
            <a:ext cx="82072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现在提供论文检测的机构主要来源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三大中文期刊数据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三驾马车）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1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中国知网论文检测系统（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CNKI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2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万方论文相似性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3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细黑"/>
              </a:rPr>
              <a:t>、维普通达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4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PaperPas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论文检测系统（最严格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山寨版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PaperRat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论文检测系统（不常用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urnitin U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英文检测系统（英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SC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、小语种论文检测系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03"/>
          <p:cNvSpPr/>
          <p:nvPr/>
        </p:nvSpPr>
        <p:spPr>
          <a:xfrm>
            <a:off x="20520" y="1006560"/>
            <a:ext cx="9144000" cy="5518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就目前的情况来看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最权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被绝大多数高校采用。但是，知网检测系统不对个人用户开放，而且检测费用较昂贵，硕士论文一般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35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元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细黑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中国知网论文检测系统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488880" y="1844640"/>
            <a:ext cx="8207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方检测系统十分廉价，淘宝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万字，但检测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准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而且万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不检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和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的偏差较大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不推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使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万方论文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03"/>
          <p:cNvSpPr/>
          <p:nvPr/>
        </p:nvSpPr>
        <p:spPr>
          <a:xfrm>
            <a:off x="20520" y="1006560"/>
            <a:ext cx="9144000" cy="5851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7bd52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内容占位符 2"/>
          <p:cNvSpPr/>
          <p:nvPr/>
        </p:nvSpPr>
        <p:spPr>
          <a:xfrm>
            <a:off x="344520" y="1341360"/>
            <a:ext cx="820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和万方检测系统一样，维普通达检测系统也检测价格也很便宜，淘宝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万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细黑"/>
              </a:rPr>
              <a:t>可检测互联网及英文资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结果相比万方检测系统要更准确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维普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复写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红色字体标注）与中国知网论文检测系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CN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相似，但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引用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蓝色字体标注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比对算法不科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，检测结果只可作为初级修改使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（覃琳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维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细黑"/>
              </a:rPr>
              <a:t>52%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细黑"/>
              </a:rPr>
              <a:t>知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维普通达检测系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3:05:13Z</dcterms:created>
  <dc:creator>semir</dc:creator>
  <dc:description/>
  <cp:keywords/>
  <dc:language>en-US</dc:language>
  <cp:lastModifiedBy>wcc</cp:lastModifiedBy>
  <cp:lastPrinted>1899-12-30T00:00:00Z</cp:lastPrinted>
  <dcterms:modified xsi:type="dcterms:W3CDTF">2014-04-10T16:23:05Z</dcterms:modified>
  <cp:revision>394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