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A23C-CCA0-4F7F-B15C-4EC806E6A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087E7-0AF2-4E12-82CE-2936EC96B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AB17-3717-41EB-BD9E-E314458F86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5381-623E-4AF6-ABBB-B19B6EFEB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F4E7-15B4-458C-B573-5BF9869AF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93154-AB67-4D6A-A5AB-2EDB163A9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D2A3D-2E61-4F98-BEBA-5E83D6141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07500-4F4D-490D-B245-D1519A42F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1E55D-17C9-44CA-8EE2-48EB341C1A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EE6F-1069-4035-BF86-095AA4AF5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BE42-CC4F-4AC3-A9E2-A4BA223F1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57FC-D11B-4C46-B1E7-65B00756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1A594-13FE-450F-A9FC-E7D178CC9627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69D2B-00D9-4B2F-B2BD-D39E261DF5BD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43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60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终工作总结报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任意多边形 62"/>
          <p:cNvSpPr/>
          <p:nvPr/>
        </p:nvSpPr>
        <p:spPr>
          <a:xfrm>
            <a:off x="2916360" y="1522440"/>
            <a:ext cx="663480" cy="390600"/>
          </a:xfrm>
          <a:custGeom>
            <a:avLst/>
            <a:gdLst>
              <a:gd name="textAreaLeft" fmla="*/ 0 w 663480"/>
              <a:gd name="textAreaRight" fmla="*/ 663840 w 663480"/>
              <a:gd name="textAreaTop" fmla="*/ 0 h 390600"/>
              <a:gd name="textAreaBottom" fmla="*/ 390960 h 390600"/>
            </a:gdLst>
            <a:ahLst/>
            <a:rect l="textAreaLeft" t="textAreaTop" r="textAreaRight" b="textAreaBottom"/>
            <a:pathLst>
              <a:path w="974725" h="574675">
                <a:moveTo>
                  <a:pt x="863600" y="53975"/>
                </a:moveTo>
                <a:lnTo>
                  <a:pt x="250825" y="298450"/>
                </a:lnTo>
                <a:lnTo>
                  <a:pt x="250825" y="479425"/>
                </a:lnTo>
                <a:lnTo>
                  <a:pt x="342900" y="336550"/>
                </a:lnTo>
                <a:lnTo>
                  <a:pt x="863600" y="53975"/>
                </a:lnTo>
                <a:close/>
                <a:moveTo>
                  <a:pt x="974725" y="0"/>
                </a:moveTo>
                <a:lnTo>
                  <a:pt x="508000" y="460375"/>
                </a:lnTo>
                <a:lnTo>
                  <a:pt x="412750" y="396875"/>
                </a:lnTo>
                <a:lnTo>
                  <a:pt x="234950" y="574675"/>
                </a:lnTo>
                <a:lnTo>
                  <a:pt x="196850" y="282575"/>
                </a:lnTo>
                <a:lnTo>
                  <a:pt x="0" y="254000"/>
                </a:lnTo>
                <a:lnTo>
                  <a:pt x="97472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Box 64"/>
          <p:cNvSpPr/>
          <p:nvPr/>
        </p:nvSpPr>
        <p:spPr>
          <a:xfrm>
            <a:off x="324000" y="2081160"/>
            <a:ext cx="60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好</a:t>
            </a: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2020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" name="组合 44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46" name="任意多边形 47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任意多边形 48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任意多边形 49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任意多边形 50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任意多边形 51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任意多边形 52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任意多边形 59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2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2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21" dur="21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69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370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7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9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380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383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5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386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8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389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568" dur="indefinite" restart="never" nodeType="tmRoot">
          <p:childTnLst>
            <p:seq>
              <p:cTn id="569" dur="indefinite" nodeType="mainSeq">
                <p:childTnLst>
                  <p:par>
                    <p:cTn id="570" nodeType="clickEffect" fill="hold">
                      <p:stCondLst>
                        <p:cond delay="0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6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6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7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12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12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58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5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588" dur="2100" fill="hold"/>
                                        <p:tgtEl>
                                          <p:spTgt spid="3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1" dur="18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61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1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2" dur="250" autoRev="1" fill="hold"/>
                                        <p:tgtEl>
                                          <p:spTgt spid="3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61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6" dur="250" autoRev="1" fill="hold"/>
                                        <p:tgtEl>
                                          <p:spTgt spid="3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61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0" dur="250" autoRev="1" fill="hold"/>
                                        <p:tgtEl>
                                          <p:spTgt spid="3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6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4" dur="250" autoRev="1" fill="hold"/>
                                        <p:tgtEl>
                                          <p:spTgt spid="37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394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5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396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9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0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7" name="同心圆 6"/>
          <p:cNvSpPr/>
          <p:nvPr/>
        </p:nvSpPr>
        <p:spPr>
          <a:xfrm>
            <a:off x="3851280" y="14922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同心圆 7"/>
          <p:cNvSpPr/>
          <p:nvPr/>
        </p:nvSpPr>
        <p:spPr>
          <a:xfrm>
            <a:off x="3851280" y="25146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同心圆 8"/>
          <p:cNvSpPr/>
          <p:nvPr/>
        </p:nvSpPr>
        <p:spPr>
          <a:xfrm>
            <a:off x="3851280" y="3535200"/>
            <a:ext cx="720720" cy="7207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TextBox 9"/>
          <p:cNvSpPr/>
          <p:nvPr/>
        </p:nvSpPr>
        <p:spPr>
          <a:xfrm>
            <a:off x="4808520" y="152100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TextBox 10"/>
          <p:cNvSpPr/>
          <p:nvPr/>
        </p:nvSpPr>
        <p:spPr>
          <a:xfrm>
            <a:off x="4808520" y="25430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TextBox 11"/>
          <p:cNvSpPr/>
          <p:nvPr/>
        </p:nvSpPr>
        <p:spPr>
          <a:xfrm>
            <a:off x="4808520" y="35654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直接连接符 13"/>
          <p:cNvSpPr/>
          <p:nvPr/>
        </p:nvSpPr>
        <p:spPr>
          <a:xfrm>
            <a:off x="3240000" y="2873520"/>
            <a:ext cx="5050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直接连接符 14"/>
          <p:cNvSpPr/>
          <p:nvPr/>
        </p:nvSpPr>
        <p:spPr>
          <a:xfrm flipV="1">
            <a:off x="3060720" y="197604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直接连接符 17"/>
          <p:cNvSpPr/>
          <p:nvPr/>
        </p:nvSpPr>
        <p:spPr>
          <a:xfrm>
            <a:off x="3081240" y="352260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6" name="组合 22"/>
          <p:cNvGrpSpPr/>
          <p:nvPr/>
        </p:nvGrpSpPr>
        <p:grpSpPr>
          <a:xfrm>
            <a:off x="1332000" y="1976400"/>
            <a:ext cx="1800000" cy="1800360"/>
            <a:chOff x="1332000" y="1976400"/>
            <a:chExt cx="1800000" cy="1800360"/>
          </a:xfrm>
        </p:grpSpPr>
        <p:grpSp>
          <p:nvGrpSpPr>
            <p:cNvPr id="417" name="组合 5"/>
            <p:cNvGrpSpPr/>
            <p:nvPr/>
          </p:nvGrpSpPr>
          <p:grpSpPr>
            <a:xfrm>
              <a:off x="1332000" y="1976400"/>
              <a:ext cx="1800000" cy="1800360"/>
              <a:chOff x="1332000" y="1976400"/>
              <a:chExt cx="1800000" cy="1800360"/>
            </a:xfrm>
          </p:grpSpPr>
          <p:sp>
            <p:nvSpPr>
              <p:cNvPr id="418" name="空心弧 1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76580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766" y="18051"/>
                    </a:moveTo>
                    <a:cubicBezTo>
                      <a:pt x="12824" y="18436"/>
                      <a:pt x="11817" y="18634"/>
                      <a:pt x="10800" y="18635"/>
                    </a:cubicBezTo>
                    <a:cubicBezTo>
                      <a:pt x="9782" y="18635"/>
                      <a:pt x="8775" y="18436"/>
                      <a:pt x="7833" y="18051"/>
                    </a:cubicBezTo>
                    <a:lnTo>
                      <a:pt x="6711" y="20796"/>
                    </a:lnTo>
                    <a:cubicBezTo>
                      <a:pt x="8009" y="21326"/>
                      <a:pt x="9397" y="21600"/>
                      <a:pt x="10800" y="21600"/>
                    </a:cubicBezTo>
                    <a:cubicBezTo>
                      <a:pt x="12202" y="21599"/>
                      <a:pt x="13590" y="21326"/>
                      <a:pt x="14888" y="20796"/>
                    </a:cubicBezTo>
                    <a:lnTo>
                      <a:pt x="13766" y="18051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9" name="空心弧 2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27216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380" y="3343"/>
                    </a:moveTo>
                    <a:cubicBezTo>
                      <a:pt x="12550" y="3056"/>
                      <a:pt x="11678" y="2909"/>
                      <a:pt x="10799" y="2910"/>
                    </a:cubicBezTo>
                    <a:cubicBezTo>
                      <a:pt x="9921" y="2910"/>
                      <a:pt x="9049" y="3056"/>
                      <a:pt x="8219" y="3343"/>
                    </a:cubicBezTo>
                    <a:lnTo>
                      <a:pt x="7268" y="593"/>
                    </a:lnTo>
                    <a:cubicBezTo>
                      <a:pt x="8404" y="200"/>
                      <a:pt x="9597" y="-1"/>
                      <a:pt x="10800" y="0"/>
                    </a:cubicBezTo>
                    <a:cubicBezTo>
                      <a:pt x="12002" y="0"/>
                      <a:pt x="13195" y="200"/>
                      <a:pt x="14331" y="593"/>
                    </a:cubicBezTo>
                    <a:lnTo>
                      <a:pt x="13380" y="3343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空心弧 3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96264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939" y="7198"/>
                    </a:moveTo>
                    <a:cubicBezTo>
                      <a:pt x="16579" y="4503"/>
                      <a:pt x="13818" y="2803"/>
                      <a:pt x="10799" y="2804"/>
                    </a:cubicBezTo>
                    <a:cubicBezTo>
                      <a:pt x="7781" y="2804"/>
                      <a:pt x="5020" y="4503"/>
                      <a:pt x="3660" y="7198"/>
                    </a:cubicBezTo>
                    <a:lnTo>
                      <a:pt x="1157" y="5935"/>
                    </a:lnTo>
                    <a:cubicBezTo>
                      <a:pt x="2993" y="2295"/>
                      <a:pt x="6723" y="-1"/>
                      <a:pt x="10800" y="0"/>
                    </a:cubicBezTo>
                    <a:cubicBezTo>
                      <a:pt x="14876" y="0"/>
                      <a:pt x="18606" y="2295"/>
                      <a:pt x="20442" y="5935"/>
                    </a:cubicBezTo>
                    <a:lnTo>
                      <a:pt x="17939" y="7198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1" name="空心弧 4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32768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851" y="14232"/>
                    </a:moveTo>
                    <a:cubicBezTo>
                      <a:pt x="16537" y="16929"/>
                      <a:pt x="13800" y="18641"/>
                      <a:pt x="10800" y="18642"/>
                    </a:cubicBezTo>
                    <a:cubicBezTo>
                      <a:pt x="7799" y="18642"/>
                      <a:pt x="5062" y="16929"/>
                      <a:pt x="3748" y="14232"/>
                    </a:cubicBezTo>
                    <a:lnTo>
                      <a:pt x="1089" y="15526"/>
                    </a:lnTo>
                    <a:cubicBezTo>
                      <a:pt x="2897" y="19242"/>
                      <a:pt x="6667" y="21600"/>
                      <a:pt x="10800" y="21600"/>
                    </a:cubicBezTo>
                    <a:cubicBezTo>
                      <a:pt x="14932" y="21599"/>
                      <a:pt x="18702" y="19242"/>
                      <a:pt x="20510" y="15526"/>
                    </a:cubicBezTo>
                    <a:lnTo>
                      <a:pt x="17851" y="14232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22" name="梯形 21"/>
            <p:cNvSpPr/>
            <p:nvPr/>
          </p:nvSpPr>
          <p:spPr>
            <a:xfrm rot="16200000">
              <a:off x="1977120" y="2514600"/>
              <a:ext cx="509760" cy="64800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880987" h="1120183">
                  <a:moveTo>
                    <a:pt x="757066" y="824835"/>
                  </a:moveTo>
                  <a:lnTo>
                    <a:pt x="757066" y="934658"/>
                  </a:lnTo>
                  <a:lnTo>
                    <a:pt x="555328" y="934658"/>
                  </a:lnTo>
                  <a:lnTo>
                    <a:pt x="661366" y="824835"/>
                  </a:lnTo>
                  <a:lnTo>
                    <a:pt x="757066" y="824835"/>
                  </a:lnTo>
                  <a:close/>
                  <a:moveTo>
                    <a:pt x="880987" y="560091"/>
                  </a:moveTo>
                  <a:lnTo>
                    <a:pt x="320895" y="1120183"/>
                  </a:lnTo>
                  <a:lnTo>
                    <a:pt x="320895" y="952536"/>
                  </a:lnTo>
                  <a:lnTo>
                    <a:pt x="334577" y="938854"/>
                  </a:lnTo>
                  <a:lnTo>
                    <a:pt x="77386" y="938854"/>
                  </a:lnTo>
                  <a:cubicBezTo>
                    <a:pt x="34647" y="938854"/>
                    <a:pt x="0" y="904207"/>
                    <a:pt x="0" y="861468"/>
                  </a:cubicBezTo>
                  <a:lnTo>
                    <a:pt x="0" y="765985"/>
                  </a:lnTo>
                  <a:lnTo>
                    <a:pt x="168046" y="765985"/>
                  </a:lnTo>
                  <a:cubicBezTo>
                    <a:pt x="183196" y="765985"/>
                    <a:pt x="195477" y="753704"/>
                    <a:pt x="195477" y="738554"/>
                  </a:cubicBezTo>
                  <a:lnTo>
                    <a:pt x="195477" y="628834"/>
                  </a:lnTo>
                  <a:cubicBezTo>
                    <a:pt x="195477" y="613684"/>
                    <a:pt x="183196" y="601403"/>
                    <a:pt x="168046" y="601403"/>
                  </a:cubicBezTo>
                  <a:lnTo>
                    <a:pt x="0" y="601403"/>
                  </a:lnTo>
                  <a:lnTo>
                    <a:pt x="0" y="258716"/>
                  </a:lnTo>
                  <a:cubicBezTo>
                    <a:pt x="0" y="215977"/>
                    <a:pt x="34647" y="181330"/>
                    <a:pt x="77386" y="181330"/>
                  </a:cubicBezTo>
                  <a:lnTo>
                    <a:pt x="334578" y="181330"/>
                  </a:lnTo>
                  <a:lnTo>
                    <a:pt x="320895" y="167647"/>
                  </a:lnTo>
                  <a:lnTo>
                    <a:pt x="320895" y="0"/>
                  </a:lnTo>
                  <a:lnTo>
                    <a:pt x="880987" y="56009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nodeType="clickEffect" fill="hold">
                      <p:stCondLst>
                        <p:cond delay="0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4" dur="1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1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4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0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5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0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42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2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42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3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3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39" name="TextBox 9"/>
          <p:cNvSpPr/>
          <p:nvPr/>
        </p:nvSpPr>
        <p:spPr>
          <a:xfrm>
            <a:off x="1260360" y="1581120"/>
            <a:ext cx="66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0" name="组合 10"/>
          <p:cNvGrpSpPr/>
          <p:nvPr/>
        </p:nvGrpSpPr>
        <p:grpSpPr>
          <a:xfrm>
            <a:off x="1187280" y="2292480"/>
            <a:ext cx="6769440" cy="1584360"/>
            <a:chOff x="1187280" y="2292480"/>
            <a:chExt cx="6769440" cy="1584360"/>
          </a:xfrm>
        </p:grpSpPr>
        <p:sp>
          <p:nvSpPr>
            <p:cNvPr id="441" name="直接连接符 11"/>
            <p:cNvSpPr/>
            <p:nvPr/>
          </p:nvSpPr>
          <p:spPr>
            <a:xfrm>
              <a:off x="1187280" y="229248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直接连接符 12"/>
            <p:cNvSpPr/>
            <p:nvPr/>
          </p:nvSpPr>
          <p:spPr>
            <a:xfrm>
              <a:off x="1187280" y="387684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3" name="TextBox 13"/>
          <p:cNvSpPr/>
          <p:nvPr/>
        </p:nvSpPr>
        <p:spPr>
          <a:xfrm>
            <a:off x="3708360" y="2508120"/>
            <a:ext cx="17272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直接连接符 14"/>
          <p:cNvSpPr/>
          <p:nvPr/>
        </p:nvSpPr>
        <p:spPr>
          <a:xfrm>
            <a:off x="3419640" y="2448000"/>
            <a:ext cx="144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直接连接符 15"/>
          <p:cNvSpPr/>
          <p:nvPr/>
        </p:nvSpPr>
        <p:spPr>
          <a:xfrm>
            <a:off x="5724360" y="2448000"/>
            <a:ext cx="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6" name="TextBox 16"/>
          <p:cNvSpPr/>
          <p:nvPr/>
        </p:nvSpPr>
        <p:spPr>
          <a:xfrm>
            <a:off x="140328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TextBox 17"/>
          <p:cNvSpPr/>
          <p:nvPr/>
        </p:nvSpPr>
        <p:spPr>
          <a:xfrm>
            <a:off x="601200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TextBox 18"/>
          <p:cNvSpPr/>
          <p:nvPr/>
        </p:nvSpPr>
        <p:spPr>
          <a:xfrm>
            <a:off x="2050920" y="3929040"/>
            <a:ext cx="50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674" dur="indefinite" restart="never" nodeType="tmRoot">
          <p:childTnLst>
            <p:seq>
              <p:cTn id="675" dur="indefinite" nodeType="mainSeq">
                <p:childTnLst>
                  <p:par>
                    <p:cTn id="676" nodeType="clickEffect" fill="hold">
                      <p:stCondLst>
                        <p:cond delay="0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7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4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70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1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452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53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454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5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5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5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5" name="菱形 27"/>
          <p:cNvSpPr/>
          <p:nvPr/>
        </p:nvSpPr>
        <p:spPr>
          <a:xfrm>
            <a:off x="489600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菱形 28"/>
          <p:cNvSpPr/>
          <p:nvPr/>
        </p:nvSpPr>
        <p:spPr>
          <a:xfrm>
            <a:off x="298764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菱形 30"/>
          <p:cNvSpPr/>
          <p:nvPr/>
        </p:nvSpPr>
        <p:spPr>
          <a:xfrm>
            <a:off x="3762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菱形 31"/>
          <p:cNvSpPr/>
          <p:nvPr/>
        </p:nvSpPr>
        <p:spPr>
          <a:xfrm>
            <a:off x="3762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菱形 32"/>
          <p:cNvSpPr/>
          <p:nvPr/>
        </p:nvSpPr>
        <p:spPr>
          <a:xfrm>
            <a:off x="4878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菱形 33"/>
          <p:cNvSpPr/>
          <p:nvPr/>
        </p:nvSpPr>
        <p:spPr>
          <a:xfrm>
            <a:off x="4878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TextBox 42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TextBox 43"/>
          <p:cNvSpPr/>
          <p:nvPr/>
        </p:nvSpPr>
        <p:spPr>
          <a:xfrm>
            <a:off x="53964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TextBox 44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TextBox 45"/>
          <p:cNvSpPr/>
          <p:nvPr/>
        </p:nvSpPr>
        <p:spPr>
          <a:xfrm>
            <a:off x="601200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组合 2"/>
          <p:cNvGrpSpPr/>
          <p:nvPr/>
        </p:nvGrpSpPr>
        <p:grpSpPr>
          <a:xfrm>
            <a:off x="3564000" y="1882800"/>
            <a:ext cx="2016000" cy="2016000"/>
            <a:chOff x="3564000" y="1882800"/>
            <a:chExt cx="2016000" cy="2016000"/>
          </a:xfrm>
        </p:grpSpPr>
        <p:sp>
          <p:nvSpPr>
            <p:cNvPr id="476" name="菱形 29"/>
            <p:cNvSpPr/>
            <p:nvPr/>
          </p:nvSpPr>
          <p:spPr>
            <a:xfrm>
              <a:off x="3564000" y="1882800"/>
              <a:ext cx="2016000" cy="2016000"/>
            </a:xfrm>
            <a:prstGeom prst="diamond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矩形 19"/>
            <p:cNvSpPr/>
            <p:nvPr/>
          </p:nvSpPr>
          <p:spPr>
            <a:xfrm rot="1864800">
              <a:off x="4375800" y="2489040"/>
              <a:ext cx="493200" cy="80352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803520"/>
                <a:gd name="textAreaBottom" fmla="*/ 803880 h 803520"/>
              </a:gdLst>
              <a:ahLst/>
              <a:rect l="textAreaLeft" t="textAreaTop" r="textAreaRight" b="textAreaBottom"/>
              <a:pathLst>
                <a:path w="702116" h="1143806">
                  <a:moveTo>
                    <a:pt x="262117" y="1042584"/>
                  </a:moveTo>
                  <a:lnTo>
                    <a:pt x="678511" y="791541"/>
                  </a:lnTo>
                  <a:lnTo>
                    <a:pt x="702116" y="830694"/>
                  </a:lnTo>
                  <a:lnTo>
                    <a:pt x="285723" y="1081738"/>
                  </a:lnTo>
                  <a:lnTo>
                    <a:pt x="262117" y="1042584"/>
                  </a:lnTo>
                  <a:close/>
                  <a:moveTo>
                    <a:pt x="0" y="839161"/>
                  </a:moveTo>
                  <a:lnTo>
                    <a:pt x="353388" y="839161"/>
                  </a:lnTo>
                  <a:lnTo>
                    <a:pt x="176694" y="1143806"/>
                  </a:lnTo>
                  <a:lnTo>
                    <a:pt x="0" y="839161"/>
                  </a:lnTo>
                  <a:close/>
                  <a:moveTo>
                    <a:pt x="211590" y="184135"/>
                  </a:moveTo>
                  <a:lnTo>
                    <a:pt x="351173" y="184135"/>
                  </a:lnTo>
                  <a:lnTo>
                    <a:pt x="351173" y="786777"/>
                  </a:lnTo>
                  <a:lnTo>
                    <a:pt x="211590" y="786777"/>
                  </a:lnTo>
                  <a:lnTo>
                    <a:pt x="211590" y="184135"/>
                  </a:lnTo>
                  <a:close/>
                  <a:moveTo>
                    <a:pt x="2216" y="184135"/>
                  </a:moveTo>
                  <a:lnTo>
                    <a:pt x="141799" y="184135"/>
                  </a:lnTo>
                  <a:lnTo>
                    <a:pt x="141799" y="786777"/>
                  </a:lnTo>
                  <a:lnTo>
                    <a:pt x="2216" y="786777"/>
                  </a:lnTo>
                  <a:lnTo>
                    <a:pt x="2216" y="184135"/>
                  </a:lnTo>
                  <a:close/>
                  <a:moveTo>
                    <a:pt x="8869" y="6654"/>
                  </a:moveTo>
                  <a:cubicBezTo>
                    <a:pt x="12980" y="2543"/>
                    <a:pt x="18660" y="0"/>
                    <a:pt x="24933" y="0"/>
                  </a:cubicBezTo>
                  <a:lnTo>
                    <a:pt x="328454" y="0"/>
                  </a:lnTo>
                  <a:cubicBezTo>
                    <a:pt x="341002" y="0"/>
                    <a:pt x="351172" y="10171"/>
                    <a:pt x="351173" y="22718"/>
                  </a:cubicBezTo>
                  <a:lnTo>
                    <a:pt x="351172" y="105485"/>
                  </a:lnTo>
                  <a:cubicBezTo>
                    <a:pt x="351172" y="118032"/>
                    <a:pt x="341001" y="128203"/>
                    <a:pt x="328454" y="128203"/>
                  </a:cubicBezTo>
                  <a:lnTo>
                    <a:pt x="24933" y="128203"/>
                  </a:lnTo>
                  <a:cubicBezTo>
                    <a:pt x="12386" y="128203"/>
                    <a:pt x="2215" y="118032"/>
                    <a:pt x="2215" y="105485"/>
                  </a:cubicBezTo>
                  <a:lnTo>
                    <a:pt x="2215" y="22718"/>
                  </a:lnTo>
                  <a:cubicBezTo>
                    <a:pt x="2215" y="16444"/>
                    <a:pt x="4758" y="10765"/>
                    <a:pt x="8869" y="66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713" dur="indefinite" restart="never" nodeType="tmRoot">
          <p:childTnLst>
            <p:seq>
              <p:cTn id="714" dur="indefinite" nodeType="mainSeq">
                <p:childTnLst>
                  <p:par>
                    <p:cTn id="715" nodeType="clickEffect" fill="hold">
                      <p:stCondLst>
                        <p:cond delay="0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1" dur="1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2" dur="10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3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0" dur="1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6" dur="1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10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2" dur="1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3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7" dur="1000" fill="hold"/>
                                        <p:tgtEl>
                                          <p:spTgt spid="4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8" dur="1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4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0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481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2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483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4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8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4" name="矩形 2"/>
          <p:cNvSpPr/>
          <p:nvPr/>
        </p:nvSpPr>
        <p:spPr>
          <a:xfrm>
            <a:off x="2050920" y="1662120"/>
            <a:ext cx="4711680" cy="2579760"/>
          </a:xfrm>
          <a:custGeom>
            <a:avLst/>
            <a:gdLst>
              <a:gd name="textAreaLeft" fmla="*/ 0 w 4711680"/>
              <a:gd name="textAreaRight" fmla="*/ 4712040 w 4711680"/>
              <a:gd name="textAreaTop" fmla="*/ 0 h 2579760"/>
              <a:gd name="textAreaBottom" fmla="*/ 2580120 h 2579760"/>
            </a:gdLst>
            <a:ahLst/>
            <a:rect l="textAreaLeft" t="textAreaTop" r="textAreaRight" b="textAreaBottom"/>
            <a:pathLst>
              <a:path w="4710881" h="2580363">
                <a:moveTo>
                  <a:pt x="1967775" y="567"/>
                </a:moveTo>
                <a:cubicBezTo>
                  <a:pt x="2149109" y="8144"/>
                  <a:pt x="2326264" y="91426"/>
                  <a:pt x="2448133" y="244596"/>
                </a:cubicBezTo>
                <a:cubicBezTo>
                  <a:pt x="2612270" y="450891"/>
                  <a:pt x="2630341" y="726421"/>
                  <a:pt x="2515510" y="945784"/>
                </a:cubicBezTo>
                <a:lnTo>
                  <a:pt x="2515956" y="946260"/>
                </a:lnTo>
                <a:cubicBezTo>
                  <a:pt x="2470672" y="1044603"/>
                  <a:pt x="2503129" y="1184784"/>
                  <a:pt x="2603688" y="1291921"/>
                </a:cubicBezTo>
                <a:cubicBezTo>
                  <a:pt x="2704246" y="1399057"/>
                  <a:pt x="2842091" y="1440321"/>
                  <a:pt x="2943103" y="1401351"/>
                </a:cubicBezTo>
                <a:lnTo>
                  <a:pt x="2944136" y="1402453"/>
                </a:lnTo>
                <a:cubicBezTo>
                  <a:pt x="3151633" y="1313115"/>
                  <a:pt x="3394200" y="1347498"/>
                  <a:pt x="3568991" y="1493737"/>
                </a:cubicBezTo>
                <a:lnTo>
                  <a:pt x="3569885" y="1493039"/>
                </a:lnTo>
                <a:cubicBezTo>
                  <a:pt x="3628143" y="1526613"/>
                  <a:pt x="3716677" y="1514475"/>
                  <a:pt x="3788630" y="1458349"/>
                </a:cubicBezTo>
                <a:cubicBezTo>
                  <a:pt x="3860582" y="1402223"/>
                  <a:pt x="3893906" y="1319306"/>
                  <a:pt x="3875524" y="1254627"/>
                </a:cubicBezTo>
                <a:lnTo>
                  <a:pt x="3877063" y="1253428"/>
                </a:lnTo>
                <a:cubicBezTo>
                  <a:pt x="3803922" y="1057157"/>
                  <a:pt x="3885091" y="832286"/>
                  <a:pt x="4074689" y="729211"/>
                </a:cubicBezTo>
                <a:cubicBezTo>
                  <a:pt x="4283572" y="615652"/>
                  <a:pt x="4544963" y="692926"/>
                  <a:pt x="4658521" y="901809"/>
                </a:cubicBezTo>
                <a:cubicBezTo>
                  <a:pt x="4772080" y="1110691"/>
                  <a:pt x="4694806" y="1372083"/>
                  <a:pt x="4485923" y="1485641"/>
                </a:cubicBezTo>
                <a:cubicBezTo>
                  <a:pt x="4340155" y="1564888"/>
                  <a:pt x="4168816" y="1551200"/>
                  <a:pt x="4041086" y="1463074"/>
                </a:cubicBezTo>
                <a:lnTo>
                  <a:pt x="4039242" y="1464511"/>
                </a:lnTo>
                <a:cubicBezTo>
                  <a:pt x="3980984" y="1430938"/>
                  <a:pt x="3892450" y="1443076"/>
                  <a:pt x="3820498" y="1499202"/>
                </a:cubicBezTo>
                <a:cubicBezTo>
                  <a:pt x="3748544" y="1555328"/>
                  <a:pt x="3715221" y="1638245"/>
                  <a:pt x="3733604" y="1702922"/>
                </a:cubicBezTo>
                <a:lnTo>
                  <a:pt x="3732965" y="1703421"/>
                </a:lnTo>
                <a:cubicBezTo>
                  <a:pt x="3854321" y="1954967"/>
                  <a:pt x="3789762" y="2265512"/>
                  <a:pt x="3561861" y="2446841"/>
                </a:cubicBezTo>
                <a:cubicBezTo>
                  <a:pt x="3296560" y="2657926"/>
                  <a:pt x="2910374" y="2613976"/>
                  <a:pt x="2699289" y="2348676"/>
                </a:cubicBezTo>
                <a:cubicBezTo>
                  <a:pt x="2546360" y="2156468"/>
                  <a:pt x="2527295" y="1900808"/>
                  <a:pt x="2630974" y="1695087"/>
                </a:cubicBezTo>
                <a:lnTo>
                  <a:pt x="2630589" y="1694677"/>
                </a:lnTo>
                <a:cubicBezTo>
                  <a:pt x="2675872" y="1596334"/>
                  <a:pt x="2643415" y="1456153"/>
                  <a:pt x="2542857" y="1349016"/>
                </a:cubicBezTo>
                <a:cubicBezTo>
                  <a:pt x="2442299" y="1241879"/>
                  <a:pt x="2304453" y="1200615"/>
                  <a:pt x="2203440" y="1239585"/>
                </a:cubicBezTo>
                <a:lnTo>
                  <a:pt x="2202416" y="1238491"/>
                </a:lnTo>
                <a:cubicBezTo>
                  <a:pt x="1960905" y="1348370"/>
                  <a:pt x="1671509" y="1296885"/>
                  <a:pt x="1482650" y="1101651"/>
                </a:cubicBezTo>
                <a:cubicBezTo>
                  <a:pt x="1414254" y="1052562"/>
                  <a:pt x="1303066" y="1055022"/>
                  <a:pt x="1205095" y="1113113"/>
                </a:cubicBezTo>
                <a:cubicBezTo>
                  <a:pt x="1104560" y="1172724"/>
                  <a:pt x="1048749" y="1272649"/>
                  <a:pt x="1061591" y="1357806"/>
                </a:cubicBezTo>
                <a:lnTo>
                  <a:pt x="1061011" y="1358150"/>
                </a:lnTo>
                <a:cubicBezTo>
                  <a:pt x="1106662" y="1552587"/>
                  <a:pt x="1039700" y="1764232"/>
                  <a:pt x="872930" y="1896923"/>
                </a:cubicBezTo>
                <a:cubicBezTo>
                  <a:pt x="640434" y="2081908"/>
                  <a:pt x="301998" y="2043392"/>
                  <a:pt x="117013" y="1810896"/>
                </a:cubicBezTo>
                <a:cubicBezTo>
                  <a:pt x="-67972" y="1578400"/>
                  <a:pt x="-29457" y="1239964"/>
                  <a:pt x="203040" y="1054980"/>
                </a:cubicBezTo>
                <a:cubicBezTo>
                  <a:pt x="407531" y="892276"/>
                  <a:pt x="693978" y="902474"/>
                  <a:pt x="885638" y="1065779"/>
                </a:cubicBezTo>
                <a:lnTo>
                  <a:pt x="887708" y="1064551"/>
                </a:lnTo>
                <a:cubicBezTo>
                  <a:pt x="956264" y="1116673"/>
                  <a:pt x="1070715" y="1115643"/>
                  <a:pt x="1171249" y="1056032"/>
                </a:cubicBezTo>
                <a:cubicBezTo>
                  <a:pt x="1271670" y="996488"/>
                  <a:pt x="1327470" y="896721"/>
                  <a:pt x="1314740" y="811634"/>
                </a:cubicBezTo>
                <a:cubicBezTo>
                  <a:pt x="1251131" y="571369"/>
                  <a:pt x="1330485" y="305671"/>
                  <a:pt x="1537499" y="140961"/>
                </a:cubicBezTo>
                <a:cubicBezTo>
                  <a:pt x="1642529" y="57394"/>
                  <a:pt x="1765507" y="11689"/>
                  <a:pt x="1889954" y="1971"/>
                </a:cubicBezTo>
                <a:cubicBezTo>
                  <a:pt x="1915880" y="-53"/>
                  <a:pt x="1941870" y="-515"/>
                  <a:pt x="1967775" y="567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Box 2"/>
          <p:cNvSpPr/>
          <p:nvPr/>
        </p:nvSpPr>
        <p:spPr>
          <a:xfrm>
            <a:off x="592200" y="1733400"/>
            <a:ext cx="23540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Rectangle 42"/>
          <p:cNvSpPr/>
          <p:nvPr/>
        </p:nvSpPr>
        <p:spPr>
          <a:xfrm>
            <a:off x="2987640" y="1787400"/>
            <a:ext cx="317520" cy="320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Box 4"/>
          <p:cNvSpPr/>
          <p:nvPr/>
        </p:nvSpPr>
        <p:spPr>
          <a:xfrm>
            <a:off x="6356520" y="34448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Rectangle 42"/>
          <p:cNvSpPr/>
          <p:nvPr/>
        </p:nvSpPr>
        <p:spPr>
          <a:xfrm>
            <a:off x="6037200" y="349884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Box 6"/>
          <p:cNvSpPr/>
          <p:nvPr/>
        </p:nvSpPr>
        <p:spPr>
          <a:xfrm>
            <a:off x="5443560" y="14954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42"/>
          <p:cNvSpPr/>
          <p:nvPr/>
        </p:nvSpPr>
        <p:spPr>
          <a:xfrm>
            <a:off x="5124600" y="1549440"/>
            <a:ext cx="31896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TextBox 8"/>
          <p:cNvSpPr/>
          <p:nvPr/>
        </p:nvSpPr>
        <p:spPr>
          <a:xfrm>
            <a:off x="1569960" y="371628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Rectangle 42"/>
          <p:cNvSpPr/>
          <p:nvPr/>
        </p:nvSpPr>
        <p:spPr>
          <a:xfrm>
            <a:off x="3965400" y="377028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圆角矩形 68"/>
          <p:cNvSpPr/>
          <p:nvPr/>
        </p:nvSpPr>
        <p:spPr>
          <a:xfrm>
            <a:off x="3597120" y="2055960"/>
            <a:ext cx="790560" cy="507960"/>
          </a:xfrm>
          <a:custGeom>
            <a:avLst/>
            <a:gdLst>
              <a:gd name="textAreaLeft" fmla="*/ 0 w 790560"/>
              <a:gd name="textAreaRight" fmla="*/ 790920 w 7905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图文框 35"/>
          <p:cNvSpPr/>
          <p:nvPr/>
        </p:nvSpPr>
        <p:spPr>
          <a:xfrm>
            <a:off x="2333520" y="2898720"/>
            <a:ext cx="513000" cy="476280"/>
          </a:xfrm>
          <a:custGeom>
            <a:avLst/>
            <a:gdLst>
              <a:gd name="textAreaLeft" fmla="*/ 0 w 513000"/>
              <a:gd name="textAreaRight" fmla="*/ 513360 w 51300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790121" h="733367">
                <a:moveTo>
                  <a:pt x="164601" y="513898"/>
                </a:moveTo>
                <a:cubicBezTo>
                  <a:pt x="194903" y="513898"/>
                  <a:pt x="219468" y="538463"/>
                  <a:pt x="219468" y="568765"/>
                </a:cubicBezTo>
                <a:cubicBezTo>
                  <a:pt x="219468" y="599067"/>
                  <a:pt x="194903" y="623632"/>
                  <a:pt x="164601" y="623632"/>
                </a:cubicBezTo>
                <a:cubicBezTo>
                  <a:pt x="134299" y="623632"/>
                  <a:pt x="109734" y="599067"/>
                  <a:pt x="109734" y="568765"/>
                </a:cubicBezTo>
                <a:cubicBezTo>
                  <a:pt x="109734" y="538463"/>
                  <a:pt x="134299" y="513898"/>
                  <a:pt x="164601" y="513898"/>
                </a:cubicBezTo>
                <a:close/>
                <a:moveTo>
                  <a:pt x="65100" y="469264"/>
                </a:moveTo>
                <a:lnTo>
                  <a:pt x="65100" y="668267"/>
                </a:lnTo>
                <a:lnTo>
                  <a:pt x="264103" y="668267"/>
                </a:lnTo>
                <a:lnTo>
                  <a:pt x="264103" y="469264"/>
                </a:lnTo>
                <a:lnTo>
                  <a:pt x="65100" y="469264"/>
                </a:lnTo>
                <a:close/>
                <a:moveTo>
                  <a:pt x="402359" y="404164"/>
                </a:moveTo>
                <a:lnTo>
                  <a:pt x="731562" y="404164"/>
                </a:lnTo>
                <a:lnTo>
                  <a:pt x="731562" y="733367"/>
                </a:lnTo>
                <a:lnTo>
                  <a:pt x="402359" y="733367"/>
                </a:lnTo>
                <a:lnTo>
                  <a:pt x="402359" y="404164"/>
                </a:lnTo>
                <a:close/>
                <a:moveTo>
                  <a:pt x="0" y="404164"/>
                </a:moveTo>
                <a:lnTo>
                  <a:pt x="329203" y="404164"/>
                </a:lnTo>
                <a:lnTo>
                  <a:pt x="329203" y="733367"/>
                </a:lnTo>
                <a:lnTo>
                  <a:pt x="0" y="733367"/>
                </a:lnTo>
                <a:lnTo>
                  <a:pt x="0" y="404164"/>
                </a:lnTo>
                <a:close/>
                <a:moveTo>
                  <a:pt x="65100" y="66905"/>
                </a:moveTo>
                <a:lnTo>
                  <a:pt x="65100" y="265908"/>
                </a:lnTo>
                <a:lnTo>
                  <a:pt x="264103" y="265908"/>
                </a:lnTo>
                <a:lnTo>
                  <a:pt x="264103" y="66905"/>
                </a:lnTo>
                <a:lnTo>
                  <a:pt x="65100" y="66905"/>
                </a:lnTo>
                <a:close/>
                <a:moveTo>
                  <a:pt x="402359" y="1806"/>
                </a:moveTo>
                <a:lnTo>
                  <a:pt x="726682" y="1806"/>
                </a:lnTo>
                <a:lnTo>
                  <a:pt x="665305" y="66906"/>
                </a:lnTo>
                <a:lnTo>
                  <a:pt x="467459" y="66906"/>
                </a:lnTo>
                <a:lnTo>
                  <a:pt x="467459" y="265909"/>
                </a:lnTo>
                <a:lnTo>
                  <a:pt x="666462" y="265909"/>
                </a:lnTo>
                <a:lnTo>
                  <a:pt x="666462" y="188355"/>
                </a:lnTo>
                <a:lnTo>
                  <a:pt x="731562" y="119306"/>
                </a:lnTo>
                <a:lnTo>
                  <a:pt x="731562" y="331009"/>
                </a:lnTo>
                <a:lnTo>
                  <a:pt x="402359" y="331009"/>
                </a:lnTo>
                <a:lnTo>
                  <a:pt x="402359" y="1806"/>
                </a:lnTo>
                <a:close/>
                <a:moveTo>
                  <a:pt x="0" y="1805"/>
                </a:moveTo>
                <a:lnTo>
                  <a:pt x="329203" y="1805"/>
                </a:lnTo>
                <a:lnTo>
                  <a:pt x="329203" y="331008"/>
                </a:lnTo>
                <a:lnTo>
                  <a:pt x="0" y="331008"/>
                </a:lnTo>
                <a:lnTo>
                  <a:pt x="0" y="1805"/>
                </a:lnTo>
                <a:close/>
                <a:moveTo>
                  <a:pt x="764419" y="0"/>
                </a:moveTo>
                <a:lnTo>
                  <a:pt x="790121" y="25703"/>
                </a:lnTo>
                <a:lnTo>
                  <a:pt x="600057" y="215767"/>
                </a:lnTo>
                <a:lnTo>
                  <a:pt x="600352" y="216061"/>
                </a:lnTo>
                <a:lnTo>
                  <a:pt x="576318" y="240095"/>
                </a:lnTo>
                <a:lnTo>
                  <a:pt x="481177" y="144952"/>
                </a:lnTo>
                <a:lnTo>
                  <a:pt x="505210" y="120919"/>
                </a:lnTo>
                <a:lnTo>
                  <a:pt x="574355" y="190064"/>
                </a:lnTo>
                <a:lnTo>
                  <a:pt x="7644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梯形 9"/>
          <p:cNvSpPr/>
          <p:nvPr/>
        </p:nvSpPr>
        <p:spPr>
          <a:xfrm rot="16200000">
            <a:off x="4908600" y="3343320"/>
            <a:ext cx="644400" cy="568080"/>
          </a:xfrm>
          <a:custGeom>
            <a:avLst/>
            <a:gdLst>
              <a:gd name="textAreaLeft" fmla="*/ 0 w 644400"/>
              <a:gd name="textAreaRight" fmla="*/ 644760 w 64440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792088" h="698841">
                <a:moveTo>
                  <a:pt x="579668" y="63817"/>
                </a:moveTo>
                <a:lnTo>
                  <a:pt x="579668" y="127634"/>
                </a:lnTo>
                <a:lnTo>
                  <a:pt x="212420" y="127634"/>
                </a:lnTo>
                <a:lnTo>
                  <a:pt x="212420" y="63817"/>
                </a:lnTo>
                <a:cubicBezTo>
                  <a:pt x="212420" y="28572"/>
                  <a:pt x="240992" y="0"/>
                  <a:pt x="276237" y="0"/>
                </a:cubicBezTo>
                <a:lnTo>
                  <a:pt x="515851" y="0"/>
                </a:lnTo>
                <a:cubicBezTo>
                  <a:pt x="551096" y="0"/>
                  <a:pt x="579668" y="28572"/>
                  <a:pt x="579668" y="63817"/>
                </a:cubicBezTo>
                <a:close/>
                <a:moveTo>
                  <a:pt x="580218" y="540462"/>
                </a:moveTo>
                <a:cubicBezTo>
                  <a:pt x="469169" y="592793"/>
                  <a:pt x="341100" y="595412"/>
                  <a:pt x="228004" y="547665"/>
                </a:cubicBezTo>
                <a:lnTo>
                  <a:pt x="254632" y="484593"/>
                </a:lnTo>
                <a:cubicBezTo>
                  <a:pt x="349807" y="524774"/>
                  <a:pt x="457582" y="522570"/>
                  <a:pt x="551034" y="478531"/>
                </a:cubicBezTo>
                <a:lnTo>
                  <a:pt x="580218" y="540462"/>
                </a:lnTo>
                <a:close/>
                <a:moveTo>
                  <a:pt x="676730" y="636019"/>
                </a:moveTo>
                <a:cubicBezTo>
                  <a:pt x="509150" y="714990"/>
                  <a:pt x="316056" y="719713"/>
                  <a:pt x="144815" y="649030"/>
                </a:cubicBezTo>
                <a:lnTo>
                  <a:pt x="168621" y="591354"/>
                </a:lnTo>
                <a:cubicBezTo>
                  <a:pt x="323635" y="655339"/>
                  <a:pt x="498432" y="651064"/>
                  <a:pt x="650132" y="579576"/>
                </a:cubicBezTo>
                <a:lnTo>
                  <a:pt x="676730" y="636019"/>
                </a:lnTo>
                <a:close/>
                <a:moveTo>
                  <a:pt x="792088" y="442429"/>
                </a:moveTo>
                <a:lnTo>
                  <a:pt x="0" y="442429"/>
                </a:lnTo>
                <a:lnTo>
                  <a:pt x="213623" y="161605"/>
                </a:lnTo>
                <a:lnTo>
                  <a:pt x="578465" y="161605"/>
                </a:lnTo>
                <a:lnTo>
                  <a:pt x="792088" y="4424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矩形 60"/>
          <p:cNvSpPr/>
          <p:nvPr/>
        </p:nvSpPr>
        <p:spPr>
          <a:xfrm>
            <a:off x="6105600" y="2565360"/>
            <a:ext cx="453960" cy="406440"/>
          </a:xfrm>
          <a:custGeom>
            <a:avLst/>
            <a:gdLst>
              <a:gd name="textAreaLeft" fmla="*/ 0 w 453960"/>
              <a:gd name="textAreaRight" fmla="*/ 454320 w 45396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0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0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5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1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6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0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2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2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7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8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09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16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8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519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1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522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4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525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7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528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845" dur="indefinite" restart="never" nodeType="tmRoot">
          <p:childTnLst>
            <p:seq>
              <p:cTn id="846" dur="indefinite" nodeType="mainSeq">
                <p:childTnLst>
                  <p:par>
                    <p:cTn id="847" nodeType="clickEffect" fill="hold">
                      <p:stCondLst>
                        <p:cond delay="0"/>
                      </p:stCondLst>
                      <p:childTnLst>
                        <p:par>
                          <p:cTn id="8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6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6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2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2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8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1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1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3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8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865" dur="21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8" dur="18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4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6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88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88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89" dur="250" autoRev="1" fill="hold"/>
                                        <p:tgtEl>
                                          <p:spTgt spid="5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89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3" dur="250" autoRev="1" fill="hold"/>
                                        <p:tgtEl>
                                          <p:spTgt spid="52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89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7" dur="250" autoRev="1" fill="hold"/>
                                        <p:tgtEl>
                                          <p:spTgt spid="52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89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1" dur="250" autoRev="1" fill="hold"/>
                                        <p:tgtEl>
                                          <p:spTgt spid="5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2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533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34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535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37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8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539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46" name="KSO_Shape"/>
          <p:cNvGrpSpPr/>
          <p:nvPr/>
        </p:nvGrpSpPr>
        <p:grpSpPr>
          <a:xfrm>
            <a:off x="912960" y="1266840"/>
            <a:ext cx="3001680" cy="2482920"/>
            <a:chOff x="912960" y="1266840"/>
            <a:chExt cx="3001680" cy="2482920"/>
          </a:xfrm>
        </p:grpSpPr>
        <p:sp>
          <p:nvSpPr>
            <p:cNvPr id="547" name="内蒙古"/>
            <p:cNvSpPr/>
            <p:nvPr/>
          </p:nvSpPr>
          <p:spPr>
            <a:xfrm>
              <a:off x="2173320" y="1294200"/>
              <a:ext cx="1315800" cy="1123560"/>
            </a:xfrm>
            <a:custGeom>
              <a:avLst/>
              <a:gdLst>
                <a:gd name="textAreaLeft" fmla="*/ 0 w 1315800"/>
                <a:gd name="textAreaRight" fmla="*/ 1315800 w 1315800"/>
                <a:gd name="textAreaTop" fmla="*/ 0 h 1123560"/>
                <a:gd name="textAreaBottom" fmla="*/ 1123920 h 1123560"/>
              </a:gdLst>
              <a:ahLst/>
              <a:rect l="textAreaLeft" t="textAreaTop" r="textAreaRight" b="textAreaBottom"/>
              <a:pathLst>
                <a:path w="1428" h="1218">
                  <a:moveTo>
                    <a:pt x="1398" y="128"/>
                  </a:moveTo>
                  <a:lnTo>
                    <a:pt x="1394" y="112"/>
                  </a:lnTo>
                  <a:lnTo>
                    <a:pt x="1378" y="86"/>
                  </a:lnTo>
                  <a:lnTo>
                    <a:pt x="1366" y="80"/>
                  </a:lnTo>
                  <a:lnTo>
                    <a:pt x="1354" y="86"/>
                  </a:lnTo>
                  <a:lnTo>
                    <a:pt x="1348" y="100"/>
                  </a:lnTo>
                  <a:lnTo>
                    <a:pt x="1346" y="102"/>
                  </a:lnTo>
                  <a:lnTo>
                    <a:pt x="1344" y="102"/>
                  </a:lnTo>
                  <a:lnTo>
                    <a:pt x="1322" y="106"/>
                  </a:lnTo>
                  <a:lnTo>
                    <a:pt x="1318" y="108"/>
                  </a:lnTo>
                  <a:lnTo>
                    <a:pt x="1316" y="112"/>
                  </a:lnTo>
                  <a:lnTo>
                    <a:pt x="1310" y="116"/>
                  </a:lnTo>
                  <a:lnTo>
                    <a:pt x="1298" y="126"/>
                  </a:lnTo>
                  <a:lnTo>
                    <a:pt x="1296" y="128"/>
                  </a:lnTo>
                  <a:lnTo>
                    <a:pt x="1286" y="130"/>
                  </a:lnTo>
                  <a:lnTo>
                    <a:pt x="1276" y="126"/>
                  </a:lnTo>
                  <a:lnTo>
                    <a:pt x="1264" y="118"/>
                  </a:lnTo>
                  <a:lnTo>
                    <a:pt x="1262" y="116"/>
                  </a:lnTo>
                  <a:lnTo>
                    <a:pt x="1244" y="96"/>
                  </a:lnTo>
                  <a:lnTo>
                    <a:pt x="1240" y="90"/>
                  </a:lnTo>
                  <a:lnTo>
                    <a:pt x="1238" y="84"/>
                  </a:lnTo>
                  <a:lnTo>
                    <a:pt x="1238" y="62"/>
                  </a:lnTo>
                  <a:lnTo>
                    <a:pt x="1238" y="60"/>
                  </a:lnTo>
                  <a:lnTo>
                    <a:pt x="1242" y="56"/>
                  </a:lnTo>
                  <a:lnTo>
                    <a:pt x="1218" y="48"/>
                  </a:lnTo>
                  <a:lnTo>
                    <a:pt x="1218" y="56"/>
                  </a:lnTo>
                  <a:lnTo>
                    <a:pt x="1216" y="60"/>
                  </a:lnTo>
                  <a:lnTo>
                    <a:pt x="1210" y="64"/>
                  </a:lnTo>
                  <a:lnTo>
                    <a:pt x="1202" y="68"/>
                  </a:lnTo>
                  <a:lnTo>
                    <a:pt x="1200" y="68"/>
                  </a:lnTo>
                  <a:lnTo>
                    <a:pt x="1200" y="66"/>
                  </a:lnTo>
                  <a:lnTo>
                    <a:pt x="1188" y="64"/>
                  </a:lnTo>
                  <a:lnTo>
                    <a:pt x="1190" y="72"/>
                  </a:lnTo>
                  <a:lnTo>
                    <a:pt x="1170" y="60"/>
                  </a:lnTo>
                  <a:lnTo>
                    <a:pt x="1168" y="60"/>
                  </a:lnTo>
                  <a:lnTo>
                    <a:pt x="1168" y="58"/>
                  </a:lnTo>
                  <a:lnTo>
                    <a:pt x="1164" y="46"/>
                  </a:lnTo>
                  <a:lnTo>
                    <a:pt x="1162" y="32"/>
                  </a:lnTo>
                  <a:lnTo>
                    <a:pt x="1164" y="22"/>
                  </a:lnTo>
                  <a:lnTo>
                    <a:pt x="1166" y="16"/>
                  </a:lnTo>
                  <a:lnTo>
                    <a:pt x="1172" y="6"/>
                  </a:lnTo>
                  <a:lnTo>
                    <a:pt x="1170" y="0"/>
                  </a:lnTo>
                  <a:lnTo>
                    <a:pt x="1150" y="2"/>
                  </a:lnTo>
                  <a:lnTo>
                    <a:pt x="1142" y="4"/>
                  </a:lnTo>
                  <a:lnTo>
                    <a:pt x="1136" y="8"/>
                  </a:lnTo>
                  <a:lnTo>
                    <a:pt x="1132" y="14"/>
                  </a:lnTo>
                  <a:lnTo>
                    <a:pt x="1128" y="22"/>
                  </a:lnTo>
                  <a:lnTo>
                    <a:pt x="1116" y="40"/>
                  </a:lnTo>
                  <a:lnTo>
                    <a:pt x="1128" y="40"/>
                  </a:lnTo>
                  <a:lnTo>
                    <a:pt x="1130" y="40"/>
                  </a:lnTo>
                  <a:lnTo>
                    <a:pt x="1140" y="44"/>
                  </a:lnTo>
                  <a:lnTo>
                    <a:pt x="1142" y="44"/>
                  </a:lnTo>
                  <a:lnTo>
                    <a:pt x="1142" y="46"/>
                  </a:lnTo>
                  <a:lnTo>
                    <a:pt x="1142" y="48"/>
                  </a:lnTo>
                  <a:lnTo>
                    <a:pt x="1144" y="64"/>
                  </a:lnTo>
                  <a:lnTo>
                    <a:pt x="1150" y="80"/>
                  </a:lnTo>
                  <a:lnTo>
                    <a:pt x="1150" y="82"/>
                  </a:lnTo>
                  <a:lnTo>
                    <a:pt x="1150" y="84"/>
                  </a:lnTo>
                  <a:lnTo>
                    <a:pt x="1122" y="136"/>
                  </a:lnTo>
                  <a:lnTo>
                    <a:pt x="1120" y="142"/>
                  </a:lnTo>
                  <a:lnTo>
                    <a:pt x="1118" y="154"/>
                  </a:lnTo>
                  <a:lnTo>
                    <a:pt x="1114" y="190"/>
                  </a:lnTo>
                  <a:lnTo>
                    <a:pt x="1114" y="192"/>
                  </a:lnTo>
                  <a:lnTo>
                    <a:pt x="1104" y="212"/>
                  </a:lnTo>
                  <a:lnTo>
                    <a:pt x="1110" y="220"/>
                  </a:lnTo>
                  <a:lnTo>
                    <a:pt x="1110" y="222"/>
                  </a:lnTo>
                  <a:lnTo>
                    <a:pt x="1110" y="236"/>
                  </a:lnTo>
                  <a:lnTo>
                    <a:pt x="1110" y="242"/>
                  </a:lnTo>
                  <a:lnTo>
                    <a:pt x="1108" y="244"/>
                  </a:lnTo>
                  <a:lnTo>
                    <a:pt x="1106" y="244"/>
                  </a:lnTo>
                  <a:lnTo>
                    <a:pt x="1098" y="250"/>
                  </a:lnTo>
                  <a:lnTo>
                    <a:pt x="1088" y="262"/>
                  </a:lnTo>
                  <a:lnTo>
                    <a:pt x="1052" y="302"/>
                  </a:lnTo>
                  <a:lnTo>
                    <a:pt x="1050" y="304"/>
                  </a:lnTo>
                  <a:lnTo>
                    <a:pt x="1048" y="304"/>
                  </a:lnTo>
                  <a:lnTo>
                    <a:pt x="1046" y="302"/>
                  </a:lnTo>
                  <a:lnTo>
                    <a:pt x="1030" y="292"/>
                  </a:lnTo>
                  <a:lnTo>
                    <a:pt x="1020" y="282"/>
                  </a:lnTo>
                  <a:lnTo>
                    <a:pt x="1014" y="280"/>
                  </a:lnTo>
                  <a:lnTo>
                    <a:pt x="1008" y="278"/>
                  </a:lnTo>
                  <a:lnTo>
                    <a:pt x="982" y="276"/>
                  </a:lnTo>
                  <a:lnTo>
                    <a:pt x="982" y="314"/>
                  </a:lnTo>
                  <a:lnTo>
                    <a:pt x="966" y="384"/>
                  </a:lnTo>
                  <a:lnTo>
                    <a:pt x="964" y="392"/>
                  </a:lnTo>
                  <a:lnTo>
                    <a:pt x="964" y="402"/>
                  </a:lnTo>
                  <a:lnTo>
                    <a:pt x="962" y="432"/>
                  </a:lnTo>
                  <a:lnTo>
                    <a:pt x="968" y="440"/>
                  </a:lnTo>
                  <a:lnTo>
                    <a:pt x="974" y="430"/>
                  </a:lnTo>
                  <a:lnTo>
                    <a:pt x="974" y="428"/>
                  </a:lnTo>
                  <a:lnTo>
                    <a:pt x="994" y="420"/>
                  </a:lnTo>
                  <a:lnTo>
                    <a:pt x="1044" y="428"/>
                  </a:lnTo>
                  <a:lnTo>
                    <a:pt x="1050" y="420"/>
                  </a:lnTo>
                  <a:lnTo>
                    <a:pt x="1058" y="408"/>
                  </a:lnTo>
                  <a:lnTo>
                    <a:pt x="1060" y="406"/>
                  </a:lnTo>
                  <a:lnTo>
                    <a:pt x="1080" y="402"/>
                  </a:lnTo>
                  <a:lnTo>
                    <a:pt x="1106" y="400"/>
                  </a:lnTo>
                  <a:lnTo>
                    <a:pt x="1112" y="404"/>
                  </a:lnTo>
                  <a:lnTo>
                    <a:pt x="1120" y="410"/>
                  </a:lnTo>
                  <a:lnTo>
                    <a:pt x="1136" y="428"/>
                  </a:lnTo>
                  <a:lnTo>
                    <a:pt x="1158" y="440"/>
                  </a:lnTo>
                  <a:lnTo>
                    <a:pt x="1174" y="452"/>
                  </a:lnTo>
                  <a:lnTo>
                    <a:pt x="1184" y="462"/>
                  </a:lnTo>
                  <a:lnTo>
                    <a:pt x="1190" y="472"/>
                  </a:lnTo>
                  <a:lnTo>
                    <a:pt x="1192" y="480"/>
                  </a:lnTo>
                  <a:lnTo>
                    <a:pt x="1190" y="488"/>
                  </a:lnTo>
                  <a:lnTo>
                    <a:pt x="1186" y="492"/>
                  </a:lnTo>
                  <a:lnTo>
                    <a:pt x="1184" y="496"/>
                  </a:lnTo>
                  <a:lnTo>
                    <a:pt x="1174" y="498"/>
                  </a:lnTo>
                  <a:lnTo>
                    <a:pt x="1172" y="498"/>
                  </a:lnTo>
                  <a:lnTo>
                    <a:pt x="1126" y="498"/>
                  </a:lnTo>
                  <a:lnTo>
                    <a:pt x="1112" y="498"/>
                  </a:lnTo>
                  <a:lnTo>
                    <a:pt x="1102" y="500"/>
                  </a:lnTo>
                  <a:lnTo>
                    <a:pt x="1084" y="512"/>
                  </a:lnTo>
                  <a:lnTo>
                    <a:pt x="1054" y="532"/>
                  </a:lnTo>
                  <a:lnTo>
                    <a:pt x="1042" y="536"/>
                  </a:lnTo>
                  <a:lnTo>
                    <a:pt x="1034" y="538"/>
                  </a:lnTo>
                  <a:lnTo>
                    <a:pt x="1018" y="540"/>
                  </a:lnTo>
                  <a:lnTo>
                    <a:pt x="1010" y="580"/>
                  </a:lnTo>
                  <a:lnTo>
                    <a:pt x="1004" y="596"/>
                  </a:lnTo>
                  <a:lnTo>
                    <a:pt x="1000" y="602"/>
                  </a:lnTo>
                  <a:lnTo>
                    <a:pt x="996" y="606"/>
                  </a:lnTo>
                  <a:lnTo>
                    <a:pt x="990" y="610"/>
                  </a:lnTo>
                  <a:lnTo>
                    <a:pt x="984" y="614"/>
                  </a:lnTo>
                  <a:lnTo>
                    <a:pt x="966" y="620"/>
                  </a:lnTo>
                  <a:lnTo>
                    <a:pt x="956" y="622"/>
                  </a:lnTo>
                  <a:lnTo>
                    <a:pt x="946" y="626"/>
                  </a:lnTo>
                  <a:lnTo>
                    <a:pt x="926" y="634"/>
                  </a:lnTo>
                  <a:lnTo>
                    <a:pt x="914" y="664"/>
                  </a:lnTo>
                  <a:lnTo>
                    <a:pt x="912" y="664"/>
                  </a:lnTo>
                  <a:lnTo>
                    <a:pt x="910" y="664"/>
                  </a:lnTo>
                  <a:lnTo>
                    <a:pt x="874" y="680"/>
                  </a:lnTo>
                  <a:lnTo>
                    <a:pt x="872" y="680"/>
                  </a:lnTo>
                  <a:lnTo>
                    <a:pt x="854" y="676"/>
                  </a:lnTo>
                  <a:lnTo>
                    <a:pt x="834" y="670"/>
                  </a:lnTo>
                  <a:lnTo>
                    <a:pt x="820" y="664"/>
                  </a:lnTo>
                  <a:lnTo>
                    <a:pt x="814" y="662"/>
                  </a:lnTo>
                  <a:lnTo>
                    <a:pt x="806" y="660"/>
                  </a:lnTo>
                  <a:lnTo>
                    <a:pt x="798" y="660"/>
                  </a:lnTo>
                  <a:lnTo>
                    <a:pt x="790" y="662"/>
                  </a:lnTo>
                  <a:lnTo>
                    <a:pt x="784" y="672"/>
                  </a:lnTo>
                  <a:lnTo>
                    <a:pt x="778" y="684"/>
                  </a:lnTo>
                  <a:lnTo>
                    <a:pt x="776" y="698"/>
                  </a:lnTo>
                  <a:lnTo>
                    <a:pt x="776" y="710"/>
                  </a:lnTo>
                  <a:lnTo>
                    <a:pt x="778" y="722"/>
                  </a:lnTo>
                  <a:lnTo>
                    <a:pt x="782" y="728"/>
                  </a:lnTo>
                  <a:lnTo>
                    <a:pt x="786" y="728"/>
                  </a:lnTo>
                  <a:lnTo>
                    <a:pt x="794" y="724"/>
                  </a:lnTo>
                  <a:lnTo>
                    <a:pt x="794" y="748"/>
                  </a:lnTo>
                  <a:lnTo>
                    <a:pt x="794" y="756"/>
                  </a:lnTo>
                  <a:lnTo>
                    <a:pt x="792" y="760"/>
                  </a:lnTo>
                  <a:lnTo>
                    <a:pt x="790" y="764"/>
                  </a:lnTo>
                  <a:lnTo>
                    <a:pt x="786" y="768"/>
                  </a:lnTo>
                  <a:lnTo>
                    <a:pt x="776" y="774"/>
                  </a:lnTo>
                  <a:lnTo>
                    <a:pt x="764" y="778"/>
                  </a:lnTo>
                  <a:lnTo>
                    <a:pt x="758" y="780"/>
                  </a:lnTo>
                  <a:lnTo>
                    <a:pt x="750" y="786"/>
                  </a:lnTo>
                  <a:lnTo>
                    <a:pt x="738" y="798"/>
                  </a:lnTo>
                  <a:lnTo>
                    <a:pt x="724" y="818"/>
                  </a:lnTo>
                  <a:lnTo>
                    <a:pt x="708" y="844"/>
                  </a:lnTo>
                  <a:lnTo>
                    <a:pt x="706" y="844"/>
                  </a:lnTo>
                  <a:lnTo>
                    <a:pt x="682" y="860"/>
                  </a:lnTo>
                  <a:lnTo>
                    <a:pt x="688" y="860"/>
                  </a:lnTo>
                  <a:lnTo>
                    <a:pt x="688" y="862"/>
                  </a:lnTo>
                  <a:lnTo>
                    <a:pt x="688" y="864"/>
                  </a:lnTo>
                  <a:lnTo>
                    <a:pt x="686" y="868"/>
                  </a:lnTo>
                  <a:lnTo>
                    <a:pt x="678" y="868"/>
                  </a:lnTo>
                  <a:lnTo>
                    <a:pt x="610" y="868"/>
                  </a:lnTo>
                  <a:lnTo>
                    <a:pt x="584" y="868"/>
                  </a:lnTo>
                  <a:lnTo>
                    <a:pt x="558" y="870"/>
                  </a:lnTo>
                  <a:lnTo>
                    <a:pt x="532" y="874"/>
                  </a:lnTo>
                  <a:lnTo>
                    <a:pt x="510" y="882"/>
                  </a:lnTo>
                  <a:lnTo>
                    <a:pt x="488" y="890"/>
                  </a:lnTo>
                  <a:lnTo>
                    <a:pt x="468" y="900"/>
                  </a:lnTo>
                  <a:lnTo>
                    <a:pt x="450" y="914"/>
                  </a:lnTo>
                  <a:lnTo>
                    <a:pt x="434" y="928"/>
                  </a:lnTo>
                  <a:lnTo>
                    <a:pt x="432" y="930"/>
                  </a:lnTo>
                  <a:lnTo>
                    <a:pt x="430" y="930"/>
                  </a:lnTo>
                  <a:lnTo>
                    <a:pt x="402" y="934"/>
                  </a:lnTo>
                  <a:lnTo>
                    <a:pt x="400" y="934"/>
                  </a:lnTo>
                  <a:lnTo>
                    <a:pt x="398" y="934"/>
                  </a:lnTo>
                  <a:lnTo>
                    <a:pt x="390" y="916"/>
                  </a:lnTo>
                  <a:lnTo>
                    <a:pt x="362" y="922"/>
                  </a:lnTo>
                  <a:lnTo>
                    <a:pt x="350" y="922"/>
                  </a:lnTo>
                  <a:lnTo>
                    <a:pt x="336" y="920"/>
                  </a:lnTo>
                  <a:lnTo>
                    <a:pt x="320" y="916"/>
                  </a:lnTo>
                  <a:lnTo>
                    <a:pt x="304" y="908"/>
                  </a:lnTo>
                  <a:lnTo>
                    <a:pt x="290" y="900"/>
                  </a:lnTo>
                  <a:lnTo>
                    <a:pt x="274" y="892"/>
                  </a:lnTo>
                  <a:lnTo>
                    <a:pt x="246" y="872"/>
                  </a:lnTo>
                  <a:lnTo>
                    <a:pt x="238" y="866"/>
                  </a:lnTo>
                  <a:lnTo>
                    <a:pt x="226" y="860"/>
                  </a:lnTo>
                  <a:lnTo>
                    <a:pt x="214" y="856"/>
                  </a:lnTo>
                  <a:lnTo>
                    <a:pt x="202" y="854"/>
                  </a:lnTo>
                  <a:lnTo>
                    <a:pt x="176" y="852"/>
                  </a:lnTo>
                  <a:lnTo>
                    <a:pt x="148" y="856"/>
                  </a:lnTo>
                  <a:lnTo>
                    <a:pt x="116" y="858"/>
                  </a:lnTo>
                  <a:lnTo>
                    <a:pt x="86" y="856"/>
                  </a:lnTo>
                  <a:lnTo>
                    <a:pt x="68" y="854"/>
                  </a:lnTo>
                  <a:lnTo>
                    <a:pt x="48" y="852"/>
                  </a:lnTo>
                  <a:lnTo>
                    <a:pt x="2" y="838"/>
                  </a:lnTo>
                  <a:lnTo>
                    <a:pt x="0" y="844"/>
                  </a:lnTo>
                  <a:lnTo>
                    <a:pt x="2" y="844"/>
                  </a:lnTo>
                  <a:lnTo>
                    <a:pt x="2" y="852"/>
                  </a:lnTo>
                  <a:lnTo>
                    <a:pt x="10" y="868"/>
                  </a:lnTo>
                  <a:lnTo>
                    <a:pt x="26" y="888"/>
                  </a:lnTo>
                  <a:lnTo>
                    <a:pt x="28" y="892"/>
                  </a:lnTo>
                  <a:lnTo>
                    <a:pt x="24" y="906"/>
                  </a:lnTo>
                  <a:lnTo>
                    <a:pt x="24" y="908"/>
                  </a:lnTo>
                  <a:lnTo>
                    <a:pt x="14" y="920"/>
                  </a:lnTo>
                  <a:lnTo>
                    <a:pt x="24" y="930"/>
                  </a:lnTo>
                  <a:lnTo>
                    <a:pt x="30" y="936"/>
                  </a:lnTo>
                  <a:lnTo>
                    <a:pt x="30" y="940"/>
                  </a:lnTo>
                  <a:lnTo>
                    <a:pt x="34" y="956"/>
                  </a:lnTo>
                  <a:lnTo>
                    <a:pt x="46" y="968"/>
                  </a:lnTo>
                  <a:lnTo>
                    <a:pt x="46" y="970"/>
                  </a:lnTo>
                  <a:lnTo>
                    <a:pt x="46" y="980"/>
                  </a:lnTo>
                  <a:lnTo>
                    <a:pt x="46" y="988"/>
                  </a:lnTo>
                  <a:lnTo>
                    <a:pt x="54" y="994"/>
                  </a:lnTo>
                  <a:lnTo>
                    <a:pt x="58" y="992"/>
                  </a:lnTo>
                  <a:lnTo>
                    <a:pt x="60" y="990"/>
                  </a:lnTo>
                  <a:lnTo>
                    <a:pt x="64" y="982"/>
                  </a:lnTo>
                  <a:lnTo>
                    <a:pt x="72" y="980"/>
                  </a:lnTo>
                  <a:lnTo>
                    <a:pt x="78" y="976"/>
                  </a:lnTo>
                  <a:lnTo>
                    <a:pt x="120" y="972"/>
                  </a:lnTo>
                  <a:lnTo>
                    <a:pt x="138" y="966"/>
                  </a:lnTo>
                  <a:lnTo>
                    <a:pt x="142" y="964"/>
                  </a:lnTo>
                  <a:lnTo>
                    <a:pt x="150" y="984"/>
                  </a:lnTo>
                  <a:lnTo>
                    <a:pt x="150" y="990"/>
                  </a:lnTo>
                  <a:lnTo>
                    <a:pt x="148" y="996"/>
                  </a:lnTo>
                  <a:lnTo>
                    <a:pt x="126" y="1028"/>
                  </a:lnTo>
                  <a:lnTo>
                    <a:pt x="126" y="1034"/>
                  </a:lnTo>
                  <a:lnTo>
                    <a:pt x="138" y="1044"/>
                  </a:lnTo>
                  <a:lnTo>
                    <a:pt x="148" y="1052"/>
                  </a:lnTo>
                  <a:lnTo>
                    <a:pt x="156" y="1060"/>
                  </a:lnTo>
                  <a:lnTo>
                    <a:pt x="162" y="1064"/>
                  </a:lnTo>
                  <a:lnTo>
                    <a:pt x="170" y="1068"/>
                  </a:lnTo>
                  <a:lnTo>
                    <a:pt x="178" y="1076"/>
                  </a:lnTo>
                  <a:lnTo>
                    <a:pt x="178" y="1078"/>
                  </a:lnTo>
                  <a:lnTo>
                    <a:pt x="186" y="1082"/>
                  </a:lnTo>
                  <a:lnTo>
                    <a:pt x="190" y="1082"/>
                  </a:lnTo>
                  <a:lnTo>
                    <a:pt x="192" y="1092"/>
                  </a:lnTo>
                  <a:lnTo>
                    <a:pt x="194" y="1100"/>
                  </a:lnTo>
                  <a:lnTo>
                    <a:pt x="196" y="1112"/>
                  </a:lnTo>
                  <a:lnTo>
                    <a:pt x="216" y="1116"/>
                  </a:lnTo>
                  <a:lnTo>
                    <a:pt x="218" y="1116"/>
                  </a:lnTo>
                  <a:lnTo>
                    <a:pt x="218" y="1118"/>
                  </a:lnTo>
                  <a:lnTo>
                    <a:pt x="220" y="1120"/>
                  </a:lnTo>
                  <a:lnTo>
                    <a:pt x="226" y="1130"/>
                  </a:lnTo>
                  <a:lnTo>
                    <a:pt x="242" y="1136"/>
                  </a:lnTo>
                  <a:lnTo>
                    <a:pt x="252" y="1130"/>
                  </a:lnTo>
                  <a:lnTo>
                    <a:pt x="250" y="1124"/>
                  </a:lnTo>
                  <a:lnTo>
                    <a:pt x="240" y="1114"/>
                  </a:lnTo>
                  <a:lnTo>
                    <a:pt x="242" y="1112"/>
                  </a:lnTo>
                  <a:lnTo>
                    <a:pt x="250" y="1094"/>
                  </a:lnTo>
                  <a:lnTo>
                    <a:pt x="270" y="1094"/>
                  </a:lnTo>
                  <a:lnTo>
                    <a:pt x="270" y="1096"/>
                  </a:lnTo>
                  <a:lnTo>
                    <a:pt x="298" y="1104"/>
                  </a:lnTo>
                  <a:lnTo>
                    <a:pt x="314" y="1102"/>
                  </a:lnTo>
                  <a:lnTo>
                    <a:pt x="326" y="1092"/>
                  </a:lnTo>
                  <a:lnTo>
                    <a:pt x="334" y="1080"/>
                  </a:lnTo>
                  <a:lnTo>
                    <a:pt x="342" y="1074"/>
                  </a:lnTo>
                  <a:lnTo>
                    <a:pt x="348" y="1070"/>
                  </a:lnTo>
                  <a:lnTo>
                    <a:pt x="354" y="1072"/>
                  </a:lnTo>
                  <a:lnTo>
                    <a:pt x="360" y="1070"/>
                  </a:lnTo>
                  <a:lnTo>
                    <a:pt x="368" y="1072"/>
                  </a:lnTo>
                  <a:lnTo>
                    <a:pt x="374" y="1072"/>
                  </a:lnTo>
                  <a:lnTo>
                    <a:pt x="374" y="1076"/>
                  </a:lnTo>
                  <a:lnTo>
                    <a:pt x="378" y="1084"/>
                  </a:lnTo>
                  <a:lnTo>
                    <a:pt x="382" y="1096"/>
                  </a:lnTo>
                  <a:lnTo>
                    <a:pt x="386" y="1108"/>
                  </a:lnTo>
                  <a:lnTo>
                    <a:pt x="386" y="1110"/>
                  </a:lnTo>
                  <a:lnTo>
                    <a:pt x="382" y="1124"/>
                  </a:lnTo>
                  <a:lnTo>
                    <a:pt x="368" y="1140"/>
                  </a:lnTo>
                  <a:lnTo>
                    <a:pt x="366" y="1142"/>
                  </a:lnTo>
                  <a:lnTo>
                    <a:pt x="338" y="1154"/>
                  </a:lnTo>
                  <a:lnTo>
                    <a:pt x="334" y="1162"/>
                  </a:lnTo>
                  <a:lnTo>
                    <a:pt x="330" y="1186"/>
                  </a:lnTo>
                  <a:lnTo>
                    <a:pt x="332" y="1196"/>
                  </a:lnTo>
                  <a:lnTo>
                    <a:pt x="340" y="1208"/>
                  </a:lnTo>
                  <a:lnTo>
                    <a:pt x="342" y="1212"/>
                  </a:lnTo>
                  <a:lnTo>
                    <a:pt x="352" y="1218"/>
                  </a:lnTo>
                  <a:lnTo>
                    <a:pt x="386" y="1218"/>
                  </a:lnTo>
                  <a:lnTo>
                    <a:pt x="414" y="1214"/>
                  </a:lnTo>
                  <a:lnTo>
                    <a:pt x="418" y="1210"/>
                  </a:lnTo>
                  <a:lnTo>
                    <a:pt x="424" y="1204"/>
                  </a:lnTo>
                  <a:lnTo>
                    <a:pt x="428" y="1204"/>
                  </a:lnTo>
                  <a:lnTo>
                    <a:pt x="448" y="1206"/>
                  </a:lnTo>
                  <a:lnTo>
                    <a:pt x="450" y="1204"/>
                  </a:lnTo>
                  <a:lnTo>
                    <a:pt x="448" y="1196"/>
                  </a:lnTo>
                  <a:lnTo>
                    <a:pt x="450" y="1188"/>
                  </a:lnTo>
                  <a:lnTo>
                    <a:pt x="458" y="1174"/>
                  </a:lnTo>
                  <a:lnTo>
                    <a:pt x="458" y="1148"/>
                  </a:lnTo>
                  <a:lnTo>
                    <a:pt x="474" y="1106"/>
                  </a:lnTo>
                  <a:lnTo>
                    <a:pt x="474" y="1104"/>
                  </a:lnTo>
                  <a:lnTo>
                    <a:pt x="500" y="1084"/>
                  </a:lnTo>
                  <a:lnTo>
                    <a:pt x="502" y="1082"/>
                  </a:lnTo>
                  <a:lnTo>
                    <a:pt x="522" y="1092"/>
                  </a:lnTo>
                  <a:lnTo>
                    <a:pt x="536" y="1102"/>
                  </a:lnTo>
                  <a:lnTo>
                    <a:pt x="538" y="1108"/>
                  </a:lnTo>
                  <a:lnTo>
                    <a:pt x="540" y="1110"/>
                  </a:lnTo>
                  <a:lnTo>
                    <a:pt x="538" y="1128"/>
                  </a:lnTo>
                  <a:lnTo>
                    <a:pt x="530" y="1140"/>
                  </a:lnTo>
                  <a:lnTo>
                    <a:pt x="526" y="1156"/>
                  </a:lnTo>
                  <a:lnTo>
                    <a:pt x="526" y="1172"/>
                  </a:lnTo>
                  <a:lnTo>
                    <a:pt x="530" y="1180"/>
                  </a:lnTo>
                  <a:lnTo>
                    <a:pt x="538" y="1180"/>
                  </a:lnTo>
                  <a:lnTo>
                    <a:pt x="540" y="1180"/>
                  </a:lnTo>
                  <a:lnTo>
                    <a:pt x="552" y="1180"/>
                  </a:lnTo>
                  <a:lnTo>
                    <a:pt x="556" y="1182"/>
                  </a:lnTo>
                  <a:lnTo>
                    <a:pt x="560" y="1186"/>
                  </a:lnTo>
                  <a:lnTo>
                    <a:pt x="566" y="1196"/>
                  </a:lnTo>
                  <a:lnTo>
                    <a:pt x="572" y="1200"/>
                  </a:lnTo>
                  <a:lnTo>
                    <a:pt x="574" y="1200"/>
                  </a:lnTo>
                  <a:lnTo>
                    <a:pt x="602" y="1212"/>
                  </a:lnTo>
                  <a:lnTo>
                    <a:pt x="614" y="1216"/>
                  </a:lnTo>
                  <a:lnTo>
                    <a:pt x="630" y="1214"/>
                  </a:lnTo>
                  <a:lnTo>
                    <a:pt x="638" y="1204"/>
                  </a:lnTo>
                  <a:lnTo>
                    <a:pt x="646" y="1164"/>
                  </a:lnTo>
                  <a:lnTo>
                    <a:pt x="648" y="1144"/>
                  </a:lnTo>
                  <a:lnTo>
                    <a:pt x="648" y="1142"/>
                  </a:lnTo>
                  <a:lnTo>
                    <a:pt x="650" y="1140"/>
                  </a:lnTo>
                  <a:lnTo>
                    <a:pt x="666" y="1128"/>
                  </a:lnTo>
                  <a:lnTo>
                    <a:pt x="674" y="1116"/>
                  </a:lnTo>
                  <a:lnTo>
                    <a:pt x="690" y="1108"/>
                  </a:lnTo>
                  <a:lnTo>
                    <a:pt x="700" y="1102"/>
                  </a:lnTo>
                  <a:lnTo>
                    <a:pt x="712" y="1098"/>
                  </a:lnTo>
                  <a:lnTo>
                    <a:pt x="706" y="1074"/>
                  </a:lnTo>
                  <a:lnTo>
                    <a:pt x="734" y="1076"/>
                  </a:lnTo>
                  <a:lnTo>
                    <a:pt x="734" y="1078"/>
                  </a:lnTo>
                  <a:lnTo>
                    <a:pt x="748" y="1084"/>
                  </a:lnTo>
                  <a:lnTo>
                    <a:pt x="748" y="1082"/>
                  </a:lnTo>
                  <a:lnTo>
                    <a:pt x="752" y="1068"/>
                  </a:lnTo>
                  <a:lnTo>
                    <a:pt x="752" y="1064"/>
                  </a:lnTo>
                  <a:lnTo>
                    <a:pt x="754" y="1066"/>
                  </a:lnTo>
                  <a:lnTo>
                    <a:pt x="756" y="1066"/>
                  </a:lnTo>
                  <a:lnTo>
                    <a:pt x="768" y="1068"/>
                  </a:lnTo>
                  <a:lnTo>
                    <a:pt x="774" y="1068"/>
                  </a:lnTo>
                  <a:lnTo>
                    <a:pt x="786" y="1056"/>
                  </a:lnTo>
                  <a:lnTo>
                    <a:pt x="788" y="1056"/>
                  </a:lnTo>
                  <a:lnTo>
                    <a:pt x="788" y="1054"/>
                  </a:lnTo>
                  <a:lnTo>
                    <a:pt x="790" y="1054"/>
                  </a:lnTo>
                  <a:lnTo>
                    <a:pt x="806" y="1052"/>
                  </a:lnTo>
                  <a:lnTo>
                    <a:pt x="818" y="1038"/>
                  </a:lnTo>
                  <a:lnTo>
                    <a:pt x="826" y="1028"/>
                  </a:lnTo>
                  <a:lnTo>
                    <a:pt x="826" y="1016"/>
                  </a:lnTo>
                  <a:lnTo>
                    <a:pt x="828" y="1010"/>
                  </a:lnTo>
                  <a:lnTo>
                    <a:pt x="834" y="1004"/>
                  </a:lnTo>
                  <a:lnTo>
                    <a:pt x="836" y="1004"/>
                  </a:lnTo>
                  <a:lnTo>
                    <a:pt x="850" y="1006"/>
                  </a:lnTo>
                  <a:lnTo>
                    <a:pt x="858" y="1002"/>
                  </a:lnTo>
                  <a:lnTo>
                    <a:pt x="860" y="992"/>
                  </a:lnTo>
                  <a:lnTo>
                    <a:pt x="876" y="986"/>
                  </a:lnTo>
                  <a:lnTo>
                    <a:pt x="878" y="986"/>
                  </a:lnTo>
                  <a:lnTo>
                    <a:pt x="898" y="988"/>
                  </a:lnTo>
                  <a:lnTo>
                    <a:pt x="914" y="984"/>
                  </a:lnTo>
                  <a:lnTo>
                    <a:pt x="922" y="976"/>
                  </a:lnTo>
                  <a:lnTo>
                    <a:pt x="930" y="962"/>
                  </a:lnTo>
                  <a:lnTo>
                    <a:pt x="918" y="950"/>
                  </a:lnTo>
                  <a:lnTo>
                    <a:pt x="918" y="948"/>
                  </a:lnTo>
                  <a:lnTo>
                    <a:pt x="914" y="940"/>
                  </a:lnTo>
                  <a:lnTo>
                    <a:pt x="912" y="924"/>
                  </a:lnTo>
                  <a:lnTo>
                    <a:pt x="918" y="912"/>
                  </a:lnTo>
                  <a:lnTo>
                    <a:pt x="920" y="904"/>
                  </a:lnTo>
                  <a:lnTo>
                    <a:pt x="928" y="896"/>
                  </a:lnTo>
                  <a:lnTo>
                    <a:pt x="936" y="878"/>
                  </a:lnTo>
                  <a:lnTo>
                    <a:pt x="936" y="876"/>
                  </a:lnTo>
                  <a:lnTo>
                    <a:pt x="938" y="876"/>
                  </a:lnTo>
                  <a:lnTo>
                    <a:pt x="946" y="864"/>
                  </a:lnTo>
                  <a:lnTo>
                    <a:pt x="958" y="840"/>
                  </a:lnTo>
                  <a:lnTo>
                    <a:pt x="968" y="856"/>
                  </a:lnTo>
                  <a:lnTo>
                    <a:pt x="970" y="856"/>
                  </a:lnTo>
                  <a:lnTo>
                    <a:pt x="970" y="858"/>
                  </a:lnTo>
                  <a:lnTo>
                    <a:pt x="974" y="874"/>
                  </a:lnTo>
                  <a:lnTo>
                    <a:pt x="976" y="890"/>
                  </a:lnTo>
                  <a:lnTo>
                    <a:pt x="986" y="896"/>
                  </a:lnTo>
                  <a:lnTo>
                    <a:pt x="988" y="896"/>
                  </a:lnTo>
                  <a:lnTo>
                    <a:pt x="990" y="896"/>
                  </a:lnTo>
                  <a:lnTo>
                    <a:pt x="992" y="896"/>
                  </a:lnTo>
                  <a:lnTo>
                    <a:pt x="1002" y="880"/>
                  </a:lnTo>
                  <a:lnTo>
                    <a:pt x="1006" y="864"/>
                  </a:lnTo>
                  <a:lnTo>
                    <a:pt x="1010" y="864"/>
                  </a:lnTo>
                  <a:lnTo>
                    <a:pt x="1012" y="864"/>
                  </a:lnTo>
                  <a:lnTo>
                    <a:pt x="1034" y="872"/>
                  </a:lnTo>
                  <a:lnTo>
                    <a:pt x="1046" y="864"/>
                  </a:lnTo>
                  <a:lnTo>
                    <a:pt x="1048" y="864"/>
                  </a:lnTo>
                  <a:lnTo>
                    <a:pt x="1060" y="862"/>
                  </a:lnTo>
                  <a:lnTo>
                    <a:pt x="1068" y="848"/>
                  </a:lnTo>
                  <a:lnTo>
                    <a:pt x="1068" y="832"/>
                  </a:lnTo>
                  <a:lnTo>
                    <a:pt x="1074" y="806"/>
                  </a:lnTo>
                  <a:lnTo>
                    <a:pt x="1074" y="808"/>
                  </a:lnTo>
                  <a:lnTo>
                    <a:pt x="1078" y="808"/>
                  </a:lnTo>
                  <a:lnTo>
                    <a:pt x="1094" y="812"/>
                  </a:lnTo>
                  <a:lnTo>
                    <a:pt x="1102" y="796"/>
                  </a:lnTo>
                  <a:lnTo>
                    <a:pt x="1104" y="796"/>
                  </a:lnTo>
                  <a:lnTo>
                    <a:pt x="1106" y="796"/>
                  </a:lnTo>
                  <a:lnTo>
                    <a:pt x="1122" y="796"/>
                  </a:lnTo>
                  <a:lnTo>
                    <a:pt x="1124" y="796"/>
                  </a:lnTo>
                  <a:lnTo>
                    <a:pt x="1126" y="796"/>
                  </a:lnTo>
                  <a:lnTo>
                    <a:pt x="1134" y="808"/>
                  </a:lnTo>
                  <a:lnTo>
                    <a:pt x="1134" y="810"/>
                  </a:lnTo>
                  <a:lnTo>
                    <a:pt x="1134" y="812"/>
                  </a:lnTo>
                  <a:lnTo>
                    <a:pt x="1136" y="828"/>
                  </a:lnTo>
                  <a:lnTo>
                    <a:pt x="1144" y="834"/>
                  </a:lnTo>
                  <a:lnTo>
                    <a:pt x="1154" y="824"/>
                  </a:lnTo>
                  <a:lnTo>
                    <a:pt x="1158" y="828"/>
                  </a:lnTo>
                  <a:lnTo>
                    <a:pt x="1162" y="834"/>
                  </a:lnTo>
                  <a:lnTo>
                    <a:pt x="1162" y="840"/>
                  </a:lnTo>
                  <a:lnTo>
                    <a:pt x="1162" y="854"/>
                  </a:lnTo>
                  <a:lnTo>
                    <a:pt x="1158" y="868"/>
                  </a:lnTo>
                  <a:lnTo>
                    <a:pt x="1162" y="876"/>
                  </a:lnTo>
                  <a:lnTo>
                    <a:pt x="1170" y="884"/>
                  </a:lnTo>
                  <a:lnTo>
                    <a:pt x="1202" y="888"/>
                  </a:lnTo>
                  <a:lnTo>
                    <a:pt x="1204" y="890"/>
                  </a:lnTo>
                  <a:lnTo>
                    <a:pt x="1206" y="890"/>
                  </a:lnTo>
                  <a:lnTo>
                    <a:pt x="1208" y="892"/>
                  </a:lnTo>
                  <a:lnTo>
                    <a:pt x="1218" y="880"/>
                  </a:lnTo>
                  <a:lnTo>
                    <a:pt x="1226" y="872"/>
                  </a:lnTo>
                  <a:lnTo>
                    <a:pt x="1222" y="860"/>
                  </a:lnTo>
                  <a:lnTo>
                    <a:pt x="1214" y="808"/>
                  </a:lnTo>
                  <a:lnTo>
                    <a:pt x="1238" y="820"/>
                  </a:lnTo>
                  <a:lnTo>
                    <a:pt x="1250" y="832"/>
                  </a:lnTo>
                  <a:lnTo>
                    <a:pt x="1256" y="838"/>
                  </a:lnTo>
                  <a:lnTo>
                    <a:pt x="1266" y="832"/>
                  </a:lnTo>
                  <a:lnTo>
                    <a:pt x="1298" y="796"/>
                  </a:lnTo>
                  <a:lnTo>
                    <a:pt x="1300" y="796"/>
                  </a:lnTo>
                  <a:lnTo>
                    <a:pt x="1312" y="786"/>
                  </a:lnTo>
                  <a:lnTo>
                    <a:pt x="1326" y="768"/>
                  </a:lnTo>
                  <a:lnTo>
                    <a:pt x="1326" y="766"/>
                  </a:lnTo>
                  <a:lnTo>
                    <a:pt x="1344" y="770"/>
                  </a:lnTo>
                  <a:lnTo>
                    <a:pt x="1354" y="770"/>
                  </a:lnTo>
                  <a:lnTo>
                    <a:pt x="1354" y="762"/>
                  </a:lnTo>
                  <a:lnTo>
                    <a:pt x="1356" y="756"/>
                  </a:lnTo>
                  <a:lnTo>
                    <a:pt x="1370" y="740"/>
                  </a:lnTo>
                  <a:lnTo>
                    <a:pt x="1374" y="736"/>
                  </a:lnTo>
                  <a:lnTo>
                    <a:pt x="1390" y="742"/>
                  </a:lnTo>
                  <a:lnTo>
                    <a:pt x="1408" y="740"/>
                  </a:lnTo>
                  <a:lnTo>
                    <a:pt x="1422" y="726"/>
                  </a:lnTo>
                  <a:lnTo>
                    <a:pt x="1428" y="714"/>
                  </a:lnTo>
                  <a:lnTo>
                    <a:pt x="1424" y="708"/>
                  </a:lnTo>
                  <a:lnTo>
                    <a:pt x="1412" y="714"/>
                  </a:lnTo>
                  <a:lnTo>
                    <a:pt x="1412" y="712"/>
                  </a:lnTo>
                  <a:lnTo>
                    <a:pt x="1410" y="712"/>
                  </a:lnTo>
                  <a:lnTo>
                    <a:pt x="1396" y="700"/>
                  </a:lnTo>
                  <a:lnTo>
                    <a:pt x="1396" y="698"/>
                  </a:lnTo>
                  <a:lnTo>
                    <a:pt x="1402" y="676"/>
                  </a:lnTo>
                  <a:lnTo>
                    <a:pt x="1402" y="660"/>
                  </a:lnTo>
                  <a:lnTo>
                    <a:pt x="1398" y="648"/>
                  </a:lnTo>
                  <a:lnTo>
                    <a:pt x="1388" y="644"/>
                  </a:lnTo>
                  <a:lnTo>
                    <a:pt x="1388" y="642"/>
                  </a:lnTo>
                  <a:lnTo>
                    <a:pt x="1386" y="642"/>
                  </a:lnTo>
                  <a:lnTo>
                    <a:pt x="1386" y="640"/>
                  </a:lnTo>
                  <a:lnTo>
                    <a:pt x="1376" y="622"/>
                  </a:lnTo>
                  <a:lnTo>
                    <a:pt x="1374" y="620"/>
                  </a:lnTo>
                  <a:lnTo>
                    <a:pt x="1362" y="636"/>
                  </a:lnTo>
                  <a:lnTo>
                    <a:pt x="1348" y="644"/>
                  </a:lnTo>
                  <a:lnTo>
                    <a:pt x="1344" y="646"/>
                  </a:lnTo>
                  <a:lnTo>
                    <a:pt x="1344" y="644"/>
                  </a:lnTo>
                  <a:lnTo>
                    <a:pt x="1342" y="644"/>
                  </a:lnTo>
                  <a:lnTo>
                    <a:pt x="1328" y="630"/>
                  </a:lnTo>
                  <a:lnTo>
                    <a:pt x="1328" y="628"/>
                  </a:lnTo>
                  <a:lnTo>
                    <a:pt x="1318" y="606"/>
                  </a:lnTo>
                  <a:lnTo>
                    <a:pt x="1314" y="590"/>
                  </a:lnTo>
                  <a:lnTo>
                    <a:pt x="1314" y="588"/>
                  </a:lnTo>
                  <a:lnTo>
                    <a:pt x="1314" y="564"/>
                  </a:lnTo>
                  <a:lnTo>
                    <a:pt x="1312" y="550"/>
                  </a:lnTo>
                  <a:lnTo>
                    <a:pt x="1300" y="546"/>
                  </a:lnTo>
                  <a:lnTo>
                    <a:pt x="1274" y="526"/>
                  </a:lnTo>
                  <a:lnTo>
                    <a:pt x="1276" y="524"/>
                  </a:lnTo>
                  <a:lnTo>
                    <a:pt x="1288" y="510"/>
                  </a:lnTo>
                  <a:lnTo>
                    <a:pt x="1288" y="508"/>
                  </a:lnTo>
                  <a:lnTo>
                    <a:pt x="1290" y="508"/>
                  </a:lnTo>
                  <a:lnTo>
                    <a:pt x="1302" y="508"/>
                  </a:lnTo>
                  <a:lnTo>
                    <a:pt x="1304" y="508"/>
                  </a:lnTo>
                  <a:lnTo>
                    <a:pt x="1310" y="510"/>
                  </a:lnTo>
                  <a:lnTo>
                    <a:pt x="1314" y="514"/>
                  </a:lnTo>
                  <a:lnTo>
                    <a:pt x="1326" y="522"/>
                  </a:lnTo>
                  <a:lnTo>
                    <a:pt x="1338" y="512"/>
                  </a:lnTo>
                  <a:lnTo>
                    <a:pt x="1346" y="500"/>
                  </a:lnTo>
                  <a:lnTo>
                    <a:pt x="1346" y="490"/>
                  </a:lnTo>
                  <a:lnTo>
                    <a:pt x="1344" y="464"/>
                  </a:lnTo>
                  <a:lnTo>
                    <a:pt x="1342" y="454"/>
                  </a:lnTo>
                  <a:lnTo>
                    <a:pt x="1324" y="452"/>
                  </a:lnTo>
                  <a:lnTo>
                    <a:pt x="1324" y="440"/>
                  </a:lnTo>
                  <a:lnTo>
                    <a:pt x="1308" y="420"/>
                  </a:lnTo>
                  <a:lnTo>
                    <a:pt x="1306" y="420"/>
                  </a:lnTo>
                  <a:lnTo>
                    <a:pt x="1298" y="406"/>
                  </a:lnTo>
                  <a:lnTo>
                    <a:pt x="1298" y="404"/>
                  </a:lnTo>
                  <a:lnTo>
                    <a:pt x="1298" y="402"/>
                  </a:lnTo>
                  <a:lnTo>
                    <a:pt x="1314" y="380"/>
                  </a:lnTo>
                  <a:lnTo>
                    <a:pt x="1314" y="378"/>
                  </a:lnTo>
                  <a:lnTo>
                    <a:pt x="1316" y="378"/>
                  </a:lnTo>
                  <a:lnTo>
                    <a:pt x="1316" y="376"/>
                  </a:lnTo>
                  <a:lnTo>
                    <a:pt x="1318" y="376"/>
                  </a:lnTo>
                  <a:lnTo>
                    <a:pt x="1324" y="376"/>
                  </a:lnTo>
                  <a:lnTo>
                    <a:pt x="1334" y="368"/>
                  </a:lnTo>
                  <a:lnTo>
                    <a:pt x="1344" y="336"/>
                  </a:lnTo>
                  <a:lnTo>
                    <a:pt x="1358" y="322"/>
                  </a:lnTo>
                  <a:lnTo>
                    <a:pt x="1358" y="320"/>
                  </a:lnTo>
                  <a:lnTo>
                    <a:pt x="1374" y="316"/>
                  </a:lnTo>
                  <a:lnTo>
                    <a:pt x="1374" y="318"/>
                  </a:lnTo>
                  <a:lnTo>
                    <a:pt x="1382" y="326"/>
                  </a:lnTo>
                  <a:lnTo>
                    <a:pt x="1386" y="328"/>
                  </a:lnTo>
                  <a:lnTo>
                    <a:pt x="1392" y="302"/>
                  </a:lnTo>
                  <a:lnTo>
                    <a:pt x="1386" y="284"/>
                  </a:lnTo>
                  <a:lnTo>
                    <a:pt x="1386" y="282"/>
                  </a:lnTo>
                  <a:lnTo>
                    <a:pt x="1388" y="262"/>
                  </a:lnTo>
                  <a:lnTo>
                    <a:pt x="1388" y="260"/>
                  </a:lnTo>
                  <a:lnTo>
                    <a:pt x="1398" y="250"/>
                  </a:lnTo>
                  <a:lnTo>
                    <a:pt x="1404" y="240"/>
                  </a:lnTo>
                  <a:lnTo>
                    <a:pt x="1404" y="230"/>
                  </a:lnTo>
                  <a:lnTo>
                    <a:pt x="1402" y="220"/>
                  </a:lnTo>
                  <a:lnTo>
                    <a:pt x="1398" y="204"/>
                  </a:lnTo>
                  <a:lnTo>
                    <a:pt x="1398" y="186"/>
                  </a:lnTo>
                  <a:lnTo>
                    <a:pt x="1398" y="184"/>
                  </a:lnTo>
                  <a:lnTo>
                    <a:pt x="1402" y="168"/>
                  </a:lnTo>
                  <a:lnTo>
                    <a:pt x="1398" y="158"/>
                  </a:lnTo>
                  <a:lnTo>
                    <a:pt x="1396" y="152"/>
                  </a:lnTo>
                  <a:lnTo>
                    <a:pt x="1398" y="12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甘肃"/>
            <p:cNvSpPr/>
            <p:nvPr/>
          </p:nvSpPr>
          <p:spPr>
            <a:xfrm>
              <a:off x="1920960" y="2054520"/>
              <a:ext cx="840240" cy="712080"/>
            </a:xfrm>
            <a:custGeom>
              <a:avLst/>
              <a:gdLst>
                <a:gd name="textAreaLeft" fmla="*/ 0 w 840240"/>
                <a:gd name="textAreaRight" fmla="*/ 840600 w 840240"/>
                <a:gd name="textAreaTop" fmla="*/ 0 h 712080"/>
                <a:gd name="textAreaBottom" fmla="*/ 712080 h 712080"/>
              </a:gdLst>
              <a:ahLst/>
              <a:rect l="textAreaLeft" t="textAreaTop" r="textAreaRight" b="textAreaBottom"/>
              <a:pathLst>
                <a:path w="912" h="772">
                  <a:moveTo>
                    <a:pt x="542" y="280"/>
                  </a:moveTo>
                  <a:lnTo>
                    <a:pt x="530" y="280"/>
                  </a:lnTo>
                  <a:lnTo>
                    <a:pt x="526" y="288"/>
                  </a:lnTo>
                  <a:lnTo>
                    <a:pt x="532" y="296"/>
                  </a:lnTo>
                  <a:lnTo>
                    <a:pt x="536" y="308"/>
                  </a:lnTo>
                  <a:lnTo>
                    <a:pt x="536" y="310"/>
                  </a:lnTo>
                  <a:lnTo>
                    <a:pt x="536" y="312"/>
                  </a:lnTo>
                  <a:lnTo>
                    <a:pt x="518" y="320"/>
                  </a:lnTo>
                  <a:lnTo>
                    <a:pt x="516" y="320"/>
                  </a:lnTo>
                  <a:lnTo>
                    <a:pt x="506" y="320"/>
                  </a:lnTo>
                  <a:lnTo>
                    <a:pt x="500" y="316"/>
                  </a:lnTo>
                  <a:lnTo>
                    <a:pt x="494" y="314"/>
                  </a:lnTo>
                  <a:lnTo>
                    <a:pt x="492" y="310"/>
                  </a:lnTo>
                  <a:lnTo>
                    <a:pt x="488" y="300"/>
                  </a:lnTo>
                  <a:lnTo>
                    <a:pt x="464" y="296"/>
                  </a:lnTo>
                  <a:lnTo>
                    <a:pt x="456" y="264"/>
                  </a:lnTo>
                  <a:lnTo>
                    <a:pt x="450" y="262"/>
                  </a:lnTo>
                  <a:lnTo>
                    <a:pt x="446" y="258"/>
                  </a:lnTo>
                  <a:lnTo>
                    <a:pt x="444" y="256"/>
                  </a:lnTo>
                  <a:lnTo>
                    <a:pt x="440" y="250"/>
                  </a:lnTo>
                  <a:lnTo>
                    <a:pt x="432" y="248"/>
                  </a:lnTo>
                  <a:lnTo>
                    <a:pt x="424" y="242"/>
                  </a:lnTo>
                  <a:lnTo>
                    <a:pt x="416" y="232"/>
                  </a:lnTo>
                  <a:lnTo>
                    <a:pt x="406" y="228"/>
                  </a:lnTo>
                  <a:lnTo>
                    <a:pt x="392" y="214"/>
                  </a:lnTo>
                  <a:lnTo>
                    <a:pt x="390" y="204"/>
                  </a:lnTo>
                  <a:lnTo>
                    <a:pt x="390" y="202"/>
                  </a:lnTo>
                  <a:lnTo>
                    <a:pt x="416" y="168"/>
                  </a:lnTo>
                  <a:lnTo>
                    <a:pt x="416" y="164"/>
                  </a:lnTo>
                  <a:lnTo>
                    <a:pt x="416" y="162"/>
                  </a:lnTo>
                  <a:lnTo>
                    <a:pt x="412" y="152"/>
                  </a:lnTo>
                  <a:lnTo>
                    <a:pt x="398" y="156"/>
                  </a:lnTo>
                  <a:lnTo>
                    <a:pt x="396" y="156"/>
                  </a:lnTo>
                  <a:lnTo>
                    <a:pt x="396" y="158"/>
                  </a:lnTo>
                  <a:lnTo>
                    <a:pt x="360" y="160"/>
                  </a:lnTo>
                  <a:lnTo>
                    <a:pt x="348" y="164"/>
                  </a:lnTo>
                  <a:lnTo>
                    <a:pt x="342" y="168"/>
                  </a:lnTo>
                  <a:lnTo>
                    <a:pt x="340" y="172"/>
                  </a:lnTo>
                  <a:lnTo>
                    <a:pt x="334" y="178"/>
                  </a:lnTo>
                  <a:lnTo>
                    <a:pt x="330" y="178"/>
                  </a:lnTo>
                  <a:lnTo>
                    <a:pt x="324" y="178"/>
                  </a:lnTo>
                  <a:lnTo>
                    <a:pt x="324" y="176"/>
                  </a:lnTo>
                  <a:lnTo>
                    <a:pt x="312" y="168"/>
                  </a:lnTo>
                  <a:lnTo>
                    <a:pt x="312" y="148"/>
                  </a:lnTo>
                  <a:lnTo>
                    <a:pt x="304" y="142"/>
                  </a:lnTo>
                  <a:lnTo>
                    <a:pt x="300" y="134"/>
                  </a:lnTo>
                  <a:lnTo>
                    <a:pt x="296" y="116"/>
                  </a:lnTo>
                  <a:lnTo>
                    <a:pt x="288" y="108"/>
                  </a:lnTo>
                  <a:lnTo>
                    <a:pt x="280" y="100"/>
                  </a:lnTo>
                  <a:lnTo>
                    <a:pt x="276" y="98"/>
                  </a:lnTo>
                  <a:lnTo>
                    <a:pt x="290" y="80"/>
                  </a:lnTo>
                  <a:lnTo>
                    <a:pt x="292" y="68"/>
                  </a:lnTo>
                  <a:lnTo>
                    <a:pt x="276" y="48"/>
                  </a:lnTo>
                  <a:lnTo>
                    <a:pt x="268" y="32"/>
                  </a:lnTo>
                  <a:lnTo>
                    <a:pt x="268" y="24"/>
                  </a:lnTo>
                  <a:lnTo>
                    <a:pt x="256" y="16"/>
                  </a:lnTo>
                  <a:lnTo>
                    <a:pt x="256" y="14"/>
                  </a:lnTo>
                  <a:lnTo>
                    <a:pt x="246" y="2"/>
                  </a:lnTo>
                  <a:lnTo>
                    <a:pt x="232" y="0"/>
                  </a:lnTo>
                  <a:lnTo>
                    <a:pt x="216" y="4"/>
                  </a:lnTo>
                  <a:lnTo>
                    <a:pt x="212" y="8"/>
                  </a:lnTo>
                  <a:lnTo>
                    <a:pt x="210" y="30"/>
                  </a:lnTo>
                  <a:lnTo>
                    <a:pt x="210" y="56"/>
                  </a:lnTo>
                  <a:lnTo>
                    <a:pt x="208" y="56"/>
                  </a:lnTo>
                  <a:lnTo>
                    <a:pt x="192" y="62"/>
                  </a:lnTo>
                  <a:lnTo>
                    <a:pt x="178" y="64"/>
                  </a:lnTo>
                  <a:lnTo>
                    <a:pt x="168" y="70"/>
                  </a:lnTo>
                  <a:lnTo>
                    <a:pt x="154" y="74"/>
                  </a:lnTo>
                  <a:lnTo>
                    <a:pt x="152" y="76"/>
                  </a:lnTo>
                  <a:lnTo>
                    <a:pt x="124" y="68"/>
                  </a:lnTo>
                  <a:lnTo>
                    <a:pt x="114" y="80"/>
                  </a:lnTo>
                  <a:lnTo>
                    <a:pt x="108" y="86"/>
                  </a:lnTo>
                  <a:lnTo>
                    <a:pt x="98" y="88"/>
                  </a:lnTo>
                  <a:lnTo>
                    <a:pt x="82" y="102"/>
                  </a:lnTo>
                  <a:lnTo>
                    <a:pt x="72" y="116"/>
                  </a:lnTo>
                  <a:lnTo>
                    <a:pt x="72" y="118"/>
                  </a:lnTo>
                  <a:lnTo>
                    <a:pt x="66" y="128"/>
                  </a:lnTo>
                  <a:lnTo>
                    <a:pt x="60" y="132"/>
                  </a:lnTo>
                  <a:lnTo>
                    <a:pt x="50" y="144"/>
                  </a:lnTo>
                  <a:lnTo>
                    <a:pt x="50" y="146"/>
                  </a:lnTo>
                  <a:lnTo>
                    <a:pt x="44" y="150"/>
                  </a:lnTo>
                  <a:lnTo>
                    <a:pt x="32" y="152"/>
                  </a:lnTo>
                  <a:lnTo>
                    <a:pt x="12" y="152"/>
                  </a:lnTo>
                  <a:lnTo>
                    <a:pt x="8" y="158"/>
                  </a:lnTo>
                  <a:lnTo>
                    <a:pt x="0" y="172"/>
                  </a:lnTo>
                  <a:lnTo>
                    <a:pt x="4" y="184"/>
                  </a:lnTo>
                  <a:lnTo>
                    <a:pt x="2" y="216"/>
                  </a:lnTo>
                  <a:lnTo>
                    <a:pt x="8" y="224"/>
                  </a:lnTo>
                  <a:lnTo>
                    <a:pt x="8" y="226"/>
                  </a:lnTo>
                  <a:lnTo>
                    <a:pt x="10" y="232"/>
                  </a:lnTo>
                  <a:lnTo>
                    <a:pt x="22" y="232"/>
                  </a:lnTo>
                  <a:lnTo>
                    <a:pt x="40" y="236"/>
                  </a:lnTo>
                  <a:lnTo>
                    <a:pt x="66" y="238"/>
                  </a:lnTo>
                  <a:lnTo>
                    <a:pt x="76" y="236"/>
                  </a:lnTo>
                  <a:lnTo>
                    <a:pt x="78" y="236"/>
                  </a:lnTo>
                  <a:lnTo>
                    <a:pt x="80" y="236"/>
                  </a:lnTo>
                  <a:lnTo>
                    <a:pt x="100" y="244"/>
                  </a:lnTo>
                  <a:lnTo>
                    <a:pt x="102" y="244"/>
                  </a:lnTo>
                  <a:lnTo>
                    <a:pt x="112" y="254"/>
                  </a:lnTo>
                  <a:lnTo>
                    <a:pt x="136" y="262"/>
                  </a:lnTo>
                  <a:lnTo>
                    <a:pt x="138" y="262"/>
                  </a:lnTo>
                  <a:lnTo>
                    <a:pt x="154" y="272"/>
                  </a:lnTo>
                  <a:lnTo>
                    <a:pt x="192" y="308"/>
                  </a:lnTo>
                  <a:lnTo>
                    <a:pt x="210" y="316"/>
                  </a:lnTo>
                  <a:lnTo>
                    <a:pt x="218" y="312"/>
                  </a:lnTo>
                  <a:lnTo>
                    <a:pt x="224" y="300"/>
                  </a:lnTo>
                  <a:lnTo>
                    <a:pt x="220" y="278"/>
                  </a:lnTo>
                  <a:lnTo>
                    <a:pt x="222" y="274"/>
                  </a:lnTo>
                  <a:lnTo>
                    <a:pt x="224" y="270"/>
                  </a:lnTo>
                  <a:lnTo>
                    <a:pt x="236" y="264"/>
                  </a:lnTo>
                  <a:lnTo>
                    <a:pt x="236" y="262"/>
                  </a:lnTo>
                  <a:lnTo>
                    <a:pt x="286" y="292"/>
                  </a:lnTo>
                  <a:lnTo>
                    <a:pt x="292" y="290"/>
                  </a:lnTo>
                  <a:lnTo>
                    <a:pt x="302" y="284"/>
                  </a:lnTo>
                  <a:lnTo>
                    <a:pt x="304" y="284"/>
                  </a:lnTo>
                  <a:lnTo>
                    <a:pt x="310" y="284"/>
                  </a:lnTo>
                  <a:lnTo>
                    <a:pt x="320" y="276"/>
                  </a:lnTo>
                  <a:lnTo>
                    <a:pt x="322" y="276"/>
                  </a:lnTo>
                  <a:lnTo>
                    <a:pt x="324" y="276"/>
                  </a:lnTo>
                  <a:lnTo>
                    <a:pt x="352" y="296"/>
                  </a:lnTo>
                  <a:lnTo>
                    <a:pt x="354" y="298"/>
                  </a:lnTo>
                  <a:lnTo>
                    <a:pt x="372" y="312"/>
                  </a:lnTo>
                  <a:lnTo>
                    <a:pt x="380" y="320"/>
                  </a:lnTo>
                  <a:lnTo>
                    <a:pt x="388" y="330"/>
                  </a:lnTo>
                  <a:lnTo>
                    <a:pt x="398" y="340"/>
                  </a:lnTo>
                  <a:lnTo>
                    <a:pt x="404" y="338"/>
                  </a:lnTo>
                  <a:lnTo>
                    <a:pt x="412" y="324"/>
                  </a:lnTo>
                  <a:lnTo>
                    <a:pt x="430" y="336"/>
                  </a:lnTo>
                  <a:lnTo>
                    <a:pt x="432" y="336"/>
                  </a:lnTo>
                  <a:lnTo>
                    <a:pt x="444" y="352"/>
                  </a:lnTo>
                  <a:lnTo>
                    <a:pt x="480" y="380"/>
                  </a:lnTo>
                  <a:lnTo>
                    <a:pt x="492" y="392"/>
                  </a:lnTo>
                  <a:lnTo>
                    <a:pt x="522" y="382"/>
                  </a:lnTo>
                  <a:lnTo>
                    <a:pt x="524" y="406"/>
                  </a:lnTo>
                  <a:lnTo>
                    <a:pt x="538" y="420"/>
                  </a:lnTo>
                  <a:lnTo>
                    <a:pt x="548" y="436"/>
                  </a:lnTo>
                  <a:lnTo>
                    <a:pt x="548" y="438"/>
                  </a:lnTo>
                  <a:lnTo>
                    <a:pt x="548" y="440"/>
                  </a:lnTo>
                  <a:lnTo>
                    <a:pt x="560" y="494"/>
                  </a:lnTo>
                  <a:lnTo>
                    <a:pt x="572" y="516"/>
                  </a:lnTo>
                  <a:lnTo>
                    <a:pt x="556" y="558"/>
                  </a:lnTo>
                  <a:lnTo>
                    <a:pt x="556" y="560"/>
                  </a:lnTo>
                  <a:lnTo>
                    <a:pt x="544" y="564"/>
                  </a:lnTo>
                  <a:lnTo>
                    <a:pt x="544" y="576"/>
                  </a:lnTo>
                  <a:lnTo>
                    <a:pt x="542" y="576"/>
                  </a:lnTo>
                  <a:lnTo>
                    <a:pt x="528" y="598"/>
                  </a:lnTo>
                  <a:lnTo>
                    <a:pt x="508" y="600"/>
                  </a:lnTo>
                  <a:lnTo>
                    <a:pt x="488" y="616"/>
                  </a:lnTo>
                  <a:lnTo>
                    <a:pt x="494" y="620"/>
                  </a:lnTo>
                  <a:lnTo>
                    <a:pt x="500" y="622"/>
                  </a:lnTo>
                  <a:lnTo>
                    <a:pt x="504" y="626"/>
                  </a:lnTo>
                  <a:lnTo>
                    <a:pt x="508" y="630"/>
                  </a:lnTo>
                  <a:lnTo>
                    <a:pt x="508" y="634"/>
                  </a:lnTo>
                  <a:lnTo>
                    <a:pt x="504" y="642"/>
                  </a:lnTo>
                  <a:lnTo>
                    <a:pt x="504" y="644"/>
                  </a:lnTo>
                  <a:lnTo>
                    <a:pt x="492" y="656"/>
                  </a:lnTo>
                  <a:lnTo>
                    <a:pt x="490" y="656"/>
                  </a:lnTo>
                  <a:lnTo>
                    <a:pt x="490" y="658"/>
                  </a:lnTo>
                  <a:lnTo>
                    <a:pt x="488" y="658"/>
                  </a:lnTo>
                  <a:lnTo>
                    <a:pt x="450" y="652"/>
                  </a:lnTo>
                  <a:lnTo>
                    <a:pt x="448" y="666"/>
                  </a:lnTo>
                  <a:lnTo>
                    <a:pt x="452" y="696"/>
                  </a:lnTo>
                  <a:lnTo>
                    <a:pt x="484" y="708"/>
                  </a:lnTo>
                  <a:lnTo>
                    <a:pt x="484" y="710"/>
                  </a:lnTo>
                  <a:lnTo>
                    <a:pt x="496" y="706"/>
                  </a:lnTo>
                  <a:lnTo>
                    <a:pt x="498" y="706"/>
                  </a:lnTo>
                  <a:lnTo>
                    <a:pt x="500" y="704"/>
                  </a:lnTo>
                  <a:lnTo>
                    <a:pt x="500" y="706"/>
                  </a:lnTo>
                  <a:lnTo>
                    <a:pt x="510" y="712"/>
                  </a:lnTo>
                  <a:lnTo>
                    <a:pt x="524" y="712"/>
                  </a:lnTo>
                  <a:lnTo>
                    <a:pt x="528" y="710"/>
                  </a:lnTo>
                  <a:lnTo>
                    <a:pt x="524" y="696"/>
                  </a:lnTo>
                  <a:lnTo>
                    <a:pt x="520" y="680"/>
                  </a:lnTo>
                  <a:lnTo>
                    <a:pt x="520" y="678"/>
                  </a:lnTo>
                  <a:lnTo>
                    <a:pt x="520" y="676"/>
                  </a:lnTo>
                  <a:lnTo>
                    <a:pt x="526" y="670"/>
                  </a:lnTo>
                  <a:lnTo>
                    <a:pt x="528" y="668"/>
                  </a:lnTo>
                  <a:lnTo>
                    <a:pt x="536" y="656"/>
                  </a:lnTo>
                  <a:lnTo>
                    <a:pt x="538" y="654"/>
                  </a:lnTo>
                  <a:lnTo>
                    <a:pt x="552" y="644"/>
                  </a:lnTo>
                  <a:lnTo>
                    <a:pt x="552" y="642"/>
                  </a:lnTo>
                  <a:lnTo>
                    <a:pt x="554" y="642"/>
                  </a:lnTo>
                  <a:lnTo>
                    <a:pt x="572" y="640"/>
                  </a:lnTo>
                  <a:lnTo>
                    <a:pt x="572" y="644"/>
                  </a:lnTo>
                  <a:lnTo>
                    <a:pt x="572" y="656"/>
                  </a:lnTo>
                  <a:lnTo>
                    <a:pt x="576" y="664"/>
                  </a:lnTo>
                  <a:lnTo>
                    <a:pt x="580" y="674"/>
                  </a:lnTo>
                  <a:lnTo>
                    <a:pt x="596" y="684"/>
                  </a:lnTo>
                  <a:lnTo>
                    <a:pt x="640" y="688"/>
                  </a:lnTo>
                  <a:lnTo>
                    <a:pt x="642" y="688"/>
                  </a:lnTo>
                  <a:lnTo>
                    <a:pt x="644" y="688"/>
                  </a:lnTo>
                  <a:lnTo>
                    <a:pt x="644" y="690"/>
                  </a:lnTo>
                  <a:lnTo>
                    <a:pt x="644" y="692"/>
                  </a:lnTo>
                  <a:lnTo>
                    <a:pt x="644" y="706"/>
                  </a:lnTo>
                  <a:lnTo>
                    <a:pt x="656" y="720"/>
                  </a:lnTo>
                  <a:lnTo>
                    <a:pt x="666" y="724"/>
                  </a:lnTo>
                  <a:lnTo>
                    <a:pt x="668" y="724"/>
                  </a:lnTo>
                  <a:lnTo>
                    <a:pt x="668" y="726"/>
                  </a:lnTo>
                  <a:lnTo>
                    <a:pt x="668" y="732"/>
                  </a:lnTo>
                  <a:lnTo>
                    <a:pt x="668" y="740"/>
                  </a:lnTo>
                  <a:lnTo>
                    <a:pt x="664" y="756"/>
                  </a:lnTo>
                  <a:lnTo>
                    <a:pt x="670" y="760"/>
                  </a:lnTo>
                  <a:lnTo>
                    <a:pt x="678" y="760"/>
                  </a:lnTo>
                  <a:lnTo>
                    <a:pt x="684" y="762"/>
                  </a:lnTo>
                  <a:lnTo>
                    <a:pt x="688" y="764"/>
                  </a:lnTo>
                  <a:lnTo>
                    <a:pt x="706" y="772"/>
                  </a:lnTo>
                  <a:lnTo>
                    <a:pt x="716" y="764"/>
                  </a:lnTo>
                  <a:lnTo>
                    <a:pt x="728" y="750"/>
                  </a:lnTo>
                  <a:lnTo>
                    <a:pt x="730" y="744"/>
                  </a:lnTo>
                  <a:lnTo>
                    <a:pt x="732" y="742"/>
                  </a:lnTo>
                  <a:lnTo>
                    <a:pt x="734" y="740"/>
                  </a:lnTo>
                  <a:lnTo>
                    <a:pt x="730" y="722"/>
                  </a:lnTo>
                  <a:lnTo>
                    <a:pt x="728" y="714"/>
                  </a:lnTo>
                  <a:lnTo>
                    <a:pt x="728" y="712"/>
                  </a:lnTo>
                  <a:lnTo>
                    <a:pt x="728" y="710"/>
                  </a:lnTo>
                  <a:lnTo>
                    <a:pt x="736" y="700"/>
                  </a:lnTo>
                  <a:lnTo>
                    <a:pt x="748" y="690"/>
                  </a:lnTo>
                  <a:lnTo>
                    <a:pt x="750" y="690"/>
                  </a:lnTo>
                  <a:lnTo>
                    <a:pt x="776" y="690"/>
                  </a:lnTo>
                  <a:lnTo>
                    <a:pt x="780" y="688"/>
                  </a:lnTo>
                  <a:lnTo>
                    <a:pt x="780" y="676"/>
                  </a:lnTo>
                  <a:lnTo>
                    <a:pt x="776" y="664"/>
                  </a:lnTo>
                  <a:lnTo>
                    <a:pt x="766" y="648"/>
                  </a:lnTo>
                  <a:lnTo>
                    <a:pt x="766" y="628"/>
                  </a:lnTo>
                  <a:lnTo>
                    <a:pt x="766" y="626"/>
                  </a:lnTo>
                  <a:lnTo>
                    <a:pt x="770" y="614"/>
                  </a:lnTo>
                  <a:lnTo>
                    <a:pt x="772" y="614"/>
                  </a:lnTo>
                  <a:lnTo>
                    <a:pt x="792" y="582"/>
                  </a:lnTo>
                  <a:lnTo>
                    <a:pt x="794" y="582"/>
                  </a:lnTo>
                  <a:lnTo>
                    <a:pt x="796" y="580"/>
                  </a:lnTo>
                  <a:lnTo>
                    <a:pt x="800" y="580"/>
                  </a:lnTo>
                  <a:lnTo>
                    <a:pt x="808" y="582"/>
                  </a:lnTo>
                  <a:lnTo>
                    <a:pt x="828" y="592"/>
                  </a:lnTo>
                  <a:lnTo>
                    <a:pt x="840" y="596"/>
                  </a:lnTo>
                  <a:lnTo>
                    <a:pt x="840" y="590"/>
                  </a:lnTo>
                  <a:lnTo>
                    <a:pt x="838" y="588"/>
                  </a:lnTo>
                  <a:lnTo>
                    <a:pt x="838" y="586"/>
                  </a:lnTo>
                  <a:lnTo>
                    <a:pt x="840" y="580"/>
                  </a:lnTo>
                  <a:lnTo>
                    <a:pt x="846" y="572"/>
                  </a:lnTo>
                  <a:lnTo>
                    <a:pt x="860" y="562"/>
                  </a:lnTo>
                  <a:lnTo>
                    <a:pt x="860" y="560"/>
                  </a:lnTo>
                  <a:lnTo>
                    <a:pt x="876" y="556"/>
                  </a:lnTo>
                  <a:lnTo>
                    <a:pt x="890" y="556"/>
                  </a:lnTo>
                  <a:lnTo>
                    <a:pt x="892" y="556"/>
                  </a:lnTo>
                  <a:lnTo>
                    <a:pt x="900" y="556"/>
                  </a:lnTo>
                  <a:lnTo>
                    <a:pt x="904" y="536"/>
                  </a:lnTo>
                  <a:lnTo>
                    <a:pt x="904" y="524"/>
                  </a:lnTo>
                  <a:lnTo>
                    <a:pt x="906" y="512"/>
                  </a:lnTo>
                  <a:lnTo>
                    <a:pt x="906" y="510"/>
                  </a:lnTo>
                  <a:lnTo>
                    <a:pt x="908" y="508"/>
                  </a:lnTo>
                  <a:lnTo>
                    <a:pt x="912" y="496"/>
                  </a:lnTo>
                  <a:lnTo>
                    <a:pt x="906" y="488"/>
                  </a:lnTo>
                  <a:lnTo>
                    <a:pt x="896" y="480"/>
                  </a:lnTo>
                  <a:lnTo>
                    <a:pt x="876" y="476"/>
                  </a:lnTo>
                  <a:lnTo>
                    <a:pt x="868" y="472"/>
                  </a:lnTo>
                  <a:lnTo>
                    <a:pt x="852" y="460"/>
                  </a:lnTo>
                  <a:lnTo>
                    <a:pt x="840" y="456"/>
                  </a:lnTo>
                  <a:lnTo>
                    <a:pt x="840" y="454"/>
                  </a:lnTo>
                  <a:lnTo>
                    <a:pt x="824" y="436"/>
                  </a:lnTo>
                  <a:lnTo>
                    <a:pt x="812" y="436"/>
                  </a:lnTo>
                  <a:lnTo>
                    <a:pt x="810" y="436"/>
                  </a:lnTo>
                  <a:lnTo>
                    <a:pt x="798" y="430"/>
                  </a:lnTo>
                  <a:lnTo>
                    <a:pt x="790" y="440"/>
                  </a:lnTo>
                  <a:lnTo>
                    <a:pt x="788" y="476"/>
                  </a:lnTo>
                  <a:lnTo>
                    <a:pt x="792" y="492"/>
                  </a:lnTo>
                  <a:lnTo>
                    <a:pt x="796" y="492"/>
                  </a:lnTo>
                  <a:lnTo>
                    <a:pt x="798" y="492"/>
                  </a:lnTo>
                  <a:lnTo>
                    <a:pt x="808" y="496"/>
                  </a:lnTo>
                  <a:lnTo>
                    <a:pt x="814" y="510"/>
                  </a:lnTo>
                  <a:lnTo>
                    <a:pt x="816" y="510"/>
                  </a:lnTo>
                  <a:lnTo>
                    <a:pt x="816" y="512"/>
                  </a:lnTo>
                  <a:lnTo>
                    <a:pt x="812" y="536"/>
                  </a:lnTo>
                  <a:lnTo>
                    <a:pt x="812" y="538"/>
                  </a:lnTo>
                  <a:lnTo>
                    <a:pt x="812" y="540"/>
                  </a:lnTo>
                  <a:lnTo>
                    <a:pt x="800" y="546"/>
                  </a:lnTo>
                  <a:lnTo>
                    <a:pt x="798" y="548"/>
                  </a:lnTo>
                  <a:lnTo>
                    <a:pt x="798" y="546"/>
                  </a:lnTo>
                  <a:lnTo>
                    <a:pt x="796" y="546"/>
                  </a:lnTo>
                  <a:lnTo>
                    <a:pt x="792" y="544"/>
                  </a:lnTo>
                  <a:lnTo>
                    <a:pt x="778" y="550"/>
                  </a:lnTo>
                  <a:lnTo>
                    <a:pt x="778" y="552"/>
                  </a:lnTo>
                  <a:lnTo>
                    <a:pt x="780" y="552"/>
                  </a:lnTo>
                  <a:lnTo>
                    <a:pt x="782" y="574"/>
                  </a:lnTo>
                  <a:lnTo>
                    <a:pt x="780" y="578"/>
                  </a:lnTo>
                  <a:lnTo>
                    <a:pt x="776" y="580"/>
                  </a:lnTo>
                  <a:lnTo>
                    <a:pt x="768" y="580"/>
                  </a:lnTo>
                  <a:lnTo>
                    <a:pt x="762" y="578"/>
                  </a:lnTo>
                  <a:lnTo>
                    <a:pt x="758" y="576"/>
                  </a:lnTo>
                  <a:lnTo>
                    <a:pt x="748" y="568"/>
                  </a:lnTo>
                  <a:lnTo>
                    <a:pt x="746" y="568"/>
                  </a:lnTo>
                  <a:lnTo>
                    <a:pt x="746" y="566"/>
                  </a:lnTo>
                  <a:lnTo>
                    <a:pt x="740" y="552"/>
                  </a:lnTo>
                  <a:lnTo>
                    <a:pt x="736" y="550"/>
                  </a:lnTo>
                  <a:lnTo>
                    <a:pt x="728" y="546"/>
                  </a:lnTo>
                  <a:lnTo>
                    <a:pt x="726" y="546"/>
                  </a:lnTo>
                  <a:lnTo>
                    <a:pt x="714" y="538"/>
                  </a:lnTo>
                  <a:lnTo>
                    <a:pt x="712" y="538"/>
                  </a:lnTo>
                  <a:lnTo>
                    <a:pt x="712" y="536"/>
                  </a:lnTo>
                  <a:lnTo>
                    <a:pt x="710" y="524"/>
                  </a:lnTo>
                  <a:lnTo>
                    <a:pt x="712" y="512"/>
                  </a:lnTo>
                  <a:lnTo>
                    <a:pt x="716" y="506"/>
                  </a:lnTo>
                  <a:lnTo>
                    <a:pt x="716" y="502"/>
                  </a:lnTo>
                  <a:lnTo>
                    <a:pt x="712" y="488"/>
                  </a:lnTo>
                  <a:lnTo>
                    <a:pt x="700" y="478"/>
                  </a:lnTo>
                  <a:lnTo>
                    <a:pt x="700" y="476"/>
                  </a:lnTo>
                  <a:lnTo>
                    <a:pt x="698" y="444"/>
                  </a:lnTo>
                  <a:lnTo>
                    <a:pt x="690" y="436"/>
                  </a:lnTo>
                  <a:lnTo>
                    <a:pt x="688" y="436"/>
                  </a:lnTo>
                  <a:lnTo>
                    <a:pt x="688" y="434"/>
                  </a:lnTo>
                  <a:lnTo>
                    <a:pt x="682" y="420"/>
                  </a:lnTo>
                  <a:lnTo>
                    <a:pt x="652" y="416"/>
                  </a:lnTo>
                  <a:lnTo>
                    <a:pt x="644" y="410"/>
                  </a:lnTo>
                  <a:lnTo>
                    <a:pt x="638" y="402"/>
                  </a:lnTo>
                  <a:lnTo>
                    <a:pt x="624" y="402"/>
                  </a:lnTo>
                  <a:lnTo>
                    <a:pt x="618" y="398"/>
                  </a:lnTo>
                  <a:lnTo>
                    <a:pt x="610" y="392"/>
                  </a:lnTo>
                  <a:lnTo>
                    <a:pt x="608" y="390"/>
                  </a:lnTo>
                  <a:lnTo>
                    <a:pt x="604" y="384"/>
                  </a:lnTo>
                  <a:lnTo>
                    <a:pt x="598" y="376"/>
                  </a:lnTo>
                  <a:lnTo>
                    <a:pt x="596" y="362"/>
                  </a:lnTo>
                  <a:lnTo>
                    <a:pt x="596" y="360"/>
                  </a:lnTo>
                  <a:lnTo>
                    <a:pt x="600" y="336"/>
                  </a:lnTo>
                  <a:lnTo>
                    <a:pt x="604" y="324"/>
                  </a:lnTo>
                  <a:lnTo>
                    <a:pt x="606" y="324"/>
                  </a:lnTo>
                  <a:lnTo>
                    <a:pt x="636" y="310"/>
                  </a:lnTo>
                  <a:lnTo>
                    <a:pt x="648" y="296"/>
                  </a:lnTo>
                  <a:lnTo>
                    <a:pt x="650" y="284"/>
                  </a:lnTo>
                  <a:lnTo>
                    <a:pt x="648" y="276"/>
                  </a:lnTo>
                  <a:lnTo>
                    <a:pt x="644" y="262"/>
                  </a:lnTo>
                  <a:lnTo>
                    <a:pt x="640" y="254"/>
                  </a:lnTo>
                  <a:lnTo>
                    <a:pt x="634" y="256"/>
                  </a:lnTo>
                  <a:lnTo>
                    <a:pt x="624" y="254"/>
                  </a:lnTo>
                  <a:lnTo>
                    <a:pt x="616" y="260"/>
                  </a:lnTo>
                  <a:lnTo>
                    <a:pt x="606" y="272"/>
                  </a:lnTo>
                  <a:lnTo>
                    <a:pt x="592" y="286"/>
                  </a:lnTo>
                  <a:lnTo>
                    <a:pt x="590" y="286"/>
                  </a:lnTo>
                  <a:lnTo>
                    <a:pt x="578" y="290"/>
                  </a:lnTo>
                  <a:lnTo>
                    <a:pt x="568" y="288"/>
                  </a:lnTo>
                  <a:lnTo>
                    <a:pt x="542" y="28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宁夏"/>
            <p:cNvSpPr/>
            <p:nvPr/>
          </p:nvSpPr>
          <p:spPr>
            <a:xfrm>
              <a:off x="2517840" y="2301840"/>
              <a:ext cx="169200" cy="28008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280080"/>
                <a:gd name="textAreaBottom" fmla="*/ 280440 h 280080"/>
              </a:gdLst>
              <a:ahLst/>
              <a:rect l="textAreaLeft" t="textAreaTop" r="textAreaRight" b="textAreaBottom"/>
              <a:pathLst>
                <a:path w="184" h="304">
                  <a:moveTo>
                    <a:pt x="108" y="18"/>
                  </a:moveTo>
                  <a:lnTo>
                    <a:pt x="92" y="58"/>
                  </a:lnTo>
                  <a:lnTo>
                    <a:pt x="92" y="84"/>
                  </a:lnTo>
                  <a:lnTo>
                    <a:pt x="92" y="86"/>
                  </a:lnTo>
                  <a:lnTo>
                    <a:pt x="84" y="100"/>
                  </a:lnTo>
                  <a:lnTo>
                    <a:pt x="84" y="108"/>
                  </a:lnTo>
                  <a:lnTo>
                    <a:pt x="84" y="112"/>
                  </a:lnTo>
                  <a:lnTo>
                    <a:pt x="82" y="116"/>
                  </a:lnTo>
                  <a:lnTo>
                    <a:pt x="80" y="120"/>
                  </a:lnTo>
                  <a:lnTo>
                    <a:pt x="76" y="122"/>
                  </a:lnTo>
                  <a:lnTo>
                    <a:pt x="76" y="124"/>
                  </a:lnTo>
                  <a:lnTo>
                    <a:pt x="74" y="124"/>
                  </a:lnTo>
                  <a:lnTo>
                    <a:pt x="74" y="122"/>
                  </a:lnTo>
                  <a:lnTo>
                    <a:pt x="54" y="120"/>
                  </a:lnTo>
                  <a:lnTo>
                    <a:pt x="44" y="130"/>
                  </a:lnTo>
                  <a:lnTo>
                    <a:pt x="12" y="134"/>
                  </a:lnTo>
                  <a:lnTo>
                    <a:pt x="0" y="134"/>
                  </a:lnTo>
                  <a:lnTo>
                    <a:pt x="8" y="140"/>
                  </a:lnTo>
                  <a:lnTo>
                    <a:pt x="36" y="144"/>
                  </a:lnTo>
                  <a:lnTo>
                    <a:pt x="38" y="144"/>
                  </a:lnTo>
                  <a:lnTo>
                    <a:pt x="40" y="144"/>
                  </a:lnTo>
                  <a:lnTo>
                    <a:pt x="48" y="162"/>
                  </a:lnTo>
                  <a:lnTo>
                    <a:pt x="56" y="168"/>
                  </a:lnTo>
                  <a:lnTo>
                    <a:pt x="60" y="174"/>
                  </a:lnTo>
                  <a:lnTo>
                    <a:pt x="60" y="184"/>
                  </a:lnTo>
                  <a:lnTo>
                    <a:pt x="60" y="206"/>
                  </a:lnTo>
                  <a:lnTo>
                    <a:pt x="70" y="216"/>
                  </a:lnTo>
                  <a:lnTo>
                    <a:pt x="72" y="216"/>
                  </a:lnTo>
                  <a:lnTo>
                    <a:pt x="76" y="232"/>
                  </a:lnTo>
                  <a:lnTo>
                    <a:pt x="76" y="240"/>
                  </a:lnTo>
                  <a:lnTo>
                    <a:pt x="72" y="248"/>
                  </a:lnTo>
                  <a:lnTo>
                    <a:pt x="70" y="256"/>
                  </a:lnTo>
                  <a:lnTo>
                    <a:pt x="72" y="264"/>
                  </a:lnTo>
                  <a:lnTo>
                    <a:pt x="82" y="270"/>
                  </a:lnTo>
                  <a:lnTo>
                    <a:pt x="94" y="276"/>
                  </a:lnTo>
                  <a:lnTo>
                    <a:pt x="100" y="280"/>
                  </a:lnTo>
                  <a:lnTo>
                    <a:pt x="106" y="292"/>
                  </a:lnTo>
                  <a:lnTo>
                    <a:pt x="114" y="298"/>
                  </a:lnTo>
                  <a:lnTo>
                    <a:pt x="116" y="302"/>
                  </a:lnTo>
                  <a:lnTo>
                    <a:pt x="124" y="304"/>
                  </a:lnTo>
                  <a:lnTo>
                    <a:pt x="122" y="288"/>
                  </a:lnTo>
                  <a:lnTo>
                    <a:pt x="122" y="282"/>
                  </a:lnTo>
                  <a:lnTo>
                    <a:pt x="122" y="278"/>
                  </a:lnTo>
                  <a:lnTo>
                    <a:pt x="126" y="274"/>
                  </a:lnTo>
                  <a:lnTo>
                    <a:pt x="128" y="272"/>
                  </a:lnTo>
                  <a:lnTo>
                    <a:pt x="140" y="268"/>
                  </a:lnTo>
                  <a:lnTo>
                    <a:pt x="142" y="268"/>
                  </a:lnTo>
                  <a:lnTo>
                    <a:pt x="144" y="268"/>
                  </a:lnTo>
                  <a:lnTo>
                    <a:pt x="148" y="270"/>
                  </a:lnTo>
                  <a:lnTo>
                    <a:pt x="156" y="266"/>
                  </a:lnTo>
                  <a:lnTo>
                    <a:pt x="156" y="264"/>
                  </a:lnTo>
                  <a:lnTo>
                    <a:pt x="158" y="244"/>
                  </a:lnTo>
                  <a:lnTo>
                    <a:pt x="154" y="236"/>
                  </a:lnTo>
                  <a:lnTo>
                    <a:pt x="148" y="232"/>
                  </a:lnTo>
                  <a:lnTo>
                    <a:pt x="140" y="232"/>
                  </a:lnTo>
                  <a:lnTo>
                    <a:pt x="138" y="232"/>
                  </a:lnTo>
                  <a:lnTo>
                    <a:pt x="136" y="230"/>
                  </a:lnTo>
                  <a:lnTo>
                    <a:pt x="132" y="210"/>
                  </a:lnTo>
                  <a:lnTo>
                    <a:pt x="134" y="168"/>
                  </a:lnTo>
                  <a:lnTo>
                    <a:pt x="136" y="168"/>
                  </a:lnTo>
                  <a:lnTo>
                    <a:pt x="148" y="150"/>
                  </a:lnTo>
                  <a:lnTo>
                    <a:pt x="164" y="160"/>
                  </a:lnTo>
                  <a:lnTo>
                    <a:pt x="176" y="160"/>
                  </a:lnTo>
                  <a:lnTo>
                    <a:pt x="184" y="108"/>
                  </a:lnTo>
                  <a:lnTo>
                    <a:pt x="180" y="100"/>
                  </a:lnTo>
                  <a:lnTo>
                    <a:pt x="174" y="96"/>
                  </a:lnTo>
                  <a:lnTo>
                    <a:pt x="168" y="96"/>
                  </a:lnTo>
                  <a:lnTo>
                    <a:pt x="166" y="96"/>
                  </a:lnTo>
                  <a:lnTo>
                    <a:pt x="154" y="98"/>
                  </a:lnTo>
                  <a:lnTo>
                    <a:pt x="152" y="96"/>
                  </a:lnTo>
                  <a:lnTo>
                    <a:pt x="144" y="84"/>
                  </a:lnTo>
                  <a:lnTo>
                    <a:pt x="142" y="84"/>
                  </a:lnTo>
                  <a:lnTo>
                    <a:pt x="142" y="64"/>
                  </a:lnTo>
                  <a:lnTo>
                    <a:pt x="146" y="52"/>
                  </a:lnTo>
                  <a:lnTo>
                    <a:pt x="148" y="48"/>
                  </a:lnTo>
                  <a:lnTo>
                    <a:pt x="150" y="42"/>
                  </a:lnTo>
                  <a:lnTo>
                    <a:pt x="152" y="36"/>
                  </a:lnTo>
                  <a:lnTo>
                    <a:pt x="156" y="32"/>
                  </a:lnTo>
                  <a:lnTo>
                    <a:pt x="156" y="20"/>
                  </a:lnTo>
                  <a:lnTo>
                    <a:pt x="144" y="8"/>
                  </a:lnTo>
                  <a:lnTo>
                    <a:pt x="128" y="0"/>
                  </a:lnTo>
                  <a:lnTo>
                    <a:pt x="108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新疆"/>
            <p:cNvSpPr/>
            <p:nvPr/>
          </p:nvSpPr>
          <p:spPr>
            <a:xfrm>
              <a:off x="912960" y="1563840"/>
              <a:ext cx="1201320" cy="909360"/>
            </a:xfrm>
            <a:custGeom>
              <a:avLst/>
              <a:gdLst>
                <a:gd name="textAreaLeft" fmla="*/ 0 w 1201320"/>
                <a:gd name="textAreaRight" fmla="*/ 1201680 w 1201320"/>
                <a:gd name="textAreaTop" fmla="*/ 0 h 909360"/>
                <a:gd name="textAreaBottom" fmla="*/ 909720 h 909360"/>
              </a:gdLst>
              <a:ahLst/>
              <a:rect l="textAreaLeft" t="textAreaTop" r="textAreaRight" b="textAreaBottom"/>
              <a:pathLst>
                <a:path w="1304" h="986">
                  <a:moveTo>
                    <a:pt x="1302" y="530"/>
                  </a:moveTo>
                  <a:lnTo>
                    <a:pt x="1304" y="530"/>
                  </a:lnTo>
                  <a:lnTo>
                    <a:pt x="1304" y="528"/>
                  </a:lnTo>
                  <a:lnTo>
                    <a:pt x="1278" y="456"/>
                  </a:lnTo>
                  <a:lnTo>
                    <a:pt x="1262" y="444"/>
                  </a:lnTo>
                  <a:lnTo>
                    <a:pt x="1262" y="442"/>
                  </a:lnTo>
                  <a:lnTo>
                    <a:pt x="1258" y="412"/>
                  </a:lnTo>
                  <a:lnTo>
                    <a:pt x="1226" y="408"/>
                  </a:lnTo>
                  <a:lnTo>
                    <a:pt x="1224" y="408"/>
                  </a:lnTo>
                  <a:lnTo>
                    <a:pt x="1222" y="408"/>
                  </a:lnTo>
                  <a:lnTo>
                    <a:pt x="1222" y="406"/>
                  </a:lnTo>
                  <a:lnTo>
                    <a:pt x="1222" y="404"/>
                  </a:lnTo>
                  <a:lnTo>
                    <a:pt x="1218" y="396"/>
                  </a:lnTo>
                  <a:lnTo>
                    <a:pt x="1212" y="386"/>
                  </a:lnTo>
                  <a:lnTo>
                    <a:pt x="1202" y="378"/>
                  </a:lnTo>
                  <a:lnTo>
                    <a:pt x="1192" y="368"/>
                  </a:lnTo>
                  <a:lnTo>
                    <a:pt x="1178" y="360"/>
                  </a:lnTo>
                  <a:lnTo>
                    <a:pt x="1166" y="354"/>
                  </a:lnTo>
                  <a:lnTo>
                    <a:pt x="1152" y="346"/>
                  </a:lnTo>
                  <a:lnTo>
                    <a:pt x="1140" y="340"/>
                  </a:lnTo>
                  <a:lnTo>
                    <a:pt x="1116" y="336"/>
                  </a:lnTo>
                  <a:lnTo>
                    <a:pt x="1084" y="334"/>
                  </a:lnTo>
                  <a:lnTo>
                    <a:pt x="1042" y="332"/>
                  </a:lnTo>
                  <a:lnTo>
                    <a:pt x="1040" y="332"/>
                  </a:lnTo>
                  <a:lnTo>
                    <a:pt x="1032" y="320"/>
                  </a:lnTo>
                  <a:lnTo>
                    <a:pt x="1028" y="310"/>
                  </a:lnTo>
                  <a:lnTo>
                    <a:pt x="1026" y="300"/>
                  </a:lnTo>
                  <a:lnTo>
                    <a:pt x="1028" y="288"/>
                  </a:lnTo>
                  <a:lnTo>
                    <a:pt x="1034" y="272"/>
                  </a:lnTo>
                  <a:lnTo>
                    <a:pt x="1044" y="246"/>
                  </a:lnTo>
                  <a:lnTo>
                    <a:pt x="1058" y="214"/>
                  </a:lnTo>
                  <a:lnTo>
                    <a:pt x="1048" y="180"/>
                  </a:lnTo>
                  <a:lnTo>
                    <a:pt x="1036" y="124"/>
                  </a:lnTo>
                  <a:lnTo>
                    <a:pt x="1032" y="118"/>
                  </a:lnTo>
                  <a:lnTo>
                    <a:pt x="1024" y="112"/>
                  </a:lnTo>
                  <a:lnTo>
                    <a:pt x="1012" y="106"/>
                  </a:lnTo>
                  <a:lnTo>
                    <a:pt x="996" y="100"/>
                  </a:lnTo>
                  <a:lnTo>
                    <a:pt x="990" y="98"/>
                  </a:lnTo>
                  <a:lnTo>
                    <a:pt x="982" y="94"/>
                  </a:lnTo>
                  <a:lnTo>
                    <a:pt x="976" y="90"/>
                  </a:lnTo>
                  <a:lnTo>
                    <a:pt x="970" y="86"/>
                  </a:lnTo>
                  <a:lnTo>
                    <a:pt x="966" y="80"/>
                  </a:lnTo>
                  <a:lnTo>
                    <a:pt x="964" y="74"/>
                  </a:lnTo>
                  <a:lnTo>
                    <a:pt x="960" y="68"/>
                  </a:lnTo>
                  <a:lnTo>
                    <a:pt x="954" y="60"/>
                  </a:lnTo>
                  <a:lnTo>
                    <a:pt x="948" y="54"/>
                  </a:lnTo>
                  <a:lnTo>
                    <a:pt x="940" y="50"/>
                  </a:lnTo>
                  <a:lnTo>
                    <a:pt x="938" y="50"/>
                  </a:lnTo>
                  <a:lnTo>
                    <a:pt x="938" y="48"/>
                  </a:lnTo>
                  <a:lnTo>
                    <a:pt x="928" y="0"/>
                  </a:lnTo>
                  <a:lnTo>
                    <a:pt x="890" y="4"/>
                  </a:lnTo>
                  <a:lnTo>
                    <a:pt x="886" y="14"/>
                  </a:lnTo>
                  <a:lnTo>
                    <a:pt x="882" y="24"/>
                  </a:lnTo>
                  <a:lnTo>
                    <a:pt x="878" y="32"/>
                  </a:lnTo>
                  <a:lnTo>
                    <a:pt x="876" y="36"/>
                  </a:lnTo>
                  <a:lnTo>
                    <a:pt x="870" y="38"/>
                  </a:lnTo>
                  <a:lnTo>
                    <a:pt x="846" y="46"/>
                  </a:lnTo>
                  <a:lnTo>
                    <a:pt x="828" y="56"/>
                  </a:lnTo>
                  <a:lnTo>
                    <a:pt x="822" y="60"/>
                  </a:lnTo>
                  <a:lnTo>
                    <a:pt x="816" y="66"/>
                  </a:lnTo>
                  <a:lnTo>
                    <a:pt x="814" y="74"/>
                  </a:lnTo>
                  <a:lnTo>
                    <a:pt x="810" y="92"/>
                  </a:lnTo>
                  <a:lnTo>
                    <a:pt x="806" y="110"/>
                  </a:lnTo>
                  <a:lnTo>
                    <a:pt x="802" y="122"/>
                  </a:lnTo>
                  <a:lnTo>
                    <a:pt x="798" y="130"/>
                  </a:lnTo>
                  <a:lnTo>
                    <a:pt x="792" y="136"/>
                  </a:lnTo>
                  <a:lnTo>
                    <a:pt x="786" y="142"/>
                  </a:lnTo>
                  <a:lnTo>
                    <a:pt x="778" y="144"/>
                  </a:lnTo>
                  <a:lnTo>
                    <a:pt x="770" y="146"/>
                  </a:lnTo>
                  <a:lnTo>
                    <a:pt x="760" y="146"/>
                  </a:lnTo>
                  <a:lnTo>
                    <a:pt x="750" y="144"/>
                  </a:lnTo>
                  <a:lnTo>
                    <a:pt x="738" y="140"/>
                  </a:lnTo>
                  <a:lnTo>
                    <a:pt x="724" y="134"/>
                  </a:lnTo>
                  <a:lnTo>
                    <a:pt x="708" y="126"/>
                  </a:lnTo>
                  <a:lnTo>
                    <a:pt x="674" y="104"/>
                  </a:lnTo>
                  <a:lnTo>
                    <a:pt x="608" y="188"/>
                  </a:lnTo>
                  <a:lnTo>
                    <a:pt x="616" y="224"/>
                  </a:lnTo>
                  <a:lnTo>
                    <a:pt x="618" y="224"/>
                  </a:lnTo>
                  <a:lnTo>
                    <a:pt x="616" y="226"/>
                  </a:lnTo>
                  <a:lnTo>
                    <a:pt x="610" y="232"/>
                  </a:lnTo>
                  <a:lnTo>
                    <a:pt x="602" y="236"/>
                  </a:lnTo>
                  <a:lnTo>
                    <a:pt x="598" y="236"/>
                  </a:lnTo>
                  <a:lnTo>
                    <a:pt x="594" y="234"/>
                  </a:lnTo>
                  <a:lnTo>
                    <a:pt x="582" y="230"/>
                  </a:lnTo>
                  <a:lnTo>
                    <a:pt x="576" y="226"/>
                  </a:lnTo>
                  <a:lnTo>
                    <a:pt x="564" y="224"/>
                  </a:lnTo>
                  <a:lnTo>
                    <a:pt x="548" y="220"/>
                  </a:lnTo>
                  <a:lnTo>
                    <a:pt x="528" y="220"/>
                  </a:lnTo>
                  <a:lnTo>
                    <a:pt x="514" y="218"/>
                  </a:lnTo>
                  <a:lnTo>
                    <a:pt x="494" y="216"/>
                  </a:lnTo>
                  <a:lnTo>
                    <a:pt x="474" y="220"/>
                  </a:lnTo>
                  <a:lnTo>
                    <a:pt x="482" y="234"/>
                  </a:lnTo>
                  <a:lnTo>
                    <a:pt x="492" y="248"/>
                  </a:lnTo>
                  <a:lnTo>
                    <a:pt x="494" y="252"/>
                  </a:lnTo>
                  <a:lnTo>
                    <a:pt x="494" y="256"/>
                  </a:lnTo>
                  <a:lnTo>
                    <a:pt x="484" y="308"/>
                  </a:lnTo>
                  <a:lnTo>
                    <a:pt x="488" y="336"/>
                  </a:lnTo>
                  <a:lnTo>
                    <a:pt x="490" y="336"/>
                  </a:lnTo>
                  <a:lnTo>
                    <a:pt x="488" y="336"/>
                  </a:lnTo>
                  <a:lnTo>
                    <a:pt x="472" y="388"/>
                  </a:lnTo>
                  <a:lnTo>
                    <a:pt x="470" y="394"/>
                  </a:lnTo>
                  <a:lnTo>
                    <a:pt x="468" y="396"/>
                  </a:lnTo>
                  <a:lnTo>
                    <a:pt x="466" y="396"/>
                  </a:lnTo>
                  <a:lnTo>
                    <a:pt x="466" y="394"/>
                  </a:lnTo>
                  <a:lnTo>
                    <a:pt x="464" y="390"/>
                  </a:lnTo>
                  <a:lnTo>
                    <a:pt x="460" y="384"/>
                  </a:lnTo>
                  <a:lnTo>
                    <a:pt x="460" y="382"/>
                  </a:lnTo>
                  <a:lnTo>
                    <a:pt x="458" y="382"/>
                  </a:lnTo>
                  <a:lnTo>
                    <a:pt x="454" y="384"/>
                  </a:lnTo>
                  <a:lnTo>
                    <a:pt x="452" y="392"/>
                  </a:lnTo>
                  <a:lnTo>
                    <a:pt x="450" y="404"/>
                  </a:lnTo>
                  <a:lnTo>
                    <a:pt x="444" y="414"/>
                  </a:lnTo>
                  <a:lnTo>
                    <a:pt x="436" y="422"/>
                  </a:lnTo>
                  <a:lnTo>
                    <a:pt x="426" y="432"/>
                  </a:lnTo>
                  <a:lnTo>
                    <a:pt x="412" y="444"/>
                  </a:lnTo>
                  <a:lnTo>
                    <a:pt x="406" y="448"/>
                  </a:lnTo>
                  <a:lnTo>
                    <a:pt x="404" y="448"/>
                  </a:lnTo>
                  <a:lnTo>
                    <a:pt x="352" y="448"/>
                  </a:lnTo>
                  <a:lnTo>
                    <a:pt x="332" y="468"/>
                  </a:lnTo>
                  <a:lnTo>
                    <a:pt x="330" y="468"/>
                  </a:lnTo>
                  <a:lnTo>
                    <a:pt x="274" y="460"/>
                  </a:lnTo>
                  <a:lnTo>
                    <a:pt x="268" y="466"/>
                  </a:lnTo>
                  <a:lnTo>
                    <a:pt x="260" y="470"/>
                  </a:lnTo>
                  <a:lnTo>
                    <a:pt x="254" y="470"/>
                  </a:lnTo>
                  <a:lnTo>
                    <a:pt x="248" y="470"/>
                  </a:lnTo>
                  <a:lnTo>
                    <a:pt x="240" y="470"/>
                  </a:lnTo>
                  <a:lnTo>
                    <a:pt x="232" y="470"/>
                  </a:lnTo>
                  <a:lnTo>
                    <a:pt x="206" y="478"/>
                  </a:lnTo>
                  <a:lnTo>
                    <a:pt x="184" y="504"/>
                  </a:lnTo>
                  <a:lnTo>
                    <a:pt x="184" y="506"/>
                  </a:lnTo>
                  <a:lnTo>
                    <a:pt x="148" y="508"/>
                  </a:lnTo>
                  <a:lnTo>
                    <a:pt x="148" y="478"/>
                  </a:lnTo>
                  <a:lnTo>
                    <a:pt x="126" y="478"/>
                  </a:lnTo>
                  <a:lnTo>
                    <a:pt x="122" y="490"/>
                  </a:lnTo>
                  <a:lnTo>
                    <a:pt x="106" y="494"/>
                  </a:lnTo>
                  <a:lnTo>
                    <a:pt x="104" y="494"/>
                  </a:lnTo>
                  <a:lnTo>
                    <a:pt x="102" y="494"/>
                  </a:lnTo>
                  <a:lnTo>
                    <a:pt x="86" y="486"/>
                  </a:lnTo>
                  <a:lnTo>
                    <a:pt x="66" y="480"/>
                  </a:lnTo>
                  <a:lnTo>
                    <a:pt x="60" y="482"/>
                  </a:lnTo>
                  <a:lnTo>
                    <a:pt x="54" y="484"/>
                  </a:lnTo>
                  <a:lnTo>
                    <a:pt x="38" y="496"/>
                  </a:lnTo>
                  <a:lnTo>
                    <a:pt x="20" y="512"/>
                  </a:lnTo>
                  <a:lnTo>
                    <a:pt x="14" y="520"/>
                  </a:lnTo>
                  <a:lnTo>
                    <a:pt x="10" y="528"/>
                  </a:lnTo>
                  <a:lnTo>
                    <a:pt x="12" y="530"/>
                  </a:lnTo>
                  <a:lnTo>
                    <a:pt x="14" y="536"/>
                  </a:lnTo>
                  <a:lnTo>
                    <a:pt x="16" y="546"/>
                  </a:lnTo>
                  <a:lnTo>
                    <a:pt x="16" y="554"/>
                  </a:lnTo>
                  <a:lnTo>
                    <a:pt x="14" y="562"/>
                  </a:lnTo>
                  <a:lnTo>
                    <a:pt x="10" y="568"/>
                  </a:lnTo>
                  <a:lnTo>
                    <a:pt x="6" y="570"/>
                  </a:lnTo>
                  <a:lnTo>
                    <a:pt x="4" y="574"/>
                  </a:lnTo>
                  <a:lnTo>
                    <a:pt x="0" y="590"/>
                  </a:lnTo>
                  <a:lnTo>
                    <a:pt x="14" y="598"/>
                  </a:lnTo>
                  <a:lnTo>
                    <a:pt x="30" y="580"/>
                  </a:lnTo>
                  <a:lnTo>
                    <a:pt x="54" y="604"/>
                  </a:lnTo>
                  <a:lnTo>
                    <a:pt x="54" y="606"/>
                  </a:lnTo>
                  <a:lnTo>
                    <a:pt x="58" y="650"/>
                  </a:lnTo>
                  <a:lnTo>
                    <a:pt x="58" y="652"/>
                  </a:lnTo>
                  <a:lnTo>
                    <a:pt x="44" y="712"/>
                  </a:lnTo>
                  <a:lnTo>
                    <a:pt x="42" y="712"/>
                  </a:lnTo>
                  <a:lnTo>
                    <a:pt x="18" y="712"/>
                  </a:lnTo>
                  <a:lnTo>
                    <a:pt x="12" y="714"/>
                  </a:lnTo>
                  <a:lnTo>
                    <a:pt x="6" y="716"/>
                  </a:lnTo>
                  <a:lnTo>
                    <a:pt x="8" y="720"/>
                  </a:lnTo>
                  <a:lnTo>
                    <a:pt x="12" y="724"/>
                  </a:lnTo>
                  <a:lnTo>
                    <a:pt x="28" y="736"/>
                  </a:lnTo>
                  <a:lnTo>
                    <a:pt x="40" y="734"/>
                  </a:lnTo>
                  <a:lnTo>
                    <a:pt x="42" y="734"/>
                  </a:lnTo>
                  <a:lnTo>
                    <a:pt x="70" y="760"/>
                  </a:lnTo>
                  <a:lnTo>
                    <a:pt x="72" y="764"/>
                  </a:lnTo>
                  <a:lnTo>
                    <a:pt x="76" y="768"/>
                  </a:lnTo>
                  <a:lnTo>
                    <a:pt x="76" y="778"/>
                  </a:lnTo>
                  <a:lnTo>
                    <a:pt x="74" y="792"/>
                  </a:lnTo>
                  <a:lnTo>
                    <a:pt x="66" y="806"/>
                  </a:lnTo>
                  <a:lnTo>
                    <a:pt x="70" y="832"/>
                  </a:lnTo>
                  <a:lnTo>
                    <a:pt x="80" y="834"/>
                  </a:lnTo>
                  <a:lnTo>
                    <a:pt x="120" y="834"/>
                  </a:lnTo>
                  <a:lnTo>
                    <a:pt x="100" y="852"/>
                  </a:lnTo>
                  <a:lnTo>
                    <a:pt x="112" y="860"/>
                  </a:lnTo>
                  <a:lnTo>
                    <a:pt x="128" y="868"/>
                  </a:lnTo>
                  <a:lnTo>
                    <a:pt x="170" y="886"/>
                  </a:lnTo>
                  <a:lnTo>
                    <a:pt x="172" y="888"/>
                  </a:lnTo>
                  <a:lnTo>
                    <a:pt x="174" y="888"/>
                  </a:lnTo>
                  <a:lnTo>
                    <a:pt x="178" y="952"/>
                  </a:lnTo>
                  <a:lnTo>
                    <a:pt x="180" y="962"/>
                  </a:lnTo>
                  <a:lnTo>
                    <a:pt x="186" y="970"/>
                  </a:lnTo>
                  <a:lnTo>
                    <a:pt x="194" y="976"/>
                  </a:lnTo>
                  <a:lnTo>
                    <a:pt x="206" y="982"/>
                  </a:lnTo>
                  <a:lnTo>
                    <a:pt x="210" y="980"/>
                  </a:lnTo>
                  <a:lnTo>
                    <a:pt x="212" y="980"/>
                  </a:lnTo>
                  <a:lnTo>
                    <a:pt x="256" y="986"/>
                  </a:lnTo>
                  <a:lnTo>
                    <a:pt x="260" y="986"/>
                  </a:lnTo>
                  <a:lnTo>
                    <a:pt x="260" y="984"/>
                  </a:lnTo>
                  <a:lnTo>
                    <a:pt x="268" y="968"/>
                  </a:lnTo>
                  <a:lnTo>
                    <a:pt x="268" y="966"/>
                  </a:lnTo>
                  <a:lnTo>
                    <a:pt x="268" y="960"/>
                  </a:lnTo>
                  <a:lnTo>
                    <a:pt x="270" y="956"/>
                  </a:lnTo>
                  <a:lnTo>
                    <a:pt x="274" y="952"/>
                  </a:lnTo>
                  <a:lnTo>
                    <a:pt x="278" y="948"/>
                  </a:lnTo>
                  <a:lnTo>
                    <a:pt x="286" y="940"/>
                  </a:lnTo>
                  <a:lnTo>
                    <a:pt x="290" y="932"/>
                  </a:lnTo>
                  <a:lnTo>
                    <a:pt x="294" y="928"/>
                  </a:lnTo>
                  <a:lnTo>
                    <a:pt x="298" y="926"/>
                  </a:lnTo>
                  <a:lnTo>
                    <a:pt x="306" y="926"/>
                  </a:lnTo>
                  <a:lnTo>
                    <a:pt x="314" y="928"/>
                  </a:lnTo>
                  <a:lnTo>
                    <a:pt x="316" y="928"/>
                  </a:lnTo>
                  <a:lnTo>
                    <a:pt x="330" y="936"/>
                  </a:lnTo>
                  <a:lnTo>
                    <a:pt x="382" y="946"/>
                  </a:lnTo>
                  <a:lnTo>
                    <a:pt x="412" y="944"/>
                  </a:lnTo>
                  <a:lnTo>
                    <a:pt x="434" y="934"/>
                  </a:lnTo>
                  <a:lnTo>
                    <a:pt x="440" y="928"/>
                  </a:lnTo>
                  <a:lnTo>
                    <a:pt x="444" y="924"/>
                  </a:lnTo>
                  <a:lnTo>
                    <a:pt x="452" y="924"/>
                  </a:lnTo>
                  <a:lnTo>
                    <a:pt x="460" y="930"/>
                  </a:lnTo>
                  <a:lnTo>
                    <a:pt x="464" y="932"/>
                  </a:lnTo>
                  <a:lnTo>
                    <a:pt x="468" y="938"/>
                  </a:lnTo>
                  <a:lnTo>
                    <a:pt x="472" y="948"/>
                  </a:lnTo>
                  <a:lnTo>
                    <a:pt x="488" y="960"/>
                  </a:lnTo>
                  <a:lnTo>
                    <a:pt x="500" y="960"/>
                  </a:lnTo>
                  <a:lnTo>
                    <a:pt x="502" y="960"/>
                  </a:lnTo>
                  <a:lnTo>
                    <a:pt x="504" y="960"/>
                  </a:lnTo>
                  <a:lnTo>
                    <a:pt x="520" y="968"/>
                  </a:lnTo>
                  <a:lnTo>
                    <a:pt x="552" y="964"/>
                  </a:lnTo>
                  <a:lnTo>
                    <a:pt x="570" y="960"/>
                  </a:lnTo>
                  <a:lnTo>
                    <a:pt x="614" y="964"/>
                  </a:lnTo>
                  <a:lnTo>
                    <a:pt x="634" y="958"/>
                  </a:lnTo>
                  <a:lnTo>
                    <a:pt x="658" y="948"/>
                  </a:lnTo>
                  <a:lnTo>
                    <a:pt x="666" y="944"/>
                  </a:lnTo>
                  <a:lnTo>
                    <a:pt x="676" y="940"/>
                  </a:lnTo>
                  <a:lnTo>
                    <a:pt x="720" y="940"/>
                  </a:lnTo>
                  <a:lnTo>
                    <a:pt x="736" y="934"/>
                  </a:lnTo>
                  <a:lnTo>
                    <a:pt x="746" y="930"/>
                  </a:lnTo>
                  <a:lnTo>
                    <a:pt x="754" y="928"/>
                  </a:lnTo>
                  <a:lnTo>
                    <a:pt x="778" y="928"/>
                  </a:lnTo>
                  <a:lnTo>
                    <a:pt x="790" y="936"/>
                  </a:lnTo>
                  <a:lnTo>
                    <a:pt x="826" y="944"/>
                  </a:lnTo>
                  <a:lnTo>
                    <a:pt x="830" y="944"/>
                  </a:lnTo>
                  <a:lnTo>
                    <a:pt x="832" y="948"/>
                  </a:lnTo>
                  <a:lnTo>
                    <a:pt x="842" y="956"/>
                  </a:lnTo>
                  <a:lnTo>
                    <a:pt x="858" y="964"/>
                  </a:lnTo>
                  <a:lnTo>
                    <a:pt x="858" y="966"/>
                  </a:lnTo>
                  <a:lnTo>
                    <a:pt x="892" y="968"/>
                  </a:lnTo>
                  <a:lnTo>
                    <a:pt x="908" y="976"/>
                  </a:lnTo>
                  <a:lnTo>
                    <a:pt x="928" y="980"/>
                  </a:lnTo>
                  <a:lnTo>
                    <a:pt x="946" y="982"/>
                  </a:lnTo>
                  <a:lnTo>
                    <a:pt x="950" y="972"/>
                  </a:lnTo>
                  <a:lnTo>
                    <a:pt x="942" y="956"/>
                  </a:lnTo>
                  <a:lnTo>
                    <a:pt x="940" y="940"/>
                  </a:lnTo>
                  <a:lnTo>
                    <a:pt x="938" y="940"/>
                  </a:lnTo>
                  <a:lnTo>
                    <a:pt x="942" y="936"/>
                  </a:lnTo>
                  <a:lnTo>
                    <a:pt x="952" y="922"/>
                  </a:lnTo>
                  <a:lnTo>
                    <a:pt x="952" y="920"/>
                  </a:lnTo>
                  <a:lnTo>
                    <a:pt x="954" y="920"/>
                  </a:lnTo>
                  <a:lnTo>
                    <a:pt x="964" y="912"/>
                  </a:lnTo>
                  <a:lnTo>
                    <a:pt x="962" y="908"/>
                  </a:lnTo>
                  <a:lnTo>
                    <a:pt x="958" y="892"/>
                  </a:lnTo>
                  <a:lnTo>
                    <a:pt x="956" y="888"/>
                  </a:lnTo>
                  <a:lnTo>
                    <a:pt x="950" y="884"/>
                  </a:lnTo>
                  <a:lnTo>
                    <a:pt x="938" y="872"/>
                  </a:lnTo>
                  <a:lnTo>
                    <a:pt x="922" y="858"/>
                  </a:lnTo>
                  <a:lnTo>
                    <a:pt x="922" y="856"/>
                  </a:lnTo>
                  <a:lnTo>
                    <a:pt x="920" y="856"/>
                  </a:lnTo>
                  <a:lnTo>
                    <a:pt x="922" y="856"/>
                  </a:lnTo>
                  <a:lnTo>
                    <a:pt x="922" y="854"/>
                  </a:lnTo>
                  <a:lnTo>
                    <a:pt x="924" y="838"/>
                  </a:lnTo>
                  <a:lnTo>
                    <a:pt x="924" y="828"/>
                  </a:lnTo>
                  <a:lnTo>
                    <a:pt x="916" y="808"/>
                  </a:lnTo>
                  <a:lnTo>
                    <a:pt x="934" y="804"/>
                  </a:lnTo>
                  <a:lnTo>
                    <a:pt x="944" y="796"/>
                  </a:lnTo>
                  <a:lnTo>
                    <a:pt x="966" y="796"/>
                  </a:lnTo>
                  <a:lnTo>
                    <a:pt x="988" y="792"/>
                  </a:lnTo>
                  <a:lnTo>
                    <a:pt x="990" y="792"/>
                  </a:lnTo>
                  <a:lnTo>
                    <a:pt x="1004" y="794"/>
                  </a:lnTo>
                  <a:lnTo>
                    <a:pt x="1022" y="788"/>
                  </a:lnTo>
                  <a:lnTo>
                    <a:pt x="1042" y="784"/>
                  </a:lnTo>
                  <a:lnTo>
                    <a:pt x="1054" y="780"/>
                  </a:lnTo>
                  <a:lnTo>
                    <a:pt x="1056" y="780"/>
                  </a:lnTo>
                  <a:lnTo>
                    <a:pt x="1090" y="772"/>
                  </a:lnTo>
                  <a:lnTo>
                    <a:pt x="1096" y="768"/>
                  </a:lnTo>
                  <a:lnTo>
                    <a:pt x="1094" y="760"/>
                  </a:lnTo>
                  <a:lnTo>
                    <a:pt x="1088" y="750"/>
                  </a:lnTo>
                  <a:lnTo>
                    <a:pt x="1088" y="748"/>
                  </a:lnTo>
                  <a:lnTo>
                    <a:pt x="1086" y="748"/>
                  </a:lnTo>
                  <a:lnTo>
                    <a:pt x="1088" y="736"/>
                  </a:lnTo>
                  <a:lnTo>
                    <a:pt x="1090" y="734"/>
                  </a:lnTo>
                  <a:lnTo>
                    <a:pt x="1090" y="718"/>
                  </a:lnTo>
                  <a:lnTo>
                    <a:pt x="1086" y="704"/>
                  </a:lnTo>
                  <a:lnTo>
                    <a:pt x="1086" y="702"/>
                  </a:lnTo>
                  <a:lnTo>
                    <a:pt x="1094" y="686"/>
                  </a:lnTo>
                  <a:lnTo>
                    <a:pt x="1100" y="678"/>
                  </a:lnTo>
                  <a:lnTo>
                    <a:pt x="1102" y="676"/>
                  </a:lnTo>
                  <a:lnTo>
                    <a:pt x="1106" y="676"/>
                  </a:lnTo>
                  <a:lnTo>
                    <a:pt x="1126" y="676"/>
                  </a:lnTo>
                  <a:lnTo>
                    <a:pt x="1132" y="676"/>
                  </a:lnTo>
                  <a:lnTo>
                    <a:pt x="1138" y="672"/>
                  </a:lnTo>
                  <a:lnTo>
                    <a:pt x="1170" y="630"/>
                  </a:lnTo>
                  <a:lnTo>
                    <a:pt x="1170" y="628"/>
                  </a:lnTo>
                  <a:lnTo>
                    <a:pt x="1186" y="614"/>
                  </a:lnTo>
                  <a:lnTo>
                    <a:pt x="1188" y="612"/>
                  </a:lnTo>
                  <a:lnTo>
                    <a:pt x="1196" y="610"/>
                  </a:lnTo>
                  <a:lnTo>
                    <a:pt x="1202" y="608"/>
                  </a:lnTo>
                  <a:lnTo>
                    <a:pt x="1206" y="604"/>
                  </a:lnTo>
                  <a:lnTo>
                    <a:pt x="1214" y="596"/>
                  </a:lnTo>
                  <a:lnTo>
                    <a:pt x="1218" y="592"/>
                  </a:lnTo>
                  <a:lnTo>
                    <a:pt x="1246" y="598"/>
                  </a:lnTo>
                  <a:lnTo>
                    <a:pt x="1270" y="588"/>
                  </a:lnTo>
                  <a:lnTo>
                    <a:pt x="1284" y="586"/>
                  </a:lnTo>
                  <a:lnTo>
                    <a:pt x="1296" y="580"/>
                  </a:lnTo>
                  <a:lnTo>
                    <a:pt x="1296" y="562"/>
                  </a:lnTo>
                  <a:lnTo>
                    <a:pt x="1298" y="540"/>
                  </a:lnTo>
                  <a:lnTo>
                    <a:pt x="1298" y="538"/>
                  </a:lnTo>
                  <a:lnTo>
                    <a:pt x="1302" y="532"/>
                  </a:lnTo>
                  <a:lnTo>
                    <a:pt x="1302" y="5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青海"/>
            <p:cNvSpPr/>
            <p:nvPr/>
          </p:nvSpPr>
          <p:spPr>
            <a:xfrm>
              <a:off x="1692360" y="2277720"/>
              <a:ext cx="748080" cy="536760"/>
            </a:xfrm>
            <a:custGeom>
              <a:avLst/>
              <a:gdLst>
                <a:gd name="textAreaLeft" fmla="*/ 0 w 748080"/>
                <a:gd name="textAreaRight" fmla="*/ 748440 w 74808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812" h="582">
                  <a:moveTo>
                    <a:pt x="484" y="30"/>
                  </a:moveTo>
                  <a:lnTo>
                    <a:pt x="476" y="36"/>
                  </a:lnTo>
                  <a:lnTo>
                    <a:pt x="480" y="56"/>
                  </a:lnTo>
                  <a:lnTo>
                    <a:pt x="480" y="58"/>
                  </a:lnTo>
                  <a:lnTo>
                    <a:pt x="482" y="58"/>
                  </a:lnTo>
                  <a:lnTo>
                    <a:pt x="480" y="58"/>
                  </a:lnTo>
                  <a:lnTo>
                    <a:pt x="472" y="78"/>
                  </a:lnTo>
                  <a:lnTo>
                    <a:pt x="460" y="82"/>
                  </a:lnTo>
                  <a:lnTo>
                    <a:pt x="458" y="84"/>
                  </a:lnTo>
                  <a:lnTo>
                    <a:pt x="456" y="84"/>
                  </a:lnTo>
                  <a:lnTo>
                    <a:pt x="436" y="74"/>
                  </a:lnTo>
                  <a:lnTo>
                    <a:pt x="396" y="38"/>
                  </a:lnTo>
                  <a:lnTo>
                    <a:pt x="380" y="28"/>
                  </a:lnTo>
                  <a:lnTo>
                    <a:pt x="356" y="20"/>
                  </a:lnTo>
                  <a:lnTo>
                    <a:pt x="356" y="18"/>
                  </a:lnTo>
                  <a:lnTo>
                    <a:pt x="344" y="10"/>
                  </a:lnTo>
                  <a:lnTo>
                    <a:pt x="324" y="4"/>
                  </a:lnTo>
                  <a:lnTo>
                    <a:pt x="314" y="6"/>
                  </a:lnTo>
                  <a:lnTo>
                    <a:pt x="312" y="6"/>
                  </a:lnTo>
                  <a:lnTo>
                    <a:pt x="288" y="4"/>
                  </a:lnTo>
                  <a:lnTo>
                    <a:pt x="286" y="4"/>
                  </a:lnTo>
                  <a:lnTo>
                    <a:pt x="268" y="0"/>
                  </a:lnTo>
                  <a:lnTo>
                    <a:pt x="256" y="0"/>
                  </a:lnTo>
                  <a:lnTo>
                    <a:pt x="248" y="6"/>
                  </a:lnTo>
                  <a:lnTo>
                    <a:pt x="240" y="8"/>
                  </a:lnTo>
                  <a:lnTo>
                    <a:pt x="228" y="10"/>
                  </a:lnTo>
                  <a:lnTo>
                    <a:pt x="212" y="14"/>
                  </a:lnTo>
                  <a:lnTo>
                    <a:pt x="198" y="18"/>
                  </a:lnTo>
                  <a:lnTo>
                    <a:pt x="196" y="20"/>
                  </a:lnTo>
                  <a:lnTo>
                    <a:pt x="180" y="22"/>
                  </a:lnTo>
                  <a:lnTo>
                    <a:pt x="160" y="28"/>
                  </a:lnTo>
                  <a:lnTo>
                    <a:pt x="158" y="28"/>
                  </a:lnTo>
                  <a:lnTo>
                    <a:pt x="144" y="26"/>
                  </a:lnTo>
                  <a:lnTo>
                    <a:pt x="120" y="30"/>
                  </a:lnTo>
                  <a:lnTo>
                    <a:pt x="100" y="30"/>
                  </a:lnTo>
                  <a:lnTo>
                    <a:pt x="92" y="38"/>
                  </a:lnTo>
                  <a:lnTo>
                    <a:pt x="82" y="40"/>
                  </a:lnTo>
                  <a:lnTo>
                    <a:pt x="86" y="50"/>
                  </a:lnTo>
                  <a:lnTo>
                    <a:pt x="86" y="66"/>
                  </a:lnTo>
                  <a:lnTo>
                    <a:pt x="84" y="78"/>
                  </a:lnTo>
                  <a:lnTo>
                    <a:pt x="98" y="90"/>
                  </a:lnTo>
                  <a:lnTo>
                    <a:pt x="110" y="102"/>
                  </a:lnTo>
                  <a:lnTo>
                    <a:pt x="118" y="110"/>
                  </a:lnTo>
                  <a:lnTo>
                    <a:pt x="120" y="114"/>
                  </a:lnTo>
                  <a:lnTo>
                    <a:pt x="120" y="118"/>
                  </a:lnTo>
                  <a:lnTo>
                    <a:pt x="124" y="130"/>
                  </a:lnTo>
                  <a:lnTo>
                    <a:pt x="130" y="142"/>
                  </a:lnTo>
                  <a:lnTo>
                    <a:pt x="128" y="142"/>
                  </a:lnTo>
                  <a:lnTo>
                    <a:pt x="112" y="154"/>
                  </a:lnTo>
                  <a:lnTo>
                    <a:pt x="102" y="166"/>
                  </a:lnTo>
                  <a:lnTo>
                    <a:pt x="104" y="178"/>
                  </a:lnTo>
                  <a:lnTo>
                    <a:pt x="112" y="196"/>
                  </a:lnTo>
                  <a:lnTo>
                    <a:pt x="112" y="198"/>
                  </a:lnTo>
                  <a:lnTo>
                    <a:pt x="112" y="204"/>
                  </a:lnTo>
                  <a:lnTo>
                    <a:pt x="108" y="210"/>
                  </a:lnTo>
                  <a:lnTo>
                    <a:pt x="106" y="214"/>
                  </a:lnTo>
                  <a:lnTo>
                    <a:pt x="102" y="216"/>
                  </a:lnTo>
                  <a:lnTo>
                    <a:pt x="96" y="216"/>
                  </a:lnTo>
                  <a:lnTo>
                    <a:pt x="80" y="214"/>
                  </a:lnTo>
                  <a:lnTo>
                    <a:pt x="60" y="210"/>
                  </a:lnTo>
                  <a:lnTo>
                    <a:pt x="58" y="210"/>
                  </a:lnTo>
                  <a:lnTo>
                    <a:pt x="44" y="202"/>
                  </a:lnTo>
                  <a:lnTo>
                    <a:pt x="20" y="202"/>
                  </a:lnTo>
                  <a:lnTo>
                    <a:pt x="22" y="202"/>
                  </a:lnTo>
                  <a:lnTo>
                    <a:pt x="20" y="242"/>
                  </a:lnTo>
                  <a:lnTo>
                    <a:pt x="18" y="246"/>
                  </a:lnTo>
                  <a:lnTo>
                    <a:pt x="16" y="248"/>
                  </a:lnTo>
                  <a:lnTo>
                    <a:pt x="8" y="250"/>
                  </a:lnTo>
                  <a:lnTo>
                    <a:pt x="6" y="254"/>
                  </a:lnTo>
                  <a:lnTo>
                    <a:pt x="6" y="262"/>
                  </a:lnTo>
                  <a:lnTo>
                    <a:pt x="4" y="262"/>
                  </a:lnTo>
                  <a:lnTo>
                    <a:pt x="4" y="272"/>
                  </a:lnTo>
                  <a:lnTo>
                    <a:pt x="10" y="280"/>
                  </a:lnTo>
                  <a:lnTo>
                    <a:pt x="14" y="284"/>
                  </a:lnTo>
                  <a:lnTo>
                    <a:pt x="18" y="304"/>
                  </a:lnTo>
                  <a:lnTo>
                    <a:pt x="18" y="310"/>
                  </a:lnTo>
                  <a:lnTo>
                    <a:pt x="16" y="322"/>
                  </a:lnTo>
                  <a:lnTo>
                    <a:pt x="10" y="338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0" y="370"/>
                  </a:lnTo>
                  <a:lnTo>
                    <a:pt x="12" y="384"/>
                  </a:lnTo>
                  <a:lnTo>
                    <a:pt x="16" y="394"/>
                  </a:lnTo>
                  <a:lnTo>
                    <a:pt x="26" y="406"/>
                  </a:lnTo>
                  <a:lnTo>
                    <a:pt x="40" y="422"/>
                  </a:lnTo>
                  <a:lnTo>
                    <a:pt x="48" y="430"/>
                  </a:lnTo>
                  <a:lnTo>
                    <a:pt x="52" y="430"/>
                  </a:lnTo>
                  <a:lnTo>
                    <a:pt x="68" y="422"/>
                  </a:lnTo>
                  <a:lnTo>
                    <a:pt x="72" y="418"/>
                  </a:lnTo>
                  <a:lnTo>
                    <a:pt x="76" y="418"/>
                  </a:lnTo>
                  <a:lnTo>
                    <a:pt x="84" y="420"/>
                  </a:lnTo>
                  <a:lnTo>
                    <a:pt x="92" y="424"/>
                  </a:lnTo>
                  <a:lnTo>
                    <a:pt x="92" y="426"/>
                  </a:lnTo>
                  <a:lnTo>
                    <a:pt x="100" y="434"/>
                  </a:lnTo>
                  <a:lnTo>
                    <a:pt x="104" y="444"/>
                  </a:lnTo>
                  <a:lnTo>
                    <a:pt x="108" y="448"/>
                  </a:lnTo>
                  <a:lnTo>
                    <a:pt x="110" y="450"/>
                  </a:lnTo>
                  <a:lnTo>
                    <a:pt x="120" y="458"/>
                  </a:lnTo>
                  <a:lnTo>
                    <a:pt x="126" y="458"/>
                  </a:lnTo>
                  <a:lnTo>
                    <a:pt x="132" y="460"/>
                  </a:lnTo>
                  <a:lnTo>
                    <a:pt x="136" y="464"/>
                  </a:lnTo>
                  <a:lnTo>
                    <a:pt x="144" y="468"/>
                  </a:lnTo>
                  <a:lnTo>
                    <a:pt x="160" y="474"/>
                  </a:lnTo>
                  <a:lnTo>
                    <a:pt x="162" y="474"/>
                  </a:lnTo>
                  <a:lnTo>
                    <a:pt x="186" y="482"/>
                  </a:lnTo>
                  <a:lnTo>
                    <a:pt x="188" y="482"/>
                  </a:lnTo>
                  <a:lnTo>
                    <a:pt x="204" y="490"/>
                  </a:lnTo>
                  <a:lnTo>
                    <a:pt x="232" y="498"/>
                  </a:lnTo>
                  <a:lnTo>
                    <a:pt x="234" y="498"/>
                  </a:lnTo>
                  <a:lnTo>
                    <a:pt x="272" y="500"/>
                  </a:lnTo>
                  <a:lnTo>
                    <a:pt x="288" y="494"/>
                  </a:lnTo>
                  <a:lnTo>
                    <a:pt x="304" y="494"/>
                  </a:lnTo>
                  <a:lnTo>
                    <a:pt x="304" y="496"/>
                  </a:lnTo>
                  <a:lnTo>
                    <a:pt x="316" y="512"/>
                  </a:lnTo>
                  <a:lnTo>
                    <a:pt x="324" y="526"/>
                  </a:lnTo>
                  <a:lnTo>
                    <a:pt x="332" y="532"/>
                  </a:lnTo>
                  <a:lnTo>
                    <a:pt x="340" y="536"/>
                  </a:lnTo>
                  <a:lnTo>
                    <a:pt x="340" y="538"/>
                  </a:lnTo>
                  <a:lnTo>
                    <a:pt x="342" y="538"/>
                  </a:lnTo>
                  <a:lnTo>
                    <a:pt x="348" y="554"/>
                  </a:lnTo>
                  <a:lnTo>
                    <a:pt x="350" y="554"/>
                  </a:lnTo>
                  <a:lnTo>
                    <a:pt x="350" y="556"/>
                  </a:lnTo>
                  <a:lnTo>
                    <a:pt x="354" y="574"/>
                  </a:lnTo>
                  <a:lnTo>
                    <a:pt x="364" y="578"/>
                  </a:lnTo>
                  <a:lnTo>
                    <a:pt x="366" y="578"/>
                  </a:lnTo>
                  <a:lnTo>
                    <a:pt x="376" y="582"/>
                  </a:lnTo>
                  <a:lnTo>
                    <a:pt x="388" y="580"/>
                  </a:lnTo>
                  <a:lnTo>
                    <a:pt x="390" y="568"/>
                  </a:lnTo>
                  <a:lnTo>
                    <a:pt x="392" y="566"/>
                  </a:lnTo>
                  <a:lnTo>
                    <a:pt x="404" y="554"/>
                  </a:lnTo>
                  <a:lnTo>
                    <a:pt x="420" y="558"/>
                  </a:lnTo>
                  <a:lnTo>
                    <a:pt x="428" y="574"/>
                  </a:lnTo>
                  <a:lnTo>
                    <a:pt x="442" y="570"/>
                  </a:lnTo>
                  <a:lnTo>
                    <a:pt x="444" y="554"/>
                  </a:lnTo>
                  <a:lnTo>
                    <a:pt x="444" y="552"/>
                  </a:lnTo>
                  <a:lnTo>
                    <a:pt x="456" y="546"/>
                  </a:lnTo>
                  <a:lnTo>
                    <a:pt x="452" y="524"/>
                  </a:lnTo>
                  <a:lnTo>
                    <a:pt x="452" y="522"/>
                  </a:lnTo>
                  <a:lnTo>
                    <a:pt x="464" y="496"/>
                  </a:lnTo>
                  <a:lnTo>
                    <a:pt x="476" y="492"/>
                  </a:lnTo>
                  <a:lnTo>
                    <a:pt x="472" y="470"/>
                  </a:lnTo>
                  <a:lnTo>
                    <a:pt x="484" y="470"/>
                  </a:lnTo>
                  <a:lnTo>
                    <a:pt x="484" y="458"/>
                  </a:lnTo>
                  <a:lnTo>
                    <a:pt x="476" y="438"/>
                  </a:lnTo>
                  <a:lnTo>
                    <a:pt x="476" y="436"/>
                  </a:lnTo>
                  <a:lnTo>
                    <a:pt x="478" y="420"/>
                  </a:lnTo>
                  <a:lnTo>
                    <a:pt x="478" y="418"/>
                  </a:lnTo>
                  <a:lnTo>
                    <a:pt x="480" y="418"/>
                  </a:lnTo>
                  <a:lnTo>
                    <a:pt x="488" y="406"/>
                  </a:lnTo>
                  <a:lnTo>
                    <a:pt x="490" y="406"/>
                  </a:lnTo>
                  <a:lnTo>
                    <a:pt x="492" y="406"/>
                  </a:lnTo>
                  <a:lnTo>
                    <a:pt x="514" y="410"/>
                  </a:lnTo>
                  <a:lnTo>
                    <a:pt x="532" y="414"/>
                  </a:lnTo>
                  <a:lnTo>
                    <a:pt x="548" y="410"/>
                  </a:lnTo>
                  <a:lnTo>
                    <a:pt x="556" y="426"/>
                  </a:lnTo>
                  <a:lnTo>
                    <a:pt x="556" y="428"/>
                  </a:lnTo>
                  <a:lnTo>
                    <a:pt x="556" y="440"/>
                  </a:lnTo>
                  <a:lnTo>
                    <a:pt x="560" y="452"/>
                  </a:lnTo>
                  <a:lnTo>
                    <a:pt x="562" y="458"/>
                  </a:lnTo>
                  <a:lnTo>
                    <a:pt x="568" y="462"/>
                  </a:lnTo>
                  <a:lnTo>
                    <a:pt x="578" y="464"/>
                  </a:lnTo>
                  <a:lnTo>
                    <a:pt x="580" y="468"/>
                  </a:lnTo>
                  <a:lnTo>
                    <a:pt x="580" y="470"/>
                  </a:lnTo>
                  <a:lnTo>
                    <a:pt x="584" y="478"/>
                  </a:lnTo>
                  <a:lnTo>
                    <a:pt x="590" y="486"/>
                  </a:lnTo>
                  <a:lnTo>
                    <a:pt x="598" y="498"/>
                  </a:lnTo>
                  <a:lnTo>
                    <a:pt x="602" y="506"/>
                  </a:lnTo>
                  <a:lnTo>
                    <a:pt x="610" y="506"/>
                  </a:lnTo>
                  <a:lnTo>
                    <a:pt x="624" y="494"/>
                  </a:lnTo>
                  <a:lnTo>
                    <a:pt x="632" y="512"/>
                  </a:lnTo>
                  <a:lnTo>
                    <a:pt x="650" y="518"/>
                  </a:lnTo>
                  <a:lnTo>
                    <a:pt x="652" y="518"/>
                  </a:lnTo>
                  <a:lnTo>
                    <a:pt x="660" y="534"/>
                  </a:lnTo>
                  <a:lnTo>
                    <a:pt x="664" y="538"/>
                  </a:lnTo>
                  <a:lnTo>
                    <a:pt x="664" y="522"/>
                  </a:lnTo>
                  <a:lnTo>
                    <a:pt x="664" y="518"/>
                  </a:lnTo>
                  <a:lnTo>
                    <a:pt x="700" y="518"/>
                  </a:lnTo>
                  <a:lnTo>
                    <a:pt x="700" y="514"/>
                  </a:lnTo>
                  <a:lnTo>
                    <a:pt x="702" y="512"/>
                  </a:lnTo>
                  <a:lnTo>
                    <a:pt x="700" y="508"/>
                  </a:lnTo>
                  <a:lnTo>
                    <a:pt x="698" y="500"/>
                  </a:lnTo>
                  <a:lnTo>
                    <a:pt x="696" y="494"/>
                  </a:lnTo>
                  <a:lnTo>
                    <a:pt x="696" y="486"/>
                  </a:lnTo>
                  <a:lnTo>
                    <a:pt x="698" y="480"/>
                  </a:lnTo>
                  <a:lnTo>
                    <a:pt x="702" y="478"/>
                  </a:lnTo>
                  <a:lnTo>
                    <a:pt x="706" y="478"/>
                  </a:lnTo>
                  <a:lnTo>
                    <a:pt x="720" y="482"/>
                  </a:lnTo>
                  <a:lnTo>
                    <a:pt x="722" y="472"/>
                  </a:lnTo>
                  <a:lnTo>
                    <a:pt x="696" y="460"/>
                  </a:lnTo>
                  <a:lnTo>
                    <a:pt x="694" y="460"/>
                  </a:lnTo>
                  <a:lnTo>
                    <a:pt x="692" y="458"/>
                  </a:lnTo>
                  <a:lnTo>
                    <a:pt x="688" y="426"/>
                  </a:lnTo>
                  <a:lnTo>
                    <a:pt x="690" y="406"/>
                  </a:lnTo>
                  <a:lnTo>
                    <a:pt x="690" y="402"/>
                  </a:lnTo>
                  <a:lnTo>
                    <a:pt x="734" y="406"/>
                  </a:lnTo>
                  <a:lnTo>
                    <a:pt x="744" y="396"/>
                  </a:lnTo>
                  <a:lnTo>
                    <a:pt x="746" y="392"/>
                  </a:lnTo>
                  <a:lnTo>
                    <a:pt x="744" y="388"/>
                  </a:lnTo>
                  <a:lnTo>
                    <a:pt x="732" y="382"/>
                  </a:lnTo>
                  <a:lnTo>
                    <a:pt x="730" y="378"/>
                  </a:lnTo>
                  <a:lnTo>
                    <a:pt x="728" y="374"/>
                  </a:lnTo>
                  <a:lnTo>
                    <a:pt x="730" y="372"/>
                  </a:lnTo>
                  <a:lnTo>
                    <a:pt x="732" y="368"/>
                  </a:lnTo>
                  <a:lnTo>
                    <a:pt x="752" y="350"/>
                  </a:lnTo>
                  <a:lnTo>
                    <a:pt x="772" y="348"/>
                  </a:lnTo>
                  <a:lnTo>
                    <a:pt x="782" y="330"/>
                  </a:lnTo>
                  <a:lnTo>
                    <a:pt x="782" y="314"/>
                  </a:lnTo>
                  <a:lnTo>
                    <a:pt x="796" y="310"/>
                  </a:lnTo>
                  <a:lnTo>
                    <a:pt x="804" y="290"/>
                  </a:lnTo>
                  <a:lnTo>
                    <a:pt x="812" y="276"/>
                  </a:lnTo>
                  <a:lnTo>
                    <a:pt x="800" y="256"/>
                  </a:lnTo>
                  <a:lnTo>
                    <a:pt x="800" y="254"/>
                  </a:lnTo>
                  <a:lnTo>
                    <a:pt x="792" y="228"/>
                  </a:lnTo>
                  <a:lnTo>
                    <a:pt x="792" y="226"/>
                  </a:lnTo>
                  <a:lnTo>
                    <a:pt x="788" y="198"/>
                  </a:lnTo>
                  <a:lnTo>
                    <a:pt x="778" y="182"/>
                  </a:lnTo>
                  <a:lnTo>
                    <a:pt x="764" y="168"/>
                  </a:lnTo>
                  <a:lnTo>
                    <a:pt x="764" y="166"/>
                  </a:lnTo>
                  <a:lnTo>
                    <a:pt x="762" y="150"/>
                  </a:lnTo>
                  <a:lnTo>
                    <a:pt x="736" y="158"/>
                  </a:lnTo>
                  <a:lnTo>
                    <a:pt x="724" y="144"/>
                  </a:lnTo>
                  <a:lnTo>
                    <a:pt x="688" y="118"/>
                  </a:lnTo>
                  <a:lnTo>
                    <a:pt x="686" y="118"/>
                  </a:lnTo>
                  <a:lnTo>
                    <a:pt x="672" y="100"/>
                  </a:lnTo>
                  <a:lnTo>
                    <a:pt x="664" y="94"/>
                  </a:lnTo>
                  <a:lnTo>
                    <a:pt x="658" y="102"/>
                  </a:lnTo>
                  <a:lnTo>
                    <a:pt x="658" y="104"/>
                  </a:lnTo>
                  <a:lnTo>
                    <a:pt x="658" y="106"/>
                  </a:lnTo>
                  <a:lnTo>
                    <a:pt x="656" y="106"/>
                  </a:lnTo>
                  <a:lnTo>
                    <a:pt x="644" y="106"/>
                  </a:lnTo>
                  <a:lnTo>
                    <a:pt x="642" y="106"/>
                  </a:lnTo>
                  <a:lnTo>
                    <a:pt x="616" y="78"/>
                  </a:lnTo>
                  <a:lnTo>
                    <a:pt x="606" y="72"/>
                  </a:lnTo>
                  <a:lnTo>
                    <a:pt x="596" y="62"/>
                  </a:lnTo>
                  <a:lnTo>
                    <a:pt x="584" y="54"/>
                  </a:lnTo>
                  <a:lnTo>
                    <a:pt x="584" y="52"/>
                  </a:lnTo>
                  <a:lnTo>
                    <a:pt x="570" y="44"/>
                  </a:lnTo>
                  <a:lnTo>
                    <a:pt x="562" y="50"/>
                  </a:lnTo>
                  <a:lnTo>
                    <a:pt x="560" y="52"/>
                  </a:lnTo>
                  <a:lnTo>
                    <a:pt x="552" y="50"/>
                  </a:lnTo>
                  <a:lnTo>
                    <a:pt x="544" y="54"/>
                  </a:lnTo>
                  <a:lnTo>
                    <a:pt x="542" y="56"/>
                  </a:lnTo>
                  <a:lnTo>
                    <a:pt x="530" y="58"/>
                  </a:lnTo>
                  <a:lnTo>
                    <a:pt x="484" y="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四川"/>
            <p:cNvSpPr/>
            <p:nvPr/>
          </p:nvSpPr>
          <p:spPr>
            <a:xfrm>
              <a:off x="2121840" y="2653920"/>
              <a:ext cx="646560" cy="568080"/>
            </a:xfrm>
            <a:custGeom>
              <a:avLst/>
              <a:gdLst>
                <a:gd name="textAreaLeft" fmla="*/ 0 w 646560"/>
                <a:gd name="textAreaRight" fmla="*/ 646560 w 64656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西藏"/>
            <p:cNvSpPr/>
            <p:nvPr/>
          </p:nvSpPr>
          <p:spPr>
            <a:xfrm>
              <a:off x="1047240" y="2423520"/>
              <a:ext cx="1157040" cy="704520"/>
            </a:xfrm>
            <a:custGeom>
              <a:avLst/>
              <a:gdLst>
                <a:gd name="textAreaLeft" fmla="*/ 0 w 1157040"/>
                <a:gd name="textAreaRight" fmla="*/ 1157400 w 1157040"/>
                <a:gd name="textAreaTop" fmla="*/ 0 h 704520"/>
                <a:gd name="textAreaBottom" fmla="*/ 704520 h 704520"/>
              </a:gdLst>
              <a:ahLst/>
              <a:rect l="textAreaLeft" t="textAreaTop" r="textAreaRight" b="textAreaBottom"/>
              <a:pathLst>
                <a:path w="1256" h="764">
                  <a:moveTo>
                    <a:pt x="152" y="4"/>
                  </a:moveTo>
                  <a:lnTo>
                    <a:pt x="152" y="4"/>
                  </a:lnTo>
                  <a:lnTo>
                    <a:pt x="146" y="14"/>
                  </a:lnTo>
                  <a:lnTo>
                    <a:pt x="138" y="22"/>
                  </a:lnTo>
                  <a:lnTo>
                    <a:pt x="132" y="26"/>
                  </a:lnTo>
                  <a:lnTo>
                    <a:pt x="132" y="32"/>
                  </a:lnTo>
                  <a:lnTo>
                    <a:pt x="132" y="36"/>
                  </a:lnTo>
                  <a:lnTo>
                    <a:pt x="130" y="44"/>
                  </a:lnTo>
                  <a:lnTo>
                    <a:pt x="122" y="56"/>
                  </a:lnTo>
                  <a:lnTo>
                    <a:pt x="122" y="60"/>
                  </a:lnTo>
                  <a:lnTo>
                    <a:pt x="118" y="62"/>
                  </a:lnTo>
                  <a:lnTo>
                    <a:pt x="112" y="64"/>
                  </a:lnTo>
                  <a:lnTo>
                    <a:pt x="66" y="58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48" y="92"/>
                  </a:lnTo>
                  <a:lnTo>
                    <a:pt x="42" y="100"/>
                  </a:lnTo>
                  <a:lnTo>
                    <a:pt x="40" y="108"/>
                  </a:lnTo>
                  <a:lnTo>
                    <a:pt x="42" y="112"/>
                  </a:lnTo>
                  <a:lnTo>
                    <a:pt x="44" y="122"/>
                  </a:lnTo>
                  <a:lnTo>
                    <a:pt x="56" y="150"/>
                  </a:lnTo>
                  <a:lnTo>
                    <a:pt x="62" y="168"/>
                  </a:lnTo>
                  <a:lnTo>
                    <a:pt x="64" y="174"/>
                  </a:lnTo>
                  <a:lnTo>
                    <a:pt x="64" y="180"/>
                  </a:lnTo>
                  <a:lnTo>
                    <a:pt x="60" y="188"/>
                  </a:lnTo>
                  <a:lnTo>
                    <a:pt x="56" y="196"/>
                  </a:lnTo>
                  <a:lnTo>
                    <a:pt x="42" y="210"/>
                  </a:lnTo>
                  <a:lnTo>
                    <a:pt x="18" y="210"/>
                  </a:lnTo>
                  <a:lnTo>
                    <a:pt x="12" y="184"/>
                  </a:lnTo>
                  <a:lnTo>
                    <a:pt x="6" y="216"/>
                  </a:lnTo>
                  <a:lnTo>
                    <a:pt x="16" y="232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0" y="246"/>
                  </a:lnTo>
                  <a:lnTo>
                    <a:pt x="2" y="262"/>
                  </a:lnTo>
                  <a:lnTo>
                    <a:pt x="0" y="272"/>
                  </a:lnTo>
                  <a:lnTo>
                    <a:pt x="0" y="280"/>
                  </a:lnTo>
                  <a:lnTo>
                    <a:pt x="4" y="290"/>
                  </a:lnTo>
                  <a:lnTo>
                    <a:pt x="10" y="300"/>
                  </a:lnTo>
                  <a:lnTo>
                    <a:pt x="28" y="300"/>
                  </a:lnTo>
                  <a:lnTo>
                    <a:pt x="34" y="302"/>
                  </a:lnTo>
                  <a:lnTo>
                    <a:pt x="42" y="308"/>
                  </a:lnTo>
                  <a:lnTo>
                    <a:pt x="58" y="330"/>
                  </a:lnTo>
                  <a:lnTo>
                    <a:pt x="60" y="332"/>
                  </a:lnTo>
                  <a:lnTo>
                    <a:pt x="62" y="338"/>
                  </a:lnTo>
                  <a:lnTo>
                    <a:pt x="66" y="344"/>
                  </a:lnTo>
                  <a:lnTo>
                    <a:pt x="108" y="384"/>
                  </a:lnTo>
                  <a:lnTo>
                    <a:pt x="128" y="408"/>
                  </a:lnTo>
                  <a:lnTo>
                    <a:pt x="138" y="408"/>
                  </a:lnTo>
                  <a:lnTo>
                    <a:pt x="150" y="386"/>
                  </a:lnTo>
                  <a:lnTo>
                    <a:pt x="152" y="384"/>
                  </a:lnTo>
                  <a:lnTo>
                    <a:pt x="182" y="392"/>
                  </a:lnTo>
                  <a:lnTo>
                    <a:pt x="182" y="394"/>
                  </a:lnTo>
                  <a:lnTo>
                    <a:pt x="186" y="414"/>
                  </a:lnTo>
                  <a:lnTo>
                    <a:pt x="222" y="454"/>
                  </a:lnTo>
                  <a:lnTo>
                    <a:pt x="234" y="460"/>
                  </a:lnTo>
                  <a:lnTo>
                    <a:pt x="240" y="464"/>
                  </a:lnTo>
                  <a:lnTo>
                    <a:pt x="268" y="504"/>
                  </a:lnTo>
                  <a:lnTo>
                    <a:pt x="288" y="500"/>
                  </a:lnTo>
                  <a:lnTo>
                    <a:pt x="290" y="500"/>
                  </a:lnTo>
                  <a:lnTo>
                    <a:pt x="292" y="500"/>
                  </a:lnTo>
                  <a:lnTo>
                    <a:pt x="292" y="502"/>
                  </a:lnTo>
                  <a:lnTo>
                    <a:pt x="294" y="504"/>
                  </a:lnTo>
                  <a:lnTo>
                    <a:pt x="312" y="542"/>
                  </a:lnTo>
                  <a:lnTo>
                    <a:pt x="334" y="556"/>
                  </a:lnTo>
                  <a:lnTo>
                    <a:pt x="352" y="560"/>
                  </a:lnTo>
                  <a:lnTo>
                    <a:pt x="362" y="584"/>
                  </a:lnTo>
                  <a:lnTo>
                    <a:pt x="376" y="584"/>
                  </a:lnTo>
                  <a:lnTo>
                    <a:pt x="376" y="586"/>
                  </a:lnTo>
                  <a:lnTo>
                    <a:pt x="404" y="602"/>
                  </a:lnTo>
                  <a:lnTo>
                    <a:pt x="406" y="604"/>
                  </a:lnTo>
                  <a:lnTo>
                    <a:pt x="426" y="628"/>
                  </a:lnTo>
                  <a:lnTo>
                    <a:pt x="456" y="624"/>
                  </a:lnTo>
                  <a:lnTo>
                    <a:pt x="458" y="624"/>
                  </a:lnTo>
                  <a:lnTo>
                    <a:pt x="470" y="628"/>
                  </a:lnTo>
                  <a:lnTo>
                    <a:pt x="490" y="644"/>
                  </a:lnTo>
                  <a:lnTo>
                    <a:pt x="524" y="648"/>
                  </a:lnTo>
                  <a:lnTo>
                    <a:pt x="544" y="644"/>
                  </a:lnTo>
                  <a:lnTo>
                    <a:pt x="564" y="642"/>
                  </a:lnTo>
                  <a:lnTo>
                    <a:pt x="580" y="642"/>
                  </a:lnTo>
                  <a:lnTo>
                    <a:pt x="590" y="644"/>
                  </a:lnTo>
                  <a:lnTo>
                    <a:pt x="596" y="648"/>
                  </a:lnTo>
                  <a:lnTo>
                    <a:pt x="598" y="654"/>
                  </a:lnTo>
                  <a:lnTo>
                    <a:pt x="598" y="658"/>
                  </a:lnTo>
                  <a:lnTo>
                    <a:pt x="594" y="664"/>
                  </a:lnTo>
                  <a:lnTo>
                    <a:pt x="588" y="670"/>
                  </a:lnTo>
                  <a:lnTo>
                    <a:pt x="580" y="678"/>
                  </a:lnTo>
                  <a:lnTo>
                    <a:pt x="580" y="682"/>
                  </a:lnTo>
                  <a:lnTo>
                    <a:pt x="582" y="686"/>
                  </a:lnTo>
                  <a:lnTo>
                    <a:pt x="586" y="692"/>
                  </a:lnTo>
                  <a:lnTo>
                    <a:pt x="592" y="698"/>
                  </a:lnTo>
                  <a:lnTo>
                    <a:pt x="592" y="700"/>
                  </a:lnTo>
                  <a:lnTo>
                    <a:pt x="598" y="704"/>
                  </a:lnTo>
                  <a:lnTo>
                    <a:pt x="600" y="702"/>
                  </a:lnTo>
                  <a:lnTo>
                    <a:pt x="616" y="676"/>
                  </a:lnTo>
                  <a:lnTo>
                    <a:pt x="628" y="658"/>
                  </a:lnTo>
                  <a:lnTo>
                    <a:pt x="638" y="646"/>
                  </a:lnTo>
                  <a:lnTo>
                    <a:pt x="648" y="640"/>
                  </a:lnTo>
                  <a:lnTo>
                    <a:pt x="654" y="638"/>
                  </a:lnTo>
                  <a:lnTo>
                    <a:pt x="660" y="638"/>
                  </a:lnTo>
                  <a:lnTo>
                    <a:pt x="676" y="644"/>
                  </a:lnTo>
                  <a:lnTo>
                    <a:pt x="698" y="654"/>
                  </a:lnTo>
                  <a:lnTo>
                    <a:pt x="724" y="670"/>
                  </a:lnTo>
                  <a:lnTo>
                    <a:pt x="772" y="678"/>
                  </a:lnTo>
                  <a:lnTo>
                    <a:pt x="772" y="680"/>
                  </a:lnTo>
                  <a:lnTo>
                    <a:pt x="772" y="682"/>
                  </a:lnTo>
                  <a:lnTo>
                    <a:pt x="768" y="704"/>
                  </a:lnTo>
                  <a:lnTo>
                    <a:pt x="792" y="708"/>
                  </a:lnTo>
                  <a:lnTo>
                    <a:pt x="792" y="738"/>
                  </a:lnTo>
                  <a:lnTo>
                    <a:pt x="802" y="754"/>
                  </a:lnTo>
                  <a:lnTo>
                    <a:pt x="808" y="762"/>
                  </a:lnTo>
                  <a:lnTo>
                    <a:pt x="816" y="764"/>
                  </a:lnTo>
                  <a:lnTo>
                    <a:pt x="830" y="764"/>
                  </a:lnTo>
                  <a:lnTo>
                    <a:pt x="880" y="762"/>
                  </a:lnTo>
                  <a:lnTo>
                    <a:pt x="904" y="748"/>
                  </a:lnTo>
                  <a:lnTo>
                    <a:pt x="928" y="716"/>
                  </a:lnTo>
                  <a:lnTo>
                    <a:pt x="956" y="714"/>
                  </a:lnTo>
                  <a:lnTo>
                    <a:pt x="970" y="710"/>
                  </a:lnTo>
                  <a:lnTo>
                    <a:pt x="1022" y="680"/>
                  </a:lnTo>
                  <a:lnTo>
                    <a:pt x="1024" y="680"/>
                  </a:lnTo>
                  <a:lnTo>
                    <a:pt x="1060" y="676"/>
                  </a:lnTo>
                  <a:lnTo>
                    <a:pt x="1070" y="678"/>
                  </a:lnTo>
                  <a:lnTo>
                    <a:pt x="1076" y="680"/>
                  </a:lnTo>
                  <a:lnTo>
                    <a:pt x="1112" y="708"/>
                  </a:lnTo>
                  <a:lnTo>
                    <a:pt x="1122" y="712"/>
                  </a:lnTo>
                  <a:lnTo>
                    <a:pt x="1124" y="714"/>
                  </a:lnTo>
                  <a:lnTo>
                    <a:pt x="1136" y="720"/>
                  </a:lnTo>
                  <a:lnTo>
                    <a:pt x="1138" y="720"/>
                  </a:lnTo>
                  <a:lnTo>
                    <a:pt x="1138" y="718"/>
                  </a:lnTo>
                  <a:lnTo>
                    <a:pt x="1138" y="716"/>
                  </a:lnTo>
                  <a:lnTo>
                    <a:pt x="1144" y="692"/>
                  </a:lnTo>
                  <a:lnTo>
                    <a:pt x="1142" y="682"/>
                  </a:lnTo>
                  <a:lnTo>
                    <a:pt x="1144" y="674"/>
                  </a:lnTo>
                  <a:lnTo>
                    <a:pt x="1148" y="668"/>
                  </a:lnTo>
                  <a:lnTo>
                    <a:pt x="1156" y="666"/>
                  </a:lnTo>
                  <a:lnTo>
                    <a:pt x="1164" y="666"/>
                  </a:lnTo>
                  <a:lnTo>
                    <a:pt x="1172" y="672"/>
                  </a:lnTo>
                  <a:lnTo>
                    <a:pt x="1182" y="682"/>
                  </a:lnTo>
                  <a:lnTo>
                    <a:pt x="1190" y="696"/>
                  </a:lnTo>
                  <a:lnTo>
                    <a:pt x="1192" y="696"/>
                  </a:lnTo>
                  <a:lnTo>
                    <a:pt x="1212" y="688"/>
                  </a:lnTo>
                  <a:lnTo>
                    <a:pt x="1214" y="686"/>
                  </a:lnTo>
                  <a:lnTo>
                    <a:pt x="1216" y="684"/>
                  </a:lnTo>
                  <a:lnTo>
                    <a:pt x="1218" y="680"/>
                  </a:lnTo>
                  <a:lnTo>
                    <a:pt x="1214" y="664"/>
                  </a:lnTo>
                  <a:lnTo>
                    <a:pt x="1214" y="660"/>
                  </a:lnTo>
                  <a:lnTo>
                    <a:pt x="1214" y="656"/>
                  </a:lnTo>
                  <a:lnTo>
                    <a:pt x="1216" y="652"/>
                  </a:lnTo>
                  <a:lnTo>
                    <a:pt x="1220" y="650"/>
                  </a:lnTo>
                  <a:lnTo>
                    <a:pt x="1228" y="644"/>
                  </a:lnTo>
                  <a:lnTo>
                    <a:pt x="1244" y="624"/>
                  </a:lnTo>
                  <a:lnTo>
                    <a:pt x="1256" y="598"/>
                  </a:lnTo>
                  <a:lnTo>
                    <a:pt x="1250" y="586"/>
                  </a:lnTo>
                  <a:lnTo>
                    <a:pt x="1246" y="576"/>
                  </a:lnTo>
                  <a:lnTo>
                    <a:pt x="1246" y="568"/>
                  </a:lnTo>
                  <a:lnTo>
                    <a:pt x="1246" y="562"/>
                  </a:lnTo>
                  <a:lnTo>
                    <a:pt x="1248" y="540"/>
                  </a:lnTo>
                  <a:lnTo>
                    <a:pt x="1244" y="528"/>
                  </a:lnTo>
                  <a:lnTo>
                    <a:pt x="1242" y="518"/>
                  </a:lnTo>
                  <a:lnTo>
                    <a:pt x="1240" y="510"/>
                  </a:lnTo>
                  <a:lnTo>
                    <a:pt x="1232" y="498"/>
                  </a:lnTo>
                  <a:lnTo>
                    <a:pt x="1232" y="496"/>
                  </a:lnTo>
                  <a:lnTo>
                    <a:pt x="1228" y="468"/>
                  </a:lnTo>
                  <a:lnTo>
                    <a:pt x="1228" y="458"/>
                  </a:lnTo>
                  <a:lnTo>
                    <a:pt x="1228" y="448"/>
                  </a:lnTo>
                  <a:lnTo>
                    <a:pt x="1220" y="440"/>
                  </a:lnTo>
                  <a:lnTo>
                    <a:pt x="1214" y="432"/>
                  </a:lnTo>
                  <a:lnTo>
                    <a:pt x="1202" y="416"/>
                  </a:lnTo>
                  <a:lnTo>
                    <a:pt x="1200" y="414"/>
                  </a:lnTo>
                  <a:lnTo>
                    <a:pt x="1200" y="412"/>
                  </a:lnTo>
                  <a:lnTo>
                    <a:pt x="1196" y="392"/>
                  </a:lnTo>
                  <a:lnTo>
                    <a:pt x="1184" y="382"/>
                  </a:lnTo>
                  <a:lnTo>
                    <a:pt x="1184" y="384"/>
                  </a:lnTo>
                  <a:lnTo>
                    <a:pt x="1162" y="364"/>
                  </a:lnTo>
                  <a:lnTo>
                    <a:pt x="1162" y="366"/>
                  </a:lnTo>
                  <a:lnTo>
                    <a:pt x="1164" y="392"/>
                  </a:lnTo>
                  <a:lnTo>
                    <a:pt x="1164" y="394"/>
                  </a:lnTo>
                  <a:lnTo>
                    <a:pt x="1152" y="400"/>
                  </a:lnTo>
                  <a:lnTo>
                    <a:pt x="1152" y="416"/>
                  </a:lnTo>
                  <a:lnTo>
                    <a:pt x="1152" y="418"/>
                  </a:lnTo>
                  <a:lnTo>
                    <a:pt x="1124" y="428"/>
                  </a:lnTo>
                  <a:lnTo>
                    <a:pt x="1114" y="406"/>
                  </a:lnTo>
                  <a:lnTo>
                    <a:pt x="1108" y="404"/>
                  </a:lnTo>
                  <a:lnTo>
                    <a:pt x="1100" y="414"/>
                  </a:lnTo>
                  <a:lnTo>
                    <a:pt x="1094" y="430"/>
                  </a:lnTo>
                  <a:lnTo>
                    <a:pt x="1074" y="436"/>
                  </a:lnTo>
                  <a:lnTo>
                    <a:pt x="1062" y="428"/>
                  </a:lnTo>
                  <a:lnTo>
                    <a:pt x="1046" y="422"/>
                  </a:lnTo>
                  <a:lnTo>
                    <a:pt x="1042" y="400"/>
                  </a:lnTo>
                  <a:lnTo>
                    <a:pt x="1036" y="386"/>
                  </a:lnTo>
                  <a:lnTo>
                    <a:pt x="1026" y="382"/>
                  </a:lnTo>
                  <a:lnTo>
                    <a:pt x="1024" y="380"/>
                  </a:lnTo>
                  <a:lnTo>
                    <a:pt x="1018" y="372"/>
                  </a:lnTo>
                  <a:lnTo>
                    <a:pt x="1010" y="360"/>
                  </a:lnTo>
                  <a:lnTo>
                    <a:pt x="1000" y="344"/>
                  </a:lnTo>
                  <a:lnTo>
                    <a:pt x="990" y="344"/>
                  </a:lnTo>
                  <a:lnTo>
                    <a:pt x="974" y="350"/>
                  </a:lnTo>
                  <a:lnTo>
                    <a:pt x="972" y="352"/>
                  </a:lnTo>
                  <a:lnTo>
                    <a:pt x="932" y="348"/>
                  </a:lnTo>
                  <a:lnTo>
                    <a:pt x="900" y="342"/>
                  </a:lnTo>
                  <a:lnTo>
                    <a:pt x="884" y="332"/>
                  </a:lnTo>
                  <a:lnTo>
                    <a:pt x="860" y="324"/>
                  </a:lnTo>
                  <a:lnTo>
                    <a:pt x="838" y="318"/>
                  </a:lnTo>
                  <a:lnTo>
                    <a:pt x="832" y="314"/>
                  </a:lnTo>
                  <a:lnTo>
                    <a:pt x="828" y="312"/>
                  </a:lnTo>
                  <a:lnTo>
                    <a:pt x="824" y="308"/>
                  </a:lnTo>
                  <a:lnTo>
                    <a:pt x="820" y="308"/>
                  </a:lnTo>
                  <a:lnTo>
                    <a:pt x="804" y="300"/>
                  </a:lnTo>
                  <a:lnTo>
                    <a:pt x="804" y="298"/>
                  </a:lnTo>
                  <a:lnTo>
                    <a:pt x="796" y="290"/>
                  </a:lnTo>
                  <a:lnTo>
                    <a:pt x="794" y="282"/>
                  </a:lnTo>
                  <a:lnTo>
                    <a:pt x="788" y="272"/>
                  </a:lnTo>
                  <a:lnTo>
                    <a:pt x="776" y="268"/>
                  </a:lnTo>
                  <a:lnTo>
                    <a:pt x="772" y="270"/>
                  </a:lnTo>
                  <a:lnTo>
                    <a:pt x="768" y="274"/>
                  </a:lnTo>
                  <a:lnTo>
                    <a:pt x="766" y="276"/>
                  </a:lnTo>
                  <a:lnTo>
                    <a:pt x="760" y="280"/>
                  </a:lnTo>
                  <a:lnTo>
                    <a:pt x="756" y="280"/>
                  </a:lnTo>
                  <a:lnTo>
                    <a:pt x="750" y="282"/>
                  </a:lnTo>
                  <a:lnTo>
                    <a:pt x="746" y="280"/>
                  </a:lnTo>
                  <a:lnTo>
                    <a:pt x="740" y="276"/>
                  </a:lnTo>
                  <a:lnTo>
                    <a:pt x="736" y="272"/>
                  </a:lnTo>
                  <a:lnTo>
                    <a:pt x="720" y="256"/>
                  </a:lnTo>
                  <a:lnTo>
                    <a:pt x="714" y="246"/>
                  </a:lnTo>
                  <a:lnTo>
                    <a:pt x="708" y="238"/>
                  </a:lnTo>
                  <a:lnTo>
                    <a:pt x="704" y="232"/>
                  </a:lnTo>
                  <a:lnTo>
                    <a:pt x="698" y="224"/>
                  </a:lnTo>
                  <a:lnTo>
                    <a:pt x="692" y="216"/>
                  </a:lnTo>
                  <a:lnTo>
                    <a:pt x="690" y="206"/>
                  </a:lnTo>
                  <a:lnTo>
                    <a:pt x="692" y="196"/>
                  </a:lnTo>
                  <a:lnTo>
                    <a:pt x="702" y="178"/>
                  </a:lnTo>
                  <a:lnTo>
                    <a:pt x="708" y="160"/>
                  </a:lnTo>
                  <a:lnTo>
                    <a:pt x="710" y="148"/>
                  </a:lnTo>
                  <a:lnTo>
                    <a:pt x="706" y="128"/>
                  </a:lnTo>
                  <a:lnTo>
                    <a:pt x="694" y="118"/>
                  </a:lnTo>
                  <a:lnTo>
                    <a:pt x="696" y="104"/>
                  </a:lnTo>
                  <a:lnTo>
                    <a:pt x="698" y="96"/>
                  </a:lnTo>
                  <a:lnTo>
                    <a:pt x="700" y="90"/>
                  </a:lnTo>
                  <a:lnTo>
                    <a:pt x="704" y="86"/>
                  </a:lnTo>
                  <a:lnTo>
                    <a:pt x="708" y="84"/>
                  </a:lnTo>
                  <a:lnTo>
                    <a:pt x="712" y="84"/>
                  </a:lnTo>
                  <a:lnTo>
                    <a:pt x="712" y="80"/>
                  </a:lnTo>
                  <a:lnTo>
                    <a:pt x="712" y="78"/>
                  </a:lnTo>
                  <a:lnTo>
                    <a:pt x="712" y="62"/>
                  </a:lnTo>
                  <a:lnTo>
                    <a:pt x="712" y="44"/>
                  </a:lnTo>
                  <a:lnTo>
                    <a:pt x="710" y="42"/>
                  </a:lnTo>
                  <a:lnTo>
                    <a:pt x="708" y="40"/>
                  </a:lnTo>
                  <a:lnTo>
                    <a:pt x="706" y="40"/>
                  </a:lnTo>
                  <a:lnTo>
                    <a:pt x="692" y="30"/>
                  </a:lnTo>
                  <a:lnTo>
                    <a:pt x="680" y="20"/>
                  </a:lnTo>
                  <a:lnTo>
                    <a:pt x="642" y="14"/>
                  </a:lnTo>
                  <a:lnTo>
                    <a:pt x="630" y="4"/>
                  </a:lnTo>
                  <a:lnTo>
                    <a:pt x="608" y="4"/>
                  </a:lnTo>
                  <a:lnTo>
                    <a:pt x="602" y="6"/>
                  </a:lnTo>
                  <a:lnTo>
                    <a:pt x="596" y="10"/>
                  </a:lnTo>
                  <a:lnTo>
                    <a:pt x="594" y="10"/>
                  </a:lnTo>
                  <a:lnTo>
                    <a:pt x="576" y="16"/>
                  </a:lnTo>
                  <a:lnTo>
                    <a:pt x="532" y="16"/>
                  </a:lnTo>
                  <a:lnTo>
                    <a:pt x="524" y="20"/>
                  </a:lnTo>
                  <a:lnTo>
                    <a:pt x="518" y="24"/>
                  </a:lnTo>
                  <a:lnTo>
                    <a:pt x="508" y="28"/>
                  </a:lnTo>
                  <a:lnTo>
                    <a:pt x="492" y="34"/>
                  </a:lnTo>
                  <a:lnTo>
                    <a:pt x="472" y="40"/>
                  </a:lnTo>
                  <a:lnTo>
                    <a:pt x="470" y="40"/>
                  </a:lnTo>
                  <a:lnTo>
                    <a:pt x="440" y="36"/>
                  </a:lnTo>
                  <a:lnTo>
                    <a:pt x="438" y="36"/>
                  </a:lnTo>
                  <a:lnTo>
                    <a:pt x="428" y="36"/>
                  </a:lnTo>
                  <a:lnTo>
                    <a:pt x="410" y="40"/>
                  </a:lnTo>
                  <a:lnTo>
                    <a:pt x="374" y="44"/>
                  </a:lnTo>
                  <a:lnTo>
                    <a:pt x="372" y="44"/>
                  </a:lnTo>
                  <a:lnTo>
                    <a:pt x="356" y="36"/>
                  </a:lnTo>
                  <a:lnTo>
                    <a:pt x="340" y="36"/>
                  </a:lnTo>
                  <a:lnTo>
                    <a:pt x="330" y="32"/>
                  </a:lnTo>
                  <a:lnTo>
                    <a:pt x="320" y="20"/>
                  </a:lnTo>
                  <a:lnTo>
                    <a:pt x="318" y="20"/>
                  </a:lnTo>
                  <a:lnTo>
                    <a:pt x="316" y="12"/>
                  </a:lnTo>
                  <a:lnTo>
                    <a:pt x="314" y="8"/>
                  </a:lnTo>
                  <a:lnTo>
                    <a:pt x="310" y="4"/>
                  </a:lnTo>
                  <a:lnTo>
                    <a:pt x="302" y="0"/>
                  </a:lnTo>
                  <a:lnTo>
                    <a:pt x="296" y="8"/>
                  </a:lnTo>
                  <a:lnTo>
                    <a:pt x="270" y="20"/>
                  </a:lnTo>
                  <a:lnTo>
                    <a:pt x="268" y="20"/>
                  </a:lnTo>
                  <a:lnTo>
                    <a:pt x="236" y="22"/>
                  </a:lnTo>
                  <a:lnTo>
                    <a:pt x="226" y="20"/>
                  </a:lnTo>
                  <a:lnTo>
                    <a:pt x="210" y="16"/>
                  </a:lnTo>
                  <a:lnTo>
                    <a:pt x="184" y="12"/>
                  </a:lnTo>
                  <a:lnTo>
                    <a:pt x="182" y="12"/>
                  </a:lnTo>
                  <a:lnTo>
                    <a:pt x="166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云南"/>
            <p:cNvSpPr/>
            <p:nvPr/>
          </p:nvSpPr>
          <p:spPr>
            <a:xfrm>
              <a:off x="2101320" y="3009960"/>
              <a:ext cx="523080" cy="54576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45760"/>
                <a:gd name="textAreaBottom" fmla="*/ 546120 h 545760"/>
              </a:gdLst>
              <a:ahLst/>
              <a:rect l="textAreaLeft" t="textAreaTop" r="textAreaRight" b="textAreaBottom"/>
              <a:pathLst>
                <a:path w="568" h="592">
                  <a:moveTo>
                    <a:pt x="4" y="364"/>
                  </a:moveTo>
                  <a:lnTo>
                    <a:pt x="0" y="374"/>
                  </a:lnTo>
                  <a:lnTo>
                    <a:pt x="10" y="372"/>
                  </a:lnTo>
                  <a:lnTo>
                    <a:pt x="18" y="366"/>
                  </a:lnTo>
                  <a:lnTo>
                    <a:pt x="20" y="364"/>
                  </a:lnTo>
                  <a:lnTo>
                    <a:pt x="52" y="360"/>
                  </a:lnTo>
                  <a:lnTo>
                    <a:pt x="74" y="350"/>
                  </a:lnTo>
                  <a:lnTo>
                    <a:pt x="82" y="362"/>
                  </a:lnTo>
                  <a:lnTo>
                    <a:pt x="84" y="362"/>
                  </a:lnTo>
                  <a:lnTo>
                    <a:pt x="74" y="378"/>
                  </a:lnTo>
                  <a:lnTo>
                    <a:pt x="84" y="388"/>
                  </a:lnTo>
                  <a:lnTo>
                    <a:pt x="84" y="390"/>
                  </a:lnTo>
                  <a:lnTo>
                    <a:pt x="84" y="392"/>
                  </a:lnTo>
                  <a:lnTo>
                    <a:pt x="76" y="426"/>
                  </a:lnTo>
                  <a:lnTo>
                    <a:pt x="98" y="440"/>
                  </a:lnTo>
                  <a:lnTo>
                    <a:pt x="136" y="442"/>
                  </a:lnTo>
                  <a:lnTo>
                    <a:pt x="130" y="450"/>
                  </a:lnTo>
                  <a:lnTo>
                    <a:pt x="104" y="486"/>
                  </a:lnTo>
                  <a:lnTo>
                    <a:pt x="98" y="496"/>
                  </a:lnTo>
                  <a:lnTo>
                    <a:pt x="96" y="502"/>
                  </a:lnTo>
                  <a:lnTo>
                    <a:pt x="110" y="506"/>
                  </a:lnTo>
                  <a:lnTo>
                    <a:pt x="122" y="508"/>
                  </a:lnTo>
                  <a:lnTo>
                    <a:pt x="132" y="510"/>
                  </a:lnTo>
                  <a:lnTo>
                    <a:pt x="140" y="516"/>
                  </a:lnTo>
                  <a:lnTo>
                    <a:pt x="144" y="520"/>
                  </a:lnTo>
                  <a:lnTo>
                    <a:pt x="152" y="534"/>
                  </a:lnTo>
                  <a:lnTo>
                    <a:pt x="158" y="550"/>
                  </a:lnTo>
                  <a:lnTo>
                    <a:pt x="180" y="562"/>
                  </a:lnTo>
                  <a:lnTo>
                    <a:pt x="192" y="564"/>
                  </a:lnTo>
                  <a:lnTo>
                    <a:pt x="220" y="540"/>
                  </a:lnTo>
                  <a:lnTo>
                    <a:pt x="236" y="562"/>
                  </a:lnTo>
                  <a:lnTo>
                    <a:pt x="236" y="564"/>
                  </a:lnTo>
                  <a:lnTo>
                    <a:pt x="240" y="584"/>
                  </a:lnTo>
                  <a:lnTo>
                    <a:pt x="252" y="586"/>
                  </a:lnTo>
                  <a:lnTo>
                    <a:pt x="272" y="592"/>
                  </a:lnTo>
                  <a:lnTo>
                    <a:pt x="276" y="592"/>
                  </a:lnTo>
                  <a:lnTo>
                    <a:pt x="276" y="590"/>
                  </a:lnTo>
                  <a:lnTo>
                    <a:pt x="272" y="570"/>
                  </a:lnTo>
                  <a:lnTo>
                    <a:pt x="272" y="568"/>
                  </a:lnTo>
                  <a:lnTo>
                    <a:pt x="262" y="522"/>
                  </a:lnTo>
                  <a:lnTo>
                    <a:pt x="262" y="520"/>
                  </a:lnTo>
                  <a:lnTo>
                    <a:pt x="268" y="488"/>
                  </a:lnTo>
                  <a:lnTo>
                    <a:pt x="270" y="488"/>
                  </a:lnTo>
                  <a:lnTo>
                    <a:pt x="272" y="488"/>
                  </a:lnTo>
                  <a:lnTo>
                    <a:pt x="294" y="490"/>
                  </a:lnTo>
                  <a:lnTo>
                    <a:pt x="320" y="470"/>
                  </a:lnTo>
                  <a:lnTo>
                    <a:pt x="324" y="472"/>
                  </a:lnTo>
                  <a:lnTo>
                    <a:pt x="342" y="486"/>
                  </a:lnTo>
                  <a:lnTo>
                    <a:pt x="352" y="498"/>
                  </a:lnTo>
                  <a:lnTo>
                    <a:pt x="362" y="490"/>
                  </a:lnTo>
                  <a:lnTo>
                    <a:pt x="378" y="474"/>
                  </a:lnTo>
                  <a:lnTo>
                    <a:pt x="378" y="472"/>
                  </a:lnTo>
                  <a:lnTo>
                    <a:pt x="380" y="472"/>
                  </a:lnTo>
                  <a:lnTo>
                    <a:pt x="420" y="482"/>
                  </a:lnTo>
                  <a:lnTo>
                    <a:pt x="438" y="468"/>
                  </a:lnTo>
                  <a:lnTo>
                    <a:pt x="438" y="466"/>
                  </a:lnTo>
                  <a:lnTo>
                    <a:pt x="440" y="466"/>
                  </a:lnTo>
                  <a:lnTo>
                    <a:pt x="458" y="470"/>
                  </a:lnTo>
                  <a:lnTo>
                    <a:pt x="512" y="422"/>
                  </a:lnTo>
                  <a:lnTo>
                    <a:pt x="528" y="426"/>
                  </a:lnTo>
                  <a:lnTo>
                    <a:pt x="530" y="428"/>
                  </a:lnTo>
                  <a:lnTo>
                    <a:pt x="532" y="428"/>
                  </a:lnTo>
                  <a:lnTo>
                    <a:pt x="536" y="436"/>
                  </a:lnTo>
                  <a:lnTo>
                    <a:pt x="540" y="432"/>
                  </a:lnTo>
                  <a:lnTo>
                    <a:pt x="540" y="430"/>
                  </a:lnTo>
                  <a:lnTo>
                    <a:pt x="556" y="422"/>
                  </a:lnTo>
                  <a:lnTo>
                    <a:pt x="568" y="410"/>
                  </a:lnTo>
                  <a:lnTo>
                    <a:pt x="566" y="386"/>
                  </a:lnTo>
                  <a:lnTo>
                    <a:pt x="564" y="382"/>
                  </a:lnTo>
                  <a:lnTo>
                    <a:pt x="548" y="388"/>
                  </a:lnTo>
                  <a:lnTo>
                    <a:pt x="542" y="392"/>
                  </a:lnTo>
                  <a:lnTo>
                    <a:pt x="534" y="392"/>
                  </a:lnTo>
                  <a:lnTo>
                    <a:pt x="516" y="392"/>
                  </a:lnTo>
                  <a:lnTo>
                    <a:pt x="510" y="390"/>
                  </a:lnTo>
                  <a:lnTo>
                    <a:pt x="504" y="386"/>
                  </a:lnTo>
                  <a:lnTo>
                    <a:pt x="504" y="360"/>
                  </a:lnTo>
                  <a:lnTo>
                    <a:pt x="496" y="358"/>
                  </a:lnTo>
                  <a:lnTo>
                    <a:pt x="492" y="356"/>
                  </a:lnTo>
                  <a:lnTo>
                    <a:pt x="488" y="358"/>
                  </a:lnTo>
                  <a:lnTo>
                    <a:pt x="484" y="360"/>
                  </a:lnTo>
                  <a:lnTo>
                    <a:pt x="472" y="364"/>
                  </a:lnTo>
                  <a:lnTo>
                    <a:pt x="468" y="364"/>
                  </a:lnTo>
                  <a:lnTo>
                    <a:pt x="468" y="362"/>
                  </a:lnTo>
                  <a:lnTo>
                    <a:pt x="462" y="350"/>
                  </a:lnTo>
                  <a:lnTo>
                    <a:pt x="460" y="340"/>
                  </a:lnTo>
                  <a:lnTo>
                    <a:pt x="468" y="310"/>
                  </a:lnTo>
                  <a:lnTo>
                    <a:pt x="468" y="308"/>
                  </a:lnTo>
                  <a:lnTo>
                    <a:pt x="476" y="294"/>
                  </a:lnTo>
                  <a:lnTo>
                    <a:pt x="452" y="274"/>
                  </a:lnTo>
                  <a:lnTo>
                    <a:pt x="452" y="272"/>
                  </a:lnTo>
                  <a:lnTo>
                    <a:pt x="452" y="248"/>
                  </a:lnTo>
                  <a:lnTo>
                    <a:pt x="464" y="212"/>
                  </a:lnTo>
                  <a:lnTo>
                    <a:pt x="456" y="192"/>
                  </a:lnTo>
                  <a:lnTo>
                    <a:pt x="450" y="190"/>
                  </a:lnTo>
                  <a:lnTo>
                    <a:pt x="440" y="190"/>
                  </a:lnTo>
                  <a:lnTo>
                    <a:pt x="432" y="204"/>
                  </a:lnTo>
                  <a:lnTo>
                    <a:pt x="420" y="196"/>
                  </a:lnTo>
                  <a:lnTo>
                    <a:pt x="410" y="190"/>
                  </a:lnTo>
                  <a:lnTo>
                    <a:pt x="400" y="168"/>
                  </a:lnTo>
                  <a:lnTo>
                    <a:pt x="398" y="152"/>
                  </a:lnTo>
                  <a:lnTo>
                    <a:pt x="398" y="150"/>
                  </a:lnTo>
                  <a:lnTo>
                    <a:pt x="396" y="148"/>
                  </a:lnTo>
                  <a:lnTo>
                    <a:pt x="400" y="148"/>
                  </a:lnTo>
                  <a:lnTo>
                    <a:pt x="410" y="132"/>
                  </a:lnTo>
                  <a:lnTo>
                    <a:pt x="412" y="132"/>
                  </a:lnTo>
                  <a:lnTo>
                    <a:pt x="420" y="130"/>
                  </a:lnTo>
                  <a:lnTo>
                    <a:pt x="430" y="128"/>
                  </a:lnTo>
                  <a:lnTo>
                    <a:pt x="472" y="126"/>
                  </a:lnTo>
                  <a:lnTo>
                    <a:pt x="478" y="128"/>
                  </a:lnTo>
                  <a:lnTo>
                    <a:pt x="480" y="128"/>
                  </a:lnTo>
                  <a:lnTo>
                    <a:pt x="486" y="132"/>
                  </a:lnTo>
                  <a:lnTo>
                    <a:pt x="496" y="126"/>
                  </a:lnTo>
                  <a:lnTo>
                    <a:pt x="506" y="120"/>
                  </a:lnTo>
                  <a:lnTo>
                    <a:pt x="512" y="112"/>
                  </a:lnTo>
                  <a:lnTo>
                    <a:pt x="512" y="108"/>
                  </a:lnTo>
                  <a:lnTo>
                    <a:pt x="512" y="90"/>
                  </a:lnTo>
                  <a:lnTo>
                    <a:pt x="502" y="88"/>
                  </a:lnTo>
                  <a:lnTo>
                    <a:pt x="486" y="94"/>
                  </a:lnTo>
                  <a:lnTo>
                    <a:pt x="478" y="100"/>
                  </a:lnTo>
                  <a:lnTo>
                    <a:pt x="474" y="102"/>
                  </a:lnTo>
                  <a:lnTo>
                    <a:pt x="470" y="104"/>
                  </a:lnTo>
                  <a:lnTo>
                    <a:pt x="466" y="102"/>
                  </a:lnTo>
                  <a:lnTo>
                    <a:pt x="462" y="100"/>
                  </a:lnTo>
                  <a:lnTo>
                    <a:pt x="454" y="90"/>
                  </a:lnTo>
                  <a:lnTo>
                    <a:pt x="454" y="88"/>
                  </a:lnTo>
                  <a:lnTo>
                    <a:pt x="452" y="78"/>
                  </a:lnTo>
                  <a:lnTo>
                    <a:pt x="452" y="76"/>
                  </a:lnTo>
                  <a:lnTo>
                    <a:pt x="454" y="66"/>
                  </a:lnTo>
                  <a:lnTo>
                    <a:pt x="444" y="44"/>
                  </a:lnTo>
                  <a:lnTo>
                    <a:pt x="428" y="48"/>
                  </a:lnTo>
                  <a:lnTo>
                    <a:pt x="420" y="56"/>
                  </a:lnTo>
                  <a:lnTo>
                    <a:pt x="424" y="80"/>
                  </a:lnTo>
                  <a:lnTo>
                    <a:pt x="396" y="68"/>
                  </a:lnTo>
                  <a:lnTo>
                    <a:pt x="404" y="82"/>
                  </a:lnTo>
                  <a:lnTo>
                    <a:pt x="404" y="84"/>
                  </a:lnTo>
                  <a:lnTo>
                    <a:pt x="402" y="100"/>
                  </a:lnTo>
                  <a:lnTo>
                    <a:pt x="402" y="102"/>
                  </a:lnTo>
                  <a:lnTo>
                    <a:pt x="400" y="102"/>
                  </a:lnTo>
                  <a:lnTo>
                    <a:pt x="386" y="124"/>
                  </a:lnTo>
                  <a:lnTo>
                    <a:pt x="360" y="138"/>
                  </a:lnTo>
                  <a:lnTo>
                    <a:pt x="358" y="152"/>
                  </a:lnTo>
                  <a:lnTo>
                    <a:pt x="360" y="160"/>
                  </a:lnTo>
                  <a:lnTo>
                    <a:pt x="364" y="170"/>
                  </a:lnTo>
                  <a:lnTo>
                    <a:pt x="366" y="170"/>
                  </a:lnTo>
                  <a:lnTo>
                    <a:pt x="366" y="172"/>
                  </a:lnTo>
                  <a:lnTo>
                    <a:pt x="368" y="192"/>
                  </a:lnTo>
                  <a:lnTo>
                    <a:pt x="368" y="194"/>
                  </a:lnTo>
                  <a:lnTo>
                    <a:pt x="366" y="196"/>
                  </a:lnTo>
                  <a:lnTo>
                    <a:pt x="356" y="208"/>
                  </a:lnTo>
                  <a:lnTo>
                    <a:pt x="348" y="214"/>
                  </a:lnTo>
                  <a:lnTo>
                    <a:pt x="346" y="214"/>
                  </a:lnTo>
                  <a:lnTo>
                    <a:pt x="344" y="214"/>
                  </a:lnTo>
                  <a:lnTo>
                    <a:pt x="326" y="210"/>
                  </a:lnTo>
                  <a:lnTo>
                    <a:pt x="322" y="210"/>
                  </a:lnTo>
                  <a:lnTo>
                    <a:pt x="316" y="214"/>
                  </a:lnTo>
                  <a:lnTo>
                    <a:pt x="308" y="224"/>
                  </a:lnTo>
                  <a:lnTo>
                    <a:pt x="300" y="232"/>
                  </a:lnTo>
                  <a:lnTo>
                    <a:pt x="298" y="236"/>
                  </a:lnTo>
                  <a:lnTo>
                    <a:pt x="294" y="238"/>
                  </a:lnTo>
                  <a:lnTo>
                    <a:pt x="288" y="240"/>
                  </a:lnTo>
                  <a:lnTo>
                    <a:pt x="282" y="238"/>
                  </a:lnTo>
                  <a:lnTo>
                    <a:pt x="280" y="238"/>
                  </a:lnTo>
                  <a:lnTo>
                    <a:pt x="278" y="234"/>
                  </a:lnTo>
                  <a:lnTo>
                    <a:pt x="276" y="230"/>
                  </a:lnTo>
                  <a:lnTo>
                    <a:pt x="276" y="224"/>
                  </a:lnTo>
                  <a:lnTo>
                    <a:pt x="276" y="220"/>
                  </a:lnTo>
                  <a:lnTo>
                    <a:pt x="276" y="214"/>
                  </a:lnTo>
                  <a:lnTo>
                    <a:pt x="272" y="218"/>
                  </a:lnTo>
                  <a:lnTo>
                    <a:pt x="270" y="220"/>
                  </a:lnTo>
                  <a:lnTo>
                    <a:pt x="264" y="222"/>
                  </a:lnTo>
                  <a:lnTo>
                    <a:pt x="260" y="218"/>
                  </a:lnTo>
                  <a:lnTo>
                    <a:pt x="258" y="212"/>
                  </a:lnTo>
                  <a:lnTo>
                    <a:pt x="256" y="192"/>
                  </a:lnTo>
                  <a:lnTo>
                    <a:pt x="252" y="176"/>
                  </a:lnTo>
                  <a:lnTo>
                    <a:pt x="244" y="168"/>
                  </a:lnTo>
                  <a:lnTo>
                    <a:pt x="244" y="166"/>
                  </a:lnTo>
                  <a:lnTo>
                    <a:pt x="226" y="128"/>
                  </a:lnTo>
                  <a:lnTo>
                    <a:pt x="220" y="116"/>
                  </a:lnTo>
                  <a:lnTo>
                    <a:pt x="220" y="114"/>
                  </a:lnTo>
                  <a:lnTo>
                    <a:pt x="216" y="94"/>
                  </a:lnTo>
                  <a:lnTo>
                    <a:pt x="214" y="90"/>
                  </a:lnTo>
                  <a:lnTo>
                    <a:pt x="212" y="92"/>
                  </a:lnTo>
                  <a:lnTo>
                    <a:pt x="204" y="100"/>
                  </a:lnTo>
                  <a:lnTo>
                    <a:pt x="200" y="104"/>
                  </a:lnTo>
                  <a:lnTo>
                    <a:pt x="196" y="102"/>
                  </a:lnTo>
                  <a:lnTo>
                    <a:pt x="188" y="96"/>
                  </a:lnTo>
                  <a:lnTo>
                    <a:pt x="176" y="90"/>
                  </a:lnTo>
                  <a:lnTo>
                    <a:pt x="174" y="88"/>
                  </a:lnTo>
                  <a:lnTo>
                    <a:pt x="172" y="88"/>
                  </a:lnTo>
                  <a:lnTo>
                    <a:pt x="172" y="86"/>
                  </a:lnTo>
                  <a:lnTo>
                    <a:pt x="172" y="70"/>
                  </a:lnTo>
                  <a:lnTo>
                    <a:pt x="168" y="58"/>
                  </a:lnTo>
                  <a:lnTo>
                    <a:pt x="162" y="42"/>
                  </a:lnTo>
                  <a:lnTo>
                    <a:pt x="156" y="42"/>
                  </a:lnTo>
                  <a:lnTo>
                    <a:pt x="156" y="50"/>
                  </a:lnTo>
                  <a:lnTo>
                    <a:pt x="154" y="58"/>
                  </a:lnTo>
                  <a:lnTo>
                    <a:pt x="150" y="64"/>
                  </a:lnTo>
                  <a:lnTo>
                    <a:pt x="144" y="70"/>
                  </a:lnTo>
                  <a:lnTo>
                    <a:pt x="142" y="78"/>
                  </a:lnTo>
                  <a:lnTo>
                    <a:pt x="138" y="82"/>
                  </a:lnTo>
                  <a:lnTo>
                    <a:pt x="134" y="86"/>
                  </a:lnTo>
                  <a:lnTo>
                    <a:pt x="130" y="86"/>
                  </a:lnTo>
                  <a:lnTo>
                    <a:pt x="128" y="86"/>
                  </a:lnTo>
                  <a:lnTo>
                    <a:pt x="124" y="84"/>
                  </a:lnTo>
                  <a:lnTo>
                    <a:pt x="122" y="84"/>
                  </a:lnTo>
                  <a:lnTo>
                    <a:pt x="118" y="82"/>
                  </a:lnTo>
                  <a:lnTo>
                    <a:pt x="118" y="78"/>
                  </a:lnTo>
                  <a:lnTo>
                    <a:pt x="116" y="66"/>
                  </a:lnTo>
                  <a:lnTo>
                    <a:pt x="116" y="62"/>
                  </a:lnTo>
                  <a:lnTo>
                    <a:pt x="106" y="56"/>
                  </a:lnTo>
                  <a:lnTo>
                    <a:pt x="104" y="54"/>
                  </a:lnTo>
                  <a:lnTo>
                    <a:pt x="102" y="50"/>
                  </a:lnTo>
                  <a:lnTo>
                    <a:pt x="100" y="42"/>
                  </a:lnTo>
                  <a:lnTo>
                    <a:pt x="104" y="6"/>
                  </a:lnTo>
                  <a:lnTo>
                    <a:pt x="102" y="0"/>
                  </a:lnTo>
                  <a:lnTo>
                    <a:pt x="88" y="14"/>
                  </a:lnTo>
                  <a:lnTo>
                    <a:pt x="80" y="20"/>
                  </a:lnTo>
                  <a:lnTo>
                    <a:pt x="78" y="26"/>
                  </a:lnTo>
                  <a:lnTo>
                    <a:pt x="82" y="36"/>
                  </a:lnTo>
                  <a:lnTo>
                    <a:pt x="82" y="44"/>
                  </a:lnTo>
                  <a:lnTo>
                    <a:pt x="82" y="48"/>
                  </a:lnTo>
                  <a:lnTo>
                    <a:pt x="80" y="54"/>
                  </a:lnTo>
                  <a:lnTo>
                    <a:pt x="76" y="58"/>
                  </a:lnTo>
                  <a:lnTo>
                    <a:pt x="72" y="60"/>
                  </a:lnTo>
                  <a:lnTo>
                    <a:pt x="56" y="66"/>
                  </a:lnTo>
                  <a:lnTo>
                    <a:pt x="52" y="68"/>
                  </a:lnTo>
                  <a:lnTo>
                    <a:pt x="52" y="74"/>
                  </a:lnTo>
                  <a:lnTo>
                    <a:pt x="52" y="96"/>
                  </a:lnTo>
                  <a:lnTo>
                    <a:pt x="54" y="104"/>
                  </a:lnTo>
                  <a:lnTo>
                    <a:pt x="54" y="106"/>
                  </a:lnTo>
                  <a:lnTo>
                    <a:pt x="56" y="108"/>
                  </a:lnTo>
                  <a:lnTo>
                    <a:pt x="64" y="108"/>
                  </a:lnTo>
                  <a:lnTo>
                    <a:pt x="68" y="108"/>
                  </a:lnTo>
                  <a:lnTo>
                    <a:pt x="72" y="106"/>
                  </a:lnTo>
                  <a:lnTo>
                    <a:pt x="76" y="104"/>
                  </a:lnTo>
                  <a:lnTo>
                    <a:pt x="92" y="138"/>
                  </a:lnTo>
                  <a:lnTo>
                    <a:pt x="92" y="140"/>
                  </a:lnTo>
                  <a:lnTo>
                    <a:pt x="88" y="184"/>
                  </a:lnTo>
                  <a:lnTo>
                    <a:pt x="82" y="216"/>
                  </a:lnTo>
                  <a:lnTo>
                    <a:pt x="78" y="238"/>
                  </a:lnTo>
                  <a:lnTo>
                    <a:pt x="72" y="250"/>
                  </a:lnTo>
                  <a:lnTo>
                    <a:pt x="68" y="254"/>
                  </a:lnTo>
                  <a:lnTo>
                    <a:pt x="62" y="256"/>
                  </a:lnTo>
                  <a:lnTo>
                    <a:pt x="54" y="254"/>
                  </a:lnTo>
                  <a:lnTo>
                    <a:pt x="48" y="252"/>
                  </a:lnTo>
                  <a:lnTo>
                    <a:pt x="22" y="298"/>
                  </a:lnTo>
                  <a:lnTo>
                    <a:pt x="12" y="312"/>
                  </a:lnTo>
                  <a:lnTo>
                    <a:pt x="6" y="318"/>
                  </a:lnTo>
                  <a:lnTo>
                    <a:pt x="8" y="318"/>
                  </a:lnTo>
                  <a:lnTo>
                    <a:pt x="6" y="320"/>
                  </a:lnTo>
                  <a:lnTo>
                    <a:pt x="4" y="326"/>
                  </a:lnTo>
                  <a:lnTo>
                    <a:pt x="4" y="348"/>
                  </a:lnTo>
                  <a:lnTo>
                    <a:pt x="8" y="352"/>
                  </a:lnTo>
                  <a:lnTo>
                    <a:pt x="10" y="352"/>
                  </a:lnTo>
                  <a:lnTo>
                    <a:pt x="12" y="354"/>
                  </a:lnTo>
                  <a:lnTo>
                    <a:pt x="4" y="36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贵州"/>
            <p:cNvSpPr/>
            <p:nvPr/>
          </p:nvSpPr>
          <p:spPr>
            <a:xfrm>
              <a:off x="2477520" y="3002760"/>
              <a:ext cx="353520" cy="306000"/>
            </a:xfrm>
            <a:custGeom>
              <a:avLst/>
              <a:gdLst>
                <a:gd name="textAreaLeft" fmla="*/ 0 w 353520"/>
                <a:gd name="textAreaRight" fmla="*/ 353880 w 35352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384" h="332">
                  <a:moveTo>
                    <a:pt x="300" y="6"/>
                  </a:moveTo>
                  <a:lnTo>
                    <a:pt x="296" y="4"/>
                  </a:lnTo>
                  <a:lnTo>
                    <a:pt x="288" y="8"/>
                  </a:lnTo>
                  <a:lnTo>
                    <a:pt x="284" y="14"/>
                  </a:lnTo>
                  <a:lnTo>
                    <a:pt x="280" y="22"/>
                  </a:lnTo>
                  <a:lnTo>
                    <a:pt x="276" y="24"/>
                  </a:lnTo>
                  <a:lnTo>
                    <a:pt x="272" y="26"/>
                  </a:lnTo>
                  <a:lnTo>
                    <a:pt x="268" y="24"/>
                  </a:lnTo>
                  <a:lnTo>
                    <a:pt x="264" y="20"/>
                  </a:lnTo>
                  <a:lnTo>
                    <a:pt x="262" y="20"/>
                  </a:lnTo>
                  <a:lnTo>
                    <a:pt x="260" y="12"/>
                  </a:lnTo>
                  <a:lnTo>
                    <a:pt x="260" y="1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52" y="0"/>
                  </a:lnTo>
                  <a:lnTo>
                    <a:pt x="250" y="8"/>
                  </a:lnTo>
                  <a:lnTo>
                    <a:pt x="250" y="20"/>
                  </a:lnTo>
                  <a:lnTo>
                    <a:pt x="248" y="20"/>
                  </a:lnTo>
                  <a:lnTo>
                    <a:pt x="240" y="34"/>
                  </a:lnTo>
                  <a:lnTo>
                    <a:pt x="238" y="36"/>
                  </a:lnTo>
                  <a:lnTo>
                    <a:pt x="236" y="36"/>
                  </a:lnTo>
                  <a:lnTo>
                    <a:pt x="216" y="34"/>
                  </a:lnTo>
                  <a:lnTo>
                    <a:pt x="216" y="36"/>
                  </a:lnTo>
                  <a:lnTo>
                    <a:pt x="208" y="44"/>
                  </a:lnTo>
                  <a:lnTo>
                    <a:pt x="212" y="50"/>
                  </a:lnTo>
                  <a:lnTo>
                    <a:pt x="206" y="58"/>
                  </a:lnTo>
                  <a:lnTo>
                    <a:pt x="188" y="58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4" y="52"/>
                  </a:lnTo>
                  <a:lnTo>
                    <a:pt x="182" y="58"/>
                  </a:lnTo>
                  <a:lnTo>
                    <a:pt x="180" y="60"/>
                  </a:lnTo>
                  <a:lnTo>
                    <a:pt x="168" y="60"/>
                  </a:lnTo>
                  <a:lnTo>
                    <a:pt x="160" y="54"/>
                  </a:lnTo>
                  <a:lnTo>
                    <a:pt x="160" y="52"/>
                  </a:lnTo>
                  <a:lnTo>
                    <a:pt x="160" y="50"/>
                  </a:lnTo>
                  <a:lnTo>
                    <a:pt x="146" y="48"/>
                  </a:lnTo>
                  <a:lnTo>
                    <a:pt x="136" y="52"/>
                  </a:lnTo>
                  <a:lnTo>
                    <a:pt x="132" y="56"/>
                  </a:lnTo>
                  <a:lnTo>
                    <a:pt x="148" y="74"/>
                  </a:lnTo>
                  <a:lnTo>
                    <a:pt x="168" y="80"/>
                  </a:lnTo>
                  <a:lnTo>
                    <a:pt x="170" y="82"/>
                  </a:lnTo>
                  <a:lnTo>
                    <a:pt x="180" y="92"/>
                  </a:lnTo>
                  <a:lnTo>
                    <a:pt x="176" y="108"/>
                  </a:lnTo>
                  <a:lnTo>
                    <a:pt x="176" y="110"/>
                  </a:lnTo>
                  <a:lnTo>
                    <a:pt x="162" y="120"/>
                  </a:lnTo>
                  <a:lnTo>
                    <a:pt x="162" y="122"/>
                  </a:lnTo>
                  <a:lnTo>
                    <a:pt x="160" y="122"/>
                  </a:lnTo>
                  <a:lnTo>
                    <a:pt x="138" y="128"/>
                  </a:lnTo>
                  <a:lnTo>
                    <a:pt x="124" y="130"/>
                  </a:lnTo>
                  <a:lnTo>
                    <a:pt x="114" y="126"/>
                  </a:lnTo>
                  <a:lnTo>
                    <a:pt x="110" y="126"/>
                  </a:lnTo>
                  <a:lnTo>
                    <a:pt x="104" y="134"/>
                  </a:lnTo>
                  <a:lnTo>
                    <a:pt x="94" y="142"/>
                  </a:lnTo>
                  <a:lnTo>
                    <a:pt x="92" y="142"/>
                  </a:lnTo>
                  <a:lnTo>
                    <a:pt x="78" y="148"/>
                  </a:lnTo>
                  <a:lnTo>
                    <a:pt x="60" y="142"/>
                  </a:lnTo>
                  <a:lnTo>
                    <a:pt x="24" y="144"/>
                  </a:lnTo>
                  <a:lnTo>
                    <a:pt x="16" y="146"/>
                  </a:lnTo>
                  <a:lnTo>
                    <a:pt x="16" y="148"/>
                  </a:lnTo>
                  <a:lnTo>
                    <a:pt x="8" y="148"/>
                  </a:lnTo>
                  <a:lnTo>
                    <a:pt x="0" y="160"/>
                  </a:lnTo>
                  <a:lnTo>
                    <a:pt x="0" y="172"/>
                  </a:lnTo>
                  <a:lnTo>
                    <a:pt x="8" y="192"/>
                  </a:lnTo>
                  <a:lnTo>
                    <a:pt x="18" y="196"/>
                  </a:lnTo>
                  <a:lnTo>
                    <a:pt x="22" y="200"/>
                  </a:lnTo>
                  <a:lnTo>
                    <a:pt x="28" y="192"/>
                  </a:lnTo>
                  <a:lnTo>
                    <a:pt x="28" y="190"/>
                  </a:lnTo>
                  <a:lnTo>
                    <a:pt x="30" y="190"/>
                  </a:lnTo>
                  <a:lnTo>
                    <a:pt x="42" y="188"/>
                  </a:lnTo>
                  <a:lnTo>
                    <a:pt x="44" y="188"/>
                  </a:lnTo>
                  <a:lnTo>
                    <a:pt x="56" y="192"/>
                  </a:lnTo>
                  <a:lnTo>
                    <a:pt x="68" y="220"/>
                  </a:lnTo>
                  <a:lnTo>
                    <a:pt x="66" y="220"/>
                  </a:lnTo>
                  <a:lnTo>
                    <a:pt x="62" y="236"/>
                  </a:lnTo>
                  <a:lnTo>
                    <a:pt x="58" y="244"/>
                  </a:lnTo>
                  <a:lnTo>
                    <a:pt x="58" y="246"/>
                  </a:lnTo>
                  <a:lnTo>
                    <a:pt x="52" y="260"/>
                  </a:lnTo>
                  <a:lnTo>
                    <a:pt x="52" y="276"/>
                  </a:lnTo>
                  <a:lnTo>
                    <a:pt x="62" y="286"/>
                  </a:lnTo>
                  <a:lnTo>
                    <a:pt x="76" y="296"/>
                  </a:lnTo>
                  <a:lnTo>
                    <a:pt x="76" y="298"/>
                  </a:lnTo>
                  <a:lnTo>
                    <a:pt x="78" y="298"/>
                  </a:lnTo>
                  <a:lnTo>
                    <a:pt x="68" y="320"/>
                  </a:lnTo>
                  <a:lnTo>
                    <a:pt x="66" y="332"/>
                  </a:lnTo>
                  <a:lnTo>
                    <a:pt x="68" y="330"/>
                  </a:lnTo>
                  <a:lnTo>
                    <a:pt x="70" y="330"/>
                  </a:lnTo>
                  <a:lnTo>
                    <a:pt x="78" y="326"/>
                  </a:lnTo>
                  <a:lnTo>
                    <a:pt x="92" y="318"/>
                  </a:lnTo>
                  <a:lnTo>
                    <a:pt x="108" y="320"/>
                  </a:lnTo>
                  <a:lnTo>
                    <a:pt x="110" y="320"/>
                  </a:lnTo>
                  <a:lnTo>
                    <a:pt x="134" y="330"/>
                  </a:lnTo>
                  <a:lnTo>
                    <a:pt x="160" y="330"/>
                  </a:lnTo>
                  <a:lnTo>
                    <a:pt x="168" y="320"/>
                  </a:lnTo>
                  <a:lnTo>
                    <a:pt x="182" y="312"/>
                  </a:lnTo>
                  <a:lnTo>
                    <a:pt x="196" y="302"/>
                  </a:lnTo>
                  <a:lnTo>
                    <a:pt x="196" y="300"/>
                  </a:lnTo>
                  <a:lnTo>
                    <a:pt x="206" y="298"/>
                  </a:lnTo>
                  <a:lnTo>
                    <a:pt x="216" y="290"/>
                  </a:lnTo>
                  <a:lnTo>
                    <a:pt x="228" y="274"/>
                  </a:lnTo>
                  <a:lnTo>
                    <a:pt x="246" y="280"/>
                  </a:lnTo>
                  <a:lnTo>
                    <a:pt x="248" y="280"/>
                  </a:lnTo>
                  <a:lnTo>
                    <a:pt x="248" y="282"/>
                  </a:lnTo>
                  <a:lnTo>
                    <a:pt x="252" y="290"/>
                  </a:lnTo>
                  <a:lnTo>
                    <a:pt x="256" y="292"/>
                  </a:lnTo>
                  <a:lnTo>
                    <a:pt x="266" y="292"/>
                  </a:lnTo>
                  <a:lnTo>
                    <a:pt x="268" y="292"/>
                  </a:lnTo>
                  <a:lnTo>
                    <a:pt x="274" y="292"/>
                  </a:lnTo>
                  <a:lnTo>
                    <a:pt x="276" y="292"/>
                  </a:lnTo>
                  <a:lnTo>
                    <a:pt x="276" y="294"/>
                  </a:lnTo>
                  <a:lnTo>
                    <a:pt x="288" y="298"/>
                  </a:lnTo>
                  <a:lnTo>
                    <a:pt x="292" y="298"/>
                  </a:lnTo>
                  <a:lnTo>
                    <a:pt x="294" y="296"/>
                  </a:lnTo>
                  <a:lnTo>
                    <a:pt x="296" y="290"/>
                  </a:lnTo>
                  <a:lnTo>
                    <a:pt x="296" y="288"/>
                  </a:lnTo>
                  <a:lnTo>
                    <a:pt x="302" y="284"/>
                  </a:lnTo>
                  <a:lnTo>
                    <a:pt x="312" y="276"/>
                  </a:lnTo>
                  <a:lnTo>
                    <a:pt x="314" y="276"/>
                  </a:lnTo>
                  <a:lnTo>
                    <a:pt x="322" y="276"/>
                  </a:lnTo>
                  <a:lnTo>
                    <a:pt x="324" y="268"/>
                  </a:lnTo>
                  <a:lnTo>
                    <a:pt x="330" y="262"/>
                  </a:lnTo>
                  <a:lnTo>
                    <a:pt x="336" y="258"/>
                  </a:lnTo>
                  <a:lnTo>
                    <a:pt x="342" y="256"/>
                  </a:lnTo>
                  <a:lnTo>
                    <a:pt x="346" y="252"/>
                  </a:lnTo>
                  <a:lnTo>
                    <a:pt x="348" y="252"/>
                  </a:lnTo>
                  <a:lnTo>
                    <a:pt x="352" y="248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6" y="244"/>
                  </a:lnTo>
                  <a:lnTo>
                    <a:pt x="374" y="244"/>
                  </a:lnTo>
                  <a:lnTo>
                    <a:pt x="376" y="240"/>
                  </a:lnTo>
                  <a:lnTo>
                    <a:pt x="380" y="236"/>
                  </a:lnTo>
                  <a:lnTo>
                    <a:pt x="384" y="228"/>
                  </a:lnTo>
                  <a:lnTo>
                    <a:pt x="382" y="228"/>
                  </a:lnTo>
                  <a:lnTo>
                    <a:pt x="376" y="218"/>
                  </a:lnTo>
                  <a:lnTo>
                    <a:pt x="372" y="206"/>
                  </a:lnTo>
                  <a:lnTo>
                    <a:pt x="372" y="204"/>
                  </a:lnTo>
                  <a:lnTo>
                    <a:pt x="376" y="188"/>
                  </a:lnTo>
                  <a:lnTo>
                    <a:pt x="376" y="180"/>
                  </a:lnTo>
                  <a:lnTo>
                    <a:pt x="380" y="174"/>
                  </a:lnTo>
                  <a:lnTo>
                    <a:pt x="380" y="160"/>
                  </a:lnTo>
                  <a:lnTo>
                    <a:pt x="378" y="158"/>
                  </a:lnTo>
                  <a:lnTo>
                    <a:pt x="372" y="156"/>
                  </a:lnTo>
                  <a:lnTo>
                    <a:pt x="348" y="166"/>
                  </a:lnTo>
                  <a:lnTo>
                    <a:pt x="348" y="140"/>
                  </a:lnTo>
                  <a:lnTo>
                    <a:pt x="350" y="136"/>
                  </a:lnTo>
                  <a:lnTo>
                    <a:pt x="356" y="132"/>
                  </a:lnTo>
                  <a:lnTo>
                    <a:pt x="372" y="120"/>
                  </a:lnTo>
                  <a:lnTo>
                    <a:pt x="366" y="92"/>
                  </a:lnTo>
                  <a:lnTo>
                    <a:pt x="366" y="84"/>
                  </a:lnTo>
                  <a:lnTo>
                    <a:pt x="366" y="78"/>
                  </a:lnTo>
                  <a:lnTo>
                    <a:pt x="368" y="74"/>
                  </a:lnTo>
                  <a:lnTo>
                    <a:pt x="372" y="68"/>
                  </a:lnTo>
                  <a:lnTo>
                    <a:pt x="372" y="64"/>
                  </a:lnTo>
                  <a:lnTo>
                    <a:pt x="364" y="64"/>
                  </a:lnTo>
                  <a:lnTo>
                    <a:pt x="360" y="64"/>
                  </a:lnTo>
                  <a:lnTo>
                    <a:pt x="356" y="76"/>
                  </a:lnTo>
                  <a:lnTo>
                    <a:pt x="352" y="80"/>
                  </a:lnTo>
                  <a:lnTo>
                    <a:pt x="348" y="82"/>
                  </a:lnTo>
                  <a:lnTo>
                    <a:pt x="346" y="82"/>
                  </a:lnTo>
                  <a:lnTo>
                    <a:pt x="338" y="76"/>
                  </a:lnTo>
                  <a:lnTo>
                    <a:pt x="336" y="76"/>
                  </a:lnTo>
                  <a:lnTo>
                    <a:pt x="336" y="74"/>
                  </a:lnTo>
                  <a:lnTo>
                    <a:pt x="334" y="68"/>
                  </a:lnTo>
                  <a:lnTo>
                    <a:pt x="332" y="60"/>
                  </a:lnTo>
                  <a:lnTo>
                    <a:pt x="332" y="64"/>
                  </a:lnTo>
                  <a:lnTo>
                    <a:pt x="316" y="64"/>
                  </a:lnTo>
                  <a:lnTo>
                    <a:pt x="316" y="60"/>
                  </a:lnTo>
                  <a:lnTo>
                    <a:pt x="312" y="52"/>
                  </a:lnTo>
                  <a:lnTo>
                    <a:pt x="312" y="40"/>
                  </a:lnTo>
                  <a:lnTo>
                    <a:pt x="304" y="24"/>
                  </a:lnTo>
                  <a:lnTo>
                    <a:pt x="304" y="12"/>
                  </a:lnTo>
                  <a:lnTo>
                    <a:pt x="300" y="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广西"/>
            <p:cNvSpPr/>
            <p:nvPr/>
          </p:nvSpPr>
          <p:spPr>
            <a:xfrm>
              <a:off x="2534400" y="3191040"/>
              <a:ext cx="462240" cy="35208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352080"/>
                <a:gd name="textAreaBottom" fmla="*/ 352080 h 352080"/>
              </a:gdLst>
              <a:ahLst/>
              <a:rect l="textAreaLeft" t="textAreaTop" r="textAreaRight" b="textAreaBottom"/>
              <a:pathLst>
                <a:path w="502" h="382">
                  <a:moveTo>
                    <a:pt x="402" y="8"/>
                  </a:moveTo>
                  <a:lnTo>
                    <a:pt x="402" y="10"/>
                  </a:lnTo>
                  <a:lnTo>
                    <a:pt x="404" y="12"/>
                  </a:lnTo>
                  <a:lnTo>
                    <a:pt x="394" y="28"/>
                  </a:lnTo>
                  <a:lnTo>
                    <a:pt x="386" y="34"/>
                  </a:lnTo>
                  <a:lnTo>
                    <a:pt x="378" y="36"/>
                  </a:lnTo>
                  <a:lnTo>
                    <a:pt x="376" y="36"/>
                  </a:lnTo>
                  <a:lnTo>
                    <a:pt x="368" y="30"/>
                  </a:lnTo>
                  <a:lnTo>
                    <a:pt x="360" y="32"/>
                  </a:lnTo>
                  <a:lnTo>
                    <a:pt x="344" y="44"/>
                  </a:lnTo>
                  <a:lnTo>
                    <a:pt x="340" y="44"/>
                  </a:lnTo>
                  <a:lnTo>
                    <a:pt x="336" y="42"/>
                  </a:lnTo>
                  <a:lnTo>
                    <a:pt x="328" y="32"/>
                  </a:lnTo>
                  <a:lnTo>
                    <a:pt x="322" y="42"/>
                  </a:lnTo>
                  <a:lnTo>
                    <a:pt x="316" y="48"/>
                  </a:lnTo>
                  <a:lnTo>
                    <a:pt x="306" y="48"/>
                  </a:lnTo>
                  <a:lnTo>
                    <a:pt x="294" y="52"/>
                  </a:lnTo>
                  <a:lnTo>
                    <a:pt x="282" y="60"/>
                  </a:lnTo>
                  <a:lnTo>
                    <a:pt x="278" y="60"/>
                  </a:lnTo>
                  <a:lnTo>
                    <a:pt x="274" y="64"/>
                  </a:lnTo>
                  <a:lnTo>
                    <a:pt x="270" y="70"/>
                  </a:lnTo>
                  <a:lnTo>
                    <a:pt x="270" y="72"/>
                  </a:lnTo>
                  <a:lnTo>
                    <a:pt x="270" y="74"/>
                  </a:lnTo>
                  <a:lnTo>
                    <a:pt x="276" y="82"/>
                  </a:lnTo>
                  <a:lnTo>
                    <a:pt x="254" y="80"/>
                  </a:lnTo>
                  <a:lnTo>
                    <a:pt x="242" y="90"/>
                  </a:lnTo>
                  <a:lnTo>
                    <a:pt x="240" y="94"/>
                  </a:lnTo>
                  <a:lnTo>
                    <a:pt x="238" y="100"/>
                  </a:lnTo>
                  <a:lnTo>
                    <a:pt x="236" y="102"/>
                  </a:lnTo>
                  <a:lnTo>
                    <a:pt x="224" y="102"/>
                  </a:lnTo>
                  <a:lnTo>
                    <a:pt x="210" y="96"/>
                  </a:lnTo>
                  <a:lnTo>
                    <a:pt x="206" y="96"/>
                  </a:lnTo>
                  <a:lnTo>
                    <a:pt x="194" y="98"/>
                  </a:lnTo>
                  <a:lnTo>
                    <a:pt x="190" y="96"/>
                  </a:lnTo>
                  <a:lnTo>
                    <a:pt x="186" y="94"/>
                  </a:lnTo>
                  <a:lnTo>
                    <a:pt x="178" y="84"/>
                  </a:lnTo>
                  <a:lnTo>
                    <a:pt x="170" y="80"/>
                  </a:lnTo>
                  <a:lnTo>
                    <a:pt x="162" y="92"/>
                  </a:lnTo>
                  <a:lnTo>
                    <a:pt x="160" y="92"/>
                  </a:lnTo>
                  <a:lnTo>
                    <a:pt x="150" y="100"/>
                  </a:lnTo>
                  <a:lnTo>
                    <a:pt x="148" y="100"/>
                  </a:lnTo>
                  <a:lnTo>
                    <a:pt x="148" y="102"/>
                  </a:lnTo>
                  <a:lnTo>
                    <a:pt x="146" y="102"/>
                  </a:lnTo>
                  <a:lnTo>
                    <a:pt x="138" y="104"/>
                  </a:lnTo>
                  <a:lnTo>
                    <a:pt x="126" y="116"/>
                  </a:lnTo>
                  <a:lnTo>
                    <a:pt x="112" y="122"/>
                  </a:lnTo>
                  <a:lnTo>
                    <a:pt x="102" y="134"/>
                  </a:lnTo>
                  <a:lnTo>
                    <a:pt x="70" y="134"/>
                  </a:lnTo>
                  <a:lnTo>
                    <a:pt x="46" y="124"/>
                  </a:lnTo>
                  <a:lnTo>
                    <a:pt x="32" y="124"/>
                  </a:lnTo>
                  <a:lnTo>
                    <a:pt x="20" y="130"/>
                  </a:lnTo>
                  <a:lnTo>
                    <a:pt x="18" y="130"/>
                  </a:lnTo>
                  <a:lnTo>
                    <a:pt x="10" y="132"/>
                  </a:lnTo>
                  <a:lnTo>
                    <a:pt x="2" y="138"/>
                  </a:lnTo>
                  <a:lnTo>
                    <a:pt x="0" y="142"/>
                  </a:lnTo>
                  <a:lnTo>
                    <a:pt x="0" y="152"/>
                  </a:lnTo>
                  <a:lnTo>
                    <a:pt x="4" y="158"/>
                  </a:lnTo>
                  <a:lnTo>
                    <a:pt x="22" y="152"/>
                  </a:lnTo>
                  <a:lnTo>
                    <a:pt x="30" y="154"/>
                  </a:lnTo>
                  <a:lnTo>
                    <a:pt x="40" y="158"/>
                  </a:lnTo>
                  <a:lnTo>
                    <a:pt x="42" y="158"/>
                  </a:lnTo>
                  <a:lnTo>
                    <a:pt x="42" y="160"/>
                  </a:lnTo>
                  <a:lnTo>
                    <a:pt x="42" y="186"/>
                  </a:lnTo>
                  <a:lnTo>
                    <a:pt x="46" y="188"/>
                  </a:lnTo>
                  <a:lnTo>
                    <a:pt x="64" y="188"/>
                  </a:lnTo>
                  <a:lnTo>
                    <a:pt x="74" y="184"/>
                  </a:lnTo>
                  <a:lnTo>
                    <a:pt x="76" y="184"/>
                  </a:lnTo>
                  <a:lnTo>
                    <a:pt x="86" y="180"/>
                  </a:lnTo>
                  <a:lnTo>
                    <a:pt x="94" y="176"/>
                  </a:lnTo>
                  <a:lnTo>
                    <a:pt x="98" y="176"/>
                  </a:lnTo>
                  <a:lnTo>
                    <a:pt x="100" y="178"/>
                  </a:lnTo>
                  <a:lnTo>
                    <a:pt x="104" y="188"/>
                  </a:lnTo>
                  <a:lnTo>
                    <a:pt x="106" y="216"/>
                  </a:lnTo>
                  <a:lnTo>
                    <a:pt x="106" y="218"/>
                  </a:lnTo>
                  <a:lnTo>
                    <a:pt x="92" y="232"/>
                  </a:lnTo>
                  <a:lnTo>
                    <a:pt x="92" y="234"/>
                  </a:lnTo>
                  <a:lnTo>
                    <a:pt x="74" y="242"/>
                  </a:lnTo>
                  <a:lnTo>
                    <a:pt x="70" y="248"/>
                  </a:lnTo>
                  <a:lnTo>
                    <a:pt x="72" y="252"/>
                  </a:lnTo>
                  <a:lnTo>
                    <a:pt x="106" y="256"/>
                  </a:lnTo>
                  <a:lnTo>
                    <a:pt x="108" y="258"/>
                  </a:lnTo>
                  <a:lnTo>
                    <a:pt x="122" y="266"/>
                  </a:lnTo>
                  <a:lnTo>
                    <a:pt x="152" y="264"/>
                  </a:lnTo>
                  <a:lnTo>
                    <a:pt x="152" y="268"/>
                  </a:lnTo>
                  <a:lnTo>
                    <a:pt x="154" y="284"/>
                  </a:lnTo>
                  <a:lnTo>
                    <a:pt x="154" y="286"/>
                  </a:lnTo>
                  <a:lnTo>
                    <a:pt x="140" y="300"/>
                  </a:lnTo>
                  <a:lnTo>
                    <a:pt x="140" y="312"/>
                  </a:lnTo>
                  <a:lnTo>
                    <a:pt x="142" y="320"/>
                  </a:lnTo>
                  <a:lnTo>
                    <a:pt x="144" y="326"/>
                  </a:lnTo>
                  <a:lnTo>
                    <a:pt x="150" y="330"/>
                  </a:lnTo>
                  <a:lnTo>
                    <a:pt x="174" y="344"/>
                  </a:lnTo>
                  <a:lnTo>
                    <a:pt x="194" y="356"/>
                  </a:lnTo>
                  <a:lnTo>
                    <a:pt x="212" y="348"/>
                  </a:lnTo>
                  <a:lnTo>
                    <a:pt x="214" y="348"/>
                  </a:lnTo>
                  <a:lnTo>
                    <a:pt x="216" y="348"/>
                  </a:lnTo>
                  <a:lnTo>
                    <a:pt x="242" y="368"/>
                  </a:lnTo>
                  <a:lnTo>
                    <a:pt x="246" y="368"/>
                  </a:lnTo>
                  <a:lnTo>
                    <a:pt x="252" y="360"/>
                  </a:lnTo>
                  <a:lnTo>
                    <a:pt x="254" y="360"/>
                  </a:lnTo>
                  <a:lnTo>
                    <a:pt x="254" y="358"/>
                  </a:lnTo>
                  <a:lnTo>
                    <a:pt x="256" y="358"/>
                  </a:lnTo>
                  <a:lnTo>
                    <a:pt x="270" y="360"/>
                  </a:lnTo>
                  <a:lnTo>
                    <a:pt x="274" y="334"/>
                  </a:lnTo>
                  <a:lnTo>
                    <a:pt x="294" y="368"/>
                  </a:lnTo>
                  <a:lnTo>
                    <a:pt x="310" y="370"/>
                  </a:lnTo>
                  <a:lnTo>
                    <a:pt x="312" y="370"/>
                  </a:lnTo>
                  <a:lnTo>
                    <a:pt x="314" y="370"/>
                  </a:lnTo>
                  <a:lnTo>
                    <a:pt x="314" y="372"/>
                  </a:lnTo>
                  <a:lnTo>
                    <a:pt x="314" y="382"/>
                  </a:lnTo>
                  <a:lnTo>
                    <a:pt x="320" y="380"/>
                  </a:lnTo>
                  <a:lnTo>
                    <a:pt x="346" y="346"/>
                  </a:lnTo>
                  <a:lnTo>
                    <a:pt x="358" y="362"/>
                  </a:lnTo>
                  <a:lnTo>
                    <a:pt x="358" y="356"/>
                  </a:lnTo>
                  <a:lnTo>
                    <a:pt x="366" y="340"/>
                  </a:lnTo>
                  <a:lnTo>
                    <a:pt x="372" y="328"/>
                  </a:lnTo>
                  <a:lnTo>
                    <a:pt x="392" y="328"/>
                  </a:lnTo>
                  <a:lnTo>
                    <a:pt x="396" y="304"/>
                  </a:lnTo>
                  <a:lnTo>
                    <a:pt x="398" y="304"/>
                  </a:lnTo>
                  <a:lnTo>
                    <a:pt x="400" y="306"/>
                  </a:lnTo>
                  <a:lnTo>
                    <a:pt x="414" y="308"/>
                  </a:lnTo>
                  <a:lnTo>
                    <a:pt x="416" y="300"/>
                  </a:lnTo>
                  <a:lnTo>
                    <a:pt x="410" y="288"/>
                  </a:lnTo>
                  <a:lnTo>
                    <a:pt x="410" y="286"/>
                  </a:lnTo>
                  <a:lnTo>
                    <a:pt x="414" y="276"/>
                  </a:lnTo>
                  <a:lnTo>
                    <a:pt x="414" y="274"/>
                  </a:lnTo>
                  <a:lnTo>
                    <a:pt x="416" y="274"/>
                  </a:lnTo>
                  <a:lnTo>
                    <a:pt x="458" y="252"/>
                  </a:lnTo>
                  <a:lnTo>
                    <a:pt x="456" y="230"/>
                  </a:lnTo>
                  <a:lnTo>
                    <a:pt x="456" y="228"/>
                  </a:lnTo>
                  <a:lnTo>
                    <a:pt x="464" y="212"/>
                  </a:lnTo>
                  <a:lnTo>
                    <a:pt x="466" y="210"/>
                  </a:lnTo>
                  <a:lnTo>
                    <a:pt x="478" y="180"/>
                  </a:lnTo>
                  <a:lnTo>
                    <a:pt x="490" y="168"/>
                  </a:lnTo>
                  <a:lnTo>
                    <a:pt x="496" y="156"/>
                  </a:lnTo>
                  <a:lnTo>
                    <a:pt x="502" y="146"/>
                  </a:lnTo>
                  <a:lnTo>
                    <a:pt x="496" y="134"/>
                  </a:lnTo>
                  <a:lnTo>
                    <a:pt x="496" y="132"/>
                  </a:lnTo>
                  <a:lnTo>
                    <a:pt x="496" y="120"/>
                  </a:lnTo>
                  <a:lnTo>
                    <a:pt x="490" y="120"/>
                  </a:lnTo>
                  <a:lnTo>
                    <a:pt x="478" y="126"/>
                  </a:lnTo>
                  <a:lnTo>
                    <a:pt x="472" y="128"/>
                  </a:lnTo>
                  <a:lnTo>
                    <a:pt x="468" y="128"/>
                  </a:lnTo>
                  <a:lnTo>
                    <a:pt x="460" y="126"/>
                  </a:lnTo>
                  <a:lnTo>
                    <a:pt x="454" y="122"/>
                  </a:lnTo>
                  <a:lnTo>
                    <a:pt x="452" y="118"/>
                  </a:lnTo>
                  <a:lnTo>
                    <a:pt x="450" y="114"/>
                  </a:lnTo>
                  <a:lnTo>
                    <a:pt x="452" y="98"/>
                  </a:lnTo>
                  <a:lnTo>
                    <a:pt x="446" y="98"/>
                  </a:lnTo>
                  <a:lnTo>
                    <a:pt x="442" y="102"/>
                  </a:lnTo>
                  <a:lnTo>
                    <a:pt x="432" y="112"/>
                  </a:lnTo>
                  <a:lnTo>
                    <a:pt x="428" y="114"/>
                  </a:lnTo>
                  <a:lnTo>
                    <a:pt x="424" y="114"/>
                  </a:lnTo>
                  <a:lnTo>
                    <a:pt x="422" y="108"/>
                  </a:lnTo>
                  <a:lnTo>
                    <a:pt x="422" y="100"/>
                  </a:lnTo>
                  <a:lnTo>
                    <a:pt x="422" y="92"/>
                  </a:lnTo>
                  <a:lnTo>
                    <a:pt x="424" y="88"/>
                  </a:lnTo>
                  <a:lnTo>
                    <a:pt x="426" y="86"/>
                  </a:lnTo>
                  <a:lnTo>
                    <a:pt x="428" y="86"/>
                  </a:lnTo>
                  <a:lnTo>
                    <a:pt x="444" y="58"/>
                  </a:lnTo>
                  <a:lnTo>
                    <a:pt x="448" y="48"/>
                  </a:lnTo>
                  <a:lnTo>
                    <a:pt x="450" y="36"/>
                  </a:lnTo>
                  <a:lnTo>
                    <a:pt x="442" y="28"/>
                  </a:lnTo>
                  <a:lnTo>
                    <a:pt x="440" y="22"/>
                  </a:lnTo>
                  <a:lnTo>
                    <a:pt x="440" y="12"/>
                  </a:lnTo>
                  <a:lnTo>
                    <a:pt x="440" y="8"/>
                  </a:lnTo>
                  <a:lnTo>
                    <a:pt x="438" y="4"/>
                  </a:lnTo>
                  <a:lnTo>
                    <a:pt x="434" y="0"/>
                  </a:lnTo>
                  <a:lnTo>
                    <a:pt x="432" y="2"/>
                  </a:lnTo>
                  <a:lnTo>
                    <a:pt x="430" y="6"/>
                  </a:lnTo>
                  <a:lnTo>
                    <a:pt x="426" y="8"/>
                  </a:lnTo>
                  <a:lnTo>
                    <a:pt x="422" y="10"/>
                  </a:lnTo>
                  <a:lnTo>
                    <a:pt x="416" y="8"/>
                  </a:lnTo>
                  <a:lnTo>
                    <a:pt x="410" y="8"/>
                  </a:lnTo>
                  <a:lnTo>
                    <a:pt x="402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重庆"/>
            <p:cNvSpPr/>
            <p:nvPr/>
          </p:nvSpPr>
          <p:spPr>
            <a:xfrm>
              <a:off x="2598840" y="2803320"/>
              <a:ext cx="261360" cy="26532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284" h="288">
                  <a:moveTo>
                    <a:pt x="284" y="58"/>
                  </a:moveTo>
                  <a:lnTo>
                    <a:pt x="278" y="44"/>
                  </a:lnTo>
                  <a:lnTo>
                    <a:pt x="268" y="32"/>
                  </a:lnTo>
                  <a:lnTo>
                    <a:pt x="260" y="30"/>
                  </a:lnTo>
                  <a:lnTo>
                    <a:pt x="258" y="30"/>
                  </a:lnTo>
                  <a:lnTo>
                    <a:pt x="258" y="28"/>
                  </a:lnTo>
                  <a:lnTo>
                    <a:pt x="250" y="24"/>
                  </a:lnTo>
                  <a:lnTo>
                    <a:pt x="248" y="24"/>
                  </a:lnTo>
                  <a:lnTo>
                    <a:pt x="244" y="26"/>
                  </a:lnTo>
                  <a:lnTo>
                    <a:pt x="234" y="28"/>
                  </a:lnTo>
                  <a:lnTo>
                    <a:pt x="232" y="26"/>
                  </a:lnTo>
                  <a:lnTo>
                    <a:pt x="222" y="22"/>
                  </a:lnTo>
                  <a:lnTo>
                    <a:pt x="220" y="22"/>
                  </a:lnTo>
                  <a:lnTo>
                    <a:pt x="220" y="20"/>
                  </a:lnTo>
                  <a:lnTo>
                    <a:pt x="212" y="12"/>
                  </a:lnTo>
                  <a:lnTo>
                    <a:pt x="204" y="4"/>
                  </a:lnTo>
                  <a:lnTo>
                    <a:pt x="196" y="0"/>
                  </a:lnTo>
                  <a:lnTo>
                    <a:pt x="188" y="8"/>
                  </a:lnTo>
                  <a:lnTo>
                    <a:pt x="176" y="16"/>
                  </a:lnTo>
                  <a:lnTo>
                    <a:pt x="172" y="40"/>
                  </a:lnTo>
                  <a:lnTo>
                    <a:pt x="162" y="58"/>
                  </a:lnTo>
                  <a:lnTo>
                    <a:pt x="162" y="60"/>
                  </a:lnTo>
                  <a:lnTo>
                    <a:pt x="154" y="68"/>
                  </a:lnTo>
                  <a:lnTo>
                    <a:pt x="144" y="86"/>
                  </a:lnTo>
                  <a:lnTo>
                    <a:pt x="144" y="88"/>
                  </a:lnTo>
                  <a:lnTo>
                    <a:pt x="124" y="104"/>
                  </a:lnTo>
                  <a:lnTo>
                    <a:pt x="116" y="118"/>
                  </a:lnTo>
                  <a:lnTo>
                    <a:pt x="114" y="120"/>
                  </a:lnTo>
                  <a:lnTo>
                    <a:pt x="110" y="124"/>
                  </a:lnTo>
                  <a:lnTo>
                    <a:pt x="96" y="132"/>
                  </a:lnTo>
                  <a:lnTo>
                    <a:pt x="88" y="144"/>
                  </a:lnTo>
                  <a:lnTo>
                    <a:pt x="74" y="164"/>
                  </a:lnTo>
                  <a:lnTo>
                    <a:pt x="72" y="164"/>
                  </a:lnTo>
                  <a:lnTo>
                    <a:pt x="8" y="160"/>
                  </a:lnTo>
                  <a:lnTo>
                    <a:pt x="0" y="168"/>
                  </a:lnTo>
                  <a:lnTo>
                    <a:pt x="0" y="180"/>
                  </a:lnTo>
                  <a:lnTo>
                    <a:pt x="6" y="208"/>
                  </a:lnTo>
                  <a:lnTo>
                    <a:pt x="20" y="226"/>
                  </a:lnTo>
                  <a:lnTo>
                    <a:pt x="32" y="232"/>
                  </a:lnTo>
                  <a:lnTo>
                    <a:pt x="32" y="234"/>
                  </a:lnTo>
                  <a:lnTo>
                    <a:pt x="40" y="244"/>
                  </a:lnTo>
                  <a:lnTo>
                    <a:pt x="42" y="252"/>
                  </a:lnTo>
                  <a:lnTo>
                    <a:pt x="42" y="262"/>
                  </a:lnTo>
                  <a:lnTo>
                    <a:pt x="38" y="266"/>
                  </a:lnTo>
                  <a:lnTo>
                    <a:pt x="40" y="268"/>
                  </a:lnTo>
                  <a:lnTo>
                    <a:pt x="44" y="268"/>
                  </a:lnTo>
                  <a:lnTo>
                    <a:pt x="48" y="258"/>
                  </a:lnTo>
                  <a:lnTo>
                    <a:pt x="50" y="258"/>
                  </a:lnTo>
                  <a:lnTo>
                    <a:pt x="62" y="262"/>
                  </a:lnTo>
                  <a:lnTo>
                    <a:pt x="64" y="266"/>
                  </a:lnTo>
                  <a:lnTo>
                    <a:pt x="70" y="266"/>
                  </a:lnTo>
                  <a:lnTo>
                    <a:pt x="68" y="260"/>
                  </a:lnTo>
                  <a:lnTo>
                    <a:pt x="76" y="246"/>
                  </a:lnTo>
                  <a:lnTo>
                    <a:pt x="78" y="244"/>
                  </a:lnTo>
                  <a:lnTo>
                    <a:pt x="80" y="242"/>
                  </a:lnTo>
                  <a:lnTo>
                    <a:pt x="88" y="242"/>
                  </a:lnTo>
                  <a:lnTo>
                    <a:pt x="102" y="242"/>
                  </a:lnTo>
                  <a:lnTo>
                    <a:pt x="110" y="232"/>
                  </a:lnTo>
                  <a:lnTo>
                    <a:pt x="110" y="222"/>
                  </a:lnTo>
                  <a:lnTo>
                    <a:pt x="112" y="212"/>
                  </a:lnTo>
                  <a:lnTo>
                    <a:pt x="114" y="210"/>
                  </a:lnTo>
                  <a:lnTo>
                    <a:pt x="120" y="206"/>
                  </a:lnTo>
                  <a:lnTo>
                    <a:pt x="122" y="206"/>
                  </a:lnTo>
                  <a:lnTo>
                    <a:pt x="134" y="208"/>
                  </a:lnTo>
                  <a:lnTo>
                    <a:pt x="134" y="210"/>
                  </a:lnTo>
                  <a:lnTo>
                    <a:pt x="136" y="220"/>
                  </a:lnTo>
                  <a:lnTo>
                    <a:pt x="136" y="224"/>
                  </a:lnTo>
                  <a:lnTo>
                    <a:pt x="138" y="232"/>
                  </a:lnTo>
                  <a:lnTo>
                    <a:pt x="140" y="232"/>
                  </a:lnTo>
                  <a:lnTo>
                    <a:pt x="144" y="226"/>
                  </a:lnTo>
                  <a:lnTo>
                    <a:pt x="152" y="216"/>
                  </a:lnTo>
                  <a:lnTo>
                    <a:pt x="160" y="212"/>
                  </a:lnTo>
                  <a:lnTo>
                    <a:pt x="162" y="212"/>
                  </a:lnTo>
                  <a:lnTo>
                    <a:pt x="162" y="210"/>
                  </a:lnTo>
                  <a:lnTo>
                    <a:pt x="172" y="214"/>
                  </a:lnTo>
                  <a:lnTo>
                    <a:pt x="174" y="214"/>
                  </a:lnTo>
                  <a:lnTo>
                    <a:pt x="176" y="214"/>
                  </a:lnTo>
                  <a:lnTo>
                    <a:pt x="180" y="226"/>
                  </a:lnTo>
                  <a:lnTo>
                    <a:pt x="180" y="236"/>
                  </a:lnTo>
                  <a:lnTo>
                    <a:pt x="188" y="252"/>
                  </a:lnTo>
                  <a:lnTo>
                    <a:pt x="188" y="254"/>
                  </a:lnTo>
                  <a:lnTo>
                    <a:pt x="188" y="264"/>
                  </a:lnTo>
                  <a:lnTo>
                    <a:pt x="192" y="270"/>
                  </a:lnTo>
                  <a:lnTo>
                    <a:pt x="194" y="270"/>
                  </a:lnTo>
                  <a:lnTo>
                    <a:pt x="196" y="266"/>
                  </a:lnTo>
                  <a:lnTo>
                    <a:pt x="198" y="264"/>
                  </a:lnTo>
                  <a:lnTo>
                    <a:pt x="208" y="270"/>
                  </a:lnTo>
                  <a:lnTo>
                    <a:pt x="208" y="272"/>
                  </a:lnTo>
                  <a:lnTo>
                    <a:pt x="212" y="286"/>
                  </a:lnTo>
                  <a:lnTo>
                    <a:pt x="216" y="288"/>
                  </a:lnTo>
                  <a:lnTo>
                    <a:pt x="216" y="286"/>
                  </a:lnTo>
                  <a:lnTo>
                    <a:pt x="220" y="276"/>
                  </a:lnTo>
                  <a:lnTo>
                    <a:pt x="222" y="274"/>
                  </a:lnTo>
                  <a:lnTo>
                    <a:pt x="224" y="274"/>
                  </a:lnTo>
                  <a:lnTo>
                    <a:pt x="228" y="270"/>
                  </a:lnTo>
                  <a:lnTo>
                    <a:pt x="230" y="270"/>
                  </a:lnTo>
                  <a:lnTo>
                    <a:pt x="236" y="270"/>
                  </a:lnTo>
                  <a:lnTo>
                    <a:pt x="236" y="266"/>
                  </a:lnTo>
                  <a:lnTo>
                    <a:pt x="236" y="264"/>
                  </a:lnTo>
                  <a:lnTo>
                    <a:pt x="232" y="226"/>
                  </a:lnTo>
                  <a:lnTo>
                    <a:pt x="216" y="202"/>
                  </a:lnTo>
                  <a:lnTo>
                    <a:pt x="188" y="168"/>
                  </a:lnTo>
                  <a:lnTo>
                    <a:pt x="186" y="168"/>
                  </a:lnTo>
                  <a:lnTo>
                    <a:pt x="184" y="146"/>
                  </a:lnTo>
                  <a:lnTo>
                    <a:pt x="176" y="128"/>
                  </a:lnTo>
                  <a:lnTo>
                    <a:pt x="174" y="128"/>
                  </a:lnTo>
                  <a:lnTo>
                    <a:pt x="176" y="126"/>
                  </a:lnTo>
                  <a:lnTo>
                    <a:pt x="180" y="104"/>
                  </a:lnTo>
                  <a:lnTo>
                    <a:pt x="182" y="104"/>
                  </a:lnTo>
                  <a:lnTo>
                    <a:pt x="184" y="104"/>
                  </a:lnTo>
                  <a:lnTo>
                    <a:pt x="234" y="102"/>
                  </a:lnTo>
                  <a:lnTo>
                    <a:pt x="260" y="88"/>
                  </a:lnTo>
                  <a:lnTo>
                    <a:pt x="262" y="86"/>
                  </a:lnTo>
                  <a:lnTo>
                    <a:pt x="274" y="82"/>
                  </a:lnTo>
                  <a:lnTo>
                    <a:pt x="278" y="78"/>
                  </a:lnTo>
                  <a:lnTo>
                    <a:pt x="280" y="76"/>
                  </a:lnTo>
                  <a:lnTo>
                    <a:pt x="282" y="68"/>
                  </a:lnTo>
                  <a:lnTo>
                    <a:pt x="284" y="5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陕西"/>
            <p:cNvSpPr/>
            <p:nvPr/>
          </p:nvSpPr>
          <p:spPr>
            <a:xfrm>
              <a:off x="2598840" y="2287080"/>
              <a:ext cx="298440" cy="53316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324" h="578">
                  <a:moveTo>
                    <a:pt x="108" y="132"/>
                  </a:moveTo>
                  <a:lnTo>
                    <a:pt x="104" y="130"/>
                  </a:lnTo>
                  <a:lnTo>
                    <a:pt x="96" y="180"/>
                  </a:lnTo>
                  <a:lnTo>
                    <a:pt x="108" y="196"/>
                  </a:lnTo>
                  <a:lnTo>
                    <a:pt x="122" y="200"/>
                  </a:lnTo>
                  <a:lnTo>
                    <a:pt x="124" y="202"/>
                  </a:lnTo>
                  <a:lnTo>
                    <a:pt x="140" y="216"/>
                  </a:lnTo>
                  <a:lnTo>
                    <a:pt x="164" y="220"/>
                  </a:lnTo>
                  <a:lnTo>
                    <a:pt x="176" y="228"/>
                  </a:lnTo>
                  <a:lnTo>
                    <a:pt x="176" y="230"/>
                  </a:lnTo>
                  <a:lnTo>
                    <a:pt x="186" y="244"/>
                  </a:lnTo>
                  <a:lnTo>
                    <a:pt x="188" y="244"/>
                  </a:lnTo>
                  <a:lnTo>
                    <a:pt x="186" y="246"/>
                  </a:lnTo>
                  <a:lnTo>
                    <a:pt x="178" y="260"/>
                  </a:lnTo>
                  <a:lnTo>
                    <a:pt x="178" y="264"/>
                  </a:lnTo>
                  <a:lnTo>
                    <a:pt x="176" y="272"/>
                  </a:lnTo>
                  <a:lnTo>
                    <a:pt x="178" y="272"/>
                  </a:lnTo>
                  <a:lnTo>
                    <a:pt x="178" y="286"/>
                  </a:lnTo>
                  <a:lnTo>
                    <a:pt x="176" y="288"/>
                  </a:lnTo>
                  <a:lnTo>
                    <a:pt x="170" y="312"/>
                  </a:lnTo>
                  <a:lnTo>
                    <a:pt x="168" y="316"/>
                  </a:lnTo>
                  <a:lnTo>
                    <a:pt x="164" y="314"/>
                  </a:lnTo>
                  <a:lnTo>
                    <a:pt x="154" y="312"/>
                  </a:lnTo>
                  <a:lnTo>
                    <a:pt x="140" y="312"/>
                  </a:lnTo>
                  <a:lnTo>
                    <a:pt x="128" y="316"/>
                  </a:lnTo>
                  <a:lnTo>
                    <a:pt x="116" y="328"/>
                  </a:lnTo>
                  <a:lnTo>
                    <a:pt x="112" y="332"/>
                  </a:lnTo>
                  <a:lnTo>
                    <a:pt x="130" y="340"/>
                  </a:lnTo>
                  <a:lnTo>
                    <a:pt x="128" y="344"/>
                  </a:lnTo>
                  <a:lnTo>
                    <a:pt x="124" y="350"/>
                  </a:lnTo>
                  <a:lnTo>
                    <a:pt x="116" y="354"/>
                  </a:lnTo>
                  <a:lnTo>
                    <a:pt x="106" y="354"/>
                  </a:lnTo>
                  <a:lnTo>
                    <a:pt x="88" y="348"/>
                  </a:lnTo>
                  <a:lnTo>
                    <a:pt x="70" y="338"/>
                  </a:lnTo>
                  <a:lnTo>
                    <a:pt x="64" y="338"/>
                  </a:lnTo>
                  <a:lnTo>
                    <a:pt x="44" y="366"/>
                  </a:lnTo>
                  <a:lnTo>
                    <a:pt x="40" y="376"/>
                  </a:lnTo>
                  <a:lnTo>
                    <a:pt x="40" y="392"/>
                  </a:lnTo>
                  <a:lnTo>
                    <a:pt x="48" y="406"/>
                  </a:lnTo>
                  <a:lnTo>
                    <a:pt x="48" y="408"/>
                  </a:lnTo>
                  <a:lnTo>
                    <a:pt x="52" y="420"/>
                  </a:lnTo>
                  <a:lnTo>
                    <a:pt x="52" y="422"/>
                  </a:lnTo>
                  <a:lnTo>
                    <a:pt x="52" y="440"/>
                  </a:lnTo>
                  <a:lnTo>
                    <a:pt x="52" y="442"/>
                  </a:lnTo>
                  <a:lnTo>
                    <a:pt x="54" y="444"/>
                  </a:lnTo>
                  <a:lnTo>
                    <a:pt x="40" y="446"/>
                  </a:lnTo>
                  <a:lnTo>
                    <a:pt x="16" y="446"/>
                  </a:lnTo>
                  <a:lnTo>
                    <a:pt x="6" y="454"/>
                  </a:lnTo>
                  <a:lnTo>
                    <a:pt x="0" y="462"/>
                  </a:lnTo>
                  <a:lnTo>
                    <a:pt x="2" y="462"/>
                  </a:lnTo>
                  <a:lnTo>
                    <a:pt x="6" y="486"/>
                  </a:lnTo>
                  <a:lnTo>
                    <a:pt x="8" y="486"/>
                  </a:lnTo>
                  <a:lnTo>
                    <a:pt x="8" y="496"/>
                  </a:lnTo>
                  <a:lnTo>
                    <a:pt x="12" y="508"/>
                  </a:lnTo>
                  <a:lnTo>
                    <a:pt x="30" y="518"/>
                  </a:lnTo>
                  <a:lnTo>
                    <a:pt x="54" y="512"/>
                  </a:lnTo>
                  <a:lnTo>
                    <a:pt x="66" y="504"/>
                  </a:lnTo>
                  <a:lnTo>
                    <a:pt x="68" y="504"/>
                  </a:lnTo>
                  <a:lnTo>
                    <a:pt x="80" y="504"/>
                  </a:lnTo>
                  <a:lnTo>
                    <a:pt x="86" y="520"/>
                  </a:lnTo>
                  <a:lnTo>
                    <a:pt x="92" y="526"/>
                  </a:lnTo>
                  <a:lnTo>
                    <a:pt x="94" y="532"/>
                  </a:lnTo>
                  <a:lnTo>
                    <a:pt x="100" y="532"/>
                  </a:lnTo>
                  <a:lnTo>
                    <a:pt x="102" y="532"/>
                  </a:lnTo>
                  <a:lnTo>
                    <a:pt x="104" y="532"/>
                  </a:lnTo>
                  <a:lnTo>
                    <a:pt x="104" y="530"/>
                  </a:lnTo>
                  <a:lnTo>
                    <a:pt x="116" y="520"/>
                  </a:lnTo>
                  <a:lnTo>
                    <a:pt x="126" y="540"/>
                  </a:lnTo>
                  <a:lnTo>
                    <a:pt x="136" y="546"/>
                  </a:lnTo>
                  <a:lnTo>
                    <a:pt x="152" y="546"/>
                  </a:lnTo>
                  <a:lnTo>
                    <a:pt x="164" y="544"/>
                  </a:lnTo>
                  <a:lnTo>
                    <a:pt x="168" y="544"/>
                  </a:lnTo>
                  <a:lnTo>
                    <a:pt x="196" y="548"/>
                  </a:lnTo>
                  <a:lnTo>
                    <a:pt x="196" y="550"/>
                  </a:lnTo>
                  <a:lnTo>
                    <a:pt x="208" y="556"/>
                  </a:lnTo>
                  <a:lnTo>
                    <a:pt x="208" y="558"/>
                  </a:lnTo>
                  <a:lnTo>
                    <a:pt x="220" y="566"/>
                  </a:lnTo>
                  <a:lnTo>
                    <a:pt x="226" y="574"/>
                  </a:lnTo>
                  <a:lnTo>
                    <a:pt x="234" y="578"/>
                  </a:lnTo>
                  <a:lnTo>
                    <a:pt x="248" y="576"/>
                  </a:lnTo>
                  <a:lnTo>
                    <a:pt x="248" y="560"/>
                  </a:lnTo>
                  <a:lnTo>
                    <a:pt x="240" y="548"/>
                  </a:lnTo>
                  <a:lnTo>
                    <a:pt x="236" y="526"/>
                  </a:lnTo>
                  <a:lnTo>
                    <a:pt x="246" y="516"/>
                  </a:lnTo>
                  <a:lnTo>
                    <a:pt x="248" y="514"/>
                  </a:lnTo>
                  <a:lnTo>
                    <a:pt x="258" y="512"/>
                  </a:lnTo>
                  <a:lnTo>
                    <a:pt x="268" y="512"/>
                  </a:lnTo>
                  <a:lnTo>
                    <a:pt x="272" y="508"/>
                  </a:lnTo>
                  <a:lnTo>
                    <a:pt x="264" y="500"/>
                  </a:lnTo>
                  <a:lnTo>
                    <a:pt x="242" y="484"/>
                  </a:lnTo>
                  <a:lnTo>
                    <a:pt x="236" y="476"/>
                  </a:lnTo>
                  <a:lnTo>
                    <a:pt x="234" y="474"/>
                  </a:lnTo>
                  <a:lnTo>
                    <a:pt x="236" y="472"/>
                  </a:lnTo>
                  <a:lnTo>
                    <a:pt x="242" y="460"/>
                  </a:lnTo>
                  <a:lnTo>
                    <a:pt x="244" y="462"/>
                  </a:lnTo>
                  <a:lnTo>
                    <a:pt x="260" y="466"/>
                  </a:lnTo>
                  <a:lnTo>
                    <a:pt x="302" y="464"/>
                  </a:lnTo>
                  <a:lnTo>
                    <a:pt x="302" y="466"/>
                  </a:lnTo>
                  <a:lnTo>
                    <a:pt x="304" y="466"/>
                  </a:lnTo>
                  <a:lnTo>
                    <a:pt x="316" y="470"/>
                  </a:lnTo>
                  <a:lnTo>
                    <a:pt x="324" y="462"/>
                  </a:lnTo>
                  <a:lnTo>
                    <a:pt x="320" y="438"/>
                  </a:lnTo>
                  <a:lnTo>
                    <a:pt x="304" y="428"/>
                  </a:lnTo>
                  <a:lnTo>
                    <a:pt x="300" y="424"/>
                  </a:lnTo>
                  <a:lnTo>
                    <a:pt x="296" y="420"/>
                  </a:lnTo>
                  <a:lnTo>
                    <a:pt x="292" y="410"/>
                  </a:lnTo>
                  <a:lnTo>
                    <a:pt x="290" y="394"/>
                  </a:lnTo>
                  <a:lnTo>
                    <a:pt x="290" y="374"/>
                  </a:lnTo>
                  <a:lnTo>
                    <a:pt x="276" y="368"/>
                  </a:lnTo>
                  <a:lnTo>
                    <a:pt x="274" y="368"/>
                  </a:lnTo>
                  <a:lnTo>
                    <a:pt x="274" y="366"/>
                  </a:lnTo>
                  <a:lnTo>
                    <a:pt x="274" y="364"/>
                  </a:lnTo>
                  <a:lnTo>
                    <a:pt x="272" y="344"/>
                  </a:lnTo>
                  <a:lnTo>
                    <a:pt x="288" y="262"/>
                  </a:lnTo>
                  <a:lnTo>
                    <a:pt x="280" y="232"/>
                  </a:lnTo>
                  <a:lnTo>
                    <a:pt x="278" y="214"/>
                  </a:lnTo>
                  <a:lnTo>
                    <a:pt x="276" y="190"/>
                  </a:lnTo>
                  <a:lnTo>
                    <a:pt x="278" y="164"/>
                  </a:lnTo>
                  <a:lnTo>
                    <a:pt x="278" y="162"/>
                  </a:lnTo>
                  <a:lnTo>
                    <a:pt x="280" y="160"/>
                  </a:lnTo>
                  <a:lnTo>
                    <a:pt x="296" y="148"/>
                  </a:lnTo>
                  <a:lnTo>
                    <a:pt x="296" y="136"/>
                  </a:lnTo>
                  <a:lnTo>
                    <a:pt x="294" y="130"/>
                  </a:lnTo>
                  <a:lnTo>
                    <a:pt x="290" y="122"/>
                  </a:lnTo>
                  <a:lnTo>
                    <a:pt x="280" y="110"/>
                  </a:lnTo>
                  <a:lnTo>
                    <a:pt x="278" y="110"/>
                  </a:lnTo>
                  <a:lnTo>
                    <a:pt x="278" y="108"/>
                  </a:lnTo>
                  <a:lnTo>
                    <a:pt x="276" y="88"/>
                  </a:lnTo>
                  <a:lnTo>
                    <a:pt x="276" y="86"/>
                  </a:lnTo>
                  <a:lnTo>
                    <a:pt x="298" y="60"/>
                  </a:lnTo>
                  <a:lnTo>
                    <a:pt x="298" y="48"/>
                  </a:lnTo>
                  <a:lnTo>
                    <a:pt x="292" y="36"/>
                  </a:lnTo>
                  <a:lnTo>
                    <a:pt x="290" y="34"/>
                  </a:lnTo>
                  <a:lnTo>
                    <a:pt x="300" y="20"/>
                  </a:lnTo>
                  <a:lnTo>
                    <a:pt x="302" y="20"/>
                  </a:lnTo>
                  <a:lnTo>
                    <a:pt x="312" y="12"/>
                  </a:lnTo>
                  <a:lnTo>
                    <a:pt x="312" y="0"/>
                  </a:lnTo>
                  <a:lnTo>
                    <a:pt x="306" y="0"/>
                  </a:lnTo>
                  <a:lnTo>
                    <a:pt x="296" y="0"/>
                  </a:lnTo>
                  <a:lnTo>
                    <a:pt x="292" y="18"/>
                  </a:lnTo>
                  <a:lnTo>
                    <a:pt x="290" y="18"/>
                  </a:lnTo>
                  <a:lnTo>
                    <a:pt x="268" y="10"/>
                  </a:lnTo>
                  <a:lnTo>
                    <a:pt x="256" y="8"/>
                  </a:lnTo>
                  <a:lnTo>
                    <a:pt x="260" y="28"/>
                  </a:lnTo>
                  <a:lnTo>
                    <a:pt x="244" y="32"/>
                  </a:lnTo>
                  <a:lnTo>
                    <a:pt x="218" y="46"/>
                  </a:lnTo>
                  <a:lnTo>
                    <a:pt x="210" y="56"/>
                  </a:lnTo>
                  <a:lnTo>
                    <a:pt x="210" y="58"/>
                  </a:lnTo>
                  <a:lnTo>
                    <a:pt x="208" y="58"/>
                  </a:lnTo>
                  <a:lnTo>
                    <a:pt x="196" y="70"/>
                  </a:lnTo>
                  <a:lnTo>
                    <a:pt x="192" y="88"/>
                  </a:lnTo>
                  <a:lnTo>
                    <a:pt x="192" y="90"/>
                  </a:lnTo>
                  <a:lnTo>
                    <a:pt x="186" y="118"/>
                  </a:lnTo>
                  <a:lnTo>
                    <a:pt x="184" y="130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74" y="144"/>
                  </a:lnTo>
                  <a:lnTo>
                    <a:pt x="172" y="144"/>
                  </a:lnTo>
                  <a:lnTo>
                    <a:pt x="172" y="146"/>
                  </a:lnTo>
                  <a:lnTo>
                    <a:pt x="152" y="148"/>
                  </a:lnTo>
                  <a:lnTo>
                    <a:pt x="122" y="138"/>
                  </a:lnTo>
                  <a:lnTo>
                    <a:pt x="108" y="1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山西"/>
            <p:cNvSpPr/>
            <p:nvPr/>
          </p:nvSpPr>
          <p:spPr>
            <a:xfrm>
              <a:off x="2856960" y="2187360"/>
              <a:ext cx="198720" cy="4370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437040"/>
                <a:gd name="textAreaBottom" fmla="*/ 437400 h 437040"/>
              </a:gdLst>
              <a:ahLst/>
              <a:rect l="textAreaLeft" t="textAreaTop" r="textAreaRight" b="textAreaBottom"/>
              <a:pathLst>
                <a:path w="216" h="474">
                  <a:moveTo>
                    <a:pt x="202" y="24"/>
                  </a:moveTo>
                  <a:lnTo>
                    <a:pt x="204" y="20"/>
                  </a:lnTo>
                  <a:lnTo>
                    <a:pt x="200" y="8"/>
                  </a:lnTo>
                  <a:lnTo>
                    <a:pt x="194" y="0"/>
                  </a:lnTo>
                  <a:lnTo>
                    <a:pt x="188" y="12"/>
                  </a:lnTo>
                  <a:lnTo>
                    <a:pt x="176" y="24"/>
                  </a:lnTo>
                  <a:lnTo>
                    <a:pt x="174" y="24"/>
                  </a:lnTo>
                  <a:lnTo>
                    <a:pt x="156" y="30"/>
                  </a:lnTo>
                  <a:lnTo>
                    <a:pt x="154" y="30"/>
                  </a:lnTo>
                  <a:lnTo>
                    <a:pt x="136" y="28"/>
                  </a:lnTo>
                  <a:lnTo>
                    <a:pt x="124" y="30"/>
                  </a:lnTo>
                  <a:lnTo>
                    <a:pt x="122" y="40"/>
                  </a:lnTo>
                  <a:lnTo>
                    <a:pt x="112" y="46"/>
                  </a:lnTo>
                  <a:lnTo>
                    <a:pt x="112" y="48"/>
                  </a:lnTo>
                  <a:lnTo>
                    <a:pt x="110" y="48"/>
                  </a:lnTo>
                  <a:lnTo>
                    <a:pt x="94" y="46"/>
                  </a:lnTo>
                  <a:lnTo>
                    <a:pt x="92" y="48"/>
                  </a:lnTo>
                  <a:lnTo>
                    <a:pt x="92" y="64"/>
                  </a:lnTo>
                  <a:lnTo>
                    <a:pt x="84" y="76"/>
                  </a:lnTo>
                  <a:lnTo>
                    <a:pt x="82" y="76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50" y="96"/>
                  </a:lnTo>
                  <a:lnTo>
                    <a:pt x="40" y="106"/>
                  </a:lnTo>
                  <a:lnTo>
                    <a:pt x="42" y="120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28" y="136"/>
                  </a:lnTo>
                  <a:lnTo>
                    <a:pt x="20" y="144"/>
                  </a:lnTo>
                  <a:lnTo>
                    <a:pt x="26" y="154"/>
                  </a:lnTo>
                  <a:lnTo>
                    <a:pt x="26" y="156"/>
                  </a:lnTo>
                  <a:lnTo>
                    <a:pt x="26" y="170"/>
                  </a:lnTo>
                  <a:lnTo>
                    <a:pt x="26" y="172"/>
                  </a:lnTo>
                  <a:lnTo>
                    <a:pt x="16" y="184"/>
                  </a:lnTo>
                  <a:lnTo>
                    <a:pt x="4" y="198"/>
                  </a:lnTo>
                  <a:lnTo>
                    <a:pt x="6" y="214"/>
                  </a:lnTo>
                  <a:lnTo>
                    <a:pt x="16" y="224"/>
                  </a:lnTo>
                  <a:lnTo>
                    <a:pt x="22" y="236"/>
                  </a:lnTo>
                  <a:lnTo>
                    <a:pt x="24" y="244"/>
                  </a:lnTo>
                  <a:lnTo>
                    <a:pt x="24" y="262"/>
                  </a:lnTo>
                  <a:lnTo>
                    <a:pt x="22" y="264"/>
                  </a:lnTo>
                  <a:lnTo>
                    <a:pt x="6" y="276"/>
                  </a:lnTo>
                  <a:lnTo>
                    <a:pt x="4" y="300"/>
                  </a:lnTo>
                  <a:lnTo>
                    <a:pt x="6" y="324"/>
                  </a:lnTo>
                  <a:lnTo>
                    <a:pt x="10" y="340"/>
                  </a:lnTo>
                  <a:lnTo>
                    <a:pt x="18" y="368"/>
                  </a:lnTo>
                  <a:lnTo>
                    <a:pt x="18" y="370"/>
                  </a:lnTo>
                  <a:lnTo>
                    <a:pt x="18" y="372"/>
                  </a:lnTo>
                  <a:lnTo>
                    <a:pt x="0" y="452"/>
                  </a:lnTo>
                  <a:lnTo>
                    <a:pt x="2" y="468"/>
                  </a:lnTo>
                  <a:lnTo>
                    <a:pt x="14" y="474"/>
                  </a:lnTo>
                  <a:lnTo>
                    <a:pt x="32" y="456"/>
                  </a:lnTo>
                  <a:lnTo>
                    <a:pt x="34" y="456"/>
                  </a:lnTo>
                  <a:lnTo>
                    <a:pt x="96" y="432"/>
                  </a:lnTo>
                  <a:lnTo>
                    <a:pt x="112" y="416"/>
                  </a:lnTo>
                  <a:lnTo>
                    <a:pt x="114" y="416"/>
                  </a:lnTo>
                  <a:lnTo>
                    <a:pt x="116" y="416"/>
                  </a:lnTo>
                  <a:lnTo>
                    <a:pt x="150" y="420"/>
                  </a:lnTo>
                  <a:lnTo>
                    <a:pt x="162" y="416"/>
                  </a:lnTo>
                  <a:lnTo>
                    <a:pt x="180" y="408"/>
                  </a:lnTo>
                  <a:lnTo>
                    <a:pt x="180" y="392"/>
                  </a:lnTo>
                  <a:lnTo>
                    <a:pt x="182" y="392"/>
                  </a:lnTo>
                  <a:lnTo>
                    <a:pt x="192" y="382"/>
                  </a:lnTo>
                  <a:lnTo>
                    <a:pt x="190" y="372"/>
                  </a:lnTo>
                  <a:lnTo>
                    <a:pt x="190" y="370"/>
                  </a:lnTo>
                  <a:lnTo>
                    <a:pt x="190" y="368"/>
                  </a:lnTo>
                  <a:lnTo>
                    <a:pt x="194" y="364"/>
                  </a:lnTo>
                  <a:lnTo>
                    <a:pt x="192" y="360"/>
                  </a:lnTo>
                  <a:lnTo>
                    <a:pt x="190" y="356"/>
                  </a:lnTo>
                  <a:lnTo>
                    <a:pt x="190" y="352"/>
                  </a:lnTo>
                  <a:lnTo>
                    <a:pt x="194" y="340"/>
                  </a:lnTo>
                  <a:lnTo>
                    <a:pt x="198" y="336"/>
                  </a:lnTo>
                  <a:lnTo>
                    <a:pt x="196" y="324"/>
                  </a:lnTo>
                  <a:lnTo>
                    <a:pt x="184" y="310"/>
                  </a:lnTo>
                  <a:lnTo>
                    <a:pt x="182" y="306"/>
                  </a:lnTo>
                  <a:lnTo>
                    <a:pt x="180" y="302"/>
                  </a:lnTo>
                  <a:lnTo>
                    <a:pt x="180" y="298"/>
                  </a:lnTo>
                  <a:lnTo>
                    <a:pt x="182" y="294"/>
                  </a:lnTo>
                  <a:lnTo>
                    <a:pt x="184" y="288"/>
                  </a:lnTo>
                  <a:lnTo>
                    <a:pt x="190" y="280"/>
                  </a:lnTo>
                  <a:lnTo>
                    <a:pt x="192" y="268"/>
                  </a:lnTo>
                  <a:lnTo>
                    <a:pt x="202" y="248"/>
                  </a:lnTo>
                  <a:lnTo>
                    <a:pt x="204" y="240"/>
                  </a:lnTo>
                  <a:lnTo>
                    <a:pt x="216" y="216"/>
                  </a:lnTo>
                  <a:lnTo>
                    <a:pt x="208" y="200"/>
                  </a:lnTo>
                  <a:lnTo>
                    <a:pt x="184" y="184"/>
                  </a:lnTo>
                  <a:lnTo>
                    <a:pt x="182" y="184"/>
                  </a:lnTo>
                  <a:lnTo>
                    <a:pt x="176" y="170"/>
                  </a:lnTo>
                  <a:lnTo>
                    <a:pt x="176" y="168"/>
                  </a:lnTo>
                  <a:lnTo>
                    <a:pt x="180" y="146"/>
                  </a:lnTo>
                  <a:lnTo>
                    <a:pt x="184" y="130"/>
                  </a:lnTo>
                  <a:lnTo>
                    <a:pt x="184" y="122"/>
                  </a:lnTo>
                  <a:lnTo>
                    <a:pt x="188" y="116"/>
                  </a:lnTo>
                  <a:lnTo>
                    <a:pt x="190" y="114"/>
                  </a:lnTo>
                  <a:lnTo>
                    <a:pt x="194" y="114"/>
                  </a:lnTo>
                  <a:lnTo>
                    <a:pt x="208" y="112"/>
                  </a:lnTo>
                  <a:lnTo>
                    <a:pt x="212" y="102"/>
                  </a:lnTo>
                  <a:lnTo>
                    <a:pt x="216" y="76"/>
                  </a:lnTo>
                  <a:lnTo>
                    <a:pt x="214" y="66"/>
                  </a:lnTo>
                  <a:lnTo>
                    <a:pt x="200" y="64"/>
                  </a:lnTo>
                  <a:lnTo>
                    <a:pt x="184" y="56"/>
                  </a:lnTo>
                  <a:lnTo>
                    <a:pt x="182" y="54"/>
                  </a:lnTo>
                  <a:lnTo>
                    <a:pt x="182" y="52"/>
                  </a:lnTo>
                  <a:lnTo>
                    <a:pt x="180" y="32"/>
                  </a:lnTo>
                  <a:lnTo>
                    <a:pt x="180" y="28"/>
                  </a:lnTo>
                  <a:lnTo>
                    <a:pt x="20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湖南"/>
            <p:cNvSpPr/>
            <p:nvPr/>
          </p:nvSpPr>
          <p:spPr>
            <a:xfrm>
              <a:off x="2805480" y="2932560"/>
              <a:ext cx="316800" cy="368640"/>
            </a:xfrm>
            <a:custGeom>
              <a:avLst/>
              <a:gdLst>
                <a:gd name="textAreaLeft" fmla="*/ 0 w 316800"/>
                <a:gd name="textAreaRight" fmla="*/ 317160 w 31680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344" h="400">
                  <a:moveTo>
                    <a:pt x="300" y="68"/>
                  </a:moveTo>
                  <a:lnTo>
                    <a:pt x="300" y="68"/>
                  </a:lnTo>
                  <a:lnTo>
                    <a:pt x="300" y="66"/>
                  </a:lnTo>
                  <a:lnTo>
                    <a:pt x="292" y="54"/>
                  </a:lnTo>
                  <a:lnTo>
                    <a:pt x="292" y="52"/>
                  </a:lnTo>
                  <a:lnTo>
                    <a:pt x="294" y="32"/>
                  </a:lnTo>
                  <a:lnTo>
                    <a:pt x="292" y="28"/>
                  </a:lnTo>
                  <a:lnTo>
                    <a:pt x="286" y="24"/>
                  </a:lnTo>
                  <a:lnTo>
                    <a:pt x="282" y="24"/>
                  </a:lnTo>
                  <a:lnTo>
                    <a:pt x="274" y="34"/>
                  </a:lnTo>
                  <a:lnTo>
                    <a:pt x="272" y="34"/>
                  </a:lnTo>
                  <a:lnTo>
                    <a:pt x="252" y="44"/>
                  </a:lnTo>
                  <a:lnTo>
                    <a:pt x="250" y="30"/>
                  </a:lnTo>
                  <a:lnTo>
                    <a:pt x="250" y="28"/>
                  </a:lnTo>
                  <a:lnTo>
                    <a:pt x="252" y="22"/>
                  </a:lnTo>
                  <a:lnTo>
                    <a:pt x="250" y="14"/>
                  </a:lnTo>
                  <a:lnTo>
                    <a:pt x="248" y="12"/>
                  </a:lnTo>
                  <a:lnTo>
                    <a:pt x="244" y="20"/>
                  </a:lnTo>
                  <a:lnTo>
                    <a:pt x="218" y="42"/>
                  </a:lnTo>
                  <a:lnTo>
                    <a:pt x="218" y="44"/>
                  </a:lnTo>
                  <a:lnTo>
                    <a:pt x="216" y="44"/>
                  </a:lnTo>
                  <a:lnTo>
                    <a:pt x="214" y="44"/>
                  </a:lnTo>
                  <a:lnTo>
                    <a:pt x="206" y="40"/>
                  </a:lnTo>
                  <a:lnTo>
                    <a:pt x="198" y="32"/>
                  </a:lnTo>
                  <a:lnTo>
                    <a:pt x="184" y="28"/>
                  </a:lnTo>
                  <a:lnTo>
                    <a:pt x="184" y="26"/>
                  </a:lnTo>
                  <a:lnTo>
                    <a:pt x="176" y="20"/>
                  </a:lnTo>
                  <a:lnTo>
                    <a:pt x="150" y="16"/>
                  </a:lnTo>
                  <a:lnTo>
                    <a:pt x="148" y="16"/>
                  </a:lnTo>
                  <a:lnTo>
                    <a:pt x="132" y="6"/>
                  </a:lnTo>
                  <a:lnTo>
                    <a:pt x="132" y="8"/>
                  </a:lnTo>
                  <a:lnTo>
                    <a:pt x="118" y="0"/>
                  </a:lnTo>
                  <a:lnTo>
                    <a:pt x="100" y="0"/>
                  </a:lnTo>
                  <a:lnTo>
                    <a:pt x="94" y="0"/>
                  </a:lnTo>
                  <a:lnTo>
                    <a:pt x="100" y="30"/>
                  </a:lnTo>
                  <a:lnTo>
                    <a:pt x="96" y="30"/>
                  </a:lnTo>
                  <a:lnTo>
                    <a:pt x="80" y="32"/>
                  </a:lnTo>
                  <a:lnTo>
                    <a:pt x="70" y="32"/>
                  </a:lnTo>
                  <a:lnTo>
                    <a:pt x="68" y="32"/>
                  </a:lnTo>
                  <a:lnTo>
                    <a:pt x="60" y="24"/>
                  </a:lnTo>
                  <a:lnTo>
                    <a:pt x="44" y="32"/>
                  </a:lnTo>
                  <a:lnTo>
                    <a:pt x="28" y="52"/>
                  </a:lnTo>
                  <a:lnTo>
                    <a:pt x="16" y="86"/>
                  </a:lnTo>
                  <a:lnTo>
                    <a:pt x="20" y="124"/>
                  </a:lnTo>
                  <a:lnTo>
                    <a:pt x="26" y="144"/>
                  </a:lnTo>
                  <a:lnTo>
                    <a:pt x="26" y="148"/>
                  </a:lnTo>
                  <a:lnTo>
                    <a:pt x="24" y="150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18" y="166"/>
                  </a:lnTo>
                  <a:lnTo>
                    <a:pt x="26" y="198"/>
                  </a:lnTo>
                  <a:lnTo>
                    <a:pt x="24" y="200"/>
                  </a:lnTo>
                  <a:lnTo>
                    <a:pt x="8" y="210"/>
                  </a:lnTo>
                  <a:lnTo>
                    <a:pt x="4" y="214"/>
                  </a:lnTo>
                  <a:lnTo>
                    <a:pt x="2" y="218"/>
                  </a:lnTo>
                  <a:lnTo>
                    <a:pt x="0" y="228"/>
                  </a:lnTo>
                  <a:lnTo>
                    <a:pt x="14" y="224"/>
                  </a:lnTo>
                  <a:lnTo>
                    <a:pt x="14" y="222"/>
                  </a:lnTo>
                  <a:lnTo>
                    <a:pt x="16" y="222"/>
                  </a:lnTo>
                  <a:lnTo>
                    <a:pt x="22" y="224"/>
                  </a:lnTo>
                  <a:lnTo>
                    <a:pt x="26" y="226"/>
                  </a:lnTo>
                  <a:lnTo>
                    <a:pt x="30" y="228"/>
                  </a:lnTo>
                  <a:lnTo>
                    <a:pt x="32" y="234"/>
                  </a:lnTo>
                  <a:lnTo>
                    <a:pt x="34" y="252"/>
                  </a:lnTo>
                  <a:lnTo>
                    <a:pt x="32" y="254"/>
                  </a:lnTo>
                  <a:lnTo>
                    <a:pt x="32" y="256"/>
                  </a:lnTo>
                  <a:lnTo>
                    <a:pt x="28" y="260"/>
                  </a:lnTo>
                  <a:lnTo>
                    <a:pt x="28" y="264"/>
                  </a:lnTo>
                  <a:lnTo>
                    <a:pt x="24" y="282"/>
                  </a:lnTo>
                  <a:lnTo>
                    <a:pt x="28" y="290"/>
                  </a:lnTo>
                  <a:lnTo>
                    <a:pt x="32" y="296"/>
                  </a:lnTo>
                  <a:lnTo>
                    <a:pt x="48" y="316"/>
                  </a:lnTo>
                  <a:lnTo>
                    <a:pt x="64" y="304"/>
                  </a:lnTo>
                  <a:lnTo>
                    <a:pt x="76" y="302"/>
                  </a:lnTo>
                  <a:lnTo>
                    <a:pt x="76" y="304"/>
                  </a:lnTo>
                  <a:lnTo>
                    <a:pt x="84" y="306"/>
                  </a:lnTo>
                  <a:lnTo>
                    <a:pt x="88" y="306"/>
                  </a:lnTo>
                  <a:lnTo>
                    <a:pt x="92" y="302"/>
                  </a:lnTo>
                  <a:lnTo>
                    <a:pt x="100" y="292"/>
                  </a:lnTo>
                  <a:lnTo>
                    <a:pt x="98" y="286"/>
                  </a:lnTo>
                  <a:lnTo>
                    <a:pt x="100" y="282"/>
                  </a:lnTo>
                  <a:lnTo>
                    <a:pt x="104" y="280"/>
                  </a:lnTo>
                  <a:lnTo>
                    <a:pt x="124" y="280"/>
                  </a:lnTo>
                  <a:lnTo>
                    <a:pt x="128" y="280"/>
                  </a:lnTo>
                  <a:lnTo>
                    <a:pt x="130" y="280"/>
                  </a:lnTo>
                  <a:lnTo>
                    <a:pt x="134" y="274"/>
                  </a:lnTo>
                  <a:lnTo>
                    <a:pt x="136" y="270"/>
                  </a:lnTo>
                  <a:lnTo>
                    <a:pt x="142" y="270"/>
                  </a:lnTo>
                  <a:lnTo>
                    <a:pt x="146" y="272"/>
                  </a:lnTo>
                  <a:lnTo>
                    <a:pt x="152" y="280"/>
                  </a:lnTo>
                  <a:lnTo>
                    <a:pt x="154" y="284"/>
                  </a:lnTo>
                  <a:lnTo>
                    <a:pt x="156" y="288"/>
                  </a:lnTo>
                  <a:lnTo>
                    <a:pt x="154" y="302"/>
                  </a:lnTo>
                  <a:lnTo>
                    <a:pt x="156" y="304"/>
                  </a:lnTo>
                  <a:lnTo>
                    <a:pt x="162" y="310"/>
                  </a:lnTo>
                  <a:lnTo>
                    <a:pt x="164" y="316"/>
                  </a:lnTo>
                  <a:lnTo>
                    <a:pt x="162" y="330"/>
                  </a:lnTo>
                  <a:lnTo>
                    <a:pt x="158" y="340"/>
                  </a:lnTo>
                  <a:lnTo>
                    <a:pt x="154" y="344"/>
                  </a:lnTo>
                  <a:lnTo>
                    <a:pt x="142" y="370"/>
                  </a:lnTo>
                  <a:lnTo>
                    <a:pt x="146" y="372"/>
                  </a:lnTo>
                  <a:lnTo>
                    <a:pt x="164" y="372"/>
                  </a:lnTo>
                  <a:lnTo>
                    <a:pt x="168" y="374"/>
                  </a:lnTo>
                  <a:lnTo>
                    <a:pt x="168" y="376"/>
                  </a:lnTo>
                  <a:lnTo>
                    <a:pt x="164" y="388"/>
                  </a:lnTo>
                  <a:lnTo>
                    <a:pt x="164" y="394"/>
                  </a:lnTo>
                  <a:lnTo>
                    <a:pt x="172" y="398"/>
                  </a:lnTo>
                  <a:lnTo>
                    <a:pt x="176" y="400"/>
                  </a:lnTo>
                  <a:lnTo>
                    <a:pt x="178" y="398"/>
                  </a:lnTo>
                  <a:lnTo>
                    <a:pt x="188" y="394"/>
                  </a:lnTo>
                  <a:lnTo>
                    <a:pt x="194" y="392"/>
                  </a:lnTo>
                  <a:lnTo>
                    <a:pt x="204" y="392"/>
                  </a:lnTo>
                  <a:lnTo>
                    <a:pt x="216" y="380"/>
                  </a:lnTo>
                  <a:lnTo>
                    <a:pt x="216" y="366"/>
                  </a:lnTo>
                  <a:lnTo>
                    <a:pt x="216" y="360"/>
                  </a:lnTo>
                  <a:lnTo>
                    <a:pt x="216" y="356"/>
                  </a:lnTo>
                  <a:lnTo>
                    <a:pt x="220" y="354"/>
                  </a:lnTo>
                  <a:lnTo>
                    <a:pt x="224" y="354"/>
                  </a:lnTo>
                  <a:lnTo>
                    <a:pt x="230" y="356"/>
                  </a:lnTo>
                  <a:lnTo>
                    <a:pt x="236" y="360"/>
                  </a:lnTo>
                  <a:lnTo>
                    <a:pt x="256" y="372"/>
                  </a:lnTo>
                  <a:lnTo>
                    <a:pt x="264" y="376"/>
                  </a:lnTo>
                  <a:lnTo>
                    <a:pt x="270" y="378"/>
                  </a:lnTo>
                  <a:lnTo>
                    <a:pt x="270" y="376"/>
                  </a:lnTo>
                  <a:lnTo>
                    <a:pt x="270" y="370"/>
                  </a:lnTo>
                  <a:lnTo>
                    <a:pt x="266" y="360"/>
                  </a:lnTo>
                  <a:lnTo>
                    <a:pt x="256" y="344"/>
                  </a:lnTo>
                  <a:lnTo>
                    <a:pt x="256" y="342"/>
                  </a:lnTo>
                  <a:lnTo>
                    <a:pt x="256" y="340"/>
                  </a:lnTo>
                  <a:lnTo>
                    <a:pt x="264" y="332"/>
                  </a:lnTo>
                  <a:lnTo>
                    <a:pt x="274" y="326"/>
                  </a:lnTo>
                  <a:lnTo>
                    <a:pt x="282" y="324"/>
                  </a:lnTo>
                  <a:lnTo>
                    <a:pt x="292" y="326"/>
                  </a:lnTo>
                  <a:lnTo>
                    <a:pt x="320" y="340"/>
                  </a:lnTo>
                  <a:lnTo>
                    <a:pt x="332" y="332"/>
                  </a:lnTo>
                  <a:lnTo>
                    <a:pt x="334" y="332"/>
                  </a:lnTo>
                  <a:lnTo>
                    <a:pt x="334" y="330"/>
                  </a:lnTo>
                  <a:lnTo>
                    <a:pt x="332" y="328"/>
                  </a:lnTo>
                  <a:lnTo>
                    <a:pt x="334" y="326"/>
                  </a:lnTo>
                  <a:lnTo>
                    <a:pt x="340" y="314"/>
                  </a:lnTo>
                  <a:lnTo>
                    <a:pt x="344" y="304"/>
                  </a:lnTo>
                  <a:lnTo>
                    <a:pt x="344" y="298"/>
                  </a:lnTo>
                  <a:lnTo>
                    <a:pt x="344" y="292"/>
                  </a:lnTo>
                  <a:lnTo>
                    <a:pt x="338" y="286"/>
                  </a:lnTo>
                  <a:lnTo>
                    <a:pt x="334" y="284"/>
                  </a:lnTo>
                  <a:lnTo>
                    <a:pt x="332" y="284"/>
                  </a:lnTo>
                  <a:lnTo>
                    <a:pt x="330" y="276"/>
                  </a:lnTo>
                  <a:lnTo>
                    <a:pt x="332" y="276"/>
                  </a:lnTo>
                  <a:lnTo>
                    <a:pt x="338" y="272"/>
                  </a:lnTo>
                  <a:lnTo>
                    <a:pt x="340" y="268"/>
                  </a:lnTo>
                  <a:lnTo>
                    <a:pt x="338" y="264"/>
                  </a:lnTo>
                  <a:lnTo>
                    <a:pt x="326" y="252"/>
                  </a:lnTo>
                  <a:lnTo>
                    <a:pt x="326" y="250"/>
                  </a:lnTo>
                  <a:lnTo>
                    <a:pt x="320" y="232"/>
                  </a:lnTo>
                  <a:lnTo>
                    <a:pt x="316" y="214"/>
                  </a:lnTo>
                  <a:lnTo>
                    <a:pt x="316" y="196"/>
                  </a:lnTo>
                  <a:lnTo>
                    <a:pt x="316" y="188"/>
                  </a:lnTo>
                  <a:lnTo>
                    <a:pt x="308" y="196"/>
                  </a:lnTo>
                  <a:lnTo>
                    <a:pt x="302" y="204"/>
                  </a:lnTo>
                  <a:lnTo>
                    <a:pt x="300" y="170"/>
                  </a:lnTo>
                  <a:lnTo>
                    <a:pt x="300" y="168"/>
                  </a:lnTo>
                  <a:lnTo>
                    <a:pt x="322" y="138"/>
                  </a:lnTo>
                  <a:lnTo>
                    <a:pt x="334" y="124"/>
                  </a:lnTo>
                  <a:lnTo>
                    <a:pt x="326" y="100"/>
                  </a:lnTo>
                  <a:lnTo>
                    <a:pt x="322" y="76"/>
                  </a:lnTo>
                  <a:lnTo>
                    <a:pt x="308" y="70"/>
                  </a:lnTo>
                  <a:lnTo>
                    <a:pt x="300" y="6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湖北"/>
            <p:cNvSpPr/>
            <p:nvPr/>
          </p:nvSpPr>
          <p:spPr>
            <a:xfrm>
              <a:off x="2768400" y="2720520"/>
              <a:ext cx="449640" cy="28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488" h="306">
                  <a:moveTo>
                    <a:pt x="62" y="2"/>
                  </a:moveTo>
                  <a:lnTo>
                    <a:pt x="60" y="4"/>
                  </a:lnTo>
                  <a:lnTo>
                    <a:pt x="64" y="10"/>
                  </a:lnTo>
                  <a:lnTo>
                    <a:pt x="86" y="24"/>
                  </a:lnTo>
                  <a:lnTo>
                    <a:pt x="100" y="38"/>
                  </a:lnTo>
                  <a:lnTo>
                    <a:pt x="98" y="40"/>
                  </a:lnTo>
                  <a:lnTo>
                    <a:pt x="90" y="50"/>
                  </a:lnTo>
                  <a:lnTo>
                    <a:pt x="88" y="50"/>
                  </a:lnTo>
                  <a:lnTo>
                    <a:pt x="88" y="52"/>
                  </a:lnTo>
                  <a:lnTo>
                    <a:pt x="74" y="52"/>
                  </a:lnTo>
                  <a:lnTo>
                    <a:pt x="66" y="54"/>
                  </a:lnTo>
                  <a:lnTo>
                    <a:pt x="60" y="58"/>
                  </a:lnTo>
                  <a:lnTo>
                    <a:pt x="64" y="66"/>
                  </a:lnTo>
                  <a:lnTo>
                    <a:pt x="64" y="74"/>
                  </a:lnTo>
                  <a:lnTo>
                    <a:pt x="72" y="86"/>
                  </a:lnTo>
                  <a:lnTo>
                    <a:pt x="72" y="108"/>
                  </a:lnTo>
                  <a:lnTo>
                    <a:pt x="78" y="110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92" y="116"/>
                  </a:lnTo>
                  <a:lnTo>
                    <a:pt x="102" y="130"/>
                  </a:lnTo>
                  <a:lnTo>
                    <a:pt x="108" y="146"/>
                  </a:lnTo>
                  <a:lnTo>
                    <a:pt x="108" y="156"/>
                  </a:lnTo>
                  <a:lnTo>
                    <a:pt x="106" y="164"/>
                  </a:lnTo>
                  <a:lnTo>
                    <a:pt x="104" y="170"/>
                  </a:lnTo>
                  <a:lnTo>
                    <a:pt x="94" y="178"/>
                  </a:lnTo>
                  <a:lnTo>
                    <a:pt x="80" y="184"/>
                  </a:lnTo>
                  <a:lnTo>
                    <a:pt x="54" y="200"/>
                  </a:lnTo>
                  <a:lnTo>
                    <a:pt x="52" y="200"/>
                  </a:lnTo>
                  <a:lnTo>
                    <a:pt x="4" y="204"/>
                  </a:lnTo>
                  <a:lnTo>
                    <a:pt x="0" y="216"/>
                  </a:lnTo>
                  <a:lnTo>
                    <a:pt x="8" y="232"/>
                  </a:lnTo>
                  <a:lnTo>
                    <a:pt x="8" y="234"/>
                  </a:lnTo>
                  <a:lnTo>
                    <a:pt x="12" y="254"/>
                  </a:lnTo>
                  <a:lnTo>
                    <a:pt x="38" y="286"/>
                  </a:lnTo>
                  <a:lnTo>
                    <a:pt x="40" y="286"/>
                  </a:lnTo>
                  <a:lnTo>
                    <a:pt x="50" y="306"/>
                  </a:lnTo>
                  <a:lnTo>
                    <a:pt x="52" y="302"/>
                  </a:lnTo>
                  <a:lnTo>
                    <a:pt x="60" y="278"/>
                  </a:lnTo>
                  <a:lnTo>
                    <a:pt x="60" y="276"/>
                  </a:lnTo>
                  <a:lnTo>
                    <a:pt x="76" y="256"/>
                  </a:lnTo>
                  <a:lnTo>
                    <a:pt x="78" y="254"/>
                  </a:lnTo>
                  <a:lnTo>
                    <a:pt x="98" y="246"/>
                  </a:lnTo>
                  <a:lnTo>
                    <a:pt x="100" y="246"/>
                  </a:lnTo>
                  <a:lnTo>
                    <a:pt x="112" y="254"/>
                  </a:lnTo>
                  <a:lnTo>
                    <a:pt x="128" y="252"/>
                  </a:lnTo>
                  <a:lnTo>
                    <a:pt x="124" y="224"/>
                  </a:lnTo>
                  <a:lnTo>
                    <a:pt x="126" y="222"/>
                  </a:lnTo>
                  <a:lnTo>
                    <a:pt x="142" y="222"/>
                  </a:lnTo>
                  <a:lnTo>
                    <a:pt x="158" y="222"/>
                  </a:lnTo>
                  <a:lnTo>
                    <a:pt x="160" y="222"/>
                  </a:lnTo>
                  <a:lnTo>
                    <a:pt x="192" y="238"/>
                  </a:lnTo>
                  <a:lnTo>
                    <a:pt x="218" y="242"/>
                  </a:lnTo>
                  <a:lnTo>
                    <a:pt x="220" y="242"/>
                  </a:lnTo>
                  <a:lnTo>
                    <a:pt x="228" y="250"/>
                  </a:lnTo>
                  <a:lnTo>
                    <a:pt x="242" y="254"/>
                  </a:lnTo>
                  <a:lnTo>
                    <a:pt x="250" y="262"/>
                  </a:lnTo>
                  <a:lnTo>
                    <a:pt x="254" y="264"/>
                  </a:lnTo>
                  <a:lnTo>
                    <a:pt x="264" y="256"/>
                  </a:lnTo>
                  <a:lnTo>
                    <a:pt x="264" y="254"/>
                  </a:lnTo>
                  <a:lnTo>
                    <a:pt x="276" y="244"/>
                  </a:lnTo>
                  <a:lnTo>
                    <a:pt x="284" y="230"/>
                  </a:lnTo>
                  <a:lnTo>
                    <a:pt x="296" y="238"/>
                  </a:lnTo>
                  <a:lnTo>
                    <a:pt x="296" y="240"/>
                  </a:lnTo>
                  <a:lnTo>
                    <a:pt x="300" y="250"/>
                  </a:lnTo>
                  <a:lnTo>
                    <a:pt x="300" y="252"/>
                  </a:lnTo>
                  <a:lnTo>
                    <a:pt x="298" y="258"/>
                  </a:lnTo>
                  <a:lnTo>
                    <a:pt x="300" y="260"/>
                  </a:lnTo>
                  <a:lnTo>
                    <a:pt x="308" y="256"/>
                  </a:lnTo>
                  <a:lnTo>
                    <a:pt x="318" y="246"/>
                  </a:lnTo>
                  <a:lnTo>
                    <a:pt x="328" y="246"/>
                  </a:lnTo>
                  <a:lnTo>
                    <a:pt x="330" y="246"/>
                  </a:lnTo>
                  <a:lnTo>
                    <a:pt x="336" y="250"/>
                  </a:lnTo>
                  <a:lnTo>
                    <a:pt x="342" y="258"/>
                  </a:lnTo>
                  <a:lnTo>
                    <a:pt x="342" y="260"/>
                  </a:lnTo>
                  <a:lnTo>
                    <a:pt x="342" y="264"/>
                  </a:lnTo>
                  <a:lnTo>
                    <a:pt x="340" y="282"/>
                  </a:lnTo>
                  <a:lnTo>
                    <a:pt x="346" y="290"/>
                  </a:lnTo>
                  <a:lnTo>
                    <a:pt x="348" y="290"/>
                  </a:lnTo>
                  <a:lnTo>
                    <a:pt x="360" y="278"/>
                  </a:lnTo>
                  <a:lnTo>
                    <a:pt x="372" y="268"/>
                  </a:lnTo>
                  <a:lnTo>
                    <a:pt x="380" y="262"/>
                  </a:lnTo>
                  <a:lnTo>
                    <a:pt x="388" y="260"/>
                  </a:lnTo>
                  <a:lnTo>
                    <a:pt x="408" y="260"/>
                  </a:lnTo>
                  <a:lnTo>
                    <a:pt x="414" y="250"/>
                  </a:lnTo>
                  <a:lnTo>
                    <a:pt x="430" y="242"/>
                  </a:lnTo>
                  <a:lnTo>
                    <a:pt x="432" y="242"/>
                  </a:lnTo>
                  <a:lnTo>
                    <a:pt x="452" y="240"/>
                  </a:lnTo>
                  <a:lnTo>
                    <a:pt x="474" y="228"/>
                  </a:lnTo>
                  <a:lnTo>
                    <a:pt x="488" y="228"/>
                  </a:lnTo>
                  <a:lnTo>
                    <a:pt x="484" y="222"/>
                  </a:lnTo>
                  <a:lnTo>
                    <a:pt x="486" y="220"/>
                  </a:lnTo>
                  <a:lnTo>
                    <a:pt x="488" y="216"/>
                  </a:lnTo>
                  <a:lnTo>
                    <a:pt x="460" y="154"/>
                  </a:lnTo>
                  <a:lnTo>
                    <a:pt x="460" y="152"/>
                  </a:lnTo>
                  <a:lnTo>
                    <a:pt x="458" y="150"/>
                  </a:lnTo>
                  <a:lnTo>
                    <a:pt x="472" y="134"/>
                  </a:lnTo>
                  <a:lnTo>
                    <a:pt x="468" y="130"/>
                  </a:lnTo>
                  <a:lnTo>
                    <a:pt x="446" y="126"/>
                  </a:lnTo>
                  <a:lnTo>
                    <a:pt x="444" y="126"/>
                  </a:lnTo>
                  <a:lnTo>
                    <a:pt x="444" y="124"/>
                  </a:lnTo>
                  <a:lnTo>
                    <a:pt x="430" y="110"/>
                  </a:lnTo>
                  <a:lnTo>
                    <a:pt x="430" y="106"/>
                  </a:lnTo>
                  <a:lnTo>
                    <a:pt x="428" y="108"/>
                  </a:lnTo>
                  <a:lnTo>
                    <a:pt x="416" y="100"/>
                  </a:lnTo>
                  <a:lnTo>
                    <a:pt x="408" y="108"/>
                  </a:lnTo>
                  <a:lnTo>
                    <a:pt x="400" y="114"/>
                  </a:lnTo>
                  <a:lnTo>
                    <a:pt x="394" y="114"/>
                  </a:lnTo>
                  <a:lnTo>
                    <a:pt x="388" y="110"/>
                  </a:lnTo>
                  <a:lnTo>
                    <a:pt x="382" y="104"/>
                  </a:lnTo>
                  <a:lnTo>
                    <a:pt x="372" y="94"/>
                  </a:lnTo>
                  <a:lnTo>
                    <a:pt x="366" y="86"/>
                  </a:lnTo>
                  <a:lnTo>
                    <a:pt x="362" y="86"/>
                  </a:lnTo>
                  <a:lnTo>
                    <a:pt x="352" y="90"/>
                  </a:lnTo>
                  <a:lnTo>
                    <a:pt x="334" y="94"/>
                  </a:lnTo>
                  <a:lnTo>
                    <a:pt x="328" y="94"/>
                  </a:lnTo>
                  <a:lnTo>
                    <a:pt x="324" y="94"/>
                  </a:lnTo>
                  <a:lnTo>
                    <a:pt x="322" y="90"/>
                  </a:lnTo>
                  <a:lnTo>
                    <a:pt x="320" y="84"/>
                  </a:lnTo>
                  <a:lnTo>
                    <a:pt x="320" y="70"/>
                  </a:lnTo>
                  <a:lnTo>
                    <a:pt x="322" y="60"/>
                  </a:lnTo>
                  <a:lnTo>
                    <a:pt x="320" y="54"/>
                  </a:lnTo>
                  <a:lnTo>
                    <a:pt x="216" y="50"/>
                  </a:lnTo>
                  <a:lnTo>
                    <a:pt x="202" y="44"/>
                  </a:lnTo>
                  <a:lnTo>
                    <a:pt x="194" y="38"/>
                  </a:lnTo>
                  <a:lnTo>
                    <a:pt x="178" y="34"/>
                  </a:lnTo>
                  <a:lnTo>
                    <a:pt x="172" y="30"/>
                  </a:lnTo>
                  <a:lnTo>
                    <a:pt x="164" y="24"/>
                  </a:lnTo>
                  <a:lnTo>
                    <a:pt x="144" y="0"/>
                  </a:lnTo>
                  <a:lnTo>
                    <a:pt x="132" y="10"/>
                  </a:lnTo>
                  <a:lnTo>
                    <a:pt x="116" y="4"/>
                  </a:lnTo>
                  <a:lnTo>
                    <a:pt x="74" y="6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广东"/>
            <p:cNvSpPr/>
            <p:nvPr/>
          </p:nvSpPr>
          <p:spPr>
            <a:xfrm>
              <a:off x="2868120" y="3238920"/>
              <a:ext cx="468000" cy="37080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370800"/>
                <a:gd name="textAreaBottom" fmla="*/ 371160 h 370800"/>
              </a:gdLst>
              <a:ahLst/>
              <a:rect l="textAreaLeft" t="textAreaTop" r="textAreaRight" b="textAreaBottom"/>
              <a:pathLst>
                <a:path w="508" h="402">
                  <a:moveTo>
                    <a:pt x="476" y="138"/>
                  </a:moveTo>
                  <a:lnTo>
                    <a:pt x="476" y="138"/>
                  </a:lnTo>
                  <a:lnTo>
                    <a:pt x="484" y="134"/>
                  </a:lnTo>
                  <a:lnTo>
                    <a:pt x="488" y="130"/>
                  </a:lnTo>
                  <a:lnTo>
                    <a:pt x="488" y="128"/>
                  </a:lnTo>
                  <a:lnTo>
                    <a:pt x="490" y="126"/>
                  </a:lnTo>
                  <a:lnTo>
                    <a:pt x="492" y="126"/>
                  </a:lnTo>
                  <a:lnTo>
                    <a:pt x="508" y="126"/>
                  </a:lnTo>
                  <a:lnTo>
                    <a:pt x="508" y="116"/>
                  </a:lnTo>
                  <a:lnTo>
                    <a:pt x="502" y="114"/>
                  </a:lnTo>
                  <a:lnTo>
                    <a:pt x="496" y="110"/>
                  </a:lnTo>
                  <a:lnTo>
                    <a:pt x="472" y="88"/>
                  </a:lnTo>
                  <a:lnTo>
                    <a:pt x="460" y="58"/>
                  </a:lnTo>
                  <a:lnTo>
                    <a:pt x="446" y="44"/>
                  </a:lnTo>
                  <a:lnTo>
                    <a:pt x="424" y="42"/>
                  </a:lnTo>
                  <a:lnTo>
                    <a:pt x="406" y="44"/>
                  </a:lnTo>
                  <a:lnTo>
                    <a:pt x="402" y="44"/>
                  </a:lnTo>
                  <a:lnTo>
                    <a:pt x="404" y="54"/>
                  </a:lnTo>
                  <a:lnTo>
                    <a:pt x="404" y="56"/>
                  </a:lnTo>
                  <a:lnTo>
                    <a:pt x="404" y="58"/>
                  </a:lnTo>
                  <a:lnTo>
                    <a:pt x="400" y="58"/>
                  </a:lnTo>
                  <a:lnTo>
                    <a:pt x="388" y="64"/>
                  </a:lnTo>
                  <a:lnTo>
                    <a:pt x="386" y="62"/>
                  </a:lnTo>
                  <a:lnTo>
                    <a:pt x="372" y="50"/>
                  </a:lnTo>
                  <a:lnTo>
                    <a:pt x="368" y="50"/>
                  </a:lnTo>
                  <a:lnTo>
                    <a:pt x="364" y="50"/>
                  </a:lnTo>
                  <a:lnTo>
                    <a:pt x="332" y="64"/>
                  </a:lnTo>
                  <a:lnTo>
                    <a:pt x="322" y="68"/>
                  </a:lnTo>
                  <a:lnTo>
                    <a:pt x="316" y="66"/>
                  </a:lnTo>
                  <a:lnTo>
                    <a:pt x="310" y="70"/>
                  </a:lnTo>
                  <a:lnTo>
                    <a:pt x="304" y="76"/>
                  </a:lnTo>
                  <a:lnTo>
                    <a:pt x="300" y="80"/>
                  </a:lnTo>
                  <a:lnTo>
                    <a:pt x="298" y="76"/>
                  </a:lnTo>
                  <a:lnTo>
                    <a:pt x="288" y="66"/>
                  </a:lnTo>
                  <a:lnTo>
                    <a:pt x="286" y="62"/>
                  </a:lnTo>
                  <a:lnTo>
                    <a:pt x="286" y="58"/>
                  </a:lnTo>
                  <a:lnTo>
                    <a:pt x="290" y="50"/>
                  </a:lnTo>
                  <a:lnTo>
                    <a:pt x="300" y="38"/>
                  </a:lnTo>
                  <a:lnTo>
                    <a:pt x="314" y="22"/>
                  </a:lnTo>
                  <a:lnTo>
                    <a:pt x="318" y="16"/>
                  </a:lnTo>
                  <a:lnTo>
                    <a:pt x="316" y="12"/>
                  </a:lnTo>
                  <a:lnTo>
                    <a:pt x="312" y="12"/>
                  </a:lnTo>
                  <a:lnTo>
                    <a:pt x="308" y="14"/>
                  </a:lnTo>
                  <a:lnTo>
                    <a:pt x="298" y="20"/>
                  </a:lnTo>
                  <a:lnTo>
                    <a:pt x="288" y="26"/>
                  </a:lnTo>
                  <a:lnTo>
                    <a:pt x="282" y="28"/>
                  </a:lnTo>
                  <a:lnTo>
                    <a:pt x="280" y="26"/>
                  </a:lnTo>
                  <a:lnTo>
                    <a:pt x="278" y="20"/>
                  </a:lnTo>
                  <a:lnTo>
                    <a:pt x="276" y="20"/>
                  </a:lnTo>
                  <a:lnTo>
                    <a:pt x="270" y="6"/>
                  </a:lnTo>
                  <a:lnTo>
                    <a:pt x="254" y="16"/>
                  </a:lnTo>
                  <a:lnTo>
                    <a:pt x="252" y="18"/>
                  </a:lnTo>
                  <a:lnTo>
                    <a:pt x="252" y="16"/>
                  </a:lnTo>
                  <a:lnTo>
                    <a:pt x="236" y="8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08" y="2"/>
                  </a:lnTo>
                  <a:lnTo>
                    <a:pt x="204" y="6"/>
                  </a:lnTo>
                  <a:lnTo>
                    <a:pt x="198" y="12"/>
                  </a:lnTo>
                  <a:lnTo>
                    <a:pt x="204" y="24"/>
                  </a:lnTo>
                  <a:lnTo>
                    <a:pt x="210" y="38"/>
                  </a:lnTo>
                  <a:lnTo>
                    <a:pt x="210" y="44"/>
                  </a:lnTo>
                  <a:lnTo>
                    <a:pt x="210" y="48"/>
                  </a:lnTo>
                  <a:lnTo>
                    <a:pt x="208" y="52"/>
                  </a:lnTo>
                  <a:lnTo>
                    <a:pt x="204" y="54"/>
                  </a:lnTo>
                  <a:lnTo>
                    <a:pt x="200" y="54"/>
                  </a:lnTo>
                  <a:lnTo>
                    <a:pt x="194" y="54"/>
                  </a:lnTo>
                  <a:lnTo>
                    <a:pt x="188" y="50"/>
                  </a:lnTo>
                  <a:lnTo>
                    <a:pt x="182" y="46"/>
                  </a:lnTo>
                  <a:lnTo>
                    <a:pt x="164" y="36"/>
                  </a:lnTo>
                  <a:lnTo>
                    <a:pt x="156" y="32"/>
                  </a:lnTo>
                  <a:lnTo>
                    <a:pt x="156" y="34"/>
                  </a:lnTo>
                  <a:lnTo>
                    <a:pt x="156" y="52"/>
                  </a:lnTo>
                  <a:lnTo>
                    <a:pt x="144" y="66"/>
                  </a:lnTo>
                  <a:lnTo>
                    <a:pt x="144" y="80"/>
                  </a:lnTo>
                  <a:lnTo>
                    <a:pt x="148" y="94"/>
                  </a:lnTo>
                  <a:lnTo>
                    <a:pt x="150" y="94"/>
                  </a:lnTo>
                  <a:lnTo>
                    <a:pt x="140" y="108"/>
                  </a:lnTo>
                  <a:lnTo>
                    <a:pt x="136" y="120"/>
                  </a:lnTo>
                  <a:lnTo>
                    <a:pt x="136" y="122"/>
                  </a:lnTo>
                  <a:lnTo>
                    <a:pt x="124" y="134"/>
                  </a:lnTo>
                  <a:lnTo>
                    <a:pt x="104" y="180"/>
                  </a:lnTo>
                  <a:lnTo>
                    <a:pt x="104" y="204"/>
                  </a:lnTo>
                  <a:lnTo>
                    <a:pt x="60" y="230"/>
                  </a:lnTo>
                  <a:lnTo>
                    <a:pt x="58" y="234"/>
                  </a:lnTo>
                  <a:lnTo>
                    <a:pt x="64" y="248"/>
                  </a:lnTo>
                  <a:lnTo>
                    <a:pt x="60" y="266"/>
                  </a:lnTo>
                  <a:lnTo>
                    <a:pt x="42" y="264"/>
                  </a:lnTo>
                  <a:lnTo>
                    <a:pt x="38" y="284"/>
                  </a:lnTo>
                  <a:lnTo>
                    <a:pt x="16" y="284"/>
                  </a:lnTo>
                  <a:lnTo>
                    <a:pt x="10" y="292"/>
                  </a:lnTo>
                  <a:lnTo>
                    <a:pt x="4" y="306"/>
                  </a:lnTo>
                  <a:lnTo>
                    <a:pt x="0" y="356"/>
                  </a:lnTo>
                  <a:lnTo>
                    <a:pt x="4" y="368"/>
                  </a:lnTo>
                  <a:lnTo>
                    <a:pt x="6" y="368"/>
                  </a:lnTo>
                  <a:lnTo>
                    <a:pt x="6" y="380"/>
                  </a:lnTo>
                  <a:lnTo>
                    <a:pt x="16" y="392"/>
                  </a:lnTo>
                  <a:lnTo>
                    <a:pt x="16" y="402"/>
                  </a:lnTo>
                  <a:lnTo>
                    <a:pt x="42" y="400"/>
                  </a:lnTo>
                  <a:lnTo>
                    <a:pt x="44" y="398"/>
                  </a:lnTo>
                  <a:lnTo>
                    <a:pt x="44" y="396"/>
                  </a:lnTo>
                  <a:lnTo>
                    <a:pt x="52" y="388"/>
                  </a:lnTo>
                  <a:lnTo>
                    <a:pt x="36" y="372"/>
                  </a:lnTo>
                  <a:lnTo>
                    <a:pt x="34" y="372"/>
                  </a:lnTo>
                  <a:lnTo>
                    <a:pt x="24" y="364"/>
                  </a:lnTo>
                  <a:lnTo>
                    <a:pt x="24" y="362"/>
                  </a:lnTo>
                  <a:lnTo>
                    <a:pt x="24" y="346"/>
                  </a:lnTo>
                  <a:lnTo>
                    <a:pt x="36" y="346"/>
                  </a:lnTo>
                  <a:lnTo>
                    <a:pt x="38" y="340"/>
                  </a:lnTo>
                  <a:lnTo>
                    <a:pt x="32" y="324"/>
                  </a:lnTo>
                  <a:lnTo>
                    <a:pt x="64" y="324"/>
                  </a:lnTo>
                  <a:lnTo>
                    <a:pt x="120" y="298"/>
                  </a:lnTo>
                  <a:lnTo>
                    <a:pt x="126" y="286"/>
                  </a:lnTo>
                  <a:lnTo>
                    <a:pt x="128" y="282"/>
                  </a:lnTo>
                  <a:lnTo>
                    <a:pt x="140" y="288"/>
                  </a:lnTo>
                  <a:lnTo>
                    <a:pt x="140" y="290"/>
                  </a:lnTo>
                  <a:lnTo>
                    <a:pt x="146" y="296"/>
                  </a:lnTo>
                  <a:lnTo>
                    <a:pt x="152" y="294"/>
                  </a:lnTo>
                  <a:lnTo>
                    <a:pt x="150" y="282"/>
                  </a:lnTo>
                  <a:lnTo>
                    <a:pt x="168" y="282"/>
                  </a:lnTo>
                  <a:lnTo>
                    <a:pt x="186" y="286"/>
                  </a:lnTo>
                  <a:lnTo>
                    <a:pt x="192" y="274"/>
                  </a:lnTo>
                  <a:lnTo>
                    <a:pt x="194" y="272"/>
                  </a:lnTo>
                  <a:lnTo>
                    <a:pt x="196" y="272"/>
                  </a:lnTo>
                  <a:lnTo>
                    <a:pt x="214" y="266"/>
                  </a:lnTo>
                  <a:lnTo>
                    <a:pt x="218" y="238"/>
                  </a:lnTo>
                  <a:lnTo>
                    <a:pt x="238" y="256"/>
                  </a:lnTo>
                  <a:lnTo>
                    <a:pt x="246" y="256"/>
                  </a:lnTo>
                  <a:lnTo>
                    <a:pt x="250" y="252"/>
                  </a:lnTo>
                  <a:lnTo>
                    <a:pt x="248" y="192"/>
                  </a:lnTo>
                  <a:lnTo>
                    <a:pt x="248" y="190"/>
                  </a:lnTo>
                  <a:lnTo>
                    <a:pt x="248" y="186"/>
                  </a:lnTo>
                  <a:lnTo>
                    <a:pt x="260" y="188"/>
                  </a:lnTo>
                  <a:lnTo>
                    <a:pt x="262" y="188"/>
                  </a:lnTo>
                  <a:lnTo>
                    <a:pt x="264" y="190"/>
                  </a:lnTo>
                  <a:lnTo>
                    <a:pt x="286" y="230"/>
                  </a:lnTo>
                  <a:lnTo>
                    <a:pt x="312" y="226"/>
                  </a:lnTo>
                  <a:lnTo>
                    <a:pt x="318" y="224"/>
                  </a:lnTo>
                  <a:lnTo>
                    <a:pt x="322" y="216"/>
                  </a:lnTo>
                  <a:lnTo>
                    <a:pt x="314" y="208"/>
                  </a:lnTo>
                  <a:lnTo>
                    <a:pt x="312" y="206"/>
                  </a:lnTo>
                  <a:lnTo>
                    <a:pt x="330" y="200"/>
                  </a:lnTo>
                  <a:lnTo>
                    <a:pt x="332" y="198"/>
                  </a:lnTo>
                  <a:lnTo>
                    <a:pt x="340" y="206"/>
                  </a:lnTo>
                  <a:lnTo>
                    <a:pt x="346" y="202"/>
                  </a:lnTo>
                  <a:lnTo>
                    <a:pt x="346" y="190"/>
                  </a:lnTo>
                  <a:lnTo>
                    <a:pt x="350" y="190"/>
                  </a:lnTo>
                  <a:lnTo>
                    <a:pt x="364" y="190"/>
                  </a:lnTo>
                  <a:lnTo>
                    <a:pt x="370" y="192"/>
                  </a:lnTo>
                  <a:lnTo>
                    <a:pt x="376" y="194"/>
                  </a:lnTo>
                  <a:lnTo>
                    <a:pt x="382" y="198"/>
                  </a:lnTo>
                  <a:lnTo>
                    <a:pt x="386" y="202"/>
                  </a:lnTo>
                  <a:lnTo>
                    <a:pt x="388" y="206"/>
                  </a:lnTo>
                  <a:lnTo>
                    <a:pt x="392" y="186"/>
                  </a:lnTo>
                  <a:lnTo>
                    <a:pt x="396" y="184"/>
                  </a:lnTo>
                  <a:lnTo>
                    <a:pt x="400" y="182"/>
                  </a:lnTo>
                  <a:lnTo>
                    <a:pt x="406" y="182"/>
                  </a:lnTo>
                  <a:lnTo>
                    <a:pt x="412" y="184"/>
                  </a:lnTo>
                  <a:lnTo>
                    <a:pt x="414" y="186"/>
                  </a:lnTo>
                  <a:lnTo>
                    <a:pt x="414" y="188"/>
                  </a:lnTo>
                  <a:lnTo>
                    <a:pt x="418" y="188"/>
                  </a:lnTo>
                  <a:lnTo>
                    <a:pt x="432" y="180"/>
                  </a:lnTo>
                  <a:lnTo>
                    <a:pt x="460" y="160"/>
                  </a:lnTo>
                  <a:lnTo>
                    <a:pt x="460" y="152"/>
                  </a:lnTo>
                  <a:lnTo>
                    <a:pt x="464" y="146"/>
                  </a:lnTo>
                  <a:lnTo>
                    <a:pt x="470" y="140"/>
                  </a:lnTo>
                  <a:lnTo>
                    <a:pt x="476" y="13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江西"/>
            <p:cNvSpPr/>
            <p:nvPr/>
          </p:nvSpPr>
          <p:spPr>
            <a:xfrm>
              <a:off x="3089160" y="2917800"/>
              <a:ext cx="280080" cy="381600"/>
            </a:xfrm>
            <a:custGeom>
              <a:avLst/>
              <a:gdLst>
                <a:gd name="textAreaLeft" fmla="*/ 0 w 280080"/>
                <a:gd name="textAreaRight" fmla="*/ 280440 w 28008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304" h="414">
                  <a:moveTo>
                    <a:pt x="240" y="16"/>
                  </a:moveTo>
                  <a:lnTo>
                    <a:pt x="238" y="16"/>
                  </a:lnTo>
                  <a:lnTo>
                    <a:pt x="220" y="0"/>
                  </a:lnTo>
                  <a:lnTo>
                    <a:pt x="212" y="6"/>
                  </a:lnTo>
                  <a:lnTo>
                    <a:pt x="206" y="16"/>
                  </a:lnTo>
                  <a:lnTo>
                    <a:pt x="200" y="24"/>
                  </a:lnTo>
                  <a:lnTo>
                    <a:pt x="192" y="28"/>
                  </a:lnTo>
                  <a:lnTo>
                    <a:pt x="184" y="32"/>
                  </a:lnTo>
                  <a:lnTo>
                    <a:pt x="180" y="34"/>
                  </a:lnTo>
                  <a:lnTo>
                    <a:pt x="176" y="32"/>
                  </a:lnTo>
                  <a:lnTo>
                    <a:pt x="174" y="28"/>
                  </a:lnTo>
                  <a:lnTo>
                    <a:pt x="174" y="22"/>
                  </a:lnTo>
                  <a:lnTo>
                    <a:pt x="180" y="4"/>
                  </a:lnTo>
                  <a:lnTo>
                    <a:pt x="152" y="22"/>
                  </a:lnTo>
                  <a:lnTo>
                    <a:pt x="152" y="24"/>
                  </a:lnTo>
                  <a:lnTo>
                    <a:pt x="128" y="24"/>
                  </a:lnTo>
                  <a:lnTo>
                    <a:pt x="108" y="34"/>
                  </a:lnTo>
                  <a:lnTo>
                    <a:pt x="108" y="36"/>
                  </a:lnTo>
                  <a:lnTo>
                    <a:pt x="84" y="36"/>
                  </a:lnTo>
                  <a:lnTo>
                    <a:pt x="72" y="42"/>
                  </a:lnTo>
                  <a:lnTo>
                    <a:pt x="68" y="54"/>
                  </a:lnTo>
                  <a:lnTo>
                    <a:pt x="66" y="56"/>
                  </a:lnTo>
                  <a:lnTo>
                    <a:pt x="40" y="56"/>
                  </a:lnTo>
                  <a:lnTo>
                    <a:pt x="34" y="56"/>
                  </a:lnTo>
                  <a:lnTo>
                    <a:pt x="28" y="62"/>
                  </a:lnTo>
                  <a:lnTo>
                    <a:pt x="8" y="80"/>
                  </a:lnTo>
                  <a:lnTo>
                    <a:pt x="16" y="84"/>
                  </a:lnTo>
                  <a:lnTo>
                    <a:pt x="20" y="88"/>
                  </a:lnTo>
                  <a:lnTo>
                    <a:pt x="22" y="94"/>
                  </a:lnTo>
                  <a:lnTo>
                    <a:pt x="22" y="92"/>
                  </a:lnTo>
                  <a:lnTo>
                    <a:pt x="34" y="138"/>
                  </a:lnTo>
                  <a:lnTo>
                    <a:pt x="34" y="140"/>
                  </a:lnTo>
                  <a:lnTo>
                    <a:pt x="34" y="144"/>
                  </a:lnTo>
                  <a:lnTo>
                    <a:pt x="32" y="144"/>
                  </a:lnTo>
                  <a:lnTo>
                    <a:pt x="0" y="188"/>
                  </a:lnTo>
                  <a:lnTo>
                    <a:pt x="0" y="200"/>
                  </a:lnTo>
                  <a:lnTo>
                    <a:pt x="8" y="196"/>
                  </a:lnTo>
                  <a:lnTo>
                    <a:pt x="12" y="196"/>
                  </a:lnTo>
                  <a:lnTo>
                    <a:pt x="16" y="198"/>
                  </a:lnTo>
                  <a:lnTo>
                    <a:pt x="18" y="202"/>
                  </a:lnTo>
                  <a:lnTo>
                    <a:pt x="16" y="214"/>
                  </a:lnTo>
                  <a:lnTo>
                    <a:pt x="16" y="226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4" y="262"/>
                  </a:lnTo>
                  <a:lnTo>
                    <a:pt x="36" y="274"/>
                  </a:lnTo>
                  <a:lnTo>
                    <a:pt x="40" y="280"/>
                  </a:lnTo>
                  <a:lnTo>
                    <a:pt x="40" y="286"/>
                  </a:lnTo>
                  <a:lnTo>
                    <a:pt x="36" y="294"/>
                  </a:lnTo>
                  <a:lnTo>
                    <a:pt x="42" y="304"/>
                  </a:lnTo>
                  <a:lnTo>
                    <a:pt x="44" y="310"/>
                  </a:lnTo>
                  <a:lnTo>
                    <a:pt x="44" y="320"/>
                  </a:lnTo>
                  <a:lnTo>
                    <a:pt x="40" y="330"/>
                  </a:lnTo>
                  <a:lnTo>
                    <a:pt x="34" y="344"/>
                  </a:lnTo>
                  <a:lnTo>
                    <a:pt x="44" y="362"/>
                  </a:lnTo>
                  <a:lnTo>
                    <a:pt x="46" y="366"/>
                  </a:lnTo>
                  <a:lnTo>
                    <a:pt x="52" y="362"/>
                  </a:lnTo>
                  <a:lnTo>
                    <a:pt x="60" y="356"/>
                  </a:lnTo>
                  <a:lnTo>
                    <a:pt x="66" y="352"/>
                  </a:lnTo>
                  <a:lnTo>
                    <a:pt x="72" y="352"/>
                  </a:lnTo>
                  <a:lnTo>
                    <a:pt x="78" y="352"/>
                  </a:lnTo>
                  <a:lnTo>
                    <a:pt x="84" y="356"/>
                  </a:lnTo>
                  <a:lnTo>
                    <a:pt x="86" y="362"/>
                  </a:lnTo>
                  <a:lnTo>
                    <a:pt x="86" y="366"/>
                  </a:lnTo>
                  <a:lnTo>
                    <a:pt x="82" y="374"/>
                  </a:lnTo>
                  <a:lnTo>
                    <a:pt x="66" y="392"/>
                  </a:lnTo>
                  <a:lnTo>
                    <a:pt x="56" y="406"/>
                  </a:lnTo>
                  <a:lnTo>
                    <a:pt x="60" y="414"/>
                  </a:lnTo>
                  <a:lnTo>
                    <a:pt x="72" y="408"/>
                  </a:lnTo>
                  <a:lnTo>
                    <a:pt x="76" y="406"/>
                  </a:lnTo>
                  <a:lnTo>
                    <a:pt x="80" y="406"/>
                  </a:lnTo>
                  <a:lnTo>
                    <a:pt x="94" y="402"/>
                  </a:lnTo>
                  <a:lnTo>
                    <a:pt x="120" y="390"/>
                  </a:lnTo>
                  <a:lnTo>
                    <a:pt x="126" y="388"/>
                  </a:lnTo>
                  <a:lnTo>
                    <a:pt x="134" y="390"/>
                  </a:lnTo>
                  <a:lnTo>
                    <a:pt x="142" y="394"/>
                  </a:lnTo>
                  <a:lnTo>
                    <a:pt x="150" y="402"/>
                  </a:lnTo>
                  <a:lnTo>
                    <a:pt x="154" y="400"/>
                  </a:lnTo>
                  <a:lnTo>
                    <a:pt x="154" y="390"/>
                  </a:lnTo>
                  <a:lnTo>
                    <a:pt x="152" y="388"/>
                  </a:lnTo>
                  <a:lnTo>
                    <a:pt x="152" y="384"/>
                  </a:lnTo>
                  <a:lnTo>
                    <a:pt x="154" y="380"/>
                  </a:lnTo>
                  <a:lnTo>
                    <a:pt x="150" y="366"/>
                  </a:lnTo>
                  <a:lnTo>
                    <a:pt x="150" y="362"/>
                  </a:lnTo>
                  <a:lnTo>
                    <a:pt x="150" y="358"/>
                  </a:lnTo>
                  <a:lnTo>
                    <a:pt x="158" y="352"/>
                  </a:lnTo>
                  <a:lnTo>
                    <a:pt x="166" y="346"/>
                  </a:lnTo>
                  <a:lnTo>
                    <a:pt x="162" y="336"/>
                  </a:lnTo>
                  <a:lnTo>
                    <a:pt x="162" y="334"/>
                  </a:lnTo>
                  <a:lnTo>
                    <a:pt x="166" y="328"/>
                  </a:lnTo>
                  <a:lnTo>
                    <a:pt x="164" y="324"/>
                  </a:lnTo>
                  <a:lnTo>
                    <a:pt x="164" y="320"/>
                  </a:lnTo>
                  <a:lnTo>
                    <a:pt x="164" y="316"/>
                  </a:lnTo>
                  <a:lnTo>
                    <a:pt x="170" y="308"/>
                  </a:lnTo>
                  <a:lnTo>
                    <a:pt x="180" y="300"/>
                  </a:lnTo>
                  <a:lnTo>
                    <a:pt x="178" y="298"/>
                  </a:lnTo>
                  <a:lnTo>
                    <a:pt x="176" y="296"/>
                  </a:lnTo>
                  <a:lnTo>
                    <a:pt x="186" y="292"/>
                  </a:lnTo>
                  <a:lnTo>
                    <a:pt x="186" y="278"/>
                  </a:lnTo>
                  <a:lnTo>
                    <a:pt x="186" y="274"/>
                  </a:lnTo>
                  <a:lnTo>
                    <a:pt x="190" y="270"/>
                  </a:lnTo>
                  <a:lnTo>
                    <a:pt x="194" y="266"/>
                  </a:lnTo>
                  <a:lnTo>
                    <a:pt x="200" y="260"/>
                  </a:lnTo>
                  <a:lnTo>
                    <a:pt x="206" y="256"/>
                  </a:lnTo>
                  <a:lnTo>
                    <a:pt x="194" y="242"/>
                  </a:lnTo>
                  <a:lnTo>
                    <a:pt x="192" y="238"/>
                  </a:lnTo>
                  <a:lnTo>
                    <a:pt x="192" y="232"/>
                  </a:lnTo>
                  <a:lnTo>
                    <a:pt x="194" y="228"/>
                  </a:lnTo>
                  <a:lnTo>
                    <a:pt x="198" y="222"/>
                  </a:lnTo>
                  <a:lnTo>
                    <a:pt x="198" y="220"/>
                  </a:lnTo>
                  <a:lnTo>
                    <a:pt x="224" y="200"/>
                  </a:lnTo>
                  <a:lnTo>
                    <a:pt x="224" y="194"/>
                  </a:lnTo>
                  <a:lnTo>
                    <a:pt x="222" y="192"/>
                  </a:lnTo>
                  <a:lnTo>
                    <a:pt x="220" y="186"/>
                  </a:lnTo>
                  <a:lnTo>
                    <a:pt x="220" y="178"/>
                  </a:lnTo>
                  <a:lnTo>
                    <a:pt x="220" y="170"/>
                  </a:lnTo>
                  <a:lnTo>
                    <a:pt x="224" y="156"/>
                  </a:lnTo>
                  <a:lnTo>
                    <a:pt x="230" y="146"/>
                  </a:lnTo>
                  <a:lnTo>
                    <a:pt x="238" y="138"/>
                  </a:lnTo>
                  <a:lnTo>
                    <a:pt x="250" y="136"/>
                  </a:lnTo>
                  <a:lnTo>
                    <a:pt x="252" y="136"/>
                  </a:lnTo>
                  <a:lnTo>
                    <a:pt x="262" y="140"/>
                  </a:lnTo>
                  <a:lnTo>
                    <a:pt x="272" y="140"/>
                  </a:lnTo>
                  <a:lnTo>
                    <a:pt x="284" y="128"/>
                  </a:lnTo>
                  <a:lnTo>
                    <a:pt x="296" y="120"/>
                  </a:lnTo>
                  <a:lnTo>
                    <a:pt x="296" y="108"/>
                  </a:lnTo>
                  <a:lnTo>
                    <a:pt x="296" y="106"/>
                  </a:lnTo>
                  <a:lnTo>
                    <a:pt x="296" y="104"/>
                  </a:lnTo>
                  <a:lnTo>
                    <a:pt x="300" y="102"/>
                  </a:lnTo>
                  <a:lnTo>
                    <a:pt x="304" y="98"/>
                  </a:lnTo>
                  <a:lnTo>
                    <a:pt x="304" y="96"/>
                  </a:lnTo>
                  <a:lnTo>
                    <a:pt x="296" y="84"/>
                  </a:lnTo>
                  <a:lnTo>
                    <a:pt x="286" y="68"/>
                  </a:lnTo>
                  <a:lnTo>
                    <a:pt x="276" y="52"/>
                  </a:lnTo>
                  <a:lnTo>
                    <a:pt x="274" y="46"/>
                  </a:lnTo>
                  <a:lnTo>
                    <a:pt x="274" y="40"/>
                  </a:lnTo>
                  <a:lnTo>
                    <a:pt x="276" y="34"/>
                  </a:lnTo>
                  <a:lnTo>
                    <a:pt x="280" y="28"/>
                  </a:lnTo>
                  <a:lnTo>
                    <a:pt x="264" y="20"/>
                  </a:lnTo>
                  <a:lnTo>
                    <a:pt x="240" y="1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福建"/>
            <p:cNvSpPr/>
            <p:nvPr/>
          </p:nvSpPr>
          <p:spPr>
            <a:xfrm>
              <a:off x="3234960" y="3019320"/>
              <a:ext cx="259560" cy="317160"/>
            </a:xfrm>
            <a:custGeom>
              <a:avLst/>
              <a:gdLst>
                <a:gd name="textAreaLeft" fmla="*/ 0 w 259560"/>
                <a:gd name="textAreaRight" fmla="*/ 259920 w 2595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82" h="344">
                  <a:moveTo>
                    <a:pt x="146" y="14"/>
                  </a:moveTo>
                  <a:lnTo>
                    <a:pt x="146" y="14"/>
                  </a:lnTo>
                  <a:lnTo>
                    <a:pt x="132" y="24"/>
                  </a:lnTo>
                  <a:lnTo>
                    <a:pt x="120" y="38"/>
                  </a:lnTo>
                  <a:lnTo>
                    <a:pt x="118" y="38"/>
                  </a:lnTo>
                  <a:lnTo>
                    <a:pt x="118" y="40"/>
                  </a:lnTo>
                  <a:lnTo>
                    <a:pt x="102" y="40"/>
                  </a:lnTo>
                  <a:lnTo>
                    <a:pt x="92" y="34"/>
                  </a:lnTo>
                  <a:lnTo>
                    <a:pt x="84" y="38"/>
                  </a:lnTo>
                  <a:lnTo>
                    <a:pt x="78" y="42"/>
                  </a:lnTo>
                  <a:lnTo>
                    <a:pt x="74" y="50"/>
                  </a:lnTo>
                  <a:lnTo>
                    <a:pt x="70" y="60"/>
                  </a:lnTo>
                  <a:lnTo>
                    <a:pt x="70" y="74"/>
                  </a:lnTo>
                  <a:lnTo>
                    <a:pt x="80" y="66"/>
                  </a:lnTo>
                  <a:lnTo>
                    <a:pt x="74" y="92"/>
                  </a:lnTo>
                  <a:lnTo>
                    <a:pt x="74" y="94"/>
                  </a:lnTo>
                  <a:lnTo>
                    <a:pt x="46" y="116"/>
                  </a:lnTo>
                  <a:lnTo>
                    <a:pt x="42" y="124"/>
                  </a:lnTo>
                  <a:lnTo>
                    <a:pt x="42" y="128"/>
                  </a:lnTo>
                  <a:lnTo>
                    <a:pt x="48" y="134"/>
                  </a:lnTo>
                  <a:lnTo>
                    <a:pt x="54" y="140"/>
                  </a:lnTo>
                  <a:lnTo>
                    <a:pt x="56" y="142"/>
                  </a:lnTo>
                  <a:lnTo>
                    <a:pt x="56" y="146"/>
                  </a:lnTo>
                  <a:lnTo>
                    <a:pt x="56" y="148"/>
                  </a:lnTo>
                  <a:lnTo>
                    <a:pt x="54" y="152"/>
                  </a:lnTo>
                  <a:lnTo>
                    <a:pt x="36" y="166"/>
                  </a:lnTo>
                  <a:lnTo>
                    <a:pt x="38" y="174"/>
                  </a:lnTo>
                  <a:lnTo>
                    <a:pt x="36" y="184"/>
                  </a:lnTo>
                  <a:lnTo>
                    <a:pt x="36" y="186"/>
                  </a:lnTo>
                  <a:lnTo>
                    <a:pt x="30" y="190"/>
                  </a:lnTo>
                  <a:lnTo>
                    <a:pt x="28" y="194"/>
                  </a:lnTo>
                  <a:lnTo>
                    <a:pt x="24" y="200"/>
                  </a:lnTo>
                  <a:lnTo>
                    <a:pt x="14" y="208"/>
                  </a:lnTo>
                  <a:lnTo>
                    <a:pt x="14" y="210"/>
                  </a:lnTo>
                  <a:lnTo>
                    <a:pt x="16" y="216"/>
                  </a:lnTo>
                  <a:lnTo>
                    <a:pt x="14" y="226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4" y="242"/>
                  </a:lnTo>
                  <a:lnTo>
                    <a:pt x="6" y="250"/>
                  </a:lnTo>
                  <a:lnTo>
                    <a:pt x="4" y="250"/>
                  </a:lnTo>
                  <a:lnTo>
                    <a:pt x="0" y="252"/>
                  </a:lnTo>
                  <a:lnTo>
                    <a:pt x="0" y="254"/>
                  </a:lnTo>
                  <a:lnTo>
                    <a:pt x="6" y="272"/>
                  </a:lnTo>
                  <a:lnTo>
                    <a:pt x="28" y="272"/>
                  </a:lnTo>
                  <a:lnTo>
                    <a:pt x="50" y="272"/>
                  </a:lnTo>
                  <a:lnTo>
                    <a:pt x="52" y="272"/>
                  </a:lnTo>
                  <a:lnTo>
                    <a:pt x="52" y="274"/>
                  </a:lnTo>
                  <a:lnTo>
                    <a:pt x="70" y="290"/>
                  </a:lnTo>
                  <a:lnTo>
                    <a:pt x="70" y="292"/>
                  </a:lnTo>
                  <a:lnTo>
                    <a:pt x="82" y="322"/>
                  </a:lnTo>
                  <a:lnTo>
                    <a:pt x="102" y="342"/>
                  </a:lnTo>
                  <a:lnTo>
                    <a:pt x="112" y="344"/>
                  </a:lnTo>
                  <a:lnTo>
                    <a:pt x="112" y="320"/>
                  </a:lnTo>
                  <a:lnTo>
                    <a:pt x="132" y="340"/>
                  </a:lnTo>
                  <a:lnTo>
                    <a:pt x="136" y="336"/>
                  </a:lnTo>
                  <a:lnTo>
                    <a:pt x="150" y="306"/>
                  </a:lnTo>
                  <a:lnTo>
                    <a:pt x="152" y="290"/>
                  </a:lnTo>
                  <a:lnTo>
                    <a:pt x="154" y="290"/>
                  </a:lnTo>
                  <a:lnTo>
                    <a:pt x="156" y="290"/>
                  </a:lnTo>
                  <a:lnTo>
                    <a:pt x="172" y="292"/>
                  </a:lnTo>
                  <a:lnTo>
                    <a:pt x="170" y="280"/>
                  </a:lnTo>
                  <a:lnTo>
                    <a:pt x="170" y="278"/>
                  </a:lnTo>
                  <a:lnTo>
                    <a:pt x="170" y="276"/>
                  </a:lnTo>
                  <a:lnTo>
                    <a:pt x="174" y="276"/>
                  </a:lnTo>
                  <a:lnTo>
                    <a:pt x="194" y="276"/>
                  </a:lnTo>
                  <a:lnTo>
                    <a:pt x="200" y="270"/>
                  </a:lnTo>
                  <a:lnTo>
                    <a:pt x="204" y="262"/>
                  </a:lnTo>
                  <a:lnTo>
                    <a:pt x="208" y="256"/>
                  </a:lnTo>
                  <a:lnTo>
                    <a:pt x="208" y="250"/>
                  </a:lnTo>
                  <a:lnTo>
                    <a:pt x="206" y="222"/>
                  </a:lnTo>
                  <a:lnTo>
                    <a:pt x="222" y="226"/>
                  </a:lnTo>
                  <a:lnTo>
                    <a:pt x="228" y="218"/>
                  </a:lnTo>
                  <a:lnTo>
                    <a:pt x="220" y="210"/>
                  </a:lnTo>
                  <a:lnTo>
                    <a:pt x="218" y="208"/>
                  </a:lnTo>
                  <a:lnTo>
                    <a:pt x="234" y="192"/>
                  </a:lnTo>
                  <a:lnTo>
                    <a:pt x="234" y="194"/>
                  </a:lnTo>
                  <a:lnTo>
                    <a:pt x="236" y="194"/>
                  </a:lnTo>
                  <a:lnTo>
                    <a:pt x="246" y="198"/>
                  </a:lnTo>
                  <a:lnTo>
                    <a:pt x="246" y="196"/>
                  </a:lnTo>
                  <a:lnTo>
                    <a:pt x="238" y="182"/>
                  </a:lnTo>
                  <a:lnTo>
                    <a:pt x="242" y="180"/>
                  </a:lnTo>
                  <a:lnTo>
                    <a:pt x="246" y="178"/>
                  </a:lnTo>
                  <a:lnTo>
                    <a:pt x="244" y="172"/>
                  </a:lnTo>
                  <a:lnTo>
                    <a:pt x="236" y="156"/>
                  </a:lnTo>
                  <a:lnTo>
                    <a:pt x="238" y="156"/>
                  </a:lnTo>
                  <a:lnTo>
                    <a:pt x="238" y="154"/>
                  </a:lnTo>
                  <a:lnTo>
                    <a:pt x="260" y="142"/>
                  </a:lnTo>
                  <a:lnTo>
                    <a:pt x="262" y="134"/>
                  </a:lnTo>
                  <a:lnTo>
                    <a:pt x="240" y="120"/>
                  </a:lnTo>
                  <a:lnTo>
                    <a:pt x="236" y="116"/>
                  </a:lnTo>
                  <a:lnTo>
                    <a:pt x="234" y="112"/>
                  </a:lnTo>
                  <a:lnTo>
                    <a:pt x="236" y="108"/>
                  </a:lnTo>
                  <a:lnTo>
                    <a:pt x="242" y="108"/>
                  </a:lnTo>
                  <a:lnTo>
                    <a:pt x="266" y="112"/>
                  </a:lnTo>
                  <a:lnTo>
                    <a:pt x="266" y="98"/>
                  </a:lnTo>
                  <a:lnTo>
                    <a:pt x="266" y="96"/>
                  </a:lnTo>
                  <a:lnTo>
                    <a:pt x="278" y="84"/>
                  </a:lnTo>
                  <a:lnTo>
                    <a:pt x="282" y="74"/>
                  </a:lnTo>
                  <a:lnTo>
                    <a:pt x="276" y="72"/>
                  </a:lnTo>
                  <a:lnTo>
                    <a:pt x="270" y="66"/>
                  </a:lnTo>
                  <a:lnTo>
                    <a:pt x="270" y="64"/>
                  </a:lnTo>
                  <a:lnTo>
                    <a:pt x="270" y="60"/>
                  </a:lnTo>
                  <a:lnTo>
                    <a:pt x="270" y="58"/>
                  </a:lnTo>
                  <a:lnTo>
                    <a:pt x="268" y="58"/>
                  </a:lnTo>
                  <a:lnTo>
                    <a:pt x="266" y="58"/>
                  </a:lnTo>
                  <a:lnTo>
                    <a:pt x="262" y="62"/>
                  </a:lnTo>
                  <a:lnTo>
                    <a:pt x="256" y="64"/>
                  </a:lnTo>
                  <a:lnTo>
                    <a:pt x="250" y="62"/>
                  </a:lnTo>
                  <a:lnTo>
                    <a:pt x="244" y="62"/>
                  </a:lnTo>
                  <a:lnTo>
                    <a:pt x="234" y="54"/>
                  </a:lnTo>
                  <a:lnTo>
                    <a:pt x="226" y="42"/>
                  </a:lnTo>
                  <a:lnTo>
                    <a:pt x="226" y="44"/>
                  </a:lnTo>
                  <a:lnTo>
                    <a:pt x="222" y="50"/>
                  </a:lnTo>
                  <a:lnTo>
                    <a:pt x="216" y="58"/>
                  </a:lnTo>
                  <a:lnTo>
                    <a:pt x="208" y="60"/>
                  </a:lnTo>
                  <a:lnTo>
                    <a:pt x="200" y="62"/>
                  </a:lnTo>
                  <a:lnTo>
                    <a:pt x="194" y="62"/>
                  </a:lnTo>
                  <a:lnTo>
                    <a:pt x="186" y="60"/>
                  </a:lnTo>
                  <a:lnTo>
                    <a:pt x="182" y="58"/>
                  </a:lnTo>
                  <a:lnTo>
                    <a:pt x="178" y="54"/>
                  </a:lnTo>
                  <a:lnTo>
                    <a:pt x="174" y="46"/>
                  </a:lnTo>
                  <a:lnTo>
                    <a:pt x="170" y="30"/>
                  </a:lnTo>
                  <a:lnTo>
                    <a:pt x="166" y="12"/>
                  </a:lnTo>
                  <a:lnTo>
                    <a:pt x="164" y="6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6" y="0"/>
                  </a:lnTo>
                  <a:lnTo>
                    <a:pt x="148" y="14"/>
                  </a:lnTo>
                  <a:lnTo>
                    <a:pt x="14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浙江"/>
            <p:cNvSpPr/>
            <p:nvPr/>
          </p:nvSpPr>
          <p:spPr>
            <a:xfrm>
              <a:off x="3350880" y="2818080"/>
              <a:ext cx="222840" cy="25812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242" h="280">
                  <a:moveTo>
                    <a:pt x="148" y="4"/>
                  </a:moveTo>
                  <a:lnTo>
                    <a:pt x="148" y="4"/>
                  </a:lnTo>
                  <a:lnTo>
                    <a:pt x="136" y="8"/>
                  </a:lnTo>
                  <a:lnTo>
                    <a:pt x="126" y="12"/>
                  </a:lnTo>
                  <a:lnTo>
                    <a:pt x="116" y="10"/>
                  </a:lnTo>
                  <a:lnTo>
                    <a:pt x="102" y="6"/>
                  </a:lnTo>
                  <a:lnTo>
                    <a:pt x="84" y="4"/>
                  </a:lnTo>
                  <a:lnTo>
                    <a:pt x="78" y="6"/>
                  </a:lnTo>
                  <a:lnTo>
                    <a:pt x="74" y="12"/>
                  </a:lnTo>
                  <a:lnTo>
                    <a:pt x="62" y="28"/>
                  </a:lnTo>
                  <a:lnTo>
                    <a:pt x="74" y="52"/>
                  </a:lnTo>
                  <a:lnTo>
                    <a:pt x="54" y="64"/>
                  </a:lnTo>
                  <a:lnTo>
                    <a:pt x="38" y="60"/>
                  </a:lnTo>
                  <a:lnTo>
                    <a:pt x="44" y="74"/>
                  </a:lnTo>
                  <a:lnTo>
                    <a:pt x="44" y="78"/>
                  </a:lnTo>
                  <a:lnTo>
                    <a:pt x="44" y="82"/>
                  </a:lnTo>
                  <a:lnTo>
                    <a:pt x="42" y="88"/>
                  </a:lnTo>
                  <a:lnTo>
                    <a:pt x="36" y="100"/>
                  </a:lnTo>
                  <a:lnTo>
                    <a:pt x="32" y="106"/>
                  </a:lnTo>
                  <a:lnTo>
                    <a:pt x="4" y="132"/>
                  </a:lnTo>
                  <a:lnTo>
                    <a:pt x="10" y="136"/>
                  </a:lnTo>
                  <a:lnTo>
                    <a:pt x="6" y="140"/>
                  </a:lnTo>
                  <a:lnTo>
                    <a:pt x="2" y="144"/>
                  </a:lnTo>
                  <a:lnTo>
                    <a:pt x="0" y="148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20" y="186"/>
                  </a:lnTo>
                  <a:lnTo>
                    <a:pt x="30" y="202"/>
                  </a:lnTo>
                  <a:lnTo>
                    <a:pt x="30" y="204"/>
                  </a:lnTo>
                  <a:lnTo>
                    <a:pt x="30" y="206"/>
                  </a:lnTo>
                  <a:lnTo>
                    <a:pt x="30" y="208"/>
                  </a:lnTo>
                  <a:lnTo>
                    <a:pt x="28" y="210"/>
                  </a:lnTo>
                  <a:lnTo>
                    <a:pt x="34" y="210"/>
                  </a:lnTo>
                  <a:lnTo>
                    <a:pt x="40" y="214"/>
                  </a:lnTo>
                  <a:lnTo>
                    <a:pt x="44" y="218"/>
                  </a:lnTo>
                  <a:lnTo>
                    <a:pt x="48" y="224"/>
                  </a:lnTo>
                  <a:lnTo>
                    <a:pt x="50" y="234"/>
                  </a:lnTo>
                  <a:lnTo>
                    <a:pt x="52" y="246"/>
                  </a:lnTo>
                  <a:lnTo>
                    <a:pt x="56" y="262"/>
                  </a:lnTo>
                  <a:lnTo>
                    <a:pt x="58" y="266"/>
                  </a:lnTo>
                  <a:lnTo>
                    <a:pt x="64" y="270"/>
                  </a:lnTo>
                  <a:lnTo>
                    <a:pt x="68" y="272"/>
                  </a:lnTo>
                  <a:lnTo>
                    <a:pt x="74" y="272"/>
                  </a:lnTo>
                  <a:lnTo>
                    <a:pt x="80" y="270"/>
                  </a:lnTo>
                  <a:lnTo>
                    <a:pt x="84" y="268"/>
                  </a:lnTo>
                  <a:lnTo>
                    <a:pt x="90" y="264"/>
                  </a:lnTo>
                  <a:lnTo>
                    <a:pt x="90" y="260"/>
                  </a:lnTo>
                  <a:lnTo>
                    <a:pt x="90" y="258"/>
                  </a:lnTo>
                  <a:lnTo>
                    <a:pt x="104" y="248"/>
                  </a:lnTo>
                  <a:lnTo>
                    <a:pt x="104" y="250"/>
                  </a:lnTo>
                  <a:lnTo>
                    <a:pt x="116" y="268"/>
                  </a:lnTo>
                  <a:lnTo>
                    <a:pt x="122" y="270"/>
                  </a:lnTo>
                  <a:lnTo>
                    <a:pt x="130" y="272"/>
                  </a:lnTo>
                  <a:lnTo>
                    <a:pt x="134" y="272"/>
                  </a:lnTo>
                  <a:lnTo>
                    <a:pt x="130" y="262"/>
                  </a:lnTo>
                  <a:lnTo>
                    <a:pt x="146" y="268"/>
                  </a:lnTo>
                  <a:lnTo>
                    <a:pt x="150" y="268"/>
                  </a:lnTo>
                  <a:lnTo>
                    <a:pt x="152" y="270"/>
                  </a:lnTo>
                  <a:lnTo>
                    <a:pt x="166" y="280"/>
                  </a:lnTo>
                  <a:lnTo>
                    <a:pt x="170" y="274"/>
                  </a:lnTo>
                  <a:lnTo>
                    <a:pt x="168" y="248"/>
                  </a:lnTo>
                  <a:lnTo>
                    <a:pt x="170" y="246"/>
                  </a:lnTo>
                  <a:lnTo>
                    <a:pt x="180" y="234"/>
                  </a:lnTo>
                  <a:lnTo>
                    <a:pt x="180" y="232"/>
                  </a:lnTo>
                  <a:lnTo>
                    <a:pt x="176" y="226"/>
                  </a:lnTo>
                  <a:lnTo>
                    <a:pt x="172" y="224"/>
                  </a:lnTo>
                  <a:lnTo>
                    <a:pt x="174" y="222"/>
                  </a:lnTo>
                  <a:lnTo>
                    <a:pt x="176" y="220"/>
                  </a:lnTo>
                  <a:lnTo>
                    <a:pt x="178" y="220"/>
                  </a:lnTo>
                  <a:lnTo>
                    <a:pt x="198" y="186"/>
                  </a:lnTo>
                  <a:lnTo>
                    <a:pt x="200" y="188"/>
                  </a:lnTo>
                  <a:lnTo>
                    <a:pt x="204" y="188"/>
                  </a:lnTo>
                  <a:lnTo>
                    <a:pt x="204" y="190"/>
                  </a:lnTo>
                  <a:lnTo>
                    <a:pt x="204" y="204"/>
                  </a:lnTo>
                  <a:lnTo>
                    <a:pt x="228" y="184"/>
                  </a:lnTo>
                  <a:lnTo>
                    <a:pt x="226" y="172"/>
                  </a:lnTo>
                  <a:lnTo>
                    <a:pt x="222" y="172"/>
                  </a:lnTo>
                  <a:lnTo>
                    <a:pt x="214" y="174"/>
                  </a:lnTo>
                  <a:lnTo>
                    <a:pt x="228" y="136"/>
                  </a:lnTo>
                  <a:lnTo>
                    <a:pt x="216" y="136"/>
                  </a:lnTo>
                  <a:lnTo>
                    <a:pt x="214" y="136"/>
                  </a:lnTo>
                  <a:lnTo>
                    <a:pt x="214" y="134"/>
                  </a:lnTo>
                  <a:lnTo>
                    <a:pt x="210" y="128"/>
                  </a:lnTo>
                  <a:lnTo>
                    <a:pt x="208" y="122"/>
                  </a:lnTo>
                  <a:lnTo>
                    <a:pt x="210" y="116"/>
                  </a:lnTo>
                  <a:lnTo>
                    <a:pt x="230" y="116"/>
                  </a:lnTo>
                  <a:lnTo>
                    <a:pt x="242" y="116"/>
                  </a:lnTo>
                  <a:lnTo>
                    <a:pt x="240" y="106"/>
                  </a:lnTo>
                  <a:lnTo>
                    <a:pt x="232" y="92"/>
                  </a:lnTo>
                  <a:lnTo>
                    <a:pt x="216" y="86"/>
                  </a:lnTo>
                  <a:lnTo>
                    <a:pt x="232" y="70"/>
                  </a:lnTo>
                  <a:lnTo>
                    <a:pt x="232" y="66"/>
                  </a:lnTo>
                  <a:lnTo>
                    <a:pt x="224" y="68"/>
                  </a:lnTo>
                  <a:lnTo>
                    <a:pt x="220" y="68"/>
                  </a:lnTo>
                  <a:lnTo>
                    <a:pt x="220" y="66"/>
                  </a:lnTo>
                  <a:lnTo>
                    <a:pt x="220" y="64"/>
                  </a:lnTo>
                  <a:lnTo>
                    <a:pt x="218" y="58"/>
                  </a:lnTo>
                  <a:lnTo>
                    <a:pt x="214" y="54"/>
                  </a:lnTo>
                  <a:lnTo>
                    <a:pt x="210" y="50"/>
                  </a:lnTo>
                  <a:lnTo>
                    <a:pt x="204" y="48"/>
                  </a:lnTo>
                  <a:lnTo>
                    <a:pt x="172" y="48"/>
                  </a:lnTo>
                  <a:lnTo>
                    <a:pt x="160" y="64"/>
                  </a:lnTo>
                  <a:lnTo>
                    <a:pt x="156" y="64"/>
                  </a:lnTo>
                  <a:lnTo>
                    <a:pt x="104" y="48"/>
                  </a:lnTo>
                  <a:lnTo>
                    <a:pt x="154" y="36"/>
                  </a:lnTo>
                  <a:lnTo>
                    <a:pt x="158" y="34"/>
                  </a:lnTo>
                  <a:lnTo>
                    <a:pt x="162" y="30"/>
                  </a:lnTo>
                  <a:lnTo>
                    <a:pt x="178" y="12"/>
                  </a:lnTo>
                  <a:lnTo>
                    <a:pt x="162" y="0"/>
                  </a:lnTo>
                  <a:lnTo>
                    <a:pt x="148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安徽"/>
            <p:cNvSpPr/>
            <p:nvPr/>
          </p:nvSpPr>
          <p:spPr>
            <a:xfrm>
              <a:off x="3133440" y="2594880"/>
              <a:ext cx="281880" cy="344880"/>
            </a:xfrm>
            <a:custGeom>
              <a:avLst/>
              <a:gdLst/>
              <a:ahLst/>
              <a:rect l="l" t="t" r="r" b="b"/>
              <a:pathLst>
                <a:path w="306" h="374">
                  <a:moveTo>
                    <a:pt x="192" y="106"/>
                  </a:moveTo>
                  <a:lnTo>
                    <a:pt x="192" y="106"/>
                  </a:lnTo>
                  <a:lnTo>
                    <a:pt x="186" y="86"/>
                  </a:lnTo>
                  <a:lnTo>
                    <a:pt x="180" y="70"/>
                  </a:lnTo>
                  <a:lnTo>
                    <a:pt x="174" y="60"/>
                  </a:lnTo>
                  <a:lnTo>
                    <a:pt x="170" y="56"/>
                  </a:lnTo>
                  <a:lnTo>
                    <a:pt x="142" y="46"/>
                  </a:lnTo>
                  <a:lnTo>
                    <a:pt x="122" y="40"/>
                  </a:lnTo>
                  <a:lnTo>
                    <a:pt x="110" y="34"/>
                  </a:lnTo>
                  <a:lnTo>
                    <a:pt x="104" y="30"/>
                  </a:lnTo>
                  <a:lnTo>
                    <a:pt x="96" y="22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2" y="14"/>
                  </a:lnTo>
                  <a:lnTo>
                    <a:pt x="96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86" y="60"/>
                  </a:lnTo>
                  <a:lnTo>
                    <a:pt x="78" y="70"/>
                  </a:lnTo>
                  <a:lnTo>
                    <a:pt x="74" y="72"/>
                  </a:lnTo>
                  <a:lnTo>
                    <a:pt x="72" y="72"/>
                  </a:lnTo>
                  <a:lnTo>
                    <a:pt x="64" y="66"/>
                  </a:lnTo>
                  <a:lnTo>
                    <a:pt x="52" y="50"/>
                  </a:lnTo>
                  <a:lnTo>
                    <a:pt x="38" y="46"/>
                  </a:lnTo>
                  <a:lnTo>
                    <a:pt x="40" y="54"/>
                  </a:lnTo>
                  <a:lnTo>
                    <a:pt x="46" y="70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4" y="82"/>
                  </a:lnTo>
                  <a:lnTo>
                    <a:pt x="28" y="88"/>
                  </a:lnTo>
                  <a:lnTo>
                    <a:pt x="24" y="90"/>
                  </a:lnTo>
                  <a:lnTo>
                    <a:pt x="22" y="94"/>
                  </a:lnTo>
                  <a:lnTo>
                    <a:pt x="22" y="102"/>
                  </a:lnTo>
                  <a:lnTo>
                    <a:pt x="24" y="116"/>
                  </a:lnTo>
                  <a:lnTo>
                    <a:pt x="20" y="124"/>
                  </a:lnTo>
                  <a:lnTo>
                    <a:pt x="18" y="126"/>
                  </a:lnTo>
                  <a:lnTo>
                    <a:pt x="16" y="126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8" y="130"/>
                  </a:lnTo>
                  <a:lnTo>
                    <a:pt x="18" y="144"/>
                  </a:lnTo>
                  <a:lnTo>
                    <a:pt x="28" y="160"/>
                  </a:lnTo>
                  <a:lnTo>
                    <a:pt x="28" y="162"/>
                  </a:lnTo>
                  <a:lnTo>
                    <a:pt x="36" y="162"/>
                  </a:lnTo>
                  <a:lnTo>
                    <a:pt x="42" y="160"/>
                  </a:lnTo>
                  <a:lnTo>
                    <a:pt x="48" y="162"/>
                  </a:lnTo>
                  <a:lnTo>
                    <a:pt x="54" y="164"/>
                  </a:lnTo>
                  <a:lnTo>
                    <a:pt x="60" y="166"/>
                  </a:lnTo>
                  <a:lnTo>
                    <a:pt x="70" y="178"/>
                  </a:lnTo>
                  <a:lnTo>
                    <a:pt x="68" y="200"/>
                  </a:lnTo>
                  <a:lnTo>
                    <a:pt x="72" y="204"/>
                  </a:lnTo>
                  <a:lnTo>
                    <a:pt x="72" y="210"/>
                  </a:lnTo>
                  <a:lnTo>
                    <a:pt x="68" y="214"/>
                  </a:lnTo>
                  <a:lnTo>
                    <a:pt x="60" y="218"/>
                  </a:lnTo>
                  <a:lnTo>
                    <a:pt x="56" y="218"/>
                  </a:lnTo>
                  <a:lnTo>
                    <a:pt x="54" y="220"/>
                  </a:lnTo>
                  <a:lnTo>
                    <a:pt x="52" y="224"/>
                  </a:lnTo>
                  <a:lnTo>
                    <a:pt x="50" y="230"/>
                  </a:lnTo>
                  <a:lnTo>
                    <a:pt x="44" y="244"/>
                  </a:lnTo>
                  <a:lnTo>
                    <a:pt x="52" y="254"/>
                  </a:lnTo>
                  <a:lnTo>
                    <a:pt x="74" y="258"/>
                  </a:lnTo>
                  <a:lnTo>
                    <a:pt x="76" y="258"/>
                  </a:lnTo>
                  <a:lnTo>
                    <a:pt x="86" y="268"/>
                  </a:lnTo>
                  <a:lnTo>
                    <a:pt x="72" y="288"/>
                  </a:lnTo>
                  <a:lnTo>
                    <a:pt x="102" y="352"/>
                  </a:lnTo>
                  <a:lnTo>
                    <a:pt x="104" y="354"/>
                  </a:lnTo>
                  <a:lnTo>
                    <a:pt x="98" y="358"/>
                  </a:lnTo>
                  <a:lnTo>
                    <a:pt x="100" y="364"/>
                  </a:lnTo>
                  <a:lnTo>
                    <a:pt x="156" y="330"/>
                  </a:lnTo>
                  <a:lnTo>
                    <a:pt x="146" y="346"/>
                  </a:lnTo>
                  <a:lnTo>
                    <a:pt x="138" y="362"/>
                  </a:lnTo>
                  <a:lnTo>
                    <a:pt x="134" y="374"/>
                  </a:lnTo>
                  <a:lnTo>
                    <a:pt x="140" y="372"/>
                  </a:lnTo>
                  <a:lnTo>
                    <a:pt x="146" y="366"/>
                  </a:lnTo>
                  <a:lnTo>
                    <a:pt x="152" y="360"/>
                  </a:lnTo>
                  <a:lnTo>
                    <a:pt x="156" y="350"/>
                  </a:lnTo>
                  <a:lnTo>
                    <a:pt x="158" y="350"/>
                  </a:lnTo>
                  <a:lnTo>
                    <a:pt x="172" y="342"/>
                  </a:lnTo>
                  <a:lnTo>
                    <a:pt x="174" y="340"/>
                  </a:lnTo>
                  <a:lnTo>
                    <a:pt x="196" y="358"/>
                  </a:lnTo>
                  <a:lnTo>
                    <a:pt x="220" y="360"/>
                  </a:lnTo>
                  <a:lnTo>
                    <a:pt x="232" y="368"/>
                  </a:lnTo>
                  <a:lnTo>
                    <a:pt x="260" y="342"/>
                  </a:lnTo>
                  <a:lnTo>
                    <a:pt x="264" y="336"/>
                  </a:lnTo>
                  <a:lnTo>
                    <a:pt x="268" y="326"/>
                  </a:lnTo>
                  <a:lnTo>
                    <a:pt x="272" y="320"/>
                  </a:lnTo>
                  <a:lnTo>
                    <a:pt x="270" y="312"/>
                  </a:lnTo>
                  <a:lnTo>
                    <a:pt x="260" y="296"/>
                  </a:lnTo>
                  <a:lnTo>
                    <a:pt x="254" y="286"/>
                  </a:lnTo>
                  <a:lnTo>
                    <a:pt x="288" y="298"/>
                  </a:lnTo>
                  <a:lnTo>
                    <a:pt x="300" y="292"/>
                  </a:lnTo>
                  <a:lnTo>
                    <a:pt x="288" y="270"/>
                  </a:lnTo>
                  <a:lnTo>
                    <a:pt x="288" y="268"/>
                  </a:lnTo>
                  <a:lnTo>
                    <a:pt x="306" y="246"/>
                  </a:lnTo>
                  <a:lnTo>
                    <a:pt x="298" y="234"/>
                  </a:lnTo>
                  <a:lnTo>
                    <a:pt x="290" y="226"/>
                  </a:lnTo>
                  <a:lnTo>
                    <a:pt x="284" y="222"/>
                  </a:lnTo>
                  <a:lnTo>
                    <a:pt x="282" y="222"/>
                  </a:lnTo>
                  <a:lnTo>
                    <a:pt x="272" y="232"/>
                  </a:lnTo>
                  <a:lnTo>
                    <a:pt x="272" y="230"/>
                  </a:lnTo>
                  <a:lnTo>
                    <a:pt x="270" y="230"/>
                  </a:lnTo>
                  <a:lnTo>
                    <a:pt x="256" y="226"/>
                  </a:lnTo>
                  <a:lnTo>
                    <a:pt x="252" y="214"/>
                  </a:lnTo>
                  <a:lnTo>
                    <a:pt x="244" y="210"/>
                  </a:lnTo>
                  <a:lnTo>
                    <a:pt x="236" y="204"/>
                  </a:lnTo>
                  <a:lnTo>
                    <a:pt x="226" y="198"/>
                  </a:lnTo>
                  <a:lnTo>
                    <a:pt x="218" y="192"/>
                  </a:lnTo>
                  <a:lnTo>
                    <a:pt x="216" y="190"/>
                  </a:lnTo>
                  <a:lnTo>
                    <a:pt x="216" y="186"/>
                  </a:lnTo>
                  <a:lnTo>
                    <a:pt x="214" y="184"/>
                  </a:lnTo>
                  <a:lnTo>
                    <a:pt x="216" y="180"/>
                  </a:lnTo>
                  <a:lnTo>
                    <a:pt x="220" y="170"/>
                  </a:lnTo>
                  <a:lnTo>
                    <a:pt x="230" y="152"/>
                  </a:lnTo>
                  <a:lnTo>
                    <a:pt x="232" y="144"/>
                  </a:lnTo>
                  <a:lnTo>
                    <a:pt x="234" y="138"/>
                  </a:lnTo>
                  <a:lnTo>
                    <a:pt x="234" y="128"/>
                  </a:lnTo>
                  <a:lnTo>
                    <a:pt x="240" y="128"/>
                  </a:lnTo>
                  <a:lnTo>
                    <a:pt x="258" y="130"/>
                  </a:lnTo>
                  <a:lnTo>
                    <a:pt x="260" y="122"/>
                  </a:lnTo>
                  <a:lnTo>
                    <a:pt x="264" y="106"/>
                  </a:lnTo>
                  <a:lnTo>
                    <a:pt x="260" y="104"/>
                  </a:lnTo>
                  <a:lnTo>
                    <a:pt x="242" y="116"/>
                  </a:lnTo>
                  <a:lnTo>
                    <a:pt x="230" y="122"/>
                  </a:lnTo>
                  <a:lnTo>
                    <a:pt x="222" y="122"/>
                  </a:lnTo>
                  <a:lnTo>
                    <a:pt x="214" y="120"/>
                  </a:lnTo>
                  <a:lnTo>
                    <a:pt x="204" y="114"/>
                  </a:lnTo>
                  <a:lnTo>
                    <a:pt x="194" y="108"/>
                  </a:lnTo>
                  <a:lnTo>
                    <a:pt x="194" y="106"/>
                  </a:lnTo>
                  <a:lnTo>
                    <a:pt x="192" y="10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天津"/>
            <p:cNvSpPr/>
            <p:nvPr/>
          </p:nvSpPr>
          <p:spPr>
            <a:xfrm>
              <a:off x="3188880" y="2196360"/>
              <a:ext cx="73440" cy="1069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80" h="116">
                  <a:moveTo>
                    <a:pt x="46" y="2"/>
                  </a:moveTo>
                  <a:lnTo>
                    <a:pt x="44" y="0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2" y="14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2" y="20"/>
                  </a:lnTo>
                  <a:lnTo>
                    <a:pt x="18" y="22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4" y="102"/>
                  </a:lnTo>
                  <a:lnTo>
                    <a:pt x="8" y="106"/>
                  </a:lnTo>
                  <a:lnTo>
                    <a:pt x="18" y="112"/>
                  </a:lnTo>
                  <a:lnTo>
                    <a:pt x="36" y="116"/>
                  </a:lnTo>
                  <a:lnTo>
                    <a:pt x="44" y="114"/>
                  </a:lnTo>
                  <a:lnTo>
                    <a:pt x="54" y="110"/>
                  </a:lnTo>
                  <a:lnTo>
                    <a:pt x="50" y="100"/>
                  </a:lnTo>
                  <a:lnTo>
                    <a:pt x="50" y="98"/>
                  </a:lnTo>
                  <a:lnTo>
                    <a:pt x="52" y="90"/>
                  </a:lnTo>
                  <a:lnTo>
                    <a:pt x="60" y="74"/>
                  </a:lnTo>
                  <a:lnTo>
                    <a:pt x="76" y="74"/>
                  </a:lnTo>
                  <a:lnTo>
                    <a:pt x="80" y="74"/>
                  </a:lnTo>
                  <a:lnTo>
                    <a:pt x="74" y="64"/>
                  </a:lnTo>
                  <a:lnTo>
                    <a:pt x="64" y="48"/>
                  </a:lnTo>
                  <a:lnTo>
                    <a:pt x="58" y="40"/>
                  </a:lnTo>
                  <a:lnTo>
                    <a:pt x="54" y="30"/>
                  </a:lnTo>
                  <a:lnTo>
                    <a:pt x="52" y="18"/>
                  </a:lnTo>
                  <a:lnTo>
                    <a:pt x="48" y="8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北京"/>
            <p:cNvSpPr/>
            <p:nvPr/>
          </p:nvSpPr>
          <p:spPr>
            <a:xfrm>
              <a:off x="3115080" y="2148480"/>
              <a:ext cx="97560" cy="1051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06" h="114">
                  <a:moveTo>
                    <a:pt x="52" y="24"/>
                  </a:moveTo>
                  <a:lnTo>
                    <a:pt x="52" y="26"/>
                  </a:lnTo>
                  <a:lnTo>
                    <a:pt x="48" y="26"/>
                  </a:lnTo>
                  <a:lnTo>
                    <a:pt x="38" y="24"/>
                  </a:lnTo>
                  <a:lnTo>
                    <a:pt x="38" y="28"/>
                  </a:lnTo>
                  <a:lnTo>
                    <a:pt x="38" y="30"/>
                  </a:lnTo>
                  <a:lnTo>
                    <a:pt x="36" y="30"/>
                  </a:lnTo>
                  <a:lnTo>
                    <a:pt x="18" y="38"/>
                  </a:lnTo>
                  <a:lnTo>
                    <a:pt x="18" y="40"/>
                  </a:lnTo>
                  <a:lnTo>
                    <a:pt x="16" y="44"/>
                  </a:lnTo>
                  <a:lnTo>
                    <a:pt x="18" y="48"/>
                  </a:lnTo>
                  <a:lnTo>
                    <a:pt x="24" y="56"/>
                  </a:lnTo>
                  <a:lnTo>
                    <a:pt x="24" y="58"/>
                  </a:lnTo>
                  <a:lnTo>
                    <a:pt x="24" y="60"/>
                  </a:lnTo>
                  <a:lnTo>
                    <a:pt x="14" y="72"/>
                  </a:lnTo>
                  <a:lnTo>
                    <a:pt x="4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4" y="96"/>
                  </a:lnTo>
                  <a:lnTo>
                    <a:pt x="14" y="100"/>
                  </a:lnTo>
                  <a:lnTo>
                    <a:pt x="20" y="100"/>
                  </a:lnTo>
                  <a:lnTo>
                    <a:pt x="32" y="102"/>
                  </a:lnTo>
                  <a:lnTo>
                    <a:pt x="36" y="102"/>
                  </a:lnTo>
                  <a:lnTo>
                    <a:pt x="40" y="106"/>
                  </a:lnTo>
                  <a:lnTo>
                    <a:pt x="48" y="110"/>
                  </a:lnTo>
                  <a:lnTo>
                    <a:pt x="56" y="114"/>
                  </a:lnTo>
                  <a:lnTo>
                    <a:pt x="62" y="114"/>
                  </a:lnTo>
                  <a:lnTo>
                    <a:pt x="66" y="112"/>
                  </a:lnTo>
                  <a:lnTo>
                    <a:pt x="72" y="106"/>
                  </a:lnTo>
                  <a:lnTo>
                    <a:pt x="78" y="98"/>
                  </a:lnTo>
                  <a:lnTo>
                    <a:pt x="84" y="84"/>
                  </a:lnTo>
                  <a:lnTo>
                    <a:pt x="80" y="66"/>
                  </a:lnTo>
                  <a:lnTo>
                    <a:pt x="86" y="68"/>
                  </a:lnTo>
                  <a:lnTo>
                    <a:pt x="96" y="68"/>
                  </a:lnTo>
                  <a:lnTo>
                    <a:pt x="100" y="66"/>
                  </a:lnTo>
                  <a:lnTo>
                    <a:pt x="102" y="62"/>
                  </a:lnTo>
                  <a:lnTo>
                    <a:pt x="94" y="38"/>
                  </a:lnTo>
                  <a:lnTo>
                    <a:pt x="96" y="30"/>
                  </a:lnTo>
                  <a:lnTo>
                    <a:pt x="102" y="26"/>
                  </a:lnTo>
                  <a:lnTo>
                    <a:pt x="106" y="22"/>
                  </a:lnTo>
                  <a:lnTo>
                    <a:pt x="104" y="18"/>
                  </a:lnTo>
                  <a:lnTo>
                    <a:pt x="86" y="18"/>
                  </a:lnTo>
                  <a:lnTo>
                    <a:pt x="68" y="6"/>
                  </a:lnTo>
                  <a:lnTo>
                    <a:pt x="62" y="2"/>
                  </a:lnTo>
                  <a:lnTo>
                    <a:pt x="58" y="0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4" y="8"/>
                  </a:lnTo>
                  <a:lnTo>
                    <a:pt x="50" y="10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辽宁"/>
            <p:cNvSpPr/>
            <p:nvPr/>
          </p:nvSpPr>
          <p:spPr>
            <a:xfrm>
              <a:off x="3281040" y="1940040"/>
              <a:ext cx="346320" cy="3301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376" h="358">
                  <a:moveTo>
                    <a:pt x="172" y="46"/>
                  </a:moveTo>
                  <a:lnTo>
                    <a:pt x="162" y="60"/>
                  </a:lnTo>
                  <a:lnTo>
                    <a:pt x="160" y="64"/>
                  </a:lnTo>
                  <a:lnTo>
                    <a:pt x="160" y="74"/>
                  </a:lnTo>
                  <a:lnTo>
                    <a:pt x="160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28" y="76"/>
                  </a:lnTo>
                  <a:lnTo>
                    <a:pt x="116" y="92"/>
                  </a:lnTo>
                  <a:lnTo>
                    <a:pt x="102" y="100"/>
                  </a:lnTo>
                  <a:lnTo>
                    <a:pt x="92" y="112"/>
                  </a:lnTo>
                  <a:lnTo>
                    <a:pt x="90" y="116"/>
                  </a:lnTo>
                  <a:lnTo>
                    <a:pt x="70" y="138"/>
                  </a:lnTo>
                  <a:lnTo>
                    <a:pt x="70" y="140"/>
                  </a:lnTo>
                  <a:lnTo>
                    <a:pt x="68" y="140"/>
                  </a:lnTo>
                  <a:lnTo>
                    <a:pt x="54" y="148"/>
                  </a:lnTo>
                  <a:lnTo>
                    <a:pt x="42" y="140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22"/>
                  </a:lnTo>
                  <a:lnTo>
                    <a:pt x="28" y="156"/>
                  </a:lnTo>
                  <a:lnTo>
                    <a:pt x="34" y="172"/>
                  </a:lnTo>
                  <a:lnTo>
                    <a:pt x="22" y="184"/>
                  </a:lnTo>
                  <a:lnTo>
                    <a:pt x="4" y="208"/>
                  </a:lnTo>
                  <a:lnTo>
                    <a:pt x="4" y="220"/>
                  </a:lnTo>
                  <a:lnTo>
                    <a:pt x="0" y="226"/>
                  </a:lnTo>
                  <a:lnTo>
                    <a:pt x="2" y="232"/>
                  </a:lnTo>
                  <a:lnTo>
                    <a:pt x="8" y="232"/>
                  </a:lnTo>
                  <a:lnTo>
                    <a:pt x="32" y="238"/>
                  </a:lnTo>
                  <a:lnTo>
                    <a:pt x="34" y="238"/>
                  </a:lnTo>
                  <a:lnTo>
                    <a:pt x="34" y="240"/>
                  </a:lnTo>
                  <a:lnTo>
                    <a:pt x="40" y="244"/>
                  </a:lnTo>
                  <a:lnTo>
                    <a:pt x="46" y="248"/>
                  </a:lnTo>
                  <a:lnTo>
                    <a:pt x="48" y="248"/>
                  </a:lnTo>
                  <a:lnTo>
                    <a:pt x="50" y="252"/>
                  </a:lnTo>
                  <a:lnTo>
                    <a:pt x="52" y="258"/>
                  </a:lnTo>
                  <a:lnTo>
                    <a:pt x="54" y="264"/>
                  </a:lnTo>
                  <a:lnTo>
                    <a:pt x="78" y="272"/>
                  </a:lnTo>
                  <a:lnTo>
                    <a:pt x="86" y="270"/>
                  </a:lnTo>
                  <a:lnTo>
                    <a:pt x="92" y="260"/>
                  </a:lnTo>
                  <a:lnTo>
                    <a:pt x="112" y="224"/>
                  </a:lnTo>
                  <a:lnTo>
                    <a:pt x="122" y="212"/>
                  </a:lnTo>
                  <a:lnTo>
                    <a:pt x="122" y="210"/>
                  </a:lnTo>
                  <a:lnTo>
                    <a:pt x="138" y="204"/>
                  </a:lnTo>
                  <a:lnTo>
                    <a:pt x="148" y="202"/>
                  </a:lnTo>
                  <a:lnTo>
                    <a:pt x="154" y="196"/>
                  </a:lnTo>
                  <a:lnTo>
                    <a:pt x="160" y="192"/>
                  </a:lnTo>
                  <a:lnTo>
                    <a:pt x="164" y="194"/>
                  </a:lnTo>
                  <a:lnTo>
                    <a:pt x="172" y="198"/>
                  </a:lnTo>
                  <a:lnTo>
                    <a:pt x="174" y="198"/>
                  </a:lnTo>
                  <a:lnTo>
                    <a:pt x="174" y="200"/>
                  </a:lnTo>
                  <a:lnTo>
                    <a:pt x="188" y="220"/>
                  </a:lnTo>
                  <a:lnTo>
                    <a:pt x="188" y="222"/>
                  </a:lnTo>
                  <a:lnTo>
                    <a:pt x="190" y="238"/>
                  </a:lnTo>
                  <a:lnTo>
                    <a:pt x="188" y="254"/>
                  </a:lnTo>
                  <a:lnTo>
                    <a:pt x="184" y="268"/>
                  </a:lnTo>
                  <a:lnTo>
                    <a:pt x="184" y="270"/>
                  </a:lnTo>
                  <a:lnTo>
                    <a:pt x="174" y="284"/>
                  </a:lnTo>
                  <a:lnTo>
                    <a:pt x="168" y="294"/>
                  </a:lnTo>
                  <a:lnTo>
                    <a:pt x="170" y="312"/>
                  </a:lnTo>
                  <a:lnTo>
                    <a:pt x="172" y="312"/>
                  </a:lnTo>
                  <a:lnTo>
                    <a:pt x="176" y="308"/>
                  </a:lnTo>
                  <a:lnTo>
                    <a:pt x="184" y="304"/>
                  </a:lnTo>
                  <a:lnTo>
                    <a:pt x="184" y="302"/>
                  </a:lnTo>
                  <a:lnTo>
                    <a:pt x="186" y="300"/>
                  </a:lnTo>
                  <a:lnTo>
                    <a:pt x="194" y="308"/>
                  </a:lnTo>
                  <a:lnTo>
                    <a:pt x="194" y="320"/>
                  </a:lnTo>
                  <a:lnTo>
                    <a:pt x="192" y="320"/>
                  </a:lnTo>
                  <a:lnTo>
                    <a:pt x="186" y="324"/>
                  </a:lnTo>
                  <a:lnTo>
                    <a:pt x="184" y="328"/>
                  </a:lnTo>
                  <a:lnTo>
                    <a:pt x="184" y="334"/>
                  </a:lnTo>
                  <a:lnTo>
                    <a:pt x="182" y="336"/>
                  </a:lnTo>
                  <a:lnTo>
                    <a:pt x="178" y="344"/>
                  </a:lnTo>
                  <a:lnTo>
                    <a:pt x="176" y="344"/>
                  </a:lnTo>
                  <a:lnTo>
                    <a:pt x="168" y="346"/>
                  </a:lnTo>
                  <a:lnTo>
                    <a:pt x="162" y="348"/>
                  </a:lnTo>
                  <a:lnTo>
                    <a:pt x="158" y="356"/>
                  </a:lnTo>
                  <a:lnTo>
                    <a:pt x="158" y="358"/>
                  </a:lnTo>
                  <a:lnTo>
                    <a:pt x="184" y="354"/>
                  </a:lnTo>
                  <a:lnTo>
                    <a:pt x="190" y="350"/>
                  </a:lnTo>
                  <a:lnTo>
                    <a:pt x="198" y="328"/>
                  </a:lnTo>
                  <a:lnTo>
                    <a:pt x="258" y="266"/>
                  </a:lnTo>
                  <a:lnTo>
                    <a:pt x="260" y="266"/>
                  </a:lnTo>
                  <a:lnTo>
                    <a:pt x="272" y="260"/>
                  </a:lnTo>
                  <a:lnTo>
                    <a:pt x="284" y="260"/>
                  </a:lnTo>
                  <a:lnTo>
                    <a:pt x="294" y="258"/>
                  </a:lnTo>
                  <a:lnTo>
                    <a:pt x="304" y="252"/>
                  </a:lnTo>
                  <a:lnTo>
                    <a:pt x="312" y="244"/>
                  </a:lnTo>
                  <a:lnTo>
                    <a:pt x="326" y="208"/>
                  </a:lnTo>
                  <a:lnTo>
                    <a:pt x="376" y="156"/>
                  </a:lnTo>
                  <a:lnTo>
                    <a:pt x="372" y="128"/>
                  </a:lnTo>
                  <a:lnTo>
                    <a:pt x="368" y="126"/>
                  </a:lnTo>
                  <a:lnTo>
                    <a:pt x="364" y="122"/>
                  </a:lnTo>
                  <a:lnTo>
                    <a:pt x="364" y="120"/>
                  </a:lnTo>
                  <a:lnTo>
                    <a:pt x="364" y="122"/>
                  </a:lnTo>
                  <a:lnTo>
                    <a:pt x="356" y="122"/>
                  </a:lnTo>
                  <a:lnTo>
                    <a:pt x="350" y="120"/>
                  </a:lnTo>
                  <a:lnTo>
                    <a:pt x="346" y="116"/>
                  </a:lnTo>
                  <a:lnTo>
                    <a:pt x="344" y="110"/>
                  </a:lnTo>
                  <a:lnTo>
                    <a:pt x="342" y="108"/>
                  </a:lnTo>
                  <a:lnTo>
                    <a:pt x="342" y="66"/>
                  </a:lnTo>
                  <a:lnTo>
                    <a:pt x="336" y="62"/>
                  </a:lnTo>
                  <a:lnTo>
                    <a:pt x="328" y="56"/>
                  </a:lnTo>
                  <a:lnTo>
                    <a:pt x="316" y="44"/>
                  </a:lnTo>
                  <a:lnTo>
                    <a:pt x="308" y="30"/>
                  </a:lnTo>
                  <a:lnTo>
                    <a:pt x="306" y="24"/>
                  </a:lnTo>
                  <a:lnTo>
                    <a:pt x="306" y="16"/>
                  </a:lnTo>
                  <a:lnTo>
                    <a:pt x="308" y="12"/>
                  </a:lnTo>
                  <a:lnTo>
                    <a:pt x="302" y="4"/>
                  </a:lnTo>
                  <a:lnTo>
                    <a:pt x="300" y="10"/>
                  </a:lnTo>
                  <a:lnTo>
                    <a:pt x="294" y="24"/>
                  </a:lnTo>
                  <a:lnTo>
                    <a:pt x="292" y="24"/>
                  </a:lnTo>
                  <a:lnTo>
                    <a:pt x="282" y="24"/>
                  </a:lnTo>
                  <a:lnTo>
                    <a:pt x="274" y="20"/>
                  </a:lnTo>
                  <a:lnTo>
                    <a:pt x="270" y="16"/>
                  </a:lnTo>
                  <a:lnTo>
                    <a:pt x="268" y="10"/>
                  </a:lnTo>
                  <a:lnTo>
                    <a:pt x="268" y="8"/>
                  </a:lnTo>
                  <a:lnTo>
                    <a:pt x="264" y="8"/>
                  </a:lnTo>
                  <a:lnTo>
                    <a:pt x="248" y="12"/>
                  </a:lnTo>
                  <a:lnTo>
                    <a:pt x="236" y="0"/>
                  </a:lnTo>
                  <a:lnTo>
                    <a:pt x="232" y="0"/>
                  </a:lnTo>
                  <a:lnTo>
                    <a:pt x="228" y="4"/>
                  </a:lnTo>
                  <a:lnTo>
                    <a:pt x="234" y="12"/>
                  </a:lnTo>
                  <a:lnTo>
                    <a:pt x="236" y="14"/>
                  </a:lnTo>
                  <a:lnTo>
                    <a:pt x="228" y="30"/>
                  </a:lnTo>
                  <a:lnTo>
                    <a:pt x="226" y="30"/>
                  </a:lnTo>
                  <a:lnTo>
                    <a:pt x="226" y="32"/>
                  </a:lnTo>
                  <a:lnTo>
                    <a:pt x="212" y="48"/>
                  </a:lnTo>
                  <a:lnTo>
                    <a:pt x="210" y="48"/>
                  </a:lnTo>
                  <a:lnTo>
                    <a:pt x="208" y="48"/>
                  </a:lnTo>
                  <a:lnTo>
                    <a:pt x="186" y="50"/>
                  </a:lnTo>
                  <a:lnTo>
                    <a:pt x="172" y="4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吉林"/>
            <p:cNvSpPr/>
            <p:nvPr/>
          </p:nvSpPr>
          <p:spPr>
            <a:xfrm>
              <a:off x="3358440" y="1740960"/>
              <a:ext cx="493560" cy="33552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335520"/>
                <a:gd name="textAreaBottom" fmla="*/ 335880 h 335520"/>
              </a:gdLst>
              <a:ahLst/>
              <a:rect l="textAreaLeft" t="textAreaTop" r="textAreaRight" b="textAreaBottom"/>
              <a:pathLst>
                <a:path w="536" h="364">
                  <a:moveTo>
                    <a:pt x="104" y="18"/>
                  </a:moveTo>
                  <a:lnTo>
                    <a:pt x="102" y="0"/>
                  </a:lnTo>
                  <a:lnTo>
                    <a:pt x="94" y="6"/>
                  </a:lnTo>
                  <a:lnTo>
                    <a:pt x="92" y="6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70" y="20"/>
                  </a:lnTo>
                  <a:lnTo>
                    <a:pt x="68" y="20"/>
                  </a:lnTo>
                  <a:lnTo>
                    <a:pt x="60" y="34"/>
                  </a:lnTo>
                  <a:lnTo>
                    <a:pt x="58" y="34"/>
                  </a:lnTo>
                  <a:lnTo>
                    <a:pt x="58" y="36"/>
                  </a:lnTo>
                  <a:lnTo>
                    <a:pt x="44" y="48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28" y="40"/>
                  </a:lnTo>
                  <a:lnTo>
                    <a:pt x="22" y="34"/>
                  </a:lnTo>
                  <a:lnTo>
                    <a:pt x="18" y="32"/>
                  </a:lnTo>
                  <a:lnTo>
                    <a:pt x="8" y="34"/>
                  </a:lnTo>
                  <a:lnTo>
                    <a:pt x="0" y="40"/>
                  </a:lnTo>
                  <a:lnTo>
                    <a:pt x="18" y="54"/>
                  </a:lnTo>
                  <a:lnTo>
                    <a:pt x="32" y="60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36" y="80"/>
                  </a:lnTo>
                  <a:lnTo>
                    <a:pt x="36" y="104"/>
                  </a:lnTo>
                  <a:lnTo>
                    <a:pt x="40" y="118"/>
                  </a:lnTo>
                  <a:lnTo>
                    <a:pt x="50" y="140"/>
                  </a:lnTo>
                  <a:lnTo>
                    <a:pt x="60" y="152"/>
                  </a:lnTo>
                  <a:lnTo>
                    <a:pt x="70" y="144"/>
                  </a:lnTo>
                  <a:lnTo>
                    <a:pt x="76" y="136"/>
                  </a:lnTo>
                  <a:lnTo>
                    <a:pt x="88" y="122"/>
                  </a:lnTo>
                  <a:lnTo>
                    <a:pt x="98" y="132"/>
                  </a:lnTo>
                  <a:lnTo>
                    <a:pt x="108" y="152"/>
                  </a:lnTo>
                  <a:lnTo>
                    <a:pt x="120" y="156"/>
                  </a:lnTo>
                  <a:lnTo>
                    <a:pt x="126" y="176"/>
                  </a:lnTo>
                  <a:lnTo>
                    <a:pt x="124" y="194"/>
                  </a:lnTo>
                  <a:lnTo>
                    <a:pt x="124" y="196"/>
                  </a:lnTo>
                  <a:lnTo>
                    <a:pt x="120" y="212"/>
                  </a:lnTo>
                  <a:lnTo>
                    <a:pt x="128" y="220"/>
                  </a:lnTo>
                  <a:lnTo>
                    <a:pt x="138" y="214"/>
                  </a:lnTo>
                  <a:lnTo>
                    <a:pt x="148" y="204"/>
                  </a:lnTo>
                  <a:lnTo>
                    <a:pt x="150" y="206"/>
                  </a:lnTo>
                  <a:lnTo>
                    <a:pt x="158" y="208"/>
                  </a:lnTo>
                  <a:lnTo>
                    <a:pt x="168" y="218"/>
                  </a:lnTo>
                  <a:lnTo>
                    <a:pt x="178" y="216"/>
                  </a:lnTo>
                  <a:lnTo>
                    <a:pt x="184" y="214"/>
                  </a:lnTo>
                  <a:lnTo>
                    <a:pt x="188" y="216"/>
                  </a:lnTo>
                  <a:lnTo>
                    <a:pt x="190" y="218"/>
                  </a:lnTo>
                  <a:lnTo>
                    <a:pt x="192" y="220"/>
                  </a:lnTo>
                  <a:lnTo>
                    <a:pt x="192" y="228"/>
                  </a:lnTo>
                  <a:lnTo>
                    <a:pt x="194" y="228"/>
                  </a:lnTo>
                  <a:lnTo>
                    <a:pt x="204" y="232"/>
                  </a:lnTo>
                  <a:lnTo>
                    <a:pt x="210" y="222"/>
                  </a:lnTo>
                  <a:lnTo>
                    <a:pt x="210" y="218"/>
                  </a:lnTo>
                  <a:lnTo>
                    <a:pt x="210" y="214"/>
                  </a:lnTo>
                  <a:lnTo>
                    <a:pt x="212" y="210"/>
                  </a:lnTo>
                  <a:lnTo>
                    <a:pt x="220" y="212"/>
                  </a:lnTo>
                  <a:lnTo>
                    <a:pt x="226" y="214"/>
                  </a:lnTo>
                  <a:lnTo>
                    <a:pt x="230" y="218"/>
                  </a:lnTo>
                  <a:lnTo>
                    <a:pt x="232" y="222"/>
                  </a:lnTo>
                  <a:lnTo>
                    <a:pt x="232" y="228"/>
                  </a:lnTo>
                  <a:lnTo>
                    <a:pt x="232" y="232"/>
                  </a:lnTo>
                  <a:lnTo>
                    <a:pt x="232" y="242"/>
                  </a:lnTo>
                  <a:lnTo>
                    <a:pt x="240" y="256"/>
                  </a:lnTo>
                  <a:lnTo>
                    <a:pt x="250" y="266"/>
                  </a:lnTo>
                  <a:lnTo>
                    <a:pt x="256" y="272"/>
                  </a:lnTo>
                  <a:lnTo>
                    <a:pt x="262" y="274"/>
                  </a:lnTo>
                  <a:lnTo>
                    <a:pt x="264" y="274"/>
                  </a:lnTo>
                  <a:lnTo>
                    <a:pt x="266" y="278"/>
                  </a:lnTo>
                  <a:lnTo>
                    <a:pt x="268" y="288"/>
                  </a:lnTo>
                  <a:lnTo>
                    <a:pt x="268" y="324"/>
                  </a:lnTo>
                  <a:lnTo>
                    <a:pt x="270" y="328"/>
                  </a:lnTo>
                  <a:lnTo>
                    <a:pt x="274" y="330"/>
                  </a:lnTo>
                  <a:lnTo>
                    <a:pt x="276" y="330"/>
                  </a:lnTo>
                  <a:lnTo>
                    <a:pt x="282" y="330"/>
                  </a:lnTo>
                  <a:lnTo>
                    <a:pt x="288" y="332"/>
                  </a:lnTo>
                  <a:lnTo>
                    <a:pt x="290" y="334"/>
                  </a:lnTo>
                  <a:lnTo>
                    <a:pt x="294" y="338"/>
                  </a:lnTo>
                  <a:lnTo>
                    <a:pt x="298" y="344"/>
                  </a:lnTo>
                  <a:lnTo>
                    <a:pt x="300" y="364"/>
                  </a:lnTo>
                  <a:lnTo>
                    <a:pt x="318" y="328"/>
                  </a:lnTo>
                  <a:lnTo>
                    <a:pt x="322" y="314"/>
                  </a:lnTo>
                  <a:lnTo>
                    <a:pt x="326" y="304"/>
                  </a:lnTo>
                  <a:lnTo>
                    <a:pt x="332" y="296"/>
                  </a:lnTo>
                  <a:lnTo>
                    <a:pt x="338" y="294"/>
                  </a:lnTo>
                  <a:lnTo>
                    <a:pt x="344" y="294"/>
                  </a:lnTo>
                  <a:lnTo>
                    <a:pt x="352" y="294"/>
                  </a:lnTo>
                  <a:lnTo>
                    <a:pt x="372" y="304"/>
                  </a:lnTo>
                  <a:lnTo>
                    <a:pt x="424" y="308"/>
                  </a:lnTo>
                  <a:lnTo>
                    <a:pt x="424" y="296"/>
                  </a:lnTo>
                  <a:lnTo>
                    <a:pt x="400" y="272"/>
                  </a:lnTo>
                  <a:lnTo>
                    <a:pt x="388" y="264"/>
                  </a:lnTo>
                  <a:lnTo>
                    <a:pt x="386" y="262"/>
                  </a:lnTo>
                  <a:lnTo>
                    <a:pt x="386" y="258"/>
                  </a:lnTo>
                  <a:lnTo>
                    <a:pt x="404" y="260"/>
                  </a:lnTo>
                  <a:lnTo>
                    <a:pt x="412" y="260"/>
                  </a:lnTo>
                  <a:lnTo>
                    <a:pt x="418" y="260"/>
                  </a:lnTo>
                  <a:lnTo>
                    <a:pt x="424" y="260"/>
                  </a:lnTo>
                  <a:lnTo>
                    <a:pt x="430" y="256"/>
                  </a:lnTo>
                  <a:lnTo>
                    <a:pt x="436" y="252"/>
                  </a:lnTo>
                  <a:lnTo>
                    <a:pt x="442" y="246"/>
                  </a:lnTo>
                  <a:lnTo>
                    <a:pt x="452" y="228"/>
                  </a:lnTo>
                  <a:lnTo>
                    <a:pt x="454" y="228"/>
                  </a:lnTo>
                  <a:lnTo>
                    <a:pt x="472" y="212"/>
                  </a:lnTo>
                  <a:lnTo>
                    <a:pt x="474" y="174"/>
                  </a:lnTo>
                  <a:lnTo>
                    <a:pt x="474" y="170"/>
                  </a:lnTo>
                  <a:lnTo>
                    <a:pt x="476" y="170"/>
                  </a:lnTo>
                  <a:lnTo>
                    <a:pt x="478" y="170"/>
                  </a:lnTo>
                  <a:lnTo>
                    <a:pt x="492" y="168"/>
                  </a:lnTo>
                  <a:lnTo>
                    <a:pt x="494" y="168"/>
                  </a:lnTo>
                  <a:lnTo>
                    <a:pt x="496" y="168"/>
                  </a:lnTo>
                  <a:lnTo>
                    <a:pt x="524" y="198"/>
                  </a:lnTo>
                  <a:lnTo>
                    <a:pt x="532" y="196"/>
                  </a:lnTo>
                  <a:lnTo>
                    <a:pt x="532" y="190"/>
                  </a:lnTo>
                  <a:lnTo>
                    <a:pt x="518" y="176"/>
                  </a:lnTo>
                  <a:lnTo>
                    <a:pt x="516" y="174"/>
                  </a:lnTo>
                  <a:lnTo>
                    <a:pt x="514" y="172"/>
                  </a:lnTo>
                  <a:lnTo>
                    <a:pt x="536" y="158"/>
                  </a:lnTo>
                  <a:lnTo>
                    <a:pt x="536" y="124"/>
                  </a:lnTo>
                  <a:lnTo>
                    <a:pt x="526" y="126"/>
                  </a:lnTo>
                  <a:lnTo>
                    <a:pt x="524" y="126"/>
                  </a:lnTo>
                  <a:lnTo>
                    <a:pt x="512" y="120"/>
                  </a:lnTo>
                  <a:lnTo>
                    <a:pt x="504" y="118"/>
                  </a:lnTo>
                  <a:lnTo>
                    <a:pt x="492" y="110"/>
                  </a:lnTo>
                  <a:lnTo>
                    <a:pt x="486" y="106"/>
                  </a:lnTo>
                  <a:lnTo>
                    <a:pt x="484" y="102"/>
                  </a:lnTo>
                  <a:lnTo>
                    <a:pt x="484" y="104"/>
                  </a:lnTo>
                  <a:lnTo>
                    <a:pt x="482" y="108"/>
                  </a:lnTo>
                  <a:lnTo>
                    <a:pt x="480" y="108"/>
                  </a:lnTo>
                  <a:lnTo>
                    <a:pt x="476" y="110"/>
                  </a:lnTo>
                  <a:lnTo>
                    <a:pt x="470" y="112"/>
                  </a:lnTo>
                  <a:lnTo>
                    <a:pt x="468" y="112"/>
                  </a:lnTo>
                  <a:lnTo>
                    <a:pt x="468" y="110"/>
                  </a:lnTo>
                  <a:lnTo>
                    <a:pt x="456" y="102"/>
                  </a:lnTo>
                  <a:lnTo>
                    <a:pt x="446" y="110"/>
                  </a:lnTo>
                  <a:lnTo>
                    <a:pt x="440" y="116"/>
                  </a:lnTo>
                  <a:lnTo>
                    <a:pt x="438" y="120"/>
                  </a:lnTo>
                  <a:lnTo>
                    <a:pt x="444" y="132"/>
                  </a:lnTo>
                  <a:lnTo>
                    <a:pt x="446" y="136"/>
                  </a:lnTo>
                  <a:lnTo>
                    <a:pt x="444" y="138"/>
                  </a:lnTo>
                  <a:lnTo>
                    <a:pt x="440" y="142"/>
                  </a:lnTo>
                  <a:lnTo>
                    <a:pt x="434" y="144"/>
                  </a:lnTo>
                  <a:lnTo>
                    <a:pt x="428" y="146"/>
                  </a:lnTo>
                  <a:lnTo>
                    <a:pt x="422" y="148"/>
                  </a:lnTo>
                  <a:lnTo>
                    <a:pt x="418" y="146"/>
                  </a:lnTo>
                  <a:lnTo>
                    <a:pt x="416" y="144"/>
                  </a:lnTo>
                  <a:lnTo>
                    <a:pt x="414" y="140"/>
                  </a:lnTo>
                  <a:lnTo>
                    <a:pt x="392" y="120"/>
                  </a:lnTo>
                  <a:lnTo>
                    <a:pt x="382" y="114"/>
                  </a:lnTo>
                  <a:lnTo>
                    <a:pt x="376" y="108"/>
                  </a:lnTo>
                  <a:lnTo>
                    <a:pt x="374" y="104"/>
                  </a:lnTo>
                  <a:lnTo>
                    <a:pt x="374" y="100"/>
                  </a:lnTo>
                  <a:lnTo>
                    <a:pt x="372" y="92"/>
                  </a:lnTo>
                  <a:lnTo>
                    <a:pt x="370" y="86"/>
                  </a:lnTo>
                  <a:lnTo>
                    <a:pt x="366" y="88"/>
                  </a:lnTo>
                  <a:lnTo>
                    <a:pt x="364" y="90"/>
                  </a:lnTo>
                  <a:lnTo>
                    <a:pt x="366" y="94"/>
                  </a:lnTo>
                  <a:lnTo>
                    <a:pt x="368" y="98"/>
                  </a:lnTo>
                  <a:lnTo>
                    <a:pt x="368" y="100"/>
                  </a:lnTo>
                  <a:lnTo>
                    <a:pt x="370" y="100"/>
                  </a:lnTo>
                  <a:lnTo>
                    <a:pt x="368" y="102"/>
                  </a:lnTo>
                  <a:lnTo>
                    <a:pt x="358" y="120"/>
                  </a:lnTo>
                  <a:lnTo>
                    <a:pt x="340" y="116"/>
                  </a:lnTo>
                  <a:lnTo>
                    <a:pt x="336" y="114"/>
                  </a:lnTo>
                  <a:lnTo>
                    <a:pt x="336" y="112"/>
                  </a:lnTo>
                  <a:lnTo>
                    <a:pt x="336" y="106"/>
                  </a:lnTo>
                  <a:lnTo>
                    <a:pt x="336" y="100"/>
                  </a:lnTo>
                  <a:lnTo>
                    <a:pt x="332" y="94"/>
                  </a:lnTo>
                  <a:lnTo>
                    <a:pt x="318" y="84"/>
                  </a:lnTo>
                  <a:lnTo>
                    <a:pt x="316" y="82"/>
                  </a:lnTo>
                  <a:lnTo>
                    <a:pt x="314" y="84"/>
                  </a:lnTo>
                  <a:lnTo>
                    <a:pt x="312" y="86"/>
                  </a:lnTo>
                  <a:lnTo>
                    <a:pt x="298" y="84"/>
                  </a:lnTo>
                  <a:lnTo>
                    <a:pt x="292" y="82"/>
                  </a:lnTo>
                  <a:lnTo>
                    <a:pt x="288" y="80"/>
                  </a:lnTo>
                  <a:lnTo>
                    <a:pt x="288" y="76"/>
                  </a:lnTo>
                  <a:lnTo>
                    <a:pt x="288" y="70"/>
                  </a:lnTo>
                  <a:lnTo>
                    <a:pt x="290" y="68"/>
                  </a:lnTo>
                  <a:lnTo>
                    <a:pt x="284" y="56"/>
                  </a:lnTo>
                  <a:lnTo>
                    <a:pt x="256" y="58"/>
                  </a:lnTo>
                  <a:lnTo>
                    <a:pt x="256" y="64"/>
                  </a:lnTo>
                  <a:lnTo>
                    <a:pt x="254" y="68"/>
                  </a:lnTo>
                  <a:lnTo>
                    <a:pt x="252" y="70"/>
                  </a:lnTo>
                  <a:lnTo>
                    <a:pt x="248" y="72"/>
                  </a:lnTo>
                  <a:lnTo>
                    <a:pt x="240" y="72"/>
                  </a:lnTo>
                  <a:lnTo>
                    <a:pt x="234" y="68"/>
                  </a:lnTo>
                  <a:lnTo>
                    <a:pt x="234" y="66"/>
                  </a:lnTo>
                  <a:lnTo>
                    <a:pt x="226" y="56"/>
                  </a:lnTo>
                  <a:lnTo>
                    <a:pt x="224" y="48"/>
                  </a:lnTo>
                  <a:lnTo>
                    <a:pt x="220" y="40"/>
                  </a:lnTo>
                  <a:lnTo>
                    <a:pt x="212" y="46"/>
                  </a:lnTo>
                  <a:lnTo>
                    <a:pt x="202" y="50"/>
                  </a:lnTo>
                  <a:lnTo>
                    <a:pt x="200" y="50"/>
                  </a:lnTo>
                  <a:lnTo>
                    <a:pt x="196" y="48"/>
                  </a:lnTo>
                  <a:lnTo>
                    <a:pt x="194" y="46"/>
                  </a:lnTo>
                  <a:lnTo>
                    <a:pt x="186" y="48"/>
                  </a:lnTo>
                  <a:lnTo>
                    <a:pt x="164" y="54"/>
                  </a:lnTo>
                  <a:lnTo>
                    <a:pt x="158" y="58"/>
                  </a:lnTo>
                  <a:lnTo>
                    <a:pt x="152" y="58"/>
                  </a:lnTo>
                  <a:lnTo>
                    <a:pt x="150" y="58"/>
                  </a:lnTo>
                  <a:lnTo>
                    <a:pt x="140" y="56"/>
                  </a:lnTo>
                  <a:lnTo>
                    <a:pt x="134" y="52"/>
                  </a:lnTo>
                  <a:lnTo>
                    <a:pt x="120" y="42"/>
                  </a:lnTo>
                  <a:lnTo>
                    <a:pt x="104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黑龙江"/>
            <p:cNvSpPr/>
            <p:nvPr/>
          </p:nvSpPr>
          <p:spPr>
            <a:xfrm>
              <a:off x="3253320" y="1266840"/>
              <a:ext cx="661320" cy="60120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718" h="652">
                  <a:moveTo>
                    <a:pt x="716" y="382"/>
                  </a:moveTo>
                  <a:lnTo>
                    <a:pt x="704" y="302"/>
                  </a:lnTo>
                  <a:lnTo>
                    <a:pt x="706" y="302"/>
                  </a:lnTo>
                  <a:lnTo>
                    <a:pt x="712" y="290"/>
                  </a:lnTo>
                  <a:lnTo>
                    <a:pt x="714" y="284"/>
                  </a:lnTo>
                  <a:lnTo>
                    <a:pt x="714" y="280"/>
                  </a:lnTo>
                  <a:lnTo>
                    <a:pt x="710" y="274"/>
                  </a:lnTo>
                  <a:lnTo>
                    <a:pt x="704" y="270"/>
                  </a:lnTo>
                  <a:lnTo>
                    <a:pt x="700" y="260"/>
                  </a:lnTo>
                  <a:lnTo>
                    <a:pt x="700" y="250"/>
                  </a:lnTo>
                  <a:lnTo>
                    <a:pt x="700" y="234"/>
                  </a:lnTo>
                  <a:lnTo>
                    <a:pt x="692" y="234"/>
                  </a:lnTo>
                  <a:lnTo>
                    <a:pt x="684" y="236"/>
                  </a:lnTo>
                  <a:lnTo>
                    <a:pt x="674" y="240"/>
                  </a:lnTo>
                  <a:lnTo>
                    <a:pt x="666" y="248"/>
                  </a:lnTo>
                  <a:lnTo>
                    <a:pt x="662" y="254"/>
                  </a:lnTo>
                  <a:lnTo>
                    <a:pt x="660" y="262"/>
                  </a:lnTo>
                  <a:lnTo>
                    <a:pt x="652" y="268"/>
                  </a:lnTo>
                  <a:lnTo>
                    <a:pt x="644" y="272"/>
                  </a:lnTo>
                  <a:lnTo>
                    <a:pt x="632" y="276"/>
                  </a:lnTo>
                  <a:lnTo>
                    <a:pt x="628" y="302"/>
                  </a:lnTo>
                  <a:lnTo>
                    <a:pt x="626" y="302"/>
                  </a:lnTo>
                  <a:lnTo>
                    <a:pt x="618" y="318"/>
                  </a:lnTo>
                  <a:lnTo>
                    <a:pt x="618" y="320"/>
                  </a:lnTo>
                  <a:lnTo>
                    <a:pt x="616" y="320"/>
                  </a:lnTo>
                  <a:lnTo>
                    <a:pt x="536" y="334"/>
                  </a:lnTo>
                  <a:lnTo>
                    <a:pt x="534" y="334"/>
                  </a:lnTo>
                  <a:lnTo>
                    <a:pt x="510" y="308"/>
                  </a:lnTo>
                  <a:lnTo>
                    <a:pt x="518" y="302"/>
                  </a:lnTo>
                  <a:lnTo>
                    <a:pt x="508" y="290"/>
                  </a:lnTo>
                  <a:lnTo>
                    <a:pt x="498" y="282"/>
                  </a:lnTo>
                  <a:lnTo>
                    <a:pt x="496" y="280"/>
                  </a:lnTo>
                  <a:lnTo>
                    <a:pt x="496" y="278"/>
                  </a:lnTo>
                  <a:lnTo>
                    <a:pt x="492" y="258"/>
                  </a:lnTo>
                  <a:lnTo>
                    <a:pt x="470" y="258"/>
                  </a:lnTo>
                  <a:lnTo>
                    <a:pt x="452" y="246"/>
                  </a:lnTo>
                  <a:lnTo>
                    <a:pt x="388" y="236"/>
                  </a:lnTo>
                  <a:lnTo>
                    <a:pt x="336" y="234"/>
                  </a:lnTo>
                  <a:lnTo>
                    <a:pt x="334" y="234"/>
                  </a:lnTo>
                  <a:lnTo>
                    <a:pt x="332" y="234"/>
                  </a:lnTo>
                  <a:lnTo>
                    <a:pt x="330" y="232"/>
                  </a:lnTo>
                  <a:lnTo>
                    <a:pt x="298" y="164"/>
                  </a:lnTo>
                  <a:lnTo>
                    <a:pt x="286" y="146"/>
                  </a:lnTo>
                  <a:lnTo>
                    <a:pt x="258" y="110"/>
                  </a:lnTo>
                  <a:lnTo>
                    <a:pt x="230" y="76"/>
                  </a:lnTo>
                  <a:lnTo>
                    <a:pt x="216" y="62"/>
                  </a:lnTo>
                  <a:lnTo>
                    <a:pt x="170" y="18"/>
                  </a:lnTo>
                  <a:lnTo>
                    <a:pt x="164" y="14"/>
                  </a:lnTo>
                  <a:lnTo>
                    <a:pt x="108" y="12"/>
                  </a:lnTo>
                  <a:lnTo>
                    <a:pt x="106" y="12"/>
                  </a:lnTo>
                  <a:lnTo>
                    <a:pt x="106" y="10"/>
                  </a:lnTo>
                  <a:lnTo>
                    <a:pt x="94" y="6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54" y="4"/>
                  </a:lnTo>
                  <a:lnTo>
                    <a:pt x="34" y="12"/>
                  </a:lnTo>
                  <a:lnTo>
                    <a:pt x="8" y="24"/>
                  </a:lnTo>
                  <a:lnTo>
                    <a:pt x="6" y="2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4" y="82"/>
                  </a:lnTo>
                  <a:lnTo>
                    <a:pt x="10" y="86"/>
                  </a:lnTo>
                  <a:lnTo>
                    <a:pt x="22" y="86"/>
                  </a:lnTo>
                  <a:lnTo>
                    <a:pt x="32" y="88"/>
                  </a:lnTo>
                  <a:lnTo>
                    <a:pt x="36" y="86"/>
                  </a:lnTo>
                  <a:lnTo>
                    <a:pt x="38" y="76"/>
                  </a:lnTo>
                  <a:lnTo>
                    <a:pt x="42" y="70"/>
                  </a:lnTo>
                  <a:lnTo>
                    <a:pt x="50" y="70"/>
                  </a:lnTo>
                  <a:lnTo>
                    <a:pt x="78" y="78"/>
                  </a:lnTo>
                  <a:lnTo>
                    <a:pt x="84" y="80"/>
                  </a:lnTo>
                  <a:lnTo>
                    <a:pt x="74" y="94"/>
                  </a:lnTo>
                  <a:lnTo>
                    <a:pt x="74" y="114"/>
                  </a:lnTo>
                  <a:lnTo>
                    <a:pt x="76" y="118"/>
                  </a:lnTo>
                  <a:lnTo>
                    <a:pt x="80" y="124"/>
                  </a:lnTo>
                  <a:lnTo>
                    <a:pt x="96" y="140"/>
                  </a:lnTo>
                  <a:lnTo>
                    <a:pt x="108" y="148"/>
                  </a:lnTo>
                  <a:lnTo>
                    <a:pt x="116" y="150"/>
                  </a:lnTo>
                  <a:lnTo>
                    <a:pt x="120" y="150"/>
                  </a:lnTo>
                  <a:lnTo>
                    <a:pt x="124" y="148"/>
                  </a:lnTo>
                  <a:lnTo>
                    <a:pt x="138" y="134"/>
                  </a:lnTo>
                  <a:lnTo>
                    <a:pt x="148" y="128"/>
                  </a:lnTo>
                  <a:lnTo>
                    <a:pt x="170" y="124"/>
                  </a:lnTo>
                  <a:lnTo>
                    <a:pt x="176" y="110"/>
                  </a:lnTo>
                  <a:lnTo>
                    <a:pt x="194" y="100"/>
                  </a:lnTo>
                  <a:lnTo>
                    <a:pt x="212" y="110"/>
                  </a:lnTo>
                  <a:lnTo>
                    <a:pt x="214" y="110"/>
                  </a:lnTo>
                  <a:lnTo>
                    <a:pt x="230" y="138"/>
                  </a:lnTo>
                  <a:lnTo>
                    <a:pt x="236" y="156"/>
                  </a:lnTo>
                  <a:lnTo>
                    <a:pt x="236" y="158"/>
                  </a:lnTo>
                  <a:lnTo>
                    <a:pt x="232" y="182"/>
                  </a:lnTo>
                  <a:lnTo>
                    <a:pt x="238" y="196"/>
                  </a:lnTo>
                  <a:lnTo>
                    <a:pt x="238" y="198"/>
                  </a:lnTo>
                  <a:lnTo>
                    <a:pt x="234" y="216"/>
                  </a:lnTo>
                  <a:lnTo>
                    <a:pt x="234" y="232"/>
                  </a:lnTo>
                  <a:lnTo>
                    <a:pt x="240" y="250"/>
                  </a:lnTo>
                  <a:lnTo>
                    <a:pt x="242" y="258"/>
                  </a:lnTo>
                  <a:lnTo>
                    <a:pt x="240" y="272"/>
                  </a:lnTo>
                  <a:lnTo>
                    <a:pt x="240" y="274"/>
                  </a:lnTo>
                  <a:lnTo>
                    <a:pt x="232" y="284"/>
                  </a:lnTo>
                  <a:lnTo>
                    <a:pt x="232" y="286"/>
                  </a:lnTo>
                  <a:lnTo>
                    <a:pt x="224" y="294"/>
                  </a:lnTo>
                  <a:lnTo>
                    <a:pt x="222" y="312"/>
                  </a:lnTo>
                  <a:lnTo>
                    <a:pt x="228" y="330"/>
                  </a:lnTo>
                  <a:lnTo>
                    <a:pt x="228" y="332"/>
                  </a:lnTo>
                  <a:lnTo>
                    <a:pt x="222" y="360"/>
                  </a:lnTo>
                  <a:lnTo>
                    <a:pt x="218" y="364"/>
                  </a:lnTo>
                  <a:lnTo>
                    <a:pt x="214" y="366"/>
                  </a:lnTo>
                  <a:lnTo>
                    <a:pt x="206" y="364"/>
                  </a:lnTo>
                  <a:lnTo>
                    <a:pt x="198" y="356"/>
                  </a:lnTo>
                  <a:lnTo>
                    <a:pt x="190" y="358"/>
                  </a:lnTo>
                  <a:lnTo>
                    <a:pt x="180" y="370"/>
                  </a:lnTo>
                  <a:lnTo>
                    <a:pt x="168" y="402"/>
                  </a:lnTo>
                  <a:lnTo>
                    <a:pt x="168" y="404"/>
                  </a:lnTo>
                  <a:lnTo>
                    <a:pt x="156" y="414"/>
                  </a:lnTo>
                  <a:lnTo>
                    <a:pt x="154" y="414"/>
                  </a:lnTo>
                  <a:lnTo>
                    <a:pt x="148" y="414"/>
                  </a:lnTo>
                  <a:lnTo>
                    <a:pt x="136" y="434"/>
                  </a:lnTo>
                  <a:lnTo>
                    <a:pt x="142" y="446"/>
                  </a:lnTo>
                  <a:lnTo>
                    <a:pt x="144" y="446"/>
                  </a:lnTo>
                  <a:lnTo>
                    <a:pt x="160" y="466"/>
                  </a:lnTo>
                  <a:lnTo>
                    <a:pt x="160" y="468"/>
                  </a:lnTo>
                  <a:lnTo>
                    <a:pt x="160" y="474"/>
                  </a:lnTo>
                  <a:lnTo>
                    <a:pt x="178" y="476"/>
                  </a:lnTo>
                  <a:lnTo>
                    <a:pt x="180" y="492"/>
                  </a:lnTo>
                  <a:lnTo>
                    <a:pt x="180" y="494"/>
                  </a:lnTo>
                  <a:lnTo>
                    <a:pt x="182" y="512"/>
                  </a:lnTo>
                  <a:lnTo>
                    <a:pt x="188" y="516"/>
                  </a:lnTo>
                  <a:lnTo>
                    <a:pt x="204" y="512"/>
                  </a:lnTo>
                  <a:lnTo>
                    <a:pt x="218" y="502"/>
                  </a:lnTo>
                  <a:lnTo>
                    <a:pt x="222" y="502"/>
                  </a:lnTo>
                  <a:lnTo>
                    <a:pt x="226" y="528"/>
                  </a:lnTo>
                  <a:lnTo>
                    <a:pt x="234" y="538"/>
                  </a:lnTo>
                  <a:lnTo>
                    <a:pt x="236" y="540"/>
                  </a:lnTo>
                  <a:lnTo>
                    <a:pt x="242" y="550"/>
                  </a:lnTo>
                  <a:lnTo>
                    <a:pt x="254" y="560"/>
                  </a:lnTo>
                  <a:lnTo>
                    <a:pt x="258" y="562"/>
                  </a:lnTo>
                  <a:lnTo>
                    <a:pt x="262" y="562"/>
                  </a:lnTo>
                  <a:lnTo>
                    <a:pt x="266" y="564"/>
                  </a:lnTo>
                  <a:lnTo>
                    <a:pt x="274" y="560"/>
                  </a:lnTo>
                  <a:lnTo>
                    <a:pt x="282" y="558"/>
                  </a:lnTo>
                  <a:lnTo>
                    <a:pt x="292" y="554"/>
                  </a:lnTo>
                  <a:lnTo>
                    <a:pt x="296" y="552"/>
                  </a:lnTo>
                  <a:lnTo>
                    <a:pt x="308" y="552"/>
                  </a:lnTo>
                  <a:lnTo>
                    <a:pt x="312" y="552"/>
                  </a:lnTo>
                  <a:lnTo>
                    <a:pt x="316" y="554"/>
                  </a:lnTo>
                  <a:lnTo>
                    <a:pt x="332" y="544"/>
                  </a:lnTo>
                  <a:lnTo>
                    <a:pt x="334" y="544"/>
                  </a:lnTo>
                  <a:lnTo>
                    <a:pt x="334" y="546"/>
                  </a:lnTo>
                  <a:lnTo>
                    <a:pt x="336" y="544"/>
                  </a:lnTo>
                  <a:lnTo>
                    <a:pt x="338" y="546"/>
                  </a:lnTo>
                  <a:lnTo>
                    <a:pt x="344" y="556"/>
                  </a:lnTo>
                  <a:lnTo>
                    <a:pt x="346" y="562"/>
                  </a:lnTo>
                  <a:lnTo>
                    <a:pt x="354" y="574"/>
                  </a:lnTo>
                  <a:lnTo>
                    <a:pt x="360" y="576"/>
                  </a:lnTo>
                  <a:lnTo>
                    <a:pt x="362" y="576"/>
                  </a:lnTo>
                  <a:lnTo>
                    <a:pt x="360" y="574"/>
                  </a:lnTo>
                  <a:lnTo>
                    <a:pt x="360" y="570"/>
                  </a:lnTo>
                  <a:lnTo>
                    <a:pt x="360" y="566"/>
                  </a:lnTo>
                  <a:lnTo>
                    <a:pt x="364" y="564"/>
                  </a:lnTo>
                  <a:lnTo>
                    <a:pt x="370" y="562"/>
                  </a:lnTo>
                  <a:lnTo>
                    <a:pt x="398" y="562"/>
                  </a:lnTo>
                  <a:lnTo>
                    <a:pt x="400" y="562"/>
                  </a:lnTo>
                  <a:lnTo>
                    <a:pt x="402" y="562"/>
                  </a:lnTo>
                  <a:lnTo>
                    <a:pt x="412" y="580"/>
                  </a:lnTo>
                  <a:lnTo>
                    <a:pt x="410" y="588"/>
                  </a:lnTo>
                  <a:lnTo>
                    <a:pt x="422" y="590"/>
                  </a:lnTo>
                  <a:lnTo>
                    <a:pt x="422" y="588"/>
                  </a:lnTo>
                  <a:lnTo>
                    <a:pt x="422" y="586"/>
                  </a:lnTo>
                  <a:lnTo>
                    <a:pt x="426" y="584"/>
                  </a:lnTo>
                  <a:lnTo>
                    <a:pt x="454" y="602"/>
                  </a:lnTo>
                  <a:lnTo>
                    <a:pt x="456" y="608"/>
                  </a:lnTo>
                  <a:lnTo>
                    <a:pt x="458" y="612"/>
                  </a:lnTo>
                  <a:lnTo>
                    <a:pt x="458" y="624"/>
                  </a:lnTo>
                  <a:lnTo>
                    <a:pt x="468" y="626"/>
                  </a:lnTo>
                  <a:lnTo>
                    <a:pt x="474" y="616"/>
                  </a:lnTo>
                  <a:lnTo>
                    <a:pt x="470" y="608"/>
                  </a:lnTo>
                  <a:lnTo>
                    <a:pt x="470" y="602"/>
                  </a:lnTo>
                  <a:lnTo>
                    <a:pt x="472" y="598"/>
                  </a:lnTo>
                  <a:lnTo>
                    <a:pt x="474" y="596"/>
                  </a:lnTo>
                  <a:lnTo>
                    <a:pt x="478" y="594"/>
                  </a:lnTo>
                  <a:lnTo>
                    <a:pt x="478" y="592"/>
                  </a:lnTo>
                  <a:lnTo>
                    <a:pt x="480" y="590"/>
                  </a:lnTo>
                  <a:lnTo>
                    <a:pt x="486" y="590"/>
                  </a:lnTo>
                  <a:lnTo>
                    <a:pt x="490" y="594"/>
                  </a:lnTo>
                  <a:lnTo>
                    <a:pt x="492" y="598"/>
                  </a:lnTo>
                  <a:lnTo>
                    <a:pt x="496" y="614"/>
                  </a:lnTo>
                  <a:lnTo>
                    <a:pt x="496" y="616"/>
                  </a:lnTo>
                  <a:lnTo>
                    <a:pt x="498" y="618"/>
                  </a:lnTo>
                  <a:lnTo>
                    <a:pt x="502" y="622"/>
                  </a:lnTo>
                  <a:lnTo>
                    <a:pt x="510" y="626"/>
                  </a:lnTo>
                  <a:lnTo>
                    <a:pt x="512" y="626"/>
                  </a:lnTo>
                  <a:lnTo>
                    <a:pt x="538" y="652"/>
                  </a:lnTo>
                  <a:lnTo>
                    <a:pt x="550" y="648"/>
                  </a:lnTo>
                  <a:lnTo>
                    <a:pt x="548" y="644"/>
                  </a:lnTo>
                  <a:lnTo>
                    <a:pt x="544" y="638"/>
                  </a:lnTo>
                  <a:lnTo>
                    <a:pt x="544" y="634"/>
                  </a:lnTo>
                  <a:lnTo>
                    <a:pt x="544" y="630"/>
                  </a:lnTo>
                  <a:lnTo>
                    <a:pt x="546" y="626"/>
                  </a:lnTo>
                  <a:lnTo>
                    <a:pt x="556" y="618"/>
                  </a:lnTo>
                  <a:lnTo>
                    <a:pt x="570" y="606"/>
                  </a:lnTo>
                  <a:lnTo>
                    <a:pt x="586" y="616"/>
                  </a:lnTo>
                  <a:lnTo>
                    <a:pt x="588" y="616"/>
                  </a:lnTo>
                  <a:lnTo>
                    <a:pt x="592" y="598"/>
                  </a:lnTo>
                  <a:lnTo>
                    <a:pt x="592" y="596"/>
                  </a:lnTo>
                  <a:lnTo>
                    <a:pt x="594" y="594"/>
                  </a:lnTo>
                  <a:lnTo>
                    <a:pt x="608" y="596"/>
                  </a:lnTo>
                  <a:lnTo>
                    <a:pt x="610" y="600"/>
                  </a:lnTo>
                  <a:lnTo>
                    <a:pt x="612" y="606"/>
                  </a:lnTo>
                  <a:lnTo>
                    <a:pt x="610" y="610"/>
                  </a:lnTo>
                  <a:lnTo>
                    <a:pt x="606" y="616"/>
                  </a:lnTo>
                  <a:lnTo>
                    <a:pt x="610" y="618"/>
                  </a:lnTo>
                  <a:lnTo>
                    <a:pt x="620" y="622"/>
                  </a:lnTo>
                  <a:lnTo>
                    <a:pt x="628" y="626"/>
                  </a:lnTo>
                  <a:lnTo>
                    <a:pt x="630" y="626"/>
                  </a:lnTo>
                  <a:lnTo>
                    <a:pt x="640" y="630"/>
                  </a:lnTo>
                  <a:lnTo>
                    <a:pt x="648" y="630"/>
                  </a:lnTo>
                  <a:lnTo>
                    <a:pt x="636" y="572"/>
                  </a:lnTo>
                  <a:lnTo>
                    <a:pt x="630" y="568"/>
                  </a:lnTo>
                  <a:lnTo>
                    <a:pt x="624" y="562"/>
                  </a:lnTo>
                  <a:lnTo>
                    <a:pt x="614" y="546"/>
                  </a:lnTo>
                  <a:lnTo>
                    <a:pt x="610" y="538"/>
                  </a:lnTo>
                  <a:lnTo>
                    <a:pt x="612" y="528"/>
                  </a:lnTo>
                  <a:lnTo>
                    <a:pt x="616" y="518"/>
                  </a:lnTo>
                  <a:lnTo>
                    <a:pt x="624" y="506"/>
                  </a:lnTo>
                  <a:lnTo>
                    <a:pt x="636" y="494"/>
                  </a:lnTo>
                  <a:lnTo>
                    <a:pt x="650" y="482"/>
                  </a:lnTo>
                  <a:lnTo>
                    <a:pt x="662" y="482"/>
                  </a:lnTo>
                  <a:lnTo>
                    <a:pt x="672" y="486"/>
                  </a:lnTo>
                  <a:lnTo>
                    <a:pt x="692" y="486"/>
                  </a:lnTo>
                  <a:lnTo>
                    <a:pt x="698" y="482"/>
                  </a:lnTo>
                  <a:lnTo>
                    <a:pt x="704" y="476"/>
                  </a:lnTo>
                  <a:lnTo>
                    <a:pt x="714" y="452"/>
                  </a:lnTo>
                  <a:lnTo>
                    <a:pt x="718" y="442"/>
                  </a:lnTo>
                  <a:lnTo>
                    <a:pt x="718" y="426"/>
                  </a:lnTo>
                  <a:lnTo>
                    <a:pt x="716" y="38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山东"/>
            <p:cNvSpPr/>
            <p:nvPr/>
          </p:nvSpPr>
          <p:spPr>
            <a:xfrm>
              <a:off x="3122280" y="2346120"/>
              <a:ext cx="399600" cy="25056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434" h="272">
                  <a:moveTo>
                    <a:pt x="396" y="8"/>
                  </a:moveTo>
                  <a:lnTo>
                    <a:pt x="396" y="8"/>
                  </a:lnTo>
                  <a:lnTo>
                    <a:pt x="394" y="12"/>
                  </a:lnTo>
                  <a:lnTo>
                    <a:pt x="388" y="14"/>
                  </a:lnTo>
                  <a:lnTo>
                    <a:pt x="358" y="12"/>
                  </a:lnTo>
                  <a:lnTo>
                    <a:pt x="330" y="6"/>
                  </a:lnTo>
                  <a:lnTo>
                    <a:pt x="314" y="0"/>
                  </a:lnTo>
                  <a:lnTo>
                    <a:pt x="270" y="42"/>
                  </a:lnTo>
                  <a:lnTo>
                    <a:pt x="272" y="60"/>
                  </a:lnTo>
                  <a:lnTo>
                    <a:pt x="268" y="62"/>
                  </a:lnTo>
                  <a:lnTo>
                    <a:pt x="246" y="64"/>
                  </a:lnTo>
                  <a:lnTo>
                    <a:pt x="228" y="62"/>
                  </a:lnTo>
                  <a:lnTo>
                    <a:pt x="222" y="62"/>
                  </a:lnTo>
                  <a:lnTo>
                    <a:pt x="218" y="60"/>
                  </a:lnTo>
                  <a:lnTo>
                    <a:pt x="214" y="56"/>
                  </a:lnTo>
                  <a:lnTo>
                    <a:pt x="212" y="52"/>
                  </a:lnTo>
                  <a:lnTo>
                    <a:pt x="208" y="2"/>
                  </a:lnTo>
                  <a:lnTo>
                    <a:pt x="168" y="0"/>
                  </a:lnTo>
                  <a:lnTo>
                    <a:pt x="152" y="36"/>
                  </a:lnTo>
                  <a:lnTo>
                    <a:pt x="150" y="20"/>
                  </a:lnTo>
                  <a:lnTo>
                    <a:pt x="148" y="6"/>
                  </a:lnTo>
                  <a:lnTo>
                    <a:pt x="144" y="0"/>
                  </a:lnTo>
                  <a:lnTo>
                    <a:pt x="128" y="8"/>
                  </a:lnTo>
                  <a:lnTo>
                    <a:pt x="120" y="18"/>
                  </a:lnTo>
                  <a:lnTo>
                    <a:pt x="118" y="20"/>
                  </a:lnTo>
                  <a:lnTo>
                    <a:pt x="102" y="24"/>
                  </a:lnTo>
                  <a:lnTo>
                    <a:pt x="78" y="48"/>
                  </a:lnTo>
                  <a:lnTo>
                    <a:pt x="56" y="70"/>
                  </a:lnTo>
                  <a:lnTo>
                    <a:pt x="12" y="128"/>
                  </a:lnTo>
                  <a:lnTo>
                    <a:pt x="22" y="148"/>
                  </a:lnTo>
                  <a:lnTo>
                    <a:pt x="22" y="152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20" y="160"/>
                  </a:lnTo>
                  <a:lnTo>
                    <a:pt x="24" y="172"/>
                  </a:lnTo>
                  <a:lnTo>
                    <a:pt x="32" y="188"/>
                  </a:lnTo>
                  <a:lnTo>
                    <a:pt x="34" y="198"/>
                  </a:lnTo>
                  <a:lnTo>
                    <a:pt x="34" y="206"/>
                  </a:lnTo>
                  <a:lnTo>
                    <a:pt x="34" y="208"/>
                  </a:lnTo>
                  <a:lnTo>
                    <a:pt x="0" y="228"/>
                  </a:lnTo>
                  <a:lnTo>
                    <a:pt x="0" y="236"/>
                  </a:lnTo>
                  <a:lnTo>
                    <a:pt x="16" y="244"/>
                  </a:lnTo>
                  <a:lnTo>
                    <a:pt x="18" y="248"/>
                  </a:lnTo>
                  <a:lnTo>
                    <a:pt x="18" y="252"/>
                  </a:lnTo>
                  <a:lnTo>
                    <a:pt x="22" y="256"/>
                  </a:lnTo>
                  <a:lnTo>
                    <a:pt x="36" y="264"/>
                  </a:lnTo>
                  <a:lnTo>
                    <a:pt x="64" y="272"/>
                  </a:lnTo>
                  <a:lnTo>
                    <a:pt x="74" y="266"/>
                  </a:lnTo>
                  <a:lnTo>
                    <a:pt x="84" y="252"/>
                  </a:lnTo>
                  <a:lnTo>
                    <a:pt x="92" y="230"/>
                  </a:lnTo>
                  <a:lnTo>
                    <a:pt x="114" y="238"/>
                  </a:lnTo>
                  <a:lnTo>
                    <a:pt x="118" y="240"/>
                  </a:lnTo>
                  <a:lnTo>
                    <a:pt x="118" y="242"/>
                  </a:lnTo>
                  <a:lnTo>
                    <a:pt x="118" y="244"/>
                  </a:lnTo>
                  <a:lnTo>
                    <a:pt x="116" y="250"/>
                  </a:lnTo>
                  <a:lnTo>
                    <a:pt x="116" y="256"/>
                  </a:lnTo>
                  <a:lnTo>
                    <a:pt x="118" y="260"/>
                  </a:lnTo>
                  <a:lnTo>
                    <a:pt x="124" y="264"/>
                  </a:lnTo>
                  <a:lnTo>
                    <a:pt x="148" y="264"/>
                  </a:lnTo>
                  <a:lnTo>
                    <a:pt x="160" y="260"/>
                  </a:lnTo>
                  <a:lnTo>
                    <a:pt x="170" y="256"/>
                  </a:lnTo>
                  <a:lnTo>
                    <a:pt x="172" y="252"/>
                  </a:lnTo>
                  <a:lnTo>
                    <a:pt x="176" y="252"/>
                  </a:lnTo>
                  <a:lnTo>
                    <a:pt x="184" y="252"/>
                  </a:lnTo>
                  <a:lnTo>
                    <a:pt x="198" y="256"/>
                  </a:lnTo>
                  <a:lnTo>
                    <a:pt x="202" y="258"/>
                  </a:lnTo>
                  <a:lnTo>
                    <a:pt x="208" y="264"/>
                  </a:lnTo>
                  <a:lnTo>
                    <a:pt x="212" y="250"/>
                  </a:lnTo>
                  <a:lnTo>
                    <a:pt x="214" y="248"/>
                  </a:lnTo>
                  <a:lnTo>
                    <a:pt x="216" y="248"/>
                  </a:lnTo>
                  <a:lnTo>
                    <a:pt x="220" y="242"/>
                  </a:lnTo>
                  <a:lnTo>
                    <a:pt x="224" y="236"/>
                  </a:lnTo>
                  <a:lnTo>
                    <a:pt x="230" y="228"/>
                  </a:lnTo>
                  <a:lnTo>
                    <a:pt x="238" y="220"/>
                  </a:lnTo>
                  <a:lnTo>
                    <a:pt x="248" y="214"/>
                  </a:lnTo>
                  <a:lnTo>
                    <a:pt x="250" y="212"/>
                  </a:lnTo>
                  <a:lnTo>
                    <a:pt x="250" y="214"/>
                  </a:lnTo>
                  <a:lnTo>
                    <a:pt x="252" y="214"/>
                  </a:lnTo>
                  <a:lnTo>
                    <a:pt x="258" y="216"/>
                  </a:lnTo>
                  <a:lnTo>
                    <a:pt x="260" y="216"/>
                  </a:lnTo>
                  <a:lnTo>
                    <a:pt x="268" y="176"/>
                  </a:lnTo>
                  <a:lnTo>
                    <a:pt x="280" y="172"/>
                  </a:lnTo>
                  <a:lnTo>
                    <a:pt x="290" y="166"/>
                  </a:lnTo>
                  <a:lnTo>
                    <a:pt x="296" y="160"/>
                  </a:lnTo>
                  <a:lnTo>
                    <a:pt x="298" y="156"/>
                  </a:lnTo>
                  <a:lnTo>
                    <a:pt x="300" y="150"/>
                  </a:lnTo>
                  <a:lnTo>
                    <a:pt x="296" y="138"/>
                  </a:lnTo>
                  <a:lnTo>
                    <a:pt x="294" y="128"/>
                  </a:lnTo>
                  <a:lnTo>
                    <a:pt x="296" y="122"/>
                  </a:lnTo>
                  <a:lnTo>
                    <a:pt x="298" y="120"/>
                  </a:lnTo>
                  <a:lnTo>
                    <a:pt x="302" y="120"/>
                  </a:lnTo>
                  <a:lnTo>
                    <a:pt x="310" y="120"/>
                  </a:lnTo>
                  <a:lnTo>
                    <a:pt x="320" y="124"/>
                  </a:lnTo>
                  <a:lnTo>
                    <a:pt x="322" y="112"/>
                  </a:lnTo>
                  <a:lnTo>
                    <a:pt x="322" y="110"/>
                  </a:lnTo>
                  <a:lnTo>
                    <a:pt x="322" y="108"/>
                  </a:lnTo>
                  <a:lnTo>
                    <a:pt x="336" y="102"/>
                  </a:lnTo>
                  <a:lnTo>
                    <a:pt x="338" y="96"/>
                  </a:lnTo>
                  <a:lnTo>
                    <a:pt x="330" y="96"/>
                  </a:lnTo>
                  <a:lnTo>
                    <a:pt x="328" y="94"/>
                  </a:lnTo>
                  <a:lnTo>
                    <a:pt x="328" y="90"/>
                  </a:lnTo>
                  <a:lnTo>
                    <a:pt x="328" y="88"/>
                  </a:lnTo>
                  <a:lnTo>
                    <a:pt x="330" y="86"/>
                  </a:lnTo>
                  <a:lnTo>
                    <a:pt x="332" y="86"/>
                  </a:lnTo>
                  <a:lnTo>
                    <a:pt x="334" y="86"/>
                  </a:lnTo>
                  <a:lnTo>
                    <a:pt x="342" y="84"/>
                  </a:lnTo>
                  <a:lnTo>
                    <a:pt x="352" y="76"/>
                  </a:lnTo>
                  <a:lnTo>
                    <a:pt x="404" y="40"/>
                  </a:lnTo>
                  <a:lnTo>
                    <a:pt x="420" y="48"/>
                  </a:lnTo>
                  <a:lnTo>
                    <a:pt x="428" y="48"/>
                  </a:lnTo>
                  <a:lnTo>
                    <a:pt x="424" y="30"/>
                  </a:lnTo>
                  <a:lnTo>
                    <a:pt x="424" y="28"/>
                  </a:lnTo>
                  <a:lnTo>
                    <a:pt x="434" y="12"/>
                  </a:lnTo>
                  <a:lnTo>
                    <a:pt x="432" y="12"/>
                  </a:lnTo>
                  <a:lnTo>
                    <a:pt x="426" y="12"/>
                  </a:lnTo>
                  <a:lnTo>
                    <a:pt x="426" y="14"/>
                  </a:lnTo>
                  <a:lnTo>
                    <a:pt x="424" y="14"/>
                  </a:lnTo>
                  <a:lnTo>
                    <a:pt x="408" y="16"/>
                  </a:lnTo>
                  <a:lnTo>
                    <a:pt x="404" y="16"/>
                  </a:lnTo>
                  <a:lnTo>
                    <a:pt x="404" y="12"/>
                  </a:lnTo>
                  <a:lnTo>
                    <a:pt x="400" y="8"/>
                  </a:lnTo>
                  <a:lnTo>
                    <a:pt x="396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上海"/>
            <p:cNvSpPr/>
            <p:nvPr/>
          </p:nvSpPr>
          <p:spPr>
            <a:xfrm>
              <a:off x="3496320" y="2763000"/>
              <a:ext cx="62640" cy="550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68" h="60">
                  <a:moveTo>
                    <a:pt x="62" y="32"/>
                  </a:moveTo>
                  <a:lnTo>
                    <a:pt x="68" y="24"/>
                  </a:lnTo>
                  <a:lnTo>
                    <a:pt x="48" y="8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4" y="20"/>
                  </a:lnTo>
                  <a:lnTo>
                    <a:pt x="10" y="28"/>
                  </a:lnTo>
                  <a:lnTo>
                    <a:pt x="4" y="36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0" y="48"/>
                  </a:lnTo>
                  <a:lnTo>
                    <a:pt x="12" y="56"/>
                  </a:lnTo>
                  <a:lnTo>
                    <a:pt x="22" y="60"/>
                  </a:lnTo>
                  <a:lnTo>
                    <a:pt x="28" y="56"/>
                  </a:lnTo>
                  <a:lnTo>
                    <a:pt x="34" y="54"/>
                  </a:lnTo>
                  <a:lnTo>
                    <a:pt x="52" y="58"/>
                  </a:lnTo>
                  <a:lnTo>
                    <a:pt x="52" y="52"/>
                  </a:lnTo>
                  <a:lnTo>
                    <a:pt x="54" y="44"/>
                  </a:lnTo>
                  <a:lnTo>
                    <a:pt x="56" y="38"/>
                  </a:lnTo>
                  <a:lnTo>
                    <a:pt x="58" y="34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江苏"/>
            <p:cNvSpPr/>
            <p:nvPr/>
          </p:nvSpPr>
          <p:spPr>
            <a:xfrm>
              <a:off x="3203640" y="2550600"/>
              <a:ext cx="348120" cy="26928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378" h="292">
                  <a:moveTo>
                    <a:pt x="264" y="86"/>
                  </a:moveTo>
                  <a:lnTo>
                    <a:pt x="264" y="86"/>
                  </a:lnTo>
                  <a:lnTo>
                    <a:pt x="258" y="78"/>
                  </a:lnTo>
                  <a:lnTo>
                    <a:pt x="252" y="70"/>
                  </a:lnTo>
                  <a:lnTo>
                    <a:pt x="240" y="46"/>
                  </a:lnTo>
                  <a:lnTo>
                    <a:pt x="226" y="44"/>
                  </a:lnTo>
                  <a:lnTo>
                    <a:pt x="214" y="42"/>
                  </a:lnTo>
                  <a:lnTo>
                    <a:pt x="204" y="38"/>
                  </a:lnTo>
                  <a:lnTo>
                    <a:pt x="198" y="34"/>
                  </a:lnTo>
                  <a:lnTo>
                    <a:pt x="194" y="28"/>
                  </a:lnTo>
                  <a:lnTo>
                    <a:pt x="188" y="24"/>
                  </a:lnTo>
                  <a:lnTo>
                    <a:pt x="170" y="18"/>
                  </a:lnTo>
                  <a:lnTo>
                    <a:pt x="166" y="16"/>
                  </a:lnTo>
                  <a:lnTo>
                    <a:pt x="170" y="2"/>
                  </a:lnTo>
                  <a:lnTo>
                    <a:pt x="168" y="2"/>
                  </a:lnTo>
                  <a:lnTo>
                    <a:pt x="164" y="0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4" y="16"/>
                  </a:lnTo>
                  <a:lnTo>
                    <a:pt x="140" y="26"/>
                  </a:lnTo>
                  <a:lnTo>
                    <a:pt x="132" y="32"/>
                  </a:lnTo>
                  <a:lnTo>
                    <a:pt x="126" y="46"/>
                  </a:lnTo>
                  <a:lnTo>
                    <a:pt x="124" y="50"/>
                  </a:lnTo>
                  <a:lnTo>
                    <a:pt x="120" y="52"/>
                  </a:lnTo>
                  <a:lnTo>
                    <a:pt x="118" y="52"/>
                  </a:lnTo>
                  <a:lnTo>
                    <a:pt x="116" y="48"/>
                  </a:lnTo>
                  <a:lnTo>
                    <a:pt x="108" y="42"/>
                  </a:lnTo>
                  <a:lnTo>
                    <a:pt x="102" y="40"/>
                  </a:lnTo>
                  <a:lnTo>
                    <a:pt x="96" y="38"/>
                  </a:lnTo>
                  <a:lnTo>
                    <a:pt x="88" y="40"/>
                  </a:lnTo>
                  <a:lnTo>
                    <a:pt x="76" y="46"/>
                  </a:lnTo>
                  <a:lnTo>
                    <a:pt x="62" y="50"/>
                  </a:lnTo>
                  <a:lnTo>
                    <a:pt x="32" y="50"/>
                  </a:lnTo>
                  <a:lnTo>
                    <a:pt x="26" y="44"/>
                  </a:lnTo>
                  <a:lnTo>
                    <a:pt x="22" y="38"/>
                  </a:lnTo>
                  <a:lnTo>
                    <a:pt x="20" y="32"/>
                  </a:lnTo>
                  <a:lnTo>
                    <a:pt x="20" y="22"/>
                  </a:lnTo>
                  <a:lnTo>
                    <a:pt x="8" y="18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28" y="66"/>
                  </a:lnTo>
                  <a:lnTo>
                    <a:pt x="40" y="76"/>
                  </a:lnTo>
                  <a:lnTo>
                    <a:pt x="68" y="86"/>
                  </a:lnTo>
                  <a:lnTo>
                    <a:pt x="98" y="96"/>
                  </a:lnTo>
                  <a:lnTo>
                    <a:pt x="104" y="102"/>
                  </a:lnTo>
                  <a:lnTo>
                    <a:pt x="112" y="112"/>
                  </a:lnTo>
                  <a:lnTo>
                    <a:pt x="118" y="128"/>
                  </a:lnTo>
                  <a:lnTo>
                    <a:pt x="124" y="150"/>
                  </a:lnTo>
                  <a:lnTo>
                    <a:pt x="140" y="158"/>
                  </a:lnTo>
                  <a:lnTo>
                    <a:pt x="146" y="162"/>
                  </a:lnTo>
                  <a:lnTo>
                    <a:pt x="152" y="162"/>
                  </a:lnTo>
                  <a:lnTo>
                    <a:pt x="180" y="144"/>
                  </a:lnTo>
                  <a:lnTo>
                    <a:pt x="182" y="142"/>
                  </a:lnTo>
                  <a:lnTo>
                    <a:pt x="184" y="144"/>
                  </a:lnTo>
                  <a:lnTo>
                    <a:pt x="198" y="146"/>
                  </a:lnTo>
                  <a:lnTo>
                    <a:pt x="200" y="146"/>
                  </a:lnTo>
                  <a:lnTo>
                    <a:pt x="200" y="150"/>
                  </a:lnTo>
                  <a:lnTo>
                    <a:pt x="198" y="152"/>
                  </a:lnTo>
                  <a:lnTo>
                    <a:pt x="192" y="174"/>
                  </a:lnTo>
                  <a:lnTo>
                    <a:pt x="186" y="186"/>
                  </a:lnTo>
                  <a:lnTo>
                    <a:pt x="168" y="186"/>
                  </a:lnTo>
                  <a:lnTo>
                    <a:pt x="166" y="194"/>
                  </a:lnTo>
                  <a:lnTo>
                    <a:pt x="164" y="202"/>
                  </a:lnTo>
                  <a:lnTo>
                    <a:pt x="152" y="222"/>
                  </a:lnTo>
                  <a:lnTo>
                    <a:pt x="148" y="228"/>
                  </a:lnTo>
                  <a:lnTo>
                    <a:pt x="148" y="234"/>
                  </a:lnTo>
                  <a:lnTo>
                    <a:pt x="166" y="246"/>
                  </a:lnTo>
                  <a:lnTo>
                    <a:pt x="172" y="252"/>
                  </a:lnTo>
                  <a:lnTo>
                    <a:pt x="178" y="254"/>
                  </a:lnTo>
                  <a:lnTo>
                    <a:pt x="182" y="254"/>
                  </a:lnTo>
                  <a:lnTo>
                    <a:pt x="186" y="266"/>
                  </a:lnTo>
                  <a:lnTo>
                    <a:pt x="194" y="270"/>
                  </a:lnTo>
                  <a:lnTo>
                    <a:pt x="200" y="266"/>
                  </a:lnTo>
                  <a:lnTo>
                    <a:pt x="204" y="262"/>
                  </a:lnTo>
                  <a:lnTo>
                    <a:pt x="208" y="262"/>
                  </a:lnTo>
                  <a:lnTo>
                    <a:pt x="214" y="264"/>
                  </a:lnTo>
                  <a:lnTo>
                    <a:pt x="218" y="266"/>
                  </a:lnTo>
                  <a:lnTo>
                    <a:pt x="224" y="270"/>
                  </a:lnTo>
                  <a:lnTo>
                    <a:pt x="230" y="278"/>
                  </a:lnTo>
                  <a:lnTo>
                    <a:pt x="236" y="286"/>
                  </a:lnTo>
                  <a:lnTo>
                    <a:pt x="238" y="286"/>
                  </a:lnTo>
                  <a:lnTo>
                    <a:pt x="242" y="284"/>
                  </a:lnTo>
                  <a:lnTo>
                    <a:pt x="248" y="284"/>
                  </a:lnTo>
                  <a:lnTo>
                    <a:pt x="264" y="288"/>
                  </a:lnTo>
                  <a:lnTo>
                    <a:pt x="284" y="292"/>
                  </a:lnTo>
                  <a:lnTo>
                    <a:pt x="304" y="286"/>
                  </a:lnTo>
                  <a:lnTo>
                    <a:pt x="312" y="282"/>
                  </a:lnTo>
                  <a:lnTo>
                    <a:pt x="318" y="278"/>
                  </a:lnTo>
                  <a:lnTo>
                    <a:pt x="312" y="272"/>
                  </a:lnTo>
                  <a:lnTo>
                    <a:pt x="312" y="268"/>
                  </a:lnTo>
                  <a:lnTo>
                    <a:pt x="316" y="262"/>
                  </a:lnTo>
                  <a:lnTo>
                    <a:pt x="322" y="256"/>
                  </a:lnTo>
                  <a:lnTo>
                    <a:pt x="324" y="248"/>
                  </a:lnTo>
                  <a:lnTo>
                    <a:pt x="324" y="238"/>
                  </a:lnTo>
                  <a:lnTo>
                    <a:pt x="324" y="232"/>
                  </a:lnTo>
                  <a:lnTo>
                    <a:pt x="326" y="230"/>
                  </a:lnTo>
                  <a:lnTo>
                    <a:pt x="330" y="226"/>
                  </a:lnTo>
                  <a:lnTo>
                    <a:pt x="340" y="222"/>
                  </a:lnTo>
                  <a:lnTo>
                    <a:pt x="348" y="222"/>
                  </a:lnTo>
                  <a:lnTo>
                    <a:pt x="356" y="226"/>
                  </a:lnTo>
                  <a:lnTo>
                    <a:pt x="366" y="230"/>
                  </a:lnTo>
                  <a:lnTo>
                    <a:pt x="378" y="238"/>
                  </a:lnTo>
                  <a:lnTo>
                    <a:pt x="372" y="222"/>
                  </a:lnTo>
                  <a:lnTo>
                    <a:pt x="364" y="210"/>
                  </a:lnTo>
                  <a:lnTo>
                    <a:pt x="362" y="196"/>
                  </a:lnTo>
                  <a:lnTo>
                    <a:pt x="348" y="194"/>
                  </a:lnTo>
                  <a:lnTo>
                    <a:pt x="312" y="172"/>
                  </a:lnTo>
                  <a:lnTo>
                    <a:pt x="294" y="170"/>
                  </a:lnTo>
                  <a:lnTo>
                    <a:pt x="294" y="166"/>
                  </a:lnTo>
                  <a:lnTo>
                    <a:pt x="292" y="146"/>
                  </a:lnTo>
                  <a:lnTo>
                    <a:pt x="276" y="106"/>
                  </a:lnTo>
                  <a:lnTo>
                    <a:pt x="270" y="94"/>
                  </a:lnTo>
                  <a:lnTo>
                    <a:pt x="264" y="8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河北"/>
            <p:cNvSpPr/>
            <p:nvPr/>
          </p:nvSpPr>
          <p:spPr>
            <a:xfrm>
              <a:off x="3021120" y="2036160"/>
              <a:ext cx="324000" cy="4629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352" h="502">
                  <a:moveTo>
                    <a:pt x="324" y="152"/>
                  </a:moveTo>
                  <a:lnTo>
                    <a:pt x="318" y="148"/>
                  </a:lnTo>
                  <a:lnTo>
                    <a:pt x="316" y="148"/>
                  </a:lnTo>
                  <a:lnTo>
                    <a:pt x="312" y="144"/>
                  </a:lnTo>
                  <a:lnTo>
                    <a:pt x="290" y="136"/>
                  </a:lnTo>
                  <a:lnTo>
                    <a:pt x="284" y="136"/>
                  </a:lnTo>
                  <a:lnTo>
                    <a:pt x="280" y="138"/>
                  </a:lnTo>
                  <a:lnTo>
                    <a:pt x="270" y="122"/>
                  </a:lnTo>
                  <a:lnTo>
                    <a:pt x="272" y="120"/>
                  </a:lnTo>
                  <a:lnTo>
                    <a:pt x="278" y="112"/>
                  </a:lnTo>
                  <a:lnTo>
                    <a:pt x="278" y="104"/>
                  </a:lnTo>
                  <a:lnTo>
                    <a:pt x="278" y="102"/>
                  </a:lnTo>
                  <a:lnTo>
                    <a:pt x="282" y="96"/>
                  </a:lnTo>
                  <a:lnTo>
                    <a:pt x="280" y="94"/>
                  </a:lnTo>
                  <a:lnTo>
                    <a:pt x="268" y="92"/>
                  </a:lnTo>
                  <a:lnTo>
                    <a:pt x="246" y="88"/>
                  </a:lnTo>
                  <a:lnTo>
                    <a:pt x="234" y="76"/>
                  </a:lnTo>
                  <a:lnTo>
                    <a:pt x="230" y="68"/>
                  </a:lnTo>
                  <a:lnTo>
                    <a:pt x="228" y="64"/>
                  </a:lnTo>
                  <a:lnTo>
                    <a:pt x="234" y="48"/>
                  </a:lnTo>
                  <a:lnTo>
                    <a:pt x="234" y="36"/>
                  </a:lnTo>
                  <a:lnTo>
                    <a:pt x="234" y="32"/>
                  </a:lnTo>
                  <a:lnTo>
                    <a:pt x="228" y="40"/>
                  </a:lnTo>
                  <a:lnTo>
                    <a:pt x="226" y="40"/>
                  </a:lnTo>
                  <a:lnTo>
                    <a:pt x="226" y="42"/>
                  </a:lnTo>
                  <a:lnTo>
                    <a:pt x="224" y="40"/>
                  </a:lnTo>
                  <a:lnTo>
                    <a:pt x="222" y="40"/>
                  </a:lnTo>
                  <a:lnTo>
                    <a:pt x="210" y="30"/>
                  </a:lnTo>
                  <a:lnTo>
                    <a:pt x="208" y="28"/>
                  </a:lnTo>
                  <a:lnTo>
                    <a:pt x="208" y="26"/>
                  </a:lnTo>
                  <a:lnTo>
                    <a:pt x="206" y="8"/>
                  </a:lnTo>
                  <a:lnTo>
                    <a:pt x="200" y="0"/>
                  </a:lnTo>
                  <a:lnTo>
                    <a:pt x="188" y="0"/>
                  </a:lnTo>
                  <a:lnTo>
                    <a:pt x="180" y="14"/>
                  </a:lnTo>
                  <a:lnTo>
                    <a:pt x="180" y="16"/>
                  </a:lnTo>
                  <a:lnTo>
                    <a:pt x="178" y="16"/>
                  </a:lnTo>
                  <a:lnTo>
                    <a:pt x="160" y="12"/>
                  </a:lnTo>
                  <a:lnTo>
                    <a:pt x="156" y="30"/>
                  </a:lnTo>
                  <a:lnTo>
                    <a:pt x="156" y="48"/>
                  </a:lnTo>
                  <a:lnTo>
                    <a:pt x="146" y="64"/>
                  </a:lnTo>
                  <a:lnTo>
                    <a:pt x="146" y="66"/>
                  </a:lnTo>
                  <a:lnTo>
                    <a:pt x="144" y="66"/>
                  </a:lnTo>
                  <a:lnTo>
                    <a:pt x="142" y="66"/>
                  </a:lnTo>
                  <a:lnTo>
                    <a:pt x="130" y="68"/>
                  </a:lnTo>
                  <a:lnTo>
                    <a:pt x="118" y="76"/>
                  </a:lnTo>
                  <a:lnTo>
                    <a:pt x="118" y="78"/>
                  </a:lnTo>
                  <a:lnTo>
                    <a:pt x="116" y="78"/>
                  </a:lnTo>
                  <a:lnTo>
                    <a:pt x="114" y="78"/>
                  </a:lnTo>
                  <a:lnTo>
                    <a:pt x="92" y="70"/>
                  </a:lnTo>
                  <a:lnTo>
                    <a:pt x="90" y="78"/>
                  </a:lnTo>
                  <a:lnTo>
                    <a:pt x="90" y="80"/>
                  </a:lnTo>
                  <a:lnTo>
                    <a:pt x="80" y="96"/>
                  </a:lnTo>
                  <a:lnTo>
                    <a:pt x="76" y="100"/>
                  </a:lnTo>
                  <a:lnTo>
                    <a:pt x="74" y="100"/>
                  </a:lnTo>
                  <a:lnTo>
                    <a:pt x="64" y="100"/>
                  </a:lnTo>
                  <a:lnTo>
                    <a:pt x="50" y="94"/>
                  </a:lnTo>
                  <a:lnTo>
                    <a:pt x="48" y="92"/>
                  </a:lnTo>
                  <a:lnTo>
                    <a:pt x="48" y="90"/>
                  </a:lnTo>
                  <a:lnTo>
                    <a:pt x="46" y="72"/>
                  </a:lnTo>
                  <a:lnTo>
                    <a:pt x="42" y="56"/>
                  </a:lnTo>
                  <a:lnTo>
                    <a:pt x="38" y="52"/>
                  </a:lnTo>
                  <a:lnTo>
                    <a:pt x="34" y="64"/>
                  </a:lnTo>
                  <a:lnTo>
                    <a:pt x="24" y="76"/>
                  </a:lnTo>
                  <a:lnTo>
                    <a:pt x="16" y="96"/>
                  </a:lnTo>
                  <a:lnTo>
                    <a:pt x="14" y="96"/>
                  </a:lnTo>
                  <a:lnTo>
                    <a:pt x="8" y="108"/>
                  </a:lnTo>
                  <a:lnTo>
                    <a:pt x="6" y="114"/>
                  </a:lnTo>
                  <a:lnTo>
                    <a:pt x="0" y="122"/>
                  </a:lnTo>
                  <a:lnTo>
                    <a:pt x="6" y="140"/>
                  </a:lnTo>
                  <a:lnTo>
                    <a:pt x="30" y="168"/>
                  </a:lnTo>
                  <a:lnTo>
                    <a:pt x="38" y="184"/>
                  </a:lnTo>
                  <a:lnTo>
                    <a:pt x="38" y="186"/>
                  </a:lnTo>
                  <a:lnTo>
                    <a:pt x="36" y="188"/>
                  </a:lnTo>
                  <a:lnTo>
                    <a:pt x="30" y="196"/>
                  </a:lnTo>
                  <a:lnTo>
                    <a:pt x="28" y="196"/>
                  </a:lnTo>
                  <a:lnTo>
                    <a:pt x="12" y="200"/>
                  </a:lnTo>
                  <a:lnTo>
                    <a:pt x="14" y="212"/>
                  </a:lnTo>
                  <a:lnTo>
                    <a:pt x="26" y="220"/>
                  </a:lnTo>
                  <a:lnTo>
                    <a:pt x="42" y="224"/>
                  </a:lnTo>
                  <a:lnTo>
                    <a:pt x="48" y="240"/>
                  </a:lnTo>
                  <a:lnTo>
                    <a:pt x="44" y="268"/>
                  </a:lnTo>
                  <a:lnTo>
                    <a:pt x="38" y="280"/>
                  </a:lnTo>
                  <a:lnTo>
                    <a:pt x="38" y="284"/>
                  </a:lnTo>
                  <a:lnTo>
                    <a:pt x="36" y="284"/>
                  </a:lnTo>
                  <a:lnTo>
                    <a:pt x="16" y="286"/>
                  </a:lnTo>
                  <a:lnTo>
                    <a:pt x="16" y="294"/>
                  </a:lnTo>
                  <a:lnTo>
                    <a:pt x="10" y="312"/>
                  </a:lnTo>
                  <a:lnTo>
                    <a:pt x="8" y="332"/>
                  </a:lnTo>
                  <a:lnTo>
                    <a:pt x="12" y="344"/>
                  </a:lnTo>
                  <a:lnTo>
                    <a:pt x="36" y="358"/>
                  </a:lnTo>
                  <a:lnTo>
                    <a:pt x="38" y="360"/>
                  </a:lnTo>
                  <a:lnTo>
                    <a:pt x="48" y="376"/>
                  </a:lnTo>
                  <a:lnTo>
                    <a:pt x="48" y="378"/>
                  </a:lnTo>
                  <a:lnTo>
                    <a:pt x="48" y="380"/>
                  </a:lnTo>
                  <a:lnTo>
                    <a:pt x="34" y="408"/>
                  </a:lnTo>
                  <a:lnTo>
                    <a:pt x="32" y="416"/>
                  </a:lnTo>
                  <a:lnTo>
                    <a:pt x="24" y="434"/>
                  </a:lnTo>
                  <a:lnTo>
                    <a:pt x="20" y="448"/>
                  </a:lnTo>
                  <a:lnTo>
                    <a:pt x="20" y="450"/>
                  </a:lnTo>
                  <a:lnTo>
                    <a:pt x="14" y="456"/>
                  </a:lnTo>
                  <a:lnTo>
                    <a:pt x="12" y="462"/>
                  </a:lnTo>
                  <a:lnTo>
                    <a:pt x="12" y="464"/>
                  </a:lnTo>
                  <a:lnTo>
                    <a:pt x="12" y="466"/>
                  </a:lnTo>
                  <a:lnTo>
                    <a:pt x="14" y="468"/>
                  </a:lnTo>
                  <a:lnTo>
                    <a:pt x="22" y="476"/>
                  </a:lnTo>
                  <a:lnTo>
                    <a:pt x="26" y="482"/>
                  </a:lnTo>
                  <a:lnTo>
                    <a:pt x="28" y="484"/>
                  </a:lnTo>
                  <a:lnTo>
                    <a:pt x="28" y="488"/>
                  </a:lnTo>
                  <a:lnTo>
                    <a:pt x="30" y="492"/>
                  </a:lnTo>
                  <a:lnTo>
                    <a:pt x="36" y="496"/>
                  </a:lnTo>
                  <a:lnTo>
                    <a:pt x="66" y="502"/>
                  </a:lnTo>
                  <a:lnTo>
                    <a:pt x="80" y="500"/>
                  </a:lnTo>
                  <a:lnTo>
                    <a:pt x="94" y="496"/>
                  </a:lnTo>
                  <a:lnTo>
                    <a:pt x="108" y="492"/>
                  </a:lnTo>
                  <a:lnTo>
                    <a:pt x="122" y="492"/>
                  </a:lnTo>
                  <a:lnTo>
                    <a:pt x="122" y="486"/>
                  </a:lnTo>
                  <a:lnTo>
                    <a:pt x="114" y="464"/>
                  </a:lnTo>
                  <a:lnTo>
                    <a:pt x="112" y="464"/>
                  </a:lnTo>
                  <a:lnTo>
                    <a:pt x="114" y="464"/>
                  </a:lnTo>
                  <a:lnTo>
                    <a:pt x="158" y="400"/>
                  </a:lnTo>
                  <a:lnTo>
                    <a:pt x="208" y="352"/>
                  </a:lnTo>
                  <a:lnTo>
                    <a:pt x="224" y="348"/>
                  </a:lnTo>
                  <a:lnTo>
                    <a:pt x="232" y="338"/>
                  </a:lnTo>
                  <a:lnTo>
                    <a:pt x="240" y="332"/>
                  </a:lnTo>
                  <a:lnTo>
                    <a:pt x="250" y="328"/>
                  </a:lnTo>
                  <a:lnTo>
                    <a:pt x="246" y="324"/>
                  </a:lnTo>
                  <a:lnTo>
                    <a:pt x="234" y="312"/>
                  </a:lnTo>
                  <a:lnTo>
                    <a:pt x="226" y="302"/>
                  </a:lnTo>
                  <a:lnTo>
                    <a:pt x="226" y="300"/>
                  </a:lnTo>
                  <a:lnTo>
                    <a:pt x="230" y="294"/>
                  </a:lnTo>
                  <a:lnTo>
                    <a:pt x="218" y="296"/>
                  </a:lnTo>
                  <a:lnTo>
                    <a:pt x="196" y="292"/>
                  </a:lnTo>
                  <a:lnTo>
                    <a:pt x="186" y="284"/>
                  </a:lnTo>
                  <a:lnTo>
                    <a:pt x="182" y="280"/>
                  </a:lnTo>
                  <a:lnTo>
                    <a:pt x="180" y="276"/>
                  </a:lnTo>
                  <a:lnTo>
                    <a:pt x="176" y="256"/>
                  </a:lnTo>
                  <a:lnTo>
                    <a:pt x="174" y="238"/>
                  </a:lnTo>
                  <a:lnTo>
                    <a:pt x="170" y="242"/>
                  </a:lnTo>
                  <a:lnTo>
                    <a:pt x="164" y="244"/>
                  </a:lnTo>
                  <a:lnTo>
                    <a:pt x="146" y="240"/>
                  </a:lnTo>
                  <a:lnTo>
                    <a:pt x="136" y="232"/>
                  </a:lnTo>
                  <a:lnTo>
                    <a:pt x="122" y="228"/>
                  </a:lnTo>
                  <a:lnTo>
                    <a:pt x="116" y="228"/>
                  </a:lnTo>
                  <a:lnTo>
                    <a:pt x="110" y="226"/>
                  </a:lnTo>
                  <a:lnTo>
                    <a:pt x="104" y="224"/>
                  </a:lnTo>
                  <a:lnTo>
                    <a:pt x="98" y="218"/>
                  </a:lnTo>
                  <a:lnTo>
                    <a:pt x="96" y="214"/>
                  </a:lnTo>
                  <a:lnTo>
                    <a:pt x="96" y="210"/>
                  </a:lnTo>
                  <a:lnTo>
                    <a:pt x="96" y="206"/>
                  </a:lnTo>
                  <a:lnTo>
                    <a:pt x="98" y="202"/>
                  </a:lnTo>
                  <a:lnTo>
                    <a:pt x="102" y="200"/>
                  </a:lnTo>
                  <a:lnTo>
                    <a:pt x="110" y="192"/>
                  </a:lnTo>
                  <a:lnTo>
                    <a:pt x="118" y="180"/>
                  </a:lnTo>
                  <a:lnTo>
                    <a:pt x="116" y="176"/>
                  </a:lnTo>
                  <a:lnTo>
                    <a:pt x="114" y="170"/>
                  </a:lnTo>
                  <a:lnTo>
                    <a:pt x="112" y="164"/>
                  </a:lnTo>
                  <a:lnTo>
                    <a:pt x="114" y="160"/>
                  </a:lnTo>
                  <a:lnTo>
                    <a:pt x="114" y="158"/>
                  </a:lnTo>
                  <a:lnTo>
                    <a:pt x="116" y="156"/>
                  </a:lnTo>
                  <a:lnTo>
                    <a:pt x="120" y="152"/>
                  </a:lnTo>
                  <a:lnTo>
                    <a:pt x="134" y="148"/>
                  </a:lnTo>
                  <a:lnTo>
                    <a:pt x="136" y="142"/>
                  </a:lnTo>
                  <a:lnTo>
                    <a:pt x="138" y="140"/>
                  </a:lnTo>
                  <a:lnTo>
                    <a:pt x="150" y="140"/>
                  </a:lnTo>
                  <a:lnTo>
                    <a:pt x="148" y="140"/>
                  </a:lnTo>
                  <a:lnTo>
                    <a:pt x="142" y="136"/>
                  </a:lnTo>
                  <a:lnTo>
                    <a:pt x="140" y="132"/>
                  </a:lnTo>
                  <a:lnTo>
                    <a:pt x="140" y="128"/>
                  </a:lnTo>
                  <a:lnTo>
                    <a:pt x="142" y="122"/>
                  </a:lnTo>
                  <a:lnTo>
                    <a:pt x="148" y="118"/>
                  </a:lnTo>
                  <a:lnTo>
                    <a:pt x="154" y="116"/>
                  </a:lnTo>
                  <a:lnTo>
                    <a:pt x="160" y="116"/>
                  </a:lnTo>
                  <a:lnTo>
                    <a:pt x="166" y="118"/>
                  </a:lnTo>
                  <a:lnTo>
                    <a:pt x="172" y="120"/>
                  </a:lnTo>
                  <a:lnTo>
                    <a:pt x="190" y="134"/>
                  </a:lnTo>
                  <a:lnTo>
                    <a:pt x="208" y="134"/>
                  </a:lnTo>
                  <a:lnTo>
                    <a:pt x="214" y="138"/>
                  </a:lnTo>
                  <a:lnTo>
                    <a:pt x="214" y="144"/>
                  </a:lnTo>
                  <a:lnTo>
                    <a:pt x="214" y="150"/>
                  </a:lnTo>
                  <a:lnTo>
                    <a:pt x="210" y="152"/>
                  </a:lnTo>
                  <a:lnTo>
                    <a:pt x="206" y="152"/>
                  </a:lnTo>
                  <a:lnTo>
                    <a:pt x="204" y="154"/>
                  </a:lnTo>
                  <a:lnTo>
                    <a:pt x="202" y="160"/>
                  </a:lnTo>
                  <a:lnTo>
                    <a:pt x="210" y="180"/>
                  </a:lnTo>
                  <a:lnTo>
                    <a:pt x="218" y="170"/>
                  </a:lnTo>
                  <a:lnTo>
                    <a:pt x="226" y="168"/>
                  </a:lnTo>
                  <a:lnTo>
                    <a:pt x="230" y="168"/>
                  </a:lnTo>
                  <a:lnTo>
                    <a:pt x="234" y="172"/>
                  </a:lnTo>
                  <a:lnTo>
                    <a:pt x="236" y="180"/>
                  </a:lnTo>
                  <a:lnTo>
                    <a:pt x="240" y="190"/>
                  </a:lnTo>
                  <a:lnTo>
                    <a:pt x="242" y="202"/>
                  </a:lnTo>
                  <a:lnTo>
                    <a:pt x="246" y="210"/>
                  </a:lnTo>
                  <a:lnTo>
                    <a:pt x="252" y="220"/>
                  </a:lnTo>
                  <a:lnTo>
                    <a:pt x="264" y="236"/>
                  </a:lnTo>
                  <a:lnTo>
                    <a:pt x="268" y="248"/>
                  </a:lnTo>
                  <a:lnTo>
                    <a:pt x="300" y="244"/>
                  </a:lnTo>
                  <a:lnTo>
                    <a:pt x="314" y="236"/>
                  </a:lnTo>
                  <a:lnTo>
                    <a:pt x="326" y="220"/>
                  </a:lnTo>
                  <a:lnTo>
                    <a:pt x="332" y="204"/>
                  </a:lnTo>
                  <a:lnTo>
                    <a:pt x="336" y="188"/>
                  </a:lnTo>
                  <a:lnTo>
                    <a:pt x="336" y="186"/>
                  </a:lnTo>
                  <a:lnTo>
                    <a:pt x="336" y="184"/>
                  </a:lnTo>
                  <a:lnTo>
                    <a:pt x="338" y="184"/>
                  </a:lnTo>
                  <a:lnTo>
                    <a:pt x="350" y="176"/>
                  </a:lnTo>
                  <a:lnTo>
                    <a:pt x="352" y="176"/>
                  </a:lnTo>
                  <a:lnTo>
                    <a:pt x="350" y="174"/>
                  </a:lnTo>
                  <a:lnTo>
                    <a:pt x="330" y="168"/>
                  </a:lnTo>
                  <a:lnTo>
                    <a:pt x="326" y="156"/>
                  </a:lnTo>
                  <a:lnTo>
                    <a:pt x="324" y="15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河南"/>
            <p:cNvSpPr/>
            <p:nvPr/>
          </p:nvSpPr>
          <p:spPr>
            <a:xfrm>
              <a:off x="2873520" y="2480760"/>
              <a:ext cx="340920" cy="337320"/>
            </a:xfrm>
            <a:custGeom>
              <a:avLst/>
              <a:gdLst>
                <a:gd name="textAreaLeft" fmla="*/ 0 w 340920"/>
                <a:gd name="textAreaRight" fmla="*/ 341280 w 3409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70" h="366">
                  <a:moveTo>
                    <a:pt x="82" y="120"/>
                  </a:moveTo>
                  <a:lnTo>
                    <a:pt x="80" y="120"/>
                  </a:lnTo>
                  <a:lnTo>
                    <a:pt x="20" y="146"/>
                  </a:lnTo>
                  <a:lnTo>
                    <a:pt x="2" y="162"/>
                  </a:lnTo>
                  <a:lnTo>
                    <a:pt x="0" y="182"/>
                  </a:lnTo>
                  <a:lnTo>
                    <a:pt x="2" y="196"/>
                  </a:lnTo>
                  <a:lnTo>
                    <a:pt x="4" y="206"/>
                  </a:lnTo>
                  <a:lnTo>
                    <a:pt x="10" y="210"/>
                  </a:lnTo>
                  <a:lnTo>
                    <a:pt x="28" y="222"/>
                  </a:lnTo>
                  <a:lnTo>
                    <a:pt x="30" y="222"/>
                  </a:lnTo>
                  <a:lnTo>
                    <a:pt x="34" y="252"/>
                  </a:lnTo>
                  <a:lnTo>
                    <a:pt x="54" y="276"/>
                  </a:lnTo>
                  <a:lnTo>
                    <a:pt x="60" y="282"/>
                  </a:lnTo>
                  <a:lnTo>
                    <a:pt x="66" y="286"/>
                  </a:lnTo>
                  <a:lnTo>
                    <a:pt x="82" y="290"/>
                  </a:lnTo>
                  <a:lnTo>
                    <a:pt x="86" y="290"/>
                  </a:lnTo>
                  <a:lnTo>
                    <a:pt x="92" y="296"/>
                  </a:lnTo>
                  <a:lnTo>
                    <a:pt x="104" y="300"/>
                  </a:lnTo>
                  <a:lnTo>
                    <a:pt x="152" y="302"/>
                  </a:lnTo>
                  <a:lnTo>
                    <a:pt x="194" y="304"/>
                  </a:lnTo>
                  <a:lnTo>
                    <a:pt x="204" y="306"/>
                  </a:lnTo>
                  <a:lnTo>
                    <a:pt x="210" y="310"/>
                  </a:lnTo>
                  <a:lnTo>
                    <a:pt x="214" y="312"/>
                  </a:lnTo>
                  <a:lnTo>
                    <a:pt x="214" y="318"/>
                  </a:lnTo>
                  <a:lnTo>
                    <a:pt x="214" y="332"/>
                  </a:lnTo>
                  <a:lnTo>
                    <a:pt x="214" y="342"/>
                  </a:lnTo>
                  <a:lnTo>
                    <a:pt x="216" y="346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0" y="338"/>
                  </a:lnTo>
                  <a:lnTo>
                    <a:pt x="256" y="340"/>
                  </a:lnTo>
                  <a:lnTo>
                    <a:pt x="258" y="342"/>
                  </a:lnTo>
                  <a:lnTo>
                    <a:pt x="266" y="350"/>
                  </a:lnTo>
                  <a:lnTo>
                    <a:pt x="278" y="362"/>
                  </a:lnTo>
                  <a:lnTo>
                    <a:pt x="280" y="364"/>
                  </a:lnTo>
                  <a:lnTo>
                    <a:pt x="282" y="366"/>
                  </a:lnTo>
                  <a:lnTo>
                    <a:pt x="290" y="360"/>
                  </a:lnTo>
                  <a:lnTo>
                    <a:pt x="298" y="350"/>
                  </a:lnTo>
                  <a:lnTo>
                    <a:pt x="300" y="348"/>
                  </a:lnTo>
                  <a:lnTo>
                    <a:pt x="314" y="358"/>
                  </a:lnTo>
                  <a:lnTo>
                    <a:pt x="324" y="350"/>
                  </a:lnTo>
                  <a:lnTo>
                    <a:pt x="326" y="342"/>
                  </a:lnTo>
                  <a:lnTo>
                    <a:pt x="330" y="338"/>
                  </a:lnTo>
                  <a:lnTo>
                    <a:pt x="334" y="334"/>
                  </a:lnTo>
                  <a:lnTo>
                    <a:pt x="342" y="332"/>
                  </a:lnTo>
                  <a:lnTo>
                    <a:pt x="346" y="330"/>
                  </a:lnTo>
                  <a:lnTo>
                    <a:pt x="344" y="328"/>
                  </a:lnTo>
                  <a:lnTo>
                    <a:pt x="342" y="326"/>
                  </a:lnTo>
                  <a:lnTo>
                    <a:pt x="344" y="306"/>
                  </a:lnTo>
                  <a:lnTo>
                    <a:pt x="338" y="300"/>
                  </a:lnTo>
                  <a:lnTo>
                    <a:pt x="334" y="296"/>
                  </a:lnTo>
                  <a:lnTo>
                    <a:pt x="328" y="294"/>
                  </a:lnTo>
                  <a:lnTo>
                    <a:pt x="320" y="294"/>
                  </a:lnTo>
                  <a:lnTo>
                    <a:pt x="310" y="296"/>
                  </a:lnTo>
                  <a:lnTo>
                    <a:pt x="306" y="296"/>
                  </a:lnTo>
                  <a:lnTo>
                    <a:pt x="302" y="294"/>
                  </a:lnTo>
                  <a:lnTo>
                    <a:pt x="302" y="290"/>
                  </a:lnTo>
                  <a:lnTo>
                    <a:pt x="302" y="286"/>
                  </a:lnTo>
                  <a:lnTo>
                    <a:pt x="292" y="272"/>
                  </a:lnTo>
                  <a:lnTo>
                    <a:pt x="282" y="262"/>
                  </a:lnTo>
                  <a:lnTo>
                    <a:pt x="278" y="256"/>
                  </a:lnTo>
                  <a:lnTo>
                    <a:pt x="274" y="250"/>
                  </a:lnTo>
                  <a:lnTo>
                    <a:pt x="272" y="244"/>
                  </a:lnTo>
                  <a:lnTo>
                    <a:pt x="274" y="238"/>
                  </a:lnTo>
                  <a:lnTo>
                    <a:pt x="274" y="236"/>
                  </a:lnTo>
                  <a:lnTo>
                    <a:pt x="298" y="240"/>
                  </a:lnTo>
                  <a:lnTo>
                    <a:pt x="296" y="226"/>
                  </a:lnTo>
                  <a:lnTo>
                    <a:pt x="296" y="216"/>
                  </a:lnTo>
                  <a:lnTo>
                    <a:pt x="298" y="212"/>
                  </a:lnTo>
                  <a:lnTo>
                    <a:pt x="300" y="210"/>
                  </a:lnTo>
                  <a:lnTo>
                    <a:pt x="304" y="206"/>
                  </a:lnTo>
                  <a:lnTo>
                    <a:pt x="310" y="204"/>
                  </a:lnTo>
                  <a:lnTo>
                    <a:pt x="318" y="200"/>
                  </a:lnTo>
                  <a:lnTo>
                    <a:pt x="318" y="196"/>
                  </a:lnTo>
                  <a:lnTo>
                    <a:pt x="312" y="178"/>
                  </a:lnTo>
                  <a:lnTo>
                    <a:pt x="312" y="170"/>
                  </a:lnTo>
                  <a:lnTo>
                    <a:pt x="312" y="166"/>
                  </a:lnTo>
                  <a:lnTo>
                    <a:pt x="318" y="162"/>
                  </a:lnTo>
                  <a:lnTo>
                    <a:pt x="324" y="162"/>
                  </a:lnTo>
                  <a:lnTo>
                    <a:pt x="338" y="166"/>
                  </a:lnTo>
                  <a:lnTo>
                    <a:pt x="340" y="166"/>
                  </a:lnTo>
                  <a:lnTo>
                    <a:pt x="340" y="168"/>
                  </a:lnTo>
                  <a:lnTo>
                    <a:pt x="356" y="186"/>
                  </a:lnTo>
                  <a:lnTo>
                    <a:pt x="370" y="162"/>
                  </a:lnTo>
                  <a:lnTo>
                    <a:pt x="356" y="140"/>
                  </a:lnTo>
                  <a:lnTo>
                    <a:pt x="348" y="128"/>
                  </a:lnTo>
                  <a:lnTo>
                    <a:pt x="336" y="136"/>
                  </a:lnTo>
                  <a:lnTo>
                    <a:pt x="334" y="134"/>
                  </a:lnTo>
                  <a:lnTo>
                    <a:pt x="302" y="126"/>
                  </a:lnTo>
                  <a:lnTo>
                    <a:pt x="292" y="122"/>
                  </a:lnTo>
                  <a:lnTo>
                    <a:pt x="286" y="116"/>
                  </a:lnTo>
                  <a:lnTo>
                    <a:pt x="280" y="110"/>
                  </a:lnTo>
                  <a:lnTo>
                    <a:pt x="278" y="106"/>
                  </a:lnTo>
                  <a:lnTo>
                    <a:pt x="260" y="96"/>
                  </a:lnTo>
                  <a:lnTo>
                    <a:pt x="260" y="78"/>
                  </a:lnTo>
                  <a:lnTo>
                    <a:pt x="294" y="58"/>
                  </a:lnTo>
                  <a:lnTo>
                    <a:pt x="292" y="44"/>
                  </a:lnTo>
                  <a:lnTo>
                    <a:pt x="286" y="30"/>
                  </a:lnTo>
                  <a:lnTo>
                    <a:pt x="282" y="18"/>
                  </a:lnTo>
                  <a:lnTo>
                    <a:pt x="258" y="22"/>
                  </a:lnTo>
                  <a:lnTo>
                    <a:pt x="242" y="26"/>
                  </a:lnTo>
                  <a:lnTo>
                    <a:pt x="226" y="28"/>
                  </a:lnTo>
                  <a:lnTo>
                    <a:pt x="200" y="22"/>
                  </a:lnTo>
                  <a:lnTo>
                    <a:pt x="200" y="14"/>
                  </a:lnTo>
                  <a:lnTo>
                    <a:pt x="196" y="14"/>
                  </a:lnTo>
                  <a:lnTo>
                    <a:pt x="190" y="10"/>
                  </a:lnTo>
                  <a:lnTo>
                    <a:pt x="188" y="6"/>
                  </a:lnTo>
                  <a:lnTo>
                    <a:pt x="186" y="2"/>
                  </a:lnTo>
                  <a:lnTo>
                    <a:pt x="186" y="0"/>
                  </a:lnTo>
                  <a:lnTo>
                    <a:pt x="184" y="22"/>
                  </a:lnTo>
                  <a:lnTo>
                    <a:pt x="182" y="28"/>
                  </a:lnTo>
                  <a:lnTo>
                    <a:pt x="180" y="34"/>
                  </a:lnTo>
                  <a:lnTo>
                    <a:pt x="182" y="36"/>
                  </a:lnTo>
                  <a:lnTo>
                    <a:pt x="184" y="40"/>
                  </a:lnTo>
                  <a:lnTo>
                    <a:pt x="184" y="46"/>
                  </a:lnTo>
                  <a:lnTo>
                    <a:pt x="182" y="50"/>
                  </a:lnTo>
                  <a:lnTo>
                    <a:pt x="180" y="54"/>
                  </a:lnTo>
                  <a:lnTo>
                    <a:pt x="184" y="68"/>
                  </a:lnTo>
                  <a:lnTo>
                    <a:pt x="182" y="68"/>
                  </a:lnTo>
                  <a:lnTo>
                    <a:pt x="182" y="70"/>
                  </a:lnTo>
                  <a:lnTo>
                    <a:pt x="172" y="78"/>
                  </a:lnTo>
                  <a:lnTo>
                    <a:pt x="172" y="96"/>
                  </a:lnTo>
                  <a:lnTo>
                    <a:pt x="170" y="98"/>
                  </a:lnTo>
                  <a:lnTo>
                    <a:pt x="148" y="106"/>
                  </a:lnTo>
                  <a:lnTo>
                    <a:pt x="132" y="110"/>
                  </a:lnTo>
                  <a:lnTo>
                    <a:pt x="98" y="106"/>
                  </a:lnTo>
                  <a:lnTo>
                    <a:pt x="82" y="12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台湾"/>
            <p:cNvSpPr/>
            <p:nvPr/>
          </p:nvSpPr>
          <p:spPr>
            <a:xfrm>
              <a:off x="3515040" y="3201840"/>
              <a:ext cx="97560" cy="23580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106" h="256">
                  <a:moveTo>
                    <a:pt x="80" y="0"/>
                  </a:moveTo>
                  <a:lnTo>
                    <a:pt x="80" y="0"/>
                  </a:lnTo>
                  <a:lnTo>
                    <a:pt x="62" y="14"/>
                  </a:lnTo>
                  <a:lnTo>
                    <a:pt x="46" y="32"/>
                  </a:lnTo>
                  <a:lnTo>
                    <a:pt x="34" y="50"/>
                  </a:lnTo>
                  <a:lnTo>
                    <a:pt x="24" y="70"/>
                  </a:lnTo>
                  <a:lnTo>
                    <a:pt x="10" y="98"/>
                  </a:lnTo>
                  <a:lnTo>
                    <a:pt x="4" y="104"/>
                  </a:lnTo>
                  <a:lnTo>
                    <a:pt x="0" y="108"/>
                  </a:lnTo>
                  <a:lnTo>
                    <a:pt x="6" y="152"/>
                  </a:lnTo>
                  <a:lnTo>
                    <a:pt x="6" y="154"/>
                  </a:lnTo>
                  <a:lnTo>
                    <a:pt x="2" y="184"/>
                  </a:lnTo>
                  <a:lnTo>
                    <a:pt x="2" y="196"/>
                  </a:lnTo>
                  <a:lnTo>
                    <a:pt x="2" y="200"/>
                  </a:lnTo>
                  <a:lnTo>
                    <a:pt x="4" y="202"/>
                  </a:lnTo>
                  <a:lnTo>
                    <a:pt x="36" y="224"/>
                  </a:lnTo>
                  <a:lnTo>
                    <a:pt x="38" y="224"/>
                  </a:lnTo>
                  <a:lnTo>
                    <a:pt x="38" y="226"/>
                  </a:lnTo>
                  <a:lnTo>
                    <a:pt x="42" y="236"/>
                  </a:lnTo>
                  <a:lnTo>
                    <a:pt x="50" y="248"/>
                  </a:lnTo>
                  <a:lnTo>
                    <a:pt x="56" y="252"/>
                  </a:lnTo>
                  <a:lnTo>
                    <a:pt x="62" y="256"/>
                  </a:lnTo>
                  <a:lnTo>
                    <a:pt x="66" y="204"/>
                  </a:lnTo>
                  <a:lnTo>
                    <a:pt x="66" y="202"/>
                  </a:lnTo>
                  <a:lnTo>
                    <a:pt x="90" y="146"/>
                  </a:lnTo>
                  <a:lnTo>
                    <a:pt x="98" y="80"/>
                  </a:lnTo>
                  <a:lnTo>
                    <a:pt x="98" y="78"/>
                  </a:lnTo>
                  <a:lnTo>
                    <a:pt x="106" y="60"/>
                  </a:lnTo>
                  <a:lnTo>
                    <a:pt x="100" y="44"/>
                  </a:lnTo>
                  <a:lnTo>
                    <a:pt x="98" y="44"/>
                  </a:lnTo>
                  <a:lnTo>
                    <a:pt x="98" y="24"/>
                  </a:lnTo>
                  <a:lnTo>
                    <a:pt x="98" y="22"/>
                  </a:lnTo>
                  <a:lnTo>
                    <a:pt x="102" y="16"/>
                  </a:lnTo>
                  <a:lnTo>
                    <a:pt x="106" y="1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海南"/>
            <p:cNvSpPr/>
            <p:nvPr/>
          </p:nvSpPr>
          <p:spPr>
            <a:xfrm>
              <a:off x="2796120" y="3620880"/>
              <a:ext cx="147240" cy="12888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60" h="140">
                  <a:moveTo>
                    <a:pt x="72" y="14"/>
                  </a:moveTo>
                  <a:lnTo>
                    <a:pt x="70" y="18"/>
                  </a:lnTo>
                  <a:lnTo>
                    <a:pt x="68" y="20"/>
                  </a:lnTo>
                  <a:lnTo>
                    <a:pt x="36" y="28"/>
                  </a:lnTo>
                  <a:lnTo>
                    <a:pt x="38" y="32"/>
                  </a:lnTo>
                  <a:lnTo>
                    <a:pt x="48" y="44"/>
                  </a:lnTo>
                  <a:lnTo>
                    <a:pt x="44" y="46"/>
                  </a:lnTo>
                  <a:lnTo>
                    <a:pt x="30" y="54"/>
                  </a:lnTo>
                  <a:lnTo>
                    <a:pt x="6" y="72"/>
                  </a:lnTo>
                  <a:lnTo>
                    <a:pt x="2" y="80"/>
                  </a:lnTo>
                  <a:lnTo>
                    <a:pt x="0" y="92"/>
                  </a:lnTo>
                  <a:lnTo>
                    <a:pt x="4" y="108"/>
                  </a:lnTo>
                  <a:lnTo>
                    <a:pt x="10" y="126"/>
                  </a:lnTo>
                  <a:lnTo>
                    <a:pt x="34" y="128"/>
                  </a:lnTo>
                  <a:lnTo>
                    <a:pt x="36" y="128"/>
                  </a:lnTo>
                  <a:lnTo>
                    <a:pt x="60" y="140"/>
                  </a:lnTo>
                  <a:lnTo>
                    <a:pt x="86" y="136"/>
                  </a:lnTo>
                  <a:lnTo>
                    <a:pt x="94" y="132"/>
                  </a:lnTo>
                  <a:lnTo>
                    <a:pt x="102" y="126"/>
                  </a:lnTo>
                  <a:lnTo>
                    <a:pt x="112" y="118"/>
                  </a:lnTo>
                  <a:lnTo>
                    <a:pt x="122" y="106"/>
                  </a:lnTo>
                  <a:lnTo>
                    <a:pt x="124" y="106"/>
                  </a:lnTo>
                  <a:lnTo>
                    <a:pt x="126" y="104"/>
                  </a:lnTo>
                  <a:lnTo>
                    <a:pt x="136" y="100"/>
                  </a:lnTo>
                  <a:lnTo>
                    <a:pt x="134" y="66"/>
                  </a:lnTo>
                  <a:lnTo>
                    <a:pt x="148" y="44"/>
                  </a:lnTo>
                  <a:lnTo>
                    <a:pt x="160" y="34"/>
                  </a:lnTo>
                  <a:lnTo>
                    <a:pt x="160" y="22"/>
                  </a:lnTo>
                  <a:lnTo>
                    <a:pt x="158" y="14"/>
                  </a:lnTo>
                  <a:lnTo>
                    <a:pt x="156" y="10"/>
                  </a:lnTo>
                  <a:lnTo>
                    <a:pt x="152" y="2"/>
                  </a:lnTo>
                  <a:lnTo>
                    <a:pt x="146" y="0"/>
                  </a:lnTo>
                  <a:lnTo>
                    <a:pt x="146" y="12"/>
                  </a:lnTo>
                  <a:lnTo>
                    <a:pt x="126" y="8"/>
                  </a:lnTo>
                  <a:lnTo>
                    <a:pt x="116" y="14"/>
                  </a:lnTo>
                  <a:lnTo>
                    <a:pt x="114" y="14"/>
                  </a:lnTo>
                  <a:lnTo>
                    <a:pt x="72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9" name="新疆"/>
          <p:cNvSpPr/>
          <p:nvPr/>
        </p:nvSpPr>
        <p:spPr>
          <a:xfrm>
            <a:off x="4425840" y="1457280"/>
            <a:ext cx="462240" cy="349200"/>
          </a:xfrm>
          <a:custGeom>
            <a:avLst/>
            <a:gdLst>
              <a:gd name="textAreaLeft" fmla="*/ 0 w 462240"/>
              <a:gd name="textAreaRight" fmla="*/ 462600 w 46224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四川"/>
          <p:cNvSpPr/>
          <p:nvPr/>
        </p:nvSpPr>
        <p:spPr>
          <a:xfrm>
            <a:off x="4470480" y="3094200"/>
            <a:ext cx="419040" cy="368280"/>
          </a:xfrm>
          <a:custGeom>
            <a:avLst/>
            <a:gdLst>
              <a:gd name="textAreaLeft" fmla="*/ 0 w 419040"/>
              <a:gd name="textAreaRight" fmla="*/ 419400 w 419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安徽"/>
          <p:cNvSpPr/>
          <p:nvPr/>
        </p:nvSpPr>
        <p:spPr>
          <a:xfrm>
            <a:off x="4481640" y="2249640"/>
            <a:ext cx="350640" cy="426960"/>
          </a:xfrm>
          <a:custGeom>
            <a:avLst/>
            <a:gdLst>
              <a:gd name="textAreaLeft" fmla="*/ 0 w 350640"/>
              <a:gd name="textAreaRight" fmla="*/ 350640 w 3506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TextBox 90"/>
          <p:cNvSpPr/>
          <p:nvPr/>
        </p:nvSpPr>
        <p:spPr>
          <a:xfrm>
            <a:off x="5003640" y="1379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TextBox 47"/>
          <p:cNvSpPr/>
          <p:nvPr/>
        </p:nvSpPr>
        <p:spPr>
          <a:xfrm>
            <a:off x="5003640" y="2198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TextBox 48"/>
          <p:cNvSpPr/>
          <p:nvPr/>
        </p:nvSpPr>
        <p:spPr>
          <a:xfrm>
            <a:off x="5003640" y="300528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新疆"/>
          <p:cNvSpPr/>
          <p:nvPr/>
        </p:nvSpPr>
        <p:spPr>
          <a:xfrm>
            <a:off x="1235160" y="3930480"/>
            <a:ext cx="461880" cy="349560"/>
          </a:xfrm>
          <a:custGeom>
            <a:avLst/>
            <a:gdLst>
              <a:gd name="textAreaLeft" fmla="*/ 0 w 461880"/>
              <a:gd name="textAreaRight" fmla="*/ 462240 w 461880"/>
              <a:gd name="textAreaTop" fmla="*/ 0 h 349560"/>
              <a:gd name="textAreaBottom" fmla="*/ 349920 h 34956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安徽"/>
          <p:cNvSpPr/>
          <p:nvPr/>
        </p:nvSpPr>
        <p:spPr>
          <a:xfrm>
            <a:off x="3811680" y="3852720"/>
            <a:ext cx="349200" cy="427320"/>
          </a:xfrm>
          <a:custGeom>
            <a:avLst/>
            <a:gdLst>
              <a:gd name="textAreaLeft" fmla="*/ 0 w 349200"/>
              <a:gd name="textAreaRight" fmla="*/ 349560 w 34920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四川"/>
          <p:cNvSpPr/>
          <p:nvPr/>
        </p:nvSpPr>
        <p:spPr>
          <a:xfrm>
            <a:off x="6064200" y="3911760"/>
            <a:ext cx="420840" cy="368280"/>
          </a:xfrm>
          <a:custGeom>
            <a:avLst/>
            <a:gdLst>
              <a:gd name="textAreaLeft" fmla="*/ 0 w 420840"/>
              <a:gd name="textAreaRight" fmla="*/ 421200 w 4208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TextBox 54"/>
          <p:cNvSpPr/>
          <p:nvPr/>
        </p:nvSpPr>
        <p:spPr>
          <a:xfrm>
            <a:off x="153684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,2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TextBox 55"/>
          <p:cNvSpPr/>
          <p:nvPr/>
        </p:nvSpPr>
        <p:spPr>
          <a:xfrm>
            <a:off x="399420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8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TextBox 56"/>
          <p:cNvSpPr/>
          <p:nvPr/>
        </p:nvSpPr>
        <p:spPr>
          <a:xfrm>
            <a:off x="6299280" y="387828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6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lu"/>
  </p:transition>
  <p:timing>
    <p:tnLst>
      <p:par>
        <p:cTn id="902" dur="indefinite" restart="never" nodeType="tmRoot">
          <p:childTnLst>
            <p:seq>
              <p:cTn id="903" dur="indefinite" nodeType="mainSeq">
                <p:childTnLst>
                  <p:par>
                    <p:cTn id="904" nodeType="clickEffect" fill="hold">
                      <p:stCondLst>
                        <p:cond delay="0"/>
                      </p:stCondLst>
                      <p:childTnLst>
                        <p:par>
                          <p:cTn id="9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8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1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7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9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46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6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9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3" name="组合 6"/>
          <p:cNvGrpSpPr/>
          <p:nvPr/>
        </p:nvGrpSpPr>
        <p:grpSpPr>
          <a:xfrm>
            <a:off x="5186520" y="368280"/>
            <a:ext cx="1852560" cy="246240"/>
            <a:chOff x="5186520" y="368280"/>
            <a:chExt cx="1852560" cy="246240"/>
          </a:xfrm>
        </p:grpSpPr>
        <p:sp>
          <p:nvSpPr>
            <p:cNvPr id="594" name="TextBox 7"/>
            <p:cNvSpPr/>
            <p:nvPr/>
          </p:nvSpPr>
          <p:spPr>
            <a:xfrm>
              <a:off x="5322240" y="36828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95" name="组合 8"/>
            <p:cNvGrpSpPr/>
            <p:nvPr/>
          </p:nvGrpSpPr>
          <p:grpSpPr>
            <a:xfrm>
              <a:off x="5186520" y="412560"/>
              <a:ext cx="157680" cy="158760"/>
              <a:chOff x="5186520" y="412560"/>
              <a:chExt cx="157680" cy="158760"/>
            </a:xfrm>
          </p:grpSpPr>
          <p:sp>
            <p:nvSpPr>
              <p:cNvPr id="596" name="梯形 21"/>
              <p:cNvSpPr/>
              <p:nvPr/>
            </p:nvSpPr>
            <p:spPr>
              <a:xfrm rot="16200000">
                <a:off x="5215680" y="42912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椭圆 13"/>
              <p:cNvSpPr/>
              <p:nvPr/>
            </p:nvSpPr>
            <p:spPr>
              <a:xfrm>
                <a:off x="5186520" y="412560"/>
                <a:ext cx="157680" cy="15876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9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9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0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7" name="青海"/>
          <p:cNvSpPr/>
          <p:nvPr/>
        </p:nvSpPr>
        <p:spPr>
          <a:xfrm>
            <a:off x="5154480" y="3208320"/>
            <a:ext cx="1459080" cy="1046160"/>
          </a:xfrm>
          <a:custGeom>
            <a:avLst/>
            <a:gdLst>
              <a:gd name="textAreaLeft" fmla="*/ 0 w 1459080"/>
              <a:gd name="textAreaRight" fmla="*/ 1459440 w 145908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812" h="582">
                <a:moveTo>
                  <a:pt x="484" y="30"/>
                </a:moveTo>
                <a:lnTo>
                  <a:pt x="476" y="36"/>
                </a:lnTo>
                <a:lnTo>
                  <a:pt x="480" y="56"/>
                </a:lnTo>
                <a:lnTo>
                  <a:pt x="480" y="58"/>
                </a:lnTo>
                <a:lnTo>
                  <a:pt x="482" y="58"/>
                </a:lnTo>
                <a:lnTo>
                  <a:pt x="480" y="58"/>
                </a:lnTo>
                <a:lnTo>
                  <a:pt x="472" y="78"/>
                </a:lnTo>
                <a:lnTo>
                  <a:pt x="460" y="82"/>
                </a:lnTo>
                <a:lnTo>
                  <a:pt x="458" y="84"/>
                </a:lnTo>
                <a:lnTo>
                  <a:pt x="456" y="84"/>
                </a:lnTo>
                <a:lnTo>
                  <a:pt x="436" y="74"/>
                </a:lnTo>
                <a:lnTo>
                  <a:pt x="396" y="38"/>
                </a:lnTo>
                <a:lnTo>
                  <a:pt x="380" y="28"/>
                </a:lnTo>
                <a:lnTo>
                  <a:pt x="356" y="20"/>
                </a:lnTo>
                <a:lnTo>
                  <a:pt x="356" y="18"/>
                </a:lnTo>
                <a:lnTo>
                  <a:pt x="344" y="10"/>
                </a:lnTo>
                <a:lnTo>
                  <a:pt x="324" y="4"/>
                </a:lnTo>
                <a:lnTo>
                  <a:pt x="314" y="6"/>
                </a:lnTo>
                <a:lnTo>
                  <a:pt x="312" y="6"/>
                </a:lnTo>
                <a:lnTo>
                  <a:pt x="288" y="4"/>
                </a:lnTo>
                <a:lnTo>
                  <a:pt x="286" y="4"/>
                </a:lnTo>
                <a:lnTo>
                  <a:pt x="268" y="0"/>
                </a:lnTo>
                <a:lnTo>
                  <a:pt x="256" y="0"/>
                </a:lnTo>
                <a:lnTo>
                  <a:pt x="248" y="6"/>
                </a:lnTo>
                <a:lnTo>
                  <a:pt x="240" y="8"/>
                </a:lnTo>
                <a:lnTo>
                  <a:pt x="228" y="10"/>
                </a:lnTo>
                <a:lnTo>
                  <a:pt x="212" y="14"/>
                </a:lnTo>
                <a:lnTo>
                  <a:pt x="198" y="18"/>
                </a:lnTo>
                <a:lnTo>
                  <a:pt x="196" y="20"/>
                </a:lnTo>
                <a:lnTo>
                  <a:pt x="180" y="22"/>
                </a:lnTo>
                <a:lnTo>
                  <a:pt x="160" y="28"/>
                </a:lnTo>
                <a:lnTo>
                  <a:pt x="158" y="28"/>
                </a:lnTo>
                <a:lnTo>
                  <a:pt x="144" y="26"/>
                </a:lnTo>
                <a:lnTo>
                  <a:pt x="120" y="30"/>
                </a:lnTo>
                <a:lnTo>
                  <a:pt x="100" y="30"/>
                </a:lnTo>
                <a:lnTo>
                  <a:pt x="92" y="38"/>
                </a:lnTo>
                <a:lnTo>
                  <a:pt x="82" y="40"/>
                </a:lnTo>
                <a:lnTo>
                  <a:pt x="86" y="50"/>
                </a:lnTo>
                <a:lnTo>
                  <a:pt x="86" y="66"/>
                </a:lnTo>
                <a:lnTo>
                  <a:pt x="84" y="78"/>
                </a:lnTo>
                <a:lnTo>
                  <a:pt x="98" y="90"/>
                </a:lnTo>
                <a:lnTo>
                  <a:pt x="110" y="102"/>
                </a:lnTo>
                <a:lnTo>
                  <a:pt x="118" y="110"/>
                </a:lnTo>
                <a:lnTo>
                  <a:pt x="120" y="114"/>
                </a:lnTo>
                <a:lnTo>
                  <a:pt x="120" y="118"/>
                </a:lnTo>
                <a:lnTo>
                  <a:pt x="124" y="130"/>
                </a:lnTo>
                <a:lnTo>
                  <a:pt x="130" y="142"/>
                </a:lnTo>
                <a:lnTo>
                  <a:pt x="128" y="142"/>
                </a:lnTo>
                <a:lnTo>
                  <a:pt x="112" y="154"/>
                </a:lnTo>
                <a:lnTo>
                  <a:pt x="102" y="166"/>
                </a:lnTo>
                <a:lnTo>
                  <a:pt x="104" y="178"/>
                </a:lnTo>
                <a:lnTo>
                  <a:pt x="112" y="196"/>
                </a:lnTo>
                <a:lnTo>
                  <a:pt x="112" y="198"/>
                </a:lnTo>
                <a:lnTo>
                  <a:pt x="112" y="204"/>
                </a:lnTo>
                <a:lnTo>
                  <a:pt x="108" y="210"/>
                </a:lnTo>
                <a:lnTo>
                  <a:pt x="106" y="214"/>
                </a:lnTo>
                <a:lnTo>
                  <a:pt x="102" y="216"/>
                </a:lnTo>
                <a:lnTo>
                  <a:pt x="96" y="216"/>
                </a:lnTo>
                <a:lnTo>
                  <a:pt x="80" y="214"/>
                </a:lnTo>
                <a:lnTo>
                  <a:pt x="60" y="210"/>
                </a:lnTo>
                <a:lnTo>
                  <a:pt x="58" y="210"/>
                </a:lnTo>
                <a:lnTo>
                  <a:pt x="44" y="202"/>
                </a:lnTo>
                <a:lnTo>
                  <a:pt x="20" y="202"/>
                </a:lnTo>
                <a:lnTo>
                  <a:pt x="22" y="202"/>
                </a:lnTo>
                <a:lnTo>
                  <a:pt x="20" y="242"/>
                </a:lnTo>
                <a:lnTo>
                  <a:pt x="18" y="246"/>
                </a:lnTo>
                <a:lnTo>
                  <a:pt x="16" y="248"/>
                </a:lnTo>
                <a:lnTo>
                  <a:pt x="8" y="250"/>
                </a:lnTo>
                <a:lnTo>
                  <a:pt x="6" y="254"/>
                </a:lnTo>
                <a:lnTo>
                  <a:pt x="6" y="262"/>
                </a:lnTo>
                <a:lnTo>
                  <a:pt x="4" y="262"/>
                </a:lnTo>
                <a:lnTo>
                  <a:pt x="4" y="272"/>
                </a:lnTo>
                <a:lnTo>
                  <a:pt x="10" y="280"/>
                </a:lnTo>
                <a:lnTo>
                  <a:pt x="14" y="284"/>
                </a:lnTo>
                <a:lnTo>
                  <a:pt x="18" y="304"/>
                </a:lnTo>
                <a:lnTo>
                  <a:pt x="18" y="310"/>
                </a:lnTo>
                <a:lnTo>
                  <a:pt x="16" y="322"/>
                </a:lnTo>
                <a:lnTo>
                  <a:pt x="10" y="338"/>
                </a:lnTo>
                <a:lnTo>
                  <a:pt x="0" y="358"/>
                </a:lnTo>
                <a:lnTo>
                  <a:pt x="0" y="362"/>
                </a:lnTo>
                <a:lnTo>
                  <a:pt x="0" y="370"/>
                </a:lnTo>
                <a:lnTo>
                  <a:pt x="12" y="384"/>
                </a:lnTo>
                <a:lnTo>
                  <a:pt x="16" y="394"/>
                </a:lnTo>
                <a:lnTo>
                  <a:pt x="26" y="406"/>
                </a:lnTo>
                <a:lnTo>
                  <a:pt x="40" y="422"/>
                </a:lnTo>
                <a:lnTo>
                  <a:pt x="48" y="430"/>
                </a:lnTo>
                <a:lnTo>
                  <a:pt x="52" y="430"/>
                </a:lnTo>
                <a:lnTo>
                  <a:pt x="68" y="422"/>
                </a:lnTo>
                <a:lnTo>
                  <a:pt x="72" y="418"/>
                </a:lnTo>
                <a:lnTo>
                  <a:pt x="76" y="418"/>
                </a:lnTo>
                <a:lnTo>
                  <a:pt x="84" y="420"/>
                </a:lnTo>
                <a:lnTo>
                  <a:pt x="92" y="424"/>
                </a:lnTo>
                <a:lnTo>
                  <a:pt x="92" y="426"/>
                </a:lnTo>
                <a:lnTo>
                  <a:pt x="100" y="434"/>
                </a:lnTo>
                <a:lnTo>
                  <a:pt x="104" y="444"/>
                </a:lnTo>
                <a:lnTo>
                  <a:pt x="108" y="448"/>
                </a:lnTo>
                <a:lnTo>
                  <a:pt x="110" y="450"/>
                </a:lnTo>
                <a:lnTo>
                  <a:pt x="120" y="458"/>
                </a:lnTo>
                <a:lnTo>
                  <a:pt x="126" y="458"/>
                </a:lnTo>
                <a:lnTo>
                  <a:pt x="132" y="460"/>
                </a:lnTo>
                <a:lnTo>
                  <a:pt x="136" y="464"/>
                </a:lnTo>
                <a:lnTo>
                  <a:pt x="144" y="468"/>
                </a:lnTo>
                <a:lnTo>
                  <a:pt x="160" y="474"/>
                </a:lnTo>
                <a:lnTo>
                  <a:pt x="162" y="474"/>
                </a:lnTo>
                <a:lnTo>
                  <a:pt x="186" y="482"/>
                </a:lnTo>
                <a:lnTo>
                  <a:pt x="188" y="482"/>
                </a:lnTo>
                <a:lnTo>
                  <a:pt x="204" y="490"/>
                </a:lnTo>
                <a:lnTo>
                  <a:pt x="232" y="498"/>
                </a:lnTo>
                <a:lnTo>
                  <a:pt x="234" y="498"/>
                </a:lnTo>
                <a:lnTo>
                  <a:pt x="272" y="500"/>
                </a:lnTo>
                <a:lnTo>
                  <a:pt x="288" y="494"/>
                </a:lnTo>
                <a:lnTo>
                  <a:pt x="304" y="494"/>
                </a:lnTo>
                <a:lnTo>
                  <a:pt x="304" y="496"/>
                </a:lnTo>
                <a:lnTo>
                  <a:pt x="316" y="512"/>
                </a:lnTo>
                <a:lnTo>
                  <a:pt x="324" y="526"/>
                </a:lnTo>
                <a:lnTo>
                  <a:pt x="332" y="532"/>
                </a:lnTo>
                <a:lnTo>
                  <a:pt x="340" y="536"/>
                </a:lnTo>
                <a:lnTo>
                  <a:pt x="340" y="538"/>
                </a:lnTo>
                <a:lnTo>
                  <a:pt x="342" y="538"/>
                </a:lnTo>
                <a:lnTo>
                  <a:pt x="348" y="554"/>
                </a:lnTo>
                <a:lnTo>
                  <a:pt x="350" y="554"/>
                </a:lnTo>
                <a:lnTo>
                  <a:pt x="350" y="556"/>
                </a:lnTo>
                <a:lnTo>
                  <a:pt x="354" y="574"/>
                </a:lnTo>
                <a:lnTo>
                  <a:pt x="364" y="578"/>
                </a:lnTo>
                <a:lnTo>
                  <a:pt x="366" y="578"/>
                </a:lnTo>
                <a:lnTo>
                  <a:pt x="376" y="582"/>
                </a:lnTo>
                <a:lnTo>
                  <a:pt x="388" y="580"/>
                </a:lnTo>
                <a:lnTo>
                  <a:pt x="390" y="568"/>
                </a:lnTo>
                <a:lnTo>
                  <a:pt x="392" y="566"/>
                </a:lnTo>
                <a:lnTo>
                  <a:pt x="404" y="554"/>
                </a:lnTo>
                <a:lnTo>
                  <a:pt x="420" y="558"/>
                </a:lnTo>
                <a:lnTo>
                  <a:pt x="428" y="574"/>
                </a:lnTo>
                <a:lnTo>
                  <a:pt x="442" y="570"/>
                </a:lnTo>
                <a:lnTo>
                  <a:pt x="444" y="554"/>
                </a:lnTo>
                <a:lnTo>
                  <a:pt x="444" y="552"/>
                </a:lnTo>
                <a:lnTo>
                  <a:pt x="456" y="546"/>
                </a:lnTo>
                <a:lnTo>
                  <a:pt x="452" y="524"/>
                </a:lnTo>
                <a:lnTo>
                  <a:pt x="452" y="522"/>
                </a:lnTo>
                <a:lnTo>
                  <a:pt x="464" y="496"/>
                </a:lnTo>
                <a:lnTo>
                  <a:pt x="476" y="492"/>
                </a:lnTo>
                <a:lnTo>
                  <a:pt x="472" y="470"/>
                </a:lnTo>
                <a:lnTo>
                  <a:pt x="484" y="470"/>
                </a:lnTo>
                <a:lnTo>
                  <a:pt x="484" y="458"/>
                </a:lnTo>
                <a:lnTo>
                  <a:pt x="476" y="438"/>
                </a:lnTo>
                <a:lnTo>
                  <a:pt x="476" y="436"/>
                </a:lnTo>
                <a:lnTo>
                  <a:pt x="478" y="420"/>
                </a:lnTo>
                <a:lnTo>
                  <a:pt x="478" y="418"/>
                </a:lnTo>
                <a:lnTo>
                  <a:pt x="480" y="418"/>
                </a:lnTo>
                <a:lnTo>
                  <a:pt x="488" y="406"/>
                </a:lnTo>
                <a:lnTo>
                  <a:pt x="490" y="406"/>
                </a:lnTo>
                <a:lnTo>
                  <a:pt x="492" y="406"/>
                </a:lnTo>
                <a:lnTo>
                  <a:pt x="514" y="410"/>
                </a:lnTo>
                <a:lnTo>
                  <a:pt x="532" y="414"/>
                </a:lnTo>
                <a:lnTo>
                  <a:pt x="548" y="410"/>
                </a:lnTo>
                <a:lnTo>
                  <a:pt x="556" y="426"/>
                </a:lnTo>
                <a:lnTo>
                  <a:pt x="556" y="428"/>
                </a:lnTo>
                <a:lnTo>
                  <a:pt x="556" y="440"/>
                </a:lnTo>
                <a:lnTo>
                  <a:pt x="560" y="452"/>
                </a:lnTo>
                <a:lnTo>
                  <a:pt x="562" y="458"/>
                </a:lnTo>
                <a:lnTo>
                  <a:pt x="568" y="462"/>
                </a:lnTo>
                <a:lnTo>
                  <a:pt x="578" y="464"/>
                </a:lnTo>
                <a:lnTo>
                  <a:pt x="580" y="468"/>
                </a:lnTo>
                <a:lnTo>
                  <a:pt x="580" y="470"/>
                </a:lnTo>
                <a:lnTo>
                  <a:pt x="584" y="478"/>
                </a:lnTo>
                <a:lnTo>
                  <a:pt x="590" y="486"/>
                </a:lnTo>
                <a:lnTo>
                  <a:pt x="598" y="498"/>
                </a:lnTo>
                <a:lnTo>
                  <a:pt x="602" y="506"/>
                </a:lnTo>
                <a:lnTo>
                  <a:pt x="610" y="506"/>
                </a:lnTo>
                <a:lnTo>
                  <a:pt x="624" y="494"/>
                </a:lnTo>
                <a:lnTo>
                  <a:pt x="632" y="512"/>
                </a:lnTo>
                <a:lnTo>
                  <a:pt x="650" y="518"/>
                </a:lnTo>
                <a:lnTo>
                  <a:pt x="652" y="518"/>
                </a:lnTo>
                <a:lnTo>
                  <a:pt x="660" y="534"/>
                </a:lnTo>
                <a:lnTo>
                  <a:pt x="664" y="538"/>
                </a:lnTo>
                <a:lnTo>
                  <a:pt x="664" y="522"/>
                </a:lnTo>
                <a:lnTo>
                  <a:pt x="664" y="518"/>
                </a:lnTo>
                <a:lnTo>
                  <a:pt x="700" y="518"/>
                </a:lnTo>
                <a:lnTo>
                  <a:pt x="700" y="514"/>
                </a:lnTo>
                <a:lnTo>
                  <a:pt x="702" y="512"/>
                </a:lnTo>
                <a:lnTo>
                  <a:pt x="700" y="508"/>
                </a:lnTo>
                <a:lnTo>
                  <a:pt x="698" y="500"/>
                </a:lnTo>
                <a:lnTo>
                  <a:pt x="696" y="494"/>
                </a:lnTo>
                <a:lnTo>
                  <a:pt x="696" y="486"/>
                </a:lnTo>
                <a:lnTo>
                  <a:pt x="698" y="480"/>
                </a:lnTo>
                <a:lnTo>
                  <a:pt x="702" y="478"/>
                </a:lnTo>
                <a:lnTo>
                  <a:pt x="706" y="478"/>
                </a:lnTo>
                <a:lnTo>
                  <a:pt x="720" y="482"/>
                </a:lnTo>
                <a:lnTo>
                  <a:pt x="722" y="472"/>
                </a:lnTo>
                <a:lnTo>
                  <a:pt x="696" y="460"/>
                </a:lnTo>
                <a:lnTo>
                  <a:pt x="694" y="460"/>
                </a:lnTo>
                <a:lnTo>
                  <a:pt x="692" y="458"/>
                </a:lnTo>
                <a:lnTo>
                  <a:pt x="688" y="426"/>
                </a:lnTo>
                <a:lnTo>
                  <a:pt x="690" y="406"/>
                </a:lnTo>
                <a:lnTo>
                  <a:pt x="690" y="402"/>
                </a:lnTo>
                <a:lnTo>
                  <a:pt x="734" y="406"/>
                </a:lnTo>
                <a:lnTo>
                  <a:pt x="744" y="396"/>
                </a:lnTo>
                <a:lnTo>
                  <a:pt x="746" y="392"/>
                </a:lnTo>
                <a:lnTo>
                  <a:pt x="744" y="388"/>
                </a:lnTo>
                <a:lnTo>
                  <a:pt x="732" y="382"/>
                </a:lnTo>
                <a:lnTo>
                  <a:pt x="730" y="378"/>
                </a:lnTo>
                <a:lnTo>
                  <a:pt x="728" y="374"/>
                </a:lnTo>
                <a:lnTo>
                  <a:pt x="730" y="372"/>
                </a:lnTo>
                <a:lnTo>
                  <a:pt x="732" y="368"/>
                </a:lnTo>
                <a:lnTo>
                  <a:pt x="752" y="350"/>
                </a:lnTo>
                <a:lnTo>
                  <a:pt x="772" y="348"/>
                </a:lnTo>
                <a:lnTo>
                  <a:pt x="782" y="330"/>
                </a:lnTo>
                <a:lnTo>
                  <a:pt x="782" y="314"/>
                </a:lnTo>
                <a:lnTo>
                  <a:pt x="796" y="310"/>
                </a:lnTo>
                <a:lnTo>
                  <a:pt x="804" y="290"/>
                </a:lnTo>
                <a:lnTo>
                  <a:pt x="812" y="276"/>
                </a:lnTo>
                <a:lnTo>
                  <a:pt x="800" y="256"/>
                </a:lnTo>
                <a:lnTo>
                  <a:pt x="800" y="254"/>
                </a:lnTo>
                <a:lnTo>
                  <a:pt x="792" y="228"/>
                </a:lnTo>
                <a:lnTo>
                  <a:pt x="792" y="226"/>
                </a:lnTo>
                <a:lnTo>
                  <a:pt x="788" y="198"/>
                </a:lnTo>
                <a:lnTo>
                  <a:pt x="778" y="182"/>
                </a:lnTo>
                <a:lnTo>
                  <a:pt x="764" y="168"/>
                </a:lnTo>
                <a:lnTo>
                  <a:pt x="764" y="166"/>
                </a:lnTo>
                <a:lnTo>
                  <a:pt x="762" y="150"/>
                </a:lnTo>
                <a:lnTo>
                  <a:pt x="736" y="158"/>
                </a:lnTo>
                <a:lnTo>
                  <a:pt x="724" y="144"/>
                </a:lnTo>
                <a:lnTo>
                  <a:pt x="688" y="118"/>
                </a:lnTo>
                <a:lnTo>
                  <a:pt x="686" y="118"/>
                </a:lnTo>
                <a:lnTo>
                  <a:pt x="672" y="100"/>
                </a:lnTo>
                <a:lnTo>
                  <a:pt x="664" y="94"/>
                </a:lnTo>
                <a:lnTo>
                  <a:pt x="658" y="102"/>
                </a:lnTo>
                <a:lnTo>
                  <a:pt x="658" y="104"/>
                </a:lnTo>
                <a:lnTo>
                  <a:pt x="658" y="106"/>
                </a:lnTo>
                <a:lnTo>
                  <a:pt x="656" y="106"/>
                </a:lnTo>
                <a:lnTo>
                  <a:pt x="644" y="106"/>
                </a:lnTo>
                <a:lnTo>
                  <a:pt x="642" y="106"/>
                </a:lnTo>
                <a:lnTo>
                  <a:pt x="616" y="78"/>
                </a:lnTo>
                <a:lnTo>
                  <a:pt x="606" y="72"/>
                </a:lnTo>
                <a:lnTo>
                  <a:pt x="596" y="62"/>
                </a:lnTo>
                <a:lnTo>
                  <a:pt x="584" y="54"/>
                </a:lnTo>
                <a:lnTo>
                  <a:pt x="584" y="52"/>
                </a:lnTo>
                <a:lnTo>
                  <a:pt x="570" y="44"/>
                </a:lnTo>
                <a:lnTo>
                  <a:pt x="562" y="50"/>
                </a:lnTo>
                <a:lnTo>
                  <a:pt x="560" y="52"/>
                </a:lnTo>
                <a:lnTo>
                  <a:pt x="552" y="50"/>
                </a:lnTo>
                <a:lnTo>
                  <a:pt x="544" y="54"/>
                </a:lnTo>
                <a:lnTo>
                  <a:pt x="542" y="56"/>
                </a:lnTo>
                <a:lnTo>
                  <a:pt x="530" y="58"/>
                </a:lnTo>
                <a:lnTo>
                  <a:pt x="484" y="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辽宁"/>
          <p:cNvSpPr/>
          <p:nvPr/>
        </p:nvSpPr>
        <p:spPr>
          <a:xfrm>
            <a:off x="1108080" y="3019320"/>
            <a:ext cx="1447920" cy="13780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378080"/>
              <a:gd name="textAreaBottom" fmla="*/ 1378440 h 1378080"/>
            </a:gdLst>
            <a:ahLst/>
            <a:rect l="textAreaLeft" t="textAreaTop" r="textAreaRight" b="textAreaBottom"/>
            <a:pathLst>
              <a:path w="376" h="358">
                <a:moveTo>
                  <a:pt x="172" y="46"/>
                </a:moveTo>
                <a:lnTo>
                  <a:pt x="162" y="60"/>
                </a:lnTo>
                <a:lnTo>
                  <a:pt x="160" y="64"/>
                </a:lnTo>
                <a:lnTo>
                  <a:pt x="160" y="74"/>
                </a:lnTo>
                <a:lnTo>
                  <a:pt x="160" y="80"/>
                </a:lnTo>
                <a:lnTo>
                  <a:pt x="142" y="80"/>
                </a:lnTo>
                <a:lnTo>
                  <a:pt x="140" y="80"/>
                </a:lnTo>
                <a:lnTo>
                  <a:pt x="128" y="76"/>
                </a:lnTo>
                <a:lnTo>
                  <a:pt x="116" y="92"/>
                </a:lnTo>
                <a:lnTo>
                  <a:pt x="102" y="100"/>
                </a:lnTo>
                <a:lnTo>
                  <a:pt x="92" y="112"/>
                </a:lnTo>
                <a:lnTo>
                  <a:pt x="90" y="116"/>
                </a:lnTo>
                <a:lnTo>
                  <a:pt x="70" y="138"/>
                </a:lnTo>
                <a:lnTo>
                  <a:pt x="70" y="140"/>
                </a:lnTo>
                <a:lnTo>
                  <a:pt x="68" y="140"/>
                </a:lnTo>
                <a:lnTo>
                  <a:pt x="54" y="148"/>
                </a:lnTo>
                <a:lnTo>
                  <a:pt x="42" y="140"/>
                </a:lnTo>
                <a:lnTo>
                  <a:pt x="42" y="138"/>
                </a:lnTo>
                <a:lnTo>
                  <a:pt x="30" y="126"/>
                </a:lnTo>
                <a:lnTo>
                  <a:pt x="24" y="122"/>
                </a:lnTo>
                <a:lnTo>
                  <a:pt x="28" y="156"/>
                </a:lnTo>
                <a:lnTo>
                  <a:pt x="34" y="172"/>
                </a:lnTo>
                <a:lnTo>
                  <a:pt x="22" y="184"/>
                </a:lnTo>
                <a:lnTo>
                  <a:pt x="4" y="208"/>
                </a:lnTo>
                <a:lnTo>
                  <a:pt x="4" y="220"/>
                </a:lnTo>
                <a:lnTo>
                  <a:pt x="0" y="226"/>
                </a:lnTo>
                <a:lnTo>
                  <a:pt x="2" y="232"/>
                </a:lnTo>
                <a:lnTo>
                  <a:pt x="8" y="232"/>
                </a:lnTo>
                <a:lnTo>
                  <a:pt x="32" y="238"/>
                </a:lnTo>
                <a:lnTo>
                  <a:pt x="34" y="238"/>
                </a:lnTo>
                <a:lnTo>
                  <a:pt x="34" y="240"/>
                </a:lnTo>
                <a:lnTo>
                  <a:pt x="40" y="244"/>
                </a:lnTo>
                <a:lnTo>
                  <a:pt x="46" y="248"/>
                </a:lnTo>
                <a:lnTo>
                  <a:pt x="48" y="248"/>
                </a:lnTo>
                <a:lnTo>
                  <a:pt x="50" y="252"/>
                </a:lnTo>
                <a:lnTo>
                  <a:pt x="52" y="258"/>
                </a:lnTo>
                <a:lnTo>
                  <a:pt x="54" y="264"/>
                </a:lnTo>
                <a:lnTo>
                  <a:pt x="78" y="272"/>
                </a:lnTo>
                <a:lnTo>
                  <a:pt x="86" y="270"/>
                </a:lnTo>
                <a:lnTo>
                  <a:pt x="92" y="260"/>
                </a:lnTo>
                <a:lnTo>
                  <a:pt x="112" y="224"/>
                </a:lnTo>
                <a:lnTo>
                  <a:pt x="122" y="212"/>
                </a:lnTo>
                <a:lnTo>
                  <a:pt x="122" y="210"/>
                </a:lnTo>
                <a:lnTo>
                  <a:pt x="138" y="204"/>
                </a:lnTo>
                <a:lnTo>
                  <a:pt x="148" y="202"/>
                </a:lnTo>
                <a:lnTo>
                  <a:pt x="154" y="196"/>
                </a:lnTo>
                <a:lnTo>
                  <a:pt x="160" y="192"/>
                </a:lnTo>
                <a:lnTo>
                  <a:pt x="164" y="194"/>
                </a:lnTo>
                <a:lnTo>
                  <a:pt x="172" y="198"/>
                </a:lnTo>
                <a:lnTo>
                  <a:pt x="174" y="198"/>
                </a:lnTo>
                <a:lnTo>
                  <a:pt x="174" y="200"/>
                </a:lnTo>
                <a:lnTo>
                  <a:pt x="188" y="220"/>
                </a:lnTo>
                <a:lnTo>
                  <a:pt x="188" y="222"/>
                </a:lnTo>
                <a:lnTo>
                  <a:pt x="190" y="238"/>
                </a:lnTo>
                <a:lnTo>
                  <a:pt x="188" y="254"/>
                </a:lnTo>
                <a:lnTo>
                  <a:pt x="184" y="268"/>
                </a:lnTo>
                <a:lnTo>
                  <a:pt x="184" y="270"/>
                </a:lnTo>
                <a:lnTo>
                  <a:pt x="174" y="284"/>
                </a:lnTo>
                <a:lnTo>
                  <a:pt x="168" y="294"/>
                </a:lnTo>
                <a:lnTo>
                  <a:pt x="170" y="312"/>
                </a:lnTo>
                <a:lnTo>
                  <a:pt x="172" y="312"/>
                </a:lnTo>
                <a:lnTo>
                  <a:pt x="176" y="308"/>
                </a:lnTo>
                <a:lnTo>
                  <a:pt x="184" y="304"/>
                </a:lnTo>
                <a:lnTo>
                  <a:pt x="184" y="302"/>
                </a:lnTo>
                <a:lnTo>
                  <a:pt x="186" y="300"/>
                </a:lnTo>
                <a:lnTo>
                  <a:pt x="194" y="308"/>
                </a:lnTo>
                <a:lnTo>
                  <a:pt x="194" y="320"/>
                </a:lnTo>
                <a:lnTo>
                  <a:pt x="192" y="320"/>
                </a:lnTo>
                <a:lnTo>
                  <a:pt x="186" y="324"/>
                </a:lnTo>
                <a:lnTo>
                  <a:pt x="184" y="328"/>
                </a:lnTo>
                <a:lnTo>
                  <a:pt x="184" y="334"/>
                </a:lnTo>
                <a:lnTo>
                  <a:pt x="182" y="336"/>
                </a:lnTo>
                <a:lnTo>
                  <a:pt x="178" y="344"/>
                </a:lnTo>
                <a:lnTo>
                  <a:pt x="176" y="344"/>
                </a:lnTo>
                <a:lnTo>
                  <a:pt x="168" y="346"/>
                </a:lnTo>
                <a:lnTo>
                  <a:pt x="162" y="348"/>
                </a:lnTo>
                <a:lnTo>
                  <a:pt x="158" y="356"/>
                </a:lnTo>
                <a:lnTo>
                  <a:pt x="158" y="358"/>
                </a:lnTo>
                <a:lnTo>
                  <a:pt x="184" y="354"/>
                </a:lnTo>
                <a:lnTo>
                  <a:pt x="190" y="350"/>
                </a:lnTo>
                <a:lnTo>
                  <a:pt x="198" y="328"/>
                </a:lnTo>
                <a:lnTo>
                  <a:pt x="258" y="266"/>
                </a:lnTo>
                <a:lnTo>
                  <a:pt x="260" y="266"/>
                </a:lnTo>
                <a:lnTo>
                  <a:pt x="272" y="260"/>
                </a:lnTo>
                <a:lnTo>
                  <a:pt x="284" y="260"/>
                </a:lnTo>
                <a:lnTo>
                  <a:pt x="294" y="258"/>
                </a:lnTo>
                <a:lnTo>
                  <a:pt x="304" y="252"/>
                </a:lnTo>
                <a:lnTo>
                  <a:pt x="312" y="244"/>
                </a:lnTo>
                <a:lnTo>
                  <a:pt x="326" y="208"/>
                </a:lnTo>
                <a:lnTo>
                  <a:pt x="376" y="156"/>
                </a:lnTo>
                <a:lnTo>
                  <a:pt x="372" y="128"/>
                </a:lnTo>
                <a:lnTo>
                  <a:pt x="368" y="126"/>
                </a:lnTo>
                <a:lnTo>
                  <a:pt x="364" y="122"/>
                </a:lnTo>
                <a:lnTo>
                  <a:pt x="364" y="120"/>
                </a:lnTo>
                <a:lnTo>
                  <a:pt x="364" y="122"/>
                </a:lnTo>
                <a:lnTo>
                  <a:pt x="356" y="122"/>
                </a:lnTo>
                <a:lnTo>
                  <a:pt x="350" y="120"/>
                </a:lnTo>
                <a:lnTo>
                  <a:pt x="346" y="116"/>
                </a:lnTo>
                <a:lnTo>
                  <a:pt x="344" y="110"/>
                </a:lnTo>
                <a:lnTo>
                  <a:pt x="342" y="108"/>
                </a:lnTo>
                <a:lnTo>
                  <a:pt x="342" y="66"/>
                </a:lnTo>
                <a:lnTo>
                  <a:pt x="336" y="62"/>
                </a:lnTo>
                <a:lnTo>
                  <a:pt x="328" y="56"/>
                </a:lnTo>
                <a:lnTo>
                  <a:pt x="316" y="44"/>
                </a:lnTo>
                <a:lnTo>
                  <a:pt x="308" y="30"/>
                </a:lnTo>
                <a:lnTo>
                  <a:pt x="306" y="24"/>
                </a:lnTo>
                <a:lnTo>
                  <a:pt x="306" y="16"/>
                </a:lnTo>
                <a:lnTo>
                  <a:pt x="308" y="12"/>
                </a:lnTo>
                <a:lnTo>
                  <a:pt x="302" y="4"/>
                </a:lnTo>
                <a:lnTo>
                  <a:pt x="300" y="10"/>
                </a:lnTo>
                <a:lnTo>
                  <a:pt x="294" y="24"/>
                </a:lnTo>
                <a:lnTo>
                  <a:pt x="292" y="24"/>
                </a:lnTo>
                <a:lnTo>
                  <a:pt x="282" y="24"/>
                </a:lnTo>
                <a:lnTo>
                  <a:pt x="274" y="20"/>
                </a:lnTo>
                <a:lnTo>
                  <a:pt x="270" y="16"/>
                </a:lnTo>
                <a:lnTo>
                  <a:pt x="268" y="10"/>
                </a:lnTo>
                <a:lnTo>
                  <a:pt x="268" y="8"/>
                </a:lnTo>
                <a:lnTo>
                  <a:pt x="264" y="8"/>
                </a:lnTo>
                <a:lnTo>
                  <a:pt x="248" y="12"/>
                </a:lnTo>
                <a:lnTo>
                  <a:pt x="236" y="0"/>
                </a:lnTo>
                <a:lnTo>
                  <a:pt x="232" y="0"/>
                </a:lnTo>
                <a:lnTo>
                  <a:pt x="228" y="4"/>
                </a:lnTo>
                <a:lnTo>
                  <a:pt x="234" y="12"/>
                </a:lnTo>
                <a:lnTo>
                  <a:pt x="236" y="14"/>
                </a:lnTo>
                <a:lnTo>
                  <a:pt x="228" y="30"/>
                </a:lnTo>
                <a:lnTo>
                  <a:pt x="226" y="30"/>
                </a:lnTo>
                <a:lnTo>
                  <a:pt x="226" y="32"/>
                </a:lnTo>
                <a:lnTo>
                  <a:pt x="212" y="48"/>
                </a:lnTo>
                <a:lnTo>
                  <a:pt x="210" y="48"/>
                </a:lnTo>
                <a:lnTo>
                  <a:pt x="208" y="48"/>
                </a:lnTo>
                <a:lnTo>
                  <a:pt x="186" y="50"/>
                </a:lnTo>
                <a:lnTo>
                  <a:pt x="172" y="4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四川"/>
          <p:cNvSpPr/>
          <p:nvPr/>
        </p:nvSpPr>
        <p:spPr>
          <a:xfrm>
            <a:off x="5156280" y="1382760"/>
            <a:ext cx="1385640" cy="1216080"/>
          </a:xfrm>
          <a:custGeom>
            <a:avLst/>
            <a:gdLst>
              <a:gd name="textAreaLeft" fmla="*/ 0 w 1385640"/>
              <a:gd name="textAreaRight" fmla="*/ 1386000 w 138564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湖北"/>
          <p:cNvSpPr/>
          <p:nvPr/>
        </p:nvSpPr>
        <p:spPr>
          <a:xfrm>
            <a:off x="971640" y="1411200"/>
            <a:ext cx="1658880" cy="104004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488" h="306">
                <a:moveTo>
                  <a:pt x="62" y="2"/>
                </a:moveTo>
                <a:lnTo>
                  <a:pt x="60" y="4"/>
                </a:lnTo>
                <a:lnTo>
                  <a:pt x="64" y="10"/>
                </a:lnTo>
                <a:lnTo>
                  <a:pt x="86" y="24"/>
                </a:lnTo>
                <a:lnTo>
                  <a:pt x="100" y="38"/>
                </a:lnTo>
                <a:lnTo>
                  <a:pt x="98" y="40"/>
                </a:lnTo>
                <a:lnTo>
                  <a:pt x="90" y="50"/>
                </a:lnTo>
                <a:lnTo>
                  <a:pt x="88" y="50"/>
                </a:lnTo>
                <a:lnTo>
                  <a:pt x="88" y="52"/>
                </a:lnTo>
                <a:lnTo>
                  <a:pt x="74" y="52"/>
                </a:lnTo>
                <a:lnTo>
                  <a:pt x="66" y="54"/>
                </a:lnTo>
                <a:lnTo>
                  <a:pt x="60" y="58"/>
                </a:lnTo>
                <a:lnTo>
                  <a:pt x="64" y="66"/>
                </a:lnTo>
                <a:lnTo>
                  <a:pt x="64" y="74"/>
                </a:lnTo>
                <a:lnTo>
                  <a:pt x="72" y="86"/>
                </a:lnTo>
                <a:lnTo>
                  <a:pt x="72" y="108"/>
                </a:lnTo>
                <a:lnTo>
                  <a:pt x="78" y="110"/>
                </a:lnTo>
                <a:lnTo>
                  <a:pt x="88" y="114"/>
                </a:lnTo>
                <a:lnTo>
                  <a:pt x="90" y="114"/>
                </a:lnTo>
                <a:lnTo>
                  <a:pt x="92" y="116"/>
                </a:lnTo>
                <a:lnTo>
                  <a:pt x="102" y="130"/>
                </a:lnTo>
                <a:lnTo>
                  <a:pt x="108" y="146"/>
                </a:lnTo>
                <a:lnTo>
                  <a:pt x="108" y="156"/>
                </a:lnTo>
                <a:lnTo>
                  <a:pt x="106" y="164"/>
                </a:lnTo>
                <a:lnTo>
                  <a:pt x="104" y="170"/>
                </a:lnTo>
                <a:lnTo>
                  <a:pt x="94" y="178"/>
                </a:lnTo>
                <a:lnTo>
                  <a:pt x="80" y="184"/>
                </a:lnTo>
                <a:lnTo>
                  <a:pt x="54" y="200"/>
                </a:lnTo>
                <a:lnTo>
                  <a:pt x="52" y="200"/>
                </a:lnTo>
                <a:lnTo>
                  <a:pt x="4" y="204"/>
                </a:lnTo>
                <a:lnTo>
                  <a:pt x="0" y="216"/>
                </a:lnTo>
                <a:lnTo>
                  <a:pt x="8" y="232"/>
                </a:lnTo>
                <a:lnTo>
                  <a:pt x="8" y="234"/>
                </a:lnTo>
                <a:lnTo>
                  <a:pt x="12" y="254"/>
                </a:lnTo>
                <a:lnTo>
                  <a:pt x="38" y="286"/>
                </a:lnTo>
                <a:lnTo>
                  <a:pt x="40" y="286"/>
                </a:lnTo>
                <a:lnTo>
                  <a:pt x="50" y="306"/>
                </a:lnTo>
                <a:lnTo>
                  <a:pt x="52" y="302"/>
                </a:lnTo>
                <a:lnTo>
                  <a:pt x="60" y="278"/>
                </a:lnTo>
                <a:lnTo>
                  <a:pt x="60" y="276"/>
                </a:lnTo>
                <a:lnTo>
                  <a:pt x="76" y="256"/>
                </a:lnTo>
                <a:lnTo>
                  <a:pt x="78" y="254"/>
                </a:lnTo>
                <a:lnTo>
                  <a:pt x="98" y="246"/>
                </a:lnTo>
                <a:lnTo>
                  <a:pt x="100" y="246"/>
                </a:lnTo>
                <a:lnTo>
                  <a:pt x="112" y="254"/>
                </a:lnTo>
                <a:lnTo>
                  <a:pt x="128" y="252"/>
                </a:lnTo>
                <a:lnTo>
                  <a:pt x="124" y="224"/>
                </a:lnTo>
                <a:lnTo>
                  <a:pt x="126" y="222"/>
                </a:lnTo>
                <a:lnTo>
                  <a:pt x="142" y="222"/>
                </a:lnTo>
                <a:lnTo>
                  <a:pt x="158" y="222"/>
                </a:lnTo>
                <a:lnTo>
                  <a:pt x="160" y="222"/>
                </a:lnTo>
                <a:lnTo>
                  <a:pt x="192" y="238"/>
                </a:lnTo>
                <a:lnTo>
                  <a:pt x="218" y="242"/>
                </a:lnTo>
                <a:lnTo>
                  <a:pt x="220" y="242"/>
                </a:lnTo>
                <a:lnTo>
                  <a:pt x="228" y="250"/>
                </a:lnTo>
                <a:lnTo>
                  <a:pt x="242" y="254"/>
                </a:lnTo>
                <a:lnTo>
                  <a:pt x="250" y="262"/>
                </a:lnTo>
                <a:lnTo>
                  <a:pt x="254" y="264"/>
                </a:lnTo>
                <a:lnTo>
                  <a:pt x="264" y="256"/>
                </a:lnTo>
                <a:lnTo>
                  <a:pt x="264" y="254"/>
                </a:lnTo>
                <a:lnTo>
                  <a:pt x="276" y="244"/>
                </a:lnTo>
                <a:lnTo>
                  <a:pt x="284" y="230"/>
                </a:lnTo>
                <a:lnTo>
                  <a:pt x="296" y="238"/>
                </a:lnTo>
                <a:lnTo>
                  <a:pt x="296" y="240"/>
                </a:lnTo>
                <a:lnTo>
                  <a:pt x="300" y="250"/>
                </a:lnTo>
                <a:lnTo>
                  <a:pt x="300" y="252"/>
                </a:lnTo>
                <a:lnTo>
                  <a:pt x="298" y="258"/>
                </a:lnTo>
                <a:lnTo>
                  <a:pt x="300" y="260"/>
                </a:lnTo>
                <a:lnTo>
                  <a:pt x="308" y="256"/>
                </a:lnTo>
                <a:lnTo>
                  <a:pt x="318" y="246"/>
                </a:lnTo>
                <a:lnTo>
                  <a:pt x="328" y="246"/>
                </a:lnTo>
                <a:lnTo>
                  <a:pt x="330" y="246"/>
                </a:lnTo>
                <a:lnTo>
                  <a:pt x="336" y="250"/>
                </a:lnTo>
                <a:lnTo>
                  <a:pt x="342" y="258"/>
                </a:lnTo>
                <a:lnTo>
                  <a:pt x="342" y="260"/>
                </a:lnTo>
                <a:lnTo>
                  <a:pt x="342" y="264"/>
                </a:lnTo>
                <a:lnTo>
                  <a:pt x="340" y="282"/>
                </a:lnTo>
                <a:lnTo>
                  <a:pt x="346" y="290"/>
                </a:lnTo>
                <a:lnTo>
                  <a:pt x="348" y="290"/>
                </a:lnTo>
                <a:lnTo>
                  <a:pt x="360" y="278"/>
                </a:lnTo>
                <a:lnTo>
                  <a:pt x="372" y="268"/>
                </a:lnTo>
                <a:lnTo>
                  <a:pt x="380" y="262"/>
                </a:lnTo>
                <a:lnTo>
                  <a:pt x="388" y="260"/>
                </a:lnTo>
                <a:lnTo>
                  <a:pt x="408" y="260"/>
                </a:lnTo>
                <a:lnTo>
                  <a:pt x="414" y="250"/>
                </a:lnTo>
                <a:lnTo>
                  <a:pt x="430" y="242"/>
                </a:lnTo>
                <a:lnTo>
                  <a:pt x="432" y="242"/>
                </a:lnTo>
                <a:lnTo>
                  <a:pt x="452" y="240"/>
                </a:lnTo>
                <a:lnTo>
                  <a:pt x="474" y="228"/>
                </a:lnTo>
                <a:lnTo>
                  <a:pt x="488" y="228"/>
                </a:lnTo>
                <a:lnTo>
                  <a:pt x="484" y="222"/>
                </a:lnTo>
                <a:lnTo>
                  <a:pt x="486" y="220"/>
                </a:lnTo>
                <a:lnTo>
                  <a:pt x="488" y="216"/>
                </a:lnTo>
                <a:lnTo>
                  <a:pt x="460" y="154"/>
                </a:lnTo>
                <a:lnTo>
                  <a:pt x="460" y="152"/>
                </a:lnTo>
                <a:lnTo>
                  <a:pt x="458" y="150"/>
                </a:lnTo>
                <a:lnTo>
                  <a:pt x="472" y="134"/>
                </a:lnTo>
                <a:lnTo>
                  <a:pt x="468" y="130"/>
                </a:lnTo>
                <a:lnTo>
                  <a:pt x="446" y="126"/>
                </a:lnTo>
                <a:lnTo>
                  <a:pt x="444" y="126"/>
                </a:lnTo>
                <a:lnTo>
                  <a:pt x="444" y="124"/>
                </a:lnTo>
                <a:lnTo>
                  <a:pt x="430" y="110"/>
                </a:lnTo>
                <a:lnTo>
                  <a:pt x="430" y="106"/>
                </a:lnTo>
                <a:lnTo>
                  <a:pt x="428" y="108"/>
                </a:lnTo>
                <a:lnTo>
                  <a:pt x="416" y="100"/>
                </a:lnTo>
                <a:lnTo>
                  <a:pt x="408" y="108"/>
                </a:lnTo>
                <a:lnTo>
                  <a:pt x="400" y="114"/>
                </a:lnTo>
                <a:lnTo>
                  <a:pt x="394" y="114"/>
                </a:lnTo>
                <a:lnTo>
                  <a:pt x="388" y="110"/>
                </a:lnTo>
                <a:lnTo>
                  <a:pt x="382" y="104"/>
                </a:lnTo>
                <a:lnTo>
                  <a:pt x="372" y="94"/>
                </a:lnTo>
                <a:lnTo>
                  <a:pt x="366" y="86"/>
                </a:lnTo>
                <a:lnTo>
                  <a:pt x="362" y="86"/>
                </a:lnTo>
                <a:lnTo>
                  <a:pt x="352" y="90"/>
                </a:lnTo>
                <a:lnTo>
                  <a:pt x="334" y="94"/>
                </a:lnTo>
                <a:lnTo>
                  <a:pt x="328" y="94"/>
                </a:lnTo>
                <a:lnTo>
                  <a:pt x="324" y="94"/>
                </a:lnTo>
                <a:lnTo>
                  <a:pt x="322" y="90"/>
                </a:lnTo>
                <a:lnTo>
                  <a:pt x="320" y="84"/>
                </a:lnTo>
                <a:lnTo>
                  <a:pt x="320" y="70"/>
                </a:lnTo>
                <a:lnTo>
                  <a:pt x="322" y="60"/>
                </a:lnTo>
                <a:lnTo>
                  <a:pt x="320" y="54"/>
                </a:lnTo>
                <a:lnTo>
                  <a:pt x="216" y="50"/>
                </a:lnTo>
                <a:lnTo>
                  <a:pt x="202" y="44"/>
                </a:lnTo>
                <a:lnTo>
                  <a:pt x="194" y="38"/>
                </a:lnTo>
                <a:lnTo>
                  <a:pt x="178" y="34"/>
                </a:lnTo>
                <a:lnTo>
                  <a:pt x="172" y="30"/>
                </a:lnTo>
                <a:lnTo>
                  <a:pt x="164" y="24"/>
                </a:lnTo>
                <a:lnTo>
                  <a:pt x="144" y="0"/>
                </a:lnTo>
                <a:lnTo>
                  <a:pt x="132" y="10"/>
                </a:lnTo>
                <a:lnTo>
                  <a:pt x="116" y="4"/>
                </a:lnTo>
                <a:lnTo>
                  <a:pt x="74" y="6"/>
                </a:lnTo>
                <a:lnTo>
                  <a:pt x="62" y="2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Oval 45"/>
          <p:cNvSpPr/>
          <p:nvPr/>
        </p:nvSpPr>
        <p:spPr>
          <a:xfrm>
            <a:off x="143676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Oval 48"/>
          <p:cNvSpPr/>
          <p:nvPr/>
        </p:nvSpPr>
        <p:spPr>
          <a:xfrm>
            <a:off x="573084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Oval 51"/>
          <p:cNvSpPr/>
          <p:nvPr/>
        </p:nvSpPr>
        <p:spPr>
          <a:xfrm>
            <a:off x="143676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Oval 54"/>
          <p:cNvSpPr/>
          <p:nvPr/>
        </p:nvSpPr>
        <p:spPr>
          <a:xfrm>
            <a:off x="573084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TextBox 54"/>
          <p:cNvSpPr/>
          <p:nvPr/>
        </p:nvSpPr>
        <p:spPr>
          <a:xfrm>
            <a:off x="27892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TextBox 55"/>
          <p:cNvSpPr/>
          <p:nvPr/>
        </p:nvSpPr>
        <p:spPr>
          <a:xfrm>
            <a:off x="31654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Rectangle 42"/>
          <p:cNvSpPr/>
          <p:nvPr/>
        </p:nvSpPr>
        <p:spPr>
          <a:xfrm>
            <a:off x="28893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TextBox 57"/>
          <p:cNvSpPr/>
          <p:nvPr/>
        </p:nvSpPr>
        <p:spPr>
          <a:xfrm>
            <a:off x="66754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TextBox 58"/>
          <p:cNvSpPr/>
          <p:nvPr/>
        </p:nvSpPr>
        <p:spPr>
          <a:xfrm>
            <a:off x="70516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Rectangle 42"/>
          <p:cNvSpPr/>
          <p:nvPr/>
        </p:nvSpPr>
        <p:spPr>
          <a:xfrm>
            <a:off x="67737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TextBox 60"/>
          <p:cNvSpPr/>
          <p:nvPr/>
        </p:nvSpPr>
        <p:spPr>
          <a:xfrm>
            <a:off x="27892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TextBox 61"/>
          <p:cNvSpPr/>
          <p:nvPr/>
        </p:nvSpPr>
        <p:spPr>
          <a:xfrm>
            <a:off x="31654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Rectangle 42"/>
          <p:cNvSpPr/>
          <p:nvPr/>
        </p:nvSpPr>
        <p:spPr>
          <a:xfrm>
            <a:off x="28893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Box 63"/>
          <p:cNvSpPr/>
          <p:nvPr/>
        </p:nvSpPr>
        <p:spPr>
          <a:xfrm>
            <a:off x="66754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Box 64"/>
          <p:cNvSpPr/>
          <p:nvPr/>
        </p:nvSpPr>
        <p:spPr>
          <a:xfrm>
            <a:off x="70516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Rectangle 42"/>
          <p:cNvSpPr/>
          <p:nvPr/>
        </p:nvSpPr>
        <p:spPr>
          <a:xfrm>
            <a:off x="67737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970" dur="indefinite" restart="never" nodeType="tmRoot">
          <p:childTnLst>
            <p:seq>
              <p:cTn id="971" dur="indefinite" nodeType="mainSeq">
                <p:childTnLst>
                  <p:par>
                    <p:cTn id="972" nodeType="clickEffect" fill="hold">
                      <p:stCondLst>
                        <p:cond delay="0"/>
                      </p:stCondLst>
                      <p:childTnLst>
                        <p:par>
                          <p:cTn id="9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7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79" dur="1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4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5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1" dur="10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7" dur="10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1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4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0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3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3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8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9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630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31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632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3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3" name="TextBox 28"/>
          <p:cNvSpPr/>
          <p:nvPr/>
        </p:nvSpPr>
        <p:spPr>
          <a:xfrm>
            <a:off x="5508720" y="20066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Freeform 635"/>
          <p:cNvSpPr/>
          <p:nvPr/>
        </p:nvSpPr>
        <p:spPr>
          <a:xfrm>
            <a:off x="766800" y="2181240"/>
            <a:ext cx="4597200" cy="2205000"/>
          </a:xfrm>
          <a:custGeom>
            <a:avLst/>
            <a:gdLst>
              <a:gd name="textAreaLeft" fmla="*/ 0 w 4597200"/>
              <a:gd name="textAreaRight" fmla="*/ 4597560 w 4597200"/>
              <a:gd name="textAreaTop" fmla="*/ 0 h 2205000"/>
              <a:gd name="textAreaBottom" fmla="*/ 2205360 h 2205000"/>
            </a:gdLst>
            <a:ahLst/>
            <a:rect l="textAreaLeft" t="textAreaTop" r="textAreaRight" b="textAreaBottom"/>
            <a:pathLst>
              <a:path w="4150" h="1798">
                <a:moveTo>
                  <a:pt x="3592" y="1222"/>
                </a:moveTo>
                <a:lnTo>
                  <a:pt x="3592" y="1229"/>
                </a:lnTo>
                <a:lnTo>
                  <a:pt x="3589" y="1236"/>
                </a:lnTo>
                <a:lnTo>
                  <a:pt x="3587" y="1255"/>
                </a:lnTo>
                <a:lnTo>
                  <a:pt x="3587" y="1277"/>
                </a:lnTo>
                <a:lnTo>
                  <a:pt x="3582" y="1296"/>
                </a:lnTo>
                <a:lnTo>
                  <a:pt x="3573" y="1307"/>
                </a:lnTo>
                <a:lnTo>
                  <a:pt x="3570" y="1307"/>
                </a:lnTo>
                <a:lnTo>
                  <a:pt x="3563" y="1303"/>
                </a:lnTo>
                <a:lnTo>
                  <a:pt x="3559" y="1296"/>
                </a:lnTo>
                <a:lnTo>
                  <a:pt x="3537" y="1286"/>
                </a:lnTo>
                <a:lnTo>
                  <a:pt x="3518" y="1272"/>
                </a:lnTo>
                <a:lnTo>
                  <a:pt x="3521" y="1262"/>
                </a:lnTo>
                <a:lnTo>
                  <a:pt x="3523" y="1253"/>
                </a:lnTo>
                <a:lnTo>
                  <a:pt x="3526" y="1251"/>
                </a:lnTo>
                <a:lnTo>
                  <a:pt x="3530" y="1251"/>
                </a:lnTo>
                <a:lnTo>
                  <a:pt x="3533" y="1243"/>
                </a:lnTo>
                <a:lnTo>
                  <a:pt x="3535" y="1236"/>
                </a:lnTo>
                <a:lnTo>
                  <a:pt x="3533" y="1236"/>
                </a:lnTo>
                <a:lnTo>
                  <a:pt x="3530" y="1236"/>
                </a:lnTo>
                <a:lnTo>
                  <a:pt x="3526" y="1236"/>
                </a:lnTo>
                <a:lnTo>
                  <a:pt x="3521" y="1236"/>
                </a:lnTo>
                <a:lnTo>
                  <a:pt x="3521" y="1234"/>
                </a:lnTo>
                <a:lnTo>
                  <a:pt x="3518" y="1236"/>
                </a:lnTo>
                <a:lnTo>
                  <a:pt x="3516" y="1236"/>
                </a:lnTo>
                <a:lnTo>
                  <a:pt x="3495" y="1229"/>
                </a:lnTo>
                <a:lnTo>
                  <a:pt x="3478" y="1224"/>
                </a:lnTo>
                <a:lnTo>
                  <a:pt x="3476" y="1224"/>
                </a:lnTo>
                <a:lnTo>
                  <a:pt x="3476" y="1229"/>
                </a:lnTo>
                <a:lnTo>
                  <a:pt x="3478" y="1229"/>
                </a:lnTo>
                <a:lnTo>
                  <a:pt x="3483" y="1229"/>
                </a:lnTo>
                <a:lnTo>
                  <a:pt x="3478" y="1239"/>
                </a:lnTo>
                <a:lnTo>
                  <a:pt x="3466" y="1236"/>
                </a:lnTo>
                <a:lnTo>
                  <a:pt x="3455" y="1251"/>
                </a:lnTo>
                <a:lnTo>
                  <a:pt x="3447" y="1267"/>
                </a:lnTo>
                <a:lnTo>
                  <a:pt x="3450" y="1272"/>
                </a:lnTo>
                <a:lnTo>
                  <a:pt x="3440" y="1272"/>
                </a:lnTo>
                <a:lnTo>
                  <a:pt x="3433" y="1272"/>
                </a:lnTo>
                <a:lnTo>
                  <a:pt x="3426" y="1262"/>
                </a:lnTo>
                <a:lnTo>
                  <a:pt x="3417" y="1258"/>
                </a:lnTo>
                <a:lnTo>
                  <a:pt x="3414" y="1260"/>
                </a:lnTo>
                <a:lnTo>
                  <a:pt x="3412" y="1260"/>
                </a:lnTo>
                <a:lnTo>
                  <a:pt x="3410" y="1260"/>
                </a:lnTo>
                <a:lnTo>
                  <a:pt x="3407" y="1260"/>
                </a:lnTo>
                <a:lnTo>
                  <a:pt x="3407" y="1262"/>
                </a:lnTo>
                <a:lnTo>
                  <a:pt x="3407" y="1267"/>
                </a:lnTo>
                <a:lnTo>
                  <a:pt x="3402" y="1265"/>
                </a:lnTo>
                <a:lnTo>
                  <a:pt x="3400" y="1265"/>
                </a:lnTo>
                <a:lnTo>
                  <a:pt x="3398" y="1269"/>
                </a:lnTo>
                <a:lnTo>
                  <a:pt x="3395" y="1274"/>
                </a:lnTo>
                <a:lnTo>
                  <a:pt x="3391" y="1279"/>
                </a:lnTo>
                <a:lnTo>
                  <a:pt x="3388" y="1281"/>
                </a:lnTo>
                <a:lnTo>
                  <a:pt x="3388" y="1286"/>
                </a:lnTo>
                <a:lnTo>
                  <a:pt x="3388" y="1291"/>
                </a:lnTo>
                <a:lnTo>
                  <a:pt x="3384" y="1291"/>
                </a:lnTo>
                <a:lnTo>
                  <a:pt x="3379" y="1291"/>
                </a:lnTo>
                <a:lnTo>
                  <a:pt x="3379" y="1296"/>
                </a:lnTo>
                <a:lnTo>
                  <a:pt x="3381" y="1300"/>
                </a:lnTo>
                <a:lnTo>
                  <a:pt x="3379" y="1300"/>
                </a:lnTo>
                <a:lnTo>
                  <a:pt x="3376" y="1300"/>
                </a:lnTo>
                <a:lnTo>
                  <a:pt x="3374" y="1296"/>
                </a:lnTo>
                <a:lnTo>
                  <a:pt x="3369" y="1293"/>
                </a:lnTo>
                <a:lnTo>
                  <a:pt x="3369" y="1296"/>
                </a:lnTo>
                <a:lnTo>
                  <a:pt x="3365" y="1298"/>
                </a:lnTo>
                <a:lnTo>
                  <a:pt x="3362" y="1300"/>
                </a:lnTo>
                <a:lnTo>
                  <a:pt x="3362" y="1307"/>
                </a:lnTo>
                <a:lnTo>
                  <a:pt x="3362" y="1314"/>
                </a:lnTo>
                <a:lnTo>
                  <a:pt x="3346" y="1333"/>
                </a:lnTo>
                <a:lnTo>
                  <a:pt x="3317" y="1343"/>
                </a:lnTo>
                <a:lnTo>
                  <a:pt x="3305" y="1345"/>
                </a:lnTo>
                <a:lnTo>
                  <a:pt x="3291" y="1350"/>
                </a:lnTo>
                <a:lnTo>
                  <a:pt x="3282" y="1357"/>
                </a:lnTo>
                <a:lnTo>
                  <a:pt x="3272" y="1367"/>
                </a:lnTo>
                <a:lnTo>
                  <a:pt x="3270" y="1367"/>
                </a:lnTo>
                <a:lnTo>
                  <a:pt x="3270" y="1364"/>
                </a:lnTo>
                <a:lnTo>
                  <a:pt x="3270" y="1362"/>
                </a:lnTo>
                <a:lnTo>
                  <a:pt x="3265" y="1367"/>
                </a:lnTo>
                <a:lnTo>
                  <a:pt x="3263" y="1376"/>
                </a:lnTo>
                <a:lnTo>
                  <a:pt x="3263" y="1386"/>
                </a:lnTo>
                <a:lnTo>
                  <a:pt x="3261" y="1393"/>
                </a:lnTo>
                <a:lnTo>
                  <a:pt x="3261" y="1395"/>
                </a:lnTo>
                <a:lnTo>
                  <a:pt x="3265" y="1407"/>
                </a:lnTo>
                <a:lnTo>
                  <a:pt x="3268" y="1419"/>
                </a:lnTo>
                <a:lnTo>
                  <a:pt x="3265" y="1416"/>
                </a:lnTo>
                <a:lnTo>
                  <a:pt x="3265" y="1412"/>
                </a:lnTo>
                <a:lnTo>
                  <a:pt x="3263" y="1412"/>
                </a:lnTo>
                <a:lnTo>
                  <a:pt x="3261" y="1412"/>
                </a:lnTo>
                <a:lnTo>
                  <a:pt x="3261" y="1416"/>
                </a:lnTo>
                <a:lnTo>
                  <a:pt x="3263" y="1419"/>
                </a:lnTo>
                <a:lnTo>
                  <a:pt x="3261" y="1419"/>
                </a:lnTo>
                <a:lnTo>
                  <a:pt x="3261" y="1426"/>
                </a:lnTo>
                <a:lnTo>
                  <a:pt x="3265" y="1431"/>
                </a:lnTo>
                <a:lnTo>
                  <a:pt x="3268" y="1438"/>
                </a:lnTo>
                <a:lnTo>
                  <a:pt x="3270" y="1445"/>
                </a:lnTo>
                <a:lnTo>
                  <a:pt x="3277" y="1459"/>
                </a:lnTo>
                <a:lnTo>
                  <a:pt x="3279" y="1476"/>
                </a:lnTo>
                <a:lnTo>
                  <a:pt x="3284" y="1483"/>
                </a:lnTo>
                <a:lnTo>
                  <a:pt x="3287" y="1492"/>
                </a:lnTo>
                <a:lnTo>
                  <a:pt x="3287" y="1502"/>
                </a:lnTo>
                <a:lnTo>
                  <a:pt x="3287" y="1511"/>
                </a:lnTo>
                <a:lnTo>
                  <a:pt x="3282" y="1514"/>
                </a:lnTo>
                <a:lnTo>
                  <a:pt x="3277" y="1516"/>
                </a:lnTo>
                <a:lnTo>
                  <a:pt x="3287" y="1528"/>
                </a:lnTo>
                <a:lnTo>
                  <a:pt x="3303" y="1535"/>
                </a:lnTo>
                <a:lnTo>
                  <a:pt x="3305" y="1535"/>
                </a:lnTo>
                <a:lnTo>
                  <a:pt x="3310" y="1535"/>
                </a:lnTo>
                <a:lnTo>
                  <a:pt x="3324" y="1528"/>
                </a:lnTo>
                <a:lnTo>
                  <a:pt x="3336" y="1521"/>
                </a:lnTo>
                <a:lnTo>
                  <a:pt x="3353" y="1518"/>
                </a:lnTo>
                <a:lnTo>
                  <a:pt x="3369" y="1521"/>
                </a:lnTo>
                <a:lnTo>
                  <a:pt x="3381" y="1516"/>
                </a:lnTo>
                <a:lnTo>
                  <a:pt x="3388" y="1506"/>
                </a:lnTo>
                <a:lnTo>
                  <a:pt x="3398" y="1504"/>
                </a:lnTo>
                <a:lnTo>
                  <a:pt x="3405" y="1499"/>
                </a:lnTo>
                <a:lnTo>
                  <a:pt x="3414" y="1499"/>
                </a:lnTo>
                <a:lnTo>
                  <a:pt x="3424" y="1497"/>
                </a:lnTo>
                <a:lnTo>
                  <a:pt x="3443" y="1492"/>
                </a:lnTo>
                <a:lnTo>
                  <a:pt x="3462" y="1490"/>
                </a:lnTo>
                <a:lnTo>
                  <a:pt x="3464" y="1490"/>
                </a:lnTo>
                <a:lnTo>
                  <a:pt x="3473" y="1492"/>
                </a:lnTo>
                <a:lnTo>
                  <a:pt x="3483" y="1495"/>
                </a:lnTo>
                <a:lnTo>
                  <a:pt x="3492" y="1497"/>
                </a:lnTo>
                <a:lnTo>
                  <a:pt x="3502" y="1502"/>
                </a:lnTo>
                <a:lnTo>
                  <a:pt x="3502" y="1504"/>
                </a:lnTo>
                <a:lnTo>
                  <a:pt x="3507" y="1514"/>
                </a:lnTo>
                <a:lnTo>
                  <a:pt x="3514" y="1523"/>
                </a:lnTo>
                <a:lnTo>
                  <a:pt x="3514" y="1525"/>
                </a:lnTo>
                <a:lnTo>
                  <a:pt x="3514" y="1528"/>
                </a:lnTo>
                <a:lnTo>
                  <a:pt x="3516" y="1530"/>
                </a:lnTo>
                <a:lnTo>
                  <a:pt x="3521" y="1532"/>
                </a:lnTo>
                <a:lnTo>
                  <a:pt x="3526" y="1528"/>
                </a:lnTo>
                <a:lnTo>
                  <a:pt x="3530" y="1518"/>
                </a:lnTo>
                <a:lnTo>
                  <a:pt x="3537" y="1514"/>
                </a:lnTo>
                <a:lnTo>
                  <a:pt x="3544" y="1509"/>
                </a:lnTo>
                <a:lnTo>
                  <a:pt x="3542" y="1511"/>
                </a:lnTo>
                <a:lnTo>
                  <a:pt x="3542" y="1514"/>
                </a:lnTo>
                <a:lnTo>
                  <a:pt x="3540" y="1523"/>
                </a:lnTo>
                <a:lnTo>
                  <a:pt x="3537" y="1530"/>
                </a:lnTo>
                <a:lnTo>
                  <a:pt x="3535" y="1530"/>
                </a:lnTo>
                <a:lnTo>
                  <a:pt x="3535" y="1535"/>
                </a:lnTo>
                <a:lnTo>
                  <a:pt x="3535" y="1537"/>
                </a:lnTo>
                <a:lnTo>
                  <a:pt x="3540" y="1537"/>
                </a:lnTo>
                <a:lnTo>
                  <a:pt x="3544" y="1535"/>
                </a:lnTo>
                <a:lnTo>
                  <a:pt x="3544" y="1530"/>
                </a:lnTo>
                <a:lnTo>
                  <a:pt x="3547" y="1528"/>
                </a:lnTo>
                <a:lnTo>
                  <a:pt x="3549" y="1528"/>
                </a:lnTo>
                <a:lnTo>
                  <a:pt x="3552" y="1530"/>
                </a:lnTo>
                <a:lnTo>
                  <a:pt x="3549" y="1535"/>
                </a:lnTo>
                <a:lnTo>
                  <a:pt x="3549" y="1542"/>
                </a:lnTo>
                <a:lnTo>
                  <a:pt x="3554" y="1540"/>
                </a:lnTo>
                <a:lnTo>
                  <a:pt x="3559" y="1540"/>
                </a:lnTo>
                <a:lnTo>
                  <a:pt x="3563" y="1547"/>
                </a:lnTo>
                <a:lnTo>
                  <a:pt x="3566" y="1561"/>
                </a:lnTo>
                <a:lnTo>
                  <a:pt x="3575" y="1573"/>
                </a:lnTo>
                <a:lnTo>
                  <a:pt x="3587" y="1577"/>
                </a:lnTo>
                <a:lnTo>
                  <a:pt x="3589" y="1575"/>
                </a:lnTo>
                <a:lnTo>
                  <a:pt x="3592" y="1575"/>
                </a:lnTo>
                <a:lnTo>
                  <a:pt x="3601" y="1580"/>
                </a:lnTo>
                <a:lnTo>
                  <a:pt x="3611" y="1582"/>
                </a:lnTo>
                <a:lnTo>
                  <a:pt x="3618" y="1577"/>
                </a:lnTo>
                <a:lnTo>
                  <a:pt x="3627" y="1573"/>
                </a:lnTo>
                <a:lnTo>
                  <a:pt x="3627" y="1575"/>
                </a:lnTo>
                <a:lnTo>
                  <a:pt x="3627" y="1577"/>
                </a:lnTo>
                <a:lnTo>
                  <a:pt x="3630" y="1577"/>
                </a:lnTo>
                <a:lnTo>
                  <a:pt x="3632" y="1577"/>
                </a:lnTo>
                <a:lnTo>
                  <a:pt x="3637" y="1582"/>
                </a:lnTo>
                <a:lnTo>
                  <a:pt x="3644" y="1585"/>
                </a:lnTo>
                <a:lnTo>
                  <a:pt x="3653" y="1577"/>
                </a:lnTo>
                <a:lnTo>
                  <a:pt x="3663" y="1570"/>
                </a:lnTo>
                <a:lnTo>
                  <a:pt x="3677" y="1570"/>
                </a:lnTo>
                <a:lnTo>
                  <a:pt x="3686" y="1563"/>
                </a:lnTo>
                <a:lnTo>
                  <a:pt x="3686" y="1554"/>
                </a:lnTo>
                <a:lnTo>
                  <a:pt x="3689" y="1547"/>
                </a:lnTo>
                <a:lnTo>
                  <a:pt x="3698" y="1523"/>
                </a:lnTo>
                <a:lnTo>
                  <a:pt x="3710" y="1504"/>
                </a:lnTo>
                <a:lnTo>
                  <a:pt x="3717" y="1495"/>
                </a:lnTo>
                <a:lnTo>
                  <a:pt x="3722" y="1480"/>
                </a:lnTo>
                <a:lnTo>
                  <a:pt x="3724" y="1464"/>
                </a:lnTo>
                <a:lnTo>
                  <a:pt x="3729" y="1452"/>
                </a:lnTo>
                <a:lnTo>
                  <a:pt x="3729" y="1450"/>
                </a:lnTo>
                <a:lnTo>
                  <a:pt x="3727" y="1440"/>
                </a:lnTo>
                <a:lnTo>
                  <a:pt x="3724" y="1433"/>
                </a:lnTo>
                <a:lnTo>
                  <a:pt x="3722" y="1423"/>
                </a:lnTo>
                <a:lnTo>
                  <a:pt x="3722" y="1414"/>
                </a:lnTo>
                <a:lnTo>
                  <a:pt x="3724" y="1409"/>
                </a:lnTo>
                <a:lnTo>
                  <a:pt x="3724" y="1402"/>
                </a:lnTo>
                <a:lnTo>
                  <a:pt x="3722" y="1405"/>
                </a:lnTo>
                <a:lnTo>
                  <a:pt x="3720" y="1407"/>
                </a:lnTo>
                <a:lnTo>
                  <a:pt x="3708" y="1395"/>
                </a:lnTo>
                <a:lnTo>
                  <a:pt x="3696" y="1381"/>
                </a:lnTo>
                <a:lnTo>
                  <a:pt x="3696" y="1378"/>
                </a:lnTo>
                <a:lnTo>
                  <a:pt x="3696" y="1374"/>
                </a:lnTo>
                <a:lnTo>
                  <a:pt x="3689" y="1369"/>
                </a:lnTo>
                <a:lnTo>
                  <a:pt x="3682" y="1367"/>
                </a:lnTo>
                <a:lnTo>
                  <a:pt x="3679" y="1355"/>
                </a:lnTo>
                <a:lnTo>
                  <a:pt x="3672" y="1348"/>
                </a:lnTo>
                <a:lnTo>
                  <a:pt x="3672" y="1345"/>
                </a:lnTo>
                <a:lnTo>
                  <a:pt x="3658" y="1333"/>
                </a:lnTo>
                <a:lnTo>
                  <a:pt x="3641" y="1319"/>
                </a:lnTo>
                <a:lnTo>
                  <a:pt x="3641" y="1307"/>
                </a:lnTo>
                <a:lnTo>
                  <a:pt x="3634" y="1296"/>
                </a:lnTo>
                <a:lnTo>
                  <a:pt x="3632" y="1284"/>
                </a:lnTo>
                <a:lnTo>
                  <a:pt x="3630" y="1272"/>
                </a:lnTo>
                <a:lnTo>
                  <a:pt x="3625" y="1267"/>
                </a:lnTo>
                <a:lnTo>
                  <a:pt x="3620" y="1265"/>
                </a:lnTo>
                <a:lnTo>
                  <a:pt x="3618" y="1265"/>
                </a:lnTo>
                <a:lnTo>
                  <a:pt x="3613" y="1265"/>
                </a:lnTo>
                <a:lnTo>
                  <a:pt x="3613" y="1258"/>
                </a:lnTo>
                <a:lnTo>
                  <a:pt x="3611" y="1251"/>
                </a:lnTo>
                <a:lnTo>
                  <a:pt x="3608" y="1243"/>
                </a:lnTo>
                <a:lnTo>
                  <a:pt x="3608" y="1236"/>
                </a:lnTo>
                <a:lnTo>
                  <a:pt x="3606" y="1236"/>
                </a:lnTo>
                <a:lnTo>
                  <a:pt x="3606" y="1234"/>
                </a:lnTo>
                <a:lnTo>
                  <a:pt x="3606" y="1232"/>
                </a:lnTo>
                <a:lnTo>
                  <a:pt x="3604" y="1232"/>
                </a:lnTo>
                <a:lnTo>
                  <a:pt x="3601" y="1222"/>
                </a:lnTo>
                <a:lnTo>
                  <a:pt x="3599" y="1217"/>
                </a:lnTo>
                <a:lnTo>
                  <a:pt x="3594" y="1220"/>
                </a:lnTo>
                <a:lnTo>
                  <a:pt x="3592" y="1222"/>
                </a:lnTo>
                <a:close/>
                <a:moveTo>
                  <a:pt x="4034" y="239"/>
                </a:moveTo>
                <a:lnTo>
                  <a:pt x="4027" y="244"/>
                </a:lnTo>
                <a:lnTo>
                  <a:pt x="4015" y="246"/>
                </a:lnTo>
                <a:lnTo>
                  <a:pt x="4011" y="246"/>
                </a:lnTo>
                <a:lnTo>
                  <a:pt x="4004" y="244"/>
                </a:lnTo>
                <a:lnTo>
                  <a:pt x="4006" y="248"/>
                </a:lnTo>
                <a:lnTo>
                  <a:pt x="4011" y="248"/>
                </a:lnTo>
                <a:lnTo>
                  <a:pt x="4013" y="248"/>
                </a:lnTo>
                <a:lnTo>
                  <a:pt x="4015" y="248"/>
                </a:lnTo>
                <a:lnTo>
                  <a:pt x="4018" y="251"/>
                </a:lnTo>
                <a:lnTo>
                  <a:pt x="4020" y="253"/>
                </a:lnTo>
                <a:lnTo>
                  <a:pt x="4018" y="255"/>
                </a:lnTo>
                <a:lnTo>
                  <a:pt x="4018" y="258"/>
                </a:lnTo>
                <a:lnTo>
                  <a:pt x="4025" y="274"/>
                </a:lnTo>
                <a:lnTo>
                  <a:pt x="4004" y="270"/>
                </a:lnTo>
                <a:lnTo>
                  <a:pt x="3982" y="279"/>
                </a:lnTo>
                <a:lnTo>
                  <a:pt x="3959" y="284"/>
                </a:lnTo>
                <a:lnTo>
                  <a:pt x="3949" y="291"/>
                </a:lnTo>
                <a:lnTo>
                  <a:pt x="3940" y="296"/>
                </a:lnTo>
                <a:lnTo>
                  <a:pt x="3933" y="296"/>
                </a:lnTo>
                <a:lnTo>
                  <a:pt x="3928" y="298"/>
                </a:lnTo>
                <a:lnTo>
                  <a:pt x="3925" y="303"/>
                </a:lnTo>
                <a:lnTo>
                  <a:pt x="3921" y="305"/>
                </a:lnTo>
                <a:lnTo>
                  <a:pt x="3914" y="303"/>
                </a:lnTo>
                <a:lnTo>
                  <a:pt x="3907" y="298"/>
                </a:lnTo>
                <a:lnTo>
                  <a:pt x="3904" y="298"/>
                </a:lnTo>
                <a:lnTo>
                  <a:pt x="3899" y="298"/>
                </a:lnTo>
                <a:lnTo>
                  <a:pt x="3885" y="303"/>
                </a:lnTo>
                <a:lnTo>
                  <a:pt x="3873" y="308"/>
                </a:lnTo>
                <a:lnTo>
                  <a:pt x="3873" y="303"/>
                </a:lnTo>
                <a:lnTo>
                  <a:pt x="3873" y="300"/>
                </a:lnTo>
                <a:lnTo>
                  <a:pt x="3866" y="303"/>
                </a:lnTo>
                <a:lnTo>
                  <a:pt x="3859" y="305"/>
                </a:lnTo>
                <a:lnTo>
                  <a:pt x="3854" y="305"/>
                </a:lnTo>
                <a:lnTo>
                  <a:pt x="3852" y="305"/>
                </a:lnTo>
                <a:lnTo>
                  <a:pt x="3850" y="305"/>
                </a:lnTo>
                <a:lnTo>
                  <a:pt x="3847" y="305"/>
                </a:lnTo>
                <a:lnTo>
                  <a:pt x="3843" y="310"/>
                </a:lnTo>
                <a:lnTo>
                  <a:pt x="3838" y="319"/>
                </a:lnTo>
                <a:lnTo>
                  <a:pt x="3831" y="322"/>
                </a:lnTo>
                <a:lnTo>
                  <a:pt x="3826" y="331"/>
                </a:lnTo>
                <a:lnTo>
                  <a:pt x="3831" y="331"/>
                </a:lnTo>
                <a:lnTo>
                  <a:pt x="3836" y="329"/>
                </a:lnTo>
                <a:lnTo>
                  <a:pt x="3838" y="331"/>
                </a:lnTo>
                <a:lnTo>
                  <a:pt x="3840" y="336"/>
                </a:lnTo>
                <a:lnTo>
                  <a:pt x="3838" y="338"/>
                </a:lnTo>
                <a:lnTo>
                  <a:pt x="3836" y="343"/>
                </a:lnTo>
                <a:lnTo>
                  <a:pt x="3838" y="345"/>
                </a:lnTo>
                <a:lnTo>
                  <a:pt x="3840" y="350"/>
                </a:lnTo>
                <a:lnTo>
                  <a:pt x="3840" y="353"/>
                </a:lnTo>
                <a:lnTo>
                  <a:pt x="3840" y="355"/>
                </a:lnTo>
                <a:lnTo>
                  <a:pt x="3838" y="355"/>
                </a:lnTo>
                <a:lnTo>
                  <a:pt x="3833" y="355"/>
                </a:lnTo>
                <a:lnTo>
                  <a:pt x="3831" y="355"/>
                </a:lnTo>
                <a:lnTo>
                  <a:pt x="3826" y="357"/>
                </a:lnTo>
                <a:lnTo>
                  <a:pt x="3824" y="364"/>
                </a:lnTo>
                <a:lnTo>
                  <a:pt x="3826" y="367"/>
                </a:lnTo>
                <a:lnTo>
                  <a:pt x="3826" y="372"/>
                </a:lnTo>
                <a:lnTo>
                  <a:pt x="3826" y="374"/>
                </a:lnTo>
                <a:lnTo>
                  <a:pt x="3824" y="376"/>
                </a:lnTo>
                <a:lnTo>
                  <a:pt x="3817" y="376"/>
                </a:lnTo>
                <a:lnTo>
                  <a:pt x="3812" y="376"/>
                </a:lnTo>
                <a:lnTo>
                  <a:pt x="3807" y="379"/>
                </a:lnTo>
                <a:lnTo>
                  <a:pt x="3802" y="383"/>
                </a:lnTo>
                <a:lnTo>
                  <a:pt x="3802" y="386"/>
                </a:lnTo>
                <a:lnTo>
                  <a:pt x="3802" y="391"/>
                </a:lnTo>
                <a:lnTo>
                  <a:pt x="3795" y="393"/>
                </a:lnTo>
                <a:lnTo>
                  <a:pt x="3788" y="395"/>
                </a:lnTo>
                <a:lnTo>
                  <a:pt x="3786" y="400"/>
                </a:lnTo>
                <a:lnTo>
                  <a:pt x="3783" y="407"/>
                </a:lnTo>
                <a:lnTo>
                  <a:pt x="3776" y="414"/>
                </a:lnTo>
                <a:lnTo>
                  <a:pt x="3765" y="424"/>
                </a:lnTo>
                <a:lnTo>
                  <a:pt x="3755" y="395"/>
                </a:lnTo>
                <a:lnTo>
                  <a:pt x="3750" y="364"/>
                </a:lnTo>
                <a:lnTo>
                  <a:pt x="3753" y="350"/>
                </a:lnTo>
                <a:lnTo>
                  <a:pt x="3760" y="343"/>
                </a:lnTo>
                <a:lnTo>
                  <a:pt x="3765" y="338"/>
                </a:lnTo>
                <a:lnTo>
                  <a:pt x="3767" y="334"/>
                </a:lnTo>
                <a:lnTo>
                  <a:pt x="3772" y="331"/>
                </a:lnTo>
                <a:lnTo>
                  <a:pt x="3776" y="329"/>
                </a:lnTo>
                <a:lnTo>
                  <a:pt x="3791" y="324"/>
                </a:lnTo>
                <a:lnTo>
                  <a:pt x="3800" y="317"/>
                </a:lnTo>
                <a:lnTo>
                  <a:pt x="3809" y="310"/>
                </a:lnTo>
                <a:lnTo>
                  <a:pt x="3819" y="303"/>
                </a:lnTo>
                <a:lnTo>
                  <a:pt x="3824" y="298"/>
                </a:lnTo>
                <a:lnTo>
                  <a:pt x="3828" y="296"/>
                </a:lnTo>
                <a:lnTo>
                  <a:pt x="3836" y="293"/>
                </a:lnTo>
                <a:lnTo>
                  <a:pt x="3843" y="291"/>
                </a:lnTo>
                <a:lnTo>
                  <a:pt x="3847" y="284"/>
                </a:lnTo>
                <a:lnTo>
                  <a:pt x="3854" y="270"/>
                </a:lnTo>
                <a:lnTo>
                  <a:pt x="3845" y="272"/>
                </a:lnTo>
                <a:lnTo>
                  <a:pt x="3840" y="279"/>
                </a:lnTo>
                <a:lnTo>
                  <a:pt x="3836" y="286"/>
                </a:lnTo>
                <a:lnTo>
                  <a:pt x="3824" y="289"/>
                </a:lnTo>
                <a:lnTo>
                  <a:pt x="3814" y="293"/>
                </a:lnTo>
                <a:lnTo>
                  <a:pt x="3805" y="296"/>
                </a:lnTo>
                <a:lnTo>
                  <a:pt x="3805" y="293"/>
                </a:lnTo>
                <a:lnTo>
                  <a:pt x="3802" y="291"/>
                </a:lnTo>
                <a:lnTo>
                  <a:pt x="3800" y="289"/>
                </a:lnTo>
                <a:lnTo>
                  <a:pt x="3802" y="286"/>
                </a:lnTo>
                <a:lnTo>
                  <a:pt x="3802" y="282"/>
                </a:lnTo>
                <a:lnTo>
                  <a:pt x="3781" y="282"/>
                </a:lnTo>
                <a:lnTo>
                  <a:pt x="3765" y="289"/>
                </a:lnTo>
                <a:lnTo>
                  <a:pt x="3750" y="298"/>
                </a:lnTo>
                <a:lnTo>
                  <a:pt x="3738" y="310"/>
                </a:lnTo>
                <a:lnTo>
                  <a:pt x="3743" y="310"/>
                </a:lnTo>
                <a:lnTo>
                  <a:pt x="3746" y="310"/>
                </a:lnTo>
                <a:lnTo>
                  <a:pt x="3743" y="315"/>
                </a:lnTo>
                <a:lnTo>
                  <a:pt x="3738" y="317"/>
                </a:lnTo>
                <a:lnTo>
                  <a:pt x="3736" y="317"/>
                </a:lnTo>
                <a:lnTo>
                  <a:pt x="3731" y="317"/>
                </a:lnTo>
                <a:lnTo>
                  <a:pt x="3727" y="315"/>
                </a:lnTo>
                <a:lnTo>
                  <a:pt x="3724" y="317"/>
                </a:lnTo>
                <a:lnTo>
                  <a:pt x="3717" y="319"/>
                </a:lnTo>
                <a:lnTo>
                  <a:pt x="3705" y="319"/>
                </a:lnTo>
                <a:lnTo>
                  <a:pt x="3698" y="315"/>
                </a:lnTo>
                <a:lnTo>
                  <a:pt x="3703" y="315"/>
                </a:lnTo>
                <a:lnTo>
                  <a:pt x="3705" y="312"/>
                </a:lnTo>
                <a:lnTo>
                  <a:pt x="3691" y="310"/>
                </a:lnTo>
                <a:lnTo>
                  <a:pt x="3679" y="308"/>
                </a:lnTo>
                <a:lnTo>
                  <a:pt x="3677" y="310"/>
                </a:lnTo>
                <a:lnTo>
                  <a:pt x="3677" y="312"/>
                </a:lnTo>
                <a:lnTo>
                  <a:pt x="3675" y="312"/>
                </a:lnTo>
                <a:lnTo>
                  <a:pt x="3672" y="312"/>
                </a:lnTo>
                <a:lnTo>
                  <a:pt x="3672" y="315"/>
                </a:lnTo>
                <a:lnTo>
                  <a:pt x="3668" y="315"/>
                </a:lnTo>
                <a:lnTo>
                  <a:pt x="3663" y="315"/>
                </a:lnTo>
                <a:lnTo>
                  <a:pt x="3656" y="315"/>
                </a:lnTo>
                <a:lnTo>
                  <a:pt x="3651" y="315"/>
                </a:lnTo>
                <a:lnTo>
                  <a:pt x="3641" y="315"/>
                </a:lnTo>
                <a:lnTo>
                  <a:pt x="3632" y="315"/>
                </a:lnTo>
                <a:lnTo>
                  <a:pt x="3620" y="315"/>
                </a:lnTo>
                <a:lnTo>
                  <a:pt x="3608" y="315"/>
                </a:lnTo>
                <a:lnTo>
                  <a:pt x="3594" y="319"/>
                </a:lnTo>
                <a:lnTo>
                  <a:pt x="3582" y="327"/>
                </a:lnTo>
                <a:lnTo>
                  <a:pt x="3578" y="331"/>
                </a:lnTo>
                <a:lnTo>
                  <a:pt x="3573" y="336"/>
                </a:lnTo>
                <a:lnTo>
                  <a:pt x="3566" y="338"/>
                </a:lnTo>
                <a:lnTo>
                  <a:pt x="3561" y="341"/>
                </a:lnTo>
                <a:lnTo>
                  <a:pt x="3549" y="350"/>
                </a:lnTo>
                <a:lnTo>
                  <a:pt x="3540" y="357"/>
                </a:lnTo>
                <a:lnTo>
                  <a:pt x="3528" y="364"/>
                </a:lnTo>
                <a:lnTo>
                  <a:pt x="3516" y="372"/>
                </a:lnTo>
                <a:lnTo>
                  <a:pt x="3523" y="374"/>
                </a:lnTo>
                <a:lnTo>
                  <a:pt x="3533" y="374"/>
                </a:lnTo>
                <a:lnTo>
                  <a:pt x="3533" y="376"/>
                </a:lnTo>
                <a:lnTo>
                  <a:pt x="3535" y="376"/>
                </a:lnTo>
                <a:lnTo>
                  <a:pt x="3533" y="381"/>
                </a:lnTo>
                <a:lnTo>
                  <a:pt x="3533" y="383"/>
                </a:lnTo>
                <a:lnTo>
                  <a:pt x="3535" y="383"/>
                </a:lnTo>
                <a:lnTo>
                  <a:pt x="3537" y="379"/>
                </a:lnTo>
                <a:lnTo>
                  <a:pt x="3540" y="376"/>
                </a:lnTo>
                <a:lnTo>
                  <a:pt x="3542" y="379"/>
                </a:lnTo>
                <a:lnTo>
                  <a:pt x="3542" y="381"/>
                </a:lnTo>
                <a:lnTo>
                  <a:pt x="3542" y="386"/>
                </a:lnTo>
                <a:lnTo>
                  <a:pt x="3547" y="386"/>
                </a:lnTo>
                <a:lnTo>
                  <a:pt x="3552" y="383"/>
                </a:lnTo>
                <a:lnTo>
                  <a:pt x="3554" y="386"/>
                </a:lnTo>
                <a:lnTo>
                  <a:pt x="3554" y="381"/>
                </a:lnTo>
                <a:lnTo>
                  <a:pt x="3554" y="379"/>
                </a:lnTo>
                <a:lnTo>
                  <a:pt x="3559" y="379"/>
                </a:lnTo>
                <a:lnTo>
                  <a:pt x="3563" y="379"/>
                </a:lnTo>
                <a:lnTo>
                  <a:pt x="3575" y="383"/>
                </a:lnTo>
                <a:lnTo>
                  <a:pt x="3587" y="388"/>
                </a:lnTo>
                <a:lnTo>
                  <a:pt x="3585" y="393"/>
                </a:lnTo>
                <a:lnTo>
                  <a:pt x="3585" y="398"/>
                </a:lnTo>
                <a:lnTo>
                  <a:pt x="3585" y="402"/>
                </a:lnTo>
                <a:lnTo>
                  <a:pt x="3587" y="407"/>
                </a:lnTo>
                <a:lnTo>
                  <a:pt x="3589" y="405"/>
                </a:lnTo>
                <a:lnTo>
                  <a:pt x="3589" y="400"/>
                </a:lnTo>
                <a:lnTo>
                  <a:pt x="3592" y="395"/>
                </a:lnTo>
                <a:lnTo>
                  <a:pt x="3592" y="388"/>
                </a:lnTo>
                <a:lnTo>
                  <a:pt x="3597" y="388"/>
                </a:lnTo>
                <a:lnTo>
                  <a:pt x="3599" y="388"/>
                </a:lnTo>
                <a:lnTo>
                  <a:pt x="3599" y="383"/>
                </a:lnTo>
                <a:lnTo>
                  <a:pt x="3599" y="381"/>
                </a:lnTo>
                <a:lnTo>
                  <a:pt x="3599" y="379"/>
                </a:lnTo>
                <a:lnTo>
                  <a:pt x="3601" y="376"/>
                </a:lnTo>
                <a:lnTo>
                  <a:pt x="3604" y="376"/>
                </a:lnTo>
                <a:lnTo>
                  <a:pt x="3604" y="379"/>
                </a:lnTo>
                <a:lnTo>
                  <a:pt x="3608" y="388"/>
                </a:lnTo>
                <a:lnTo>
                  <a:pt x="3611" y="398"/>
                </a:lnTo>
                <a:lnTo>
                  <a:pt x="3608" y="402"/>
                </a:lnTo>
                <a:lnTo>
                  <a:pt x="3608" y="405"/>
                </a:lnTo>
                <a:lnTo>
                  <a:pt x="3615" y="428"/>
                </a:lnTo>
                <a:lnTo>
                  <a:pt x="3625" y="450"/>
                </a:lnTo>
                <a:lnTo>
                  <a:pt x="3618" y="447"/>
                </a:lnTo>
                <a:lnTo>
                  <a:pt x="3613" y="445"/>
                </a:lnTo>
                <a:lnTo>
                  <a:pt x="3611" y="445"/>
                </a:lnTo>
                <a:lnTo>
                  <a:pt x="3604" y="452"/>
                </a:lnTo>
                <a:lnTo>
                  <a:pt x="3601" y="464"/>
                </a:lnTo>
                <a:lnTo>
                  <a:pt x="3606" y="471"/>
                </a:lnTo>
                <a:lnTo>
                  <a:pt x="3613" y="483"/>
                </a:lnTo>
                <a:lnTo>
                  <a:pt x="3608" y="481"/>
                </a:lnTo>
                <a:lnTo>
                  <a:pt x="3604" y="478"/>
                </a:lnTo>
                <a:lnTo>
                  <a:pt x="3601" y="478"/>
                </a:lnTo>
                <a:lnTo>
                  <a:pt x="3599" y="478"/>
                </a:lnTo>
                <a:lnTo>
                  <a:pt x="3597" y="483"/>
                </a:lnTo>
                <a:lnTo>
                  <a:pt x="3597" y="485"/>
                </a:lnTo>
                <a:lnTo>
                  <a:pt x="3589" y="473"/>
                </a:lnTo>
                <a:lnTo>
                  <a:pt x="3594" y="457"/>
                </a:lnTo>
                <a:lnTo>
                  <a:pt x="3592" y="454"/>
                </a:lnTo>
                <a:lnTo>
                  <a:pt x="3592" y="452"/>
                </a:lnTo>
                <a:lnTo>
                  <a:pt x="3592" y="443"/>
                </a:lnTo>
                <a:lnTo>
                  <a:pt x="3594" y="433"/>
                </a:lnTo>
                <a:lnTo>
                  <a:pt x="3594" y="426"/>
                </a:lnTo>
                <a:lnTo>
                  <a:pt x="3594" y="419"/>
                </a:lnTo>
                <a:lnTo>
                  <a:pt x="3592" y="414"/>
                </a:lnTo>
                <a:lnTo>
                  <a:pt x="3587" y="409"/>
                </a:lnTo>
                <a:lnTo>
                  <a:pt x="3580" y="417"/>
                </a:lnTo>
                <a:lnTo>
                  <a:pt x="3578" y="428"/>
                </a:lnTo>
                <a:lnTo>
                  <a:pt x="3575" y="443"/>
                </a:lnTo>
                <a:lnTo>
                  <a:pt x="3573" y="454"/>
                </a:lnTo>
                <a:lnTo>
                  <a:pt x="3535" y="497"/>
                </a:lnTo>
                <a:lnTo>
                  <a:pt x="3495" y="528"/>
                </a:lnTo>
                <a:lnTo>
                  <a:pt x="3492" y="528"/>
                </a:lnTo>
                <a:lnTo>
                  <a:pt x="3485" y="528"/>
                </a:lnTo>
                <a:lnTo>
                  <a:pt x="3481" y="523"/>
                </a:lnTo>
                <a:lnTo>
                  <a:pt x="3478" y="523"/>
                </a:lnTo>
                <a:lnTo>
                  <a:pt x="3476" y="523"/>
                </a:lnTo>
                <a:lnTo>
                  <a:pt x="3469" y="528"/>
                </a:lnTo>
                <a:lnTo>
                  <a:pt x="3459" y="535"/>
                </a:lnTo>
                <a:lnTo>
                  <a:pt x="3452" y="540"/>
                </a:lnTo>
                <a:lnTo>
                  <a:pt x="3452" y="552"/>
                </a:lnTo>
                <a:lnTo>
                  <a:pt x="3440" y="561"/>
                </a:lnTo>
                <a:lnTo>
                  <a:pt x="3429" y="568"/>
                </a:lnTo>
                <a:lnTo>
                  <a:pt x="3426" y="571"/>
                </a:lnTo>
                <a:lnTo>
                  <a:pt x="3426" y="573"/>
                </a:lnTo>
                <a:lnTo>
                  <a:pt x="3438" y="585"/>
                </a:lnTo>
                <a:lnTo>
                  <a:pt x="3447" y="599"/>
                </a:lnTo>
                <a:lnTo>
                  <a:pt x="3447" y="608"/>
                </a:lnTo>
                <a:lnTo>
                  <a:pt x="3447" y="620"/>
                </a:lnTo>
                <a:lnTo>
                  <a:pt x="3447" y="623"/>
                </a:lnTo>
                <a:lnTo>
                  <a:pt x="3445" y="627"/>
                </a:lnTo>
                <a:lnTo>
                  <a:pt x="3443" y="627"/>
                </a:lnTo>
                <a:lnTo>
                  <a:pt x="3438" y="627"/>
                </a:lnTo>
                <a:lnTo>
                  <a:pt x="3436" y="627"/>
                </a:lnTo>
                <a:lnTo>
                  <a:pt x="3436" y="630"/>
                </a:lnTo>
                <a:lnTo>
                  <a:pt x="3421" y="632"/>
                </a:lnTo>
                <a:lnTo>
                  <a:pt x="3414" y="637"/>
                </a:lnTo>
                <a:lnTo>
                  <a:pt x="3412" y="630"/>
                </a:lnTo>
                <a:lnTo>
                  <a:pt x="3412" y="620"/>
                </a:lnTo>
                <a:lnTo>
                  <a:pt x="3412" y="618"/>
                </a:lnTo>
                <a:lnTo>
                  <a:pt x="3414" y="616"/>
                </a:lnTo>
                <a:lnTo>
                  <a:pt x="3412" y="611"/>
                </a:lnTo>
                <a:lnTo>
                  <a:pt x="3410" y="604"/>
                </a:lnTo>
                <a:lnTo>
                  <a:pt x="3412" y="601"/>
                </a:lnTo>
                <a:lnTo>
                  <a:pt x="3414" y="601"/>
                </a:lnTo>
                <a:lnTo>
                  <a:pt x="3414" y="597"/>
                </a:lnTo>
                <a:lnTo>
                  <a:pt x="3414" y="592"/>
                </a:lnTo>
                <a:lnTo>
                  <a:pt x="3407" y="592"/>
                </a:lnTo>
                <a:lnTo>
                  <a:pt x="3398" y="592"/>
                </a:lnTo>
                <a:lnTo>
                  <a:pt x="3395" y="590"/>
                </a:lnTo>
                <a:lnTo>
                  <a:pt x="3393" y="590"/>
                </a:lnTo>
                <a:lnTo>
                  <a:pt x="3395" y="580"/>
                </a:lnTo>
                <a:lnTo>
                  <a:pt x="3398" y="571"/>
                </a:lnTo>
                <a:lnTo>
                  <a:pt x="3395" y="568"/>
                </a:lnTo>
                <a:lnTo>
                  <a:pt x="3388" y="563"/>
                </a:lnTo>
                <a:lnTo>
                  <a:pt x="3379" y="566"/>
                </a:lnTo>
                <a:lnTo>
                  <a:pt x="3372" y="571"/>
                </a:lnTo>
                <a:lnTo>
                  <a:pt x="3362" y="575"/>
                </a:lnTo>
                <a:lnTo>
                  <a:pt x="3358" y="580"/>
                </a:lnTo>
                <a:lnTo>
                  <a:pt x="3355" y="580"/>
                </a:lnTo>
                <a:lnTo>
                  <a:pt x="3353" y="580"/>
                </a:lnTo>
                <a:lnTo>
                  <a:pt x="3355" y="575"/>
                </a:lnTo>
                <a:lnTo>
                  <a:pt x="3355" y="573"/>
                </a:lnTo>
                <a:lnTo>
                  <a:pt x="3355" y="571"/>
                </a:lnTo>
                <a:lnTo>
                  <a:pt x="3353" y="571"/>
                </a:lnTo>
                <a:lnTo>
                  <a:pt x="3358" y="566"/>
                </a:lnTo>
                <a:lnTo>
                  <a:pt x="3360" y="559"/>
                </a:lnTo>
                <a:lnTo>
                  <a:pt x="3362" y="559"/>
                </a:lnTo>
                <a:lnTo>
                  <a:pt x="3362" y="561"/>
                </a:lnTo>
                <a:lnTo>
                  <a:pt x="3360" y="554"/>
                </a:lnTo>
                <a:lnTo>
                  <a:pt x="3358" y="552"/>
                </a:lnTo>
                <a:lnTo>
                  <a:pt x="3353" y="552"/>
                </a:lnTo>
                <a:lnTo>
                  <a:pt x="3350" y="552"/>
                </a:lnTo>
                <a:lnTo>
                  <a:pt x="3343" y="561"/>
                </a:lnTo>
                <a:lnTo>
                  <a:pt x="3336" y="566"/>
                </a:lnTo>
                <a:lnTo>
                  <a:pt x="3329" y="573"/>
                </a:lnTo>
                <a:lnTo>
                  <a:pt x="3320" y="575"/>
                </a:lnTo>
                <a:lnTo>
                  <a:pt x="3317" y="575"/>
                </a:lnTo>
                <a:lnTo>
                  <a:pt x="3313" y="575"/>
                </a:lnTo>
                <a:lnTo>
                  <a:pt x="3313" y="578"/>
                </a:lnTo>
                <a:lnTo>
                  <a:pt x="3313" y="582"/>
                </a:lnTo>
                <a:lnTo>
                  <a:pt x="3317" y="587"/>
                </a:lnTo>
                <a:lnTo>
                  <a:pt x="3327" y="587"/>
                </a:lnTo>
                <a:lnTo>
                  <a:pt x="3327" y="592"/>
                </a:lnTo>
                <a:lnTo>
                  <a:pt x="3327" y="594"/>
                </a:lnTo>
                <a:lnTo>
                  <a:pt x="3327" y="599"/>
                </a:lnTo>
                <a:lnTo>
                  <a:pt x="3331" y="599"/>
                </a:lnTo>
                <a:lnTo>
                  <a:pt x="3339" y="597"/>
                </a:lnTo>
                <a:lnTo>
                  <a:pt x="3346" y="592"/>
                </a:lnTo>
                <a:lnTo>
                  <a:pt x="3353" y="594"/>
                </a:lnTo>
                <a:lnTo>
                  <a:pt x="3360" y="594"/>
                </a:lnTo>
                <a:lnTo>
                  <a:pt x="3365" y="594"/>
                </a:lnTo>
                <a:lnTo>
                  <a:pt x="3367" y="594"/>
                </a:lnTo>
                <a:lnTo>
                  <a:pt x="3367" y="597"/>
                </a:lnTo>
                <a:lnTo>
                  <a:pt x="3367" y="601"/>
                </a:lnTo>
                <a:lnTo>
                  <a:pt x="3360" y="606"/>
                </a:lnTo>
                <a:lnTo>
                  <a:pt x="3348" y="608"/>
                </a:lnTo>
                <a:lnTo>
                  <a:pt x="3346" y="613"/>
                </a:lnTo>
                <a:lnTo>
                  <a:pt x="3341" y="616"/>
                </a:lnTo>
                <a:lnTo>
                  <a:pt x="3336" y="623"/>
                </a:lnTo>
                <a:lnTo>
                  <a:pt x="3329" y="630"/>
                </a:lnTo>
                <a:lnTo>
                  <a:pt x="3343" y="639"/>
                </a:lnTo>
                <a:lnTo>
                  <a:pt x="3348" y="658"/>
                </a:lnTo>
                <a:lnTo>
                  <a:pt x="3355" y="663"/>
                </a:lnTo>
                <a:lnTo>
                  <a:pt x="3362" y="670"/>
                </a:lnTo>
                <a:lnTo>
                  <a:pt x="3360" y="670"/>
                </a:lnTo>
                <a:lnTo>
                  <a:pt x="3360" y="675"/>
                </a:lnTo>
                <a:lnTo>
                  <a:pt x="3360" y="682"/>
                </a:lnTo>
                <a:lnTo>
                  <a:pt x="3355" y="684"/>
                </a:lnTo>
                <a:lnTo>
                  <a:pt x="3350" y="687"/>
                </a:lnTo>
                <a:lnTo>
                  <a:pt x="3355" y="689"/>
                </a:lnTo>
                <a:lnTo>
                  <a:pt x="3360" y="691"/>
                </a:lnTo>
                <a:lnTo>
                  <a:pt x="3360" y="699"/>
                </a:lnTo>
                <a:lnTo>
                  <a:pt x="3360" y="703"/>
                </a:lnTo>
                <a:lnTo>
                  <a:pt x="3358" y="708"/>
                </a:lnTo>
                <a:lnTo>
                  <a:pt x="3355" y="715"/>
                </a:lnTo>
                <a:lnTo>
                  <a:pt x="3353" y="717"/>
                </a:lnTo>
                <a:lnTo>
                  <a:pt x="3348" y="720"/>
                </a:lnTo>
                <a:lnTo>
                  <a:pt x="3343" y="729"/>
                </a:lnTo>
                <a:lnTo>
                  <a:pt x="3336" y="734"/>
                </a:lnTo>
                <a:lnTo>
                  <a:pt x="3334" y="739"/>
                </a:lnTo>
                <a:lnTo>
                  <a:pt x="3334" y="744"/>
                </a:lnTo>
                <a:lnTo>
                  <a:pt x="3334" y="746"/>
                </a:lnTo>
                <a:lnTo>
                  <a:pt x="3334" y="751"/>
                </a:lnTo>
                <a:lnTo>
                  <a:pt x="3327" y="758"/>
                </a:lnTo>
                <a:lnTo>
                  <a:pt x="3317" y="765"/>
                </a:lnTo>
                <a:lnTo>
                  <a:pt x="3313" y="770"/>
                </a:lnTo>
                <a:lnTo>
                  <a:pt x="3308" y="777"/>
                </a:lnTo>
                <a:lnTo>
                  <a:pt x="3305" y="777"/>
                </a:lnTo>
                <a:lnTo>
                  <a:pt x="3301" y="781"/>
                </a:lnTo>
                <a:lnTo>
                  <a:pt x="3296" y="786"/>
                </a:lnTo>
                <a:lnTo>
                  <a:pt x="3284" y="789"/>
                </a:lnTo>
                <a:lnTo>
                  <a:pt x="3275" y="791"/>
                </a:lnTo>
                <a:lnTo>
                  <a:pt x="3272" y="791"/>
                </a:lnTo>
                <a:lnTo>
                  <a:pt x="3268" y="791"/>
                </a:lnTo>
                <a:lnTo>
                  <a:pt x="3265" y="789"/>
                </a:lnTo>
                <a:lnTo>
                  <a:pt x="3263" y="786"/>
                </a:lnTo>
                <a:lnTo>
                  <a:pt x="3258" y="798"/>
                </a:lnTo>
                <a:lnTo>
                  <a:pt x="3249" y="800"/>
                </a:lnTo>
                <a:lnTo>
                  <a:pt x="3237" y="803"/>
                </a:lnTo>
                <a:lnTo>
                  <a:pt x="3227" y="807"/>
                </a:lnTo>
                <a:lnTo>
                  <a:pt x="3227" y="812"/>
                </a:lnTo>
                <a:lnTo>
                  <a:pt x="3227" y="817"/>
                </a:lnTo>
                <a:lnTo>
                  <a:pt x="3227" y="819"/>
                </a:lnTo>
                <a:lnTo>
                  <a:pt x="3225" y="822"/>
                </a:lnTo>
                <a:lnTo>
                  <a:pt x="3230" y="822"/>
                </a:lnTo>
                <a:lnTo>
                  <a:pt x="3234" y="824"/>
                </a:lnTo>
                <a:lnTo>
                  <a:pt x="3227" y="838"/>
                </a:lnTo>
                <a:lnTo>
                  <a:pt x="3218" y="845"/>
                </a:lnTo>
                <a:lnTo>
                  <a:pt x="3211" y="843"/>
                </a:lnTo>
                <a:lnTo>
                  <a:pt x="3206" y="843"/>
                </a:lnTo>
                <a:lnTo>
                  <a:pt x="3206" y="838"/>
                </a:lnTo>
                <a:lnTo>
                  <a:pt x="3206" y="831"/>
                </a:lnTo>
                <a:lnTo>
                  <a:pt x="3208" y="826"/>
                </a:lnTo>
                <a:lnTo>
                  <a:pt x="3213" y="822"/>
                </a:lnTo>
                <a:lnTo>
                  <a:pt x="3218" y="822"/>
                </a:lnTo>
                <a:lnTo>
                  <a:pt x="3223" y="822"/>
                </a:lnTo>
                <a:lnTo>
                  <a:pt x="3220" y="822"/>
                </a:lnTo>
                <a:lnTo>
                  <a:pt x="3220" y="812"/>
                </a:lnTo>
                <a:lnTo>
                  <a:pt x="3218" y="803"/>
                </a:lnTo>
                <a:lnTo>
                  <a:pt x="3220" y="803"/>
                </a:lnTo>
                <a:lnTo>
                  <a:pt x="3213" y="803"/>
                </a:lnTo>
                <a:lnTo>
                  <a:pt x="3206" y="800"/>
                </a:lnTo>
                <a:lnTo>
                  <a:pt x="3204" y="803"/>
                </a:lnTo>
                <a:lnTo>
                  <a:pt x="3201" y="803"/>
                </a:lnTo>
                <a:lnTo>
                  <a:pt x="3199" y="803"/>
                </a:lnTo>
                <a:lnTo>
                  <a:pt x="3194" y="803"/>
                </a:lnTo>
                <a:lnTo>
                  <a:pt x="3194" y="805"/>
                </a:lnTo>
                <a:lnTo>
                  <a:pt x="3192" y="810"/>
                </a:lnTo>
                <a:lnTo>
                  <a:pt x="3185" y="812"/>
                </a:lnTo>
                <a:lnTo>
                  <a:pt x="3180" y="819"/>
                </a:lnTo>
                <a:lnTo>
                  <a:pt x="3175" y="826"/>
                </a:lnTo>
                <a:lnTo>
                  <a:pt x="3173" y="836"/>
                </a:lnTo>
                <a:lnTo>
                  <a:pt x="3178" y="843"/>
                </a:lnTo>
                <a:lnTo>
                  <a:pt x="3182" y="850"/>
                </a:lnTo>
                <a:lnTo>
                  <a:pt x="3185" y="857"/>
                </a:lnTo>
                <a:lnTo>
                  <a:pt x="3192" y="862"/>
                </a:lnTo>
                <a:lnTo>
                  <a:pt x="3201" y="871"/>
                </a:lnTo>
                <a:lnTo>
                  <a:pt x="3211" y="886"/>
                </a:lnTo>
                <a:lnTo>
                  <a:pt x="3216" y="905"/>
                </a:lnTo>
                <a:lnTo>
                  <a:pt x="3213" y="926"/>
                </a:lnTo>
                <a:lnTo>
                  <a:pt x="3206" y="938"/>
                </a:lnTo>
                <a:lnTo>
                  <a:pt x="3192" y="947"/>
                </a:lnTo>
                <a:lnTo>
                  <a:pt x="3187" y="945"/>
                </a:lnTo>
                <a:lnTo>
                  <a:pt x="3182" y="945"/>
                </a:lnTo>
                <a:lnTo>
                  <a:pt x="3185" y="947"/>
                </a:lnTo>
                <a:lnTo>
                  <a:pt x="3185" y="950"/>
                </a:lnTo>
                <a:lnTo>
                  <a:pt x="3175" y="961"/>
                </a:lnTo>
                <a:lnTo>
                  <a:pt x="3161" y="969"/>
                </a:lnTo>
                <a:lnTo>
                  <a:pt x="3161" y="966"/>
                </a:lnTo>
                <a:lnTo>
                  <a:pt x="3161" y="961"/>
                </a:lnTo>
                <a:lnTo>
                  <a:pt x="3161" y="957"/>
                </a:lnTo>
                <a:lnTo>
                  <a:pt x="3161" y="952"/>
                </a:lnTo>
                <a:lnTo>
                  <a:pt x="3156" y="947"/>
                </a:lnTo>
                <a:lnTo>
                  <a:pt x="3149" y="943"/>
                </a:lnTo>
                <a:lnTo>
                  <a:pt x="3149" y="945"/>
                </a:lnTo>
                <a:lnTo>
                  <a:pt x="3147" y="940"/>
                </a:lnTo>
                <a:lnTo>
                  <a:pt x="3140" y="938"/>
                </a:lnTo>
                <a:lnTo>
                  <a:pt x="3140" y="935"/>
                </a:lnTo>
                <a:lnTo>
                  <a:pt x="3140" y="933"/>
                </a:lnTo>
                <a:lnTo>
                  <a:pt x="3135" y="924"/>
                </a:lnTo>
                <a:lnTo>
                  <a:pt x="3126" y="916"/>
                </a:lnTo>
                <a:lnTo>
                  <a:pt x="3119" y="916"/>
                </a:lnTo>
                <a:lnTo>
                  <a:pt x="3116" y="914"/>
                </a:lnTo>
                <a:lnTo>
                  <a:pt x="3116" y="909"/>
                </a:lnTo>
                <a:lnTo>
                  <a:pt x="3116" y="907"/>
                </a:lnTo>
                <a:lnTo>
                  <a:pt x="3111" y="907"/>
                </a:lnTo>
                <a:lnTo>
                  <a:pt x="3107" y="907"/>
                </a:lnTo>
                <a:lnTo>
                  <a:pt x="3102" y="933"/>
                </a:lnTo>
                <a:lnTo>
                  <a:pt x="3097" y="950"/>
                </a:lnTo>
                <a:lnTo>
                  <a:pt x="3097" y="952"/>
                </a:lnTo>
                <a:lnTo>
                  <a:pt x="3097" y="954"/>
                </a:lnTo>
                <a:lnTo>
                  <a:pt x="3102" y="959"/>
                </a:lnTo>
                <a:lnTo>
                  <a:pt x="3107" y="969"/>
                </a:lnTo>
                <a:lnTo>
                  <a:pt x="3111" y="976"/>
                </a:lnTo>
                <a:lnTo>
                  <a:pt x="3111" y="985"/>
                </a:lnTo>
                <a:lnTo>
                  <a:pt x="3116" y="988"/>
                </a:lnTo>
                <a:lnTo>
                  <a:pt x="3123" y="990"/>
                </a:lnTo>
                <a:lnTo>
                  <a:pt x="3147" y="1016"/>
                </a:lnTo>
                <a:lnTo>
                  <a:pt x="3147" y="1042"/>
                </a:lnTo>
                <a:lnTo>
                  <a:pt x="3156" y="1059"/>
                </a:lnTo>
                <a:lnTo>
                  <a:pt x="3152" y="1061"/>
                </a:lnTo>
                <a:lnTo>
                  <a:pt x="3147" y="1061"/>
                </a:lnTo>
                <a:lnTo>
                  <a:pt x="3126" y="1049"/>
                </a:lnTo>
                <a:lnTo>
                  <a:pt x="3111" y="1023"/>
                </a:lnTo>
                <a:lnTo>
                  <a:pt x="3104" y="995"/>
                </a:lnTo>
                <a:lnTo>
                  <a:pt x="3085" y="976"/>
                </a:lnTo>
                <a:lnTo>
                  <a:pt x="3088" y="952"/>
                </a:lnTo>
                <a:lnTo>
                  <a:pt x="3090" y="924"/>
                </a:lnTo>
                <a:lnTo>
                  <a:pt x="3083" y="900"/>
                </a:lnTo>
                <a:lnTo>
                  <a:pt x="3078" y="876"/>
                </a:lnTo>
                <a:lnTo>
                  <a:pt x="3076" y="869"/>
                </a:lnTo>
                <a:lnTo>
                  <a:pt x="3074" y="862"/>
                </a:lnTo>
                <a:lnTo>
                  <a:pt x="3071" y="862"/>
                </a:lnTo>
                <a:lnTo>
                  <a:pt x="3069" y="864"/>
                </a:lnTo>
                <a:lnTo>
                  <a:pt x="3066" y="867"/>
                </a:lnTo>
                <a:lnTo>
                  <a:pt x="3064" y="867"/>
                </a:lnTo>
                <a:lnTo>
                  <a:pt x="3062" y="867"/>
                </a:lnTo>
                <a:lnTo>
                  <a:pt x="3057" y="871"/>
                </a:lnTo>
                <a:lnTo>
                  <a:pt x="3052" y="879"/>
                </a:lnTo>
                <a:lnTo>
                  <a:pt x="3050" y="876"/>
                </a:lnTo>
                <a:lnTo>
                  <a:pt x="3045" y="874"/>
                </a:lnTo>
                <a:lnTo>
                  <a:pt x="3043" y="874"/>
                </a:lnTo>
                <a:lnTo>
                  <a:pt x="3040" y="874"/>
                </a:lnTo>
                <a:lnTo>
                  <a:pt x="3038" y="871"/>
                </a:lnTo>
                <a:lnTo>
                  <a:pt x="3038" y="869"/>
                </a:lnTo>
                <a:lnTo>
                  <a:pt x="3040" y="862"/>
                </a:lnTo>
                <a:lnTo>
                  <a:pt x="3040" y="855"/>
                </a:lnTo>
                <a:lnTo>
                  <a:pt x="3040" y="853"/>
                </a:lnTo>
                <a:lnTo>
                  <a:pt x="3036" y="838"/>
                </a:lnTo>
                <a:lnTo>
                  <a:pt x="3031" y="831"/>
                </a:lnTo>
                <a:lnTo>
                  <a:pt x="3033" y="831"/>
                </a:lnTo>
                <a:lnTo>
                  <a:pt x="3033" y="826"/>
                </a:lnTo>
                <a:lnTo>
                  <a:pt x="3031" y="824"/>
                </a:lnTo>
                <a:lnTo>
                  <a:pt x="3029" y="824"/>
                </a:lnTo>
                <a:lnTo>
                  <a:pt x="3026" y="824"/>
                </a:lnTo>
                <a:lnTo>
                  <a:pt x="3019" y="817"/>
                </a:lnTo>
                <a:lnTo>
                  <a:pt x="3014" y="807"/>
                </a:lnTo>
                <a:lnTo>
                  <a:pt x="3012" y="796"/>
                </a:lnTo>
                <a:lnTo>
                  <a:pt x="3005" y="789"/>
                </a:lnTo>
                <a:lnTo>
                  <a:pt x="3003" y="789"/>
                </a:lnTo>
                <a:lnTo>
                  <a:pt x="3000" y="789"/>
                </a:lnTo>
                <a:lnTo>
                  <a:pt x="3000" y="791"/>
                </a:lnTo>
                <a:lnTo>
                  <a:pt x="3000" y="796"/>
                </a:lnTo>
                <a:lnTo>
                  <a:pt x="2998" y="793"/>
                </a:lnTo>
                <a:lnTo>
                  <a:pt x="2995" y="793"/>
                </a:lnTo>
                <a:lnTo>
                  <a:pt x="2995" y="796"/>
                </a:lnTo>
                <a:lnTo>
                  <a:pt x="2993" y="800"/>
                </a:lnTo>
                <a:lnTo>
                  <a:pt x="2991" y="798"/>
                </a:lnTo>
                <a:lnTo>
                  <a:pt x="2991" y="796"/>
                </a:lnTo>
                <a:lnTo>
                  <a:pt x="2988" y="796"/>
                </a:lnTo>
                <a:lnTo>
                  <a:pt x="2984" y="798"/>
                </a:lnTo>
                <a:lnTo>
                  <a:pt x="2979" y="800"/>
                </a:lnTo>
                <a:lnTo>
                  <a:pt x="2979" y="803"/>
                </a:lnTo>
                <a:lnTo>
                  <a:pt x="2974" y="800"/>
                </a:lnTo>
                <a:lnTo>
                  <a:pt x="2969" y="798"/>
                </a:lnTo>
                <a:lnTo>
                  <a:pt x="2962" y="803"/>
                </a:lnTo>
                <a:lnTo>
                  <a:pt x="2955" y="805"/>
                </a:lnTo>
                <a:lnTo>
                  <a:pt x="2955" y="807"/>
                </a:lnTo>
                <a:lnTo>
                  <a:pt x="2955" y="810"/>
                </a:lnTo>
                <a:lnTo>
                  <a:pt x="2955" y="812"/>
                </a:lnTo>
                <a:lnTo>
                  <a:pt x="2955" y="815"/>
                </a:lnTo>
                <a:lnTo>
                  <a:pt x="2951" y="819"/>
                </a:lnTo>
                <a:lnTo>
                  <a:pt x="2948" y="822"/>
                </a:lnTo>
                <a:lnTo>
                  <a:pt x="2943" y="824"/>
                </a:lnTo>
                <a:lnTo>
                  <a:pt x="2939" y="826"/>
                </a:lnTo>
                <a:lnTo>
                  <a:pt x="2932" y="831"/>
                </a:lnTo>
                <a:lnTo>
                  <a:pt x="2927" y="841"/>
                </a:lnTo>
                <a:lnTo>
                  <a:pt x="2920" y="848"/>
                </a:lnTo>
                <a:lnTo>
                  <a:pt x="2913" y="853"/>
                </a:lnTo>
                <a:lnTo>
                  <a:pt x="2903" y="857"/>
                </a:lnTo>
                <a:lnTo>
                  <a:pt x="2901" y="869"/>
                </a:lnTo>
                <a:lnTo>
                  <a:pt x="2891" y="869"/>
                </a:lnTo>
                <a:lnTo>
                  <a:pt x="2887" y="876"/>
                </a:lnTo>
                <a:lnTo>
                  <a:pt x="2880" y="879"/>
                </a:lnTo>
                <a:lnTo>
                  <a:pt x="2875" y="886"/>
                </a:lnTo>
                <a:lnTo>
                  <a:pt x="2877" y="898"/>
                </a:lnTo>
                <a:lnTo>
                  <a:pt x="2877" y="909"/>
                </a:lnTo>
                <a:lnTo>
                  <a:pt x="2877" y="919"/>
                </a:lnTo>
                <a:lnTo>
                  <a:pt x="2872" y="926"/>
                </a:lnTo>
                <a:lnTo>
                  <a:pt x="2872" y="935"/>
                </a:lnTo>
                <a:lnTo>
                  <a:pt x="2872" y="947"/>
                </a:lnTo>
                <a:lnTo>
                  <a:pt x="2865" y="950"/>
                </a:lnTo>
                <a:lnTo>
                  <a:pt x="2863" y="957"/>
                </a:lnTo>
                <a:lnTo>
                  <a:pt x="2863" y="959"/>
                </a:lnTo>
                <a:lnTo>
                  <a:pt x="2865" y="961"/>
                </a:lnTo>
                <a:lnTo>
                  <a:pt x="2858" y="964"/>
                </a:lnTo>
                <a:lnTo>
                  <a:pt x="2854" y="966"/>
                </a:lnTo>
                <a:lnTo>
                  <a:pt x="2851" y="971"/>
                </a:lnTo>
                <a:lnTo>
                  <a:pt x="2846" y="976"/>
                </a:lnTo>
                <a:lnTo>
                  <a:pt x="2844" y="976"/>
                </a:lnTo>
                <a:lnTo>
                  <a:pt x="2832" y="964"/>
                </a:lnTo>
                <a:lnTo>
                  <a:pt x="2827" y="943"/>
                </a:lnTo>
                <a:lnTo>
                  <a:pt x="2818" y="926"/>
                </a:lnTo>
                <a:lnTo>
                  <a:pt x="2811" y="909"/>
                </a:lnTo>
                <a:lnTo>
                  <a:pt x="2804" y="888"/>
                </a:lnTo>
                <a:lnTo>
                  <a:pt x="2797" y="871"/>
                </a:lnTo>
                <a:lnTo>
                  <a:pt x="2792" y="850"/>
                </a:lnTo>
                <a:lnTo>
                  <a:pt x="2790" y="829"/>
                </a:lnTo>
                <a:lnTo>
                  <a:pt x="2790" y="810"/>
                </a:lnTo>
                <a:lnTo>
                  <a:pt x="2785" y="796"/>
                </a:lnTo>
                <a:lnTo>
                  <a:pt x="2785" y="800"/>
                </a:lnTo>
                <a:lnTo>
                  <a:pt x="2785" y="805"/>
                </a:lnTo>
                <a:lnTo>
                  <a:pt x="2775" y="810"/>
                </a:lnTo>
                <a:lnTo>
                  <a:pt x="2766" y="812"/>
                </a:lnTo>
                <a:lnTo>
                  <a:pt x="2754" y="805"/>
                </a:lnTo>
                <a:lnTo>
                  <a:pt x="2745" y="791"/>
                </a:lnTo>
                <a:lnTo>
                  <a:pt x="2754" y="789"/>
                </a:lnTo>
                <a:lnTo>
                  <a:pt x="2761" y="786"/>
                </a:lnTo>
                <a:lnTo>
                  <a:pt x="2761" y="784"/>
                </a:lnTo>
                <a:lnTo>
                  <a:pt x="2756" y="786"/>
                </a:lnTo>
                <a:lnTo>
                  <a:pt x="2754" y="786"/>
                </a:lnTo>
                <a:lnTo>
                  <a:pt x="2752" y="786"/>
                </a:lnTo>
                <a:lnTo>
                  <a:pt x="2742" y="781"/>
                </a:lnTo>
                <a:lnTo>
                  <a:pt x="2738" y="772"/>
                </a:lnTo>
                <a:lnTo>
                  <a:pt x="2730" y="772"/>
                </a:lnTo>
                <a:lnTo>
                  <a:pt x="2726" y="762"/>
                </a:lnTo>
                <a:lnTo>
                  <a:pt x="2721" y="758"/>
                </a:lnTo>
                <a:lnTo>
                  <a:pt x="2716" y="751"/>
                </a:lnTo>
                <a:lnTo>
                  <a:pt x="2702" y="753"/>
                </a:lnTo>
                <a:lnTo>
                  <a:pt x="2688" y="755"/>
                </a:lnTo>
                <a:lnTo>
                  <a:pt x="2671" y="755"/>
                </a:lnTo>
                <a:lnTo>
                  <a:pt x="2657" y="758"/>
                </a:lnTo>
                <a:lnTo>
                  <a:pt x="2633" y="753"/>
                </a:lnTo>
                <a:lnTo>
                  <a:pt x="2610" y="748"/>
                </a:lnTo>
                <a:lnTo>
                  <a:pt x="2607" y="741"/>
                </a:lnTo>
                <a:lnTo>
                  <a:pt x="2607" y="734"/>
                </a:lnTo>
                <a:lnTo>
                  <a:pt x="2605" y="732"/>
                </a:lnTo>
                <a:lnTo>
                  <a:pt x="2603" y="732"/>
                </a:lnTo>
                <a:lnTo>
                  <a:pt x="2600" y="732"/>
                </a:lnTo>
                <a:lnTo>
                  <a:pt x="2598" y="732"/>
                </a:lnTo>
                <a:lnTo>
                  <a:pt x="2596" y="734"/>
                </a:lnTo>
                <a:lnTo>
                  <a:pt x="2593" y="736"/>
                </a:lnTo>
                <a:lnTo>
                  <a:pt x="2588" y="736"/>
                </a:lnTo>
                <a:lnTo>
                  <a:pt x="2588" y="734"/>
                </a:lnTo>
                <a:lnTo>
                  <a:pt x="2588" y="736"/>
                </a:lnTo>
                <a:lnTo>
                  <a:pt x="2579" y="736"/>
                </a:lnTo>
                <a:lnTo>
                  <a:pt x="2570" y="736"/>
                </a:lnTo>
                <a:lnTo>
                  <a:pt x="2562" y="732"/>
                </a:lnTo>
                <a:lnTo>
                  <a:pt x="2558" y="727"/>
                </a:lnTo>
                <a:lnTo>
                  <a:pt x="2548" y="722"/>
                </a:lnTo>
                <a:lnTo>
                  <a:pt x="2544" y="720"/>
                </a:lnTo>
                <a:lnTo>
                  <a:pt x="2534" y="706"/>
                </a:lnTo>
                <a:lnTo>
                  <a:pt x="2527" y="691"/>
                </a:lnTo>
                <a:lnTo>
                  <a:pt x="2522" y="691"/>
                </a:lnTo>
                <a:lnTo>
                  <a:pt x="2520" y="691"/>
                </a:lnTo>
                <a:lnTo>
                  <a:pt x="2515" y="691"/>
                </a:lnTo>
                <a:lnTo>
                  <a:pt x="2513" y="694"/>
                </a:lnTo>
                <a:lnTo>
                  <a:pt x="2506" y="691"/>
                </a:lnTo>
                <a:lnTo>
                  <a:pt x="2503" y="699"/>
                </a:lnTo>
                <a:lnTo>
                  <a:pt x="2508" y="710"/>
                </a:lnTo>
                <a:lnTo>
                  <a:pt x="2513" y="720"/>
                </a:lnTo>
                <a:lnTo>
                  <a:pt x="2522" y="729"/>
                </a:lnTo>
                <a:lnTo>
                  <a:pt x="2529" y="736"/>
                </a:lnTo>
                <a:lnTo>
                  <a:pt x="2529" y="741"/>
                </a:lnTo>
                <a:lnTo>
                  <a:pt x="2527" y="746"/>
                </a:lnTo>
                <a:lnTo>
                  <a:pt x="2532" y="751"/>
                </a:lnTo>
                <a:lnTo>
                  <a:pt x="2534" y="755"/>
                </a:lnTo>
                <a:lnTo>
                  <a:pt x="2536" y="746"/>
                </a:lnTo>
                <a:lnTo>
                  <a:pt x="2541" y="744"/>
                </a:lnTo>
                <a:lnTo>
                  <a:pt x="2544" y="746"/>
                </a:lnTo>
                <a:lnTo>
                  <a:pt x="2546" y="751"/>
                </a:lnTo>
                <a:lnTo>
                  <a:pt x="2546" y="753"/>
                </a:lnTo>
                <a:lnTo>
                  <a:pt x="2546" y="758"/>
                </a:lnTo>
                <a:lnTo>
                  <a:pt x="2544" y="760"/>
                </a:lnTo>
                <a:lnTo>
                  <a:pt x="2541" y="765"/>
                </a:lnTo>
                <a:lnTo>
                  <a:pt x="2546" y="767"/>
                </a:lnTo>
                <a:lnTo>
                  <a:pt x="2551" y="770"/>
                </a:lnTo>
                <a:lnTo>
                  <a:pt x="2560" y="767"/>
                </a:lnTo>
                <a:lnTo>
                  <a:pt x="2567" y="767"/>
                </a:lnTo>
                <a:lnTo>
                  <a:pt x="2570" y="767"/>
                </a:lnTo>
                <a:lnTo>
                  <a:pt x="2570" y="770"/>
                </a:lnTo>
                <a:lnTo>
                  <a:pt x="2586" y="755"/>
                </a:lnTo>
                <a:lnTo>
                  <a:pt x="2603" y="739"/>
                </a:lnTo>
                <a:lnTo>
                  <a:pt x="2600" y="744"/>
                </a:lnTo>
                <a:lnTo>
                  <a:pt x="2600" y="751"/>
                </a:lnTo>
                <a:lnTo>
                  <a:pt x="2607" y="767"/>
                </a:lnTo>
                <a:lnTo>
                  <a:pt x="2629" y="774"/>
                </a:lnTo>
                <a:lnTo>
                  <a:pt x="2636" y="784"/>
                </a:lnTo>
                <a:lnTo>
                  <a:pt x="2641" y="793"/>
                </a:lnTo>
                <a:lnTo>
                  <a:pt x="2633" y="803"/>
                </a:lnTo>
                <a:lnTo>
                  <a:pt x="2626" y="817"/>
                </a:lnTo>
                <a:lnTo>
                  <a:pt x="2624" y="817"/>
                </a:lnTo>
                <a:lnTo>
                  <a:pt x="2622" y="817"/>
                </a:lnTo>
                <a:lnTo>
                  <a:pt x="2617" y="822"/>
                </a:lnTo>
                <a:lnTo>
                  <a:pt x="2617" y="834"/>
                </a:lnTo>
                <a:lnTo>
                  <a:pt x="2612" y="836"/>
                </a:lnTo>
                <a:lnTo>
                  <a:pt x="2605" y="838"/>
                </a:lnTo>
                <a:lnTo>
                  <a:pt x="2603" y="843"/>
                </a:lnTo>
                <a:lnTo>
                  <a:pt x="2600" y="850"/>
                </a:lnTo>
                <a:lnTo>
                  <a:pt x="2596" y="850"/>
                </a:lnTo>
                <a:lnTo>
                  <a:pt x="2591" y="850"/>
                </a:lnTo>
                <a:lnTo>
                  <a:pt x="2588" y="855"/>
                </a:lnTo>
                <a:lnTo>
                  <a:pt x="2584" y="862"/>
                </a:lnTo>
                <a:lnTo>
                  <a:pt x="2567" y="864"/>
                </a:lnTo>
                <a:lnTo>
                  <a:pt x="2553" y="869"/>
                </a:lnTo>
                <a:lnTo>
                  <a:pt x="2553" y="876"/>
                </a:lnTo>
                <a:lnTo>
                  <a:pt x="2546" y="883"/>
                </a:lnTo>
                <a:lnTo>
                  <a:pt x="2539" y="886"/>
                </a:lnTo>
                <a:lnTo>
                  <a:pt x="2532" y="888"/>
                </a:lnTo>
                <a:lnTo>
                  <a:pt x="2525" y="890"/>
                </a:lnTo>
                <a:lnTo>
                  <a:pt x="2517" y="893"/>
                </a:lnTo>
                <a:lnTo>
                  <a:pt x="2513" y="898"/>
                </a:lnTo>
                <a:lnTo>
                  <a:pt x="2506" y="900"/>
                </a:lnTo>
                <a:lnTo>
                  <a:pt x="2494" y="905"/>
                </a:lnTo>
                <a:lnTo>
                  <a:pt x="2477" y="909"/>
                </a:lnTo>
                <a:lnTo>
                  <a:pt x="2468" y="914"/>
                </a:lnTo>
                <a:lnTo>
                  <a:pt x="2456" y="916"/>
                </a:lnTo>
                <a:lnTo>
                  <a:pt x="2449" y="912"/>
                </a:lnTo>
                <a:lnTo>
                  <a:pt x="2447" y="900"/>
                </a:lnTo>
                <a:lnTo>
                  <a:pt x="2442" y="890"/>
                </a:lnTo>
                <a:lnTo>
                  <a:pt x="2442" y="879"/>
                </a:lnTo>
                <a:lnTo>
                  <a:pt x="2442" y="874"/>
                </a:lnTo>
                <a:lnTo>
                  <a:pt x="2442" y="869"/>
                </a:lnTo>
                <a:lnTo>
                  <a:pt x="2432" y="853"/>
                </a:lnTo>
                <a:lnTo>
                  <a:pt x="2423" y="836"/>
                </a:lnTo>
                <a:lnTo>
                  <a:pt x="2418" y="826"/>
                </a:lnTo>
                <a:lnTo>
                  <a:pt x="2411" y="822"/>
                </a:lnTo>
                <a:lnTo>
                  <a:pt x="2404" y="815"/>
                </a:lnTo>
                <a:lnTo>
                  <a:pt x="2399" y="807"/>
                </a:lnTo>
                <a:lnTo>
                  <a:pt x="2397" y="798"/>
                </a:lnTo>
                <a:lnTo>
                  <a:pt x="2397" y="791"/>
                </a:lnTo>
                <a:lnTo>
                  <a:pt x="2392" y="779"/>
                </a:lnTo>
                <a:lnTo>
                  <a:pt x="2387" y="770"/>
                </a:lnTo>
                <a:lnTo>
                  <a:pt x="2378" y="760"/>
                </a:lnTo>
                <a:lnTo>
                  <a:pt x="2376" y="751"/>
                </a:lnTo>
                <a:lnTo>
                  <a:pt x="2361" y="732"/>
                </a:lnTo>
                <a:lnTo>
                  <a:pt x="2347" y="717"/>
                </a:lnTo>
                <a:lnTo>
                  <a:pt x="2347" y="715"/>
                </a:lnTo>
                <a:lnTo>
                  <a:pt x="2347" y="713"/>
                </a:lnTo>
                <a:lnTo>
                  <a:pt x="2345" y="717"/>
                </a:lnTo>
                <a:lnTo>
                  <a:pt x="2342" y="722"/>
                </a:lnTo>
                <a:lnTo>
                  <a:pt x="2338" y="717"/>
                </a:lnTo>
                <a:lnTo>
                  <a:pt x="2333" y="713"/>
                </a:lnTo>
                <a:lnTo>
                  <a:pt x="2338" y="727"/>
                </a:lnTo>
                <a:lnTo>
                  <a:pt x="2345" y="744"/>
                </a:lnTo>
                <a:lnTo>
                  <a:pt x="2349" y="751"/>
                </a:lnTo>
                <a:lnTo>
                  <a:pt x="2352" y="758"/>
                </a:lnTo>
                <a:lnTo>
                  <a:pt x="2357" y="765"/>
                </a:lnTo>
                <a:lnTo>
                  <a:pt x="2361" y="770"/>
                </a:lnTo>
                <a:lnTo>
                  <a:pt x="2359" y="774"/>
                </a:lnTo>
                <a:lnTo>
                  <a:pt x="2359" y="777"/>
                </a:lnTo>
                <a:lnTo>
                  <a:pt x="2366" y="786"/>
                </a:lnTo>
                <a:lnTo>
                  <a:pt x="2376" y="800"/>
                </a:lnTo>
                <a:lnTo>
                  <a:pt x="2378" y="817"/>
                </a:lnTo>
                <a:lnTo>
                  <a:pt x="2380" y="836"/>
                </a:lnTo>
                <a:lnTo>
                  <a:pt x="2399" y="860"/>
                </a:lnTo>
                <a:lnTo>
                  <a:pt x="2411" y="883"/>
                </a:lnTo>
                <a:lnTo>
                  <a:pt x="2418" y="888"/>
                </a:lnTo>
                <a:lnTo>
                  <a:pt x="2423" y="890"/>
                </a:lnTo>
                <a:lnTo>
                  <a:pt x="2428" y="895"/>
                </a:lnTo>
                <a:lnTo>
                  <a:pt x="2432" y="900"/>
                </a:lnTo>
                <a:lnTo>
                  <a:pt x="2442" y="912"/>
                </a:lnTo>
                <a:lnTo>
                  <a:pt x="2449" y="921"/>
                </a:lnTo>
                <a:lnTo>
                  <a:pt x="2449" y="926"/>
                </a:lnTo>
                <a:lnTo>
                  <a:pt x="2444" y="928"/>
                </a:lnTo>
                <a:lnTo>
                  <a:pt x="2451" y="935"/>
                </a:lnTo>
                <a:lnTo>
                  <a:pt x="2463" y="943"/>
                </a:lnTo>
                <a:lnTo>
                  <a:pt x="2465" y="943"/>
                </a:lnTo>
                <a:lnTo>
                  <a:pt x="2470" y="943"/>
                </a:lnTo>
                <a:lnTo>
                  <a:pt x="2475" y="940"/>
                </a:lnTo>
                <a:lnTo>
                  <a:pt x="2480" y="940"/>
                </a:lnTo>
                <a:lnTo>
                  <a:pt x="2484" y="940"/>
                </a:lnTo>
                <a:lnTo>
                  <a:pt x="2489" y="938"/>
                </a:lnTo>
                <a:lnTo>
                  <a:pt x="2496" y="935"/>
                </a:lnTo>
                <a:lnTo>
                  <a:pt x="2503" y="933"/>
                </a:lnTo>
                <a:lnTo>
                  <a:pt x="2510" y="933"/>
                </a:lnTo>
                <a:lnTo>
                  <a:pt x="2522" y="931"/>
                </a:lnTo>
                <a:lnTo>
                  <a:pt x="2532" y="924"/>
                </a:lnTo>
                <a:lnTo>
                  <a:pt x="2534" y="924"/>
                </a:lnTo>
                <a:lnTo>
                  <a:pt x="2536" y="924"/>
                </a:lnTo>
                <a:lnTo>
                  <a:pt x="2539" y="926"/>
                </a:lnTo>
                <a:lnTo>
                  <a:pt x="2541" y="928"/>
                </a:lnTo>
                <a:lnTo>
                  <a:pt x="2539" y="931"/>
                </a:lnTo>
                <a:lnTo>
                  <a:pt x="2539" y="935"/>
                </a:lnTo>
                <a:lnTo>
                  <a:pt x="2539" y="938"/>
                </a:lnTo>
                <a:lnTo>
                  <a:pt x="2539" y="940"/>
                </a:lnTo>
                <a:lnTo>
                  <a:pt x="2539" y="943"/>
                </a:lnTo>
                <a:lnTo>
                  <a:pt x="2541" y="947"/>
                </a:lnTo>
                <a:lnTo>
                  <a:pt x="2536" y="950"/>
                </a:lnTo>
                <a:lnTo>
                  <a:pt x="2536" y="959"/>
                </a:lnTo>
                <a:lnTo>
                  <a:pt x="2510" y="1011"/>
                </a:lnTo>
                <a:lnTo>
                  <a:pt x="2473" y="1054"/>
                </a:lnTo>
                <a:lnTo>
                  <a:pt x="2451" y="1073"/>
                </a:lnTo>
                <a:lnTo>
                  <a:pt x="2432" y="1094"/>
                </a:lnTo>
                <a:lnTo>
                  <a:pt x="2425" y="1106"/>
                </a:lnTo>
                <a:lnTo>
                  <a:pt x="2416" y="1115"/>
                </a:lnTo>
                <a:lnTo>
                  <a:pt x="2409" y="1130"/>
                </a:lnTo>
                <a:lnTo>
                  <a:pt x="2402" y="1142"/>
                </a:lnTo>
                <a:lnTo>
                  <a:pt x="2402" y="1144"/>
                </a:lnTo>
                <a:lnTo>
                  <a:pt x="2399" y="1151"/>
                </a:lnTo>
                <a:lnTo>
                  <a:pt x="2399" y="1156"/>
                </a:lnTo>
                <a:lnTo>
                  <a:pt x="2399" y="1158"/>
                </a:lnTo>
                <a:lnTo>
                  <a:pt x="2399" y="1160"/>
                </a:lnTo>
                <a:lnTo>
                  <a:pt x="2402" y="1165"/>
                </a:lnTo>
                <a:lnTo>
                  <a:pt x="2404" y="1170"/>
                </a:lnTo>
                <a:lnTo>
                  <a:pt x="2404" y="1177"/>
                </a:lnTo>
                <a:lnTo>
                  <a:pt x="2404" y="1184"/>
                </a:lnTo>
                <a:lnTo>
                  <a:pt x="2409" y="1203"/>
                </a:lnTo>
                <a:lnTo>
                  <a:pt x="2418" y="1220"/>
                </a:lnTo>
                <a:lnTo>
                  <a:pt x="2416" y="1227"/>
                </a:lnTo>
                <a:lnTo>
                  <a:pt x="2416" y="1232"/>
                </a:lnTo>
                <a:lnTo>
                  <a:pt x="2416" y="1234"/>
                </a:lnTo>
                <a:lnTo>
                  <a:pt x="2416" y="1236"/>
                </a:lnTo>
                <a:lnTo>
                  <a:pt x="2418" y="1258"/>
                </a:lnTo>
                <a:lnTo>
                  <a:pt x="2418" y="1274"/>
                </a:lnTo>
                <a:lnTo>
                  <a:pt x="2411" y="1288"/>
                </a:lnTo>
                <a:lnTo>
                  <a:pt x="2399" y="1300"/>
                </a:lnTo>
                <a:lnTo>
                  <a:pt x="2385" y="1305"/>
                </a:lnTo>
                <a:lnTo>
                  <a:pt x="2373" y="1317"/>
                </a:lnTo>
                <a:lnTo>
                  <a:pt x="2361" y="1329"/>
                </a:lnTo>
                <a:lnTo>
                  <a:pt x="2349" y="1338"/>
                </a:lnTo>
                <a:lnTo>
                  <a:pt x="2349" y="1341"/>
                </a:lnTo>
                <a:lnTo>
                  <a:pt x="2352" y="1352"/>
                </a:lnTo>
                <a:lnTo>
                  <a:pt x="2357" y="1364"/>
                </a:lnTo>
                <a:lnTo>
                  <a:pt x="2359" y="1376"/>
                </a:lnTo>
                <a:lnTo>
                  <a:pt x="2359" y="1390"/>
                </a:lnTo>
                <a:lnTo>
                  <a:pt x="2345" y="1402"/>
                </a:lnTo>
                <a:lnTo>
                  <a:pt x="2326" y="1416"/>
                </a:lnTo>
                <a:lnTo>
                  <a:pt x="2328" y="1419"/>
                </a:lnTo>
                <a:lnTo>
                  <a:pt x="2328" y="1421"/>
                </a:lnTo>
                <a:lnTo>
                  <a:pt x="2328" y="1423"/>
                </a:lnTo>
                <a:lnTo>
                  <a:pt x="2326" y="1433"/>
                </a:lnTo>
                <a:lnTo>
                  <a:pt x="2323" y="1445"/>
                </a:lnTo>
                <a:lnTo>
                  <a:pt x="2319" y="1454"/>
                </a:lnTo>
                <a:lnTo>
                  <a:pt x="2312" y="1459"/>
                </a:lnTo>
                <a:lnTo>
                  <a:pt x="2302" y="1473"/>
                </a:lnTo>
                <a:lnTo>
                  <a:pt x="2288" y="1490"/>
                </a:lnTo>
                <a:lnTo>
                  <a:pt x="2274" y="1504"/>
                </a:lnTo>
                <a:lnTo>
                  <a:pt x="2260" y="1516"/>
                </a:lnTo>
                <a:lnTo>
                  <a:pt x="2252" y="1516"/>
                </a:lnTo>
                <a:lnTo>
                  <a:pt x="2248" y="1518"/>
                </a:lnTo>
                <a:lnTo>
                  <a:pt x="2243" y="1518"/>
                </a:lnTo>
                <a:lnTo>
                  <a:pt x="2238" y="1521"/>
                </a:lnTo>
                <a:lnTo>
                  <a:pt x="2226" y="1523"/>
                </a:lnTo>
                <a:lnTo>
                  <a:pt x="2215" y="1521"/>
                </a:lnTo>
                <a:lnTo>
                  <a:pt x="2210" y="1521"/>
                </a:lnTo>
                <a:lnTo>
                  <a:pt x="2205" y="1521"/>
                </a:lnTo>
                <a:lnTo>
                  <a:pt x="2203" y="1523"/>
                </a:lnTo>
                <a:lnTo>
                  <a:pt x="2200" y="1525"/>
                </a:lnTo>
                <a:lnTo>
                  <a:pt x="2184" y="1528"/>
                </a:lnTo>
                <a:lnTo>
                  <a:pt x="2177" y="1530"/>
                </a:lnTo>
                <a:lnTo>
                  <a:pt x="2167" y="1528"/>
                </a:lnTo>
                <a:lnTo>
                  <a:pt x="2160" y="1523"/>
                </a:lnTo>
                <a:lnTo>
                  <a:pt x="2155" y="1514"/>
                </a:lnTo>
                <a:lnTo>
                  <a:pt x="2153" y="1504"/>
                </a:lnTo>
                <a:lnTo>
                  <a:pt x="2153" y="1502"/>
                </a:lnTo>
                <a:lnTo>
                  <a:pt x="2158" y="1502"/>
                </a:lnTo>
                <a:lnTo>
                  <a:pt x="2158" y="1499"/>
                </a:lnTo>
                <a:lnTo>
                  <a:pt x="2158" y="1497"/>
                </a:lnTo>
                <a:lnTo>
                  <a:pt x="2148" y="1476"/>
                </a:lnTo>
                <a:lnTo>
                  <a:pt x="2137" y="1450"/>
                </a:lnTo>
                <a:lnTo>
                  <a:pt x="2118" y="1421"/>
                </a:lnTo>
                <a:lnTo>
                  <a:pt x="2113" y="1376"/>
                </a:lnTo>
                <a:lnTo>
                  <a:pt x="2096" y="1341"/>
                </a:lnTo>
                <a:lnTo>
                  <a:pt x="2082" y="1310"/>
                </a:lnTo>
                <a:lnTo>
                  <a:pt x="2082" y="1307"/>
                </a:lnTo>
                <a:lnTo>
                  <a:pt x="2082" y="1303"/>
                </a:lnTo>
                <a:lnTo>
                  <a:pt x="2082" y="1296"/>
                </a:lnTo>
                <a:lnTo>
                  <a:pt x="2082" y="1293"/>
                </a:lnTo>
                <a:lnTo>
                  <a:pt x="2082" y="1288"/>
                </a:lnTo>
                <a:lnTo>
                  <a:pt x="2084" y="1274"/>
                </a:lnTo>
                <a:lnTo>
                  <a:pt x="2089" y="1255"/>
                </a:lnTo>
                <a:lnTo>
                  <a:pt x="2099" y="1243"/>
                </a:lnTo>
                <a:lnTo>
                  <a:pt x="2106" y="1229"/>
                </a:lnTo>
                <a:lnTo>
                  <a:pt x="2106" y="1227"/>
                </a:lnTo>
                <a:lnTo>
                  <a:pt x="2106" y="1224"/>
                </a:lnTo>
                <a:lnTo>
                  <a:pt x="2101" y="1210"/>
                </a:lnTo>
                <a:lnTo>
                  <a:pt x="2096" y="1196"/>
                </a:lnTo>
                <a:lnTo>
                  <a:pt x="2099" y="1194"/>
                </a:lnTo>
                <a:lnTo>
                  <a:pt x="2099" y="1189"/>
                </a:lnTo>
                <a:lnTo>
                  <a:pt x="2094" y="1172"/>
                </a:lnTo>
                <a:lnTo>
                  <a:pt x="2089" y="1158"/>
                </a:lnTo>
                <a:lnTo>
                  <a:pt x="2087" y="1151"/>
                </a:lnTo>
                <a:lnTo>
                  <a:pt x="2082" y="1142"/>
                </a:lnTo>
                <a:lnTo>
                  <a:pt x="2077" y="1134"/>
                </a:lnTo>
                <a:lnTo>
                  <a:pt x="2075" y="1130"/>
                </a:lnTo>
                <a:lnTo>
                  <a:pt x="2058" y="1113"/>
                </a:lnTo>
                <a:lnTo>
                  <a:pt x="2047" y="1092"/>
                </a:lnTo>
                <a:lnTo>
                  <a:pt x="2049" y="1087"/>
                </a:lnTo>
                <a:lnTo>
                  <a:pt x="2054" y="1085"/>
                </a:lnTo>
                <a:lnTo>
                  <a:pt x="2054" y="1073"/>
                </a:lnTo>
                <a:lnTo>
                  <a:pt x="2056" y="1061"/>
                </a:lnTo>
                <a:lnTo>
                  <a:pt x="2058" y="1059"/>
                </a:lnTo>
                <a:lnTo>
                  <a:pt x="2058" y="1056"/>
                </a:lnTo>
                <a:lnTo>
                  <a:pt x="2058" y="1047"/>
                </a:lnTo>
                <a:lnTo>
                  <a:pt x="2058" y="1040"/>
                </a:lnTo>
                <a:lnTo>
                  <a:pt x="2056" y="1033"/>
                </a:lnTo>
                <a:lnTo>
                  <a:pt x="2051" y="1028"/>
                </a:lnTo>
                <a:lnTo>
                  <a:pt x="2049" y="1023"/>
                </a:lnTo>
                <a:lnTo>
                  <a:pt x="2047" y="1021"/>
                </a:lnTo>
                <a:lnTo>
                  <a:pt x="2032" y="1023"/>
                </a:lnTo>
                <a:lnTo>
                  <a:pt x="2018" y="1025"/>
                </a:lnTo>
                <a:lnTo>
                  <a:pt x="2006" y="1011"/>
                </a:lnTo>
                <a:lnTo>
                  <a:pt x="1992" y="999"/>
                </a:lnTo>
                <a:lnTo>
                  <a:pt x="1990" y="999"/>
                </a:lnTo>
                <a:lnTo>
                  <a:pt x="1987" y="999"/>
                </a:lnTo>
                <a:lnTo>
                  <a:pt x="1978" y="999"/>
                </a:lnTo>
                <a:lnTo>
                  <a:pt x="1969" y="999"/>
                </a:lnTo>
                <a:lnTo>
                  <a:pt x="1959" y="1004"/>
                </a:lnTo>
                <a:lnTo>
                  <a:pt x="1952" y="1006"/>
                </a:lnTo>
                <a:lnTo>
                  <a:pt x="1935" y="1014"/>
                </a:lnTo>
                <a:lnTo>
                  <a:pt x="1924" y="1018"/>
                </a:lnTo>
                <a:lnTo>
                  <a:pt x="1914" y="1016"/>
                </a:lnTo>
                <a:lnTo>
                  <a:pt x="1907" y="1014"/>
                </a:lnTo>
                <a:lnTo>
                  <a:pt x="1898" y="1014"/>
                </a:lnTo>
                <a:lnTo>
                  <a:pt x="1890" y="1014"/>
                </a:lnTo>
                <a:lnTo>
                  <a:pt x="1871" y="1021"/>
                </a:lnTo>
                <a:lnTo>
                  <a:pt x="1860" y="1025"/>
                </a:lnTo>
                <a:lnTo>
                  <a:pt x="1838" y="1016"/>
                </a:lnTo>
                <a:lnTo>
                  <a:pt x="1824" y="1002"/>
                </a:lnTo>
                <a:lnTo>
                  <a:pt x="1815" y="995"/>
                </a:lnTo>
                <a:lnTo>
                  <a:pt x="1808" y="990"/>
                </a:lnTo>
                <a:lnTo>
                  <a:pt x="1796" y="980"/>
                </a:lnTo>
                <a:lnTo>
                  <a:pt x="1791" y="976"/>
                </a:lnTo>
                <a:lnTo>
                  <a:pt x="1793" y="973"/>
                </a:lnTo>
                <a:lnTo>
                  <a:pt x="1793" y="969"/>
                </a:lnTo>
                <a:lnTo>
                  <a:pt x="1793" y="971"/>
                </a:lnTo>
                <a:lnTo>
                  <a:pt x="1791" y="966"/>
                </a:lnTo>
                <a:lnTo>
                  <a:pt x="1791" y="961"/>
                </a:lnTo>
                <a:lnTo>
                  <a:pt x="1782" y="952"/>
                </a:lnTo>
                <a:lnTo>
                  <a:pt x="1774" y="938"/>
                </a:lnTo>
                <a:lnTo>
                  <a:pt x="1772" y="938"/>
                </a:lnTo>
                <a:lnTo>
                  <a:pt x="1770" y="938"/>
                </a:lnTo>
                <a:lnTo>
                  <a:pt x="1767" y="935"/>
                </a:lnTo>
                <a:lnTo>
                  <a:pt x="1760" y="928"/>
                </a:lnTo>
                <a:lnTo>
                  <a:pt x="1756" y="924"/>
                </a:lnTo>
                <a:lnTo>
                  <a:pt x="1751" y="916"/>
                </a:lnTo>
                <a:lnTo>
                  <a:pt x="1751" y="912"/>
                </a:lnTo>
                <a:lnTo>
                  <a:pt x="1751" y="907"/>
                </a:lnTo>
                <a:lnTo>
                  <a:pt x="1753" y="907"/>
                </a:lnTo>
                <a:lnTo>
                  <a:pt x="1751" y="898"/>
                </a:lnTo>
                <a:lnTo>
                  <a:pt x="1744" y="890"/>
                </a:lnTo>
                <a:lnTo>
                  <a:pt x="1748" y="883"/>
                </a:lnTo>
                <a:lnTo>
                  <a:pt x="1753" y="874"/>
                </a:lnTo>
                <a:lnTo>
                  <a:pt x="1756" y="860"/>
                </a:lnTo>
                <a:lnTo>
                  <a:pt x="1758" y="850"/>
                </a:lnTo>
                <a:lnTo>
                  <a:pt x="1758" y="848"/>
                </a:lnTo>
                <a:lnTo>
                  <a:pt x="1758" y="845"/>
                </a:lnTo>
                <a:lnTo>
                  <a:pt x="1758" y="831"/>
                </a:lnTo>
                <a:lnTo>
                  <a:pt x="1756" y="817"/>
                </a:lnTo>
                <a:lnTo>
                  <a:pt x="1751" y="812"/>
                </a:lnTo>
                <a:lnTo>
                  <a:pt x="1748" y="805"/>
                </a:lnTo>
                <a:lnTo>
                  <a:pt x="1748" y="803"/>
                </a:lnTo>
                <a:lnTo>
                  <a:pt x="1748" y="800"/>
                </a:lnTo>
                <a:lnTo>
                  <a:pt x="1756" y="784"/>
                </a:lnTo>
                <a:lnTo>
                  <a:pt x="1765" y="767"/>
                </a:lnTo>
                <a:lnTo>
                  <a:pt x="1770" y="762"/>
                </a:lnTo>
                <a:lnTo>
                  <a:pt x="1772" y="751"/>
                </a:lnTo>
                <a:lnTo>
                  <a:pt x="1777" y="744"/>
                </a:lnTo>
                <a:lnTo>
                  <a:pt x="1782" y="736"/>
                </a:lnTo>
                <a:lnTo>
                  <a:pt x="1789" y="732"/>
                </a:lnTo>
                <a:lnTo>
                  <a:pt x="1793" y="722"/>
                </a:lnTo>
                <a:lnTo>
                  <a:pt x="1801" y="717"/>
                </a:lnTo>
                <a:lnTo>
                  <a:pt x="1808" y="715"/>
                </a:lnTo>
                <a:lnTo>
                  <a:pt x="1822" y="706"/>
                </a:lnTo>
                <a:lnTo>
                  <a:pt x="1831" y="691"/>
                </a:lnTo>
                <a:lnTo>
                  <a:pt x="1831" y="684"/>
                </a:lnTo>
                <a:lnTo>
                  <a:pt x="1831" y="677"/>
                </a:lnTo>
                <a:lnTo>
                  <a:pt x="1831" y="675"/>
                </a:lnTo>
                <a:lnTo>
                  <a:pt x="1836" y="665"/>
                </a:lnTo>
                <a:lnTo>
                  <a:pt x="1841" y="656"/>
                </a:lnTo>
                <a:lnTo>
                  <a:pt x="1845" y="649"/>
                </a:lnTo>
                <a:lnTo>
                  <a:pt x="1855" y="646"/>
                </a:lnTo>
                <a:lnTo>
                  <a:pt x="1869" y="635"/>
                </a:lnTo>
                <a:lnTo>
                  <a:pt x="1876" y="616"/>
                </a:lnTo>
                <a:lnTo>
                  <a:pt x="1879" y="616"/>
                </a:lnTo>
                <a:lnTo>
                  <a:pt x="1881" y="616"/>
                </a:lnTo>
                <a:lnTo>
                  <a:pt x="1888" y="620"/>
                </a:lnTo>
                <a:lnTo>
                  <a:pt x="1895" y="623"/>
                </a:lnTo>
                <a:lnTo>
                  <a:pt x="1900" y="623"/>
                </a:lnTo>
                <a:lnTo>
                  <a:pt x="1905" y="623"/>
                </a:lnTo>
                <a:lnTo>
                  <a:pt x="1909" y="623"/>
                </a:lnTo>
                <a:lnTo>
                  <a:pt x="1912" y="623"/>
                </a:lnTo>
                <a:lnTo>
                  <a:pt x="1912" y="625"/>
                </a:lnTo>
                <a:lnTo>
                  <a:pt x="1924" y="625"/>
                </a:lnTo>
                <a:lnTo>
                  <a:pt x="1933" y="618"/>
                </a:lnTo>
                <a:lnTo>
                  <a:pt x="1942" y="616"/>
                </a:lnTo>
                <a:lnTo>
                  <a:pt x="1952" y="611"/>
                </a:lnTo>
                <a:lnTo>
                  <a:pt x="1976" y="604"/>
                </a:lnTo>
                <a:lnTo>
                  <a:pt x="1999" y="601"/>
                </a:lnTo>
                <a:lnTo>
                  <a:pt x="2004" y="604"/>
                </a:lnTo>
                <a:lnTo>
                  <a:pt x="2011" y="604"/>
                </a:lnTo>
                <a:lnTo>
                  <a:pt x="2016" y="601"/>
                </a:lnTo>
                <a:lnTo>
                  <a:pt x="2023" y="601"/>
                </a:lnTo>
                <a:lnTo>
                  <a:pt x="2035" y="601"/>
                </a:lnTo>
                <a:lnTo>
                  <a:pt x="2042" y="601"/>
                </a:lnTo>
                <a:lnTo>
                  <a:pt x="2049" y="599"/>
                </a:lnTo>
                <a:lnTo>
                  <a:pt x="2058" y="597"/>
                </a:lnTo>
                <a:lnTo>
                  <a:pt x="2061" y="597"/>
                </a:lnTo>
                <a:lnTo>
                  <a:pt x="2063" y="599"/>
                </a:lnTo>
                <a:lnTo>
                  <a:pt x="2066" y="601"/>
                </a:lnTo>
                <a:lnTo>
                  <a:pt x="2070" y="601"/>
                </a:lnTo>
                <a:lnTo>
                  <a:pt x="2075" y="601"/>
                </a:lnTo>
                <a:lnTo>
                  <a:pt x="2073" y="608"/>
                </a:lnTo>
                <a:lnTo>
                  <a:pt x="2068" y="613"/>
                </a:lnTo>
                <a:lnTo>
                  <a:pt x="2073" y="618"/>
                </a:lnTo>
                <a:lnTo>
                  <a:pt x="2075" y="623"/>
                </a:lnTo>
                <a:lnTo>
                  <a:pt x="2070" y="632"/>
                </a:lnTo>
                <a:lnTo>
                  <a:pt x="2063" y="639"/>
                </a:lnTo>
                <a:lnTo>
                  <a:pt x="2063" y="642"/>
                </a:lnTo>
                <a:lnTo>
                  <a:pt x="2068" y="644"/>
                </a:lnTo>
                <a:lnTo>
                  <a:pt x="2075" y="646"/>
                </a:lnTo>
                <a:lnTo>
                  <a:pt x="2087" y="653"/>
                </a:lnTo>
                <a:lnTo>
                  <a:pt x="2099" y="653"/>
                </a:lnTo>
                <a:lnTo>
                  <a:pt x="2110" y="656"/>
                </a:lnTo>
                <a:lnTo>
                  <a:pt x="2122" y="661"/>
                </a:lnTo>
                <a:lnTo>
                  <a:pt x="2127" y="672"/>
                </a:lnTo>
                <a:lnTo>
                  <a:pt x="2144" y="677"/>
                </a:lnTo>
                <a:lnTo>
                  <a:pt x="2158" y="682"/>
                </a:lnTo>
                <a:lnTo>
                  <a:pt x="2167" y="687"/>
                </a:lnTo>
                <a:lnTo>
                  <a:pt x="2174" y="684"/>
                </a:lnTo>
                <a:lnTo>
                  <a:pt x="2177" y="680"/>
                </a:lnTo>
                <a:lnTo>
                  <a:pt x="2177" y="675"/>
                </a:lnTo>
                <a:lnTo>
                  <a:pt x="2177" y="668"/>
                </a:lnTo>
                <a:lnTo>
                  <a:pt x="2186" y="658"/>
                </a:lnTo>
                <a:lnTo>
                  <a:pt x="2203" y="653"/>
                </a:lnTo>
                <a:lnTo>
                  <a:pt x="2215" y="661"/>
                </a:lnTo>
                <a:lnTo>
                  <a:pt x="2236" y="665"/>
                </a:lnTo>
                <a:lnTo>
                  <a:pt x="2238" y="668"/>
                </a:lnTo>
                <a:lnTo>
                  <a:pt x="2238" y="670"/>
                </a:lnTo>
                <a:lnTo>
                  <a:pt x="2245" y="672"/>
                </a:lnTo>
                <a:lnTo>
                  <a:pt x="2252" y="672"/>
                </a:lnTo>
                <a:lnTo>
                  <a:pt x="2267" y="675"/>
                </a:lnTo>
                <a:lnTo>
                  <a:pt x="2283" y="680"/>
                </a:lnTo>
                <a:lnTo>
                  <a:pt x="2295" y="675"/>
                </a:lnTo>
                <a:lnTo>
                  <a:pt x="2314" y="672"/>
                </a:lnTo>
                <a:lnTo>
                  <a:pt x="2316" y="672"/>
                </a:lnTo>
                <a:lnTo>
                  <a:pt x="2319" y="675"/>
                </a:lnTo>
                <a:lnTo>
                  <a:pt x="2323" y="677"/>
                </a:lnTo>
                <a:lnTo>
                  <a:pt x="2328" y="677"/>
                </a:lnTo>
                <a:lnTo>
                  <a:pt x="2335" y="677"/>
                </a:lnTo>
                <a:lnTo>
                  <a:pt x="2345" y="675"/>
                </a:lnTo>
                <a:lnTo>
                  <a:pt x="2354" y="651"/>
                </a:lnTo>
                <a:lnTo>
                  <a:pt x="2361" y="632"/>
                </a:lnTo>
                <a:lnTo>
                  <a:pt x="2361" y="623"/>
                </a:lnTo>
                <a:lnTo>
                  <a:pt x="2361" y="616"/>
                </a:lnTo>
                <a:lnTo>
                  <a:pt x="2364" y="616"/>
                </a:lnTo>
                <a:lnTo>
                  <a:pt x="2364" y="611"/>
                </a:lnTo>
                <a:lnTo>
                  <a:pt x="2364" y="606"/>
                </a:lnTo>
                <a:lnTo>
                  <a:pt x="2359" y="608"/>
                </a:lnTo>
                <a:lnTo>
                  <a:pt x="2354" y="608"/>
                </a:lnTo>
                <a:lnTo>
                  <a:pt x="2349" y="606"/>
                </a:lnTo>
                <a:lnTo>
                  <a:pt x="2342" y="611"/>
                </a:lnTo>
                <a:lnTo>
                  <a:pt x="2338" y="613"/>
                </a:lnTo>
                <a:lnTo>
                  <a:pt x="2328" y="616"/>
                </a:lnTo>
                <a:lnTo>
                  <a:pt x="2326" y="616"/>
                </a:lnTo>
                <a:lnTo>
                  <a:pt x="2316" y="611"/>
                </a:lnTo>
                <a:lnTo>
                  <a:pt x="2302" y="604"/>
                </a:lnTo>
                <a:lnTo>
                  <a:pt x="2302" y="608"/>
                </a:lnTo>
                <a:lnTo>
                  <a:pt x="2300" y="613"/>
                </a:lnTo>
                <a:lnTo>
                  <a:pt x="2295" y="613"/>
                </a:lnTo>
                <a:lnTo>
                  <a:pt x="2290" y="613"/>
                </a:lnTo>
                <a:lnTo>
                  <a:pt x="2283" y="611"/>
                </a:lnTo>
                <a:lnTo>
                  <a:pt x="2267" y="606"/>
                </a:lnTo>
                <a:lnTo>
                  <a:pt x="2264" y="599"/>
                </a:lnTo>
                <a:lnTo>
                  <a:pt x="2260" y="592"/>
                </a:lnTo>
                <a:lnTo>
                  <a:pt x="2255" y="590"/>
                </a:lnTo>
                <a:lnTo>
                  <a:pt x="2252" y="587"/>
                </a:lnTo>
                <a:lnTo>
                  <a:pt x="2252" y="585"/>
                </a:lnTo>
                <a:lnTo>
                  <a:pt x="2252" y="582"/>
                </a:lnTo>
                <a:lnTo>
                  <a:pt x="2255" y="582"/>
                </a:lnTo>
                <a:lnTo>
                  <a:pt x="2257" y="582"/>
                </a:lnTo>
                <a:lnTo>
                  <a:pt x="2257" y="575"/>
                </a:lnTo>
                <a:lnTo>
                  <a:pt x="2252" y="571"/>
                </a:lnTo>
                <a:lnTo>
                  <a:pt x="2255" y="575"/>
                </a:lnTo>
                <a:lnTo>
                  <a:pt x="2250" y="578"/>
                </a:lnTo>
                <a:lnTo>
                  <a:pt x="2248" y="575"/>
                </a:lnTo>
                <a:lnTo>
                  <a:pt x="2248" y="573"/>
                </a:lnTo>
                <a:lnTo>
                  <a:pt x="2248" y="571"/>
                </a:lnTo>
                <a:lnTo>
                  <a:pt x="2248" y="563"/>
                </a:lnTo>
                <a:lnTo>
                  <a:pt x="2250" y="556"/>
                </a:lnTo>
                <a:lnTo>
                  <a:pt x="2248" y="556"/>
                </a:lnTo>
                <a:lnTo>
                  <a:pt x="2248" y="554"/>
                </a:lnTo>
                <a:lnTo>
                  <a:pt x="2248" y="552"/>
                </a:lnTo>
                <a:lnTo>
                  <a:pt x="2241" y="552"/>
                </a:lnTo>
                <a:lnTo>
                  <a:pt x="2231" y="552"/>
                </a:lnTo>
                <a:lnTo>
                  <a:pt x="2226" y="556"/>
                </a:lnTo>
                <a:lnTo>
                  <a:pt x="2224" y="563"/>
                </a:lnTo>
                <a:lnTo>
                  <a:pt x="2219" y="563"/>
                </a:lnTo>
                <a:lnTo>
                  <a:pt x="2217" y="563"/>
                </a:lnTo>
                <a:lnTo>
                  <a:pt x="2215" y="561"/>
                </a:lnTo>
                <a:lnTo>
                  <a:pt x="2210" y="559"/>
                </a:lnTo>
                <a:lnTo>
                  <a:pt x="2219" y="575"/>
                </a:lnTo>
                <a:lnTo>
                  <a:pt x="2229" y="587"/>
                </a:lnTo>
                <a:lnTo>
                  <a:pt x="2231" y="587"/>
                </a:lnTo>
                <a:lnTo>
                  <a:pt x="2231" y="590"/>
                </a:lnTo>
                <a:lnTo>
                  <a:pt x="2229" y="590"/>
                </a:lnTo>
                <a:lnTo>
                  <a:pt x="2226" y="587"/>
                </a:lnTo>
                <a:lnTo>
                  <a:pt x="2226" y="590"/>
                </a:lnTo>
                <a:lnTo>
                  <a:pt x="2226" y="592"/>
                </a:lnTo>
                <a:lnTo>
                  <a:pt x="2222" y="592"/>
                </a:lnTo>
                <a:lnTo>
                  <a:pt x="2217" y="590"/>
                </a:lnTo>
                <a:lnTo>
                  <a:pt x="2217" y="594"/>
                </a:lnTo>
                <a:lnTo>
                  <a:pt x="2217" y="597"/>
                </a:lnTo>
                <a:lnTo>
                  <a:pt x="2215" y="597"/>
                </a:lnTo>
                <a:lnTo>
                  <a:pt x="2212" y="597"/>
                </a:lnTo>
                <a:lnTo>
                  <a:pt x="2212" y="604"/>
                </a:lnTo>
                <a:lnTo>
                  <a:pt x="2215" y="608"/>
                </a:lnTo>
                <a:lnTo>
                  <a:pt x="2210" y="608"/>
                </a:lnTo>
                <a:lnTo>
                  <a:pt x="2205" y="608"/>
                </a:lnTo>
                <a:lnTo>
                  <a:pt x="2205" y="606"/>
                </a:lnTo>
                <a:lnTo>
                  <a:pt x="2203" y="604"/>
                </a:lnTo>
                <a:lnTo>
                  <a:pt x="2200" y="606"/>
                </a:lnTo>
                <a:lnTo>
                  <a:pt x="2198" y="606"/>
                </a:lnTo>
                <a:lnTo>
                  <a:pt x="2198" y="604"/>
                </a:lnTo>
                <a:lnTo>
                  <a:pt x="2196" y="604"/>
                </a:lnTo>
                <a:lnTo>
                  <a:pt x="2196" y="599"/>
                </a:lnTo>
                <a:lnTo>
                  <a:pt x="2196" y="597"/>
                </a:lnTo>
                <a:lnTo>
                  <a:pt x="2193" y="594"/>
                </a:lnTo>
                <a:lnTo>
                  <a:pt x="2191" y="590"/>
                </a:lnTo>
                <a:lnTo>
                  <a:pt x="2193" y="587"/>
                </a:lnTo>
                <a:lnTo>
                  <a:pt x="2196" y="585"/>
                </a:lnTo>
                <a:lnTo>
                  <a:pt x="2181" y="573"/>
                </a:lnTo>
                <a:lnTo>
                  <a:pt x="2170" y="561"/>
                </a:lnTo>
                <a:lnTo>
                  <a:pt x="2170" y="549"/>
                </a:lnTo>
                <a:lnTo>
                  <a:pt x="2172" y="540"/>
                </a:lnTo>
                <a:lnTo>
                  <a:pt x="2165" y="535"/>
                </a:lnTo>
                <a:lnTo>
                  <a:pt x="2158" y="530"/>
                </a:lnTo>
                <a:lnTo>
                  <a:pt x="2151" y="528"/>
                </a:lnTo>
                <a:lnTo>
                  <a:pt x="2146" y="526"/>
                </a:lnTo>
                <a:lnTo>
                  <a:pt x="2146" y="523"/>
                </a:lnTo>
                <a:lnTo>
                  <a:pt x="2141" y="523"/>
                </a:lnTo>
                <a:lnTo>
                  <a:pt x="2137" y="523"/>
                </a:lnTo>
                <a:lnTo>
                  <a:pt x="2139" y="521"/>
                </a:lnTo>
                <a:lnTo>
                  <a:pt x="2134" y="518"/>
                </a:lnTo>
                <a:lnTo>
                  <a:pt x="2129" y="518"/>
                </a:lnTo>
                <a:lnTo>
                  <a:pt x="2122" y="509"/>
                </a:lnTo>
                <a:lnTo>
                  <a:pt x="2118" y="497"/>
                </a:lnTo>
                <a:lnTo>
                  <a:pt x="2115" y="497"/>
                </a:lnTo>
                <a:lnTo>
                  <a:pt x="2113" y="497"/>
                </a:lnTo>
                <a:lnTo>
                  <a:pt x="2110" y="497"/>
                </a:lnTo>
                <a:lnTo>
                  <a:pt x="2110" y="502"/>
                </a:lnTo>
                <a:lnTo>
                  <a:pt x="2103" y="497"/>
                </a:lnTo>
                <a:lnTo>
                  <a:pt x="2103" y="490"/>
                </a:lnTo>
                <a:lnTo>
                  <a:pt x="2096" y="492"/>
                </a:lnTo>
                <a:lnTo>
                  <a:pt x="2089" y="495"/>
                </a:lnTo>
                <a:lnTo>
                  <a:pt x="2089" y="499"/>
                </a:lnTo>
                <a:lnTo>
                  <a:pt x="2089" y="504"/>
                </a:lnTo>
                <a:lnTo>
                  <a:pt x="2094" y="511"/>
                </a:lnTo>
                <a:lnTo>
                  <a:pt x="2101" y="514"/>
                </a:lnTo>
                <a:lnTo>
                  <a:pt x="2106" y="521"/>
                </a:lnTo>
                <a:lnTo>
                  <a:pt x="2110" y="528"/>
                </a:lnTo>
                <a:lnTo>
                  <a:pt x="2125" y="537"/>
                </a:lnTo>
                <a:lnTo>
                  <a:pt x="2132" y="542"/>
                </a:lnTo>
                <a:lnTo>
                  <a:pt x="2148" y="549"/>
                </a:lnTo>
                <a:lnTo>
                  <a:pt x="2160" y="563"/>
                </a:lnTo>
                <a:lnTo>
                  <a:pt x="2158" y="563"/>
                </a:lnTo>
                <a:lnTo>
                  <a:pt x="2153" y="563"/>
                </a:lnTo>
                <a:lnTo>
                  <a:pt x="2153" y="561"/>
                </a:lnTo>
                <a:lnTo>
                  <a:pt x="2148" y="559"/>
                </a:lnTo>
                <a:lnTo>
                  <a:pt x="2144" y="559"/>
                </a:lnTo>
                <a:lnTo>
                  <a:pt x="2141" y="561"/>
                </a:lnTo>
                <a:lnTo>
                  <a:pt x="2139" y="563"/>
                </a:lnTo>
                <a:lnTo>
                  <a:pt x="2144" y="568"/>
                </a:lnTo>
                <a:lnTo>
                  <a:pt x="2146" y="573"/>
                </a:lnTo>
                <a:lnTo>
                  <a:pt x="2146" y="575"/>
                </a:lnTo>
                <a:lnTo>
                  <a:pt x="2146" y="580"/>
                </a:lnTo>
                <a:lnTo>
                  <a:pt x="2137" y="585"/>
                </a:lnTo>
                <a:lnTo>
                  <a:pt x="2129" y="590"/>
                </a:lnTo>
                <a:lnTo>
                  <a:pt x="2127" y="590"/>
                </a:lnTo>
                <a:lnTo>
                  <a:pt x="2125" y="590"/>
                </a:lnTo>
                <a:lnTo>
                  <a:pt x="2125" y="592"/>
                </a:lnTo>
                <a:lnTo>
                  <a:pt x="2122" y="594"/>
                </a:lnTo>
                <a:lnTo>
                  <a:pt x="2122" y="599"/>
                </a:lnTo>
                <a:lnTo>
                  <a:pt x="2122" y="604"/>
                </a:lnTo>
                <a:lnTo>
                  <a:pt x="2120" y="606"/>
                </a:lnTo>
                <a:lnTo>
                  <a:pt x="2118" y="606"/>
                </a:lnTo>
                <a:lnTo>
                  <a:pt x="2106" y="601"/>
                </a:lnTo>
                <a:lnTo>
                  <a:pt x="2092" y="594"/>
                </a:lnTo>
                <a:lnTo>
                  <a:pt x="2089" y="592"/>
                </a:lnTo>
                <a:lnTo>
                  <a:pt x="2089" y="590"/>
                </a:lnTo>
                <a:lnTo>
                  <a:pt x="2092" y="590"/>
                </a:lnTo>
                <a:lnTo>
                  <a:pt x="2092" y="587"/>
                </a:lnTo>
                <a:lnTo>
                  <a:pt x="2101" y="587"/>
                </a:lnTo>
                <a:lnTo>
                  <a:pt x="2110" y="587"/>
                </a:lnTo>
                <a:lnTo>
                  <a:pt x="2120" y="587"/>
                </a:lnTo>
                <a:lnTo>
                  <a:pt x="2127" y="585"/>
                </a:lnTo>
                <a:lnTo>
                  <a:pt x="2129" y="582"/>
                </a:lnTo>
                <a:lnTo>
                  <a:pt x="2132" y="578"/>
                </a:lnTo>
                <a:lnTo>
                  <a:pt x="2120" y="561"/>
                </a:lnTo>
                <a:lnTo>
                  <a:pt x="2106" y="549"/>
                </a:lnTo>
                <a:lnTo>
                  <a:pt x="2084" y="540"/>
                </a:lnTo>
                <a:lnTo>
                  <a:pt x="2068" y="528"/>
                </a:lnTo>
                <a:lnTo>
                  <a:pt x="2061" y="514"/>
                </a:lnTo>
                <a:lnTo>
                  <a:pt x="2049" y="509"/>
                </a:lnTo>
                <a:lnTo>
                  <a:pt x="2032" y="516"/>
                </a:lnTo>
                <a:lnTo>
                  <a:pt x="2018" y="523"/>
                </a:lnTo>
                <a:lnTo>
                  <a:pt x="2016" y="523"/>
                </a:lnTo>
                <a:lnTo>
                  <a:pt x="2013" y="523"/>
                </a:lnTo>
                <a:lnTo>
                  <a:pt x="2004" y="521"/>
                </a:lnTo>
                <a:lnTo>
                  <a:pt x="1995" y="518"/>
                </a:lnTo>
                <a:lnTo>
                  <a:pt x="1985" y="523"/>
                </a:lnTo>
                <a:lnTo>
                  <a:pt x="1983" y="530"/>
                </a:lnTo>
                <a:lnTo>
                  <a:pt x="1983" y="533"/>
                </a:lnTo>
                <a:lnTo>
                  <a:pt x="1985" y="533"/>
                </a:lnTo>
                <a:lnTo>
                  <a:pt x="1976" y="545"/>
                </a:lnTo>
                <a:lnTo>
                  <a:pt x="1959" y="549"/>
                </a:lnTo>
                <a:lnTo>
                  <a:pt x="1950" y="561"/>
                </a:lnTo>
                <a:lnTo>
                  <a:pt x="1945" y="571"/>
                </a:lnTo>
                <a:lnTo>
                  <a:pt x="1945" y="575"/>
                </a:lnTo>
                <a:lnTo>
                  <a:pt x="1947" y="582"/>
                </a:lnTo>
                <a:lnTo>
                  <a:pt x="1940" y="587"/>
                </a:lnTo>
                <a:lnTo>
                  <a:pt x="1938" y="597"/>
                </a:lnTo>
                <a:lnTo>
                  <a:pt x="1935" y="597"/>
                </a:lnTo>
                <a:lnTo>
                  <a:pt x="1931" y="597"/>
                </a:lnTo>
                <a:lnTo>
                  <a:pt x="1926" y="599"/>
                </a:lnTo>
                <a:lnTo>
                  <a:pt x="1921" y="606"/>
                </a:lnTo>
                <a:lnTo>
                  <a:pt x="1909" y="606"/>
                </a:lnTo>
                <a:lnTo>
                  <a:pt x="1898" y="606"/>
                </a:lnTo>
                <a:lnTo>
                  <a:pt x="1886" y="611"/>
                </a:lnTo>
                <a:lnTo>
                  <a:pt x="1881" y="616"/>
                </a:lnTo>
                <a:lnTo>
                  <a:pt x="1874" y="613"/>
                </a:lnTo>
                <a:lnTo>
                  <a:pt x="1871" y="606"/>
                </a:lnTo>
                <a:lnTo>
                  <a:pt x="1867" y="601"/>
                </a:lnTo>
                <a:lnTo>
                  <a:pt x="1862" y="599"/>
                </a:lnTo>
                <a:lnTo>
                  <a:pt x="1860" y="601"/>
                </a:lnTo>
                <a:lnTo>
                  <a:pt x="1855" y="601"/>
                </a:lnTo>
                <a:lnTo>
                  <a:pt x="1848" y="601"/>
                </a:lnTo>
                <a:lnTo>
                  <a:pt x="1841" y="601"/>
                </a:lnTo>
                <a:lnTo>
                  <a:pt x="1843" y="597"/>
                </a:lnTo>
                <a:lnTo>
                  <a:pt x="1843" y="592"/>
                </a:lnTo>
                <a:lnTo>
                  <a:pt x="1843" y="590"/>
                </a:lnTo>
                <a:lnTo>
                  <a:pt x="1841" y="585"/>
                </a:lnTo>
                <a:lnTo>
                  <a:pt x="1838" y="580"/>
                </a:lnTo>
                <a:lnTo>
                  <a:pt x="1836" y="580"/>
                </a:lnTo>
                <a:lnTo>
                  <a:pt x="1836" y="578"/>
                </a:lnTo>
                <a:lnTo>
                  <a:pt x="1836" y="575"/>
                </a:lnTo>
                <a:lnTo>
                  <a:pt x="1838" y="566"/>
                </a:lnTo>
                <a:lnTo>
                  <a:pt x="1843" y="549"/>
                </a:lnTo>
                <a:lnTo>
                  <a:pt x="1843" y="542"/>
                </a:lnTo>
                <a:lnTo>
                  <a:pt x="1843" y="533"/>
                </a:lnTo>
                <a:lnTo>
                  <a:pt x="1841" y="528"/>
                </a:lnTo>
                <a:lnTo>
                  <a:pt x="1838" y="523"/>
                </a:lnTo>
                <a:lnTo>
                  <a:pt x="1841" y="521"/>
                </a:lnTo>
                <a:lnTo>
                  <a:pt x="1841" y="518"/>
                </a:lnTo>
                <a:lnTo>
                  <a:pt x="1845" y="518"/>
                </a:lnTo>
                <a:lnTo>
                  <a:pt x="1848" y="518"/>
                </a:lnTo>
                <a:lnTo>
                  <a:pt x="1864" y="514"/>
                </a:lnTo>
                <a:lnTo>
                  <a:pt x="1886" y="516"/>
                </a:lnTo>
                <a:lnTo>
                  <a:pt x="1907" y="518"/>
                </a:lnTo>
                <a:lnTo>
                  <a:pt x="1928" y="518"/>
                </a:lnTo>
                <a:lnTo>
                  <a:pt x="1928" y="509"/>
                </a:lnTo>
                <a:lnTo>
                  <a:pt x="1931" y="497"/>
                </a:lnTo>
                <a:lnTo>
                  <a:pt x="1933" y="495"/>
                </a:lnTo>
                <a:lnTo>
                  <a:pt x="1933" y="492"/>
                </a:lnTo>
                <a:lnTo>
                  <a:pt x="1933" y="490"/>
                </a:lnTo>
                <a:lnTo>
                  <a:pt x="1933" y="485"/>
                </a:lnTo>
                <a:lnTo>
                  <a:pt x="1933" y="483"/>
                </a:lnTo>
                <a:lnTo>
                  <a:pt x="1926" y="481"/>
                </a:lnTo>
                <a:lnTo>
                  <a:pt x="1921" y="476"/>
                </a:lnTo>
                <a:lnTo>
                  <a:pt x="1921" y="473"/>
                </a:lnTo>
                <a:lnTo>
                  <a:pt x="1921" y="471"/>
                </a:lnTo>
                <a:lnTo>
                  <a:pt x="1914" y="469"/>
                </a:lnTo>
                <a:lnTo>
                  <a:pt x="1907" y="464"/>
                </a:lnTo>
                <a:lnTo>
                  <a:pt x="1898" y="464"/>
                </a:lnTo>
                <a:lnTo>
                  <a:pt x="1893" y="457"/>
                </a:lnTo>
                <a:lnTo>
                  <a:pt x="1893" y="454"/>
                </a:lnTo>
                <a:lnTo>
                  <a:pt x="1893" y="450"/>
                </a:lnTo>
                <a:lnTo>
                  <a:pt x="1907" y="450"/>
                </a:lnTo>
                <a:lnTo>
                  <a:pt x="1921" y="450"/>
                </a:lnTo>
                <a:lnTo>
                  <a:pt x="1924" y="450"/>
                </a:lnTo>
                <a:lnTo>
                  <a:pt x="1928" y="450"/>
                </a:lnTo>
                <a:lnTo>
                  <a:pt x="1926" y="445"/>
                </a:lnTo>
                <a:lnTo>
                  <a:pt x="1924" y="438"/>
                </a:lnTo>
                <a:lnTo>
                  <a:pt x="1926" y="438"/>
                </a:lnTo>
                <a:lnTo>
                  <a:pt x="1928" y="438"/>
                </a:lnTo>
                <a:lnTo>
                  <a:pt x="1933" y="440"/>
                </a:lnTo>
                <a:lnTo>
                  <a:pt x="1938" y="440"/>
                </a:lnTo>
                <a:lnTo>
                  <a:pt x="1942" y="440"/>
                </a:lnTo>
                <a:lnTo>
                  <a:pt x="1947" y="440"/>
                </a:lnTo>
                <a:lnTo>
                  <a:pt x="1952" y="436"/>
                </a:lnTo>
                <a:lnTo>
                  <a:pt x="1959" y="433"/>
                </a:lnTo>
                <a:lnTo>
                  <a:pt x="1964" y="428"/>
                </a:lnTo>
                <a:lnTo>
                  <a:pt x="1966" y="421"/>
                </a:lnTo>
                <a:lnTo>
                  <a:pt x="1978" y="417"/>
                </a:lnTo>
                <a:lnTo>
                  <a:pt x="1992" y="412"/>
                </a:lnTo>
                <a:lnTo>
                  <a:pt x="1997" y="402"/>
                </a:lnTo>
                <a:lnTo>
                  <a:pt x="2004" y="395"/>
                </a:lnTo>
                <a:lnTo>
                  <a:pt x="2013" y="391"/>
                </a:lnTo>
                <a:lnTo>
                  <a:pt x="2025" y="388"/>
                </a:lnTo>
                <a:lnTo>
                  <a:pt x="2035" y="386"/>
                </a:lnTo>
                <a:lnTo>
                  <a:pt x="2044" y="386"/>
                </a:lnTo>
                <a:lnTo>
                  <a:pt x="2044" y="383"/>
                </a:lnTo>
                <a:lnTo>
                  <a:pt x="2047" y="383"/>
                </a:lnTo>
                <a:lnTo>
                  <a:pt x="2049" y="383"/>
                </a:lnTo>
                <a:lnTo>
                  <a:pt x="2044" y="367"/>
                </a:lnTo>
                <a:lnTo>
                  <a:pt x="2039" y="355"/>
                </a:lnTo>
                <a:lnTo>
                  <a:pt x="2039" y="353"/>
                </a:lnTo>
                <a:lnTo>
                  <a:pt x="2039" y="350"/>
                </a:lnTo>
                <a:lnTo>
                  <a:pt x="2042" y="348"/>
                </a:lnTo>
                <a:lnTo>
                  <a:pt x="2047" y="341"/>
                </a:lnTo>
                <a:lnTo>
                  <a:pt x="2056" y="338"/>
                </a:lnTo>
                <a:lnTo>
                  <a:pt x="2063" y="336"/>
                </a:lnTo>
                <a:lnTo>
                  <a:pt x="2068" y="338"/>
                </a:lnTo>
                <a:lnTo>
                  <a:pt x="2068" y="343"/>
                </a:lnTo>
                <a:lnTo>
                  <a:pt x="2066" y="348"/>
                </a:lnTo>
                <a:lnTo>
                  <a:pt x="2070" y="350"/>
                </a:lnTo>
                <a:lnTo>
                  <a:pt x="2073" y="350"/>
                </a:lnTo>
                <a:lnTo>
                  <a:pt x="2073" y="353"/>
                </a:lnTo>
                <a:lnTo>
                  <a:pt x="2070" y="355"/>
                </a:lnTo>
                <a:lnTo>
                  <a:pt x="2066" y="355"/>
                </a:lnTo>
                <a:lnTo>
                  <a:pt x="2063" y="357"/>
                </a:lnTo>
                <a:lnTo>
                  <a:pt x="2061" y="360"/>
                </a:lnTo>
                <a:lnTo>
                  <a:pt x="2061" y="362"/>
                </a:lnTo>
                <a:lnTo>
                  <a:pt x="2066" y="360"/>
                </a:lnTo>
                <a:lnTo>
                  <a:pt x="2068" y="360"/>
                </a:lnTo>
                <a:lnTo>
                  <a:pt x="2070" y="362"/>
                </a:lnTo>
                <a:lnTo>
                  <a:pt x="2073" y="364"/>
                </a:lnTo>
                <a:lnTo>
                  <a:pt x="2073" y="367"/>
                </a:lnTo>
                <a:lnTo>
                  <a:pt x="2070" y="369"/>
                </a:lnTo>
                <a:lnTo>
                  <a:pt x="2068" y="369"/>
                </a:lnTo>
                <a:lnTo>
                  <a:pt x="2066" y="369"/>
                </a:lnTo>
                <a:lnTo>
                  <a:pt x="2061" y="367"/>
                </a:lnTo>
                <a:lnTo>
                  <a:pt x="2056" y="367"/>
                </a:lnTo>
                <a:lnTo>
                  <a:pt x="2063" y="374"/>
                </a:lnTo>
                <a:lnTo>
                  <a:pt x="2073" y="376"/>
                </a:lnTo>
                <a:lnTo>
                  <a:pt x="2073" y="379"/>
                </a:lnTo>
                <a:lnTo>
                  <a:pt x="2073" y="381"/>
                </a:lnTo>
                <a:lnTo>
                  <a:pt x="2084" y="379"/>
                </a:lnTo>
                <a:lnTo>
                  <a:pt x="2094" y="376"/>
                </a:lnTo>
                <a:lnTo>
                  <a:pt x="2096" y="376"/>
                </a:lnTo>
                <a:lnTo>
                  <a:pt x="2099" y="376"/>
                </a:lnTo>
                <a:lnTo>
                  <a:pt x="2099" y="374"/>
                </a:lnTo>
                <a:lnTo>
                  <a:pt x="2101" y="372"/>
                </a:lnTo>
                <a:lnTo>
                  <a:pt x="2103" y="372"/>
                </a:lnTo>
                <a:lnTo>
                  <a:pt x="2106" y="374"/>
                </a:lnTo>
                <a:lnTo>
                  <a:pt x="2106" y="379"/>
                </a:lnTo>
                <a:lnTo>
                  <a:pt x="2108" y="383"/>
                </a:lnTo>
                <a:lnTo>
                  <a:pt x="2129" y="376"/>
                </a:lnTo>
                <a:lnTo>
                  <a:pt x="2151" y="372"/>
                </a:lnTo>
                <a:lnTo>
                  <a:pt x="2155" y="372"/>
                </a:lnTo>
                <a:lnTo>
                  <a:pt x="2158" y="372"/>
                </a:lnTo>
                <a:lnTo>
                  <a:pt x="2163" y="374"/>
                </a:lnTo>
                <a:lnTo>
                  <a:pt x="2165" y="376"/>
                </a:lnTo>
                <a:lnTo>
                  <a:pt x="2170" y="376"/>
                </a:lnTo>
                <a:lnTo>
                  <a:pt x="2174" y="376"/>
                </a:lnTo>
                <a:lnTo>
                  <a:pt x="2181" y="369"/>
                </a:lnTo>
                <a:lnTo>
                  <a:pt x="2191" y="367"/>
                </a:lnTo>
                <a:lnTo>
                  <a:pt x="2191" y="362"/>
                </a:lnTo>
                <a:lnTo>
                  <a:pt x="2189" y="360"/>
                </a:lnTo>
                <a:lnTo>
                  <a:pt x="2189" y="353"/>
                </a:lnTo>
                <a:lnTo>
                  <a:pt x="2189" y="348"/>
                </a:lnTo>
                <a:lnTo>
                  <a:pt x="2191" y="343"/>
                </a:lnTo>
                <a:lnTo>
                  <a:pt x="2196" y="336"/>
                </a:lnTo>
                <a:lnTo>
                  <a:pt x="2200" y="334"/>
                </a:lnTo>
                <a:lnTo>
                  <a:pt x="2208" y="334"/>
                </a:lnTo>
                <a:lnTo>
                  <a:pt x="2215" y="338"/>
                </a:lnTo>
                <a:lnTo>
                  <a:pt x="2222" y="343"/>
                </a:lnTo>
                <a:lnTo>
                  <a:pt x="2224" y="341"/>
                </a:lnTo>
                <a:lnTo>
                  <a:pt x="2226" y="341"/>
                </a:lnTo>
                <a:lnTo>
                  <a:pt x="2229" y="334"/>
                </a:lnTo>
                <a:lnTo>
                  <a:pt x="2229" y="329"/>
                </a:lnTo>
                <a:lnTo>
                  <a:pt x="2224" y="327"/>
                </a:lnTo>
                <a:lnTo>
                  <a:pt x="2219" y="327"/>
                </a:lnTo>
                <a:lnTo>
                  <a:pt x="2217" y="322"/>
                </a:lnTo>
                <a:lnTo>
                  <a:pt x="2217" y="319"/>
                </a:lnTo>
                <a:lnTo>
                  <a:pt x="2241" y="310"/>
                </a:lnTo>
                <a:lnTo>
                  <a:pt x="2271" y="312"/>
                </a:lnTo>
                <a:lnTo>
                  <a:pt x="2271" y="310"/>
                </a:lnTo>
                <a:lnTo>
                  <a:pt x="2276" y="308"/>
                </a:lnTo>
                <a:lnTo>
                  <a:pt x="2283" y="305"/>
                </a:lnTo>
                <a:lnTo>
                  <a:pt x="2283" y="303"/>
                </a:lnTo>
                <a:lnTo>
                  <a:pt x="2278" y="300"/>
                </a:lnTo>
                <a:lnTo>
                  <a:pt x="2274" y="298"/>
                </a:lnTo>
                <a:lnTo>
                  <a:pt x="2267" y="298"/>
                </a:lnTo>
                <a:lnTo>
                  <a:pt x="2260" y="300"/>
                </a:lnTo>
                <a:lnTo>
                  <a:pt x="2252" y="300"/>
                </a:lnTo>
                <a:lnTo>
                  <a:pt x="2245" y="300"/>
                </a:lnTo>
                <a:lnTo>
                  <a:pt x="2245" y="303"/>
                </a:lnTo>
                <a:lnTo>
                  <a:pt x="2234" y="303"/>
                </a:lnTo>
                <a:lnTo>
                  <a:pt x="2219" y="305"/>
                </a:lnTo>
                <a:lnTo>
                  <a:pt x="2208" y="303"/>
                </a:lnTo>
                <a:lnTo>
                  <a:pt x="2196" y="300"/>
                </a:lnTo>
                <a:lnTo>
                  <a:pt x="2193" y="296"/>
                </a:lnTo>
                <a:lnTo>
                  <a:pt x="2193" y="293"/>
                </a:lnTo>
                <a:lnTo>
                  <a:pt x="2193" y="291"/>
                </a:lnTo>
                <a:lnTo>
                  <a:pt x="2193" y="286"/>
                </a:lnTo>
                <a:lnTo>
                  <a:pt x="2193" y="279"/>
                </a:lnTo>
                <a:lnTo>
                  <a:pt x="2191" y="270"/>
                </a:lnTo>
                <a:lnTo>
                  <a:pt x="2200" y="260"/>
                </a:lnTo>
                <a:lnTo>
                  <a:pt x="2212" y="253"/>
                </a:lnTo>
                <a:lnTo>
                  <a:pt x="2226" y="246"/>
                </a:lnTo>
                <a:lnTo>
                  <a:pt x="2238" y="241"/>
                </a:lnTo>
                <a:lnTo>
                  <a:pt x="2231" y="232"/>
                </a:lnTo>
                <a:lnTo>
                  <a:pt x="2215" y="232"/>
                </a:lnTo>
                <a:lnTo>
                  <a:pt x="2212" y="232"/>
                </a:lnTo>
                <a:lnTo>
                  <a:pt x="2208" y="229"/>
                </a:lnTo>
                <a:lnTo>
                  <a:pt x="2200" y="234"/>
                </a:lnTo>
                <a:lnTo>
                  <a:pt x="2193" y="241"/>
                </a:lnTo>
                <a:lnTo>
                  <a:pt x="2193" y="244"/>
                </a:lnTo>
                <a:lnTo>
                  <a:pt x="2193" y="246"/>
                </a:lnTo>
                <a:lnTo>
                  <a:pt x="2184" y="258"/>
                </a:lnTo>
                <a:lnTo>
                  <a:pt x="2167" y="263"/>
                </a:lnTo>
                <a:lnTo>
                  <a:pt x="2153" y="272"/>
                </a:lnTo>
                <a:lnTo>
                  <a:pt x="2146" y="286"/>
                </a:lnTo>
                <a:lnTo>
                  <a:pt x="2146" y="289"/>
                </a:lnTo>
                <a:lnTo>
                  <a:pt x="2146" y="291"/>
                </a:lnTo>
                <a:lnTo>
                  <a:pt x="2155" y="298"/>
                </a:lnTo>
                <a:lnTo>
                  <a:pt x="2165" y="308"/>
                </a:lnTo>
                <a:lnTo>
                  <a:pt x="2163" y="312"/>
                </a:lnTo>
                <a:lnTo>
                  <a:pt x="2155" y="317"/>
                </a:lnTo>
                <a:lnTo>
                  <a:pt x="2148" y="322"/>
                </a:lnTo>
                <a:lnTo>
                  <a:pt x="2141" y="322"/>
                </a:lnTo>
                <a:lnTo>
                  <a:pt x="2141" y="327"/>
                </a:lnTo>
                <a:lnTo>
                  <a:pt x="2141" y="329"/>
                </a:lnTo>
                <a:lnTo>
                  <a:pt x="2139" y="334"/>
                </a:lnTo>
                <a:lnTo>
                  <a:pt x="2139" y="343"/>
                </a:lnTo>
                <a:lnTo>
                  <a:pt x="2141" y="341"/>
                </a:lnTo>
                <a:lnTo>
                  <a:pt x="2141" y="345"/>
                </a:lnTo>
                <a:lnTo>
                  <a:pt x="2139" y="353"/>
                </a:lnTo>
                <a:lnTo>
                  <a:pt x="2137" y="353"/>
                </a:lnTo>
                <a:lnTo>
                  <a:pt x="2134" y="350"/>
                </a:lnTo>
                <a:lnTo>
                  <a:pt x="2132" y="353"/>
                </a:lnTo>
                <a:lnTo>
                  <a:pt x="2132" y="355"/>
                </a:lnTo>
                <a:lnTo>
                  <a:pt x="2127" y="355"/>
                </a:lnTo>
                <a:lnTo>
                  <a:pt x="2122" y="355"/>
                </a:lnTo>
                <a:lnTo>
                  <a:pt x="2118" y="357"/>
                </a:lnTo>
                <a:lnTo>
                  <a:pt x="2113" y="357"/>
                </a:lnTo>
                <a:lnTo>
                  <a:pt x="2113" y="360"/>
                </a:lnTo>
                <a:lnTo>
                  <a:pt x="2113" y="364"/>
                </a:lnTo>
                <a:lnTo>
                  <a:pt x="2108" y="364"/>
                </a:lnTo>
                <a:lnTo>
                  <a:pt x="2101" y="367"/>
                </a:lnTo>
                <a:lnTo>
                  <a:pt x="2099" y="367"/>
                </a:lnTo>
                <a:lnTo>
                  <a:pt x="2094" y="364"/>
                </a:lnTo>
                <a:lnTo>
                  <a:pt x="2094" y="362"/>
                </a:lnTo>
                <a:lnTo>
                  <a:pt x="2094" y="360"/>
                </a:lnTo>
                <a:lnTo>
                  <a:pt x="2094" y="357"/>
                </a:lnTo>
                <a:lnTo>
                  <a:pt x="2092" y="362"/>
                </a:lnTo>
                <a:lnTo>
                  <a:pt x="2089" y="367"/>
                </a:lnTo>
                <a:lnTo>
                  <a:pt x="2087" y="369"/>
                </a:lnTo>
                <a:lnTo>
                  <a:pt x="2087" y="372"/>
                </a:lnTo>
                <a:lnTo>
                  <a:pt x="2080" y="374"/>
                </a:lnTo>
                <a:lnTo>
                  <a:pt x="2075" y="376"/>
                </a:lnTo>
                <a:lnTo>
                  <a:pt x="2075" y="374"/>
                </a:lnTo>
                <a:lnTo>
                  <a:pt x="2075" y="372"/>
                </a:lnTo>
                <a:lnTo>
                  <a:pt x="2077" y="372"/>
                </a:lnTo>
                <a:lnTo>
                  <a:pt x="2082" y="372"/>
                </a:lnTo>
                <a:lnTo>
                  <a:pt x="2077" y="364"/>
                </a:lnTo>
                <a:lnTo>
                  <a:pt x="2070" y="360"/>
                </a:lnTo>
                <a:lnTo>
                  <a:pt x="2073" y="360"/>
                </a:lnTo>
                <a:lnTo>
                  <a:pt x="2080" y="357"/>
                </a:lnTo>
                <a:lnTo>
                  <a:pt x="2087" y="355"/>
                </a:lnTo>
                <a:lnTo>
                  <a:pt x="2089" y="355"/>
                </a:lnTo>
                <a:lnTo>
                  <a:pt x="2092" y="355"/>
                </a:lnTo>
                <a:lnTo>
                  <a:pt x="2092" y="353"/>
                </a:lnTo>
                <a:lnTo>
                  <a:pt x="2092" y="348"/>
                </a:lnTo>
                <a:lnTo>
                  <a:pt x="2084" y="338"/>
                </a:lnTo>
                <a:lnTo>
                  <a:pt x="2075" y="322"/>
                </a:lnTo>
                <a:lnTo>
                  <a:pt x="2075" y="319"/>
                </a:lnTo>
                <a:lnTo>
                  <a:pt x="2075" y="317"/>
                </a:lnTo>
                <a:lnTo>
                  <a:pt x="2073" y="315"/>
                </a:lnTo>
                <a:lnTo>
                  <a:pt x="2068" y="315"/>
                </a:lnTo>
                <a:lnTo>
                  <a:pt x="2068" y="317"/>
                </a:lnTo>
                <a:lnTo>
                  <a:pt x="2066" y="317"/>
                </a:lnTo>
                <a:lnTo>
                  <a:pt x="2063" y="317"/>
                </a:lnTo>
                <a:lnTo>
                  <a:pt x="2058" y="319"/>
                </a:lnTo>
                <a:lnTo>
                  <a:pt x="2049" y="324"/>
                </a:lnTo>
                <a:lnTo>
                  <a:pt x="2032" y="331"/>
                </a:lnTo>
                <a:lnTo>
                  <a:pt x="2030" y="331"/>
                </a:lnTo>
                <a:lnTo>
                  <a:pt x="2025" y="331"/>
                </a:lnTo>
                <a:lnTo>
                  <a:pt x="2018" y="329"/>
                </a:lnTo>
                <a:lnTo>
                  <a:pt x="2011" y="324"/>
                </a:lnTo>
                <a:lnTo>
                  <a:pt x="2011" y="319"/>
                </a:lnTo>
                <a:lnTo>
                  <a:pt x="2011" y="317"/>
                </a:lnTo>
                <a:lnTo>
                  <a:pt x="2013" y="317"/>
                </a:lnTo>
                <a:lnTo>
                  <a:pt x="2013" y="315"/>
                </a:lnTo>
                <a:lnTo>
                  <a:pt x="2011" y="315"/>
                </a:lnTo>
                <a:lnTo>
                  <a:pt x="2006" y="315"/>
                </a:lnTo>
                <a:lnTo>
                  <a:pt x="2006" y="308"/>
                </a:lnTo>
                <a:lnTo>
                  <a:pt x="2006" y="296"/>
                </a:lnTo>
                <a:lnTo>
                  <a:pt x="2004" y="296"/>
                </a:lnTo>
                <a:lnTo>
                  <a:pt x="2004" y="293"/>
                </a:lnTo>
                <a:lnTo>
                  <a:pt x="2004" y="286"/>
                </a:lnTo>
                <a:lnTo>
                  <a:pt x="2004" y="282"/>
                </a:lnTo>
                <a:lnTo>
                  <a:pt x="2009" y="277"/>
                </a:lnTo>
                <a:lnTo>
                  <a:pt x="2016" y="274"/>
                </a:lnTo>
                <a:lnTo>
                  <a:pt x="2028" y="265"/>
                </a:lnTo>
                <a:lnTo>
                  <a:pt x="2042" y="265"/>
                </a:lnTo>
                <a:lnTo>
                  <a:pt x="2044" y="260"/>
                </a:lnTo>
                <a:lnTo>
                  <a:pt x="2044" y="255"/>
                </a:lnTo>
                <a:lnTo>
                  <a:pt x="2051" y="258"/>
                </a:lnTo>
                <a:lnTo>
                  <a:pt x="2058" y="258"/>
                </a:lnTo>
                <a:lnTo>
                  <a:pt x="2070" y="246"/>
                </a:lnTo>
                <a:lnTo>
                  <a:pt x="2087" y="237"/>
                </a:lnTo>
                <a:lnTo>
                  <a:pt x="2096" y="222"/>
                </a:lnTo>
                <a:lnTo>
                  <a:pt x="2110" y="210"/>
                </a:lnTo>
                <a:lnTo>
                  <a:pt x="2113" y="210"/>
                </a:lnTo>
                <a:lnTo>
                  <a:pt x="2115" y="210"/>
                </a:lnTo>
                <a:lnTo>
                  <a:pt x="2120" y="206"/>
                </a:lnTo>
                <a:lnTo>
                  <a:pt x="2125" y="199"/>
                </a:lnTo>
                <a:lnTo>
                  <a:pt x="2120" y="199"/>
                </a:lnTo>
                <a:lnTo>
                  <a:pt x="2113" y="201"/>
                </a:lnTo>
                <a:lnTo>
                  <a:pt x="2118" y="191"/>
                </a:lnTo>
                <a:lnTo>
                  <a:pt x="2125" y="189"/>
                </a:lnTo>
                <a:lnTo>
                  <a:pt x="2127" y="184"/>
                </a:lnTo>
                <a:lnTo>
                  <a:pt x="2134" y="184"/>
                </a:lnTo>
                <a:lnTo>
                  <a:pt x="2132" y="187"/>
                </a:lnTo>
                <a:lnTo>
                  <a:pt x="2132" y="189"/>
                </a:lnTo>
                <a:lnTo>
                  <a:pt x="2134" y="189"/>
                </a:lnTo>
                <a:lnTo>
                  <a:pt x="2137" y="189"/>
                </a:lnTo>
                <a:lnTo>
                  <a:pt x="2139" y="191"/>
                </a:lnTo>
                <a:lnTo>
                  <a:pt x="2139" y="194"/>
                </a:lnTo>
                <a:lnTo>
                  <a:pt x="2144" y="191"/>
                </a:lnTo>
                <a:lnTo>
                  <a:pt x="2148" y="189"/>
                </a:lnTo>
                <a:lnTo>
                  <a:pt x="2144" y="189"/>
                </a:lnTo>
                <a:lnTo>
                  <a:pt x="2141" y="189"/>
                </a:lnTo>
                <a:lnTo>
                  <a:pt x="2144" y="182"/>
                </a:lnTo>
                <a:lnTo>
                  <a:pt x="2148" y="180"/>
                </a:lnTo>
                <a:lnTo>
                  <a:pt x="2153" y="180"/>
                </a:lnTo>
                <a:lnTo>
                  <a:pt x="2158" y="182"/>
                </a:lnTo>
                <a:lnTo>
                  <a:pt x="2158" y="180"/>
                </a:lnTo>
                <a:lnTo>
                  <a:pt x="2158" y="177"/>
                </a:lnTo>
                <a:lnTo>
                  <a:pt x="2163" y="175"/>
                </a:lnTo>
                <a:lnTo>
                  <a:pt x="2167" y="173"/>
                </a:lnTo>
                <a:lnTo>
                  <a:pt x="2170" y="173"/>
                </a:lnTo>
                <a:lnTo>
                  <a:pt x="2174" y="175"/>
                </a:lnTo>
                <a:lnTo>
                  <a:pt x="2174" y="177"/>
                </a:lnTo>
                <a:lnTo>
                  <a:pt x="2177" y="177"/>
                </a:lnTo>
                <a:lnTo>
                  <a:pt x="2177" y="175"/>
                </a:lnTo>
                <a:lnTo>
                  <a:pt x="2174" y="175"/>
                </a:lnTo>
                <a:lnTo>
                  <a:pt x="2174" y="173"/>
                </a:lnTo>
                <a:lnTo>
                  <a:pt x="2177" y="170"/>
                </a:lnTo>
                <a:lnTo>
                  <a:pt x="2179" y="175"/>
                </a:lnTo>
                <a:lnTo>
                  <a:pt x="2184" y="180"/>
                </a:lnTo>
                <a:lnTo>
                  <a:pt x="2184" y="177"/>
                </a:lnTo>
                <a:lnTo>
                  <a:pt x="2193" y="173"/>
                </a:lnTo>
                <a:lnTo>
                  <a:pt x="2200" y="170"/>
                </a:lnTo>
                <a:lnTo>
                  <a:pt x="2203" y="170"/>
                </a:lnTo>
                <a:lnTo>
                  <a:pt x="2203" y="168"/>
                </a:lnTo>
                <a:lnTo>
                  <a:pt x="2203" y="165"/>
                </a:lnTo>
                <a:lnTo>
                  <a:pt x="2210" y="165"/>
                </a:lnTo>
                <a:lnTo>
                  <a:pt x="2217" y="163"/>
                </a:lnTo>
                <a:lnTo>
                  <a:pt x="2219" y="168"/>
                </a:lnTo>
                <a:lnTo>
                  <a:pt x="2222" y="168"/>
                </a:lnTo>
                <a:lnTo>
                  <a:pt x="2224" y="168"/>
                </a:lnTo>
                <a:lnTo>
                  <a:pt x="2226" y="165"/>
                </a:lnTo>
                <a:lnTo>
                  <a:pt x="2231" y="163"/>
                </a:lnTo>
                <a:lnTo>
                  <a:pt x="2234" y="163"/>
                </a:lnTo>
                <a:lnTo>
                  <a:pt x="2238" y="163"/>
                </a:lnTo>
                <a:lnTo>
                  <a:pt x="2243" y="161"/>
                </a:lnTo>
                <a:lnTo>
                  <a:pt x="2245" y="158"/>
                </a:lnTo>
                <a:lnTo>
                  <a:pt x="2248" y="158"/>
                </a:lnTo>
                <a:lnTo>
                  <a:pt x="2248" y="161"/>
                </a:lnTo>
                <a:lnTo>
                  <a:pt x="2243" y="165"/>
                </a:lnTo>
                <a:lnTo>
                  <a:pt x="2238" y="173"/>
                </a:lnTo>
                <a:lnTo>
                  <a:pt x="2245" y="168"/>
                </a:lnTo>
                <a:lnTo>
                  <a:pt x="2252" y="163"/>
                </a:lnTo>
                <a:lnTo>
                  <a:pt x="2255" y="165"/>
                </a:lnTo>
                <a:lnTo>
                  <a:pt x="2257" y="165"/>
                </a:lnTo>
                <a:lnTo>
                  <a:pt x="2262" y="165"/>
                </a:lnTo>
                <a:lnTo>
                  <a:pt x="2264" y="163"/>
                </a:lnTo>
                <a:lnTo>
                  <a:pt x="2264" y="161"/>
                </a:lnTo>
                <a:lnTo>
                  <a:pt x="2269" y="161"/>
                </a:lnTo>
                <a:lnTo>
                  <a:pt x="2274" y="161"/>
                </a:lnTo>
                <a:lnTo>
                  <a:pt x="2274" y="165"/>
                </a:lnTo>
                <a:lnTo>
                  <a:pt x="2274" y="168"/>
                </a:lnTo>
                <a:lnTo>
                  <a:pt x="2276" y="168"/>
                </a:lnTo>
                <a:lnTo>
                  <a:pt x="2276" y="165"/>
                </a:lnTo>
                <a:lnTo>
                  <a:pt x="2278" y="163"/>
                </a:lnTo>
                <a:lnTo>
                  <a:pt x="2290" y="165"/>
                </a:lnTo>
                <a:lnTo>
                  <a:pt x="2305" y="168"/>
                </a:lnTo>
                <a:lnTo>
                  <a:pt x="2300" y="175"/>
                </a:lnTo>
                <a:lnTo>
                  <a:pt x="2288" y="175"/>
                </a:lnTo>
                <a:lnTo>
                  <a:pt x="2288" y="177"/>
                </a:lnTo>
                <a:lnTo>
                  <a:pt x="2300" y="177"/>
                </a:lnTo>
                <a:lnTo>
                  <a:pt x="2309" y="177"/>
                </a:lnTo>
                <a:lnTo>
                  <a:pt x="2319" y="177"/>
                </a:lnTo>
                <a:lnTo>
                  <a:pt x="2326" y="177"/>
                </a:lnTo>
                <a:lnTo>
                  <a:pt x="2335" y="184"/>
                </a:lnTo>
                <a:lnTo>
                  <a:pt x="2352" y="184"/>
                </a:lnTo>
                <a:lnTo>
                  <a:pt x="2366" y="187"/>
                </a:lnTo>
                <a:lnTo>
                  <a:pt x="2380" y="189"/>
                </a:lnTo>
                <a:lnTo>
                  <a:pt x="2392" y="194"/>
                </a:lnTo>
                <a:lnTo>
                  <a:pt x="2406" y="199"/>
                </a:lnTo>
                <a:lnTo>
                  <a:pt x="2418" y="203"/>
                </a:lnTo>
                <a:lnTo>
                  <a:pt x="2425" y="213"/>
                </a:lnTo>
                <a:lnTo>
                  <a:pt x="2425" y="215"/>
                </a:lnTo>
                <a:lnTo>
                  <a:pt x="2425" y="218"/>
                </a:lnTo>
                <a:lnTo>
                  <a:pt x="2411" y="222"/>
                </a:lnTo>
                <a:lnTo>
                  <a:pt x="2392" y="227"/>
                </a:lnTo>
                <a:lnTo>
                  <a:pt x="2390" y="227"/>
                </a:lnTo>
                <a:lnTo>
                  <a:pt x="2361" y="222"/>
                </a:lnTo>
                <a:lnTo>
                  <a:pt x="2335" y="218"/>
                </a:lnTo>
                <a:lnTo>
                  <a:pt x="2342" y="222"/>
                </a:lnTo>
                <a:lnTo>
                  <a:pt x="2349" y="227"/>
                </a:lnTo>
                <a:lnTo>
                  <a:pt x="2349" y="232"/>
                </a:lnTo>
                <a:lnTo>
                  <a:pt x="2349" y="234"/>
                </a:lnTo>
                <a:lnTo>
                  <a:pt x="2352" y="241"/>
                </a:lnTo>
                <a:lnTo>
                  <a:pt x="2354" y="248"/>
                </a:lnTo>
                <a:lnTo>
                  <a:pt x="2366" y="251"/>
                </a:lnTo>
                <a:lnTo>
                  <a:pt x="2376" y="253"/>
                </a:lnTo>
                <a:lnTo>
                  <a:pt x="2380" y="253"/>
                </a:lnTo>
                <a:lnTo>
                  <a:pt x="2385" y="253"/>
                </a:lnTo>
                <a:lnTo>
                  <a:pt x="2383" y="248"/>
                </a:lnTo>
                <a:lnTo>
                  <a:pt x="2378" y="248"/>
                </a:lnTo>
                <a:lnTo>
                  <a:pt x="2373" y="246"/>
                </a:lnTo>
                <a:lnTo>
                  <a:pt x="2371" y="244"/>
                </a:lnTo>
                <a:lnTo>
                  <a:pt x="2371" y="241"/>
                </a:lnTo>
                <a:lnTo>
                  <a:pt x="2368" y="241"/>
                </a:lnTo>
                <a:lnTo>
                  <a:pt x="2373" y="239"/>
                </a:lnTo>
                <a:lnTo>
                  <a:pt x="2376" y="237"/>
                </a:lnTo>
                <a:lnTo>
                  <a:pt x="2378" y="237"/>
                </a:lnTo>
                <a:lnTo>
                  <a:pt x="2392" y="241"/>
                </a:lnTo>
                <a:lnTo>
                  <a:pt x="2411" y="241"/>
                </a:lnTo>
                <a:lnTo>
                  <a:pt x="2409" y="237"/>
                </a:lnTo>
                <a:lnTo>
                  <a:pt x="2406" y="232"/>
                </a:lnTo>
                <a:lnTo>
                  <a:pt x="2423" y="225"/>
                </a:lnTo>
                <a:lnTo>
                  <a:pt x="2437" y="220"/>
                </a:lnTo>
                <a:lnTo>
                  <a:pt x="2439" y="220"/>
                </a:lnTo>
                <a:lnTo>
                  <a:pt x="2444" y="220"/>
                </a:lnTo>
                <a:lnTo>
                  <a:pt x="2451" y="222"/>
                </a:lnTo>
                <a:lnTo>
                  <a:pt x="2458" y="225"/>
                </a:lnTo>
                <a:lnTo>
                  <a:pt x="2461" y="220"/>
                </a:lnTo>
                <a:lnTo>
                  <a:pt x="2461" y="218"/>
                </a:lnTo>
                <a:lnTo>
                  <a:pt x="2458" y="213"/>
                </a:lnTo>
                <a:lnTo>
                  <a:pt x="2454" y="213"/>
                </a:lnTo>
                <a:lnTo>
                  <a:pt x="2456" y="206"/>
                </a:lnTo>
                <a:lnTo>
                  <a:pt x="2458" y="199"/>
                </a:lnTo>
                <a:lnTo>
                  <a:pt x="2456" y="196"/>
                </a:lnTo>
                <a:lnTo>
                  <a:pt x="2449" y="196"/>
                </a:lnTo>
                <a:lnTo>
                  <a:pt x="2449" y="194"/>
                </a:lnTo>
                <a:lnTo>
                  <a:pt x="2449" y="191"/>
                </a:lnTo>
                <a:lnTo>
                  <a:pt x="2461" y="191"/>
                </a:lnTo>
                <a:lnTo>
                  <a:pt x="2470" y="191"/>
                </a:lnTo>
                <a:lnTo>
                  <a:pt x="2480" y="194"/>
                </a:lnTo>
                <a:lnTo>
                  <a:pt x="2487" y="199"/>
                </a:lnTo>
                <a:lnTo>
                  <a:pt x="2484" y="201"/>
                </a:lnTo>
                <a:lnTo>
                  <a:pt x="2484" y="206"/>
                </a:lnTo>
                <a:lnTo>
                  <a:pt x="2475" y="206"/>
                </a:lnTo>
                <a:lnTo>
                  <a:pt x="2470" y="210"/>
                </a:lnTo>
                <a:lnTo>
                  <a:pt x="2477" y="213"/>
                </a:lnTo>
                <a:lnTo>
                  <a:pt x="2484" y="215"/>
                </a:lnTo>
                <a:lnTo>
                  <a:pt x="2487" y="215"/>
                </a:lnTo>
                <a:lnTo>
                  <a:pt x="2489" y="215"/>
                </a:lnTo>
                <a:lnTo>
                  <a:pt x="2499" y="210"/>
                </a:lnTo>
                <a:lnTo>
                  <a:pt x="2510" y="203"/>
                </a:lnTo>
                <a:lnTo>
                  <a:pt x="2513" y="203"/>
                </a:lnTo>
                <a:lnTo>
                  <a:pt x="2515" y="201"/>
                </a:lnTo>
                <a:lnTo>
                  <a:pt x="2532" y="199"/>
                </a:lnTo>
                <a:lnTo>
                  <a:pt x="2548" y="194"/>
                </a:lnTo>
                <a:lnTo>
                  <a:pt x="2551" y="194"/>
                </a:lnTo>
                <a:lnTo>
                  <a:pt x="2555" y="196"/>
                </a:lnTo>
                <a:lnTo>
                  <a:pt x="2555" y="194"/>
                </a:lnTo>
                <a:lnTo>
                  <a:pt x="2555" y="191"/>
                </a:lnTo>
                <a:lnTo>
                  <a:pt x="2565" y="189"/>
                </a:lnTo>
                <a:lnTo>
                  <a:pt x="2577" y="187"/>
                </a:lnTo>
                <a:lnTo>
                  <a:pt x="2572" y="191"/>
                </a:lnTo>
                <a:lnTo>
                  <a:pt x="2570" y="196"/>
                </a:lnTo>
                <a:lnTo>
                  <a:pt x="2584" y="194"/>
                </a:lnTo>
                <a:lnTo>
                  <a:pt x="2596" y="191"/>
                </a:lnTo>
                <a:lnTo>
                  <a:pt x="2615" y="191"/>
                </a:lnTo>
                <a:lnTo>
                  <a:pt x="2624" y="189"/>
                </a:lnTo>
                <a:lnTo>
                  <a:pt x="2626" y="189"/>
                </a:lnTo>
                <a:lnTo>
                  <a:pt x="2629" y="189"/>
                </a:lnTo>
                <a:lnTo>
                  <a:pt x="2633" y="189"/>
                </a:lnTo>
                <a:lnTo>
                  <a:pt x="2636" y="189"/>
                </a:lnTo>
                <a:lnTo>
                  <a:pt x="2636" y="191"/>
                </a:lnTo>
                <a:lnTo>
                  <a:pt x="2633" y="196"/>
                </a:lnTo>
                <a:lnTo>
                  <a:pt x="2638" y="194"/>
                </a:lnTo>
                <a:lnTo>
                  <a:pt x="2641" y="191"/>
                </a:lnTo>
                <a:lnTo>
                  <a:pt x="2645" y="191"/>
                </a:lnTo>
                <a:lnTo>
                  <a:pt x="2650" y="189"/>
                </a:lnTo>
                <a:lnTo>
                  <a:pt x="2648" y="187"/>
                </a:lnTo>
                <a:lnTo>
                  <a:pt x="2645" y="182"/>
                </a:lnTo>
                <a:lnTo>
                  <a:pt x="2643" y="182"/>
                </a:lnTo>
                <a:lnTo>
                  <a:pt x="2641" y="182"/>
                </a:lnTo>
                <a:lnTo>
                  <a:pt x="2631" y="177"/>
                </a:lnTo>
                <a:lnTo>
                  <a:pt x="2624" y="173"/>
                </a:lnTo>
                <a:lnTo>
                  <a:pt x="2626" y="170"/>
                </a:lnTo>
                <a:lnTo>
                  <a:pt x="2631" y="168"/>
                </a:lnTo>
                <a:lnTo>
                  <a:pt x="2641" y="173"/>
                </a:lnTo>
                <a:lnTo>
                  <a:pt x="2650" y="177"/>
                </a:lnTo>
                <a:lnTo>
                  <a:pt x="2676" y="177"/>
                </a:lnTo>
                <a:lnTo>
                  <a:pt x="2700" y="182"/>
                </a:lnTo>
                <a:lnTo>
                  <a:pt x="2721" y="189"/>
                </a:lnTo>
                <a:lnTo>
                  <a:pt x="2740" y="196"/>
                </a:lnTo>
                <a:lnTo>
                  <a:pt x="2742" y="194"/>
                </a:lnTo>
                <a:lnTo>
                  <a:pt x="2745" y="189"/>
                </a:lnTo>
                <a:lnTo>
                  <a:pt x="2733" y="184"/>
                </a:lnTo>
                <a:lnTo>
                  <a:pt x="2721" y="177"/>
                </a:lnTo>
                <a:lnTo>
                  <a:pt x="2721" y="175"/>
                </a:lnTo>
                <a:lnTo>
                  <a:pt x="2723" y="175"/>
                </a:lnTo>
                <a:lnTo>
                  <a:pt x="2726" y="173"/>
                </a:lnTo>
                <a:lnTo>
                  <a:pt x="2726" y="170"/>
                </a:lnTo>
                <a:lnTo>
                  <a:pt x="2726" y="165"/>
                </a:lnTo>
                <a:lnTo>
                  <a:pt x="2723" y="165"/>
                </a:lnTo>
                <a:lnTo>
                  <a:pt x="2719" y="163"/>
                </a:lnTo>
                <a:lnTo>
                  <a:pt x="2721" y="161"/>
                </a:lnTo>
                <a:lnTo>
                  <a:pt x="2721" y="158"/>
                </a:lnTo>
                <a:lnTo>
                  <a:pt x="2733" y="156"/>
                </a:lnTo>
                <a:lnTo>
                  <a:pt x="2740" y="151"/>
                </a:lnTo>
                <a:lnTo>
                  <a:pt x="2745" y="142"/>
                </a:lnTo>
                <a:lnTo>
                  <a:pt x="2752" y="137"/>
                </a:lnTo>
                <a:lnTo>
                  <a:pt x="2754" y="137"/>
                </a:lnTo>
                <a:lnTo>
                  <a:pt x="2756" y="137"/>
                </a:lnTo>
                <a:lnTo>
                  <a:pt x="2756" y="132"/>
                </a:lnTo>
                <a:lnTo>
                  <a:pt x="2756" y="130"/>
                </a:lnTo>
                <a:lnTo>
                  <a:pt x="2761" y="130"/>
                </a:lnTo>
                <a:lnTo>
                  <a:pt x="2764" y="130"/>
                </a:lnTo>
                <a:lnTo>
                  <a:pt x="2766" y="130"/>
                </a:lnTo>
                <a:lnTo>
                  <a:pt x="2771" y="130"/>
                </a:lnTo>
                <a:lnTo>
                  <a:pt x="2775" y="130"/>
                </a:lnTo>
                <a:lnTo>
                  <a:pt x="2775" y="132"/>
                </a:lnTo>
                <a:lnTo>
                  <a:pt x="2773" y="137"/>
                </a:lnTo>
                <a:lnTo>
                  <a:pt x="2785" y="137"/>
                </a:lnTo>
                <a:lnTo>
                  <a:pt x="2792" y="144"/>
                </a:lnTo>
                <a:lnTo>
                  <a:pt x="2787" y="151"/>
                </a:lnTo>
                <a:lnTo>
                  <a:pt x="2783" y="158"/>
                </a:lnTo>
                <a:lnTo>
                  <a:pt x="2787" y="158"/>
                </a:lnTo>
                <a:lnTo>
                  <a:pt x="2790" y="163"/>
                </a:lnTo>
                <a:lnTo>
                  <a:pt x="2790" y="165"/>
                </a:lnTo>
                <a:lnTo>
                  <a:pt x="2790" y="173"/>
                </a:lnTo>
                <a:lnTo>
                  <a:pt x="2790" y="182"/>
                </a:lnTo>
                <a:lnTo>
                  <a:pt x="2790" y="184"/>
                </a:lnTo>
                <a:lnTo>
                  <a:pt x="2790" y="189"/>
                </a:lnTo>
                <a:lnTo>
                  <a:pt x="2794" y="191"/>
                </a:lnTo>
                <a:lnTo>
                  <a:pt x="2797" y="196"/>
                </a:lnTo>
                <a:lnTo>
                  <a:pt x="2797" y="199"/>
                </a:lnTo>
                <a:lnTo>
                  <a:pt x="2794" y="206"/>
                </a:lnTo>
                <a:lnTo>
                  <a:pt x="2783" y="213"/>
                </a:lnTo>
                <a:lnTo>
                  <a:pt x="2771" y="220"/>
                </a:lnTo>
                <a:lnTo>
                  <a:pt x="2778" y="222"/>
                </a:lnTo>
                <a:lnTo>
                  <a:pt x="2783" y="222"/>
                </a:lnTo>
                <a:lnTo>
                  <a:pt x="2797" y="215"/>
                </a:lnTo>
                <a:lnTo>
                  <a:pt x="2811" y="201"/>
                </a:lnTo>
                <a:lnTo>
                  <a:pt x="2811" y="199"/>
                </a:lnTo>
                <a:lnTo>
                  <a:pt x="2809" y="196"/>
                </a:lnTo>
                <a:lnTo>
                  <a:pt x="2809" y="191"/>
                </a:lnTo>
                <a:lnTo>
                  <a:pt x="2811" y="189"/>
                </a:lnTo>
                <a:lnTo>
                  <a:pt x="2820" y="189"/>
                </a:lnTo>
                <a:lnTo>
                  <a:pt x="2830" y="189"/>
                </a:lnTo>
                <a:lnTo>
                  <a:pt x="2830" y="187"/>
                </a:lnTo>
                <a:lnTo>
                  <a:pt x="2816" y="187"/>
                </a:lnTo>
                <a:lnTo>
                  <a:pt x="2804" y="189"/>
                </a:lnTo>
                <a:lnTo>
                  <a:pt x="2801" y="182"/>
                </a:lnTo>
                <a:lnTo>
                  <a:pt x="2799" y="180"/>
                </a:lnTo>
                <a:lnTo>
                  <a:pt x="2801" y="173"/>
                </a:lnTo>
                <a:lnTo>
                  <a:pt x="2806" y="168"/>
                </a:lnTo>
                <a:lnTo>
                  <a:pt x="2799" y="161"/>
                </a:lnTo>
                <a:lnTo>
                  <a:pt x="2797" y="156"/>
                </a:lnTo>
                <a:lnTo>
                  <a:pt x="2797" y="154"/>
                </a:lnTo>
                <a:lnTo>
                  <a:pt x="2799" y="151"/>
                </a:lnTo>
                <a:lnTo>
                  <a:pt x="2809" y="149"/>
                </a:lnTo>
                <a:lnTo>
                  <a:pt x="2816" y="144"/>
                </a:lnTo>
                <a:lnTo>
                  <a:pt x="2816" y="142"/>
                </a:lnTo>
                <a:lnTo>
                  <a:pt x="2816" y="139"/>
                </a:lnTo>
                <a:lnTo>
                  <a:pt x="2818" y="137"/>
                </a:lnTo>
                <a:lnTo>
                  <a:pt x="2823" y="139"/>
                </a:lnTo>
                <a:lnTo>
                  <a:pt x="2823" y="144"/>
                </a:lnTo>
                <a:lnTo>
                  <a:pt x="2823" y="151"/>
                </a:lnTo>
                <a:lnTo>
                  <a:pt x="2823" y="158"/>
                </a:lnTo>
                <a:lnTo>
                  <a:pt x="2832" y="158"/>
                </a:lnTo>
                <a:lnTo>
                  <a:pt x="2839" y="161"/>
                </a:lnTo>
                <a:lnTo>
                  <a:pt x="2839" y="158"/>
                </a:lnTo>
                <a:lnTo>
                  <a:pt x="2832" y="156"/>
                </a:lnTo>
                <a:lnTo>
                  <a:pt x="2830" y="149"/>
                </a:lnTo>
                <a:lnTo>
                  <a:pt x="2832" y="149"/>
                </a:lnTo>
                <a:lnTo>
                  <a:pt x="2837" y="149"/>
                </a:lnTo>
                <a:lnTo>
                  <a:pt x="2842" y="149"/>
                </a:lnTo>
                <a:lnTo>
                  <a:pt x="2849" y="151"/>
                </a:lnTo>
                <a:lnTo>
                  <a:pt x="2844" y="149"/>
                </a:lnTo>
                <a:lnTo>
                  <a:pt x="2839" y="146"/>
                </a:lnTo>
                <a:lnTo>
                  <a:pt x="2842" y="142"/>
                </a:lnTo>
                <a:lnTo>
                  <a:pt x="2846" y="139"/>
                </a:lnTo>
                <a:lnTo>
                  <a:pt x="2849" y="139"/>
                </a:lnTo>
                <a:lnTo>
                  <a:pt x="2854" y="142"/>
                </a:lnTo>
                <a:lnTo>
                  <a:pt x="2856" y="144"/>
                </a:lnTo>
                <a:lnTo>
                  <a:pt x="2856" y="142"/>
                </a:lnTo>
                <a:lnTo>
                  <a:pt x="2880" y="146"/>
                </a:lnTo>
                <a:lnTo>
                  <a:pt x="2903" y="154"/>
                </a:lnTo>
                <a:lnTo>
                  <a:pt x="2903" y="151"/>
                </a:lnTo>
                <a:lnTo>
                  <a:pt x="2891" y="146"/>
                </a:lnTo>
                <a:lnTo>
                  <a:pt x="2880" y="142"/>
                </a:lnTo>
                <a:lnTo>
                  <a:pt x="2882" y="139"/>
                </a:lnTo>
                <a:lnTo>
                  <a:pt x="2882" y="137"/>
                </a:lnTo>
                <a:lnTo>
                  <a:pt x="2880" y="137"/>
                </a:lnTo>
                <a:lnTo>
                  <a:pt x="2877" y="132"/>
                </a:lnTo>
                <a:lnTo>
                  <a:pt x="2880" y="130"/>
                </a:lnTo>
                <a:lnTo>
                  <a:pt x="2880" y="128"/>
                </a:lnTo>
                <a:lnTo>
                  <a:pt x="2917" y="125"/>
                </a:lnTo>
                <a:lnTo>
                  <a:pt x="2953" y="125"/>
                </a:lnTo>
                <a:lnTo>
                  <a:pt x="2951" y="123"/>
                </a:lnTo>
                <a:lnTo>
                  <a:pt x="2948" y="123"/>
                </a:lnTo>
                <a:lnTo>
                  <a:pt x="2946" y="120"/>
                </a:lnTo>
                <a:lnTo>
                  <a:pt x="2946" y="118"/>
                </a:lnTo>
                <a:lnTo>
                  <a:pt x="2943" y="118"/>
                </a:lnTo>
                <a:lnTo>
                  <a:pt x="2941" y="118"/>
                </a:lnTo>
                <a:lnTo>
                  <a:pt x="2941" y="116"/>
                </a:lnTo>
                <a:lnTo>
                  <a:pt x="2943" y="116"/>
                </a:lnTo>
                <a:lnTo>
                  <a:pt x="2946" y="113"/>
                </a:lnTo>
                <a:lnTo>
                  <a:pt x="2948" y="111"/>
                </a:lnTo>
                <a:lnTo>
                  <a:pt x="2951" y="111"/>
                </a:lnTo>
                <a:lnTo>
                  <a:pt x="2953" y="111"/>
                </a:lnTo>
                <a:lnTo>
                  <a:pt x="2955" y="111"/>
                </a:lnTo>
                <a:lnTo>
                  <a:pt x="2955" y="113"/>
                </a:lnTo>
                <a:lnTo>
                  <a:pt x="2958" y="113"/>
                </a:lnTo>
                <a:lnTo>
                  <a:pt x="2958" y="109"/>
                </a:lnTo>
                <a:lnTo>
                  <a:pt x="2960" y="106"/>
                </a:lnTo>
                <a:lnTo>
                  <a:pt x="2965" y="106"/>
                </a:lnTo>
                <a:lnTo>
                  <a:pt x="2969" y="106"/>
                </a:lnTo>
                <a:lnTo>
                  <a:pt x="2979" y="104"/>
                </a:lnTo>
                <a:lnTo>
                  <a:pt x="2986" y="104"/>
                </a:lnTo>
                <a:lnTo>
                  <a:pt x="3005" y="101"/>
                </a:lnTo>
                <a:lnTo>
                  <a:pt x="3024" y="99"/>
                </a:lnTo>
                <a:lnTo>
                  <a:pt x="3026" y="97"/>
                </a:lnTo>
                <a:lnTo>
                  <a:pt x="3029" y="94"/>
                </a:lnTo>
                <a:lnTo>
                  <a:pt x="3045" y="94"/>
                </a:lnTo>
                <a:lnTo>
                  <a:pt x="3059" y="94"/>
                </a:lnTo>
                <a:lnTo>
                  <a:pt x="3064" y="94"/>
                </a:lnTo>
                <a:lnTo>
                  <a:pt x="3066" y="92"/>
                </a:lnTo>
                <a:lnTo>
                  <a:pt x="3066" y="94"/>
                </a:lnTo>
                <a:lnTo>
                  <a:pt x="3064" y="97"/>
                </a:lnTo>
                <a:lnTo>
                  <a:pt x="3078" y="97"/>
                </a:lnTo>
                <a:lnTo>
                  <a:pt x="3090" y="94"/>
                </a:lnTo>
                <a:lnTo>
                  <a:pt x="3092" y="94"/>
                </a:lnTo>
                <a:lnTo>
                  <a:pt x="3095" y="94"/>
                </a:lnTo>
                <a:lnTo>
                  <a:pt x="3097" y="90"/>
                </a:lnTo>
                <a:lnTo>
                  <a:pt x="3102" y="90"/>
                </a:lnTo>
                <a:lnTo>
                  <a:pt x="3109" y="90"/>
                </a:lnTo>
                <a:lnTo>
                  <a:pt x="3116" y="90"/>
                </a:lnTo>
                <a:lnTo>
                  <a:pt x="3128" y="80"/>
                </a:lnTo>
                <a:lnTo>
                  <a:pt x="3147" y="75"/>
                </a:lnTo>
                <a:lnTo>
                  <a:pt x="3149" y="75"/>
                </a:lnTo>
                <a:lnTo>
                  <a:pt x="3152" y="75"/>
                </a:lnTo>
                <a:lnTo>
                  <a:pt x="3166" y="75"/>
                </a:lnTo>
                <a:lnTo>
                  <a:pt x="3175" y="80"/>
                </a:lnTo>
                <a:lnTo>
                  <a:pt x="3173" y="80"/>
                </a:lnTo>
                <a:lnTo>
                  <a:pt x="3171" y="80"/>
                </a:lnTo>
                <a:lnTo>
                  <a:pt x="3171" y="83"/>
                </a:lnTo>
                <a:lnTo>
                  <a:pt x="3171" y="85"/>
                </a:lnTo>
                <a:lnTo>
                  <a:pt x="3182" y="85"/>
                </a:lnTo>
                <a:lnTo>
                  <a:pt x="3192" y="85"/>
                </a:lnTo>
                <a:lnTo>
                  <a:pt x="3190" y="87"/>
                </a:lnTo>
                <a:lnTo>
                  <a:pt x="3187" y="90"/>
                </a:lnTo>
                <a:lnTo>
                  <a:pt x="3197" y="87"/>
                </a:lnTo>
                <a:lnTo>
                  <a:pt x="3201" y="87"/>
                </a:lnTo>
                <a:lnTo>
                  <a:pt x="3216" y="87"/>
                </a:lnTo>
                <a:lnTo>
                  <a:pt x="3227" y="87"/>
                </a:lnTo>
                <a:lnTo>
                  <a:pt x="3246" y="90"/>
                </a:lnTo>
                <a:lnTo>
                  <a:pt x="3263" y="94"/>
                </a:lnTo>
                <a:lnTo>
                  <a:pt x="3263" y="97"/>
                </a:lnTo>
                <a:lnTo>
                  <a:pt x="3265" y="99"/>
                </a:lnTo>
                <a:lnTo>
                  <a:pt x="3265" y="101"/>
                </a:lnTo>
                <a:lnTo>
                  <a:pt x="3265" y="104"/>
                </a:lnTo>
                <a:lnTo>
                  <a:pt x="3244" y="116"/>
                </a:lnTo>
                <a:lnTo>
                  <a:pt x="3220" y="123"/>
                </a:lnTo>
                <a:lnTo>
                  <a:pt x="3230" y="123"/>
                </a:lnTo>
                <a:lnTo>
                  <a:pt x="3239" y="123"/>
                </a:lnTo>
                <a:lnTo>
                  <a:pt x="3244" y="118"/>
                </a:lnTo>
                <a:lnTo>
                  <a:pt x="3249" y="116"/>
                </a:lnTo>
                <a:lnTo>
                  <a:pt x="3251" y="116"/>
                </a:lnTo>
                <a:lnTo>
                  <a:pt x="3256" y="116"/>
                </a:lnTo>
                <a:lnTo>
                  <a:pt x="3263" y="118"/>
                </a:lnTo>
                <a:lnTo>
                  <a:pt x="3258" y="123"/>
                </a:lnTo>
                <a:lnTo>
                  <a:pt x="3251" y="123"/>
                </a:lnTo>
                <a:lnTo>
                  <a:pt x="3246" y="123"/>
                </a:lnTo>
                <a:lnTo>
                  <a:pt x="3242" y="123"/>
                </a:lnTo>
                <a:lnTo>
                  <a:pt x="3242" y="125"/>
                </a:lnTo>
                <a:lnTo>
                  <a:pt x="3246" y="125"/>
                </a:lnTo>
                <a:lnTo>
                  <a:pt x="3249" y="125"/>
                </a:lnTo>
                <a:lnTo>
                  <a:pt x="3253" y="125"/>
                </a:lnTo>
                <a:lnTo>
                  <a:pt x="3261" y="125"/>
                </a:lnTo>
                <a:lnTo>
                  <a:pt x="3261" y="128"/>
                </a:lnTo>
                <a:lnTo>
                  <a:pt x="3261" y="130"/>
                </a:lnTo>
                <a:lnTo>
                  <a:pt x="3277" y="128"/>
                </a:lnTo>
                <a:lnTo>
                  <a:pt x="3294" y="125"/>
                </a:lnTo>
                <a:lnTo>
                  <a:pt x="3303" y="128"/>
                </a:lnTo>
                <a:lnTo>
                  <a:pt x="3313" y="128"/>
                </a:lnTo>
                <a:lnTo>
                  <a:pt x="3320" y="128"/>
                </a:lnTo>
                <a:lnTo>
                  <a:pt x="3322" y="132"/>
                </a:lnTo>
                <a:lnTo>
                  <a:pt x="3327" y="135"/>
                </a:lnTo>
                <a:lnTo>
                  <a:pt x="3334" y="135"/>
                </a:lnTo>
                <a:lnTo>
                  <a:pt x="3336" y="135"/>
                </a:lnTo>
                <a:lnTo>
                  <a:pt x="3339" y="132"/>
                </a:lnTo>
                <a:lnTo>
                  <a:pt x="3341" y="135"/>
                </a:lnTo>
                <a:lnTo>
                  <a:pt x="3343" y="137"/>
                </a:lnTo>
                <a:lnTo>
                  <a:pt x="3358" y="137"/>
                </a:lnTo>
                <a:lnTo>
                  <a:pt x="3369" y="137"/>
                </a:lnTo>
                <a:lnTo>
                  <a:pt x="3376" y="130"/>
                </a:lnTo>
                <a:lnTo>
                  <a:pt x="3391" y="125"/>
                </a:lnTo>
                <a:lnTo>
                  <a:pt x="3407" y="128"/>
                </a:lnTo>
                <a:lnTo>
                  <a:pt x="3426" y="130"/>
                </a:lnTo>
                <a:lnTo>
                  <a:pt x="3433" y="132"/>
                </a:lnTo>
                <a:lnTo>
                  <a:pt x="3443" y="135"/>
                </a:lnTo>
                <a:lnTo>
                  <a:pt x="3445" y="139"/>
                </a:lnTo>
                <a:lnTo>
                  <a:pt x="3447" y="146"/>
                </a:lnTo>
                <a:lnTo>
                  <a:pt x="3445" y="146"/>
                </a:lnTo>
                <a:lnTo>
                  <a:pt x="3445" y="149"/>
                </a:lnTo>
                <a:lnTo>
                  <a:pt x="3445" y="151"/>
                </a:lnTo>
                <a:lnTo>
                  <a:pt x="3447" y="151"/>
                </a:lnTo>
                <a:lnTo>
                  <a:pt x="3447" y="154"/>
                </a:lnTo>
                <a:lnTo>
                  <a:pt x="3445" y="156"/>
                </a:lnTo>
                <a:lnTo>
                  <a:pt x="3457" y="161"/>
                </a:lnTo>
                <a:lnTo>
                  <a:pt x="3469" y="165"/>
                </a:lnTo>
                <a:lnTo>
                  <a:pt x="3478" y="156"/>
                </a:lnTo>
                <a:lnTo>
                  <a:pt x="3483" y="151"/>
                </a:lnTo>
                <a:lnTo>
                  <a:pt x="3492" y="154"/>
                </a:lnTo>
                <a:lnTo>
                  <a:pt x="3504" y="156"/>
                </a:lnTo>
                <a:lnTo>
                  <a:pt x="3514" y="154"/>
                </a:lnTo>
                <a:lnTo>
                  <a:pt x="3526" y="154"/>
                </a:lnTo>
                <a:lnTo>
                  <a:pt x="3533" y="154"/>
                </a:lnTo>
                <a:lnTo>
                  <a:pt x="3537" y="156"/>
                </a:lnTo>
                <a:lnTo>
                  <a:pt x="3540" y="154"/>
                </a:lnTo>
                <a:lnTo>
                  <a:pt x="3542" y="154"/>
                </a:lnTo>
                <a:lnTo>
                  <a:pt x="3554" y="154"/>
                </a:lnTo>
                <a:lnTo>
                  <a:pt x="3566" y="154"/>
                </a:lnTo>
                <a:lnTo>
                  <a:pt x="3563" y="149"/>
                </a:lnTo>
                <a:lnTo>
                  <a:pt x="3561" y="142"/>
                </a:lnTo>
                <a:lnTo>
                  <a:pt x="3563" y="142"/>
                </a:lnTo>
                <a:lnTo>
                  <a:pt x="3570" y="142"/>
                </a:lnTo>
                <a:lnTo>
                  <a:pt x="3578" y="142"/>
                </a:lnTo>
                <a:lnTo>
                  <a:pt x="3578" y="139"/>
                </a:lnTo>
                <a:lnTo>
                  <a:pt x="3578" y="137"/>
                </a:lnTo>
                <a:lnTo>
                  <a:pt x="3611" y="139"/>
                </a:lnTo>
                <a:lnTo>
                  <a:pt x="3641" y="142"/>
                </a:lnTo>
                <a:lnTo>
                  <a:pt x="3649" y="146"/>
                </a:lnTo>
                <a:lnTo>
                  <a:pt x="3656" y="144"/>
                </a:lnTo>
                <a:lnTo>
                  <a:pt x="3665" y="144"/>
                </a:lnTo>
                <a:lnTo>
                  <a:pt x="3675" y="144"/>
                </a:lnTo>
                <a:lnTo>
                  <a:pt x="3679" y="146"/>
                </a:lnTo>
                <a:lnTo>
                  <a:pt x="3686" y="146"/>
                </a:lnTo>
                <a:lnTo>
                  <a:pt x="3684" y="151"/>
                </a:lnTo>
                <a:lnTo>
                  <a:pt x="3682" y="154"/>
                </a:lnTo>
                <a:lnTo>
                  <a:pt x="3691" y="156"/>
                </a:lnTo>
                <a:lnTo>
                  <a:pt x="3701" y="156"/>
                </a:lnTo>
                <a:lnTo>
                  <a:pt x="3710" y="161"/>
                </a:lnTo>
                <a:lnTo>
                  <a:pt x="3715" y="163"/>
                </a:lnTo>
                <a:lnTo>
                  <a:pt x="3720" y="163"/>
                </a:lnTo>
                <a:lnTo>
                  <a:pt x="3724" y="163"/>
                </a:lnTo>
                <a:lnTo>
                  <a:pt x="3734" y="163"/>
                </a:lnTo>
                <a:lnTo>
                  <a:pt x="3746" y="161"/>
                </a:lnTo>
                <a:lnTo>
                  <a:pt x="3760" y="161"/>
                </a:lnTo>
                <a:lnTo>
                  <a:pt x="3774" y="161"/>
                </a:lnTo>
                <a:lnTo>
                  <a:pt x="3791" y="163"/>
                </a:lnTo>
                <a:lnTo>
                  <a:pt x="3802" y="170"/>
                </a:lnTo>
                <a:lnTo>
                  <a:pt x="3802" y="175"/>
                </a:lnTo>
                <a:lnTo>
                  <a:pt x="3802" y="177"/>
                </a:lnTo>
                <a:lnTo>
                  <a:pt x="3805" y="177"/>
                </a:lnTo>
                <a:lnTo>
                  <a:pt x="3809" y="177"/>
                </a:lnTo>
                <a:lnTo>
                  <a:pt x="3812" y="180"/>
                </a:lnTo>
                <a:lnTo>
                  <a:pt x="3814" y="182"/>
                </a:lnTo>
                <a:lnTo>
                  <a:pt x="3817" y="182"/>
                </a:lnTo>
                <a:lnTo>
                  <a:pt x="3819" y="180"/>
                </a:lnTo>
                <a:lnTo>
                  <a:pt x="3819" y="182"/>
                </a:lnTo>
                <a:lnTo>
                  <a:pt x="3819" y="184"/>
                </a:lnTo>
                <a:lnTo>
                  <a:pt x="3824" y="180"/>
                </a:lnTo>
                <a:lnTo>
                  <a:pt x="3833" y="177"/>
                </a:lnTo>
                <a:lnTo>
                  <a:pt x="3836" y="177"/>
                </a:lnTo>
                <a:lnTo>
                  <a:pt x="3866" y="180"/>
                </a:lnTo>
                <a:lnTo>
                  <a:pt x="3895" y="180"/>
                </a:lnTo>
                <a:lnTo>
                  <a:pt x="3895" y="177"/>
                </a:lnTo>
                <a:lnTo>
                  <a:pt x="3895" y="175"/>
                </a:lnTo>
                <a:lnTo>
                  <a:pt x="3904" y="175"/>
                </a:lnTo>
                <a:lnTo>
                  <a:pt x="3911" y="175"/>
                </a:lnTo>
                <a:lnTo>
                  <a:pt x="3909" y="182"/>
                </a:lnTo>
                <a:lnTo>
                  <a:pt x="3897" y="182"/>
                </a:lnTo>
                <a:lnTo>
                  <a:pt x="3907" y="187"/>
                </a:lnTo>
                <a:lnTo>
                  <a:pt x="3916" y="189"/>
                </a:lnTo>
                <a:lnTo>
                  <a:pt x="3918" y="189"/>
                </a:lnTo>
                <a:lnTo>
                  <a:pt x="3923" y="189"/>
                </a:lnTo>
                <a:lnTo>
                  <a:pt x="3925" y="189"/>
                </a:lnTo>
                <a:lnTo>
                  <a:pt x="3925" y="184"/>
                </a:lnTo>
                <a:lnTo>
                  <a:pt x="3925" y="182"/>
                </a:lnTo>
                <a:lnTo>
                  <a:pt x="3921" y="180"/>
                </a:lnTo>
                <a:lnTo>
                  <a:pt x="3923" y="177"/>
                </a:lnTo>
                <a:lnTo>
                  <a:pt x="3925" y="173"/>
                </a:lnTo>
                <a:lnTo>
                  <a:pt x="3987" y="175"/>
                </a:lnTo>
                <a:lnTo>
                  <a:pt x="4032" y="189"/>
                </a:lnTo>
                <a:lnTo>
                  <a:pt x="4034" y="189"/>
                </a:lnTo>
                <a:lnTo>
                  <a:pt x="4037" y="189"/>
                </a:lnTo>
                <a:lnTo>
                  <a:pt x="4051" y="191"/>
                </a:lnTo>
                <a:lnTo>
                  <a:pt x="4065" y="199"/>
                </a:lnTo>
                <a:lnTo>
                  <a:pt x="4072" y="201"/>
                </a:lnTo>
                <a:lnTo>
                  <a:pt x="4079" y="203"/>
                </a:lnTo>
                <a:lnTo>
                  <a:pt x="4086" y="206"/>
                </a:lnTo>
                <a:lnTo>
                  <a:pt x="4091" y="208"/>
                </a:lnTo>
                <a:lnTo>
                  <a:pt x="4093" y="215"/>
                </a:lnTo>
                <a:lnTo>
                  <a:pt x="4098" y="222"/>
                </a:lnTo>
                <a:lnTo>
                  <a:pt x="4101" y="220"/>
                </a:lnTo>
                <a:lnTo>
                  <a:pt x="4101" y="218"/>
                </a:lnTo>
                <a:lnTo>
                  <a:pt x="4098" y="215"/>
                </a:lnTo>
                <a:lnTo>
                  <a:pt x="4098" y="213"/>
                </a:lnTo>
                <a:lnTo>
                  <a:pt x="4129" y="215"/>
                </a:lnTo>
                <a:lnTo>
                  <a:pt x="4150" y="225"/>
                </a:lnTo>
                <a:lnTo>
                  <a:pt x="4145" y="227"/>
                </a:lnTo>
                <a:lnTo>
                  <a:pt x="4141" y="232"/>
                </a:lnTo>
                <a:lnTo>
                  <a:pt x="4143" y="232"/>
                </a:lnTo>
                <a:lnTo>
                  <a:pt x="4143" y="234"/>
                </a:lnTo>
                <a:lnTo>
                  <a:pt x="4131" y="234"/>
                </a:lnTo>
                <a:lnTo>
                  <a:pt x="4119" y="234"/>
                </a:lnTo>
                <a:lnTo>
                  <a:pt x="4122" y="237"/>
                </a:lnTo>
                <a:lnTo>
                  <a:pt x="4122" y="239"/>
                </a:lnTo>
                <a:lnTo>
                  <a:pt x="4119" y="241"/>
                </a:lnTo>
                <a:lnTo>
                  <a:pt x="4115" y="241"/>
                </a:lnTo>
                <a:lnTo>
                  <a:pt x="4115" y="244"/>
                </a:lnTo>
                <a:lnTo>
                  <a:pt x="4117" y="244"/>
                </a:lnTo>
                <a:lnTo>
                  <a:pt x="4119" y="244"/>
                </a:lnTo>
                <a:lnTo>
                  <a:pt x="4119" y="246"/>
                </a:lnTo>
                <a:lnTo>
                  <a:pt x="4119" y="248"/>
                </a:lnTo>
                <a:lnTo>
                  <a:pt x="4115" y="248"/>
                </a:lnTo>
                <a:lnTo>
                  <a:pt x="4112" y="251"/>
                </a:lnTo>
                <a:lnTo>
                  <a:pt x="4101" y="246"/>
                </a:lnTo>
                <a:lnTo>
                  <a:pt x="4091" y="244"/>
                </a:lnTo>
                <a:lnTo>
                  <a:pt x="4082" y="241"/>
                </a:lnTo>
                <a:lnTo>
                  <a:pt x="4075" y="234"/>
                </a:lnTo>
                <a:lnTo>
                  <a:pt x="4063" y="234"/>
                </a:lnTo>
                <a:lnTo>
                  <a:pt x="4048" y="234"/>
                </a:lnTo>
                <a:lnTo>
                  <a:pt x="4046" y="229"/>
                </a:lnTo>
                <a:lnTo>
                  <a:pt x="4046" y="227"/>
                </a:lnTo>
                <a:lnTo>
                  <a:pt x="4041" y="227"/>
                </a:lnTo>
                <a:lnTo>
                  <a:pt x="4037" y="225"/>
                </a:lnTo>
                <a:lnTo>
                  <a:pt x="4037" y="229"/>
                </a:lnTo>
                <a:lnTo>
                  <a:pt x="4039" y="234"/>
                </a:lnTo>
                <a:lnTo>
                  <a:pt x="4037" y="237"/>
                </a:lnTo>
                <a:lnTo>
                  <a:pt x="4037" y="239"/>
                </a:lnTo>
                <a:lnTo>
                  <a:pt x="4034" y="239"/>
                </a:lnTo>
                <a:close/>
                <a:moveTo>
                  <a:pt x="2875" y="959"/>
                </a:moveTo>
                <a:lnTo>
                  <a:pt x="2872" y="966"/>
                </a:lnTo>
                <a:lnTo>
                  <a:pt x="2870" y="980"/>
                </a:lnTo>
                <a:lnTo>
                  <a:pt x="2870" y="983"/>
                </a:lnTo>
                <a:lnTo>
                  <a:pt x="2870" y="988"/>
                </a:lnTo>
                <a:lnTo>
                  <a:pt x="2872" y="999"/>
                </a:lnTo>
                <a:lnTo>
                  <a:pt x="2880" y="1004"/>
                </a:lnTo>
                <a:lnTo>
                  <a:pt x="2891" y="999"/>
                </a:lnTo>
                <a:lnTo>
                  <a:pt x="2896" y="990"/>
                </a:lnTo>
                <a:lnTo>
                  <a:pt x="2896" y="988"/>
                </a:lnTo>
                <a:lnTo>
                  <a:pt x="2889" y="966"/>
                </a:lnTo>
                <a:lnTo>
                  <a:pt x="2872" y="952"/>
                </a:lnTo>
                <a:lnTo>
                  <a:pt x="2875" y="957"/>
                </a:lnTo>
                <a:lnTo>
                  <a:pt x="2875" y="959"/>
                </a:lnTo>
                <a:close/>
                <a:moveTo>
                  <a:pt x="3623" y="1611"/>
                </a:moveTo>
                <a:lnTo>
                  <a:pt x="3630" y="1630"/>
                </a:lnTo>
                <a:lnTo>
                  <a:pt x="3644" y="1644"/>
                </a:lnTo>
                <a:lnTo>
                  <a:pt x="3649" y="1644"/>
                </a:lnTo>
                <a:lnTo>
                  <a:pt x="3656" y="1637"/>
                </a:lnTo>
                <a:lnTo>
                  <a:pt x="3658" y="1639"/>
                </a:lnTo>
                <a:lnTo>
                  <a:pt x="3663" y="1639"/>
                </a:lnTo>
                <a:lnTo>
                  <a:pt x="3663" y="1627"/>
                </a:lnTo>
                <a:lnTo>
                  <a:pt x="3668" y="1627"/>
                </a:lnTo>
                <a:lnTo>
                  <a:pt x="3668" y="1613"/>
                </a:lnTo>
                <a:lnTo>
                  <a:pt x="3663" y="1606"/>
                </a:lnTo>
                <a:lnTo>
                  <a:pt x="3644" y="1611"/>
                </a:lnTo>
                <a:lnTo>
                  <a:pt x="3623" y="1606"/>
                </a:lnTo>
                <a:lnTo>
                  <a:pt x="3623" y="1611"/>
                </a:lnTo>
                <a:close/>
                <a:moveTo>
                  <a:pt x="3400" y="959"/>
                </a:moveTo>
                <a:lnTo>
                  <a:pt x="3400" y="961"/>
                </a:lnTo>
                <a:lnTo>
                  <a:pt x="3400" y="964"/>
                </a:lnTo>
                <a:lnTo>
                  <a:pt x="3398" y="961"/>
                </a:lnTo>
                <a:lnTo>
                  <a:pt x="3391" y="969"/>
                </a:lnTo>
                <a:lnTo>
                  <a:pt x="3384" y="973"/>
                </a:lnTo>
                <a:lnTo>
                  <a:pt x="3386" y="973"/>
                </a:lnTo>
                <a:lnTo>
                  <a:pt x="3384" y="973"/>
                </a:lnTo>
                <a:lnTo>
                  <a:pt x="3381" y="969"/>
                </a:lnTo>
                <a:lnTo>
                  <a:pt x="3379" y="969"/>
                </a:lnTo>
                <a:lnTo>
                  <a:pt x="3372" y="971"/>
                </a:lnTo>
                <a:lnTo>
                  <a:pt x="3365" y="976"/>
                </a:lnTo>
                <a:lnTo>
                  <a:pt x="3365" y="990"/>
                </a:lnTo>
                <a:lnTo>
                  <a:pt x="3365" y="985"/>
                </a:lnTo>
                <a:lnTo>
                  <a:pt x="3367" y="983"/>
                </a:lnTo>
                <a:lnTo>
                  <a:pt x="3369" y="983"/>
                </a:lnTo>
                <a:lnTo>
                  <a:pt x="3374" y="985"/>
                </a:lnTo>
                <a:lnTo>
                  <a:pt x="3376" y="985"/>
                </a:lnTo>
                <a:lnTo>
                  <a:pt x="3379" y="983"/>
                </a:lnTo>
                <a:lnTo>
                  <a:pt x="3381" y="983"/>
                </a:lnTo>
                <a:lnTo>
                  <a:pt x="3384" y="983"/>
                </a:lnTo>
                <a:lnTo>
                  <a:pt x="3388" y="1002"/>
                </a:lnTo>
                <a:lnTo>
                  <a:pt x="3402" y="1002"/>
                </a:lnTo>
                <a:lnTo>
                  <a:pt x="3402" y="992"/>
                </a:lnTo>
                <a:lnTo>
                  <a:pt x="3402" y="990"/>
                </a:lnTo>
                <a:lnTo>
                  <a:pt x="3402" y="988"/>
                </a:lnTo>
                <a:lnTo>
                  <a:pt x="3405" y="988"/>
                </a:lnTo>
                <a:lnTo>
                  <a:pt x="3405" y="990"/>
                </a:lnTo>
                <a:lnTo>
                  <a:pt x="3410" y="997"/>
                </a:lnTo>
                <a:lnTo>
                  <a:pt x="3412" y="992"/>
                </a:lnTo>
                <a:lnTo>
                  <a:pt x="3414" y="988"/>
                </a:lnTo>
                <a:lnTo>
                  <a:pt x="3412" y="969"/>
                </a:lnTo>
                <a:lnTo>
                  <a:pt x="3402" y="954"/>
                </a:lnTo>
                <a:lnTo>
                  <a:pt x="3400" y="957"/>
                </a:lnTo>
                <a:lnTo>
                  <a:pt x="3400" y="959"/>
                </a:lnTo>
                <a:close/>
                <a:moveTo>
                  <a:pt x="3589" y="507"/>
                </a:moveTo>
                <a:lnTo>
                  <a:pt x="3587" y="514"/>
                </a:lnTo>
                <a:lnTo>
                  <a:pt x="3585" y="521"/>
                </a:lnTo>
                <a:lnTo>
                  <a:pt x="3580" y="521"/>
                </a:lnTo>
                <a:lnTo>
                  <a:pt x="3578" y="518"/>
                </a:lnTo>
                <a:lnTo>
                  <a:pt x="3575" y="521"/>
                </a:lnTo>
                <a:lnTo>
                  <a:pt x="3573" y="521"/>
                </a:lnTo>
                <a:lnTo>
                  <a:pt x="3570" y="528"/>
                </a:lnTo>
                <a:lnTo>
                  <a:pt x="3568" y="533"/>
                </a:lnTo>
                <a:lnTo>
                  <a:pt x="3568" y="540"/>
                </a:lnTo>
                <a:lnTo>
                  <a:pt x="3570" y="545"/>
                </a:lnTo>
                <a:lnTo>
                  <a:pt x="3575" y="545"/>
                </a:lnTo>
                <a:lnTo>
                  <a:pt x="3582" y="540"/>
                </a:lnTo>
                <a:lnTo>
                  <a:pt x="3582" y="537"/>
                </a:lnTo>
                <a:lnTo>
                  <a:pt x="3580" y="535"/>
                </a:lnTo>
                <a:lnTo>
                  <a:pt x="3575" y="533"/>
                </a:lnTo>
                <a:lnTo>
                  <a:pt x="3582" y="533"/>
                </a:lnTo>
                <a:lnTo>
                  <a:pt x="3589" y="530"/>
                </a:lnTo>
                <a:lnTo>
                  <a:pt x="3597" y="535"/>
                </a:lnTo>
                <a:lnTo>
                  <a:pt x="3611" y="537"/>
                </a:lnTo>
                <a:lnTo>
                  <a:pt x="3608" y="537"/>
                </a:lnTo>
                <a:lnTo>
                  <a:pt x="3608" y="535"/>
                </a:lnTo>
                <a:lnTo>
                  <a:pt x="3613" y="530"/>
                </a:lnTo>
                <a:lnTo>
                  <a:pt x="3618" y="526"/>
                </a:lnTo>
                <a:lnTo>
                  <a:pt x="3620" y="526"/>
                </a:lnTo>
                <a:lnTo>
                  <a:pt x="3627" y="523"/>
                </a:lnTo>
                <a:lnTo>
                  <a:pt x="3637" y="521"/>
                </a:lnTo>
                <a:lnTo>
                  <a:pt x="3632" y="518"/>
                </a:lnTo>
                <a:lnTo>
                  <a:pt x="3630" y="514"/>
                </a:lnTo>
                <a:lnTo>
                  <a:pt x="3630" y="511"/>
                </a:lnTo>
                <a:lnTo>
                  <a:pt x="3630" y="507"/>
                </a:lnTo>
                <a:lnTo>
                  <a:pt x="3627" y="509"/>
                </a:lnTo>
                <a:lnTo>
                  <a:pt x="3625" y="511"/>
                </a:lnTo>
                <a:lnTo>
                  <a:pt x="3604" y="502"/>
                </a:lnTo>
                <a:lnTo>
                  <a:pt x="3592" y="492"/>
                </a:lnTo>
                <a:lnTo>
                  <a:pt x="3587" y="497"/>
                </a:lnTo>
                <a:lnTo>
                  <a:pt x="3589" y="507"/>
                </a:lnTo>
                <a:close/>
                <a:moveTo>
                  <a:pt x="792" y="125"/>
                </a:moveTo>
                <a:lnTo>
                  <a:pt x="785" y="125"/>
                </a:lnTo>
                <a:lnTo>
                  <a:pt x="778" y="125"/>
                </a:lnTo>
                <a:lnTo>
                  <a:pt x="774" y="128"/>
                </a:lnTo>
                <a:lnTo>
                  <a:pt x="769" y="132"/>
                </a:lnTo>
                <a:lnTo>
                  <a:pt x="774" y="135"/>
                </a:lnTo>
                <a:lnTo>
                  <a:pt x="781" y="137"/>
                </a:lnTo>
                <a:lnTo>
                  <a:pt x="778" y="139"/>
                </a:lnTo>
                <a:lnTo>
                  <a:pt x="776" y="139"/>
                </a:lnTo>
                <a:lnTo>
                  <a:pt x="774" y="139"/>
                </a:lnTo>
                <a:lnTo>
                  <a:pt x="766" y="137"/>
                </a:lnTo>
                <a:lnTo>
                  <a:pt x="759" y="135"/>
                </a:lnTo>
                <a:lnTo>
                  <a:pt x="757" y="135"/>
                </a:lnTo>
                <a:lnTo>
                  <a:pt x="755" y="137"/>
                </a:lnTo>
                <a:lnTo>
                  <a:pt x="762" y="144"/>
                </a:lnTo>
                <a:lnTo>
                  <a:pt x="776" y="149"/>
                </a:lnTo>
                <a:lnTo>
                  <a:pt x="788" y="154"/>
                </a:lnTo>
                <a:lnTo>
                  <a:pt x="800" y="158"/>
                </a:lnTo>
                <a:lnTo>
                  <a:pt x="802" y="158"/>
                </a:lnTo>
                <a:lnTo>
                  <a:pt x="807" y="158"/>
                </a:lnTo>
                <a:lnTo>
                  <a:pt x="809" y="156"/>
                </a:lnTo>
                <a:lnTo>
                  <a:pt x="821" y="154"/>
                </a:lnTo>
                <a:lnTo>
                  <a:pt x="828" y="142"/>
                </a:lnTo>
                <a:lnTo>
                  <a:pt x="821" y="137"/>
                </a:lnTo>
                <a:lnTo>
                  <a:pt x="814" y="135"/>
                </a:lnTo>
                <a:lnTo>
                  <a:pt x="816" y="130"/>
                </a:lnTo>
                <a:lnTo>
                  <a:pt x="818" y="125"/>
                </a:lnTo>
                <a:lnTo>
                  <a:pt x="816" y="125"/>
                </a:lnTo>
                <a:lnTo>
                  <a:pt x="814" y="125"/>
                </a:lnTo>
                <a:lnTo>
                  <a:pt x="814" y="123"/>
                </a:lnTo>
                <a:lnTo>
                  <a:pt x="807" y="123"/>
                </a:lnTo>
                <a:lnTo>
                  <a:pt x="802" y="123"/>
                </a:lnTo>
                <a:lnTo>
                  <a:pt x="797" y="123"/>
                </a:lnTo>
                <a:lnTo>
                  <a:pt x="792" y="125"/>
                </a:lnTo>
                <a:close/>
                <a:moveTo>
                  <a:pt x="3341" y="871"/>
                </a:moveTo>
                <a:lnTo>
                  <a:pt x="3336" y="871"/>
                </a:lnTo>
                <a:lnTo>
                  <a:pt x="3334" y="871"/>
                </a:lnTo>
                <a:lnTo>
                  <a:pt x="3336" y="883"/>
                </a:lnTo>
                <a:lnTo>
                  <a:pt x="3343" y="893"/>
                </a:lnTo>
                <a:lnTo>
                  <a:pt x="3346" y="893"/>
                </a:lnTo>
                <a:lnTo>
                  <a:pt x="3348" y="893"/>
                </a:lnTo>
                <a:lnTo>
                  <a:pt x="3346" y="895"/>
                </a:lnTo>
                <a:lnTo>
                  <a:pt x="3343" y="898"/>
                </a:lnTo>
                <a:lnTo>
                  <a:pt x="3348" y="902"/>
                </a:lnTo>
                <a:lnTo>
                  <a:pt x="3353" y="905"/>
                </a:lnTo>
                <a:lnTo>
                  <a:pt x="3358" y="902"/>
                </a:lnTo>
                <a:lnTo>
                  <a:pt x="3360" y="905"/>
                </a:lnTo>
                <a:lnTo>
                  <a:pt x="3358" y="905"/>
                </a:lnTo>
                <a:lnTo>
                  <a:pt x="3358" y="907"/>
                </a:lnTo>
                <a:lnTo>
                  <a:pt x="3360" y="907"/>
                </a:lnTo>
                <a:lnTo>
                  <a:pt x="3362" y="909"/>
                </a:lnTo>
                <a:lnTo>
                  <a:pt x="3362" y="907"/>
                </a:lnTo>
                <a:lnTo>
                  <a:pt x="3362" y="905"/>
                </a:lnTo>
                <a:lnTo>
                  <a:pt x="3365" y="907"/>
                </a:lnTo>
                <a:lnTo>
                  <a:pt x="3369" y="909"/>
                </a:lnTo>
                <a:lnTo>
                  <a:pt x="3369" y="907"/>
                </a:lnTo>
                <a:lnTo>
                  <a:pt x="3369" y="905"/>
                </a:lnTo>
                <a:lnTo>
                  <a:pt x="3374" y="909"/>
                </a:lnTo>
                <a:lnTo>
                  <a:pt x="3376" y="914"/>
                </a:lnTo>
                <a:lnTo>
                  <a:pt x="3381" y="914"/>
                </a:lnTo>
                <a:lnTo>
                  <a:pt x="3386" y="914"/>
                </a:lnTo>
                <a:lnTo>
                  <a:pt x="3384" y="909"/>
                </a:lnTo>
                <a:lnTo>
                  <a:pt x="3381" y="907"/>
                </a:lnTo>
                <a:lnTo>
                  <a:pt x="3381" y="900"/>
                </a:lnTo>
                <a:lnTo>
                  <a:pt x="3374" y="898"/>
                </a:lnTo>
                <a:lnTo>
                  <a:pt x="3372" y="895"/>
                </a:lnTo>
                <a:lnTo>
                  <a:pt x="3369" y="895"/>
                </a:lnTo>
                <a:lnTo>
                  <a:pt x="3367" y="895"/>
                </a:lnTo>
                <a:lnTo>
                  <a:pt x="3365" y="895"/>
                </a:lnTo>
                <a:lnTo>
                  <a:pt x="3360" y="898"/>
                </a:lnTo>
                <a:lnTo>
                  <a:pt x="3358" y="895"/>
                </a:lnTo>
                <a:lnTo>
                  <a:pt x="3358" y="893"/>
                </a:lnTo>
                <a:lnTo>
                  <a:pt x="3358" y="888"/>
                </a:lnTo>
                <a:lnTo>
                  <a:pt x="3360" y="890"/>
                </a:lnTo>
                <a:lnTo>
                  <a:pt x="3362" y="890"/>
                </a:lnTo>
                <a:lnTo>
                  <a:pt x="3362" y="888"/>
                </a:lnTo>
                <a:lnTo>
                  <a:pt x="3360" y="883"/>
                </a:lnTo>
                <a:lnTo>
                  <a:pt x="3360" y="886"/>
                </a:lnTo>
                <a:lnTo>
                  <a:pt x="3358" y="888"/>
                </a:lnTo>
                <a:lnTo>
                  <a:pt x="3355" y="886"/>
                </a:lnTo>
                <a:lnTo>
                  <a:pt x="3355" y="883"/>
                </a:lnTo>
                <a:lnTo>
                  <a:pt x="3362" y="871"/>
                </a:lnTo>
                <a:lnTo>
                  <a:pt x="3367" y="860"/>
                </a:lnTo>
                <a:lnTo>
                  <a:pt x="3367" y="855"/>
                </a:lnTo>
                <a:lnTo>
                  <a:pt x="3365" y="850"/>
                </a:lnTo>
                <a:lnTo>
                  <a:pt x="3365" y="845"/>
                </a:lnTo>
                <a:lnTo>
                  <a:pt x="3365" y="841"/>
                </a:lnTo>
                <a:lnTo>
                  <a:pt x="3362" y="841"/>
                </a:lnTo>
                <a:lnTo>
                  <a:pt x="3360" y="843"/>
                </a:lnTo>
                <a:lnTo>
                  <a:pt x="3355" y="841"/>
                </a:lnTo>
                <a:lnTo>
                  <a:pt x="3348" y="838"/>
                </a:lnTo>
                <a:lnTo>
                  <a:pt x="3341" y="853"/>
                </a:lnTo>
                <a:lnTo>
                  <a:pt x="3341" y="871"/>
                </a:lnTo>
                <a:close/>
                <a:moveTo>
                  <a:pt x="1850" y="367"/>
                </a:moveTo>
                <a:lnTo>
                  <a:pt x="1848" y="372"/>
                </a:lnTo>
                <a:lnTo>
                  <a:pt x="1843" y="379"/>
                </a:lnTo>
                <a:lnTo>
                  <a:pt x="1836" y="379"/>
                </a:lnTo>
                <a:lnTo>
                  <a:pt x="1829" y="381"/>
                </a:lnTo>
                <a:lnTo>
                  <a:pt x="1829" y="386"/>
                </a:lnTo>
                <a:lnTo>
                  <a:pt x="1829" y="391"/>
                </a:lnTo>
                <a:lnTo>
                  <a:pt x="1834" y="393"/>
                </a:lnTo>
                <a:lnTo>
                  <a:pt x="1838" y="393"/>
                </a:lnTo>
                <a:lnTo>
                  <a:pt x="1831" y="402"/>
                </a:lnTo>
                <a:lnTo>
                  <a:pt x="1827" y="412"/>
                </a:lnTo>
                <a:lnTo>
                  <a:pt x="1829" y="412"/>
                </a:lnTo>
                <a:lnTo>
                  <a:pt x="1831" y="412"/>
                </a:lnTo>
                <a:lnTo>
                  <a:pt x="1831" y="414"/>
                </a:lnTo>
                <a:lnTo>
                  <a:pt x="1831" y="417"/>
                </a:lnTo>
                <a:lnTo>
                  <a:pt x="1834" y="417"/>
                </a:lnTo>
                <a:lnTo>
                  <a:pt x="1836" y="417"/>
                </a:lnTo>
                <a:lnTo>
                  <a:pt x="1855" y="412"/>
                </a:lnTo>
                <a:lnTo>
                  <a:pt x="1874" y="405"/>
                </a:lnTo>
                <a:lnTo>
                  <a:pt x="1876" y="400"/>
                </a:lnTo>
                <a:lnTo>
                  <a:pt x="1876" y="398"/>
                </a:lnTo>
                <a:lnTo>
                  <a:pt x="1876" y="391"/>
                </a:lnTo>
                <a:lnTo>
                  <a:pt x="1876" y="383"/>
                </a:lnTo>
                <a:lnTo>
                  <a:pt x="1879" y="379"/>
                </a:lnTo>
                <a:lnTo>
                  <a:pt x="1883" y="376"/>
                </a:lnTo>
                <a:lnTo>
                  <a:pt x="1879" y="369"/>
                </a:lnTo>
                <a:lnTo>
                  <a:pt x="1871" y="364"/>
                </a:lnTo>
                <a:lnTo>
                  <a:pt x="1867" y="364"/>
                </a:lnTo>
                <a:lnTo>
                  <a:pt x="1864" y="367"/>
                </a:lnTo>
                <a:lnTo>
                  <a:pt x="1864" y="364"/>
                </a:lnTo>
                <a:lnTo>
                  <a:pt x="1857" y="364"/>
                </a:lnTo>
                <a:lnTo>
                  <a:pt x="1850" y="367"/>
                </a:lnTo>
                <a:close/>
                <a:moveTo>
                  <a:pt x="3954" y="1537"/>
                </a:moveTo>
                <a:lnTo>
                  <a:pt x="3963" y="1549"/>
                </a:lnTo>
                <a:lnTo>
                  <a:pt x="3966" y="1549"/>
                </a:lnTo>
                <a:lnTo>
                  <a:pt x="3973" y="1563"/>
                </a:lnTo>
                <a:lnTo>
                  <a:pt x="3973" y="1568"/>
                </a:lnTo>
                <a:lnTo>
                  <a:pt x="3961" y="1589"/>
                </a:lnTo>
                <a:lnTo>
                  <a:pt x="3977" y="1601"/>
                </a:lnTo>
                <a:lnTo>
                  <a:pt x="3973" y="1615"/>
                </a:lnTo>
                <a:lnTo>
                  <a:pt x="3980" y="1618"/>
                </a:lnTo>
                <a:lnTo>
                  <a:pt x="3999" y="1589"/>
                </a:lnTo>
                <a:lnTo>
                  <a:pt x="4001" y="1587"/>
                </a:lnTo>
                <a:lnTo>
                  <a:pt x="4008" y="1587"/>
                </a:lnTo>
                <a:lnTo>
                  <a:pt x="4015" y="1568"/>
                </a:lnTo>
                <a:lnTo>
                  <a:pt x="4013" y="1563"/>
                </a:lnTo>
                <a:lnTo>
                  <a:pt x="4004" y="1570"/>
                </a:lnTo>
                <a:lnTo>
                  <a:pt x="3980" y="1554"/>
                </a:lnTo>
                <a:lnTo>
                  <a:pt x="3980" y="1556"/>
                </a:lnTo>
                <a:lnTo>
                  <a:pt x="3975" y="1549"/>
                </a:lnTo>
                <a:lnTo>
                  <a:pt x="3970" y="1547"/>
                </a:lnTo>
                <a:lnTo>
                  <a:pt x="3970" y="1537"/>
                </a:lnTo>
                <a:lnTo>
                  <a:pt x="3961" y="1530"/>
                </a:lnTo>
                <a:lnTo>
                  <a:pt x="3954" y="1530"/>
                </a:lnTo>
                <a:lnTo>
                  <a:pt x="3956" y="1530"/>
                </a:lnTo>
                <a:lnTo>
                  <a:pt x="3949" y="1525"/>
                </a:lnTo>
                <a:lnTo>
                  <a:pt x="3954" y="1537"/>
                </a:lnTo>
                <a:close/>
                <a:moveTo>
                  <a:pt x="3024" y="33"/>
                </a:moveTo>
                <a:lnTo>
                  <a:pt x="3022" y="38"/>
                </a:lnTo>
                <a:lnTo>
                  <a:pt x="3012" y="40"/>
                </a:lnTo>
                <a:lnTo>
                  <a:pt x="3012" y="42"/>
                </a:lnTo>
                <a:lnTo>
                  <a:pt x="3010" y="45"/>
                </a:lnTo>
                <a:lnTo>
                  <a:pt x="3007" y="45"/>
                </a:lnTo>
                <a:lnTo>
                  <a:pt x="3005" y="45"/>
                </a:lnTo>
                <a:lnTo>
                  <a:pt x="3003" y="47"/>
                </a:lnTo>
                <a:lnTo>
                  <a:pt x="3007" y="49"/>
                </a:lnTo>
                <a:lnTo>
                  <a:pt x="3012" y="52"/>
                </a:lnTo>
                <a:lnTo>
                  <a:pt x="3019" y="52"/>
                </a:lnTo>
                <a:lnTo>
                  <a:pt x="3026" y="52"/>
                </a:lnTo>
                <a:lnTo>
                  <a:pt x="3055" y="59"/>
                </a:lnTo>
                <a:lnTo>
                  <a:pt x="3092" y="61"/>
                </a:lnTo>
                <a:lnTo>
                  <a:pt x="3095" y="61"/>
                </a:lnTo>
                <a:lnTo>
                  <a:pt x="3100" y="61"/>
                </a:lnTo>
                <a:lnTo>
                  <a:pt x="3102" y="61"/>
                </a:lnTo>
                <a:lnTo>
                  <a:pt x="3107" y="61"/>
                </a:lnTo>
                <a:lnTo>
                  <a:pt x="3104" y="59"/>
                </a:lnTo>
                <a:lnTo>
                  <a:pt x="3104" y="56"/>
                </a:lnTo>
                <a:lnTo>
                  <a:pt x="3104" y="52"/>
                </a:lnTo>
                <a:lnTo>
                  <a:pt x="3104" y="47"/>
                </a:lnTo>
                <a:lnTo>
                  <a:pt x="3100" y="45"/>
                </a:lnTo>
                <a:lnTo>
                  <a:pt x="3092" y="45"/>
                </a:lnTo>
                <a:lnTo>
                  <a:pt x="3088" y="45"/>
                </a:lnTo>
                <a:lnTo>
                  <a:pt x="3083" y="47"/>
                </a:lnTo>
                <a:lnTo>
                  <a:pt x="3083" y="45"/>
                </a:lnTo>
                <a:lnTo>
                  <a:pt x="3078" y="45"/>
                </a:lnTo>
                <a:lnTo>
                  <a:pt x="3076" y="45"/>
                </a:lnTo>
                <a:lnTo>
                  <a:pt x="3076" y="40"/>
                </a:lnTo>
                <a:lnTo>
                  <a:pt x="3076" y="38"/>
                </a:lnTo>
                <a:lnTo>
                  <a:pt x="3078" y="38"/>
                </a:lnTo>
                <a:lnTo>
                  <a:pt x="3078" y="35"/>
                </a:lnTo>
                <a:lnTo>
                  <a:pt x="3078" y="33"/>
                </a:lnTo>
                <a:lnTo>
                  <a:pt x="3076" y="33"/>
                </a:lnTo>
                <a:lnTo>
                  <a:pt x="3074" y="33"/>
                </a:lnTo>
                <a:lnTo>
                  <a:pt x="3066" y="30"/>
                </a:lnTo>
                <a:lnTo>
                  <a:pt x="3062" y="28"/>
                </a:lnTo>
                <a:lnTo>
                  <a:pt x="3043" y="30"/>
                </a:lnTo>
                <a:lnTo>
                  <a:pt x="3024" y="33"/>
                </a:lnTo>
                <a:close/>
                <a:moveTo>
                  <a:pt x="1287" y="417"/>
                </a:moveTo>
                <a:lnTo>
                  <a:pt x="1278" y="417"/>
                </a:lnTo>
                <a:lnTo>
                  <a:pt x="1266" y="419"/>
                </a:lnTo>
                <a:lnTo>
                  <a:pt x="1237" y="433"/>
                </a:lnTo>
                <a:lnTo>
                  <a:pt x="1197" y="431"/>
                </a:lnTo>
                <a:lnTo>
                  <a:pt x="1190" y="431"/>
                </a:lnTo>
                <a:lnTo>
                  <a:pt x="1183" y="431"/>
                </a:lnTo>
                <a:lnTo>
                  <a:pt x="1171" y="436"/>
                </a:lnTo>
                <a:lnTo>
                  <a:pt x="1164" y="445"/>
                </a:lnTo>
                <a:lnTo>
                  <a:pt x="1150" y="447"/>
                </a:lnTo>
                <a:lnTo>
                  <a:pt x="1140" y="457"/>
                </a:lnTo>
                <a:lnTo>
                  <a:pt x="1162" y="447"/>
                </a:lnTo>
                <a:lnTo>
                  <a:pt x="1185" y="443"/>
                </a:lnTo>
                <a:lnTo>
                  <a:pt x="1190" y="443"/>
                </a:lnTo>
                <a:lnTo>
                  <a:pt x="1192" y="443"/>
                </a:lnTo>
                <a:lnTo>
                  <a:pt x="1197" y="445"/>
                </a:lnTo>
                <a:lnTo>
                  <a:pt x="1202" y="450"/>
                </a:lnTo>
                <a:lnTo>
                  <a:pt x="1192" y="459"/>
                </a:lnTo>
                <a:lnTo>
                  <a:pt x="1181" y="459"/>
                </a:lnTo>
                <a:lnTo>
                  <a:pt x="1183" y="462"/>
                </a:lnTo>
                <a:lnTo>
                  <a:pt x="1185" y="462"/>
                </a:lnTo>
                <a:lnTo>
                  <a:pt x="1190" y="462"/>
                </a:lnTo>
                <a:lnTo>
                  <a:pt x="1195" y="462"/>
                </a:lnTo>
                <a:lnTo>
                  <a:pt x="1195" y="473"/>
                </a:lnTo>
                <a:lnTo>
                  <a:pt x="1202" y="483"/>
                </a:lnTo>
                <a:lnTo>
                  <a:pt x="1199" y="478"/>
                </a:lnTo>
                <a:lnTo>
                  <a:pt x="1199" y="476"/>
                </a:lnTo>
                <a:lnTo>
                  <a:pt x="1199" y="473"/>
                </a:lnTo>
                <a:lnTo>
                  <a:pt x="1204" y="476"/>
                </a:lnTo>
                <a:lnTo>
                  <a:pt x="1207" y="478"/>
                </a:lnTo>
                <a:lnTo>
                  <a:pt x="1214" y="478"/>
                </a:lnTo>
                <a:lnTo>
                  <a:pt x="1221" y="481"/>
                </a:lnTo>
                <a:lnTo>
                  <a:pt x="1223" y="478"/>
                </a:lnTo>
                <a:lnTo>
                  <a:pt x="1223" y="483"/>
                </a:lnTo>
                <a:lnTo>
                  <a:pt x="1221" y="485"/>
                </a:lnTo>
                <a:lnTo>
                  <a:pt x="1214" y="485"/>
                </a:lnTo>
                <a:lnTo>
                  <a:pt x="1207" y="483"/>
                </a:lnTo>
                <a:lnTo>
                  <a:pt x="1207" y="485"/>
                </a:lnTo>
                <a:lnTo>
                  <a:pt x="1214" y="488"/>
                </a:lnTo>
                <a:lnTo>
                  <a:pt x="1221" y="490"/>
                </a:lnTo>
                <a:lnTo>
                  <a:pt x="1223" y="488"/>
                </a:lnTo>
                <a:lnTo>
                  <a:pt x="1225" y="485"/>
                </a:lnTo>
                <a:lnTo>
                  <a:pt x="1228" y="488"/>
                </a:lnTo>
                <a:lnTo>
                  <a:pt x="1233" y="490"/>
                </a:lnTo>
                <a:lnTo>
                  <a:pt x="1235" y="478"/>
                </a:lnTo>
                <a:lnTo>
                  <a:pt x="1242" y="473"/>
                </a:lnTo>
                <a:lnTo>
                  <a:pt x="1244" y="473"/>
                </a:lnTo>
                <a:lnTo>
                  <a:pt x="1247" y="473"/>
                </a:lnTo>
                <a:lnTo>
                  <a:pt x="1247" y="476"/>
                </a:lnTo>
                <a:lnTo>
                  <a:pt x="1247" y="481"/>
                </a:lnTo>
                <a:lnTo>
                  <a:pt x="1249" y="481"/>
                </a:lnTo>
                <a:lnTo>
                  <a:pt x="1252" y="483"/>
                </a:lnTo>
                <a:lnTo>
                  <a:pt x="1249" y="490"/>
                </a:lnTo>
                <a:lnTo>
                  <a:pt x="1244" y="492"/>
                </a:lnTo>
                <a:lnTo>
                  <a:pt x="1240" y="492"/>
                </a:lnTo>
                <a:lnTo>
                  <a:pt x="1235" y="492"/>
                </a:lnTo>
                <a:lnTo>
                  <a:pt x="1223" y="502"/>
                </a:lnTo>
                <a:lnTo>
                  <a:pt x="1209" y="507"/>
                </a:lnTo>
                <a:lnTo>
                  <a:pt x="1204" y="507"/>
                </a:lnTo>
                <a:lnTo>
                  <a:pt x="1202" y="504"/>
                </a:lnTo>
                <a:lnTo>
                  <a:pt x="1195" y="514"/>
                </a:lnTo>
                <a:lnTo>
                  <a:pt x="1188" y="518"/>
                </a:lnTo>
                <a:lnTo>
                  <a:pt x="1185" y="518"/>
                </a:lnTo>
                <a:lnTo>
                  <a:pt x="1181" y="516"/>
                </a:lnTo>
                <a:lnTo>
                  <a:pt x="1178" y="511"/>
                </a:lnTo>
                <a:lnTo>
                  <a:pt x="1185" y="502"/>
                </a:lnTo>
                <a:lnTo>
                  <a:pt x="1192" y="492"/>
                </a:lnTo>
                <a:lnTo>
                  <a:pt x="1181" y="495"/>
                </a:lnTo>
                <a:lnTo>
                  <a:pt x="1169" y="499"/>
                </a:lnTo>
                <a:lnTo>
                  <a:pt x="1162" y="507"/>
                </a:lnTo>
                <a:lnTo>
                  <a:pt x="1147" y="507"/>
                </a:lnTo>
                <a:lnTo>
                  <a:pt x="1136" y="516"/>
                </a:lnTo>
                <a:lnTo>
                  <a:pt x="1126" y="528"/>
                </a:lnTo>
                <a:lnTo>
                  <a:pt x="1126" y="530"/>
                </a:lnTo>
                <a:lnTo>
                  <a:pt x="1126" y="535"/>
                </a:lnTo>
                <a:lnTo>
                  <a:pt x="1131" y="540"/>
                </a:lnTo>
                <a:lnTo>
                  <a:pt x="1133" y="537"/>
                </a:lnTo>
                <a:lnTo>
                  <a:pt x="1133" y="535"/>
                </a:lnTo>
                <a:lnTo>
                  <a:pt x="1136" y="535"/>
                </a:lnTo>
                <a:lnTo>
                  <a:pt x="1136" y="540"/>
                </a:lnTo>
                <a:lnTo>
                  <a:pt x="1131" y="542"/>
                </a:lnTo>
                <a:lnTo>
                  <a:pt x="1124" y="545"/>
                </a:lnTo>
                <a:lnTo>
                  <a:pt x="1119" y="542"/>
                </a:lnTo>
                <a:lnTo>
                  <a:pt x="1117" y="545"/>
                </a:lnTo>
                <a:lnTo>
                  <a:pt x="1114" y="547"/>
                </a:lnTo>
                <a:lnTo>
                  <a:pt x="1107" y="547"/>
                </a:lnTo>
                <a:lnTo>
                  <a:pt x="1098" y="549"/>
                </a:lnTo>
                <a:lnTo>
                  <a:pt x="1102" y="549"/>
                </a:lnTo>
                <a:lnTo>
                  <a:pt x="1110" y="549"/>
                </a:lnTo>
                <a:lnTo>
                  <a:pt x="1100" y="556"/>
                </a:lnTo>
                <a:lnTo>
                  <a:pt x="1088" y="556"/>
                </a:lnTo>
                <a:lnTo>
                  <a:pt x="1086" y="568"/>
                </a:lnTo>
                <a:lnTo>
                  <a:pt x="1079" y="575"/>
                </a:lnTo>
                <a:lnTo>
                  <a:pt x="1076" y="575"/>
                </a:lnTo>
                <a:lnTo>
                  <a:pt x="1074" y="575"/>
                </a:lnTo>
                <a:lnTo>
                  <a:pt x="1076" y="578"/>
                </a:lnTo>
                <a:lnTo>
                  <a:pt x="1076" y="582"/>
                </a:lnTo>
                <a:lnTo>
                  <a:pt x="1072" y="590"/>
                </a:lnTo>
                <a:lnTo>
                  <a:pt x="1067" y="599"/>
                </a:lnTo>
                <a:lnTo>
                  <a:pt x="1065" y="599"/>
                </a:lnTo>
                <a:lnTo>
                  <a:pt x="1065" y="594"/>
                </a:lnTo>
                <a:lnTo>
                  <a:pt x="1067" y="590"/>
                </a:lnTo>
                <a:lnTo>
                  <a:pt x="1062" y="587"/>
                </a:lnTo>
                <a:lnTo>
                  <a:pt x="1060" y="585"/>
                </a:lnTo>
                <a:lnTo>
                  <a:pt x="1060" y="592"/>
                </a:lnTo>
                <a:lnTo>
                  <a:pt x="1060" y="601"/>
                </a:lnTo>
                <a:lnTo>
                  <a:pt x="1065" y="604"/>
                </a:lnTo>
                <a:lnTo>
                  <a:pt x="1069" y="608"/>
                </a:lnTo>
                <a:lnTo>
                  <a:pt x="1069" y="616"/>
                </a:lnTo>
                <a:lnTo>
                  <a:pt x="1069" y="620"/>
                </a:lnTo>
                <a:lnTo>
                  <a:pt x="1065" y="623"/>
                </a:lnTo>
                <a:lnTo>
                  <a:pt x="1062" y="623"/>
                </a:lnTo>
                <a:lnTo>
                  <a:pt x="1060" y="623"/>
                </a:lnTo>
                <a:lnTo>
                  <a:pt x="1057" y="623"/>
                </a:lnTo>
                <a:lnTo>
                  <a:pt x="1057" y="625"/>
                </a:lnTo>
                <a:lnTo>
                  <a:pt x="1057" y="627"/>
                </a:lnTo>
                <a:lnTo>
                  <a:pt x="1060" y="627"/>
                </a:lnTo>
                <a:lnTo>
                  <a:pt x="1053" y="635"/>
                </a:lnTo>
                <a:lnTo>
                  <a:pt x="1043" y="642"/>
                </a:lnTo>
                <a:lnTo>
                  <a:pt x="1039" y="642"/>
                </a:lnTo>
                <a:lnTo>
                  <a:pt x="1036" y="642"/>
                </a:lnTo>
                <a:lnTo>
                  <a:pt x="1029" y="649"/>
                </a:lnTo>
                <a:lnTo>
                  <a:pt x="1022" y="658"/>
                </a:lnTo>
                <a:lnTo>
                  <a:pt x="1013" y="661"/>
                </a:lnTo>
                <a:lnTo>
                  <a:pt x="1008" y="670"/>
                </a:lnTo>
                <a:lnTo>
                  <a:pt x="1003" y="691"/>
                </a:lnTo>
                <a:lnTo>
                  <a:pt x="1013" y="710"/>
                </a:lnTo>
                <a:lnTo>
                  <a:pt x="1013" y="715"/>
                </a:lnTo>
                <a:lnTo>
                  <a:pt x="1013" y="720"/>
                </a:lnTo>
                <a:lnTo>
                  <a:pt x="1015" y="727"/>
                </a:lnTo>
                <a:lnTo>
                  <a:pt x="1017" y="734"/>
                </a:lnTo>
                <a:lnTo>
                  <a:pt x="1017" y="739"/>
                </a:lnTo>
                <a:lnTo>
                  <a:pt x="1017" y="744"/>
                </a:lnTo>
                <a:lnTo>
                  <a:pt x="1015" y="751"/>
                </a:lnTo>
                <a:lnTo>
                  <a:pt x="1010" y="755"/>
                </a:lnTo>
                <a:lnTo>
                  <a:pt x="1008" y="755"/>
                </a:lnTo>
                <a:lnTo>
                  <a:pt x="1005" y="755"/>
                </a:lnTo>
                <a:lnTo>
                  <a:pt x="996" y="739"/>
                </a:lnTo>
                <a:lnTo>
                  <a:pt x="987" y="725"/>
                </a:lnTo>
                <a:lnTo>
                  <a:pt x="989" y="722"/>
                </a:lnTo>
                <a:lnTo>
                  <a:pt x="987" y="720"/>
                </a:lnTo>
                <a:lnTo>
                  <a:pt x="984" y="717"/>
                </a:lnTo>
                <a:lnTo>
                  <a:pt x="984" y="710"/>
                </a:lnTo>
                <a:lnTo>
                  <a:pt x="984" y="706"/>
                </a:lnTo>
                <a:lnTo>
                  <a:pt x="977" y="699"/>
                </a:lnTo>
                <a:lnTo>
                  <a:pt x="970" y="694"/>
                </a:lnTo>
                <a:lnTo>
                  <a:pt x="965" y="694"/>
                </a:lnTo>
                <a:lnTo>
                  <a:pt x="963" y="696"/>
                </a:lnTo>
                <a:lnTo>
                  <a:pt x="960" y="696"/>
                </a:lnTo>
                <a:lnTo>
                  <a:pt x="956" y="696"/>
                </a:lnTo>
                <a:lnTo>
                  <a:pt x="951" y="691"/>
                </a:lnTo>
                <a:lnTo>
                  <a:pt x="942" y="689"/>
                </a:lnTo>
                <a:lnTo>
                  <a:pt x="939" y="689"/>
                </a:lnTo>
                <a:lnTo>
                  <a:pt x="934" y="689"/>
                </a:lnTo>
                <a:lnTo>
                  <a:pt x="927" y="691"/>
                </a:lnTo>
                <a:lnTo>
                  <a:pt x="927" y="689"/>
                </a:lnTo>
                <a:lnTo>
                  <a:pt x="925" y="687"/>
                </a:lnTo>
                <a:lnTo>
                  <a:pt x="913" y="689"/>
                </a:lnTo>
                <a:lnTo>
                  <a:pt x="908" y="694"/>
                </a:lnTo>
                <a:lnTo>
                  <a:pt x="908" y="696"/>
                </a:lnTo>
                <a:lnTo>
                  <a:pt x="908" y="699"/>
                </a:lnTo>
                <a:lnTo>
                  <a:pt x="911" y="701"/>
                </a:lnTo>
                <a:lnTo>
                  <a:pt x="913" y="703"/>
                </a:lnTo>
                <a:lnTo>
                  <a:pt x="913" y="706"/>
                </a:lnTo>
                <a:lnTo>
                  <a:pt x="908" y="703"/>
                </a:lnTo>
                <a:lnTo>
                  <a:pt x="904" y="703"/>
                </a:lnTo>
                <a:lnTo>
                  <a:pt x="887" y="703"/>
                </a:lnTo>
                <a:lnTo>
                  <a:pt x="878" y="696"/>
                </a:lnTo>
                <a:lnTo>
                  <a:pt x="878" y="699"/>
                </a:lnTo>
                <a:lnTo>
                  <a:pt x="875" y="699"/>
                </a:lnTo>
                <a:lnTo>
                  <a:pt x="873" y="699"/>
                </a:lnTo>
                <a:lnTo>
                  <a:pt x="868" y="699"/>
                </a:lnTo>
                <a:lnTo>
                  <a:pt x="863" y="696"/>
                </a:lnTo>
                <a:lnTo>
                  <a:pt x="861" y="696"/>
                </a:lnTo>
                <a:lnTo>
                  <a:pt x="854" y="699"/>
                </a:lnTo>
                <a:lnTo>
                  <a:pt x="845" y="701"/>
                </a:lnTo>
                <a:lnTo>
                  <a:pt x="837" y="708"/>
                </a:lnTo>
                <a:lnTo>
                  <a:pt x="828" y="713"/>
                </a:lnTo>
                <a:lnTo>
                  <a:pt x="821" y="717"/>
                </a:lnTo>
                <a:lnTo>
                  <a:pt x="818" y="725"/>
                </a:lnTo>
                <a:lnTo>
                  <a:pt x="816" y="727"/>
                </a:lnTo>
                <a:lnTo>
                  <a:pt x="816" y="729"/>
                </a:lnTo>
                <a:lnTo>
                  <a:pt x="816" y="734"/>
                </a:lnTo>
                <a:lnTo>
                  <a:pt x="818" y="739"/>
                </a:lnTo>
                <a:lnTo>
                  <a:pt x="818" y="744"/>
                </a:lnTo>
                <a:lnTo>
                  <a:pt x="818" y="751"/>
                </a:lnTo>
                <a:lnTo>
                  <a:pt x="814" y="762"/>
                </a:lnTo>
                <a:lnTo>
                  <a:pt x="814" y="779"/>
                </a:lnTo>
                <a:lnTo>
                  <a:pt x="814" y="784"/>
                </a:lnTo>
                <a:lnTo>
                  <a:pt x="814" y="791"/>
                </a:lnTo>
                <a:lnTo>
                  <a:pt x="814" y="796"/>
                </a:lnTo>
                <a:lnTo>
                  <a:pt x="818" y="800"/>
                </a:lnTo>
                <a:lnTo>
                  <a:pt x="821" y="815"/>
                </a:lnTo>
                <a:lnTo>
                  <a:pt x="830" y="829"/>
                </a:lnTo>
                <a:lnTo>
                  <a:pt x="840" y="838"/>
                </a:lnTo>
                <a:lnTo>
                  <a:pt x="852" y="843"/>
                </a:lnTo>
                <a:lnTo>
                  <a:pt x="863" y="841"/>
                </a:lnTo>
                <a:lnTo>
                  <a:pt x="878" y="838"/>
                </a:lnTo>
                <a:lnTo>
                  <a:pt x="880" y="838"/>
                </a:lnTo>
                <a:lnTo>
                  <a:pt x="885" y="841"/>
                </a:lnTo>
                <a:lnTo>
                  <a:pt x="885" y="838"/>
                </a:lnTo>
                <a:lnTo>
                  <a:pt x="885" y="836"/>
                </a:lnTo>
                <a:lnTo>
                  <a:pt x="892" y="829"/>
                </a:lnTo>
                <a:lnTo>
                  <a:pt x="897" y="822"/>
                </a:lnTo>
                <a:lnTo>
                  <a:pt x="897" y="817"/>
                </a:lnTo>
                <a:lnTo>
                  <a:pt x="897" y="812"/>
                </a:lnTo>
                <a:lnTo>
                  <a:pt x="901" y="805"/>
                </a:lnTo>
                <a:lnTo>
                  <a:pt x="913" y="803"/>
                </a:lnTo>
                <a:lnTo>
                  <a:pt x="916" y="800"/>
                </a:lnTo>
                <a:lnTo>
                  <a:pt x="920" y="800"/>
                </a:lnTo>
                <a:lnTo>
                  <a:pt x="923" y="800"/>
                </a:lnTo>
                <a:lnTo>
                  <a:pt x="932" y="800"/>
                </a:lnTo>
                <a:lnTo>
                  <a:pt x="939" y="805"/>
                </a:lnTo>
                <a:lnTo>
                  <a:pt x="937" y="815"/>
                </a:lnTo>
                <a:lnTo>
                  <a:pt x="932" y="822"/>
                </a:lnTo>
                <a:lnTo>
                  <a:pt x="930" y="831"/>
                </a:lnTo>
                <a:lnTo>
                  <a:pt x="930" y="843"/>
                </a:lnTo>
                <a:lnTo>
                  <a:pt x="925" y="843"/>
                </a:lnTo>
                <a:lnTo>
                  <a:pt x="923" y="843"/>
                </a:lnTo>
                <a:lnTo>
                  <a:pt x="923" y="862"/>
                </a:lnTo>
                <a:lnTo>
                  <a:pt x="916" y="876"/>
                </a:lnTo>
                <a:lnTo>
                  <a:pt x="930" y="876"/>
                </a:lnTo>
                <a:lnTo>
                  <a:pt x="942" y="876"/>
                </a:lnTo>
                <a:lnTo>
                  <a:pt x="951" y="874"/>
                </a:lnTo>
                <a:lnTo>
                  <a:pt x="965" y="874"/>
                </a:lnTo>
                <a:lnTo>
                  <a:pt x="975" y="879"/>
                </a:lnTo>
                <a:lnTo>
                  <a:pt x="982" y="888"/>
                </a:lnTo>
                <a:lnTo>
                  <a:pt x="982" y="890"/>
                </a:lnTo>
                <a:lnTo>
                  <a:pt x="982" y="893"/>
                </a:lnTo>
                <a:lnTo>
                  <a:pt x="979" y="900"/>
                </a:lnTo>
                <a:lnTo>
                  <a:pt x="977" y="914"/>
                </a:lnTo>
                <a:lnTo>
                  <a:pt x="977" y="926"/>
                </a:lnTo>
                <a:lnTo>
                  <a:pt x="975" y="935"/>
                </a:lnTo>
                <a:lnTo>
                  <a:pt x="984" y="950"/>
                </a:lnTo>
                <a:lnTo>
                  <a:pt x="994" y="964"/>
                </a:lnTo>
                <a:lnTo>
                  <a:pt x="1001" y="964"/>
                </a:lnTo>
                <a:lnTo>
                  <a:pt x="1005" y="966"/>
                </a:lnTo>
                <a:lnTo>
                  <a:pt x="1015" y="959"/>
                </a:lnTo>
                <a:lnTo>
                  <a:pt x="1024" y="954"/>
                </a:lnTo>
                <a:lnTo>
                  <a:pt x="1034" y="957"/>
                </a:lnTo>
                <a:lnTo>
                  <a:pt x="1041" y="961"/>
                </a:lnTo>
                <a:lnTo>
                  <a:pt x="1048" y="966"/>
                </a:lnTo>
                <a:lnTo>
                  <a:pt x="1055" y="971"/>
                </a:lnTo>
                <a:lnTo>
                  <a:pt x="1060" y="961"/>
                </a:lnTo>
                <a:lnTo>
                  <a:pt x="1067" y="954"/>
                </a:lnTo>
                <a:lnTo>
                  <a:pt x="1069" y="950"/>
                </a:lnTo>
                <a:lnTo>
                  <a:pt x="1069" y="943"/>
                </a:lnTo>
                <a:lnTo>
                  <a:pt x="1072" y="940"/>
                </a:lnTo>
                <a:lnTo>
                  <a:pt x="1076" y="935"/>
                </a:lnTo>
                <a:lnTo>
                  <a:pt x="1079" y="935"/>
                </a:lnTo>
                <a:lnTo>
                  <a:pt x="1084" y="935"/>
                </a:lnTo>
                <a:lnTo>
                  <a:pt x="1086" y="933"/>
                </a:lnTo>
                <a:lnTo>
                  <a:pt x="1105" y="926"/>
                </a:lnTo>
                <a:lnTo>
                  <a:pt x="1114" y="919"/>
                </a:lnTo>
                <a:lnTo>
                  <a:pt x="1119" y="921"/>
                </a:lnTo>
                <a:lnTo>
                  <a:pt x="1121" y="924"/>
                </a:lnTo>
                <a:lnTo>
                  <a:pt x="1117" y="928"/>
                </a:lnTo>
                <a:lnTo>
                  <a:pt x="1114" y="933"/>
                </a:lnTo>
                <a:lnTo>
                  <a:pt x="1114" y="935"/>
                </a:lnTo>
                <a:lnTo>
                  <a:pt x="1114" y="938"/>
                </a:lnTo>
                <a:lnTo>
                  <a:pt x="1121" y="935"/>
                </a:lnTo>
                <a:lnTo>
                  <a:pt x="1126" y="933"/>
                </a:lnTo>
                <a:lnTo>
                  <a:pt x="1133" y="931"/>
                </a:lnTo>
                <a:lnTo>
                  <a:pt x="1131" y="926"/>
                </a:lnTo>
                <a:lnTo>
                  <a:pt x="1131" y="924"/>
                </a:lnTo>
                <a:lnTo>
                  <a:pt x="1131" y="921"/>
                </a:lnTo>
                <a:lnTo>
                  <a:pt x="1138" y="926"/>
                </a:lnTo>
                <a:lnTo>
                  <a:pt x="1145" y="931"/>
                </a:lnTo>
                <a:lnTo>
                  <a:pt x="1152" y="935"/>
                </a:lnTo>
                <a:lnTo>
                  <a:pt x="1157" y="943"/>
                </a:lnTo>
                <a:lnTo>
                  <a:pt x="1164" y="943"/>
                </a:lnTo>
                <a:lnTo>
                  <a:pt x="1173" y="943"/>
                </a:lnTo>
                <a:lnTo>
                  <a:pt x="1176" y="943"/>
                </a:lnTo>
                <a:lnTo>
                  <a:pt x="1178" y="943"/>
                </a:lnTo>
                <a:lnTo>
                  <a:pt x="1181" y="943"/>
                </a:lnTo>
                <a:lnTo>
                  <a:pt x="1181" y="947"/>
                </a:lnTo>
                <a:lnTo>
                  <a:pt x="1188" y="947"/>
                </a:lnTo>
                <a:lnTo>
                  <a:pt x="1192" y="947"/>
                </a:lnTo>
                <a:lnTo>
                  <a:pt x="1197" y="947"/>
                </a:lnTo>
                <a:lnTo>
                  <a:pt x="1199" y="943"/>
                </a:lnTo>
                <a:lnTo>
                  <a:pt x="1211" y="940"/>
                </a:lnTo>
                <a:lnTo>
                  <a:pt x="1221" y="940"/>
                </a:lnTo>
                <a:lnTo>
                  <a:pt x="1223" y="940"/>
                </a:lnTo>
                <a:lnTo>
                  <a:pt x="1228" y="940"/>
                </a:lnTo>
                <a:lnTo>
                  <a:pt x="1228" y="943"/>
                </a:lnTo>
                <a:lnTo>
                  <a:pt x="1223" y="945"/>
                </a:lnTo>
                <a:lnTo>
                  <a:pt x="1221" y="945"/>
                </a:lnTo>
                <a:lnTo>
                  <a:pt x="1223" y="950"/>
                </a:lnTo>
                <a:lnTo>
                  <a:pt x="1225" y="952"/>
                </a:lnTo>
                <a:lnTo>
                  <a:pt x="1228" y="952"/>
                </a:lnTo>
                <a:lnTo>
                  <a:pt x="1230" y="952"/>
                </a:lnTo>
                <a:lnTo>
                  <a:pt x="1230" y="947"/>
                </a:lnTo>
                <a:lnTo>
                  <a:pt x="1233" y="940"/>
                </a:lnTo>
                <a:lnTo>
                  <a:pt x="1235" y="940"/>
                </a:lnTo>
                <a:lnTo>
                  <a:pt x="1240" y="938"/>
                </a:lnTo>
                <a:lnTo>
                  <a:pt x="1240" y="943"/>
                </a:lnTo>
                <a:lnTo>
                  <a:pt x="1240" y="947"/>
                </a:lnTo>
                <a:lnTo>
                  <a:pt x="1237" y="950"/>
                </a:lnTo>
                <a:lnTo>
                  <a:pt x="1235" y="952"/>
                </a:lnTo>
                <a:lnTo>
                  <a:pt x="1237" y="957"/>
                </a:lnTo>
                <a:lnTo>
                  <a:pt x="1240" y="959"/>
                </a:lnTo>
                <a:lnTo>
                  <a:pt x="1240" y="964"/>
                </a:lnTo>
                <a:lnTo>
                  <a:pt x="1237" y="969"/>
                </a:lnTo>
                <a:lnTo>
                  <a:pt x="1240" y="969"/>
                </a:lnTo>
                <a:lnTo>
                  <a:pt x="1244" y="969"/>
                </a:lnTo>
                <a:lnTo>
                  <a:pt x="1247" y="969"/>
                </a:lnTo>
                <a:lnTo>
                  <a:pt x="1259" y="976"/>
                </a:lnTo>
                <a:lnTo>
                  <a:pt x="1268" y="985"/>
                </a:lnTo>
                <a:lnTo>
                  <a:pt x="1268" y="988"/>
                </a:lnTo>
                <a:lnTo>
                  <a:pt x="1268" y="992"/>
                </a:lnTo>
                <a:lnTo>
                  <a:pt x="1278" y="995"/>
                </a:lnTo>
                <a:lnTo>
                  <a:pt x="1285" y="1002"/>
                </a:lnTo>
                <a:lnTo>
                  <a:pt x="1299" y="1002"/>
                </a:lnTo>
                <a:lnTo>
                  <a:pt x="1313" y="1002"/>
                </a:lnTo>
                <a:lnTo>
                  <a:pt x="1320" y="1004"/>
                </a:lnTo>
                <a:lnTo>
                  <a:pt x="1332" y="1009"/>
                </a:lnTo>
                <a:lnTo>
                  <a:pt x="1339" y="1014"/>
                </a:lnTo>
                <a:lnTo>
                  <a:pt x="1344" y="1023"/>
                </a:lnTo>
                <a:lnTo>
                  <a:pt x="1353" y="1028"/>
                </a:lnTo>
                <a:lnTo>
                  <a:pt x="1356" y="1042"/>
                </a:lnTo>
                <a:lnTo>
                  <a:pt x="1358" y="1049"/>
                </a:lnTo>
                <a:lnTo>
                  <a:pt x="1360" y="1054"/>
                </a:lnTo>
                <a:lnTo>
                  <a:pt x="1365" y="1056"/>
                </a:lnTo>
                <a:lnTo>
                  <a:pt x="1367" y="1061"/>
                </a:lnTo>
                <a:lnTo>
                  <a:pt x="1367" y="1063"/>
                </a:lnTo>
                <a:lnTo>
                  <a:pt x="1360" y="1075"/>
                </a:lnTo>
                <a:lnTo>
                  <a:pt x="1351" y="1085"/>
                </a:lnTo>
                <a:lnTo>
                  <a:pt x="1353" y="1089"/>
                </a:lnTo>
                <a:lnTo>
                  <a:pt x="1353" y="1092"/>
                </a:lnTo>
                <a:lnTo>
                  <a:pt x="1356" y="1094"/>
                </a:lnTo>
                <a:lnTo>
                  <a:pt x="1358" y="1087"/>
                </a:lnTo>
                <a:lnTo>
                  <a:pt x="1358" y="1082"/>
                </a:lnTo>
                <a:lnTo>
                  <a:pt x="1360" y="1082"/>
                </a:lnTo>
                <a:lnTo>
                  <a:pt x="1365" y="1080"/>
                </a:lnTo>
                <a:lnTo>
                  <a:pt x="1367" y="1080"/>
                </a:lnTo>
                <a:lnTo>
                  <a:pt x="1370" y="1080"/>
                </a:lnTo>
                <a:lnTo>
                  <a:pt x="1377" y="1082"/>
                </a:lnTo>
                <a:lnTo>
                  <a:pt x="1384" y="1082"/>
                </a:lnTo>
                <a:lnTo>
                  <a:pt x="1382" y="1092"/>
                </a:lnTo>
                <a:lnTo>
                  <a:pt x="1379" y="1099"/>
                </a:lnTo>
                <a:lnTo>
                  <a:pt x="1377" y="1101"/>
                </a:lnTo>
                <a:lnTo>
                  <a:pt x="1372" y="1101"/>
                </a:lnTo>
                <a:lnTo>
                  <a:pt x="1375" y="1104"/>
                </a:lnTo>
                <a:lnTo>
                  <a:pt x="1379" y="1101"/>
                </a:lnTo>
                <a:lnTo>
                  <a:pt x="1384" y="1099"/>
                </a:lnTo>
                <a:lnTo>
                  <a:pt x="1384" y="1092"/>
                </a:lnTo>
                <a:lnTo>
                  <a:pt x="1391" y="1089"/>
                </a:lnTo>
                <a:lnTo>
                  <a:pt x="1394" y="1089"/>
                </a:lnTo>
                <a:lnTo>
                  <a:pt x="1396" y="1089"/>
                </a:lnTo>
                <a:lnTo>
                  <a:pt x="1410" y="1092"/>
                </a:lnTo>
                <a:lnTo>
                  <a:pt x="1420" y="1099"/>
                </a:lnTo>
                <a:lnTo>
                  <a:pt x="1424" y="1101"/>
                </a:lnTo>
                <a:lnTo>
                  <a:pt x="1429" y="1101"/>
                </a:lnTo>
                <a:lnTo>
                  <a:pt x="1429" y="1108"/>
                </a:lnTo>
                <a:lnTo>
                  <a:pt x="1431" y="1113"/>
                </a:lnTo>
                <a:lnTo>
                  <a:pt x="1438" y="1113"/>
                </a:lnTo>
                <a:lnTo>
                  <a:pt x="1446" y="1111"/>
                </a:lnTo>
                <a:lnTo>
                  <a:pt x="1450" y="1113"/>
                </a:lnTo>
                <a:lnTo>
                  <a:pt x="1462" y="1115"/>
                </a:lnTo>
                <a:lnTo>
                  <a:pt x="1472" y="1115"/>
                </a:lnTo>
                <a:lnTo>
                  <a:pt x="1479" y="1115"/>
                </a:lnTo>
                <a:lnTo>
                  <a:pt x="1498" y="1127"/>
                </a:lnTo>
                <a:lnTo>
                  <a:pt x="1514" y="1142"/>
                </a:lnTo>
                <a:lnTo>
                  <a:pt x="1528" y="1144"/>
                </a:lnTo>
                <a:lnTo>
                  <a:pt x="1538" y="1149"/>
                </a:lnTo>
                <a:lnTo>
                  <a:pt x="1540" y="1160"/>
                </a:lnTo>
                <a:lnTo>
                  <a:pt x="1543" y="1175"/>
                </a:lnTo>
                <a:lnTo>
                  <a:pt x="1538" y="1198"/>
                </a:lnTo>
                <a:lnTo>
                  <a:pt x="1526" y="1215"/>
                </a:lnTo>
                <a:lnTo>
                  <a:pt x="1512" y="1232"/>
                </a:lnTo>
                <a:lnTo>
                  <a:pt x="1502" y="1248"/>
                </a:lnTo>
                <a:lnTo>
                  <a:pt x="1500" y="1248"/>
                </a:lnTo>
                <a:lnTo>
                  <a:pt x="1495" y="1248"/>
                </a:lnTo>
                <a:lnTo>
                  <a:pt x="1495" y="1253"/>
                </a:lnTo>
                <a:lnTo>
                  <a:pt x="1493" y="1258"/>
                </a:lnTo>
                <a:lnTo>
                  <a:pt x="1493" y="1262"/>
                </a:lnTo>
                <a:lnTo>
                  <a:pt x="1493" y="1267"/>
                </a:lnTo>
                <a:lnTo>
                  <a:pt x="1493" y="1288"/>
                </a:lnTo>
                <a:lnTo>
                  <a:pt x="1493" y="1312"/>
                </a:lnTo>
                <a:lnTo>
                  <a:pt x="1486" y="1322"/>
                </a:lnTo>
                <a:lnTo>
                  <a:pt x="1481" y="1338"/>
                </a:lnTo>
                <a:lnTo>
                  <a:pt x="1474" y="1350"/>
                </a:lnTo>
                <a:lnTo>
                  <a:pt x="1472" y="1364"/>
                </a:lnTo>
                <a:lnTo>
                  <a:pt x="1464" y="1369"/>
                </a:lnTo>
                <a:lnTo>
                  <a:pt x="1460" y="1378"/>
                </a:lnTo>
                <a:lnTo>
                  <a:pt x="1443" y="1378"/>
                </a:lnTo>
                <a:lnTo>
                  <a:pt x="1429" y="1378"/>
                </a:lnTo>
                <a:lnTo>
                  <a:pt x="1422" y="1386"/>
                </a:lnTo>
                <a:lnTo>
                  <a:pt x="1412" y="1390"/>
                </a:lnTo>
                <a:lnTo>
                  <a:pt x="1403" y="1395"/>
                </a:lnTo>
                <a:lnTo>
                  <a:pt x="1396" y="1400"/>
                </a:lnTo>
                <a:lnTo>
                  <a:pt x="1384" y="1414"/>
                </a:lnTo>
                <a:lnTo>
                  <a:pt x="1384" y="1438"/>
                </a:lnTo>
                <a:lnTo>
                  <a:pt x="1377" y="1454"/>
                </a:lnTo>
                <a:lnTo>
                  <a:pt x="1365" y="1468"/>
                </a:lnTo>
                <a:lnTo>
                  <a:pt x="1358" y="1483"/>
                </a:lnTo>
                <a:lnTo>
                  <a:pt x="1344" y="1495"/>
                </a:lnTo>
                <a:lnTo>
                  <a:pt x="1351" y="1485"/>
                </a:lnTo>
                <a:lnTo>
                  <a:pt x="1358" y="1476"/>
                </a:lnTo>
                <a:lnTo>
                  <a:pt x="1356" y="1473"/>
                </a:lnTo>
                <a:lnTo>
                  <a:pt x="1353" y="1473"/>
                </a:lnTo>
                <a:lnTo>
                  <a:pt x="1349" y="1483"/>
                </a:lnTo>
                <a:lnTo>
                  <a:pt x="1344" y="1490"/>
                </a:lnTo>
                <a:lnTo>
                  <a:pt x="1339" y="1499"/>
                </a:lnTo>
                <a:lnTo>
                  <a:pt x="1337" y="1509"/>
                </a:lnTo>
                <a:lnTo>
                  <a:pt x="1325" y="1523"/>
                </a:lnTo>
                <a:lnTo>
                  <a:pt x="1311" y="1532"/>
                </a:lnTo>
                <a:lnTo>
                  <a:pt x="1301" y="1532"/>
                </a:lnTo>
                <a:lnTo>
                  <a:pt x="1294" y="1532"/>
                </a:lnTo>
                <a:lnTo>
                  <a:pt x="1287" y="1530"/>
                </a:lnTo>
                <a:lnTo>
                  <a:pt x="1282" y="1528"/>
                </a:lnTo>
                <a:lnTo>
                  <a:pt x="1280" y="1528"/>
                </a:lnTo>
                <a:lnTo>
                  <a:pt x="1275" y="1528"/>
                </a:lnTo>
                <a:lnTo>
                  <a:pt x="1273" y="1525"/>
                </a:lnTo>
                <a:lnTo>
                  <a:pt x="1270" y="1521"/>
                </a:lnTo>
                <a:lnTo>
                  <a:pt x="1275" y="1530"/>
                </a:lnTo>
                <a:lnTo>
                  <a:pt x="1285" y="1535"/>
                </a:lnTo>
                <a:lnTo>
                  <a:pt x="1282" y="1540"/>
                </a:lnTo>
                <a:lnTo>
                  <a:pt x="1282" y="1542"/>
                </a:lnTo>
                <a:lnTo>
                  <a:pt x="1282" y="1544"/>
                </a:lnTo>
                <a:lnTo>
                  <a:pt x="1285" y="1549"/>
                </a:lnTo>
                <a:lnTo>
                  <a:pt x="1289" y="1554"/>
                </a:lnTo>
                <a:lnTo>
                  <a:pt x="1289" y="1556"/>
                </a:lnTo>
                <a:lnTo>
                  <a:pt x="1270" y="1577"/>
                </a:lnTo>
                <a:lnTo>
                  <a:pt x="1240" y="1585"/>
                </a:lnTo>
                <a:lnTo>
                  <a:pt x="1233" y="1585"/>
                </a:lnTo>
                <a:lnTo>
                  <a:pt x="1225" y="1585"/>
                </a:lnTo>
                <a:lnTo>
                  <a:pt x="1225" y="1587"/>
                </a:lnTo>
                <a:lnTo>
                  <a:pt x="1225" y="1592"/>
                </a:lnTo>
                <a:lnTo>
                  <a:pt x="1225" y="1594"/>
                </a:lnTo>
                <a:lnTo>
                  <a:pt x="1223" y="1596"/>
                </a:lnTo>
                <a:lnTo>
                  <a:pt x="1223" y="1604"/>
                </a:lnTo>
                <a:lnTo>
                  <a:pt x="1223" y="1608"/>
                </a:lnTo>
                <a:lnTo>
                  <a:pt x="1218" y="1611"/>
                </a:lnTo>
                <a:lnTo>
                  <a:pt x="1211" y="1613"/>
                </a:lnTo>
                <a:lnTo>
                  <a:pt x="1209" y="1613"/>
                </a:lnTo>
                <a:lnTo>
                  <a:pt x="1202" y="1611"/>
                </a:lnTo>
                <a:lnTo>
                  <a:pt x="1192" y="1608"/>
                </a:lnTo>
                <a:lnTo>
                  <a:pt x="1192" y="1613"/>
                </a:lnTo>
                <a:lnTo>
                  <a:pt x="1192" y="1620"/>
                </a:lnTo>
                <a:lnTo>
                  <a:pt x="1192" y="1622"/>
                </a:lnTo>
                <a:lnTo>
                  <a:pt x="1197" y="1625"/>
                </a:lnTo>
                <a:lnTo>
                  <a:pt x="1199" y="1627"/>
                </a:lnTo>
                <a:lnTo>
                  <a:pt x="1202" y="1625"/>
                </a:lnTo>
                <a:lnTo>
                  <a:pt x="1207" y="1622"/>
                </a:lnTo>
                <a:lnTo>
                  <a:pt x="1209" y="1627"/>
                </a:lnTo>
                <a:lnTo>
                  <a:pt x="1209" y="1634"/>
                </a:lnTo>
                <a:lnTo>
                  <a:pt x="1207" y="1634"/>
                </a:lnTo>
                <a:lnTo>
                  <a:pt x="1204" y="1634"/>
                </a:lnTo>
                <a:lnTo>
                  <a:pt x="1202" y="1634"/>
                </a:lnTo>
                <a:lnTo>
                  <a:pt x="1197" y="1632"/>
                </a:lnTo>
                <a:lnTo>
                  <a:pt x="1197" y="1634"/>
                </a:lnTo>
                <a:lnTo>
                  <a:pt x="1197" y="1637"/>
                </a:lnTo>
                <a:lnTo>
                  <a:pt x="1192" y="1641"/>
                </a:lnTo>
                <a:lnTo>
                  <a:pt x="1190" y="1653"/>
                </a:lnTo>
                <a:lnTo>
                  <a:pt x="1173" y="1665"/>
                </a:lnTo>
                <a:lnTo>
                  <a:pt x="1164" y="1677"/>
                </a:lnTo>
                <a:lnTo>
                  <a:pt x="1169" y="1684"/>
                </a:lnTo>
                <a:lnTo>
                  <a:pt x="1181" y="1686"/>
                </a:lnTo>
                <a:lnTo>
                  <a:pt x="1183" y="1689"/>
                </a:lnTo>
                <a:lnTo>
                  <a:pt x="1183" y="1694"/>
                </a:lnTo>
                <a:lnTo>
                  <a:pt x="1183" y="1696"/>
                </a:lnTo>
                <a:lnTo>
                  <a:pt x="1183" y="1698"/>
                </a:lnTo>
                <a:lnTo>
                  <a:pt x="1181" y="1701"/>
                </a:lnTo>
                <a:lnTo>
                  <a:pt x="1178" y="1705"/>
                </a:lnTo>
                <a:lnTo>
                  <a:pt x="1173" y="1708"/>
                </a:lnTo>
                <a:lnTo>
                  <a:pt x="1169" y="1710"/>
                </a:lnTo>
                <a:lnTo>
                  <a:pt x="1162" y="1717"/>
                </a:lnTo>
                <a:lnTo>
                  <a:pt x="1159" y="1727"/>
                </a:lnTo>
                <a:lnTo>
                  <a:pt x="1155" y="1727"/>
                </a:lnTo>
                <a:lnTo>
                  <a:pt x="1152" y="1727"/>
                </a:lnTo>
                <a:lnTo>
                  <a:pt x="1147" y="1734"/>
                </a:lnTo>
                <a:lnTo>
                  <a:pt x="1143" y="1741"/>
                </a:lnTo>
                <a:lnTo>
                  <a:pt x="1145" y="1741"/>
                </a:lnTo>
                <a:lnTo>
                  <a:pt x="1145" y="1743"/>
                </a:lnTo>
                <a:lnTo>
                  <a:pt x="1145" y="1746"/>
                </a:lnTo>
                <a:lnTo>
                  <a:pt x="1150" y="1750"/>
                </a:lnTo>
                <a:lnTo>
                  <a:pt x="1152" y="1758"/>
                </a:lnTo>
                <a:lnTo>
                  <a:pt x="1147" y="1758"/>
                </a:lnTo>
                <a:lnTo>
                  <a:pt x="1143" y="1758"/>
                </a:lnTo>
                <a:lnTo>
                  <a:pt x="1150" y="1760"/>
                </a:lnTo>
                <a:lnTo>
                  <a:pt x="1155" y="1769"/>
                </a:lnTo>
                <a:lnTo>
                  <a:pt x="1169" y="1779"/>
                </a:lnTo>
                <a:lnTo>
                  <a:pt x="1190" y="1786"/>
                </a:lnTo>
                <a:lnTo>
                  <a:pt x="1188" y="1791"/>
                </a:lnTo>
                <a:lnTo>
                  <a:pt x="1185" y="1791"/>
                </a:lnTo>
                <a:lnTo>
                  <a:pt x="1176" y="1791"/>
                </a:lnTo>
                <a:lnTo>
                  <a:pt x="1169" y="1791"/>
                </a:lnTo>
                <a:lnTo>
                  <a:pt x="1169" y="1793"/>
                </a:lnTo>
                <a:lnTo>
                  <a:pt x="1166" y="1795"/>
                </a:lnTo>
                <a:lnTo>
                  <a:pt x="1162" y="1795"/>
                </a:lnTo>
                <a:lnTo>
                  <a:pt x="1157" y="1795"/>
                </a:lnTo>
                <a:lnTo>
                  <a:pt x="1157" y="1798"/>
                </a:lnTo>
                <a:lnTo>
                  <a:pt x="1155" y="1798"/>
                </a:lnTo>
                <a:lnTo>
                  <a:pt x="1152" y="1798"/>
                </a:lnTo>
                <a:lnTo>
                  <a:pt x="1147" y="1798"/>
                </a:lnTo>
                <a:lnTo>
                  <a:pt x="1145" y="1795"/>
                </a:lnTo>
                <a:lnTo>
                  <a:pt x="1145" y="1798"/>
                </a:lnTo>
                <a:lnTo>
                  <a:pt x="1140" y="1798"/>
                </a:lnTo>
                <a:lnTo>
                  <a:pt x="1136" y="1793"/>
                </a:lnTo>
                <a:lnTo>
                  <a:pt x="1131" y="1791"/>
                </a:lnTo>
                <a:lnTo>
                  <a:pt x="1126" y="1793"/>
                </a:lnTo>
                <a:lnTo>
                  <a:pt x="1124" y="1793"/>
                </a:lnTo>
                <a:lnTo>
                  <a:pt x="1121" y="1791"/>
                </a:lnTo>
                <a:lnTo>
                  <a:pt x="1119" y="1786"/>
                </a:lnTo>
                <a:lnTo>
                  <a:pt x="1117" y="1786"/>
                </a:lnTo>
                <a:lnTo>
                  <a:pt x="1112" y="1786"/>
                </a:lnTo>
                <a:lnTo>
                  <a:pt x="1110" y="1784"/>
                </a:lnTo>
                <a:lnTo>
                  <a:pt x="1110" y="1781"/>
                </a:lnTo>
                <a:lnTo>
                  <a:pt x="1110" y="1776"/>
                </a:lnTo>
                <a:lnTo>
                  <a:pt x="1112" y="1774"/>
                </a:lnTo>
                <a:lnTo>
                  <a:pt x="1110" y="1774"/>
                </a:lnTo>
                <a:lnTo>
                  <a:pt x="1107" y="1774"/>
                </a:lnTo>
                <a:lnTo>
                  <a:pt x="1107" y="1776"/>
                </a:lnTo>
                <a:lnTo>
                  <a:pt x="1107" y="1779"/>
                </a:lnTo>
                <a:lnTo>
                  <a:pt x="1102" y="1779"/>
                </a:lnTo>
                <a:lnTo>
                  <a:pt x="1095" y="1779"/>
                </a:lnTo>
                <a:lnTo>
                  <a:pt x="1093" y="1776"/>
                </a:lnTo>
                <a:lnTo>
                  <a:pt x="1093" y="1774"/>
                </a:lnTo>
                <a:lnTo>
                  <a:pt x="1093" y="1772"/>
                </a:lnTo>
                <a:lnTo>
                  <a:pt x="1091" y="1772"/>
                </a:lnTo>
                <a:lnTo>
                  <a:pt x="1093" y="1772"/>
                </a:lnTo>
                <a:lnTo>
                  <a:pt x="1095" y="1769"/>
                </a:lnTo>
                <a:lnTo>
                  <a:pt x="1091" y="1769"/>
                </a:lnTo>
                <a:lnTo>
                  <a:pt x="1088" y="1767"/>
                </a:lnTo>
                <a:lnTo>
                  <a:pt x="1084" y="1767"/>
                </a:lnTo>
                <a:lnTo>
                  <a:pt x="1081" y="1762"/>
                </a:lnTo>
                <a:lnTo>
                  <a:pt x="1086" y="1762"/>
                </a:lnTo>
                <a:lnTo>
                  <a:pt x="1091" y="1765"/>
                </a:lnTo>
                <a:lnTo>
                  <a:pt x="1088" y="1760"/>
                </a:lnTo>
                <a:lnTo>
                  <a:pt x="1084" y="1758"/>
                </a:lnTo>
                <a:lnTo>
                  <a:pt x="1084" y="1755"/>
                </a:lnTo>
                <a:lnTo>
                  <a:pt x="1086" y="1755"/>
                </a:lnTo>
                <a:lnTo>
                  <a:pt x="1088" y="1755"/>
                </a:lnTo>
                <a:lnTo>
                  <a:pt x="1091" y="1753"/>
                </a:lnTo>
                <a:lnTo>
                  <a:pt x="1088" y="1750"/>
                </a:lnTo>
                <a:lnTo>
                  <a:pt x="1086" y="1750"/>
                </a:lnTo>
                <a:lnTo>
                  <a:pt x="1086" y="1746"/>
                </a:lnTo>
                <a:lnTo>
                  <a:pt x="1088" y="1743"/>
                </a:lnTo>
                <a:lnTo>
                  <a:pt x="1086" y="1743"/>
                </a:lnTo>
                <a:lnTo>
                  <a:pt x="1081" y="1741"/>
                </a:lnTo>
                <a:lnTo>
                  <a:pt x="1081" y="1743"/>
                </a:lnTo>
                <a:lnTo>
                  <a:pt x="1081" y="1746"/>
                </a:lnTo>
                <a:lnTo>
                  <a:pt x="1079" y="1746"/>
                </a:lnTo>
                <a:lnTo>
                  <a:pt x="1081" y="1750"/>
                </a:lnTo>
                <a:lnTo>
                  <a:pt x="1081" y="1755"/>
                </a:lnTo>
                <a:lnTo>
                  <a:pt x="1074" y="1750"/>
                </a:lnTo>
                <a:lnTo>
                  <a:pt x="1076" y="1741"/>
                </a:lnTo>
                <a:lnTo>
                  <a:pt x="1076" y="1739"/>
                </a:lnTo>
                <a:lnTo>
                  <a:pt x="1076" y="1736"/>
                </a:lnTo>
                <a:lnTo>
                  <a:pt x="1081" y="1731"/>
                </a:lnTo>
                <a:lnTo>
                  <a:pt x="1086" y="1724"/>
                </a:lnTo>
                <a:lnTo>
                  <a:pt x="1084" y="1724"/>
                </a:lnTo>
                <a:lnTo>
                  <a:pt x="1081" y="1727"/>
                </a:lnTo>
                <a:lnTo>
                  <a:pt x="1076" y="1727"/>
                </a:lnTo>
                <a:lnTo>
                  <a:pt x="1074" y="1724"/>
                </a:lnTo>
                <a:lnTo>
                  <a:pt x="1074" y="1727"/>
                </a:lnTo>
                <a:lnTo>
                  <a:pt x="1076" y="1729"/>
                </a:lnTo>
                <a:lnTo>
                  <a:pt x="1072" y="1731"/>
                </a:lnTo>
                <a:lnTo>
                  <a:pt x="1072" y="1729"/>
                </a:lnTo>
                <a:lnTo>
                  <a:pt x="1072" y="1724"/>
                </a:lnTo>
                <a:lnTo>
                  <a:pt x="1069" y="1724"/>
                </a:lnTo>
                <a:lnTo>
                  <a:pt x="1072" y="1722"/>
                </a:lnTo>
                <a:lnTo>
                  <a:pt x="1072" y="1720"/>
                </a:lnTo>
                <a:lnTo>
                  <a:pt x="1069" y="1717"/>
                </a:lnTo>
                <a:lnTo>
                  <a:pt x="1069" y="1713"/>
                </a:lnTo>
                <a:lnTo>
                  <a:pt x="1069" y="1708"/>
                </a:lnTo>
                <a:lnTo>
                  <a:pt x="1069" y="1701"/>
                </a:lnTo>
                <a:lnTo>
                  <a:pt x="1074" y="1701"/>
                </a:lnTo>
                <a:lnTo>
                  <a:pt x="1076" y="1698"/>
                </a:lnTo>
                <a:lnTo>
                  <a:pt x="1079" y="1701"/>
                </a:lnTo>
                <a:lnTo>
                  <a:pt x="1081" y="1701"/>
                </a:lnTo>
                <a:lnTo>
                  <a:pt x="1084" y="1694"/>
                </a:lnTo>
                <a:lnTo>
                  <a:pt x="1084" y="1686"/>
                </a:lnTo>
                <a:lnTo>
                  <a:pt x="1079" y="1686"/>
                </a:lnTo>
                <a:lnTo>
                  <a:pt x="1076" y="1684"/>
                </a:lnTo>
                <a:lnTo>
                  <a:pt x="1072" y="1686"/>
                </a:lnTo>
                <a:lnTo>
                  <a:pt x="1069" y="1689"/>
                </a:lnTo>
                <a:lnTo>
                  <a:pt x="1067" y="1686"/>
                </a:lnTo>
                <a:lnTo>
                  <a:pt x="1072" y="1679"/>
                </a:lnTo>
                <a:lnTo>
                  <a:pt x="1076" y="1672"/>
                </a:lnTo>
                <a:lnTo>
                  <a:pt x="1074" y="1672"/>
                </a:lnTo>
                <a:lnTo>
                  <a:pt x="1076" y="1672"/>
                </a:lnTo>
                <a:lnTo>
                  <a:pt x="1079" y="1672"/>
                </a:lnTo>
                <a:lnTo>
                  <a:pt x="1081" y="1667"/>
                </a:lnTo>
                <a:lnTo>
                  <a:pt x="1084" y="1663"/>
                </a:lnTo>
                <a:lnTo>
                  <a:pt x="1081" y="1660"/>
                </a:lnTo>
                <a:lnTo>
                  <a:pt x="1081" y="1658"/>
                </a:lnTo>
                <a:lnTo>
                  <a:pt x="1088" y="1651"/>
                </a:lnTo>
                <a:lnTo>
                  <a:pt x="1091" y="1665"/>
                </a:lnTo>
                <a:lnTo>
                  <a:pt x="1088" y="1667"/>
                </a:lnTo>
                <a:lnTo>
                  <a:pt x="1086" y="1665"/>
                </a:lnTo>
                <a:lnTo>
                  <a:pt x="1086" y="1667"/>
                </a:lnTo>
                <a:lnTo>
                  <a:pt x="1088" y="1670"/>
                </a:lnTo>
                <a:lnTo>
                  <a:pt x="1091" y="1670"/>
                </a:lnTo>
                <a:lnTo>
                  <a:pt x="1093" y="1667"/>
                </a:lnTo>
                <a:lnTo>
                  <a:pt x="1093" y="1660"/>
                </a:lnTo>
                <a:lnTo>
                  <a:pt x="1095" y="1653"/>
                </a:lnTo>
                <a:lnTo>
                  <a:pt x="1098" y="1653"/>
                </a:lnTo>
                <a:lnTo>
                  <a:pt x="1095" y="1651"/>
                </a:lnTo>
                <a:lnTo>
                  <a:pt x="1095" y="1649"/>
                </a:lnTo>
                <a:lnTo>
                  <a:pt x="1100" y="1637"/>
                </a:lnTo>
                <a:lnTo>
                  <a:pt x="1102" y="1627"/>
                </a:lnTo>
                <a:lnTo>
                  <a:pt x="1102" y="1625"/>
                </a:lnTo>
                <a:lnTo>
                  <a:pt x="1102" y="1620"/>
                </a:lnTo>
                <a:lnTo>
                  <a:pt x="1098" y="1620"/>
                </a:lnTo>
                <a:lnTo>
                  <a:pt x="1095" y="1620"/>
                </a:lnTo>
                <a:lnTo>
                  <a:pt x="1095" y="1630"/>
                </a:lnTo>
                <a:lnTo>
                  <a:pt x="1095" y="1639"/>
                </a:lnTo>
                <a:lnTo>
                  <a:pt x="1093" y="1639"/>
                </a:lnTo>
                <a:lnTo>
                  <a:pt x="1088" y="1641"/>
                </a:lnTo>
                <a:lnTo>
                  <a:pt x="1086" y="1641"/>
                </a:lnTo>
                <a:lnTo>
                  <a:pt x="1084" y="1637"/>
                </a:lnTo>
                <a:lnTo>
                  <a:pt x="1086" y="1622"/>
                </a:lnTo>
                <a:lnTo>
                  <a:pt x="1088" y="1622"/>
                </a:lnTo>
                <a:lnTo>
                  <a:pt x="1091" y="1620"/>
                </a:lnTo>
                <a:lnTo>
                  <a:pt x="1088" y="1615"/>
                </a:lnTo>
                <a:lnTo>
                  <a:pt x="1088" y="1611"/>
                </a:lnTo>
                <a:lnTo>
                  <a:pt x="1088" y="1608"/>
                </a:lnTo>
                <a:lnTo>
                  <a:pt x="1091" y="1599"/>
                </a:lnTo>
                <a:lnTo>
                  <a:pt x="1095" y="1589"/>
                </a:lnTo>
                <a:lnTo>
                  <a:pt x="1093" y="1580"/>
                </a:lnTo>
                <a:lnTo>
                  <a:pt x="1093" y="1573"/>
                </a:lnTo>
                <a:lnTo>
                  <a:pt x="1091" y="1568"/>
                </a:lnTo>
                <a:lnTo>
                  <a:pt x="1091" y="1566"/>
                </a:lnTo>
                <a:lnTo>
                  <a:pt x="1093" y="1561"/>
                </a:lnTo>
                <a:lnTo>
                  <a:pt x="1098" y="1554"/>
                </a:lnTo>
                <a:lnTo>
                  <a:pt x="1100" y="1547"/>
                </a:lnTo>
                <a:lnTo>
                  <a:pt x="1102" y="1542"/>
                </a:lnTo>
                <a:lnTo>
                  <a:pt x="1110" y="1528"/>
                </a:lnTo>
                <a:lnTo>
                  <a:pt x="1114" y="1516"/>
                </a:lnTo>
                <a:lnTo>
                  <a:pt x="1114" y="1495"/>
                </a:lnTo>
                <a:lnTo>
                  <a:pt x="1114" y="1476"/>
                </a:lnTo>
                <a:lnTo>
                  <a:pt x="1117" y="1471"/>
                </a:lnTo>
                <a:lnTo>
                  <a:pt x="1117" y="1464"/>
                </a:lnTo>
                <a:lnTo>
                  <a:pt x="1117" y="1459"/>
                </a:lnTo>
                <a:lnTo>
                  <a:pt x="1114" y="1457"/>
                </a:lnTo>
                <a:lnTo>
                  <a:pt x="1119" y="1447"/>
                </a:lnTo>
                <a:lnTo>
                  <a:pt x="1121" y="1440"/>
                </a:lnTo>
                <a:lnTo>
                  <a:pt x="1119" y="1440"/>
                </a:lnTo>
                <a:lnTo>
                  <a:pt x="1121" y="1438"/>
                </a:lnTo>
                <a:lnTo>
                  <a:pt x="1124" y="1435"/>
                </a:lnTo>
                <a:lnTo>
                  <a:pt x="1124" y="1423"/>
                </a:lnTo>
                <a:lnTo>
                  <a:pt x="1126" y="1412"/>
                </a:lnTo>
                <a:lnTo>
                  <a:pt x="1126" y="1409"/>
                </a:lnTo>
                <a:lnTo>
                  <a:pt x="1128" y="1407"/>
                </a:lnTo>
                <a:lnTo>
                  <a:pt x="1126" y="1402"/>
                </a:lnTo>
                <a:lnTo>
                  <a:pt x="1126" y="1400"/>
                </a:lnTo>
                <a:lnTo>
                  <a:pt x="1126" y="1390"/>
                </a:lnTo>
                <a:lnTo>
                  <a:pt x="1128" y="1378"/>
                </a:lnTo>
                <a:lnTo>
                  <a:pt x="1131" y="1350"/>
                </a:lnTo>
                <a:lnTo>
                  <a:pt x="1128" y="1317"/>
                </a:lnTo>
                <a:lnTo>
                  <a:pt x="1119" y="1310"/>
                </a:lnTo>
                <a:lnTo>
                  <a:pt x="1112" y="1303"/>
                </a:lnTo>
                <a:lnTo>
                  <a:pt x="1102" y="1298"/>
                </a:lnTo>
                <a:lnTo>
                  <a:pt x="1093" y="1291"/>
                </a:lnTo>
                <a:lnTo>
                  <a:pt x="1074" y="1279"/>
                </a:lnTo>
                <a:lnTo>
                  <a:pt x="1060" y="1262"/>
                </a:lnTo>
                <a:lnTo>
                  <a:pt x="1060" y="1258"/>
                </a:lnTo>
                <a:lnTo>
                  <a:pt x="1060" y="1253"/>
                </a:lnTo>
                <a:lnTo>
                  <a:pt x="1048" y="1229"/>
                </a:lnTo>
                <a:lnTo>
                  <a:pt x="1036" y="1201"/>
                </a:lnTo>
                <a:lnTo>
                  <a:pt x="1029" y="1189"/>
                </a:lnTo>
                <a:lnTo>
                  <a:pt x="1022" y="1177"/>
                </a:lnTo>
                <a:lnTo>
                  <a:pt x="1013" y="1165"/>
                </a:lnTo>
                <a:lnTo>
                  <a:pt x="1005" y="1158"/>
                </a:lnTo>
                <a:lnTo>
                  <a:pt x="1005" y="1156"/>
                </a:lnTo>
                <a:lnTo>
                  <a:pt x="1005" y="1151"/>
                </a:lnTo>
                <a:lnTo>
                  <a:pt x="1003" y="1144"/>
                </a:lnTo>
                <a:lnTo>
                  <a:pt x="1001" y="1137"/>
                </a:lnTo>
                <a:lnTo>
                  <a:pt x="1013" y="1125"/>
                </a:lnTo>
                <a:lnTo>
                  <a:pt x="1020" y="1113"/>
                </a:lnTo>
                <a:lnTo>
                  <a:pt x="1015" y="1113"/>
                </a:lnTo>
                <a:lnTo>
                  <a:pt x="1013" y="1113"/>
                </a:lnTo>
                <a:lnTo>
                  <a:pt x="1008" y="1113"/>
                </a:lnTo>
                <a:lnTo>
                  <a:pt x="1008" y="1108"/>
                </a:lnTo>
                <a:lnTo>
                  <a:pt x="1008" y="1101"/>
                </a:lnTo>
                <a:lnTo>
                  <a:pt x="1008" y="1097"/>
                </a:lnTo>
                <a:lnTo>
                  <a:pt x="1013" y="1087"/>
                </a:lnTo>
                <a:lnTo>
                  <a:pt x="1017" y="1070"/>
                </a:lnTo>
                <a:lnTo>
                  <a:pt x="1024" y="1066"/>
                </a:lnTo>
                <a:lnTo>
                  <a:pt x="1031" y="1063"/>
                </a:lnTo>
                <a:lnTo>
                  <a:pt x="1029" y="1061"/>
                </a:lnTo>
                <a:lnTo>
                  <a:pt x="1029" y="1059"/>
                </a:lnTo>
                <a:lnTo>
                  <a:pt x="1031" y="1054"/>
                </a:lnTo>
                <a:lnTo>
                  <a:pt x="1034" y="1052"/>
                </a:lnTo>
                <a:lnTo>
                  <a:pt x="1036" y="1047"/>
                </a:lnTo>
                <a:lnTo>
                  <a:pt x="1041" y="1047"/>
                </a:lnTo>
                <a:lnTo>
                  <a:pt x="1046" y="1040"/>
                </a:lnTo>
                <a:lnTo>
                  <a:pt x="1050" y="1030"/>
                </a:lnTo>
                <a:lnTo>
                  <a:pt x="1048" y="1028"/>
                </a:lnTo>
                <a:lnTo>
                  <a:pt x="1046" y="1028"/>
                </a:lnTo>
                <a:lnTo>
                  <a:pt x="1048" y="1023"/>
                </a:lnTo>
                <a:lnTo>
                  <a:pt x="1048" y="1018"/>
                </a:lnTo>
                <a:lnTo>
                  <a:pt x="1048" y="1009"/>
                </a:lnTo>
                <a:lnTo>
                  <a:pt x="1048" y="1002"/>
                </a:lnTo>
                <a:lnTo>
                  <a:pt x="1041" y="988"/>
                </a:lnTo>
                <a:lnTo>
                  <a:pt x="1036" y="976"/>
                </a:lnTo>
                <a:lnTo>
                  <a:pt x="1036" y="973"/>
                </a:lnTo>
                <a:lnTo>
                  <a:pt x="1036" y="971"/>
                </a:lnTo>
                <a:lnTo>
                  <a:pt x="1031" y="969"/>
                </a:lnTo>
                <a:lnTo>
                  <a:pt x="1027" y="966"/>
                </a:lnTo>
                <a:lnTo>
                  <a:pt x="1022" y="969"/>
                </a:lnTo>
                <a:lnTo>
                  <a:pt x="1015" y="973"/>
                </a:lnTo>
                <a:lnTo>
                  <a:pt x="1017" y="980"/>
                </a:lnTo>
                <a:lnTo>
                  <a:pt x="1017" y="983"/>
                </a:lnTo>
                <a:lnTo>
                  <a:pt x="1015" y="985"/>
                </a:lnTo>
                <a:lnTo>
                  <a:pt x="1010" y="988"/>
                </a:lnTo>
                <a:lnTo>
                  <a:pt x="1008" y="988"/>
                </a:lnTo>
                <a:lnTo>
                  <a:pt x="1005" y="988"/>
                </a:lnTo>
                <a:lnTo>
                  <a:pt x="1005" y="985"/>
                </a:lnTo>
                <a:lnTo>
                  <a:pt x="1005" y="983"/>
                </a:lnTo>
                <a:lnTo>
                  <a:pt x="998" y="978"/>
                </a:lnTo>
                <a:lnTo>
                  <a:pt x="994" y="973"/>
                </a:lnTo>
                <a:lnTo>
                  <a:pt x="989" y="973"/>
                </a:lnTo>
                <a:lnTo>
                  <a:pt x="984" y="976"/>
                </a:lnTo>
                <a:lnTo>
                  <a:pt x="977" y="971"/>
                </a:lnTo>
                <a:lnTo>
                  <a:pt x="975" y="964"/>
                </a:lnTo>
                <a:lnTo>
                  <a:pt x="970" y="959"/>
                </a:lnTo>
                <a:lnTo>
                  <a:pt x="963" y="957"/>
                </a:lnTo>
                <a:lnTo>
                  <a:pt x="956" y="954"/>
                </a:lnTo>
                <a:lnTo>
                  <a:pt x="951" y="952"/>
                </a:lnTo>
                <a:lnTo>
                  <a:pt x="951" y="945"/>
                </a:lnTo>
                <a:lnTo>
                  <a:pt x="951" y="938"/>
                </a:lnTo>
                <a:lnTo>
                  <a:pt x="939" y="926"/>
                </a:lnTo>
                <a:lnTo>
                  <a:pt x="930" y="916"/>
                </a:lnTo>
                <a:lnTo>
                  <a:pt x="932" y="914"/>
                </a:lnTo>
                <a:lnTo>
                  <a:pt x="932" y="912"/>
                </a:lnTo>
                <a:lnTo>
                  <a:pt x="918" y="909"/>
                </a:lnTo>
                <a:lnTo>
                  <a:pt x="904" y="907"/>
                </a:lnTo>
                <a:lnTo>
                  <a:pt x="892" y="902"/>
                </a:lnTo>
                <a:lnTo>
                  <a:pt x="873" y="890"/>
                </a:lnTo>
                <a:lnTo>
                  <a:pt x="861" y="879"/>
                </a:lnTo>
                <a:lnTo>
                  <a:pt x="845" y="871"/>
                </a:lnTo>
                <a:lnTo>
                  <a:pt x="837" y="874"/>
                </a:lnTo>
                <a:lnTo>
                  <a:pt x="828" y="879"/>
                </a:lnTo>
                <a:lnTo>
                  <a:pt x="807" y="871"/>
                </a:lnTo>
                <a:lnTo>
                  <a:pt x="790" y="864"/>
                </a:lnTo>
                <a:lnTo>
                  <a:pt x="781" y="860"/>
                </a:lnTo>
                <a:lnTo>
                  <a:pt x="771" y="855"/>
                </a:lnTo>
                <a:lnTo>
                  <a:pt x="759" y="850"/>
                </a:lnTo>
                <a:lnTo>
                  <a:pt x="750" y="845"/>
                </a:lnTo>
                <a:lnTo>
                  <a:pt x="743" y="841"/>
                </a:lnTo>
                <a:lnTo>
                  <a:pt x="733" y="834"/>
                </a:lnTo>
                <a:lnTo>
                  <a:pt x="726" y="829"/>
                </a:lnTo>
                <a:lnTo>
                  <a:pt x="721" y="819"/>
                </a:lnTo>
                <a:lnTo>
                  <a:pt x="724" y="810"/>
                </a:lnTo>
                <a:lnTo>
                  <a:pt x="724" y="805"/>
                </a:lnTo>
                <a:lnTo>
                  <a:pt x="724" y="803"/>
                </a:lnTo>
                <a:lnTo>
                  <a:pt x="721" y="800"/>
                </a:lnTo>
                <a:lnTo>
                  <a:pt x="714" y="784"/>
                </a:lnTo>
                <a:lnTo>
                  <a:pt x="703" y="770"/>
                </a:lnTo>
                <a:lnTo>
                  <a:pt x="695" y="762"/>
                </a:lnTo>
                <a:lnTo>
                  <a:pt x="688" y="758"/>
                </a:lnTo>
                <a:lnTo>
                  <a:pt x="681" y="751"/>
                </a:lnTo>
                <a:lnTo>
                  <a:pt x="677" y="746"/>
                </a:lnTo>
                <a:lnTo>
                  <a:pt x="677" y="741"/>
                </a:lnTo>
                <a:lnTo>
                  <a:pt x="679" y="739"/>
                </a:lnTo>
                <a:lnTo>
                  <a:pt x="667" y="732"/>
                </a:lnTo>
                <a:lnTo>
                  <a:pt x="662" y="720"/>
                </a:lnTo>
                <a:lnTo>
                  <a:pt x="653" y="715"/>
                </a:lnTo>
                <a:lnTo>
                  <a:pt x="646" y="706"/>
                </a:lnTo>
                <a:lnTo>
                  <a:pt x="643" y="708"/>
                </a:lnTo>
                <a:lnTo>
                  <a:pt x="641" y="710"/>
                </a:lnTo>
                <a:lnTo>
                  <a:pt x="641" y="706"/>
                </a:lnTo>
                <a:lnTo>
                  <a:pt x="641" y="703"/>
                </a:lnTo>
                <a:lnTo>
                  <a:pt x="643" y="703"/>
                </a:lnTo>
                <a:lnTo>
                  <a:pt x="636" y="691"/>
                </a:lnTo>
                <a:lnTo>
                  <a:pt x="632" y="677"/>
                </a:lnTo>
                <a:lnTo>
                  <a:pt x="622" y="672"/>
                </a:lnTo>
                <a:lnTo>
                  <a:pt x="615" y="675"/>
                </a:lnTo>
                <a:lnTo>
                  <a:pt x="615" y="680"/>
                </a:lnTo>
                <a:lnTo>
                  <a:pt x="617" y="682"/>
                </a:lnTo>
                <a:lnTo>
                  <a:pt x="617" y="684"/>
                </a:lnTo>
                <a:lnTo>
                  <a:pt x="617" y="689"/>
                </a:lnTo>
                <a:lnTo>
                  <a:pt x="622" y="696"/>
                </a:lnTo>
                <a:lnTo>
                  <a:pt x="632" y="699"/>
                </a:lnTo>
                <a:lnTo>
                  <a:pt x="632" y="701"/>
                </a:lnTo>
                <a:lnTo>
                  <a:pt x="634" y="706"/>
                </a:lnTo>
                <a:lnTo>
                  <a:pt x="632" y="706"/>
                </a:lnTo>
                <a:lnTo>
                  <a:pt x="639" y="717"/>
                </a:lnTo>
                <a:lnTo>
                  <a:pt x="648" y="729"/>
                </a:lnTo>
                <a:lnTo>
                  <a:pt x="653" y="736"/>
                </a:lnTo>
                <a:lnTo>
                  <a:pt x="655" y="744"/>
                </a:lnTo>
                <a:lnTo>
                  <a:pt x="658" y="751"/>
                </a:lnTo>
                <a:lnTo>
                  <a:pt x="662" y="758"/>
                </a:lnTo>
                <a:lnTo>
                  <a:pt x="662" y="760"/>
                </a:lnTo>
                <a:lnTo>
                  <a:pt x="662" y="765"/>
                </a:lnTo>
                <a:lnTo>
                  <a:pt x="665" y="765"/>
                </a:lnTo>
                <a:lnTo>
                  <a:pt x="665" y="767"/>
                </a:lnTo>
                <a:lnTo>
                  <a:pt x="667" y="767"/>
                </a:lnTo>
                <a:lnTo>
                  <a:pt x="672" y="767"/>
                </a:lnTo>
                <a:lnTo>
                  <a:pt x="674" y="772"/>
                </a:lnTo>
                <a:lnTo>
                  <a:pt x="679" y="779"/>
                </a:lnTo>
                <a:lnTo>
                  <a:pt x="677" y="784"/>
                </a:lnTo>
                <a:lnTo>
                  <a:pt x="669" y="784"/>
                </a:lnTo>
                <a:lnTo>
                  <a:pt x="667" y="781"/>
                </a:lnTo>
                <a:lnTo>
                  <a:pt x="662" y="774"/>
                </a:lnTo>
                <a:lnTo>
                  <a:pt x="660" y="772"/>
                </a:lnTo>
                <a:lnTo>
                  <a:pt x="655" y="767"/>
                </a:lnTo>
                <a:lnTo>
                  <a:pt x="643" y="762"/>
                </a:lnTo>
                <a:lnTo>
                  <a:pt x="643" y="751"/>
                </a:lnTo>
                <a:lnTo>
                  <a:pt x="641" y="741"/>
                </a:lnTo>
                <a:lnTo>
                  <a:pt x="634" y="734"/>
                </a:lnTo>
                <a:lnTo>
                  <a:pt x="620" y="729"/>
                </a:lnTo>
                <a:lnTo>
                  <a:pt x="613" y="725"/>
                </a:lnTo>
                <a:lnTo>
                  <a:pt x="617" y="720"/>
                </a:lnTo>
                <a:lnTo>
                  <a:pt x="620" y="715"/>
                </a:lnTo>
                <a:lnTo>
                  <a:pt x="620" y="713"/>
                </a:lnTo>
                <a:lnTo>
                  <a:pt x="615" y="703"/>
                </a:lnTo>
                <a:lnTo>
                  <a:pt x="606" y="699"/>
                </a:lnTo>
                <a:lnTo>
                  <a:pt x="601" y="689"/>
                </a:lnTo>
                <a:lnTo>
                  <a:pt x="594" y="677"/>
                </a:lnTo>
                <a:lnTo>
                  <a:pt x="589" y="668"/>
                </a:lnTo>
                <a:lnTo>
                  <a:pt x="584" y="656"/>
                </a:lnTo>
                <a:lnTo>
                  <a:pt x="577" y="646"/>
                </a:lnTo>
                <a:lnTo>
                  <a:pt x="570" y="642"/>
                </a:lnTo>
                <a:lnTo>
                  <a:pt x="568" y="642"/>
                </a:lnTo>
                <a:lnTo>
                  <a:pt x="563" y="642"/>
                </a:lnTo>
                <a:lnTo>
                  <a:pt x="561" y="639"/>
                </a:lnTo>
                <a:lnTo>
                  <a:pt x="561" y="637"/>
                </a:lnTo>
                <a:lnTo>
                  <a:pt x="546" y="635"/>
                </a:lnTo>
                <a:lnTo>
                  <a:pt x="544" y="625"/>
                </a:lnTo>
                <a:lnTo>
                  <a:pt x="539" y="618"/>
                </a:lnTo>
                <a:lnTo>
                  <a:pt x="532" y="613"/>
                </a:lnTo>
                <a:lnTo>
                  <a:pt x="532" y="608"/>
                </a:lnTo>
                <a:lnTo>
                  <a:pt x="532" y="604"/>
                </a:lnTo>
                <a:lnTo>
                  <a:pt x="527" y="601"/>
                </a:lnTo>
                <a:lnTo>
                  <a:pt x="525" y="599"/>
                </a:lnTo>
                <a:lnTo>
                  <a:pt x="525" y="594"/>
                </a:lnTo>
                <a:lnTo>
                  <a:pt x="525" y="592"/>
                </a:lnTo>
                <a:lnTo>
                  <a:pt x="516" y="582"/>
                </a:lnTo>
                <a:lnTo>
                  <a:pt x="509" y="566"/>
                </a:lnTo>
                <a:lnTo>
                  <a:pt x="506" y="563"/>
                </a:lnTo>
                <a:lnTo>
                  <a:pt x="504" y="556"/>
                </a:lnTo>
                <a:lnTo>
                  <a:pt x="504" y="552"/>
                </a:lnTo>
                <a:lnTo>
                  <a:pt x="506" y="549"/>
                </a:lnTo>
                <a:lnTo>
                  <a:pt x="504" y="537"/>
                </a:lnTo>
                <a:lnTo>
                  <a:pt x="501" y="530"/>
                </a:lnTo>
                <a:lnTo>
                  <a:pt x="501" y="528"/>
                </a:lnTo>
                <a:lnTo>
                  <a:pt x="501" y="526"/>
                </a:lnTo>
                <a:lnTo>
                  <a:pt x="504" y="509"/>
                </a:lnTo>
                <a:lnTo>
                  <a:pt x="509" y="488"/>
                </a:lnTo>
                <a:lnTo>
                  <a:pt x="506" y="471"/>
                </a:lnTo>
                <a:lnTo>
                  <a:pt x="499" y="462"/>
                </a:lnTo>
                <a:lnTo>
                  <a:pt x="499" y="459"/>
                </a:lnTo>
                <a:lnTo>
                  <a:pt x="499" y="457"/>
                </a:lnTo>
                <a:lnTo>
                  <a:pt x="499" y="454"/>
                </a:lnTo>
                <a:lnTo>
                  <a:pt x="499" y="452"/>
                </a:lnTo>
                <a:lnTo>
                  <a:pt x="497" y="452"/>
                </a:lnTo>
                <a:lnTo>
                  <a:pt x="494" y="450"/>
                </a:lnTo>
                <a:lnTo>
                  <a:pt x="487" y="445"/>
                </a:lnTo>
                <a:lnTo>
                  <a:pt x="478" y="443"/>
                </a:lnTo>
                <a:lnTo>
                  <a:pt x="478" y="440"/>
                </a:lnTo>
                <a:lnTo>
                  <a:pt x="478" y="438"/>
                </a:lnTo>
                <a:lnTo>
                  <a:pt x="473" y="438"/>
                </a:lnTo>
                <a:lnTo>
                  <a:pt x="471" y="438"/>
                </a:lnTo>
                <a:lnTo>
                  <a:pt x="466" y="436"/>
                </a:lnTo>
                <a:lnTo>
                  <a:pt x="464" y="431"/>
                </a:lnTo>
                <a:lnTo>
                  <a:pt x="459" y="428"/>
                </a:lnTo>
                <a:lnTo>
                  <a:pt x="456" y="424"/>
                </a:lnTo>
                <a:lnTo>
                  <a:pt x="459" y="424"/>
                </a:lnTo>
                <a:lnTo>
                  <a:pt x="461" y="424"/>
                </a:lnTo>
                <a:lnTo>
                  <a:pt x="471" y="424"/>
                </a:lnTo>
                <a:lnTo>
                  <a:pt x="480" y="426"/>
                </a:lnTo>
                <a:lnTo>
                  <a:pt x="475" y="421"/>
                </a:lnTo>
                <a:lnTo>
                  <a:pt x="466" y="421"/>
                </a:lnTo>
                <a:lnTo>
                  <a:pt x="466" y="417"/>
                </a:lnTo>
                <a:lnTo>
                  <a:pt x="466" y="414"/>
                </a:lnTo>
                <a:lnTo>
                  <a:pt x="464" y="414"/>
                </a:lnTo>
                <a:lnTo>
                  <a:pt x="464" y="412"/>
                </a:lnTo>
                <a:lnTo>
                  <a:pt x="464" y="409"/>
                </a:lnTo>
                <a:lnTo>
                  <a:pt x="459" y="409"/>
                </a:lnTo>
                <a:lnTo>
                  <a:pt x="456" y="409"/>
                </a:lnTo>
                <a:lnTo>
                  <a:pt x="459" y="402"/>
                </a:lnTo>
                <a:lnTo>
                  <a:pt x="459" y="398"/>
                </a:lnTo>
                <a:lnTo>
                  <a:pt x="456" y="398"/>
                </a:lnTo>
                <a:lnTo>
                  <a:pt x="454" y="402"/>
                </a:lnTo>
                <a:lnTo>
                  <a:pt x="454" y="405"/>
                </a:lnTo>
                <a:lnTo>
                  <a:pt x="452" y="405"/>
                </a:lnTo>
                <a:lnTo>
                  <a:pt x="452" y="402"/>
                </a:lnTo>
                <a:lnTo>
                  <a:pt x="449" y="400"/>
                </a:lnTo>
                <a:lnTo>
                  <a:pt x="447" y="395"/>
                </a:lnTo>
                <a:lnTo>
                  <a:pt x="447" y="393"/>
                </a:lnTo>
                <a:lnTo>
                  <a:pt x="449" y="391"/>
                </a:lnTo>
                <a:lnTo>
                  <a:pt x="447" y="391"/>
                </a:lnTo>
                <a:lnTo>
                  <a:pt x="442" y="393"/>
                </a:lnTo>
                <a:lnTo>
                  <a:pt x="438" y="391"/>
                </a:lnTo>
                <a:lnTo>
                  <a:pt x="435" y="386"/>
                </a:lnTo>
                <a:lnTo>
                  <a:pt x="435" y="381"/>
                </a:lnTo>
                <a:lnTo>
                  <a:pt x="435" y="379"/>
                </a:lnTo>
                <a:lnTo>
                  <a:pt x="433" y="379"/>
                </a:lnTo>
                <a:lnTo>
                  <a:pt x="433" y="376"/>
                </a:lnTo>
                <a:lnTo>
                  <a:pt x="433" y="372"/>
                </a:lnTo>
                <a:lnTo>
                  <a:pt x="430" y="374"/>
                </a:lnTo>
                <a:lnTo>
                  <a:pt x="428" y="374"/>
                </a:lnTo>
                <a:lnTo>
                  <a:pt x="428" y="372"/>
                </a:lnTo>
                <a:lnTo>
                  <a:pt x="426" y="367"/>
                </a:lnTo>
                <a:lnTo>
                  <a:pt x="421" y="367"/>
                </a:lnTo>
                <a:lnTo>
                  <a:pt x="416" y="367"/>
                </a:lnTo>
                <a:lnTo>
                  <a:pt x="416" y="364"/>
                </a:lnTo>
                <a:lnTo>
                  <a:pt x="416" y="362"/>
                </a:lnTo>
                <a:lnTo>
                  <a:pt x="414" y="362"/>
                </a:lnTo>
                <a:lnTo>
                  <a:pt x="414" y="360"/>
                </a:lnTo>
                <a:lnTo>
                  <a:pt x="414" y="357"/>
                </a:lnTo>
                <a:lnTo>
                  <a:pt x="411" y="357"/>
                </a:lnTo>
                <a:lnTo>
                  <a:pt x="414" y="364"/>
                </a:lnTo>
                <a:lnTo>
                  <a:pt x="416" y="369"/>
                </a:lnTo>
                <a:lnTo>
                  <a:pt x="414" y="372"/>
                </a:lnTo>
                <a:lnTo>
                  <a:pt x="411" y="374"/>
                </a:lnTo>
                <a:lnTo>
                  <a:pt x="404" y="369"/>
                </a:lnTo>
                <a:lnTo>
                  <a:pt x="402" y="362"/>
                </a:lnTo>
                <a:lnTo>
                  <a:pt x="400" y="362"/>
                </a:lnTo>
                <a:lnTo>
                  <a:pt x="397" y="362"/>
                </a:lnTo>
                <a:lnTo>
                  <a:pt x="395" y="357"/>
                </a:lnTo>
                <a:lnTo>
                  <a:pt x="395" y="353"/>
                </a:lnTo>
                <a:lnTo>
                  <a:pt x="397" y="353"/>
                </a:lnTo>
                <a:lnTo>
                  <a:pt x="397" y="350"/>
                </a:lnTo>
                <a:lnTo>
                  <a:pt x="395" y="348"/>
                </a:lnTo>
                <a:lnTo>
                  <a:pt x="393" y="353"/>
                </a:lnTo>
                <a:lnTo>
                  <a:pt x="393" y="355"/>
                </a:lnTo>
                <a:lnTo>
                  <a:pt x="390" y="355"/>
                </a:lnTo>
                <a:lnTo>
                  <a:pt x="388" y="350"/>
                </a:lnTo>
                <a:lnTo>
                  <a:pt x="385" y="345"/>
                </a:lnTo>
                <a:lnTo>
                  <a:pt x="395" y="343"/>
                </a:lnTo>
                <a:lnTo>
                  <a:pt x="397" y="334"/>
                </a:lnTo>
                <a:lnTo>
                  <a:pt x="395" y="334"/>
                </a:lnTo>
                <a:lnTo>
                  <a:pt x="393" y="334"/>
                </a:lnTo>
                <a:lnTo>
                  <a:pt x="393" y="336"/>
                </a:lnTo>
                <a:lnTo>
                  <a:pt x="390" y="341"/>
                </a:lnTo>
                <a:lnTo>
                  <a:pt x="385" y="343"/>
                </a:lnTo>
                <a:lnTo>
                  <a:pt x="383" y="338"/>
                </a:lnTo>
                <a:lnTo>
                  <a:pt x="381" y="331"/>
                </a:lnTo>
                <a:lnTo>
                  <a:pt x="381" y="334"/>
                </a:lnTo>
                <a:lnTo>
                  <a:pt x="378" y="338"/>
                </a:lnTo>
                <a:lnTo>
                  <a:pt x="383" y="341"/>
                </a:lnTo>
                <a:lnTo>
                  <a:pt x="385" y="348"/>
                </a:lnTo>
                <a:lnTo>
                  <a:pt x="385" y="350"/>
                </a:lnTo>
                <a:lnTo>
                  <a:pt x="385" y="353"/>
                </a:lnTo>
                <a:lnTo>
                  <a:pt x="378" y="350"/>
                </a:lnTo>
                <a:lnTo>
                  <a:pt x="376" y="343"/>
                </a:lnTo>
                <a:lnTo>
                  <a:pt x="374" y="343"/>
                </a:lnTo>
                <a:lnTo>
                  <a:pt x="371" y="343"/>
                </a:lnTo>
                <a:lnTo>
                  <a:pt x="367" y="336"/>
                </a:lnTo>
                <a:lnTo>
                  <a:pt x="362" y="327"/>
                </a:lnTo>
                <a:lnTo>
                  <a:pt x="362" y="329"/>
                </a:lnTo>
                <a:lnTo>
                  <a:pt x="343" y="319"/>
                </a:lnTo>
                <a:lnTo>
                  <a:pt x="326" y="312"/>
                </a:lnTo>
                <a:lnTo>
                  <a:pt x="324" y="310"/>
                </a:lnTo>
                <a:lnTo>
                  <a:pt x="324" y="308"/>
                </a:lnTo>
                <a:lnTo>
                  <a:pt x="317" y="308"/>
                </a:lnTo>
                <a:lnTo>
                  <a:pt x="307" y="308"/>
                </a:lnTo>
                <a:lnTo>
                  <a:pt x="307" y="305"/>
                </a:lnTo>
                <a:lnTo>
                  <a:pt x="293" y="305"/>
                </a:lnTo>
                <a:lnTo>
                  <a:pt x="279" y="305"/>
                </a:lnTo>
                <a:lnTo>
                  <a:pt x="272" y="305"/>
                </a:lnTo>
                <a:lnTo>
                  <a:pt x="265" y="300"/>
                </a:lnTo>
                <a:lnTo>
                  <a:pt x="262" y="300"/>
                </a:lnTo>
                <a:lnTo>
                  <a:pt x="258" y="300"/>
                </a:lnTo>
                <a:lnTo>
                  <a:pt x="255" y="300"/>
                </a:lnTo>
                <a:lnTo>
                  <a:pt x="253" y="296"/>
                </a:lnTo>
                <a:lnTo>
                  <a:pt x="251" y="296"/>
                </a:lnTo>
                <a:lnTo>
                  <a:pt x="246" y="296"/>
                </a:lnTo>
                <a:lnTo>
                  <a:pt x="243" y="293"/>
                </a:lnTo>
                <a:lnTo>
                  <a:pt x="234" y="293"/>
                </a:lnTo>
                <a:lnTo>
                  <a:pt x="225" y="293"/>
                </a:lnTo>
                <a:lnTo>
                  <a:pt x="225" y="296"/>
                </a:lnTo>
                <a:lnTo>
                  <a:pt x="227" y="296"/>
                </a:lnTo>
                <a:lnTo>
                  <a:pt x="229" y="296"/>
                </a:lnTo>
                <a:lnTo>
                  <a:pt x="227" y="300"/>
                </a:lnTo>
                <a:lnTo>
                  <a:pt x="225" y="305"/>
                </a:lnTo>
                <a:lnTo>
                  <a:pt x="220" y="305"/>
                </a:lnTo>
                <a:lnTo>
                  <a:pt x="215" y="305"/>
                </a:lnTo>
                <a:lnTo>
                  <a:pt x="203" y="312"/>
                </a:lnTo>
                <a:lnTo>
                  <a:pt x="191" y="315"/>
                </a:lnTo>
                <a:lnTo>
                  <a:pt x="187" y="315"/>
                </a:lnTo>
                <a:lnTo>
                  <a:pt x="184" y="315"/>
                </a:lnTo>
                <a:lnTo>
                  <a:pt x="184" y="312"/>
                </a:lnTo>
                <a:lnTo>
                  <a:pt x="187" y="310"/>
                </a:lnTo>
                <a:lnTo>
                  <a:pt x="184" y="310"/>
                </a:lnTo>
                <a:lnTo>
                  <a:pt x="191" y="296"/>
                </a:lnTo>
                <a:lnTo>
                  <a:pt x="206" y="291"/>
                </a:lnTo>
                <a:lnTo>
                  <a:pt x="206" y="289"/>
                </a:lnTo>
                <a:lnTo>
                  <a:pt x="182" y="298"/>
                </a:lnTo>
                <a:lnTo>
                  <a:pt x="161" y="312"/>
                </a:lnTo>
                <a:lnTo>
                  <a:pt x="161" y="315"/>
                </a:lnTo>
                <a:lnTo>
                  <a:pt x="163" y="317"/>
                </a:lnTo>
                <a:lnTo>
                  <a:pt x="168" y="317"/>
                </a:lnTo>
                <a:lnTo>
                  <a:pt x="156" y="329"/>
                </a:lnTo>
                <a:lnTo>
                  <a:pt x="139" y="336"/>
                </a:lnTo>
                <a:lnTo>
                  <a:pt x="125" y="345"/>
                </a:lnTo>
                <a:lnTo>
                  <a:pt x="109" y="353"/>
                </a:lnTo>
                <a:lnTo>
                  <a:pt x="102" y="357"/>
                </a:lnTo>
                <a:lnTo>
                  <a:pt x="90" y="360"/>
                </a:lnTo>
                <a:lnTo>
                  <a:pt x="83" y="364"/>
                </a:lnTo>
                <a:lnTo>
                  <a:pt x="71" y="364"/>
                </a:lnTo>
                <a:lnTo>
                  <a:pt x="66" y="367"/>
                </a:lnTo>
                <a:lnTo>
                  <a:pt x="61" y="369"/>
                </a:lnTo>
                <a:lnTo>
                  <a:pt x="61" y="367"/>
                </a:lnTo>
                <a:lnTo>
                  <a:pt x="57" y="372"/>
                </a:lnTo>
                <a:lnTo>
                  <a:pt x="49" y="374"/>
                </a:lnTo>
                <a:lnTo>
                  <a:pt x="42" y="376"/>
                </a:lnTo>
                <a:lnTo>
                  <a:pt x="35" y="379"/>
                </a:lnTo>
                <a:lnTo>
                  <a:pt x="40" y="369"/>
                </a:lnTo>
                <a:lnTo>
                  <a:pt x="52" y="369"/>
                </a:lnTo>
                <a:lnTo>
                  <a:pt x="64" y="360"/>
                </a:lnTo>
                <a:lnTo>
                  <a:pt x="80" y="355"/>
                </a:lnTo>
                <a:lnTo>
                  <a:pt x="83" y="355"/>
                </a:lnTo>
                <a:lnTo>
                  <a:pt x="90" y="348"/>
                </a:lnTo>
                <a:lnTo>
                  <a:pt x="99" y="345"/>
                </a:lnTo>
                <a:lnTo>
                  <a:pt x="109" y="341"/>
                </a:lnTo>
                <a:lnTo>
                  <a:pt x="116" y="336"/>
                </a:lnTo>
                <a:lnTo>
                  <a:pt x="118" y="329"/>
                </a:lnTo>
                <a:lnTo>
                  <a:pt x="120" y="322"/>
                </a:lnTo>
                <a:lnTo>
                  <a:pt x="116" y="322"/>
                </a:lnTo>
                <a:lnTo>
                  <a:pt x="113" y="322"/>
                </a:lnTo>
                <a:lnTo>
                  <a:pt x="111" y="322"/>
                </a:lnTo>
                <a:lnTo>
                  <a:pt x="109" y="322"/>
                </a:lnTo>
                <a:lnTo>
                  <a:pt x="109" y="319"/>
                </a:lnTo>
                <a:lnTo>
                  <a:pt x="104" y="322"/>
                </a:lnTo>
                <a:lnTo>
                  <a:pt x="102" y="327"/>
                </a:lnTo>
                <a:lnTo>
                  <a:pt x="99" y="324"/>
                </a:lnTo>
                <a:lnTo>
                  <a:pt x="97" y="322"/>
                </a:lnTo>
                <a:lnTo>
                  <a:pt x="90" y="319"/>
                </a:lnTo>
                <a:lnTo>
                  <a:pt x="85" y="319"/>
                </a:lnTo>
                <a:lnTo>
                  <a:pt x="80" y="322"/>
                </a:lnTo>
                <a:lnTo>
                  <a:pt x="75" y="322"/>
                </a:lnTo>
                <a:lnTo>
                  <a:pt x="71" y="322"/>
                </a:lnTo>
                <a:lnTo>
                  <a:pt x="66" y="322"/>
                </a:lnTo>
                <a:lnTo>
                  <a:pt x="68" y="319"/>
                </a:lnTo>
                <a:lnTo>
                  <a:pt x="71" y="317"/>
                </a:lnTo>
                <a:lnTo>
                  <a:pt x="68" y="317"/>
                </a:lnTo>
                <a:lnTo>
                  <a:pt x="66" y="317"/>
                </a:lnTo>
                <a:lnTo>
                  <a:pt x="66" y="315"/>
                </a:lnTo>
                <a:lnTo>
                  <a:pt x="66" y="312"/>
                </a:lnTo>
                <a:lnTo>
                  <a:pt x="64" y="305"/>
                </a:lnTo>
                <a:lnTo>
                  <a:pt x="61" y="303"/>
                </a:lnTo>
                <a:lnTo>
                  <a:pt x="54" y="308"/>
                </a:lnTo>
                <a:lnTo>
                  <a:pt x="42" y="308"/>
                </a:lnTo>
                <a:lnTo>
                  <a:pt x="38" y="303"/>
                </a:lnTo>
                <a:lnTo>
                  <a:pt x="28" y="298"/>
                </a:lnTo>
                <a:lnTo>
                  <a:pt x="26" y="291"/>
                </a:lnTo>
                <a:lnTo>
                  <a:pt x="21" y="284"/>
                </a:lnTo>
                <a:lnTo>
                  <a:pt x="23" y="274"/>
                </a:lnTo>
                <a:lnTo>
                  <a:pt x="35" y="270"/>
                </a:lnTo>
                <a:lnTo>
                  <a:pt x="35" y="265"/>
                </a:lnTo>
                <a:lnTo>
                  <a:pt x="40" y="263"/>
                </a:lnTo>
                <a:lnTo>
                  <a:pt x="52" y="263"/>
                </a:lnTo>
                <a:lnTo>
                  <a:pt x="64" y="258"/>
                </a:lnTo>
                <a:lnTo>
                  <a:pt x="68" y="258"/>
                </a:lnTo>
                <a:lnTo>
                  <a:pt x="71" y="260"/>
                </a:lnTo>
                <a:lnTo>
                  <a:pt x="78" y="258"/>
                </a:lnTo>
                <a:lnTo>
                  <a:pt x="78" y="251"/>
                </a:lnTo>
                <a:lnTo>
                  <a:pt x="75" y="251"/>
                </a:lnTo>
                <a:lnTo>
                  <a:pt x="75" y="246"/>
                </a:lnTo>
                <a:lnTo>
                  <a:pt x="78" y="244"/>
                </a:lnTo>
                <a:lnTo>
                  <a:pt x="61" y="246"/>
                </a:lnTo>
                <a:lnTo>
                  <a:pt x="47" y="248"/>
                </a:lnTo>
                <a:lnTo>
                  <a:pt x="33" y="248"/>
                </a:lnTo>
                <a:lnTo>
                  <a:pt x="16" y="246"/>
                </a:lnTo>
                <a:lnTo>
                  <a:pt x="12" y="241"/>
                </a:lnTo>
                <a:lnTo>
                  <a:pt x="9" y="237"/>
                </a:lnTo>
                <a:lnTo>
                  <a:pt x="4" y="237"/>
                </a:lnTo>
                <a:lnTo>
                  <a:pt x="0" y="234"/>
                </a:lnTo>
                <a:lnTo>
                  <a:pt x="7" y="227"/>
                </a:lnTo>
                <a:lnTo>
                  <a:pt x="21" y="225"/>
                </a:lnTo>
                <a:lnTo>
                  <a:pt x="23" y="222"/>
                </a:lnTo>
                <a:lnTo>
                  <a:pt x="26" y="220"/>
                </a:lnTo>
                <a:lnTo>
                  <a:pt x="33" y="220"/>
                </a:lnTo>
                <a:lnTo>
                  <a:pt x="42" y="218"/>
                </a:lnTo>
                <a:lnTo>
                  <a:pt x="45" y="218"/>
                </a:lnTo>
                <a:lnTo>
                  <a:pt x="47" y="218"/>
                </a:lnTo>
                <a:lnTo>
                  <a:pt x="47" y="222"/>
                </a:lnTo>
                <a:lnTo>
                  <a:pt x="45" y="225"/>
                </a:lnTo>
                <a:lnTo>
                  <a:pt x="57" y="225"/>
                </a:lnTo>
                <a:lnTo>
                  <a:pt x="68" y="225"/>
                </a:lnTo>
                <a:lnTo>
                  <a:pt x="64" y="220"/>
                </a:lnTo>
                <a:lnTo>
                  <a:pt x="59" y="215"/>
                </a:lnTo>
                <a:lnTo>
                  <a:pt x="54" y="215"/>
                </a:lnTo>
                <a:lnTo>
                  <a:pt x="49" y="215"/>
                </a:lnTo>
                <a:lnTo>
                  <a:pt x="45" y="210"/>
                </a:lnTo>
                <a:lnTo>
                  <a:pt x="33" y="203"/>
                </a:lnTo>
                <a:lnTo>
                  <a:pt x="23" y="201"/>
                </a:lnTo>
                <a:lnTo>
                  <a:pt x="12" y="199"/>
                </a:lnTo>
                <a:lnTo>
                  <a:pt x="12" y="196"/>
                </a:lnTo>
                <a:lnTo>
                  <a:pt x="16" y="191"/>
                </a:lnTo>
                <a:lnTo>
                  <a:pt x="26" y="189"/>
                </a:lnTo>
                <a:lnTo>
                  <a:pt x="35" y="189"/>
                </a:lnTo>
                <a:lnTo>
                  <a:pt x="42" y="187"/>
                </a:lnTo>
                <a:lnTo>
                  <a:pt x="57" y="177"/>
                </a:lnTo>
                <a:lnTo>
                  <a:pt x="66" y="170"/>
                </a:lnTo>
                <a:lnTo>
                  <a:pt x="75" y="170"/>
                </a:lnTo>
                <a:lnTo>
                  <a:pt x="83" y="168"/>
                </a:lnTo>
                <a:lnTo>
                  <a:pt x="90" y="165"/>
                </a:lnTo>
                <a:lnTo>
                  <a:pt x="97" y="163"/>
                </a:lnTo>
                <a:lnTo>
                  <a:pt x="106" y="163"/>
                </a:lnTo>
                <a:lnTo>
                  <a:pt x="116" y="163"/>
                </a:lnTo>
                <a:lnTo>
                  <a:pt x="123" y="158"/>
                </a:lnTo>
                <a:lnTo>
                  <a:pt x="128" y="156"/>
                </a:lnTo>
                <a:lnTo>
                  <a:pt x="132" y="158"/>
                </a:lnTo>
                <a:lnTo>
                  <a:pt x="139" y="158"/>
                </a:lnTo>
                <a:lnTo>
                  <a:pt x="139" y="161"/>
                </a:lnTo>
                <a:lnTo>
                  <a:pt x="137" y="163"/>
                </a:lnTo>
                <a:lnTo>
                  <a:pt x="142" y="161"/>
                </a:lnTo>
                <a:lnTo>
                  <a:pt x="146" y="161"/>
                </a:lnTo>
                <a:lnTo>
                  <a:pt x="156" y="161"/>
                </a:lnTo>
                <a:lnTo>
                  <a:pt x="165" y="163"/>
                </a:lnTo>
                <a:lnTo>
                  <a:pt x="170" y="163"/>
                </a:lnTo>
                <a:lnTo>
                  <a:pt x="177" y="163"/>
                </a:lnTo>
                <a:lnTo>
                  <a:pt x="180" y="163"/>
                </a:lnTo>
                <a:lnTo>
                  <a:pt x="182" y="165"/>
                </a:lnTo>
                <a:lnTo>
                  <a:pt x="227" y="170"/>
                </a:lnTo>
                <a:lnTo>
                  <a:pt x="274" y="175"/>
                </a:lnTo>
                <a:lnTo>
                  <a:pt x="284" y="173"/>
                </a:lnTo>
                <a:lnTo>
                  <a:pt x="296" y="175"/>
                </a:lnTo>
                <a:lnTo>
                  <a:pt x="305" y="180"/>
                </a:lnTo>
                <a:lnTo>
                  <a:pt x="317" y="180"/>
                </a:lnTo>
                <a:lnTo>
                  <a:pt x="341" y="184"/>
                </a:lnTo>
                <a:lnTo>
                  <a:pt x="359" y="189"/>
                </a:lnTo>
                <a:lnTo>
                  <a:pt x="364" y="189"/>
                </a:lnTo>
                <a:lnTo>
                  <a:pt x="369" y="189"/>
                </a:lnTo>
                <a:lnTo>
                  <a:pt x="369" y="187"/>
                </a:lnTo>
                <a:lnTo>
                  <a:pt x="371" y="184"/>
                </a:lnTo>
                <a:lnTo>
                  <a:pt x="381" y="182"/>
                </a:lnTo>
                <a:lnTo>
                  <a:pt x="390" y="180"/>
                </a:lnTo>
                <a:lnTo>
                  <a:pt x="390" y="182"/>
                </a:lnTo>
                <a:lnTo>
                  <a:pt x="393" y="182"/>
                </a:lnTo>
                <a:lnTo>
                  <a:pt x="397" y="182"/>
                </a:lnTo>
                <a:lnTo>
                  <a:pt x="414" y="177"/>
                </a:lnTo>
                <a:lnTo>
                  <a:pt x="430" y="173"/>
                </a:lnTo>
                <a:lnTo>
                  <a:pt x="438" y="173"/>
                </a:lnTo>
                <a:lnTo>
                  <a:pt x="442" y="173"/>
                </a:lnTo>
                <a:lnTo>
                  <a:pt x="442" y="175"/>
                </a:lnTo>
                <a:lnTo>
                  <a:pt x="442" y="177"/>
                </a:lnTo>
                <a:lnTo>
                  <a:pt x="447" y="177"/>
                </a:lnTo>
                <a:lnTo>
                  <a:pt x="454" y="177"/>
                </a:lnTo>
                <a:lnTo>
                  <a:pt x="459" y="173"/>
                </a:lnTo>
                <a:lnTo>
                  <a:pt x="464" y="168"/>
                </a:lnTo>
                <a:lnTo>
                  <a:pt x="475" y="177"/>
                </a:lnTo>
                <a:lnTo>
                  <a:pt x="492" y="182"/>
                </a:lnTo>
                <a:lnTo>
                  <a:pt x="494" y="177"/>
                </a:lnTo>
                <a:lnTo>
                  <a:pt x="499" y="173"/>
                </a:lnTo>
                <a:lnTo>
                  <a:pt x="501" y="173"/>
                </a:lnTo>
                <a:lnTo>
                  <a:pt x="504" y="173"/>
                </a:lnTo>
                <a:lnTo>
                  <a:pt x="506" y="177"/>
                </a:lnTo>
                <a:lnTo>
                  <a:pt x="506" y="182"/>
                </a:lnTo>
                <a:lnTo>
                  <a:pt x="516" y="180"/>
                </a:lnTo>
                <a:lnTo>
                  <a:pt x="520" y="177"/>
                </a:lnTo>
                <a:lnTo>
                  <a:pt x="527" y="177"/>
                </a:lnTo>
                <a:lnTo>
                  <a:pt x="532" y="177"/>
                </a:lnTo>
                <a:lnTo>
                  <a:pt x="544" y="180"/>
                </a:lnTo>
                <a:lnTo>
                  <a:pt x="553" y="182"/>
                </a:lnTo>
                <a:lnTo>
                  <a:pt x="568" y="184"/>
                </a:lnTo>
                <a:lnTo>
                  <a:pt x="577" y="187"/>
                </a:lnTo>
                <a:lnTo>
                  <a:pt x="603" y="189"/>
                </a:lnTo>
                <a:lnTo>
                  <a:pt x="622" y="196"/>
                </a:lnTo>
                <a:lnTo>
                  <a:pt x="622" y="199"/>
                </a:lnTo>
                <a:lnTo>
                  <a:pt x="617" y="199"/>
                </a:lnTo>
                <a:lnTo>
                  <a:pt x="615" y="199"/>
                </a:lnTo>
                <a:lnTo>
                  <a:pt x="613" y="199"/>
                </a:lnTo>
                <a:lnTo>
                  <a:pt x="613" y="201"/>
                </a:lnTo>
                <a:lnTo>
                  <a:pt x="613" y="203"/>
                </a:lnTo>
                <a:lnTo>
                  <a:pt x="617" y="203"/>
                </a:lnTo>
                <a:lnTo>
                  <a:pt x="622" y="203"/>
                </a:lnTo>
                <a:lnTo>
                  <a:pt x="632" y="203"/>
                </a:lnTo>
                <a:lnTo>
                  <a:pt x="639" y="203"/>
                </a:lnTo>
                <a:lnTo>
                  <a:pt x="660" y="203"/>
                </a:lnTo>
                <a:lnTo>
                  <a:pt x="681" y="203"/>
                </a:lnTo>
                <a:lnTo>
                  <a:pt x="681" y="206"/>
                </a:lnTo>
                <a:lnTo>
                  <a:pt x="684" y="208"/>
                </a:lnTo>
                <a:lnTo>
                  <a:pt x="686" y="206"/>
                </a:lnTo>
                <a:lnTo>
                  <a:pt x="688" y="206"/>
                </a:lnTo>
                <a:lnTo>
                  <a:pt x="693" y="208"/>
                </a:lnTo>
                <a:lnTo>
                  <a:pt x="693" y="215"/>
                </a:lnTo>
                <a:lnTo>
                  <a:pt x="695" y="218"/>
                </a:lnTo>
                <a:lnTo>
                  <a:pt x="698" y="215"/>
                </a:lnTo>
                <a:lnTo>
                  <a:pt x="700" y="213"/>
                </a:lnTo>
                <a:lnTo>
                  <a:pt x="695" y="208"/>
                </a:lnTo>
                <a:lnTo>
                  <a:pt x="693" y="201"/>
                </a:lnTo>
                <a:lnTo>
                  <a:pt x="700" y="201"/>
                </a:lnTo>
                <a:lnTo>
                  <a:pt x="707" y="199"/>
                </a:lnTo>
                <a:lnTo>
                  <a:pt x="698" y="199"/>
                </a:lnTo>
                <a:lnTo>
                  <a:pt x="686" y="201"/>
                </a:lnTo>
                <a:lnTo>
                  <a:pt x="691" y="191"/>
                </a:lnTo>
                <a:lnTo>
                  <a:pt x="698" y="191"/>
                </a:lnTo>
                <a:lnTo>
                  <a:pt x="707" y="189"/>
                </a:lnTo>
                <a:lnTo>
                  <a:pt x="714" y="189"/>
                </a:lnTo>
                <a:lnTo>
                  <a:pt x="712" y="187"/>
                </a:lnTo>
                <a:lnTo>
                  <a:pt x="710" y="184"/>
                </a:lnTo>
                <a:lnTo>
                  <a:pt x="674" y="194"/>
                </a:lnTo>
                <a:lnTo>
                  <a:pt x="634" y="196"/>
                </a:lnTo>
                <a:lnTo>
                  <a:pt x="627" y="191"/>
                </a:lnTo>
                <a:lnTo>
                  <a:pt x="624" y="184"/>
                </a:lnTo>
                <a:lnTo>
                  <a:pt x="601" y="184"/>
                </a:lnTo>
                <a:lnTo>
                  <a:pt x="587" y="177"/>
                </a:lnTo>
                <a:lnTo>
                  <a:pt x="587" y="175"/>
                </a:lnTo>
                <a:lnTo>
                  <a:pt x="589" y="173"/>
                </a:lnTo>
                <a:lnTo>
                  <a:pt x="615" y="173"/>
                </a:lnTo>
                <a:lnTo>
                  <a:pt x="643" y="170"/>
                </a:lnTo>
                <a:lnTo>
                  <a:pt x="608" y="168"/>
                </a:lnTo>
                <a:lnTo>
                  <a:pt x="575" y="168"/>
                </a:lnTo>
                <a:lnTo>
                  <a:pt x="577" y="161"/>
                </a:lnTo>
                <a:lnTo>
                  <a:pt x="577" y="156"/>
                </a:lnTo>
                <a:lnTo>
                  <a:pt x="572" y="156"/>
                </a:lnTo>
                <a:lnTo>
                  <a:pt x="568" y="156"/>
                </a:lnTo>
                <a:lnTo>
                  <a:pt x="565" y="151"/>
                </a:lnTo>
                <a:lnTo>
                  <a:pt x="572" y="146"/>
                </a:lnTo>
                <a:lnTo>
                  <a:pt x="572" y="144"/>
                </a:lnTo>
                <a:lnTo>
                  <a:pt x="572" y="139"/>
                </a:lnTo>
                <a:lnTo>
                  <a:pt x="563" y="144"/>
                </a:lnTo>
                <a:lnTo>
                  <a:pt x="558" y="146"/>
                </a:lnTo>
                <a:lnTo>
                  <a:pt x="553" y="146"/>
                </a:lnTo>
                <a:lnTo>
                  <a:pt x="551" y="146"/>
                </a:lnTo>
                <a:lnTo>
                  <a:pt x="549" y="154"/>
                </a:lnTo>
                <a:lnTo>
                  <a:pt x="546" y="158"/>
                </a:lnTo>
                <a:lnTo>
                  <a:pt x="527" y="161"/>
                </a:lnTo>
                <a:lnTo>
                  <a:pt x="513" y="161"/>
                </a:lnTo>
                <a:lnTo>
                  <a:pt x="504" y="154"/>
                </a:lnTo>
                <a:lnTo>
                  <a:pt x="487" y="151"/>
                </a:lnTo>
                <a:lnTo>
                  <a:pt x="487" y="149"/>
                </a:lnTo>
                <a:lnTo>
                  <a:pt x="485" y="149"/>
                </a:lnTo>
                <a:lnTo>
                  <a:pt x="492" y="144"/>
                </a:lnTo>
                <a:lnTo>
                  <a:pt x="497" y="139"/>
                </a:lnTo>
                <a:lnTo>
                  <a:pt x="497" y="137"/>
                </a:lnTo>
                <a:lnTo>
                  <a:pt x="499" y="137"/>
                </a:lnTo>
                <a:lnTo>
                  <a:pt x="497" y="137"/>
                </a:lnTo>
                <a:lnTo>
                  <a:pt x="501" y="132"/>
                </a:lnTo>
                <a:lnTo>
                  <a:pt x="506" y="128"/>
                </a:lnTo>
                <a:lnTo>
                  <a:pt x="506" y="130"/>
                </a:lnTo>
                <a:lnTo>
                  <a:pt x="506" y="128"/>
                </a:lnTo>
                <a:lnTo>
                  <a:pt x="506" y="125"/>
                </a:lnTo>
                <a:lnTo>
                  <a:pt x="504" y="125"/>
                </a:lnTo>
                <a:lnTo>
                  <a:pt x="501" y="123"/>
                </a:lnTo>
                <a:lnTo>
                  <a:pt x="499" y="120"/>
                </a:lnTo>
                <a:lnTo>
                  <a:pt x="499" y="118"/>
                </a:lnTo>
                <a:lnTo>
                  <a:pt x="516" y="118"/>
                </a:lnTo>
                <a:lnTo>
                  <a:pt x="532" y="116"/>
                </a:lnTo>
                <a:lnTo>
                  <a:pt x="535" y="116"/>
                </a:lnTo>
                <a:lnTo>
                  <a:pt x="549" y="118"/>
                </a:lnTo>
                <a:lnTo>
                  <a:pt x="565" y="120"/>
                </a:lnTo>
                <a:lnTo>
                  <a:pt x="575" y="120"/>
                </a:lnTo>
                <a:lnTo>
                  <a:pt x="589" y="120"/>
                </a:lnTo>
                <a:lnTo>
                  <a:pt x="596" y="123"/>
                </a:lnTo>
                <a:lnTo>
                  <a:pt x="606" y="128"/>
                </a:lnTo>
                <a:lnTo>
                  <a:pt x="606" y="130"/>
                </a:lnTo>
                <a:lnTo>
                  <a:pt x="606" y="132"/>
                </a:lnTo>
                <a:lnTo>
                  <a:pt x="620" y="132"/>
                </a:lnTo>
                <a:lnTo>
                  <a:pt x="622" y="139"/>
                </a:lnTo>
                <a:lnTo>
                  <a:pt x="629" y="139"/>
                </a:lnTo>
                <a:lnTo>
                  <a:pt x="632" y="137"/>
                </a:lnTo>
                <a:lnTo>
                  <a:pt x="634" y="137"/>
                </a:lnTo>
                <a:lnTo>
                  <a:pt x="639" y="137"/>
                </a:lnTo>
                <a:lnTo>
                  <a:pt x="646" y="137"/>
                </a:lnTo>
                <a:lnTo>
                  <a:pt x="655" y="139"/>
                </a:lnTo>
                <a:lnTo>
                  <a:pt x="655" y="142"/>
                </a:lnTo>
                <a:lnTo>
                  <a:pt x="655" y="144"/>
                </a:lnTo>
                <a:lnTo>
                  <a:pt x="662" y="139"/>
                </a:lnTo>
                <a:lnTo>
                  <a:pt x="667" y="137"/>
                </a:lnTo>
                <a:lnTo>
                  <a:pt x="669" y="137"/>
                </a:lnTo>
                <a:lnTo>
                  <a:pt x="684" y="142"/>
                </a:lnTo>
                <a:lnTo>
                  <a:pt x="691" y="151"/>
                </a:lnTo>
                <a:lnTo>
                  <a:pt x="693" y="151"/>
                </a:lnTo>
                <a:lnTo>
                  <a:pt x="698" y="151"/>
                </a:lnTo>
                <a:lnTo>
                  <a:pt x="693" y="144"/>
                </a:lnTo>
                <a:lnTo>
                  <a:pt x="688" y="135"/>
                </a:lnTo>
                <a:lnTo>
                  <a:pt x="688" y="132"/>
                </a:lnTo>
                <a:lnTo>
                  <a:pt x="700" y="132"/>
                </a:lnTo>
                <a:lnTo>
                  <a:pt x="710" y="132"/>
                </a:lnTo>
                <a:lnTo>
                  <a:pt x="707" y="128"/>
                </a:lnTo>
                <a:lnTo>
                  <a:pt x="712" y="125"/>
                </a:lnTo>
                <a:lnTo>
                  <a:pt x="717" y="125"/>
                </a:lnTo>
                <a:lnTo>
                  <a:pt x="724" y="125"/>
                </a:lnTo>
                <a:lnTo>
                  <a:pt x="729" y="128"/>
                </a:lnTo>
                <a:lnTo>
                  <a:pt x="733" y="128"/>
                </a:lnTo>
                <a:lnTo>
                  <a:pt x="733" y="130"/>
                </a:lnTo>
                <a:lnTo>
                  <a:pt x="733" y="132"/>
                </a:lnTo>
                <a:lnTo>
                  <a:pt x="729" y="135"/>
                </a:lnTo>
                <a:lnTo>
                  <a:pt x="724" y="139"/>
                </a:lnTo>
                <a:lnTo>
                  <a:pt x="731" y="146"/>
                </a:lnTo>
                <a:lnTo>
                  <a:pt x="736" y="156"/>
                </a:lnTo>
                <a:lnTo>
                  <a:pt x="736" y="158"/>
                </a:lnTo>
                <a:lnTo>
                  <a:pt x="736" y="161"/>
                </a:lnTo>
                <a:lnTo>
                  <a:pt x="757" y="168"/>
                </a:lnTo>
                <a:lnTo>
                  <a:pt x="776" y="177"/>
                </a:lnTo>
                <a:lnTo>
                  <a:pt x="776" y="180"/>
                </a:lnTo>
                <a:lnTo>
                  <a:pt x="774" y="180"/>
                </a:lnTo>
                <a:lnTo>
                  <a:pt x="766" y="180"/>
                </a:lnTo>
                <a:lnTo>
                  <a:pt x="759" y="180"/>
                </a:lnTo>
                <a:lnTo>
                  <a:pt x="762" y="182"/>
                </a:lnTo>
                <a:lnTo>
                  <a:pt x="764" y="184"/>
                </a:lnTo>
                <a:lnTo>
                  <a:pt x="762" y="187"/>
                </a:lnTo>
                <a:lnTo>
                  <a:pt x="762" y="189"/>
                </a:lnTo>
                <a:lnTo>
                  <a:pt x="757" y="191"/>
                </a:lnTo>
                <a:lnTo>
                  <a:pt x="752" y="191"/>
                </a:lnTo>
                <a:lnTo>
                  <a:pt x="743" y="191"/>
                </a:lnTo>
                <a:lnTo>
                  <a:pt x="731" y="191"/>
                </a:lnTo>
                <a:lnTo>
                  <a:pt x="729" y="189"/>
                </a:lnTo>
                <a:lnTo>
                  <a:pt x="726" y="189"/>
                </a:lnTo>
                <a:lnTo>
                  <a:pt x="721" y="189"/>
                </a:lnTo>
                <a:lnTo>
                  <a:pt x="719" y="189"/>
                </a:lnTo>
                <a:lnTo>
                  <a:pt x="731" y="199"/>
                </a:lnTo>
                <a:lnTo>
                  <a:pt x="748" y="199"/>
                </a:lnTo>
                <a:lnTo>
                  <a:pt x="755" y="201"/>
                </a:lnTo>
                <a:lnTo>
                  <a:pt x="764" y="203"/>
                </a:lnTo>
                <a:lnTo>
                  <a:pt x="774" y="203"/>
                </a:lnTo>
                <a:lnTo>
                  <a:pt x="781" y="203"/>
                </a:lnTo>
                <a:lnTo>
                  <a:pt x="790" y="203"/>
                </a:lnTo>
                <a:lnTo>
                  <a:pt x="800" y="203"/>
                </a:lnTo>
                <a:lnTo>
                  <a:pt x="802" y="201"/>
                </a:lnTo>
                <a:lnTo>
                  <a:pt x="802" y="196"/>
                </a:lnTo>
                <a:lnTo>
                  <a:pt x="807" y="196"/>
                </a:lnTo>
                <a:lnTo>
                  <a:pt x="811" y="196"/>
                </a:lnTo>
                <a:lnTo>
                  <a:pt x="807" y="191"/>
                </a:lnTo>
                <a:lnTo>
                  <a:pt x="800" y="191"/>
                </a:lnTo>
                <a:lnTo>
                  <a:pt x="797" y="191"/>
                </a:lnTo>
                <a:lnTo>
                  <a:pt x="792" y="191"/>
                </a:lnTo>
                <a:lnTo>
                  <a:pt x="792" y="189"/>
                </a:lnTo>
                <a:lnTo>
                  <a:pt x="800" y="184"/>
                </a:lnTo>
                <a:lnTo>
                  <a:pt x="807" y="177"/>
                </a:lnTo>
                <a:lnTo>
                  <a:pt x="804" y="177"/>
                </a:lnTo>
                <a:lnTo>
                  <a:pt x="807" y="177"/>
                </a:lnTo>
                <a:lnTo>
                  <a:pt x="809" y="177"/>
                </a:lnTo>
                <a:lnTo>
                  <a:pt x="826" y="182"/>
                </a:lnTo>
                <a:lnTo>
                  <a:pt x="837" y="189"/>
                </a:lnTo>
                <a:lnTo>
                  <a:pt x="840" y="189"/>
                </a:lnTo>
                <a:lnTo>
                  <a:pt x="835" y="191"/>
                </a:lnTo>
                <a:lnTo>
                  <a:pt x="830" y="196"/>
                </a:lnTo>
                <a:lnTo>
                  <a:pt x="833" y="196"/>
                </a:lnTo>
                <a:lnTo>
                  <a:pt x="830" y="208"/>
                </a:lnTo>
                <a:lnTo>
                  <a:pt x="837" y="210"/>
                </a:lnTo>
                <a:lnTo>
                  <a:pt x="837" y="213"/>
                </a:lnTo>
                <a:lnTo>
                  <a:pt x="837" y="215"/>
                </a:lnTo>
                <a:lnTo>
                  <a:pt x="840" y="210"/>
                </a:lnTo>
                <a:lnTo>
                  <a:pt x="837" y="206"/>
                </a:lnTo>
                <a:lnTo>
                  <a:pt x="837" y="203"/>
                </a:lnTo>
                <a:lnTo>
                  <a:pt x="845" y="199"/>
                </a:lnTo>
                <a:lnTo>
                  <a:pt x="859" y="191"/>
                </a:lnTo>
                <a:lnTo>
                  <a:pt x="854" y="191"/>
                </a:lnTo>
                <a:lnTo>
                  <a:pt x="847" y="191"/>
                </a:lnTo>
                <a:lnTo>
                  <a:pt x="852" y="189"/>
                </a:lnTo>
                <a:lnTo>
                  <a:pt x="856" y="184"/>
                </a:lnTo>
                <a:lnTo>
                  <a:pt x="840" y="180"/>
                </a:lnTo>
                <a:lnTo>
                  <a:pt x="826" y="177"/>
                </a:lnTo>
                <a:lnTo>
                  <a:pt x="826" y="170"/>
                </a:lnTo>
                <a:lnTo>
                  <a:pt x="828" y="168"/>
                </a:lnTo>
                <a:lnTo>
                  <a:pt x="826" y="165"/>
                </a:lnTo>
                <a:lnTo>
                  <a:pt x="826" y="163"/>
                </a:lnTo>
                <a:lnTo>
                  <a:pt x="826" y="161"/>
                </a:lnTo>
                <a:lnTo>
                  <a:pt x="828" y="158"/>
                </a:lnTo>
                <a:lnTo>
                  <a:pt x="830" y="156"/>
                </a:lnTo>
                <a:lnTo>
                  <a:pt x="835" y="156"/>
                </a:lnTo>
                <a:lnTo>
                  <a:pt x="837" y="154"/>
                </a:lnTo>
                <a:lnTo>
                  <a:pt x="842" y="149"/>
                </a:lnTo>
                <a:lnTo>
                  <a:pt x="837" y="142"/>
                </a:lnTo>
                <a:lnTo>
                  <a:pt x="835" y="135"/>
                </a:lnTo>
                <a:lnTo>
                  <a:pt x="835" y="132"/>
                </a:lnTo>
                <a:lnTo>
                  <a:pt x="835" y="130"/>
                </a:lnTo>
                <a:lnTo>
                  <a:pt x="837" y="125"/>
                </a:lnTo>
                <a:lnTo>
                  <a:pt x="842" y="125"/>
                </a:lnTo>
                <a:lnTo>
                  <a:pt x="842" y="123"/>
                </a:lnTo>
                <a:lnTo>
                  <a:pt x="845" y="123"/>
                </a:lnTo>
                <a:lnTo>
                  <a:pt x="863" y="123"/>
                </a:lnTo>
                <a:lnTo>
                  <a:pt x="882" y="123"/>
                </a:lnTo>
                <a:lnTo>
                  <a:pt x="889" y="123"/>
                </a:lnTo>
                <a:lnTo>
                  <a:pt x="897" y="123"/>
                </a:lnTo>
                <a:lnTo>
                  <a:pt x="892" y="132"/>
                </a:lnTo>
                <a:lnTo>
                  <a:pt x="882" y="137"/>
                </a:lnTo>
                <a:lnTo>
                  <a:pt x="873" y="142"/>
                </a:lnTo>
                <a:lnTo>
                  <a:pt x="859" y="139"/>
                </a:lnTo>
                <a:lnTo>
                  <a:pt x="861" y="144"/>
                </a:lnTo>
                <a:lnTo>
                  <a:pt x="861" y="146"/>
                </a:lnTo>
                <a:lnTo>
                  <a:pt x="856" y="149"/>
                </a:lnTo>
                <a:lnTo>
                  <a:pt x="852" y="151"/>
                </a:lnTo>
                <a:lnTo>
                  <a:pt x="868" y="161"/>
                </a:lnTo>
                <a:lnTo>
                  <a:pt x="885" y="170"/>
                </a:lnTo>
                <a:lnTo>
                  <a:pt x="885" y="173"/>
                </a:lnTo>
                <a:lnTo>
                  <a:pt x="880" y="175"/>
                </a:lnTo>
                <a:lnTo>
                  <a:pt x="875" y="180"/>
                </a:lnTo>
                <a:lnTo>
                  <a:pt x="885" y="180"/>
                </a:lnTo>
                <a:lnTo>
                  <a:pt x="897" y="180"/>
                </a:lnTo>
                <a:lnTo>
                  <a:pt x="894" y="184"/>
                </a:lnTo>
                <a:lnTo>
                  <a:pt x="894" y="187"/>
                </a:lnTo>
                <a:lnTo>
                  <a:pt x="897" y="191"/>
                </a:lnTo>
                <a:lnTo>
                  <a:pt x="899" y="196"/>
                </a:lnTo>
                <a:lnTo>
                  <a:pt x="906" y="189"/>
                </a:lnTo>
                <a:lnTo>
                  <a:pt x="911" y="184"/>
                </a:lnTo>
                <a:lnTo>
                  <a:pt x="923" y="187"/>
                </a:lnTo>
                <a:lnTo>
                  <a:pt x="927" y="199"/>
                </a:lnTo>
                <a:lnTo>
                  <a:pt x="925" y="199"/>
                </a:lnTo>
                <a:lnTo>
                  <a:pt x="923" y="199"/>
                </a:lnTo>
                <a:lnTo>
                  <a:pt x="927" y="206"/>
                </a:lnTo>
                <a:lnTo>
                  <a:pt x="934" y="210"/>
                </a:lnTo>
                <a:lnTo>
                  <a:pt x="939" y="208"/>
                </a:lnTo>
                <a:lnTo>
                  <a:pt x="942" y="206"/>
                </a:lnTo>
                <a:lnTo>
                  <a:pt x="939" y="206"/>
                </a:lnTo>
                <a:lnTo>
                  <a:pt x="937" y="201"/>
                </a:lnTo>
                <a:lnTo>
                  <a:pt x="939" y="199"/>
                </a:lnTo>
                <a:lnTo>
                  <a:pt x="942" y="196"/>
                </a:lnTo>
                <a:lnTo>
                  <a:pt x="944" y="199"/>
                </a:lnTo>
                <a:lnTo>
                  <a:pt x="944" y="203"/>
                </a:lnTo>
                <a:lnTo>
                  <a:pt x="949" y="196"/>
                </a:lnTo>
                <a:lnTo>
                  <a:pt x="953" y="191"/>
                </a:lnTo>
                <a:lnTo>
                  <a:pt x="956" y="191"/>
                </a:lnTo>
                <a:lnTo>
                  <a:pt x="960" y="191"/>
                </a:lnTo>
                <a:lnTo>
                  <a:pt x="960" y="189"/>
                </a:lnTo>
                <a:lnTo>
                  <a:pt x="956" y="187"/>
                </a:lnTo>
                <a:lnTo>
                  <a:pt x="953" y="182"/>
                </a:lnTo>
                <a:lnTo>
                  <a:pt x="956" y="177"/>
                </a:lnTo>
                <a:lnTo>
                  <a:pt x="960" y="175"/>
                </a:lnTo>
                <a:lnTo>
                  <a:pt x="949" y="175"/>
                </a:lnTo>
                <a:lnTo>
                  <a:pt x="942" y="173"/>
                </a:lnTo>
                <a:lnTo>
                  <a:pt x="934" y="170"/>
                </a:lnTo>
                <a:lnTo>
                  <a:pt x="925" y="173"/>
                </a:lnTo>
                <a:lnTo>
                  <a:pt x="916" y="170"/>
                </a:lnTo>
                <a:lnTo>
                  <a:pt x="908" y="163"/>
                </a:lnTo>
                <a:lnTo>
                  <a:pt x="911" y="161"/>
                </a:lnTo>
                <a:lnTo>
                  <a:pt x="911" y="158"/>
                </a:lnTo>
                <a:lnTo>
                  <a:pt x="906" y="156"/>
                </a:lnTo>
                <a:lnTo>
                  <a:pt x="901" y="154"/>
                </a:lnTo>
                <a:lnTo>
                  <a:pt x="913" y="132"/>
                </a:lnTo>
                <a:lnTo>
                  <a:pt x="942" y="125"/>
                </a:lnTo>
                <a:lnTo>
                  <a:pt x="951" y="125"/>
                </a:lnTo>
                <a:lnTo>
                  <a:pt x="960" y="125"/>
                </a:lnTo>
                <a:lnTo>
                  <a:pt x="953" y="132"/>
                </a:lnTo>
                <a:lnTo>
                  <a:pt x="942" y="137"/>
                </a:lnTo>
                <a:lnTo>
                  <a:pt x="944" y="146"/>
                </a:lnTo>
                <a:lnTo>
                  <a:pt x="951" y="151"/>
                </a:lnTo>
                <a:lnTo>
                  <a:pt x="953" y="149"/>
                </a:lnTo>
                <a:lnTo>
                  <a:pt x="956" y="146"/>
                </a:lnTo>
                <a:lnTo>
                  <a:pt x="953" y="144"/>
                </a:lnTo>
                <a:lnTo>
                  <a:pt x="951" y="142"/>
                </a:lnTo>
                <a:lnTo>
                  <a:pt x="958" y="132"/>
                </a:lnTo>
                <a:lnTo>
                  <a:pt x="970" y="130"/>
                </a:lnTo>
                <a:lnTo>
                  <a:pt x="979" y="128"/>
                </a:lnTo>
                <a:lnTo>
                  <a:pt x="989" y="125"/>
                </a:lnTo>
                <a:lnTo>
                  <a:pt x="991" y="125"/>
                </a:lnTo>
                <a:lnTo>
                  <a:pt x="994" y="125"/>
                </a:lnTo>
                <a:lnTo>
                  <a:pt x="1001" y="128"/>
                </a:lnTo>
                <a:lnTo>
                  <a:pt x="1008" y="132"/>
                </a:lnTo>
                <a:lnTo>
                  <a:pt x="1008" y="130"/>
                </a:lnTo>
                <a:lnTo>
                  <a:pt x="1008" y="125"/>
                </a:lnTo>
                <a:lnTo>
                  <a:pt x="1039" y="128"/>
                </a:lnTo>
                <a:lnTo>
                  <a:pt x="1062" y="137"/>
                </a:lnTo>
                <a:lnTo>
                  <a:pt x="1060" y="139"/>
                </a:lnTo>
                <a:lnTo>
                  <a:pt x="1067" y="142"/>
                </a:lnTo>
                <a:lnTo>
                  <a:pt x="1074" y="142"/>
                </a:lnTo>
                <a:lnTo>
                  <a:pt x="1074" y="144"/>
                </a:lnTo>
                <a:lnTo>
                  <a:pt x="1074" y="146"/>
                </a:lnTo>
                <a:lnTo>
                  <a:pt x="1079" y="146"/>
                </a:lnTo>
                <a:lnTo>
                  <a:pt x="1084" y="146"/>
                </a:lnTo>
                <a:lnTo>
                  <a:pt x="1084" y="149"/>
                </a:lnTo>
                <a:lnTo>
                  <a:pt x="1084" y="151"/>
                </a:lnTo>
                <a:lnTo>
                  <a:pt x="1088" y="151"/>
                </a:lnTo>
                <a:lnTo>
                  <a:pt x="1091" y="151"/>
                </a:lnTo>
                <a:lnTo>
                  <a:pt x="1091" y="154"/>
                </a:lnTo>
                <a:lnTo>
                  <a:pt x="1091" y="156"/>
                </a:lnTo>
                <a:lnTo>
                  <a:pt x="1098" y="154"/>
                </a:lnTo>
                <a:lnTo>
                  <a:pt x="1102" y="154"/>
                </a:lnTo>
                <a:lnTo>
                  <a:pt x="1110" y="154"/>
                </a:lnTo>
                <a:lnTo>
                  <a:pt x="1117" y="156"/>
                </a:lnTo>
                <a:lnTo>
                  <a:pt x="1119" y="158"/>
                </a:lnTo>
                <a:lnTo>
                  <a:pt x="1119" y="161"/>
                </a:lnTo>
                <a:lnTo>
                  <a:pt x="1121" y="161"/>
                </a:lnTo>
                <a:lnTo>
                  <a:pt x="1126" y="161"/>
                </a:lnTo>
                <a:lnTo>
                  <a:pt x="1126" y="163"/>
                </a:lnTo>
                <a:lnTo>
                  <a:pt x="1128" y="165"/>
                </a:lnTo>
                <a:lnTo>
                  <a:pt x="1131" y="163"/>
                </a:lnTo>
                <a:lnTo>
                  <a:pt x="1136" y="163"/>
                </a:lnTo>
                <a:lnTo>
                  <a:pt x="1147" y="165"/>
                </a:lnTo>
                <a:lnTo>
                  <a:pt x="1147" y="173"/>
                </a:lnTo>
                <a:lnTo>
                  <a:pt x="1152" y="173"/>
                </a:lnTo>
                <a:lnTo>
                  <a:pt x="1155" y="170"/>
                </a:lnTo>
                <a:lnTo>
                  <a:pt x="1157" y="170"/>
                </a:lnTo>
                <a:lnTo>
                  <a:pt x="1162" y="173"/>
                </a:lnTo>
                <a:lnTo>
                  <a:pt x="1166" y="177"/>
                </a:lnTo>
                <a:lnTo>
                  <a:pt x="1162" y="180"/>
                </a:lnTo>
                <a:lnTo>
                  <a:pt x="1155" y="180"/>
                </a:lnTo>
                <a:lnTo>
                  <a:pt x="1155" y="182"/>
                </a:lnTo>
                <a:lnTo>
                  <a:pt x="1164" y="182"/>
                </a:lnTo>
                <a:lnTo>
                  <a:pt x="1171" y="182"/>
                </a:lnTo>
                <a:lnTo>
                  <a:pt x="1166" y="187"/>
                </a:lnTo>
                <a:lnTo>
                  <a:pt x="1159" y="187"/>
                </a:lnTo>
                <a:lnTo>
                  <a:pt x="1159" y="189"/>
                </a:lnTo>
                <a:lnTo>
                  <a:pt x="1159" y="194"/>
                </a:lnTo>
                <a:lnTo>
                  <a:pt x="1162" y="194"/>
                </a:lnTo>
                <a:lnTo>
                  <a:pt x="1164" y="194"/>
                </a:lnTo>
                <a:lnTo>
                  <a:pt x="1166" y="194"/>
                </a:lnTo>
                <a:lnTo>
                  <a:pt x="1171" y="194"/>
                </a:lnTo>
                <a:lnTo>
                  <a:pt x="1171" y="196"/>
                </a:lnTo>
                <a:lnTo>
                  <a:pt x="1176" y="196"/>
                </a:lnTo>
                <a:lnTo>
                  <a:pt x="1178" y="196"/>
                </a:lnTo>
                <a:lnTo>
                  <a:pt x="1183" y="199"/>
                </a:lnTo>
                <a:lnTo>
                  <a:pt x="1185" y="203"/>
                </a:lnTo>
                <a:lnTo>
                  <a:pt x="1188" y="201"/>
                </a:lnTo>
                <a:lnTo>
                  <a:pt x="1192" y="199"/>
                </a:lnTo>
                <a:lnTo>
                  <a:pt x="1199" y="203"/>
                </a:lnTo>
                <a:lnTo>
                  <a:pt x="1207" y="208"/>
                </a:lnTo>
                <a:lnTo>
                  <a:pt x="1209" y="208"/>
                </a:lnTo>
                <a:lnTo>
                  <a:pt x="1214" y="208"/>
                </a:lnTo>
                <a:lnTo>
                  <a:pt x="1214" y="210"/>
                </a:lnTo>
                <a:lnTo>
                  <a:pt x="1214" y="215"/>
                </a:lnTo>
                <a:lnTo>
                  <a:pt x="1216" y="215"/>
                </a:lnTo>
                <a:lnTo>
                  <a:pt x="1218" y="215"/>
                </a:lnTo>
                <a:lnTo>
                  <a:pt x="1223" y="213"/>
                </a:lnTo>
                <a:lnTo>
                  <a:pt x="1225" y="213"/>
                </a:lnTo>
                <a:lnTo>
                  <a:pt x="1230" y="215"/>
                </a:lnTo>
                <a:lnTo>
                  <a:pt x="1233" y="215"/>
                </a:lnTo>
                <a:lnTo>
                  <a:pt x="1233" y="218"/>
                </a:lnTo>
                <a:lnTo>
                  <a:pt x="1225" y="227"/>
                </a:lnTo>
                <a:lnTo>
                  <a:pt x="1211" y="234"/>
                </a:lnTo>
                <a:lnTo>
                  <a:pt x="1211" y="237"/>
                </a:lnTo>
                <a:lnTo>
                  <a:pt x="1211" y="241"/>
                </a:lnTo>
                <a:lnTo>
                  <a:pt x="1209" y="241"/>
                </a:lnTo>
                <a:lnTo>
                  <a:pt x="1207" y="241"/>
                </a:lnTo>
                <a:lnTo>
                  <a:pt x="1195" y="239"/>
                </a:lnTo>
                <a:lnTo>
                  <a:pt x="1188" y="229"/>
                </a:lnTo>
                <a:lnTo>
                  <a:pt x="1185" y="229"/>
                </a:lnTo>
                <a:lnTo>
                  <a:pt x="1183" y="229"/>
                </a:lnTo>
                <a:lnTo>
                  <a:pt x="1176" y="225"/>
                </a:lnTo>
                <a:lnTo>
                  <a:pt x="1169" y="222"/>
                </a:lnTo>
                <a:lnTo>
                  <a:pt x="1166" y="225"/>
                </a:lnTo>
                <a:lnTo>
                  <a:pt x="1159" y="229"/>
                </a:lnTo>
                <a:lnTo>
                  <a:pt x="1164" y="234"/>
                </a:lnTo>
                <a:lnTo>
                  <a:pt x="1171" y="241"/>
                </a:lnTo>
                <a:lnTo>
                  <a:pt x="1185" y="241"/>
                </a:lnTo>
                <a:lnTo>
                  <a:pt x="1190" y="251"/>
                </a:lnTo>
                <a:lnTo>
                  <a:pt x="1195" y="253"/>
                </a:lnTo>
                <a:lnTo>
                  <a:pt x="1197" y="253"/>
                </a:lnTo>
                <a:lnTo>
                  <a:pt x="1197" y="258"/>
                </a:lnTo>
                <a:lnTo>
                  <a:pt x="1197" y="263"/>
                </a:lnTo>
                <a:lnTo>
                  <a:pt x="1195" y="263"/>
                </a:lnTo>
                <a:lnTo>
                  <a:pt x="1192" y="267"/>
                </a:lnTo>
                <a:lnTo>
                  <a:pt x="1190" y="270"/>
                </a:lnTo>
                <a:lnTo>
                  <a:pt x="1171" y="265"/>
                </a:lnTo>
                <a:lnTo>
                  <a:pt x="1152" y="258"/>
                </a:lnTo>
                <a:lnTo>
                  <a:pt x="1169" y="267"/>
                </a:lnTo>
                <a:lnTo>
                  <a:pt x="1181" y="277"/>
                </a:lnTo>
                <a:lnTo>
                  <a:pt x="1178" y="279"/>
                </a:lnTo>
                <a:lnTo>
                  <a:pt x="1176" y="282"/>
                </a:lnTo>
                <a:lnTo>
                  <a:pt x="1166" y="279"/>
                </a:lnTo>
                <a:lnTo>
                  <a:pt x="1155" y="277"/>
                </a:lnTo>
                <a:lnTo>
                  <a:pt x="1143" y="274"/>
                </a:lnTo>
                <a:lnTo>
                  <a:pt x="1138" y="270"/>
                </a:lnTo>
                <a:lnTo>
                  <a:pt x="1126" y="272"/>
                </a:lnTo>
                <a:lnTo>
                  <a:pt x="1121" y="267"/>
                </a:lnTo>
                <a:lnTo>
                  <a:pt x="1114" y="265"/>
                </a:lnTo>
                <a:lnTo>
                  <a:pt x="1112" y="260"/>
                </a:lnTo>
                <a:lnTo>
                  <a:pt x="1112" y="258"/>
                </a:lnTo>
                <a:lnTo>
                  <a:pt x="1114" y="258"/>
                </a:lnTo>
                <a:lnTo>
                  <a:pt x="1100" y="253"/>
                </a:lnTo>
                <a:lnTo>
                  <a:pt x="1091" y="246"/>
                </a:lnTo>
                <a:lnTo>
                  <a:pt x="1086" y="246"/>
                </a:lnTo>
                <a:lnTo>
                  <a:pt x="1079" y="246"/>
                </a:lnTo>
                <a:lnTo>
                  <a:pt x="1079" y="248"/>
                </a:lnTo>
                <a:lnTo>
                  <a:pt x="1076" y="248"/>
                </a:lnTo>
                <a:lnTo>
                  <a:pt x="1074" y="248"/>
                </a:lnTo>
                <a:lnTo>
                  <a:pt x="1065" y="248"/>
                </a:lnTo>
                <a:lnTo>
                  <a:pt x="1055" y="251"/>
                </a:lnTo>
                <a:lnTo>
                  <a:pt x="1050" y="251"/>
                </a:lnTo>
                <a:lnTo>
                  <a:pt x="1048" y="251"/>
                </a:lnTo>
                <a:lnTo>
                  <a:pt x="1041" y="248"/>
                </a:lnTo>
                <a:lnTo>
                  <a:pt x="1039" y="244"/>
                </a:lnTo>
                <a:lnTo>
                  <a:pt x="1043" y="239"/>
                </a:lnTo>
                <a:lnTo>
                  <a:pt x="1048" y="234"/>
                </a:lnTo>
                <a:lnTo>
                  <a:pt x="1069" y="234"/>
                </a:lnTo>
                <a:lnTo>
                  <a:pt x="1091" y="234"/>
                </a:lnTo>
                <a:lnTo>
                  <a:pt x="1091" y="232"/>
                </a:lnTo>
                <a:lnTo>
                  <a:pt x="1088" y="229"/>
                </a:lnTo>
                <a:lnTo>
                  <a:pt x="1084" y="227"/>
                </a:lnTo>
                <a:lnTo>
                  <a:pt x="1084" y="225"/>
                </a:lnTo>
                <a:lnTo>
                  <a:pt x="1084" y="222"/>
                </a:lnTo>
                <a:lnTo>
                  <a:pt x="1095" y="218"/>
                </a:lnTo>
                <a:lnTo>
                  <a:pt x="1105" y="210"/>
                </a:lnTo>
                <a:lnTo>
                  <a:pt x="1098" y="201"/>
                </a:lnTo>
                <a:lnTo>
                  <a:pt x="1086" y="196"/>
                </a:lnTo>
                <a:lnTo>
                  <a:pt x="1079" y="191"/>
                </a:lnTo>
                <a:lnTo>
                  <a:pt x="1074" y="189"/>
                </a:lnTo>
                <a:lnTo>
                  <a:pt x="1067" y="191"/>
                </a:lnTo>
                <a:lnTo>
                  <a:pt x="1060" y="191"/>
                </a:lnTo>
                <a:lnTo>
                  <a:pt x="1057" y="191"/>
                </a:lnTo>
                <a:lnTo>
                  <a:pt x="1057" y="189"/>
                </a:lnTo>
                <a:lnTo>
                  <a:pt x="1060" y="187"/>
                </a:lnTo>
                <a:lnTo>
                  <a:pt x="1065" y="187"/>
                </a:lnTo>
                <a:lnTo>
                  <a:pt x="1060" y="184"/>
                </a:lnTo>
                <a:lnTo>
                  <a:pt x="1055" y="180"/>
                </a:lnTo>
                <a:lnTo>
                  <a:pt x="1055" y="184"/>
                </a:lnTo>
                <a:lnTo>
                  <a:pt x="1055" y="187"/>
                </a:lnTo>
                <a:lnTo>
                  <a:pt x="1050" y="187"/>
                </a:lnTo>
                <a:lnTo>
                  <a:pt x="1048" y="187"/>
                </a:lnTo>
                <a:lnTo>
                  <a:pt x="1050" y="184"/>
                </a:lnTo>
                <a:lnTo>
                  <a:pt x="1053" y="180"/>
                </a:lnTo>
                <a:lnTo>
                  <a:pt x="1048" y="180"/>
                </a:lnTo>
                <a:lnTo>
                  <a:pt x="1046" y="177"/>
                </a:lnTo>
                <a:lnTo>
                  <a:pt x="1043" y="175"/>
                </a:lnTo>
                <a:lnTo>
                  <a:pt x="1041" y="175"/>
                </a:lnTo>
                <a:lnTo>
                  <a:pt x="1039" y="173"/>
                </a:lnTo>
                <a:lnTo>
                  <a:pt x="1036" y="173"/>
                </a:lnTo>
                <a:lnTo>
                  <a:pt x="1031" y="170"/>
                </a:lnTo>
                <a:lnTo>
                  <a:pt x="1031" y="175"/>
                </a:lnTo>
                <a:lnTo>
                  <a:pt x="1027" y="177"/>
                </a:lnTo>
                <a:lnTo>
                  <a:pt x="1024" y="177"/>
                </a:lnTo>
                <a:lnTo>
                  <a:pt x="1022" y="177"/>
                </a:lnTo>
                <a:lnTo>
                  <a:pt x="1015" y="177"/>
                </a:lnTo>
                <a:lnTo>
                  <a:pt x="1008" y="175"/>
                </a:lnTo>
                <a:lnTo>
                  <a:pt x="1008" y="177"/>
                </a:lnTo>
                <a:lnTo>
                  <a:pt x="998" y="177"/>
                </a:lnTo>
                <a:lnTo>
                  <a:pt x="991" y="177"/>
                </a:lnTo>
                <a:lnTo>
                  <a:pt x="996" y="184"/>
                </a:lnTo>
                <a:lnTo>
                  <a:pt x="1003" y="191"/>
                </a:lnTo>
                <a:lnTo>
                  <a:pt x="1001" y="194"/>
                </a:lnTo>
                <a:lnTo>
                  <a:pt x="998" y="196"/>
                </a:lnTo>
                <a:lnTo>
                  <a:pt x="996" y="196"/>
                </a:lnTo>
                <a:lnTo>
                  <a:pt x="991" y="196"/>
                </a:lnTo>
                <a:lnTo>
                  <a:pt x="998" y="203"/>
                </a:lnTo>
                <a:lnTo>
                  <a:pt x="1003" y="210"/>
                </a:lnTo>
                <a:lnTo>
                  <a:pt x="994" y="218"/>
                </a:lnTo>
                <a:lnTo>
                  <a:pt x="979" y="222"/>
                </a:lnTo>
                <a:lnTo>
                  <a:pt x="975" y="222"/>
                </a:lnTo>
                <a:lnTo>
                  <a:pt x="972" y="220"/>
                </a:lnTo>
                <a:lnTo>
                  <a:pt x="970" y="225"/>
                </a:lnTo>
                <a:lnTo>
                  <a:pt x="965" y="225"/>
                </a:lnTo>
                <a:lnTo>
                  <a:pt x="958" y="225"/>
                </a:lnTo>
                <a:lnTo>
                  <a:pt x="944" y="222"/>
                </a:lnTo>
                <a:lnTo>
                  <a:pt x="946" y="222"/>
                </a:lnTo>
                <a:lnTo>
                  <a:pt x="946" y="227"/>
                </a:lnTo>
                <a:lnTo>
                  <a:pt x="946" y="229"/>
                </a:lnTo>
                <a:lnTo>
                  <a:pt x="942" y="234"/>
                </a:lnTo>
                <a:lnTo>
                  <a:pt x="934" y="237"/>
                </a:lnTo>
                <a:lnTo>
                  <a:pt x="934" y="239"/>
                </a:lnTo>
                <a:lnTo>
                  <a:pt x="937" y="244"/>
                </a:lnTo>
                <a:lnTo>
                  <a:pt x="927" y="248"/>
                </a:lnTo>
                <a:lnTo>
                  <a:pt x="920" y="253"/>
                </a:lnTo>
                <a:lnTo>
                  <a:pt x="911" y="253"/>
                </a:lnTo>
                <a:lnTo>
                  <a:pt x="901" y="253"/>
                </a:lnTo>
                <a:lnTo>
                  <a:pt x="901" y="255"/>
                </a:lnTo>
                <a:lnTo>
                  <a:pt x="901" y="258"/>
                </a:lnTo>
                <a:lnTo>
                  <a:pt x="897" y="258"/>
                </a:lnTo>
                <a:lnTo>
                  <a:pt x="894" y="260"/>
                </a:lnTo>
                <a:lnTo>
                  <a:pt x="894" y="263"/>
                </a:lnTo>
                <a:lnTo>
                  <a:pt x="894" y="267"/>
                </a:lnTo>
                <a:lnTo>
                  <a:pt x="889" y="267"/>
                </a:lnTo>
                <a:lnTo>
                  <a:pt x="885" y="270"/>
                </a:lnTo>
                <a:lnTo>
                  <a:pt x="882" y="270"/>
                </a:lnTo>
                <a:lnTo>
                  <a:pt x="880" y="270"/>
                </a:lnTo>
                <a:lnTo>
                  <a:pt x="875" y="272"/>
                </a:lnTo>
                <a:lnTo>
                  <a:pt x="873" y="277"/>
                </a:lnTo>
                <a:lnTo>
                  <a:pt x="871" y="277"/>
                </a:lnTo>
                <a:lnTo>
                  <a:pt x="868" y="277"/>
                </a:lnTo>
                <a:lnTo>
                  <a:pt x="856" y="289"/>
                </a:lnTo>
                <a:lnTo>
                  <a:pt x="847" y="308"/>
                </a:lnTo>
                <a:lnTo>
                  <a:pt x="847" y="310"/>
                </a:lnTo>
                <a:lnTo>
                  <a:pt x="847" y="315"/>
                </a:lnTo>
                <a:lnTo>
                  <a:pt x="849" y="319"/>
                </a:lnTo>
                <a:lnTo>
                  <a:pt x="854" y="322"/>
                </a:lnTo>
                <a:lnTo>
                  <a:pt x="854" y="319"/>
                </a:lnTo>
                <a:lnTo>
                  <a:pt x="859" y="319"/>
                </a:lnTo>
                <a:lnTo>
                  <a:pt x="861" y="319"/>
                </a:lnTo>
                <a:lnTo>
                  <a:pt x="871" y="329"/>
                </a:lnTo>
                <a:lnTo>
                  <a:pt x="873" y="343"/>
                </a:lnTo>
                <a:lnTo>
                  <a:pt x="882" y="341"/>
                </a:lnTo>
                <a:lnTo>
                  <a:pt x="892" y="338"/>
                </a:lnTo>
                <a:lnTo>
                  <a:pt x="892" y="341"/>
                </a:lnTo>
                <a:lnTo>
                  <a:pt x="894" y="341"/>
                </a:lnTo>
                <a:lnTo>
                  <a:pt x="920" y="348"/>
                </a:lnTo>
                <a:lnTo>
                  <a:pt x="939" y="357"/>
                </a:lnTo>
                <a:lnTo>
                  <a:pt x="953" y="362"/>
                </a:lnTo>
                <a:lnTo>
                  <a:pt x="963" y="364"/>
                </a:lnTo>
                <a:lnTo>
                  <a:pt x="977" y="367"/>
                </a:lnTo>
                <a:lnTo>
                  <a:pt x="991" y="367"/>
                </a:lnTo>
                <a:lnTo>
                  <a:pt x="991" y="369"/>
                </a:lnTo>
                <a:lnTo>
                  <a:pt x="994" y="369"/>
                </a:lnTo>
                <a:lnTo>
                  <a:pt x="991" y="374"/>
                </a:lnTo>
                <a:lnTo>
                  <a:pt x="991" y="379"/>
                </a:lnTo>
                <a:lnTo>
                  <a:pt x="994" y="381"/>
                </a:lnTo>
                <a:lnTo>
                  <a:pt x="994" y="388"/>
                </a:lnTo>
                <a:lnTo>
                  <a:pt x="994" y="393"/>
                </a:lnTo>
                <a:lnTo>
                  <a:pt x="994" y="395"/>
                </a:lnTo>
                <a:lnTo>
                  <a:pt x="1005" y="405"/>
                </a:lnTo>
                <a:lnTo>
                  <a:pt x="1015" y="417"/>
                </a:lnTo>
                <a:lnTo>
                  <a:pt x="1017" y="417"/>
                </a:lnTo>
                <a:lnTo>
                  <a:pt x="1020" y="419"/>
                </a:lnTo>
                <a:lnTo>
                  <a:pt x="1022" y="414"/>
                </a:lnTo>
                <a:lnTo>
                  <a:pt x="1022" y="412"/>
                </a:lnTo>
                <a:lnTo>
                  <a:pt x="1027" y="412"/>
                </a:lnTo>
                <a:lnTo>
                  <a:pt x="1029" y="414"/>
                </a:lnTo>
                <a:lnTo>
                  <a:pt x="1031" y="407"/>
                </a:lnTo>
                <a:lnTo>
                  <a:pt x="1034" y="405"/>
                </a:lnTo>
                <a:lnTo>
                  <a:pt x="1031" y="398"/>
                </a:lnTo>
                <a:lnTo>
                  <a:pt x="1029" y="381"/>
                </a:lnTo>
                <a:lnTo>
                  <a:pt x="1024" y="376"/>
                </a:lnTo>
                <a:lnTo>
                  <a:pt x="1020" y="374"/>
                </a:lnTo>
                <a:lnTo>
                  <a:pt x="1043" y="364"/>
                </a:lnTo>
                <a:lnTo>
                  <a:pt x="1057" y="348"/>
                </a:lnTo>
                <a:lnTo>
                  <a:pt x="1057" y="345"/>
                </a:lnTo>
                <a:lnTo>
                  <a:pt x="1048" y="331"/>
                </a:lnTo>
                <a:lnTo>
                  <a:pt x="1034" y="322"/>
                </a:lnTo>
                <a:lnTo>
                  <a:pt x="1039" y="315"/>
                </a:lnTo>
                <a:lnTo>
                  <a:pt x="1048" y="310"/>
                </a:lnTo>
                <a:lnTo>
                  <a:pt x="1043" y="303"/>
                </a:lnTo>
                <a:lnTo>
                  <a:pt x="1041" y="293"/>
                </a:lnTo>
                <a:lnTo>
                  <a:pt x="1041" y="289"/>
                </a:lnTo>
                <a:lnTo>
                  <a:pt x="1043" y="282"/>
                </a:lnTo>
                <a:lnTo>
                  <a:pt x="1039" y="282"/>
                </a:lnTo>
                <a:lnTo>
                  <a:pt x="1039" y="277"/>
                </a:lnTo>
                <a:lnTo>
                  <a:pt x="1041" y="272"/>
                </a:lnTo>
                <a:lnTo>
                  <a:pt x="1046" y="270"/>
                </a:lnTo>
                <a:lnTo>
                  <a:pt x="1057" y="272"/>
                </a:lnTo>
                <a:lnTo>
                  <a:pt x="1069" y="274"/>
                </a:lnTo>
                <a:lnTo>
                  <a:pt x="1076" y="274"/>
                </a:lnTo>
                <a:lnTo>
                  <a:pt x="1081" y="274"/>
                </a:lnTo>
                <a:lnTo>
                  <a:pt x="1086" y="274"/>
                </a:lnTo>
                <a:lnTo>
                  <a:pt x="1091" y="272"/>
                </a:lnTo>
                <a:lnTo>
                  <a:pt x="1098" y="274"/>
                </a:lnTo>
                <a:lnTo>
                  <a:pt x="1107" y="279"/>
                </a:lnTo>
                <a:lnTo>
                  <a:pt x="1114" y="284"/>
                </a:lnTo>
                <a:lnTo>
                  <a:pt x="1119" y="289"/>
                </a:lnTo>
                <a:lnTo>
                  <a:pt x="1124" y="289"/>
                </a:lnTo>
                <a:lnTo>
                  <a:pt x="1131" y="289"/>
                </a:lnTo>
                <a:lnTo>
                  <a:pt x="1133" y="291"/>
                </a:lnTo>
                <a:lnTo>
                  <a:pt x="1136" y="293"/>
                </a:lnTo>
                <a:lnTo>
                  <a:pt x="1138" y="293"/>
                </a:lnTo>
                <a:lnTo>
                  <a:pt x="1140" y="293"/>
                </a:lnTo>
                <a:lnTo>
                  <a:pt x="1138" y="296"/>
                </a:lnTo>
                <a:lnTo>
                  <a:pt x="1138" y="300"/>
                </a:lnTo>
                <a:lnTo>
                  <a:pt x="1138" y="305"/>
                </a:lnTo>
                <a:lnTo>
                  <a:pt x="1138" y="312"/>
                </a:lnTo>
                <a:lnTo>
                  <a:pt x="1140" y="312"/>
                </a:lnTo>
                <a:lnTo>
                  <a:pt x="1140" y="315"/>
                </a:lnTo>
                <a:lnTo>
                  <a:pt x="1138" y="319"/>
                </a:lnTo>
                <a:lnTo>
                  <a:pt x="1143" y="319"/>
                </a:lnTo>
                <a:lnTo>
                  <a:pt x="1145" y="319"/>
                </a:lnTo>
                <a:lnTo>
                  <a:pt x="1150" y="319"/>
                </a:lnTo>
                <a:lnTo>
                  <a:pt x="1152" y="319"/>
                </a:lnTo>
                <a:lnTo>
                  <a:pt x="1155" y="324"/>
                </a:lnTo>
                <a:lnTo>
                  <a:pt x="1162" y="327"/>
                </a:lnTo>
                <a:lnTo>
                  <a:pt x="1171" y="322"/>
                </a:lnTo>
                <a:lnTo>
                  <a:pt x="1181" y="319"/>
                </a:lnTo>
                <a:lnTo>
                  <a:pt x="1188" y="308"/>
                </a:lnTo>
                <a:lnTo>
                  <a:pt x="1197" y="300"/>
                </a:lnTo>
                <a:lnTo>
                  <a:pt x="1204" y="310"/>
                </a:lnTo>
                <a:lnTo>
                  <a:pt x="1214" y="319"/>
                </a:lnTo>
                <a:lnTo>
                  <a:pt x="1218" y="324"/>
                </a:lnTo>
                <a:lnTo>
                  <a:pt x="1223" y="329"/>
                </a:lnTo>
                <a:lnTo>
                  <a:pt x="1228" y="331"/>
                </a:lnTo>
                <a:lnTo>
                  <a:pt x="1230" y="341"/>
                </a:lnTo>
                <a:lnTo>
                  <a:pt x="1233" y="341"/>
                </a:lnTo>
                <a:lnTo>
                  <a:pt x="1235" y="341"/>
                </a:lnTo>
                <a:lnTo>
                  <a:pt x="1235" y="345"/>
                </a:lnTo>
                <a:lnTo>
                  <a:pt x="1235" y="348"/>
                </a:lnTo>
                <a:lnTo>
                  <a:pt x="1233" y="348"/>
                </a:lnTo>
                <a:lnTo>
                  <a:pt x="1233" y="350"/>
                </a:lnTo>
                <a:lnTo>
                  <a:pt x="1235" y="353"/>
                </a:lnTo>
                <a:lnTo>
                  <a:pt x="1235" y="355"/>
                </a:lnTo>
                <a:lnTo>
                  <a:pt x="1240" y="355"/>
                </a:lnTo>
                <a:lnTo>
                  <a:pt x="1242" y="355"/>
                </a:lnTo>
                <a:lnTo>
                  <a:pt x="1244" y="360"/>
                </a:lnTo>
                <a:lnTo>
                  <a:pt x="1247" y="364"/>
                </a:lnTo>
                <a:lnTo>
                  <a:pt x="1249" y="364"/>
                </a:lnTo>
                <a:lnTo>
                  <a:pt x="1252" y="364"/>
                </a:lnTo>
                <a:lnTo>
                  <a:pt x="1256" y="364"/>
                </a:lnTo>
                <a:lnTo>
                  <a:pt x="1256" y="367"/>
                </a:lnTo>
                <a:lnTo>
                  <a:pt x="1259" y="367"/>
                </a:lnTo>
                <a:lnTo>
                  <a:pt x="1261" y="367"/>
                </a:lnTo>
                <a:lnTo>
                  <a:pt x="1263" y="369"/>
                </a:lnTo>
                <a:lnTo>
                  <a:pt x="1266" y="372"/>
                </a:lnTo>
                <a:lnTo>
                  <a:pt x="1273" y="372"/>
                </a:lnTo>
                <a:lnTo>
                  <a:pt x="1280" y="374"/>
                </a:lnTo>
                <a:lnTo>
                  <a:pt x="1278" y="376"/>
                </a:lnTo>
                <a:lnTo>
                  <a:pt x="1278" y="379"/>
                </a:lnTo>
                <a:lnTo>
                  <a:pt x="1280" y="381"/>
                </a:lnTo>
                <a:lnTo>
                  <a:pt x="1282" y="383"/>
                </a:lnTo>
                <a:lnTo>
                  <a:pt x="1282" y="386"/>
                </a:lnTo>
                <a:lnTo>
                  <a:pt x="1285" y="386"/>
                </a:lnTo>
                <a:lnTo>
                  <a:pt x="1287" y="386"/>
                </a:lnTo>
                <a:lnTo>
                  <a:pt x="1294" y="386"/>
                </a:lnTo>
                <a:lnTo>
                  <a:pt x="1299" y="388"/>
                </a:lnTo>
                <a:lnTo>
                  <a:pt x="1299" y="398"/>
                </a:lnTo>
                <a:lnTo>
                  <a:pt x="1301" y="405"/>
                </a:lnTo>
                <a:lnTo>
                  <a:pt x="1301" y="407"/>
                </a:lnTo>
                <a:lnTo>
                  <a:pt x="1294" y="412"/>
                </a:lnTo>
                <a:lnTo>
                  <a:pt x="1287" y="417"/>
                </a:lnTo>
                <a:lnTo>
                  <a:pt x="1294" y="414"/>
                </a:lnTo>
                <a:lnTo>
                  <a:pt x="1304" y="412"/>
                </a:lnTo>
                <a:lnTo>
                  <a:pt x="1304" y="414"/>
                </a:lnTo>
                <a:lnTo>
                  <a:pt x="1301" y="417"/>
                </a:lnTo>
                <a:lnTo>
                  <a:pt x="1299" y="417"/>
                </a:lnTo>
                <a:lnTo>
                  <a:pt x="1294" y="426"/>
                </a:lnTo>
                <a:lnTo>
                  <a:pt x="1289" y="436"/>
                </a:lnTo>
                <a:lnTo>
                  <a:pt x="1292" y="433"/>
                </a:lnTo>
                <a:lnTo>
                  <a:pt x="1294" y="433"/>
                </a:lnTo>
                <a:lnTo>
                  <a:pt x="1296" y="433"/>
                </a:lnTo>
                <a:lnTo>
                  <a:pt x="1299" y="436"/>
                </a:lnTo>
                <a:lnTo>
                  <a:pt x="1299" y="440"/>
                </a:lnTo>
                <a:lnTo>
                  <a:pt x="1301" y="440"/>
                </a:lnTo>
                <a:lnTo>
                  <a:pt x="1304" y="440"/>
                </a:lnTo>
                <a:lnTo>
                  <a:pt x="1304" y="443"/>
                </a:lnTo>
                <a:lnTo>
                  <a:pt x="1313" y="440"/>
                </a:lnTo>
                <a:lnTo>
                  <a:pt x="1323" y="440"/>
                </a:lnTo>
                <a:lnTo>
                  <a:pt x="1325" y="443"/>
                </a:lnTo>
                <a:lnTo>
                  <a:pt x="1325" y="445"/>
                </a:lnTo>
                <a:lnTo>
                  <a:pt x="1323" y="447"/>
                </a:lnTo>
                <a:lnTo>
                  <a:pt x="1323" y="452"/>
                </a:lnTo>
                <a:lnTo>
                  <a:pt x="1327" y="450"/>
                </a:lnTo>
                <a:lnTo>
                  <a:pt x="1330" y="450"/>
                </a:lnTo>
                <a:lnTo>
                  <a:pt x="1330" y="452"/>
                </a:lnTo>
                <a:lnTo>
                  <a:pt x="1330" y="457"/>
                </a:lnTo>
                <a:lnTo>
                  <a:pt x="1327" y="459"/>
                </a:lnTo>
                <a:lnTo>
                  <a:pt x="1323" y="459"/>
                </a:lnTo>
                <a:lnTo>
                  <a:pt x="1323" y="462"/>
                </a:lnTo>
                <a:lnTo>
                  <a:pt x="1325" y="462"/>
                </a:lnTo>
                <a:lnTo>
                  <a:pt x="1327" y="459"/>
                </a:lnTo>
                <a:lnTo>
                  <a:pt x="1330" y="459"/>
                </a:lnTo>
                <a:lnTo>
                  <a:pt x="1332" y="462"/>
                </a:lnTo>
                <a:lnTo>
                  <a:pt x="1337" y="466"/>
                </a:lnTo>
                <a:lnTo>
                  <a:pt x="1332" y="473"/>
                </a:lnTo>
                <a:lnTo>
                  <a:pt x="1330" y="478"/>
                </a:lnTo>
                <a:lnTo>
                  <a:pt x="1327" y="478"/>
                </a:lnTo>
                <a:lnTo>
                  <a:pt x="1325" y="478"/>
                </a:lnTo>
                <a:lnTo>
                  <a:pt x="1320" y="473"/>
                </a:lnTo>
                <a:lnTo>
                  <a:pt x="1318" y="471"/>
                </a:lnTo>
                <a:lnTo>
                  <a:pt x="1318" y="466"/>
                </a:lnTo>
                <a:lnTo>
                  <a:pt x="1318" y="464"/>
                </a:lnTo>
                <a:lnTo>
                  <a:pt x="1315" y="466"/>
                </a:lnTo>
                <a:lnTo>
                  <a:pt x="1315" y="469"/>
                </a:lnTo>
                <a:lnTo>
                  <a:pt x="1308" y="471"/>
                </a:lnTo>
                <a:lnTo>
                  <a:pt x="1304" y="473"/>
                </a:lnTo>
                <a:lnTo>
                  <a:pt x="1301" y="473"/>
                </a:lnTo>
                <a:lnTo>
                  <a:pt x="1299" y="476"/>
                </a:lnTo>
                <a:lnTo>
                  <a:pt x="1301" y="471"/>
                </a:lnTo>
                <a:lnTo>
                  <a:pt x="1304" y="466"/>
                </a:lnTo>
                <a:lnTo>
                  <a:pt x="1299" y="466"/>
                </a:lnTo>
                <a:lnTo>
                  <a:pt x="1294" y="466"/>
                </a:lnTo>
                <a:lnTo>
                  <a:pt x="1294" y="464"/>
                </a:lnTo>
                <a:lnTo>
                  <a:pt x="1292" y="466"/>
                </a:lnTo>
                <a:lnTo>
                  <a:pt x="1289" y="466"/>
                </a:lnTo>
                <a:lnTo>
                  <a:pt x="1273" y="466"/>
                </a:lnTo>
                <a:lnTo>
                  <a:pt x="1259" y="466"/>
                </a:lnTo>
                <a:lnTo>
                  <a:pt x="1256" y="464"/>
                </a:lnTo>
                <a:lnTo>
                  <a:pt x="1256" y="462"/>
                </a:lnTo>
                <a:lnTo>
                  <a:pt x="1273" y="438"/>
                </a:lnTo>
                <a:lnTo>
                  <a:pt x="1287" y="417"/>
                </a:lnTo>
                <a:close/>
                <a:moveTo>
                  <a:pt x="3381" y="1068"/>
                </a:moveTo>
                <a:lnTo>
                  <a:pt x="3376" y="1068"/>
                </a:lnTo>
                <a:lnTo>
                  <a:pt x="3350" y="1061"/>
                </a:lnTo>
                <a:lnTo>
                  <a:pt x="3346" y="1068"/>
                </a:lnTo>
                <a:lnTo>
                  <a:pt x="3331" y="1089"/>
                </a:lnTo>
                <a:lnTo>
                  <a:pt x="3322" y="1118"/>
                </a:lnTo>
                <a:lnTo>
                  <a:pt x="3322" y="1123"/>
                </a:lnTo>
                <a:lnTo>
                  <a:pt x="3331" y="1127"/>
                </a:lnTo>
                <a:lnTo>
                  <a:pt x="3329" y="1151"/>
                </a:lnTo>
                <a:lnTo>
                  <a:pt x="3334" y="1156"/>
                </a:lnTo>
                <a:lnTo>
                  <a:pt x="3343" y="1132"/>
                </a:lnTo>
                <a:lnTo>
                  <a:pt x="3343" y="1130"/>
                </a:lnTo>
                <a:lnTo>
                  <a:pt x="3343" y="1120"/>
                </a:lnTo>
                <a:lnTo>
                  <a:pt x="3348" y="1115"/>
                </a:lnTo>
                <a:lnTo>
                  <a:pt x="3348" y="1125"/>
                </a:lnTo>
                <a:lnTo>
                  <a:pt x="3348" y="1127"/>
                </a:lnTo>
                <a:lnTo>
                  <a:pt x="3355" y="1132"/>
                </a:lnTo>
                <a:lnTo>
                  <a:pt x="3358" y="1144"/>
                </a:lnTo>
                <a:lnTo>
                  <a:pt x="3362" y="1144"/>
                </a:lnTo>
                <a:lnTo>
                  <a:pt x="3362" y="1139"/>
                </a:lnTo>
                <a:lnTo>
                  <a:pt x="3369" y="1139"/>
                </a:lnTo>
                <a:lnTo>
                  <a:pt x="3365" y="1144"/>
                </a:lnTo>
                <a:lnTo>
                  <a:pt x="3365" y="1149"/>
                </a:lnTo>
                <a:lnTo>
                  <a:pt x="3372" y="1153"/>
                </a:lnTo>
                <a:lnTo>
                  <a:pt x="3374" y="1137"/>
                </a:lnTo>
                <a:lnTo>
                  <a:pt x="3367" y="1118"/>
                </a:lnTo>
                <a:lnTo>
                  <a:pt x="3358" y="1106"/>
                </a:lnTo>
                <a:lnTo>
                  <a:pt x="3369" y="1097"/>
                </a:lnTo>
                <a:lnTo>
                  <a:pt x="3374" y="1101"/>
                </a:lnTo>
                <a:lnTo>
                  <a:pt x="3379" y="1099"/>
                </a:lnTo>
                <a:lnTo>
                  <a:pt x="3374" y="1087"/>
                </a:lnTo>
                <a:lnTo>
                  <a:pt x="3369" y="1089"/>
                </a:lnTo>
                <a:lnTo>
                  <a:pt x="3355" y="1089"/>
                </a:lnTo>
                <a:lnTo>
                  <a:pt x="3348" y="1097"/>
                </a:lnTo>
                <a:lnTo>
                  <a:pt x="3339" y="1085"/>
                </a:lnTo>
                <a:lnTo>
                  <a:pt x="3346" y="1075"/>
                </a:lnTo>
                <a:lnTo>
                  <a:pt x="3358" y="1075"/>
                </a:lnTo>
                <a:lnTo>
                  <a:pt x="3384" y="1078"/>
                </a:lnTo>
                <a:lnTo>
                  <a:pt x="3398" y="1061"/>
                </a:lnTo>
                <a:lnTo>
                  <a:pt x="3395" y="1059"/>
                </a:lnTo>
                <a:lnTo>
                  <a:pt x="3381" y="1068"/>
                </a:lnTo>
                <a:close/>
                <a:moveTo>
                  <a:pt x="3876" y="1675"/>
                </a:moveTo>
                <a:lnTo>
                  <a:pt x="3892" y="1653"/>
                </a:lnTo>
                <a:lnTo>
                  <a:pt x="3916" y="1641"/>
                </a:lnTo>
                <a:lnTo>
                  <a:pt x="3933" y="1622"/>
                </a:lnTo>
                <a:lnTo>
                  <a:pt x="3940" y="1613"/>
                </a:lnTo>
                <a:lnTo>
                  <a:pt x="3949" y="1604"/>
                </a:lnTo>
                <a:lnTo>
                  <a:pt x="3954" y="1611"/>
                </a:lnTo>
                <a:lnTo>
                  <a:pt x="3963" y="1608"/>
                </a:lnTo>
                <a:lnTo>
                  <a:pt x="3968" y="1611"/>
                </a:lnTo>
                <a:lnTo>
                  <a:pt x="3966" y="1615"/>
                </a:lnTo>
                <a:lnTo>
                  <a:pt x="3966" y="1622"/>
                </a:lnTo>
                <a:lnTo>
                  <a:pt x="3949" y="1641"/>
                </a:lnTo>
                <a:lnTo>
                  <a:pt x="3954" y="1646"/>
                </a:lnTo>
                <a:lnTo>
                  <a:pt x="3930" y="1663"/>
                </a:lnTo>
                <a:lnTo>
                  <a:pt x="3911" y="1684"/>
                </a:lnTo>
                <a:lnTo>
                  <a:pt x="3899" y="1684"/>
                </a:lnTo>
                <a:lnTo>
                  <a:pt x="3876" y="1675"/>
                </a:lnTo>
                <a:close/>
                <a:moveTo>
                  <a:pt x="1663" y="234"/>
                </a:moveTo>
                <a:lnTo>
                  <a:pt x="1675" y="234"/>
                </a:lnTo>
                <a:lnTo>
                  <a:pt x="1687" y="234"/>
                </a:lnTo>
                <a:lnTo>
                  <a:pt x="1687" y="237"/>
                </a:lnTo>
                <a:lnTo>
                  <a:pt x="1687" y="239"/>
                </a:lnTo>
                <a:lnTo>
                  <a:pt x="1682" y="239"/>
                </a:lnTo>
                <a:lnTo>
                  <a:pt x="1677" y="239"/>
                </a:lnTo>
                <a:lnTo>
                  <a:pt x="1673" y="239"/>
                </a:lnTo>
                <a:lnTo>
                  <a:pt x="1670" y="244"/>
                </a:lnTo>
                <a:lnTo>
                  <a:pt x="1677" y="244"/>
                </a:lnTo>
                <a:lnTo>
                  <a:pt x="1685" y="244"/>
                </a:lnTo>
                <a:lnTo>
                  <a:pt x="1687" y="246"/>
                </a:lnTo>
                <a:lnTo>
                  <a:pt x="1692" y="246"/>
                </a:lnTo>
                <a:lnTo>
                  <a:pt x="1687" y="251"/>
                </a:lnTo>
                <a:lnTo>
                  <a:pt x="1685" y="255"/>
                </a:lnTo>
                <a:lnTo>
                  <a:pt x="1692" y="255"/>
                </a:lnTo>
                <a:lnTo>
                  <a:pt x="1699" y="255"/>
                </a:lnTo>
                <a:lnTo>
                  <a:pt x="1711" y="260"/>
                </a:lnTo>
                <a:lnTo>
                  <a:pt x="1727" y="263"/>
                </a:lnTo>
                <a:lnTo>
                  <a:pt x="1744" y="258"/>
                </a:lnTo>
                <a:lnTo>
                  <a:pt x="1760" y="253"/>
                </a:lnTo>
                <a:lnTo>
                  <a:pt x="1779" y="246"/>
                </a:lnTo>
                <a:lnTo>
                  <a:pt x="1789" y="232"/>
                </a:lnTo>
                <a:lnTo>
                  <a:pt x="1786" y="232"/>
                </a:lnTo>
                <a:lnTo>
                  <a:pt x="1784" y="232"/>
                </a:lnTo>
                <a:lnTo>
                  <a:pt x="1777" y="229"/>
                </a:lnTo>
                <a:lnTo>
                  <a:pt x="1777" y="220"/>
                </a:lnTo>
                <a:lnTo>
                  <a:pt x="1770" y="222"/>
                </a:lnTo>
                <a:lnTo>
                  <a:pt x="1765" y="222"/>
                </a:lnTo>
                <a:lnTo>
                  <a:pt x="1763" y="220"/>
                </a:lnTo>
                <a:lnTo>
                  <a:pt x="1760" y="220"/>
                </a:lnTo>
                <a:lnTo>
                  <a:pt x="1758" y="220"/>
                </a:lnTo>
                <a:lnTo>
                  <a:pt x="1756" y="222"/>
                </a:lnTo>
                <a:lnTo>
                  <a:pt x="1751" y="225"/>
                </a:lnTo>
                <a:lnTo>
                  <a:pt x="1744" y="225"/>
                </a:lnTo>
                <a:lnTo>
                  <a:pt x="1734" y="225"/>
                </a:lnTo>
                <a:lnTo>
                  <a:pt x="1730" y="225"/>
                </a:lnTo>
                <a:lnTo>
                  <a:pt x="1727" y="225"/>
                </a:lnTo>
                <a:lnTo>
                  <a:pt x="1722" y="225"/>
                </a:lnTo>
                <a:lnTo>
                  <a:pt x="1720" y="229"/>
                </a:lnTo>
                <a:lnTo>
                  <a:pt x="1715" y="227"/>
                </a:lnTo>
                <a:lnTo>
                  <a:pt x="1713" y="225"/>
                </a:lnTo>
                <a:lnTo>
                  <a:pt x="1711" y="225"/>
                </a:lnTo>
                <a:lnTo>
                  <a:pt x="1708" y="225"/>
                </a:lnTo>
                <a:lnTo>
                  <a:pt x="1708" y="227"/>
                </a:lnTo>
                <a:lnTo>
                  <a:pt x="1708" y="229"/>
                </a:lnTo>
                <a:lnTo>
                  <a:pt x="1703" y="232"/>
                </a:lnTo>
                <a:lnTo>
                  <a:pt x="1699" y="234"/>
                </a:lnTo>
                <a:lnTo>
                  <a:pt x="1699" y="229"/>
                </a:lnTo>
                <a:lnTo>
                  <a:pt x="1699" y="225"/>
                </a:lnTo>
                <a:lnTo>
                  <a:pt x="1692" y="222"/>
                </a:lnTo>
                <a:lnTo>
                  <a:pt x="1682" y="220"/>
                </a:lnTo>
                <a:lnTo>
                  <a:pt x="1673" y="227"/>
                </a:lnTo>
                <a:lnTo>
                  <a:pt x="1663" y="234"/>
                </a:lnTo>
                <a:close/>
                <a:moveTo>
                  <a:pt x="2657" y="92"/>
                </a:moveTo>
                <a:lnTo>
                  <a:pt x="2655" y="94"/>
                </a:lnTo>
                <a:lnTo>
                  <a:pt x="2652" y="97"/>
                </a:lnTo>
                <a:lnTo>
                  <a:pt x="2652" y="94"/>
                </a:lnTo>
                <a:lnTo>
                  <a:pt x="2631" y="99"/>
                </a:lnTo>
                <a:lnTo>
                  <a:pt x="2607" y="104"/>
                </a:lnTo>
                <a:lnTo>
                  <a:pt x="2598" y="109"/>
                </a:lnTo>
                <a:lnTo>
                  <a:pt x="2593" y="118"/>
                </a:lnTo>
                <a:lnTo>
                  <a:pt x="2591" y="118"/>
                </a:lnTo>
                <a:lnTo>
                  <a:pt x="2588" y="118"/>
                </a:lnTo>
                <a:lnTo>
                  <a:pt x="2581" y="120"/>
                </a:lnTo>
                <a:lnTo>
                  <a:pt x="2570" y="125"/>
                </a:lnTo>
                <a:lnTo>
                  <a:pt x="2570" y="128"/>
                </a:lnTo>
                <a:lnTo>
                  <a:pt x="2572" y="130"/>
                </a:lnTo>
                <a:lnTo>
                  <a:pt x="2567" y="132"/>
                </a:lnTo>
                <a:lnTo>
                  <a:pt x="2560" y="135"/>
                </a:lnTo>
                <a:lnTo>
                  <a:pt x="2560" y="137"/>
                </a:lnTo>
                <a:lnTo>
                  <a:pt x="2562" y="137"/>
                </a:lnTo>
                <a:lnTo>
                  <a:pt x="2558" y="139"/>
                </a:lnTo>
                <a:lnTo>
                  <a:pt x="2555" y="139"/>
                </a:lnTo>
                <a:lnTo>
                  <a:pt x="2555" y="142"/>
                </a:lnTo>
                <a:lnTo>
                  <a:pt x="2558" y="144"/>
                </a:lnTo>
                <a:lnTo>
                  <a:pt x="2546" y="146"/>
                </a:lnTo>
                <a:lnTo>
                  <a:pt x="2541" y="156"/>
                </a:lnTo>
                <a:lnTo>
                  <a:pt x="2555" y="161"/>
                </a:lnTo>
                <a:lnTo>
                  <a:pt x="2562" y="156"/>
                </a:lnTo>
                <a:lnTo>
                  <a:pt x="2565" y="158"/>
                </a:lnTo>
                <a:lnTo>
                  <a:pt x="2567" y="158"/>
                </a:lnTo>
                <a:lnTo>
                  <a:pt x="2567" y="163"/>
                </a:lnTo>
                <a:lnTo>
                  <a:pt x="2567" y="165"/>
                </a:lnTo>
                <a:lnTo>
                  <a:pt x="2577" y="168"/>
                </a:lnTo>
                <a:lnTo>
                  <a:pt x="2588" y="168"/>
                </a:lnTo>
                <a:lnTo>
                  <a:pt x="2600" y="168"/>
                </a:lnTo>
                <a:lnTo>
                  <a:pt x="2610" y="168"/>
                </a:lnTo>
                <a:lnTo>
                  <a:pt x="2612" y="168"/>
                </a:lnTo>
                <a:lnTo>
                  <a:pt x="2615" y="163"/>
                </a:lnTo>
                <a:lnTo>
                  <a:pt x="2598" y="158"/>
                </a:lnTo>
                <a:lnTo>
                  <a:pt x="2591" y="149"/>
                </a:lnTo>
                <a:lnTo>
                  <a:pt x="2591" y="146"/>
                </a:lnTo>
                <a:lnTo>
                  <a:pt x="2593" y="142"/>
                </a:lnTo>
                <a:lnTo>
                  <a:pt x="2600" y="132"/>
                </a:lnTo>
                <a:lnTo>
                  <a:pt x="2617" y="128"/>
                </a:lnTo>
                <a:lnTo>
                  <a:pt x="2631" y="118"/>
                </a:lnTo>
                <a:lnTo>
                  <a:pt x="2650" y="111"/>
                </a:lnTo>
                <a:lnTo>
                  <a:pt x="2669" y="106"/>
                </a:lnTo>
                <a:lnTo>
                  <a:pt x="2688" y="101"/>
                </a:lnTo>
                <a:lnTo>
                  <a:pt x="2709" y="99"/>
                </a:lnTo>
                <a:lnTo>
                  <a:pt x="2730" y="97"/>
                </a:lnTo>
                <a:lnTo>
                  <a:pt x="2745" y="87"/>
                </a:lnTo>
                <a:lnTo>
                  <a:pt x="2742" y="85"/>
                </a:lnTo>
                <a:lnTo>
                  <a:pt x="2735" y="85"/>
                </a:lnTo>
                <a:lnTo>
                  <a:pt x="2733" y="85"/>
                </a:lnTo>
                <a:lnTo>
                  <a:pt x="2714" y="87"/>
                </a:lnTo>
                <a:lnTo>
                  <a:pt x="2697" y="92"/>
                </a:lnTo>
                <a:lnTo>
                  <a:pt x="2678" y="92"/>
                </a:lnTo>
                <a:lnTo>
                  <a:pt x="2657" y="92"/>
                </a:lnTo>
                <a:close/>
                <a:moveTo>
                  <a:pt x="2167" y="45"/>
                </a:moveTo>
                <a:lnTo>
                  <a:pt x="2163" y="45"/>
                </a:lnTo>
                <a:lnTo>
                  <a:pt x="2155" y="45"/>
                </a:lnTo>
                <a:lnTo>
                  <a:pt x="2155" y="47"/>
                </a:lnTo>
                <a:lnTo>
                  <a:pt x="2158" y="49"/>
                </a:lnTo>
                <a:lnTo>
                  <a:pt x="2155" y="49"/>
                </a:lnTo>
                <a:lnTo>
                  <a:pt x="2153" y="52"/>
                </a:lnTo>
                <a:lnTo>
                  <a:pt x="2153" y="49"/>
                </a:lnTo>
                <a:lnTo>
                  <a:pt x="2151" y="47"/>
                </a:lnTo>
                <a:lnTo>
                  <a:pt x="2141" y="47"/>
                </a:lnTo>
                <a:lnTo>
                  <a:pt x="2132" y="45"/>
                </a:lnTo>
                <a:lnTo>
                  <a:pt x="2129" y="47"/>
                </a:lnTo>
                <a:lnTo>
                  <a:pt x="2129" y="52"/>
                </a:lnTo>
                <a:lnTo>
                  <a:pt x="2129" y="54"/>
                </a:lnTo>
                <a:lnTo>
                  <a:pt x="2132" y="56"/>
                </a:lnTo>
                <a:lnTo>
                  <a:pt x="2125" y="52"/>
                </a:lnTo>
                <a:lnTo>
                  <a:pt x="2118" y="47"/>
                </a:lnTo>
                <a:lnTo>
                  <a:pt x="2110" y="49"/>
                </a:lnTo>
                <a:lnTo>
                  <a:pt x="2103" y="52"/>
                </a:lnTo>
                <a:lnTo>
                  <a:pt x="2103" y="49"/>
                </a:lnTo>
                <a:lnTo>
                  <a:pt x="2106" y="47"/>
                </a:lnTo>
                <a:lnTo>
                  <a:pt x="2089" y="47"/>
                </a:lnTo>
                <a:lnTo>
                  <a:pt x="2070" y="49"/>
                </a:lnTo>
                <a:lnTo>
                  <a:pt x="2068" y="52"/>
                </a:lnTo>
                <a:lnTo>
                  <a:pt x="2075" y="56"/>
                </a:lnTo>
                <a:lnTo>
                  <a:pt x="2082" y="64"/>
                </a:lnTo>
                <a:lnTo>
                  <a:pt x="2073" y="61"/>
                </a:lnTo>
                <a:lnTo>
                  <a:pt x="2070" y="64"/>
                </a:lnTo>
                <a:lnTo>
                  <a:pt x="2073" y="66"/>
                </a:lnTo>
                <a:lnTo>
                  <a:pt x="2077" y="68"/>
                </a:lnTo>
                <a:lnTo>
                  <a:pt x="2082" y="68"/>
                </a:lnTo>
                <a:lnTo>
                  <a:pt x="2087" y="68"/>
                </a:lnTo>
                <a:lnTo>
                  <a:pt x="2084" y="66"/>
                </a:lnTo>
                <a:lnTo>
                  <a:pt x="2096" y="68"/>
                </a:lnTo>
                <a:lnTo>
                  <a:pt x="2108" y="71"/>
                </a:lnTo>
                <a:lnTo>
                  <a:pt x="2106" y="73"/>
                </a:lnTo>
                <a:lnTo>
                  <a:pt x="2106" y="75"/>
                </a:lnTo>
                <a:lnTo>
                  <a:pt x="2110" y="75"/>
                </a:lnTo>
                <a:lnTo>
                  <a:pt x="2118" y="75"/>
                </a:lnTo>
                <a:lnTo>
                  <a:pt x="2115" y="75"/>
                </a:lnTo>
                <a:lnTo>
                  <a:pt x="2113" y="78"/>
                </a:lnTo>
                <a:lnTo>
                  <a:pt x="2108" y="80"/>
                </a:lnTo>
                <a:lnTo>
                  <a:pt x="2122" y="87"/>
                </a:lnTo>
                <a:lnTo>
                  <a:pt x="2139" y="92"/>
                </a:lnTo>
                <a:lnTo>
                  <a:pt x="2146" y="87"/>
                </a:lnTo>
                <a:lnTo>
                  <a:pt x="2151" y="80"/>
                </a:lnTo>
                <a:lnTo>
                  <a:pt x="2155" y="80"/>
                </a:lnTo>
                <a:lnTo>
                  <a:pt x="2158" y="80"/>
                </a:lnTo>
                <a:lnTo>
                  <a:pt x="2167" y="71"/>
                </a:lnTo>
                <a:lnTo>
                  <a:pt x="2181" y="66"/>
                </a:lnTo>
                <a:lnTo>
                  <a:pt x="2186" y="71"/>
                </a:lnTo>
                <a:lnTo>
                  <a:pt x="2191" y="73"/>
                </a:lnTo>
                <a:lnTo>
                  <a:pt x="2191" y="78"/>
                </a:lnTo>
                <a:lnTo>
                  <a:pt x="2189" y="80"/>
                </a:lnTo>
                <a:lnTo>
                  <a:pt x="2198" y="80"/>
                </a:lnTo>
                <a:lnTo>
                  <a:pt x="2205" y="80"/>
                </a:lnTo>
                <a:lnTo>
                  <a:pt x="2208" y="80"/>
                </a:lnTo>
                <a:lnTo>
                  <a:pt x="2210" y="83"/>
                </a:lnTo>
                <a:lnTo>
                  <a:pt x="2222" y="80"/>
                </a:lnTo>
                <a:lnTo>
                  <a:pt x="2234" y="75"/>
                </a:lnTo>
                <a:lnTo>
                  <a:pt x="2234" y="73"/>
                </a:lnTo>
                <a:lnTo>
                  <a:pt x="2226" y="73"/>
                </a:lnTo>
                <a:lnTo>
                  <a:pt x="2219" y="73"/>
                </a:lnTo>
                <a:lnTo>
                  <a:pt x="2219" y="71"/>
                </a:lnTo>
                <a:lnTo>
                  <a:pt x="2217" y="68"/>
                </a:lnTo>
                <a:lnTo>
                  <a:pt x="2212" y="68"/>
                </a:lnTo>
                <a:lnTo>
                  <a:pt x="2208" y="68"/>
                </a:lnTo>
                <a:lnTo>
                  <a:pt x="2203" y="66"/>
                </a:lnTo>
                <a:lnTo>
                  <a:pt x="2191" y="64"/>
                </a:lnTo>
                <a:lnTo>
                  <a:pt x="2191" y="61"/>
                </a:lnTo>
                <a:lnTo>
                  <a:pt x="2191" y="59"/>
                </a:lnTo>
                <a:lnTo>
                  <a:pt x="2179" y="59"/>
                </a:lnTo>
                <a:lnTo>
                  <a:pt x="2167" y="56"/>
                </a:lnTo>
                <a:lnTo>
                  <a:pt x="2165" y="54"/>
                </a:lnTo>
                <a:lnTo>
                  <a:pt x="2163" y="52"/>
                </a:lnTo>
                <a:lnTo>
                  <a:pt x="2170" y="52"/>
                </a:lnTo>
                <a:lnTo>
                  <a:pt x="2177" y="52"/>
                </a:lnTo>
                <a:lnTo>
                  <a:pt x="2177" y="54"/>
                </a:lnTo>
                <a:lnTo>
                  <a:pt x="2193" y="54"/>
                </a:lnTo>
                <a:lnTo>
                  <a:pt x="2208" y="54"/>
                </a:lnTo>
                <a:lnTo>
                  <a:pt x="2210" y="56"/>
                </a:lnTo>
                <a:lnTo>
                  <a:pt x="2215" y="59"/>
                </a:lnTo>
                <a:lnTo>
                  <a:pt x="2219" y="59"/>
                </a:lnTo>
                <a:lnTo>
                  <a:pt x="2224" y="59"/>
                </a:lnTo>
                <a:lnTo>
                  <a:pt x="2234" y="56"/>
                </a:lnTo>
                <a:lnTo>
                  <a:pt x="2245" y="54"/>
                </a:lnTo>
                <a:lnTo>
                  <a:pt x="2248" y="52"/>
                </a:lnTo>
                <a:lnTo>
                  <a:pt x="2255" y="49"/>
                </a:lnTo>
                <a:lnTo>
                  <a:pt x="2260" y="49"/>
                </a:lnTo>
                <a:lnTo>
                  <a:pt x="2260" y="42"/>
                </a:lnTo>
                <a:lnTo>
                  <a:pt x="2238" y="42"/>
                </a:lnTo>
                <a:lnTo>
                  <a:pt x="2217" y="42"/>
                </a:lnTo>
                <a:lnTo>
                  <a:pt x="2217" y="40"/>
                </a:lnTo>
                <a:lnTo>
                  <a:pt x="2212" y="40"/>
                </a:lnTo>
                <a:lnTo>
                  <a:pt x="2210" y="40"/>
                </a:lnTo>
                <a:lnTo>
                  <a:pt x="2208" y="40"/>
                </a:lnTo>
                <a:lnTo>
                  <a:pt x="2203" y="45"/>
                </a:lnTo>
                <a:lnTo>
                  <a:pt x="2191" y="42"/>
                </a:lnTo>
                <a:lnTo>
                  <a:pt x="2179" y="40"/>
                </a:lnTo>
                <a:lnTo>
                  <a:pt x="2177" y="40"/>
                </a:lnTo>
                <a:lnTo>
                  <a:pt x="2172" y="42"/>
                </a:lnTo>
                <a:lnTo>
                  <a:pt x="2167" y="45"/>
                </a:lnTo>
                <a:close/>
                <a:moveTo>
                  <a:pt x="3580" y="549"/>
                </a:moveTo>
                <a:lnTo>
                  <a:pt x="3580" y="549"/>
                </a:lnTo>
                <a:lnTo>
                  <a:pt x="3578" y="549"/>
                </a:lnTo>
                <a:lnTo>
                  <a:pt x="3578" y="547"/>
                </a:lnTo>
                <a:lnTo>
                  <a:pt x="3570" y="554"/>
                </a:lnTo>
                <a:lnTo>
                  <a:pt x="3568" y="566"/>
                </a:lnTo>
                <a:lnTo>
                  <a:pt x="3570" y="566"/>
                </a:lnTo>
                <a:lnTo>
                  <a:pt x="3559" y="590"/>
                </a:lnTo>
                <a:lnTo>
                  <a:pt x="3537" y="604"/>
                </a:lnTo>
                <a:lnTo>
                  <a:pt x="3537" y="599"/>
                </a:lnTo>
                <a:lnTo>
                  <a:pt x="3537" y="594"/>
                </a:lnTo>
                <a:lnTo>
                  <a:pt x="3535" y="597"/>
                </a:lnTo>
                <a:lnTo>
                  <a:pt x="3530" y="597"/>
                </a:lnTo>
                <a:lnTo>
                  <a:pt x="3530" y="601"/>
                </a:lnTo>
                <a:lnTo>
                  <a:pt x="3530" y="604"/>
                </a:lnTo>
                <a:lnTo>
                  <a:pt x="3528" y="608"/>
                </a:lnTo>
                <a:lnTo>
                  <a:pt x="3523" y="613"/>
                </a:lnTo>
                <a:lnTo>
                  <a:pt x="3523" y="618"/>
                </a:lnTo>
                <a:lnTo>
                  <a:pt x="3518" y="618"/>
                </a:lnTo>
                <a:lnTo>
                  <a:pt x="3509" y="620"/>
                </a:lnTo>
                <a:lnTo>
                  <a:pt x="3497" y="620"/>
                </a:lnTo>
                <a:lnTo>
                  <a:pt x="3492" y="620"/>
                </a:lnTo>
                <a:lnTo>
                  <a:pt x="3490" y="620"/>
                </a:lnTo>
                <a:lnTo>
                  <a:pt x="3481" y="625"/>
                </a:lnTo>
                <a:lnTo>
                  <a:pt x="3476" y="630"/>
                </a:lnTo>
                <a:lnTo>
                  <a:pt x="3466" y="635"/>
                </a:lnTo>
                <a:lnTo>
                  <a:pt x="3464" y="642"/>
                </a:lnTo>
                <a:lnTo>
                  <a:pt x="3455" y="644"/>
                </a:lnTo>
                <a:lnTo>
                  <a:pt x="3450" y="653"/>
                </a:lnTo>
                <a:lnTo>
                  <a:pt x="3450" y="658"/>
                </a:lnTo>
                <a:lnTo>
                  <a:pt x="3452" y="661"/>
                </a:lnTo>
                <a:lnTo>
                  <a:pt x="3455" y="658"/>
                </a:lnTo>
                <a:lnTo>
                  <a:pt x="3459" y="658"/>
                </a:lnTo>
                <a:lnTo>
                  <a:pt x="3457" y="663"/>
                </a:lnTo>
                <a:lnTo>
                  <a:pt x="3455" y="668"/>
                </a:lnTo>
                <a:lnTo>
                  <a:pt x="3457" y="672"/>
                </a:lnTo>
                <a:lnTo>
                  <a:pt x="3457" y="677"/>
                </a:lnTo>
                <a:lnTo>
                  <a:pt x="3459" y="677"/>
                </a:lnTo>
                <a:lnTo>
                  <a:pt x="3462" y="675"/>
                </a:lnTo>
                <a:lnTo>
                  <a:pt x="3464" y="677"/>
                </a:lnTo>
                <a:lnTo>
                  <a:pt x="3466" y="677"/>
                </a:lnTo>
                <a:lnTo>
                  <a:pt x="3469" y="677"/>
                </a:lnTo>
                <a:lnTo>
                  <a:pt x="3471" y="675"/>
                </a:lnTo>
                <a:lnTo>
                  <a:pt x="3473" y="663"/>
                </a:lnTo>
                <a:lnTo>
                  <a:pt x="3478" y="656"/>
                </a:lnTo>
                <a:lnTo>
                  <a:pt x="3473" y="649"/>
                </a:lnTo>
                <a:lnTo>
                  <a:pt x="3466" y="642"/>
                </a:lnTo>
                <a:lnTo>
                  <a:pt x="3473" y="642"/>
                </a:lnTo>
                <a:lnTo>
                  <a:pt x="3478" y="642"/>
                </a:lnTo>
                <a:lnTo>
                  <a:pt x="3481" y="639"/>
                </a:lnTo>
                <a:lnTo>
                  <a:pt x="3483" y="639"/>
                </a:lnTo>
                <a:lnTo>
                  <a:pt x="3490" y="637"/>
                </a:lnTo>
                <a:lnTo>
                  <a:pt x="3499" y="635"/>
                </a:lnTo>
                <a:lnTo>
                  <a:pt x="3495" y="637"/>
                </a:lnTo>
                <a:lnTo>
                  <a:pt x="3492" y="639"/>
                </a:lnTo>
                <a:lnTo>
                  <a:pt x="3490" y="639"/>
                </a:lnTo>
                <a:lnTo>
                  <a:pt x="3485" y="639"/>
                </a:lnTo>
                <a:lnTo>
                  <a:pt x="3481" y="644"/>
                </a:lnTo>
                <a:lnTo>
                  <a:pt x="3478" y="649"/>
                </a:lnTo>
                <a:lnTo>
                  <a:pt x="3481" y="653"/>
                </a:lnTo>
                <a:lnTo>
                  <a:pt x="3488" y="656"/>
                </a:lnTo>
                <a:lnTo>
                  <a:pt x="3490" y="653"/>
                </a:lnTo>
                <a:lnTo>
                  <a:pt x="3495" y="649"/>
                </a:lnTo>
                <a:lnTo>
                  <a:pt x="3499" y="649"/>
                </a:lnTo>
                <a:lnTo>
                  <a:pt x="3504" y="649"/>
                </a:lnTo>
                <a:lnTo>
                  <a:pt x="3507" y="646"/>
                </a:lnTo>
                <a:lnTo>
                  <a:pt x="3509" y="644"/>
                </a:lnTo>
                <a:lnTo>
                  <a:pt x="3507" y="637"/>
                </a:lnTo>
                <a:lnTo>
                  <a:pt x="3502" y="635"/>
                </a:lnTo>
                <a:lnTo>
                  <a:pt x="3504" y="632"/>
                </a:lnTo>
                <a:lnTo>
                  <a:pt x="3507" y="632"/>
                </a:lnTo>
                <a:lnTo>
                  <a:pt x="3511" y="632"/>
                </a:lnTo>
                <a:lnTo>
                  <a:pt x="3514" y="635"/>
                </a:lnTo>
                <a:lnTo>
                  <a:pt x="3514" y="637"/>
                </a:lnTo>
                <a:lnTo>
                  <a:pt x="3514" y="639"/>
                </a:lnTo>
                <a:lnTo>
                  <a:pt x="3514" y="644"/>
                </a:lnTo>
                <a:lnTo>
                  <a:pt x="3518" y="649"/>
                </a:lnTo>
                <a:lnTo>
                  <a:pt x="3528" y="642"/>
                </a:lnTo>
                <a:lnTo>
                  <a:pt x="3533" y="635"/>
                </a:lnTo>
                <a:lnTo>
                  <a:pt x="3533" y="632"/>
                </a:lnTo>
                <a:lnTo>
                  <a:pt x="3533" y="630"/>
                </a:lnTo>
                <a:lnTo>
                  <a:pt x="3535" y="632"/>
                </a:lnTo>
                <a:lnTo>
                  <a:pt x="3542" y="635"/>
                </a:lnTo>
                <a:lnTo>
                  <a:pt x="3549" y="632"/>
                </a:lnTo>
                <a:lnTo>
                  <a:pt x="3556" y="630"/>
                </a:lnTo>
                <a:lnTo>
                  <a:pt x="3556" y="632"/>
                </a:lnTo>
                <a:lnTo>
                  <a:pt x="3556" y="635"/>
                </a:lnTo>
                <a:lnTo>
                  <a:pt x="3561" y="630"/>
                </a:lnTo>
                <a:lnTo>
                  <a:pt x="3566" y="623"/>
                </a:lnTo>
                <a:lnTo>
                  <a:pt x="3568" y="623"/>
                </a:lnTo>
                <a:lnTo>
                  <a:pt x="3568" y="627"/>
                </a:lnTo>
                <a:lnTo>
                  <a:pt x="3568" y="630"/>
                </a:lnTo>
                <a:lnTo>
                  <a:pt x="3573" y="625"/>
                </a:lnTo>
                <a:lnTo>
                  <a:pt x="3580" y="618"/>
                </a:lnTo>
                <a:lnTo>
                  <a:pt x="3580" y="613"/>
                </a:lnTo>
                <a:lnTo>
                  <a:pt x="3578" y="608"/>
                </a:lnTo>
                <a:lnTo>
                  <a:pt x="3580" y="604"/>
                </a:lnTo>
                <a:lnTo>
                  <a:pt x="3582" y="597"/>
                </a:lnTo>
                <a:lnTo>
                  <a:pt x="3582" y="592"/>
                </a:lnTo>
                <a:lnTo>
                  <a:pt x="3582" y="587"/>
                </a:lnTo>
                <a:lnTo>
                  <a:pt x="3589" y="580"/>
                </a:lnTo>
                <a:lnTo>
                  <a:pt x="3594" y="568"/>
                </a:lnTo>
                <a:lnTo>
                  <a:pt x="3592" y="561"/>
                </a:lnTo>
                <a:lnTo>
                  <a:pt x="3589" y="554"/>
                </a:lnTo>
                <a:lnTo>
                  <a:pt x="3587" y="547"/>
                </a:lnTo>
                <a:lnTo>
                  <a:pt x="3580" y="545"/>
                </a:lnTo>
                <a:lnTo>
                  <a:pt x="3580" y="547"/>
                </a:lnTo>
                <a:lnTo>
                  <a:pt x="3580" y="549"/>
                </a:lnTo>
                <a:close/>
                <a:moveTo>
                  <a:pt x="1890" y="324"/>
                </a:moveTo>
                <a:lnTo>
                  <a:pt x="1888" y="324"/>
                </a:lnTo>
                <a:lnTo>
                  <a:pt x="1886" y="324"/>
                </a:lnTo>
                <a:lnTo>
                  <a:pt x="1883" y="331"/>
                </a:lnTo>
                <a:lnTo>
                  <a:pt x="1879" y="338"/>
                </a:lnTo>
                <a:lnTo>
                  <a:pt x="1874" y="336"/>
                </a:lnTo>
                <a:lnTo>
                  <a:pt x="1871" y="334"/>
                </a:lnTo>
                <a:lnTo>
                  <a:pt x="1871" y="336"/>
                </a:lnTo>
                <a:lnTo>
                  <a:pt x="1869" y="336"/>
                </a:lnTo>
                <a:lnTo>
                  <a:pt x="1871" y="341"/>
                </a:lnTo>
                <a:lnTo>
                  <a:pt x="1874" y="341"/>
                </a:lnTo>
                <a:lnTo>
                  <a:pt x="1876" y="341"/>
                </a:lnTo>
                <a:lnTo>
                  <a:pt x="1879" y="341"/>
                </a:lnTo>
                <a:lnTo>
                  <a:pt x="1879" y="345"/>
                </a:lnTo>
                <a:lnTo>
                  <a:pt x="1874" y="348"/>
                </a:lnTo>
                <a:lnTo>
                  <a:pt x="1876" y="353"/>
                </a:lnTo>
                <a:lnTo>
                  <a:pt x="1881" y="350"/>
                </a:lnTo>
                <a:lnTo>
                  <a:pt x="1881" y="353"/>
                </a:lnTo>
                <a:lnTo>
                  <a:pt x="1881" y="357"/>
                </a:lnTo>
                <a:lnTo>
                  <a:pt x="1881" y="360"/>
                </a:lnTo>
                <a:lnTo>
                  <a:pt x="1881" y="364"/>
                </a:lnTo>
                <a:lnTo>
                  <a:pt x="1886" y="360"/>
                </a:lnTo>
                <a:lnTo>
                  <a:pt x="1888" y="357"/>
                </a:lnTo>
                <a:lnTo>
                  <a:pt x="1888" y="362"/>
                </a:lnTo>
                <a:lnTo>
                  <a:pt x="1890" y="364"/>
                </a:lnTo>
                <a:lnTo>
                  <a:pt x="1886" y="369"/>
                </a:lnTo>
                <a:lnTo>
                  <a:pt x="1890" y="374"/>
                </a:lnTo>
                <a:lnTo>
                  <a:pt x="1895" y="374"/>
                </a:lnTo>
                <a:lnTo>
                  <a:pt x="1898" y="374"/>
                </a:lnTo>
                <a:lnTo>
                  <a:pt x="1902" y="374"/>
                </a:lnTo>
                <a:lnTo>
                  <a:pt x="1905" y="372"/>
                </a:lnTo>
                <a:lnTo>
                  <a:pt x="1905" y="379"/>
                </a:lnTo>
                <a:lnTo>
                  <a:pt x="1909" y="381"/>
                </a:lnTo>
                <a:lnTo>
                  <a:pt x="1909" y="386"/>
                </a:lnTo>
                <a:lnTo>
                  <a:pt x="1909" y="388"/>
                </a:lnTo>
                <a:lnTo>
                  <a:pt x="1900" y="391"/>
                </a:lnTo>
                <a:lnTo>
                  <a:pt x="1893" y="398"/>
                </a:lnTo>
                <a:lnTo>
                  <a:pt x="1895" y="398"/>
                </a:lnTo>
                <a:lnTo>
                  <a:pt x="1900" y="400"/>
                </a:lnTo>
                <a:lnTo>
                  <a:pt x="1900" y="402"/>
                </a:lnTo>
                <a:lnTo>
                  <a:pt x="1893" y="405"/>
                </a:lnTo>
                <a:lnTo>
                  <a:pt x="1886" y="407"/>
                </a:lnTo>
                <a:lnTo>
                  <a:pt x="1888" y="414"/>
                </a:lnTo>
                <a:lnTo>
                  <a:pt x="1893" y="414"/>
                </a:lnTo>
                <a:lnTo>
                  <a:pt x="1898" y="414"/>
                </a:lnTo>
                <a:lnTo>
                  <a:pt x="1902" y="414"/>
                </a:lnTo>
                <a:lnTo>
                  <a:pt x="1890" y="424"/>
                </a:lnTo>
                <a:lnTo>
                  <a:pt x="1879" y="433"/>
                </a:lnTo>
                <a:lnTo>
                  <a:pt x="1881" y="433"/>
                </a:lnTo>
                <a:lnTo>
                  <a:pt x="1883" y="433"/>
                </a:lnTo>
                <a:lnTo>
                  <a:pt x="1886" y="433"/>
                </a:lnTo>
                <a:lnTo>
                  <a:pt x="1888" y="433"/>
                </a:lnTo>
                <a:lnTo>
                  <a:pt x="1890" y="431"/>
                </a:lnTo>
                <a:lnTo>
                  <a:pt x="1898" y="431"/>
                </a:lnTo>
                <a:lnTo>
                  <a:pt x="1905" y="431"/>
                </a:lnTo>
                <a:lnTo>
                  <a:pt x="1905" y="428"/>
                </a:lnTo>
                <a:lnTo>
                  <a:pt x="1907" y="426"/>
                </a:lnTo>
                <a:lnTo>
                  <a:pt x="1912" y="426"/>
                </a:lnTo>
                <a:lnTo>
                  <a:pt x="1919" y="426"/>
                </a:lnTo>
                <a:lnTo>
                  <a:pt x="1940" y="424"/>
                </a:lnTo>
                <a:lnTo>
                  <a:pt x="1959" y="421"/>
                </a:lnTo>
                <a:lnTo>
                  <a:pt x="1959" y="419"/>
                </a:lnTo>
                <a:lnTo>
                  <a:pt x="1959" y="417"/>
                </a:lnTo>
                <a:lnTo>
                  <a:pt x="1957" y="417"/>
                </a:lnTo>
                <a:lnTo>
                  <a:pt x="1954" y="417"/>
                </a:lnTo>
                <a:lnTo>
                  <a:pt x="1954" y="414"/>
                </a:lnTo>
                <a:lnTo>
                  <a:pt x="1954" y="412"/>
                </a:lnTo>
                <a:lnTo>
                  <a:pt x="1964" y="409"/>
                </a:lnTo>
                <a:lnTo>
                  <a:pt x="1969" y="402"/>
                </a:lnTo>
                <a:lnTo>
                  <a:pt x="1966" y="400"/>
                </a:lnTo>
                <a:lnTo>
                  <a:pt x="1966" y="395"/>
                </a:lnTo>
                <a:lnTo>
                  <a:pt x="1957" y="395"/>
                </a:lnTo>
                <a:lnTo>
                  <a:pt x="1950" y="395"/>
                </a:lnTo>
                <a:lnTo>
                  <a:pt x="1950" y="393"/>
                </a:lnTo>
                <a:lnTo>
                  <a:pt x="1950" y="391"/>
                </a:lnTo>
                <a:lnTo>
                  <a:pt x="1947" y="386"/>
                </a:lnTo>
                <a:lnTo>
                  <a:pt x="1945" y="379"/>
                </a:lnTo>
                <a:lnTo>
                  <a:pt x="1938" y="374"/>
                </a:lnTo>
                <a:lnTo>
                  <a:pt x="1933" y="372"/>
                </a:lnTo>
                <a:lnTo>
                  <a:pt x="1926" y="362"/>
                </a:lnTo>
                <a:lnTo>
                  <a:pt x="1912" y="355"/>
                </a:lnTo>
                <a:lnTo>
                  <a:pt x="1912" y="353"/>
                </a:lnTo>
                <a:lnTo>
                  <a:pt x="1912" y="350"/>
                </a:lnTo>
                <a:lnTo>
                  <a:pt x="1921" y="345"/>
                </a:lnTo>
                <a:lnTo>
                  <a:pt x="1926" y="336"/>
                </a:lnTo>
                <a:lnTo>
                  <a:pt x="1924" y="336"/>
                </a:lnTo>
                <a:lnTo>
                  <a:pt x="1924" y="334"/>
                </a:lnTo>
                <a:lnTo>
                  <a:pt x="1912" y="334"/>
                </a:lnTo>
                <a:lnTo>
                  <a:pt x="1902" y="334"/>
                </a:lnTo>
                <a:lnTo>
                  <a:pt x="1907" y="329"/>
                </a:lnTo>
                <a:lnTo>
                  <a:pt x="1909" y="322"/>
                </a:lnTo>
                <a:lnTo>
                  <a:pt x="1900" y="322"/>
                </a:lnTo>
                <a:lnTo>
                  <a:pt x="1890" y="324"/>
                </a:lnTo>
                <a:close/>
                <a:moveTo>
                  <a:pt x="3050" y="1011"/>
                </a:moveTo>
                <a:lnTo>
                  <a:pt x="3078" y="1052"/>
                </a:lnTo>
                <a:lnTo>
                  <a:pt x="3097" y="1078"/>
                </a:lnTo>
                <a:lnTo>
                  <a:pt x="3114" y="1106"/>
                </a:lnTo>
                <a:lnTo>
                  <a:pt x="3135" y="1134"/>
                </a:lnTo>
                <a:lnTo>
                  <a:pt x="3159" y="1156"/>
                </a:lnTo>
                <a:lnTo>
                  <a:pt x="3168" y="1156"/>
                </a:lnTo>
                <a:lnTo>
                  <a:pt x="3175" y="1156"/>
                </a:lnTo>
                <a:lnTo>
                  <a:pt x="3175" y="1118"/>
                </a:lnTo>
                <a:lnTo>
                  <a:pt x="3185" y="1111"/>
                </a:lnTo>
                <a:lnTo>
                  <a:pt x="3173" y="1099"/>
                </a:lnTo>
                <a:lnTo>
                  <a:pt x="3166" y="1108"/>
                </a:lnTo>
                <a:lnTo>
                  <a:pt x="3173" y="1111"/>
                </a:lnTo>
                <a:lnTo>
                  <a:pt x="3173" y="1113"/>
                </a:lnTo>
                <a:lnTo>
                  <a:pt x="3159" y="1104"/>
                </a:lnTo>
                <a:lnTo>
                  <a:pt x="3159" y="1097"/>
                </a:lnTo>
                <a:lnTo>
                  <a:pt x="3147" y="1082"/>
                </a:lnTo>
                <a:lnTo>
                  <a:pt x="3149" y="1082"/>
                </a:lnTo>
                <a:lnTo>
                  <a:pt x="3149" y="1078"/>
                </a:lnTo>
                <a:lnTo>
                  <a:pt x="3145" y="1073"/>
                </a:lnTo>
                <a:lnTo>
                  <a:pt x="3142" y="1073"/>
                </a:lnTo>
                <a:lnTo>
                  <a:pt x="3140" y="1066"/>
                </a:lnTo>
                <a:lnTo>
                  <a:pt x="3135" y="1068"/>
                </a:lnTo>
                <a:lnTo>
                  <a:pt x="3126" y="1059"/>
                </a:lnTo>
                <a:lnTo>
                  <a:pt x="3119" y="1052"/>
                </a:lnTo>
                <a:lnTo>
                  <a:pt x="3111" y="1052"/>
                </a:lnTo>
                <a:lnTo>
                  <a:pt x="3090" y="1028"/>
                </a:lnTo>
                <a:lnTo>
                  <a:pt x="3062" y="1011"/>
                </a:lnTo>
                <a:lnTo>
                  <a:pt x="3052" y="1006"/>
                </a:lnTo>
                <a:lnTo>
                  <a:pt x="3050" y="1011"/>
                </a:lnTo>
                <a:close/>
                <a:moveTo>
                  <a:pt x="2510" y="1241"/>
                </a:moveTo>
                <a:lnTo>
                  <a:pt x="2513" y="1243"/>
                </a:lnTo>
                <a:lnTo>
                  <a:pt x="2513" y="1246"/>
                </a:lnTo>
                <a:lnTo>
                  <a:pt x="2508" y="1253"/>
                </a:lnTo>
                <a:lnTo>
                  <a:pt x="2501" y="1258"/>
                </a:lnTo>
                <a:lnTo>
                  <a:pt x="2499" y="1265"/>
                </a:lnTo>
                <a:lnTo>
                  <a:pt x="2496" y="1269"/>
                </a:lnTo>
                <a:lnTo>
                  <a:pt x="2489" y="1277"/>
                </a:lnTo>
                <a:lnTo>
                  <a:pt x="2482" y="1284"/>
                </a:lnTo>
                <a:lnTo>
                  <a:pt x="2480" y="1284"/>
                </a:lnTo>
                <a:lnTo>
                  <a:pt x="2475" y="1284"/>
                </a:lnTo>
                <a:lnTo>
                  <a:pt x="2468" y="1286"/>
                </a:lnTo>
                <a:lnTo>
                  <a:pt x="2461" y="1291"/>
                </a:lnTo>
                <a:lnTo>
                  <a:pt x="2458" y="1298"/>
                </a:lnTo>
                <a:lnTo>
                  <a:pt x="2456" y="1307"/>
                </a:lnTo>
                <a:lnTo>
                  <a:pt x="2458" y="1324"/>
                </a:lnTo>
                <a:lnTo>
                  <a:pt x="2461" y="1333"/>
                </a:lnTo>
                <a:lnTo>
                  <a:pt x="2461" y="1336"/>
                </a:lnTo>
                <a:lnTo>
                  <a:pt x="2461" y="1338"/>
                </a:lnTo>
                <a:lnTo>
                  <a:pt x="2451" y="1355"/>
                </a:lnTo>
                <a:lnTo>
                  <a:pt x="2449" y="1376"/>
                </a:lnTo>
                <a:lnTo>
                  <a:pt x="2454" y="1397"/>
                </a:lnTo>
                <a:lnTo>
                  <a:pt x="2470" y="1412"/>
                </a:lnTo>
                <a:lnTo>
                  <a:pt x="2473" y="1412"/>
                </a:lnTo>
                <a:lnTo>
                  <a:pt x="2475" y="1412"/>
                </a:lnTo>
                <a:lnTo>
                  <a:pt x="2480" y="1409"/>
                </a:lnTo>
                <a:lnTo>
                  <a:pt x="2489" y="1407"/>
                </a:lnTo>
                <a:lnTo>
                  <a:pt x="2501" y="1383"/>
                </a:lnTo>
                <a:lnTo>
                  <a:pt x="2508" y="1355"/>
                </a:lnTo>
                <a:lnTo>
                  <a:pt x="2513" y="1341"/>
                </a:lnTo>
                <a:lnTo>
                  <a:pt x="2517" y="1326"/>
                </a:lnTo>
                <a:lnTo>
                  <a:pt x="2520" y="1310"/>
                </a:lnTo>
                <a:lnTo>
                  <a:pt x="2525" y="1296"/>
                </a:lnTo>
                <a:lnTo>
                  <a:pt x="2525" y="1291"/>
                </a:lnTo>
                <a:lnTo>
                  <a:pt x="2525" y="1284"/>
                </a:lnTo>
                <a:lnTo>
                  <a:pt x="2527" y="1286"/>
                </a:lnTo>
                <a:lnTo>
                  <a:pt x="2529" y="1286"/>
                </a:lnTo>
                <a:lnTo>
                  <a:pt x="2532" y="1284"/>
                </a:lnTo>
                <a:lnTo>
                  <a:pt x="2532" y="1279"/>
                </a:lnTo>
                <a:lnTo>
                  <a:pt x="2532" y="1277"/>
                </a:lnTo>
                <a:lnTo>
                  <a:pt x="2529" y="1267"/>
                </a:lnTo>
                <a:lnTo>
                  <a:pt x="2527" y="1253"/>
                </a:lnTo>
                <a:lnTo>
                  <a:pt x="2522" y="1243"/>
                </a:lnTo>
                <a:lnTo>
                  <a:pt x="2515" y="1236"/>
                </a:lnTo>
                <a:lnTo>
                  <a:pt x="2513" y="1239"/>
                </a:lnTo>
                <a:lnTo>
                  <a:pt x="2510" y="1241"/>
                </a:lnTo>
                <a:close/>
                <a:moveTo>
                  <a:pt x="3279" y="1021"/>
                </a:moveTo>
                <a:lnTo>
                  <a:pt x="3279" y="1014"/>
                </a:lnTo>
                <a:lnTo>
                  <a:pt x="3261" y="1033"/>
                </a:lnTo>
                <a:lnTo>
                  <a:pt x="3246" y="1042"/>
                </a:lnTo>
                <a:lnTo>
                  <a:pt x="3234" y="1049"/>
                </a:lnTo>
                <a:lnTo>
                  <a:pt x="3234" y="1061"/>
                </a:lnTo>
                <a:lnTo>
                  <a:pt x="3213" y="1054"/>
                </a:lnTo>
                <a:lnTo>
                  <a:pt x="3208" y="1070"/>
                </a:lnTo>
                <a:lnTo>
                  <a:pt x="3208" y="1073"/>
                </a:lnTo>
                <a:lnTo>
                  <a:pt x="3211" y="1078"/>
                </a:lnTo>
                <a:lnTo>
                  <a:pt x="3211" y="1085"/>
                </a:lnTo>
                <a:lnTo>
                  <a:pt x="3220" y="1106"/>
                </a:lnTo>
                <a:lnTo>
                  <a:pt x="3223" y="1111"/>
                </a:lnTo>
                <a:lnTo>
                  <a:pt x="3223" y="1118"/>
                </a:lnTo>
                <a:lnTo>
                  <a:pt x="3234" y="1120"/>
                </a:lnTo>
                <a:lnTo>
                  <a:pt x="3242" y="1120"/>
                </a:lnTo>
                <a:lnTo>
                  <a:pt x="3246" y="1125"/>
                </a:lnTo>
                <a:lnTo>
                  <a:pt x="3263" y="1123"/>
                </a:lnTo>
                <a:lnTo>
                  <a:pt x="3265" y="1125"/>
                </a:lnTo>
                <a:lnTo>
                  <a:pt x="3272" y="1125"/>
                </a:lnTo>
                <a:lnTo>
                  <a:pt x="3275" y="1134"/>
                </a:lnTo>
                <a:lnTo>
                  <a:pt x="3289" y="1130"/>
                </a:lnTo>
                <a:lnTo>
                  <a:pt x="3296" y="1130"/>
                </a:lnTo>
                <a:lnTo>
                  <a:pt x="3294" y="1123"/>
                </a:lnTo>
                <a:lnTo>
                  <a:pt x="3296" y="1120"/>
                </a:lnTo>
                <a:lnTo>
                  <a:pt x="3296" y="1113"/>
                </a:lnTo>
                <a:lnTo>
                  <a:pt x="3298" y="1111"/>
                </a:lnTo>
                <a:lnTo>
                  <a:pt x="3296" y="1104"/>
                </a:lnTo>
                <a:lnTo>
                  <a:pt x="3310" y="1092"/>
                </a:lnTo>
                <a:lnTo>
                  <a:pt x="3310" y="1078"/>
                </a:lnTo>
                <a:lnTo>
                  <a:pt x="3315" y="1070"/>
                </a:lnTo>
                <a:lnTo>
                  <a:pt x="3320" y="1070"/>
                </a:lnTo>
                <a:lnTo>
                  <a:pt x="3327" y="1070"/>
                </a:lnTo>
                <a:lnTo>
                  <a:pt x="3327" y="1068"/>
                </a:lnTo>
                <a:lnTo>
                  <a:pt x="3315" y="1054"/>
                </a:lnTo>
                <a:lnTo>
                  <a:pt x="3315" y="1052"/>
                </a:lnTo>
                <a:lnTo>
                  <a:pt x="3308" y="1037"/>
                </a:lnTo>
                <a:lnTo>
                  <a:pt x="3310" y="1030"/>
                </a:lnTo>
                <a:lnTo>
                  <a:pt x="3310" y="1025"/>
                </a:lnTo>
                <a:lnTo>
                  <a:pt x="3315" y="1025"/>
                </a:lnTo>
                <a:lnTo>
                  <a:pt x="3320" y="1023"/>
                </a:lnTo>
                <a:lnTo>
                  <a:pt x="3320" y="1018"/>
                </a:lnTo>
                <a:lnTo>
                  <a:pt x="3329" y="1014"/>
                </a:lnTo>
                <a:lnTo>
                  <a:pt x="3313" y="995"/>
                </a:lnTo>
                <a:lnTo>
                  <a:pt x="3303" y="992"/>
                </a:lnTo>
                <a:lnTo>
                  <a:pt x="3301" y="992"/>
                </a:lnTo>
                <a:lnTo>
                  <a:pt x="3291" y="1004"/>
                </a:lnTo>
                <a:lnTo>
                  <a:pt x="3284" y="1011"/>
                </a:lnTo>
                <a:lnTo>
                  <a:pt x="3279" y="1021"/>
                </a:lnTo>
                <a:close/>
                <a:moveTo>
                  <a:pt x="3466" y="1094"/>
                </a:moveTo>
                <a:lnTo>
                  <a:pt x="3483" y="1085"/>
                </a:lnTo>
                <a:lnTo>
                  <a:pt x="3502" y="1089"/>
                </a:lnTo>
                <a:lnTo>
                  <a:pt x="3504" y="1111"/>
                </a:lnTo>
                <a:lnTo>
                  <a:pt x="3516" y="1123"/>
                </a:lnTo>
                <a:lnTo>
                  <a:pt x="3528" y="1108"/>
                </a:lnTo>
                <a:lnTo>
                  <a:pt x="3544" y="1099"/>
                </a:lnTo>
                <a:lnTo>
                  <a:pt x="3568" y="1108"/>
                </a:lnTo>
                <a:lnTo>
                  <a:pt x="3592" y="1118"/>
                </a:lnTo>
                <a:lnTo>
                  <a:pt x="3637" y="1142"/>
                </a:lnTo>
                <a:lnTo>
                  <a:pt x="3639" y="1151"/>
                </a:lnTo>
                <a:lnTo>
                  <a:pt x="3663" y="1168"/>
                </a:lnTo>
                <a:lnTo>
                  <a:pt x="3653" y="1170"/>
                </a:lnTo>
                <a:lnTo>
                  <a:pt x="3665" y="1184"/>
                </a:lnTo>
                <a:lnTo>
                  <a:pt x="3677" y="1196"/>
                </a:lnTo>
                <a:lnTo>
                  <a:pt x="3684" y="1208"/>
                </a:lnTo>
                <a:lnTo>
                  <a:pt x="3694" y="1213"/>
                </a:lnTo>
                <a:lnTo>
                  <a:pt x="3694" y="1217"/>
                </a:lnTo>
                <a:lnTo>
                  <a:pt x="3691" y="1217"/>
                </a:lnTo>
                <a:lnTo>
                  <a:pt x="3689" y="1217"/>
                </a:lnTo>
                <a:lnTo>
                  <a:pt x="3679" y="1215"/>
                </a:lnTo>
                <a:lnTo>
                  <a:pt x="3668" y="1213"/>
                </a:lnTo>
                <a:lnTo>
                  <a:pt x="3658" y="1210"/>
                </a:lnTo>
                <a:lnTo>
                  <a:pt x="3651" y="1203"/>
                </a:lnTo>
                <a:lnTo>
                  <a:pt x="3623" y="1182"/>
                </a:lnTo>
                <a:lnTo>
                  <a:pt x="3615" y="1182"/>
                </a:lnTo>
                <a:lnTo>
                  <a:pt x="3611" y="1187"/>
                </a:lnTo>
                <a:lnTo>
                  <a:pt x="3606" y="1189"/>
                </a:lnTo>
                <a:lnTo>
                  <a:pt x="3608" y="1194"/>
                </a:lnTo>
                <a:lnTo>
                  <a:pt x="3608" y="1198"/>
                </a:lnTo>
                <a:lnTo>
                  <a:pt x="3608" y="1201"/>
                </a:lnTo>
                <a:lnTo>
                  <a:pt x="3582" y="1201"/>
                </a:lnTo>
                <a:lnTo>
                  <a:pt x="3568" y="1187"/>
                </a:lnTo>
                <a:lnTo>
                  <a:pt x="3556" y="1187"/>
                </a:lnTo>
                <a:lnTo>
                  <a:pt x="3549" y="1189"/>
                </a:lnTo>
                <a:lnTo>
                  <a:pt x="3547" y="1189"/>
                </a:lnTo>
                <a:lnTo>
                  <a:pt x="3542" y="1184"/>
                </a:lnTo>
                <a:lnTo>
                  <a:pt x="3552" y="1175"/>
                </a:lnTo>
                <a:lnTo>
                  <a:pt x="3556" y="1175"/>
                </a:lnTo>
                <a:lnTo>
                  <a:pt x="3556" y="1170"/>
                </a:lnTo>
                <a:lnTo>
                  <a:pt x="3547" y="1151"/>
                </a:lnTo>
                <a:lnTo>
                  <a:pt x="3530" y="1144"/>
                </a:lnTo>
                <a:lnTo>
                  <a:pt x="3511" y="1137"/>
                </a:lnTo>
                <a:lnTo>
                  <a:pt x="3495" y="1127"/>
                </a:lnTo>
                <a:lnTo>
                  <a:pt x="3495" y="1132"/>
                </a:lnTo>
                <a:lnTo>
                  <a:pt x="3488" y="1132"/>
                </a:lnTo>
                <a:lnTo>
                  <a:pt x="3485" y="1130"/>
                </a:lnTo>
                <a:lnTo>
                  <a:pt x="3485" y="1123"/>
                </a:lnTo>
                <a:lnTo>
                  <a:pt x="3476" y="1115"/>
                </a:lnTo>
                <a:lnTo>
                  <a:pt x="3483" y="1113"/>
                </a:lnTo>
                <a:lnTo>
                  <a:pt x="3490" y="1111"/>
                </a:lnTo>
                <a:lnTo>
                  <a:pt x="3497" y="1113"/>
                </a:lnTo>
                <a:lnTo>
                  <a:pt x="3497" y="1111"/>
                </a:lnTo>
                <a:lnTo>
                  <a:pt x="3481" y="1111"/>
                </a:lnTo>
                <a:lnTo>
                  <a:pt x="3476" y="1101"/>
                </a:lnTo>
                <a:lnTo>
                  <a:pt x="3462" y="1094"/>
                </a:lnTo>
                <a:lnTo>
                  <a:pt x="3466" y="1094"/>
                </a:lnTo>
                <a:close/>
                <a:moveTo>
                  <a:pt x="1095" y="9"/>
                </a:moveTo>
                <a:lnTo>
                  <a:pt x="1088" y="7"/>
                </a:lnTo>
                <a:lnTo>
                  <a:pt x="1079" y="7"/>
                </a:lnTo>
                <a:lnTo>
                  <a:pt x="1069" y="7"/>
                </a:lnTo>
                <a:lnTo>
                  <a:pt x="1060" y="7"/>
                </a:lnTo>
                <a:lnTo>
                  <a:pt x="1055" y="7"/>
                </a:lnTo>
                <a:lnTo>
                  <a:pt x="1050" y="9"/>
                </a:lnTo>
                <a:lnTo>
                  <a:pt x="1048" y="7"/>
                </a:lnTo>
                <a:lnTo>
                  <a:pt x="1043" y="7"/>
                </a:lnTo>
                <a:lnTo>
                  <a:pt x="1036" y="7"/>
                </a:lnTo>
                <a:lnTo>
                  <a:pt x="1029" y="7"/>
                </a:lnTo>
                <a:lnTo>
                  <a:pt x="1017" y="7"/>
                </a:lnTo>
                <a:lnTo>
                  <a:pt x="1008" y="9"/>
                </a:lnTo>
                <a:lnTo>
                  <a:pt x="1005" y="9"/>
                </a:lnTo>
                <a:lnTo>
                  <a:pt x="1003" y="11"/>
                </a:lnTo>
                <a:lnTo>
                  <a:pt x="998" y="11"/>
                </a:lnTo>
                <a:lnTo>
                  <a:pt x="994" y="11"/>
                </a:lnTo>
                <a:lnTo>
                  <a:pt x="991" y="14"/>
                </a:lnTo>
                <a:lnTo>
                  <a:pt x="989" y="19"/>
                </a:lnTo>
                <a:lnTo>
                  <a:pt x="975" y="14"/>
                </a:lnTo>
                <a:lnTo>
                  <a:pt x="960" y="14"/>
                </a:lnTo>
                <a:lnTo>
                  <a:pt x="951" y="14"/>
                </a:lnTo>
                <a:lnTo>
                  <a:pt x="942" y="16"/>
                </a:lnTo>
                <a:lnTo>
                  <a:pt x="942" y="19"/>
                </a:lnTo>
                <a:lnTo>
                  <a:pt x="932" y="19"/>
                </a:lnTo>
                <a:lnTo>
                  <a:pt x="923" y="19"/>
                </a:lnTo>
                <a:lnTo>
                  <a:pt x="913" y="19"/>
                </a:lnTo>
                <a:lnTo>
                  <a:pt x="901" y="21"/>
                </a:lnTo>
                <a:lnTo>
                  <a:pt x="892" y="21"/>
                </a:lnTo>
                <a:lnTo>
                  <a:pt x="885" y="26"/>
                </a:lnTo>
                <a:lnTo>
                  <a:pt x="889" y="26"/>
                </a:lnTo>
                <a:lnTo>
                  <a:pt x="897" y="26"/>
                </a:lnTo>
                <a:lnTo>
                  <a:pt x="897" y="28"/>
                </a:lnTo>
                <a:lnTo>
                  <a:pt x="901" y="28"/>
                </a:lnTo>
                <a:lnTo>
                  <a:pt x="904" y="28"/>
                </a:lnTo>
                <a:lnTo>
                  <a:pt x="904" y="30"/>
                </a:lnTo>
                <a:lnTo>
                  <a:pt x="904" y="33"/>
                </a:lnTo>
                <a:lnTo>
                  <a:pt x="906" y="33"/>
                </a:lnTo>
                <a:lnTo>
                  <a:pt x="911" y="33"/>
                </a:lnTo>
                <a:lnTo>
                  <a:pt x="911" y="35"/>
                </a:lnTo>
                <a:lnTo>
                  <a:pt x="916" y="38"/>
                </a:lnTo>
                <a:lnTo>
                  <a:pt x="920" y="38"/>
                </a:lnTo>
                <a:lnTo>
                  <a:pt x="920" y="40"/>
                </a:lnTo>
                <a:lnTo>
                  <a:pt x="920" y="42"/>
                </a:lnTo>
                <a:lnTo>
                  <a:pt x="916" y="42"/>
                </a:lnTo>
                <a:lnTo>
                  <a:pt x="913" y="42"/>
                </a:lnTo>
                <a:lnTo>
                  <a:pt x="913" y="40"/>
                </a:lnTo>
                <a:lnTo>
                  <a:pt x="911" y="38"/>
                </a:lnTo>
                <a:lnTo>
                  <a:pt x="885" y="33"/>
                </a:lnTo>
                <a:lnTo>
                  <a:pt x="863" y="28"/>
                </a:lnTo>
                <a:lnTo>
                  <a:pt x="861" y="28"/>
                </a:lnTo>
                <a:lnTo>
                  <a:pt x="859" y="28"/>
                </a:lnTo>
                <a:lnTo>
                  <a:pt x="856" y="28"/>
                </a:lnTo>
                <a:lnTo>
                  <a:pt x="856" y="33"/>
                </a:lnTo>
                <a:lnTo>
                  <a:pt x="849" y="33"/>
                </a:lnTo>
                <a:lnTo>
                  <a:pt x="842" y="33"/>
                </a:lnTo>
                <a:lnTo>
                  <a:pt x="840" y="33"/>
                </a:lnTo>
                <a:lnTo>
                  <a:pt x="837" y="35"/>
                </a:lnTo>
                <a:lnTo>
                  <a:pt x="835" y="35"/>
                </a:lnTo>
                <a:lnTo>
                  <a:pt x="830" y="40"/>
                </a:lnTo>
                <a:lnTo>
                  <a:pt x="823" y="45"/>
                </a:lnTo>
                <a:lnTo>
                  <a:pt x="823" y="47"/>
                </a:lnTo>
                <a:lnTo>
                  <a:pt x="830" y="52"/>
                </a:lnTo>
                <a:lnTo>
                  <a:pt x="837" y="54"/>
                </a:lnTo>
                <a:lnTo>
                  <a:pt x="842" y="54"/>
                </a:lnTo>
                <a:lnTo>
                  <a:pt x="847" y="54"/>
                </a:lnTo>
                <a:lnTo>
                  <a:pt x="852" y="56"/>
                </a:lnTo>
                <a:lnTo>
                  <a:pt x="859" y="56"/>
                </a:lnTo>
                <a:lnTo>
                  <a:pt x="856" y="59"/>
                </a:lnTo>
                <a:lnTo>
                  <a:pt x="856" y="64"/>
                </a:lnTo>
                <a:lnTo>
                  <a:pt x="863" y="64"/>
                </a:lnTo>
                <a:lnTo>
                  <a:pt x="871" y="66"/>
                </a:lnTo>
                <a:lnTo>
                  <a:pt x="887" y="71"/>
                </a:lnTo>
                <a:lnTo>
                  <a:pt x="908" y="68"/>
                </a:lnTo>
                <a:lnTo>
                  <a:pt x="911" y="71"/>
                </a:lnTo>
                <a:lnTo>
                  <a:pt x="913" y="71"/>
                </a:lnTo>
                <a:lnTo>
                  <a:pt x="916" y="71"/>
                </a:lnTo>
                <a:lnTo>
                  <a:pt x="918" y="71"/>
                </a:lnTo>
                <a:lnTo>
                  <a:pt x="918" y="68"/>
                </a:lnTo>
                <a:lnTo>
                  <a:pt x="918" y="66"/>
                </a:lnTo>
                <a:lnTo>
                  <a:pt x="920" y="66"/>
                </a:lnTo>
                <a:lnTo>
                  <a:pt x="925" y="66"/>
                </a:lnTo>
                <a:lnTo>
                  <a:pt x="925" y="64"/>
                </a:lnTo>
                <a:lnTo>
                  <a:pt x="925" y="61"/>
                </a:lnTo>
                <a:lnTo>
                  <a:pt x="927" y="61"/>
                </a:lnTo>
                <a:lnTo>
                  <a:pt x="927" y="64"/>
                </a:lnTo>
                <a:lnTo>
                  <a:pt x="930" y="64"/>
                </a:lnTo>
                <a:lnTo>
                  <a:pt x="932" y="64"/>
                </a:lnTo>
                <a:lnTo>
                  <a:pt x="932" y="68"/>
                </a:lnTo>
                <a:lnTo>
                  <a:pt x="930" y="71"/>
                </a:lnTo>
                <a:lnTo>
                  <a:pt x="934" y="71"/>
                </a:lnTo>
                <a:lnTo>
                  <a:pt x="939" y="71"/>
                </a:lnTo>
                <a:lnTo>
                  <a:pt x="944" y="71"/>
                </a:lnTo>
                <a:lnTo>
                  <a:pt x="946" y="68"/>
                </a:lnTo>
                <a:lnTo>
                  <a:pt x="951" y="73"/>
                </a:lnTo>
                <a:lnTo>
                  <a:pt x="956" y="78"/>
                </a:lnTo>
                <a:lnTo>
                  <a:pt x="949" y="75"/>
                </a:lnTo>
                <a:lnTo>
                  <a:pt x="939" y="73"/>
                </a:lnTo>
                <a:lnTo>
                  <a:pt x="934" y="73"/>
                </a:lnTo>
                <a:lnTo>
                  <a:pt x="932" y="73"/>
                </a:lnTo>
                <a:lnTo>
                  <a:pt x="930" y="73"/>
                </a:lnTo>
                <a:lnTo>
                  <a:pt x="925" y="73"/>
                </a:lnTo>
                <a:lnTo>
                  <a:pt x="925" y="75"/>
                </a:lnTo>
                <a:lnTo>
                  <a:pt x="925" y="80"/>
                </a:lnTo>
                <a:lnTo>
                  <a:pt x="927" y="80"/>
                </a:lnTo>
                <a:lnTo>
                  <a:pt x="930" y="80"/>
                </a:lnTo>
                <a:lnTo>
                  <a:pt x="918" y="85"/>
                </a:lnTo>
                <a:lnTo>
                  <a:pt x="906" y="87"/>
                </a:lnTo>
                <a:lnTo>
                  <a:pt x="904" y="87"/>
                </a:lnTo>
                <a:lnTo>
                  <a:pt x="901" y="85"/>
                </a:lnTo>
                <a:lnTo>
                  <a:pt x="899" y="87"/>
                </a:lnTo>
                <a:lnTo>
                  <a:pt x="897" y="92"/>
                </a:lnTo>
                <a:lnTo>
                  <a:pt x="892" y="90"/>
                </a:lnTo>
                <a:lnTo>
                  <a:pt x="889" y="87"/>
                </a:lnTo>
                <a:lnTo>
                  <a:pt x="882" y="87"/>
                </a:lnTo>
                <a:lnTo>
                  <a:pt x="875" y="87"/>
                </a:lnTo>
                <a:lnTo>
                  <a:pt x="868" y="90"/>
                </a:lnTo>
                <a:lnTo>
                  <a:pt x="863" y="90"/>
                </a:lnTo>
                <a:lnTo>
                  <a:pt x="863" y="87"/>
                </a:lnTo>
                <a:lnTo>
                  <a:pt x="861" y="85"/>
                </a:lnTo>
                <a:lnTo>
                  <a:pt x="845" y="85"/>
                </a:lnTo>
                <a:lnTo>
                  <a:pt x="828" y="83"/>
                </a:lnTo>
                <a:lnTo>
                  <a:pt x="826" y="85"/>
                </a:lnTo>
                <a:lnTo>
                  <a:pt x="823" y="90"/>
                </a:lnTo>
                <a:lnTo>
                  <a:pt x="835" y="94"/>
                </a:lnTo>
                <a:lnTo>
                  <a:pt x="845" y="97"/>
                </a:lnTo>
                <a:lnTo>
                  <a:pt x="847" y="97"/>
                </a:lnTo>
                <a:lnTo>
                  <a:pt x="849" y="97"/>
                </a:lnTo>
                <a:lnTo>
                  <a:pt x="863" y="94"/>
                </a:lnTo>
                <a:lnTo>
                  <a:pt x="875" y="101"/>
                </a:lnTo>
                <a:lnTo>
                  <a:pt x="875" y="106"/>
                </a:lnTo>
                <a:lnTo>
                  <a:pt x="873" y="109"/>
                </a:lnTo>
                <a:lnTo>
                  <a:pt x="878" y="113"/>
                </a:lnTo>
                <a:lnTo>
                  <a:pt x="882" y="116"/>
                </a:lnTo>
                <a:lnTo>
                  <a:pt x="901" y="116"/>
                </a:lnTo>
                <a:lnTo>
                  <a:pt x="920" y="116"/>
                </a:lnTo>
                <a:lnTo>
                  <a:pt x="920" y="113"/>
                </a:lnTo>
                <a:lnTo>
                  <a:pt x="920" y="116"/>
                </a:lnTo>
                <a:lnTo>
                  <a:pt x="920" y="118"/>
                </a:lnTo>
                <a:lnTo>
                  <a:pt x="937" y="118"/>
                </a:lnTo>
                <a:lnTo>
                  <a:pt x="956" y="118"/>
                </a:lnTo>
                <a:lnTo>
                  <a:pt x="968" y="118"/>
                </a:lnTo>
                <a:lnTo>
                  <a:pt x="977" y="118"/>
                </a:lnTo>
                <a:lnTo>
                  <a:pt x="977" y="116"/>
                </a:lnTo>
                <a:lnTo>
                  <a:pt x="977" y="113"/>
                </a:lnTo>
                <a:lnTo>
                  <a:pt x="979" y="113"/>
                </a:lnTo>
                <a:lnTo>
                  <a:pt x="982" y="113"/>
                </a:lnTo>
                <a:lnTo>
                  <a:pt x="984" y="118"/>
                </a:lnTo>
                <a:lnTo>
                  <a:pt x="991" y="118"/>
                </a:lnTo>
                <a:lnTo>
                  <a:pt x="1003" y="118"/>
                </a:lnTo>
                <a:lnTo>
                  <a:pt x="1013" y="116"/>
                </a:lnTo>
                <a:lnTo>
                  <a:pt x="1020" y="116"/>
                </a:lnTo>
                <a:lnTo>
                  <a:pt x="1024" y="113"/>
                </a:lnTo>
                <a:lnTo>
                  <a:pt x="1024" y="111"/>
                </a:lnTo>
                <a:lnTo>
                  <a:pt x="1022" y="111"/>
                </a:lnTo>
                <a:lnTo>
                  <a:pt x="1022" y="106"/>
                </a:lnTo>
                <a:lnTo>
                  <a:pt x="1022" y="104"/>
                </a:lnTo>
                <a:lnTo>
                  <a:pt x="1010" y="101"/>
                </a:lnTo>
                <a:lnTo>
                  <a:pt x="996" y="99"/>
                </a:lnTo>
                <a:lnTo>
                  <a:pt x="987" y="99"/>
                </a:lnTo>
                <a:lnTo>
                  <a:pt x="977" y="99"/>
                </a:lnTo>
                <a:lnTo>
                  <a:pt x="958" y="101"/>
                </a:lnTo>
                <a:lnTo>
                  <a:pt x="944" y="104"/>
                </a:lnTo>
                <a:lnTo>
                  <a:pt x="927" y="104"/>
                </a:lnTo>
                <a:lnTo>
                  <a:pt x="908" y="104"/>
                </a:lnTo>
                <a:lnTo>
                  <a:pt x="908" y="101"/>
                </a:lnTo>
                <a:lnTo>
                  <a:pt x="908" y="99"/>
                </a:lnTo>
                <a:lnTo>
                  <a:pt x="906" y="99"/>
                </a:lnTo>
                <a:lnTo>
                  <a:pt x="906" y="97"/>
                </a:lnTo>
                <a:lnTo>
                  <a:pt x="908" y="92"/>
                </a:lnTo>
                <a:lnTo>
                  <a:pt x="906" y="92"/>
                </a:lnTo>
                <a:lnTo>
                  <a:pt x="906" y="90"/>
                </a:lnTo>
                <a:lnTo>
                  <a:pt x="908" y="92"/>
                </a:lnTo>
                <a:lnTo>
                  <a:pt x="911" y="92"/>
                </a:lnTo>
                <a:lnTo>
                  <a:pt x="923" y="92"/>
                </a:lnTo>
                <a:lnTo>
                  <a:pt x="934" y="94"/>
                </a:lnTo>
                <a:lnTo>
                  <a:pt x="942" y="94"/>
                </a:lnTo>
                <a:lnTo>
                  <a:pt x="951" y="94"/>
                </a:lnTo>
                <a:lnTo>
                  <a:pt x="977" y="94"/>
                </a:lnTo>
                <a:lnTo>
                  <a:pt x="1005" y="92"/>
                </a:lnTo>
                <a:lnTo>
                  <a:pt x="1005" y="94"/>
                </a:lnTo>
                <a:lnTo>
                  <a:pt x="1005" y="97"/>
                </a:lnTo>
                <a:lnTo>
                  <a:pt x="1036" y="92"/>
                </a:lnTo>
                <a:lnTo>
                  <a:pt x="1029" y="85"/>
                </a:lnTo>
                <a:lnTo>
                  <a:pt x="1027" y="85"/>
                </a:lnTo>
                <a:lnTo>
                  <a:pt x="1024" y="80"/>
                </a:lnTo>
                <a:lnTo>
                  <a:pt x="1031" y="80"/>
                </a:lnTo>
                <a:lnTo>
                  <a:pt x="1036" y="80"/>
                </a:lnTo>
                <a:lnTo>
                  <a:pt x="1041" y="80"/>
                </a:lnTo>
                <a:lnTo>
                  <a:pt x="1041" y="73"/>
                </a:lnTo>
                <a:lnTo>
                  <a:pt x="1050" y="73"/>
                </a:lnTo>
                <a:lnTo>
                  <a:pt x="1062" y="73"/>
                </a:lnTo>
                <a:lnTo>
                  <a:pt x="1069" y="71"/>
                </a:lnTo>
                <a:lnTo>
                  <a:pt x="1072" y="66"/>
                </a:lnTo>
                <a:lnTo>
                  <a:pt x="1074" y="66"/>
                </a:lnTo>
                <a:lnTo>
                  <a:pt x="1076" y="66"/>
                </a:lnTo>
                <a:lnTo>
                  <a:pt x="1079" y="66"/>
                </a:lnTo>
                <a:lnTo>
                  <a:pt x="1081" y="64"/>
                </a:lnTo>
                <a:lnTo>
                  <a:pt x="1081" y="61"/>
                </a:lnTo>
                <a:lnTo>
                  <a:pt x="1079" y="61"/>
                </a:lnTo>
                <a:lnTo>
                  <a:pt x="1088" y="54"/>
                </a:lnTo>
                <a:lnTo>
                  <a:pt x="1095" y="49"/>
                </a:lnTo>
                <a:lnTo>
                  <a:pt x="1102" y="49"/>
                </a:lnTo>
                <a:lnTo>
                  <a:pt x="1107" y="52"/>
                </a:lnTo>
                <a:lnTo>
                  <a:pt x="1112" y="52"/>
                </a:lnTo>
                <a:lnTo>
                  <a:pt x="1114" y="52"/>
                </a:lnTo>
                <a:lnTo>
                  <a:pt x="1119" y="49"/>
                </a:lnTo>
                <a:lnTo>
                  <a:pt x="1126" y="47"/>
                </a:lnTo>
                <a:lnTo>
                  <a:pt x="1126" y="45"/>
                </a:lnTo>
                <a:lnTo>
                  <a:pt x="1128" y="42"/>
                </a:lnTo>
                <a:lnTo>
                  <a:pt x="1128" y="45"/>
                </a:lnTo>
                <a:lnTo>
                  <a:pt x="1159" y="35"/>
                </a:lnTo>
                <a:lnTo>
                  <a:pt x="1192" y="28"/>
                </a:lnTo>
                <a:lnTo>
                  <a:pt x="1190" y="28"/>
                </a:lnTo>
                <a:lnTo>
                  <a:pt x="1190" y="26"/>
                </a:lnTo>
                <a:lnTo>
                  <a:pt x="1211" y="21"/>
                </a:lnTo>
                <a:lnTo>
                  <a:pt x="1235" y="19"/>
                </a:lnTo>
                <a:lnTo>
                  <a:pt x="1225" y="14"/>
                </a:lnTo>
                <a:lnTo>
                  <a:pt x="1209" y="9"/>
                </a:lnTo>
                <a:lnTo>
                  <a:pt x="1192" y="9"/>
                </a:lnTo>
                <a:lnTo>
                  <a:pt x="1178" y="9"/>
                </a:lnTo>
                <a:lnTo>
                  <a:pt x="1176" y="9"/>
                </a:lnTo>
                <a:lnTo>
                  <a:pt x="1171" y="9"/>
                </a:lnTo>
                <a:lnTo>
                  <a:pt x="1171" y="7"/>
                </a:lnTo>
                <a:lnTo>
                  <a:pt x="1164" y="7"/>
                </a:lnTo>
                <a:lnTo>
                  <a:pt x="1155" y="7"/>
                </a:lnTo>
                <a:lnTo>
                  <a:pt x="1128" y="4"/>
                </a:lnTo>
                <a:lnTo>
                  <a:pt x="1105" y="4"/>
                </a:lnTo>
                <a:lnTo>
                  <a:pt x="1102" y="4"/>
                </a:lnTo>
                <a:lnTo>
                  <a:pt x="1098" y="7"/>
                </a:lnTo>
                <a:lnTo>
                  <a:pt x="1095" y="9"/>
                </a:lnTo>
                <a:close/>
                <a:moveTo>
                  <a:pt x="1609" y="0"/>
                </a:moveTo>
                <a:lnTo>
                  <a:pt x="1566" y="0"/>
                </a:lnTo>
                <a:lnTo>
                  <a:pt x="1521" y="0"/>
                </a:lnTo>
                <a:lnTo>
                  <a:pt x="1512" y="0"/>
                </a:lnTo>
                <a:lnTo>
                  <a:pt x="1495" y="4"/>
                </a:lnTo>
                <a:lnTo>
                  <a:pt x="1491" y="4"/>
                </a:lnTo>
                <a:lnTo>
                  <a:pt x="1483" y="2"/>
                </a:lnTo>
                <a:lnTo>
                  <a:pt x="1464" y="2"/>
                </a:lnTo>
                <a:lnTo>
                  <a:pt x="1446" y="2"/>
                </a:lnTo>
                <a:lnTo>
                  <a:pt x="1424" y="4"/>
                </a:lnTo>
                <a:lnTo>
                  <a:pt x="1408" y="9"/>
                </a:lnTo>
                <a:lnTo>
                  <a:pt x="1405" y="9"/>
                </a:lnTo>
                <a:lnTo>
                  <a:pt x="1401" y="9"/>
                </a:lnTo>
                <a:lnTo>
                  <a:pt x="1398" y="11"/>
                </a:lnTo>
                <a:lnTo>
                  <a:pt x="1398" y="14"/>
                </a:lnTo>
                <a:lnTo>
                  <a:pt x="1412" y="19"/>
                </a:lnTo>
                <a:lnTo>
                  <a:pt x="1427" y="21"/>
                </a:lnTo>
                <a:lnTo>
                  <a:pt x="1391" y="16"/>
                </a:lnTo>
                <a:lnTo>
                  <a:pt x="1356" y="11"/>
                </a:lnTo>
                <a:lnTo>
                  <a:pt x="1356" y="14"/>
                </a:lnTo>
                <a:lnTo>
                  <a:pt x="1353" y="16"/>
                </a:lnTo>
                <a:lnTo>
                  <a:pt x="1356" y="19"/>
                </a:lnTo>
                <a:lnTo>
                  <a:pt x="1360" y="21"/>
                </a:lnTo>
                <a:lnTo>
                  <a:pt x="1346" y="19"/>
                </a:lnTo>
                <a:lnTo>
                  <a:pt x="1334" y="16"/>
                </a:lnTo>
                <a:lnTo>
                  <a:pt x="1332" y="16"/>
                </a:lnTo>
                <a:lnTo>
                  <a:pt x="1330" y="16"/>
                </a:lnTo>
                <a:lnTo>
                  <a:pt x="1330" y="21"/>
                </a:lnTo>
                <a:lnTo>
                  <a:pt x="1327" y="21"/>
                </a:lnTo>
                <a:lnTo>
                  <a:pt x="1325" y="21"/>
                </a:lnTo>
                <a:lnTo>
                  <a:pt x="1325" y="19"/>
                </a:lnTo>
                <a:lnTo>
                  <a:pt x="1323" y="16"/>
                </a:lnTo>
                <a:lnTo>
                  <a:pt x="1318" y="16"/>
                </a:lnTo>
                <a:lnTo>
                  <a:pt x="1313" y="14"/>
                </a:lnTo>
                <a:lnTo>
                  <a:pt x="1287" y="16"/>
                </a:lnTo>
                <a:lnTo>
                  <a:pt x="1261" y="21"/>
                </a:lnTo>
                <a:lnTo>
                  <a:pt x="1247" y="21"/>
                </a:lnTo>
                <a:lnTo>
                  <a:pt x="1235" y="26"/>
                </a:lnTo>
                <a:lnTo>
                  <a:pt x="1228" y="30"/>
                </a:lnTo>
                <a:lnTo>
                  <a:pt x="1214" y="28"/>
                </a:lnTo>
                <a:lnTo>
                  <a:pt x="1214" y="30"/>
                </a:lnTo>
                <a:lnTo>
                  <a:pt x="1214" y="33"/>
                </a:lnTo>
                <a:lnTo>
                  <a:pt x="1209" y="33"/>
                </a:lnTo>
                <a:lnTo>
                  <a:pt x="1204" y="33"/>
                </a:lnTo>
                <a:lnTo>
                  <a:pt x="1202" y="33"/>
                </a:lnTo>
                <a:lnTo>
                  <a:pt x="1192" y="33"/>
                </a:lnTo>
                <a:lnTo>
                  <a:pt x="1183" y="38"/>
                </a:lnTo>
                <a:lnTo>
                  <a:pt x="1173" y="38"/>
                </a:lnTo>
                <a:lnTo>
                  <a:pt x="1169" y="47"/>
                </a:lnTo>
                <a:lnTo>
                  <a:pt x="1181" y="47"/>
                </a:lnTo>
                <a:lnTo>
                  <a:pt x="1192" y="47"/>
                </a:lnTo>
                <a:lnTo>
                  <a:pt x="1176" y="56"/>
                </a:lnTo>
                <a:lnTo>
                  <a:pt x="1147" y="59"/>
                </a:lnTo>
                <a:lnTo>
                  <a:pt x="1145" y="61"/>
                </a:lnTo>
                <a:lnTo>
                  <a:pt x="1131" y="61"/>
                </a:lnTo>
                <a:lnTo>
                  <a:pt x="1121" y="64"/>
                </a:lnTo>
                <a:lnTo>
                  <a:pt x="1107" y="64"/>
                </a:lnTo>
                <a:lnTo>
                  <a:pt x="1102" y="73"/>
                </a:lnTo>
                <a:lnTo>
                  <a:pt x="1119" y="75"/>
                </a:lnTo>
                <a:lnTo>
                  <a:pt x="1138" y="80"/>
                </a:lnTo>
                <a:lnTo>
                  <a:pt x="1140" y="80"/>
                </a:lnTo>
                <a:lnTo>
                  <a:pt x="1147" y="80"/>
                </a:lnTo>
                <a:lnTo>
                  <a:pt x="1152" y="78"/>
                </a:lnTo>
                <a:lnTo>
                  <a:pt x="1152" y="80"/>
                </a:lnTo>
                <a:lnTo>
                  <a:pt x="1138" y="80"/>
                </a:lnTo>
                <a:lnTo>
                  <a:pt x="1121" y="83"/>
                </a:lnTo>
                <a:lnTo>
                  <a:pt x="1121" y="85"/>
                </a:lnTo>
                <a:lnTo>
                  <a:pt x="1121" y="87"/>
                </a:lnTo>
                <a:lnTo>
                  <a:pt x="1133" y="90"/>
                </a:lnTo>
                <a:lnTo>
                  <a:pt x="1143" y="90"/>
                </a:lnTo>
                <a:lnTo>
                  <a:pt x="1143" y="92"/>
                </a:lnTo>
                <a:lnTo>
                  <a:pt x="1140" y="94"/>
                </a:lnTo>
                <a:lnTo>
                  <a:pt x="1147" y="97"/>
                </a:lnTo>
                <a:lnTo>
                  <a:pt x="1155" y="99"/>
                </a:lnTo>
                <a:lnTo>
                  <a:pt x="1181" y="97"/>
                </a:lnTo>
                <a:lnTo>
                  <a:pt x="1207" y="97"/>
                </a:lnTo>
                <a:lnTo>
                  <a:pt x="1237" y="99"/>
                </a:lnTo>
                <a:lnTo>
                  <a:pt x="1266" y="104"/>
                </a:lnTo>
                <a:lnTo>
                  <a:pt x="1275" y="111"/>
                </a:lnTo>
                <a:lnTo>
                  <a:pt x="1289" y="118"/>
                </a:lnTo>
                <a:lnTo>
                  <a:pt x="1287" y="120"/>
                </a:lnTo>
                <a:lnTo>
                  <a:pt x="1285" y="123"/>
                </a:lnTo>
                <a:lnTo>
                  <a:pt x="1287" y="123"/>
                </a:lnTo>
                <a:lnTo>
                  <a:pt x="1292" y="123"/>
                </a:lnTo>
                <a:lnTo>
                  <a:pt x="1296" y="125"/>
                </a:lnTo>
                <a:lnTo>
                  <a:pt x="1296" y="132"/>
                </a:lnTo>
                <a:lnTo>
                  <a:pt x="1299" y="132"/>
                </a:lnTo>
                <a:lnTo>
                  <a:pt x="1301" y="135"/>
                </a:lnTo>
                <a:lnTo>
                  <a:pt x="1299" y="137"/>
                </a:lnTo>
                <a:lnTo>
                  <a:pt x="1294" y="139"/>
                </a:lnTo>
                <a:lnTo>
                  <a:pt x="1294" y="142"/>
                </a:lnTo>
                <a:lnTo>
                  <a:pt x="1299" y="144"/>
                </a:lnTo>
                <a:lnTo>
                  <a:pt x="1304" y="146"/>
                </a:lnTo>
                <a:lnTo>
                  <a:pt x="1301" y="151"/>
                </a:lnTo>
                <a:lnTo>
                  <a:pt x="1301" y="154"/>
                </a:lnTo>
                <a:lnTo>
                  <a:pt x="1304" y="158"/>
                </a:lnTo>
                <a:lnTo>
                  <a:pt x="1308" y="158"/>
                </a:lnTo>
                <a:lnTo>
                  <a:pt x="1311" y="158"/>
                </a:lnTo>
                <a:lnTo>
                  <a:pt x="1313" y="158"/>
                </a:lnTo>
                <a:lnTo>
                  <a:pt x="1320" y="158"/>
                </a:lnTo>
                <a:lnTo>
                  <a:pt x="1325" y="151"/>
                </a:lnTo>
                <a:lnTo>
                  <a:pt x="1327" y="151"/>
                </a:lnTo>
                <a:lnTo>
                  <a:pt x="1327" y="156"/>
                </a:lnTo>
                <a:lnTo>
                  <a:pt x="1330" y="156"/>
                </a:lnTo>
                <a:lnTo>
                  <a:pt x="1332" y="156"/>
                </a:lnTo>
                <a:lnTo>
                  <a:pt x="1332" y="158"/>
                </a:lnTo>
                <a:lnTo>
                  <a:pt x="1332" y="163"/>
                </a:lnTo>
                <a:lnTo>
                  <a:pt x="1339" y="163"/>
                </a:lnTo>
                <a:lnTo>
                  <a:pt x="1346" y="163"/>
                </a:lnTo>
                <a:lnTo>
                  <a:pt x="1349" y="165"/>
                </a:lnTo>
                <a:lnTo>
                  <a:pt x="1351" y="168"/>
                </a:lnTo>
                <a:lnTo>
                  <a:pt x="1332" y="165"/>
                </a:lnTo>
                <a:lnTo>
                  <a:pt x="1313" y="163"/>
                </a:lnTo>
                <a:lnTo>
                  <a:pt x="1313" y="165"/>
                </a:lnTo>
                <a:lnTo>
                  <a:pt x="1315" y="168"/>
                </a:lnTo>
                <a:lnTo>
                  <a:pt x="1315" y="170"/>
                </a:lnTo>
                <a:lnTo>
                  <a:pt x="1311" y="173"/>
                </a:lnTo>
                <a:lnTo>
                  <a:pt x="1308" y="180"/>
                </a:lnTo>
                <a:lnTo>
                  <a:pt x="1311" y="182"/>
                </a:lnTo>
                <a:lnTo>
                  <a:pt x="1313" y="182"/>
                </a:lnTo>
                <a:lnTo>
                  <a:pt x="1315" y="182"/>
                </a:lnTo>
                <a:lnTo>
                  <a:pt x="1318" y="182"/>
                </a:lnTo>
                <a:lnTo>
                  <a:pt x="1318" y="184"/>
                </a:lnTo>
                <a:lnTo>
                  <a:pt x="1318" y="187"/>
                </a:lnTo>
                <a:lnTo>
                  <a:pt x="1330" y="184"/>
                </a:lnTo>
                <a:lnTo>
                  <a:pt x="1341" y="184"/>
                </a:lnTo>
                <a:lnTo>
                  <a:pt x="1341" y="180"/>
                </a:lnTo>
                <a:lnTo>
                  <a:pt x="1341" y="177"/>
                </a:lnTo>
                <a:lnTo>
                  <a:pt x="1346" y="177"/>
                </a:lnTo>
                <a:lnTo>
                  <a:pt x="1351" y="177"/>
                </a:lnTo>
                <a:lnTo>
                  <a:pt x="1351" y="180"/>
                </a:lnTo>
                <a:lnTo>
                  <a:pt x="1351" y="182"/>
                </a:lnTo>
                <a:lnTo>
                  <a:pt x="1353" y="182"/>
                </a:lnTo>
                <a:lnTo>
                  <a:pt x="1356" y="182"/>
                </a:lnTo>
                <a:lnTo>
                  <a:pt x="1356" y="184"/>
                </a:lnTo>
                <a:lnTo>
                  <a:pt x="1356" y="187"/>
                </a:lnTo>
                <a:lnTo>
                  <a:pt x="1353" y="189"/>
                </a:lnTo>
                <a:lnTo>
                  <a:pt x="1351" y="191"/>
                </a:lnTo>
                <a:lnTo>
                  <a:pt x="1337" y="191"/>
                </a:lnTo>
                <a:lnTo>
                  <a:pt x="1327" y="196"/>
                </a:lnTo>
                <a:lnTo>
                  <a:pt x="1327" y="199"/>
                </a:lnTo>
                <a:lnTo>
                  <a:pt x="1325" y="201"/>
                </a:lnTo>
                <a:lnTo>
                  <a:pt x="1325" y="203"/>
                </a:lnTo>
                <a:lnTo>
                  <a:pt x="1325" y="206"/>
                </a:lnTo>
                <a:lnTo>
                  <a:pt x="1325" y="208"/>
                </a:lnTo>
                <a:lnTo>
                  <a:pt x="1323" y="208"/>
                </a:lnTo>
                <a:lnTo>
                  <a:pt x="1320" y="210"/>
                </a:lnTo>
                <a:lnTo>
                  <a:pt x="1323" y="215"/>
                </a:lnTo>
                <a:lnTo>
                  <a:pt x="1327" y="215"/>
                </a:lnTo>
                <a:lnTo>
                  <a:pt x="1325" y="220"/>
                </a:lnTo>
                <a:lnTo>
                  <a:pt x="1323" y="225"/>
                </a:lnTo>
                <a:lnTo>
                  <a:pt x="1325" y="225"/>
                </a:lnTo>
                <a:lnTo>
                  <a:pt x="1330" y="225"/>
                </a:lnTo>
                <a:lnTo>
                  <a:pt x="1330" y="229"/>
                </a:lnTo>
                <a:lnTo>
                  <a:pt x="1330" y="234"/>
                </a:lnTo>
                <a:lnTo>
                  <a:pt x="1334" y="234"/>
                </a:lnTo>
                <a:lnTo>
                  <a:pt x="1339" y="234"/>
                </a:lnTo>
                <a:lnTo>
                  <a:pt x="1339" y="241"/>
                </a:lnTo>
                <a:lnTo>
                  <a:pt x="1341" y="248"/>
                </a:lnTo>
                <a:lnTo>
                  <a:pt x="1346" y="251"/>
                </a:lnTo>
                <a:lnTo>
                  <a:pt x="1349" y="260"/>
                </a:lnTo>
                <a:lnTo>
                  <a:pt x="1360" y="270"/>
                </a:lnTo>
                <a:lnTo>
                  <a:pt x="1370" y="277"/>
                </a:lnTo>
                <a:lnTo>
                  <a:pt x="1377" y="289"/>
                </a:lnTo>
                <a:lnTo>
                  <a:pt x="1389" y="293"/>
                </a:lnTo>
                <a:lnTo>
                  <a:pt x="1389" y="296"/>
                </a:lnTo>
                <a:lnTo>
                  <a:pt x="1398" y="296"/>
                </a:lnTo>
                <a:lnTo>
                  <a:pt x="1410" y="296"/>
                </a:lnTo>
                <a:lnTo>
                  <a:pt x="1410" y="293"/>
                </a:lnTo>
                <a:lnTo>
                  <a:pt x="1410" y="296"/>
                </a:lnTo>
                <a:lnTo>
                  <a:pt x="1410" y="298"/>
                </a:lnTo>
                <a:lnTo>
                  <a:pt x="1415" y="298"/>
                </a:lnTo>
                <a:lnTo>
                  <a:pt x="1417" y="300"/>
                </a:lnTo>
                <a:lnTo>
                  <a:pt x="1420" y="300"/>
                </a:lnTo>
                <a:lnTo>
                  <a:pt x="1422" y="300"/>
                </a:lnTo>
                <a:lnTo>
                  <a:pt x="1422" y="303"/>
                </a:lnTo>
                <a:lnTo>
                  <a:pt x="1422" y="305"/>
                </a:lnTo>
                <a:lnTo>
                  <a:pt x="1429" y="308"/>
                </a:lnTo>
                <a:lnTo>
                  <a:pt x="1434" y="308"/>
                </a:lnTo>
                <a:lnTo>
                  <a:pt x="1443" y="308"/>
                </a:lnTo>
                <a:lnTo>
                  <a:pt x="1446" y="300"/>
                </a:lnTo>
                <a:lnTo>
                  <a:pt x="1453" y="291"/>
                </a:lnTo>
                <a:lnTo>
                  <a:pt x="1457" y="279"/>
                </a:lnTo>
                <a:lnTo>
                  <a:pt x="1457" y="274"/>
                </a:lnTo>
                <a:lnTo>
                  <a:pt x="1457" y="272"/>
                </a:lnTo>
                <a:lnTo>
                  <a:pt x="1460" y="270"/>
                </a:lnTo>
                <a:lnTo>
                  <a:pt x="1462" y="267"/>
                </a:lnTo>
                <a:lnTo>
                  <a:pt x="1472" y="263"/>
                </a:lnTo>
                <a:lnTo>
                  <a:pt x="1474" y="251"/>
                </a:lnTo>
                <a:lnTo>
                  <a:pt x="1476" y="248"/>
                </a:lnTo>
                <a:lnTo>
                  <a:pt x="1479" y="246"/>
                </a:lnTo>
                <a:lnTo>
                  <a:pt x="1476" y="244"/>
                </a:lnTo>
                <a:lnTo>
                  <a:pt x="1476" y="241"/>
                </a:lnTo>
                <a:lnTo>
                  <a:pt x="1479" y="241"/>
                </a:lnTo>
                <a:lnTo>
                  <a:pt x="1483" y="241"/>
                </a:lnTo>
                <a:lnTo>
                  <a:pt x="1483" y="237"/>
                </a:lnTo>
                <a:lnTo>
                  <a:pt x="1486" y="234"/>
                </a:lnTo>
                <a:lnTo>
                  <a:pt x="1491" y="234"/>
                </a:lnTo>
                <a:lnTo>
                  <a:pt x="1498" y="234"/>
                </a:lnTo>
                <a:lnTo>
                  <a:pt x="1502" y="229"/>
                </a:lnTo>
                <a:lnTo>
                  <a:pt x="1509" y="222"/>
                </a:lnTo>
                <a:lnTo>
                  <a:pt x="1507" y="227"/>
                </a:lnTo>
                <a:lnTo>
                  <a:pt x="1505" y="234"/>
                </a:lnTo>
                <a:lnTo>
                  <a:pt x="1512" y="232"/>
                </a:lnTo>
                <a:lnTo>
                  <a:pt x="1519" y="232"/>
                </a:lnTo>
                <a:lnTo>
                  <a:pt x="1521" y="229"/>
                </a:lnTo>
                <a:lnTo>
                  <a:pt x="1524" y="229"/>
                </a:lnTo>
                <a:lnTo>
                  <a:pt x="1526" y="229"/>
                </a:lnTo>
                <a:lnTo>
                  <a:pt x="1531" y="229"/>
                </a:lnTo>
                <a:lnTo>
                  <a:pt x="1533" y="227"/>
                </a:lnTo>
                <a:lnTo>
                  <a:pt x="1533" y="225"/>
                </a:lnTo>
                <a:lnTo>
                  <a:pt x="1554" y="215"/>
                </a:lnTo>
                <a:lnTo>
                  <a:pt x="1571" y="203"/>
                </a:lnTo>
                <a:lnTo>
                  <a:pt x="1571" y="201"/>
                </a:lnTo>
                <a:lnTo>
                  <a:pt x="1571" y="199"/>
                </a:lnTo>
                <a:lnTo>
                  <a:pt x="1578" y="201"/>
                </a:lnTo>
                <a:lnTo>
                  <a:pt x="1585" y="201"/>
                </a:lnTo>
                <a:lnTo>
                  <a:pt x="1611" y="199"/>
                </a:lnTo>
                <a:lnTo>
                  <a:pt x="1640" y="194"/>
                </a:lnTo>
                <a:lnTo>
                  <a:pt x="1651" y="189"/>
                </a:lnTo>
                <a:lnTo>
                  <a:pt x="1663" y="184"/>
                </a:lnTo>
                <a:lnTo>
                  <a:pt x="1675" y="180"/>
                </a:lnTo>
                <a:lnTo>
                  <a:pt x="1687" y="173"/>
                </a:lnTo>
                <a:lnTo>
                  <a:pt x="1668" y="173"/>
                </a:lnTo>
                <a:lnTo>
                  <a:pt x="1649" y="170"/>
                </a:lnTo>
                <a:lnTo>
                  <a:pt x="1642" y="173"/>
                </a:lnTo>
                <a:lnTo>
                  <a:pt x="1635" y="173"/>
                </a:lnTo>
                <a:lnTo>
                  <a:pt x="1644" y="170"/>
                </a:lnTo>
                <a:lnTo>
                  <a:pt x="1651" y="163"/>
                </a:lnTo>
                <a:lnTo>
                  <a:pt x="1649" y="161"/>
                </a:lnTo>
                <a:lnTo>
                  <a:pt x="1647" y="161"/>
                </a:lnTo>
                <a:lnTo>
                  <a:pt x="1649" y="158"/>
                </a:lnTo>
                <a:lnTo>
                  <a:pt x="1651" y="158"/>
                </a:lnTo>
                <a:lnTo>
                  <a:pt x="1663" y="165"/>
                </a:lnTo>
                <a:lnTo>
                  <a:pt x="1675" y="170"/>
                </a:lnTo>
                <a:lnTo>
                  <a:pt x="1677" y="170"/>
                </a:lnTo>
                <a:lnTo>
                  <a:pt x="1680" y="170"/>
                </a:lnTo>
                <a:lnTo>
                  <a:pt x="1685" y="170"/>
                </a:lnTo>
                <a:lnTo>
                  <a:pt x="1689" y="170"/>
                </a:lnTo>
                <a:lnTo>
                  <a:pt x="1694" y="170"/>
                </a:lnTo>
                <a:lnTo>
                  <a:pt x="1696" y="170"/>
                </a:lnTo>
                <a:lnTo>
                  <a:pt x="1696" y="163"/>
                </a:lnTo>
                <a:lnTo>
                  <a:pt x="1694" y="156"/>
                </a:lnTo>
                <a:lnTo>
                  <a:pt x="1692" y="156"/>
                </a:lnTo>
                <a:lnTo>
                  <a:pt x="1689" y="156"/>
                </a:lnTo>
                <a:lnTo>
                  <a:pt x="1689" y="154"/>
                </a:lnTo>
                <a:lnTo>
                  <a:pt x="1692" y="151"/>
                </a:lnTo>
                <a:lnTo>
                  <a:pt x="1673" y="149"/>
                </a:lnTo>
                <a:lnTo>
                  <a:pt x="1661" y="139"/>
                </a:lnTo>
                <a:lnTo>
                  <a:pt x="1670" y="144"/>
                </a:lnTo>
                <a:lnTo>
                  <a:pt x="1687" y="146"/>
                </a:lnTo>
                <a:lnTo>
                  <a:pt x="1689" y="146"/>
                </a:lnTo>
                <a:lnTo>
                  <a:pt x="1689" y="142"/>
                </a:lnTo>
                <a:lnTo>
                  <a:pt x="1692" y="137"/>
                </a:lnTo>
                <a:lnTo>
                  <a:pt x="1689" y="137"/>
                </a:lnTo>
                <a:lnTo>
                  <a:pt x="1687" y="135"/>
                </a:lnTo>
                <a:lnTo>
                  <a:pt x="1696" y="132"/>
                </a:lnTo>
                <a:lnTo>
                  <a:pt x="1706" y="132"/>
                </a:lnTo>
                <a:lnTo>
                  <a:pt x="1708" y="130"/>
                </a:lnTo>
                <a:lnTo>
                  <a:pt x="1708" y="128"/>
                </a:lnTo>
                <a:lnTo>
                  <a:pt x="1708" y="125"/>
                </a:lnTo>
                <a:lnTo>
                  <a:pt x="1706" y="123"/>
                </a:lnTo>
                <a:lnTo>
                  <a:pt x="1718" y="123"/>
                </a:lnTo>
                <a:lnTo>
                  <a:pt x="1722" y="113"/>
                </a:lnTo>
                <a:lnTo>
                  <a:pt x="1715" y="111"/>
                </a:lnTo>
                <a:lnTo>
                  <a:pt x="1711" y="111"/>
                </a:lnTo>
                <a:lnTo>
                  <a:pt x="1708" y="111"/>
                </a:lnTo>
                <a:lnTo>
                  <a:pt x="1706" y="113"/>
                </a:lnTo>
                <a:lnTo>
                  <a:pt x="1703" y="111"/>
                </a:lnTo>
                <a:lnTo>
                  <a:pt x="1703" y="109"/>
                </a:lnTo>
                <a:lnTo>
                  <a:pt x="1713" y="109"/>
                </a:lnTo>
                <a:lnTo>
                  <a:pt x="1722" y="109"/>
                </a:lnTo>
                <a:lnTo>
                  <a:pt x="1718" y="99"/>
                </a:lnTo>
                <a:lnTo>
                  <a:pt x="1715" y="94"/>
                </a:lnTo>
                <a:lnTo>
                  <a:pt x="1703" y="92"/>
                </a:lnTo>
                <a:lnTo>
                  <a:pt x="1694" y="92"/>
                </a:lnTo>
                <a:lnTo>
                  <a:pt x="1694" y="90"/>
                </a:lnTo>
                <a:lnTo>
                  <a:pt x="1703" y="87"/>
                </a:lnTo>
                <a:lnTo>
                  <a:pt x="1711" y="87"/>
                </a:lnTo>
                <a:lnTo>
                  <a:pt x="1713" y="87"/>
                </a:lnTo>
                <a:lnTo>
                  <a:pt x="1720" y="87"/>
                </a:lnTo>
                <a:lnTo>
                  <a:pt x="1725" y="87"/>
                </a:lnTo>
                <a:lnTo>
                  <a:pt x="1725" y="92"/>
                </a:lnTo>
                <a:lnTo>
                  <a:pt x="1722" y="94"/>
                </a:lnTo>
                <a:lnTo>
                  <a:pt x="1727" y="97"/>
                </a:lnTo>
                <a:lnTo>
                  <a:pt x="1732" y="97"/>
                </a:lnTo>
                <a:lnTo>
                  <a:pt x="1732" y="94"/>
                </a:lnTo>
                <a:lnTo>
                  <a:pt x="1730" y="90"/>
                </a:lnTo>
                <a:lnTo>
                  <a:pt x="1732" y="87"/>
                </a:lnTo>
                <a:lnTo>
                  <a:pt x="1734" y="85"/>
                </a:lnTo>
                <a:lnTo>
                  <a:pt x="1734" y="83"/>
                </a:lnTo>
                <a:lnTo>
                  <a:pt x="1734" y="80"/>
                </a:lnTo>
                <a:lnTo>
                  <a:pt x="1725" y="80"/>
                </a:lnTo>
                <a:lnTo>
                  <a:pt x="1715" y="80"/>
                </a:lnTo>
                <a:lnTo>
                  <a:pt x="1711" y="80"/>
                </a:lnTo>
                <a:lnTo>
                  <a:pt x="1711" y="78"/>
                </a:lnTo>
                <a:lnTo>
                  <a:pt x="1715" y="78"/>
                </a:lnTo>
                <a:lnTo>
                  <a:pt x="1720" y="78"/>
                </a:lnTo>
                <a:lnTo>
                  <a:pt x="1720" y="75"/>
                </a:lnTo>
                <a:lnTo>
                  <a:pt x="1711" y="73"/>
                </a:lnTo>
                <a:lnTo>
                  <a:pt x="1703" y="73"/>
                </a:lnTo>
                <a:lnTo>
                  <a:pt x="1701" y="73"/>
                </a:lnTo>
                <a:lnTo>
                  <a:pt x="1696" y="73"/>
                </a:lnTo>
                <a:lnTo>
                  <a:pt x="1713" y="61"/>
                </a:lnTo>
                <a:lnTo>
                  <a:pt x="1725" y="54"/>
                </a:lnTo>
                <a:lnTo>
                  <a:pt x="1720" y="49"/>
                </a:lnTo>
                <a:lnTo>
                  <a:pt x="1715" y="47"/>
                </a:lnTo>
                <a:lnTo>
                  <a:pt x="1715" y="45"/>
                </a:lnTo>
                <a:lnTo>
                  <a:pt x="1718" y="45"/>
                </a:lnTo>
                <a:lnTo>
                  <a:pt x="1722" y="45"/>
                </a:lnTo>
                <a:lnTo>
                  <a:pt x="1727" y="45"/>
                </a:lnTo>
                <a:lnTo>
                  <a:pt x="1730" y="45"/>
                </a:lnTo>
                <a:lnTo>
                  <a:pt x="1727" y="47"/>
                </a:lnTo>
                <a:lnTo>
                  <a:pt x="1727" y="52"/>
                </a:lnTo>
                <a:lnTo>
                  <a:pt x="1730" y="52"/>
                </a:lnTo>
                <a:lnTo>
                  <a:pt x="1734" y="52"/>
                </a:lnTo>
                <a:lnTo>
                  <a:pt x="1741" y="49"/>
                </a:lnTo>
                <a:lnTo>
                  <a:pt x="1744" y="45"/>
                </a:lnTo>
                <a:lnTo>
                  <a:pt x="1748" y="45"/>
                </a:lnTo>
                <a:lnTo>
                  <a:pt x="1751" y="45"/>
                </a:lnTo>
                <a:lnTo>
                  <a:pt x="1756" y="42"/>
                </a:lnTo>
                <a:lnTo>
                  <a:pt x="1758" y="40"/>
                </a:lnTo>
                <a:lnTo>
                  <a:pt x="1767" y="38"/>
                </a:lnTo>
                <a:lnTo>
                  <a:pt x="1777" y="38"/>
                </a:lnTo>
                <a:lnTo>
                  <a:pt x="1798" y="33"/>
                </a:lnTo>
                <a:lnTo>
                  <a:pt x="1812" y="26"/>
                </a:lnTo>
                <a:lnTo>
                  <a:pt x="1801" y="23"/>
                </a:lnTo>
                <a:lnTo>
                  <a:pt x="1789" y="21"/>
                </a:lnTo>
                <a:lnTo>
                  <a:pt x="1774" y="21"/>
                </a:lnTo>
                <a:lnTo>
                  <a:pt x="1760" y="21"/>
                </a:lnTo>
                <a:lnTo>
                  <a:pt x="1753" y="23"/>
                </a:lnTo>
                <a:lnTo>
                  <a:pt x="1741" y="26"/>
                </a:lnTo>
                <a:lnTo>
                  <a:pt x="1737" y="26"/>
                </a:lnTo>
                <a:lnTo>
                  <a:pt x="1730" y="26"/>
                </a:lnTo>
                <a:lnTo>
                  <a:pt x="1727" y="26"/>
                </a:lnTo>
                <a:lnTo>
                  <a:pt x="1722" y="23"/>
                </a:lnTo>
                <a:lnTo>
                  <a:pt x="1725" y="23"/>
                </a:lnTo>
                <a:lnTo>
                  <a:pt x="1727" y="23"/>
                </a:lnTo>
                <a:lnTo>
                  <a:pt x="1727" y="21"/>
                </a:lnTo>
                <a:lnTo>
                  <a:pt x="1727" y="19"/>
                </a:lnTo>
                <a:lnTo>
                  <a:pt x="1725" y="19"/>
                </a:lnTo>
                <a:lnTo>
                  <a:pt x="1720" y="19"/>
                </a:lnTo>
                <a:lnTo>
                  <a:pt x="1720" y="21"/>
                </a:lnTo>
                <a:lnTo>
                  <a:pt x="1720" y="23"/>
                </a:lnTo>
                <a:lnTo>
                  <a:pt x="1706" y="28"/>
                </a:lnTo>
                <a:lnTo>
                  <a:pt x="1689" y="33"/>
                </a:lnTo>
                <a:lnTo>
                  <a:pt x="1689" y="30"/>
                </a:lnTo>
                <a:lnTo>
                  <a:pt x="1694" y="28"/>
                </a:lnTo>
                <a:lnTo>
                  <a:pt x="1701" y="26"/>
                </a:lnTo>
                <a:lnTo>
                  <a:pt x="1701" y="21"/>
                </a:lnTo>
                <a:lnTo>
                  <a:pt x="1696" y="19"/>
                </a:lnTo>
                <a:lnTo>
                  <a:pt x="1687" y="19"/>
                </a:lnTo>
                <a:lnTo>
                  <a:pt x="1677" y="19"/>
                </a:lnTo>
                <a:lnTo>
                  <a:pt x="1673" y="21"/>
                </a:lnTo>
                <a:lnTo>
                  <a:pt x="1668" y="23"/>
                </a:lnTo>
                <a:lnTo>
                  <a:pt x="1659" y="21"/>
                </a:lnTo>
                <a:lnTo>
                  <a:pt x="1642" y="19"/>
                </a:lnTo>
                <a:lnTo>
                  <a:pt x="1673" y="19"/>
                </a:lnTo>
                <a:lnTo>
                  <a:pt x="1696" y="11"/>
                </a:lnTo>
                <a:lnTo>
                  <a:pt x="1675" y="7"/>
                </a:lnTo>
                <a:lnTo>
                  <a:pt x="1654" y="4"/>
                </a:lnTo>
                <a:lnTo>
                  <a:pt x="1649" y="4"/>
                </a:lnTo>
                <a:lnTo>
                  <a:pt x="1644" y="4"/>
                </a:lnTo>
                <a:lnTo>
                  <a:pt x="1644" y="2"/>
                </a:lnTo>
                <a:lnTo>
                  <a:pt x="1640" y="2"/>
                </a:lnTo>
                <a:lnTo>
                  <a:pt x="1637" y="2"/>
                </a:lnTo>
                <a:lnTo>
                  <a:pt x="1623" y="0"/>
                </a:lnTo>
                <a:lnTo>
                  <a:pt x="1609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任意多边形 55"/>
          <p:cNvSpPr/>
          <p:nvPr/>
        </p:nvSpPr>
        <p:spPr>
          <a:xfrm>
            <a:off x="1490760" y="2705040"/>
            <a:ext cx="671400" cy="1128600"/>
          </a:xfrm>
          <a:custGeom>
            <a:avLst/>
            <a:gdLst>
              <a:gd name="textAreaLeft" fmla="*/ 0 w 671400"/>
              <a:gd name="textAreaRight" fmla="*/ 671760 w 671400"/>
              <a:gd name="textAreaTop" fmla="*/ 0 h 1128600"/>
              <a:gd name="textAreaBottom" fmla="*/ 1128600 h 1128600"/>
            </a:gdLst>
            <a:ahLst/>
            <a:rect l="textAreaLeft" t="textAreaTop" r="textAreaRight" b="textAreaBottom"/>
            <a:pathLst>
              <a:path w="765817" h="1285875">
                <a:moveTo>
                  <a:pt x="3817" y="0"/>
                </a:moveTo>
                <a:cubicBezTo>
                  <a:pt x="-27933" y="495300"/>
                  <a:pt x="130817" y="1009650"/>
                  <a:pt x="765817" y="1285875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6" name="任意多边形 56"/>
          <p:cNvSpPr/>
          <p:nvPr/>
        </p:nvSpPr>
        <p:spPr>
          <a:xfrm>
            <a:off x="2006640" y="2278080"/>
            <a:ext cx="1515960" cy="52560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1727346" h="598733">
                <a:moveTo>
                  <a:pt x="1714500" y="598733"/>
                </a:moveTo>
                <a:cubicBezTo>
                  <a:pt x="1844675" y="-125167"/>
                  <a:pt x="965200" y="-201367"/>
                  <a:pt x="0" y="417758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任意多边形 57"/>
          <p:cNvSpPr/>
          <p:nvPr/>
        </p:nvSpPr>
        <p:spPr>
          <a:xfrm>
            <a:off x="3083040" y="3013200"/>
            <a:ext cx="1014120" cy="249120"/>
          </a:xfrm>
          <a:custGeom>
            <a:avLst/>
            <a:gdLst>
              <a:gd name="textAreaLeft" fmla="*/ 0 w 1014120"/>
              <a:gd name="textAreaRight" fmla="*/ 1014480 w 10141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156921" h="283577">
                <a:moveTo>
                  <a:pt x="0" y="198560"/>
                </a:moveTo>
                <a:cubicBezTo>
                  <a:pt x="386617" y="350227"/>
                  <a:pt x="940288" y="307731"/>
                  <a:pt x="1156921" y="0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8" name="组合 59"/>
          <p:cNvGrpSpPr/>
          <p:nvPr/>
        </p:nvGrpSpPr>
        <p:grpSpPr>
          <a:xfrm>
            <a:off x="1174680" y="3338640"/>
            <a:ext cx="316080" cy="315720"/>
            <a:chOff x="1174680" y="3338640"/>
            <a:chExt cx="316080" cy="315720"/>
          </a:xfrm>
        </p:grpSpPr>
        <p:sp>
          <p:nvSpPr>
            <p:cNvPr id="649" name="矩形 60"/>
            <p:cNvSpPr/>
            <p:nvPr/>
          </p:nvSpPr>
          <p:spPr>
            <a:xfrm>
              <a:off x="1174680" y="333864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圆角矩形 68"/>
            <p:cNvSpPr/>
            <p:nvPr/>
          </p:nvSpPr>
          <p:spPr>
            <a:xfrm>
              <a:off x="1214640" y="342036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1" name="组合 62"/>
          <p:cNvGrpSpPr/>
          <p:nvPr/>
        </p:nvGrpSpPr>
        <p:grpSpPr>
          <a:xfrm>
            <a:off x="2685960" y="1868400"/>
            <a:ext cx="316080" cy="316080"/>
            <a:chOff x="2685960" y="1868400"/>
            <a:chExt cx="316080" cy="316080"/>
          </a:xfrm>
        </p:grpSpPr>
        <p:sp>
          <p:nvSpPr>
            <p:cNvPr id="652" name="矩形 63"/>
            <p:cNvSpPr/>
            <p:nvPr/>
          </p:nvSpPr>
          <p:spPr>
            <a:xfrm>
              <a:off x="2685960" y="1868400"/>
              <a:ext cx="316080" cy="316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圆角矩形 68"/>
            <p:cNvSpPr/>
            <p:nvPr/>
          </p:nvSpPr>
          <p:spPr>
            <a:xfrm>
              <a:off x="2725920" y="195012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54" name="组合 65"/>
          <p:cNvGrpSpPr/>
          <p:nvPr/>
        </p:nvGrpSpPr>
        <p:grpSpPr>
          <a:xfrm>
            <a:off x="3589200" y="3408480"/>
            <a:ext cx="316080" cy="315720"/>
            <a:chOff x="3589200" y="3408480"/>
            <a:chExt cx="316080" cy="315720"/>
          </a:xfrm>
        </p:grpSpPr>
        <p:sp>
          <p:nvSpPr>
            <p:cNvPr id="655" name="矩形 66"/>
            <p:cNvSpPr/>
            <p:nvPr/>
          </p:nvSpPr>
          <p:spPr>
            <a:xfrm>
              <a:off x="3589200" y="340848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矩形 26"/>
            <p:cNvSpPr/>
            <p:nvPr/>
          </p:nvSpPr>
          <p:spPr>
            <a:xfrm rot="19142400">
              <a:off x="3694320" y="3452400"/>
              <a:ext cx="105840" cy="2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360040" h="774164">
                  <a:moveTo>
                    <a:pt x="149226" y="233565"/>
                  </a:moveTo>
                  <a:lnTo>
                    <a:pt x="149226" y="617485"/>
                  </a:lnTo>
                  <a:lnTo>
                    <a:pt x="288032" y="617485"/>
                  </a:lnTo>
                  <a:lnTo>
                    <a:pt x="288032" y="233565"/>
                  </a:lnTo>
                  <a:lnTo>
                    <a:pt x="149226" y="233565"/>
                  </a:lnTo>
                  <a:close/>
                  <a:moveTo>
                    <a:pt x="0" y="157819"/>
                  </a:moveTo>
                  <a:lnTo>
                    <a:pt x="360040" y="157819"/>
                  </a:lnTo>
                  <a:lnTo>
                    <a:pt x="360040" y="774164"/>
                  </a:lnTo>
                  <a:lnTo>
                    <a:pt x="0" y="774164"/>
                  </a:lnTo>
                  <a:lnTo>
                    <a:pt x="0" y="157819"/>
                  </a:lnTo>
                  <a:close/>
                  <a:moveTo>
                    <a:pt x="196487" y="24759"/>
                  </a:moveTo>
                  <a:lnTo>
                    <a:pt x="196487" y="60759"/>
                  </a:lnTo>
                  <a:lnTo>
                    <a:pt x="254087" y="60759"/>
                  </a:lnTo>
                  <a:lnTo>
                    <a:pt x="254087" y="24759"/>
                  </a:lnTo>
                  <a:lnTo>
                    <a:pt x="196487" y="24759"/>
                  </a:lnTo>
                  <a:close/>
                  <a:moveTo>
                    <a:pt x="105954" y="24759"/>
                  </a:moveTo>
                  <a:lnTo>
                    <a:pt x="105954" y="60759"/>
                  </a:lnTo>
                  <a:lnTo>
                    <a:pt x="163554" y="60759"/>
                  </a:lnTo>
                  <a:lnTo>
                    <a:pt x="163554" y="24759"/>
                  </a:lnTo>
                  <a:lnTo>
                    <a:pt x="105954" y="24759"/>
                  </a:lnTo>
                  <a:close/>
                  <a:moveTo>
                    <a:pt x="72008" y="0"/>
                  </a:moveTo>
                  <a:lnTo>
                    <a:pt x="288032" y="0"/>
                  </a:lnTo>
                  <a:lnTo>
                    <a:pt x="288032" y="144016"/>
                  </a:lnTo>
                  <a:lnTo>
                    <a:pt x="72008" y="144016"/>
                  </a:lnTo>
                  <a:lnTo>
                    <a:pt x="720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7" name="TextBox 71"/>
          <p:cNvSpPr/>
          <p:nvPr/>
        </p:nvSpPr>
        <p:spPr>
          <a:xfrm>
            <a:off x="5508720" y="28400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Box 72"/>
          <p:cNvSpPr/>
          <p:nvPr/>
        </p:nvSpPr>
        <p:spPr>
          <a:xfrm>
            <a:off x="5508720" y="365436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r"/>
  </p:transition>
  <p:timing>
    <p:tnLst>
      <p:par>
        <p:cTn id="1066" dur="indefinite" restart="never" nodeType="tmRoot">
          <p:childTnLst>
            <p:seq>
              <p:cTn id="1067" dur="indefinite" nodeType="mainSeq">
                <p:childTnLst>
                  <p:par>
                    <p:cTn id="1068" nodeType="clickEffect" fill="hold">
                      <p:stCondLst>
                        <p:cond delay="0"/>
                      </p:stCondLst>
                      <p:childTnLst>
                        <p:par>
                          <p:cTn id="10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 fill="hold"/>
                                        <p:tgtEl>
                                          <p:spTgt spid="6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4" dur="5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7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8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8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4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4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0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1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662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63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664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6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6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5" name="椭圆 30"/>
          <p:cNvSpPr/>
          <p:nvPr/>
        </p:nvSpPr>
        <p:spPr>
          <a:xfrm rot="18900000">
            <a:off x="4102200" y="1590480"/>
            <a:ext cx="934920" cy="1336680"/>
          </a:xfrm>
          <a:custGeom>
            <a:avLst/>
            <a:gdLst>
              <a:gd name="textAreaLeft" fmla="*/ 0 w 934920"/>
              <a:gd name="textAreaRight" fmla="*/ 935280 w 9349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椭圆 30"/>
          <p:cNvSpPr/>
          <p:nvPr/>
        </p:nvSpPr>
        <p:spPr>
          <a:xfrm rot="2700000">
            <a:off x="3407760" y="2279880"/>
            <a:ext cx="936720" cy="1336680"/>
          </a:xfrm>
          <a:custGeom>
            <a:avLst/>
            <a:gdLst>
              <a:gd name="textAreaLeft" fmla="*/ 0 w 936720"/>
              <a:gd name="textAreaRight" fmla="*/ 937080 w 9367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椭圆 30"/>
          <p:cNvSpPr/>
          <p:nvPr/>
        </p:nvSpPr>
        <p:spPr>
          <a:xfrm flipH="1" flipV="1" rot="18900000">
            <a:off x="4104360" y="2974680"/>
            <a:ext cx="936360" cy="1336680"/>
          </a:xfrm>
          <a:custGeom>
            <a:avLst/>
            <a:gdLst>
              <a:gd name="textAreaLeft" fmla="*/ -360 w 936360"/>
              <a:gd name="textAreaRight" fmla="*/ 936360 w 93636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椭圆 30"/>
          <p:cNvSpPr/>
          <p:nvPr/>
        </p:nvSpPr>
        <p:spPr>
          <a:xfrm flipH="1" flipV="1" rot="2700000">
            <a:off x="4797720" y="2282400"/>
            <a:ext cx="936720" cy="1336680"/>
          </a:xfrm>
          <a:custGeom>
            <a:avLst/>
            <a:gdLst>
              <a:gd name="textAreaLeft" fmla="*/ 360 w 936720"/>
              <a:gd name="textAreaRight" fmla="*/ 937440 w 93672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TextBox 59"/>
          <p:cNvSpPr/>
          <p:nvPr/>
        </p:nvSpPr>
        <p:spPr>
          <a:xfrm>
            <a:off x="53964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TextBox 60"/>
          <p:cNvSpPr/>
          <p:nvPr/>
        </p:nvSpPr>
        <p:spPr>
          <a:xfrm>
            <a:off x="53964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TextBox 71"/>
          <p:cNvSpPr/>
          <p:nvPr/>
        </p:nvSpPr>
        <p:spPr>
          <a:xfrm>
            <a:off x="601200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TextBox 72"/>
          <p:cNvSpPr/>
          <p:nvPr/>
        </p:nvSpPr>
        <p:spPr>
          <a:xfrm>
            <a:off x="601200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18" dur="indefinite" restart="never" nodeType="tmRoot">
          <p:childTnLst>
            <p:seq>
              <p:cTn id="1119" dur="indefinite" nodeType="mainSeq">
                <p:childTnLst>
                  <p:par>
                    <p:cTn id="1120" nodeType="clickEffect" fill="hold">
                      <p:stCondLst>
                        <p:cond delay="0"/>
                      </p:stCondLst>
                      <p:childTnLst>
                        <p:par>
                          <p:cTn id="1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4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5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1000" fill="hold"/>
                                        <p:tgtEl>
                                          <p:spTgt spid="6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27" dur="1000"/>
                                        <p:tgtEl>
                                          <p:spTgt spid="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1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2" dur="1000" fill="hold"/>
                                        <p:tgtEl>
                                          <p:spTgt spid="6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3" dur="10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7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8" dur="1000" fill="hold"/>
                                        <p:tgtEl>
                                          <p:spTgt spid="6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9" dur="1000"/>
                                        <p:tgtEl>
                                          <p:spTgt spid="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3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4" dur="10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5" dur="1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9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任意多边形 75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" name="组合 80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5" name="任意多边形 81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任意多边形 8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任意多边形 8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任意多边形 8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任意多边形 8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任意多边形 8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任意多边形 8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2" name="TextBox 88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TextBox 89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" name="组合 108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65" name="圆角矩形 109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7" name="组合 112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68" name="圆角矩形 113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" name="组合 116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71" name="圆角矩形 117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" name="组合 120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74" name="圆角矩形 121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6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6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12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2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45" dur="2100" fill="hold"/>
                                        <p:tgtEl>
                                          <p:spTgt spid="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18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6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9" dur="250" autoRev="1" fill="hold"/>
                                        <p:tgtEl>
                                          <p:spTgt spid="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250" autoRev="1" fill="hold"/>
                                        <p:tgtEl>
                                          <p:spTgt spid="7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7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" autoRev="1" fill="hold"/>
                                        <p:tgtEl>
                                          <p:spTgt spid="6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7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6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8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68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68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9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9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9" name="组合 10"/>
          <p:cNvGrpSpPr/>
          <p:nvPr/>
        </p:nvGrpSpPr>
        <p:grpSpPr>
          <a:xfrm>
            <a:off x="1295280" y="1581120"/>
            <a:ext cx="1368720" cy="1368360"/>
            <a:chOff x="1295280" y="1581120"/>
            <a:chExt cx="1368720" cy="1368360"/>
          </a:xfrm>
        </p:grpSpPr>
        <p:sp>
          <p:nvSpPr>
            <p:cNvPr id="700" name="Oval 8"/>
            <p:cNvSpPr/>
            <p:nvPr/>
          </p:nvSpPr>
          <p:spPr>
            <a:xfrm>
              <a:off x="1295280" y="1581120"/>
              <a:ext cx="13687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Oval 13"/>
            <p:cNvSpPr/>
            <p:nvPr/>
          </p:nvSpPr>
          <p:spPr>
            <a:xfrm>
              <a:off x="1493640" y="1780920"/>
              <a:ext cx="970200" cy="9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Rectangle 25"/>
            <p:cNvSpPr/>
            <p:nvPr/>
          </p:nvSpPr>
          <p:spPr>
            <a:xfrm>
              <a:off x="159516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3" name="组合 24"/>
          <p:cNvGrpSpPr/>
          <p:nvPr/>
        </p:nvGrpSpPr>
        <p:grpSpPr>
          <a:xfrm>
            <a:off x="3024360" y="1581120"/>
            <a:ext cx="1368360" cy="1368360"/>
            <a:chOff x="3024360" y="1581120"/>
            <a:chExt cx="1368360" cy="1368360"/>
          </a:xfrm>
        </p:grpSpPr>
        <p:sp>
          <p:nvSpPr>
            <p:cNvPr id="704" name="Oval 29"/>
            <p:cNvSpPr/>
            <p:nvPr/>
          </p:nvSpPr>
          <p:spPr>
            <a:xfrm>
              <a:off x="3024360" y="1581120"/>
              <a:ext cx="13683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Oval 31"/>
            <p:cNvSpPr/>
            <p:nvPr/>
          </p:nvSpPr>
          <p:spPr>
            <a:xfrm>
              <a:off x="3222720" y="1779480"/>
              <a:ext cx="97164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Rectangle 32"/>
            <p:cNvSpPr/>
            <p:nvPr/>
          </p:nvSpPr>
          <p:spPr>
            <a:xfrm>
              <a:off x="332424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2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07" name="组合 29"/>
          <p:cNvGrpSpPr/>
          <p:nvPr/>
        </p:nvGrpSpPr>
        <p:grpSpPr>
          <a:xfrm>
            <a:off x="4753080" y="1581120"/>
            <a:ext cx="1366560" cy="1368360"/>
            <a:chOff x="4753080" y="1581120"/>
            <a:chExt cx="1366560" cy="1368360"/>
          </a:xfrm>
        </p:grpSpPr>
        <p:sp>
          <p:nvSpPr>
            <p:cNvPr id="708" name="Oval 35"/>
            <p:cNvSpPr/>
            <p:nvPr/>
          </p:nvSpPr>
          <p:spPr>
            <a:xfrm>
              <a:off x="4753080" y="1581120"/>
              <a:ext cx="13665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Oval 37"/>
            <p:cNvSpPr/>
            <p:nvPr/>
          </p:nvSpPr>
          <p:spPr>
            <a:xfrm>
              <a:off x="4950720" y="1779480"/>
              <a:ext cx="97128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Rectangle 38"/>
            <p:cNvSpPr/>
            <p:nvPr/>
          </p:nvSpPr>
          <p:spPr>
            <a:xfrm>
              <a:off x="505188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4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1" name="组合 34"/>
          <p:cNvGrpSpPr/>
          <p:nvPr/>
        </p:nvGrpSpPr>
        <p:grpSpPr>
          <a:xfrm>
            <a:off x="6480000" y="1581120"/>
            <a:ext cx="1366920" cy="1368360"/>
            <a:chOff x="6480000" y="1581120"/>
            <a:chExt cx="1366920" cy="1368360"/>
          </a:xfrm>
        </p:grpSpPr>
        <p:sp>
          <p:nvSpPr>
            <p:cNvPr id="712" name="Oval 41"/>
            <p:cNvSpPr/>
            <p:nvPr/>
          </p:nvSpPr>
          <p:spPr>
            <a:xfrm>
              <a:off x="6480000" y="1581120"/>
              <a:ext cx="13669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Oval 43"/>
            <p:cNvSpPr/>
            <p:nvPr/>
          </p:nvSpPr>
          <p:spPr>
            <a:xfrm>
              <a:off x="6678000" y="1779480"/>
              <a:ext cx="97056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Rectangle 44"/>
            <p:cNvSpPr/>
            <p:nvPr/>
          </p:nvSpPr>
          <p:spPr>
            <a:xfrm>
              <a:off x="6778800" y="207108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73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15" name="TextBox 39"/>
          <p:cNvSpPr/>
          <p:nvPr/>
        </p:nvSpPr>
        <p:spPr>
          <a:xfrm>
            <a:off x="111600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TextBox 40"/>
          <p:cNvSpPr/>
          <p:nvPr/>
        </p:nvSpPr>
        <p:spPr>
          <a:xfrm>
            <a:off x="2855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TextBox 41"/>
          <p:cNvSpPr/>
          <p:nvPr/>
        </p:nvSpPr>
        <p:spPr>
          <a:xfrm>
            <a:off x="4584600" y="3514680"/>
            <a:ext cx="172728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TextBox 42"/>
          <p:cNvSpPr/>
          <p:nvPr/>
        </p:nvSpPr>
        <p:spPr>
          <a:xfrm>
            <a:off x="6311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63" dur="indefinite" restart="never" nodeType="tmRoot">
          <p:childTnLst>
            <p:seq>
              <p:cTn id="1164" dur="indefinite" nodeType="mainSeq">
                <p:childTnLst>
                  <p:par>
                    <p:cTn id="1165" nodeType="clickEffect" fill="hold">
                      <p:stCondLst>
                        <p:cond delay="0"/>
                      </p:stCondLst>
                      <p:childTnLst>
                        <p:par>
                          <p:cTn id="1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69" dur="20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2" dur="20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3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5" dur="2000"/>
                                        <p:tgtEl>
                                          <p:spTgt spid="7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8" dur="20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3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4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7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7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1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722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23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724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2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5" name="TextBox 1"/>
          <p:cNvSpPr/>
          <p:nvPr/>
        </p:nvSpPr>
        <p:spPr>
          <a:xfrm>
            <a:off x="5821200" y="152244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Rectangle 42"/>
          <p:cNvSpPr/>
          <p:nvPr/>
        </p:nvSpPr>
        <p:spPr>
          <a:xfrm>
            <a:off x="5602320" y="182736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TextBox 3"/>
          <p:cNvSpPr/>
          <p:nvPr/>
        </p:nvSpPr>
        <p:spPr>
          <a:xfrm>
            <a:off x="1116000" y="152244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Rectangle 42"/>
          <p:cNvSpPr/>
          <p:nvPr/>
        </p:nvSpPr>
        <p:spPr>
          <a:xfrm>
            <a:off x="3298680" y="182736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TextBox 5"/>
          <p:cNvSpPr/>
          <p:nvPr/>
        </p:nvSpPr>
        <p:spPr>
          <a:xfrm>
            <a:off x="6110280" y="249228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Rectangle 42"/>
          <p:cNvSpPr/>
          <p:nvPr/>
        </p:nvSpPr>
        <p:spPr>
          <a:xfrm>
            <a:off x="5891040" y="279720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TextBox 7"/>
          <p:cNvSpPr/>
          <p:nvPr/>
        </p:nvSpPr>
        <p:spPr>
          <a:xfrm>
            <a:off x="826920" y="249228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Rectangle 42"/>
          <p:cNvSpPr/>
          <p:nvPr/>
        </p:nvSpPr>
        <p:spPr>
          <a:xfrm>
            <a:off x="3009960" y="279720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TextBox 9"/>
          <p:cNvSpPr/>
          <p:nvPr/>
        </p:nvSpPr>
        <p:spPr>
          <a:xfrm>
            <a:off x="5821200" y="355752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Rectangle 42"/>
          <p:cNvSpPr/>
          <p:nvPr/>
        </p:nvSpPr>
        <p:spPr>
          <a:xfrm>
            <a:off x="5602320" y="3862440"/>
            <a:ext cx="19044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TextBox 11"/>
          <p:cNvSpPr/>
          <p:nvPr/>
        </p:nvSpPr>
        <p:spPr>
          <a:xfrm>
            <a:off x="1116000" y="355752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Rectangle 42"/>
          <p:cNvSpPr/>
          <p:nvPr/>
        </p:nvSpPr>
        <p:spPr>
          <a:xfrm>
            <a:off x="3298680" y="3862440"/>
            <a:ext cx="19080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7" name="组合 13"/>
          <p:cNvGrpSpPr/>
          <p:nvPr/>
        </p:nvGrpSpPr>
        <p:grpSpPr>
          <a:xfrm>
            <a:off x="3635280" y="1924200"/>
            <a:ext cx="1873440" cy="1871640"/>
            <a:chOff x="3635280" y="1924200"/>
            <a:chExt cx="1873440" cy="1871640"/>
          </a:xfrm>
        </p:grpSpPr>
        <p:grpSp>
          <p:nvGrpSpPr>
            <p:cNvPr id="748" name="组合 14"/>
            <p:cNvGrpSpPr/>
            <p:nvPr/>
          </p:nvGrpSpPr>
          <p:grpSpPr>
            <a:xfrm>
              <a:off x="3635280" y="1924200"/>
              <a:ext cx="1873440" cy="1871640"/>
              <a:chOff x="3635280" y="1924200"/>
              <a:chExt cx="1873440" cy="1871640"/>
            </a:xfrm>
          </p:grpSpPr>
          <p:sp>
            <p:nvSpPr>
              <p:cNvPr id="749" name="同心圆 18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274320 w 1873440"/>
                  <a:gd name="textAreaRight" fmla="*/ 1599120 w 1873440"/>
                  <a:gd name="textAreaTop" fmla="*/ 273960 h 1871640"/>
                  <a:gd name="textAreaBottom" fmla="*/ 159768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39" y="10800"/>
                    </a:moveTo>
                    <a:cubicBezTo>
                      <a:pt x="2539" y="15362"/>
                      <a:pt x="6238" y="19061"/>
                      <a:pt x="10800" y="19061"/>
                    </a:cubicBezTo>
                    <a:cubicBezTo>
                      <a:pt x="15362" y="19061"/>
                      <a:pt x="19061" y="15362"/>
                      <a:pt x="19061" y="10800"/>
                    </a:cubicBezTo>
                    <a:cubicBezTo>
                      <a:pt x="19061" y="6238"/>
                      <a:pt x="15362" y="2539"/>
                      <a:pt x="10800" y="2539"/>
                    </a:cubicBezTo>
                    <a:cubicBezTo>
                      <a:pt x="6238" y="2539"/>
                      <a:pt x="2539" y="6238"/>
                      <a:pt x="2539" y="1080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空心弧 19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0 w 1873440"/>
                  <a:gd name="textAreaRight" fmla="*/ 1873800 w 1873440"/>
                  <a:gd name="textAreaTop" fmla="*/ 0 h 1871640"/>
                  <a:gd name="textAreaBottom" fmla="*/ 149040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287" y="17021"/>
                    </a:moveTo>
                    <a:cubicBezTo>
                      <a:pt x="3507" y="15443"/>
                      <a:pt x="2488" y="13178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78"/>
                      <a:pt x="18092" y="15443"/>
                      <a:pt x="16312" y="17021"/>
                    </a:cubicBezTo>
                    <a:lnTo>
                      <a:pt x="17962" y="18883"/>
                    </a:lnTo>
                    <a:cubicBezTo>
                      <a:pt x="20275" y="16833"/>
                      <a:pt x="21600" y="13890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90"/>
                      <a:pt x="1324" y="16833"/>
                      <a:pt x="3637" y="18883"/>
                    </a:cubicBezTo>
                    <a:lnTo>
                      <a:pt x="5287" y="17021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空心弧 20"/>
              <p:cNvSpPr/>
              <p:nvPr/>
            </p:nvSpPr>
            <p:spPr>
              <a:xfrm flipH="1">
                <a:off x="3635280" y="1924200"/>
                <a:ext cx="1873440" cy="1871640"/>
              </a:xfrm>
              <a:custGeom>
                <a:avLst/>
                <a:gdLst>
                  <a:gd name="textAreaLeft" fmla="*/ 360 w 1873440"/>
                  <a:gd name="textAreaRight" fmla="*/ 1874160 w 1873440"/>
                  <a:gd name="textAreaTop" fmla="*/ 0 h 1871640"/>
                  <a:gd name="textAreaBottom" fmla="*/ 147456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170" y="16915"/>
                    </a:moveTo>
                    <a:cubicBezTo>
                      <a:pt x="3460" y="15341"/>
                      <a:pt x="2488" y="13123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23"/>
                      <a:pt x="18139" y="15341"/>
                      <a:pt x="16429" y="16915"/>
                    </a:cubicBezTo>
                    <a:lnTo>
                      <a:pt x="18114" y="18745"/>
                    </a:lnTo>
                    <a:cubicBezTo>
                      <a:pt x="20335" y="16701"/>
                      <a:pt x="21600" y="13819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19"/>
                      <a:pt x="1264" y="16701"/>
                      <a:pt x="3485" y="18745"/>
                    </a:cubicBezTo>
                    <a:lnTo>
                      <a:pt x="5170" y="16915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2" name="组合 15"/>
            <p:cNvGrpSpPr/>
            <p:nvPr/>
          </p:nvGrpSpPr>
          <p:grpSpPr>
            <a:xfrm>
              <a:off x="4172040" y="2549160"/>
              <a:ext cx="799560" cy="526680"/>
              <a:chOff x="4172040" y="2549160"/>
              <a:chExt cx="799560" cy="526680"/>
            </a:xfrm>
          </p:grpSpPr>
          <p:sp>
            <p:nvSpPr>
              <p:cNvPr id="753" name="圆角矩形 68"/>
              <p:cNvSpPr/>
              <p:nvPr/>
            </p:nvSpPr>
            <p:spPr>
              <a:xfrm>
                <a:off x="4172040" y="2643840"/>
                <a:ext cx="671040" cy="432000"/>
              </a:xfrm>
              <a:custGeom>
                <a:avLst/>
                <a:gdLst>
                  <a:gd name="textAreaLeft" fmla="*/ 0 w 671040"/>
                  <a:gd name="textAreaRight" fmla="*/ 671400 w 6710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978088" h="630163">
                    <a:moveTo>
                      <a:pt x="376188" y="0"/>
                    </a:moveTo>
                    <a:cubicBezTo>
                      <a:pt x="478336" y="0"/>
                      <a:pt x="566899" y="58161"/>
                      <a:pt x="609473" y="143596"/>
                    </a:cubicBezTo>
                    <a:cubicBezTo>
                      <a:pt x="635404" y="118352"/>
                      <a:pt x="670955" y="103500"/>
                      <a:pt x="709975" y="103500"/>
                    </a:cubicBezTo>
                    <a:cubicBezTo>
                      <a:pt x="793080" y="103500"/>
                      <a:pt x="860450" y="170870"/>
                      <a:pt x="860450" y="253975"/>
                    </a:cubicBezTo>
                    <a:lnTo>
                      <a:pt x="857805" y="267079"/>
                    </a:lnTo>
                    <a:cubicBezTo>
                      <a:pt x="928258" y="293890"/>
                      <a:pt x="978088" y="362161"/>
                      <a:pt x="978088" y="442069"/>
                    </a:cubicBezTo>
                    <a:cubicBezTo>
                      <a:pt x="978088" y="545950"/>
                      <a:pt x="893875" y="630163"/>
                      <a:pt x="789994" y="630163"/>
                    </a:cubicBezTo>
                    <a:lnTo>
                      <a:pt x="188094" y="630163"/>
                    </a:lnTo>
                    <a:cubicBezTo>
                      <a:pt x="84213" y="630163"/>
                      <a:pt x="0" y="545950"/>
                      <a:pt x="0" y="442069"/>
                    </a:cubicBezTo>
                    <a:cubicBezTo>
                      <a:pt x="0" y="364739"/>
                      <a:pt x="46666" y="298309"/>
                      <a:pt x="113497" y="269689"/>
                    </a:cubicBezTo>
                    <a:cubicBezTo>
                      <a:pt x="112881" y="267585"/>
                      <a:pt x="112856" y="265461"/>
                      <a:pt x="112856" y="263332"/>
                    </a:cubicBezTo>
                    <a:cubicBezTo>
                      <a:pt x="112856" y="117898"/>
                      <a:pt x="230754" y="0"/>
                      <a:pt x="376188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圆角矩形 68"/>
              <p:cNvSpPr/>
              <p:nvPr/>
            </p:nvSpPr>
            <p:spPr>
              <a:xfrm>
                <a:off x="4415400" y="2549160"/>
                <a:ext cx="556200" cy="426600"/>
              </a:xfrm>
              <a:custGeom>
                <a:avLst/>
                <a:gdLst>
                  <a:gd name="textAreaLeft" fmla="*/ 0 w 556200"/>
                  <a:gd name="textAreaRight" fmla="*/ 556560 w 556200"/>
                  <a:gd name="textAreaTop" fmla="*/ 0 h 426600"/>
                  <a:gd name="textAreaBottom" fmla="*/ 426960 h 426600"/>
                </a:gdLst>
                <a:ahLst/>
                <a:rect l="textAreaLeft" t="textAreaTop" r="textAreaRight" b="textAreaBottom"/>
                <a:pathLst>
                  <a:path w="555804" h="426772">
                    <a:moveTo>
                      <a:pt x="143135" y="0"/>
                    </a:moveTo>
                    <a:cubicBezTo>
                      <a:pt x="213169" y="0"/>
                      <a:pt x="273888" y="39876"/>
                      <a:pt x="303078" y="98451"/>
                    </a:cubicBezTo>
                    <a:cubicBezTo>
                      <a:pt x="320856" y="81144"/>
                      <a:pt x="345230" y="70961"/>
                      <a:pt x="371983" y="70961"/>
                    </a:cubicBezTo>
                    <a:cubicBezTo>
                      <a:pt x="428961" y="70961"/>
                      <a:pt x="475150" y="117151"/>
                      <a:pt x="475150" y="174129"/>
                    </a:cubicBezTo>
                    <a:lnTo>
                      <a:pt x="473337" y="183113"/>
                    </a:lnTo>
                    <a:cubicBezTo>
                      <a:pt x="521640" y="201495"/>
                      <a:pt x="555804" y="248302"/>
                      <a:pt x="555804" y="303088"/>
                    </a:cubicBezTo>
                    <a:cubicBezTo>
                      <a:pt x="555804" y="365170"/>
                      <a:pt x="511936" y="417005"/>
                      <a:pt x="452979" y="426772"/>
                    </a:cubicBezTo>
                    <a:cubicBezTo>
                      <a:pt x="463010" y="409954"/>
                      <a:pt x="467966" y="390244"/>
                      <a:pt x="467966" y="369377"/>
                    </a:cubicBezTo>
                    <a:cubicBezTo>
                      <a:pt x="467966" y="314591"/>
                      <a:pt x="433802" y="267784"/>
                      <a:pt x="385499" y="249402"/>
                    </a:cubicBezTo>
                    <a:lnTo>
                      <a:pt x="387312" y="240418"/>
                    </a:lnTo>
                    <a:cubicBezTo>
                      <a:pt x="387312" y="183440"/>
                      <a:pt x="341123" y="137250"/>
                      <a:pt x="284145" y="137250"/>
                    </a:cubicBezTo>
                    <a:cubicBezTo>
                      <a:pt x="257392" y="137250"/>
                      <a:pt x="233018" y="147433"/>
                      <a:pt x="215240" y="164740"/>
                    </a:cubicBezTo>
                    <a:cubicBezTo>
                      <a:pt x="186050" y="106165"/>
                      <a:pt x="125331" y="66289"/>
                      <a:pt x="55297" y="66289"/>
                    </a:cubicBezTo>
                    <a:cubicBezTo>
                      <a:pt x="35910" y="66289"/>
                      <a:pt x="17237" y="69345"/>
                      <a:pt x="0" y="75828"/>
                    </a:cubicBezTo>
                    <a:cubicBezTo>
                      <a:pt x="30266" y="29107"/>
                      <a:pt x="83301" y="0"/>
                      <a:pt x="143135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slow" advTm="0">
    <p:fade/>
  </p:transition>
  <p:timing>
    <p:tnLst>
      <p:par>
        <p:cTn id="1196" dur="indefinite" restart="never" nodeType="tmRoot">
          <p:childTnLst>
            <p:seq>
              <p:cTn id="1197" dur="indefinite" nodeType="mainSeq">
                <p:childTnLst>
                  <p:par>
                    <p:cTn id="1198" nodeType="clickEffect" fill="hold">
                      <p:stCondLst>
                        <p:cond delay="0"/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2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1000" fill="hold"/>
                                        <p:tgtEl>
                                          <p:spTgt spid="7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5" dur="1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9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0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1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1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0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1" dur="500" fill="hold"/>
                                        <p:tgtEl>
                                          <p:spTgt spid="7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 fill="hold"/>
                                        <p:tgtEl>
                                          <p:spTgt spid="7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1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6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0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1" dur="500" fill="hold"/>
                                        <p:tgtEl>
                                          <p:spTgt spid="7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7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0" dur="5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1" dur="500"/>
                                        <p:tgtEl>
                                          <p:spTgt spid="7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5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0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1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7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7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758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59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760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62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3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64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7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8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9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0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71" name="TextBox 1"/>
          <p:cNvSpPr/>
          <p:nvPr/>
        </p:nvSpPr>
        <p:spPr>
          <a:xfrm>
            <a:off x="106992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圆角矩形 2"/>
          <p:cNvSpPr/>
          <p:nvPr/>
        </p:nvSpPr>
        <p:spPr>
          <a:xfrm>
            <a:off x="115884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圆角矩形 3"/>
          <p:cNvSpPr/>
          <p:nvPr/>
        </p:nvSpPr>
        <p:spPr>
          <a:xfrm>
            <a:off x="1185840" y="2411280"/>
            <a:ext cx="17017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Box 4"/>
          <p:cNvSpPr/>
          <p:nvPr/>
        </p:nvSpPr>
        <p:spPr>
          <a:xfrm>
            <a:off x="467028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圆角矩形 5"/>
          <p:cNvSpPr/>
          <p:nvPr/>
        </p:nvSpPr>
        <p:spPr>
          <a:xfrm>
            <a:off x="475920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圆角矩形 6"/>
          <p:cNvSpPr/>
          <p:nvPr/>
        </p:nvSpPr>
        <p:spPr>
          <a:xfrm>
            <a:off x="4786200" y="2411280"/>
            <a:ext cx="25225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TextBox 7"/>
          <p:cNvSpPr/>
          <p:nvPr/>
        </p:nvSpPr>
        <p:spPr>
          <a:xfrm>
            <a:off x="106992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圆角矩形 8"/>
          <p:cNvSpPr/>
          <p:nvPr/>
        </p:nvSpPr>
        <p:spPr>
          <a:xfrm>
            <a:off x="115884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圆角矩形 9"/>
          <p:cNvSpPr/>
          <p:nvPr/>
        </p:nvSpPr>
        <p:spPr>
          <a:xfrm>
            <a:off x="1185840" y="4027320"/>
            <a:ext cx="252252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TextBox 10"/>
          <p:cNvSpPr/>
          <p:nvPr/>
        </p:nvSpPr>
        <p:spPr>
          <a:xfrm>
            <a:off x="467028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圆角矩形 11"/>
          <p:cNvSpPr/>
          <p:nvPr/>
        </p:nvSpPr>
        <p:spPr>
          <a:xfrm>
            <a:off x="475920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圆角矩形 12"/>
          <p:cNvSpPr/>
          <p:nvPr/>
        </p:nvSpPr>
        <p:spPr>
          <a:xfrm>
            <a:off x="4786200" y="4027320"/>
            <a:ext cx="281016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blinds dir="vert"/>
  </p:transition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nodeType="clickEffect" fill="hold">
                      <p:stCondLst>
                        <p:cond delay="0"/>
                      </p:stCondLst>
                      <p:childTnLst>
                        <p:par>
                          <p:cTn id="1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2" dur="1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7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2" dur="5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6" dur="1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0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1" dur="500" fill="hold"/>
                                        <p:tgtEl>
                                          <p:spTgt spid="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6" dur="500" fill="hold"/>
                                        <p:tgtEl>
                                          <p:spTgt spid="7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0" dur="1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4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5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0" dur="500" fill="hold"/>
                                        <p:tgtEl>
                                          <p:spTgt spid="7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4" dur="1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78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8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78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9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9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9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9" name="组合 9"/>
          <p:cNvGrpSpPr/>
          <p:nvPr/>
        </p:nvGrpSpPr>
        <p:grpSpPr>
          <a:xfrm>
            <a:off x="2070000" y="2147760"/>
            <a:ext cx="1440000" cy="2160720"/>
            <a:chOff x="2070000" y="2147760"/>
            <a:chExt cx="1440000" cy="2160720"/>
          </a:xfrm>
        </p:grpSpPr>
        <p:sp>
          <p:nvSpPr>
            <p:cNvPr id="800" name="矩形 5"/>
            <p:cNvSpPr/>
            <p:nvPr/>
          </p:nvSpPr>
          <p:spPr>
            <a:xfrm>
              <a:off x="2070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9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TextBox 29"/>
            <p:cNvSpPr/>
            <p:nvPr/>
          </p:nvSpPr>
          <p:spPr>
            <a:xfrm>
              <a:off x="2214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2" name="组合 8"/>
            <p:cNvGrpSpPr/>
            <p:nvPr/>
          </p:nvGrpSpPr>
          <p:grpSpPr>
            <a:xfrm>
              <a:off x="2070000" y="2147760"/>
              <a:ext cx="1440000" cy="2160720"/>
              <a:chOff x="2070000" y="2147760"/>
              <a:chExt cx="1440000" cy="2160720"/>
            </a:xfrm>
          </p:grpSpPr>
          <p:sp>
            <p:nvSpPr>
              <p:cNvPr id="803" name="矩形 28"/>
              <p:cNvSpPr/>
              <p:nvPr/>
            </p:nvSpPr>
            <p:spPr>
              <a:xfrm>
                <a:off x="2070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直接连接符 48"/>
              <p:cNvSpPr/>
              <p:nvPr/>
            </p:nvSpPr>
            <p:spPr>
              <a:xfrm>
                <a:off x="2070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直接连接符 49"/>
              <p:cNvSpPr/>
              <p:nvPr/>
            </p:nvSpPr>
            <p:spPr>
              <a:xfrm>
                <a:off x="2070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06" name="TextBox 53"/>
            <p:cNvSpPr/>
            <p:nvPr/>
          </p:nvSpPr>
          <p:spPr>
            <a:xfrm>
              <a:off x="2214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TextBox 54"/>
            <p:cNvSpPr/>
            <p:nvPr/>
          </p:nvSpPr>
          <p:spPr>
            <a:xfrm>
              <a:off x="2214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TextBox 55"/>
            <p:cNvSpPr/>
            <p:nvPr/>
          </p:nvSpPr>
          <p:spPr>
            <a:xfrm>
              <a:off x="2214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9" name="组合 74"/>
          <p:cNvGrpSpPr/>
          <p:nvPr/>
        </p:nvGrpSpPr>
        <p:grpSpPr>
          <a:xfrm>
            <a:off x="3851280" y="2147760"/>
            <a:ext cx="1441440" cy="2160720"/>
            <a:chOff x="3851280" y="2147760"/>
            <a:chExt cx="1441440" cy="2160720"/>
          </a:xfrm>
        </p:grpSpPr>
        <p:sp>
          <p:nvSpPr>
            <p:cNvPr id="810" name="矩形 75"/>
            <p:cNvSpPr/>
            <p:nvPr/>
          </p:nvSpPr>
          <p:spPr>
            <a:xfrm>
              <a:off x="3851280" y="2534040"/>
              <a:ext cx="144144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6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TextBox 76"/>
            <p:cNvSpPr/>
            <p:nvPr/>
          </p:nvSpPr>
          <p:spPr>
            <a:xfrm>
              <a:off x="3995280" y="2176200"/>
              <a:ext cx="115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2" name="组合 77"/>
            <p:cNvGrpSpPr/>
            <p:nvPr/>
          </p:nvGrpSpPr>
          <p:grpSpPr>
            <a:xfrm>
              <a:off x="3851280" y="2147760"/>
              <a:ext cx="1441440" cy="2160720"/>
              <a:chOff x="3851280" y="2147760"/>
              <a:chExt cx="1441440" cy="2160720"/>
            </a:xfrm>
          </p:grpSpPr>
          <p:sp>
            <p:nvSpPr>
              <p:cNvPr id="813" name="矩形 81"/>
              <p:cNvSpPr/>
              <p:nvPr/>
            </p:nvSpPr>
            <p:spPr>
              <a:xfrm>
                <a:off x="3851280" y="2147760"/>
                <a:ext cx="144144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直接连接符 82"/>
              <p:cNvSpPr/>
              <p:nvPr/>
            </p:nvSpPr>
            <p:spPr>
              <a:xfrm>
                <a:off x="3851280" y="356436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直接连接符 83"/>
              <p:cNvSpPr/>
              <p:nvPr/>
            </p:nvSpPr>
            <p:spPr>
              <a:xfrm>
                <a:off x="3851280" y="394848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16" name="TextBox 78"/>
            <p:cNvSpPr/>
            <p:nvPr/>
          </p:nvSpPr>
          <p:spPr>
            <a:xfrm>
              <a:off x="3995280" y="32367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TextBox 79"/>
            <p:cNvSpPr/>
            <p:nvPr/>
          </p:nvSpPr>
          <p:spPr>
            <a:xfrm>
              <a:off x="3995280" y="361548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TextBox 80"/>
            <p:cNvSpPr/>
            <p:nvPr/>
          </p:nvSpPr>
          <p:spPr>
            <a:xfrm>
              <a:off x="3995280" y="39945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19" name="组合 84"/>
          <p:cNvGrpSpPr/>
          <p:nvPr/>
        </p:nvGrpSpPr>
        <p:grpSpPr>
          <a:xfrm>
            <a:off x="5634000" y="2147760"/>
            <a:ext cx="1440000" cy="2160720"/>
            <a:chOff x="5634000" y="2147760"/>
            <a:chExt cx="1440000" cy="2160720"/>
          </a:xfrm>
        </p:grpSpPr>
        <p:sp>
          <p:nvSpPr>
            <p:cNvPr id="820" name="矩形 85"/>
            <p:cNvSpPr/>
            <p:nvPr/>
          </p:nvSpPr>
          <p:spPr>
            <a:xfrm>
              <a:off x="5634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3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TextBox 86"/>
            <p:cNvSpPr/>
            <p:nvPr/>
          </p:nvSpPr>
          <p:spPr>
            <a:xfrm>
              <a:off x="5778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2" name="组合 87"/>
            <p:cNvGrpSpPr/>
            <p:nvPr/>
          </p:nvGrpSpPr>
          <p:grpSpPr>
            <a:xfrm>
              <a:off x="5634000" y="2147760"/>
              <a:ext cx="1440000" cy="2160720"/>
              <a:chOff x="5634000" y="2147760"/>
              <a:chExt cx="1440000" cy="2160720"/>
            </a:xfrm>
          </p:grpSpPr>
          <p:sp>
            <p:nvSpPr>
              <p:cNvPr id="823" name="矩形 91"/>
              <p:cNvSpPr/>
              <p:nvPr/>
            </p:nvSpPr>
            <p:spPr>
              <a:xfrm>
                <a:off x="5634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直接连接符 92"/>
              <p:cNvSpPr/>
              <p:nvPr/>
            </p:nvSpPr>
            <p:spPr>
              <a:xfrm>
                <a:off x="5634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直接连接符 93"/>
              <p:cNvSpPr/>
              <p:nvPr/>
            </p:nvSpPr>
            <p:spPr>
              <a:xfrm>
                <a:off x="5634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26" name="TextBox 88"/>
            <p:cNvSpPr/>
            <p:nvPr/>
          </p:nvSpPr>
          <p:spPr>
            <a:xfrm>
              <a:off x="5778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TextBox 89"/>
            <p:cNvSpPr/>
            <p:nvPr/>
          </p:nvSpPr>
          <p:spPr>
            <a:xfrm>
              <a:off x="5778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TextBox 90"/>
            <p:cNvSpPr/>
            <p:nvPr/>
          </p:nvSpPr>
          <p:spPr>
            <a:xfrm>
              <a:off x="5778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9" name="TextBox 34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d"/>
  </p:transition>
  <p:timing>
    <p:tnLst>
      <p:par>
        <p:cTn id="1325" dur="indefinite" restart="never" nodeType="tmRoot">
          <p:childTnLst>
            <p:seq>
              <p:cTn id="1326" dur="indefinite" nodeType="mainSeq">
                <p:childTnLst>
                  <p:par>
                    <p:cTn id="1327" nodeType="clickEffect" fill="hold">
                      <p:stCondLst>
                        <p:cond delay="0"/>
                      </p:stCondLst>
                      <p:childTnLst>
                        <p:par>
                          <p:cTn id="1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1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2" dur="500" fill="hold"/>
                                        <p:tgtEl>
                                          <p:spTgt spid="8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7" dur="500" fill="hold"/>
                                        <p:tgtEl>
                                          <p:spTgt spid="7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8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8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7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8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49" dur="250" autoRev="1" fill="hold"/>
                                        <p:tgtEl>
                                          <p:spTgt spid="7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2" dur="5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3" dur="250" autoRev="1" fill="hold"/>
                                        <p:tgtEl>
                                          <p:spTgt spid="80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6" dur="500"/>
                                        <p:tgtEl>
                                          <p:spTgt spid="81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7" dur="250" autoRev="1" fill="hold"/>
                                        <p:tgtEl>
                                          <p:spTgt spid="81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1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832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9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1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842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4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845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7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848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0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851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1358" dur="indefinite" restart="never" nodeType="tmRoot">
          <p:childTnLst>
            <p:seq>
              <p:cTn id="1359" dur="indefinite" nodeType="mainSeq">
                <p:childTnLst>
                  <p:par>
                    <p:cTn id="1360" nodeType="clickEffect" fill="hold">
                      <p:stCondLst>
                        <p:cond delay="0"/>
                      </p:stCondLst>
                      <p:childTnLst>
                        <p:par>
                          <p:cTn id="1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4" dur="6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5" dur="6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9" dur="12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12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37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1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100" fill="hold"/>
                                        <p:tgtEl>
                                          <p:spTgt spid="8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37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1378" dur="2100" fill="hold"/>
                                        <p:tgtEl>
                                          <p:spTgt spid="8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79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1" dur="18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5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6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9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40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1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2" dur="250" autoRev="1" fill="hold"/>
                                        <p:tgtEl>
                                          <p:spTgt spid="85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40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5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6" dur="250" autoRev="1" fill="hold"/>
                                        <p:tgtEl>
                                          <p:spTgt spid="84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140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9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0" dur="250" autoRev="1" fill="hold"/>
                                        <p:tgtEl>
                                          <p:spTgt spid="8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4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3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4" dur="250" autoRev="1" fill="hold"/>
                                        <p:tgtEl>
                                          <p:spTgt spid="84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85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5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85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6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6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9" name="矩形 33"/>
          <p:cNvSpPr/>
          <p:nvPr/>
        </p:nvSpPr>
        <p:spPr>
          <a:xfrm>
            <a:off x="3995640" y="2436840"/>
            <a:ext cx="1152720" cy="1150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Rectangle 4"/>
          <p:cNvSpPr/>
          <p:nvPr/>
        </p:nvSpPr>
        <p:spPr>
          <a:xfrm>
            <a:off x="543564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KSO_Shape"/>
          <p:cNvSpPr/>
          <p:nvPr/>
        </p:nvSpPr>
        <p:spPr>
          <a:xfrm>
            <a:off x="5508720" y="1959120"/>
            <a:ext cx="358560" cy="696600"/>
          </a:xfrm>
          <a:custGeom>
            <a:avLst/>
            <a:gdLst/>
            <a:ahLst/>
            <a:rect l="l" t="t" r="r" b="b"/>
            <a:pathLst>
              <a:path w="987290" h="1912712">
                <a:moveTo>
                  <a:pt x="287267" y="357754"/>
                </a:moveTo>
                <a:lnTo>
                  <a:pt x="696037" y="357754"/>
                </a:lnTo>
                <a:cubicBezTo>
                  <a:pt x="751531" y="357754"/>
                  <a:pt x="799531" y="389836"/>
                  <a:pt x="821308" y="437053"/>
                </a:cubicBezTo>
                <a:cubicBezTo>
                  <a:pt x="828839" y="444251"/>
                  <a:pt x="834170" y="453657"/>
                  <a:pt x="837118" y="464360"/>
                </a:cubicBezTo>
                <a:lnTo>
                  <a:pt x="984815" y="1000638"/>
                </a:lnTo>
                <a:cubicBezTo>
                  <a:pt x="994856" y="1037095"/>
                  <a:pt x="973441" y="1074789"/>
                  <a:pt x="936984" y="1084830"/>
                </a:cubicBezTo>
                <a:lnTo>
                  <a:pt x="936986" y="1084831"/>
                </a:lnTo>
                <a:cubicBezTo>
                  <a:pt x="901976" y="1094473"/>
                  <a:pt x="865826" y="1075107"/>
                  <a:pt x="854828" y="1041024"/>
                </a:cubicBezTo>
                <a:lnTo>
                  <a:pt x="726065" y="573497"/>
                </a:lnTo>
                <a:cubicBezTo>
                  <a:pt x="721080" y="555394"/>
                  <a:pt x="702362" y="544760"/>
                  <a:pt x="684259" y="549746"/>
                </a:cubicBezTo>
                <a:cubicBezTo>
                  <a:pt x="666156" y="554732"/>
                  <a:pt x="655522" y="573449"/>
                  <a:pt x="660508" y="591552"/>
                </a:cubicBezTo>
                <a:lnTo>
                  <a:pt x="852387" y="1288247"/>
                </a:lnTo>
                <a:lnTo>
                  <a:pt x="863126" y="1336447"/>
                </a:lnTo>
                <a:lnTo>
                  <a:pt x="679772" y="1336447"/>
                </a:lnTo>
                <a:lnTo>
                  <a:pt x="679772" y="1834130"/>
                </a:lnTo>
                <a:cubicBezTo>
                  <a:pt x="679772" y="1877529"/>
                  <a:pt x="644590" y="1912711"/>
                  <a:pt x="601191" y="1912711"/>
                </a:cubicBezTo>
                <a:cubicBezTo>
                  <a:pt x="557792" y="1912711"/>
                  <a:pt x="522610" y="1877529"/>
                  <a:pt x="522610" y="1834130"/>
                </a:cubicBezTo>
                <a:lnTo>
                  <a:pt x="522610" y="1336447"/>
                </a:lnTo>
                <a:lnTo>
                  <a:pt x="467841" y="1336447"/>
                </a:lnTo>
                <a:cubicBezTo>
                  <a:pt x="467841" y="1502738"/>
                  <a:pt x="467840" y="1669030"/>
                  <a:pt x="467840" y="1835321"/>
                </a:cubicBezTo>
                <a:cubicBezTo>
                  <a:pt x="467840" y="1878063"/>
                  <a:pt x="433191" y="1912712"/>
                  <a:pt x="390449" y="1912712"/>
                </a:cubicBezTo>
                <a:lnTo>
                  <a:pt x="390450" y="1912711"/>
                </a:lnTo>
                <a:cubicBezTo>
                  <a:pt x="347708" y="1912711"/>
                  <a:pt x="313059" y="1878062"/>
                  <a:pt x="313059" y="1835320"/>
                </a:cubicBezTo>
                <a:lnTo>
                  <a:pt x="313059" y="1336447"/>
                </a:lnTo>
                <a:lnTo>
                  <a:pt x="122692" y="1336447"/>
                </a:lnTo>
                <a:lnTo>
                  <a:pt x="327846" y="591552"/>
                </a:lnTo>
                <a:cubicBezTo>
                  <a:pt x="332832" y="573449"/>
                  <a:pt x="322198" y="554732"/>
                  <a:pt x="304095" y="549746"/>
                </a:cubicBezTo>
                <a:cubicBezTo>
                  <a:pt x="285992" y="544760"/>
                  <a:pt x="267275" y="555394"/>
                  <a:pt x="262289" y="573497"/>
                </a:cubicBezTo>
                <a:lnTo>
                  <a:pt x="176423" y="885270"/>
                </a:lnTo>
                <a:lnTo>
                  <a:pt x="176320" y="885144"/>
                </a:lnTo>
                <a:cubicBezTo>
                  <a:pt x="162379" y="935763"/>
                  <a:pt x="148437" y="986382"/>
                  <a:pt x="134496" y="1037001"/>
                </a:cubicBezTo>
                <a:cubicBezTo>
                  <a:pt x="124456" y="1073457"/>
                  <a:pt x="86761" y="1094872"/>
                  <a:pt x="50304" y="1084832"/>
                </a:cubicBezTo>
                <a:lnTo>
                  <a:pt x="50306" y="1084831"/>
                </a:lnTo>
                <a:cubicBezTo>
                  <a:pt x="13849" y="1074790"/>
                  <a:pt x="-7566" y="1037096"/>
                  <a:pt x="2475" y="1000639"/>
                </a:cubicBezTo>
                <a:lnTo>
                  <a:pt x="150173" y="464361"/>
                </a:lnTo>
                <a:lnTo>
                  <a:pt x="155370" y="454078"/>
                </a:lnTo>
                <a:cubicBezTo>
                  <a:pt x="172562" y="397845"/>
                  <a:pt x="225232" y="357754"/>
                  <a:pt x="287267" y="357754"/>
                </a:cubicBezTo>
                <a:close/>
                <a:moveTo>
                  <a:pt x="494320" y="0"/>
                </a:moveTo>
                <a:cubicBezTo>
                  <a:pt x="581276" y="0"/>
                  <a:pt x="651767" y="70491"/>
                  <a:pt x="651767" y="157447"/>
                </a:cubicBezTo>
                <a:cubicBezTo>
                  <a:pt x="651767" y="244403"/>
                  <a:pt x="581276" y="314894"/>
                  <a:pt x="494320" y="314894"/>
                </a:cubicBezTo>
                <a:cubicBezTo>
                  <a:pt x="407364" y="314894"/>
                  <a:pt x="336873" y="244403"/>
                  <a:pt x="336873" y="157447"/>
                </a:cubicBezTo>
                <a:cubicBezTo>
                  <a:pt x="336873" y="70491"/>
                  <a:pt x="407364" y="0"/>
                  <a:pt x="494320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KSO_Shape"/>
          <p:cNvSpPr/>
          <p:nvPr/>
        </p:nvSpPr>
        <p:spPr>
          <a:xfrm>
            <a:off x="3314880" y="1959120"/>
            <a:ext cx="282240" cy="701640"/>
          </a:xfrm>
          <a:custGeom>
            <a:avLst/>
            <a:gdLst>
              <a:gd name="textAreaLeft" fmla="*/ 0 w 282240"/>
              <a:gd name="textAreaRight" fmla="*/ 282240 w 2822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TextBox 37"/>
          <p:cNvSpPr/>
          <p:nvPr/>
        </p:nvSpPr>
        <p:spPr>
          <a:xfrm>
            <a:off x="5964120" y="1959120"/>
            <a:ext cx="130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TextBox 38"/>
          <p:cNvSpPr/>
          <p:nvPr/>
        </p:nvSpPr>
        <p:spPr>
          <a:xfrm>
            <a:off x="1827360" y="1959120"/>
            <a:ext cx="130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Rectangle 4"/>
          <p:cNvSpPr/>
          <p:nvPr/>
        </p:nvSpPr>
        <p:spPr>
          <a:xfrm>
            <a:off x="106848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6" name="组合 9"/>
          <p:cNvGrpSpPr/>
          <p:nvPr/>
        </p:nvGrpSpPr>
        <p:grpSpPr>
          <a:xfrm>
            <a:off x="4572000" y="1492200"/>
            <a:ext cx="0" cy="2879640"/>
            <a:chOff x="4572000" y="1492200"/>
            <a:chExt cx="0" cy="2879640"/>
          </a:xfrm>
        </p:grpSpPr>
        <p:sp>
          <p:nvSpPr>
            <p:cNvPr id="877" name="直接连接符 10"/>
            <p:cNvSpPr/>
            <p:nvPr/>
          </p:nvSpPr>
          <p:spPr>
            <a:xfrm>
              <a:off x="4572000" y="1492200"/>
              <a:ext cx="0" cy="9446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直接连接符 11"/>
            <p:cNvSpPr/>
            <p:nvPr/>
          </p:nvSpPr>
          <p:spPr>
            <a:xfrm>
              <a:off x="4572000" y="3588840"/>
              <a:ext cx="0" cy="7830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1415" dur="indefinite" restart="never" nodeType="tmRoot">
          <p:childTnLst>
            <p:seq>
              <p:cTn id="1416" dur="indefinite" nodeType="mainSeq">
                <p:childTnLst>
                  <p:par>
                    <p:cTn id="1417" nodeType="clickEffect" fill="hold">
                      <p:stCondLst>
                        <p:cond delay="0"/>
                      </p:stCondLst>
                      <p:childTnLst>
                        <p:par>
                          <p:cTn id="1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1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8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24" dur="10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2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8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8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 fill="hold"/>
                                        <p:tgtEl>
                                          <p:spTgt spid="8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8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1" dur="500" fill="hold"/>
                                        <p:tgtEl>
                                          <p:spTgt spid="8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8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1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882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83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884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8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8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8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5" name="直接连接符 1"/>
          <p:cNvSpPr/>
          <p:nvPr/>
        </p:nvSpPr>
        <p:spPr>
          <a:xfrm>
            <a:off x="3276720" y="190656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6" name="组合 2"/>
          <p:cNvGrpSpPr/>
          <p:nvPr/>
        </p:nvGrpSpPr>
        <p:grpSpPr>
          <a:xfrm>
            <a:off x="3933720" y="2033640"/>
            <a:ext cx="576360" cy="576360"/>
            <a:chOff x="3933720" y="2033640"/>
            <a:chExt cx="576360" cy="576360"/>
          </a:xfrm>
        </p:grpSpPr>
        <p:sp>
          <p:nvSpPr>
            <p:cNvPr id="897" name="圆角矩形 3"/>
            <p:cNvSpPr/>
            <p:nvPr/>
          </p:nvSpPr>
          <p:spPr>
            <a:xfrm>
              <a:off x="3933720" y="2033640"/>
              <a:ext cx="576360" cy="57636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圆角矩形 68"/>
            <p:cNvSpPr/>
            <p:nvPr/>
          </p:nvSpPr>
          <p:spPr>
            <a:xfrm>
              <a:off x="3997800" y="2172240"/>
              <a:ext cx="454320" cy="29232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292320"/>
                <a:gd name="textAreaBottom" fmla="*/ 292320 h 29232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9" name="组合 6"/>
          <p:cNvGrpSpPr/>
          <p:nvPr/>
        </p:nvGrpSpPr>
        <p:grpSpPr>
          <a:xfrm>
            <a:off x="3943440" y="2860560"/>
            <a:ext cx="557280" cy="555840"/>
            <a:chOff x="3943440" y="2860560"/>
            <a:chExt cx="557280" cy="555840"/>
          </a:xfrm>
        </p:grpSpPr>
        <p:sp>
          <p:nvSpPr>
            <p:cNvPr id="900" name="圆角矩形 7"/>
            <p:cNvSpPr/>
            <p:nvPr/>
          </p:nvSpPr>
          <p:spPr>
            <a:xfrm>
              <a:off x="3943440" y="2860560"/>
              <a:ext cx="557280" cy="55584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圆角矩形 16"/>
            <p:cNvSpPr/>
            <p:nvPr/>
          </p:nvSpPr>
          <p:spPr>
            <a:xfrm rot="16200000">
              <a:off x="4044600" y="2959920"/>
              <a:ext cx="354600" cy="355680"/>
            </a:xfrm>
            <a:custGeom>
              <a:avLst/>
              <a:gdLst>
                <a:gd name="textAreaLeft" fmla="*/ 0 w 354600"/>
                <a:gd name="textAreaRight" fmla="*/ 354960 w 354600"/>
                <a:gd name="textAreaTop" fmla="*/ 0 h 355680"/>
                <a:gd name="textAreaBottom" fmla="*/ 355680 h 3556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02" name="组合 10"/>
          <p:cNvGrpSpPr/>
          <p:nvPr/>
        </p:nvGrpSpPr>
        <p:grpSpPr>
          <a:xfrm>
            <a:off x="3967200" y="3687840"/>
            <a:ext cx="511200" cy="511200"/>
            <a:chOff x="3967200" y="3687840"/>
            <a:chExt cx="511200" cy="511200"/>
          </a:xfrm>
        </p:grpSpPr>
        <p:sp>
          <p:nvSpPr>
            <p:cNvPr id="903" name="圆角矩形 11"/>
            <p:cNvSpPr/>
            <p:nvPr/>
          </p:nvSpPr>
          <p:spPr>
            <a:xfrm>
              <a:off x="3967200" y="3687840"/>
              <a:ext cx="511200" cy="511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圆角矩形 43"/>
            <p:cNvSpPr/>
            <p:nvPr/>
          </p:nvSpPr>
          <p:spPr>
            <a:xfrm>
              <a:off x="4048560" y="3818880"/>
              <a:ext cx="348480" cy="24912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84255" y="535095"/>
                  </a:moveTo>
                  <a:lnTo>
                    <a:pt x="84255" y="577357"/>
                  </a:lnTo>
                  <a:lnTo>
                    <a:pt x="803248" y="577357"/>
                  </a:lnTo>
                  <a:lnTo>
                    <a:pt x="803248" y="535095"/>
                  </a:lnTo>
                  <a:lnTo>
                    <a:pt x="84255" y="535095"/>
                  </a:lnTo>
                  <a:close/>
                  <a:moveTo>
                    <a:pt x="449149" y="274073"/>
                  </a:moveTo>
                  <a:cubicBezTo>
                    <a:pt x="422581" y="272304"/>
                    <a:pt x="396832" y="283666"/>
                    <a:pt x="380230" y="304484"/>
                  </a:cubicBezTo>
                  <a:cubicBezTo>
                    <a:pt x="363629" y="325302"/>
                    <a:pt x="358282" y="352934"/>
                    <a:pt x="365919" y="378442"/>
                  </a:cubicBezTo>
                  <a:lnTo>
                    <a:pt x="400617" y="368053"/>
                  </a:lnTo>
                  <a:cubicBezTo>
                    <a:pt x="396386" y="353917"/>
                    <a:pt x="399349" y="338605"/>
                    <a:pt x="408549" y="327067"/>
                  </a:cubicBezTo>
                  <a:cubicBezTo>
                    <a:pt x="417750" y="315531"/>
                    <a:pt x="432019" y="309235"/>
                    <a:pt x="446743" y="310215"/>
                  </a:cubicBezTo>
                  <a:lnTo>
                    <a:pt x="449149" y="274073"/>
                  </a:lnTo>
                  <a:close/>
                  <a:moveTo>
                    <a:pt x="443751" y="259914"/>
                  </a:moveTo>
                  <a:cubicBezTo>
                    <a:pt x="495330" y="259914"/>
                    <a:pt x="537143" y="301727"/>
                    <a:pt x="537143" y="353306"/>
                  </a:cubicBezTo>
                  <a:cubicBezTo>
                    <a:pt x="537143" y="404885"/>
                    <a:pt x="495330" y="446698"/>
                    <a:pt x="443751" y="446698"/>
                  </a:cubicBezTo>
                  <a:cubicBezTo>
                    <a:pt x="392172" y="446698"/>
                    <a:pt x="350359" y="404885"/>
                    <a:pt x="350359" y="353306"/>
                  </a:cubicBezTo>
                  <a:cubicBezTo>
                    <a:pt x="350359" y="301727"/>
                    <a:pt x="392172" y="259914"/>
                    <a:pt x="443751" y="259914"/>
                  </a:cubicBezTo>
                  <a:close/>
                  <a:moveTo>
                    <a:pt x="443751" y="205389"/>
                  </a:moveTo>
                  <a:cubicBezTo>
                    <a:pt x="362059" y="205389"/>
                    <a:pt x="295834" y="271614"/>
                    <a:pt x="295834" y="353306"/>
                  </a:cubicBezTo>
                  <a:cubicBezTo>
                    <a:pt x="295834" y="434998"/>
                    <a:pt x="362059" y="501223"/>
                    <a:pt x="443751" y="501223"/>
                  </a:cubicBezTo>
                  <a:cubicBezTo>
                    <a:pt x="525443" y="501223"/>
                    <a:pt x="591668" y="434998"/>
                    <a:pt x="591668" y="353306"/>
                  </a:cubicBezTo>
                  <a:cubicBezTo>
                    <a:pt x="591668" y="271614"/>
                    <a:pt x="525443" y="205389"/>
                    <a:pt x="443751" y="205389"/>
                  </a:cubicBezTo>
                  <a:close/>
                  <a:moveTo>
                    <a:pt x="803248" y="66995"/>
                  </a:moveTo>
                  <a:lnTo>
                    <a:pt x="400521" y="69376"/>
                  </a:lnTo>
                  <a:lnTo>
                    <a:pt x="360040" y="118239"/>
                  </a:lnTo>
                  <a:lnTo>
                    <a:pt x="84255" y="118239"/>
                  </a:lnTo>
                  <a:lnTo>
                    <a:pt x="84255" y="169484"/>
                  </a:lnTo>
                  <a:lnTo>
                    <a:pt x="803248" y="169484"/>
                  </a:lnTo>
                  <a:lnTo>
                    <a:pt x="803248" y="143861"/>
                  </a:lnTo>
                  <a:lnTo>
                    <a:pt x="803248" y="118239"/>
                  </a:lnTo>
                  <a:lnTo>
                    <a:pt x="803248" y="66995"/>
                  </a:lnTo>
                  <a:close/>
                  <a:moveTo>
                    <a:pt x="182398" y="51019"/>
                  </a:moveTo>
                  <a:lnTo>
                    <a:pt x="182398" y="93281"/>
                  </a:lnTo>
                  <a:lnTo>
                    <a:pt x="338096" y="93281"/>
                  </a:lnTo>
                  <a:lnTo>
                    <a:pt x="338096" y="51019"/>
                  </a:lnTo>
                  <a:lnTo>
                    <a:pt x="182398" y="5101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5" name="Rectangle 4"/>
          <p:cNvSpPr/>
          <p:nvPr/>
        </p:nvSpPr>
        <p:spPr>
          <a:xfrm>
            <a:off x="4788000" y="196848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6" name="组合 17"/>
          <p:cNvGrpSpPr/>
          <p:nvPr/>
        </p:nvGrpSpPr>
        <p:grpSpPr>
          <a:xfrm>
            <a:off x="1368360" y="2174760"/>
            <a:ext cx="1079640" cy="1081080"/>
            <a:chOff x="1368360" y="2174760"/>
            <a:chExt cx="1079640" cy="1081080"/>
          </a:xfrm>
        </p:grpSpPr>
        <p:sp>
          <p:nvSpPr>
            <p:cNvPr id="907" name="圆角矩形 18"/>
            <p:cNvSpPr/>
            <p:nvPr/>
          </p:nvSpPr>
          <p:spPr>
            <a:xfrm>
              <a:off x="1368360" y="2174760"/>
              <a:ext cx="1079640" cy="1081080"/>
            </a:xfrm>
            <a:custGeom>
              <a:avLst/>
              <a:gdLst>
                <a:gd name="textAreaLeft" fmla="*/ 158040 w 1079640"/>
                <a:gd name="textAreaRight" fmla="*/ 921600 w 1079640"/>
                <a:gd name="textAreaTop" fmla="*/ 158040 h 1081080"/>
                <a:gd name="textAreaBottom" fmla="*/ 923040 h 1081080"/>
              </a:gdLst>
              <a:ahLst/>
              <a:rect l="textAreaLeft" t="textAreaTop" r="textAreaRight" b="textAreaBottom"/>
              <a:pathLst>
                <a:path w="21600" h="21629">
                  <a:moveTo>
                    <a:pt x="10800" y="0"/>
                  </a:moveTo>
                  <a:arcTo wR="10800" hR="10800" stAng="16200000" swAng="-5400000"/>
                  <a:lnTo>
                    <a:pt x="0" y="10829"/>
                  </a:lnTo>
                  <a:arcTo wR="10800" hR="10800" stAng="10800000" swAng="-5400000"/>
                  <a:lnTo>
                    <a:pt x="10800" y="2162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空心弧 22"/>
            <p:cNvSpPr/>
            <p:nvPr/>
          </p:nvSpPr>
          <p:spPr>
            <a:xfrm>
              <a:off x="1556280" y="2377440"/>
              <a:ext cx="703800" cy="675360"/>
            </a:xfrm>
            <a:custGeom>
              <a:avLst/>
              <a:gdLst>
                <a:gd name="textAreaLeft" fmla="*/ 0 w 703800"/>
                <a:gd name="textAreaRight" fmla="*/ 704160 w 703800"/>
                <a:gd name="textAreaTop" fmla="*/ 0 h 675360"/>
                <a:gd name="textAreaBottom" fmla="*/ 675720 h 67536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09" name="TextBox 21"/>
          <p:cNvSpPr/>
          <p:nvPr/>
        </p:nvSpPr>
        <p:spPr>
          <a:xfrm>
            <a:off x="1042920" y="3440160"/>
            <a:ext cx="172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矩形 22"/>
          <p:cNvSpPr/>
          <p:nvPr/>
        </p:nvSpPr>
        <p:spPr>
          <a:xfrm>
            <a:off x="1511280" y="3994200"/>
            <a:ext cx="793800" cy="249120"/>
          </a:xfrm>
          <a:prstGeom prst="rect">
            <a:avLst/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文字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Rectangle 4"/>
          <p:cNvSpPr/>
          <p:nvPr/>
        </p:nvSpPr>
        <p:spPr>
          <a:xfrm>
            <a:off x="4788000" y="27907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Rectangle 4"/>
          <p:cNvSpPr/>
          <p:nvPr/>
        </p:nvSpPr>
        <p:spPr>
          <a:xfrm>
            <a:off x="4788000" y="35971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1456" dur="indefinite" restart="never" nodeType="tmRoot">
          <p:childTnLst>
            <p:seq>
              <p:cTn id="1457" dur="indefinite" nodeType="mainSeq">
                <p:childTnLst>
                  <p:par>
                    <p:cTn id="1458" nodeType="clickEffect" fill="hold">
                      <p:stCondLst>
                        <p:cond delay="0"/>
                      </p:stCondLst>
                      <p:childTnLst>
                        <p:par>
                          <p:cTn id="1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4" dur="1000" fill="hold"/>
                                        <p:tgtEl>
                                          <p:spTgt spid="9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65" dur="10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9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0" dur="500" fill="hold"/>
                                        <p:tgtEl>
                                          <p:spTgt spid="9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1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9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47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8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4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500" fill="hold"/>
                                        <p:tgtEl>
                                          <p:spTgt spid="8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4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8" dur="500" fill="hold"/>
                                        <p:tgtEl>
                                          <p:spTgt spid="8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9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3" dur="500" fill="hold"/>
                                        <p:tgtEl>
                                          <p:spTgt spid="9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4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5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49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8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9" dur="500" fill="hold"/>
                                        <p:tgtEl>
                                          <p:spTgt spid="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0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9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9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1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91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91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2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2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9" name="组合 1"/>
          <p:cNvGrpSpPr/>
          <p:nvPr/>
        </p:nvGrpSpPr>
        <p:grpSpPr>
          <a:xfrm>
            <a:off x="1143000" y="3236760"/>
            <a:ext cx="2743200" cy="171720"/>
            <a:chOff x="1143000" y="3236760"/>
            <a:chExt cx="2743200" cy="171720"/>
          </a:xfrm>
        </p:grpSpPr>
        <p:sp>
          <p:nvSpPr>
            <p:cNvPr id="930" name="Rectangle 24"/>
            <p:cNvSpPr/>
            <p:nvPr/>
          </p:nvSpPr>
          <p:spPr>
            <a:xfrm>
              <a:off x="1143000" y="3236760"/>
              <a:ext cx="2743200" cy="171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75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Rectangle 25"/>
            <p:cNvSpPr/>
            <p:nvPr/>
          </p:nvSpPr>
          <p:spPr>
            <a:xfrm>
              <a:off x="1143000" y="3236760"/>
              <a:ext cx="1920240" cy="17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FACEBOOK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2" name="组合 4"/>
          <p:cNvGrpSpPr/>
          <p:nvPr/>
        </p:nvGrpSpPr>
        <p:grpSpPr>
          <a:xfrm>
            <a:off x="1143000" y="3456000"/>
            <a:ext cx="2743200" cy="171360"/>
            <a:chOff x="1143000" y="3456000"/>
            <a:chExt cx="2743200" cy="171360"/>
          </a:xfrm>
        </p:grpSpPr>
        <p:sp>
          <p:nvSpPr>
            <p:cNvPr id="933" name="Rectangle 26"/>
            <p:cNvSpPr/>
            <p:nvPr/>
          </p:nvSpPr>
          <p:spPr>
            <a:xfrm>
              <a:off x="1143000" y="345600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92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Rectangle 27"/>
            <p:cNvSpPr/>
            <p:nvPr/>
          </p:nvSpPr>
          <p:spPr>
            <a:xfrm>
              <a:off x="1143000" y="3456000"/>
              <a:ext cx="22633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TWITT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5" name="组合 7"/>
          <p:cNvGrpSpPr/>
          <p:nvPr/>
        </p:nvGrpSpPr>
        <p:grpSpPr>
          <a:xfrm>
            <a:off x="1143000" y="3673440"/>
            <a:ext cx="2743200" cy="171360"/>
            <a:chOff x="1143000" y="3673440"/>
            <a:chExt cx="2743200" cy="171360"/>
          </a:xfrm>
        </p:grpSpPr>
        <p:sp>
          <p:nvSpPr>
            <p:cNvPr id="936" name="Rectangle 28"/>
            <p:cNvSpPr/>
            <p:nvPr/>
          </p:nvSpPr>
          <p:spPr>
            <a:xfrm>
              <a:off x="1143000" y="367344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56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Rectangle 29"/>
            <p:cNvSpPr/>
            <p:nvPr/>
          </p:nvSpPr>
          <p:spPr>
            <a:xfrm>
              <a:off x="1143000" y="3673440"/>
              <a:ext cx="10972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GOOGLE PLU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8" name="组合 10"/>
          <p:cNvGrpSpPr/>
          <p:nvPr/>
        </p:nvGrpSpPr>
        <p:grpSpPr>
          <a:xfrm>
            <a:off x="1143000" y="3892680"/>
            <a:ext cx="2743200" cy="171360"/>
            <a:chOff x="1143000" y="3892680"/>
            <a:chExt cx="2743200" cy="171360"/>
          </a:xfrm>
        </p:grpSpPr>
        <p:sp>
          <p:nvSpPr>
            <p:cNvPr id="939" name="Rectangle 30"/>
            <p:cNvSpPr/>
            <p:nvPr/>
          </p:nvSpPr>
          <p:spPr>
            <a:xfrm>
              <a:off x="1143000" y="389268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Rectangle 31"/>
            <p:cNvSpPr/>
            <p:nvPr/>
          </p:nvSpPr>
          <p:spPr>
            <a:xfrm>
              <a:off x="1143000" y="3892680"/>
              <a:ext cx="14403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PI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41" name="组合 13"/>
          <p:cNvGrpSpPr/>
          <p:nvPr/>
        </p:nvGrpSpPr>
        <p:grpSpPr>
          <a:xfrm>
            <a:off x="1143000" y="4110120"/>
            <a:ext cx="2743200" cy="171360"/>
            <a:chOff x="1143000" y="4110120"/>
            <a:chExt cx="2743200" cy="171360"/>
          </a:xfrm>
        </p:grpSpPr>
        <p:sp>
          <p:nvSpPr>
            <p:cNvPr id="942" name="Rectangle 36"/>
            <p:cNvSpPr/>
            <p:nvPr/>
          </p:nvSpPr>
          <p:spPr>
            <a:xfrm>
              <a:off x="1143000" y="411012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Rectangle 37"/>
            <p:cNvSpPr/>
            <p:nvPr/>
          </p:nvSpPr>
          <p:spPr>
            <a:xfrm>
              <a:off x="1143000" y="4110120"/>
              <a:ext cx="9601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4000"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INSTAGRAMM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4" name="Rectangle 4"/>
          <p:cNvSpPr/>
          <p:nvPr/>
        </p:nvSpPr>
        <p:spPr>
          <a:xfrm>
            <a:off x="4568760" y="3087720"/>
            <a:ext cx="383868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br>
              <a:rPr sz="9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Rectangle 42"/>
          <p:cNvSpPr/>
          <p:nvPr/>
        </p:nvSpPr>
        <p:spPr>
          <a:xfrm>
            <a:off x="6757920" y="312732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rmAutofit fontScale="7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6" name="TextBox 18"/>
          <p:cNvSpPr/>
          <p:nvPr/>
        </p:nvSpPr>
        <p:spPr>
          <a:xfrm>
            <a:off x="1036800" y="1527120"/>
            <a:ext cx="30304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7" name="组合 19"/>
          <p:cNvGrpSpPr/>
          <p:nvPr/>
        </p:nvGrpSpPr>
        <p:grpSpPr>
          <a:xfrm>
            <a:off x="4525920" y="1494000"/>
            <a:ext cx="1013040" cy="593280"/>
            <a:chOff x="4525920" y="1494000"/>
            <a:chExt cx="1013040" cy="593280"/>
          </a:xfrm>
        </p:grpSpPr>
        <p:sp>
          <p:nvSpPr>
            <p:cNvPr id="948" name="TextBox 20"/>
            <p:cNvSpPr/>
            <p:nvPr/>
          </p:nvSpPr>
          <p:spPr>
            <a:xfrm>
              <a:off x="47487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TextBox 21"/>
            <p:cNvSpPr/>
            <p:nvPr/>
          </p:nvSpPr>
          <p:spPr>
            <a:xfrm>
              <a:off x="4525920" y="1896840"/>
              <a:ext cx="1013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ROJECT PROCES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0" name="组合 22"/>
          <p:cNvGrpSpPr/>
          <p:nvPr/>
        </p:nvGrpSpPr>
        <p:grpSpPr>
          <a:xfrm>
            <a:off x="5923440" y="1494000"/>
            <a:ext cx="664200" cy="582480"/>
            <a:chOff x="5923440" y="1494000"/>
            <a:chExt cx="664200" cy="582480"/>
          </a:xfrm>
        </p:grpSpPr>
        <p:sp>
          <p:nvSpPr>
            <p:cNvPr id="951" name="TextBox 23"/>
            <p:cNvSpPr/>
            <p:nvPr/>
          </p:nvSpPr>
          <p:spPr>
            <a:xfrm>
              <a:off x="592344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8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TextBox 24"/>
            <p:cNvSpPr/>
            <p:nvPr/>
          </p:nvSpPr>
          <p:spPr>
            <a:xfrm>
              <a:off x="5963400" y="1886040"/>
              <a:ext cx="5436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INN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53" name="组合 25"/>
          <p:cNvGrpSpPr/>
          <p:nvPr/>
        </p:nvGrpSpPr>
        <p:grpSpPr>
          <a:xfrm>
            <a:off x="7115400" y="1494000"/>
            <a:ext cx="669960" cy="582480"/>
            <a:chOff x="7115400" y="1494000"/>
            <a:chExt cx="669960" cy="582480"/>
          </a:xfrm>
        </p:grpSpPr>
        <p:sp>
          <p:nvSpPr>
            <p:cNvPr id="954" name="TextBox 26"/>
            <p:cNvSpPr/>
            <p:nvPr/>
          </p:nvSpPr>
          <p:spPr>
            <a:xfrm>
              <a:off x="71211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4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TextBox 27"/>
            <p:cNvSpPr/>
            <p:nvPr/>
          </p:nvSpPr>
          <p:spPr>
            <a:xfrm>
              <a:off x="7115400" y="1886040"/>
              <a:ext cx="644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EW US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6" name="椭圆 30"/>
          <p:cNvSpPr/>
          <p:nvPr/>
        </p:nvSpPr>
        <p:spPr>
          <a:xfrm>
            <a:off x="5979960" y="2233440"/>
            <a:ext cx="455760" cy="455760"/>
          </a:xfrm>
          <a:custGeom>
            <a:avLst/>
            <a:gdLst>
              <a:gd name="textAreaLeft" fmla="*/ 0 w 455760"/>
              <a:gd name="textAreaRight" fmla="*/ 456120 w 455760"/>
              <a:gd name="textAreaTop" fmla="*/ 0 h 455760"/>
              <a:gd name="textAreaBottom" fmla="*/ 456120 h 455760"/>
            </a:gdLst>
            <a:ahLst/>
            <a:rect l="textAreaLeft" t="textAreaTop" r="textAreaRight" b="textAreaBottom"/>
            <a:pathLst>
              <a:path w="944830" h="944830">
                <a:moveTo>
                  <a:pt x="472415" y="0"/>
                </a:moveTo>
                <a:lnTo>
                  <a:pt x="646674" y="174258"/>
                </a:lnTo>
                <a:cubicBezTo>
                  <a:pt x="660469" y="126985"/>
                  <a:pt x="704464" y="93179"/>
                  <a:pt x="756355" y="93179"/>
                </a:cubicBezTo>
                <a:cubicBezTo>
                  <a:pt x="820926" y="93179"/>
                  <a:pt x="873272" y="145525"/>
                  <a:pt x="873272" y="210096"/>
                </a:cubicBezTo>
                <a:cubicBezTo>
                  <a:pt x="873272" y="261987"/>
                  <a:pt x="839466" y="305983"/>
                  <a:pt x="792193" y="319778"/>
                </a:cubicBezTo>
                <a:lnTo>
                  <a:pt x="944830" y="472415"/>
                </a:lnTo>
                <a:lnTo>
                  <a:pt x="787583" y="629662"/>
                </a:lnTo>
                <a:cubicBezTo>
                  <a:pt x="768788" y="595026"/>
                  <a:pt x="731782" y="572630"/>
                  <a:pt x="689546" y="572630"/>
                </a:cubicBezTo>
                <a:cubicBezTo>
                  <a:pt x="624975" y="572630"/>
                  <a:pt x="572629" y="624976"/>
                  <a:pt x="572629" y="689547"/>
                </a:cubicBezTo>
                <a:cubicBezTo>
                  <a:pt x="572629" y="731783"/>
                  <a:pt x="595025" y="768788"/>
                  <a:pt x="629662" y="787584"/>
                </a:cubicBezTo>
                <a:lnTo>
                  <a:pt x="472415" y="944830"/>
                </a:lnTo>
                <a:lnTo>
                  <a:pt x="315169" y="787584"/>
                </a:lnTo>
                <a:cubicBezTo>
                  <a:pt x="349805" y="768788"/>
                  <a:pt x="372201" y="731783"/>
                  <a:pt x="372201" y="689547"/>
                </a:cubicBezTo>
                <a:cubicBezTo>
                  <a:pt x="372201" y="624976"/>
                  <a:pt x="319855" y="572630"/>
                  <a:pt x="255284" y="572630"/>
                </a:cubicBezTo>
                <a:cubicBezTo>
                  <a:pt x="213048" y="572630"/>
                  <a:pt x="176043" y="595026"/>
                  <a:pt x="157247" y="629662"/>
                </a:cubicBezTo>
                <a:lnTo>
                  <a:pt x="0" y="472415"/>
                </a:lnTo>
                <a:lnTo>
                  <a:pt x="152637" y="319778"/>
                </a:lnTo>
                <a:cubicBezTo>
                  <a:pt x="105363" y="305983"/>
                  <a:pt x="71557" y="261987"/>
                  <a:pt x="71557" y="210096"/>
                </a:cubicBezTo>
                <a:cubicBezTo>
                  <a:pt x="71557" y="145525"/>
                  <a:pt x="123903" y="93179"/>
                  <a:pt x="188474" y="93179"/>
                </a:cubicBezTo>
                <a:cubicBezTo>
                  <a:pt x="240365" y="93179"/>
                  <a:pt x="284362" y="126985"/>
                  <a:pt x="298156" y="174259"/>
                </a:cubicBezTo>
                <a:lnTo>
                  <a:pt x="472415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圆角矩形 68"/>
          <p:cNvSpPr/>
          <p:nvPr/>
        </p:nvSpPr>
        <p:spPr>
          <a:xfrm>
            <a:off x="4807080" y="2309760"/>
            <a:ext cx="469800" cy="303120"/>
          </a:xfrm>
          <a:custGeom>
            <a:avLst/>
            <a:gdLst>
              <a:gd name="textAreaLeft" fmla="*/ 0 w 469800"/>
              <a:gd name="textAreaRight" fmla="*/ 470160 w 4698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弦形 72"/>
          <p:cNvSpPr/>
          <p:nvPr/>
        </p:nvSpPr>
        <p:spPr>
          <a:xfrm rot="5400000">
            <a:off x="7238880" y="2228760"/>
            <a:ext cx="346320" cy="447840"/>
          </a:xfrm>
          <a:custGeom>
            <a:avLst/>
            <a:gdLst>
              <a:gd name="textAreaLeft" fmla="*/ 0 w 346320"/>
              <a:gd name="textAreaRight" fmla="*/ 346680 w 34632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717555" h="930438">
                <a:moveTo>
                  <a:pt x="352910" y="132897"/>
                </a:moveTo>
                <a:cubicBezTo>
                  <a:pt x="352910" y="168335"/>
                  <a:pt x="381638" y="197063"/>
                  <a:pt x="417076" y="197063"/>
                </a:cubicBezTo>
                <a:cubicBezTo>
                  <a:pt x="452514" y="197063"/>
                  <a:pt x="481242" y="168335"/>
                  <a:pt x="481242" y="132897"/>
                </a:cubicBezTo>
                <a:cubicBezTo>
                  <a:pt x="481242" y="97459"/>
                  <a:pt x="452514" y="68731"/>
                  <a:pt x="417076" y="68731"/>
                </a:cubicBezTo>
                <a:cubicBezTo>
                  <a:pt x="381638" y="68731"/>
                  <a:pt x="352910" y="97459"/>
                  <a:pt x="352910" y="132897"/>
                </a:cubicBezTo>
                <a:close/>
                <a:moveTo>
                  <a:pt x="352910" y="797543"/>
                </a:moveTo>
                <a:cubicBezTo>
                  <a:pt x="352910" y="832981"/>
                  <a:pt x="381638" y="861709"/>
                  <a:pt x="417076" y="861709"/>
                </a:cubicBezTo>
                <a:cubicBezTo>
                  <a:pt x="452514" y="861709"/>
                  <a:pt x="481242" y="832981"/>
                  <a:pt x="481242" y="797543"/>
                </a:cubicBezTo>
                <a:cubicBezTo>
                  <a:pt x="481242" y="762105"/>
                  <a:pt x="452514" y="733377"/>
                  <a:pt x="417076" y="733377"/>
                </a:cubicBezTo>
                <a:cubicBezTo>
                  <a:pt x="381638" y="733377"/>
                  <a:pt x="352910" y="762105"/>
                  <a:pt x="352910" y="797543"/>
                </a:cubicBezTo>
                <a:close/>
                <a:moveTo>
                  <a:pt x="301979" y="346541"/>
                </a:moveTo>
                <a:cubicBezTo>
                  <a:pt x="304233" y="356187"/>
                  <a:pt x="310166" y="364973"/>
                  <a:pt x="319245" y="370612"/>
                </a:cubicBezTo>
                <a:lnTo>
                  <a:pt x="457580" y="456545"/>
                </a:lnTo>
                <a:lnTo>
                  <a:pt x="455829" y="465220"/>
                </a:lnTo>
                <a:cubicBezTo>
                  <a:pt x="455829" y="514693"/>
                  <a:pt x="495934" y="554798"/>
                  <a:pt x="545407" y="554798"/>
                </a:cubicBezTo>
                <a:cubicBezTo>
                  <a:pt x="594880" y="554798"/>
                  <a:pt x="634985" y="514693"/>
                  <a:pt x="634985" y="465220"/>
                </a:cubicBezTo>
                <a:cubicBezTo>
                  <a:pt x="634985" y="415747"/>
                  <a:pt x="594880" y="375642"/>
                  <a:pt x="545407" y="375642"/>
                </a:cubicBezTo>
                <a:cubicBezTo>
                  <a:pt x="527831" y="375642"/>
                  <a:pt x="511437" y="380704"/>
                  <a:pt x="498470" y="390819"/>
                </a:cubicBezTo>
                <a:lnTo>
                  <a:pt x="360091" y="304858"/>
                </a:lnTo>
                <a:cubicBezTo>
                  <a:pt x="341933" y="293579"/>
                  <a:pt x="318070" y="299154"/>
                  <a:pt x="306791" y="317312"/>
                </a:cubicBezTo>
                <a:cubicBezTo>
                  <a:pt x="301151" y="326391"/>
                  <a:pt x="299725" y="336896"/>
                  <a:pt x="301979" y="346541"/>
                </a:cubicBezTo>
                <a:close/>
                <a:moveTo>
                  <a:pt x="158037" y="252790"/>
                </a:moveTo>
                <a:cubicBezTo>
                  <a:pt x="158037" y="288228"/>
                  <a:pt x="186765" y="316956"/>
                  <a:pt x="222203" y="316956"/>
                </a:cubicBezTo>
                <a:cubicBezTo>
                  <a:pt x="257641" y="316956"/>
                  <a:pt x="286369" y="288228"/>
                  <a:pt x="286369" y="252790"/>
                </a:cubicBezTo>
                <a:cubicBezTo>
                  <a:pt x="286369" y="217352"/>
                  <a:pt x="257641" y="188624"/>
                  <a:pt x="222203" y="188624"/>
                </a:cubicBezTo>
                <a:cubicBezTo>
                  <a:pt x="186765" y="188624"/>
                  <a:pt x="158037" y="217352"/>
                  <a:pt x="158037" y="252790"/>
                </a:cubicBezTo>
                <a:close/>
                <a:moveTo>
                  <a:pt x="158037" y="677650"/>
                </a:moveTo>
                <a:cubicBezTo>
                  <a:pt x="158037" y="713088"/>
                  <a:pt x="186765" y="741816"/>
                  <a:pt x="222203" y="741816"/>
                </a:cubicBezTo>
                <a:cubicBezTo>
                  <a:pt x="257641" y="741816"/>
                  <a:pt x="286369" y="713088"/>
                  <a:pt x="286369" y="677650"/>
                </a:cubicBezTo>
                <a:cubicBezTo>
                  <a:pt x="286369" y="642212"/>
                  <a:pt x="257641" y="613484"/>
                  <a:pt x="222203" y="613484"/>
                </a:cubicBezTo>
                <a:cubicBezTo>
                  <a:pt x="186765" y="613484"/>
                  <a:pt x="158037" y="642212"/>
                  <a:pt x="158037" y="677650"/>
                </a:cubicBezTo>
                <a:close/>
                <a:moveTo>
                  <a:pt x="64165" y="465219"/>
                </a:moveTo>
                <a:cubicBezTo>
                  <a:pt x="64165" y="500657"/>
                  <a:pt x="92893" y="529385"/>
                  <a:pt x="128331" y="529385"/>
                </a:cubicBezTo>
                <a:cubicBezTo>
                  <a:pt x="163769" y="529385"/>
                  <a:pt x="192497" y="500657"/>
                  <a:pt x="192497" y="465219"/>
                </a:cubicBezTo>
                <a:cubicBezTo>
                  <a:pt x="192497" y="429781"/>
                  <a:pt x="163769" y="401053"/>
                  <a:pt x="128331" y="401053"/>
                </a:cubicBezTo>
                <a:cubicBezTo>
                  <a:pt x="92893" y="401053"/>
                  <a:pt x="64165" y="429781"/>
                  <a:pt x="64165" y="465219"/>
                </a:cubicBezTo>
                <a:close/>
                <a:moveTo>
                  <a:pt x="0" y="464949"/>
                </a:moveTo>
                <a:cubicBezTo>
                  <a:pt x="63" y="356260"/>
                  <a:pt x="38056" y="247594"/>
                  <a:pt x="113964" y="160187"/>
                </a:cubicBezTo>
                <a:cubicBezTo>
                  <a:pt x="265781" y="-14627"/>
                  <a:pt x="523048" y="-51186"/>
                  <a:pt x="717555" y="74413"/>
                </a:cubicBezTo>
                <a:cubicBezTo>
                  <a:pt x="717403" y="335048"/>
                  <a:pt x="717252" y="595684"/>
                  <a:pt x="717100" y="856319"/>
                </a:cubicBezTo>
                <a:cubicBezTo>
                  <a:pt x="522446" y="981691"/>
                  <a:pt x="265223" y="944833"/>
                  <a:pt x="113609" y="769842"/>
                </a:cubicBezTo>
                <a:cubicBezTo>
                  <a:pt x="37802" y="682347"/>
                  <a:pt x="-64" y="573637"/>
                  <a:pt x="0" y="46494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08" dur="indefinite" restart="never" nodeType="tmRoot">
          <p:childTnLst>
            <p:seq>
              <p:cTn id="1509" dur="indefinite" nodeType="mainSeq">
                <p:childTnLst>
                  <p:par>
                    <p:cTn id="1510" nodeType="clickEffect" fill="hold">
                      <p:stCondLst>
                        <p:cond delay="0"/>
                      </p:stCondLst>
                      <p:childTnLst>
                        <p:par>
                          <p:cTn id="1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0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1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9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9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5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4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9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2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9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9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9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3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56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7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68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9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5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2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9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1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962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63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964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6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6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75" name="组合 1"/>
          <p:cNvGrpSpPr/>
          <p:nvPr/>
        </p:nvGrpSpPr>
        <p:grpSpPr>
          <a:xfrm>
            <a:off x="3399840" y="1014840"/>
            <a:ext cx="2050560" cy="3305520"/>
            <a:chOff x="3399840" y="1014840"/>
            <a:chExt cx="2050560" cy="3305520"/>
          </a:xfrm>
        </p:grpSpPr>
        <p:grpSp>
          <p:nvGrpSpPr>
            <p:cNvPr id="976" name="组合 2"/>
            <p:cNvGrpSpPr/>
            <p:nvPr/>
          </p:nvGrpSpPr>
          <p:grpSpPr>
            <a:xfrm>
              <a:off x="3399840" y="1014840"/>
              <a:ext cx="2050560" cy="3011760"/>
              <a:chOff x="3399840" y="1014840"/>
              <a:chExt cx="2050560" cy="3011760"/>
            </a:xfrm>
          </p:grpSpPr>
          <p:sp>
            <p:nvSpPr>
              <p:cNvPr id="977" name="直接连接符 6"/>
              <p:cNvSpPr/>
              <p:nvPr/>
            </p:nvSpPr>
            <p:spPr>
              <a:xfrm>
                <a:off x="4755600" y="10148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8" name="直接连接符 7"/>
              <p:cNvSpPr/>
              <p:nvPr/>
            </p:nvSpPr>
            <p:spPr>
              <a:xfrm>
                <a:off x="3399840" y="23702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79" name="组合 3"/>
            <p:cNvGrpSpPr/>
            <p:nvPr/>
          </p:nvGrpSpPr>
          <p:grpSpPr>
            <a:xfrm>
              <a:off x="3399840" y="1308600"/>
              <a:ext cx="2050560" cy="3011760"/>
              <a:chOff x="3399840" y="1308600"/>
              <a:chExt cx="2050560" cy="3011760"/>
            </a:xfrm>
          </p:grpSpPr>
          <p:sp>
            <p:nvSpPr>
              <p:cNvPr id="980" name="直接连接符 4"/>
              <p:cNvSpPr/>
              <p:nvPr/>
            </p:nvSpPr>
            <p:spPr>
              <a:xfrm flipV="1">
                <a:off x="4755600" y="26640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1" name="直接连接符 5"/>
              <p:cNvSpPr/>
              <p:nvPr/>
            </p:nvSpPr>
            <p:spPr>
              <a:xfrm flipV="1">
                <a:off x="3399840" y="13086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82" name="组合 8"/>
          <p:cNvGrpSpPr/>
          <p:nvPr/>
        </p:nvGrpSpPr>
        <p:grpSpPr>
          <a:xfrm>
            <a:off x="3828960" y="2185920"/>
            <a:ext cx="1486080" cy="1487520"/>
            <a:chOff x="3828960" y="2185920"/>
            <a:chExt cx="1486080" cy="1487520"/>
          </a:xfrm>
        </p:grpSpPr>
        <p:sp>
          <p:nvSpPr>
            <p:cNvPr id="983" name="椭圆 9"/>
            <p:cNvSpPr/>
            <p:nvPr/>
          </p:nvSpPr>
          <p:spPr>
            <a:xfrm>
              <a:off x="3828960" y="2185920"/>
              <a:ext cx="1486080" cy="1487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84" name="组合 10"/>
            <p:cNvGrpSpPr/>
            <p:nvPr/>
          </p:nvGrpSpPr>
          <p:grpSpPr>
            <a:xfrm>
              <a:off x="3903840" y="2233080"/>
              <a:ext cx="1335960" cy="1393200"/>
              <a:chOff x="3903840" y="2233080"/>
              <a:chExt cx="1335960" cy="1393200"/>
            </a:xfrm>
          </p:grpSpPr>
          <p:sp>
            <p:nvSpPr>
              <p:cNvPr id="985" name="椭圆 79"/>
              <p:cNvSpPr/>
              <p:nvPr/>
            </p:nvSpPr>
            <p:spPr>
              <a:xfrm rot="2160000">
                <a:off x="3971880" y="25272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6" name="椭圆 79"/>
              <p:cNvSpPr/>
              <p:nvPr/>
            </p:nvSpPr>
            <p:spPr>
              <a:xfrm>
                <a:off x="3903840" y="273888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7" name="椭圆 79"/>
              <p:cNvSpPr/>
              <p:nvPr/>
            </p:nvSpPr>
            <p:spPr>
              <a:xfrm flipH="1">
                <a:off x="4622040" y="273888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8" name="椭圆 79"/>
              <p:cNvSpPr/>
              <p:nvPr/>
            </p:nvSpPr>
            <p:spPr>
              <a:xfrm flipH="1" rot="2160000">
                <a:off x="4550760" y="294876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9" name="椭圆 79"/>
              <p:cNvSpPr/>
              <p:nvPr/>
            </p:nvSpPr>
            <p:spPr>
              <a:xfrm flipH="1" rot="4320000">
                <a:off x="4372200" y="308124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0" name="椭圆 79"/>
              <p:cNvSpPr/>
              <p:nvPr/>
            </p:nvSpPr>
            <p:spPr>
              <a:xfrm rot="4320000">
                <a:off x="4150440" y="239616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1" name="椭圆 79"/>
              <p:cNvSpPr/>
              <p:nvPr/>
            </p:nvSpPr>
            <p:spPr>
              <a:xfrm flipH="1" rot="6480000">
                <a:off x="4150440" y="308088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2" name="椭圆 79"/>
              <p:cNvSpPr/>
              <p:nvPr/>
            </p:nvSpPr>
            <p:spPr>
              <a:xfrm rot="6480000">
                <a:off x="4373280" y="239472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3" name="椭圆 79"/>
              <p:cNvSpPr/>
              <p:nvPr/>
            </p:nvSpPr>
            <p:spPr>
              <a:xfrm flipH="1" rot="8640000">
                <a:off x="3971880" y="294804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94" name="椭圆 79"/>
              <p:cNvSpPr/>
              <p:nvPr/>
            </p:nvSpPr>
            <p:spPr>
              <a:xfrm rot="8640000">
                <a:off x="4552920" y="25290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95" name="Rectangle 4"/>
          <p:cNvSpPr/>
          <p:nvPr/>
        </p:nvSpPr>
        <p:spPr>
          <a:xfrm>
            <a:off x="6083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Rectangle 4"/>
          <p:cNvSpPr/>
          <p:nvPr/>
        </p:nvSpPr>
        <p:spPr>
          <a:xfrm>
            <a:off x="6083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7" name="组合 23"/>
          <p:cNvGrpSpPr/>
          <p:nvPr/>
        </p:nvGrpSpPr>
        <p:grpSpPr>
          <a:xfrm>
            <a:off x="3197160" y="1558800"/>
            <a:ext cx="2749680" cy="2741760"/>
            <a:chOff x="3197160" y="1558800"/>
            <a:chExt cx="2749680" cy="2741760"/>
          </a:xfrm>
        </p:grpSpPr>
        <p:grpSp>
          <p:nvGrpSpPr>
            <p:cNvPr id="998" name="组合 24"/>
            <p:cNvGrpSpPr/>
            <p:nvPr/>
          </p:nvGrpSpPr>
          <p:grpSpPr>
            <a:xfrm>
              <a:off x="3197160" y="2689920"/>
              <a:ext cx="2749680" cy="479520"/>
              <a:chOff x="3197160" y="2689920"/>
              <a:chExt cx="2749680" cy="479520"/>
            </a:xfrm>
          </p:grpSpPr>
          <p:grpSp>
            <p:nvGrpSpPr>
              <p:cNvPr id="999" name="组合 34"/>
              <p:cNvGrpSpPr/>
              <p:nvPr/>
            </p:nvGrpSpPr>
            <p:grpSpPr>
              <a:xfrm>
                <a:off x="3197160" y="2689920"/>
                <a:ext cx="475560" cy="475560"/>
                <a:chOff x="3197160" y="2689920"/>
                <a:chExt cx="475560" cy="475560"/>
              </a:xfrm>
            </p:grpSpPr>
            <p:sp>
              <p:nvSpPr>
                <p:cNvPr id="1000" name="圆角矩形 39"/>
                <p:cNvSpPr/>
                <p:nvPr/>
              </p:nvSpPr>
              <p:spPr>
                <a:xfrm>
                  <a:off x="3197160" y="268992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1" name="圆角矩形 12"/>
                <p:cNvSpPr/>
                <p:nvPr/>
              </p:nvSpPr>
              <p:spPr>
                <a:xfrm>
                  <a:off x="3277800" y="2813760"/>
                  <a:ext cx="393480" cy="349920"/>
                </a:xfrm>
                <a:custGeom>
                  <a:avLst/>
                  <a:gdLst>
                    <a:gd name="textAreaLeft" fmla="*/ 0 w 393480"/>
                    <a:gd name="textAreaRight" fmla="*/ 393840 w 393480"/>
                    <a:gd name="textAreaTop" fmla="*/ 0 h 349920"/>
                    <a:gd name="textAreaBottom" fmla="*/ 350280 h 349920"/>
                  </a:gdLst>
                  <a:ahLst/>
                  <a:rect l="textAreaLeft" t="textAreaTop" r="textAreaRight" b="textAreaBottom"/>
                  <a:pathLst>
                    <a:path w="1164309" h="1035953">
                      <a:moveTo>
                        <a:pt x="300955" y="0"/>
                      </a:moveTo>
                      <a:lnTo>
                        <a:pt x="462879" y="11907"/>
                      </a:lnTo>
                      <a:lnTo>
                        <a:pt x="622782" y="122893"/>
                      </a:lnTo>
                      <a:lnTo>
                        <a:pt x="718687" y="105904"/>
                      </a:lnTo>
                      <a:lnTo>
                        <a:pt x="864545" y="125274"/>
                      </a:lnTo>
                      <a:lnTo>
                        <a:pt x="1164309" y="380469"/>
                      </a:lnTo>
                      <a:cubicBezTo>
                        <a:pt x="1145643" y="733516"/>
                        <a:pt x="863958" y="1016051"/>
                        <a:pt x="511256" y="1035953"/>
                      </a:cubicBezTo>
                      <a:lnTo>
                        <a:pt x="0" y="646727"/>
                      </a:lnTo>
                      <a:lnTo>
                        <a:pt x="360111" y="529214"/>
                      </a:lnTo>
                      <a:lnTo>
                        <a:pt x="6038" y="472065"/>
                      </a:lnTo>
                      <a:cubicBezTo>
                        <a:pt x="-19696" y="394976"/>
                        <a:pt x="170840" y="88202"/>
                        <a:pt x="205705" y="66676"/>
                      </a:cubicBezTo>
                      <a:cubicBezTo>
                        <a:pt x="240570" y="45150"/>
                        <a:pt x="258092" y="9128"/>
                        <a:pt x="300955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2" name="圆角矩形 68"/>
                <p:cNvSpPr/>
                <p:nvPr/>
              </p:nvSpPr>
              <p:spPr>
                <a:xfrm>
                  <a:off x="3250080" y="2804400"/>
                  <a:ext cx="374760" cy="2412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1142127" h="735451">
                      <a:moveTo>
                        <a:pt x="395071" y="73657"/>
                      </a:moveTo>
                      <a:cubicBezTo>
                        <a:pt x="502346" y="73657"/>
                        <a:pt x="595355" y="134738"/>
                        <a:pt x="640066" y="224461"/>
                      </a:cubicBezTo>
                      <a:cubicBezTo>
                        <a:pt x="667298" y="197950"/>
                        <a:pt x="704634" y="182352"/>
                        <a:pt x="745612" y="182352"/>
                      </a:cubicBezTo>
                      <a:cubicBezTo>
                        <a:pt x="832889" y="182352"/>
                        <a:pt x="903640" y="253104"/>
                        <a:pt x="903640" y="340380"/>
                      </a:cubicBezTo>
                      <a:lnTo>
                        <a:pt x="900863" y="354142"/>
                      </a:lnTo>
                      <a:cubicBezTo>
                        <a:pt x="974852" y="382299"/>
                        <a:pt x="1027183" y="453997"/>
                        <a:pt x="1027183" y="537916"/>
                      </a:cubicBezTo>
                      <a:cubicBezTo>
                        <a:pt x="1027183" y="647011"/>
                        <a:pt x="938743" y="735451"/>
                        <a:pt x="829648" y="735451"/>
                      </a:cubicBezTo>
                      <a:lnTo>
                        <a:pt x="197535" y="735451"/>
                      </a:lnTo>
                      <a:cubicBezTo>
                        <a:pt x="88440" y="735451"/>
                        <a:pt x="0" y="647011"/>
                        <a:pt x="0" y="537916"/>
                      </a:cubicBezTo>
                      <a:cubicBezTo>
                        <a:pt x="0" y="456704"/>
                        <a:pt x="49008" y="386940"/>
                        <a:pt x="119194" y="356883"/>
                      </a:cubicBezTo>
                      <a:cubicBezTo>
                        <a:pt x="118547" y="354674"/>
                        <a:pt x="118521" y="352443"/>
                        <a:pt x="118521" y="350207"/>
                      </a:cubicBezTo>
                      <a:cubicBezTo>
                        <a:pt x="118521" y="197473"/>
                        <a:pt x="242337" y="73657"/>
                        <a:pt x="395071" y="73657"/>
                      </a:cubicBezTo>
                      <a:close/>
                      <a:moveTo>
                        <a:pt x="510015" y="0"/>
                      </a:moveTo>
                      <a:cubicBezTo>
                        <a:pt x="617290" y="0"/>
                        <a:pt x="710299" y="61081"/>
                        <a:pt x="755010" y="150804"/>
                      </a:cubicBezTo>
                      <a:cubicBezTo>
                        <a:pt x="782242" y="124293"/>
                        <a:pt x="819578" y="108695"/>
                        <a:pt x="860556" y="108695"/>
                      </a:cubicBezTo>
                      <a:cubicBezTo>
                        <a:pt x="947833" y="108695"/>
                        <a:pt x="1018584" y="179447"/>
                        <a:pt x="1018584" y="266723"/>
                      </a:cubicBezTo>
                      <a:lnTo>
                        <a:pt x="1015807" y="280485"/>
                      </a:lnTo>
                      <a:cubicBezTo>
                        <a:pt x="1089796" y="308642"/>
                        <a:pt x="1142127" y="380340"/>
                        <a:pt x="1142127" y="464259"/>
                      </a:cubicBezTo>
                      <a:cubicBezTo>
                        <a:pt x="1142127" y="542469"/>
                        <a:pt x="1096675" y="610063"/>
                        <a:pt x="1029998" y="640529"/>
                      </a:cubicBezTo>
                      <a:cubicBezTo>
                        <a:pt x="1054923" y="609992"/>
                        <a:pt x="1067603" y="570777"/>
                        <a:pt x="1067603" y="528601"/>
                      </a:cubicBezTo>
                      <a:cubicBezTo>
                        <a:pt x="1067603" y="441120"/>
                        <a:pt x="1013051" y="366379"/>
                        <a:pt x="935921" y="337028"/>
                      </a:cubicBezTo>
                      <a:lnTo>
                        <a:pt x="938817" y="322682"/>
                      </a:lnTo>
                      <a:cubicBezTo>
                        <a:pt x="938817" y="231701"/>
                        <a:pt x="865062" y="157947"/>
                        <a:pt x="774081" y="157947"/>
                      </a:cubicBezTo>
                      <a:cubicBezTo>
                        <a:pt x="731364" y="157947"/>
                        <a:pt x="692443" y="174206"/>
                        <a:pt x="664055" y="201842"/>
                      </a:cubicBezTo>
                      <a:cubicBezTo>
                        <a:pt x="617446" y="108311"/>
                        <a:pt x="520490" y="44638"/>
                        <a:pt x="408662" y="44638"/>
                      </a:cubicBezTo>
                      <a:lnTo>
                        <a:pt x="351558" y="50395"/>
                      </a:lnTo>
                      <a:cubicBezTo>
                        <a:pt x="396233" y="18509"/>
                        <a:pt x="450962" y="0"/>
                        <a:pt x="510015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3" name="组合 35"/>
              <p:cNvGrpSpPr/>
              <p:nvPr/>
            </p:nvGrpSpPr>
            <p:grpSpPr>
              <a:xfrm>
                <a:off x="5471280" y="2693880"/>
                <a:ext cx="475560" cy="475560"/>
                <a:chOff x="5471280" y="2693880"/>
                <a:chExt cx="475560" cy="475560"/>
              </a:xfrm>
            </p:grpSpPr>
            <p:sp>
              <p:nvSpPr>
                <p:cNvPr id="1004" name="圆角矩形 36"/>
                <p:cNvSpPr/>
                <p:nvPr/>
              </p:nvSpPr>
              <p:spPr>
                <a:xfrm>
                  <a:off x="5471280" y="269388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5" name="圆角矩形 3"/>
                <p:cNvSpPr/>
                <p:nvPr/>
              </p:nvSpPr>
              <p:spPr>
                <a:xfrm>
                  <a:off x="5562360" y="2823480"/>
                  <a:ext cx="384480" cy="342720"/>
                </a:xfrm>
                <a:custGeom>
                  <a:avLst/>
                  <a:gdLst>
                    <a:gd name="textAreaLeft" fmla="*/ 0 w 384480"/>
                    <a:gd name="textAreaRight" fmla="*/ 384840 w 38448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522990" h="466072">
                      <a:moveTo>
                        <a:pt x="16929" y="0"/>
                      </a:moveTo>
                      <a:lnTo>
                        <a:pt x="399949" y="0"/>
                      </a:lnTo>
                      <a:lnTo>
                        <a:pt x="402078" y="3553"/>
                      </a:lnTo>
                      <a:lnTo>
                        <a:pt x="517162" y="89244"/>
                      </a:lnTo>
                      <a:lnTo>
                        <a:pt x="522990" y="147058"/>
                      </a:lnTo>
                      <a:lnTo>
                        <a:pt x="522990" y="147068"/>
                      </a:lnTo>
                      <a:cubicBezTo>
                        <a:pt x="522990" y="310395"/>
                        <a:pt x="401973" y="445455"/>
                        <a:pt x="244519" y="466072"/>
                      </a:cubicBezTo>
                      <a:lnTo>
                        <a:pt x="0" y="294921"/>
                      </a:lnTo>
                      <a:lnTo>
                        <a:pt x="7457" y="198750"/>
                      </a:lnTo>
                      <a:lnTo>
                        <a:pt x="5662" y="98190"/>
                      </a:lnTo>
                      <a:lnTo>
                        <a:pt x="1692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6" name="圆角矩形 43"/>
                <p:cNvSpPr/>
                <p:nvPr/>
              </p:nvSpPr>
              <p:spPr>
                <a:xfrm>
                  <a:off x="5546880" y="2815920"/>
                  <a:ext cx="324360" cy="231480"/>
                </a:xfrm>
                <a:custGeom>
                  <a:avLst/>
                  <a:gdLst>
                    <a:gd name="textAreaLeft" fmla="*/ 0 w 324360"/>
                    <a:gd name="textAreaRight" fmla="*/ 324360 w 324360"/>
                    <a:gd name="textAreaTop" fmla="*/ 0 h 231480"/>
                    <a:gd name="textAreaBottom" fmla="*/ 231840 h 231480"/>
                  </a:gdLst>
                  <a:ahLst/>
                  <a:rect l="textAreaLeft" t="textAreaTop" r="textAreaRight" b="textAreaBottom"/>
                  <a:pathLst>
                    <a:path w="887502" h="633930">
                      <a:moveTo>
                        <a:pt x="84255" y="535095"/>
                      </a:moveTo>
                      <a:lnTo>
                        <a:pt x="84255" y="577357"/>
                      </a:lnTo>
                      <a:lnTo>
                        <a:pt x="803248" y="577357"/>
                      </a:lnTo>
                      <a:lnTo>
                        <a:pt x="803248" y="535095"/>
                      </a:lnTo>
                      <a:lnTo>
                        <a:pt x="84255" y="535095"/>
                      </a:lnTo>
                      <a:close/>
                      <a:moveTo>
                        <a:pt x="449149" y="274073"/>
                      </a:moveTo>
                      <a:cubicBezTo>
                        <a:pt x="422581" y="272304"/>
                        <a:pt x="396832" y="283666"/>
                        <a:pt x="380230" y="304484"/>
                      </a:cubicBezTo>
                      <a:cubicBezTo>
                        <a:pt x="363629" y="325302"/>
                        <a:pt x="358282" y="352934"/>
                        <a:pt x="365919" y="378442"/>
                      </a:cubicBezTo>
                      <a:lnTo>
                        <a:pt x="400617" y="368053"/>
                      </a:lnTo>
                      <a:cubicBezTo>
                        <a:pt x="396386" y="353917"/>
                        <a:pt x="399349" y="338605"/>
                        <a:pt x="408549" y="327067"/>
                      </a:cubicBezTo>
                      <a:cubicBezTo>
                        <a:pt x="417750" y="315531"/>
                        <a:pt x="432019" y="309235"/>
                        <a:pt x="446743" y="310215"/>
                      </a:cubicBezTo>
                      <a:lnTo>
                        <a:pt x="449149" y="274073"/>
                      </a:lnTo>
                      <a:close/>
                      <a:moveTo>
                        <a:pt x="443751" y="259914"/>
                      </a:moveTo>
                      <a:cubicBezTo>
                        <a:pt x="495330" y="259914"/>
                        <a:pt x="537143" y="301727"/>
                        <a:pt x="537143" y="353306"/>
                      </a:cubicBezTo>
                      <a:cubicBezTo>
                        <a:pt x="537143" y="404885"/>
                        <a:pt x="495330" y="446698"/>
                        <a:pt x="443751" y="446698"/>
                      </a:cubicBezTo>
                      <a:cubicBezTo>
                        <a:pt x="392172" y="446698"/>
                        <a:pt x="350359" y="404885"/>
                        <a:pt x="350359" y="353306"/>
                      </a:cubicBezTo>
                      <a:cubicBezTo>
                        <a:pt x="350359" y="301727"/>
                        <a:pt x="392172" y="259914"/>
                        <a:pt x="443751" y="259914"/>
                      </a:cubicBezTo>
                      <a:close/>
                      <a:moveTo>
                        <a:pt x="443751" y="205389"/>
                      </a:moveTo>
                      <a:cubicBezTo>
                        <a:pt x="362059" y="205389"/>
                        <a:pt x="295834" y="271614"/>
                        <a:pt x="295834" y="353306"/>
                      </a:cubicBezTo>
                      <a:cubicBezTo>
                        <a:pt x="295834" y="434998"/>
                        <a:pt x="362059" y="501223"/>
                        <a:pt x="443751" y="501223"/>
                      </a:cubicBezTo>
                      <a:cubicBezTo>
                        <a:pt x="525443" y="501223"/>
                        <a:pt x="591668" y="434998"/>
                        <a:pt x="591668" y="353306"/>
                      </a:cubicBezTo>
                      <a:cubicBezTo>
                        <a:pt x="591668" y="271614"/>
                        <a:pt x="525443" y="205389"/>
                        <a:pt x="443751" y="205389"/>
                      </a:cubicBezTo>
                      <a:close/>
                      <a:moveTo>
                        <a:pt x="803248" y="66995"/>
                      </a:moveTo>
                      <a:lnTo>
                        <a:pt x="400521" y="69376"/>
                      </a:lnTo>
                      <a:lnTo>
                        <a:pt x="360040" y="118239"/>
                      </a:lnTo>
                      <a:lnTo>
                        <a:pt x="84255" y="118239"/>
                      </a:lnTo>
                      <a:lnTo>
                        <a:pt x="84255" y="169484"/>
                      </a:lnTo>
                      <a:lnTo>
                        <a:pt x="803248" y="169484"/>
                      </a:lnTo>
                      <a:lnTo>
                        <a:pt x="803248" y="143861"/>
                      </a:lnTo>
                      <a:lnTo>
                        <a:pt x="803248" y="118239"/>
                      </a:lnTo>
                      <a:lnTo>
                        <a:pt x="803248" y="66995"/>
                      </a:lnTo>
                      <a:close/>
                      <a:moveTo>
                        <a:pt x="182398" y="51019"/>
                      </a:moveTo>
                      <a:lnTo>
                        <a:pt x="182398" y="93281"/>
                      </a:lnTo>
                      <a:lnTo>
                        <a:pt x="338096" y="93281"/>
                      </a:lnTo>
                      <a:lnTo>
                        <a:pt x="338096" y="51019"/>
                      </a:lnTo>
                      <a:lnTo>
                        <a:pt x="182398" y="51019"/>
                      </a:lnTo>
                      <a:close/>
                      <a:moveTo>
                        <a:pt x="105657" y="0"/>
                      </a:moveTo>
                      <a:lnTo>
                        <a:pt x="781845" y="0"/>
                      </a:lnTo>
                      <a:cubicBezTo>
                        <a:pt x="840198" y="0"/>
                        <a:pt x="887502" y="47304"/>
                        <a:pt x="887502" y="105657"/>
                      </a:cubicBezTo>
                      <a:lnTo>
                        <a:pt x="887502" y="528273"/>
                      </a:lnTo>
                      <a:cubicBezTo>
                        <a:pt x="887502" y="586626"/>
                        <a:pt x="840198" y="633930"/>
                        <a:pt x="781845" y="633930"/>
                      </a:cubicBezTo>
                      <a:lnTo>
                        <a:pt x="105657" y="633930"/>
                      </a:lnTo>
                      <a:cubicBezTo>
                        <a:pt x="47304" y="633930"/>
                        <a:pt x="0" y="586626"/>
                        <a:pt x="0" y="528273"/>
                      </a:cubicBezTo>
                      <a:lnTo>
                        <a:pt x="0" y="105657"/>
                      </a:lnTo>
                      <a:cubicBezTo>
                        <a:pt x="0" y="47304"/>
                        <a:pt x="47304" y="0"/>
                        <a:pt x="105657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7" name="组合 25"/>
            <p:cNvGrpSpPr/>
            <p:nvPr/>
          </p:nvGrpSpPr>
          <p:grpSpPr>
            <a:xfrm>
              <a:off x="4332600" y="1558800"/>
              <a:ext cx="478440" cy="2741760"/>
              <a:chOff x="4332600" y="1558800"/>
              <a:chExt cx="478440" cy="2741760"/>
            </a:xfrm>
          </p:grpSpPr>
          <p:grpSp>
            <p:nvGrpSpPr>
              <p:cNvPr id="1008" name="组合 26"/>
              <p:cNvGrpSpPr/>
              <p:nvPr/>
            </p:nvGrpSpPr>
            <p:grpSpPr>
              <a:xfrm>
                <a:off x="4332600" y="1558800"/>
                <a:ext cx="474480" cy="474120"/>
                <a:chOff x="4332600" y="1558800"/>
                <a:chExt cx="474480" cy="474120"/>
              </a:xfrm>
            </p:grpSpPr>
            <p:sp>
              <p:nvSpPr>
                <p:cNvPr id="1009" name="圆角矩形 31"/>
                <p:cNvSpPr/>
                <p:nvPr/>
              </p:nvSpPr>
              <p:spPr>
                <a:xfrm>
                  <a:off x="4332600" y="1558800"/>
                  <a:ext cx="474480" cy="474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0" name="圆角矩形 12"/>
                <p:cNvSpPr/>
                <p:nvPr/>
              </p:nvSpPr>
              <p:spPr>
                <a:xfrm>
                  <a:off x="4415040" y="1722960"/>
                  <a:ext cx="392040" cy="308520"/>
                </a:xfrm>
                <a:custGeom>
                  <a:avLst/>
                  <a:gdLst>
                    <a:gd name="textAreaLeft" fmla="*/ 0 w 392040"/>
                    <a:gd name="textAreaRight" fmla="*/ 392400 w 392040"/>
                    <a:gd name="textAreaTop" fmla="*/ 0 h 308520"/>
                    <a:gd name="textAreaBottom" fmla="*/ 308880 h 308520"/>
                  </a:gdLst>
                  <a:ahLst/>
                  <a:rect l="textAreaLeft" t="textAreaTop" r="textAreaRight" b="textAreaBottom"/>
                  <a:pathLst>
                    <a:path w="533326" h="419969">
                      <a:moveTo>
                        <a:pt x="402539" y="0"/>
                      </a:moveTo>
                      <a:lnTo>
                        <a:pt x="532390" y="89891"/>
                      </a:lnTo>
                      <a:lnTo>
                        <a:pt x="533326" y="99181"/>
                      </a:lnTo>
                      <a:cubicBezTo>
                        <a:pt x="533326" y="270490"/>
                        <a:pt x="399917" y="410639"/>
                        <a:pt x="231233" y="419969"/>
                      </a:cubicBezTo>
                      <a:lnTo>
                        <a:pt x="20168" y="287254"/>
                      </a:lnTo>
                      <a:lnTo>
                        <a:pt x="195183" y="253011"/>
                      </a:lnTo>
                      <a:lnTo>
                        <a:pt x="0" y="161259"/>
                      </a:lnTo>
                      <a:lnTo>
                        <a:pt x="0" y="51338"/>
                      </a:lnTo>
                      <a:lnTo>
                        <a:pt x="176159" y="30438"/>
                      </a:lnTo>
                      <a:lnTo>
                        <a:pt x="40253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1" name="空心弧 22"/>
                <p:cNvSpPr/>
                <p:nvPr/>
              </p:nvSpPr>
              <p:spPr>
                <a:xfrm>
                  <a:off x="4415040" y="1647720"/>
                  <a:ext cx="309240" cy="296280"/>
                </a:xfrm>
                <a:custGeom>
                  <a:avLst/>
                  <a:gdLst>
                    <a:gd name="textAreaLeft" fmla="*/ 0 w 309240"/>
                    <a:gd name="textAreaRight" fmla="*/ 309600 w 309240"/>
                    <a:gd name="textAreaTop" fmla="*/ 0 h 296280"/>
                    <a:gd name="textAreaBottom" fmla="*/ 296640 h 296280"/>
                  </a:gdLst>
                  <a:ahLst/>
                  <a:rect l="textAreaLeft" t="textAreaTop" r="textAreaRight" b="textAreaBottom"/>
                  <a:pathLst>
                    <a:path w="872917" h="836472">
                      <a:moveTo>
                        <a:pt x="872917" y="387463"/>
                      </a:moveTo>
                      <a:lnTo>
                        <a:pt x="872917" y="727355"/>
                      </a:lnTo>
                      <a:cubicBezTo>
                        <a:pt x="872917" y="787619"/>
                        <a:pt x="824064" y="836472"/>
                        <a:pt x="763800" y="836472"/>
                      </a:cubicBezTo>
                      <a:lnTo>
                        <a:pt x="109117" y="836472"/>
                      </a:lnTo>
                      <a:cubicBezTo>
                        <a:pt x="48853" y="836472"/>
                        <a:pt x="0" y="787619"/>
                        <a:pt x="0" y="727355"/>
                      </a:cubicBezTo>
                      <a:lnTo>
                        <a:pt x="0" y="393462"/>
                      </a:lnTo>
                      <a:lnTo>
                        <a:pt x="376465" y="511868"/>
                      </a:lnTo>
                      <a:lnTo>
                        <a:pt x="349167" y="642896"/>
                      </a:lnTo>
                      <a:lnTo>
                        <a:pt x="523750" y="642896"/>
                      </a:lnTo>
                      <a:lnTo>
                        <a:pt x="496346" y="511356"/>
                      </a:lnTo>
                      <a:lnTo>
                        <a:pt x="872917" y="387463"/>
                      </a:lnTo>
                      <a:close/>
                      <a:moveTo>
                        <a:pt x="454651" y="89951"/>
                      </a:moveTo>
                      <a:cubicBezTo>
                        <a:pt x="413879" y="85636"/>
                        <a:pt x="371578" y="95760"/>
                        <a:pt x="335971" y="121192"/>
                      </a:cubicBezTo>
                      <a:cubicBezTo>
                        <a:pt x="313511" y="137234"/>
                        <a:pt x="295948" y="157772"/>
                        <a:pt x="285636" y="181784"/>
                      </a:cubicBezTo>
                      <a:lnTo>
                        <a:pt x="586808" y="181784"/>
                      </a:lnTo>
                      <a:cubicBezTo>
                        <a:pt x="582405" y="168081"/>
                        <a:pt x="574102" y="156229"/>
                        <a:pt x="564164" y="145339"/>
                      </a:cubicBezTo>
                      <a:cubicBezTo>
                        <a:pt x="534669" y="113018"/>
                        <a:pt x="495424" y="94265"/>
                        <a:pt x="454651" y="89951"/>
                      </a:cubicBezTo>
                      <a:close/>
                      <a:moveTo>
                        <a:pt x="417458" y="679"/>
                      </a:moveTo>
                      <a:cubicBezTo>
                        <a:pt x="495129" y="-4923"/>
                        <a:pt x="574048" y="24160"/>
                        <a:pt x="629894" y="85355"/>
                      </a:cubicBezTo>
                      <a:cubicBezTo>
                        <a:pt x="655919" y="113874"/>
                        <a:pt x="674543" y="146746"/>
                        <a:pt x="684840" y="181784"/>
                      </a:cubicBezTo>
                      <a:lnTo>
                        <a:pt x="763800" y="181784"/>
                      </a:lnTo>
                      <a:cubicBezTo>
                        <a:pt x="824064" y="181784"/>
                        <a:pt x="872917" y="230637"/>
                        <a:pt x="872917" y="290901"/>
                      </a:cubicBezTo>
                      <a:lnTo>
                        <a:pt x="872917" y="325135"/>
                      </a:lnTo>
                      <a:lnTo>
                        <a:pt x="484194" y="453026"/>
                      </a:lnTo>
                      <a:lnTo>
                        <a:pt x="480104" y="433396"/>
                      </a:lnTo>
                      <a:lnTo>
                        <a:pt x="392813" y="433396"/>
                      </a:lnTo>
                      <a:lnTo>
                        <a:pt x="389304" y="450237"/>
                      </a:lnTo>
                      <a:lnTo>
                        <a:pt x="0" y="327793"/>
                      </a:lnTo>
                      <a:lnTo>
                        <a:pt x="0" y="290901"/>
                      </a:lnTo>
                      <a:cubicBezTo>
                        <a:pt x="0" y="230637"/>
                        <a:pt x="48853" y="181784"/>
                        <a:pt x="109117" y="181784"/>
                      </a:cubicBezTo>
                      <a:lnTo>
                        <a:pt x="188214" y="181784"/>
                      </a:lnTo>
                      <a:cubicBezTo>
                        <a:pt x="203958" y="129561"/>
                        <a:pt x="236927" y="82582"/>
                        <a:pt x="284252" y="48780"/>
                      </a:cubicBezTo>
                      <a:cubicBezTo>
                        <a:pt x="324702" y="19889"/>
                        <a:pt x="370855" y="4041"/>
                        <a:pt x="417458" y="67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2" name="组合 27"/>
              <p:cNvGrpSpPr/>
              <p:nvPr/>
            </p:nvGrpSpPr>
            <p:grpSpPr>
              <a:xfrm>
                <a:off x="4335120" y="3825000"/>
                <a:ext cx="475920" cy="475560"/>
                <a:chOff x="4335120" y="3825000"/>
                <a:chExt cx="475920" cy="475560"/>
              </a:xfrm>
            </p:grpSpPr>
            <p:sp>
              <p:nvSpPr>
                <p:cNvPr id="1013" name="圆角矩形 28"/>
                <p:cNvSpPr/>
                <p:nvPr/>
              </p:nvSpPr>
              <p:spPr>
                <a:xfrm>
                  <a:off x="4335120" y="3825000"/>
                  <a:ext cx="47592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4" name="圆角矩形 3"/>
                <p:cNvSpPr/>
                <p:nvPr/>
              </p:nvSpPr>
              <p:spPr>
                <a:xfrm>
                  <a:off x="4430520" y="3926520"/>
                  <a:ext cx="379800" cy="366120"/>
                </a:xfrm>
                <a:custGeom>
                  <a:avLst/>
                  <a:gdLst>
                    <a:gd name="textAreaLeft" fmla="*/ 0 w 379800"/>
                    <a:gd name="textAreaRight" fmla="*/ 380160 w 379800"/>
                    <a:gd name="textAreaTop" fmla="*/ 0 h 366120"/>
                    <a:gd name="textAreaBottom" fmla="*/ 366480 h 366120"/>
                  </a:gdLst>
                  <a:ahLst/>
                  <a:rect l="textAreaLeft" t="textAreaTop" r="textAreaRight" b="textAreaBottom"/>
                  <a:pathLst>
                    <a:path w="1125779" h="1086033">
                      <a:moveTo>
                        <a:pt x="495237" y="0"/>
                      </a:moveTo>
                      <a:lnTo>
                        <a:pt x="652278" y="17270"/>
                      </a:lnTo>
                      <a:lnTo>
                        <a:pt x="1125637" y="392667"/>
                      </a:lnTo>
                      <a:lnTo>
                        <a:pt x="1125779" y="424054"/>
                      </a:lnTo>
                      <a:cubicBezTo>
                        <a:pt x="1118507" y="745575"/>
                        <a:pt x="894397" y="1013244"/>
                        <a:pt x="593432" y="1086033"/>
                      </a:cubicBezTo>
                      <a:lnTo>
                        <a:pt x="142440" y="757242"/>
                      </a:lnTo>
                      <a:lnTo>
                        <a:pt x="3914" y="516628"/>
                      </a:lnTo>
                      <a:lnTo>
                        <a:pt x="0" y="297402"/>
                      </a:lnTo>
                      <a:lnTo>
                        <a:pt x="153151" y="76199"/>
                      </a:lnTo>
                      <a:cubicBezTo>
                        <a:pt x="209290" y="62097"/>
                        <a:pt x="270192" y="24182"/>
                        <a:pt x="326331" y="10080"/>
                      </a:cubicBezTo>
                      <a:lnTo>
                        <a:pt x="495237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5" name="圆角矩形 16"/>
                <p:cNvSpPr/>
                <p:nvPr/>
              </p:nvSpPr>
              <p:spPr>
                <a:xfrm rot="16200000">
                  <a:off x="4421160" y="3910320"/>
                  <a:ext cx="303480" cy="303840"/>
                </a:xfrm>
                <a:custGeom>
                  <a:avLst/>
                  <a:gdLst>
                    <a:gd name="textAreaLeft" fmla="*/ 0 w 303480"/>
                    <a:gd name="textAreaRight" fmla="*/ 303480 w 303480"/>
                    <a:gd name="textAreaTop" fmla="*/ 0 h 303840"/>
                    <a:gd name="textAreaBottom" fmla="*/ 304200 h 303840"/>
                  </a:gdLst>
                  <a:ahLst/>
                  <a:rect l="textAreaLeft" t="textAreaTop" r="textAreaRight" b="textAreaBottom"/>
                  <a:pathLst>
                    <a:path w="836083" h="836083">
                      <a:moveTo>
                        <a:pt x="510179" y="255686"/>
                      </a:moveTo>
                      <a:lnTo>
                        <a:pt x="510179" y="313441"/>
                      </a:lnTo>
                      <a:lnTo>
                        <a:pt x="378615" y="313441"/>
                      </a:lnTo>
                      <a:lnTo>
                        <a:pt x="378615" y="313600"/>
                      </a:lnTo>
                      <a:cubicBezTo>
                        <a:pt x="341141" y="313600"/>
                        <a:pt x="306539" y="333678"/>
                        <a:pt x="287942" y="366213"/>
                      </a:cubicBezTo>
                      <a:cubicBezTo>
                        <a:pt x="269345" y="398747"/>
                        <a:pt x="269605" y="438751"/>
                        <a:pt x="288622" y="471041"/>
                      </a:cubicBezTo>
                      <a:cubicBezTo>
                        <a:pt x="307641" y="503332"/>
                        <a:pt x="342500" y="522958"/>
                        <a:pt x="379971" y="522472"/>
                      </a:cubicBezTo>
                      <a:lnTo>
                        <a:pt x="379973" y="522641"/>
                      </a:lnTo>
                      <a:lnTo>
                        <a:pt x="510179" y="522641"/>
                      </a:lnTo>
                      <a:lnTo>
                        <a:pt x="510179" y="580396"/>
                      </a:lnTo>
                      <a:lnTo>
                        <a:pt x="372585" y="580396"/>
                      </a:lnTo>
                      <a:lnTo>
                        <a:pt x="372585" y="579406"/>
                      </a:lnTo>
                      <a:cubicBezTo>
                        <a:pt x="317441" y="578233"/>
                        <a:pt x="266895" y="548273"/>
                        <a:pt x="238719" y="500433"/>
                      </a:cubicBezTo>
                      <a:cubicBezTo>
                        <a:pt x="228869" y="483708"/>
                        <a:pt x="222257" y="465652"/>
                        <a:pt x="220092" y="446919"/>
                      </a:cubicBezTo>
                      <a:lnTo>
                        <a:pt x="181522" y="446919"/>
                      </a:lnTo>
                      <a:lnTo>
                        <a:pt x="181522" y="522641"/>
                      </a:lnTo>
                      <a:lnTo>
                        <a:pt x="152644" y="522641"/>
                      </a:lnTo>
                      <a:lnTo>
                        <a:pt x="152644" y="313442"/>
                      </a:lnTo>
                      <a:lnTo>
                        <a:pt x="181522" y="313442"/>
                      </a:lnTo>
                      <a:lnTo>
                        <a:pt x="181522" y="389164"/>
                      </a:lnTo>
                      <a:lnTo>
                        <a:pt x="219987" y="389164"/>
                      </a:lnTo>
                      <a:cubicBezTo>
                        <a:pt x="222128" y="371124"/>
                        <a:pt x="228386" y="353701"/>
                        <a:pt x="237661" y="337474"/>
                      </a:cubicBezTo>
                      <a:cubicBezTo>
                        <a:pt x="265566" y="288655"/>
                        <a:pt x="316652" y="257879"/>
                        <a:pt x="372585" y="256490"/>
                      </a:cubicBezTo>
                      <a:lnTo>
                        <a:pt x="372585" y="255686"/>
                      </a:lnTo>
                      <a:lnTo>
                        <a:pt x="378615" y="255686"/>
                      </a:lnTo>
                      <a:lnTo>
                        <a:pt x="510179" y="255686"/>
                      </a:lnTo>
                      <a:close/>
                      <a:moveTo>
                        <a:pt x="683440" y="418041"/>
                      </a:moveTo>
                      <a:cubicBezTo>
                        <a:pt x="683440" y="467832"/>
                        <a:pt x="643076" y="508196"/>
                        <a:pt x="593285" y="508196"/>
                      </a:cubicBezTo>
                      <a:lnTo>
                        <a:pt x="381302" y="508196"/>
                      </a:lnTo>
                      <a:cubicBezTo>
                        <a:pt x="331511" y="508196"/>
                        <a:pt x="291147" y="467832"/>
                        <a:pt x="291147" y="418041"/>
                      </a:cubicBezTo>
                      <a:cubicBezTo>
                        <a:pt x="291147" y="368250"/>
                        <a:pt x="331511" y="327886"/>
                        <a:pt x="381302" y="327886"/>
                      </a:cubicBezTo>
                      <a:lnTo>
                        <a:pt x="593285" y="327886"/>
                      </a:lnTo>
                      <a:cubicBezTo>
                        <a:pt x="643076" y="327886"/>
                        <a:pt x="683440" y="368250"/>
                        <a:pt x="683440" y="418041"/>
                      </a:cubicBezTo>
                      <a:close/>
                      <a:moveTo>
                        <a:pt x="765417" y="418042"/>
                      </a:moveTo>
                      <a:cubicBezTo>
                        <a:pt x="765417" y="226191"/>
                        <a:pt x="609892" y="70666"/>
                        <a:pt x="418042" y="70666"/>
                      </a:cubicBezTo>
                      <a:cubicBezTo>
                        <a:pt x="226191" y="70666"/>
                        <a:pt x="70666" y="226191"/>
                        <a:pt x="70666" y="418042"/>
                      </a:cubicBezTo>
                      <a:cubicBezTo>
                        <a:pt x="70666" y="609892"/>
                        <a:pt x="226191" y="765417"/>
                        <a:pt x="418042" y="765417"/>
                      </a:cubicBezTo>
                      <a:cubicBezTo>
                        <a:pt x="609892" y="765417"/>
                        <a:pt x="765417" y="609892"/>
                        <a:pt x="765417" y="418042"/>
                      </a:cubicBezTo>
                      <a:close/>
                      <a:moveTo>
                        <a:pt x="836083" y="418042"/>
                      </a:moveTo>
                      <a:cubicBezTo>
                        <a:pt x="836083" y="648920"/>
                        <a:pt x="648920" y="836083"/>
                        <a:pt x="418042" y="836083"/>
                      </a:cubicBezTo>
                      <a:cubicBezTo>
                        <a:pt x="187163" y="836083"/>
                        <a:pt x="0" y="648920"/>
                        <a:pt x="0" y="418042"/>
                      </a:cubicBezTo>
                      <a:cubicBezTo>
                        <a:pt x="0" y="187163"/>
                        <a:pt x="187163" y="0"/>
                        <a:pt x="418042" y="0"/>
                      </a:cubicBezTo>
                      <a:cubicBezTo>
                        <a:pt x="648920" y="0"/>
                        <a:pt x="836083" y="187163"/>
                        <a:pt x="836083" y="41804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016" name="Rectangle 4"/>
          <p:cNvSpPr/>
          <p:nvPr/>
        </p:nvSpPr>
        <p:spPr>
          <a:xfrm>
            <a:off x="611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7" name="Rectangle 4"/>
          <p:cNvSpPr/>
          <p:nvPr/>
        </p:nvSpPr>
        <p:spPr>
          <a:xfrm>
            <a:off x="611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74" dur="indefinite" restart="never" nodeType="tmRoot">
          <p:childTnLst>
            <p:seq>
              <p:cTn id="1575" dur="indefinite" nodeType="mainSeq">
                <p:childTnLst>
                  <p:par>
                    <p:cTn id="1576" nodeType="clickEffect" fill="hold">
                      <p:stCondLst>
                        <p:cond delay="0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0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1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2" dur="1000" fill="hold"/>
                                        <p:tgtEl>
                                          <p:spTgt spid="9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83" dur="10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7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8" dur="500" fill="hold"/>
                                        <p:tgtEl>
                                          <p:spTgt spid="9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89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3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4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5" dur="10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6" dur="1000"/>
                                        <p:tgtEl>
                                          <p:spTgt spid="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5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500" fill="hold"/>
                                        <p:tgtEl>
                                          <p:spTgt spid="10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1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0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021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22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023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4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2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2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4" name="直接连接符 1"/>
          <p:cNvSpPr/>
          <p:nvPr/>
        </p:nvSpPr>
        <p:spPr>
          <a:xfrm>
            <a:off x="338472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5" name="直接连接符 2"/>
          <p:cNvSpPr/>
          <p:nvPr/>
        </p:nvSpPr>
        <p:spPr>
          <a:xfrm>
            <a:off x="5759280" y="2211480"/>
            <a:ext cx="180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6" name="组合 3"/>
          <p:cNvGrpSpPr/>
          <p:nvPr/>
        </p:nvGrpSpPr>
        <p:grpSpPr>
          <a:xfrm>
            <a:off x="6680160" y="1851120"/>
            <a:ext cx="536760" cy="538200"/>
            <a:chOff x="6680160" y="1851120"/>
            <a:chExt cx="536760" cy="538200"/>
          </a:xfrm>
        </p:grpSpPr>
        <p:grpSp>
          <p:nvGrpSpPr>
            <p:cNvPr id="1037" name="组合 4"/>
            <p:cNvGrpSpPr/>
            <p:nvPr/>
          </p:nvGrpSpPr>
          <p:grpSpPr>
            <a:xfrm>
              <a:off x="6680160" y="1851120"/>
              <a:ext cx="536760" cy="538200"/>
              <a:chOff x="6680160" y="1851120"/>
              <a:chExt cx="536760" cy="538200"/>
            </a:xfrm>
          </p:grpSpPr>
          <p:sp>
            <p:nvSpPr>
              <p:cNvPr id="1038" name="圆角矩形 6"/>
              <p:cNvSpPr/>
              <p:nvPr/>
            </p:nvSpPr>
            <p:spPr>
              <a:xfrm>
                <a:off x="6680160" y="1851120"/>
                <a:ext cx="536760" cy="538200"/>
              </a:xfrm>
              <a:custGeom>
                <a:avLst/>
                <a:gdLst>
                  <a:gd name="textAreaLeft" fmla="*/ 25920 w 536760"/>
                  <a:gd name="textAreaRight" fmla="*/ 510840 w 536760"/>
                  <a:gd name="textAreaTop" fmla="*/ 25920 h 538200"/>
                  <a:gd name="textAreaBottom" fmla="*/ 512280 h 538200"/>
                </a:gdLst>
                <a:ahLst/>
                <a:rect l="textAreaLeft" t="textAreaTop" r="textAreaRight" b="textAreaBottom"/>
                <a:pathLst>
                  <a:path w="21600" h="21658">
                    <a:moveTo>
                      <a:pt x="3600" y="0"/>
                    </a:moveTo>
                    <a:arcTo wR="3600" hR="3600" stAng="16200000" swAng="-5400000"/>
                    <a:lnTo>
                      <a:pt x="0" y="18058"/>
                    </a:lnTo>
                    <a:arcTo wR="3600" hR="3600" stAng="10800000" swAng="-5400000"/>
                    <a:lnTo>
                      <a:pt x="18000" y="2165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9" name="圆角矩形 3"/>
              <p:cNvSpPr/>
              <p:nvPr/>
            </p:nvSpPr>
            <p:spPr>
              <a:xfrm>
                <a:off x="6770160" y="2003400"/>
                <a:ext cx="446760" cy="385920"/>
              </a:xfrm>
              <a:custGeom>
                <a:avLst/>
                <a:gdLst>
                  <a:gd name="textAreaLeft" fmla="*/ 0 w 446760"/>
                  <a:gd name="textAreaRight" fmla="*/ 447120 w 446760"/>
                  <a:gd name="textAreaTop" fmla="*/ 0 h 385920"/>
                  <a:gd name="textAreaBottom" fmla="*/ 386280 h 385920"/>
                </a:gdLst>
                <a:ahLst/>
                <a:rect l="textAreaLeft" t="textAreaTop" r="textAreaRight" b="textAreaBottom"/>
                <a:pathLst>
                  <a:path w="2635572" h="2270816">
                    <a:moveTo>
                      <a:pt x="398427" y="538812"/>
                    </a:moveTo>
                    <a:cubicBezTo>
                      <a:pt x="399534" y="475286"/>
                      <a:pt x="400640" y="411761"/>
                      <a:pt x="401747" y="348235"/>
                    </a:cubicBezTo>
                    <a:lnTo>
                      <a:pt x="664373" y="203127"/>
                    </a:lnTo>
                    <a:lnTo>
                      <a:pt x="888428" y="251970"/>
                    </a:lnTo>
                    <a:lnTo>
                      <a:pt x="1134441" y="54087"/>
                    </a:lnTo>
                    <a:lnTo>
                      <a:pt x="1487619" y="20043"/>
                    </a:lnTo>
                    <a:lnTo>
                      <a:pt x="1781496" y="0"/>
                    </a:lnTo>
                    <a:lnTo>
                      <a:pt x="2630705" y="639890"/>
                    </a:lnTo>
                    <a:cubicBezTo>
                      <a:pt x="2632327" y="1000378"/>
                      <a:pt x="2633950" y="1382259"/>
                      <a:pt x="2635572" y="1742747"/>
                    </a:cubicBezTo>
                    <a:cubicBezTo>
                      <a:pt x="2635572" y="2034391"/>
                      <a:pt x="2399147" y="2270816"/>
                      <a:pt x="2107503" y="2270816"/>
                    </a:cubicBezTo>
                    <a:lnTo>
                      <a:pt x="1122046" y="2270816"/>
                    </a:lnTo>
                    <a:lnTo>
                      <a:pt x="0" y="1453355"/>
                    </a:lnTo>
                    <a:lnTo>
                      <a:pt x="444529" y="1209287"/>
                    </a:lnTo>
                    <a:lnTo>
                      <a:pt x="223697" y="1271277"/>
                    </a:lnTo>
                    <a:lnTo>
                      <a:pt x="658799" y="741472"/>
                    </a:lnTo>
                    <a:lnTo>
                      <a:pt x="398427" y="538812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40" name="圆角矩形 68"/>
            <p:cNvSpPr/>
            <p:nvPr/>
          </p:nvSpPr>
          <p:spPr>
            <a:xfrm flipH="1">
              <a:off x="6733440" y="1986120"/>
              <a:ext cx="429840" cy="268200"/>
            </a:xfrm>
            <a:custGeom>
              <a:avLst/>
              <a:gdLst>
                <a:gd name="textAreaLeft" fmla="*/ 360 w 429840"/>
                <a:gd name="textAreaRight" fmla="*/ 430560 w 4298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465394" y="457443"/>
                  </a:moveTo>
                  <a:cubicBezTo>
                    <a:pt x="1207004" y="457443"/>
                    <a:pt x="997537" y="666911"/>
                    <a:pt x="997537" y="925301"/>
                  </a:cubicBezTo>
                  <a:cubicBezTo>
                    <a:pt x="997537" y="929084"/>
                    <a:pt x="997581" y="932858"/>
                    <a:pt x="998675" y="936595"/>
                  </a:cubicBezTo>
                  <a:cubicBezTo>
                    <a:pt x="879937" y="987444"/>
                    <a:pt x="797027" y="1105469"/>
                    <a:pt x="797027" y="1242860"/>
                  </a:cubicBezTo>
                  <a:cubicBezTo>
                    <a:pt x="797027" y="1427423"/>
                    <a:pt x="946647" y="1577043"/>
                    <a:pt x="1131210" y="1577043"/>
                  </a:cubicBezTo>
                  <a:lnTo>
                    <a:pt x="2200595" y="1577043"/>
                  </a:lnTo>
                  <a:cubicBezTo>
                    <a:pt x="2385158" y="1577043"/>
                    <a:pt x="2534777" y="1427423"/>
                    <a:pt x="2534777" y="1242860"/>
                  </a:cubicBezTo>
                  <a:cubicBezTo>
                    <a:pt x="2534777" y="1100889"/>
                    <a:pt x="2446245" y="979593"/>
                    <a:pt x="2321074" y="931958"/>
                  </a:cubicBezTo>
                  <a:lnTo>
                    <a:pt x="2325772" y="908676"/>
                  </a:lnTo>
                  <a:cubicBezTo>
                    <a:pt x="2325772" y="761025"/>
                    <a:pt x="2206078" y="641330"/>
                    <a:pt x="2058426" y="641330"/>
                  </a:cubicBezTo>
                  <a:cubicBezTo>
                    <a:pt x="1989101" y="641330"/>
                    <a:pt x="1925937" y="667718"/>
                    <a:pt x="1879867" y="712568"/>
                  </a:cubicBezTo>
                  <a:cubicBezTo>
                    <a:pt x="1804227" y="560778"/>
                    <a:pt x="1646877" y="457443"/>
                    <a:pt x="1465394" y="457443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1"/>
                  </a:cubicBezTo>
                  <a:cubicBezTo>
                    <a:pt x="108715" y="694956"/>
                    <a:pt x="0" y="849714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7580" y="1468058"/>
                  </a:lnTo>
                  <a:cubicBezTo>
                    <a:pt x="770868" y="1437112"/>
                    <a:pt x="750667" y="1400796"/>
                    <a:pt x="738512" y="1360901"/>
                  </a:cubicBezTo>
                  <a:lnTo>
                    <a:pt x="657367" y="1360901"/>
                  </a:lnTo>
                  <a:cubicBezTo>
                    <a:pt x="463583" y="1360901"/>
                    <a:pt x="306487" y="1203806"/>
                    <a:pt x="306487" y="1010021"/>
                  </a:cubicBezTo>
                  <a:cubicBezTo>
                    <a:pt x="306487" y="865765"/>
                    <a:pt x="393540" y="741844"/>
                    <a:pt x="518211" y="688454"/>
                  </a:cubicBezTo>
                  <a:cubicBezTo>
                    <a:pt x="517061" y="684530"/>
                    <a:pt x="517015" y="680567"/>
                    <a:pt x="517015" y="676596"/>
                  </a:cubicBezTo>
                  <a:cubicBezTo>
                    <a:pt x="517015" y="405295"/>
                    <a:pt x="736949" y="185362"/>
                    <a:pt x="1008249" y="185362"/>
                  </a:cubicBezTo>
                  <a:cubicBezTo>
                    <a:pt x="1171061" y="185362"/>
                    <a:pt x="1315374" y="264570"/>
                    <a:pt x="1402972" y="387409"/>
                  </a:cubicBezTo>
                  <a:cubicBezTo>
                    <a:pt x="1417561" y="383558"/>
                    <a:pt x="1432554" y="382900"/>
                    <a:pt x="1447701" y="382900"/>
                  </a:cubicBezTo>
                  <a:cubicBezTo>
                    <a:pt x="1480947" y="382900"/>
                    <a:pt x="1513452" y="386072"/>
                    <a:pt x="1544707" y="393247"/>
                  </a:cubicBezTo>
                  <a:cubicBezTo>
                    <a:pt x="1571543" y="383219"/>
                    <a:pt x="1600669" y="378436"/>
                    <a:pt x="1630912" y="378436"/>
                  </a:cubicBezTo>
                  <a:cubicBezTo>
                    <a:pt x="1784119" y="378436"/>
                    <a:pt x="1908658" y="501175"/>
                    <a:pt x="1911067" y="653695"/>
                  </a:cubicBezTo>
                  <a:cubicBezTo>
                    <a:pt x="1937034" y="629476"/>
                    <a:pt x="1968219" y="611266"/>
                    <a:pt x="2002778" y="600430"/>
                  </a:cubicBezTo>
                  <a:lnTo>
                    <a:pt x="2004545" y="591672"/>
                  </a:lnTo>
                  <a:cubicBezTo>
                    <a:pt x="2004545" y="398068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9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1" name="组合 8"/>
          <p:cNvGrpSpPr/>
          <p:nvPr/>
        </p:nvGrpSpPr>
        <p:grpSpPr>
          <a:xfrm>
            <a:off x="1927080" y="1851120"/>
            <a:ext cx="536760" cy="538200"/>
            <a:chOff x="1927080" y="1851120"/>
            <a:chExt cx="536760" cy="538200"/>
          </a:xfrm>
        </p:grpSpPr>
        <p:sp>
          <p:nvSpPr>
            <p:cNvPr id="1042" name="圆角矩形 9"/>
            <p:cNvSpPr/>
            <p:nvPr/>
          </p:nvSpPr>
          <p:spPr>
            <a:xfrm>
              <a:off x="1927080" y="1851120"/>
              <a:ext cx="536760" cy="538200"/>
            </a:xfrm>
            <a:custGeom>
              <a:avLst/>
              <a:gdLst>
                <a:gd name="textAreaLeft" fmla="*/ 25920 w 536760"/>
                <a:gd name="textAreaRight" fmla="*/ 510840 w 53676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58">
                  <a:moveTo>
                    <a:pt x="3600" y="0"/>
                  </a:moveTo>
                  <a:arcTo wR="3600" hR="3600" stAng="16200000" swAng="-5400000"/>
                  <a:lnTo>
                    <a:pt x="0" y="18058"/>
                  </a:lnTo>
                  <a:arcTo wR="3600" hR="3600" stAng="10800000" swAng="-5400000"/>
                  <a:lnTo>
                    <a:pt x="18000" y="216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任意多边形 10"/>
            <p:cNvSpPr/>
            <p:nvPr/>
          </p:nvSpPr>
          <p:spPr>
            <a:xfrm>
              <a:off x="2032560" y="1976400"/>
              <a:ext cx="431280" cy="41292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544311" h="2431293">
                  <a:moveTo>
                    <a:pt x="1905551" y="0"/>
                  </a:moveTo>
                  <a:lnTo>
                    <a:pt x="2544311" y="589638"/>
                  </a:lnTo>
                  <a:lnTo>
                    <a:pt x="2544311" y="1903224"/>
                  </a:lnTo>
                  <a:cubicBezTo>
                    <a:pt x="2544311" y="2194868"/>
                    <a:pt x="2307886" y="2431293"/>
                    <a:pt x="2016242" y="2431293"/>
                  </a:cubicBezTo>
                  <a:lnTo>
                    <a:pt x="906105" y="2431293"/>
                  </a:lnTo>
                  <a:lnTo>
                    <a:pt x="236" y="1689332"/>
                  </a:lnTo>
                  <a:lnTo>
                    <a:pt x="337329" y="1461434"/>
                  </a:lnTo>
                  <a:lnTo>
                    <a:pt x="416998" y="1349404"/>
                  </a:lnTo>
                  <a:cubicBezTo>
                    <a:pt x="422398" y="1349618"/>
                    <a:pt x="10643" y="1077077"/>
                    <a:pt x="16043" y="1077291"/>
                  </a:cubicBezTo>
                  <a:lnTo>
                    <a:pt x="366874" y="1041623"/>
                  </a:lnTo>
                  <a:lnTo>
                    <a:pt x="59845" y="668194"/>
                  </a:lnTo>
                  <a:lnTo>
                    <a:pt x="326236" y="697575"/>
                  </a:lnTo>
                  <a:lnTo>
                    <a:pt x="0" y="462254"/>
                  </a:lnTo>
                  <a:lnTo>
                    <a:pt x="521498" y="228332"/>
                  </a:lnTo>
                  <a:lnTo>
                    <a:pt x="1905551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矩形 60"/>
            <p:cNvSpPr/>
            <p:nvPr/>
          </p:nvSpPr>
          <p:spPr>
            <a:xfrm>
              <a:off x="2033640" y="1975320"/>
              <a:ext cx="323640" cy="2898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289800"/>
                <a:gd name="textAreaBottom" fmla="*/ 290160 h 2898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45" name="组合 12"/>
          <p:cNvGrpSpPr/>
          <p:nvPr/>
        </p:nvGrpSpPr>
        <p:grpSpPr>
          <a:xfrm>
            <a:off x="4303800" y="1851120"/>
            <a:ext cx="536400" cy="538200"/>
            <a:chOff x="4303800" y="1851120"/>
            <a:chExt cx="536400" cy="538200"/>
          </a:xfrm>
        </p:grpSpPr>
        <p:sp>
          <p:nvSpPr>
            <p:cNvPr id="1046" name="圆角矩形 13"/>
            <p:cNvSpPr/>
            <p:nvPr/>
          </p:nvSpPr>
          <p:spPr>
            <a:xfrm>
              <a:off x="4303800" y="1851120"/>
              <a:ext cx="536400" cy="538200"/>
            </a:xfrm>
            <a:custGeom>
              <a:avLst/>
              <a:gdLst>
                <a:gd name="textAreaLeft" fmla="*/ 25920 w 536400"/>
                <a:gd name="textAreaRight" fmla="*/ 510480 w 53640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72">
                  <a:moveTo>
                    <a:pt x="3600" y="0"/>
                  </a:moveTo>
                  <a:arcTo wR="3600" hR="3600" stAng="16200000" swAng="-5400000"/>
                  <a:lnTo>
                    <a:pt x="0" y="18072"/>
                  </a:lnTo>
                  <a:arcTo wR="3600" hR="3600" stAng="10800000" swAng="-5400000"/>
                  <a:lnTo>
                    <a:pt x="18000" y="216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任意多边形 14"/>
            <p:cNvSpPr/>
            <p:nvPr/>
          </p:nvSpPr>
          <p:spPr>
            <a:xfrm>
              <a:off x="4411080" y="1959480"/>
              <a:ext cx="429120" cy="429840"/>
            </a:xfrm>
            <a:custGeom>
              <a:avLst/>
              <a:gdLst>
                <a:gd name="textAreaLeft" fmla="*/ 0 w 429120"/>
                <a:gd name="textAreaRight" fmla="*/ 429480 w 42912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1128107" h="1126054">
                  <a:moveTo>
                    <a:pt x="2105" y="0"/>
                  </a:moveTo>
                  <a:lnTo>
                    <a:pt x="398111" y="0"/>
                  </a:lnTo>
                  <a:lnTo>
                    <a:pt x="453960" y="51195"/>
                  </a:lnTo>
                  <a:lnTo>
                    <a:pt x="469958" y="0"/>
                  </a:lnTo>
                  <a:lnTo>
                    <a:pt x="838821" y="0"/>
                  </a:lnTo>
                  <a:lnTo>
                    <a:pt x="1125726" y="217953"/>
                  </a:lnTo>
                  <a:cubicBezTo>
                    <a:pt x="1126520" y="442280"/>
                    <a:pt x="1127313" y="666606"/>
                    <a:pt x="1128107" y="890932"/>
                  </a:cubicBezTo>
                  <a:cubicBezTo>
                    <a:pt x="1128107" y="1020786"/>
                    <a:pt x="1022839" y="1126054"/>
                    <a:pt x="892985" y="1126054"/>
                  </a:cubicBezTo>
                  <a:lnTo>
                    <a:pt x="337738" y="1126054"/>
                  </a:lnTo>
                  <a:lnTo>
                    <a:pt x="2504" y="838560"/>
                  </a:lnTo>
                  <a:lnTo>
                    <a:pt x="2105" y="838474"/>
                  </a:lnTo>
                  <a:cubicBezTo>
                    <a:pt x="1413" y="709409"/>
                    <a:pt x="1066" y="644657"/>
                    <a:pt x="32" y="451928"/>
                  </a:cubicBezTo>
                  <a:lnTo>
                    <a:pt x="64017" y="453319"/>
                  </a:lnTo>
                  <a:lnTo>
                    <a:pt x="0" y="394637"/>
                  </a:lnTo>
                  <a:cubicBezTo>
                    <a:pt x="6" y="393286"/>
                    <a:pt x="13" y="391885"/>
                    <a:pt x="20" y="390433"/>
                  </a:cubicBezTo>
                  <a:lnTo>
                    <a:pt x="2105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图文框 9"/>
            <p:cNvSpPr/>
            <p:nvPr/>
          </p:nvSpPr>
          <p:spPr>
            <a:xfrm>
              <a:off x="4411800" y="1959480"/>
              <a:ext cx="320040" cy="32112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637287" h="637366">
                  <a:moveTo>
                    <a:pt x="563950" y="553984"/>
                  </a:moveTo>
                  <a:lnTo>
                    <a:pt x="637287" y="553984"/>
                  </a:lnTo>
                  <a:lnTo>
                    <a:pt x="637287" y="627321"/>
                  </a:lnTo>
                  <a:lnTo>
                    <a:pt x="563950" y="627321"/>
                  </a:lnTo>
                  <a:lnTo>
                    <a:pt x="563950" y="553984"/>
                  </a:lnTo>
                  <a:close/>
                  <a:moveTo>
                    <a:pt x="451498" y="553984"/>
                  </a:moveTo>
                  <a:lnTo>
                    <a:pt x="524835" y="553984"/>
                  </a:lnTo>
                  <a:lnTo>
                    <a:pt x="524835" y="627321"/>
                  </a:lnTo>
                  <a:lnTo>
                    <a:pt x="451498" y="627321"/>
                  </a:lnTo>
                  <a:lnTo>
                    <a:pt x="451498" y="553984"/>
                  </a:lnTo>
                  <a:close/>
                  <a:moveTo>
                    <a:pt x="112452" y="451577"/>
                  </a:moveTo>
                  <a:lnTo>
                    <a:pt x="185789" y="451577"/>
                  </a:lnTo>
                  <a:lnTo>
                    <a:pt x="185789" y="524914"/>
                  </a:lnTo>
                  <a:lnTo>
                    <a:pt x="112452" y="524914"/>
                  </a:lnTo>
                  <a:lnTo>
                    <a:pt x="112452" y="451577"/>
                  </a:lnTo>
                  <a:close/>
                  <a:moveTo>
                    <a:pt x="54181" y="393306"/>
                  </a:moveTo>
                  <a:lnTo>
                    <a:pt x="54181" y="583185"/>
                  </a:lnTo>
                  <a:lnTo>
                    <a:pt x="244060" y="583185"/>
                  </a:lnTo>
                  <a:lnTo>
                    <a:pt x="244060" y="393306"/>
                  </a:lnTo>
                  <a:lnTo>
                    <a:pt x="54181" y="393306"/>
                  </a:lnTo>
                  <a:close/>
                  <a:moveTo>
                    <a:pt x="339046" y="339125"/>
                  </a:moveTo>
                  <a:lnTo>
                    <a:pt x="392235" y="339125"/>
                  </a:lnTo>
                  <a:lnTo>
                    <a:pt x="392235" y="339126"/>
                  </a:lnTo>
                  <a:lnTo>
                    <a:pt x="518510" y="339126"/>
                  </a:lnTo>
                  <a:lnTo>
                    <a:pt x="518510" y="395351"/>
                  </a:lnTo>
                  <a:lnTo>
                    <a:pt x="584098" y="395351"/>
                  </a:lnTo>
                  <a:lnTo>
                    <a:pt x="584098" y="339126"/>
                  </a:lnTo>
                  <a:lnTo>
                    <a:pt x="637287" y="339126"/>
                  </a:lnTo>
                  <a:lnTo>
                    <a:pt x="637287" y="395351"/>
                  </a:lnTo>
                  <a:lnTo>
                    <a:pt x="637287" y="507803"/>
                  </a:lnTo>
                  <a:lnTo>
                    <a:pt x="637287" y="507804"/>
                  </a:lnTo>
                  <a:lnTo>
                    <a:pt x="584098" y="507804"/>
                  </a:lnTo>
                  <a:lnTo>
                    <a:pt x="584098" y="507803"/>
                  </a:lnTo>
                  <a:lnTo>
                    <a:pt x="451498" y="507803"/>
                  </a:lnTo>
                  <a:lnTo>
                    <a:pt x="451498" y="451578"/>
                  </a:lnTo>
                  <a:lnTo>
                    <a:pt x="392235" y="451578"/>
                  </a:lnTo>
                  <a:lnTo>
                    <a:pt x="392235" y="627321"/>
                  </a:lnTo>
                  <a:lnTo>
                    <a:pt x="339046" y="627321"/>
                  </a:lnTo>
                  <a:lnTo>
                    <a:pt x="339046" y="339125"/>
                  </a:lnTo>
                  <a:close/>
                  <a:moveTo>
                    <a:pt x="0" y="339125"/>
                  </a:moveTo>
                  <a:lnTo>
                    <a:pt x="298241" y="339125"/>
                  </a:lnTo>
                  <a:lnTo>
                    <a:pt x="298241" y="637366"/>
                  </a:lnTo>
                  <a:lnTo>
                    <a:pt x="0" y="637366"/>
                  </a:lnTo>
                  <a:lnTo>
                    <a:pt x="0" y="339125"/>
                  </a:lnTo>
                  <a:close/>
                  <a:moveTo>
                    <a:pt x="451498" y="112452"/>
                  </a:moveTo>
                  <a:lnTo>
                    <a:pt x="524835" y="112452"/>
                  </a:lnTo>
                  <a:lnTo>
                    <a:pt x="524835" y="185789"/>
                  </a:lnTo>
                  <a:lnTo>
                    <a:pt x="451498" y="185789"/>
                  </a:lnTo>
                  <a:lnTo>
                    <a:pt x="451498" y="112452"/>
                  </a:lnTo>
                  <a:close/>
                  <a:moveTo>
                    <a:pt x="112452" y="112452"/>
                  </a:moveTo>
                  <a:lnTo>
                    <a:pt x="185789" y="112452"/>
                  </a:lnTo>
                  <a:lnTo>
                    <a:pt x="185789" y="185789"/>
                  </a:lnTo>
                  <a:lnTo>
                    <a:pt x="112452" y="185789"/>
                  </a:lnTo>
                  <a:lnTo>
                    <a:pt x="112452" y="112452"/>
                  </a:lnTo>
                  <a:close/>
                  <a:moveTo>
                    <a:pt x="393227" y="54181"/>
                  </a:moveTo>
                  <a:lnTo>
                    <a:pt x="393227" y="244060"/>
                  </a:lnTo>
                  <a:lnTo>
                    <a:pt x="583106" y="244060"/>
                  </a:lnTo>
                  <a:lnTo>
                    <a:pt x="583106" y="54181"/>
                  </a:lnTo>
                  <a:lnTo>
                    <a:pt x="393227" y="54181"/>
                  </a:lnTo>
                  <a:close/>
                  <a:moveTo>
                    <a:pt x="54181" y="54181"/>
                  </a:moveTo>
                  <a:lnTo>
                    <a:pt x="54181" y="244060"/>
                  </a:lnTo>
                  <a:lnTo>
                    <a:pt x="244060" y="244060"/>
                  </a:lnTo>
                  <a:lnTo>
                    <a:pt x="244060" y="54181"/>
                  </a:lnTo>
                  <a:lnTo>
                    <a:pt x="54181" y="54181"/>
                  </a:lnTo>
                  <a:close/>
                  <a:moveTo>
                    <a:pt x="339046" y="0"/>
                  </a:moveTo>
                  <a:lnTo>
                    <a:pt x="637287" y="0"/>
                  </a:lnTo>
                  <a:lnTo>
                    <a:pt x="637287" y="298241"/>
                  </a:lnTo>
                  <a:lnTo>
                    <a:pt x="339046" y="298241"/>
                  </a:lnTo>
                  <a:lnTo>
                    <a:pt x="339046" y="0"/>
                  </a:lnTo>
                  <a:close/>
                  <a:moveTo>
                    <a:pt x="0" y="0"/>
                  </a:moveTo>
                  <a:lnTo>
                    <a:pt x="298241" y="0"/>
                  </a:lnTo>
                  <a:lnTo>
                    <a:pt x="298241" y="298241"/>
                  </a:lnTo>
                  <a:lnTo>
                    <a:pt x="0" y="298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49" name="Rectangle 4"/>
          <p:cNvSpPr/>
          <p:nvPr/>
        </p:nvSpPr>
        <p:spPr>
          <a:xfrm>
            <a:off x="3564000" y="2757600"/>
            <a:ext cx="2016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0" name="Rectangle 4"/>
          <p:cNvSpPr/>
          <p:nvPr/>
        </p:nvSpPr>
        <p:spPr>
          <a:xfrm>
            <a:off x="1222200" y="2757600"/>
            <a:ext cx="20545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1" name="Rectangle 4"/>
          <p:cNvSpPr/>
          <p:nvPr/>
        </p:nvSpPr>
        <p:spPr>
          <a:xfrm>
            <a:off x="5958000" y="2757600"/>
            <a:ext cx="2070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2" name="直接连接符 19"/>
          <p:cNvSpPr/>
          <p:nvPr/>
        </p:nvSpPr>
        <p:spPr>
          <a:xfrm>
            <a:off x="817236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3" name="直接连接符 20"/>
          <p:cNvSpPr/>
          <p:nvPr/>
        </p:nvSpPr>
        <p:spPr>
          <a:xfrm>
            <a:off x="118728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14" dur="indefinite" restart="never" nodeType="tmRoot">
          <p:childTnLst>
            <p:seq>
              <p:cTn id="1615" dur="indefinite" nodeType="mainSeq">
                <p:childTnLst>
                  <p:par>
                    <p:cTn id="1616" nodeType="clickEffect" fill="hold">
                      <p:stCondLst>
                        <p:cond delay="0"/>
                      </p:stCondLst>
                      <p:childTnLst>
                        <p:par>
                          <p:cTn id="1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0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1" dur="500" fill="hold"/>
                                        <p:tgtEl>
                                          <p:spTgt spid="10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10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0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0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63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4" dur="500" fill="hold"/>
                                        <p:tgtEl>
                                          <p:spTgt spid="10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5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10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1" dur="500" fill="hold"/>
                                        <p:tgtEl>
                                          <p:spTgt spid="10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2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10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10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79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0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81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" name="组合 1"/>
          <p:cNvGrpSpPr/>
          <p:nvPr/>
        </p:nvGrpSpPr>
        <p:grpSpPr>
          <a:xfrm>
            <a:off x="6227640" y="2143080"/>
            <a:ext cx="1440000" cy="2160720"/>
            <a:chOff x="6227640" y="2143080"/>
            <a:chExt cx="1440000" cy="2160720"/>
          </a:xfrm>
        </p:grpSpPr>
        <p:grpSp>
          <p:nvGrpSpPr>
            <p:cNvPr id="93" name="组合 40"/>
            <p:cNvGrpSpPr/>
            <p:nvPr/>
          </p:nvGrpSpPr>
          <p:grpSpPr>
            <a:xfrm>
              <a:off x="6227640" y="2143080"/>
              <a:ext cx="1440000" cy="2160720"/>
              <a:chOff x="6227640" y="2143080"/>
              <a:chExt cx="1440000" cy="2160720"/>
            </a:xfrm>
          </p:grpSpPr>
          <p:sp>
            <p:nvSpPr>
              <p:cNvPr id="94" name="矩形 41"/>
              <p:cNvSpPr/>
              <p:nvPr/>
            </p:nvSpPr>
            <p:spPr>
              <a:xfrm>
                <a:off x="622764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TextBox 42"/>
              <p:cNvSpPr/>
              <p:nvPr/>
            </p:nvSpPr>
            <p:spPr>
              <a:xfrm>
                <a:off x="637164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" name="TextBox 43"/>
              <p:cNvSpPr/>
              <p:nvPr/>
            </p:nvSpPr>
            <p:spPr>
              <a:xfrm>
                <a:off x="622764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TextBox 44"/>
              <p:cNvSpPr/>
              <p:nvPr/>
            </p:nvSpPr>
            <p:spPr>
              <a:xfrm>
                <a:off x="651564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宋体"/>
                  </a:rPr>
                  <a:t>4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8" name="圆角矩形 68"/>
            <p:cNvSpPr/>
            <p:nvPr/>
          </p:nvSpPr>
          <p:spPr>
            <a:xfrm flipH="1">
              <a:off x="6731640" y="2751120"/>
              <a:ext cx="430200" cy="267840"/>
            </a:xfrm>
            <a:custGeom>
              <a:avLst/>
              <a:gdLst>
                <a:gd name="textAreaLeft" fmla="*/ -360 w 430200"/>
                <a:gd name="textAreaRight" fmla="*/ 430200 w 43020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565419" y="598265"/>
                  </a:moveTo>
                  <a:cubicBezTo>
                    <a:pt x="1710821" y="598265"/>
                    <a:pt x="1836889" y="681056"/>
                    <a:pt x="1897490" y="802668"/>
                  </a:cubicBezTo>
                  <a:cubicBezTo>
                    <a:pt x="1934401" y="766735"/>
                    <a:pt x="1985008" y="745593"/>
                    <a:pt x="2040550" y="745593"/>
                  </a:cubicBezTo>
                  <a:cubicBezTo>
                    <a:pt x="2158847" y="745593"/>
                    <a:pt x="2254745" y="841491"/>
                    <a:pt x="2254745" y="959788"/>
                  </a:cubicBezTo>
                  <a:lnTo>
                    <a:pt x="2250981" y="978441"/>
                  </a:lnTo>
                  <a:cubicBezTo>
                    <a:pt x="2351267" y="1016605"/>
                    <a:pt x="2422198" y="1113787"/>
                    <a:pt x="2422198" y="1227532"/>
                  </a:cubicBezTo>
                  <a:cubicBezTo>
                    <a:pt x="2422198" y="1375402"/>
                    <a:pt x="2302324" y="1495276"/>
                    <a:pt x="2154454" y="1495276"/>
                  </a:cubicBezTo>
                  <a:lnTo>
                    <a:pt x="1297674" y="1495276"/>
                  </a:lnTo>
                  <a:cubicBezTo>
                    <a:pt x="1149804" y="1495276"/>
                    <a:pt x="1029930" y="1375402"/>
                    <a:pt x="1029930" y="1227532"/>
                  </a:cubicBezTo>
                  <a:cubicBezTo>
                    <a:pt x="1029930" y="1117455"/>
                    <a:pt x="1096357" y="1022896"/>
                    <a:pt x="1191489" y="982156"/>
                  </a:cubicBezTo>
                  <a:cubicBezTo>
                    <a:pt x="1190611" y="979162"/>
                    <a:pt x="1190576" y="976138"/>
                    <a:pt x="1190576" y="973108"/>
                  </a:cubicBezTo>
                  <a:cubicBezTo>
                    <a:pt x="1190576" y="766088"/>
                    <a:pt x="1358400" y="598265"/>
                    <a:pt x="1565419" y="598265"/>
                  </a:cubicBezTo>
                  <a:close/>
                  <a:moveTo>
                    <a:pt x="1464799" y="456822"/>
                  </a:moveTo>
                  <a:cubicBezTo>
                    <a:pt x="1206266" y="456822"/>
                    <a:pt x="996682" y="666406"/>
                    <a:pt x="996682" y="924939"/>
                  </a:cubicBezTo>
                  <a:cubicBezTo>
                    <a:pt x="996682" y="928724"/>
                    <a:pt x="996726" y="932500"/>
                    <a:pt x="997821" y="936240"/>
                  </a:cubicBezTo>
                  <a:cubicBezTo>
                    <a:pt x="879018" y="987117"/>
                    <a:pt x="796061" y="1105208"/>
                    <a:pt x="796061" y="1242675"/>
                  </a:cubicBezTo>
                  <a:cubicBezTo>
                    <a:pt x="796061" y="1427341"/>
                    <a:pt x="945764" y="1577043"/>
                    <a:pt x="1130429" y="1577043"/>
                  </a:cubicBezTo>
                  <a:lnTo>
                    <a:pt x="2200409" y="1577043"/>
                  </a:lnTo>
                  <a:cubicBezTo>
                    <a:pt x="2385075" y="1577043"/>
                    <a:pt x="2534777" y="1427341"/>
                    <a:pt x="2534777" y="1242675"/>
                  </a:cubicBezTo>
                  <a:cubicBezTo>
                    <a:pt x="2534777" y="1100625"/>
                    <a:pt x="2446196" y="979262"/>
                    <a:pt x="2320955" y="931600"/>
                  </a:cubicBezTo>
                  <a:lnTo>
                    <a:pt x="2325656" y="908305"/>
                  </a:lnTo>
                  <a:cubicBezTo>
                    <a:pt x="2325656" y="760573"/>
                    <a:pt x="2205895" y="640810"/>
                    <a:pt x="2058161" y="640810"/>
                  </a:cubicBezTo>
                  <a:cubicBezTo>
                    <a:pt x="1988798" y="640810"/>
                    <a:pt x="1925599" y="667213"/>
                    <a:pt x="1879503" y="712089"/>
                  </a:cubicBezTo>
                  <a:cubicBezTo>
                    <a:pt x="1803820" y="560214"/>
                    <a:pt x="1646384" y="456822"/>
                    <a:pt x="1464799" y="456822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0"/>
                  </a:cubicBezTo>
                  <a:cubicBezTo>
                    <a:pt x="108715" y="694956"/>
                    <a:pt x="0" y="849713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6429" y="1468058"/>
                  </a:lnTo>
                  <a:cubicBezTo>
                    <a:pt x="745471" y="1406661"/>
                    <a:pt x="715778" y="1327623"/>
                    <a:pt x="715778" y="1241651"/>
                  </a:cubicBezTo>
                  <a:cubicBezTo>
                    <a:pt x="715778" y="1091431"/>
                    <a:pt x="806429" y="962387"/>
                    <a:pt x="936254" y="906790"/>
                  </a:cubicBezTo>
                  <a:cubicBezTo>
                    <a:pt x="935057" y="902704"/>
                    <a:pt x="935009" y="898577"/>
                    <a:pt x="935009" y="894441"/>
                  </a:cubicBezTo>
                  <a:cubicBezTo>
                    <a:pt x="935009" y="611925"/>
                    <a:pt x="1164034" y="382900"/>
                    <a:pt x="1446550" y="382900"/>
                  </a:cubicBezTo>
                  <a:cubicBezTo>
                    <a:pt x="1644979" y="382900"/>
                    <a:pt x="1817019" y="495883"/>
                    <a:pt x="1899722" y="661846"/>
                  </a:cubicBezTo>
                  <a:cubicBezTo>
                    <a:pt x="1928593" y="633739"/>
                    <a:pt x="1963605" y="612264"/>
                    <a:pt x="2002850" y="600068"/>
                  </a:cubicBezTo>
                  <a:lnTo>
                    <a:pt x="2004545" y="591672"/>
                  </a:lnTo>
                  <a:cubicBezTo>
                    <a:pt x="2004545" y="398067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8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9" name="组合 5"/>
          <p:cNvGrpSpPr/>
          <p:nvPr/>
        </p:nvGrpSpPr>
        <p:grpSpPr>
          <a:xfrm>
            <a:off x="4643280" y="2143080"/>
            <a:ext cx="1440000" cy="2160720"/>
            <a:chOff x="4643280" y="2143080"/>
            <a:chExt cx="1440000" cy="2160720"/>
          </a:xfrm>
        </p:grpSpPr>
        <p:grpSp>
          <p:nvGrpSpPr>
            <p:cNvPr id="100" name="组合 35"/>
            <p:cNvGrpSpPr/>
            <p:nvPr/>
          </p:nvGrpSpPr>
          <p:grpSpPr>
            <a:xfrm>
              <a:off x="4643280" y="2143080"/>
              <a:ext cx="1440000" cy="2160720"/>
              <a:chOff x="4643280" y="2143080"/>
              <a:chExt cx="1440000" cy="2160720"/>
            </a:xfrm>
          </p:grpSpPr>
          <p:sp>
            <p:nvSpPr>
              <p:cNvPr id="101" name="矩形 36"/>
              <p:cNvSpPr/>
              <p:nvPr/>
            </p:nvSpPr>
            <p:spPr>
              <a:xfrm>
                <a:off x="464328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TextBox 37"/>
              <p:cNvSpPr/>
              <p:nvPr/>
            </p:nvSpPr>
            <p:spPr>
              <a:xfrm>
                <a:off x="478728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TextBox 38"/>
              <p:cNvSpPr/>
              <p:nvPr/>
            </p:nvSpPr>
            <p:spPr>
              <a:xfrm>
                <a:off x="464328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Box 39"/>
              <p:cNvSpPr/>
              <p:nvPr/>
            </p:nvSpPr>
            <p:spPr>
              <a:xfrm>
                <a:off x="493128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宋体"/>
                  </a:rPr>
                  <a:t>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5" name="图文框 35"/>
            <p:cNvSpPr/>
            <p:nvPr/>
          </p:nvSpPr>
          <p:spPr>
            <a:xfrm>
              <a:off x="5188680" y="2723040"/>
              <a:ext cx="349200" cy="32436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" name="组合 8"/>
          <p:cNvGrpSpPr/>
          <p:nvPr/>
        </p:nvGrpSpPr>
        <p:grpSpPr>
          <a:xfrm>
            <a:off x="1323720" y="1989360"/>
            <a:ext cx="1592640" cy="2314440"/>
            <a:chOff x="1323720" y="1989360"/>
            <a:chExt cx="1592640" cy="2314440"/>
          </a:xfrm>
        </p:grpSpPr>
        <p:grpSp>
          <p:nvGrpSpPr>
            <p:cNvPr id="107" name="组合 11"/>
            <p:cNvGrpSpPr/>
            <p:nvPr/>
          </p:nvGrpSpPr>
          <p:grpSpPr>
            <a:xfrm>
              <a:off x="1323720" y="1989360"/>
              <a:ext cx="1592640" cy="2314440"/>
              <a:chOff x="1323720" y="1989360"/>
              <a:chExt cx="1592640" cy="2314440"/>
            </a:xfrm>
          </p:grpSpPr>
          <p:grpSp>
            <p:nvGrpSpPr>
              <p:cNvPr id="108" name="组合 4"/>
              <p:cNvGrpSpPr/>
              <p:nvPr/>
            </p:nvGrpSpPr>
            <p:grpSpPr>
              <a:xfrm>
                <a:off x="1475640" y="2143080"/>
                <a:ext cx="1440720" cy="2160720"/>
                <a:chOff x="1475640" y="2143080"/>
                <a:chExt cx="1440720" cy="2160720"/>
              </a:xfrm>
            </p:grpSpPr>
            <p:sp>
              <p:nvSpPr>
                <p:cNvPr id="109" name="矩形 2"/>
                <p:cNvSpPr/>
                <p:nvPr/>
              </p:nvSpPr>
              <p:spPr>
                <a:xfrm>
                  <a:off x="1475640" y="2143080"/>
                  <a:ext cx="1440720" cy="21607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" name="TextBox 3"/>
                <p:cNvSpPr/>
                <p:nvPr/>
              </p:nvSpPr>
              <p:spPr>
                <a:xfrm>
                  <a:off x="1619640" y="2316600"/>
                  <a:ext cx="1152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服务名称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" name="TextBox 27"/>
                <p:cNvSpPr/>
                <p:nvPr/>
              </p:nvSpPr>
              <p:spPr>
                <a:xfrm>
                  <a:off x="1475640" y="3219840"/>
                  <a:ext cx="144072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在此处添加详细描述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文本</a:t>
                  </a:r>
                  <a:r>
                    <a:rPr b="0" lang="en-US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,</a:t>
                  </a: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尽量与标题文本语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言风格相符合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" name="TextBox 28"/>
                <p:cNvSpPr/>
                <p:nvPr/>
              </p:nvSpPr>
              <p:spPr>
                <a:xfrm>
                  <a:off x="1763640" y="3871800"/>
                  <a:ext cx="864360" cy="2462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产品名 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微软雅黑"/>
                      <a:ea typeface="宋体"/>
                    </a:rPr>
                    <a:t>1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3" name="矩形 6"/>
              <p:cNvSpPr/>
              <p:nvPr/>
            </p:nvSpPr>
            <p:spPr>
              <a:xfrm rot="2713800">
                <a:off x="1597680" y="1938240"/>
                <a:ext cx="216000" cy="86256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Arial"/>
                    <a:ea typeface="宋体"/>
                  </a:rPr>
                  <a:t>新品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4" name="矩形 60"/>
            <p:cNvSpPr/>
            <p:nvPr/>
          </p:nvSpPr>
          <p:spPr>
            <a:xfrm>
              <a:off x="2031840" y="2740320"/>
              <a:ext cx="324000" cy="28908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5" name="组合 7"/>
          <p:cNvGrpSpPr/>
          <p:nvPr/>
        </p:nvGrpSpPr>
        <p:grpSpPr>
          <a:xfrm>
            <a:off x="3060720" y="2143080"/>
            <a:ext cx="1440000" cy="2160720"/>
            <a:chOff x="3060720" y="2143080"/>
            <a:chExt cx="1440000" cy="2160720"/>
          </a:xfrm>
        </p:grpSpPr>
        <p:grpSp>
          <p:nvGrpSpPr>
            <p:cNvPr id="116" name="组合 30"/>
            <p:cNvGrpSpPr/>
            <p:nvPr/>
          </p:nvGrpSpPr>
          <p:grpSpPr>
            <a:xfrm>
              <a:off x="3060720" y="2143080"/>
              <a:ext cx="1440000" cy="2160720"/>
              <a:chOff x="3060720" y="2143080"/>
              <a:chExt cx="1440000" cy="2160720"/>
            </a:xfrm>
          </p:grpSpPr>
          <p:sp>
            <p:nvSpPr>
              <p:cNvPr id="117" name="矩形 31"/>
              <p:cNvSpPr/>
              <p:nvPr/>
            </p:nvSpPr>
            <p:spPr>
              <a:xfrm>
                <a:off x="306072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TextBox 32"/>
              <p:cNvSpPr/>
              <p:nvPr/>
            </p:nvSpPr>
            <p:spPr>
              <a:xfrm>
                <a:off x="320472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TextBox 33"/>
              <p:cNvSpPr/>
              <p:nvPr/>
            </p:nvSpPr>
            <p:spPr>
              <a:xfrm>
                <a:off x="306072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TextBox 34"/>
              <p:cNvSpPr/>
              <p:nvPr/>
            </p:nvSpPr>
            <p:spPr>
              <a:xfrm>
                <a:off x="334872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宋体"/>
                  </a:rPr>
                  <a:t>2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1" name="矩形 9"/>
            <p:cNvSpPr/>
            <p:nvPr/>
          </p:nvSpPr>
          <p:spPr>
            <a:xfrm>
              <a:off x="3617280" y="2725200"/>
              <a:ext cx="326520" cy="31968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2765956" h="2766288">
                  <a:moveTo>
                    <a:pt x="250031" y="2016492"/>
                  </a:moveTo>
                  <a:lnTo>
                    <a:pt x="250031" y="2232516"/>
                  </a:lnTo>
                  <a:lnTo>
                    <a:pt x="1042119" y="2232516"/>
                  </a:lnTo>
                  <a:lnTo>
                    <a:pt x="1042119" y="2016492"/>
                  </a:lnTo>
                  <a:lnTo>
                    <a:pt x="250031" y="2016492"/>
                  </a:lnTo>
                  <a:close/>
                  <a:moveTo>
                    <a:pt x="1728291" y="1498706"/>
                  </a:moveTo>
                  <a:lnTo>
                    <a:pt x="1728291" y="1714730"/>
                  </a:lnTo>
                  <a:lnTo>
                    <a:pt x="2520379" y="1714730"/>
                  </a:lnTo>
                  <a:lnTo>
                    <a:pt x="2520379" y="1498706"/>
                  </a:lnTo>
                  <a:lnTo>
                    <a:pt x="1728291" y="1498706"/>
                  </a:lnTo>
                  <a:close/>
                  <a:moveTo>
                    <a:pt x="0" y="1471866"/>
                  </a:moveTo>
                  <a:lnTo>
                    <a:pt x="1294427" y="1471866"/>
                  </a:lnTo>
                  <a:lnTo>
                    <a:pt x="1294427" y="2766288"/>
                  </a:lnTo>
                  <a:lnTo>
                    <a:pt x="0" y="2766288"/>
                  </a:lnTo>
                  <a:lnTo>
                    <a:pt x="0" y="1471866"/>
                  </a:lnTo>
                  <a:close/>
                  <a:moveTo>
                    <a:pt x="1728291" y="1051558"/>
                  </a:moveTo>
                  <a:lnTo>
                    <a:pt x="1728291" y="1267582"/>
                  </a:lnTo>
                  <a:lnTo>
                    <a:pt x="2520379" y="1267582"/>
                  </a:lnTo>
                  <a:lnTo>
                    <a:pt x="2520379" y="1051558"/>
                  </a:lnTo>
                  <a:lnTo>
                    <a:pt x="1728291" y="1051558"/>
                  </a:lnTo>
                  <a:close/>
                  <a:moveTo>
                    <a:pt x="538063" y="254392"/>
                  </a:moveTo>
                  <a:lnTo>
                    <a:pt x="538063" y="542424"/>
                  </a:lnTo>
                  <a:lnTo>
                    <a:pt x="250031" y="542424"/>
                  </a:lnTo>
                  <a:lnTo>
                    <a:pt x="250031" y="758448"/>
                  </a:lnTo>
                  <a:lnTo>
                    <a:pt x="538063" y="758448"/>
                  </a:lnTo>
                  <a:lnTo>
                    <a:pt x="538063" y="1046480"/>
                  </a:lnTo>
                  <a:lnTo>
                    <a:pt x="754087" y="1046480"/>
                  </a:lnTo>
                  <a:lnTo>
                    <a:pt x="754087" y="758448"/>
                  </a:lnTo>
                  <a:lnTo>
                    <a:pt x="1042119" y="758448"/>
                  </a:lnTo>
                  <a:lnTo>
                    <a:pt x="1042119" y="542424"/>
                  </a:lnTo>
                  <a:lnTo>
                    <a:pt x="754087" y="542424"/>
                  </a:lnTo>
                  <a:lnTo>
                    <a:pt x="754087" y="254392"/>
                  </a:lnTo>
                  <a:lnTo>
                    <a:pt x="538063" y="254392"/>
                  </a:lnTo>
                  <a:close/>
                  <a:moveTo>
                    <a:pt x="1471529" y="0"/>
                  </a:moveTo>
                  <a:lnTo>
                    <a:pt x="2765956" y="0"/>
                  </a:lnTo>
                  <a:lnTo>
                    <a:pt x="2765956" y="4"/>
                  </a:lnTo>
                  <a:lnTo>
                    <a:pt x="2765956" y="1294422"/>
                  </a:lnTo>
                  <a:lnTo>
                    <a:pt x="2765956" y="1471870"/>
                  </a:lnTo>
                  <a:lnTo>
                    <a:pt x="2765956" y="1715898"/>
                  </a:lnTo>
                  <a:lnTo>
                    <a:pt x="2765956" y="2203960"/>
                  </a:lnTo>
                  <a:lnTo>
                    <a:pt x="2765956" y="2203965"/>
                  </a:lnTo>
                  <a:lnTo>
                    <a:pt x="2765956" y="2404395"/>
                  </a:lnTo>
                  <a:lnTo>
                    <a:pt x="2765956" y="2722691"/>
                  </a:lnTo>
                  <a:lnTo>
                    <a:pt x="2765956" y="2766288"/>
                  </a:lnTo>
                  <a:lnTo>
                    <a:pt x="1461466" y="2766288"/>
                  </a:lnTo>
                  <a:lnTo>
                    <a:pt x="1461466" y="4"/>
                  </a:lnTo>
                  <a:lnTo>
                    <a:pt x="1471529" y="4"/>
                  </a:lnTo>
                  <a:lnTo>
                    <a:pt x="1471529" y="0"/>
                  </a:lnTo>
                  <a:close/>
                  <a:moveTo>
                    <a:pt x="0" y="0"/>
                  </a:moveTo>
                  <a:lnTo>
                    <a:pt x="1294427" y="0"/>
                  </a:lnTo>
                  <a:lnTo>
                    <a:pt x="1294427" y="1294422"/>
                  </a:lnTo>
                  <a:lnTo>
                    <a:pt x="0" y="12944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" name="TextBox 46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u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0" dur="250" autoRev="1" fill="hold"/>
                                        <p:tgtEl>
                                          <p:spTgt spid="1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250" autoRev="1" fill="hold"/>
                                        <p:tgtEl>
                                          <p:spTgt spid="1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250" autoRev="1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250" autoRev="1" fill="hold"/>
                                        <p:tgtEl>
                                          <p:spTgt spid="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5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6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057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58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059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0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6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6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6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0" name="矩形 4"/>
          <p:cNvSpPr/>
          <p:nvPr/>
        </p:nvSpPr>
        <p:spPr>
          <a:xfrm>
            <a:off x="3386160" y="2049480"/>
            <a:ext cx="2371680" cy="1090440"/>
          </a:xfrm>
          <a:custGeom>
            <a:avLst/>
            <a:gdLst>
              <a:gd name="textAreaLeft" fmla="*/ 0 w 2371680"/>
              <a:gd name="textAreaRight" fmla="*/ 2372040 w 2371680"/>
              <a:gd name="textAreaTop" fmla="*/ 0 h 1090440"/>
              <a:gd name="textAreaBottom" fmla="*/ 1090800 h 10904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1" name="矩形 4"/>
          <p:cNvSpPr/>
          <p:nvPr/>
        </p:nvSpPr>
        <p:spPr>
          <a:xfrm flipV="1">
            <a:off x="143820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2" name="矩形 4"/>
          <p:cNvSpPr/>
          <p:nvPr/>
        </p:nvSpPr>
        <p:spPr>
          <a:xfrm flipV="1">
            <a:off x="533412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3" name="TextBox 25"/>
          <p:cNvSpPr/>
          <p:nvPr/>
        </p:nvSpPr>
        <p:spPr>
          <a:xfrm>
            <a:off x="3276720" y="3584520"/>
            <a:ext cx="25905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4" name="TextBox 26"/>
          <p:cNvSpPr/>
          <p:nvPr/>
        </p:nvSpPr>
        <p:spPr>
          <a:xfrm>
            <a:off x="1325520" y="1541520"/>
            <a:ext cx="25988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5" name="TextBox 27"/>
          <p:cNvSpPr/>
          <p:nvPr/>
        </p:nvSpPr>
        <p:spPr>
          <a:xfrm>
            <a:off x="5334120" y="1541520"/>
            <a:ext cx="2371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76" name="组合 28"/>
          <p:cNvGrpSpPr/>
          <p:nvPr/>
        </p:nvGrpSpPr>
        <p:grpSpPr>
          <a:xfrm>
            <a:off x="6302520" y="3844800"/>
            <a:ext cx="431640" cy="432000"/>
            <a:chOff x="6302520" y="3844800"/>
            <a:chExt cx="431640" cy="432000"/>
          </a:xfrm>
        </p:grpSpPr>
        <p:sp>
          <p:nvSpPr>
            <p:cNvPr id="1077" name="椭圆 31"/>
            <p:cNvSpPr/>
            <p:nvPr/>
          </p:nvSpPr>
          <p:spPr>
            <a:xfrm>
              <a:off x="630252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空心弧 22"/>
            <p:cNvSpPr/>
            <p:nvPr/>
          </p:nvSpPr>
          <p:spPr>
            <a:xfrm>
              <a:off x="6428520" y="3974760"/>
              <a:ext cx="179280" cy="171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9" name="组合 39"/>
          <p:cNvGrpSpPr/>
          <p:nvPr/>
        </p:nvGrpSpPr>
        <p:grpSpPr>
          <a:xfrm>
            <a:off x="2408400" y="3844800"/>
            <a:ext cx="431640" cy="432000"/>
            <a:chOff x="2408400" y="3844800"/>
            <a:chExt cx="431640" cy="432000"/>
          </a:xfrm>
        </p:grpSpPr>
        <p:sp>
          <p:nvSpPr>
            <p:cNvPr id="1080" name="椭圆 40"/>
            <p:cNvSpPr/>
            <p:nvPr/>
          </p:nvSpPr>
          <p:spPr>
            <a:xfrm>
              <a:off x="240840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圆角矩形 49"/>
            <p:cNvSpPr/>
            <p:nvPr/>
          </p:nvSpPr>
          <p:spPr>
            <a:xfrm>
              <a:off x="2548440" y="3959280"/>
              <a:ext cx="151200" cy="20304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654689" h="876743">
                  <a:moveTo>
                    <a:pt x="134787" y="512482"/>
                  </a:moveTo>
                  <a:lnTo>
                    <a:pt x="484855" y="512482"/>
                  </a:lnTo>
                  <a:lnTo>
                    <a:pt x="484855" y="567039"/>
                  </a:lnTo>
                  <a:lnTo>
                    <a:pt x="134787" y="567039"/>
                  </a:lnTo>
                  <a:lnTo>
                    <a:pt x="134787" y="512482"/>
                  </a:lnTo>
                  <a:close/>
                  <a:moveTo>
                    <a:pt x="134787" y="426464"/>
                  </a:moveTo>
                  <a:lnTo>
                    <a:pt x="426499" y="426464"/>
                  </a:lnTo>
                  <a:lnTo>
                    <a:pt x="426499" y="481021"/>
                  </a:lnTo>
                  <a:lnTo>
                    <a:pt x="134787" y="481021"/>
                  </a:lnTo>
                  <a:lnTo>
                    <a:pt x="134787" y="426464"/>
                  </a:lnTo>
                  <a:close/>
                  <a:moveTo>
                    <a:pt x="134787" y="347535"/>
                  </a:moveTo>
                  <a:lnTo>
                    <a:pt x="523751" y="347535"/>
                  </a:lnTo>
                  <a:lnTo>
                    <a:pt x="523751" y="402092"/>
                  </a:lnTo>
                  <a:lnTo>
                    <a:pt x="134787" y="402092"/>
                  </a:lnTo>
                  <a:lnTo>
                    <a:pt x="134787" y="347535"/>
                  </a:lnTo>
                  <a:close/>
                  <a:moveTo>
                    <a:pt x="74477" y="148223"/>
                  </a:moveTo>
                  <a:lnTo>
                    <a:pt x="87292" y="148223"/>
                  </a:lnTo>
                  <a:lnTo>
                    <a:pt x="87292" y="765039"/>
                  </a:lnTo>
                  <a:lnTo>
                    <a:pt x="567397" y="765039"/>
                  </a:lnTo>
                  <a:lnTo>
                    <a:pt x="567397" y="148223"/>
                  </a:lnTo>
                  <a:lnTo>
                    <a:pt x="580212" y="148223"/>
                  </a:lnTo>
                  <a:cubicBezTo>
                    <a:pt x="621345" y="148223"/>
                    <a:pt x="654689" y="181567"/>
                    <a:pt x="654689" y="222700"/>
                  </a:cubicBezTo>
                  <a:lnTo>
                    <a:pt x="654689" y="802266"/>
                  </a:lnTo>
                  <a:cubicBezTo>
                    <a:pt x="654689" y="843399"/>
                    <a:pt x="621345" y="876743"/>
                    <a:pt x="580212" y="876743"/>
                  </a:cubicBezTo>
                  <a:lnTo>
                    <a:pt x="74477" y="876743"/>
                  </a:lnTo>
                  <a:cubicBezTo>
                    <a:pt x="33344" y="876743"/>
                    <a:pt x="0" y="843399"/>
                    <a:pt x="0" y="802266"/>
                  </a:cubicBezTo>
                  <a:lnTo>
                    <a:pt x="0" y="222700"/>
                  </a:lnTo>
                  <a:cubicBezTo>
                    <a:pt x="0" y="181567"/>
                    <a:pt x="33344" y="148223"/>
                    <a:pt x="74477" y="148223"/>
                  </a:cubicBezTo>
                  <a:close/>
                  <a:moveTo>
                    <a:pt x="327344" y="59420"/>
                  </a:moveTo>
                  <a:cubicBezTo>
                    <a:pt x="299905" y="59420"/>
                    <a:pt x="277661" y="81664"/>
                    <a:pt x="277661" y="109103"/>
                  </a:cubicBezTo>
                  <a:cubicBezTo>
                    <a:pt x="277661" y="125393"/>
                    <a:pt x="285501" y="139852"/>
                    <a:pt x="298129" y="148223"/>
                  </a:cubicBezTo>
                  <a:lnTo>
                    <a:pt x="356559" y="148223"/>
                  </a:lnTo>
                  <a:cubicBezTo>
                    <a:pt x="369187" y="139852"/>
                    <a:pt x="377027" y="125393"/>
                    <a:pt x="377027" y="109103"/>
                  </a:cubicBezTo>
                  <a:cubicBezTo>
                    <a:pt x="377027" y="81664"/>
                    <a:pt x="354783" y="59420"/>
                    <a:pt x="327344" y="59420"/>
                  </a:cubicBezTo>
                  <a:close/>
                  <a:moveTo>
                    <a:pt x="327345" y="0"/>
                  </a:moveTo>
                  <a:cubicBezTo>
                    <a:pt x="387601" y="0"/>
                    <a:pt x="436448" y="48847"/>
                    <a:pt x="436448" y="109103"/>
                  </a:cubicBezTo>
                  <a:lnTo>
                    <a:pt x="428550" y="148223"/>
                  </a:lnTo>
                  <a:lnTo>
                    <a:pt x="523751" y="148223"/>
                  </a:lnTo>
                  <a:lnTo>
                    <a:pt x="523751" y="231012"/>
                  </a:lnTo>
                  <a:cubicBezTo>
                    <a:pt x="523751" y="257604"/>
                    <a:pt x="502194" y="279161"/>
                    <a:pt x="475602" y="279161"/>
                  </a:cubicBezTo>
                  <a:lnTo>
                    <a:pt x="179087" y="279161"/>
                  </a:lnTo>
                  <a:cubicBezTo>
                    <a:pt x="152495" y="279161"/>
                    <a:pt x="130938" y="257604"/>
                    <a:pt x="130938" y="231012"/>
                  </a:cubicBezTo>
                  <a:lnTo>
                    <a:pt x="130938" y="148223"/>
                  </a:lnTo>
                  <a:lnTo>
                    <a:pt x="226140" y="148223"/>
                  </a:lnTo>
                  <a:cubicBezTo>
                    <a:pt x="220831" y="136244"/>
                    <a:pt x="218242" y="122976"/>
                    <a:pt x="218242" y="109103"/>
                  </a:cubicBezTo>
                  <a:cubicBezTo>
                    <a:pt x="218242" y="48847"/>
                    <a:pt x="267089" y="0"/>
                    <a:pt x="3273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2" name="组合 42"/>
          <p:cNvGrpSpPr/>
          <p:nvPr/>
        </p:nvGrpSpPr>
        <p:grpSpPr>
          <a:xfrm>
            <a:off x="4356000" y="1555920"/>
            <a:ext cx="432000" cy="431640"/>
            <a:chOff x="4356000" y="1555920"/>
            <a:chExt cx="432000" cy="431640"/>
          </a:xfrm>
        </p:grpSpPr>
        <p:sp>
          <p:nvSpPr>
            <p:cNvPr id="1083" name="椭圆 43"/>
            <p:cNvSpPr/>
            <p:nvPr/>
          </p:nvSpPr>
          <p:spPr>
            <a:xfrm>
              <a:off x="4356000" y="1555920"/>
              <a:ext cx="432000" cy="4316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4" name="矩形 60"/>
            <p:cNvSpPr/>
            <p:nvPr/>
          </p:nvSpPr>
          <p:spPr>
            <a:xfrm>
              <a:off x="4488120" y="1697040"/>
              <a:ext cx="167760" cy="14940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85" name="TextBox 45"/>
          <p:cNvSpPr/>
          <p:nvPr/>
        </p:nvSpPr>
        <p:spPr>
          <a:xfrm>
            <a:off x="3819600" y="229536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6" name="TextBox 47"/>
          <p:cNvSpPr/>
          <p:nvPr/>
        </p:nvSpPr>
        <p:spPr>
          <a:xfrm>
            <a:off x="185904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5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7" name="TextBox 48"/>
          <p:cNvSpPr/>
          <p:nvPr/>
        </p:nvSpPr>
        <p:spPr>
          <a:xfrm>
            <a:off x="575316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,58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660" dur="indefinite" restart="never" nodeType="tmRoot">
          <p:childTnLst>
            <p:seq>
              <p:cTn id="1661" dur="indefinite" nodeType="mainSeq">
                <p:childTnLst>
                  <p:par>
                    <p:cTn id="1662" nodeType="clickEffect" fill="hold">
                      <p:stCondLst>
                        <p:cond delay="0"/>
                      </p:stCondLst>
                      <p:childTnLst>
                        <p:par>
                          <p:cTn id="1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4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6" dur="5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8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0" dur="500"/>
                                        <p:tgtEl>
                                          <p:spTgt spid="10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3" dur="5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7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8" dur="500" fill="hold"/>
                                        <p:tgtEl>
                                          <p:spTgt spid="10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4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10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2" dur="500" fill="hold"/>
                                        <p:tgtEl>
                                          <p:spTgt spid="10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3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7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8" dur="500" fill="hold"/>
                                        <p:tgtEl>
                                          <p:spTgt spid="10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9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3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4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0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8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500" fill="hold"/>
                                        <p:tgtEl>
                                          <p:spTgt spid="10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500" fill="hold"/>
                                        <p:tgtEl>
                                          <p:spTgt spid="10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0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091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92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093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4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9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9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4" name="椭圆 30"/>
          <p:cNvSpPr/>
          <p:nvPr/>
        </p:nvSpPr>
        <p:spPr>
          <a:xfrm rot="17346600">
            <a:off x="1680120" y="1797840"/>
            <a:ext cx="928800" cy="1327320"/>
          </a:xfrm>
          <a:custGeom>
            <a:avLst/>
            <a:gdLst>
              <a:gd name="textAreaLeft" fmla="*/ 0 w 928800"/>
              <a:gd name="textAreaRight" fmla="*/ 929160 w 928800"/>
              <a:gd name="textAreaTop" fmla="*/ 0 h 1327320"/>
              <a:gd name="textAreaBottom" fmla="*/ 1327680 h 13273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5" name="椭圆 30"/>
          <p:cNvSpPr/>
          <p:nvPr/>
        </p:nvSpPr>
        <p:spPr>
          <a:xfrm rot="1146600">
            <a:off x="1361880" y="2719080"/>
            <a:ext cx="927000" cy="1326960"/>
          </a:xfrm>
          <a:custGeom>
            <a:avLst/>
            <a:gdLst>
              <a:gd name="textAreaLeft" fmla="*/ 0 w 927000"/>
              <a:gd name="textAreaRight" fmla="*/ 927360 w 927000"/>
              <a:gd name="textAreaTop" fmla="*/ 0 h 1326960"/>
              <a:gd name="textAreaBottom" fmla="*/ 1327320 h 132696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6" name="椭圆 30"/>
          <p:cNvSpPr/>
          <p:nvPr/>
        </p:nvSpPr>
        <p:spPr>
          <a:xfrm flipH="1" flipV="1" rot="17346600">
            <a:off x="2283840" y="303840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7" name="椭圆 30"/>
          <p:cNvSpPr/>
          <p:nvPr/>
        </p:nvSpPr>
        <p:spPr>
          <a:xfrm flipH="1" flipV="1" rot="13152600">
            <a:off x="2929680" y="208764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8" name="TextBox 84"/>
          <p:cNvSpPr/>
          <p:nvPr/>
        </p:nvSpPr>
        <p:spPr>
          <a:xfrm>
            <a:off x="4932360" y="159876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9" name="TextBox 85"/>
          <p:cNvSpPr/>
          <p:nvPr/>
        </p:nvSpPr>
        <p:spPr>
          <a:xfrm>
            <a:off x="4932360" y="24145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0" name="TextBox 86"/>
          <p:cNvSpPr/>
          <p:nvPr/>
        </p:nvSpPr>
        <p:spPr>
          <a:xfrm>
            <a:off x="4932360" y="32209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1" name="TextBox 87"/>
          <p:cNvSpPr/>
          <p:nvPr/>
        </p:nvSpPr>
        <p:spPr>
          <a:xfrm>
            <a:off x="4932360" y="40291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719" dur="indefinite" restart="never" nodeType="tmRoot">
          <p:childTnLst>
            <p:seq>
              <p:cTn id="1720" dur="indefinite" nodeType="mainSeq">
                <p:childTnLst>
                  <p:par>
                    <p:cTn id="1721" nodeType="clickEffect" fill="hold">
                      <p:stCondLst>
                        <p:cond delay="0"/>
                      </p:stCondLst>
                      <p:childTnLst>
                        <p:par>
                          <p:cTn id="1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5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6" dur="500" fill="hold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27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1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2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6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7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3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4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4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0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1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1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3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14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115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16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117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1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2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12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28" name="组合 23"/>
          <p:cNvGrpSpPr/>
          <p:nvPr/>
        </p:nvGrpSpPr>
        <p:grpSpPr>
          <a:xfrm>
            <a:off x="1260360" y="1555920"/>
            <a:ext cx="2374920" cy="1857240"/>
            <a:chOff x="1260360" y="1555920"/>
            <a:chExt cx="2374920" cy="1857240"/>
          </a:xfrm>
        </p:grpSpPr>
        <p:sp>
          <p:nvSpPr>
            <p:cNvPr id="1129" name="圆角矩形 11"/>
            <p:cNvSpPr/>
            <p:nvPr/>
          </p:nvSpPr>
          <p:spPr>
            <a:xfrm>
              <a:off x="1260360" y="1555920"/>
              <a:ext cx="2374920" cy="1857240"/>
            </a:xfrm>
            <a:custGeom>
              <a:avLst/>
              <a:gdLst>
                <a:gd name="textAreaLeft" fmla="*/ 0 w 2374920"/>
                <a:gd name="textAreaRight" fmla="*/ 2375280 w 2374920"/>
                <a:gd name="textAreaTop" fmla="*/ 0 h 1857240"/>
                <a:gd name="textAreaBottom" fmla="*/ 1857600 h 1857240"/>
              </a:gdLst>
              <a:ahLst/>
              <a:rect l="textAreaLeft" t="textAreaTop" r="textAreaRight" b="textAreaBottom"/>
              <a:pathLst>
                <a:path w="2376264" h="1857413">
                  <a:moveTo>
                    <a:pt x="0" y="705284"/>
                  </a:moveTo>
                  <a:lnTo>
                    <a:pt x="144016" y="705284"/>
                  </a:lnTo>
                  <a:lnTo>
                    <a:pt x="144016" y="1558082"/>
                  </a:lnTo>
                  <a:cubicBezTo>
                    <a:pt x="144016" y="1643860"/>
                    <a:pt x="213553" y="1713397"/>
                    <a:pt x="299331" y="1713397"/>
                  </a:cubicBezTo>
                  <a:lnTo>
                    <a:pt x="2076933" y="1713397"/>
                  </a:lnTo>
                  <a:cubicBezTo>
                    <a:pt x="2162711" y="1713397"/>
                    <a:pt x="2232248" y="1643860"/>
                    <a:pt x="2232248" y="1558082"/>
                  </a:cubicBezTo>
                  <a:lnTo>
                    <a:pt x="2232248" y="705284"/>
                  </a:lnTo>
                  <a:lnTo>
                    <a:pt x="2376264" y="705284"/>
                  </a:lnTo>
                  <a:lnTo>
                    <a:pt x="2376264" y="1605380"/>
                  </a:lnTo>
                  <a:cubicBezTo>
                    <a:pt x="2376264" y="1744574"/>
                    <a:pt x="2263425" y="1857413"/>
                    <a:pt x="2124231" y="1857413"/>
                  </a:cubicBezTo>
                  <a:lnTo>
                    <a:pt x="252033" y="1857413"/>
                  </a:lnTo>
                  <a:cubicBezTo>
                    <a:pt x="112839" y="1857413"/>
                    <a:pt x="0" y="1744574"/>
                    <a:pt x="0" y="1605380"/>
                  </a:cubicBezTo>
                  <a:lnTo>
                    <a:pt x="0" y="705284"/>
                  </a:lnTo>
                  <a:close/>
                  <a:moveTo>
                    <a:pt x="252033" y="129220"/>
                  </a:moveTo>
                  <a:lnTo>
                    <a:pt x="473780" y="129220"/>
                  </a:lnTo>
                  <a:lnTo>
                    <a:pt x="473780" y="309077"/>
                  </a:lnTo>
                  <a:cubicBezTo>
                    <a:pt x="473780" y="390422"/>
                    <a:pt x="539724" y="456366"/>
                    <a:pt x="621069" y="456366"/>
                  </a:cubicBezTo>
                  <a:cubicBezTo>
                    <a:pt x="702414" y="456366"/>
                    <a:pt x="768358" y="390422"/>
                    <a:pt x="768358" y="309077"/>
                  </a:cubicBezTo>
                  <a:lnTo>
                    <a:pt x="768358" y="129220"/>
                  </a:lnTo>
                  <a:lnTo>
                    <a:pt x="1607906" y="129220"/>
                  </a:lnTo>
                  <a:lnTo>
                    <a:pt x="1607906" y="309077"/>
                  </a:lnTo>
                  <a:cubicBezTo>
                    <a:pt x="1607906" y="390422"/>
                    <a:pt x="1673850" y="456366"/>
                    <a:pt x="1755195" y="456366"/>
                  </a:cubicBezTo>
                  <a:cubicBezTo>
                    <a:pt x="1836540" y="456366"/>
                    <a:pt x="1902484" y="390422"/>
                    <a:pt x="1902484" y="309077"/>
                  </a:cubicBezTo>
                  <a:lnTo>
                    <a:pt x="1902484" y="129220"/>
                  </a:lnTo>
                  <a:lnTo>
                    <a:pt x="2124231" y="129220"/>
                  </a:lnTo>
                  <a:cubicBezTo>
                    <a:pt x="2263425" y="129220"/>
                    <a:pt x="2376264" y="242059"/>
                    <a:pt x="2376264" y="381253"/>
                  </a:cubicBezTo>
                  <a:lnTo>
                    <a:pt x="2376264" y="561268"/>
                  </a:lnTo>
                  <a:lnTo>
                    <a:pt x="0" y="561268"/>
                  </a:lnTo>
                  <a:lnTo>
                    <a:pt x="0" y="381253"/>
                  </a:lnTo>
                  <a:cubicBezTo>
                    <a:pt x="0" y="242059"/>
                    <a:pt x="112839" y="129220"/>
                    <a:pt x="252033" y="129220"/>
                  </a:cubicBezTo>
                  <a:close/>
                  <a:moveTo>
                    <a:pt x="1755195" y="0"/>
                  </a:moveTo>
                  <a:cubicBezTo>
                    <a:pt x="1804906" y="0"/>
                    <a:pt x="1845205" y="40299"/>
                    <a:pt x="1845205" y="90010"/>
                  </a:cubicBezTo>
                  <a:lnTo>
                    <a:pt x="1845205" y="306034"/>
                  </a:lnTo>
                  <a:cubicBezTo>
                    <a:pt x="1845205" y="355745"/>
                    <a:pt x="1804906" y="396044"/>
                    <a:pt x="1755195" y="396044"/>
                  </a:cubicBezTo>
                  <a:cubicBezTo>
                    <a:pt x="1705484" y="396044"/>
                    <a:pt x="1665185" y="355745"/>
                    <a:pt x="1665185" y="306034"/>
                  </a:cubicBezTo>
                  <a:lnTo>
                    <a:pt x="1665185" y="90010"/>
                  </a:lnTo>
                  <a:cubicBezTo>
                    <a:pt x="1665185" y="40299"/>
                    <a:pt x="1705484" y="0"/>
                    <a:pt x="1755195" y="0"/>
                  </a:cubicBezTo>
                  <a:close/>
                  <a:moveTo>
                    <a:pt x="621069" y="0"/>
                  </a:moveTo>
                  <a:cubicBezTo>
                    <a:pt x="670780" y="0"/>
                    <a:pt x="711079" y="40299"/>
                    <a:pt x="711079" y="90010"/>
                  </a:cubicBezTo>
                  <a:lnTo>
                    <a:pt x="711079" y="306034"/>
                  </a:lnTo>
                  <a:cubicBezTo>
                    <a:pt x="711079" y="355745"/>
                    <a:pt x="670780" y="396044"/>
                    <a:pt x="621069" y="396044"/>
                  </a:cubicBezTo>
                  <a:cubicBezTo>
                    <a:pt x="571358" y="396044"/>
                    <a:pt x="531059" y="355745"/>
                    <a:pt x="531059" y="306034"/>
                  </a:cubicBezTo>
                  <a:lnTo>
                    <a:pt x="531059" y="90010"/>
                  </a:lnTo>
                  <a:cubicBezTo>
                    <a:pt x="531059" y="40299"/>
                    <a:pt x="571358" y="0"/>
                    <a:pt x="62106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TextBox 2"/>
            <p:cNvSpPr/>
            <p:nvPr/>
          </p:nvSpPr>
          <p:spPr>
            <a:xfrm>
              <a:off x="1584000" y="2194200"/>
              <a:ext cx="1727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31" name="Rectangle 4"/>
          <p:cNvSpPr/>
          <p:nvPr/>
        </p:nvSpPr>
        <p:spPr>
          <a:xfrm>
            <a:off x="4282920" y="1562040"/>
            <a:ext cx="345780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2" name="组合 4"/>
          <p:cNvGrpSpPr/>
          <p:nvPr/>
        </p:nvGrpSpPr>
        <p:grpSpPr>
          <a:xfrm>
            <a:off x="4332240" y="3600360"/>
            <a:ext cx="2725920" cy="555840"/>
            <a:chOff x="4332240" y="3600360"/>
            <a:chExt cx="2725920" cy="555840"/>
          </a:xfrm>
        </p:grpSpPr>
        <p:grpSp>
          <p:nvGrpSpPr>
            <p:cNvPr id="1133" name="组合 5"/>
            <p:cNvGrpSpPr/>
            <p:nvPr/>
          </p:nvGrpSpPr>
          <p:grpSpPr>
            <a:xfrm>
              <a:off x="6503400" y="3600360"/>
              <a:ext cx="554760" cy="555840"/>
              <a:chOff x="6503400" y="3600360"/>
              <a:chExt cx="554760" cy="555840"/>
            </a:xfrm>
          </p:grpSpPr>
          <p:sp>
            <p:nvSpPr>
              <p:cNvPr id="1134" name="圆角矩形 18"/>
              <p:cNvSpPr/>
              <p:nvPr/>
            </p:nvSpPr>
            <p:spPr>
              <a:xfrm>
                <a:off x="650340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5" name="圆角矩形 3"/>
              <p:cNvSpPr/>
              <p:nvPr/>
            </p:nvSpPr>
            <p:spPr>
              <a:xfrm>
                <a:off x="6614640" y="3719160"/>
                <a:ext cx="442800" cy="43056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1125779" h="109281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286" y="753468"/>
                      <a:pt x="883261" y="1026357"/>
                      <a:pt x="571590" y="109281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6" name="空心弧 84"/>
              <p:cNvSpPr/>
              <p:nvPr/>
            </p:nvSpPr>
            <p:spPr>
              <a:xfrm>
                <a:off x="6603840" y="3700800"/>
                <a:ext cx="353880" cy="3679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2304424" h="2390484">
                    <a:moveTo>
                      <a:pt x="1152212" y="1008116"/>
                    </a:moveTo>
                    <a:cubicBezTo>
                      <a:pt x="1225975" y="1008116"/>
                      <a:pt x="1285772" y="1067913"/>
                      <a:pt x="1285772" y="1141676"/>
                    </a:cubicBezTo>
                    <a:cubicBezTo>
                      <a:pt x="1285772" y="1180133"/>
                      <a:pt x="1269518" y="1214794"/>
                      <a:pt x="1242975" y="1238597"/>
                    </a:cubicBezTo>
                    <a:lnTo>
                      <a:pt x="1356406" y="2176766"/>
                    </a:lnTo>
                    <a:lnTo>
                      <a:pt x="1355446" y="2176766"/>
                    </a:lnTo>
                    <a:cubicBezTo>
                      <a:pt x="1356332" y="2179900"/>
                      <a:pt x="1356406" y="2183086"/>
                      <a:pt x="1356406" y="2186290"/>
                    </a:cubicBezTo>
                    <a:cubicBezTo>
                      <a:pt x="1356406" y="2299063"/>
                      <a:pt x="1264985" y="2390484"/>
                      <a:pt x="1152212" y="2390484"/>
                    </a:cubicBezTo>
                    <a:cubicBezTo>
                      <a:pt x="1039439" y="2390484"/>
                      <a:pt x="948018" y="2299063"/>
                      <a:pt x="948018" y="2186290"/>
                    </a:cubicBezTo>
                    <a:lnTo>
                      <a:pt x="948978" y="2176766"/>
                    </a:lnTo>
                    <a:lnTo>
                      <a:pt x="948018" y="2176766"/>
                    </a:lnTo>
                    <a:lnTo>
                      <a:pt x="1061449" y="1238597"/>
                    </a:lnTo>
                    <a:cubicBezTo>
                      <a:pt x="1034906" y="1214794"/>
                      <a:pt x="1018652" y="1180133"/>
                      <a:pt x="1018652" y="1141676"/>
                    </a:cubicBezTo>
                    <a:cubicBezTo>
                      <a:pt x="1018652" y="1067913"/>
                      <a:pt x="1078449" y="1008116"/>
                      <a:pt x="1152212" y="1008116"/>
                    </a:cubicBezTo>
                    <a:close/>
                    <a:moveTo>
                      <a:pt x="1172513" y="599688"/>
                    </a:moveTo>
                    <a:cubicBezTo>
                      <a:pt x="1423452" y="608910"/>
                      <a:pt x="1636654" y="786102"/>
                      <a:pt x="1691622" y="1031120"/>
                    </a:cubicBezTo>
                    <a:cubicBezTo>
                      <a:pt x="1737725" y="1236623"/>
                      <a:pt x="1662804" y="1446535"/>
                      <a:pt x="1504903" y="1575870"/>
                    </a:cubicBezTo>
                    <a:lnTo>
                      <a:pt x="1426605" y="1440872"/>
                    </a:lnTo>
                    <a:cubicBezTo>
                      <a:pt x="1527286" y="1346790"/>
                      <a:pt x="1573295" y="1204333"/>
                      <a:pt x="1541968" y="1064694"/>
                    </a:cubicBezTo>
                    <a:cubicBezTo>
                      <a:pt x="1502250" y="887653"/>
                      <a:pt x="1348200" y="759622"/>
                      <a:pt x="1166881" y="752958"/>
                    </a:cubicBezTo>
                    <a:cubicBezTo>
                      <a:pt x="985562" y="746295"/>
                      <a:pt x="822530" y="862674"/>
                      <a:pt x="769925" y="1036322"/>
                    </a:cubicBezTo>
                    <a:cubicBezTo>
                      <a:pt x="725495" y="1182984"/>
                      <a:pt x="769265" y="1339376"/>
                      <a:pt x="877736" y="1440999"/>
                    </a:cubicBezTo>
                    <a:lnTo>
                      <a:pt x="799244" y="1576331"/>
                    </a:lnTo>
                    <a:cubicBezTo>
                      <a:pt x="629766" y="1436761"/>
                      <a:pt x="558035" y="1206759"/>
                      <a:pt x="623138" y="991855"/>
                    </a:cubicBezTo>
                    <a:cubicBezTo>
                      <a:pt x="695942" y="751532"/>
                      <a:pt x="921574" y="590466"/>
                      <a:pt x="1172513" y="599688"/>
                    </a:cubicBezTo>
                    <a:close/>
                    <a:moveTo>
                      <a:pt x="1181638" y="288540"/>
                    </a:moveTo>
                    <a:cubicBezTo>
                      <a:pt x="1573483" y="301892"/>
                      <a:pt x="1907229" y="577390"/>
                      <a:pt x="1994586" y="959606"/>
                    </a:cubicBezTo>
                    <a:cubicBezTo>
                      <a:pt x="2072228" y="1299314"/>
                      <a:pt x="1937941" y="1647640"/>
                      <a:pt x="1662691" y="1847918"/>
                    </a:cubicBezTo>
                    <a:lnTo>
                      <a:pt x="1569712" y="1687609"/>
                    </a:lnTo>
                    <a:cubicBezTo>
                      <a:pt x="1775245" y="1528215"/>
                      <a:pt x="1874197" y="1261250"/>
                      <a:pt x="1814654" y="1000730"/>
                    </a:cubicBezTo>
                    <a:cubicBezTo>
                      <a:pt x="1745956" y="700155"/>
                      <a:pt x="1483499" y="483504"/>
                      <a:pt x="1175352" y="473004"/>
                    </a:cubicBezTo>
                    <a:cubicBezTo>
                      <a:pt x="867205" y="462504"/>
                      <a:pt x="590609" y="660787"/>
                      <a:pt x="501610" y="955988"/>
                    </a:cubicBezTo>
                    <a:cubicBezTo>
                      <a:pt x="419937" y="1226892"/>
                      <a:pt x="515037" y="1517099"/>
                      <a:pt x="735509" y="1686218"/>
                    </a:cubicBezTo>
                    <a:lnTo>
                      <a:pt x="642673" y="1846280"/>
                    </a:lnTo>
                    <a:cubicBezTo>
                      <a:pt x="347872" y="1633863"/>
                      <a:pt x="218560" y="1255420"/>
                      <a:pt x="324896" y="902711"/>
                    </a:cubicBezTo>
                    <a:cubicBezTo>
                      <a:pt x="438068" y="527328"/>
                      <a:pt x="789793" y="275187"/>
                      <a:pt x="1181638" y="288540"/>
                    </a:cubicBezTo>
                    <a:close/>
                    <a:moveTo>
                      <a:pt x="1185866" y="496"/>
                    </a:moveTo>
                    <a:cubicBezTo>
                      <a:pt x="1707369" y="15737"/>
                      <a:pt x="2153542" y="379520"/>
                      <a:pt x="2273481" y="887272"/>
                    </a:cubicBezTo>
                    <a:cubicBezTo>
                      <a:pt x="2383342" y="1352362"/>
                      <a:pt x="2194368" y="1831904"/>
                      <a:pt x="1806639" y="2096105"/>
                    </a:cubicBezTo>
                    <a:lnTo>
                      <a:pt x="1712428" y="1933672"/>
                    </a:lnTo>
                    <a:cubicBezTo>
                      <a:pt x="2028177" y="1710532"/>
                      <a:pt x="2181065" y="1314642"/>
                      <a:pt x="2090333" y="930535"/>
                    </a:cubicBezTo>
                    <a:cubicBezTo>
                      <a:pt x="1989985" y="505719"/>
                      <a:pt x="1616690" y="201357"/>
                      <a:pt x="1180370" y="188605"/>
                    </a:cubicBezTo>
                    <a:cubicBezTo>
                      <a:pt x="744050" y="175854"/>
                      <a:pt x="353617" y="457897"/>
                      <a:pt x="228632" y="876127"/>
                    </a:cubicBezTo>
                    <a:cubicBezTo>
                      <a:pt x="110168" y="1272536"/>
                      <a:pt x="258202" y="1697504"/>
                      <a:pt x="592449" y="1932874"/>
                    </a:cubicBezTo>
                    <a:lnTo>
                      <a:pt x="497793" y="2096073"/>
                    </a:lnTo>
                    <a:cubicBezTo>
                      <a:pt x="88107" y="1816596"/>
                      <a:pt x="-95029" y="1301925"/>
                      <a:pt x="48321" y="822243"/>
                    </a:cubicBezTo>
                    <a:cubicBezTo>
                      <a:pt x="197707" y="322362"/>
                      <a:pt x="664363" y="-14744"/>
                      <a:pt x="1185866" y="4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37" name="组合 6"/>
            <p:cNvGrpSpPr/>
            <p:nvPr/>
          </p:nvGrpSpPr>
          <p:grpSpPr>
            <a:xfrm>
              <a:off x="5780160" y="3600720"/>
              <a:ext cx="553320" cy="554760"/>
              <a:chOff x="5780160" y="3600720"/>
              <a:chExt cx="553320" cy="554760"/>
            </a:xfrm>
          </p:grpSpPr>
          <p:sp>
            <p:nvSpPr>
              <p:cNvPr id="1138" name="圆角矩形 15"/>
              <p:cNvSpPr/>
              <p:nvPr/>
            </p:nvSpPr>
            <p:spPr>
              <a:xfrm>
                <a:off x="578016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9" name="圆角矩形 12"/>
              <p:cNvSpPr/>
              <p:nvPr/>
            </p:nvSpPr>
            <p:spPr>
              <a:xfrm>
                <a:off x="5912280" y="3699000"/>
                <a:ext cx="420480" cy="45468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454680"/>
                  <a:gd name="textAreaBottom" fmla="*/ 455040 h 454680"/>
                </a:gdLst>
                <a:ahLst/>
                <a:rect l="textAreaLeft" t="textAreaTop" r="textAreaRight" b="textAreaBottom"/>
                <a:pathLst>
                  <a:path w="1069318" h="1153639">
                    <a:moveTo>
                      <a:pt x="533552" y="0"/>
                    </a:moveTo>
                    <a:lnTo>
                      <a:pt x="1053562" y="302088"/>
                    </a:lnTo>
                    <a:cubicBezTo>
                      <a:pt x="1064058" y="345013"/>
                      <a:pt x="1069627" y="389638"/>
                      <a:pt x="1069179" y="435393"/>
                    </a:cubicBezTo>
                    <a:cubicBezTo>
                      <a:pt x="1069222" y="447663"/>
                      <a:pt x="1069270" y="459832"/>
                      <a:pt x="1069318" y="471918"/>
                    </a:cubicBezTo>
                    <a:cubicBezTo>
                      <a:pt x="1061903" y="837233"/>
                      <a:pt x="774670" y="1133487"/>
                      <a:pt x="412914" y="1153639"/>
                    </a:cubicBezTo>
                    <a:lnTo>
                      <a:pt x="0" y="876260"/>
                    </a:lnTo>
                    <a:lnTo>
                      <a:pt x="333919" y="789702"/>
                    </a:lnTo>
                    <a:lnTo>
                      <a:pt x="39376" y="577773"/>
                    </a:lnTo>
                    <a:lnTo>
                      <a:pt x="158440" y="328612"/>
                    </a:lnTo>
                    <a:lnTo>
                      <a:pt x="185290" y="44925"/>
                    </a:lnTo>
                    <a:lnTo>
                      <a:pt x="533552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0" name="同侧圆角矩形 42"/>
              <p:cNvSpPr/>
              <p:nvPr/>
            </p:nvSpPr>
            <p:spPr>
              <a:xfrm>
                <a:off x="5892120" y="3674880"/>
                <a:ext cx="329400" cy="37584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720080" h="820163">
                    <a:moveTo>
                      <a:pt x="360040" y="404440"/>
                    </a:moveTo>
                    <a:cubicBezTo>
                      <a:pt x="320271" y="404440"/>
                      <a:pt x="288032" y="436679"/>
                      <a:pt x="288032" y="476448"/>
                    </a:cubicBezTo>
                    <a:cubicBezTo>
                      <a:pt x="288032" y="500028"/>
                      <a:pt x="299366" y="520960"/>
                      <a:pt x="317629" y="533101"/>
                    </a:cubicBezTo>
                    <a:lnTo>
                      <a:pt x="317629" y="648728"/>
                    </a:lnTo>
                    <a:cubicBezTo>
                      <a:pt x="317629" y="672150"/>
                      <a:pt x="336617" y="691138"/>
                      <a:pt x="360040" y="691138"/>
                    </a:cubicBezTo>
                    <a:cubicBezTo>
                      <a:pt x="383462" y="691138"/>
                      <a:pt x="402450" y="672150"/>
                      <a:pt x="402450" y="648728"/>
                    </a:cubicBezTo>
                    <a:lnTo>
                      <a:pt x="402450" y="533101"/>
                    </a:lnTo>
                    <a:cubicBezTo>
                      <a:pt x="420714" y="520962"/>
                      <a:pt x="432048" y="500028"/>
                      <a:pt x="432048" y="476448"/>
                    </a:cubicBezTo>
                    <a:cubicBezTo>
                      <a:pt x="432048" y="436679"/>
                      <a:pt x="399809" y="404440"/>
                      <a:pt x="360040" y="404440"/>
                    </a:cubicBezTo>
                    <a:close/>
                    <a:moveTo>
                      <a:pt x="360040" y="0"/>
                    </a:moveTo>
                    <a:cubicBezTo>
                      <a:pt x="484045" y="0"/>
                      <a:pt x="584759" y="99721"/>
                      <a:pt x="586082" y="223348"/>
                    </a:cubicBezTo>
                    <a:lnTo>
                      <a:pt x="496917" y="223348"/>
                    </a:lnTo>
                    <a:cubicBezTo>
                      <a:pt x="495736" y="148950"/>
                      <a:pt x="434865" y="89214"/>
                      <a:pt x="360041" y="89214"/>
                    </a:cubicBezTo>
                    <a:cubicBezTo>
                      <a:pt x="284064" y="89214"/>
                      <a:pt x="222472" y="150806"/>
                      <a:pt x="222472" y="226783"/>
                    </a:cubicBezTo>
                    <a:lnTo>
                      <a:pt x="222472" y="273553"/>
                    </a:lnTo>
                    <a:lnTo>
                      <a:pt x="628977" y="273553"/>
                    </a:lnTo>
                    <a:cubicBezTo>
                      <a:pt x="679292" y="273553"/>
                      <a:pt x="720080" y="314341"/>
                      <a:pt x="720080" y="364656"/>
                    </a:cubicBezTo>
                    <a:lnTo>
                      <a:pt x="720080" y="729060"/>
                    </a:lnTo>
                    <a:cubicBezTo>
                      <a:pt x="720080" y="779375"/>
                      <a:pt x="679292" y="820163"/>
                      <a:pt x="628977" y="820163"/>
                    </a:cubicBezTo>
                    <a:lnTo>
                      <a:pt x="91103" y="820163"/>
                    </a:lnTo>
                    <a:cubicBezTo>
                      <a:pt x="40788" y="820163"/>
                      <a:pt x="0" y="779375"/>
                      <a:pt x="0" y="729060"/>
                    </a:cubicBezTo>
                    <a:lnTo>
                      <a:pt x="0" y="364656"/>
                    </a:lnTo>
                    <a:cubicBezTo>
                      <a:pt x="0" y="314341"/>
                      <a:pt x="40788" y="273553"/>
                      <a:pt x="91103" y="273553"/>
                    </a:cubicBezTo>
                    <a:lnTo>
                      <a:pt x="133696" y="273553"/>
                    </a:lnTo>
                    <a:lnTo>
                      <a:pt x="133696" y="226344"/>
                    </a:lnTo>
                    <a:cubicBezTo>
                      <a:pt x="133696" y="101338"/>
                      <a:pt x="235034" y="0"/>
                      <a:pt x="36004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1" name="组合 7"/>
            <p:cNvGrpSpPr/>
            <p:nvPr/>
          </p:nvGrpSpPr>
          <p:grpSpPr>
            <a:xfrm>
              <a:off x="5055480" y="3600360"/>
              <a:ext cx="554760" cy="555840"/>
              <a:chOff x="5055480" y="3600360"/>
              <a:chExt cx="554760" cy="555840"/>
            </a:xfrm>
          </p:grpSpPr>
          <p:sp>
            <p:nvSpPr>
              <p:cNvPr id="1142" name="圆角矩形 12"/>
              <p:cNvSpPr/>
              <p:nvPr/>
            </p:nvSpPr>
            <p:spPr>
              <a:xfrm>
                <a:off x="505548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3" name="圆角矩形 3"/>
              <p:cNvSpPr/>
              <p:nvPr/>
            </p:nvSpPr>
            <p:spPr>
              <a:xfrm>
                <a:off x="5166720" y="3719160"/>
                <a:ext cx="442800" cy="42804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1125779" h="108603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507" y="745575"/>
                      <a:pt x="894397" y="1013244"/>
                      <a:pt x="593432" y="108603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4" name="圆角矩形 16"/>
              <p:cNvSpPr/>
              <p:nvPr/>
            </p:nvSpPr>
            <p:spPr>
              <a:xfrm rot="16200000">
                <a:off x="5155560" y="3700800"/>
                <a:ext cx="354600" cy="353880"/>
              </a:xfrm>
              <a:custGeom>
                <a:avLst/>
                <a:gdLst>
                  <a:gd name="textAreaLeft" fmla="*/ 0 w 354600"/>
                  <a:gd name="textAreaRight" fmla="*/ 354960 w 35460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836083" h="836083">
                    <a:moveTo>
                      <a:pt x="510179" y="255686"/>
                    </a:moveTo>
                    <a:lnTo>
                      <a:pt x="510179" y="313441"/>
                    </a:lnTo>
                    <a:lnTo>
                      <a:pt x="378615" y="313441"/>
                    </a:lnTo>
                    <a:lnTo>
                      <a:pt x="378615" y="313600"/>
                    </a:lnTo>
                    <a:cubicBezTo>
                      <a:pt x="341141" y="313600"/>
                      <a:pt x="306539" y="333678"/>
                      <a:pt x="287942" y="366213"/>
                    </a:cubicBezTo>
                    <a:cubicBezTo>
                      <a:pt x="269345" y="398747"/>
                      <a:pt x="269605" y="438751"/>
                      <a:pt x="288622" y="471041"/>
                    </a:cubicBezTo>
                    <a:cubicBezTo>
                      <a:pt x="307641" y="503332"/>
                      <a:pt x="342500" y="522958"/>
                      <a:pt x="379971" y="522472"/>
                    </a:cubicBezTo>
                    <a:lnTo>
                      <a:pt x="379973" y="522641"/>
                    </a:lnTo>
                    <a:lnTo>
                      <a:pt x="510179" y="522641"/>
                    </a:lnTo>
                    <a:lnTo>
                      <a:pt x="510179" y="580396"/>
                    </a:lnTo>
                    <a:lnTo>
                      <a:pt x="372585" y="580396"/>
                    </a:lnTo>
                    <a:lnTo>
                      <a:pt x="372585" y="579406"/>
                    </a:lnTo>
                    <a:cubicBezTo>
                      <a:pt x="317441" y="578233"/>
                      <a:pt x="266895" y="548273"/>
                      <a:pt x="238719" y="500433"/>
                    </a:cubicBezTo>
                    <a:cubicBezTo>
                      <a:pt x="228869" y="483708"/>
                      <a:pt x="222257" y="465652"/>
                      <a:pt x="220092" y="446919"/>
                    </a:cubicBezTo>
                    <a:lnTo>
                      <a:pt x="181522" y="446919"/>
                    </a:lnTo>
                    <a:lnTo>
                      <a:pt x="181522" y="522641"/>
                    </a:lnTo>
                    <a:lnTo>
                      <a:pt x="152644" y="522641"/>
                    </a:lnTo>
                    <a:lnTo>
                      <a:pt x="152644" y="313442"/>
                    </a:lnTo>
                    <a:lnTo>
                      <a:pt x="181522" y="313442"/>
                    </a:lnTo>
                    <a:lnTo>
                      <a:pt x="181522" y="389164"/>
                    </a:lnTo>
                    <a:lnTo>
                      <a:pt x="219987" y="389164"/>
                    </a:lnTo>
                    <a:cubicBezTo>
                      <a:pt x="222128" y="371124"/>
                      <a:pt x="228386" y="353701"/>
                      <a:pt x="237661" y="337474"/>
                    </a:cubicBezTo>
                    <a:cubicBezTo>
                      <a:pt x="265566" y="288655"/>
                      <a:pt x="316652" y="257879"/>
                      <a:pt x="372585" y="256490"/>
                    </a:cubicBezTo>
                    <a:lnTo>
                      <a:pt x="372585" y="255686"/>
                    </a:lnTo>
                    <a:lnTo>
                      <a:pt x="378615" y="255686"/>
                    </a:lnTo>
                    <a:lnTo>
                      <a:pt x="510179" y="255686"/>
                    </a:lnTo>
                    <a:close/>
                    <a:moveTo>
                      <a:pt x="683440" y="418041"/>
                    </a:moveTo>
                    <a:cubicBezTo>
                      <a:pt x="683440" y="467832"/>
                      <a:pt x="643076" y="508196"/>
                      <a:pt x="593285" y="508196"/>
                    </a:cubicBezTo>
                    <a:lnTo>
                      <a:pt x="381302" y="508196"/>
                    </a:lnTo>
                    <a:cubicBezTo>
                      <a:pt x="331511" y="508196"/>
                      <a:pt x="291147" y="467832"/>
                      <a:pt x="291147" y="418041"/>
                    </a:cubicBezTo>
                    <a:cubicBezTo>
                      <a:pt x="291147" y="368250"/>
                      <a:pt x="331511" y="327886"/>
                      <a:pt x="381302" y="327886"/>
                    </a:cubicBezTo>
                    <a:lnTo>
                      <a:pt x="593285" y="327886"/>
                    </a:lnTo>
                    <a:cubicBezTo>
                      <a:pt x="643076" y="327886"/>
                      <a:pt x="683440" y="368250"/>
                      <a:pt x="683440" y="418041"/>
                    </a:cubicBezTo>
                    <a:close/>
                    <a:moveTo>
                      <a:pt x="765417" y="418042"/>
                    </a:moveTo>
                    <a:cubicBezTo>
                      <a:pt x="765417" y="226191"/>
                      <a:pt x="609892" y="70666"/>
                      <a:pt x="418042" y="70666"/>
                    </a:cubicBezTo>
                    <a:cubicBezTo>
                      <a:pt x="226191" y="70666"/>
                      <a:pt x="70666" y="226191"/>
                      <a:pt x="70666" y="418042"/>
                    </a:cubicBezTo>
                    <a:cubicBezTo>
                      <a:pt x="70666" y="609892"/>
                      <a:pt x="226191" y="765417"/>
                      <a:pt x="418042" y="765417"/>
                    </a:cubicBezTo>
                    <a:cubicBezTo>
                      <a:pt x="609892" y="765417"/>
                      <a:pt x="765417" y="609892"/>
                      <a:pt x="765417" y="418042"/>
                    </a:cubicBezTo>
                    <a:close/>
                    <a:moveTo>
                      <a:pt x="836083" y="418042"/>
                    </a:moveTo>
                    <a:cubicBezTo>
                      <a:pt x="836083" y="648920"/>
                      <a:pt x="648920" y="836083"/>
                      <a:pt x="418042" y="836083"/>
                    </a:cubicBezTo>
                    <a:cubicBezTo>
                      <a:pt x="187163" y="836083"/>
                      <a:pt x="0" y="648920"/>
                      <a:pt x="0" y="418042"/>
                    </a:cubicBezTo>
                    <a:cubicBezTo>
                      <a:pt x="0" y="187163"/>
                      <a:pt x="187163" y="0"/>
                      <a:pt x="418042" y="0"/>
                    </a:cubicBezTo>
                    <a:cubicBezTo>
                      <a:pt x="648920" y="0"/>
                      <a:pt x="836083" y="187163"/>
                      <a:pt x="836083" y="41804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45" name="组合 8"/>
            <p:cNvGrpSpPr/>
            <p:nvPr/>
          </p:nvGrpSpPr>
          <p:grpSpPr>
            <a:xfrm>
              <a:off x="4332240" y="3600720"/>
              <a:ext cx="553320" cy="554760"/>
              <a:chOff x="4332240" y="3600720"/>
              <a:chExt cx="553320" cy="554760"/>
            </a:xfrm>
          </p:grpSpPr>
          <p:sp>
            <p:nvSpPr>
              <p:cNvPr id="1146" name="圆角矩形 9"/>
              <p:cNvSpPr/>
              <p:nvPr/>
            </p:nvSpPr>
            <p:spPr>
              <a:xfrm>
                <a:off x="433224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7" name="圆角矩形 12"/>
              <p:cNvSpPr/>
              <p:nvPr/>
            </p:nvSpPr>
            <p:spPr>
              <a:xfrm>
                <a:off x="4426200" y="3745440"/>
                <a:ext cx="457560" cy="40824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408240"/>
                  <a:gd name="textAreaBottom" fmla="*/ 408600 h 408240"/>
                </a:gdLst>
                <a:ahLst/>
                <a:rect l="textAreaLeft" t="textAreaTop" r="textAreaRight" b="textAreaBottom"/>
                <a:pathLst>
                  <a:path w="1164309" h="1035953">
                    <a:moveTo>
                      <a:pt x="300955" y="0"/>
                    </a:moveTo>
                    <a:lnTo>
                      <a:pt x="462879" y="11907"/>
                    </a:lnTo>
                    <a:lnTo>
                      <a:pt x="622782" y="122893"/>
                    </a:lnTo>
                    <a:lnTo>
                      <a:pt x="718687" y="105904"/>
                    </a:lnTo>
                    <a:lnTo>
                      <a:pt x="864545" y="125274"/>
                    </a:lnTo>
                    <a:lnTo>
                      <a:pt x="1164309" y="380469"/>
                    </a:lnTo>
                    <a:cubicBezTo>
                      <a:pt x="1145643" y="733516"/>
                      <a:pt x="863958" y="1016051"/>
                      <a:pt x="511256" y="1035953"/>
                    </a:cubicBezTo>
                    <a:lnTo>
                      <a:pt x="0" y="646727"/>
                    </a:lnTo>
                    <a:lnTo>
                      <a:pt x="360111" y="529214"/>
                    </a:lnTo>
                    <a:lnTo>
                      <a:pt x="6038" y="472065"/>
                    </a:lnTo>
                    <a:cubicBezTo>
                      <a:pt x="-19696" y="394976"/>
                      <a:pt x="170840" y="88202"/>
                      <a:pt x="205705" y="66676"/>
                    </a:cubicBezTo>
                    <a:cubicBezTo>
                      <a:pt x="240570" y="45150"/>
                      <a:pt x="258092" y="9128"/>
                      <a:pt x="300955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8" name="圆角矩形 68"/>
              <p:cNvSpPr/>
              <p:nvPr/>
            </p:nvSpPr>
            <p:spPr>
              <a:xfrm>
                <a:off x="4393800" y="3734280"/>
                <a:ext cx="435960" cy="281520"/>
              </a:xfrm>
              <a:custGeom>
                <a:avLst/>
                <a:gdLst>
                  <a:gd name="textAreaLeft" fmla="*/ 0 w 435960"/>
                  <a:gd name="textAreaRight" fmla="*/ 436320 w 435960"/>
                  <a:gd name="textAreaTop" fmla="*/ 0 h 281520"/>
                  <a:gd name="textAreaBottom" fmla="*/ 281520 h 281520"/>
                </a:gdLst>
                <a:ahLst/>
                <a:rect l="textAreaLeft" t="textAreaTop" r="textAreaRight" b="textAreaBottom"/>
                <a:pathLst>
                  <a:path w="1142127" h="735451">
                    <a:moveTo>
                      <a:pt x="395071" y="73657"/>
                    </a:moveTo>
                    <a:cubicBezTo>
                      <a:pt x="502346" y="73657"/>
                      <a:pt x="595355" y="134738"/>
                      <a:pt x="640066" y="224461"/>
                    </a:cubicBezTo>
                    <a:cubicBezTo>
                      <a:pt x="667298" y="197950"/>
                      <a:pt x="704634" y="182352"/>
                      <a:pt x="745612" y="182352"/>
                    </a:cubicBezTo>
                    <a:cubicBezTo>
                      <a:pt x="832889" y="182352"/>
                      <a:pt x="903640" y="253104"/>
                      <a:pt x="903640" y="340380"/>
                    </a:cubicBezTo>
                    <a:lnTo>
                      <a:pt x="900863" y="354142"/>
                    </a:lnTo>
                    <a:cubicBezTo>
                      <a:pt x="974852" y="382299"/>
                      <a:pt x="1027183" y="453997"/>
                      <a:pt x="1027183" y="537916"/>
                    </a:cubicBezTo>
                    <a:cubicBezTo>
                      <a:pt x="1027183" y="647011"/>
                      <a:pt x="938743" y="735451"/>
                      <a:pt x="829648" y="735451"/>
                    </a:cubicBezTo>
                    <a:lnTo>
                      <a:pt x="197535" y="735451"/>
                    </a:lnTo>
                    <a:cubicBezTo>
                      <a:pt x="88440" y="735451"/>
                      <a:pt x="0" y="647011"/>
                      <a:pt x="0" y="537916"/>
                    </a:cubicBezTo>
                    <a:cubicBezTo>
                      <a:pt x="0" y="456704"/>
                      <a:pt x="49008" y="386940"/>
                      <a:pt x="119194" y="356883"/>
                    </a:cubicBezTo>
                    <a:cubicBezTo>
                      <a:pt x="118547" y="354674"/>
                      <a:pt x="118521" y="352443"/>
                      <a:pt x="118521" y="350207"/>
                    </a:cubicBezTo>
                    <a:cubicBezTo>
                      <a:pt x="118521" y="197473"/>
                      <a:pt x="242337" y="73657"/>
                      <a:pt x="395071" y="73657"/>
                    </a:cubicBezTo>
                    <a:close/>
                    <a:moveTo>
                      <a:pt x="510015" y="0"/>
                    </a:moveTo>
                    <a:cubicBezTo>
                      <a:pt x="617290" y="0"/>
                      <a:pt x="710299" y="61081"/>
                      <a:pt x="755010" y="150804"/>
                    </a:cubicBezTo>
                    <a:cubicBezTo>
                      <a:pt x="782242" y="124293"/>
                      <a:pt x="819578" y="108695"/>
                      <a:pt x="860556" y="108695"/>
                    </a:cubicBezTo>
                    <a:cubicBezTo>
                      <a:pt x="947833" y="108695"/>
                      <a:pt x="1018584" y="179447"/>
                      <a:pt x="1018584" y="266723"/>
                    </a:cubicBezTo>
                    <a:lnTo>
                      <a:pt x="1015807" y="280485"/>
                    </a:lnTo>
                    <a:cubicBezTo>
                      <a:pt x="1089796" y="308642"/>
                      <a:pt x="1142127" y="380340"/>
                      <a:pt x="1142127" y="464259"/>
                    </a:cubicBezTo>
                    <a:cubicBezTo>
                      <a:pt x="1142127" y="542469"/>
                      <a:pt x="1096675" y="610063"/>
                      <a:pt x="1029998" y="640529"/>
                    </a:cubicBezTo>
                    <a:cubicBezTo>
                      <a:pt x="1054923" y="609992"/>
                      <a:pt x="1067603" y="570777"/>
                      <a:pt x="1067603" y="528601"/>
                    </a:cubicBezTo>
                    <a:cubicBezTo>
                      <a:pt x="1067603" y="441120"/>
                      <a:pt x="1013051" y="366379"/>
                      <a:pt x="935921" y="337028"/>
                    </a:cubicBezTo>
                    <a:lnTo>
                      <a:pt x="938817" y="322682"/>
                    </a:lnTo>
                    <a:cubicBezTo>
                      <a:pt x="938817" y="231701"/>
                      <a:pt x="865062" y="157947"/>
                      <a:pt x="774081" y="157947"/>
                    </a:cubicBezTo>
                    <a:cubicBezTo>
                      <a:pt x="731364" y="157947"/>
                      <a:pt x="692443" y="174206"/>
                      <a:pt x="664055" y="201842"/>
                    </a:cubicBezTo>
                    <a:cubicBezTo>
                      <a:pt x="617446" y="108311"/>
                      <a:pt x="520490" y="44638"/>
                      <a:pt x="408662" y="44638"/>
                    </a:cubicBezTo>
                    <a:lnTo>
                      <a:pt x="351558" y="50395"/>
                    </a:lnTo>
                    <a:cubicBezTo>
                      <a:pt x="396233" y="18509"/>
                      <a:pt x="450962" y="0"/>
                      <a:pt x="5100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49" name="直接连接符 21"/>
          <p:cNvSpPr/>
          <p:nvPr/>
        </p:nvSpPr>
        <p:spPr>
          <a:xfrm>
            <a:off x="4332240" y="3384720"/>
            <a:ext cx="333540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0" name="TextBox 22"/>
          <p:cNvSpPr/>
          <p:nvPr/>
        </p:nvSpPr>
        <p:spPr>
          <a:xfrm>
            <a:off x="1224000" y="3780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62" dur="indefinite" restart="never" nodeType="tmRoot">
          <p:childTnLst>
            <p:seq>
              <p:cTn id="1763" dur="indefinite" nodeType="mainSeq">
                <p:childTnLst>
                  <p:par>
                    <p:cTn id="1764" nodeType="clickEffect" fill="hold">
                      <p:stCondLst>
                        <p:cond delay="0"/>
                      </p:stCondLst>
                      <p:childTnLst>
                        <p:par>
                          <p:cTn id="1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8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9" dur="500" fill="hold"/>
                                        <p:tgtEl>
                                          <p:spTgt spid="1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0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任意多边形 44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2" name="TextBox 47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聆听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3" name="任意多边形 49"/>
          <p:cNvSpPr/>
          <p:nvPr/>
        </p:nvSpPr>
        <p:spPr>
          <a:xfrm>
            <a:off x="2916360" y="1522440"/>
            <a:ext cx="663480" cy="392040"/>
          </a:xfrm>
          <a:custGeom>
            <a:avLst/>
            <a:gdLst>
              <a:gd name="textAreaLeft" fmla="*/ 0 w 663480"/>
              <a:gd name="textAreaRight" fmla="*/ 663840 w 66348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w="974725" h="574675">
                <a:moveTo>
                  <a:pt x="863600" y="53975"/>
                </a:moveTo>
                <a:lnTo>
                  <a:pt x="250825" y="298450"/>
                </a:lnTo>
                <a:lnTo>
                  <a:pt x="250825" y="479425"/>
                </a:lnTo>
                <a:lnTo>
                  <a:pt x="342900" y="336550"/>
                </a:lnTo>
                <a:lnTo>
                  <a:pt x="863600" y="53975"/>
                </a:lnTo>
                <a:close/>
                <a:moveTo>
                  <a:pt x="974725" y="0"/>
                </a:moveTo>
                <a:lnTo>
                  <a:pt x="508000" y="460375"/>
                </a:lnTo>
                <a:lnTo>
                  <a:pt x="412750" y="396875"/>
                </a:lnTo>
                <a:lnTo>
                  <a:pt x="234950" y="574675"/>
                </a:lnTo>
                <a:lnTo>
                  <a:pt x="196850" y="282575"/>
                </a:lnTo>
                <a:lnTo>
                  <a:pt x="0" y="254000"/>
                </a:lnTo>
                <a:lnTo>
                  <a:pt x="974725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4" name="TextBox 51"/>
          <p:cNvSpPr/>
          <p:nvPr/>
        </p:nvSpPr>
        <p:spPr>
          <a:xfrm>
            <a:off x="279360" y="215424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 Wat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55" name="组合 52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1156" name="任意多边形 59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任意多边形 60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任意多边形 61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任意多边形 62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任意多边形 63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任意多边形 64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任意多边形 65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774" dur="indefinite" restart="never" nodeType="tmRoot">
          <p:childTnLst>
            <p:seq>
              <p:cTn id="1775" dur="indefinite" nodeType="mainSeq">
                <p:childTnLst>
                  <p:par>
                    <p:cTn id="1776" nodeType="clickEffect" fill="hold">
                      <p:stCondLst>
                        <p:cond delay="0"/>
                      </p:stCondLst>
                      <p:childTnLst>
                        <p:par>
                          <p:cTn id="17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0" dur="12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1" dur="12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2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78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5" dur="6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600" fill="hold"/>
                                        <p:tgtEl>
                                          <p:spTgt spid="1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7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7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0" dur="1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1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2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7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1794" dur="2100" fill="hold"/>
                                        <p:tgtEl>
                                          <p:spTgt spid="1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5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97" dur="1800"/>
                                        <p:tgtEl>
                                          <p:spTgt spid="1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26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7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28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3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9" name="TextBox 9"/>
          <p:cNvSpPr/>
          <p:nvPr/>
        </p:nvSpPr>
        <p:spPr>
          <a:xfrm>
            <a:off x="3419640" y="1650960"/>
            <a:ext cx="31683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Box 10"/>
          <p:cNvSpPr/>
          <p:nvPr/>
        </p:nvSpPr>
        <p:spPr>
          <a:xfrm>
            <a:off x="4716360" y="24638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1" name="组合 25"/>
          <p:cNvGrpSpPr/>
          <p:nvPr/>
        </p:nvGrpSpPr>
        <p:grpSpPr>
          <a:xfrm>
            <a:off x="1025640" y="1744560"/>
            <a:ext cx="2130480" cy="1221120"/>
            <a:chOff x="1025640" y="1744560"/>
            <a:chExt cx="2130480" cy="1221120"/>
          </a:xfrm>
        </p:grpSpPr>
        <p:sp>
          <p:nvSpPr>
            <p:cNvPr id="142" name="TextBox 16"/>
            <p:cNvSpPr/>
            <p:nvPr/>
          </p:nvSpPr>
          <p:spPr>
            <a:xfrm>
              <a:off x="1025640" y="1744560"/>
              <a:ext cx="2130480" cy="12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合，语言描述尽量简洁生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本，尽量与标题文本语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言风格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组合 26"/>
          <p:cNvGrpSpPr/>
          <p:nvPr/>
        </p:nvGrpSpPr>
        <p:grpSpPr>
          <a:xfrm>
            <a:off x="2633760" y="2527200"/>
            <a:ext cx="1925640" cy="1129320"/>
            <a:chOff x="2633760" y="2527200"/>
            <a:chExt cx="1925640" cy="1129320"/>
          </a:xfrm>
        </p:grpSpPr>
        <p:sp>
          <p:nvSpPr>
            <p:cNvPr id="144" name="TextBox 17"/>
            <p:cNvSpPr/>
            <p:nvPr/>
          </p:nvSpPr>
          <p:spPr>
            <a:xfrm>
              <a:off x="2633760" y="2527200"/>
              <a:ext cx="192564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，尽量与标题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语言风格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5" name="TextBox 23"/>
          <p:cNvSpPr/>
          <p:nvPr/>
        </p:nvSpPr>
        <p:spPr>
          <a:xfrm>
            <a:off x="4714920" y="3287880"/>
            <a:ext cx="30258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     2.689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椭圆 11"/>
          <p:cNvSpPr/>
          <p:nvPr/>
        </p:nvSpPr>
        <p:spPr>
          <a:xfrm>
            <a:off x="2549520" y="1825560"/>
            <a:ext cx="504720" cy="504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椭圆 12"/>
          <p:cNvSpPr/>
          <p:nvPr/>
        </p:nvSpPr>
        <p:spPr>
          <a:xfrm>
            <a:off x="4016520" y="2716200"/>
            <a:ext cx="447480" cy="4460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0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51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2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53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5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5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TextBox 2"/>
          <p:cNvSpPr/>
          <p:nvPr/>
        </p:nvSpPr>
        <p:spPr>
          <a:xfrm>
            <a:off x="5433840" y="1535040"/>
            <a:ext cx="23450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矩形 4"/>
          <p:cNvSpPr/>
          <p:nvPr/>
        </p:nvSpPr>
        <p:spPr>
          <a:xfrm>
            <a:off x="5537160" y="2473200"/>
            <a:ext cx="12254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矩形 5"/>
          <p:cNvSpPr/>
          <p:nvPr/>
        </p:nvSpPr>
        <p:spPr>
          <a:xfrm>
            <a:off x="553716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553716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矩形 7"/>
          <p:cNvSpPr/>
          <p:nvPr/>
        </p:nvSpPr>
        <p:spPr>
          <a:xfrm>
            <a:off x="553716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Box 9"/>
          <p:cNvSpPr/>
          <p:nvPr/>
        </p:nvSpPr>
        <p:spPr>
          <a:xfrm>
            <a:off x="543384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10"/>
          <p:cNvSpPr/>
          <p:nvPr/>
        </p:nvSpPr>
        <p:spPr>
          <a:xfrm>
            <a:off x="1393920" y="1535040"/>
            <a:ext cx="2344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矩形 11"/>
          <p:cNvSpPr/>
          <p:nvPr/>
        </p:nvSpPr>
        <p:spPr>
          <a:xfrm>
            <a:off x="2390760" y="2473200"/>
            <a:ext cx="122400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矩形 12"/>
          <p:cNvSpPr/>
          <p:nvPr/>
        </p:nvSpPr>
        <p:spPr>
          <a:xfrm>
            <a:off x="199692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矩形 13"/>
          <p:cNvSpPr/>
          <p:nvPr/>
        </p:nvSpPr>
        <p:spPr>
          <a:xfrm>
            <a:off x="254628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矩形 14"/>
          <p:cNvSpPr/>
          <p:nvPr/>
        </p:nvSpPr>
        <p:spPr>
          <a:xfrm>
            <a:off x="221292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9000"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Box 15"/>
          <p:cNvSpPr/>
          <p:nvPr/>
        </p:nvSpPr>
        <p:spPr>
          <a:xfrm>
            <a:off x="98100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椭圆 19"/>
          <p:cNvSpPr/>
          <p:nvPr/>
        </p:nvSpPr>
        <p:spPr>
          <a:xfrm>
            <a:off x="4238640" y="2610000"/>
            <a:ext cx="666720" cy="666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组合 3"/>
          <p:cNvGrpSpPr/>
          <p:nvPr/>
        </p:nvGrpSpPr>
        <p:grpSpPr>
          <a:xfrm>
            <a:off x="4572000" y="1682640"/>
            <a:ext cx="0" cy="2482920"/>
            <a:chOff x="4572000" y="1682640"/>
            <a:chExt cx="0" cy="2482920"/>
          </a:xfrm>
        </p:grpSpPr>
        <p:sp>
          <p:nvSpPr>
            <p:cNvPr id="178" name="直接连接符 18"/>
            <p:cNvSpPr/>
            <p:nvPr/>
          </p:nvSpPr>
          <p:spPr>
            <a:xfrm>
              <a:off x="4572000" y="1682640"/>
              <a:ext cx="0" cy="9277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直接连接符 16"/>
            <p:cNvSpPr/>
            <p:nvPr/>
          </p:nvSpPr>
          <p:spPr>
            <a:xfrm>
              <a:off x="4572000" y="3276720"/>
              <a:ext cx="0" cy="8888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7" dur="1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1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2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183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4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185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7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89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6" name="TextBox 30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Box 31"/>
          <p:cNvSpPr/>
          <p:nvPr/>
        </p:nvSpPr>
        <p:spPr>
          <a:xfrm>
            <a:off x="53964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Box 32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Box 33"/>
          <p:cNvSpPr/>
          <p:nvPr/>
        </p:nvSpPr>
        <p:spPr>
          <a:xfrm>
            <a:off x="601200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0" name="组合 5"/>
          <p:cNvGrpSpPr/>
          <p:nvPr/>
        </p:nvGrpSpPr>
        <p:grpSpPr>
          <a:xfrm>
            <a:off x="3131640" y="1441440"/>
            <a:ext cx="2880360" cy="2875680"/>
            <a:chOff x="3131640" y="1441440"/>
            <a:chExt cx="2880360" cy="2875680"/>
          </a:xfrm>
        </p:grpSpPr>
        <p:grpSp>
          <p:nvGrpSpPr>
            <p:cNvPr id="201" name="组合 24"/>
            <p:cNvGrpSpPr/>
            <p:nvPr/>
          </p:nvGrpSpPr>
          <p:grpSpPr>
            <a:xfrm>
              <a:off x="3131640" y="1441440"/>
              <a:ext cx="2880360" cy="2875680"/>
              <a:chOff x="3131640" y="1441440"/>
              <a:chExt cx="2880360" cy="2875680"/>
            </a:xfrm>
          </p:grpSpPr>
          <p:sp>
            <p:nvSpPr>
              <p:cNvPr id="202" name="椭圆 25"/>
              <p:cNvSpPr/>
              <p:nvPr/>
            </p:nvSpPr>
            <p:spPr>
              <a:xfrm flipH="1" flipV="1" rot="16200000">
                <a:off x="3131640" y="2072160"/>
                <a:ext cx="1565640" cy="1566360"/>
              </a:xfrm>
              <a:custGeom>
                <a:avLst/>
                <a:gdLst>
                  <a:gd name="textAreaLeft" fmla="*/ -360 w 1565640"/>
                  <a:gd name="textAreaRight" fmla="*/ 1565640 w 1565640"/>
                  <a:gd name="textAreaTop" fmla="*/ -360 h 1566360"/>
                  <a:gd name="textAreaBottom" fmla="*/ 156636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3" name="椭圆 25"/>
              <p:cNvSpPr/>
              <p:nvPr/>
            </p:nvSpPr>
            <p:spPr>
              <a:xfrm flipH="1" flipV="1" rot="10800000">
                <a:off x="3765600" y="2751120"/>
                <a:ext cx="1566360" cy="1565640"/>
              </a:xfrm>
              <a:custGeom>
                <a:avLst/>
                <a:gdLst>
                  <a:gd name="textAreaLeft" fmla="*/ -360 w 1566360"/>
                  <a:gd name="textAreaRight" fmla="*/ 1566360 w 1566360"/>
                  <a:gd name="textAreaTop" fmla="*/ -360 h 1565640"/>
                  <a:gd name="textAreaBottom" fmla="*/ 1565640 h 156564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4" name="椭圆 25"/>
              <p:cNvSpPr/>
              <p:nvPr/>
            </p:nvSpPr>
            <p:spPr>
              <a:xfrm rot="16200000">
                <a:off x="4446000" y="2116800"/>
                <a:ext cx="1565640" cy="1566360"/>
              </a:xfrm>
              <a:custGeom>
                <a:avLst/>
                <a:gdLst>
                  <a:gd name="textAreaLeft" fmla="*/ 0 w 1565640"/>
                  <a:gd name="textAreaRight" fmla="*/ 1566000 w 1565640"/>
                  <a:gd name="textAreaTop" fmla="*/ 0 h 1566360"/>
                  <a:gd name="textAreaBottom" fmla="*/ 156672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椭圆 25"/>
              <p:cNvSpPr/>
              <p:nvPr/>
            </p:nvSpPr>
            <p:spPr>
              <a:xfrm rot="10800000">
                <a:off x="3810240" y="1441440"/>
                <a:ext cx="1566360" cy="1543680"/>
              </a:xfrm>
              <a:custGeom>
                <a:avLst/>
                <a:gdLst>
                  <a:gd name="textAreaLeft" fmla="*/ 0 w 1566360"/>
                  <a:gd name="textAreaRight" fmla="*/ 1566720 w 1566360"/>
                  <a:gd name="textAreaTop" fmla="*/ 0 h 1543680"/>
                  <a:gd name="textAreaBottom" fmla="*/ 1544040 h 1543680"/>
                </a:gdLst>
                <a:ahLst/>
                <a:rect l="textAreaLeft" t="textAreaTop" r="textAreaRight" b="textAreaBottom"/>
                <a:pathLst>
                  <a:path w="1568230" h="1546155">
                    <a:moveTo>
                      <a:pt x="778465" y="1546155"/>
                    </a:moveTo>
                    <a:cubicBezTo>
                      <a:pt x="385950" y="1546155"/>
                      <a:pt x="60314" y="1259808"/>
                      <a:pt x="0" y="884460"/>
                    </a:cubicBezTo>
                    <a:cubicBezTo>
                      <a:pt x="41578" y="892217"/>
                      <a:pt x="84411" y="895760"/>
                      <a:pt x="128070" y="895760"/>
                    </a:cubicBezTo>
                    <a:cubicBezTo>
                      <a:pt x="564245" y="895760"/>
                      <a:pt x="917835" y="542170"/>
                      <a:pt x="917835" y="105995"/>
                    </a:cubicBezTo>
                    <a:lnTo>
                      <a:pt x="908484" y="0"/>
                    </a:lnTo>
                    <a:cubicBezTo>
                      <a:pt x="1067344" y="19523"/>
                      <a:pt x="1211374" y="86941"/>
                      <a:pt x="1324003" y="189535"/>
                    </a:cubicBezTo>
                    <a:cubicBezTo>
                      <a:pt x="1475335" y="330953"/>
                      <a:pt x="1568230" y="532823"/>
                      <a:pt x="1568230" y="756390"/>
                    </a:cubicBezTo>
                    <a:cubicBezTo>
                      <a:pt x="1568230" y="1192565"/>
                      <a:pt x="1214640" y="1546155"/>
                      <a:pt x="778465" y="154615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6" name="图文框 35"/>
            <p:cNvSpPr/>
            <p:nvPr/>
          </p:nvSpPr>
          <p:spPr>
            <a:xfrm>
              <a:off x="4183920" y="1787760"/>
              <a:ext cx="458280" cy="42516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同侧圆角矩形 42"/>
            <p:cNvSpPr/>
            <p:nvPr/>
          </p:nvSpPr>
          <p:spPr>
            <a:xfrm>
              <a:off x="3447000" y="2726640"/>
              <a:ext cx="453960" cy="51660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圆角矩形 82"/>
            <p:cNvSpPr/>
            <p:nvPr/>
          </p:nvSpPr>
          <p:spPr>
            <a:xfrm>
              <a:off x="4413240" y="3645360"/>
              <a:ext cx="523080" cy="37332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252991" y="468232"/>
                  </a:moveTo>
                  <a:lnTo>
                    <a:pt x="456157" y="468232"/>
                  </a:lnTo>
                  <a:lnTo>
                    <a:pt x="456157" y="518703"/>
                  </a:lnTo>
                  <a:lnTo>
                    <a:pt x="252991" y="518703"/>
                  </a:lnTo>
                  <a:lnTo>
                    <a:pt x="252991" y="468232"/>
                  </a:lnTo>
                  <a:close/>
                  <a:moveTo>
                    <a:pt x="135958" y="468232"/>
                  </a:moveTo>
                  <a:lnTo>
                    <a:pt x="202865" y="468232"/>
                  </a:lnTo>
                  <a:lnTo>
                    <a:pt x="202865" y="518703"/>
                  </a:lnTo>
                  <a:lnTo>
                    <a:pt x="135958" y="518703"/>
                  </a:lnTo>
                  <a:lnTo>
                    <a:pt x="135958" y="468232"/>
                  </a:lnTo>
                  <a:close/>
                  <a:moveTo>
                    <a:pt x="84254" y="316965"/>
                  </a:moveTo>
                  <a:lnTo>
                    <a:pt x="84254" y="520751"/>
                  </a:lnTo>
                  <a:cubicBezTo>
                    <a:pt x="84254" y="543490"/>
                    <a:pt x="102687" y="561923"/>
                    <a:pt x="125426" y="561923"/>
                  </a:cubicBezTo>
                  <a:lnTo>
                    <a:pt x="762076" y="561923"/>
                  </a:lnTo>
                  <a:cubicBezTo>
                    <a:pt x="784815" y="561923"/>
                    <a:pt x="803248" y="543490"/>
                    <a:pt x="803248" y="520751"/>
                  </a:cubicBezTo>
                  <a:lnTo>
                    <a:pt x="803248" y="316965"/>
                  </a:lnTo>
                  <a:lnTo>
                    <a:pt x="84254" y="316965"/>
                  </a:lnTo>
                  <a:close/>
                  <a:moveTo>
                    <a:pt x="125426" y="72009"/>
                  </a:moveTo>
                  <a:cubicBezTo>
                    <a:pt x="102687" y="72009"/>
                    <a:pt x="84254" y="90442"/>
                    <a:pt x="84254" y="113181"/>
                  </a:cubicBezTo>
                  <a:lnTo>
                    <a:pt x="84254" y="216024"/>
                  </a:lnTo>
                  <a:lnTo>
                    <a:pt x="803248" y="216024"/>
                  </a:lnTo>
                  <a:lnTo>
                    <a:pt x="803248" y="113181"/>
                  </a:lnTo>
                  <a:cubicBezTo>
                    <a:pt x="803248" y="90442"/>
                    <a:pt x="784815" y="72009"/>
                    <a:pt x="762076" y="72009"/>
                  </a:cubicBezTo>
                  <a:lnTo>
                    <a:pt x="125426" y="7200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等腰三角形 93"/>
            <p:cNvSpPr/>
            <p:nvPr/>
          </p:nvSpPr>
          <p:spPr>
            <a:xfrm flipV="1">
              <a:off x="5232960" y="2480040"/>
              <a:ext cx="495000" cy="44244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-360 h 442440"/>
                <a:gd name="textAreaBottom" fmla="*/ 442440 h 442440"/>
              </a:gdLst>
              <a:ahLst/>
              <a:rect l="textAreaLeft" t="textAreaTop" r="textAreaRight" b="textAreaBottom"/>
              <a:pathLst>
                <a:path w="2717007" h="2429224">
                  <a:moveTo>
                    <a:pt x="1358503" y="648072"/>
                  </a:moveTo>
                  <a:cubicBezTo>
                    <a:pt x="1537463" y="648072"/>
                    <a:pt x="1682539" y="502996"/>
                    <a:pt x="1682539" y="324036"/>
                  </a:cubicBezTo>
                  <a:cubicBezTo>
                    <a:pt x="1682539" y="145076"/>
                    <a:pt x="1537463" y="0"/>
                    <a:pt x="1358503" y="0"/>
                  </a:cubicBezTo>
                  <a:cubicBezTo>
                    <a:pt x="1179543" y="0"/>
                    <a:pt x="1034467" y="145076"/>
                    <a:pt x="1034467" y="324036"/>
                  </a:cubicBezTo>
                  <a:cubicBezTo>
                    <a:pt x="1034467" y="502996"/>
                    <a:pt x="1179543" y="648072"/>
                    <a:pt x="1358503" y="648072"/>
                  </a:cubicBezTo>
                  <a:close/>
                  <a:moveTo>
                    <a:pt x="1402262" y="1134334"/>
                  </a:moveTo>
                  <a:cubicBezTo>
                    <a:pt x="1562756" y="1128436"/>
                    <a:pt x="1716101" y="1090717"/>
                    <a:pt x="1854002" y="1023451"/>
                  </a:cubicBezTo>
                  <a:lnTo>
                    <a:pt x="1625691" y="758896"/>
                  </a:lnTo>
                  <a:cubicBezTo>
                    <a:pt x="1551421" y="785877"/>
                    <a:pt x="1472051" y="800371"/>
                    <a:pt x="1390101" y="803383"/>
                  </a:cubicBezTo>
                  <a:cubicBezTo>
                    <a:pt x="1285979" y="807209"/>
                    <a:pt x="1184650" y="792244"/>
                    <a:pt x="1090254" y="759948"/>
                  </a:cubicBezTo>
                  <a:lnTo>
                    <a:pt x="861920" y="1024529"/>
                  </a:lnTo>
                  <a:cubicBezTo>
                    <a:pt x="1026514" y="1102571"/>
                    <a:pt x="1210983" y="1141364"/>
                    <a:pt x="1402262" y="1134334"/>
                  </a:cubicBezTo>
                  <a:close/>
                  <a:moveTo>
                    <a:pt x="1421965" y="1806188"/>
                  </a:moveTo>
                  <a:cubicBezTo>
                    <a:pt x="1742263" y="1795273"/>
                    <a:pt x="2044583" y="1703242"/>
                    <a:pt x="2306703" y="1548017"/>
                  </a:cubicBezTo>
                  <a:lnTo>
                    <a:pt x="2040348" y="1239380"/>
                  </a:lnTo>
                  <a:cubicBezTo>
                    <a:pt x="1849899" y="1340878"/>
                    <a:pt x="1634860" y="1400163"/>
                    <a:pt x="1408392" y="1407879"/>
                  </a:cubicBezTo>
                  <a:cubicBezTo>
                    <a:pt x="1146898" y="1416790"/>
                    <a:pt x="895927" y="1356070"/>
                    <a:pt x="676387" y="1239515"/>
                  </a:cubicBezTo>
                  <a:lnTo>
                    <a:pt x="410321" y="1547819"/>
                  </a:lnTo>
                  <a:cubicBezTo>
                    <a:pt x="708332" y="1724445"/>
                    <a:pt x="1057093" y="1818621"/>
                    <a:pt x="1421965" y="1806188"/>
                  </a:cubicBezTo>
                  <a:close/>
                  <a:moveTo>
                    <a:pt x="1431094" y="2428153"/>
                  </a:moveTo>
                  <a:cubicBezTo>
                    <a:pt x="1901625" y="2414402"/>
                    <a:pt x="2343755" y="2269246"/>
                    <a:pt x="2717007" y="2023457"/>
                  </a:cubicBezTo>
                  <a:lnTo>
                    <a:pt x="2448778" y="1712646"/>
                  </a:lnTo>
                  <a:cubicBezTo>
                    <a:pt x="2146604" y="1900630"/>
                    <a:pt x="1793663" y="2011031"/>
                    <a:pt x="1419227" y="2021974"/>
                  </a:cubicBezTo>
                  <a:cubicBezTo>
                    <a:pt x="1002050" y="2034166"/>
                    <a:pt x="604300" y="1921550"/>
                    <a:pt x="267412" y="1713414"/>
                  </a:cubicBezTo>
                  <a:lnTo>
                    <a:pt x="0" y="2023278"/>
                  </a:lnTo>
                  <a:cubicBezTo>
                    <a:pt x="413380" y="2295422"/>
                    <a:pt x="909534" y="2443395"/>
                    <a:pt x="1431094" y="24281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blinds dir="vert"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2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2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213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4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215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7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8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19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26" name="组合 33"/>
          <p:cNvGrpSpPr/>
          <p:nvPr/>
        </p:nvGrpSpPr>
        <p:grpSpPr>
          <a:xfrm>
            <a:off x="2195640" y="1546200"/>
            <a:ext cx="4752720" cy="2658600"/>
            <a:chOff x="2195640" y="1546200"/>
            <a:chExt cx="4752720" cy="2658600"/>
          </a:xfrm>
        </p:grpSpPr>
        <p:grpSp>
          <p:nvGrpSpPr>
            <p:cNvPr id="227" name="组合 6"/>
            <p:cNvGrpSpPr/>
            <p:nvPr/>
          </p:nvGrpSpPr>
          <p:grpSpPr>
            <a:xfrm>
              <a:off x="3779640" y="1546200"/>
              <a:ext cx="1584000" cy="575280"/>
              <a:chOff x="3779640" y="1546200"/>
              <a:chExt cx="1584000" cy="575280"/>
            </a:xfrm>
          </p:grpSpPr>
          <p:sp>
            <p:nvSpPr>
              <p:cNvPr id="228" name="矩形 1"/>
              <p:cNvSpPr/>
              <p:nvPr/>
            </p:nvSpPr>
            <p:spPr>
              <a:xfrm>
                <a:off x="3779640" y="15462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平行四边形 3"/>
              <p:cNvSpPr/>
              <p:nvPr/>
            </p:nvSpPr>
            <p:spPr>
              <a:xfrm>
                <a:off x="4715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平行四边形 5"/>
              <p:cNvSpPr/>
              <p:nvPr/>
            </p:nvSpPr>
            <p:spPr>
              <a:xfrm flipH="1">
                <a:off x="3779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31" name="组合 19"/>
            <p:cNvGrpSpPr/>
            <p:nvPr/>
          </p:nvGrpSpPr>
          <p:grpSpPr>
            <a:xfrm>
              <a:off x="2843280" y="2121840"/>
              <a:ext cx="1584360" cy="1510920"/>
              <a:chOff x="2843280" y="2121840"/>
              <a:chExt cx="1584360" cy="1510920"/>
            </a:xfrm>
          </p:grpSpPr>
          <p:grpSp>
            <p:nvGrpSpPr>
              <p:cNvPr id="232" name="组合 7"/>
              <p:cNvGrpSpPr/>
              <p:nvPr/>
            </p:nvGrpSpPr>
            <p:grpSpPr>
              <a:xfrm>
                <a:off x="2843280" y="2121840"/>
                <a:ext cx="1584360" cy="575280"/>
                <a:chOff x="2843280" y="2121840"/>
                <a:chExt cx="1584360" cy="575280"/>
              </a:xfrm>
            </p:grpSpPr>
            <p:sp>
              <p:nvSpPr>
                <p:cNvPr id="233" name="矩形 8"/>
                <p:cNvSpPr/>
                <p:nvPr/>
              </p:nvSpPr>
              <p:spPr>
                <a:xfrm flipH="1">
                  <a:off x="2842920" y="212184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4" name="平行四边形 9"/>
                <p:cNvSpPr/>
                <p:nvPr/>
              </p:nvSpPr>
              <p:spPr>
                <a:xfrm flipH="1">
                  <a:off x="284328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组合 11"/>
              <p:cNvGrpSpPr/>
              <p:nvPr/>
            </p:nvGrpSpPr>
            <p:grpSpPr>
              <a:xfrm>
                <a:off x="2843280" y="3057480"/>
                <a:ext cx="1584360" cy="575280"/>
                <a:chOff x="2843280" y="3057480"/>
                <a:chExt cx="1584360" cy="575280"/>
              </a:xfrm>
            </p:grpSpPr>
            <p:sp>
              <p:nvSpPr>
                <p:cNvPr id="236" name="矩形 12"/>
                <p:cNvSpPr/>
                <p:nvPr/>
              </p:nvSpPr>
              <p:spPr>
                <a:xfrm flipV="1">
                  <a:off x="2843280" y="327276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37" name="平行四边形 14"/>
                <p:cNvSpPr/>
                <p:nvPr/>
              </p:nvSpPr>
              <p:spPr>
                <a:xfrm flipH="1" flipV="1">
                  <a:off x="284328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8" name="组合 20"/>
            <p:cNvGrpSpPr/>
            <p:nvPr/>
          </p:nvGrpSpPr>
          <p:grpSpPr>
            <a:xfrm>
              <a:off x="2195640" y="2121840"/>
              <a:ext cx="4752720" cy="1510920"/>
              <a:chOff x="2195640" y="2121840"/>
              <a:chExt cx="4752720" cy="1510920"/>
            </a:xfrm>
          </p:grpSpPr>
          <p:grpSp>
            <p:nvGrpSpPr>
              <p:cNvPr id="239" name="组合 21"/>
              <p:cNvGrpSpPr/>
              <p:nvPr/>
            </p:nvGrpSpPr>
            <p:grpSpPr>
              <a:xfrm>
                <a:off x="4716360" y="2121840"/>
                <a:ext cx="1584000" cy="575280"/>
                <a:chOff x="4716360" y="2121840"/>
                <a:chExt cx="1584000" cy="575280"/>
              </a:xfrm>
            </p:grpSpPr>
            <p:sp>
              <p:nvSpPr>
                <p:cNvPr id="240" name="矩形 26"/>
                <p:cNvSpPr/>
                <p:nvPr/>
              </p:nvSpPr>
              <p:spPr>
                <a:xfrm>
                  <a:off x="4716360" y="212184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1" name="平行四边形 27"/>
                <p:cNvSpPr/>
                <p:nvPr/>
              </p:nvSpPr>
              <p:spPr>
                <a:xfrm>
                  <a:off x="565236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2" name="组合 22"/>
              <p:cNvGrpSpPr/>
              <p:nvPr/>
            </p:nvGrpSpPr>
            <p:grpSpPr>
              <a:xfrm>
                <a:off x="4716720" y="3057480"/>
                <a:ext cx="1584000" cy="575280"/>
                <a:chOff x="4716720" y="3057480"/>
                <a:chExt cx="1584000" cy="575280"/>
              </a:xfrm>
            </p:grpSpPr>
            <p:sp>
              <p:nvSpPr>
                <p:cNvPr id="243" name="矩形 24"/>
                <p:cNvSpPr/>
                <p:nvPr/>
              </p:nvSpPr>
              <p:spPr>
                <a:xfrm flipH="1" flipV="1">
                  <a:off x="4716720" y="327276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4" name="平行四边形 25"/>
                <p:cNvSpPr/>
                <p:nvPr/>
              </p:nvSpPr>
              <p:spPr>
                <a:xfrm flipV="1">
                  <a:off x="565272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5" name="矩形 23"/>
              <p:cNvSpPr/>
              <p:nvPr/>
            </p:nvSpPr>
            <p:spPr>
              <a:xfrm>
                <a:off x="565236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矩形 32"/>
              <p:cNvSpPr/>
              <p:nvPr/>
            </p:nvSpPr>
            <p:spPr>
              <a:xfrm>
                <a:off x="219564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7" name="组合 28"/>
            <p:cNvGrpSpPr/>
            <p:nvPr/>
          </p:nvGrpSpPr>
          <p:grpSpPr>
            <a:xfrm>
              <a:off x="3779640" y="3629520"/>
              <a:ext cx="1584000" cy="575280"/>
              <a:chOff x="3779640" y="3629520"/>
              <a:chExt cx="1584000" cy="575280"/>
            </a:xfrm>
          </p:grpSpPr>
          <p:sp>
            <p:nvSpPr>
              <p:cNvPr id="248" name="矩形 29"/>
              <p:cNvSpPr/>
              <p:nvPr/>
            </p:nvSpPr>
            <p:spPr>
              <a:xfrm flipV="1">
                <a:off x="3779640" y="38448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平行四边形 30"/>
              <p:cNvSpPr/>
              <p:nvPr/>
            </p:nvSpPr>
            <p:spPr>
              <a:xfrm flipV="1">
                <a:off x="4715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平行四边形 31"/>
              <p:cNvSpPr/>
              <p:nvPr/>
            </p:nvSpPr>
            <p:spPr>
              <a:xfrm flipH="1" flipV="1">
                <a:off x="3779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51" name="TextBox 34"/>
          <p:cNvSpPr/>
          <p:nvPr/>
        </p:nvSpPr>
        <p:spPr>
          <a:xfrm>
            <a:off x="3780000" y="159372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Box 35"/>
          <p:cNvSpPr/>
          <p:nvPr/>
        </p:nvSpPr>
        <p:spPr>
          <a:xfrm>
            <a:off x="3780000" y="390384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TextBox 36"/>
          <p:cNvSpPr/>
          <p:nvPr/>
        </p:nvSpPr>
        <p:spPr>
          <a:xfrm>
            <a:off x="283680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TextBox 37"/>
          <p:cNvSpPr/>
          <p:nvPr/>
        </p:nvSpPr>
        <p:spPr>
          <a:xfrm>
            <a:off x="471636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Box 38"/>
          <p:cNvSpPr/>
          <p:nvPr/>
        </p:nvSpPr>
        <p:spPr>
          <a:xfrm>
            <a:off x="283680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Box 39"/>
          <p:cNvSpPr/>
          <p:nvPr/>
        </p:nvSpPr>
        <p:spPr>
          <a:xfrm>
            <a:off x="471636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Box 40"/>
          <p:cNvSpPr/>
          <p:nvPr/>
        </p:nvSpPr>
        <p:spPr>
          <a:xfrm>
            <a:off x="5580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Box 41"/>
          <p:cNvSpPr/>
          <p:nvPr/>
        </p:nvSpPr>
        <p:spPr>
          <a:xfrm>
            <a:off x="2124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Box 42"/>
          <p:cNvSpPr/>
          <p:nvPr/>
        </p:nvSpPr>
        <p:spPr>
          <a:xfrm>
            <a:off x="3567240" y="2627280"/>
            <a:ext cx="20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Box 43"/>
          <p:cNvSpPr/>
          <p:nvPr/>
        </p:nvSpPr>
        <p:spPr>
          <a:xfrm>
            <a:off x="1255680" y="377028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Box 44"/>
          <p:cNvSpPr/>
          <p:nvPr/>
        </p:nvSpPr>
        <p:spPr>
          <a:xfrm>
            <a:off x="5499000" y="377028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Box 45"/>
          <p:cNvSpPr/>
          <p:nvPr/>
        </p:nvSpPr>
        <p:spPr>
          <a:xfrm>
            <a:off x="1255680" y="148896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TextBox 46"/>
          <p:cNvSpPr/>
          <p:nvPr/>
        </p:nvSpPr>
        <p:spPr>
          <a:xfrm>
            <a:off x="5499000" y="14889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99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66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267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68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269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7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7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7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0" name="任意多边形 18"/>
          <p:cNvSpPr/>
          <p:nvPr/>
        </p:nvSpPr>
        <p:spPr>
          <a:xfrm>
            <a:off x="22320" y="4168800"/>
            <a:ext cx="1658880" cy="57636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364723" h="404384">
                <a:moveTo>
                  <a:pt x="40612" y="307999"/>
                </a:moveTo>
                <a:cubicBezTo>
                  <a:pt x="208887" y="369382"/>
                  <a:pt x="367221" y="437177"/>
                  <a:pt x="361423" y="386812"/>
                </a:cubicBezTo>
                <a:cubicBezTo>
                  <a:pt x="420424" y="329926"/>
                  <a:pt x="-57677" y="95770"/>
                  <a:pt x="5823" y="5812"/>
                </a:cubicBezTo>
                <a:cubicBezTo>
                  <a:pt x="82023" y="-38638"/>
                  <a:pt x="577323" y="183612"/>
                  <a:pt x="863073" y="272512"/>
                </a:cubicBezTo>
                <a:cubicBezTo>
                  <a:pt x="975256" y="284154"/>
                  <a:pt x="842171" y="117995"/>
                  <a:pt x="856723" y="69312"/>
                </a:cubicBezTo>
                <a:cubicBezTo>
                  <a:pt x="868893" y="-13767"/>
                  <a:pt x="1068390" y="129372"/>
                  <a:pt x="1174223" y="177262"/>
                </a:cubicBezTo>
                <a:cubicBezTo>
                  <a:pt x="1247777" y="197635"/>
                  <a:pt x="1229256" y="130695"/>
                  <a:pt x="1256773" y="107412"/>
                </a:cubicBezTo>
                <a:cubicBezTo>
                  <a:pt x="1297519" y="88098"/>
                  <a:pt x="1328740" y="111645"/>
                  <a:pt x="1364723" y="113762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81" name="组合 22"/>
          <p:cNvGrpSpPr/>
          <p:nvPr/>
        </p:nvGrpSpPr>
        <p:grpSpPr>
          <a:xfrm>
            <a:off x="3544920" y="1944720"/>
            <a:ext cx="2467080" cy="779400"/>
            <a:chOff x="3544920" y="1944720"/>
            <a:chExt cx="2467080" cy="779400"/>
          </a:xfrm>
        </p:grpSpPr>
        <p:sp>
          <p:nvSpPr>
            <p:cNvPr id="282" name="TextBox 21"/>
            <p:cNvSpPr/>
            <p:nvPr/>
          </p:nvSpPr>
          <p:spPr>
            <a:xfrm>
              <a:off x="3667680" y="194472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等腰三角形 20"/>
            <p:cNvSpPr/>
            <p:nvPr/>
          </p:nvSpPr>
          <p:spPr>
            <a:xfrm rot="5400000">
              <a:off x="353628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4" name="组合 28"/>
          <p:cNvGrpSpPr/>
          <p:nvPr/>
        </p:nvGrpSpPr>
        <p:grpSpPr>
          <a:xfrm>
            <a:off x="6002280" y="1944720"/>
            <a:ext cx="2468520" cy="779400"/>
            <a:chOff x="6002280" y="1944720"/>
            <a:chExt cx="2468520" cy="779400"/>
          </a:xfrm>
        </p:grpSpPr>
        <p:sp>
          <p:nvSpPr>
            <p:cNvPr id="285" name="TextBox 29"/>
            <p:cNvSpPr/>
            <p:nvPr/>
          </p:nvSpPr>
          <p:spPr>
            <a:xfrm>
              <a:off x="6125040" y="194472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等腰三角形 30"/>
            <p:cNvSpPr/>
            <p:nvPr/>
          </p:nvSpPr>
          <p:spPr>
            <a:xfrm rot="5400000">
              <a:off x="599364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" name="组合 31"/>
          <p:cNvGrpSpPr/>
          <p:nvPr/>
        </p:nvGrpSpPr>
        <p:grpSpPr>
          <a:xfrm>
            <a:off x="3544920" y="2754360"/>
            <a:ext cx="2467080" cy="779400"/>
            <a:chOff x="3544920" y="2754360"/>
            <a:chExt cx="2467080" cy="779400"/>
          </a:xfrm>
        </p:grpSpPr>
        <p:sp>
          <p:nvSpPr>
            <p:cNvPr id="288" name="TextBox 32"/>
            <p:cNvSpPr/>
            <p:nvPr/>
          </p:nvSpPr>
          <p:spPr>
            <a:xfrm>
              <a:off x="3667680" y="275436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等腰三角形 33"/>
            <p:cNvSpPr/>
            <p:nvPr/>
          </p:nvSpPr>
          <p:spPr>
            <a:xfrm rot="5400000">
              <a:off x="353628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0" name="组合 34"/>
          <p:cNvGrpSpPr/>
          <p:nvPr/>
        </p:nvGrpSpPr>
        <p:grpSpPr>
          <a:xfrm>
            <a:off x="6002280" y="2754360"/>
            <a:ext cx="2468520" cy="779400"/>
            <a:chOff x="6002280" y="2754360"/>
            <a:chExt cx="2468520" cy="779400"/>
          </a:xfrm>
        </p:grpSpPr>
        <p:sp>
          <p:nvSpPr>
            <p:cNvPr id="291" name="TextBox 35"/>
            <p:cNvSpPr/>
            <p:nvPr/>
          </p:nvSpPr>
          <p:spPr>
            <a:xfrm>
              <a:off x="6125040" y="275436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等腰三角形 36"/>
            <p:cNvSpPr/>
            <p:nvPr/>
          </p:nvSpPr>
          <p:spPr>
            <a:xfrm rot="5400000">
              <a:off x="599364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3" name="TextBox 43"/>
          <p:cNvSpPr/>
          <p:nvPr/>
        </p:nvSpPr>
        <p:spPr>
          <a:xfrm>
            <a:off x="3665520" y="3819600"/>
            <a:ext cx="486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4" name="组合 23"/>
          <p:cNvGrpSpPr/>
          <p:nvPr/>
        </p:nvGrpSpPr>
        <p:grpSpPr>
          <a:xfrm>
            <a:off x="1681200" y="1671480"/>
            <a:ext cx="1522440" cy="2681280"/>
            <a:chOff x="1681200" y="1671480"/>
            <a:chExt cx="1522440" cy="2681280"/>
          </a:xfrm>
        </p:grpSpPr>
        <p:sp>
          <p:nvSpPr>
            <p:cNvPr id="295" name="任意多边形 24"/>
            <p:cNvSpPr/>
            <p:nvPr/>
          </p:nvSpPr>
          <p:spPr>
            <a:xfrm>
              <a:off x="1681200" y="1671480"/>
              <a:ext cx="1522440" cy="268128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任意多边形 25"/>
            <p:cNvSpPr/>
            <p:nvPr/>
          </p:nvSpPr>
          <p:spPr>
            <a:xfrm>
              <a:off x="1681200" y="1671480"/>
              <a:ext cx="1403640" cy="2681280"/>
            </a:xfrm>
            <a:custGeom>
              <a:avLst/>
              <a:gdLst>
                <a:gd name="textAreaLeft" fmla="*/ 0 w 1403640"/>
                <a:gd name="textAreaRight" fmla="*/ 1404000 w 14036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任意多边形 26"/>
            <p:cNvSpPr/>
            <p:nvPr/>
          </p:nvSpPr>
          <p:spPr>
            <a:xfrm>
              <a:off x="1681200" y="1694520"/>
              <a:ext cx="1522440" cy="265824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58240"/>
                <a:gd name="textAreaBottom" fmla="*/ 2658600 h 265824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任意多边形 27"/>
            <p:cNvSpPr/>
            <p:nvPr/>
          </p:nvSpPr>
          <p:spPr>
            <a:xfrm>
              <a:off x="1712520" y="3220920"/>
              <a:ext cx="966600" cy="71568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任意多边形 37"/>
            <p:cNvSpPr/>
            <p:nvPr/>
          </p:nvSpPr>
          <p:spPr>
            <a:xfrm>
              <a:off x="1681200" y="3726720"/>
              <a:ext cx="598320" cy="62604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任意多边形 38"/>
            <p:cNvSpPr/>
            <p:nvPr/>
          </p:nvSpPr>
          <p:spPr>
            <a:xfrm>
              <a:off x="1694880" y="3753720"/>
              <a:ext cx="232560" cy="57456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任意多边形 39"/>
            <p:cNvSpPr/>
            <p:nvPr/>
          </p:nvSpPr>
          <p:spPr>
            <a:xfrm>
              <a:off x="2871000" y="1791000"/>
              <a:ext cx="300600" cy="14148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nodeType="clickEffect" fill="hold">
                      <p:stCondLst>
                        <p:cond delay="0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8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4" name="组合 6"/>
          <p:cNvGrpSpPr/>
          <p:nvPr/>
        </p:nvGrpSpPr>
        <p:grpSpPr>
          <a:xfrm>
            <a:off x="5238720" y="378000"/>
            <a:ext cx="1852560" cy="246240"/>
            <a:chOff x="5238720" y="378000"/>
            <a:chExt cx="1852560" cy="246240"/>
          </a:xfrm>
        </p:grpSpPr>
        <p:sp>
          <p:nvSpPr>
            <p:cNvPr id="305" name="TextBox 7"/>
            <p:cNvSpPr/>
            <p:nvPr/>
          </p:nvSpPr>
          <p:spPr>
            <a:xfrm>
              <a:off x="5374440" y="378000"/>
              <a:ext cx="1716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请输入您的企业名称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6" name="组合 8"/>
            <p:cNvGrpSpPr/>
            <p:nvPr/>
          </p:nvGrpSpPr>
          <p:grpSpPr>
            <a:xfrm>
              <a:off x="5238720" y="422280"/>
              <a:ext cx="157680" cy="158400"/>
              <a:chOff x="5238720" y="422280"/>
              <a:chExt cx="157680" cy="158400"/>
            </a:xfrm>
          </p:grpSpPr>
          <p:sp>
            <p:nvSpPr>
              <p:cNvPr id="307" name="梯形 21"/>
              <p:cNvSpPr/>
              <p:nvPr/>
            </p:nvSpPr>
            <p:spPr>
              <a:xfrm rot="16200000">
                <a:off x="5267880" y="438840"/>
                <a:ext cx="98640" cy="12492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124920"/>
                  <a:gd name="textAreaBottom" fmla="*/ 125280 h 124920"/>
                </a:gdLst>
                <a:ahLst/>
                <a:rect l="textAreaLeft" t="textAreaTop" r="textAreaRight" b="textAreaBottom"/>
                <a:pathLst>
                  <a:path w="880987" h="1120183">
                    <a:moveTo>
                      <a:pt x="757066" y="824835"/>
                    </a:moveTo>
                    <a:lnTo>
                      <a:pt x="757066" y="934658"/>
                    </a:lnTo>
                    <a:lnTo>
                      <a:pt x="555328" y="934658"/>
                    </a:lnTo>
                    <a:lnTo>
                      <a:pt x="661366" y="824835"/>
                    </a:lnTo>
                    <a:lnTo>
                      <a:pt x="757066" y="824835"/>
                    </a:lnTo>
                    <a:close/>
                    <a:moveTo>
                      <a:pt x="880987" y="560091"/>
                    </a:moveTo>
                    <a:lnTo>
                      <a:pt x="320895" y="1120183"/>
                    </a:lnTo>
                    <a:lnTo>
                      <a:pt x="320895" y="952536"/>
                    </a:lnTo>
                    <a:lnTo>
                      <a:pt x="334577" y="938854"/>
                    </a:lnTo>
                    <a:lnTo>
                      <a:pt x="77386" y="938854"/>
                    </a:lnTo>
                    <a:cubicBezTo>
                      <a:pt x="34647" y="938854"/>
                      <a:pt x="0" y="904207"/>
                      <a:pt x="0" y="861468"/>
                    </a:cubicBezTo>
                    <a:lnTo>
                      <a:pt x="0" y="765985"/>
                    </a:lnTo>
                    <a:lnTo>
                      <a:pt x="168046" y="765985"/>
                    </a:lnTo>
                    <a:cubicBezTo>
                      <a:pt x="183196" y="765985"/>
                      <a:pt x="195477" y="753704"/>
                      <a:pt x="195477" y="738554"/>
                    </a:cubicBezTo>
                    <a:lnTo>
                      <a:pt x="195477" y="628834"/>
                    </a:lnTo>
                    <a:cubicBezTo>
                      <a:pt x="195477" y="613684"/>
                      <a:pt x="183196" y="601403"/>
                      <a:pt x="168046" y="601403"/>
                    </a:cubicBezTo>
                    <a:lnTo>
                      <a:pt x="0" y="601403"/>
                    </a:lnTo>
                    <a:lnTo>
                      <a:pt x="0" y="258716"/>
                    </a:lnTo>
                    <a:cubicBezTo>
                      <a:pt x="0" y="215977"/>
                      <a:pt x="34647" y="181330"/>
                      <a:pt x="77386" y="181330"/>
                    </a:cubicBezTo>
                    <a:lnTo>
                      <a:pt x="334578" y="181330"/>
                    </a:lnTo>
                    <a:lnTo>
                      <a:pt x="320895" y="167647"/>
                    </a:lnTo>
                    <a:lnTo>
                      <a:pt x="320895" y="0"/>
                    </a:lnTo>
                    <a:lnTo>
                      <a:pt x="880987" y="56009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椭圆 13"/>
              <p:cNvSpPr/>
              <p:nvPr/>
            </p:nvSpPr>
            <p:spPr>
              <a:xfrm>
                <a:off x="5238720" y="422280"/>
                <a:ext cx="157680" cy="158400"/>
              </a:xfrm>
              <a:prstGeom prst="ellipse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31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直接连接符 23"/>
          <p:cNvSpPr/>
          <p:nvPr/>
        </p:nvSpPr>
        <p:spPr>
          <a:xfrm>
            <a:off x="711360" y="4005360"/>
            <a:ext cx="7721280" cy="1440"/>
          </a:xfrm>
          <a:prstGeom prst="line">
            <a:avLst/>
          </a:prstGeom>
          <a:ln w="9360">
            <a:solidFill>
              <a:srgbClr val="fefef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椭圆 24"/>
          <p:cNvSpPr/>
          <p:nvPr/>
        </p:nvSpPr>
        <p:spPr>
          <a:xfrm>
            <a:off x="139860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Box 26"/>
          <p:cNvSpPr/>
          <p:nvPr/>
        </p:nvSpPr>
        <p:spPr>
          <a:xfrm>
            <a:off x="75564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直接连接符 29"/>
          <p:cNvSpPr/>
          <p:nvPr/>
        </p:nvSpPr>
        <p:spPr>
          <a:xfrm flipV="1">
            <a:off x="143496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椭圆 37"/>
          <p:cNvSpPr/>
          <p:nvPr/>
        </p:nvSpPr>
        <p:spPr>
          <a:xfrm>
            <a:off x="121932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直接连接符 38"/>
          <p:cNvSpPr/>
          <p:nvPr/>
        </p:nvSpPr>
        <p:spPr>
          <a:xfrm flipV="1">
            <a:off x="143496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椭圆 39"/>
          <p:cNvSpPr/>
          <p:nvPr/>
        </p:nvSpPr>
        <p:spPr>
          <a:xfrm>
            <a:off x="244476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TextBox 40"/>
          <p:cNvSpPr/>
          <p:nvPr/>
        </p:nvSpPr>
        <p:spPr>
          <a:xfrm>
            <a:off x="18003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直接连接符 41"/>
          <p:cNvSpPr/>
          <p:nvPr/>
        </p:nvSpPr>
        <p:spPr>
          <a:xfrm flipV="1">
            <a:off x="247968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椭圆 42"/>
          <p:cNvSpPr/>
          <p:nvPr/>
        </p:nvSpPr>
        <p:spPr>
          <a:xfrm>
            <a:off x="226368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直接连接符 43"/>
          <p:cNvSpPr/>
          <p:nvPr/>
        </p:nvSpPr>
        <p:spPr>
          <a:xfrm flipV="1">
            <a:off x="247968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椭圆 44"/>
          <p:cNvSpPr/>
          <p:nvPr/>
        </p:nvSpPr>
        <p:spPr>
          <a:xfrm>
            <a:off x="348948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TextBox 45"/>
          <p:cNvSpPr/>
          <p:nvPr/>
        </p:nvSpPr>
        <p:spPr>
          <a:xfrm>
            <a:off x="284472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度完善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直接连接符 46"/>
          <p:cNvSpPr/>
          <p:nvPr/>
        </p:nvSpPr>
        <p:spPr>
          <a:xfrm flipV="1">
            <a:off x="3524400" y="3664080"/>
            <a:ext cx="144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椭圆 47"/>
          <p:cNvSpPr/>
          <p:nvPr/>
        </p:nvSpPr>
        <p:spPr>
          <a:xfrm>
            <a:off x="330840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直接连接符 48"/>
          <p:cNvSpPr/>
          <p:nvPr/>
        </p:nvSpPr>
        <p:spPr>
          <a:xfrm flipV="1">
            <a:off x="3524400" y="2580840"/>
            <a:ext cx="144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椭圆 49"/>
          <p:cNvSpPr/>
          <p:nvPr/>
        </p:nvSpPr>
        <p:spPr>
          <a:xfrm>
            <a:off x="453384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TextBox 50"/>
          <p:cNvSpPr/>
          <p:nvPr/>
        </p:nvSpPr>
        <p:spPr>
          <a:xfrm>
            <a:off x="3889440" y="2235240"/>
            <a:ext cx="136512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研发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直接连接符 51"/>
          <p:cNvSpPr/>
          <p:nvPr/>
        </p:nvSpPr>
        <p:spPr>
          <a:xfrm flipV="1">
            <a:off x="457056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椭圆 52"/>
          <p:cNvSpPr/>
          <p:nvPr/>
        </p:nvSpPr>
        <p:spPr>
          <a:xfrm>
            <a:off x="435276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直接连接符 53"/>
          <p:cNvSpPr/>
          <p:nvPr/>
        </p:nvSpPr>
        <p:spPr>
          <a:xfrm flipV="1">
            <a:off x="457056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椭圆 54"/>
          <p:cNvSpPr/>
          <p:nvPr/>
        </p:nvSpPr>
        <p:spPr>
          <a:xfrm>
            <a:off x="557856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TextBox 55"/>
          <p:cNvSpPr/>
          <p:nvPr/>
        </p:nvSpPr>
        <p:spPr>
          <a:xfrm>
            <a:off x="493560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上市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直接连接符 56"/>
          <p:cNvSpPr/>
          <p:nvPr/>
        </p:nvSpPr>
        <p:spPr>
          <a:xfrm flipV="1">
            <a:off x="561492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椭圆 57"/>
          <p:cNvSpPr/>
          <p:nvPr/>
        </p:nvSpPr>
        <p:spPr>
          <a:xfrm>
            <a:off x="5398920" y="213660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直接连接符 58"/>
          <p:cNvSpPr/>
          <p:nvPr/>
        </p:nvSpPr>
        <p:spPr>
          <a:xfrm flipV="1">
            <a:off x="561492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椭圆 59"/>
          <p:cNvSpPr/>
          <p:nvPr/>
        </p:nvSpPr>
        <p:spPr>
          <a:xfrm>
            <a:off x="662292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TextBox 60"/>
          <p:cNvSpPr/>
          <p:nvPr/>
        </p:nvSpPr>
        <p:spPr>
          <a:xfrm>
            <a:off x="59799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收创新高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直接连接符 61"/>
          <p:cNvSpPr/>
          <p:nvPr/>
        </p:nvSpPr>
        <p:spPr>
          <a:xfrm flipV="1">
            <a:off x="665964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椭圆 62"/>
          <p:cNvSpPr/>
          <p:nvPr/>
        </p:nvSpPr>
        <p:spPr>
          <a:xfrm>
            <a:off x="644364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直接连接符 63"/>
          <p:cNvSpPr/>
          <p:nvPr/>
        </p:nvSpPr>
        <p:spPr>
          <a:xfrm flipV="1">
            <a:off x="6659640" y="1917720"/>
            <a:ext cx="144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椭圆 64"/>
          <p:cNvSpPr/>
          <p:nvPr/>
        </p:nvSpPr>
        <p:spPr>
          <a:xfrm>
            <a:off x="766908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TextBox 65"/>
          <p:cNvSpPr/>
          <p:nvPr/>
        </p:nvSpPr>
        <p:spPr>
          <a:xfrm>
            <a:off x="702468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布局全球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直接连接符 66"/>
          <p:cNvSpPr/>
          <p:nvPr/>
        </p:nvSpPr>
        <p:spPr>
          <a:xfrm flipV="1">
            <a:off x="770580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椭圆 67"/>
          <p:cNvSpPr/>
          <p:nvPr/>
        </p:nvSpPr>
        <p:spPr>
          <a:xfrm>
            <a:off x="748836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直接连接符 68"/>
          <p:cNvSpPr/>
          <p:nvPr/>
        </p:nvSpPr>
        <p:spPr>
          <a:xfrm flipV="1">
            <a:off x="770580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Box 69"/>
          <p:cNvSpPr/>
          <p:nvPr/>
        </p:nvSpPr>
        <p:spPr>
          <a:xfrm>
            <a:off x="107172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TextBox 70"/>
          <p:cNvSpPr/>
          <p:nvPr/>
        </p:nvSpPr>
        <p:spPr>
          <a:xfrm>
            <a:off x="211788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TextBox 71"/>
          <p:cNvSpPr/>
          <p:nvPr/>
        </p:nvSpPr>
        <p:spPr>
          <a:xfrm>
            <a:off x="316224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TextBox 72"/>
          <p:cNvSpPr/>
          <p:nvPr/>
        </p:nvSpPr>
        <p:spPr>
          <a:xfrm>
            <a:off x="42069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TextBox 73"/>
          <p:cNvSpPr/>
          <p:nvPr/>
        </p:nvSpPr>
        <p:spPr>
          <a:xfrm>
            <a:off x="52545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TextBox 74"/>
          <p:cNvSpPr/>
          <p:nvPr/>
        </p:nvSpPr>
        <p:spPr>
          <a:xfrm>
            <a:off x="6296040" y="407844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TextBox 75"/>
          <p:cNvSpPr/>
          <p:nvPr/>
        </p:nvSpPr>
        <p:spPr>
          <a:xfrm>
            <a:off x="734220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梯形 21"/>
          <p:cNvSpPr/>
          <p:nvPr/>
        </p:nvSpPr>
        <p:spPr>
          <a:xfrm rot="16200000">
            <a:off x="1339920" y="2225160"/>
            <a:ext cx="190440" cy="241560"/>
          </a:xfrm>
          <a:custGeom>
            <a:avLst/>
            <a:gdLst>
              <a:gd name="textAreaLeft" fmla="*/ 0 w 190440"/>
              <a:gd name="textAreaRight" fmla="*/ 190800 w 1904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880987" h="1120183">
                <a:moveTo>
                  <a:pt x="757066" y="824835"/>
                </a:moveTo>
                <a:lnTo>
                  <a:pt x="757066" y="934658"/>
                </a:lnTo>
                <a:lnTo>
                  <a:pt x="555328" y="934658"/>
                </a:lnTo>
                <a:lnTo>
                  <a:pt x="661366" y="824835"/>
                </a:lnTo>
                <a:lnTo>
                  <a:pt x="757066" y="824835"/>
                </a:lnTo>
                <a:close/>
                <a:moveTo>
                  <a:pt x="880987" y="560091"/>
                </a:moveTo>
                <a:lnTo>
                  <a:pt x="320895" y="1120183"/>
                </a:lnTo>
                <a:lnTo>
                  <a:pt x="320895" y="952536"/>
                </a:lnTo>
                <a:lnTo>
                  <a:pt x="334577" y="938854"/>
                </a:lnTo>
                <a:lnTo>
                  <a:pt x="77386" y="938854"/>
                </a:lnTo>
                <a:cubicBezTo>
                  <a:pt x="34647" y="938854"/>
                  <a:pt x="0" y="904207"/>
                  <a:pt x="0" y="861468"/>
                </a:cubicBezTo>
                <a:lnTo>
                  <a:pt x="0" y="765985"/>
                </a:lnTo>
                <a:lnTo>
                  <a:pt x="168046" y="765985"/>
                </a:lnTo>
                <a:cubicBezTo>
                  <a:pt x="183196" y="765985"/>
                  <a:pt x="195477" y="753704"/>
                  <a:pt x="195477" y="738554"/>
                </a:cubicBezTo>
                <a:lnTo>
                  <a:pt x="195477" y="628834"/>
                </a:lnTo>
                <a:cubicBezTo>
                  <a:pt x="195477" y="613684"/>
                  <a:pt x="183196" y="601403"/>
                  <a:pt x="168046" y="601403"/>
                </a:cubicBezTo>
                <a:lnTo>
                  <a:pt x="0" y="601403"/>
                </a:lnTo>
                <a:lnTo>
                  <a:pt x="0" y="258716"/>
                </a:lnTo>
                <a:cubicBezTo>
                  <a:pt x="0" y="215977"/>
                  <a:pt x="34647" y="181330"/>
                  <a:pt x="77386" y="181330"/>
                </a:cubicBezTo>
                <a:lnTo>
                  <a:pt x="334578" y="181330"/>
                </a:lnTo>
                <a:lnTo>
                  <a:pt x="320895" y="167647"/>
                </a:lnTo>
                <a:lnTo>
                  <a:pt x="320895" y="0"/>
                </a:lnTo>
                <a:lnTo>
                  <a:pt x="880987" y="5600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空心弧 22"/>
          <p:cNvSpPr/>
          <p:nvPr/>
        </p:nvSpPr>
        <p:spPr>
          <a:xfrm>
            <a:off x="2390760" y="1603440"/>
            <a:ext cx="177840" cy="171360"/>
          </a:xfrm>
          <a:custGeom>
            <a:avLst/>
            <a:gdLst>
              <a:gd name="textAreaLeft" fmla="*/ 0 w 177840"/>
              <a:gd name="textAreaRight" fmla="*/ 178200 w 17784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872917" h="836472">
                <a:moveTo>
                  <a:pt x="872917" y="387463"/>
                </a:moveTo>
                <a:lnTo>
                  <a:pt x="872917" y="727355"/>
                </a:lnTo>
                <a:cubicBezTo>
                  <a:pt x="872917" y="787619"/>
                  <a:pt x="824064" y="836472"/>
                  <a:pt x="763800" y="836472"/>
                </a:cubicBezTo>
                <a:lnTo>
                  <a:pt x="109117" y="836472"/>
                </a:lnTo>
                <a:cubicBezTo>
                  <a:pt x="48853" y="836472"/>
                  <a:pt x="0" y="787619"/>
                  <a:pt x="0" y="727355"/>
                </a:cubicBezTo>
                <a:lnTo>
                  <a:pt x="0" y="393462"/>
                </a:lnTo>
                <a:lnTo>
                  <a:pt x="376465" y="511868"/>
                </a:lnTo>
                <a:lnTo>
                  <a:pt x="349167" y="642896"/>
                </a:lnTo>
                <a:lnTo>
                  <a:pt x="523750" y="642896"/>
                </a:lnTo>
                <a:lnTo>
                  <a:pt x="496346" y="511356"/>
                </a:lnTo>
                <a:lnTo>
                  <a:pt x="872917" y="387463"/>
                </a:lnTo>
                <a:close/>
                <a:moveTo>
                  <a:pt x="454651" y="89951"/>
                </a:moveTo>
                <a:cubicBezTo>
                  <a:pt x="413879" y="85636"/>
                  <a:pt x="371578" y="95760"/>
                  <a:pt x="335971" y="121192"/>
                </a:cubicBezTo>
                <a:cubicBezTo>
                  <a:pt x="313511" y="137234"/>
                  <a:pt x="295948" y="157772"/>
                  <a:pt x="285636" y="181784"/>
                </a:cubicBezTo>
                <a:lnTo>
                  <a:pt x="586808" y="181784"/>
                </a:lnTo>
                <a:cubicBezTo>
                  <a:pt x="582405" y="168081"/>
                  <a:pt x="574102" y="156229"/>
                  <a:pt x="564164" y="145339"/>
                </a:cubicBezTo>
                <a:cubicBezTo>
                  <a:pt x="534669" y="113018"/>
                  <a:pt x="495424" y="94265"/>
                  <a:pt x="454651" y="89951"/>
                </a:cubicBezTo>
                <a:close/>
                <a:moveTo>
                  <a:pt x="417458" y="679"/>
                </a:moveTo>
                <a:cubicBezTo>
                  <a:pt x="495129" y="-4923"/>
                  <a:pt x="574048" y="24160"/>
                  <a:pt x="629894" y="85355"/>
                </a:cubicBezTo>
                <a:cubicBezTo>
                  <a:pt x="655919" y="113874"/>
                  <a:pt x="674543" y="146746"/>
                  <a:pt x="684840" y="181784"/>
                </a:cubicBezTo>
                <a:lnTo>
                  <a:pt x="763800" y="181784"/>
                </a:lnTo>
                <a:cubicBezTo>
                  <a:pt x="824064" y="181784"/>
                  <a:pt x="872917" y="230637"/>
                  <a:pt x="872917" y="290901"/>
                </a:cubicBezTo>
                <a:lnTo>
                  <a:pt x="872917" y="325135"/>
                </a:lnTo>
                <a:lnTo>
                  <a:pt x="484194" y="453026"/>
                </a:lnTo>
                <a:lnTo>
                  <a:pt x="480104" y="433396"/>
                </a:lnTo>
                <a:lnTo>
                  <a:pt x="392813" y="433396"/>
                </a:lnTo>
                <a:lnTo>
                  <a:pt x="389304" y="450237"/>
                </a:lnTo>
                <a:lnTo>
                  <a:pt x="0" y="327793"/>
                </a:lnTo>
                <a:lnTo>
                  <a:pt x="0" y="290901"/>
                </a:lnTo>
                <a:cubicBezTo>
                  <a:pt x="0" y="230637"/>
                  <a:pt x="48853" y="181784"/>
                  <a:pt x="109117" y="181784"/>
                </a:cubicBezTo>
                <a:lnTo>
                  <a:pt x="188214" y="181784"/>
                </a:lnTo>
                <a:cubicBezTo>
                  <a:pt x="203958" y="129561"/>
                  <a:pt x="236927" y="82582"/>
                  <a:pt x="284252" y="48780"/>
                </a:cubicBezTo>
                <a:cubicBezTo>
                  <a:pt x="324702" y="19889"/>
                  <a:pt x="370855" y="4041"/>
                  <a:pt x="417458" y="6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圆角矩形 49"/>
          <p:cNvSpPr/>
          <p:nvPr/>
        </p:nvSpPr>
        <p:spPr>
          <a:xfrm>
            <a:off x="3449520" y="2251080"/>
            <a:ext cx="150840" cy="203040"/>
          </a:xfrm>
          <a:custGeom>
            <a:avLst/>
            <a:gdLst>
              <a:gd name="textAreaLeft" fmla="*/ 0 w 150840"/>
              <a:gd name="textAreaRight" fmla="*/ 151200 w 1508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654689" h="876743">
                <a:moveTo>
                  <a:pt x="134787" y="512482"/>
                </a:moveTo>
                <a:lnTo>
                  <a:pt x="484855" y="512482"/>
                </a:lnTo>
                <a:lnTo>
                  <a:pt x="484855" y="567039"/>
                </a:lnTo>
                <a:lnTo>
                  <a:pt x="134787" y="567039"/>
                </a:lnTo>
                <a:lnTo>
                  <a:pt x="134787" y="512482"/>
                </a:lnTo>
                <a:close/>
                <a:moveTo>
                  <a:pt x="134787" y="426464"/>
                </a:moveTo>
                <a:lnTo>
                  <a:pt x="426499" y="426464"/>
                </a:lnTo>
                <a:lnTo>
                  <a:pt x="426499" y="481021"/>
                </a:lnTo>
                <a:lnTo>
                  <a:pt x="134787" y="481021"/>
                </a:lnTo>
                <a:lnTo>
                  <a:pt x="134787" y="426464"/>
                </a:lnTo>
                <a:close/>
                <a:moveTo>
                  <a:pt x="134787" y="347535"/>
                </a:moveTo>
                <a:lnTo>
                  <a:pt x="523751" y="347535"/>
                </a:lnTo>
                <a:lnTo>
                  <a:pt x="523751" y="402092"/>
                </a:lnTo>
                <a:lnTo>
                  <a:pt x="134787" y="402092"/>
                </a:lnTo>
                <a:lnTo>
                  <a:pt x="134787" y="347535"/>
                </a:lnTo>
                <a:close/>
                <a:moveTo>
                  <a:pt x="74477" y="148223"/>
                </a:moveTo>
                <a:lnTo>
                  <a:pt x="87292" y="148223"/>
                </a:lnTo>
                <a:lnTo>
                  <a:pt x="87292" y="765039"/>
                </a:lnTo>
                <a:lnTo>
                  <a:pt x="567397" y="765039"/>
                </a:lnTo>
                <a:lnTo>
                  <a:pt x="567397" y="148223"/>
                </a:lnTo>
                <a:lnTo>
                  <a:pt x="580212" y="148223"/>
                </a:lnTo>
                <a:cubicBezTo>
                  <a:pt x="621345" y="148223"/>
                  <a:pt x="654689" y="181567"/>
                  <a:pt x="654689" y="222700"/>
                </a:cubicBezTo>
                <a:lnTo>
                  <a:pt x="654689" y="802266"/>
                </a:lnTo>
                <a:cubicBezTo>
                  <a:pt x="654689" y="843399"/>
                  <a:pt x="621345" y="876743"/>
                  <a:pt x="580212" y="876743"/>
                </a:cubicBezTo>
                <a:lnTo>
                  <a:pt x="74477" y="876743"/>
                </a:lnTo>
                <a:cubicBezTo>
                  <a:pt x="33344" y="876743"/>
                  <a:pt x="0" y="843399"/>
                  <a:pt x="0" y="802266"/>
                </a:cubicBezTo>
                <a:lnTo>
                  <a:pt x="0" y="222700"/>
                </a:lnTo>
                <a:cubicBezTo>
                  <a:pt x="0" y="181567"/>
                  <a:pt x="33344" y="148223"/>
                  <a:pt x="74477" y="148223"/>
                </a:cubicBezTo>
                <a:close/>
                <a:moveTo>
                  <a:pt x="327344" y="59420"/>
                </a:moveTo>
                <a:cubicBezTo>
                  <a:pt x="299905" y="59420"/>
                  <a:pt x="277661" y="81664"/>
                  <a:pt x="277661" y="109103"/>
                </a:cubicBezTo>
                <a:cubicBezTo>
                  <a:pt x="277661" y="125393"/>
                  <a:pt x="285501" y="139852"/>
                  <a:pt x="298129" y="148223"/>
                </a:cubicBezTo>
                <a:lnTo>
                  <a:pt x="356559" y="148223"/>
                </a:lnTo>
                <a:cubicBezTo>
                  <a:pt x="369187" y="139852"/>
                  <a:pt x="377027" y="125393"/>
                  <a:pt x="377027" y="109103"/>
                </a:cubicBezTo>
                <a:cubicBezTo>
                  <a:pt x="377027" y="81664"/>
                  <a:pt x="354783" y="59420"/>
                  <a:pt x="327344" y="59420"/>
                </a:cubicBezTo>
                <a:close/>
                <a:moveTo>
                  <a:pt x="327345" y="0"/>
                </a:moveTo>
                <a:cubicBezTo>
                  <a:pt x="387601" y="0"/>
                  <a:pt x="436448" y="48847"/>
                  <a:pt x="436448" y="109103"/>
                </a:cubicBezTo>
                <a:lnTo>
                  <a:pt x="428550" y="148223"/>
                </a:lnTo>
                <a:lnTo>
                  <a:pt x="523751" y="148223"/>
                </a:lnTo>
                <a:lnTo>
                  <a:pt x="523751" y="231012"/>
                </a:lnTo>
                <a:cubicBezTo>
                  <a:pt x="523751" y="257604"/>
                  <a:pt x="502194" y="279161"/>
                  <a:pt x="475602" y="279161"/>
                </a:cubicBezTo>
                <a:lnTo>
                  <a:pt x="179087" y="279161"/>
                </a:lnTo>
                <a:cubicBezTo>
                  <a:pt x="152495" y="279161"/>
                  <a:pt x="130938" y="257604"/>
                  <a:pt x="130938" y="231012"/>
                </a:cubicBezTo>
                <a:lnTo>
                  <a:pt x="130938" y="148223"/>
                </a:lnTo>
                <a:lnTo>
                  <a:pt x="226140" y="148223"/>
                </a:lnTo>
                <a:cubicBezTo>
                  <a:pt x="220831" y="136244"/>
                  <a:pt x="218242" y="122976"/>
                  <a:pt x="218242" y="109103"/>
                </a:cubicBezTo>
                <a:cubicBezTo>
                  <a:pt x="218242" y="48847"/>
                  <a:pt x="267089" y="0"/>
                  <a:pt x="32734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矩形 60"/>
          <p:cNvSpPr/>
          <p:nvPr/>
        </p:nvSpPr>
        <p:spPr>
          <a:xfrm>
            <a:off x="4486320" y="1612800"/>
            <a:ext cx="168120" cy="150840"/>
          </a:xfrm>
          <a:custGeom>
            <a:avLst/>
            <a:gdLst>
              <a:gd name="textAreaLeft" fmla="*/ 0 w 168120"/>
              <a:gd name="textAreaRight" fmla="*/ 168480 w 16812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同心圆 41"/>
          <p:cNvSpPr/>
          <p:nvPr/>
        </p:nvSpPr>
        <p:spPr>
          <a:xfrm>
            <a:off x="5511960" y="2251080"/>
            <a:ext cx="206280" cy="204840"/>
          </a:xfrm>
          <a:custGeom>
            <a:avLst/>
            <a:gdLst>
              <a:gd name="textAreaLeft" fmla="*/ 0 w 206280"/>
              <a:gd name="textAreaRight" fmla="*/ 206640 w 2062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746126" h="746126">
                <a:moveTo>
                  <a:pt x="306284" y="137956"/>
                </a:moveTo>
                <a:cubicBezTo>
                  <a:pt x="310779" y="137785"/>
                  <a:pt x="315338" y="139329"/>
                  <a:pt x="318898" y="142628"/>
                </a:cubicBezTo>
                <a:lnTo>
                  <a:pt x="469646" y="282344"/>
                </a:lnTo>
                <a:cubicBezTo>
                  <a:pt x="476765" y="288942"/>
                  <a:pt x="477187" y="300061"/>
                  <a:pt x="470590" y="307180"/>
                </a:cubicBezTo>
                <a:lnTo>
                  <a:pt x="461760" y="316706"/>
                </a:lnTo>
                <a:cubicBezTo>
                  <a:pt x="455163" y="323825"/>
                  <a:pt x="444044" y="324247"/>
                  <a:pt x="436925" y="317650"/>
                </a:cubicBezTo>
                <a:lnTo>
                  <a:pt x="432162" y="313235"/>
                </a:lnTo>
                <a:lnTo>
                  <a:pt x="391258" y="357369"/>
                </a:lnTo>
                <a:lnTo>
                  <a:pt x="487159" y="446252"/>
                </a:lnTo>
                <a:cubicBezTo>
                  <a:pt x="490783" y="441495"/>
                  <a:pt x="496201" y="439792"/>
                  <a:pt x="501674" y="439584"/>
                </a:cubicBezTo>
                <a:cubicBezTo>
                  <a:pt x="509319" y="439293"/>
                  <a:pt x="517075" y="441920"/>
                  <a:pt x="523130" y="447531"/>
                </a:cubicBezTo>
                <a:lnTo>
                  <a:pt x="682787" y="595504"/>
                </a:lnTo>
                <a:cubicBezTo>
                  <a:pt x="694897" y="606728"/>
                  <a:pt x="695615" y="625642"/>
                  <a:pt x="684392" y="637752"/>
                </a:cubicBezTo>
                <a:lnTo>
                  <a:pt x="659592" y="664510"/>
                </a:lnTo>
                <a:cubicBezTo>
                  <a:pt x="648368" y="676620"/>
                  <a:pt x="629454" y="677338"/>
                  <a:pt x="617344" y="666115"/>
                </a:cubicBezTo>
                <a:lnTo>
                  <a:pt x="457687" y="518142"/>
                </a:lnTo>
                <a:cubicBezTo>
                  <a:pt x="446977" y="508216"/>
                  <a:pt x="445177" y="492275"/>
                  <a:pt x="454100" y="481245"/>
                </a:cubicBezTo>
                <a:lnTo>
                  <a:pt x="358536" y="392675"/>
                </a:lnTo>
                <a:lnTo>
                  <a:pt x="317635" y="436805"/>
                </a:lnTo>
                <a:lnTo>
                  <a:pt x="322398" y="441219"/>
                </a:lnTo>
                <a:cubicBezTo>
                  <a:pt x="329517" y="447817"/>
                  <a:pt x="329939" y="458936"/>
                  <a:pt x="323342" y="466055"/>
                </a:cubicBezTo>
                <a:lnTo>
                  <a:pt x="314512" y="475581"/>
                </a:lnTo>
                <a:cubicBezTo>
                  <a:pt x="307915" y="482700"/>
                  <a:pt x="296796" y="483122"/>
                  <a:pt x="289677" y="476525"/>
                </a:cubicBezTo>
                <a:lnTo>
                  <a:pt x="138928" y="336808"/>
                </a:lnTo>
                <a:cubicBezTo>
                  <a:pt x="131809" y="330210"/>
                  <a:pt x="131387" y="319091"/>
                  <a:pt x="137985" y="311973"/>
                </a:cubicBezTo>
                <a:lnTo>
                  <a:pt x="146814" y="302446"/>
                </a:lnTo>
                <a:cubicBezTo>
                  <a:pt x="153412" y="295327"/>
                  <a:pt x="164531" y="294905"/>
                  <a:pt x="171650" y="301503"/>
                </a:cubicBezTo>
                <a:lnTo>
                  <a:pt x="176413" y="305918"/>
                </a:lnTo>
                <a:lnTo>
                  <a:pt x="290940" y="182348"/>
                </a:lnTo>
                <a:lnTo>
                  <a:pt x="286176" y="177933"/>
                </a:lnTo>
                <a:cubicBezTo>
                  <a:pt x="279057" y="171335"/>
                  <a:pt x="278635" y="160216"/>
                  <a:pt x="285233" y="153098"/>
                </a:cubicBezTo>
                <a:lnTo>
                  <a:pt x="294062" y="143571"/>
                </a:lnTo>
                <a:cubicBezTo>
                  <a:pt x="297361" y="140012"/>
                  <a:pt x="301790" y="138126"/>
                  <a:pt x="306284" y="137956"/>
                </a:cubicBezTo>
                <a:close/>
                <a:moveTo>
                  <a:pt x="373063" y="0"/>
                </a:moveTo>
                <a:cubicBezTo>
                  <a:pt x="579100" y="0"/>
                  <a:pt x="746126" y="167026"/>
                  <a:pt x="746126" y="373063"/>
                </a:cubicBezTo>
                <a:cubicBezTo>
                  <a:pt x="746126" y="441784"/>
                  <a:pt x="727545" y="506165"/>
                  <a:pt x="693797" y="560673"/>
                </a:cubicBezTo>
                <a:lnTo>
                  <a:pt x="634837" y="506028"/>
                </a:lnTo>
                <a:cubicBezTo>
                  <a:pt x="656383" y="466516"/>
                  <a:pt x="667887" y="421133"/>
                  <a:pt x="667887" y="373063"/>
                </a:cubicBezTo>
                <a:cubicBezTo>
                  <a:pt x="667887" y="210236"/>
                  <a:pt x="535890" y="78239"/>
                  <a:pt x="373063" y="78239"/>
                </a:cubicBezTo>
                <a:cubicBezTo>
                  <a:pt x="210236" y="78239"/>
                  <a:pt x="78239" y="210236"/>
                  <a:pt x="78239" y="373063"/>
                </a:cubicBezTo>
                <a:cubicBezTo>
                  <a:pt x="78239" y="535890"/>
                  <a:pt x="210236" y="667887"/>
                  <a:pt x="373063" y="667887"/>
                </a:cubicBezTo>
                <a:cubicBezTo>
                  <a:pt x="430719" y="667887"/>
                  <a:pt x="484509" y="651337"/>
                  <a:pt x="529532" y="622079"/>
                </a:cubicBezTo>
                <a:lnTo>
                  <a:pt x="588515" y="676745"/>
                </a:lnTo>
                <a:cubicBezTo>
                  <a:pt x="528014" y="720662"/>
                  <a:pt x="453512" y="746126"/>
                  <a:pt x="373063" y="746126"/>
                </a:cubicBezTo>
                <a:cubicBezTo>
                  <a:pt x="167026" y="746126"/>
                  <a:pt x="0" y="579100"/>
                  <a:pt x="0" y="373063"/>
                </a:cubicBezTo>
                <a:cubicBezTo>
                  <a:pt x="0" y="167026"/>
                  <a:pt x="167026" y="0"/>
                  <a:pt x="37306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圆角矩形 26"/>
          <p:cNvSpPr/>
          <p:nvPr/>
        </p:nvSpPr>
        <p:spPr>
          <a:xfrm>
            <a:off x="6550200" y="1604880"/>
            <a:ext cx="220320" cy="166680"/>
          </a:xfrm>
          <a:custGeom>
            <a:avLst/>
            <a:gdLst>
              <a:gd name="textAreaLeft" fmla="*/ 0 w 220320"/>
              <a:gd name="textAreaRight" fmla="*/ 220680 w 220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584176" h="1195792">
                <a:moveTo>
                  <a:pt x="792088" y="936827"/>
                </a:moveTo>
                <a:cubicBezTo>
                  <a:pt x="768562" y="936827"/>
                  <a:pt x="749491" y="955898"/>
                  <a:pt x="749491" y="979424"/>
                </a:cubicBezTo>
                <a:cubicBezTo>
                  <a:pt x="749491" y="1002950"/>
                  <a:pt x="768562" y="1022021"/>
                  <a:pt x="792088" y="1022021"/>
                </a:cubicBezTo>
                <a:cubicBezTo>
                  <a:pt x="815614" y="1022021"/>
                  <a:pt x="834685" y="1002950"/>
                  <a:pt x="834685" y="979424"/>
                </a:cubicBezTo>
                <a:cubicBezTo>
                  <a:pt x="834685" y="955898"/>
                  <a:pt x="815614" y="936827"/>
                  <a:pt x="792088" y="936827"/>
                </a:cubicBezTo>
                <a:close/>
                <a:moveTo>
                  <a:pt x="501926" y="652004"/>
                </a:moveTo>
                <a:lnTo>
                  <a:pt x="501926" y="780354"/>
                </a:lnTo>
                <a:lnTo>
                  <a:pt x="357910" y="780354"/>
                </a:lnTo>
                <a:lnTo>
                  <a:pt x="357910" y="703916"/>
                </a:lnTo>
                <a:lnTo>
                  <a:pt x="501926" y="652004"/>
                </a:lnTo>
                <a:close/>
                <a:moveTo>
                  <a:pt x="984820" y="611637"/>
                </a:moveTo>
                <a:lnTo>
                  <a:pt x="984820" y="780354"/>
                </a:lnTo>
                <a:lnTo>
                  <a:pt x="840804" y="780354"/>
                </a:lnTo>
                <a:lnTo>
                  <a:pt x="840804" y="674135"/>
                </a:lnTo>
                <a:lnTo>
                  <a:pt x="984820" y="611637"/>
                </a:lnTo>
                <a:close/>
                <a:moveTo>
                  <a:pt x="675372" y="589482"/>
                </a:moveTo>
                <a:lnTo>
                  <a:pt x="743373" y="649323"/>
                </a:lnTo>
                <a:lnTo>
                  <a:pt x="743373" y="780354"/>
                </a:lnTo>
                <a:lnTo>
                  <a:pt x="599357" y="780354"/>
                </a:lnTo>
                <a:lnTo>
                  <a:pt x="599357" y="616883"/>
                </a:lnTo>
                <a:lnTo>
                  <a:pt x="675372" y="589482"/>
                </a:lnTo>
                <a:close/>
                <a:moveTo>
                  <a:pt x="1226266" y="506859"/>
                </a:moveTo>
                <a:lnTo>
                  <a:pt x="1226266" y="780354"/>
                </a:lnTo>
                <a:lnTo>
                  <a:pt x="1082250" y="780354"/>
                </a:lnTo>
                <a:lnTo>
                  <a:pt x="1082250" y="569356"/>
                </a:lnTo>
                <a:lnTo>
                  <a:pt x="1226266" y="506859"/>
                </a:lnTo>
                <a:close/>
                <a:moveTo>
                  <a:pt x="840804" y="214317"/>
                </a:moveTo>
                <a:lnTo>
                  <a:pt x="984820" y="214317"/>
                </a:lnTo>
                <a:lnTo>
                  <a:pt x="984820" y="499046"/>
                </a:lnTo>
                <a:lnTo>
                  <a:pt x="1082250" y="455202"/>
                </a:lnTo>
                <a:lnTo>
                  <a:pt x="1082250" y="295348"/>
                </a:lnTo>
                <a:lnTo>
                  <a:pt x="1226266" y="295348"/>
                </a:lnTo>
                <a:lnTo>
                  <a:pt x="1226266" y="390395"/>
                </a:lnTo>
                <a:lnTo>
                  <a:pt x="1270685" y="370406"/>
                </a:lnTo>
                <a:lnTo>
                  <a:pt x="1299260" y="437081"/>
                </a:lnTo>
                <a:lnTo>
                  <a:pt x="794435" y="656156"/>
                </a:lnTo>
                <a:lnTo>
                  <a:pt x="675372" y="551381"/>
                </a:lnTo>
                <a:lnTo>
                  <a:pt x="265797" y="699019"/>
                </a:lnTo>
                <a:lnTo>
                  <a:pt x="246747" y="632344"/>
                </a:lnTo>
                <a:lnTo>
                  <a:pt x="357910" y="594475"/>
                </a:lnTo>
                <a:lnTo>
                  <a:pt x="357910" y="348306"/>
                </a:lnTo>
                <a:lnTo>
                  <a:pt x="501926" y="348306"/>
                </a:lnTo>
                <a:lnTo>
                  <a:pt x="501926" y="545415"/>
                </a:lnTo>
                <a:lnTo>
                  <a:pt x="599357" y="512224"/>
                </a:lnTo>
                <a:lnTo>
                  <a:pt x="599357" y="439364"/>
                </a:lnTo>
                <a:lnTo>
                  <a:pt x="743373" y="439364"/>
                </a:lnTo>
                <a:lnTo>
                  <a:pt x="743373" y="540040"/>
                </a:lnTo>
                <a:lnTo>
                  <a:pt x="794435" y="584719"/>
                </a:lnTo>
                <a:lnTo>
                  <a:pt x="840804" y="563853"/>
                </a:lnTo>
                <a:lnTo>
                  <a:pt x="840804" y="214317"/>
                </a:lnTo>
                <a:close/>
                <a:moveTo>
                  <a:pt x="163421" y="109283"/>
                </a:moveTo>
                <a:cubicBezTo>
                  <a:pt x="145421" y="109283"/>
                  <a:pt x="130830" y="123874"/>
                  <a:pt x="130830" y="141874"/>
                </a:cubicBezTo>
                <a:lnTo>
                  <a:pt x="130830" y="861077"/>
                </a:lnTo>
                <a:cubicBezTo>
                  <a:pt x="130830" y="879077"/>
                  <a:pt x="145421" y="893668"/>
                  <a:pt x="163421" y="893668"/>
                </a:cubicBezTo>
                <a:lnTo>
                  <a:pt x="1420755" y="893668"/>
                </a:lnTo>
                <a:cubicBezTo>
                  <a:pt x="1438755" y="893668"/>
                  <a:pt x="1453346" y="879077"/>
                  <a:pt x="1453346" y="861077"/>
                </a:cubicBezTo>
                <a:lnTo>
                  <a:pt x="1453346" y="141874"/>
                </a:lnTo>
                <a:cubicBezTo>
                  <a:pt x="1453346" y="123874"/>
                  <a:pt x="1438755" y="109283"/>
                  <a:pt x="1420755" y="109283"/>
                </a:cubicBezTo>
                <a:lnTo>
                  <a:pt x="163421" y="109283"/>
                </a:lnTo>
                <a:close/>
                <a:moveTo>
                  <a:pt x="175629" y="0"/>
                </a:moveTo>
                <a:lnTo>
                  <a:pt x="1408547" y="0"/>
                </a:lnTo>
                <a:cubicBezTo>
                  <a:pt x="1505544" y="0"/>
                  <a:pt x="1584176" y="78632"/>
                  <a:pt x="1584176" y="175629"/>
                </a:cubicBezTo>
                <a:lnTo>
                  <a:pt x="1584176" y="878123"/>
                </a:lnTo>
                <a:cubicBezTo>
                  <a:pt x="1584176" y="975120"/>
                  <a:pt x="1505544" y="1053752"/>
                  <a:pt x="1408547" y="1053752"/>
                </a:cubicBezTo>
                <a:lnTo>
                  <a:pt x="1008112" y="1053752"/>
                </a:lnTo>
                <a:lnTo>
                  <a:pt x="1008112" y="1105610"/>
                </a:lnTo>
                <a:lnTo>
                  <a:pt x="1185879" y="1105610"/>
                </a:lnTo>
                <a:lnTo>
                  <a:pt x="1185879" y="1195792"/>
                </a:lnTo>
                <a:lnTo>
                  <a:pt x="398297" y="1195792"/>
                </a:lnTo>
                <a:lnTo>
                  <a:pt x="398297" y="1105610"/>
                </a:lnTo>
                <a:lnTo>
                  <a:pt x="576064" y="1105610"/>
                </a:lnTo>
                <a:lnTo>
                  <a:pt x="576064" y="1053752"/>
                </a:lnTo>
                <a:lnTo>
                  <a:pt x="175629" y="1053752"/>
                </a:lnTo>
                <a:cubicBezTo>
                  <a:pt x="78632" y="1053752"/>
                  <a:pt x="0" y="975120"/>
                  <a:pt x="0" y="878123"/>
                </a:cubicBezTo>
                <a:lnTo>
                  <a:pt x="0" y="175629"/>
                </a:lnTo>
                <a:cubicBezTo>
                  <a:pt x="0" y="78632"/>
                  <a:pt x="78632" y="0"/>
                  <a:pt x="17562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Freeform 37"/>
          <p:cNvSpPr/>
          <p:nvPr/>
        </p:nvSpPr>
        <p:spPr>
          <a:xfrm>
            <a:off x="7593120" y="2243160"/>
            <a:ext cx="223560" cy="220680"/>
          </a:xfrm>
          <a:custGeom>
            <a:avLst/>
            <a:gdLst>
              <a:gd name="textAreaLeft" fmla="*/ 0 w 223560"/>
              <a:gd name="textAreaRight" fmla="*/ 223920 w 22356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" h="120">
                <a:moveTo>
                  <a:pt x="60" y="0"/>
                </a:moveTo>
                <a:cubicBezTo>
                  <a:pt x="27" y="0"/>
                  <a:pt x="0" y="27"/>
                  <a:pt x="0" y="60"/>
                </a:cubicBezTo>
                <a:cubicBezTo>
                  <a:pt x="0" y="93"/>
                  <a:pt x="27" y="120"/>
                  <a:pt x="60" y="120"/>
                </a:cubicBezTo>
                <a:cubicBezTo>
                  <a:pt x="93" y="120"/>
                  <a:pt x="120" y="93"/>
                  <a:pt x="120" y="60"/>
                </a:cubicBezTo>
                <a:cubicBezTo>
                  <a:pt x="120" y="27"/>
                  <a:pt x="93" y="0"/>
                  <a:pt x="60" y="0"/>
                </a:cubicBezTo>
                <a:close/>
                <a:moveTo>
                  <a:pt x="83" y="24"/>
                </a:moveTo>
                <a:cubicBezTo>
                  <a:pt x="87" y="21"/>
                  <a:pt x="87" y="21"/>
                  <a:pt x="87" y="21"/>
                </a:cubicBezTo>
                <a:cubicBezTo>
                  <a:pt x="87" y="21"/>
                  <a:pt x="85" y="17"/>
                  <a:pt x="86" y="14"/>
                </a:cubicBezTo>
                <a:cubicBezTo>
                  <a:pt x="87" y="14"/>
                  <a:pt x="91" y="16"/>
                  <a:pt x="94" y="20"/>
                </a:cubicBezTo>
                <a:cubicBezTo>
                  <a:pt x="92" y="29"/>
                  <a:pt x="86" y="28"/>
                  <a:pt x="86" y="28"/>
                </a:cubicBezTo>
                <a:cubicBezTo>
                  <a:pt x="86" y="28"/>
                  <a:pt x="82" y="28"/>
                  <a:pt x="83" y="24"/>
                </a:cubicBezTo>
                <a:close/>
                <a:moveTo>
                  <a:pt x="47" y="77"/>
                </a:moveTo>
                <a:cubicBezTo>
                  <a:pt x="46" y="78"/>
                  <a:pt x="45" y="81"/>
                  <a:pt x="44" y="84"/>
                </a:cubicBezTo>
                <a:cubicBezTo>
                  <a:pt x="43" y="86"/>
                  <a:pt x="42" y="87"/>
                  <a:pt x="41" y="88"/>
                </a:cubicBezTo>
                <a:cubicBezTo>
                  <a:pt x="39" y="89"/>
                  <a:pt x="39" y="91"/>
                  <a:pt x="39" y="91"/>
                </a:cubicBezTo>
                <a:cubicBezTo>
                  <a:pt x="38" y="95"/>
                  <a:pt x="38" y="95"/>
                  <a:pt x="38" y="95"/>
                </a:cubicBezTo>
                <a:cubicBezTo>
                  <a:pt x="38" y="95"/>
                  <a:pt x="39" y="99"/>
                  <a:pt x="40" y="100"/>
                </a:cubicBezTo>
                <a:cubicBezTo>
                  <a:pt x="40" y="102"/>
                  <a:pt x="37" y="110"/>
                  <a:pt x="37" y="110"/>
                </a:cubicBezTo>
                <a:cubicBezTo>
                  <a:pt x="34" y="109"/>
                  <a:pt x="33" y="106"/>
                  <a:pt x="32" y="104"/>
                </a:cubicBezTo>
                <a:cubicBezTo>
                  <a:pt x="32" y="102"/>
                  <a:pt x="30" y="101"/>
                  <a:pt x="31" y="99"/>
                </a:cubicBezTo>
                <a:cubicBezTo>
                  <a:pt x="31" y="96"/>
                  <a:pt x="29" y="95"/>
                  <a:pt x="28" y="94"/>
                </a:cubicBezTo>
                <a:cubicBezTo>
                  <a:pt x="27" y="92"/>
                  <a:pt x="26" y="90"/>
                  <a:pt x="26" y="89"/>
                </a:cubicBezTo>
                <a:cubicBezTo>
                  <a:pt x="26" y="88"/>
                  <a:pt x="23" y="86"/>
                  <a:pt x="23" y="86"/>
                </a:cubicBezTo>
                <a:cubicBezTo>
                  <a:pt x="23" y="86"/>
                  <a:pt x="18" y="83"/>
                  <a:pt x="17" y="82"/>
                </a:cubicBezTo>
                <a:cubicBezTo>
                  <a:pt x="16" y="81"/>
                  <a:pt x="15" y="77"/>
                  <a:pt x="15" y="75"/>
                </a:cubicBezTo>
                <a:cubicBezTo>
                  <a:pt x="15" y="73"/>
                  <a:pt x="16" y="68"/>
                  <a:pt x="16" y="68"/>
                </a:cubicBezTo>
                <a:cubicBezTo>
                  <a:pt x="16" y="68"/>
                  <a:pt x="18" y="66"/>
                  <a:pt x="17" y="65"/>
                </a:cubicBezTo>
                <a:cubicBezTo>
                  <a:pt x="15" y="64"/>
                  <a:pt x="15" y="60"/>
                  <a:pt x="15" y="60"/>
                </a:cubicBezTo>
                <a:cubicBezTo>
                  <a:pt x="13" y="58"/>
                  <a:pt x="13" y="58"/>
                  <a:pt x="13" y="58"/>
                </a:cubicBezTo>
                <a:cubicBezTo>
                  <a:pt x="13" y="58"/>
                  <a:pt x="11" y="55"/>
                  <a:pt x="10" y="54"/>
                </a:cubicBezTo>
                <a:cubicBezTo>
                  <a:pt x="10" y="52"/>
                  <a:pt x="10" y="51"/>
                  <a:pt x="11" y="50"/>
                </a:cubicBezTo>
                <a:cubicBezTo>
                  <a:pt x="11" y="49"/>
                  <a:pt x="10" y="46"/>
                  <a:pt x="10" y="45"/>
                </a:cubicBezTo>
                <a:cubicBezTo>
                  <a:pt x="20" y="20"/>
                  <a:pt x="37" y="15"/>
                  <a:pt x="37" y="15"/>
                </a:cubicBez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35" y="21"/>
                  <a:pt x="34" y="21"/>
                </a:cubicBezTo>
                <a:cubicBezTo>
                  <a:pt x="32" y="20"/>
                  <a:pt x="31" y="20"/>
                  <a:pt x="31" y="20"/>
                </a:cubicBezTo>
                <a:cubicBezTo>
                  <a:pt x="29" y="23"/>
                  <a:pt x="29" y="23"/>
                  <a:pt x="29" y="23"/>
                </a:cubicBezTo>
                <a:cubicBezTo>
                  <a:pt x="29" y="23"/>
                  <a:pt x="28" y="25"/>
                  <a:pt x="28" y="26"/>
                </a:cubicBezTo>
                <a:cubicBezTo>
                  <a:pt x="28" y="27"/>
                  <a:pt x="29" y="29"/>
                  <a:pt x="29" y="29"/>
                </a:cubicBezTo>
                <a:cubicBezTo>
                  <a:pt x="29" y="29"/>
                  <a:pt x="32" y="29"/>
                  <a:pt x="32" y="28"/>
                </a:cubicBezTo>
                <a:cubicBezTo>
                  <a:pt x="32" y="27"/>
                  <a:pt x="32" y="26"/>
                  <a:pt x="32" y="26"/>
                </a:cubicBezTo>
                <a:cubicBezTo>
                  <a:pt x="31" y="24"/>
                  <a:pt x="31" y="24"/>
                  <a:pt x="31" y="24"/>
                </a:cubicBezTo>
                <a:cubicBezTo>
                  <a:pt x="31" y="24"/>
                  <a:pt x="34" y="23"/>
                  <a:pt x="40" y="24"/>
                </a:cubicBezTo>
                <a:cubicBezTo>
                  <a:pt x="47" y="24"/>
                  <a:pt x="44" y="29"/>
                  <a:pt x="47" y="30"/>
                </a:cubicBezTo>
                <a:cubicBezTo>
                  <a:pt x="50" y="31"/>
                  <a:pt x="45" y="35"/>
                  <a:pt x="44" y="37"/>
                </a:cubicBezTo>
                <a:cubicBezTo>
                  <a:pt x="43" y="39"/>
                  <a:pt x="41" y="34"/>
                  <a:pt x="41" y="34"/>
                </a:cubicBezTo>
                <a:cubicBezTo>
                  <a:pt x="41" y="34"/>
                  <a:pt x="43" y="32"/>
                  <a:pt x="40" y="32"/>
                </a:cubicBezTo>
                <a:cubicBezTo>
                  <a:pt x="37" y="31"/>
                  <a:pt x="35" y="36"/>
                  <a:pt x="37" y="36"/>
                </a:cubicBezTo>
                <a:cubicBezTo>
                  <a:pt x="38" y="36"/>
                  <a:pt x="40" y="38"/>
                  <a:pt x="39" y="39"/>
                </a:cubicBezTo>
                <a:cubicBezTo>
                  <a:pt x="39" y="40"/>
                  <a:pt x="39" y="40"/>
                  <a:pt x="38" y="43"/>
                </a:cubicBezTo>
                <a:cubicBezTo>
                  <a:pt x="36" y="46"/>
                  <a:pt x="34" y="48"/>
                  <a:pt x="34" y="48"/>
                </a:cubicBezTo>
                <a:cubicBezTo>
                  <a:pt x="34" y="48"/>
                  <a:pt x="32" y="47"/>
                  <a:pt x="33" y="49"/>
                </a:cubicBezTo>
                <a:cubicBezTo>
                  <a:pt x="34" y="51"/>
                  <a:pt x="33" y="54"/>
                  <a:pt x="33" y="55"/>
                </a:cubicBezTo>
                <a:cubicBezTo>
                  <a:pt x="33" y="57"/>
                  <a:pt x="29" y="54"/>
                  <a:pt x="29" y="51"/>
                </a:cubicBezTo>
                <a:cubicBezTo>
                  <a:pt x="28" y="48"/>
                  <a:pt x="25" y="51"/>
                  <a:pt x="24" y="51"/>
                </a:cubicBezTo>
                <a:cubicBezTo>
                  <a:pt x="23" y="51"/>
                  <a:pt x="21" y="50"/>
                  <a:pt x="21" y="49"/>
                </a:cubicBezTo>
                <a:cubicBezTo>
                  <a:pt x="20" y="48"/>
                  <a:pt x="15" y="52"/>
                  <a:pt x="14" y="52"/>
                </a:cubicBezTo>
                <a:cubicBezTo>
                  <a:pt x="13" y="53"/>
                  <a:pt x="13" y="55"/>
                  <a:pt x="15" y="54"/>
                </a:cubicBezTo>
                <a:cubicBezTo>
                  <a:pt x="17" y="53"/>
                  <a:pt x="19" y="54"/>
                  <a:pt x="19" y="56"/>
                </a:cubicBezTo>
                <a:cubicBezTo>
                  <a:pt x="18" y="58"/>
                  <a:pt x="16" y="57"/>
                  <a:pt x="16" y="58"/>
                </a:cubicBezTo>
                <a:cubicBezTo>
                  <a:pt x="17" y="60"/>
                  <a:pt x="19" y="61"/>
                  <a:pt x="19" y="63"/>
                </a:cubicBezTo>
                <a:cubicBezTo>
                  <a:pt x="20" y="65"/>
                  <a:pt x="25" y="63"/>
                  <a:pt x="27" y="62"/>
                </a:cubicBezTo>
                <a:cubicBezTo>
                  <a:pt x="28" y="62"/>
                  <a:pt x="33" y="61"/>
                  <a:pt x="33" y="63"/>
                </a:cubicBezTo>
                <a:cubicBezTo>
                  <a:pt x="34" y="65"/>
                  <a:pt x="39" y="66"/>
                  <a:pt x="41" y="66"/>
                </a:cubicBezTo>
                <a:cubicBezTo>
                  <a:pt x="43" y="67"/>
                  <a:pt x="46" y="67"/>
                  <a:pt x="49" y="69"/>
                </a:cubicBezTo>
                <a:cubicBezTo>
                  <a:pt x="51" y="72"/>
                  <a:pt x="47" y="76"/>
                  <a:pt x="47" y="77"/>
                </a:cubicBezTo>
                <a:close/>
                <a:moveTo>
                  <a:pt x="59" y="14"/>
                </a:moveTo>
                <a:cubicBezTo>
                  <a:pt x="58" y="17"/>
                  <a:pt x="54" y="20"/>
                  <a:pt x="55" y="21"/>
                </a:cubicBezTo>
                <a:cubicBezTo>
                  <a:pt x="55" y="22"/>
                  <a:pt x="55" y="27"/>
                  <a:pt x="51" y="23"/>
                </a:cubicBezTo>
                <a:cubicBezTo>
                  <a:pt x="47" y="19"/>
                  <a:pt x="43" y="18"/>
                  <a:pt x="44" y="15"/>
                </a:cubicBezTo>
                <a:cubicBezTo>
                  <a:pt x="44" y="14"/>
                  <a:pt x="48" y="14"/>
                  <a:pt x="48" y="13"/>
                </a:cubicBezTo>
                <a:cubicBezTo>
                  <a:pt x="53" y="7"/>
                  <a:pt x="62" y="8"/>
                  <a:pt x="63" y="10"/>
                </a:cubicBezTo>
                <a:cubicBezTo>
                  <a:pt x="61" y="12"/>
                  <a:pt x="59" y="11"/>
                  <a:pt x="59" y="14"/>
                </a:cubicBezTo>
                <a:close/>
                <a:moveTo>
                  <a:pt x="107" y="62"/>
                </a:moveTo>
                <a:cubicBezTo>
                  <a:pt x="107" y="62"/>
                  <a:pt x="109" y="65"/>
                  <a:pt x="112" y="65"/>
                </a:cubicBezTo>
                <a:cubicBezTo>
                  <a:pt x="110" y="87"/>
                  <a:pt x="92" y="102"/>
                  <a:pt x="92" y="102"/>
                </a:cubicBezTo>
                <a:cubicBezTo>
                  <a:pt x="89" y="99"/>
                  <a:pt x="90" y="96"/>
                  <a:pt x="90" y="96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85"/>
                  <a:pt x="91" y="85"/>
                  <a:pt x="91" y="85"/>
                </a:cubicBezTo>
                <a:cubicBezTo>
                  <a:pt x="91" y="85"/>
                  <a:pt x="91" y="77"/>
                  <a:pt x="84" y="81"/>
                </a:cubicBezTo>
                <a:cubicBezTo>
                  <a:pt x="77" y="83"/>
                  <a:pt x="80" y="83"/>
                  <a:pt x="72" y="83"/>
                </a:cubicBezTo>
                <a:cubicBezTo>
                  <a:pt x="64" y="84"/>
                  <a:pt x="66" y="67"/>
                  <a:pt x="66" y="67"/>
                </a:cubicBezTo>
                <a:cubicBezTo>
                  <a:pt x="66" y="43"/>
                  <a:pt x="84" y="61"/>
                  <a:pt x="84" y="61"/>
                </a:cubicBezTo>
                <a:cubicBezTo>
                  <a:pt x="95" y="69"/>
                  <a:pt x="97" y="56"/>
                  <a:pt x="97" y="56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104" y="44"/>
                  <a:pt x="104" y="44"/>
                  <a:pt x="104" y="44"/>
                </a:cubicBezTo>
                <a:cubicBezTo>
                  <a:pt x="93" y="39"/>
                  <a:pt x="93" y="39"/>
                  <a:pt x="93" y="39"/>
                </a:cubicBezTo>
                <a:cubicBezTo>
                  <a:pt x="93" y="39"/>
                  <a:pt x="91" y="43"/>
                  <a:pt x="94" y="48"/>
                </a:cubicBezTo>
                <a:cubicBezTo>
                  <a:pt x="94" y="48"/>
                  <a:pt x="93" y="53"/>
                  <a:pt x="91" y="52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2" y="47"/>
                  <a:pt x="79" y="49"/>
                </a:cubicBezTo>
                <a:cubicBezTo>
                  <a:pt x="75" y="52"/>
                  <a:pt x="69" y="49"/>
                  <a:pt x="69" y="49"/>
                </a:cubicBezTo>
                <a:cubicBezTo>
                  <a:pt x="69" y="49"/>
                  <a:pt x="69" y="46"/>
                  <a:pt x="73" y="44"/>
                </a:cubicBezTo>
                <a:cubicBezTo>
                  <a:pt x="76" y="42"/>
                  <a:pt x="76" y="42"/>
                  <a:pt x="76" y="42"/>
                </a:cubicBezTo>
                <a:cubicBezTo>
                  <a:pt x="76" y="42"/>
                  <a:pt x="75" y="38"/>
                  <a:pt x="76" y="35"/>
                </a:cubicBezTo>
                <a:cubicBezTo>
                  <a:pt x="77" y="32"/>
                  <a:pt x="78" y="35"/>
                  <a:pt x="81" y="33"/>
                </a:cubicBezTo>
                <a:cubicBezTo>
                  <a:pt x="84" y="31"/>
                  <a:pt x="86" y="37"/>
                  <a:pt x="90" y="36"/>
                </a:cubicBezTo>
                <a:cubicBezTo>
                  <a:pt x="94" y="36"/>
                  <a:pt x="92" y="35"/>
                  <a:pt x="95" y="33"/>
                </a:cubicBezTo>
                <a:cubicBezTo>
                  <a:pt x="98" y="32"/>
                  <a:pt x="100" y="36"/>
                  <a:pt x="100" y="36"/>
                </a:cubicBezTo>
                <a:cubicBezTo>
                  <a:pt x="106" y="37"/>
                  <a:pt x="106" y="37"/>
                  <a:pt x="106" y="37"/>
                </a:cubicBezTo>
                <a:cubicBezTo>
                  <a:pt x="106" y="37"/>
                  <a:pt x="105" y="30"/>
                  <a:pt x="105" y="32"/>
                </a:cubicBezTo>
                <a:cubicBezTo>
                  <a:pt x="109" y="38"/>
                  <a:pt x="114" y="55"/>
                  <a:pt x="112" y="58"/>
                </a:cubicBezTo>
                <a:cubicBezTo>
                  <a:pt x="111" y="57"/>
                  <a:pt x="110" y="57"/>
                  <a:pt x="110" y="57"/>
                </a:cubicBezTo>
                <a:cubicBezTo>
                  <a:pt x="103" y="57"/>
                  <a:pt x="103" y="57"/>
                  <a:pt x="103" y="57"/>
                </a:cubicBezTo>
                <a:lnTo>
                  <a:pt x="107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0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3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87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17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6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6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1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7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3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49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07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9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1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5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3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5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2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5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6T06:14:00Z</dcterms:created>
  <dc:creator>深夜列车</dc:creator>
  <dc:description/>
  <cp:keywords/>
  <dc:language>en-US</dc:language>
  <cp:lastModifiedBy>Administrator</cp:lastModifiedBy>
  <dcterms:modified xsi:type="dcterms:W3CDTF">2018-07-23T08:38:25Z</dcterms:modified>
  <cp:revision>77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