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10F-673D-4E0C-9DE3-787A2D27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78C-5A98-44EE-B359-1078E039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DF2-B270-4893-B49E-E76BC97D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8D4-54E8-4DA8-94DC-0F4AA0A8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CE4-D084-4DAF-B45B-29C7D8B5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6FB-044A-4424-B57D-21C42E1D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D47-F3CC-4D8C-9B81-84F2FB3D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0F9-8F35-46EC-8F4A-3CB0DAB8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161-5345-46F4-B934-68B9AD02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739-369B-4E75-A19E-52950A48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EA3-7CCA-4C5A-9161-07204CF9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B79-1A95-4DB8-A063-3EA280D1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5F17-B94F-474B-92D7-DC7305F29B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等腰三角形 8"/>
          <p:cNvSpPr/>
          <p:nvPr/>
        </p:nvSpPr>
        <p:spPr>
          <a:xfrm rot="16200000">
            <a:off x="3423240" y="3683160"/>
            <a:ext cx="83988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3"/>
          <p:cNvSpPr/>
          <p:nvPr/>
        </p:nvSpPr>
        <p:spPr>
          <a:xfrm rot="10800000">
            <a:off x="1351080" y="2059920"/>
            <a:ext cx="30715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271520" y="2467080"/>
            <a:ext cx="3672000" cy="1312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POWERPOINT</a:t>
            </a:r>
            <a:r>
              <a:rPr b="1" lang="zh-CN" sz="4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515880" y="5322960"/>
            <a:ext cx="51847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095640" y="4513320"/>
            <a:ext cx="1006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6089760" y="2133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1865160" y="2301840"/>
            <a:ext cx="36036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"/>
          <p:cNvSpPr/>
          <p:nvPr/>
        </p:nvSpPr>
        <p:spPr>
          <a:xfrm>
            <a:off x="1631880" y="4778280"/>
            <a:ext cx="345600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6"/>
          <p:cNvSpPr/>
          <p:nvPr/>
        </p:nvSpPr>
        <p:spPr>
          <a:xfrm>
            <a:off x="2960640" y="2921040"/>
            <a:ext cx="327240" cy="185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7"/>
          <p:cNvSpPr/>
          <p:nvPr/>
        </p:nvSpPr>
        <p:spPr>
          <a:xfrm>
            <a:off x="3852720" y="3525840"/>
            <a:ext cx="298440" cy="123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871640" y="484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2961720" y="480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9"/>
          <p:cNvSpPr/>
          <p:nvPr/>
        </p:nvSpPr>
        <p:spPr>
          <a:xfrm>
            <a:off x="3866760" y="481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8"/>
          <p:cNvSpPr/>
          <p:nvPr/>
        </p:nvSpPr>
        <p:spPr>
          <a:xfrm>
            <a:off x="6089760" y="2060640"/>
            <a:ext cx="6102360" cy="338616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6288120" y="2354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"/>
          <p:cNvPicPr/>
          <p:nvPr/>
        </p:nvPicPr>
        <p:blipFill>
          <a:blip r:embed="rId1"/>
          <a:stretch/>
        </p:blipFill>
        <p:spPr>
          <a:xfrm>
            <a:off x="20520" y="2060640"/>
            <a:ext cx="60692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766800" y="3429000"/>
            <a:ext cx="511344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"/>
              </a:rPr>
              <a:t>THANK YOU</a:t>
            </a: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5680" y="5153040"/>
            <a:ext cx="5183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982800" y="4444920"/>
            <a:ext cx="1008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星空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1197000"/>
            <a:ext cx="1077588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0"/>
          <p:cNvSpPr/>
          <p:nvPr/>
        </p:nvSpPr>
        <p:spPr>
          <a:xfrm rot="16200000">
            <a:off x="174708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1"/>
          <p:cNvSpPr/>
          <p:nvPr/>
        </p:nvSpPr>
        <p:spPr>
          <a:xfrm rot="10800000">
            <a:off x="880560" y="619920"/>
            <a:ext cx="135756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79520" y="94464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303880" y="23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5303880" y="475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19"/>
          <p:cNvSpPr/>
          <p:nvPr/>
        </p:nvSpPr>
        <p:spPr>
          <a:xfrm rot="16200000">
            <a:off x="4896720" y="33469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20"/>
          <p:cNvSpPr/>
          <p:nvPr/>
        </p:nvSpPr>
        <p:spPr>
          <a:xfrm rot="16200000">
            <a:off x="4896720" y="25387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1"/>
          <p:cNvSpPr/>
          <p:nvPr/>
        </p:nvSpPr>
        <p:spPr>
          <a:xfrm rot="16200000">
            <a:off x="4872600" y="415332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2"/>
          <p:cNvSpPr/>
          <p:nvPr/>
        </p:nvSpPr>
        <p:spPr>
          <a:xfrm rot="16200000">
            <a:off x="4896720" y="490248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蓝色地球"/>
          <p:cNvPicPr/>
          <p:nvPr/>
        </p:nvPicPr>
        <p:blipFill>
          <a:blip r:embed="rId1"/>
          <a:stretch/>
        </p:blipFill>
        <p:spPr>
          <a:xfrm>
            <a:off x="4680" y="-4680"/>
            <a:ext cx="1220004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3"/>
          <p:cNvSpPr/>
          <p:nvPr/>
        </p:nvSpPr>
        <p:spPr>
          <a:xfrm>
            <a:off x="22320" y="-4680"/>
            <a:ext cx="12182400" cy="686268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lnTo>
                  <a:pt x="583791" y="1043690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lnTo>
                  <a:pt x="7658981" y="0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3"/>
          <p:cNvSpPr/>
          <p:nvPr/>
        </p:nvSpPr>
        <p:spPr>
          <a:xfrm rot="14109000">
            <a:off x="2715120" y="-2291760"/>
            <a:ext cx="1087560" cy="8531280"/>
          </a:xfrm>
          <a:custGeom>
            <a:avLst/>
            <a:gdLst/>
            <a:ahLst/>
            <a:rect l="l" t="t" r="r" b="b"/>
            <a:pathLst>
              <a:path w="1087319" h="8531283">
                <a:moveTo>
                  <a:pt x="0" y="8531283"/>
                </a:moveTo>
                <a:lnTo>
                  <a:pt x="176672" y="0"/>
                </a:lnTo>
                <a:lnTo>
                  <a:pt x="1087319" y="645604"/>
                </a:lnTo>
                <a:lnTo>
                  <a:pt x="869261" y="7345081"/>
                </a:lnTo>
                <a:lnTo>
                  <a:pt x="0" y="8531283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4656240" y="5967360"/>
            <a:ext cx="733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105960" y="209232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4079880" y="2876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4079880" y="4167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54000" y="223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1060560" y="342108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789600" y="2282760"/>
            <a:ext cx="540252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613600" y="31417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403360" y="220176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9240" y="446724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2305080" y="4844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7323480" y="434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061040" y="4813200"/>
            <a:ext cx="35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2320920" y="1969920"/>
            <a:ext cx="3733920" cy="191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2230560" y="4368960"/>
            <a:ext cx="3824280" cy="164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"/>
          <p:cNvSpPr/>
          <p:nvPr/>
        </p:nvSpPr>
        <p:spPr>
          <a:xfrm>
            <a:off x="7418880" y="317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4"/>
          <p:cNvSpPr/>
          <p:nvPr/>
        </p:nvSpPr>
        <p:spPr>
          <a:xfrm>
            <a:off x="7121520" y="20160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38"/>
          <p:cNvSpPr/>
          <p:nvPr/>
        </p:nvSpPr>
        <p:spPr>
          <a:xfrm rot="7070400">
            <a:off x="3988440" y="371556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1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2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6"/>
          <p:cNvSpPr/>
          <p:nvPr/>
        </p:nvSpPr>
        <p:spPr>
          <a:xfrm rot="7070400">
            <a:off x="8685720" y="377424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9"/>
          <p:cNvSpPr/>
          <p:nvPr/>
        </p:nvSpPr>
        <p:spPr>
          <a:xfrm rot="7070400">
            <a:off x="8694720" y="586944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30"/>
          <p:cNvSpPr/>
          <p:nvPr/>
        </p:nvSpPr>
        <p:spPr>
          <a:xfrm rot="7070400">
            <a:off x="3981960" y="58698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5"/>
          <p:cNvSpPr/>
          <p:nvPr/>
        </p:nvSpPr>
        <p:spPr>
          <a:xfrm>
            <a:off x="685800" y="5877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35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3" h="1452562">
                <a:moveTo>
                  <a:pt x="1450217" y="667947"/>
                </a:moveTo>
                <a:cubicBezTo>
                  <a:pt x="1482424" y="1067644"/>
                  <a:pt x="1184609" y="1417812"/>
                  <a:pt x="784925" y="1450190"/>
                </a:cubicBezTo>
                <a:cubicBezTo>
                  <a:pt x="385241" y="1482568"/>
                  <a:pt x="34945" y="1184903"/>
                  <a:pt x="2396" y="785234"/>
                </a:cubicBezTo>
                <a:cubicBezTo>
                  <a:pt x="-30153" y="385565"/>
                  <a:pt x="267362" y="35142"/>
                  <a:pt x="667018" y="2422"/>
                </a:cubicBezTo>
                <a:cubicBezTo>
                  <a:pt x="1066674" y="-30298"/>
                  <a:pt x="1417224" y="267067"/>
                  <a:pt x="1450116" y="666708"/>
                </a:cubicBezTo>
                <a:lnTo>
                  <a:pt x="1381670" y="672341"/>
                </a:lnTo>
                <a:cubicBezTo>
                  <a:pt x="1351889" y="310490"/>
                  <a:pt x="1034487" y="41243"/>
                  <a:pt x="672623" y="70870"/>
                </a:cubicBezTo>
                <a:cubicBezTo>
                  <a:pt x="310759" y="100496"/>
                  <a:pt x="41377" y="417783"/>
                  <a:pt x="70848" y="779660"/>
                </a:cubicBezTo>
                <a:cubicBezTo>
                  <a:pt x="100319" y="1141537"/>
                  <a:pt x="417491" y="1411055"/>
                  <a:pt x="779380" y="1381738"/>
                </a:cubicBezTo>
                <a:cubicBezTo>
                  <a:pt x="1141269" y="1352422"/>
                  <a:pt x="1410923" y="1035365"/>
                  <a:pt x="1381761" y="673464"/>
                </a:cubicBezTo>
                <a:lnTo>
                  <a:pt x="1450217" y="667947"/>
                </a:ln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36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3" h="1452562">
                <a:moveTo>
                  <a:pt x="357" y="703519"/>
                </a:moveTo>
                <a:cubicBezTo>
                  <a:pt x="12806" y="306487"/>
                  <a:pt x="341915" y="-6887"/>
                  <a:pt x="739081" y="113"/>
                </a:cubicBezTo>
                <a:cubicBezTo>
                  <a:pt x="1136247" y="7113"/>
                  <a:pt x="1454108" y="331890"/>
                  <a:pt x="1452559" y="729115"/>
                </a:cubicBezTo>
                <a:lnTo>
                  <a:pt x="1381673" y="728838"/>
                </a:lnTo>
                <a:cubicBezTo>
                  <a:pt x="1383071" y="370383"/>
                  <a:pt x="1096234" y="77304"/>
                  <a:pt x="737832" y="70987"/>
                </a:cubicBezTo>
                <a:cubicBezTo>
                  <a:pt x="379430" y="64670"/>
                  <a:pt x="82443" y="347459"/>
                  <a:pt x="71208" y="705741"/>
                </a:cubicBezTo>
                <a:lnTo>
                  <a:pt x="357" y="703519"/>
                </a:ln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2544840" y="232560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空心弧 44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1450210" y="667154"/>
                </a:moveTo>
                <a:cubicBezTo>
                  <a:pt x="1482456" y="1066461"/>
                  <a:pt x="1184596" y="1416300"/>
                  <a:pt x="784860" y="1448611"/>
                </a:cubicBezTo>
                <a:cubicBezTo>
                  <a:pt x="385224" y="1480915"/>
                  <a:pt x="34981" y="1183620"/>
                  <a:pt x="2401" y="784439"/>
                </a:cubicBezTo>
                <a:cubicBezTo>
                  <a:pt x="-30188" y="385159"/>
                  <a:pt x="267373" y="35065"/>
                  <a:pt x="667081" y="2412"/>
                </a:cubicBezTo>
                <a:cubicBezTo>
                  <a:pt x="1066689" y="-30233"/>
                  <a:pt x="1417185" y="266762"/>
                  <a:pt x="1450108" y="665914"/>
                </a:cubicBezTo>
                <a:lnTo>
                  <a:pt x="1381738" y="671542"/>
                </a:lnTo>
                <a:cubicBezTo>
                  <a:pt x="1351922" y="310140"/>
                  <a:pt x="1034537" y="41233"/>
                  <a:pt x="672679" y="70788"/>
                </a:cubicBezTo>
                <a:cubicBezTo>
                  <a:pt x="310721" y="100350"/>
                  <a:pt x="41262" y="417344"/>
                  <a:pt x="70776" y="778872"/>
                </a:cubicBezTo>
                <a:cubicBezTo>
                  <a:pt x="100282" y="1140300"/>
                  <a:pt x="417437" y="1409478"/>
                  <a:pt x="779320" y="1380233"/>
                </a:cubicBezTo>
                <a:cubicBezTo>
                  <a:pt x="1141303" y="1350980"/>
                  <a:pt x="1411033" y="1034217"/>
                  <a:pt x="1381829" y="672665"/>
                </a:cubicBezTo>
                <a:lnTo>
                  <a:pt x="1450210" y="667154"/>
                </a:ln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45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699946" y="1450498"/>
                </a:moveTo>
                <a:cubicBezTo>
                  <a:pt x="302135" y="1436080"/>
                  <a:pt x="-9926" y="1104473"/>
                  <a:pt x="237" y="706965"/>
                </a:cubicBezTo>
                <a:cubicBezTo>
                  <a:pt x="10399" y="309488"/>
                  <a:pt x="338950" y="-5762"/>
                  <a:pt x="736948" y="78"/>
                </a:cubicBezTo>
                <a:cubicBezTo>
                  <a:pt x="1134964" y="5918"/>
                  <a:pt x="1454111" y="330699"/>
                  <a:pt x="1452557" y="728321"/>
                </a:cubicBezTo>
                <a:lnTo>
                  <a:pt x="1381749" y="728045"/>
                </a:lnTo>
                <a:cubicBezTo>
                  <a:pt x="1383152" y="369231"/>
                  <a:pt x="1095119" y="76148"/>
                  <a:pt x="735907" y="70879"/>
                </a:cubicBezTo>
                <a:cubicBezTo>
                  <a:pt x="376712" y="65610"/>
                  <a:pt x="80195" y="350090"/>
                  <a:pt x="71022" y="708772"/>
                </a:cubicBezTo>
                <a:cubicBezTo>
                  <a:pt x="61849" y="1067485"/>
                  <a:pt x="343488" y="1366728"/>
                  <a:pt x="702516" y="1379738"/>
                </a:cubicBezTo>
                <a:cubicBezTo>
                  <a:pt x="701659" y="1403325"/>
                  <a:pt x="700803" y="1426911"/>
                  <a:pt x="699946" y="1450498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"/>
          <p:cNvSpPr/>
          <p:nvPr/>
        </p:nvSpPr>
        <p:spPr>
          <a:xfrm>
            <a:off x="5497560" y="243216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47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82423" y="1067644"/>
                  <a:pt x="1184608" y="1417812"/>
                  <a:pt x="784925" y="1450190"/>
                </a:cubicBezTo>
                <a:cubicBezTo>
                  <a:pt x="385242" y="1482568"/>
                  <a:pt x="34946" y="1184903"/>
                  <a:pt x="2397" y="785233"/>
                </a:cubicBezTo>
                <a:cubicBezTo>
                  <a:pt x="-30152" y="385564"/>
                  <a:pt x="267363" y="35141"/>
                  <a:pt x="667018" y="2421"/>
                </a:cubicBezTo>
                <a:cubicBezTo>
                  <a:pt x="1066673" y="-30299"/>
                  <a:pt x="1417224" y="267066"/>
                  <a:pt x="1450115" y="666707"/>
                </a:cubicBezTo>
                <a:lnTo>
                  <a:pt x="1381669" y="672341"/>
                </a:lnTo>
                <a:cubicBezTo>
                  <a:pt x="1351888" y="310490"/>
                  <a:pt x="1034486" y="41243"/>
                  <a:pt x="672622" y="70870"/>
                </a:cubicBezTo>
                <a:cubicBezTo>
                  <a:pt x="310758" y="100496"/>
                  <a:pt x="41376" y="417783"/>
                  <a:pt x="70847" y="779660"/>
                </a:cubicBezTo>
                <a:cubicBezTo>
                  <a:pt x="100318" y="1141537"/>
                  <a:pt x="417490" y="1411055"/>
                  <a:pt x="779379" y="1381738"/>
                </a:cubicBezTo>
                <a:cubicBezTo>
                  <a:pt x="1141268" y="1352422"/>
                  <a:pt x="1410922" y="1035365"/>
                  <a:pt x="1381760" y="673464"/>
                </a:cubicBezTo>
                <a:lnTo>
                  <a:pt x="1450216" y="667947"/>
                </a:ln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8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44443" y="834576"/>
                </a:moveTo>
                <a:cubicBezTo>
                  <a:pt x="1386169" y="1221024"/>
                  <a:pt x="1032538" y="1492068"/>
                  <a:pt x="644223" y="1447912"/>
                </a:cubicBezTo>
                <a:cubicBezTo>
                  <a:pt x="255909" y="1403756"/>
                  <a:pt x="-27839" y="1060235"/>
                  <a:pt x="2140" y="670569"/>
                </a:cubicBezTo>
                <a:cubicBezTo>
                  <a:pt x="32119" y="280904"/>
                  <a:pt x="365075" y="-15171"/>
                  <a:pt x="755573" y="591"/>
                </a:cubicBezTo>
                <a:cubicBezTo>
                  <a:pt x="1146072" y="16353"/>
                  <a:pt x="1454081" y="338301"/>
                  <a:pt x="1452556" y="729114"/>
                </a:cubicBezTo>
                <a:lnTo>
                  <a:pt x="1381672" y="728838"/>
                </a:lnTo>
                <a:cubicBezTo>
                  <a:pt x="1383048" y="376168"/>
                  <a:pt x="1105100" y="85642"/>
                  <a:pt x="752714" y="71418"/>
                </a:cubicBezTo>
                <a:cubicBezTo>
                  <a:pt x="400328" y="57194"/>
                  <a:pt x="99869" y="324373"/>
                  <a:pt x="72816" y="676006"/>
                </a:cubicBezTo>
                <a:cubicBezTo>
                  <a:pt x="45763" y="1027640"/>
                  <a:pt x="301817" y="1337634"/>
                  <a:pt x="652232" y="1377480"/>
                </a:cubicBezTo>
                <a:cubicBezTo>
                  <a:pt x="1002647" y="1417326"/>
                  <a:pt x="1321764" y="1172736"/>
                  <a:pt x="1374350" y="824006"/>
                </a:cubicBezTo>
                <a:lnTo>
                  <a:pt x="1444443" y="834576"/>
                </a:ln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9"/>
          <p:cNvSpPr/>
          <p:nvPr/>
        </p:nvSpPr>
        <p:spPr>
          <a:xfrm>
            <a:off x="8312040" y="2444760"/>
            <a:ext cx="1389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17800" y="372276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084400" y="4137120"/>
            <a:ext cx="24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973760" y="3759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5049720" y="4210200"/>
            <a:ext cx="24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240" y="3736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8055000" y="4210200"/>
            <a:ext cx="24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33"/>
          <p:cNvSpPr/>
          <p:nvPr/>
        </p:nvSpPr>
        <p:spPr>
          <a:xfrm>
            <a:off x="5514840" y="2492280"/>
            <a:ext cx="1162080" cy="11638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6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287880" y="5229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2233440" y="41083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7680240" y="2482920"/>
            <a:ext cx="116208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组 4" descr=""/>
          <p:cNvPicPr/>
          <p:nvPr/>
        </p:nvPicPr>
        <p:blipFill>
          <a:blip r:embed="rId1"/>
          <a:stretch/>
        </p:blipFill>
        <p:spPr>
          <a:xfrm>
            <a:off x="3517920" y="2530440"/>
            <a:ext cx="828720" cy="9986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28" descr=""/>
          <p:cNvPicPr/>
          <p:nvPr/>
        </p:nvPicPr>
        <p:blipFill>
          <a:blip r:embed="rId2"/>
          <a:stretch/>
        </p:blipFill>
        <p:spPr>
          <a:xfrm>
            <a:off x="5681520" y="2664000"/>
            <a:ext cx="822600" cy="7984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183"/>
          <p:cNvSpPr/>
          <p:nvPr/>
        </p:nvSpPr>
        <p:spPr>
          <a:xfrm>
            <a:off x="8001000" y="2685960"/>
            <a:ext cx="74628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43Z</dcterms:created>
  <dc:creator>Administrator</dc:creator>
  <dc:description/>
  <dc:language>en-US</dc:language>
  <cp:lastModifiedBy>admin</cp:lastModifiedBy>
  <dcterms:modified xsi:type="dcterms:W3CDTF">2017-05-29T10:27:0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