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972343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5E47-3BDC-447F-AE61-44CD6F4FC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23880" y="3552840"/>
            <a:ext cx="809136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3880" y="5187600"/>
            <a:ext cx="809136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FECE-5871-4026-8DC4-E76CDCB9F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3880" y="355284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70000" y="355284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3880" y="518760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70000" y="518760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B029-7EAA-4EA3-B47F-968217945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23880" y="3552840"/>
            <a:ext cx="260532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59880" y="3552840"/>
            <a:ext cx="260532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5880" y="3552840"/>
            <a:ext cx="260532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23880" y="5187600"/>
            <a:ext cx="260532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59880" y="5187600"/>
            <a:ext cx="260532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95880" y="5187600"/>
            <a:ext cx="260532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210E-7E68-484F-AD7E-8E761D3F0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55670-09FB-4788-8ADB-2EC47467B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23880" y="3552840"/>
            <a:ext cx="8091360" cy="31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552F1-594B-4CB7-B8A2-AD7DA835E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3880" y="3552840"/>
            <a:ext cx="809136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FCF4F-F288-4288-8311-580857942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23880" y="3552840"/>
            <a:ext cx="394848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70000" y="3552840"/>
            <a:ext cx="394848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F4B43-B0B3-4F37-8A46-728CDFE32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0EE2C-9AD6-4710-A68D-71E9C1777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77680" y="2433600"/>
            <a:ext cx="663876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6107D-A502-4CAA-A712-0B7CE4E38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3880" y="355284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70000" y="3552840"/>
            <a:ext cx="394848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880" y="518760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61F1E-03DA-485C-8E0C-3A60348B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23880" y="3552840"/>
            <a:ext cx="8091360" cy="31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2F1D-FB10-4917-970E-EF09347BA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3880" y="3552840"/>
            <a:ext cx="394848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70000" y="355284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70000" y="518760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7EDA2-147A-4B24-AA19-382510C7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3880" y="355284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70000" y="355284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3880" y="5187600"/>
            <a:ext cx="809136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AF1E6-1428-4C4A-BC24-A665A7F1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3880" y="3552840"/>
            <a:ext cx="809136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3880" y="5187600"/>
            <a:ext cx="809136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3875F-B7E1-4EF4-8E04-77178D8B2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3880" y="355284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70000" y="355284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3880" y="518760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70000" y="518760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5ADCC-8E69-41B6-B017-6AE8AAED2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23880" y="3552840"/>
            <a:ext cx="260532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59880" y="3552840"/>
            <a:ext cx="260532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5880" y="3552840"/>
            <a:ext cx="260532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23880" y="5187600"/>
            <a:ext cx="260532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59880" y="5187600"/>
            <a:ext cx="260532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95880" y="5187600"/>
            <a:ext cx="260532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9729B-018A-45B7-B524-2F6331359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3880" y="3552840"/>
            <a:ext cx="809136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D6C7-41A7-41B2-B0C7-41626D18A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23880" y="3552840"/>
            <a:ext cx="394848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70000" y="3552840"/>
            <a:ext cx="394848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07EB-8F04-48A7-87C0-8A16AADD8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7CE8-8AE9-4419-8D69-5CF353341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77680" y="2433600"/>
            <a:ext cx="663876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75C1-0138-4F4E-9DF9-DB936630F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23880" y="355284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70000" y="3552840"/>
            <a:ext cx="394848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3880" y="518760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C4A0-D82A-4F89-A62D-9D1F9E7D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23880" y="3552840"/>
            <a:ext cx="394848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70000" y="355284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70000" y="518760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9C39-4B4F-48AB-A612-CB8A01E0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23880" y="355284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70000" y="355284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3880" y="5187600"/>
            <a:ext cx="809136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B11C-F3F9-4B39-A422-733CEA19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9" descr="Nipic_711581_20091119141951005838111"/>
          <p:cNvPicPr/>
          <p:nvPr/>
        </p:nvPicPr>
        <p:blipFill>
          <a:blip r:embed="rId3"/>
          <a:stretch/>
        </p:blipFill>
        <p:spPr>
          <a:xfrm>
            <a:off x="0" y="0"/>
            <a:ext cx="9169560" cy="68785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297000" y="6576480"/>
            <a:ext cx="2133360" cy="2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2716200" y="6566040"/>
            <a:ext cx="3649680" cy="28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730560" y="6568920"/>
            <a:ext cx="2133720" cy="2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7A858-0F61-465F-BA33-E721EF270FA8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623880" y="3552840"/>
            <a:ext cx="809136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99880" indent="-171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877680" y="2433600"/>
            <a:ext cx="663876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72"/>
          <p:cNvSpPr/>
          <p:nvPr/>
        </p:nvSpPr>
        <p:spPr>
          <a:xfrm>
            <a:off x="210960" y="525600"/>
            <a:ext cx="12924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9" descr="Nipic_711581_20091119141951005838"/>
          <p:cNvPicPr/>
          <p:nvPr/>
        </p:nvPicPr>
        <p:blipFill>
          <a:blip r:embed="rId3"/>
          <a:stretch/>
        </p:blipFill>
        <p:spPr>
          <a:xfrm>
            <a:off x="0" y="0"/>
            <a:ext cx="9153360" cy="68659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27"/>
          <p:cNvSpPr/>
          <p:nvPr/>
        </p:nvSpPr>
        <p:spPr>
          <a:xfrm>
            <a:off x="579600" y="647640"/>
            <a:ext cx="12920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77680" y="2433600"/>
            <a:ext cx="663876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3880" y="3552840"/>
            <a:ext cx="809136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99880" indent="-171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58920" y="6394320"/>
            <a:ext cx="2133360" cy="2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5864040" y="6402240"/>
            <a:ext cx="2788920" cy="2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2957040" y="6394320"/>
            <a:ext cx="443160" cy="2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8CB85-F205-4BFC-83A2-7B7F65063AFA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20880" y="2968560"/>
            <a:ext cx="5400720" cy="100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20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hemeGallery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</a:t>
            </a:r>
            <a:br>
              <a:rPr sz="3200"/>
            </a:br>
            <a:r>
              <a:rPr b="1" lang="en-US" sz="6000" spc="-1" strike="noStrike">
                <a:solidFill>
                  <a:srgbClr val="000066"/>
                </a:solidFill>
                <a:latin typeface="Times New Roman"/>
                <a:ea typeface="宋体"/>
              </a:rPr>
              <a:t>PowerTemplate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1600200" y="45640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8" name="Text Box 47"/>
          <p:cNvSpPr/>
          <p:nvPr/>
        </p:nvSpPr>
        <p:spPr>
          <a:xfrm>
            <a:off x="3895560" y="6521400"/>
            <a:ext cx="524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77680" y="2433600"/>
            <a:ext cx="663876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Freeform 3"/>
          <p:cNvSpPr/>
          <p:nvPr/>
        </p:nvSpPr>
        <p:spPr>
          <a:xfrm>
            <a:off x="2336760" y="3570120"/>
            <a:ext cx="1900440" cy="137664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9ccff">
                  <a:alpha val="0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8" name="Freeform 4"/>
          <p:cNvSpPr/>
          <p:nvPr/>
        </p:nvSpPr>
        <p:spPr>
          <a:xfrm>
            <a:off x="4255920" y="3505320"/>
            <a:ext cx="36684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99ccff">
                  <a:alpha val="0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9" name="Freeform 5"/>
          <p:cNvSpPr/>
          <p:nvPr/>
        </p:nvSpPr>
        <p:spPr>
          <a:xfrm flipH="1">
            <a:off x="4656240" y="3570120"/>
            <a:ext cx="1900080" cy="137664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9ccff">
                  <a:alpha val="0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390" name="Group 6"/>
          <p:cNvGrpSpPr/>
          <p:nvPr/>
        </p:nvGrpSpPr>
        <p:grpSpPr>
          <a:xfrm>
            <a:off x="1974960" y="2343240"/>
            <a:ext cx="1361160" cy="1321560"/>
            <a:chOff x="1974960" y="2343240"/>
            <a:chExt cx="1361160" cy="1321560"/>
          </a:xfrm>
        </p:grpSpPr>
        <p:sp>
          <p:nvSpPr>
            <p:cNvPr id="391" name="AutoShape 7"/>
            <p:cNvSpPr/>
            <p:nvPr/>
          </p:nvSpPr>
          <p:spPr>
            <a:xfrm>
              <a:off x="1974960" y="234324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6ad23"/>
                </a:gs>
                <a:gs pos="100000">
                  <a:srgbClr val="697918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392" name="Freeform 8"/>
            <p:cNvSpPr/>
            <p:nvPr/>
          </p:nvSpPr>
          <p:spPr>
            <a:xfrm>
              <a:off x="2060640" y="242892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cd794"/>
                </a:gs>
                <a:gs pos="50000">
                  <a:srgbClr val="96ad23">
                    <a:alpha val="0"/>
                  </a:srgbClr>
                </a:gs>
                <a:gs pos="100000">
                  <a:srgbClr val="ccd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393" name="Rectangle 9"/>
          <p:cNvSpPr/>
          <p:nvPr/>
        </p:nvSpPr>
        <p:spPr>
          <a:xfrm>
            <a:off x="2201040" y="2724120"/>
            <a:ext cx="982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394" name="Group 10"/>
          <p:cNvGrpSpPr/>
          <p:nvPr/>
        </p:nvGrpSpPr>
        <p:grpSpPr>
          <a:xfrm>
            <a:off x="3754440" y="2343240"/>
            <a:ext cx="1361520" cy="1321560"/>
            <a:chOff x="3754440" y="2343240"/>
            <a:chExt cx="1361520" cy="1321560"/>
          </a:xfrm>
        </p:grpSpPr>
        <p:sp>
          <p:nvSpPr>
            <p:cNvPr id="395" name="AutoShape 11"/>
            <p:cNvSpPr/>
            <p:nvPr/>
          </p:nvSpPr>
          <p:spPr>
            <a:xfrm>
              <a:off x="3754440" y="234324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973b9"/>
                </a:gs>
                <a:gs pos="100000">
                  <a:srgbClr val="285081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396" name="Freeform 12"/>
            <p:cNvSpPr/>
            <p:nvPr/>
          </p:nvSpPr>
          <p:spPr>
            <a:xfrm>
              <a:off x="3840120" y="242892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fbbdd"/>
                </a:gs>
                <a:gs pos="50000">
                  <a:srgbClr val="3973b9">
                    <a:alpha val="0"/>
                  </a:srgbClr>
                </a:gs>
                <a:gs pos="100000">
                  <a:srgbClr val="9fbbd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397" name="Group 13"/>
          <p:cNvGrpSpPr/>
          <p:nvPr/>
        </p:nvGrpSpPr>
        <p:grpSpPr>
          <a:xfrm>
            <a:off x="5541840" y="2352600"/>
            <a:ext cx="1361520" cy="1321920"/>
            <a:chOff x="5541840" y="2352600"/>
            <a:chExt cx="1361520" cy="1321920"/>
          </a:xfrm>
        </p:grpSpPr>
        <p:sp>
          <p:nvSpPr>
            <p:cNvPr id="398" name="AutoShape 14"/>
            <p:cNvSpPr/>
            <p:nvPr/>
          </p:nvSpPr>
          <p:spPr>
            <a:xfrm>
              <a:off x="5541840" y="2352600"/>
              <a:ext cx="136152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b639b9"/>
                </a:gs>
                <a:gs pos="100000">
                  <a:srgbClr val="7f2881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399" name="Freeform 15"/>
            <p:cNvSpPr/>
            <p:nvPr/>
          </p:nvSpPr>
          <p:spPr>
            <a:xfrm>
              <a:off x="5627520" y="2438280"/>
              <a:ext cx="67716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c9fdd"/>
                </a:gs>
                <a:gs pos="50000">
                  <a:srgbClr val="b639b9">
                    <a:alpha val="0"/>
                  </a:srgbClr>
                </a:gs>
                <a:gs pos="100000">
                  <a:srgbClr val="dc9fd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400" name="Rectangle 16"/>
          <p:cNvSpPr/>
          <p:nvPr/>
        </p:nvSpPr>
        <p:spPr>
          <a:xfrm>
            <a:off x="3936240" y="2724120"/>
            <a:ext cx="982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1" name="Rectangle 17"/>
          <p:cNvSpPr/>
          <p:nvPr/>
        </p:nvSpPr>
        <p:spPr>
          <a:xfrm>
            <a:off x="5753880" y="2733840"/>
            <a:ext cx="982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2" name="Rectangle 18"/>
          <p:cNvSpPr/>
          <p:nvPr/>
        </p:nvSpPr>
        <p:spPr>
          <a:xfrm>
            <a:off x="1444680" y="612720"/>
            <a:ext cx="647712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3" name="AutoShape 19"/>
          <p:cNvSpPr/>
          <p:nvPr/>
        </p:nvSpPr>
        <p:spPr>
          <a:xfrm>
            <a:off x="1325520" y="5157720"/>
            <a:ext cx="6238800" cy="9763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57240">
            <a:solidFill>
              <a:srgbClr val="96ad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4" name="Rectangle 20"/>
          <p:cNvSpPr/>
          <p:nvPr/>
        </p:nvSpPr>
        <p:spPr>
          <a:xfrm>
            <a:off x="1589040" y="5313240"/>
            <a:ext cx="580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num-1_t1"/>
          <p:cNvPicPr/>
          <p:nvPr/>
        </p:nvPicPr>
        <p:blipFill>
          <a:blip r:embed="rId1"/>
          <a:stretch/>
        </p:blipFill>
        <p:spPr>
          <a:xfrm>
            <a:off x="5896080" y="3160800"/>
            <a:ext cx="2747880" cy="309708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77680" y="2433600"/>
            <a:ext cx="663876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AutoShape 4"/>
          <p:cNvSpPr/>
          <p:nvPr/>
        </p:nvSpPr>
        <p:spPr>
          <a:xfrm>
            <a:off x="4373640" y="2746440"/>
            <a:ext cx="2622600" cy="2574720"/>
          </a:xfrm>
          <a:custGeom>
            <a:avLst/>
            <a:gdLst>
              <a:gd name="textAreaLeft" fmla="*/ 0 w 2622600"/>
              <a:gd name="textAreaRight" fmla="*/ 2622600 w 2622600"/>
              <a:gd name="textAreaTop" fmla="*/ 0 h 2574720"/>
              <a:gd name="textAreaBottom" fmla="*/ 2575080 h 257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1" y="0"/>
                </a:lnTo>
                <a:lnTo>
                  <a:pt x="21600" y="10800"/>
                </a:lnTo>
                <a:lnTo>
                  <a:pt x="1620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6f6f6"/>
              </a:gs>
              <a:gs pos="100000">
                <a:srgbClr val="c0c0c0"/>
              </a:gs>
            </a:gsLst>
            <a:lin ang="27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8" name="AutoShape 5"/>
          <p:cNvSpPr/>
          <p:nvPr/>
        </p:nvSpPr>
        <p:spPr>
          <a:xfrm>
            <a:off x="2336760" y="2747880"/>
            <a:ext cx="2809800" cy="2575080"/>
          </a:xfrm>
          <a:custGeom>
            <a:avLst/>
            <a:gdLst>
              <a:gd name="textAreaLeft" fmla="*/ 0 w 2809800"/>
              <a:gd name="textAreaRight" fmla="*/ 2810160 w 2809800"/>
              <a:gd name="textAreaTop" fmla="*/ 0 h 2575080"/>
              <a:gd name="textAreaBottom" fmla="*/ 2575440 h 257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1" y="0"/>
                </a:lnTo>
                <a:lnTo>
                  <a:pt x="21600" y="10800"/>
                </a:lnTo>
                <a:lnTo>
                  <a:pt x="1620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639b9"/>
              </a:gs>
            </a:gsLst>
            <a:lin ang="189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9" name="Freeform 6"/>
          <p:cNvSpPr/>
          <p:nvPr/>
        </p:nvSpPr>
        <p:spPr>
          <a:xfrm>
            <a:off x="2127240" y="2448000"/>
            <a:ext cx="4349880" cy="517320"/>
          </a:xfrm>
          <a:custGeom>
            <a:avLst/>
            <a:gdLst/>
            <a:ahLst/>
            <a:rect l="l" t="t" r="r" b="b"/>
            <a:pathLst>
              <a:path w="3454" h="267">
                <a:moveTo>
                  <a:pt x="0" y="0"/>
                </a:moveTo>
                <a:lnTo>
                  <a:pt x="87" y="267"/>
                </a:lnTo>
                <a:lnTo>
                  <a:pt x="3454" y="267"/>
                </a:lnTo>
                <a:lnTo>
                  <a:pt x="3292" y="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973b9"/>
              </a:gs>
              <a:gs pos="100000">
                <a:srgbClr val="1a355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10" name="AutoShape 7"/>
          <p:cNvSpPr/>
          <p:nvPr/>
        </p:nvSpPr>
        <p:spPr>
          <a:xfrm>
            <a:off x="876240" y="2446200"/>
            <a:ext cx="2400480" cy="2895840"/>
          </a:xfrm>
          <a:custGeom>
            <a:avLst/>
            <a:gdLst>
              <a:gd name="textAreaLeft" fmla="*/ 0 w 2400480"/>
              <a:gd name="textAreaRight" fmla="*/ 2400840 w 240048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6ad23"/>
              </a:gs>
              <a:gs pos="100000">
                <a:srgbClr val="697918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11" name="Rectangle 8"/>
          <p:cNvSpPr/>
          <p:nvPr/>
        </p:nvSpPr>
        <p:spPr>
          <a:xfrm>
            <a:off x="1025640" y="3110040"/>
            <a:ext cx="1823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12" name="Rectangle 9"/>
          <p:cNvSpPr/>
          <p:nvPr/>
        </p:nvSpPr>
        <p:spPr>
          <a:xfrm>
            <a:off x="2814480" y="2475000"/>
            <a:ext cx="349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13" name="Rectangle 10"/>
          <p:cNvSpPr/>
          <p:nvPr/>
        </p:nvSpPr>
        <p:spPr>
          <a:xfrm>
            <a:off x="5129280" y="3330720"/>
            <a:ext cx="167004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  <a:ea typeface="宋体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14" name="Rectangle 11"/>
          <p:cNvSpPr/>
          <p:nvPr/>
        </p:nvSpPr>
        <p:spPr>
          <a:xfrm>
            <a:off x="809640" y="141300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15" name="Rectangle 12"/>
          <p:cNvSpPr/>
          <p:nvPr/>
        </p:nvSpPr>
        <p:spPr>
          <a:xfrm>
            <a:off x="3238560" y="3327480"/>
            <a:ext cx="167004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  <a:ea typeface="宋体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16" name="Rectangle 13"/>
          <p:cNvSpPr/>
          <p:nvPr/>
        </p:nvSpPr>
        <p:spPr>
          <a:xfrm>
            <a:off x="863640" y="5448240"/>
            <a:ext cx="604980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亮亮图文旗舰店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s://liangliangtuwen.tmall.com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AutoShape 2"/>
          <p:cNvSpPr/>
          <p:nvPr/>
        </p:nvSpPr>
        <p:spPr>
          <a:xfrm>
            <a:off x="1969920" y="2133720"/>
            <a:ext cx="5556240" cy="144756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3da47"/>
              </a:gs>
              <a:gs pos="100000">
                <a:srgbClr val="99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18" name="Text Box 3"/>
          <p:cNvSpPr/>
          <p:nvPr/>
        </p:nvSpPr>
        <p:spPr>
          <a:xfrm>
            <a:off x="3398760" y="2279520"/>
            <a:ext cx="5095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19" name="AutoShape 4"/>
          <p:cNvSpPr/>
          <p:nvPr/>
        </p:nvSpPr>
        <p:spPr>
          <a:xfrm>
            <a:off x="2782800" y="2638440"/>
            <a:ext cx="533520" cy="380880"/>
          </a:xfrm>
          <a:prstGeom prst="rightArrow">
            <a:avLst>
              <a:gd name="adj1" fmla="val 50000"/>
              <a:gd name="adj2" fmla="val 5835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420" name="Picture 5" descr="DO_circle001"/>
          <p:cNvPicPr/>
          <p:nvPr/>
        </p:nvPicPr>
        <p:blipFill>
          <a:blip r:embed="rId1"/>
          <a:stretch/>
        </p:blipFill>
        <p:spPr>
          <a:xfrm>
            <a:off x="1085760" y="1987560"/>
            <a:ext cx="1714680" cy="171432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58960" y="1214280"/>
            <a:ext cx="777528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7"/>
          <p:cNvSpPr/>
          <p:nvPr/>
        </p:nvSpPr>
        <p:spPr>
          <a:xfrm>
            <a:off x="1092240" y="2673360"/>
            <a:ext cx="167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23" name="AutoShape 8"/>
          <p:cNvSpPr/>
          <p:nvPr/>
        </p:nvSpPr>
        <p:spPr>
          <a:xfrm>
            <a:off x="1969920" y="4095720"/>
            <a:ext cx="5556240" cy="144792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6699ff"/>
              </a:gs>
              <a:gs pos="100000">
                <a:srgbClr val="99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24" name="Text Box 9"/>
          <p:cNvSpPr/>
          <p:nvPr/>
        </p:nvSpPr>
        <p:spPr>
          <a:xfrm>
            <a:off x="3460680" y="4200480"/>
            <a:ext cx="5095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25" name="AutoShape 10"/>
          <p:cNvSpPr/>
          <p:nvPr/>
        </p:nvSpPr>
        <p:spPr>
          <a:xfrm>
            <a:off x="2811600" y="4591080"/>
            <a:ext cx="533160" cy="380880"/>
          </a:xfrm>
          <a:prstGeom prst="rightArrow">
            <a:avLst>
              <a:gd name="adj1" fmla="val 50000"/>
              <a:gd name="adj2" fmla="val 5831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426" name="Picture 11" descr="DP_circle001"/>
          <p:cNvPicPr/>
          <p:nvPr/>
        </p:nvPicPr>
        <p:blipFill>
          <a:blip r:embed="rId2"/>
          <a:stretch/>
        </p:blipFill>
        <p:spPr>
          <a:xfrm>
            <a:off x="1104840" y="3892680"/>
            <a:ext cx="1727280" cy="172692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12"/>
          <p:cNvSpPr/>
          <p:nvPr/>
        </p:nvSpPr>
        <p:spPr>
          <a:xfrm>
            <a:off x="1111320" y="4602240"/>
            <a:ext cx="167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91720" y="1122120"/>
            <a:ext cx="7775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Freeform 3"/>
          <p:cNvSpPr/>
          <p:nvPr/>
        </p:nvSpPr>
        <p:spPr>
          <a:xfrm>
            <a:off x="1003320" y="2371680"/>
            <a:ext cx="7389720" cy="3273480"/>
          </a:xfrm>
          <a:custGeom>
            <a:avLst/>
            <a:gdLst/>
            <a:ahLst/>
            <a:rect l="l" t="t" r="r" b="b"/>
            <a:pathLst>
              <a:path w="5190" h="2298">
                <a:moveTo>
                  <a:pt x="496" y="157"/>
                </a:moveTo>
                <a:lnTo>
                  <a:pt x="0" y="0"/>
                </a:lnTo>
                <a:lnTo>
                  <a:pt x="231" y="124"/>
                </a:lnTo>
                <a:lnTo>
                  <a:pt x="4282" y="2025"/>
                </a:lnTo>
                <a:lnTo>
                  <a:pt x="3974" y="2298"/>
                </a:lnTo>
                <a:lnTo>
                  <a:pt x="5190" y="2065"/>
                </a:lnTo>
                <a:lnTo>
                  <a:pt x="5039" y="1268"/>
                </a:lnTo>
                <a:lnTo>
                  <a:pt x="4748" y="1507"/>
                </a:lnTo>
                <a:lnTo>
                  <a:pt x="496" y="157"/>
                </a:lnTo>
                <a:close/>
              </a:path>
            </a:pathLst>
          </a:custGeom>
          <a:gradFill rotWithShape="0">
            <a:gsLst>
              <a:gs pos="0">
                <a:srgbClr val="49174a"/>
              </a:gs>
              <a:gs pos="50000">
                <a:srgbClr val="b639b9"/>
              </a:gs>
              <a:gs pos="100000">
                <a:srgbClr val="49174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30" name="AutoShape 4"/>
          <p:cNvSpPr/>
          <p:nvPr/>
        </p:nvSpPr>
        <p:spPr>
          <a:xfrm>
            <a:off x="2076480" y="2720880"/>
            <a:ext cx="227160" cy="139680"/>
          </a:xfrm>
          <a:prstGeom prst="can">
            <a:avLst>
              <a:gd name="adj" fmla="val 39796"/>
            </a:avLst>
          </a:prstGeom>
          <a:gradFill rotWithShape="0">
            <a:gsLst>
              <a:gs pos="0">
                <a:srgbClr val="3973b9"/>
              </a:gs>
              <a:gs pos="50000">
                <a:srgbClr val="b8cde6"/>
              </a:gs>
              <a:gs pos="100000">
                <a:srgbClr val="3973b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31" name="AutoShape 5"/>
          <p:cNvSpPr/>
          <p:nvPr/>
        </p:nvSpPr>
        <p:spPr>
          <a:xfrm>
            <a:off x="2982960" y="3051000"/>
            <a:ext cx="263520" cy="190800"/>
          </a:xfrm>
          <a:prstGeom prst="can">
            <a:avLst>
              <a:gd name="adj" fmla="val 27342"/>
            </a:avLst>
          </a:prstGeom>
          <a:gradFill rotWithShape="0">
            <a:gsLst>
              <a:gs pos="0">
                <a:srgbClr val="3973b9"/>
              </a:gs>
              <a:gs pos="50000">
                <a:srgbClr val="b8cde6"/>
              </a:gs>
              <a:gs pos="100000">
                <a:srgbClr val="3973b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32" name="AutoShape 6"/>
          <p:cNvSpPr/>
          <p:nvPr/>
        </p:nvSpPr>
        <p:spPr>
          <a:xfrm>
            <a:off x="3967200" y="3367080"/>
            <a:ext cx="358560" cy="3081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973b9"/>
              </a:gs>
              <a:gs pos="50000">
                <a:srgbClr val="b8cde6"/>
              </a:gs>
              <a:gs pos="100000">
                <a:srgbClr val="3973b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33" name="AutoShape 7"/>
          <p:cNvSpPr/>
          <p:nvPr/>
        </p:nvSpPr>
        <p:spPr>
          <a:xfrm>
            <a:off x="6335640" y="4024440"/>
            <a:ext cx="565200" cy="682560"/>
          </a:xfrm>
          <a:prstGeom prst="can">
            <a:avLst>
              <a:gd name="adj" fmla="val 17745"/>
            </a:avLst>
          </a:prstGeom>
          <a:gradFill rotWithShape="0">
            <a:gsLst>
              <a:gs pos="0">
                <a:srgbClr val="3973b9"/>
              </a:gs>
              <a:gs pos="50000">
                <a:srgbClr val="b8cde6"/>
              </a:gs>
              <a:gs pos="100000">
                <a:srgbClr val="3973b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34" name="AutoShape 8"/>
          <p:cNvSpPr/>
          <p:nvPr/>
        </p:nvSpPr>
        <p:spPr>
          <a:xfrm>
            <a:off x="5124600" y="3749760"/>
            <a:ext cx="442800" cy="426960"/>
          </a:xfrm>
          <a:prstGeom prst="can">
            <a:avLst>
              <a:gd name="adj" fmla="val 21666"/>
            </a:avLst>
          </a:prstGeom>
          <a:gradFill rotWithShape="0">
            <a:gsLst>
              <a:gs pos="0">
                <a:srgbClr val="3973b9"/>
              </a:gs>
              <a:gs pos="50000">
                <a:srgbClr val="b8cde6"/>
              </a:gs>
              <a:gs pos="100000">
                <a:srgbClr val="3973b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35" name="Text Box 9"/>
          <p:cNvSpPr/>
          <p:nvPr/>
        </p:nvSpPr>
        <p:spPr>
          <a:xfrm>
            <a:off x="1712880" y="199224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36" name="Text Box 10"/>
          <p:cNvSpPr/>
          <p:nvPr/>
        </p:nvSpPr>
        <p:spPr>
          <a:xfrm>
            <a:off x="2652840" y="200664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37" name="Text Box 11"/>
          <p:cNvSpPr/>
          <p:nvPr/>
        </p:nvSpPr>
        <p:spPr>
          <a:xfrm>
            <a:off x="3687840" y="201132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38" name="Text Box 12"/>
          <p:cNvSpPr/>
          <p:nvPr/>
        </p:nvSpPr>
        <p:spPr>
          <a:xfrm>
            <a:off x="4879800" y="20034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39" name="Text Box 13"/>
          <p:cNvSpPr/>
          <p:nvPr/>
        </p:nvSpPr>
        <p:spPr>
          <a:xfrm>
            <a:off x="6134040" y="2001960"/>
            <a:ext cx="12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evel 5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0" name="Text Box 14"/>
          <p:cNvSpPr/>
          <p:nvPr/>
        </p:nvSpPr>
        <p:spPr>
          <a:xfrm>
            <a:off x="642960" y="3063960"/>
            <a:ext cx="23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1" name="Text Box 15"/>
          <p:cNvSpPr/>
          <p:nvPr/>
        </p:nvSpPr>
        <p:spPr>
          <a:xfrm>
            <a:off x="1192320" y="3554280"/>
            <a:ext cx="2450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2" name="Text Box 16"/>
          <p:cNvSpPr/>
          <p:nvPr/>
        </p:nvSpPr>
        <p:spPr>
          <a:xfrm>
            <a:off x="2135160" y="4121280"/>
            <a:ext cx="24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3" name="Text Box 17"/>
          <p:cNvSpPr/>
          <p:nvPr/>
        </p:nvSpPr>
        <p:spPr>
          <a:xfrm>
            <a:off x="3348000" y="4686480"/>
            <a:ext cx="24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4" name="Text Box 18"/>
          <p:cNvSpPr/>
          <p:nvPr/>
        </p:nvSpPr>
        <p:spPr>
          <a:xfrm>
            <a:off x="4284720" y="5340240"/>
            <a:ext cx="24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445" name="AutoShape 19"/>
          <p:cNvCxnSpPr>
            <a:stCxn id="430" idx="3"/>
            <a:endCxn id="440" idx="0"/>
          </p:cNvCxnSpPr>
          <p:nvPr/>
        </p:nvCxnSpPr>
        <p:spPr>
          <a:xfrm flipH="1">
            <a:off x="1796400" y="2860200"/>
            <a:ext cx="394200" cy="204120"/>
          </a:xfrm>
          <a:prstGeom prst="straightConnector1">
            <a:avLst/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46" name="AutoShape 20"/>
          <p:cNvCxnSpPr>
            <a:stCxn id="431" idx="3"/>
            <a:endCxn id="441" idx="0"/>
          </p:cNvCxnSpPr>
          <p:nvPr/>
        </p:nvCxnSpPr>
        <p:spPr>
          <a:xfrm flipH="1">
            <a:off x="2417400" y="3241800"/>
            <a:ext cx="697680" cy="313200"/>
          </a:xfrm>
          <a:prstGeom prst="straightConnector1">
            <a:avLst/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47" name="AutoShape 21"/>
          <p:cNvCxnSpPr>
            <a:stCxn id="432" idx="3"/>
            <a:endCxn id="442" idx="0"/>
          </p:cNvCxnSpPr>
          <p:nvPr/>
        </p:nvCxnSpPr>
        <p:spPr>
          <a:xfrm flipH="1">
            <a:off x="3359880" y="3674880"/>
            <a:ext cx="786600" cy="446760"/>
          </a:xfrm>
          <a:prstGeom prst="straightConnector1">
            <a:avLst/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48" name="AutoShape 22"/>
          <p:cNvCxnSpPr>
            <a:stCxn id="434" idx="3"/>
            <a:endCxn id="443" idx="0"/>
          </p:cNvCxnSpPr>
          <p:nvPr/>
        </p:nvCxnSpPr>
        <p:spPr>
          <a:xfrm flipH="1">
            <a:off x="4573080" y="4176720"/>
            <a:ext cx="774000" cy="510480"/>
          </a:xfrm>
          <a:prstGeom prst="straightConnector1">
            <a:avLst/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49" name="AutoShape 23"/>
          <p:cNvCxnSpPr>
            <a:stCxn id="433" idx="3"/>
            <a:endCxn id="444" idx="0"/>
          </p:cNvCxnSpPr>
          <p:nvPr/>
        </p:nvCxnSpPr>
        <p:spPr>
          <a:xfrm flipH="1">
            <a:off x="5511240" y="4706640"/>
            <a:ext cx="1107000" cy="633960"/>
          </a:xfrm>
          <a:prstGeom prst="straightConnector1">
            <a:avLst/>
          </a:prstGeom>
          <a:ln w="9360">
            <a:solidFill>
              <a:srgbClr val="1c1c1c"/>
            </a:solidFill>
            <a:miter/>
          </a:ln>
        </p:spPr>
      </p:cxnSp>
      <p:sp>
        <p:nvSpPr>
          <p:cNvPr id="450" name="AutoShape 24"/>
          <p:cNvSpPr/>
          <p:nvPr/>
        </p:nvSpPr>
        <p:spPr>
          <a:xfrm>
            <a:off x="6335640" y="2416320"/>
            <a:ext cx="565200" cy="1730160"/>
          </a:xfrm>
          <a:prstGeom prst="can">
            <a:avLst>
              <a:gd name="adj" fmla="val 9143"/>
            </a:avLst>
          </a:prstGeom>
          <a:gradFill rotWithShape="0">
            <a:gsLst>
              <a:gs pos="0">
                <a:srgbClr val="96ad23"/>
              </a:gs>
              <a:gs pos="50000">
                <a:srgbClr val="dae2b0"/>
              </a:gs>
              <a:gs pos="100000">
                <a:srgbClr val="96ad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1" name="AutoShape 25"/>
          <p:cNvSpPr/>
          <p:nvPr/>
        </p:nvSpPr>
        <p:spPr>
          <a:xfrm>
            <a:off x="5124600" y="2414520"/>
            <a:ext cx="442800" cy="1433520"/>
          </a:xfrm>
          <a:prstGeom prst="can">
            <a:avLst>
              <a:gd name="adj" fmla="val 8513"/>
            </a:avLst>
          </a:prstGeom>
          <a:gradFill rotWithShape="0">
            <a:gsLst>
              <a:gs pos="0">
                <a:srgbClr val="96ad23"/>
              </a:gs>
              <a:gs pos="50000">
                <a:srgbClr val="dae2b0"/>
              </a:gs>
              <a:gs pos="100000">
                <a:srgbClr val="96ad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2" name="AutoShape 26"/>
          <p:cNvSpPr/>
          <p:nvPr/>
        </p:nvSpPr>
        <p:spPr>
          <a:xfrm>
            <a:off x="3967200" y="2411280"/>
            <a:ext cx="358560" cy="1049400"/>
          </a:xfrm>
          <a:prstGeom prst="can">
            <a:avLst>
              <a:gd name="adj" fmla="val 9657"/>
            </a:avLst>
          </a:prstGeom>
          <a:gradFill rotWithShape="0">
            <a:gsLst>
              <a:gs pos="0">
                <a:srgbClr val="96ad23"/>
              </a:gs>
              <a:gs pos="50000">
                <a:srgbClr val="dae2b0"/>
              </a:gs>
              <a:gs pos="100000">
                <a:srgbClr val="96ad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3" name="AutoShape 27"/>
          <p:cNvSpPr/>
          <p:nvPr/>
        </p:nvSpPr>
        <p:spPr>
          <a:xfrm>
            <a:off x="2982960" y="2417760"/>
            <a:ext cx="263520" cy="689040"/>
          </a:xfrm>
          <a:prstGeom prst="can">
            <a:avLst>
              <a:gd name="adj" fmla="val 9129"/>
            </a:avLst>
          </a:prstGeom>
          <a:gradFill rotWithShape="0">
            <a:gsLst>
              <a:gs pos="0">
                <a:srgbClr val="96ad23"/>
              </a:gs>
              <a:gs pos="50000">
                <a:srgbClr val="dae2b0"/>
              </a:gs>
              <a:gs pos="100000">
                <a:srgbClr val="96ad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4" name="AutoShape 28"/>
          <p:cNvSpPr/>
          <p:nvPr/>
        </p:nvSpPr>
        <p:spPr>
          <a:xfrm>
            <a:off x="2076480" y="2419200"/>
            <a:ext cx="227160" cy="358920"/>
          </a:xfrm>
          <a:prstGeom prst="can">
            <a:avLst>
              <a:gd name="adj" fmla="val 16976"/>
            </a:avLst>
          </a:prstGeom>
          <a:gradFill rotWithShape="0">
            <a:gsLst>
              <a:gs pos="0">
                <a:srgbClr val="96ad23"/>
              </a:gs>
              <a:gs pos="50000">
                <a:srgbClr val="dae2b0"/>
              </a:gs>
              <a:gs pos="100000">
                <a:srgbClr val="96ad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56800" y="1461960"/>
            <a:ext cx="77756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AutoShape 3"/>
          <p:cNvSpPr/>
          <p:nvPr/>
        </p:nvSpPr>
        <p:spPr>
          <a:xfrm rot="5400000">
            <a:off x="203400" y="3148560"/>
            <a:ext cx="3821040" cy="197172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1c1c1">
                  <a:alpha val="98039"/>
                </a:srgbClr>
              </a:gs>
              <a:gs pos="50000">
                <a:srgbClr val="f8f8f8"/>
              </a:gs>
              <a:gs pos="100000">
                <a:srgbClr val="c1c1c1">
                  <a:alpha val="98039"/>
                </a:srgbClr>
              </a:gs>
            </a:gsLst>
            <a:lin ang="0"/>
          </a:gradFill>
          <a:ln w="38160">
            <a:solidFill>
              <a:srgbClr val="808080"/>
            </a:solidFill>
            <a:round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7" name="Text Box 4"/>
          <p:cNvSpPr/>
          <p:nvPr/>
        </p:nvSpPr>
        <p:spPr>
          <a:xfrm>
            <a:off x="1146240" y="4346640"/>
            <a:ext cx="1954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ThemeGallery 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is a Design Digital Content &amp; Contents 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mall developed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8" name="AutoShape 5"/>
          <p:cNvSpPr/>
          <p:nvPr/>
        </p:nvSpPr>
        <p:spPr>
          <a:xfrm rot="5400000">
            <a:off x="2530800" y="3148560"/>
            <a:ext cx="3821040" cy="197172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1c1c1">
                  <a:alpha val="98039"/>
                </a:srgbClr>
              </a:gs>
              <a:gs pos="50000">
                <a:srgbClr val="f8f8f8"/>
              </a:gs>
              <a:gs pos="100000">
                <a:srgbClr val="c1c1c1">
                  <a:alpha val="98039"/>
                </a:srgbClr>
              </a:gs>
            </a:gsLst>
            <a:lin ang="0"/>
          </a:gradFill>
          <a:ln w="38160">
            <a:solidFill>
              <a:srgbClr val="808080"/>
            </a:solidFill>
            <a:round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9" name="Text Box 6"/>
          <p:cNvSpPr/>
          <p:nvPr/>
        </p:nvSpPr>
        <p:spPr>
          <a:xfrm>
            <a:off x="3473280" y="4346640"/>
            <a:ext cx="1954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ThemeGallery 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is a Design Digital Content &amp; Contents 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mall developed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60" name="AutoShape 7"/>
          <p:cNvSpPr/>
          <p:nvPr/>
        </p:nvSpPr>
        <p:spPr>
          <a:xfrm rot="5400000">
            <a:off x="4893120" y="3148560"/>
            <a:ext cx="3821040" cy="197172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1c1c1">
                  <a:alpha val="98039"/>
                </a:srgbClr>
              </a:gs>
              <a:gs pos="50000">
                <a:srgbClr val="f8f8f8"/>
              </a:gs>
              <a:gs pos="100000">
                <a:srgbClr val="c1c1c1">
                  <a:alpha val="98039"/>
                </a:srgbClr>
              </a:gs>
            </a:gsLst>
            <a:lin ang="0"/>
          </a:gradFill>
          <a:ln w="38160">
            <a:solidFill>
              <a:srgbClr val="808080"/>
            </a:solidFill>
            <a:round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61" name="Text Box 8"/>
          <p:cNvSpPr/>
          <p:nvPr/>
        </p:nvSpPr>
        <p:spPr>
          <a:xfrm>
            <a:off x="5834160" y="4346640"/>
            <a:ext cx="1955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ThemeGallery 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is a Design Digital Content &amp; Contents 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mall developed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462" name="Picture 9" descr="RY_circle001"/>
          <p:cNvPicPr/>
          <p:nvPr/>
        </p:nvPicPr>
        <p:blipFill>
          <a:blip r:embed="rId1"/>
          <a:stretch/>
        </p:blipFill>
        <p:spPr>
          <a:xfrm>
            <a:off x="6219720" y="2430360"/>
            <a:ext cx="1108080" cy="11080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0" descr="LB_circle001"/>
          <p:cNvPicPr/>
          <p:nvPr/>
        </p:nvPicPr>
        <p:blipFill>
          <a:blip r:embed="rId2"/>
          <a:stretch/>
        </p:blipFill>
        <p:spPr>
          <a:xfrm>
            <a:off x="1495440" y="2430360"/>
            <a:ext cx="1176480" cy="11746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11" descr="YG_circle001"/>
          <p:cNvPicPr/>
          <p:nvPr/>
        </p:nvPicPr>
        <p:blipFill>
          <a:blip r:embed="rId3"/>
          <a:stretch/>
        </p:blipFill>
        <p:spPr>
          <a:xfrm>
            <a:off x="3821040" y="2405160"/>
            <a:ext cx="1192320" cy="1191960"/>
          </a:xfrm>
          <a:prstGeom prst="rect">
            <a:avLst/>
          </a:prstGeom>
          <a:ln w="0">
            <a:noFill/>
          </a:ln>
        </p:spPr>
      </p:pic>
      <p:sp>
        <p:nvSpPr>
          <p:cNvPr id="465" name="Text Box 12"/>
          <p:cNvSpPr/>
          <p:nvPr/>
        </p:nvSpPr>
        <p:spPr>
          <a:xfrm>
            <a:off x="1625760" y="2709720"/>
            <a:ext cx="91260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3f11"/>
                </a:solidFill>
                <a:latin typeface="Arial"/>
                <a:ea typeface="宋体"/>
              </a:rPr>
              <a:t>A</a:t>
            </a:r>
            <a:r>
              <a:rPr b="1" lang="en-US" sz="1400" spc="-1" strike="noStrike">
                <a:solidFill>
                  <a:srgbClr val="d13f11"/>
                </a:solidFill>
                <a:latin typeface="Arial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  <a:ea typeface="宋体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66" name="Text Box 13"/>
          <p:cNvSpPr/>
          <p:nvPr/>
        </p:nvSpPr>
        <p:spPr>
          <a:xfrm>
            <a:off x="6303960" y="2709720"/>
            <a:ext cx="91440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3f11"/>
                </a:solidFill>
                <a:latin typeface="Arial"/>
                <a:ea typeface="宋体"/>
              </a:rPr>
              <a:t>C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  <a:ea typeface="宋体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67" name="Text Box 14"/>
          <p:cNvSpPr/>
          <p:nvPr/>
        </p:nvSpPr>
        <p:spPr>
          <a:xfrm>
            <a:off x="3951360" y="2709720"/>
            <a:ext cx="91440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3f11"/>
                </a:solidFill>
                <a:latin typeface="Arial"/>
                <a:ea typeface="宋体"/>
              </a:rPr>
              <a:t>B</a:t>
            </a:r>
            <a:r>
              <a:rPr b="1" lang="en-US" sz="1400" spc="-1" strike="noStrike">
                <a:solidFill>
                  <a:srgbClr val="d13f11"/>
                </a:solidFill>
                <a:latin typeface="Arial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  <a:ea typeface="宋体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468" name="Picture 15" descr="O_chevron001"/>
          <p:cNvPicPr/>
          <p:nvPr/>
        </p:nvPicPr>
        <p:blipFill>
          <a:blip r:embed="rId4"/>
          <a:stretch/>
        </p:blipFill>
        <p:spPr>
          <a:xfrm>
            <a:off x="4233960" y="3817800"/>
            <a:ext cx="412560" cy="3636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16" descr="O_chevron001"/>
          <p:cNvPicPr/>
          <p:nvPr/>
        </p:nvPicPr>
        <p:blipFill>
          <a:blip r:embed="rId5"/>
          <a:stretch/>
        </p:blipFill>
        <p:spPr>
          <a:xfrm>
            <a:off x="1865160" y="3817800"/>
            <a:ext cx="412920" cy="36360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7" descr="O_chevron001"/>
          <p:cNvPicPr/>
          <p:nvPr/>
        </p:nvPicPr>
        <p:blipFill>
          <a:blip r:embed="rId6"/>
          <a:stretch/>
        </p:blipFill>
        <p:spPr>
          <a:xfrm>
            <a:off x="6581880" y="3817800"/>
            <a:ext cx="412560" cy="363600"/>
          </a:xfrm>
          <a:prstGeom prst="rect">
            <a:avLst/>
          </a:prstGeom>
          <a:ln w="0">
            <a:noFill/>
          </a:ln>
        </p:spPr>
      </p:pic>
      <p:sp>
        <p:nvSpPr>
          <p:cNvPr id="471" name="Rectangle 18"/>
          <p:cNvSpPr/>
          <p:nvPr/>
        </p:nvSpPr>
        <p:spPr>
          <a:xfrm>
            <a:off x="2077920" y="781200"/>
            <a:ext cx="5308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77680" y="2433600"/>
            <a:ext cx="663876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Group 3"/>
          <p:cNvGrpSpPr/>
          <p:nvPr/>
        </p:nvGrpSpPr>
        <p:grpSpPr>
          <a:xfrm>
            <a:off x="1341360" y="1808280"/>
            <a:ext cx="1724040" cy="482040"/>
            <a:chOff x="1341360" y="1808280"/>
            <a:chExt cx="1724040" cy="482040"/>
          </a:xfrm>
        </p:grpSpPr>
        <p:sp>
          <p:nvSpPr>
            <p:cNvPr id="474" name="Freeform 4"/>
            <p:cNvSpPr/>
            <p:nvPr/>
          </p:nvSpPr>
          <p:spPr>
            <a:xfrm>
              <a:off x="1442880" y="2085840"/>
              <a:ext cx="152064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475" name="Rectangle 5"/>
            <p:cNvSpPr/>
            <p:nvPr/>
          </p:nvSpPr>
          <p:spPr>
            <a:xfrm>
              <a:off x="1341360" y="180828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ccd794"/>
                </a:gs>
                <a:gs pos="100000">
                  <a:srgbClr val="96ad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476" name="Group 6"/>
          <p:cNvGrpSpPr/>
          <p:nvPr/>
        </p:nvGrpSpPr>
        <p:grpSpPr>
          <a:xfrm>
            <a:off x="1341360" y="2951280"/>
            <a:ext cx="1724040" cy="482040"/>
            <a:chOff x="1341360" y="2951280"/>
            <a:chExt cx="1724040" cy="482040"/>
          </a:xfrm>
        </p:grpSpPr>
        <p:sp>
          <p:nvSpPr>
            <p:cNvPr id="477" name="Freeform 7"/>
            <p:cNvSpPr/>
            <p:nvPr/>
          </p:nvSpPr>
          <p:spPr>
            <a:xfrm>
              <a:off x="1442880" y="3228840"/>
              <a:ext cx="152064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478" name="Rectangle 8"/>
            <p:cNvSpPr/>
            <p:nvPr/>
          </p:nvSpPr>
          <p:spPr>
            <a:xfrm>
              <a:off x="1341360" y="295128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99b7db"/>
                </a:gs>
                <a:gs pos="100000">
                  <a:srgbClr val="3973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04</a:t>
              </a: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479" name="Group 9"/>
          <p:cNvGrpSpPr/>
          <p:nvPr/>
        </p:nvGrpSpPr>
        <p:grpSpPr>
          <a:xfrm>
            <a:off x="1341360" y="4094280"/>
            <a:ext cx="1724040" cy="482040"/>
            <a:chOff x="1341360" y="4094280"/>
            <a:chExt cx="1724040" cy="482040"/>
          </a:xfrm>
        </p:grpSpPr>
        <p:sp>
          <p:nvSpPr>
            <p:cNvPr id="480" name="Freeform 10"/>
            <p:cNvSpPr/>
            <p:nvPr/>
          </p:nvSpPr>
          <p:spPr>
            <a:xfrm>
              <a:off x="1442880" y="4371840"/>
              <a:ext cx="152064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481" name="Rectangle 11"/>
            <p:cNvSpPr/>
            <p:nvPr/>
          </p:nvSpPr>
          <p:spPr>
            <a:xfrm>
              <a:off x="1341360" y="409428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e4b7e5"/>
                </a:gs>
                <a:gs pos="100000">
                  <a:srgbClr val="b639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05</a:t>
              </a: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482" name="Group 12"/>
          <p:cNvGrpSpPr/>
          <p:nvPr/>
        </p:nvGrpSpPr>
        <p:grpSpPr>
          <a:xfrm>
            <a:off x="1341360" y="5237280"/>
            <a:ext cx="1724040" cy="482040"/>
            <a:chOff x="1341360" y="5237280"/>
            <a:chExt cx="1724040" cy="482040"/>
          </a:xfrm>
        </p:grpSpPr>
        <p:sp>
          <p:nvSpPr>
            <p:cNvPr id="483" name="Freeform 13"/>
            <p:cNvSpPr/>
            <p:nvPr/>
          </p:nvSpPr>
          <p:spPr>
            <a:xfrm>
              <a:off x="1442880" y="5514840"/>
              <a:ext cx="152064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484" name="Rectangle 14"/>
            <p:cNvSpPr/>
            <p:nvPr/>
          </p:nvSpPr>
          <p:spPr>
            <a:xfrm>
              <a:off x="1341360" y="523728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fae7c1"/>
                </a:gs>
                <a:gs pos="100000">
                  <a:srgbClr val="ea9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cxnSp>
        <p:nvCxnSpPr>
          <p:cNvPr id="485" name="AutoShape 15"/>
          <p:cNvCxnSpPr>
            <a:stCxn id="474" idx="28"/>
            <a:endCxn id="478" idx="0"/>
          </p:cNvCxnSpPr>
          <p:nvPr/>
        </p:nvCxnSpPr>
        <p:spPr>
          <a:xfrm>
            <a:off x="2198520" y="2234880"/>
            <a:ext cx="5760" cy="716760"/>
          </a:xfrm>
          <a:prstGeom prst="straightConnector1">
            <a:avLst/>
          </a:prstGeom>
          <a:ln w="9360">
            <a:solidFill>
              <a:srgbClr val="808080"/>
            </a:solidFill>
            <a:round/>
          </a:ln>
        </p:spPr>
      </p:cxnSp>
      <p:cxnSp>
        <p:nvCxnSpPr>
          <p:cNvPr id="486" name="AutoShape 16"/>
          <p:cNvCxnSpPr>
            <a:stCxn id="477" idx="28"/>
            <a:endCxn id="481" idx="0"/>
          </p:cNvCxnSpPr>
          <p:nvPr/>
        </p:nvCxnSpPr>
        <p:spPr>
          <a:xfrm>
            <a:off x="2198520" y="3377880"/>
            <a:ext cx="5760" cy="716760"/>
          </a:xfrm>
          <a:prstGeom prst="straightConnector1">
            <a:avLst/>
          </a:prstGeom>
          <a:ln w="9360">
            <a:solidFill>
              <a:srgbClr val="808080"/>
            </a:solidFill>
            <a:round/>
          </a:ln>
        </p:spPr>
      </p:cxnSp>
      <p:cxnSp>
        <p:nvCxnSpPr>
          <p:cNvPr id="487" name="AutoShape 17"/>
          <p:cNvCxnSpPr>
            <a:stCxn id="480" idx="28"/>
            <a:endCxn id="484" idx="0"/>
          </p:cNvCxnSpPr>
          <p:nvPr/>
        </p:nvCxnSpPr>
        <p:spPr>
          <a:xfrm>
            <a:off x="2198520" y="4520880"/>
            <a:ext cx="5760" cy="716760"/>
          </a:xfrm>
          <a:prstGeom prst="straightConnector1">
            <a:avLst/>
          </a:prstGeom>
          <a:ln w="9360">
            <a:solidFill>
              <a:srgbClr val="808080"/>
            </a:solidFill>
            <a:round/>
          </a:ln>
        </p:spPr>
      </p:cxnSp>
      <p:sp>
        <p:nvSpPr>
          <p:cNvPr id="488" name="Line 18"/>
          <p:cNvSpPr/>
          <p:nvPr/>
        </p:nvSpPr>
        <p:spPr>
          <a:xfrm>
            <a:off x="2255760" y="2521080"/>
            <a:ext cx="5943600" cy="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89" name="Line 19"/>
          <p:cNvSpPr/>
          <p:nvPr/>
        </p:nvSpPr>
        <p:spPr>
          <a:xfrm>
            <a:off x="2255760" y="3765600"/>
            <a:ext cx="5943600" cy="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0" name="Line 20"/>
          <p:cNvSpPr/>
          <p:nvPr/>
        </p:nvSpPr>
        <p:spPr>
          <a:xfrm flipV="1">
            <a:off x="2255760" y="4882680"/>
            <a:ext cx="5943600" cy="324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1" name="Text Box 21"/>
          <p:cNvSpPr/>
          <p:nvPr/>
        </p:nvSpPr>
        <p:spPr>
          <a:xfrm>
            <a:off x="3729600" y="581040"/>
            <a:ext cx="2152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3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3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3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2" name="Text Box 22"/>
          <p:cNvSpPr/>
          <p:nvPr/>
        </p:nvSpPr>
        <p:spPr>
          <a:xfrm>
            <a:off x="3663000" y="2825640"/>
            <a:ext cx="2152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3" name="Text Box 23"/>
          <p:cNvSpPr/>
          <p:nvPr/>
        </p:nvSpPr>
        <p:spPr>
          <a:xfrm>
            <a:off x="3663000" y="3968640"/>
            <a:ext cx="2152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4" name="Text Box 24"/>
          <p:cNvSpPr/>
          <p:nvPr/>
        </p:nvSpPr>
        <p:spPr>
          <a:xfrm>
            <a:off x="3663000" y="5111640"/>
            <a:ext cx="2152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49240" y="1150920"/>
            <a:ext cx="66391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AutoShape 3"/>
          <p:cNvSpPr/>
          <p:nvPr/>
        </p:nvSpPr>
        <p:spPr>
          <a:xfrm flipH="1">
            <a:off x="3137760" y="1916280"/>
            <a:ext cx="995400" cy="834840"/>
          </a:xfrm>
          <a:custGeom>
            <a:avLst/>
            <a:gdLst>
              <a:gd name="textAreaLeft" fmla="*/ 133200 w 995400"/>
              <a:gd name="textAreaRight" fmla="*/ 862200 w 995400"/>
              <a:gd name="textAreaTop" fmla="*/ 150480 h 834840"/>
              <a:gd name="textAreaBottom" fmla="*/ 590400 h 834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561"/>
                <a:lnTo>
                  <a:pt x="15468" y="21279"/>
                </a:lnTo>
                <a:lnTo>
                  <a:pt x="21600" y="17391"/>
                </a:lnTo>
                <a:lnTo>
                  <a:pt x="15468" y="12860"/>
                </a:lnTo>
                <a:lnTo>
                  <a:pt x="15468" y="15283"/>
                </a:lnTo>
                <a:arcTo wR="21600" hR="7802" stAng="7760439" swAng="2748170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7" name="AutoShape 4"/>
          <p:cNvSpPr/>
          <p:nvPr/>
        </p:nvSpPr>
        <p:spPr>
          <a:xfrm>
            <a:off x="1231920" y="1952640"/>
            <a:ext cx="995400" cy="834840"/>
          </a:xfrm>
          <a:custGeom>
            <a:avLst/>
            <a:gdLst>
              <a:gd name="textAreaLeft" fmla="*/ 133200 w 995400"/>
              <a:gd name="textAreaRight" fmla="*/ 862200 w 995400"/>
              <a:gd name="textAreaTop" fmla="*/ 141480 h 834840"/>
              <a:gd name="textAreaBottom" fmla="*/ 588600 h 834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394"/>
                <a:lnTo>
                  <a:pt x="15503" y="21302"/>
                </a:lnTo>
                <a:lnTo>
                  <a:pt x="21600" y="16775"/>
                </a:lnTo>
                <a:lnTo>
                  <a:pt x="15503" y="11652"/>
                </a:lnTo>
                <a:lnTo>
                  <a:pt x="15503" y="14362"/>
                </a:lnTo>
                <a:arcTo wR="21600" hR="7330" stAng="7855606" swAng="2594046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498" name="Group 5"/>
          <p:cNvGrpSpPr/>
          <p:nvPr/>
        </p:nvGrpSpPr>
        <p:grpSpPr>
          <a:xfrm>
            <a:off x="1171440" y="2959200"/>
            <a:ext cx="3003840" cy="2771280"/>
            <a:chOff x="1171440" y="2959200"/>
            <a:chExt cx="3003840" cy="2771280"/>
          </a:xfrm>
        </p:grpSpPr>
        <p:grpSp>
          <p:nvGrpSpPr>
            <p:cNvPr id="499" name="Group 6"/>
            <p:cNvGrpSpPr/>
            <p:nvPr/>
          </p:nvGrpSpPr>
          <p:grpSpPr>
            <a:xfrm>
              <a:off x="1346040" y="4147920"/>
              <a:ext cx="2706840" cy="1582560"/>
              <a:chOff x="1346040" y="4147920"/>
              <a:chExt cx="2706840" cy="1582560"/>
            </a:xfrm>
          </p:grpSpPr>
          <p:sp>
            <p:nvSpPr>
              <p:cNvPr id="500" name="Freeform 7"/>
              <p:cNvSpPr/>
              <p:nvPr/>
            </p:nvSpPr>
            <p:spPr>
              <a:xfrm>
                <a:off x="1346040" y="4680720"/>
                <a:ext cx="106344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501" name="Freeform 8"/>
              <p:cNvSpPr/>
              <p:nvPr/>
            </p:nvSpPr>
            <p:spPr>
              <a:xfrm>
                <a:off x="2397240" y="4599720"/>
                <a:ext cx="165528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b63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502" name="Freeform 9"/>
              <p:cNvSpPr/>
              <p:nvPr/>
            </p:nvSpPr>
            <p:spPr>
              <a:xfrm>
                <a:off x="1346040" y="4147920"/>
                <a:ext cx="270684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grpSp>
          <p:nvGrpSpPr>
            <p:cNvPr id="503" name="Group 10"/>
            <p:cNvGrpSpPr/>
            <p:nvPr/>
          </p:nvGrpSpPr>
          <p:grpSpPr>
            <a:xfrm>
              <a:off x="1288080" y="3761280"/>
              <a:ext cx="2802960" cy="1582560"/>
              <a:chOff x="1288080" y="3761280"/>
              <a:chExt cx="2802960" cy="1582560"/>
            </a:xfrm>
          </p:grpSpPr>
          <p:sp>
            <p:nvSpPr>
              <p:cNvPr id="504" name="Freeform 11"/>
              <p:cNvSpPr/>
              <p:nvPr/>
            </p:nvSpPr>
            <p:spPr>
              <a:xfrm>
                <a:off x="1288080" y="4294080"/>
                <a:ext cx="110124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505" name="Freeform 12"/>
              <p:cNvSpPr/>
              <p:nvPr/>
            </p:nvSpPr>
            <p:spPr>
              <a:xfrm>
                <a:off x="2376720" y="4213080"/>
                <a:ext cx="171432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96ad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506" name="Freeform 13"/>
              <p:cNvSpPr/>
              <p:nvPr/>
            </p:nvSpPr>
            <p:spPr>
              <a:xfrm>
                <a:off x="1288080" y="3761280"/>
                <a:ext cx="280296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grpSp>
          <p:nvGrpSpPr>
            <p:cNvPr id="507" name="Group 14"/>
            <p:cNvGrpSpPr/>
            <p:nvPr/>
          </p:nvGrpSpPr>
          <p:grpSpPr>
            <a:xfrm>
              <a:off x="1229400" y="3360960"/>
              <a:ext cx="2903040" cy="1582560"/>
              <a:chOff x="1229400" y="3360960"/>
              <a:chExt cx="2903040" cy="1582560"/>
            </a:xfrm>
          </p:grpSpPr>
          <p:sp>
            <p:nvSpPr>
              <p:cNvPr id="508" name="Freeform 15"/>
              <p:cNvSpPr/>
              <p:nvPr/>
            </p:nvSpPr>
            <p:spPr>
              <a:xfrm>
                <a:off x="1229400" y="3893760"/>
                <a:ext cx="114048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509" name="Freeform 16"/>
              <p:cNvSpPr/>
              <p:nvPr/>
            </p:nvSpPr>
            <p:spPr>
              <a:xfrm>
                <a:off x="2356920" y="3812760"/>
                <a:ext cx="177552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ea9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510" name="Freeform 17"/>
              <p:cNvSpPr/>
              <p:nvPr/>
            </p:nvSpPr>
            <p:spPr>
              <a:xfrm>
                <a:off x="1229400" y="3360960"/>
                <a:ext cx="290304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grpSp>
          <p:nvGrpSpPr>
            <p:cNvPr id="511" name="Group 18"/>
            <p:cNvGrpSpPr/>
            <p:nvPr/>
          </p:nvGrpSpPr>
          <p:grpSpPr>
            <a:xfrm>
              <a:off x="1171440" y="2959200"/>
              <a:ext cx="3003840" cy="1582560"/>
              <a:chOff x="1171440" y="2959200"/>
              <a:chExt cx="3003840" cy="1582560"/>
            </a:xfrm>
          </p:grpSpPr>
          <p:sp>
            <p:nvSpPr>
              <p:cNvPr id="512" name="Freeform 19"/>
              <p:cNvSpPr/>
              <p:nvPr/>
            </p:nvSpPr>
            <p:spPr>
              <a:xfrm>
                <a:off x="1171440" y="3492000"/>
                <a:ext cx="118008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513" name="Freeform 20"/>
              <p:cNvSpPr/>
              <p:nvPr/>
            </p:nvSpPr>
            <p:spPr>
              <a:xfrm>
                <a:off x="2338200" y="3411000"/>
                <a:ext cx="183708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3973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514" name="Freeform 21"/>
              <p:cNvSpPr/>
              <p:nvPr/>
            </p:nvSpPr>
            <p:spPr>
              <a:xfrm>
                <a:off x="1171440" y="2959200"/>
                <a:ext cx="300384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6d6"/>
                  </a:gs>
                  <a:gs pos="100000">
                    <a:srgbClr val="f8f8f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</p:grpSp>
      <p:sp>
        <p:nvSpPr>
          <p:cNvPr id="515" name="AutoShape 22"/>
          <p:cNvSpPr/>
          <p:nvPr/>
        </p:nvSpPr>
        <p:spPr>
          <a:xfrm>
            <a:off x="4913280" y="2266920"/>
            <a:ext cx="3916440" cy="5158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973b9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6" name="AutoShape 23"/>
          <p:cNvSpPr/>
          <p:nvPr/>
        </p:nvSpPr>
        <p:spPr>
          <a:xfrm>
            <a:off x="4898880" y="2979720"/>
            <a:ext cx="3900600" cy="52236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9c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7" name="AutoShape 24"/>
          <p:cNvSpPr/>
          <p:nvPr/>
        </p:nvSpPr>
        <p:spPr>
          <a:xfrm>
            <a:off x="4890960" y="4325760"/>
            <a:ext cx="3865680" cy="4492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639b9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8" name="AutoShape 25"/>
          <p:cNvSpPr/>
          <p:nvPr/>
        </p:nvSpPr>
        <p:spPr>
          <a:xfrm>
            <a:off x="4890960" y="3681360"/>
            <a:ext cx="3880080" cy="48276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ad23"/>
                </a:solidFill>
                <a:latin typeface="Arial"/>
                <a:ea typeface="宋体"/>
              </a:rPr>
              <a:t>亮亮图文旗舰店  </a:t>
            </a:r>
            <a:r>
              <a:rPr b="1" lang="en-US" sz="1800" spc="-1" strike="noStrike">
                <a:solidFill>
                  <a:srgbClr val="96ad23"/>
                </a:solidFill>
                <a:latin typeface="Arial"/>
                <a:ea typeface="宋体"/>
              </a:rPr>
              <a:t>https://liangliangtuwen.tmall.com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9" name="AutoShape 26"/>
          <p:cNvSpPr/>
          <p:nvPr/>
        </p:nvSpPr>
        <p:spPr>
          <a:xfrm rot="21055800">
            <a:off x="740880" y="3159000"/>
            <a:ext cx="393840" cy="1920960"/>
          </a:xfrm>
          <a:prstGeom prst="upArrow">
            <a:avLst>
              <a:gd name="adj1" fmla="val 50194"/>
              <a:gd name="adj2" fmla="val 74901"/>
            </a:avLst>
          </a:prstGeom>
          <a:gradFill rotWithShape="0">
            <a:gsLst>
              <a:gs pos="0">
                <a:srgbClr val="3973b9"/>
              </a:gs>
              <a:gs pos="100000">
                <a:srgbClr val="ffffff"/>
              </a:gs>
            </a:gsLst>
            <a:lin ang="59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20" name="Rectangle 27"/>
          <p:cNvSpPr/>
          <p:nvPr/>
        </p:nvSpPr>
        <p:spPr>
          <a:xfrm>
            <a:off x="312840" y="5234040"/>
            <a:ext cx="15652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products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521" name="Picture 28" descr="num11"/>
          <p:cNvPicPr/>
          <p:nvPr/>
        </p:nvPicPr>
        <p:blipFill>
          <a:blip r:embed="rId1"/>
          <a:stretch/>
        </p:blipFill>
        <p:spPr>
          <a:xfrm>
            <a:off x="880920" y="993600"/>
            <a:ext cx="2448000" cy="275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82720" y="2471400"/>
            <a:ext cx="66247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Group 3"/>
          <p:cNvGrpSpPr/>
          <p:nvPr/>
        </p:nvGrpSpPr>
        <p:grpSpPr>
          <a:xfrm>
            <a:off x="2120760" y="3511440"/>
            <a:ext cx="4905360" cy="2425320"/>
            <a:chOff x="2120760" y="3511440"/>
            <a:chExt cx="4905360" cy="2425320"/>
          </a:xfrm>
        </p:grpSpPr>
        <p:sp>
          <p:nvSpPr>
            <p:cNvPr id="524" name="AutoShape 4"/>
            <p:cNvSpPr/>
            <p:nvPr/>
          </p:nvSpPr>
          <p:spPr>
            <a:xfrm>
              <a:off x="2120760" y="3661560"/>
              <a:ext cx="4905360" cy="2275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013" y="10800"/>
                  </a:moveTo>
                  <a:cubicBezTo>
                    <a:pt x="3013" y="15101"/>
                    <a:pt x="6499" y="18587"/>
                    <a:pt x="10800" y="18587"/>
                  </a:cubicBezTo>
                  <a:cubicBezTo>
                    <a:pt x="15101" y="18587"/>
                    <a:pt x="18587" y="15101"/>
                    <a:pt x="18587" y="10800"/>
                  </a:cubicBezTo>
                  <a:cubicBezTo>
                    <a:pt x="18587" y="6499"/>
                    <a:pt x="15101" y="3013"/>
                    <a:pt x="10800" y="3013"/>
                  </a:cubicBezTo>
                  <a:cubicBezTo>
                    <a:pt x="6499" y="3013"/>
                    <a:pt x="3013" y="6499"/>
                    <a:pt x="3013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3b3b3b"/>
                </a:gs>
                <a:gs pos="50000">
                  <a:srgbClr val="808080"/>
                </a:gs>
                <a:gs pos="100000">
                  <a:srgbClr val="3b3b3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25" name="AutoShape 5"/>
            <p:cNvSpPr/>
            <p:nvPr/>
          </p:nvSpPr>
          <p:spPr>
            <a:xfrm>
              <a:off x="2120760" y="3519360"/>
              <a:ext cx="4905360" cy="2275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013" y="10800"/>
                  </a:moveTo>
                  <a:cubicBezTo>
                    <a:pt x="3013" y="15101"/>
                    <a:pt x="6499" y="18587"/>
                    <a:pt x="10800" y="18587"/>
                  </a:cubicBezTo>
                  <a:cubicBezTo>
                    <a:pt x="15101" y="18587"/>
                    <a:pt x="18587" y="15101"/>
                    <a:pt x="18587" y="10800"/>
                  </a:cubicBezTo>
                  <a:cubicBezTo>
                    <a:pt x="18587" y="6499"/>
                    <a:pt x="15101" y="3013"/>
                    <a:pt x="10800" y="3013"/>
                  </a:cubicBezTo>
                  <a:cubicBezTo>
                    <a:pt x="6499" y="3013"/>
                    <a:pt x="3013" y="6499"/>
                    <a:pt x="3013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3973b9"/>
                </a:gs>
                <a:gs pos="50000">
                  <a:srgbClr val="b639b9"/>
                </a:gs>
                <a:gs pos="100000">
                  <a:srgbClr val="3973b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26" name="Line 6"/>
            <p:cNvSpPr/>
            <p:nvPr/>
          </p:nvSpPr>
          <p:spPr>
            <a:xfrm flipV="1">
              <a:off x="4553280" y="3511440"/>
              <a:ext cx="0" cy="465120"/>
            </a:xfrm>
            <a:prstGeom prst="line">
              <a:avLst/>
            </a:prstGeom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27" name="Line 7"/>
            <p:cNvSpPr/>
            <p:nvPr/>
          </p:nvSpPr>
          <p:spPr>
            <a:xfrm>
              <a:off x="3155040" y="4161960"/>
              <a:ext cx="0" cy="148680"/>
            </a:xfrm>
            <a:prstGeom prst="line">
              <a:avLst/>
            </a:prstGeom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28" name="Line 8"/>
            <p:cNvSpPr/>
            <p:nvPr/>
          </p:nvSpPr>
          <p:spPr>
            <a:xfrm>
              <a:off x="5951880" y="4142520"/>
              <a:ext cx="0" cy="159120"/>
            </a:xfrm>
            <a:prstGeom prst="line">
              <a:avLst/>
            </a:prstGeom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29" name="Line 9"/>
            <p:cNvSpPr/>
            <p:nvPr/>
          </p:nvSpPr>
          <p:spPr>
            <a:xfrm flipV="1">
              <a:off x="5951880" y="3928680"/>
              <a:ext cx="497520" cy="213840"/>
            </a:xfrm>
            <a:prstGeom prst="line">
              <a:avLst/>
            </a:prstGeom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30" name="Line 10"/>
            <p:cNvSpPr/>
            <p:nvPr/>
          </p:nvSpPr>
          <p:spPr>
            <a:xfrm flipH="1" flipV="1">
              <a:off x="2662200" y="3937320"/>
              <a:ext cx="489600" cy="221400"/>
            </a:xfrm>
            <a:prstGeom prst="line">
              <a:avLst/>
            </a:prstGeom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31" name="Line 11"/>
            <p:cNvSpPr/>
            <p:nvPr/>
          </p:nvSpPr>
          <p:spPr>
            <a:xfrm flipH="1">
              <a:off x="3236400" y="5340960"/>
              <a:ext cx="377280" cy="270360"/>
            </a:xfrm>
            <a:prstGeom prst="line">
              <a:avLst/>
            </a:prstGeom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32" name="Line 12"/>
            <p:cNvSpPr/>
            <p:nvPr/>
          </p:nvSpPr>
          <p:spPr>
            <a:xfrm>
              <a:off x="5693760" y="5288040"/>
              <a:ext cx="473040" cy="234360"/>
            </a:xfrm>
            <a:prstGeom prst="line">
              <a:avLst/>
            </a:prstGeom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33" name="Line 13"/>
            <p:cNvSpPr/>
            <p:nvPr/>
          </p:nvSpPr>
          <p:spPr>
            <a:xfrm flipH="1">
              <a:off x="3228120" y="5607720"/>
              <a:ext cx="9000" cy="142200"/>
            </a:xfrm>
            <a:prstGeom prst="line">
              <a:avLst/>
            </a:prstGeom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34" name="Line 14"/>
            <p:cNvSpPr/>
            <p:nvPr/>
          </p:nvSpPr>
          <p:spPr>
            <a:xfrm flipH="1">
              <a:off x="6159960" y="5519880"/>
              <a:ext cx="9000" cy="142200"/>
            </a:xfrm>
            <a:prstGeom prst="line">
              <a:avLst/>
            </a:prstGeom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535" name="Line 15"/>
          <p:cNvSpPr/>
          <p:nvPr/>
        </p:nvSpPr>
        <p:spPr>
          <a:xfrm>
            <a:off x="3679920" y="3338640"/>
            <a:ext cx="0" cy="4363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36" name="Line 16"/>
          <p:cNvSpPr/>
          <p:nvPr/>
        </p:nvSpPr>
        <p:spPr>
          <a:xfrm>
            <a:off x="5499000" y="3294000"/>
            <a:ext cx="0" cy="4809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37" name="Line 17"/>
          <p:cNvSpPr/>
          <p:nvPr/>
        </p:nvSpPr>
        <p:spPr>
          <a:xfrm flipV="1">
            <a:off x="4659480" y="5637240"/>
            <a:ext cx="0" cy="5349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38" name="Line 18"/>
          <p:cNvSpPr/>
          <p:nvPr/>
        </p:nvSpPr>
        <p:spPr>
          <a:xfrm flipH="1">
            <a:off x="6630480" y="4600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39" name="Line 19"/>
          <p:cNvSpPr/>
          <p:nvPr/>
        </p:nvSpPr>
        <p:spPr>
          <a:xfrm>
            <a:off x="1893960" y="4600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0" name="Text Box 20"/>
          <p:cNvSpPr/>
          <p:nvPr/>
        </p:nvSpPr>
        <p:spPr>
          <a:xfrm>
            <a:off x="2830680" y="29034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1" name="Text Box 21"/>
          <p:cNvSpPr/>
          <p:nvPr/>
        </p:nvSpPr>
        <p:spPr>
          <a:xfrm>
            <a:off x="4672080" y="29034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2" name="Text Box 22"/>
          <p:cNvSpPr/>
          <p:nvPr/>
        </p:nvSpPr>
        <p:spPr>
          <a:xfrm>
            <a:off x="7218360" y="3940200"/>
            <a:ext cx="16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3" name="Text Box 23"/>
          <p:cNvSpPr/>
          <p:nvPr/>
        </p:nvSpPr>
        <p:spPr>
          <a:xfrm>
            <a:off x="3811680" y="619272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4" name="Text Box 24"/>
          <p:cNvSpPr/>
          <p:nvPr/>
        </p:nvSpPr>
        <p:spPr>
          <a:xfrm>
            <a:off x="301680" y="3863880"/>
            <a:ext cx="15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5" name="Text Box 25"/>
          <p:cNvSpPr/>
          <p:nvPr/>
        </p:nvSpPr>
        <p:spPr>
          <a:xfrm>
            <a:off x="3691080" y="4403880"/>
            <a:ext cx="17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6" name="AutoShape 26"/>
          <p:cNvSpPr/>
          <p:nvPr/>
        </p:nvSpPr>
        <p:spPr>
          <a:xfrm>
            <a:off x="3373560" y="4070520"/>
            <a:ext cx="2340000" cy="663480"/>
          </a:xfrm>
          <a:custGeom>
            <a:avLst/>
            <a:gdLst/>
            <a:ahLst/>
            <a:rect l="l" t="t" r="r" b="b"/>
            <a:pathLst>
              <a:path w="24299" h="14701">
                <a:moveTo>
                  <a:pt x="19269" y="10830"/>
                </a:moveTo>
                <a:cubicBezTo>
                  <a:pt x="19269" y="10820"/>
                  <a:pt x="19270" y="10810"/>
                  <a:pt x="19270" y="10800"/>
                </a:cubicBezTo>
                <a:cubicBezTo>
                  <a:pt x="19270" y="6122"/>
                  <a:pt x="15477" y="2330"/>
                  <a:pt x="10800" y="2330"/>
                </a:cubicBezTo>
                <a:cubicBezTo>
                  <a:pt x="6226" y="2329"/>
                  <a:pt x="2478" y="5961"/>
                  <a:pt x="2334" y="10532"/>
                </a:cubicBezTo>
                <a:lnTo>
                  <a:pt x="5" y="10459"/>
                </a:lnTo>
                <a:cubicBezTo>
                  <a:pt x="189" y="4630"/>
                  <a:pt x="4968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0813"/>
                  <a:pt x="21599" y="10826"/>
                  <a:pt x="21599" y="10839"/>
                </a:cubicBezTo>
                <a:lnTo>
                  <a:pt x="24299" y="10849"/>
                </a:lnTo>
                <a:lnTo>
                  <a:pt x="20420" y="14700"/>
                </a:lnTo>
                <a:lnTo>
                  <a:pt x="16569" y="10821"/>
                </a:lnTo>
                <a:lnTo>
                  <a:pt x="19269" y="10830"/>
                </a:lnTo>
                <a:close/>
              </a:path>
            </a:pathLst>
          </a:custGeom>
          <a:gradFill rotWithShape="0">
            <a:gsLst>
              <a:gs pos="0">
                <a:srgbClr val="805500"/>
              </a:gs>
              <a:gs pos="100000">
                <a:srgbClr val="ea9c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7" name="AutoShape 27"/>
          <p:cNvSpPr/>
          <p:nvPr/>
        </p:nvSpPr>
        <p:spPr>
          <a:xfrm flipH="1" flipV="1">
            <a:off x="3452760" y="4702320"/>
            <a:ext cx="2392560" cy="620640"/>
          </a:xfrm>
          <a:custGeom>
            <a:avLst/>
            <a:gdLst/>
            <a:ahLst/>
            <a:rect l="l" t="t" r="r" b="b"/>
            <a:pathLst>
              <a:path w="24299" h="14577">
                <a:moveTo>
                  <a:pt x="19373" y="10767"/>
                </a:moveTo>
                <a:cubicBezTo>
                  <a:pt x="19356" y="6045"/>
                  <a:pt x="15522" y="2226"/>
                  <a:pt x="10800" y="2226"/>
                </a:cubicBezTo>
                <a:cubicBezTo>
                  <a:pt x="6170" y="2225"/>
                  <a:pt x="2376" y="5901"/>
                  <a:pt x="2230" y="10529"/>
                </a:cubicBezTo>
                <a:lnTo>
                  <a:pt x="5" y="10459"/>
                </a:lnTo>
                <a:cubicBezTo>
                  <a:pt x="189" y="4630"/>
                  <a:pt x="4968" y="-1"/>
                  <a:pt x="10800" y="0"/>
                </a:cubicBezTo>
                <a:cubicBezTo>
                  <a:pt x="16748" y="0"/>
                  <a:pt x="21577" y="4810"/>
                  <a:pt x="21599" y="10759"/>
                </a:cubicBezTo>
                <a:lnTo>
                  <a:pt x="24299" y="10749"/>
                </a:lnTo>
                <a:lnTo>
                  <a:pt x="20501" y="14576"/>
                </a:lnTo>
                <a:lnTo>
                  <a:pt x="16673" y="10778"/>
                </a:lnTo>
                <a:lnTo>
                  <a:pt x="19373" y="10767"/>
                </a:lnTo>
                <a:close/>
              </a:path>
            </a:pathLst>
          </a:custGeom>
          <a:gradFill rotWithShape="0">
            <a:gsLst>
              <a:gs pos="0">
                <a:srgbClr val="9c6800"/>
              </a:gs>
              <a:gs pos="100000">
                <a:srgbClr val="ea9c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8" name="Rectangle 28"/>
          <p:cNvSpPr/>
          <p:nvPr/>
        </p:nvSpPr>
        <p:spPr>
          <a:xfrm>
            <a:off x="1114560" y="1452600"/>
            <a:ext cx="55497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09360" y="917280"/>
            <a:ext cx="7775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AutoShape 3"/>
          <p:cNvSpPr/>
          <p:nvPr/>
        </p:nvSpPr>
        <p:spPr>
          <a:xfrm>
            <a:off x="703440" y="5040360"/>
            <a:ext cx="2143080" cy="1035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51" name="AutoShape 4"/>
          <p:cNvSpPr/>
          <p:nvPr/>
        </p:nvSpPr>
        <p:spPr>
          <a:xfrm>
            <a:off x="6353280" y="5038560"/>
            <a:ext cx="2143080" cy="993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52" name="AutoShape 5"/>
          <p:cNvSpPr/>
          <p:nvPr/>
        </p:nvSpPr>
        <p:spPr>
          <a:xfrm>
            <a:off x="6369120" y="1406520"/>
            <a:ext cx="2143080" cy="965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53" name="AutoShape 6"/>
          <p:cNvSpPr/>
          <p:nvPr/>
        </p:nvSpPr>
        <p:spPr>
          <a:xfrm>
            <a:off x="752400" y="1382760"/>
            <a:ext cx="2143080" cy="987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54" name="AutoShape 7"/>
          <p:cNvSpPr/>
          <p:nvPr/>
        </p:nvSpPr>
        <p:spPr>
          <a:xfrm>
            <a:off x="2708280" y="1638360"/>
            <a:ext cx="1022400" cy="48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55" name="Arc 8"/>
          <p:cNvSpPr/>
          <p:nvPr/>
        </p:nvSpPr>
        <p:spPr>
          <a:xfrm flipH="1" flipV="1" rot="5400000">
            <a:off x="3259080" y="1770120"/>
            <a:ext cx="419040" cy="216000"/>
          </a:xfrm>
          <a:custGeom>
            <a:avLst/>
            <a:gdLst/>
            <a:ahLst/>
            <a:rect l="l" t="t" r="r" b="b"/>
            <a:pathLst>
              <a:path fill="none" w="43200" h="22192">
                <a:moveTo>
                  <a:pt x="8" y="22191"/>
                </a:moveTo>
                <a:cubicBezTo>
                  <a:pt x="2" y="21994"/>
                  <a:pt x="0" y="217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1667"/>
                  <a:pt x="43199" y="21734"/>
                  <a:pt x="43199" y="21801"/>
                </a:cubicBezTo>
              </a:path>
              <a:path stroke="0" w="43200" h="22192">
                <a:moveTo>
                  <a:pt x="8" y="22191"/>
                </a:moveTo>
                <a:cubicBezTo>
                  <a:pt x="2" y="21994"/>
                  <a:pt x="0" y="217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1667"/>
                  <a:pt x="43199" y="21734"/>
                  <a:pt x="43199" y="21801"/>
                </a:cubicBezTo>
                <a:lnTo>
                  <a:pt x="21600" y="21600"/>
                </a:lnTo>
                <a:close/>
              </a:path>
            </a:pathLst>
          </a:custGeom>
          <a:solidFill>
            <a:srgbClr val="ea9c00"/>
          </a:solidFill>
          <a:ln w="0">
            <a:noFill/>
          </a:ln>
          <a:effectLst>
            <a:outerShdw dist="52300" dir="4563564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56" name="AutoShape 9"/>
          <p:cNvSpPr/>
          <p:nvPr/>
        </p:nvSpPr>
        <p:spPr>
          <a:xfrm>
            <a:off x="2679840" y="5326200"/>
            <a:ext cx="995400" cy="455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57" name="Arc 10"/>
          <p:cNvSpPr/>
          <p:nvPr/>
        </p:nvSpPr>
        <p:spPr>
          <a:xfrm rot="9670200">
            <a:off x="3330360" y="5352480"/>
            <a:ext cx="206280" cy="355320"/>
          </a:xfrm>
          <a:custGeom>
            <a:avLst/>
            <a:gdLst/>
            <a:ahLst/>
            <a:rect l="l" t="t" r="r" b="b"/>
            <a:pathLst>
              <a:path fill="none" w="11660" h="21600">
                <a:moveTo>
                  <a:pt x="-1" y="727"/>
                </a:moveTo>
                <a:cubicBezTo>
                  <a:pt x="1813" y="244"/>
                  <a:pt x="3682" y="-1"/>
                  <a:pt x="5560" y="0"/>
                </a:cubicBezTo>
                <a:cubicBezTo>
                  <a:pt x="7624" y="0"/>
                  <a:pt x="9679" y="296"/>
                  <a:pt x="11659" y="879"/>
                </a:cubicBezTo>
              </a:path>
              <a:path stroke="0" w="11660" h="21600">
                <a:moveTo>
                  <a:pt x="-1" y="727"/>
                </a:moveTo>
                <a:cubicBezTo>
                  <a:pt x="1813" y="244"/>
                  <a:pt x="3682" y="-1"/>
                  <a:pt x="5560" y="0"/>
                </a:cubicBezTo>
                <a:cubicBezTo>
                  <a:pt x="7624" y="0"/>
                  <a:pt x="9679" y="296"/>
                  <a:pt x="11659" y="879"/>
                </a:cubicBezTo>
                <a:lnTo>
                  <a:pt x="5560" y="21600"/>
                </a:lnTo>
                <a:close/>
              </a:path>
            </a:pathLst>
          </a:custGeom>
          <a:solidFill>
            <a:srgbClr val="b639b9"/>
          </a:solidFill>
          <a:ln w="9360">
            <a:solidFill>
              <a:srgbClr val="969696"/>
            </a:solidFill>
            <a:round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58" name="AutoShape 11"/>
          <p:cNvSpPr/>
          <p:nvPr/>
        </p:nvSpPr>
        <p:spPr>
          <a:xfrm>
            <a:off x="5630760" y="5338800"/>
            <a:ext cx="96048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59" name="AutoShape 12"/>
          <p:cNvSpPr/>
          <p:nvPr/>
        </p:nvSpPr>
        <p:spPr>
          <a:xfrm>
            <a:off x="5648400" y="1671480"/>
            <a:ext cx="958680" cy="454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0" name="Arc 13"/>
          <p:cNvSpPr/>
          <p:nvPr/>
        </p:nvSpPr>
        <p:spPr>
          <a:xfrm rot="5400000">
            <a:off x="6168600" y="5423040"/>
            <a:ext cx="365400" cy="253800"/>
          </a:xfrm>
          <a:custGeom>
            <a:avLst/>
            <a:gdLst/>
            <a:ahLst/>
            <a:rect l="l" t="t" r="r" b="b"/>
            <a:pathLst>
              <a:path fill="none" w="31154" h="21600">
                <a:moveTo>
                  <a:pt x="0" y="4462"/>
                </a:moveTo>
                <a:cubicBezTo>
                  <a:pt x="3772" y="1568"/>
                  <a:pt x="8393" y="-1"/>
                  <a:pt x="13148" y="0"/>
                </a:cubicBezTo>
                <a:cubicBezTo>
                  <a:pt x="20391" y="0"/>
                  <a:pt x="27153" y="3631"/>
                  <a:pt x="31154" y="9669"/>
                </a:cubicBezTo>
              </a:path>
              <a:path stroke="0" w="31154" h="21600">
                <a:moveTo>
                  <a:pt x="0" y="4462"/>
                </a:moveTo>
                <a:cubicBezTo>
                  <a:pt x="3772" y="1568"/>
                  <a:pt x="8393" y="-1"/>
                  <a:pt x="13148" y="0"/>
                </a:cubicBezTo>
                <a:cubicBezTo>
                  <a:pt x="20391" y="0"/>
                  <a:pt x="27153" y="3631"/>
                  <a:pt x="31154" y="9669"/>
                </a:cubicBezTo>
                <a:lnTo>
                  <a:pt x="13148" y="21600"/>
                </a:lnTo>
                <a:close/>
              </a:path>
            </a:pathLst>
          </a:custGeom>
          <a:solidFill>
            <a:srgbClr val="3973b9"/>
          </a:solidFill>
          <a:ln w="0">
            <a:noFill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1" name="Arc 14"/>
          <p:cNvSpPr/>
          <p:nvPr/>
        </p:nvSpPr>
        <p:spPr>
          <a:xfrm>
            <a:off x="6275520" y="1711440"/>
            <a:ext cx="272880" cy="347400"/>
          </a:xfrm>
          <a:custGeom>
            <a:avLst/>
            <a:gdLst/>
            <a:ahLst/>
            <a:rect l="l" t="t" r="r" b="b"/>
            <a:pathLst>
              <a:path fill="none" w="17047" h="21600">
                <a:moveTo>
                  <a:pt x="-1" y="0"/>
                </a:moveTo>
                <a:cubicBezTo>
                  <a:pt x="6663" y="0"/>
                  <a:pt x="12954" y="3075"/>
                  <a:pt x="17046" y="8335"/>
                </a:cubicBezTo>
              </a:path>
              <a:path stroke="0" w="17047" h="21600">
                <a:moveTo>
                  <a:pt x="-1" y="0"/>
                </a:moveTo>
                <a:cubicBezTo>
                  <a:pt x="6663" y="0"/>
                  <a:pt x="12954" y="3075"/>
                  <a:pt x="17046" y="8335"/>
                </a:cubicBezTo>
                <a:lnTo>
                  <a:pt x="0" y="21600"/>
                </a:lnTo>
                <a:close/>
              </a:path>
            </a:pathLst>
          </a:custGeom>
          <a:solidFill>
            <a:srgbClr val="3973b9"/>
          </a:solidFill>
          <a:ln w="9360">
            <a:solidFill>
              <a:srgbClr val="3973b9"/>
            </a:solidFill>
            <a:round/>
          </a:ln>
          <a:effectLst>
            <a:outerShdw dist="81185" dir="2321969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2" name="Text Box 15"/>
          <p:cNvSpPr/>
          <p:nvPr/>
        </p:nvSpPr>
        <p:spPr>
          <a:xfrm>
            <a:off x="2638440" y="167472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3" name="Text Box 16"/>
          <p:cNvSpPr/>
          <p:nvPr/>
        </p:nvSpPr>
        <p:spPr>
          <a:xfrm>
            <a:off x="5540400" y="537840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4%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4" name="Text Box 17"/>
          <p:cNvSpPr/>
          <p:nvPr/>
        </p:nvSpPr>
        <p:spPr>
          <a:xfrm>
            <a:off x="2598840" y="537228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5" name="Text Box 18"/>
          <p:cNvSpPr/>
          <p:nvPr/>
        </p:nvSpPr>
        <p:spPr>
          <a:xfrm>
            <a:off x="5549760" y="171612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6" name="Rectangle 19"/>
          <p:cNvSpPr/>
          <p:nvPr/>
        </p:nvSpPr>
        <p:spPr>
          <a:xfrm>
            <a:off x="820800" y="1428840"/>
            <a:ext cx="17463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7" name="Rectangle 20"/>
          <p:cNvSpPr/>
          <p:nvPr/>
        </p:nvSpPr>
        <p:spPr>
          <a:xfrm>
            <a:off x="6800760" y="5075280"/>
            <a:ext cx="16160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Symbo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ervice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8" name="Rectangle 21"/>
          <p:cNvSpPr/>
          <p:nvPr/>
        </p:nvSpPr>
        <p:spPr>
          <a:xfrm>
            <a:off x="763560" y="5113440"/>
            <a:ext cx="1925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9" name="Rectangle 22"/>
          <p:cNvSpPr/>
          <p:nvPr/>
        </p:nvSpPr>
        <p:spPr>
          <a:xfrm>
            <a:off x="6834240" y="1428840"/>
            <a:ext cx="1598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Symbo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market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570" name="Group 23"/>
          <p:cNvGrpSpPr/>
          <p:nvPr/>
        </p:nvGrpSpPr>
        <p:grpSpPr>
          <a:xfrm>
            <a:off x="3073680" y="2107800"/>
            <a:ext cx="3089160" cy="3186360"/>
            <a:chOff x="3073680" y="2107800"/>
            <a:chExt cx="3089160" cy="3186360"/>
          </a:xfrm>
        </p:grpSpPr>
        <p:sp>
          <p:nvSpPr>
            <p:cNvPr id="571" name="Oval 24"/>
            <p:cNvSpPr/>
            <p:nvPr/>
          </p:nvSpPr>
          <p:spPr>
            <a:xfrm>
              <a:off x="3111480" y="2112480"/>
              <a:ext cx="3040920" cy="30214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27058"/>
                  </a:srgbClr>
                </a:gs>
                <a:gs pos="50000">
                  <a:srgbClr val="99ccff">
                    <a:alpha val="0"/>
                  </a:srgbClr>
                </a:gs>
                <a:gs pos="100000">
                  <a:srgbClr val="000000">
                    <a:alpha val="27058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pic>
          <p:nvPicPr>
            <p:cNvPr id="572" name="Picture 25" descr="aa"/>
            <p:cNvPicPr/>
            <p:nvPr/>
          </p:nvPicPr>
          <p:blipFill>
            <a:blip r:embed="rId1"/>
            <a:stretch/>
          </p:blipFill>
          <p:spPr>
            <a:xfrm>
              <a:off x="3111480" y="2107800"/>
              <a:ext cx="3051360" cy="304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Arc 26"/>
            <p:cNvSpPr/>
            <p:nvPr/>
          </p:nvSpPr>
          <p:spPr>
            <a:xfrm>
              <a:off x="4606920" y="2107800"/>
              <a:ext cx="1220760" cy="1519920"/>
            </a:xfrm>
            <a:custGeom>
              <a:avLst/>
              <a:gdLst/>
              <a:ahLst/>
              <a:rect l="l" t="t" r="r" b="b"/>
              <a:pathLst>
                <a:path fill="none" w="17369" h="21600">
                  <a:moveTo>
                    <a:pt x="0" y="2"/>
                  </a:moveTo>
                  <a:cubicBezTo>
                    <a:pt x="107" y="0"/>
                    <a:pt x="214" y="-1"/>
                    <a:pt x="322" y="0"/>
                  </a:cubicBezTo>
                  <a:cubicBezTo>
                    <a:pt x="6985" y="0"/>
                    <a:pt x="13276" y="3075"/>
                    <a:pt x="17368" y="8335"/>
                  </a:cubicBezTo>
                </a:path>
                <a:path stroke="0" w="17369" h="21600">
                  <a:moveTo>
                    <a:pt x="0" y="2"/>
                  </a:moveTo>
                  <a:cubicBezTo>
                    <a:pt x="107" y="0"/>
                    <a:pt x="214" y="-1"/>
                    <a:pt x="322" y="0"/>
                  </a:cubicBezTo>
                  <a:cubicBezTo>
                    <a:pt x="6985" y="0"/>
                    <a:pt x="13276" y="3075"/>
                    <a:pt x="17368" y="8335"/>
                  </a:cubicBezTo>
                  <a:lnTo>
                    <a:pt x="322" y="21600"/>
                  </a:lnTo>
                  <a:close/>
                </a:path>
              </a:pathLst>
            </a:custGeom>
            <a:solidFill>
              <a:srgbClr val="3973b9">
                <a:alpha val="70000"/>
              </a:srgbClr>
            </a:solidFill>
            <a:ln w="9360">
              <a:solidFill>
                <a:srgbClr val="3973b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74" name="Arc 27"/>
            <p:cNvSpPr/>
            <p:nvPr/>
          </p:nvSpPr>
          <p:spPr>
            <a:xfrm rot="5400000">
              <a:off x="4288680" y="3025800"/>
              <a:ext cx="2220480" cy="1519200"/>
            </a:xfrm>
            <a:custGeom>
              <a:avLst/>
              <a:gdLst/>
              <a:ahLst/>
              <a:rect l="l" t="t" r="r" b="b"/>
              <a:pathLst>
                <a:path fill="none" w="31543" h="21600">
                  <a:moveTo>
                    <a:pt x="0" y="4768"/>
                  </a:moveTo>
                  <a:cubicBezTo>
                    <a:pt x="3837" y="1682"/>
                    <a:pt x="8613" y="-1"/>
                    <a:pt x="13537" y="0"/>
                  </a:cubicBezTo>
                  <a:cubicBezTo>
                    <a:pt x="20780" y="0"/>
                    <a:pt x="27542" y="3631"/>
                    <a:pt x="31543" y="9669"/>
                  </a:cubicBezTo>
                </a:path>
                <a:path stroke="0" w="31543" h="21600">
                  <a:moveTo>
                    <a:pt x="0" y="4768"/>
                  </a:moveTo>
                  <a:cubicBezTo>
                    <a:pt x="3837" y="1682"/>
                    <a:pt x="8613" y="-1"/>
                    <a:pt x="13537" y="0"/>
                  </a:cubicBezTo>
                  <a:cubicBezTo>
                    <a:pt x="20780" y="0"/>
                    <a:pt x="27542" y="3631"/>
                    <a:pt x="31543" y="9669"/>
                  </a:cubicBezTo>
                  <a:lnTo>
                    <a:pt x="13537" y="21600"/>
                  </a:lnTo>
                  <a:close/>
                </a:path>
              </a:pathLst>
            </a:custGeom>
            <a:solidFill>
              <a:srgbClr val="3973b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75" name="Arc 28"/>
            <p:cNvSpPr/>
            <p:nvPr/>
          </p:nvSpPr>
          <p:spPr>
            <a:xfrm flipH="1" flipV="1" rot="5400000">
              <a:off x="2397960" y="2841480"/>
              <a:ext cx="3024000" cy="1580400"/>
            </a:xfrm>
            <a:custGeom>
              <a:avLst/>
              <a:gdLst/>
              <a:ahLst/>
              <a:rect l="l" t="t" r="r" b="b"/>
              <a:pathLst>
                <a:path fill="none" w="43197" h="22479">
                  <a:moveTo>
                    <a:pt x="17" y="22479"/>
                  </a:moveTo>
                  <a:cubicBezTo>
                    <a:pt x="5" y="22186"/>
                    <a:pt x="0" y="21893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377" y="-1"/>
                    <a:pt x="42984" y="9435"/>
                    <a:pt x="43196" y="21211"/>
                  </a:cubicBezTo>
                </a:path>
                <a:path stroke="0" w="43197" h="22479">
                  <a:moveTo>
                    <a:pt x="17" y="22479"/>
                  </a:moveTo>
                  <a:cubicBezTo>
                    <a:pt x="5" y="22186"/>
                    <a:pt x="0" y="21893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377" y="-1"/>
                    <a:pt x="42984" y="9435"/>
                    <a:pt x="43196" y="21211"/>
                  </a:cubicBezTo>
                  <a:lnTo>
                    <a:pt x="21600" y="21600"/>
                  </a:lnTo>
                  <a:close/>
                </a:path>
              </a:pathLst>
            </a:custGeom>
            <a:solidFill>
              <a:srgbClr val="ea9c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grpSp>
          <p:nvGrpSpPr>
            <p:cNvPr id="576" name="Group 29"/>
            <p:cNvGrpSpPr/>
            <p:nvPr/>
          </p:nvGrpSpPr>
          <p:grpSpPr>
            <a:xfrm>
              <a:off x="3073680" y="3656880"/>
              <a:ext cx="1736280" cy="1637280"/>
              <a:chOff x="3073680" y="3656880"/>
              <a:chExt cx="1736280" cy="1637280"/>
            </a:xfrm>
          </p:grpSpPr>
          <p:sp>
            <p:nvSpPr>
              <p:cNvPr id="577" name="AutoShape 30"/>
              <p:cNvSpPr/>
              <p:nvPr/>
            </p:nvSpPr>
            <p:spPr>
              <a:xfrm flipV="1" rot="19510800">
                <a:off x="3479760" y="3616200"/>
                <a:ext cx="339840" cy="1530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578" name="AutoShape 31"/>
              <p:cNvSpPr/>
              <p:nvPr/>
            </p:nvSpPr>
            <p:spPr>
              <a:xfrm flipV="1" rot="18694800">
                <a:off x="3633840" y="3819240"/>
                <a:ext cx="339840" cy="1530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579" name="AutoShape 32"/>
              <p:cNvSpPr/>
              <p:nvPr/>
            </p:nvSpPr>
            <p:spPr>
              <a:xfrm flipV="1" rot="18399600">
                <a:off x="3746160" y="3912840"/>
                <a:ext cx="339840" cy="1530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580" name="AutoShape 33"/>
              <p:cNvSpPr/>
              <p:nvPr/>
            </p:nvSpPr>
            <p:spPr>
              <a:xfrm flipV="1" rot="17867400">
                <a:off x="3883680" y="4021560"/>
                <a:ext cx="339840" cy="1530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sp>
          <p:nvSpPr>
            <p:cNvPr id="581" name="Arc 34"/>
            <p:cNvSpPr/>
            <p:nvPr/>
          </p:nvSpPr>
          <p:spPr>
            <a:xfrm rot="9670200">
              <a:off x="4453200" y="3589920"/>
              <a:ext cx="820080" cy="1519920"/>
            </a:xfrm>
            <a:custGeom>
              <a:avLst/>
              <a:gdLst/>
              <a:ahLst/>
              <a:rect l="l" t="t" r="r" b="b"/>
              <a:pathLst>
                <a:path fill="none" w="11660" h="21600">
                  <a:moveTo>
                    <a:pt x="-1" y="727"/>
                  </a:moveTo>
                  <a:cubicBezTo>
                    <a:pt x="1813" y="244"/>
                    <a:pt x="3682" y="-1"/>
                    <a:pt x="5560" y="0"/>
                  </a:cubicBezTo>
                  <a:cubicBezTo>
                    <a:pt x="7624" y="0"/>
                    <a:pt x="9679" y="296"/>
                    <a:pt x="11659" y="879"/>
                  </a:cubicBezTo>
                </a:path>
                <a:path stroke="0" w="11660" h="21600">
                  <a:moveTo>
                    <a:pt x="-1" y="727"/>
                  </a:moveTo>
                  <a:cubicBezTo>
                    <a:pt x="1813" y="244"/>
                    <a:pt x="3682" y="-1"/>
                    <a:pt x="5560" y="0"/>
                  </a:cubicBezTo>
                  <a:cubicBezTo>
                    <a:pt x="7624" y="0"/>
                    <a:pt x="9679" y="296"/>
                    <a:pt x="11659" y="879"/>
                  </a:cubicBezTo>
                  <a:lnTo>
                    <a:pt x="556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b639b9">
                    <a:alpha val="70196"/>
                  </a:srgbClr>
                </a:gs>
                <a:gs pos="100000">
                  <a:srgbClr val="541a56"/>
                </a:gs>
              </a:gsLst>
              <a:lin ang="1732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82" name="Oval 35"/>
            <p:cNvSpPr/>
            <p:nvPr/>
          </p:nvSpPr>
          <p:spPr>
            <a:xfrm>
              <a:off x="4114440" y="3120840"/>
              <a:ext cx="1035000" cy="103464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83" name="Text Box 36"/>
            <p:cNvSpPr/>
            <p:nvPr/>
          </p:nvSpPr>
          <p:spPr>
            <a:xfrm>
              <a:off x="3144960" y="3397320"/>
              <a:ext cx="89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0%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84" name="Text Box 37"/>
            <p:cNvSpPr/>
            <p:nvPr/>
          </p:nvSpPr>
          <p:spPr>
            <a:xfrm>
              <a:off x="5340960" y="3576960"/>
              <a:ext cx="69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4%</a:t>
              </a:r>
              <a:endParaRPr b="0" lang="en-US" sz="20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85" name="Text Box 38"/>
            <p:cNvSpPr/>
            <p:nvPr/>
          </p:nvSpPr>
          <p:spPr>
            <a:xfrm>
              <a:off x="4664160" y="2520360"/>
              <a:ext cx="69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6%</a:t>
              </a:r>
              <a:endParaRPr b="0" lang="en-US" sz="20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86" name="Text Box 39"/>
            <p:cNvSpPr/>
            <p:nvPr/>
          </p:nvSpPr>
          <p:spPr>
            <a:xfrm>
              <a:off x="4664160" y="4483080"/>
              <a:ext cx="69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0%</a:t>
              </a:r>
              <a:endParaRPr b="0" lang="en-US" sz="20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grpSp>
          <p:nvGrpSpPr>
            <p:cNvPr id="587" name="Group 40"/>
            <p:cNvGrpSpPr/>
            <p:nvPr/>
          </p:nvGrpSpPr>
          <p:grpSpPr>
            <a:xfrm>
              <a:off x="4417560" y="2112480"/>
              <a:ext cx="1679040" cy="1388520"/>
              <a:chOff x="4417560" y="2112480"/>
              <a:chExt cx="1679040" cy="1388520"/>
            </a:xfrm>
          </p:grpSpPr>
          <p:grpSp>
            <p:nvGrpSpPr>
              <p:cNvPr id="588" name="Group 41"/>
              <p:cNvGrpSpPr/>
              <p:nvPr/>
            </p:nvGrpSpPr>
            <p:grpSpPr>
              <a:xfrm>
                <a:off x="4783320" y="2112480"/>
                <a:ext cx="1313280" cy="1388520"/>
                <a:chOff x="4783320" y="2112480"/>
                <a:chExt cx="1313280" cy="1388520"/>
              </a:xfrm>
            </p:grpSpPr>
            <p:sp>
              <p:nvSpPr>
                <p:cNvPr id="589" name="AutoShape 42"/>
                <p:cNvSpPr/>
                <p:nvPr/>
              </p:nvSpPr>
              <p:spPr>
                <a:xfrm flipV="1" rot="8983800">
                  <a:off x="5533560" y="2291040"/>
                  <a:ext cx="272520" cy="122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590" name="AutoShape 43"/>
                <p:cNvSpPr/>
                <p:nvPr/>
              </p:nvSpPr>
              <p:spPr>
                <a:xfrm flipV="1" rot="8167800">
                  <a:off x="5423760" y="2118960"/>
                  <a:ext cx="272520" cy="1224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591" name="AutoShape 44"/>
                <p:cNvSpPr/>
                <p:nvPr/>
              </p:nvSpPr>
              <p:spPr>
                <a:xfrm flipV="1" rot="7872600">
                  <a:off x="5340240" y="2036880"/>
                  <a:ext cx="272520" cy="122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592" name="AutoShape 45"/>
                <p:cNvSpPr/>
                <p:nvPr/>
              </p:nvSpPr>
              <p:spPr>
                <a:xfrm flipV="1" rot="7340400">
                  <a:off x="5236920" y="1942560"/>
                  <a:ext cx="272520" cy="1224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593" name="Group 46"/>
              <p:cNvGrpSpPr/>
              <p:nvPr/>
            </p:nvGrpSpPr>
            <p:grpSpPr>
              <a:xfrm>
                <a:off x="4417560" y="2119320"/>
                <a:ext cx="1603800" cy="966960"/>
                <a:chOff x="4417560" y="2119320"/>
                <a:chExt cx="1603800" cy="966960"/>
              </a:xfrm>
            </p:grpSpPr>
            <p:sp>
              <p:nvSpPr>
                <p:cNvPr id="594" name="AutoShape 47"/>
                <p:cNvSpPr/>
                <p:nvPr/>
              </p:nvSpPr>
              <p:spPr>
                <a:xfrm flipV="1" rot="7630800">
                  <a:off x="5313960" y="1995120"/>
                  <a:ext cx="273960" cy="1224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595" name="AutoShape 48"/>
                <p:cNvSpPr/>
                <p:nvPr/>
              </p:nvSpPr>
              <p:spPr>
                <a:xfrm flipV="1" rot="6814800">
                  <a:off x="5146920" y="1877400"/>
                  <a:ext cx="273600" cy="1224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596" name="AutoShape 49"/>
                <p:cNvSpPr/>
                <p:nvPr/>
              </p:nvSpPr>
              <p:spPr>
                <a:xfrm flipV="1" rot="6519600">
                  <a:off x="5038920" y="1833840"/>
                  <a:ext cx="273960" cy="1224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597" name="AutoShape 50"/>
                <p:cNvSpPr/>
                <p:nvPr/>
              </p:nvSpPr>
              <p:spPr>
                <a:xfrm flipV="1" rot="5987400">
                  <a:off x="4906440" y="1786680"/>
                  <a:ext cx="273960" cy="1223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</p:grp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877680" y="2433600"/>
            <a:ext cx="663876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AutoShape 3"/>
          <p:cNvSpPr/>
          <p:nvPr/>
        </p:nvSpPr>
        <p:spPr>
          <a:xfrm>
            <a:off x="733320" y="5608800"/>
            <a:ext cx="188604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00" name="AutoShape 4"/>
          <p:cNvSpPr/>
          <p:nvPr/>
        </p:nvSpPr>
        <p:spPr>
          <a:xfrm flipV="1" rot="16200000">
            <a:off x="1733400" y="5368320"/>
            <a:ext cx="546120" cy="4442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8a2b8c"/>
              </a:gs>
              <a:gs pos="100000">
                <a:srgbClr val="b639b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01" name="AutoShape 5"/>
          <p:cNvSpPr/>
          <p:nvPr/>
        </p:nvSpPr>
        <p:spPr>
          <a:xfrm flipV="1" rot="16200000">
            <a:off x="936360" y="5187240"/>
            <a:ext cx="908280" cy="4442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2831a"/>
              </a:gs>
              <a:gs pos="100000">
                <a:srgbClr val="96ad23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02" name="Text Box 6"/>
          <p:cNvSpPr/>
          <p:nvPr/>
        </p:nvSpPr>
        <p:spPr>
          <a:xfrm>
            <a:off x="1226880" y="58993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603" name="Group 7"/>
          <p:cNvGrpSpPr/>
          <p:nvPr/>
        </p:nvGrpSpPr>
        <p:grpSpPr>
          <a:xfrm>
            <a:off x="1101600" y="2257560"/>
            <a:ext cx="6857640" cy="1493280"/>
            <a:chOff x="1101600" y="2257560"/>
            <a:chExt cx="6857640" cy="1493280"/>
          </a:xfrm>
        </p:grpSpPr>
        <p:sp>
          <p:nvSpPr>
            <p:cNvPr id="604" name="AutoShape 8"/>
            <p:cNvSpPr/>
            <p:nvPr/>
          </p:nvSpPr>
          <p:spPr>
            <a:xfrm>
              <a:off x="1117440" y="2257560"/>
              <a:ext cx="6828840" cy="1442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605" name="AutoShape 9"/>
            <p:cNvSpPr/>
            <p:nvPr/>
          </p:nvSpPr>
          <p:spPr>
            <a:xfrm>
              <a:off x="1101600" y="2308680"/>
              <a:ext cx="6857640" cy="1442160"/>
            </a:xfrm>
            <a:prstGeom prst="roundRect">
              <a:avLst>
                <a:gd name="adj" fmla="val 16667"/>
              </a:avLst>
            </a:prstGeom>
            <a:solidFill>
              <a:srgbClr val="f5f5f5"/>
            </a:solidFill>
            <a:ln w="0">
              <a:noFill/>
            </a:ln>
            <a:effectLst>
              <a:outerShdw dist="77353" dir="483752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606" name="Group 10"/>
          <p:cNvGrpSpPr/>
          <p:nvPr/>
        </p:nvGrpSpPr>
        <p:grpSpPr>
          <a:xfrm>
            <a:off x="1495440" y="2347920"/>
            <a:ext cx="1238400" cy="1265040"/>
            <a:chOff x="1495440" y="2347920"/>
            <a:chExt cx="1238400" cy="1265040"/>
          </a:xfrm>
        </p:grpSpPr>
        <p:sp>
          <p:nvSpPr>
            <p:cNvPr id="607" name="Oval 11"/>
            <p:cNvSpPr/>
            <p:nvPr/>
          </p:nvSpPr>
          <p:spPr>
            <a:xfrm>
              <a:off x="1495440" y="2390400"/>
              <a:ext cx="1238400" cy="1222560"/>
            </a:xfrm>
            <a:prstGeom prst="ellipse">
              <a:avLst/>
            </a:prstGeom>
            <a:solidFill>
              <a:srgbClr val="96ad23"/>
            </a:solidFill>
            <a:ln w="63360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pic>
          <p:nvPicPr>
            <p:cNvPr id="608" name="Picture 12" descr="cir_lighteffect0"/>
            <p:cNvPicPr/>
            <p:nvPr/>
          </p:nvPicPr>
          <p:blipFill>
            <a:blip r:embed="rId1"/>
            <a:stretch/>
          </p:blipFill>
          <p:spPr>
            <a:xfrm>
              <a:off x="1600560" y="2347920"/>
              <a:ext cx="1021320" cy="102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Rectangle 13"/>
          <p:cNvSpPr/>
          <p:nvPr/>
        </p:nvSpPr>
        <p:spPr>
          <a:xfrm>
            <a:off x="1764000" y="2836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10" name="AutoShape 14"/>
          <p:cNvSpPr/>
          <p:nvPr/>
        </p:nvSpPr>
        <p:spPr>
          <a:xfrm>
            <a:off x="2995560" y="2751120"/>
            <a:ext cx="696960" cy="442800"/>
          </a:xfrm>
          <a:prstGeom prst="rightArrow">
            <a:avLst>
              <a:gd name="adj1" fmla="val 49380"/>
              <a:gd name="adj2" fmla="val 38876"/>
            </a:avLst>
          </a:prstGeom>
          <a:gradFill rotWithShape="0">
            <a:gsLst>
              <a:gs pos="0">
                <a:srgbClr val="595959">
                  <a:alpha val="0"/>
                </a:srgbClr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611" name="Group 15"/>
          <p:cNvGrpSpPr/>
          <p:nvPr/>
        </p:nvGrpSpPr>
        <p:grpSpPr>
          <a:xfrm>
            <a:off x="3921120" y="2324160"/>
            <a:ext cx="1238400" cy="1264680"/>
            <a:chOff x="3921120" y="2324160"/>
            <a:chExt cx="1238400" cy="1264680"/>
          </a:xfrm>
        </p:grpSpPr>
        <p:sp>
          <p:nvSpPr>
            <p:cNvPr id="612" name="Oval 16"/>
            <p:cNvSpPr/>
            <p:nvPr/>
          </p:nvSpPr>
          <p:spPr>
            <a:xfrm>
              <a:off x="3921120" y="2366640"/>
              <a:ext cx="1238400" cy="1222200"/>
            </a:xfrm>
            <a:prstGeom prst="ellipse">
              <a:avLst/>
            </a:prstGeom>
            <a:solidFill>
              <a:srgbClr val="3973b9"/>
            </a:solidFill>
            <a:ln w="63360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pic>
          <p:nvPicPr>
            <p:cNvPr id="613" name="Picture 17" descr="cir_lighteffect0"/>
            <p:cNvPicPr/>
            <p:nvPr/>
          </p:nvPicPr>
          <p:blipFill>
            <a:blip r:embed="rId2"/>
            <a:stretch/>
          </p:blipFill>
          <p:spPr>
            <a:xfrm>
              <a:off x="4026240" y="2324160"/>
              <a:ext cx="1021320" cy="102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4" name="Rectangle 18"/>
          <p:cNvSpPr/>
          <p:nvPr/>
        </p:nvSpPr>
        <p:spPr>
          <a:xfrm>
            <a:off x="4187880" y="28144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15" name="AutoShape 19"/>
          <p:cNvSpPr/>
          <p:nvPr/>
        </p:nvSpPr>
        <p:spPr>
          <a:xfrm>
            <a:off x="5292720" y="2766960"/>
            <a:ext cx="696960" cy="441360"/>
          </a:xfrm>
          <a:prstGeom prst="rightArrow">
            <a:avLst>
              <a:gd name="adj1" fmla="val 49380"/>
              <a:gd name="adj2" fmla="val 39003"/>
            </a:avLst>
          </a:prstGeom>
          <a:gradFill rotWithShape="0">
            <a:gsLst>
              <a:gs pos="0">
                <a:srgbClr val="595959">
                  <a:alpha val="0"/>
                </a:srgbClr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616" name="Group 20"/>
          <p:cNvGrpSpPr/>
          <p:nvPr/>
        </p:nvGrpSpPr>
        <p:grpSpPr>
          <a:xfrm>
            <a:off x="6372360" y="2324160"/>
            <a:ext cx="1236600" cy="1264680"/>
            <a:chOff x="6372360" y="2324160"/>
            <a:chExt cx="1236600" cy="1264680"/>
          </a:xfrm>
        </p:grpSpPr>
        <p:sp>
          <p:nvSpPr>
            <p:cNvPr id="617" name="Oval 21"/>
            <p:cNvSpPr/>
            <p:nvPr/>
          </p:nvSpPr>
          <p:spPr>
            <a:xfrm>
              <a:off x="6372360" y="2366640"/>
              <a:ext cx="1236600" cy="1222200"/>
            </a:xfrm>
            <a:prstGeom prst="ellipse">
              <a:avLst/>
            </a:prstGeom>
            <a:solidFill>
              <a:srgbClr val="b639b9"/>
            </a:solidFill>
            <a:ln w="63360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pic>
          <p:nvPicPr>
            <p:cNvPr id="618" name="Picture 22" descr="cir_lighteffect0"/>
            <p:cNvPicPr/>
            <p:nvPr/>
          </p:nvPicPr>
          <p:blipFill>
            <a:blip r:embed="rId3"/>
            <a:stretch/>
          </p:blipFill>
          <p:spPr>
            <a:xfrm>
              <a:off x="6477480" y="2324160"/>
              <a:ext cx="1019880" cy="102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9" name="Rectangle 23"/>
          <p:cNvSpPr/>
          <p:nvPr/>
        </p:nvSpPr>
        <p:spPr>
          <a:xfrm>
            <a:off x="6637680" y="28144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0" name="AutoShape 24"/>
          <p:cNvSpPr/>
          <p:nvPr/>
        </p:nvSpPr>
        <p:spPr>
          <a:xfrm>
            <a:off x="3433680" y="5608800"/>
            <a:ext cx="188604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1" name="AutoShape 25"/>
          <p:cNvSpPr/>
          <p:nvPr/>
        </p:nvSpPr>
        <p:spPr>
          <a:xfrm flipV="1" rot="16200000">
            <a:off x="4255560" y="5187240"/>
            <a:ext cx="90828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8a2b8c"/>
              </a:gs>
              <a:gs pos="100000">
                <a:srgbClr val="b639b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2" name="AutoShape 26"/>
          <p:cNvSpPr/>
          <p:nvPr/>
        </p:nvSpPr>
        <p:spPr>
          <a:xfrm flipV="1" rot="16200000">
            <a:off x="3376800" y="4939200"/>
            <a:ext cx="142704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2831a"/>
              </a:gs>
              <a:gs pos="100000">
                <a:srgbClr val="96ad23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3" name="AutoShape 27"/>
          <p:cNvSpPr/>
          <p:nvPr/>
        </p:nvSpPr>
        <p:spPr>
          <a:xfrm>
            <a:off x="6045120" y="5608800"/>
            <a:ext cx="188460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4" name="AutoShape 28"/>
          <p:cNvSpPr/>
          <p:nvPr/>
        </p:nvSpPr>
        <p:spPr>
          <a:xfrm flipV="1" rot="16200000">
            <a:off x="6641640" y="4971960"/>
            <a:ext cx="133992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8a2b8c"/>
              </a:gs>
              <a:gs pos="100000">
                <a:srgbClr val="b639b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5" name="AutoShape 29"/>
          <p:cNvSpPr/>
          <p:nvPr/>
        </p:nvSpPr>
        <p:spPr>
          <a:xfrm flipV="1" rot="16200000">
            <a:off x="5753160" y="4694760"/>
            <a:ext cx="1895760" cy="4431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2831a"/>
              </a:gs>
              <a:gs pos="100000">
                <a:srgbClr val="96ad23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6" name="Text Box 30"/>
          <p:cNvSpPr/>
          <p:nvPr/>
        </p:nvSpPr>
        <p:spPr>
          <a:xfrm>
            <a:off x="3941640" y="58993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7" name="Text Box 31"/>
          <p:cNvSpPr/>
          <p:nvPr/>
        </p:nvSpPr>
        <p:spPr>
          <a:xfrm>
            <a:off x="6575400" y="58993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8" name="Text Box 32"/>
          <p:cNvSpPr/>
          <p:nvPr/>
        </p:nvSpPr>
        <p:spPr>
          <a:xfrm>
            <a:off x="1603440" y="460548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9" name="Text Box 33"/>
          <p:cNvSpPr/>
          <p:nvPr/>
        </p:nvSpPr>
        <p:spPr>
          <a:xfrm>
            <a:off x="2243160" y="5062680"/>
            <a:ext cx="15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0" name="Text Box 34"/>
          <p:cNvSpPr/>
          <p:nvPr/>
        </p:nvSpPr>
        <p:spPr>
          <a:xfrm>
            <a:off x="4356000" y="4417920"/>
            <a:ext cx="15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1" name="Text Box 35"/>
          <p:cNvSpPr/>
          <p:nvPr/>
        </p:nvSpPr>
        <p:spPr>
          <a:xfrm>
            <a:off x="4938840" y="4925880"/>
            <a:ext cx="14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2" name="Text Box 36"/>
          <p:cNvSpPr/>
          <p:nvPr/>
        </p:nvSpPr>
        <p:spPr>
          <a:xfrm>
            <a:off x="6959520" y="3963960"/>
            <a:ext cx="16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3" name="Text Box 37"/>
          <p:cNvSpPr/>
          <p:nvPr/>
        </p:nvSpPr>
        <p:spPr>
          <a:xfrm>
            <a:off x="7597800" y="4492800"/>
            <a:ext cx="13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4" name="Rectangle 38"/>
          <p:cNvSpPr/>
          <p:nvPr/>
        </p:nvSpPr>
        <p:spPr>
          <a:xfrm>
            <a:off x="1339920" y="736560"/>
            <a:ext cx="553860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val 41"/>
          <p:cNvSpPr/>
          <p:nvPr/>
        </p:nvSpPr>
        <p:spPr>
          <a:xfrm flipV="1">
            <a:off x="1225440" y="5908680"/>
            <a:ext cx="3306960" cy="487440"/>
          </a:xfrm>
          <a:prstGeom prst="ellipse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0" name="Oval 42"/>
          <p:cNvSpPr/>
          <p:nvPr/>
        </p:nvSpPr>
        <p:spPr>
          <a:xfrm flipV="1">
            <a:off x="4794120" y="5880960"/>
            <a:ext cx="3305160" cy="485640"/>
          </a:xfrm>
          <a:prstGeom prst="ellipse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1120" y="2239920"/>
            <a:ext cx="663876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Content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93" name="Group 45"/>
          <p:cNvGrpSpPr/>
          <p:nvPr/>
        </p:nvGrpSpPr>
        <p:grpSpPr>
          <a:xfrm>
            <a:off x="1330200" y="2960640"/>
            <a:ext cx="3106800" cy="3076200"/>
            <a:chOff x="1330200" y="2960640"/>
            <a:chExt cx="3106800" cy="3076200"/>
          </a:xfrm>
        </p:grpSpPr>
        <p:sp>
          <p:nvSpPr>
            <p:cNvPr id="94" name="Rectangle 36"/>
            <p:cNvSpPr/>
            <p:nvPr/>
          </p:nvSpPr>
          <p:spPr>
            <a:xfrm>
              <a:off x="3940200" y="2963520"/>
              <a:ext cx="120600" cy="30733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d6d6d6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5" name="Rectangle 35"/>
            <p:cNvSpPr/>
            <p:nvPr/>
          </p:nvSpPr>
          <p:spPr>
            <a:xfrm>
              <a:off x="1674720" y="2960640"/>
              <a:ext cx="120600" cy="30733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d6d6d6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6" name="AutoShape 5"/>
            <p:cNvSpPr/>
            <p:nvPr/>
          </p:nvSpPr>
          <p:spPr>
            <a:xfrm>
              <a:off x="1330200" y="3159000"/>
              <a:ext cx="3106800" cy="38052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285081"/>
                </a:gs>
                <a:gs pos="50000">
                  <a:srgbClr val="3973b9"/>
                </a:gs>
                <a:gs pos="100000">
                  <a:srgbClr val="2850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7" name="AutoShape 6"/>
            <p:cNvSpPr/>
            <p:nvPr/>
          </p:nvSpPr>
          <p:spPr>
            <a:xfrm>
              <a:off x="1330200" y="3692160"/>
              <a:ext cx="310680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22446e"/>
                </a:gs>
                <a:gs pos="50000">
                  <a:srgbClr val="3973b9"/>
                </a:gs>
                <a:gs pos="100000">
                  <a:srgbClr val="22446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8" name="AutoShape 7"/>
            <p:cNvSpPr/>
            <p:nvPr/>
          </p:nvSpPr>
          <p:spPr>
            <a:xfrm>
              <a:off x="1330200" y="4225680"/>
              <a:ext cx="3106800" cy="38052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285081"/>
                </a:gs>
                <a:gs pos="50000">
                  <a:srgbClr val="3973b9"/>
                </a:gs>
                <a:gs pos="100000">
                  <a:srgbClr val="2850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9" name="AutoShape 8"/>
            <p:cNvSpPr/>
            <p:nvPr/>
          </p:nvSpPr>
          <p:spPr>
            <a:xfrm>
              <a:off x="1330200" y="4759200"/>
              <a:ext cx="3106800" cy="38052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22446e"/>
                </a:gs>
                <a:gs pos="50000">
                  <a:srgbClr val="3973b9"/>
                </a:gs>
                <a:gs pos="100000">
                  <a:srgbClr val="22446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00" name="AutoShape 9"/>
            <p:cNvSpPr/>
            <p:nvPr/>
          </p:nvSpPr>
          <p:spPr>
            <a:xfrm>
              <a:off x="1330200" y="5292360"/>
              <a:ext cx="310680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285081"/>
                </a:gs>
                <a:gs pos="50000">
                  <a:srgbClr val="3973b9"/>
                </a:gs>
                <a:gs pos="100000">
                  <a:srgbClr val="2850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101" name="Group 46"/>
          <p:cNvGrpSpPr/>
          <p:nvPr/>
        </p:nvGrpSpPr>
        <p:grpSpPr>
          <a:xfrm>
            <a:off x="4851360" y="2955960"/>
            <a:ext cx="3191040" cy="3080880"/>
            <a:chOff x="4851360" y="2955960"/>
            <a:chExt cx="3191040" cy="3080880"/>
          </a:xfrm>
        </p:grpSpPr>
        <p:sp>
          <p:nvSpPr>
            <p:cNvPr id="102" name="Rectangle 37"/>
            <p:cNvSpPr/>
            <p:nvPr/>
          </p:nvSpPr>
          <p:spPr>
            <a:xfrm>
              <a:off x="7581960" y="2955960"/>
              <a:ext cx="120600" cy="30729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d6d6d6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03" name="Rectangle 38"/>
            <p:cNvSpPr/>
            <p:nvPr/>
          </p:nvSpPr>
          <p:spPr>
            <a:xfrm>
              <a:off x="5189400" y="2963520"/>
              <a:ext cx="120600" cy="30733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d6d6d6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04" name="AutoShape 29"/>
            <p:cNvSpPr/>
            <p:nvPr/>
          </p:nvSpPr>
          <p:spPr>
            <a:xfrm>
              <a:off x="4851360" y="3163680"/>
              <a:ext cx="3191040" cy="38052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697918"/>
                </a:gs>
                <a:gs pos="50000">
                  <a:srgbClr val="96ad23"/>
                </a:gs>
                <a:gs pos="100000">
                  <a:srgbClr val="6979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05" name="AutoShape 30"/>
            <p:cNvSpPr/>
            <p:nvPr/>
          </p:nvSpPr>
          <p:spPr>
            <a:xfrm>
              <a:off x="4851360" y="3697200"/>
              <a:ext cx="3191040" cy="38052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596615"/>
                </a:gs>
                <a:gs pos="50000">
                  <a:srgbClr val="96ad23"/>
                </a:gs>
                <a:gs pos="100000">
                  <a:srgbClr val="59661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06" name="AutoShape 31"/>
            <p:cNvSpPr/>
            <p:nvPr/>
          </p:nvSpPr>
          <p:spPr>
            <a:xfrm>
              <a:off x="4851360" y="4230360"/>
              <a:ext cx="319104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697918"/>
                </a:gs>
                <a:gs pos="50000">
                  <a:srgbClr val="96ad23"/>
                </a:gs>
                <a:gs pos="100000">
                  <a:srgbClr val="6979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07" name="AutoShape 32"/>
            <p:cNvSpPr/>
            <p:nvPr/>
          </p:nvSpPr>
          <p:spPr>
            <a:xfrm>
              <a:off x="4851360" y="4763880"/>
              <a:ext cx="3191040" cy="38052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596615"/>
                </a:gs>
                <a:gs pos="50000">
                  <a:srgbClr val="96ad23"/>
                </a:gs>
                <a:gs pos="100000">
                  <a:srgbClr val="59661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08" name="AutoShape 33"/>
            <p:cNvSpPr/>
            <p:nvPr/>
          </p:nvSpPr>
          <p:spPr>
            <a:xfrm>
              <a:off x="4851360" y="5297400"/>
              <a:ext cx="3191040" cy="38052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697918"/>
                </a:gs>
                <a:gs pos="50000">
                  <a:srgbClr val="96ad23"/>
                </a:gs>
                <a:gs pos="100000">
                  <a:srgbClr val="6979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109" name="Rectangle 43"/>
          <p:cNvSpPr/>
          <p:nvPr/>
        </p:nvSpPr>
        <p:spPr>
          <a:xfrm>
            <a:off x="2192400" y="596736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ontents 1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0" name="Rectangle 44"/>
          <p:cNvSpPr/>
          <p:nvPr/>
        </p:nvSpPr>
        <p:spPr>
          <a:xfrm>
            <a:off x="5757840" y="592776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ontents 2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89120" y="1342800"/>
            <a:ext cx="77752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Oval 3"/>
          <p:cNvSpPr/>
          <p:nvPr/>
        </p:nvSpPr>
        <p:spPr>
          <a:xfrm>
            <a:off x="2422440" y="2571840"/>
            <a:ext cx="3956040" cy="3881520"/>
          </a:xfrm>
          <a:prstGeom prst="ellipse">
            <a:avLst/>
          </a:prstGeom>
          <a:noFill/>
          <a:ln w="12600">
            <a:solidFill>
              <a:srgbClr val="96969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7" name="Oval 4"/>
          <p:cNvSpPr/>
          <p:nvPr/>
        </p:nvSpPr>
        <p:spPr>
          <a:xfrm>
            <a:off x="2639880" y="2778120"/>
            <a:ext cx="3490920" cy="3490920"/>
          </a:xfrm>
          <a:prstGeom prst="ellipse">
            <a:avLst/>
          </a:prstGeom>
          <a:noFill/>
          <a:ln w="12600">
            <a:solidFill>
              <a:srgbClr val="96969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8" name="Oval 5"/>
          <p:cNvSpPr/>
          <p:nvPr/>
        </p:nvSpPr>
        <p:spPr>
          <a:xfrm>
            <a:off x="2855880" y="3105000"/>
            <a:ext cx="2973600" cy="2973600"/>
          </a:xfrm>
          <a:prstGeom prst="ellipse">
            <a:avLst/>
          </a:prstGeom>
          <a:noFill/>
          <a:ln w="12600">
            <a:solidFill>
              <a:srgbClr val="96969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9" name="AutoShape 6"/>
          <p:cNvSpPr/>
          <p:nvPr/>
        </p:nvSpPr>
        <p:spPr>
          <a:xfrm rot="9043800">
            <a:off x="2098080" y="4403520"/>
            <a:ext cx="1871640" cy="1855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855800"/>
              <a:gd name="textAreaBottom" fmla="*/ 1856160 h 185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64" y="0"/>
                </a:lnTo>
                <a:lnTo>
                  <a:pt x="21600" y="10800"/>
                </a:lnTo>
                <a:lnTo>
                  <a:pt x="15464" y="21600"/>
                </a:lnTo>
                <a:lnTo>
                  <a:pt x="0" y="21600"/>
                </a:lnTo>
                <a:lnTo>
                  <a:pt x="6136" y="10800"/>
                </a:lnTo>
                <a:close/>
              </a:path>
            </a:pathLst>
          </a:custGeom>
          <a:solidFill>
            <a:srgbClr val="3973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40" name="AutoShape 7"/>
          <p:cNvSpPr/>
          <p:nvPr/>
        </p:nvSpPr>
        <p:spPr>
          <a:xfrm rot="16200000">
            <a:off x="3376440" y="2209320"/>
            <a:ext cx="1871640" cy="185544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855440"/>
              <a:gd name="textAreaBottom" fmla="*/ 1855800 h 185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64" y="0"/>
                </a:lnTo>
                <a:lnTo>
                  <a:pt x="21600" y="10800"/>
                </a:lnTo>
                <a:lnTo>
                  <a:pt x="15464" y="21600"/>
                </a:lnTo>
                <a:lnTo>
                  <a:pt x="0" y="21600"/>
                </a:lnTo>
                <a:lnTo>
                  <a:pt x="6136" y="10800"/>
                </a:lnTo>
                <a:close/>
              </a:path>
            </a:pathLst>
          </a:custGeom>
          <a:solidFill>
            <a:srgbClr val="ea9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41" name="AutoShape 8"/>
          <p:cNvSpPr/>
          <p:nvPr/>
        </p:nvSpPr>
        <p:spPr>
          <a:xfrm rot="1788000">
            <a:off x="4644720" y="4416480"/>
            <a:ext cx="1871640" cy="1855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855800"/>
              <a:gd name="textAreaBottom" fmla="*/ 1856160 h 185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64" y="0"/>
                </a:lnTo>
                <a:lnTo>
                  <a:pt x="21600" y="10800"/>
                </a:lnTo>
                <a:lnTo>
                  <a:pt x="15464" y="21600"/>
                </a:lnTo>
                <a:lnTo>
                  <a:pt x="0" y="21600"/>
                </a:lnTo>
                <a:lnTo>
                  <a:pt x="6136" y="10800"/>
                </a:lnTo>
                <a:close/>
              </a:path>
            </a:pathLst>
          </a:custGeom>
          <a:solidFill>
            <a:srgbClr val="b63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42" name="Text Box 9"/>
          <p:cNvSpPr/>
          <p:nvPr/>
        </p:nvSpPr>
        <p:spPr>
          <a:xfrm>
            <a:off x="3384720" y="4070520"/>
            <a:ext cx="1855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c4a06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is a Design Digital Content &amp; Contents 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mall developed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43" name="Rectangle 10"/>
          <p:cNvSpPr/>
          <p:nvPr/>
        </p:nvSpPr>
        <p:spPr>
          <a:xfrm>
            <a:off x="3654360" y="2749680"/>
            <a:ext cx="15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bfc"/>
                </a:solidFill>
                <a:latin typeface="Arial"/>
                <a:ea typeface="宋体"/>
              </a:rPr>
              <a:t>Your text  in her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44" name="Rectangle 11"/>
          <p:cNvSpPr/>
          <p:nvPr/>
        </p:nvSpPr>
        <p:spPr>
          <a:xfrm>
            <a:off x="2308320" y="5127480"/>
            <a:ext cx="116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bfc"/>
                </a:solidFill>
                <a:latin typeface="Arial"/>
                <a:ea typeface="宋体"/>
              </a:rPr>
              <a:t>Your text 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bfc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fffbfc"/>
                </a:solidFill>
                <a:latin typeface="Arial"/>
                <a:ea typeface="宋体"/>
              </a:rPr>
              <a:t>in her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45" name="Rectangle 12"/>
          <p:cNvSpPr/>
          <p:nvPr/>
        </p:nvSpPr>
        <p:spPr>
          <a:xfrm>
            <a:off x="5168880" y="5148360"/>
            <a:ext cx="116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bfc"/>
                </a:solidFill>
                <a:latin typeface="Arial"/>
                <a:ea typeface="宋体"/>
              </a:rPr>
              <a:t>Your text 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bfc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fffbfc"/>
                </a:solidFill>
                <a:latin typeface="Arial"/>
                <a:ea typeface="宋体"/>
              </a:rPr>
              <a:t>in her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46" name="Text Box 13"/>
          <p:cNvSpPr/>
          <p:nvPr/>
        </p:nvSpPr>
        <p:spPr>
          <a:xfrm>
            <a:off x="5468760" y="2622600"/>
            <a:ext cx="2210040" cy="11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96ad23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96ad2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Symbo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marL="120600" indent="-120600"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marL="120600" indent="-120600"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47" name="Text Box 14"/>
          <p:cNvSpPr/>
          <p:nvPr/>
        </p:nvSpPr>
        <p:spPr>
          <a:xfrm>
            <a:off x="422280" y="4367160"/>
            <a:ext cx="2209680" cy="11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973b9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3973b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Symbo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marL="120600" indent="-120600"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marL="120600" indent="-120600"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48" name="Text Box 15"/>
          <p:cNvSpPr/>
          <p:nvPr/>
        </p:nvSpPr>
        <p:spPr>
          <a:xfrm>
            <a:off x="6459480" y="4680000"/>
            <a:ext cx="2209680" cy="11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b639b9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b639b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Symbo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marL="120600" indent="-120600"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marL="120600" indent="-120600"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911160" y="1393560"/>
            <a:ext cx="66391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AutoShape 3"/>
          <p:cNvSpPr/>
          <p:nvPr/>
        </p:nvSpPr>
        <p:spPr>
          <a:xfrm rot="5400000">
            <a:off x="741240" y="437328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51" name="Freeform 4"/>
          <p:cNvSpPr/>
          <p:nvPr/>
        </p:nvSpPr>
        <p:spPr>
          <a:xfrm>
            <a:off x="828720" y="4295880"/>
            <a:ext cx="2006640" cy="480960"/>
          </a:xfrm>
          <a:custGeom>
            <a:avLst/>
            <a:gdLst/>
            <a:ahLst/>
            <a:rect l="l" t="t" r="r" b="b"/>
            <a:pathLst>
              <a:path w="1270" h="303">
                <a:moveTo>
                  <a:pt x="5" y="303"/>
                </a:moveTo>
                <a:cubicBezTo>
                  <a:pt x="5" y="303"/>
                  <a:pt x="0" y="253"/>
                  <a:pt x="21" y="177"/>
                </a:cubicBezTo>
                <a:cubicBezTo>
                  <a:pt x="48" y="130"/>
                  <a:pt x="69" y="44"/>
                  <a:pt x="172" y="22"/>
                </a:cubicBezTo>
                <a:cubicBezTo>
                  <a:pt x="275" y="0"/>
                  <a:pt x="235" y="13"/>
                  <a:pt x="361" y="11"/>
                </a:cubicBezTo>
                <a:cubicBezTo>
                  <a:pt x="487" y="9"/>
                  <a:pt x="813" y="12"/>
                  <a:pt x="932" y="12"/>
                </a:cubicBezTo>
                <a:cubicBezTo>
                  <a:pt x="1050" y="12"/>
                  <a:pt x="998" y="2"/>
                  <a:pt x="1070" y="14"/>
                </a:cubicBezTo>
                <a:cubicBezTo>
                  <a:pt x="1143" y="26"/>
                  <a:pt x="1215" y="84"/>
                  <a:pt x="1260" y="189"/>
                </a:cubicBezTo>
                <a:cubicBezTo>
                  <a:pt x="1270" y="262"/>
                  <a:pt x="1266" y="302"/>
                  <a:pt x="1266" y="302"/>
                </a:cubicBezTo>
                <a:lnTo>
                  <a:pt x="5" y="303"/>
                </a:lnTo>
                <a:close/>
              </a:path>
            </a:pathLst>
          </a:custGeom>
          <a:solidFill>
            <a:srgbClr val="3973b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1094400" y="438300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53" name="Text Box 6"/>
          <p:cNvSpPr/>
          <p:nvPr/>
        </p:nvSpPr>
        <p:spPr>
          <a:xfrm>
            <a:off x="817560" y="497376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54" name="AutoShape 7"/>
          <p:cNvSpPr/>
          <p:nvPr/>
        </p:nvSpPr>
        <p:spPr>
          <a:xfrm rot="5400000">
            <a:off x="3484440" y="437328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55" name="Freeform 8"/>
          <p:cNvSpPr/>
          <p:nvPr/>
        </p:nvSpPr>
        <p:spPr>
          <a:xfrm>
            <a:off x="3576600" y="4294080"/>
            <a:ext cx="2001960" cy="480960"/>
          </a:xfrm>
          <a:custGeom>
            <a:avLst/>
            <a:gdLst/>
            <a:ahLst/>
            <a:rect l="l" t="t" r="r" b="b"/>
            <a:pathLst>
              <a:path w="1261" h="303">
                <a:moveTo>
                  <a:pt x="6" y="297"/>
                </a:moveTo>
                <a:cubicBezTo>
                  <a:pt x="6" y="297"/>
                  <a:pt x="0" y="225"/>
                  <a:pt x="18" y="174"/>
                </a:cubicBezTo>
                <a:cubicBezTo>
                  <a:pt x="36" y="123"/>
                  <a:pt x="105" y="45"/>
                  <a:pt x="171" y="30"/>
                </a:cubicBezTo>
                <a:cubicBezTo>
                  <a:pt x="237" y="15"/>
                  <a:pt x="227" y="16"/>
                  <a:pt x="352" y="13"/>
                </a:cubicBezTo>
                <a:cubicBezTo>
                  <a:pt x="477" y="10"/>
                  <a:pt x="804" y="10"/>
                  <a:pt x="922" y="10"/>
                </a:cubicBezTo>
                <a:cubicBezTo>
                  <a:pt x="1039" y="10"/>
                  <a:pt x="988" y="0"/>
                  <a:pt x="1061" y="12"/>
                </a:cubicBezTo>
                <a:cubicBezTo>
                  <a:pt x="1133" y="24"/>
                  <a:pt x="1206" y="83"/>
                  <a:pt x="1251" y="190"/>
                </a:cubicBezTo>
                <a:cubicBezTo>
                  <a:pt x="1261" y="263"/>
                  <a:pt x="1257" y="303"/>
                  <a:pt x="1257" y="303"/>
                </a:cubicBezTo>
                <a:lnTo>
                  <a:pt x="6" y="297"/>
                </a:lnTo>
                <a:close/>
              </a:path>
            </a:pathLst>
          </a:custGeom>
          <a:solidFill>
            <a:srgbClr val="b639b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56" name="Rectangle 9"/>
          <p:cNvSpPr/>
          <p:nvPr/>
        </p:nvSpPr>
        <p:spPr>
          <a:xfrm>
            <a:off x="3837600" y="438300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57" name="Text Box 10"/>
          <p:cNvSpPr/>
          <p:nvPr/>
        </p:nvSpPr>
        <p:spPr>
          <a:xfrm>
            <a:off x="3560760" y="497376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58" name="AutoShape 11"/>
          <p:cNvSpPr/>
          <p:nvPr/>
        </p:nvSpPr>
        <p:spPr>
          <a:xfrm rot="5400000">
            <a:off x="6189480" y="437328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59" name="Freeform 12"/>
          <p:cNvSpPr/>
          <p:nvPr/>
        </p:nvSpPr>
        <p:spPr>
          <a:xfrm>
            <a:off x="6275520" y="4294080"/>
            <a:ext cx="2008080" cy="482760"/>
          </a:xfrm>
          <a:custGeom>
            <a:avLst/>
            <a:gdLst/>
            <a:ahLst/>
            <a:rect l="l" t="t" r="r" b="b"/>
            <a:pathLst>
              <a:path w="1259" h="298">
                <a:moveTo>
                  <a:pt x="0" y="298"/>
                </a:moveTo>
                <a:lnTo>
                  <a:pt x="7" y="171"/>
                </a:lnTo>
                <a:cubicBezTo>
                  <a:pt x="35" y="124"/>
                  <a:pt x="108" y="40"/>
                  <a:pt x="166" y="14"/>
                </a:cubicBezTo>
                <a:lnTo>
                  <a:pt x="356" y="13"/>
                </a:lnTo>
                <a:cubicBezTo>
                  <a:pt x="482" y="12"/>
                  <a:pt x="805" y="10"/>
                  <a:pt x="922" y="10"/>
                </a:cubicBezTo>
                <a:cubicBezTo>
                  <a:pt x="1039" y="10"/>
                  <a:pt x="988" y="0"/>
                  <a:pt x="1060" y="12"/>
                </a:cubicBezTo>
                <a:cubicBezTo>
                  <a:pt x="1132" y="24"/>
                  <a:pt x="1204" y="81"/>
                  <a:pt x="1249" y="186"/>
                </a:cubicBezTo>
                <a:cubicBezTo>
                  <a:pt x="1259" y="258"/>
                  <a:pt x="1255" y="297"/>
                  <a:pt x="1255" y="297"/>
                </a:cubicBezTo>
                <a:lnTo>
                  <a:pt x="0" y="298"/>
                </a:lnTo>
                <a:close/>
              </a:path>
            </a:pathLst>
          </a:custGeom>
          <a:solidFill>
            <a:srgbClr val="ea9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60" name="Rectangle 13"/>
          <p:cNvSpPr/>
          <p:nvPr/>
        </p:nvSpPr>
        <p:spPr>
          <a:xfrm>
            <a:off x="6542640" y="438300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61" name="Text Box 14"/>
          <p:cNvSpPr/>
          <p:nvPr/>
        </p:nvSpPr>
        <p:spPr>
          <a:xfrm>
            <a:off x="6265800" y="497376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662" name="Group 15"/>
          <p:cNvGrpSpPr/>
          <p:nvPr/>
        </p:nvGrpSpPr>
        <p:grpSpPr>
          <a:xfrm>
            <a:off x="3378240" y="2319480"/>
            <a:ext cx="2382840" cy="538200"/>
            <a:chOff x="3378240" y="2319480"/>
            <a:chExt cx="2382840" cy="538200"/>
          </a:xfrm>
        </p:grpSpPr>
        <p:sp>
          <p:nvSpPr>
            <p:cNvPr id="663" name="AutoShape 16"/>
            <p:cNvSpPr/>
            <p:nvPr/>
          </p:nvSpPr>
          <p:spPr>
            <a:xfrm>
              <a:off x="3378240" y="2319480"/>
              <a:ext cx="23828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664" name="AutoShape 17"/>
            <p:cNvSpPr/>
            <p:nvPr/>
          </p:nvSpPr>
          <p:spPr>
            <a:xfrm>
              <a:off x="3407040" y="2349720"/>
              <a:ext cx="23256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639b9">
                    <a:alpha val="90196"/>
                  </a:srgbClr>
                </a:gs>
                <a:gs pos="50000">
                  <a:srgbClr val="e6bce7"/>
                </a:gs>
                <a:gs pos="100000">
                  <a:srgbClr val="b639b9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665" name="Rectangle 18"/>
          <p:cNvSpPr/>
          <p:nvPr/>
        </p:nvSpPr>
        <p:spPr>
          <a:xfrm>
            <a:off x="3848760" y="238932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666" name="Group 19"/>
          <p:cNvGrpSpPr/>
          <p:nvPr/>
        </p:nvGrpSpPr>
        <p:grpSpPr>
          <a:xfrm>
            <a:off x="6105600" y="2319480"/>
            <a:ext cx="2384280" cy="538200"/>
            <a:chOff x="6105600" y="2319480"/>
            <a:chExt cx="2384280" cy="538200"/>
          </a:xfrm>
        </p:grpSpPr>
        <p:sp>
          <p:nvSpPr>
            <p:cNvPr id="667" name="AutoShape 20"/>
            <p:cNvSpPr/>
            <p:nvPr/>
          </p:nvSpPr>
          <p:spPr>
            <a:xfrm>
              <a:off x="6105600" y="231948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668" name="AutoShape 21"/>
            <p:cNvSpPr/>
            <p:nvPr/>
          </p:nvSpPr>
          <p:spPr>
            <a:xfrm>
              <a:off x="6135480" y="2349720"/>
              <a:ext cx="23238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a9c00">
                    <a:alpha val="90196"/>
                  </a:srgbClr>
                </a:gs>
                <a:gs pos="50000">
                  <a:srgbClr val="f8dea9"/>
                </a:gs>
                <a:gs pos="100000">
                  <a:srgbClr val="ea9c00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669" name="Rectangle 22"/>
          <p:cNvSpPr/>
          <p:nvPr/>
        </p:nvSpPr>
        <p:spPr>
          <a:xfrm>
            <a:off x="6578280" y="238932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670" name="Group 23"/>
          <p:cNvGrpSpPr/>
          <p:nvPr/>
        </p:nvGrpSpPr>
        <p:grpSpPr>
          <a:xfrm>
            <a:off x="685800" y="2319480"/>
            <a:ext cx="2384280" cy="538200"/>
            <a:chOff x="685800" y="2319480"/>
            <a:chExt cx="2384280" cy="538200"/>
          </a:xfrm>
        </p:grpSpPr>
        <p:sp>
          <p:nvSpPr>
            <p:cNvPr id="671" name="AutoShape 24"/>
            <p:cNvSpPr/>
            <p:nvPr/>
          </p:nvSpPr>
          <p:spPr>
            <a:xfrm>
              <a:off x="685800" y="231948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52943"/>
                </a:gs>
                <a:gs pos="50000">
                  <a:srgbClr val="3973b9"/>
                </a:gs>
                <a:gs pos="100000">
                  <a:srgbClr val="152943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672" name="AutoShape 25"/>
            <p:cNvSpPr/>
            <p:nvPr/>
          </p:nvSpPr>
          <p:spPr>
            <a:xfrm>
              <a:off x="715680" y="2349720"/>
              <a:ext cx="23238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973b9">
                    <a:alpha val="90196"/>
                  </a:srgbClr>
                </a:gs>
                <a:gs pos="50000">
                  <a:srgbClr val="bcd0e7"/>
                </a:gs>
                <a:gs pos="100000">
                  <a:srgbClr val="3973b9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673" name="Rectangle 26"/>
          <p:cNvSpPr/>
          <p:nvPr/>
        </p:nvSpPr>
        <p:spPr>
          <a:xfrm>
            <a:off x="1158840" y="238932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74" name="AutoShape 27"/>
          <p:cNvSpPr/>
          <p:nvPr/>
        </p:nvSpPr>
        <p:spPr>
          <a:xfrm flipV="1">
            <a:off x="871560" y="289404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973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75" name="AutoShape 28"/>
          <p:cNvSpPr/>
          <p:nvPr/>
        </p:nvSpPr>
        <p:spPr>
          <a:xfrm flipV="1">
            <a:off x="3538440" y="289404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b639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76" name="AutoShape 29"/>
          <p:cNvSpPr/>
          <p:nvPr/>
        </p:nvSpPr>
        <p:spPr>
          <a:xfrm flipV="1">
            <a:off x="6281640" y="289404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ea9c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77680" y="2433600"/>
            <a:ext cx="663876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Rectangle 3"/>
          <p:cNvSpPr/>
          <p:nvPr/>
        </p:nvSpPr>
        <p:spPr>
          <a:xfrm>
            <a:off x="565200" y="2511360"/>
            <a:ext cx="7740720" cy="619200"/>
          </a:xfrm>
          <a:prstGeom prst="rect">
            <a:avLst/>
          </a:prstGeom>
          <a:solidFill>
            <a:srgbClr val="96a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679" name="Group 4"/>
          <p:cNvGrpSpPr/>
          <p:nvPr/>
        </p:nvGrpSpPr>
        <p:grpSpPr>
          <a:xfrm>
            <a:off x="554040" y="2511360"/>
            <a:ext cx="2053440" cy="618840"/>
            <a:chOff x="554040" y="2511360"/>
            <a:chExt cx="2053440" cy="618840"/>
          </a:xfrm>
        </p:grpSpPr>
        <p:sp>
          <p:nvSpPr>
            <p:cNvPr id="680" name="Rectangle 5"/>
            <p:cNvSpPr/>
            <p:nvPr/>
          </p:nvSpPr>
          <p:spPr>
            <a:xfrm>
              <a:off x="554040" y="2511360"/>
              <a:ext cx="1914120" cy="618840"/>
            </a:xfrm>
            <a:prstGeom prst="rect">
              <a:avLst/>
            </a:prstGeom>
            <a:solidFill>
              <a:srgbClr val="3973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681" name="AutoShape 6"/>
            <p:cNvSpPr/>
            <p:nvPr/>
          </p:nvSpPr>
          <p:spPr>
            <a:xfrm rot="5400000">
              <a:off x="2367720" y="2728440"/>
              <a:ext cx="288720" cy="190440"/>
            </a:xfrm>
            <a:prstGeom prst="triangle">
              <a:avLst>
                <a:gd name="adj" fmla="val 50000"/>
              </a:avLst>
            </a:prstGeom>
            <a:solidFill>
              <a:srgbClr val="3973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682" name="Text Box 7"/>
          <p:cNvSpPr/>
          <p:nvPr/>
        </p:nvSpPr>
        <p:spPr>
          <a:xfrm>
            <a:off x="2468520" y="26431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83" name="Rectangle 8"/>
          <p:cNvSpPr/>
          <p:nvPr/>
        </p:nvSpPr>
        <p:spPr>
          <a:xfrm>
            <a:off x="576360" y="261792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84" name="AutoShape 9"/>
          <p:cNvSpPr/>
          <p:nvPr/>
        </p:nvSpPr>
        <p:spPr>
          <a:xfrm>
            <a:off x="4040280" y="267804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gradFill rotWithShape="0">
            <a:gsLst>
              <a:gs pos="0">
                <a:srgbClr val="96ad23"/>
              </a:gs>
              <a:gs pos="100000">
                <a:srgbClr val="ffffff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85" name="Text Box 10"/>
          <p:cNvSpPr/>
          <p:nvPr/>
        </p:nvSpPr>
        <p:spPr>
          <a:xfrm>
            <a:off x="4419720" y="264312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86" name="AutoShape 11"/>
          <p:cNvSpPr/>
          <p:nvPr/>
        </p:nvSpPr>
        <p:spPr>
          <a:xfrm>
            <a:off x="6068880" y="267804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gradFill rotWithShape="0">
            <a:gsLst>
              <a:gs pos="0">
                <a:srgbClr val="96ad23"/>
              </a:gs>
              <a:gs pos="100000">
                <a:srgbClr val="ffffff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87" name="Text Box 12"/>
          <p:cNvSpPr/>
          <p:nvPr/>
        </p:nvSpPr>
        <p:spPr>
          <a:xfrm>
            <a:off x="6407280" y="264312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88" name="AutoShape 13"/>
          <p:cNvSpPr/>
          <p:nvPr/>
        </p:nvSpPr>
        <p:spPr>
          <a:xfrm>
            <a:off x="851040" y="3260880"/>
            <a:ext cx="1114200" cy="1114200"/>
          </a:xfrm>
          <a:prstGeom prst="diamond">
            <a:avLst/>
          </a:prstGeom>
          <a:gradFill rotWithShape="0">
            <a:gsLst>
              <a:gs pos="0">
                <a:srgbClr val="96ad23"/>
              </a:gs>
              <a:gs pos="100000">
                <a:srgbClr val="b6c6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89" name="AutoShape 14"/>
          <p:cNvSpPr/>
          <p:nvPr/>
        </p:nvSpPr>
        <p:spPr>
          <a:xfrm>
            <a:off x="2832120" y="3260880"/>
            <a:ext cx="1114560" cy="1114200"/>
          </a:xfrm>
          <a:prstGeom prst="diamond">
            <a:avLst/>
          </a:prstGeom>
          <a:gradFill rotWithShape="0">
            <a:gsLst>
              <a:gs pos="0">
                <a:srgbClr val="3973b9"/>
              </a:gs>
              <a:gs pos="100000">
                <a:srgbClr val="759dc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90" name="AutoShape 15"/>
          <p:cNvSpPr/>
          <p:nvPr/>
        </p:nvSpPr>
        <p:spPr>
          <a:xfrm>
            <a:off x="4822920" y="3260880"/>
            <a:ext cx="1114200" cy="1114200"/>
          </a:xfrm>
          <a:prstGeom prst="diamond">
            <a:avLst/>
          </a:prstGeom>
          <a:gradFill rotWithShape="0">
            <a:gsLst>
              <a:gs pos="0">
                <a:srgbClr val="3973b9"/>
              </a:gs>
              <a:gs pos="100000">
                <a:srgbClr val="759dc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91" name="AutoShape 16"/>
          <p:cNvSpPr/>
          <p:nvPr/>
        </p:nvSpPr>
        <p:spPr>
          <a:xfrm>
            <a:off x="6765840" y="3260880"/>
            <a:ext cx="1114560" cy="1114200"/>
          </a:xfrm>
          <a:prstGeom prst="diamond">
            <a:avLst/>
          </a:prstGeom>
          <a:gradFill rotWithShape="0">
            <a:gsLst>
              <a:gs pos="0">
                <a:srgbClr val="3973b9"/>
              </a:gs>
              <a:gs pos="100000">
                <a:srgbClr val="759dc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692" name="AutoShape 17"/>
          <p:cNvCxnSpPr>
            <a:stCxn id="688" idx="3"/>
            <a:endCxn id="689" idx="1"/>
          </p:cNvCxnSpPr>
          <p:nvPr/>
        </p:nvCxnSpPr>
        <p:spPr>
          <a:xfrm>
            <a:off x="1965240" y="3817440"/>
            <a:ext cx="867600" cy="1080"/>
          </a:xfrm>
          <a:prstGeom prst="straightConnector1">
            <a:avLst/>
          </a:prstGeom>
          <a:ln w="12600">
            <a:solidFill>
              <a:srgbClr val="333333"/>
            </a:solidFill>
            <a:round/>
            <a:headEnd len="sm" type="oval" w="sm"/>
            <a:tailEnd len="sm" type="oval" w="sm"/>
          </a:ln>
        </p:spPr>
      </p:cxnSp>
      <p:cxnSp>
        <p:nvCxnSpPr>
          <p:cNvPr id="693" name="AutoShape 18"/>
          <p:cNvCxnSpPr>
            <a:stCxn id="689" idx="3"/>
            <a:endCxn id="690" idx="1"/>
          </p:cNvCxnSpPr>
          <p:nvPr/>
        </p:nvCxnSpPr>
        <p:spPr>
          <a:xfrm>
            <a:off x="3946680" y="3817440"/>
            <a:ext cx="876960" cy="1080"/>
          </a:xfrm>
          <a:prstGeom prst="straightConnector1">
            <a:avLst/>
          </a:prstGeom>
          <a:ln w="12600">
            <a:solidFill>
              <a:srgbClr val="333333"/>
            </a:solidFill>
            <a:round/>
            <a:headEnd len="sm" type="oval" w="sm"/>
            <a:tailEnd len="sm" type="oval" w="sm"/>
          </a:ln>
        </p:spPr>
      </p:cxnSp>
      <p:cxnSp>
        <p:nvCxnSpPr>
          <p:cNvPr id="694" name="AutoShape 19"/>
          <p:cNvCxnSpPr>
            <a:stCxn id="690" idx="3"/>
            <a:endCxn id="691" idx="1"/>
          </p:cNvCxnSpPr>
          <p:nvPr/>
        </p:nvCxnSpPr>
        <p:spPr>
          <a:xfrm>
            <a:off x="5937120" y="3817440"/>
            <a:ext cx="829440" cy="1080"/>
          </a:xfrm>
          <a:prstGeom prst="straightConnector1">
            <a:avLst/>
          </a:prstGeom>
          <a:ln w="12600">
            <a:solidFill>
              <a:srgbClr val="333333"/>
            </a:solidFill>
            <a:round/>
            <a:headEnd len="sm" type="oval" w="sm"/>
            <a:tailEnd len="sm" type="oval" w="sm"/>
          </a:ln>
        </p:spPr>
      </p:cxnSp>
      <p:sp>
        <p:nvSpPr>
          <p:cNvPr id="695" name="Text Box 20"/>
          <p:cNvSpPr/>
          <p:nvPr/>
        </p:nvSpPr>
        <p:spPr>
          <a:xfrm>
            <a:off x="954000" y="358632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96" name="Text Box 21"/>
          <p:cNvSpPr/>
          <p:nvPr/>
        </p:nvSpPr>
        <p:spPr>
          <a:xfrm>
            <a:off x="2943360" y="35863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97" name="Text Box 22"/>
          <p:cNvSpPr/>
          <p:nvPr/>
        </p:nvSpPr>
        <p:spPr>
          <a:xfrm>
            <a:off x="4952880" y="358632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98" name="Text Box 23"/>
          <p:cNvSpPr/>
          <p:nvPr/>
        </p:nvSpPr>
        <p:spPr>
          <a:xfrm>
            <a:off x="6905520" y="358632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99" name="Text Box 24"/>
          <p:cNvSpPr/>
          <p:nvPr/>
        </p:nvSpPr>
        <p:spPr>
          <a:xfrm>
            <a:off x="596880" y="4465800"/>
            <a:ext cx="1614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00" name="Text Box 25"/>
          <p:cNvSpPr/>
          <p:nvPr/>
        </p:nvSpPr>
        <p:spPr>
          <a:xfrm>
            <a:off x="2540160" y="4465800"/>
            <a:ext cx="16142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01" name="Text Box 26"/>
          <p:cNvSpPr/>
          <p:nvPr/>
        </p:nvSpPr>
        <p:spPr>
          <a:xfrm>
            <a:off x="4554360" y="4465800"/>
            <a:ext cx="1614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02" name="Text Box 27"/>
          <p:cNvSpPr/>
          <p:nvPr/>
        </p:nvSpPr>
        <p:spPr>
          <a:xfrm>
            <a:off x="6502320" y="4465800"/>
            <a:ext cx="1614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03" name="Rectangle 28"/>
          <p:cNvSpPr/>
          <p:nvPr/>
        </p:nvSpPr>
        <p:spPr>
          <a:xfrm>
            <a:off x="900000" y="895320"/>
            <a:ext cx="69343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015920" y="1247760"/>
            <a:ext cx="66391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Block Diagra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5" name="Picture 3" descr="light_shadow_m"/>
          <p:cNvPicPr/>
          <p:nvPr/>
        </p:nvPicPr>
        <p:blipFill>
          <a:blip r:embed="rId1"/>
          <a:stretch/>
        </p:blipFill>
        <p:spPr>
          <a:xfrm rot="18480600">
            <a:off x="1379520" y="4176720"/>
            <a:ext cx="3254400" cy="441360"/>
          </a:xfrm>
          <a:prstGeom prst="rect">
            <a:avLst/>
          </a:prstGeom>
          <a:ln w="0">
            <a:noFill/>
          </a:ln>
        </p:spPr>
      </p:pic>
      <p:sp>
        <p:nvSpPr>
          <p:cNvPr id="706" name="Freeform 4"/>
          <p:cNvSpPr/>
          <p:nvPr/>
        </p:nvSpPr>
        <p:spPr>
          <a:xfrm>
            <a:off x="1922400" y="3408480"/>
            <a:ext cx="2097000" cy="2016000"/>
          </a:xfrm>
          <a:custGeom>
            <a:avLst/>
            <a:gdLst/>
            <a:ahLst/>
            <a:rect l="l" t="t" r="r" b="b"/>
            <a:pathLst>
              <a:path w="1335" h="1479">
                <a:moveTo>
                  <a:pt x="763" y="102"/>
                </a:moveTo>
                <a:cubicBezTo>
                  <a:pt x="920" y="0"/>
                  <a:pt x="1137" y="178"/>
                  <a:pt x="1209" y="244"/>
                </a:cubicBezTo>
                <a:cubicBezTo>
                  <a:pt x="1281" y="310"/>
                  <a:pt x="1335" y="312"/>
                  <a:pt x="1325" y="314"/>
                </a:cubicBezTo>
                <a:cubicBezTo>
                  <a:pt x="1262" y="339"/>
                  <a:pt x="1010" y="74"/>
                  <a:pt x="843" y="267"/>
                </a:cubicBezTo>
                <a:cubicBezTo>
                  <a:pt x="554" y="534"/>
                  <a:pt x="389" y="1337"/>
                  <a:pt x="305" y="1479"/>
                </a:cubicBezTo>
                <a:lnTo>
                  <a:pt x="0" y="1303"/>
                </a:lnTo>
                <a:cubicBezTo>
                  <a:pt x="76" y="1074"/>
                  <a:pt x="398" y="270"/>
                  <a:pt x="763" y="102"/>
                </a:cubicBez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07" name="Freeform 5"/>
          <p:cNvSpPr/>
          <p:nvPr/>
        </p:nvSpPr>
        <p:spPr>
          <a:xfrm flipH="1">
            <a:off x="5014800" y="3454560"/>
            <a:ext cx="2097360" cy="2016000"/>
          </a:xfrm>
          <a:custGeom>
            <a:avLst/>
            <a:gdLst/>
            <a:ahLst/>
            <a:rect l="l" t="t" r="r" b="b"/>
            <a:pathLst>
              <a:path w="1335" h="1479">
                <a:moveTo>
                  <a:pt x="763" y="102"/>
                </a:moveTo>
                <a:cubicBezTo>
                  <a:pt x="920" y="0"/>
                  <a:pt x="1137" y="178"/>
                  <a:pt x="1209" y="244"/>
                </a:cubicBezTo>
                <a:cubicBezTo>
                  <a:pt x="1281" y="310"/>
                  <a:pt x="1335" y="312"/>
                  <a:pt x="1325" y="314"/>
                </a:cubicBezTo>
                <a:cubicBezTo>
                  <a:pt x="1262" y="339"/>
                  <a:pt x="1010" y="74"/>
                  <a:pt x="843" y="267"/>
                </a:cubicBezTo>
                <a:cubicBezTo>
                  <a:pt x="554" y="534"/>
                  <a:pt x="389" y="1337"/>
                  <a:pt x="305" y="1479"/>
                </a:cubicBezTo>
                <a:lnTo>
                  <a:pt x="0" y="1303"/>
                </a:lnTo>
                <a:cubicBezTo>
                  <a:pt x="76" y="1074"/>
                  <a:pt x="398" y="270"/>
                  <a:pt x="763" y="102"/>
                </a:cubicBez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708" name="Group 6"/>
          <p:cNvGrpSpPr/>
          <p:nvPr/>
        </p:nvGrpSpPr>
        <p:grpSpPr>
          <a:xfrm>
            <a:off x="4237200" y="3403440"/>
            <a:ext cx="625320" cy="2103480"/>
            <a:chOff x="4237200" y="3403440"/>
            <a:chExt cx="625320" cy="2103480"/>
          </a:xfrm>
        </p:grpSpPr>
        <p:sp>
          <p:nvSpPr>
            <p:cNvPr id="709" name="Freeform 7"/>
            <p:cNvSpPr/>
            <p:nvPr/>
          </p:nvSpPr>
          <p:spPr>
            <a:xfrm>
              <a:off x="4237200" y="3403440"/>
              <a:ext cx="625320" cy="2103480"/>
            </a:xfrm>
            <a:custGeom>
              <a:avLst/>
              <a:gdLst/>
              <a:ahLst/>
              <a:rect l="l" t="t" r="r" b="b"/>
              <a:pathLst>
                <a:path w="398" h="1542">
                  <a:moveTo>
                    <a:pt x="229" y="318"/>
                  </a:moveTo>
                  <a:cubicBezTo>
                    <a:pt x="169" y="114"/>
                    <a:pt x="110" y="0"/>
                    <a:pt x="80" y="240"/>
                  </a:cubicBezTo>
                  <a:cubicBezTo>
                    <a:pt x="50" y="480"/>
                    <a:pt x="0" y="1379"/>
                    <a:pt x="10" y="1542"/>
                  </a:cubicBezTo>
                  <a:lnTo>
                    <a:pt x="362" y="1525"/>
                  </a:lnTo>
                  <a:cubicBezTo>
                    <a:pt x="398" y="1321"/>
                    <a:pt x="289" y="522"/>
                    <a:pt x="229" y="318"/>
                  </a:cubicBez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10" name="Freeform 8"/>
            <p:cNvSpPr/>
            <p:nvPr/>
          </p:nvSpPr>
          <p:spPr>
            <a:xfrm>
              <a:off x="4431960" y="3876480"/>
              <a:ext cx="53280" cy="766440"/>
            </a:xfrm>
            <a:custGeom>
              <a:avLst/>
              <a:gdLst/>
              <a:ahLst/>
              <a:rect l="l" t="t" r="r" b="b"/>
              <a:pathLst>
                <a:path w="34" h="562">
                  <a:moveTo>
                    <a:pt x="9" y="1"/>
                  </a:moveTo>
                  <a:cubicBezTo>
                    <a:pt x="14" y="2"/>
                    <a:pt x="32" y="148"/>
                    <a:pt x="34" y="241"/>
                  </a:cubicBezTo>
                  <a:cubicBezTo>
                    <a:pt x="29" y="338"/>
                    <a:pt x="14" y="562"/>
                    <a:pt x="19" y="562"/>
                  </a:cubicBezTo>
                  <a:cubicBezTo>
                    <a:pt x="13" y="561"/>
                    <a:pt x="4" y="326"/>
                    <a:pt x="2" y="233"/>
                  </a:cubicBezTo>
                  <a:cubicBezTo>
                    <a:pt x="0" y="140"/>
                    <a:pt x="4" y="0"/>
                    <a:pt x="9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50000">
                  <a:srgbClr val="000000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711" name="Freeform 9"/>
          <p:cNvSpPr/>
          <p:nvPr/>
        </p:nvSpPr>
        <p:spPr>
          <a:xfrm>
            <a:off x="2421000" y="3638520"/>
            <a:ext cx="587160" cy="741240"/>
          </a:xfrm>
          <a:custGeom>
            <a:avLst/>
            <a:gdLst/>
            <a:ahLst/>
            <a:rect l="l" t="t" r="r" b="b"/>
            <a:pathLst>
              <a:path w="368" h="543">
                <a:moveTo>
                  <a:pt x="154" y="241"/>
                </a:moveTo>
                <a:cubicBezTo>
                  <a:pt x="224" y="129"/>
                  <a:pt x="364" y="0"/>
                  <a:pt x="366" y="9"/>
                </a:cubicBezTo>
                <a:cubicBezTo>
                  <a:pt x="368" y="18"/>
                  <a:pt x="216" y="210"/>
                  <a:pt x="165" y="293"/>
                </a:cubicBezTo>
                <a:cubicBezTo>
                  <a:pt x="103" y="394"/>
                  <a:pt x="97" y="449"/>
                  <a:pt x="60" y="507"/>
                </a:cubicBezTo>
                <a:lnTo>
                  <a:pt x="0" y="543"/>
                </a:lnTo>
                <a:cubicBezTo>
                  <a:pt x="16" y="499"/>
                  <a:pt x="122" y="304"/>
                  <a:pt x="154" y="241"/>
                </a:cubicBezTo>
                <a:close/>
              </a:path>
            </a:pathLst>
          </a:custGeom>
          <a:blipFill rotWithShape="0">
            <a:blip r:embed="rId2">
              <a:alphaModFix amt="7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12" name="Freeform 10"/>
          <p:cNvSpPr/>
          <p:nvPr/>
        </p:nvSpPr>
        <p:spPr>
          <a:xfrm flipH="1">
            <a:off x="6031080" y="3754440"/>
            <a:ext cx="529920" cy="560520"/>
          </a:xfrm>
          <a:custGeom>
            <a:avLst/>
            <a:gdLst/>
            <a:ahLst/>
            <a:rect l="l" t="t" r="r" b="b"/>
            <a:pathLst>
              <a:path w="368" h="543">
                <a:moveTo>
                  <a:pt x="154" y="241"/>
                </a:moveTo>
                <a:cubicBezTo>
                  <a:pt x="224" y="129"/>
                  <a:pt x="364" y="0"/>
                  <a:pt x="366" y="9"/>
                </a:cubicBezTo>
                <a:cubicBezTo>
                  <a:pt x="368" y="18"/>
                  <a:pt x="216" y="210"/>
                  <a:pt x="165" y="293"/>
                </a:cubicBezTo>
                <a:cubicBezTo>
                  <a:pt x="103" y="394"/>
                  <a:pt x="97" y="449"/>
                  <a:pt x="60" y="507"/>
                </a:cubicBezTo>
                <a:lnTo>
                  <a:pt x="0" y="543"/>
                </a:lnTo>
                <a:cubicBezTo>
                  <a:pt x="16" y="499"/>
                  <a:pt x="122" y="304"/>
                  <a:pt x="154" y="241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13" name="Oval 11"/>
          <p:cNvSpPr/>
          <p:nvPr/>
        </p:nvSpPr>
        <p:spPr>
          <a:xfrm>
            <a:off x="1025640" y="4805280"/>
            <a:ext cx="1749240" cy="173376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14" name="Oval 12"/>
          <p:cNvSpPr/>
          <p:nvPr/>
        </p:nvSpPr>
        <p:spPr>
          <a:xfrm>
            <a:off x="1100160" y="4884840"/>
            <a:ext cx="1595520" cy="158256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6f6f6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715" name="Picture 13" descr="circuler_1"/>
          <p:cNvPicPr/>
          <p:nvPr/>
        </p:nvPicPr>
        <p:blipFill>
          <a:blip r:embed="rId4"/>
          <a:stretch/>
        </p:blipFill>
        <p:spPr>
          <a:xfrm>
            <a:off x="1157400" y="4941720"/>
            <a:ext cx="1492200" cy="1457640"/>
          </a:xfrm>
          <a:prstGeom prst="rect">
            <a:avLst/>
          </a:prstGeom>
          <a:ln w="0">
            <a:noFill/>
          </a:ln>
        </p:spPr>
      </p:pic>
      <p:sp>
        <p:nvSpPr>
          <p:cNvPr id="716" name="Oval 14"/>
          <p:cNvSpPr/>
          <p:nvPr/>
        </p:nvSpPr>
        <p:spPr>
          <a:xfrm>
            <a:off x="1157400" y="4941720"/>
            <a:ext cx="1482480" cy="1460520"/>
          </a:xfrm>
          <a:prstGeom prst="ellipse">
            <a:avLst/>
          </a:prstGeom>
          <a:gradFill rotWithShape="0">
            <a:gsLst>
              <a:gs pos="0">
                <a:srgbClr val="434328">
                  <a:alpha val="90196"/>
                </a:srgbClr>
              </a:gs>
              <a:gs pos="50000">
                <a:srgbClr val="ffff99">
                  <a:alpha val="45098"/>
                </a:srgbClr>
              </a:gs>
              <a:gs pos="100000">
                <a:srgbClr val="434328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17" name="Freeform 15"/>
          <p:cNvSpPr/>
          <p:nvPr/>
        </p:nvSpPr>
        <p:spPr>
          <a:xfrm>
            <a:off x="1309680" y="4970520"/>
            <a:ext cx="1165320" cy="50796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99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18" name="Oval 16"/>
          <p:cNvSpPr/>
          <p:nvPr/>
        </p:nvSpPr>
        <p:spPr>
          <a:xfrm>
            <a:off x="6118200" y="4805280"/>
            <a:ext cx="1747800" cy="173376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19" name="Oval 17"/>
          <p:cNvSpPr/>
          <p:nvPr/>
        </p:nvSpPr>
        <p:spPr>
          <a:xfrm>
            <a:off x="6191280" y="4884840"/>
            <a:ext cx="1596960" cy="158256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6f6f6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720" name="Picture 18" descr="circuler_1"/>
          <p:cNvPicPr/>
          <p:nvPr/>
        </p:nvPicPr>
        <p:blipFill>
          <a:blip r:embed="rId5"/>
          <a:stretch/>
        </p:blipFill>
        <p:spPr>
          <a:xfrm>
            <a:off x="6249960" y="4941720"/>
            <a:ext cx="1490760" cy="1457640"/>
          </a:xfrm>
          <a:prstGeom prst="rect">
            <a:avLst/>
          </a:prstGeom>
          <a:ln w="0">
            <a:noFill/>
          </a:ln>
        </p:spPr>
      </p:pic>
      <p:sp>
        <p:nvSpPr>
          <p:cNvPr id="721" name="Oval 19"/>
          <p:cNvSpPr/>
          <p:nvPr/>
        </p:nvSpPr>
        <p:spPr>
          <a:xfrm>
            <a:off x="6249960" y="4941720"/>
            <a:ext cx="1481040" cy="1460520"/>
          </a:xfrm>
          <a:prstGeom prst="ellipse">
            <a:avLst/>
          </a:prstGeom>
          <a:gradFill rotWithShape="0">
            <a:gsLst>
              <a:gs pos="0">
                <a:srgbClr val="363643">
                  <a:alpha val="90196"/>
                </a:srgbClr>
              </a:gs>
              <a:gs pos="50000">
                <a:srgbClr val="ccccff">
                  <a:alpha val="45098"/>
                </a:srgbClr>
              </a:gs>
              <a:gs pos="100000">
                <a:srgbClr val="363643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22" name="Freeform 20"/>
          <p:cNvSpPr/>
          <p:nvPr/>
        </p:nvSpPr>
        <p:spPr>
          <a:xfrm>
            <a:off x="6402240" y="4970520"/>
            <a:ext cx="1163880" cy="50796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cc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723" name="Group 21"/>
          <p:cNvGrpSpPr/>
          <p:nvPr/>
        </p:nvGrpSpPr>
        <p:grpSpPr>
          <a:xfrm>
            <a:off x="6355800" y="5953320"/>
            <a:ext cx="1309680" cy="522720"/>
            <a:chOff x="6355800" y="5953320"/>
            <a:chExt cx="1309680" cy="522720"/>
          </a:xfrm>
        </p:grpSpPr>
        <p:grpSp>
          <p:nvGrpSpPr>
            <p:cNvPr id="724" name="Group 22"/>
            <p:cNvGrpSpPr/>
            <p:nvPr/>
          </p:nvGrpSpPr>
          <p:grpSpPr>
            <a:xfrm>
              <a:off x="6584040" y="5953320"/>
              <a:ext cx="1081440" cy="491400"/>
              <a:chOff x="6584040" y="5953320"/>
              <a:chExt cx="1081440" cy="491400"/>
            </a:xfrm>
          </p:grpSpPr>
          <p:sp>
            <p:nvSpPr>
              <p:cNvPr id="725" name="AutoShape 23"/>
              <p:cNvSpPr/>
              <p:nvPr/>
            </p:nvSpPr>
            <p:spPr>
              <a:xfrm flipH="1" flipV="1" rot="3964800">
                <a:off x="7173000" y="580572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26" name="AutoShape 24"/>
              <p:cNvSpPr/>
              <p:nvPr/>
            </p:nvSpPr>
            <p:spPr>
              <a:xfrm flipH="1" flipV="1" rot="4780200">
                <a:off x="7052040" y="5853960"/>
                <a:ext cx="18900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27" name="AutoShape 25"/>
              <p:cNvSpPr/>
              <p:nvPr/>
            </p:nvSpPr>
            <p:spPr>
              <a:xfrm flipH="1" flipV="1" rot="5076000">
                <a:off x="6976440" y="5863320"/>
                <a:ext cx="18936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28" name="AutoShape 26"/>
              <p:cNvSpPr/>
              <p:nvPr/>
            </p:nvSpPr>
            <p:spPr>
              <a:xfrm flipH="1" flipV="1" rot="5608200">
                <a:off x="6887160" y="587304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grpSp>
          <p:nvGrpSpPr>
            <p:cNvPr id="729" name="Group 27"/>
            <p:cNvGrpSpPr/>
            <p:nvPr/>
          </p:nvGrpSpPr>
          <p:grpSpPr>
            <a:xfrm>
              <a:off x="6355800" y="5960520"/>
              <a:ext cx="1079280" cy="515520"/>
              <a:chOff x="6355800" y="5960520"/>
              <a:chExt cx="1079280" cy="515520"/>
            </a:xfrm>
          </p:grpSpPr>
          <p:sp>
            <p:nvSpPr>
              <p:cNvPr id="730" name="AutoShape 28"/>
              <p:cNvSpPr/>
              <p:nvPr/>
            </p:nvSpPr>
            <p:spPr>
              <a:xfrm flipH="1" flipV="1" rot="5317800">
                <a:off x="6944760" y="587232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31" name="AutoShape 29"/>
              <p:cNvSpPr/>
              <p:nvPr/>
            </p:nvSpPr>
            <p:spPr>
              <a:xfrm flipH="1" flipV="1" rot="6133800">
                <a:off x="6814080" y="587088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32" name="AutoShape 30"/>
              <p:cNvSpPr/>
              <p:nvPr/>
            </p:nvSpPr>
            <p:spPr>
              <a:xfrm flipH="1" flipV="1" rot="6429000">
                <a:off x="6741720" y="585180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33" name="AutoShape 31"/>
              <p:cNvSpPr/>
              <p:nvPr/>
            </p:nvSpPr>
            <p:spPr>
              <a:xfrm flipH="1" flipV="1" rot="6961200">
                <a:off x="6654960" y="582552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</p:grpSp>
      <p:sp>
        <p:nvSpPr>
          <p:cNvPr id="734" name="Oval 32"/>
          <p:cNvSpPr/>
          <p:nvPr/>
        </p:nvSpPr>
        <p:spPr>
          <a:xfrm>
            <a:off x="3646440" y="4805280"/>
            <a:ext cx="1747800" cy="173376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35" name="Oval 33"/>
          <p:cNvSpPr/>
          <p:nvPr/>
        </p:nvSpPr>
        <p:spPr>
          <a:xfrm>
            <a:off x="3719520" y="4884840"/>
            <a:ext cx="1596960" cy="158256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6f6f6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736" name="Picture 34" descr="circuler_1"/>
          <p:cNvPicPr/>
          <p:nvPr/>
        </p:nvPicPr>
        <p:blipFill>
          <a:blip r:embed="rId6"/>
          <a:stretch/>
        </p:blipFill>
        <p:spPr>
          <a:xfrm>
            <a:off x="3778200" y="4941720"/>
            <a:ext cx="1490760" cy="1457640"/>
          </a:xfrm>
          <a:prstGeom prst="rect">
            <a:avLst/>
          </a:prstGeom>
          <a:ln w="0">
            <a:noFill/>
          </a:ln>
        </p:spPr>
      </p:pic>
      <p:sp>
        <p:nvSpPr>
          <p:cNvPr id="737" name="Oval 35"/>
          <p:cNvSpPr/>
          <p:nvPr/>
        </p:nvSpPr>
        <p:spPr>
          <a:xfrm>
            <a:off x="3778200" y="4941720"/>
            <a:ext cx="1481040" cy="1460520"/>
          </a:xfrm>
          <a:prstGeom prst="ellipse">
            <a:avLst/>
          </a:prstGeom>
          <a:gradFill rotWithShape="0">
            <a:gsLst>
              <a:gs pos="0">
                <a:srgbClr val="284336">
                  <a:alpha val="90196"/>
                </a:srgbClr>
              </a:gs>
              <a:gs pos="50000">
                <a:srgbClr val="99ffcc">
                  <a:alpha val="45098"/>
                </a:srgbClr>
              </a:gs>
              <a:gs pos="100000">
                <a:srgbClr val="284336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38" name="Freeform 36"/>
          <p:cNvSpPr/>
          <p:nvPr/>
        </p:nvSpPr>
        <p:spPr>
          <a:xfrm>
            <a:off x="3930480" y="4970520"/>
            <a:ext cx="1163880" cy="50796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ffcc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739" name="Group 37"/>
          <p:cNvGrpSpPr/>
          <p:nvPr/>
        </p:nvGrpSpPr>
        <p:grpSpPr>
          <a:xfrm>
            <a:off x="3884040" y="5953320"/>
            <a:ext cx="1309680" cy="522720"/>
            <a:chOff x="3884040" y="5953320"/>
            <a:chExt cx="1309680" cy="522720"/>
          </a:xfrm>
        </p:grpSpPr>
        <p:grpSp>
          <p:nvGrpSpPr>
            <p:cNvPr id="740" name="Group 38"/>
            <p:cNvGrpSpPr/>
            <p:nvPr/>
          </p:nvGrpSpPr>
          <p:grpSpPr>
            <a:xfrm>
              <a:off x="4112280" y="5953320"/>
              <a:ext cx="1081440" cy="491400"/>
              <a:chOff x="4112280" y="5953320"/>
              <a:chExt cx="1081440" cy="491400"/>
            </a:xfrm>
          </p:grpSpPr>
          <p:sp>
            <p:nvSpPr>
              <p:cNvPr id="741" name="AutoShape 39"/>
              <p:cNvSpPr/>
              <p:nvPr/>
            </p:nvSpPr>
            <p:spPr>
              <a:xfrm flipH="1" flipV="1" rot="3964800">
                <a:off x="4701240" y="580572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42" name="AutoShape 40"/>
              <p:cNvSpPr/>
              <p:nvPr/>
            </p:nvSpPr>
            <p:spPr>
              <a:xfrm flipH="1" flipV="1" rot="4780200">
                <a:off x="4580280" y="5853960"/>
                <a:ext cx="18900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43" name="AutoShape 41"/>
              <p:cNvSpPr/>
              <p:nvPr/>
            </p:nvSpPr>
            <p:spPr>
              <a:xfrm flipH="1" flipV="1" rot="5076000">
                <a:off x="4504680" y="5863320"/>
                <a:ext cx="18936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44" name="AutoShape 42"/>
              <p:cNvSpPr/>
              <p:nvPr/>
            </p:nvSpPr>
            <p:spPr>
              <a:xfrm flipH="1" flipV="1" rot="5608200">
                <a:off x="4415400" y="587304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grpSp>
          <p:nvGrpSpPr>
            <p:cNvPr id="745" name="Group 43"/>
            <p:cNvGrpSpPr/>
            <p:nvPr/>
          </p:nvGrpSpPr>
          <p:grpSpPr>
            <a:xfrm>
              <a:off x="3884040" y="5960520"/>
              <a:ext cx="1079280" cy="515520"/>
              <a:chOff x="3884040" y="5960520"/>
              <a:chExt cx="1079280" cy="515520"/>
            </a:xfrm>
          </p:grpSpPr>
          <p:sp>
            <p:nvSpPr>
              <p:cNvPr id="746" name="AutoShape 44"/>
              <p:cNvSpPr/>
              <p:nvPr/>
            </p:nvSpPr>
            <p:spPr>
              <a:xfrm flipH="1" flipV="1" rot="5317800">
                <a:off x="4473000" y="587232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47" name="AutoShape 45"/>
              <p:cNvSpPr/>
              <p:nvPr/>
            </p:nvSpPr>
            <p:spPr>
              <a:xfrm flipH="1" flipV="1" rot="6133800">
                <a:off x="4342320" y="587088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48" name="AutoShape 46"/>
              <p:cNvSpPr/>
              <p:nvPr/>
            </p:nvSpPr>
            <p:spPr>
              <a:xfrm flipH="1" flipV="1" rot="6429000">
                <a:off x="4269960" y="585180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49" name="AutoShape 47"/>
              <p:cNvSpPr/>
              <p:nvPr/>
            </p:nvSpPr>
            <p:spPr>
              <a:xfrm flipH="1" flipV="1" rot="6961200">
                <a:off x="4183200" y="582552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</p:grpSp>
      <p:pic>
        <p:nvPicPr>
          <p:cNvPr id="750" name="Picture 48" descr="light_shadow_m"/>
          <p:cNvPicPr/>
          <p:nvPr/>
        </p:nvPicPr>
        <p:blipFill>
          <a:blip r:embed="rId7"/>
          <a:stretch/>
        </p:blipFill>
        <p:spPr>
          <a:xfrm rot="3050400">
            <a:off x="4402080" y="4176360"/>
            <a:ext cx="3254400" cy="441360"/>
          </a:xfrm>
          <a:prstGeom prst="rect">
            <a:avLst/>
          </a:prstGeom>
          <a:ln w="0">
            <a:noFill/>
          </a:ln>
        </p:spPr>
      </p:pic>
      <p:sp>
        <p:nvSpPr>
          <p:cNvPr id="751" name="Rectangle 49"/>
          <p:cNvSpPr/>
          <p:nvPr/>
        </p:nvSpPr>
        <p:spPr>
          <a:xfrm>
            <a:off x="3898080" y="54943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52" name="Rectangle 50"/>
          <p:cNvSpPr/>
          <p:nvPr/>
        </p:nvSpPr>
        <p:spPr>
          <a:xfrm>
            <a:off x="1250280" y="54943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53" name="Rectangle 51"/>
          <p:cNvSpPr/>
          <p:nvPr/>
        </p:nvSpPr>
        <p:spPr>
          <a:xfrm>
            <a:off x="6374520" y="54943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54" name="Rectangle 52"/>
          <p:cNvSpPr/>
          <p:nvPr/>
        </p:nvSpPr>
        <p:spPr>
          <a:xfrm>
            <a:off x="1668600" y="2814480"/>
            <a:ext cx="619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亮亮图文旗舰店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ttps://liangliangtuwen.tmall.com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755" name="Group 53"/>
          <p:cNvGrpSpPr/>
          <p:nvPr/>
        </p:nvGrpSpPr>
        <p:grpSpPr>
          <a:xfrm>
            <a:off x="1252080" y="5953320"/>
            <a:ext cx="1309680" cy="522720"/>
            <a:chOff x="1252080" y="5953320"/>
            <a:chExt cx="1309680" cy="522720"/>
          </a:xfrm>
        </p:grpSpPr>
        <p:grpSp>
          <p:nvGrpSpPr>
            <p:cNvPr id="756" name="Group 54"/>
            <p:cNvGrpSpPr/>
            <p:nvPr/>
          </p:nvGrpSpPr>
          <p:grpSpPr>
            <a:xfrm>
              <a:off x="1480320" y="5953320"/>
              <a:ext cx="1081440" cy="491400"/>
              <a:chOff x="1480320" y="5953320"/>
              <a:chExt cx="1081440" cy="491400"/>
            </a:xfrm>
          </p:grpSpPr>
          <p:sp>
            <p:nvSpPr>
              <p:cNvPr id="757" name="AutoShape 55"/>
              <p:cNvSpPr/>
              <p:nvPr/>
            </p:nvSpPr>
            <p:spPr>
              <a:xfrm flipH="1" flipV="1" rot="3964800">
                <a:off x="2069280" y="580572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58" name="AutoShape 56"/>
              <p:cNvSpPr/>
              <p:nvPr/>
            </p:nvSpPr>
            <p:spPr>
              <a:xfrm flipH="1" flipV="1" rot="4780200">
                <a:off x="1948320" y="5853960"/>
                <a:ext cx="18900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59" name="AutoShape 57"/>
              <p:cNvSpPr/>
              <p:nvPr/>
            </p:nvSpPr>
            <p:spPr>
              <a:xfrm flipH="1" flipV="1" rot="5076000">
                <a:off x="1872720" y="5863320"/>
                <a:ext cx="18936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60" name="AutoShape 58"/>
              <p:cNvSpPr/>
              <p:nvPr/>
            </p:nvSpPr>
            <p:spPr>
              <a:xfrm flipH="1" flipV="1" rot="5608200">
                <a:off x="1783440" y="587304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grpSp>
          <p:nvGrpSpPr>
            <p:cNvPr id="761" name="Group 59"/>
            <p:cNvGrpSpPr/>
            <p:nvPr/>
          </p:nvGrpSpPr>
          <p:grpSpPr>
            <a:xfrm>
              <a:off x="1252080" y="5960520"/>
              <a:ext cx="1079280" cy="515520"/>
              <a:chOff x="1252080" y="5960520"/>
              <a:chExt cx="1079280" cy="515520"/>
            </a:xfrm>
          </p:grpSpPr>
          <p:sp>
            <p:nvSpPr>
              <p:cNvPr id="762" name="AutoShape 60"/>
              <p:cNvSpPr/>
              <p:nvPr/>
            </p:nvSpPr>
            <p:spPr>
              <a:xfrm flipH="1" flipV="1" rot="5317800">
                <a:off x="1841040" y="587232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63" name="AutoShape 61"/>
              <p:cNvSpPr/>
              <p:nvPr/>
            </p:nvSpPr>
            <p:spPr>
              <a:xfrm flipH="1" flipV="1" rot="6133800">
                <a:off x="1710360" y="587088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64" name="AutoShape 62"/>
              <p:cNvSpPr/>
              <p:nvPr/>
            </p:nvSpPr>
            <p:spPr>
              <a:xfrm flipH="1" flipV="1" rot="6429000">
                <a:off x="1638000" y="585180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65" name="AutoShape 63"/>
              <p:cNvSpPr/>
              <p:nvPr/>
            </p:nvSpPr>
            <p:spPr>
              <a:xfrm flipH="1" flipV="1" rot="6961200">
                <a:off x="1551240" y="582552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</p:grpSp>
      <p:grpSp>
        <p:nvGrpSpPr>
          <p:cNvPr id="766" name="Group 64"/>
          <p:cNvGrpSpPr/>
          <p:nvPr/>
        </p:nvGrpSpPr>
        <p:grpSpPr>
          <a:xfrm>
            <a:off x="2320920" y="2082960"/>
            <a:ext cx="4266720" cy="617400"/>
            <a:chOff x="2320920" y="2082960"/>
            <a:chExt cx="4266720" cy="617400"/>
          </a:xfrm>
        </p:grpSpPr>
        <p:grpSp>
          <p:nvGrpSpPr>
            <p:cNvPr id="767" name="Group 65"/>
            <p:cNvGrpSpPr/>
            <p:nvPr/>
          </p:nvGrpSpPr>
          <p:grpSpPr>
            <a:xfrm>
              <a:off x="2320920" y="2082960"/>
              <a:ext cx="4266720" cy="617400"/>
              <a:chOff x="2320920" y="2082960"/>
              <a:chExt cx="4266720" cy="617400"/>
            </a:xfrm>
          </p:grpSpPr>
          <p:sp>
            <p:nvSpPr>
              <p:cNvPr id="768" name="AutoShape 66"/>
              <p:cNvSpPr/>
              <p:nvPr/>
            </p:nvSpPr>
            <p:spPr>
              <a:xfrm>
                <a:off x="2320920" y="2082960"/>
                <a:ext cx="4266720" cy="617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9a9cb"/>
                  </a:gs>
                  <a:gs pos="50000">
                    <a:srgbClr val="000066">
                      <a:alpha val="90196"/>
                    </a:srgbClr>
                  </a:gs>
                  <a:gs pos="100000">
                    <a:srgbClr val="a9a9c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69" name="AutoShape 67"/>
              <p:cNvSpPr/>
              <p:nvPr/>
            </p:nvSpPr>
            <p:spPr>
              <a:xfrm>
                <a:off x="2383560" y="2135160"/>
                <a:ext cx="4132440" cy="520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a9c00">
                      <a:alpha val="90196"/>
                    </a:srgbClr>
                  </a:gs>
                  <a:gs pos="50000">
                    <a:srgbClr val="f5cf83"/>
                  </a:gs>
                  <a:gs pos="100000">
                    <a:srgbClr val="ea9c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sp>
          <p:nvSpPr>
            <p:cNvPr id="770" name="Rectangle 68"/>
            <p:cNvSpPr/>
            <p:nvPr/>
          </p:nvSpPr>
          <p:spPr>
            <a:xfrm>
              <a:off x="2673360" y="2278080"/>
              <a:ext cx="355752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 in here</a:t>
              </a: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875880" y="1136520"/>
            <a:ext cx="77756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3-D Pie Char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Group 49"/>
          <p:cNvGrpSpPr/>
          <p:nvPr/>
        </p:nvGrpSpPr>
        <p:grpSpPr>
          <a:xfrm>
            <a:off x="2088000" y="1847880"/>
            <a:ext cx="4462200" cy="3133800"/>
            <a:chOff x="2088000" y="1847880"/>
            <a:chExt cx="4462200" cy="3133800"/>
          </a:xfrm>
        </p:grpSpPr>
        <p:sp>
          <p:nvSpPr>
            <p:cNvPr id="773" name="Oval 4"/>
            <p:cNvSpPr/>
            <p:nvPr/>
          </p:nvSpPr>
          <p:spPr>
            <a:xfrm>
              <a:off x="2784600" y="3862440"/>
              <a:ext cx="3765600" cy="8841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74" name="Oval 5"/>
            <p:cNvSpPr/>
            <p:nvPr/>
          </p:nvSpPr>
          <p:spPr>
            <a:xfrm rot="20601600">
              <a:off x="2294280" y="2453760"/>
              <a:ext cx="3900240" cy="201132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75" name="Oval 6"/>
            <p:cNvSpPr/>
            <p:nvPr/>
          </p:nvSpPr>
          <p:spPr>
            <a:xfrm rot="20601600">
              <a:off x="2331720" y="2346120"/>
              <a:ext cx="3765600" cy="194796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76" name="Arc 7"/>
            <p:cNvSpPr/>
            <p:nvPr/>
          </p:nvSpPr>
          <p:spPr>
            <a:xfrm rot="20601600">
              <a:off x="4131000" y="2271240"/>
              <a:ext cx="1928520" cy="131112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close/>
                </a:path>
              </a:pathLst>
            </a:custGeom>
            <a:gradFill rotWithShape="0">
              <a:gsLst>
                <a:gs pos="0">
                  <a:srgbClr val="3973b9"/>
                </a:gs>
                <a:gs pos="100000">
                  <a:srgbClr val="81a6d3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77" name="Arc 8"/>
            <p:cNvSpPr/>
            <p:nvPr/>
          </p:nvSpPr>
          <p:spPr>
            <a:xfrm flipH="1" rot="20602200">
              <a:off x="2496240" y="3522600"/>
              <a:ext cx="2220840" cy="98388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close/>
                </a:path>
              </a:pathLst>
            </a:custGeom>
            <a:gradFill rotWithShape="0">
              <a:gsLst>
                <a:gs pos="0">
                  <a:srgbClr val="697918"/>
                </a:gs>
                <a:gs pos="100000">
                  <a:srgbClr val="96ad2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78" name="Arc 9"/>
            <p:cNvSpPr/>
            <p:nvPr/>
          </p:nvSpPr>
          <p:spPr>
            <a:xfrm rot="20601600">
              <a:off x="3179880" y="2301480"/>
              <a:ext cx="2185920" cy="9460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-1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-1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b639b9"/>
                </a:gs>
                <a:gs pos="100000">
                  <a:srgbClr val="842986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79" name="Arc 10"/>
            <p:cNvSpPr/>
            <p:nvPr/>
          </p:nvSpPr>
          <p:spPr>
            <a:xfrm flipH="1" rot="20602200">
              <a:off x="2264760" y="2698560"/>
              <a:ext cx="1930320" cy="137772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close/>
                </a:path>
              </a:pathLst>
            </a:custGeom>
            <a:gradFill rotWithShape="0">
              <a:gsLst>
                <a:gs pos="0">
                  <a:srgbClr val="3973b9"/>
                </a:gs>
                <a:gs pos="100000">
                  <a:srgbClr val="1a3556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80" name="Freeform 11"/>
            <p:cNvSpPr/>
            <p:nvPr/>
          </p:nvSpPr>
          <p:spPr>
            <a:xfrm>
              <a:off x="5035680" y="3300480"/>
              <a:ext cx="1187640" cy="11858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f5d28b"/>
                </a:gs>
                <a:gs pos="100000">
                  <a:srgbClr val="ea9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81" name="Arc 12"/>
            <p:cNvSpPr/>
            <p:nvPr/>
          </p:nvSpPr>
          <p:spPr>
            <a:xfrm rot="20539200">
              <a:off x="4389120" y="2891880"/>
              <a:ext cx="1846440" cy="12398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c4800"/>
                </a:gs>
                <a:gs pos="100000">
                  <a:srgbClr val="ea9c00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82" name="Freeform 13"/>
            <p:cNvSpPr/>
            <p:nvPr/>
          </p:nvSpPr>
          <p:spPr>
            <a:xfrm>
              <a:off x="4365720" y="3527280"/>
              <a:ext cx="696960" cy="98280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f5d28b"/>
                </a:gs>
                <a:gs pos="100000">
                  <a:srgbClr val="ea9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83" name="Oval 14"/>
            <p:cNvSpPr/>
            <p:nvPr/>
          </p:nvSpPr>
          <p:spPr>
            <a:xfrm rot="20601600">
              <a:off x="3321360" y="2822040"/>
              <a:ext cx="1823760" cy="893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84" name="Text Box 15"/>
            <p:cNvSpPr/>
            <p:nvPr/>
          </p:nvSpPr>
          <p:spPr>
            <a:xfrm>
              <a:off x="2592000" y="332424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85" name="Text Box 16"/>
            <p:cNvSpPr/>
            <p:nvPr/>
          </p:nvSpPr>
          <p:spPr>
            <a:xfrm>
              <a:off x="3882600" y="251460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86" name="Text Box 17"/>
            <p:cNvSpPr/>
            <p:nvPr/>
          </p:nvSpPr>
          <p:spPr>
            <a:xfrm>
              <a:off x="5119200" y="271620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87" name="Text Box 18"/>
            <p:cNvSpPr/>
            <p:nvPr/>
          </p:nvSpPr>
          <p:spPr>
            <a:xfrm>
              <a:off x="4912920" y="352908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4</a:t>
              </a:r>
              <a:endParaRPr b="0" lang="en-US" sz="1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88" name="Text Box 19"/>
            <p:cNvSpPr/>
            <p:nvPr/>
          </p:nvSpPr>
          <p:spPr>
            <a:xfrm>
              <a:off x="3417480" y="398628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89" name="Freeform 20"/>
            <p:cNvSpPr/>
            <p:nvPr/>
          </p:nvSpPr>
          <p:spPr>
            <a:xfrm>
              <a:off x="4311720" y="3671640"/>
              <a:ext cx="584280" cy="71928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90" name="Oval 21"/>
            <p:cNvSpPr/>
            <p:nvPr/>
          </p:nvSpPr>
          <p:spPr>
            <a:xfrm rot="20601600">
              <a:off x="3389400" y="2990880"/>
              <a:ext cx="1751040" cy="726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791" name="Text Box 22"/>
          <p:cNvSpPr/>
          <p:nvPr/>
        </p:nvSpPr>
        <p:spPr>
          <a:xfrm>
            <a:off x="5894280" y="1976400"/>
            <a:ext cx="142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792" name="AutoShape 23"/>
          <p:cNvCxnSpPr/>
          <p:nvPr/>
        </p:nvCxnSpPr>
        <p:spPr>
          <a:xfrm flipH="1">
            <a:off x="5701680" y="2092680"/>
            <a:ext cx="192600" cy="296280"/>
          </a:xfrm>
          <a:prstGeom prst="straightConnector1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793" name="Text Box 24"/>
          <p:cNvSpPr/>
          <p:nvPr/>
        </p:nvSpPr>
        <p:spPr>
          <a:xfrm>
            <a:off x="1076400" y="2684520"/>
            <a:ext cx="142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794" name="AutoShape 25"/>
          <p:cNvCxnSpPr/>
          <p:nvPr/>
        </p:nvCxnSpPr>
        <p:spPr>
          <a:xfrm>
            <a:off x="2503440" y="2801880"/>
            <a:ext cx="180000" cy="295560"/>
          </a:xfrm>
          <a:prstGeom prst="straightConnector1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795" name="Text Box 26"/>
          <p:cNvSpPr/>
          <p:nvPr/>
        </p:nvSpPr>
        <p:spPr>
          <a:xfrm>
            <a:off x="2503440" y="1917720"/>
            <a:ext cx="142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796" name="AutoShape 27"/>
          <p:cNvCxnSpPr/>
          <p:nvPr/>
        </p:nvCxnSpPr>
        <p:spPr>
          <a:xfrm>
            <a:off x="3932280" y="2035080"/>
            <a:ext cx="178200" cy="295560"/>
          </a:xfrm>
          <a:prstGeom prst="straightConnector1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797" name="Text Box 28"/>
          <p:cNvSpPr/>
          <p:nvPr/>
        </p:nvSpPr>
        <p:spPr>
          <a:xfrm>
            <a:off x="6431040" y="3921120"/>
            <a:ext cx="142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798" name="AutoShape 29"/>
          <p:cNvCxnSpPr/>
          <p:nvPr/>
        </p:nvCxnSpPr>
        <p:spPr>
          <a:xfrm flipH="1" flipV="1">
            <a:off x="5893560" y="3627000"/>
            <a:ext cx="492840" cy="472320"/>
          </a:xfrm>
          <a:prstGeom prst="straightConnector1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799" name="Text Box 30"/>
          <p:cNvSpPr/>
          <p:nvPr/>
        </p:nvSpPr>
        <p:spPr>
          <a:xfrm>
            <a:off x="1380960" y="466092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800" name="AutoShape 31"/>
          <p:cNvCxnSpPr>
            <a:stCxn id="799" idx="3"/>
          </p:cNvCxnSpPr>
          <p:nvPr/>
        </p:nvCxnSpPr>
        <p:spPr>
          <a:xfrm flipV="1">
            <a:off x="3209400" y="4408200"/>
            <a:ext cx="343800" cy="405360"/>
          </a:xfrm>
          <a:prstGeom prst="straightConnector1">
            <a:avLst/>
          </a:prstGeom>
          <a:ln w="9360">
            <a:solidFill>
              <a:srgbClr val="292929"/>
            </a:solidFill>
            <a:miter/>
          </a:ln>
        </p:spPr>
      </p:cxnSp>
      <p:grpSp>
        <p:nvGrpSpPr>
          <p:cNvPr id="801" name="Group 32"/>
          <p:cNvGrpSpPr/>
          <p:nvPr/>
        </p:nvGrpSpPr>
        <p:grpSpPr>
          <a:xfrm>
            <a:off x="1305000" y="4957920"/>
            <a:ext cx="6359400" cy="1707120"/>
            <a:chOff x="1305000" y="4957920"/>
            <a:chExt cx="6359400" cy="1707120"/>
          </a:xfrm>
        </p:grpSpPr>
        <p:grpSp>
          <p:nvGrpSpPr>
            <p:cNvPr id="802" name="Group 33"/>
            <p:cNvGrpSpPr/>
            <p:nvPr/>
          </p:nvGrpSpPr>
          <p:grpSpPr>
            <a:xfrm>
              <a:off x="1305000" y="5194080"/>
              <a:ext cx="6359400" cy="1470960"/>
              <a:chOff x="1305000" y="5194080"/>
              <a:chExt cx="6359400" cy="1470960"/>
            </a:xfrm>
          </p:grpSpPr>
          <p:sp>
            <p:nvSpPr>
              <p:cNvPr id="803" name="AutoShape 34"/>
              <p:cNvSpPr/>
              <p:nvPr/>
            </p:nvSpPr>
            <p:spPr>
              <a:xfrm>
                <a:off x="1305000" y="5623920"/>
                <a:ext cx="2111400" cy="104112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4f4f4"/>
                  </a:gs>
                  <a:gs pos="100000">
                    <a:srgbClr val="ddddd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804" name="AutoShape 35"/>
              <p:cNvSpPr/>
              <p:nvPr/>
            </p:nvSpPr>
            <p:spPr>
              <a:xfrm>
                <a:off x="1305000" y="5196960"/>
                <a:ext cx="2111400" cy="426600"/>
              </a:xfrm>
              <a:prstGeom prst="bevel">
                <a:avLst>
                  <a:gd name="adj" fmla="val 3718"/>
                </a:avLst>
              </a:prstGeom>
              <a:solidFill>
                <a:srgbClr val="b639b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805" name="AutoShape 36"/>
              <p:cNvSpPr/>
              <p:nvPr/>
            </p:nvSpPr>
            <p:spPr>
              <a:xfrm>
                <a:off x="3438720" y="5623920"/>
                <a:ext cx="2111400" cy="104112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4f4f4"/>
                  </a:gs>
                  <a:gs pos="100000">
                    <a:srgbClr val="ddddd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806" name="AutoShape 37"/>
              <p:cNvSpPr/>
              <p:nvPr/>
            </p:nvSpPr>
            <p:spPr>
              <a:xfrm>
                <a:off x="3438720" y="5196960"/>
                <a:ext cx="2111400" cy="426600"/>
              </a:xfrm>
              <a:prstGeom prst="bevel">
                <a:avLst>
                  <a:gd name="adj" fmla="val 3718"/>
                </a:avLst>
              </a:prstGeom>
              <a:solidFill>
                <a:srgbClr val="99cc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807" name="Rectangle 38"/>
              <p:cNvSpPr/>
              <p:nvPr/>
            </p:nvSpPr>
            <p:spPr>
              <a:xfrm>
                <a:off x="1798200" y="5243040"/>
                <a:ext cx="1123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808" name="Rectangle 39"/>
              <p:cNvSpPr/>
              <p:nvPr/>
            </p:nvSpPr>
            <p:spPr>
              <a:xfrm>
                <a:off x="3931560" y="5252400"/>
                <a:ext cx="1123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809" name="Rectangle 40"/>
              <p:cNvSpPr/>
              <p:nvPr/>
            </p:nvSpPr>
            <p:spPr>
              <a:xfrm>
                <a:off x="1305000" y="5724000"/>
                <a:ext cx="20350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2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2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810" name="Rectangle 41"/>
              <p:cNvSpPr/>
              <p:nvPr/>
            </p:nvSpPr>
            <p:spPr>
              <a:xfrm>
                <a:off x="3438720" y="5724000"/>
                <a:ext cx="20350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2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2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811" name="AutoShape 42"/>
              <p:cNvSpPr/>
              <p:nvPr/>
            </p:nvSpPr>
            <p:spPr>
              <a:xfrm>
                <a:off x="5553000" y="5620680"/>
                <a:ext cx="2111400" cy="104112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4f4f4"/>
                  </a:gs>
                  <a:gs pos="100000">
                    <a:srgbClr val="ddddd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812" name="AutoShape 43"/>
              <p:cNvSpPr/>
              <p:nvPr/>
            </p:nvSpPr>
            <p:spPr>
              <a:xfrm>
                <a:off x="5553000" y="5194080"/>
                <a:ext cx="2111400" cy="426600"/>
              </a:xfrm>
              <a:prstGeom prst="bevel">
                <a:avLst>
                  <a:gd name="adj" fmla="val 3718"/>
                </a:avLst>
              </a:prstGeom>
              <a:solidFill>
                <a:srgbClr val="96ad2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813" name="Rectangle 44"/>
              <p:cNvSpPr/>
              <p:nvPr/>
            </p:nvSpPr>
            <p:spPr>
              <a:xfrm>
                <a:off x="6046200" y="5249160"/>
                <a:ext cx="1123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814" name="Rectangle 45"/>
              <p:cNvSpPr/>
              <p:nvPr/>
            </p:nvSpPr>
            <p:spPr>
              <a:xfrm>
                <a:off x="5553000" y="5720760"/>
                <a:ext cx="20354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2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2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sp>
          <p:nvSpPr>
            <p:cNvPr id="815" name="Freeform 46"/>
            <p:cNvSpPr/>
            <p:nvPr/>
          </p:nvSpPr>
          <p:spPr>
            <a:xfrm>
              <a:off x="1305000" y="4965480"/>
              <a:ext cx="6324480" cy="228240"/>
            </a:xfrm>
            <a:custGeom>
              <a:avLst/>
              <a:gdLst/>
              <a:ahLst/>
              <a:rect l="l" t="t" r="r" b="b"/>
              <a:pathLst>
                <a:path w="3984" h="144">
                  <a:moveTo>
                    <a:pt x="0" y="144"/>
                  </a:moveTo>
                  <a:lnTo>
                    <a:pt x="624" y="0"/>
                  </a:lnTo>
                  <a:lnTo>
                    <a:pt x="3529" y="0"/>
                  </a:lnTo>
                  <a:lnTo>
                    <a:pt x="3984" y="144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50000">
                  <a:srgbClr val="c9c9c9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grpSp>
          <p:nvGrpSpPr>
            <p:cNvPr id="816" name=""/>
            <p:cNvGrpSpPr/>
            <p:nvPr/>
          </p:nvGrpSpPr>
          <p:grpSpPr>
            <a:xfrm>
              <a:off x="3435120" y="4957920"/>
              <a:ext cx="187200" cy="205920"/>
              <a:chOff x="3435120" y="4957920"/>
              <a:chExt cx="187200" cy="205920"/>
            </a:xfrm>
          </p:grpSpPr>
          <p:sp>
            <p:nvSpPr>
              <p:cNvPr id="817" name="Line 47"/>
              <p:cNvSpPr/>
              <p:nvPr/>
            </p:nvSpPr>
            <p:spPr>
              <a:xfrm flipV="1">
                <a:off x="3435120" y="4957920"/>
                <a:ext cx="187200" cy="205920"/>
              </a:xfrm>
              <a:prstGeom prst="line">
                <a:avLst/>
              </a:prstGeom>
              <a:ln w="9360">
                <a:solidFill>
                  <a:srgbClr val="99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818" name=""/>
              <p:cNvSpPr txBox="1"/>
              <p:nvPr/>
            </p:nvSpPr>
            <p:spPr>
              <a:xfrm rot="10800000">
                <a:off x="3435120" y="4957920"/>
                <a:ext cx="187200" cy="205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grpSp>
          <p:nvGrpSpPr>
            <p:cNvPr id="819" name=""/>
            <p:cNvGrpSpPr/>
            <p:nvPr/>
          </p:nvGrpSpPr>
          <p:grpSpPr>
            <a:xfrm>
              <a:off x="5352840" y="4961880"/>
              <a:ext cx="190080" cy="222120"/>
              <a:chOff x="5352840" y="4961880"/>
              <a:chExt cx="190080" cy="222120"/>
            </a:xfrm>
          </p:grpSpPr>
          <p:sp>
            <p:nvSpPr>
              <p:cNvPr id="820" name="Line 48"/>
              <p:cNvSpPr/>
              <p:nvPr/>
            </p:nvSpPr>
            <p:spPr>
              <a:xfrm flipH="1" flipV="1">
                <a:off x="5352840" y="4961880"/>
                <a:ext cx="190080" cy="222120"/>
              </a:xfrm>
              <a:prstGeom prst="line">
                <a:avLst/>
              </a:prstGeom>
              <a:ln w="9360">
                <a:solidFill>
                  <a:srgbClr val="99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821" name=""/>
              <p:cNvSpPr txBox="1"/>
              <p:nvPr/>
            </p:nvSpPr>
            <p:spPr>
              <a:xfrm rot="10800000">
                <a:off x="5352840" y="4961880"/>
                <a:ext cx="190080" cy="222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968040" y="631800"/>
            <a:ext cx="77756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Arc 3"/>
          <p:cNvSpPr/>
          <p:nvPr/>
        </p:nvSpPr>
        <p:spPr>
          <a:xfrm rot="16200000">
            <a:off x="3263760" y="1488600"/>
            <a:ext cx="1908360" cy="50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33380" y="39705"/>
                </a:moveTo>
                <a:cubicBezTo>
                  <a:pt x="29874" y="41985"/>
                  <a:pt x="2578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</a:path>
              <a:path stroke="0" w="43200" h="43200">
                <a:moveTo>
                  <a:pt x="33380" y="39705"/>
                </a:moveTo>
                <a:cubicBezTo>
                  <a:pt x="29874" y="41985"/>
                  <a:pt x="2578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  <a:lnTo>
                  <a:pt x="21600" y="216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24" name="Arc 4"/>
          <p:cNvSpPr/>
          <p:nvPr/>
        </p:nvSpPr>
        <p:spPr>
          <a:xfrm rot="16200000">
            <a:off x="3433680" y="1363320"/>
            <a:ext cx="1712880" cy="484668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28692" y="42002"/>
                </a:moveTo>
                <a:cubicBezTo>
                  <a:pt x="26411" y="42795"/>
                  <a:pt x="24014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3200">
                <a:moveTo>
                  <a:pt x="28692" y="42002"/>
                </a:moveTo>
                <a:cubicBezTo>
                  <a:pt x="26411" y="42795"/>
                  <a:pt x="24014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96ad23"/>
              </a:gs>
              <a:gs pos="100000">
                <a:srgbClr val="d3dca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25" name="Arc 5"/>
          <p:cNvSpPr/>
          <p:nvPr/>
        </p:nvSpPr>
        <p:spPr>
          <a:xfrm rot="16200000">
            <a:off x="3276720" y="1550520"/>
            <a:ext cx="1755720" cy="4629240"/>
          </a:xfrm>
          <a:custGeom>
            <a:avLst/>
            <a:gdLst/>
            <a:ahLst/>
            <a:rect l="l" t="t" r="r" b="b"/>
            <a:pathLst>
              <a:path fill="none" w="43200" h="41865">
                <a:moveTo>
                  <a:pt x="14124" y="41864"/>
                </a:moveTo>
                <a:cubicBezTo>
                  <a:pt x="5636" y="38734"/>
                  <a:pt x="0" y="3064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1865">
                <a:moveTo>
                  <a:pt x="14124" y="41864"/>
                </a:moveTo>
                <a:cubicBezTo>
                  <a:pt x="5636" y="38734"/>
                  <a:pt x="0" y="3064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3973b9"/>
              </a:gs>
              <a:gs pos="100000">
                <a:srgbClr val="afc6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5602320" y="3713040"/>
            <a:ext cx="7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27" name="Line 7"/>
          <p:cNvSpPr/>
          <p:nvPr/>
        </p:nvSpPr>
        <p:spPr>
          <a:xfrm>
            <a:off x="6488280" y="4146480"/>
            <a:ext cx="0" cy="142920"/>
          </a:xfrm>
          <a:prstGeom prst="line">
            <a:avLst/>
          </a:prstGeom>
          <a:ln w="9360">
            <a:solidFill>
              <a:srgbClr val="1c1c1c">
                <a:alpha val="4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28" name="Line 9"/>
          <p:cNvSpPr/>
          <p:nvPr/>
        </p:nvSpPr>
        <p:spPr>
          <a:xfrm flipH="1">
            <a:off x="3188880" y="3836880"/>
            <a:ext cx="1258920" cy="1030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829" name="Group 10"/>
          <p:cNvGrpSpPr/>
          <p:nvPr/>
        </p:nvGrpSpPr>
        <p:grpSpPr>
          <a:xfrm>
            <a:off x="1523880" y="2792520"/>
            <a:ext cx="5679720" cy="2195280"/>
            <a:chOff x="1523880" y="2792520"/>
            <a:chExt cx="5679720" cy="2195280"/>
          </a:xfrm>
        </p:grpSpPr>
        <p:sp>
          <p:nvSpPr>
            <p:cNvPr id="830" name="Arc 11"/>
            <p:cNvSpPr/>
            <p:nvPr/>
          </p:nvSpPr>
          <p:spPr>
            <a:xfrm rot="16200000">
              <a:off x="3238560" y="1077840"/>
              <a:ext cx="2195280" cy="5624640"/>
            </a:xfrm>
            <a:custGeom>
              <a:avLst/>
              <a:gdLst/>
              <a:ahLst/>
              <a:rect l="l" t="t" r="r" b="b"/>
              <a:pathLst>
                <a:path fill="none" w="41412" h="41573">
                  <a:moveTo>
                    <a:pt x="0" y="12994"/>
                  </a:moveTo>
                  <a:cubicBezTo>
                    <a:pt x="3427" y="5104"/>
                    <a:pt x="11209" y="-1"/>
                    <a:pt x="19812" y="0"/>
                  </a:cubicBezTo>
                  <a:cubicBezTo>
                    <a:pt x="31741" y="0"/>
                    <a:pt x="41412" y="9670"/>
                    <a:pt x="41412" y="21600"/>
                  </a:cubicBezTo>
                  <a:cubicBezTo>
                    <a:pt x="41412" y="30353"/>
                    <a:pt x="36129" y="38241"/>
                    <a:pt x="28035" y="41573"/>
                  </a:cubicBezTo>
                </a:path>
                <a:path stroke="0" w="41412" h="41573">
                  <a:moveTo>
                    <a:pt x="0" y="12994"/>
                  </a:moveTo>
                  <a:cubicBezTo>
                    <a:pt x="3427" y="5104"/>
                    <a:pt x="11209" y="-1"/>
                    <a:pt x="19812" y="0"/>
                  </a:cubicBezTo>
                  <a:cubicBezTo>
                    <a:pt x="31741" y="0"/>
                    <a:pt x="41412" y="9670"/>
                    <a:pt x="41412" y="21600"/>
                  </a:cubicBezTo>
                  <a:cubicBezTo>
                    <a:pt x="41412" y="30353"/>
                    <a:pt x="36129" y="38241"/>
                    <a:pt x="28035" y="41573"/>
                  </a:cubicBezTo>
                  <a:lnTo>
                    <a:pt x="19812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5d1d5f"/>
                </a:gs>
                <a:gs pos="100000">
                  <a:srgbClr val="b639b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6926400" y="3165480"/>
              <a:ext cx="277200" cy="366840"/>
            </a:xfrm>
            <a:custGeom>
              <a:avLst/>
              <a:gdLst/>
              <a:ahLst/>
              <a:rect l="l" t="t" r="r" b="b"/>
              <a:pathLst>
                <a:path w="141" h="186">
                  <a:moveTo>
                    <a:pt x="133" y="72"/>
                  </a:moveTo>
                  <a:lnTo>
                    <a:pt x="141" y="161"/>
                  </a:lnTo>
                  <a:lnTo>
                    <a:pt x="15" y="186"/>
                  </a:lnTo>
                  <a:lnTo>
                    <a:pt x="0" y="0"/>
                  </a:lnTo>
                  <a:lnTo>
                    <a:pt x="133" y="72"/>
                  </a:lnTo>
                  <a:close/>
                </a:path>
              </a:pathLst>
            </a:custGeom>
            <a:solidFill>
              <a:srgbClr val="b63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832" name="Arc 13"/>
          <p:cNvSpPr/>
          <p:nvPr/>
        </p:nvSpPr>
        <p:spPr>
          <a:xfrm rot="16200000">
            <a:off x="3258360" y="865800"/>
            <a:ext cx="2182680" cy="5632200"/>
          </a:xfrm>
          <a:custGeom>
            <a:avLst/>
            <a:gdLst/>
            <a:ahLst/>
            <a:rect l="l" t="t" r="r" b="b"/>
            <a:pathLst>
              <a:path fill="none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</a:path>
              <a:path stroke="0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  <a:lnTo>
                  <a:pt x="19534" y="21600"/>
                </a:lnTo>
                <a:close/>
              </a:path>
            </a:pathLst>
          </a:custGeom>
          <a:gradFill rotWithShape="0">
            <a:gsLst>
              <a:gs pos="0">
                <a:srgbClr val="b639b9"/>
              </a:gs>
              <a:gs pos="100000">
                <a:srgbClr val="e2b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33" name="Text Box 14"/>
          <p:cNvSpPr/>
          <p:nvPr/>
        </p:nvSpPr>
        <p:spPr>
          <a:xfrm>
            <a:off x="2362320" y="3124080"/>
            <a:ext cx="116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60%</a:t>
            </a:r>
            <a:endParaRPr b="0" lang="en-US" sz="3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34" name="Text Box 15"/>
          <p:cNvSpPr/>
          <p:nvPr/>
        </p:nvSpPr>
        <p:spPr>
          <a:xfrm>
            <a:off x="4191120" y="412272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30%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35" name="Rectangle 16"/>
          <p:cNvSpPr/>
          <p:nvPr/>
        </p:nvSpPr>
        <p:spPr>
          <a:xfrm>
            <a:off x="5786280" y="5089680"/>
            <a:ext cx="160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36" name="Rectangle 17"/>
          <p:cNvSpPr/>
          <p:nvPr/>
        </p:nvSpPr>
        <p:spPr>
          <a:xfrm>
            <a:off x="4038480" y="5029200"/>
            <a:ext cx="20289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37" name="Rectangle 18"/>
          <p:cNvSpPr/>
          <p:nvPr/>
        </p:nvSpPr>
        <p:spPr>
          <a:xfrm>
            <a:off x="7162560" y="394020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38" name="Rectangle 19"/>
          <p:cNvSpPr/>
          <p:nvPr/>
        </p:nvSpPr>
        <p:spPr>
          <a:xfrm>
            <a:off x="6858000" y="3581280"/>
            <a:ext cx="20289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39" name="Rectangle 20"/>
          <p:cNvSpPr/>
          <p:nvPr/>
        </p:nvSpPr>
        <p:spPr>
          <a:xfrm>
            <a:off x="671400" y="5076720"/>
            <a:ext cx="160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40" name="Rectangle 21"/>
          <p:cNvSpPr/>
          <p:nvPr/>
        </p:nvSpPr>
        <p:spPr>
          <a:xfrm>
            <a:off x="685800" y="4724280"/>
            <a:ext cx="15145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41" name="Rectangle 22"/>
          <p:cNvSpPr/>
          <p:nvPr/>
        </p:nvSpPr>
        <p:spPr>
          <a:xfrm>
            <a:off x="2058840" y="3657600"/>
            <a:ext cx="169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842" name="Group 23"/>
          <p:cNvGrpSpPr/>
          <p:nvPr/>
        </p:nvGrpSpPr>
        <p:grpSpPr>
          <a:xfrm>
            <a:off x="4343400" y="2133720"/>
            <a:ext cx="701640" cy="1294920"/>
            <a:chOff x="4343400" y="2133720"/>
            <a:chExt cx="701640" cy="1294920"/>
          </a:xfrm>
        </p:grpSpPr>
        <p:sp>
          <p:nvSpPr>
            <p:cNvPr id="843" name="Freeform 24"/>
            <p:cNvSpPr/>
            <p:nvPr/>
          </p:nvSpPr>
          <p:spPr>
            <a:xfrm>
              <a:off x="4343400" y="2386440"/>
              <a:ext cx="701640" cy="104220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00749b"/>
                </a:gs>
                <a:gs pos="100000">
                  <a:srgbClr val="0099c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44" name="Oval 25"/>
            <p:cNvSpPr/>
            <p:nvPr/>
          </p:nvSpPr>
          <p:spPr>
            <a:xfrm flipH="1">
              <a:off x="4550760" y="2133720"/>
              <a:ext cx="235440" cy="269280"/>
            </a:xfrm>
            <a:prstGeom prst="ellipse">
              <a:avLst/>
            </a:prstGeom>
            <a:gradFill rotWithShape="0">
              <a:gsLst>
                <a:gs pos="0">
                  <a:srgbClr val="00749b"/>
                </a:gs>
                <a:gs pos="100000">
                  <a:srgbClr val="0099c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845" name="Group 26"/>
          <p:cNvGrpSpPr/>
          <p:nvPr/>
        </p:nvGrpSpPr>
        <p:grpSpPr>
          <a:xfrm>
            <a:off x="5105520" y="2133720"/>
            <a:ext cx="660240" cy="1314000"/>
            <a:chOff x="5105520" y="2133720"/>
            <a:chExt cx="660240" cy="1314000"/>
          </a:xfrm>
        </p:grpSpPr>
        <p:sp>
          <p:nvSpPr>
            <p:cNvPr id="846" name="Freeform 27"/>
            <p:cNvSpPr/>
            <p:nvPr/>
          </p:nvSpPr>
          <p:spPr>
            <a:xfrm>
              <a:off x="5105520" y="2363760"/>
              <a:ext cx="660240" cy="108396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gradFill rotWithShape="0">
              <a:gsLst>
                <a:gs pos="0">
                  <a:srgbClr val="f0b5b4"/>
                </a:gs>
                <a:gs pos="100000">
                  <a:srgbClr val="f7d7d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47" name="Oval 28"/>
            <p:cNvSpPr/>
            <p:nvPr/>
          </p:nvSpPr>
          <p:spPr>
            <a:xfrm>
              <a:off x="5301360" y="2133720"/>
              <a:ext cx="237960" cy="250920"/>
            </a:xfrm>
            <a:prstGeom prst="ellipse">
              <a:avLst/>
            </a:prstGeom>
            <a:gradFill rotWithShape="0">
              <a:gsLst>
                <a:gs pos="0">
                  <a:srgbClr val="f0b5b4"/>
                </a:gs>
                <a:gs pos="100000">
                  <a:srgbClr val="f7d7d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848" name="Rectangle 29"/>
          <p:cNvSpPr/>
          <p:nvPr/>
        </p:nvSpPr>
        <p:spPr>
          <a:xfrm>
            <a:off x="1971720" y="1252440"/>
            <a:ext cx="55497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877680" y="2433600"/>
            <a:ext cx="6638760" cy="633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3"/>
          <p:cNvSpPr/>
          <p:nvPr/>
        </p:nvSpPr>
        <p:spPr>
          <a:xfrm rot="3418800">
            <a:off x="7265520" y="1560240"/>
            <a:ext cx="923760" cy="1003320"/>
          </a:xfrm>
          <a:prstGeom prst="rect">
            <a:avLst/>
          </a:prstGeom>
          <a:gradFill rotWithShape="0">
            <a:gsLst>
              <a:gs pos="0">
                <a:srgbClr val="96ad23"/>
              </a:gs>
              <a:gs pos="100000">
                <a:srgbClr val="455010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77353" dir="56247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6648480" y="29052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52" name="Rectangle 5"/>
          <p:cNvSpPr/>
          <p:nvPr/>
        </p:nvSpPr>
        <p:spPr>
          <a:xfrm rot="3418800">
            <a:off x="1410840" y="2268360"/>
            <a:ext cx="923760" cy="1003320"/>
          </a:xfrm>
          <a:prstGeom prst="rect">
            <a:avLst/>
          </a:prstGeom>
          <a:gradFill rotWithShape="0">
            <a:gsLst>
              <a:gs pos="0">
                <a:srgbClr val="ea9c00"/>
              </a:gs>
              <a:gs pos="100000">
                <a:srgbClr val="6c4800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77353" dir="56247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53" name="Text Box 6"/>
          <p:cNvSpPr/>
          <p:nvPr/>
        </p:nvSpPr>
        <p:spPr>
          <a:xfrm>
            <a:off x="1507680" y="2627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54" name="Rectangle 7"/>
          <p:cNvSpPr/>
          <p:nvPr/>
        </p:nvSpPr>
        <p:spPr>
          <a:xfrm rot="3418800">
            <a:off x="2845800" y="4173480"/>
            <a:ext cx="924120" cy="1003320"/>
          </a:xfrm>
          <a:prstGeom prst="rect">
            <a:avLst/>
          </a:prstGeom>
          <a:gradFill rotWithShape="0">
            <a:gsLst>
              <a:gs pos="0">
                <a:srgbClr val="b639b9"/>
              </a:gs>
              <a:gs pos="100000">
                <a:srgbClr val="541a56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77353" dir="56247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55" name="Text Box 8"/>
          <p:cNvSpPr/>
          <p:nvPr/>
        </p:nvSpPr>
        <p:spPr>
          <a:xfrm>
            <a:off x="2942640" y="45324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56" name="Rectangle 9"/>
          <p:cNvSpPr/>
          <p:nvPr/>
        </p:nvSpPr>
        <p:spPr>
          <a:xfrm rot="3418800">
            <a:off x="4916160" y="3020760"/>
            <a:ext cx="923760" cy="1003320"/>
          </a:xfrm>
          <a:prstGeom prst="rect">
            <a:avLst/>
          </a:prstGeom>
          <a:gradFill rotWithShape="0">
            <a:gsLst>
              <a:gs pos="0">
                <a:srgbClr val="3973b9"/>
              </a:gs>
              <a:gs pos="100000">
                <a:srgbClr val="1a3556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77353" dir="56247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57" name="Text Box 10"/>
          <p:cNvSpPr/>
          <p:nvPr/>
        </p:nvSpPr>
        <p:spPr>
          <a:xfrm>
            <a:off x="5013000" y="3379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58" name="Text Box 11"/>
          <p:cNvSpPr/>
          <p:nvPr/>
        </p:nvSpPr>
        <p:spPr>
          <a:xfrm>
            <a:off x="7362360" y="1919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59" name="Line 12"/>
          <p:cNvSpPr/>
          <p:nvPr/>
        </p:nvSpPr>
        <p:spPr>
          <a:xfrm>
            <a:off x="2209680" y="3222720"/>
            <a:ext cx="762120" cy="106668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60" name="Line 13"/>
          <p:cNvSpPr/>
          <p:nvPr/>
        </p:nvSpPr>
        <p:spPr>
          <a:xfrm flipV="1">
            <a:off x="3809880" y="3755880"/>
            <a:ext cx="1067040" cy="60984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61" name="Line 14"/>
          <p:cNvSpPr/>
          <p:nvPr/>
        </p:nvSpPr>
        <p:spPr>
          <a:xfrm flipV="1">
            <a:off x="5943600" y="2371680"/>
            <a:ext cx="1295280" cy="77472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62" name="Text Box 15"/>
          <p:cNvSpPr/>
          <p:nvPr/>
        </p:nvSpPr>
        <p:spPr>
          <a:xfrm>
            <a:off x="2548080" y="692280"/>
            <a:ext cx="4114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73b9"/>
                </a:solidFill>
                <a:latin typeface="Arial"/>
                <a:ea typeface="宋体"/>
              </a:rPr>
              <a:t>Compan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ea9c00"/>
                </a:solidFill>
                <a:latin typeface="Arial"/>
                <a:ea typeface="宋体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63" name="Text Box 16"/>
          <p:cNvSpPr/>
          <p:nvPr/>
        </p:nvSpPr>
        <p:spPr>
          <a:xfrm>
            <a:off x="2432160" y="549576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64" name="Text Box 17"/>
          <p:cNvSpPr/>
          <p:nvPr/>
        </p:nvSpPr>
        <p:spPr>
          <a:xfrm>
            <a:off x="4718160" y="442908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6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6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6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65" name="Text Box 18"/>
          <p:cNvSpPr/>
          <p:nvPr/>
        </p:nvSpPr>
        <p:spPr>
          <a:xfrm>
            <a:off x="298440" y="35910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917280" y="893520"/>
            <a:ext cx="7775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20"/>
          <p:cNvSpPr/>
          <p:nvPr/>
        </p:nvSpPr>
        <p:spPr>
          <a:xfrm>
            <a:off x="1165320" y="1871640"/>
            <a:ext cx="510516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68" name="Oval 3"/>
          <p:cNvSpPr/>
          <p:nvPr/>
        </p:nvSpPr>
        <p:spPr>
          <a:xfrm>
            <a:off x="1380960" y="3814920"/>
            <a:ext cx="3781440" cy="1096920"/>
          </a:xfrm>
          <a:prstGeom prst="ellipse">
            <a:avLst/>
          </a:prstGeom>
          <a:solidFill>
            <a:srgbClr val="1c1c1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69" name="Arc 4"/>
          <p:cNvSpPr/>
          <p:nvPr/>
        </p:nvSpPr>
        <p:spPr>
          <a:xfrm rot="16200000">
            <a:off x="2795400" y="2338200"/>
            <a:ext cx="1316160" cy="35161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33380" y="39705"/>
                </a:moveTo>
                <a:cubicBezTo>
                  <a:pt x="29874" y="41985"/>
                  <a:pt x="2578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</a:path>
              <a:path stroke="0" w="43200" h="43200">
                <a:moveTo>
                  <a:pt x="33380" y="39705"/>
                </a:moveTo>
                <a:cubicBezTo>
                  <a:pt x="29874" y="41985"/>
                  <a:pt x="2578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45454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70" name="Arc 5"/>
          <p:cNvSpPr/>
          <p:nvPr/>
        </p:nvSpPr>
        <p:spPr>
          <a:xfrm rot="16200000">
            <a:off x="2904840" y="2266200"/>
            <a:ext cx="1197000" cy="33847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28692" y="42002"/>
                </a:moveTo>
                <a:cubicBezTo>
                  <a:pt x="26411" y="42795"/>
                  <a:pt x="24014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3200">
                <a:moveTo>
                  <a:pt x="28692" y="42002"/>
                </a:moveTo>
                <a:cubicBezTo>
                  <a:pt x="26411" y="42795"/>
                  <a:pt x="24014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ea9c00"/>
              </a:gs>
              <a:gs pos="100000">
                <a:srgbClr val="f6d59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71" name="Arc 6"/>
          <p:cNvSpPr/>
          <p:nvPr/>
        </p:nvSpPr>
        <p:spPr>
          <a:xfrm rot="16200000">
            <a:off x="2813040" y="2394000"/>
            <a:ext cx="1195200" cy="3262320"/>
          </a:xfrm>
          <a:custGeom>
            <a:avLst/>
            <a:gdLst/>
            <a:ahLst/>
            <a:rect l="l" t="t" r="r" b="b"/>
            <a:pathLst>
              <a:path fill="none" w="43200" h="42175">
                <a:moveTo>
                  <a:pt x="15026" y="42175"/>
                </a:moveTo>
                <a:cubicBezTo>
                  <a:pt x="6075" y="39315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2175">
                <a:moveTo>
                  <a:pt x="15026" y="42175"/>
                </a:moveTo>
                <a:cubicBezTo>
                  <a:pt x="6075" y="39315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dc9fdd"/>
              </a:gs>
              <a:gs pos="100000">
                <a:srgbClr val="b639b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72" name="Arc 7"/>
          <p:cNvSpPr/>
          <p:nvPr/>
        </p:nvSpPr>
        <p:spPr>
          <a:xfrm rot="16200000">
            <a:off x="2751840" y="2435760"/>
            <a:ext cx="1227240" cy="3152520"/>
          </a:xfrm>
          <a:custGeom>
            <a:avLst/>
            <a:gdLst/>
            <a:ahLst/>
            <a:rect l="l" t="t" r="r" b="b"/>
            <a:pathLst>
              <a:path fill="none" w="43200" h="40803">
                <a:moveTo>
                  <a:pt x="6942" y="37466"/>
                </a:moveTo>
                <a:cubicBezTo>
                  <a:pt x="2516" y="33377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0803">
                <a:moveTo>
                  <a:pt x="6942" y="37466"/>
                </a:moveTo>
                <a:cubicBezTo>
                  <a:pt x="2516" y="33377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3973b9"/>
              </a:gs>
              <a:gs pos="100000">
                <a:srgbClr val="afc6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4241880" y="409428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4675320" y="3828960"/>
            <a:ext cx="46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75" name="Line 10"/>
          <p:cNvSpPr/>
          <p:nvPr/>
        </p:nvSpPr>
        <p:spPr>
          <a:xfrm>
            <a:off x="5038560" y="4210200"/>
            <a:ext cx="0" cy="160200"/>
          </a:xfrm>
          <a:prstGeom prst="line">
            <a:avLst/>
          </a:prstGeom>
          <a:ln w="9360">
            <a:solidFill>
              <a:srgbClr val="1c1c1c">
                <a:alpha val="4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76" name="Line 11"/>
          <p:cNvSpPr/>
          <p:nvPr/>
        </p:nvSpPr>
        <p:spPr>
          <a:xfrm>
            <a:off x="4680000" y="4433760"/>
            <a:ext cx="0" cy="112680"/>
          </a:xfrm>
          <a:prstGeom prst="line">
            <a:avLst/>
          </a:prstGeom>
          <a:ln w="9360">
            <a:solidFill>
              <a:srgbClr val="1c1c1c">
                <a:alpha val="4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77" name="Line 12"/>
          <p:cNvSpPr/>
          <p:nvPr/>
        </p:nvSpPr>
        <p:spPr>
          <a:xfrm flipH="1">
            <a:off x="2734920" y="3994200"/>
            <a:ext cx="879480" cy="718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78" name="Arc 13"/>
          <p:cNvSpPr/>
          <p:nvPr/>
        </p:nvSpPr>
        <p:spPr>
          <a:xfrm rot="16200000">
            <a:off x="2769480" y="2066040"/>
            <a:ext cx="1533600" cy="3929040"/>
          </a:xfrm>
          <a:custGeom>
            <a:avLst/>
            <a:gdLst/>
            <a:ahLst/>
            <a:rect l="l" t="t" r="r" b="b"/>
            <a:pathLst>
              <a:path fill="none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</a:path>
              <a:path stroke="0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  <a:lnTo>
                  <a:pt x="19812" y="21600"/>
                </a:lnTo>
                <a:close/>
              </a:path>
            </a:pathLst>
          </a:custGeom>
          <a:gradFill rotWithShape="0">
            <a:gsLst>
              <a:gs pos="0">
                <a:srgbClr val="4d5912"/>
              </a:gs>
              <a:gs pos="100000">
                <a:srgbClr val="96ad2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79" name="Freeform 14"/>
          <p:cNvSpPr/>
          <p:nvPr/>
        </p:nvSpPr>
        <p:spPr>
          <a:xfrm>
            <a:off x="5343480" y="3524400"/>
            <a:ext cx="195480" cy="25560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96a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80" name="Arc 15"/>
          <p:cNvSpPr/>
          <p:nvPr/>
        </p:nvSpPr>
        <p:spPr>
          <a:xfrm rot="16200000">
            <a:off x="2783520" y="1919880"/>
            <a:ext cx="1524240" cy="3932280"/>
          </a:xfrm>
          <a:custGeom>
            <a:avLst/>
            <a:gdLst/>
            <a:ahLst/>
            <a:rect l="l" t="t" r="r" b="b"/>
            <a:pathLst>
              <a:path fill="none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</a:path>
              <a:path stroke="0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  <a:lnTo>
                  <a:pt x="19534" y="21600"/>
                </a:lnTo>
                <a:close/>
              </a:path>
            </a:pathLst>
          </a:custGeom>
          <a:gradFill rotWithShape="0">
            <a:gsLst>
              <a:gs pos="0">
                <a:srgbClr val="96ad23"/>
              </a:gs>
              <a:gs pos="100000">
                <a:srgbClr val="d5dea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81" name="Text Box 16"/>
          <p:cNvSpPr/>
          <p:nvPr/>
        </p:nvSpPr>
        <p:spPr>
          <a:xfrm>
            <a:off x="3164040" y="3325680"/>
            <a:ext cx="81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882" name="AutoShape 17"/>
          <p:cNvCxnSpPr>
            <a:endCxn id="881" idx="3"/>
          </p:cNvCxnSpPr>
          <p:nvPr/>
        </p:nvCxnSpPr>
        <p:spPr>
          <a:xfrm flipH="1">
            <a:off x="3975840" y="2757600"/>
            <a:ext cx="2094840" cy="767520"/>
          </a:xfrm>
          <a:prstGeom prst="straightConnector1">
            <a:avLst/>
          </a:prstGeom>
          <a:ln w="9360">
            <a:solidFill>
              <a:srgbClr val="3973b9"/>
            </a:solidFill>
            <a:miter/>
            <a:tailEnd len="med" type="triangle" w="med"/>
          </a:ln>
        </p:spPr>
      </p:cxnSp>
      <p:cxnSp>
        <p:nvCxnSpPr>
          <p:cNvPr id="883" name="AutoShape 18"/>
          <p:cNvCxnSpPr>
            <a:endCxn id="874" idx="3"/>
          </p:cNvCxnSpPr>
          <p:nvPr/>
        </p:nvCxnSpPr>
        <p:spPr>
          <a:xfrm flipH="1" flipV="1">
            <a:off x="5140080" y="3980880"/>
            <a:ext cx="1062720" cy="159480"/>
          </a:xfrm>
          <a:prstGeom prst="straightConnector1">
            <a:avLst/>
          </a:prstGeom>
          <a:ln w="9360">
            <a:solidFill>
              <a:srgbClr val="3973b9"/>
            </a:solidFill>
            <a:miter/>
            <a:tailEnd len="med" type="triangle" w="med"/>
          </a:ln>
        </p:spPr>
      </p:cxnSp>
      <p:sp>
        <p:nvSpPr>
          <p:cNvPr id="884" name="Text Box 19"/>
          <p:cNvSpPr/>
          <p:nvPr/>
        </p:nvSpPr>
        <p:spPr>
          <a:xfrm>
            <a:off x="3433680" y="419400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885" name="Group 21"/>
          <p:cNvGrpSpPr/>
          <p:nvPr/>
        </p:nvGrpSpPr>
        <p:grpSpPr>
          <a:xfrm>
            <a:off x="6070680" y="2573280"/>
            <a:ext cx="1758960" cy="418680"/>
            <a:chOff x="6070680" y="2573280"/>
            <a:chExt cx="1758960" cy="418680"/>
          </a:xfrm>
        </p:grpSpPr>
        <p:sp>
          <p:nvSpPr>
            <p:cNvPr id="886" name="Freeform 22"/>
            <p:cNvSpPr/>
            <p:nvPr/>
          </p:nvSpPr>
          <p:spPr>
            <a:xfrm>
              <a:off x="6174360" y="2814480"/>
              <a:ext cx="1551240" cy="177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87" name="Rectangle 23"/>
            <p:cNvSpPr/>
            <p:nvPr/>
          </p:nvSpPr>
          <p:spPr>
            <a:xfrm>
              <a:off x="6070680" y="2573280"/>
              <a:ext cx="1758960" cy="367560"/>
            </a:xfrm>
            <a:prstGeom prst="rect">
              <a:avLst/>
            </a:prstGeom>
            <a:gradFill rotWithShape="0">
              <a:gsLst>
                <a:gs pos="0">
                  <a:srgbClr val="c6d287"/>
                </a:gs>
                <a:gs pos="100000">
                  <a:srgbClr val="96ad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888" name="Group 24"/>
          <p:cNvGrpSpPr/>
          <p:nvPr/>
        </p:nvGrpSpPr>
        <p:grpSpPr>
          <a:xfrm>
            <a:off x="6070680" y="3921120"/>
            <a:ext cx="1758960" cy="418680"/>
            <a:chOff x="6070680" y="3921120"/>
            <a:chExt cx="1758960" cy="418680"/>
          </a:xfrm>
        </p:grpSpPr>
        <p:sp>
          <p:nvSpPr>
            <p:cNvPr id="889" name="Freeform 25"/>
            <p:cNvSpPr/>
            <p:nvPr/>
          </p:nvSpPr>
          <p:spPr>
            <a:xfrm>
              <a:off x="6174360" y="4162320"/>
              <a:ext cx="1551240" cy="177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90" name="Rectangle 26"/>
            <p:cNvSpPr/>
            <p:nvPr/>
          </p:nvSpPr>
          <p:spPr>
            <a:xfrm>
              <a:off x="6070680" y="3921120"/>
              <a:ext cx="1758960" cy="367560"/>
            </a:xfrm>
            <a:prstGeom prst="rect">
              <a:avLst/>
            </a:prstGeom>
            <a:gradFill rotWithShape="0">
              <a:gsLst>
                <a:gs pos="0">
                  <a:srgbClr val="f5cf83"/>
                </a:gs>
                <a:gs pos="100000">
                  <a:srgbClr val="ea9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891" name="Group 27"/>
          <p:cNvGrpSpPr/>
          <p:nvPr/>
        </p:nvGrpSpPr>
        <p:grpSpPr>
          <a:xfrm>
            <a:off x="4357800" y="4807080"/>
            <a:ext cx="1758960" cy="418680"/>
            <a:chOff x="4357800" y="4807080"/>
            <a:chExt cx="1758960" cy="418680"/>
          </a:xfrm>
        </p:grpSpPr>
        <p:sp>
          <p:nvSpPr>
            <p:cNvPr id="892" name="Freeform 28"/>
            <p:cNvSpPr/>
            <p:nvPr/>
          </p:nvSpPr>
          <p:spPr>
            <a:xfrm>
              <a:off x="4461480" y="5048280"/>
              <a:ext cx="1551240" cy="177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93" name="Rectangle 29"/>
            <p:cNvSpPr/>
            <p:nvPr/>
          </p:nvSpPr>
          <p:spPr>
            <a:xfrm>
              <a:off x="4357800" y="4807080"/>
              <a:ext cx="1758960" cy="367560"/>
            </a:xfrm>
            <a:prstGeom prst="rect">
              <a:avLst/>
            </a:prstGeom>
            <a:gradFill rotWithShape="0">
              <a:gsLst>
                <a:gs pos="0">
                  <a:srgbClr val="dea5df"/>
                </a:gs>
                <a:gs pos="100000">
                  <a:srgbClr val="b639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894" name="Group 30"/>
          <p:cNvGrpSpPr/>
          <p:nvPr/>
        </p:nvGrpSpPr>
        <p:grpSpPr>
          <a:xfrm>
            <a:off x="1452600" y="5016600"/>
            <a:ext cx="1758960" cy="418680"/>
            <a:chOff x="1452600" y="5016600"/>
            <a:chExt cx="1758960" cy="418680"/>
          </a:xfrm>
        </p:grpSpPr>
        <p:sp>
          <p:nvSpPr>
            <p:cNvPr id="895" name="Freeform 31"/>
            <p:cNvSpPr/>
            <p:nvPr/>
          </p:nvSpPr>
          <p:spPr>
            <a:xfrm>
              <a:off x="1556280" y="5257800"/>
              <a:ext cx="1551240" cy="177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96" name="Rectangle 32"/>
            <p:cNvSpPr/>
            <p:nvPr/>
          </p:nvSpPr>
          <p:spPr>
            <a:xfrm>
              <a:off x="1452600" y="5016600"/>
              <a:ext cx="1758960" cy="367560"/>
            </a:xfrm>
            <a:prstGeom prst="rect">
              <a:avLst/>
            </a:prstGeom>
            <a:gradFill rotWithShape="0">
              <a:gsLst>
                <a:gs pos="0">
                  <a:srgbClr val="c9d9ec"/>
                </a:gs>
                <a:gs pos="100000">
                  <a:srgbClr val="3973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cxnSp>
        <p:nvCxnSpPr>
          <p:cNvPr id="897" name="AutoShape 33"/>
          <p:cNvCxnSpPr>
            <a:stCxn id="893" idx="0"/>
            <a:endCxn id="873" idx="3"/>
          </p:cNvCxnSpPr>
          <p:nvPr/>
        </p:nvCxnSpPr>
        <p:spPr>
          <a:xfrm flipH="1" flipV="1">
            <a:off x="4960440" y="4246560"/>
            <a:ext cx="277200" cy="559080"/>
          </a:xfrm>
          <a:prstGeom prst="straightConnector1">
            <a:avLst/>
          </a:prstGeom>
          <a:ln w="9360">
            <a:solidFill>
              <a:srgbClr val="3973b9"/>
            </a:solidFill>
            <a:miter/>
            <a:tailEnd len="med" type="triangle" w="med"/>
          </a:ln>
        </p:spPr>
      </p:cxnSp>
      <p:cxnSp>
        <p:nvCxnSpPr>
          <p:cNvPr id="898" name="AutoShape 34"/>
          <p:cNvCxnSpPr>
            <a:stCxn id="896" idx="3"/>
            <a:endCxn id="884" idx="2"/>
          </p:cNvCxnSpPr>
          <p:nvPr/>
        </p:nvCxnSpPr>
        <p:spPr>
          <a:xfrm flipV="1">
            <a:off x="3211560" y="4498200"/>
            <a:ext cx="511920" cy="702360"/>
          </a:xfrm>
          <a:prstGeom prst="straightConnector1">
            <a:avLst/>
          </a:prstGeom>
          <a:ln w="9360">
            <a:solidFill>
              <a:srgbClr val="3973b9"/>
            </a:solidFill>
            <a:miter/>
            <a:tailEnd len="med" type="triangle" w="med"/>
          </a:ln>
        </p:spPr>
      </p:cxnSp>
      <p:sp>
        <p:nvSpPr>
          <p:cNvPr id="899" name="Rectangle 35"/>
          <p:cNvSpPr/>
          <p:nvPr/>
        </p:nvSpPr>
        <p:spPr>
          <a:xfrm>
            <a:off x="6334560" y="431784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00" name="Rectangle 36"/>
          <p:cNvSpPr/>
          <p:nvPr/>
        </p:nvSpPr>
        <p:spPr>
          <a:xfrm>
            <a:off x="6375600" y="2970360"/>
            <a:ext cx="139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01" name="Rectangle 37"/>
          <p:cNvSpPr/>
          <p:nvPr/>
        </p:nvSpPr>
        <p:spPr>
          <a:xfrm>
            <a:off x="4626360" y="5230800"/>
            <a:ext cx="139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902" name="Group 38"/>
          <p:cNvGrpSpPr/>
          <p:nvPr/>
        </p:nvGrpSpPr>
        <p:grpSpPr>
          <a:xfrm>
            <a:off x="2367360" y="2705040"/>
            <a:ext cx="863280" cy="1123200"/>
            <a:chOff x="2367360" y="2705040"/>
            <a:chExt cx="863280" cy="1123200"/>
          </a:xfrm>
        </p:grpSpPr>
        <p:grpSp>
          <p:nvGrpSpPr>
            <p:cNvPr id="903" name="Group 39"/>
            <p:cNvGrpSpPr/>
            <p:nvPr/>
          </p:nvGrpSpPr>
          <p:grpSpPr>
            <a:xfrm>
              <a:off x="2367360" y="2707200"/>
              <a:ext cx="858240" cy="1121040"/>
              <a:chOff x="2367360" y="2707200"/>
              <a:chExt cx="858240" cy="1121040"/>
            </a:xfrm>
          </p:grpSpPr>
          <p:sp>
            <p:nvSpPr>
              <p:cNvPr id="904" name="Freeform 40"/>
              <p:cNvSpPr/>
              <p:nvPr/>
            </p:nvSpPr>
            <p:spPr>
              <a:xfrm>
                <a:off x="2367360" y="3146760"/>
                <a:ext cx="858240" cy="68148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905" name="Oval 41"/>
              <p:cNvSpPr/>
              <p:nvPr/>
            </p:nvSpPr>
            <p:spPr>
              <a:xfrm>
                <a:off x="2599560" y="2707200"/>
                <a:ext cx="416160" cy="50112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sp>
          <p:nvSpPr>
            <p:cNvPr id="906" name="Freeform 42"/>
            <p:cNvSpPr/>
            <p:nvPr/>
          </p:nvSpPr>
          <p:spPr>
            <a:xfrm>
              <a:off x="2372760" y="3142800"/>
              <a:ext cx="857880" cy="68364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2d2f"/>
                </a:gs>
                <a:gs pos="100000">
                  <a:srgbClr val="00abb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07" name="Freeform 43"/>
            <p:cNvSpPr/>
            <p:nvPr/>
          </p:nvSpPr>
          <p:spPr>
            <a:xfrm>
              <a:off x="2540880" y="3186000"/>
              <a:ext cx="528840" cy="2170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9ca4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08" name="Oval 44"/>
            <p:cNvSpPr/>
            <p:nvPr/>
          </p:nvSpPr>
          <p:spPr>
            <a:xfrm>
              <a:off x="2604240" y="2705040"/>
              <a:ext cx="417960" cy="502920"/>
            </a:xfrm>
            <a:prstGeom prst="ellipse">
              <a:avLst/>
            </a:prstGeom>
            <a:gradFill rotWithShape="0">
              <a:gsLst>
                <a:gs pos="0">
                  <a:srgbClr val="005c60"/>
                </a:gs>
                <a:gs pos="50000">
                  <a:srgbClr val="00a4ac"/>
                </a:gs>
                <a:gs pos="100000">
                  <a:srgbClr val="005c6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09" name="Freeform 45"/>
            <p:cNvSpPr/>
            <p:nvPr/>
          </p:nvSpPr>
          <p:spPr>
            <a:xfrm>
              <a:off x="2646360" y="2712960"/>
              <a:ext cx="330840" cy="1656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59d3d9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grpSp>
          <p:nvGrpSpPr>
            <p:cNvPr id="910" name="Group 46"/>
            <p:cNvGrpSpPr/>
            <p:nvPr/>
          </p:nvGrpSpPr>
          <p:grpSpPr>
            <a:xfrm>
              <a:off x="2586240" y="2710440"/>
              <a:ext cx="299520" cy="311040"/>
              <a:chOff x="2586240" y="2710440"/>
              <a:chExt cx="299520" cy="311040"/>
            </a:xfrm>
          </p:grpSpPr>
          <p:grpSp>
            <p:nvGrpSpPr>
              <p:cNvPr id="911" name="Group 47"/>
              <p:cNvGrpSpPr/>
              <p:nvPr/>
            </p:nvGrpSpPr>
            <p:grpSpPr>
              <a:xfrm>
                <a:off x="2594160" y="2710440"/>
                <a:ext cx="291600" cy="237240"/>
                <a:chOff x="2594160" y="2710440"/>
                <a:chExt cx="291600" cy="237240"/>
              </a:xfrm>
            </p:grpSpPr>
            <p:sp>
              <p:nvSpPr>
                <p:cNvPr id="912" name="AutoShape 48"/>
                <p:cNvSpPr/>
                <p:nvPr/>
              </p:nvSpPr>
              <p:spPr>
                <a:xfrm flipH="1" rot="15040200">
                  <a:off x="2726640" y="2682000"/>
                  <a:ext cx="8316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13" name="AutoShape 49"/>
                <p:cNvSpPr/>
                <p:nvPr/>
              </p:nvSpPr>
              <p:spPr>
                <a:xfrm flipH="1" rot="14224200">
                  <a:off x="2692800" y="2694960"/>
                  <a:ext cx="8316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14" name="AutoShape 50"/>
                <p:cNvSpPr/>
                <p:nvPr/>
              </p:nvSpPr>
              <p:spPr>
                <a:xfrm flipH="1" rot="13928400">
                  <a:off x="2676600" y="2710440"/>
                  <a:ext cx="83160" cy="21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15" name="AutoShape 51"/>
                <p:cNvSpPr/>
                <p:nvPr/>
              </p:nvSpPr>
              <p:spPr>
                <a:xfrm flipH="1" rot="13396200">
                  <a:off x="2657880" y="2729160"/>
                  <a:ext cx="8316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916" name="Group 52"/>
              <p:cNvGrpSpPr/>
              <p:nvPr/>
            </p:nvGrpSpPr>
            <p:grpSpPr>
              <a:xfrm>
                <a:off x="2586240" y="2729160"/>
                <a:ext cx="235800" cy="292320"/>
                <a:chOff x="2586240" y="2729160"/>
                <a:chExt cx="235800" cy="292320"/>
              </a:xfrm>
            </p:grpSpPr>
            <p:sp>
              <p:nvSpPr>
                <p:cNvPr id="917" name="AutoShape 53"/>
                <p:cNvSpPr/>
                <p:nvPr/>
              </p:nvSpPr>
              <p:spPr>
                <a:xfrm flipH="1" rot="13687200">
                  <a:off x="2669760" y="2724120"/>
                  <a:ext cx="8388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18" name="AutoShape 54"/>
                <p:cNvSpPr/>
                <p:nvPr/>
              </p:nvSpPr>
              <p:spPr>
                <a:xfrm flipH="1" rot="12871200">
                  <a:off x="2644200" y="2748960"/>
                  <a:ext cx="83880" cy="21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19" name="AutoShape 55"/>
                <p:cNvSpPr/>
                <p:nvPr/>
              </p:nvSpPr>
              <p:spPr>
                <a:xfrm flipH="1" rot="12576000">
                  <a:off x="2634840" y="2769480"/>
                  <a:ext cx="8388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20" name="AutoShape 56"/>
                <p:cNvSpPr/>
                <p:nvPr/>
              </p:nvSpPr>
              <p:spPr>
                <a:xfrm flipH="1" rot="12043800">
                  <a:off x="2625120" y="2793960"/>
                  <a:ext cx="8388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</p:grpSp>
        <p:grpSp>
          <p:nvGrpSpPr>
            <p:cNvPr id="921" name="Group 57"/>
            <p:cNvGrpSpPr/>
            <p:nvPr/>
          </p:nvGrpSpPr>
          <p:grpSpPr>
            <a:xfrm>
              <a:off x="2430720" y="3175920"/>
              <a:ext cx="372600" cy="447840"/>
              <a:chOff x="2430720" y="3175920"/>
              <a:chExt cx="372600" cy="447840"/>
            </a:xfrm>
          </p:grpSpPr>
          <p:grpSp>
            <p:nvGrpSpPr>
              <p:cNvPr id="922" name="Group 58"/>
              <p:cNvGrpSpPr/>
              <p:nvPr/>
            </p:nvGrpSpPr>
            <p:grpSpPr>
              <a:xfrm>
                <a:off x="2430720" y="3175920"/>
                <a:ext cx="372600" cy="350280"/>
                <a:chOff x="2430720" y="3175920"/>
                <a:chExt cx="372600" cy="350280"/>
              </a:xfrm>
            </p:grpSpPr>
            <p:sp>
              <p:nvSpPr>
                <p:cNvPr id="923" name="AutoShape 59"/>
                <p:cNvSpPr/>
                <p:nvPr/>
              </p:nvSpPr>
              <p:spPr>
                <a:xfrm flipH="1" rot="14424600">
                  <a:off x="2601360" y="3130920"/>
                  <a:ext cx="8388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24" name="AutoShape 60"/>
                <p:cNvSpPr/>
                <p:nvPr/>
              </p:nvSpPr>
              <p:spPr>
                <a:xfrm flipH="1" rot="13608600">
                  <a:off x="2556360" y="3158640"/>
                  <a:ext cx="8388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25" name="AutoShape 61"/>
                <p:cNvSpPr/>
                <p:nvPr/>
              </p:nvSpPr>
              <p:spPr>
                <a:xfrm flipH="1" rot="13313400">
                  <a:off x="2535480" y="3181680"/>
                  <a:ext cx="8388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26" name="AutoShape 62"/>
                <p:cNvSpPr/>
                <p:nvPr/>
              </p:nvSpPr>
              <p:spPr>
                <a:xfrm flipH="1" rot="12781200">
                  <a:off x="2511000" y="3209400"/>
                  <a:ext cx="8388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927" name="Group 63"/>
              <p:cNvGrpSpPr/>
              <p:nvPr/>
            </p:nvGrpSpPr>
            <p:grpSpPr>
              <a:xfrm>
                <a:off x="2432160" y="3199320"/>
                <a:ext cx="266400" cy="424440"/>
                <a:chOff x="2432160" y="3199320"/>
                <a:chExt cx="266400" cy="424440"/>
              </a:xfrm>
            </p:grpSpPr>
            <p:sp>
              <p:nvSpPr>
                <p:cNvPr id="928" name="AutoShape 64"/>
                <p:cNvSpPr/>
                <p:nvPr/>
              </p:nvSpPr>
              <p:spPr>
                <a:xfrm flipH="1" rot="13071600">
                  <a:off x="2524680" y="3191400"/>
                  <a:ext cx="8460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29" name="AutoShape 65"/>
                <p:cNvSpPr/>
                <p:nvPr/>
              </p:nvSpPr>
              <p:spPr>
                <a:xfrm flipH="1" rot="12256200">
                  <a:off x="2494080" y="3235320"/>
                  <a:ext cx="8460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30" name="AutoShape 66"/>
                <p:cNvSpPr/>
                <p:nvPr/>
              </p:nvSpPr>
              <p:spPr>
                <a:xfrm flipH="1" rot="11960400">
                  <a:off x="2483280" y="3263760"/>
                  <a:ext cx="8460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31" name="AutoShape 67"/>
                <p:cNvSpPr/>
                <p:nvPr/>
              </p:nvSpPr>
              <p:spPr>
                <a:xfrm flipH="1" rot="11428200">
                  <a:off x="2471760" y="3298320"/>
                  <a:ext cx="8460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</p:grpSp>
      </p:grpSp>
      <p:sp>
        <p:nvSpPr>
          <p:cNvPr id="932" name="Rectangle 68"/>
          <p:cNvSpPr/>
          <p:nvPr/>
        </p:nvSpPr>
        <p:spPr>
          <a:xfrm>
            <a:off x="1971000" y="382896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933" name="Group 69"/>
          <p:cNvGrpSpPr/>
          <p:nvPr/>
        </p:nvGrpSpPr>
        <p:grpSpPr>
          <a:xfrm>
            <a:off x="1904400" y="2705040"/>
            <a:ext cx="864000" cy="1123200"/>
            <a:chOff x="1904400" y="2705040"/>
            <a:chExt cx="864000" cy="1123200"/>
          </a:xfrm>
        </p:grpSpPr>
        <p:grpSp>
          <p:nvGrpSpPr>
            <p:cNvPr id="934" name="Group 70"/>
            <p:cNvGrpSpPr/>
            <p:nvPr/>
          </p:nvGrpSpPr>
          <p:grpSpPr>
            <a:xfrm>
              <a:off x="1904400" y="2707200"/>
              <a:ext cx="859680" cy="1121040"/>
              <a:chOff x="1904400" y="2707200"/>
              <a:chExt cx="859680" cy="1121040"/>
            </a:xfrm>
          </p:grpSpPr>
          <p:sp>
            <p:nvSpPr>
              <p:cNvPr id="935" name="Freeform 71"/>
              <p:cNvSpPr/>
              <p:nvPr/>
            </p:nvSpPr>
            <p:spPr>
              <a:xfrm>
                <a:off x="1904400" y="3146760"/>
                <a:ext cx="859680" cy="68148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936" name="Oval 72"/>
              <p:cNvSpPr/>
              <p:nvPr/>
            </p:nvSpPr>
            <p:spPr>
              <a:xfrm>
                <a:off x="2136960" y="2707200"/>
                <a:ext cx="416880" cy="50112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sp>
          <p:nvSpPr>
            <p:cNvPr id="937" name="Freeform 73"/>
            <p:cNvSpPr/>
            <p:nvPr/>
          </p:nvSpPr>
          <p:spPr>
            <a:xfrm>
              <a:off x="1909440" y="3142800"/>
              <a:ext cx="858960" cy="68364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273216"/>
                </a:gs>
                <a:gs pos="100000">
                  <a:srgbClr val="93c0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38" name="Freeform 74"/>
            <p:cNvSpPr/>
            <p:nvPr/>
          </p:nvSpPr>
          <p:spPr>
            <a:xfrm>
              <a:off x="2077920" y="3186000"/>
              <a:ext cx="529560" cy="2170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3c052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39" name="Oval 75"/>
            <p:cNvSpPr/>
            <p:nvPr/>
          </p:nvSpPr>
          <p:spPr>
            <a:xfrm>
              <a:off x="2141280" y="2705040"/>
              <a:ext cx="418320" cy="502920"/>
            </a:xfrm>
            <a:prstGeom prst="ellipse">
              <a:avLst/>
            </a:prstGeom>
            <a:gradFill rotWithShape="0">
              <a:gsLst>
                <a:gs pos="0">
                  <a:srgbClr val="526c2e"/>
                </a:gs>
                <a:gs pos="50000">
                  <a:srgbClr val="93c052"/>
                </a:gs>
                <a:gs pos="100000">
                  <a:srgbClr val="526c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40" name="Freeform 76"/>
            <p:cNvSpPr/>
            <p:nvPr/>
          </p:nvSpPr>
          <p:spPr>
            <a:xfrm>
              <a:off x="2183760" y="2712960"/>
              <a:ext cx="331200" cy="1656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3c052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grpSp>
          <p:nvGrpSpPr>
            <p:cNvPr id="941" name="Group 77"/>
            <p:cNvGrpSpPr/>
            <p:nvPr/>
          </p:nvGrpSpPr>
          <p:grpSpPr>
            <a:xfrm>
              <a:off x="2123640" y="2710440"/>
              <a:ext cx="300240" cy="311400"/>
              <a:chOff x="2123640" y="2710440"/>
              <a:chExt cx="300240" cy="311400"/>
            </a:xfrm>
          </p:grpSpPr>
          <p:grpSp>
            <p:nvGrpSpPr>
              <p:cNvPr id="942" name="Group 78"/>
              <p:cNvGrpSpPr/>
              <p:nvPr/>
            </p:nvGrpSpPr>
            <p:grpSpPr>
              <a:xfrm>
                <a:off x="2131560" y="2710440"/>
                <a:ext cx="292320" cy="237600"/>
                <a:chOff x="2131560" y="2710440"/>
                <a:chExt cx="292320" cy="237600"/>
              </a:xfrm>
            </p:grpSpPr>
            <p:sp>
              <p:nvSpPr>
                <p:cNvPr id="943" name="AutoShape 79"/>
                <p:cNvSpPr/>
                <p:nvPr/>
              </p:nvSpPr>
              <p:spPr>
                <a:xfrm flipH="1" rot="15040200">
                  <a:off x="2264040" y="2681280"/>
                  <a:ext cx="83160" cy="220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44" name="AutoShape 80"/>
                <p:cNvSpPr/>
                <p:nvPr/>
              </p:nvSpPr>
              <p:spPr>
                <a:xfrm flipH="1" rot="14224200">
                  <a:off x="2229120" y="2694960"/>
                  <a:ext cx="8316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45" name="AutoShape 81"/>
                <p:cNvSpPr/>
                <p:nvPr/>
              </p:nvSpPr>
              <p:spPr>
                <a:xfrm flipH="1" rot="13928400">
                  <a:off x="2213640" y="2710080"/>
                  <a:ext cx="83160" cy="21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46" name="AutoShape 82"/>
                <p:cNvSpPr/>
                <p:nvPr/>
              </p:nvSpPr>
              <p:spPr>
                <a:xfrm flipH="1" rot="13396200">
                  <a:off x="2194920" y="2729160"/>
                  <a:ext cx="8316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947" name="Group 83"/>
              <p:cNvGrpSpPr/>
              <p:nvPr/>
            </p:nvGrpSpPr>
            <p:grpSpPr>
              <a:xfrm>
                <a:off x="2123640" y="2729160"/>
                <a:ext cx="235800" cy="292680"/>
                <a:chOff x="2123640" y="2729160"/>
                <a:chExt cx="235800" cy="292680"/>
              </a:xfrm>
            </p:grpSpPr>
            <p:sp>
              <p:nvSpPr>
                <p:cNvPr id="948" name="AutoShape 84"/>
                <p:cNvSpPr/>
                <p:nvPr/>
              </p:nvSpPr>
              <p:spPr>
                <a:xfrm flipH="1" rot="13687200">
                  <a:off x="2207520" y="2723760"/>
                  <a:ext cx="83880" cy="21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49" name="AutoShape 85"/>
                <p:cNvSpPr/>
                <p:nvPr/>
              </p:nvSpPr>
              <p:spPr>
                <a:xfrm flipH="1" rot="12871200">
                  <a:off x="2181240" y="2748960"/>
                  <a:ext cx="8388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50" name="AutoShape 86"/>
                <p:cNvSpPr/>
                <p:nvPr/>
              </p:nvSpPr>
              <p:spPr>
                <a:xfrm flipH="1" rot="12576000">
                  <a:off x="2172240" y="2769120"/>
                  <a:ext cx="8388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51" name="AutoShape 87"/>
                <p:cNvSpPr/>
                <p:nvPr/>
              </p:nvSpPr>
              <p:spPr>
                <a:xfrm flipH="1" rot="12043800">
                  <a:off x="2161800" y="2793600"/>
                  <a:ext cx="8388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</p:grpSp>
        <p:grpSp>
          <p:nvGrpSpPr>
            <p:cNvPr id="952" name="Group 88"/>
            <p:cNvGrpSpPr/>
            <p:nvPr/>
          </p:nvGrpSpPr>
          <p:grpSpPr>
            <a:xfrm>
              <a:off x="1967760" y="3175560"/>
              <a:ext cx="372600" cy="448920"/>
              <a:chOff x="1967760" y="3175560"/>
              <a:chExt cx="372600" cy="448920"/>
            </a:xfrm>
          </p:grpSpPr>
          <p:grpSp>
            <p:nvGrpSpPr>
              <p:cNvPr id="953" name="Group 89"/>
              <p:cNvGrpSpPr/>
              <p:nvPr/>
            </p:nvGrpSpPr>
            <p:grpSpPr>
              <a:xfrm>
                <a:off x="1967760" y="3175560"/>
                <a:ext cx="372600" cy="351000"/>
                <a:chOff x="1967760" y="3175560"/>
                <a:chExt cx="372600" cy="351000"/>
              </a:xfrm>
            </p:grpSpPr>
            <p:sp>
              <p:nvSpPr>
                <p:cNvPr id="954" name="AutoShape 90"/>
                <p:cNvSpPr/>
                <p:nvPr/>
              </p:nvSpPr>
              <p:spPr>
                <a:xfrm flipH="1" rot="14424600">
                  <a:off x="2137680" y="3130560"/>
                  <a:ext cx="83880" cy="320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55" name="AutoShape 91"/>
                <p:cNvSpPr/>
                <p:nvPr/>
              </p:nvSpPr>
              <p:spPr>
                <a:xfrm flipH="1" rot="13608600">
                  <a:off x="2092680" y="3158640"/>
                  <a:ext cx="83880" cy="320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56" name="AutoShape 92"/>
                <p:cNvSpPr/>
                <p:nvPr/>
              </p:nvSpPr>
              <p:spPr>
                <a:xfrm flipH="1" rot="13313400">
                  <a:off x="2072160" y="3180960"/>
                  <a:ext cx="83880" cy="320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57" name="AutoShape 93"/>
                <p:cNvSpPr/>
                <p:nvPr/>
              </p:nvSpPr>
              <p:spPr>
                <a:xfrm flipH="1" rot="12781200">
                  <a:off x="2047680" y="3209040"/>
                  <a:ext cx="83880" cy="320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958" name="Group 94"/>
              <p:cNvGrpSpPr/>
              <p:nvPr/>
            </p:nvGrpSpPr>
            <p:grpSpPr>
              <a:xfrm>
                <a:off x="1969200" y="3198960"/>
                <a:ext cx="266040" cy="425520"/>
                <a:chOff x="1969200" y="3198960"/>
                <a:chExt cx="266040" cy="425520"/>
              </a:xfrm>
            </p:grpSpPr>
            <p:sp>
              <p:nvSpPr>
                <p:cNvPr id="959" name="AutoShape 95"/>
                <p:cNvSpPr/>
                <p:nvPr/>
              </p:nvSpPr>
              <p:spPr>
                <a:xfrm flipH="1" rot="13071600">
                  <a:off x="2061360" y="3191040"/>
                  <a:ext cx="8460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60" name="AutoShape 96"/>
                <p:cNvSpPr/>
                <p:nvPr/>
              </p:nvSpPr>
              <p:spPr>
                <a:xfrm flipH="1" rot="12256200">
                  <a:off x="2031480" y="3234240"/>
                  <a:ext cx="84600" cy="320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61" name="AutoShape 97"/>
                <p:cNvSpPr/>
                <p:nvPr/>
              </p:nvSpPr>
              <p:spPr>
                <a:xfrm flipH="1" rot="11960400">
                  <a:off x="2019960" y="3263760"/>
                  <a:ext cx="84600" cy="320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62" name="AutoShape 98"/>
                <p:cNvSpPr/>
                <p:nvPr/>
              </p:nvSpPr>
              <p:spPr>
                <a:xfrm flipH="1" rot="11428200">
                  <a:off x="2008800" y="3299040"/>
                  <a:ext cx="84600" cy="320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</p:grpSp>
      </p:grpSp>
      <p:sp>
        <p:nvSpPr>
          <p:cNvPr id="963" name="Rectangle 99"/>
          <p:cNvSpPr/>
          <p:nvPr/>
        </p:nvSpPr>
        <p:spPr>
          <a:xfrm>
            <a:off x="1744920" y="543564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731520" y="733320"/>
            <a:ext cx="77756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Organiz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5" name="Group 4"/>
          <p:cNvGrpSpPr/>
          <p:nvPr/>
        </p:nvGrpSpPr>
        <p:grpSpPr>
          <a:xfrm>
            <a:off x="5829480" y="2664000"/>
            <a:ext cx="1711080" cy="536040"/>
            <a:chOff x="5829480" y="2664000"/>
            <a:chExt cx="1711080" cy="536040"/>
          </a:xfrm>
        </p:grpSpPr>
        <p:sp>
          <p:nvSpPr>
            <p:cNvPr id="966" name="AutoShape 5"/>
            <p:cNvSpPr/>
            <p:nvPr/>
          </p:nvSpPr>
          <p:spPr>
            <a:xfrm>
              <a:off x="5829480" y="2664000"/>
              <a:ext cx="1711080" cy="536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67" name="AutoShape 6"/>
            <p:cNvSpPr/>
            <p:nvPr/>
          </p:nvSpPr>
          <p:spPr>
            <a:xfrm>
              <a:off x="5856120" y="2696400"/>
              <a:ext cx="165096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968" name="Rectangle 7"/>
          <p:cNvSpPr/>
          <p:nvPr/>
        </p:nvSpPr>
        <p:spPr>
          <a:xfrm>
            <a:off x="7080120" y="4595760"/>
            <a:ext cx="1086120" cy="1263600"/>
          </a:xfrm>
          <a:prstGeom prst="rect">
            <a:avLst/>
          </a:prstGeom>
          <a:gradFill rotWithShape="0">
            <a:gsLst>
              <a:gs pos="0">
                <a:srgbClr val="3973b9"/>
              </a:gs>
              <a:gs pos="100000">
                <a:srgbClr val="295386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69" name="Rectangle 8"/>
          <p:cNvSpPr/>
          <p:nvPr/>
        </p:nvSpPr>
        <p:spPr>
          <a:xfrm>
            <a:off x="5916600" y="4595760"/>
            <a:ext cx="1085760" cy="1263600"/>
          </a:xfrm>
          <a:prstGeom prst="rect">
            <a:avLst/>
          </a:prstGeom>
          <a:gradFill rotWithShape="0">
            <a:gsLst>
              <a:gs pos="0">
                <a:srgbClr val="3973b9"/>
              </a:gs>
              <a:gs pos="100000">
                <a:srgbClr val="295386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970" name="Group 9"/>
          <p:cNvGrpSpPr/>
          <p:nvPr/>
        </p:nvGrpSpPr>
        <p:grpSpPr>
          <a:xfrm>
            <a:off x="853920" y="3908520"/>
            <a:ext cx="2273400" cy="536040"/>
            <a:chOff x="853920" y="3908520"/>
            <a:chExt cx="2273400" cy="536040"/>
          </a:xfrm>
        </p:grpSpPr>
        <p:sp>
          <p:nvSpPr>
            <p:cNvPr id="971" name="AutoShape 10"/>
            <p:cNvSpPr/>
            <p:nvPr/>
          </p:nvSpPr>
          <p:spPr>
            <a:xfrm>
              <a:off x="853920" y="3908520"/>
              <a:ext cx="2273400" cy="536040"/>
            </a:xfrm>
            <a:prstGeom prst="roundRect">
              <a:avLst>
                <a:gd name="adj" fmla="val 16667"/>
              </a:avLst>
            </a:prstGeom>
            <a:solidFill>
              <a:srgbClr val="ea9c00"/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72" name="AutoShape 11"/>
            <p:cNvSpPr/>
            <p:nvPr/>
          </p:nvSpPr>
          <p:spPr>
            <a:xfrm>
              <a:off x="889200" y="3940920"/>
              <a:ext cx="219348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ea9c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973" name="Group 12"/>
          <p:cNvGrpSpPr/>
          <p:nvPr/>
        </p:nvGrpSpPr>
        <p:grpSpPr>
          <a:xfrm>
            <a:off x="5899320" y="3908520"/>
            <a:ext cx="2273040" cy="536040"/>
            <a:chOff x="5899320" y="3908520"/>
            <a:chExt cx="2273040" cy="536040"/>
          </a:xfrm>
        </p:grpSpPr>
        <p:sp>
          <p:nvSpPr>
            <p:cNvPr id="974" name="AutoShape 13"/>
            <p:cNvSpPr/>
            <p:nvPr/>
          </p:nvSpPr>
          <p:spPr>
            <a:xfrm>
              <a:off x="5899320" y="3908520"/>
              <a:ext cx="2273040" cy="536040"/>
            </a:xfrm>
            <a:prstGeom prst="roundRect">
              <a:avLst>
                <a:gd name="adj" fmla="val 16667"/>
              </a:avLst>
            </a:prstGeom>
            <a:solidFill>
              <a:srgbClr val="3973b9"/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75" name="AutoShape 14"/>
            <p:cNvSpPr/>
            <p:nvPr/>
          </p:nvSpPr>
          <p:spPr>
            <a:xfrm>
              <a:off x="5934600" y="3940920"/>
              <a:ext cx="219312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3973b9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976" name="Group 15"/>
          <p:cNvGrpSpPr/>
          <p:nvPr/>
        </p:nvGrpSpPr>
        <p:grpSpPr>
          <a:xfrm>
            <a:off x="3373560" y="3917880"/>
            <a:ext cx="2273040" cy="536400"/>
            <a:chOff x="3373560" y="3917880"/>
            <a:chExt cx="2273040" cy="536400"/>
          </a:xfrm>
        </p:grpSpPr>
        <p:sp>
          <p:nvSpPr>
            <p:cNvPr id="977" name="AutoShape 16"/>
            <p:cNvSpPr/>
            <p:nvPr/>
          </p:nvSpPr>
          <p:spPr>
            <a:xfrm>
              <a:off x="3373560" y="3917880"/>
              <a:ext cx="2273040" cy="536400"/>
            </a:xfrm>
            <a:prstGeom prst="roundRect">
              <a:avLst>
                <a:gd name="adj" fmla="val 16667"/>
              </a:avLst>
            </a:prstGeom>
            <a:solidFill>
              <a:srgbClr val="96ad23"/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78" name="AutoShape 17"/>
            <p:cNvSpPr/>
            <p:nvPr/>
          </p:nvSpPr>
          <p:spPr>
            <a:xfrm>
              <a:off x="3408840" y="3950280"/>
              <a:ext cx="219312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96ad23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979" name="Group 18"/>
          <p:cNvGrpSpPr/>
          <p:nvPr/>
        </p:nvGrpSpPr>
        <p:grpSpPr>
          <a:xfrm>
            <a:off x="3656160" y="2664000"/>
            <a:ext cx="1711080" cy="536040"/>
            <a:chOff x="3656160" y="2664000"/>
            <a:chExt cx="1711080" cy="536040"/>
          </a:xfrm>
        </p:grpSpPr>
        <p:sp>
          <p:nvSpPr>
            <p:cNvPr id="980" name="AutoShape 19"/>
            <p:cNvSpPr/>
            <p:nvPr/>
          </p:nvSpPr>
          <p:spPr>
            <a:xfrm>
              <a:off x="3656160" y="2664000"/>
              <a:ext cx="1711080" cy="536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81" name="AutoShape 20"/>
            <p:cNvSpPr/>
            <p:nvPr/>
          </p:nvSpPr>
          <p:spPr>
            <a:xfrm>
              <a:off x="3682800" y="2696400"/>
              <a:ext cx="165096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982" name="Group 21"/>
          <p:cNvGrpSpPr/>
          <p:nvPr/>
        </p:nvGrpSpPr>
        <p:grpSpPr>
          <a:xfrm>
            <a:off x="3714840" y="1649520"/>
            <a:ext cx="1596960" cy="536040"/>
            <a:chOff x="3714840" y="1649520"/>
            <a:chExt cx="1596960" cy="536040"/>
          </a:xfrm>
        </p:grpSpPr>
        <p:sp>
          <p:nvSpPr>
            <p:cNvPr id="983" name="AutoShape 22"/>
            <p:cNvSpPr/>
            <p:nvPr/>
          </p:nvSpPr>
          <p:spPr>
            <a:xfrm>
              <a:off x="3714840" y="1649520"/>
              <a:ext cx="1596960" cy="536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84" name="AutoShape 23"/>
            <p:cNvSpPr/>
            <p:nvPr/>
          </p:nvSpPr>
          <p:spPr>
            <a:xfrm>
              <a:off x="3739680" y="1681920"/>
              <a:ext cx="154080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985" name="Rectangle 24"/>
          <p:cNvSpPr/>
          <p:nvPr/>
        </p:nvSpPr>
        <p:spPr>
          <a:xfrm>
            <a:off x="873000" y="4595760"/>
            <a:ext cx="1086120" cy="1263600"/>
          </a:xfrm>
          <a:prstGeom prst="rect">
            <a:avLst/>
          </a:prstGeom>
          <a:gradFill rotWithShape="0">
            <a:gsLst>
              <a:gs pos="0">
                <a:srgbClr val="ea9c00"/>
              </a:gs>
              <a:gs pos="100000">
                <a:srgbClr val="aa7100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86" name="Rectangle 25"/>
          <p:cNvSpPr/>
          <p:nvPr/>
        </p:nvSpPr>
        <p:spPr>
          <a:xfrm>
            <a:off x="2036880" y="4595760"/>
            <a:ext cx="1085760" cy="1263600"/>
          </a:xfrm>
          <a:prstGeom prst="rect">
            <a:avLst/>
          </a:prstGeom>
          <a:gradFill rotWithShape="0">
            <a:gsLst>
              <a:gs pos="0">
                <a:srgbClr val="ea9c00"/>
              </a:gs>
              <a:gs pos="100000">
                <a:srgbClr val="aa7100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987" name="AutoShape 26"/>
          <p:cNvCxnSpPr/>
          <p:nvPr/>
        </p:nvCxnSpPr>
        <p:spPr>
          <a:xfrm flipH="1">
            <a:off x="5385600" y="290484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988" name="AutoShape 27"/>
          <p:cNvCxnSpPr>
            <a:stCxn id="971" idx="0"/>
            <a:endCxn id="980" idx="2"/>
          </p:cNvCxnSpPr>
          <p:nvPr/>
        </p:nvCxnSpPr>
        <p:spPr>
          <a:xfrm flipV="1">
            <a:off x="1990800" y="3199680"/>
            <a:ext cx="2521440" cy="708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89" name="AutoShape 28"/>
          <p:cNvCxnSpPr>
            <a:stCxn id="974" idx="0"/>
            <a:endCxn id="980" idx="2"/>
          </p:cNvCxnSpPr>
          <p:nvPr/>
        </p:nvCxnSpPr>
        <p:spPr>
          <a:xfrm flipH="1" flipV="1">
            <a:off x="4511160" y="3199680"/>
            <a:ext cx="2525040" cy="708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90" name="Text Box 29"/>
          <p:cNvSpPr/>
          <p:nvPr/>
        </p:nvSpPr>
        <p:spPr>
          <a:xfrm>
            <a:off x="4010040" y="1730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CEO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91" name="Text Box 30"/>
          <p:cNvSpPr/>
          <p:nvPr/>
        </p:nvSpPr>
        <p:spPr>
          <a:xfrm>
            <a:off x="5838840" y="2763720"/>
            <a:ext cx="168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ub Department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92" name="Text Box 31"/>
          <p:cNvSpPr/>
          <p:nvPr/>
        </p:nvSpPr>
        <p:spPr>
          <a:xfrm>
            <a:off x="5940360" y="3998880"/>
            <a:ext cx="22003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Sub Departmen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93" name="Text Box 32"/>
          <p:cNvSpPr/>
          <p:nvPr/>
        </p:nvSpPr>
        <p:spPr>
          <a:xfrm>
            <a:off x="880920" y="3989520"/>
            <a:ext cx="22003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Sub Departmen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94" name="Text Box 33"/>
          <p:cNvSpPr/>
          <p:nvPr/>
        </p:nvSpPr>
        <p:spPr>
          <a:xfrm>
            <a:off x="773280" y="4930920"/>
            <a:ext cx="130788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95" name="Text Box 34"/>
          <p:cNvSpPr/>
          <p:nvPr/>
        </p:nvSpPr>
        <p:spPr>
          <a:xfrm>
            <a:off x="1932120" y="4930920"/>
            <a:ext cx="130788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96" name="Text Box 35"/>
          <p:cNvSpPr/>
          <p:nvPr/>
        </p:nvSpPr>
        <p:spPr>
          <a:xfrm>
            <a:off x="3403440" y="3995640"/>
            <a:ext cx="22003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Sub Departmen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97" name="Rectangle 36"/>
          <p:cNvSpPr/>
          <p:nvPr/>
        </p:nvSpPr>
        <p:spPr>
          <a:xfrm>
            <a:off x="3390840" y="4595760"/>
            <a:ext cx="1085760" cy="1263600"/>
          </a:xfrm>
          <a:prstGeom prst="rect">
            <a:avLst/>
          </a:prstGeom>
          <a:gradFill rotWithShape="0">
            <a:gsLst>
              <a:gs pos="0">
                <a:srgbClr val="96ad23"/>
              </a:gs>
              <a:gs pos="100000">
                <a:srgbClr val="6d7e19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98" name="Rectangle 37"/>
          <p:cNvSpPr/>
          <p:nvPr/>
        </p:nvSpPr>
        <p:spPr>
          <a:xfrm>
            <a:off x="4554360" y="4595760"/>
            <a:ext cx="1086120" cy="1263600"/>
          </a:xfrm>
          <a:prstGeom prst="rect">
            <a:avLst/>
          </a:prstGeom>
          <a:gradFill rotWithShape="0">
            <a:gsLst>
              <a:gs pos="0">
                <a:srgbClr val="96ad23"/>
              </a:gs>
              <a:gs pos="100000">
                <a:srgbClr val="6d7e19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99" name="Text Box 38"/>
          <p:cNvSpPr/>
          <p:nvPr/>
        </p:nvSpPr>
        <p:spPr>
          <a:xfrm>
            <a:off x="3290760" y="493092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00" name="Text Box 39"/>
          <p:cNvSpPr/>
          <p:nvPr/>
        </p:nvSpPr>
        <p:spPr>
          <a:xfrm>
            <a:off x="4449600" y="493092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01" name="Text Box 40"/>
          <p:cNvSpPr/>
          <p:nvPr/>
        </p:nvSpPr>
        <p:spPr>
          <a:xfrm>
            <a:off x="5816520" y="493092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02" name="Text Box 41"/>
          <p:cNvSpPr/>
          <p:nvPr/>
        </p:nvSpPr>
        <p:spPr>
          <a:xfrm>
            <a:off x="6975360" y="493092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03" name="Text Box 42"/>
          <p:cNvSpPr/>
          <p:nvPr/>
        </p:nvSpPr>
        <p:spPr>
          <a:xfrm>
            <a:off x="3786120" y="2739960"/>
            <a:ext cx="14605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partmen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1004" name="AutoShape 43"/>
          <p:cNvCxnSpPr>
            <a:stCxn id="983" idx="2"/>
            <a:endCxn id="980" idx="0"/>
          </p:cNvCxnSpPr>
          <p:nvPr/>
        </p:nvCxnSpPr>
        <p:spPr>
          <a:xfrm flipH="1">
            <a:off x="4510800" y="2185920"/>
            <a:ext cx="2520" cy="478800"/>
          </a:xfrm>
          <a:prstGeom prst="straightConnector1">
            <a:avLst/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1005" name="AutoShape 44"/>
          <p:cNvCxnSpPr>
            <a:stCxn id="980" idx="2"/>
            <a:endCxn id="977" idx="0"/>
          </p:cNvCxnSpPr>
          <p:nvPr/>
        </p:nvCxnSpPr>
        <p:spPr>
          <a:xfrm flipH="1">
            <a:off x="4509360" y="3198600"/>
            <a:ext cx="108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AutoShape 3"/>
          <p:cNvSpPr/>
          <p:nvPr/>
        </p:nvSpPr>
        <p:spPr>
          <a:xfrm>
            <a:off x="4881600" y="2193840"/>
            <a:ext cx="2712960" cy="727200"/>
          </a:xfrm>
          <a:custGeom>
            <a:avLst/>
            <a:gdLst>
              <a:gd name="textAreaLeft" fmla="*/ 0 w 2712960"/>
              <a:gd name="textAreaRight" fmla="*/ 2713320 w 2712960"/>
              <a:gd name="textAreaTop" fmla="*/ 0 h 727200"/>
              <a:gd name="textAreaBottom" fmla="*/ 727200 h 72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9" y="0"/>
                </a:lnTo>
                <a:lnTo>
                  <a:pt x="21600" y="10800"/>
                </a:lnTo>
                <a:lnTo>
                  <a:pt x="18519" y="21600"/>
                </a:lnTo>
                <a:lnTo>
                  <a:pt x="0" y="21600"/>
                </a:lnTo>
                <a:lnTo>
                  <a:pt x="3081" y="10800"/>
                </a:lnTo>
                <a:close/>
              </a:path>
            </a:pathLst>
          </a:custGeom>
          <a:gradFill rotWithShape="0">
            <a:gsLst>
              <a:gs pos="0">
                <a:srgbClr val="285081"/>
              </a:gs>
              <a:gs pos="100000">
                <a:srgbClr val="3973b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07" name="AutoShape 4"/>
          <p:cNvSpPr/>
          <p:nvPr/>
        </p:nvSpPr>
        <p:spPr>
          <a:xfrm>
            <a:off x="1905120" y="2106720"/>
            <a:ext cx="3378240" cy="914400"/>
          </a:xfrm>
          <a:custGeom>
            <a:avLst/>
            <a:gdLst>
              <a:gd name="textAreaLeft" fmla="*/ 0 w 3378240"/>
              <a:gd name="textAreaRight" fmla="*/ 3378600 w 33782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7" y="0"/>
                </a:lnTo>
                <a:lnTo>
                  <a:pt x="21600" y="10800"/>
                </a:lnTo>
                <a:lnTo>
                  <a:pt x="1858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973b9"/>
              </a:gs>
              <a:gs pos="100000">
                <a:srgbClr val="749dc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1008" name="Group 5"/>
          <p:cNvGrpSpPr/>
          <p:nvPr/>
        </p:nvGrpSpPr>
        <p:grpSpPr>
          <a:xfrm>
            <a:off x="1254240" y="2076480"/>
            <a:ext cx="1130040" cy="1123920"/>
            <a:chOff x="1254240" y="2076480"/>
            <a:chExt cx="1130040" cy="1123920"/>
          </a:xfrm>
        </p:grpSpPr>
        <p:grpSp>
          <p:nvGrpSpPr>
            <p:cNvPr id="1009" name="Group 6"/>
            <p:cNvGrpSpPr/>
            <p:nvPr/>
          </p:nvGrpSpPr>
          <p:grpSpPr>
            <a:xfrm>
              <a:off x="1254240" y="2076480"/>
              <a:ext cx="1130040" cy="1123920"/>
              <a:chOff x="1254240" y="2076480"/>
              <a:chExt cx="1130040" cy="1123920"/>
            </a:xfrm>
          </p:grpSpPr>
          <p:sp>
            <p:nvSpPr>
              <p:cNvPr id="1010" name="Oval 7"/>
              <p:cNvSpPr/>
              <p:nvPr/>
            </p:nvSpPr>
            <p:spPr>
              <a:xfrm>
                <a:off x="1254240" y="2076480"/>
                <a:ext cx="1130040" cy="112392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1011" name="Oval 8"/>
              <p:cNvSpPr/>
              <p:nvPr/>
            </p:nvSpPr>
            <p:spPr>
              <a:xfrm>
                <a:off x="1283760" y="2099160"/>
                <a:ext cx="1077480" cy="1078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343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1012" name="Oval 9"/>
              <p:cNvSpPr/>
              <p:nvPr/>
            </p:nvSpPr>
            <p:spPr>
              <a:xfrm>
                <a:off x="1328040" y="2143440"/>
                <a:ext cx="988920" cy="98964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1013" name="Oval 10"/>
              <p:cNvSpPr/>
              <p:nvPr/>
            </p:nvSpPr>
            <p:spPr>
              <a:xfrm>
                <a:off x="1358280" y="2166120"/>
                <a:ext cx="928800" cy="92988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1014" name="Oval 11"/>
              <p:cNvSpPr/>
              <p:nvPr/>
            </p:nvSpPr>
            <p:spPr>
              <a:xfrm>
                <a:off x="1370880" y="2180520"/>
                <a:ext cx="899280" cy="901080"/>
              </a:xfrm>
              <a:prstGeom prst="ellipse">
                <a:avLst/>
              </a:prstGeom>
              <a:gradFill rotWithShape="0">
                <a:gsLst>
                  <a:gs pos="0">
                    <a:srgbClr val="5c5c5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sp>
          <p:nvSpPr>
            <p:cNvPr id="1015" name="Oval 12"/>
            <p:cNvSpPr/>
            <p:nvPr/>
          </p:nvSpPr>
          <p:spPr>
            <a:xfrm>
              <a:off x="1387800" y="2199960"/>
              <a:ext cx="875520" cy="873360"/>
            </a:xfrm>
            <a:prstGeom prst="ellipse">
              <a:avLst/>
            </a:prstGeom>
            <a:gradFill rotWithShape="0">
              <a:gsLst>
                <a:gs pos="0">
                  <a:srgbClr val="1a3556"/>
                </a:gs>
                <a:gs pos="100000">
                  <a:srgbClr val="3973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1016" name="Rectangle 21"/>
          <p:cNvSpPr/>
          <p:nvPr/>
        </p:nvSpPr>
        <p:spPr>
          <a:xfrm>
            <a:off x="1339200" y="24480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17" name="Rectangle 22"/>
          <p:cNvSpPr/>
          <p:nvPr/>
        </p:nvSpPr>
        <p:spPr>
          <a:xfrm>
            <a:off x="2476440" y="2274840"/>
            <a:ext cx="2616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ompany’s products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18" name="Text Box 23"/>
          <p:cNvSpPr/>
          <p:nvPr/>
        </p:nvSpPr>
        <p:spPr>
          <a:xfrm>
            <a:off x="5145120" y="2265480"/>
            <a:ext cx="2247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1,000,000</a:t>
            </a:r>
            <a:endParaRPr b="0" lang="en-US" sz="3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19" name="AutoShape 24"/>
          <p:cNvSpPr/>
          <p:nvPr/>
        </p:nvSpPr>
        <p:spPr>
          <a:xfrm>
            <a:off x="4881600" y="3510000"/>
            <a:ext cx="2712960" cy="728640"/>
          </a:xfrm>
          <a:custGeom>
            <a:avLst/>
            <a:gdLst>
              <a:gd name="textAreaLeft" fmla="*/ 0 w 2712960"/>
              <a:gd name="textAreaRight" fmla="*/ 2713320 w 271296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9" y="0"/>
                </a:lnTo>
                <a:lnTo>
                  <a:pt x="21600" y="10800"/>
                </a:lnTo>
                <a:lnTo>
                  <a:pt x="18519" y="21600"/>
                </a:lnTo>
                <a:lnTo>
                  <a:pt x="0" y="21600"/>
                </a:lnTo>
                <a:lnTo>
                  <a:pt x="3081" y="10800"/>
                </a:lnTo>
                <a:close/>
              </a:path>
            </a:pathLst>
          </a:custGeom>
          <a:gradFill rotWithShape="0">
            <a:gsLst>
              <a:gs pos="0">
                <a:srgbClr val="a36d00"/>
              </a:gs>
              <a:gs pos="100000">
                <a:srgbClr val="ea9c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20" name="AutoShape 25"/>
          <p:cNvSpPr/>
          <p:nvPr/>
        </p:nvSpPr>
        <p:spPr>
          <a:xfrm>
            <a:off x="1905120" y="3424320"/>
            <a:ext cx="3378240" cy="914400"/>
          </a:xfrm>
          <a:custGeom>
            <a:avLst/>
            <a:gdLst>
              <a:gd name="textAreaLeft" fmla="*/ 0 w 3378240"/>
              <a:gd name="textAreaRight" fmla="*/ 3378600 w 33782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7" y="0"/>
                </a:lnTo>
                <a:lnTo>
                  <a:pt x="21600" y="10800"/>
                </a:lnTo>
                <a:lnTo>
                  <a:pt x="1858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a9c00"/>
              </a:gs>
              <a:gs pos="100000">
                <a:srgbClr val="f0ba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1021" name="Group 26"/>
          <p:cNvGrpSpPr/>
          <p:nvPr/>
        </p:nvGrpSpPr>
        <p:grpSpPr>
          <a:xfrm>
            <a:off x="1254240" y="3394080"/>
            <a:ext cx="1130040" cy="1123920"/>
            <a:chOff x="1254240" y="3394080"/>
            <a:chExt cx="1130040" cy="1123920"/>
          </a:xfrm>
        </p:grpSpPr>
        <p:grpSp>
          <p:nvGrpSpPr>
            <p:cNvPr id="1022" name="Group 27"/>
            <p:cNvGrpSpPr/>
            <p:nvPr/>
          </p:nvGrpSpPr>
          <p:grpSpPr>
            <a:xfrm>
              <a:off x="1254240" y="3394080"/>
              <a:ext cx="1130040" cy="1123920"/>
              <a:chOff x="1254240" y="3394080"/>
              <a:chExt cx="1130040" cy="1123920"/>
            </a:xfrm>
          </p:grpSpPr>
          <p:sp>
            <p:nvSpPr>
              <p:cNvPr id="1023" name="Oval 28"/>
              <p:cNvSpPr/>
              <p:nvPr/>
            </p:nvSpPr>
            <p:spPr>
              <a:xfrm>
                <a:off x="1254240" y="3394080"/>
                <a:ext cx="1130040" cy="112392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1024" name="Oval 29"/>
              <p:cNvSpPr/>
              <p:nvPr/>
            </p:nvSpPr>
            <p:spPr>
              <a:xfrm>
                <a:off x="1283760" y="3416760"/>
                <a:ext cx="1077480" cy="1078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343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1025" name="Oval 30"/>
              <p:cNvSpPr/>
              <p:nvPr/>
            </p:nvSpPr>
            <p:spPr>
              <a:xfrm>
                <a:off x="1328040" y="3461040"/>
                <a:ext cx="988920" cy="98964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1026" name="Oval 31"/>
              <p:cNvSpPr/>
              <p:nvPr/>
            </p:nvSpPr>
            <p:spPr>
              <a:xfrm>
                <a:off x="1358280" y="3483720"/>
                <a:ext cx="928800" cy="92988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1027" name="Oval 32"/>
              <p:cNvSpPr/>
              <p:nvPr/>
            </p:nvSpPr>
            <p:spPr>
              <a:xfrm>
                <a:off x="1370880" y="3498120"/>
                <a:ext cx="899280" cy="901080"/>
              </a:xfrm>
              <a:prstGeom prst="ellipse">
                <a:avLst/>
              </a:prstGeom>
              <a:gradFill rotWithShape="0">
                <a:gsLst>
                  <a:gs pos="0">
                    <a:srgbClr val="5c5c5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sp>
          <p:nvSpPr>
            <p:cNvPr id="1028" name="Oval 33"/>
            <p:cNvSpPr/>
            <p:nvPr/>
          </p:nvSpPr>
          <p:spPr>
            <a:xfrm>
              <a:off x="1387800" y="3517560"/>
              <a:ext cx="875520" cy="873360"/>
            </a:xfrm>
            <a:prstGeom prst="ellipse">
              <a:avLst/>
            </a:prstGeom>
            <a:gradFill rotWithShape="0">
              <a:gsLst>
                <a:gs pos="0">
                  <a:srgbClr val="6c4800"/>
                </a:gs>
                <a:gs pos="100000">
                  <a:srgbClr val="ea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1029" name="Rectangle 42"/>
          <p:cNvSpPr/>
          <p:nvPr/>
        </p:nvSpPr>
        <p:spPr>
          <a:xfrm>
            <a:off x="1339200" y="37638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30" name="Rectangle 43"/>
          <p:cNvSpPr/>
          <p:nvPr/>
        </p:nvSpPr>
        <p:spPr>
          <a:xfrm>
            <a:off x="2476440" y="3592440"/>
            <a:ext cx="2616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ompany’s products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31" name="Text Box 44"/>
          <p:cNvSpPr/>
          <p:nvPr/>
        </p:nvSpPr>
        <p:spPr>
          <a:xfrm>
            <a:off x="5145120" y="3583080"/>
            <a:ext cx="2247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900,000</a:t>
            </a:r>
            <a:endParaRPr b="0" lang="en-US" sz="3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32" name="AutoShape 45"/>
          <p:cNvSpPr/>
          <p:nvPr/>
        </p:nvSpPr>
        <p:spPr>
          <a:xfrm>
            <a:off x="4881600" y="4863960"/>
            <a:ext cx="2712960" cy="728640"/>
          </a:xfrm>
          <a:custGeom>
            <a:avLst/>
            <a:gdLst>
              <a:gd name="textAreaLeft" fmla="*/ 0 w 2712960"/>
              <a:gd name="textAreaRight" fmla="*/ 2713320 w 271296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9" y="0"/>
                </a:lnTo>
                <a:lnTo>
                  <a:pt x="21600" y="10800"/>
                </a:lnTo>
                <a:lnTo>
                  <a:pt x="18519" y="21600"/>
                </a:lnTo>
                <a:lnTo>
                  <a:pt x="0" y="21600"/>
                </a:lnTo>
                <a:lnTo>
                  <a:pt x="3081" y="10800"/>
                </a:lnTo>
                <a:close/>
              </a:path>
            </a:pathLst>
          </a:custGeom>
          <a:gradFill rotWithShape="0">
            <a:gsLst>
              <a:gs pos="0">
                <a:srgbClr val="7f2881"/>
              </a:gs>
              <a:gs pos="100000">
                <a:srgbClr val="b639b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33" name="AutoShape 46"/>
          <p:cNvSpPr/>
          <p:nvPr/>
        </p:nvSpPr>
        <p:spPr>
          <a:xfrm>
            <a:off x="1905120" y="4778280"/>
            <a:ext cx="3378240" cy="914400"/>
          </a:xfrm>
          <a:custGeom>
            <a:avLst/>
            <a:gdLst>
              <a:gd name="textAreaLeft" fmla="*/ 0 w 3378240"/>
              <a:gd name="textAreaRight" fmla="*/ 3378600 w 33782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7" y="0"/>
                </a:lnTo>
                <a:lnTo>
                  <a:pt x="21600" y="10800"/>
                </a:lnTo>
                <a:lnTo>
                  <a:pt x="1858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b639b9"/>
              </a:gs>
              <a:gs pos="100000">
                <a:srgbClr val="cc74c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1034" name="Group 47"/>
          <p:cNvGrpSpPr/>
          <p:nvPr/>
        </p:nvGrpSpPr>
        <p:grpSpPr>
          <a:xfrm>
            <a:off x="1254240" y="4748040"/>
            <a:ext cx="1130040" cy="1124280"/>
            <a:chOff x="1254240" y="4748040"/>
            <a:chExt cx="1130040" cy="1124280"/>
          </a:xfrm>
        </p:grpSpPr>
        <p:grpSp>
          <p:nvGrpSpPr>
            <p:cNvPr id="1035" name="Group 48"/>
            <p:cNvGrpSpPr/>
            <p:nvPr/>
          </p:nvGrpSpPr>
          <p:grpSpPr>
            <a:xfrm>
              <a:off x="1254240" y="4748040"/>
              <a:ext cx="1130040" cy="1124280"/>
              <a:chOff x="1254240" y="4748040"/>
              <a:chExt cx="1130040" cy="1124280"/>
            </a:xfrm>
          </p:grpSpPr>
          <p:sp>
            <p:nvSpPr>
              <p:cNvPr id="1036" name="Oval 49"/>
              <p:cNvSpPr/>
              <p:nvPr/>
            </p:nvSpPr>
            <p:spPr>
              <a:xfrm>
                <a:off x="1254240" y="4748040"/>
                <a:ext cx="1130040" cy="11242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1037" name="Oval 50"/>
              <p:cNvSpPr/>
              <p:nvPr/>
            </p:nvSpPr>
            <p:spPr>
              <a:xfrm>
                <a:off x="1283760" y="4770720"/>
                <a:ext cx="1077480" cy="1078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343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1038" name="Oval 51"/>
              <p:cNvSpPr/>
              <p:nvPr/>
            </p:nvSpPr>
            <p:spPr>
              <a:xfrm>
                <a:off x="1328040" y="4815000"/>
                <a:ext cx="988920" cy="99000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1039" name="Oval 52"/>
              <p:cNvSpPr/>
              <p:nvPr/>
            </p:nvSpPr>
            <p:spPr>
              <a:xfrm>
                <a:off x="1358280" y="4837680"/>
                <a:ext cx="928800" cy="93024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1040" name="Oval 53"/>
              <p:cNvSpPr/>
              <p:nvPr/>
            </p:nvSpPr>
            <p:spPr>
              <a:xfrm>
                <a:off x="1370880" y="4852080"/>
                <a:ext cx="899280" cy="901440"/>
              </a:xfrm>
              <a:prstGeom prst="ellipse">
                <a:avLst/>
              </a:prstGeom>
              <a:gradFill rotWithShape="0">
                <a:gsLst>
                  <a:gs pos="0">
                    <a:srgbClr val="5c5c5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sp>
          <p:nvSpPr>
            <p:cNvPr id="1041" name="Oval 54"/>
            <p:cNvSpPr/>
            <p:nvPr/>
          </p:nvSpPr>
          <p:spPr>
            <a:xfrm>
              <a:off x="1387800" y="4871520"/>
              <a:ext cx="875520" cy="873720"/>
            </a:xfrm>
            <a:prstGeom prst="ellipse">
              <a:avLst/>
            </a:prstGeom>
            <a:gradFill rotWithShape="0">
              <a:gsLst>
                <a:gs pos="0">
                  <a:srgbClr val="541a56"/>
                </a:gs>
                <a:gs pos="100000">
                  <a:srgbClr val="b639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1042" name="Rectangle 63"/>
          <p:cNvSpPr/>
          <p:nvPr/>
        </p:nvSpPr>
        <p:spPr>
          <a:xfrm>
            <a:off x="1339200" y="51181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43" name="Rectangle 64"/>
          <p:cNvSpPr/>
          <p:nvPr/>
        </p:nvSpPr>
        <p:spPr>
          <a:xfrm>
            <a:off x="2476440" y="4946760"/>
            <a:ext cx="2616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ompany’s products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44" name="Text Box 65"/>
          <p:cNvSpPr/>
          <p:nvPr/>
        </p:nvSpPr>
        <p:spPr>
          <a:xfrm>
            <a:off x="5145120" y="4935600"/>
            <a:ext cx="2247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1,100,000</a:t>
            </a:r>
            <a:endParaRPr b="0" lang="en-US" sz="3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867960" y="1050840"/>
            <a:ext cx="77756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77680" y="2433600"/>
            <a:ext cx="663876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Hot Tip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1028880" y="3051000"/>
            <a:ext cx="7253280" cy="20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n the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[View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menu, point to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[Master]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and then click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[Slide Master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or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[Notes Master]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2572920" y="2636640"/>
            <a:ext cx="4675320" cy="186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20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宋体"/>
              </a:rPr>
              <a:t>Thank You!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Text Box 592"/>
          <p:cNvSpPr/>
          <p:nvPr/>
        </p:nvSpPr>
        <p:spPr>
          <a:xfrm>
            <a:off x="2865600" y="3992400"/>
            <a:ext cx="39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https://liangliangtuwen.tmall.com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66520" y="1234800"/>
            <a:ext cx="7775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5041800" y="2746440"/>
            <a:ext cx="3508560" cy="14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0303"/>
                </a:solidFill>
                <a:latin typeface="Arial"/>
                <a:ea typeface="宋体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5" name="Line 4"/>
          <p:cNvSpPr/>
          <p:nvPr/>
        </p:nvSpPr>
        <p:spPr>
          <a:xfrm flipH="1">
            <a:off x="4892400" y="2585880"/>
            <a:ext cx="4680" cy="30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6" name="AutoShape 5"/>
          <p:cNvSpPr/>
          <p:nvPr/>
        </p:nvSpPr>
        <p:spPr>
          <a:xfrm rot="2692800">
            <a:off x="977400" y="2419200"/>
            <a:ext cx="3449880" cy="3463920"/>
          </a:xfrm>
          <a:custGeom>
            <a:avLst/>
            <a:gdLst/>
            <a:ahLst/>
            <a:rect l="l" t="t" r="r" b="b"/>
            <a:pathLst>
              <a:path w="18400" h="5863">
                <a:moveTo>
                  <a:pt x="5908" y="5862"/>
                </a:moveTo>
                <a:cubicBezTo>
                  <a:pt x="7210" y="4573"/>
                  <a:pt x="8968" y="3849"/>
                  <a:pt x="10800" y="3850"/>
                </a:cubicBezTo>
                <a:cubicBezTo>
                  <a:pt x="12631" y="3850"/>
                  <a:pt x="14389" y="4573"/>
                  <a:pt x="15691" y="5862"/>
                </a:cubicBezTo>
                <a:lnTo>
                  <a:pt x="18400" y="3127"/>
                </a:lnTo>
                <a:cubicBezTo>
                  <a:pt x="16378" y="1124"/>
                  <a:pt x="13646" y="-1"/>
                  <a:pt x="10799" y="0"/>
                </a:cubicBezTo>
                <a:cubicBezTo>
                  <a:pt x="7953" y="0"/>
                  <a:pt x="5221" y="1124"/>
                  <a:pt x="3199" y="3127"/>
                </a:cubicBezTo>
                <a:close/>
              </a:path>
            </a:pathLst>
          </a:custGeom>
          <a:gradFill rotWithShape="0">
            <a:gsLst>
              <a:gs pos="0">
                <a:srgbClr val="b639b9"/>
              </a:gs>
              <a:gs pos="100000">
                <a:srgbClr val="c96dcb"/>
              </a:gs>
            </a:gsLst>
            <a:lin ang="2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7" name="AutoShape 6"/>
          <p:cNvSpPr/>
          <p:nvPr/>
        </p:nvSpPr>
        <p:spPr>
          <a:xfrm rot="18892800">
            <a:off x="1001880" y="2417400"/>
            <a:ext cx="3450960" cy="3463920"/>
          </a:xfrm>
          <a:custGeom>
            <a:avLst/>
            <a:gdLst/>
            <a:ahLst/>
            <a:rect l="l" t="t" r="r" b="b"/>
            <a:pathLst>
              <a:path w="18400" h="5863">
                <a:moveTo>
                  <a:pt x="5908" y="5862"/>
                </a:moveTo>
                <a:cubicBezTo>
                  <a:pt x="7210" y="4573"/>
                  <a:pt x="8968" y="3849"/>
                  <a:pt x="10800" y="3850"/>
                </a:cubicBezTo>
                <a:cubicBezTo>
                  <a:pt x="12631" y="3850"/>
                  <a:pt x="14389" y="4573"/>
                  <a:pt x="15691" y="5862"/>
                </a:cubicBezTo>
                <a:lnTo>
                  <a:pt x="18400" y="3127"/>
                </a:lnTo>
                <a:cubicBezTo>
                  <a:pt x="16378" y="1124"/>
                  <a:pt x="13646" y="-1"/>
                  <a:pt x="10799" y="0"/>
                </a:cubicBezTo>
                <a:cubicBezTo>
                  <a:pt x="7953" y="0"/>
                  <a:pt x="5221" y="1124"/>
                  <a:pt x="3199" y="3127"/>
                </a:cubicBezTo>
                <a:close/>
              </a:path>
            </a:pathLst>
          </a:custGeom>
          <a:solidFill>
            <a:srgbClr val="ea9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8" name="AutoShape 7"/>
          <p:cNvSpPr/>
          <p:nvPr/>
        </p:nvSpPr>
        <p:spPr>
          <a:xfrm flipV="1" rot="18907200">
            <a:off x="974880" y="2380320"/>
            <a:ext cx="3449520" cy="3463920"/>
          </a:xfrm>
          <a:custGeom>
            <a:avLst/>
            <a:gdLst/>
            <a:ahLst/>
            <a:rect l="l" t="t" r="r" b="b"/>
            <a:pathLst>
              <a:path w="18400" h="5863">
                <a:moveTo>
                  <a:pt x="5908" y="5862"/>
                </a:moveTo>
                <a:cubicBezTo>
                  <a:pt x="7210" y="4573"/>
                  <a:pt x="8968" y="3849"/>
                  <a:pt x="10800" y="3850"/>
                </a:cubicBezTo>
                <a:cubicBezTo>
                  <a:pt x="12631" y="3850"/>
                  <a:pt x="14389" y="4573"/>
                  <a:pt x="15691" y="5862"/>
                </a:cubicBezTo>
                <a:lnTo>
                  <a:pt x="18400" y="3127"/>
                </a:lnTo>
                <a:cubicBezTo>
                  <a:pt x="16378" y="1124"/>
                  <a:pt x="13646" y="-1"/>
                  <a:pt x="10799" y="0"/>
                </a:cubicBezTo>
                <a:cubicBezTo>
                  <a:pt x="7953" y="0"/>
                  <a:pt x="5221" y="1124"/>
                  <a:pt x="3199" y="3127"/>
                </a:cubicBezTo>
                <a:close/>
              </a:path>
            </a:pathLst>
          </a:custGeom>
          <a:gradFill rotWithShape="0">
            <a:gsLst>
              <a:gs pos="0">
                <a:srgbClr val="96ad23"/>
              </a:gs>
              <a:gs pos="100000">
                <a:srgbClr val="b2c35d"/>
              </a:gs>
            </a:gsLst>
            <a:lin ang="2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9" name="AutoShape 8"/>
          <p:cNvSpPr/>
          <p:nvPr/>
        </p:nvSpPr>
        <p:spPr>
          <a:xfrm flipH="1" flipV="1" rot="2692800">
            <a:off x="1003320" y="2380320"/>
            <a:ext cx="3449520" cy="3463920"/>
          </a:xfrm>
          <a:custGeom>
            <a:avLst/>
            <a:gdLst/>
            <a:ahLst/>
            <a:rect l="l" t="t" r="r" b="b"/>
            <a:pathLst>
              <a:path w="18400" h="5863">
                <a:moveTo>
                  <a:pt x="5908" y="5862"/>
                </a:moveTo>
                <a:cubicBezTo>
                  <a:pt x="7210" y="4573"/>
                  <a:pt x="8968" y="3849"/>
                  <a:pt x="10800" y="3850"/>
                </a:cubicBezTo>
                <a:cubicBezTo>
                  <a:pt x="12631" y="3850"/>
                  <a:pt x="14389" y="4573"/>
                  <a:pt x="15691" y="5862"/>
                </a:cubicBezTo>
                <a:lnTo>
                  <a:pt x="18400" y="3127"/>
                </a:lnTo>
                <a:cubicBezTo>
                  <a:pt x="16378" y="1124"/>
                  <a:pt x="13646" y="-1"/>
                  <a:pt x="10799" y="0"/>
                </a:cubicBezTo>
                <a:cubicBezTo>
                  <a:pt x="7953" y="0"/>
                  <a:pt x="5221" y="1124"/>
                  <a:pt x="3199" y="3127"/>
                </a:cubicBezTo>
                <a:close/>
              </a:path>
            </a:pathLst>
          </a:custGeom>
          <a:gradFill rotWithShape="0">
            <a:gsLst>
              <a:gs pos="0">
                <a:srgbClr val="3973b9"/>
              </a:gs>
              <a:gs pos="100000">
                <a:srgbClr val="6d98cb"/>
              </a:gs>
            </a:gsLst>
            <a:lin ang="2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20" name="WordArt 9"/>
          <p:cNvSpPr txBox="1"/>
          <p:nvPr/>
        </p:nvSpPr>
        <p:spPr>
          <a:xfrm rot="18991800">
            <a:off x="1049040" y="3006360"/>
            <a:ext cx="2162160" cy="107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12352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1" name="WordArt 10"/>
          <p:cNvSpPr txBox="1"/>
          <p:nvPr/>
        </p:nvSpPr>
        <p:spPr>
          <a:xfrm rot="2855400">
            <a:off x="2223720" y="3021120"/>
            <a:ext cx="2162160" cy="1079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05487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2" name="WordArt 11"/>
          <p:cNvSpPr txBox="1"/>
          <p:nvPr/>
        </p:nvSpPr>
        <p:spPr>
          <a:xfrm rot="2855400">
            <a:off x="1042560" y="4203720"/>
            <a:ext cx="2162160" cy="107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240506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3" name="WordArt 12"/>
          <p:cNvSpPr txBox="1"/>
          <p:nvPr/>
        </p:nvSpPr>
        <p:spPr>
          <a:xfrm rot="18739200">
            <a:off x="2238120" y="4143240"/>
            <a:ext cx="2162160" cy="1143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240506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1860480" y="4073400"/>
            <a:ext cx="17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25" name="Text Box 18"/>
          <p:cNvSpPr/>
          <p:nvPr/>
        </p:nvSpPr>
        <p:spPr>
          <a:xfrm>
            <a:off x="1739880" y="3403440"/>
            <a:ext cx="194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26" name="Line 19"/>
          <p:cNvSpPr/>
          <p:nvPr/>
        </p:nvSpPr>
        <p:spPr>
          <a:xfrm>
            <a:off x="1760400" y="3862440"/>
            <a:ext cx="1895760" cy="0"/>
          </a:xfrm>
          <a:prstGeom prst="line">
            <a:avLst/>
          </a:prstGeom>
          <a:ln w="28440">
            <a:solidFill>
              <a:srgbClr val="000000">
                <a:alpha val="5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27" name="AutoShape 20"/>
          <p:cNvSpPr/>
          <p:nvPr/>
        </p:nvSpPr>
        <p:spPr>
          <a:xfrm>
            <a:off x="5273640" y="4392720"/>
            <a:ext cx="247680" cy="247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3973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28" name="AutoShape 21"/>
          <p:cNvSpPr/>
          <p:nvPr/>
        </p:nvSpPr>
        <p:spPr>
          <a:xfrm>
            <a:off x="5273640" y="4726080"/>
            <a:ext cx="247680" cy="247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ea9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29" name="AutoShape 22"/>
          <p:cNvSpPr/>
          <p:nvPr/>
        </p:nvSpPr>
        <p:spPr>
          <a:xfrm>
            <a:off x="5273640" y="5030640"/>
            <a:ext cx="247680" cy="247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b63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0" name="AutoShape 23"/>
          <p:cNvSpPr/>
          <p:nvPr/>
        </p:nvSpPr>
        <p:spPr>
          <a:xfrm>
            <a:off x="5273640" y="5335560"/>
            <a:ext cx="247680" cy="247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96a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1" name="Text Box 24"/>
          <p:cNvSpPr/>
          <p:nvPr/>
        </p:nvSpPr>
        <p:spPr>
          <a:xfrm>
            <a:off x="5527800" y="435132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2" name="Text Box 25"/>
          <p:cNvSpPr/>
          <p:nvPr/>
        </p:nvSpPr>
        <p:spPr>
          <a:xfrm>
            <a:off x="5527800" y="468792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3" name="Text Box 26"/>
          <p:cNvSpPr/>
          <p:nvPr/>
        </p:nvSpPr>
        <p:spPr>
          <a:xfrm>
            <a:off x="5527800" y="500220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4" name="Text Box 27"/>
          <p:cNvSpPr/>
          <p:nvPr/>
        </p:nvSpPr>
        <p:spPr>
          <a:xfrm>
            <a:off x="5527800" y="530712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5" name="Line 28"/>
          <p:cNvSpPr/>
          <p:nvPr/>
        </p:nvSpPr>
        <p:spPr>
          <a:xfrm>
            <a:off x="4935600" y="3274920"/>
            <a:ext cx="355608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RY_circle001"/>
          <p:cNvPicPr/>
          <p:nvPr/>
        </p:nvPicPr>
        <p:blipFill>
          <a:blip r:embed="rId1"/>
          <a:stretch/>
        </p:blipFill>
        <p:spPr>
          <a:xfrm>
            <a:off x="6276960" y="2021040"/>
            <a:ext cx="2023920" cy="2025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LB_circle001"/>
          <p:cNvPicPr/>
          <p:nvPr/>
        </p:nvPicPr>
        <p:blipFill>
          <a:blip r:embed="rId2"/>
          <a:stretch/>
        </p:blipFill>
        <p:spPr>
          <a:xfrm>
            <a:off x="731880" y="2003400"/>
            <a:ext cx="2146320" cy="2146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O_chevron001"/>
          <p:cNvPicPr/>
          <p:nvPr/>
        </p:nvPicPr>
        <p:blipFill>
          <a:blip r:embed="rId3"/>
          <a:stretch/>
        </p:blipFill>
        <p:spPr>
          <a:xfrm>
            <a:off x="2924280" y="2757600"/>
            <a:ext cx="517320" cy="5824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O_chevron001"/>
          <p:cNvPicPr/>
          <p:nvPr/>
        </p:nvPicPr>
        <p:blipFill>
          <a:blip r:embed="rId4"/>
          <a:stretch/>
        </p:blipFill>
        <p:spPr>
          <a:xfrm>
            <a:off x="5702400" y="2679840"/>
            <a:ext cx="517320" cy="5824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YG_circle001"/>
          <p:cNvPicPr/>
          <p:nvPr/>
        </p:nvPicPr>
        <p:blipFill>
          <a:blip r:embed="rId5"/>
          <a:stretch/>
        </p:blipFill>
        <p:spPr>
          <a:xfrm>
            <a:off x="3481560" y="2027160"/>
            <a:ext cx="2182680" cy="21830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9"/>
          <p:cNvSpPr/>
          <p:nvPr/>
        </p:nvSpPr>
        <p:spPr>
          <a:xfrm>
            <a:off x="982800" y="2782800"/>
            <a:ext cx="160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3740040" y="2811600"/>
            <a:ext cx="16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6475320" y="2773440"/>
            <a:ext cx="160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1857240" y="4572000"/>
            <a:ext cx="6139080" cy="9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797040" y="950760"/>
            <a:ext cx="777564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0" lang="en-US" sz="40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Oval 2"/>
          <p:cNvSpPr/>
          <p:nvPr/>
        </p:nvSpPr>
        <p:spPr>
          <a:xfrm>
            <a:off x="2413080" y="2365200"/>
            <a:ext cx="2743200" cy="2743200"/>
          </a:xfrm>
          <a:prstGeom prst="ellipse">
            <a:avLst/>
          </a:prstGeom>
          <a:solidFill>
            <a:srgbClr val="99cc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7" name="Oval 3"/>
          <p:cNvSpPr/>
          <p:nvPr/>
        </p:nvSpPr>
        <p:spPr>
          <a:xfrm>
            <a:off x="3556080" y="2879640"/>
            <a:ext cx="1619280" cy="1619280"/>
          </a:xfrm>
          <a:prstGeom prst="ellipse">
            <a:avLst/>
          </a:prstGeom>
          <a:solidFill>
            <a:srgbClr val="dcdcd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8" name="Line 4"/>
          <p:cNvSpPr/>
          <p:nvPr/>
        </p:nvSpPr>
        <p:spPr>
          <a:xfrm>
            <a:off x="2793960" y="3660840"/>
            <a:ext cx="1523880" cy="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9" name="Line 5"/>
          <p:cNvSpPr/>
          <p:nvPr/>
        </p:nvSpPr>
        <p:spPr>
          <a:xfrm>
            <a:off x="3632040" y="2517840"/>
            <a:ext cx="914400" cy="9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0" name="Line 6"/>
          <p:cNvSpPr/>
          <p:nvPr/>
        </p:nvSpPr>
        <p:spPr>
          <a:xfrm flipH="1">
            <a:off x="3727080" y="4041720"/>
            <a:ext cx="819000" cy="1409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1" name="Line 7"/>
          <p:cNvSpPr/>
          <p:nvPr/>
        </p:nvSpPr>
        <p:spPr>
          <a:xfrm>
            <a:off x="4927680" y="3965400"/>
            <a:ext cx="22860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2" name="Line 8"/>
          <p:cNvSpPr/>
          <p:nvPr/>
        </p:nvSpPr>
        <p:spPr>
          <a:xfrm flipV="1">
            <a:off x="4927680" y="2670120"/>
            <a:ext cx="533160" cy="838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3" name="Oval 9"/>
          <p:cNvSpPr/>
          <p:nvPr/>
        </p:nvSpPr>
        <p:spPr>
          <a:xfrm>
            <a:off x="4194000" y="3270240"/>
            <a:ext cx="895680" cy="89532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4040" y="474480"/>
            <a:ext cx="77752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Group 11"/>
          <p:cNvGrpSpPr/>
          <p:nvPr/>
        </p:nvGrpSpPr>
        <p:grpSpPr>
          <a:xfrm>
            <a:off x="2813040" y="1641600"/>
            <a:ext cx="1170720" cy="1175040"/>
            <a:chOff x="2813040" y="1641600"/>
            <a:chExt cx="1170720" cy="1175040"/>
          </a:xfrm>
        </p:grpSpPr>
        <p:sp>
          <p:nvSpPr>
            <p:cNvPr id="156" name="Oval 12"/>
            <p:cNvSpPr/>
            <p:nvPr/>
          </p:nvSpPr>
          <p:spPr>
            <a:xfrm>
              <a:off x="2813040" y="164160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grpSp>
          <p:nvGrpSpPr>
            <p:cNvPr id="157" name="Group 13"/>
            <p:cNvGrpSpPr/>
            <p:nvPr/>
          </p:nvGrpSpPr>
          <p:grpSpPr>
            <a:xfrm>
              <a:off x="2847960" y="1677960"/>
              <a:ext cx="1118160" cy="1138680"/>
              <a:chOff x="2847960" y="1677960"/>
              <a:chExt cx="1118160" cy="1138680"/>
            </a:xfrm>
          </p:grpSpPr>
          <p:pic>
            <p:nvPicPr>
              <p:cNvPr id="158" name="Picture 14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2847960" y="167796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9" name="Oval 15"/>
              <p:cNvSpPr/>
              <p:nvPr/>
            </p:nvSpPr>
            <p:spPr>
              <a:xfrm>
                <a:off x="2847960" y="1677960"/>
                <a:ext cx="1079280" cy="1086120"/>
              </a:xfrm>
              <a:prstGeom prst="ellipse">
                <a:avLst/>
              </a:prstGeom>
              <a:solidFill>
                <a:srgbClr val="b639b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pic>
            <p:nvPicPr>
              <p:cNvPr id="160" name="Picture 16" descr="light_shadow1"/>
              <p:cNvPicPr/>
              <p:nvPr/>
            </p:nvPicPr>
            <p:blipFill>
              <a:blip r:embed="rId2"/>
              <a:srcRect l="0" t="14273" r="0" b="0"/>
              <a:stretch/>
            </p:blipFill>
            <p:spPr>
              <a:xfrm>
                <a:off x="2858040" y="172296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61" name="Group 17"/>
              <p:cNvGrpSpPr/>
              <p:nvPr/>
            </p:nvGrpSpPr>
            <p:grpSpPr>
              <a:xfrm>
                <a:off x="3197520" y="2115360"/>
                <a:ext cx="768600" cy="701280"/>
                <a:chOff x="3197520" y="2115360"/>
                <a:chExt cx="768600" cy="701280"/>
              </a:xfrm>
            </p:grpSpPr>
            <p:grpSp>
              <p:nvGrpSpPr>
                <p:cNvPr id="162" name="Group 18"/>
                <p:cNvGrpSpPr/>
                <p:nvPr/>
              </p:nvGrpSpPr>
              <p:grpSpPr>
                <a:xfrm>
                  <a:off x="3375000" y="2115360"/>
                  <a:ext cx="591120" cy="694440"/>
                  <a:chOff x="3375000" y="2115360"/>
                  <a:chExt cx="591120" cy="694440"/>
                </a:xfrm>
              </p:grpSpPr>
              <p:sp>
                <p:nvSpPr>
                  <p:cNvPr id="163" name="AutoShape 19"/>
                  <p:cNvSpPr/>
                  <p:nvPr/>
                </p:nvSpPr>
                <p:spPr>
                  <a:xfrm flipH="1" flipV="1" rot="1528800">
                    <a:off x="3704400" y="21168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64" name="AutoShape 20"/>
                  <p:cNvSpPr/>
                  <p:nvPr/>
                </p:nvSpPr>
                <p:spPr>
                  <a:xfrm flipH="1" flipV="1" rot="2344200">
                    <a:off x="3659040" y="22021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65" name="AutoShape 21"/>
                  <p:cNvSpPr/>
                  <p:nvPr/>
                </p:nvSpPr>
                <p:spPr>
                  <a:xfrm flipH="1" flipV="1" rot="2640000">
                    <a:off x="3622320" y="22428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66" name="AutoShape 22"/>
                  <p:cNvSpPr/>
                  <p:nvPr/>
                </p:nvSpPr>
                <p:spPr>
                  <a:xfrm flipH="1" flipV="1" rot="3172200">
                    <a:off x="3577320" y="22910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167" name="Group 23"/>
                <p:cNvGrpSpPr/>
                <p:nvPr/>
              </p:nvGrpSpPr>
              <p:grpSpPr>
                <a:xfrm>
                  <a:off x="3197520" y="2306520"/>
                  <a:ext cx="743400" cy="510120"/>
                  <a:chOff x="3197520" y="2306520"/>
                  <a:chExt cx="743400" cy="510120"/>
                </a:xfrm>
              </p:grpSpPr>
              <p:sp>
                <p:nvSpPr>
                  <p:cNvPr id="168" name="AutoShape 24"/>
                  <p:cNvSpPr/>
                  <p:nvPr/>
                </p:nvSpPr>
                <p:spPr>
                  <a:xfrm flipH="1" flipV="1" rot="2881800">
                    <a:off x="3608280" y="226332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69" name="AutoShape 25"/>
                  <p:cNvSpPr/>
                  <p:nvPr/>
                </p:nvSpPr>
                <p:spPr>
                  <a:xfrm flipH="1" flipV="1" rot="3697200">
                    <a:off x="3534480" y="232488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70" name="AutoShape 26"/>
                  <p:cNvSpPr/>
                  <p:nvPr/>
                </p:nvSpPr>
                <p:spPr>
                  <a:xfrm flipH="1" flipV="1" rot="3993000">
                    <a:off x="3484440" y="234828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71" name="AutoShape 27"/>
                  <p:cNvSpPr/>
                  <p:nvPr/>
                </p:nvSpPr>
                <p:spPr>
                  <a:xfrm flipH="1" flipV="1" rot="4525200">
                    <a:off x="3423600" y="237456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</p:grpSp>
        </p:grpSp>
        <p:grpSp>
          <p:nvGrpSpPr>
            <p:cNvPr id="172" name="Group 28"/>
            <p:cNvGrpSpPr/>
            <p:nvPr/>
          </p:nvGrpSpPr>
          <p:grpSpPr>
            <a:xfrm>
              <a:off x="3306240" y="2146680"/>
              <a:ext cx="677520" cy="617760"/>
              <a:chOff x="3306240" y="2146680"/>
              <a:chExt cx="677520" cy="617760"/>
            </a:xfrm>
          </p:grpSpPr>
          <p:grpSp>
            <p:nvGrpSpPr>
              <p:cNvPr id="173" name="Group 29"/>
              <p:cNvGrpSpPr/>
              <p:nvPr/>
            </p:nvGrpSpPr>
            <p:grpSpPr>
              <a:xfrm>
                <a:off x="3462120" y="2146680"/>
                <a:ext cx="521640" cy="611640"/>
                <a:chOff x="3462120" y="2146680"/>
                <a:chExt cx="521640" cy="611640"/>
              </a:xfrm>
            </p:grpSpPr>
            <p:sp>
              <p:nvSpPr>
                <p:cNvPr id="174" name="AutoShape 30"/>
                <p:cNvSpPr/>
                <p:nvPr/>
              </p:nvSpPr>
              <p:spPr>
                <a:xfrm flipH="1" flipV="1" rot="1528800">
                  <a:off x="3752640" y="214848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175" name="AutoShape 31"/>
                <p:cNvSpPr/>
                <p:nvPr/>
              </p:nvSpPr>
              <p:spPr>
                <a:xfrm flipH="1" flipV="1" rot="2344200">
                  <a:off x="3712680" y="2222280"/>
                  <a:ext cx="12456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176" name="AutoShape 32"/>
                <p:cNvSpPr/>
                <p:nvPr/>
              </p:nvSpPr>
              <p:spPr>
                <a:xfrm flipH="1" flipV="1" rot="2640000">
                  <a:off x="3679920" y="225900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177" name="AutoShape 33"/>
                <p:cNvSpPr/>
                <p:nvPr/>
              </p:nvSpPr>
              <p:spPr>
                <a:xfrm flipH="1" flipV="1" rot="3172200">
                  <a:off x="3639600" y="230112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178" name="Group 34"/>
              <p:cNvGrpSpPr/>
              <p:nvPr/>
            </p:nvGrpSpPr>
            <p:grpSpPr>
              <a:xfrm>
                <a:off x="3306240" y="2314440"/>
                <a:ext cx="654840" cy="450000"/>
                <a:chOff x="3306240" y="2314440"/>
                <a:chExt cx="654840" cy="450000"/>
              </a:xfrm>
            </p:grpSpPr>
            <p:sp>
              <p:nvSpPr>
                <p:cNvPr id="179" name="AutoShape 35"/>
                <p:cNvSpPr/>
                <p:nvPr/>
              </p:nvSpPr>
              <p:spPr>
                <a:xfrm flipH="1" flipV="1" rot="2881800">
                  <a:off x="3667320" y="22759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180" name="AutoShape 36"/>
                <p:cNvSpPr/>
                <p:nvPr/>
              </p:nvSpPr>
              <p:spPr>
                <a:xfrm flipH="1" flipV="1" rot="3697200">
                  <a:off x="3602520" y="23306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181" name="AutoShape 37"/>
                <p:cNvSpPr/>
                <p:nvPr/>
              </p:nvSpPr>
              <p:spPr>
                <a:xfrm flipH="1" flipV="1" rot="3993000">
                  <a:off x="3558600" y="23518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182" name="AutoShape 38"/>
                <p:cNvSpPr/>
                <p:nvPr/>
              </p:nvSpPr>
              <p:spPr>
                <a:xfrm flipH="1" flipV="1" rot="4525200">
                  <a:off x="3504600" y="23745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</p:grpSp>
        <p:sp>
          <p:nvSpPr>
            <p:cNvPr id="183" name="Rectangle 39"/>
            <p:cNvSpPr/>
            <p:nvPr/>
          </p:nvSpPr>
          <p:spPr>
            <a:xfrm>
              <a:off x="3097800" y="206064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1728720" y="2924280"/>
            <a:ext cx="1170720" cy="1175040"/>
            <a:chOff x="1728720" y="2924280"/>
            <a:chExt cx="1170720" cy="1175040"/>
          </a:xfrm>
        </p:grpSpPr>
        <p:sp>
          <p:nvSpPr>
            <p:cNvPr id="185" name="Oval 41"/>
            <p:cNvSpPr/>
            <p:nvPr/>
          </p:nvSpPr>
          <p:spPr>
            <a:xfrm>
              <a:off x="1728720" y="292428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grpSp>
          <p:nvGrpSpPr>
            <p:cNvPr id="186" name="Group 42"/>
            <p:cNvGrpSpPr/>
            <p:nvPr/>
          </p:nvGrpSpPr>
          <p:grpSpPr>
            <a:xfrm>
              <a:off x="1763640" y="2960640"/>
              <a:ext cx="1118160" cy="1138680"/>
              <a:chOff x="1763640" y="2960640"/>
              <a:chExt cx="1118160" cy="1138680"/>
            </a:xfrm>
          </p:grpSpPr>
          <p:pic>
            <p:nvPicPr>
              <p:cNvPr id="187" name="Picture 43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1763640" y="296064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Oval 44"/>
              <p:cNvSpPr/>
              <p:nvPr/>
            </p:nvSpPr>
            <p:spPr>
              <a:xfrm>
                <a:off x="1763640" y="2960640"/>
                <a:ext cx="1079280" cy="1086120"/>
              </a:xfrm>
              <a:prstGeom prst="ellipse">
                <a:avLst/>
              </a:prstGeom>
              <a:solidFill>
                <a:srgbClr val="3973b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pic>
            <p:nvPicPr>
              <p:cNvPr id="189" name="Picture 45" descr="light_shadow1"/>
              <p:cNvPicPr/>
              <p:nvPr/>
            </p:nvPicPr>
            <p:blipFill>
              <a:blip r:embed="rId4"/>
              <a:srcRect l="0" t="14273" r="0" b="0"/>
              <a:stretch/>
            </p:blipFill>
            <p:spPr>
              <a:xfrm>
                <a:off x="1773720" y="300564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90" name="Group 46"/>
              <p:cNvGrpSpPr/>
              <p:nvPr/>
            </p:nvGrpSpPr>
            <p:grpSpPr>
              <a:xfrm>
                <a:off x="2113200" y="3398040"/>
                <a:ext cx="768600" cy="701280"/>
                <a:chOff x="2113200" y="3398040"/>
                <a:chExt cx="768600" cy="701280"/>
              </a:xfrm>
            </p:grpSpPr>
            <p:grpSp>
              <p:nvGrpSpPr>
                <p:cNvPr id="191" name="Group 47"/>
                <p:cNvGrpSpPr/>
                <p:nvPr/>
              </p:nvGrpSpPr>
              <p:grpSpPr>
                <a:xfrm>
                  <a:off x="2290680" y="3398040"/>
                  <a:ext cx="591120" cy="694440"/>
                  <a:chOff x="2290680" y="3398040"/>
                  <a:chExt cx="591120" cy="694440"/>
                </a:xfrm>
              </p:grpSpPr>
              <p:sp>
                <p:nvSpPr>
                  <p:cNvPr id="192" name="AutoShape 48"/>
                  <p:cNvSpPr/>
                  <p:nvPr/>
                </p:nvSpPr>
                <p:spPr>
                  <a:xfrm flipH="1" flipV="1" rot="1528800">
                    <a:off x="2620080" y="33994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93" name="AutoShape 49"/>
                  <p:cNvSpPr/>
                  <p:nvPr/>
                </p:nvSpPr>
                <p:spPr>
                  <a:xfrm flipH="1" flipV="1" rot="2344200">
                    <a:off x="2574720" y="34848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94" name="AutoShape 50"/>
                  <p:cNvSpPr/>
                  <p:nvPr/>
                </p:nvSpPr>
                <p:spPr>
                  <a:xfrm flipH="1" flipV="1" rot="2640000">
                    <a:off x="2538000" y="35254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95" name="AutoShape 51"/>
                  <p:cNvSpPr/>
                  <p:nvPr/>
                </p:nvSpPr>
                <p:spPr>
                  <a:xfrm flipH="1" flipV="1" rot="3172200">
                    <a:off x="2493000" y="35737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196" name="Group 52"/>
                <p:cNvGrpSpPr/>
                <p:nvPr/>
              </p:nvGrpSpPr>
              <p:grpSpPr>
                <a:xfrm>
                  <a:off x="2113200" y="3589200"/>
                  <a:ext cx="743400" cy="510120"/>
                  <a:chOff x="2113200" y="3589200"/>
                  <a:chExt cx="743400" cy="510120"/>
                </a:xfrm>
              </p:grpSpPr>
              <p:sp>
                <p:nvSpPr>
                  <p:cNvPr id="197" name="AutoShape 53"/>
                  <p:cNvSpPr/>
                  <p:nvPr/>
                </p:nvSpPr>
                <p:spPr>
                  <a:xfrm flipH="1" flipV="1" rot="2881800">
                    <a:off x="2523960" y="354600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98" name="AutoShape 54"/>
                  <p:cNvSpPr/>
                  <p:nvPr/>
                </p:nvSpPr>
                <p:spPr>
                  <a:xfrm flipH="1" flipV="1" rot="3697200">
                    <a:off x="2450160" y="360756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99" name="AutoShape 55"/>
                  <p:cNvSpPr/>
                  <p:nvPr/>
                </p:nvSpPr>
                <p:spPr>
                  <a:xfrm flipH="1" flipV="1" rot="3993000">
                    <a:off x="2400120" y="363096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00" name="AutoShape 56"/>
                  <p:cNvSpPr/>
                  <p:nvPr/>
                </p:nvSpPr>
                <p:spPr>
                  <a:xfrm flipH="1" flipV="1" rot="4525200">
                    <a:off x="2339280" y="365724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</p:grpSp>
        </p:grpSp>
        <p:grpSp>
          <p:nvGrpSpPr>
            <p:cNvPr id="201" name="Group 57"/>
            <p:cNvGrpSpPr/>
            <p:nvPr/>
          </p:nvGrpSpPr>
          <p:grpSpPr>
            <a:xfrm>
              <a:off x="2221920" y="3429360"/>
              <a:ext cx="677520" cy="617760"/>
              <a:chOff x="2221920" y="3429360"/>
              <a:chExt cx="677520" cy="617760"/>
            </a:xfrm>
          </p:grpSpPr>
          <p:grpSp>
            <p:nvGrpSpPr>
              <p:cNvPr id="202" name="Group 58"/>
              <p:cNvGrpSpPr/>
              <p:nvPr/>
            </p:nvGrpSpPr>
            <p:grpSpPr>
              <a:xfrm>
                <a:off x="2377800" y="3429360"/>
                <a:ext cx="521640" cy="611640"/>
                <a:chOff x="2377800" y="3429360"/>
                <a:chExt cx="521640" cy="611640"/>
              </a:xfrm>
            </p:grpSpPr>
            <p:sp>
              <p:nvSpPr>
                <p:cNvPr id="203" name="AutoShape 59"/>
                <p:cNvSpPr/>
                <p:nvPr/>
              </p:nvSpPr>
              <p:spPr>
                <a:xfrm flipH="1" flipV="1" rot="1528800">
                  <a:off x="2668320" y="343116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04" name="AutoShape 60"/>
                <p:cNvSpPr/>
                <p:nvPr/>
              </p:nvSpPr>
              <p:spPr>
                <a:xfrm flipH="1" flipV="1" rot="2344200">
                  <a:off x="2628360" y="3504960"/>
                  <a:ext cx="12456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05" name="AutoShape 61"/>
                <p:cNvSpPr/>
                <p:nvPr/>
              </p:nvSpPr>
              <p:spPr>
                <a:xfrm flipH="1" flipV="1" rot="2640000">
                  <a:off x="2595600" y="354168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06" name="AutoShape 62"/>
                <p:cNvSpPr/>
                <p:nvPr/>
              </p:nvSpPr>
              <p:spPr>
                <a:xfrm flipH="1" flipV="1" rot="3172200">
                  <a:off x="2555280" y="358380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207" name="Group 63"/>
              <p:cNvGrpSpPr/>
              <p:nvPr/>
            </p:nvGrpSpPr>
            <p:grpSpPr>
              <a:xfrm>
                <a:off x="2221920" y="3597120"/>
                <a:ext cx="654840" cy="450000"/>
                <a:chOff x="2221920" y="3597120"/>
                <a:chExt cx="654840" cy="450000"/>
              </a:xfrm>
            </p:grpSpPr>
            <p:sp>
              <p:nvSpPr>
                <p:cNvPr id="208" name="AutoShape 64"/>
                <p:cNvSpPr/>
                <p:nvPr/>
              </p:nvSpPr>
              <p:spPr>
                <a:xfrm flipH="1" flipV="1" rot="2881800">
                  <a:off x="2583000" y="35586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09" name="AutoShape 65"/>
                <p:cNvSpPr/>
                <p:nvPr/>
              </p:nvSpPr>
              <p:spPr>
                <a:xfrm flipH="1" flipV="1" rot="3697200">
                  <a:off x="2518200" y="36133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10" name="AutoShape 66"/>
                <p:cNvSpPr/>
                <p:nvPr/>
              </p:nvSpPr>
              <p:spPr>
                <a:xfrm flipH="1" flipV="1" rot="3993000">
                  <a:off x="2474280" y="36345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11" name="AutoShape 67"/>
                <p:cNvSpPr/>
                <p:nvPr/>
              </p:nvSpPr>
              <p:spPr>
                <a:xfrm flipH="1" flipV="1" rot="4525200">
                  <a:off x="2420280" y="36572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</p:grpSp>
        <p:sp>
          <p:nvSpPr>
            <p:cNvPr id="212" name="Rectangle 68"/>
            <p:cNvSpPr/>
            <p:nvPr/>
          </p:nvSpPr>
          <p:spPr>
            <a:xfrm>
              <a:off x="2013480" y="334332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213" name="Group 69"/>
          <p:cNvGrpSpPr/>
          <p:nvPr/>
        </p:nvGrpSpPr>
        <p:grpSpPr>
          <a:xfrm>
            <a:off x="2841480" y="5272200"/>
            <a:ext cx="1170720" cy="1175040"/>
            <a:chOff x="2841480" y="5272200"/>
            <a:chExt cx="1170720" cy="1175040"/>
          </a:xfrm>
        </p:grpSpPr>
        <p:sp>
          <p:nvSpPr>
            <p:cNvPr id="214" name="Oval 70"/>
            <p:cNvSpPr/>
            <p:nvPr/>
          </p:nvSpPr>
          <p:spPr>
            <a:xfrm>
              <a:off x="2841480" y="527220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grpSp>
          <p:nvGrpSpPr>
            <p:cNvPr id="215" name="Group 71"/>
            <p:cNvGrpSpPr/>
            <p:nvPr/>
          </p:nvGrpSpPr>
          <p:grpSpPr>
            <a:xfrm>
              <a:off x="2876400" y="5308560"/>
              <a:ext cx="1118160" cy="1138680"/>
              <a:chOff x="2876400" y="5308560"/>
              <a:chExt cx="1118160" cy="1138680"/>
            </a:xfrm>
          </p:grpSpPr>
          <p:pic>
            <p:nvPicPr>
              <p:cNvPr id="216" name="Picture 72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2876400" y="530856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" name="Oval 73"/>
              <p:cNvSpPr/>
              <p:nvPr/>
            </p:nvSpPr>
            <p:spPr>
              <a:xfrm>
                <a:off x="2876400" y="5308560"/>
                <a:ext cx="1079280" cy="1086120"/>
              </a:xfrm>
              <a:prstGeom prst="ellipse">
                <a:avLst/>
              </a:prstGeom>
              <a:solidFill>
                <a:srgbClr val="96ad2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pic>
            <p:nvPicPr>
              <p:cNvPr id="218" name="Picture 74" descr="light_shadow1"/>
              <p:cNvPicPr/>
              <p:nvPr/>
            </p:nvPicPr>
            <p:blipFill>
              <a:blip r:embed="rId6"/>
              <a:srcRect l="0" t="14273" r="0" b="0"/>
              <a:stretch/>
            </p:blipFill>
            <p:spPr>
              <a:xfrm>
                <a:off x="2886480" y="535356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19" name="Group 75"/>
              <p:cNvGrpSpPr/>
              <p:nvPr/>
            </p:nvGrpSpPr>
            <p:grpSpPr>
              <a:xfrm>
                <a:off x="3225960" y="5745960"/>
                <a:ext cx="768600" cy="701280"/>
                <a:chOff x="3225960" y="5745960"/>
                <a:chExt cx="768600" cy="701280"/>
              </a:xfrm>
            </p:grpSpPr>
            <p:grpSp>
              <p:nvGrpSpPr>
                <p:cNvPr id="220" name="Group 76"/>
                <p:cNvGrpSpPr/>
                <p:nvPr/>
              </p:nvGrpSpPr>
              <p:grpSpPr>
                <a:xfrm>
                  <a:off x="3403440" y="5745960"/>
                  <a:ext cx="591120" cy="694440"/>
                  <a:chOff x="3403440" y="5745960"/>
                  <a:chExt cx="591120" cy="694440"/>
                </a:xfrm>
              </p:grpSpPr>
              <p:sp>
                <p:nvSpPr>
                  <p:cNvPr id="221" name="AutoShape 77"/>
                  <p:cNvSpPr/>
                  <p:nvPr/>
                </p:nvSpPr>
                <p:spPr>
                  <a:xfrm flipH="1" flipV="1" rot="1528800">
                    <a:off x="3732840" y="57474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22" name="AutoShape 78"/>
                  <p:cNvSpPr/>
                  <p:nvPr/>
                </p:nvSpPr>
                <p:spPr>
                  <a:xfrm flipH="1" flipV="1" rot="2344200">
                    <a:off x="3687480" y="58327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23" name="AutoShape 79"/>
                  <p:cNvSpPr/>
                  <p:nvPr/>
                </p:nvSpPr>
                <p:spPr>
                  <a:xfrm flipH="1" flipV="1" rot="2640000">
                    <a:off x="3650760" y="58734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24" name="AutoShape 80"/>
                  <p:cNvSpPr/>
                  <p:nvPr/>
                </p:nvSpPr>
                <p:spPr>
                  <a:xfrm flipH="1" flipV="1" rot="3172200">
                    <a:off x="3605760" y="59216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225" name="Group 81"/>
                <p:cNvGrpSpPr/>
                <p:nvPr/>
              </p:nvGrpSpPr>
              <p:grpSpPr>
                <a:xfrm>
                  <a:off x="3225960" y="5937120"/>
                  <a:ext cx="743400" cy="510120"/>
                  <a:chOff x="3225960" y="5937120"/>
                  <a:chExt cx="743400" cy="510120"/>
                </a:xfrm>
              </p:grpSpPr>
              <p:sp>
                <p:nvSpPr>
                  <p:cNvPr id="226" name="AutoShape 82"/>
                  <p:cNvSpPr/>
                  <p:nvPr/>
                </p:nvSpPr>
                <p:spPr>
                  <a:xfrm flipH="1" flipV="1" rot="2881800">
                    <a:off x="3636720" y="589392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27" name="AutoShape 83"/>
                  <p:cNvSpPr/>
                  <p:nvPr/>
                </p:nvSpPr>
                <p:spPr>
                  <a:xfrm flipH="1" flipV="1" rot="3697200">
                    <a:off x="3562920" y="595548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28" name="AutoShape 84"/>
                  <p:cNvSpPr/>
                  <p:nvPr/>
                </p:nvSpPr>
                <p:spPr>
                  <a:xfrm flipH="1" flipV="1" rot="3993000">
                    <a:off x="3512880" y="597888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29" name="AutoShape 85"/>
                  <p:cNvSpPr/>
                  <p:nvPr/>
                </p:nvSpPr>
                <p:spPr>
                  <a:xfrm flipH="1" flipV="1" rot="4525200">
                    <a:off x="3452040" y="600516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</p:grpSp>
        </p:grpSp>
        <p:grpSp>
          <p:nvGrpSpPr>
            <p:cNvPr id="230" name="Group 86"/>
            <p:cNvGrpSpPr/>
            <p:nvPr/>
          </p:nvGrpSpPr>
          <p:grpSpPr>
            <a:xfrm>
              <a:off x="3334680" y="5777280"/>
              <a:ext cx="677520" cy="617760"/>
              <a:chOff x="3334680" y="5777280"/>
              <a:chExt cx="677520" cy="617760"/>
            </a:xfrm>
          </p:grpSpPr>
          <p:grpSp>
            <p:nvGrpSpPr>
              <p:cNvPr id="231" name="Group 87"/>
              <p:cNvGrpSpPr/>
              <p:nvPr/>
            </p:nvGrpSpPr>
            <p:grpSpPr>
              <a:xfrm>
                <a:off x="3490560" y="5777280"/>
                <a:ext cx="521640" cy="611640"/>
                <a:chOff x="3490560" y="5777280"/>
                <a:chExt cx="521640" cy="611640"/>
              </a:xfrm>
            </p:grpSpPr>
            <p:sp>
              <p:nvSpPr>
                <p:cNvPr id="232" name="AutoShape 88"/>
                <p:cNvSpPr/>
                <p:nvPr/>
              </p:nvSpPr>
              <p:spPr>
                <a:xfrm flipH="1" flipV="1" rot="1528800">
                  <a:off x="3781080" y="577908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33" name="AutoShape 89"/>
                <p:cNvSpPr/>
                <p:nvPr/>
              </p:nvSpPr>
              <p:spPr>
                <a:xfrm flipH="1" flipV="1" rot="2344200">
                  <a:off x="3741120" y="5852880"/>
                  <a:ext cx="12456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34" name="AutoShape 90"/>
                <p:cNvSpPr/>
                <p:nvPr/>
              </p:nvSpPr>
              <p:spPr>
                <a:xfrm flipH="1" flipV="1" rot="2640000">
                  <a:off x="3708360" y="588960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35" name="AutoShape 91"/>
                <p:cNvSpPr/>
                <p:nvPr/>
              </p:nvSpPr>
              <p:spPr>
                <a:xfrm flipH="1" flipV="1" rot="3172200">
                  <a:off x="3668040" y="593172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236" name="Group 92"/>
              <p:cNvGrpSpPr/>
              <p:nvPr/>
            </p:nvGrpSpPr>
            <p:grpSpPr>
              <a:xfrm>
                <a:off x="3334680" y="5945040"/>
                <a:ext cx="654840" cy="450000"/>
                <a:chOff x="3334680" y="5945040"/>
                <a:chExt cx="654840" cy="450000"/>
              </a:xfrm>
            </p:grpSpPr>
            <p:sp>
              <p:nvSpPr>
                <p:cNvPr id="237" name="AutoShape 93"/>
                <p:cNvSpPr/>
                <p:nvPr/>
              </p:nvSpPr>
              <p:spPr>
                <a:xfrm flipH="1" flipV="1" rot="2881800">
                  <a:off x="3695760" y="59065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38" name="AutoShape 94"/>
                <p:cNvSpPr/>
                <p:nvPr/>
              </p:nvSpPr>
              <p:spPr>
                <a:xfrm flipH="1" flipV="1" rot="3697200">
                  <a:off x="3630960" y="59612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39" name="AutoShape 95"/>
                <p:cNvSpPr/>
                <p:nvPr/>
              </p:nvSpPr>
              <p:spPr>
                <a:xfrm flipH="1" flipV="1" rot="3993000">
                  <a:off x="3587040" y="59824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40" name="AutoShape 96"/>
                <p:cNvSpPr/>
                <p:nvPr/>
              </p:nvSpPr>
              <p:spPr>
                <a:xfrm flipH="1" flipV="1" rot="4525200">
                  <a:off x="3533040" y="60051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</p:grpSp>
        <p:sp>
          <p:nvSpPr>
            <p:cNvPr id="241" name="Rectangle 97"/>
            <p:cNvSpPr/>
            <p:nvPr/>
          </p:nvSpPr>
          <p:spPr>
            <a:xfrm>
              <a:off x="3126240" y="569124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242" name="Group 98"/>
          <p:cNvGrpSpPr/>
          <p:nvPr/>
        </p:nvGrpSpPr>
        <p:grpSpPr>
          <a:xfrm>
            <a:off x="5086440" y="3813120"/>
            <a:ext cx="1170720" cy="1175040"/>
            <a:chOff x="5086440" y="3813120"/>
            <a:chExt cx="1170720" cy="1175040"/>
          </a:xfrm>
        </p:grpSpPr>
        <p:sp>
          <p:nvSpPr>
            <p:cNvPr id="243" name="Oval 99"/>
            <p:cNvSpPr/>
            <p:nvPr/>
          </p:nvSpPr>
          <p:spPr>
            <a:xfrm>
              <a:off x="5086440" y="381312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grpSp>
          <p:nvGrpSpPr>
            <p:cNvPr id="244" name="Group 100"/>
            <p:cNvGrpSpPr/>
            <p:nvPr/>
          </p:nvGrpSpPr>
          <p:grpSpPr>
            <a:xfrm>
              <a:off x="5121360" y="3849480"/>
              <a:ext cx="1118160" cy="1138680"/>
              <a:chOff x="5121360" y="3849480"/>
              <a:chExt cx="1118160" cy="1138680"/>
            </a:xfrm>
          </p:grpSpPr>
          <p:pic>
            <p:nvPicPr>
              <p:cNvPr id="245" name="Picture 101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5121360" y="384948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6" name="Oval 102"/>
              <p:cNvSpPr/>
              <p:nvPr/>
            </p:nvSpPr>
            <p:spPr>
              <a:xfrm>
                <a:off x="5121360" y="3849480"/>
                <a:ext cx="1079280" cy="1086120"/>
              </a:xfrm>
              <a:prstGeom prst="ellipse">
                <a:avLst/>
              </a:prstGeom>
              <a:solidFill>
                <a:srgbClr val="96969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pic>
            <p:nvPicPr>
              <p:cNvPr id="247" name="Picture 103" descr="light_shadow1"/>
              <p:cNvPicPr/>
              <p:nvPr/>
            </p:nvPicPr>
            <p:blipFill>
              <a:blip r:embed="rId8"/>
              <a:srcRect l="0" t="14273" r="0" b="0"/>
              <a:stretch/>
            </p:blipFill>
            <p:spPr>
              <a:xfrm>
                <a:off x="5131440" y="389448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8" name="Group 104"/>
              <p:cNvGrpSpPr/>
              <p:nvPr/>
            </p:nvGrpSpPr>
            <p:grpSpPr>
              <a:xfrm>
                <a:off x="5470920" y="4286880"/>
                <a:ext cx="768600" cy="701280"/>
                <a:chOff x="5470920" y="4286880"/>
                <a:chExt cx="768600" cy="701280"/>
              </a:xfrm>
            </p:grpSpPr>
            <p:grpSp>
              <p:nvGrpSpPr>
                <p:cNvPr id="249" name="Group 105"/>
                <p:cNvGrpSpPr/>
                <p:nvPr/>
              </p:nvGrpSpPr>
              <p:grpSpPr>
                <a:xfrm>
                  <a:off x="5648400" y="4286880"/>
                  <a:ext cx="591120" cy="694440"/>
                  <a:chOff x="5648400" y="4286880"/>
                  <a:chExt cx="591120" cy="694440"/>
                </a:xfrm>
              </p:grpSpPr>
              <p:sp>
                <p:nvSpPr>
                  <p:cNvPr id="250" name="AutoShape 106"/>
                  <p:cNvSpPr/>
                  <p:nvPr/>
                </p:nvSpPr>
                <p:spPr>
                  <a:xfrm flipH="1" flipV="1" rot="1528800">
                    <a:off x="5977800" y="42883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51" name="AutoShape 107"/>
                  <p:cNvSpPr/>
                  <p:nvPr/>
                </p:nvSpPr>
                <p:spPr>
                  <a:xfrm flipH="1" flipV="1" rot="2344200">
                    <a:off x="5932440" y="43736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52" name="AutoShape 108"/>
                  <p:cNvSpPr/>
                  <p:nvPr/>
                </p:nvSpPr>
                <p:spPr>
                  <a:xfrm flipH="1" flipV="1" rot="2640000">
                    <a:off x="5895720" y="44143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53" name="AutoShape 109"/>
                  <p:cNvSpPr/>
                  <p:nvPr/>
                </p:nvSpPr>
                <p:spPr>
                  <a:xfrm flipH="1" flipV="1" rot="3172200">
                    <a:off x="5850720" y="44625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254" name="Group 110"/>
                <p:cNvGrpSpPr/>
                <p:nvPr/>
              </p:nvGrpSpPr>
              <p:grpSpPr>
                <a:xfrm>
                  <a:off x="5470920" y="4478040"/>
                  <a:ext cx="743400" cy="510120"/>
                  <a:chOff x="5470920" y="4478040"/>
                  <a:chExt cx="743400" cy="510120"/>
                </a:xfrm>
              </p:grpSpPr>
              <p:sp>
                <p:nvSpPr>
                  <p:cNvPr id="255" name="AutoShape 111"/>
                  <p:cNvSpPr/>
                  <p:nvPr/>
                </p:nvSpPr>
                <p:spPr>
                  <a:xfrm flipH="1" flipV="1" rot="2881800">
                    <a:off x="5881680" y="443484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56" name="AutoShape 112"/>
                  <p:cNvSpPr/>
                  <p:nvPr/>
                </p:nvSpPr>
                <p:spPr>
                  <a:xfrm flipH="1" flipV="1" rot="3697200">
                    <a:off x="5807880" y="449640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57" name="AutoShape 113"/>
                  <p:cNvSpPr/>
                  <p:nvPr/>
                </p:nvSpPr>
                <p:spPr>
                  <a:xfrm flipH="1" flipV="1" rot="3993000">
                    <a:off x="5757840" y="451980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58" name="AutoShape 114"/>
                  <p:cNvSpPr/>
                  <p:nvPr/>
                </p:nvSpPr>
                <p:spPr>
                  <a:xfrm flipH="1" flipV="1" rot="4525200">
                    <a:off x="5697000" y="454608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</p:grpSp>
        </p:grpSp>
        <p:grpSp>
          <p:nvGrpSpPr>
            <p:cNvPr id="259" name="Group 115"/>
            <p:cNvGrpSpPr/>
            <p:nvPr/>
          </p:nvGrpSpPr>
          <p:grpSpPr>
            <a:xfrm>
              <a:off x="5579640" y="4318200"/>
              <a:ext cx="677520" cy="617760"/>
              <a:chOff x="5579640" y="4318200"/>
              <a:chExt cx="677520" cy="617760"/>
            </a:xfrm>
          </p:grpSpPr>
          <p:grpSp>
            <p:nvGrpSpPr>
              <p:cNvPr id="260" name="Group 116"/>
              <p:cNvGrpSpPr/>
              <p:nvPr/>
            </p:nvGrpSpPr>
            <p:grpSpPr>
              <a:xfrm>
                <a:off x="5735520" y="4318200"/>
                <a:ext cx="521640" cy="611640"/>
                <a:chOff x="5735520" y="4318200"/>
                <a:chExt cx="521640" cy="611640"/>
              </a:xfrm>
            </p:grpSpPr>
            <p:sp>
              <p:nvSpPr>
                <p:cNvPr id="261" name="AutoShape 117"/>
                <p:cNvSpPr/>
                <p:nvPr/>
              </p:nvSpPr>
              <p:spPr>
                <a:xfrm flipH="1" flipV="1" rot="1528800">
                  <a:off x="6026040" y="432000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62" name="AutoShape 118"/>
                <p:cNvSpPr/>
                <p:nvPr/>
              </p:nvSpPr>
              <p:spPr>
                <a:xfrm flipH="1" flipV="1" rot="2344200">
                  <a:off x="5986080" y="4393800"/>
                  <a:ext cx="12456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63" name="AutoShape 119"/>
                <p:cNvSpPr/>
                <p:nvPr/>
              </p:nvSpPr>
              <p:spPr>
                <a:xfrm flipH="1" flipV="1" rot="2640000">
                  <a:off x="5953320" y="443052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64" name="AutoShape 120"/>
                <p:cNvSpPr/>
                <p:nvPr/>
              </p:nvSpPr>
              <p:spPr>
                <a:xfrm flipH="1" flipV="1" rot="3172200">
                  <a:off x="5913000" y="447264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265" name="Group 121"/>
              <p:cNvGrpSpPr/>
              <p:nvPr/>
            </p:nvGrpSpPr>
            <p:grpSpPr>
              <a:xfrm>
                <a:off x="5579640" y="4485960"/>
                <a:ext cx="654840" cy="450000"/>
                <a:chOff x="5579640" y="4485960"/>
                <a:chExt cx="654840" cy="450000"/>
              </a:xfrm>
            </p:grpSpPr>
            <p:sp>
              <p:nvSpPr>
                <p:cNvPr id="266" name="AutoShape 122"/>
                <p:cNvSpPr/>
                <p:nvPr/>
              </p:nvSpPr>
              <p:spPr>
                <a:xfrm flipH="1" flipV="1" rot="2881800">
                  <a:off x="5940720" y="44474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67" name="AutoShape 123"/>
                <p:cNvSpPr/>
                <p:nvPr/>
              </p:nvSpPr>
              <p:spPr>
                <a:xfrm flipH="1" flipV="1" rot="3697200">
                  <a:off x="5875920" y="45021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68" name="AutoShape 124"/>
                <p:cNvSpPr/>
                <p:nvPr/>
              </p:nvSpPr>
              <p:spPr>
                <a:xfrm flipH="1" flipV="1" rot="3993000">
                  <a:off x="5832000" y="45234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69" name="AutoShape 125"/>
                <p:cNvSpPr/>
                <p:nvPr/>
              </p:nvSpPr>
              <p:spPr>
                <a:xfrm flipH="1" flipV="1" rot="4525200">
                  <a:off x="5778000" y="45460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</p:grpSp>
        <p:sp>
          <p:nvSpPr>
            <p:cNvPr id="270" name="Rectangle 126"/>
            <p:cNvSpPr/>
            <p:nvPr/>
          </p:nvSpPr>
          <p:spPr>
            <a:xfrm>
              <a:off x="5371200" y="423216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271" name="Group 127"/>
          <p:cNvGrpSpPr/>
          <p:nvPr/>
        </p:nvGrpSpPr>
        <p:grpSpPr>
          <a:xfrm>
            <a:off x="5079960" y="1650960"/>
            <a:ext cx="1170720" cy="1175040"/>
            <a:chOff x="5079960" y="1650960"/>
            <a:chExt cx="1170720" cy="1175040"/>
          </a:xfrm>
        </p:grpSpPr>
        <p:sp>
          <p:nvSpPr>
            <p:cNvPr id="272" name="Oval 128"/>
            <p:cNvSpPr/>
            <p:nvPr/>
          </p:nvSpPr>
          <p:spPr>
            <a:xfrm>
              <a:off x="5079960" y="165096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grpSp>
          <p:nvGrpSpPr>
            <p:cNvPr id="273" name="Group 129"/>
            <p:cNvGrpSpPr/>
            <p:nvPr/>
          </p:nvGrpSpPr>
          <p:grpSpPr>
            <a:xfrm>
              <a:off x="5114880" y="1687320"/>
              <a:ext cx="1118160" cy="1138680"/>
              <a:chOff x="5114880" y="1687320"/>
              <a:chExt cx="1118160" cy="1138680"/>
            </a:xfrm>
          </p:grpSpPr>
          <p:pic>
            <p:nvPicPr>
              <p:cNvPr id="274" name="Picture 130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5114880" y="168732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5" name="Oval 131"/>
              <p:cNvSpPr/>
              <p:nvPr/>
            </p:nvSpPr>
            <p:spPr>
              <a:xfrm>
                <a:off x="5114880" y="1687320"/>
                <a:ext cx="1079280" cy="1086120"/>
              </a:xfrm>
              <a:prstGeom prst="ellipse">
                <a:avLst/>
              </a:prstGeom>
              <a:solidFill>
                <a:srgbClr val="ea9c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pic>
            <p:nvPicPr>
              <p:cNvPr id="276" name="Picture 132" descr="light_shadow1"/>
              <p:cNvPicPr/>
              <p:nvPr/>
            </p:nvPicPr>
            <p:blipFill>
              <a:blip r:embed="rId10"/>
              <a:srcRect l="0" t="14273" r="0" b="0"/>
              <a:stretch/>
            </p:blipFill>
            <p:spPr>
              <a:xfrm>
                <a:off x="5124960" y="173232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77" name="Group 133"/>
              <p:cNvGrpSpPr/>
              <p:nvPr/>
            </p:nvGrpSpPr>
            <p:grpSpPr>
              <a:xfrm>
                <a:off x="5464440" y="2124720"/>
                <a:ext cx="768600" cy="701280"/>
                <a:chOff x="5464440" y="2124720"/>
                <a:chExt cx="768600" cy="701280"/>
              </a:xfrm>
            </p:grpSpPr>
            <p:grpSp>
              <p:nvGrpSpPr>
                <p:cNvPr id="278" name="Group 134"/>
                <p:cNvGrpSpPr/>
                <p:nvPr/>
              </p:nvGrpSpPr>
              <p:grpSpPr>
                <a:xfrm>
                  <a:off x="5641920" y="2124720"/>
                  <a:ext cx="591120" cy="694440"/>
                  <a:chOff x="5641920" y="2124720"/>
                  <a:chExt cx="591120" cy="694440"/>
                </a:xfrm>
              </p:grpSpPr>
              <p:sp>
                <p:nvSpPr>
                  <p:cNvPr id="279" name="AutoShape 135"/>
                  <p:cNvSpPr/>
                  <p:nvPr/>
                </p:nvSpPr>
                <p:spPr>
                  <a:xfrm flipH="1" flipV="1" rot="1528800">
                    <a:off x="5971320" y="21261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80" name="AutoShape 136"/>
                  <p:cNvSpPr/>
                  <p:nvPr/>
                </p:nvSpPr>
                <p:spPr>
                  <a:xfrm flipH="1" flipV="1" rot="2344200">
                    <a:off x="5925960" y="22114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81" name="AutoShape 137"/>
                  <p:cNvSpPr/>
                  <p:nvPr/>
                </p:nvSpPr>
                <p:spPr>
                  <a:xfrm flipH="1" flipV="1" rot="2640000">
                    <a:off x="5889240" y="22521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82" name="AutoShape 138"/>
                  <p:cNvSpPr/>
                  <p:nvPr/>
                </p:nvSpPr>
                <p:spPr>
                  <a:xfrm flipH="1" flipV="1" rot="3172200">
                    <a:off x="5844240" y="23004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283" name="Group 139"/>
                <p:cNvGrpSpPr/>
                <p:nvPr/>
              </p:nvGrpSpPr>
              <p:grpSpPr>
                <a:xfrm>
                  <a:off x="5464440" y="2315880"/>
                  <a:ext cx="743400" cy="510120"/>
                  <a:chOff x="5464440" y="2315880"/>
                  <a:chExt cx="743400" cy="510120"/>
                </a:xfrm>
              </p:grpSpPr>
              <p:sp>
                <p:nvSpPr>
                  <p:cNvPr id="284" name="AutoShape 140"/>
                  <p:cNvSpPr/>
                  <p:nvPr/>
                </p:nvSpPr>
                <p:spPr>
                  <a:xfrm flipH="1" flipV="1" rot="2881800">
                    <a:off x="5875200" y="227268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85" name="AutoShape 141"/>
                  <p:cNvSpPr/>
                  <p:nvPr/>
                </p:nvSpPr>
                <p:spPr>
                  <a:xfrm flipH="1" flipV="1" rot="3697200">
                    <a:off x="5801400" y="233424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86" name="AutoShape 142"/>
                  <p:cNvSpPr/>
                  <p:nvPr/>
                </p:nvSpPr>
                <p:spPr>
                  <a:xfrm flipH="1" flipV="1" rot="3993000">
                    <a:off x="5751360" y="235764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87" name="AutoShape 143"/>
                  <p:cNvSpPr/>
                  <p:nvPr/>
                </p:nvSpPr>
                <p:spPr>
                  <a:xfrm flipH="1" flipV="1" rot="4525200">
                    <a:off x="5690520" y="238392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</p:grpSp>
        </p:grpSp>
        <p:grpSp>
          <p:nvGrpSpPr>
            <p:cNvPr id="288" name="Group 144"/>
            <p:cNvGrpSpPr/>
            <p:nvPr/>
          </p:nvGrpSpPr>
          <p:grpSpPr>
            <a:xfrm>
              <a:off x="5573160" y="2156040"/>
              <a:ext cx="677520" cy="617760"/>
              <a:chOff x="5573160" y="2156040"/>
              <a:chExt cx="677520" cy="617760"/>
            </a:xfrm>
          </p:grpSpPr>
          <p:grpSp>
            <p:nvGrpSpPr>
              <p:cNvPr id="289" name="Group 145"/>
              <p:cNvGrpSpPr/>
              <p:nvPr/>
            </p:nvGrpSpPr>
            <p:grpSpPr>
              <a:xfrm>
                <a:off x="5729040" y="2156040"/>
                <a:ext cx="521640" cy="611640"/>
                <a:chOff x="5729040" y="2156040"/>
                <a:chExt cx="521640" cy="611640"/>
              </a:xfrm>
            </p:grpSpPr>
            <p:sp>
              <p:nvSpPr>
                <p:cNvPr id="290" name="AutoShape 146"/>
                <p:cNvSpPr/>
                <p:nvPr/>
              </p:nvSpPr>
              <p:spPr>
                <a:xfrm flipH="1" flipV="1" rot="1528800">
                  <a:off x="6019560" y="215784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91" name="AutoShape 147"/>
                <p:cNvSpPr/>
                <p:nvPr/>
              </p:nvSpPr>
              <p:spPr>
                <a:xfrm flipH="1" flipV="1" rot="2344200">
                  <a:off x="5979600" y="2231640"/>
                  <a:ext cx="12456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92" name="AutoShape 148"/>
                <p:cNvSpPr/>
                <p:nvPr/>
              </p:nvSpPr>
              <p:spPr>
                <a:xfrm flipH="1" flipV="1" rot="2640000">
                  <a:off x="5946840" y="226836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93" name="AutoShape 149"/>
                <p:cNvSpPr/>
                <p:nvPr/>
              </p:nvSpPr>
              <p:spPr>
                <a:xfrm flipH="1" flipV="1" rot="3172200">
                  <a:off x="5906520" y="231048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294" name="Group 150"/>
              <p:cNvGrpSpPr/>
              <p:nvPr/>
            </p:nvGrpSpPr>
            <p:grpSpPr>
              <a:xfrm>
                <a:off x="5573160" y="2323800"/>
                <a:ext cx="654840" cy="450000"/>
                <a:chOff x="5573160" y="2323800"/>
                <a:chExt cx="654840" cy="450000"/>
              </a:xfrm>
            </p:grpSpPr>
            <p:sp>
              <p:nvSpPr>
                <p:cNvPr id="295" name="AutoShape 151"/>
                <p:cNvSpPr/>
                <p:nvPr/>
              </p:nvSpPr>
              <p:spPr>
                <a:xfrm flipH="1" flipV="1" rot="2881800">
                  <a:off x="5934240" y="22852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96" name="AutoShape 152"/>
                <p:cNvSpPr/>
                <p:nvPr/>
              </p:nvSpPr>
              <p:spPr>
                <a:xfrm flipH="1" flipV="1" rot="3697200">
                  <a:off x="5869440" y="23400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97" name="AutoShape 153"/>
                <p:cNvSpPr/>
                <p:nvPr/>
              </p:nvSpPr>
              <p:spPr>
                <a:xfrm flipH="1" flipV="1" rot="3993000">
                  <a:off x="5825520" y="23612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98" name="AutoShape 154"/>
                <p:cNvSpPr/>
                <p:nvPr/>
              </p:nvSpPr>
              <p:spPr>
                <a:xfrm flipH="1" flipV="1" rot="4525200">
                  <a:off x="5771520" y="23839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</p:grpSp>
        <p:sp>
          <p:nvSpPr>
            <p:cNvPr id="299" name="Rectangle 155"/>
            <p:cNvSpPr/>
            <p:nvPr/>
          </p:nvSpPr>
          <p:spPr>
            <a:xfrm>
              <a:off x="5364720" y="207000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300" name="Group 156"/>
          <p:cNvGrpSpPr/>
          <p:nvPr/>
        </p:nvGrpSpPr>
        <p:grpSpPr>
          <a:xfrm>
            <a:off x="4303440" y="3346560"/>
            <a:ext cx="829440" cy="845280"/>
            <a:chOff x="4303440" y="3346560"/>
            <a:chExt cx="829440" cy="845280"/>
          </a:xfrm>
        </p:grpSpPr>
        <p:pic>
          <p:nvPicPr>
            <p:cNvPr id="301" name="Picture 157" descr="circuler_1"/>
            <p:cNvPicPr/>
            <p:nvPr/>
          </p:nvPicPr>
          <p:blipFill>
            <a:blip r:embed="rId11"/>
            <a:stretch/>
          </p:blipFill>
          <p:spPr>
            <a:xfrm rot="4977000">
              <a:off x="4426560" y="3479760"/>
              <a:ext cx="57456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Oval 158"/>
            <p:cNvSpPr/>
            <p:nvPr/>
          </p:nvSpPr>
          <p:spPr>
            <a:xfrm rot="4977000">
              <a:off x="4428000" y="3477960"/>
              <a:ext cx="570960" cy="56700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>
                    <a:alpha val="50196"/>
                  </a:srgbClr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grpSp>
          <p:nvGrpSpPr>
            <p:cNvPr id="303" name="Group 159"/>
            <p:cNvGrpSpPr/>
            <p:nvPr/>
          </p:nvGrpSpPr>
          <p:grpSpPr>
            <a:xfrm>
              <a:off x="4407840" y="3540600"/>
              <a:ext cx="225000" cy="500040"/>
              <a:chOff x="4407840" y="3540600"/>
              <a:chExt cx="225000" cy="500040"/>
            </a:xfrm>
          </p:grpSpPr>
          <p:grpSp>
            <p:nvGrpSpPr>
              <p:cNvPr id="304" name="Group 160"/>
              <p:cNvGrpSpPr/>
              <p:nvPr/>
            </p:nvGrpSpPr>
            <p:grpSpPr>
              <a:xfrm>
                <a:off x="4413240" y="3633480"/>
                <a:ext cx="219600" cy="407160"/>
                <a:chOff x="4413240" y="3633480"/>
                <a:chExt cx="219600" cy="407160"/>
              </a:xfrm>
            </p:grpSpPr>
            <p:sp>
              <p:nvSpPr>
                <p:cNvPr id="305" name="AutoShape 161"/>
                <p:cNvSpPr/>
                <p:nvPr/>
              </p:nvSpPr>
              <p:spPr>
                <a:xfrm flipH="1" flipV="1" rot="8941800">
                  <a:off x="4485600" y="3740760"/>
                  <a:ext cx="74880" cy="30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306" name="AutoShape 162"/>
                <p:cNvSpPr/>
                <p:nvPr/>
              </p:nvSpPr>
              <p:spPr>
                <a:xfrm flipH="1" flipV="1" rot="9757200">
                  <a:off x="4461120" y="369684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307" name="AutoShape 163"/>
                <p:cNvSpPr/>
                <p:nvPr/>
              </p:nvSpPr>
              <p:spPr>
                <a:xfrm flipH="1" flipV="1" rot="10053000">
                  <a:off x="4454280" y="366840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308" name="AutoShape 164"/>
                <p:cNvSpPr/>
                <p:nvPr/>
              </p:nvSpPr>
              <p:spPr>
                <a:xfrm flipH="1" flipV="1" rot="10585200">
                  <a:off x="4447440" y="363528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309" name="Group 165"/>
              <p:cNvGrpSpPr/>
              <p:nvPr/>
            </p:nvGrpSpPr>
            <p:grpSpPr>
              <a:xfrm>
                <a:off x="4407840" y="3540600"/>
                <a:ext cx="169200" cy="422640"/>
                <a:chOff x="4407840" y="3540600"/>
                <a:chExt cx="169200" cy="422640"/>
              </a:xfrm>
            </p:grpSpPr>
            <p:sp>
              <p:nvSpPr>
                <p:cNvPr id="310" name="AutoShape 166"/>
                <p:cNvSpPr/>
                <p:nvPr/>
              </p:nvSpPr>
              <p:spPr>
                <a:xfrm flipH="1" flipV="1" rot="10294800">
                  <a:off x="4449240" y="3656880"/>
                  <a:ext cx="7524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311" name="AutoShape 167"/>
                <p:cNvSpPr/>
                <p:nvPr/>
              </p:nvSpPr>
              <p:spPr>
                <a:xfrm flipH="1" flipV="1" rot="11110200">
                  <a:off x="4444200" y="3607200"/>
                  <a:ext cx="7524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312" name="AutoShape 168"/>
                <p:cNvSpPr/>
                <p:nvPr/>
              </p:nvSpPr>
              <p:spPr>
                <a:xfrm flipH="1" flipV="1" rot="11406000">
                  <a:off x="4448160" y="3578760"/>
                  <a:ext cx="7524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313" name="AutoShape 169"/>
                <p:cNvSpPr/>
                <p:nvPr/>
              </p:nvSpPr>
              <p:spPr>
                <a:xfrm flipH="1" flipV="1" rot="11938200">
                  <a:off x="4454640" y="3544200"/>
                  <a:ext cx="75240" cy="30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</p:grpSp>
        <p:sp>
          <p:nvSpPr>
            <p:cNvPr id="314" name="Arc 170"/>
            <p:cNvSpPr/>
            <p:nvPr/>
          </p:nvSpPr>
          <p:spPr>
            <a:xfrm flipH="1" rot="1129200">
              <a:off x="4394520" y="3432960"/>
              <a:ext cx="646920" cy="672480"/>
            </a:xfrm>
            <a:custGeom>
              <a:avLst/>
              <a:gdLst/>
              <a:ahLst/>
              <a:rect l="l" t="t" r="r" b="b"/>
              <a:pathLst>
                <a:path fill="none" w="43200" h="43155">
                  <a:moveTo>
                    <a:pt x="3603" y="33544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2987"/>
                    <a:pt x="34359" y="42418"/>
                    <a:pt x="22995" y="43154"/>
                  </a:cubicBezTo>
                </a:path>
                <a:path stroke="0" w="43200" h="43155">
                  <a:moveTo>
                    <a:pt x="3603" y="33544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2987"/>
                    <a:pt x="34359" y="42418"/>
                    <a:pt x="22995" y="43154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pic>
          <p:nvPicPr>
            <p:cNvPr id="315" name="Picture 171" descr="light_shadow1"/>
            <p:cNvPicPr/>
            <p:nvPr/>
          </p:nvPicPr>
          <p:blipFill>
            <a:blip r:embed="rId12"/>
            <a:srcRect l="0" t="23720" r="0" b="0"/>
            <a:stretch/>
          </p:blipFill>
          <p:spPr>
            <a:xfrm rot="2407200">
              <a:off x="4583520" y="3510000"/>
              <a:ext cx="424440" cy="27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6" name="AutoShape 172"/>
          <p:cNvSpPr/>
          <p:nvPr/>
        </p:nvSpPr>
        <p:spPr>
          <a:xfrm>
            <a:off x="7075440" y="1922400"/>
            <a:ext cx="1509840" cy="366840"/>
          </a:xfrm>
          <a:noFill/>
          <a:ln w="9360">
            <a:solidFill>
              <a:srgbClr val="ea9c0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4. Description of the busines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7" name="AutoShape 173"/>
          <p:cNvSpPr/>
          <p:nvPr/>
        </p:nvSpPr>
        <p:spPr>
          <a:xfrm>
            <a:off x="6770520" y="3878280"/>
            <a:ext cx="1509840" cy="392040"/>
          </a:xfrm>
          <a:noFill/>
          <a:ln w="9360">
            <a:solidFill>
              <a:srgbClr val="969696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5. Description of the busines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8" name="AutoShape 174"/>
          <p:cNvSpPr/>
          <p:nvPr/>
        </p:nvSpPr>
        <p:spPr>
          <a:xfrm>
            <a:off x="907920" y="1714680"/>
            <a:ext cx="1594080" cy="434880"/>
          </a:xfrm>
          <a:noFill/>
          <a:ln w="9360">
            <a:solidFill>
              <a:srgbClr val="b639b9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. Description of the busines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9" name="AutoShape 175"/>
          <p:cNvSpPr/>
          <p:nvPr/>
        </p:nvSpPr>
        <p:spPr>
          <a:xfrm>
            <a:off x="133200" y="4030560"/>
            <a:ext cx="1594080" cy="435240"/>
          </a:xfrm>
          <a:noFill/>
          <a:ln w="9360">
            <a:solidFill>
              <a:srgbClr val="3973b9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. Description of the busines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20" name="AutoShape 176"/>
          <p:cNvSpPr/>
          <p:nvPr/>
        </p:nvSpPr>
        <p:spPr>
          <a:xfrm>
            <a:off x="361800" y="5337000"/>
            <a:ext cx="1509840" cy="392400"/>
          </a:xfrm>
          <a:noFill/>
          <a:ln w="9360">
            <a:solidFill>
              <a:srgbClr val="96ad23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3. Description of the busines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21" name="Rectangle 177"/>
          <p:cNvSpPr/>
          <p:nvPr/>
        </p:nvSpPr>
        <p:spPr>
          <a:xfrm>
            <a:off x="4545000" y="5456160"/>
            <a:ext cx="3335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22" name="Rectangle 178"/>
          <p:cNvSpPr/>
          <p:nvPr/>
        </p:nvSpPr>
        <p:spPr>
          <a:xfrm>
            <a:off x="4379760" y="5497560"/>
            <a:ext cx="42840" cy="7412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39440" y="595080"/>
            <a:ext cx="7775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1233360" y="1947960"/>
            <a:ext cx="575640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325" name="Group 4"/>
          <p:cNvGrpSpPr/>
          <p:nvPr/>
        </p:nvGrpSpPr>
        <p:grpSpPr>
          <a:xfrm>
            <a:off x="1076400" y="2355480"/>
            <a:ext cx="7513200" cy="3899160"/>
            <a:chOff x="1076400" y="2355480"/>
            <a:chExt cx="7513200" cy="3899160"/>
          </a:xfrm>
        </p:grpSpPr>
        <p:pic>
          <p:nvPicPr>
            <p:cNvPr id="326" name="Picture 5" descr="whiteline_008"/>
            <p:cNvPicPr/>
            <p:nvPr/>
          </p:nvPicPr>
          <p:blipFill>
            <a:blip r:embed="rId1"/>
            <a:stretch/>
          </p:blipFill>
          <p:spPr>
            <a:xfrm>
              <a:off x="5994720" y="2538360"/>
              <a:ext cx="2536560" cy="263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Picture 6" descr="whiteline_010"/>
            <p:cNvPicPr/>
            <p:nvPr/>
          </p:nvPicPr>
          <p:blipFill>
            <a:blip r:embed="rId2"/>
            <a:stretch/>
          </p:blipFill>
          <p:spPr>
            <a:xfrm>
              <a:off x="3372480" y="3009960"/>
              <a:ext cx="1907640" cy="19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Picture 7" descr="whiteline_006"/>
            <p:cNvPicPr/>
            <p:nvPr/>
          </p:nvPicPr>
          <p:blipFill>
            <a:blip r:embed="rId3"/>
            <a:stretch/>
          </p:blipFill>
          <p:spPr>
            <a:xfrm>
              <a:off x="1216800" y="3449520"/>
              <a:ext cx="1482840" cy="154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Line 8"/>
            <p:cNvSpPr/>
            <p:nvPr/>
          </p:nvSpPr>
          <p:spPr>
            <a:xfrm flipV="1">
              <a:off x="1076400" y="2355480"/>
              <a:ext cx="0" cy="3257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330" name="Line 9"/>
            <p:cNvSpPr/>
            <p:nvPr/>
          </p:nvSpPr>
          <p:spPr>
            <a:xfrm>
              <a:off x="1094040" y="5608800"/>
              <a:ext cx="74955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331" name="Rectangle 10"/>
            <p:cNvSpPr/>
            <p:nvPr/>
          </p:nvSpPr>
          <p:spPr>
            <a:xfrm>
              <a:off x="6224040" y="3587760"/>
              <a:ext cx="21722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escriptio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of the contents</a:t>
              </a: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332" name="Rectangle 11"/>
            <p:cNvSpPr/>
            <p:nvPr/>
          </p:nvSpPr>
          <p:spPr>
            <a:xfrm>
              <a:off x="3577320" y="3664080"/>
              <a:ext cx="1563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333" name="Rectangle 12"/>
            <p:cNvSpPr/>
            <p:nvPr/>
          </p:nvSpPr>
          <p:spPr>
            <a:xfrm>
              <a:off x="1316520" y="4044960"/>
              <a:ext cx="1240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escription of the contents</a:t>
              </a:r>
              <a:endParaRPr b="0" lang="en-US" sz="12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334" name="Line 13"/>
            <p:cNvSpPr/>
            <p:nvPr/>
          </p:nvSpPr>
          <p:spPr>
            <a:xfrm>
              <a:off x="3124080" y="5056200"/>
              <a:ext cx="0" cy="1198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335" name="Line 14"/>
            <p:cNvSpPr/>
            <p:nvPr/>
          </p:nvSpPr>
          <p:spPr>
            <a:xfrm>
              <a:off x="5407560" y="5056200"/>
              <a:ext cx="0" cy="1187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336" name="Text Box 15"/>
            <p:cNvSpPr/>
            <p:nvPr/>
          </p:nvSpPr>
          <p:spPr>
            <a:xfrm>
              <a:off x="1163160" y="5702400"/>
              <a:ext cx="187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04</a:t>
              </a:r>
              <a:endParaRPr b="0" lang="en-US" sz="1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337" name="Text Box 16"/>
            <p:cNvSpPr/>
            <p:nvPr/>
          </p:nvSpPr>
          <p:spPr>
            <a:xfrm>
              <a:off x="3330720" y="5702400"/>
              <a:ext cx="187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05</a:t>
              </a:r>
              <a:endParaRPr b="0" lang="en-US" sz="1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338" name="Text Box 17"/>
            <p:cNvSpPr/>
            <p:nvPr/>
          </p:nvSpPr>
          <p:spPr>
            <a:xfrm>
              <a:off x="5949720" y="5702400"/>
              <a:ext cx="187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06</a:t>
              </a:r>
              <a:endParaRPr b="0" lang="en-US" sz="1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pic>
          <p:nvPicPr>
            <p:cNvPr id="339" name="Picture 18" descr="R_chevron001"/>
            <p:cNvPicPr/>
            <p:nvPr/>
          </p:nvPicPr>
          <p:blipFill>
            <a:blip r:embed="rId4"/>
            <a:stretch/>
          </p:blipFill>
          <p:spPr>
            <a:xfrm>
              <a:off x="2804400" y="4073400"/>
              <a:ext cx="48888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Picture 19" descr="R_chevron001"/>
            <p:cNvPicPr/>
            <p:nvPr/>
          </p:nvPicPr>
          <p:blipFill>
            <a:blip r:embed="rId5"/>
            <a:stretch/>
          </p:blipFill>
          <p:spPr>
            <a:xfrm>
              <a:off x="5384880" y="4073400"/>
              <a:ext cx="490680" cy="576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36120" y="525240"/>
            <a:ext cx="7775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4370400" y="3765600"/>
            <a:ext cx="4267080" cy="9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7181f"/>
                </a:solidFill>
                <a:latin typeface="Arial"/>
                <a:ea typeface="宋体"/>
              </a:rPr>
              <a:t>2. Describe contents for a Char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4370400" y="2327400"/>
            <a:ext cx="4267080" cy="9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7181f"/>
                </a:solidFill>
                <a:latin typeface="Arial"/>
                <a:ea typeface="宋体"/>
              </a:rPr>
              <a:t>1. Describe contents for a Chart 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4" name="Line 5"/>
          <p:cNvSpPr/>
          <p:nvPr/>
        </p:nvSpPr>
        <p:spPr>
          <a:xfrm>
            <a:off x="4370400" y="3537000"/>
            <a:ext cx="4419720" cy="0"/>
          </a:xfrm>
          <a:prstGeom prst="line">
            <a:avLst/>
          </a:prstGeom>
          <a:ln w="9360">
            <a:solidFill>
              <a:srgbClr val="0000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5" name="AutoShape 6"/>
          <p:cNvSpPr/>
          <p:nvPr/>
        </p:nvSpPr>
        <p:spPr>
          <a:xfrm flipV="1" rot="16200000">
            <a:off x="2715120" y="3268440"/>
            <a:ext cx="212580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41a56"/>
              </a:gs>
              <a:gs pos="100000">
                <a:srgbClr val="b639b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6" name="AutoShape 7"/>
          <p:cNvSpPr/>
          <p:nvPr/>
        </p:nvSpPr>
        <p:spPr>
          <a:xfrm flipV="1" rot="16200000">
            <a:off x="3227760" y="1797120"/>
            <a:ext cx="11098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1a3556"/>
              </a:gs>
              <a:gs pos="100000">
                <a:srgbClr val="3973b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7" name="AutoShape 8"/>
          <p:cNvSpPr/>
          <p:nvPr/>
        </p:nvSpPr>
        <p:spPr>
          <a:xfrm flipV="1" rot="16200000">
            <a:off x="2065680" y="3516480"/>
            <a:ext cx="1631880" cy="7254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41a56"/>
              </a:gs>
              <a:gs pos="100000">
                <a:srgbClr val="b639b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8" name="AutoShape 9"/>
          <p:cNvSpPr/>
          <p:nvPr/>
        </p:nvSpPr>
        <p:spPr>
          <a:xfrm flipV="1" rot="16200000">
            <a:off x="2332080" y="2292480"/>
            <a:ext cx="1109520" cy="7156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1a3556"/>
              </a:gs>
              <a:gs pos="100000">
                <a:srgbClr val="3973b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9" name="AutoShape 10"/>
          <p:cNvSpPr/>
          <p:nvPr/>
        </p:nvSpPr>
        <p:spPr>
          <a:xfrm flipV="1" rot="16200000">
            <a:off x="1388160" y="3777480"/>
            <a:ext cx="116064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41a56"/>
              </a:gs>
              <a:gs pos="100000">
                <a:srgbClr val="b639b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0" name="AutoShape 11"/>
          <p:cNvSpPr/>
          <p:nvPr/>
        </p:nvSpPr>
        <p:spPr>
          <a:xfrm flipV="1" rot="16200000">
            <a:off x="1416240" y="2788200"/>
            <a:ext cx="110952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1a3556"/>
              </a:gs>
              <a:gs pos="100000">
                <a:srgbClr val="3973b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1" name="AutoShape 12"/>
          <p:cNvSpPr/>
          <p:nvPr/>
        </p:nvSpPr>
        <p:spPr>
          <a:xfrm flipV="1" rot="16200000">
            <a:off x="688320" y="3990960"/>
            <a:ext cx="735120" cy="7254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41a56"/>
              </a:gs>
              <a:gs pos="100000">
                <a:srgbClr val="b639b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2" name="AutoShape 13"/>
          <p:cNvSpPr/>
          <p:nvPr/>
        </p:nvSpPr>
        <p:spPr>
          <a:xfrm flipV="1" rot="16200000">
            <a:off x="503640" y="3214800"/>
            <a:ext cx="11098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1a3556"/>
              </a:gs>
              <a:gs pos="100000">
                <a:srgbClr val="3973b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3" name="Freeform 14"/>
          <p:cNvSpPr/>
          <p:nvPr/>
        </p:nvSpPr>
        <p:spPr>
          <a:xfrm flipH="1">
            <a:off x="874800" y="2181240"/>
            <a:ext cx="3022560" cy="2432160"/>
          </a:xfrm>
          <a:custGeom>
            <a:avLst/>
            <a:gdLst/>
            <a:ahLst/>
            <a:rect l="l" t="t" r="r" b="b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00006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4" name="Rectangle 15"/>
          <p:cNvSpPr/>
          <p:nvPr/>
        </p:nvSpPr>
        <p:spPr>
          <a:xfrm>
            <a:off x="779040" y="273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5" name="Rectangle 16"/>
          <p:cNvSpPr/>
          <p:nvPr/>
        </p:nvSpPr>
        <p:spPr>
          <a:xfrm>
            <a:off x="1701360" y="22431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6" name="Rectangle 17"/>
          <p:cNvSpPr/>
          <p:nvPr/>
        </p:nvSpPr>
        <p:spPr>
          <a:xfrm>
            <a:off x="2623680" y="17431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7" name="Rectangle 18"/>
          <p:cNvSpPr/>
          <p:nvPr/>
        </p:nvSpPr>
        <p:spPr>
          <a:xfrm>
            <a:off x="3503160" y="11793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8" name="AutoShape 19"/>
          <p:cNvSpPr/>
          <p:nvPr/>
        </p:nvSpPr>
        <p:spPr>
          <a:xfrm>
            <a:off x="927000" y="4924440"/>
            <a:ext cx="2930760" cy="452520"/>
          </a:xfrm>
          <a:prstGeom prst="roundRect">
            <a:avLst>
              <a:gd name="adj" fmla="val 50000"/>
            </a:avLst>
          </a:prstGeom>
          <a:solidFill>
            <a:srgbClr val="333399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9" name="Rectangle 20"/>
          <p:cNvSpPr/>
          <p:nvPr/>
        </p:nvSpPr>
        <p:spPr>
          <a:xfrm>
            <a:off x="1289160" y="496872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hart Title in here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0" name="Text Box 21"/>
          <p:cNvSpPr/>
          <p:nvPr/>
        </p:nvSpPr>
        <p:spPr>
          <a:xfrm>
            <a:off x="663480" y="324648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1" name="Text Box 22"/>
          <p:cNvSpPr/>
          <p:nvPr/>
        </p:nvSpPr>
        <p:spPr>
          <a:xfrm>
            <a:off x="1577880" y="275760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2" name="Text Box 23"/>
          <p:cNvSpPr/>
          <p:nvPr/>
        </p:nvSpPr>
        <p:spPr>
          <a:xfrm>
            <a:off x="2490840" y="2290680"/>
            <a:ext cx="63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3" name="Text Box 24"/>
          <p:cNvSpPr/>
          <p:nvPr/>
        </p:nvSpPr>
        <p:spPr>
          <a:xfrm>
            <a:off x="3370320" y="178596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66520" y="2031840"/>
            <a:ext cx="663876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2184480" y="2913120"/>
          <a:ext cx="5692680" cy="320976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520"/>
                <a:gridCol w="1139760"/>
                <a:gridCol w="1138320"/>
              </a:tblGrid>
              <a:tr h="558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4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66" name="Text Box 47"/>
          <p:cNvSpPr/>
          <p:nvPr/>
        </p:nvSpPr>
        <p:spPr>
          <a:xfrm>
            <a:off x="658800" y="29876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1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7" name="Text Box 48"/>
          <p:cNvSpPr/>
          <p:nvPr/>
        </p:nvSpPr>
        <p:spPr>
          <a:xfrm>
            <a:off x="658800" y="354492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2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8" name="Text Box 49"/>
          <p:cNvSpPr/>
          <p:nvPr/>
        </p:nvSpPr>
        <p:spPr>
          <a:xfrm>
            <a:off x="658800" y="406872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3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9" name="Text Box 50"/>
          <p:cNvSpPr/>
          <p:nvPr/>
        </p:nvSpPr>
        <p:spPr>
          <a:xfrm>
            <a:off x="658800" y="458316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4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0" name="Text Box 51"/>
          <p:cNvSpPr/>
          <p:nvPr/>
        </p:nvSpPr>
        <p:spPr>
          <a:xfrm>
            <a:off x="658800" y="51166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5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1" name="Text Box 52"/>
          <p:cNvSpPr/>
          <p:nvPr/>
        </p:nvSpPr>
        <p:spPr>
          <a:xfrm>
            <a:off x="658800" y="565956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6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2" name="Rectangle 53"/>
          <p:cNvSpPr/>
          <p:nvPr/>
        </p:nvSpPr>
        <p:spPr>
          <a:xfrm>
            <a:off x="2185920" y="3027240"/>
            <a:ext cx="968400" cy="274680"/>
          </a:xfrm>
          <a:prstGeom prst="rect">
            <a:avLst/>
          </a:prstGeom>
          <a:gradFill rotWithShape="0">
            <a:gsLst>
              <a:gs pos="0">
                <a:srgbClr val="3973b9"/>
              </a:gs>
              <a:gs pos="100000">
                <a:srgbClr val="88abd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3" name="Rectangle 54"/>
          <p:cNvSpPr/>
          <p:nvPr/>
        </p:nvSpPr>
        <p:spPr>
          <a:xfrm>
            <a:off x="2185920" y="3587760"/>
            <a:ext cx="849240" cy="274680"/>
          </a:xfrm>
          <a:prstGeom prst="rect">
            <a:avLst/>
          </a:prstGeom>
          <a:gradFill rotWithShape="0">
            <a:gsLst>
              <a:gs pos="0">
                <a:srgbClr val="ea9c00"/>
              </a:gs>
              <a:gs pos="100000">
                <a:srgbClr val="f2c4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4" name="Rectangle 55"/>
          <p:cNvSpPr/>
          <p:nvPr/>
        </p:nvSpPr>
        <p:spPr>
          <a:xfrm>
            <a:off x="2185920" y="4130640"/>
            <a:ext cx="419040" cy="274680"/>
          </a:xfrm>
          <a:prstGeom prst="rect">
            <a:avLst/>
          </a:prstGeom>
          <a:gradFill rotWithShape="0">
            <a:gsLst>
              <a:gs pos="0">
                <a:srgbClr val="96ad23"/>
              </a:gs>
              <a:gs pos="100000">
                <a:srgbClr val="c0ce7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5" name="Rectangle 56"/>
          <p:cNvSpPr/>
          <p:nvPr/>
        </p:nvSpPr>
        <p:spPr>
          <a:xfrm>
            <a:off x="2185920" y="4633920"/>
            <a:ext cx="1316160" cy="274680"/>
          </a:xfrm>
          <a:prstGeom prst="rect">
            <a:avLst/>
          </a:prstGeom>
          <a:gradFill rotWithShape="0">
            <a:gsLst>
              <a:gs pos="0">
                <a:srgbClr val="b639b9"/>
              </a:gs>
              <a:gs pos="100000">
                <a:srgbClr val="d388d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6" name="Rectangle 57"/>
          <p:cNvSpPr/>
          <p:nvPr/>
        </p:nvSpPr>
        <p:spPr>
          <a:xfrm>
            <a:off x="2185920" y="5187960"/>
            <a:ext cx="3573360" cy="27468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a3a3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7" name="Rectangle 58"/>
          <p:cNvSpPr/>
          <p:nvPr/>
        </p:nvSpPr>
        <p:spPr>
          <a:xfrm>
            <a:off x="2185920" y="5721480"/>
            <a:ext cx="4726080" cy="274680"/>
          </a:xfrm>
          <a:prstGeom prst="rect">
            <a:avLst/>
          </a:prstGeom>
          <a:gradFill rotWithShape="0">
            <a:gsLst>
              <a:gs pos="0">
                <a:srgbClr val="ad67aa"/>
              </a:gs>
              <a:gs pos="100000">
                <a:srgbClr val="cea4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8" name="Text Box 59"/>
          <p:cNvSpPr/>
          <p:nvPr/>
        </p:nvSpPr>
        <p:spPr>
          <a:xfrm>
            <a:off x="2084400" y="616428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9" name="Text Box 60"/>
          <p:cNvSpPr/>
          <p:nvPr/>
        </p:nvSpPr>
        <p:spPr>
          <a:xfrm>
            <a:off x="3321000" y="30081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8.5%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0" name="Text Box 61"/>
          <p:cNvSpPr/>
          <p:nvPr/>
        </p:nvSpPr>
        <p:spPr>
          <a:xfrm>
            <a:off x="3298680" y="35798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7.5%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1" name="Text Box 62"/>
          <p:cNvSpPr/>
          <p:nvPr/>
        </p:nvSpPr>
        <p:spPr>
          <a:xfrm>
            <a:off x="2725560" y="41133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8.7%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2" name="Text Box 63"/>
          <p:cNvSpPr/>
          <p:nvPr/>
        </p:nvSpPr>
        <p:spPr>
          <a:xfrm>
            <a:off x="3632040" y="46274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3.6%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3" name="Text Box 64"/>
          <p:cNvSpPr/>
          <p:nvPr/>
        </p:nvSpPr>
        <p:spPr>
          <a:xfrm>
            <a:off x="5870520" y="51735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63.6%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4" name="Text Box 65"/>
          <p:cNvSpPr/>
          <p:nvPr/>
        </p:nvSpPr>
        <p:spPr>
          <a:xfrm>
            <a:off x="7012080" y="57103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84.3%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5" name="Rectangle 66"/>
          <p:cNvSpPr/>
          <p:nvPr/>
        </p:nvSpPr>
        <p:spPr>
          <a:xfrm>
            <a:off x="839880" y="1189080"/>
            <a:ext cx="55497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4:48:09Z</dcterms:created>
  <dc:creator>微软用户</dc:creator>
  <dc:description/>
  <dc:language>en-US</dc:language>
  <cp:lastModifiedBy>Administrator</cp:lastModifiedBy>
  <dcterms:modified xsi:type="dcterms:W3CDTF">2017-07-08T14:13:22Z</dcterms:modified>
  <cp:revision>17</cp:revision>
  <dc:subject/>
  <dc:title>ThemeGallery  Power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35</vt:lpwstr>
  </property>
</Properties>
</file>