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C75-ACC3-4380-8D07-F323D46F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A21-581C-4D53-A9F9-F7508EF3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91B0-BC5D-4435-98F9-8272FA8D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661-7AE7-41F7-AC5A-2F0B3D3A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B2D-162B-4A68-9702-9CF9DFD8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0F6-81AC-4FCC-A0CD-C1F01D4C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715-C6DD-460D-8468-1DE6AC2C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E4A-BDA4-4089-9EC8-E4709E3D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18A-3874-4F0B-A384-E6D95F28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960-321C-4180-B71A-F8DD14D0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BA0-2F51-46BA-B5D5-D6CC824C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227-A076-40F1-A9C8-2E2339E3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9453-FF51-474A-B94B-F1BB47D47A43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AFE0-F17B-408B-8F55-09DFD4604F9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560520"/>
            <a:chOff x="2916360" y="1522440"/>
            <a:chExt cx="1206360" cy="56052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60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85184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务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104472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务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曹阳</cp:lastModifiedBy>
  <dcterms:modified xsi:type="dcterms:W3CDTF">2016-09-28T09:19:59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