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ED8-BA33-4C59-B343-4A5B78DD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635-B17A-4A15-A7DA-2EEF372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E8F-2031-4A15-9626-EB595BC3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24E-C245-4CC7-94E0-2CEA2429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6F0-9B14-4E28-826B-C5A522DF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13E-EFFC-41A4-9B67-4FAF7F4D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EB1-BCF3-491D-8671-6D09F4D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E8D-0E66-46AA-95B4-A1347F6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38C-DFCC-4CD5-AC57-9DD59CBC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B3B-FC93-4ACA-956B-066E332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F1C-6794-4ECB-A8A8-4FEFA37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5E9-DEB3-4762-AB21-755F1B0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8DD-269D-40FC-8B35-CCD42129029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E3F1-CD76-4FCF-ABDB-C121F260FB1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560520"/>
            <a:chOff x="2916360" y="1522440"/>
            <a:chExt cx="1206360" cy="56052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6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85184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104472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曹阳</cp:lastModifiedBy>
  <dcterms:modified xsi:type="dcterms:W3CDTF">2016-09-28T09:19:59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