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CC8-FA76-40F7-AF2B-1E416AB3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82A-8A3C-439B-9D1E-ACE0A25B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6710D-1435-44B1-9C3D-0D841AE9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452CA-3B03-4620-939E-76D22AC6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54A2F-4E6F-4795-9C63-F6988E99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11264-8315-458E-96FC-074F476C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B9F8C-1DAA-4AB6-80D5-9DD9FA29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CF2CB-AD73-4885-86C3-7A2BD566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F3727-02A9-4A05-A543-26CD54EC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8B618-BC45-4D83-A33C-160D7000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86352-36AD-406E-8A3E-EE95BC89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467B1-5614-4155-A03E-4DC88FAD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65D-70CA-4994-B2F8-0E92962E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7E3B6-EDE6-4766-B57E-684B6FA2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6FD45-1889-444A-8258-27C91FE7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08935-B418-4B13-9FC9-7A6F2DC9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35EE8-56BC-4A7C-9933-56660A9B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22580-2053-4918-A894-53190597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F3192-9F9A-4859-A6DD-79DFE317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6A6C8-F112-43AF-8365-55991C6A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C2AD9-6F7A-40A5-8B4B-43A81F3C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0683D-62A5-4C48-97EB-62AC412B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3102A-119F-49CE-AEBA-244B1049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C21-A5D1-47C4-918C-3B2DF87A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E0F5B-0428-46E7-A01F-A9CBB7EC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FA36B-A804-4522-B6B5-E467EAD4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C5CE2-CE15-4541-ADDB-94ADA06B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2DEAA-2231-4748-854C-C171A2F0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30E6B-B470-4462-8B20-5FE1A234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B7A82-52F9-48EA-A6F7-5DA99443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4E2DF-2FCA-4B83-AA1D-7183D85F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6FD48-1C05-4D05-8575-559586EE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FF191-D78E-48EB-82C4-C6D77722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B89F2-D555-40CC-A068-AB8C6B9E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3BFA-85D7-43D7-B930-9C504013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21268-EF10-43A1-8466-3EA385DC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F67D7-1DAE-4B3C-A9CB-6BC1FD32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FB3F1-6290-4651-B304-990C9D41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98F9E-662A-4FE3-89D4-FBEB83CC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AA57C-BAD9-45AC-B390-D711A093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14CF6-2D28-4E7E-A4DC-D522E4C5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D3FDA-5FD2-4439-8DBB-73474053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C7447-D962-43A5-9BEA-6935AEE8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3C597-49B1-48D2-B2A5-BC74C587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3E68C-FAAB-478E-9986-A6C9689C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9165-A06C-4108-AA85-CEB8D4C3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C25FE-F1A5-4477-9CBB-F1431131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9B131-46AD-4C69-BC72-0F6ABE9C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9BE9D-7DA4-44D5-B084-9D30F7F0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D969B-297F-4401-8E36-91F2B3B4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94B5D-0D1C-4DE3-A5A5-3D720228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A1A4-F070-451C-BDFC-05EA26F3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601C-AA9D-4263-9A37-7D8A1FD9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AC20-49B0-4A17-993B-FEBD15D5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0344-1236-42B3-BDFE-FE9DE255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44C8-833F-4903-B82A-CD4B8E24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ED0-CB59-46AB-BE7A-09A0C04C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3706-7FFB-46AC-B3CA-4F3B5CCF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BA30-4D82-4B4C-A8FC-5CBB6140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40C9-BA9A-4E76-A812-CF2B428C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5E79-DF00-40EF-ABFB-40A4172A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25D3-93CB-417F-BC3C-8E9FC1A0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5DD2C-DFA5-43E5-A284-5379902C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E86B0-F4D8-4C34-8E65-B2A81BC8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4FDD6-C0F7-4AF7-BB3D-87C7E9C3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30BD7-CA24-44A3-AED6-21AF29E2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D9C99-8835-4E21-9C16-5598FC78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A15-62B3-42FF-81EF-9A456BFA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B3C9D-BD2D-4A2E-9DB4-D4BBECB9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8D782-B0E9-48FF-8A4F-8FE9D2BA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834AC-405E-4CF4-85D8-33ACF926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A2315-5007-4103-88F4-4298EAD7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ED556-5B41-48C7-A3C8-1E310236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E6CAF-BA13-4CE4-B1D8-CEFDA759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FFB45-E988-4023-A0DA-87C47C93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F2AA9-4954-498B-88E8-C8FBE068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DC69C-92B0-4AAA-B0E7-DDDED4F8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A8D1-E58F-4537-963D-9FEEF8EA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2C3-A74C-426A-9CBC-2BCD0661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44BF2-649D-439B-88E6-19685E5D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73037-292A-4B38-A6D7-D5D0B492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8A3E-C855-4868-AFAD-4F4A6032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B303F-6B45-41E8-A25B-1E8F79EE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B3E3E-C1D9-4F90-9E07-6AEDC06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3A1F7-5F51-4FA1-86C7-1953F131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9C00D-52CC-4B98-A677-31FE33FA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D0988-B774-4229-9FF9-4CCD1198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F54C2-5E87-44C5-81AB-750BBDE5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08613-2058-4A1E-B87E-3A04686A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E14-4270-4B30-AE72-A3B0A7AF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3A836-6B2D-4E8D-8A8C-8D6E2A97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E9752-2B73-4B11-A508-12B08C2B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38DEE-70DE-4AE0-BF1A-550AF4D5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B44FB-CA8B-447A-AD82-7EE44B05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67282-7D8E-4A09-8EB2-FA7B77D2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4242A-F94F-4BFB-B161-8A91DA9B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8BA9F-959F-4E7E-9AAE-BC2DEBC7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ADC37-22CE-4D98-8136-334C57C9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451DE-E628-4525-A62B-F522A234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1CB4A-8C9F-42C1-8A01-FAFCE8AB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FFC-D99F-46AD-B21D-A7735285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D3028-C46C-4121-AB9B-BA668C49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C615E-2B49-4FE9-A3F3-345D8B85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43CD7-B342-49BF-889D-EBDF2D93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76961-F31A-4EAB-AEDA-33F94DEE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05883-64D0-4611-A0EE-5F7C1B72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A4A04-631A-4216-BF49-7C52ABAD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A14FF-DC64-4A66-BF44-FCD1CCEA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0AFA9-53E7-473E-951B-B7715E1B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65C64-217B-425C-91DD-094020B4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05FBA-CD06-4907-B8CB-BE6A4FEB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CC2-B6CB-46C2-8B8E-E0CE2362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D88E4-3B80-4FD9-BDA1-C8E1278D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54098-ACE6-400B-B1B1-2D01DDC9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A03C5-A46D-40B1-B2C2-A361B9FA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42696-5F0E-44EB-9C7B-46B1709A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2E87B-4C0A-4B93-A092-B91DC25E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B4126-C0BD-4698-AE69-7AF3A71F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297DE-66A5-44F5-BF12-4F2CAD49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5ABA5-0675-4A39-ADEA-8DCF5037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F72BD-439A-4C4E-A831-7A31D82A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7151B-FD79-4509-857E-26018EB7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5CD-024A-4FA2-9167-B2EA5A44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F49B9-E83F-465B-8574-B25504E6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4C0D3-E5FC-4990-B39C-42D6D4F9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3D387-2227-41B7-9474-EEA2CCA4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5ACFE-FDA7-46C8-8F29-17EFD7A1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45212-D7B3-4D67-AD3B-0E22C300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1E470-8DA3-4523-9FAA-FDDA6A7F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71C84-99E1-4C27-9EDD-DD088521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44B96-9C96-416F-8257-39535404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D1113-2DFF-419A-909F-9DBE9F13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3265A-1EBC-4C92-B7C3-EA3A268E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DF9-72E2-4555-AC61-4EF5B72F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AFD59-6AFB-4DFA-95AE-C769E1D9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A0C63-B254-46F0-A72E-6E0CCCE8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43366-A8ED-4C9C-A2F4-AF345AF2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854BF-F0CD-4D1A-A5CA-2BD8979E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D3D6C-1AEF-4696-AAF4-C2613470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E81E7-594F-453C-9C5A-E0E6830D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23947-3323-4DCF-9FB6-1E078ADB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29A2C-AE95-4528-832D-BDCBE685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D2847-C99A-4B45-A17C-75139EF0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FF7A9-D33D-4009-907C-8744657F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3C11-2216-4067-BA97-384FA242BC2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F212-D82D-4D8B-9A34-1FC6E99F61F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E0D4-8481-4B95-8FDD-16257B733C2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9057-1D90-41ED-8B27-E3A99165461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6292-0F3C-4F27-9E2B-3AB2CD40FBC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02FE-4EAC-4EFE-9680-AD72C3F30A5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A350-6FBE-436E-ADA3-B0B64934812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94EF-9D0F-411E-ADDB-7B0607CC07E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C4E2-70FC-43B9-9369-7BA49CCEDBC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055B-D3DA-44D2-A38F-965EF10876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93C1-89D8-471F-BF1A-7FE5FA75A56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D87C-70E4-4717-9294-9C400D81295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2B06-BD46-4A15-BE08-38D1457CC34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51D7-89F8-488D-93C7-A982E0D4678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640E-09C6-475D-AF29-FAE4E485530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EFF3-890C-44A7-9643-F93AA40958A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8993-F7D8-4E47-B446-19D338C7BF2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3902-E14E-4591-ACF2-BADBC3C4894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A4D7-4C79-4FD3-85B7-8DF6FF0192B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A356-F28B-415A-A6C7-59235291A23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924B-F700-4E51-B96A-2579729B1A4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AD22-F2D4-45EC-92FD-FA61F5B0E69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2006-8B10-4E2F-B26B-D9C1ED376C9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AEE0-AE6E-4CFB-8472-E441A73F580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ET (5)"/>
          <p:cNvPicPr/>
          <p:nvPr/>
        </p:nvPicPr>
        <p:blipFill>
          <a:blip r:embed="rId1"/>
          <a:stretch/>
        </p:blipFill>
        <p:spPr>
          <a:xfrm>
            <a:off x="3240" y="3240"/>
            <a:ext cx="9178920" cy="68864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ET (5)"/>
          <p:cNvPicPr/>
          <p:nvPr/>
        </p:nvPicPr>
        <p:blipFill>
          <a:blip r:embed="rId2"/>
          <a:stretch/>
        </p:blipFill>
        <p:spPr>
          <a:xfrm>
            <a:off x="1690560" y="44280"/>
            <a:ext cx="4230720" cy="2892600"/>
          </a:xfrm>
          <a:prstGeom prst="rect">
            <a:avLst/>
          </a:prstGeom>
          <a:ln w="0">
            <a:noFill/>
          </a:ln>
        </p:spPr>
      </p:pic>
      <p:sp>
        <p:nvSpPr>
          <p:cNvPr id="506" name="WordArt 4"/>
          <p:cNvSpPr txBox="1"/>
          <p:nvPr/>
        </p:nvSpPr>
        <p:spPr>
          <a:xfrm>
            <a:off x="1474920" y="1268280"/>
            <a:ext cx="6338880" cy="824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201X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儿童节</a:t>
            </a: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PPT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模板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00cc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9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cxnSp>
        <p:nvCxnSpPr>
          <p:cNvPr id="730" name="直接箭头​​连接符 22"/>
          <p:cNvCxnSpPr/>
          <p:nvPr/>
        </p:nvCxnSpPr>
        <p:spPr>
          <a:xfrm flipV="1">
            <a:off x="7846560" y="3112560"/>
            <a:ext cx="2520" cy="2265840"/>
          </a:xfrm>
          <a:prstGeom prst="straightConnector1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731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4"/>
          <p:cNvSpPr/>
          <p:nvPr/>
        </p:nvSpPr>
        <p:spPr>
          <a:xfrm>
            <a:off x="180648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6"/>
          <p:cNvSpPr/>
          <p:nvPr/>
        </p:nvSpPr>
        <p:spPr>
          <a:xfrm>
            <a:off x="187956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  <a:ea typeface="宋体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38"/>
          <p:cNvSpPr/>
          <p:nvPr/>
        </p:nvSpPr>
        <p:spPr>
          <a:xfrm>
            <a:off x="192708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749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7"/>
          <p:cNvGrpSpPr/>
          <p:nvPr/>
        </p:nvGrpSpPr>
        <p:grpSpPr>
          <a:xfrm>
            <a:off x="3052080" y="1764000"/>
            <a:ext cx="4131360" cy="4350600"/>
            <a:chOff x="3052080" y="1764000"/>
            <a:chExt cx="4131360" cy="4350600"/>
          </a:xfrm>
        </p:grpSpPr>
        <p:sp>
          <p:nvSpPr>
            <p:cNvPr id="752" name="椭圆 8"/>
            <p:cNvSpPr/>
            <p:nvPr/>
          </p:nvSpPr>
          <p:spPr>
            <a:xfrm>
              <a:off x="5717880" y="315324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环形箭头 9"/>
            <p:cNvSpPr/>
            <p:nvPr/>
          </p:nvSpPr>
          <p:spPr>
            <a:xfrm rot="4677000">
              <a:off x="3207960" y="2268360"/>
              <a:ext cx="3735360" cy="334152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0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755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758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/>
              <a:ahLst/>
              <a:rect l="l" t="t" r="r" b="b"/>
              <a:pathLst>
                <a:path w="23878" h="11274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1"/>
          <p:cNvSpPr/>
          <p:nvPr/>
        </p:nvSpPr>
        <p:spPr>
          <a:xfrm>
            <a:off x="2792520" y="623880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6" name="Group 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767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0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1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9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773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5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779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21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785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27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791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亮亮图文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798" name="TextBox 2"/>
            <p:cNvSpPr/>
            <p:nvPr/>
          </p:nvSpPr>
          <p:spPr>
            <a:xfrm>
              <a:off x="193428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直接连接符​​ 6"/>
            <p:cNvSpPr/>
            <p:nvPr/>
          </p:nvSpPr>
          <p:spPr>
            <a:xfrm flipV="1">
              <a:off x="2747880" y="1897200"/>
              <a:ext cx="3043440" cy="2880"/>
            </a:xfrm>
            <a:prstGeom prst="line">
              <a:avLst/>
            </a:prstGeom>
            <a:ln w="5724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 5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801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椭圆​​ 40"/>
              <p:cNvSpPr/>
              <p:nvPr/>
            </p:nvSpPr>
            <p:spPr>
              <a:xfrm rot="16200000">
                <a:off x="5872320" y="1631520"/>
                <a:ext cx="1484280" cy="148104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矩形​​ 9"/>
            <p:cNvSpPr/>
            <p:nvPr/>
          </p:nvSpPr>
          <p:spPr>
            <a:xfrm>
              <a:off x="1442880" y="1630440"/>
              <a:ext cx="2232000" cy="26964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10"/>
            <p:cNvGrpSpPr/>
            <p:nvPr/>
          </p:nvGrpSpPr>
          <p:grpSpPr>
            <a:xfrm>
              <a:off x="6365160" y="1900440"/>
              <a:ext cx="498600" cy="457200"/>
              <a:chOff x="6365160" y="1900440"/>
              <a:chExt cx="498600" cy="457200"/>
            </a:xfrm>
          </p:grpSpPr>
          <p:sp>
            <p:nvSpPr>
              <p:cNvPr id="806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3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 txBox="1"/>
              <p:nvPr/>
            </p:nvSpPr>
            <p:spPr>
              <a:xfrm>
                <a:off x="6516000" y="1900440"/>
                <a:ext cx="184320" cy="1648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Group 14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810" name="TextBox 3"/>
            <p:cNvSpPr/>
            <p:nvPr/>
          </p:nvSpPr>
          <p:spPr>
            <a:xfrm>
              <a:off x="278172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直接连接符​​ 10"/>
            <p:cNvSpPr/>
            <p:nvPr/>
          </p:nvSpPr>
          <p:spPr>
            <a:xfrm flipV="1">
              <a:off x="3593880" y="3343320"/>
              <a:ext cx="3044880" cy="2880"/>
            </a:xfrm>
            <a:prstGeom prst="line">
              <a:avLst/>
            </a:prstGeom>
            <a:ln w="5724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17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813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椭圆​​ 38"/>
              <p:cNvSpPr/>
              <p:nvPr/>
            </p:nvSpPr>
            <p:spPr>
              <a:xfrm rot="16200000">
                <a:off x="6719760" y="3077640"/>
                <a:ext cx="1484280" cy="148104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​​ 13"/>
            <p:cNvSpPr/>
            <p:nvPr/>
          </p:nvSpPr>
          <p:spPr>
            <a:xfrm>
              <a:off x="2298600" y="3076560"/>
              <a:ext cx="2232000" cy="26964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>
              <a:off x="7511760" y="3295440"/>
              <a:ext cx="105840" cy="48708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7338960" y="3298680"/>
              <a:ext cx="114480" cy="49068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 rot="5400000">
              <a:off x="7436160" y="3490200"/>
              <a:ext cx="64080" cy="37980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 txBox="1"/>
            <p:nvPr/>
          </p:nvSpPr>
          <p:spPr>
            <a:xfrm rot="5400000">
              <a:off x="7440480" y="3206520"/>
              <a:ext cx="64080" cy="379800"/>
            </a:xfrm>
            <a:prstGeom prst="rect">
              <a:avLst/>
            </a:pr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29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825" name="TextBox 4"/>
            <p:cNvSpPr/>
            <p:nvPr/>
          </p:nvSpPr>
          <p:spPr>
            <a:xfrm>
              <a:off x="197208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亮亮图文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直接连接符​​ 14"/>
            <p:cNvSpPr/>
            <p:nvPr/>
          </p:nvSpPr>
          <p:spPr>
            <a:xfrm flipV="1">
              <a:off x="2784240" y="4791240"/>
              <a:ext cx="3044880" cy="2880"/>
            </a:xfrm>
            <a:prstGeom prst="line">
              <a:avLst/>
            </a:prstGeom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32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828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椭圆​​ 36"/>
              <p:cNvSpPr/>
              <p:nvPr/>
            </p:nvSpPr>
            <p:spPr>
              <a:xfrm rot="16200000">
                <a:off x="5910120" y="4525560"/>
                <a:ext cx="1484280" cy="148104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​​ 17"/>
            <p:cNvSpPr/>
            <p:nvPr/>
          </p:nvSpPr>
          <p:spPr>
            <a:xfrm>
              <a:off x="1488960" y="4524480"/>
              <a:ext cx="2232000" cy="26964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Group 37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833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文本框 1"/>
          <p:cNvSpPr/>
          <p:nvPr/>
        </p:nvSpPr>
        <p:spPr>
          <a:xfrm>
            <a:off x="3200400" y="6094440"/>
            <a:ext cx="439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2"/>
          <p:cNvSpPr/>
          <p:nvPr/>
        </p:nvSpPr>
        <p:spPr>
          <a:xfrm>
            <a:off x="2792520" y="6002280"/>
            <a:ext cx="42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07100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3"/>
          <p:cNvSpPr/>
          <p:nvPr/>
        </p:nvSpPr>
        <p:spPr>
          <a:xfrm>
            <a:off x="107100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15"/>
          <p:cNvSpPr/>
          <p:nvPr/>
        </p:nvSpPr>
        <p:spPr>
          <a:xfrm>
            <a:off x="107100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描述，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  <a:ea typeface="宋体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Group 2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855" name="直接连接符​​ 15"/>
            <p:cNvSpPr/>
            <p:nvPr/>
          </p:nvSpPr>
          <p:spPr>
            <a:xfrm flipV="1">
              <a:off x="551664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6" name="直接箭头​​连接符 16"/>
            <p:cNvCxnSpPr/>
            <p:nvPr/>
          </p:nvCxnSpPr>
          <p:spPr>
            <a:xfrm>
              <a:off x="5484960" y="301716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round/>
              <a:tailEnd len="med" type="triangle" w="sm"/>
            </a:ln>
          </p:spPr>
        </p:cxnSp>
      </p:grpSp>
      <p:cxnSp>
        <p:nvCxnSpPr>
          <p:cNvPr id="857" name="直接箭头​​连接符 18"/>
          <p:cNvCxnSpPr/>
          <p:nvPr/>
        </p:nvCxnSpPr>
        <p:spPr>
          <a:xfrm flipH="1">
            <a:off x="3668400" y="5398560"/>
            <a:ext cx="2160" cy="678600"/>
          </a:xfrm>
          <a:prstGeom prst="straightConnector1">
            <a:avLst/>
          </a:prstGeom>
          <a:ln w="57240">
            <a:solidFill>
              <a:srgbClr val="f79646"/>
            </a:solidFill>
            <a:round/>
            <a:tailEnd len="med" type="triangle" w="sm"/>
          </a:ln>
        </p:spPr>
      </p:cxnSp>
      <p:grpSp>
        <p:nvGrpSpPr>
          <p:cNvPr id="858" name="Group 6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859" name="直接连接符​​ 8"/>
            <p:cNvSpPr/>
            <p:nvPr/>
          </p:nvSpPr>
          <p:spPr>
            <a:xfrm flipV="1">
              <a:off x="345600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0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round/>
              <a:tailEnd len="med" type="triangle" w="sm"/>
            </a:ln>
          </p:spPr>
        </p:cxnSp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梯形 4"/>
          <p:cNvSpPr/>
          <p:nvPr/>
        </p:nvSpPr>
        <p:spPr>
          <a:xfrm flipV="1" rot="3589200">
            <a:off x="3819240" y="3451320"/>
            <a:ext cx="3241440" cy="31104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梯形 5"/>
          <p:cNvSpPr/>
          <p:nvPr/>
        </p:nvSpPr>
        <p:spPr>
          <a:xfrm flipV="1" rot="18057000">
            <a:off x="1928160" y="3419280"/>
            <a:ext cx="3192480" cy="31320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753" y="21600"/>
                </a:lnTo>
                <a:lnTo>
                  <a:pt x="178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25"/>
          <p:cNvSpPr/>
          <p:nvPr/>
        </p:nvSpPr>
        <p:spPr>
          <a:xfrm>
            <a:off x="107172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26"/>
          <p:cNvSpPr/>
          <p:nvPr/>
        </p:nvSpPr>
        <p:spPr>
          <a:xfrm>
            <a:off x="616896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27"/>
          <p:cNvSpPr/>
          <p:nvPr/>
        </p:nvSpPr>
        <p:spPr>
          <a:xfrm>
            <a:off x="404820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21"/>
          <p:cNvGrpSpPr/>
          <p:nvPr/>
        </p:nvGrpSpPr>
        <p:grpSpPr>
          <a:xfrm>
            <a:off x="7502400" y="2468520"/>
            <a:ext cx="324000" cy="387360"/>
            <a:chOff x="7502400" y="2468520"/>
            <a:chExt cx="324000" cy="387360"/>
          </a:xfrm>
        </p:grpSpPr>
        <p:sp>
          <p:nvSpPr>
            <p:cNvPr id="874" name=""/>
            <p:cNvSpPr txBox="1"/>
            <p:nvPr/>
          </p:nvSpPr>
          <p:spPr>
            <a:xfrm>
              <a:off x="7502400" y="2480040"/>
              <a:ext cx="324000" cy="375840"/>
            </a:xfrm>
            <a:prstGeom prst="rect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26"/>
          <p:cNvGrpSpPr/>
          <p:nvPr/>
        </p:nvGrpSpPr>
        <p:grpSpPr>
          <a:xfrm>
            <a:off x="3092400" y="5487840"/>
            <a:ext cx="284040" cy="446040"/>
            <a:chOff x="3092400" y="5487840"/>
            <a:chExt cx="284040" cy="446040"/>
          </a:xfrm>
        </p:grpSpPr>
        <p:grpSp>
          <p:nvGrpSpPr>
            <p:cNvPr id="879" name="Group 27"/>
            <p:cNvGrpSpPr/>
            <p:nvPr/>
          </p:nvGrpSpPr>
          <p:grpSpPr>
            <a:xfrm>
              <a:off x="3194280" y="5487840"/>
              <a:ext cx="84960" cy="364320"/>
              <a:chOff x="3194280" y="5487840"/>
              <a:chExt cx="84960" cy="364320"/>
            </a:xfrm>
          </p:grpSpPr>
          <p:sp>
            <p:nvSpPr>
              <p:cNvPr id="880" name=""/>
              <p:cNvSpPr txBox="1"/>
              <p:nvPr/>
            </p:nvSpPr>
            <p:spPr>
              <a:xfrm>
                <a:off x="3220920" y="548784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 txBox="1"/>
              <p:nvPr/>
            </p:nvSpPr>
            <p:spPr>
              <a:xfrm>
                <a:off x="3254040" y="5589720"/>
                <a:ext cx="25200" cy="2624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>
                <a:off x="3194280" y="5587920"/>
                <a:ext cx="23400" cy="2624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3218400" y="5587920"/>
                <a:ext cx="38880" cy="2642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 txBox="1"/>
              <p:nvPr/>
            </p:nvSpPr>
            <p:spPr>
              <a:xfrm>
                <a:off x="3196080" y="5532120"/>
                <a:ext cx="81720" cy="698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33"/>
            <p:cNvGrpSpPr/>
            <p:nvPr/>
          </p:nvGrpSpPr>
          <p:grpSpPr>
            <a:xfrm>
              <a:off x="3291480" y="5557320"/>
              <a:ext cx="84960" cy="364320"/>
              <a:chOff x="3291480" y="5557320"/>
              <a:chExt cx="84960" cy="364320"/>
            </a:xfrm>
          </p:grpSpPr>
          <p:sp>
            <p:nvSpPr>
              <p:cNvPr id="886" name=""/>
              <p:cNvSpPr txBox="1"/>
              <p:nvPr/>
            </p:nvSpPr>
            <p:spPr>
              <a:xfrm>
                <a:off x="3318120" y="555732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3351240" y="5659200"/>
                <a:ext cx="252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 txBox="1"/>
              <p:nvPr/>
            </p:nvSpPr>
            <p:spPr>
              <a:xfrm>
                <a:off x="3291480" y="5657760"/>
                <a:ext cx="234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 txBox="1"/>
              <p:nvPr/>
            </p:nvSpPr>
            <p:spPr>
              <a:xfrm>
                <a:off x="3315240" y="5657760"/>
                <a:ext cx="39240" cy="2638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 txBox="1"/>
              <p:nvPr/>
            </p:nvSpPr>
            <p:spPr>
              <a:xfrm>
                <a:off x="3292920" y="5601600"/>
                <a:ext cx="82440" cy="6984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39"/>
            <p:cNvGrpSpPr/>
            <p:nvPr/>
          </p:nvGrpSpPr>
          <p:grpSpPr>
            <a:xfrm>
              <a:off x="3092400" y="5569560"/>
              <a:ext cx="84960" cy="364320"/>
              <a:chOff x="3092400" y="5569560"/>
              <a:chExt cx="84960" cy="364320"/>
            </a:xfrm>
          </p:grpSpPr>
          <p:sp>
            <p:nvSpPr>
              <p:cNvPr id="892" name=""/>
              <p:cNvSpPr txBox="1"/>
              <p:nvPr/>
            </p:nvSpPr>
            <p:spPr>
              <a:xfrm>
                <a:off x="3119040" y="5569560"/>
                <a:ext cx="28440" cy="5076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 txBox="1"/>
              <p:nvPr/>
            </p:nvSpPr>
            <p:spPr>
              <a:xfrm>
                <a:off x="3152160" y="5671800"/>
                <a:ext cx="252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 txBox="1"/>
              <p:nvPr/>
            </p:nvSpPr>
            <p:spPr>
              <a:xfrm>
                <a:off x="3092400" y="5670000"/>
                <a:ext cx="23400" cy="2620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 txBox="1"/>
              <p:nvPr/>
            </p:nvSpPr>
            <p:spPr>
              <a:xfrm>
                <a:off x="3116520" y="5670000"/>
                <a:ext cx="38880" cy="2638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 txBox="1"/>
              <p:nvPr/>
            </p:nvSpPr>
            <p:spPr>
              <a:xfrm>
                <a:off x="3093840" y="5614200"/>
                <a:ext cx="81720" cy="69480"/>
              </a:xfrm>
              <a:prstGeom prst="rect">
                <a:avLst/>
              </a:prstGeom>
              <a:noFill/>
              <a:ln w="12600">
                <a:solidFill>
                  <a:srgbClr val="f79646"/>
                </a:solidFill>
                <a:round/>
              </a:ln>
            </p:spPr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7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Group 46"/>
          <p:cNvGrpSpPr/>
          <p:nvPr/>
        </p:nvGrpSpPr>
        <p:grpSpPr>
          <a:xfrm>
            <a:off x="1305720" y="2463840"/>
            <a:ext cx="483120" cy="378000"/>
            <a:chOff x="1305720" y="2463840"/>
            <a:chExt cx="483120" cy="378000"/>
          </a:xfrm>
        </p:grpSpPr>
        <p:sp>
          <p:nvSpPr>
            <p:cNvPr id="899" name=""/>
            <p:cNvSpPr txBox="1"/>
            <p:nvPr/>
          </p:nvSpPr>
          <p:spPr>
            <a:xfrm rot="1584000">
              <a:off x="1360080" y="2527920"/>
              <a:ext cx="182520" cy="288000"/>
            </a:xfrm>
            <a:prstGeom prst="rect">
              <a:avLst/>
            </a:prstGeom>
            <a:solidFill>
              <a:srgbClr val="9bbb59">
                <a:alpha val="45000"/>
              </a:srgbClr>
            </a:solidFill>
            <a:ln w="28440">
              <a:solidFill>
                <a:srgbClr val="9bbb59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86"/>
            <p:cNvSpPr/>
            <p:nvPr/>
          </p:nvSpPr>
          <p:spPr>
            <a:xfrm flipH="1">
              <a:off x="148428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1516320" y="2463840"/>
              <a:ext cx="272520" cy="196920"/>
            </a:xfrm>
            <a:prstGeom prst="rect">
              <a:avLst/>
            </a:prstGeom>
            <a:noFill/>
            <a:ln w="28440">
              <a:solidFill>
                <a:srgbClr val="9bbb59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Group 3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905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椭圆​​ 4"/>
            <p:cNvSpPr/>
            <p:nvPr/>
          </p:nvSpPr>
          <p:spPr>
            <a:xfrm>
              <a:off x="3247200" y="2917800"/>
              <a:ext cx="267624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​​ 10"/>
          <p:cNvSpPr/>
          <p:nvPr/>
        </p:nvSpPr>
        <p:spPr>
          <a:xfrm>
            <a:off x="2513160" y="3284640"/>
            <a:ext cx="1440" cy="973080"/>
          </a:xfrm>
          <a:prstGeom prst="line">
            <a:avLst/>
          </a:prstGeom>
          <a:ln w="7632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​​ 12"/>
          <p:cNvSpPr/>
          <p:nvPr/>
        </p:nvSpPr>
        <p:spPr>
          <a:xfrm>
            <a:off x="5560920" y="1565280"/>
            <a:ext cx="1800" cy="971640"/>
          </a:xfrm>
          <a:prstGeom prst="line">
            <a:avLst/>
          </a:prstGeom>
          <a:ln w="7632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14"/>
          <p:cNvSpPr/>
          <p:nvPr/>
        </p:nvSpPr>
        <p:spPr>
          <a:xfrm>
            <a:off x="5508720" y="155736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6"/>
          <p:cNvSpPr/>
          <p:nvPr/>
        </p:nvSpPr>
        <p:spPr>
          <a:xfrm>
            <a:off x="-100080" y="3232080"/>
            <a:ext cx="25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Group 3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918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4"/>
            <p:cNvSpPr/>
            <p:nvPr/>
          </p:nvSpPr>
          <p:spPr>
            <a:xfrm>
              <a:off x="969840" y="2371680"/>
              <a:ext cx="2691000" cy="25848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矩形 5"/>
            <p:cNvSpPr/>
            <p:nvPr/>
          </p:nvSpPr>
          <p:spPr>
            <a:xfrm>
              <a:off x="1012680" y="275400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矩形 8"/>
            <p:cNvSpPr/>
            <p:nvPr/>
          </p:nvSpPr>
          <p:spPr>
            <a:xfrm>
              <a:off x="1014120" y="386244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矩形 9"/>
            <p:cNvSpPr/>
            <p:nvPr/>
          </p:nvSpPr>
          <p:spPr>
            <a:xfrm>
              <a:off x="1041120" y="4954680"/>
              <a:ext cx="25736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9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924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矩形 13"/>
            <p:cNvSpPr/>
            <p:nvPr/>
          </p:nvSpPr>
          <p:spPr>
            <a:xfrm>
              <a:off x="5541840" y="2360520"/>
              <a:ext cx="2691000" cy="2584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矩形 14"/>
            <p:cNvSpPr/>
            <p:nvPr/>
          </p:nvSpPr>
          <p:spPr>
            <a:xfrm>
              <a:off x="5597280" y="274284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矩形 15"/>
            <p:cNvSpPr/>
            <p:nvPr/>
          </p:nvSpPr>
          <p:spPr>
            <a:xfrm>
              <a:off x="5586120" y="3849840"/>
              <a:ext cx="25718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16"/>
            <p:cNvSpPr/>
            <p:nvPr/>
          </p:nvSpPr>
          <p:spPr>
            <a:xfrm>
              <a:off x="5613120" y="494208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左右箭头 14"/>
          <p:cNvSpPr/>
          <p:nvPr/>
        </p:nvSpPr>
        <p:spPr>
          <a:xfrm>
            <a:off x="3790800" y="3492360"/>
            <a:ext cx="1719360" cy="1738440"/>
          </a:xfrm>
          <a:prstGeom prst="leftRightArrow">
            <a:avLst>
              <a:gd name="adj1" fmla="val 66065"/>
              <a:gd name="adj2" fmla="val 26634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亮亮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亮亮图文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2604960" y="2058840"/>
            <a:ext cx="3809160" cy="3898800"/>
            <a:chOff x="2604960" y="2058840"/>
            <a:chExt cx="3809160" cy="3898800"/>
          </a:xfrm>
        </p:grpSpPr>
        <p:sp>
          <p:nvSpPr>
            <p:cNvPr id="932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934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937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0"/>
            <p:cNvGrpSpPr/>
            <p:nvPr/>
          </p:nvGrpSpPr>
          <p:grpSpPr>
            <a:xfrm>
              <a:off x="5077800" y="3325320"/>
              <a:ext cx="1336320" cy="479160"/>
              <a:chOff x="5077800" y="3325320"/>
              <a:chExt cx="1336320" cy="479160"/>
            </a:xfrm>
          </p:grpSpPr>
          <p:sp>
            <p:nvSpPr>
              <p:cNvPr id="940" name="直接连接符 21"/>
              <p:cNvSpPr/>
              <p:nvPr/>
            </p:nvSpPr>
            <p:spPr>
              <a:xfrm flipH="1">
                <a:off x="5077800" y="3549960"/>
                <a:ext cx="1017720" cy="254520"/>
              </a:xfrm>
              <a:prstGeom prst="line">
                <a:avLst/>
              </a:prstGeom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椭圆 22"/>
              <p:cNvSpPr/>
              <p:nvPr/>
            </p:nvSpPr>
            <p:spPr>
              <a:xfrm rot="2982600">
                <a:off x="6113520" y="3373920"/>
                <a:ext cx="24624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943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Group 16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946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Group 19"/>
            <p:cNvGrpSpPr/>
            <p:nvPr/>
          </p:nvGrpSpPr>
          <p:grpSpPr>
            <a:xfrm>
              <a:off x="4643280" y="4734000"/>
              <a:ext cx="578880" cy="1223640"/>
              <a:chOff x="4643280" y="4734000"/>
              <a:chExt cx="578880" cy="1223640"/>
            </a:xfrm>
          </p:grpSpPr>
          <p:sp>
            <p:nvSpPr>
              <p:cNvPr id="949" name="椭圆 33"/>
              <p:cNvSpPr/>
              <p:nvPr/>
            </p:nvSpPr>
            <p:spPr>
              <a:xfrm rot="7615200">
                <a:off x="4986720" y="572256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直接连接符 34"/>
              <p:cNvSpPr/>
              <p:nvPr/>
            </p:nvSpPr>
            <p:spPr>
              <a:xfrm flipH="1" flipV="1">
                <a:off x="4643280" y="4734000"/>
                <a:ext cx="40428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 txBox="1"/>
            <p:nvPr/>
          </p:nvSpPr>
          <p:spPr>
            <a:xfrm>
              <a:off x="3384360" y="3027240"/>
              <a:ext cx="1982880" cy="1982880"/>
            </a:xfrm>
            <a:prstGeom prst="rect">
              <a:avLst/>
            </a:prstGeom>
            <a:noFill/>
            <a:ln w="57240">
              <a:solidFill>
                <a:srgbClr val="bcbcbc"/>
              </a:solidFill>
              <a:round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1"/>
            <p:cNvSpPr/>
            <p:nvPr/>
          </p:nvSpPr>
          <p:spPr>
            <a:xfrm flipH="1">
              <a:off x="2853720" y="437148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49"/>
          <p:cNvSpPr/>
          <p:nvPr/>
        </p:nvSpPr>
        <p:spPr>
          <a:xfrm>
            <a:off x="6516720" y="299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53"/>
          <p:cNvSpPr/>
          <p:nvPr/>
        </p:nvSpPr>
        <p:spPr>
          <a:xfrm>
            <a:off x="5181480" y="5827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8985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4f81bd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文本框 1"/>
          <p:cNvSpPr/>
          <p:nvPr/>
        </p:nvSpPr>
        <p:spPr>
          <a:xfrm>
            <a:off x="2133720" y="4422600"/>
            <a:ext cx="43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509" name="Group 3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510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4" y="0"/>
                  </a:lnTo>
                  <a:lnTo>
                    <a:pt x="21600" y="10800"/>
                  </a:lnTo>
                  <a:lnTo>
                    <a:pt x="1902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8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15" name="Group 9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16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21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4" y="0"/>
                  </a:lnTo>
                  <a:lnTo>
                    <a:pt x="21600" y="10800"/>
                  </a:lnTo>
                  <a:lnTo>
                    <a:pt x="1902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16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523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71720" y="1159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"/>
          <p:cNvSpPr/>
          <p:nvPr/>
        </p:nvSpPr>
        <p:spPr>
          <a:xfrm>
            <a:off x="2608200" y="5987880"/>
            <a:ext cx="53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533" name="Group 3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534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9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540" name="Group 10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541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6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547" name="Group 17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548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23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554" name="Group 24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555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563" name="Group 4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564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椭圆 4"/>
            <p:cNvSpPr/>
            <p:nvPr/>
          </p:nvSpPr>
          <p:spPr>
            <a:xfrm>
              <a:off x="1603080" y="3794040"/>
              <a:ext cx="25524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6"/>
            <p:cNvSpPr/>
            <p:nvPr/>
          </p:nvSpPr>
          <p:spPr>
            <a:xfrm flipV="1">
              <a:off x="4109760" y="335736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接连接符 7"/>
            <p:cNvSpPr/>
            <p:nvPr/>
          </p:nvSpPr>
          <p:spPr>
            <a:xfrm flipV="1">
              <a:off x="6292800" y="281124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接连接符 8"/>
            <p:cNvSpPr/>
            <p:nvPr/>
          </p:nvSpPr>
          <p:spPr>
            <a:xfrm flipV="1">
              <a:off x="3890880" y="342576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9"/>
            <p:cNvSpPr/>
            <p:nvPr/>
          </p:nvSpPr>
          <p:spPr>
            <a:xfrm flipV="1">
              <a:off x="6170400" y="2823840"/>
              <a:ext cx="133200" cy="57600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18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578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21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581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24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584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587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30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590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33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593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596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88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49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17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78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5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617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74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8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620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28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1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623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74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1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626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29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625320" y="3078000"/>
            <a:ext cx="4818240" cy="4818240"/>
            <a:chOff x="625320" y="3078000"/>
            <a:chExt cx="4818240" cy="4818240"/>
          </a:xfrm>
        </p:grpSpPr>
        <p:grpSp>
          <p:nvGrpSpPr>
            <p:cNvPr id="634" name="Group 3"/>
            <p:cNvGrpSpPr/>
            <p:nvPr/>
          </p:nvGrpSpPr>
          <p:grpSpPr>
            <a:xfrm>
              <a:off x="625320" y="3078000"/>
              <a:ext cx="4818240" cy="4818240"/>
              <a:chOff x="625320" y="3078000"/>
              <a:chExt cx="4818240" cy="4818240"/>
            </a:xfrm>
          </p:grpSpPr>
          <p:sp>
            <p:nvSpPr>
              <p:cNvPr id="635" name=""/>
              <p:cNvSpPr txBox="1"/>
              <p:nvPr/>
            </p:nvSpPr>
            <p:spPr>
              <a:xfrm rot="7000200">
                <a:off x="1239480" y="3692520"/>
                <a:ext cx="3589200" cy="3589200"/>
              </a:xfrm>
              <a:prstGeom prst="rect">
                <a:avLst/>
              </a:prstGeom>
              <a:solidFill>
                <a:srgbClr val="8064a2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 rot="7000200">
                <a:off x="1675440" y="4313880"/>
                <a:ext cx="2538360" cy="253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7"/>
          <p:cNvGrpSpPr/>
          <p:nvPr/>
        </p:nvGrpSpPr>
        <p:grpSpPr>
          <a:xfrm>
            <a:off x="4789080" y="196200"/>
            <a:ext cx="3590280" cy="3946680"/>
            <a:chOff x="4789080" y="196200"/>
            <a:chExt cx="3590280" cy="3946680"/>
          </a:xfrm>
        </p:grpSpPr>
        <p:grpSp>
          <p:nvGrpSpPr>
            <p:cNvPr id="639" name="Group 8"/>
            <p:cNvGrpSpPr/>
            <p:nvPr/>
          </p:nvGrpSpPr>
          <p:grpSpPr>
            <a:xfrm>
              <a:off x="4789080" y="196200"/>
              <a:ext cx="3590280" cy="3589920"/>
              <a:chOff x="4789080" y="196200"/>
              <a:chExt cx="3590280" cy="3589920"/>
            </a:xfrm>
          </p:grpSpPr>
          <p:sp>
            <p:nvSpPr>
              <p:cNvPr id="640" name=""/>
              <p:cNvSpPr txBox="1"/>
              <p:nvPr/>
            </p:nvSpPr>
            <p:spPr>
              <a:xfrm rot="16199400">
                <a:off x="4789440" y="196200"/>
                <a:ext cx="3589200" cy="3589560"/>
              </a:xfrm>
              <a:prstGeom prst="rect">
                <a:avLst/>
              </a:prstGeom>
              <a:solidFill>
                <a:srgbClr val="4bacc6"/>
              </a:solidFill>
              <a:ln w="25560">
                <a:solidFill>
                  <a:srgbClr val="4f81bd"/>
                </a:solidFill>
                <a:round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 txBox="1"/>
              <p:nvPr/>
            </p:nvSpPr>
            <p:spPr>
              <a:xfrm rot="16199400">
                <a:off x="5311440" y="688680"/>
                <a:ext cx="2538360" cy="253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2"/>
          <p:cNvGrpSpPr/>
          <p:nvPr/>
        </p:nvGrpSpPr>
        <p:grpSpPr>
          <a:xfrm>
            <a:off x="4494240" y="3676680"/>
            <a:ext cx="3873600" cy="3589200"/>
            <a:chOff x="4494240" y="3676680"/>
            <a:chExt cx="3873600" cy="3589200"/>
          </a:xfrm>
        </p:grpSpPr>
        <p:grpSp>
          <p:nvGrpSpPr>
            <p:cNvPr id="644" name="Group 13"/>
            <p:cNvGrpSpPr/>
            <p:nvPr/>
          </p:nvGrpSpPr>
          <p:grpSpPr>
            <a:xfrm>
              <a:off x="4778280" y="3676680"/>
              <a:ext cx="3589560" cy="3589200"/>
              <a:chOff x="4778280" y="3676680"/>
              <a:chExt cx="3589560" cy="3589200"/>
            </a:xfrm>
          </p:grpSpPr>
          <p:sp>
            <p:nvSpPr>
              <p:cNvPr id="645" name=""/>
              <p:cNvSpPr txBox="1"/>
              <p:nvPr/>
            </p:nvSpPr>
            <p:spPr>
              <a:xfrm>
                <a:off x="4778280" y="3676680"/>
                <a:ext cx="3589560" cy="358920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5332320" y="4216320"/>
                <a:ext cx="2538720" cy="253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7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649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Picture 2" descr="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1" name="Group 20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652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Picture 3" descr="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4" name="Group 23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655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Picture 4" descr="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Group 26"/>
          <p:cNvGrpSpPr/>
          <p:nvPr/>
        </p:nvGrpSpPr>
        <p:grpSpPr>
          <a:xfrm>
            <a:off x="1186920" y="149040"/>
            <a:ext cx="3949560" cy="3624120"/>
            <a:chOff x="1186920" y="149040"/>
            <a:chExt cx="3949560" cy="3624120"/>
          </a:xfrm>
        </p:grpSpPr>
        <p:grpSp>
          <p:nvGrpSpPr>
            <p:cNvPr id="658" name="Group 27"/>
            <p:cNvGrpSpPr/>
            <p:nvPr/>
          </p:nvGrpSpPr>
          <p:grpSpPr>
            <a:xfrm>
              <a:off x="1186920" y="149040"/>
              <a:ext cx="3624120" cy="3624120"/>
              <a:chOff x="1186920" y="149040"/>
              <a:chExt cx="3624120" cy="3624120"/>
            </a:xfrm>
          </p:grpSpPr>
          <p:sp>
            <p:nvSpPr>
              <p:cNvPr id="659" name=""/>
              <p:cNvSpPr txBox="1"/>
              <p:nvPr/>
            </p:nvSpPr>
            <p:spPr>
              <a:xfrm rot="10833600">
                <a:off x="1204200" y="166320"/>
                <a:ext cx="3589200" cy="358920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 rot="10833600">
                <a:off x="1697040" y="693360"/>
                <a:ext cx="2538360" cy="253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32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664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Picture 2" descr="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6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5" y="0"/>
                </a:lnTo>
                <a:lnTo>
                  <a:pt x="21600" y="10800"/>
                </a:lnTo>
                <a:lnTo>
                  <a:pt x="162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5" y="0"/>
                </a:lnTo>
                <a:lnTo>
                  <a:pt x="21600" y="10800"/>
                </a:lnTo>
                <a:lnTo>
                  <a:pt x="16085" y="21600"/>
                </a:lnTo>
                <a:lnTo>
                  <a:pt x="0" y="21600"/>
                </a:lnTo>
                <a:lnTo>
                  <a:pt x="5515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8" y="0"/>
                </a:lnTo>
                <a:lnTo>
                  <a:pt x="21600" y="10800"/>
                </a:lnTo>
                <a:lnTo>
                  <a:pt x="16088" y="21600"/>
                </a:lnTo>
                <a:lnTo>
                  <a:pt x="0" y="21600"/>
                </a:lnTo>
                <a:lnTo>
                  <a:pt x="5512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9" y="0"/>
                </a:lnTo>
                <a:lnTo>
                  <a:pt x="21600" y="10800"/>
                </a:lnTo>
                <a:lnTo>
                  <a:pt x="16089" y="21600"/>
                </a:lnTo>
                <a:lnTo>
                  <a:pt x="0" y="21600"/>
                </a:lnTo>
                <a:lnTo>
                  <a:pt x="5511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直接箭头​​连接符 9"/>
          <p:cNvCxnSpPr/>
          <p:nvPr/>
        </p:nvCxnSpPr>
        <p:spPr>
          <a:xfrm>
            <a:off x="932040" y="4444560"/>
            <a:ext cx="216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round/>
            <a:tailEnd len="med" type="arrow" w="med"/>
          </a:ln>
        </p:spPr>
      </p:cxnSp>
      <p:cxnSp>
        <p:nvCxnSpPr>
          <p:cNvPr id="677" name="直接箭头​​连接符 11"/>
          <p:cNvCxnSpPr/>
          <p:nvPr/>
        </p:nvCxnSpPr>
        <p:spPr>
          <a:xfrm>
            <a:off x="4510080" y="4444560"/>
            <a:ext cx="216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round/>
            <a:tailEnd len="med" type="arrow" w="med"/>
          </a:ln>
        </p:spPr>
      </p:cxnSp>
      <p:cxnSp>
        <p:nvCxnSpPr>
          <p:cNvPr id="678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round/>
            <a:tailEnd len="med" type="arrow" w="med"/>
          </a:ln>
        </p:spPr>
      </p:cxnSp>
      <p:cxnSp>
        <p:nvCxnSpPr>
          <p:cNvPr id="679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round/>
            <a:tailEnd len="med" type="arrow" w="med"/>
          </a:ln>
        </p:spPr>
      </p:cxnSp>
      <p:sp>
        <p:nvSpPr>
          <p:cNvPr id="680" name="TextBox 15"/>
          <p:cNvSpPr/>
          <p:nvPr/>
        </p:nvSpPr>
        <p:spPr>
          <a:xfrm>
            <a:off x="312084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8"/>
          <p:cNvSpPr/>
          <p:nvPr/>
        </p:nvSpPr>
        <p:spPr>
          <a:xfrm>
            <a:off x="660528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亮亮图文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1"/>
          <p:cNvSpPr/>
          <p:nvPr/>
        </p:nvSpPr>
        <p:spPr>
          <a:xfrm>
            <a:off x="2239920" y="5987880"/>
            <a:ext cx="55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亮亮图文旗舰店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s://liangliangtuw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Group 3"/>
          <p:cNvGrpSpPr/>
          <p:nvPr/>
        </p:nvGrpSpPr>
        <p:grpSpPr>
          <a:xfrm>
            <a:off x="2318760" y="1491480"/>
            <a:ext cx="4419360" cy="4558320"/>
            <a:chOff x="2318760" y="1491480"/>
            <a:chExt cx="4419360" cy="4558320"/>
          </a:xfrm>
        </p:grpSpPr>
        <p:grpSp>
          <p:nvGrpSpPr>
            <p:cNvPr id="687" name="Group 4"/>
            <p:cNvGrpSpPr/>
            <p:nvPr/>
          </p:nvGrpSpPr>
          <p:grpSpPr>
            <a:xfrm>
              <a:off x="2318760" y="1491480"/>
              <a:ext cx="4419360" cy="4558320"/>
              <a:chOff x="2318760" y="1491480"/>
              <a:chExt cx="4419360" cy="4558320"/>
            </a:xfrm>
          </p:grpSpPr>
          <p:sp>
            <p:nvSpPr>
              <p:cNvPr id="688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9"/>
              <p:cNvGrpSpPr/>
              <p:nvPr/>
            </p:nvGrpSpPr>
            <p:grpSpPr>
              <a:xfrm>
                <a:off x="2318760" y="1491480"/>
                <a:ext cx="4419360" cy="4404960"/>
                <a:chOff x="2318760" y="1491480"/>
                <a:chExt cx="4419360" cy="4404960"/>
              </a:xfrm>
            </p:grpSpPr>
            <p:grpSp>
              <p:nvGrpSpPr>
                <p:cNvPr id="693" name="Group 10"/>
                <p:cNvGrpSpPr/>
                <p:nvPr/>
              </p:nvGrpSpPr>
              <p:grpSpPr>
                <a:xfrm>
                  <a:off x="2903400" y="2058840"/>
                  <a:ext cx="3183120" cy="3184560"/>
                  <a:chOff x="2903400" y="2058840"/>
                  <a:chExt cx="3183120" cy="3184560"/>
                </a:xfrm>
              </p:grpSpPr>
              <p:sp>
                <p:nvSpPr>
                  <p:cNvPr id="694" name=""/>
                  <p:cNvSpPr txBox="1"/>
                  <p:nvPr/>
                </p:nvSpPr>
                <p:spPr>
                  <a:xfrm>
                    <a:off x="2903400" y="2058840"/>
                    <a:ext cx="3183120" cy="3184560"/>
                  </a:xfrm>
                  <a:prstGeom prst="rect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 txBox="1"/>
                  <p:nvPr/>
                </p:nvSpPr>
                <p:spPr>
                  <a:xfrm>
                    <a:off x="3395520" y="2536560"/>
                    <a:ext cx="2251440" cy="22528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Group 13"/>
                <p:cNvGrpSpPr/>
                <p:nvPr/>
              </p:nvGrpSpPr>
              <p:grpSpPr>
                <a:xfrm>
                  <a:off x="2391840" y="1491480"/>
                  <a:ext cx="4346280" cy="4347000"/>
                  <a:chOff x="2391840" y="1491480"/>
                  <a:chExt cx="4346280" cy="4347000"/>
                </a:xfrm>
              </p:grpSpPr>
              <p:sp>
                <p:nvSpPr>
                  <p:cNvPr id="697" name=""/>
                  <p:cNvSpPr txBox="1"/>
                  <p:nvPr/>
                </p:nvSpPr>
                <p:spPr>
                  <a:xfrm rot="7192200">
                    <a:off x="2972520" y="2073240"/>
                    <a:ext cx="3184560" cy="3183120"/>
                  </a:xfrm>
                  <a:prstGeom prst="rect">
                    <a:avLst/>
                  </a:prstGeom>
                  <a:solidFill>
                    <a:srgbClr val="8064a2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 txBox="1"/>
                  <p:nvPr/>
                </p:nvSpPr>
                <p:spPr>
                  <a:xfrm rot="7192200">
                    <a:off x="3411360" y="2552040"/>
                    <a:ext cx="2252880" cy="224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Group 16"/>
                <p:cNvGrpSpPr/>
                <p:nvPr/>
              </p:nvGrpSpPr>
              <p:grpSpPr>
                <a:xfrm>
                  <a:off x="2318760" y="1542960"/>
                  <a:ext cx="4352400" cy="4353480"/>
                  <a:chOff x="2318760" y="1542960"/>
                  <a:chExt cx="4352400" cy="4353480"/>
                </a:xfrm>
              </p:grpSpPr>
              <p:sp>
                <p:nvSpPr>
                  <p:cNvPr id="700" name=""/>
                  <p:cNvSpPr txBox="1"/>
                  <p:nvPr/>
                </p:nvSpPr>
                <p:spPr>
                  <a:xfrm rot="14392200">
                    <a:off x="2901600" y="2127960"/>
                    <a:ext cx="3186360" cy="3183120"/>
                  </a:xfrm>
                  <a:prstGeom prst="rect">
                    <a:avLst/>
                  </a:prstGeom>
                  <a:solidFill>
                    <a:srgbClr val="9bbb59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 txBox="1"/>
                  <p:nvPr/>
                </p:nvSpPr>
                <p:spPr>
                  <a:xfrm rot="14392200">
                    <a:off x="3363480" y="2564640"/>
                    <a:ext cx="2252880" cy="2249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2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矩形 4"/>
            <p:cNvSpPr/>
            <p:nvPr/>
          </p:nvSpPr>
          <p:spPr>
            <a:xfrm rot="19873800">
              <a:off x="3222000" y="2506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矩形 5"/>
            <p:cNvSpPr/>
            <p:nvPr/>
          </p:nvSpPr>
          <p:spPr>
            <a:xfrm rot="5572800">
              <a:off x="3764160" y="3972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矩形 6"/>
            <p:cNvSpPr/>
            <p:nvPr/>
          </p:nvSpPr>
          <p:spPr>
            <a:xfrm rot="12802800">
              <a:off x="2371320" y="359532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6" name="Picture 2" descr=""/>
            <p:cNvPicPr/>
            <p:nvPr/>
          </p:nvPicPr>
          <p:blipFill>
            <a:blip r:embed="rId1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3" descr=""/>
            <p:cNvPicPr/>
            <p:nvPr/>
          </p:nvPicPr>
          <p:blipFill>
            <a:blip r:embed="rId2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4" descr=""/>
            <p:cNvPicPr/>
            <p:nvPr/>
          </p:nvPicPr>
          <p:blipFill>
            <a:blip r:embed="rId3"/>
            <a:stretch/>
          </p:blipFill>
          <p:spPr>
            <a:xfrm>
              <a:off x="6162840" y="2534760"/>
              <a:ext cx="4060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9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  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dc:language>en-US</dc:language>
  <cp:lastModifiedBy>Administrator</cp:lastModifiedBy>
  <dcterms:modified xsi:type="dcterms:W3CDTF">2017-07-07T17:34:30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