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51C-31B4-42E9-8EF9-673214B0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522-993C-4843-9197-6F749583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4F6-73AF-476E-B2B4-F08F9D38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ABA-4D41-4C08-B67A-03709196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148-AB10-4785-9274-D1780DE5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FFD-DF69-494E-A574-0C2D75DE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75E-28EB-42A7-98CE-09A0E535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B1C-0A23-43FD-BEB1-C94D7DA5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57C-D13E-4706-969E-E57C8E59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B28-3EAF-4D3C-9301-BE93677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CA6-0A1C-47F9-B7E6-6C498B04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796-0C26-4786-B349-88BFCC4A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3798-E29A-4DEE-BC98-F50C47EC43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73F9-2291-4378-B63A-48DB2FA65A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3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4.png"/><Relationship Id="rId20" Type="http://schemas.openxmlformats.org/officeDocument/2006/relationships/image" Target="../media/image54.png"/><Relationship Id="rId21" Type="http://schemas.openxmlformats.org/officeDocument/2006/relationships/image" Target="../media/image52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"/>
          <p:cNvGrpSpPr/>
          <p:nvPr/>
        </p:nvGrpSpPr>
        <p:grpSpPr>
          <a:xfrm>
            <a:off x="1116000" y="260280"/>
            <a:ext cx="6912000" cy="5832360"/>
            <a:chOff x="1116000" y="260280"/>
            <a:chExt cx="6912000" cy="5832360"/>
          </a:xfrm>
        </p:grpSpPr>
        <p:sp>
          <p:nvSpPr>
            <p:cNvPr id="43" name="Text Box 5"/>
            <p:cNvSpPr/>
            <p:nvPr/>
          </p:nvSpPr>
          <p:spPr>
            <a:xfrm>
              <a:off x="4859280" y="126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6" descr="Untitled-1"/>
            <p:cNvPicPr/>
            <p:nvPr/>
          </p:nvPicPr>
          <p:blipFill>
            <a:blip r:embed="rId2"/>
            <a:stretch/>
          </p:blipFill>
          <p:spPr>
            <a:xfrm>
              <a:off x="1116000" y="519120"/>
              <a:ext cx="358128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Untitled-1"/>
            <p:cNvPicPr/>
            <p:nvPr/>
          </p:nvPicPr>
          <p:blipFill>
            <a:blip r:embed="rId3"/>
            <a:stretch/>
          </p:blipFill>
          <p:spPr>
            <a:xfrm>
              <a:off x="2195640" y="344484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Untitled-1"/>
            <p:cNvPicPr/>
            <p:nvPr/>
          </p:nvPicPr>
          <p:blipFill>
            <a:blip r:embed="rId4"/>
            <a:stretch/>
          </p:blipFill>
          <p:spPr>
            <a:xfrm>
              <a:off x="4300560" y="26028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9" descr="Untitled-1"/>
            <p:cNvPicPr/>
            <p:nvPr/>
          </p:nvPicPr>
          <p:blipFill>
            <a:blip r:embed="rId5"/>
            <a:stretch/>
          </p:blipFill>
          <p:spPr>
            <a:xfrm>
              <a:off x="4579920" y="1052280"/>
              <a:ext cx="3448080" cy="47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/>
            <p:cNvSpPr/>
            <p:nvPr/>
          </p:nvSpPr>
          <p:spPr>
            <a:xfrm>
              <a:off x="2771640" y="450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1"/>
            <p:cNvSpPr/>
            <p:nvPr/>
          </p:nvSpPr>
          <p:spPr>
            <a:xfrm>
              <a:off x="3061440" y="14270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2"/>
            <p:cNvSpPr/>
            <p:nvPr/>
          </p:nvSpPr>
          <p:spPr>
            <a:xfrm>
              <a:off x="5510880" y="458136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4"/>
          <p:cNvGrpSpPr/>
          <p:nvPr/>
        </p:nvGrpSpPr>
        <p:grpSpPr>
          <a:xfrm>
            <a:off x="1332000" y="260280"/>
            <a:ext cx="6553080" cy="5815080"/>
            <a:chOff x="1332000" y="260280"/>
            <a:chExt cx="6553080" cy="5815080"/>
          </a:xfrm>
        </p:grpSpPr>
        <p:pic>
          <p:nvPicPr>
            <p:cNvPr id="12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989000"/>
              <a:ext cx="4076640" cy="40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5292720" y="335592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56240" y="260280"/>
              <a:ext cx="32288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2268720" y="3860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5580000" y="1557360"/>
              <a:ext cx="13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5724720" y="422748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306360" y="115920"/>
            <a:ext cx="8442360" cy="6049800"/>
            <a:chOff x="306360" y="115920"/>
            <a:chExt cx="8442360" cy="6049800"/>
          </a:xfrm>
        </p:grpSpPr>
        <p:pic>
          <p:nvPicPr>
            <p:cNvPr id="132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29588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52840" y="115920"/>
              <a:ext cx="429588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306360" y="3054240"/>
              <a:ext cx="4410000" cy="30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52840" y="2936880"/>
              <a:ext cx="4295880" cy="32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2733480" y="1341360"/>
              <a:ext cx="3676680" cy="36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/>
            <p:cNvSpPr/>
            <p:nvPr/>
          </p:nvSpPr>
          <p:spPr>
            <a:xfrm>
              <a:off x="125892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637236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2"/>
            <p:cNvSpPr/>
            <p:nvPr/>
          </p:nvSpPr>
          <p:spPr>
            <a:xfrm>
              <a:off x="125892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3"/>
            <p:cNvSpPr/>
            <p:nvPr/>
          </p:nvSpPr>
          <p:spPr>
            <a:xfrm>
              <a:off x="637236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492360" y="299736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"/>
          <p:cNvGrpSpPr/>
          <p:nvPr/>
        </p:nvGrpSpPr>
        <p:grpSpPr>
          <a:xfrm>
            <a:off x="1692360" y="289080"/>
            <a:ext cx="5773680" cy="5776920"/>
            <a:chOff x="1692360" y="289080"/>
            <a:chExt cx="5773680" cy="5776920"/>
          </a:xfrm>
        </p:grpSpPr>
        <p:pic>
          <p:nvPicPr>
            <p:cNvPr id="14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854360" y="289080"/>
              <a:ext cx="29336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27640" y="476280"/>
              <a:ext cx="3038400" cy="30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351320" y="3141720"/>
              <a:ext cx="30290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692360" y="2943360"/>
              <a:ext cx="292428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9"/>
            <p:cNvSpPr/>
            <p:nvPr/>
          </p:nvSpPr>
          <p:spPr>
            <a:xfrm>
              <a:off x="2700360" y="13338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5940360" y="155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2484360" y="443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796000" y="4581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1619280" y="255600"/>
            <a:ext cx="5905440" cy="5837400"/>
            <a:chOff x="1619280" y="255600"/>
            <a:chExt cx="5905440" cy="5837400"/>
          </a:xfrm>
        </p:grpSpPr>
        <p:pic>
          <p:nvPicPr>
            <p:cNvPr id="15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87640" y="1628640"/>
              <a:ext cx="311472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1928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238480" y="3782880"/>
              <a:ext cx="18288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708360" y="4273560"/>
              <a:ext cx="17431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5148360" y="3789360"/>
              <a:ext cx="173340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579132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5148360" y="836640"/>
              <a:ext cx="181908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3692520" y="255600"/>
              <a:ext cx="174312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233800" y="831960"/>
              <a:ext cx="176184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4"/>
            <p:cNvSpPr/>
            <p:nvPr/>
          </p:nvSpPr>
          <p:spPr>
            <a:xfrm>
              <a:off x="3419640" y="2997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70036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212400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277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4211640" y="508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565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630072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1"/>
            <p:cNvSpPr/>
            <p:nvPr/>
          </p:nvSpPr>
          <p:spPr>
            <a:xfrm>
              <a:off x="565164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4211640" y="98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4"/>
          <p:cNvGrpSpPr/>
          <p:nvPr/>
        </p:nvGrpSpPr>
        <p:grpSpPr>
          <a:xfrm>
            <a:off x="128520" y="115920"/>
            <a:ext cx="8907480" cy="5977080"/>
            <a:chOff x="128520" y="115920"/>
            <a:chExt cx="8907480" cy="5977080"/>
          </a:xfrm>
        </p:grpSpPr>
        <p:pic>
          <p:nvPicPr>
            <p:cNvPr id="17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311200" y="26028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25092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311200" y="134136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0064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4400640" y="242100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6487920" y="2421000"/>
              <a:ext cx="24768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25092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440064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50920" y="458784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4" descr="Untitled-1"/>
            <p:cNvPicPr/>
            <p:nvPr/>
          </p:nvPicPr>
          <p:blipFill>
            <a:blip r:embed="rId11"/>
            <a:stretch/>
          </p:blipFill>
          <p:spPr>
            <a:xfrm>
              <a:off x="231120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5" descr="Untitled-1"/>
            <p:cNvPicPr/>
            <p:nvPr/>
          </p:nvPicPr>
          <p:blipFill>
            <a:blip r:embed="rId12"/>
            <a:stretch/>
          </p:blipFill>
          <p:spPr>
            <a:xfrm>
              <a:off x="648792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6" descr="Untitled-1"/>
            <p:cNvPicPr/>
            <p:nvPr/>
          </p:nvPicPr>
          <p:blipFill>
            <a:blip r:embed="rId13"/>
            <a:stretch/>
          </p:blipFill>
          <p:spPr>
            <a:xfrm>
              <a:off x="2311200" y="232416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" descr="Untitled-1"/>
            <p:cNvPicPr/>
            <p:nvPr/>
          </p:nvPicPr>
          <p:blipFill>
            <a:blip r:embed="rId14"/>
            <a:stretch/>
          </p:blipFill>
          <p:spPr>
            <a:xfrm>
              <a:off x="6487920" y="340380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8" descr="Untitled-1"/>
            <p:cNvPicPr/>
            <p:nvPr/>
          </p:nvPicPr>
          <p:blipFill>
            <a:blip r:embed="rId15"/>
            <a:stretch/>
          </p:blipFill>
          <p:spPr>
            <a:xfrm>
              <a:off x="128520" y="26028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9" descr="Untitled-1"/>
            <p:cNvPicPr/>
            <p:nvPr/>
          </p:nvPicPr>
          <p:blipFill>
            <a:blip r:embed="rId16"/>
            <a:stretch/>
          </p:blipFill>
          <p:spPr>
            <a:xfrm>
              <a:off x="2216160" y="3500640"/>
              <a:ext cx="25718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0" descr="Untitled-1"/>
            <p:cNvPicPr/>
            <p:nvPr/>
          </p:nvPicPr>
          <p:blipFill>
            <a:blip r:embed="rId17"/>
            <a:stretch/>
          </p:blipFill>
          <p:spPr>
            <a:xfrm>
              <a:off x="6392880" y="134136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1" descr="Untitled-1"/>
            <p:cNvPicPr/>
            <p:nvPr/>
          </p:nvPicPr>
          <p:blipFill>
            <a:blip r:embed="rId18"/>
            <a:stretch/>
          </p:blipFill>
          <p:spPr>
            <a:xfrm>
              <a:off x="6454800" y="26820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2" descr="Untitled-1"/>
            <p:cNvPicPr/>
            <p:nvPr/>
          </p:nvPicPr>
          <p:blipFill>
            <a:blip r:embed="rId19"/>
            <a:stretch/>
          </p:blipFill>
          <p:spPr>
            <a:xfrm>
              <a:off x="4427640" y="458784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3" descr="Untitled-1"/>
            <p:cNvPicPr/>
            <p:nvPr/>
          </p:nvPicPr>
          <p:blipFill>
            <a:blip r:embed="rId20"/>
            <a:stretch/>
          </p:blipFill>
          <p:spPr>
            <a:xfrm>
              <a:off x="250920" y="2421000"/>
              <a:ext cx="25812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4" descr="Untitled-1"/>
            <p:cNvPicPr/>
            <p:nvPr/>
          </p:nvPicPr>
          <p:blipFill>
            <a:blip r:embed="rId21"/>
            <a:stretch/>
          </p:blipFill>
          <p:spPr>
            <a:xfrm>
              <a:off x="4400640" y="115920"/>
              <a:ext cx="24764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5"/>
            <p:cNvSpPr/>
            <p:nvPr/>
          </p:nvSpPr>
          <p:spPr>
            <a:xfrm>
              <a:off x="1116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6"/>
            <p:cNvSpPr/>
            <p:nvPr/>
          </p:nvSpPr>
          <p:spPr>
            <a:xfrm>
              <a:off x="320364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364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738036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9"/>
            <p:cNvSpPr/>
            <p:nvPr/>
          </p:nvSpPr>
          <p:spPr>
            <a:xfrm>
              <a:off x="1116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0"/>
            <p:cNvSpPr/>
            <p:nvPr/>
          </p:nvSpPr>
          <p:spPr>
            <a:xfrm>
              <a:off x="320364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5364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738036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1116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4"/>
            <p:cNvSpPr/>
            <p:nvPr/>
          </p:nvSpPr>
          <p:spPr>
            <a:xfrm>
              <a:off x="320364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5364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6"/>
            <p:cNvSpPr/>
            <p:nvPr/>
          </p:nvSpPr>
          <p:spPr>
            <a:xfrm>
              <a:off x="738036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7"/>
            <p:cNvSpPr/>
            <p:nvPr/>
          </p:nvSpPr>
          <p:spPr>
            <a:xfrm>
              <a:off x="1116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8"/>
            <p:cNvSpPr/>
            <p:nvPr/>
          </p:nvSpPr>
          <p:spPr>
            <a:xfrm>
              <a:off x="320364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9"/>
            <p:cNvSpPr/>
            <p:nvPr/>
          </p:nvSpPr>
          <p:spPr>
            <a:xfrm>
              <a:off x="5364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0"/>
            <p:cNvSpPr/>
            <p:nvPr/>
          </p:nvSpPr>
          <p:spPr>
            <a:xfrm>
              <a:off x="738036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1"/>
            <p:cNvSpPr/>
            <p:nvPr/>
          </p:nvSpPr>
          <p:spPr>
            <a:xfrm>
              <a:off x="1116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2"/>
            <p:cNvSpPr/>
            <p:nvPr/>
          </p:nvSpPr>
          <p:spPr>
            <a:xfrm>
              <a:off x="320364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3"/>
            <p:cNvSpPr/>
            <p:nvPr/>
          </p:nvSpPr>
          <p:spPr>
            <a:xfrm>
              <a:off x="5364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44"/>
            <p:cNvSpPr/>
            <p:nvPr/>
          </p:nvSpPr>
          <p:spPr>
            <a:xfrm>
              <a:off x="738036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4"/>
          <p:cNvGrpSpPr/>
          <p:nvPr/>
        </p:nvGrpSpPr>
        <p:grpSpPr>
          <a:xfrm>
            <a:off x="1660680" y="260280"/>
            <a:ext cx="5822280" cy="5861160"/>
            <a:chOff x="1660680" y="260280"/>
            <a:chExt cx="5822280" cy="5861160"/>
          </a:xfrm>
        </p:grpSpPr>
        <p:pic>
          <p:nvPicPr>
            <p:cNvPr id="21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60680" y="260280"/>
              <a:ext cx="3342960" cy="31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60680" y="2997000"/>
              <a:ext cx="334296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140000" y="1484280"/>
              <a:ext cx="33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8"/>
            <p:cNvSpPr/>
            <p:nvPr/>
          </p:nvSpPr>
          <p:spPr>
            <a:xfrm>
              <a:off x="2124000" y="15573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>
              <a:off x="2124000" y="443052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4643280" y="292428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4"/>
          <p:cNvGrpSpPr/>
          <p:nvPr/>
        </p:nvGrpSpPr>
        <p:grpSpPr>
          <a:xfrm>
            <a:off x="307800" y="260280"/>
            <a:ext cx="8585280" cy="5689440"/>
            <a:chOff x="307800" y="260280"/>
            <a:chExt cx="8585280" cy="5689440"/>
          </a:xfrm>
        </p:grpSpPr>
        <p:pic>
          <p:nvPicPr>
            <p:cNvPr id="5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672840" y="260280"/>
              <a:ext cx="8220240" cy="36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07800" y="2492280"/>
              <a:ext cx="829620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/>
            <p:cNvSpPr/>
            <p:nvPr/>
          </p:nvSpPr>
          <p:spPr>
            <a:xfrm>
              <a:off x="3635280" y="1262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3635280" y="4653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Untitled-1"/>
          <p:cNvPicPr/>
          <p:nvPr/>
        </p:nvPicPr>
        <p:blipFill>
          <a:blip r:embed="rId2"/>
          <a:stretch/>
        </p:blipFill>
        <p:spPr>
          <a:xfrm>
            <a:off x="755640" y="260280"/>
            <a:ext cx="2629080" cy="597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Untitled-1"/>
          <p:cNvPicPr/>
          <p:nvPr/>
        </p:nvPicPr>
        <p:blipFill>
          <a:blip r:embed="rId3"/>
          <a:stretch/>
        </p:blipFill>
        <p:spPr>
          <a:xfrm>
            <a:off x="2700360" y="439560"/>
            <a:ext cx="5857920" cy="198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Untitled-1"/>
          <p:cNvPicPr/>
          <p:nvPr/>
        </p:nvPicPr>
        <p:blipFill>
          <a:blip r:embed="rId4"/>
          <a:stretch/>
        </p:blipFill>
        <p:spPr>
          <a:xfrm>
            <a:off x="2592360" y="2133720"/>
            <a:ext cx="5867280" cy="20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Untitled-1"/>
          <p:cNvPicPr/>
          <p:nvPr/>
        </p:nvPicPr>
        <p:blipFill>
          <a:blip r:embed="rId5"/>
          <a:stretch/>
        </p:blipFill>
        <p:spPr>
          <a:xfrm>
            <a:off x="2700360" y="3789360"/>
            <a:ext cx="5743440" cy="2095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4067280" y="133344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067280" y="299736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067280" y="465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547640" y="1268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47640" y="2997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547640" y="4724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"/>
          <p:cNvGrpSpPr/>
          <p:nvPr/>
        </p:nvGrpSpPr>
        <p:grpSpPr>
          <a:xfrm>
            <a:off x="1332000" y="115920"/>
            <a:ext cx="6667560" cy="5952960"/>
            <a:chOff x="1332000" y="115920"/>
            <a:chExt cx="6667560" cy="5952960"/>
          </a:xfrm>
        </p:grpSpPr>
        <p:pic>
          <p:nvPicPr>
            <p:cNvPr id="70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15920"/>
              <a:ext cx="6667560" cy="59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"/>
            <p:cNvSpPr/>
            <p:nvPr/>
          </p:nvSpPr>
          <p:spPr>
            <a:xfrm>
              <a:off x="3708360" y="90180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3708360" y="234144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708360" y="378288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1519200" y="189000"/>
            <a:ext cx="6005520" cy="5910120"/>
            <a:chOff x="1519200" y="189000"/>
            <a:chExt cx="6005520" cy="5910120"/>
          </a:xfrm>
        </p:grpSpPr>
        <p:pic>
          <p:nvPicPr>
            <p:cNvPr id="7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19280" y="206640"/>
              <a:ext cx="5886360" cy="58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519200" y="3213360"/>
              <a:ext cx="2981160" cy="28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38600" y="189000"/>
              <a:ext cx="288612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8"/>
            <p:cNvSpPr/>
            <p:nvPr/>
          </p:nvSpPr>
          <p:spPr>
            <a:xfrm>
              <a:off x="2411280" y="148428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5076720" y="4149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268360" y="4365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1"/>
            <p:cNvSpPr/>
            <p:nvPr/>
          </p:nvSpPr>
          <p:spPr>
            <a:xfrm>
              <a:off x="5219640" y="13413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324000" y="174600"/>
            <a:ext cx="8495640" cy="6062760"/>
            <a:chOff x="324000" y="174600"/>
            <a:chExt cx="8495640" cy="6062760"/>
          </a:xfrm>
        </p:grpSpPr>
        <p:pic>
          <p:nvPicPr>
            <p:cNvPr id="85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24000" y="255600"/>
              <a:ext cx="460980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38600" y="174600"/>
              <a:ext cx="4181040" cy="59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7"/>
            <p:cNvSpPr/>
            <p:nvPr/>
          </p:nvSpPr>
          <p:spPr>
            <a:xfrm>
              <a:off x="1331640" y="306216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580000" y="306864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4"/>
          <p:cNvGrpSpPr/>
          <p:nvPr/>
        </p:nvGrpSpPr>
        <p:grpSpPr>
          <a:xfrm>
            <a:off x="1042920" y="190440"/>
            <a:ext cx="6948360" cy="6046920"/>
            <a:chOff x="1042920" y="190440"/>
            <a:chExt cx="6948360" cy="6046920"/>
          </a:xfrm>
        </p:grpSpPr>
        <p:pic>
          <p:nvPicPr>
            <p:cNvPr id="9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042920" y="190440"/>
              <a:ext cx="69152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171440" y="1557360"/>
              <a:ext cx="6800760" cy="19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1157400" y="3122640"/>
              <a:ext cx="6829200" cy="18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52360" y="4551480"/>
              <a:ext cx="683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3419280" y="765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3419280" y="2270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419280" y="37162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3419280" y="5149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299880" y="115920"/>
            <a:ext cx="8543880" cy="5981760"/>
            <a:chOff x="299880" y="115920"/>
            <a:chExt cx="8543880" cy="5981760"/>
          </a:xfrm>
        </p:grpSpPr>
        <p:pic>
          <p:nvPicPr>
            <p:cNvPr id="10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9880" y="115920"/>
              <a:ext cx="854388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8000" y="3068640"/>
              <a:ext cx="2876760" cy="28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798880" y="3068640"/>
              <a:ext cx="2876760" cy="29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133440" y="388800"/>
              <a:ext cx="287676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8269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60847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82692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349236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349236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6156000" y="435780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116000" y="115920"/>
            <a:ext cx="6840360" cy="6121440"/>
            <a:chOff x="1116000" y="115920"/>
            <a:chExt cx="6840360" cy="6121440"/>
          </a:xfrm>
        </p:grpSpPr>
        <p:pic>
          <p:nvPicPr>
            <p:cNvPr id="11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15920"/>
              <a:ext cx="2448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348000" y="189000"/>
              <a:ext cx="2448000" cy="30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508720" y="189000"/>
              <a:ext cx="24476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16000" y="2760840"/>
              <a:ext cx="677232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"/>
            <p:cNvSpPr/>
            <p:nvPr/>
          </p:nvSpPr>
          <p:spPr>
            <a:xfrm>
              <a:off x="3492360" y="4221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169236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85128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601020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dministrator</cp:lastModifiedBy>
  <dcterms:modified xsi:type="dcterms:W3CDTF">2017-07-22T11:03:5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5</vt:lpwstr>
  </property>
</Properties>
</file>