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6C3-3887-4E3B-ABA4-96C757AA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643-AFF4-4730-A598-C76ED88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908-CAD0-473C-B642-812A49C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6E6-6CFC-4777-B4EC-7A1D7FD6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E9B-EF83-48AD-949B-FBDD6EF6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92A-EF3F-4B29-9382-83E8D363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AFD-0BAC-4F7B-95AB-18E6E05C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4F4-D148-4FD4-A6EA-FF99E07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8CB-F63E-4985-9AC1-363D5EC8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B99-F4CB-457D-AB54-D3CE7B9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2B4-44AA-4B23-AE47-E5EE1A5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F81-9848-495B-B62B-9245423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BF78-8E6B-495B-9D02-1865D2896E4A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2"/>
          <p:cNvSpPr/>
          <p:nvPr/>
        </p:nvSpPr>
        <p:spPr>
          <a:xfrm>
            <a:off x="4383000" y="1077840"/>
            <a:ext cx="0" cy="42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4383000" y="4554360"/>
            <a:ext cx="2193840" cy="640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4383000" y="3005280"/>
            <a:ext cx="2193840" cy="637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3"/>
          <a:stretch/>
        </p:blipFill>
        <p:spPr>
          <a:xfrm>
            <a:off x="4383000" y="14428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"/>
          <p:cNvPicPr/>
          <p:nvPr/>
        </p:nvPicPr>
        <p:blipFill>
          <a:blip r:embed="rId4"/>
          <a:stretch/>
        </p:blipFill>
        <p:spPr>
          <a:xfrm>
            <a:off x="2028960" y="37828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"/>
          <p:cNvPicPr/>
          <p:nvPr/>
        </p:nvPicPr>
        <p:blipFill>
          <a:blip r:embed="rId5"/>
          <a:stretch/>
        </p:blipFill>
        <p:spPr>
          <a:xfrm>
            <a:off x="2028960" y="22114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56"/>
          <p:cNvSpPr/>
          <p:nvPr/>
        </p:nvSpPr>
        <p:spPr>
          <a:xfrm>
            <a:off x="4710240" y="1434960"/>
            <a:ext cx="2044440" cy="3636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43"/>
          <p:cNvSpPr/>
          <p:nvPr/>
        </p:nvSpPr>
        <p:spPr>
          <a:xfrm>
            <a:off x="4079880" y="14349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9"/>
          <p:cNvSpPr/>
          <p:nvPr/>
        </p:nvSpPr>
        <p:spPr>
          <a:xfrm>
            <a:off x="4703760" y="2986200"/>
            <a:ext cx="2044800" cy="3636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45"/>
          <p:cNvSpPr/>
          <p:nvPr/>
        </p:nvSpPr>
        <p:spPr>
          <a:xfrm>
            <a:off x="4076640" y="298620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c7c7c"/>
                </a:solidFill>
                <a:latin typeface="Calibri Light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2"/>
          <p:cNvSpPr/>
          <p:nvPr/>
        </p:nvSpPr>
        <p:spPr>
          <a:xfrm>
            <a:off x="4703760" y="4535640"/>
            <a:ext cx="2044800" cy="3650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46"/>
          <p:cNvSpPr/>
          <p:nvPr/>
        </p:nvSpPr>
        <p:spPr>
          <a:xfrm>
            <a:off x="4076640" y="4535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5"/>
          <p:cNvSpPr/>
          <p:nvPr/>
        </p:nvSpPr>
        <p:spPr>
          <a:xfrm>
            <a:off x="2028960" y="2209680"/>
            <a:ext cx="2044440" cy="3654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44"/>
          <p:cNvSpPr/>
          <p:nvPr/>
        </p:nvSpPr>
        <p:spPr>
          <a:xfrm>
            <a:off x="4073400" y="22096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5a11"/>
                </a:solidFill>
                <a:latin typeface="Calibri Ligh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8"/>
          <p:cNvSpPr/>
          <p:nvPr/>
        </p:nvSpPr>
        <p:spPr>
          <a:xfrm>
            <a:off x="2028960" y="3762360"/>
            <a:ext cx="2044440" cy="363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47"/>
          <p:cNvSpPr/>
          <p:nvPr/>
        </p:nvSpPr>
        <p:spPr>
          <a:xfrm>
            <a:off x="4073400" y="37623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9000"/>
                </a:solidFill>
                <a:latin typeface="Calibri Light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64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c7c7c"/>
                </a:solidFill>
                <a:latin typeface="Calibri Light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5a11"/>
                </a:solidFill>
                <a:latin typeface="Calibri Ligh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9000"/>
                </a:solidFill>
                <a:latin typeface="Calibri Light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e00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ff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100"/>
                </a:solidFill>
                <a:latin typeface="Arial"/>
                <a:ea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99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ac00"/>
                </a:solidFill>
                <a:latin typeface="Arial"/>
                <a:ea typeface="Arial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ff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a00"/>
                </a:solidFill>
                <a:latin typeface="Arial"/>
                <a:ea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98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e00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ff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100"/>
                </a:solidFill>
                <a:latin typeface="Arial"/>
                <a:ea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99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ac00"/>
                </a:solidFill>
                <a:latin typeface="Arial"/>
                <a:ea typeface="Arial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ff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a00"/>
                </a:solidFill>
                <a:latin typeface="Arial"/>
                <a:ea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41Z</dcterms:created>
  <dc:creator>lichun zhou</dc:creator>
  <dc:description/>
  <dc:language>en-US</dc:language>
  <cp:lastModifiedBy>Administrator</cp:lastModifiedBy>
  <dcterms:modified xsi:type="dcterms:W3CDTF">2016-03-09T05:08:52Z</dcterms:modified>
  <cp:revision>7</cp:revision>
  <dc:subject/>
  <dc:title>时间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43</vt:lpwstr>
  </property>
  <property fmtid="{D5CDD505-2E9C-101B-9397-08002B2CF9AE}" pid="3" name="name">
    <vt:lpwstr>A000520150330A39PPTS.ppt</vt:lpwstr>
  </property>
</Properties>
</file>