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2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EEA-E9A8-4D04-AD4A-DCC03937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170-7CAC-4B35-A101-7BDCFB87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1D7C8-A6CC-4A80-8F52-79C7BCBA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6677A-7638-4E2E-BA0A-ADB7031C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F5ED5-3759-41DA-957B-08524F99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772A0-813E-43BC-84D3-2CF9E982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144A4-F8D1-4F13-A8C0-668DE36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CF53F-327E-40ED-B255-2FBFE1FC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624AF-3C47-4CA2-83C0-1C47A25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4B49E-A8AE-4D2A-BC0E-92979C3B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42D97-03D0-4245-81CD-F0B72E5B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F3BAE-D32D-4231-9908-236A015B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4E3-EF9D-4EBE-85A4-4B5FCBA7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5A667-95F6-475E-8753-6BE26799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85D8B-9966-4DE4-A4D5-5D4086ED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EFE71-D196-4624-A5A6-0D32D360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5EFD8-A33F-4F26-9DA7-1C967C1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E1640-8CE4-44BC-A635-1264BC35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2FA80-BE95-4763-A98F-4A5CFC4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8A181-9AD8-4EA4-993D-E74B03D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053A3-FAC7-4375-9D62-C3164550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7ED4F-D649-4A64-95AA-80A0A3CF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B86A-0004-4C82-9136-6C8608A3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401-160E-4ED9-8793-D32E7144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64D95-5605-4AF0-AEA8-BF012C5A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DBCF9-6940-423A-9072-6BDB7690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9D126-1F98-45B3-BE3A-85A0389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CA48-3EAC-4D8F-9ADD-143AEF82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AF4A5-D4C4-47F9-8C22-A40A80E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F97F7-3706-470C-8583-5C605139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3A75A-0583-4840-8BBB-99A4B20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0EDC9-54A7-45E0-BF14-94587DD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F055C-3D67-4AF5-9298-AC38836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F3554-074A-4D88-8455-D1BCFEE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758-D473-440E-83E5-AEA4B14E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9DABC-FF47-4D1D-9AFA-8CDEBBD7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6E889-299E-4EE8-8C41-2D8D021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E8E04-C88B-4124-BEDF-0AAD06A6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E384-86A4-4B0B-A89A-99A4E43B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8688-9B52-436C-B8C6-7B9752C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8187-E37A-4356-930F-C1B419D4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5317-2CC3-4D76-8C67-1D04E47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3D93-13B4-4B57-846E-03D8E46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C21-93D6-45C3-B2CD-33429C8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7E7-59A7-44FD-864C-99BE5589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FC8E-D713-498B-8B34-3BBB50E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7676-2881-47F9-9A51-85F279BE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3D83-785E-4A7B-8C21-27EA1109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B669-8523-4D32-A901-050A22E6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C99-971D-4082-B6EF-497EBC58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7C97-F220-4128-B49D-754B8703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D98C-81A0-4D3E-B6E9-5DBA94C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FBD0-6199-4A24-A9D6-B5E90F4E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7404-A740-4D57-893E-C67BF68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E123-8D84-4E7F-AA5A-B832BE8C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43E-1793-4D7D-BFB5-68587B47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271F-14DF-4C2E-9C46-36EEAF0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44F5-97D0-4CAC-9FA8-41BE445B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BB08-A17B-4191-AB35-8D72CCB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9F23-F51D-4D77-8B62-99C2805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7A7B-0233-4E9A-881C-1C1B7665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6FDE-FF6B-4958-B793-D016007A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D480-626A-440E-A1F7-5EAA6519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E1F9-A592-4D36-AAEC-FC633C51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371EB-1623-483B-AA87-C939699A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6E83-138F-4FF1-B371-5333B057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032-1EBE-4F66-AD1F-BA90323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58AB-9793-4FB1-9093-725C8C94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7681-C3C2-4756-AABE-CB5C931A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EB81-6E4E-41E8-B885-6D7A2FB4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CDC9-86BC-45C5-BEF0-FEA5DDE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29F2-061D-4590-8074-2678922A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69A5-7395-49C1-9EBA-E75A76E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5E7C-092D-409B-8CF0-E6D5A2F8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AB76E-0A4B-4618-A5A3-65B50C71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01977-9332-4AC9-9C0F-7BF10679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93685-919E-4C3A-8036-E9E52B3E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D51-C5E4-4845-86F8-CB9DC6D1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F926-6FD3-4AE4-84E0-392ECA61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AC6D-B33A-4FE0-AE1D-2E50C93D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4233-F30D-4F76-8420-EA8A67E5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54B0-B66D-41FB-A401-A6251AC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A037-7CEC-4723-9B02-FF879CA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330B-EF76-4B70-9CCA-8D32273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2A56-E21D-4CCF-8019-78C96EB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E261-D54B-4D35-9D23-8A35C35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F64B-2351-4780-8DA0-E2041E3F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6AD8-B601-46AD-806F-2604A2C4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C5A-758E-43B8-9DD9-208F40EE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BD42-91EA-44E8-958D-6AA0311A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9A6A-71FA-46E8-81AB-62443D0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A529-DDEF-43BA-9102-00354B7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267B-8725-45F8-A1F3-DB5A9A2D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9CA68-CD33-417C-9F34-2460F02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FB6B-6904-4795-A12D-94B08B66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E89B0-DD29-4521-B7D8-A72FB0DD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1AB6-2E38-40D5-9C4A-230A881D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15B1E-05C9-4B7A-8A7A-5A72879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572F2-E17A-44AE-90B4-CA32C89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331-A226-403B-AB49-81BB482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7485E-ECA9-4C1C-A6A9-5064AE45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33A9C-E67E-4FA3-8754-407A4436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08BA-C9A4-4052-B11F-516B7AD8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A6479-B517-4ACE-8F48-DFA2EE94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4A910-AFEB-41A7-9BD0-810C3CA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567EF-E5C1-4202-97FD-D98751C5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54F0A-EBB0-4BA8-9E43-1FE74673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C5D0-6B68-45C8-BA5F-97FE9BD8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1CC2-3C60-4446-968F-465E2DB5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ECBD-7DE0-4777-AE2F-8849599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B29-6868-46E8-8218-C27546C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2410-05F8-4826-A87A-AA48B2C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AAE19-7295-4E0B-971A-D8D4C85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1DA64-AFA4-4370-B841-0A7F558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F308-C83E-4F87-BB3B-0756F658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D1D73-593E-4CCD-BEB9-146FF168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C25B6-05AA-4D87-BEB6-5DE7E0E8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EE47E-69D1-411D-B972-F64C44F5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787F-454C-443C-863F-33D40E3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63A3-9A6C-4972-BB94-C397A17E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7550B-8FD2-48D7-93A9-9AB41682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45F-F175-4E80-B1BF-4F7C3B1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D7845-6BBE-4BD1-893F-19C287D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B3E0E-68D4-495A-98A1-D833F1A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8C769-3361-4645-9445-E41576F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A4565-7C4D-48FA-844D-D71ECF0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8E6D7-9611-4E30-9634-4886C107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8CA3-63DC-4545-8750-B86AD608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CF24-3A1D-4CA0-9D3F-BA014C4C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97B7F-5BEB-48BF-9229-F70B9053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16C2B-7E2D-492E-9AB8-30A832F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812D6-BEDF-4E03-A694-5013528F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2B27-4F86-49FA-91F3-AE435B84BFE8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4B07-12BE-4941-8921-5C18CDBDCC8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A5E-91A1-474D-B59F-A85DF937F4C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876D-9EB6-4677-8F38-8A6A83C69FA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08E2-429F-4618-A7FB-E1B26D1722E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3410-88CA-462A-A831-1282BCBF97E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04F1-A6B6-4697-8543-AF021A2536D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49C-C6F6-4F88-94B0-133AE037C1A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9B41-F2F7-4D09-AA97-B1A0192301F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0DDF-55AA-4564-890E-E0C67226A8A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6653-D16A-45EE-BEEE-FBD03B08CAB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2B95-DEC0-48B0-80EC-8C3E7465A2E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wmf"/><Relationship Id="rId3" Type="http://schemas.openxmlformats.org/officeDocument/2006/relationships/image" Target="../media/image22.png"/><Relationship Id="rId4" Type="http://schemas.openxmlformats.org/officeDocument/2006/relationships/image" Target="../media/image4.wmf"/><Relationship Id="rId5" Type="http://schemas.openxmlformats.org/officeDocument/2006/relationships/image" Target="../media/image22.png"/><Relationship Id="rId6" Type="http://schemas.openxmlformats.org/officeDocument/2006/relationships/image" Target="../media/image4.wmf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3135" descr="ch069-0241"/>
          <p:cNvPicPr/>
          <p:nvPr/>
        </p:nvPicPr>
        <p:blipFill>
          <a:blip r:embed="rId1"/>
          <a:srcRect l="0" t="3312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矩形 3114"/>
          <p:cNvSpPr/>
          <p:nvPr/>
        </p:nvSpPr>
        <p:spPr>
          <a:xfrm>
            <a:off x="324000" y="26028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15"/>
          <p:cNvSpPr/>
          <p:nvPr/>
        </p:nvSpPr>
        <p:spPr>
          <a:xfrm>
            <a:off x="757080" y="109872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5BE7-26EF-42F2-89B5-A497DF3D973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DFAE-EA03-472F-B5C1-163044C480E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747" name="文本框 1"/>
          <p:cNvSpPr/>
          <p:nvPr/>
        </p:nvSpPr>
        <p:spPr>
          <a:xfrm>
            <a:off x="1609560" y="6211800"/>
            <a:ext cx="70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F90-55F5-4432-B8F1-5D8DF81BB1F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771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B35-9C37-48B1-9F7E-8CA7F3FA3E4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774" name="组合 15363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775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15365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777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文本框 15367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/>
              <a:ahLst/>
              <a:rect l="l" t="t" r="r" b="b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15373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785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组合 15375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787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文本框 15377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15382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794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组合 15384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796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文本框 15386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组合 15392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804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组合 15394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806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文本框 15396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组合 15400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812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/>
                <a:ahLst/>
                <a:rect l="l" t="t" r="r" b="b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2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89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518-F38B-4267-ABD3-BCB8B4FEC44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16386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826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AutoShape 12"/>
          <p:cNvCxnSpPr>
            <a:stCxn id="841" idx="0"/>
            <a:endCxn id="842" idx="0"/>
          </p:cNvCxnSpPr>
          <p:nvPr/>
        </p:nvCxnSpPr>
        <p:spPr>
          <a:xfrm>
            <a:off x="1639440" y="4435920"/>
            <a:ext cx="593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843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860" name="文本框 1"/>
          <p:cNvSpPr/>
          <p:nvPr/>
        </p:nvSpPr>
        <p:spPr>
          <a:xfrm>
            <a:off x="385920" y="5791320"/>
            <a:ext cx="62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18446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875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组合 18449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878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18452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881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18455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884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18458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887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8461"/>
          <p:cNvGrpSpPr/>
          <p:nvPr/>
        </p:nvGrpSpPr>
        <p:grpSpPr>
          <a:xfrm>
            <a:off x="4307760" y="1875960"/>
            <a:ext cx="426960" cy="426600"/>
            <a:chOff x="4307760" y="1875960"/>
            <a:chExt cx="426960" cy="426600"/>
          </a:xfrm>
        </p:grpSpPr>
        <p:sp>
          <p:nvSpPr>
            <p:cNvPr id="890" name="AutoShape 31"/>
            <p:cNvSpPr/>
            <p:nvPr/>
          </p:nvSpPr>
          <p:spPr>
            <a:xfrm rot="13500000">
              <a:off x="4370400" y="1938240"/>
              <a:ext cx="3016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32"/>
            <p:cNvSpPr/>
            <p:nvPr/>
          </p:nvSpPr>
          <p:spPr>
            <a:xfrm rot="13500000">
              <a:off x="4408560" y="1984320"/>
              <a:ext cx="21024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3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4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5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6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7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898" name="组合 18470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899" name="组合 18471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900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未知"/>
            <p:cNvSpPr/>
            <p:nvPr/>
          </p:nvSpPr>
          <p:spPr>
            <a:xfrm rot="16200000">
              <a:off x="3857400" y="305352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 rot="5400000">
              <a:off x="4195080" y="20584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05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906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276-2B83-44CF-865B-B26876DAB54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3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7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AutoShape 22"/>
          <p:cNvCxnSpPr>
            <a:stCxn id="919" idx="1"/>
            <a:endCxn id="917" idx="1"/>
          </p:cNvCxnSpPr>
          <p:nvPr/>
        </p:nvCxnSpPr>
        <p:spPr>
          <a:xfrm flipV="1">
            <a:off x="3346920" y="1878840"/>
            <a:ext cx="252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33" name="AutoShape 23"/>
          <p:cNvCxnSpPr>
            <a:stCxn id="913" idx="0"/>
            <a:endCxn id="917" idx="1"/>
          </p:cNvCxnSpPr>
          <p:nvPr/>
        </p:nvCxnSpPr>
        <p:spPr>
          <a:xfrm flipV="1">
            <a:off x="1595160" y="2066400"/>
            <a:ext cx="1516680" cy="681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4" name="AutoShape 24"/>
          <p:cNvCxnSpPr>
            <a:stCxn id="919" idx="2"/>
            <a:endCxn id="921" idx="0"/>
          </p:cNvCxnSpPr>
          <p:nvPr/>
        </p:nvCxnSpPr>
        <p:spPr>
          <a:xfrm flipH="1">
            <a:off x="4889160" y="2573280"/>
            <a:ext cx="2160" cy="1389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5" name="AutoShape 25"/>
          <p:cNvCxnSpPr>
            <a:stCxn id="923" idx="2"/>
            <a:endCxn id="925" idx="0"/>
          </p:cNvCxnSpPr>
          <p:nvPr/>
        </p:nvCxnSpPr>
        <p:spPr>
          <a:xfrm flipH="1">
            <a:off x="4889160" y="3544560"/>
            <a:ext cx="2160" cy="1371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6" name="AutoShape 26"/>
          <p:cNvCxnSpPr>
            <a:stCxn id="927" idx="2"/>
            <a:endCxn id="929" idx="0"/>
          </p:cNvCxnSpPr>
          <p:nvPr/>
        </p:nvCxnSpPr>
        <p:spPr>
          <a:xfrm flipH="1">
            <a:off x="4889160" y="4514760"/>
            <a:ext cx="2160" cy="14832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937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9"/>
          <p:cNvCxnSpPr>
            <a:stCxn id="927" idx="2"/>
            <a:endCxn id="929" idx="0"/>
          </p:cNvCxnSpPr>
          <p:nvPr/>
        </p:nvCxnSpPr>
        <p:spPr>
          <a:xfrm>
            <a:off x="6402240" y="3857760"/>
            <a:ext cx="5760" cy="42912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40" name="AutoShape 30"/>
          <p:cNvCxnSpPr>
            <a:stCxn id="927" idx="2"/>
            <a:endCxn id="929" idx="0"/>
          </p:cNvCxnSpPr>
          <p:nvPr/>
        </p:nvCxnSpPr>
        <p:spPr>
          <a:xfrm flipH="1" flipV="1">
            <a:off x="6401880" y="4828320"/>
            <a:ext cx="57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sp>
        <p:nvSpPr>
          <p:cNvPr id="941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F5D5-D586-4125-B26B-323DC8F20E5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24C-A5BB-447F-8883-733C2219EA9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8C9-1FA1-43FB-928C-B9DD0E14055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34819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57" name="组合 34820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5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4828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466" name="组合 34829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46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组合 34837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475" name="组合 34838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47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组合 34846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484" name="组合 34847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48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C02D-1B77-4557-969D-CA7A2D15ED6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84E1-1E67-4485-9348-7693FC5D013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13"/>
          <p:cNvSpPr/>
          <p:nvPr/>
        </p:nvSpPr>
        <p:spPr>
          <a:xfrm flipV="1" rot="16200000">
            <a:off x="4152240" y="3584520"/>
            <a:ext cx="2524320" cy="6793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9"/>
          <p:cNvSpPr/>
          <p:nvPr/>
        </p:nvSpPr>
        <p:spPr>
          <a:xfrm>
            <a:off x="1928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0"/>
          <p:cNvSpPr/>
          <p:nvPr/>
        </p:nvSpPr>
        <p:spPr>
          <a:xfrm>
            <a:off x="2936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1"/>
          <p:cNvSpPr/>
          <p:nvPr/>
        </p:nvSpPr>
        <p:spPr>
          <a:xfrm>
            <a:off x="3944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2"/>
          <p:cNvSpPr/>
          <p:nvPr/>
        </p:nvSpPr>
        <p:spPr>
          <a:xfrm>
            <a:off x="4952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3"/>
          <p:cNvSpPr/>
          <p:nvPr/>
        </p:nvSpPr>
        <p:spPr>
          <a:xfrm>
            <a:off x="603216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DFA6-DAC1-4756-9622-45F51130E82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0"/>
          <p:cNvSpPr/>
          <p:nvPr/>
        </p:nvSpPr>
        <p:spPr>
          <a:xfrm>
            <a:off x="2135160" y="2928960"/>
            <a:ext cx="21146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4890240" y="2928960"/>
            <a:ext cx="2116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round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1052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1055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056" name="文本框 1"/>
          <p:cNvSpPr/>
          <p:nvPr/>
        </p:nvSpPr>
        <p:spPr>
          <a:xfrm>
            <a:off x="701640" y="5540400"/>
            <a:ext cx="80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BDF-FEF9-4865-96FE-A964D3D4C30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组合 26627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1060" name="组合 26628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1061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3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组合 26632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1065" name="组合 26633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1066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8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9" name="组合 26637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1070" name="组合 26638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1071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4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WordArt 20" descr=""/>
          <p:cNvPicPr/>
          <p:nvPr/>
        </p:nvPicPr>
        <p:blipFill>
          <a:blip r:embed="rId7"/>
          <a:stretch/>
        </p:blipFill>
        <p:spPr>
          <a:xfrm>
            <a:off x="3986280" y="3211560"/>
            <a:ext cx="752400" cy="525240"/>
          </a:xfrm>
          <a:prstGeom prst="rect">
            <a:avLst/>
          </a:prstGeom>
          <a:ln w="0">
            <a:noFill/>
          </a:ln>
        </p:spPr>
      </p:pic>
      <p:pic>
        <p:nvPicPr>
          <p:cNvPr id="1077" name="WordArt 21" descr=""/>
          <p:cNvPicPr/>
          <p:nvPr/>
        </p:nvPicPr>
        <p:blipFill>
          <a:blip r:embed="rId8"/>
          <a:stretch/>
        </p:blipFill>
        <p:spPr>
          <a:xfrm>
            <a:off x="6558120" y="3211560"/>
            <a:ext cx="753840" cy="525240"/>
          </a:xfrm>
          <a:prstGeom prst="rect">
            <a:avLst/>
          </a:prstGeom>
          <a:ln w="0">
            <a:noFill/>
          </a:ln>
        </p:spPr>
      </p:pic>
      <p:pic>
        <p:nvPicPr>
          <p:cNvPr id="1078" name="WordArt 22" descr=""/>
          <p:cNvPicPr/>
          <p:nvPr/>
        </p:nvPicPr>
        <p:blipFill>
          <a:blip r:embed="rId9"/>
          <a:stretch/>
        </p:blipFill>
        <p:spPr>
          <a:xfrm>
            <a:off x="1427040" y="3211560"/>
            <a:ext cx="754200" cy="525240"/>
          </a:xfrm>
          <a:prstGeom prst="rect">
            <a:avLst/>
          </a:prstGeom>
          <a:ln w="0">
            <a:noFill/>
          </a:ln>
        </p:spPr>
      </p:pic>
      <p:sp>
        <p:nvSpPr>
          <p:cNvPr id="1079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WordArt 26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5CB5-C8FB-4DA1-8A69-B7DDACCBEB6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9"/>
          <p:cNvSpPr/>
          <p:nvPr/>
        </p:nvSpPr>
        <p:spPr>
          <a:xfrm rot="7527600">
            <a:off x="1663920" y="3624480"/>
            <a:ext cx="158904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27653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108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组合 27656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1091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27659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1094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27662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1097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组合 27666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1101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7670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1105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112" name="文本框 1"/>
          <p:cNvSpPr/>
          <p:nvPr/>
        </p:nvSpPr>
        <p:spPr>
          <a:xfrm>
            <a:off x="1231920" y="574848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A0A0-6ACA-4EC1-891B-1E18D66FDDE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28683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1124" name="组合 28684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1125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30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C6B-9341-4CFC-B3AA-ECF3ADB1F84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/>
            <a:ahLst/>
            <a:rect l="l" t="t" r="r" b="b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5A36-955E-4D6E-9888-1D0B406E96F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/>
            <a:ahLst/>
            <a:rect l="l" t="t" r="r" b="b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/>
            <a:ahLst/>
            <a:rect l="l" t="t" r="r" b="b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/>
            <a:ahLst/>
            <a:rect l="l" t="t" r="r" b="b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/>
            <a:ahLst/>
            <a:rect l="l" t="t" r="r" b="b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/>
            <a:ahLst/>
            <a:rect l="l" t="t" r="r" b="b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/>
            <a:ahLst/>
            <a:rect l="l" t="t" r="r" b="b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/>
            <a:ahLst/>
            <a:rect l="l" t="t" r="r" b="b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30729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1161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30733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1165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30737"/>
          <p:cNvGrpSpPr/>
          <p:nvPr/>
        </p:nvGrpSpPr>
        <p:grpSpPr>
          <a:xfrm>
            <a:off x="2556000" y="3143160"/>
            <a:ext cx="745560" cy="758880"/>
            <a:chOff x="2556000" y="3143160"/>
            <a:chExt cx="745560" cy="758880"/>
          </a:xfrm>
        </p:grpSpPr>
        <p:pic>
          <p:nvPicPr>
            <p:cNvPr id="1169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0" name="组合 30739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1171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3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组合 30743"/>
            <p:cNvGrpSpPr/>
            <p:nvPr/>
          </p:nvGrpSpPr>
          <p:grpSpPr>
            <a:xfrm>
              <a:off x="2611080" y="3643200"/>
              <a:ext cx="651960" cy="258840"/>
              <a:chOff x="2611080" y="3643200"/>
              <a:chExt cx="651960" cy="258840"/>
            </a:xfrm>
          </p:grpSpPr>
          <p:grpSp>
            <p:nvGrpSpPr>
              <p:cNvPr id="1175" name="组合 30744"/>
              <p:cNvGrpSpPr/>
              <p:nvPr/>
            </p:nvGrpSpPr>
            <p:grpSpPr>
              <a:xfrm>
                <a:off x="2724480" y="3643200"/>
                <a:ext cx="538560" cy="243720"/>
                <a:chOff x="2724480" y="3643200"/>
                <a:chExt cx="538560" cy="243720"/>
              </a:xfrm>
            </p:grpSpPr>
            <p:sp>
              <p:nvSpPr>
                <p:cNvPr id="1176" name="AutoShape 17"/>
                <p:cNvSpPr/>
                <p:nvPr/>
              </p:nvSpPr>
              <p:spPr>
                <a:xfrm flipH="1" flipV="1" rot="3964800">
                  <a:off x="3017880" y="356868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18"/>
                <p:cNvSpPr/>
                <p:nvPr/>
              </p:nvSpPr>
              <p:spPr>
                <a:xfrm flipH="1" flipV="1" rot="4780200">
                  <a:off x="2957400" y="35920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AutoShape 19"/>
                <p:cNvSpPr/>
                <p:nvPr/>
              </p:nvSpPr>
              <p:spPr>
                <a:xfrm flipH="1" flipV="1" rot="5076000">
                  <a:off x="2919600" y="35974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AutoShape 20"/>
                <p:cNvSpPr/>
                <p:nvPr/>
              </p:nvSpPr>
              <p:spPr>
                <a:xfrm flipH="1" flipV="1" rot="5608200">
                  <a:off x="2875680" y="3601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组合 30749"/>
              <p:cNvGrpSpPr/>
              <p:nvPr/>
            </p:nvGrpSpPr>
            <p:grpSpPr>
              <a:xfrm>
                <a:off x="2611080" y="3646440"/>
                <a:ext cx="537840" cy="255600"/>
                <a:chOff x="2611080" y="3646440"/>
                <a:chExt cx="537840" cy="255600"/>
              </a:xfrm>
            </p:grpSpPr>
            <p:sp>
              <p:nvSpPr>
                <p:cNvPr id="1181" name="AutoShape 22"/>
                <p:cNvSpPr/>
                <p:nvPr/>
              </p:nvSpPr>
              <p:spPr>
                <a:xfrm flipH="1" flipV="1" rot="5317800">
                  <a:off x="2904840" y="36025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AutoShape 23"/>
                <p:cNvSpPr/>
                <p:nvPr/>
              </p:nvSpPr>
              <p:spPr>
                <a:xfrm flipH="1" flipV="1" rot="6133800">
                  <a:off x="2840040" y="360072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AutoShape 24"/>
                <p:cNvSpPr/>
                <p:nvPr/>
              </p:nvSpPr>
              <p:spPr>
                <a:xfrm flipH="1" flipV="1" rot="6429000">
                  <a:off x="2802960" y="359136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AutoShape 25"/>
                <p:cNvSpPr/>
                <p:nvPr/>
              </p:nvSpPr>
              <p:spPr>
                <a:xfrm flipH="1" flipV="1" rot="6961200">
                  <a:off x="2760840" y="357804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5" name="组合 30754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1186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7" name="组合 30756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1188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0760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1192" name="组合 30761"/>
              <p:cNvGrpSpPr/>
              <p:nvPr/>
            </p:nvGrpSpPr>
            <p:grpSpPr>
              <a:xfrm>
                <a:off x="3767760" y="2382480"/>
                <a:ext cx="424080" cy="192960"/>
                <a:chOff x="3767760" y="2382480"/>
                <a:chExt cx="424080" cy="192960"/>
              </a:xfrm>
            </p:grpSpPr>
            <p:sp>
              <p:nvSpPr>
                <p:cNvPr id="1193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AutoShape 19"/>
                <p:cNvSpPr/>
                <p:nvPr/>
              </p:nvSpPr>
              <p:spPr>
                <a:xfrm flipH="1" flipV="1" rot="5076000">
                  <a:off x="3922560" y="234720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20"/>
                <p:cNvSpPr/>
                <p:nvPr/>
              </p:nvSpPr>
              <p:spPr>
                <a:xfrm flipH="1" flipV="1" rot="5608200">
                  <a:off x="388764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组合 30766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1198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24"/>
                <p:cNvSpPr/>
                <p:nvPr/>
              </p:nvSpPr>
              <p:spPr>
                <a:xfrm flipH="1" flipV="1" rot="6429000">
                  <a:off x="3829680" y="2341800"/>
                  <a:ext cx="7380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2" name="组合 30771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1203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4" name="组合 30773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1205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组合 30777"/>
            <p:cNvGrpSpPr/>
            <p:nvPr/>
          </p:nvGrpSpPr>
          <p:grpSpPr>
            <a:xfrm>
              <a:off x="5448600" y="2721240"/>
              <a:ext cx="395280" cy="158400"/>
              <a:chOff x="5448600" y="2721240"/>
              <a:chExt cx="395280" cy="158400"/>
            </a:xfrm>
          </p:grpSpPr>
          <p:grpSp>
            <p:nvGrpSpPr>
              <p:cNvPr id="1209" name="组合 30778"/>
              <p:cNvGrpSpPr/>
              <p:nvPr/>
            </p:nvGrpSpPr>
            <p:grpSpPr>
              <a:xfrm>
                <a:off x="5517000" y="2721240"/>
                <a:ext cx="326880" cy="148680"/>
                <a:chOff x="5517000" y="2721240"/>
                <a:chExt cx="326880" cy="148680"/>
              </a:xfrm>
            </p:grpSpPr>
            <p:sp>
              <p:nvSpPr>
                <p:cNvPr id="1210" name="AutoShape 17"/>
                <p:cNvSpPr/>
                <p:nvPr/>
              </p:nvSpPr>
              <p:spPr>
                <a:xfrm flipH="1" flipV="1" rot="3964800">
                  <a:off x="5694480" y="2675880"/>
                  <a:ext cx="56880" cy="23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18"/>
                <p:cNvSpPr/>
                <p:nvPr/>
              </p:nvSpPr>
              <p:spPr>
                <a:xfrm flipH="1" flipV="1" rot="4780200">
                  <a:off x="5658480" y="26906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AutoShape 20"/>
                <p:cNvSpPr/>
                <p:nvPr/>
              </p:nvSpPr>
              <p:spPr>
                <a:xfrm flipH="1" flipV="1" rot="5608200">
                  <a:off x="5608800" y="26971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组合 30783"/>
              <p:cNvGrpSpPr/>
              <p:nvPr/>
            </p:nvGrpSpPr>
            <p:grpSpPr>
              <a:xfrm>
                <a:off x="5448600" y="2724480"/>
                <a:ext cx="325800" cy="155160"/>
                <a:chOff x="5448600" y="2724480"/>
                <a:chExt cx="325800" cy="155160"/>
              </a:xfrm>
            </p:grpSpPr>
            <p:sp>
              <p:nvSpPr>
                <p:cNvPr id="1215" name="AutoShape 22"/>
                <p:cNvSpPr/>
                <p:nvPr/>
              </p:nvSpPr>
              <p:spPr>
                <a:xfrm flipH="1" flipV="1" rot="5317800">
                  <a:off x="5625720" y="269676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AutoShape 23"/>
                <p:cNvSpPr/>
                <p:nvPr/>
              </p:nvSpPr>
              <p:spPr>
                <a:xfrm flipH="1" flipV="1" rot="6133800">
                  <a:off x="5586840" y="269676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AutoShape 24"/>
                <p:cNvSpPr/>
                <p:nvPr/>
              </p:nvSpPr>
              <p:spPr>
                <a:xfrm flipH="1" flipV="1" rot="6429000">
                  <a:off x="5564880" y="26913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AutoShape 25"/>
                <p:cNvSpPr/>
                <p:nvPr/>
              </p:nvSpPr>
              <p:spPr>
                <a:xfrm flipH="1" flipV="1" rot="6961200">
                  <a:off x="553968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9" name="组合 30788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1220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30790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1222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组合 30794"/>
            <p:cNvGrpSpPr/>
            <p:nvPr/>
          </p:nvGrpSpPr>
          <p:grpSpPr>
            <a:xfrm>
              <a:off x="5621760" y="4390920"/>
              <a:ext cx="504360" cy="200520"/>
              <a:chOff x="5621760" y="4390920"/>
              <a:chExt cx="504360" cy="200520"/>
            </a:xfrm>
          </p:grpSpPr>
          <p:grpSp>
            <p:nvGrpSpPr>
              <p:cNvPr id="1226" name="组合 30795"/>
              <p:cNvGrpSpPr/>
              <p:nvPr/>
            </p:nvGrpSpPr>
            <p:grpSpPr>
              <a:xfrm>
                <a:off x="5709600" y="4390920"/>
                <a:ext cx="416520" cy="188640"/>
                <a:chOff x="5709600" y="4390920"/>
                <a:chExt cx="416520" cy="188640"/>
              </a:xfrm>
            </p:grpSpPr>
            <p:sp>
              <p:nvSpPr>
                <p:cNvPr id="1227" name="AutoShape 17"/>
                <p:cNvSpPr/>
                <p:nvPr/>
              </p:nvSpPr>
              <p:spPr>
                <a:xfrm flipH="1" flipV="1" rot="3964800">
                  <a:off x="5936400" y="433332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AutoShape 18"/>
                <p:cNvSpPr/>
                <p:nvPr/>
              </p:nvSpPr>
              <p:spPr>
                <a:xfrm flipH="1" flipV="1" rot="4780200">
                  <a:off x="588996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AutoShape 19"/>
                <p:cNvSpPr/>
                <p:nvPr/>
              </p:nvSpPr>
              <p:spPr>
                <a:xfrm flipH="1" flipV="1" rot="5076000">
                  <a:off x="5861160" y="43552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AutoShape 20"/>
                <p:cNvSpPr/>
                <p:nvPr/>
              </p:nvSpPr>
              <p:spPr>
                <a:xfrm flipH="1" flipV="1" rot="5608200">
                  <a:off x="5826600" y="4359240"/>
                  <a:ext cx="7200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组合 30800"/>
              <p:cNvGrpSpPr/>
              <p:nvPr/>
            </p:nvGrpSpPr>
            <p:grpSpPr>
              <a:xfrm>
                <a:off x="5621760" y="4393440"/>
                <a:ext cx="415800" cy="198000"/>
                <a:chOff x="5621760" y="4393440"/>
                <a:chExt cx="415800" cy="198000"/>
              </a:xfrm>
            </p:grpSpPr>
            <p:sp>
              <p:nvSpPr>
                <p:cNvPr id="1232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AutoShape 23"/>
                <p:cNvSpPr/>
                <p:nvPr/>
              </p:nvSpPr>
              <p:spPr>
                <a:xfrm flipH="1" flipV="1" rot="6133800">
                  <a:off x="5798880" y="435888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AutoShape 24"/>
                <p:cNvSpPr/>
                <p:nvPr/>
              </p:nvSpPr>
              <p:spPr>
                <a:xfrm flipH="1" flipV="1" rot="6429000">
                  <a:off x="5771520" y="4350960"/>
                  <a:ext cx="72360" cy="30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AutoShape 25"/>
                <p:cNvSpPr/>
                <p:nvPr/>
              </p:nvSpPr>
              <p:spPr>
                <a:xfrm flipH="1" flipV="1" rot="6961200">
                  <a:off x="573768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6" name="组合 30805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1237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CDE-B87C-4850-81B5-F1BED49ABC0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68" name="文本框 1"/>
          <p:cNvSpPr/>
          <p:nvPr/>
        </p:nvSpPr>
        <p:spPr>
          <a:xfrm>
            <a:off x="2254320" y="6186600"/>
            <a:ext cx="59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4A41-2EF8-42A7-A49D-AE3AAE95D60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88" name="文本框 1"/>
          <p:cNvSpPr/>
          <p:nvPr/>
        </p:nvSpPr>
        <p:spPr>
          <a:xfrm>
            <a:off x="873000" y="5278320"/>
            <a:ext cx="62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A979-829F-4EF2-83A8-E7E36CD6E9F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"/>
          <p:cNvSpPr/>
          <p:nvPr/>
        </p:nvSpPr>
        <p:spPr>
          <a:xfrm flipV="1">
            <a:off x="3557520" y="165240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 flipV="1">
            <a:off x="3557520" y="30938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 flipV="1">
            <a:off x="3557520" y="45320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614B-F801-49E3-B998-633526C32DC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5122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517" name="组合 5123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51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5145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54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组合 5167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562" name="组合 5168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56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组合 5173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56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5184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579" name="组合 5185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58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文本框 5187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5188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58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/>
                <a:ahLst/>
                <a:rect l="l" t="t" r="r" b="b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/>
                <a:ahLst/>
                <a:rect l="l" t="t" r="r" b="b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/>
                <a:ahLst/>
                <a:rect l="l" t="t" r="r" b="b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/>
                <a:ahLst/>
                <a:rect l="l" t="t" r="r" b="b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CE58-52B6-4A98-8E62-CC5C8C1174B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AutoShape 8"/>
          <p:cNvCxnSpPr/>
          <p:nvPr/>
        </p:nvCxnSpPr>
        <p:spPr>
          <a:xfrm flipV="1">
            <a:off x="2195640" y="2296800"/>
            <a:ext cx="1823040" cy="4262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7" name="AutoShape 9"/>
          <p:cNvCxnSpPr/>
          <p:nvPr/>
        </p:nvCxnSpPr>
        <p:spPr>
          <a:xfrm>
            <a:off x="2195640" y="4361040"/>
            <a:ext cx="1823040" cy="7466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8" name="AutoShape 10"/>
          <p:cNvCxnSpPr>
            <a:endCxn id="60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round/>
            <a:tailEnd len="med" type="triangle" w="med"/>
          </a:ln>
        </p:spPr>
      </p:cxnSp>
      <p:grpSp>
        <p:nvGrpSpPr>
          <p:cNvPr id="609" name="组合 6155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610" name="组合 6156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61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WordArt 16" descr=""/>
          <p:cNvPicPr/>
          <p:nvPr/>
        </p:nvPicPr>
        <p:blipFill>
          <a:blip r:embed="rId3"/>
          <a:stretch/>
        </p:blipFill>
        <p:spPr>
          <a:xfrm>
            <a:off x="1660680" y="3362400"/>
            <a:ext cx="1076040" cy="542880"/>
          </a:xfrm>
          <a:prstGeom prst="rect">
            <a:avLst/>
          </a:prstGeom>
          <a:ln w="0">
            <a:noFill/>
          </a:ln>
        </p:spPr>
      </p:pic>
      <p:pic>
        <p:nvPicPr>
          <p:cNvPr id="61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0D9-F4FD-4930-AAAB-03C336520B1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F68-0CEB-419F-A3EF-66502B22221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388E-54A2-4ACD-96ED-5D4230C734E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1"/>
          <p:cNvSpPr/>
          <p:nvPr/>
        </p:nvSpPr>
        <p:spPr>
          <a:xfrm>
            <a:off x="609480" y="5975280"/>
            <a:ext cx="66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9786-F125-4DCE-A766-F4D9F5D6EC3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11268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664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文本框 11270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11271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667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文本框 11273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11274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670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276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1277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673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文本框 11279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11280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676" name="组合 11281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677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未知"/>
            <p:cNvSpPr/>
            <p:nvPr/>
          </p:nvSpPr>
          <p:spPr>
            <a:xfrm rot="16200000">
              <a:off x="116208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 rot="5400000">
              <a:off x="131004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1286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682" name="组合 11287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683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未知"/>
            <p:cNvSpPr/>
            <p:nvPr/>
          </p:nvSpPr>
          <p:spPr>
            <a:xfrm rot="16200000">
              <a:off x="4150800" y="326232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 rot="5400000">
              <a:off x="434880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92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688" name="组合 11293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689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未知"/>
            <p:cNvSpPr/>
            <p:nvPr/>
          </p:nvSpPr>
          <p:spPr>
            <a:xfrm rot="16200000">
              <a:off x="735336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 rot="5400000">
              <a:off x="750132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2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3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4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5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708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dministrator</cp:lastModifiedBy>
  <dcterms:modified xsi:type="dcterms:W3CDTF">2017-07-07T17:42:18Z</dcterms:modified>
  <cp:revision>2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