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9.wmf" ContentType="image/x-wmf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13.jpeg" ContentType="image/jpeg"/>
  <Override PartName="/ppt/media/image23.png" ContentType="image/png"/>
  <Override PartName="/ppt/media/image4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25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36402-4AD6-4D04-8FAA-930113BD0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0571C-E5EE-4C2A-AF04-65C38210E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78B4F0-35C4-4E9B-A6AF-F8F7EE393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5CE825-99BC-456E-94D0-DBFA0747C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9114C8-2907-47D7-9B6E-E5A802E01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DF9DA3-657C-48DC-B42F-3B16A0E90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3FB7C1-7DF5-4368-A39F-01C477BDC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166037-709A-4E4B-9045-A680AA1EB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B99DE6-85B6-45E7-B6B3-8FCB381AB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A2B589-49BB-4EAC-B917-8CB6AAAFE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B98807-6697-4FC8-84B3-ACB5C38DA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34F9E2-5EB3-46E2-B13B-4CF76B146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222DF-77C3-436A-A42D-5B4D4DB67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F156EB-BA4E-47FB-86AA-536F046BC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D2730D-589D-4E5B-8B44-CA0A180C6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108A31-7272-4AED-9211-84714E181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AA2C5D-FB78-4FBA-9EAD-D12470A33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9C4CA8-F806-43F8-A51F-3C033A462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901440-373C-422E-BA6C-2F2D9D900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A0F7FC-CFF7-4F52-92E7-92DD83E9F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8AF5BE-AB7A-4CAC-AEDF-1534A8BEA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31F298-95A1-48A8-9760-3C0B0A087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E23628-BF50-4320-857D-259F6BF2B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2A073-30A0-4C6F-97A3-128B8D98E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5F70F0-6128-4619-B2C5-56E150E64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51D077-67FF-4E35-BD72-502A608CB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043887-F464-4C8B-AB26-D568601A1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49334D-C07E-4728-83EA-7185CC0B7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E3FB54-7477-475F-BDF7-2DD22EC38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0FA725-8354-4DAC-8B7F-6727E17C1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8E9C12-70DF-4790-BD7D-8A4D41BA7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631934-5578-4258-94B2-34A7B46E7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22273A-D844-43EC-9DC6-BA30C6756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646164-2D6F-40F7-B050-DD5F53279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E253E-9278-4D74-9C8C-0C5037E6D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923CB8-E980-49EB-8535-7E6D53BB7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BBC9A6-7FDE-46A5-A8AB-11FBE2DF1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0D3E8E-C9C7-4A40-9573-8E53D61FA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F8D5D9-B172-4914-A2B1-8F2DA1F31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890D51-A427-4DC4-93EB-4728A0D0A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75FFDA-8C5A-4D41-A51C-0DE9026F8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871EDE-0189-4E18-BE48-AA7E40BB6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83DB98-217B-40B3-AFDE-B368AFA0D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2C60E7-3B69-4F0E-A2B9-1AB2C6E4D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55C957-1917-413E-9E70-F00E74212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49E66-F01C-4E0D-86E1-68644993F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B722C8-3A29-483D-BA2D-9F7B4D937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9547C2-8E63-4F8E-ADAF-B6B1E804E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2FC6A5-42B4-457E-8995-75822A2ED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A361DA-EB73-4ACD-A599-0EC97E419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DE907B-D054-4E9B-AB7B-02B47E65E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9151D-81C7-47D8-BEAF-273681D88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D0235-CE16-4F9C-AE79-86A24B169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DAFB1-A9D7-43DE-9387-94664732F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B429F-16D8-44D5-9C06-105672D63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CE220-53A4-4F14-B71A-5CC4DCA31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28CB1-2994-4A02-8F53-7B7DD0893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B0832-828A-4AA2-8F98-9A5F794EF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FB9F3-9818-47ED-AB8F-9976DE666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67C87-43B6-47F7-ABDF-02EEABF27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5AE6A-9F43-469B-A109-3372548EC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DFE69-24E9-4F9A-A7C1-949673412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3C44A0-D958-4FF6-8E26-8C8C24C5F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3B4177-7C3C-4079-9D46-647D978EA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E609E5-8C75-4076-A6B3-2F2B9CC56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EF3204-ECAF-4490-A1C2-225348FA6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535117-5179-4A46-B228-F11539EF8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3E80F-BD18-491C-A9C0-94D797928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030BD7-B1D7-434E-9DE6-591272F4A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785AFB-26BE-46DA-B431-189965152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772C1E-2ABF-4710-9297-A0C325C6C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71E894-39D5-4B91-93CC-47D20089A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F76296-5013-4158-BCC4-BF46CD263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6C59A9-76C2-482E-8355-238AB5AC7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6A4998-9927-43BC-ADBE-EF07B8A65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E5FD11-3B46-49FD-A649-119038844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5C358E-C0C0-44A4-A9BB-180911744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9F4FD3-43DF-4A37-A2A6-0466C34A0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D645A-A764-4E9C-801C-73D4FA9E2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952E47-9DA7-4B06-A35B-B78BC947A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AE342C-28E4-4402-B335-BEB009308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088236-9A9D-4655-AF97-56DD7E748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048684-BF23-4CF5-B0DD-4418957B6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E03900-7D71-4EF5-B3D8-19455E8B9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86E820-8647-4195-800F-4B681F577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44BDE4-0EC3-4235-89D5-E003DE13D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D5C473-BF35-48FF-89A8-3B3FC54D1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80D3D8-E1C5-48DF-BEF8-24D81A350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1F81E3-2A4F-4420-983E-F709FEB8E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071E8-F184-4BB4-B4A7-5F99C83A9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63CCE4-8934-4453-B552-7BE44E95D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1877C6-6CE3-4AC9-8D5B-9CEE16EE3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B578EC-AC3B-4E30-A581-4EC82E3C8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A66FCB-0EC7-41D7-B7E2-13FD39423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8D81F7-B245-4320-960E-41AEEB3B6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97F5FA-0B48-466E-B130-92F1C3CDC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1D8577-2FB1-4EAB-B0EE-C02E1FCF0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9F51CE-F30E-4941-9026-DBDE065D3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2826A2-196D-4E74-988C-DA18EB03F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721DF2-080C-42E2-8722-57B4D81D6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F79E9-270D-4296-9ECE-73577C826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7B5C22-09AD-4224-8E37-7AA88494D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75016F-2738-4BF3-8433-9D3C08D18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FF393F-7A81-468E-BF88-92DE00323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DDCA4C-23A4-490C-BEBF-8BF51112A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72A6E0-C5BA-46A6-9EF1-47BF68608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7BDAA8-F93F-4E40-B01A-7069F62CD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CCE4E9-BCB5-461E-ADD3-BA9277221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4AA6DE-AE3F-43F7-A446-D5235E868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3B640E-5685-401E-A564-1E7B97AA6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B8747D-FA59-4012-A585-34CD729AD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58B20-73BC-4107-BC73-85C0ECCB4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DBCB6A-AE69-4BF3-8181-0A51FB97D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64408C-A79B-4338-993D-3FFCC1E7E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251F78-EC10-4DCF-A1A7-940B66624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A45C8D-2853-4F99-A9E2-8FBDB80E1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5A9AAA-89F1-422F-B574-B29748A04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08FFF2-D498-4683-884F-583D395C6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495994-258D-4C48-9FDD-76B2DB949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164489-3ED4-407E-88F5-AC35FE03C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0D3FD2-70CB-4C80-A4B0-ADF2DAF6C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76D480-D762-46FC-9A0A-D7B9DC2A1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D4451-1CCE-421B-931E-C63CBCE9A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1B9997-2D22-47DC-A955-8A24BAC50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D0EEF8-BE15-4621-96EE-8D546A473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6DA522-80AF-4D4B-9004-F3A6EC98B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82895A-316A-4D8C-9B8A-9C8A7DB3A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B4E0BC-C1DF-4DBA-BB44-67BA165CC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B3F3A2-740C-4CCF-A569-5C5DB6BB0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5758FB-E29E-4918-9CE8-213DFF3D8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CCD6BF-F68B-46EE-9DE1-B726A225B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2C7513-2207-4549-940D-4504922B0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590CB6-AC26-4344-A3A5-10CFF1804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64ED7-02DC-4B24-891E-1842315A9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6E8418-7A0C-4BD9-ACA7-B445F44F6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985C75-27BE-48B8-9A05-4E027C815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6F994C-6132-49ED-ABA1-F99A72847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78BE94-7700-49F9-9831-99F16F33B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91EA4D-0675-4832-ACDA-986D8AC0B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59E807-5452-4C46-AD05-1B33D807B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AF7C24-1115-48B3-8125-2BC703E66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F8F188-989B-4CC9-8934-C56BC6ADE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38AAD2-1884-43C1-96B9-128DDFB4A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F8ED4C-0B82-487B-A1F7-BE7BD2569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072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5156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47204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9252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9252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9252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4766760"/>
            <a:ext cx="30859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11392-95C8-4140-8626-212A8289C868}" type="slidenum">
              <a:rPr b="0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072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5156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47204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9252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9252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9252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2820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029040" y="4766760"/>
            <a:ext cx="30859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45768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69069-3BE4-485C-98F6-6D9F2656A117}" type="slidenum">
              <a:rPr b="0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072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5156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47204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9252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9252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9252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2820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029040" y="4766760"/>
            <a:ext cx="30859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45768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D240B-CB6F-441F-980B-8FF9DEC05326}" type="slidenum">
              <a:rPr b="0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072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5156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47204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9252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9252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9252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2820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029040" y="4766760"/>
            <a:ext cx="30859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45768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A1EEB-5B57-4CD8-9F68-A1069140F9D8}" type="slidenum">
              <a:rPr b="0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072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5156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47204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9252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9252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9252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4766760"/>
            <a:ext cx="30859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FFBF1-96F6-4365-9B7A-0F7AAED211B9}" type="slidenum">
              <a:rPr b="0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072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5156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47204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9252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9252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9252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2820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029040" y="4766760"/>
            <a:ext cx="30859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45768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22206-92BA-453D-B7A9-8F0FB5499A73}" type="slidenum">
              <a:rPr b="0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072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5156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47204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9252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9252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9252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2820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029040" y="4766760"/>
            <a:ext cx="30859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45768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913C6-85CB-41F2-898B-020F7C26F40B}" type="slidenum">
              <a:rPr b="0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072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5156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47204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9252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9252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9252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2820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029040" y="4766760"/>
            <a:ext cx="30859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45768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1A611-B16E-4EBF-9AB5-4677415F1F47}" type="slidenum">
              <a:rPr b="0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072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5156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47204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9252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9252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9252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2820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029040" y="4766760"/>
            <a:ext cx="30859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45768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9CE64-7522-4943-8780-A42436F79EF4}" type="slidenum">
              <a:rPr b="0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072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5156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47204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9252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9252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9252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2820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029040" y="4766760"/>
            <a:ext cx="30859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45768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80440-63DF-410E-8332-2A726743299D}" type="slidenum">
              <a:rPr b="0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072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5156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47204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9252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9252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9252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2820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029040" y="4766760"/>
            <a:ext cx="30859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45768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85AD1-7FA6-4258-8F8A-51FF514E0266}" type="slidenum">
              <a:rPr b="0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072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5156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47204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9252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9252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9252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2820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029040" y="4766760"/>
            <a:ext cx="30859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45768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9F8FF-05B8-4B8B-B0FC-9B88081CA710}" type="slidenum">
              <a:rPr b="0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9.wmf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4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8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8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8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8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8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4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图片 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493" name="六边形 8"/>
          <p:cNvSpPr/>
          <p:nvPr/>
        </p:nvSpPr>
        <p:spPr>
          <a:xfrm>
            <a:off x="3181320" y="1116000"/>
            <a:ext cx="2779920" cy="179712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ffffff">
              <a:alpha val="4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六边形 11"/>
          <p:cNvSpPr/>
          <p:nvPr/>
        </p:nvSpPr>
        <p:spPr>
          <a:xfrm>
            <a:off x="3300480" y="1192320"/>
            <a:ext cx="2543040" cy="1644480"/>
          </a:xfrm>
          <a:prstGeom prst="hexagon">
            <a:avLst>
              <a:gd name="adj" fmla="val 24993"/>
              <a:gd name="vf" fmla="val 115470"/>
            </a:avLst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直接连接符 13"/>
          <p:cNvSpPr/>
          <p:nvPr/>
        </p:nvSpPr>
        <p:spPr>
          <a:xfrm>
            <a:off x="1189080" y="3214800"/>
            <a:ext cx="6651720" cy="0"/>
          </a:xfrm>
          <a:prstGeom prst="line">
            <a:avLst/>
          </a:prstGeom>
          <a:ln w="5724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文本框 14"/>
          <p:cNvSpPr/>
          <p:nvPr/>
        </p:nvSpPr>
        <p:spPr>
          <a:xfrm>
            <a:off x="1986120" y="3349800"/>
            <a:ext cx="6956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企业商务模板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TextBox 7"/>
          <p:cNvSpPr/>
          <p:nvPr/>
        </p:nvSpPr>
        <p:spPr>
          <a:xfrm>
            <a:off x="3239640" y="1192320"/>
            <a:ext cx="2664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b050"/>
                </a:solidFill>
                <a:latin typeface="Calibri"/>
              </a:rPr>
              <a:t>201X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1" name="图片 19" descr=""/>
          <p:cNvPicPr/>
          <p:nvPr/>
        </p:nvPicPr>
        <p:blipFill>
          <a:blip r:embed="rId1"/>
          <a:stretch/>
        </p:blipFill>
        <p:spPr>
          <a:xfrm>
            <a:off x="0" y="141120"/>
            <a:ext cx="9144000" cy="233640"/>
          </a:xfrm>
          <a:prstGeom prst="rect">
            <a:avLst/>
          </a:prstGeom>
          <a:ln w="0">
            <a:noFill/>
          </a:ln>
        </p:spPr>
      </p:pic>
      <p:sp>
        <p:nvSpPr>
          <p:cNvPr id="642" name="文本框 20"/>
          <p:cNvSpPr/>
          <p:nvPr/>
        </p:nvSpPr>
        <p:spPr>
          <a:xfrm>
            <a:off x="3216240" y="108000"/>
            <a:ext cx="2711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ADD YOUR TITLE H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Rectangle 88"/>
          <p:cNvSpPr/>
          <p:nvPr/>
        </p:nvSpPr>
        <p:spPr>
          <a:xfrm>
            <a:off x="5388120" y="2163600"/>
            <a:ext cx="107640" cy="189000"/>
          </a:xfrm>
          <a:prstGeom prst="rect">
            <a:avLst/>
          </a:pr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Oval 2"/>
          <p:cNvSpPr/>
          <p:nvPr/>
        </p:nvSpPr>
        <p:spPr>
          <a:xfrm>
            <a:off x="2104920" y="2127240"/>
            <a:ext cx="1432080" cy="1073160"/>
          </a:xfrm>
          <a:prstGeom prst="ellipse">
            <a:avLst/>
          </a:prstGeom>
          <a:solidFill>
            <a:srgbClr val="c1c7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Oval 37"/>
          <p:cNvSpPr/>
          <p:nvPr/>
        </p:nvSpPr>
        <p:spPr>
          <a:xfrm>
            <a:off x="3656160" y="1863720"/>
            <a:ext cx="895320" cy="673200"/>
          </a:xfrm>
          <a:prstGeom prst="ellipse">
            <a:avLst/>
          </a:pr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Oval 38"/>
          <p:cNvSpPr/>
          <p:nvPr/>
        </p:nvSpPr>
        <p:spPr>
          <a:xfrm>
            <a:off x="1092240" y="1863720"/>
            <a:ext cx="895320" cy="673200"/>
          </a:xfrm>
          <a:prstGeom prst="ellipse">
            <a:avLst/>
          </a:pr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Oval 39"/>
          <p:cNvSpPr/>
          <p:nvPr/>
        </p:nvSpPr>
        <p:spPr>
          <a:xfrm>
            <a:off x="3656160" y="2884320"/>
            <a:ext cx="895320" cy="671760"/>
          </a:xfrm>
          <a:prstGeom prst="ellipse">
            <a:avLst/>
          </a:pr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Oval 41"/>
          <p:cNvSpPr/>
          <p:nvPr/>
        </p:nvSpPr>
        <p:spPr>
          <a:xfrm>
            <a:off x="1092240" y="2886120"/>
            <a:ext cx="895320" cy="671400"/>
          </a:xfrm>
          <a:prstGeom prst="ellipse">
            <a:avLst/>
          </a:pr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Straight Connector 5"/>
          <p:cNvSpPr/>
          <p:nvPr/>
        </p:nvSpPr>
        <p:spPr>
          <a:xfrm>
            <a:off x="1944720" y="2360520"/>
            <a:ext cx="217440" cy="69840"/>
          </a:xfrm>
          <a:prstGeom prst="line">
            <a:avLst/>
          </a:prstGeom>
          <a:ln w="1908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Straight Connector 44"/>
          <p:cNvSpPr/>
          <p:nvPr/>
        </p:nvSpPr>
        <p:spPr>
          <a:xfrm flipV="1">
            <a:off x="1969920" y="2945880"/>
            <a:ext cx="252720" cy="125640"/>
          </a:xfrm>
          <a:prstGeom prst="line">
            <a:avLst/>
          </a:prstGeom>
          <a:ln w="1908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Straight Connector 46"/>
          <p:cNvSpPr/>
          <p:nvPr/>
        </p:nvSpPr>
        <p:spPr>
          <a:xfrm flipV="1">
            <a:off x="3481560" y="2360520"/>
            <a:ext cx="233280" cy="69840"/>
          </a:xfrm>
          <a:prstGeom prst="line">
            <a:avLst/>
          </a:prstGeom>
          <a:ln w="1908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Straight Connector 48"/>
          <p:cNvSpPr/>
          <p:nvPr/>
        </p:nvSpPr>
        <p:spPr>
          <a:xfrm>
            <a:off x="3427560" y="2946240"/>
            <a:ext cx="279360" cy="125640"/>
          </a:xfrm>
          <a:prstGeom prst="line">
            <a:avLst/>
          </a:prstGeom>
          <a:ln w="1908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3" name="Picture 12" descr=""/>
          <p:cNvPicPr/>
          <p:nvPr/>
        </p:nvPicPr>
        <p:blipFill>
          <a:blip r:embed="rId2"/>
          <a:stretch/>
        </p:blipFill>
        <p:spPr>
          <a:xfrm>
            <a:off x="2505240" y="2398680"/>
            <a:ext cx="618840" cy="517680"/>
          </a:xfrm>
          <a:prstGeom prst="rect">
            <a:avLst/>
          </a:prstGeom>
          <a:ln w="0">
            <a:noFill/>
          </a:ln>
        </p:spPr>
      </p:pic>
      <p:pic>
        <p:nvPicPr>
          <p:cNvPr id="654" name="组合 14" descr=""/>
          <p:cNvPicPr/>
          <p:nvPr/>
        </p:nvPicPr>
        <p:blipFill>
          <a:blip r:embed="rId3"/>
          <a:stretch/>
        </p:blipFill>
        <p:spPr>
          <a:xfrm>
            <a:off x="3932280" y="3086280"/>
            <a:ext cx="341280" cy="264960"/>
          </a:xfrm>
          <a:prstGeom prst="rect">
            <a:avLst/>
          </a:prstGeom>
          <a:ln w="0">
            <a:noFill/>
          </a:ln>
        </p:spPr>
      </p:pic>
      <p:pic>
        <p:nvPicPr>
          <p:cNvPr id="655" name="组合 18" descr=""/>
          <p:cNvPicPr/>
          <p:nvPr/>
        </p:nvPicPr>
        <p:blipFill>
          <a:blip r:embed="rId4"/>
          <a:stretch/>
        </p:blipFill>
        <p:spPr>
          <a:xfrm>
            <a:off x="3919680" y="2075040"/>
            <a:ext cx="334800" cy="252360"/>
          </a:xfrm>
          <a:prstGeom prst="rect">
            <a:avLst/>
          </a:prstGeom>
          <a:ln w="0">
            <a:noFill/>
          </a:ln>
        </p:spPr>
      </p:pic>
      <p:grpSp>
        <p:nvGrpSpPr>
          <p:cNvPr id="656" name="组合 24"/>
          <p:cNvGrpSpPr/>
          <p:nvPr/>
        </p:nvGrpSpPr>
        <p:grpSpPr>
          <a:xfrm>
            <a:off x="1395360" y="3135240"/>
            <a:ext cx="271440" cy="206280"/>
            <a:chOff x="1395360" y="3135240"/>
            <a:chExt cx="271440" cy="206280"/>
          </a:xfrm>
        </p:grpSpPr>
        <p:sp>
          <p:nvSpPr>
            <p:cNvPr id="657" name="Oval 69"/>
            <p:cNvSpPr/>
            <p:nvPr/>
          </p:nvSpPr>
          <p:spPr>
            <a:xfrm>
              <a:off x="1395360" y="3135240"/>
              <a:ext cx="271440" cy="206280"/>
            </a:xfrm>
            <a:prstGeom prst="ellipse">
              <a:avLst/>
            </a:prstGeom>
            <a:noFill/>
            <a:ln cap="rnd" w="30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0120" rIns="60120" tIns="30240" bIns="302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8" name="Freeform 70"/>
            <p:cNvSpPr/>
            <p:nvPr/>
          </p:nvSpPr>
          <p:spPr>
            <a:xfrm>
              <a:off x="1454400" y="3197520"/>
              <a:ext cx="128880" cy="98640"/>
            </a:xfrm>
            <a:custGeom>
              <a:avLst/>
              <a:gdLst/>
              <a:ahLst/>
              <a:rect l="l" t="t" r="r" b="b"/>
              <a:pathLst>
                <a:path w="208" h="208">
                  <a:moveTo>
                    <a:pt x="139" y="208"/>
                  </a:moveTo>
                  <a:lnTo>
                    <a:pt x="104" y="104"/>
                  </a:lnTo>
                  <a:lnTo>
                    <a:pt x="0" y="69"/>
                  </a:lnTo>
                  <a:lnTo>
                    <a:pt x="208" y="0"/>
                  </a:lnTo>
                  <a:lnTo>
                    <a:pt x="139" y="208"/>
                  </a:lnTo>
                  <a:close/>
                </a:path>
              </a:pathLst>
            </a:custGeom>
            <a:noFill/>
            <a:ln cap="rnd" w="30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59" name="Freeform 94"/>
          <p:cNvSpPr/>
          <p:nvPr/>
        </p:nvSpPr>
        <p:spPr>
          <a:xfrm>
            <a:off x="1395360" y="2075040"/>
            <a:ext cx="336600" cy="261720"/>
          </a:xfrm>
          <a:custGeom>
            <a:avLst/>
            <a:gdLst/>
            <a:ahLst/>
            <a:rect l="l" t="t" r="r" b="b"/>
            <a:pathLst>
              <a:path w="192" h="192">
                <a:moveTo>
                  <a:pt x="176" y="147"/>
                </a:moveTo>
                <a:cubicBezTo>
                  <a:pt x="186" y="142"/>
                  <a:pt x="192" y="132"/>
                  <a:pt x="192" y="120"/>
                </a:cubicBezTo>
                <a:cubicBezTo>
                  <a:pt x="192" y="108"/>
                  <a:pt x="186" y="98"/>
                  <a:pt x="176" y="92"/>
                </a:cubicBezTo>
                <a:cubicBezTo>
                  <a:pt x="176" y="92"/>
                  <a:pt x="176" y="92"/>
                  <a:pt x="176" y="91"/>
                </a:cubicBezTo>
                <a:cubicBezTo>
                  <a:pt x="176" y="48"/>
                  <a:pt x="176" y="48"/>
                  <a:pt x="176" y="48"/>
                </a:cubicBezTo>
                <a:cubicBezTo>
                  <a:pt x="176" y="47"/>
                  <a:pt x="176" y="47"/>
                  <a:pt x="176" y="46"/>
                </a:cubicBezTo>
                <a:cubicBezTo>
                  <a:pt x="166" y="23"/>
                  <a:pt x="135" y="0"/>
                  <a:pt x="96" y="0"/>
                </a:cubicBezTo>
                <a:cubicBezTo>
                  <a:pt x="57" y="0"/>
                  <a:pt x="27" y="23"/>
                  <a:pt x="17" y="46"/>
                </a:cubicBezTo>
                <a:cubicBezTo>
                  <a:pt x="17" y="46"/>
                  <a:pt x="17" y="46"/>
                  <a:pt x="17" y="46"/>
                </a:cubicBezTo>
                <a:cubicBezTo>
                  <a:pt x="17" y="46"/>
                  <a:pt x="17" y="47"/>
                  <a:pt x="16" y="47"/>
                </a:cubicBezTo>
                <a:cubicBezTo>
                  <a:pt x="16" y="47"/>
                  <a:pt x="16" y="47"/>
                  <a:pt x="16" y="48"/>
                </a:cubicBezTo>
                <a:cubicBezTo>
                  <a:pt x="16" y="48"/>
                  <a:pt x="16" y="48"/>
                  <a:pt x="16" y="48"/>
                </a:cubicBezTo>
                <a:cubicBezTo>
                  <a:pt x="16" y="91"/>
                  <a:pt x="16" y="91"/>
                  <a:pt x="16" y="91"/>
                </a:cubicBezTo>
                <a:cubicBezTo>
                  <a:pt x="16" y="92"/>
                  <a:pt x="16" y="92"/>
                  <a:pt x="16" y="92"/>
                </a:cubicBezTo>
                <a:cubicBezTo>
                  <a:pt x="7" y="98"/>
                  <a:pt x="0" y="108"/>
                  <a:pt x="0" y="120"/>
                </a:cubicBezTo>
                <a:cubicBezTo>
                  <a:pt x="0" y="138"/>
                  <a:pt x="14" y="152"/>
                  <a:pt x="32" y="152"/>
                </a:cubicBezTo>
                <a:cubicBezTo>
                  <a:pt x="33" y="152"/>
                  <a:pt x="33" y="152"/>
                  <a:pt x="33" y="152"/>
                </a:cubicBezTo>
                <a:cubicBezTo>
                  <a:pt x="35" y="157"/>
                  <a:pt x="39" y="160"/>
                  <a:pt x="44" y="160"/>
                </a:cubicBezTo>
                <a:cubicBezTo>
                  <a:pt x="51" y="160"/>
                  <a:pt x="56" y="154"/>
                  <a:pt x="56" y="148"/>
                </a:cubicBezTo>
                <a:cubicBezTo>
                  <a:pt x="56" y="92"/>
                  <a:pt x="56" y="92"/>
                  <a:pt x="56" y="92"/>
                </a:cubicBezTo>
                <a:cubicBezTo>
                  <a:pt x="56" y="85"/>
                  <a:pt x="51" y="80"/>
                  <a:pt x="44" y="80"/>
                </a:cubicBezTo>
                <a:cubicBezTo>
                  <a:pt x="39" y="80"/>
                  <a:pt x="35" y="83"/>
                  <a:pt x="33" y="88"/>
                </a:cubicBezTo>
                <a:cubicBezTo>
                  <a:pt x="32" y="88"/>
                  <a:pt x="32" y="88"/>
                  <a:pt x="32" y="88"/>
                </a:cubicBezTo>
                <a:cubicBezTo>
                  <a:pt x="29" y="88"/>
                  <a:pt x="27" y="88"/>
                  <a:pt x="24" y="89"/>
                </a:cubicBezTo>
                <a:cubicBezTo>
                  <a:pt x="24" y="49"/>
                  <a:pt x="24" y="49"/>
                  <a:pt x="24" y="49"/>
                </a:cubicBezTo>
                <a:cubicBezTo>
                  <a:pt x="28" y="40"/>
                  <a:pt x="36" y="31"/>
                  <a:pt x="46" y="24"/>
                </a:cubicBezTo>
                <a:cubicBezTo>
                  <a:pt x="52" y="31"/>
                  <a:pt x="52" y="31"/>
                  <a:pt x="52" y="31"/>
                </a:cubicBezTo>
                <a:cubicBezTo>
                  <a:pt x="54" y="32"/>
                  <a:pt x="56" y="32"/>
                  <a:pt x="57" y="31"/>
                </a:cubicBezTo>
                <a:cubicBezTo>
                  <a:pt x="57" y="31"/>
                  <a:pt x="69" y="24"/>
                  <a:pt x="96" y="24"/>
                </a:cubicBezTo>
                <a:cubicBezTo>
                  <a:pt x="123" y="24"/>
                  <a:pt x="135" y="31"/>
                  <a:pt x="135" y="31"/>
                </a:cubicBezTo>
                <a:cubicBezTo>
                  <a:pt x="136" y="32"/>
                  <a:pt x="136" y="32"/>
                  <a:pt x="137" y="32"/>
                </a:cubicBezTo>
                <a:cubicBezTo>
                  <a:pt x="138" y="32"/>
                  <a:pt x="139" y="31"/>
                  <a:pt x="140" y="31"/>
                </a:cubicBezTo>
                <a:cubicBezTo>
                  <a:pt x="147" y="24"/>
                  <a:pt x="147" y="24"/>
                  <a:pt x="147" y="24"/>
                </a:cubicBezTo>
                <a:cubicBezTo>
                  <a:pt x="157" y="31"/>
                  <a:pt x="164" y="40"/>
                  <a:pt x="168" y="49"/>
                </a:cubicBezTo>
                <a:cubicBezTo>
                  <a:pt x="168" y="89"/>
                  <a:pt x="168" y="89"/>
                  <a:pt x="168" y="89"/>
                </a:cubicBezTo>
                <a:cubicBezTo>
                  <a:pt x="166" y="88"/>
                  <a:pt x="163" y="88"/>
                  <a:pt x="160" y="88"/>
                </a:cubicBezTo>
                <a:cubicBezTo>
                  <a:pt x="159" y="88"/>
                  <a:pt x="159" y="88"/>
                  <a:pt x="159" y="88"/>
                </a:cubicBezTo>
                <a:cubicBezTo>
                  <a:pt x="158" y="83"/>
                  <a:pt x="153" y="80"/>
                  <a:pt x="148" y="80"/>
                </a:cubicBezTo>
                <a:cubicBezTo>
                  <a:pt x="142" y="80"/>
                  <a:pt x="136" y="85"/>
                  <a:pt x="136" y="92"/>
                </a:cubicBezTo>
                <a:cubicBezTo>
                  <a:pt x="136" y="148"/>
                  <a:pt x="136" y="148"/>
                  <a:pt x="136" y="148"/>
                </a:cubicBezTo>
                <a:cubicBezTo>
                  <a:pt x="136" y="154"/>
                  <a:pt x="142" y="160"/>
                  <a:pt x="148" y="160"/>
                </a:cubicBezTo>
                <a:cubicBezTo>
                  <a:pt x="153" y="160"/>
                  <a:pt x="158" y="157"/>
                  <a:pt x="159" y="152"/>
                </a:cubicBezTo>
                <a:cubicBezTo>
                  <a:pt x="160" y="152"/>
                  <a:pt x="160" y="152"/>
                  <a:pt x="160" y="152"/>
                </a:cubicBezTo>
                <a:cubicBezTo>
                  <a:pt x="163" y="152"/>
                  <a:pt x="166" y="151"/>
                  <a:pt x="169" y="151"/>
                </a:cubicBezTo>
                <a:cubicBezTo>
                  <a:pt x="175" y="162"/>
                  <a:pt x="175" y="162"/>
                  <a:pt x="175" y="162"/>
                </a:cubicBezTo>
                <a:cubicBezTo>
                  <a:pt x="143" y="174"/>
                  <a:pt x="143" y="174"/>
                  <a:pt x="143" y="174"/>
                </a:cubicBezTo>
                <a:cubicBezTo>
                  <a:pt x="142" y="173"/>
                  <a:pt x="142" y="172"/>
                  <a:pt x="141" y="171"/>
                </a:cubicBezTo>
                <a:cubicBezTo>
                  <a:pt x="138" y="169"/>
                  <a:pt x="135" y="168"/>
                  <a:pt x="132" y="168"/>
                </a:cubicBezTo>
                <a:cubicBezTo>
                  <a:pt x="116" y="168"/>
                  <a:pt x="116" y="168"/>
                  <a:pt x="116" y="168"/>
                </a:cubicBezTo>
                <a:cubicBezTo>
                  <a:pt x="110" y="168"/>
                  <a:pt x="104" y="173"/>
                  <a:pt x="104" y="180"/>
                </a:cubicBezTo>
                <a:cubicBezTo>
                  <a:pt x="104" y="186"/>
                  <a:pt x="110" y="192"/>
                  <a:pt x="116" y="192"/>
                </a:cubicBezTo>
                <a:cubicBezTo>
                  <a:pt x="132" y="192"/>
                  <a:pt x="132" y="192"/>
                  <a:pt x="132" y="192"/>
                </a:cubicBezTo>
                <a:cubicBezTo>
                  <a:pt x="138" y="192"/>
                  <a:pt x="142" y="188"/>
                  <a:pt x="144" y="183"/>
                </a:cubicBezTo>
                <a:cubicBezTo>
                  <a:pt x="182" y="167"/>
                  <a:pt x="182" y="167"/>
                  <a:pt x="182" y="167"/>
                </a:cubicBezTo>
                <a:cubicBezTo>
                  <a:pt x="183" y="167"/>
                  <a:pt x="184" y="166"/>
                  <a:pt x="184" y="165"/>
                </a:cubicBezTo>
                <a:cubicBezTo>
                  <a:pt x="184" y="164"/>
                  <a:pt x="184" y="163"/>
                  <a:pt x="184" y="162"/>
                </a:cubicBezTo>
                <a:lnTo>
                  <a:pt x="176" y="14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Rectangle 88"/>
          <p:cNvSpPr/>
          <p:nvPr/>
        </p:nvSpPr>
        <p:spPr>
          <a:xfrm>
            <a:off x="5388120" y="2484360"/>
            <a:ext cx="107640" cy="190440"/>
          </a:xfrm>
          <a:prstGeom prst="rect">
            <a:avLst/>
          </a:pr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Rectangle 88"/>
          <p:cNvSpPr/>
          <p:nvPr/>
        </p:nvSpPr>
        <p:spPr>
          <a:xfrm>
            <a:off x="5388120" y="2819520"/>
            <a:ext cx="107640" cy="188640"/>
          </a:xfrm>
          <a:prstGeom prst="rect">
            <a:avLst/>
          </a:pr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Rectangle 88"/>
          <p:cNvSpPr/>
          <p:nvPr/>
        </p:nvSpPr>
        <p:spPr>
          <a:xfrm>
            <a:off x="5388120" y="3156120"/>
            <a:ext cx="107640" cy="188640"/>
          </a:xfrm>
          <a:prstGeom prst="rect">
            <a:avLst/>
          </a:pr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TextBox 13"/>
          <p:cNvSpPr/>
          <p:nvPr/>
        </p:nvSpPr>
        <p:spPr>
          <a:xfrm>
            <a:off x="5545080" y="2192400"/>
            <a:ext cx="103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TextBox 13"/>
          <p:cNvSpPr/>
          <p:nvPr/>
        </p:nvSpPr>
        <p:spPr>
          <a:xfrm>
            <a:off x="5545080" y="2511360"/>
            <a:ext cx="103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TextBox 13"/>
          <p:cNvSpPr/>
          <p:nvPr/>
        </p:nvSpPr>
        <p:spPr>
          <a:xfrm>
            <a:off x="5545080" y="2857680"/>
            <a:ext cx="103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TextBox 13"/>
          <p:cNvSpPr/>
          <p:nvPr/>
        </p:nvSpPr>
        <p:spPr>
          <a:xfrm>
            <a:off x="5545080" y="3179880"/>
            <a:ext cx="103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7" name="图片 1" descr=""/>
          <p:cNvPicPr/>
          <p:nvPr/>
        </p:nvPicPr>
        <p:blipFill>
          <a:blip r:embed="rId1"/>
          <a:stretch/>
        </p:blipFill>
        <p:spPr>
          <a:xfrm>
            <a:off x="378000" y="1311120"/>
            <a:ext cx="8388000" cy="2711520"/>
          </a:xfrm>
          <a:prstGeom prst="rect">
            <a:avLst/>
          </a:prstGeom>
          <a:ln w="0">
            <a:noFill/>
          </a:ln>
        </p:spPr>
      </p:pic>
      <p:pic>
        <p:nvPicPr>
          <p:cNvPr id="668" name="图片 19" descr=""/>
          <p:cNvPicPr/>
          <p:nvPr/>
        </p:nvPicPr>
        <p:blipFill>
          <a:blip r:embed="rId2"/>
          <a:stretch/>
        </p:blipFill>
        <p:spPr>
          <a:xfrm>
            <a:off x="0" y="141120"/>
            <a:ext cx="9144000" cy="233640"/>
          </a:xfrm>
          <a:prstGeom prst="rect">
            <a:avLst/>
          </a:prstGeom>
          <a:ln w="0">
            <a:noFill/>
          </a:ln>
        </p:spPr>
      </p:pic>
      <p:sp>
        <p:nvSpPr>
          <p:cNvPr id="669" name="文本框 20"/>
          <p:cNvSpPr/>
          <p:nvPr/>
        </p:nvSpPr>
        <p:spPr>
          <a:xfrm>
            <a:off x="3216240" y="108000"/>
            <a:ext cx="2711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ADD YOUR TITLE H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Freeform 4"/>
          <p:cNvSpPr/>
          <p:nvPr/>
        </p:nvSpPr>
        <p:spPr>
          <a:xfrm>
            <a:off x="2444760" y="3494160"/>
            <a:ext cx="165240" cy="1238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10800"/>
                </a:moveTo>
                <a:cubicBezTo>
                  <a:pt x="21600" y="16765"/>
                  <a:pt x="16764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ubicBezTo>
                  <a:pt x="0" y="4836"/>
                  <a:pt x="4835" y="0"/>
                  <a:pt x="10800" y="0"/>
                </a:cubicBezTo>
                <a:cubicBezTo>
                  <a:pt x="16764" y="0"/>
                  <a:pt x="21600" y="4836"/>
                  <a:pt x="21600" y="10800"/>
                </a:cubicBezTo>
                <a:close/>
                <a:moveTo>
                  <a:pt x="21600" y="10800"/>
                </a:move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Freeform 5"/>
          <p:cNvSpPr/>
          <p:nvPr/>
        </p:nvSpPr>
        <p:spPr>
          <a:xfrm>
            <a:off x="1933560" y="3686040"/>
            <a:ext cx="1235160" cy="382680"/>
          </a:xfrm>
          <a:custGeom>
            <a:avLst/>
            <a:gdLst/>
            <a:ahLst/>
            <a:rect l="l" t="t" r="r" b="b"/>
            <a:pathLst>
              <a:path w="19386" h="21600">
                <a:moveTo>
                  <a:pt x="17259" y="15951"/>
                </a:moveTo>
                <a:cubicBezTo>
                  <a:pt x="16713" y="14429"/>
                  <a:pt x="16423" y="5789"/>
                  <a:pt x="16287" y="0"/>
                </a:cubicBezTo>
                <a:lnTo>
                  <a:pt x="3205" y="0"/>
                </a:lnTo>
                <a:cubicBezTo>
                  <a:pt x="3064" y="5789"/>
                  <a:pt x="2764" y="14429"/>
                  <a:pt x="2199" y="15951"/>
                </a:cubicBezTo>
                <a:cubicBezTo>
                  <a:pt x="1337" y="18277"/>
                  <a:pt x="-1126" y="20603"/>
                  <a:pt x="598" y="21600"/>
                </a:cubicBezTo>
                <a:lnTo>
                  <a:pt x="18808" y="21600"/>
                </a:lnTo>
                <a:cubicBezTo>
                  <a:pt x="20474" y="20603"/>
                  <a:pt x="18093" y="18277"/>
                  <a:pt x="17259" y="15951"/>
                </a:cubicBezTo>
                <a:close/>
                <a:moveTo>
                  <a:pt x="17259" y="15951"/>
                </a:moveTo>
              </a:path>
            </a:pathLst>
          </a:custGeom>
          <a:solidFill>
            <a:srgbClr val="ffffff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Line 6"/>
          <p:cNvSpPr/>
          <p:nvPr/>
        </p:nvSpPr>
        <p:spPr>
          <a:xfrm flipH="1">
            <a:off x="2141640" y="3976560"/>
            <a:ext cx="823680" cy="0"/>
          </a:xfrm>
          <a:prstGeom prst="line">
            <a:avLst/>
          </a:prstGeom>
          <a:ln w="255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Freeform 7"/>
          <p:cNvSpPr/>
          <p:nvPr/>
        </p:nvSpPr>
        <p:spPr>
          <a:xfrm>
            <a:off x="623880" y="1674720"/>
            <a:ext cx="3862440" cy="2011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077"/>
                </a:moveTo>
                <a:cubicBezTo>
                  <a:pt x="21600" y="21366"/>
                  <a:pt x="21437" y="21600"/>
                  <a:pt x="21237" y="21600"/>
                </a:cubicBezTo>
                <a:lnTo>
                  <a:pt x="363" y="21600"/>
                </a:lnTo>
                <a:cubicBezTo>
                  <a:pt x="163" y="21600"/>
                  <a:pt x="0" y="21366"/>
                  <a:pt x="0" y="21077"/>
                </a:cubicBezTo>
                <a:lnTo>
                  <a:pt x="0" y="523"/>
                </a:lnTo>
                <a:cubicBezTo>
                  <a:pt x="0" y="234"/>
                  <a:pt x="163" y="0"/>
                  <a:pt x="363" y="0"/>
                </a:cubicBezTo>
                <a:lnTo>
                  <a:pt x="21237" y="0"/>
                </a:lnTo>
                <a:cubicBezTo>
                  <a:pt x="21437" y="0"/>
                  <a:pt x="21600" y="234"/>
                  <a:pt x="21600" y="523"/>
                </a:cubicBezTo>
                <a:lnTo>
                  <a:pt x="21600" y="21077"/>
                </a:lnTo>
                <a:close/>
                <a:moveTo>
                  <a:pt x="21600" y="21077"/>
                </a:move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Line 8"/>
          <p:cNvSpPr/>
          <p:nvPr/>
        </p:nvSpPr>
        <p:spPr>
          <a:xfrm flipH="1">
            <a:off x="623880" y="3416400"/>
            <a:ext cx="38592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Freeform 9"/>
          <p:cNvSpPr/>
          <p:nvPr/>
        </p:nvSpPr>
        <p:spPr>
          <a:xfrm>
            <a:off x="774720" y="1795320"/>
            <a:ext cx="3560760" cy="14986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lnTo>
                  <a:pt x="0" y="21600"/>
                </a:lnTo>
                <a:lnTo>
                  <a:pt x="0" y="0"/>
                </a:lnTo>
                <a:lnTo>
                  <a:pt x="21600" y="0"/>
                </a:lnTo>
                <a:lnTo>
                  <a:pt x="21600" y="21600"/>
                </a:lnTo>
                <a:close/>
                <a:moveTo>
                  <a:pt x="21600" y="21600"/>
                </a:moveTo>
              </a:path>
            </a:pathLst>
          </a:custGeom>
          <a:solidFill>
            <a:srgbClr val="5b9bd5"/>
          </a:solidFill>
          <a:ln w="25560">
            <a:solidFill>
              <a:srgbClr val="9a9a9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Rectangle 10"/>
          <p:cNvSpPr/>
          <p:nvPr/>
        </p:nvSpPr>
        <p:spPr>
          <a:xfrm>
            <a:off x="4581360" y="1611360"/>
            <a:ext cx="3967200" cy="212544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7" name="图片 11" descr=""/>
          <p:cNvPicPr/>
          <p:nvPr/>
        </p:nvPicPr>
        <p:blipFill>
          <a:blip r:embed="rId3"/>
          <a:srcRect l="0" t="14215" r="0" b="6084"/>
          <a:stretch/>
        </p:blipFill>
        <p:spPr>
          <a:xfrm>
            <a:off x="760320" y="1797120"/>
            <a:ext cx="3575160" cy="1515960"/>
          </a:xfrm>
          <a:prstGeom prst="rect">
            <a:avLst/>
          </a:prstGeom>
          <a:ln w="0">
            <a:noFill/>
          </a:ln>
        </p:spPr>
      </p:pic>
      <p:sp>
        <p:nvSpPr>
          <p:cNvPr id="678" name="Line 18"/>
          <p:cNvSpPr/>
          <p:nvPr/>
        </p:nvSpPr>
        <p:spPr>
          <a:xfrm>
            <a:off x="4862520" y="1989000"/>
            <a:ext cx="2890800" cy="0"/>
          </a:xfrm>
          <a:prstGeom prst="line">
            <a:avLst/>
          </a:prstGeom>
          <a:ln w="25560">
            <a:solidFill>
              <a:srgbClr val="1e9c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矩形 13"/>
          <p:cNvSpPr/>
          <p:nvPr/>
        </p:nvSpPr>
        <p:spPr>
          <a:xfrm>
            <a:off x="4862520" y="2087640"/>
            <a:ext cx="289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249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TextBox 13"/>
          <p:cNvSpPr/>
          <p:nvPr/>
        </p:nvSpPr>
        <p:spPr>
          <a:xfrm>
            <a:off x="4862520" y="1795320"/>
            <a:ext cx="2065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矩形 15"/>
          <p:cNvSpPr/>
          <p:nvPr/>
        </p:nvSpPr>
        <p:spPr>
          <a:xfrm>
            <a:off x="4849920" y="2962440"/>
            <a:ext cx="2903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20000"/>
              </a:lnSpc>
              <a:spcBef>
                <a:spcPts val="249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2" name="图片 19" descr=""/>
          <p:cNvPicPr/>
          <p:nvPr/>
        </p:nvPicPr>
        <p:blipFill>
          <a:blip r:embed="rId1"/>
          <a:stretch/>
        </p:blipFill>
        <p:spPr>
          <a:xfrm>
            <a:off x="0" y="141120"/>
            <a:ext cx="9144000" cy="233640"/>
          </a:xfrm>
          <a:prstGeom prst="rect">
            <a:avLst/>
          </a:prstGeom>
          <a:ln w="0">
            <a:noFill/>
          </a:ln>
        </p:spPr>
      </p:pic>
      <p:sp>
        <p:nvSpPr>
          <p:cNvPr id="683" name="文本框 20"/>
          <p:cNvSpPr/>
          <p:nvPr/>
        </p:nvSpPr>
        <p:spPr>
          <a:xfrm>
            <a:off x="3216240" y="108000"/>
            <a:ext cx="2711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ADD YOUR TITLE H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AutoShape 3"/>
          <p:cNvSpPr/>
          <p:nvPr/>
        </p:nvSpPr>
        <p:spPr>
          <a:xfrm>
            <a:off x="1519200" y="3360600"/>
            <a:ext cx="601560" cy="45252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2"/>
                </a:moveTo>
                <a:cubicBezTo>
                  <a:pt x="20639" y="6724"/>
                  <a:pt x="20639" y="12954"/>
                  <a:pt x="16796" y="16796"/>
                </a:cubicBezTo>
                <a:cubicBezTo>
                  <a:pt x="12954" y="20639"/>
                  <a:pt x="6724" y="20639"/>
                  <a:pt x="2882" y="16796"/>
                </a:cubicBezTo>
                <a:cubicBezTo>
                  <a:pt x="-961" y="12954"/>
                  <a:pt x="-961" y="6724"/>
                  <a:pt x="2882" y="2882"/>
                </a:cubicBezTo>
                <a:cubicBezTo>
                  <a:pt x="6724" y="-961"/>
                  <a:pt x="12954" y="-961"/>
                  <a:pt x="16796" y="2882"/>
                </a:cubicBezTo>
                <a:close/>
                <a:moveTo>
                  <a:pt x="16796" y="2882"/>
                </a:moveTo>
              </a:path>
            </a:pathLst>
          </a:cu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AutoShape 4"/>
          <p:cNvSpPr/>
          <p:nvPr/>
        </p:nvSpPr>
        <p:spPr>
          <a:xfrm>
            <a:off x="4813200" y="2770200"/>
            <a:ext cx="601920" cy="45072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2"/>
                </a:moveTo>
                <a:cubicBezTo>
                  <a:pt x="20639" y="6724"/>
                  <a:pt x="20639" y="12954"/>
                  <a:pt x="16796" y="16796"/>
                </a:cubicBezTo>
                <a:cubicBezTo>
                  <a:pt x="12954" y="20639"/>
                  <a:pt x="6724" y="20639"/>
                  <a:pt x="2882" y="16796"/>
                </a:cubicBezTo>
                <a:cubicBezTo>
                  <a:pt x="-961" y="12954"/>
                  <a:pt x="-961" y="6724"/>
                  <a:pt x="2882" y="2882"/>
                </a:cubicBezTo>
                <a:cubicBezTo>
                  <a:pt x="6724" y="-961"/>
                  <a:pt x="12954" y="-961"/>
                  <a:pt x="16796" y="2882"/>
                </a:cubicBezTo>
                <a:close/>
                <a:moveTo>
                  <a:pt x="16796" y="2882"/>
                </a:moveTo>
              </a:path>
            </a:pathLst>
          </a:cu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AutoShape 5"/>
          <p:cNvSpPr/>
          <p:nvPr/>
        </p:nvSpPr>
        <p:spPr>
          <a:xfrm>
            <a:off x="3160800" y="3068640"/>
            <a:ext cx="601560" cy="45072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2"/>
                </a:moveTo>
                <a:cubicBezTo>
                  <a:pt x="20639" y="6724"/>
                  <a:pt x="20639" y="12954"/>
                  <a:pt x="16796" y="16796"/>
                </a:cubicBezTo>
                <a:cubicBezTo>
                  <a:pt x="12954" y="20639"/>
                  <a:pt x="6724" y="20639"/>
                  <a:pt x="2882" y="16796"/>
                </a:cubicBezTo>
                <a:cubicBezTo>
                  <a:pt x="-961" y="12954"/>
                  <a:pt x="-961" y="6724"/>
                  <a:pt x="2882" y="2882"/>
                </a:cubicBezTo>
                <a:cubicBezTo>
                  <a:pt x="6724" y="-961"/>
                  <a:pt x="12954" y="-961"/>
                  <a:pt x="16796" y="2882"/>
                </a:cubicBezTo>
                <a:close/>
                <a:moveTo>
                  <a:pt x="16796" y="2882"/>
                </a:moveTo>
              </a:path>
            </a:pathLst>
          </a:cu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AutoShape 6"/>
          <p:cNvSpPr/>
          <p:nvPr/>
        </p:nvSpPr>
        <p:spPr>
          <a:xfrm>
            <a:off x="6435720" y="2470320"/>
            <a:ext cx="601560" cy="45072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2"/>
                </a:moveTo>
                <a:cubicBezTo>
                  <a:pt x="20639" y="6724"/>
                  <a:pt x="20639" y="12954"/>
                  <a:pt x="16796" y="16796"/>
                </a:cubicBezTo>
                <a:cubicBezTo>
                  <a:pt x="12954" y="20639"/>
                  <a:pt x="6724" y="20639"/>
                  <a:pt x="2882" y="16796"/>
                </a:cubicBezTo>
                <a:cubicBezTo>
                  <a:pt x="-961" y="12954"/>
                  <a:pt x="-961" y="6724"/>
                  <a:pt x="2882" y="2882"/>
                </a:cubicBezTo>
                <a:cubicBezTo>
                  <a:pt x="6724" y="-961"/>
                  <a:pt x="12954" y="-961"/>
                  <a:pt x="16796" y="2882"/>
                </a:cubicBezTo>
                <a:close/>
                <a:moveTo>
                  <a:pt x="16796" y="2882"/>
                </a:moveTo>
              </a:path>
            </a:pathLst>
          </a:cu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AutoShape 7"/>
          <p:cNvSpPr/>
          <p:nvPr/>
        </p:nvSpPr>
        <p:spPr>
          <a:xfrm>
            <a:off x="1165320" y="3127320"/>
            <a:ext cx="1671480" cy="755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3834"/>
                </a:lnTo>
                <a:lnTo>
                  <a:pt x="2172" y="3834"/>
                </a:lnTo>
                <a:lnTo>
                  <a:pt x="2172" y="21600"/>
                </a:lnTo>
                <a:lnTo>
                  <a:pt x="0" y="21600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AutoShape 8"/>
          <p:cNvSpPr/>
          <p:nvPr/>
        </p:nvSpPr>
        <p:spPr>
          <a:xfrm>
            <a:off x="2832120" y="2844720"/>
            <a:ext cx="1671480" cy="755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3834"/>
                </a:lnTo>
                <a:lnTo>
                  <a:pt x="2172" y="3834"/>
                </a:lnTo>
                <a:lnTo>
                  <a:pt x="2172" y="21600"/>
                </a:lnTo>
                <a:lnTo>
                  <a:pt x="0" y="21600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AutoShape 9"/>
          <p:cNvSpPr/>
          <p:nvPr/>
        </p:nvSpPr>
        <p:spPr>
          <a:xfrm>
            <a:off x="4498920" y="2560680"/>
            <a:ext cx="1671840" cy="755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3834"/>
                </a:lnTo>
                <a:lnTo>
                  <a:pt x="2172" y="3834"/>
                </a:lnTo>
                <a:lnTo>
                  <a:pt x="2172" y="21600"/>
                </a:lnTo>
                <a:lnTo>
                  <a:pt x="0" y="21600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AutoShape 10"/>
          <p:cNvSpPr/>
          <p:nvPr/>
        </p:nvSpPr>
        <p:spPr>
          <a:xfrm>
            <a:off x="6161040" y="2278080"/>
            <a:ext cx="1673280" cy="755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3834"/>
                </a:lnTo>
                <a:lnTo>
                  <a:pt x="2172" y="3834"/>
                </a:lnTo>
                <a:lnTo>
                  <a:pt x="2172" y="21600"/>
                </a:lnTo>
                <a:lnTo>
                  <a:pt x="0" y="21600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AutoShape 11"/>
          <p:cNvSpPr/>
          <p:nvPr/>
        </p:nvSpPr>
        <p:spPr>
          <a:xfrm>
            <a:off x="6627960" y="2612880"/>
            <a:ext cx="242640" cy="162000"/>
          </a:xfrm>
          <a:custGeom>
            <a:avLst/>
            <a:gdLst/>
            <a:ahLst/>
            <a:rect l="l" t="t" r="r" b="b"/>
            <a:pathLst>
              <a:path w="21263" h="21266">
                <a:moveTo>
                  <a:pt x="21142" y="2570"/>
                </a:moveTo>
                <a:cubicBezTo>
                  <a:pt x="19207" y="574"/>
                  <a:pt x="19207" y="574"/>
                  <a:pt x="19207" y="574"/>
                </a:cubicBezTo>
                <a:cubicBezTo>
                  <a:pt x="18885" y="211"/>
                  <a:pt x="18563" y="211"/>
                  <a:pt x="18240" y="574"/>
                </a:cubicBezTo>
                <a:cubicBezTo>
                  <a:pt x="18079" y="755"/>
                  <a:pt x="18079" y="937"/>
                  <a:pt x="18079" y="1118"/>
                </a:cubicBezTo>
                <a:cubicBezTo>
                  <a:pt x="17918" y="1118"/>
                  <a:pt x="17757" y="1118"/>
                  <a:pt x="17596" y="1300"/>
                </a:cubicBezTo>
                <a:cubicBezTo>
                  <a:pt x="17596" y="1300"/>
                  <a:pt x="17596" y="1300"/>
                  <a:pt x="17596" y="1300"/>
                </a:cubicBezTo>
                <a:cubicBezTo>
                  <a:pt x="12760" y="6745"/>
                  <a:pt x="12760" y="6745"/>
                  <a:pt x="12760" y="6745"/>
                </a:cubicBezTo>
                <a:cubicBezTo>
                  <a:pt x="12760" y="7290"/>
                  <a:pt x="12599" y="7834"/>
                  <a:pt x="12437" y="8197"/>
                </a:cubicBezTo>
                <a:cubicBezTo>
                  <a:pt x="12921" y="8742"/>
                  <a:pt x="12921" y="8742"/>
                  <a:pt x="12921" y="8742"/>
                </a:cubicBezTo>
                <a:cubicBezTo>
                  <a:pt x="12921" y="8742"/>
                  <a:pt x="12921" y="8742"/>
                  <a:pt x="12921" y="8742"/>
                </a:cubicBezTo>
                <a:cubicBezTo>
                  <a:pt x="13082" y="8923"/>
                  <a:pt x="13082" y="8923"/>
                  <a:pt x="13082" y="8923"/>
                </a:cubicBezTo>
                <a:cubicBezTo>
                  <a:pt x="11954" y="10012"/>
                  <a:pt x="11954" y="10012"/>
                  <a:pt x="11954" y="10012"/>
                </a:cubicBezTo>
                <a:cubicBezTo>
                  <a:pt x="8407" y="6019"/>
                  <a:pt x="8407" y="6019"/>
                  <a:pt x="8407" y="6019"/>
                </a:cubicBezTo>
                <a:cubicBezTo>
                  <a:pt x="8730" y="4385"/>
                  <a:pt x="8407" y="2752"/>
                  <a:pt x="7279" y="1481"/>
                </a:cubicBezTo>
                <a:cubicBezTo>
                  <a:pt x="6151" y="211"/>
                  <a:pt x="4539" y="-334"/>
                  <a:pt x="3088" y="211"/>
                </a:cubicBezTo>
                <a:cubicBezTo>
                  <a:pt x="5506" y="2933"/>
                  <a:pt x="5506" y="2933"/>
                  <a:pt x="5506" y="2933"/>
                </a:cubicBezTo>
                <a:cubicBezTo>
                  <a:pt x="4861" y="5474"/>
                  <a:pt x="4861" y="5474"/>
                  <a:pt x="4861" y="5474"/>
                </a:cubicBezTo>
                <a:cubicBezTo>
                  <a:pt x="2604" y="6200"/>
                  <a:pt x="2604" y="6200"/>
                  <a:pt x="2604" y="6200"/>
                </a:cubicBezTo>
                <a:cubicBezTo>
                  <a:pt x="187" y="3478"/>
                  <a:pt x="187" y="3478"/>
                  <a:pt x="187" y="3478"/>
                </a:cubicBezTo>
                <a:cubicBezTo>
                  <a:pt x="-297" y="5111"/>
                  <a:pt x="187" y="6927"/>
                  <a:pt x="1315" y="8197"/>
                </a:cubicBezTo>
                <a:cubicBezTo>
                  <a:pt x="2443" y="9468"/>
                  <a:pt x="4055" y="9831"/>
                  <a:pt x="5506" y="9286"/>
                </a:cubicBezTo>
                <a:cubicBezTo>
                  <a:pt x="5667" y="9286"/>
                  <a:pt x="5667" y="9286"/>
                  <a:pt x="5667" y="9286"/>
                </a:cubicBezTo>
                <a:cubicBezTo>
                  <a:pt x="9052" y="13279"/>
                  <a:pt x="9052" y="13279"/>
                  <a:pt x="9052" y="13279"/>
                </a:cubicBezTo>
                <a:cubicBezTo>
                  <a:pt x="5828" y="17091"/>
                  <a:pt x="5828" y="17091"/>
                  <a:pt x="5828" y="17091"/>
                </a:cubicBezTo>
                <a:cubicBezTo>
                  <a:pt x="5506" y="16910"/>
                  <a:pt x="5506" y="16910"/>
                  <a:pt x="5506" y="16910"/>
                </a:cubicBezTo>
                <a:cubicBezTo>
                  <a:pt x="4700" y="17636"/>
                  <a:pt x="4700" y="17636"/>
                  <a:pt x="4700" y="17636"/>
                </a:cubicBezTo>
                <a:cubicBezTo>
                  <a:pt x="3088" y="20540"/>
                  <a:pt x="3088" y="20540"/>
                  <a:pt x="3088" y="20540"/>
                </a:cubicBezTo>
                <a:cubicBezTo>
                  <a:pt x="3410" y="20903"/>
                  <a:pt x="3410" y="20903"/>
                  <a:pt x="3410" y="20903"/>
                </a:cubicBezTo>
                <a:cubicBezTo>
                  <a:pt x="5990" y="19088"/>
                  <a:pt x="5990" y="19088"/>
                  <a:pt x="5990" y="19088"/>
                </a:cubicBezTo>
                <a:cubicBezTo>
                  <a:pt x="6634" y="17999"/>
                  <a:pt x="6634" y="17999"/>
                  <a:pt x="6634" y="17999"/>
                </a:cubicBezTo>
                <a:cubicBezTo>
                  <a:pt x="6473" y="17817"/>
                  <a:pt x="6473" y="17817"/>
                  <a:pt x="6473" y="17817"/>
                </a:cubicBezTo>
                <a:cubicBezTo>
                  <a:pt x="9858" y="14187"/>
                  <a:pt x="9858" y="14187"/>
                  <a:pt x="9858" y="14187"/>
                </a:cubicBezTo>
                <a:cubicBezTo>
                  <a:pt x="15500" y="20540"/>
                  <a:pt x="15500" y="20540"/>
                  <a:pt x="15500" y="20540"/>
                </a:cubicBezTo>
                <a:cubicBezTo>
                  <a:pt x="15984" y="20903"/>
                  <a:pt x="16467" y="21266"/>
                  <a:pt x="16951" y="21266"/>
                </a:cubicBezTo>
                <a:cubicBezTo>
                  <a:pt x="17434" y="21266"/>
                  <a:pt x="17918" y="20903"/>
                  <a:pt x="18402" y="20540"/>
                </a:cubicBezTo>
                <a:cubicBezTo>
                  <a:pt x="19207" y="19632"/>
                  <a:pt x="19207" y="18180"/>
                  <a:pt x="18402" y="17273"/>
                </a:cubicBezTo>
                <a:cubicBezTo>
                  <a:pt x="12760" y="10920"/>
                  <a:pt x="12760" y="10920"/>
                  <a:pt x="12760" y="10920"/>
                </a:cubicBezTo>
                <a:cubicBezTo>
                  <a:pt x="13727" y="9831"/>
                  <a:pt x="13727" y="9831"/>
                  <a:pt x="13727" y="9831"/>
                </a:cubicBezTo>
                <a:cubicBezTo>
                  <a:pt x="14210" y="10375"/>
                  <a:pt x="14210" y="10375"/>
                  <a:pt x="14210" y="10375"/>
                </a:cubicBezTo>
                <a:cubicBezTo>
                  <a:pt x="14533" y="10012"/>
                  <a:pt x="15016" y="9831"/>
                  <a:pt x="15500" y="10012"/>
                </a:cubicBezTo>
                <a:cubicBezTo>
                  <a:pt x="20336" y="4385"/>
                  <a:pt x="20336" y="4385"/>
                  <a:pt x="20336" y="4385"/>
                </a:cubicBezTo>
                <a:cubicBezTo>
                  <a:pt x="20336" y="4385"/>
                  <a:pt x="20336" y="4385"/>
                  <a:pt x="20336" y="4385"/>
                </a:cubicBezTo>
                <a:cubicBezTo>
                  <a:pt x="20336" y="4385"/>
                  <a:pt x="20336" y="4385"/>
                  <a:pt x="20336" y="4385"/>
                </a:cubicBezTo>
                <a:cubicBezTo>
                  <a:pt x="20497" y="4204"/>
                  <a:pt x="20497" y="4022"/>
                  <a:pt x="20497" y="3841"/>
                </a:cubicBezTo>
                <a:cubicBezTo>
                  <a:pt x="20658" y="4022"/>
                  <a:pt x="20981" y="3841"/>
                  <a:pt x="21142" y="3659"/>
                </a:cubicBezTo>
                <a:cubicBezTo>
                  <a:pt x="21303" y="3478"/>
                  <a:pt x="21303" y="2933"/>
                  <a:pt x="21142" y="2570"/>
                </a:cubicBezTo>
                <a:close/>
                <a:moveTo>
                  <a:pt x="17112" y="18362"/>
                </a:moveTo>
                <a:cubicBezTo>
                  <a:pt x="17596" y="18362"/>
                  <a:pt x="17918" y="18906"/>
                  <a:pt x="17918" y="19269"/>
                </a:cubicBezTo>
                <a:cubicBezTo>
                  <a:pt x="17918" y="19814"/>
                  <a:pt x="17596" y="20177"/>
                  <a:pt x="17112" y="20177"/>
                </a:cubicBezTo>
                <a:cubicBezTo>
                  <a:pt x="16628" y="20177"/>
                  <a:pt x="16306" y="19814"/>
                  <a:pt x="16306" y="19269"/>
                </a:cubicBezTo>
                <a:cubicBezTo>
                  <a:pt x="16306" y="18906"/>
                  <a:pt x="16628" y="18362"/>
                  <a:pt x="17112" y="18362"/>
                </a:cubicBezTo>
                <a:close/>
                <a:moveTo>
                  <a:pt x="14372" y="7108"/>
                </a:moveTo>
                <a:cubicBezTo>
                  <a:pt x="14049" y="6745"/>
                  <a:pt x="14049" y="6745"/>
                  <a:pt x="14049" y="6745"/>
                </a:cubicBezTo>
                <a:cubicBezTo>
                  <a:pt x="17757" y="2752"/>
                  <a:pt x="17757" y="2752"/>
                  <a:pt x="17757" y="2752"/>
                </a:cubicBezTo>
                <a:cubicBezTo>
                  <a:pt x="18079" y="3115"/>
                  <a:pt x="18079" y="3115"/>
                  <a:pt x="18079" y="3115"/>
                </a:cubicBezTo>
                <a:lnTo>
                  <a:pt x="14372" y="7108"/>
                </a:lnTo>
                <a:close/>
                <a:moveTo>
                  <a:pt x="15500" y="8379"/>
                </a:moveTo>
                <a:cubicBezTo>
                  <a:pt x="15178" y="8197"/>
                  <a:pt x="15178" y="8197"/>
                  <a:pt x="15178" y="8197"/>
                </a:cubicBezTo>
                <a:cubicBezTo>
                  <a:pt x="18885" y="4022"/>
                  <a:pt x="18885" y="4022"/>
                  <a:pt x="18885" y="4022"/>
                </a:cubicBezTo>
                <a:cubicBezTo>
                  <a:pt x="19207" y="4385"/>
                  <a:pt x="19207" y="4385"/>
                  <a:pt x="19207" y="4385"/>
                </a:cubicBezTo>
                <a:lnTo>
                  <a:pt x="15500" y="8379"/>
                </a:lnTo>
                <a:close/>
                <a:moveTo>
                  <a:pt x="15500" y="8379"/>
                </a:moveTo>
              </a:path>
            </a:pathLst>
          </a:custGeom>
          <a:solidFill>
            <a:srgbClr val="ff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AutoShape 27"/>
          <p:cNvSpPr/>
          <p:nvPr/>
        </p:nvSpPr>
        <p:spPr>
          <a:xfrm>
            <a:off x="1662120" y="3478320"/>
            <a:ext cx="304920" cy="226800"/>
          </a:xfrm>
          <a:custGeom>
            <a:avLst/>
            <a:gdLst/>
            <a:ahLst/>
            <a:rect l="l" t="t" r="r" b="b"/>
            <a:pathLst>
              <a:path w="20931" h="20973">
                <a:moveTo>
                  <a:pt x="2007" y="1880"/>
                </a:moveTo>
                <a:cubicBezTo>
                  <a:pt x="-669" y="4580"/>
                  <a:pt x="-669" y="8823"/>
                  <a:pt x="2007" y="11330"/>
                </a:cubicBezTo>
                <a:cubicBezTo>
                  <a:pt x="3727" y="13259"/>
                  <a:pt x="6404" y="13837"/>
                  <a:pt x="8697" y="13066"/>
                </a:cubicBezTo>
                <a:cubicBezTo>
                  <a:pt x="10800" y="15187"/>
                  <a:pt x="10800" y="15187"/>
                  <a:pt x="10800" y="15187"/>
                </a:cubicBezTo>
                <a:cubicBezTo>
                  <a:pt x="10800" y="15187"/>
                  <a:pt x="12712" y="13644"/>
                  <a:pt x="13667" y="14609"/>
                </a:cubicBezTo>
                <a:cubicBezTo>
                  <a:pt x="14432" y="15380"/>
                  <a:pt x="13858" y="16537"/>
                  <a:pt x="13667" y="17309"/>
                </a:cubicBezTo>
                <a:cubicBezTo>
                  <a:pt x="13476" y="17694"/>
                  <a:pt x="13285" y="18466"/>
                  <a:pt x="14432" y="18080"/>
                </a:cubicBezTo>
                <a:cubicBezTo>
                  <a:pt x="14814" y="17887"/>
                  <a:pt x="16152" y="17116"/>
                  <a:pt x="16917" y="18080"/>
                </a:cubicBezTo>
                <a:cubicBezTo>
                  <a:pt x="17873" y="19044"/>
                  <a:pt x="16917" y="20973"/>
                  <a:pt x="16917" y="20973"/>
                </a:cubicBezTo>
                <a:cubicBezTo>
                  <a:pt x="20931" y="20973"/>
                  <a:pt x="20931" y="20973"/>
                  <a:pt x="20931" y="20973"/>
                </a:cubicBezTo>
                <a:cubicBezTo>
                  <a:pt x="20931" y="16923"/>
                  <a:pt x="20931" y="16923"/>
                  <a:pt x="20931" y="16923"/>
                </a:cubicBezTo>
                <a:cubicBezTo>
                  <a:pt x="12903" y="8823"/>
                  <a:pt x="12903" y="8823"/>
                  <a:pt x="12903" y="8823"/>
                </a:cubicBezTo>
                <a:cubicBezTo>
                  <a:pt x="13667" y="6509"/>
                  <a:pt x="13094" y="3809"/>
                  <a:pt x="11373" y="1880"/>
                </a:cubicBezTo>
                <a:cubicBezTo>
                  <a:pt x="8697" y="-627"/>
                  <a:pt x="4492" y="-627"/>
                  <a:pt x="2007" y="1880"/>
                </a:cubicBezTo>
                <a:close/>
                <a:moveTo>
                  <a:pt x="2581" y="9594"/>
                </a:moveTo>
                <a:cubicBezTo>
                  <a:pt x="1434" y="7666"/>
                  <a:pt x="1625" y="4966"/>
                  <a:pt x="3345" y="3230"/>
                </a:cubicBezTo>
                <a:cubicBezTo>
                  <a:pt x="4874" y="1494"/>
                  <a:pt x="7550" y="1302"/>
                  <a:pt x="9462" y="2652"/>
                </a:cubicBezTo>
                <a:lnTo>
                  <a:pt x="2581" y="9594"/>
                </a:lnTo>
                <a:close/>
                <a:moveTo>
                  <a:pt x="2581" y="9594"/>
                </a:moveTo>
              </a:path>
            </a:pathLst>
          </a:custGeom>
          <a:solidFill>
            <a:srgbClr val="ff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AutoShape 29"/>
          <p:cNvSpPr/>
          <p:nvPr/>
        </p:nvSpPr>
        <p:spPr>
          <a:xfrm>
            <a:off x="3363840" y="3187800"/>
            <a:ext cx="201600" cy="142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4751" y="18554"/>
                </a:moveTo>
                <a:cubicBezTo>
                  <a:pt x="14751" y="21600"/>
                  <a:pt x="14751" y="21600"/>
                  <a:pt x="14751" y="21600"/>
                </a:cubicBezTo>
                <a:cubicBezTo>
                  <a:pt x="18702" y="19938"/>
                  <a:pt x="21600" y="15785"/>
                  <a:pt x="21600" y="11354"/>
                </a:cubicBezTo>
                <a:cubicBezTo>
                  <a:pt x="21600" y="4985"/>
                  <a:pt x="16595" y="0"/>
                  <a:pt x="10800" y="0"/>
                </a:cubicBezTo>
                <a:cubicBezTo>
                  <a:pt x="4741" y="0"/>
                  <a:pt x="0" y="4985"/>
                  <a:pt x="0" y="11354"/>
                </a:cubicBezTo>
                <a:cubicBezTo>
                  <a:pt x="0" y="15785"/>
                  <a:pt x="2634" y="19938"/>
                  <a:pt x="6585" y="21600"/>
                </a:cubicBezTo>
                <a:cubicBezTo>
                  <a:pt x="6585" y="18554"/>
                  <a:pt x="6585" y="18554"/>
                  <a:pt x="6585" y="18554"/>
                </a:cubicBezTo>
                <a:cubicBezTo>
                  <a:pt x="4215" y="16892"/>
                  <a:pt x="2634" y="14400"/>
                  <a:pt x="2634" y="11354"/>
                </a:cubicBezTo>
                <a:cubicBezTo>
                  <a:pt x="2634" y="6369"/>
                  <a:pt x="6322" y="2769"/>
                  <a:pt x="10800" y="2769"/>
                </a:cubicBezTo>
                <a:cubicBezTo>
                  <a:pt x="15278" y="2769"/>
                  <a:pt x="18966" y="6369"/>
                  <a:pt x="18966" y="11354"/>
                </a:cubicBezTo>
                <a:cubicBezTo>
                  <a:pt x="18966" y="14400"/>
                  <a:pt x="17385" y="17169"/>
                  <a:pt x="14751" y="18554"/>
                </a:cubicBezTo>
                <a:close/>
                <a:moveTo>
                  <a:pt x="14751" y="18554"/>
                </a:moveTo>
              </a:path>
            </a:pathLst>
          </a:custGeom>
          <a:solidFill>
            <a:srgbClr val="ff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AutoShape 30"/>
          <p:cNvSpPr/>
          <p:nvPr/>
        </p:nvSpPr>
        <p:spPr>
          <a:xfrm>
            <a:off x="3319560" y="3154320"/>
            <a:ext cx="290520" cy="209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800" y="0"/>
                </a:moveTo>
                <a:cubicBezTo>
                  <a:pt x="4759" y="0"/>
                  <a:pt x="0" y="4883"/>
                  <a:pt x="0" y="11082"/>
                </a:cubicBezTo>
                <a:cubicBezTo>
                  <a:pt x="0" y="15965"/>
                  <a:pt x="3295" y="20285"/>
                  <a:pt x="7871" y="21600"/>
                </a:cubicBezTo>
                <a:cubicBezTo>
                  <a:pt x="7871" y="20097"/>
                  <a:pt x="7871" y="20097"/>
                  <a:pt x="7871" y="20097"/>
                </a:cubicBezTo>
                <a:cubicBezTo>
                  <a:pt x="4027" y="18783"/>
                  <a:pt x="1464" y="15214"/>
                  <a:pt x="1464" y="11082"/>
                </a:cubicBezTo>
                <a:cubicBezTo>
                  <a:pt x="1464" y="5635"/>
                  <a:pt x="5675" y="1503"/>
                  <a:pt x="10800" y="1503"/>
                </a:cubicBezTo>
                <a:cubicBezTo>
                  <a:pt x="15925" y="1503"/>
                  <a:pt x="20136" y="5635"/>
                  <a:pt x="20136" y="11082"/>
                </a:cubicBezTo>
                <a:cubicBezTo>
                  <a:pt x="20136" y="15214"/>
                  <a:pt x="17390" y="18783"/>
                  <a:pt x="13546" y="20097"/>
                </a:cubicBezTo>
                <a:cubicBezTo>
                  <a:pt x="13546" y="21600"/>
                  <a:pt x="13546" y="21600"/>
                  <a:pt x="13546" y="21600"/>
                </a:cubicBezTo>
                <a:cubicBezTo>
                  <a:pt x="18122" y="20285"/>
                  <a:pt x="21600" y="16153"/>
                  <a:pt x="21600" y="11082"/>
                </a:cubicBezTo>
                <a:cubicBezTo>
                  <a:pt x="21600" y="4883"/>
                  <a:pt x="16658" y="0"/>
                  <a:pt x="10800" y="0"/>
                </a:cubicBezTo>
                <a:close/>
                <a:moveTo>
                  <a:pt x="10800" y="0"/>
                </a:moveTo>
              </a:path>
            </a:pathLst>
          </a:custGeom>
          <a:solidFill>
            <a:srgbClr val="ff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AutoShape 31"/>
          <p:cNvSpPr/>
          <p:nvPr/>
        </p:nvSpPr>
        <p:spPr>
          <a:xfrm>
            <a:off x="3424320" y="3241800"/>
            <a:ext cx="88920" cy="17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4400" y="18450"/>
                </a:moveTo>
                <a:cubicBezTo>
                  <a:pt x="14400" y="17775"/>
                  <a:pt x="14400" y="4950"/>
                  <a:pt x="14400" y="4725"/>
                </a:cubicBezTo>
                <a:cubicBezTo>
                  <a:pt x="16200" y="4275"/>
                  <a:pt x="17400" y="3600"/>
                  <a:pt x="17400" y="2700"/>
                </a:cubicBezTo>
                <a:cubicBezTo>
                  <a:pt x="17400" y="1125"/>
                  <a:pt x="13800" y="0"/>
                  <a:pt x="10200" y="0"/>
                </a:cubicBezTo>
                <a:cubicBezTo>
                  <a:pt x="6000" y="0"/>
                  <a:pt x="3000" y="1125"/>
                  <a:pt x="3000" y="2700"/>
                </a:cubicBezTo>
                <a:cubicBezTo>
                  <a:pt x="3000" y="3600"/>
                  <a:pt x="4200" y="4275"/>
                  <a:pt x="6000" y="4725"/>
                </a:cubicBezTo>
                <a:cubicBezTo>
                  <a:pt x="6000" y="4725"/>
                  <a:pt x="6000" y="4725"/>
                  <a:pt x="6000" y="4725"/>
                </a:cubicBezTo>
                <a:cubicBezTo>
                  <a:pt x="6000" y="4725"/>
                  <a:pt x="6000" y="17550"/>
                  <a:pt x="6000" y="18450"/>
                </a:cubicBezTo>
                <a:cubicBezTo>
                  <a:pt x="6000" y="20700"/>
                  <a:pt x="0" y="21600"/>
                  <a:pt x="0" y="21600"/>
                </a:cubicBezTo>
                <a:cubicBezTo>
                  <a:pt x="21600" y="21600"/>
                  <a:pt x="21600" y="21600"/>
                  <a:pt x="21600" y="21600"/>
                </a:cubicBezTo>
                <a:cubicBezTo>
                  <a:pt x="21600" y="21600"/>
                  <a:pt x="14400" y="20700"/>
                  <a:pt x="14400" y="18450"/>
                </a:cubicBezTo>
                <a:close/>
                <a:moveTo>
                  <a:pt x="14400" y="18450"/>
                </a:moveTo>
              </a:path>
            </a:pathLst>
          </a:custGeom>
          <a:solidFill>
            <a:srgbClr val="ff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Rectangle 33"/>
          <p:cNvSpPr/>
          <p:nvPr/>
        </p:nvSpPr>
        <p:spPr>
          <a:xfrm>
            <a:off x="5110200" y="2898720"/>
            <a:ext cx="46080" cy="185760"/>
          </a:xfrm>
          <a:prstGeom prst="rect">
            <a:avLst/>
          </a:prstGeom>
          <a:solidFill>
            <a:srgbClr val="ff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Rectangle 34"/>
          <p:cNvSpPr/>
          <p:nvPr/>
        </p:nvSpPr>
        <p:spPr>
          <a:xfrm>
            <a:off x="5038560" y="2935440"/>
            <a:ext cx="44640" cy="149040"/>
          </a:xfrm>
          <a:prstGeom prst="rect">
            <a:avLst/>
          </a:prstGeom>
          <a:solidFill>
            <a:srgbClr val="ff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Rectangle 35"/>
          <p:cNvSpPr/>
          <p:nvPr/>
        </p:nvSpPr>
        <p:spPr>
          <a:xfrm>
            <a:off x="4962600" y="2965320"/>
            <a:ext cx="46080" cy="119160"/>
          </a:xfrm>
          <a:prstGeom prst="rect">
            <a:avLst/>
          </a:prstGeom>
          <a:solidFill>
            <a:srgbClr val="ff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Rectangle 36"/>
          <p:cNvSpPr/>
          <p:nvPr/>
        </p:nvSpPr>
        <p:spPr>
          <a:xfrm>
            <a:off x="5183280" y="2852640"/>
            <a:ext cx="46080" cy="231840"/>
          </a:xfrm>
          <a:prstGeom prst="rect">
            <a:avLst/>
          </a:prstGeom>
          <a:solidFill>
            <a:srgbClr val="ff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TextBox 13"/>
          <p:cNvSpPr/>
          <p:nvPr/>
        </p:nvSpPr>
        <p:spPr>
          <a:xfrm>
            <a:off x="1158840" y="2560680"/>
            <a:ext cx="971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TextBox 13"/>
          <p:cNvSpPr/>
          <p:nvPr/>
        </p:nvSpPr>
        <p:spPr>
          <a:xfrm>
            <a:off x="1162080" y="2741760"/>
            <a:ext cx="1520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TextBox 13"/>
          <p:cNvSpPr/>
          <p:nvPr/>
        </p:nvSpPr>
        <p:spPr>
          <a:xfrm>
            <a:off x="2836800" y="2217600"/>
            <a:ext cx="971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TextBox 13"/>
          <p:cNvSpPr/>
          <p:nvPr/>
        </p:nvSpPr>
        <p:spPr>
          <a:xfrm>
            <a:off x="2840040" y="2398680"/>
            <a:ext cx="1521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TextBox 13"/>
          <p:cNvSpPr/>
          <p:nvPr/>
        </p:nvSpPr>
        <p:spPr>
          <a:xfrm>
            <a:off x="4503600" y="1935000"/>
            <a:ext cx="971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TextBox 13"/>
          <p:cNvSpPr/>
          <p:nvPr/>
        </p:nvSpPr>
        <p:spPr>
          <a:xfrm>
            <a:off x="4506840" y="2116080"/>
            <a:ext cx="1521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TextBox 13"/>
          <p:cNvSpPr/>
          <p:nvPr/>
        </p:nvSpPr>
        <p:spPr>
          <a:xfrm>
            <a:off x="6161040" y="1622520"/>
            <a:ext cx="971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TextBox 13"/>
          <p:cNvSpPr/>
          <p:nvPr/>
        </p:nvSpPr>
        <p:spPr>
          <a:xfrm>
            <a:off x="6164280" y="1803240"/>
            <a:ext cx="1520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9" name="图片 2" descr=""/>
          <p:cNvPicPr/>
          <p:nvPr/>
        </p:nvPicPr>
        <p:blipFill>
          <a:blip r:embed="rId1"/>
          <a:stretch/>
        </p:blipFill>
        <p:spPr>
          <a:xfrm>
            <a:off x="3902040" y="1733400"/>
            <a:ext cx="4773600" cy="2387880"/>
          </a:xfrm>
          <a:prstGeom prst="rect">
            <a:avLst/>
          </a:prstGeom>
          <a:ln w="0">
            <a:noFill/>
          </a:ln>
        </p:spPr>
      </p:pic>
      <p:pic>
        <p:nvPicPr>
          <p:cNvPr id="710" name="图片 19" descr=""/>
          <p:cNvPicPr/>
          <p:nvPr/>
        </p:nvPicPr>
        <p:blipFill>
          <a:blip r:embed="rId2"/>
          <a:stretch/>
        </p:blipFill>
        <p:spPr>
          <a:xfrm>
            <a:off x="0" y="141120"/>
            <a:ext cx="9144000" cy="233640"/>
          </a:xfrm>
          <a:prstGeom prst="rect">
            <a:avLst/>
          </a:prstGeom>
          <a:ln w="0">
            <a:noFill/>
          </a:ln>
        </p:spPr>
      </p:pic>
      <p:sp>
        <p:nvSpPr>
          <p:cNvPr id="711" name="文本框 20"/>
          <p:cNvSpPr/>
          <p:nvPr/>
        </p:nvSpPr>
        <p:spPr>
          <a:xfrm>
            <a:off x="3216240" y="108000"/>
            <a:ext cx="2711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ADD YOUR TITLE H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Slide Number Placeholder 24"/>
          <p:cNvSpPr/>
          <p:nvPr/>
        </p:nvSpPr>
        <p:spPr>
          <a:xfrm>
            <a:off x="8729640" y="914400"/>
            <a:ext cx="380880" cy="2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1000"/>
          </a:bodyPr>
          <a:p>
            <a:pPr algn="ctr">
              <a:lnSpc>
                <a:spcPct val="100000"/>
              </a:lnSpc>
              <a:tabLst>
                <a:tab algn="l" pos="0"/>
                <a:tab algn="l" pos="1373040"/>
                <a:tab algn="l" pos="2746440"/>
                <a:tab algn="l" pos="4119480"/>
                <a:tab algn="l" pos="5492880"/>
                <a:tab algn="l" pos="6865920"/>
                <a:tab algn="l" pos="8238960"/>
                <a:tab algn="l" pos="9612360"/>
              </a:tabLst>
            </a:pPr>
            <a:fld id="{4900CA64-B11C-4B23-8CD9-7B2778A181BC}" type="slidenum">
              <a:rPr b="1" lang="en-US" sz="800" spc="-1" strike="noStrike">
                <a:solidFill>
                  <a:srgbClr val="929292"/>
                </a:solidFill>
                <a:latin typeface="Roboto Condensed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Oval 19"/>
          <p:cNvSpPr/>
          <p:nvPr/>
        </p:nvSpPr>
        <p:spPr>
          <a:xfrm>
            <a:off x="649440" y="3727440"/>
            <a:ext cx="533160" cy="403200"/>
          </a:xfrm>
          <a:prstGeom prst="ellipse">
            <a:avLst/>
          </a:pr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4" name="Group 23" descr=""/>
          <p:cNvPicPr/>
          <p:nvPr/>
        </p:nvPicPr>
        <p:blipFill>
          <a:blip r:embed="rId3"/>
          <a:stretch/>
        </p:blipFill>
        <p:spPr>
          <a:xfrm>
            <a:off x="785880" y="3840120"/>
            <a:ext cx="293760" cy="182520"/>
          </a:xfrm>
          <a:prstGeom prst="rect">
            <a:avLst/>
          </a:prstGeom>
          <a:ln w="0">
            <a:noFill/>
          </a:ln>
        </p:spPr>
      </p:pic>
      <p:sp>
        <p:nvSpPr>
          <p:cNvPr id="715" name="Oval 16"/>
          <p:cNvSpPr/>
          <p:nvPr/>
        </p:nvSpPr>
        <p:spPr>
          <a:xfrm>
            <a:off x="649440" y="3133800"/>
            <a:ext cx="533160" cy="401400"/>
          </a:xfrm>
          <a:prstGeom prst="ellipse">
            <a:avLst/>
          </a:pr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6" name="Group 34" descr=""/>
          <p:cNvPicPr/>
          <p:nvPr/>
        </p:nvPicPr>
        <p:blipFill>
          <a:blip r:embed="rId4"/>
          <a:stretch/>
        </p:blipFill>
        <p:spPr>
          <a:xfrm>
            <a:off x="781200" y="3222720"/>
            <a:ext cx="279360" cy="210960"/>
          </a:xfrm>
          <a:prstGeom prst="rect">
            <a:avLst/>
          </a:prstGeom>
          <a:ln w="0">
            <a:noFill/>
          </a:ln>
        </p:spPr>
      </p:pic>
      <p:sp>
        <p:nvSpPr>
          <p:cNvPr id="717" name="Oval 10"/>
          <p:cNvSpPr/>
          <p:nvPr/>
        </p:nvSpPr>
        <p:spPr>
          <a:xfrm>
            <a:off x="649440" y="2538360"/>
            <a:ext cx="533160" cy="403200"/>
          </a:xfrm>
          <a:prstGeom prst="ellipse">
            <a:avLst/>
          </a:pr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8" name="Group 82" descr=""/>
          <p:cNvPicPr/>
          <p:nvPr/>
        </p:nvPicPr>
        <p:blipFill>
          <a:blip r:embed="rId5"/>
          <a:stretch/>
        </p:blipFill>
        <p:spPr>
          <a:xfrm>
            <a:off x="792000" y="2629080"/>
            <a:ext cx="262080" cy="214200"/>
          </a:xfrm>
          <a:prstGeom prst="rect">
            <a:avLst/>
          </a:prstGeom>
          <a:ln w="0">
            <a:noFill/>
          </a:ln>
        </p:spPr>
      </p:pic>
      <p:sp>
        <p:nvSpPr>
          <p:cNvPr id="719" name="TextBox 13"/>
          <p:cNvSpPr/>
          <p:nvPr/>
        </p:nvSpPr>
        <p:spPr>
          <a:xfrm>
            <a:off x="1309680" y="2562120"/>
            <a:ext cx="1050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TextBox 13"/>
          <p:cNvSpPr/>
          <p:nvPr/>
        </p:nvSpPr>
        <p:spPr>
          <a:xfrm>
            <a:off x="1312920" y="2722680"/>
            <a:ext cx="2101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TextBox 13"/>
          <p:cNvSpPr/>
          <p:nvPr/>
        </p:nvSpPr>
        <p:spPr>
          <a:xfrm>
            <a:off x="1309680" y="3141720"/>
            <a:ext cx="1050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TextBox 13"/>
          <p:cNvSpPr/>
          <p:nvPr/>
        </p:nvSpPr>
        <p:spPr>
          <a:xfrm>
            <a:off x="1312920" y="3303720"/>
            <a:ext cx="2101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TextBox 13"/>
          <p:cNvSpPr/>
          <p:nvPr/>
        </p:nvSpPr>
        <p:spPr>
          <a:xfrm>
            <a:off x="1309680" y="3747960"/>
            <a:ext cx="1050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TextBox 13"/>
          <p:cNvSpPr/>
          <p:nvPr/>
        </p:nvSpPr>
        <p:spPr>
          <a:xfrm>
            <a:off x="1312920" y="3908520"/>
            <a:ext cx="2101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5" name="图片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726" name="圆角矩形 6"/>
          <p:cNvSpPr/>
          <p:nvPr/>
        </p:nvSpPr>
        <p:spPr>
          <a:xfrm>
            <a:off x="2882880" y="1932120"/>
            <a:ext cx="3376800" cy="1280880"/>
          </a:xfrm>
          <a:prstGeom prst="roundRect">
            <a:avLst>
              <a:gd name="adj" fmla="val 16667"/>
            </a:avLst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直接连接符 8"/>
          <p:cNvSpPr/>
          <p:nvPr/>
        </p:nvSpPr>
        <p:spPr>
          <a:xfrm>
            <a:off x="363600" y="2571840"/>
            <a:ext cx="2519280" cy="0"/>
          </a:xfrm>
          <a:prstGeom prst="line">
            <a:avLst/>
          </a:prstGeom>
          <a:ln w="57240">
            <a:solidFill>
              <a:srgbClr val="ffffff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直接连接符 12"/>
          <p:cNvSpPr/>
          <p:nvPr/>
        </p:nvSpPr>
        <p:spPr>
          <a:xfrm>
            <a:off x="6259680" y="2571840"/>
            <a:ext cx="251928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文本框 15"/>
          <p:cNvSpPr/>
          <p:nvPr/>
        </p:nvSpPr>
        <p:spPr>
          <a:xfrm>
            <a:off x="3444840" y="3333600"/>
            <a:ext cx="228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TextBox 13"/>
          <p:cNvSpPr/>
          <p:nvPr/>
        </p:nvSpPr>
        <p:spPr>
          <a:xfrm>
            <a:off x="2657520" y="3670200"/>
            <a:ext cx="4027320" cy="6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您可以在此处添加关于本章节的简要介绍，模板所有素材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均可自由编辑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1" name="图片 9" descr=""/>
          <p:cNvPicPr/>
          <p:nvPr/>
        </p:nvPicPr>
        <p:blipFill>
          <a:blip r:embed="rId2"/>
          <a:stretch/>
        </p:blipFill>
        <p:spPr>
          <a:xfrm>
            <a:off x="3371760" y="2290680"/>
            <a:ext cx="2395800" cy="5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2" name="图片 19" descr=""/>
          <p:cNvPicPr/>
          <p:nvPr/>
        </p:nvPicPr>
        <p:blipFill>
          <a:blip r:embed="rId1"/>
          <a:stretch/>
        </p:blipFill>
        <p:spPr>
          <a:xfrm>
            <a:off x="0" y="141120"/>
            <a:ext cx="9144000" cy="233640"/>
          </a:xfrm>
          <a:prstGeom prst="rect">
            <a:avLst/>
          </a:prstGeom>
          <a:ln w="0">
            <a:noFill/>
          </a:ln>
        </p:spPr>
      </p:pic>
      <p:sp>
        <p:nvSpPr>
          <p:cNvPr id="733" name="文本框 20"/>
          <p:cNvSpPr/>
          <p:nvPr/>
        </p:nvSpPr>
        <p:spPr>
          <a:xfrm>
            <a:off x="3216240" y="108000"/>
            <a:ext cx="2711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ADD YOUR TITLE H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Freeform 5"/>
          <p:cNvSpPr/>
          <p:nvPr/>
        </p:nvSpPr>
        <p:spPr>
          <a:xfrm>
            <a:off x="1092240" y="2436840"/>
            <a:ext cx="1463760" cy="1100160"/>
          </a:xfrm>
          <a:custGeom>
            <a:avLst/>
            <a:gdLst/>
            <a:ahLst/>
            <a:rect l="l" t="t" r="r" b="b"/>
            <a:pathLst>
              <a:path w="861" h="861">
                <a:moveTo>
                  <a:pt x="646" y="430"/>
                </a:moveTo>
                <a:cubicBezTo>
                  <a:pt x="646" y="549"/>
                  <a:pt x="549" y="645"/>
                  <a:pt x="430" y="645"/>
                </a:cubicBezTo>
                <a:cubicBezTo>
                  <a:pt x="311" y="645"/>
                  <a:pt x="215" y="549"/>
                  <a:pt x="215" y="430"/>
                </a:cubicBezTo>
                <a:cubicBezTo>
                  <a:pt x="215" y="311"/>
                  <a:pt x="311" y="215"/>
                  <a:pt x="430" y="215"/>
                </a:cubicBezTo>
                <a:cubicBezTo>
                  <a:pt x="450" y="215"/>
                  <a:pt x="470" y="218"/>
                  <a:pt x="488" y="223"/>
                </a:cubicBezTo>
                <a:cubicBezTo>
                  <a:pt x="447" y="156"/>
                  <a:pt x="422" y="80"/>
                  <a:pt x="418" y="0"/>
                </a:cubicBezTo>
                <a:cubicBezTo>
                  <a:pt x="186" y="6"/>
                  <a:pt x="0" y="196"/>
                  <a:pt x="0" y="430"/>
                </a:cubicBezTo>
                <a:cubicBezTo>
                  <a:pt x="0" y="668"/>
                  <a:pt x="192" y="861"/>
                  <a:pt x="430" y="861"/>
                </a:cubicBezTo>
                <a:cubicBezTo>
                  <a:pt x="668" y="861"/>
                  <a:pt x="861" y="668"/>
                  <a:pt x="861" y="430"/>
                </a:cubicBezTo>
                <a:cubicBezTo>
                  <a:pt x="861" y="315"/>
                  <a:pt x="816" y="211"/>
                  <a:pt x="742" y="133"/>
                </a:cubicBezTo>
                <a:cubicBezTo>
                  <a:pt x="590" y="286"/>
                  <a:pt x="590" y="286"/>
                  <a:pt x="590" y="286"/>
                </a:cubicBezTo>
                <a:cubicBezTo>
                  <a:pt x="625" y="325"/>
                  <a:pt x="646" y="375"/>
                  <a:pt x="646" y="430"/>
                </a:cubicBezTo>
                <a:close/>
              </a:path>
            </a:pathLst>
          </a:cu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Freeform 6"/>
          <p:cNvSpPr/>
          <p:nvPr/>
        </p:nvSpPr>
        <p:spPr>
          <a:xfrm>
            <a:off x="1871640" y="1855800"/>
            <a:ext cx="1463760" cy="957240"/>
          </a:xfrm>
          <a:custGeom>
            <a:avLst/>
            <a:gdLst/>
            <a:ahLst/>
            <a:rect l="l" t="t" r="r" b="b"/>
            <a:pathLst>
              <a:path w="861" h="750">
                <a:moveTo>
                  <a:pt x="739" y="731"/>
                </a:moveTo>
                <a:cubicBezTo>
                  <a:pt x="739" y="730"/>
                  <a:pt x="739" y="730"/>
                  <a:pt x="739" y="730"/>
                </a:cubicBezTo>
                <a:cubicBezTo>
                  <a:pt x="814" y="653"/>
                  <a:pt x="861" y="547"/>
                  <a:pt x="861" y="431"/>
                </a:cubicBezTo>
                <a:cubicBezTo>
                  <a:pt x="861" y="193"/>
                  <a:pt x="668" y="0"/>
                  <a:pt x="430" y="0"/>
                </a:cubicBezTo>
                <a:cubicBezTo>
                  <a:pt x="192" y="0"/>
                  <a:pt x="0" y="193"/>
                  <a:pt x="0" y="431"/>
                </a:cubicBezTo>
                <a:cubicBezTo>
                  <a:pt x="0" y="547"/>
                  <a:pt x="45" y="652"/>
                  <a:pt x="120" y="729"/>
                </a:cubicBezTo>
                <a:cubicBezTo>
                  <a:pt x="120" y="730"/>
                  <a:pt x="120" y="730"/>
                  <a:pt x="120" y="730"/>
                </a:cubicBezTo>
                <a:cubicBezTo>
                  <a:pt x="124" y="734"/>
                  <a:pt x="128" y="738"/>
                  <a:pt x="132" y="742"/>
                </a:cubicBezTo>
                <a:cubicBezTo>
                  <a:pt x="284" y="589"/>
                  <a:pt x="284" y="589"/>
                  <a:pt x="284" y="589"/>
                </a:cubicBezTo>
                <a:cubicBezTo>
                  <a:pt x="282" y="587"/>
                  <a:pt x="280" y="585"/>
                  <a:pt x="278" y="583"/>
                </a:cubicBezTo>
                <a:cubicBezTo>
                  <a:pt x="277" y="582"/>
                  <a:pt x="277" y="582"/>
                  <a:pt x="277" y="582"/>
                </a:cubicBezTo>
                <a:cubicBezTo>
                  <a:pt x="239" y="543"/>
                  <a:pt x="215" y="490"/>
                  <a:pt x="215" y="431"/>
                </a:cubicBezTo>
                <a:cubicBezTo>
                  <a:pt x="215" y="312"/>
                  <a:pt x="311" y="215"/>
                  <a:pt x="430" y="215"/>
                </a:cubicBezTo>
                <a:cubicBezTo>
                  <a:pt x="549" y="215"/>
                  <a:pt x="645" y="312"/>
                  <a:pt x="645" y="431"/>
                </a:cubicBezTo>
                <a:cubicBezTo>
                  <a:pt x="645" y="489"/>
                  <a:pt x="622" y="542"/>
                  <a:pt x="584" y="581"/>
                </a:cubicBezTo>
                <a:cubicBezTo>
                  <a:pt x="584" y="581"/>
                  <a:pt x="584" y="581"/>
                  <a:pt x="584" y="581"/>
                </a:cubicBezTo>
                <a:cubicBezTo>
                  <a:pt x="584" y="581"/>
                  <a:pt x="584" y="581"/>
                  <a:pt x="584" y="581"/>
                </a:cubicBezTo>
                <a:cubicBezTo>
                  <a:pt x="577" y="588"/>
                  <a:pt x="570" y="596"/>
                  <a:pt x="563" y="603"/>
                </a:cubicBezTo>
                <a:cubicBezTo>
                  <a:pt x="721" y="750"/>
                  <a:pt x="721" y="750"/>
                  <a:pt x="721" y="750"/>
                </a:cubicBezTo>
                <a:cubicBezTo>
                  <a:pt x="727" y="743"/>
                  <a:pt x="733" y="737"/>
                  <a:pt x="739" y="731"/>
                </a:cubicBezTo>
                <a:close/>
              </a:path>
            </a:pathLst>
          </a:cu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Freeform 7"/>
          <p:cNvSpPr/>
          <p:nvPr/>
        </p:nvSpPr>
        <p:spPr>
          <a:xfrm>
            <a:off x="2647800" y="2436840"/>
            <a:ext cx="1465560" cy="1100160"/>
          </a:xfrm>
          <a:custGeom>
            <a:avLst/>
            <a:gdLst/>
            <a:ahLst/>
            <a:rect l="l" t="t" r="r" b="b"/>
            <a:pathLst>
              <a:path w="862" h="861">
                <a:moveTo>
                  <a:pt x="443" y="0"/>
                </a:moveTo>
                <a:cubicBezTo>
                  <a:pt x="439" y="80"/>
                  <a:pt x="415" y="156"/>
                  <a:pt x="373" y="223"/>
                </a:cubicBezTo>
                <a:cubicBezTo>
                  <a:pt x="391" y="218"/>
                  <a:pt x="411" y="215"/>
                  <a:pt x="431" y="215"/>
                </a:cubicBezTo>
                <a:cubicBezTo>
                  <a:pt x="550" y="215"/>
                  <a:pt x="646" y="311"/>
                  <a:pt x="646" y="430"/>
                </a:cubicBezTo>
                <a:cubicBezTo>
                  <a:pt x="646" y="549"/>
                  <a:pt x="550" y="645"/>
                  <a:pt x="431" y="645"/>
                </a:cubicBezTo>
                <a:cubicBezTo>
                  <a:pt x="312" y="645"/>
                  <a:pt x="216" y="549"/>
                  <a:pt x="216" y="430"/>
                </a:cubicBezTo>
                <a:cubicBezTo>
                  <a:pt x="216" y="378"/>
                  <a:pt x="234" y="331"/>
                  <a:pt x="264" y="294"/>
                </a:cubicBezTo>
                <a:cubicBezTo>
                  <a:pt x="106" y="147"/>
                  <a:pt x="106" y="147"/>
                  <a:pt x="106" y="147"/>
                </a:cubicBezTo>
                <a:cubicBezTo>
                  <a:pt x="40" y="223"/>
                  <a:pt x="0" y="322"/>
                  <a:pt x="0" y="430"/>
                </a:cubicBezTo>
                <a:cubicBezTo>
                  <a:pt x="0" y="668"/>
                  <a:pt x="193" y="861"/>
                  <a:pt x="431" y="861"/>
                </a:cubicBezTo>
                <a:cubicBezTo>
                  <a:pt x="669" y="861"/>
                  <a:pt x="862" y="668"/>
                  <a:pt x="862" y="430"/>
                </a:cubicBezTo>
                <a:cubicBezTo>
                  <a:pt x="862" y="196"/>
                  <a:pt x="675" y="6"/>
                  <a:pt x="443" y="0"/>
                </a:cubicBezTo>
                <a:close/>
              </a:path>
            </a:pathLst>
          </a:cu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TextBox 175"/>
          <p:cNvSpPr/>
          <p:nvPr/>
        </p:nvSpPr>
        <p:spPr>
          <a:xfrm>
            <a:off x="2356920" y="2217600"/>
            <a:ext cx="47592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1" lang="id-ID" sz="2400" spc="-1" strike="noStrike">
                <a:solidFill>
                  <a:srgbClr val="1e9c8c"/>
                </a:solidFill>
                <a:latin typeface="Arial"/>
                <a:ea typeface="微软雅黑"/>
              </a:rPr>
              <a:t>0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TextBox 176"/>
          <p:cNvSpPr/>
          <p:nvPr/>
        </p:nvSpPr>
        <p:spPr>
          <a:xfrm>
            <a:off x="1558440" y="2811600"/>
            <a:ext cx="518400" cy="48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1" lang="id-ID" sz="2700" spc="-1" strike="noStrike">
                <a:solidFill>
                  <a:srgbClr val="69c293"/>
                </a:solidFill>
                <a:latin typeface="Arial"/>
                <a:ea typeface="微软雅黑"/>
              </a:rPr>
              <a:t>02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TextBox 177"/>
          <p:cNvSpPr/>
          <p:nvPr/>
        </p:nvSpPr>
        <p:spPr>
          <a:xfrm>
            <a:off x="3104640" y="2811600"/>
            <a:ext cx="47592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1" lang="id-ID" sz="2400" spc="-1" strike="noStrike">
                <a:solidFill>
                  <a:srgbClr val="69c293"/>
                </a:solidFill>
                <a:latin typeface="Arial"/>
                <a:ea typeface="微软雅黑"/>
              </a:rPr>
              <a:t>0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Line 7"/>
          <p:cNvSpPr/>
          <p:nvPr/>
        </p:nvSpPr>
        <p:spPr>
          <a:xfrm>
            <a:off x="4789440" y="1735200"/>
            <a:ext cx="0" cy="1923840"/>
          </a:xfrm>
          <a:prstGeom prst="line">
            <a:avLst/>
          </a:prstGeom>
          <a:ln w="1260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AutoShape 9"/>
          <p:cNvSpPr/>
          <p:nvPr/>
        </p:nvSpPr>
        <p:spPr>
          <a:xfrm>
            <a:off x="5248440" y="1596960"/>
            <a:ext cx="761760" cy="754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rmAutofit fontScale="7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0" spc="-1" strike="noStrike">
                <a:solidFill>
                  <a:srgbClr val="1e9c8c"/>
                </a:solidFill>
                <a:latin typeface="Arial"/>
                <a:ea typeface="微软雅黑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AutoShape 12"/>
          <p:cNvSpPr/>
          <p:nvPr/>
        </p:nvSpPr>
        <p:spPr>
          <a:xfrm>
            <a:off x="5248440" y="2320920"/>
            <a:ext cx="761760" cy="754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rmAutofit fontScale="7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0" spc="-1" strike="noStrike">
                <a:solidFill>
                  <a:srgbClr val="69c293"/>
                </a:solidFill>
                <a:latin typeface="Arial"/>
                <a:ea typeface="微软雅黑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AutoShape 15"/>
          <p:cNvSpPr/>
          <p:nvPr/>
        </p:nvSpPr>
        <p:spPr>
          <a:xfrm>
            <a:off x="5248440" y="3063960"/>
            <a:ext cx="761760" cy="7538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rmAutofit fontScale="7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0" spc="-1" strike="noStrike">
                <a:solidFill>
                  <a:srgbClr val="1e9c8c"/>
                </a:solidFill>
                <a:latin typeface="Arial"/>
                <a:ea typeface="微软雅黑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TextBox 13"/>
          <p:cNvSpPr/>
          <p:nvPr/>
        </p:nvSpPr>
        <p:spPr>
          <a:xfrm>
            <a:off x="5776920" y="1763640"/>
            <a:ext cx="106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TextBox 13"/>
          <p:cNvSpPr/>
          <p:nvPr/>
        </p:nvSpPr>
        <p:spPr>
          <a:xfrm>
            <a:off x="5776920" y="1951200"/>
            <a:ext cx="2043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TextBox 13"/>
          <p:cNvSpPr/>
          <p:nvPr/>
        </p:nvSpPr>
        <p:spPr>
          <a:xfrm>
            <a:off x="5776920" y="2495520"/>
            <a:ext cx="106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TextBox 13"/>
          <p:cNvSpPr/>
          <p:nvPr/>
        </p:nvSpPr>
        <p:spPr>
          <a:xfrm>
            <a:off x="5776920" y="2681280"/>
            <a:ext cx="2043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TextBox 13"/>
          <p:cNvSpPr/>
          <p:nvPr/>
        </p:nvSpPr>
        <p:spPr>
          <a:xfrm>
            <a:off x="5776920" y="3249720"/>
            <a:ext cx="106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TextBox 13"/>
          <p:cNvSpPr/>
          <p:nvPr/>
        </p:nvSpPr>
        <p:spPr>
          <a:xfrm>
            <a:off x="5776920" y="3435480"/>
            <a:ext cx="2043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0" name="图片 8" descr=""/>
          <p:cNvPicPr/>
          <p:nvPr/>
        </p:nvPicPr>
        <p:blipFill>
          <a:blip r:embed="rId1"/>
          <a:stretch/>
        </p:blipFill>
        <p:spPr>
          <a:xfrm>
            <a:off x="3932280" y="1511280"/>
            <a:ext cx="4340160" cy="2400480"/>
          </a:xfrm>
          <a:prstGeom prst="rect">
            <a:avLst/>
          </a:prstGeom>
          <a:ln w="0">
            <a:noFill/>
          </a:ln>
        </p:spPr>
      </p:pic>
      <p:pic>
        <p:nvPicPr>
          <p:cNvPr id="751" name="图片 19" descr=""/>
          <p:cNvPicPr/>
          <p:nvPr/>
        </p:nvPicPr>
        <p:blipFill>
          <a:blip r:embed="rId2"/>
          <a:stretch/>
        </p:blipFill>
        <p:spPr>
          <a:xfrm>
            <a:off x="0" y="141120"/>
            <a:ext cx="9144000" cy="233640"/>
          </a:xfrm>
          <a:prstGeom prst="rect">
            <a:avLst/>
          </a:prstGeom>
          <a:ln w="0">
            <a:noFill/>
          </a:ln>
        </p:spPr>
      </p:pic>
      <p:sp>
        <p:nvSpPr>
          <p:cNvPr id="752" name="文本框 20"/>
          <p:cNvSpPr/>
          <p:nvPr/>
        </p:nvSpPr>
        <p:spPr>
          <a:xfrm>
            <a:off x="3216240" y="108000"/>
            <a:ext cx="2711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ADD YOUR TITLE H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Rectangle 22"/>
          <p:cNvSpPr/>
          <p:nvPr/>
        </p:nvSpPr>
        <p:spPr>
          <a:xfrm>
            <a:off x="453960" y="1909800"/>
            <a:ext cx="4354560" cy="842760"/>
          </a:xfrm>
          <a:prstGeom prst="rect">
            <a:avLst/>
          </a:prstGeom>
          <a:solidFill>
            <a:srgbClr val="1e9c8c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矩形 5"/>
          <p:cNvSpPr/>
          <p:nvPr/>
        </p:nvSpPr>
        <p:spPr>
          <a:xfrm>
            <a:off x="730080" y="2095560"/>
            <a:ext cx="307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矩形 6"/>
          <p:cNvSpPr/>
          <p:nvPr/>
        </p:nvSpPr>
        <p:spPr>
          <a:xfrm>
            <a:off x="777960" y="3121200"/>
            <a:ext cx="282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249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TextBox 13"/>
          <p:cNvSpPr/>
          <p:nvPr/>
        </p:nvSpPr>
        <p:spPr>
          <a:xfrm>
            <a:off x="777960" y="2940120"/>
            <a:ext cx="2065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7" name="图片 19" descr=""/>
          <p:cNvPicPr/>
          <p:nvPr/>
        </p:nvPicPr>
        <p:blipFill>
          <a:blip r:embed="rId1"/>
          <a:stretch/>
        </p:blipFill>
        <p:spPr>
          <a:xfrm>
            <a:off x="0" y="141120"/>
            <a:ext cx="9144000" cy="233640"/>
          </a:xfrm>
          <a:prstGeom prst="rect">
            <a:avLst/>
          </a:prstGeom>
          <a:ln w="0">
            <a:noFill/>
          </a:ln>
        </p:spPr>
      </p:pic>
      <p:sp>
        <p:nvSpPr>
          <p:cNvPr id="758" name="文本框 20"/>
          <p:cNvSpPr/>
          <p:nvPr/>
        </p:nvSpPr>
        <p:spPr>
          <a:xfrm>
            <a:off x="3216240" y="108000"/>
            <a:ext cx="2711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ADD YOUR TITLE H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AutoShape 3"/>
          <p:cNvSpPr/>
          <p:nvPr/>
        </p:nvSpPr>
        <p:spPr>
          <a:xfrm>
            <a:off x="1144440" y="1755720"/>
            <a:ext cx="2106720" cy="2005200"/>
          </a:xfrm>
          <a:custGeom>
            <a:avLst/>
            <a:gdLst/>
            <a:ahLst/>
            <a:rect l="l" t="t" r="r" b="b"/>
            <a:pathLst>
              <a:path w="19952" h="21600">
                <a:moveTo>
                  <a:pt x="1856" y="0"/>
                </a:moveTo>
                <a:cubicBezTo>
                  <a:pt x="831" y="0"/>
                  <a:pt x="0" y="709"/>
                  <a:pt x="0" y="1583"/>
                </a:cubicBezTo>
                <a:lnTo>
                  <a:pt x="0" y="20017"/>
                </a:lnTo>
                <a:cubicBezTo>
                  <a:pt x="0" y="20891"/>
                  <a:pt x="831" y="21600"/>
                  <a:pt x="1856" y="21600"/>
                </a:cubicBezTo>
                <a:lnTo>
                  <a:pt x="18096" y="21600"/>
                </a:lnTo>
                <a:cubicBezTo>
                  <a:pt x="19121" y="21600"/>
                  <a:pt x="19952" y="20891"/>
                  <a:pt x="19952" y="20017"/>
                </a:cubicBezTo>
                <a:lnTo>
                  <a:pt x="19952" y="6957"/>
                </a:lnTo>
                <a:lnTo>
                  <a:pt x="21600" y="6098"/>
                </a:lnTo>
                <a:lnTo>
                  <a:pt x="19952" y="5240"/>
                </a:lnTo>
                <a:lnTo>
                  <a:pt x="19952" y="1583"/>
                </a:lnTo>
                <a:cubicBezTo>
                  <a:pt x="19952" y="709"/>
                  <a:pt x="19121" y="0"/>
                  <a:pt x="18096" y="0"/>
                </a:cubicBezTo>
                <a:lnTo>
                  <a:pt x="1856" y="0"/>
                </a:lnTo>
                <a:close/>
                <a:moveTo>
                  <a:pt x="1856" y="0"/>
                </a:moveTo>
              </a:path>
            </a:pathLst>
          </a:cu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AutoShape 6"/>
          <p:cNvSpPr/>
          <p:nvPr/>
        </p:nvSpPr>
        <p:spPr>
          <a:xfrm>
            <a:off x="2077920" y="2055960"/>
            <a:ext cx="265320" cy="199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10800"/>
                </a:moveTo>
                <a:cubicBezTo>
                  <a:pt x="21600" y="16765"/>
                  <a:pt x="16764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ubicBezTo>
                  <a:pt x="0" y="4835"/>
                  <a:pt x="4835" y="0"/>
                  <a:pt x="10800" y="0"/>
                </a:cubicBezTo>
                <a:cubicBezTo>
                  <a:pt x="16764" y="0"/>
                  <a:pt x="21600" y="4835"/>
                  <a:pt x="21600" y="10800"/>
                </a:cubicBezTo>
                <a:close/>
                <a:moveTo>
                  <a:pt x="21600" y="10800"/>
                </a:move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AutoShape 7"/>
          <p:cNvSpPr/>
          <p:nvPr/>
        </p:nvSpPr>
        <p:spPr>
          <a:xfrm>
            <a:off x="1987560" y="2246400"/>
            <a:ext cx="449280" cy="215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6508" y="0"/>
                </a:moveTo>
                <a:cubicBezTo>
                  <a:pt x="15311" y="1845"/>
                  <a:pt x="13754" y="3116"/>
                  <a:pt x="12017" y="3525"/>
                </a:cubicBezTo>
                <a:lnTo>
                  <a:pt x="11146" y="6372"/>
                </a:lnTo>
                <a:cubicBezTo>
                  <a:pt x="10956" y="6994"/>
                  <a:pt x="10644" y="6994"/>
                  <a:pt x="10454" y="6372"/>
                </a:cubicBezTo>
                <a:lnTo>
                  <a:pt x="9583" y="3525"/>
                </a:lnTo>
                <a:cubicBezTo>
                  <a:pt x="7846" y="3117"/>
                  <a:pt x="6289" y="1845"/>
                  <a:pt x="5092" y="0"/>
                </a:cubicBezTo>
                <a:cubicBezTo>
                  <a:pt x="2035" y="4448"/>
                  <a:pt x="0" y="12362"/>
                  <a:pt x="0" y="21387"/>
                </a:cubicBezTo>
                <a:cubicBezTo>
                  <a:pt x="0" y="21458"/>
                  <a:pt x="1" y="21528"/>
                  <a:pt x="1" y="21600"/>
                </a:cubicBezTo>
                <a:lnTo>
                  <a:pt x="21598" y="21600"/>
                </a:lnTo>
                <a:cubicBezTo>
                  <a:pt x="21598" y="21528"/>
                  <a:pt x="21600" y="21458"/>
                  <a:pt x="21600" y="21387"/>
                </a:cubicBezTo>
                <a:cubicBezTo>
                  <a:pt x="21600" y="12362"/>
                  <a:pt x="19565" y="4448"/>
                  <a:pt x="16508" y="0"/>
                </a:cubicBezTo>
                <a:close/>
                <a:moveTo>
                  <a:pt x="16508" y="0"/>
                </a:move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Line 36"/>
          <p:cNvSpPr/>
          <p:nvPr/>
        </p:nvSpPr>
        <p:spPr>
          <a:xfrm>
            <a:off x="1236600" y="2720880"/>
            <a:ext cx="1914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AutoShape 4"/>
          <p:cNvSpPr/>
          <p:nvPr/>
        </p:nvSpPr>
        <p:spPr>
          <a:xfrm>
            <a:off x="3508200" y="1727280"/>
            <a:ext cx="2106720" cy="2004840"/>
          </a:xfrm>
          <a:custGeom>
            <a:avLst/>
            <a:gdLst/>
            <a:ahLst/>
            <a:rect l="l" t="t" r="r" b="b"/>
            <a:pathLst>
              <a:path w="19952" h="21600">
                <a:moveTo>
                  <a:pt x="1931" y="0"/>
                </a:moveTo>
                <a:cubicBezTo>
                  <a:pt x="865" y="0"/>
                  <a:pt x="0" y="738"/>
                  <a:pt x="0" y="1647"/>
                </a:cubicBezTo>
                <a:lnTo>
                  <a:pt x="0" y="19953"/>
                </a:lnTo>
                <a:cubicBezTo>
                  <a:pt x="0" y="20862"/>
                  <a:pt x="865" y="21600"/>
                  <a:pt x="1931" y="21600"/>
                </a:cubicBezTo>
                <a:lnTo>
                  <a:pt x="18021" y="21600"/>
                </a:lnTo>
                <a:cubicBezTo>
                  <a:pt x="19088" y="21600"/>
                  <a:pt x="19952" y="20862"/>
                  <a:pt x="19952" y="19953"/>
                </a:cubicBezTo>
                <a:lnTo>
                  <a:pt x="19952" y="6957"/>
                </a:lnTo>
                <a:lnTo>
                  <a:pt x="21600" y="6098"/>
                </a:lnTo>
                <a:lnTo>
                  <a:pt x="19952" y="5240"/>
                </a:lnTo>
                <a:lnTo>
                  <a:pt x="19952" y="1647"/>
                </a:lnTo>
                <a:cubicBezTo>
                  <a:pt x="19952" y="738"/>
                  <a:pt x="19088" y="0"/>
                  <a:pt x="18021" y="0"/>
                </a:cubicBezTo>
                <a:lnTo>
                  <a:pt x="1931" y="0"/>
                </a:lnTo>
                <a:close/>
                <a:moveTo>
                  <a:pt x="1931" y="0"/>
                </a:moveTo>
              </a:path>
            </a:pathLst>
          </a:cu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AutoShape 8"/>
          <p:cNvSpPr/>
          <p:nvPr/>
        </p:nvSpPr>
        <p:spPr>
          <a:xfrm>
            <a:off x="4103640" y="2063880"/>
            <a:ext cx="263520" cy="198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10800"/>
                </a:moveTo>
                <a:cubicBezTo>
                  <a:pt x="21600" y="16765"/>
                  <a:pt x="16764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ubicBezTo>
                  <a:pt x="0" y="4835"/>
                  <a:pt x="4835" y="0"/>
                  <a:pt x="10800" y="0"/>
                </a:cubicBezTo>
                <a:cubicBezTo>
                  <a:pt x="16764" y="0"/>
                  <a:pt x="21600" y="4835"/>
                  <a:pt x="21600" y="10800"/>
                </a:cubicBezTo>
                <a:close/>
                <a:moveTo>
                  <a:pt x="21600" y="10800"/>
                </a:move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AutoShape 9"/>
          <p:cNvSpPr/>
          <p:nvPr/>
        </p:nvSpPr>
        <p:spPr>
          <a:xfrm>
            <a:off x="4013280" y="2255760"/>
            <a:ext cx="447480" cy="214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6508" y="0"/>
                </a:moveTo>
                <a:cubicBezTo>
                  <a:pt x="15311" y="1845"/>
                  <a:pt x="13754" y="3116"/>
                  <a:pt x="12017" y="3525"/>
                </a:cubicBezTo>
                <a:lnTo>
                  <a:pt x="11146" y="6372"/>
                </a:lnTo>
                <a:cubicBezTo>
                  <a:pt x="10956" y="6994"/>
                  <a:pt x="10644" y="6994"/>
                  <a:pt x="10454" y="6372"/>
                </a:cubicBezTo>
                <a:lnTo>
                  <a:pt x="9583" y="3525"/>
                </a:lnTo>
                <a:cubicBezTo>
                  <a:pt x="7846" y="3117"/>
                  <a:pt x="6289" y="1845"/>
                  <a:pt x="5092" y="0"/>
                </a:cubicBezTo>
                <a:cubicBezTo>
                  <a:pt x="2035" y="4448"/>
                  <a:pt x="0" y="12362"/>
                  <a:pt x="0" y="21387"/>
                </a:cubicBezTo>
                <a:cubicBezTo>
                  <a:pt x="0" y="21458"/>
                  <a:pt x="1" y="21528"/>
                  <a:pt x="1" y="21600"/>
                </a:cubicBezTo>
                <a:lnTo>
                  <a:pt x="21598" y="21600"/>
                </a:lnTo>
                <a:cubicBezTo>
                  <a:pt x="21598" y="21528"/>
                  <a:pt x="21600" y="21458"/>
                  <a:pt x="21600" y="21387"/>
                </a:cubicBezTo>
                <a:cubicBezTo>
                  <a:pt x="21600" y="12362"/>
                  <a:pt x="19565" y="4448"/>
                  <a:pt x="16508" y="0"/>
                </a:cubicBezTo>
                <a:close/>
                <a:moveTo>
                  <a:pt x="16508" y="0"/>
                </a:move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AutoShape 10"/>
          <p:cNvSpPr/>
          <p:nvPr/>
        </p:nvSpPr>
        <p:spPr>
          <a:xfrm>
            <a:off x="4789440" y="2066760"/>
            <a:ext cx="265320" cy="198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10800"/>
                </a:moveTo>
                <a:cubicBezTo>
                  <a:pt x="21600" y="16765"/>
                  <a:pt x="16764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ubicBezTo>
                  <a:pt x="0" y="4835"/>
                  <a:pt x="4835" y="0"/>
                  <a:pt x="10800" y="0"/>
                </a:cubicBezTo>
                <a:cubicBezTo>
                  <a:pt x="16764" y="0"/>
                  <a:pt x="21600" y="4835"/>
                  <a:pt x="21600" y="10800"/>
                </a:cubicBezTo>
                <a:close/>
                <a:moveTo>
                  <a:pt x="21600" y="10800"/>
                </a:move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AutoShape 11"/>
          <p:cNvSpPr/>
          <p:nvPr/>
        </p:nvSpPr>
        <p:spPr>
          <a:xfrm>
            <a:off x="4699080" y="2259000"/>
            <a:ext cx="447480" cy="214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6508" y="0"/>
                </a:moveTo>
                <a:cubicBezTo>
                  <a:pt x="15311" y="1845"/>
                  <a:pt x="13754" y="3116"/>
                  <a:pt x="12017" y="3525"/>
                </a:cubicBezTo>
                <a:lnTo>
                  <a:pt x="11146" y="6372"/>
                </a:lnTo>
                <a:cubicBezTo>
                  <a:pt x="10956" y="6994"/>
                  <a:pt x="10644" y="6994"/>
                  <a:pt x="10454" y="6372"/>
                </a:cubicBezTo>
                <a:lnTo>
                  <a:pt x="9583" y="3525"/>
                </a:lnTo>
                <a:cubicBezTo>
                  <a:pt x="7846" y="3117"/>
                  <a:pt x="6289" y="1845"/>
                  <a:pt x="5092" y="0"/>
                </a:cubicBezTo>
                <a:cubicBezTo>
                  <a:pt x="2035" y="4448"/>
                  <a:pt x="0" y="12362"/>
                  <a:pt x="0" y="21387"/>
                </a:cubicBezTo>
                <a:cubicBezTo>
                  <a:pt x="0" y="21458"/>
                  <a:pt x="1" y="21528"/>
                  <a:pt x="1" y="21600"/>
                </a:cubicBezTo>
                <a:lnTo>
                  <a:pt x="21598" y="21600"/>
                </a:lnTo>
                <a:cubicBezTo>
                  <a:pt x="21598" y="21528"/>
                  <a:pt x="21600" y="21458"/>
                  <a:pt x="21600" y="21387"/>
                </a:cubicBezTo>
                <a:cubicBezTo>
                  <a:pt x="21600" y="12362"/>
                  <a:pt x="19565" y="4448"/>
                  <a:pt x="16508" y="0"/>
                </a:cubicBezTo>
                <a:close/>
                <a:moveTo>
                  <a:pt x="16508" y="0"/>
                </a:move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AutoShape 12"/>
          <p:cNvSpPr/>
          <p:nvPr/>
        </p:nvSpPr>
        <p:spPr>
          <a:xfrm>
            <a:off x="4441680" y="2095560"/>
            <a:ext cx="263520" cy="198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10800"/>
                </a:moveTo>
                <a:cubicBezTo>
                  <a:pt x="21600" y="16765"/>
                  <a:pt x="16764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ubicBezTo>
                  <a:pt x="0" y="4835"/>
                  <a:pt x="4835" y="0"/>
                  <a:pt x="10800" y="0"/>
                </a:cubicBezTo>
                <a:cubicBezTo>
                  <a:pt x="16764" y="0"/>
                  <a:pt x="21600" y="4835"/>
                  <a:pt x="21600" y="10800"/>
                </a:cubicBezTo>
                <a:close/>
                <a:moveTo>
                  <a:pt x="21600" y="10800"/>
                </a:move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AutoShape 13"/>
          <p:cNvSpPr/>
          <p:nvPr/>
        </p:nvSpPr>
        <p:spPr>
          <a:xfrm>
            <a:off x="4351320" y="2287440"/>
            <a:ext cx="447840" cy="214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6508" y="0"/>
                </a:moveTo>
                <a:cubicBezTo>
                  <a:pt x="15311" y="1845"/>
                  <a:pt x="13754" y="3116"/>
                  <a:pt x="12017" y="3525"/>
                </a:cubicBezTo>
                <a:lnTo>
                  <a:pt x="11146" y="6372"/>
                </a:lnTo>
                <a:cubicBezTo>
                  <a:pt x="10956" y="6994"/>
                  <a:pt x="10644" y="6994"/>
                  <a:pt x="10454" y="6372"/>
                </a:cubicBezTo>
                <a:lnTo>
                  <a:pt x="9583" y="3525"/>
                </a:lnTo>
                <a:cubicBezTo>
                  <a:pt x="7846" y="3117"/>
                  <a:pt x="6289" y="1845"/>
                  <a:pt x="5092" y="0"/>
                </a:cubicBezTo>
                <a:cubicBezTo>
                  <a:pt x="2035" y="4448"/>
                  <a:pt x="0" y="12362"/>
                  <a:pt x="0" y="21387"/>
                </a:cubicBezTo>
                <a:cubicBezTo>
                  <a:pt x="0" y="21458"/>
                  <a:pt x="1" y="21528"/>
                  <a:pt x="1" y="21600"/>
                </a:cubicBezTo>
                <a:lnTo>
                  <a:pt x="21598" y="21600"/>
                </a:lnTo>
                <a:cubicBezTo>
                  <a:pt x="21598" y="21528"/>
                  <a:pt x="21600" y="21458"/>
                  <a:pt x="21600" y="21387"/>
                </a:cubicBezTo>
                <a:cubicBezTo>
                  <a:pt x="21600" y="12362"/>
                  <a:pt x="19565" y="4448"/>
                  <a:pt x="16508" y="0"/>
                </a:cubicBezTo>
                <a:close/>
                <a:moveTo>
                  <a:pt x="16508" y="0"/>
                </a:move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Line 37"/>
          <p:cNvSpPr/>
          <p:nvPr/>
        </p:nvSpPr>
        <p:spPr>
          <a:xfrm>
            <a:off x="3598920" y="2720880"/>
            <a:ext cx="1914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AutoShape 5"/>
          <p:cNvSpPr/>
          <p:nvPr/>
        </p:nvSpPr>
        <p:spPr>
          <a:xfrm>
            <a:off x="5872320" y="1727280"/>
            <a:ext cx="2104920" cy="20048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9956"/>
                </a:moveTo>
                <a:lnTo>
                  <a:pt x="0" y="1644"/>
                </a:lnTo>
                <a:cubicBezTo>
                  <a:pt x="0" y="736"/>
                  <a:pt x="934" y="0"/>
                  <a:pt x="2087" y="0"/>
                </a:cubicBezTo>
                <a:lnTo>
                  <a:pt x="19513" y="0"/>
                </a:lnTo>
                <a:cubicBezTo>
                  <a:pt x="20666" y="0"/>
                  <a:pt x="21600" y="736"/>
                  <a:pt x="21600" y="1644"/>
                </a:cubicBezTo>
                <a:lnTo>
                  <a:pt x="21600" y="19956"/>
                </a:lnTo>
                <a:cubicBezTo>
                  <a:pt x="21600" y="20864"/>
                  <a:pt x="20666" y="21600"/>
                  <a:pt x="19513" y="21600"/>
                </a:cubicBezTo>
                <a:lnTo>
                  <a:pt x="2087" y="21600"/>
                </a:lnTo>
                <a:cubicBezTo>
                  <a:pt x="934" y="21600"/>
                  <a:pt x="0" y="20864"/>
                  <a:pt x="0" y="19956"/>
                </a:cubicBezTo>
                <a:close/>
                <a:moveTo>
                  <a:pt x="0" y="19956"/>
                </a:moveTo>
              </a:path>
            </a:pathLst>
          </a:cu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72" name="Group 32"/>
          <p:cNvGrpSpPr/>
          <p:nvPr/>
        </p:nvGrpSpPr>
        <p:grpSpPr>
          <a:xfrm>
            <a:off x="6176880" y="1932120"/>
            <a:ext cx="1495440" cy="623520"/>
            <a:chOff x="6176880" y="1932120"/>
            <a:chExt cx="1495440" cy="623520"/>
          </a:xfrm>
        </p:grpSpPr>
        <p:sp>
          <p:nvSpPr>
            <p:cNvPr id="773" name="AutoShape 14"/>
            <p:cNvSpPr/>
            <p:nvPr/>
          </p:nvSpPr>
          <p:spPr>
            <a:xfrm>
              <a:off x="6235200" y="2270160"/>
              <a:ext cx="172440" cy="1299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10800"/>
                  </a:moveTo>
                  <a:cubicBezTo>
                    <a:pt x="21600" y="16765"/>
                    <a:pt x="16764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ubicBezTo>
                    <a:pt x="0" y="4835"/>
                    <a:pt x="4835" y="0"/>
                    <a:pt x="10800" y="0"/>
                  </a:cubicBezTo>
                  <a:cubicBezTo>
                    <a:pt x="16764" y="0"/>
                    <a:pt x="21600" y="4835"/>
                    <a:pt x="21600" y="10800"/>
                  </a:cubicBezTo>
                  <a:close/>
                  <a:moveTo>
                    <a:pt x="21600" y="10800"/>
                  </a:move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4" name="AutoShape 15"/>
            <p:cNvSpPr/>
            <p:nvPr/>
          </p:nvSpPr>
          <p:spPr>
            <a:xfrm>
              <a:off x="6176880" y="2395080"/>
              <a:ext cx="290880" cy="139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6508" y="0"/>
                  </a:moveTo>
                  <a:cubicBezTo>
                    <a:pt x="15311" y="1845"/>
                    <a:pt x="13754" y="3116"/>
                    <a:pt x="12017" y="3525"/>
                  </a:cubicBezTo>
                  <a:lnTo>
                    <a:pt x="11146" y="6372"/>
                  </a:lnTo>
                  <a:cubicBezTo>
                    <a:pt x="10956" y="6994"/>
                    <a:pt x="10644" y="6994"/>
                    <a:pt x="10454" y="6372"/>
                  </a:cubicBezTo>
                  <a:lnTo>
                    <a:pt x="9583" y="3525"/>
                  </a:lnTo>
                  <a:cubicBezTo>
                    <a:pt x="7846" y="3117"/>
                    <a:pt x="6289" y="1845"/>
                    <a:pt x="5092" y="0"/>
                  </a:cubicBezTo>
                  <a:cubicBezTo>
                    <a:pt x="2035" y="4448"/>
                    <a:pt x="0" y="12362"/>
                    <a:pt x="0" y="21387"/>
                  </a:cubicBezTo>
                  <a:cubicBezTo>
                    <a:pt x="0" y="21458"/>
                    <a:pt x="1" y="21528"/>
                    <a:pt x="1" y="21600"/>
                  </a:cubicBezTo>
                  <a:lnTo>
                    <a:pt x="21598" y="21600"/>
                  </a:lnTo>
                  <a:cubicBezTo>
                    <a:pt x="21598" y="21528"/>
                    <a:pt x="21600" y="21458"/>
                    <a:pt x="21600" y="21387"/>
                  </a:cubicBezTo>
                  <a:cubicBezTo>
                    <a:pt x="21600" y="12362"/>
                    <a:pt x="19565" y="4448"/>
                    <a:pt x="16508" y="0"/>
                  </a:cubicBezTo>
                  <a:close/>
                  <a:moveTo>
                    <a:pt x="16508" y="0"/>
                  </a:move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5" name="AutoShape 16"/>
            <p:cNvSpPr/>
            <p:nvPr/>
          </p:nvSpPr>
          <p:spPr>
            <a:xfrm>
              <a:off x="6681600" y="2273040"/>
              <a:ext cx="172440" cy="1296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10800"/>
                  </a:moveTo>
                  <a:cubicBezTo>
                    <a:pt x="21600" y="16765"/>
                    <a:pt x="16764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ubicBezTo>
                    <a:pt x="0" y="4835"/>
                    <a:pt x="4835" y="0"/>
                    <a:pt x="10800" y="0"/>
                  </a:cubicBezTo>
                  <a:cubicBezTo>
                    <a:pt x="16764" y="0"/>
                    <a:pt x="21600" y="4835"/>
                    <a:pt x="21600" y="10800"/>
                  </a:cubicBezTo>
                  <a:close/>
                  <a:moveTo>
                    <a:pt x="21600" y="10800"/>
                  </a:move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6" name="AutoShape 17"/>
            <p:cNvSpPr/>
            <p:nvPr/>
          </p:nvSpPr>
          <p:spPr>
            <a:xfrm>
              <a:off x="6623280" y="2397240"/>
              <a:ext cx="291600" cy="139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6508" y="0"/>
                  </a:moveTo>
                  <a:cubicBezTo>
                    <a:pt x="15311" y="1845"/>
                    <a:pt x="13754" y="3116"/>
                    <a:pt x="12017" y="3525"/>
                  </a:cubicBezTo>
                  <a:lnTo>
                    <a:pt x="11146" y="6372"/>
                  </a:lnTo>
                  <a:cubicBezTo>
                    <a:pt x="10956" y="6994"/>
                    <a:pt x="10644" y="6994"/>
                    <a:pt x="10454" y="6372"/>
                  </a:cubicBezTo>
                  <a:lnTo>
                    <a:pt x="9583" y="3525"/>
                  </a:lnTo>
                  <a:cubicBezTo>
                    <a:pt x="7846" y="3117"/>
                    <a:pt x="6289" y="1845"/>
                    <a:pt x="5092" y="0"/>
                  </a:cubicBezTo>
                  <a:cubicBezTo>
                    <a:pt x="2035" y="4448"/>
                    <a:pt x="0" y="12362"/>
                    <a:pt x="0" y="21387"/>
                  </a:cubicBezTo>
                  <a:cubicBezTo>
                    <a:pt x="0" y="21458"/>
                    <a:pt x="1" y="21528"/>
                    <a:pt x="1" y="21600"/>
                  </a:cubicBezTo>
                  <a:lnTo>
                    <a:pt x="21598" y="21600"/>
                  </a:lnTo>
                  <a:cubicBezTo>
                    <a:pt x="21598" y="21528"/>
                    <a:pt x="21600" y="21458"/>
                    <a:pt x="21600" y="21387"/>
                  </a:cubicBezTo>
                  <a:cubicBezTo>
                    <a:pt x="21600" y="12362"/>
                    <a:pt x="19565" y="4448"/>
                    <a:pt x="16508" y="0"/>
                  </a:cubicBezTo>
                  <a:close/>
                  <a:moveTo>
                    <a:pt x="16508" y="0"/>
                  </a:move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7" name="AutoShape 18"/>
            <p:cNvSpPr/>
            <p:nvPr/>
          </p:nvSpPr>
          <p:spPr>
            <a:xfrm>
              <a:off x="6455520" y="2291040"/>
              <a:ext cx="172440" cy="1299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10800"/>
                  </a:moveTo>
                  <a:cubicBezTo>
                    <a:pt x="21600" y="16765"/>
                    <a:pt x="16764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ubicBezTo>
                    <a:pt x="0" y="4835"/>
                    <a:pt x="4835" y="0"/>
                    <a:pt x="10800" y="0"/>
                  </a:cubicBezTo>
                  <a:cubicBezTo>
                    <a:pt x="16764" y="0"/>
                    <a:pt x="21600" y="4835"/>
                    <a:pt x="21600" y="10800"/>
                  </a:cubicBezTo>
                  <a:close/>
                  <a:moveTo>
                    <a:pt x="21600" y="10800"/>
                  </a:move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8" name="AutoShape 19"/>
            <p:cNvSpPr/>
            <p:nvPr/>
          </p:nvSpPr>
          <p:spPr>
            <a:xfrm>
              <a:off x="6396480" y="2415960"/>
              <a:ext cx="291600" cy="1393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6508" y="0"/>
                  </a:moveTo>
                  <a:cubicBezTo>
                    <a:pt x="15311" y="1845"/>
                    <a:pt x="13754" y="3116"/>
                    <a:pt x="12017" y="3525"/>
                  </a:cubicBezTo>
                  <a:lnTo>
                    <a:pt x="11146" y="6372"/>
                  </a:lnTo>
                  <a:cubicBezTo>
                    <a:pt x="10956" y="6994"/>
                    <a:pt x="10644" y="6994"/>
                    <a:pt x="10454" y="6372"/>
                  </a:cubicBezTo>
                  <a:lnTo>
                    <a:pt x="9583" y="3525"/>
                  </a:lnTo>
                  <a:cubicBezTo>
                    <a:pt x="7846" y="3117"/>
                    <a:pt x="6289" y="1845"/>
                    <a:pt x="5092" y="0"/>
                  </a:cubicBezTo>
                  <a:cubicBezTo>
                    <a:pt x="2035" y="4448"/>
                    <a:pt x="0" y="12362"/>
                    <a:pt x="0" y="21387"/>
                  </a:cubicBezTo>
                  <a:cubicBezTo>
                    <a:pt x="0" y="21458"/>
                    <a:pt x="1" y="21528"/>
                    <a:pt x="1" y="21600"/>
                  </a:cubicBezTo>
                  <a:lnTo>
                    <a:pt x="21598" y="21600"/>
                  </a:lnTo>
                  <a:cubicBezTo>
                    <a:pt x="21598" y="21528"/>
                    <a:pt x="21600" y="21458"/>
                    <a:pt x="21600" y="21387"/>
                  </a:cubicBezTo>
                  <a:cubicBezTo>
                    <a:pt x="21600" y="12362"/>
                    <a:pt x="19565" y="4448"/>
                    <a:pt x="16508" y="0"/>
                  </a:cubicBezTo>
                  <a:close/>
                  <a:moveTo>
                    <a:pt x="16508" y="0"/>
                  </a:move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9" name="AutoShape 20"/>
            <p:cNvSpPr/>
            <p:nvPr/>
          </p:nvSpPr>
          <p:spPr>
            <a:xfrm>
              <a:off x="6992280" y="2270520"/>
              <a:ext cx="172440" cy="1296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10800"/>
                  </a:moveTo>
                  <a:cubicBezTo>
                    <a:pt x="21600" y="16765"/>
                    <a:pt x="16764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ubicBezTo>
                    <a:pt x="0" y="4835"/>
                    <a:pt x="4835" y="0"/>
                    <a:pt x="10800" y="0"/>
                  </a:cubicBezTo>
                  <a:cubicBezTo>
                    <a:pt x="16764" y="0"/>
                    <a:pt x="21600" y="4835"/>
                    <a:pt x="21600" y="10800"/>
                  </a:cubicBezTo>
                  <a:close/>
                  <a:moveTo>
                    <a:pt x="21600" y="10800"/>
                  </a:move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0" name="AutoShape 21"/>
            <p:cNvSpPr/>
            <p:nvPr/>
          </p:nvSpPr>
          <p:spPr>
            <a:xfrm>
              <a:off x="6933960" y="2395080"/>
              <a:ext cx="291240" cy="139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6508" y="0"/>
                  </a:moveTo>
                  <a:cubicBezTo>
                    <a:pt x="15311" y="1845"/>
                    <a:pt x="13754" y="3116"/>
                    <a:pt x="12017" y="3525"/>
                  </a:cubicBezTo>
                  <a:lnTo>
                    <a:pt x="11146" y="6372"/>
                  </a:lnTo>
                  <a:cubicBezTo>
                    <a:pt x="10956" y="6994"/>
                    <a:pt x="10644" y="6994"/>
                    <a:pt x="10454" y="6372"/>
                  </a:cubicBezTo>
                  <a:lnTo>
                    <a:pt x="9583" y="3525"/>
                  </a:lnTo>
                  <a:cubicBezTo>
                    <a:pt x="7846" y="3117"/>
                    <a:pt x="6289" y="1845"/>
                    <a:pt x="5092" y="0"/>
                  </a:cubicBezTo>
                  <a:cubicBezTo>
                    <a:pt x="2035" y="4448"/>
                    <a:pt x="0" y="12362"/>
                    <a:pt x="0" y="21387"/>
                  </a:cubicBezTo>
                  <a:cubicBezTo>
                    <a:pt x="0" y="21458"/>
                    <a:pt x="1" y="21528"/>
                    <a:pt x="1" y="21600"/>
                  </a:cubicBezTo>
                  <a:lnTo>
                    <a:pt x="21598" y="21600"/>
                  </a:lnTo>
                  <a:cubicBezTo>
                    <a:pt x="21598" y="21528"/>
                    <a:pt x="21600" y="21458"/>
                    <a:pt x="21600" y="21387"/>
                  </a:cubicBezTo>
                  <a:cubicBezTo>
                    <a:pt x="21600" y="12362"/>
                    <a:pt x="19565" y="4448"/>
                    <a:pt x="16508" y="0"/>
                  </a:cubicBezTo>
                  <a:close/>
                  <a:moveTo>
                    <a:pt x="16508" y="0"/>
                  </a:move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1" name="AutoShape 22"/>
            <p:cNvSpPr/>
            <p:nvPr/>
          </p:nvSpPr>
          <p:spPr>
            <a:xfrm>
              <a:off x="7439040" y="2273040"/>
              <a:ext cx="172440" cy="1296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10800"/>
                  </a:moveTo>
                  <a:cubicBezTo>
                    <a:pt x="21600" y="16765"/>
                    <a:pt x="16764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ubicBezTo>
                    <a:pt x="0" y="4835"/>
                    <a:pt x="4835" y="0"/>
                    <a:pt x="10800" y="0"/>
                  </a:cubicBezTo>
                  <a:cubicBezTo>
                    <a:pt x="16764" y="0"/>
                    <a:pt x="21600" y="4835"/>
                    <a:pt x="21600" y="10800"/>
                  </a:cubicBezTo>
                  <a:close/>
                  <a:moveTo>
                    <a:pt x="21600" y="10800"/>
                  </a:move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2" name="AutoShape 23"/>
            <p:cNvSpPr/>
            <p:nvPr/>
          </p:nvSpPr>
          <p:spPr>
            <a:xfrm>
              <a:off x="7380720" y="2397240"/>
              <a:ext cx="291600" cy="139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6508" y="0"/>
                  </a:moveTo>
                  <a:cubicBezTo>
                    <a:pt x="15311" y="1845"/>
                    <a:pt x="13754" y="3116"/>
                    <a:pt x="12017" y="3525"/>
                  </a:cubicBezTo>
                  <a:lnTo>
                    <a:pt x="11146" y="6372"/>
                  </a:lnTo>
                  <a:cubicBezTo>
                    <a:pt x="10956" y="6994"/>
                    <a:pt x="10644" y="6994"/>
                    <a:pt x="10454" y="6372"/>
                  </a:cubicBezTo>
                  <a:lnTo>
                    <a:pt x="9583" y="3525"/>
                  </a:lnTo>
                  <a:cubicBezTo>
                    <a:pt x="7846" y="3117"/>
                    <a:pt x="6289" y="1845"/>
                    <a:pt x="5092" y="0"/>
                  </a:cubicBezTo>
                  <a:cubicBezTo>
                    <a:pt x="2035" y="4448"/>
                    <a:pt x="0" y="12362"/>
                    <a:pt x="0" y="21387"/>
                  </a:cubicBezTo>
                  <a:cubicBezTo>
                    <a:pt x="0" y="21458"/>
                    <a:pt x="1" y="21528"/>
                    <a:pt x="1" y="21600"/>
                  </a:cubicBezTo>
                  <a:lnTo>
                    <a:pt x="21598" y="21600"/>
                  </a:lnTo>
                  <a:cubicBezTo>
                    <a:pt x="21598" y="21528"/>
                    <a:pt x="21600" y="21458"/>
                    <a:pt x="21600" y="21387"/>
                  </a:cubicBezTo>
                  <a:cubicBezTo>
                    <a:pt x="21600" y="12362"/>
                    <a:pt x="19565" y="4448"/>
                    <a:pt x="16508" y="0"/>
                  </a:cubicBezTo>
                  <a:close/>
                  <a:moveTo>
                    <a:pt x="16508" y="0"/>
                  </a:move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3" name="AutoShape 24"/>
            <p:cNvSpPr/>
            <p:nvPr/>
          </p:nvSpPr>
          <p:spPr>
            <a:xfrm>
              <a:off x="7212600" y="2291040"/>
              <a:ext cx="172440" cy="1299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10800"/>
                  </a:moveTo>
                  <a:cubicBezTo>
                    <a:pt x="21600" y="16765"/>
                    <a:pt x="16764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ubicBezTo>
                    <a:pt x="0" y="4835"/>
                    <a:pt x="4835" y="0"/>
                    <a:pt x="10800" y="0"/>
                  </a:cubicBezTo>
                  <a:cubicBezTo>
                    <a:pt x="16764" y="0"/>
                    <a:pt x="21600" y="4835"/>
                    <a:pt x="21600" y="10800"/>
                  </a:cubicBezTo>
                  <a:close/>
                  <a:moveTo>
                    <a:pt x="21600" y="10800"/>
                  </a:move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4" name="AutoShape 25"/>
            <p:cNvSpPr/>
            <p:nvPr/>
          </p:nvSpPr>
          <p:spPr>
            <a:xfrm>
              <a:off x="7153560" y="2415960"/>
              <a:ext cx="291600" cy="139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6508" y="0"/>
                  </a:moveTo>
                  <a:cubicBezTo>
                    <a:pt x="15311" y="1845"/>
                    <a:pt x="13754" y="3116"/>
                    <a:pt x="12017" y="3525"/>
                  </a:cubicBezTo>
                  <a:lnTo>
                    <a:pt x="11146" y="6372"/>
                  </a:lnTo>
                  <a:cubicBezTo>
                    <a:pt x="10956" y="6994"/>
                    <a:pt x="10644" y="6994"/>
                    <a:pt x="10454" y="6372"/>
                  </a:cubicBezTo>
                  <a:lnTo>
                    <a:pt x="9583" y="3525"/>
                  </a:lnTo>
                  <a:cubicBezTo>
                    <a:pt x="7846" y="3117"/>
                    <a:pt x="6289" y="1845"/>
                    <a:pt x="5092" y="0"/>
                  </a:cubicBezTo>
                  <a:cubicBezTo>
                    <a:pt x="2035" y="4448"/>
                    <a:pt x="0" y="12362"/>
                    <a:pt x="0" y="21387"/>
                  </a:cubicBezTo>
                  <a:cubicBezTo>
                    <a:pt x="0" y="21458"/>
                    <a:pt x="1" y="21528"/>
                    <a:pt x="1" y="21600"/>
                  </a:cubicBezTo>
                  <a:lnTo>
                    <a:pt x="21598" y="21600"/>
                  </a:lnTo>
                  <a:cubicBezTo>
                    <a:pt x="21598" y="21528"/>
                    <a:pt x="21600" y="21458"/>
                    <a:pt x="21600" y="21387"/>
                  </a:cubicBezTo>
                  <a:cubicBezTo>
                    <a:pt x="21600" y="12362"/>
                    <a:pt x="19565" y="4448"/>
                    <a:pt x="16508" y="0"/>
                  </a:cubicBezTo>
                  <a:close/>
                  <a:moveTo>
                    <a:pt x="16508" y="0"/>
                  </a:move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5" name="AutoShape 26"/>
            <p:cNvSpPr/>
            <p:nvPr/>
          </p:nvSpPr>
          <p:spPr>
            <a:xfrm>
              <a:off x="6616080" y="1932120"/>
              <a:ext cx="172440" cy="1296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10800"/>
                  </a:moveTo>
                  <a:cubicBezTo>
                    <a:pt x="21600" y="16765"/>
                    <a:pt x="16764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ubicBezTo>
                    <a:pt x="0" y="4835"/>
                    <a:pt x="4835" y="0"/>
                    <a:pt x="10800" y="0"/>
                  </a:cubicBezTo>
                  <a:cubicBezTo>
                    <a:pt x="16764" y="0"/>
                    <a:pt x="21600" y="4835"/>
                    <a:pt x="21600" y="10800"/>
                  </a:cubicBezTo>
                  <a:close/>
                  <a:moveTo>
                    <a:pt x="21600" y="10800"/>
                  </a:move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6" name="AutoShape 27"/>
            <p:cNvSpPr/>
            <p:nvPr/>
          </p:nvSpPr>
          <p:spPr>
            <a:xfrm>
              <a:off x="6557760" y="2056320"/>
              <a:ext cx="291240" cy="139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6508" y="0"/>
                  </a:moveTo>
                  <a:cubicBezTo>
                    <a:pt x="15311" y="1845"/>
                    <a:pt x="13754" y="3116"/>
                    <a:pt x="12017" y="3525"/>
                  </a:cubicBezTo>
                  <a:lnTo>
                    <a:pt x="11146" y="6372"/>
                  </a:lnTo>
                  <a:cubicBezTo>
                    <a:pt x="10956" y="6994"/>
                    <a:pt x="10644" y="6994"/>
                    <a:pt x="10454" y="6372"/>
                  </a:cubicBezTo>
                  <a:lnTo>
                    <a:pt x="9583" y="3525"/>
                  </a:lnTo>
                  <a:cubicBezTo>
                    <a:pt x="7846" y="3117"/>
                    <a:pt x="6289" y="1845"/>
                    <a:pt x="5092" y="0"/>
                  </a:cubicBezTo>
                  <a:cubicBezTo>
                    <a:pt x="2035" y="4448"/>
                    <a:pt x="0" y="12362"/>
                    <a:pt x="0" y="21387"/>
                  </a:cubicBezTo>
                  <a:cubicBezTo>
                    <a:pt x="0" y="21458"/>
                    <a:pt x="1" y="21528"/>
                    <a:pt x="1" y="21600"/>
                  </a:cubicBezTo>
                  <a:lnTo>
                    <a:pt x="21598" y="21600"/>
                  </a:lnTo>
                  <a:cubicBezTo>
                    <a:pt x="21598" y="21528"/>
                    <a:pt x="21600" y="21458"/>
                    <a:pt x="21600" y="21387"/>
                  </a:cubicBezTo>
                  <a:cubicBezTo>
                    <a:pt x="21600" y="12362"/>
                    <a:pt x="19565" y="4448"/>
                    <a:pt x="16508" y="0"/>
                  </a:cubicBezTo>
                  <a:close/>
                  <a:moveTo>
                    <a:pt x="16508" y="0"/>
                  </a:move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7" name="AutoShape 28"/>
            <p:cNvSpPr/>
            <p:nvPr/>
          </p:nvSpPr>
          <p:spPr>
            <a:xfrm>
              <a:off x="7062840" y="1934280"/>
              <a:ext cx="172440" cy="1296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10800"/>
                  </a:moveTo>
                  <a:cubicBezTo>
                    <a:pt x="21600" y="16765"/>
                    <a:pt x="16764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ubicBezTo>
                    <a:pt x="0" y="4835"/>
                    <a:pt x="4835" y="0"/>
                    <a:pt x="10800" y="0"/>
                  </a:cubicBezTo>
                  <a:cubicBezTo>
                    <a:pt x="16764" y="0"/>
                    <a:pt x="21600" y="4835"/>
                    <a:pt x="21600" y="10800"/>
                  </a:cubicBezTo>
                  <a:close/>
                  <a:moveTo>
                    <a:pt x="21600" y="10800"/>
                  </a:move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8" name="AutoShape 29"/>
            <p:cNvSpPr/>
            <p:nvPr/>
          </p:nvSpPr>
          <p:spPr>
            <a:xfrm>
              <a:off x="7004520" y="2058480"/>
              <a:ext cx="291600" cy="139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6508" y="0"/>
                  </a:moveTo>
                  <a:cubicBezTo>
                    <a:pt x="15311" y="1845"/>
                    <a:pt x="13754" y="3116"/>
                    <a:pt x="12017" y="3525"/>
                  </a:cubicBezTo>
                  <a:lnTo>
                    <a:pt x="11146" y="6372"/>
                  </a:lnTo>
                  <a:cubicBezTo>
                    <a:pt x="10956" y="6994"/>
                    <a:pt x="10644" y="6994"/>
                    <a:pt x="10454" y="6372"/>
                  </a:cubicBezTo>
                  <a:lnTo>
                    <a:pt x="9583" y="3525"/>
                  </a:lnTo>
                  <a:cubicBezTo>
                    <a:pt x="7846" y="3117"/>
                    <a:pt x="6289" y="1845"/>
                    <a:pt x="5092" y="0"/>
                  </a:cubicBezTo>
                  <a:cubicBezTo>
                    <a:pt x="2035" y="4448"/>
                    <a:pt x="0" y="12362"/>
                    <a:pt x="0" y="21387"/>
                  </a:cubicBezTo>
                  <a:cubicBezTo>
                    <a:pt x="0" y="21458"/>
                    <a:pt x="1" y="21528"/>
                    <a:pt x="1" y="21600"/>
                  </a:cubicBezTo>
                  <a:lnTo>
                    <a:pt x="21598" y="21600"/>
                  </a:lnTo>
                  <a:cubicBezTo>
                    <a:pt x="21598" y="21528"/>
                    <a:pt x="21600" y="21458"/>
                    <a:pt x="21600" y="21387"/>
                  </a:cubicBezTo>
                  <a:cubicBezTo>
                    <a:pt x="21600" y="12362"/>
                    <a:pt x="19565" y="4448"/>
                    <a:pt x="16508" y="0"/>
                  </a:cubicBezTo>
                  <a:close/>
                  <a:moveTo>
                    <a:pt x="16508" y="0"/>
                  </a:move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9" name="AutoShape 30"/>
            <p:cNvSpPr/>
            <p:nvPr/>
          </p:nvSpPr>
          <p:spPr>
            <a:xfrm>
              <a:off x="6836400" y="1952640"/>
              <a:ext cx="172440" cy="1299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10800"/>
                  </a:moveTo>
                  <a:cubicBezTo>
                    <a:pt x="21600" y="16765"/>
                    <a:pt x="16764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ubicBezTo>
                    <a:pt x="0" y="4835"/>
                    <a:pt x="4835" y="0"/>
                    <a:pt x="10800" y="0"/>
                  </a:cubicBezTo>
                  <a:cubicBezTo>
                    <a:pt x="16764" y="0"/>
                    <a:pt x="21600" y="4835"/>
                    <a:pt x="21600" y="10800"/>
                  </a:cubicBezTo>
                  <a:close/>
                  <a:moveTo>
                    <a:pt x="21600" y="10800"/>
                  </a:move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0" name="AutoShape 31"/>
            <p:cNvSpPr/>
            <p:nvPr/>
          </p:nvSpPr>
          <p:spPr>
            <a:xfrm>
              <a:off x="6777360" y="2077200"/>
              <a:ext cx="291600" cy="1393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6508" y="0"/>
                  </a:moveTo>
                  <a:cubicBezTo>
                    <a:pt x="15311" y="1845"/>
                    <a:pt x="13754" y="3116"/>
                    <a:pt x="12017" y="3525"/>
                  </a:cubicBezTo>
                  <a:lnTo>
                    <a:pt x="11146" y="6372"/>
                  </a:lnTo>
                  <a:cubicBezTo>
                    <a:pt x="10956" y="6994"/>
                    <a:pt x="10644" y="6994"/>
                    <a:pt x="10454" y="6372"/>
                  </a:cubicBezTo>
                  <a:lnTo>
                    <a:pt x="9583" y="3525"/>
                  </a:lnTo>
                  <a:cubicBezTo>
                    <a:pt x="7846" y="3117"/>
                    <a:pt x="6289" y="1845"/>
                    <a:pt x="5092" y="0"/>
                  </a:cubicBezTo>
                  <a:cubicBezTo>
                    <a:pt x="2035" y="4448"/>
                    <a:pt x="0" y="12362"/>
                    <a:pt x="0" y="21387"/>
                  </a:cubicBezTo>
                  <a:cubicBezTo>
                    <a:pt x="0" y="21458"/>
                    <a:pt x="1" y="21528"/>
                    <a:pt x="1" y="21600"/>
                  </a:cubicBezTo>
                  <a:lnTo>
                    <a:pt x="21598" y="21600"/>
                  </a:lnTo>
                  <a:cubicBezTo>
                    <a:pt x="21598" y="21528"/>
                    <a:pt x="21600" y="21458"/>
                    <a:pt x="21600" y="21387"/>
                  </a:cubicBezTo>
                  <a:cubicBezTo>
                    <a:pt x="21600" y="12362"/>
                    <a:pt x="19565" y="4448"/>
                    <a:pt x="16508" y="0"/>
                  </a:cubicBezTo>
                  <a:close/>
                  <a:moveTo>
                    <a:pt x="16508" y="0"/>
                  </a:move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91" name="Line 38"/>
          <p:cNvSpPr/>
          <p:nvPr/>
        </p:nvSpPr>
        <p:spPr>
          <a:xfrm>
            <a:off x="5962680" y="2720880"/>
            <a:ext cx="1914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TextBox 13"/>
          <p:cNvSpPr/>
          <p:nvPr/>
        </p:nvSpPr>
        <p:spPr>
          <a:xfrm>
            <a:off x="1336680" y="2973240"/>
            <a:ext cx="1752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TextBox 13"/>
          <p:cNvSpPr/>
          <p:nvPr/>
        </p:nvSpPr>
        <p:spPr>
          <a:xfrm>
            <a:off x="1338120" y="3137040"/>
            <a:ext cx="1751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TextBox 13"/>
          <p:cNvSpPr/>
          <p:nvPr/>
        </p:nvSpPr>
        <p:spPr>
          <a:xfrm>
            <a:off x="3681360" y="2973240"/>
            <a:ext cx="1754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TextBox 13"/>
          <p:cNvSpPr/>
          <p:nvPr/>
        </p:nvSpPr>
        <p:spPr>
          <a:xfrm>
            <a:off x="3684600" y="3137040"/>
            <a:ext cx="1751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TextBox 13"/>
          <p:cNvSpPr/>
          <p:nvPr/>
        </p:nvSpPr>
        <p:spPr>
          <a:xfrm>
            <a:off x="6037200" y="2973240"/>
            <a:ext cx="1752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TextBox 13"/>
          <p:cNvSpPr/>
          <p:nvPr/>
        </p:nvSpPr>
        <p:spPr>
          <a:xfrm>
            <a:off x="6040440" y="3137040"/>
            <a:ext cx="1749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8" name="图片 7" descr=""/>
          <p:cNvPicPr/>
          <p:nvPr/>
        </p:nvPicPr>
        <p:blipFill>
          <a:blip r:embed="rId1"/>
          <a:stretch/>
        </p:blipFill>
        <p:spPr>
          <a:xfrm>
            <a:off x="-1440" y="1763640"/>
            <a:ext cx="5675040" cy="1940040"/>
          </a:xfrm>
          <a:prstGeom prst="rect">
            <a:avLst/>
          </a:prstGeom>
          <a:ln w="0">
            <a:noFill/>
          </a:ln>
        </p:spPr>
      </p:pic>
      <p:pic>
        <p:nvPicPr>
          <p:cNvPr id="799" name="图片 19" descr=""/>
          <p:cNvPicPr/>
          <p:nvPr/>
        </p:nvPicPr>
        <p:blipFill>
          <a:blip r:embed="rId2"/>
          <a:stretch/>
        </p:blipFill>
        <p:spPr>
          <a:xfrm>
            <a:off x="0" y="141120"/>
            <a:ext cx="9144000" cy="233640"/>
          </a:xfrm>
          <a:prstGeom prst="rect">
            <a:avLst/>
          </a:prstGeom>
          <a:ln w="0">
            <a:noFill/>
          </a:ln>
        </p:spPr>
      </p:pic>
      <p:sp>
        <p:nvSpPr>
          <p:cNvPr id="800" name="文本框 20"/>
          <p:cNvSpPr/>
          <p:nvPr/>
        </p:nvSpPr>
        <p:spPr>
          <a:xfrm>
            <a:off x="3216240" y="108000"/>
            <a:ext cx="2711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ADD YOUR TITLE H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矩形 4"/>
          <p:cNvSpPr/>
          <p:nvPr/>
        </p:nvSpPr>
        <p:spPr>
          <a:xfrm>
            <a:off x="6031080" y="1770120"/>
            <a:ext cx="3112920" cy="1936800"/>
          </a:xfrm>
          <a:prstGeom prst="rect">
            <a:avLst/>
          </a:pr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矩形 5"/>
          <p:cNvSpPr/>
          <p:nvPr/>
        </p:nvSpPr>
        <p:spPr>
          <a:xfrm>
            <a:off x="6216480" y="2322360"/>
            <a:ext cx="2264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249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3" name="图片 19" descr=""/>
          <p:cNvPicPr/>
          <p:nvPr/>
        </p:nvPicPr>
        <p:blipFill>
          <a:blip r:embed="rId1"/>
          <a:stretch/>
        </p:blipFill>
        <p:spPr>
          <a:xfrm>
            <a:off x="0" y="141120"/>
            <a:ext cx="9144000" cy="233640"/>
          </a:xfrm>
          <a:prstGeom prst="rect">
            <a:avLst/>
          </a:prstGeom>
          <a:ln w="0">
            <a:noFill/>
          </a:ln>
        </p:spPr>
      </p:pic>
      <p:sp>
        <p:nvSpPr>
          <p:cNvPr id="804" name="文本框 20"/>
          <p:cNvSpPr/>
          <p:nvPr/>
        </p:nvSpPr>
        <p:spPr>
          <a:xfrm>
            <a:off x="3216240" y="108000"/>
            <a:ext cx="2711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ADD YOUR TITLE H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Rectangle 1"/>
          <p:cNvSpPr/>
          <p:nvPr/>
        </p:nvSpPr>
        <p:spPr>
          <a:xfrm>
            <a:off x="782640" y="2054160"/>
            <a:ext cx="7675560" cy="1901880"/>
          </a:xfrm>
          <a:prstGeom prst="rect">
            <a:avLst/>
          </a:prstGeom>
          <a:solidFill>
            <a:srgbClr val="e6e9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6" name="Rectangle 3"/>
          <p:cNvSpPr/>
          <p:nvPr/>
        </p:nvSpPr>
        <p:spPr>
          <a:xfrm>
            <a:off x="1428840" y="1662120"/>
            <a:ext cx="1339920" cy="1004760"/>
          </a:xfrm>
          <a:prstGeom prst="rect">
            <a:avLst/>
          </a:pr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Rectangle 5"/>
          <p:cNvSpPr/>
          <p:nvPr/>
        </p:nvSpPr>
        <p:spPr>
          <a:xfrm>
            <a:off x="3100320" y="1662120"/>
            <a:ext cx="1339920" cy="1004760"/>
          </a:xfrm>
          <a:prstGeom prst="rect">
            <a:avLst/>
          </a:pr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Rectangle 6"/>
          <p:cNvSpPr/>
          <p:nvPr/>
        </p:nvSpPr>
        <p:spPr>
          <a:xfrm>
            <a:off x="4759200" y="1663560"/>
            <a:ext cx="1338480" cy="1005120"/>
          </a:xfrm>
          <a:prstGeom prst="rect">
            <a:avLst/>
          </a:pr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Rectangle 7"/>
          <p:cNvSpPr/>
          <p:nvPr/>
        </p:nvSpPr>
        <p:spPr>
          <a:xfrm>
            <a:off x="6467400" y="1663560"/>
            <a:ext cx="1316160" cy="1005120"/>
          </a:xfrm>
          <a:prstGeom prst="rect">
            <a:avLst/>
          </a:pr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Freeform 132"/>
          <p:cNvSpPr/>
          <p:nvPr/>
        </p:nvSpPr>
        <p:spPr>
          <a:xfrm>
            <a:off x="3649680" y="2013120"/>
            <a:ext cx="239760" cy="250560"/>
          </a:xfrm>
          <a:custGeom>
            <a:avLst/>
            <a:gdLst/>
            <a:ahLst/>
            <a:rect l="l" t="t" r="r" b="b"/>
            <a:pathLst>
              <a:path w="208" h="288">
                <a:moveTo>
                  <a:pt x="60" y="0"/>
                </a:moveTo>
                <a:cubicBezTo>
                  <a:pt x="60" y="0"/>
                  <a:pt x="60" y="0"/>
                  <a:pt x="60" y="0"/>
                </a:cubicBezTo>
                <a:cubicBezTo>
                  <a:pt x="60" y="42"/>
                  <a:pt x="60" y="42"/>
                  <a:pt x="60" y="42"/>
                </a:cubicBezTo>
                <a:cubicBezTo>
                  <a:pt x="60" y="61"/>
                  <a:pt x="60" y="61"/>
                  <a:pt x="60" y="61"/>
                </a:cubicBezTo>
                <a:cubicBezTo>
                  <a:pt x="41" y="61"/>
                  <a:pt x="41" y="61"/>
                  <a:pt x="41" y="61"/>
                </a:cubicBezTo>
                <a:cubicBezTo>
                  <a:pt x="0" y="61"/>
                  <a:pt x="0" y="61"/>
                  <a:pt x="0" y="61"/>
                </a:cubicBezTo>
                <a:cubicBezTo>
                  <a:pt x="0" y="288"/>
                  <a:pt x="0" y="288"/>
                  <a:pt x="0" y="288"/>
                </a:cubicBezTo>
                <a:cubicBezTo>
                  <a:pt x="208" y="288"/>
                  <a:pt x="208" y="288"/>
                  <a:pt x="208" y="288"/>
                </a:cubicBezTo>
                <a:cubicBezTo>
                  <a:pt x="208" y="0"/>
                  <a:pt x="208" y="0"/>
                  <a:pt x="208" y="0"/>
                </a:cubicBezTo>
                <a:lnTo>
                  <a:pt x="60" y="0"/>
                </a:lnTo>
                <a:close/>
                <a:moveTo>
                  <a:pt x="163" y="167"/>
                </a:moveTo>
                <a:cubicBezTo>
                  <a:pt x="134" y="167"/>
                  <a:pt x="134" y="167"/>
                  <a:pt x="134" y="167"/>
                </a:cubicBezTo>
                <a:cubicBezTo>
                  <a:pt x="131" y="167"/>
                  <a:pt x="126" y="167"/>
                  <a:pt x="122" y="167"/>
                </a:cubicBezTo>
                <a:cubicBezTo>
                  <a:pt x="122" y="230"/>
                  <a:pt x="122" y="230"/>
                  <a:pt x="122" y="230"/>
                </a:cubicBezTo>
                <a:cubicBezTo>
                  <a:pt x="122" y="236"/>
                  <a:pt x="117" y="241"/>
                  <a:pt x="111" y="241"/>
                </a:cubicBezTo>
                <a:cubicBezTo>
                  <a:pt x="97" y="241"/>
                  <a:pt x="97" y="241"/>
                  <a:pt x="97" y="241"/>
                </a:cubicBezTo>
                <a:cubicBezTo>
                  <a:pt x="91" y="241"/>
                  <a:pt x="86" y="236"/>
                  <a:pt x="86" y="230"/>
                </a:cubicBezTo>
                <a:cubicBezTo>
                  <a:pt x="86" y="167"/>
                  <a:pt x="86" y="167"/>
                  <a:pt x="86" y="167"/>
                </a:cubicBezTo>
                <a:cubicBezTo>
                  <a:pt x="81" y="167"/>
                  <a:pt x="77" y="167"/>
                  <a:pt x="74" y="167"/>
                </a:cubicBezTo>
                <a:cubicBezTo>
                  <a:pt x="45" y="167"/>
                  <a:pt x="45" y="167"/>
                  <a:pt x="45" y="167"/>
                </a:cubicBezTo>
                <a:cubicBezTo>
                  <a:pt x="38" y="167"/>
                  <a:pt x="36" y="163"/>
                  <a:pt x="40" y="158"/>
                </a:cubicBezTo>
                <a:cubicBezTo>
                  <a:pt x="97" y="91"/>
                  <a:pt x="97" y="91"/>
                  <a:pt x="97" y="91"/>
                </a:cubicBezTo>
                <a:cubicBezTo>
                  <a:pt x="101" y="86"/>
                  <a:pt x="107" y="86"/>
                  <a:pt x="111" y="91"/>
                </a:cubicBezTo>
                <a:cubicBezTo>
                  <a:pt x="167" y="158"/>
                  <a:pt x="167" y="158"/>
                  <a:pt x="167" y="158"/>
                </a:cubicBezTo>
                <a:cubicBezTo>
                  <a:pt x="172" y="163"/>
                  <a:pt x="170" y="167"/>
                  <a:pt x="163" y="16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Freeform 220"/>
          <p:cNvSpPr/>
          <p:nvPr/>
        </p:nvSpPr>
        <p:spPr>
          <a:xfrm>
            <a:off x="1925640" y="2013120"/>
            <a:ext cx="420840" cy="236520"/>
          </a:xfrm>
          <a:custGeom>
            <a:avLst/>
            <a:gdLst/>
            <a:ahLst/>
            <a:rect l="l" t="t" r="r" b="b"/>
            <a:pathLst>
              <a:path w="174" h="130">
                <a:moveTo>
                  <a:pt x="159" y="117"/>
                </a:moveTo>
                <a:lnTo>
                  <a:pt x="159" y="0"/>
                </a:lnTo>
                <a:lnTo>
                  <a:pt x="124" y="0"/>
                </a:lnTo>
                <a:lnTo>
                  <a:pt x="124" y="117"/>
                </a:lnTo>
                <a:lnTo>
                  <a:pt x="104" y="117"/>
                </a:lnTo>
                <a:lnTo>
                  <a:pt x="104" y="72"/>
                </a:lnTo>
                <a:lnTo>
                  <a:pt x="69" y="72"/>
                </a:lnTo>
                <a:lnTo>
                  <a:pt x="69" y="117"/>
                </a:lnTo>
                <a:lnTo>
                  <a:pt x="50" y="117"/>
                </a:lnTo>
                <a:lnTo>
                  <a:pt x="50" y="32"/>
                </a:lnTo>
                <a:lnTo>
                  <a:pt x="15" y="32"/>
                </a:lnTo>
                <a:lnTo>
                  <a:pt x="15" y="117"/>
                </a:lnTo>
                <a:lnTo>
                  <a:pt x="0" y="117"/>
                </a:lnTo>
                <a:lnTo>
                  <a:pt x="0" y="130"/>
                </a:lnTo>
                <a:lnTo>
                  <a:pt x="174" y="130"/>
                </a:lnTo>
                <a:lnTo>
                  <a:pt x="174" y="117"/>
                </a:lnTo>
                <a:lnTo>
                  <a:pt x="159" y="11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2" name="组合 10" descr=""/>
          <p:cNvPicPr/>
          <p:nvPr/>
        </p:nvPicPr>
        <p:blipFill>
          <a:blip r:embed="rId2"/>
          <a:stretch/>
        </p:blipFill>
        <p:spPr>
          <a:xfrm>
            <a:off x="5254560" y="2008080"/>
            <a:ext cx="311040" cy="250920"/>
          </a:xfrm>
          <a:prstGeom prst="rect">
            <a:avLst/>
          </a:prstGeom>
          <a:ln w="0">
            <a:noFill/>
          </a:ln>
        </p:spPr>
      </p:pic>
      <p:sp>
        <p:nvSpPr>
          <p:cNvPr id="813" name="Freeform 289"/>
          <p:cNvSpPr/>
          <p:nvPr/>
        </p:nvSpPr>
        <p:spPr>
          <a:xfrm>
            <a:off x="6975360" y="2046240"/>
            <a:ext cx="328680" cy="249120"/>
          </a:xfrm>
          <a:custGeom>
            <a:avLst/>
            <a:gdLst/>
            <a:ahLst/>
            <a:rect l="l" t="t" r="r" b="b"/>
            <a:pathLst>
              <a:path w="284" h="288">
                <a:moveTo>
                  <a:pt x="211" y="18"/>
                </a:moveTo>
                <a:cubicBezTo>
                  <a:pt x="177" y="1"/>
                  <a:pt x="144" y="0"/>
                  <a:pt x="141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67"/>
                  <a:pt x="0" y="67"/>
                  <a:pt x="0" y="67"/>
                </a:cubicBezTo>
                <a:cubicBezTo>
                  <a:pt x="140" y="67"/>
                  <a:pt x="140" y="67"/>
                  <a:pt x="140" y="67"/>
                </a:cubicBezTo>
                <a:cubicBezTo>
                  <a:pt x="141" y="67"/>
                  <a:pt x="161" y="68"/>
                  <a:pt x="180" y="78"/>
                </a:cubicBezTo>
                <a:cubicBezTo>
                  <a:pt x="205" y="91"/>
                  <a:pt x="217" y="112"/>
                  <a:pt x="217" y="145"/>
                </a:cubicBezTo>
                <a:cubicBezTo>
                  <a:pt x="217" y="177"/>
                  <a:pt x="206" y="198"/>
                  <a:pt x="182" y="210"/>
                </a:cubicBezTo>
                <a:cubicBezTo>
                  <a:pt x="162" y="221"/>
                  <a:pt x="140" y="221"/>
                  <a:pt x="140" y="221"/>
                </a:cubicBezTo>
                <a:cubicBezTo>
                  <a:pt x="0" y="221"/>
                  <a:pt x="0" y="221"/>
                  <a:pt x="0" y="221"/>
                </a:cubicBezTo>
                <a:cubicBezTo>
                  <a:pt x="0" y="288"/>
                  <a:pt x="0" y="288"/>
                  <a:pt x="0" y="288"/>
                </a:cubicBezTo>
                <a:cubicBezTo>
                  <a:pt x="140" y="288"/>
                  <a:pt x="140" y="288"/>
                  <a:pt x="140" y="288"/>
                </a:cubicBezTo>
                <a:cubicBezTo>
                  <a:pt x="144" y="288"/>
                  <a:pt x="177" y="288"/>
                  <a:pt x="210" y="271"/>
                </a:cubicBezTo>
                <a:cubicBezTo>
                  <a:pt x="258" y="247"/>
                  <a:pt x="284" y="203"/>
                  <a:pt x="284" y="145"/>
                </a:cubicBezTo>
                <a:cubicBezTo>
                  <a:pt x="284" y="87"/>
                  <a:pt x="258" y="42"/>
                  <a:pt x="211" y="18"/>
                </a:cubicBezTo>
                <a:close/>
                <a:moveTo>
                  <a:pt x="52" y="50"/>
                </a:moveTo>
                <a:cubicBezTo>
                  <a:pt x="19" y="50"/>
                  <a:pt x="19" y="50"/>
                  <a:pt x="19" y="50"/>
                </a:cubicBezTo>
                <a:cubicBezTo>
                  <a:pt x="19" y="17"/>
                  <a:pt x="19" y="17"/>
                  <a:pt x="19" y="17"/>
                </a:cubicBezTo>
                <a:cubicBezTo>
                  <a:pt x="52" y="17"/>
                  <a:pt x="52" y="17"/>
                  <a:pt x="52" y="17"/>
                </a:cubicBezTo>
                <a:lnTo>
                  <a:pt x="52" y="50"/>
                </a:lnTo>
                <a:close/>
                <a:moveTo>
                  <a:pt x="52" y="272"/>
                </a:moveTo>
                <a:cubicBezTo>
                  <a:pt x="19" y="272"/>
                  <a:pt x="19" y="272"/>
                  <a:pt x="19" y="272"/>
                </a:cubicBezTo>
                <a:cubicBezTo>
                  <a:pt x="19" y="238"/>
                  <a:pt x="19" y="238"/>
                  <a:pt x="19" y="238"/>
                </a:cubicBezTo>
                <a:cubicBezTo>
                  <a:pt x="52" y="238"/>
                  <a:pt x="52" y="238"/>
                  <a:pt x="52" y="238"/>
                </a:cubicBezTo>
                <a:lnTo>
                  <a:pt x="52" y="2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TextBox 13"/>
          <p:cNvSpPr/>
          <p:nvPr/>
        </p:nvSpPr>
        <p:spPr>
          <a:xfrm>
            <a:off x="1440000" y="2857680"/>
            <a:ext cx="971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TextBox 13"/>
          <p:cNvSpPr/>
          <p:nvPr/>
        </p:nvSpPr>
        <p:spPr>
          <a:xfrm>
            <a:off x="1428840" y="3030480"/>
            <a:ext cx="1160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TextBox 13"/>
          <p:cNvSpPr/>
          <p:nvPr/>
        </p:nvSpPr>
        <p:spPr>
          <a:xfrm>
            <a:off x="3164040" y="2857680"/>
            <a:ext cx="971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TextBox 13"/>
          <p:cNvSpPr/>
          <p:nvPr/>
        </p:nvSpPr>
        <p:spPr>
          <a:xfrm>
            <a:off x="3152880" y="3030480"/>
            <a:ext cx="1160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TextBox 13"/>
          <p:cNvSpPr/>
          <p:nvPr/>
        </p:nvSpPr>
        <p:spPr>
          <a:xfrm>
            <a:off x="4772160" y="285768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TextBox 13"/>
          <p:cNvSpPr/>
          <p:nvPr/>
        </p:nvSpPr>
        <p:spPr>
          <a:xfrm>
            <a:off x="4761000" y="3030480"/>
            <a:ext cx="1158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TextBox 13"/>
          <p:cNvSpPr/>
          <p:nvPr/>
        </p:nvSpPr>
        <p:spPr>
          <a:xfrm>
            <a:off x="6453360" y="2857680"/>
            <a:ext cx="971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TextBox 13"/>
          <p:cNvSpPr/>
          <p:nvPr/>
        </p:nvSpPr>
        <p:spPr>
          <a:xfrm>
            <a:off x="6442200" y="3030480"/>
            <a:ext cx="1158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流程图: 手动输入 4"/>
          <p:cNvSpPr/>
          <p:nvPr/>
        </p:nvSpPr>
        <p:spPr>
          <a:xfrm rot="5400000">
            <a:off x="-862200" y="863280"/>
            <a:ext cx="5143680" cy="3416400"/>
          </a:xfrm>
          <a:prstGeom prst="flowChartManualInput">
            <a:avLst/>
          </a:prstGeom>
          <a:solidFill>
            <a:srgbClr val="41b9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9" name="图片 9" descr=""/>
          <p:cNvPicPr/>
          <p:nvPr/>
        </p:nvPicPr>
        <p:blipFill>
          <a:blip r:embed="rId1"/>
          <a:stretch/>
        </p:blipFill>
        <p:spPr>
          <a:xfrm>
            <a:off x="2708280" y="0"/>
            <a:ext cx="2938320" cy="5143680"/>
          </a:xfrm>
          <a:prstGeom prst="rect">
            <a:avLst/>
          </a:prstGeom>
          <a:ln w="0">
            <a:noFill/>
          </a:ln>
        </p:spPr>
      </p:pic>
      <p:sp>
        <p:nvSpPr>
          <p:cNvPr id="500" name="文本框 10"/>
          <p:cNvSpPr/>
          <p:nvPr/>
        </p:nvSpPr>
        <p:spPr>
          <a:xfrm>
            <a:off x="436680" y="1909800"/>
            <a:ext cx="2271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目录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文本框 11"/>
          <p:cNvSpPr/>
          <p:nvPr/>
        </p:nvSpPr>
        <p:spPr>
          <a:xfrm>
            <a:off x="324000" y="2544840"/>
            <a:ext cx="2384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Impact"/>
              </a:rPr>
              <a:t>CONTENT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文本框 12"/>
          <p:cNvSpPr/>
          <p:nvPr/>
        </p:nvSpPr>
        <p:spPr>
          <a:xfrm>
            <a:off x="6222960" y="1736640"/>
            <a:ext cx="27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f9b8c"/>
                </a:solidFill>
                <a:latin typeface="微软雅黑"/>
                <a:ea typeface="微软雅黑"/>
              </a:rPr>
              <a:t>点击此处添加目录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文本框 13"/>
          <p:cNvSpPr/>
          <p:nvPr/>
        </p:nvSpPr>
        <p:spPr>
          <a:xfrm>
            <a:off x="5719680" y="1690560"/>
            <a:ext cx="69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9b8c"/>
                </a:solidFill>
                <a:latin typeface="Impact"/>
                <a:ea typeface="微软雅黑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文本框 30"/>
          <p:cNvSpPr/>
          <p:nvPr/>
        </p:nvSpPr>
        <p:spPr>
          <a:xfrm>
            <a:off x="6222960" y="2336760"/>
            <a:ext cx="27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f9b8c"/>
                </a:solidFill>
                <a:latin typeface="微软雅黑"/>
                <a:ea typeface="微软雅黑"/>
              </a:rPr>
              <a:t>点击此处添加目录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文本框 31"/>
          <p:cNvSpPr/>
          <p:nvPr/>
        </p:nvSpPr>
        <p:spPr>
          <a:xfrm>
            <a:off x="5719680" y="2289240"/>
            <a:ext cx="69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9b8c"/>
                </a:solidFill>
                <a:latin typeface="Impact"/>
                <a:ea typeface="微软雅黑"/>
              </a:rPr>
              <a:t>0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文本框 32"/>
          <p:cNvSpPr/>
          <p:nvPr/>
        </p:nvSpPr>
        <p:spPr>
          <a:xfrm>
            <a:off x="6222960" y="2984400"/>
            <a:ext cx="27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f9b8c"/>
                </a:solidFill>
                <a:latin typeface="微软雅黑"/>
                <a:ea typeface="微软雅黑"/>
              </a:rPr>
              <a:t>点击此处添加目录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文本框 33"/>
          <p:cNvSpPr/>
          <p:nvPr/>
        </p:nvSpPr>
        <p:spPr>
          <a:xfrm>
            <a:off x="5719680" y="2938320"/>
            <a:ext cx="69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9b8c"/>
                </a:solidFill>
                <a:latin typeface="Impact"/>
                <a:ea typeface="微软雅黑"/>
              </a:rPr>
              <a:t>0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文本框 34"/>
          <p:cNvSpPr/>
          <p:nvPr/>
        </p:nvSpPr>
        <p:spPr>
          <a:xfrm>
            <a:off x="6222960" y="3584520"/>
            <a:ext cx="27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f9b8c"/>
                </a:solidFill>
                <a:latin typeface="微软雅黑"/>
                <a:ea typeface="微软雅黑"/>
              </a:rPr>
              <a:t>点击此处添加目录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文本框 35"/>
          <p:cNvSpPr/>
          <p:nvPr/>
        </p:nvSpPr>
        <p:spPr>
          <a:xfrm>
            <a:off x="5719680" y="3538440"/>
            <a:ext cx="69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9b8c"/>
                </a:solidFill>
                <a:latin typeface="Impact"/>
                <a:ea typeface="微软雅黑"/>
              </a:rPr>
              <a:t>0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2" name="图片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823" name="圆角矩形 6"/>
          <p:cNvSpPr/>
          <p:nvPr/>
        </p:nvSpPr>
        <p:spPr>
          <a:xfrm>
            <a:off x="2882880" y="1932120"/>
            <a:ext cx="3376800" cy="1280880"/>
          </a:xfrm>
          <a:prstGeom prst="roundRect">
            <a:avLst>
              <a:gd name="adj" fmla="val 16667"/>
            </a:avLst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直接连接符 8"/>
          <p:cNvSpPr/>
          <p:nvPr/>
        </p:nvSpPr>
        <p:spPr>
          <a:xfrm>
            <a:off x="363600" y="2571840"/>
            <a:ext cx="2519280" cy="0"/>
          </a:xfrm>
          <a:prstGeom prst="line">
            <a:avLst/>
          </a:prstGeom>
          <a:ln w="57240">
            <a:solidFill>
              <a:srgbClr val="ffffff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直接连接符 12"/>
          <p:cNvSpPr/>
          <p:nvPr/>
        </p:nvSpPr>
        <p:spPr>
          <a:xfrm>
            <a:off x="6259680" y="2571840"/>
            <a:ext cx="251928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文本框 15"/>
          <p:cNvSpPr/>
          <p:nvPr/>
        </p:nvSpPr>
        <p:spPr>
          <a:xfrm>
            <a:off x="3444840" y="3333600"/>
            <a:ext cx="228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TextBox 13"/>
          <p:cNvSpPr/>
          <p:nvPr/>
        </p:nvSpPr>
        <p:spPr>
          <a:xfrm>
            <a:off x="2657520" y="3670200"/>
            <a:ext cx="4027320" cy="6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您可以在此处添加关于本章节的简要介绍，模板所有素材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均可自由编辑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8" name="图片 9" descr=""/>
          <p:cNvPicPr/>
          <p:nvPr/>
        </p:nvPicPr>
        <p:blipFill>
          <a:blip r:embed="rId2"/>
          <a:stretch/>
        </p:blipFill>
        <p:spPr>
          <a:xfrm>
            <a:off x="3373560" y="2301840"/>
            <a:ext cx="2396880" cy="5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9" name="图片 19" descr=""/>
          <p:cNvPicPr/>
          <p:nvPr/>
        </p:nvPicPr>
        <p:blipFill>
          <a:blip r:embed="rId1"/>
          <a:stretch/>
        </p:blipFill>
        <p:spPr>
          <a:xfrm>
            <a:off x="0" y="141120"/>
            <a:ext cx="9144000" cy="233640"/>
          </a:xfrm>
          <a:prstGeom prst="rect">
            <a:avLst/>
          </a:prstGeom>
          <a:ln w="0">
            <a:noFill/>
          </a:ln>
        </p:spPr>
      </p:pic>
      <p:sp>
        <p:nvSpPr>
          <p:cNvPr id="830" name="文本框 20"/>
          <p:cNvSpPr/>
          <p:nvPr/>
        </p:nvSpPr>
        <p:spPr>
          <a:xfrm>
            <a:off x="3216240" y="108000"/>
            <a:ext cx="2711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ADD YOUR TITLE H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Straight Connector 5"/>
          <p:cNvSpPr/>
          <p:nvPr/>
        </p:nvSpPr>
        <p:spPr>
          <a:xfrm flipH="1">
            <a:off x="4560840" y="1689120"/>
            <a:ext cx="23760" cy="2825640"/>
          </a:xfrm>
          <a:prstGeom prst="line">
            <a:avLst/>
          </a:prstGeom>
          <a:ln w="6480">
            <a:solidFill>
              <a:srgbClr val="adbac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Freeform 5"/>
          <p:cNvSpPr/>
          <p:nvPr/>
        </p:nvSpPr>
        <p:spPr>
          <a:xfrm>
            <a:off x="2043000" y="3011400"/>
            <a:ext cx="2833920" cy="455760"/>
          </a:xfrm>
          <a:custGeom>
            <a:avLst/>
            <a:gdLst/>
            <a:ahLst/>
            <a:rect l="l" t="t" r="r" b="b"/>
            <a:pathLst>
              <a:path w="425" h="89">
                <a:moveTo>
                  <a:pt x="381" y="0"/>
                </a:moveTo>
                <a:cubicBezTo>
                  <a:pt x="358" y="0"/>
                  <a:pt x="340" y="17"/>
                  <a:pt x="337" y="39"/>
                </a:cubicBezTo>
                <a:cubicBezTo>
                  <a:pt x="337" y="39"/>
                  <a:pt x="337" y="39"/>
                  <a:pt x="337" y="39"/>
                </a:cubicBezTo>
                <a:cubicBezTo>
                  <a:pt x="276" y="44"/>
                  <a:pt x="95" y="45"/>
                  <a:pt x="23" y="40"/>
                </a:cubicBezTo>
                <a:cubicBezTo>
                  <a:pt x="21" y="35"/>
                  <a:pt x="17" y="32"/>
                  <a:pt x="12" y="32"/>
                </a:cubicBezTo>
                <a:cubicBezTo>
                  <a:pt x="5" y="32"/>
                  <a:pt x="0" y="38"/>
                  <a:pt x="0" y="45"/>
                </a:cubicBezTo>
                <a:cubicBezTo>
                  <a:pt x="0" y="51"/>
                  <a:pt x="5" y="57"/>
                  <a:pt x="12" y="57"/>
                </a:cubicBezTo>
                <a:cubicBezTo>
                  <a:pt x="17" y="57"/>
                  <a:pt x="21" y="54"/>
                  <a:pt x="23" y="49"/>
                </a:cubicBezTo>
                <a:cubicBezTo>
                  <a:pt x="104" y="45"/>
                  <a:pt x="267" y="45"/>
                  <a:pt x="337" y="50"/>
                </a:cubicBezTo>
                <a:cubicBezTo>
                  <a:pt x="337" y="50"/>
                  <a:pt x="337" y="50"/>
                  <a:pt x="337" y="50"/>
                </a:cubicBezTo>
                <a:cubicBezTo>
                  <a:pt x="340" y="72"/>
                  <a:pt x="358" y="89"/>
                  <a:pt x="381" y="89"/>
                </a:cubicBezTo>
                <a:cubicBezTo>
                  <a:pt x="406" y="89"/>
                  <a:pt x="425" y="69"/>
                  <a:pt x="425" y="45"/>
                </a:cubicBezTo>
                <a:cubicBezTo>
                  <a:pt x="425" y="20"/>
                  <a:pt x="406" y="0"/>
                  <a:pt x="381" y="0"/>
                </a:cubicBezTo>
                <a:close/>
              </a:path>
            </a:pathLst>
          </a:cu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Freeform 115"/>
          <p:cNvSpPr/>
          <p:nvPr/>
        </p:nvSpPr>
        <p:spPr>
          <a:xfrm>
            <a:off x="4471920" y="3117960"/>
            <a:ext cx="246240" cy="226800"/>
          </a:xfrm>
          <a:custGeom>
            <a:avLst/>
            <a:gdLst/>
            <a:ahLst/>
            <a:rect l="l" t="t" r="r" b="b"/>
            <a:pathLst>
              <a:path w="400" h="498">
                <a:moveTo>
                  <a:pt x="381" y="124"/>
                </a:moveTo>
                <a:lnTo>
                  <a:pt x="381" y="124"/>
                </a:lnTo>
                <a:cubicBezTo>
                  <a:pt x="372" y="44"/>
                  <a:pt x="301" y="0"/>
                  <a:pt x="231" y="9"/>
                </a:cubicBezTo>
                <a:cubicBezTo>
                  <a:pt x="159" y="27"/>
                  <a:pt x="106" y="80"/>
                  <a:pt x="115" y="151"/>
                </a:cubicBezTo>
                <a:cubicBezTo>
                  <a:pt x="115" y="168"/>
                  <a:pt x="124" y="195"/>
                  <a:pt x="133" y="213"/>
                </a:cubicBezTo>
                <a:cubicBezTo>
                  <a:pt x="9" y="407"/>
                  <a:pt x="9" y="407"/>
                  <a:pt x="9" y="407"/>
                </a:cubicBezTo>
                <a:cubicBezTo>
                  <a:pt x="0" y="407"/>
                  <a:pt x="0" y="425"/>
                  <a:pt x="0" y="434"/>
                </a:cubicBezTo>
                <a:cubicBezTo>
                  <a:pt x="9" y="478"/>
                  <a:pt x="9" y="478"/>
                  <a:pt x="9" y="478"/>
                </a:cubicBezTo>
                <a:cubicBezTo>
                  <a:pt x="9" y="487"/>
                  <a:pt x="18" y="497"/>
                  <a:pt x="27" y="497"/>
                </a:cubicBezTo>
                <a:cubicBezTo>
                  <a:pt x="62" y="487"/>
                  <a:pt x="62" y="487"/>
                  <a:pt x="62" y="487"/>
                </a:cubicBezTo>
                <a:cubicBezTo>
                  <a:pt x="71" y="487"/>
                  <a:pt x="80" y="478"/>
                  <a:pt x="89" y="470"/>
                </a:cubicBezTo>
                <a:cubicBezTo>
                  <a:pt x="142" y="390"/>
                  <a:pt x="142" y="390"/>
                  <a:pt x="142" y="390"/>
                </a:cubicBezTo>
                <a:cubicBezTo>
                  <a:pt x="177" y="381"/>
                  <a:pt x="177" y="381"/>
                  <a:pt x="177" y="381"/>
                </a:cubicBezTo>
                <a:cubicBezTo>
                  <a:pt x="231" y="284"/>
                  <a:pt x="231" y="284"/>
                  <a:pt x="231" y="284"/>
                </a:cubicBezTo>
                <a:cubicBezTo>
                  <a:pt x="248" y="293"/>
                  <a:pt x="284" y="284"/>
                  <a:pt x="293" y="284"/>
                </a:cubicBezTo>
                <a:cubicBezTo>
                  <a:pt x="363" y="275"/>
                  <a:pt x="399" y="195"/>
                  <a:pt x="381" y="124"/>
                </a:cubicBezTo>
                <a:close/>
                <a:moveTo>
                  <a:pt x="319" y="159"/>
                </a:moveTo>
                <a:lnTo>
                  <a:pt x="319" y="159"/>
                </a:lnTo>
                <a:cubicBezTo>
                  <a:pt x="301" y="187"/>
                  <a:pt x="284" y="168"/>
                  <a:pt x="256" y="142"/>
                </a:cubicBezTo>
                <a:cubicBezTo>
                  <a:pt x="231" y="124"/>
                  <a:pt x="203" y="115"/>
                  <a:pt x="221" y="80"/>
                </a:cubicBezTo>
                <a:cubicBezTo>
                  <a:pt x="240" y="53"/>
                  <a:pt x="284" y="44"/>
                  <a:pt x="310" y="71"/>
                </a:cubicBezTo>
                <a:cubicBezTo>
                  <a:pt x="337" y="89"/>
                  <a:pt x="346" y="133"/>
                  <a:pt x="319" y="15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Freeform 5"/>
          <p:cNvSpPr/>
          <p:nvPr/>
        </p:nvSpPr>
        <p:spPr>
          <a:xfrm>
            <a:off x="2043000" y="1650960"/>
            <a:ext cx="2833920" cy="457200"/>
          </a:xfrm>
          <a:custGeom>
            <a:avLst/>
            <a:gdLst/>
            <a:ahLst/>
            <a:rect l="l" t="t" r="r" b="b"/>
            <a:pathLst>
              <a:path w="425" h="89">
                <a:moveTo>
                  <a:pt x="381" y="0"/>
                </a:moveTo>
                <a:cubicBezTo>
                  <a:pt x="358" y="0"/>
                  <a:pt x="340" y="17"/>
                  <a:pt x="337" y="39"/>
                </a:cubicBezTo>
                <a:cubicBezTo>
                  <a:pt x="337" y="39"/>
                  <a:pt x="337" y="39"/>
                  <a:pt x="337" y="39"/>
                </a:cubicBezTo>
                <a:cubicBezTo>
                  <a:pt x="276" y="44"/>
                  <a:pt x="95" y="45"/>
                  <a:pt x="23" y="40"/>
                </a:cubicBezTo>
                <a:cubicBezTo>
                  <a:pt x="21" y="35"/>
                  <a:pt x="17" y="32"/>
                  <a:pt x="12" y="32"/>
                </a:cubicBezTo>
                <a:cubicBezTo>
                  <a:pt x="5" y="32"/>
                  <a:pt x="0" y="38"/>
                  <a:pt x="0" y="45"/>
                </a:cubicBezTo>
                <a:cubicBezTo>
                  <a:pt x="0" y="51"/>
                  <a:pt x="5" y="57"/>
                  <a:pt x="12" y="57"/>
                </a:cubicBezTo>
                <a:cubicBezTo>
                  <a:pt x="17" y="57"/>
                  <a:pt x="21" y="54"/>
                  <a:pt x="23" y="49"/>
                </a:cubicBezTo>
                <a:cubicBezTo>
                  <a:pt x="104" y="45"/>
                  <a:pt x="267" y="45"/>
                  <a:pt x="337" y="50"/>
                </a:cubicBezTo>
                <a:cubicBezTo>
                  <a:pt x="337" y="50"/>
                  <a:pt x="337" y="50"/>
                  <a:pt x="337" y="50"/>
                </a:cubicBezTo>
                <a:cubicBezTo>
                  <a:pt x="340" y="72"/>
                  <a:pt x="358" y="89"/>
                  <a:pt x="381" y="89"/>
                </a:cubicBezTo>
                <a:cubicBezTo>
                  <a:pt x="406" y="89"/>
                  <a:pt x="425" y="69"/>
                  <a:pt x="425" y="45"/>
                </a:cubicBezTo>
                <a:cubicBezTo>
                  <a:pt x="425" y="20"/>
                  <a:pt x="406" y="0"/>
                  <a:pt x="381" y="0"/>
                </a:cubicBezTo>
                <a:close/>
              </a:path>
            </a:pathLst>
          </a:cu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Freeform 97"/>
          <p:cNvSpPr/>
          <p:nvPr/>
        </p:nvSpPr>
        <p:spPr>
          <a:xfrm>
            <a:off x="4435560" y="1770120"/>
            <a:ext cx="276120" cy="176040"/>
          </a:xfrm>
          <a:custGeom>
            <a:avLst/>
            <a:gdLst/>
            <a:ahLst/>
            <a:rect l="l" t="t" r="r" b="b"/>
            <a:pathLst>
              <a:path w="497" h="426">
                <a:moveTo>
                  <a:pt x="230" y="231"/>
                </a:moveTo>
                <a:lnTo>
                  <a:pt x="230" y="231"/>
                </a:lnTo>
                <a:cubicBezTo>
                  <a:pt x="274" y="231"/>
                  <a:pt x="274" y="231"/>
                  <a:pt x="274" y="231"/>
                </a:cubicBezTo>
                <a:cubicBezTo>
                  <a:pt x="274" y="275"/>
                  <a:pt x="274" y="275"/>
                  <a:pt x="274" y="275"/>
                </a:cubicBezTo>
                <a:cubicBezTo>
                  <a:pt x="496" y="275"/>
                  <a:pt x="496" y="275"/>
                  <a:pt x="496" y="275"/>
                </a:cubicBezTo>
                <a:cubicBezTo>
                  <a:pt x="496" y="275"/>
                  <a:pt x="496" y="168"/>
                  <a:pt x="487" y="133"/>
                </a:cubicBezTo>
                <a:cubicBezTo>
                  <a:pt x="487" y="97"/>
                  <a:pt x="478" y="80"/>
                  <a:pt x="443" y="80"/>
                </a:cubicBezTo>
                <a:cubicBezTo>
                  <a:pt x="363" y="80"/>
                  <a:pt x="363" y="80"/>
                  <a:pt x="363" y="80"/>
                </a:cubicBezTo>
                <a:cubicBezTo>
                  <a:pt x="345" y="53"/>
                  <a:pt x="337" y="27"/>
                  <a:pt x="337" y="27"/>
                </a:cubicBezTo>
                <a:cubicBezTo>
                  <a:pt x="328" y="9"/>
                  <a:pt x="319" y="0"/>
                  <a:pt x="300" y="0"/>
                </a:cubicBezTo>
                <a:cubicBezTo>
                  <a:pt x="194" y="0"/>
                  <a:pt x="194" y="0"/>
                  <a:pt x="194" y="0"/>
                </a:cubicBezTo>
                <a:cubicBezTo>
                  <a:pt x="177" y="0"/>
                  <a:pt x="168" y="9"/>
                  <a:pt x="168" y="27"/>
                </a:cubicBezTo>
                <a:cubicBezTo>
                  <a:pt x="159" y="27"/>
                  <a:pt x="150" y="53"/>
                  <a:pt x="133" y="80"/>
                </a:cubicBezTo>
                <a:cubicBezTo>
                  <a:pt x="53" y="80"/>
                  <a:pt x="53" y="80"/>
                  <a:pt x="53" y="80"/>
                </a:cubicBezTo>
                <a:cubicBezTo>
                  <a:pt x="17" y="80"/>
                  <a:pt x="9" y="97"/>
                  <a:pt x="9" y="133"/>
                </a:cubicBezTo>
                <a:cubicBezTo>
                  <a:pt x="0" y="168"/>
                  <a:pt x="0" y="275"/>
                  <a:pt x="0" y="275"/>
                </a:cubicBezTo>
                <a:cubicBezTo>
                  <a:pt x="230" y="275"/>
                  <a:pt x="230" y="275"/>
                  <a:pt x="230" y="275"/>
                </a:cubicBezTo>
                <a:lnTo>
                  <a:pt x="230" y="231"/>
                </a:lnTo>
                <a:close/>
                <a:moveTo>
                  <a:pt x="186" y="53"/>
                </a:moveTo>
                <a:lnTo>
                  <a:pt x="186" y="53"/>
                </a:lnTo>
                <a:cubicBezTo>
                  <a:pt x="194" y="44"/>
                  <a:pt x="194" y="36"/>
                  <a:pt x="212" y="36"/>
                </a:cubicBezTo>
                <a:cubicBezTo>
                  <a:pt x="284" y="36"/>
                  <a:pt x="284" y="36"/>
                  <a:pt x="284" y="36"/>
                </a:cubicBezTo>
                <a:cubicBezTo>
                  <a:pt x="300" y="36"/>
                  <a:pt x="300" y="44"/>
                  <a:pt x="309" y="53"/>
                </a:cubicBezTo>
                <a:cubicBezTo>
                  <a:pt x="309" y="53"/>
                  <a:pt x="319" y="71"/>
                  <a:pt x="319" y="80"/>
                </a:cubicBezTo>
                <a:cubicBezTo>
                  <a:pt x="177" y="80"/>
                  <a:pt x="177" y="80"/>
                  <a:pt x="177" y="80"/>
                </a:cubicBezTo>
                <a:cubicBezTo>
                  <a:pt x="186" y="71"/>
                  <a:pt x="186" y="53"/>
                  <a:pt x="186" y="53"/>
                </a:cubicBezTo>
                <a:close/>
                <a:moveTo>
                  <a:pt x="274" y="355"/>
                </a:moveTo>
                <a:lnTo>
                  <a:pt x="274" y="355"/>
                </a:lnTo>
                <a:cubicBezTo>
                  <a:pt x="230" y="355"/>
                  <a:pt x="230" y="355"/>
                  <a:pt x="230" y="355"/>
                </a:cubicBezTo>
                <a:cubicBezTo>
                  <a:pt x="230" y="302"/>
                  <a:pt x="230" y="302"/>
                  <a:pt x="230" y="302"/>
                </a:cubicBezTo>
                <a:cubicBezTo>
                  <a:pt x="9" y="302"/>
                  <a:pt x="9" y="302"/>
                  <a:pt x="9" y="302"/>
                </a:cubicBezTo>
                <a:cubicBezTo>
                  <a:pt x="9" y="302"/>
                  <a:pt x="17" y="346"/>
                  <a:pt x="17" y="381"/>
                </a:cubicBezTo>
                <a:cubicBezTo>
                  <a:pt x="17" y="399"/>
                  <a:pt x="26" y="425"/>
                  <a:pt x="62" y="425"/>
                </a:cubicBezTo>
                <a:cubicBezTo>
                  <a:pt x="434" y="425"/>
                  <a:pt x="434" y="425"/>
                  <a:pt x="434" y="425"/>
                </a:cubicBezTo>
                <a:cubicBezTo>
                  <a:pt x="469" y="425"/>
                  <a:pt x="478" y="399"/>
                  <a:pt x="478" y="381"/>
                </a:cubicBezTo>
                <a:cubicBezTo>
                  <a:pt x="478" y="346"/>
                  <a:pt x="487" y="302"/>
                  <a:pt x="487" y="302"/>
                </a:cubicBezTo>
                <a:cubicBezTo>
                  <a:pt x="274" y="302"/>
                  <a:pt x="274" y="302"/>
                  <a:pt x="274" y="302"/>
                </a:cubicBezTo>
                <a:lnTo>
                  <a:pt x="274" y="35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Freeform 5"/>
          <p:cNvSpPr/>
          <p:nvPr/>
        </p:nvSpPr>
        <p:spPr>
          <a:xfrm rot="10800000">
            <a:off x="4267080" y="3690720"/>
            <a:ext cx="2835360" cy="455400"/>
          </a:xfrm>
          <a:custGeom>
            <a:avLst/>
            <a:gdLst/>
            <a:ahLst/>
            <a:rect l="l" t="t" r="r" b="b"/>
            <a:pathLst>
              <a:path w="425" h="89">
                <a:moveTo>
                  <a:pt x="381" y="0"/>
                </a:moveTo>
                <a:cubicBezTo>
                  <a:pt x="358" y="0"/>
                  <a:pt x="340" y="17"/>
                  <a:pt x="337" y="39"/>
                </a:cubicBezTo>
                <a:cubicBezTo>
                  <a:pt x="337" y="39"/>
                  <a:pt x="337" y="39"/>
                  <a:pt x="337" y="39"/>
                </a:cubicBezTo>
                <a:cubicBezTo>
                  <a:pt x="276" y="44"/>
                  <a:pt x="95" y="45"/>
                  <a:pt x="23" y="40"/>
                </a:cubicBezTo>
                <a:cubicBezTo>
                  <a:pt x="21" y="35"/>
                  <a:pt x="17" y="32"/>
                  <a:pt x="12" y="32"/>
                </a:cubicBezTo>
                <a:cubicBezTo>
                  <a:pt x="5" y="32"/>
                  <a:pt x="0" y="38"/>
                  <a:pt x="0" y="45"/>
                </a:cubicBezTo>
                <a:cubicBezTo>
                  <a:pt x="0" y="51"/>
                  <a:pt x="5" y="57"/>
                  <a:pt x="12" y="57"/>
                </a:cubicBezTo>
                <a:cubicBezTo>
                  <a:pt x="17" y="57"/>
                  <a:pt x="21" y="54"/>
                  <a:pt x="23" y="49"/>
                </a:cubicBezTo>
                <a:cubicBezTo>
                  <a:pt x="104" y="45"/>
                  <a:pt x="267" y="45"/>
                  <a:pt x="337" y="50"/>
                </a:cubicBezTo>
                <a:cubicBezTo>
                  <a:pt x="337" y="50"/>
                  <a:pt x="337" y="50"/>
                  <a:pt x="337" y="50"/>
                </a:cubicBezTo>
                <a:cubicBezTo>
                  <a:pt x="340" y="72"/>
                  <a:pt x="358" y="89"/>
                  <a:pt x="381" y="89"/>
                </a:cubicBezTo>
                <a:cubicBezTo>
                  <a:pt x="406" y="89"/>
                  <a:pt x="425" y="69"/>
                  <a:pt x="425" y="45"/>
                </a:cubicBezTo>
                <a:cubicBezTo>
                  <a:pt x="425" y="20"/>
                  <a:pt x="406" y="0"/>
                  <a:pt x="381" y="0"/>
                </a:cubicBezTo>
                <a:close/>
              </a:path>
            </a:pathLst>
          </a:cu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Freeform 102"/>
          <p:cNvSpPr/>
          <p:nvPr/>
        </p:nvSpPr>
        <p:spPr>
          <a:xfrm>
            <a:off x="4421160" y="3817800"/>
            <a:ext cx="304920" cy="203400"/>
          </a:xfrm>
          <a:custGeom>
            <a:avLst/>
            <a:gdLst/>
            <a:ahLst/>
            <a:rect l="l" t="t" r="r" b="b"/>
            <a:pathLst>
              <a:path w="498" h="445">
                <a:moveTo>
                  <a:pt x="80" y="151"/>
                </a:moveTo>
                <a:lnTo>
                  <a:pt x="80" y="151"/>
                </a:lnTo>
                <a:cubicBezTo>
                  <a:pt x="97" y="134"/>
                  <a:pt x="116" y="143"/>
                  <a:pt x="142" y="169"/>
                </a:cubicBezTo>
                <a:cubicBezTo>
                  <a:pt x="151" y="178"/>
                  <a:pt x="151" y="169"/>
                  <a:pt x="151" y="169"/>
                </a:cubicBezTo>
                <a:cubicBezTo>
                  <a:pt x="160" y="169"/>
                  <a:pt x="186" y="134"/>
                  <a:pt x="195" y="134"/>
                </a:cubicBezTo>
                <a:cubicBezTo>
                  <a:pt x="195" y="134"/>
                  <a:pt x="195" y="134"/>
                  <a:pt x="195" y="125"/>
                </a:cubicBezTo>
                <a:cubicBezTo>
                  <a:pt x="186" y="125"/>
                  <a:pt x="178" y="116"/>
                  <a:pt x="178" y="107"/>
                </a:cubicBezTo>
                <a:cubicBezTo>
                  <a:pt x="133" y="45"/>
                  <a:pt x="301" y="10"/>
                  <a:pt x="275" y="10"/>
                </a:cubicBezTo>
                <a:cubicBezTo>
                  <a:pt x="257" y="0"/>
                  <a:pt x="204" y="0"/>
                  <a:pt x="195" y="0"/>
                </a:cubicBezTo>
                <a:cubicBezTo>
                  <a:pt x="169" y="10"/>
                  <a:pt x="125" y="36"/>
                  <a:pt x="107" y="54"/>
                </a:cubicBezTo>
                <a:cubicBezTo>
                  <a:pt x="80" y="72"/>
                  <a:pt x="72" y="81"/>
                  <a:pt x="72" y="81"/>
                </a:cubicBezTo>
                <a:cubicBezTo>
                  <a:pt x="62" y="89"/>
                  <a:pt x="72" y="107"/>
                  <a:pt x="53" y="116"/>
                </a:cubicBezTo>
                <a:cubicBezTo>
                  <a:pt x="36" y="125"/>
                  <a:pt x="27" y="116"/>
                  <a:pt x="18" y="125"/>
                </a:cubicBezTo>
                <a:cubicBezTo>
                  <a:pt x="18" y="134"/>
                  <a:pt x="9" y="134"/>
                  <a:pt x="0" y="143"/>
                </a:cubicBezTo>
                <a:lnTo>
                  <a:pt x="0" y="151"/>
                </a:lnTo>
                <a:lnTo>
                  <a:pt x="36" y="187"/>
                </a:lnTo>
                <a:cubicBezTo>
                  <a:pt x="36" y="196"/>
                  <a:pt x="44" y="196"/>
                  <a:pt x="53" y="196"/>
                </a:cubicBezTo>
                <a:cubicBezTo>
                  <a:pt x="53" y="187"/>
                  <a:pt x="62" y="178"/>
                  <a:pt x="72" y="178"/>
                </a:cubicBezTo>
                <a:cubicBezTo>
                  <a:pt x="72" y="178"/>
                  <a:pt x="72" y="151"/>
                  <a:pt x="80" y="151"/>
                </a:cubicBezTo>
                <a:close/>
                <a:moveTo>
                  <a:pt x="222" y="160"/>
                </a:moveTo>
                <a:lnTo>
                  <a:pt x="222" y="160"/>
                </a:lnTo>
                <a:cubicBezTo>
                  <a:pt x="213" y="160"/>
                  <a:pt x="213" y="160"/>
                  <a:pt x="213" y="160"/>
                </a:cubicBezTo>
                <a:cubicBezTo>
                  <a:pt x="178" y="187"/>
                  <a:pt x="178" y="187"/>
                  <a:pt x="178" y="187"/>
                </a:cubicBezTo>
                <a:cubicBezTo>
                  <a:pt x="169" y="196"/>
                  <a:pt x="169" y="196"/>
                  <a:pt x="169" y="204"/>
                </a:cubicBezTo>
                <a:cubicBezTo>
                  <a:pt x="381" y="435"/>
                  <a:pt x="381" y="435"/>
                  <a:pt x="381" y="435"/>
                </a:cubicBezTo>
                <a:cubicBezTo>
                  <a:pt x="381" y="444"/>
                  <a:pt x="391" y="444"/>
                  <a:pt x="399" y="435"/>
                </a:cubicBezTo>
                <a:cubicBezTo>
                  <a:pt x="426" y="417"/>
                  <a:pt x="426" y="417"/>
                  <a:pt x="426" y="417"/>
                </a:cubicBezTo>
                <a:cubicBezTo>
                  <a:pt x="426" y="408"/>
                  <a:pt x="426" y="400"/>
                  <a:pt x="426" y="400"/>
                </a:cubicBezTo>
                <a:lnTo>
                  <a:pt x="222" y="160"/>
                </a:lnTo>
                <a:close/>
                <a:moveTo>
                  <a:pt x="497" y="63"/>
                </a:moveTo>
                <a:lnTo>
                  <a:pt x="497" y="63"/>
                </a:lnTo>
                <a:cubicBezTo>
                  <a:pt x="488" y="45"/>
                  <a:pt x="488" y="54"/>
                  <a:pt x="479" y="54"/>
                </a:cubicBezTo>
                <a:cubicBezTo>
                  <a:pt x="479" y="63"/>
                  <a:pt x="461" y="81"/>
                  <a:pt x="461" y="89"/>
                </a:cubicBezTo>
                <a:cubicBezTo>
                  <a:pt x="452" y="107"/>
                  <a:pt x="435" y="125"/>
                  <a:pt x="408" y="107"/>
                </a:cubicBezTo>
                <a:cubicBezTo>
                  <a:pt x="381" y="81"/>
                  <a:pt x="391" y="72"/>
                  <a:pt x="399" y="63"/>
                </a:cubicBezTo>
                <a:cubicBezTo>
                  <a:pt x="399" y="54"/>
                  <a:pt x="417" y="28"/>
                  <a:pt x="417" y="19"/>
                </a:cubicBezTo>
                <a:cubicBezTo>
                  <a:pt x="426" y="19"/>
                  <a:pt x="417" y="10"/>
                  <a:pt x="408" y="10"/>
                </a:cubicBezTo>
                <a:cubicBezTo>
                  <a:pt x="399" y="19"/>
                  <a:pt x="346" y="36"/>
                  <a:pt x="337" y="72"/>
                </a:cubicBezTo>
                <a:cubicBezTo>
                  <a:pt x="328" y="98"/>
                  <a:pt x="346" y="125"/>
                  <a:pt x="319" y="151"/>
                </a:cubicBezTo>
                <a:cubicBezTo>
                  <a:pt x="284" y="187"/>
                  <a:pt x="284" y="187"/>
                  <a:pt x="284" y="187"/>
                </a:cubicBezTo>
                <a:cubicBezTo>
                  <a:pt x="319" y="231"/>
                  <a:pt x="319" y="231"/>
                  <a:pt x="319" y="231"/>
                </a:cubicBezTo>
                <a:cubicBezTo>
                  <a:pt x="364" y="187"/>
                  <a:pt x="364" y="187"/>
                  <a:pt x="364" y="187"/>
                </a:cubicBezTo>
                <a:cubicBezTo>
                  <a:pt x="372" y="178"/>
                  <a:pt x="391" y="169"/>
                  <a:pt x="408" y="178"/>
                </a:cubicBezTo>
                <a:cubicBezTo>
                  <a:pt x="452" y="187"/>
                  <a:pt x="470" y="169"/>
                  <a:pt x="488" y="143"/>
                </a:cubicBezTo>
                <a:cubicBezTo>
                  <a:pt x="497" y="116"/>
                  <a:pt x="497" y="72"/>
                  <a:pt x="497" y="63"/>
                </a:cubicBezTo>
                <a:close/>
                <a:moveTo>
                  <a:pt x="72" y="400"/>
                </a:moveTo>
                <a:lnTo>
                  <a:pt x="72" y="400"/>
                </a:lnTo>
                <a:cubicBezTo>
                  <a:pt x="62" y="408"/>
                  <a:pt x="62" y="417"/>
                  <a:pt x="72" y="417"/>
                </a:cubicBezTo>
                <a:cubicBezTo>
                  <a:pt x="89" y="444"/>
                  <a:pt x="89" y="444"/>
                  <a:pt x="89" y="444"/>
                </a:cubicBezTo>
                <a:cubicBezTo>
                  <a:pt x="97" y="444"/>
                  <a:pt x="107" y="444"/>
                  <a:pt x="107" y="435"/>
                </a:cubicBezTo>
                <a:cubicBezTo>
                  <a:pt x="231" y="320"/>
                  <a:pt x="231" y="320"/>
                  <a:pt x="231" y="320"/>
                </a:cubicBezTo>
                <a:cubicBezTo>
                  <a:pt x="195" y="275"/>
                  <a:pt x="195" y="275"/>
                  <a:pt x="195" y="275"/>
                </a:cubicBezTo>
                <a:lnTo>
                  <a:pt x="72" y="4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Freeform 5"/>
          <p:cNvSpPr/>
          <p:nvPr/>
        </p:nvSpPr>
        <p:spPr>
          <a:xfrm rot="10800000">
            <a:off x="4286160" y="2332080"/>
            <a:ext cx="2835360" cy="457200"/>
          </a:xfrm>
          <a:custGeom>
            <a:avLst/>
            <a:gdLst/>
            <a:ahLst/>
            <a:rect l="l" t="t" r="r" b="b"/>
            <a:pathLst>
              <a:path w="425" h="89">
                <a:moveTo>
                  <a:pt x="381" y="0"/>
                </a:moveTo>
                <a:cubicBezTo>
                  <a:pt x="358" y="0"/>
                  <a:pt x="340" y="17"/>
                  <a:pt x="337" y="39"/>
                </a:cubicBezTo>
                <a:cubicBezTo>
                  <a:pt x="337" y="39"/>
                  <a:pt x="337" y="39"/>
                  <a:pt x="337" y="39"/>
                </a:cubicBezTo>
                <a:cubicBezTo>
                  <a:pt x="276" y="44"/>
                  <a:pt x="95" y="45"/>
                  <a:pt x="23" y="40"/>
                </a:cubicBezTo>
                <a:cubicBezTo>
                  <a:pt x="21" y="35"/>
                  <a:pt x="17" y="32"/>
                  <a:pt x="12" y="32"/>
                </a:cubicBezTo>
                <a:cubicBezTo>
                  <a:pt x="5" y="32"/>
                  <a:pt x="0" y="38"/>
                  <a:pt x="0" y="45"/>
                </a:cubicBezTo>
                <a:cubicBezTo>
                  <a:pt x="0" y="51"/>
                  <a:pt x="5" y="57"/>
                  <a:pt x="12" y="57"/>
                </a:cubicBezTo>
                <a:cubicBezTo>
                  <a:pt x="17" y="57"/>
                  <a:pt x="21" y="54"/>
                  <a:pt x="23" y="49"/>
                </a:cubicBezTo>
                <a:cubicBezTo>
                  <a:pt x="104" y="45"/>
                  <a:pt x="267" y="45"/>
                  <a:pt x="337" y="50"/>
                </a:cubicBezTo>
                <a:cubicBezTo>
                  <a:pt x="337" y="50"/>
                  <a:pt x="337" y="50"/>
                  <a:pt x="337" y="50"/>
                </a:cubicBezTo>
                <a:cubicBezTo>
                  <a:pt x="340" y="72"/>
                  <a:pt x="358" y="89"/>
                  <a:pt x="381" y="89"/>
                </a:cubicBezTo>
                <a:cubicBezTo>
                  <a:pt x="406" y="89"/>
                  <a:pt x="425" y="69"/>
                  <a:pt x="425" y="45"/>
                </a:cubicBezTo>
                <a:cubicBezTo>
                  <a:pt x="425" y="20"/>
                  <a:pt x="406" y="0"/>
                  <a:pt x="381" y="0"/>
                </a:cubicBezTo>
                <a:close/>
              </a:path>
            </a:pathLst>
          </a:cu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Freeform 101"/>
          <p:cNvSpPr/>
          <p:nvPr/>
        </p:nvSpPr>
        <p:spPr>
          <a:xfrm>
            <a:off x="4421160" y="2465280"/>
            <a:ext cx="343080" cy="198720"/>
          </a:xfrm>
          <a:custGeom>
            <a:avLst/>
            <a:gdLst/>
            <a:ahLst/>
            <a:rect l="l" t="t" r="r" b="b"/>
            <a:pathLst>
              <a:path w="497" h="382">
                <a:moveTo>
                  <a:pt x="80" y="248"/>
                </a:moveTo>
                <a:lnTo>
                  <a:pt x="80" y="248"/>
                </a:lnTo>
                <a:cubicBezTo>
                  <a:pt x="97" y="293"/>
                  <a:pt x="106" y="311"/>
                  <a:pt x="159" y="328"/>
                </a:cubicBezTo>
                <a:cubicBezTo>
                  <a:pt x="203" y="355"/>
                  <a:pt x="230" y="381"/>
                  <a:pt x="248" y="381"/>
                </a:cubicBezTo>
                <a:cubicBezTo>
                  <a:pt x="266" y="381"/>
                  <a:pt x="293" y="355"/>
                  <a:pt x="337" y="337"/>
                </a:cubicBezTo>
                <a:cubicBezTo>
                  <a:pt x="390" y="311"/>
                  <a:pt x="372" y="311"/>
                  <a:pt x="390" y="258"/>
                </a:cubicBezTo>
                <a:cubicBezTo>
                  <a:pt x="248" y="328"/>
                  <a:pt x="248" y="328"/>
                  <a:pt x="248" y="328"/>
                </a:cubicBezTo>
                <a:lnTo>
                  <a:pt x="80" y="248"/>
                </a:lnTo>
                <a:close/>
                <a:moveTo>
                  <a:pt x="487" y="124"/>
                </a:moveTo>
                <a:lnTo>
                  <a:pt x="487" y="124"/>
                </a:lnTo>
                <a:cubicBezTo>
                  <a:pt x="274" y="9"/>
                  <a:pt x="274" y="9"/>
                  <a:pt x="274" y="9"/>
                </a:cubicBezTo>
                <a:cubicBezTo>
                  <a:pt x="266" y="0"/>
                  <a:pt x="239" y="0"/>
                  <a:pt x="221" y="9"/>
                </a:cubicBezTo>
                <a:cubicBezTo>
                  <a:pt x="9" y="124"/>
                  <a:pt x="9" y="124"/>
                  <a:pt x="9" y="124"/>
                </a:cubicBezTo>
                <a:cubicBezTo>
                  <a:pt x="0" y="133"/>
                  <a:pt x="0" y="142"/>
                  <a:pt x="9" y="160"/>
                </a:cubicBezTo>
                <a:cubicBezTo>
                  <a:pt x="221" y="275"/>
                  <a:pt x="221" y="275"/>
                  <a:pt x="221" y="275"/>
                </a:cubicBezTo>
                <a:cubicBezTo>
                  <a:pt x="239" y="284"/>
                  <a:pt x="266" y="284"/>
                  <a:pt x="274" y="275"/>
                </a:cubicBezTo>
                <a:cubicBezTo>
                  <a:pt x="408" y="195"/>
                  <a:pt x="408" y="195"/>
                  <a:pt x="408" y="195"/>
                </a:cubicBezTo>
                <a:cubicBezTo>
                  <a:pt x="266" y="160"/>
                  <a:pt x="266" y="160"/>
                  <a:pt x="266" y="160"/>
                </a:cubicBezTo>
                <a:cubicBezTo>
                  <a:pt x="257" y="160"/>
                  <a:pt x="257" y="168"/>
                  <a:pt x="248" y="168"/>
                </a:cubicBezTo>
                <a:cubicBezTo>
                  <a:pt x="221" y="168"/>
                  <a:pt x="203" y="151"/>
                  <a:pt x="203" y="133"/>
                </a:cubicBezTo>
                <a:cubicBezTo>
                  <a:pt x="203" y="124"/>
                  <a:pt x="221" y="107"/>
                  <a:pt x="248" y="107"/>
                </a:cubicBezTo>
                <a:cubicBezTo>
                  <a:pt x="266" y="107"/>
                  <a:pt x="284" y="115"/>
                  <a:pt x="293" y="124"/>
                </a:cubicBezTo>
                <a:cubicBezTo>
                  <a:pt x="443" y="177"/>
                  <a:pt x="443" y="177"/>
                  <a:pt x="443" y="177"/>
                </a:cubicBezTo>
                <a:cubicBezTo>
                  <a:pt x="487" y="160"/>
                  <a:pt x="487" y="160"/>
                  <a:pt x="487" y="160"/>
                </a:cubicBezTo>
                <a:cubicBezTo>
                  <a:pt x="496" y="142"/>
                  <a:pt x="496" y="133"/>
                  <a:pt x="487" y="124"/>
                </a:cubicBezTo>
                <a:close/>
                <a:moveTo>
                  <a:pt x="425" y="346"/>
                </a:moveTo>
                <a:lnTo>
                  <a:pt x="425" y="346"/>
                </a:lnTo>
                <a:cubicBezTo>
                  <a:pt x="416" y="355"/>
                  <a:pt x="452" y="364"/>
                  <a:pt x="461" y="337"/>
                </a:cubicBezTo>
                <a:cubicBezTo>
                  <a:pt x="469" y="213"/>
                  <a:pt x="443" y="177"/>
                  <a:pt x="443" y="177"/>
                </a:cubicBezTo>
                <a:cubicBezTo>
                  <a:pt x="408" y="195"/>
                  <a:pt x="408" y="195"/>
                  <a:pt x="408" y="195"/>
                </a:cubicBezTo>
                <a:cubicBezTo>
                  <a:pt x="408" y="195"/>
                  <a:pt x="443" y="222"/>
                  <a:pt x="425" y="34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TextBox 13"/>
          <p:cNvSpPr/>
          <p:nvPr/>
        </p:nvSpPr>
        <p:spPr>
          <a:xfrm>
            <a:off x="614520" y="1770120"/>
            <a:ext cx="1465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TextBox 13"/>
          <p:cNvSpPr/>
          <p:nvPr/>
        </p:nvSpPr>
        <p:spPr>
          <a:xfrm>
            <a:off x="617400" y="1930320"/>
            <a:ext cx="1751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2" name="TextBox 13"/>
          <p:cNvSpPr/>
          <p:nvPr/>
        </p:nvSpPr>
        <p:spPr>
          <a:xfrm>
            <a:off x="614520" y="3117960"/>
            <a:ext cx="1465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TextBox 13"/>
          <p:cNvSpPr/>
          <p:nvPr/>
        </p:nvSpPr>
        <p:spPr>
          <a:xfrm>
            <a:off x="617400" y="3279600"/>
            <a:ext cx="1751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TextBox 13"/>
          <p:cNvSpPr/>
          <p:nvPr/>
        </p:nvSpPr>
        <p:spPr>
          <a:xfrm>
            <a:off x="7283520" y="2433600"/>
            <a:ext cx="1463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TextBox 13"/>
          <p:cNvSpPr/>
          <p:nvPr/>
        </p:nvSpPr>
        <p:spPr>
          <a:xfrm>
            <a:off x="7286760" y="2593800"/>
            <a:ext cx="1749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" name="TextBox 13"/>
          <p:cNvSpPr/>
          <p:nvPr/>
        </p:nvSpPr>
        <p:spPr>
          <a:xfrm>
            <a:off x="7283520" y="3817800"/>
            <a:ext cx="1463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TextBox 13"/>
          <p:cNvSpPr/>
          <p:nvPr/>
        </p:nvSpPr>
        <p:spPr>
          <a:xfrm>
            <a:off x="7286760" y="3978360"/>
            <a:ext cx="1749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8" name="图片 19" descr=""/>
          <p:cNvPicPr/>
          <p:nvPr/>
        </p:nvPicPr>
        <p:blipFill>
          <a:blip r:embed="rId1"/>
          <a:stretch/>
        </p:blipFill>
        <p:spPr>
          <a:xfrm>
            <a:off x="0" y="141120"/>
            <a:ext cx="9144000" cy="233640"/>
          </a:xfrm>
          <a:prstGeom prst="rect">
            <a:avLst/>
          </a:prstGeom>
          <a:ln w="0">
            <a:noFill/>
          </a:ln>
        </p:spPr>
      </p:pic>
      <p:sp>
        <p:nvSpPr>
          <p:cNvPr id="849" name="文本框 20"/>
          <p:cNvSpPr/>
          <p:nvPr/>
        </p:nvSpPr>
        <p:spPr>
          <a:xfrm>
            <a:off x="3216240" y="108000"/>
            <a:ext cx="2711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ADD YOUR TITLE H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Bent Arrow 5@|1FFC:0|FBC:0|LFC:9868950|LBC:16777215"/>
          <p:cNvSpPr/>
          <p:nvPr/>
        </p:nvSpPr>
        <p:spPr>
          <a:xfrm rot="2700000">
            <a:off x="3586680" y="1494360"/>
            <a:ext cx="168120" cy="1239840"/>
          </a:xfrm>
          <a:custGeom>
            <a:avLst/>
            <a:gdLst/>
            <a:ahLst/>
            <a:rect l="l" t="t" r="r" b="b"/>
            <a:pathLst>
              <a:path w="225046" h="1239609">
                <a:moveTo>
                  <a:pt x="0" y="1239609"/>
                </a:moveTo>
                <a:lnTo>
                  <a:pt x="0" y="40901"/>
                </a:lnTo>
                <a:lnTo>
                  <a:pt x="126998" y="40901"/>
                </a:lnTo>
                <a:lnTo>
                  <a:pt x="126998" y="0"/>
                </a:lnTo>
                <a:lnTo>
                  <a:pt x="225046" y="56275"/>
                </a:lnTo>
                <a:lnTo>
                  <a:pt x="126998" y="112550"/>
                </a:lnTo>
                <a:lnTo>
                  <a:pt x="126998" y="71649"/>
                </a:lnTo>
                <a:lnTo>
                  <a:pt x="30748" y="71649"/>
                </a:lnTo>
                <a:lnTo>
                  <a:pt x="30748" y="1239609"/>
                </a:lnTo>
                <a:lnTo>
                  <a:pt x="0" y="1239609"/>
                </a:lnTo>
                <a:close/>
              </a:path>
            </a:pathLst>
          </a:custGeom>
          <a:solidFill>
            <a:srgbClr val="adb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Rectangle 6@|1FFC:0|FBC:0|LFC:9868950|LBC:16777215"/>
          <p:cNvSpPr/>
          <p:nvPr/>
        </p:nvSpPr>
        <p:spPr>
          <a:xfrm flipV="1" rot="2700000">
            <a:off x="3246120" y="2333160"/>
            <a:ext cx="23760" cy="225360"/>
          </a:xfrm>
          <a:prstGeom prst="rect">
            <a:avLst/>
          </a:prstGeom>
          <a:solidFill>
            <a:srgbClr val="adb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Bent Arrow 8@|1FFC:0|FBC:0|LFC:9868950|LBC:16777215"/>
          <p:cNvSpPr/>
          <p:nvPr/>
        </p:nvSpPr>
        <p:spPr>
          <a:xfrm rot="18900000">
            <a:off x="3036960" y="3368160"/>
            <a:ext cx="1239840" cy="168480"/>
          </a:xfrm>
          <a:custGeom>
            <a:avLst/>
            <a:gdLst/>
            <a:ahLst/>
            <a:rect l="l" t="t" r="r" b="b"/>
            <a:pathLst>
              <a:path w="225045" h="1239609">
                <a:moveTo>
                  <a:pt x="0" y="1239609"/>
                </a:moveTo>
                <a:lnTo>
                  <a:pt x="0" y="40901"/>
                </a:lnTo>
                <a:lnTo>
                  <a:pt x="126997" y="40901"/>
                </a:lnTo>
                <a:lnTo>
                  <a:pt x="126997" y="0"/>
                </a:lnTo>
                <a:lnTo>
                  <a:pt x="225045" y="56275"/>
                </a:lnTo>
                <a:lnTo>
                  <a:pt x="126997" y="112550"/>
                </a:lnTo>
                <a:lnTo>
                  <a:pt x="126997" y="71649"/>
                </a:lnTo>
                <a:lnTo>
                  <a:pt x="30748" y="71649"/>
                </a:lnTo>
                <a:lnTo>
                  <a:pt x="30748" y="1239609"/>
                </a:lnTo>
                <a:lnTo>
                  <a:pt x="0" y="1239609"/>
                </a:lnTo>
                <a:close/>
              </a:path>
            </a:pathLst>
          </a:custGeom>
          <a:solidFill>
            <a:srgbClr val="adb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Rectangle 9@|1FFC:0|FBC:0|LFC:9868950|LBC:16777215"/>
          <p:cNvSpPr/>
          <p:nvPr/>
        </p:nvSpPr>
        <p:spPr>
          <a:xfrm flipV="1" rot="18900000">
            <a:off x="3983040" y="3750480"/>
            <a:ext cx="225360" cy="22320"/>
          </a:xfrm>
          <a:prstGeom prst="rect">
            <a:avLst/>
          </a:prstGeom>
          <a:solidFill>
            <a:srgbClr val="adb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-11880" bIns="-1188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Bent Arrow 11@|1FFC:0|FBC:0|LFC:9868950|LBC:16777215"/>
          <p:cNvSpPr/>
          <p:nvPr/>
        </p:nvSpPr>
        <p:spPr>
          <a:xfrm flipH="1" flipV="1" rot="18900000">
            <a:off x="4826160" y="2026800"/>
            <a:ext cx="1239840" cy="168480"/>
          </a:xfrm>
          <a:custGeom>
            <a:avLst/>
            <a:gdLst/>
            <a:ahLst/>
            <a:rect l="l" t="t" r="r" b="b"/>
            <a:pathLst>
              <a:path w="225045" h="1239609">
                <a:moveTo>
                  <a:pt x="0" y="1239609"/>
                </a:moveTo>
                <a:lnTo>
                  <a:pt x="0" y="40901"/>
                </a:lnTo>
                <a:lnTo>
                  <a:pt x="126997" y="40901"/>
                </a:lnTo>
                <a:lnTo>
                  <a:pt x="126997" y="0"/>
                </a:lnTo>
                <a:lnTo>
                  <a:pt x="225045" y="56275"/>
                </a:lnTo>
                <a:lnTo>
                  <a:pt x="126997" y="112550"/>
                </a:lnTo>
                <a:lnTo>
                  <a:pt x="126997" y="71649"/>
                </a:lnTo>
                <a:lnTo>
                  <a:pt x="30748" y="71649"/>
                </a:lnTo>
                <a:lnTo>
                  <a:pt x="30748" y="1239609"/>
                </a:lnTo>
                <a:lnTo>
                  <a:pt x="0" y="1239609"/>
                </a:lnTo>
                <a:close/>
              </a:path>
            </a:pathLst>
          </a:custGeom>
          <a:solidFill>
            <a:srgbClr val="adb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Rectangle 12@|1FFC:0|FBC:0|LFC:9868950|LBC:16777215"/>
          <p:cNvSpPr/>
          <p:nvPr/>
        </p:nvSpPr>
        <p:spPr>
          <a:xfrm flipH="1" rot="18900000">
            <a:off x="4893120" y="1785960"/>
            <a:ext cx="223920" cy="23760"/>
          </a:xfrm>
          <a:prstGeom prst="rect">
            <a:avLst/>
          </a:prstGeom>
          <a:solidFill>
            <a:srgbClr val="adb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-10440" bIns="-1044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Bent Arrow 14@|1FFC:0|FBC:0|LFC:9868950|LBC:16777215"/>
          <p:cNvSpPr/>
          <p:nvPr/>
        </p:nvSpPr>
        <p:spPr>
          <a:xfrm flipH="1" flipV="1" rot="2700000">
            <a:off x="5383440" y="2844000"/>
            <a:ext cx="168480" cy="1238040"/>
          </a:xfrm>
          <a:custGeom>
            <a:avLst/>
            <a:gdLst/>
            <a:ahLst/>
            <a:rect l="l" t="t" r="r" b="b"/>
            <a:pathLst>
              <a:path w="225046" h="1239609">
                <a:moveTo>
                  <a:pt x="0" y="1239609"/>
                </a:moveTo>
                <a:lnTo>
                  <a:pt x="0" y="40901"/>
                </a:lnTo>
                <a:lnTo>
                  <a:pt x="126998" y="40901"/>
                </a:lnTo>
                <a:lnTo>
                  <a:pt x="126998" y="0"/>
                </a:lnTo>
                <a:lnTo>
                  <a:pt x="225046" y="56275"/>
                </a:lnTo>
                <a:lnTo>
                  <a:pt x="126998" y="112550"/>
                </a:lnTo>
                <a:lnTo>
                  <a:pt x="126998" y="71649"/>
                </a:lnTo>
                <a:lnTo>
                  <a:pt x="30748" y="71649"/>
                </a:lnTo>
                <a:lnTo>
                  <a:pt x="30748" y="1239609"/>
                </a:lnTo>
                <a:lnTo>
                  <a:pt x="0" y="1239609"/>
                </a:lnTo>
                <a:close/>
              </a:path>
            </a:pathLst>
          </a:custGeom>
          <a:solidFill>
            <a:srgbClr val="adb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Rectangle 15@|1FFC:0|FBC:0|LFC:9868950|LBC:16777215"/>
          <p:cNvSpPr/>
          <p:nvPr/>
        </p:nvSpPr>
        <p:spPr>
          <a:xfrm flipH="1" rot="2700000">
            <a:off x="5874840" y="3022200"/>
            <a:ext cx="23760" cy="225360"/>
          </a:xfrm>
          <a:prstGeom prst="rect">
            <a:avLst/>
          </a:prstGeom>
          <a:solidFill>
            <a:srgbClr val="adb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Rounded Rectangle 20@|1FFC:2381804|FBC:16777215|LFC:16777215|LBC:16777215"/>
          <p:cNvSpPr/>
          <p:nvPr/>
        </p:nvSpPr>
        <p:spPr>
          <a:xfrm flipV="1" rot="18900000">
            <a:off x="4841280" y="2370960"/>
            <a:ext cx="1114560" cy="834840"/>
          </a:xfrm>
          <a:prstGeom prst="roundRect">
            <a:avLst>
              <a:gd name="adj" fmla="val 9648"/>
            </a:avLst>
          </a:pr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9" name="Group 34" descr=""/>
          <p:cNvPicPr/>
          <p:nvPr/>
        </p:nvPicPr>
        <p:blipFill>
          <a:blip r:embed="rId2"/>
          <a:stretch/>
        </p:blipFill>
        <p:spPr>
          <a:xfrm>
            <a:off x="5162400" y="2638440"/>
            <a:ext cx="457200" cy="333360"/>
          </a:xfrm>
          <a:prstGeom prst="rect">
            <a:avLst/>
          </a:prstGeom>
          <a:ln w="0">
            <a:noFill/>
          </a:ln>
        </p:spPr>
      </p:pic>
      <p:sp>
        <p:nvSpPr>
          <p:cNvPr id="860" name="Rounded Rectangle 17@|1FFC:14657585|FBC:16777215|LFC:16777215|LBC:16777215"/>
          <p:cNvSpPr/>
          <p:nvPr/>
        </p:nvSpPr>
        <p:spPr>
          <a:xfrm flipV="1" rot="18900000">
            <a:off x="4014720" y="2993760"/>
            <a:ext cx="1113840" cy="835200"/>
          </a:xfrm>
          <a:prstGeom prst="roundRect">
            <a:avLst>
              <a:gd name="adj" fmla="val 9648"/>
            </a:avLst>
          </a:pr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1" name="Shape 719@|5FFC:16777215|FBC:16777215|LFC:16777215|LBC:16777215"/>
          <p:cNvSpPr/>
          <p:nvPr/>
        </p:nvSpPr>
        <p:spPr>
          <a:xfrm>
            <a:off x="4351320" y="3252960"/>
            <a:ext cx="441360" cy="284040"/>
          </a:xfrm>
          <a:custGeom>
            <a:avLst/>
            <a:gdLst/>
            <a:ahLst/>
            <a:rect l="l" t="t" r="r" b="b"/>
            <a:pathLst>
              <a:path w="21332" h="21446">
                <a:moveTo>
                  <a:pt x="9262" y="7207"/>
                </a:moveTo>
                <a:lnTo>
                  <a:pt x="14475" y="11108"/>
                </a:lnTo>
                <a:cubicBezTo>
                  <a:pt x="14915" y="11436"/>
                  <a:pt x="15500" y="11301"/>
                  <a:pt x="15796" y="10800"/>
                </a:cubicBezTo>
                <a:lnTo>
                  <a:pt x="21160" y="1771"/>
                </a:lnTo>
                <a:cubicBezTo>
                  <a:pt x="21464" y="1257"/>
                  <a:pt x="21354" y="555"/>
                  <a:pt x="20913" y="200"/>
                </a:cubicBezTo>
                <a:cubicBezTo>
                  <a:pt x="20472" y="-154"/>
                  <a:pt x="19869" y="-26"/>
                  <a:pt x="19564" y="487"/>
                </a:cubicBezTo>
                <a:lnTo>
                  <a:pt x="14734" y="8618"/>
                </a:lnTo>
                <a:lnTo>
                  <a:pt x="9490" y="4694"/>
                </a:lnTo>
                <a:cubicBezTo>
                  <a:pt x="9273" y="4532"/>
                  <a:pt x="9010" y="4478"/>
                  <a:pt x="8757" y="4541"/>
                </a:cubicBezTo>
                <a:cubicBezTo>
                  <a:pt x="8505" y="4607"/>
                  <a:pt x="8285" y="4785"/>
                  <a:pt x="8147" y="5039"/>
                </a:cubicBezTo>
                <a:lnTo>
                  <a:pt x="152" y="19712"/>
                </a:lnTo>
                <a:cubicBezTo>
                  <a:pt x="-136" y="20237"/>
                  <a:pt x="-2" y="20936"/>
                  <a:pt x="450" y="21269"/>
                </a:cubicBezTo>
                <a:cubicBezTo>
                  <a:pt x="611" y="21389"/>
                  <a:pt x="791" y="21446"/>
                  <a:pt x="969" y="21446"/>
                </a:cubicBezTo>
                <a:cubicBezTo>
                  <a:pt x="1290" y="21446"/>
                  <a:pt x="1604" y="21260"/>
                  <a:pt x="1788" y="20921"/>
                </a:cubicBezTo>
                <a:cubicBezTo>
                  <a:pt x="1788" y="20921"/>
                  <a:pt x="9262" y="7207"/>
                  <a:pt x="9262" y="7207"/>
                </a:cubicBezTo>
                <a:close/>
                <a:moveTo>
                  <a:pt x="19712" y="12707"/>
                </a:moveTo>
                <a:lnTo>
                  <a:pt x="14952" y="17715"/>
                </a:lnTo>
                <a:lnTo>
                  <a:pt x="9355" y="12653"/>
                </a:lnTo>
                <a:cubicBezTo>
                  <a:pt x="9249" y="12556"/>
                  <a:pt x="9125" y="12487"/>
                  <a:pt x="8994" y="12450"/>
                </a:cubicBezTo>
                <a:lnTo>
                  <a:pt x="8249" y="12234"/>
                </a:lnTo>
                <a:lnTo>
                  <a:pt x="7154" y="14242"/>
                </a:lnTo>
                <a:lnTo>
                  <a:pt x="8327" y="14582"/>
                </a:lnTo>
                <a:lnTo>
                  <a:pt x="14404" y="20078"/>
                </a:lnTo>
                <a:cubicBezTo>
                  <a:pt x="14580" y="20237"/>
                  <a:pt x="14789" y="20317"/>
                  <a:pt x="14999" y="20317"/>
                </a:cubicBezTo>
                <a:cubicBezTo>
                  <a:pt x="15232" y="20317"/>
                  <a:pt x="15466" y="20218"/>
                  <a:pt x="15650" y="20026"/>
                </a:cubicBezTo>
                <a:lnTo>
                  <a:pt x="21012" y="14382"/>
                </a:lnTo>
                <a:cubicBezTo>
                  <a:pt x="21410" y="13963"/>
                  <a:pt x="21441" y="13250"/>
                  <a:pt x="21081" y="12788"/>
                </a:cubicBezTo>
                <a:cubicBezTo>
                  <a:pt x="20722" y="12325"/>
                  <a:pt x="20109" y="12289"/>
                  <a:pt x="19712" y="12707"/>
                </a:cubicBezTo>
                <a:close/>
                <a:moveTo>
                  <a:pt x="735" y="12382"/>
                </a:moveTo>
                <a:lnTo>
                  <a:pt x="2190" y="12804"/>
                </a:lnTo>
                <a:lnTo>
                  <a:pt x="3284" y="10795"/>
                </a:lnTo>
                <a:lnTo>
                  <a:pt x="1204" y="10192"/>
                </a:lnTo>
                <a:cubicBezTo>
                  <a:pt x="683" y="10040"/>
                  <a:pt x="158" y="10410"/>
                  <a:pt x="28" y="11015"/>
                </a:cubicBezTo>
                <a:cubicBezTo>
                  <a:pt x="-100" y="11620"/>
                  <a:pt x="216" y="12231"/>
                  <a:pt x="735" y="1238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Rounded Rectangle 23@|1FFC:0|FBC:0|LFC:16777215|LBC:16777215"/>
          <p:cNvSpPr/>
          <p:nvPr/>
        </p:nvSpPr>
        <p:spPr>
          <a:xfrm flipV="1" rot="18900000">
            <a:off x="3187080" y="2370960"/>
            <a:ext cx="1114560" cy="834840"/>
          </a:xfrm>
          <a:prstGeom prst="roundRect">
            <a:avLst>
              <a:gd name="adj" fmla="val 9648"/>
            </a:avLst>
          </a:pr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Shape 2102@|5FFC:16777215|FBC:16777215|LFC:16777215|LBC:16777215"/>
          <p:cNvSpPr/>
          <p:nvPr/>
        </p:nvSpPr>
        <p:spPr>
          <a:xfrm>
            <a:off x="3467160" y="2624040"/>
            <a:ext cx="539640" cy="324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8143" y="10800"/>
                </a:moveTo>
                <a:cubicBezTo>
                  <a:pt x="17065" y="10800"/>
                  <a:pt x="16800" y="11898"/>
                  <a:pt x="16709" y="12419"/>
                </a:cubicBezTo>
                <a:cubicBezTo>
                  <a:pt x="16115" y="15817"/>
                  <a:pt x="13696" y="18359"/>
                  <a:pt x="10800" y="18359"/>
                </a:cubicBezTo>
                <a:cubicBezTo>
                  <a:pt x="9130" y="18359"/>
                  <a:pt x="7618" y="17514"/>
                  <a:pt x="6524" y="16146"/>
                </a:cubicBezTo>
                <a:cubicBezTo>
                  <a:pt x="6018" y="15513"/>
                  <a:pt x="5198" y="15513"/>
                  <a:pt x="4691" y="16146"/>
                </a:cubicBezTo>
                <a:cubicBezTo>
                  <a:pt x="4185" y="16779"/>
                  <a:pt x="4185" y="17804"/>
                  <a:pt x="4691" y="18437"/>
                </a:cubicBezTo>
                <a:cubicBezTo>
                  <a:pt x="6255" y="20391"/>
                  <a:pt x="8415" y="21600"/>
                  <a:pt x="10800" y="21600"/>
                </a:cubicBezTo>
                <a:cubicBezTo>
                  <a:pt x="14669" y="21600"/>
                  <a:pt x="17943" y="18421"/>
                  <a:pt x="19043" y="14039"/>
                </a:cubicBezTo>
                <a:lnTo>
                  <a:pt x="21600" y="14039"/>
                </a:lnTo>
                <a:lnTo>
                  <a:pt x="21600" y="10800"/>
                </a:lnTo>
                <a:cubicBezTo>
                  <a:pt x="21600" y="10800"/>
                  <a:pt x="18143" y="10800"/>
                  <a:pt x="18143" y="10800"/>
                </a:cubicBezTo>
                <a:close/>
                <a:moveTo>
                  <a:pt x="4891" y="9180"/>
                </a:moveTo>
                <a:cubicBezTo>
                  <a:pt x="5484" y="5783"/>
                  <a:pt x="7904" y="3240"/>
                  <a:pt x="10800" y="3240"/>
                </a:cubicBezTo>
                <a:cubicBezTo>
                  <a:pt x="12470" y="3240"/>
                  <a:pt x="13982" y="4086"/>
                  <a:pt x="15076" y="5454"/>
                </a:cubicBezTo>
                <a:cubicBezTo>
                  <a:pt x="15582" y="6086"/>
                  <a:pt x="16404" y="6086"/>
                  <a:pt x="16909" y="5454"/>
                </a:cubicBezTo>
                <a:cubicBezTo>
                  <a:pt x="17415" y="4821"/>
                  <a:pt x="17415" y="3796"/>
                  <a:pt x="16909" y="3163"/>
                </a:cubicBezTo>
                <a:cubicBezTo>
                  <a:pt x="15346" y="1209"/>
                  <a:pt x="13186" y="0"/>
                  <a:pt x="10800" y="0"/>
                </a:cubicBezTo>
                <a:cubicBezTo>
                  <a:pt x="6931" y="0"/>
                  <a:pt x="3658" y="3178"/>
                  <a:pt x="2557" y="7560"/>
                </a:cubicBezTo>
                <a:lnTo>
                  <a:pt x="0" y="7560"/>
                </a:lnTo>
                <a:lnTo>
                  <a:pt x="0" y="10800"/>
                </a:lnTo>
                <a:lnTo>
                  <a:pt x="3457" y="10800"/>
                </a:lnTo>
                <a:cubicBezTo>
                  <a:pt x="4535" y="10800"/>
                  <a:pt x="4800" y="9702"/>
                  <a:pt x="4891" y="9180"/>
                </a:cubicBezTo>
                <a:close/>
                <a:moveTo>
                  <a:pt x="7343" y="10800"/>
                </a:moveTo>
                <a:cubicBezTo>
                  <a:pt x="7343" y="13185"/>
                  <a:pt x="8891" y="15120"/>
                  <a:pt x="10800" y="15120"/>
                </a:cubicBezTo>
                <a:cubicBezTo>
                  <a:pt x="12709" y="15120"/>
                  <a:pt x="14255" y="13185"/>
                  <a:pt x="14255" y="10800"/>
                </a:cubicBezTo>
                <a:cubicBezTo>
                  <a:pt x="14255" y="8415"/>
                  <a:pt x="12709" y="6480"/>
                  <a:pt x="10800" y="6480"/>
                </a:cubicBezTo>
                <a:cubicBezTo>
                  <a:pt x="8891" y="6480"/>
                  <a:pt x="7343" y="8415"/>
                  <a:pt x="7343" y="1080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4" name="Rounded Rectangle 26@|1FFC:4308095|FBC:16777215|LFC:16777215|LBC:16777215"/>
          <p:cNvSpPr/>
          <p:nvPr/>
        </p:nvSpPr>
        <p:spPr>
          <a:xfrm flipV="1" rot="18900000">
            <a:off x="4014720" y="1752120"/>
            <a:ext cx="1114560" cy="835200"/>
          </a:xfrm>
          <a:prstGeom prst="roundRect">
            <a:avLst>
              <a:gd name="adj" fmla="val 9648"/>
            </a:avLst>
          </a:pr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5" name="Freeform 56@|5FFC:16777215|FBC:16777215|LFC:16777215|LBC:16777215"/>
          <p:cNvSpPr/>
          <p:nvPr/>
        </p:nvSpPr>
        <p:spPr>
          <a:xfrm>
            <a:off x="4352760" y="2030400"/>
            <a:ext cx="498600" cy="306360"/>
          </a:xfrm>
          <a:custGeom>
            <a:avLst/>
            <a:gdLst/>
            <a:ahLst/>
            <a:rect l="l" t="t" r="r" b="b"/>
            <a:pathLst>
              <a:path w="382" h="312">
                <a:moveTo>
                  <a:pt x="307" y="135"/>
                </a:moveTo>
                <a:cubicBezTo>
                  <a:pt x="354" y="122"/>
                  <a:pt x="382" y="72"/>
                  <a:pt x="362" y="71"/>
                </a:cubicBezTo>
                <a:cubicBezTo>
                  <a:pt x="311" y="68"/>
                  <a:pt x="267" y="43"/>
                  <a:pt x="238" y="25"/>
                </a:cubicBezTo>
                <a:cubicBezTo>
                  <a:pt x="235" y="23"/>
                  <a:pt x="232" y="21"/>
                  <a:pt x="229" y="19"/>
                </a:cubicBezTo>
                <a:cubicBezTo>
                  <a:pt x="229" y="134"/>
                  <a:pt x="229" y="134"/>
                  <a:pt x="229" y="134"/>
                </a:cubicBezTo>
                <a:cubicBezTo>
                  <a:pt x="229" y="172"/>
                  <a:pt x="206" y="202"/>
                  <a:pt x="180" y="214"/>
                </a:cubicBezTo>
                <a:cubicBezTo>
                  <a:pt x="142" y="233"/>
                  <a:pt x="100" y="221"/>
                  <a:pt x="86" y="189"/>
                </a:cubicBezTo>
                <a:cubicBezTo>
                  <a:pt x="72" y="157"/>
                  <a:pt x="91" y="116"/>
                  <a:pt x="129" y="97"/>
                </a:cubicBezTo>
                <a:cubicBezTo>
                  <a:pt x="150" y="87"/>
                  <a:pt x="172" y="86"/>
                  <a:pt x="190" y="93"/>
                </a:cubicBezTo>
                <a:cubicBezTo>
                  <a:pt x="190" y="4"/>
                  <a:pt x="190" y="4"/>
                  <a:pt x="190" y="4"/>
                </a:cubicBezTo>
                <a:cubicBezTo>
                  <a:pt x="178" y="1"/>
                  <a:pt x="166" y="0"/>
                  <a:pt x="154" y="0"/>
                </a:cubicBezTo>
                <a:cubicBezTo>
                  <a:pt x="69" y="0"/>
                  <a:pt x="0" y="70"/>
                  <a:pt x="0" y="156"/>
                </a:cubicBezTo>
                <a:cubicBezTo>
                  <a:pt x="0" y="242"/>
                  <a:pt x="69" y="312"/>
                  <a:pt x="154" y="312"/>
                </a:cubicBezTo>
                <a:cubicBezTo>
                  <a:pt x="239" y="312"/>
                  <a:pt x="308" y="242"/>
                  <a:pt x="308" y="156"/>
                </a:cubicBezTo>
                <a:cubicBezTo>
                  <a:pt x="308" y="149"/>
                  <a:pt x="308" y="142"/>
                  <a:pt x="307" y="13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TextBox 13"/>
          <p:cNvSpPr/>
          <p:nvPr/>
        </p:nvSpPr>
        <p:spPr>
          <a:xfrm>
            <a:off x="6280200" y="1830240"/>
            <a:ext cx="1752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TextBox 13"/>
          <p:cNvSpPr/>
          <p:nvPr/>
        </p:nvSpPr>
        <p:spPr>
          <a:xfrm>
            <a:off x="6283440" y="1992240"/>
            <a:ext cx="1749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TextBox 13"/>
          <p:cNvSpPr/>
          <p:nvPr/>
        </p:nvSpPr>
        <p:spPr>
          <a:xfrm>
            <a:off x="6280200" y="3294000"/>
            <a:ext cx="1752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TextBox 13"/>
          <p:cNvSpPr/>
          <p:nvPr/>
        </p:nvSpPr>
        <p:spPr>
          <a:xfrm>
            <a:off x="6283440" y="3454560"/>
            <a:ext cx="1749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TextBox 13"/>
          <p:cNvSpPr/>
          <p:nvPr/>
        </p:nvSpPr>
        <p:spPr>
          <a:xfrm>
            <a:off x="1031760" y="1830240"/>
            <a:ext cx="1754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TextBox 13"/>
          <p:cNvSpPr/>
          <p:nvPr/>
        </p:nvSpPr>
        <p:spPr>
          <a:xfrm>
            <a:off x="1035000" y="1992240"/>
            <a:ext cx="1751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TextBox 13"/>
          <p:cNvSpPr/>
          <p:nvPr/>
        </p:nvSpPr>
        <p:spPr>
          <a:xfrm>
            <a:off x="1031760" y="3294000"/>
            <a:ext cx="1754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TextBox 13"/>
          <p:cNvSpPr/>
          <p:nvPr/>
        </p:nvSpPr>
        <p:spPr>
          <a:xfrm>
            <a:off x="1035000" y="3454560"/>
            <a:ext cx="1751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4" name="图片 19" descr=""/>
          <p:cNvPicPr/>
          <p:nvPr/>
        </p:nvPicPr>
        <p:blipFill>
          <a:blip r:embed="rId1"/>
          <a:stretch/>
        </p:blipFill>
        <p:spPr>
          <a:xfrm>
            <a:off x="0" y="141120"/>
            <a:ext cx="9144000" cy="233640"/>
          </a:xfrm>
          <a:prstGeom prst="rect">
            <a:avLst/>
          </a:prstGeom>
          <a:ln w="0">
            <a:noFill/>
          </a:ln>
        </p:spPr>
      </p:pic>
      <p:sp>
        <p:nvSpPr>
          <p:cNvPr id="875" name="文本框 20"/>
          <p:cNvSpPr/>
          <p:nvPr/>
        </p:nvSpPr>
        <p:spPr>
          <a:xfrm>
            <a:off x="3216240" y="108000"/>
            <a:ext cx="2711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ADD YOUR TITLE H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Round Same Side Corner Rectangle 4"/>
          <p:cNvSpPr/>
          <p:nvPr/>
        </p:nvSpPr>
        <p:spPr>
          <a:xfrm rot="16200000">
            <a:off x="798480" y="1776600"/>
            <a:ext cx="1967040" cy="2141280"/>
          </a:xfrm>
          <a:custGeom>
            <a:avLst/>
            <a:gdLst/>
            <a:ahLst/>
            <a:rect l="l" t="t" r="r" b="b"/>
            <a:pathLst>
              <a:path w="2623766" h="2142108">
                <a:moveTo>
                  <a:pt x="157381" y="0"/>
                </a:moveTo>
                <a:lnTo>
                  <a:pt x="2466385" y="0"/>
                </a:lnTo>
                <a:cubicBezTo>
                  <a:pt x="2553304" y="0"/>
                  <a:pt x="2623766" y="70462"/>
                  <a:pt x="2623766" y="157381"/>
                </a:cubicBezTo>
                <a:lnTo>
                  <a:pt x="2623766" y="2142108"/>
                </a:lnTo>
                <a:lnTo>
                  <a:pt x="0" y="2142108"/>
                </a:lnTo>
                <a:lnTo>
                  <a:pt x="0" y="157381"/>
                </a:lnTo>
                <a:cubicBezTo>
                  <a:pt x="0" y="70462"/>
                  <a:pt x="70462" y="0"/>
                  <a:pt x="157381" y="0"/>
                </a:cubicBezTo>
                <a:close/>
              </a:path>
            </a:pathLst>
          </a:cu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Rectangle 9"/>
          <p:cNvSpPr/>
          <p:nvPr/>
        </p:nvSpPr>
        <p:spPr>
          <a:xfrm>
            <a:off x="711360" y="2535120"/>
            <a:ext cx="2144520" cy="3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Freeform 116"/>
          <p:cNvSpPr/>
          <p:nvPr/>
        </p:nvSpPr>
        <p:spPr>
          <a:xfrm>
            <a:off x="1576440" y="2041560"/>
            <a:ext cx="411120" cy="249120"/>
          </a:xfrm>
          <a:custGeom>
            <a:avLst/>
            <a:gdLst/>
            <a:ahLst/>
            <a:rect l="l" t="t" r="r" b="b"/>
            <a:pathLst>
              <a:path w="57" h="46">
                <a:moveTo>
                  <a:pt x="55" y="27"/>
                </a:moveTo>
                <a:cubicBezTo>
                  <a:pt x="55" y="27"/>
                  <a:pt x="54" y="27"/>
                  <a:pt x="54" y="27"/>
                </a:cubicBezTo>
                <a:cubicBezTo>
                  <a:pt x="54" y="27"/>
                  <a:pt x="54" y="27"/>
                  <a:pt x="54" y="27"/>
                </a:cubicBezTo>
                <a:cubicBezTo>
                  <a:pt x="54" y="27"/>
                  <a:pt x="53" y="27"/>
                  <a:pt x="53" y="27"/>
                </a:cubicBezTo>
                <a:cubicBezTo>
                  <a:pt x="28" y="6"/>
                  <a:pt x="28" y="6"/>
                  <a:pt x="28" y="6"/>
                </a:cubicBezTo>
                <a:cubicBezTo>
                  <a:pt x="4" y="27"/>
                  <a:pt x="4" y="27"/>
                  <a:pt x="4" y="27"/>
                </a:cubicBezTo>
                <a:cubicBezTo>
                  <a:pt x="4" y="27"/>
                  <a:pt x="3" y="27"/>
                  <a:pt x="3" y="27"/>
                </a:cubicBezTo>
                <a:cubicBezTo>
                  <a:pt x="3" y="27"/>
                  <a:pt x="2" y="27"/>
                  <a:pt x="2" y="27"/>
                </a:cubicBezTo>
                <a:cubicBezTo>
                  <a:pt x="0" y="24"/>
                  <a:pt x="0" y="24"/>
                  <a:pt x="0" y="24"/>
                </a:cubicBezTo>
                <a:cubicBezTo>
                  <a:pt x="0" y="24"/>
                  <a:pt x="0" y="23"/>
                  <a:pt x="0" y="23"/>
                </a:cubicBezTo>
                <a:cubicBezTo>
                  <a:pt x="26" y="1"/>
                  <a:pt x="26" y="1"/>
                  <a:pt x="26" y="1"/>
                </a:cubicBezTo>
                <a:cubicBezTo>
                  <a:pt x="27" y="0"/>
                  <a:pt x="30" y="0"/>
                  <a:pt x="31" y="1"/>
                </a:cubicBezTo>
                <a:cubicBezTo>
                  <a:pt x="40" y="8"/>
                  <a:pt x="40" y="8"/>
                  <a:pt x="40" y="8"/>
                </a:cubicBezTo>
                <a:cubicBezTo>
                  <a:pt x="40" y="1"/>
                  <a:pt x="40" y="1"/>
                  <a:pt x="40" y="1"/>
                </a:cubicBezTo>
                <a:cubicBezTo>
                  <a:pt x="40" y="1"/>
                  <a:pt x="40" y="0"/>
                  <a:pt x="41" y="0"/>
                </a:cubicBezTo>
                <a:cubicBezTo>
                  <a:pt x="48" y="0"/>
                  <a:pt x="48" y="0"/>
                  <a:pt x="48" y="0"/>
                </a:cubicBezTo>
                <a:cubicBezTo>
                  <a:pt x="49" y="0"/>
                  <a:pt x="49" y="1"/>
                  <a:pt x="49" y="1"/>
                </a:cubicBezTo>
                <a:cubicBezTo>
                  <a:pt x="49" y="16"/>
                  <a:pt x="49" y="16"/>
                  <a:pt x="49" y="16"/>
                </a:cubicBezTo>
                <a:cubicBezTo>
                  <a:pt x="57" y="23"/>
                  <a:pt x="57" y="23"/>
                  <a:pt x="57" y="23"/>
                </a:cubicBezTo>
                <a:cubicBezTo>
                  <a:pt x="57" y="23"/>
                  <a:pt x="57" y="24"/>
                  <a:pt x="57" y="24"/>
                </a:cubicBezTo>
                <a:lnTo>
                  <a:pt x="55" y="27"/>
                </a:lnTo>
                <a:close/>
                <a:moveTo>
                  <a:pt x="49" y="44"/>
                </a:moveTo>
                <a:cubicBezTo>
                  <a:pt x="49" y="45"/>
                  <a:pt x="48" y="46"/>
                  <a:pt x="47" y="46"/>
                </a:cubicBezTo>
                <a:cubicBezTo>
                  <a:pt x="33" y="46"/>
                  <a:pt x="33" y="46"/>
                  <a:pt x="33" y="46"/>
                </a:cubicBezTo>
                <a:cubicBezTo>
                  <a:pt x="33" y="32"/>
                  <a:pt x="33" y="32"/>
                  <a:pt x="33" y="32"/>
                </a:cubicBezTo>
                <a:cubicBezTo>
                  <a:pt x="24" y="32"/>
                  <a:pt x="24" y="32"/>
                  <a:pt x="24" y="32"/>
                </a:cubicBezTo>
                <a:cubicBezTo>
                  <a:pt x="24" y="46"/>
                  <a:pt x="24" y="46"/>
                  <a:pt x="24" y="46"/>
                </a:cubicBezTo>
                <a:cubicBezTo>
                  <a:pt x="10" y="46"/>
                  <a:pt x="10" y="46"/>
                  <a:pt x="10" y="46"/>
                </a:cubicBezTo>
                <a:cubicBezTo>
                  <a:pt x="9" y="46"/>
                  <a:pt x="8" y="45"/>
                  <a:pt x="8" y="44"/>
                </a:cubicBezTo>
                <a:cubicBezTo>
                  <a:pt x="8" y="27"/>
                  <a:pt x="8" y="27"/>
                  <a:pt x="8" y="27"/>
                </a:cubicBezTo>
                <a:cubicBezTo>
                  <a:pt x="8" y="27"/>
                  <a:pt x="8" y="26"/>
                  <a:pt x="8" y="26"/>
                </a:cubicBezTo>
                <a:cubicBezTo>
                  <a:pt x="28" y="9"/>
                  <a:pt x="28" y="9"/>
                  <a:pt x="28" y="9"/>
                </a:cubicBezTo>
                <a:cubicBezTo>
                  <a:pt x="49" y="26"/>
                  <a:pt x="49" y="26"/>
                  <a:pt x="49" y="26"/>
                </a:cubicBezTo>
                <a:cubicBezTo>
                  <a:pt x="49" y="26"/>
                  <a:pt x="49" y="27"/>
                  <a:pt x="49" y="27"/>
                </a:cubicBezTo>
                <a:lnTo>
                  <a:pt x="49" y="4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9" name="Rectangle 8"/>
          <p:cNvSpPr/>
          <p:nvPr/>
        </p:nvSpPr>
        <p:spPr>
          <a:xfrm>
            <a:off x="1155600" y="2308320"/>
            <a:ext cx="12528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编辑标题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Round Same Side Corner Rectangle 12"/>
          <p:cNvSpPr/>
          <p:nvPr/>
        </p:nvSpPr>
        <p:spPr>
          <a:xfrm flipH="1" rot="5400000">
            <a:off x="6360120" y="1776240"/>
            <a:ext cx="1967040" cy="2141640"/>
          </a:xfrm>
          <a:custGeom>
            <a:avLst/>
            <a:gdLst/>
            <a:ahLst/>
            <a:rect l="l" t="t" r="r" b="b"/>
            <a:pathLst>
              <a:path w="2623766" h="2142108">
                <a:moveTo>
                  <a:pt x="157381" y="0"/>
                </a:moveTo>
                <a:lnTo>
                  <a:pt x="2466385" y="0"/>
                </a:lnTo>
                <a:cubicBezTo>
                  <a:pt x="2553304" y="0"/>
                  <a:pt x="2623766" y="70462"/>
                  <a:pt x="2623766" y="157381"/>
                </a:cubicBezTo>
                <a:lnTo>
                  <a:pt x="2623766" y="2142108"/>
                </a:lnTo>
                <a:lnTo>
                  <a:pt x="0" y="2142108"/>
                </a:lnTo>
                <a:lnTo>
                  <a:pt x="0" y="157381"/>
                </a:lnTo>
                <a:cubicBezTo>
                  <a:pt x="0" y="70462"/>
                  <a:pt x="70462" y="0"/>
                  <a:pt x="157381" y="0"/>
                </a:cubicBezTo>
                <a:close/>
              </a:path>
            </a:pathLst>
          </a:cu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1" name="Rectangle 13"/>
          <p:cNvSpPr/>
          <p:nvPr/>
        </p:nvSpPr>
        <p:spPr>
          <a:xfrm flipH="1">
            <a:off x="6270480" y="2535120"/>
            <a:ext cx="2144880" cy="3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Freeform 122"/>
          <p:cNvSpPr/>
          <p:nvPr/>
        </p:nvSpPr>
        <p:spPr>
          <a:xfrm>
            <a:off x="7153200" y="2058840"/>
            <a:ext cx="379440" cy="223920"/>
          </a:xfrm>
          <a:custGeom>
            <a:avLst/>
            <a:gdLst/>
            <a:ahLst/>
            <a:rect l="l" t="t" r="r" b="b"/>
            <a:pathLst>
              <a:path w="73" h="57">
                <a:moveTo>
                  <a:pt x="57" y="37"/>
                </a:moveTo>
                <a:cubicBezTo>
                  <a:pt x="38" y="56"/>
                  <a:pt x="38" y="56"/>
                  <a:pt x="38" y="56"/>
                </a:cubicBezTo>
                <a:cubicBezTo>
                  <a:pt x="37" y="57"/>
                  <a:pt x="36" y="57"/>
                  <a:pt x="34" y="57"/>
                </a:cubicBezTo>
                <a:cubicBezTo>
                  <a:pt x="33" y="57"/>
                  <a:pt x="32" y="57"/>
                  <a:pt x="31" y="56"/>
                </a:cubicBezTo>
                <a:cubicBezTo>
                  <a:pt x="4" y="28"/>
                  <a:pt x="4" y="28"/>
                  <a:pt x="4" y="28"/>
                </a:cubicBezTo>
                <a:cubicBezTo>
                  <a:pt x="2" y="27"/>
                  <a:pt x="0" y="23"/>
                  <a:pt x="0" y="20"/>
                </a:cubicBezTo>
                <a:cubicBezTo>
                  <a:pt x="0" y="4"/>
                  <a:pt x="0" y="4"/>
                  <a:pt x="0" y="4"/>
                </a:cubicBezTo>
                <a:cubicBezTo>
                  <a:pt x="0" y="2"/>
                  <a:pt x="3" y="0"/>
                  <a:pt x="5" y="0"/>
                </a:cubicBezTo>
                <a:cubicBezTo>
                  <a:pt x="21" y="0"/>
                  <a:pt x="21" y="0"/>
                  <a:pt x="21" y="0"/>
                </a:cubicBezTo>
                <a:cubicBezTo>
                  <a:pt x="24" y="0"/>
                  <a:pt x="27" y="1"/>
                  <a:pt x="29" y="3"/>
                </a:cubicBezTo>
                <a:cubicBezTo>
                  <a:pt x="57" y="30"/>
                  <a:pt x="57" y="30"/>
                  <a:pt x="57" y="30"/>
                </a:cubicBezTo>
                <a:cubicBezTo>
                  <a:pt x="57" y="31"/>
                  <a:pt x="58" y="32"/>
                  <a:pt x="58" y="34"/>
                </a:cubicBezTo>
                <a:cubicBezTo>
                  <a:pt x="58" y="35"/>
                  <a:pt x="57" y="36"/>
                  <a:pt x="57" y="37"/>
                </a:cubicBezTo>
                <a:close/>
                <a:moveTo>
                  <a:pt x="13" y="7"/>
                </a:moveTo>
                <a:cubicBezTo>
                  <a:pt x="10" y="7"/>
                  <a:pt x="8" y="9"/>
                  <a:pt x="8" y="12"/>
                </a:cubicBezTo>
                <a:cubicBezTo>
                  <a:pt x="8" y="14"/>
                  <a:pt x="10" y="17"/>
                  <a:pt x="13" y="17"/>
                </a:cubicBezTo>
                <a:cubicBezTo>
                  <a:pt x="15" y="17"/>
                  <a:pt x="17" y="14"/>
                  <a:pt x="17" y="12"/>
                </a:cubicBezTo>
                <a:cubicBezTo>
                  <a:pt x="17" y="9"/>
                  <a:pt x="15" y="7"/>
                  <a:pt x="13" y="7"/>
                </a:cubicBezTo>
                <a:close/>
                <a:moveTo>
                  <a:pt x="71" y="37"/>
                </a:moveTo>
                <a:cubicBezTo>
                  <a:pt x="52" y="56"/>
                  <a:pt x="52" y="56"/>
                  <a:pt x="52" y="56"/>
                </a:cubicBezTo>
                <a:cubicBezTo>
                  <a:pt x="52" y="57"/>
                  <a:pt x="50" y="57"/>
                  <a:pt x="49" y="57"/>
                </a:cubicBezTo>
                <a:cubicBezTo>
                  <a:pt x="47" y="57"/>
                  <a:pt x="46" y="56"/>
                  <a:pt x="45" y="55"/>
                </a:cubicBezTo>
                <a:cubicBezTo>
                  <a:pt x="63" y="37"/>
                  <a:pt x="63" y="37"/>
                  <a:pt x="63" y="37"/>
                </a:cubicBezTo>
                <a:cubicBezTo>
                  <a:pt x="63" y="36"/>
                  <a:pt x="64" y="35"/>
                  <a:pt x="64" y="34"/>
                </a:cubicBezTo>
                <a:cubicBezTo>
                  <a:pt x="64" y="32"/>
                  <a:pt x="63" y="31"/>
                  <a:pt x="63" y="30"/>
                </a:cubicBezTo>
                <a:cubicBezTo>
                  <a:pt x="35" y="3"/>
                  <a:pt x="35" y="3"/>
                  <a:pt x="35" y="3"/>
                </a:cubicBezTo>
                <a:cubicBezTo>
                  <a:pt x="34" y="1"/>
                  <a:pt x="30" y="0"/>
                  <a:pt x="27" y="0"/>
                </a:cubicBezTo>
                <a:cubicBezTo>
                  <a:pt x="36" y="0"/>
                  <a:pt x="36" y="0"/>
                  <a:pt x="36" y="0"/>
                </a:cubicBezTo>
                <a:cubicBezTo>
                  <a:pt x="38" y="0"/>
                  <a:pt x="42" y="1"/>
                  <a:pt x="44" y="3"/>
                </a:cubicBezTo>
                <a:cubicBezTo>
                  <a:pt x="71" y="30"/>
                  <a:pt x="71" y="30"/>
                  <a:pt x="71" y="30"/>
                </a:cubicBezTo>
                <a:cubicBezTo>
                  <a:pt x="72" y="31"/>
                  <a:pt x="73" y="32"/>
                  <a:pt x="73" y="34"/>
                </a:cubicBezTo>
                <a:cubicBezTo>
                  <a:pt x="73" y="35"/>
                  <a:pt x="72" y="36"/>
                  <a:pt x="71" y="3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" name="Rectangle 8"/>
          <p:cNvSpPr/>
          <p:nvPr/>
        </p:nvSpPr>
        <p:spPr>
          <a:xfrm>
            <a:off x="6716880" y="2290680"/>
            <a:ext cx="12524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编辑标题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" name="矩形 12"/>
          <p:cNvSpPr/>
          <p:nvPr/>
        </p:nvSpPr>
        <p:spPr>
          <a:xfrm>
            <a:off x="1085760" y="2714760"/>
            <a:ext cx="1328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249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5" name="矩形 13"/>
          <p:cNvSpPr/>
          <p:nvPr/>
        </p:nvSpPr>
        <p:spPr>
          <a:xfrm>
            <a:off x="6678720" y="2714760"/>
            <a:ext cx="1328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249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6" name="图片 2" descr=""/>
          <p:cNvPicPr/>
          <p:nvPr/>
        </p:nvPicPr>
        <p:blipFill>
          <a:blip r:embed="rId2"/>
          <a:stretch/>
        </p:blipFill>
        <p:spPr>
          <a:xfrm>
            <a:off x="2782800" y="1471680"/>
            <a:ext cx="3484800" cy="25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7" name="图片 19" descr=""/>
          <p:cNvPicPr/>
          <p:nvPr/>
        </p:nvPicPr>
        <p:blipFill>
          <a:blip r:embed="rId1"/>
          <a:stretch/>
        </p:blipFill>
        <p:spPr>
          <a:xfrm>
            <a:off x="0" y="141120"/>
            <a:ext cx="9144000" cy="233640"/>
          </a:xfrm>
          <a:prstGeom prst="rect">
            <a:avLst/>
          </a:prstGeom>
          <a:ln w="0">
            <a:noFill/>
          </a:ln>
        </p:spPr>
      </p:pic>
      <p:sp>
        <p:nvSpPr>
          <p:cNvPr id="888" name="文本框 20"/>
          <p:cNvSpPr/>
          <p:nvPr/>
        </p:nvSpPr>
        <p:spPr>
          <a:xfrm>
            <a:off x="3216240" y="108000"/>
            <a:ext cx="2711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ADD YOUR TITLE H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Pentagon 49"/>
          <p:cNvSpPr/>
          <p:nvPr/>
        </p:nvSpPr>
        <p:spPr>
          <a:xfrm>
            <a:off x="2824200" y="1374840"/>
            <a:ext cx="1749240" cy="627120"/>
          </a:xfrm>
          <a:custGeom>
            <a:avLst/>
            <a:gdLst>
              <a:gd name="textAreaLeft" fmla="*/ 0 w 1749240"/>
              <a:gd name="textAreaRight" fmla="*/ 1749600 w 1749240"/>
              <a:gd name="textAreaTop" fmla="*/ 0 h 627120"/>
              <a:gd name="textAreaBottom" fmla="*/ 627480 h 62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727" y="0"/>
                </a:lnTo>
                <a:lnTo>
                  <a:pt x="21600" y="10800"/>
                </a:lnTo>
                <a:lnTo>
                  <a:pt x="1772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Pentagon 51"/>
          <p:cNvSpPr/>
          <p:nvPr/>
        </p:nvSpPr>
        <p:spPr>
          <a:xfrm>
            <a:off x="2824200" y="2508120"/>
            <a:ext cx="1749240" cy="627120"/>
          </a:xfrm>
          <a:custGeom>
            <a:avLst/>
            <a:gdLst>
              <a:gd name="textAreaLeft" fmla="*/ 0 w 1749240"/>
              <a:gd name="textAreaRight" fmla="*/ 1749600 w 1749240"/>
              <a:gd name="textAreaTop" fmla="*/ 0 h 627120"/>
              <a:gd name="textAreaBottom" fmla="*/ 627480 h 62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727" y="0"/>
                </a:lnTo>
                <a:lnTo>
                  <a:pt x="21600" y="10800"/>
                </a:lnTo>
                <a:lnTo>
                  <a:pt x="1772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Pentagon 52"/>
          <p:cNvSpPr/>
          <p:nvPr/>
        </p:nvSpPr>
        <p:spPr>
          <a:xfrm flipH="1">
            <a:off x="4800600" y="1946160"/>
            <a:ext cx="1749600" cy="627120"/>
          </a:xfrm>
          <a:custGeom>
            <a:avLst/>
            <a:gdLst>
              <a:gd name="textAreaLeft" fmla="*/ 360 w 1749600"/>
              <a:gd name="textAreaRight" fmla="*/ 1750320 w 1749600"/>
              <a:gd name="textAreaTop" fmla="*/ 0 h 627120"/>
              <a:gd name="textAreaBottom" fmla="*/ 627480 h 62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727" y="0"/>
                </a:lnTo>
                <a:lnTo>
                  <a:pt x="21600" y="10800"/>
                </a:lnTo>
                <a:lnTo>
                  <a:pt x="1772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Pentagon 53"/>
          <p:cNvSpPr/>
          <p:nvPr/>
        </p:nvSpPr>
        <p:spPr>
          <a:xfrm flipH="1">
            <a:off x="4800600" y="3094200"/>
            <a:ext cx="1749600" cy="628560"/>
          </a:xfrm>
          <a:custGeom>
            <a:avLst/>
            <a:gdLst>
              <a:gd name="textAreaLeft" fmla="*/ 360 w 1749600"/>
              <a:gd name="textAreaRight" fmla="*/ 1750320 w 1749600"/>
              <a:gd name="textAreaTop" fmla="*/ 0 h 628560"/>
              <a:gd name="textAreaBottom" fmla="*/ 628920 h 62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727" y="0"/>
                </a:lnTo>
                <a:lnTo>
                  <a:pt x="21600" y="10800"/>
                </a:lnTo>
                <a:lnTo>
                  <a:pt x="1772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3" name="Freeform 69"/>
          <p:cNvSpPr/>
          <p:nvPr/>
        </p:nvSpPr>
        <p:spPr>
          <a:xfrm>
            <a:off x="3451320" y="1544760"/>
            <a:ext cx="203040" cy="285480"/>
          </a:xfrm>
          <a:custGeom>
            <a:avLst/>
            <a:gdLst/>
            <a:ahLst/>
            <a:rect l="l" t="t" r="r" b="b"/>
            <a:pathLst>
              <a:path w="34" h="64">
                <a:moveTo>
                  <a:pt x="21" y="57"/>
                </a:moveTo>
                <a:cubicBezTo>
                  <a:pt x="21" y="63"/>
                  <a:pt x="21" y="63"/>
                  <a:pt x="21" y="63"/>
                </a:cubicBezTo>
                <a:cubicBezTo>
                  <a:pt x="21" y="63"/>
                  <a:pt x="20" y="64"/>
                  <a:pt x="20" y="64"/>
                </a:cubicBezTo>
                <a:cubicBezTo>
                  <a:pt x="15" y="64"/>
                  <a:pt x="15" y="64"/>
                  <a:pt x="15" y="64"/>
                </a:cubicBezTo>
                <a:cubicBezTo>
                  <a:pt x="14" y="64"/>
                  <a:pt x="14" y="63"/>
                  <a:pt x="14" y="63"/>
                </a:cubicBezTo>
                <a:cubicBezTo>
                  <a:pt x="14" y="57"/>
                  <a:pt x="14" y="57"/>
                  <a:pt x="14" y="57"/>
                </a:cubicBezTo>
                <a:cubicBezTo>
                  <a:pt x="5" y="55"/>
                  <a:pt x="1" y="50"/>
                  <a:pt x="1" y="50"/>
                </a:cubicBezTo>
                <a:cubicBezTo>
                  <a:pt x="0" y="50"/>
                  <a:pt x="0" y="49"/>
                  <a:pt x="1" y="49"/>
                </a:cubicBezTo>
                <a:cubicBezTo>
                  <a:pt x="4" y="44"/>
                  <a:pt x="4" y="44"/>
                  <a:pt x="4" y="44"/>
                </a:cubicBezTo>
                <a:cubicBezTo>
                  <a:pt x="4" y="44"/>
                  <a:pt x="5" y="43"/>
                  <a:pt x="5" y="43"/>
                </a:cubicBezTo>
                <a:cubicBezTo>
                  <a:pt x="5" y="43"/>
                  <a:pt x="6" y="44"/>
                  <a:pt x="6" y="44"/>
                </a:cubicBezTo>
                <a:cubicBezTo>
                  <a:pt x="6" y="44"/>
                  <a:pt x="11" y="49"/>
                  <a:pt x="17" y="49"/>
                </a:cubicBezTo>
                <a:cubicBezTo>
                  <a:pt x="21" y="49"/>
                  <a:pt x="25" y="47"/>
                  <a:pt x="25" y="43"/>
                </a:cubicBezTo>
                <a:cubicBezTo>
                  <a:pt x="25" y="39"/>
                  <a:pt x="20" y="38"/>
                  <a:pt x="16" y="36"/>
                </a:cubicBezTo>
                <a:cubicBezTo>
                  <a:pt x="9" y="33"/>
                  <a:pt x="1" y="30"/>
                  <a:pt x="1" y="21"/>
                </a:cubicBezTo>
                <a:cubicBezTo>
                  <a:pt x="1" y="14"/>
                  <a:pt x="6" y="9"/>
                  <a:pt x="14" y="8"/>
                </a:cubicBezTo>
                <a:cubicBezTo>
                  <a:pt x="14" y="1"/>
                  <a:pt x="14" y="1"/>
                  <a:pt x="14" y="1"/>
                </a:cubicBezTo>
                <a:cubicBezTo>
                  <a:pt x="14" y="0"/>
                  <a:pt x="14" y="0"/>
                  <a:pt x="15" y="0"/>
                </a:cubicBezTo>
                <a:cubicBezTo>
                  <a:pt x="20" y="0"/>
                  <a:pt x="20" y="0"/>
                  <a:pt x="20" y="0"/>
                </a:cubicBezTo>
                <a:cubicBezTo>
                  <a:pt x="20" y="0"/>
                  <a:pt x="21" y="0"/>
                  <a:pt x="21" y="1"/>
                </a:cubicBezTo>
                <a:cubicBezTo>
                  <a:pt x="21" y="7"/>
                  <a:pt x="21" y="7"/>
                  <a:pt x="21" y="7"/>
                </a:cubicBezTo>
                <a:cubicBezTo>
                  <a:pt x="28" y="8"/>
                  <a:pt x="32" y="12"/>
                  <a:pt x="32" y="12"/>
                </a:cubicBezTo>
                <a:cubicBezTo>
                  <a:pt x="33" y="13"/>
                  <a:pt x="33" y="13"/>
                  <a:pt x="32" y="14"/>
                </a:cubicBezTo>
                <a:cubicBezTo>
                  <a:pt x="29" y="19"/>
                  <a:pt x="29" y="19"/>
                  <a:pt x="29" y="19"/>
                </a:cubicBezTo>
                <a:cubicBezTo>
                  <a:pt x="29" y="19"/>
                  <a:pt x="29" y="19"/>
                  <a:pt x="29" y="19"/>
                </a:cubicBezTo>
                <a:cubicBezTo>
                  <a:pt x="28" y="19"/>
                  <a:pt x="28" y="19"/>
                  <a:pt x="28" y="19"/>
                </a:cubicBezTo>
                <a:cubicBezTo>
                  <a:pt x="28" y="19"/>
                  <a:pt x="23" y="15"/>
                  <a:pt x="18" y="15"/>
                </a:cubicBezTo>
                <a:cubicBezTo>
                  <a:pt x="13" y="15"/>
                  <a:pt x="10" y="18"/>
                  <a:pt x="10" y="21"/>
                </a:cubicBezTo>
                <a:cubicBezTo>
                  <a:pt x="10" y="25"/>
                  <a:pt x="15" y="26"/>
                  <a:pt x="20" y="28"/>
                </a:cubicBezTo>
                <a:cubicBezTo>
                  <a:pt x="26" y="31"/>
                  <a:pt x="34" y="34"/>
                  <a:pt x="34" y="42"/>
                </a:cubicBezTo>
                <a:cubicBezTo>
                  <a:pt x="34" y="50"/>
                  <a:pt x="28" y="55"/>
                  <a:pt x="21" y="5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Freeform 23"/>
          <p:cNvSpPr/>
          <p:nvPr/>
        </p:nvSpPr>
        <p:spPr>
          <a:xfrm>
            <a:off x="3406680" y="2717640"/>
            <a:ext cx="292320" cy="206640"/>
          </a:xfrm>
          <a:custGeom>
            <a:avLst/>
            <a:gdLst/>
            <a:ahLst/>
            <a:rect l="l" t="t" r="r" b="b"/>
            <a:pathLst>
              <a:path w="68" h="64">
                <a:moveTo>
                  <a:pt x="68" y="14"/>
                </a:moveTo>
                <a:cubicBezTo>
                  <a:pt x="68" y="18"/>
                  <a:pt x="68" y="18"/>
                  <a:pt x="68" y="18"/>
                </a:cubicBezTo>
                <a:cubicBezTo>
                  <a:pt x="64" y="18"/>
                  <a:pt x="64" y="18"/>
                  <a:pt x="64" y="18"/>
                </a:cubicBezTo>
                <a:cubicBezTo>
                  <a:pt x="64" y="20"/>
                  <a:pt x="63" y="21"/>
                  <a:pt x="61" y="21"/>
                </a:cubicBezTo>
                <a:cubicBezTo>
                  <a:pt x="7" y="21"/>
                  <a:pt x="7" y="21"/>
                  <a:pt x="7" y="21"/>
                </a:cubicBezTo>
                <a:cubicBezTo>
                  <a:pt x="5" y="21"/>
                  <a:pt x="4" y="20"/>
                  <a:pt x="4" y="18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4"/>
                  <a:pt x="0" y="14"/>
                  <a:pt x="0" y="14"/>
                </a:cubicBezTo>
                <a:cubicBezTo>
                  <a:pt x="34" y="0"/>
                  <a:pt x="34" y="0"/>
                  <a:pt x="34" y="0"/>
                </a:cubicBezTo>
                <a:lnTo>
                  <a:pt x="68" y="14"/>
                </a:lnTo>
                <a:close/>
                <a:moveTo>
                  <a:pt x="68" y="60"/>
                </a:moveTo>
                <a:cubicBezTo>
                  <a:pt x="68" y="64"/>
                  <a:pt x="68" y="64"/>
                  <a:pt x="68" y="64"/>
                </a:cubicBezTo>
                <a:cubicBezTo>
                  <a:pt x="0" y="64"/>
                  <a:pt x="0" y="64"/>
                  <a:pt x="0" y="6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58"/>
                  <a:pt x="1" y="57"/>
                  <a:pt x="2" y="57"/>
                </a:cubicBezTo>
                <a:cubicBezTo>
                  <a:pt x="66" y="57"/>
                  <a:pt x="66" y="57"/>
                  <a:pt x="66" y="57"/>
                </a:cubicBezTo>
                <a:cubicBezTo>
                  <a:pt x="67" y="57"/>
                  <a:pt x="68" y="58"/>
                  <a:pt x="68" y="60"/>
                </a:cubicBezTo>
                <a:close/>
                <a:moveTo>
                  <a:pt x="18" y="23"/>
                </a:moveTo>
                <a:cubicBezTo>
                  <a:pt x="18" y="50"/>
                  <a:pt x="18" y="50"/>
                  <a:pt x="18" y="50"/>
                </a:cubicBezTo>
                <a:cubicBezTo>
                  <a:pt x="23" y="50"/>
                  <a:pt x="23" y="50"/>
                  <a:pt x="23" y="50"/>
                </a:cubicBezTo>
                <a:cubicBezTo>
                  <a:pt x="23" y="23"/>
                  <a:pt x="23" y="23"/>
                  <a:pt x="23" y="23"/>
                </a:cubicBezTo>
                <a:cubicBezTo>
                  <a:pt x="32" y="23"/>
                  <a:pt x="32" y="23"/>
                  <a:pt x="32" y="23"/>
                </a:cubicBezTo>
                <a:cubicBezTo>
                  <a:pt x="32" y="50"/>
                  <a:pt x="32" y="50"/>
                  <a:pt x="32" y="50"/>
                </a:cubicBezTo>
                <a:cubicBezTo>
                  <a:pt x="36" y="50"/>
                  <a:pt x="36" y="50"/>
                  <a:pt x="36" y="50"/>
                </a:cubicBezTo>
                <a:cubicBezTo>
                  <a:pt x="36" y="23"/>
                  <a:pt x="36" y="23"/>
                  <a:pt x="36" y="23"/>
                </a:cubicBezTo>
                <a:cubicBezTo>
                  <a:pt x="45" y="23"/>
                  <a:pt x="45" y="23"/>
                  <a:pt x="45" y="23"/>
                </a:cubicBezTo>
                <a:cubicBezTo>
                  <a:pt x="45" y="50"/>
                  <a:pt x="45" y="50"/>
                  <a:pt x="45" y="50"/>
                </a:cubicBezTo>
                <a:cubicBezTo>
                  <a:pt x="50" y="50"/>
                  <a:pt x="50" y="50"/>
                  <a:pt x="50" y="50"/>
                </a:cubicBezTo>
                <a:cubicBezTo>
                  <a:pt x="50" y="23"/>
                  <a:pt x="50" y="23"/>
                  <a:pt x="50" y="23"/>
                </a:cubicBezTo>
                <a:cubicBezTo>
                  <a:pt x="59" y="23"/>
                  <a:pt x="59" y="23"/>
                  <a:pt x="59" y="23"/>
                </a:cubicBezTo>
                <a:cubicBezTo>
                  <a:pt x="59" y="50"/>
                  <a:pt x="59" y="50"/>
                  <a:pt x="59" y="50"/>
                </a:cubicBezTo>
                <a:cubicBezTo>
                  <a:pt x="61" y="50"/>
                  <a:pt x="61" y="50"/>
                  <a:pt x="61" y="50"/>
                </a:cubicBezTo>
                <a:cubicBezTo>
                  <a:pt x="63" y="50"/>
                  <a:pt x="64" y="51"/>
                  <a:pt x="64" y="53"/>
                </a:cubicBezTo>
                <a:cubicBezTo>
                  <a:pt x="64" y="55"/>
                  <a:pt x="64" y="55"/>
                  <a:pt x="64" y="55"/>
                </a:cubicBezTo>
                <a:cubicBezTo>
                  <a:pt x="4" y="55"/>
                  <a:pt x="4" y="55"/>
                  <a:pt x="4" y="55"/>
                </a:cubicBezTo>
                <a:cubicBezTo>
                  <a:pt x="4" y="53"/>
                  <a:pt x="4" y="53"/>
                  <a:pt x="4" y="53"/>
                </a:cubicBezTo>
                <a:cubicBezTo>
                  <a:pt x="4" y="51"/>
                  <a:pt x="5" y="50"/>
                  <a:pt x="7" y="50"/>
                </a:cubicBezTo>
                <a:cubicBezTo>
                  <a:pt x="9" y="50"/>
                  <a:pt x="9" y="50"/>
                  <a:pt x="9" y="50"/>
                </a:cubicBezTo>
                <a:cubicBezTo>
                  <a:pt x="9" y="23"/>
                  <a:pt x="9" y="23"/>
                  <a:pt x="9" y="23"/>
                </a:cubicBezTo>
                <a:lnTo>
                  <a:pt x="18" y="2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Freeform 57"/>
          <p:cNvSpPr/>
          <p:nvPr/>
        </p:nvSpPr>
        <p:spPr>
          <a:xfrm>
            <a:off x="5616720" y="3292560"/>
            <a:ext cx="347400" cy="230040"/>
          </a:xfrm>
          <a:custGeom>
            <a:avLst/>
            <a:gdLst/>
            <a:ahLst/>
            <a:rect l="l" t="t" r="r" b="b"/>
            <a:pathLst>
              <a:path w="65" h="58">
                <a:moveTo>
                  <a:pt x="7" y="9"/>
                </a:moveTo>
                <a:cubicBezTo>
                  <a:pt x="7" y="57"/>
                  <a:pt x="7" y="57"/>
                  <a:pt x="7" y="57"/>
                </a:cubicBezTo>
                <a:cubicBezTo>
                  <a:pt x="7" y="57"/>
                  <a:pt x="7" y="58"/>
                  <a:pt x="6" y="58"/>
                </a:cubicBezTo>
                <a:cubicBezTo>
                  <a:pt x="4" y="58"/>
                  <a:pt x="4" y="58"/>
                  <a:pt x="4" y="58"/>
                </a:cubicBezTo>
                <a:cubicBezTo>
                  <a:pt x="3" y="58"/>
                  <a:pt x="2" y="57"/>
                  <a:pt x="2" y="57"/>
                </a:cubicBezTo>
                <a:cubicBezTo>
                  <a:pt x="2" y="9"/>
                  <a:pt x="2" y="9"/>
                  <a:pt x="2" y="9"/>
                </a:cubicBezTo>
                <a:cubicBezTo>
                  <a:pt x="1" y="8"/>
                  <a:pt x="0" y="6"/>
                  <a:pt x="0" y="4"/>
                </a:cubicBezTo>
                <a:cubicBezTo>
                  <a:pt x="0" y="2"/>
                  <a:pt x="2" y="0"/>
                  <a:pt x="5" y="0"/>
                </a:cubicBezTo>
                <a:cubicBezTo>
                  <a:pt x="7" y="0"/>
                  <a:pt x="10" y="2"/>
                  <a:pt x="10" y="4"/>
                </a:cubicBezTo>
                <a:cubicBezTo>
                  <a:pt x="10" y="6"/>
                  <a:pt x="9" y="8"/>
                  <a:pt x="7" y="9"/>
                </a:cubicBezTo>
                <a:close/>
                <a:moveTo>
                  <a:pt x="65" y="36"/>
                </a:moveTo>
                <a:cubicBezTo>
                  <a:pt x="65" y="37"/>
                  <a:pt x="65" y="38"/>
                  <a:pt x="63" y="38"/>
                </a:cubicBezTo>
                <a:cubicBezTo>
                  <a:pt x="59" y="41"/>
                  <a:pt x="54" y="43"/>
                  <a:pt x="49" y="43"/>
                </a:cubicBezTo>
                <a:cubicBezTo>
                  <a:pt x="43" y="43"/>
                  <a:pt x="39" y="37"/>
                  <a:pt x="31" y="37"/>
                </a:cubicBezTo>
                <a:cubicBezTo>
                  <a:pt x="25" y="37"/>
                  <a:pt x="19" y="40"/>
                  <a:pt x="13" y="43"/>
                </a:cubicBezTo>
                <a:cubicBezTo>
                  <a:pt x="13" y="43"/>
                  <a:pt x="12" y="43"/>
                  <a:pt x="12" y="43"/>
                </a:cubicBezTo>
                <a:cubicBezTo>
                  <a:pt x="11" y="43"/>
                  <a:pt x="10" y="42"/>
                  <a:pt x="10" y="41"/>
                </a:cubicBezTo>
                <a:cubicBezTo>
                  <a:pt x="10" y="13"/>
                  <a:pt x="10" y="13"/>
                  <a:pt x="10" y="13"/>
                </a:cubicBezTo>
                <a:cubicBezTo>
                  <a:pt x="10" y="12"/>
                  <a:pt x="10" y="11"/>
                  <a:pt x="11" y="11"/>
                </a:cubicBezTo>
                <a:cubicBezTo>
                  <a:pt x="12" y="10"/>
                  <a:pt x="13" y="9"/>
                  <a:pt x="14" y="9"/>
                </a:cubicBezTo>
                <a:cubicBezTo>
                  <a:pt x="19" y="7"/>
                  <a:pt x="24" y="4"/>
                  <a:pt x="30" y="4"/>
                </a:cubicBezTo>
                <a:cubicBezTo>
                  <a:pt x="36" y="4"/>
                  <a:pt x="40" y="6"/>
                  <a:pt x="46" y="9"/>
                </a:cubicBezTo>
                <a:cubicBezTo>
                  <a:pt x="47" y="9"/>
                  <a:pt x="48" y="10"/>
                  <a:pt x="49" y="10"/>
                </a:cubicBezTo>
                <a:cubicBezTo>
                  <a:pt x="55" y="10"/>
                  <a:pt x="61" y="4"/>
                  <a:pt x="63" y="4"/>
                </a:cubicBezTo>
                <a:cubicBezTo>
                  <a:pt x="64" y="4"/>
                  <a:pt x="65" y="6"/>
                  <a:pt x="65" y="7"/>
                </a:cubicBezTo>
                <a:lnTo>
                  <a:pt x="65" y="3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Freeform 66"/>
          <p:cNvSpPr/>
          <p:nvPr/>
        </p:nvSpPr>
        <p:spPr>
          <a:xfrm>
            <a:off x="5667480" y="2147760"/>
            <a:ext cx="257040" cy="225720"/>
          </a:xfrm>
          <a:custGeom>
            <a:avLst/>
            <a:gdLst/>
            <a:ahLst/>
            <a:rect l="l" t="t" r="r" b="b"/>
            <a:pathLst>
              <a:path w="55" h="64">
                <a:moveTo>
                  <a:pt x="55" y="9"/>
                </a:moveTo>
                <a:cubicBezTo>
                  <a:pt x="55" y="14"/>
                  <a:pt x="55" y="14"/>
                  <a:pt x="55" y="14"/>
                </a:cubicBezTo>
                <a:cubicBezTo>
                  <a:pt x="55" y="19"/>
                  <a:pt x="42" y="23"/>
                  <a:pt x="27" y="23"/>
                </a:cubicBezTo>
                <a:cubicBezTo>
                  <a:pt x="12" y="23"/>
                  <a:pt x="0" y="19"/>
                  <a:pt x="0" y="14"/>
                </a:cubicBezTo>
                <a:cubicBezTo>
                  <a:pt x="0" y="9"/>
                  <a:pt x="0" y="9"/>
                  <a:pt x="0" y="9"/>
                </a:cubicBezTo>
                <a:cubicBezTo>
                  <a:pt x="0" y="4"/>
                  <a:pt x="12" y="0"/>
                  <a:pt x="27" y="0"/>
                </a:cubicBezTo>
                <a:cubicBezTo>
                  <a:pt x="42" y="0"/>
                  <a:pt x="55" y="4"/>
                  <a:pt x="55" y="9"/>
                </a:cubicBezTo>
                <a:close/>
                <a:moveTo>
                  <a:pt x="55" y="21"/>
                </a:moveTo>
                <a:cubicBezTo>
                  <a:pt x="55" y="27"/>
                  <a:pt x="55" y="27"/>
                  <a:pt x="55" y="27"/>
                </a:cubicBezTo>
                <a:cubicBezTo>
                  <a:pt x="55" y="32"/>
                  <a:pt x="42" y="37"/>
                  <a:pt x="27" y="37"/>
                </a:cubicBezTo>
                <a:cubicBezTo>
                  <a:pt x="12" y="37"/>
                  <a:pt x="0" y="32"/>
                  <a:pt x="0" y="27"/>
                </a:cubicBezTo>
                <a:cubicBezTo>
                  <a:pt x="0" y="21"/>
                  <a:pt x="0" y="21"/>
                  <a:pt x="0" y="21"/>
                </a:cubicBezTo>
                <a:cubicBezTo>
                  <a:pt x="6" y="25"/>
                  <a:pt x="16" y="27"/>
                  <a:pt x="27" y="27"/>
                </a:cubicBezTo>
                <a:cubicBezTo>
                  <a:pt x="38" y="27"/>
                  <a:pt x="49" y="25"/>
                  <a:pt x="55" y="21"/>
                </a:cubicBezTo>
                <a:close/>
                <a:moveTo>
                  <a:pt x="55" y="35"/>
                </a:moveTo>
                <a:cubicBezTo>
                  <a:pt x="55" y="41"/>
                  <a:pt x="55" y="41"/>
                  <a:pt x="55" y="41"/>
                </a:cubicBezTo>
                <a:cubicBezTo>
                  <a:pt x="55" y="46"/>
                  <a:pt x="42" y="50"/>
                  <a:pt x="27" y="50"/>
                </a:cubicBezTo>
                <a:cubicBezTo>
                  <a:pt x="12" y="50"/>
                  <a:pt x="0" y="46"/>
                  <a:pt x="0" y="41"/>
                </a:cubicBezTo>
                <a:cubicBezTo>
                  <a:pt x="0" y="35"/>
                  <a:pt x="0" y="35"/>
                  <a:pt x="0" y="35"/>
                </a:cubicBezTo>
                <a:cubicBezTo>
                  <a:pt x="6" y="39"/>
                  <a:pt x="16" y="41"/>
                  <a:pt x="27" y="41"/>
                </a:cubicBezTo>
                <a:cubicBezTo>
                  <a:pt x="38" y="41"/>
                  <a:pt x="49" y="39"/>
                  <a:pt x="55" y="35"/>
                </a:cubicBezTo>
                <a:close/>
                <a:moveTo>
                  <a:pt x="55" y="49"/>
                </a:moveTo>
                <a:cubicBezTo>
                  <a:pt x="55" y="55"/>
                  <a:pt x="55" y="55"/>
                  <a:pt x="55" y="55"/>
                </a:cubicBezTo>
                <a:cubicBezTo>
                  <a:pt x="55" y="60"/>
                  <a:pt x="42" y="64"/>
                  <a:pt x="27" y="64"/>
                </a:cubicBezTo>
                <a:cubicBezTo>
                  <a:pt x="12" y="64"/>
                  <a:pt x="0" y="60"/>
                  <a:pt x="0" y="55"/>
                </a:cubicBezTo>
                <a:cubicBezTo>
                  <a:pt x="0" y="49"/>
                  <a:pt x="0" y="49"/>
                  <a:pt x="0" y="49"/>
                </a:cubicBezTo>
                <a:cubicBezTo>
                  <a:pt x="6" y="53"/>
                  <a:pt x="16" y="55"/>
                  <a:pt x="27" y="55"/>
                </a:cubicBezTo>
                <a:cubicBezTo>
                  <a:pt x="38" y="55"/>
                  <a:pt x="49" y="53"/>
                  <a:pt x="55" y="4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Rectangle 34"/>
          <p:cNvSpPr/>
          <p:nvPr/>
        </p:nvSpPr>
        <p:spPr>
          <a:xfrm>
            <a:off x="4600440" y="1413000"/>
            <a:ext cx="200160" cy="563400"/>
          </a:xfrm>
          <a:prstGeom prst="rect">
            <a:avLst/>
          </a:pr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Rectangle 35"/>
          <p:cNvSpPr/>
          <p:nvPr/>
        </p:nvSpPr>
        <p:spPr>
          <a:xfrm>
            <a:off x="4600440" y="1976400"/>
            <a:ext cx="200160" cy="565200"/>
          </a:xfrm>
          <a:prstGeom prst="rect">
            <a:avLst/>
          </a:pr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Rectangle 36"/>
          <p:cNvSpPr/>
          <p:nvPr/>
        </p:nvSpPr>
        <p:spPr>
          <a:xfrm>
            <a:off x="4600440" y="2541600"/>
            <a:ext cx="200160" cy="561960"/>
          </a:xfrm>
          <a:prstGeom prst="rect">
            <a:avLst/>
          </a:pr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Rectangle 37"/>
          <p:cNvSpPr/>
          <p:nvPr/>
        </p:nvSpPr>
        <p:spPr>
          <a:xfrm>
            <a:off x="4600440" y="3103560"/>
            <a:ext cx="200160" cy="565200"/>
          </a:xfrm>
          <a:prstGeom prst="rect">
            <a:avLst/>
          </a:pr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1" name="Rectangle 30"/>
          <p:cNvSpPr/>
          <p:nvPr/>
        </p:nvSpPr>
        <p:spPr>
          <a:xfrm>
            <a:off x="4600440" y="3660840"/>
            <a:ext cx="200160" cy="565200"/>
          </a:xfrm>
          <a:prstGeom prst="rect">
            <a:avLst/>
          </a:pr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2" name="Pentagon 31"/>
          <p:cNvSpPr/>
          <p:nvPr/>
        </p:nvSpPr>
        <p:spPr>
          <a:xfrm>
            <a:off x="2824200" y="3605040"/>
            <a:ext cx="1749240" cy="627120"/>
          </a:xfrm>
          <a:custGeom>
            <a:avLst/>
            <a:gdLst>
              <a:gd name="textAreaLeft" fmla="*/ 0 w 1749240"/>
              <a:gd name="textAreaRight" fmla="*/ 1749600 w 1749240"/>
              <a:gd name="textAreaTop" fmla="*/ 0 h 627120"/>
              <a:gd name="textAreaBottom" fmla="*/ 627480 h 62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727" y="0"/>
                </a:lnTo>
                <a:lnTo>
                  <a:pt x="21600" y="10800"/>
                </a:lnTo>
                <a:lnTo>
                  <a:pt x="1772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Freeform 152"/>
          <p:cNvSpPr/>
          <p:nvPr/>
        </p:nvSpPr>
        <p:spPr>
          <a:xfrm>
            <a:off x="3349800" y="3786120"/>
            <a:ext cx="385560" cy="266760"/>
          </a:xfrm>
          <a:custGeom>
            <a:avLst/>
            <a:gdLst/>
            <a:ahLst/>
            <a:rect l="l" t="t" r="r" b="b"/>
            <a:pathLst>
              <a:path w="67" h="62">
                <a:moveTo>
                  <a:pt x="67" y="20"/>
                </a:moveTo>
                <a:cubicBezTo>
                  <a:pt x="67" y="27"/>
                  <a:pt x="58" y="36"/>
                  <a:pt x="46" y="36"/>
                </a:cubicBezTo>
                <a:cubicBezTo>
                  <a:pt x="44" y="38"/>
                  <a:pt x="42" y="40"/>
                  <a:pt x="42" y="40"/>
                </a:cubicBezTo>
                <a:cubicBezTo>
                  <a:pt x="40" y="42"/>
                  <a:pt x="39" y="44"/>
                  <a:pt x="39" y="47"/>
                </a:cubicBezTo>
                <a:cubicBezTo>
                  <a:pt x="39" y="49"/>
                  <a:pt x="40" y="52"/>
                  <a:pt x="44" y="52"/>
                </a:cubicBezTo>
                <a:cubicBezTo>
                  <a:pt x="48" y="52"/>
                  <a:pt x="52" y="54"/>
                  <a:pt x="52" y="58"/>
                </a:cubicBezTo>
                <a:cubicBezTo>
                  <a:pt x="52" y="61"/>
                  <a:pt x="52" y="61"/>
                  <a:pt x="52" y="61"/>
                </a:cubicBezTo>
                <a:cubicBezTo>
                  <a:pt x="52" y="62"/>
                  <a:pt x="51" y="62"/>
                  <a:pt x="51" y="62"/>
                </a:cubicBezTo>
                <a:cubicBezTo>
                  <a:pt x="17" y="62"/>
                  <a:pt x="17" y="62"/>
                  <a:pt x="17" y="62"/>
                </a:cubicBezTo>
                <a:cubicBezTo>
                  <a:pt x="16" y="62"/>
                  <a:pt x="16" y="62"/>
                  <a:pt x="16" y="61"/>
                </a:cubicBezTo>
                <a:cubicBezTo>
                  <a:pt x="16" y="58"/>
                  <a:pt x="16" y="58"/>
                  <a:pt x="16" y="58"/>
                </a:cubicBezTo>
                <a:cubicBezTo>
                  <a:pt x="16" y="54"/>
                  <a:pt x="20" y="52"/>
                  <a:pt x="24" y="52"/>
                </a:cubicBezTo>
                <a:cubicBezTo>
                  <a:pt x="27" y="52"/>
                  <a:pt x="29" y="49"/>
                  <a:pt x="29" y="47"/>
                </a:cubicBezTo>
                <a:cubicBezTo>
                  <a:pt x="29" y="44"/>
                  <a:pt x="28" y="42"/>
                  <a:pt x="26" y="40"/>
                </a:cubicBezTo>
                <a:cubicBezTo>
                  <a:pt x="25" y="40"/>
                  <a:pt x="24" y="38"/>
                  <a:pt x="22" y="36"/>
                </a:cubicBezTo>
                <a:cubicBezTo>
                  <a:pt x="10" y="36"/>
                  <a:pt x="0" y="27"/>
                  <a:pt x="0" y="20"/>
                </a:cubicBezTo>
                <a:cubicBezTo>
                  <a:pt x="0" y="15"/>
                  <a:pt x="0" y="15"/>
                  <a:pt x="0" y="15"/>
                </a:cubicBezTo>
                <a:cubicBezTo>
                  <a:pt x="0" y="12"/>
                  <a:pt x="2" y="11"/>
                  <a:pt x="4" y="11"/>
                </a:cubicBezTo>
                <a:cubicBezTo>
                  <a:pt x="16" y="11"/>
                  <a:pt x="16" y="11"/>
                  <a:pt x="16" y="11"/>
                </a:cubicBezTo>
                <a:cubicBezTo>
                  <a:pt x="16" y="7"/>
                  <a:pt x="16" y="7"/>
                  <a:pt x="16" y="7"/>
                </a:cubicBezTo>
                <a:cubicBezTo>
                  <a:pt x="16" y="3"/>
                  <a:pt x="19" y="0"/>
                  <a:pt x="22" y="0"/>
                </a:cubicBezTo>
                <a:cubicBezTo>
                  <a:pt x="45" y="0"/>
                  <a:pt x="45" y="0"/>
                  <a:pt x="45" y="0"/>
                </a:cubicBezTo>
                <a:cubicBezTo>
                  <a:pt x="49" y="0"/>
                  <a:pt x="52" y="3"/>
                  <a:pt x="52" y="7"/>
                </a:cubicBezTo>
                <a:cubicBezTo>
                  <a:pt x="52" y="11"/>
                  <a:pt x="52" y="11"/>
                  <a:pt x="52" y="11"/>
                </a:cubicBezTo>
                <a:cubicBezTo>
                  <a:pt x="63" y="11"/>
                  <a:pt x="63" y="11"/>
                  <a:pt x="63" y="11"/>
                </a:cubicBezTo>
                <a:cubicBezTo>
                  <a:pt x="66" y="11"/>
                  <a:pt x="67" y="12"/>
                  <a:pt x="67" y="15"/>
                </a:cubicBezTo>
                <a:lnTo>
                  <a:pt x="67" y="20"/>
                </a:lnTo>
                <a:close/>
                <a:moveTo>
                  <a:pt x="16" y="16"/>
                </a:moveTo>
                <a:cubicBezTo>
                  <a:pt x="6" y="16"/>
                  <a:pt x="6" y="16"/>
                  <a:pt x="6" y="16"/>
                </a:cubicBezTo>
                <a:cubicBezTo>
                  <a:pt x="6" y="20"/>
                  <a:pt x="6" y="20"/>
                  <a:pt x="6" y="20"/>
                </a:cubicBezTo>
                <a:cubicBezTo>
                  <a:pt x="6" y="24"/>
                  <a:pt x="11" y="29"/>
                  <a:pt x="19" y="31"/>
                </a:cubicBezTo>
                <a:cubicBezTo>
                  <a:pt x="17" y="27"/>
                  <a:pt x="16" y="22"/>
                  <a:pt x="16" y="16"/>
                </a:cubicBezTo>
                <a:close/>
                <a:moveTo>
                  <a:pt x="62" y="16"/>
                </a:moveTo>
                <a:cubicBezTo>
                  <a:pt x="52" y="16"/>
                  <a:pt x="52" y="16"/>
                  <a:pt x="52" y="16"/>
                </a:cubicBezTo>
                <a:cubicBezTo>
                  <a:pt x="52" y="22"/>
                  <a:pt x="51" y="27"/>
                  <a:pt x="49" y="31"/>
                </a:cubicBezTo>
                <a:cubicBezTo>
                  <a:pt x="57" y="29"/>
                  <a:pt x="62" y="24"/>
                  <a:pt x="62" y="20"/>
                </a:cubicBezTo>
                <a:lnTo>
                  <a:pt x="62" y="1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TextBox 13"/>
          <p:cNvSpPr/>
          <p:nvPr/>
        </p:nvSpPr>
        <p:spPr>
          <a:xfrm>
            <a:off x="898560" y="1479600"/>
            <a:ext cx="1754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5" name="TextBox 13"/>
          <p:cNvSpPr/>
          <p:nvPr/>
        </p:nvSpPr>
        <p:spPr>
          <a:xfrm>
            <a:off x="901800" y="1639800"/>
            <a:ext cx="1751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TextBox 13"/>
          <p:cNvSpPr/>
          <p:nvPr/>
        </p:nvSpPr>
        <p:spPr>
          <a:xfrm>
            <a:off x="841320" y="2637000"/>
            <a:ext cx="1754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TextBox 13"/>
          <p:cNvSpPr/>
          <p:nvPr/>
        </p:nvSpPr>
        <p:spPr>
          <a:xfrm>
            <a:off x="844560" y="2797200"/>
            <a:ext cx="1751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8" name="TextBox 13"/>
          <p:cNvSpPr/>
          <p:nvPr/>
        </p:nvSpPr>
        <p:spPr>
          <a:xfrm>
            <a:off x="901800" y="3735360"/>
            <a:ext cx="1753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9" name="TextBox 13"/>
          <p:cNvSpPr/>
          <p:nvPr/>
        </p:nvSpPr>
        <p:spPr>
          <a:xfrm>
            <a:off x="905040" y="3895560"/>
            <a:ext cx="1750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TextBox 13"/>
          <p:cNvSpPr/>
          <p:nvPr/>
        </p:nvSpPr>
        <p:spPr>
          <a:xfrm>
            <a:off x="6750000" y="2058840"/>
            <a:ext cx="1752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TextBox 13"/>
          <p:cNvSpPr/>
          <p:nvPr/>
        </p:nvSpPr>
        <p:spPr>
          <a:xfrm>
            <a:off x="6753240" y="2220840"/>
            <a:ext cx="1749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TextBox 13"/>
          <p:cNvSpPr/>
          <p:nvPr/>
        </p:nvSpPr>
        <p:spPr>
          <a:xfrm>
            <a:off x="6692760" y="3216240"/>
            <a:ext cx="1752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TextBox 13"/>
          <p:cNvSpPr/>
          <p:nvPr/>
        </p:nvSpPr>
        <p:spPr>
          <a:xfrm>
            <a:off x="6696000" y="3378240"/>
            <a:ext cx="1749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4" name="图片 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915" name="六边形 8"/>
          <p:cNvSpPr/>
          <p:nvPr/>
        </p:nvSpPr>
        <p:spPr>
          <a:xfrm>
            <a:off x="3181320" y="1116000"/>
            <a:ext cx="2779920" cy="179712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ffffff">
              <a:alpha val="4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6" name="图片 10" descr=""/>
          <p:cNvPicPr/>
          <p:nvPr/>
        </p:nvPicPr>
        <p:blipFill>
          <a:blip r:embed="rId2"/>
          <a:stretch/>
        </p:blipFill>
        <p:spPr>
          <a:xfrm>
            <a:off x="3705120" y="1731960"/>
            <a:ext cx="1731960" cy="566640"/>
          </a:xfrm>
          <a:prstGeom prst="rect">
            <a:avLst/>
          </a:prstGeom>
          <a:ln w="0">
            <a:noFill/>
          </a:ln>
        </p:spPr>
      </p:pic>
      <p:sp>
        <p:nvSpPr>
          <p:cNvPr id="917" name="六边形 11"/>
          <p:cNvSpPr/>
          <p:nvPr/>
        </p:nvSpPr>
        <p:spPr>
          <a:xfrm>
            <a:off x="3300480" y="1192320"/>
            <a:ext cx="2543040" cy="1644480"/>
          </a:xfrm>
          <a:prstGeom prst="hexagon">
            <a:avLst>
              <a:gd name="adj" fmla="val 24993"/>
              <a:gd name="vf" fmla="val 115470"/>
            </a:avLst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直接连接符 13"/>
          <p:cNvSpPr/>
          <p:nvPr/>
        </p:nvSpPr>
        <p:spPr>
          <a:xfrm>
            <a:off x="1189080" y="3214800"/>
            <a:ext cx="6651720" cy="0"/>
          </a:xfrm>
          <a:prstGeom prst="line">
            <a:avLst/>
          </a:prstGeom>
          <a:ln w="5724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文本框 14"/>
          <p:cNvSpPr/>
          <p:nvPr/>
        </p:nvSpPr>
        <p:spPr>
          <a:xfrm>
            <a:off x="1311120" y="3308400"/>
            <a:ext cx="65296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Impact"/>
                <a:ea typeface="方正正中黑简体"/>
              </a:rPr>
              <a:t>THANK YOU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0" name="图片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511" name="圆角矩形 6"/>
          <p:cNvSpPr/>
          <p:nvPr/>
        </p:nvSpPr>
        <p:spPr>
          <a:xfrm>
            <a:off x="2882880" y="1932120"/>
            <a:ext cx="3376800" cy="1280880"/>
          </a:xfrm>
          <a:prstGeom prst="roundRect">
            <a:avLst>
              <a:gd name="adj" fmla="val 16667"/>
            </a:avLst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直接连接符 8"/>
          <p:cNvSpPr/>
          <p:nvPr/>
        </p:nvSpPr>
        <p:spPr>
          <a:xfrm>
            <a:off x="363600" y="2571840"/>
            <a:ext cx="2519280" cy="0"/>
          </a:xfrm>
          <a:prstGeom prst="line">
            <a:avLst/>
          </a:prstGeom>
          <a:ln w="57240">
            <a:solidFill>
              <a:srgbClr val="ffffff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直接连接符 12"/>
          <p:cNvSpPr/>
          <p:nvPr/>
        </p:nvSpPr>
        <p:spPr>
          <a:xfrm>
            <a:off x="6259680" y="2571840"/>
            <a:ext cx="251928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4" name="图片 14" descr=""/>
          <p:cNvPicPr/>
          <p:nvPr/>
        </p:nvPicPr>
        <p:blipFill>
          <a:blip r:embed="rId2"/>
          <a:stretch/>
        </p:blipFill>
        <p:spPr>
          <a:xfrm>
            <a:off x="3444840" y="2298600"/>
            <a:ext cx="2254320" cy="544680"/>
          </a:xfrm>
          <a:prstGeom prst="rect">
            <a:avLst/>
          </a:prstGeom>
          <a:ln w="0">
            <a:noFill/>
          </a:ln>
        </p:spPr>
      </p:pic>
      <p:sp>
        <p:nvSpPr>
          <p:cNvPr id="515" name="文本框 15"/>
          <p:cNvSpPr/>
          <p:nvPr/>
        </p:nvSpPr>
        <p:spPr>
          <a:xfrm>
            <a:off x="3444840" y="3333600"/>
            <a:ext cx="228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TextBox 13"/>
          <p:cNvSpPr/>
          <p:nvPr/>
        </p:nvSpPr>
        <p:spPr>
          <a:xfrm>
            <a:off x="2657520" y="3670200"/>
            <a:ext cx="4027320" cy="6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您可以在此处添加关于本章节的简要介绍，模板所有素材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均可自由编辑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7" name="图片 19" descr=""/>
          <p:cNvPicPr/>
          <p:nvPr/>
        </p:nvPicPr>
        <p:blipFill>
          <a:blip r:embed="rId1"/>
          <a:stretch/>
        </p:blipFill>
        <p:spPr>
          <a:xfrm>
            <a:off x="0" y="141120"/>
            <a:ext cx="9144000" cy="233640"/>
          </a:xfrm>
          <a:prstGeom prst="rect">
            <a:avLst/>
          </a:prstGeom>
          <a:ln w="0">
            <a:noFill/>
          </a:ln>
        </p:spPr>
      </p:pic>
      <p:sp>
        <p:nvSpPr>
          <p:cNvPr id="518" name="文本框 20"/>
          <p:cNvSpPr/>
          <p:nvPr/>
        </p:nvSpPr>
        <p:spPr>
          <a:xfrm>
            <a:off x="3216240" y="108000"/>
            <a:ext cx="2711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ADD YOUR TITLE H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空心弧 3"/>
          <p:cNvSpPr/>
          <p:nvPr/>
        </p:nvSpPr>
        <p:spPr>
          <a:xfrm rot="16921200">
            <a:off x="3545280" y="1323360"/>
            <a:ext cx="2090880" cy="2752560"/>
          </a:xfrm>
          <a:custGeom>
            <a:avLst/>
            <a:gdLst/>
            <a:ahLst/>
            <a:rect l="l" t="t" r="r" b="b"/>
            <a:pathLst>
              <a:path w="2788528" h="2753783">
                <a:moveTo>
                  <a:pt x="1102337" y="30519"/>
                </a:moveTo>
                <a:cubicBezTo>
                  <a:pt x="1851532" y="-127902"/>
                  <a:pt x="2589801" y="340355"/>
                  <a:pt x="2755523" y="1079075"/>
                </a:cubicBezTo>
                <a:lnTo>
                  <a:pt x="2083454" y="1226110"/>
                </a:lnTo>
                <a:cubicBezTo>
                  <a:pt x="1998817" y="858048"/>
                  <a:pt x="1626466" y="624810"/>
                  <a:pt x="1248117" y="702860"/>
                </a:cubicBezTo>
                <a:lnTo>
                  <a:pt x="1102337" y="30519"/>
                </a:lnTo>
                <a:close/>
              </a:path>
            </a:pathLst>
          </a:cu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空心弧 4"/>
          <p:cNvSpPr/>
          <p:nvPr/>
        </p:nvSpPr>
        <p:spPr>
          <a:xfrm rot="10221000">
            <a:off x="3214440" y="1674720"/>
            <a:ext cx="2789280" cy="2067120"/>
          </a:xfrm>
          <a:custGeom>
            <a:avLst/>
            <a:gdLst/>
            <a:ahLst/>
            <a:rect l="l" t="t" r="r" b="b"/>
            <a:pathLst>
              <a:path w="2789647" h="2754576">
                <a:moveTo>
                  <a:pt x="1634554" y="20495"/>
                </a:moveTo>
                <a:cubicBezTo>
                  <a:pt x="2388389" y="150361"/>
                  <a:pt x="2895510" y="855687"/>
                  <a:pt x="2771086" y="1601233"/>
                </a:cubicBezTo>
                <a:lnTo>
                  <a:pt x="2097653" y="1491652"/>
                </a:lnTo>
                <a:cubicBezTo>
                  <a:pt x="2162163" y="1114477"/>
                  <a:pt x="1902179" y="757321"/>
                  <a:pt x="1515839" y="692378"/>
                </a:cubicBezTo>
                <a:lnTo>
                  <a:pt x="1634554" y="20495"/>
                </a:lnTo>
                <a:close/>
              </a:path>
            </a:pathLst>
          </a:cu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空心弧 5"/>
          <p:cNvSpPr/>
          <p:nvPr/>
        </p:nvSpPr>
        <p:spPr>
          <a:xfrm rot="850800">
            <a:off x="3185640" y="1655640"/>
            <a:ext cx="2787840" cy="2067120"/>
          </a:xfrm>
          <a:custGeom>
            <a:avLst/>
            <a:gdLst/>
            <a:ahLst/>
            <a:rect l="l" t="t" r="r" b="b"/>
            <a:pathLst>
              <a:path w="2788529" h="2753782">
                <a:moveTo>
                  <a:pt x="1062871" y="39458"/>
                </a:moveTo>
                <a:cubicBezTo>
                  <a:pt x="1422483" y="-47441"/>
                  <a:pt x="1802327" y="10470"/>
                  <a:pt x="2118658" y="200422"/>
                </a:cubicBezTo>
                <a:cubicBezTo>
                  <a:pt x="2439675" y="393188"/>
                  <a:pt x="2668330" y="705737"/>
                  <a:pt x="2752818" y="1067257"/>
                </a:cubicBezTo>
                <a:lnTo>
                  <a:pt x="2084523" y="1219571"/>
                </a:lnTo>
                <a:cubicBezTo>
                  <a:pt x="2040913" y="1037492"/>
                  <a:pt x="1923570" y="880402"/>
                  <a:pt x="1759252" y="784124"/>
                </a:cubicBezTo>
                <a:cubicBezTo>
                  <a:pt x="1599636" y="690602"/>
                  <a:pt x="1408708" y="662097"/>
                  <a:pt x="1227725" y="704771"/>
                </a:cubicBezTo>
                <a:lnTo>
                  <a:pt x="1062871" y="39458"/>
                </a:lnTo>
                <a:close/>
              </a:path>
            </a:pathLst>
          </a:cu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空心弧 6"/>
          <p:cNvSpPr/>
          <p:nvPr/>
        </p:nvSpPr>
        <p:spPr>
          <a:xfrm rot="4608000">
            <a:off x="3545280" y="1323000"/>
            <a:ext cx="2090880" cy="2752560"/>
          </a:xfrm>
          <a:custGeom>
            <a:avLst/>
            <a:gdLst/>
            <a:ahLst/>
            <a:rect l="l" t="t" r="r" b="b"/>
            <a:pathLst>
              <a:path w="2788528" h="2753783">
                <a:moveTo>
                  <a:pt x="1717484" y="37509"/>
                </a:moveTo>
                <a:cubicBezTo>
                  <a:pt x="2463405" y="213057"/>
                  <a:pt x="2925780" y="950499"/>
                  <a:pt x="2752436" y="1688152"/>
                </a:cubicBezTo>
                <a:lnTo>
                  <a:pt x="2078794" y="1533769"/>
                </a:lnTo>
                <a:cubicBezTo>
                  <a:pt x="2167607" y="1165147"/>
                  <a:pt x="1933288" y="796080"/>
                  <a:pt x="1555360" y="709330"/>
                </a:cubicBezTo>
                <a:lnTo>
                  <a:pt x="1717484" y="37509"/>
                </a:lnTo>
                <a:close/>
              </a:path>
            </a:pathLst>
          </a:cu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Freeform 34"/>
          <p:cNvSpPr/>
          <p:nvPr/>
        </p:nvSpPr>
        <p:spPr>
          <a:xfrm>
            <a:off x="3656160" y="2108160"/>
            <a:ext cx="363240" cy="239760"/>
          </a:xfrm>
          <a:custGeom>
            <a:avLst/>
            <a:gdLst/>
            <a:ahLst/>
            <a:rect l="l" t="t" r="r" b="b"/>
            <a:pathLst>
              <a:path w="136" h="120">
                <a:moveTo>
                  <a:pt x="136" y="48"/>
                </a:moveTo>
                <a:cubicBezTo>
                  <a:pt x="136" y="22"/>
                  <a:pt x="106" y="0"/>
                  <a:pt x="68" y="0"/>
                </a:cubicBezTo>
                <a:cubicBezTo>
                  <a:pt x="31" y="0"/>
                  <a:pt x="0" y="22"/>
                  <a:pt x="0" y="48"/>
                </a:cubicBezTo>
                <a:cubicBezTo>
                  <a:pt x="0" y="67"/>
                  <a:pt x="15" y="83"/>
                  <a:pt x="37" y="91"/>
                </a:cubicBezTo>
                <a:cubicBezTo>
                  <a:pt x="38" y="96"/>
                  <a:pt x="37" y="106"/>
                  <a:pt x="22" y="120"/>
                </a:cubicBezTo>
                <a:cubicBezTo>
                  <a:pt x="22" y="120"/>
                  <a:pt x="54" y="111"/>
                  <a:pt x="73" y="96"/>
                </a:cubicBezTo>
                <a:cubicBezTo>
                  <a:pt x="108" y="94"/>
                  <a:pt x="136" y="73"/>
                  <a:pt x="136" y="4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Freeform 64"/>
          <p:cNvSpPr/>
          <p:nvPr/>
        </p:nvSpPr>
        <p:spPr>
          <a:xfrm>
            <a:off x="3701880" y="3171960"/>
            <a:ext cx="327240" cy="234720"/>
          </a:xfrm>
          <a:custGeom>
            <a:avLst/>
            <a:gdLst/>
            <a:ahLst/>
            <a:rect l="l" t="t" r="r" b="b"/>
            <a:pathLst>
              <a:path w="133" h="127">
                <a:moveTo>
                  <a:pt x="125" y="0"/>
                </a:moveTo>
                <a:cubicBezTo>
                  <a:pt x="9" y="0"/>
                  <a:pt x="9" y="0"/>
                  <a:pt x="9" y="0"/>
                </a:cubicBezTo>
                <a:cubicBezTo>
                  <a:pt x="4" y="0"/>
                  <a:pt x="0" y="4"/>
                  <a:pt x="0" y="9"/>
                </a:cubicBezTo>
                <a:cubicBezTo>
                  <a:pt x="0" y="91"/>
                  <a:pt x="0" y="91"/>
                  <a:pt x="0" y="91"/>
                </a:cubicBezTo>
                <a:cubicBezTo>
                  <a:pt x="0" y="96"/>
                  <a:pt x="4" y="100"/>
                  <a:pt x="9" y="100"/>
                </a:cubicBezTo>
                <a:cubicBezTo>
                  <a:pt x="53" y="100"/>
                  <a:pt x="53" y="100"/>
                  <a:pt x="53" y="100"/>
                </a:cubicBezTo>
                <a:cubicBezTo>
                  <a:pt x="53" y="100"/>
                  <a:pt x="55" y="118"/>
                  <a:pt x="40" y="118"/>
                </a:cubicBezTo>
                <a:cubicBezTo>
                  <a:pt x="40" y="127"/>
                  <a:pt x="40" y="127"/>
                  <a:pt x="40" y="127"/>
                </a:cubicBezTo>
                <a:cubicBezTo>
                  <a:pt x="53" y="127"/>
                  <a:pt x="53" y="127"/>
                  <a:pt x="53" y="127"/>
                </a:cubicBezTo>
                <a:cubicBezTo>
                  <a:pt x="80" y="127"/>
                  <a:pt x="80" y="127"/>
                  <a:pt x="80" y="127"/>
                </a:cubicBezTo>
                <a:cubicBezTo>
                  <a:pt x="94" y="127"/>
                  <a:pt x="94" y="127"/>
                  <a:pt x="94" y="127"/>
                </a:cubicBezTo>
                <a:cubicBezTo>
                  <a:pt x="94" y="118"/>
                  <a:pt x="94" y="118"/>
                  <a:pt x="94" y="118"/>
                </a:cubicBezTo>
                <a:cubicBezTo>
                  <a:pt x="78" y="118"/>
                  <a:pt x="80" y="100"/>
                  <a:pt x="80" y="100"/>
                </a:cubicBezTo>
                <a:cubicBezTo>
                  <a:pt x="125" y="100"/>
                  <a:pt x="125" y="100"/>
                  <a:pt x="125" y="100"/>
                </a:cubicBezTo>
                <a:cubicBezTo>
                  <a:pt x="129" y="100"/>
                  <a:pt x="133" y="96"/>
                  <a:pt x="133" y="91"/>
                </a:cubicBezTo>
                <a:cubicBezTo>
                  <a:pt x="133" y="9"/>
                  <a:pt x="133" y="9"/>
                  <a:pt x="133" y="9"/>
                </a:cubicBezTo>
                <a:cubicBezTo>
                  <a:pt x="133" y="4"/>
                  <a:pt x="129" y="0"/>
                  <a:pt x="125" y="0"/>
                </a:cubicBezTo>
                <a:close/>
                <a:moveTo>
                  <a:pt x="60" y="89"/>
                </a:moveTo>
                <a:cubicBezTo>
                  <a:pt x="60" y="85"/>
                  <a:pt x="63" y="82"/>
                  <a:pt x="67" y="82"/>
                </a:cubicBezTo>
                <a:cubicBezTo>
                  <a:pt x="72" y="82"/>
                  <a:pt x="75" y="85"/>
                  <a:pt x="75" y="89"/>
                </a:cubicBezTo>
                <a:cubicBezTo>
                  <a:pt x="75" y="94"/>
                  <a:pt x="72" y="97"/>
                  <a:pt x="67" y="97"/>
                </a:cubicBezTo>
                <a:cubicBezTo>
                  <a:pt x="63" y="97"/>
                  <a:pt x="60" y="94"/>
                  <a:pt x="60" y="89"/>
                </a:cubicBezTo>
                <a:close/>
                <a:moveTo>
                  <a:pt x="124" y="79"/>
                </a:moveTo>
                <a:cubicBezTo>
                  <a:pt x="10" y="79"/>
                  <a:pt x="10" y="79"/>
                  <a:pt x="10" y="79"/>
                </a:cubicBezTo>
                <a:cubicBezTo>
                  <a:pt x="10" y="10"/>
                  <a:pt x="10" y="10"/>
                  <a:pt x="10" y="10"/>
                </a:cubicBezTo>
                <a:cubicBezTo>
                  <a:pt x="124" y="10"/>
                  <a:pt x="124" y="10"/>
                  <a:pt x="124" y="10"/>
                </a:cubicBezTo>
                <a:lnTo>
                  <a:pt x="124" y="7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Freeform 110"/>
          <p:cNvSpPr/>
          <p:nvPr/>
        </p:nvSpPr>
        <p:spPr>
          <a:xfrm>
            <a:off x="5354640" y="3233880"/>
            <a:ext cx="81000" cy="60120"/>
          </a:xfrm>
          <a:custGeom>
            <a:avLst/>
            <a:gdLst/>
            <a:ahLst/>
            <a:rect l="l" t="t" r="r" b="b"/>
            <a:pathLst>
              <a:path w="41" h="41">
                <a:moveTo>
                  <a:pt x="0" y="39"/>
                </a:moveTo>
                <a:lnTo>
                  <a:pt x="3" y="41"/>
                </a:lnTo>
                <a:lnTo>
                  <a:pt x="41" y="3"/>
                </a:lnTo>
                <a:lnTo>
                  <a:pt x="39" y="0"/>
                </a:lnTo>
                <a:lnTo>
                  <a:pt x="0" y="3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Freeform 111"/>
          <p:cNvSpPr/>
          <p:nvPr/>
        </p:nvSpPr>
        <p:spPr>
          <a:xfrm>
            <a:off x="5335560" y="3218040"/>
            <a:ext cx="88920" cy="68040"/>
          </a:xfrm>
          <a:custGeom>
            <a:avLst/>
            <a:gdLst/>
            <a:ahLst/>
            <a:rect l="l" t="t" r="r" b="b"/>
            <a:pathLst>
              <a:path w="44" h="46">
                <a:moveTo>
                  <a:pt x="37" y="0"/>
                </a:moveTo>
                <a:lnTo>
                  <a:pt x="0" y="39"/>
                </a:lnTo>
                <a:lnTo>
                  <a:pt x="6" y="46"/>
                </a:lnTo>
                <a:lnTo>
                  <a:pt x="44" y="8"/>
                </a:lnTo>
                <a:lnTo>
                  <a:pt x="37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Freeform 112"/>
          <p:cNvSpPr/>
          <p:nvPr/>
        </p:nvSpPr>
        <p:spPr>
          <a:xfrm>
            <a:off x="5319720" y="3208320"/>
            <a:ext cx="84240" cy="61920"/>
          </a:xfrm>
          <a:custGeom>
            <a:avLst/>
            <a:gdLst/>
            <a:ahLst/>
            <a:rect l="l" t="t" r="r" b="b"/>
            <a:pathLst>
              <a:path w="42" h="42">
                <a:moveTo>
                  <a:pt x="0" y="38"/>
                </a:moveTo>
                <a:lnTo>
                  <a:pt x="4" y="42"/>
                </a:lnTo>
                <a:lnTo>
                  <a:pt x="42" y="4"/>
                </a:lnTo>
                <a:lnTo>
                  <a:pt x="38" y="0"/>
                </a:lnTo>
                <a:lnTo>
                  <a:pt x="0" y="3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Freeform 113"/>
          <p:cNvSpPr/>
          <p:nvPr/>
        </p:nvSpPr>
        <p:spPr>
          <a:xfrm>
            <a:off x="5297400" y="3270240"/>
            <a:ext cx="57240" cy="41400"/>
          </a:xfrm>
          <a:custGeom>
            <a:avLst/>
            <a:gdLst/>
            <a:ahLst/>
            <a:rect l="l" t="t" r="r" b="b"/>
            <a:pathLst>
              <a:path w="28" h="28">
                <a:moveTo>
                  <a:pt x="28" y="20"/>
                </a:moveTo>
                <a:lnTo>
                  <a:pt x="8" y="0"/>
                </a:lnTo>
                <a:lnTo>
                  <a:pt x="0" y="20"/>
                </a:lnTo>
                <a:lnTo>
                  <a:pt x="9" y="28"/>
                </a:lnTo>
                <a:lnTo>
                  <a:pt x="28" y="2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Freeform 114"/>
          <p:cNvSpPr/>
          <p:nvPr/>
        </p:nvSpPr>
        <p:spPr>
          <a:xfrm>
            <a:off x="5283360" y="3303720"/>
            <a:ext cx="28440" cy="19080"/>
          </a:xfrm>
          <a:custGeom>
            <a:avLst/>
            <a:gdLst/>
            <a:ahLst/>
            <a:rect l="l" t="t" r="r" b="b"/>
            <a:pathLst>
              <a:path w="14" h="13">
                <a:moveTo>
                  <a:pt x="0" y="13"/>
                </a:moveTo>
                <a:lnTo>
                  <a:pt x="14" y="6"/>
                </a:lnTo>
                <a:lnTo>
                  <a:pt x="6" y="0"/>
                </a:lnTo>
                <a:lnTo>
                  <a:pt x="0" y="1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Freeform 115"/>
          <p:cNvSpPr/>
          <p:nvPr/>
        </p:nvSpPr>
        <p:spPr>
          <a:xfrm>
            <a:off x="5402160" y="3192480"/>
            <a:ext cx="55800" cy="42840"/>
          </a:xfrm>
          <a:custGeom>
            <a:avLst/>
            <a:gdLst/>
            <a:ahLst/>
            <a:rect l="l" t="t" r="r" b="b"/>
            <a:pathLst>
              <a:path w="28" h="28">
                <a:moveTo>
                  <a:pt x="7" y="0"/>
                </a:moveTo>
                <a:lnTo>
                  <a:pt x="0" y="8"/>
                </a:lnTo>
                <a:lnTo>
                  <a:pt x="20" y="28"/>
                </a:lnTo>
                <a:lnTo>
                  <a:pt x="28" y="20"/>
                </a:lnTo>
                <a:lnTo>
                  <a:pt x="7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Freeform 116"/>
          <p:cNvSpPr/>
          <p:nvPr/>
        </p:nvSpPr>
        <p:spPr>
          <a:xfrm>
            <a:off x="5145120" y="3171960"/>
            <a:ext cx="225360" cy="204480"/>
          </a:xfrm>
          <a:custGeom>
            <a:avLst/>
            <a:gdLst/>
            <a:ahLst/>
            <a:rect l="l" t="t" r="r" b="b"/>
            <a:pathLst>
              <a:path w="112" h="136">
                <a:moveTo>
                  <a:pt x="104" y="101"/>
                </a:moveTo>
                <a:lnTo>
                  <a:pt x="83" y="101"/>
                </a:lnTo>
                <a:lnTo>
                  <a:pt x="83" y="129"/>
                </a:lnTo>
                <a:lnTo>
                  <a:pt x="7" y="129"/>
                </a:lnTo>
                <a:lnTo>
                  <a:pt x="7" y="32"/>
                </a:lnTo>
                <a:lnTo>
                  <a:pt x="104" y="32"/>
                </a:lnTo>
                <a:lnTo>
                  <a:pt x="104" y="40"/>
                </a:lnTo>
                <a:lnTo>
                  <a:pt x="112" y="32"/>
                </a:lnTo>
                <a:lnTo>
                  <a:pt x="112" y="6"/>
                </a:lnTo>
                <a:lnTo>
                  <a:pt x="97" y="6"/>
                </a:lnTo>
                <a:lnTo>
                  <a:pt x="97" y="20"/>
                </a:lnTo>
                <a:lnTo>
                  <a:pt x="95" y="20"/>
                </a:lnTo>
                <a:lnTo>
                  <a:pt x="95" y="0"/>
                </a:lnTo>
                <a:lnTo>
                  <a:pt x="89" y="0"/>
                </a:lnTo>
                <a:lnTo>
                  <a:pt x="89" y="20"/>
                </a:lnTo>
                <a:lnTo>
                  <a:pt x="87" y="20"/>
                </a:lnTo>
                <a:lnTo>
                  <a:pt x="87" y="6"/>
                </a:lnTo>
                <a:lnTo>
                  <a:pt x="79" y="6"/>
                </a:lnTo>
                <a:lnTo>
                  <a:pt x="79" y="20"/>
                </a:lnTo>
                <a:lnTo>
                  <a:pt x="76" y="20"/>
                </a:lnTo>
                <a:lnTo>
                  <a:pt x="76" y="0"/>
                </a:lnTo>
                <a:lnTo>
                  <a:pt x="72" y="0"/>
                </a:lnTo>
                <a:lnTo>
                  <a:pt x="72" y="20"/>
                </a:lnTo>
                <a:lnTo>
                  <a:pt x="68" y="20"/>
                </a:lnTo>
                <a:lnTo>
                  <a:pt x="68" y="6"/>
                </a:lnTo>
                <a:lnTo>
                  <a:pt x="60" y="6"/>
                </a:lnTo>
                <a:lnTo>
                  <a:pt x="60" y="20"/>
                </a:lnTo>
                <a:lnTo>
                  <a:pt x="57" y="20"/>
                </a:lnTo>
                <a:lnTo>
                  <a:pt x="57" y="0"/>
                </a:lnTo>
                <a:lnTo>
                  <a:pt x="53" y="0"/>
                </a:lnTo>
                <a:lnTo>
                  <a:pt x="53" y="20"/>
                </a:lnTo>
                <a:lnTo>
                  <a:pt x="51" y="20"/>
                </a:lnTo>
                <a:lnTo>
                  <a:pt x="51" y="6"/>
                </a:lnTo>
                <a:lnTo>
                  <a:pt x="43" y="6"/>
                </a:lnTo>
                <a:lnTo>
                  <a:pt x="43" y="20"/>
                </a:lnTo>
                <a:lnTo>
                  <a:pt x="40" y="20"/>
                </a:lnTo>
                <a:lnTo>
                  <a:pt x="40" y="0"/>
                </a:lnTo>
                <a:lnTo>
                  <a:pt x="35" y="0"/>
                </a:lnTo>
                <a:lnTo>
                  <a:pt x="35" y="20"/>
                </a:lnTo>
                <a:lnTo>
                  <a:pt x="32" y="20"/>
                </a:lnTo>
                <a:lnTo>
                  <a:pt x="32" y="6"/>
                </a:lnTo>
                <a:lnTo>
                  <a:pt x="25" y="6"/>
                </a:lnTo>
                <a:lnTo>
                  <a:pt x="25" y="20"/>
                </a:lnTo>
                <a:lnTo>
                  <a:pt x="23" y="20"/>
                </a:lnTo>
                <a:lnTo>
                  <a:pt x="23" y="0"/>
                </a:lnTo>
                <a:lnTo>
                  <a:pt x="17" y="0"/>
                </a:lnTo>
                <a:lnTo>
                  <a:pt x="17" y="20"/>
                </a:lnTo>
                <a:lnTo>
                  <a:pt x="15" y="20"/>
                </a:lnTo>
                <a:lnTo>
                  <a:pt x="15" y="6"/>
                </a:lnTo>
                <a:lnTo>
                  <a:pt x="0" y="6"/>
                </a:lnTo>
                <a:lnTo>
                  <a:pt x="0" y="24"/>
                </a:lnTo>
                <a:lnTo>
                  <a:pt x="0" y="28"/>
                </a:lnTo>
                <a:lnTo>
                  <a:pt x="0" y="136"/>
                </a:lnTo>
                <a:lnTo>
                  <a:pt x="89" y="136"/>
                </a:lnTo>
                <a:lnTo>
                  <a:pt x="112" y="110"/>
                </a:lnTo>
                <a:lnTo>
                  <a:pt x="112" y="84"/>
                </a:lnTo>
                <a:lnTo>
                  <a:pt x="104" y="92"/>
                </a:lnTo>
                <a:lnTo>
                  <a:pt x="104" y="10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Rectangle 117"/>
          <p:cNvSpPr/>
          <p:nvPr/>
        </p:nvSpPr>
        <p:spPr>
          <a:xfrm>
            <a:off x="5184720" y="3240000"/>
            <a:ext cx="88920" cy="1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Rectangle 118"/>
          <p:cNvSpPr/>
          <p:nvPr/>
        </p:nvSpPr>
        <p:spPr>
          <a:xfrm>
            <a:off x="5184720" y="3265560"/>
            <a:ext cx="88920" cy="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Rectangle 119"/>
          <p:cNvSpPr/>
          <p:nvPr/>
        </p:nvSpPr>
        <p:spPr>
          <a:xfrm>
            <a:off x="5184720" y="3292560"/>
            <a:ext cx="88920" cy="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Rectangle 120"/>
          <p:cNvSpPr/>
          <p:nvPr/>
        </p:nvSpPr>
        <p:spPr>
          <a:xfrm>
            <a:off x="5184720" y="3316320"/>
            <a:ext cx="88920" cy="1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Freeform 126"/>
          <p:cNvSpPr/>
          <p:nvPr/>
        </p:nvSpPr>
        <p:spPr>
          <a:xfrm>
            <a:off x="5335560" y="2131920"/>
            <a:ext cx="163440" cy="198360"/>
          </a:xfrm>
          <a:custGeom>
            <a:avLst/>
            <a:gdLst/>
            <a:ahLst/>
            <a:rect l="l" t="t" r="r" b="b"/>
            <a:pathLst>
              <a:path w="82" h="132">
                <a:moveTo>
                  <a:pt x="0" y="34"/>
                </a:moveTo>
                <a:lnTo>
                  <a:pt x="0" y="132"/>
                </a:lnTo>
                <a:lnTo>
                  <a:pt x="82" y="99"/>
                </a:lnTo>
                <a:lnTo>
                  <a:pt x="82" y="0"/>
                </a:lnTo>
                <a:lnTo>
                  <a:pt x="0" y="34"/>
                </a:lnTo>
                <a:close/>
                <a:moveTo>
                  <a:pt x="76" y="10"/>
                </a:moveTo>
                <a:lnTo>
                  <a:pt x="76" y="94"/>
                </a:lnTo>
                <a:lnTo>
                  <a:pt x="5" y="66"/>
                </a:lnTo>
                <a:lnTo>
                  <a:pt x="5" y="38"/>
                </a:lnTo>
                <a:lnTo>
                  <a:pt x="76" y="10"/>
                </a:lnTo>
                <a:close/>
                <a:moveTo>
                  <a:pt x="5" y="70"/>
                </a:moveTo>
                <a:lnTo>
                  <a:pt x="73" y="96"/>
                </a:lnTo>
                <a:lnTo>
                  <a:pt x="5" y="124"/>
                </a:lnTo>
                <a:lnTo>
                  <a:pt x="5" y="7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Freeform 127"/>
          <p:cNvSpPr/>
          <p:nvPr/>
        </p:nvSpPr>
        <p:spPr>
          <a:xfrm>
            <a:off x="5153040" y="2131920"/>
            <a:ext cx="162000" cy="198360"/>
          </a:xfrm>
          <a:custGeom>
            <a:avLst/>
            <a:gdLst/>
            <a:ahLst/>
            <a:rect l="l" t="t" r="r" b="b"/>
            <a:pathLst>
              <a:path w="81" h="132">
                <a:moveTo>
                  <a:pt x="0" y="99"/>
                </a:moveTo>
                <a:lnTo>
                  <a:pt x="81" y="132"/>
                </a:lnTo>
                <a:lnTo>
                  <a:pt x="81" y="34"/>
                </a:lnTo>
                <a:lnTo>
                  <a:pt x="0" y="0"/>
                </a:lnTo>
                <a:lnTo>
                  <a:pt x="0" y="9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Freeform 128"/>
          <p:cNvSpPr/>
          <p:nvPr/>
        </p:nvSpPr>
        <p:spPr>
          <a:xfrm>
            <a:off x="5162400" y="2071800"/>
            <a:ext cx="333360" cy="98280"/>
          </a:xfrm>
          <a:custGeom>
            <a:avLst/>
            <a:gdLst/>
            <a:ahLst/>
            <a:rect l="l" t="t" r="r" b="b"/>
            <a:pathLst>
              <a:path w="166" h="66">
                <a:moveTo>
                  <a:pt x="82" y="0"/>
                </a:moveTo>
                <a:lnTo>
                  <a:pt x="0" y="32"/>
                </a:lnTo>
                <a:lnTo>
                  <a:pt x="80" y="66"/>
                </a:lnTo>
                <a:lnTo>
                  <a:pt x="166" y="32"/>
                </a:lnTo>
                <a:lnTo>
                  <a:pt x="82" y="0"/>
                </a:lnTo>
                <a:close/>
                <a:moveTo>
                  <a:pt x="82" y="6"/>
                </a:moveTo>
                <a:lnTo>
                  <a:pt x="151" y="32"/>
                </a:lnTo>
                <a:lnTo>
                  <a:pt x="82" y="59"/>
                </a:lnTo>
                <a:lnTo>
                  <a:pt x="82" y="6"/>
                </a:lnTo>
                <a:close/>
                <a:moveTo>
                  <a:pt x="78" y="7"/>
                </a:moveTo>
                <a:lnTo>
                  <a:pt x="78" y="59"/>
                </a:lnTo>
                <a:lnTo>
                  <a:pt x="15" y="32"/>
                </a:lnTo>
                <a:lnTo>
                  <a:pt x="78" y="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TextBox 13"/>
          <p:cNvSpPr/>
          <p:nvPr/>
        </p:nvSpPr>
        <p:spPr>
          <a:xfrm>
            <a:off x="2104920" y="1882800"/>
            <a:ext cx="1041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1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TextBox 13"/>
          <p:cNvSpPr/>
          <p:nvPr/>
        </p:nvSpPr>
        <p:spPr>
          <a:xfrm>
            <a:off x="1270080" y="2076480"/>
            <a:ext cx="18763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1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TextBox 13"/>
          <p:cNvSpPr/>
          <p:nvPr/>
        </p:nvSpPr>
        <p:spPr>
          <a:xfrm>
            <a:off x="6035760" y="1882800"/>
            <a:ext cx="1041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TextBox 13"/>
          <p:cNvSpPr/>
          <p:nvPr/>
        </p:nvSpPr>
        <p:spPr>
          <a:xfrm>
            <a:off x="6039000" y="2077920"/>
            <a:ext cx="1877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TextBox 13"/>
          <p:cNvSpPr/>
          <p:nvPr/>
        </p:nvSpPr>
        <p:spPr>
          <a:xfrm>
            <a:off x="2104920" y="3216240"/>
            <a:ext cx="1041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TextBox 13"/>
          <p:cNvSpPr/>
          <p:nvPr/>
        </p:nvSpPr>
        <p:spPr>
          <a:xfrm>
            <a:off x="1270080" y="3409920"/>
            <a:ext cx="1876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TextBox 13"/>
          <p:cNvSpPr/>
          <p:nvPr/>
        </p:nvSpPr>
        <p:spPr>
          <a:xfrm>
            <a:off x="6035760" y="3216240"/>
            <a:ext cx="1041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TextBox 13"/>
          <p:cNvSpPr/>
          <p:nvPr/>
        </p:nvSpPr>
        <p:spPr>
          <a:xfrm>
            <a:off x="6039000" y="3409920"/>
            <a:ext cx="1877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图片 1" descr=""/>
          <p:cNvPicPr/>
          <p:nvPr/>
        </p:nvPicPr>
        <p:blipFill>
          <a:blip r:embed="rId1"/>
          <a:stretch/>
        </p:blipFill>
        <p:spPr>
          <a:xfrm>
            <a:off x="0" y="1436760"/>
            <a:ext cx="9144000" cy="3049560"/>
          </a:xfrm>
          <a:prstGeom prst="rect">
            <a:avLst/>
          </a:prstGeom>
          <a:ln w="0">
            <a:noFill/>
          </a:ln>
        </p:spPr>
      </p:pic>
      <p:pic>
        <p:nvPicPr>
          <p:cNvPr id="548" name="图片 19" descr=""/>
          <p:cNvPicPr/>
          <p:nvPr/>
        </p:nvPicPr>
        <p:blipFill>
          <a:blip r:embed="rId2"/>
          <a:stretch/>
        </p:blipFill>
        <p:spPr>
          <a:xfrm>
            <a:off x="0" y="141120"/>
            <a:ext cx="9144000" cy="233640"/>
          </a:xfrm>
          <a:prstGeom prst="rect">
            <a:avLst/>
          </a:prstGeom>
          <a:ln w="0">
            <a:noFill/>
          </a:ln>
        </p:spPr>
      </p:pic>
      <p:sp>
        <p:nvSpPr>
          <p:cNvPr id="549" name="文本框 20"/>
          <p:cNvSpPr/>
          <p:nvPr/>
        </p:nvSpPr>
        <p:spPr>
          <a:xfrm>
            <a:off x="3216240" y="108000"/>
            <a:ext cx="2711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ADD YOUR TITLE H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矩形 4"/>
          <p:cNvSpPr/>
          <p:nvPr/>
        </p:nvSpPr>
        <p:spPr>
          <a:xfrm>
            <a:off x="2754360" y="1635120"/>
            <a:ext cx="3646440" cy="222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任意多边形 5"/>
          <p:cNvSpPr/>
          <p:nvPr/>
        </p:nvSpPr>
        <p:spPr>
          <a:xfrm>
            <a:off x="3867120" y="1755720"/>
            <a:ext cx="1420920" cy="866880"/>
          </a:xfrm>
          <a:custGeom>
            <a:avLst/>
            <a:gdLst/>
            <a:ahLst/>
            <a:rect l="l" t="t" r="r" b="b"/>
            <a:pathLst>
              <a:path w="1895434" h="1540529">
                <a:moveTo>
                  <a:pt x="0" y="1540529"/>
                </a:moveTo>
                <a:lnTo>
                  <a:pt x="947717" y="0"/>
                </a:lnTo>
                <a:lnTo>
                  <a:pt x="1895434" y="1540529"/>
                </a:lnTo>
                <a:lnTo>
                  <a:pt x="0" y="1540529"/>
                </a:lnTo>
                <a:close/>
              </a:path>
            </a:pathLst>
          </a:custGeom>
          <a:solidFill>
            <a:srgbClr val="1e9c8c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任意多边形 6"/>
          <p:cNvSpPr/>
          <p:nvPr/>
        </p:nvSpPr>
        <p:spPr>
          <a:xfrm>
            <a:off x="3309840" y="2622600"/>
            <a:ext cx="2535480" cy="679320"/>
          </a:xfrm>
          <a:custGeom>
            <a:avLst/>
            <a:gdLst/>
            <a:ahLst/>
            <a:rect l="l" t="t" r="r" b="b"/>
            <a:pathLst>
              <a:path w="3379501" h="1206187">
                <a:moveTo>
                  <a:pt x="0" y="1206187"/>
                </a:moveTo>
                <a:lnTo>
                  <a:pt x="742034" y="0"/>
                </a:lnTo>
                <a:lnTo>
                  <a:pt x="2637467" y="0"/>
                </a:lnTo>
                <a:lnTo>
                  <a:pt x="3379501" y="1206187"/>
                </a:lnTo>
                <a:lnTo>
                  <a:pt x="0" y="1206187"/>
                </a:lnTo>
                <a:close/>
              </a:path>
            </a:pathLst>
          </a:custGeom>
          <a:solidFill>
            <a:srgbClr val="69c293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任意多边形 7"/>
          <p:cNvSpPr/>
          <p:nvPr/>
        </p:nvSpPr>
        <p:spPr>
          <a:xfrm>
            <a:off x="2754360" y="3301920"/>
            <a:ext cx="3646440" cy="677880"/>
          </a:xfrm>
          <a:custGeom>
            <a:avLst/>
            <a:gdLst/>
            <a:ahLst/>
            <a:rect l="l" t="t" r="r" b="b"/>
            <a:pathLst>
              <a:path w="4863567" h="1206187">
                <a:moveTo>
                  <a:pt x="0" y="1206187"/>
                </a:moveTo>
                <a:lnTo>
                  <a:pt x="742034" y="0"/>
                </a:lnTo>
                <a:lnTo>
                  <a:pt x="4121533" y="0"/>
                </a:lnTo>
                <a:lnTo>
                  <a:pt x="4863567" y="1206187"/>
                </a:lnTo>
                <a:lnTo>
                  <a:pt x="0" y="1206187"/>
                </a:lnTo>
                <a:close/>
              </a:path>
            </a:pathLst>
          </a:custGeom>
          <a:solidFill>
            <a:srgbClr val="1e9c8c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矩形 8"/>
          <p:cNvSpPr/>
          <p:nvPr/>
        </p:nvSpPr>
        <p:spPr>
          <a:xfrm>
            <a:off x="4332960" y="2335320"/>
            <a:ext cx="4780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r>
              <a:rPr b="1" lang="zh-CN" sz="13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矩形 9"/>
          <p:cNvSpPr/>
          <p:nvPr/>
        </p:nvSpPr>
        <p:spPr>
          <a:xfrm>
            <a:off x="4338360" y="2882880"/>
            <a:ext cx="4780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r>
              <a:rPr b="1" lang="zh-CN" sz="13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矩形 10"/>
          <p:cNvSpPr/>
          <p:nvPr/>
        </p:nvSpPr>
        <p:spPr>
          <a:xfrm>
            <a:off x="4338360" y="3551400"/>
            <a:ext cx="4780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r>
              <a:rPr b="1" lang="zh-CN" sz="13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7" name="组合 11"/>
          <p:cNvGrpSpPr/>
          <p:nvPr/>
        </p:nvGrpSpPr>
        <p:grpSpPr>
          <a:xfrm>
            <a:off x="568440" y="2432160"/>
            <a:ext cx="2253960" cy="397440"/>
            <a:chOff x="568440" y="2432160"/>
            <a:chExt cx="2253960" cy="397440"/>
          </a:xfrm>
        </p:grpSpPr>
        <p:sp>
          <p:nvSpPr>
            <p:cNvPr id="558" name="矩形 12"/>
            <p:cNvSpPr/>
            <p:nvPr/>
          </p:nvSpPr>
          <p:spPr>
            <a:xfrm>
              <a:off x="568440" y="2646720"/>
              <a:ext cx="2253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20000"/>
                </a:lnSpc>
                <a:spcBef>
                  <a:spcPts val="249"/>
                </a:spcBef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单击此处编辑您要的内容，建议您在展示时采用微软雅黑字体，本模版所有图形线条及其相应素材均可自由编辑、改色、替换。更多使用说明和作品请详阅模版最末的使用手册。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9" name="TextBox 13"/>
            <p:cNvSpPr/>
            <p:nvPr/>
          </p:nvSpPr>
          <p:spPr>
            <a:xfrm>
              <a:off x="568440" y="2432160"/>
              <a:ext cx="970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zh-CN" sz="12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单击编辑标题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60" name="组合 14"/>
          <p:cNvGrpSpPr/>
          <p:nvPr/>
        </p:nvGrpSpPr>
        <p:grpSpPr>
          <a:xfrm>
            <a:off x="6502320" y="2432160"/>
            <a:ext cx="2254320" cy="397440"/>
            <a:chOff x="6502320" y="2432160"/>
            <a:chExt cx="2254320" cy="397440"/>
          </a:xfrm>
        </p:grpSpPr>
        <p:sp>
          <p:nvSpPr>
            <p:cNvPr id="561" name="矩形 15"/>
            <p:cNvSpPr/>
            <p:nvPr/>
          </p:nvSpPr>
          <p:spPr>
            <a:xfrm>
              <a:off x="6502320" y="2646720"/>
              <a:ext cx="2254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20000"/>
                </a:lnSpc>
                <a:spcBef>
                  <a:spcPts val="249"/>
                </a:spcBef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单击此处编辑您要的内容，建议您在展示时采用微软雅黑字体，本模版所有图形线条及其相应素材均可自由编辑、改色、替换。更多使用说明和作品请详阅模版最末的使用手册。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2" name="TextBox 13"/>
            <p:cNvSpPr/>
            <p:nvPr/>
          </p:nvSpPr>
          <p:spPr>
            <a:xfrm>
              <a:off x="6502320" y="2432160"/>
              <a:ext cx="970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zh-CN" sz="12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单击编辑标题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3" name="图片 19" descr=""/>
          <p:cNvPicPr/>
          <p:nvPr/>
        </p:nvPicPr>
        <p:blipFill>
          <a:blip r:embed="rId1"/>
          <a:stretch/>
        </p:blipFill>
        <p:spPr>
          <a:xfrm>
            <a:off x="0" y="141120"/>
            <a:ext cx="9144000" cy="233640"/>
          </a:xfrm>
          <a:prstGeom prst="rect">
            <a:avLst/>
          </a:prstGeom>
          <a:ln w="0">
            <a:noFill/>
          </a:ln>
        </p:spPr>
      </p:pic>
      <p:sp>
        <p:nvSpPr>
          <p:cNvPr id="564" name="文本框 20"/>
          <p:cNvSpPr/>
          <p:nvPr/>
        </p:nvSpPr>
        <p:spPr>
          <a:xfrm>
            <a:off x="3216240" y="108000"/>
            <a:ext cx="2711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ADD YOUR TITLE H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Freeform 6"/>
          <p:cNvSpPr/>
          <p:nvPr/>
        </p:nvSpPr>
        <p:spPr>
          <a:xfrm>
            <a:off x="1830240" y="1963800"/>
            <a:ext cx="1257480" cy="1047600"/>
          </a:xfrm>
          <a:custGeom>
            <a:avLst/>
            <a:gdLst/>
            <a:ahLst/>
            <a:rect l="l" t="t" r="r" b="b"/>
            <a:pathLst>
              <a:path w="3168" h="3521">
                <a:moveTo>
                  <a:pt x="1583" y="0"/>
                </a:moveTo>
                <a:lnTo>
                  <a:pt x="1688" y="4"/>
                </a:lnTo>
                <a:lnTo>
                  <a:pt x="1791" y="14"/>
                </a:lnTo>
                <a:lnTo>
                  <a:pt x="1891" y="30"/>
                </a:lnTo>
                <a:lnTo>
                  <a:pt x="1989" y="53"/>
                </a:lnTo>
                <a:lnTo>
                  <a:pt x="2084" y="82"/>
                </a:lnTo>
                <a:lnTo>
                  <a:pt x="2177" y="116"/>
                </a:lnTo>
                <a:lnTo>
                  <a:pt x="2267" y="157"/>
                </a:lnTo>
                <a:lnTo>
                  <a:pt x="2355" y="201"/>
                </a:lnTo>
                <a:lnTo>
                  <a:pt x="2439" y="252"/>
                </a:lnTo>
                <a:lnTo>
                  <a:pt x="2520" y="307"/>
                </a:lnTo>
                <a:lnTo>
                  <a:pt x="2596" y="368"/>
                </a:lnTo>
                <a:lnTo>
                  <a:pt x="2669" y="432"/>
                </a:lnTo>
                <a:lnTo>
                  <a:pt x="2738" y="502"/>
                </a:lnTo>
                <a:lnTo>
                  <a:pt x="2802" y="575"/>
                </a:lnTo>
                <a:lnTo>
                  <a:pt x="2862" y="653"/>
                </a:lnTo>
                <a:lnTo>
                  <a:pt x="2917" y="733"/>
                </a:lnTo>
                <a:lnTo>
                  <a:pt x="2967" y="817"/>
                </a:lnTo>
                <a:lnTo>
                  <a:pt x="3012" y="905"/>
                </a:lnTo>
                <a:lnTo>
                  <a:pt x="3053" y="996"/>
                </a:lnTo>
                <a:lnTo>
                  <a:pt x="3087" y="1089"/>
                </a:lnTo>
                <a:lnTo>
                  <a:pt x="3115" y="1185"/>
                </a:lnTo>
                <a:lnTo>
                  <a:pt x="3138" y="1283"/>
                </a:lnTo>
                <a:lnTo>
                  <a:pt x="3154" y="1385"/>
                </a:lnTo>
                <a:lnTo>
                  <a:pt x="3164" y="1488"/>
                </a:lnTo>
                <a:lnTo>
                  <a:pt x="3168" y="1592"/>
                </a:lnTo>
                <a:lnTo>
                  <a:pt x="3164" y="1695"/>
                </a:lnTo>
                <a:lnTo>
                  <a:pt x="3155" y="1795"/>
                </a:lnTo>
                <a:lnTo>
                  <a:pt x="3139" y="1895"/>
                </a:lnTo>
                <a:lnTo>
                  <a:pt x="3116" y="1992"/>
                </a:lnTo>
                <a:lnTo>
                  <a:pt x="3090" y="2086"/>
                </a:lnTo>
                <a:lnTo>
                  <a:pt x="3056" y="2178"/>
                </a:lnTo>
                <a:lnTo>
                  <a:pt x="3018" y="2268"/>
                </a:lnTo>
                <a:lnTo>
                  <a:pt x="2974" y="2355"/>
                </a:lnTo>
                <a:lnTo>
                  <a:pt x="2925" y="2438"/>
                </a:lnTo>
                <a:lnTo>
                  <a:pt x="2872" y="2518"/>
                </a:lnTo>
                <a:lnTo>
                  <a:pt x="2814" y="2594"/>
                </a:lnTo>
                <a:lnTo>
                  <a:pt x="2752" y="2667"/>
                </a:lnTo>
                <a:lnTo>
                  <a:pt x="2684" y="2735"/>
                </a:lnTo>
                <a:lnTo>
                  <a:pt x="2614" y="2800"/>
                </a:lnTo>
                <a:lnTo>
                  <a:pt x="2540" y="2860"/>
                </a:lnTo>
                <a:lnTo>
                  <a:pt x="2461" y="2916"/>
                </a:lnTo>
                <a:lnTo>
                  <a:pt x="2380" y="2967"/>
                </a:lnTo>
                <a:lnTo>
                  <a:pt x="2295" y="3013"/>
                </a:lnTo>
                <a:lnTo>
                  <a:pt x="2208" y="3055"/>
                </a:lnTo>
                <a:lnTo>
                  <a:pt x="2117" y="3090"/>
                </a:lnTo>
                <a:lnTo>
                  <a:pt x="2024" y="3120"/>
                </a:lnTo>
                <a:lnTo>
                  <a:pt x="1928" y="3145"/>
                </a:lnTo>
                <a:lnTo>
                  <a:pt x="1583" y="3521"/>
                </a:lnTo>
                <a:lnTo>
                  <a:pt x="1238" y="3145"/>
                </a:lnTo>
                <a:lnTo>
                  <a:pt x="1144" y="3120"/>
                </a:lnTo>
                <a:lnTo>
                  <a:pt x="1050" y="3090"/>
                </a:lnTo>
                <a:lnTo>
                  <a:pt x="960" y="3055"/>
                </a:lnTo>
                <a:lnTo>
                  <a:pt x="872" y="3013"/>
                </a:lnTo>
                <a:lnTo>
                  <a:pt x="787" y="2967"/>
                </a:lnTo>
                <a:lnTo>
                  <a:pt x="706" y="2916"/>
                </a:lnTo>
                <a:lnTo>
                  <a:pt x="628" y="2860"/>
                </a:lnTo>
                <a:lnTo>
                  <a:pt x="553" y="2800"/>
                </a:lnTo>
                <a:lnTo>
                  <a:pt x="483" y="2735"/>
                </a:lnTo>
                <a:lnTo>
                  <a:pt x="416" y="2667"/>
                </a:lnTo>
                <a:lnTo>
                  <a:pt x="353" y="2594"/>
                </a:lnTo>
                <a:lnTo>
                  <a:pt x="296" y="2518"/>
                </a:lnTo>
                <a:lnTo>
                  <a:pt x="243" y="2438"/>
                </a:lnTo>
                <a:lnTo>
                  <a:pt x="194" y="2355"/>
                </a:lnTo>
                <a:lnTo>
                  <a:pt x="150" y="2268"/>
                </a:lnTo>
                <a:lnTo>
                  <a:pt x="111" y="2178"/>
                </a:lnTo>
                <a:lnTo>
                  <a:pt x="78" y="2086"/>
                </a:lnTo>
                <a:lnTo>
                  <a:pt x="50" y="1992"/>
                </a:lnTo>
                <a:lnTo>
                  <a:pt x="29" y="1895"/>
                </a:lnTo>
                <a:lnTo>
                  <a:pt x="13" y="1795"/>
                </a:lnTo>
                <a:lnTo>
                  <a:pt x="3" y="1695"/>
                </a:lnTo>
                <a:lnTo>
                  <a:pt x="0" y="1592"/>
                </a:lnTo>
                <a:lnTo>
                  <a:pt x="3" y="1488"/>
                </a:lnTo>
                <a:lnTo>
                  <a:pt x="14" y="1385"/>
                </a:lnTo>
                <a:lnTo>
                  <a:pt x="30" y="1283"/>
                </a:lnTo>
                <a:lnTo>
                  <a:pt x="52" y="1185"/>
                </a:lnTo>
                <a:lnTo>
                  <a:pt x="81" y="1089"/>
                </a:lnTo>
                <a:lnTo>
                  <a:pt x="115" y="996"/>
                </a:lnTo>
                <a:lnTo>
                  <a:pt x="155" y="905"/>
                </a:lnTo>
                <a:lnTo>
                  <a:pt x="200" y="817"/>
                </a:lnTo>
                <a:lnTo>
                  <a:pt x="250" y="733"/>
                </a:lnTo>
                <a:lnTo>
                  <a:pt x="305" y="653"/>
                </a:lnTo>
                <a:lnTo>
                  <a:pt x="366" y="575"/>
                </a:lnTo>
                <a:lnTo>
                  <a:pt x="430" y="502"/>
                </a:lnTo>
                <a:lnTo>
                  <a:pt x="499" y="432"/>
                </a:lnTo>
                <a:lnTo>
                  <a:pt x="571" y="368"/>
                </a:lnTo>
                <a:lnTo>
                  <a:pt x="648" y="307"/>
                </a:lnTo>
                <a:lnTo>
                  <a:pt x="729" y="252"/>
                </a:lnTo>
                <a:lnTo>
                  <a:pt x="813" y="201"/>
                </a:lnTo>
                <a:lnTo>
                  <a:pt x="900" y="157"/>
                </a:lnTo>
                <a:lnTo>
                  <a:pt x="991" y="116"/>
                </a:lnTo>
                <a:lnTo>
                  <a:pt x="1083" y="82"/>
                </a:lnTo>
                <a:lnTo>
                  <a:pt x="1179" y="53"/>
                </a:lnTo>
                <a:lnTo>
                  <a:pt x="1277" y="30"/>
                </a:lnTo>
                <a:lnTo>
                  <a:pt x="1377" y="14"/>
                </a:lnTo>
                <a:lnTo>
                  <a:pt x="1480" y="4"/>
                </a:lnTo>
                <a:lnTo>
                  <a:pt x="1583" y="0"/>
                </a:lnTo>
                <a:close/>
              </a:path>
            </a:pathLst>
          </a:cu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Freeform 6"/>
          <p:cNvSpPr/>
          <p:nvPr/>
        </p:nvSpPr>
        <p:spPr>
          <a:xfrm>
            <a:off x="2979720" y="1711440"/>
            <a:ext cx="1562040" cy="1301760"/>
          </a:xfrm>
          <a:custGeom>
            <a:avLst/>
            <a:gdLst/>
            <a:ahLst/>
            <a:rect l="l" t="t" r="r" b="b"/>
            <a:pathLst>
              <a:path w="3168" h="3521">
                <a:moveTo>
                  <a:pt x="1583" y="0"/>
                </a:moveTo>
                <a:lnTo>
                  <a:pt x="1688" y="4"/>
                </a:lnTo>
                <a:lnTo>
                  <a:pt x="1791" y="14"/>
                </a:lnTo>
                <a:lnTo>
                  <a:pt x="1891" y="30"/>
                </a:lnTo>
                <a:lnTo>
                  <a:pt x="1989" y="53"/>
                </a:lnTo>
                <a:lnTo>
                  <a:pt x="2084" y="82"/>
                </a:lnTo>
                <a:lnTo>
                  <a:pt x="2177" y="116"/>
                </a:lnTo>
                <a:lnTo>
                  <a:pt x="2267" y="157"/>
                </a:lnTo>
                <a:lnTo>
                  <a:pt x="2355" y="201"/>
                </a:lnTo>
                <a:lnTo>
                  <a:pt x="2439" y="252"/>
                </a:lnTo>
                <a:lnTo>
                  <a:pt x="2520" y="307"/>
                </a:lnTo>
                <a:lnTo>
                  <a:pt x="2596" y="368"/>
                </a:lnTo>
                <a:lnTo>
                  <a:pt x="2669" y="432"/>
                </a:lnTo>
                <a:lnTo>
                  <a:pt x="2738" y="502"/>
                </a:lnTo>
                <a:lnTo>
                  <a:pt x="2802" y="575"/>
                </a:lnTo>
                <a:lnTo>
                  <a:pt x="2862" y="653"/>
                </a:lnTo>
                <a:lnTo>
                  <a:pt x="2917" y="733"/>
                </a:lnTo>
                <a:lnTo>
                  <a:pt x="2967" y="817"/>
                </a:lnTo>
                <a:lnTo>
                  <a:pt x="3012" y="905"/>
                </a:lnTo>
                <a:lnTo>
                  <a:pt x="3053" y="996"/>
                </a:lnTo>
                <a:lnTo>
                  <a:pt x="3087" y="1089"/>
                </a:lnTo>
                <a:lnTo>
                  <a:pt x="3115" y="1185"/>
                </a:lnTo>
                <a:lnTo>
                  <a:pt x="3138" y="1283"/>
                </a:lnTo>
                <a:lnTo>
                  <a:pt x="3154" y="1385"/>
                </a:lnTo>
                <a:lnTo>
                  <a:pt x="3164" y="1488"/>
                </a:lnTo>
                <a:lnTo>
                  <a:pt x="3168" y="1592"/>
                </a:lnTo>
                <a:lnTo>
                  <a:pt x="3164" y="1695"/>
                </a:lnTo>
                <a:lnTo>
                  <a:pt x="3155" y="1795"/>
                </a:lnTo>
                <a:lnTo>
                  <a:pt x="3139" y="1895"/>
                </a:lnTo>
                <a:lnTo>
                  <a:pt x="3116" y="1992"/>
                </a:lnTo>
                <a:lnTo>
                  <a:pt x="3090" y="2086"/>
                </a:lnTo>
                <a:lnTo>
                  <a:pt x="3056" y="2178"/>
                </a:lnTo>
                <a:lnTo>
                  <a:pt x="3018" y="2268"/>
                </a:lnTo>
                <a:lnTo>
                  <a:pt x="2974" y="2355"/>
                </a:lnTo>
                <a:lnTo>
                  <a:pt x="2925" y="2438"/>
                </a:lnTo>
                <a:lnTo>
                  <a:pt x="2872" y="2518"/>
                </a:lnTo>
                <a:lnTo>
                  <a:pt x="2814" y="2594"/>
                </a:lnTo>
                <a:lnTo>
                  <a:pt x="2752" y="2667"/>
                </a:lnTo>
                <a:lnTo>
                  <a:pt x="2684" y="2735"/>
                </a:lnTo>
                <a:lnTo>
                  <a:pt x="2614" y="2800"/>
                </a:lnTo>
                <a:lnTo>
                  <a:pt x="2540" y="2860"/>
                </a:lnTo>
                <a:lnTo>
                  <a:pt x="2461" y="2916"/>
                </a:lnTo>
                <a:lnTo>
                  <a:pt x="2380" y="2967"/>
                </a:lnTo>
                <a:lnTo>
                  <a:pt x="2295" y="3013"/>
                </a:lnTo>
                <a:lnTo>
                  <a:pt x="2208" y="3055"/>
                </a:lnTo>
                <a:lnTo>
                  <a:pt x="2117" y="3090"/>
                </a:lnTo>
                <a:lnTo>
                  <a:pt x="2024" y="3120"/>
                </a:lnTo>
                <a:lnTo>
                  <a:pt x="1928" y="3145"/>
                </a:lnTo>
                <a:lnTo>
                  <a:pt x="1583" y="3521"/>
                </a:lnTo>
                <a:lnTo>
                  <a:pt x="1238" y="3145"/>
                </a:lnTo>
                <a:lnTo>
                  <a:pt x="1144" y="3120"/>
                </a:lnTo>
                <a:lnTo>
                  <a:pt x="1050" y="3090"/>
                </a:lnTo>
                <a:lnTo>
                  <a:pt x="960" y="3055"/>
                </a:lnTo>
                <a:lnTo>
                  <a:pt x="872" y="3013"/>
                </a:lnTo>
                <a:lnTo>
                  <a:pt x="787" y="2967"/>
                </a:lnTo>
                <a:lnTo>
                  <a:pt x="706" y="2916"/>
                </a:lnTo>
                <a:lnTo>
                  <a:pt x="628" y="2860"/>
                </a:lnTo>
                <a:lnTo>
                  <a:pt x="553" y="2800"/>
                </a:lnTo>
                <a:lnTo>
                  <a:pt x="483" y="2735"/>
                </a:lnTo>
                <a:lnTo>
                  <a:pt x="416" y="2667"/>
                </a:lnTo>
                <a:lnTo>
                  <a:pt x="353" y="2594"/>
                </a:lnTo>
                <a:lnTo>
                  <a:pt x="296" y="2518"/>
                </a:lnTo>
                <a:lnTo>
                  <a:pt x="243" y="2438"/>
                </a:lnTo>
                <a:lnTo>
                  <a:pt x="194" y="2355"/>
                </a:lnTo>
                <a:lnTo>
                  <a:pt x="150" y="2268"/>
                </a:lnTo>
                <a:lnTo>
                  <a:pt x="111" y="2178"/>
                </a:lnTo>
                <a:lnTo>
                  <a:pt x="78" y="2086"/>
                </a:lnTo>
                <a:lnTo>
                  <a:pt x="50" y="1992"/>
                </a:lnTo>
                <a:lnTo>
                  <a:pt x="29" y="1895"/>
                </a:lnTo>
                <a:lnTo>
                  <a:pt x="13" y="1795"/>
                </a:lnTo>
                <a:lnTo>
                  <a:pt x="3" y="1695"/>
                </a:lnTo>
                <a:lnTo>
                  <a:pt x="0" y="1592"/>
                </a:lnTo>
                <a:lnTo>
                  <a:pt x="3" y="1488"/>
                </a:lnTo>
                <a:lnTo>
                  <a:pt x="14" y="1385"/>
                </a:lnTo>
                <a:lnTo>
                  <a:pt x="30" y="1283"/>
                </a:lnTo>
                <a:lnTo>
                  <a:pt x="52" y="1185"/>
                </a:lnTo>
                <a:lnTo>
                  <a:pt x="81" y="1089"/>
                </a:lnTo>
                <a:lnTo>
                  <a:pt x="115" y="996"/>
                </a:lnTo>
                <a:lnTo>
                  <a:pt x="155" y="905"/>
                </a:lnTo>
                <a:lnTo>
                  <a:pt x="200" y="817"/>
                </a:lnTo>
                <a:lnTo>
                  <a:pt x="250" y="733"/>
                </a:lnTo>
                <a:lnTo>
                  <a:pt x="305" y="653"/>
                </a:lnTo>
                <a:lnTo>
                  <a:pt x="366" y="575"/>
                </a:lnTo>
                <a:lnTo>
                  <a:pt x="430" y="502"/>
                </a:lnTo>
                <a:lnTo>
                  <a:pt x="499" y="432"/>
                </a:lnTo>
                <a:lnTo>
                  <a:pt x="571" y="368"/>
                </a:lnTo>
                <a:lnTo>
                  <a:pt x="648" y="307"/>
                </a:lnTo>
                <a:lnTo>
                  <a:pt x="729" y="252"/>
                </a:lnTo>
                <a:lnTo>
                  <a:pt x="813" y="201"/>
                </a:lnTo>
                <a:lnTo>
                  <a:pt x="900" y="157"/>
                </a:lnTo>
                <a:lnTo>
                  <a:pt x="991" y="116"/>
                </a:lnTo>
                <a:lnTo>
                  <a:pt x="1083" y="82"/>
                </a:lnTo>
                <a:lnTo>
                  <a:pt x="1179" y="53"/>
                </a:lnTo>
                <a:lnTo>
                  <a:pt x="1277" y="30"/>
                </a:lnTo>
                <a:lnTo>
                  <a:pt x="1377" y="14"/>
                </a:lnTo>
                <a:lnTo>
                  <a:pt x="1480" y="4"/>
                </a:lnTo>
                <a:lnTo>
                  <a:pt x="1583" y="0"/>
                </a:lnTo>
                <a:close/>
              </a:path>
            </a:pathLst>
          </a:cu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Freeform 6"/>
          <p:cNvSpPr/>
          <p:nvPr/>
        </p:nvSpPr>
        <p:spPr>
          <a:xfrm>
            <a:off x="4432320" y="1868400"/>
            <a:ext cx="1371600" cy="1143000"/>
          </a:xfrm>
          <a:custGeom>
            <a:avLst/>
            <a:gdLst/>
            <a:ahLst/>
            <a:rect l="l" t="t" r="r" b="b"/>
            <a:pathLst>
              <a:path w="3168" h="3521">
                <a:moveTo>
                  <a:pt x="1583" y="0"/>
                </a:moveTo>
                <a:lnTo>
                  <a:pt x="1688" y="4"/>
                </a:lnTo>
                <a:lnTo>
                  <a:pt x="1791" y="14"/>
                </a:lnTo>
                <a:lnTo>
                  <a:pt x="1891" y="30"/>
                </a:lnTo>
                <a:lnTo>
                  <a:pt x="1989" y="53"/>
                </a:lnTo>
                <a:lnTo>
                  <a:pt x="2084" y="82"/>
                </a:lnTo>
                <a:lnTo>
                  <a:pt x="2177" y="116"/>
                </a:lnTo>
                <a:lnTo>
                  <a:pt x="2267" y="157"/>
                </a:lnTo>
                <a:lnTo>
                  <a:pt x="2355" y="201"/>
                </a:lnTo>
                <a:lnTo>
                  <a:pt x="2439" y="252"/>
                </a:lnTo>
                <a:lnTo>
                  <a:pt x="2520" y="307"/>
                </a:lnTo>
                <a:lnTo>
                  <a:pt x="2596" y="368"/>
                </a:lnTo>
                <a:lnTo>
                  <a:pt x="2669" y="432"/>
                </a:lnTo>
                <a:lnTo>
                  <a:pt x="2738" y="502"/>
                </a:lnTo>
                <a:lnTo>
                  <a:pt x="2802" y="575"/>
                </a:lnTo>
                <a:lnTo>
                  <a:pt x="2862" y="653"/>
                </a:lnTo>
                <a:lnTo>
                  <a:pt x="2917" y="733"/>
                </a:lnTo>
                <a:lnTo>
                  <a:pt x="2967" y="817"/>
                </a:lnTo>
                <a:lnTo>
                  <a:pt x="3012" y="905"/>
                </a:lnTo>
                <a:lnTo>
                  <a:pt x="3053" y="996"/>
                </a:lnTo>
                <a:lnTo>
                  <a:pt x="3087" y="1089"/>
                </a:lnTo>
                <a:lnTo>
                  <a:pt x="3115" y="1185"/>
                </a:lnTo>
                <a:lnTo>
                  <a:pt x="3138" y="1283"/>
                </a:lnTo>
                <a:lnTo>
                  <a:pt x="3154" y="1385"/>
                </a:lnTo>
                <a:lnTo>
                  <a:pt x="3164" y="1488"/>
                </a:lnTo>
                <a:lnTo>
                  <a:pt x="3168" y="1592"/>
                </a:lnTo>
                <a:lnTo>
                  <a:pt x="3164" y="1695"/>
                </a:lnTo>
                <a:lnTo>
                  <a:pt x="3155" y="1795"/>
                </a:lnTo>
                <a:lnTo>
                  <a:pt x="3139" y="1895"/>
                </a:lnTo>
                <a:lnTo>
                  <a:pt x="3116" y="1992"/>
                </a:lnTo>
                <a:lnTo>
                  <a:pt x="3090" y="2086"/>
                </a:lnTo>
                <a:lnTo>
                  <a:pt x="3056" y="2178"/>
                </a:lnTo>
                <a:lnTo>
                  <a:pt x="3018" y="2268"/>
                </a:lnTo>
                <a:lnTo>
                  <a:pt x="2974" y="2355"/>
                </a:lnTo>
                <a:lnTo>
                  <a:pt x="2925" y="2438"/>
                </a:lnTo>
                <a:lnTo>
                  <a:pt x="2872" y="2518"/>
                </a:lnTo>
                <a:lnTo>
                  <a:pt x="2814" y="2594"/>
                </a:lnTo>
                <a:lnTo>
                  <a:pt x="2752" y="2667"/>
                </a:lnTo>
                <a:lnTo>
                  <a:pt x="2684" y="2735"/>
                </a:lnTo>
                <a:lnTo>
                  <a:pt x="2614" y="2800"/>
                </a:lnTo>
                <a:lnTo>
                  <a:pt x="2540" y="2860"/>
                </a:lnTo>
                <a:lnTo>
                  <a:pt x="2461" y="2916"/>
                </a:lnTo>
                <a:lnTo>
                  <a:pt x="2380" y="2967"/>
                </a:lnTo>
                <a:lnTo>
                  <a:pt x="2295" y="3013"/>
                </a:lnTo>
                <a:lnTo>
                  <a:pt x="2208" y="3055"/>
                </a:lnTo>
                <a:lnTo>
                  <a:pt x="2117" y="3090"/>
                </a:lnTo>
                <a:lnTo>
                  <a:pt x="2024" y="3120"/>
                </a:lnTo>
                <a:lnTo>
                  <a:pt x="1928" y="3145"/>
                </a:lnTo>
                <a:lnTo>
                  <a:pt x="1583" y="3521"/>
                </a:lnTo>
                <a:lnTo>
                  <a:pt x="1238" y="3145"/>
                </a:lnTo>
                <a:lnTo>
                  <a:pt x="1144" y="3120"/>
                </a:lnTo>
                <a:lnTo>
                  <a:pt x="1050" y="3090"/>
                </a:lnTo>
                <a:lnTo>
                  <a:pt x="960" y="3055"/>
                </a:lnTo>
                <a:lnTo>
                  <a:pt x="872" y="3013"/>
                </a:lnTo>
                <a:lnTo>
                  <a:pt x="787" y="2967"/>
                </a:lnTo>
                <a:lnTo>
                  <a:pt x="706" y="2916"/>
                </a:lnTo>
                <a:lnTo>
                  <a:pt x="628" y="2860"/>
                </a:lnTo>
                <a:lnTo>
                  <a:pt x="553" y="2800"/>
                </a:lnTo>
                <a:lnTo>
                  <a:pt x="483" y="2735"/>
                </a:lnTo>
                <a:lnTo>
                  <a:pt x="416" y="2667"/>
                </a:lnTo>
                <a:lnTo>
                  <a:pt x="353" y="2594"/>
                </a:lnTo>
                <a:lnTo>
                  <a:pt x="296" y="2518"/>
                </a:lnTo>
                <a:lnTo>
                  <a:pt x="243" y="2438"/>
                </a:lnTo>
                <a:lnTo>
                  <a:pt x="194" y="2355"/>
                </a:lnTo>
                <a:lnTo>
                  <a:pt x="150" y="2268"/>
                </a:lnTo>
                <a:lnTo>
                  <a:pt x="111" y="2178"/>
                </a:lnTo>
                <a:lnTo>
                  <a:pt x="78" y="2086"/>
                </a:lnTo>
                <a:lnTo>
                  <a:pt x="50" y="1992"/>
                </a:lnTo>
                <a:lnTo>
                  <a:pt x="29" y="1895"/>
                </a:lnTo>
                <a:lnTo>
                  <a:pt x="13" y="1795"/>
                </a:lnTo>
                <a:lnTo>
                  <a:pt x="3" y="1695"/>
                </a:lnTo>
                <a:lnTo>
                  <a:pt x="0" y="1592"/>
                </a:lnTo>
                <a:lnTo>
                  <a:pt x="3" y="1488"/>
                </a:lnTo>
                <a:lnTo>
                  <a:pt x="14" y="1385"/>
                </a:lnTo>
                <a:lnTo>
                  <a:pt x="30" y="1283"/>
                </a:lnTo>
                <a:lnTo>
                  <a:pt x="52" y="1185"/>
                </a:lnTo>
                <a:lnTo>
                  <a:pt x="81" y="1089"/>
                </a:lnTo>
                <a:lnTo>
                  <a:pt x="115" y="996"/>
                </a:lnTo>
                <a:lnTo>
                  <a:pt x="155" y="905"/>
                </a:lnTo>
                <a:lnTo>
                  <a:pt x="200" y="817"/>
                </a:lnTo>
                <a:lnTo>
                  <a:pt x="250" y="733"/>
                </a:lnTo>
                <a:lnTo>
                  <a:pt x="305" y="653"/>
                </a:lnTo>
                <a:lnTo>
                  <a:pt x="366" y="575"/>
                </a:lnTo>
                <a:lnTo>
                  <a:pt x="430" y="502"/>
                </a:lnTo>
                <a:lnTo>
                  <a:pt x="499" y="432"/>
                </a:lnTo>
                <a:lnTo>
                  <a:pt x="571" y="368"/>
                </a:lnTo>
                <a:lnTo>
                  <a:pt x="648" y="307"/>
                </a:lnTo>
                <a:lnTo>
                  <a:pt x="729" y="252"/>
                </a:lnTo>
                <a:lnTo>
                  <a:pt x="813" y="201"/>
                </a:lnTo>
                <a:lnTo>
                  <a:pt x="900" y="157"/>
                </a:lnTo>
                <a:lnTo>
                  <a:pt x="991" y="116"/>
                </a:lnTo>
                <a:lnTo>
                  <a:pt x="1083" y="82"/>
                </a:lnTo>
                <a:lnTo>
                  <a:pt x="1179" y="53"/>
                </a:lnTo>
                <a:lnTo>
                  <a:pt x="1277" y="30"/>
                </a:lnTo>
                <a:lnTo>
                  <a:pt x="1377" y="14"/>
                </a:lnTo>
                <a:lnTo>
                  <a:pt x="1480" y="4"/>
                </a:lnTo>
                <a:lnTo>
                  <a:pt x="1583" y="0"/>
                </a:lnTo>
                <a:close/>
              </a:path>
            </a:pathLst>
          </a:cu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Straight Connector 11"/>
          <p:cNvSpPr/>
          <p:nvPr/>
        </p:nvSpPr>
        <p:spPr>
          <a:xfrm>
            <a:off x="1278000" y="3143160"/>
            <a:ext cx="6400800" cy="0"/>
          </a:xfrm>
          <a:prstGeom prst="line">
            <a:avLst/>
          </a:prstGeom>
          <a:ln w="12600">
            <a:solidFill>
              <a:srgbClr val="adbaca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Oval 12"/>
          <p:cNvSpPr/>
          <p:nvPr/>
        </p:nvSpPr>
        <p:spPr>
          <a:xfrm>
            <a:off x="3716280" y="3106800"/>
            <a:ext cx="96840" cy="73080"/>
          </a:xfrm>
          <a:prstGeom prst="ellipse">
            <a:avLst/>
          </a:prstGeom>
          <a:solidFill>
            <a:srgbClr val="adb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Oval 14"/>
          <p:cNvSpPr/>
          <p:nvPr/>
        </p:nvSpPr>
        <p:spPr>
          <a:xfrm>
            <a:off x="2411280" y="3106800"/>
            <a:ext cx="96840" cy="73080"/>
          </a:xfrm>
          <a:prstGeom prst="ellipse">
            <a:avLst/>
          </a:prstGeom>
          <a:solidFill>
            <a:srgbClr val="adb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Oval 16"/>
          <p:cNvSpPr/>
          <p:nvPr/>
        </p:nvSpPr>
        <p:spPr>
          <a:xfrm>
            <a:off x="6362640" y="3106800"/>
            <a:ext cx="96840" cy="73080"/>
          </a:xfrm>
          <a:prstGeom prst="ellipse">
            <a:avLst/>
          </a:prstGeom>
          <a:solidFill>
            <a:srgbClr val="adb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Freeform 6"/>
          <p:cNvSpPr/>
          <p:nvPr/>
        </p:nvSpPr>
        <p:spPr>
          <a:xfrm>
            <a:off x="5694480" y="1817640"/>
            <a:ext cx="1431720" cy="1195560"/>
          </a:xfrm>
          <a:custGeom>
            <a:avLst/>
            <a:gdLst/>
            <a:ahLst/>
            <a:rect l="l" t="t" r="r" b="b"/>
            <a:pathLst>
              <a:path w="3168" h="3521">
                <a:moveTo>
                  <a:pt x="1583" y="0"/>
                </a:moveTo>
                <a:lnTo>
                  <a:pt x="1688" y="4"/>
                </a:lnTo>
                <a:lnTo>
                  <a:pt x="1791" y="14"/>
                </a:lnTo>
                <a:lnTo>
                  <a:pt x="1891" y="30"/>
                </a:lnTo>
                <a:lnTo>
                  <a:pt x="1989" y="53"/>
                </a:lnTo>
                <a:lnTo>
                  <a:pt x="2084" y="82"/>
                </a:lnTo>
                <a:lnTo>
                  <a:pt x="2177" y="116"/>
                </a:lnTo>
                <a:lnTo>
                  <a:pt x="2267" y="157"/>
                </a:lnTo>
                <a:lnTo>
                  <a:pt x="2355" y="201"/>
                </a:lnTo>
                <a:lnTo>
                  <a:pt x="2439" y="252"/>
                </a:lnTo>
                <a:lnTo>
                  <a:pt x="2520" y="307"/>
                </a:lnTo>
                <a:lnTo>
                  <a:pt x="2596" y="368"/>
                </a:lnTo>
                <a:lnTo>
                  <a:pt x="2669" y="432"/>
                </a:lnTo>
                <a:lnTo>
                  <a:pt x="2738" y="502"/>
                </a:lnTo>
                <a:lnTo>
                  <a:pt x="2802" y="575"/>
                </a:lnTo>
                <a:lnTo>
                  <a:pt x="2862" y="653"/>
                </a:lnTo>
                <a:lnTo>
                  <a:pt x="2917" y="733"/>
                </a:lnTo>
                <a:lnTo>
                  <a:pt x="2967" y="817"/>
                </a:lnTo>
                <a:lnTo>
                  <a:pt x="3012" y="905"/>
                </a:lnTo>
                <a:lnTo>
                  <a:pt x="3053" y="996"/>
                </a:lnTo>
                <a:lnTo>
                  <a:pt x="3087" y="1089"/>
                </a:lnTo>
                <a:lnTo>
                  <a:pt x="3115" y="1185"/>
                </a:lnTo>
                <a:lnTo>
                  <a:pt x="3138" y="1283"/>
                </a:lnTo>
                <a:lnTo>
                  <a:pt x="3154" y="1385"/>
                </a:lnTo>
                <a:lnTo>
                  <a:pt x="3164" y="1488"/>
                </a:lnTo>
                <a:lnTo>
                  <a:pt x="3168" y="1592"/>
                </a:lnTo>
                <a:lnTo>
                  <a:pt x="3164" y="1695"/>
                </a:lnTo>
                <a:lnTo>
                  <a:pt x="3155" y="1795"/>
                </a:lnTo>
                <a:lnTo>
                  <a:pt x="3139" y="1895"/>
                </a:lnTo>
                <a:lnTo>
                  <a:pt x="3116" y="1992"/>
                </a:lnTo>
                <a:lnTo>
                  <a:pt x="3090" y="2086"/>
                </a:lnTo>
                <a:lnTo>
                  <a:pt x="3056" y="2178"/>
                </a:lnTo>
                <a:lnTo>
                  <a:pt x="3018" y="2268"/>
                </a:lnTo>
                <a:lnTo>
                  <a:pt x="2974" y="2355"/>
                </a:lnTo>
                <a:lnTo>
                  <a:pt x="2925" y="2438"/>
                </a:lnTo>
                <a:lnTo>
                  <a:pt x="2872" y="2518"/>
                </a:lnTo>
                <a:lnTo>
                  <a:pt x="2814" y="2594"/>
                </a:lnTo>
                <a:lnTo>
                  <a:pt x="2752" y="2667"/>
                </a:lnTo>
                <a:lnTo>
                  <a:pt x="2684" y="2735"/>
                </a:lnTo>
                <a:lnTo>
                  <a:pt x="2614" y="2800"/>
                </a:lnTo>
                <a:lnTo>
                  <a:pt x="2540" y="2860"/>
                </a:lnTo>
                <a:lnTo>
                  <a:pt x="2461" y="2916"/>
                </a:lnTo>
                <a:lnTo>
                  <a:pt x="2380" y="2967"/>
                </a:lnTo>
                <a:lnTo>
                  <a:pt x="2295" y="3013"/>
                </a:lnTo>
                <a:lnTo>
                  <a:pt x="2208" y="3055"/>
                </a:lnTo>
                <a:lnTo>
                  <a:pt x="2117" y="3090"/>
                </a:lnTo>
                <a:lnTo>
                  <a:pt x="2024" y="3120"/>
                </a:lnTo>
                <a:lnTo>
                  <a:pt x="1928" y="3145"/>
                </a:lnTo>
                <a:lnTo>
                  <a:pt x="1583" y="3521"/>
                </a:lnTo>
                <a:lnTo>
                  <a:pt x="1238" y="3145"/>
                </a:lnTo>
                <a:lnTo>
                  <a:pt x="1144" y="3120"/>
                </a:lnTo>
                <a:lnTo>
                  <a:pt x="1050" y="3090"/>
                </a:lnTo>
                <a:lnTo>
                  <a:pt x="960" y="3055"/>
                </a:lnTo>
                <a:lnTo>
                  <a:pt x="872" y="3013"/>
                </a:lnTo>
                <a:lnTo>
                  <a:pt x="787" y="2967"/>
                </a:lnTo>
                <a:lnTo>
                  <a:pt x="706" y="2916"/>
                </a:lnTo>
                <a:lnTo>
                  <a:pt x="628" y="2860"/>
                </a:lnTo>
                <a:lnTo>
                  <a:pt x="553" y="2800"/>
                </a:lnTo>
                <a:lnTo>
                  <a:pt x="483" y="2735"/>
                </a:lnTo>
                <a:lnTo>
                  <a:pt x="416" y="2667"/>
                </a:lnTo>
                <a:lnTo>
                  <a:pt x="353" y="2594"/>
                </a:lnTo>
                <a:lnTo>
                  <a:pt x="296" y="2518"/>
                </a:lnTo>
                <a:lnTo>
                  <a:pt x="243" y="2438"/>
                </a:lnTo>
                <a:lnTo>
                  <a:pt x="194" y="2355"/>
                </a:lnTo>
                <a:lnTo>
                  <a:pt x="150" y="2268"/>
                </a:lnTo>
                <a:lnTo>
                  <a:pt x="111" y="2178"/>
                </a:lnTo>
                <a:lnTo>
                  <a:pt x="78" y="2086"/>
                </a:lnTo>
                <a:lnTo>
                  <a:pt x="50" y="1992"/>
                </a:lnTo>
                <a:lnTo>
                  <a:pt x="29" y="1895"/>
                </a:lnTo>
                <a:lnTo>
                  <a:pt x="13" y="1795"/>
                </a:lnTo>
                <a:lnTo>
                  <a:pt x="3" y="1695"/>
                </a:lnTo>
                <a:lnTo>
                  <a:pt x="0" y="1592"/>
                </a:lnTo>
                <a:lnTo>
                  <a:pt x="3" y="1488"/>
                </a:lnTo>
                <a:lnTo>
                  <a:pt x="14" y="1385"/>
                </a:lnTo>
                <a:lnTo>
                  <a:pt x="30" y="1283"/>
                </a:lnTo>
                <a:lnTo>
                  <a:pt x="52" y="1185"/>
                </a:lnTo>
                <a:lnTo>
                  <a:pt x="81" y="1089"/>
                </a:lnTo>
                <a:lnTo>
                  <a:pt x="115" y="996"/>
                </a:lnTo>
                <a:lnTo>
                  <a:pt x="155" y="905"/>
                </a:lnTo>
                <a:lnTo>
                  <a:pt x="200" y="817"/>
                </a:lnTo>
                <a:lnTo>
                  <a:pt x="250" y="733"/>
                </a:lnTo>
                <a:lnTo>
                  <a:pt x="305" y="653"/>
                </a:lnTo>
                <a:lnTo>
                  <a:pt x="366" y="575"/>
                </a:lnTo>
                <a:lnTo>
                  <a:pt x="430" y="502"/>
                </a:lnTo>
                <a:lnTo>
                  <a:pt x="499" y="432"/>
                </a:lnTo>
                <a:lnTo>
                  <a:pt x="571" y="368"/>
                </a:lnTo>
                <a:lnTo>
                  <a:pt x="648" y="307"/>
                </a:lnTo>
                <a:lnTo>
                  <a:pt x="729" y="252"/>
                </a:lnTo>
                <a:lnTo>
                  <a:pt x="813" y="201"/>
                </a:lnTo>
                <a:lnTo>
                  <a:pt x="900" y="157"/>
                </a:lnTo>
                <a:lnTo>
                  <a:pt x="991" y="116"/>
                </a:lnTo>
                <a:lnTo>
                  <a:pt x="1083" y="82"/>
                </a:lnTo>
                <a:lnTo>
                  <a:pt x="1179" y="53"/>
                </a:lnTo>
                <a:lnTo>
                  <a:pt x="1277" y="30"/>
                </a:lnTo>
                <a:lnTo>
                  <a:pt x="1377" y="14"/>
                </a:lnTo>
                <a:lnTo>
                  <a:pt x="1480" y="4"/>
                </a:lnTo>
                <a:lnTo>
                  <a:pt x="1583" y="0"/>
                </a:lnTo>
                <a:close/>
              </a:path>
            </a:pathLst>
          </a:cu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Oval 19"/>
          <p:cNvSpPr/>
          <p:nvPr/>
        </p:nvSpPr>
        <p:spPr>
          <a:xfrm>
            <a:off x="5070600" y="3106800"/>
            <a:ext cx="95040" cy="73080"/>
          </a:xfrm>
          <a:prstGeom prst="ellipse">
            <a:avLst/>
          </a:prstGeom>
          <a:solidFill>
            <a:srgbClr val="adb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TextBox 21"/>
          <p:cNvSpPr/>
          <p:nvPr/>
        </p:nvSpPr>
        <p:spPr>
          <a:xfrm>
            <a:off x="5915160" y="3297240"/>
            <a:ext cx="9903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445469"/>
                </a:solidFill>
                <a:latin typeface="Bebas Neue"/>
              </a:rPr>
              <a:t>2014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TextBox 22"/>
          <p:cNvSpPr/>
          <p:nvPr/>
        </p:nvSpPr>
        <p:spPr>
          <a:xfrm>
            <a:off x="4622760" y="3297240"/>
            <a:ext cx="9907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445469"/>
                </a:solidFill>
                <a:latin typeface="Bebas Neue"/>
              </a:rPr>
              <a:t>2013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TextBox 23"/>
          <p:cNvSpPr/>
          <p:nvPr/>
        </p:nvSpPr>
        <p:spPr>
          <a:xfrm>
            <a:off x="3268800" y="3297240"/>
            <a:ext cx="9903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445469"/>
                </a:solidFill>
                <a:latin typeface="Bebas Neue"/>
              </a:rPr>
              <a:t>2012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TextBox 24"/>
          <p:cNvSpPr/>
          <p:nvPr/>
        </p:nvSpPr>
        <p:spPr>
          <a:xfrm>
            <a:off x="1965240" y="3297240"/>
            <a:ext cx="9907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445469"/>
                </a:solidFill>
                <a:latin typeface="Bebas Neue"/>
              </a:rPr>
              <a:t>2011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TextBox 25"/>
          <p:cNvSpPr/>
          <p:nvPr/>
        </p:nvSpPr>
        <p:spPr>
          <a:xfrm>
            <a:off x="5915160" y="2095560"/>
            <a:ext cx="99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微软雅黑"/>
                <a:ea typeface="微软雅黑"/>
              </a:rPr>
              <a:t>96%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TextBox 26"/>
          <p:cNvSpPr/>
          <p:nvPr/>
        </p:nvSpPr>
        <p:spPr>
          <a:xfrm>
            <a:off x="4622760" y="2174760"/>
            <a:ext cx="990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微软雅黑"/>
                <a:ea typeface="微软雅黑"/>
              </a:rPr>
              <a:t>75%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TextBox 27"/>
          <p:cNvSpPr/>
          <p:nvPr/>
        </p:nvSpPr>
        <p:spPr>
          <a:xfrm>
            <a:off x="3265560" y="2095560"/>
            <a:ext cx="99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微软雅黑"/>
                <a:ea typeface="微软雅黑"/>
              </a:rPr>
              <a:t>83%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TextBox 28"/>
          <p:cNvSpPr/>
          <p:nvPr/>
        </p:nvSpPr>
        <p:spPr>
          <a:xfrm>
            <a:off x="1963800" y="2222640"/>
            <a:ext cx="99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微软雅黑"/>
                <a:ea typeface="微软雅黑"/>
              </a:rPr>
              <a:t>58%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2" name="图片 19" descr=""/>
          <p:cNvPicPr/>
          <p:nvPr/>
        </p:nvPicPr>
        <p:blipFill>
          <a:blip r:embed="rId1"/>
          <a:stretch/>
        </p:blipFill>
        <p:spPr>
          <a:xfrm>
            <a:off x="0" y="141120"/>
            <a:ext cx="9144000" cy="233640"/>
          </a:xfrm>
          <a:prstGeom prst="rect">
            <a:avLst/>
          </a:prstGeom>
          <a:ln w="0">
            <a:noFill/>
          </a:ln>
        </p:spPr>
      </p:pic>
      <p:sp>
        <p:nvSpPr>
          <p:cNvPr id="583" name="文本框 20"/>
          <p:cNvSpPr/>
          <p:nvPr/>
        </p:nvSpPr>
        <p:spPr>
          <a:xfrm>
            <a:off x="3216240" y="108000"/>
            <a:ext cx="2711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ADD YOUR TITLE H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Freeform 17"/>
          <p:cNvSpPr/>
          <p:nvPr/>
        </p:nvSpPr>
        <p:spPr>
          <a:xfrm>
            <a:off x="4897440" y="2222640"/>
            <a:ext cx="1454040" cy="1073160"/>
          </a:xfrm>
          <a:custGeom>
            <a:avLst/>
            <a:gdLst/>
            <a:ahLst/>
            <a:rect l="l" t="t" r="r" b="b"/>
            <a:pathLst>
              <a:path w="145" h="143">
                <a:moveTo>
                  <a:pt x="145" y="74"/>
                </a:moveTo>
                <a:cubicBezTo>
                  <a:pt x="145" y="82"/>
                  <a:pt x="133" y="88"/>
                  <a:pt x="133" y="88"/>
                </a:cubicBezTo>
                <a:cubicBezTo>
                  <a:pt x="8" y="143"/>
                  <a:pt x="8" y="143"/>
                  <a:pt x="8" y="143"/>
                </a:cubicBezTo>
                <a:cubicBezTo>
                  <a:pt x="8" y="143"/>
                  <a:pt x="4" y="143"/>
                  <a:pt x="2" y="141"/>
                </a:cubicBezTo>
                <a:cubicBezTo>
                  <a:pt x="0" y="139"/>
                  <a:pt x="0" y="135"/>
                  <a:pt x="0" y="135"/>
                </a:cubicBezTo>
                <a:cubicBezTo>
                  <a:pt x="6" y="108"/>
                  <a:pt x="6" y="108"/>
                  <a:pt x="6" y="108"/>
                </a:cubicBezTo>
                <a:cubicBezTo>
                  <a:pt x="6" y="108"/>
                  <a:pt x="50" y="92"/>
                  <a:pt x="50" y="73"/>
                </a:cubicBezTo>
                <a:cubicBezTo>
                  <a:pt x="49" y="57"/>
                  <a:pt x="21" y="44"/>
                  <a:pt x="21" y="44"/>
                </a:cubicBezTo>
                <a:cubicBezTo>
                  <a:pt x="29" y="8"/>
                  <a:pt x="29" y="8"/>
                  <a:pt x="29" y="8"/>
                </a:cubicBezTo>
                <a:cubicBezTo>
                  <a:pt x="29" y="8"/>
                  <a:pt x="31" y="3"/>
                  <a:pt x="36" y="1"/>
                </a:cubicBezTo>
                <a:cubicBezTo>
                  <a:pt x="40" y="0"/>
                  <a:pt x="44" y="3"/>
                  <a:pt x="44" y="3"/>
                </a:cubicBezTo>
                <a:cubicBezTo>
                  <a:pt x="138" y="61"/>
                  <a:pt x="138" y="61"/>
                  <a:pt x="138" y="61"/>
                </a:cubicBezTo>
                <a:cubicBezTo>
                  <a:pt x="138" y="61"/>
                  <a:pt x="145" y="65"/>
                  <a:pt x="145" y="74"/>
                </a:cubicBezTo>
                <a:close/>
              </a:path>
            </a:pathLst>
          </a:cu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Freeform 17"/>
          <p:cNvSpPr/>
          <p:nvPr/>
        </p:nvSpPr>
        <p:spPr>
          <a:xfrm>
            <a:off x="4148280" y="2355840"/>
            <a:ext cx="1110960" cy="820800"/>
          </a:xfrm>
          <a:custGeom>
            <a:avLst/>
            <a:gdLst/>
            <a:ahLst/>
            <a:rect l="l" t="t" r="r" b="b"/>
            <a:pathLst>
              <a:path w="145" h="143">
                <a:moveTo>
                  <a:pt x="145" y="74"/>
                </a:moveTo>
                <a:cubicBezTo>
                  <a:pt x="145" y="82"/>
                  <a:pt x="133" y="88"/>
                  <a:pt x="133" y="88"/>
                </a:cubicBezTo>
                <a:cubicBezTo>
                  <a:pt x="8" y="143"/>
                  <a:pt x="8" y="143"/>
                  <a:pt x="8" y="143"/>
                </a:cubicBezTo>
                <a:cubicBezTo>
                  <a:pt x="8" y="143"/>
                  <a:pt x="4" y="143"/>
                  <a:pt x="2" y="141"/>
                </a:cubicBezTo>
                <a:cubicBezTo>
                  <a:pt x="0" y="139"/>
                  <a:pt x="0" y="135"/>
                  <a:pt x="0" y="135"/>
                </a:cubicBezTo>
                <a:cubicBezTo>
                  <a:pt x="6" y="108"/>
                  <a:pt x="6" y="108"/>
                  <a:pt x="6" y="108"/>
                </a:cubicBezTo>
                <a:cubicBezTo>
                  <a:pt x="6" y="108"/>
                  <a:pt x="50" y="92"/>
                  <a:pt x="50" y="73"/>
                </a:cubicBezTo>
                <a:cubicBezTo>
                  <a:pt x="49" y="57"/>
                  <a:pt x="21" y="44"/>
                  <a:pt x="21" y="44"/>
                </a:cubicBezTo>
                <a:cubicBezTo>
                  <a:pt x="29" y="8"/>
                  <a:pt x="29" y="8"/>
                  <a:pt x="29" y="8"/>
                </a:cubicBezTo>
                <a:cubicBezTo>
                  <a:pt x="29" y="8"/>
                  <a:pt x="31" y="3"/>
                  <a:pt x="36" y="1"/>
                </a:cubicBezTo>
                <a:cubicBezTo>
                  <a:pt x="40" y="0"/>
                  <a:pt x="44" y="3"/>
                  <a:pt x="44" y="3"/>
                </a:cubicBezTo>
                <a:cubicBezTo>
                  <a:pt x="138" y="61"/>
                  <a:pt x="138" y="61"/>
                  <a:pt x="138" y="61"/>
                </a:cubicBezTo>
                <a:cubicBezTo>
                  <a:pt x="138" y="61"/>
                  <a:pt x="145" y="65"/>
                  <a:pt x="145" y="74"/>
                </a:cubicBezTo>
                <a:close/>
              </a:path>
            </a:pathLst>
          </a:cu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Freeform 18"/>
          <p:cNvSpPr/>
          <p:nvPr/>
        </p:nvSpPr>
        <p:spPr>
          <a:xfrm>
            <a:off x="3457440" y="2424240"/>
            <a:ext cx="973440" cy="712800"/>
          </a:xfrm>
          <a:custGeom>
            <a:avLst/>
            <a:gdLst/>
            <a:ahLst/>
            <a:rect l="l" t="t" r="r" b="b"/>
            <a:pathLst>
              <a:path w="127" h="124">
                <a:moveTo>
                  <a:pt x="127" y="64"/>
                </a:moveTo>
                <a:cubicBezTo>
                  <a:pt x="127" y="71"/>
                  <a:pt x="117" y="76"/>
                  <a:pt x="117" y="76"/>
                </a:cubicBezTo>
                <a:cubicBezTo>
                  <a:pt x="8" y="124"/>
                  <a:pt x="8" y="124"/>
                  <a:pt x="8" y="124"/>
                </a:cubicBezTo>
                <a:cubicBezTo>
                  <a:pt x="8" y="124"/>
                  <a:pt x="4" y="124"/>
                  <a:pt x="2" y="123"/>
                </a:cubicBezTo>
                <a:cubicBezTo>
                  <a:pt x="0" y="121"/>
                  <a:pt x="1" y="118"/>
                  <a:pt x="1" y="118"/>
                </a:cubicBezTo>
                <a:cubicBezTo>
                  <a:pt x="6" y="94"/>
                  <a:pt x="6" y="94"/>
                  <a:pt x="6" y="94"/>
                </a:cubicBezTo>
                <a:cubicBezTo>
                  <a:pt x="6" y="94"/>
                  <a:pt x="39" y="81"/>
                  <a:pt x="39" y="62"/>
                </a:cubicBezTo>
                <a:cubicBezTo>
                  <a:pt x="40" y="48"/>
                  <a:pt x="19" y="38"/>
                  <a:pt x="19" y="38"/>
                </a:cubicBezTo>
                <a:cubicBezTo>
                  <a:pt x="26" y="6"/>
                  <a:pt x="26" y="6"/>
                  <a:pt x="26" y="6"/>
                </a:cubicBezTo>
                <a:cubicBezTo>
                  <a:pt x="26" y="6"/>
                  <a:pt x="28" y="2"/>
                  <a:pt x="32" y="1"/>
                </a:cubicBezTo>
                <a:cubicBezTo>
                  <a:pt x="36" y="0"/>
                  <a:pt x="39" y="2"/>
                  <a:pt x="39" y="2"/>
                </a:cubicBezTo>
                <a:cubicBezTo>
                  <a:pt x="121" y="52"/>
                  <a:pt x="121" y="52"/>
                  <a:pt x="121" y="52"/>
                </a:cubicBezTo>
                <a:cubicBezTo>
                  <a:pt x="121" y="52"/>
                  <a:pt x="127" y="57"/>
                  <a:pt x="127" y="64"/>
                </a:cubicBezTo>
                <a:close/>
              </a:path>
            </a:pathLst>
          </a:cu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Freeform 19"/>
          <p:cNvSpPr/>
          <p:nvPr/>
        </p:nvSpPr>
        <p:spPr>
          <a:xfrm>
            <a:off x="2916360" y="2494080"/>
            <a:ext cx="771480" cy="585720"/>
          </a:xfrm>
          <a:custGeom>
            <a:avLst/>
            <a:gdLst/>
            <a:ahLst/>
            <a:rect l="l" t="t" r="r" b="b"/>
            <a:pathLst>
              <a:path w="101" h="102">
                <a:moveTo>
                  <a:pt x="15" y="31"/>
                </a:moveTo>
                <a:cubicBezTo>
                  <a:pt x="21" y="5"/>
                  <a:pt x="21" y="5"/>
                  <a:pt x="21" y="5"/>
                </a:cubicBezTo>
                <a:cubicBezTo>
                  <a:pt x="21" y="5"/>
                  <a:pt x="22" y="2"/>
                  <a:pt x="26" y="1"/>
                </a:cubicBezTo>
                <a:cubicBezTo>
                  <a:pt x="29" y="0"/>
                  <a:pt x="32" y="2"/>
                  <a:pt x="32" y="2"/>
                </a:cubicBezTo>
                <a:cubicBezTo>
                  <a:pt x="95" y="41"/>
                  <a:pt x="95" y="41"/>
                  <a:pt x="95" y="41"/>
                </a:cubicBezTo>
                <a:cubicBezTo>
                  <a:pt x="95" y="41"/>
                  <a:pt x="101" y="46"/>
                  <a:pt x="101" y="51"/>
                </a:cubicBezTo>
                <a:cubicBezTo>
                  <a:pt x="101" y="60"/>
                  <a:pt x="94" y="63"/>
                  <a:pt x="94" y="63"/>
                </a:cubicBezTo>
                <a:cubicBezTo>
                  <a:pt x="6" y="102"/>
                  <a:pt x="6" y="102"/>
                  <a:pt x="6" y="102"/>
                </a:cubicBezTo>
                <a:cubicBezTo>
                  <a:pt x="6" y="102"/>
                  <a:pt x="3" y="102"/>
                  <a:pt x="2" y="101"/>
                </a:cubicBezTo>
                <a:cubicBezTo>
                  <a:pt x="0" y="99"/>
                  <a:pt x="0" y="97"/>
                  <a:pt x="0" y="97"/>
                </a:cubicBezTo>
                <a:cubicBezTo>
                  <a:pt x="5" y="77"/>
                  <a:pt x="5" y="77"/>
                  <a:pt x="5" y="77"/>
                </a:cubicBezTo>
                <a:lnTo>
                  <a:pt x="15" y="31"/>
                </a:lnTo>
                <a:close/>
              </a:path>
            </a:pathLst>
          </a:cu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任意多边形 100"/>
          <p:cNvSpPr/>
          <p:nvPr/>
        </p:nvSpPr>
        <p:spPr>
          <a:xfrm>
            <a:off x="5899320" y="2448000"/>
            <a:ext cx="1911240" cy="162000"/>
          </a:xfrm>
          <a:custGeom>
            <a:avLst/>
            <a:gdLst/>
            <a:ahLst/>
            <a:rect l="l" t="t" r="r" b="b"/>
            <a:pathLst>
              <a:path w="1600200" h="552450">
                <a:moveTo>
                  <a:pt x="0" y="552450"/>
                </a:moveTo>
                <a:lnTo>
                  <a:pt x="171450" y="0"/>
                </a:lnTo>
                <a:lnTo>
                  <a:pt x="1600200" y="0"/>
                </a:lnTo>
              </a:path>
            </a:pathLst>
          </a:custGeom>
          <a:noFill/>
          <a:ln w="12600">
            <a:solidFill>
              <a:srgbClr val="adbac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任意多边形 108"/>
          <p:cNvSpPr/>
          <p:nvPr/>
        </p:nvSpPr>
        <p:spPr>
          <a:xfrm flipH="1">
            <a:off x="1212840" y="2622600"/>
            <a:ext cx="1914480" cy="160200"/>
          </a:xfrm>
          <a:custGeom>
            <a:avLst/>
            <a:gdLst/>
            <a:ahLst/>
            <a:rect l="l" t="t" r="r" b="b"/>
            <a:pathLst>
              <a:path w="1600200" h="552450">
                <a:moveTo>
                  <a:pt x="0" y="552450"/>
                </a:moveTo>
                <a:lnTo>
                  <a:pt x="171450" y="0"/>
                </a:lnTo>
                <a:lnTo>
                  <a:pt x="1600200" y="0"/>
                </a:lnTo>
              </a:path>
            </a:pathLst>
          </a:custGeom>
          <a:noFill/>
          <a:ln w="12600">
            <a:solidFill>
              <a:srgbClr val="adbac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任意多边形 112"/>
          <p:cNvSpPr/>
          <p:nvPr/>
        </p:nvSpPr>
        <p:spPr>
          <a:xfrm>
            <a:off x="4703760" y="2054160"/>
            <a:ext cx="504720" cy="563760"/>
          </a:xfrm>
          <a:custGeom>
            <a:avLst/>
            <a:gdLst/>
            <a:ahLst/>
            <a:rect l="l" t="t" r="r" b="b"/>
            <a:pathLst>
              <a:path w="647700" h="965200">
                <a:moveTo>
                  <a:pt x="0" y="965200"/>
                </a:moveTo>
                <a:lnTo>
                  <a:pt x="101600" y="520700"/>
                </a:lnTo>
                <a:lnTo>
                  <a:pt x="647700" y="0"/>
                </a:lnTo>
              </a:path>
            </a:pathLst>
          </a:custGeom>
          <a:noFill/>
          <a:ln w="12600">
            <a:solidFill>
              <a:srgbClr val="adbac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任意多边形 113"/>
          <p:cNvSpPr/>
          <p:nvPr/>
        </p:nvSpPr>
        <p:spPr>
          <a:xfrm flipH="1">
            <a:off x="3419640" y="2050920"/>
            <a:ext cx="504720" cy="563760"/>
          </a:xfrm>
          <a:custGeom>
            <a:avLst/>
            <a:gdLst/>
            <a:ahLst/>
            <a:rect l="l" t="t" r="r" b="b"/>
            <a:pathLst>
              <a:path w="647700" h="965200">
                <a:moveTo>
                  <a:pt x="0" y="965200"/>
                </a:moveTo>
                <a:lnTo>
                  <a:pt x="101600" y="520700"/>
                </a:lnTo>
                <a:lnTo>
                  <a:pt x="647700" y="0"/>
                </a:lnTo>
              </a:path>
            </a:pathLst>
          </a:custGeom>
          <a:noFill/>
          <a:ln w="12600">
            <a:solidFill>
              <a:srgbClr val="adbac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Freeform 6"/>
          <p:cNvSpPr/>
          <p:nvPr/>
        </p:nvSpPr>
        <p:spPr>
          <a:xfrm>
            <a:off x="3249720" y="2709720"/>
            <a:ext cx="169920" cy="136800"/>
          </a:xfrm>
          <a:custGeom>
            <a:avLst/>
            <a:gdLst/>
            <a:ahLst/>
            <a:rect l="l" t="t" r="r" b="b"/>
            <a:pathLst>
              <a:path w="376" h="401">
                <a:moveTo>
                  <a:pt x="67" y="3"/>
                </a:moveTo>
                <a:cubicBezTo>
                  <a:pt x="67" y="0"/>
                  <a:pt x="62" y="0"/>
                  <a:pt x="62" y="3"/>
                </a:cubicBezTo>
                <a:cubicBezTo>
                  <a:pt x="52" y="85"/>
                  <a:pt x="0" y="102"/>
                  <a:pt x="0" y="159"/>
                </a:cubicBezTo>
                <a:cubicBezTo>
                  <a:pt x="0" y="195"/>
                  <a:pt x="29" y="223"/>
                  <a:pt x="65" y="223"/>
                </a:cubicBezTo>
                <a:cubicBezTo>
                  <a:pt x="100" y="223"/>
                  <a:pt x="129" y="195"/>
                  <a:pt x="129" y="159"/>
                </a:cubicBezTo>
                <a:cubicBezTo>
                  <a:pt x="129" y="102"/>
                  <a:pt x="77" y="85"/>
                  <a:pt x="67" y="3"/>
                </a:cubicBezTo>
                <a:close/>
                <a:moveTo>
                  <a:pt x="313" y="3"/>
                </a:moveTo>
                <a:cubicBezTo>
                  <a:pt x="313" y="0"/>
                  <a:pt x="309" y="0"/>
                  <a:pt x="309" y="3"/>
                </a:cubicBezTo>
                <a:cubicBezTo>
                  <a:pt x="298" y="85"/>
                  <a:pt x="246" y="102"/>
                  <a:pt x="246" y="159"/>
                </a:cubicBezTo>
                <a:cubicBezTo>
                  <a:pt x="246" y="195"/>
                  <a:pt x="276" y="223"/>
                  <a:pt x="311" y="223"/>
                </a:cubicBezTo>
                <a:cubicBezTo>
                  <a:pt x="346" y="223"/>
                  <a:pt x="376" y="195"/>
                  <a:pt x="376" y="159"/>
                </a:cubicBezTo>
                <a:cubicBezTo>
                  <a:pt x="376" y="102"/>
                  <a:pt x="324" y="85"/>
                  <a:pt x="313" y="3"/>
                </a:cubicBezTo>
                <a:close/>
                <a:moveTo>
                  <a:pt x="185" y="180"/>
                </a:moveTo>
                <a:cubicBezTo>
                  <a:pt x="175" y="263"/>
                  <a:pt x="123" y="280"/>
                  <a:pt x="123" y="337"/>
                </a:cubicBezTo>
                <a:cubicBezTo>
                  <a:pt x="123" y="372"/>
                  <a:pt x="153" y="401"/>
                  <a:pt x="188" y="401"/>
                </a:cubicBezTo>
                <a:cubicBezTo>
                  <a:pt x="223" y="401"/>
                  <a:pt x="253" y="372"/>
                  <a:pt x="253" y="337"/>
                </a:cubicBezTo>
                <a:cubicBezTo>
                  <a:pt x="253" y="280"/>
                  <a:pt x="200" y="263"/>
                  <a:pt x="190" y="180"/>
                </a:cubicBezTo>
                <a:cubicBezTo>
                  <a:pt x="190" y="178"/>
                  <a:pt x="186" y="178"/>
                  <a:pt x="185" y="18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Freeform 26"/>
          <p:cNvSpPr/>
          <p:nvPr/>
        </p:nvSpPr>
        <p:spPr>
          <a:xfrm>
            <a:off x="5645160" y="2711520"/>
            <a:ext cx="182520" cy="141120"/>
          </a:xfrm>
          <a:custGeom>
            <a:avLst/>
            <a:gdLst/>
            <a:ahLst/>
            <a:rect l="l" t="t" r="r" b="b"/>
            <a:pathLst>
              <a:path w="274" h="284">
                <a:moveTo>
                  <a:pt x="103" y="284"/>
                </a:moveTo>
                <a:cubicBezTo>
                  <a:pt x="94" y="284"/>
                  <a:pt x="86" y="280"/>
                  <a:pt x="80" y="273"/>
                </a:cubicBezTo>
                <a:cubicBezTo>
                  <a:pt x="9" y="178"/>
                  <a:pt x="9" y="178"/>
                  <a:pt x="9" y="178"/>
                </a:cubicBezTo>
                <a:cubicBezTo>
                  <a:pt x="0" y="166"/>
                  <a:pt x="2" y="149"/>
                  <a:pt x="14" y="139"/>
                </a:cubicBezTo>
                <a:cubicBezTo>
                  <a:pt x="27" y="130"/>
                  <a:pt x="44" y="133"/>
                  <a:pt x="53" y="145"/>
                </a:cubicBezTo>
                <a:cubicBezTo>
                  <a:pt x="100" y="207"/>
                  <a:pt x="100" y="207"/>
                  <a:pt x="100" y="207"/>
                </a:cubicBezTo>
                <a:cubicBezTo>
                  <a:pt x="219" y="17"/>
                  <a:pt x="219" y="17"/>
                  <a:pt x="219" y="17"/>
                </a:cubicBezTo>
                <a:cubicBezTo>
                  <a:pt x="227" y="4"/>
                  <a:pt x="244" y="0"/>
                  <a:pt x="257" y="8"/>
                </a:cubicBezTo>
                <a:cubicBezTo>
                  <a:pt x="270" y="16"/>
                  <a:pt x="274" y="33"/>
                  <a:pt x="266" y="47"/>
                </a:cubicBezTo>
                <a:cubicBezTo>
                  <a:pt x="126" y="271"/>
                  <a:pt x="126" y="271"/>
                  <a:pt x="126" y="271"/>
                </a:cubicBezTo>
                <a:cubicBezTo>
                  <a:pt x="121" y="279"/>
                  <a:pt x="113" y="283"/>
                  <a:pt x="104" y="284"/>
                </a:cubicBezTo>
                <a:cubicBezTo>
                  <a:pt x="104" y="284"/>
                  <a:pt x="103" y="284"/>
                  <a:pt x="103" y="28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Freeform 442"/>
          <p:cNvSpPr/>
          <p:nvPr/>
        </p:nvSpPr>
        <p:spPr>
          <a:xfrm>
            <a:off x="3886200" y="2720880"/>
            <a:ext cx="193680" cy="125640"/>
          </a:xfrm>
          <a:custGeom>
            <a:avLst/>
            <a:gdLst/>
            <a:ahLst/>
            <a:rect l="l" t="t" r="r" b="b"/>
            <a:pathLst>
              <a:path w="288" h="246">
                <a:moveTo>
                  <a:pt x="278" y="0"/>
                </a:moveTo>
                <a:cubicBezTo>
                  <a:pt x="52" y="0"/>
                  <a:pt x="52" y="0"/>
                  <a:pt x="52" y="0"/>
                </a:cubicBezTo>
                <a:cubicBezTo>
                  <a:pt x="44" y="0"/>
                  <a:pt x="42" y="2"/>
                  <a:pt x="42" y="10"/>
                </a:cubicBezTo>
                <a:cubicBezTo>
                  <a:pt x="42" y="43"/>
                  <a:pt x="42" y="43"/>
                  <a:pt x="42" y="43"/>
                </a:cubicBezTo>
                <a:cubicBezTo>
                  <a:pt x="10" y="43"/>
                  <a:pt x="10" y="43"/>
                  <a:pt x="10" y="43"/>
                </a:cubicBezTo>
                <a:cubicBezTo>
                  <a:pt x="2" y="43"/>
                  <a:pt x="0" y="45"/>
                  <a:pt x="0" y="53"/>
                </a:cubicBezTo>
                <a:cubicBezTo>
                  <a:pt x="0" y="219"/>
                  <a:pt x="0" y="219"/>
                  <a:pt x="0" y="219"/>
                </a:cubicBezTo>
                <a:cubicBezTo>
                  <a:pt x="0" y="231"/>
                  <a:pt x="14" y="246"/>
                  <a:pt x="27" y="246"/>
                </a:cubicBezTo>
                <a:cubicBezTo>
                  <a:pt x="52" y="246"/>
                  <a:pt x="52" y="246"/>
                  <a:pt x="52" y="246"/>
                </a:cubicBezTo>
                <a:cubicBezTo>
                  <a:pt x="241" y="246"/>
                  <a:pt x="241" y="246"/>
                  <a:pt x="241" y="246"/>
                </a:cubicBezTo>
                <a:cubicBezTo>
                  <a:pt x="278" y="246"/>
                  <a:pt x="278" y="246"/>
                  <a:pt x="278" y="246"/>
                </a:cubicBezTo>
                <a:cubicBezTo>
                  <a:pt x="286" y="246"/>
                  <a:pt x="288" y="244"/>
                  <a:pt x="288" y="236"/>
                </a:cubicBezTo>
                <a:cubicBezTo>
                  <a:pt x="288" y="10"/>
                  <a:pt x="288" y="10"/>
                  <a:pt x="288" y="10"/>
                </a:cubicBezTo>
                <a:cubicBezTo>
                  <a:pt x="288" y="2"/>
                  <a:pt x="286" y="0"/>
                  <a:pt x="278" y="0"/>
                </a:cubicBezTo>
                <a:close/>
                <a:moveTo>
                  <a:pt x="271" y="229"/>
                </a:moveTo>
                <a:cubicBezTo>
                  <a:pt x="241" y="229"/>
                  <a:pt x="241" y="229"/>
                  <a:pt x="241" y="229"/>
                </a:cubicBezTo>
                <a:cubicBezTo>
                  <a:pt x="52" y="229"/>
                  <a:pt x="52" y="229"/>
                  <a:pt x="52" y="229"/>
                </a:cubicBezTo>
                <a:cubicBezTo>
                  <a:pt x="27" y="229"/>
                  <a:pt x="27" y="229"/>
                  <a:pt x="27" y="229"/>
                </a:cubicBezTo>
                <a:cubicBezTo>
                  <a:pt x="24" y="229"/>
                  <a:pt x="17" y="222"/>
                  <a:pt x="17" y="219"/>
                </a:cubicBezTo>
                <a:cubicBezTo>
                  <a:pt x="17" y="60"/>
                  <a:pt x="17" y="60"/>
                  <a:pt x="17" y="60"/>
                </a:cubicBezTo>
                <a:cubicBezTo>
                  <a:pt x="42" y="60"/>
                  <a:pt x="42" y="60"/>
                  <a:pt x="42" y="60"/>
                </a:cubicBezTo>
                <a:cubicBezTo>
                  <a:pt x="42" y="214"/>
                  <a:pt x="42" y="214"/>
                  <a:pt x="42" y="214"/>
                </a:cubicBezTo>
                <a:cubicBezTo>
                  <a:pt x="59" y="214"/>
                  <a:pt x="59" y="214"/>
                  <a:pt x="59" y="214"/>
                </a:cubicBezTo>
                <a:cubicBezTo>
                  <a:pt x="59" y="60"/>
                  <a:pt x="59" y="60"/>
                  <a:pt x="59" y="60"/>
                </a:cubicBezTo>
                <a:cubicBezTo>
                  <a:pt x="59" y="60"/>
                  <a:pt x="59" y="60"/>
                  <a:pt x="59" y="60"/>
                </a:cubicBezTo>
                <a:cubicBezTo>
                  <a:pt x="59" y="43"/>
                  <a:pt x="59" y="43"/>
                  <a:pt x="59" y="43"/>
                </a:cubicBezTo>
                <a:cubicBezTo>
                  <a:pt x="59" y="17"/>
                  <a:pt x="59" y="17"/>
                  <a:pt x="59" y="17"/>
                </a:cubicBezTo>
                <a:cubicBezTo>
                  <a:pt x="271" y="17"/>
                  <a:pt x="271" y="17"/>
                  <a:pt x="271" y="17"/>
                </a:cubicBezTo>
                <a:lnTo>
                  <a:pt x="271" y="22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Rectangle 443"/>
          <p:cNvSpPr/>
          <p:nvPr/>
        </p:nvSpPr>
        <p:spPr>
          <a:xfrm>
            <a:off x="3941640" y="2741760"/>
            <a:ext cx="50760" cy="3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600" bIns="36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Rectangle 444"/>
          <p:cNvSpPr/>
          <p:nvPr/>
        </p:nvSpPr>
        <p:spPr>
          <a:xfrm>
            <a:off x="4008600" y="2746440"/>
            <a:ext cx="42840" cy="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-28080" bIns="-2808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Rectangle 445"/>
          <p:cNvSpPr/>
          <p:nvPr/>
        </p:nvSpPr>
        <p:spPr>
          <a:xfrm>
            <a:off x="4008600" y="2765520"/>
            <a:ext cx="42840" cy="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-28080" bIns="-2808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Rectangle 446"/>
          <p:cNvSpPr/>
          <p:nvPr/>
        </p:nvSpPr>
        <p:spPr>
          <a:xfrm>
            <a:off x="3941640" y="2792520"/>
            <a:ext cx="109800" cy="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-28080" bIns="-2808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Rectangle 447"/>
          <p:cNvSpPr/>
          <p:nvPr/>
        </p:nvSpPr>
        <p:spPr>
          <a:xfrm>
            <a:off x="3941640" y="2813040"/>
            <a:ext cx="109800" cy="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-27720" bIns="-2772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Oval 56"/>
          <p:cNvSpPr/>
          <p:nvPr/>
        </p:nvSpPr>
        <p:spPr>
          <a:xfrm>
            <a:off x="4703760" y="2698920"/>
            <a:ext cx="227160" cy="169560"/>
          </a:xfrm>
          <a:prstGeom prst="ellipse">
            <a:avLst/>
          </a:prstGeom>
          <a:noFill/>
          <a:ln cap="rnd" w="30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0120" rIns="60120" tIns="30240" bIns="3024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Freeform 57"/>
          <p:cNvSpPr/>
          <p:nvPr/>
        </p:nvSpPr>
        <p:spPr>
          <a:xfrm>
            <a:off x="4738680" y="2720880"/>
            <a:ext cx="117360" cy="79560"/>
          </a:xfrm>
          <a:custGeom>
            <a:avLst/>
            <a:gdLst/>
            <a:ahLst/>
            <a:rect l="l" t="t" r="r" b="b"/>
            <a:pathLst>
              <a:path w="95" h="87">
                <a:moveTo>
                  <a:pt x="8" y="33"/>
                </a:moveTo>
                <a:cubicBezTo>
                  <a:pt x="4" y="44"/>
                  <a:pt x="7" y="61"/>
                  <a:pt x="29" y="74"/>
                </a:cubicBezTo>
                <a:cubicBezTo>
                  <a:pt x="51" y="86"/>
                  <a:pt x="55" y="83"/>
                  <a:pt x="57" y="85"/>
                </a:cubicBezTo>
                <a:cubicBezTo>
                  <a:pt x="59" y="87"/>
                  <a:pt x="53" y="87"/>
                  <a:pt x="54" y="81"/>
                </a:cubicBezTo>
                <a:cubicBezTo>
                  <a:pt x="55" y="75"/>
                  <a:pt x="51" y="76"/>
                  <a:pt x="48" y="76"/>
                </a:cubicBezTo>
                <a:cubicBezTo>
                  <a:pt x="45" y="76"/>
                  <a:pt x="44" y="70"/>
                  <a:pt x="45" y="67"/>
                </a:cubicBezTo>
                <a:cubicBezTo>
                  <a:pt x="46" y="63"/>
                  <a:pt x="41" y="71"/>
                  <a:pt x="36" y="64"/>
                </a:cubicBezTo>
                <a:cubicBezTo>
                  <a:pt x="32" y="56"/>
                  <a:pt x="39" y="50"/>
                  <a:pt x="45" y="52"/>
                </a:cubicBezTo>
                <a:cubicBezTo>
                  <a:pt x="61" y="57"/>
                  <a:pt x="59" y="43"/>
                  <a:pt x="71" y="33"/>
                </a:cubicBezTo>
                <a:cubicBezTo>
                  <a:pt x="95" y="15"/>
                  <a:pt x="60" y="5"/>
                  <a:pt x="43" y="3"/>
                </a:cubicBezTo>
                <a:cubicBezTo>
                  <a:pt x="25" y="0"/>
                  <a:pt x="0" y="7"/>
                  <a:pt x="6" y="14"/>
                </a:cubicBezTo>
                <a:cubicBezTo>
                  <a:pt x="12" y="20"/>
                  <a:pt x="9" y="30"/>
                  <a:pt x="8" y="33"/>
                </a:cubicBezTo>
                <a:close/>
              </a:path>
            </a:pathLst>
          </a:custGeom>
          <a:noFill/>
          <a:ln cap="rnd" w="30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Freeform 58"/>
          <p:cNvSpPr/>
          <p:nvPr/>
        </p:nvSpPr>
        <p:spPr>
          <a:xfrm>
            <a:off x="4800600" y="2782800"/>
            <a:ext cx="90360" cy="77760"/>
          </a:xfrm>
          <a:custGeom>
            <a:avLst/>
            <a:gdLst/>
            <a:ahLst/>
            <a:rect l="l" t="t" r="r" b="b"/>
            <a:pathLst>
              <a:path w="73" h="85">
                <a:moveTo>
                  <a:pt x="12" y="32"/>
                </a:moveTo>
                <a:cubicBezTo>
                  <a:pt x="10" y="43"/>
                  <a:pt x="0" y="34"/>
                  <a:pt x="12" y="45"/>
                </a:cubicBezTo>
                <a:cubicBezTo>
                  <a:pt x="23" y="56"/>
                  <a:pt x="26" y="33"/>
                  <a:pt x="25" y="58"/>
                </a:cubicBezTo>
                <a:cubicBezTo>
                  <a:pt x="23" y="83"/>
                  <a:pt x="2" y="85"/>
                  <a:pt x="19" y="80"/>
                </a:cubicBezTo>
                <a:cubicBezTo>
                  <a:pt x="36" y="74"/>
                  <a:pt x="33" y="79"/>
                  <a:pt x="45" y="66"/>
                </a:cubicBezTo>
                <a:cubicBezTo>
                  <a:pt x="58" y="54"/>
                  <a:pt x="60" y="47"/>
                  <a:pt x="66" y="37"/>
                </a:cubicBezTo>
                <a:cubicBezTo>
                  <a:pt x="73" y="27"/>
                  <a:pt x="62" y="31"/>
                  <a:pt x="54" y="24"/>
                </a:cubicBezTo>
                <a:cubicBezTo>
                  <a:pt x="47" y="17"/>
                  <a:pt x="34" y="0"/>
                  <a:pt x="24" y="11"/>
                </a:cubicBezTo>
                <a:cubicBezTo>
                  <a:pt x="14" y="21"/>
                  <a:pt x="12" y="32"/>
                  <a:pt x="12" y="32"/>
                </a:cubicBezTo>
                <a:close/>
              </a:path>
            </a:pathLst>
          </a:custGeom>
          <a:noFill/>
          <a:ln cap="rnd" w="30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Freeform 59"/>
          <p:cNvSpPr/>
          <p:nvPr/>
        </p:nvSpPr>
        <p:spPr>
          <a:xfrm>
            <a:off x="4848120" y="2703600"/>
            <a:ext cx="77760" cy="108000"/>
          </a:xfrm>
          <a:custGeom>
            <a:avLst/>
            <a:gdLst/>
            <a:ahLst/>
            <a:rect l="l" t="t" r="r" b="b"/>
            <a:pathLst>
              <a:path w="63" h="119">
                <a:moveTo>
                  <a:pt x="0" y="0"/>
                </a:moveTo>
                <a:cubicBezTo>
                  <a:pt x="0" y="6"/>
                  <a:pt x="3" y="22"/>
                  <a:pt x="11" y="30"/>
                </a:cubicBezTo>
                <a:cubicBezTo>
                  <a:pt x="19" y="37"/>
                  <a:pt x="45" y="44"/>
                  <a:pt x="46" y="54"/>
                </a:cubicBezTo>
                <a:cubicBezTo>
                  <a:pt x="47" y="64"/>
                  <a:pt x="58" y="71"/>
                  <a:pt x="54" y="81"/>
                </a:cubicBezTo>
                <a:cubicBezTo>
                  <a:pt x="50" y="90"/>
                  <a:pt x="42" y="103"/>
                  <a:pt x="52" y="111"/>
                </a:cubicBezTo>
                <a:cubicBezTo>
                  <a:pt x="61" y="119"/>
                  <a:pt x="63" y="113"/>
                  <a:pt x="63" y="113"/>
                </a:cubicBezTo>
              </a:path>
            </a:pathLst>
          </a:custGeom>
          <a:noFill/>
          <a:ln cap="rnd" w="30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TextBox 13"/>
          <p:cNvSpPr/>
          <p:nvPr/>
        </p:nvSpPr>
        <p:spPr>
          <a:xfrm>
            <a:off x="2814480" y="1671480"/>
            <a:ext cx="1103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TextBox 13"/>
          <p:cNvSpPr/>
          <p:nvPr/>
        </p:nvSpPr>
        <p:spPr>
          <a:xfrm>
            <a:off x="2817720" y="1832040"/>
            <a:ext cx="1174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TextBox 13"/>
          <p:cNvSpPr/>
          <p:nvPr/>
        </p:nvSpPr>
        <p:spPr>
          <a:xfrm>
            <a:off x="4794120" y="1671480"/>
            <a:ext cx="1105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TextBox 13"/>
          <p:cNvSpPr/>
          <p:nvPr/>
        </p:nvSpPr>
        <p:spPr>
          <a:xfrm>
            <a:off x="4797360" y="1832040"/>
            <a:ext cx="1174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TextBox 13"/>
          <p:cNvSpPr/>
          <p:nvPr/>
        </p:nvSpPr>
        <p:spPr>
          <a:xfrm>
            <a:off x="6818400" y="2583000"/>
            <a:ext cx="1104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TextBox 13"/>
          <p:cNvSpPr/>
          <p:nvPr/>
        </p:nvSpPr>
        <p:spPr>
          <a:xfrm>
            <a:off x="6821640" y="2743200"/>
            <a:ext cx="1176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TextBox 13"/>
          <p:cNvSpPr/>
          <p:nvPr/>
        </p:nvSpPr>
        <p:spPr>
          <a:xfrm>
            <a:off x="569880" y="2697120"/>
            <a:ext cx="1103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TextBox 13"/>
          <p:cNvSpPr/>
          <p:nvPr/>
        </p:nvSpPr>
        <p:spPr>
          <a:xfrm>
            <a:off x="573120" y="2857680"/>
            <a:ext cx="1174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矩形 33"/>
          <p:cNvSpPr/>
          <p:nvPr/>
        </p:nvSpPr>
        <p:spPr>
          <a:xfrm>
            <a:off x="987480" y="3703680"/>
            <a:ext cx="71467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3" name="图片 24" descr=""/>
          <p:cNvPicPr/>
          <p:nvPr/>
        </p:nvPicPr>
        <p:blipFill>
          <a:blip r:embed="rId1"/>
          <a:stretch/>
        </p:blipFill>
        <p:spPr>
          <a:xfrm>
            <a:off x="0" y="665280"/>
            <a:ext cx="4657680" cy="3855960"/>
          </a:xfrm>
          <a:prstGeom prst="rect">
            <a:avLst/>
          </a:prstGeom>
          <a:ln w="0">
            <a:noFill/>
          </a:ln>
        </p:spPr>
      </p:pic>
      <p:pic>
        <p:nvPicPr>
          <p:cNvPr id="614" name="图片 19" descr=""/>
          <p:cNvPicPr/>
          <p:nvPr/>
        </p:nvPicPr>
        <p:blipFill>
          <a:blip r:embed="rId2"/>
          <a:stretch/>
        </p:blipFill>
        <p:spPr>
          <a:xfrm>
            <a:off x="0" y="141120"/>
            <a:ext cx="9144000" cy="233640"/>
          </a:xfrm>
          <a:prstGeom prst="rect">
            <a:avLst/>
          </a:prstGeom>
          <a:ln w="0">
            <a:noFill/>
          </a:ln>
        </p:spPr>
      </p:pic>
      <p:sp>
        <p:nvSpPr>
          <p:cNvPr id="615" name="文本框 20"/>
          <p:cNvSpPr/>
          <p:nvPr/>
        </p:nvSpPr>
        <p:spPr>
          <a:xfrm>
            <a:off x="3216240" y="108000"/>
            <a:ext cx="2711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ADD YOUR TITLE H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Right Arrow">
            <a:hlinkClick r:id="" action="ppaction://hlinkshowjump?jump=nextslide"/>
          </p:cNvPr>
          <p:cNvSpPr/>
          <p:nvPr/>
        </p:nvSpPr>
        <p:spPr>
          <a:xfrm>
            <a:off x="714240" y="4297320"/>
            <a:ext cx="171720" cy="130320"/>
          </a:xfrm>
          <a:custGeom>
            <a:avLst/>
            <a:gdLst/>
            <a:ahLst/>
            <a:rect l="l" t="t" r="r" b="b"/>
            <a:pathLst>
              <a:path w="228600" h="228600">
                <a:moveTo>
                  <a:pt x="124067" y="68591"/>
                </a:moveTo>
                <a:cubicBezTo>
                  <a:pt x="125741" y="68554"/>
                  <a:pt x="127397" y="69354"/>
                  <a:pt x="129034" y="70991"/>
                </a:cubicBezTo>
                <a:lnTo>
                  <a:pt x="171004" y="114300"/>
                </a:lnTo>
                <a:lnTo>
                  <a:pt x="129034" y="157609"/>
                </a:lnTo>
                <a:cubicBezTo>
                  <a:pt x="127546" y="159097"/>
                  <a:pt x="125834" y="159841"/>
                  <a:pt x="123900" y="159841"/>
                </a:cubicBezTo>
                <a:cubicBezTo>
                  <a:pt x="121965" y="159841"/>
                  <a:pt x="120253" y="159097"/>
                  <a:pt x="118765" y="157609"/>
                </a:cubicBezTo>
                <a:cubicBezTo>
                  <a:pt x="115491" y="154334"/>
                  <a:pt x="115491" y="151060"/>
                  <a:pt x="118765" y="147786"/>
                </a:cubicBezTo>
                <a:lnTo>
                  <a:pt x="145108" y="121443"/>
                </a:lnTo>
                <a:lnTo>
                  <a:pt x="64294" y="121443"/>
                </a:lnTo>
                <a:cubicBezTo>
                  <a:pt x="62210" y="121443"/>
                  <a:pt x="60499" y="120699"/>
                  <a:pt x="59159" y="119211"/>
                </a:cubicBezTo>
                <a:cubicBezTo>
                  <a:pt x="57820" y="117723"/>
                  <a:pt x="57150" y="116011"/>
                  <a:pt x="57150" y="114076"/>
                </a:cubicBezTo>
                <a:cubicBezTo>
                  <a:pt x="57150" y="112142"/>
                  <a:pt x="57820" y="110505"/>
                  <a:pt x="59159" y="109165"/>
                </a:cubicBezTo>
                <a:cubicBezTo>
                  <a:pt x="60499" y="107826"/>
                  <a:pt x="62210" y="107156"/>
                  <a:pt x="64294" y="107156"/>
                </a:cubicBezTo>
                <a:lnTo>
                  <a:pt x="144661" y="107156"/>
                </a:lnTo>
                <a:lnTo>
                  <a:pt x="118765" y="81260"/>
                </a:lnTo>
                <a:cubicBezTo>
                  <a:pt x="115491" y="77986"/>
                  <a:pt x="115565" y="74637"/>
                  <a:pt x="118988" y="71214"/>
                </a:cubicBezTo>
                <a:cubicBezTo>
                  <a:pt x="120700" y="69502"/>
                  <a:pt x="122393" y="68628"/>
                  <a:pt x="124067" y="68591"/>
                </a:cubicBezTo>
                <a:close/>
                <a:moveTo>
                  <a:pt x="114300" y="14287"/>
                </a:moveTo>
                <a:cubicBezTo>
                  <a:pt x="86618" y="14287"/>
                  <a:pt x="63029" y="24035"/>
                  <a:pt x="43532" y="43532"/>
                </a:cubicBezTo>
                <a:cubicBezTo>
                  <a:pt x="24036" y="63028"/>
                  <a:pt x="14288" y="86618"/>
                  <a:pt x="14288" y="114300"/>
                </a:cubicBezTo>
                <a:cubicBezTo>
                  <a:pt x="14288" y="141982"/>
                  <a:pt x="24036" y="165645"/>
                  <a:pt x="43532" y="185291"/>
                </a:cubicBezTo>
                <a:cubicBezTo>
                  <a:pt x="63029" y="204936"/>
                  <a:pt x="86618" y="214759"/>
                  <a:pt x="114300" y="214759"/>
                </a:cubicBezTo>
                <a:cubicBezTo>
                  <a:pt x="141982" y="214759"/>
                  <a:pt x="165571" y="204936"/>
                  <a:pt x="185068" y="185291"/>
                </a:cubicBezTo>
                <a:cubicBezTo>
                  <a:pt x="204564" y="165645"/>
                  <a:pt x="214313" y="141982"/>
                  <a:pt x="214313" y="114300"/>
                </a:cubicBezTo>
                <a:cubicBezTo>
                  <a:pt x="214313" y="86618"/>
                  <a:pt x="204564" y="63028"/>
                  <a:pt x="185068" y="43532"/>
                </a:cubicBezTo>
                <a:cubicBezTo>
                  <a:pt x="165571" y="24035"/>
                  <a:pt x="141982" y="14287"/>
                  <a:pt x="114300" y="14287"/>
                </a:cubicBezTo>
                <a:close/>
                <a:moveTo>
                  <a:pt x="114300" y="0"/>
                </a:moveTo>
                <a:cubicBezTo>
                  <a:pt x="145852" y="0"/>
                  <a:pt x="172790" y="11162"/>
                  <a:pt x="195114" y="33486"/>
                </a:cubicBezTo>
                <a:cubicBezTo>
                  <a:pt x="217438" y="55810"/>
                  <a:pt x="228600" y="82748"/>
                  <a:pt x="228600" y="114300"/>
                </a:cubicBezTo>
                <a:cubicBezTo>
                  <a:pt x="228600" y="145851"/>
                  <a:pt x="217438" y="172789"/>
                  <a:pt x="195114" y="195113"/>
                </a:cubicBezTo>
                <a:cubicBezTo>
                  <a:pt x="172790" y="217438"/>
                  <a:pt x="145852" y="228600"/>
                  <a:pt x="114300" y="228600"/>
                </a:cubicBezTo>
                <a:cubicBezTo>
                  <a:pt x="82749" y="228600"/>
                  <a:pt x="55811" y="217438"/>
                  <a:pt x="33486" y="195113"/>
                </a:cubicBezTo>
                <a:cubicBezTo>
                  <a:pt x="11162" y="172789"/>
                  <a:pt x="0" y="145851"/>
                  <a:pt x="0" y="114300"/>
                </a:cubicBezTo>
                <a:cubicBezTo>
                  <a:pt x="0" y="82748"/>
                  <a:pt x="11162" y="55810"/>
                  <a:pt x="33486" y="33486"/>
                </a:cubicBezTo>
                <a:cubicBezTo>
                  <a:pt x="55811" y="11162"/>
                  <a:pt x="82749" y="0"/>
                  <a:pt x="114300" y="0"/>
                </a:cubicBez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Left Arrow">
            <a:hlinkClick r:id="" action="ppaction://hlinkshowjump?jump=previousslide"/>
          </p:cNvPr>
          <p:cNvSpPr/>
          <p:nvPr/>
        </p:nvSpPr>
        <p:spPr>
          <a:xfrm>
            <a:off x="457200" y="4297320"/>
            <a:ext cx="171360" cy="130320"/>
          </a:xfrm>
          <a:custGeom>
            <a:avLst/>
            <a:gdLst/>
            <a:ahLst/>
            <a:rect l="l" t="t" r="r" b="b"/>
            <a:pathLst>
              <a:path w="228600" h="228600">
                <a:moveTo>
                  <a:pt x="104533" y="68591"/>
                </a:moveTo>
                <a:cubicBezTo>
                  <a:pt x="106208" y="68628"/>
                  <a:pt x="107901" y="69502"/>
                  <a:pt x="109612" y="71214"/>
                </a:cubicBezTo>
                <a:cubicBezTo>
                  <a:pt x="113035" y="74637"/>
                  <a:pt x="113110" y="77986"/>
                  <a:pt x="109835" y="81260"/>
                </a:cubicBezTo>
                <a:lnTo>
                  <a:pt x="83939" y="107156"/>
                </a:lnTo>
                <a:lnTo>
                  <a:pt x="164306" y="107156"/>
                </a:lnTo>
                <a:cubicBezTo>
                  <a:pt x="166390" y="107156"/>
                  <a:pt x="168102" y="107826"/>
                  <a:pt x="169441" y="109165"/>
                </a:cubicBezTo>
                <a:cubicBezTo>
                  <a:pt x="170781" y="110505"/>
                  <a:pt x="171450" y="112142"/>
                  <a:pt x="171450" y="114076"/>
                </a:cubicBezTo>
                <a:cubicBezTo>
                  <a:pt x="171450" y="116011"/>
                  <a:pt x="170781" y="117723"/>
                  <a:pt x="169441" y="119211"/>
                </a:cubicBezTo>
                <a:cubicBezTo>
                  <a:pt x="168102" y="120699"/>
                  <a:pt x="166390" y="121443"/>
                  <a:pt x="164306" y="121443"/>
                </a:cubicBezTo>
                <a:lnTo>
                  <a:pt x="83493" y="121443"/>
                </a:lnTo>
                <a:lnTo>
                  <a:pt x="109835" y="147786"/>
                </a:lnTo>
                <a:cubicBezTo>
                  <a:pt x="113110" y="151060"/>
                  <a:pt x="113110" y="154334"/>
                  <a:pt x="109835" y="157609"/>
                </a:cubicBezTo>
                <a:cubicBezTo>
                  <a:pt x="108347" y="159097"/>
                  <a:pt x="106636" y="159841"/>
                  <a:pt x="104701" y="159841"/>
                </a:cubicBezTo>
                <a:cubicBezTo>
                  <a:pt x="102766" y="159841"/>
                  <a:pt x="101055" y="159097"/>
                  <a:pt x="99566" y="157609"/>
                </a:cubicBezTo>
                <a:lnTo>
                  <a:pt x="57597" y="114300"/>
                </a:lnTo>
                <a:lnTo>
                  <a:pt x="99566" y="70991"/>
                </a:lnTo>
                <a:cubicBezTo>
                  <a:pt x="101203" y="69354"/>
                  <a:pt x="102859" y="68554"/>
                  <a:pt x="104533" y="68591"/>
                </a:cubicBezTo>
                <a:close/>
                <a:moveTo>
                  <a:pt x="114300" y="14287"/>
                </a:moveTo>
                <a:cubicBezTo>
                  <a:pt x="86618" y="14287"/>
                  <a:pt x="63029" y="24035"/>
                  <a:pt x="43532" y="43532"/>
                </a:cubicBezTo>
                <a:cubicBezTo>
                  <a:pt x="24036" y="63028"/>
                  <a:pt x="14288" y="86618"/>
                  <a:pt x="14288" y="114300"/>
                </a:cubicBezTo>
                <a:cubicBezTo>
                  <a:pt x="14288" y="141982"/>
                  <a:pt x="24036" y="165645"/>
                  <a:pt x="43532" y="185291"/>
                </a:cubicBezTo>
                <a:cubicBezTo>
                  <a:pt x="63029" y="204936"/>
                  <a:pt x="86618" y="214759"/>
                  <a:pt x="114300" y="214759"/>
                </a:cubicBezTo>
                <a:cubicBezTo>
                  <a:pt x="141982" y="214759"/>
                  <a:pt x="165572" y="204936"/>
                  <a:pt x="185068" y="185291"/>
                </a:cubicBezTo>
                <a:cubicBezTo>
                  <a:pt x="204564" y="165645"/>
                  <a:pt x="214313" y="141982"/>
                  <a:pt x="214313" y="114300"/>
                </a:cubicBezTo>
                <a:cubicBezTo>
                  <a:pt x="214313" y="86618"/>
                  <a:pt x="204564" y="63028"/>
                  <a:pt x="185068" y="43532"/>
                </a:cubicBezTo>
                <a:cubicBezTo>
                  <a:pt x="165572" y="24035"/>
                  <a:pt x="141982" y="14287"/>
                  <a:pt x="114300" y="14287"/>
                </a:cubicBezTo>
                <a:close/>
                <a:moveTo>
                  <a:pt x="114300" y="0"/>
                </a:moveTo>
                <a:cubicBezTo>
                  <a:pt x="145852" y="0"/>
                  <a:pt x="172790" y="11162"/>
                  <a:pt x="195114" y="33486"/>
                </a:cubicBezTo>
                <a:cubicBezTo>
                  <a:pt x="217438" y="55810"/>
                  <a:pt x="228600" y="82748"/>
                  <a:pt x="228600" y="114300"/>
                </a:cubicBezTo>
                <a:cubicBezTo>
                  <a:pt x="228600" y="145851"/>
                  <a:pt x="217438" y="172789"/>
                  <a:pt x="195114" y="195113"/>
                </a:cubicBezTo>
                <a:cubicBezTo>
                  <a:pt x="172790" y="217438"/>
                  <a:pt x="145852" y="228600"/>
                  <a:pt x="114300" y="228600"/>
                </a:cubicBezTo>
                <a:cubicBezTo>
                  <a:pt x="82749" y="228600"/>
                  <a:pt x="55811" y="217438"/>
                  <a:pt x="33487" y="195113"/>
                </a:cubicBezTo>
                <a:cubicBezTo>
                  <a:pt x="11162" y="172789"/>
                  <a:pt x="0" y="145851"/>
                  <a:pt x="0" y="114300"/>
                </a:cubicBezTo>
                <a:cubicBezTo>
                  <a:pt x="0" y="82748"/>
                  <a:pt x="11162" y="55810"/>
                  <a:pt x="33487" y="33486"/>
                </a:cubicBezTo>
                <a:cubicBezTo>
                  <a:pt x="55811" y="11162"/>
                  <a:pt x="82749" y="0"/>
                  <a:pt x="114300" y="0"/>
                </a:cubicBez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Freeform 15"/>
          <p:cNvSpPr/>
          <p:nvPr/>
        </p:nvSpPr>
        <p:spPr>
          <a:xfrm>
            <a:off x="5361120" y="2633760"/>
            <a:ext cx="438120" cy="326880"/>
          </a:xfrm>
          <a:custGeom>
            <a:avLst/>
            <a:gdLst/>
            <a:ahLst/>
            <a:rect l="l" t="t" r="r" b="b"/>
            <a:pathLst>
              <a:path w="195943" h="195943">
                <a:moveTo>
                  <a:pt x="36740" y="0"/>
                </a:moveTo>
                <a:lnTo>
                  <a:pt x="159204" y="0"/>
                </a:lnTo>
                <a:cubicBezTo>
                  <a:pt x="169324" y="0"/>
                  <a:pt x="177977" y="3593"/>
                  <a:pt x="185164" y="10779"/>
                </a:cubicBezTo>
                <a:cubicBezTo>
                  <a:pt x="192350" y="17966"/>
                  <a:pt x="195943" y="26619"/>
                  <a:pt x="195943" y="36739"/>
                </a:cubicBezTo>
                <a:lnTo>
                  <a:pt x="195943" y="159203"/>
                </a:lnTo>
                <a:cubicBezTo>
                  <a:pt x="195943" y="169324"/>
                  <a:pt x="192350" y="177977"/>
                  <a:pt x="185164" y="185163"/>
                </a:cubicBezTo>
                <a:cubicBezTo>
                  <a:pt x="177977" y="192350"/>
                  <a:pt x="169324" y="195943"/>
                  <a:pt x="159204" y="195943"/>
                </a:cubicBezTo>
                <a:lnTo>
                  <a:pt x="134711" y="195943"/>
                </a:lnTo>
                <a:lnTo>
                  <a:pt x="134711" y="118382"/>
                </a:lnTo>
                <a:lnTo>
                  <a:pt x="160607" y="118382"/>
                </a:lnTo>
                <a:lnTo>
                  <a:pt x="164434" y="89807"/>
                </a:lnTo>
                <a:lnTo>
                  <a:pt x="134711" y="89807"/>
                </a:lnTo>
                <a:lnTo>
                  <a:pt x="134711" y="71565"/>
                </a:lnTo>
                <a:cubicBezTo>
                  <a:pt x="134711" y="66973"/>
                  <a:pt x="135902" y="63443"/>
                  <a:pt x="138283" y="60977"/>
                </a:cubicBezTo>
                <a:cubicBezTo>
                  <a:pt x="140664" y="58511"/>
                  <a:pt x="144746" y="57277"/>
                  <a:pt x="150529" y="57277"/>
                </a:cubicBezTo>
                <a:lnTo>
                  <a:pt x="167368" y="57150"/>
                </a:lnTo>
                <a:lnTo>
                  <a:pt x="167368" y="30743"/>
                </a:lnTo>
                <a:cubicBezTo>
                  <a:pt x="159204" y="29978"/>
                  <a:pt x="151550" y="29595"/>
                  <a:pt x="144406" y="29595"/>
                </a:cubicBezTo>
                <a:cubicBezTo>
                  <a:pt x="132840" y="29595"/>
                  <a:pt x="123570" y="33018"/>
                  <a:pt x="116596" y="39865"/>
                </a:cubicBezTo>
                <a:cubicBezTo>
                  <a:pt x="109623" y="46711"/>
                  <a:pt x="106136" y="56299"/>
                  <a:pt x="106136" y="68631"/>
                </a:cubicBezTo>
                <a:lnTo>
                  <a:pt x="106136" y="89807"/>
                </a:lnTo>
                <a:lnTo>
                  <a:pt x="77561" y="89807"/>
                </a:lnTo>
                <a:lnTo>
                  <a:pt x="77561" y="118382"/>
                </a:lnTo>
                <a:lnTo>
                  <a:pt x="106136" y="118382"/>
                </a:lnTo>
                <a:lnTo>
                  <a:pt x="106136" y="195943"/>
                </a:lnTo>
                <a:lnTo>
                  <a:pt x="36740" y="195943"/>
                </a:lnTo>
                <a:cubicBezTo>
                  <a:pt x="26619" y="195943"/>
                  <a:pt x="17966" y="192350"/>
                  <a:pt x="10780" y="185163"/>
                </a:cubicBezTo>
                <a:cubicBezTo>
                  <a:pt x="3593" y="177977"/>
                  <a:pt x="0" y="169324"/>
                  <a:pt x="0" y="159203"/>
                </a:cubicBezTo>
                <a:lnTo>
                  <a:pt x="0" y="36739"/>
                </a:lnTo>
                <a:cubicBezTo>
                  <a:pt x="0" y="26619"/>
                  <a:pt x="3593" y="17966"/>
                  <a:pt x="10780" y="10779"/>
                </a:cubicBezTo>
                <a:cubicBezTo>
                  <a:pt x="17966" y="3593"/>
                  <a:pt x="26619" y="0"/>
                  <a:pt x="36740" y="0"/>
                </a:cubicBezTo>
                <a:close/>
              </a:path>
            </a:pathLst>
          </a:cu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Freeform 16"/>
          <p:cNvSpPr/>
          <p:nvPr/>
        </p:nvSpPr>
        <p:spPr>
          <a:xfrm>
            <a:off x="5361120" y="2725560"/>
            <a:ext cx="438120" cy="235080"/>
          </a:xfrm>
          <a:custGeom>
            <a:avLst/>
            <a:gdLst/>
            <a:ahLst/>
            <a:rect l="l" t="t" r="r" b="b"/>
            <a:pathLst>
              <a:path w="731520" h="580237">
                <a:moveTo>
                  <a:pt x="624840" y="0"/>
                </a:moveTo>
                <a:lnTo>
                  <a:pt x="731520" y="0"/>
                </a:lnTo>
                <a:lnTo>
                  <a:pt x="731520" y="429358"/>
                </a:lnTo>
                <a:cubicBezTo>
                  <a:pt x="731520" y="470922"/>
                  <a:pt x="718106" y="506457"/>
                  <a:pt x="691279" y="535967"/>
                </a:cubicBezTo>
                <a:cubicBezTo>
                  <a:pt x="664447" y="565482"/>
                  <a:pt x="632143" y="580237"/>
                  <a:pt x="594361" y="580237"/>
                </a:cubicBezTo>
                <a:lnTo>
                  <a:pt x="502921" y="580237"/>
                </a:lnTo>
                <a:lnTo>
                  <a:pt x="502921" y="261720"/>
                </a:lnTo>
                <a:lnTo>
                  <a:pt x="599599" y="261720"/>
                </a:lnTo>
                <a:lnTo>
                  <a:pt x="613887" y="144372"/>
                </a:lnTo>
                <a:lnTo>
                  <a:pt x="502921" y="144372"/>
                </a:lnTo>
                <a:lnTo>
                  <a:pt x="502921" y="69459"/>
                </a:lnTo>
                <a:cubicBezTo>
                  <a:pt x="502921" y="50601"/>
                  <a:pt x="507367" y="36104"/>
                  <a:pt x="516256" y="25977"/>
                </a:cubicBezTo>
                <a:cubicBezTo>
                  <a:pt x="525145" y="15850"/>
                  <a:pt x="540385" y="10783"/>
                  <a:pt x="561975" y="10783"/>
                </a:cubicBezTo>
                <a:lnTo>
                  <a:pt x="624840" y="10261"/>
                </a:lnTo>
                <a:lnTo>
                  <a:pt x="624840" y="0"/>
                </a:lnTo>
                <a:close/>
                <a:moveTo>
                  <a:pt x="0" y="0"/>
                </a:moveTo>
                <a:lnTo>
                  <a:pt x="404543" y="0"/>
                </a:lnTo>
                <a:lnTo>
                  <a:pt x="396241" y="57410"/>
                </a:lnTo>
                <a:lnTo>
                  <a:pt x="396241" y="144372"/>
                </a:lnTo>
                <a:lnTo>
                  <a:pt x="289561" y="144372"/>
                </a:lnTo>
                <a:lnTo>
                  <a:pt x="289561" y="261720"/>
                </a:lnTo>
                <a:lnTo>
                  <a:pt x="396241" y="261720"/>
                </a:lnTo>
                <a:lnTo>
                  <a:pt x="396241" y="580237"/>
                </a:lnTo>
                <a:lnTo>
                  <a:pt x="137163" y="580237"/>
                </a:lnTo>
                <a:cubicBezTo>
                  <a:pt x="99378" y="580237"/>
                  <a:pt x="67073" y="565482"/>
                  <a:pt x="40245" y="535967"/>
                </a:cubicBezTo>
                <a:cubicBezTo>
                  <a:pt x="13414" y="506457"/>
                  <a:pt x="0" y="470922"/>
                  <a:pt x="0" y="429358"/>
                </a:cubicBezTo>
                <a:lnTo>
                  <a:pt x="0" y="0"/>
                </a:lnTo>
                <a:close/>
              </a:path>
            </a:pathLst>
          </a:cu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Freeform 21"/>
          <p:cNvSpPr/>
          <p:nvPr/>
        </p:nvSpPr>
        <p:spPr>
          <a:xfrm>
            <a:off x="5361120" y="3189240"/>
            <a:ext cx="438120" cy="330120"/>
          </a:xfrm>
          <a:custGeom>
            <a:avLst/>
            <a:gdLst/>
            <a:ahLst/>
            <a:rect l="l" t="t" r="r" b="b"/>
            <a:pathLst>
              <a:path w="195943" h="195943">
                <a:moveTo>
                  <a:pt x="123102" y="48986"/>
                </a:moveTo>
                <a:cubicBezTo>
                  <a:pt x="115703" y="48986"/>
                  <a:pt x="109389" y="51601"/>
                  <a:pt x="104159" y="56831"/>
                </a:cubicBezTo>
                <a:cubicBezTo>
                  <a:pt x="98928" y="62061"/>
                  <a:pt x="96313" y="68376"/>
                  <a:pt x="96313" y="75775"/>
                </a:cubicBezTo>
                <a:cubicBezTo>
                  <a:pt x="96313" y="78241"/>
                  <a:pt x="96526" y="80282"/>
                  <a:pt x="96951" y="81898"/>
                </a:cubicBezTo>
                <a:cubicBezTo>
                  <a:pt x="85980" y="81303"/>
                  <a:pt x="75690" y="78539"/>
                  <a:pt x="66080" y="73606"/>
                </a:cubicBezTo>
                <a:cubicBezTo>
                  <a:pt x="56470" y="68673"/>
                  <a:pt x="48306" y="62082"/>
                  <a:pt x="41587" y="53833"/>
                </a:cubicBezTo>
                <a:cubicBezTo>
                  <a:pt x="39121" y="58085"/>
                  <a:pt x="37888" y="62593"/>
                  <a:pt x="37888" y="67355"/>
                </a:cubicBezTo>
                <a:cubicBezTo>
                  <a:pt x="37888" y="77050"/>
                  <a:pt x="41757" y="84492"/>
                  <a:pt x="49496" y="89679"/>
                </a:cubicBezTo>
                <a:cubicBezTo>
                  <a:pt x="45499" y="89594"/>
                  <a:pt x="41247" y="88489"/>
                  <a:pt x="36740" y="86363"/>
                </a:cubicBezTo>
                <a:lnTo>
                  <a:pt x="36740" y="86618"/>
                </a:lnTo>
                <a:cubicBezTo>
                  <a:pt x="36740" y="92996"/>
                  <a:pt x="38866" y="98673"/>
                  <a:pt x="43118" y="103648"/>
                </a:cubicBezTo>
                <a:cubicBezTo>
                  <a:pt x="47370" y="108623"/>
                  <a:pt x="52600" y="111706"/>
                  <a:pt x="58809" y="112897"/>
                </a:cubicBezTo>
                <a:cubicBezTo>
                  <a:pt x="56342" y="113577"/>
                  <a:pt x="54174" y="113917"/>
                  <a:pt x="52303" y="113917"/>
                </a:cubicBezTo>
                <a:cubicBezTo>
                  <a:pt x="51197" y="113917"/>
                  <a:pt x="49539" y="113747"/>
                  <a:pt x="47328" y="113407"/>
                </a:cubicBezTo>
                <a:cubicBezTo>
                  <a:pt x="49114" y="118765"/>
                  <a:pt x="52281" y="123187"/>
                  <a:pt x="56831" y="126674"/>
                </a:cubicBezTo>
                <a:cubicBezTo>
                  <a:pt x="61381" y="130161"/>
                  <a:pt x="66548" y="131947"/>
                  <a:pt x="72331" y="132032"/>
                </a:cubicBezTo>
                <a:cubicBezTo>
                  <a:pt x="62466" y="139686"/>
                  <a:pt x="51367" y="143513"/>
                  <a:pt x="39036" y="143513"/>
                </a:cubicBezTo>
                <a:cubicBezTo>
                  <a:pt x="36825" y="143513"/>
                  <a:pt x="34698" y="143385"/>
                  <a:pt x="32657" y="143130"/>
                </a:cubicBezTo>
                <a:cubicBezTo>
                  <a:pt x="45244" y="151124"/>
                  <a:pt x="58936" y="155121"/>
                  <a:pt x="73734" y="155121"/>
                </a:cubicBezTo>
                <a:cubicBezTo>
                  <a:pt x="83259" y="155121"/>
                  <a:pt x="92189" y="153612"/>
                  <a:pt x="100523" y="150593"/>
                </a:cubicBezTo>
                <a:cubicBezTo>
                  <a:pt x="108857" y="147574"/>
                  <a:pt x="116001" y="143534"/>
                  <a:pt x="121954" y="138474"/>
                </a:cubicBezTo>
                <a:cubicBezTo>
                  <a:pt x="127907" y="133414"/>
                  <a:pt x="133031" y="127588"/>
                  <a:pt x="137326" y="120997"/>
                </a:cubicBezTo>
                <a:cubicBezTo>
                  <a:pt x="141621" y="114406"/>
                  <a:pt x="144810" y="107518"/>
                  <a:pt x="146894" y="100331"/>
                </a:cubicBezTo>
                <a:cubicBezTo>
                  <a:pt x="148977" y="93145"/>
                  <a:pt x="150019" y="85980"/>
                  <a:pt x="150019" y="78836"/>
                </a:cubicBezTo>
                <a:cubicBezTo>
                  <a:pt x="150019" y="77305"/>
                  <a:pt x="149976" y="76157"/>
                  <a:pt x="149891" y="75392"/>
                </a:cubicBezTo>
                <a:cubicBezTo>
                  <a:pt x="155249" y="71565"/>
                  <a:pt x="159714" y="66930"/>
                  <a:pt x="163286" y="61487"/>
                </a:cubicBezTo>
                <a:cubicBezTo>
                  <a:pt x="158523" y="63613"/>
                  <a:pt x="153378" y="65059"/>
                  <a:pt x="147850" y="65824"/>
                </a:cubicBezTo>
                <a:cubicBezTo>
                  <a:pt x="153633" y="62423"/>
                  <a:pt x="157588" y="57447"/>
                  <a:pt x="159714" y="50899"/>
                </a:cubicBezTo>
                <a:cubicBezTo>
                  <a:pt x="154186" y="54131"/>
                  <a:pt x="148488" y="56299"/>
                  <a:pt x="142620" y="57405"/>
                </a:cubicBezTo>
                <a:cubicBezTo>
                  <a:pt x="137432" y="51792"/>
                  <a:pt x="130926" y="48986"/>
                  <a:pt x="123102" y="48986"/>
                </a:cubicBezTo>
                <a:close/>
                <a:moveTo>
                  <a:pt x="36740" y="0"/>
                </a:moveTo>
                <a:lnTo>
                  <a:pt x="159204" y="0"/>
                </a:lnTo>
                <a:cubicBezTo>
                  <a:pt x="169324" y="0"/>
                  <a:pt x="177977" y="3593"/>
                  <a:pt x="185164" y="10779"/>
                </a:cubicBezTo>
                <a:cubicBezTo>
                  <a:pt x="192350" y="17966"/>
                  <a:pt x="195943" y="26619"/>
                  <a:pt x="195943" y="36739"/>
                </a:cubicBezTo>
                <a:lnTo>
                  <a:pt x="195943" y="159203"/>
                </a:lnTo>
                <a:cubicBezTo>
                  <a:pt x="195943" y="169324"/>
                  <a:pt x="192350" y="177977"/>
                  <a:pt x="185164" y="185163"/>
                </a:cubicBezTo>
                <a:cubicBezTo>
                  <a:pt x="177977" y="192350"/>
                  <a:pt x="169324" y="195943"/>
                  <a:pt x="159204" y="195943"/>
                </a:cubicBezTo>
                <a:lnTo>
                  <a:pt x="36740" y="195943"/>
                </a:lnTo>
                <a:cubicBezTo>
                  <a:pt x="26619" y="195943"/>
                  <a:pt x="17966" y="192350"/>
                  <a:pt x="10780" y="185163"/>
                </a:cubicBezTo>
                <a:cubicBezTo>
                  <a:pt x="3593" y="177977"/>
                  <a:pt x="0" y="169324"/>
                  <a:pt x="0" y="159203"/>
                </a:cubicBezTo>
                <a:lnTo>
                  <a:pt x="0" y="36739"/>
                </a:lnTo>
                <a:cubicBezTo>
                  <a:pt x="0" y="26619"/>
                  <a:pt x="3593" y="17966"/>
                  <a:pt x="10780" y="10779"/>
                </a:cubicBezTo>
                <a:cubicBezTo>
                  <a:pt x="17966" y="3593"/>
                  <a:pt x="26619" y="0"/>
                  <a:pt x="36740" y="0"/>
                </a:cubicBezTo>
                <a:close/>
              </a:path>
            </a:pathLst>
          </a:cu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Freeform 22"/>
          <p:cNvSpPr/>
          <p:nvPr/>
        </p:nvSpPr>
        <p:spPr>
          <a:xfrm>
            <a:off x="5361120" y="3375000"/>
            <a:ext cx="438120" cy="144360"/>
          </a:xfrm>
          <a:custGeom>
            <a:avLst/>
            <a:gdLst/>
            <a:ahLst/>
            <a:rect l="l" t="t" r="r" b="b"/>
            <a:pathLst>
              <a:path w="804672" h="355801">
                <a:moveTo>
                  <a:pt x="0" y="0"/>
                </a:moveTo>
                <a:lnTo>
                  <a:pt x="204399" y="0"/>
                </a:lnTo>
                <a:lnTo>
                  <a:pt x="206276" y="1595"/>
                </a:lnTo>
                <a:cubicBezTo>
                  <a:pt x="217016" y="7926"/>
                  <a:pt x="228760" y="12314"/>
                  <a:pt x="241509" y="14759"/>
                </a:cubicBezTo>
                <a:cubicBezTo>
                  <a:pt x="231378" y="17552"/>
                  <a:pt x="222475" y="18948"/>
                  <a:pt x="214791" y="18948"/>
                </a:cubicBezTo>
                <a:cubicBezTo>
                  <a:pt x="210249" y="18948"/>
                  <a:pt x="203440" y="18250"/>
                  <a:pt x="194360" y="16854"/>
                </a:cubicBezTo>
                <a:cubicBezTo>
                  <a:pt x="201695" y="38857"/>
                  <a:pt x="214701" y="57017"/>
                  <a:pt x="233386" y="71337"/>
                </a:cubicBezTo>
                <a:cubicBezTo>
                  <a:pt x="252071" y="85657"/>
                  <a:pt x="273290" y="92991"/>
                  <a:pt x="297039" y="93340"/>
                </a:cubicBezTo>
                <a:cubicBezTo>
                  <a:pt x="256527" y="124773"/>
                  <a:pt x="210947" y="140489"/>
                  <a:pt x="160308" y="140489"/>
                </a:cubicBezTo>
                <a:cubicBezTo>
                  <a:pt x="151228" y="140489"/>
                  <a:pt x="142493" y="139963"/>
                  <a:pt x="134112" y="138916"/>
                </a:cubicBezTo>
                <a:cubicBezTo>
                  <a:pt x="185802" y="171745"/>
                  <a:pt x="242031" y="188159"/>
                  <a:pt x="302801" y="188159"/>
                </a:cubicBezTo>
                <a:cubicBezTo>
                  <a:pt x="341917" y="188159"/>
                  <a:pt x="378589" y="181962"/>
                  <a:pt x="412814" y="169564"/>
                </a:cubicBezTo>
                <a:cubicBezTo>
                  <a:pt x="447039" y="157166"/>
                  <a:pt x="476377" y="140575"/>
                  <a:pt x="500824" y="119795"/>
                </a:cubicBezTo>
                <a:cubicBezTo>
                  <a:pt x="525271" y="99016"/>
                  <a:pt x="546314" y="75090"/>
                  <a:pt x="563952" y="48023"/>
                </a:cubicBezTo>
                <a:lnTo>
                  <a:pt x="586186" y="0"/>
                </a:lnTo>
                <a:lnTo>
                  <a:pt x="804672" y="0"/>
                </a:lnTo>
                <a:lnTo>
                  <a:pt x="804672" y="204922"/>
                </a:lnTo>
                <a:cubicBezTo>
                  <a:pt x="804672" y="246486"/>
                  <a:pt x="789917" y="282021"/>
                  <a:pt x="760406" y="311531"/>
                </a:cubicBezTo>
                <a:cubicBezTo>
                  <a:pt x="730892" y="341046"/>
                  <a:pt x="695357" y="355801"/>
                  <a:pt x="653798" y="355801"/>
                </a:cubicBezTo>
                <a:lnTo>
                  <a:pt x="150879" y="355801"/>
                </a:lnTo>
                <a:cubicBezTo>
                  <a:pt x="109316" y="355801"/>
                  <a:pt x="73781" y="341046"/>
                  <a:pt x="44270" y="311531"/>
                </a:cubicBezTo>
                <a:cubicBezTo>
                  <a:pt x="14755" y="282021"/>
                  <a:pt x="0" y="246486"/>
                  <a:pt x="0" y="204922"/>
                </a:cubicBezTo>
                <a:lnTo>
                  <a:pt x="0" y="0"/>
                </a:lnTo>
                <a:close/>
              </a:path>
            </a:pathLst>
          </a:cu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Freeform 23"/>
          <p:cNvSpPr/>
          <p:nvPr/>
        </p:nvSpPr>
        <p:spPr>
          <a:xfrm>
            <a:off x="5361120" y="3747960"/>
            <a:ext cx="438120" cy="330480"/>
          </a:xfrm>
          <a:custGeom>
            <a:avLst/>
            <a:gdLst/>
            <a:ahLst/>
            <a:rect l="l" t="t" r="r" b="b"/>
            <a:pathLst>
              <a:path w="195943" h="195943">
                <a:moveTo>
                  <a:pt x="83174" y="115576"/>
                </a:moveTo>
                <a:cubicBezTo>
                  <a:pt x="84875" y="115576"/>
                  <a:pt x="86193" y="115661"/>
                  <a:pt x="87128" y="115831"/>
                </a:cubicBezTo>
                <a:cubicBezTo>
                  <a:pt x="87299" y="115916"/>
                  <a:pt x="88277" y="116617"/>
                  <a:pt x="90063" y="117936"/>
                </a:cubicBezTo>
                <a:cubicBezTo>
                  <a:pt x="91848" y="119254"/>
                  <a:pt x="92954" y="120062"/>
                  <a:pt x="93379" y="120359"/>
                </a:cubicBezTo>
                <a:cubicBezTo>
                  <a:pt x="93804" y="120657"/>
                  <a:pt x="94782" y="121422"/>
                  <a:pt x="96313" y="122655"/>
                </a:cubicBezTo>
                <a:cubicBezTo>
                  <a:pt x="97844" y="123889"/>
                  <a:pt x="98886" y="124824"/>
                  <a:pt x="99439" y="125462"/>
                </a:cubicBezTo>
                <a:cubicBezTo>
                  <a:pt x="99991" y="126100"/>
                  <a:pt x="100799" y="127057"/>
                  <a:pt x="101862" y="128332"/>
                </a:cubicBezTo>
                <a:cubicBezTo>
                  <a:pt x="102926" y="129608"/>
                  <a:pt x="103648" y="130713"/>
                  <a:pt x="104031" y="131649"/>
                </a:cubicBezTo>
                <a:cubicBezTo>
                  <a:pt x="104414" y="132584"/>
                  <a:pt x="104797" y="133711"/>
                  <a:pt x="105179" y="135029"/>
                </a:cubicBezTo>
                <a:cubicBezTo>
                  <a:pt x="105562" y="136348"/>
                  <a:pt x="105753" y="137687"/>
                  <a:pt x="105753" y="139048"/>
                </a:cubicBezTo>
                <a:cubicBezTo>
                  <a:pt x="105753" y="145511"/>
                  <a:pt x="103266" y="150295"/>
                  <a:pt x="98291" y="153399"/>
                </a:cubicBezTo>
                <a:cubicBezTo>
                  <a:pt x="93315" y="156503"/>
                  <a:pt x="87384" y="158055"/>
                  <a:pt x="80495" y="158055"/>
                </a:cubicBezTo>
                <a:cubicBezTo>
                  <a:pt x="77008" y="158055"/>
                  <a:pt x="73585" y="157651"/>
                  <a:pt x="70226" y="156843"/>
                </a:cubicBezTo>
                <a:cubicBezTo>
                  <a:pt x="66867" y="156036"/>
                  <a:pt x="63656" y="154824"/>
                  <a:pt x="60595" y="153208"/>
                </a:cubicBezTo>
                <a:cubicBezTo>
                  <a:pt x="57533" y="151592"/>
                  <a:pt x="55067" y="149338"/>
                  <a:pt x="53196" y="146447"/>
                </a:cubicBezTo>
                <a:cubicBezTo>
                  <a:pt x="51325" y="143555"/>
                  <a:pt x="50389" y="140238"/>
                  <a:pt x="50389" y="136496"/>
                </a:cubicBezTo>
                <a:cubicBezTo>
                  <a:pt x="50389" y="132584"/>
                  <a:pt x="51452" y="129183"/>
                  <a:pt x="53578" y="126291"/>
                </a:cubicBezTo>
                <a:cubicBezTo>
                  <a:pt x="55704" y="123400"/>
                  <a:pt x="58490" y="121210"/>
                  <a:pt x="61934" y="119721"/>
                </a:cubicBezTo>
                <a:cubicBezTo>
                  <a:pt x="65378" y="118233"/>
                  <a:pt x="68865" y="117170"/>
                  <a:pt x="72395" y="116532"/>
                </a:cubicBezTo>
                <a:cubicBezTo>
                  <a:pt x="75924" y="115894"/>
                  <a:pt x="79517" y="115576"/>
                  <a:pt x="83174" y="115576"/>
                </a:cubicBezTo>
                <a:close/>
                <a:moveTo>
                  <a:pt x="138793" y="69396"/>
                </a:moveTo>
                <a:lnTo>
                  <a:pt x="138793" y="85725"/>
                </a:lnTo>
                <a:lnTo>
                  <a:pt x="122465" y="85725"/>
                </a:lnTo>
                <a:lnTo>
                  <a:pt x="122465" y="93889"/>
                </a:lnTo>
                <a:lnTo>
                  <a:pt x="138793" y="93889"/>
                </a:lnTo>
                <a:lnTo>
                  <a:pt x="138793" y="114300"/>
                </a:lnTo>
                <a:lnTo>
                  <a:pt x="146957" y="114300"/>
                </a:lnTo>
                <a:lnTo>
                  <a:pt x="146957" y="93889"/>
                </a:lnTo>
                <a:lnTo>
                  <a:pt x="163286" y="93889"/>
                </a:lnTo>
                <a:lnTo>
                  <a:pt x="163286" y="85725"/>
                </a:lnTo>
                <a:lnTo>
                  <a:pt x="146957" y="85725"/>
                </a:lnTo>
                <a:lnTo>
                  <a:pt x="146957" y="69396"/>
                </a:lnTo>
                <a:lnTo>
                  <a:pt x="138793" y="69396"/>
                </a:lnTo>
                <a:close/>
                <a:moveTo>
                  <a:pt x="74754" y="37249"/>
                </a:moveTo>
                <a:cubicBezTo>
                  <a:pt x="79262" y="37249"/>
                  <a:pt x="83238" y="39163"/>
                  <a:pt x="86682" y="42990"/>
                </a:cubicBezTo>
                <a:cubicBezTo>
                  <a:pt x="90126" y="46817"/>
                  <a:pt x="92593" y="51112"/>
                  <a:pt x="94081" y="55874"/>
                </a:cubicBezTo>
                <a:cubicBezTo>
                  <a:pt x="95569" y="60637"/>
                  <a:pt x="96313" y="65187"/>
                  <a:pt x="96313" y="69524"/>
                </a:cubicBezTo>
                <a:cubicBezTo>
                  <a:pt x="96313" y="74627"/>
                  <a:pt x="94910" y="78857"/>
                  <a:pt x="92104" y="82217"/>
                </a:cubicBezTo>
                <a:cubicBezTo>
                  <a:pt x="89297" y="85576"/>
                  <a:pt x="85385" y="87256"/>
                  <a:pt x="80367" y="87256"/>
                </a:cubicBezTo>
                <a:cubicBezTo>
                  <a:pt x="75860" y="87256"/>
                  <a:pt x="71906" y="85448"/>
                  <a:pt x="68504" y="81834"/>
                </a:cubicBezTo>
                <a:cubicBezTo>
                  <a:pt x="65102" y="78220"/>
                  <a:pt x="62657" y="74116"/>
                  <a:pt x="61169" y="69524"/>
                </a:cubicBezTo>
                <a:cubicBezTo>
                  <a:pt x="59680" y="64931"/>
                  <a:pt x="58936" y="60424"/>
                  <a:pt x="58936" y="56002"/>
                </a:cubicBezTo>
                <a:cubicBezTo>
                  <a:pt x="58936" y="50814"/>
                  <a:pt x="60297" y="46392"/>
                  <a:pt x="63018" y="42735"/>
                </a:cubicBezTo>
                <a:cubicBezTo>
                  <a:pt x="65740" y="39078"/>
                  <a:pt x="69652" y="37249"/>
                  <a:pt x="74754" y="37249"/>
                </a:cubicBezTo>
                <a:close/>
                <a:moveTo>
                  <a:pt x="87256" y="28575"/>
                </a:moveTo>
                <a:cubicBezTo>
                  <a:pt x="80027" y="28575"/>
                  <a:pt x="73181" y="29936"/>
                  <a:pt x="66718" y="32657"/>
                </a:cubicBezTo>
                <a:cubicBezTo>
                  <a:pt x="60254" y="35378"/>
                  <a:pt x="54833" y="39546"/>
                  <a:pt x="50453" y="45159"/>
                </a:cubicBezTo>
                <a:cubicBezTo>
                  <a:pt x="46073" y="50771"/>
                  <a:pt x="43883" y="57277"/>
                  <a:pt x="43883" y="64676"/>
                </a:cubicBezTo>
                <a:cubicBezTo>
                  <a:pt x="43883" y="72585"/>
                  <a:pt x="46626" y="79155"/>
                  <a:pt x="52111" y="84385"/>
                </a:cubicBezTo>
                <a:cubicBezTo>
                  <a:pt x="57597" y="89616"/>
                  <a:pt x="64337" y="92231"/>
                  <a:pt x="72331" y="92231"/>
                </a:cubicBezTo>
                <a:cubicBezTo>
                  <a:pt x="74202" y="92231"/>
                  <a:pt x="76030" y="92103"/>
                  <a:pt x="77816" y="91848"/>
                </a:cubicBezTo>
                <a:cubicBezTo>
                  <a:pt x="76710" y="94314"/>
                  <a:pt x="76158" y="96611"/>
                  <a:pt x="76158" y="98737"/>
                </a:cubicBezTo>
                <a:cubicBezTo>
                  <a:pt x="76158" y="102479"/>
                  <a:pt x="77859" y="106476"/>
                  <a:pt x="81260" y="110728"/>
                </a:cubicBezTo>
                <a:cubicBezTo>
                  <a:pt x="66378" y="111749"/>
                  <a:pt x="55449" y="114427"/>
                  <a:pt x="48476" y="118765"/>
                </a:cubicBezTo>
                <a:cubicBezTo>
                  <a:pt x="44479" y="121231"/>
                  <a:pt x="41268" y="124335"/>
                  <a:pt x="38844" y="128077"/>
                </a:cubicBezTo>
                <a:cubicBezTo>
                  <a:pt x="36421" y="131819"/>
                  <a:pt x="35209" y="135859"/>
                  <a:pt x="35209" y="140196"/>
                </a:cubicBezTo>
                <a:cubicBezTo>
                  <a:pt x="35209" y="143853"/>
                  <a:pt x="35995" y="147148"/>
                  <a:pt x="37569" y="150082"/>
                </a:cubicBezTo>
                <a:cubicBezTo>
                  <a:pt x="39142" y="153016"/>
                  <a:pt x="41204" y="155419"/>
                  <a:pt x="43756" y="157290"/>
                </a:cubicBezTo>
                <a:cubicBezTo>
                  <a:pt x="46307" y="159161"/>
                  <a:pt x="49241" y="160734"/>
                  <a:pt x="52558" y="162010"/>
                </a:cubicBezTo>
                <a:cubicBezTo>
                  <a:pt x="55875" y="163286"/>
                  <a:pt x="59170" y="164179"/>
                  <a:pt x="62444" y="164689"/>
                </a:cubicBezTo>
                <a:cubicBezTo>
                  <a:pt x="65718" y="165199"/>
                  <a:pt x="68971" y="165454"/>
                  <a:pt x="72203" y="165454"/>
                </a:cubicBezTo>
                <a:cubicBezTo>
                  <a:pt x="77306" y="165454"/>
                  <a:pt x="82430" y="164795"/>
                  <a:pt x="87575" y="163477"/>
                </a:cubicBezTo>
                <a:cubicBezTo>
                  <a:pt x="92720" y="162159"/>
                  <a:pt x="97546" y="160203"/>
                  <a:pt x="102054" y="157609"/>
                </a:cubicBezTo>
                <a:cubicBezTo>
                  <a:pt x="106561" y="155015"/>
                  <a:pt x="110218" y="151507"/>
                  <a:pt x="113025" y="147085"/>
                </a:cubicBezTo>
                <a:cubicBezTo>
                  <a:pt x="115831" y="142662"/>
                  <a:pt x="117234" y="137687"/>
                  <a:pt x="117234" y="132159"/>
                </a:cubicBezTo>
                <a:cubicBezTo>
                  <a:pt x="117234" y="127992"/>
                  <a:pt x="116384" y="124186"/>
                  <a:pt x="114683" y="120742"/>
                </a:cubicBezTo>
                <a:cubicBezTo>
                  <a:pt x="112982" y="117298"/>
                  <a:pt x="110898" y="114470"/>
                  <a:pt x="108432" y="112259"/>
                </a:cubicBezTo>
                <a:cubicBezTo>
                  <a:pt x="105966" y="110048"/>
                  <a:pt x="103500" y="108028"/>
                  <a:pt x="101033" y="106199"/>
                </a:cubicBezTo>
                <a:cubicBezTo>
                  <a:pt x="98567" y="104371"/>
                  <a:pt x="96483" y="102500"/>
                  <a:pt x="94782" y="100586"/>
                </a:cubicBezTo>
                <a:cubicBezTo>
                  <a:pt x="93082" y="98673"/>
                  <a:pt x="92231" y="96781"/>
                  <a:pt x="92231" y="94910"/>
                </a:cubicBezTo>
                <a:cubicBezTo>
                  <a:pt x="92231" y="93039"/>
                  <a:pt x="92890" y="91231"/>
                  <a:pt x="94208" y="89488"/>
                </a:cubicBezTo>
                <a:cubicBezTo>
                  <a:pt x="95527" y="87745"/>
                  <a:pt x="97121" y="86065"/>
                  <a:pt x="98992" y="84449"/>
                </a:cubicBezTo>
                <a:cubicBezTo>
                  <a:pt x="100863" y="82833"/>
                  <a:pt x="102734" y="81047"/>
                  <a:pt x="104605" y="79091"/>
                </a:cubicBezTo>
                <a:cubicBezTo>
                  <a:pt x="106476" y="77135"/>
                  <a:pt x="108071" y="74605"/>
                  <a:pt x="109389" y="71501"/>
                </a:cubicBezTo>
                <a:cubicBezTo>
                  <a:pt x="110707" y="68397"/>
                  <a:pt x="111366" y="64889"/>
                  <a:pt x="111366" y="60977"/>
                </a:cubicBezTo>
                <a:cubicBezTo>
                  <a:pt x="111366" y="55874"/>
                  <a:pt x="110409" y="51643"/>
                  <a:pt x="108496" y="48284"/>
                </a:cubicBezTo>
                <a:cubicBezTo>
                  <a:pt x="106582" y="44925"/>
                  <a:pt x="103500" y="41076"/>
                  <a:pt x="99247" y="36739"/>
                </a:cubicBezTo>
                <a:lnTo>
                  <a:pt x="109835" y="36739"/>
                </a:lnTo>
                <a:lnTo>
                  <a:pt x="121061" y="28575"/>
                </a:lnTo>
                <a:lnTo>
                  <a:pt x="87256" y="28575"/>
                </a:lnTo>
                <a:close/>
                <a:moveTo>
                  <a:pt x="36740" y="0"/>
                </a:moveTo>
                <a:lnTo>
                  <a:pt x="159204" y="0"/>
                </a:lnTo>
                <a:cubicBezTo>
                  <a:pt x="169324" y="0"/>
                  <a:pt x="177977" y="3593"/>
                  <a:pt x="185164" y="10779"/>
                </a:cubicBezTo>
                <a:cubicBezTo>
                  <a:pt x="192350" y="17966"/>
                  <a:pt x="195943" y="26619"/>
                  <a:pt x="195943" y="36739"/>
                </a:cubicBezTo>
                <a:lnTo>
                  <a:pt x="195943" y="159203"/>
                </a:lnTo>
                <a:cubicBezTo>
                  <a:pt x="195943" y="169324"/>
                  <a:pt x="192350" y="177977"/>
                  <a:pt x="185164" y="185163"/>
                </a:cubicBezTo>
                <a:cubicBezTo>
                  <a:pt x="177977" y="192350"/>
                  <a:pt x="169324" y="195943"/>
                  <a:pt x="159204" y="195943"/>
                </a:cubicBezTo>
                <a:lnTo>
                  <a:pt x="36740" y="195943"/>
                </a:lnTo>
                <a:cubicBezTo>
                  <a:pt x="26619" y="195943"/>
                  <a:pt x="17966" y="192350"/>
                  <a:pt x="10780" y="185163"/>
                </a:cubicBezTo>
                <a:cubicBezTo>
                  <a:pt x="3593" y="177977"/>
                  <a:pt x="0" y="169324"/>
                  <a:pt x="0" y="159203"/>
                </a:cubicBezTo>
                <a:lnTo>
                  <a:pt x="0" y="36739"/>
                </a:lnTo>
                <a:cubicBezTo>
                  <a:pt x="0" y="26619"/>
                  <a:pt x="3593" y="17966"/>
                  <a:pt x="10780" y="10779"/>
                </a:cubicBezTo>
                <a:cubicBezTo>
                  <a:pt x="17966" y="3593"/>
                  <a:pt x="26619" y="0"/>
                  <a:pt x="36740" y="0"/>
                </a:cubicBezTo>
                <a:close/>
              </a:path>
            </a:pathLst>
          </a:cu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Freeform 28"/>
          <p:cNvSpPr/>
          <p:nvPr/>
        </p:nvSpPr>
        <p:spPr>
          <a:xfrm>
            <a:off x="5361120" y="3855960"/>
            <a:ext cx="438120" cy="222480"/>
          </a:xfrm>
          <a:custGeom>
            <a:avLst/>
            <a:gdLst/>
            <a:ahLst/>
            <a:rect l="l" t="t" r="r" b="b"/>
            <a:pathLst>
              <a:path w="801410" h="537205">
                <a:moveTo>
                  <a:pt x="340183" y="208504"/>
                </a:moveTo>
                <a:cubicBezTo>
                  <a:pt x="347140" y="208504"/>
                  <a:pt x="352531" y="208851"/>
                  <a:pt x="356355" y="209547"/>
                </a:cubicBezTo>
                <a:cubicBezTo>
                  <a:pt x="357054" y="209894"/>
                  <a:pt x="361054" y="212762"/>
                  <a:pt x="368359" y="218156"/>
                </a:cubicBezTo>
                <a:cubicBezTo>
                  <a:pt x="375660" y="223547"/>
                  <a:pt x="380183" y="226852"/>
                  <a:pt x="381922" y="228066"/>
                </a:cubicBezTo>
                <a:cubicBezTo>
                  <a:pt x="383660" y="229285"/>
                  <a:pt x="387660" y="232414"/>
                  <a:pt x="393922" y="237457"/>
                </a:cubicBezTo>
                <a:cubicBezTo>
                  <a:pt x="400184" y="242504"/>
                  <a:pt x="404445" y="246328"/>
                  <a:pt x="406707" y="248938"/>
                </a:cubicBezTo>
                <a:cubicBezTo>
                  <a:pt x="408965" y="251547"/>
                  <a:pt x="412270" y="255461"/>
                  <a:pt x="416617" y="260676"/>
                </a:cubicBezTo>
                <a:cubicBezTo>
                  <a:pt x="420969" y="265895"/>
                  <a:pt x="423922" y="270414"/>
                  <a:pt x="425488" y="274243"/>
                </a:cubicBezTo>
                <a:cubicBezTo>
                  <a:pt x="427055" y="278067"/>
                  <a:pt x="428621" y="282676"/>
                  <a:pt x="430184" y="288067"/>
                </a:cubicBezTo>
                <a:cubicBezTo>
                  <a:pt x="431750" y="293462"/>
                  <a:pt x="432531" y="298938"/>
                  <a:pt x="432531" y="304505"/>
                </a:cubicBezTo>
                <a:cubicBezTo>
                  <a:pt x="432531" y="330938"/>
                  <a:pt x="422360" y="350505"/>
                  <a:pt x="402012" y="363201"/>
                </a:cubicBezTo>
                <a:cubicBezTo>
                  <a:pt x="381660" y="375896"/>
                  <a:pt x="357402" y="382244"/>
                  <a:pt x="329226" y="382244"/>
                </a:cubicBezTo>
                <a:cubicBezTo>
                  <a:pt x="314964" y="382244"/>
                  <a:pt x="300964" y="380591"/>
                  <a:pt x="287225" y="377287"/>
                </a:cubicBezTo>
                <a:cubicBezTo>
                  <a:pt x="273487" y="373986"/>
                  <a:pt x="260354" y="369029"/>
                  <a:pt x="247835" y="362419"/>
                </a:cubicBezTo>
                <a:cubicBezTo>
                  <a:pt x="235311" y="355810"/>
                  <a:pt x="225225" y="346591"/>
                  <a:pt x="217572" y="334767"/>
                </a:cubicBezTo>
                <a:cubicBezTo>
                  <a:pt x="209920" y="322938"/>
                  <a:pt x="206092" y="309372"/>
                  <a:pt x="206092" y="294067"/>
                </a:cubicBezTo>
                <a:cubicBezTo>
                  <a:pt x="206092" y="278067"/>
                  <a:pt x="210440" y="264157"/>
                  <a:pt x="219135" y="252328"/>
                </a:cubicBezTo>
                <a:cubicBezTo>
                  <a:pt x="227830" y="240504"/>
                  <a:pt x="239225" y="231547"/>
                  <a:pt x="253311" y="225457"/>
                </a:cubicBezTo>
                <a:cubicBezTo>
                  <a:pt x="267397" y="219371"/>
                  <a:pt x="281659" y="215023"/>
                  <a:pt x="296097" y="212414"/>
                </a:cubicBezTo>
                <a:cubicBezTo>
                  <a:pt x="310530" y="209804"/>
                  <a:pt x="325226" y="208504"/>
                  <a:pt x="340183" y="208504"/>
                </a:cubicBezTo>
                <a:close/>
                <a:moveTo>
                  <a:pt x="567666" y="19627"/>
                </a:moveTo>
                <a:lnTo>
                  <a:pt x="567666" y="86413"/>
                </a:lnTo>
                <a:lnTo>
                  <a:pt x="500884" y="86413"/>
                </a:lnTo>
                <a:lnTo>
                  <a:pt x="500884" y="119804"/>
                </a:lnTo>
                <a:lnTo>
                  <a:pt x="567666" y="119804"/>
                </a:lnTo>
                <a:lnTo>
                  <a:pt x="567666" y="203285"/>
                </a:lnTo>
                <a:lnTo>
                  <a:pt x="601056" y="203285"/>
                </a:lnTo>
                <a:lnTo>
                  <a:pt x="601056" y="119804"/>
                </a:lnTo>
                <a:lnTo>
                  <a:pt x="667842" y="119804"/>
                </a:lnTo>
                <a:lnTo>
                  <a:pt x="667842" y="86413"/>
                </a:lnTo>
                <a:lnTo>
                  <a:pt x="601056" y="86413"/>
                </a:lnTo>
                <a:lnTo>
                  <a:pt x="601056" y="19627"/>
                </a:lnTo>
                <a:lnTo>
                  <a:pt x="567666" y="19627"/>
                </a:lnTo>
                <a:close/>
                <a:moveTo>
                  <a:pt x="246854" y="0"/>
                </a:moveTo>
                <a:lnTo>
                  <a:pt x="390627" y="0"/>
                </a:lnTo>
                <a:lnTo>
                  <a:pt x="393922" y="20150"/>
                </a:lnTo>
                <a:cubicBezTo>
                  <a:pt x="393922" y="41022"/>
                  <a:pt x="388183" y="58323"/>
                  <a:pt x="376707" y="72065"/>
                </a:cubicBezTo>
                <a:cubicBezTo>
                  <a:pt x="365226" y="85803"/>
                  <a:pt x="349226" y="92675"/>
                  <a:pt x="328702" y="92675"/>
                </a:cubicBezTo>
                <a:cubicBezTo>
                  <a:pt x="310269" y="92675"/>
                  <a:pt x="294097" y="85280"/>
                  <a:pt x="280182" y="70499"/>
                </a:cubicBezTo>
                <a:cubicBezTo>
                  <a:pt x="266268" y="55717"/>
                  <a:pt x="256268" y="38932"/>
                  <a:pt x="250182" y="20150"/>
                </a:cubicBezTo>
                <a:lnTo>
                  <a:pt x="246854" y="0"/>
                </a:lnTo>
                <a:close/>
                <a:moveTo>
                  <a:pt x="0" y="0"/>
                </a:moveTo>
                <a:lnTo>
                  <a:pt x="179590" y="0"/>
                </a:lnTo>
                <a:lnTo>
                  <a:pt x="179482" y="322"/>
                </a:lnTo>
                <a:cubicBezTo>
                  <a:pt x="179482" y="32670"/>
                  <a:pt x="190701" y="59541"/>
                  <a:pt x="213135" y="80932"/>
                </a:cubicBezTo>
                <a:cubicBezTo>
                  <a:pt x="235573" y="102327"/>
                  <a:pt x="263139" y="113022"/>
                  <a:pt x="295835" y="113022"/>
                </a:cubicBezTo>
                <a:cubicBezTo>
                  <a:pt x="303487" y="113022"/>
                  <a:pt x="310964" y="112499"/>
                  <a:pt x="318269" y="111456"/>
                </a:cubicBezTo>
                <a:cubicBezTo>
                  <a:pt x="313745" y="121542"/>
                  <a:pt x="311487" y="130937"/>
                  <a:pt x="311487" y="139632"/>
                </a:cubicBezTo>
                <a:cubicBezTo>
                  <a:pt x="311487" y="154937"/>
                  <a:pt x="318445" y="171285"/>
                  <a:pt x="332355" y="188675"/>
                </a:cubicBezTo>
                <a:cubicBezTo>
                  <a:pt x="271487" y="192851"/>
                  <a:pt x="226787" y="203804"/>
                  <a:pt x="198268" y="221547"/>
                </a:cubicBezTo>
                <a:cubicBezTo>
                  <a:pt x="181920" y="231633"/>
                  <a:pt x="168787" y="244328"/>
                  <a:pt x="158873" y="259633"/>
                </a:cubicBezTo>
                <a:cubicBezTo>
                  <a:pt x="148962" y="274938"/>
                  <a:pt x="144005" y="291462"/>
                  <a:pt x="144005" y="309200"/>
                </a:cubicBezTo>
                <a:cubicBezTo>
                  <a:pt x="144005" y="324157"/>
                  <a:pt x="147220" y="337634"/>
                  <a:pt x="153658" y="349634"/>
                </a:cubicBezTo>
                <a:cubicBezTo>
                  <a:pt x="160091" y="361634"/>
                  <a:pt x="168525" y="371462"/>
                  <a:pt x="178963" y="379115"/>
                </a:cubicBezTo>
                <a:cubicBezTo>
                  <a:pt x="189396" y="386767"/>
                  <a:pt x="201396" y="393201"/>
                  <a:pt x="214963" y="398420"/>
                </a:cubicBezTo>
                <a:cubicBezTo>
                  <a:pt x="228530" y="403639"/>
                  <a:pt x="242006" y="407291"/>
                  <a:pt x="255397" y="409377"/>
                </a:cubicBezTo>
                <a:cubicBezTo>
                  <a:pt x="268788" y="411463"/>
                  <a:pt x="282092" y="412506"/>
                  <a:pt x="295311" y="412506"/>
                </a:cubicBezTo>
                <a:cubicBezTo>
                  <a:pt x="316183" y="412506"/>
                  <a:pt x="337140" y="409810"/>
                  <a:pt x="358183" y="404420"/>
                </a:cubicBezTo>
                <a:cubicBezTo>
                  <a:pt x="379226" y="399029"/>
                  <a:pt x="398965" y="391029"/>
                  <a:pt x="417402" y="380419"/>
                </a:cubicBezTo>
                <a:cubicBezTo>
                  <a:pt x="435836" y="369810"/>
                  <a:pt x="450793" y="355462"/>
                  <a:pt x="462274" y="337376"/>
                </a:cubicBezTo>
                <a:cubicBezTo>
                  <a:pt x="473751" y="319286"/>
                  <a:pt x="479489" y="298938"/>
                  <a:pt x="479489" y="276329"/>
                </a:cubicBezTo>
                <a:cubicBezTo>
                  <a:pt x="479489" y="259285"/>
                  <a:pt x="476012" y="243719"/>
                  <a:pt x="469055" y="229633"/>
                </a:cubicBezTo>
                <a:cubicBezTo>
                  <a:pt x="462098" y="215547"/>
                  <a:pt x="453575" y="203980"/>
                  <a:pt x="443489" y="194937"/>
                </a:cubicBezTo>
                <a:cubicBezTo>
                  <a:pt x="433403" y="185894"/>
                  <a:pt x="423317" y="177632"/>
                  <a:pt x="413227" y="170152"/>
                </a:cubicBezTo>
                <a:cubicBezTo>
                  <a:pt x="403141" y="162675"/>
                  <a:pt x="394617" y="155023"/>
                  <a:pt x="387660" y="147194"/>
                </a:cubicBezTo>
                <a:cubicBezTo>
                  <a:pt x="380707" y="139370"/>
                  <a:pt x="377226" y="131632"/>
                  <a:pt x="377226" y="123980"/>
                </a:cubicBezTo>
                <a:cubicBezTo>
                  <a:pt x="377226" y="116327"/>
                  <a:pt x="379922" y="108932"/>
                  <a:pt x="385312" y="101803"/>
                </a:cubicBezTo>
                <a:cubicBezTo>
                  <a:pt x="390707" y="94675"/>
                  <a:pt x="397226" y="87803"/>
                  <a:pt x="404879" y="81194"/>
                </a:cubicBezTo>
                <a:cubicBezTo>
                  <a:pt x="412531" y="74584"/>
                  <a:pt x="420184" y="67280"/>
                  <a:pt x="427836" y="59280"/>
                </a:cubicBezTo>
                <a:cubicBezTo>
                  <a:pt x="435489" y="51280"/>
                  <a:pt x="442012" y="40932"/>
                  <a:pt x="447403" y="28236"/>
                </a:cubicBezTo>
                <a:lnTo>
                  <a:pt x="452707" y="0"/>
                </a:lnTo>
                <a:lnTo>
                  <a:pt x="801410" y="0"/>
                </a:lnTo>
                <a:lnTo>
                  <a:pt x="801410" y="386939"/>
                </a:lnTo>
                <a:cubicBezTo>
                  <a:pt x="801410" y="428334"/>
                  <a:pt x="786715" y="463725"/>
                  <a:pt x="757324" y="493116"/>
                </a:cubicBezTo>
                <a:cubicBezTo>
                  <a:pt x="742627" y="507813"/>
                  <a:pt x="726430" y="518836"/>
                  <a:pt x="708734" y="526184"/>
                </a:cubicBezTo>
                <a:lnTo>
                  <a:pt x="651152" y="537205"/>
                </a:lnTo>
                <a:lnTo>
                  <a:pt x="150262" y="537205"/>
                </a:lnTo>
                <a:lnTo>
                  <a:pt x="92677" y="526184"/>
                </a:lnTo>
                <a:cubicBezTo>
                  <a:pt x="74981" y="518836"/>
                  <a:pt x="58786" y="507813"/>
                  <a:pt x="44090" y="493116"/>
                </a:cubicBezTo>
                <a:cubicBezTo>
                  <a:pt x="14695" y="463725"/>
                  <a:pt x="0" y="428334"/>
                  <a:pt x="0" y="386939"/>
                </a:cubicBezTo>
                <a:lnTo>
                  <a:pt x="0" y="0"/>
                </a:lnTo>
                <a:close/>
              </a:path>
            </a:pathLst>
          </a:cu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4" name="图片 12" descr=""/>
          <p:cNvPicPr/>
          <p:nvPr/>
        </p:nvPicPr>
        <p:blipFill>
          <a:blip r:embed="rId3"/>
          <a:stretch/>
        </p:blipFill>
        <p:spPr>
          <a:xfrm>
            <a:off x="457200" y="1386000"/>
            <a:ext cx="1731960" cy="1298520"/>
          </a:xfrm>
          <a:prstGeom prst="rect">
            <a:avLst/>
          </a:prstGeom>
          <a:ln w="0">
            <a:noFill/>
          </a:ln>
        </p:spPr>
      </p:pic>
      <p:sp>
        <p:nvSpPr>
          <p:cNvPr id="625" name="矩形 13"/>
          <p:cNvSpPr/>
          <p:nvPr/>
        </p:nvSpPr>
        <p:spPr>
          <a:xfrm>
            <a:off x="628560" y="2984400"/>
            <a:ext cx="2436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249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TextBox 13"/>
          <p:cNvSpPr/>
          <p:nvPr/>
        </p:nvSpPr>
        <p:spPr>
          <a:xfrm>
            <a:off x="628560" y="2801880"/>
            <a:ext cx="206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矩形 15"/>
          <p:cNvSpPr/>
          <p:nvPr/>
        </p:nvSpPr>
        <p:spPr>
          <a:xfrm>
            <a:off x="4632480" y="1533600"/>
            <a:ext cx="4059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20000"/>
              </a:lnSpc>
              <a:spcBef>
                <a:spcPts val="249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TextBox 13"/>
          <p:cNvSpPr/>
          <p:nvPr/>
        </p:nvSpPr>
        <p:spPr>
          <a:xfrm>
            <a:off x="6035760" y="2592360"/>
            <a:ext cx="1465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TextBox 13"/>
          <p:cNvSpPr/>
          <p:nvPr/>
        </p:nvSpPr>
        <p:spPr>
          <a:xfrm>
            <a:off x="6039000" y="2754360"/>
            <a:ext cx="1962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TextBox 13"/>
          <p:cNvSpPr/>
          <p:nvPr/>
        </p:nvSpPr>
        <p:spPr>
          <a:xfrm>
            <a:off x="6035760" y="3146400"/>
            <a:ext cx="1465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TextBox 13"/>
          <p:cNvSpPr/>
          <p:nvPr/>
        </p:nvSpPr>
        <p:spPr>
          <a:xfrm>
            <a:off x="6039000" y="3308400"/>
            <a:ext cx="1962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TextBox 13"/>
          <p:cNvSpPr/>
          <p:nvPr/>
        </p:nvSpPr>
        <p:spPr>
          <a:xfrm>
            <a:off x="6035760" y="3708360"/>
            <a:ext cx="1465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TextBox 13"/>
          <p:cNvSpPr/>
          <p:nvPr/>
        </p:nvSpPr>
        <p:spPr>
          <a:xfrm>
            <a:off x="6039000" y="3870360"/>
            <a:ext cx="1962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4" name="图片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635" name="圆角矩形 6"/>
          <p:cNvSpPr/>
          <p:nvPr/>
        </p:nvSpPr>
        <p:spPr>
          <a:xfrm>
            <a:off x="2882880" y="1932120"/>
            <a:ext cx="3376800" cy="1280880"/>
          </a:xfrm>
          <a:prstGeom prst="roundRect">
            <a:avLst>
              <a:gd name="adj" fmla="val 16667"/>
            </a:avLst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直接连接符 8"/>
          <p:cNvSpPr/>
          <p:nvPr/>
        </p:nvSpPr>
        <p:spPr>
          <a:xfrm>
            <a:off x="363600" y="2571840"/>
            <a:ext cx="2519280" cy="0"/>
          </a:xfrm>
          <a:prstGeom prst="line">
            <a:avLst/>
          </a:prstGeom>
          <a:ln w="57240">
            <a:solidFill>
              <a:srgbClr val="ffffff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直接连接符 12"/>
          <p:cNvSpPr/>
          <p:nvPr/>
        </p:nvSpPr>
        <p:spPr>
          <a:xfrm>
            <a:off x="6259680" y="2571840"/>
            <a:ext cx="251928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文本框 15"/>
          <p:cNvSpPr/>
          <p:nvPr/>
        </p:nvSpPr>
        <p:spPr>
          <a:xfrm>
            <a:off x="3444840" y="3333600"/>
            <a:ext cx="228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TextBox 13"/>
          <p:cNvSpPr/>
          <p:nvPr/>
        </p:nvSpPr>
        <p:spPr>
          <a:xfrm>
            <a:off x="2657520" y="3670200"/>
            <a:ext cx="4027320" cy="6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您可以在此处添加关于本章节的简要介绍，模板所有素材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均可自由编辑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0" name="图片 9" descr=""/>
          <p:cNvPicPr/>
          <p:nvPr/>
        </p:nvPicPr>
        <p:blipFill>
          <a:blip r:embed="rId2"/>
          <a:stretch/>
        </p:blipFill>
        <p:spPr>
          <a:xfrm>
            <a:off x="3379680" y="2295360"/>
            <a:ext cx="2384640" cy="5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8-01T03:11:15Z</dcterms:created>
  <dc:creator>HZJ</dc:creator>
  <dc:description/>
  <cp:keywords/>
  <dc:language>en-US</dc:language>
  <cp:lastModifiedBy>admin</cp:lastModifiedBy>
  <dcterms:modified xsi:type="dcterms:W3CDTF">2017-05-30T10:18:10Z</dcterms:modified>
  <cp:revision>40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