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4164-C054-4644-B925-352213C87D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标题特殊字体为百度简综艺。可以自行下载使用或改为微软雅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262A-446A-4841-B55A-3429C6AB07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640-0DC2-4ABE-BF73-6195EF2D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A1C-4746-48FB-8FEB-DE7518D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C7F55-BE50-4B3B-8AB3-CAF43F1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5E518-AC28-4F07-9626-F2F18E7C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4241-422D-416D-A10A-3B9C538B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5435D-6803-4384-92B6-420C7FE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B38F-F8B7-4AE9-8FFA-8F48339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A541-3E4C-4697-9E9F-ACD1C82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BD3F9-3E96-4EA8-915B-527FBEB0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545A-1DBF-4D06-A9B6-881AF10A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DF43B-778C-4532-AAFE-1776A664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E9E0A-440C-46A9-B48F-E52CA70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E88-2350-46CD-8A5B-E2D487C9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362F-5754-4713-B6B9-237B494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E0357-9535-499C-AC0B-A1DE8A2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45694-6A7B-47EE-8218-D3BDDE9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27EB-2421-4A1F-9A8B-08A385E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010A7-2E4A-430B-B158-EBBCB09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E5D55-536C-416E-95C9-EDAFF5F2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571D3-1AE1-4DDC-B7F5-7F68ADE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B433F-DE3B-4A01-95CA-202B01B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61E1-9C7B-4614-B37A-77283EB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BB27-8A43-44BD-ADD3-EE68754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070-1312-4DEF-A3B4-A2AFA0E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19643-AD1D-4F14-8A0F-1A10E499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A895-7F74-4A76-A74B-EFC2321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E2DCE-5522-429C-A97B-95FFA94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10C8-60E9-4CBE-98A7-1FEC0E76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6DB98-0F60-4B27-A628-E0241F53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CE9D-D755-4648-9F01-8D93F71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9CF2-D1A9-4B63-B81B-EF3139F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B777D-6B95-4423-A897-1948262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88F0-8773-4195-B99C-43BD7A7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E88D6-B692-4FD9-B38A-F44DC6D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293-ABC6-4FCE-9744-A2875AC6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7442E-0FC7-4D07-94B5-E8FF577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BBABE-F225-4239-BAD6-F2E8B9F0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C3ED2-B4DC-4992-9650-6B02ABAE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3E1C-348E-4742-AEFD-316144DA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3028F-5C9F-4D84-8E41-FE5991C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49AFA-CB2F-4E19-B618-BE2B405D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099E9-C8D3-4737-AAA6-829F0563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9B1A5-48DB-49E5-B3B4-04E0025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527EF-E3F6-4009-B01B-B72B5C8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3278-A6F7-411B-9980-1A4F2B9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F5EE-9760-4520-885F-49487B7C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CE49A-E77A-4F20-BA54-ADE6548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CE486-B84E-4496-A4B0-1C92699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73C0C-5729-4BB2-A96B-9309F32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A139E-F310-46CB-8CFC-3EABB7D6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A4393-2102-4218-8D45-ED8036A3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E097-37BD-4818-A726-5B284C5A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4F05-747C-4AC5-8C9D-5F51B538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604-90D4-459C-9E8B-84B277B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873-475F-40F8-9254-B072AB1B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C04D-84D0-4FE9-BD4C-EF330DF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06E-357E-4D44-90B7-580925B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A2B3-B11C-45C6-ACB1-68658D0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DF9-7811-42EC-BEF4-5CFFFF7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1771-1898-4376-B0CE-EF150CFD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C0E-47A9-403C-9220-AD3849B6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FD8-8616-41B9-94E9-406F7065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6C9C-F3C3-4DFD-ABB6-C291531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003E-9BDE-4AEB-93CB-B7E92EEE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47D9-B6F9-438F-96F4-A2464BE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D34E-43C2-4A69-8293-91B3152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C960-8D67-4718-B5F9-5C8486A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A07-FB89-4557-9CE4-53FAD07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E656-6B1D-43E3-B0B0-3A0DB0F2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FA2B-07CC-470F-BBDE-7E9EBDE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5474-781B-4F08-AB4D-BA4ABBC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74C2-9A45-4263-93F0-23FF68B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CF4A-E908-4D75-BAF9-06E46E1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248F-D063-47FE-ADD0-5AE5075F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E88B-5877-499F-AD19-EB6A199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0700-030C-46F6-B2DC-54C7F3CB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66F7-888F-4B2B-A2E3-8C8432E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CE1B-ADC9-4693-9C74-5811AD5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134-4C58-44D0-8BC1-28E4070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9215-6180-44A2-9D4F-92FF06F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724B4-A48E-4782-A201-35F9FB78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0896-D4F4-4AFE-8C3D-DFC0A2AC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F94E-5817-4BEA-A2EA-C5F89837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9718-8446-44B5-95AD-0D0188F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371B-DB9A-4216-9717-0C18079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339C-6BA6-43E6-B03A-EC31AA1F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3254-5293-499D-940D-8C81AED2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A8FE1-88EC-434A-AB37-B3FAABC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921C-F1CC-4AC6-B5B0-73735219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E39-163B-4746-B700-0BE983B5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AB65-1EB2-4E9D-8572-00EE4F8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BBAC-8DA5-4204-980E-A340804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44EC-B3AD-46DE-A2C9-9E8A00C5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9C32-FA74-4559-938B-D221C8E0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7CCD-7FE6-4BF5-8F83-4EEB499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6EEE-533D-4C3C-9161-CAEDF50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D361-CA9B-472C-A7AA-4560039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DC9D-44BC-4C47-97A5-60AAE25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0DF6-238F-409D-9947-29D0A0C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FB1D-2F64-4B47-A04A-1E472346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D67-E790-4615-85A6-4F4A8B8E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2328-8D1F-48E6-A8E1-FA624103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6945-1AC3-4D97-9E14-B4720C01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DB17-A642-4A28-ABBB-C0052773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8917-CF6B-476F-AEDC-930C299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A43C0-1B44-4BA2-83C9-76DEBFA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1F22-22AA-4873-A5D6-DFE9D2E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0977-4CFB-4C3C-8D69-87A29D3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0967-E1D6-4F03-953A-0CD3158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9EFD-4B4A-4FFD-82B5-8A69B388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FAD5-AC73-40E9-A518-44DDE13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72D-36AD-433B-B77D-29877DC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011D-5D08-4BE3-933E-9CD39E3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6099-8B54-474D-8CA3-22275C7D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911C-930C-4018-A66B-5FDC9331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D7BE-9591-4FF7-BA35-9B7E7F1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7437-1858-4F50-9964-A0B75AC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56C7-7DE4-42FF-BB4C-2014C5E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1AA2-6697-4873-8C9B-859A4B2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D23D-E8C8-4692-8290-ACB16E2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3822-BC6F-4C9A-9385-CDDC2F2E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B98B-13F7-4E9A-B8D6-882AD56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67B-4727-465C-8D9C-97B59BA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7EBC-A5C3-4497-933A-938DAFDC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5F3F-9CDF-4651-AE80-B9011FD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BDDF-AB3B-48F6-BE3B-7744E7F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6EDB-B07F-4762-9B11-B233FBC0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B96C-65C7-4E0B-8E6C-C4C519D3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3DD0-D9DD-4D79-9253-2E38592D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9332B-284E-4A34-BB62-172927D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EBEF-06C3-43FB-9DEB-B5A9A16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3E00-E313-45FE-86B8-73D36634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B010-3880-4B39-BBCF-7456F106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390-6539-4C0E-9071-79C461F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FF20-2D6D-41FA-97C6-072BB82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686E-49EF-43DB-BC60-4B65DB2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39FC-563F-44A7-9AA0-9A03E8B6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697A-9A4A-4BCB-9AB6-CBE6280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CFBD-38FD-4A3E-A916-A2B171D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3567-05D7-4FB1-AAB9-64F222AD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28FE-AA9D-4BC2-9C4D-1A09816C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EFD4A-B227-48FB-AC4D-98CF401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4425-FA1A-4948-993D-FC9FFF5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9FB11-0CF8-4688-8A8D-7BC5409A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FA6-88BA-4834-B244-B7D4488EEA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0C16-F326-45B8-BC77-2E98FDF41C6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A31-F162-431E-84C9-8F41B89A70E3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516-C015-4922-A060-222E0F9232A3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B5E-1C74-4EFE-A18A-244579A7CCD3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34E-F540-4ED7-BCA6-E629DD22DB68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24FC-5A5F-44CD-B30C-5DAA6EA23DB1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BDF3-D167-4254-9161-571DCD092AE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51B-D95C-461E-B11F-A7A15E8B634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EF6-A5F1-480E-A5E9-9AB07F9BCFD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D8C-AB4B-4032-89D5-B7ABD4E5461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955-6EAA-46F7-81D7-0C3C2419AC0C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7"/>
          <p:cNvSpPr/>
          <p:nvPr/>
        </p:nvSpPr>
        <p:spPr>
          <a:xfrm>
            <a:off x="4514760" y="3914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4"/>
          <p:cNvGrpSpPr/>
          <p:nvPr/>
        </p:nvGrpSpPr>
        <p:grpSpPr>
          <a:xfrm>
            <a:off x="2808720" y="2031840"/>
            <a:ext cx="6373080" cy="1419840"/>
            <a:chOff x="2808720" y="2031840"/>
            <a:chExt cx="6373080" cy="1419840"/>
          </a:xfrm>
        </p:grpSpPr>
        <p:sp>
          <p:nvSpPr>
            <p:cNvPr id="502" name="TextBox 1"/>
            <p:cNvSpPr/>
            <p:nvPr/>
          </p:nvSpPr>
          <p:spPr>
            <a:xfrm>
              <a:off x="2808720" y="203184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互联网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Box 2"/>
            <p:cNvSpPr/>
            <p:nvPr/>
          </p:nvSpPr>
          <p:spPr>
            <a:xfrm>
              <a:off x="5251680" y="2260440"/>
              <a:ext cx="63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Box 3"/>
            <p:cNvSpPr/>
            <p:nvPr/>
          </p:nvSpPr>
          <p:spPr>
            <a:xfrm>
              <a:off x="6562800" y="250992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电商创业策划方案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5"/>
          <p:cNvSpPr/>
          <p:nvPr/>
        </p:nvSpPr>
        <p:spPr>
          <a:xfrm>
            <a:off x="3726000" y="3395520"/>
            <a:ext cx="4660920" cy="339840"/>
          </a:xfrm>
          <a:prstGeom prst="rect">
            <a:avLst/>
          </a:prstGeom>
          <a:solidFill>
            <a:srgbClr val="3eb1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框架完整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扁平化呈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超值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专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6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92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93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94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5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7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8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0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701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704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7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10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72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73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1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3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2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3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4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5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6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7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9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8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40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7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8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6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8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60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0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8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8:05:20Z</dcterms:modified>
  <cp:revision>24</cp:revision>
  <dc:subject>12sc.taobao.com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