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131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5.png" ContentType="image/png"/>
  <Override PartName="/ppt/media/image39.jpeg" ContentType="image/jpeg"/>
  <Override PartName="/ppt/media/image127.png" ContentType="image/png"/>
  <Override PartName="/ppt/media/image35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23.jpeg" ContentType="image/jpe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91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49.png" ContentType="image/png"/>
  <Override PartName="/ppt/media/image100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7A3-8EBA-460F-9A28-330D814C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97A-69E9-4ABC-BAA2-C64B5D17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3C54F-67EF-4B60-BB51-7032775D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A21BE-C20F-4769-BF8F-99414F40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C4F0E-E15D-486C-A1E1-28A954DF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2A52B-EB21-4AA3-9897-8D06B118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CBD5D-61D5-4687-9B05-3EA5000D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CF501-9B5D-4FD0-B4A4-1AB065C4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62383-1874-4530-91D6-01BF17EA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FD5A6-525C-4D79-9F72-6453C2F8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6E9C9-4512-45D5-AFA6-6ED416B9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8D961-9EAD-452D-B71B-F861EC89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C86-E733-4C33-AF4A-B4754EAD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C5D79-247F-457A-9AB2-76F91B8F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F8FA9-9147-4BAE-898A-17FFFD71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208F8-4BA9-4DB0-9CC1-1C4FC1E8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FC577-0AD2-4C67-8E52-686F3782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155A2-AC89-43D2-9015-FAFA2BFB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7E651-D806-4487-989F-8570C4FF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328A7-6DB7-4DD9-B204-D9DEA36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55B22-D953-433D-8D0D-511E62E8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61E07-16B3-4818-81B1-6294458C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F2DEA-E40F-4CD8-8719-D5AA44E2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DD8-5C83-463B-A6F9-1137211D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F9D8F-FD6C-4B79-A7EA-CA761C89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38F2B-8019-4214-97A9-81C7DB36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DA750-8226-46E0-B67A-59549F63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E36F7-12FF-4D6E-909C-BFEF7B19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558C4-6BE3-4C78-8871-BFC61D71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8B697-6A4E-49E2-B1AC-00F2311B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4F2A5-1A00-483D-B97A-A9CDB289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503BC-6FAC-401F-B906-E9CDA328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3E5A1-7DB9-4EBA-9A11-9208C1AF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70D1E-D047-4BEF-81AD-698C1486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6343-C340-487C-9E7F-E9F436BF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5E135-1E89-47DB-8381-F150C8E6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DF51A-D4D3-497B-9821-00B95DBD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5EA48-61BF-403A-A81A-B6C5AB0B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CF64A-21D7-4135-BD2F-BF9376DA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387D0-AD0A-4ED0-B537-2F40B21D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4C30A-CC55-499E-8113-6E95AEC4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E69D6-62CE-4DB2-B8C8-054CC897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7901B-11F1-408C-8F8D-343BF47A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F899C-6787-420A-A28C-7328811D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F8646-108B-4709-A7B2-4B35FD56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4684-C99F-46C7-9B72-42CF06D8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66078-8B5A-4473-BC25-EE3A2E35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9F205-CA86-4E6F-A1CB-70B5BDC3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5E516-91BB-496A-974F-E92E61C8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EE220-8E07-4237-A770-D974830E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76EBC-12EE-4B4F-A8CA-CC25A4DD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8B6A5-70F8-4625-8553-F01CF1CF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E7611-9150-43F1-B47A-F745658C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D5EC9-A345-4A52-BDB1-34E9EB04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8A95E-09B6-4752-A61A-EB7D2AE4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00C1A-7828-4116-8981-3821B685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2E79-B23F-47EF-9110-B6FF2430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76D45-AE79-408B-8F47-EBE97747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889D8-8EC9-4352-977D-84B5D0EF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37E73-13D2-44AB-B2F1-B2CA36CE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7B551-D145-46BE-B979-AA00FEF8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0D349-AF53-4924-8B68-35FABC27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3D2FD-1870-4349-93EA-12D42141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D1E38-9669-4766-992F-38F53CB0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164B5-BFD7-43A8-8543-E999D350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F46F98-3F4E-441A-AD30-18FFE79D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CCD0F-C03C-4896-8FE5-6A574E66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D8B4-D29C-406B-84D4-09908B0C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ABFBB-71F7-41B9-9317-4F9A2073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D7DDB-182D-4336-96EC-1EB6F292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44F61-DB5C-48D7-B081-31AFA475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02E44-43E5-49D5-B86B-E73A1CEB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5CF3F-5658-43F6-85F8-9AD55BF9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581879-B303-4DFE-9C72-61C08AD9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D8352-EDBB-4ADF-8C09-12DA2B7B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881A27-D4C2-4A35-8AF9-54734098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3F33B-492C-415A-B36E-3AEA737F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47AE-C7C7-4AF5-8D65-5B8B1FBA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417F-8C1D-4000-9865-F3860FB1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4E2F-F3EA-4D88-99A6-5665B8D9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312-A918-4A3B-A46F-5D1AC884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3042-2C71-4BED-9F23-9B46A2B0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C0CB-D71B-4BB8-A94B-4285769E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F6C5-9151-43AF-9815-76632C6A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EADE-5DCA-46E5-8847-9F9DC6FE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AF2E-A086-407B-BD7D-9501DC00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601A-3014-4E4A-AB90-612FE36F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8A16D-FA7C-481F-AC7A-5A31C0F5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5E386-2B01-4B3B-96F9-1A73C17D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74AA7-3028-4881-A9DC-A5323C5E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D0DD5-1A00-4C76-8D90-9B1147F7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114-C8BC-49A1-9AFA-3BBAD230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C3AF-5D78-44FE-9D1E-C77D68B4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97D82-01B8-4223-BDB9-55297599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C2181-69C0-48EB-8A47-6988CAE3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954C-ADF4-48B4-8C42-B6450941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3F612-5E43-42BF-A8DE-19EA5E3D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A52E-C83B-446A-BD8F-98F3D8D2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8C98-8F48-4882-935B-C7EB4F2E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F3B24-4D54-4D2D-9F7A-DB4CD690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72E3D-8BD8-4574-B1E4-E8C47DE9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DCA01-B723-4EF0-BC73-E2C28783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28B-9315-476E-9958-8A51BF69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F2461-AF28-406F-AC8B-A5323C92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25354-ABBD-4E9C-B693-67EBC4FB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1DAA-BDC3-4A9B-8CE9-DBD8E935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A90F3-A44A-4DCC-9C7D-5BF4ED2D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478AD-7FD9-42BB-9BB9-5E37A40D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395BC-81F5-4670-A487-A950BEF8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B3FBA-46FA-40D8-8550-D958190B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D0DA4-0918-41AF-888C-4C9B55F6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21660-4340-4151-AB17-125DEBAB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60DA1-5112-4CBF-937D-A54C22F0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8B8-0ADD-4A7D-96F2-238F3BEE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1AE5D-20DF-4145-A0A0-9CF5ABEE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EE8D2-5141-4649-8CA4-B3FC4665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B62A8-C205-43B7-9208-55CDB61A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6F07E-AF1C-4446-BBB6-3BFDF9D4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33970-4048-4DCF-829B-B34E0EF5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E9BEB-2789-4761-9790-C434E4A9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1A87D-56F8-46BF-98FD-2DF2C068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4BB8A-FAEB-40A2-BDBA-3986E546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9E2E2-9FF3-48A7-868A-0B5CA860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F8BFB-44E5-4C71-BDBB-F6CADA4C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9E39-B36F-4F27-86B6-AD08621D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0132F-4E2F-4C91-92B3-9213CD8A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18B6D-450A-4720-8430-F7EC2EF2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5A769-473D-472F-A26B-35BB2DC3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C297B-BFCE-4D55-A055-99709431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D1E0D-AD51-449E-9A1B-E42293C9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C0D29-0DA5-4420-8943-CCA40154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9233B-CCCF-47B5-A1C2-9F83129A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A8A74-F642-4DD4-B103-82DF6710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A4316-8428-4290-8F3F-89F8068F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2F4B2-A295-4D27-AB04-DD40708F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0A2-202D-438B-BAE0-7EED321A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00316-3635-4039-BF83-3A30D18A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397DB-DA4B-40A4-9EF6-EA70E5D9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ABB68-5C29-42E2-9C46-0801E357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05C12-1635-4528-A4ED-8D4AA290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D0B21-D19C-4D17-9330-B42A88AE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85117-80E1-4D25-AE1C-CF3A83B8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29468-143B-4BBB-9566-A79E6893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2B199-2071-4BAE-A6A4-47977574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196C2-8599-4AAC-A10B-DFAB0D4E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D69F6-B47B-4C5E-B933-D983B0C9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DB6-501C-4AAA-92F9-040D3CA4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0286E-04AA-4D4C-8A28-7ACA1085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61ABB-E5FC-40AE-A1F3-AA8D003A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46E67-B3A8-4C02-84EA-8C703303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30573-0A9A-49BA-A52E-7BAD25B0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67692-6F72-46F2-8AB8-B8360E16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54CAA-0B61-4F68-B94C-6FEB8E40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DB923-4960-4CF6-8FCA-059B0DE0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DB498-DD65-4F1D-8E4F-3C5A9EE6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A5142-7D22-43E7-81E5-C7F9B19B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40D87-B534-4154-8FFF-20BF8F49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F54-9FF8-434D-934C-2F34932A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5D9D9-B82A-4289-B60E-B6EEB544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80951-BB09-4367-BC40-18E7A00F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0124B-D2D8-4D71-96E6-9BB46636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8DA71-B391-4639-93FE-91D6208A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5AB80-F585-40BF-97EB-E0F504CD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CC6BB-CDDD-4C50-832D-DC66A588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80F97-2D17-471A-8D50-43A39BB1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E4DF5-92ED-4924-8628-0A6FBA8E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0D565-640C-4011-8AB3-3F524A22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D7DDC-0B2F-43B1-B1CA-B102EBE1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7AA7-E744-4AE8-9F9F-56B5C742D3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055D-49D1-454A-B649-148AD93B24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F7EF-8C69-42D3-B42D-33BAAAE53C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2806-799E-46E5-B3CA-8DF1EAC2EF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934E-4E2E-4167-BBDF-800FF55EEB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3799-D871-4986-B374-3E43AA14D8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4B3A-A8E4-4293-A8D3-D817042A00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1165-D423-48F3-868F-41EADEC613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8787-B225-4469-BEA3-FE7E0BE9FA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B505-0A58-4774-B24D-AD275BAF43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4D41-DAC0-45EA-B6B4-8EEE4393FD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DF02-3DDA-4E40-9FE2-462A46476B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738E-E86B-44F6-9020-5F9DF92A4C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6B29-BB36-4A03-BE1C-CFD3EE5E6E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91.png"/><Relationship Id="rId49" Type="http://schemas.openxmlformats.org/officeDocument/2006/relationships/image" Target="../media/image92.png"/><Relationship Id="rId50" Type="http://schemas.openxmlformats.org/officeDocument/2006/relationships/image" Target="../media/image93.png"/><Relationship Id="rId51" Type="http://schemas.openxmlformats.org/officeDocument/2006/relationships/image" Target="../media/image94.png"/><Relationship Id="rId52" Type="http://schemas.openxmlformats.org/officeDocument/2006/relationships/image" Target="../media/image95.png"/><Relationship Id="rId53" Type="http://schemas.openxmlformats.org/officeDocument/2006/relationships/image" Target="../media/image96.png"/><Relationship Id="rId54" Type="http://schemas.openxmlformats.org/officeDocument/2006/relationships/image" Target="../media/image97.png"/><Relationship Id="rId55" Type="http://schemas.openxmlformats.org/officeDocument/2006/relationships/image" Target="../media/image98.png"/><Relationship Id="rId56" Type="http://schemas.openxmlformats.org/officeDocument/2006/relationships/image" Target="../media/image99.png"/><Relationship Id="rId57" Type="http://schemas.openxmlformats.org/officeDocument/2006/relationships/image" Target="../media/image100.png"/><Relationship Id="rId58" Type="http://schemas.openxmlformats.org/officeDocument/2006/relationships/image" Target="../media/image101.png"/><Relationship Id="rId59" Type="http://schemas.openxmlformats.org/officeDocument/2006/relationships/image" Target="../media/image102.png"/><Relationship Id="rId60" Type="http://schemas.openxmlformats.org/officeDocument/2006/relationships/image" Target="../media/image103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4.png"/><Relationship Id="rId72" Type="http://schemas.openxmlformats.org/officeDocument/2006/relationships/image" Target="../media/image115.png"/><Relationship Id="rId73" Type="http://schemas.openxmlformats.org/officeDocument/2006/relationships/image" Target="../media/image116.png"/><Relationship Id="rId74" Type="http://schemas.openxmlformats.org/officeDocument/2006/relationships/image" Target="../media/image117.png"/><Relationship Id="rId75" Type="http://schemas.openxmlformats.org/officeDocument/2006/relationships/image" Target="../media/image118.png"/><Relationship Id="rId76" Type="http://schemas.openxmlformats.org/officeDocument/2006/relationships/image" Target="../media/image119.png"/><Relationship Id="rId77" Type="http://schemas.openxmlformats.org/officeDocument/2006/relationships/image" Target="../media/image120.png"/><Relationship Id="rId78" Type="http://schemas.openxmlformats.org/officeDocument/2006/relationships/image" Target="../media/image121.png"/><Relationship Id="rId79" Type="http://schemas.openxmlformats.org/officeDocument/2006/relationships/image" Target="../media/image122.png"/><Relationship Id="rId80" Type="http://schemas.openxmlformats.org/officeDocument/2006/relationships/image" Target="../media/image123.png"/><Relationship Id="rId81" Type="http://schemas.openxmlformats.org/officeDocument/2006/relationships/image" Target="../media/image124.png"/><Relationship Id="rId82" Type="http://schemas.openxmlformats.org/officeDocument/2006/relationships/image" Target="../media/image125.png"/><Relationship Id="rId83" Type="http://schemas.openxmlformats.org/officeDocument/2006/relationships/image" Target="../media/image126.png"/><Relationship Id="rId84" Type="http://schemas.openxmlformats.org/officeDocument/2006/relationships/image" Target="../media/image127.png"/><Relationship Id="rId85" Type="http://schemas.openxmlformats.org/officeDocument/2006/relationships/image" Target="../media/image128.png"/><Relationship Id="rId86" Type="http://schemas.openxmlformats.org/officeDocument/2006/relationships/image" Target="../media/image129.png"/><Relationship Id="rId87" Type="http://schemas.openxmlformats.org/officeDocument/2006/relationships/image" Target="../media/image130.png"/><Relationship Id="rId88" Type="http://schemas.openxmlformats.org/officeDocument/2006/relationships/image" Target="../media/image131.png"/><Relationship Id="rId89" Type="http://schemas.openxmlformats.org/officeDocument/2006/relationships/image" Target="../media/image132.png"/><Relationship Id="rId90" Type="http://schemas.openxmlformats.org/officeDocument/2006/relationships/image" Target="../media/image133.png"/><Relationship Id="rId91" Type="http://schemas.openxmlformats.org/officeDocument/2006/relationships/image" Target="../media/image134.png"/><Relationship Id="rId92" Type="http://schemas.openxmlformats.org/officeDocument/2006/relationships/image" Target="../media/image135.png"/><Relationship Id="rId93" Type="http://schemas.openxmlformats.org/officeDocument/2006/relationships/image" Target="../media/image136.png"/><Relationship Id="rId94" Type="http://schemas.openxmlformats.org/officeDocument/2006/relationships/image" Target="../media/image137.png"/><Relationship Id="rId95" Type="http://schemas.openxmlformats.org/officeDocument/2006/relationships/image" Target="../media/image138.png"/><Relationship Id="rId96" Type="http://schemas.openxmlformats.org/officeDocument/2006/relationships/image" Target="../media/image139.png"/><Relationship Id="rId97" Type="http://schemas.openxmlformats.org/officeDocument/2006/relationships/image" Target="../media/image140.png"/><Relationship Id="rId98" Type="http://schemas.openxmlformats.org/officeDocument/2006/relationships/image" Target="../media/image141.png"/><Relationship Id="rId99" Type="http://schemas.openxmlformats.org/officeDocument/2006/relationships/image" Target="../media/image142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8784360" y="4273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接连接符 27"/>
          <p:cNvSpPr/>
          <p:nvPr/>
        </p:nvSpPr>
        <p:spPr>
          <a:xfrm>
            <a:off x="133668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32"/>
          <p:cNvSpPr/>
          <p:nvPr/>
        </p:nvSpPr>
        <p:spPr>
          <a:xfrm>
            <a:off x="146376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1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2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4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6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7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9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1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2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6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7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9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1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2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4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5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6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7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9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4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5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7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30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2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3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5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4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5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6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8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1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2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3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6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9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2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70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1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3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4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5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6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8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80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1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3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4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5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6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8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90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1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3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4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8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3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4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2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3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7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8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0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8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9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0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6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7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8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7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8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4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5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8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1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2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5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8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2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4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5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6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8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9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1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2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3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9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200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8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9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5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6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9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6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7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5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6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2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3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4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6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7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8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9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1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2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3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4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6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7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8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9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1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3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4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6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7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6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7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8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0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1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3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4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8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9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6" name="Shape 21"/>
          <p:cNvCxnSpPr>
            <a:stCxn id="1375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7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8" name="Shape 11"/>
          <p:cNvCxnSpPr>
            <a:stCxn id="1377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9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0" name="Shape 16"/>
          <p:cNvCxnSpPr>
            <a:stCxn id="1379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1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2" name="Shape 19"/>
          <p:cNvCxnSpPr>
            <a:stCxn id="1381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3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1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2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6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10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4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5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7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8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8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9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1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3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4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6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8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9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3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4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8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9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2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文本框 8"/>
          <p:cNvSpPr/>
          <p:nvPr/>
        </p:nvSpPr>
        <p:spPr>
          <a:xfrm>
            <a:off x="9415440" y="3876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直接连接符 27"/>
          <p:cNvSpPr/>
          <p:nvPr/>
        </p:nvSpPr>
        <p:spPr>
          <a:xfrm>
            <a:off x="36504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文本框 32"/>
          <p:cNvSpPr/>
          <p:nvPr/>
        </p:nvSpPr>
        <p:spPr>
          <a:xfrm>
            <a:off x="49212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7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0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4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5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9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60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2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3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4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9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0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1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2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5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6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7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8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9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1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2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5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6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91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2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3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4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6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7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8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3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4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9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10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11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2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3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4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9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20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21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2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4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5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7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31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2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5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6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8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9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40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1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2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3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4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9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50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51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3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8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9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60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1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3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4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5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6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7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8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0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71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2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3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4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5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6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7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9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80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81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5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6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0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91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2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3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8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9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4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5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6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7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80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2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6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7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8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9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7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8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8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9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2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5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7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8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7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9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800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2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2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3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6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7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3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4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哎呀小小草</dc:creator>
  <dc:description/>
  <cp:keywords/>
  <dc:language>en-US</dc:language>
  <cp:lastModifiedBy>my</cp:lastModifiedBy>
  <dcterms:modified xsi:type="dcterms:W3CDTF">2015-11-24T11:14:31Z</dcterms:modified>
  <cp:revision>118</cp:revision>
  <dc:subject/>
  <dc:title>PowerPoint 演示文稿</dc:title>
</cp:coreProperties>
</file>