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EB7-925D-4488-BFA3-CD2EEA56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4F8-D04E-4FB9-901D-F85A28C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ED343-BF1D-4285-A94D-FA3BBE3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15BA3-9A53-46FD-8D2B-25E2889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61939-FAD0-45AE-A686-8EA1670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DCBE7-CA9B-4105-8896-FD6C3B7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33CCD-2F52-4069-89F0-1998F87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25199-D075-42D3-A213-8B130C18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86898-1865-4366-9322-D0F6A9C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57C08-AD25-4088-B4C0-B2AC3B00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1A481-9CE7-4AC5-AB9E-3C49C404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12B62-B8BD-45DF-AF73-00D6B04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164-F867-45DD-86D9-9ECDE461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2679-52C6-4E24-BE9A-237F748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AFF7C-D933-4B44-9D0C-0DC1F40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3B600-E835-47F6-966B-456FB02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6B3E5-E535-49CC-8B17-9E7339D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7B97-AE1D-4EAA-9546-7B90D8A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01BF1-B5BC-4F26-998F-72D0ECB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6EED5-70CA-4D77-A742-B3149C6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91523-B161-4540-89F9-D9D90492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5231C-3AAE-4B69-8874-9B1894A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B1B3-FBE5-4D97-994F-EB39DF9D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5A4-E179-48D5-BE10-68D38DB8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C252F-3CA2-4884-8F6B-BF04EF3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69D7-F371-4110-8C7C-C840D23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D2A0-39B9-4687-B0F8-2D466FE9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77796-8335-48E4-B675-BFCDB1F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9F3D7-07EA-49D2-8001-A9DC01A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5E98-A346-4D5C-9EA2-79C72E9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C7CAE-419B-4BFF-8FC1-2139F92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6F997-8BF1-4C4B-868E-794E1F7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5607C-81BB-4728-B36E-243DE42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FEE05-DDA7-4465-8548-4B64EB55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FCD-3E45-4F89-9B70-CBC19A43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ACFE3-7DD9-4650-9EBD-52D54EE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64DEB-02E3-42C3-AFA6-CB8775A9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5ED6C-0E1F-490B-A5CA-29F7F4F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5F3F-BC14-45BE-B0E6-F320B6C6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FEC7C-755D-401D-9393-438BCF5C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414CB-4B60-4D1F-B55C-AAE2E849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229A8-4793-4536-A19F-8FD1DDA8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EAD31-DC47-433D-92EB-B61EF52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CBBD0-F7F5-4634-8BDC-4CC02835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04A6F-A2BB-4632-B7F5-2D516D3B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3AB5-1BEB-4D60-A310-4243160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2627E-BC26-486A-AB0A-7446CD2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D1A64-2523-498D-82DE-A582BF9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88A3B-CA72-4E5D-900B-71E1F9D8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E8724-B6AA-4A14-A5AD-C08522D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C8207-3C7D-4B2E-9DF9-32B6D575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DD43-35F3-4CA4-B933-8114FD8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0A0F-C07D-4264-BBF8-82758B9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BE4C-B9EB-4F91-BB50-DE5A4C9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031-E5F0-4C82-BA09-90CDEF7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E17-9337-4807-B700-E4CC87D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2EF-37DB-4A01-A4E6-1DF295D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BDDE-065E-4555-A850-1FA015A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0F4-A88F-4FF1-8FD3-3D26CF7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F721-B9C4-44C3-9198-F05AE5A1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2E1-9C81-4235-BE7E-5F1EA312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8708-31C0-42B8-94B3-717F6ADC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8E1E-C91E-4F12-9F38-F0F63BD5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FD49-816B-4039-B1E1-789F76F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9C2F-3213-4A75-B12A-5973988A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2650-C40E-445C-B6B5-478BD84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D017-A078-40B7-9B12-26CC5F9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D7F-2716-4CC1-A42C-777F7BD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8832-0CDC-4D17-AA7D-6873A6A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C99C-3A1F-41DF-A3C4-2A5B6F3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F609-A741-4155-9656-B97499C4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CE6D-98B5-4321-8C34-E6FADE3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EF79-D3F5-438C-BCD1-964F986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3E86-F58B-4DF5-AB08-20C3B159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3D5D-58B4-497D-81FC-BCF0E877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9429-192E-415A-8100-E582D4AA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6257-C75D-497D-8571-D906765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4B64-D776-4B84-9453-67009090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CA7-51FE-45F7-AD07-5858DA3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9021-9E91-480F-B477-0B85235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CEB9-9BB8-4162-85F3-377AFE14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49BC-70E3-4934-823B-FC3DC5FC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671F-059C-4967-A951-8AF66D3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DCBA-5CB4-4577-930D-CD5B2D3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881F-A3F5-4B21-A38F-4887FE5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ED68-F5B3-4222-A3DC-91F8C008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7696-EA26-4EBC-9DE3-F39B4AC6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6DA5-2929-4AD3-A745-E0E47DD3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0226-35D0-4E1C-BA61-7F63A351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281-008B-4DBC-9833-CFDE78E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2A9A-6C37-46D3-BFB6-C913201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8982-A570-4194-9F4C-6E3F90BF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3C67-8331-458B-9875-F05B2CB2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39DD-ACF1-41C8-A045-F7554CED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7B45-EBE8-4188-9D2A-A1A69F43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AF20-8807-4FAB-8981-58EDCA3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E146-CD9F-4EBD-95C6-C4F7A7A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2BBB-A460-4309-BB4D-0C15684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1AEC-6A7A-427E-9165-A92E8CC2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E77C-0ECA-4B08-B276-7A9DE6AA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7E0-FF5E-4AD2-8D60-33B9BC5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A8FD-1876-405F-BE57-58351936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A515-D799-492F-B4A6-86C61DA4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E0CD-E736-499E-956F-E799CBC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7A7B8-D3E6-43EC-AED8-91B526E8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C2B2-23FC-4AB6-A84B-B66EB8F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9B3C-1D9F-4C43-9632-79E9C5B1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399C-AAC9-4DCE-AF47-C067229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CA77-103B-405C-A91C-D3CF4C2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6576-DD61-43E8-AB40-2F5E5D1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FA1E-9914-4847-B0D6-339988C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A7B-904D-47FE-B7B5-5691A55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5BF7-C1B8-4DE5-ADE7-2685261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FA64-DAB3-4217-A819-8039A2CF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12E1-90DB-4795-B52F-7441860A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B0CE-F63A-4EFE-A25C-4AD30FAC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99E1-9176-448F-9C1F-2D2F271B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F2A4-B471-4BC1-8990-722E714C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BCC1-A4CB-4532-A116-651E13EE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21A8-2774-42E3-89AF-0949930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97B94-1D60-45E4-BF94-1D6E4A6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1461-48F7-480A-9876-55C5BE1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E3E-2C16-4A72-A1FC-021820C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604A-D642-4074-A63F-7062DAF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A66D3-9A5B-43BC-9ACA-10F379A8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336E-8CF6-4A0F-9F1E-C76D96C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38D29-F07C-45EF-811F-DF37D58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98ED-E73F-4D5A-99FA-ACD28518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CE3B7-89DD-4A97-876D-8466776A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EA22-8B3A-4183-9468-B622A02D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7559-B84D-4748-A7E4-D3BCC36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B08B-0562-4E04-AFF8-5158EDB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23D3-CB88-4FF9-AEBF-298C658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E63-141A-496C-A2D6-7B36CF9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E5F2-8AA9-49EC-9E2F-F7127BC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887F-0805-479F-8557-0850040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19E5-2A03-4D68-B5B8-2FFD422F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D61A-2199-42DD-B376-76F43AB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C549-D935-4820-9A10-7E6F2DC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B229-6697-403C-ABD6-AFE16CC4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62967-8F78-4C69-BF75-B3592308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79554-9735-476C-9A61-A980F104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DE74-1863-48D4-BA90-C3A4A10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7C9C5-A37C-4613-BF36-68874AF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FAD1-9D8A-4776-9961-2CEB9BA7E4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64B0-0E82-4193-B393-BFF679B193EE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B8AF-7306-46D9-BBC0-735CCD82CD5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9795-4B4F-45E8-8BAC-66AE5C61487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4E0E-FAD6-45BE-8E9F-0C7BB5B07E68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66D-D804-49EE-A5ED-3D339C96E0A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C217-A324-444C-B2EF-C9573E38933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FB8-9D02-4C42-BF4A-934F109D9FD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225-5EBB-4DB7-88EB-288E72FD701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3954-5488-4BA6-AFC1-4EBD8247ADE5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DD2-4E2D-4176-BF86-2588A629B65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9BB-84E4-4B2E-A52F-10177BA5064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4514760" y="4481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组合 8" descr=""/>
          <p:cNvPicPr/>
          <p:nvPr/>
        </p:nvPicPr>
        <p:blipFill>
          <a:blip r:embed="rId1"/>
          <a:stretch/>
        </p:blipFill>
        <p:spPr>
          <a:xfrm>
            <a:off x="396720" y="407880"/>
            <a:ext cx="1243080" cy="513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5"/>
          <p:cNvSpPr/>
          <p:nvPr/>
        </p:nvSpPr>
        <p:spPr>
          <a:xfrm>
            <a:off x="3765600" y="4029120"/>
            <a:ext cx="4660920" cy="337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超值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638360" y="2338560"/>
            <a:ext cx="1027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9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3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2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1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2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87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89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0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3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696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699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2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05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1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68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0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2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8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59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0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1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2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8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3" descr=""/>
          <p:cNvPicPr/>
          <p:nvPr/>
        </p:nvPicPr>
        <p:blipFill>
          <a:blip r:embed="rId1"/>
          <a:stretch/>
        </p:blipFill>
        <p:spPr>
          <a:xfrm>
            <a:off x="0" y="957240"/>
            <a:ext cx="12192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0" y="874800"/>
            <a:ext cx="121921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35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4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0" y="239"/>
                </a:lnTo>
                <a:lnTo>
                  <a:pt x="1" y="236"/>
                </a:lnTo>
                <a:lnTo>
                  <a:pt x="1" y="236"/>
                </a:lnTo>
                <a:lnTo>
                  <a:pt x="1" y="234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Administrator</dc:creator>
  <dc:description/>
  <dc:language>en-US</dc:language>
  <cp:lastModifiedBy>admin</cp:lastModifiedBy>
  <dcterms:modified xsi:type="dcterms:W3CDTF">2015-09-18T13:51:2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