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BCF-76C8-43B5-9623-B9ABCE7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960-06BB-4F67-887A-D8F8FEA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4B4-F964-4945-A9EE-E011C8F7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009-0D73-445E-A193-ED932CE9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917-2FC9-41EE-B726-98ACBD2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265-16F8-4BD2-80F5-245DFD3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4FE-309F-4FB7-9836-19DF0B12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24F-34A3-4E48-8BB8-EAB9C52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D5D-2F75-466B-BAF4-DBB7898A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D3E-2929-4F17-8A75-B5DEE05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13A-E697-4269-9987-18A9BEC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9F0-90DF-4AF4-8486-97FD4D2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505-520C-4E00-A6E4-8A7B26525A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3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6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6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6320" y="0"/>
            <a:ext cx="9144000" cy="6858000"/>
            <a:chOff x="-7632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中国风 (1)"/>
          <p:cNvPicPr/>
          <p:nvPr/>
        </p:nvPicPr>
        <p:blipFill>
          <a:blip r:embed="rId8"/>
          <a:stretch/>
        </p:blipFill>
        <p:spPr>
          <a:xfrm>
            <a:off x="-531720" y="3995640"/>
            <a:ext cx="289404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红2"/>
          <p:cNvPicPr/>
          <p:nvPr/>
        </p:nvPicPr>
        <p:blipFill>
          <a:blip r:embed="rId13"/>
          <a:stretch/>
        </p:blipFill>
        <p:spPr>
          <a:xfrm>
            <a:off x="-912960" y="4246560"/>
            <a:ext cx="4532400" cy="26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612 0.102276 C -0.031462 0.082366 0.005868 0.062456 0.059858 0.055746 C 0.113858 0.049036 0.189898 0.063616 0.255168 0.062226 C 0.320278 0.060836 0.385208 0.056666 0.450488 0.047416 C 0.515588 0.038156 0.586949 0.004356 0.647188 0.007136 C 0.707428 0.009916 0.784858 0.054816 0.812289 0.064306 E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栏杆_副本"/>
          <p:cNvPicPr/>
          <p:nvPr/>
        </p:nvPicPr>
        <p:blipFill>
          <a:blip r:embed="rId3"/>
          <a:stretch/>
        </p:blipFill>
        <p:spPr>
          <a:xfrm>
            <a:off x="-227160" y="6173640"/>
            <a:ext cx="9371160" cy="6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85480" y="-258840"/>
            <a:ext cx="15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荷飏客栈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9"/>
          <p:cNvSpPr/>
          <p:nvPr/>
        </p:nvSpPr>
        <p:spPr>
          <a:xfrm>
            <a:off x="2879640" y="-76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6"/>
          <p:cNvSpPr/>
          <p:nvPr/>
        </p:nvSpPr>
        <p:spPr>
          <a:xfrm>
            <a:off x="4041720" y="8269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1079640" y="161460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그림 28" descr="Untitled-20.png"/>
          <p:cNvPicPr/>
          <p:nvPr/>
        </p:nvPicPr>
        <p:blipFill>
          <a:blip r:embed="rId5"/>
          <a:srcRect l="34947" t="18826" r="28862" b="37884"/>
          <a:stretch/>
        </p:blipFill>
        <p:spPr>
          <a:xfrm>
            <a:off x="304920" y="144792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59"/>
          <p:cNvSpPr/>
          <p:nvPr/>
        </p:nvSpPr>
        <p:spPr>
          <a:xfrm>
            <a:off x="457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EPS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宏观环境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079640" y="5195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8" descr="Untitled-20.png"/>
          <p:cNvPicPr/>
          <p:nvPr/>
        </p:nvPicPr>
        <p:blipFill>
          <a:blip r:embed="rId6"/>
          <a:srcRect l="34947" t="18826" r="28862" b="37884"/>
          <a:stretch/>
        </p:blipFill>
        <p:spPr>
          <a:xfrm>
            <a:off x="304920" y="5029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未知"/>
          <p:cNvSpPr/>
          <p:nvPr/>
        </p:nvSpPr>
        <p:spPr>
          <a:xfrm>
            <a:off x="1079640" y="405288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28" descr="Untitled-20.png"/>
          <p:cNvPicPr/>
          <p:nvPr/>
        </p:nvPicPr>
        <p:blipFill>
          <a:blip r:embed="rId7"/>
          <a:srcRect l="34947" t="18826" r="28862" b="37884"/>
          <a:stretch/>
        </p:blipFill>
        <p:spPr>
          <a:xfrm>
            <a:off x="304920" y="38862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4" name="未知"/>
          <p:cNvSpPr/>
          <p:nvPr/>
        </p:nvSpPr>
        <p:spPr>
          <a:xfrm>
            <a:off x="1079640" y="2833560"/>
            <a:ext cx="7462800" cy="8906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28" descr="Untitled-20.png"/>
          <p:cNvPicPr/>
          <p:nvPr/>
        </p:nvPicPr>
        <p:blipFill>
          <a:blip r:embed="rId8"/>
          <a:srcRect l="34947" t="18826" r="28862" b="37884"/>
          <a:stretch/>
        </p:blipFill>
        <p:spPr>
          <a:xfrm>
            <a:off x="304920" y="266688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69"/>
          <p:cNvSpPr/>
          <p:nvPr/>
        </p:nvSpPr>
        <p:spPr>
          <a:xfrm>
            <a:off x="-1141560" y="1219320"/>
            <a:ext cx="152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70"/>
          <p:cNvSpPr/>
          <p:nvPr/>
        </p:nvSpPr>
        <p:spPr>
          <a:xfrm>
            <a:off x="5335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政治法律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71"/>
          <p:cNvSpPr/>
          <p:nvPr/>
        </p:nvSpPr>
        <p:spPr>
          <a:xfrm>
            <a:off x="609480" y="5410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技术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2"/>
          <p:cNvSpPr/>
          <p:nvPr/>
        </p:nvSpPr>
        <p:spPr>
          <a:xfrm>
            <a:off x="53352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社会文化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3"/>
          <p:cNvSpPr/>
          <p:nvPr/>
        </p:nvSpPr>
        <p:spPr>
          <a:xfrm>
            <a:off x="533520" y="3048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隶书"/>
              </a:rPr>
              <a:t>经济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5"/>
          <p:cNvSpPr/>
          <p:nvPr/>
        </p:nvSpPr>
        <p:spPr>
          <a:xfrm>
            <a:off x="24382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78" descr="2008518225319305"/>
          <p:cNvPicPr/>
          <p:nvPr/>
        </p:nvPicPr>
        <p:blipFill>
          <a:blip r:embed="rId9"/>
          <a:stretch/>
        </p:blipFill>
        <p:spPr>
          <a:xfrm rot="20163000">
            <a:off x="7772400" y="19047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79" descr="2008518225319305"/>
          <p:cNvPicPr/>
          <p:nvPr/>
        </p:nvPicPr>
        <p:blipFill>
          <a:blip r:embed="rId10"/>
          <a:stretch/>
        </p:blipFill>
        <p:spPr>
          <a:xfrm rot="20163000">
            <a:off x="7696080" y="312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80" descr="2008518225319305"/>
          <p:cNvPicPr/>
          <p:nvPr/>
        </p:nvPicPr>
        <p:blipFill>
          <a:blip r:embed="rId11"/>
          <a:stretch/>
        </p:blipFill>
        <p:spPr>
          <a:xfrm rot="20163000">
            <a:off x="7772400" y="43430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1" descr="2008518225319305"/>
          <p:cNvPicPr/>
          <p:nvPr/>
        </p:nvPicPr>
        <p:blipFill>
          <a:blip r:embed="rId12"/>
          <a:stretch/>
        </p:blipFill>
        <p:spPr>
          <a:xfrm rot="20163000">
            <a:off x="7772400" y="54860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1752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1840" y="3048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0" y="42339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5160" y="5343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ppt宝藏_www"/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2008518225319305"/>
          <p:cNvPicPr/>
          <p:nvPr/>
        </p:nvPicPr>
        <p:blipFill>
          <a:blip r:embed="rId6"/>
          <a:stretch/>
        </p:blipFill>
        <p:spPr>
          <a:xfrm>
            <a:off x="58672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2008518225319305"/>
          <p:cNvPicPr/>
          <p:nvPr/>
        </p:nvPicPr>
        <p:blipFill>
          <a:blip r:embed="rId7"/>
          <a:stretch/>
        </p:blipFill>
        <p:spPr>
          <a:xfrm>
            <a:off x="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2008518225319305"/>
          <p:cNvPicPr/>
          <p:nvPr/>
        </p:nvPicPr>
        <p:blipFill>
          <a:blip r:embed="rId8"/>
          <a:stretch/>
        </p:blipFill>
        <p:spPr>
          <a:xfrm>
            <a:off x="2895480" y="28195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2008518225319305"/>
          <p:cNvPicPr/>
          <p:nvPr/>
        </p:nvPicPr>
        <p:blipFill>
          <a:blip r:embed="rId9"/>
          <a:stretch/>
        </p:blipFill>
        <p:spPr>
          <a:xfrm>
            <a:off x="1447920" y="9144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5" descr="2008518225319305"/>
          <p:cNvPicPr/>
          <p:nvPr/>
        </p:nvPicPr>
        <p:blipFill>
          <a:blip r:embed="rId10"/>
          <a:stretch/>
        </p:blipFill>
        <p:spPr>
          <a:xfrm>
            <a:off x="449568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30240" y="17524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828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6576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6576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3584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请在此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毡笔黑简体"/>
              </a:rPr>
              <a:t>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82"/>
          <p:cNvSpPr/>
          <p:nvPr/>
        </p:nvSpPr>
        <p:spPr>
          <a:xfrm rot="20856600">
            <a:off x="1371240" y="1066320"/>
            <a:ext cx="5181480" cy="2017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48" h="1194">
                <a:moveTo>
                  <a:pt x="0" y="1194"/>
                </a:moveTo>
                <a:lnTo>
                  <a:pt x="0" y="1194"/>
                </a:lnTo>
                <a:lnTo>
                  <a:pt x="50" y="1184"/>
                </a:lnTo>
                <a:lnTo>
                  <a:pt x="108" y="1170"/>
                </a:lnTo>
                <a:lnTo>
                  <a:pt x="186" y="1152"/>
                </a:lnTo>
                <a:lnTo>
                  <a:pt x="282" y="1124"/>
                </a:lnTo>
                <a:lnTo>
                  <a:pt x="394" y="1090"/>
                </a:lnTo>
                <a:lnTo>
                  <a:pt x="520" y="1046"/>
                </a:lnTo>
                <a:lnTo>
                  <a:pt x="588" y="1022"/>
                </a:lnTo>
                <a:lnTo>
                  <a:pt x="658" y="994"/>
                </a:lnTo>
                <a:lnTo>
                  <a:pt x="730" y="964"/>
                </a:lnTo>
                <a:lnTo>
                  <a:pt x="806" y="932"/>
                </a:lnTo>
                <a:lnTo>
                  <a:pt x="882" y="896"/>
                </a:lnTo>
                <a:lnTo>
                  <a:pt x="960" y="858"/>
                </a:lnTo>
                <a:lnTo>
                  <a:pt x="1040" y="818"/>
                </a:lnTo>
                <a:lnTo>
                  <a:pt x="1122" y="774"/>
                </a:lnTo>
                <a:lnTo>
                  <a:pt x="1204" y="728"/>
                </a:lnTo>
                <a:lnTo>
                  <a:pt x="1288" y="678"/>
                </a:lnTo>
                <a:lnTo>
                  <a:pt x="1370" y="624"/>
                </a:lnTo>
                <a:lnTo>
                  <a:pt x="1454" y="568"/>
                </a:lnTo>
                <a:lnTo>
                  <a:pt x="1538" y="510"/>
                </a:lnTo>
                <a:lnTo>
                  <a:pt x="1622" y="446"/>
                </a:lnTo>
                <a:lnTo>
                  <a:pt x="1704" y="380"/>
                </a:lnTo>
                <a:lnTo>
                  <a:pt x="1788" y="310"/>
                </a:lnTo>
                <a:lnTo>
                  <a:pt x="1868" y="236"/>
                </a:lnTo>
                <a:lnTo>
                  <a:pt x="1948" y="158"/>
                </a:lnTo>
                <a:lnTo>
                  <a:pt x="1984" y="206"/>
                </a:lnTo>
                <a:lnTo>
                  <a:pt x="2048" y="0"/>
                </a:lnTo>
                <a:lnTo>
                  <a:pt x="1900" y="112"/>
                </a:lnTo>
                <a:lnTo>
                  <a:pt x="1924" y="136"/>
                </a:lnTo>
                <a:lnTo>
                  <a:pt x="1892" y="170"/>
                </a:lnTo>
                <a:lnTo>
                  <a:pt x="1854" y="208"/>
                </a:lnTo>
                <a:lnTo>
                  <a:pt x="1800" y="258"/>
                </a:lnTo>
                <a:lnTo>
                  <a:pt x="1732" y="320"/>
                </a:lnTo>
                <a:lnTo>
                  <a:pt x="1650" y="388"/>
                </a:lnTo>
                <a:lnTo>
                  <a:pt x="1552" y="464"/>
                </a:lnTo>
                <a:lnTo>
                  <a:pt x="1500" y="502"/>
                </a:lnTo>
                <a:lnTo>
                  <a:pt x="1442" y="542"/>
                </a:lnTo>
                <a:lnTo>
                  <a:pt x="1382" y="582"/>
                </a:lnTo>
                <a:lnTo>
                  <a:pt x="1318" y="624"/>
                </a:lnTo>
                <a:lnTo>
                  <a:pt x="1252" y="664"/>
                </a:lnTo>
                <a:lnTo>
                  <a:pt x="1182" y="706"/>
                </a:lnTo>
                <a:lnTo>
                  <a:pt x="1108" y="746"/>
                </a:lnTo>
                <a:lnTo>
                  <a:pt x="1032" y="786"/>
                </a:lnTo>
                <a:lnTo>
                  <a:pt x="954" y="826"/>
                </a:lnTo>
                <a:lnTo>
                  <a:pt x="870" y="862"/>
                </a:lnTo>
                <a:lnTo>
                  <a:pt x="786" y="900"/>
                </a:lnTo>
                <a:lnTo>
                  <a:pt x="696" y="934"/>
                </a:lnTo>
                <a:lnTo>
                  <a:pt x="606" y="968"/>
                </a:lnTo>
                <a:lnTo>
                  <a:pt x="510" y="998"/>
                </a:lnTo>
                <a:lnTo>
                  <a:pt x="414" y="1028"/>
                </a:lnTo>
                <a:lnTo>
                  <a:pt x="314" y="1054"/>
                </a:lnTo>
                <a:lnTo>
                  <a:pt x="210" y="1076"/>
                </a:lnTo>
                <a:lnTo>
                  <a:pt x="106" y="1096"/>
                </a:lnTo>
                <a:lnTo>
                  <a:pt x="78" y="1126"/>
                </a:lnTo>
                <a:lnTo>
                  <a:pt x="44" y="1158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2880" y="3733920"/>
            <a:ext cx="1371240" cy="1600200"/>
            <a:chOff x="1982880" y="3733920"/>
            <a:chExt cx="1371240" cy="1600200"/>
          </a:xfrm>
        </p:grpSpPr>
        <p:sp>
          <p:nvSpPr>
            <p:cNvPr id="221" name="Freeform 7"/>
            <p:cNvSpPr/>
            <p:nvPr/>
          </p:nvSpPr>
          <p:spPr>
            <a:xfrm>
              <a:off x="1982880" y="3800520"/>
              <a:ext cx="1371240" cy="1533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1982880" y="3733920"/>
              <a:ext cx="1371240" cy="1198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019920" y="1371600"/>
            <a:ext cx="1371240" cy="3962160"/>
            <a:chOff x="6019920" y="1371600"/>
            <a:chExt cx="1371240" cy="3962160"/>
          </a:xfrm>
        </p:grpSpPr>
        <p:sp>
          <p:nvSpPr>
            <p:cNvPr id="224" name="Freeform 7"/>
            <p:cNvSpPr/>
            <p:nvPr/>
          </p:nvSpPr>
          <p:spPr>
            <a:xfrm>
              <a:off x="6019920" y="1536480"/>
              <a:ext cx="1371240" cy="379728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3797280"/>
                <a:gd name="textAreaBottom" fmla="*/ 3797640 h 379728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019920" y="1371600"/>
              <a:ext cx="1371240" cy="2973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38480" y="2819520"/>
            <a:ext cx="1371240" cy="2514240"/>
            <a:chOff x="4038480" y="2819520"/>
            <a:chExt cx="1371240" cy="2514240"/>
          </a:xfrm>
        </p:grpSpPr>
        <p:sp>
          <p:nvSpPr>
            <p:cNvPr id="227" name="Freeform 7"/>
            <p:cNvSpPr/>
            <p:nvPr/>
          </p:nvSpPr>
          <p:spPr>
            <a:xfrm>
              <a:off x="4038480" y="2923920"/>
              <a:ext cx="1371240" cy="24098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2409840"/>
                <a:gd name="textAreaBottom" fmla="*/ 2410200 h 2409840"/>
              </a:gdLst>
              <a:ahLst/>
              <a:rect l="textAreaLeft" t="textAreaTop" r="textAreaRight" b="textAreaBottom"/>
              <a:pathLst>
                <a:path w="384" h="1244">
                  <a:moveTo>
                    <a:pt x="0" y="0"/>
                  </a:moveTo>
                  <a:lnTo>
                    <a:pt x="0" y="1188"/>
                  </a:lnTo>
                  <a:lnTo>
                    <a:pt x="8" y="1194"/>
                  </a:lnTo>
                  <a:lnTo>
                    <a:pt x="32" y="1206"/>
                  </a:lnTo>
                  <a:lnTo>
                    <a:pt x="70" y="1222"/>
                  </a:lnTo>
                  <a:lnTo>
                    <a:pt x="94" y="1228"/>
                  </a:lnTo>
                  <a:lnTo>
                    <a:pt x="120" y="1234"/>
                  </a:lnTo>
                  <a:lnTo>
                    <a:pt x="148" y="1240"/>
                  </a:lnTo>
                  <a:lnTo>
                    <a:pt x="178" y="1242"/>
                  </a:lnTo>
                  <a:lnTo>
                    <a:pt x="210" y="1244"/>
                  </a:lnTo>
                  <a:lnTo>
                    <a:pt x="242" y="1240"/>
                  </a:lnTo>
                  <a:lnTo>
                    <a:pt x="276" y="1234"/>
                  </a:lnTo>
                  <a:lnTo>
                    <a:pt x="312" y="1224"/>
                  </a:lnTo>
                  <a:lnTo>
                    <a:pt x="348" y="1208"/>
                  </a:lnTo>
                  <a:lnTo>
                    <a:pt x="366" y="1200"/>
                  </a:lnTo>
                  <a:lnTo>
                    <a:pt x="384" y="1188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4038480" y="2819520"/>
              <a:ext cx="1371240" cy="18864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84" h="128">
                  <a:moveTo>
                    <a:pt x="384" y="64"/>
                  </a:moveTo>
                  <a:lnTo>
                    <a:pt x="384" y="64"/>
                  </a:lnTo>
                  <a:lnTo>
                    <a:pt x="382" y="70"/>
                  </a:lnTo>
                  <a:lnTo>
                    <a:pt x="380" y="76"/>
                  </a:lnTo>
                  <a:lnTo>
                    <a:pt x="374" y="82"/>
                  </a:lnTo>
                  <a:lnTo>
                    <a:pt x="368" y="88"/>
                  </a:lnTo>
                  <a:lnTo>
                    <a:pt x="350" y="100"/>
                  </a:lnTo>
                  <a:lnTo>
                    <a:pt x="326" y="110"/>
                  </a:lnTo>
                  <a:lnTo>
                    <a:pt x="298" y="116"/>
                  </a:lnTo>
                  <a:lnTo>
                    <a:pt x="266" y="122"/>
                  </a:lnTo>
                  <a:lnTo>
                    <a:pt x="230" y="126"/>
                  </a:lnTo>
                  <a:lnTo>
                    <a:pt x="192" y="128"/>
                  </a:lnTo>
                  <a:lnTo>
                    <a:pt x="152" y="126"/>
                  </a:lnTo>
                  <a:lnTo>
                    <a:pt x="116" y="122"/>
                  </a:lnTo>
                  <a:lnTo>
                    <a:pt x="84" y="116"/>
                  </a:lnTo>
                  <a:lnTo>
                    <a:pt x="56" y="110"/>
                  </a:lnTo>
                  <a:lnTo>
                    <a:pt x="32" y="100"/>
                  </a:lnTo>
                  <a:lnTo>
                    <a:pt x="14" y="88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32" y="28"/>
                  </a:lnTo>
                  <a:lnTo>
                    <a:pt x="56" y="18"/>
                  </a:lnTo>
                  <a:lnTo>
                    <a:pt x="84" y="10"/>
                  </a:lnTo>
                  <a:lnTo>
                    <a:pt x="116" y="4"/>
                  </a:lnTo>
                  <a:lnTo>
                    <a:pt x="152" y="2"/>
                  </a:lnTo>
                  <a:lnTo>
                    <a:pt x="192" y="0"/>
                  </a:lnTo>
                  <a:lnTo>
                    <a:pt x="230" y="2"/>
                  </a:lnTo>
                  <a:lnTo>
                    <a:pt x="266" y="4"/>
                  </a:lnTo>
                  <a:lnTo>
                    <a:pt x="298" y="10"/>
                  </a:lnTo>
                  <a:lnTo>
                    <a:pt x="326" y="18"/>
                  </a:lnTo>
                  <a:lnTo>
                    <a:pt x="350" y="28"/>
                  </a:lnTo>
                  <a:lnTo>
                    <a:pt x="368" y="40"/>
                  </a:lnTo>
                  <a:lnTo>
                    <a:pt x="374" y="44"/>
                  </a:lnTo>
                  <a:lnTo>
                    <a:pt x="380" y="52"/>
                  </a:lnTo>
                  <a:lnTo>
                    <a:pt x="382" y="58"/>
                  </a:lnTo>
                  <a:lnTo>
                    <a:pt x="384" y="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78" descr="ppt宝藏_www"/>
          <p:cNvPicPr/>
          <p:nvPr/>
        </p:nvPicPr>
        <p:blipFill>
          <a:blip r:embed="rId5"/>
          <a:stretch/>
        </p:blipFill>
        <p:spPr>
          <a:xfrm>
            <a:off x="7518240" y="523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9" descr="ppt宝藏_www"/>
          <p:cNvPicPr/>
          <p:nvPr/>
        </p:nvPicPr>
        <p:blipFill>
          <a:blip r:embed="rId6"/>
          <a:stretch/>
        </p:blipFill>
        <p:spPr>
          <a:xfrm>
            <a:off x="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7360" y="4038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764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9080" y="2133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上"/>
          <p:cNvPicPr/>
          <p:nvPr/>
        </p:nvPicPr>
        <p:blipFill>
          <a:blip r:embed="rId5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绿2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本本 (165)"/>
          <p:cNvPicPr/>
          <p:nvPr/>
        </p:nvPicPr>
        <p:blipFill>
          <a:blip r:embed="rId7"/>
          <a:stretch/>
        </p:blipFill>
        <p:spPr>
          <a:xfrm rot="1981200">
            <a:off x="723852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2373480" y="1414440"/>
            <a:ext cx="4090680" cy="40179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51760" y="1305000"/>
            <a:ext cx="2023920" cy="2138040"/>
            <a:chOff x="4451760" y="1305000"/>
            <a:chExt cx="2023920" cy="2138040"/>
          </a:xfrm>
        </p:grpSpPr>
        <p:sp>
          <p:nvSpPr>
            <p:cNvPr id="249" name="AutoShape 17"/>
            <p:cNvSpPr/>
            <p:nvPr/>
          </p:nvSpPr>
          <p:spPr>
            <a:xfrm flipV="1" rot="8983800">
              <a:off x="5604840" y="158148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V="1" rot="8167800">
              <a:off x="5436000" y="131724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V="1" rot="7872600">
              <a:off x="5307120" y="11912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 flipV="1" rot="7340400">
              <a:off x="5148000" y="1045800"/>
              <a:ext cx="42480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7640" y="1316520"/>
            <a:ext cx="2470680" cy="1491120"/>
            <a:chOff x="3887640" y="1316520"/>
            <a:chExt cx="2470680" cy="1491120"/>
          </a:xfrm>
        </p:grpSpPr>
        <p:sp>
          <p:nvSpPr>
            <p:cNvPr id="254" name="AutoShape 22"/>
            <p:cNvSpPr/>
            <p:nvPr/>
          </p:nvSpPr>
          <p:spPr>
            <a:xfrm flipV="1" rot="7630200">
              <a:off x="5265360" y="11271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flipV="1" rot="6814200">
              <a:off x="5007600" y="94752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flipV="1" rot="6518400">
              <a:off x="4840560" y="88128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 flipV="1" rot="5986200">
              <a:off x="4637520" y="808560"/>
              <a:ext cx="42768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95720" y="3257280"/>
            <a:ext cx="1885320" cy="2263320"/>
            <a:chOff x="2295720" y="3257280"/>
            <a:chExt cx="1885320" cy="2263320"/>
          </a:xfrm>
        </p:grpSpPr>
        <p:sp>
          <p:nvSpPr>
            <p:cNvPr id="259" name="AutoShape 28"/>
            <p:cNvSpPr/>
            <p:nvPr/>
          </p:nvSpPr>
          <p:spPr>
            <a:xfrm flipV="1" rot="20112000">
              <a:off x="2691000" y="325944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 flipV="1" rot="19296600">
              <a:off x="2834280" y="353772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 flipV="1" rot="19000800">
              <a:off x="2949840" y="3675960"/>
              <a:ext cx="424800" cy="188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1"/>
            <p:cNvSpPr/>
            <p:nvPr/>
          </p:nvSpPr>
          <p:spPr>
            <a:xfrm flipV="1" rot="18468600">
              <a:off x="3094920" y="3835080"/>
              <a:ext cx="424800" cy="188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0160" y="3889080"/>
            <a:ext cx="2395800" cy="1659600"/>
            <a:chOff x="2360160" y="3889080"/>
            <a:chExt cx="2395800" cy="1659600"/>
          </a:xfrm>
        </p:grpSpPr>
        <p:sp>
          <p:nvSpPr>
            <p:cNvPr id="264" name="AutoShape 33"/>
            <p:cNvSpPr/>
            <p:nvPr/>
          </p:nvSpPr>
          <p:spPr>
            <a:xfrm flipV="1" rot="18758400">
              <a:off x="2983680" y="374220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4"/>
            <p:cNvSpPr/>
            <p:nvPr/>
          </p:nvSpPr>
          <p:spPr>
            <a:xfrm flipV="1" rot="17943000">
              <a:off x="3222720" y="394596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5"/>
            <p:cNvSpPr/>
            <p:nvPr/>
          </p:nvSpPr>
          <p:spPr>
            <a:xfrm flipV="1" rot="17647200">
              <a:off x="3382560" y="40276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6"/>
            <p:cNvSpPr/>
            <p:nvPr/>
          </p:nvSpPr>
          <p:spPr>
            <a:xfrm flipV="1" rot="17115000">
              <a:off x="3577680" y="4119480"/>
              <a:ext cx="427320" cy="18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13"/>
          <p:cNvSpPr/>
          <p:nvPr/>
        </p:nvSpPr>
        <p:spPr>
          <a:xfrm flipH="1" flipV="1" rot="5400000">
            <a:off x="1950840" y="1857960"/>
            <a:ext cx="2877840" cy="2057400"/>
          </a:xfrm>
          <a:custGeom>
            <a:avLst/>
            <a:gdLst/>
            <a:ahLst/>
            <a:rect l="l" t="t" r="r" b="b"/>
            <a:pathLst>
              <a:path fill="none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</a:path>
              <a:path stroke="0" w="30745" h="21791">
                <a:moveTo>
                  <a:pt x="0" y="2031"/>
                </a:moveTo>
                <a:cubicBezTo>
                  <a:pt x="2863" y="693"/>
                  <a:pt x="5984" y="-1"/>
                  <a:pt x="9145" y="0"/>
                </a:cubicBezTo>
                <a:cubicBezTo>
                  <a:pt x="21074" y="0"/>
                  <a:pt x="30745" y="9670"/>
                  <a:pt x="30745" y="21600"/>
                </a:cubicBezTo>
                <a:cubicBezTo>
                  <a:pt x="30745" y="21663"/>
                  <a:pt x="30744" y="21727"/>
                  <a:pt x="30744" y="21791"/>
                </a:cubicBezTo>
                <a:lnTo>
                  <a:pt x="9145" y="21600"/>
                </a:lnTo>
                <a:lnTo>
                  <a:pt x="0" y="2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1"/>
          <p:cNvSpPr/>
          <p:nvPr/>
        </p:nvSpPr>
        <p:spPr>
          <a:xfrm>
            <a:off x="4419720" y="1447920"/>
            <a:ext cx="2003400" cy="2023920"/>
          </a:xfrm>
          <a:custGeom>
            <a:avLst/>
            <a:gdLst/>
            <a:ahLst/>
            <a:rect l="l" t="t" r="r" b="b"/>
            <a:pathLst>
              <a:path fill="none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</a:path>
              <a:path stroke="0" w="21010" h="21600">
                <a:moveTo>
                  <a:pt x="-1" y="0"/>
                </a:moveTo>
                <a:cubicBezTo>
                  <a:pt x="9997" y="0"/>
                  <a:pt x="18688" y="6860"/>
                  <a:pt x="21009" y="165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12"/>
          <p:cNvSpPr/>
          <p:nvPr/>
        </p:nvSpPr>
        <p:spPr>
          <a:xfrm rot="5400000">
            <a:off x="4546800" y="2921040"/>
            <a:ext cx="1807920" cy="2062080"/>
          </a:xfrm>
          <a:custGeom>
            <a:avLst/>
            <a:gdLst/>
            <a:ahLst/>
            <a:rect l="l" t="t" r="r" b="b"/>
            <a:pathLst>
              <a:path fill="none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</a:path>
              <a:path stroke="0" w="19578" h="21600">
                <a:moveTo>
                  <a:pt x="0" y="548"/>
                </a:moveTo>
                <a:cubicBezTo>
                  <a:pt x="1586" y="183"/>
                  <a:pt x="3208" y="-1"/>
                  <a:pt x="4836" y="0"/>
                </a:cubicBezTo>
                <a:cubicBezTo>
                  <a:pt x="10308" y="0"/>
                  <a:pt x="15577" y="2077"/>
                  <a:pt x="19578" y="5812"/>
                </a:cubicBezTo>
                <a:lnTo>
                  <a:pt x="4836" y="21600"/>
                </a:ln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14"/>
          <p:cNvSpPr/>
          <p:nvPr/>
        </p:nvSpPr>
        <p:spPr>
          <a:xfrm rot="10419000">
            <a:off x="2666160" y="3429000"/>
            <a:ext cx="3189240" cy="2008080"/>
          </a:xfrm>
          <a:custGeom>
            <a:avLst/>
            <a:gdLst/>
            <a:ahLst/>
            <a:rect l="l" t="t" r="r" b="b"/>
            <a:pathLst>
              <a:path fill="none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</a:path>
              <a:path stroke="0" w="34053" h="21600">
                <a:moveTo>
                  <a:pt x="-1" y="5008"/>
                </a:moveTo>
                <a:cubicBezTo>
                  <a:pt x="3882" y="1772"/>
                  <a:pt x="8776" y="-1"/>
                  <a:pt x="13831" y="0"/>
                </a:cubicBezTo>
                <a:cubicBezTo>
                  <a:pt x="22831" y="0"/>
                  <a:pt x="30889" y="5581"/>
                  <a:pt x="34052" y="14008"/>
                </a:cubicBezTo>
                <a:lnTo>
                  <a:pt x="13831" y="21600"/>
                </a:lnTo>
                <a:lnTo>
                  <a:pt x="-1" y="50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8" descr="本本 (106)"/>
          <p:cNvPicPr/>
          <p:nvPr/>
        </p:nvPicPr>
        <p:blipFill>
          <a:blip r:embed="rId6"/>
          <a:stretch/>
        </p:blipFill>
        <p:spPr>
          <a:xfrm>
            <a:off x="3505320" y="251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4"/>
          <p:cNvSpPr/>
          <p:nvPr/>
        </p:nvSpPr>
        <p:spPr>
          <a:xfrm>
            <a:off x="144792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180000">
            <a:off x="2363760" y="2286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460000">
            <a:off x="4494960" y="2057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7580000">
            <a:off x="5136840" y="3397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80000">
            <a:off x="3428640" y="4343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480000">
            <a:off x="3580920" y="3048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1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501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2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2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3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503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504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本本 (101)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716800" y="925560"/>
            <a:ext cx="2588400" cy="2137680"/>
            <a:chOff x="5716800" y="925560"/>
            <a:chExt cx="2588400" cy="2137680"/>
          </a:xfrm>
        </p:grpSpPr>
        <p:grpSp>
          <p:nvGrpSpPr>
            <p:cNvPr id="285" name=""/>
            <p:cNvGrpSpPr/>
            <p:nvPr/>
          </p:nvGrpSpPr>
          <p:grpSpPr>
            <a:xfrm>
              <a:off x="6281640" y="925560"/>
              <a:ext cx="2023560" cy="2137680"/>
              <a:chOff x="6281640" y="925560"/>
              <a:chExt cx="2023560" cy="2137680"/>
            </a:xfrm>
          </p:grpSpPr>
          <p:sp>
            <p:nvSpPr>
              <p:cNvPr id="286" name="AutoShape 12"/>
              <p:cNvSpPr/>
              <p:nvPr/>
            </p:nvSpPr>
            <p:spPr>
              <a:xfrm flipV="1" rot="8983800">
                <a:off x="7434720" y="120240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3"/>
              <p:cNvSpPr/>
              <p:nvPr/>
            </p:nvSpPr>
            <p:spPr>
              <a:xfrm flipV="1" rot="8167800">
                <a:off x="7265880" y="937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4"/>
              <p:cNvSpPr/>
              <p:nvPr/>
            </p:nvSpPr>
            <p:spPr>
              <a:xfrm flipV="1" rot="7872600">
                <a:off x="7137000" y="81144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5"/>
              <p:cNvSpPr/>
              <p:nvPr/>
            </p:nvSpPr>
            <p:spPr>
              <a:xfrm flipV="1" rot="7340400">
                <a:off x="6977880" y="666720"/>
                <a:ext cx="42480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16800" y="936360"/>
              <a:ext cx="2469960" cy="1491480"/>
              <a:chOff x="5716800" y="936360"/>
              <a:chExt cx="2469960" cy="1491480"/>
            </a:xfrm>
          </p:grpSpPr>
          <p:sp>
            <p:nvSpPr>
              <p:cNvPr id="291" name="AutoShape 17"/>
              <p:cNvSpPr/>
              <p:nvPr/>
            </p:nvSpPr>
            <p:spPr>
              <a:xfrm flipV="1" rot="7630800">
                <a:off x="7094520" y="74736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8"/>
              <p:cNvSpPr/>
              <p:nvPr/>
            </p:nvSpPr>
            <p:spPr>
              <a:xfrm flipV="1" rot="6814800">
                <a:off x="6837480" y="5662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9"/>
              <p:cNvSpPr/>
              <p:nvPr/>
            </p:nvSpPr>
            <p:spPr>
              <a:xfrm flipV="1" rot="6519600">
                <a:off x="6670800" y="50040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"/>
              <p:cNvSpPr/>
              <p:nvPr/>
            </p:nvSpPr>
            <p:spPr>
              <a:xfrm flipV="1" rot="5987400">
                <a:off x="6467040" y="42804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4126320" y="2875320"/>
            <a:ext cx="2460240" cy="2293560"/>
            <a:chOff x="4126320" y="2875320"/>
            <a:chExt cx="2460240" cy="2293560"/>
          </a:xfrm>
        </p:grpSpPr>
        <p:grpSp>
          <p:nvGrpSpPr>
            <p:cNvPr id="296" name=""/>
            <p:cNvGrpSpPr/>
            <p:nvPr/>
          </p:nvGrpSpPr>
          <p:grpSpPr>
            <a:xfrm>
              <a:off x="4126320" y="2875320"/>
              <a:ext cx="1885320" cy="2264040"/>
              <a:chOff x="4126320" y="2875320"/>
              <a:chExt cx="1885320" cy="2264040"/>
            </a:xfrm>
          </p:grpSpPr>
          <p:sp>
            <p:nvSpPr>
              <p:cNvPr id="297" name="AutoShape 23"/>
              <p:cNvSpPr/>
              <p:nvPr/>
            </p:nvSpPr>
            <p:spPr>
              <a:xfrm flipV="1" rot="20112000">
                <a:off x="4521240" y="287748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4"/>
              <p:cNvSpPr/>
              <p:nvPr/>
            </p:nvSpPr>
            <p:spPr>
              <a:xfrm flipV="1" rot="19296600">
                <a:off x="4664520" y="3156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5"/>
              <p:cNvSpPr/>
              <p:nvPr/>
            </p:nvSpPr>
            <p:spPr>
              <a:xfrm flipV="1" rot="19000800">
                <a:off x="4780800" y="3295080"/>
                <a:ext cx="424800" cy="18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6"/>
              <p:cNvSpPr/>
              <p:nvPr/>
            </p:nvSpPr>
            <p:spPr>
              <a:xfrm flipV="1" rot="18468600">
                <a:off x="4925520" y="3453840"/>
                <a:ext cx="42480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92200" y="3508560"/>
              <a:ext cx="2394360" cy="1660320"/>
              <a:chOff x="4192200" y="3508560"/>
              <a:chExt cx="2394360" cy="1660320"/>
            </a:xfrm>
          </p:grpSpPr>
          <p:sp>
            <p:nvSpPr>
              <p:cNvPr id="302" name="AutoShape 28"/>
              <p:cNvSpPr/>
              <p:nvPr/>
            </p:nvSpPr>
            <p:spPr>
              <a:xfrm flipV="1" rot="18758400">
                <a:off x="4815000" y="3361680"/>
                <a:ext cx="426960" cy="188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9"/>
              <p:cNvSpPr/>
              <p:nvPr/>
            </p:nvSpPr>
            <p:spPr>
              <a:xfrm flipV="1" rot="17943000">
                <a:off x="5054040" y="3565800"/>
                <a:ext cx="426960" cy="1881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0"/>
              <p:cNvSpPr/>
              <p:nvPr/>
            </p:nvSpPr>
            <p:spPr>
              <a:xfrm flipV="1" rot="17647800">
                <a:off x="5214240" y="36482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1"/>
              <p:cNvSpPr/>
              <p:nvPr/>
            </p:nvSpPr>
            <p:spPr>
              <a:xfrm flipV="1" rot="17115600">
                <a:off x="5409000" y="3740040"/>
                <a:ext cx="426960" cy="188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6" name="Picture 50" descr="本本 (106)"/>
          <p:cNvPicPr/>
          <p:nvPr/>
        </p:nvPicPr>
        <p:blipFill>
          <a:blip r:embed="rId6"/>
          <a:stretch/>
        </p:blipFill>
        <p:spPr>
          <a:xfrm>
            <a:off x="2971800" y="9907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4" descr="本本 (106)"/>
          <p:cNvPicPr/>
          <p:nvPr/>
        </p:nvPicPr>
        <p:blipFill>
          <a:blip r:embed="rId7"/>
          <a:stretch/>
        </p:blipFill>
        <p:spPr>
          <a:xfrm>
            <a:off x="9907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未知"/>
          <p:cNvSpPr/>
          <p:nvPr/>
        </p:nvSpPr>
        <p:spPr>
          <a:xfrm rot="11569800">
            <a:off x="1904760" y="2590560"/>
            <a:ext cx="83808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20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9" descr="本本 (106)"/>
          <p:cNvPicPr/>
          <p:nvPr/>
        </p:nvPicPr>
        <p:blipFill>
          <a:blip r:embed="rId8"/>
          <a:stretch/>
        </p:blipFill>
        <p:spPr>
          <a:xfrm>
            <a:off x="601992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未知"/>
          <p:cNvSpPr/>
          <p:nvPr/>
        </p:nvSpPr>
        <p:spPr>
          <a:xfrm flipH="1" rot="11570400">
            <a:off x="6303600" y="2847600"/>
            <a:ext cx="914040" cy="860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2" descr="本本 (106)"/>
          <p:cNvPicPr/>
          <p:nvPr/>
        </p:nvPicPr>
        <p:blipFill>
          <a:blip r:embed="rId9"/>
          <a:stretch/>
        </p:blipFill>
        <p:spPr>
          <a:xfrm>
            <a:off x="3581280" y="43434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未知"/>
          <p:cNvSpPr/>
          <p:nvPr/>
        </p:nvSpPr>
        <p:spPr>
          <a:xfrm flipH="1" rot="11570400">
            <a:off x="4343040" y="3428640"/>
            <a:ext cx="457200" cy="9367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fdf"/>
              </a:gs>
              <a:gs pos="100000">
                <a:srgbClr val="009999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716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733920" y="68580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琥珀"/>
              </a:rPr>
              <a:t>目录导航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64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4_副本"/>
          <p:cNvPicPr/>
          <p:nvPr/>
        </p:nvPicPr>
        <p:blipFill>
          <a:blip r:embed="rId8"/>
          <a:stretch/>
        </p:blipFill>
        <p:spPr>
          <a:xfrm>
            <a:off x="1905120" y="2438280"/>
            <a:ext cx="69192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4_副本"/>
          <p:cNvPicPr/>
          <p:nvPr/>
        </p:nvPicPr>
        <p:blipFill>
          <a:blip r:embed="rId9"/>
          <a:stretch/>
        </p:blipFill>
        <p:spPr>
          <a:xfrm>
            <a:off x="190656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4_副本"/>
          <p:cNvPicPr/>
          <p:nvPr/>
        </p:nvPicPr>
        <p:blipFill>
          <a:blip r:embed="rId10"/>
          <a:stretch/>
        </p:blipFill>
        <p:spPr>
          <a:xfrm>
            <a:off x="1906560" y="4191120"/>
            <a:ext cx="692280" cy="69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6765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8912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350532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484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绿2"/>
          <p:cNvPicPr/>
          <p:nvPr/>
        </p:nvPicPr>
        <p:blipFill>
          <a:blip r:embed="rId5"/>
          <a:stretch/>
        </p:blipFill>
        <p:spPr>
          <a:xfrm>
            <a:off x="3352680" y="-37944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2819520"/>
            <a:ext cx="789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295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960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371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228600" y="8380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本本 (106)"/>
          <p:cNvPicPr/>
          <p:nvPr/>
        </p:nvPicPr>
        <p:blipFill>
          <a:blip r:embed="rId4"/>
          <a:stretch/>
        </p:blipFill>
        <p:spPr>
          <a:xfrm>
            <a:off x="5486400" y="2057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5791320" y="3200400"/>
            <a:ext cx="2209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本本 (106)"/>
          <p:cNvPicPr/>
          <p:nvPr/>
        </p:nvPicPr>
        <p:blipFill>
          <a:blip r:embed="rId5"/>
          <a:stretch/>
        </p:blipFill>
        <p:spPr>
          <a:xfrm>
            <a:off x="609480" y="2057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锐普论坛实用商务PPT图片-中国传统 (50)"/>
          <p:cNvPicPr/>
          <p:nvPr/>
        </p:nvPicPr>
        <p:blipFill>
          <a:blip r:embed="rId6"/>
          <a:stretch/>
        </p:blipFill>
        <p:spPr>
          <a:xfrm>
            <a:off x="2514600" y="59659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ppt宝藏_www"/>
          <p:cNvPicPr/>
          <p:nvPr/>
        </p:nvPicPr>
        <p:blipFill>
          <a:blip r:embed="rId7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本本 (7)"/>
          <p:cNvPicPr/>
          <p:nvPr/>
        </p:nvPicPr>
        <p:blipFill>
          <a:blip r:embed="rId8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97324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97324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加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9"/>
          <p:cNvSpPr/>
          <p:nvPr/>
        </p:nvSpPr>
        <p:spPr>
          <a:xfrm>
            <a:off x="4267080" y="533520"/>
            <a:ext cx="3124440" cy="6886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上"/>
          <p:cNvPicPr/>
          <p:nvPr/>
        </p:nvPicPr>
        <p:blipFill>
          <a:blip r:embed="rId3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栏杆"/>
          <p:cNvPicPr/>
          <p:nvPr/>
        </p:nvPicPr>
        <p:blipFill>
          <a:blip r:embed="rId4"/>
          <a:stretch/>
        </p:blipFill>
        <p:spPr>
          <a:xfrm>
            <a:off x="0" y="0"/>
            <a:ext cx="378144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t宝藏_www"/>
          <p:cNvPicPr/>
          <p:nvPr/>
        </p:nvPicPr>
        <p:blipFill>
          <a:blip r:embed="rId5"/>
          <a:stretch/>
        </p:blipFill>
        <p:spPr>
          <a:xfrm rot="1674000">
            <a:off x="2437920" y="175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ppt宝藏_www"/>
          <p:cNvPicPr/>
          <p:nvPr/>
        </p:nvPicPr>
        <p:blipFill>
          <a:blip r:embed="rId6"/>
          <a:stretch/>
        </p:blipFill>
        <p:spPr>
          <a:xfrm rot="1505400">
            <a:off x="5943240" y="18288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ppt宝藏_www"/>
          <p:cNvPicPr/>
          <p:nvPr/>
        </p:nvPicPr>
        <p:blipFill>
          <a:blip r:embed="rId7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6080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荷花 10_副本"/>
          <p:cNvPicPr/>
          <p:nvPr/>
        </p:nvPicPr>
        <p:blipFill>
          <a:blip r:embed="rId9"/>
          <a:stretch/>
        </p:blipFill>
        <p:spPr>
          <a:xfrm>
            <a:off x="-531720" y="4495680"/>
            <a:ext cx="228744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7400" y="99072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57200" y="1295280"/>
            <a:ext cx="3124080" cy="68904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pt宝藏_www"/>
          <p:cNvPicPr/>
          <p:nvPr/>
        </p:nvPicPr>
        <p:blipFill>
          <a:blip r:embed="rId4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藕粉"/>
          <p:cNvPicPr/>
          <p:nvPr/>
        </p:nvPicPr>
        <p:blipFill>
          <a:blip r:embed="rId5"/>
          <a:stretch/>
        </p:blipFill>
        <p:spPr>
          <a:xfrm>
            <a:off x="16002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藕粉"/>
          <p:cNvPicPr/>
          <p:nvPr/>
        </p:nvPicPr>
        <p:blipFill>
          <a:blip r:embed="rId6"/>
          <a:stretch/>
        </p:blipFill>
        <p:spPr>
          <a:xfrm>
            <a:off x="19810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藕粉"/>
          <p:cNvPicPr/>
          <p:nvPr/>
        </p:nvPicPr>
        <p:blipFill>
          <a:blip r:embed="rId7"/>
          <a:stretch/>
        </p:blipFill>
        <p:spPr>
          <a:xfrm>
            <a:off x="2286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藕粉"/>
          <p:cNvPicPr/>
          <p:nvPr/>
        </p:nvPicPr>
        <p:blipFill>
          <a:blip r:embed="rId8"/>
          <a:stretch/>
        </p:blipFill>
        <p:spPr>
          <a:xfrm>
            <a:off x="2666880" y="6019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书籍"/>
          <p:cNvPicPr/>
          <p:nvPr/>
        </p:nvPicPr>
        <p:blipFill>
          <a:blip r:embed="rId9"/>
          <a:stretch/>
        </p:blipFill>
        <p:spPr>
          <a:xfrm>
            <a:off x="3124080" y="5943600"/>
            <a:ext cx="7700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边框 便利贴"/>
          <p:cNvPicPr/>
          <p:nvPr/>
        </p:nvPicPr>
        <p:blipFill>
          <a:blip r:embed="rId10"/>
          <a:stretch/>
        </p:blipFill>
        <p:spPr>
          <a:xfrm>
            <a:off x="533520" y="2590920"/>
            <a:ext cx="11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本本 (83)"/>
          <p:cNvPicPr/>
          <p:nvPr/>
        </p:nvPicPr>
        <p:blipFill>
          <a:blip r:embed="rId1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80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边框 便利贴"/>
          <p:cNvPicPr/>
          <p:nvPr/>
        </p:nvPicPr>
        <p:blipFill>
          <a:blip r:embed="rId12"/>
          <a:stretch/>
        </p:blipFill>
        <p:spPr>
          <a:xfrm>
            <a:off x="2211480" y="2590920"/>
            <a:ext cx="1131840" cy="153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边框 便利贴"/>
          <p:cNvPicPr/>
          <p:nvPr/>
        </p:nvPicPr>
        <p:blipFill>
          <a:blip r:embed="rId13"/>
          <a:stretch/>
        </p:blipFill>
        <p:spPr>
          <a:xfrm>
            <a:off x="3809880" y="2590920"/>
            <a:ext cx="1133640" cy="15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边框 便利贴"/>
          <p:cNvPicPr/>
          <p:nvPr/>
        </p:nvPicPr>
        <p:blipFill>
          <a:blip r:embed="rId14"/>
          <a:stretch/>
        </p:blipFill>
        <p:spPr>
          <a:xfrm>
            <a:off x="5562720" y="2590920"/>
            <a:ext cx="1133280" cy="153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边框 便利贴"/>
          <p:cNvPicPr/>
          <p:nvPr/>
        </p:nvPicPr>
        <p:blipFill>
          <a:blip r:embed="rId15"/>
          <a:stretch/>
        </p:blipFill>
        <p:spPr>
          <a:xfrm>
            <a:off x="7391520" y="2592360"/>
            <a:ext cx="1133280" cy="15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19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536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048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6640" y="3048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请在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加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519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请在此处加入标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22:41Z</dcterms:created>
  <dc:creator/>
  <dc:description/>
  <dc:language>en-US</dc:language>
  <cp:lastModifiedBy>雨林木风</cp:lastModifiedBy>
  <dcterms:modified xsi:type="dcterms:W3CDTF">2015-10-21T15:09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