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wmf" ContentType="image/x-wmf"/>
  <Override PartName="/ppt/media/image8.png" ContentType="image/png"/>
  <Override PartName="/ppt/media/image9.png" ContentType="image/png"/>
  <Override PartName="/ppt/media/image11.wmf" ContentType="image/x-wmf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6BF5F-E6E6-41F4-87CC-D3FB7BABF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852AF-9AF2-42F6-A72C-D643D0FD1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B07379-BC26-44C0-9CCC-B366FA631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0646F7-066C-4EF4-AC73-7A4E05686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B5F4A3-C162-4F54-A143-0F9BB47AB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0DAF88-894E-4072-ABB9-A48F5E1C5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E38743-EFEF-4696-BEAF-887B8D230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72F2C6-6FF3-4ABB-9CC4-611530A81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8DCE2D-6E34-46BB-BEF5-DC03C33F7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EDFCB9-096E-4A16-B137-8025E6695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6D0021-247B-4E08-8586-309A5F73F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EC89A9-FACC-465D-9F0E-1627F5D6C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6F73F-C81B-4B8F-9587-50ED09AF6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EF945A-E263-4CDA-81DD-7CA0D026B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6C80DD-5A72-4BE8-BAA1-FC0D96640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0ECC4A-3EC1-4AAD-9A94-66812B06D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CAD5D1-6A53-4BFD-A156-EF64D5A53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2311BD-42B3-4D30-ACC5-148F1D191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4F6958-25E0-4735-BDC9-AA65CD37F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360BE6-07E7-4F7B-A1C9-E751FFA46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BEE075-3D09-4640-A1CF-C4974EAAE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5032D7-9E5A-418E-B34B-6371F6B02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530A3E-0408-4C76-BD2B-85A1FEF66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45D6B-8279-4EFE-A989-462AAA65E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277376-95D2-4785-9E19-A8B357820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49A79B-C1B1-4418-8E53-10F8760F8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69DDFD-8243-4221-BFCA-5189ADC3A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A6DA6C-A39E-4411-B866-17DD63624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D99DA3-0D23-4CF6-BD3F-D9AD22A13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6FF04A-66CF-45D4-AA4F-CF1E176D2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DADB3D-86D9-45AA-A058-440B730D1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984815-5502-4F0A-A060-3980DA4F2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5BA985-E7F2-44F4-A34F-EA1782ED5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4A13D5-92AB-4384-B9A6-B27B8412E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57B06-A57E-4079-9F4B-C35B170D6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F003A1-679D-4568-827C-C83103C91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76890F-C13F-44D0-B0AE-2176591A3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162DC2-826A-4213-B226-CCFC36EE6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04C3B1-B066-4E3A-8778-1DE8F99CE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751A03-43DC-4CFB-9481-D51934D20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A08ABD-0EF7-446B-90DD-949A31A31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3975C3-1E72-4992-ADA0-7E49DED5A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A6652A-1AA3-42A3-8B17-C4C72DBE2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4BD4BD-A89A-420B-80A8-70F562593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D5F006-5A9D-4557-8B4B-B3849765A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325DA-33A2-44E7-B0CC-CAD986F38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24E297-C630-460C-9149-943A866AA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73E7FD-1936-4AE1-A602-9F90BCC40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A359E1-9F94-45A2-8A73-968666222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7997E2-1717-4800-9867-93F44C385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39E1A7-75D6-4205-B5DB-A8A76A204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03F6176-DB6C-4750-959C-3387B6D6E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EEC5A8E-548E-4343-9D0A-01307FC0C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B01B5A8-84AF-4826-B4B4-6D32F1CED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FFC1494-B438-462A-BE67-22AAED416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3A4F174-1F06-40FD-A5EB-F660858E1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B63F9-9934-49E7-8B67-8AA493D1D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82D2965-3676-49A1-812B-16CBD494C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FC5B102-C1A6-4A62-BD3D-03C3DFE4A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BC13C9E-DB8B-4743-957E-2F423B5C5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78B82B5-65F6-41B5-81B2-C08A7ED65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CEBE686-D87A-4A89-A265-E3090D4BF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4680988-23BE-4DDC-AA2E-74EC86B38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0F63B4A-DAB2-44E3-9463-DD0207F25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9C3BB-BE21-48F6-BEE2-334D340F9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BFF19-57D9-4BD2-AEAD-3A0929F0D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7ECAC-A4EF-4E68-95ED-9F312D489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DE105-6EE8-496F-83E4-D643BFE14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98826-C90A-44DB-98E2-0B05DBFD7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A9914-55DF-4867-9ADD-CC32CAFB0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D7293-4FB4-4BCC-B1AD-E280604D1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6698B-30C8-428E-9558-6A4C4D906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57C80-3E5B-464C-AC26-3AFB221DB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D0FC8-3969-47B1-8963-0E837E63A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6E9D2E-B84B-4C36-A69E-23915592B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AD9D73-64BB-4840-A4ED-F71FD1B3B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D5EF5A-087F-4918-BBDF-818B747E3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B21D42-DF93-487A-A80E-235F31C41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33DF34-2219-46B7-8BC4-0CCEF9997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501B5-02E4-44DF-ADB4-0FC92A69C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0A5B09-B11C-4E38-A859-1033C4773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3D5F6A-66BB-4D1A-85D2-D9B51A581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4E449A-9335-4E22-B1EC-EFCF42C67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CA2F5E-706E-4EDC-B7E4-3D8BFE310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F13335-8B19-40BF-A79A-75B59A941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553B94-DB9F-46EA-A40B-7759B047D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85C5E7-DE10-4C3D-BA6E-0167B31A9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6C8442-E865-4C1B-BCA0-68D905C4F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3F7C3E-4682-45DA-85FB-BB4FB0545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CE23C4-5774-4FEF-BAC1-1648DA618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CA729-B816-4FC0-92D9-AF0FC0153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51D7F9-C5CC-47F9-88C4-E2CFAF1A0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5203A0-D15D-42A6-A458-E848724F6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677BBB-CA68-4AF3-B4AE-46B9CD710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9EE074-9E1B-4531-B529-8701C9A7C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5E3451-5FFD-43FB-9190-05D29E84D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292A99-EFD4-4D23-9E75-9CDC8304B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D4A8FA-72F8-444D-B79B-0441F14EA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07CF4D-390A-4379-A159-6385371D4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B10CE3-2E3F-4406-90C8-1AD3F74FE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F9034D-73DD-4602-BAF6-D977C8C8D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A7A08-8AB6-49A6-8756-0DCF17448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51C720-4F15-4A27-9E38-81BC7C11E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520CEA-A771-478F-BA92-4840FCF0F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0C9FA3-1093-4C3D-B083-E8BE83C73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F3FF62-3CF0-4A74-ABEB-7E3BC3550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553E27-C628-4C49-AA80-10DD46125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C15230-6D2B-494E-B962-8843FF0EB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9681A8-D4F1-4768-8F02-20EB47A73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F8EA2D-378F-4DB3-8A6D-B038DB110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8BB0D5-42D5-40CD-98F7-239770BA4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5DD358-A633-4179-BAB3-FDBDEB867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26990-B9ED-4068-ABA3-0D03A9EF4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04222E-E93E-48AB-9EBB-097C72091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2B2427-AFE4-410E-B541-43C3FAF80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55E175-9872-4962-9433-93C38574C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4869F6-4198-4111-99BD-5A041239D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B89540-D2B3-4792-8802-831D5AC73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019487-D47F-4F08-9B7D-541A25D19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24692C-E3C9-4505-94EB-FA3BA245E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A9A792-9F07-4BF5-A786-F458D9AE4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ED6744-AA4F-4C0A-A894-4C4B3CD57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979211-B2C7-47CA-A7D4-35AE74E4D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AAB3F-A511-4833-BFC5-23CD33087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536C88-4586-4A6D-B0D9-188A58E96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EC760B-7EA2-4A8A-A941-BB723FAE6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E65787-ECAF-4568-8F1D-42A7E96D6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A3C33A-6901-4335-BEA5-2D12D31BD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9BBA84-9B88-4AAC-974A-12F5C1B29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D2195C-CCBB-48AE-8CEB-7EB75EB07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F469E0-4117-4A0D-A7BD-0190E219E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FB8668-E994-4485-88FD-AFCE0A080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FD73F8-FC6B-413B-8CD6-51B2E98FD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7BCE0E-8B2B-4772-855E-CB59EEB60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C1534-42C0-4B11-AC53-78BE2C87B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CBDF21-ABFB-4C5F-A1B7-F9C4A85B0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C95C53-BACD-486C-B5AD-4DAB0C085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03D077-53EE-44E7-8BA1-CD9EF7833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AC7828-A5DF-4889-AA9D-4F3D649CC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1372C8-B308-4FE8-A6FD-CB7EC1F3E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CC472C-81F1-4CCF-BD79-C1CAAB353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4B6851-C6F4-40F3-974A-7037F3173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4BE7E2-0F8F-4DAB-98BD-1CF7AF3CF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AF4165-D1FE-432F-877A-F2F75C519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668FB7-CE44-4199-8A4F-2C095A521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79277-917D-4EFB-AF37-618203E2E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48D4E1-5F16-4BF9-802C-F90B52AF3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762395-DD12-452E-A0A0-725DD3858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75DCE2-3AFF-4086-8D7A-412B20A7D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598AA7-3A21-4D4E-B140-727FB383E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41FBDB-D3F8-4B14-BEED-86B7A86B9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BCD011-E023-46E4-BF33-7B8742B6F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F913C4-8DD2-4F3E-B3F7-92F8D0253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E61F7F-A0E7-4DAB-828A-AD4357CD2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7885E5-0347-433E-904F-76BD49CDC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D8ED5E-F100-4454-9B64-96C459801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7B0B4-3F42-42F3-BA60-356CA67D77D6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25F93-5954-4274-A22C-DF8344D80F7C}" type="slidenum">
              <a:rPr b="0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3FEC5-D7B3-4B7E-B075-AA9D54D45FA2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0362E-304B-4830-96A4-C24B41473EE5}" type="slidenum">
              <a:rPr b="0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FBE87-A726-4598-A8BD-87B938BE8A07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9CCD6-7705-41E0-8B59-5FC4EF388675}" type="slidenum">
              <a:rPr b="0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11573-600D-42A6-B644-7F7192412A68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D3C59-ABFF-4F6E-AD3E-C077F4B4034F}" type="slidenum">
              <a:rPr b="0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CF7DF-0ABC-46FC-BAB6-B82E40980D2F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8CE07-68F8-4DDE-BC18-27C8E57066C9}" type="slidenum">
              <a:rPr b="0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E7DD5-31F8-45EF-81A7-C3C4E1DB5457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A93F7-C680-4C8C-8DB8-0E49F09CE742}" type="slidenum">
              <a:rPr b="0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94646-6717-4387-B435-0A4DB162588F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8F543-37D1-4081-8E72-0DCB742FA7EC}" type="slidenum">
              <a:rPr b="0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0A087-6450-4F29-80C5-60B86F4B7736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9F374-C63A-4F92-94DB-08F3559A3E2D}" type="slidenum">
              <a:rPr b="0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F0F68-5DD9-4CFD-8E58-D4C206B8777F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58C12-68B3-46A9-88BF-EBFD84139089}" type="slidenum">
              <a:rPr b="0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BAF29-98A6-4352-83CE-0FB78236573D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D623D-8F45-4DBE-AEDC-AC85A3C0F533}" type="slidenum">
              <a:rPr b="0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C6B99-5D3C-41E4-A70E-B0C57B211D62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23E21-3F63-4A0F-8539-35BB2211853B}" type="slidenum">
              <a:rPr b="0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F24A6-6E6F-496E-94B8-7710AAAF080D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83EBA-C33B-4A26-8972-E91FAC3C5732}" type="slidenum">
              <a:rPr b="0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4B037-86AA-4890-96A7-1A0EBBC8AEAF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E3965-4F7C-4547-80C7-D1858C106029}" type="slidenum">
              <a:rPr b="0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wmf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4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wmf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4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wmf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4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wmf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wmf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4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wmf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4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wmf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4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wmf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4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1.wmf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3" name="Group 2"/>
          <p:cNvGrpSpPr/>
          <p:nvPr/>
        </p:nvGrpSpPr>
        <p:grpSpPr>
          <a:xfrm>
            <a:off x="-254160" y="2030400"/>
            <a:ext cx="9398160" cy="2316240"/>
            <a:chOff x="-254160" y="2030400"/>
            <a:chExt cx="9398160" cy="2316240"/>
          </a:xfrm>
        </p:grpSpPr>
        <p:sp>
          <p:nvSpPr>
            <p:cNvPr id="534" name="矩形 18"/>
            <p:cNvSpPr/>
            <p:nvPr/>
          </p:nvSpPr>
          <p:spPr>
            <a:xfrm>
              <a:off x="2160" y="2030400"/>
              <a:ext cx="9141840" cy="2316240"/>
            </a:xfrm>
            <a:prstGeom prst="rect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5" name="矩形 20"/>
            <p:cNvSpPr/>
            <p:nvPr/>
          </p:nvSpPr>
          <p:spPr>
            <a:xfrm>
              <a:off x="1800" y="2204280"/>
              <a:ext cx="9141840" cy="1914480"/>
            </a:xfrm>
            <a:prstGeom prst="rect">
              <a:avLst/>
            </a:prstGeom>
            <a:solidFill>
              <a:srgbClr val="c794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36" name="Group 5"/>
            <p:cNvGrpSpPr/>
            <p:nvPr/>
          </p:nvGrpSpPr>
          <p:grpSpPr>
            <a:xfrm>
              <a:off x="-254160" y="2277000"/>
              <a:ext cx="9294840" cy="1845360"/>
              <a:chOff x="-254160" y="2277000"/>
              <a:chExt cx="9294840" cy="1845360"/>
            </a:xfrm>
          </p:grpSpPr>
          <p:pic>
            <p:nvPicPr>
              <p:cNvPr id="537" name="图片 8" descr=""/>
              <p:cNvPicPr/>
              <p:nvPr/>
            </p:nvPicPr>
            <p:blipFill>
              <a:blip r:embed="rId1"/>
              <a:stretch/>
            </p:blipFill>
            <p:spPr>
              <a:xfrm>
                <a:off x="4323600" y="2277000"/>
                <a:ext cx="4717080" cy="1828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8" name="图片 42" descr=""/>
              <p:cNvPicPr/>
              <p:nvPr/>
            </p:nvPicPr>
            <p:blipFill>
              <a:blip r:embed="rId2"/>
              <a:stretch/>
            </p:blipFill>
            <p:spPr>
              <a:xfrm>
                <a:off x="-254160" y="2293920"/>
                <a:ext cx="4717080" cy="18284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539" name="TextBox 21"/>
          <p:cNvSpPr/>
          <p:nvPr/>
        </p:nvSpPr>
        <p:spPr>
          <a:xfrm>
            <a:off x="5014080" y="2665440"/>
            <a:ext cx="249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古典中国风幻灯片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直接连接符 27"/>
          <p:cNvSpPr/>
          <p:nvPr/>
        </p:nvSpPr>
        <p:spPr>
          <a:xfrm>
            <a:off x="3564000" y="2997360"/>
            <a:ext cx="442800" cy="0"/>
          </a:xfrm>
          <a:prstGeom prst="line">
            <a:avLst/>
          </a:prstGeom>
          <a:ln w="3492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直接连接符 28"/>
          <p:cNvSpPr/>
          <p:nvPr/>
        </p:nvSpPr>
        <p:spPr>
          <a:xfrm>
            <a:off x="8305920" y="3025800"/>
            <a:ext cx="442800" cy="0"/>
          </a:xfrm>
          <a:prstGeom prst="line">
            <a:avLst/>
          </a:prstGeom>
          <a:ln w="3492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2" name="图片 4" descr=""/>
          <p:cNvPicPr/>
          <p:nvPr/>
        </p:nvPicPr>
        <p:blipFill>
          <a:blip r:embed="rId3"/>
          <a:stretch/>
        </p:blipFill>
        <p:spPr>
          <a:xfrm rot="6589800">
            <a:off x="802080" y="2015280"/>
            <a:ext cx="2433600" cy="2289240"/>
          </a:xfrm>
          <a:prstGeom prst="rect">
            <a:avLst/>
          </a:prstGeom>
          <a:ln w="0">
            <a:noFill/>
          </a:ln>
        </p:spPr>
      </p:pic>
      <p:pic>
        <p:nvPicPr>
          <p:cNvPr id="543" name="图片 36" descr=""/>
          <p:cNvPicPr/>
          <p:nvPr/>
        </p:nvPicPr>
        <p:blipFill>
          <a:blip r:embed="rId4">
            <a:biLevel thresh="50000"/>
          </a:blip>
          <a:stretch/>
        </p:blipFill>
        <p:spPr>
          <a:xfrm rot="9788400">
            <a:off x="4012560" y="2866680"/>
            <a:ext cx="274680" cy="260280"/>
          </a:xfrm>
          <a:prstGeom prst="rect">
            <a:avLst/>
          </a:prstGeom>
          <a:ln w="0">
            <a:noFill/>
          </a:ln>
        </p:spPr>
      </p:pic>
      <p:pic>
        <p:nvPicPr>
          <p:cNvPr id="544" name="图片 37" descr=""/>
          <p:cNvPicPr/>
          <p:nvPr/>
        </p:nvPicPr>
        <p:blipFill>
          <a:blip r:embed="rId5">
            <a:biLevel thresh="50000"/>
          </a:blip>
          <a:stretch/>
        </p:blipFill>
        <p:spPr>
          <a:xfrm rot="9788400">
            <a:off x="8081280" y="2892240"/>
            <a:ext cx="274680" cy="260280"/>
          </a:xfrm>
          <a:prstGeom prst="rect">
            <a:avLst/>
          </a:prstGeom>
          <a:ln w="0">
            <a:noFill/>
          </a:ln>
        </p:spPr>
      </p:pic>
      <p:pic>
        <p:nvPicPr>
          <p:cNvPr id="545" name="图片 31" descr=""/>
          <p:cNvPicPr/>
          <p:nvPr/>
        </p:nvPicPr>
        <p:blipFill>
          <a:blip r:embed="rId6"/>
          <a:stretch/>
        </p:blipFill>
        <p:spPr>
          <a:xfrm>
            <a:off x="519120" y="1536840"/>
            <a:ext cx="3116160" cy="3116160"/>
          </a:xfrm>
          <a:prstGeom prst="rect">
            <a:avLst/>
          </a:prstGeom>
          <a:ln w="0">
            <a:noFill/>
          </a:ln>
        </p:spPr>
      </p:pic>
      <p:pic>
        <p:nvPicPr>
          <p:cNvPr id="546" name="Picture 3" descr="C:\Documents and Settings\Administrator\My Documents\My Pictures\1659_51.wmf"/>
          <p:cNvPicPr/>
          <p:nvPr/>
        </p:nvPicPr>
        <p:blipFill>
          <a:blip r:embed="rId7"/>
          <a:stretch/>
        </p:blipFill>
        <p:spPr>
          <a:xfrm>
            <a:off x="993600" y="2241720"/>
            <a:ext cx="2325960" cy="1979280"/>
          </a:xfrm>
          <a:prstGeom prst="rect">
            <a:avLst/>
          </a:prstGeom>
          <a:ln w="0">
            <a:noFill/>
          </a:ln>
        </p:spPr>
      </p:pic>
      <p:pic>
        <p:nvPicPr>
          <p:cNvPr id="547" name="图片 34" descr=""/>
          <p:cNvPicPr/>
          <p:nvPr/>
        </p:nvPicPr>
        <p:blipFill>
          <a:blip r:embed="rId8">
            <a:grayscl/>
          </a:blip>
          <a:stretch/>
        </p:blipFill>
        <p:spPr>
          <a:xfrm>
            <a:off x="2219400" y="3782880"/>
            <a:ext cx="944640" cy="757440"/>
          </a:xfrm>
          <a:prstGeom prst="rect">
            <a:avLst/>
          </a:prstGeom>
          <a:ln w="0">
            <a:noFill/>
          </a:ln>
        </p:spPr>
      </p:pic>
      <p:pic>
        <p:nvPicPr>
          <p:cNvPr id="548" name="图片 35" descr=""/>
          <p:cNvPicPr/>
          <p:nvPr/>
        </p:nvPicPr>
        <p:blipFill>
          <a:blip r:embed="rId9">
            <a:grayscl/>
          </a:blip>
          <a:stretch/>
        </p:blipFill>
        <p:spPr>
          <a:xfrm>
            <a:off x="2852640" y="4010040"/>
            <a:ext cx="620640" cy="527040"/>
          </a:xfrm>
          <a:prstGeom prst="rect">
            <a:avLst/>
          </a:prstGeom>
          <a:ln w="0">
            <a:noFill/>
          </a:ln>
        </p:spPr>
      </p:pic>
      <p:sp>
        <p:nvSpPr>
          <p:cNvPr id="549" name="矩形 21"/>
          <p:cNvSpPr/>
          <p:nvPr/>
        </p:nvSpPr>
        <p:spPr>
          <a:xfrm>
            <a:off x="3240" y="1536840"/>
            <a:ext cx="10792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0" name="Group 2"/>
          <p:cNvGrpSpPr/>
          <p:nvPr/>
        </p:nvGrpSpPr>
        <p:grpSpPr>
          <a:xfrm>
            <a:off x="2124000" y="1969920"/>
            <a:ext cx="5364360" cy="538200"/>
            <a:chOff x="2124000" y="1969920"/>
            <a:chExt cx="5364360" cy="538200"/>
          </a:xfrm>
        </p:grpSpPr>
        <p:sp>
          <p:nvSpPr>
            <p:cNvPr id="551" name="圆角矩形 3"/>
            <p:cNvSpPr/>
            <p:nvPr/>
          </p:nvSpPr>
          <p:spPr>
            <a:xfrm>
              <a:off x="2124000" y="2202120"/>
              <a:ext cx="5364360" cy="306000"/>
            </a:xfrm>
            <a:prstGeom prst="roundRect">
              <a:avLst>
                <a:gd name="adj" fmla="val 0"/>
              </a:avLst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2" name="圆角矩形 4"/>
            <p:cNvSpPr/>
            <p:nvPr/>
          </p:nvSpPr>
          <p:spPr>
            <a:xfrm>
              <a:off x="2199240" y="1969920"/>
              <a:ext cx="5220720" cy="464760"/>
            </a:xfrm>
            <a:prstGeom prst="roundRect">
              <a:avLst>
                <a:gd name="adj" fmla="val 0"/>
              </a:avLst>
            </a:prstGeom>
            <a:solidFill>
              <a:srgbClr val="c794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53" name="Group 5"/>
          <p:cNvGrpSpPr/>
          <p:nvPr/>
        </p:nvGrpSpPr>
        <p:grpSpPr>
          <a:xfrm>
            <a:off x="2124000" y="2762280"/>
            <a:ext cx="5364360" cy="539640"/>
            <a:chOff x="2124000" y="2762280"/>
            <a:chExt cx="5364360" cy="539640"/>
          </a:xfrm>
        </p:grpSpPr>
        <p:sp>
          <p:nvSpPr>
            <p:cNvPr id="554" name="圆角矩形 3"/>
            <p:cNvSpPr/>
            <p:nvPr/>
          </p:nvSpPr>
          <p:spPr>
            <a:xfrm>
              <a:off x="2124000" y="2995200"/>
              <a:ext cx="5364360" cy="306720"/>
            </a:xfrm>
            <a:prstGeom prst="roundRect">
              <a:avLst>
                <a:gd name="adj" fmla="val 0"/>
              </a:avLst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5" name="圆角矩形 4"/>
            <p:cNvSpPr/>
            <p:nvPr/>
          </p:nvSpPr>
          <p:spPr>
            <a:xfrm>
              <a:off x="2199240" y="2762280"/>
              <a:ext cx="5220720" cy="465840"/>
            </a:xfrm>
            <a:prstGeom prst="roundRect">
              <a:avLst>
                <a:gd name="adj" fmla="val 0"/>
              </a:avLst>
            </a:prstGeom>
            <a:solidFill>
              <a:srgbClr val="c794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56" name="Group 8"/>
          <p:cNvGrpSpPr/>
          <p:nvPr/>
        </p:nvGrpSpPr>
        <p:grpSpPr>
          <a:xfrm>
            <a:off x="2124000" y="3554280"/>
            <a:ext cx="5364360" cy="540000"/>
            <a:chOff x="2124000" y="3554280"/>
            <a:chExt cx="5364360" cy="540000"/>
          </a:xfrm>
        </p:grpSpPr>
        <p:sp>
          <p:nvSpPr>
            <p:cNvPr id="557" name="圆角矩形 3"/>
            <p:cNvSpPr/>
            <p:nvPr/>
          </p:nvSpPr>
          <p:spPr>
            <a:xfrm>
              <a:off x="2124000" y="3787200"/>
              <a:ext cx="5364360" cy="307080"/>
            </a:xfrm>
            <a:prstGeom prst="roundRect">
              <a:avLst>
                <a:gd name="adj" fmla="val 0"/>
              </a:avLst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8" name="圆角矩形 4"/>
            <p:cNvSpPr/>
            <p:nvPr/>
          </p:nvSpPr>
          <p:spPr>
            <a:xfrm>
              <a:off x="2199240" y="3554280"/>
              <a:ext cx="5220720" cy="466200"/>
            </a:xfrm>
            <a:prstGeom prst="roundRect">
              <a:avLst>
                <a:gd name="adj" fmla="val 0"/>
              </a:avLst>
            </a:prstGeom>
            <a:solidFill>
              <a:srgbClr val="c794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59" name="Group 11"/>
          <p:cNvGrpSpPr/>
          <p:nvPr/>
        </p:nvGrpSpPr>
        <p:grpSpPr>
          <a:xfrm>
            <a:off x="2124000" y="4346640"/>
            <a:ext cx="5364360" cy="539640"/>
            <a:chOff x="2124000" y="4346640"/>
            <a:chExt cx="5364360" cy="539640"/>
          </a:xfrm>
        </p:grpSpPr>
        <p:sp>
          <p:nvSpPr>
            <p:cNvPr id="560" name="圆角矩形 3"/>
            <p:cNvSpPr/>
            <p:nvPr/>
          </p:nvSpPr>
          <p:spPr>
            <a:xfrm>
              <a:off x="2124000" y="4579560"/>
              <a:ext cx="5364360" cy="306720"/>
            </a:xfrm>
            <a:prstGeom prst="roundRect">
              <a:avLst>
                <a:gd name="adj" fmla="val 0"/>
              </a:avLst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1" name="圆角矩形 4"/>
            <p:cNvSpPr/>
            <p:nvPr/>
          </p:nvSpPr>
          <p:spPr>
            <a:xfrm>
              <a:off x="2199240" y="4346640"/>
              <a:ext cx="5220720" cy="465840"/>
            </a:xfrm>
            <a:prstGeom prst="roundRect">
              <a:avLst>
                <a:gd name="adj" fmla="val 0"/>
              </a:avLst>
            </a:prstGeom>
            <a:solidFill>
              <a:srgbClr val="c794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62" name="Group 14"/>
          <p:cNvGrpSpPr/>
          <p:nvPr/>
        </p:nvGrpSpPr>
        <p:grpSpPr>
          <a:xfrm>
            <a:off x="-1440" y="0"/>
            <a:ext cx="9142200" cy="1413360"/>
            <a:chOff x="-1440" y="0"/>
            <a:chExt cx="9142200" cy="1413360"/>
          </a:xfrm>
        </p:grpSpPr>
        <p:grpSp>
          <p:nvGrpSpPr>
            <p:cNvPr id="563" name="Group 15"/>
            <p:cNvGrpSpPr/>
            <p:nvPr/>
          </p:nvGrpSpPr>
          <p:grpSpPr>
            <a:xfrm>
              <a:off x="-1440" y="0"/>
              <a:ext cx="9142200" cy="1413360"/>
              <a:chOff x="-1440" y="0"/>
              <a:chExt cx="9142200" cy="1413360"/>
            </a:xfrm>
          </p:grpSpPr>
          <p:grpSp>
            <p:nvGrpSpPr>
              <p:cNvPr id="564" name="Group 16"/>
              <p:cNvGrpSpPr/>
              <p:nvPr/>
            </p:nvGrpSpPr>
            <p:grpSpPr>
              <a:xfrm>
                <a:off x="-1440" y="0"/>
                <a:ext cx="9142200" cy="1413360"/>
                <a:chOff x="-1440" y="0"/>
                <a:chExt cx="9142200" cy="1413360"/>
              </a:xfrm>
            </p:grpSpPr>
            <p:sp>
              <p:nvSpPr>
                <p:cNvPr id="565" name="椭圆 32"/>
                <p:cNvSpPr/>
                <p:nvPr/>
              </p:nvSpPr>
              <p:spPr>
                <a:xfrm>
                  <a:off x="242280" y="132840"/>
                  <a:ext cx="1256400" cy="1280160"/>
                </a:xfrm>
                <a:prstGeom prst="ellipse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6" name="矩形 54"/>
                <p:cNvSpPr/>
                <p:nvPr/>
              </p:nvSpPr>
              <p:spPr>
                <a:xfrm flipV="1">
                  <a:off x="-1080" y="807480"/>
                  <a:ext cx="9142200" cy="249840"/>
                </a:xfrm>
                <a:prstGeom prst="rect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7" name="矩形 56"/>
                <p:cNvSpPr/>
                <p:nvPr/>
              </p:nvSpPr>
              <p:spPr>
                <a:xfrm flipV="1">
                  <a:off x="-1080" y="0"/>
                  <a:ext cx="9142200" cy="979200"/>
                </a:xfrm>
                <a:custGeom>
                  <a:avLst/>
                  <a:gdLst/>
                  <a:ahLst/>
                  <a:rect l="l" t="t" r="r" b="b"/>
                  <a:pathLst>
                    <a:path w="9937104" h="1101328">
                      <a:moveTo>
                        <a:pt x="0" y="0"/>
                      </a:moveTo>
                      <a:lnTo>
                        <a:pt x="9937104" y="0"/>
                      </a:lnTo>
                      <a:lnTo>
                        <a:pt x="9937104" y="1101328"/>
                      </a:lnTo>
                      <a:lnTo>
                        <a:pt x="0" y="110132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7940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8" name="椭圆 5"/>
                <p:cNvSpPr/>
                <p:nvPr/>
              </p:nvSpPr>
              <p:spPr>
                <a:xfrm>
                  <a:off x="304200" y="219600"/>
                  <a:ext cx="1119240" cy="1119240"/>
                </a:xfrm>
                <a:prstGeom prst="ellipse">
                  <a:avLst/>
                </a:prstGeom>
                <a:solidFill>
                  <a:srgbClr val="c7940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569" name="Group 21"/>
                <p:cNvGrpSpPr/>
                <p:nvPr/>
              </p:nvGrpSpPr>
              <p:grpSpPr>
                <a:xfrm>
                  <a:off x="209520" y="81000"/>
                  <a:ext cx="1294560" cy="1332360"/>
                  <a:chOff x="209520" y="81000"/>
                  <a:chExt cx="1294560" cy="1332360"/>
                </a:xfrm>
              </p:grpSpPr>
              <p:pic>
                <p:nvPicPr>
                  <p:cNvPr id="570" name="图片 33" descr=""/>
                  <p:cNvPicPr/>
                  <p:nvPr/>
                </p:nvPicPr>
                <p:blipFill>
                  <a:blip r:embed="rId1"/>
                  <a:stretch/>
                </p:blipFill>
                <p:spPr>
                  <a:xfrm rot="6589800">
                    <a:off x="327960" y="249480"/>
                    <a:ext cx="1057320" cy="99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571" name="Picture 3" descr="C:\Documents and Settings\Administrator\My Documents\My Pictures\1659_51.wmf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800" y="335880"/>
                    <a:ext cx="1010160" cy="86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</p:grpSp>
          <p:grpSp>
            <p:nvGrpSpPr>
              <p:cNvPr id="572" name="Group 24"/>
              <p:cNvGrpSpPr/>
              <p:nvPr/>
            </p:nvGrpSpPr>
            <p:grpSpPr>
              <a:xfrm>
                <a:off x="93960" y="720"/>
                <a:ext cx="9015480" cy="1045080"/>
                <a:chOff x="93960" y="720"/>
                <a:chExt cx="9015480" cy="1045080"/>
              </a:xfrm>
            </p:grpSpPr>
            <p:pic>
              <p:nvPicPr>
                <p:cNvPr id="573" name="图片 8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5316120" y="720"/>
                  <a:ext cx="3793320" cy="1045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74" name="图片 46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693800" y="720"/>
                  <a:ext cx="3793320" cy="1045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75" name="图片 47" descr=""/>
                <p:cNvPicPr/>
                <p:nvPr/>
              </p:nvPicPr>
              <p:blipFill>
                <a:blip r:embed="rId5"/>
                <a:srcRect l="57831" t="0" r="0" b="0"/>
                <a:stretch/>
              </p:blipFill>
              <p:spPr>
                <a:xfrm>
                  <a:off x="93960" y="720"/>
                  <a:ext cx="1599840" cy="10450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576" name="TextBox 61"/>
            <p:cNvSpPr/>
            <p:nvPr/>
          </p:nvSpPr>
          <p:spPr>
            <a:xfrm>
              <a:off x="6031080" y="404280"/>
              <a:ext cx="1846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华文隶书"/>
                  <a:ea typeface="华文隶书"/>
                </a:rPr>
                <a:t> </a:t>
              </a:r>
              <a:r>
                <a:rPr b="0" lang="zh-CN" sz="3200" spc="-1" strike="noStrike">
                  <a:solidFill>
                    <a:srgbClr val="000000"/>
                  </a:solidFill>
                  <a:latin typeface="华文隶书"/>
                  <a:ea typeface="华文隶书"/>
                </a:rPr>
                <a:t>中国风目录页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7" name="Group 2"/>
          <p:cNvGrpSpPr/>
          <p:nvPr/>
        </p:nvGrpSpPr>
        <p:grpSpPr>
          <a:xfrm>
            <a:off x="2030400" y="3284640"/>
            <a:ext cx="5365800" cy="539640"/>
            <a:chOff x="2030400" y="3284640"/>
            <a:chExt cx="5365800" cy="539640"/>
          </a:xfrm>
        </p:grpSpPr>
        <p:sp>
          <p:nvSpPr>
            <p:cNvPr id="578" name="圆角矩形 3"/>
            <p:cNvSpPr/>
            <p:nvPr/>
          </p:nvSpPr>
          <p:spPr>
            <a:xfrm>
              <a:off x="2030400" y="3517560"/>
              <a:ext cx="5365800" cy="306720"/>
            </a:xfrm>
            <a:prstGeom prst="roundRect">
              <a:avLst>
                <a:gd name="adj" fmla="val 0"/>
              </a:avLst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9" name="圆角矩形 4"/>
            <p:cNvSpPr/>
            <p:nvPr/>
          </p:nvSpPr>
          <p:spPr>
            <a:xfrm>
              <a:off x="2105640" y="3284640"/>
              <a:ext cx="5221800" cy="465840"/>
            </a:xfrm>
            <a:prstGeom prst="roundRect">
              <a:avLst>
                <a:gd name="adj" fmla="val 0"/>
              </a:avLst>
            </a:prstGeom>
            <a:solidFill>
              <a:srgbClr val="c794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80" name="Group 5"/>
          <p:cNvGrpSpPr/>
          <p:nvPr/>
        </p:nvGrpSpPr>
        <p:grpSpPr>
          <a:xfrm>
            <a:off x="-1440" y="0"/>
            <a:ext cx="9142200" cy="1413360"/>
            <a:chOff x="-1440" y="0"/>
            <a:chExt cx="9142200" cy="1413360"/>
          </a:xfrm>
        </p:grpSpPr>
        <p:grpSp>
          <p:nvGrpSpPr>
            <p:cNvPr id="581" name="Group 6"/>
            <p:cNvGrpSpPr/>
            <p:nvPr/>
          </p:nvGrpSpPr>
          <p:grpSpPr>
            <a:xfrm>
              <a:off x="-1440" y="0"/>
              <a:ext cx="9142200" cy="1413360"/>
              <a:chOff x="-1440" y="0"/>
              <a:chExt cx="9142200" cy="1413360"/>
            </a:xfrm>
          </p:grpSpPr>
          <p:grpSp>
            <p:nvGrpSpPr>
              <p:cNvPr id="582" name="Group 7"/>
              <p:cNvGrpSpPr/>
              <p:nvPr/>
            </p:nvGrpSpPr>
            <p:grpSpPr>
              <a:xfrm>
                <a:off x="-1440" y="0"/>
                <a:ext cx="9142200" cy="1413360"/>
                <a:chOff x="-1440" y="0"/>
                <a:chExt cx="9142200" cy="1413360"/>
              </a:xfrm>
            </p:grpSpPr>
            <p:sp>
              <p:nvSpPr>
                <p:cNvPr id="583" name="椭圆 32"/>
                <p:cNvSpPr/>
                <p:nvPr/>
              </p:nvSpPr>
              <p:spPr>
                <a:xfrm>
                  <a:off x="242280" y="132840"/>
                  <a:ext cx="1256400" cy="1280160"/>
                </a:xfrm>
                <a:prstGeom prst="ellipse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84" name="矩形 39"/>
                <p:cNvSpPr/>
                <p:nvPr/>
              </p:nvSpPr>
              <p:spPr>
                <a:xfrm flipV="1">
                  <a:off x="-1080" y="807480"/>
                  <a:ext cx="9142200" cy="249840"/>
                </a:xfrm>
                <a:prstGeom prst="rect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85" name="矩形 56"/>
                <p:cNvSpPr/>
                <p:nvPr/>
              </p:nvSpPr>
              <p:spPr>
                <a:xfrm flipV="1">
                  <a:off x="-1080" y="0"/>
                  <a:ext cx="9142200" cy="979200"/>
                </a:xfrm>
                <a:custGeom>
                  <a:avLst/>
                  <a:gdLst/>
                  <a:ahLst/>
                  <a:rect l="l" t="t" r="r" b="b"/>
                  <a:pathLst>
                    <a:path w="9937104" h="1101328">
                      <a:moveTo>
                        <a:pt x="0" y="0"/>
                      </a:moveTo>
                      <a:lnTo>
                        <a:pt x="9937104" y="0"/>
                      </a:lnTo>
                      <a:lnTo>
                        <a:pt x="9937104" y="1101328"/>
                      </a:lnTo>
                      <a:lnTo>
                        <a:pt x="0" y="110132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7940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86" name="椭圆 41"/>
                <p:cNvSpPr/>
                <p:nvPr/>
              </p:nvSpPr>
              <p:spPr>
                <a:xfrm>
                  <a:off x="304200" y="219600"/>
                  <a:ext cx="1119240" cy="1119240"/>
                </a:xfrm>
                <a:prstGeom prst="ellipse">
                  <a:avLst/>
                </a:prstGeom>
                <a:solidFill>
                  <a:srgbClr val="c7940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587" name="Group 12"/>
                <p:cNvGrpSpPr/>
                <p:nvPr/>
              </p:nvGrpSpPr>
              <p:grpSpPr>
                <a:xfrm>
                  <a:off x="209520" y="81000"/>
                  <a:ext cx="1294560" cy="1332360"/>
                  <a:chOff x="209520" y="81000"/>
                  <a:chExt cx="1294560" cy="1332360"/>
                </a:xfrm>
              </p:grpSpPr>
              <p:pic>
                <p:nvPicPr>
                  <p:cNvPr id="588" name="图片 43" descr=""/>
                  <p:cNvPicPr/>
                  <p:nvPr/>
                </p:nvPicPr>
                <p:blipFill>
                  <a:blip r:embed="rId1"/>
                  <a:stretch/>
                </p:blipFill>
                <p:spPr>
                  <a:xfrm rot="6589800">
                    <a:off x="327960" y="249480"/>
                    <a:ext cx="1057320" cy="99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589" name="Picture 3" descr="C:\Documents and Settings\Administrator\My Documents\My Pictures\1659_51.wmf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800" y="335880"/>
                    <a:ext cx="1010160" cy="86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</p:grpSp>
          <p:grpSp>
            <p:nvGrpSpPr>
              <p:cNvPr id="590" name="Group 15"/>
              <p:cNvGrpSpPr/>
              <p:nvPr/>
            </p:nvGrpSpPr>
            <p:grpSpPr>
              <a:xfrm>
                <a:off x="93960" y="720"/>
                <a:ext cx="9015480" cy="1045080"/>
                <a:chOff x="93960" y="720"/>
                <a:chExt cx="9015480" cy="1045080"/>
              </a:xfrm>
            </p:grpSpPr>
            <p:pic>
              <p:nvPicPr>
                <p:cNvPr id="591" name="图片 28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5316120" y="720"/>
                  <a:ext cx="3793320" cy="1045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92" name="图片 2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693800" y="720"/>
                  <a:ext cx="3793320" cy="1045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93" name="图片 31" descr=""/>
                <p:cNvPicPr/>
                <p:nvPr/>
              </p:nvPicPr>
              <p:blipFill>
                <a:blip r:embed="rId5"/>
                <a:srcRect l="57831" t="0" r="0" b="0"/>
                <a:stretch/>
              </p:blipFill>
              <p:spPr>
                <a:xfrm>
                  <a:off x="93960" y="720"/>
                  <a:ext cx="1599840" cy="10450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594" name="TextBox 25"/>
            <p:cNvSpPr/>
            <p:nvPr/>
          </p:nvSpPr>
          <p:spPr>
            <a:xfrm>
              <a:off x="6031080" y="404280"/>
              <a:ext cx="1846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华文隶书"/>
                  <a:ea typeface="华文隶书"/>
                </a:rPr>
                <a:t> </a:t>
              </a:r>
              <a:r>
                <a:rPr b="0" lang="zh-CN" sz="3200" spc="-1" strike="noStrike">
                  <a:solidFill>
                    <a:srgbClr val="000000"/>
                  </a:solidFill>
                  <a:latin typeface="华文隶书"/>
                  <a:ea typeface="华文隶书"/>
                </a:rPr>
                <a:t>中国风过渡页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泪滴形 6"/>
          <p:cNvSpPr/>
          <p:nvPr/>
        </p:nvSpPr>
        <p:spPr>
          <a:xfrm>
            <a:off x="2554200" y="4041720"/>
            <a:ext cx="1548000" cy="1548000"/>
          </a:xfrm>
          <a:custGeom>
            <a:avLst/>
            <a:gdLst/>
            <a:ahLst/>
            <a:rect l="l" t="t" r="r" b="b"/>
            <a:pathLst>
              <a:path w="1548172" h="1548172">
                <a:moveTo>
                  <a:pt x="0" y="774086"/>
                </a:moveTo>
                <a:cubicBezTo>
                  <a:pt x="0" y="346570"/>
                  <a:pt x="346570" y="0"/>
                  <a:pt x="774086" y="0"/>
                </a:cubicBezTo>
                <a:cubicBezTo>
                  <a:pt x="1173723" y="0"/>
                  <a:pt x="1573361" y="-141609"/>
                  <a:pt x="1972998" y="-424826"/>
                </a:cubicBezTo>
                <a:cubicBezTo>
                  <a:pt x="1689781" y="-25189"/>
                  <a:pt x="1548172" y="374449"/>
                  <a:pt x="1548172" y="774086"/>
                </a:cubicBezTo>
                <a:cubicBezTo>
                  <a:pt x="1548172" y="1201602"/>
                  <a:pt x="1201602" y="1548172"/>
                  <a:pt x="774086" y="1548172"/>
                </a:cubicBezTo>
                <a:cubicBezTo>
                  <a:pt x="346570" y="1548172"/>
                  <a:pt x="0" y="1201602"/>
                  <a:pt x="0" y="774086"/>
                </a:cubicBez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椭圆 7"/>
          <p:cNvSpPr/>
          <p:nvPr/>
        </p:nvSpPr>
        <p:spPr>
          <a:xfrm>
            <a:off x="2625840" y="4113360"/>
            <a:ext cx="1404720" cy="1403280"/>
          </a:xfrm>
          <a:prstGeom prst="ellipse">
            <a:avLst/>
          </a:prstGeom>
          <a:solidFill>
            <a:srgbClr val="c794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关键词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泪滴形 8"/>
          <p:cNvSpPr/>
          <p:nvPr/>
        </p:nvSpPr>
        <p:spPr>
          <a:xfrm rot="5400000">
            <a:off x="2580480" y="1627920"/>
            <a:ext cx="1548000" cy="1549440"/>
          </a:xfrm>
          <a:custGeom>
            <a:avLst/>
            <a:gdLst/>
            <a:ahLst/>
            <a:rect l="l" t="t" r="r" b="b"/>
            <a:pathLst>
              <a:path w="1548172" h="1548172">
                <a:moveTo>
                  <a:pt x="0" y="774086"/>
                </a:moveTo>
                <a:cubicBezTo>
                  <a:pt x="0" y="346570"/>
                  <a:pt x="346570" y="0"/>
                  <a:pt x="774086" y="0"/>
                </a:cubicBezTo>
                <a:cubicBezTo>
                  <a:pt x="1173723" y="0"/>
                  <a:pt x="1573361" y="-141609"/>
                  <a:pt x="1972998" y="-424826"/>
                </a:cubicBezTo>
                <a:cubicBezTo>
                  <a:pt x="1689781" y="-25189"/>
                  <a:pt x="1548172" y="374449"/>
                  <a:pt x="1548172" y="774086"/>
                </a:cubicBezTo>
                <a:cubicBezTo>
                  <a:pt x="1548172" y="1201602"/>
                  <a:pt x="1201602" y="1548172"/>
                  <a:pt x="774086" y="1548172"/>
                </a:cubicBezTo>
                <a:cubicBezTo>
                  <a:pt x="346570" y="1548172"/>
                  <a:pt x="0" y="1201602"/>
                  <a:pt x="0" y="774086"/>
                </a:cubicBez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泪滴形 9"/>
          <p:cNvSpPr/>
          <p:nvPr/>
        </p:nvSpPr>
        <p:spPr>
          <a:xfrm rot="16200000">
            <a:off x="5002200" y="4041720"/>
            <a:ext cx="1548000" cy="1548000"/>
          </a:xfrm>
          <a:custGeom>
            <a:avLst/>
            <a:gdLst/>
            <a:ahLst/>
            <a:rect l="l" t="t" r="r" b="b"/>
            <a:pathLst>
              <a:path w="1548172" h="1548172">
                <a:moveTo>
                  <a:pt x="0" y="774086"/>
                </a:moveTo>
                <a:cubicBezTo>
                  <a:pt x="0" y="346570"/>
                  <a:pt x="346570" y="0"/>
                  <a:pt x="774086" y="0"/>
                </a:cubicBezTo>
                <a:cubicBezTo>
                  <a:pt x="1173723" y="0"/>
                  <a:pt x="1573361" y="-141609"/>
                  <a:pt x="1972998" y="-424826"/>
                </a:cubicBezTo>
                <a:cubicBezTo>
                  <a:pt x="1689781" y="-25189"/>
                  <a:pt x="1548172" y="374449"/>
                  <a:pt x="1548172" y="774086"/>
                </a:cubicBezTo>
                <a:cubicBezTo>
                  <a:pt x="1548172" y="1201602"/>
                  <a:pt x="1201602" y="1548172"/>
                  <a:pt x="774086" y="1548172"/>
                </a:cubicBezTo>
                <a:cubicBezTo>
                  <a:pt x="346570" y="1548172"/>
                  <a:pt x="0" y="1201602"/>
                  <a:pt x="0" y="774086"/>
                </a:cubicBez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泪滴形 10"/>
          <p:cNvSpPr/>
          <p:nvPr/>
        </p:nvSpPr>
        <p:spPr>
          <a:xfrm rot="10800000">
            <a:off x="5002200" y="1628640"/>
            <a:ext cx="1548000" cy="1548000"/>
          </a:xfrm>
          <a:custGeom>
            <a:avLst/>
            <a:gdLst/>
            <a:ahLst/>
            <a:rect l="l" t="t" r="r" b="b"/>
            <a:pathLst>
              <a:path w="1548172" h="1548172">
                <a:moveTo>
                  <a:pt x="0" y="774086"/>
                </a:moveTo>
                <a:cubicBezTo>
                  <a:pt x="0" y="346570"/>
                  <a:pt x="346570" y="0"/>
                  <a:pt x="774086" y="0"/>
                </a:cubicBezTo>
                <a:cubicBezTo>
                  <a:pt x="1173723" y="0"/>
                  <a:pt x="1573361" y="-141609"/>
                  <a:pt x="1972998" y="-424826"/>
                </a:cubicBezTo>
                <a:cubicBezTo>
                  <a:pt x="1689781" y="-25189"/>
                  <a:pt x="1548172" y="374449"/>
                  <a:pt x="1548172" y="774086"/>
                </a:cubicBezTo>
                <a:cubicBezTo>
                  <a:pt x="1548172" y="1201602"/>
                  <a:pt x="1201602" y="1548172"/>
                  <a:pt x="774086" y="1548172"/>
                </a:cubicBezTo>
                <a:cubicBezTo>
                  <a:pt x="346570" y="1548172"/>
                  <a:pt x="0" y="1201602"/>
                  <a:pt x="0" y="774086"/>
                </a:cubicBez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椭圆 11"/>
          <p:cNvSpPr/>
          <p:nvPr/>
        </p:nvSpPr>
        <p:spPr>
          <a:xfrm>
            <a:off x="2647800" y="1700280"/>
            <a:ext cx="1405080" cy="1404720"/>
          </a:xfrm>
          <a:prstGeom prst="ellipse">
            <a:avLst/>
          </a:prstGeom>
          <a:solidFill>
            <a:srgbClr val="c794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关键词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椭圆 12"/>
          <p:cNvSpPr/>
          <p:nvPr/>
        </p:nvSpPr>
        <p:spPr>
          <a:xfrm>
            <a:off x="5075280" y="1700280"/>
            <a:ext cx="1403280" cy="1404720"/>
          </a:xfrm>
          <a:prstGeom prst="ellipse">
            <a:avLst/>
          </a:prstGeom>
          <a:solidFill>
            <a:srgbClr val="c794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关键词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椭圆 13"/>
          <p:cNvSpPr/>
          <p:nvPr/>
        </p:nvSpPr>
        <p:spPr>
          <a:xfrm>
            <a:off x="5075280" y="4113360"/>
            <a:ext cx="1403280" cy="1403280"/>
          </a:xfrm>
          <a:prstGeom prst="ellipse">
            <a:avLst/>
          </a:prstGeom>
          <a:solidFill>
            <a:srgbClr val="c794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关键词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直接连接符 14"/>
          <p:cNvSpPr/>
          <p:nvPr/>
        </p:nvSpPr>
        <p:spPr>
          <a:xfrm>
            <a:off x="923760" y="2421000"/>
            <a:ext cx="1656000" cy="1440"/>
          </a:xfrm>
          <a:prstGeom prst="line">
            <a:avLst/>
          </a:prstGeom>
          <a:ln w="9360">
            <a:solidFill>
              <a:srgbClr val="a7a7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直接连接符 16"/>
          <p:cNvSpPr/>
          <p:nvPr/>
        </p:nvSpPr>
        <p:spPr>
          <a:xfrm>
            <a:off x="6550200" y="2421000"/>
            <a:ext cx="1657080" cy="1440"/>
          </a:xfrm>
          <a:prstGeom prst="line">
            <a:avLst/>
          </a:prstGeom>
          <a:ln w="9360">
            <a:solidFill>
              <a:srgbClr val="a7a7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直接连接符 17"/>
          <p:cNvSpPr/>
          <p:nvPr/>
        </p:nvSpPr>
        <p:spPr>
          <a:xfrm>
            <a:off x="933480" y="4797360"/>
            <a:ext cx="1657440" cy="0"/>
          </a:xfrm>
          <a:prstGeom prst="line">
            <a:avLst/>
          </a:prstGeom>
          <a:ln w="9360">
            <a:solidFill>
              <a:srgbClr val="a7a7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直接连接符 18"/>
          <p:cNvSpPr/>
          <p:nvPr/>
        </p:nvSpPr>
        <p:spPr>
          <a:xfrm>
            <a:off x="6561000" y="4797360"/>
            <a:ext cx="1656000" cy="0"/>
          </a:xfrm>
          <a:prstGeom prst="line">
            <a:avLst/>
          </a:prstGeom>
          <a:ln w="9360">
            <a:solidFill>
              <a:srgbClr val="a7a7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TextBox 19"/>
          <p:cNvSpPr/>
          <p:nvPr/>
        </p:nvSpPr>
        <p:spPr>
          <a:xfrm>
            <a:off x="6532560" y="2071800"/>
            <a:ext cx="171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c79405"/>
                </a:solidFill>
                <a:latin typeface="微软雅黑"/>
                <a:ea typeface="微软雅黑"/>
              </a:rPr>
              <a:t>点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TextBox 20"/>
          <p:cNvSpPr/>
          <p:nvPr/>
        </p:nvSpPr>
        <p:spPr>
          <a:xfrm>
            <a:off x="6478560" y="2433600"/>
            <a:ext cx="17114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79405"/>
                </a:solidFill>
                <a:latin typeface="微软雅黑"/>
                <a:ea typeface="微软雅黑"/>
              </a:rPr>
              <a:t>点击添加具体说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79405"/>
                </a:solidFill>
                <a:latin typeface="微软雅黑"/>
                <a:ea typeface="微软雅黑"/>
              </a:rPr>
              <a:t>点击添加具体说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79405"/>
                </a:solidFill>
                <a:latin typeface="微软雅黑"/>
                <a:ea typeface="微软雅黑"/>
              </a:rPr>
              <a:t>点击添加具体说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TextBox 21"/>
          <p:cNvSpPr/>
          <p:nvPr/>
        </p:nvSpPr>
        <p:spPr>
          <a:xfrm>
            <a:off x="6532560" y="4797360"/>
            <a:ext cx="171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c79405"/>
                </a:solidFill>
                <a:latin typeface="微软雅黑"/>
                <a:ea typeface="微软雅黑"/>
              </a:rPr>
              <a:t>点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TextBox 22"/>
          <p:cNvSpPr/>
          <p:nvPr/>
        </p:nvSpPr>
        <p:spPr>
          <a:xfrm>
            <a:off x="6532560" y="3873600"/>
            <a:ext cx="17114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79405"/>
                </a:solidFill>
                <a:latin typeface="微软雅黑"/>
                <a:ea typeface="微软雅黑"/>
              </a:rPr>
              <a:t>点击添加具体说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79405"/>
                </a:solidFill>
                <a:latin typeface="微软雅黑"/>
                <a:ea typeface="微软雅黑"/>
              </a:rPr>
              <a:t>点击添加具体说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79405"/>
                </a:solidFill>
                <a:latin typeface="微软雅黑"/>
                <a:ea typeface="微软雅黑"/>
              </a:rPr>
              <a:t>点击添加具体说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TextBox 23"/>
          <p:cNvSpPr/>
          <p:nvPr/>
        </p:nvSpPr>
        <p:spPr>
          <a:xfrm>
            <a:off x="879480" y="2060640"/>
            <a:ext cx="171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c79405"/>
                </a:solidFill>
                <a:latin typeface="微软雅黑"/>
                <a:ea typeface="微软雅黑"/>
              </a:rPr>
              <a:t>点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TextBox 24"/>
          <p:cNvSpPr/>
          <p:nvPr/>
        </p:nvSpPr>
        <p:spPr>
          <a:xfrm>
            <a:off x="868320" y="2421000"/>
            <a:ext cx="17114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79405"/>
                </a:solidFill>
                <a:latin typeface="微软雅黑"/>
                <a:ea typeface="微软雅黑"/>
              </a:rPr>
              <a:t>点击添加具体说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79405"/>
                </a:solidFill>
                <a:latin typeface="微软雅黑"/>
                <a:ea typeface="微软雅黑"/>
              </a:rPr>
              <a:t>点击添加具体说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79405"/>
                </a:solidFill>
                <a:latin typeface="微软雅黑"/>
                <a:ea typeface="微软雅黑"/>
              </a:rPr>
              <a:t>点击添加具体说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TextBox 25"/>
          <p:cNvSpPr/>
          <p:nvPr/>
        </p:nvSpPr>
        <p:spPr>
          <a:xfrm>
            <a:off x="879480" y="4797360"/>
            <a:ext cx="171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c79405"/>
                </a:solidFill>
                <a:latin typeface="微软雅黑"/>
                <a:ea typeface="微软雅黑"/>
              </a:rPr>
              <a:t>点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TextBox 26"/>
          <p:cNvSpPr/>
          <p:nvPr/>
        </p:nvSpPr>
        <p:spPr>
          <a:xfrm>
            <a:off x="879480" y="3863880"/>
            <a:ext cx="17114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79405"/>
                </a:solidFill>
                <a:latin typeface="微软雅黑"/>
                <a:ea typeface="微软雅黑"/>
              </a:rPr>
              <a:t>点击添加具体说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79405"/>
                </a:solidFill>
                <a:latin typeface="微软雅黑"/>
                <a:ea typeface="微软雅黑"/>
              </a:rPr>
              <a:t>点击添加具体说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79405"/>
                </a:solidFill>
                <a:latin typeface="微软雅黑"/>
                <a:ea typeface="微软雅黑"/>
              </a:rPr>
              <a:t>点击添加具体说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椭圆 15"/>
          <p:cNvSpPr/>
          <p:nvPr/>
        </p:nvSpPr>
        <p:spPr>
          <a:xfrm>
            <a:off x="3706920" y="2744640"/>
            <a:ext cx="1692000" cy="169236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16" name="Group 23"/>
          <p:cNvGrpSpPr/>
          <p:nvPr/>
        </p:nvGrpSpPr>
        <p:grpSpPr>
          <a:xfrm>
            <a:off x="-1440" y="0"/>
            <a:ext cx="9142200" cy="1413360"/>
            <a:chOff x="-1440" y="0"/>
            <a:chExt cx="9142200" cy="1413360"/>
          </a:xfrm>
        </p:grpSpPr>
        <p:grpSp>
          <p:nvGrpSpPr>
            <p:cNvPr id="617" name="Group 24"/>
            <p:cNvGrpSpPr/>
            <p:nvPr/>
          </p:nvGrpSpPr>
          <p:grpSpPr>
            <a:xfrm>
              <a:off x="-1440" y="0"/>
              <a:ext cx="9142200" cy="1413360"/>
              <a:chOff x="-1440" y="0"/>
              <a:chExt cx="9142200" cy="1413360"/>
            </a:xfrm>
          </p:grpSpPr>
          <p:grpSp>
            <p:nvGrpSpPr>
              <p:cNvPr id="618" name="Group 25"/>
              <p:cNvGrpSpPr/>
              <p:nvPr/>
            </p:nvGrpSpPr>
            <p:grpSpPr>
              <a:xfrm>
                <a:off x="-1440" y="0"/>
                <a:ext cx="9142200" cy="1413360"/>
                <a:chOff x="-1440" y="0"/>
                <a:chExt cx="9142200" cy="1413360"/>
              </a:xfrm>
            </p:grpSpPr>
            <p:sp>
              <p:nvSpPr>
                <p:cNvPr id="619" name="椭圆 72"/>
                <p:cNvSpPr/>
                <p:nvPr/>
              </p:nvSpPr>
              <p:spPr>
                <a:xfrm>
                  <a:off x="242280" y="132840"/>
                  <a:ext cx="1256400" cy="1280160"/>
                </a:xfrm>
                <a:prstGeom prst="ellipse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0" name="矩形 73"/>
                <p:cNvSpPr/>
                <p:nvPr/>
              </p:nvSpPr>
              <p:spPr>
                <a:xfrm flipV="1">
                  <a:off x="-1080" y="807480"/>
                  <a:ext cx="9142200" cy="249840"/>
                </a:xfrm>
                <a:prstGeom prst="rect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1" name="矩形 56"/>
                <p:cNvSpPr/>
                <p:nvPr/>
              </p:nvSpPr>
              <p:spPr>
                <a:xfrm flipV="1">
                  <a:off x="-1080" y="0"/>
                  <a:ext cx="9142200" cy="979200"/>
                </a:xfrm>
                <a:custGeom>
                  <a:avLst/>
                  <a:gdLst/>
                  <a:ahLst/>
                  <a:rect l="l" t="t" r="r" b="b"/>
                  <a:pathLst>
                    <a:path w="9937104" h="1101328">
                      <a:moveTo>
                        <a:pt x="0" y="0"/>
                      </a:moveTo>
                      <a:lnTo>
                        <a:pt x="9937104" y="0"/>
                      </a:lnTo>
                      <a:lnTo>
                        <a:pt x="9937104" y="1101328"/>
                      </a:lnTo>
                      <a:lnTo>
                        <a:pt x="0" y="110132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7940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2" name="椭圆 75"/>
                <p:cNvSpPr/>
                <p:nvPr/>
              </p:nvSpPr>
              <p:spPr>
                <a:xfrm>
                  <a:off x="304200" y="219600"/>
                  <a:ext cx="1119240" cy="1119240"/>
                </a:xfrm>
                <a:prstGeom prst="ellipse">
                  <a:avLst/>
                </a:prstGeom>
                <a:solidFill>
                  <a:srgbClr val="c7940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623" name="Group 30"/>
                <p:cNvGrpSpPr/>
                <p:nvPr/>
              </p:nvGrpSpPr>
              <p:grpSpPr>
                <a:xfrm>
                  <a:off x="209520" y="81000"/>
                  <a:ext cx="1294560" cy="1332360"/>
                  <a:chOff x="209520" y="81000"/>
                  <a:chExt cx="1294560" cy="1332360"/>
                </a:xfrm>
              </p:grpSpPr>
              <p:pic>
                <p:nvPicPr>
                  <p:cNvPr id="624" name="图片 77" descr=""/>
                  <p:cNvPicPr/>
                  <p:nvPr/>
                </p:nvPicPr>
                <p:blipFill>
                  <a:blip r:embed="rId1"/>
                  <a:stretch/>
                </p:blipFill>
                <p:spPr>
                  <a:xfrm rot="6589800">
                    <a:off x="327960" y="249480"/>
                    <a:ext cx="1057320" cy="99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625" name="Picture 3" descr="C:\Documents and Settings\Administrator\My Documents\My Pictures\1659_51.wmf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800" y="335880"/>
                    <a:ext cx="1010160" cy="86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</p:grpSp>
          <p:grpSp>
            <p:nvGrpSpPr>
              <p:cNvPr id="626" name="Group 33"/>
              <p:cNvGrpSpPr/>
              <p:nvPr/>
            </p:nvGrpSpPr>
            <p:grpSpPr>
              <a:xfrm>
                <a:off x="93960" y="720"/>
                <a:ext cx="9015480" cy="1045080"/>
                <a:chOff x="93960" y="720"/>
                <a:chExt cx="9015480" cy="1045080"/>
              </a:xfrm>
            </p:grpSpPr>
            <p:pic>
              <p:nvPicPr>
                <p:cNvPr id="627" name="图片 6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5316120" y="720"/>
                  <a:ext cx="3793320" cy="1045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28" name="图片 7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693800" y="720"/>
                  <a:ext cx="3793320" cy="1045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29" name="图片 71" descr=""/>
                <p:cNvPicPr/>
                <p:nvPr/>
              </p:nvPicPr>
              <p:blipFill>
                <a:blip r:embed="rId5"/>
                <a:srcRect l="57831" t="0" r="0" b="0"/>
                <a:stretch/>
              </p:blipFill>
              <p:spPr>
                <a:xfrm>
                  <a:off x="93960" y="720"/>
                  <a:ext cx="1599840" cy="10450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630" name="TextBox 66"/>
            <p:cNvSpPr/>
            <p:nvPr/>
          </p:nvSpPr>
          <p:spPr>
            <a:xfrm>
              <a:off x="6031080" y="404280"/>
              <a:ext cx="1846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华文隶书"/>
                  <a:ea typeface="华文隶书"/>
                </a:rPr>
                <a:t> </a:t>
              </a:r>
              <a:r>
                <a:rPr b="0" lang="zh-CN" sz="3200" spc="-1" strike="noStrike">
                  <a:solidFill>
                    <a:srgbClr val="000000"/>
                  </a:solidFill>
                  <a:latin typeface="华文隶书"/>
                  <a:ea typeface="华文隶书"/>
                </a:rPr>
                <a:t>中国风图表页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Freeform 4"/>
          <p:cNvSpPr/>
          <p:nvPr/>
        </p:nvSpPr>
        <p:spPr>
          <a:xfrm>
            <a:off x="1332000" y="2368440"/>
            <a:ext cx="4236840" cy="2212920"/>
          </a:xfrm>
          <a:custGeom>
            <a:avLst/>
            <a:gdLst/>
            <a:ahLst/>
            <a:rect l="l" t="t" r="r" b="b"/>
            <a:pathLst>
              <a:path w="1558" h="814">
                <a:moveTo>
                  <a:pt x="1558" y="337"/>
                </a:moveTo>
                <a:lnTo>
                  <a:pt x="1221" y="0"/>
                </a:lnTo>
                <a:lnTo>
                  <a:pt x="407" y="814"/>
                </a:lnTo>
                <a:lnTo>
                  <a:pt x="0" y="407"/>
                </a:lnTo>
                <a:lnTo>
                  <a:pt x="402" y="5"/>
                </a:lnTo>
                <a:lnTo>
                  <a:pt x="734" y="337"/>
                </a:lnTo>
              </a:path>
            </a:pathLst>
          </a:custGeom>
          <a:noFill/>
          <a:ln w="25560">
            <a:solidFill>
              <a:srgbClr val="c782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Freeform 5"/>
          <p:cNvSpPr/>
          <p:nvPr/>
        </p:nvSpPr>
        <p:spPr>
          <a:xfrm flipH="1" flipV="1">
            <a:off x="3722760" y="2367720"/>
            <a:ext cx="4238640" cy="2212920"/>
          </a:xfrm>
          <a:custGeom>
            <a:avLst/>
            <a:gdLst/>
            <a:ahLst/>
            <a:rect l="l" t="t" r="r" b="b"/>
            <a:pathLst>
              <a:path w="1558" h="814">
                <a:moveTo>
                  <a:pt x="1558" y="337"/>
                </a:moveTo>
                <a:lnTo>
                  <a:pt x="1221" y="0"/>
                </a:lnTo>
                <a:lnTo>
                  <a:pt x="407" y="814"/>
                </a:lnTo>
                <a:lnTo>
                  <a:pt x="0" y="407"/>
                </a:lnTo>
                <a:lnTo>
                  <a:pt x="402" y="5"/>
                </a:lnTo>
                <a:lnTo>
                  <a:pt x="734" y="337"/>
                </a:lnTo>
              </a:path>
            </a:pathLst>
          </a:custGeom>
          <a:noFill/>
          <a:ln w="25560">
            <a:solidFill>
              <a:srgbClr val="c782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Rectangle 6"/>
          <p:cNvSpPr/>
          <p:nvPr/>
        </p:nvSpPr>
        <p:spPr>
          <a:xfrm rot="18900000">
            <a:off x="1866600" y="2945880"/>
            <a:ext cx="1062000" cy="1060560"/>
          </a:xfrm>
          <a:prstGeom prst="rect">
            <a:avLst/>
          </a:prstGeom>
          <a:solidFill>
            <a:srgbClr val="c794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Rectangle 7"/>
          <p:cNvSpPr/>
          <p:nvPr/>
        </p:nvSpPr>
        <p:spPr>
          <a:xfrm rot="18900000">
            <a:off x="4109760" y="2945880"/>
            <a:ext cx="1062000" cy="1060560"/>
          </a:xfrm>
          <a:prstGeom prst="rect">
            <a:avLst/>
          </a:prstGeom>
          <a:solidFill>
            <a:srgbClr val="c794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Rectangle 8"/>
          <p:cNvSpPr/>
          <p:nvPr/>
        </p:nvSpPr>
        <p:spPr>
          <a:xfrm rot="18900000">
            <a:off x="6332040" y="2945880"/>
            <a:ext cx="1062000" cy="1060560"/>
          </a:xfrm>
          <a:prstGeom prst="rect">
            <a:avLst/>
          </a:prstGeom>
          <a:solidFill>
            <a:srgbClr val="c794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椭圆 1"/>
          <p:cNvSpPr/>
          <p:nvPr/>
        </p:nvSpPr>
        <p:spPr>
          <a:xfrm>
            <a:off x="2251080" y="2886120"/>
            <a:ext cx="293760" cy="2937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d8d8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椭圆 94"/>
          <p:cNvSpPr/>
          <p:nvPr/>
        </p:nvSpPr>
        <p:spPr>
          <a:xfrm>
            <a:off x="4500720" y="2886120"/>
            <a:ext cx="293400" cy="2937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d8d8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椭圆 95"/>
          <p:cNvSpPr/>
          <p:nvPr/>
        </p:nvSpPr>
        <p:spPr>
          <a:xfrm>
            <a:off x="6716880" y="2881440"/>
            <a:ext cx="293400" cy="2934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d8d8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Text Box 17"/>
          <p:cNvSpPr/>
          <p:nvPr/>
        </p:nvSpPr>
        <p:spPr>
          <a:xfrm>
            <a:off x="6807960" y="291996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Text Box 16"/>
          <p:cNvSpPr/>
          <p:nvPr/>
        </p:nvSpPr>
        <p:spPr>
          <a:xfrm>
            <a:off x="4591080" y="292320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Text Box 15"/>
          <p:cNvSpPr/>
          <p:nvPr/>
        </p:nvSpPr>
        <p:spPr>
          <a:xfrm>
            <a:off x="2346480" y="292320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TextBox 23"/>
          <p:cNvSpPr/>
          <p:nvPr/>
        </p:nvSpPr>
        <p:spPr>
          <a:xfrm>
            <a:off x="2004840" y="3308400"/>
            <a:ext cx="82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TextBox 23"/>
          <p:cNvSpPr/>
          <p:nvPr/>
        </p:nvSpPr>
        <p:spPr>
          <a:xfrm>
            <a:off x="4224240" y="3308400"/>
            <a:ext cx="82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TextBox 23"/>
          <p:cNvSpPr/>
          <p:nvPr/>
        </p:nvSpPr>
        <p:spPr>
          <a:xfrm>
            <a:off x="6442200" y="3308400"/>
            <a:ext cx="82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45" name="Group 16"/>
          <p:cNvGrpSpPr/>
          <p:nvPr/>
        </p:nvGrpSpPr>
        <p:grpSpPr>
          <a:xfrm>
            <a:off x="-1440" y="0"/>
            <a:ext cx="9142200" cy="1413360"/>
            <a:chOff x="-1440" y="0"/>
            <a:chExt cx="9142200" cy="1413360"/>
          </a:xfrm>
        </p:grpSpPr>
        <p:grpSp>
          <p:nvGrpSpPr>
            <p:cNvPr id="646" name="Group 17"/>
            <p:cNvGrpSpPr/>
            <p:nvPr/>
          </p:nvGrpSpPr>
          <p:grpSpPr>
            <a:xfrm>
              <a:off x="-1440" y="0"/>
              <a:ext cx="9142200" cy="1413360"/>
              <a:chOff x="-1440" y="0"/>
              <a:chExt cx="9142200" cy="1413360"/>
            </a:xfrm>
          </p:grpSpPr>
          <p:grpSp>
            <p:nvGrpSpPr>
              <p:cNvPr id="647" name="Group 18"/>
              <p:cNvGrpSpPr/>
              <p:nvPr/>
            </p:nvGrpSpPr>
            <p:grpSpPr>
              <a:xfrm>
                <a:off x="-1440" y="0"/>
                <a:ext cx="9142200" cy="1413360"/>
                <a:chOff x="-1440" y="0"/>
                <a:chExt cx="9142200" cy="1413360"/>
              </a:xfrm>
            </p:grpSpPr>
            <p:sp>
              <p:nvSpPr>
                <p:cNvPr id="648" name="椭圆 48"/>
                <p:cNvSpPr/>
                <p:nvPr/>
              </p:nvSpPr>
              <p:spPr>
                <a:xfrm>
                  <a:off x="242280" y="132840"/>
                  <a:ext cx="1256400" cy="1280160"/>
                </a:xfrm>
                <a:prstGeom prst="ellipse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49" name="矩形 49"/>
                <p:cNvSpPr/>
                <p:nvPr/>
              </p:nvSpPr>
              <p:spPr>
                <a:xfrm flipV="1">
                  <a:off x="-1080" y="807480"/>
                  <a:ext cx="9142200" cy="249840"/>
                </a:xfrm>
                <a:prstGeom prst="rect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0" name="矩形 56"/>
                <p:cNvSpPr/>
                <p:nvPr/>
              </p:nvSpPr>
              <p:spPr>
                <a:xfrm flipV="1">
                  <a:off x="-1080" y="0"/>
                  <a:ext cx="9142200" cy="979200"/>
                </a:xfrm>
                <a:custGeom>
                  <a:avLst/>
                  <a:gdLst/>
                  <a:ahLst/>
                  <a:rect l="l" t="t" r="r" b="b"/>
                  <a:pathLst>
                    <a:path w="9937104" h="1101328">
                      <a:moveTo>
                        <a:pt x="0" y="0"/>
                      </a:moveTo>
                      <a:lnTo>
                        <a:pt x="9937104" y="0"/>
                      </a:lnTo>
                      <a:lnTo>
                        <a:pt x="9937104" y="1101328"/>
                      </a:lnTo>
                      <a:lnTo>
                        <a:pt x="0" y="110132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7940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1" name="椭圆 51"/>
                <p:cNvSpPr/>
                <p:nvPr/>
              </p:nvSpPr>
              <p:spPr>
                <a:xfrm>
                  <a:off x="304200" y="219600"/>
                  <a:ext cx="1119240" cy="1119240"/>
                </a:xfrm>
                <a:prstGeom prst="ellipse">
                  <a:avLst/>
                </a:prstGeom>
                <a:solidFill>
                  <a:srgbClr val="c7940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652" name="Group 23"/>
                <p:cNvGrpSpPr/>
                <p:nvPr/>
              </p:nvGrpSpPr>
              <p:grpSpPr>
                <a:xfrm>
                  <a:off x="209520" y="81000"/>
                  <a:ext cx="1294560" cy="1332360"/>
                  <a:chOff x="209520" y="81000"/>
                  <a:chExt cx="1294560" cy="1332360"/>
                </a:xfrm>
              </p:grpSpPr>
              <p:pic>
                <p:nvPicPr>
                  <p:cNvPr id="653" name="图片 53" descr=""/>
                  <p:cNvPicPr/>
                  <p:nvPr/>
                </p:nvPicPr>
                <p:blipFill>
                  <a:blip r:embed="rId1"/>
                  <a:stretch/>
                </p:blipFill>
                <p:spPr>
                  <a:xfrm rot="6589800">
                    <a:off x="327960" y="249480"/>
                    <a:ext cx="1057320" cy="99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654" name="Picture 3" descr="C:\Documents and Settings\Administrator\My Documents\My Pictures\1659_51.wmf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800" y="335880"/>
                    <a:ext cx="1010160" cy="86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</p:grpSp>
          <p:grpSp>
            <p:nvGrpSpPr>
              <p:cNvPr id="655" name="Group 26"/>
              <p:cNvGrpSpPr/>
              <p:nvPr/>
            </p:nvGrpSpPr>
            <p:grpSpPr>
              <a:xfrm>
                <a:off x="93960" y="720"/>
                <a:ext cx="9015480" cy="1045080"/>
                <a:chOff x="93960" y="720"/>
                <a:chExt cx="9015480" cy="1045080"/>
              </a:xfrm>
            </p:grpSpPr>
            <p:pic>
              <p:nvPicPr>
                <p:cNvPr id="656" name="图片 4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5316120" y="720"/>
                  <a:ext cx="3793320" cy="1045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57" name="图片 46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693800" y="720"/>
                  <a:ext cx="3793320" cy="1045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58" name="图片 47" descr=""/>
                <p:cNvPicPr/>
                <p:nvPr/>
              </p:nvPicPr>
              <p:blipFill>
                <a:blip r:embed="rId5"/>
                <a:srcRect l="57831" t="0" r="0" b="0"/>
                <a:stretch/>
              </p:blipFill>
              <p:spPr>
                <a:xfrm>
                  <a:off x="93960" y="720"/>
                  <a:ext cx="1599840" cy="10450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659" name="TextBox 42"/>
            <p:cNvSpPr/>
            <p:nvPr/>
          </p:nvSpPr>
          <p:spPr>
            <a:xfrm>
              <a:off x="6031080" y="404280"/>
              <a:ext cx="1846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华文隶书"/>
                  <a:ea typeface="华文隶书"/>
                </a:rPr>
                <a:t> </a:t>
              </a:r>
              <a:r>
                <a:rPr b="0" lang="zh-CN" sz="3200" spc="-1" strike="noStrike">
                  <a:solidFill>
                    <a:srgbClr val="000000"/>
                  </a:solidFill>
                  <a:latin typeface="华文隶书"/>
                  <a:ea typeface="华文隶书"/>
                </a:rPr>
                <a:t>中国风图表页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流程图: 可选过程 2"/>
          <p:cNvSpPr/>
          <p:nvPr/>
        </p:nvSpPr>
        <p:spPr>
          <a:xfrm>
            <a:off x="1884240" y="2368440"/>
            <a:ext cx="5069160" cy="287280"/>
          </a:xfrm>
          <a:prstGeom prst="flowChartAlternateProcess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流程图: 可选过程 3"/>
          <p:cNvSpPr/>
          <p:nvPr/>
        </p:nvSpPr>
        <p:spPr>
          <a:xfrm>
            <a:off x="1884240" y="2386080"/>
            <a:ext cx="3408480" cy="252360"/>
          </a:xfrm>
          <a:prstGeom prst="flowChartAlternateProcess">
            <a:avLst/>
          </a:prstGeom>
          <a:solidFill>
            <a:srgbClr val="c794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圆角矩形标注 4"/>
          <p:cNvSpPr/>
          <p:nvPr/>
        </p:nvSpPr>
        <p:spPr>
          <a:xfrm>
            <a:off x="4368960" y="2835360"/>
            <a:ext cx="504720" cy="252360"/>
          </a:xfrm>
          <a:prstGeom prst="wedgeRoundRectCallout">
            <a:avLst>
              <a:gd name="adj1" fmla="val -24569"/>
              <a:gd name="adj2" fmla="val 69967"/>
              <a:gd name="adj3" fmla="val 16667"/>
            </a:avLst>
          </a:prstGeom>
          <a:solidFill>
            <a:srgbClr val="c782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流程图: 可选过程 5"/>
          <p:cNvSpPr/>
          <p:nvPr/>
        </p:nvSpPr>
        <p:spPr>
          <a:xfrm>
            <a:off x="1884240" y="3160800"/>
            <a:ext cx="5069160" cy="287280"/>
          </a:xfrm>
          <a:prstGeom prst="flowChartAlternateProcess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流程图: 可选过程 6"/>
          <p:cNvSpPr/>
          <p:nvPr/>
        </p:nvSpPr>
        <p:spPr>
          <a:xfrm>
            <a:off x="1884240" y="3178080"/>
            <a:ext cx="2665440" cy="252360"/>
          </a:xfrm>
          <a:prstGeom prst="flowChartAlternateProcess">
            <a:avLst/>
          </a:prstGeom>
          <a:solidFill>
            <a:srgbClr val="c794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流程图: 可选过程 7"/>
          <p:cNvSpPr/>
          <p:nvPr/>
        </p:nvSpPr>
        <p:spPr>
          <a:xfrm>
            <a:off x="1920960" y="3879720"/>
            <a:ext cx="5032440" cy="289080"/>
          </a:xfrm>
          <a:prstGeom prst="flowChartAlternateProcess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流程图: 可选过程 8"/>
          <p:cNvSpPr/>
          <p:nvPr/>
        </p:nvSpPr>
        <p:spPr>
          <a:xfrm>
            <a:off x="1920960" y="3898800"/>
            <a:ext cx="3743280" cy="250920"/>
          </a:xfrm>
          <a:prstGeom prst="flowChartAlternateProcess">
            <a:avLst/>
          </a:prstGeom>
          <a:solidFill>
            <a:srgbClr val="c794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流程图: 可选过程 9"/>
          <p:cNvSpPr/>
          <p:nvPr/>
        </p:nvSpPr>
        <p:spPr>
          <a:xfrm>
            <a:off x="1920960" y="4672080"/>
            <a:ext cx="5032440" cy="288720"/>
          </a:xfrm>
          <a:prstGeom prst="flowChartAlternateProcess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流程图: 可选过程 10"/>
          <p:cNvSpPr/>
          <p:nvPr/>
        </p:nvSpPr>
        <p:spPr>
          <a:xfrm>
            <a:off x="1920960" y="4689360"/>
            <a:ext cx="4091040" cy="252360"/>
          </a:xfrm>
          <a:prstGeom prst="flowChartAlternateProcess">
            <a:avLst/>
          </a:prstGeom>
          <a:solidFill>
            <a:srgbClr val="c794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圆角矩形标注 11"/>
          <p:cNvSpPr/>
          <p:nvPr/>
        </p:nvSpPr>
        <p:spPr>
          <a:xfrm>
            <a:off x="5506920" y="3556080"/>
            <a:ext cx="505080" cy="252360"/>
          </a:xfrm>
          <a:prstGeom prst="wedgeRoundRectCallout">
            <a:avLst>
              <a:gd name="adj1" fmla="val -24569"/>
              <a:gd name="adj2" fmla="val 69967"/>
              <a:gd name="adj3" fmla="val 16667"/>
            </a:avLst>
          </a:prstGeom>
          <a:solidFill>
            <a:srgbClr val="c782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圆角矩形标注 12"/>
          <p:cNvSpPr/>
          <p:nvPr/>
        </p:nvSpPr>
        <p:spPr>
          <a:xfrm>
            <a:off x="5159520" y="2044800"/>
            <a:ext cx="504720" cy="250560"/>
          </a:xfrm>
          <a:prstGeom prst="wedgeRoundRectCallout">
            <a:avLst>
              <a:gd name="adj1" fmla="val -24569"/>
              <a:gd name="adj2" fmla="val 69967"/>
              <a:gd name="adj3" fmla="val 16667"/>
            </a:avLst>
          </a:prstGeom>
          <a:solidFill>
            <a:srgbClr val="c782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6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圆角矩形标注 13"/>
          <p:cNvSpPr/>
          <p:nvPr/>
        </p:nvSpPr>
        <p:spPr>
          <a:xfrm>
            <a:off x="5854680" y="4311720"/>
            <a:ext cx="504720" cy="252360"/>
          </a:xfrm>
          <a:prstGeom prst="wedgeRoundRectCallout">
            <a:avLst>
              <a:gd name="adj1" fmla="val -24569"/>
              <a:gd name="adj2" fmla="val 69967"/>
              <a:gd name="adj3" fmla="val 16667"/>
            </a:avLst>
          </a:prstGeom>
          <a:solidFill>
            <a:srgbClr val="c782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直接连接符 14"/>
          <p:cNvSpPr/>
          <p:nvPr/>
        </p:nvSpPr>
        <p:spPr>
          <a:xfrm>
            <a:off x="1692360" y="1765440"/>
            <a:ext cx="0" cy="3535200"/>
          </a:xfrm>
          <a:prstGeom prst="line">
            <a:avLst/>
          </a:prstGeom>
          <a:ln w="28440">
            <a:solidFill>
              <a:srgbClr val="625348"/>
            </a:solidFill>
            <a:miter/>
            <a:head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直接连接符 14"/>
          <p:cNvSpPr/>
          <p:nvPr/>
        </p:nvSpPr>
        <p:spPr>
          <a:xfrm flipH="1">
            <a:off x="1692000" y="5300640"/>
            <a:ext cx="6264360" cy="23760"/>
          </a:xfrm>
          <a:prstGeom prst="line">
            <a:avLst/>
          </a:prstGeom>
          <a:ln w="28440">
            <a:solidFill>
              <a:srgbClr val="625348"/>
            </a:solidFill>
            <a:miter/>
            <a:head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直接连接符 14"/>
          <p:cNvSpPr/>
          <p:nvPr/>
        </p:nvSpPr>
        <p:spPr>
          <a:xfrm>
            <a:off x="2397240" y="1765440"/>
            <a:ext cx="1440" cy="3535200"/>
          </a:xfrm>
          <a:prstGeom prst="line">
            <a:avLst/>
          </a:prstGeom>
          <a:ln w="12600">
            <a:solidFill>
              <a:srgbClr val="a5a5a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直接连接符 14"/>
          <p:cNvSpPr/>
          <p:nvPr/>
        </p:nvSpPr>
        <p:spPr>
          <a:xfrm>
            <a:off x="3112920" y="1765440"/>
            <a:ext cx="1800" cy="3535200"/>
          </a:xfrm>
          <a:prstGeom prst="line">
            <a:avLst/>
          </a:prstGeom>
          <a:ln w="12600">
            <a:solidFill>
              <a:srgbClr val="a5a5a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直接连接符 14"/>
          <p:cNvSpPr/>
          <p:nvPr/>
        </p:nvSpPr>
        <p:spPr>
          <a:xfrm>
            <a:off x="3828960" y="1787400"/>
            <a:ext cx="1800" cy="3537000"/>
          </a:xfrm>
          <a:prstGeom prst="line">
            <a:avLst/>
          </a:prstGeom>
          <a:ln w="12600">
            <a:solidFill>
              <a:srgbClr val="a5a5a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直接连接符 14"/>
          <p:cNvSpPr/>
          <p:nvPr/>
        </p:nvSpPr>
        <p:spPr>
          <a:xfrm>
            <a:off x="4549680" y="1787400"/>
            <a:ext cx="0" cy="3537000"/>
          </a:xfrm>
          <a:prstGeom prst="line">
            <a:avLst/>
          </a:prstGeom>
          <a:ln w="12600">
            <a:solidFill>
              <a:srgbClr val="a5a5a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直接连接符 14"/>
          <p:cNvSpPr/>
          <p:nvPr/>
        </p:nvSpPr>
        <p:spPr>
          <a:xfrm>
            <a:off x="5292720" y="1827360"/>
            <a:ext cx="0" cy="3535200"/>
          </a:xfrm>
          <a:prstGeom prst="line">
            <a:avLst/>
          </a:prstGeom>
          <a:ln w="12600">
            <a:solidFill>
              <a:srgbClr val="a5a5a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直接连接符 14"/>
          <p:cNvSpPr/>
          <p:nvPr/>
        </p:nvSpPr>
        <p:spPr>
          <a:xfrm>
            <a:off x="6012000" y="1787400"/>
            <a:ext cx="1440" cy="3537000"/>
          </a:xfrm>
          <a:prstGeom prst="line">
            <a:avLst/>
          </a:prstGeom>
          <a:ln w="12600">
            <a:solidFill>
              <a:srgbClr val="a5a5a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直接连接符 14"/>
          <p:cNvSpPr/>
          <p:nvPr/>
        </p:nvSpPr>
        <p:spPr>
          <a:xfrm>
            <a:off x="6737400" y="1787400"/>
            <a:ext cx="1440" cy="3537000"/>
          </a:xfrm>
          <a:prstGeom prst="line">
            <a:avLst/>
          </a:prstGeom>
          <a:ln w="12600">
            <a:solidFill>
              <a:srgbClr val="a5a5a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直接连接符 14"/>
          <p:cNvSpPr/>
          <p:nvPr/>
        </p:nvSpPr>
        <p:spPr>
          <a:xfrm>
            <a:off x="7451640" y="1787400"/>
            <a:ext cx="1800" cy="3537000"/>
          </a:xfrm>
          <a:prstGeom prst="line">
            <a:avLst/>
          </a:prstGeom>
          <a:ln w="12600">
            <a:solidFill>
              <a:srgbClr val="a5a5a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TextBox 23"/>
          <p:cNvSpPr/>
          <p:nvPr/>
        </p:nvSpPr>
        <p:spPr>
          <a:xfrm>
            <a:off x="1206360" y="3549600"/>
            <a:ext cx="430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c79405"/>
                </a:solidFill>
                <a:latin typeface="微软雅黑"/>
                <a:ea typeface="微软雅黑"/>
              </a:rPr>
              <a:t>点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TextBox 23"/>
          <p:cNvSpPr/>
          <p:nvPr/>
        </p:nvSpPr>
        <p:spPr>
          <a:xfrm>
            <a:off x="1901880" y="5369040"/>
            <a:ext cx="171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c79405"/>
                </a:solidFill>
                <a:latin typeface="微软雅黑"/>
                <a:ea typeface="微软雅黑"/>
              </a:rPr>
              <a:t>点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84" name="Group 26"/>
          <p:cNvGrpSpPr/>
          <p:nvPr/>
        </p:nvGrpSpPr>
        <p:grpSpPr>
          <a:xfrm>
            <a:off x="-1440" y="0"/>
            <a:ext cx="9142200" cy="1413360"/>
            <a:chOff x="-1440" y="0"/>
            <a:chExt cx="9142200" cy="1413360"/>
          </a:xfrm>
        </p:grpSpPr>
        <p:grpSp>
          <p:nvGrpSpPr>
            <p:cNvPr id="685" name="Group 27"/>
            <p:cNvGrpSpPr/>
            <p:nvPr/>
          </p:nvGrpSpPr>
          <p:grpSpPr>
            <a:xfrm>
              <a:off x="-1440" y="0"/>
              <a:ext cx="9142200" cy="1413360"/>
              <a:chOff x="-1440" y="0"/>
              <a:chExt cx="9142200" cy="1413360"/>
            </a:xfrm>
          </p:grpSpPr>
          <p:grpSp>
            <p:nvGrpSpPr>
              <p:cNvPr id="686" name="Group 28"/>
              <p:cNvGrpSpPr/>
              <p:nvPr/>
            </p:nvGrpSpPr>
            <p:grpSpPr>
              <a:xfrm>
                <a:off x="-1440" y="0"/>
                <a:ext cx="9142200" cy="1413360"/>
                <a:chOff x="-1440" y="0"/>
                <a:chExt cx="9142200" cy="1413360"/>
              </a:xfrm>
            </p:grpSpPr>
            <p:sp>
              <p:nvSpPr>
                <p:cNvPr id="687" name="椭圆 70"/>
                <p:cNvSpPr/>
                <p:nvPr/>
              </p:nvSpPr>
              <p:spPr>
                <a:xfrm>
                  <a:off x="242280" y="132840"/>
                  <a:ext cx="1256400" cy="1280160"/>
                </a:xfrm>
                <a:prstGeom prst="ellipse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88" name="矩形 71"/>
                <p:cNvSpPr/>
                <p:nvPr/>
              </p:nvSpPr>
              <p:spPr>
                <a:xfrm flipV="1">
                  <a:off x="-1080" y="807480"/>
                  <a:ext cx="9142200" cy="249840"/>
                </a:xfrm>
                <a:prstGeom prst="rect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89" name="矩形 56"/>
                <p:cNvSpPr/>
                <p:nvPr/>
              </p:nvSpPr>
              <p:spPr>
                <a:xfrm flipV="1">
                  <a:off x="-1080" y="0"/>
                  <a:ext cx="9142200" cy="979200"/>
                </a:xfrm>
                <a:custGeom>
                  <a:avLst/>
                  <a:gdLst/>
                  <a:ahLst/>
                  <a:rect l="l" t="t" r="r" b="b"/>
                  <a:pathLst>
                    <a:path w="9937104" h="1101328">
                      <a:moveTo>
                        <a:pt x="0" y="0"/>
                      </a:moveTo>
                      <a:lnTo>
                        <a:pt x="9937104" y="0"/>
                      </a:lnTo>
                      <a:lnTo>
                        <a:pt x="9937104" y="1101328"/>
                      </a:lnTo>
                      <a:lnTo>
                        <a:pt x="0" y="110132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7940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90" name="椭圆 73"/>
                <p:cNvSpPr/>
                <p:nvPr/>
              </p:nvSpPr>
              <p:spPr>
                <a:xfrm>
                  <a:off x="304200" y="219600"/>
                  <a:ext cx="1119240" cy="1119240"/>
                </a:xfrm>
                <a:prstGeom prst="ellipse">
                  <a:avLst/>
                </a:prstGeom>
                <a:solidFill>
                  <a:srgbClr val="c7940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691" name="Group 33"/>
                <p:cNvGrpSpPr/>
                <p:nvPr/>
              </p:nvGrpSpPr>
              <p:grpSpPr>
                <a:xfrm>
                  <a:off x="209520" y="81000"/>
                  <a:ext cx="1294560" cy="1332360"/>
                  <a:chOff x="209520" y="81000"/>
                  <a:chExt cx="1294560" cy="1332360"/>
                </a:xfrm>
              </p:grpSpPr>
              <p:pic>
                <p:nvPicPr>
                  <p:cNvPr id="692" name="图片 75" descr=""/>
                  <p:cNvPicPr/>
                  <p:nvPr/>
                </p:nvPicPr>
                <p:blipFill>
                  <a:blip r:embed="rId1"/>
                  <a:stretch/>
                </p:blipFill>
                <p:spPr>
                  <a:xfrm rot="6589800">
                    <a:off x="327960" y="249480"/>
                    <a:ext cx="1057320" cy="99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693" name="Picture 3" descr="C:\Documents and Settings\Administrator\My Documents\My Pictures\1659_51.wmf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800" y="335880"/>
                    <a:ext cx="1010160" cy="86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</p:grpSp>
          <p:grpSp>
            <p:nvGrpSpPr>
              <p:cNvPr id="694" name="Group 36"/>
              <p:cNvGrpSpPr/>
              <p:nvPr/>
            </p:nvGrpSpPr>
            <p:grpSpPr>
              <a:xfrm>
                <a:off x="93960" y="720"/>
                <a:ext cx="9015480" cy="1045080"/>
                <a:chOff x="93960" y="720"/>
                <a:chExt cx="9015480" cy="1045080"/>
              </a:xfrm>
            </p:grpSpPr>
            <p:pic>
              <p:nvPicPr>
                <p:cNvPr id="695" name="图片 67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5316120" y="720"/>
                  <a:ext cx="3793320" cy="1045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96" name="图片 68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693800" y="720"/>
                  <a:ext cx="3793320" cy="1045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97" name="图片 69" descr=""/>
                <p:cNvPicPr/>
                <p:nvPr/>
              </p:nvPicPr>
              <p:blipFill>
                <a:blip r:embed="rId5"/>
                <a:srcRect l="57831" t="0" r="0" b="0"/>
                <a:stretch/>
              </p:blipFill>
              <p:spPr>
                <a:xfrm>
                  <a:off x="93960" y="720"/>
                  <a:ext cx="1599840" cy="10450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698" name="TextBox 64"/>
            <p:cNvSpPr/>
            <p:nvPr/>
          </p:nvSpPr>
          <p:spPr>
            <a:xfrm>
              <a:off x="6031080" y="404280"/>
              <a:ext cx="1846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华文隶书"/>
                  <a:ea typeface="华文隶书"/>
                </a:rPr>
                <a:t> </a:t>
              </a:r>
              <a:r>
                <a:rPr b="0" lang="zh-CN" sz="3200" spc="-1" strike="noStrike">
                  <a:solidFill>
                    <a:srgbClr val="000000"/>
                  </a:solidFill>
                  <a:latin typeface="华文隶书"/>
                  <a:ea typeface="华文隶书"/>
                </a:rPr>
                <a:t>中国风图表页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9" name="Group 2"/>
          <p:cNvGrpSpPr/>
          <p:nvPr/>
        </p:nvGrpSpPr>
        <p:grpSpPr>
          <a:xfrm>
            <a:off x="5507640" y="3292560"/>
            <a:ext cx="2331000" cy="2182320"/>
            <a:chOff x="5507640" y="3292560"/>
            <a:chExt cx="2331000" cy="2182320"/>
          </a:xfrm>
        </p:grpSpPr>
        <p:sp>
          <p:nvSpPr>
            <p:cNvPr id="700" name="直接连接符​​ 31"/>
            <p:cNvSpPr/>
            <p:nvPr/>
          </p:nvSpPr>
          <p:spPr>
            <a:xfrm>
              <a:off x="6078240" y="3366360"/>
              <a:ext cx="1524960" cy="0"/>
            </a:xfrm>
            <a:prstGeom prst="line">
              <a:avLst/>
            </a:prstGeom>
            <a:ln w="6480">
              <a:solidFill>
                <a:srgbClr val="a5a5a5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01" name="Group 4"/>
            <p:cNvGrpSpPr/>
            <p:nvPr/>
          </p:nvGrpSpPr>
          <p:grpSpPr>
            <a:xfrm>
              <a:off x="5507640" y="3292560"/>
              <a:ext cx="2331000" cy="2182320"/>
              <a:chOff x="5507640" y="3292560"/>
              <a:chExt cx="2331000" cy="2182320"/>
            </a:xfrm>
          </p:grpSpPr>
          <p:sp>
            <p:nvSpPr>
              <p:cNvPr id="702" name="圆角矩形​​ 40"/>
              <p:cNvSpPr/>
              <p:nvPr/>
            </p:nvSpPr>
            <p:spPr>
              <a:xfrm rot="21283200">
                <a:off x="5561640" y="4108680"/>
                <a:ext cx="2223000" cy="1266480"/>
              </a:xfrm>
              <a:prstGeom prst="roundRect">
                <a:avLst>
                  <a:gd name="adj" fmla="val 0"/>
                </a:avLst>
              </a:prstGeom>
              <a:solidFill>
                <a:srgbClr val="ffffff"/>
              </a:solidFill>
              <a:ln w="324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3" name="直接连接符​​ 41"/>
              <p:cNvSpPr/>
              <p:nvPr/>
            </p:nvSpPr>
            <p:spPr>
              <a:xfrm flipV="1">
                <a:off x="5893560" y="3418560"/>
                <a:ext cx="909000" cy="781560"/>
              </a:xfrm>
              <a:prstGeom prst="line">
                <a:avLst/>
              </a:prstGeom>
              <a:ln w="2844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4" name="直接连接符​​ 42"/>
              <p:cNvSpPr/>
              <p:nvPr/>
            </p:nvSpPr>
            <p:spPr>
              <a:xfrm>
                <a:off x="7054920" y="3418920"/>
                <a:ext cx="348120" cy="642600"/>
              </a:xfrm>
              <a:prstGeom prst="line">
                <a:avLst/>
              </a:prstGeom>
              <a:ln w="2844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5" name="椭圆​​ 43"/>
              <p:cNvSpPr/>
              <p:nvPr/>
            </p:nvSpPr>
            <p:spPr>
              <a:xfrm>
                <a:off x="6802920" y="3292560"/>
                <a:ext cx="252000" cy="252000"/>
              </a:xfrm>
              <a:prstGeom prst="ellipse">
                <a:avLst/>
              </a:prstGeom>
              <a:solidFill>
                <a:srgbClr val="ffffff"/>
              </a:solidFill>
              <a:ln w="324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6" name="椭圆​​ 44"/>
              <p:cNvSpPr/>
              <p:nvPr/>
            </p:nvSpPr>
            <p:spPr>
              <a:xfrm>
                <a:off x="6854760" y="3344400"/>
                <a:ext cx="145440" cy="145440"/>
              </a:xfrm>
              <a:prstGeom prst="ellipse">
                <a:avLst/>
              </a:prstGeom>
              <a:solidFill>
                <a:srgbClr val="d8d8d8"/>
              </a:solidFill>
              <a:ln w="324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7" name="同侧圆角矩形 45"/>
              <p:cNvSpPr/>
              <p:nvPr/>
            </p:nvSpPr>
            <p:spPr>
              <a:xfrm rot="21294600">
                <a:off x="5530320" y="4116960"/>
                <a:ext cx="2213640" cy="6152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16200" y="10800"/>
                    </a:moveTo>
                    <a:cubicBezTo>
                      <a:pt x="16200" y="7817"/>
                      <a:pt x="13782" y="5400"/>
                      <a:pt x="10800" y="5400"/>
                    </a:cubicBezTo>
                    <a:cubicBezTo>
                      <a:pt x="7817" y="5400"/>
                      <a:pt x="5400" y="7817"/>
                      <a:pt x="5400" y="10800"/>
                    </a:cubicBezTo>
                    <a:lnTo>
                      <a:pt x="0" y="10800"/>
                    </a:ln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4" y="0"/>
                      <a:pt x="21599" y="4835"/>
                      <a:pt x="21600" y="10799"/>
                    </a:cubicBezTo>
                    <a:lnTo>
                      <a:pt x="21600" y="10800"/>
                    </a:lnTo>
                    <a:lnTo>
                      <a:pt x="24300" y="10800"/>
                    </a:lnTo>
                    <a:lnTo>
                      <a:pt x="18900" y="16200"/>
                    </a:lnTo>
                    <a:lnTo>
                      <a:pt x="13500" y="10800"/>
                    </a:lnTo>
                    <a:lnTo>
                      <a:pt x="16200" y="1080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8" name="圆角矩形​​ 46"/>
              <p:cNvSpPr/>
              <p:nvPr/>
            </p:nvSpPr>
            <p:spPr>
              <a:xfrm rot="21283200">
                <a:off x="5660280" y="4231800"/>
                <a:ext cx="2033640" cy="1044360"/>
              </a:xfrm>
              <a:prstGeom prst="roundRect">
                <a:avLst>
                  <a:gd name="adj" fmla="val 0"/>
                </a:avLst>
              </a:prstGeom>
              <a:solidFill>
                <a:srgbClr val="c79405"/>
              </a:solidFill>
              <a:ln w="19080">
                <a:solidFill>
                  <a:srgbClr val="d8d8d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343080" indent="-343080">
                  <a:lnSpc>
                    <a:spcPct val="100000"/>
                  </a:lnSpc>
                  <a:buClr>
                    <a:srgbClr val="ffffff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点击此处输入文字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marL="343080" indent="-343080">
                  <a:lnSpc>
                    <a:spcPct val="100000"/>
                  </a:lnSpc>
                  <a:buClr>
                    <a:srgbClr val="ffffff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点击此处输入文字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9" name="椭圆​​ 47"/>
              <p:cNvSpPr/>
              <p:nvPr/>
            </p:nvSpPr>
            <p:spPr>
              <a:xfrm rot="21283200">
                <a:off x="5851440" y="4200120"/>
                <a:ext cx="92160" cy="92520"/>
              </a:xfrm>
              <a:prstGeom prst="ellipse">
                <a:avLst/>
              </a:prstGeom>
              <a:solidFill>
                <a:srgbClr val="ffffff"/>
              </a:solidFill>
              <a:ln w="324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0" name="椭圆​​ 48"/>
              <p:cNvSpPr/>
              <p:nvPr/>
            </p:nvSpPr>
            <p:spPr>
              <a:xfrm rot="21283200">
                <a:off x="7360920" y="4060800"/>
                <a:ext cx="92160" cy="92520"/>
              </a:xfrm>
              <a:prstGeom prst="ellipse">
                <a:avLst/>
              </a:prstGeom>
              <a:solidFill>
                <a:srgbClr val="ffffff"/>
              </a:solidFill>
              <a:ln w="324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711" name="Group 14"/>
          <p:cNvGrpSpPr/>
          <p:nvPr/>
        </p:nvGrpSpPr>
        <p:grpSpPr>
          <a:xfrm>
            <a:off x="2369160" y="3033720"/>
            <a:ext cx="2330640" cy="2180880"/>
            <a:chOff x="2369160" y="3033720"/>
            <a:chExt cx="2330640" cy="2180880"/>
          </a:xfrm>
        </p:grpSpPr>
        <p:sp>
          <p:nvSpPr>
            <p:cNvPr id="712" name="直接连接符​​ 31"/>
            <p:cNvSpPr/>
            <p:nvPr/>
          </p:nvSpPr>
          <p:spPr>
            <a:xfrm>
              <a:off x="2939760" y="3107520"/>
              <a:ext cx="1524960" cy="0"/>
            </a:xfrm>
            <a:prstGeom prst="line">
              <a:avLst/>
            </a:prstGeom>
            <a:ln w="6480">
              <a:solidFill>
                <a:srgbClr val="a5a5a5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13" name="Group 16"/>
            <p:cNvGrpSpPr/>
            <p:nvPr/>
          </p:nvGrpSpPr>
          <p:grpSpPr>
            <a:xfrm>
              <a:off x="2369160" y="3033720"/>
              <a:ext cx="2330640" cy="2180880"/>
              <a:chOff x="2369160" y="3033720"/>
              <a:chExt cx="2330640" cy="2180880"/>
            </a:xfrm>
          </p:grpSpPr>
          <p:sp>
            <p:nvSpPr>
              <p:cNvPr id="714" name="圆角矩形​​ 40"/>
              <p:cNvSpPr/>
              <p:nvPr/>
            </p:nvSpPr>
            <p:spPr>
              <a:xfrm rot="21283200">
                <a:off x="2423160" y="3849480"/>
                <a:ext cx="2223000" cy="1265400"/>
              </a:xfrm>
              <a:prstGeom prst="roundRect">
                <a:avLst>
                  <a:gd name="adj" fmla="val 0"/>
                </a:avLst>
              </a:prstGeom>
              <a:solidFill>
                <a:srgbClr val="ffffff"/>
              </a:solidFill>
              <a:ln w="324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5" name="直接连接符​​ 41"/>
              <p:cNvSpPr/>
              <p:nvPr/>
            </p:nvSpPr>
            <p:spPr>
              <a:xfrm flipV="1">
                <a:off x="2755080" y="3160080"/>
                <a:ext cx="909000" cy="781200"/>
              </a:xfrm>
              <a:prstGeom prst="line">
                <a:avLst/>
              </a:prstGeom>
              <a:ln w="2844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6" name="直接连接符​​ 42"/>
              <p:cNvSpPr/>
              <p:nvPr/>
            </p:nvSpPr>
            <p:spPr>
              <a:xfrm>
                <a:off x="3916440" y="3160080"/>
                <a:ext cx="348120" cy="641880"/>
              </a:xfrm>
              <a:prstGeom prst="line">
                <a:avLst/>
              </a:prstGeom>
              <a:ln w="2844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7" name="椭圆​​ 43"/>
              <p:cNvSpPr/>
              <p:nvPr/>
            </p:nvSpPr>
            <p:spPr>
              <a:xfrm>
                <a:off x="3664440" y="3033720"/>
                <a:ext cx="252000" cy="252000"/>
              </a:xfrm>
              <a:prstGeom prst="ellipse">
                <a:avLst/>
              </a:prstGeom>
              <a:solidFill>
                <a:srgbClr val="ffffff"/>
              </a:solidFill>
              <a:ln w="324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8" name="椭圆​​ 44"/>
              <p:cNvSpPr/>
              <p:nvPr/>
            </p:nvSpPr>
            <p:spPr>
              <a:xfrm>
                <a:off x="3717720" y="3087000"/>
                <a:ext cx="145440" cy="145440"/>
              </a:xfrm>
              <a:prstGeom prst="ellipse">
                <a:avLst/>
              </a:prstGeom>
              <a:solidFill>
                <a:srgbClr val="d8d8d8"/>
              </a:solidFill>
              <a:ln w="324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9" name="同侧圆角矩形 45"/>
              <p:cNvSpPr/>
              <p:nvPr/>
            </p:nvSpPr>
            <p:spPr>
              <a:xfrm rot="21294600">
                <a:off x="2391840" y="3857400"/>
                <a:ext cx="2213640" cy="614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16200" y="10800"/>
                    </a:moveTo>
                    <a:cubicBezTo>
                      <a:pt x="16200" y="7817"/>
                      <a:pt x="13782" y="5400"/>
                      <a:pt x="10800" y="5400"/>
                    </a:cubicBezTo>
                    <a:cubicBezTo>
                      <a:pt x="7817" y="5400"/>
                      <a:pt x="5400" y="7817"/>
                      <a:pt x="5400" y="10800"/>
                    </a:cubicBezTo>
                    <a:lnTo>
                      <a:pt x="0" y="10800"/>
                    </a:ln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4" y="0"/>
                      <a:pt x="21599" y="4835"/>
                      <a:pt x="21600" y="10799"/>
                    </a:cubicBezTo>
                    <a:lnTo>
                      <a:pt x="21600" y="10800"/>
                    </a:lnTo>
                    <a:lnTo>
                      <a:pt x="24300" y="10800"/>
                    </a:lnTo>
                    <a:lnTo>
                      <a:pt x="18900" y="16200"/>
                    </a:lnTo>
                    <a:lnTo>
                      <a:pt x="13500" y="10800"/>
                    </a:lnTo>
                    <a:lnTo>
                      <a:pt x="16200" y="1080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0" name="圆角矩形​​ 46"/>
              <p:cNvSpPr/>
              <p:nvPr/>
            </p:nvSpPr>
            <p:spPr>
              <a:xfrm rot="21283200">
                <a:off x="2521800" y="3972600"/>
                <a:ext cx="2033640" cy="1043640"/>
              </a:xfrm>
              <a:prstGeom prst="roundRect">
                <a:avLst>
                  <a:gd name="adj" fmla="val 0"/>
                </a:avLst>
              </a:prstGeom>
              <a:solidFill>
                <a:srgbClr val="c79405"/>
              </a:solidFill>
              <a:ln w="19080">
                <a:solidFill>
                  <a:srgbClr val="d8d8d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343080" indent="-343080">
                  <a:lnSpc>
                    <a:spcPct val="100000"/>
                  </a:lnSpc>
                  <a:buClr>
                    <a:srgbClr val="ffffff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点击此处输入文字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marL="343080" indent="-343080">
                  <a:lnSpc>
                    <a:spcPct val="100000"/>
                  </a:lnSpc>
                  <a:buClr>
                    <a:srgbClr val="ffffff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点击此处输入文字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1" name="椭圆​​ 47"/>
              <p:cNvSpPr/>
              <p:nvPr/>
            </p:nvSpPr>
            <p:spPr>
              <a:xfrm rot="21283200">
                <a:off x="2712960" y="3940560"/>
                <a:ext cx="92160" cy="92160"/>
              </a:xfrm>
              <a:prstGeom prst="ellipse">
                <a:avLst/>
              </a:prstGeom>
              <a:solidFill>
                <a:srgbClr val="ffffff"/>
              </a:solidFill>
              <a:ln w="324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2" name="椭圆​​ 48"/>
              <p:cNvSpPr/>
              <p:nvPr/>
            </p:nvSpPr>
            <p:spPr>
              <a:xfrm rot="21283200">
                <a:off x="4222440" y="3801240"/>
                <a:ext cx="92160" cy="92160"/>
              </a:xfrm>
              <a:prstGeom prst="ellipse">
                <a:avLst/>
              </a:prstGeom>
              <a:solidFill>
                <a:srgbClr val="ffffff"/>
              </a:solidFill>
              <a:ln w="324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723" name="Group 26"/>
          <p:cNvGrpSpPr/>
          <p:nvPr/>
        </p:nvGrpSpPr>
        <p:grpSpPr>
          <a:xfrm>
            <a:off x="4091040" y="1590840"/>
            <a:ext cx="2256840" cy="2112120"/>
            <a:chOff x="4091040" y="1590840"/>
            <a:chExt cx="2256840" cy="2112120"/>
          </a:xfrm>
        </p:grpSpPr>
        <p:sp>
          <p:nvSpPr>
            <p:cNvPr id="724" name="直接连接符​​ 33"/>
            <p:cNvSpPr/>
            <p:nvPr/>
          </p:nvSpPr>
          <p:spPr>
            <a:xfrm>
              <a:off x="4696560" y="1642320"/>
              <a:ext cx="1400400" cy="0"/>
            </a:xfrm>
            <a:prstGeom prst="line">
              <a:avLst/>
            </a:prstGeom>
            <a:ln w="6480">
              <a:solidFill>
                <a:srgbClr val="a5a5a5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5" name="圆角矩形​​ 2"/>
            <p:cNvSpPr/>
            <p:nvPr/>
          </p:nvSpPr>
          <p:spPr>
            <a:xfrm rot="21283200">
              <a:off x="4144320" y="2379960"/>
              <a:ext cx="2151720" cy="122616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w="324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6" name="直接连接符​​ 11"/>
            <p:cNvSpPr/>
            <p:nvPr/>
          </p:nvSpPr>
          <p:spPr>
            <a:xfrm flipV="1">
              <a:off x="4465080" y="1713240"/>
              <a:ext cx="880200" cy="756360"/>
            </a:xfrm>
            <a:prstGeom prst="line">
              <a:avLst/>
            </a:prstGeom>
            <a:ln w="2844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7" name="直接连接符​​ 13"/>
            <p:cNvSpPr/>
            <p:nvPr/>
          </p:nvSpPr>
          <p:spPr>
            <a:xfrm>
              <a:off x="5590080" y="1713600"/>
              <a:ext cx="336240" cy="621360"/>
            </a:xfrm>
            <a:prstGeom prst="line">
              <a:avLst/>
            </a:prstGeom>
            <a:ln w="2844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8" name="椭圆​​ 4"/>
            <p:cNvSpPr/>
            <p:nvPr/>
          </p:nvSpPr>
          <p:spPr>
            <a:xfrm>
              <a:off x="5345640" y="1590840"/>
              <a:ext cx="244440" cy="24444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9" name="椭圆​​ 6"/>
            <p:cNvSpPr/>
            <p:nvPr/>
          </p:nvSpPr>
          <p:spPr>
            <a:xfrm>
              <a:off x="5396760" y="1642320"/>
              <a:ext cx="140760" cy="140760"/>
            </a:xfrm>
            <a:prstGeom prst="ellipse">
              <a:avLst/>
            </a:prstGeom>
            <a:solidFill>
              <a:srgbClr val="d8d8d8"/>
            </a:solidFill>
            <a:ln w="324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0" name="同侧圆角矩形 30"/>
            <p:cNvSpPr/>
            <p:nvPr/>
          </p:nvSpPr>
          <p:spPr>
            <a:xfrm rot="21294600">
              <a:off x="4113000" y="2388600"/>
              <a:ext cx="2143440" cy="5950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6200" y="10800"/>
                  </a:moveTo>
                  <a:cubicBezTo>
                    <a:pt x="16200" y="7817"/>
                    <a:pt x="13782" y="5400"/>
                    <a:pt x="10800" y="5400"/>
                  </a:cubicBezTo>
                  <a:cubicBezTo>
                    <a:pt x="7817" y="5400"/>
                    <a:pt x="5400" y="7817"/>
                    <a:pt x="5400" y="10800"/>
                  </a:cubicBezTo>
                  <a:lnTo>
                    <a:pt x="0" y="10800"/>
                  </a:lnTo>
                  <a:cubicBezTo>
                    <a:pt x="0" y="4835"/>
                    <a:pt x="4835" y="0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8900" y="16200"/>
                  </a:lnTo>
                  <a:lnTo>
                    <a:pt x="13500" y="10800"/>
                  </a:lnTo>
                  <a:lnTo>
                    <a:pt x="16200" y="108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1" name="圆角矩形​​ 3"/>
            <p:cNvSpPr/>
            <p:nvPr/>
          </p:nvSpPr>
          <p:spPr>
            <a:xfrm rot="21283200">
              <a:off x="4237920" y="2499840"/>
              <a:ext cx="1969200" cy="1011600"/>
            </a:xfrm>
            <a:prstGeom prst="roundRect">
              <a:avLst>
                <a:gd name="adj" fmla="val 0"/>
              </a:avLst>
            </a:prstGeom>
            <a:solidFill>
              <a:srgbClr val="c79405"/>
            </a:solidFill>
            <a:ln w="1908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343080" indent="-343080"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此处输入文字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此处输入文字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2" name="椭圆​​ 8"/>
            <p:cNvSpPr/>
            <p:nvPr/>
          </p:nvSpPr>
          <p:spPr>
            <a:xfrm rot="21283200">
              <a:off x="4423680" y="2469600"/>
              <a:ext cx="89280" cy="8928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3" name="椭圆​​ 9"/>
            <p:cNvSpPr/>
            <p:nvPr/>
          </p:nvSpPr>
          <p:spPr>
            <a:xfrm rot="21283200">
              <a:off x="5884920" y="2334960"/>
              <a:ext cx="89280" cy="8928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34" name="Group 37"/>
          <p:cNvGrpSpPr/>
          <p:nvPr/>
        </p:nvGrpSpPr>
        <p:grpSpPr>
          <a:xfrm>
            <a:off x="-1440" y="0"/>
            <a:ext cx="9142200" cy="1413360"/>
            <a:chOff x="-1440" y="0"/>
            <a:chExt cx="9142200" cy="1413360"/>
          </a:xfrm>
        </p:grpSpPr>
        <p:grpSp>
          <p:nvGrpSpPr>
            <p:cNvPr id="735" name="Group 38"/>
            <p:cNvGrpSpPr/>
            <p:nvPr/>
          </p:nvGrpSpPr>
          <p:grpSpPr>
            <a:xfrm>
              <a:off x="-1440" y="0"/>
              <a:ext cx="9142200" cy="1413360"/>
              <a:chOff x="-1440" y="0"/>
              <a:chExt cx="9142200" cy="1413360"/>
            </a:xfrm>
          </p:grpSpPr>
          <p:grpSp>
            <p:nvGrpSpPr>
              <p:cNvPr id="736" name="Group 39"/>
              <p:cNvGrpSpPr/>
              <p:nvPr/>
            </p:nvGrpSpPr>
            <p:grpSpPr>
              <a:xfrm>
                <a:off x="-1440" y="0"/>
                <a:ext cx="9142200" cy="1413360"/>
                <a:chOff x="-1440" y="0"/>
                <a:chExt cx="9142200" cy="1413360"/>
              </a:xfrm>
            </p:grpSpPr>
            <p:sp>
              <p:nvSpPr>
                <p:cNvPr id="737" name="椭圆 75"/>
                <p:cNvSpPr/>
                <p:nvPr/>
              </p:nvSpPr>
              <p:spPr>
                <a:xfrm>
                  <a:off x="242280" y="132840"/>
                  <a:ext cx="1256400" cy="1280160"/>
                </a:xfrm>
                <a:prstGeom prst="ellipse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38" name="矩形 76"/>
                <p:cNvSpPr/>
                <p:nvPr/>
              </p:nvSpPr>
              <p:spPr>
                <a:xfrm flipV="1">
                  <a:off x="-1080" y="807480"/>
                  <a:ext cx="9142200" cy="249840"/>
                </a:xfrm>
                <a:prstGeom prst="rect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39" name="矩形 56"/>
                <p:cNvSpPr/>
                <p:nvPr/>
              </p:nvSpPr>
              <p:spPr>
                <a:xfrm flipV="1">
                  <a:off x="-1080" y="0"/>
                  <a:ext cx="9142200" cy="979200"/>
                </a:xfrm>
                <a:custGeom>
                  <a:avLst/>
                  <a:gdLst/>
                  <a:ahLst/>
                  <a:rect l="l" t="t" r="r" b="b"/>
                  <a:pathLst>
                    <a:path w="9937104" h="1101328">
                      <a:moveTo>
                        <a:pt x="0" y="0"/>
                      </a:moveTo>
                      <a:lnTo>
                        <a:pt x="9937104" y="0"/>
                      </a:lnTo>
                      <a:lnTo>
                        <a:pt x="9937104" y="1101328"/>
                      </a:lnTo>
                      <a:lnTo>
                        <a:pt x="0" y="110132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7940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40" name="椭圆 78"/>
                <p:cNvSpPr/>
                <p:nvPr/>
              </p:nvSpPr>
              <p:spPr>
                <a:xfrm>
                  <a:off x="304200" y="219600"/>
                  <a:ext cx="1119240" cy="1119240"/>
                </a:xfrm>
                <a:prstGeom prst="ellipse">
                  <a:avLst/>
                </a:prstGeom>
                <a:solidFill>
                  <a:srgbClr val="c7940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741" name="Group 44"/>
                <p:cNvGrpSpPr/>
                <p:nvPr/>
              </p:nvGrpSpPr>
              <p:grpSpPr>
                <a:xfrm>
                  <a:off x="209520" y="81000"/>
                  <a:ext cx="1294560" cy="1332360"/>
                  <a:chOff x="209520" y="81000"/>
                  <a:chExt cx="1294560" cy="1332360"/>
                </a:xfrm>
              </p:grpSpPr>
              <p:pic>
                <p:nvPicPr>
                  <p:cNvPr id="742" name="图片 80" descr=""/>
                  <p:cNvPicPr/>
                  <p:nvPr/>
                </p:nvPicPr>
                <p:blipFill>
                  <a:blip r:embed="rId1"/>
                  <a:stretch/>
                </p:blipFill>
                <p:spPr>
                  <a:xfrm rot="6589800">
                    <a:off x="327960" y="249480"/>
                    <a:ext cx="1057320" cy="99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743" name="Picture 3" descr="C:\Documents and Settings\Administrator\My Documents\My Pictures\1659_51.wmf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800" y="335880"/>
                    <a:ext cx="1010160" cy="86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</p:grpSp>
          <p:grpSp>
            <p:nvGrpSpPr>
              <p:cNvPr id="744" name="Group 47"/>
              <p:cNvGrpSpPr/>
              <p:nvPr/>
            </p:nvGrpSpPr>
            <p:grpSpPr>
              <a:xfrm>
                <a:off x="93960" y="720"/>
                <a:ext cx="9015480" cy="1045080"/>
                <a:chOff x="93960" y="720"/>
                <a:chExt cx="9015480" cy="1045080"/>
              </a:xfrm>
            </p:grpSpPr>
            <p:pic>
              <p:nvPicPr>
                <p:cNvPr id="745" name="图片 72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5316120" y="720"/>
                  <a:ext cx="3793320" cy="1045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46" name="图片 73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693800" y="720"/>
                  <a:ext cx="3793320" cy="1045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47" name="图片 74" descr=""/>
                <p:cNvPicPr/>
                <p:nvPr/>
              </p:nvPicPr>
              <p:blipFill>
                <a:blip r:embed="rId5"/>
                <a:srcRect l="57831" t="0" r="0" b="0"/>
                <a:stretch/>
              </p:blipFill>
              <p:spPr>
                <a:xfrm>
                  <a:off x="93960" y="720"/>
                  <a:ext cx="1599840" cy="10450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748" name="TextBox 69"/>
            <p:cNvSpPr/>
            <p:nvPr/>
          </p:nvSpPr>
          <p:spPr>
            <a:xfrm>
              <a:off x="6031080" y="404280"/>
              <a:ext cx="1846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华文隶书"/>
                  <a:ea typeface="华文隶书"/>
                </a:rPr>
                <a:t> </a:t>
              </a:r>
              <a:r>
                <a:rPr b="0" lang="zh-CN" sz="3200" spc="-1" strike="noStrike">
                  <a:solidFill>
                    <a:srgbClr val="000000"/>
                  </a:solidFill>
                  <a:latin typeface="华文隶书"/>
                  <a:ea typeface="华文隶书"/>
                </a:rPr>
                <a:t>中国风图表页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AutoShape 3"/>
          <p:cNvSpPr/>
          <p:nvPr/>
        </p:nvSpPr>
        <p:spPr>
          <a:xfrm>
            <a:off x="3657600" y="2900520"/>
            <a:ext cx="1797120" cy="1555560"/>
          </a:xfrm>
          <a:prstGeom prst="triangle">
            <a:avLst>
              <a:gd name="adj" fmla="val 50000"/>
            </a:avLst>
          </a:prstGeom>
          <a:solidFill>
            <a:srgbClr val="c794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Freeform 4"/>
          <p:cNvSpPr/>
          <p:nvPr/>
        </p:nvSpPr>
        <p:spPr>
          <a:xfrm>
            <a:off x="2587680" y="2082960"/>
            <a:ext cx="2203560" cy="3139920"/>
          </a:xfrm>
          <a:custGeom>
            <a:avLst/>
            <a:gdLst/>
            <a:ahLst/>
            <a:rect l="l" t="t" r="r" b="b"/>
            <a:pathLst>
              <a:path w="986" h="1404">
                <a:moveTo>
                  <a:pt x="0" y="1404"/>
                </a:moveTo>
                <a:lnTo>
                  <a:pt x="814" y="0"/>
                </a:lnTo>
                <a:lnTo>
                  <a:pt x="986" y="329"/>
                </a:lnTo>
              </a:path>
            </a:pathLst>
          </a:custGeom>
          <a:noFill/>
          <a:ln w="22320">
            <a:solidFill>
              <a:srgbClr val="c782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Freeform 5"/>
          <p:cNvSpPr/>
          <p:nvPr/>
        </p:nvSpPr>
        <p:spPr>
          <a:xfrm>
            <a:off x="3025800" y="4421160"/>
            <a:ext cx="3627360" cy="630360"/>
          </a:xfrm>
          <a:custGeom>
            <a:avLst/>
            <a:gdLst/>
            <a:ahLst/>
            <a:rect l="l" t="t" r="r" b="b"/>
            <a:pathLst>
              <a:path w="1623" h="281">
                <a:moveTo>
                  <a:pt x="1623" y="281"/>
                </a:moveTo>
                <a:lnTo>
                  <a:pt x="0" y="277"/>
                </a:lnTo>
                <a:lnTo>
                  <a:pt x="174" y="0"/>
                </a:lnTo>
              </a:path>
            </a:pathLst>
          </a:custGeom>
          <a:noFill/>
          <a:ln w="22320">
            <a:solidFill>
              <a:srgbClr val="c782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Freeform 6"/>
          <p:cNvSpPr/>
          <p:nvPr/>
        </p:nvSpPr>
        <p:spPr>
          <a:xfrm>
            <a:off x="4454640" y="1600200"/>
            <a:ext cx="1806480" cy="3149640"/>
          </a:xfrm>
          <a:custGeom>
            <a:avLst/>
            <a:gdLst/>
            <a:ahLst/>
            <a:rect l="l" t="t" r="r" b="b"/>
            <a:pathLst>
              <a:path w="808" h="1408">
                <a:moveTo>
                  <a:pt x="0" y="0"/>
                </a:moveTo>
                <a:lnTo>
                  <a:pt x="808" y="1408"/>
                </a:lnTo>
                <a:lnTo>
                  <a:pt x="430" y="1407"/>
                </a:lnTo>
              </a:path>
            </a:pathLst>
          </a:custGeom>
          <a:noFill/>
          <a:ln w="22320">
            <a:solidFill>
              <a:srgbClr val="c782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Text12"/>
          <p:cNvSpPr/>
          <p:nvPr/>
        </p:nvSpPr>
        <p:spPr>
          <a:xfrm rot="18108000">
            <a:off x="3562920" y="2024280"/>
            <a:ext cx="977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78205"/>
                </a:solidFill>
                <a:latin typeface="微软雅黑"/>
                <a:ea typeface="微软雅黑"/>
              </a:rPr>
              <a:t>添加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Text12"/>
          <p:cNvSpPr/>
          <p:nvPr/>
        </p:nvSpPr>
        <p:spPr>
          <a:xfrm rot="3533400">
            <a:off x="5793480" y="4144320"/>
            <a:ext cx="976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78205"/>
                </a:solidFill>
                <a:latin typeface="微软雅黑"/>
                <a:ea typeface="微软雅黑"/>
              </a:rPr>
              <a:t>添加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Text12"/>
          <p:cNvSpPr/>
          <p:nvPr/>
        </p:nvSpPr>
        <p:spPr>
          <a:xfrm>
            <a:off x="2825640" y="5168880"/>
            <a:ext cx="978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78205"/>
                </a:solidFill>
                <a:latin typeface="微软雅黑"/>
                <a:ea typeface="微软雅黑"/>
              </a:rPr>
              <a:t>添加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TextBox 23"/>
          <p:cNvSpPr/>
          <p:nvPr/>
        </p:nvSpPr>
        <p:spPr>
          <a:xfrm>
            <a:off x="4143240" y="3700440"/>
            <a:ext cx="82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57" name="Group 10"/>
          <p:cNvGrpSpPr/>
          <p:nvPr/>
        </p:nvGrpSpPr>
        <p:grpSpPr>
          <a:xfrm>
            <a:off x="-1440" y="0"/>
            <a:ext cx="9142200" cy="1413360"/>
            <a:chOff x="-1440" y="0"/>
            <a:chExt cx="9142200" cy="1413360"/>
          </a:xfrm>
        </p:grpSpPr>
        <p:grpSp>
          <p:nvGrpSpPr>
            <p:cNvPr id="758" name="Group 11"/>
            <p:cNvGrpSpPr/>
            <p:nvPr/>
          </p:nvGrpSpPr>
          <p:grpSpPr>
            <a:xfrm>
              <a:off x="-1440" y="0"/>
              <a:ext cx="9142200" cy="1413360"/>
              <a:chOff x="-1440" y="0"/>
              <a:chExt cx="9142200" cy="1413360"/>
            </a:xfrm>
          </p:grpSpPr>
          <p:grpSp>
            <p:nvGrpSpPr>
              <p:cNvPr id="759" name="Group 12"/>
              <p:cNvGrpSpPr/>
              <p:nvPr/>
            </p:nvGrpSpPr>
            <p:grpSpPr>
              <a:xfrm>
                <a:off x="-1440" y="0"/>
                <a:ext cx="9142200" cy="1413360"/>
                <a:chOff x="-1440" y="0"/>
                <a:chExt cx="9142200" cy="1413360"/>
              </a:xfrm>
            </p:grpSpPr>
            <p:sp>
              <p:nvSpPr>
                <p:cNvPr id="760" name="椭圆 42"/>
                <p:cNvSpPr/>
                <p:nvPr/>
              </p:nvSpPr>
              <p:spPr>
                <a:xfrm>
                  <a:off x="242280" y="132840"/>
                  <a:ext cx="1256400" cy="1280160"/>
                </a:xfrm>
                <a:prstGeom prst="ellipse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61" name="矩形 43"/>
                <p:cNvSpPr/>
                <p:nvPr/>
              </p:nvSpPr>
              <p:spPr>
                <a:xfrm flipV="1">
                  <a:off x="-1080" y="807480"/>
                  <a:ext cx="9142200" cy="249840"/>
                </a:xfrm>
                <a:prstGeom prst="rect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62" name="矩形 56"/>
                <p:cNvSpPr/>
                <p:nvPr/>
              </p:nvSpPr>
              <p:spPr>
                <a:xfrm flipV="1">
                  <a:off x="-1080" y="0"/>
                  <a:ext cx="9142200" cy="979200"/>
                </a:xfrm>
                <a:custGeom>
                  <a:avLst/>
                  <a:gdLst/>
                  <a:ahLst/>
                  <a:rect l="l" t="t" r="r" b="b"/>
                  <a:pathLst>
                    <a:path w="9937104" h="1101328">
                      <a:moveTo>
                        <a:pt x="0" y="0"/>
                      </a:moveTo>
                      <a:lnTo>
                        <a:pt x="9937104" y="0"/>
                      </a:lnTo>
                      <a:lnTo>
                        <a:pt x="9937104" y="1101328"/>
                      </a:lnTo>
                      <a:lnTo>
                        <a:pt x="0" y="110132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7940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63" name="椭圆 45"/>
                <p:cNvSpPr/>
                <p:nvPr/>
              </p:nvSpPr>
              <p:spPr>
                <a:xfrm>
                  <a:off x="304200" y="219600"/>
                  <a:ext cx="1119240" cy="1119240"/>
                </a:xfrm>
                <a:prstGeom prst="ellipse">
                  <a:avLst/>
                </a:prstGeom>
                <a:solidFill>
                  <a:srgbClr val="c7940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764" name="Group 17"/>
                <p:cNvGrpSpPr/>
                <p:nvPr/>
              </p:nvGrpSpPr>
              <p:grpSpPr>
                <a:xfrm>
                  <a:off x="209520" y="81000"/>
                  <a:ext cx="1294560" cy="1332360"/>
                  <a:chOff x="209520" y="81000"/>
                  <a:chExt cx="1294560" cy="1332360"/>
                </a:xfrm>
              </p:grpSpPr>
              <p:pic>
                <p:nvPicPr>
                  <p:cNvPr id="765" name="图片 47" descr=""/>
                  <p:cNvPicPr/>
                  <p:nvPr/>
                </p:nvPicPr>
                <p:blipFill>
                  <a:blip r:embed="rId1"/>
                  <a:stretch/>
                </p:blipFill>
                <p:spPr>
                  <a:xfrm rot="6589800">
                    <a:off x="327960" y="249480"/>
                    <a:ext cx="1057320" cy="99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766" name="Picture 3" descr="C:\Documents and Settings\Administrator\My Documents\My Pictures\1659_51.wmf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800" y="335880"/>
                    <a:ext cx="1010160" cy="86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</p:grpSp>
          <p:grpSp>
            <p:nvGrpSpPr>
              <p:cNvPr id="767" name="Group 20"/>
              <p:cNvGrpSpPr/>
              <p:nvPr/>
            </p:nvGrpSpPr>
            <p:grpSpPr>
              <a:xfrm>
                <a:off x="93960" y="720"/>
                <a:ext cx="9015480" cy="1045080"/>
                <a:chOff x="93960" y="720"/>
                <a:chExt cx="9015480" cy="1045080"/>
              </a:xfrm>
            </p:grpSpPr>
            <p:pic>
              <p:nvPicPr>
                <p:cNvPr id="768" name="图片 3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5316120" y="720"/>
                  <a:ext cx="3793320" cy="1045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69" name="图片 4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693800" y="720"/>
                  <a:ext cx="3793320" cy="1045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70" name="图片 41" descr=""/>
                <p:cNvPicPr/>
                <p:nvPr/>
              </p:nvPicPr>
              <p:blipFill>
                <a:blip r:embed="rId5"/>
                <a:srcRect l="57831" t="0" r="0" b="0"/>
                <a:stretch/>
              </p:blipFill>
              <p:spPr>
                <a:xfrm>
                  <a:off x="93960" y="720"/>
                  <a:ext cx="1599840" cy="10450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771" name="TextBox 36"/>
            <p:cNvSpPr/>
            <p:nvPr/>
          </p:nvSpPr>
          <p:spPr>
            <a:xfrm>
              <a:off x="6031080" y="404280"/>
              <a:ext cx="1846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华文隶书"/>
                  <a:ea typeface="华文隶书"/>
                </a:rPr>
                <a:t> </a:t>
              </a:r>
              <a:r>
                <a:rPr b="0" lang="zh-CN" sz="3200" spc="-1" strike="noStrike">
                  <a:solidFill>
                    <a:srgbClr val="000000"/>
                  </a:solidFill>
                  <a:latin typeface="华文隶书"/>
                  <a:ea typeface="华文隶书"/>
                </a:rPr>
                <a:t>中国风图表页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矩形 18"/>
          <p:cNvSpPr/>
          <p:nvPr/>
        </p:nvSpPr>
        <p:spPr>
          <a:xfrm>
            <a:off x="0" y="2030400"/>
            <a:ext cx="9144000" cy="231624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矩形 20"/>
          <p:cNvSpPr/>
          <p:nvPr/>
        </p:nvSpPr>
        <p:spPr>
          <a:xfrm>
            <a:off x="0" y="2203560"/>
            <a:ext cx="9144000" cy="1915920"/>
          </a:xfrm>
          <a:prstGeom prst="rect">
            <a:avLst/>
          </a:prstGeom>
          <a:solidFill>
            <a:srgbClr val="c794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直接连接符 27"/>
          <p:cNvSpPr/>
          <p:nvPr/>
        </p:nvSpPr>
        <p:spPr>
          <a:xfrm>
            <a:off x="2141640" y="3135240"/>
            <a:ext cx="1147680" cy="1800"/>
          </a:xfrm>
          <a:prstGeom prst="line">
            <a:avLst/>
          </a:prstGeom>
          <a:ln w="3492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直接连接符 28"/>
          <p:cNvSpPr/>
          <p:nvPr/>
        </p:nvSpPr>
        <p:spPr>
          <a:xfrm>
            <a:off x="5638680" y="3139920"/>
            <a:ext cx="1160640" cy="1800"/>
          </a:xfrm>
          <a:prstGeom prst="line">
            <a:avLst/>
          </a:prstGeom>
          <a:ln w="3492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6" name="图片 3" descr=""/>
          <p:cNvPicPr/>
          <p:nvPr/>
        </p:nvPicPr>
        <p:blipFill>
          <a:blip r:embed="rId1"/>
          <a:stretch/>
        </p:blipFill>
        <p:spPr>
          <a:xfrm>
            <a:off x="4510080" y="2708280"/>
            <a:ext cx="903240" cy="777960"/>
          </a:xfrm>
          <a:prstGeom prst="rect">
            <a:avLst/>
          </a:prstGeom>
          <a:ln w="0">
            <a:noFill/>
          </a:ln>
        </p:spPr>
      </p:pic>
      <p:pic>
        <p:nvPicPr>
          <p:cNvPr id="777" name="图片 51" descr=""/>
          <p:cNvPicPr/>
          <p:nvPr/>
        </p:nvPicPr>
        <p:blipFill>
          <a:blip r:embed="rId2"/>
          <a:stretch/>
        </p:blipFill>
        <p:spPr>
          <a:xfrm>
            <a:off x="3578400" y="2708280"/>
            <a:ext cx="903240" cy="777960"/>
          </a:xfrm>
          <a:prstGeom prst="rect">
            <a:avLst/>
          </a:prstGeom>
          <a:ln w="0">
            <a:noFill/>
          </a:ln>
        </p:spPr>
      </p:pic>
      <p:pic>
        <p:nvPicPr>
          <p:cNvPr id="778" name="图片 25" descr=""/>
          <p:cNvPicPr/>
          <p:nvPr/>
        </p:nvPicPr>
        <p:blipFill>
          <a:blip r:embed="rId3"/>
          <a:stretch/>
        </p:blipFill>
        <p:spPr>
          <a:xfrm>
            <a:off x="4321080" y="2247840"/>
            <a:ext cx="4718160" cy="1828800"/>
          </a:xfrm>
          <a:prstGeom prst="rect">
            <a:avLst/>
          </a:prstGeom>
          <a:ln w="0">
            <a:noFill/>
          </a:ln>
        </p:spPr>
      </p:pic>
      <p:pic>
        <p:nvPicPr>
          <p:cNvPr id="779" name="图片 26" descr=""/>
          <p:cNvPicPr/>
          <p:nvPr/>
        </p:nvPicPr>
        <p:blipFill>
          <a:blip r:embed="rId4"/>
          <a:stretch/>
        </p:blipFill>
        <p:spPr>
          <a:xfrm>
            <a:off x="12600" y="2225520"/>
            <a:ext cx="47181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25T01:31:00Z</dcterms:created>
  <dc:creator>User</dc:creator>
  <dc:description/>
  <cp:keywords/>
  <dc:language>en-US</dc:language>
  <cp:lastModifiedBy>User</cp:lastModifiedBy>
  <dcterms:modified xsi:type="dcterms:W3CDTF">2016-07-25T08:45:54Z</dcterms:modified>
  <cp:revision>11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603</vt:lpwstr>
  </property>
</Properties>
</file>