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4E6-C533-4A4F-B6B8-FBF8064B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BBD-8590-40E1-8B8C-E9322888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224-8E40-4F79-8D36-9169F292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388-F866-41E0-AC08-10046AC3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8E0C-95F9-4437-86C9-2F94A9A8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E50C-17A5-4D0E-994C-1ED3C5A2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5B8B-5104-4EC5-ABED-B74FF96F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146B-8A99-471E-8010-05A24E75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DDA0-9705-42CF-B560-27F47C9B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1EF9-5DC2-480A-9968-7E69419F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CA02-304A-41CF-8713-602DDCDD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FAEA-E42C-4B4C-ACA1-373B9D26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D2AF-F393-436A-B076-A670FDF6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84CD-8DF5-484C-B064-384BDB9C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730B-20A8-4BC7-BE7B-49ED720A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B4C1-A242-48AB-88D8-C5BE4EE2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4AD4-0DDD-41F9-8DDF-CECF5B95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3DC5-8184-496B-98BB-BA4AD242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DC2B-7A81-4051-B084-027CB0BD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93C-36EF-43AD-AE61-10A14ED1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04D-A266-4D4F-A77A-C9FD7863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5938-3111-4D7C-82EC-FE0D0763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A36-A610-47B6-9DDC-DEE3DA40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FC7-599F-427E-BA07-59861659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C574-9BA1-4DAB-801C-2FFE661E46F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D13F-A5A1-4432-BABC-58CBC7DDC1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请在此处填入你需要的内容。请在此处填入你需要的内容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21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71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21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cp:keywords/>
  <dc:language>en-US</dc:language>
  <cp:lastModifiedBy>Administrator</cp:lastModifiedBy>
  <dcterms:modified xsi:type="dcterms:W3CDTF">2015-11-10T06:22:12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