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1D000-1799-4749-BA9E-C6AEF48B8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A9F5B-D624-4264-A801-45ED00A3A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FB94A-7400-4046-BF18-55C7B2DAE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DCF1F-2818-4AEF-9952-2C7867E6E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64646-080B-468C-BBDF-F0073EE8E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9B69E-3687-4854-AEC8-5A3543ACF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25B8F-5867-46E2-9692-6A4ED6C18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23DFB-D16A-4539-8B5F-6D0C393FF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9EE30-9E10-47BD-9926-B50D77F9F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8679D-D028-4C45-95C9-0CFE3ED4E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6C47B-ACC7-4C95-83E1-C47D0ED17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A5380-7545-4A70-BC2B-DE5C3A873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CCE8-0280-488D-8054-0BBE041EF279}"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389F8-B5B1-4436-9CA5-0E6FF6FC182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2" descr=""/>
          <p:cNvPicPr/>
          <p:nvPr/>
        </p:nvPicPr>
        <p:blipFill>
          <a:blip r:embed="rId1"/>
          <a:stretch/>
        </p:blipFill>
        <p:spPr>
          <a:xfrm>
            <a:off x="0" y="0"/>
            <a:ext cx="12192120" cy="6858000"/>
          </a:xfrm>
          <a:prstGeom prst="rect">
            <a:avLst/>
          </a:prstGeom>
          <a:ln w="0">
            <a:noFill/>
          </a:ln>
        </p:spPr>
      </p:pic>
      <p:sp>
        <p:nvSpPr>
          <p:cNvPr id="42" name="矩形 10"/>
          <p:cNvSpPr/>
          <p:nvPr/>
        </p:nvSpPr>
        <p:spPr>
          <a:xfrm>
            <a:off x="3602160" y="429732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8235"/>
                </a:solidFill>
                <a:latin typeface="微软雅黑"/>
                <a:ea typeface="微软雅黑"/>
              </a:rPr>
              <a:t>汇报人：美乐辰</a:t>
            </a:r>
            <a:r>
              <a:rPr b="0" lang="en-US" sz="1800" spc="-1" strike="noStrike">
                <a:solidFill>
                  <a:srgbClr val="548235"/>
                </a:solidFill>
                <a:latin typeface="微软雅黑"/>
                <a:ea typeface="微软雅黑"/>
              </a:rPr>
              <a:t>    </a:t>
            </a:r>
            <a:r>
              <a:rPr b="0" lang="zh-CN" sz="1800" spc="-1" strike="noStrike">
                <a:solidFill>
                  <a:srgbClr val="548235"/>
                </a:solidFill>
                <a:latin typeface="微软雅黑"/>
                <a:ea typeface="微软雅黑"/>
              </a:rPr>
              <a:t>汇报时间：</a:t>
            </a:r>
            <a:r>
              <a:rPr b="0" lang="en-US" sz="1800" spc="-1" strike="noStrike">
                <a:solidFill>
                  <a:srgbClr val="548235"/>
                </a:solidFill>
                <a:latin typeface="微软雅黑"/>
                <a:ea typeface="微软雅黑"/>
              </a:rPr>
              <a:t>2016.3.26</a:t>
            </a:r>
            <a:endParaRPr b="0" lang="en-US" sz="1800" spc="-1" strike="noStrike">
              <a:solidFill>
                <a:srgbClr val="000000"/>
              </a:solidFill>
              <a:latin typeface="Arial"/>
            </a:endParaRPr>
          </a:p>
        </p:txBody>
      </p:sp>
      <p:sp>
        <p:nvSpPr>
          <p:cNvPr id="43" name="矩形 13"/>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8235"/>
                </a:solidFill>
                <a:latin typeface="微软雅黑"/>
                <a:ea typeface="微软雅黑"/>
              </a:rPr>
              <a:t>水墨中国风商务演示模版</a:t>
            </a:r>
            <a:endParaRPr b="0" lang="en-US" sz="5400" spc="-1" strike="noStrike">
              <a:solidFill>
                <a:srgbClr val="000000"/>
              </a:solidFill>
              <a:latin typeface="Arial"/>
            </a:endParaRPr>
          </a:p>
        </p:txBody>
      </p:sp>
      <p:sp>
        <p:nvSpPr>
          <p:cNvPr id="44" name="矩形 5"/>
          <p:cNvSpPr/>
          <p:nvPr/>
        </p:nvSpPr>
        <p:spPr>
          <a:xfrm>
            <a:off x="2387520" y="2281320"/>
            <a:ext cx="737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b6344"/>
                </a:solidFill>
                <a:latin typeface="Arial"/>
              </a:rPr>
              <a:t>Pure And Fresh And Contracted Business Presentation Template</a:t>
            </a:r>
            <a:endParaRPr b="0" lang="en-US" sz="1800" spc="-1" strike="noStrike">
              <a:solidFill>
                <a:srgbClr val="000000"/>
              </a:solidFill>
              <a:latin typeface="Arial"/>
            </a:endParaRPr>
          </a:p>
        </p:txBody>
      </p:sp>
      <p:sp>
        <p:nvSpPr>
          <p:cNvPr id="45" name="矩形 14"/>
          <p:cNvSpPr/>
          <p:nvPr/>
        </p:nvSpPr>
        <p:spPr>
          <a:xfrm>
            <a:off x="2387520" y="374796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Effect filter="wipe(up)" transition="in">
                                      <p:cBhvr additive="repl">
                                        <p:cTn id="9"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162"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163"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组合 19"/>
          <p:cNvGrpSpPr/>
          <p:nvPr/>
        </p:nvGrpSpPr>
        <p:grpSpPr>
          <a:xfrm>
            <a:off x="5472000" y="0"/>
            <a:ext cx="1247760" cy="1106640"/>
            <a:chOff x="5472000" y="0"/>
            <a:chExt cx="1247760" cy="1106640"/>
          </a:xfrm>
        </p:grpSpPr>
        <p:sp>
          <p:nvSpPr>
            <p:cNvPr id="165"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167"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6"/>
          <p:cNvGrpSpPr/>
          <p:nvPr/>
        </p:nvGrpSpPr>
        <p:grpSpPr>
          <a:xfrm>
            <a:off x="903240" y="1808280"/>
            <a:ext cx="10385280" cy="3673080"/>
            <a:chOff x="903240" y="1808280"/>
            <a:chExt cx="10385280" cy="3673080"/>
          </a:xfrm>
        </p:grpSpPr>
        <p:sp>
          <p:nvSpPr>
            <p:cNvPr id="170"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8"/>
            <p:cNvSpPr/>
            <p:nvPr/>
          </p:nvSpPr>
          <p:spPr>
            <a:xfrm>
              <a:off x="1383840" y="2266920"/>
              <a:ext cx="2753640" cy="277020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9"/>
            <p:cNvSpPr/>
            <p:nvPr/>
          </p:nvSpPr>
          <p:spPr>
            <a:xfrm>
              <a:off x="1625040" y="2508120"/>
              <a:ext cx="2271240" cy="228780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Oval 11"/>
            <p:cNvSpPr/>
            <p:nvPr/>
          </p:nvSpPr>
          <p:spPr>
            <a:xfrm>
              <a:off x="6396840" y="2696040"/>
              <a:ext cx="1883880" cy="189648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2"/>
            <p:cNvSpPr/>
            <p:nvPr/>
          </p:nvSpPr>
          <p:spPr>
            <a:xfrm>
              <a:off x="6650640" y="2952000"/>
              <a:ext cx="1375560" cy="13996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3"/>
            <p:cNvSpPr/>
            <p:nvPr/>
          </p:nvSpPr>
          <p:spPr>
            <a:xfrm>
              <a:off x="9817920" y="3004920"/>
              <a:ext cx="1284480" cy="129204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4"/>
            <p:cNvSpPr/>
            <p:nvPr/>
          </p:nvSpPr>
          <p:spPr>
            <a:xfrm>
              <a:off x="10071720" y="3248280"/>
              <a:ext cx="789480" cy="7930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98"/>
          <p:cNvGrpSpPr/>
          <p:nvPr/>
        </p:nvGrpSpPr>
        <p:grpSpPr>
          <a:xfrm>
            <a:off x="1941480" y="2976480"/>
            <a:ext cx="1566360" cy="1449000"/>
            <a:chOff x="1941480" y="2976480"/>
            <a:chExt cx="1566360" cy="1449000"/>
          </a:xfrm>
        </p:grpSpPr>
        <p:sp>
          <p:nvSpPr>
            <p:cNvPr id="181"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oup 11"/>
          <p:cNvGrpSpPr/>
          <p:nvPr/>
        </p:nvGrpSpPr>
        <p:grpSpPr>
          <a:xfrm>
            <a:off x="10137600" y="3368520"/>
            <a:ext cx="606600" cy="509760"/>
            <a:chOff x="10137600" y="3368520"/>
            <a:chExt cx="606600" cy="509760"/>
          </a:xfrm>
        </p:grpSpPr>
        <p:sp>
          <p:nvSpPr>
            <p:cNvPr id="186" name="Oval 12"/>
            <p:cNvSpPr/>
            <p:nvPr/>
          </p:nvSpPr>
          <p:spPr>
            <a:xfrm>
              <a:off x="10338480" y="3368520"/>
              <a:ext cx="204480" cy="20340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db634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9"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db6344"/>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1"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3" name="Oval 19"/>
            <p:cNvSpPr/>
            <p:nvPr/>
          </p:nvSpPr>
          <p:spPr>
            <a:xfrm>
              <a:off x="10184040" y="3444480"/>
              <a:ext cx="15192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5"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Oval 22"/>
            <p:cNvSpPr/>
            <p:nvPr/>
          </p:nvSpPr>
          <p:spPr>
            <a:xfrm>
              <a:off x="10545120" y="3444480"/>
              <a:ext cx="15228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Group 78"/>
          <p:cNvGrpSpPr/>
          <p:nvPr/>
        </p:nvGrpSpPr>
        <p:grpSpPr>
          <a:xfrm>
            <a:off x="6816600" y="3168720"/>
            <a:ext cx="1074600" cy="939600"/>
            <a:chOff x="6816600" y="3168720"/>
            <a:chExt cx="1074600" cy="939600"/>
          </a:xfrm>
        </p:grpSpPr>
        <p:sp>
          <p:nvSpPr>
            <p:cNvPr id="199"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db634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2"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5"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6"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7"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2"/>
          <p:cNvSpPr/>
          <p:nvPr/>
        </p:nvSpPr>
        <p:spPr>
          <a:xfrm>
            <a:off x="4111560" y="1969920"/>
            <a:ext cx="4102200" cy="403704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9"/>
          <p:cNvSpPr/>
          <p:nvPr/>
        </p:nvSpPr>
        <p:spPr>
          <a:xfrm>
            <a:off x="2709720" y="2598840"/>
            <a:ext cx="1401840" cy="6778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10"/>
          <p:cNvSpPr/>
          <p:nvPr/>
        </p:nvSpPr>
        <p:spPr>
          <a:xfrm>
            <a:off x="1533600" y="3292560"/>
            <a:ext cx="257796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11"/>
          <p:cNvSpPr/>
          <p:nvPr/>
        </p:nvSpPr>
        <p:spPr>
          <a:xfrm>
            <a:off x="709560" y="4084560"/>
            <a:ext cx="3402000" cy="6969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2"/>
          <p:cNvSpPr/>
          <p:nvPr/>
        </p:nvSpPr>
        <p:spPr>
          <a:xfrm>
            <a:off x="1806480" y="4799160"/>
            <a:ext cx="230508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5"/>
          <p:cNvSpPr/>
          <p:nvPr/>
        </p:nvSpPr>
        <p:spPr>
          <a:xfrm>
            <a:off x="8213760" y="2598840"/>
            <a:ext cx="1803240" cy="7286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6"/>
          <p:cNvSpPr/>
          <p:nvPr/>
        </p:nvSpPr>
        <p:spPr>
          <a:xfrm>
            <a:off x="8213760" y="3338640"/>
            <a:ext cx="326880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7"/>
          <p:cNvSpPr/>
          <p:nvPr/>
        </p:nvSpPr>
        <p:spPr>
          <a:xfrm>
            <a:off x="8213760" y="4125960"/>
            <a:ext cx="2211480" cy="6602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8"/>
          <p:cNvSpPr/>
          <p:nvPr/>
        </p:nvSpPr>
        <p:spPr>
          <a:xfrm>
            <a:off x="8213760" y="4799160"/>
            <a:ext cx="266544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1"/>
          <p:cNvSpPr/>
          <p:nvPr/>
        </p:nvSpPr>
        <p:spPr>
          <a:xfrm>
            <a:off x="5945040" y="2317680"/>
            <a:ext cx="1924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219" name="矩形 1"/>
          <p:cNvSpPr/>
          <p:nvPr/>
        </p:nvSpPr>
        <p:spPr>
          <a:xfrm>
            <a:off x="4456080" y="4219560"/>
            <a:ext cx="1897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220" name="文本框 27"/>
          <p:cNvSpPr/>
          <p:nvPr/>
        </p:nvSpPr>
        <p:spPr>
          <a:xfrm>
            <a:off x="2876400" y="275256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1" name="文本框 28"/>
          <p:cNvSpPr/>
          <p:nvPr/>
        </p:nvSpPr>
        <p:spPr>
          <a:xfrm>
            <a:off x="245124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2" name="文本框 29"/>
          <p:cNvSpPr/>
          <p:nvPr/>
        </p:nvSpPr>
        <p:spPr>
          <a:xfrm>
            <a:off x="2255760" y="3529080"/>
            <a:ext cx="112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3" name="文本框 30"/>
          <p:cNvSpPr/>
          <p:nvPr/>
        </p:nvSpPr>
        <p:spPr>
          <a:xfrm>
            <a:off x="1932120" y="4265640"/>
            <a:ext cx="121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4" name="文本框 31"/>
          <p:cNvSpPr/>
          <p:nvPr/>
        </p:nvSpPr>
        <p:spPr>
          <a:xfrm>
            <a:off x="8948880" y="4984920"/>
            <a:ext cx="118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5" name="文本框 32"/>
          <p:cNvSpPr/>
          <p:nvPr/>
        </p:nvSpPr>
        <p:spPr>
          <a:xfrm>
            <a:off x="8683560" y="42861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6" name="文本框 33"/>
          <p:cNvSpPr/>
          <p:nvPr/>
        </p:nvSpPr>
        <p:spPr>
          <a:xfrm>
            <a:off x="9309240" y="3513240"/>
            <a:ext cx="11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7" name="文本框 34"/>
          <p:cNvSpPr/>
          <p:nvPr/>
        </p:nvSpPr>
        <p:spPr>
          <a:xfrm>
            <a:off x="8601120" y="278280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8" name="KSO_Shape"/>
          <p:cNvSpPr/>
          <p:nvPr/>
        </p:nvSpPr>
        <p:spPr>
          <a:xfrm>
            <a:off x="4915080" y="2403360"/>
            <a:ext cx="488880" cy="1293840"/>
          </a:xfrm>
          <a:custGeom>
            <a:avLst/>
            <a:gdLst>
              <a:gd name="textAreaLeft" fmla="*/ 0 w 488880"/>
              <a:gd name="textAreaRight" fmla="*/ 489240 w 48888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KSO_Shape"/>
          <p:cNvSpPr/>
          <p:nvPr/>
        </p:nvSpPr>
        <p:spPr>
          <a:xfrm>
            <a:off x="6726240" y="4336920"/>
            <a:ext cx="627120" cy="1295640"/>
          </a:xfrm>
          <a:custGeom>
            <a:avLst/>
            <a:gdLst>
              <a:gd name="textAreaLeft" fmla="*/ 0 w 627120"/>
              <a:gd name="textAreaRight" fmla="*/ 627480 w 62712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TextBox 42"/>
          <p:cNvSpPr/>
          <p:nvPr/>
        </p:nvSpPr>
        <p:spPr>
          <a:xfrm>
            <a:off x="5078520" y="996840"/>
            <a:ext cx="23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微软雅黑"/>
                <a:ea typeface="微软雅黑"/>
              </a:rPr>
              <a:t>点击添加文本</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椭圆 23"/>
          <p:cNvSpPr/>
          <p:nvPr/>
        </p:nvSpPr>
        <p:spPr>
          <a:xfrm>
            <a:off x="8508960" y="2397240"/>
            <a:ext cx="2651040" cy="2651040"/>
          </a:xfrm>
          <a:prstGeom prst="ellipse">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237"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238"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239"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240" name="直接连接符 30"/>
          <p:cNvSpPr/>
          <p:nvPr/>
        </p:nvSpPr>
        <p:spPr>
          <a:xfrm>
            <a:off x="137160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直接连接符 31"/>
          <p:cNvSpPr/>
          <p:nvPr/>
        </p:nvSpPr>
        <p:spPr>
          <a:xfrm>
            <a:off x="387504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直接连接符 32"/>
          <p:cNvSpPr/>
          <p:nvPr/>
        </p:nvSpPr>
        <p:spPr>
          <a:xfrm>
            <a:off x="635472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直接连接符 33"/>
          <p:cNvSpPr/>
          <p:nvPr/>
        </p:nvSpPr>
        <p:spPr>
          <a:xfrm>
            <a:off x="8847000" y="3218040"/>
            <a:ext cx="203220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5"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46"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7"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48"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9"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50"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51"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52" name="KSO_Shape"/>
          <p:cNvSpPr/>
          <p:nvPr/>
        </p:nvSpPr>
        <p:spPr>
          <a:xfrm>
            <a:off x="1852560" y="131760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KSO_Shape"/>
          <p:cNvSpPr/>
          <p:nvPr/>
        </p:nvSpPr>
        <p:spPr>
          <a:xfrm>
            <a:off x="1819440" y="5464080"/>
            <a:ext cx="473040" cy="474840"/>
          </a:xfrm>
          <a:custGeom>
            <a:avLst/>
            <a:gdLst>
              <a:gd name="textAreaLeft" fmla="*/ 0 w 473040"/>
              <a:gd name="textAreaRight" fmla="*/ 473400 w 473040"/>
              <a:gd name="textAreaTop" fmla="*/ 0 h 474840"/>
              <a:gd name="textAreaBottom" fmla="*/ 475200 h 4748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KSO_Shape"/>
          <p:cNvSpPr/>
          <p:nvPr/>
        </p:nvSpPr>
        <p:spPr>
          <a:xfrm flipH="1">
            <a:off x="10508400" y="1317600"/>
            <a:ext cx="474840" cy="473040"/>
          </a:xfrm>
          <a:custGeom>
            <a:avLst/>
            <a:gdLst>
              <a:gd name="textAreaLeft" fmla="*/ -360 w 474840"/>
              <a:gd name="textAreaRight" fmla="*/ 474840 w 4748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KSO_Shape"/>
          <p:cNvSpPr/>
          <p:nvPr/>
        </p:nvSpPr>
        <p:spPr>
          <a:xfrm flipH="1">
            <a:off x="10822680" y="5499000"/>
            <a:ext cx="473400" cy="473040"/>
          </a:xfrm>
          <a:custGeom>
            <a:avLst/>
            <a:gdLst>
              <a:gd name="textAreaLeft" fmla="*/ -360 w 473400"/>
              <a:gd name="textAreaRight" fmla="*/ 473400 w 47340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文本框 46"/>
          <p:cNvSpPr/>
          <p:nvPr/>
        </p:nvSpPr>
        <p:spPr>
          <a:xfrm>
            <a:off x="250452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257" name="TextBox 15"/>
          <p:cNvSpPr/>
          <p:nvPr/>
        </p:nvSpPr>
        <p:spPr>
          <a:xfrm>
            <a:off x="2463840" y="134460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58" name="文本框 48"/>
          <p:cNvSpPr/>
          <p:nvPr/>
        </p:nvSpPr>
        <p:spPr>
          <a:xfrm>
            <a:off x="2441160" y="51894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259" name="TextBox 15"/>
          <p:cNvSpPr/>
          <p:nvPr/>
        </p:nvSpPr>
        <p:spPr>
          <a:xfrm>
            <a:off x="2400480" y="546084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0" name="文本框 50"/>
          <p:cNvSpPr/>
          <p:nvPr/>
        </p:nvSpPr>
        <p:spPr>
          <a:xfrm>
            <a:off x="886716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261" name="TextBox 15"/>
          <p:cNvSpPr/>
          <p:nvPr/>
        </p:nvSpPr>
        <p:spPr>
          <a:xfrm>
            <a:off x="7000920" y="1344600"/>
            <a:ext cx="32335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2" name="文本框 52"/>
          <p:cNvSpPr/>
          <p:nvPr/>
        </p:nvSpPr>
        <p:spPr>
          <a:xfrm>
            <a:off x="9213120" y="520848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263" name="TextBox 15"/>
          <p:cNvSpPr/>
          <p:nvPr/>
        </p:nvSpPr>
        <p:spPr>
          <a:xfrm>
            <a:off x="7346880" y="5479920"/>
            <a:ext cx="32338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直接连接符 22"/>
          <p:cNvSpPr/>
          <p:nvPr/>
        </p:nvSpPr>
        <p:spPr>
          <a:xfrm flipV="1">
            <a:off x="3087720" y="425160"/>
            <a:ext cx="6145200" cy="595620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29"/>
          <p:cNvSpPr/>
          <p:nvPr/>
        </p:nvSpPr>
        <p:spPr>
          <a:xfrm flipV="1">
            <a:off x="5284800" y="1410840"/>
            <a:ext cx="4529160" cy="497052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30"/>
          <p:cNvSpPr/>
          <p:nvPr/>
        </p:nvSpPr>
        <p:spPr>
          <a:xfrm flipV="1">
            <a:off x="6732720" y="2568600"/>
            <a:ext cx="3655800" cy="381312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31"/>
          <p:cNvSpPr/>
          <p:nvPr/>
        </p:nvSpPr>
        <p:spPr>
          <a:xfrm flipV="1">
            <a:off x="8296200" y="3687480"/>
            <a:ext cx="2444760" cy="269388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组合 8"/>
          <p:cNvGrpSpPr/>
          <p:nvPr/>
        </p:nvGrpSpPr>
        <p:grpSpPr>
          <a:xfrm>
            <a:off x="3665520" y="1538280"/>
            <a:ext cx="4435560" cy="968400"/>
            <a:chOff x="3665520" y="1538280"/>
            <a:chExt cx="4435560" cy="968400"/>
          </a:xfrm>
        </p:grpSpPr>
        <p:sp>
          <p:nvSpPr>
            <p:cNvPr id="270" name="矩形 6"/>
            <p:cNvSpPr/>
            <p:nvPr/>
          </p:nvSpPr>
          <p:spPr>
            <a:xfrm>
              <a:off x="3665520" y="1538280"/>
              <a:ext cx="3503880" cy="968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直角三角形 7"/>
            <p:cNvSpPr/>
            <p:nvPr/>
          </p:nvSpPr>
          <p:spPr>
            <a:xfrm rot="5400000">
              <a:off x="7151040" y="1556640"/>
              <a:ext cx="968400" cy="93168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组合 9"/>
          <p:cNvGrpSpPr/>
          <p:nvPr/>
        </p:nvGrpSpPr>
        <p:grpSpPr>
          <a:xfrm>
            <a:off x="3665520" y="2506680"/>
            <a:ext cx="5144760" cy="969840"/>
            <a:chOff x="3665520" y="2506680"/>
            <a:chExt cx="5144760" cy="969840"/>
          </a:xfrm>
        </p:grpSpPr>
        <p:sp>
          <p:nvSpPr>
            <p:cNvPr id="273" name="矩形 10"/>
            <p:cNvSpPr/>
            <p:nvPr/>
          </p:nvSpPr>
          <p:spPr>
            <a:xfrm>
              <a:off x="3665520" y="2506680"/>
              <a:ext cx="4291560" cy="969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直角三角形 11"/>
            <p:cNvSpPr/>
            <p:nvPr/>
          </p:nvSpPr>
          <p:spPr>
            <a:xfrm rot="5400000">
              <a:off x="7898400" y="2564640"/>
              <a:ext cx="969840" cy="85356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组合 12"/>
          <p:cNvGrpSpPr/>
          <p:nvPr/>
        </p:nvGrpSpPr>
        <p:grpSpPr>
          <a:xfrm>
            <a:off x="3665520" y="3471840"/>
            <a:ext cx="5886360" cy="973080"/>
            <a:chOff x="3665520" y="3471840"/>
            <a:chExt cx="5886360" cy="973080"/>
          </a:xfrm>
        </p:grpSpPr>
        <p:sp>
          <p:nvSpPr>
            <p:cNvPr id="276" name="矩形 13"/>
            <p:cNvSpPr/>
            <p:nvPr/>
          </p:nvSpPr>
          <p:spPr>
            <a:xfrm>
              <a:off x="3665520" y="3475440"/>
              <a:ext cx="4974120" cy="9694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直角三角形 14"/>
            <p:cNvSpPr/>
            <p:nvPr/>
          </p:nvSpPr>
          <p:spPr>
            <a:xfrm rot="5400000">
              <a:off x="8609040" y="3502080"/>
              <a:ext cx="973080" cy="91224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组合 16"/>
          <p:cNvGrpSpPr/>
          <p:nvPr/>
        </p:nvGrpSpPr>
        <p:grpSpPr>
          <a:xfrm>
            <a:off x="3665520" y="4441680"/>
            <a:ext cx="6392520" cy="1000440"/>
            <a:chOff x="3665520" y="4441680"/>
            <a:chExt cx="6392520" cy="1000440"/>
          </a:xfrm>
        </p:grpSpPr>
        <p:sp>
          <p:nvSpPr>
            <p:cNvPr id="279" name="矩形 17"/>
            <p:cNvSpPr/>
            <p:nvPr/>
          </p:nvSpPr>
          <p:spPr>
            <a:xfrm>
              <a:off x="3665520" y="4441680"/>
              <a:ext cx="5509080" cy="10004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直角三角形 18"/>
            <p:cNvSpPr/>
            <p:nvPr/>
          </p:nvSpPr>
          <p:spPr>
            <a:xfrm rot="5400000">
              <a:off x="9115920" y="4500000"/>
              <a:ext cx="1000440" cy="88380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文本框 111"/>
          <p:cNvSpPr/>
          <p:nvPr/>
        </p:nvSpPr>
        <p:spPr>
          <a:xfrm>
            <a:off x="6351480" y="167004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1</a:t>
            </a:r>
            <a:endParaRPr b="0" lang="en-US" sz="4400" spc="-1" strike="noStrike">
              <a:solidFill>
                <a:srgbClr val="000000"/>
              </a:solidFill>
              <a:latin typeface="Arial"/>
            </a:endParaRPr>
          </a:p>
        </p:txBody>
      </p:sp>
      <p:sp>
        <p:nvSpPr>
          <p:cNvPr id="282" name="文本框 112"/>
          <p:cNvSpPr/>
          <p:nvPr/>
        </p:nvSpPr>
        <p:spPr>
          <a:xfrm>
            <a:off x="7086600" y="262080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2</a:t>
            </a:r>
            <a:endParaRPr b="0" lang="en-US" sz="4400" spc="-1" strike="noStrike">
              <a:solidFill>
                <a:srgbClr val="000000"/>
              </a:solidFill>
              <a:latin typeface="Arial"/>
            </a:endParaRPr>
          </a:p>
        </p:txBody>
      </p:sp>
      <p:sp>
        <p:nvSpPr>
          <p:cNvPr id="283" name="文本框 113"/>
          <p:cNvSpPr/>
          <p:nvPr/>
        </p:nvSpPr>
        <p:spPr>
          <a:xfrm>
            <a:off x="7797960" y="3622680"/>
            <a:ext cx="95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3</a:t>
            </a:r>
            <a:endParaRPr b="0" lang="en-US" sz="4400" spc="-1" strike="noStrike">
              <a:solidFill>
                <a:srgbClr val="000000"/>
              </a:solidFill>
              <a:latin typeface="Arial"/>
            </a:endParaRPr>
          </a:p>
        </p:txBody>
      </p:sp>
      <p:sp>
        <p:nvSpPr>
          <p:cNvPr id="284" name="文本框 114"/>
          <p:cNvSpPr/>
          <p:nvPr/>
        </p:nvSpPr>
        <p:spPr>
          <a:xfrm>
            <a:off x="8393040" y="459108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4</a:t>
            </a:r>
            <a:endParaRPr b="0" lang="en-US" sz="4400" spc="-1" strike="noStrike">
              <a:solidFill>
                <a:srgbClr val="000000"/>
              </a:solidFill>
              <a:latin typeface="Arial"/>
            </a:endParaRPr>
          </a:p>
        </p:txBody>
      </p:sp>
      <p:sp>
        <p:nvSpPr>
          <p:cNvPr id="285" name="文本框 115"/>
          <p:cNvSpPr/>
          <p:nvPr/>
        </p:nvSpPr>
        <p:spPr>
          <a:xfrm>
            <a:off x="4140360" y="173052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6" name="文本框 116"/>
          <p:cNvSpPr/>
          <p:nvPr/>
        </p:nvSpPr>
        <p:spPr>
          <a:xfrm>
            <a:off x="4081320" y="263196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7" name="文本框 117"/>
          <p:cNvSpPr/>
          <p:nvPr/>
        </p:nvSpPr>
        <p:spPr>
          <a:xfrm>
            <a:off x="4081320" y="359712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8" name="文本框 118"/>
          <p:cNvSpPr/>
          <p:nvPr/>
        </p:nvSpPr>
        <p:spPr>
          <a:xfrm>
            <a:off x="4092480" y="461808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9" name="KSO_Shape"/>
          <p:cNvSpPr/>
          <p:nvPr/>
        </p:nvSpPr>
        <p:spPr>
          <a:xfrm>
            <a:off x="2414520" y="1654200"/>
            <a:ext cx="828720" cy="615960"/>
          </a:xfrm>
          <a:custGeom>
            <a:avLst/>
            <a:gdLst>
              <a:gd name="textAreaLeft" fmla="*/ 0 w 828720"/>
              <a:gd name="textAreaRight" fmla="*/ 829080 w 828720"/>
              <a:gd name="textAreaTop" fmla="*/ 0 h 615960"/>
              <a:gd name="textAreaBottom" fmla="*/ 616320 h 615960"/>
            </a:gdLst>
            <a:ahLst/>
            <a:rect l="textAreaLeft" t="textAreaTop" r="textAreaRight" b="textAreaBottom"/>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96a787"/>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290" name="KSO_Shape"/>
          <p:cNvSpPr/>
          <p:nvPr/>
        </p:nvSpPr>
        <p:spPr>
          <a:xfrm>
            <a:off x="2465280" y="3587760"/>
            <a:ext cx="777960" cy="598320"/>
          </a:xfrm>
          <a:custGeom>
            <a:avLst/>
            <a:gdLst>
              <a:gd name="textAreaLeft" fmla="*/ 0 w 777960"/>
              <a:gd name="textAreaRight" fmla="*/ 778320 w 777960"/>
              <a:gd name="textAreaTop" fmla="*/ 0 h 598320"/>
              <a:gd name="textAreaBottom" fmla="*/ 598680 h 598320"/>
            </a:gdLst>
            <a:ahLst/>
            <a:rect l="textAreaLeft" t="textAreaTop" r="textAreaRight" b="textAreaBottom"/>
            <a:pathLst>
              <a:path w="3710374" h="2848566">
                <a:moveTo>
                  <a:pt x="132902" y="1177607"/>
                </a:moveTo>
                <a:cubicBezTo>
                  <a:pt x="206302" y="1177607"/>
                  <a:pt x="265804" y="1237109"/>
                  <a:pt x="265804" y="1310509"/>
                </a:cubicBezTo>
                <a:lnTo>
                  <a:pt x="265804" y="1822976"/>
                </a:lnTo>
                <a:cubicBezTo>
                  <a:pt x="265804" y="1896376"/>
                  <a:pt x="206302" y="1955878"/>
                  <a:pt x="132902" y="1955878"/>
                </a:cubicBezTo>
                <a:cubicBezTo>
                  <a:pt x="59502" y="1955878"/>
                  <a:pt x="0" y="1896376"/>
                  <a:pt x="0" y="1822976"/>
                </a:cubicBezTo>
                <a:lnTo>
                  <a:pt x="0" y="1310509"/>
                </a:lnTo>
                <a:cubicBezTo>
                  <a:pt x="0" y="1237109"/>
                  <a:pt x="59502" y="1177607"/>
                  <a:pt x="132902" y="1177607"/>
                </a:cubicBezTo>
                <a:close/>
                <a:moveTo>
                  <a:pt x="3676647" y="1014899"/>
                </a:moveTo>
                <a:cubicBezTo>
                  <a:pt x="3699953" y="1011726"/>
                  <a:pt x="3709766" y="1038156"/>
                  <a:pt x="3709762" y="1126078"/>
                </a:cubicBezTo>
                <a:lnTo>
                  <a:pt x="3709762" y="2733814"/>
                </a:lnTo>
                <a:cubicBezTo>
                  <a:pt x="3714789" y="2810852"/>
                  <a:pt x="3689665" y="2852720"/>
                  <a:pt x="3604255" y="2784056"/>
                </a:cubicBezTo>
                <a:cubicBezTo>
                  <a:pt x="3539382" y="2731902"/>
                  <a:pt x="3308368" y="2542961"/>
                  <a:pt x="3100502" y="2373078"/>
                </a:cubicBezTo>
                <a:lnTo>
                  <a:pt x="2983265" y="2373078"/>
                </a:lnTo>
                <a:lnTo>
                  <a:pt x="2983265" y="2692091"/>
                </a:lnTo>
                <a:cubicBezTo>
                  <a:pt x="2983265" y="2778510"/>
                  <a:pt x="2913209" y="2848566"/>
                  <a:pt x="2826790" y="2848566"/>
                </a:cubicBezTo>
                <a:lnTo>
                  <a:pt x="542844" y="2848566"/>
                </a:lnTo>
                <a:cubicBezTo>
                  <a:pt x="456425" y="2848566"/>
                  <a:pt x="386369" y="2778510"/>
                  <a:pt x="386369" y="2692091"/>
                </a:cubicBezTo>
                <a:lnTo>
                  <a:pt x="386369" y="1261585"/>
                </a:lnTo>
                <a:cubicBezTo>
                  <a:pt x="386369" y="1175166"/>
                  <a:pt x="456425" y="1105110"/>
                  <a:pt x="542844" y="1105110"/>
                </a:cubicBezTo>
                <a:lnTo>
                  <a:pt x="2826790" y="1105110"/>
                </a:lnTo>
                <a:cubicBezTo>
                  <a:pt x="2913209" y="1105110"/>
                  <a:pt x="2983265" y="1175166"/>
                  <a:pt x="2983265" y="1261585"/>
                </a:cubicBezTo>
                <a:lnTo>
                  <a:pt x="2983265" y="1470870"/>
                </a:lnTo>
                <a:lnTo>
                  <a:pt x="3095401" y="1470870"/>
                </a:lnTo>
                <a:cubicBezTo>
                  <a:pt x="3315877" y="1289257"/>
                  <a:pt x="3568799" y="1079374"/>
                  <a:pt x="3619327" y="1045691"/>
                </a:cubicBezTo>
                <a:cubicBezTo>
                  <a:pt x="3643821" y="1029362"/>
                  <a:pt x="3662662" y="1016802"/>
                  <a:pt x="3676647" y="1014899"/>
                </a:cubicBezTo>
                <a:close/>
                <a:moveTo>
                  <a:pt x="2266043" y="0"/>
                </a:moveTo>
                <a:cubicBezTo>
                  <a:pt x="2555481" y="0"/>
                  <a:pt x="2790117" y="234636"/>
                  <a:pt x="2790117" y="524074"/>
                </a:cubicBezTo>
                <a:cubicBezTo>
                  <a:pt x="2790117" y="813512"/>
                  <a:pt x="2555481" y="1048148"/>
                  <a:pt x="2266043" y="1048148"/>
                </a:cubicBezTo>
                <a:cubicBezTo>
                  <a:pt x="1976605" y="1048148"/>
                  <a:pt x="1741969" y="813512"/>
                  <a:pt x="1741969" y="524074"/>
                </a:cubicBezTo>
                <a:cubicBezTo>
                  <a:pt x="1741969" y="234636"/>
                  <a:pt x="1976605" y="0"/>
                  <a:pt x="2266043" y="0"/>
                </a:cubicBezTo>
                <a:close/>
                <a:moveTo>
                  <a:pt x="1041907" y="0"/>
                </a:moveTo>
                <a:cubicBezTo>
                  <a:pt x="1331345" y="0"/>
                  <a:pt x="1565981" y="234636"/>
                  <a:pt x="1565981" y="524074"/>
                </a:cubicBezTo>
                <a:cubicBezTo>
                  <a:pt x="1565981" y="813512"/>
                  <a:pt x="1331345" y="1048148"/>
                  <a:pt x="1041907" y="1048148"/>
                </a:cubicBezTo>
                <a:cubicBezTo>
                  <a:pt x="752469" y="1048148"/>
                  <a:pt x="517833" y="813512"/>
                  <a:pt x="517833" y="524074"/>
                </a:cubicBezTo>
                <a:cubicBezTo>
                  <a:pt x="517833" y="234636"/>
                  <a:pt x="752469" y="0"/>
                  <a:pt x="1041907"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KSO_Shape"/>
          <p:cNvSpPr/>
          <p:nvPr/>
        </p:nvSpPr>
        <p:spPr>
          <a:xfrm>
            <a:off x="2436840" y="2558880"/>
            <a:ext cx="725400" cy="719280"/>
          </a:xfrm>
          <a:custGeom>
            <a:avLst/>
            <a:gdLst>
              <a:gd name="textAreaLeft" fmla="*/ 0 w 725400"/>
              <a:gd name="textAreaRight" fmla="*/ 725760 w 725400"/>
              <a:gd name="textAreaTop" fmla="*/ 0 h 719280"/>
              <a:gd name="textAreaBottom" fmla="*/ 719640 h 719280"/>
            </a:gdLst>
            <a:ahLst/>
            <a:rect l="textAreaLeft" t="textAreaTop" r="textAreaRight" b="textAreaBottom"/>
            <a:pathLst>
              <a:path w="6242" h="6175">
                <a:moveTo>
                  <a:pt x="4339" y="3505"/>
                </a:moveTo>
                <a:lnTo>
                  <a:pt x="4339" y="6116"/>
                </a:lnTo>
                <a:lnTo>
                  <a:pt x="4339" y="6120"/>
                </a:lnTo>
                <a:lnTo>
                  <a:pt x="4341" y="6123"/>
                </a:lnTo>
                <a:lnTo>
                  <a:pt x="4345" y="6127"/>
                </a:lnTo>
                <a:lnTo>
                  <a:pt x="4351" y="6130"/>
                </a:lnTo>
                <a:lnTo>
                  <a:pt x="4364" y="6136"/>
                </a:lnTo>
                <a:lnTo>
                  <a:pt x="4383" y="6142"/>
                </a:lnTo>
                <a:lnTo>
                  <a:pt x="4406" y="6147"/>
                </a:lnTo>
                <a:lnTo>
                  <a:pt x="4435" y="6153"/>
                </a:lnTo>
                <a:lnTo>
                  <a:pt x="4466" y="6156"/>
                </a:lnTo>
                <a:lnTo>
                  <a:pt x="4501" y="6161"/>
                </a:lnTo>
                <a:lnTo>
                  <a:pt x="4579" y="6167"/>
                </a:lnTo>
                <a:lnTo>
                  <a:pt x="4667" y="6172"/>
                </a:lnTo>
                <a:lnTo>
                  <a:pt x="4762" y="6174"/>
                </a:lnTo>
                <a:lnTo>
                  <a:pt x="4858" y="6175"/>
                </a:lnTo>
                <a:lnTo>
                  <a:pt x="4955" y="6174"/>
                </a:lnTo>
                <a:lnTo>
                  <a:pt x="5048" y="6172"/>
                </a:lnTo>
                <a:lnTo>
                  <a:pt x="5136" y="6167"/>
                </a:lnTo>
                <a:lnTo>
                  <a:pt x="5215" y="6161"/>
                </a:lnTo>
                <a:lnTo>
                  <a:pt x="5250" y="6156"/>
                </a:lnTo>
                <a:lnTo>
                  <a:pt x="5282" y="6153"/>
                </a:lnTo>
                <a:lnTo>
                  <a:pt x="5309" y="6147"/>
                </a:lnTo>
                <a:lnTo>
                  <a:pt x="5333" y="6142"/>
                </a:lnTo>
                <a:lnTo>
                  <a:pt x="5352" y="6136"/>
                </a:lnTo>
                <a:lnTo>
                  <a:pt x="5366" y="6130"/>
                </a:lnTo>
                <a:lnTo>
                  <a:pt x="5370" y="6127"/>
                </a:lnTo>
                <a:lnTo>
                  <a:pt x="5374" y="6123"/>
                </a:lnTo>
                <a:lnTo>
                  <a:pt x="5376" y="6120"/>
                </a:lnTo>
                <a:lnTo>
                  <a:pt x="5378" y="6116"/>
                </a:lnTo>
                <a:lnTo>
                  <a:pt x="5378" y="3505"/>
                </a:lnTo>
                <a:lnTo>
                  <a:pt x="5376" y="3501"/>
                </a:lnTo>
                <a:lnTo>
                  <a:pt x="5374" y="3498"/>
                </a:lnTo>
                <a:lnTo>
                  <a:pt x="5370" y="3494"/>
                </a:lnTo>
                <a:lnTo>
                  <a:pt x="5366" y="3492"/>
                </a:lnTo>
                <a:lnTo>
                  <a:pt x="5352" y="3485"/>
                </a:lnTo>
                <a:lnTo>
                  <a:pt x="5333" y="3479"/>
                </a:lnTo>
                <a:lnTo>
                  <a:pt x="5309" y="3474"/>
                </a:lnTo>
                <a:lnTo>
                  <a:pt x="5282" y="3469"/>
                </a:lnTo>
                <a:lnTo>
                  <a:pt x="5250" y="3465"/>
                </a:lnTo>
                <a:lnTo>
                  <a:pt x="5215" y="3461"/>
                </a:lnTo>
                <a:lnTo>
                  <a:pt x="5136" y="3454"/>
                </a:lnTo>
                <a:lnTo>
                  <a:pt x="5048" y="3451"/>
                </a:lnTo>
                <a:lnTo>
                  <a:pt x="4955" y="3447"/>
                </a:lnTo>
                <a:lnTo>
                  <a:pt x="4858" y="3446"/>
                </a:lnTo>
                <a:lnTo>
                  <a:pt x="4762" y="3447"/>
                </a:lnTo>
                <a:lnTo>
                  <a:pt x="4667" y="3451"/>
                </a:lnTo>
                <a:lnTo>
                  <a:pt x="4579" y="3454"/>
                </a:lnTo>
                <a:lnTo>
                  <a:pt x="4501" y="3461"/>
                </a:lnTo>
                <a:lnTo>
                  <a:pt x="4466" y="3465"/>
                </a:lnTo>
                <a:lnTo>
                  <a:pt x="4435" y="3469"/>
                </a:lnTo>
                <a:lnTo>
                  <a:pt x="4406" y="3474"/>
                </a:lnTo>
                <a:lnTo>
                  <a:pt x="4383" y="3479"/>
                </a:lnTo>
                <a:lnTo>
                  <a:pt x="4364" y="3485"/>
                </a:lnTo>
                <a:lnTo>
                  <a:pt x="4351" y="3492"/>
                </a:lnTo>
                <a:lnTo>
                  <a:pt x="4345" y="3494"/>
                </a:lnTo>
                <a:lnTo>
                  <a:pt x="4341" y="3498"/>
                </a:lnTo>
                <a:lnTo>
                  <a:pt x="4339" y="3501"/>
                </a:lnTo>
                <a:lnTo>
                  <a:pt x="4339" y="3505"/>
                </a:lnTo>
                <a:close/>
                <a:moveTo>
                  <a:pt x="6153" y="4129"/>
                </a:moveTo>
                <a:lnTo>
                  <a:pt x="6153" y="3003"/>
                </a:lnTo>
                <a:lnTo>
                  <a:pt x="6152" y="2921"/>
                </a:lnTo>
                <a:lnTo>
                  <a:pt x="6150" y="2841"/>
                </a:lnTo>
                <a:lnTo>
                  <a:pt x="6145" y="2761"/>
                </a:lnTo>
                <a:lnTo>
                  <a:pt x="6138" y="2682"/>
                </a:lnTo>
                <a:lnTo>
                  <a:pt x="6130" y="2604"/>
                </a:lnTo>
                <a:lnTo>
                  <a:pt x="6120" y="2527"/>
                </a:lnTo>
                <a:lnTo>
                  <a:pt x="6108" y="2450"/>
                </a:lnTo>
                <a:lnTo>
                  <a:pt x="6095" y="2374"/>
                </a:lnTo>
                <a:lnTo>
                  <a:pt x="6080" y="2300"/>
                </a:lnTo>
                <a:lnTo>
                  <a:pt x="6063" y="2225"/>
                </a:lnTo>
                <a:lnTo>
                  <a:pt x="6044" y="2152"/>
                </a:lnTo>
                <a:lnTo>
                  <a:pt x="6024" y="2079"/>
                </a:lnTo>
                <a:lnTo>
                  <a:pt x="6002" y="2008"/>
                </a:lnTo>
                <a:lnTo>
                  <a:pt x="5978" y="1937"/>
                </a:lnTo>
                <a:lnTo>
                  <a:pt x="5953" y="1868"/>
                </a:lnTo>
                <a:lnTo>
                  <a:pt x="5927" y="1800"/>
                </a:lnTo>
                <a:lnTo>
                  <a:pt x="5899" y="1732"/>
                </a:lnTo>
                <a:lnTo>
                  <a:pt x="5868" y="1666"/>
                </a:lnTo>
                <a:lnTo>
                  <a:pt x="5837" y="1600"/>
                </a:lnTo>
                <a:lnTo>
                  <a:pt x="5804" y="1536"/>
                </a:lnTo>
                <a:lnTo>
                  <a:pt x="5770" y="1472"/>
                </a:lnTo>
                <a:lnTo>
                  <a:pt x="5734" y="1410"/>
                </a:lnTo>
                <a:lnTo>
                  <a:pt x="5696" y="1349"/>
                </a:lnTo>
                <a:lnTo>
                  <a:pt x="5657" y="1288"/>
                </a:lnTo>
                <a:lnTo>
                  <a:pt x="5617" y="1229"/>
                </a:lnTo>
                <a:lnTo>
                  <a:pt x="5575" y="1171"/>
                </a:lnTo>
                <a:lnTo>
                  <a:pt x="5533" y="1114"/>
                </a:lnTo>
                <a:lnTo>
                  <a:pt x="5488" y="1059"/>
                </a:lnTo>
                <a:lnTo>
                  <a:pt x="5442" y="1005"/>
                </a:lnTo>
                <a:lnTo>
                  <a:pt x="5394" y="952"/>
                </a:lnTo>
                <a:lnTo>
                  <a:pt x="5346" y="900"/>
                </a:lnTo>
                <a:lnTo>
                  <a:pt x="5296" y="849"/>
                </a:lnTo>
                <a:lnTo>
                  <a:pt x="5245" y="799"/>
                </a:lnTo>
                <a:lnTo>
                  <a:pt x="5193" y="752"/>
                </a:lnTo>
                <a:lnTo>
                  <a:pt x="5140" y="704"/>
                </a:lnTo>
                <a:lnTo>
                  <a:pt x="5085" y="659"/>
                </a:lnTo>
                <a:lnTo>
                  <a:pt x="5028" y="616"/>
                </a:lnTo>
                <a:lnTo>
                  <a:pt x="4971" y="573"/>
                </a:lnTo>
                <a:lnTo>
                  <a:pt x="4913" y="532"/>
                </a:lnTo>
                <a:lnTo>
                  <a:pt x="4853" y="491"/>
                </a:lnTo>
                <a:lnTo>
                  <a:pt x="4793" y="453"/>
                </a:lnTo>
                <a:lnTo>
                  <a:pt x="4731" y="416"/>
                </a:lnTo>
                <a:lnTo>
                  <a:pt x="4668" y="380"/>
                </a:lnTo>
                <a:lnTo>
                  <a:pt x="4603" y="347"/>
                </a:lnTo>
                <a:lnTo>
                  <a:pt x="4539" y="314"/>
                </a:lnTo>
                <a:lnTo>
                  <a:pt x="4473" y="283"/>
                </a:lnTo>
                <a:lnTo>
                  <a:pt x="4405" y="253"/>
                </a:lnTo>
                <a:lnTo>
                  <a:pt x="4337" y="225"/>
                </a:lnTo>
                <a:lnTo>
                  <a:pt x="4268" y="199"/>
                </a:lnTo>
                <a:lnTo>
                  <a:pt x="4198" y="173"/>
                </a:lnTo>
                <a:lnTo>
                  <a:pt x="4127" y="150"/>
                </a:lnTo>
                <a:lnTo>
                  <a:pt x="4055" y="128"/>
                </a:lnTo>
                <a:lnTo>
                  <a:pt x="3981" y="108"/>
                </a:lnTo>
                <a:lnTo>
                  <a:pt x="3908" y="90"/>
                </a:lnTo>
                <a:lnTo>
                  <a:pt x="3833" y="73"/>
                </a:lnTo>
                <a:lnTo>
                  <a:pt x="3758" y="58"/>
                </a:lnTo>
                <a:lnTo>
                  <a:pt x="3681" y="45"/>
                </a:lnTo>
                <a:lnTo>
                  <a:pt x="3604" y="33"/>
                </a:lnTo>
                <a:lnTo>
                  <a:pt x="3525" y="24"/>
                </a:lnTo>
                <a:lnTo>
                  <a:pt x="3446" y="15"/>
                </a:lnTo>
                <a:lnTo>
                  <a:pt x="3367" y="8"/>
                </a:lnTo>
                <a:lnTo>
                  <a:pt x="3286" y="3"/>
                </a:lnTo>
                <a:lnTo>
                  <a:pt x="3205" y="1"/>
                </a:lnTo>
                <a:lnTo>
                  <a:pt x="3123" y="0"/>
                </a:lnTo>
                <a:lnTo>
                  <a:pt x="3041" y="1"/>
                </a:lnTo>
                <a:lnTo>
                  <a:pt x="2959" y="3"/>
                </a:lnTo>
                <a:lnTo>
                  <a:pt x="2879" y="8"/>
                </a:lnTo>
                <a:lnTo>
                  <a:pt x="2799" y="15"/>
                </a:lnTo>
                <a:lnTo>
                  <a:pt x="2720" y="24"/>
                </a:lnTo>
                <a:lnTo>
                  <a:pt x="2642" y="33"/>
                </a:lnTo>
                <a:lnTo>
                  <a:pt x="2565" y="45"/>
                </a:lnTo>
                <a:lnTo>
                  <a:pt x="2488" y="58"/>
                </a:lnTo>
                <a:lnTo>
                  <a:pt x="2412" y="73"/>
                </a:lnTo>
                <a:lnTo>
                  <a:pt x="2338" y="90"/>
                </a:lnTo>
                <a:lnTo>
                  <a:pt x="2264" y="108"/>
                </a:lnTo>
                <a:lnTo>
                  <a:pt x="2191" y="128"/>
                </a:lnTo>
                <a:lnTo>
                  <a:pt x="2119" y="150"/>
                </a:lnTo>
                <a:lnTo>
                  <a:pt x="2048" y="173"/>
                </a:lnTo>
                <a:lnTo>
                  <a:pt x="1978" y="199"/>
                </a:lnTo>
                <a:lnTo>
                  <a:pt x="1909" y="225"/>
                </a:lnTo>
                <a:lnTo>
                  <a:pt x="1840" y="253"/>
                </a:lnTo>
                <a:lnTo>
                  <a:pt x="1773" y="283"/>
                </a:lnTo>
                <a:lnTo>
                  <a:pt x="1706" y="314"/>
                </a:lnTo>
                <a:lnTo>
                  <a:pt x="1641" y="347"/>
                </a:lnTo>
                <a:lnTo>
                  <a:pt x="1577" y="380"/>
                </a:lnTo>
                <a:lnTo>
                  <a:pt x="1515" y="416"/>
                </a:lnTo>
                <a:lnTo>
                  <a:pt x="1453" y="453"/>
                </a:lnTo>
                <a:lnTo>
                  <a:pt x="1393" y="491"/>
                </a:lnTo>
                <a:lnTo>
                  <a:pt x="1332" y="532"/>
                </a:lnTo>
                <a:lnTo>
                  <a:pt x="1274" y="573"/>
                </a:lnTo>
                <a:lnTo>
                  <a:pt x="1217" y="616"/>
                </a:lnTo>
                <a:lnTo>
                  <a:pt x="1161" y="659"/>
                </a:lnTo>
                <a:lnTo>
                  <a:pt x="1106" y="704"/>
                </a:lnTo>
                <a:lnTo>
                  <a:pt x="1053" y="752"/>
                </a:lnTo>
                <a:lnTo>
                  <a:pt x="1001" y="799"/>
                </a:lnTo>
                <a:lnTo>
                  <a:pt x="950" y="849"/>
                </a:lnTo>
                <a:lnTo>
                  <a:pt x="899" y="900"/>
                </a:lnTo>
                <a:lnTo>
                  <a:pt x="851" y="952"/>
                </a:lnTo>
                <a:lnTo>
                  <a:pt x="804" y="1005"/>
                </a:lnTo>
                <a:lnTo>
                  <a:pt x="758" y="1059"/>
                </a:lnTo>
                <a:lnTo>
                  <a:pt x="713" y="1114"/>
                </a:lnTo>
                <a:lnTo>
                  <a:pt x="670" y="1171"/>
                </a:lnTo>
                <a:lnTo>
                  <a:pt x="629" y="1229"/>
                </a:lnTo>
                <a:lnTo>
                  <a:pt x="589" y="1288"/>
                </a:lnTo>
                <a:lnTo>
                  <a:pt x="549" y="1349"/>
                </a:lnTo>
                <a:lnTo>
                  <a:pt x="512" y="1410"/>
                </a:lnTo>
                <a:lnTo>
                  <a:pt x="476" y="1472"/>
                </a:lnTo>
                <a:lnTo>
                  <a:pt x="442" y="1536"/>
                </a:lnTo>
                <a:lnTo>
                  <a:pt x="409" y="1600"/>
                </a:lnTo>
                <a:lnTo>
                  <a:pt x="378" y="1666"/>
                </a:lnTo>
                <a:lnTo>
                  <a:pt x="347" y="1732"/>
                </a:lnTo>
                <a:lnTo>
                  <a:pt x="319" y="1800"/>
                </a:lnTo>
                <a:lnTo>
                  <a:pt x="292" y="1868"/>
                </a:lnTo>
                <a:lnTo>
                  <a:pt x="268" y="1937"/>
                </a:lnTo>
                <a:lnTo>
                  <a:pt x="244" y="2008"/>
                </a:lnTo>
                <a:lnTo>
                  <a:pt x="221" y="2079"/>
                </a:lnTo>
                <a:lnTo>
                  <a:pt x="201" y="2152"/>
                </a:lnTo>
                <a:lnTo>
                  <a:pt x="182" y="2225"/>
                </a:lnTo>
                <a:lnTo>
                  <a:pt x="166" y="2300"/>
                </a:lnTo>
                <a:lnTo>
                  <a:pt x="150" y="2374"/>
                </a:lnTo>
                <a:lnTo>
                  <a:pt x="137" y="2450"/>
                </a:lnTo>
                <a:lnTo>
                  <a:pt x="126" y="2527"/>
                </a:lnTo>
                <a:lnTo>
                  <a:pt x="116" y="2604"/>
                </a:lnTo>
                <a:lnTo>
                  <a:pt x="108" y="2682"/>
                </a:lnTo>
                <a:lnTo>
                  <a:pt x="101" y="2761"/>
                </a:lnTo>
                <a:lnTo>
                  <a:pt x="96" y="2841"/>
                </a:lnTo>
                <a:lnTo>
                  <a:pt x="94" y="2921"/>
                </a:lnTo>
                <a:lnTo>
                  <a:pt x="92" y="3003"/>
                </a:lnTo>
                <a:lnTo>
                  <a:pt x="92" y="4123"/>
                </a:lnTo>
                <a:lnTo>
                  <a:pt x="79" y="4157"/>
                </a:lnTo>
                <a:lnTo>
                  <a:pt x="67" y="4193"/>
                </a:lnTo>
                <a:lnTo>
                  <a:pt x="57" y="4231"/>
                </a:lnTo>
                <a:lnTo>
                  <a:pt x="47" y="4269"/>
                </a:lnTo>
                <a:lnTo>
                  <a:pt x="39" y="4308"/>
                </a:lnTo>
                <a:lnTo>
                  <a:pt x="31" y="4348"/>
                </a:lnTo>
                <a:lnTo>
                  <a:pt x="25" y="4390"/>
                </a:lnTo>
                <a:lnTo>
                  <a:pt x="19" y="4431"/>
                </a:lnTo>
                <a:lnTo>
                  <a:pt x="14" y="4475"/>
                </a:lnTo>
                <a:lnTo>
                  <a:pt x="9" y="4519"/>
                </a:lnTo>
                <a:lnTo>
                  <a:pt x="7" y="4564"/>
                </a:lnTo>
                <a:lnTo>
                  <a:pt x="5" y="4610"/>
                </a:lnTo>
                <a:lnTo>
                  <a:pt x="1" y="4703"/>
                </a:lnTo>
                <a:lnTo>
                  <a:pt x="0" y="4799"/>
                </a:lnTo>
                <a:lnTo>
                  <a:pt x="1" y="4903"/>
                </a:lnTo>
                <a:lnTo>
                  <a:pt x="2" y="4954"/>
                </a:lnTo>
                <a:lnTo>
                  <a:pt x="5" y="5005"/>
                </a:lnTo>
                <a:lnTo>
                  <a:pt x="8" y="5055"/>
                </a:lnTo>
                <a:lnTo>
                  <a:pt x="12" y="5104"/>
                </a:lnTo>
                <a:lnTo>
                  <a:pt x="17" y="5151"/>
                </a:lnTo>
                <a:lnTo>
                  <a:pt x="22" y="5197"/>
                </a:lnTo>
                <a:lnTo>
                  <a:pt x="30" y="5242"/>
                </a:lnTo>
                <a:lnTo>
                  <a:pt x="37" y="5287"/>
                </a:lnTo>
                <a:lnTo>
                  <a:pt x="46" y="5330"/>
                </a:lnTo>
                <a:lnTo>
                  <a:pt x="57" y="5371"/>
                </a:lnTo>
                <a:lnTo>
                  <a:pt x="69" y="5411"/>
                </a:lnTo>
                <a:lnTo>
                  <a:pt x="82" y="5449"/>
                </a:lnTo>
                <a:lnTo>
                  <a:pt x="96" y="5487"/>
                </a:lnTo>
                <a:lnTo>
                  <a:pt x="112" y="5523"/>
                </a:lnTo>
                <a:lnTo>
                  <a:pt x="130" y="5556"/>
                </a:lnTo>
                <a:lnTo>
                  <a:pt x="150" y="5589"/>
                </a:lnTo>
                <a:lnTo>
                  <a:pt x="172" y="5619"/>
                </a:lnTo>
                <a:lnTo>
                  <a:pt x="194" y="5647"/>
                </a:lnTo>
                <a:lnTo>
                  <a:pt x="219" y="5674"/>
                </a:lnTo>
                <a:lnTo>
                  <a:pt x="233" y="5686"/>
                </a:lnTo>
                <a:lnTo>
                  <a:pt x="246" y="5698"/>
                </a:lnTo>
                <a:lnTo>
                  <a:pt x="261" y="5710"/>
                </a:lnTo>
                <a:lnTo>
                  <a:pt x="276" y="5722"/>
                </a:lnTo>
                <a:lnTo>
                  <a:pt x="291" y="5731"/>
                </a:lnTo>
                <a:lnTo>
                  <a:pt x="307" y="5742"/>
                </a:lnTo>
                <a:lnTo>
                  <a:pt x="323" y="5751"/>
                </a:lnTo>
                <a:lnTo>
                  <a:pt x="340" y="5760"/>
                </a:lnTo>
                <a:lnTo>
                  <a:pt x="358" y="5768"/>
                </a:lnTo>
                <a:lnTo>
                  <a:pt x="375" y="5776"/>
                </a:lnTo>
                <a:lnTo>
                  <a:pt x="394" y="5783"/>
                </a:lnTo>
                <a:lnTo>
                  <a:pt x="413" y="5790"/>
                </a:lnTo>
                <a:lnTo>
                  <a:pt x="433" y="5796"/>
                </a:lnTo>
                <a:lnTo>
                  <a:pt x="455" y="5801"/>
                </a:lnTo>
                <a:lnTo>
                  <a:pt x="475" y="5806"/>
                </a:lnTo>
                <a:lnTo>
                  <a:pt x="497" y="5811"/>
                </a:lnTo>
                <a:lnTo>
                  <a:pt x="520" y="5814"/>
                </a:lnTo>
                <a:lnTo>
                  <a:pt x="542" y="5816"/>
                </a:lnTo>
                <a:lnTo>
                  <a:pt x="590" y="5821"/>
                </a:lnTo>
                <a:lnTo>
                  <a:pt x="641" y="5822"/>
                </a:lnTo>
                <a:lnTo>
                  <a:pt x="641" y="3776"/>
                </a:lnTo>
                <a:lnTo>
                  <a:pt x="597" y="3777"/>
                </a:lnTo>
                <a:lnTo>
                  <a:pt x="554" y="3781"/>
                </a:lnTo>
                <a:lnTo>
                  <a:pt x="554" y="3003"/>
                </a:lnTo>
                <a:lnTo>
                  <a:pt x="555" y="2933"/>
                </a:lnTo>
                <a:lnTo>
                  <a:pt x="558" y="2864"/>
                </a:lnTo>
                <a:lnTo>
                  <a:pt x="561" y="2796"/>
                </a:lnTo>
                <a:lnTo>
                  <a:pt x="566" y="2728"/>
                </a:lnTo>
                <a:lnTo>
                  <a:pt x="573" y="2661"/>
                </a:lnTo>
                <a:lnTo>
                  <a:pt x="581" y="2594"/>
                </a:lnTo>
                <a:lnTo>
                  <a:pt x="591" y="2529"/>
                </a:lnTo>
                <a:lnTo>
                  <a:pt x="603" y="2464"/>
                </a:lnTo>
                <a:lnTo>
                  <a:pt x="616" y="2400"/>
                </a:lnTo>
                <a:lnTo>
                  <a:pt x="630" y="2337"/>
                </a:lnTo>
                <a:lnTo>
                  <a:pt x="645" y="2275"/>
                </a:lnTo>
                <a:lnTo>
                  <a:pt x="662" y="2213"/>
                </a:lnTo>
                <a:lnTo>
                  <a:pt x="680" y="2152"/>
                </a:lnTo>
                <a:lnTo>
                  <a:pt x="700" y="2092"/>
                </a:lnTo>
                <a:lnTo>
                  <a:pt x="721" y="2033"/>
                </a:lnTo>
                <a:lnTo>
                  <a:pt x="742" y="1975"/>
                </a:lnTo>
                <a:lnTo>
                  <a:pt x="766" y="1917"/>
                </a:lnTo>
                <a:lnTo>
                  <a:pt x="792" y="1861"/>
                </a:lnTo>
                <a:lnTo>
                  <a:pt x="818" y="1806"/>
                </a:lnTo>
                <a:lnTo>
                  <a:pt x="846" y="1751"/>
                </a:lnTo>
                <a:lnTo>
                  <a:pt x="874" y="1697"/>
                </a:lnTo>
                <a:lnTo>
                  <a:pt x="905" y="1645"/>
                </a:lnTo>
                <a:lnTo>
                  <a:pt x="936" y="1593"/>
                </a:lnTo>
                <a:lnTo>
                  <a:pt x="969" y="1542"/>
                </a:lnTo>
                <a:lnTo>
                  <a:pt x="1002" y="1492"/>
                </a:lnTo>
                <a:lnTo>
                  <a:pt x="1037" y="1443"/>
                </a:lnTo>
                <a:lnTo>
                  <a:pt x="1073" y="1395"/>
                </a:lnTo>
                <a:lnTo>
                  <a:pt x="1111" y="1349"/>
                </a:lnTo>
                <a:lnTo>
                  <a:pt x="1149" y="1302"/>
                </a:lnTo>
                <a:lnTo>
                  <a:pt x="1189" y="1257"/>
                </a:lnTo>
                <a:lnTo>
                  <a:pt x="1229" y="1214"/>
                </a:lnTo>
                <a:lnTo>
                  <a:pt x="1272" y="1171"/>
                </a:lnTo>
                <a:lnTo>
                  <a:pt x="1314" y="1130"/>
                </a:lnTo>
                <a:lnTo>
                  <a:pt x="1358" y="1089"/>
                </a:lnTo>
                <a:lnTo>
                  <a:pt x="1403" y="1050"/>
                </a:lnTo>
                <a:lnTo>
                  <a:pt x="1451" y="1012"/>
                </a:lnTo>
                <a:lnTo>
                  <a:pt x="1498" y="976"/>
                </a:lnTo>
                <a:lnTo>
                  <a:pt x="1545" y="940"/>
                </a:lnTo>
                <a:lnTo>
                  <a:pt x="1595" y="905"/>
                </a:lnTo>
                <a:lnTo>
                  <a:pt x="1646" y="871"/>
                </a:lnTo>
                <a:lnTo>
                  <a:pt x="1697" y="839"/>
                </a:lnTo>
                <a:lnTo>
                  <a:pt x="1749" y="809"/>
                </a:lnTo>
                <a:lnTo>
                  <a:pt x="1802" y="779"/>
                </a:lnTo>
                <a:lnTo>
                  <a:pt x="1857" y="751"/>
                </a:lnTo>
                <a:lnTo>
                  <a:pt x="1913" y="723"/>
                </a:lnTo>
                <a:lnTo>
                  <a:pt x="1968" y="697"/>
                </a:lnTo>
                <a:lnTo>
                  <a:pt x="2025" y="673"/>
                </a:lnTo>
                <a:lnTo>
                  <a:pt x="2083" y="649"/>
                </a:lnTo>
                <a:lnTo>
                  <a:pt x="2142" y="626"/>
                </a:lnTo>
                <a:lnTo>
                  <a:pt x="2203" y="606"/>
                </a:lnTo>
                <a:lnTo>
                  <a:pt x="2263" y="586"/>
                </a:lnTo>
                <a:lnTo>
                  <a:pt x="2325" y="568"/>
                </a:lnTo>
                <a:lnTo>
                  <a:pt x="2386" y="552"/>
                </a:lnTo>
                <a:lnTo>
                  <a:pt x="2450" y="536"/>
                </a:lnTo>
                <a:lnTo>
                  <a:pt x="2514" y="522"/>
                </a:lnTo>
                <a:lnTo>
                  <a:pt x="2578" y="510"/>
                </a:lnTo>
                <a:lnTo>
                  <a:pt x="2643" y="500"/>
                </a:lnTo>
                <a:lnTo>
                  <a:pt x="2709" y="489"/>
                </a:lnTo>
                <a:lnTo>
                  <a:pt x="2777" y="481"/>
                </a:lnTo>
                <a:lnTo>
                  <a:pt x="2844" y="475"/>
                </a:lnTo>
                <a:lnTo>
                  <a:pt x="2913" y="469"/>
                </a:lnTo>
                <a:lnTo>
                  <a:pt x="2982" y="465"/>
                </a:lnTo>
                <a:lnTo>
                  <a:pt x="3052" y="463"/>
                </a:lnTo>
                <a:lnTo>
                  <a:pt x="3123" y="462"/>
                </a:lnTo>
                <a:lnTo>
                  <a:pt x="3194" y="463"/>
                </a:lnTo>
                <a:lnTo>
                  <a:pt x="3264" y="465"/>
                </a:lnTo>
                <a:lnTo>
                  <a:pt x="3332" y="469"/>
                </a:lnTo>
                <a:lnTo>
                  <a:pt x="3401" y="475"/>
                </a:lnTo>
                <a:lnTo>
                  <a:pt x="3469" y="481"/>
                </a:lnTo>
                <a:lnTo>
                  <a:pt x="3536" y="489"/>
                </a:lnTo>
                <a:lnTo>
                  <a:pt x="3601" y="500"/>
                </a:lnTo>
                <a:lnTo>
                  <a:pt x="3668" y="510"/>
                </a:lnTo>
                <a:lnTo>
                  <a:pt x="3731" y="522"/>
                </a:lnTo>
                <a:lnTo>
                  <a:pt x="3795" y="536"/>
                </a:lnTo>
                <a:lnTo>
                  <a:pt x="3859" y="552"/>
                </a:lnTo>
                <a:lnTo>
                  <a:pt x="3921" y="568"/>
                </a:lnTo>
                <a:lnTo>
                  <a:pt x="3983" y="586"/>
                </a:lnTo>
                <a:lnTo>
                  <a:pt x="4043" y="606"/>
                </a:lnTo>
                <a:lnTo>
                  <a:pt x="4103" y="626"/>
                </a:lnTo>
                <a:lnTo>
                  <a:pt x="4161" y="649"/>
                </a:lnTo>
                <a:lnTo>
                  <a:pt x="4219" y="673"/>
                </a:lnTo>
                <a:lnTo>
                  <a:pt x="4277" y="697"/>
                </a:lnTo>
                <a:lnTo>
                  <a:pt x="4333" y="723"/>
                </a:lnTo>
                <a:lnTo>
                  <a:pt x="4389" y="751"/>
                </a:lnTo>
                <a:lnTo>
                  <a:pt x="4443" y="779"/>
                </a:lnTo>
                <a:lnTo>
                  <a:pt x="4497" y="809"/>
                </a:lnTo>
                <a:lnTo>
                  <a:pt x="4549" y="839"/>
                </a:lnTo>
                <a:lnTo>
                  <a:pt x="4600" y="871"/>
                </a:lnTo>
                <a:lnTo>
                  <a:pt x="4650" y="905"/>
                </a:lnTo>
                <a:lnTo>
                  <a:pt x="4699" y="940"/>
                </a:lnTo>
                <a:lnTo>
                  <a:pt x="4748" y="976"/>
                </a:lnTo>
                <a:lnTo>
                  <a:pt x="4795" y="1012"/>
                </a:lnTo>
                <a:lnTo>
                  <a:pt x="4841" y="1050"/>
                </a:lnTo>
                <a:lnTo>
                  <a:pt x="4886" y="1089"/>
                </a:lnTo>
                <a:lnTo>
                  <a:pt x="4931" y="1130"/>
                </a:lnTo>
                <a:lnTo>
                  <a:pt x="4974" y="1171"/>
                </a:lnTo>
                <a:lnTo>
                  <a:pt x="5015" y="1214"/>
                </a:lnTo>
                <a:lnTo>
                  <a:pt x="5057" y="1257"/>
                </a:lnTo>
                <a:lnTo>
                  <a:pt x="5096" y="1302"/>
                </a:lnTo>
                <a:lnTo>
                  <a:pt x="5135" y="1349"/>
                </a:lnTo>
                <a:lnTo>
                  <a:pt x="5172" y="1395"/>
                </a:lnTo>
                <a:lnTo>
                  <a:pt x="5208" y="1443"/>
                </a:lnTo>
                <a:lnTo>
                  <a:pt x="5244" y="1492"/>
                </a:lnTo>
                <a:lnTo>
                  <a:pt x="5277" y="1542"/>
                </a:lnTo>
                <a:lnTo>
                  <a:pt x="5310" y="1593"/>
                </a:lnTo>
                <a:lnTo>
                  <a:pt x="5341" y="1645"/>
                </a:lnTo>
                <a:lnTo>
                  <a:pt x="5370" y="1697"/>
                </a:lnTo>
                <a:lnTo>
                  <a:pt x="5400" y="1751"/>
                </a:lnTo>
                <a:lnTo>
                  <a:pt x="5427" y="1806"/>
                </a:lnTo>
                <a:lnTo>
                  <a:pt x="5453" y="1861"/>
                </a:lnTo>
                <a:lnTo>
                  <a:pt x="5478" y="1917"/>
                </a:lnTo>
                <a:lnTo>
                  <a:pt x="5502" y="1975"/>
                </a:lnTo>
                <a:lnTo>
                  <a:pt x="5524" y="2033"/>
                </a:lnTo>
                <a:lnTo>
                  <a:pt x="5546" y="2092"/>
                </a:lnTo>
                <a:lnTo>
                  <a:pt x="5565" y="2152"/>
                </a:lnTo>
                <a:lnTo>
                  <a:pt x="5584" y="2213"/>
                </a:lnTo>
                <a:lnTo>
                  <a:pt x="5600" y="2275"/>
                </a:lnTo>
                <a:lnTo>
                  <a:pt x="5616" y="2337"/>
                </a:lnTo>
                <a:lnTo>
                  <a:pt x="5630" y="2400"/>
                </a:lnTo>
                <a:lnTo>
                  <a:pt x="5643" y="2464"/>
                </a:lnTo>
                <a:lnTo>
                  <a:pt x="5653" y="2529"/>
                </a:lnTo>
                <a:lnTo>
                  <a:pt x="5663" y="2594"/>
                </a:lnTo>
                <a:lnTo>
                  <a:pt x="5671" y="2661"/>
                </a:lnTo>
                <a:lnTo>
                  <a:pt x="5678" y="2728"/>
                </a:lnTo>
                <a:lnTo>
                  <a:pt x="5684" y="2796"/>
                </a:lnTo>
                <a:lnTo>
                  <a:pt x="5688" y="2864"/>
                </a:lnTo>
                <a:lnTo>
                  <a:pt x="5690" y="2933"/>
                </a:lnTo>
                <a:lnTo>
                  <a:pt x="5691" y="3003"/>
                </a:lnTo>
                <a:lnTo>
                  <a:pt x="5691" y="3779"/>
                </a:lnTo>
                <a:lnTo>
                  <a:pt x="5646" y="3775"/>
                </a:lnTo>
                <a:lnTo>
                  <a:pt x="5601" y="3774"/>
                </a:lnTo>
                <a:lnTo>
                  <a:pt x="5601" y="5819"/>
                </a:lnTo>
                <a:lnTo>
                  <a:pt x="5651" y="5818"/>
                </a:lnTo>
                <a:lnTo>
                  <a:pt x="5700" y="5814"/>
                </a:lnTo>
                <a:lnTo>
                  <a:pt x="5722" y="5811"/>
                </a:lnTo>
                <a:lnTo>
                  <a:pt x="5745" y="5807"/>
                </a:lnTo>
                <a:lnTo>
                  <a:pt x="5766" y="5803"/>
                </a:lnTo>
                <a:lnTo>
                  <a:pt x="5787" y="5799"/>
                </a:lnTo>
                <a:lnTo>
                  <a:pt x="5809" y="5793"/>
                </a:lnTo>
                <a:lnTo>
                  <a:pt x="5828" y="5787"/>
                </a:lnTo>
                <a:lnTo>
                  <a:pt x="5848" y="5780"/>
                </a:lnTo>
                <a:lnTo>
                  <a:pt x="5865" y="5773"/>
                </a:lnTo>
                <a:lnTo>
                  <a:pt x="5884" y="5766"/>
                </a:lnTo>
                <a:lnTo>
                  <a:pt x="5901" y="5757"/>
                </a:lnTo>
                <a:lnTo>
                  <a:pt x="5919" y="5748"/>
                </a:lnTo>
                <a:lnTo>
                  <a:pt x="5935" y="5738"/>
                </a:lnTo>
                <a:lnTo>
                  <a:pt x="5951" y="5729"/>
                </a:lnTo>
                <a:lnTo>
                  <a:pt x="5966" y="5718"/>
                </a:lnTo>
                <a:lnTo>
                  <a:pt x="5980" y="5707"/>
                </a:lnTo>
                <a:lnTo>
                  <a:pt x="5995" y="5696"/>
                </a:lnTo>
                <a:lnTo>
                  <a:pt x="6009" y="5684"/>
                </a:lnTo>
                <a:lnTo>
                  <a:pt x="6022" y="5671"/>
                </a:lnTo>
                <a:lnTo>
                  <a:pt x="6047" y="5645"/>
                </a:lnTo>
                <a:lnTo>
                  <a:pt x="6070" y="5616"/>
                </a:lnTo>
                <a:lnTo>
                  <a:pt x="6092" y="5586"/>
                </a:lnTo>
                <a:lnTo>
                  <a:pt x="6112" y="5554"/>
                </a:lnTo>
                <a:lnTo>
                  <a:pt x="6130" y="5519"/>
                </a:lnTo>
                <a:lnTo>
                  <a:pt x="6145" y="5484"/>
                </a:lnTo>
                <a:lnTo>
                  <a:pt x="6160" y="5447"/>
                </a:lnTo>
                <a:lnTo>
                  <a:pt x="6173" y="5408"/>
                </a:lnTo>
                <a:lnTo>
                  <a:pt x="6185" y="5368"/>
                </a:lnTo>
                <a:lnTo>
                  <a:pt x="6196" y="5326"/>
                </a:lnTo>
                <a:lnTo>
                  <a:pt x="6204" y="5284"/>
                </a:lnTo>
                <a:lnTo>
                  <a:pt x="6212" y="5240"/>
                </a:lnTo>
                <a:lnTo>
                  <a:pt x="6220" y="5195"/>
                </a:lnTo>
                <a:lnTo>
                  <a:pt x="6225" y="5149"/>
                </a:lnTo>
                <a:lnTo>
                  <a:pt x="6230" y="5100"/>
                </a:lnTo>
                <a:lnTo>
                  <a:pt x="6234" y="5051"/>
                </a:lnTo>
                <a:lnTo>
                  <a:pt x="6237" y="5003"/>
                </a:lnTo>
                <a:lnTo>
                  <a:pt x="6239" y="4952"/>
                </a:lnTo>
                <a:lnTo>
                  <a:pt x="6241" y="4901"/>
                </a:lnTo>
                <a:lnTo>
                  <a:pt x="6242" y="4797"/>
                </a:lnTo>
                <a:lnTo>
                  <a:pt x="6241" y="4702"/>
                </a:lnTo>
                <a:lnTo>
                  <a:pt x="6237" y="4610"/>
                </a:lnTo>
                <a:lnTo>
                  <a:pt x="6235" y="4565"/>
                </a:lnTo>
                <a:lnTo>
                  <a:pt x="6233" y="4520"/>
                </a:lnTo>
                <a:lnTo>
                  <a:pt x="6228" y="4477"/>
                </a:lnTo>
                <a:lnTo>
                  <a:pt x="6223" y="4435"/>
                </a:lnTo>
                <a:lnTo>
                  <a:pt x="6218" y="4392"/>
                </a:lnTo>
                <a:lnTo>
                  <a:pt x="6212" y="4352"/>
                </a:lnTo>
                <a:lnTo>
                  <a:pt x="6204" y="4311"/>
                </a:lnTo>
                <a:lnTo>
                  <a:pt x="6197" y="4273"/>
                </a:lnTo>
                <a:lnTo>
                  <a:pt x="6188" y="4236"/>
                </a:lnTo>
                <a:lnTo>
                  <a:pt x="6177" y="4199"/>
                </a:lnTo>
                <a:lnTo>
                  <a:pt x="6165" y="4163"/>
                </a:lnTo>
                <a:lnTo>
                  <a:pt x="6153" y="4129"/>
                </a:lnTo>
                <a:close/>
                <a:moveTo>
                  <a:pt x="864" y="3479"/>
                </a:moveTo>
                <a:lnTo>
                  <a:pt x="864" y="6090"/>
                </a:lnTo>
                <a:lnTo>
                  <a:pt x="864" y="6094"/>
                </a:lnTo>
                <a:lnTo>
                  <a:pt x="867" y="6097"/>
                </a:lnTo>
                <a:lnTo>
                  <a:pt x="870" y="6101"/>
                </a:lnTo>
                <a:lnTo>
                  <a:pt x="876" y="6104"/>
                </a:lnTo>
                <a:lnTo>
                  <a:pt x="891" y="6110"/>
                </a:lnTo>
                <a:lnTo>
                  <a:pt x="909" y="6116"/>
                </a:lnTo>
                <a:lnTo>
                  <a:pt x="932" y="6122"/>
                </a:lnTo>
                <a:lnTo>
                  <a:pt x="960" y="6127"/>
                </a:lnTo>
                <a:lnTo>
                  <a:pt x="991" y="6130"/>
                </a:lnTo>
                <a:lnTo>
                  <a:pt x="1027" y="6135"/>
                </a:lnTo>
                <a:lnTo>
                  <a:pt x="1105" y="6141"/>
                </a:lnTo>
                <a:lnTo>
                  <a:pt x="1192" y="6146"/>
                </a:lnTo>
                <a:lnTo>
                  <a:pt x="1287" y="6148"/>
                </a:lnTo>
                <a:lnTo>
                  <a:pt x="1383" y="6149"/>
                </a:lnTo>
                <a:lnTo>
                  <a:pt x="1480" y="6148"/>
                </a:lnTo>
                <a:lnTo>
                  <a:pt x="1575" y="6146"/>
                </a:lnTo>
                <a:lnTo>
                  <a:pt x="1663" y="6141"/>
                </a:lnTo>
                <a:lnTo>
                  <a:pt x="1741" y="6135"/>
                </a:lnTo>
                <a:lnTo>
                  <a:pt x="1776" y="6130"/>
                </a:lnTo>
                <a:lnTo>
                  <a:pt x="1807" y="6127"/>
                </a:lnTo>
                <a:lnTo>
                  <a:pt x="1836" y="6122"/>
                </a:lnTo>
                <a:lnTo>
                  <a:pt x="1858" y="6116"/>
                </a:lnTo>
                <a:lnTo>
                  <a:pt x="1877" y="6110"/>
                </a:lnTo>
                <a:lnTo>
                  <a:pt x="1891" y="6104"/>
                </a:lnTo>
                <a:lnTo>
                  <a:pt x="1896" y="6101"/>
                </a:lnTo>
                <a:lnTo>
                  <a:pt x="1901" y="6097"/>
                </a:lnTo>
                <a:lnTo>
                  <a:pt x="1902" y="6094"/>
                </a:lnTo>
                <a:lnTo>
                  <a:pt x="1903" y="6090"/>
                </a:lnTo>
                <a:lnTo>
                  <a:pt x="1903" y="3479"/>
                </a:lnTo>
                <a:lnTo>
                  <a:pt x="1902" y="3475"/>
                </a:lnTo>
                <a:lnTo>
                  <a:pt x="1901" y="3472"/>
                </a:lnTo>
                <a:lnTo>
                  <a:pt x="1896" y="3468"/>
                </a:lnTo>
                <a:lnTo>
                  <a:pt x="1891" y="3466"/>
                </a:lnTo>
                <a:lnTo>
                  <a:pt x="1877" y="3459"/>
                </a:lnTo>
                <a:lnTo>
                  <a:pt x="1858" y="3454"/>
                </a:lnTo>
                <a:lnTo>
                  <a:pt x="1836" y="3448"/>
                </a:lnTo>
                <a:lnTo>
                  <a:pt x="1807" y="3443"/>
                </a:lnTo>
                <a:lnTo>
                  <a:pt x="1776" y="3439"/>
                </a:lnTo>
                <a:lnTo>
                  <a:pt x="1741" y="3435"/>
                </a:lnTo>
                <a:lnTo>
                  <a:pt x="1663" y="3428"/>
                </a:lnTo>
                <a:lnTo>
                  <a:pt x="1575" y="3424"/>
                </a:lnTo>
                <a:lnTo>
                  <a:pt x="1480" y="3421"/>
                </a:lnTo>
                <a:lnTo>
                  <a:pt x="1383" y="3420"/>
                </a:lnTo>
                <a:lnTo>
                  <a:pt x="1287" y="3421"/>
                </a:lnTo>
                <a:lnTo>
                  <a:pt x="1192" y="3424"/>
                </a:lnTo>
                <a:lnTo>
                  <a:pt x="1105" y="3428"/>
                </a:lnTo>
                <a:lnTo>
                  <a:pt x="1027" y="3435"/>
                </a:lnTo>
                <a:lnTo>
                  <a:pt x="991" y="3439"/>
                </a:lnTo>
                <a:lnTo>
                  <a:pt x="960" y="3443"/>
                </a:lnTo>
                <a:lnTo>
                  <a:pt x="932" y="3448"/>
                </a:lnTo>
                <a:lnTo>
                  <a:pt x="909" y="3454"/>
                </a:lnTo>
                <a:lnTo>
                  <a:pt x="891" y="3459"/>
                </a:lnTo>
                <a:lnTo>
                  <a:pt x="876" y="3466"/>
                </a:lnTo>
                <a:lnTo>
                  <a:pt x="870" y="3468"/>
                </a:lnTo>
                <a:lnTo>
                  <a:pt x="867" y="3472"/>
                </a:lnTo>
                <a:lnTo>
                  <a:pt x="864" y="3475"/>
                </a:lnTo>
                <a:lnTo>
                  <a:pt x="864" y="3479"/>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KSO_Shape"/>
          <p:cNvSpPr/>
          <p:nvPr/>
        </p:nvSpPr>
        <p:spPr>
          <a:xfrm>
            <a:off x="2550960" y="4521240"/>
            <a:ext cx="541440" cy="806400"/>
          </a:xfrm>
          <a:custGeom>
            <a:avLst/>
            <a:gdLst>
              <a:gd name="textAreaLeft" fmla="*/ 0 w 541440"/>
              <a:gd name="textAreaRight" fmla="*/ 541800 w 541440"/>
              <a:gd name="textAreaTop" fmla="*/ 0 h 806400"/>
              <a:gd name="textAreaBottom" fmla="*/ 806760 h 806400"/>
            </a:gdLst>
            <a:ahLst/>
            <a:rect l="textAreaLeft" t="textAreaTop" r="textAreaRight" b="textAreaBottom"/>
            <a:pathLst>
              <a:path w="4030" h="6002">
                <a:moveTo>
                  <a:pt x="4011" y="2762"/>
                </a:moveTo>
                <a:lnTo>
                  <a:pt x="28" y="2762"/>
                </a:lnTo>
                <a:lnTo>
                  <a:pt x="14" y="2948"/>
                </a:lnTo>
                <a:lnTo>
                  <a:pt x="9" y="3031"/>
                </a:lnTo>
                <a:lnTo>
                  <a:pt x="6" y="3111"/>
                </a:lnTo>
                <a:lnTo>
                  <a:pt x="3" y="3189"/>
                </a:lnTo>
                <a:lnTo>
                  <a:pt x="1" y="3270"/>
                </a:lnTo>
                <a:lnTo>
                  <a:pt x="0" y="3357"/>
                </a:lnTo>
                <a:lnTo>
                  <a:pt x="0" y="3453"/>
                </a:lnTo>
                <a:lnTo>
                  <a:pt x="0" y="3728"/>
                </a:lnTo>
                <a:lnTo>
                  <a:pt x="1" y="3861"/>
                </a:lnTo>
                <a:lnTo>
                  <a:pt x="3" y="3992"/>
                </a:lnTo>
                <a:lnTo>
                  <a:pt x="7" y="4120"/>
                </a:lnTo>
                <a:lnTo>
                  <a:pt x="13" y="4244"/>
                </a:lnTo>
                <a:lnTo>
                  <a:pt x="21" y="4365"/>
                </a:lnTo>
                <a:lnTo>
                  <a:pt x="26" y="4424"/>
                </a:lnTo>
                <a:lnTo>
                  <a:pt x="31" y="4482"/>
                </a:lnTo>
                <a:lnTo>
                  <a:pt x="38" y="4540"/>
                </a:lnTo>
                <a:lnTo>
                  <a:pt x="45" y="4597"/>
                </a:lnTo>
                <a:lnTo>
                  <a:pt x="52" y="4652"/>
                </a:lnTo>
                <a:lnTo>
                  <a:pt x="61" y="4707"/>
                </a:lnTo>
                <a:lnTo>
                  <a:pt x="71" y="4761"/>
                </a:lnTo>
                <a:lnTo>
                  <a:pt x="82" y="4813"/>
                </a:lnTo>
                <a:lnTo>
                  <a:pt x="93" y="4866"/>
                </a:lnTo>
                <a:lnTo>
                  <a:pt x="105" y="4916"/>
                </a:lnTo>
                <a:lnTo>
                  <a:pt x="119" y="4967"/>
                </a:lnTo>
                <a:lnTo>
                  <a:pt x="135" y="5016"/>
                </a:lnTo>
                <a:lnTo>
                  <a:pt x="150" y="5064"/>
                </a:lnTo>
                <a:lnTo>
                  <a:pt x="168" y="5111"/>
                </a:lnTo>
                <a:lnTo>
                  <a:pt x="187" y="5157"/>
                </a:lnTo>
                <a:lnTo>
                  <a:pt x="207" y="5202"/>
                </a:lnTo>
                <a:lnTo>
                  <a:pt x="228" y="5246"/>
                </a:lnTo>
                <a:lnTo>
                  <a:pt x="251" y="5288"/>
                </a:lnTo>
                <a:lnTo>
                  <a:pt x="276" y="5330"/>
                </a:lnTo>
                <a:lnTo>
                  <a:pt x="302" y="5371"/>
                </a:lnTo>
                <a:lnTo>
                  <a:pt x="329" y="5410"/>
                </a:lnTo>
                <a:lnTo>
                  <a:pt x="357" y="5448"/>
                </a:lnTo>
                <a:lnTo>
                  <a:pt x="388" y="5486"/>
                </a:lnTo>
                <a:lnTo>
                  <a:pt x="421" y="5522"/>
                </a:lnTo>
                <a:lnTo>
                  <a:pt x="455" y="5556"/>
                </a:lnTo>
                <a:lnTo>
                  <a:pt x="491" y="5590"/>
                </a:lnTo>
                <a:lnTo>
                  <a:pt x="529" y="5622"/>
                </a:lnTo>
                <a:lnTo>
                  <a:pt x="568" y="5653"/>
                </a:lnTo>
                <a:lnTo>
                  <a:pt x="610" y="5684"/>
                </a:lnTo>
                <a:lnTo>
                  <a:pt x="654" y="5712"/>
                </a:lnTo>
                <a:lnTo>
                  <a:pt x="700" y="5739"/>
                </a:lnTo>
                <a:lnTo>
                  <a:pt x="747" y="5765"/>
                </a:lnTo>
                <a:lnTo>
                  <a:pt x="797" y="5790"/>
                </a:lnTo>
                <a:lnTo>
                  <a:pt x="849" y="5814"/>
                </a:lnTo>
                <a:lnTo>
                  <a:pt x="903" y="5837"/>
                </a:lnTo>
                <a:lnTo>
                  <a:pt x="959" y="5857"/>
                </a:lnTo>
                <a:lnTo>
                  <a:pt x="1018" y="5877"/>
                </a:lnTo>
                <a:lnTo>
                  <a:pt x="1079" y="5895"/>
                </a:lnTo>
                <a:lnTo>
                  <a:pt x="1143" y="5911"/>
                </a:lnTo>
                <a:lnTo>
                  <a:pt x="1209" y="5928"/>
                </a:lnTo>
                <a:lnTo>
                  <a:pt x="1278" y="5941"/>
                </a:lnTo>
                <a:lnTo>
                  <a:pt x="1347" y="5954"/>
                </a:lnTo>
                <a:lnTo>
                  <a:pt x="1422" y="5964"/>
                </a:lnTo>
                <a:lnTo>
                  <a:pt x="1498" y="5975"/>
                </a:lnTo>
                <a:lnTo>
                  <a:pt x="1576" y="5983"/>
                </a:lnTo>
                <a:lnTo>
                  <a:pt x="1658" y="5989"/>
                </a:lnTo>
                <a:lnTo>
                  <a:pt x="1743" y="5995"/>
                </a:lnTo>
                <a:lnTo>
                  <a:pt x="1829" y="5999"/>
                </a:lnTo>
                <a:lnTo>
                  <a:pt x="1919" y="6001"/>
                </a:lnTo>
                <a:lnTo>
                  <a:pt x="2013" y="6002"/>
                </a:lnTo>
                <a:lnTo>
                  <a:pt x="2105" y="6001"/>
                </a:lnTo>
                <a:lnTo>
                  <a:pt x="2195" y="5999"/>
                </a:lnTo>
                <a:lnTo>
                  <a:pt x="2283" y="5995"/>
                </a:lnTo>
                <a:lnTo>
                  <a:pt x="2367" y="5989"/>
                </a:lnTo>
                <a:lnTo>
                  <a:pt x="2449" y="5983"/>
                </a:lnTo>
                <a:lnTo>
                  <a:pt x="2527" y="5975"/>
                </a:lnTo>
                <a:lnTo>
                  <a:pt x="2604" y="5964"/>
                </a:lnTo>
                <a:lnTo>
                  <a:pt x="2677" y="5954"/>
                </a:lnTo>
                <a:lnTo>
                  <a:pt x="2748" y="5941"/>
                </a:lnTo>
                <a:lnTo>
                  <a:pt x="2816" y="5928"/>
                </a:lnTo>
                <a:lnTo>
                  <a:pt x="2882" y="5911"/>
                </a:lnTo>
                <a:lnTo>
                  <a:pt x="2946" y="5895"/>
                </a:lnTo>
                <a:lnTo>
                  <a:pt x="3007" y="5877"/>
                </a:lnTo>
                <a:lnTo>
                  <a:pt x="3066" y="5857"/>
                </a:lnTo>
                <a:lnTo>
                  <a:pt x="3123" y="5837"/>
                </a:lnTo>
                <a:lnTo>
                  <a:pt x="3176" y="5814"/>
                </a:lnTo>
                <a:lnTo>
                  <a:pt x="3228" y="5790"/>
                </a:lnTo>
                <a:lnTo>
                  <a:pt x="3278" y="5765"/>
                </a:lnTo>
                <a:lnTo>
                  <a:pt x="3326" y="5739"/>
                </a:lnTo>
                <a:lnTo>
                  <a:pt x="3371" y="5712"/>
                </a:lnTo>
                <a:lnTo>
                  <a:pt x="3415" y="5684"/>
                </a:lnTo>
                <a:lnTo>
                  <a:pt x="3457" y="5653"/>
                </a:lnTo>
                <a:lnTo>
                  <a:pt x="3497" y="5622"/>
                </a:lnTo>
                <a:lnTo>
                  <a:pt x="3534" y="5590"/>
                </a:lnTo>
                <a:lnTo>
                  <a:pt x="3570" y="5556"/>
                </a:lnTo>
                <a:lnTo>
                  <a:pt x="3605" y="5522"/>
                </a:lnTo>
                <a:lnTo>
                  <a:pt x="3637" y="5486"/>
                </a:lnTo>
                <a:lnTo>
                  <a:pt x="3667" y="5448"/>
                </a:lnTo>
                <a:lnTo>
                  <a:pt x="3696" y="5410"/>
                </a:lnTo>
                <a:lnTo>
                  <a:pt x="3724" y="5371"/>
                </a:lnTo>
                <a:lnTo>
                  <a:pt x="3749" y="5330"/>
                </a:lnTo>
                <a:lnTo>
                  <a:pt x="3774" y="5288"/>
                </a:lnTo>
                <a:lnTo>
                  <a:pt x="3796" y="5246"/>
                </a:lnTo>
                <a:lnTo>
                  <a:pt x="3818" y="5202"/>
                </a:lnTo>
                <a:lnTo>
                  <a:pt x="3838" y="5157"/>
                </a:lnTo>
                <a:lnTo>
                  <a:pt x="3857" y="5111"/>
                </a:lnTo>
                <a:lnTo>
                  <a:pt x="3875" y="5064"/>
                </a:lnTo>
                <a:lnTo>
                  <a:pt x="3890" y="5016"/>
                </a:lnTo>
                <a:lnTo>
                  <a:pt x="3905" y="4967"/>
                </a:lnTo>
                <a:lnTo>
                  <a:pt x="3920" y="4916"/>
                </a:lnTo>
                <a:lnTo>
                  <a:pt x="3933" y="4866"/>
                </a:lnTo>
                <a:lnTo>
                  <a:pt x="3943" y="4813"/>
                </a:lnTo>
                <a:lnTo>
                  <a:pt x="3954" y="4761"/>
                </a:lnTo>
                <a:lnTo>
                  <a:pt x="3965" y="4707"/>
                </a:lnTo>
                <a:lnTo>
                  <a:pt x="3973" y="4652"/>
                </a:lnTo>
                <a:lnTo>
                  <a:pt x="3981" y="4597"/>
                </a:lnTo>
                <a:lnTo>
                  <a:pt x="3988" y="4540"/>
                </a:lnTo>
                <a:lnTo>
                  <a:pt x="3994" y="4482"/>
                </a:lnTo>
                <a:lnTo>
                  <a:pt x="4000" y="4424"/>
                </a:lnTo>
                <a:lnTo>
                  <a:pt x="4005" y="4365"/>
                </a:lnTo>
                <a:lnTo>
                  <a:pt x="4012" y="4244"/>
                </a:lnTo>
                <a:lnTo>
                  <a:pt x="4018" y="4120"/>
                </a:lnTo>
                <a:lnTo>
                  <a:pt x="4021" y="3992"/>
                </a:lnTo>
                <a:lnTo>
                  <a:pt x="4024" y="3861"/>
                </a:lnTo>
                <a:lnTo>
                  <a:pt x="4025" y="3728"/>
                </a:lnTo>
                <a:lnTo>
                  <a:pt x="4025" y="3453"/>
                </a:lnTo>
                <a:lnTo>
                  <a:pt x="4026" y="3357"/>
                </a:lnTo>
                <a:lnTo>
                  <a:pt x="4027" y="3270"/>
                </a:lnTo>
                <a:lnTo>
                  <a:pt x="4029" y="3189"/>
                </a:lnTo>
                <a:lnTo>
                  <a:pt x="4030" y="3111"/>
                </a:lnTo>
                <a:lnTo>
                  <a:pt x="4030" y="3031"/>
                </a:lnTo>
                <a:lnTo>
                  <a:pt x="4026" y="2948"/>
                </a:lnTo>
                <a:lnTo>
                  <a:pt x="4024" y="2906"/>
                </a:lnTo>
                <a:lnTo>
                  <a:pt x="4020" y="2860"/>
                </a:lnTo>
                <a:lnTo>
                  <a:pt x="4017" y="2812"/>
                </a:lnTo>
                <a:lnTo>
                  <a:pt x="4011" y="2762"/>
                </a:lnTo>
                <a:close/>
                <a:moveTo>
                  <a:pt x="2256" y="0"/>
                </a:moveTo>
                <a:lnTo>
                  <a:pt x="2256" y="2291"/>
                </a:lnTo>
                <a:lnTo>
                  <a:pt x="4005" y="2291"/>
                </a:lnTo>
                <a:lnTo>
                  <a:pt x="3990" y="2180"/>
                </a:lnTo>
                <a:lnTo>
                  <a:pt x="3973" y="2070"/>
                </a:lnTo>
                <a:lnTo>
                  <a:pt x="3954" y="1961"/>
                </a:lnTo>
                <a:lnTo>
                  <a:pt x="3934" y="1853"/>
                </a:lnTo>
                <a:lnTo>
                  <a:pt x="3913" y="1746"/>
                </a:lnTo>
                <a:lnTo>
                  <a:pt x="3889" y="1642"/>
                </a:lnTo>
                <a:lnTo>
                  <a:pt x="3863" y="1539"/>
                </a:lnTo>
                <a:lnTo>
                  <a:pt x="3836" y="1437"/>
                </a:lnTo>
                <a:lnTo>
                  <a:pt x="3805" y="1339"/>
                </a:lnTo>
                <a:lnTo>
                  <a:pt x="3789" y="1289"/>
                </a:lnTo>
                <a:lnTo>
                  <a:pt x="3773" y="1242"/>
                </a:lnTo>
                <a:lnTo>
                  <a:pt x="3756" y="1195"/>
                </a:lnTo>
                <a:lnTo>
                  <a:pt x="3738" y="1147"/>
                </a:lnTo>
                <a:lnTo>
                  <a:pt x="3720" y="1101"/>
                </a:lnTo>
                <a:lnTo>
                  <a:pt x="3701" y="1055"/>
                </a:lnTo>
                <a:lnTo>
                  <a:pt x="3682" y="1011"/>
                </a:lnTo>
                <a:lnTo>
                  <a:pt x="3661" y="966"/>
                </a:lnTo>
                <a:lnTo>
                  <a:pt x="3640" y="922"/>
                </a:lnTo>
                <a:lnTo>
                  <a:pt x="3619" y="880"/>
                </a:lnTo>
                <a:lnTo>
                  <a:pt x="3596" y="838"/>
                </a:lnTo>
                <a:lnTo>
                  <a:pt x="3574" y="797"/>
                </a:lnTo>
                <a:lnTo>
                  <a:pt x="3549" y="757"/>
                </a:lnTo>
                <a:lnTo>
                  <a:pt x="3525" y="716"/>
                </a:lnTo>
                <a:lnTo>
                  <a:pt x="3499" y="677"/>
                </a:lnTo>
                <a:lnTo>
                  <a:pt x="3473" y="639"/>
                </a:lnTo>
                <a:lnTo>
                  <a:pt x="3447" y="603"/>
                </a:lnTo>
                <a:lnTo>
                  <a:pt x="3419" y="567"/>
                </a:lnTo>
                <a:lnTo>
                  <a:pt x="3390" y="532"/>
                </a:lnTo>
                <a:lnTo>
                  <a:pt x="3361" y="497"/>
                </a:lnTo>
                <a:lnTo>
                  <a:pt x="3331" y="464"/>
                </a:lnTo>
                <a:lnTo>
                  <a:pt x="3299" y="431"/>
                </a:lnTo>
                <a:lnTo>
                  <a:pt x="3267" y="400"/>
                </a:lnTo>
                <a:lnTo>
                  <a:pt x="3235" y="369"/>
                </a:lnTo>
                <a:lnTo>
                  <a:pt x="3201" y="340"/>
                </a:lnTo>
                <a:lnTo>
                  <a:pt x="3166" y="312"/>
                </a:lnTo>
                <a:lnTo>
                  <a:pt x="3131" y="285"/>
                </a:lnTo>
                <a:lnTo>
                  <a:pt x="3094" y="259"/>
                </a:lnTo>
                <a:lnTo>
                  <a:pt x="3056" y="233"/>
                </a:lnTo>
                <a:lnTo>
                  <a:pt x="3017" y="209"/>
                </a:lnTo>
                <a:lnTo>
                  <a:pt x="2978" y="187"/>
                </a:lnTo>
                <a:lnTo>
                  <a:pt x="2938" y="166"/>
                </a:lnTo>
                <a:lnTo>
                  <a:pt x="2895" y="146"/>
                </a:lnTo>
                <a:lnTo>
                  <a:pt x="2853" y="127"/>
                </a:lnTo>
                <a:lnTo>
                  <a:pt x="2810" y="109"/>
                </a:lnTo>
                <a:lnTo>
                  <a:pt x="2765" y="92"/>
                </a:lnTo>
                <a:lnTo>
                  <a:pt x="2719" y="77"/>
                </a:lnTo>
                <a:lnTo>
                  <a:pt x="2671" y="63"/>
                </a:lnTo>
                <a:lnTo>
                  <a:pt x="2624" y="50"/>
                </a:lnTo>
                <a:lnTo>
                  <a:pt x="2574" y="39"/>
                </a:lnTo>
                <a:lnTo>
                  <a:pt x="2525" y="28"/>
                </a:lnTo>
                <a:lnTo>
                  <a:pt x="2473" y="20"/>
                </a:lnTo>
                <a:lnTo>
                  <a:pt x="2420" y="13"/>
                </a:lnTo>
                <a:lnTo>
                  <a:pt x="2367" y="7"/>
                </a:lnTo>
                <a:lnTo>
                  <a:pt x="2311" y="2"/>
                </a:lnTo>
                <a:lnTo>
                  <a:pt x="2256" y="0"/>
                </a:lnTo>
                <a:close/>
                <a:moveTo>
                  <a:pt x="1775" y="0"/>
                </a:moveTo>
                <a:lnTo>
                  <a:pt x="1775" y="0"/>
                </a:lnTo>
                <a:lnTo>
                  <a:pt x="1711" y="2"/>
                </a:lnTo>
                <a:lnTo>
                  <a:pt x="1649" y="6"/>
                </a:lnTo>
                <a:lnTo>
                  <a:pt x="1589" y="12"/>
                </a:lnTo>
                <a:lnTo>
                  <a:pt x="1531" y="19"/>
                </a:lnTo>
                <a:lnTo>
                  <a:pt x="1474" y="27"/>
                </a:lnTo>
                <a:lnTo>
                  <a:pt x="1419" y="37"/>
                </a:lnTo>
                <a:lnTo>
                  <a:pt x="1364" y="48"/>
                </a:lnTo>
                <a:lnTo>
                  <a:pt x="1312" y="60"/>
                </a:lnTo>
                <a:lnTo>
                  <a:pt x="1261" y="74"/>
                </a:lnTo>
                <a:lnTo>
                  <a:pt x="1211" y="90"/>
                </a:lnTo>
                <a:lnTo>
                  <a:pt x="1163" y="106"/>
                </a:lnTo>
                <a:lnTo>
                  <a:pt x="1115" y="124"/>
                </a:lnTo>
                <a:lnTo>
                  <a:pt x="1070" y="143"/>
                </a:lnTo>
                <a:lnTo>
                  <a:pt x="1027" y="163"/>
                </a:lnTo>
                <a:lnTo>
                  <a:pt x="983" y="185"/>
                </a:lnTo>
                <a:lnTo>
                  <a:pt x="941" y="207"/>
                </a:lnTo>
                <a:lnTo>
                  <a:pt x="901" y="231"/>
                </a:lnTo>
                <a:lnTo>
                  <a:pt x="862" y="256"/>
                </a:lnTo>
                <a:lnTo>
                  <a:pt x="825" y="282"/>
                </a:lnTo>
                <a:lnTo>
                  <a:pt x="789" y="309"/>
                </a:lnTo>
                <a:lnTo>
                  <a:pt x="753" y="337"/>
                </a:lnTo>
                <a:lnTo>
                  <a:pt x="719" y="367"/>
                </a:lnTo>
                <a:lnTo>
                  <a:pt x="686" y="397"/>
                </a:lnTo>
                <a:lnTo>
                  <a:pt x="654" y="429"/>
                </a:lnTo>
                <a:lnTo>
                  <a:pt x="623" y="460"/>
                </a:lnTo>
                <a:lnTo>
                  <a:pt x="593" y="494"/>
                </a:lnTo>
                <a:lnTo>
                  <a:pt x="565" y="528"/>
                </a:lnTo>
                <a:lnTo>
                  <a:pt x="536" y="564"/>
                </a:lnTo>
                <a:lnTo>
                  <a:pt x="510" y="600"/>
                </a:lnTo>
                <a:lnTo>
                  <a:pt x="484" y="637"/>
                </a:lnTo>
                <a:lnTo>
                  <a:pt x="459" y="675"/>
                </a:lnTo>
                <a:lnTo>
                  <a:pt x="436" y="714"/>
                </a:lnTo>
                <a:lnTo>
                  <a:pt x="413" y="753"/>
                </a:lnTo>
                <a:lnTo>
                  <a:pt x="391" y="793"/>
                </a:lnTo>
                <a:lnTo>
                  <a:pt x="370" y="835"/>
                </a:lnTo>
                <a:lnTo>
                  <a:pt x="349" y="877"/>
                </a:lnTo>
                <a:lnTo>
                  <a:pt x="330" y="920"/>
                </a:lnTo>
                <a:lnTo>
                  <a:pt x="311" y="964"/>
                </a:lnTo>
                <a:lnTo>
                  <a:pt x="294" y="1008"/>
                </a:lnTo>
                <a:lnTo>
                  <a:pt x="277" y="1053"/>
                </a:lnTo>
                <a:lnTo>
                  <a:pt x="260" y="1099"/>
                </a:lnTo>
                <a:lnTo>
                  <a:pt x="245" y="1145"/>
                </a:lnTo>
                <a:lnTo>
                  <a:pt x="230" y="1192"/>
                </a:lnTo>
                <a:lnTo>
                  <a:pt x="215" y="1240"/>
                </a:lnTo>
                <a:lnTo>
                  <a:pt x="202" y="1288"/>
                </a:lnTo>
                <a:lnTo>
                  <a:pt x="189" y="1337"/>
                </a:lnTo>
                <a:lnTo>
                  <a:pt x="166" y="1436"/>
                </a:lnTo>
                <a:lnTo>
                  <a:pt x="143" y="1537"/>
                </a:lnTo>
                <a:lnTo>
                  <a:pt x="124" y="1640"/>
                </a:lnTo>
                <a:lnTo>
                  <a:pt x="106" y="1745"/>
                </a:lnTo>
                <a:lnTo>
                  <a:pt x="90" y="1852"/>
                </a:lnTo>
                <a:lnTo>
                  <a:pt x="76" y="1960"/>
                </a:lnTo>
                <a:lnTo>
                  <a:pt x="63" y="2069"/>
                </a:lnTo>
                <a:lnTo>
                  <a:pt x="50" y="2180"/>
                </a:lnTo>
                <a:lnTo>
                  <a:pt x="39" y="2291"/>
                </a:lnTo>
                <a:lnTo>
                  <a:pt x="1775" y="2291"/>
                </a:lnTo>
                <a:lnTo>
                  <a:pt x="1775"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4"/>
          <p:cNvSpPr/>
          <p:nvPr/>
        </p:nvSpPr>
        <p:spPr>
          <a:xfrm>
            <a:off x="4216320" y="2475000"/>
            <a:ext cx="1447920" cy="1954080"/>
          </a:xfrm>
          <a:custGeom>
            <a:avLst/>
            <a:gdLst>
              <a:gd name="textAreaLeft" fmla="*/ 0 w 1447920"/>
              <a:gd name="textAreaRight" fmla="*/ 1448280 w 144792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7f7f7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5"/>
          <p:cNvSpPr/>
          <p:nvPr/>
        </p:nvSpPr>
        <p:spPr>
          <a:xfrm rot="7200000">
            <a:off x="5909400" y="139428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db6344">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Group 6"/>
          <p:cNvGrpSpPr/>
          <p:nvPr/>
        </p:nvGrpSpPr>
        <p:grpSpPr>
          <a:xfrm>
            <a:off x="4244760" y="1137600"/>
            <a:ext cx="2482920" cy="2629800"/>
            <a:chOff x="4244760" y="1137600"/>
            <a:chExt cx="2482920" cy="2629800"/>
          </a:xfrm>
        </p:grpSpPr>
        <p:sp>
          <p:nvSpPr>
            <p:cNvPr id="297" name="AutoShape 7"/>
            <p:cNvSpPr/>
            <p:nvPr/>
          </p:nvSpPr>
          <p:spPr>
            <a:xfrm rot="12600000">
              <a:off x="4298760" y="2844360"/>
              <a:ext cx="1441440" cy="603000"/>
            </a:xfrm>
            <a:prstGeom prst="triangle">
              <a:avLst>
                <a:gd name="adj" fmla="val 50000"/>
              </a:avLst>
            </a:prstGeom>
            <a:solidFill>
              <a:srgbClr val="db63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8"/>
            <p:cNvSpPr/>
            <p:nvPr/>
          </p:nvSpPr>
          <p:spPr>
            <a:xfrm rot="7200000">
              <a:off x="4694040" y="204912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9"/>
            <p:cNvSpPr/>
            <p:nvPr/>
          </p:nvSpPr>
          <p:spPr>
            <a:xfrm rot="7200000">
              <a:off x="5767200" y="112212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Freeform 10"/>
          <p:cNvSpPr/>
          <p:nvPr/>
        </p:nvSpPr>
        <p:spPr>
          <a:xfrm rot="14400000">
            <a:off x="6023160" y="3246840"/>
            <a:ext cx="1365480" cy="2071440"/>
          </a:xfrm>
          <a:custGeom>
            <a:avLst/>
            <a:gdLst>
              <a:gd name="textAreaLeft" fmla="*/ 0 w 1365480"/>
              <a:gd name="textAreaRight" fmla="*/ 1365840 w 136548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96a787">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1" name="Group 11"/>
          <p:cNvGrpSpPr/>
          <p:nvPr/>
        </p:nvGrpSpPr>
        <p:grpSpPr>
          <a:xfrm>
            <a:off x="6051240" y="2017800"/>
            <a:ext cx="2172960" cy="2759400"/>
            <a:chOff x="6051240" y="2017800"/>
            <a:chExt cx="2172960" cy="2759400"/>
          </a:xfrm>
        </p:grpSpPr>
        <p:sp>
          <p:nvSpPr>
            <p:cNvPr id="302" name="AutoShape 12"/>
            <p:cNvSpPr/>
            <p:nvPr/>
          </p:nvSpPr>
          <p:spPr>
            <a:xfrm rot="19800000">
              <a:off x="6105600" y="2336400"/>
              <a:ext cx="1438200" cy="603360"/>
            </a:xfrm>
            <a:prstGeom prst="triangle">
              <a:avLst>
                <a:gd name="adj" fmla="val 50000"/>
              </a:avLst>
            </a:prstGeom>
            <a:solidFill>
              <a:srgbClr val="96a7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3"/>
            <p:cNvSpPr/>
            <p:nvPr/>
          </p:nvSpPr>
          <p:spPr>
            <a:xfrm rot="14400000">
              <a:off x="6495120" y="2927520"/>
              <a:ext cx="1505160" cy="804960"/>
            </a:xfrm>
            <a:custGeom>
              <a:avLst/>
              <a:gdLst>
                <a:gd name="textAreaLeft" fmla="*/ 0 w 1505160"/>
                <a:gd name="textAreaRight" fmla="*/ 1505520 w 1505160"/>
                <a:gd name="textAreaTop" fmla="*/ 0 h 804960"/>
                <a:gd name="textAreaBottom" fmla="*/ 805320 h 804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4"/>
            <p:cNvSpPr/>
            <p:nvPr/>
          </p:nvSpPr>
          <p:spPr>
            <a:xfrm rot="14400000">
              <a:off x="7318440" y="3684240"/>
              <a:ext cx="549360" cy="1139760"/>
            </a:xfrm>
            <a:custGeom>
              <a:avLst/>
              <a:gdLst>
                <a:gd name="textAreaLeft" fmla="*/ 0 w 549360"/>
                <a:gd name="textAreaRight" fmla="*/ 549720 w 54936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Group 15"/>
          <p:cNvGrpSpPr/>
          <p:nvPr/>
        </p:nvGrpSpPr>
        <p:grpSpPr>
          <a:xfrm>
            <a:off x="4210200" y="3679920"/>
            <a:ext cx="2493000" cy="1395000"/>
            <a:chOff x="4210200" y="3679920"/>
            <a:chExt cx="2493000" cy="1395000"/>
          </a:xfrm>
        </p:grpSpPr>
        <p:sp>
          <p:nvSpPr>
            <p:cNvPr id="306" name="Freeform 16"/>
            <p:cNvSpPr/>
            <p:nvPr/>
          </p:nvSpPr>
          <p:spPr>
            <a:xfrm>
              <a:off x="4210200" y="3679920"/>
              <a:ext cx="581400" cy="1102320"/>
            </a:xfrm>
            <a:custGeom>
              <a:avLst/>
              <a:gdLst>
                <a:gd name="textAreaLeft" fmla="*/ 0 w 581400"/>
                <a:gd name="textAreaRight" fmla="*/ 581760 w 581400"/>
                <a:gd name="textAreaTop" fmla="*/ 0 h 1102320"/>
                <a:gd name="textAreaBottom" fmla="*/ 1102680 h 110232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AutoShape 17"/>
            <p:cNvSpPr/>
            <p:nvPr/>
          </p:nvSpPr>
          <p:spPr>
            <a:xfrm rot="5400000">
              <a:off x="5688720" y="4060440"/>
              <a:ext cx="1388520" cy="6404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8"/>
            <p:cNvSpPr/>
            <p:nvPr/>
          </p:nvSpPr>
          <p:spPr>
            <a:xfrm>
              <a:off x="4734360" y="4003200"/>
              <a:ext cx="1597320" cy="779040"/>
            </a:xfrm>
            <a:custGeom>
              <a:avLst/>
              <a:gdLst>
                <a:gd name="textAreaLeft" fmla="*/ 0 w 1597320"/>
                <a:gd name="textAreaRight" fmla="*/ 1597680 w 1597320"/>
                <a:gd name="textAreaTop" fmla="*/ 0 h 779040"/>
                <a:gd name="textAreaBottom" fmla="*/ 779400 h 77904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文本框 16"/>
          <p:cNvSpPr/>
          <p:nvPr/>
        </p:nvSpPr>
        <p:spPr>
          <a:xfrm>
            <a:off x="1506600" y="442764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0" name="文本框 17"/>
          <p:cNvSpPr/>
          <p:nvPr/>
        </p:nvSpPr>
        <p:spPr>
          <a:xfrm>
            <a:off x="1506600" y="390528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1" name="文本框 18"/>
          <p:cNvSpPr/>
          <p:nvPr/>
        </p:nvSpPr>
        <p:spPr>
          <a:xfrm>
            <a:off x="7937640" y="438624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2" name="文本框 19"/>
          <p:cNvSpPr/>
          <p:nvPr/>
        </p:nvSpPr>
        <p:spPr>
          <a:xfrm>
            <a:off x="7937640" y="386388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3" name="文本框 20"/>
          <p:cNvSpPr/>
          <p:nvPr/>
        </p:nvSpPr>
        <p:spPr>
          <a:xfrm>
            <a:off x="4721400" y="103032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4" name="文本框 21"/>
          <p:cNvSpPr/>
          <p:nvPr/>
        </p:nvSpPr>
        <p:spPr>
          <a:xfrm>
            <a:off x="4721400" y="50796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5" name="Freeform 5"/>
          <p:cNvSpPr/>
          <p:nvPr/>
        </p:nvSpPr>
        <p:spPr>
          <a:xfrm>
            <a:off x="1209600" y="541512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Box 15"/>
          <p:cNvSpPr/>
          <p:nvPr/>
        </p:nvSpPr>
        <p:spPr>
          <a:xfrm>
            <a:off x="2386080" y="5257800"/>
            <a:ext cx="8280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简单简单的文字概述</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319"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320" name="直接连接符 18"/>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组合 19"/>
          <p:cNvGrpSpPr/>
          <p:nvPr/>
        </p:nvGrpSpPr>
        <p:grpSpPr>
          <a:xfrm>
            <a:off x="5472000" y="0"/>
            <a:ext cx="1247760" cy="1106640"/>
            <a:chOff x="5472000" y="0"/>
            <a:chExt cx="1247760" cy="1106640"/>
          </a:xfrm>
        </p:grpSpPr>
        <p:sp>
          <p:nvSpPr>
            <p:cNvPr id="322"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324"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组合 73"/>
          <p:cNvGrpSpPr/>
          <p:nvPr/>
        </p:nvGrpSpPr>
        <p:grpSpPr>
          <a:xfrm>
            <a:off x="2253960" y="1952640"/>
            <a:ext cx="7555320" cy="1442880"/>
            <a:chOff x="2253960" y="1952640"/>
            <a:chExt cx="7555320" cy="1442880"/>
          </a:xfrm>
        </p:grpSpPr>
        <p:sp>
          <p:nvSpPr>
            <p:cNvPr id="327" name="直接连接符 74"/>
            <p:cNvSpPr/>
            <p:nvPr/>
          </p:nvSpPr>
          <p:spPr>
            <a:xfrm>
              <a:off x="2254320" y="2583720"/>
              <a:ext cx="75549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28" name="直接箭头连接符 75"/>
            <p:cNvCxnSpPr/>
            <p:nvPr/>
          </p:nvCxnSpPr>
          <p:spPr>
            <a:xfrm>
              <a:off x="2253960" y="2583360"/>
              <a:ext cx="1080" cy="812520"/>
            </a:xfrm>
            <a:prstGeom prst="straightConnector1">
              <a:avLst/>
            </a:prstGeom>
            <a:ln w="6480">
              <a:solidFill>
                <a:srgbClr val="7f7f7f"/>
              </a:solidFill>
              <a:miter/>
              <a:tailEnd len="med" type="arrow" w="med"/>
            </a:ln>
          </p:spPr>
        </p:cxnSp>
        <p:cxnSp>
          <p:nvCxnSpPr>
            <p:cNvPr id="329" name="直接箭头连接符 76"/>
            <p:cNvCxnSpPr/>
            <p:nvPr/>
          </p:nvCxnSpPr>
          <p:spPr>
            <a:xfrm>
              <a:off x="4798080" y="2583360"/>
              <a:ext cx="1080" cy="812520"/>
            </a:xfrm>
            <a:prstGeom prst="straightConnector1">
              <a:avLst/>
            </a:prstGeom>
            <a:ln w="6480">
              <a:solidFill>
                <a:srgbClr val="7f7f7f"/>
              </a:solidFill>
              <a:miter/>
              <a:tailEnd len="med" type="arrow" w="med"/>
            </a:ln>
          </p:spPr>
        </p:cxnSp>
        <p:cxnSp>
          <p:nvCxnSpPr>
            <p:cNvPr id="330" name="直接箭头连接符 77"/>
            <p:cNvCxnSpPr/>
            <p:nvPr/>
          </p:nvCxnSpPr>
          <p:spPr>
            <a:xfrm>
              <a:off x="7444440" y="2583360"/>
              <a:ext cx="1080" cy="812520"/>
            </a:xfrm>
            <a:prstGeom prst="straightConnector1">
              <a:avLst/>
            </a:prstGeom>
            <a:ln w="6480">
              <a:solidFill>
                <a:srgbClr val="7f7f7f"/>
              </a:solidFill>
              <a:miter/>
              <a:tailEnd len="med" type="arrow" w="med"/>
            </a:ln>
          </p:spPr>
        </p:cxnSp>
        <p:cxnSp>
          <p:nvCxnSpPr>
            <p:cNvPr id="331" name="直接箭头连接符 78"/>
            <p:cNvCxnSpPr/>
            <p:nvPr/>
          </p:nvCxnSpPr>
          <p:spPr>
            <a:xfrm>
              <a:off x="9806760" y="2583360"/>
              <a:ext cx="1080" cy="812520"/>
            </a:xfrm>
            <a:prstGeom prst="straightConnector1">
              <a:avLst/>
            </a:prstGeom>
            <a:ln w="6480">
              <a:solidFill>
                <a:srgbClr val="7f7f7f"/>
              </a:solidFill>
              <a:miter/>
              <a:tailEnd len="med" type="arrow" w="med"/>
            </a:ln>
          </p:spPr>
        </p:cxnSp>
        <p:sp>
          <p:nvSpPr>
            <p:cNvPr id="332" name="直接连接符 79"/>
            <p:cNvSpPr/>
            <p:nvPr/>
          </p:nvSpPr>
          <p:spPr>
            <a:xfrm>
              <a:off x="6112080" y="1952640"/>
              <a:ext cx="0" cy="63108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TextBox 29"/>
          <p:cNvSpPr/>
          <p:nvPr/>
        </p:nvSpPr>
        <p:spPr>
          <a:xfrm>
            <a:off x="911160" y="419256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4" name="TextBox 30"/>
          <p:cNvSpPr/>
          <p:nvPr/>
        </p:nvSpPr>
        <p:spPr>
          <a:xfrm>
            <a:off x="3435480" y="419256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5" name="TextBox 31"/>
          <p:cNvSpPr/>
          <p:nvPr/>
        </p:nvSpPr>
        <p:spPr>
          <a:xfrm>
            <a:off x="605160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6" name="TextBox 32"/>
          <p:cNvSpPr/>
          <p:nvPr/>
        </p:nvSpPr>
        <p:spPr>
          <a:xfrm>
            <a:off x="875664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7" name="等腰三角形 84"/>
          <p:cNvSpPr/>
          <p:nvPr/>
        </p:nvSpPr>
        <p:spPr>
          <a:xfrm rot="5400000">
            <a:off x="1878480" y="5495040"/>
            <a:ext cx="360360" cy="31140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34"/>
          <p:cNvSpPr/>
          <p:nvPr/>
        </p:nvSpPr>
        <p:spPr>
          <a:xfrm>
            <a:off x="2254320" y="541512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339" name="组合 86"/>
          <p:cNvGrpSpPr/>
          <p:nvPr/>
        </p:nvGrpSpPr>
        <p:grpSpPr>
          <a:xfrm>
            <a:off x="4643280" y="1231920"/>
            <a:ext cx="2905200" cy="720720"/>
            <a:chOff x="4643280" y="1231920"/>
            <a:chExt cx="2905200" cy="720720"/>
          </a:xfrm>
        </p:grpSpPr>
        <p:sp>
          <p:nvSpPr>
            <p:cNvPr id="340" name="矩形 87"/>
            <p:cNvSpPr/>
            <p:nvPr/>
          </p:nvSpPr>
          <p:spPr>
            <a:xfrm>
              <a:off x="4643280" y="1231920"/>
              <a:ext cx="2905200" cy="72072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Box 35"/>
            <p:cNvSpPr/>
            <p:nvPr/>
          </p:nvSpPr>
          <p:spPr>
            <a:xfrm>
              <a:off x="5536080" y="1392480"/>
              <a:ext cx="1095120" cy="398880"/>
            </a:xfrm>
            <a:prstGeom prst="rect">
              <a:avLst/>
            </a:prstGeom>
            <a:solidFill>
              <a:srgbClr val="59595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342" name="组合 89"/>
          <p:cNvGrpSpPr/>
          <p:nvPr/>
        </p:nvGrpSpPr>
        <p:grpSpPr>
          <a:xfrm>
            <a:off x="1001880" y="3395520"/>
            <a:ext cx="2384280" cy="722520"/>
            <a:chOff x="1001880" y="3395520"/>
            <a:chExt cx="2384280" cy="722520"/>
          </a:xfrm>
        </p:grpSpPr>
        <p:sp>
          <p:nvSpPr>
            <p:cNvPr id="343" name="矩形 90"/>
            <p:cNvSpPr/>
            <p:nvPr/>
          </p:nvSpPr>
          <p:spPr>
            <a:xfrm>
              <a:off x="10018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36"/>
            <p:cNvSpPr/>
            <p:nvPr/>
          </p:nvSpPr>
          <p:spPr>
            <a:xfrm>
              <a:off x="16920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45" name="组合 92"/>
          <p:cNvGrpSpPr/>
          <p:nvPr/>
        </p:nvGrpSpPr>
        <p:grpSpPr>
          <a:xfrm>
            <a:off x="3576600" y="3395520"/>
            <a:ext cx="2384640" cy="722520"/>
            <a:chOff x="3576600" y="3395520"/>
            <a:chExt cx="2384640" cy="722520"/>
          </a:xfrm>
        </p:grpSpPr>
        <p:sp>
          <p:nvSpPr>
            <p:cNvPr id="346" name="矩形 93"/>
            <p:cNvSpPr/>
            <p:nvPr/>
          </p:nvSpPr>
          <p:spPr>
            <a:xfrm>
              <a:off x="3576600" y="3395520"/>
              <a:ext cx="238464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37"/>
            <p:cNvSpPr/>
            <p:nvPr/>
          </p:nvSpPr>
          <p:spPr>
            <a:xfrm>
              <a:off x="426672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48" name="组合 95"/>
          <p:cNvGrpSpPr/>
          <p:nvPr/>
        </p:nvGrpSpPr>
        <p:grpSpPr>
          <a:xfrm>
            <a:off x="6191280" y="3395520"/>
            <a:ext cx="2384280" cy="722520"/>
            <a:chOff x="6191280" y="3395520"/>
            <a:chExt cx="2384280" cy="722520"/>
          </a:xfrm>
        </p:grpSpPr>
        <p:sp>
          <p:nvSpPr>
            <p:cNvPr id="349" name="矩形 96"/>
            <p:cNvSpPr/>
            <p:nvPr/>
          </p:nvSpPr>
          <p:spPr>
            <a:xfrm>
              <a:off x="61912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8"/>
            <p:cNvSpPr/>
            <p:nvPr/>
          </p:nvSpPr>
          <p:spPr>
            <a:xfrm>
              <a:off x="68814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51" name="组合 98"/>
          <p:cNvGrpSpPr/>
          <p:nvPr/>
        </p:nvGrpSpPr>
        <p:grpSpPr>
          <a:xfrm>
            <a:off x="8805960" y="3395520"/>
            <a:ext cx="2384280" cy="722520"/>
            <a:chOff x="8805960" y="3395520"/>
            <a:chExt cx="2384280" cy="722520"/>
          </a:xfrm>
        </p:grpSpPr>
        <p:sp>
          <p:nvSpPr>
            <p:cNvPr id="352" name="矩形 99"/>
            <p:cNvSpPr/>
            <p:nvPr/>
          </p:nvSpPr>
          <p:spPr>
            <a:xfrm>
              <a:off x="8805960" y="3395520"/>
              <a:ext cx="238428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39"/>
            <p:cNvSpPr/>
            <p:nvPr/>
          </p:nvSpPr>
          <p:spPr>
            <a:xfrm>
              <a:off x="949608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15"/>
          <p:cNvSpPr/>
          <p:nvPr/>
        </p:nvSpPr>
        <p:spPr>
          <a:xfrm>
            <a:off x="0" y="3051000"/>
            <a:ext cx="12192120" cy="351504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组合 16"/>
          <p:cNvGrpSpPr/>
          <p:nvPr/>
        </p:nvGrpSpPr>
        <p:grpSpPr>
          <a:xfrm>
            <a:off x="2490120" y="3307680"/>
            <a:ext cx="2084040" cy="2084760"/>
            <a:chOff x="2490120" y="3307680"/>
            <a:chExt cx="2084040" cy="2084760"/>
          </a:xfrm>
        </p:grpSpPr>
        <p:sp>
          <p:nvSpPr>
            <p:cNvPr id="357" name="空心弧 17"/>
            <p:cNvSpPr/>
            <p:nvPr/>
          </p:nvSpPr>
          <p:spPr>
            <a:xfrm rot="10860000">
              <a:off x="250776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矩形 18"/>
            <p:cNvSpPr/>
            <p:nvPr/>
          </p:nvSpPr>
          <p:spPr>
            <a:xfrm rot="5400000">
              <a:off x="228888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19"/>
            <p:cNvSpPr/>
            <p:nvPr/>
          </p:nvSpPr>
          <p:spPr>
            <a:xfrm rot="5400000">
              <a:off x="373248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组合 20"/>
          <p:cNvGrpSpPr/>
          <p:nvPr/>
        </p:nvGrpSpPr>
        <p:grpSpPr>
          <a:xfrm>
            <a:off x="3932640" y="761760"/>
            <a:ext cx="2084040" cy="2083320"/>
            <a:chOff x="3932640" y="761760"/>
            <a:chExt cx="2084040" cy="2083320"/>
          </a:xfrm>
        </p:grpSpPr>
        <p:sp>
          <p:nvSpPr>
            <p:cNvPr id="361" name="空心弧 21"/>
            <p:cNvSpPr/>
            <p:nvPr/>
          </p:nvSpPr>
          <p:spPr>
            <a:xfrm rot="60000">
              <a:off x="394992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矩形 22"/>
            <p:cNvSpPr/>
            <p:nvPr/>
          </p:nvSpPr>
          <p:spPr>
            <a:xfrm rot="16200000">
              <a:off x="517680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23"/>
            <p:cNvSpPr/>
            <p:nvPr/>
          </p:nvSpPr>
          <p:spPr>
            <a:xfrm rot="16200000">
              <a:off x="373284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组合 24"/>
          <p:cNvGrpSpPr/>
          <p:nvPr/>
        </p:nvGrpSpPr>
        <p:grpSpPr>
          <a:xfrm>
            <a:off x="5376240" y="3307680"/>
            <a:ext cx="2084040" cy="2084760"/>
            <a:chOff x="5376240" y="3307680"/>
            <a:chExt cx="2084040" cy="2084760"/>
          </a:xfrm>
        </p:grpSpPr>
        <p:sp>
          <p:nvSpPr>
            <p:cNvPr id="365" name="空心弧 25"/>
            <p:cNvSpPr/>
            <p:nvPr/>
          </p:nvSpPr>
          <p:spPr>
            <a:xfrm rot="10860000">
              <a:off x="539388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矩形 26"/>
            <p:cNvSpPr/>
            <p:nvPr/>
          </p:nvSpPr>
          <p:spPr>
            <a:xfrm rot="5400000">
              <a:off x="517500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27"/>
            <p:cNvSpPr/>
            <p:nvPr/>
          </p:nvSpPr>
          <p:spPr>
            <a:xfrm rot="5400000">
              <a:off x="661860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组合 28"/>
          <p:cNvGrpSpPr/>
          <p:nvPr/>
        </p:nvGrpSpPr>
        <p:grpSpPr>
          <a:xfrm>
            <a:off x="6818760" y="761760"/>
            <a:ext cx="2084040" cy="2083320"/>
            <a:chOff x="6818760" y="761760"/>
            <a:chExt cx="2084040" cy="2083320"/>
          </a:xfrm>
        </p:grpSpPr>
        <p:sp>
          <p:nvSpPr>
            <p:cNvPr id="369" name="空心弧 29"/>
            <p:cNvSpPr/>
            <p:nvPr/>
          </p:nvSpPr>
          <p:spPr>
            <a:xfrm rot="60000">
              <a:off x="683604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矩形 30"/>
            <p:cNvSpPr/>
            <p:nvPr/>
          </p:nvSpPr>
          <p:spPr>
            <a:xfrm rot="16200000">
              <a:off x="806292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31"/>
            <p:cNvSpPr/>
            <p:nvPr/>
          </p:nvSpPr>
          <p:spPr>
            <a:xfrm rot="16200000">
              <a:off x="661896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矩形 32"/>
          <p:cNvSpPr/>
          <p:nvPr/>
        </p:nvSpPr>
        <p:spPr>
          <a:xfrm>
            <a:off x="1217520" y="2835360"/>
            <a:ext cx="9144000" cy="4842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24"/>
          <p:cNvSpPr/>
          <p:nvPr/>
        </p:nvSpPr>
        <p:spPr>
          <a:xfrm>
            <a:off x="3180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1</a:t>
            </a:r>
            <a:endParaRPr b="0" lang="en-US" sz="3600" spc="-1" strike="noStrike">
              <a:solidFill>
                <a:srgbClr val="000000"/>
              </a:solidFill>
              <a:latin typeface="Arial"/>
            </a:endParaRPr>
          </a:p>
        </p:txBody>
      </p:sp>
      <p:sp>
        <p:nvSpPr>
          <p:cNvPr id="374" name="TextBox 25"/>
          <p:cNvSpPr/>
          <p:nvPr/>
        </p:nvSpPr>
        <p:spPr>
          <a:xfrm>
            <a:off x="33174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375" name="TextBox 26"/>
          <p:cNvSpPr/>
          <p:nvPr/>
        </p:nvSpPr>
        <p:spPr>
          <a:xfrm>
            <a:off x="462276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2</a:t>
            </a:r>
            <a:endParaRPr b="0" lang="en-US" sz="3600" spc="-1" strike="noStrike">
              <a:solidFill>
                <a:srgbClr val="000000"/>
              </a:solidFill>
              <a:latin typeface="Arial"/>
            </a:endParaRPr>
          </a:p>
        </p:txBody>
      </p:sp>
      <p:sp>
        <p:nvSpPr>
          <p:cNvPr id="376" name="TextBox 27"/>
          <p:cNvSpPr/>
          <p:nvPr/>
        </p:nvSpPr>
        <p:spPr>
          <a:xfrm>
            <a:off x="473904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377" name="TextBox 28"/>
          <p:cNvSpPr/>
          <p:nvPr/>
        </p:nvSpPr>
        <p:spPr>
          <a:xfrm>
            <a:off x="7509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4</a:t>
            </a:r>
            <a:endParaRPr b="0" lang="en-US" sz="3600" spc="-1" strike="noStrike">
              <a:solidFill>
                <a:srgbClr val="000000"/>
              </a:solidFill>
              <a:latin typeface="Arial"/>
            </a:endParaRPr>
          </a:p>
        </p:txBody>
      </p:sp>
      <p:sp>
        <p:nvSpPr>
          <p:cNvPr id="378" name="TextBox 29"/>
          <p:cNvSpPr/>
          <p:nvPr/>
        </p:nvSpPr>
        <p:spPr>
          <a:xfrm>
            <a:off x="762588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379" name="TextBox 30"/>
          <p:cNvSpPr/>
          <p:nvPr/>
        </p:nvSpPr>
        <p:spPr>
          <a:xfrm>
            <a:off x="60390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3</a:t>
            </a:r>
            <a:endParaRPr b="0" lang="en-US" sz="3600" spc="-1" strike="noStrike">
              <a:solidFill>
                <a:srgbClr val="000000"/>
              </a:solidFill>
              <a:latin typeface="Arial"/>
            </a:endParaRPr>
          </a:p>
        </p:txBody>
      </p:sp>
      <p:sp>
        <p:nvSpPr>
          <p:cNvPr id="380" name="TextBox 31"/>
          <p:cNvSpPr/>
          <p:nvPr/>
        </p:nvSpPr>
        <p:spPr>
          <a:xfrm>
            <a:off x="61758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381" name="矩形 41"/>
          <p:cNvSpPr/>
          <p:nvPr/>
        </p:nvSpPr>
        <p:spPr>
          <a:xfrm>
            <a:off x="324180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2" name="矩形 42"/>
          <p:cNvSpPr/>
          <p:nvPr/>
        </p:nvSpPr>
        <p:spPr>
          <a:xfrm>
            <a:off x="469584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3" name="矩形 43"/>
          <p:cNvSpPr/>
          <p:nvPr/>
        </p:nvSpPr>
        <p:spPr>
          <a:xfrm>
            <a:off x="612936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4" name="矩形 44"/>
          <p:cNvSpPr/>
          <p:nvPr/>
        </p:nvSpPr>
        <p:spPr>
          <a:xfrm>
            <a:off x="757080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5" name="文本框 45"/>
          <p:cNvSpPr/>
          <p:nvPr/>
        </p:nvSpPr>
        <p:spPr>
          <a:xfrm>
            <a:off x="7889760" y="417528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a:t>
            </a:r>
            <a:endParaRPr b="0" lang="en-US" sz="1800" spc="-1" strike="noStrike">
              <a:solidFill>
                <a:srgbClr val="000000"/>
              </a:solidFill>
              <a:latin typeface="Arial"/>
            </a:endParaRPr>
          </a:p>
        </p:txBody>
      </p:sp>
      <p:sp>
        <p:nvSpPr>
          <p:cNvPr id="386" name="文本框 46"/>
          <p:cNvSpPr/>
          <p:nvPr/>
        </p:nvSpPr>
        <p:spPr>
          <a:xfrm>
            <a:off x="7889760" y="365292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95959"/>
                </a:solidFill>
                <a:latin typeface="微软雅黑"/>
                <a:ea typeface="微软雅黑"/>
              </a:rPr>
              <a:t>添加标题</a:t>
            </a:r>
            <a:endParaRPr b="0" lang="en-US" sz="3200" spc="-1" strike="noStrike">
              <a:solidFill>
                <a:srgbClr val="000000"/>
              </a:solidFill>
              <a:latin typeface="Arial"/>
            </a:endParaRPr>
          </a:p>
        </p:txBody>
      </p:sp>
      <p:sp>
        <p:nvSpPr>
          <p:cNvPr id="387" name="Freeform 5"/>
          <p:cNvSpPr/>
          <p:nvPr/>
        </p:nvSpPr>
        <p:spPr>
          <a:xfrm>
            <a:off x="4757760" y="165420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3333600" y="4000680"/>
            <a:ext cx="481320" cy="474480"/>
          </a:xfrm>
          <a:custGeom>
            <a:avLst/>
            <a:gdLst>
              <a:gd name="textAreaLeft" fmla="*/ 0 w 481320"/>
              <a:gd name="textAreaRight" fmla="*/ 481680 w 481320"/>
              <a:gd name="textAreaTop" fmla="*/ 0 h 474480"/>
              <a:gd name="textAreaBottom" fmla="*/ 474840 h 4744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3"/>
          <p:cNvSpPr/>
          <p:nvPr/>
        </p:nvSpPr>
        <p:spPr>
          <a:xfrm>
            <a:off x="6242040" y="4105440"/>
            <a:ext cx="401760" cy="401400"/>
          </a:xfrm>
          <a:custGeom>
            <a:avLst/>
            <a:gdLst>
              <a:gd name="textAreaLeft" fmla="*/ 0 w 401760"/>
              <a:gd name="textAreaRight" fmla="*/ 402120 w 401760"/>
              <a:gd name="textAreaTop" fmla="*/ 0 h 401400"/>
              <a:gd name="textAreaBottom" fmla="*/ 401760 h 4014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7"/>
          <p:cNvSpPr/>
          <p:nvPr/>
        </p:nvSpPr>
        <p:spPr>
          <a:xfrm>
            <a:off x="7666200" y="1733400"/>
            <a:ext cx="449280" cy="327240"/>
          </a:xfrm>
          <a:custGeom>
            <a:avLst/>
            <a:gdLst>
              <a:gd name="textAreaLeft" fmla="*/ 0 w 449280"/>
              <a:gd name="textAreaRight" fmla="*/ 449640 w 449280"/>
              <a:gd name="textAreaTop" fmla="*/ 0 h 327240"/>
              <a:gd name="textAreaBottom" fmla="*/ 327600 h 32724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组合 47"/>
          <p:cNvGrpSpPr/>
          <p:nvPr/>
        </p:nvGrpSpPr>
        <p:grpSpPr>
          <a:xfrm>
            <a:off x="7072200" y="985680"/>
            <a:ext cx="3503880" cy="1303560"/>
            <a:chOff x="7072200" y="985680"/>
            <a:chExt cx="3503880" cy="1303560"/>
          </a:xfrm>
        </p:grpSpPr>
        <p:grpSp>
          <p:nvGrpSpPr>
            <p:cNvPr id="393" name="组合 40"/>
            <p:cNvGrpSpPr/>
            <p:nvPr/>
          </p:nvGrpSpPr>
          <p:grpSpPr>
            <a:xfrm>
              <a:off x="7072200" y="985680"/>
              <a:ext cx="3503880" cy="1303560"/>
              <a:chOff x="7072200" y="985680"/>
              <a:chExt cx="3503880" cy="1303560"/>
            </a:xfrm>
          </p:grpSpPr>
          <p:sp>
            <p:nvSpPr>
              <p:cNvPr id="394" name="圆角矩形 4"/>
              <p:cNvSpPr/>
              <p:nvPr/>
            </p:nvSpPr>
            <p:spPr>
              <a:xfrm>
                <a:off x="7072200" y="985680"/>
                <a:ext cx="3503880" cy="1303560"/>
              </a:xfrm>
              <a:prstGeom prst="roundRect">
                <a:avLst>
                  <a:gd name="adj" fmla="val 15046"/>
                </a:avLst>
              </a:prstGeom>
              <a:noFill/>
              <a:ln w="4752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Box 42"/>
              <p:cNvSpPr/>
              <p:nvPr/>
            </p:nvSpPr>
            <p:spPr>
              <a:xfrm>
                <a:off x="7585200" y="1167120"/>
                <a:ext cx="1608840" cy="45972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396" name="矩形 45"/>
              <p:cNvSpPr/>
              <p:nvPr/>
            </p:nvSpPr>
            <p:spPr>
              <a:xfrm>
                <a:off x="7606080" y="1666440"/>
                <a:ext cx="2594520" cy="26136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圆角矩形 3"/>
            <p:cNvSpPr/>
            <p:nvPr/>
          </p:nvSpPr>
          <p:spPr>
            <a:xfrm>
              <a:off x="7107120" y="1087200"/>
              <a:ext cx="3289680" cy="1100520"/>
            </a:xfrm>
            <a:prstGeom prst="roundRect">
              <a:avLst>
                <a:gd name="adj" fmla="val 16667"/>
              </a:avLst>
            </a:prstGeom>
            <a:solidFill>
              <a:srgbClr val="96a787"/>
            </a:solidFill>
            <a:ln w="12600">
              <a:solidFill>
                <a:srgbClr val="83c83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TextBox 4"/>
          <p:cNvSpPr/>
          <p:nvPr/>
        </p:nvSpPr>
        <p:spPr>
          <a:xfrm>
            <a:off x="1654200" y="115236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圆角矩形 8"/>
          <p:cNvSpPr/>
          <p:nvPr/>
        </p:nvSpPr>
        <p:spPr>
          <a:xfrm>
            <a:off x="7151760" y="4873680"/>
            <a:ext cx="3289320" cy="1101600"/>
          </a:xfrm>
          <a:prstGeom prst="roundRect">
            <a:avLst>
              <a:gd name="adj" fmla="val 16667"/>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圆角矩形 9"/>
          <p:cNvSpPr/>
          <p:nvPr/>
        </p:nvSpPr>
        <p:spPr>
          <a:xfrm>
            <a:off x="7112160" y="2963880"/>
            <a:ext cx="3290760" cy="1101600"/>
          </a:xfrm>
          <a:prstGeom prst="roundRect">
            <a:avLst>
              <a:gd name="adj" fmla="val 16667"/>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10"/>
          <p:cNvSpPr/>
          <p:nvPr/>
        </p:nvSpPr>
        <p:spPr>
          <a:xfrm>
            <a:off x="6213600" y="1063800"/>
            <a:ext cx="1162080" cy="1161720"/>
          </a:xfrm>
          <a:prstGeom prst="ellipse">
            <a:avLst/>
          </a:prstGeom>
          <a:solidFill>
            <a:srgbClr val="ffffff"/>
          </a:solidFill>
          <a:ln w="1260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11"/>
          <p:cNvSpPr/>
          <p:nvPr/>
        </p:nvSpPr>
        <p:spPr>
          <a:xfrm>
            <a:off x="6305400" y="1146240"/>
            <a:ext cx="992160" cy="996840"/>
          </a:xfrm>
          <a:prstGeom prst="ellips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圆角矩形 13"/>
          <p:cNvSpPr/>
          <p:nvPr/>
        </p:nvSpPr>
        <p:spPr>
          <a:xfrm>
            <a:off x="7024680" y="2865600"/>
            <a:ext cx="3503520" cy="1303200"/>
          </a:xfrm>
          <a:prstGeom prst="roundRect">
            <a:avLst>
              <a:gd name="adj" fmla="val 15046"/>
            </a:avLst>
          </a:prstGeom>
          <a:noFill/>
          <a:ln w="4752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14"/>
          <p:cNvSpPr/>
          <p:nvPr/>
        </p:nvSpPr>
        <p:spPr>
          <a:xfrm>
            <a:off x="6275520" y="2936880"/>
            <a:ext cx="1160280" cy="1160280"/>
          </a:xfrm>
          <a:prstGeom prst="ellipse">
            <a:avLst/>
          </a:prstGeom>
          <a:solidFill>
            <a:srgbClr val="ffffff"/>
          </a:solidFill>
          <a:ln w="1260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Box 42"/>
          <p:cNvSpPr/>
          <p:nvPr/>
        </p:nvSpPr>
        <p:spPr>
          <a:xfrm>
            <a:off x="7758000" y="304812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406" name="矩形 14"/>
          <p:cNvSpPr/>
          <p:nvPr/>
        </p:nvSpPr>
        <p:spPr>
          <a:xfrm>
            <a:off x="7559640" y="3546360"/>
            <a:ext cx="259416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圆角矩形 19"/>
          <p:cNvSpPr/>
          <p:nvPr/>
        </p:nvSpPr>
        <p:spPr>
          <a:xfrm>
            <a:off x="7061040" y="4768920"/>
            <a:ext cx="3505320" cy="1305000"/>
          </a:xfrm>
          <a:prstGeom prst="roundRect">
            <a:avLst>
              <a:gd name="adj" fmla="val 15046"/>
            </a:avLst>
          </a:prstGeom>
          <a:noFill/>
          <a:ln w="4752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20"/>
          <p:cNvSpPr/>
          <p:nvPr/>
        </p:nvSpPr>
        <p:spPr>
          <a:xfrm>
            <a:off x="6311880" y="4840200"/>
            <a:ext cx="1160640" cy="1160640"/>
          </a:xfrm>
          <a:prstGeom prst="ellipse">
            <a:avLst/>
          </a:prstGeom>
          <a:solidFill>
            <a:srgbClr val="ffffff"/>
          </a:solidFill>
          <a:ln w="1260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1"/>
          <p:cNvSpPr/>
          <p:nvPr/>
        </p:nvSpPr>
        <p:spPr>
          <a:xfrm>
            <a:off x="6404040" y="4923000"/>
            <a:ext cx="992160" cy="99504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Box 42"/>
          <p:cNvSpPr/>
          <p:nvPr/>
        </p:nvSpPr>
        <p:spPr>
          <a:xfrm>
            <a:off x="7783560" y="495144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grpSp>
        <p:nvGrpSpPr>
          <p:cNvPr id="411" name="组合 24"/>
          <p:cNvGrpSpPr/>
          <p:nvPr/>
        </p:nvGrpSpPr>
        <p:grpSpPr>
          <a:xfrm>
            <a:off x="6519960" y="1336680"/>
            <a:ext cx="547560" cy="611280"/>
            <a:chOff x="6519960" y="1336680"/>
            <a:chExt cx="547560" cy="611280"/>
          </a:xfrm>
        </p:grpSpPr>
        <p:grpSp>
          <p:nvGrpSpPr>
            <p:cNvPr id="412" name="组合 25"/>
            <p:cNvGrpSpPr/>
            <p:nvPr/>
          </p:nvGrpSpPr>
          <p:grpSpPr>
            <a:xfrm>
              <a:off x="6519960" y="1380240"/>
              <a:ext cx="547560" cy="567720"/>
              <a:chOff x="6519960" y="1380240"/>
              <a:chExt cx="547560" cy="567720"/>
            </a:xfrm>
          </p:grpSpPr>
          <p:sp>
            <p:nvSpPr>
              <p:cNvPr id="413" name="流程图: 手动操作 7"/>
              <p:cNvSpPr/>
              <p:nvPr/>
            </p:nvSpPr>
            <p:spPr>
              <a:xfrm>
                <a:off x="6554520" y="1533960"/>
                <a:ext cx="478440" cy="414000"/>
              </a:xfrm>
              <a:custGeom>
                <a:avLst/>
                <a:gdLst>
                  <a:gd name="textAreaLeft" fmla="*/ 0 w 478440"/>
                  <a:gd name="textAreaRight" fmla="*/ 478800 w 478440"/>
                  <a:gd name="textAreaTop" fmla="*/ 0 h 414000"/>
                  <a:gd name="textAreaBottom" fmla="*/ 414360 h 41400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剪去同侧角的矩形 9"/>
              <p:cNvSpPr/>
              <p:nvPr/>
            </p:nvSpPr>
            <p:spPr>
              <a:xfrm>
                <a:off x="6519960" y="138024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5" name="圆角矩形 26"/>
            <p:cNvSpPr/>
            <p:nvPr/>
          </p:nvSpPr>
          <p:spPr>
            <a:xfrm>
              <a:off x="6721560" y="1336680"/>
              <a:ext cx="151560" cy="59040"/>
            </a:xfrm>
            <a:prstGeom prst="roundRect">
              <a:avLst>
                <a:gd name="adj" fmla="val 16667"/>
              </a:avLst>
            </a:prstGeom>
            <a:solidFill>
              <a:srgbClr val="f9ecdc"/>
            </a:solidFill>
            <a:ln w="0">
              <a:noFill/>
            </a:ln>
          </p:spPr>
          <p:style>
            <a:lnRef idx="0"/>
            <a:fillRef idx="0"/>
            <a:effectRef idx="0"/>
            <a:fontRef idx="minor"/>
          </p:style>
          <p:txBody>
            <a:bodyPr lIns="90000" rIns="90000" tIns="6480" bIns="6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椭圆 29"/>
          <p:cNvSpPr/>
          <p:nvPr/>
        </p:nvSpPr>
        <p:spPr>
          <a:xfrm>
            <a:off x="6356520" y="3014640"/>
            <a:ext cx="998280" cy="1003320"/>
          </a:xfrm>
          <a:prstGeom prst="ellips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组合 30"/>
          <p:cNvGrpSpPr/>
          <p:nvPr/>
        </p:nvGrpSpPr>
        <p:grpSpPr>
          <a:xfrm>
            <a:off x="6383880" y="3020400"/>
            <a:ext cx="986400" cy="951480"/>
            <a:chOff x="6383880" y="3020400"/>
            <a:chExt cx="986400" cy="951480"/>
          </a:xfrm>
        </p:grpSpPr>
        <p:sp>
          <p:nvSpPr>
            <p:cNvPr id="418" name="椭圆 31"/>
            <p:cNvSpPr/>
            <p:nvPr/>
          </p:nvSpPr>
          <p:spPr>
            <a:xfrm>
              <a:off x="6812640" y="3446640"/>
              <a:ext cx="137880" cy="1378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空心弧 32"/>
            <p:cNvSpPr/>
            <p:nvPr/>
          </p:nvSpPr>
          <p:spPr>
            <a:xfrm>
              <a:off x="6521400" y="318888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20" name="空心弧 33"/>
            <p:cNvSpPr/>
            <p:nvPr/>
          </p:nvSpPr>
          <p:spPr>
            <a:xfrm rot="14400000">
              <a:off x="6500880" y="316944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21" name="空心弧 34"/>
            <p:cNvSpPr/>
            <p:nvPr/>
          </p:nvSpPr>
          <p:spPr>
            <a:xfrm rot="7200000">
              <a:off x="6561000" y="315216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422" name="组合 33"/>
          <p:cNvGrpSpPr/>
          <p:nvPr/>
        </p:nvGrpSpPr>
        <p:grpSpPr>
          <a:xfrm>
            <a:off x="6627960" y="5187960"/>
            <a:ext cx="506160" cy="498600"/>
            <a:chOff x="6627960" y="5187960"/>
            <a:chExt cx="506160" cy="498600"/>
          </a:xfrm>
        </p:grpSpPr>
        <p:sp>
          <p:nvSpPr>
            <p:cNvPr id="423" name="Freeform 91"/>
            <p:cNvSpPr/>
            <p:nvPr/>
          </p:nvSpPr>
          <p:spPr>
            <a:xfrm>
              <a:off x="6627960" y="5187960"/>
              <a:ext cx="465120" cy="464400"/>
            </a:xfrm>
            <a:custGeom>
              <a:avLst/>
              <a:gdLst>
                <a:gd name="textAreaLeft" fmla="*/ 0 w 465120"/>
                <a:gd name="textAreaRight" fmla="*/ 465480 w 46512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92"/>
            <p:cNvSpPr/>
            <p:nvPr/>
          </p:nvSpPr>
          <p:spPr>
            <a:xfrm>
              <a:off x="6657840" y="5211000"/>
              <a:ext cx="476280" cy="475560"/>
            </a:xfrm>
            <a:custGeom>
              <a:avLst/>
              <a:gdLst>
                <a:gd name="textAreaLeft" fmla="*/ 0 w 476280"/>
                <a:gd name="textAreaRight" fmla="*/ 476640 w 47628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 name="矩形 36"/>
          <p:cNvSpPr/>
          <p:nvPr/>
        </p:nvSpPr>
        <p:spPr>
          <a:xfrm>
            <a:off x="7758000" y="351468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426" name="矩形 37"/>
          <p:cNvSpPr/>
          <p:nvPr/>
        </p:nvSpPr>
        <p:spPr>
          <a:xfrm>
            <a:off x="7804080" y="5400720"/>
            <a:ext cx="213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427" name="直接连接符 41"/>
          <p:cNvSpPr/>
          <p:nvPr/>
        </p:nvSpPr>
        <p:spPr>
          <a:xfrm flipH="1">
            <a:off x="1763280" y="3251160"/>
            <a:ext cx="3274920" cy="1800"/>
          </a:xfrm>
          <a:prstGeom prst="line">
            <a:avLst/>
          </a:prstGeom>
          <a:ln w="12600">
            <a:solidFill>
              <a:srgbClr val="3f3f3f"/>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8" name="TextBox 4"/>
          <p:cNvSpPr/>
          <p:nvPr/>
        </p:nvSpPr>
        <p:spPr>
          <a:xfrm>
            <a:off x="1670040" y="374796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TextBox 42"/>
          <p:cNvSpPr/>
          <p:nvPr/>
        </p:nvSpPr>
        <p:spPr>
          <a:xfrm>
            <a:off x="7758000" y="112716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430" name="矩形 36"/>
          <p:cNvSpPr/>
          <p:nvPr/>
        </p:nvSpPr>
        <p:spPr>
          <a:xfrm>
            <a:off x="7758000" y="159372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图片 1" descr=""/>
          <p:cNvPicPr/>
          <p:nvPr/>
        </p:nvPicPr>
        <p:blipFill>
          <a:blip r:embed="rId1"/>
          <a:stretch/>
        </p:blipFill>
        <p:spPr>
          <a:xfrm>
            <a:off x="25560" y="0"/>
            <a:ext cx="12166560" cy="68724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流程图: 延期 2"/>
          <p:cNvSpPr/>
          <p:nvPr/>
        </p:nvSpPr>
        <p:spPr>
          <a:xfrm>
            <a:off x="1797120" y="844560"/>
            <a:ext cx="2709720" cy="12952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流程图: 延期 3"/>
          <p:cNvSpPr/>
          <p:nvPr/>
        </p:nvSpPr>
        <p:spPr>
          <a:xfrm rot="10800000">
            <a:off x="4605120" y="767880"/>
            <a:ext cx="5979960" cy="14464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流程图: 终止 4"/>
          <p:cNvSpPr/>
          <p:nvPr/>
        </p:nvSpPr>
        <p:spPr>
          <a:xfrm>
            <a:off x="3989520" y="1374840"/>
            <a:ext cx="1133280" cy="2649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流程图: 联系 5"/>
          <p:cNvSpPr/>
          <p:nvPr/>
        </p:nvSpPr>
        <p:spPr>
          <a:xfrm>
            <a:off x="473400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流程图: 联系 6"/>
          <p:cNvSpPr/>
          <p:nvPr/>
        </p:nvSpPr>
        <p:spPr>
          <a:xfrm>
            <a:off x="396252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流程图: 延期 10"/>
          <p:cNvSpPr/>
          <p:nvPr/>
        </p:nvSpPr>
        <p:spPr>
          <a:xfrm rot="10800000">
            <a:off x="7875360" y="2755440"/>
            <a:ext cx="2709720" cy="129564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流程图: 延期 11"/>
          <p:cNvSpPr/>
          <p:nvPr/>
        </p:nvSpPr>
        <p:spPr>
          <a:xfrm>
            <a:off x="1797120" y="2681280"/>
            <a:ext cx="5981760" cy="144468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流程图: 终止 12"/>
          <p:cNvSpPr/>
          <p:nvPr/>
        </p:nvSpPr>
        <p:spPr>
          <a:xfrm rot="10800000">
            <a:off x="7261200" y="3254040"/>
            <a:ext cx="1131840" cy="2667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流程图: 联系 13"/>
          <p:cNvSpPr/>
          <p:nvPr/>
        </p:nvSpPr>
        <p:spPr>
          <a:xfrm rot="10800000">
            <a:off x="7256160" y="3190680"/>
            <a:ext cx="39348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流程图: 联系 14"/>
          <p:cNvSpPr/>
          <p:nvPr/>
        </p:nvSpPr>
        <p:spPr>
          <a:xfrm rot="10800000">
            <a:off x="8028000" y="3190680"/>
            <a:ext cx="39384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流程图: 延期 17"/>
          <p:cNvSpPr/>
          <p:nvPr/>
        </p:nvSpPr>
        <p:spPr>
          <a:xfrm>
            <a:off x="1797120" y="4697280"/>
            <a:ext cx="2709720" cy="129564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流程图: 延期 18"/>
          <p:cNvSpPr/>
          <p:nvPr/>
        </p:nvSpPr>
        <p:spPr>
          <a:xfrm rot="10800000">
            <a:off x="4605120" y="4622400"/>
            <a:ext cx="5979960" cy="144468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流程图: 终止 19"/>
          <p:cNvSpPr/>
          <p:nvPr/>
        </p:nvSpPr>
        <p:spPr>
          <a:xfrm>
            <a:off x="3989520" y="5227560"/>
            <a:ext cx="1133280" cy="26532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流程图: 联系 20"/>
          <p:cNvSpPr/>
          <p:nvPr/>
        </p:nvSpPr>
        <p:spPr>
          <a:xfrm>
            <a:off x="473400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流程图: 联系 21"/>
          <p:cNvSpPr/>
          <p:nvPr/>
        </p:nvSpPr>
        <p:spPr>
          <a:xfrm>
            <a:off x="396252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23"/>
          <p:cNvSpPr/>
          <p:nvPr/>
        </p:nvSpPr>
        <p:spPr>
          <a:xfrm>
            <a:off x="2424240" y="104472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1</a:t>
            </a:r>
            <a:endParaRPr b="0" lang="en-US" sz="6000" spc="-1" strike="noStrike">
              <a:solidFill>
                <a:srgbClr val="000000"/>
              </a:solidFill>
              <a:latin typeface="Arial"/>
            </a:endParaRPr>
          </a:p>
        </p:txBody>
      </p:sp>
      <p:sp>
        <p:nvSpPr>
          <p:cNvPr id="448" name="文本框 24"/>
          <p:cNvSpPr/>
          <p:nvPr/>
        </p:nvSpPr>
        <p:spPr>
          <a:xfrm>
            <a:off x="8899560" y="2895480"/>
            <a:ext cx="1123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02</a:t>
            </a:r>
            <a:endParaRPr b="0" lang="en-US" sz="6000" spc="-1" strike="noStrike">
              <a:solidFill>
                <a:srgbClr val="000000"/>
              </a:solidFill>
              <a:latin typeface="Arial"/>
            </a:endParaRPr>
          </a:p>
        </p:txBody>
      </p:sp>
      <p:sp>
        <p:nvSpPr>
          <p:cNvPr id="449" name="文本框 25"/>
          <p:cNvSpPr/>
          <p:nvPr/>
        </p:nvSpPr>
        <p:spPr>
          <a:xfrm>
            <a:off x="2424240" y="483696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3</a:t>
            </a:r>
            <a:endParaRPr b="0" lang="en-US" sz="6000" spc="-1" strike="noStrike">
              <a:solidFill>
                <a:srgbClr val="000000"/>
              </a:solidFill>
              <a:latin typeface="Arial"/>
            </a:endParaRPr>
          </a:p>
        </p:txBody>
      </p:sp>
      <p:sp>
        <p:nvSpPr>
          <p:cNvPr id="450" name="文本框 26"/>
          <p:cNvSpPr/>
          <p:nvPr/>
        </p:nvSpPr>
        <p:spPr>
          <a:xfrm>
            <a:off x="6846840" y="100980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
        <p:nvSpPr>
          <p:cNvPr id="451" name="文本框 27"/>
          <p:cNvSpPr/>
          <p:nvPr/>
        </p:nvSpPr>
        <p:spPr>
          <a:xfrm>
            <a:off x="3178080" y="2895480"/>
            <a:ext cx="275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p:txBody>
      </p:sp>
      <p:sp>
        <p:nvSpPr>
          <p:cNvPr id="452" name="文本框 28"/>
          <p:cNvSpPr/>
          <p:nvPr/>
        </p:nvSpPr>
        <p:spPr>
          <a:xfrm>
            <a:off x="6846840" y="485316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26"/>
          <p:cNvSpPr/>
          <p:nvPr/>
        </p:nvSpPr>
        <p:spPr>
          <a:xfrm>
            <a:off x="784872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矩形 25"/>
          <p:cNvSpPr/>
          <p:nvPr/>
        </p:nvSpPr>
        <p:spPr>
          <a:xfrm>
            <a:off x="485928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24"/>
          <p:cNvSpPr/>
          <p:nvPr/>
        </p:nvSpPr>
        <p:spPr>
          <a:xfrm>
            <a:off x="1882800" y="968400"/>
            <a:ext cx="24890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组合 8"/>
          <p:cNvGrpSpPr/>
          <p:nvPr/>
        </p:nvGrpSpPr>
        <p:grpSpPr>
          <a:xfrm>
            <a:off x="593640" y="2725560"/>
            <a:ext cx="3778200" cy="2576520"/>
            <a:chOff x="593640" y="2725560"/>
            <a:chExt cx="3778200" cy="2576520"/>
          </a:xfrm>
        </p:grpSpPr>
        <p:sp>
          <p:nvSpPr>
            <p:cNvPr id="458" name="矩形 2"/>
            <p:cNvSpPr/>
            <p:nvPr/>
          </p:nvSpPr>
          <p:spPr>
            <a:xfrm>
              <a:off x="1881720" y="2725560"/>
              <a:ext cx="2490120" cy="2576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直角三角形 3"/>
            <p:cNvSpPr/>
            <p:nvPr/>
          </p:nvSpPr>
          <p:spPr>
            <a:xfrm rot="2689800">
              <a:off x="973080" y="3101040"/>
              <a:ext cx="1814040" cy="182520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矩形 4"/>
          <p:cNvSpPr/>
          <p:nvPr/>
        </p:nvSpPr>
        <p:spPr>
          <a:xfrm>
            <a:off x="4861080" y="2725560"/>
            <a:ext cx="2487600" cy="257508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1" name="组合 7"/>
          <p:cNvGrpSpPr/>
          <p:nvPr/>
        </p:nvGrpSpPr>
        <p:grpSpPr>
          <a:xfrm>
            <a:off x="7824960" y="2725200"/>
            <a:ext cx="3773520" cy="2575080"/>
            <a:chOff x="7824960" y="2725200"/>
            <a:chExt cx="3773520" cy="2575080"/>
          </a:xfrm>
        </p:grpSpPr>
        <p:sp>
          <p:nvSpPr>
            <p:cNvPr id="462" name="矩形 5"/>
            <p:cNvSpPr/>
            <p:nvPr/>
          </p:nvSpPr>
          <p:spPr>
            <a:xfrm rot="10800000">
              <a:off x="7824960" y="2725200"/>
              <a:ext cx="2489040" cy="25750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直角三角形 6"/>
            <p:cNvSpPr/>
            <p:nvPr/>
          </p:nvSpPr>
          <p:spPr>
            <a:xfrm rot="13490400">
              <a:off x="9406080" y="3102120"/>
              <a:ext cx="1812960" cy="182412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矩形 1"/>
          <p:cNvSpPr/>
          <p:nvPr/>
        </p:nvSpPr>
        <p:spPr>
          <a:xfrm>
            <a:off x="2255760" y="37004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465" name="文本框 19"/>
          <p:cNvSpPr/>
          <p:nvPr/>
        </p:nvSpPr>
        <p:spPr>
          <a:xfrm>
            <a:off x="2575080" y="294804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466" name="矩形 1"/>
          <p:cNvSpPr/>
          <p:nvPr/>
        </p:nvSpPr>
        <p:spPr>
          <a:xfrm>
            <a:off x="5262480" y="37148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467" name="文本框 21"/>
          <p:cNvSpPr/>
          <p:nvPr/>
        </p:nvSpPr>
        <p:spPr>
          <a:xfrm>
            <a:off x="5554800" y="2962440"/>
            <a:ext cx="117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468" name="矩形 1"/>
          <p:cNvSpPr/>
          <p:nvPr/>
        </p:nvSpPr>
        <p:spPr>
          <a:xfrm>
            <a:off x="8150400" y="370044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469" name="文本框 23"/>
          <p:cNvSpPr/>
          <p:nvPr/>
        </p:nvSpPr>
        <p:spPr>
          <a:xfrm>
            <a:off x="8427960" y="2948040"/>
            <a:ext cx="117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470" name="文本框 17"/>
          <p:cNvSpPr/>
          <p:nvPr/>
        </p:nvSpPr>
        <p:spPr>
          <a:xfrm>
            <a:off x="2120760" y="1165320"/>
            <a:ext cx="2011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96a787"/>
                </a:solidFill>
                <a:latin typeface="微软雅黑"/>
                <a:ea typeface="微软雅黑"/>
              </a:rPr>
              <a:t>01</a:t>
            </a:r>
            <a:endParaRPr b="0" lang="en-US" sz="8800" spc="-1" strike="noStrike">
              <a:solidFill>
                <a:srgbClr val="000000"/>
              </a:solidFill>
              <a:latin typeface="Arial"/>
            </a:endParaRPr>
          </a:p>
        </p:txBody>
      </p:sp>
      <p:sp>
        <p:nvSpPr>
          <p:cNvPr id="471" name="文本框 27"/>
          <p:cNvSpPr/>
          <p:nvPr/>
        </p:nvSpPr>
        <p:spPr>
          <a:xfrm>
            <a:off x="5310360" y="1173240"/>
            <a:ext cx="1795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7f7f7f"/>
                </a:solidFill>
                <a:latin typeface="微软雅黑"/>
                <a:ea typeface="微软雅黑"/>
              </a:rPr>
              <a:t>02</a:t>
            </a:r>
            <a:endParaRPr b="0" lang="en-US" sz="8800" spc="-1" strike="noStrike">
              <a:solidFill>
                <a:srgbClr val="000000"/>
              </a:solidFill>
              <a:latin typeface="Arial"/>
            </a:endParaRPr>
          </a:p>
        </p:txBody>
      </p:sp>
      <p:sp>
        <p:nvSpPr>
          <p:cNvPr id="472" name="文本框 28"/>
          <p:cNvSpPr/>
          <p:nvPr/>
        </p:nvSpPr>
        <p:spPr>
          <a:xfrm>
            <a:off x="8283600" y="1225440"/>
            <a:ext cx="1620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db6344"/>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475"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476"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组合 19"/>
          <p:cNvGrpSpPr/>
          <p:nvPr/>
        </p:nvGrpSpPr>
        <p:grpSpPr>
          <a:xfrm>
            <a:off x="5472000" y="0"/>
            <a:ext cx="1247760" cy="1106640"/>
            <a:chOff x="5472000" y="0"/>
            <a:chExt cx="1247760" cy="1106640"/>
          </a:xfrm>
        </p:grpSpPr>
        <p:sp>
          <p:nvSpPr>
            <p:cNvPr id="478"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480"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13"/>
          <p:cNvSpPr/>
          <p:nvPr/>
        </p:nvSpPr>
        <p:spPr>
          <a:xfrm>
            <a:off x="8047080" y="13971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3" name="矩形 13"/>
          <p:cNvSpPr/>
          <p:nvPr/>
        </p:nvSpPr>
        <p:spPr>
          <a:xfrm>
            <a:off x="8047080" y="2430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4" name="矩形 13"/>
          <p:cNvSpPr/>
          <p:nvPr/>
        </p:nvSpPr>
        <p:spPr>
          <a:xfrm>
            <a:off x="8047080" y="3465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5" name="矩形 13"/>
          <p:cNvSpPr/>
          <p:nvPr/>
        </p:nvSpPr>
        <p:spPr>
          <a:xfrm>
            <a:off x="8047080" y="449892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6" name="矩形 2"/>
          <p:cNvSpPr/>
          <p:nvPr/>
        </p:nvSpPr>
        <p:spPr>
          <a:xfrm>
            <a:off x="-6480" y="4794120"/>
            <a:ext cx="1284480" cy="1382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3"/>
          <p:cNvSpPr/>
          <p:nvPr/>
        </p:nvSpPr>
        <p:spPr>
          <a:xfrm>
            <a:off x="-6480" y="3411360"/>
            <a:ext cx="1284480" cy="138276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矩形 4"/>
          <p:cNvSpPr/>
          <p:nvPr/>
        </p:nvSpPr>
        <p:spPr>
          <a:xfrm>
            <a:off x="-6480" y="2041560"/>
            <a:ext cx="1284480" cy="13827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矩形 5"/>
          <p:cNvSpPr/>
          <p:nvPr/>
        </p:nvSpPr>
        <p:spPr>
          <a:xfrm>
            <a:off x="-6480" y="663480"/>
            <a:ext cx="1284480" cy="13845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矩形 6"/>
          <p:cNvSpPr/>
          <p:nvPr/>
        </p:nvSpPr>
        <p:spPr>
          <a:xfrm>
            <a:off x="3784680" y="440064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7"/>
          <p:cNvSpPr/>
          <p:nvPr/>
        </p:nvSpPr>
        <p:spPr>
          <a:xfrm>
            <a:off x="3784680" y="3403440"/>
            <a:ext cx="3593880" cy="9972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8"/>
          <p:cNvSpPr/>
          <p:nvPr/>
        </p:nvSpPr>
        <p:spPr>
          <a:xfrm>
            <a:off x="3784680" y="2416320"/>
            <a:ext cx="3593880" cy="9968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9"/>
          <p:cNvSpPr/>
          <p:nvPr/>
        </p:nvSpPr>
        <p:spPr>
          <a:xfrm>
            <a:off x="3784680" y="142416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矩形 28"/>
          <p:cNvSpPr/>
          <p:nvPr/>
        </p:nvSpPr>
        <p:spPr>
          <a:xfrm>
            <a:off x="1276200" y="663480"/>
            <a:ext cx="2508480" cy="1757520"/>
          </a:xfrm>
          <a:custGeom>
            <a:avLst/>
            <a:gdLst>
              <a:gd name="textAreaLeft" fmla="*/ 0 w 2508480"/>
              <a:gd name="textAreaRight" fmla="*/ 2508840 w 2508480"/>
              <a:gd name="textAreaTop" fmla="*/ 0 h 1757520"/>
              <a:gd name="textAreaBottom" fmla="*/ 1757880 h 175752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矩形 28"/>
          <p:cNvSpPr/>
          <p:nvPr/>
        </p:nvSpPr>
        <p:spPr>
          <a:xfrm>
            <a:off x="1276200" y="2044800"/>
            <a:ext cx="2513160" cy="1380960"/>
          </a:xfrm>
          <a:custGeom>
            <a:avLst/>
            <a:gdLst>
              <a:gd name="textAreaLeft" fmla="*/ 0 w 2513160"/>
              <a:gd name="textAreaRight" fmla="*/ 2513520 w 2513160"/>
              <a:gd name="textAreaTop" fmla="*/ 0 h 1380960"/>
              <a:gd name="textAreaBottom" fmla="*/ 1381320 h 138096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矩形 28"/>
          <p:cNvSpPr/>
          <p:nvPr/>
        </p:nvSpPr>
        <p:spPr>
          <a:xfrm>
            <a:off x="1276200" y="3416400"/>
            <a:ext cx="2517840" cy="1377720"/>
          </a:xfrm>
          <a:custGeom>
            <a:avLst/>
            <a:gdLst>
              <a:gd name="textAreaLeft" fmla="*/ 0 w 2517840"/>
              <a:gd name="textAreaRight" fmla="*/ 2518200 w 2517840"/>
              <a:gd name="textAreaTop" fmla="*/ 0 h 1377720"/>
              <a:gd name="textAreaBottom" fmla="*/ 1378080 h 13777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矩形 28"/>
          <p:cNvSpPr/>
          <p:nvPr/>
        </p:nvSpPr>
        <p:spPr>
          <a:xfrm>
            <a:off x="1270080" y="4397400"/>
            <a:ext cx="2520720" cy="1779480"/>
          </a:xfrm>
          <a:custGeom>
            <a:avLst/>
            <a:gdLst>
              <a:gd name="textAreaLeft" fmla="*/ 0 w 2520720"/>
              <a:gd name="textAreaRight" fmla="*/ 2521080 w 2520720"/>
              <a:gd name="textAreaTop" fmla="*/ 0 h 1779480"/>
              <a:gd name="textAreaBottom" fmla="*/ 1779840 h 177948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矩形 14"/>
          <p:cNvSpPr/>
          <p:nvPr/>
        </p:nvSpPr>
        <p:spPr>
          <a:xfrm>
            <a:off x="3794040" y="1424160"/>
            <a:ext cx="717480" cy="397332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15"/>
          <p:cNvSpPr/>
          <p:nvPr/>
        </p:nvSpPr>
        <p:spPr>
          <a:xfrm rot="10800000">
            <a:off x="558360" y="663120"/>
            <a:ext cx="717480" cy="551340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Box 40"/>
          <p:cNvSpPr/>
          <p:nvPr/>
        </p:nvSpPr>
        <p:spPr>
          <a:xfrm>
            <a:off x="234720" y="10368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501" name="TextBox 42"/>
          <p:cNvSpPr/>
          <p:nvPr/>
        </p:nvSpPr>
        <p:spPr>
          <a:xfrm>
            <a:off x="186120" y="23796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502" name="矩形 25"/>
          <p:cNvSpPr/>
          <p:nvPr/>
        </p:nvSpPr>
        <p:spPr>
          <a:xfrm>
            <a:off x="153000" y="378468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503" name="矩形 26"/>
          <p:cNvSpPr/>
          <p:nvPr/>
        </p:nvSpPr>
        <p:spPr>
          <a:xfrm>
            <a:off x="153000" y="512604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504" name="Freeform 144"/>
          <p:cNvSpPr/>
          <p:nvPr/>
        </p:nvSpPr>
        <p:spPr>
          <a:xfrm>
            <a:off x="2244600" y="2459160"/>
            <a:ext cx="470160" cy="830160"/>
          </a:xfrm>
          <a:custGeom>
            <a:avLst/>
            <a:gdLst>
              <a:gd name="textAreaLeft" fmla="*/ 0 w 470160"/>
              <a:gd name="textAreaRight" fmla="*/ 470520 w 470160"/>
              <a:gd name="textAreaTop" fmla="*/ 0 h 830160"/>
              <a:gd name="textAreaBottom" fmla="*/ 830520 h 83016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solidFill>
            <a:srgbClr val="f9ecdc"/>
          </a:solidFill>
          <a:ln w="1908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nvGrpSpPr>
          <p:cNvPr id="505" name="Group 173"/>
          <p:cNvGrpSpPr/>
          <p:nvPr/>
        </p:nvGrpSpPr>
        <p:grpSpPr>
          <a:xfrm>
            <a:off x="2090880" y="3487680"/>
            <a:ext cx="693720" cy="893880"/>
            <a:chOff x="2090880" y="3487680"/>
            <a:chExt cx="693720" cy="893880"/>
          </a:xfrm>
        </p:grpSpPr>
        <p:sp>
          <p:nvSpPr>
            <p:cNvPr id="506" name="Freeform 19"/>
            <p:cNvSpPr/>
            <p:nvPr/>
          </p:nvSpPr>
          <p:spPr>
            <a:xfrm>
              <a:off x="2313720" y="3525840"/>
              <a:ext cx="165240" cy="166320"/>
            </a:xfrm>
            <a:custGeom>
              <a:avLst/>
              <a:gdLst>
                <a:gd name="textAreaLeft" fmla="*/ 0 w 165240"/>
                <a:gd name="textAreaRight" fmla="*/ 165600 w 165240"/>
                <a:gd name="textAreaTop" fmla="*/ 0 h 166320"/>
                <a:gd name="textAreaBottom" fmla="*/ 166680 h 16632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0"/>
            <p:cNvSpPr/>
            <p:nvPr/>
          </p:nvSpPr>
          <p:spPr>
            <a:xfrm>
              <a:off x="2462040" y="3487680"/>
              <a:ext cx="117000" cy="117720"/>
            </a:xfrm>
            <a:custGeom>
              <a:avLst/>
              <a:gdLst>
                <a:gd name="textAreaLeft" fmla="*/ 0 w 117000"/>
                <a:gd name="textAreaRight" fmla="*/ 117360 w 117000"/>
                <a:gd name="textAreaTop" fmla="*/ 0 h 117720"/>
                <a:gd name="textAreaBottom" fmla="*/ 118080 h 11772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Oval 21"/>
            <p:cNvSpPr/>
            <p:nvPr/>
          </p:nvSpPr>
          <p:spPr>
            <a:xfrm>
              <a:off x="2533680" y="3697920"/>
              <a:ext cx="43920" cy="44280"/>
            </a:xfrm>
            <a:prstGeom prst="ellipse">
              <a:avLst/>
            </a:prstGeom>
            <a:solidFill>
              <a:srgbClr val="f9ecdc"/>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22"/>
            <p:cNvSpPr/>
            <p:nvPr/>
          </p:nvSpPr>
          <p:spPr>
            <a:xfrm>
              <a:off x="2347560" y="3783600"/>
              <a:ext cx="29520" cy="30600"/>
            </a:xfrm>
            <a:prstGeom prst="ellipse">
              <a:avLst/>
            </a:prstGeom>
            <a:solidFill>
              <a:srgbClr val="f9ecdc"/>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3"/>
            <p:cNvSpPr/>
            <p:nvPr/>
          </p:nvSpPr>
          <p:spPr>
            <a:xfrm>
              <a:off x="2090880" y="3692160"/>
              <a:ext cx="693720" cy="689400"/>
            </a:xfrm>
            <a:custGeom>
              <a:avLst/>
              <a:gdLst>
                <a:gd name="textAreaLeft" fmla="*/ 0 w 693720"/>
                <a:gd name="textAreaRight" fmla="*/ 694080 w 693720"/>
                <a:gd name="textAreaTop" fmla="*/ 0 h 689400"/>
                <a:gd name="textAreaBottom" fmla="*/ 689400 h 68940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Oval 24"/>
            <p:cNvSpPr/>
            <p:nvPr/>
          </p:nvSpPr>
          <p:spPr>
            <a:xfrm>
              <a:off x="2462040" y="3870720"/>
              <a:ext cx="19800" cy="20520"/>
            </a:xfrm>
            <a:prstGeom prst="ellipse">
              <a:avLst/>
            </a:prstGeom>
            <a:solidFill>
              <a:srgbClr val="f9ecdc"/>
            </a:solidFill>
            <a:ln w="9360">
              <a:solidFill>
                <a:srgbClr val="000000"/>
              </a:solidFill>
              <a:miter/>
            </a:ln>
          </p:spPr>
          <p:style>
            <a:lnRef idx="0"/>
            <a:fillRef idx="0"/>
            <a:effectRef idx="0"/>
            <a:fontRef idx="minor"/>
          </p:style>
          <p:txBody>
            <a:bodyPr lIns="90000" rIns="90000" tIns="-32040" bIns="-32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5"/>
            <p:cNvSpPr/>
            <p:nvPr/>
          </p:nvSpPr>
          <p:spPr>
            <a:xfrm>
              <a:off x="2438640" y="3599640"/>
              <a:ext cx="228960" cy="92520"/>
            </a:xfrm>
            <a:custGeom>
              <a:avLst/>
              <a:gdLst>
                <a:gd name="textAreaLeft" fmla="*/ 0 w 228960"/>
                <a:gd name="textAreaRight" fmla="*/ 229320 w 228960"/>
                <a:gd name="textAreaTop" fmla="*/ 0 h 92520"/>
                <a:gd name="textAreaBottom" fmla="*/ 92880 h 9252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f9ecd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13" name="Freeform 89"/>
          <p:cNvSpPr/>
          <p:nvPr/>
        </p:nvSpPr>
        <p:spPr>
          <a:xfrm>
            <a:off x="2006640" y="1424160"/>
            <a:ext cx="861840" cy="554040"/>
          </a:xfrm>
          <a:custGeom>
            <a:avLst/>
            <a:gdLst>
              <a:gd name="textAreaLeft" fmla="*/ 0 w 861840"/>
              <a:gd name="textAreaRight" fmla="*/ 862200 w 861840"/>
              <a:gd name="textAreaTop" fmla="*/ 0 h 554040"/>
              <a:gd name="textAreaBottom" fmla="*/ 554400 h 55404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f9ecdc"/>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514" name="等腰三角形 24"/>
          <p:cNvSpPr/>
          <p:nvPr/>
        </p:nvSpPr>
        <p:spPr>
          <a:xfrm rot="5400000">
            <a:off x="7353360" y="1768320"/>
            <a:ext cx="35856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等腰三角形 25"/>
          <p:cNvSpPr/>
          <p:nvPr/>
        </p:nvSpPr>
        <p:spPr>
          <a:xfrm rot="5400000">
            <a:off x="7353000" y="2760480"/>
            <a:ext cx="358920" cy="30816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等腰三角形 26"/>
          <p:cNvSpPr/>
          <p:nvPr/>
        </p:nvSpPr>
        <p:spPr>
          <a:xfrm rot="5400000">
            <a:off x="7353360" y="3747960"/>
            <a:ext cx="358560" cy="30816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等腰三角形 27"/>
          <p:cNvSpPr/>
          <p:nvPr/>
        </p:nvSpPr>
        <p:spPr>
          <a:xfrm rot="5400000">
            <a:off x="7354080" y="4745880"/>
            <a:ext cx="35712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
          <p:cNvSpPr/>
          <p:nvPr/>
        </p:nvSpPr>
        <p:spPr>
          <a:xfrm>
            <a:off x="3798720" y="1676520"/>
            <a:ext cx="3589560" cy="666720"/>
          </a:xfrm>
          <a:custGeom>
            <a:avLst/>
            <a:gdLst>
              <a:gd name="textAreaLeft" fmla="*/ 0 w 3589560"/>
              <a:gd name="textAreaRight" fmla="*/ 3589920 w 3589560"/>
              <a:gd name="textAreaTop" fmla="*/ 0 h 666720"/>
              <a:gd name="textAreaBottom" fmla="*/ 667080 h 6667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519" name="矩形 15"/>
          <p:cNvSpPr/>
          <p:nvPr/>
        </p:nvSpPr>
        <p:spPr>
          <a:xfrm>
            <a:off x="4960080" y="173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0" name="矩形 46"/>
          <p:cNvSpPr/>
          <p:nvPr/>
        </p:nvSpPr>
        <p:spPr>
          <a:xfrm>
            <a:off x="4960080" y="2741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1" name="矩形 82"/>
          <p:cNvSpPr/>
          <p:nvPr/>
        </p:nvSpPr>
        <p:spPr>
          <a:xfrm>
            <a:off x="4960080" y="3749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2" name="矩形 83"/>
          <p:cNvSpPr/>
          <p:nvPr/>
        </p:nvSpPr>
        <p:spPr>
          <a:xfrm>
            <a:off x="4960080" y="4754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3" name="KSO_Shape"/>
          <p:cNvSpPr/>
          <p:nvPr/>
        </p:nvSpPr>
        <p:spPr>
          <a:xfrm>
            <a:off x="2244600" y="4724280"/>
            <a:ext cx="574920" cy="898560"/>
          </a:xfrm>
          <a:custGeom>
            <a:avLst/>
            <a:gdLst>
              <a:gd name="textAreaLeft" fmla="*/ 0 w 574920"/>
              <a:gd name="textAreaRight" fmla="*/ 575280 w 574920"/>
              <a:gd name="textAreaTop" fmla="*/ 0 h 898560"/>
              <a:gd name="textAreaBottom" fmla="*/ 898920 h 898560"/>
            </a:gdLst>
            <a:ahLst/>
            <a:rect l="textAreaLeft" t="textAreaTop" r="textAreaRight" b="textAreaBottom"/>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矩形 6"/>
          <p:cNvSpPr/>
          <p:nvPr/>
        </p:nvSpPr>
        <p:spPr>
          <a:xfrm>
            <a:off x="8667720" y="4311720"/>
            <a:ext cx="952560" cy="1985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3"/>
          <p:cNvSpPr/>
          <p:nvPr/>
        </p:nvSpPr>
        <p:spPr>
          <a:xfrm rot="5400000">
            <a:off x="5739840" y="-298440"/>
            <a:ext cx="952560" cy="102682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5"/>
          <p:cNvSpPr/>
          <p:nvPr/>
        </p:nvSpPr>
        <p:spPr>
          <a:xfrm>
            <a:off x="7604280" y="563400"/>
            <a:ext cx="952200" cy="57340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4"/>
          <p:cNvSpPr/>
          <p:nvPr/>
        </p:nvSpPr>
        <p:spPr>
          <a:xfrm rot="5400000">
            <a:off x="5739840" y="-1297080"/>
            <a:ext cx="952560" cy="102682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2"/>
          <p:cNvSpPr/>
          <p:nvPr/>
        </p:nvSpPr>
        <p:spPr>
          <a:xfrm>
            <a:off x="8667720" y="563400"/>
            <a:ext cx="952560" cy="3795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1"/>
          <p:cNvSpPr/>
          <p:nvPr/>
        </p:nvSpPr>
        <p:spPr>
          <a:xfrm>
            <a:off x="2298600" y="3468600"/>
            <a:ext cx="3575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531" name="矩形 1"/>
          <p:cNvSpPr/>
          <p:nvPr/>
        </p:nvSpPr>
        <p:spPr>
          <a:xfrm>
            <a:off x="2225520" y="4476600"/>
            <a:ext cx="359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532" name="矩形 1"/>
          <p:cNvSpPr/>
          <p:nvPr/>
        </p:nvSpPr>
        <p:spPr>
          <a:xfrm>
            <a:off x="7640640" y="725400"/>
            <a:ext cx="9158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533" name="矩形 1"/>
          <p:cNvSpPr/>
          <p:nvPr/>
        </p:nvSpPr>
        <p:spPr>
          <a:xfrm>
            <a:off x="8721720" y="1419120"/>
            <a:ext cx="92232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534" name="文本框 12"/>
          <p:cNvSpPr/>
          <p:nvPr/>
        </p:nvSpPr>
        <p:spPr>
          <a:xfrm>
            <a:off x="7701120" y="351936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35" name="文本框 13"/>
          <p:cNvSpPr/>
          <p:nvPr/>
        </p:nvSpPr>
        <p:spPr>
          <a:xfrm>
            <a:off x="880920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2</a:t>
            </a:r>
            <a:endParaRPr b="0" lang="en-US" sz="3200" spc="-1" strike="noStrike">
              <a:solidFill>
                <a:srgbClr val="000000"/>
              </a:solidFill>
              <a:latin typeface="Arial"/>
            </a:endParaRPr>
          </a:p>
        </p:txBody>
      </p:sp>
      <p:sp>
        <p:nvSpPr>
          <p:cNvPr id="536" name="文本框 14"/>
          <p:cNvSpPr/>
          <p:nvPr/>
        </p:nvSpPr>
        <p:spPr>
          <a:xfrm>
            <a:off x="8809200" y="542772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37" name="文本框 16"/>
          <p:cNvSpPr/>
          <p:nvPr/>
        </p:nvSpPr>
        <p:spPr>
          <a:xfrm>
            <a:off x="770112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3</a:t>
            </a:r>
            <a:endParaRPr b="0" lang="en-US" sz="3200" spc="-1" strike="noStrike">
              <a:solidFill>
                <a:srgbClr val="000000"/>
              </a:solidFill>
              <a:latin typeface="Arial"/>
            </a:endParaRPr>
          </a:p>
        </p:txBody>
      </p:sp>
      <p:sp>
        <p:nvSpPr>
          <p:cNvPr id="538"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任意多边形 22"/>
          <p:cNvSpPr/>
          <p:nvPr/>
        </p:nvSpPr>
        <p:spPr>
          <a:xfrm>
            <a:off x="444600" y="447840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1" name="任意多边形 23"/>
          <p:cNvSpPr/>
          <p:nvPr/>
        </p:nvSpPr>
        <p:spPr>
          <a:xfrm>
            <a:off x="444600" y="2706840"/>
            <a:ext cx="11344320" cy="1517400"/>
          </a:xfrm>
          <a:custGeom>
            <a:avLst/>
            <a:gdLst>
              <a:gd name="textAreaLeft" fmla="*/ 0 w 11344320"/>
              <a:gd name="textAreaRight" fmla="*/ 11344680 w 11344320"/>
              <a:gd name="textAreaTop" fmla="*/ 0 h 1517400"/>
              <a:gd name="textAreaBottom" fmla="*/ 1517760 h 151740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2" name="任意多边形 24"/>
          <p:cNvSpPr/>
          <p:nvPr/>
        </p:nvSpPr>
        <p:spPr>
          <a:xfrm>
            <a:off x="444600" y="93492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3" name="任意多边形 25"/>
          <p:cNvSpPr/>
          <p:nvPr/>
        </p:nvSpPr>
        <p:spPr>
          <a:xfrm>
            <a:off x="7531200" y="106200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44" name="任意多边形 26"/>
          <p:cNvSpPr/>
          <p:nvPr/>
        </p:nvSpPr>
        <p:spPr>
          <a:xfrm>
            <a:off x="662472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1860415" y="0"/>
                </a:moveTo>
                <a:lnTo>
                  <a:pt x="1860415"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任意多边形 27"/>
          <p:cNvSpPr/>
          <p:nvPr/>
        </p:nvSpPr>
        <p:spPr>
          <a:xfrm>
            <a:off x="567072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46" name="任意多边形 28"/>
          <p:cNvSpPr/>
          <p:nvPr/>
        </p:nvSpPr>
        <p:spPr>
          <a:xfrm>
            <a:off x="538488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1240276" y="0"/>
                </a:moveTo>
                <a:lnTo>
                  <a:pt x="1240276"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任意多边形 29"/>
          <p:cNvSpPr/>
          <p:nvPr/>
        </p:nvSpPr>
        <p:spPr>
          <a:xfrm>
            <a:off x="44308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48" name="任意多边形 30"/>
          <p:cNvSpPr/>
          <p:nvPr/>
        </p:nvSpPr>
        <p:spPr>
          <a:xfrm>
            <a:off x="662472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0" y="0"/>
                </a:moveTo>
                <a:lnTo>
                  <a:pt x="0" y="254415"/>
                </a:lnTo>
                <a:lnTo>
                  <a:pt x="1240276" y="254415"/>
                </a:lnTo>
                <a:lnTo>
                  <a:pt x="1240276"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任意多边形 31"/>
          <p:cNvSpPr/>
          <p:nvPr/>
        </p:nvSpPr>
        <p:spPr>
          <a:xfrm>
            <a:off x="691200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50" name="任意多边形 32"/>
          <p:cNvSpPr/>
          <p:nvPr/>
        </p:nvSpPr>
        <p:spPr>
          <a:xfrm>
            <a:off x="848520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0" y="0"/>
                </a:moveTo>
                <a:lnTo>
                  <a:pt x="0" y="254415"/>
                </a:lnTo>
                <a:lnTo>
                  <a:pt x="1860415" y="254415"/>
                </a:lnTo>
                <a:lnTo>
                  <a:pt x="1860415"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任意多边形 33"/>
          <p:cNvSpPr/>
          <p:nvPr/>
        </p:nvSpPr>
        <p:spPr>
          <a:xfrm>
            <a:off x="939168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52" name="任意多边形 34"/>
          <p:cNvSpPr/>
          <p:nvPr/>
        </p:nvSpPr>
        <p:spPr>
          <a:xfrm>
            <a:off x="10299600" y="4114800"/>
            <a:ext cx="92160" cy="507960"/>
          </a:xfrm>
          <a:custGeom>
            <a:avLst/>
            <a:gdLst>
              <a:gd name="textAreaLeft" fmla="*/ 0 w 92160"/>
              <a:gd name="textAreaRight" fmla="*/ 92520 w 92160"/>
              <a:gd name="textAreaTop" fmla="*/ 0 h 507960"/>
              <a:gd name="textAreaBottom" fmla="*/ 508320 h 507960"/>
            </a:gdLst>
            <a:ahLst/>
            <a:rect l="textAreaLeft" t="textAreaTop" r="textAreaRight" b="textAreaBottom"/>
            <a:pathLst>
              <a:path w="91440" h="508635">
                <a:moveTo>
                  <a:pt x="45720" y="0"/>
                </a:moveTo>
                <a:lnTo>
                  <a:pt x="4572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任意多边形 35"/>
          <p:cNvSpPr/>
          <p:nvPr/>
        </p:nvSpPr>
        <p:spPr>
          <a:xfrm>
            <a:off x="93916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54" name="KSO_Shape"/>
          <p:cNvSpPr/>
          <p:nvPr/>
        </p:nvSpPr>
        <p:spPr>
          <a:xfrm>
            <a:off x="744480" y="1365120"/>
            <a:ext cx="550800" cy="551160"/>
          </a:xfrm>
          <a:custGeom>
            <a:avLst/>
            <a:gdLst>
              <a:gd name="textAreaLeft" fmla="*/ 0 w 550800"/>
              <a:gd name="textAreaRight" fmla="*/ 551160 w 5508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KSO_Shape"/>
          <p:cNvSpPr/>
          <p:nvPr/>
        </p:nvSpPr>
        <p:spPr>
          <a:xfrm>
            <a:off x="744480" y="317340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KSO_Shape"/>
          <p:cNvSpPr/>
          <p:nvPr/>
        </p:nvSpPr>
        <p:spPr>
          <a:xfrm>
            <a:off x="744480" y="498312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KSO_Shape"/>
          <p:cNvSpPr/>
          <p:nvPr/>
        </p:nvSpPr>
        <p:spPr>
          <a:xfrm>
            <a:off x="8023320" y="1257480"/>
            <a:ext cx="796680" cy="852480"/>
          </a:xfrm>
          <a:custGeom>
            <a:avLst/>
            <a:gdLst>
              <a:gd name="textAreaLeft" fmla="*/ 0 w 796680"/>
              <a:gd name="textAreaRight" fmla="*/ 797040 w 796680"/>
              <a:gd name="textAreaTop" fmla="*/ 0 h 852480"/>
              <a:gd name="textAreaBottom" fmla="*/ 852840 h 852480"/>
            </a:gdLst>
            <a:ahLst/>
            <a:rect l="textAreaLeft" t="textAreaTop" r="textAreaRight" b="textAreaBottom"/>
            <a:pathLst>
              <a:path w="1019175" h="1524001">
                <a:moveTo>
                  <a:pt x="643934" y="1322388"/>
                </a:moveTo>
                <a:lnTo>
                  <a:pt x="649244" y="1322388"/>
                </a:lnTo>
                <a:lnTo>
                  <a:pt x="835334" y="1322388"/>
                </a:lnTo>
                <a:lnTo>
                  <a:pt x="840643" y="1322388"/>
                </a:lnTo>
                <a:lnTo>
                  <a:pt x="845156" y="1323178"/>
                </a:lnTo>
                <a:lnTo>
                  <a:pt x="849935" y="1323704"/>
                </a:lnTo>
                <a:lnTo>
                  <a:pt x="854182" y="1324494"/>
                </a:lnTo>
                <a:lnTo>
                  <a:pt x="858695" y="1325547"/>
                </a:lnTo>
                <a:lnTo>
                  <a:pt x="862411" y="1327126"/>
                </a:lnTo>
                <a:lnTo>
                  <a:pt x="866128" y="1328705"/>
                </a:lnTo>
                <a:lnTo>
                  <a:pt x="869579" y="1330547"/>
                </a:lnTo>
                <a:lnTo>
                  <a:pt x="872499" y="1332390"/>
                </a:lnTo>
                <a:lnTo>
                  <a:pt x="875685" y="1334495"/>
                </a:lnTo>
                <a:lnTo>
                  <a:pt x="878605" y="1336864"/>
                </a:lnTo>
                <a:lnTo>
                  <a:pt x="880994" y="1339759"/>
                </a:lnTo>
                <a:lnTo>
                  <a:pt x="883383" y="1342392"/>
                </a:lnTo>
                <a:lnTo>
                  <a:pt x="885507" y="1345287"/>
                </a:lnTo>
                <a:lnTo>
                  <a:pt x="887896" y="1348708"/>
                </a:lnTo>
                <a:lnTo>
                  <a:pt x="889754" y="1352130"/>
                </a:lnTo>
                <a:lnTo>
                  <a:pt x="891347" y="1355552"/>
                </a:lnTo>
                <a:lnTo>
                  <a:pt x="892674" y="1359236"/>
                </a:lnTo>
                <a:lnTo>
                  <a:pt x="894267" y="1362921"/>
                </a:lnTo>
                <a:lnTo>
                  <a:pt x="895594" y="1366869"/>
                </a:lnTo>
                <a:lnTo>
                  <a:pt x="897718" y="1375292"/>
                </a:lnTo>
                <a:lnTo>
                  <a:pt x="899311" y="1383977"/>
                </a:lnTo>
                <a:lnTo>
                  <a:pt x="900638" y="1393190"/>
                </a:lnTo>
                <a:lnTo>
                  <a:pt x="901169" y="1402928"/>
                </a:lnTo>
                <a:lnTo>
                  <a:pt x="901700" y="1412930"/>
                </a:lnTo>
                <a:lnTo>
                  <a:pt x="901700" y="1423458"/>
                </a:lnTo>
                <a:lnTo>
                  <a:pt x="901700" y="1433460"/>
                </a:lnTo>
                <a:lnTo>
                  <a:pt x="901169" y="1443461"/>
                </a:lnTo>
                <a:lnTo>
                  <a:pt x="900638" y="1453200"/>
                </a:lnTo>
                <a:lnTo>
                  <a:pt x="899311" y="1462412"/>
                </a:lnTo>
                <a:lnTo>
                  <a:pt x="897718" y="1471097"/>
                </a:lnTo>
                <a:lnTo>
                  <a:pt x="895594" y="1479520"/>
                </a:lnTo>
                <a:lnTo>
                  <a:pt x="894267" y="1483468"/>
                </a:lnTo>
                <a:lnTo>
                  <a:pt x="892674" y="1487153"/>
                </a:lnTo>
                <a:lnTo>
                  <a:pt x="891347" y="1490838"/>
                </a:lnTo>
                <a:lnTo>
                  <a:pt x="889754" y="1494259"/>
                </a:lnTo>
                <a:lnTo>
                  <a:pt x="887896" y="1497681"/>
                </a:lnTo>
                <a:lnTo>
                  <a:pt x="885507" y="1500839"/>
                </a:lnTo>
                <a:lnTo>
                  <a:pt x="883383" y="1503998"/>
                </a:lnTo>
                <a:lnTo>
                  <a:pt x="880994" y="1506630"/>
                </a:lnTo>
                <a:lnTo>
                  <a:pt x="878605" y="1509525"/>
                </a:lnTo>
                <a:lnTo>
                  <a:pt x="875685" y="1511631"/>
                </a:lnTo>
                <a:lnTo>
                  <a:pt x="872499" y="1513999"/>
                </a:lnTo>
                <a:lnTo>
                  <a:pt x="869579" y="1515842"/>
                </a:lnTo>
                <a:lnTo>
                  <a:pt x="866128" y="1517684"/>
                </a:lnTo>
                <a:lnTo>
                  <a:pt x="862411" y="1519263"/>
                </a:lnTo>
                <a:lnTo>
                  <a:pt x="858695" y="1520843"/>
                </a:lnTo>
                <a:lnTo>
                  <a:pt x="854182" y="1521896"/>
                </a:lnTo>
                <a:lnTo>
                  <a:pt x="849935" y="1522685"/>
                </a:lnTo>
                <a:lnTo>
                  <a:pt x="845156" y="1523212"/>
                </a:lnTo>
                <a:lnTo>
                  <a:pt x="840643" y="1523738"/>
                </a:lnTo>
                <a:lnTo>
                  <a:pt x="835334" y="1524001"/>
                </a:lnTo>
                <a:lnTo>
                  <a:pt x="649244" y="1524001"/>
                </a:lnTo>
                <a:lnTo>
                  <a:pt x="643934" y="1523738"/>
                </a:lnTo>
                <a:lnTo>
                  <a:pt x="638891" y="1523212"/>
                </a:lnTo>
                <a:lnTo>
                  <a:pt x="634643" y="1522685"/>
                </a:lnTo>
                <a:lnTo>
                  <a:pt x="630130" y="1521896"/>
                </a:lnTo>
                <a:lnTo>
                  <a:pt x="625883" y="1520843"/>
                </a:lnTo>
                <a:lnTo>
                  <a:pt x="622166" y="1519263"/>
                </a:lnTo>
                <a:lnTo>
                  <a:pt x="618450" y="1517684"/>
                </a:lnTo>
                <a:lnTo>
                  <a:pt x="614999" y="1515842"/>
                </a:lnTo>
                <a:lnTo>
                  <a:pt x="611813" y="1513999"/>
                </a:lnTo>
                <a:lnTo>
                  <a:pt x="608628" y="1511631"/>
                </a:lnTo>
                <a:lnTo>
                  <a:pt x="605973" y="1509525"/>
                </a:lnTo>
                <a:lnTo>
                  <a:pt x="603318" y="1506630"/>
                </a:lnTo>
                <a:lnTo>
                  <a:pt x="600929" y="1503998"/>
                </a:lnTo>
                <a:lnTo>
                  <a:pt x="598805" y="1500839"/>
                </a:lnTo>
                <a:lnTo>
                  <a:pt x="596416" y="1497681"/>
                </a:lnTo>
                <a:lnTo>
                  <a:pt x="594558" y="1494259"/>
                </a:lnTo>
                <a:lnTo>
                  <a:pt x="592700" y="1490838"/>
                </a:lnTo>
                <a:lnTo>
                  <a:pt x="591372" y="1487153"/>
                </a:lnTo>
                <a:lnTo>
                  <a:pt x="590045" y="1483468"/>
                </a:lnTo>
                <a:lnTo>
                  <a:pt x="588718" y="1479520"/>
                </a:lnTo>
                <a:lnTo>
                  <a:pt x="586594" y="1471097"/>
                </a:lnTo>
                <a:lnTo>
                  <a:pt x="585001" y="1462412"/>
                </a:lnTo>
                <a:lnTo>
                  <a:pt x="583674" y="1453200"/>
                </a:lnTo>
                <a:lnTo>
                  <a:pt x="583143" y="1443461"/>
                </a:lnTo>
                <a:lnTo>
                  <a:pt x="582612" y="1433460"/>
                </a:lnTo>
                <a:lnTo>
                  <a:pt x="582612" y="1423458"/>
                </a:lnTo>
                <a:lnTo>
                  <a:pt x="582612" y="1412930"/>
                </a:lnTo>
                <a:lnTo>
                  <a:pt x="583143" y="1402928"/>
                </a:lnTo>
                <a:lnTo>
                  <a:pt x="583674" y="1393190"/>
                </a:lnTo>
                <a:lnTo>
                  <a:pt x="585001" y="1383977"/>
                </a:lnTo>
                <a:lnTo>
                  <a:pt x="586594" y="1375292"/>
                </a:lnTo>
                <a:lnTo>
                  <a:pt x="588718" y="1366869"/>
                </a:lnTo>
                <a:lnTo>
                  <a:pt x="590045" y="1362921"/>
                </a:lnTo>
                <a:lnTo>
                  <a:pt x="591372" y="1359236"/>
                </a:lnTo>
                <a:lnTo>
                  <a:pt x="592700" y="1355552"/>
                </a:lnTo>
                <a:lnTo>
                  <a:pt x="594558" y="1352130"/>
                </a:lnTo>
                <a:lnTo>
                  <a:pt x="596416" y="1348708"/>
                </a:lnTo>
                <a:lnTo>
                  <a:pt x="598805" y="1345287"/>
                </a:lnTo>
                <a:lnTo>
                  <a:pt x="600929" y="1342392"/>
                </a:lnTo>
                <a:lnTo>
                  <a:pt x="603318" y="1339759"/>
                </a:lnTo>
                <a:lnTo>
                  <a:pt x="605973" y="1336864"/>
                </a:lnTo>
                <a:lnTo>
                  <a:pt x="608628" y="1334495"/>
                </a:lnTo>
                <a:lnTo>
                  <a:pt x="611813" y="1332390"/>
                </a:lnTo>
                <a:lnTo>
                  <a:pt x="614999" y="1330547"/>
                </a:lnTo>
                <a:lnTo>
                  <a:pt x="618450" y="1328705"/>
                </a:lnTo>
                <a:lnTo>
                  <a:pt x="622166" y="1327126"/>
                </a:lnTo>
                <a:lnTo>
                  <a:pt x="625883" y="1325547"/>
                </a:lnTo>
                <a:lnTo>
                  <a:pt x="630130" y="1324494"/>
                </a:lnTo>
                <a:lnTo>
                  <a:pt x="634643" y="1323704"/>
                </a:lnTo>
                <a:lnTo>
                  <a:pt x="638891" y="1323178"/>
                </a:lnTo>
                <a:lnTo>
                  <a:pt x="643934" y="1322388"/>
                </a:lnTo>
                <a:close/>
                <a:moveTo>
                  <a:pt x="589756" y="1073150"/>
                </a:moveTo>
                <a:lnTo>
                  <a:pt x="595048" y="1073150"/>
                </a:lnTo>
                <a:lnTo>
                  <a:pt x="921015" y="1073150"/>
                </a:lnTo>
                <a:lnTo>
                  <a:pt x="926306" y="1073150"/>
                </a:lnTo>
                <a:lnTo>
                  <a:pt x="930804" y="1073415"/>
                </a:lnTo>
                <a:lnTo>
                  <a:pt x="935567" y="1074476"/>
                </a:lnTo>
                <a:lnTo>
                  <a:pt x="939800" y="1075007"/>
                </a:lnTo>
                <a:lnTo>
                  <a:pt x="943769" y="1076333"/>
                </a:lnTo>
                <a:lnTo>
                  <a:pt x="948002" y="1077660"/>
                </a:lnTo>
                <a:lnTo>
                  <a:pt x="951706" y="1079517"/>
                </a:lnTo>
                <a:lnTo>
                  <a:pt x="955146" y="1080843"/>
                </a:lnTo>
                <a:lnTo>
                  <a:pt x="958056" y="1083231"/>
                </a:lnTo>
                <a:lnTo>
                  <a:pt x="961231" y="1085353"/>
                </a:lnTo>
                <a:lnTo>
                  <a:pt x="964142" y="1087740"/>
                </a:lnTo>
                <a:lnTo>
                  <a:pt x="966523" y="1090393"/>
                </a:lnTo>
                <a:lnTo>
                  <a:pt x="968904" y="1093311"/>
                </a:lnTo>
                <a:lnTo>
                  <a:pt x="971286" y="1096229"/>
                </a:lnTo>
                <a:lnTo>
                  <a:pt x="973402" y="1099678"/>
                </a:lnTo>
                <a:lnTo>
                  <a:pt x="975254" y="1102861"/>
                </a:lnTo>
                <a:lnTo>
                  <a:pt x="976842" y="1106575"/>
                </a:lnTo>
                <a:lnTo>
                  <a:pt x="978429" y="1110289"/>
                </a:lnTo>
                <a:lnTo>
                  <a:pt x="979752" y="1114002"/>
                </a:lnTo>
                <a:lnTo>
                  <a:pt x="981075" y="1117981"/>
                </a:lnTo>
                <a:lnTo>
                  <a:pt x="983192" y="1126470"/>
                </a:lnTo>
                <a:lnTo>
                  <a:pt x="984779" y="1134959"/>
                </a:lnTo>
                <a:lnTo>
                  <a:pt x="986102" y="1144509"/>
                </a:lnTo>
                <a:lnTo>
                  <a:pt x="986631" y="1154059"/>
                </a:lnTo>
                <a:lnTo>
                  <a:pt x="987425" y="1164404"/>
                </a:lnTo>
                <a:lnTo>
                  <a:pt x="987425" y="1174485"/>
                </a:lnTo>
                <a:lnTo>
                  <a:pt x="987425" y="1185096"/>
                </a:lnTo>
                <a:lnTo>
                  <a:pt x="986631" y="1195176"/>
                </a:lnTo>
                <a:lnTo>
                  <a:pt x="986102" y="1204726"/>
                </a:lnTo>
                <a:lnTo>
                  <a:pt x="984779" y="1214011"/>
                </a:lnTo>
                <a:lnTo>
                  <a:pt x="983192" y="1223030"/>
                </a:lnTo>
                <a:lnTo>
                  <a:pt x="981075" y="1231519"/>
                </a:lnTo>
                <a:lnTo>
                  <a:pt x="979752" y="1235498"/>
                </a:lnTo>
                <a:lnTo>
                  <a:pt x="978429" y="1239212"/>
                </a:lnTo>
                <a:lnTo>
                  <a:pt x="976842" y="1242926"/>
                </a:lnTo>
                <a:lnTo>
                  <a:pt x="975254" y="1246374"/>
                </a:lnTo>
                <a:lnTo>
                  <a:pt x="973402" y="1249823"/>
                </a:lnTo>
                <a:lnTo>
                  <a:pt x="971286" y="1253006"/>
                </a:lnTo>
                <a:lnTo>
                  <a:pt x="968904" y="1255924"/>
                </a:lnTo>
                <a:lnTo>
                  <a:pt x="966523" y="1258842"/>
                </a:lnTo>
                <a:lnTo>
                  <a:pt x="964142" y="1261230"/>
                </a:lnTo>
                <a:lnTo>
                  <a:pt x="961231" y="1263882"/>
                </a:lnTo>
                <a:lnTo>
                  <a:pt x="958056" y="1266004"/>
                </a:lnTo>
                <a:lnTo>
                  <a:pt x="955146" y="1268127"/>
                </a:lnTo>
                <a:lnTo>
                  <a:pt x="951706" y="1269984"/>
                </a:lnTo>
                <a:lnTo>
                  <a:pt x="948002" y="1271575"/>
                </a:lnTo>
                <a:lnTo>
                  <a:pt x="943769" y="1272902"/>
                </a:lnTo>
                <a:lnTo>
                  <a:pt x="939800" y="1273963"/>
                </a:lnTo>
                <a:lnTo>
                  <a:pt x="935567" y="1275024"/>
                </a:lnTo>
                <a:lnTo>
                  <a:pt x="930804" y="1275554"/>
                </a:lnTo>
                <a:lnTo>
                  <a:pt x="926306" y="1275820"/>
                </a:lnTo>
                <a:lnTo>
                  <a:pt x="921015" y="1276350"/>
                </a:lnTo>
                <a:lnTo>
                  <a:pt x="595048" y="1276350"/>
                </a:lnTo>
                <a:lnTo>
                  <a:pt x="589756" y="1275820"/>
                </a:lnTo>
                <a:lnTo>
                  <a:pt x="584993" y="1275554"/>
                </a:lnTo>
                <a:lnTo>
                  <a:pt x="580496" y="1275024"/>
                </a:lnTo>
                <a:lnTo>
                  <a:pt x="575998" y="1273963"/>
                </a:lnTo>
                <a:lnTo>
                  <a:pt x="572029" y="1272902"/>
                </a:lnTo>
                <a:lnTo>
                  <a:pt x="568060" y="1271575"/>
                </a:lnTo>
                <a:lnTo>
                  <a:pt x="564620" y="1269984"/>
                </a:lnTo>
                <a:lnTo>
                  <a:pt x="561181" y="1268127"/>
                </a:lnTo>
                <a:lnTo>
                  <a:pt x="557741" y="1266004"/>
                </a:lnTo>
                <a:lnTo>
                  <a:pt x="554831" y="1263882"/>
                </a:lnTo>
                <a:lnTo>
                  <a:pt x="552185" y="1261230"/>
                </a:lnTo>
                <a:lnTo>
                  <a:pt x="549275" y="1258842"/>
                </a:lnTo>
                <a:lnTo>
                  <a:pt x="546893" y="1255924"/>
                </a:lnTo>
                <a:lnTo>
                  <a:pt x="544777" y="1253006"/>
                </a:lnTo>
                <a:lnTo>
                  <a:pt x="542925" y="1249823"/>
                </a:lnTo>
                <a:lnTo>
                  <a:pt x="541073" y="1246374"/>
                </a:lnTo>
                <a:lnTo>
                  <a:pt x="539220" y="1242926"/>
                </a:lnTo>
                <a:lnTo>
                  <a:pt x="537633" y="1239212"/>
                </a:lnTo>
                <a:lnTo>
                  <a:pt x="536045" y="1235498"/>
                </a:lnTo>
                <a:lnTo>
                  <a:pt x="534723" y="1231519"/>
                </a:lnTo>
                <a:lnTo>
                  <a:pt x="532606" y="1223030"/>
                </a:lnTo>
                <a:lnTo>
                  <a:pt x="531018" y="1214011"/>
                </a:lnTo>
                <a:lnTo>
                  <a:pt x="529695" y="1204726"/>
                </a:lnTo>
                <a:lnTo>
                  <a:pt x="529166" y="1195176"/>
                </a:lnTo>
                <a:lnTo>
                  <a:pt x="528902" y="1185096"/>
                </a:lnTo>
                <a:lnTo>
                  <a:pt x="528637" y="1174485"/>
                </a:lnTo>
                <a:lnTo>
                  <a:pt x="528902" y="1164404"/>
                </a:lnTo>
                <a:lnTo>
                  <a:pt x="529166" y="1154059"/>
                </a:lnTo>
                <a:lnTo>
                  <a:pt x="529695" y="1144509"/>
                </a:lnTo>
                <a:lnTo>
                  <a:pt x="531018" y="1134959"/>
                </a:lnTo>
                <a:lnTo>
                  <a:pt x="532606" y="1126470"/>
                </a:lnTo>
                <a:lnTo>
                  <a:pt x="534723" y="1117981"/>
                </a:lnTo>
                <a:lnTo>
                  <a:pt x="536045" y="1114002"/>
                </a:lnTo>
                <a:lnTo>
                  <a:pt x="537633" y="1110289"/>
                </a:lnTo>
                <a:lnTo>
                  <a:pt x="539220" y="1106575"/>
                </a:lnTo>
                <a:lnTo>
                  <a:pt x="541073" y="1102861"/>
                </a:lnTo>
                <a:lnTo>
                  <a:pt x="542925" y="1099678"/>
                </a:lnTo>
                <a:lnTo>
                  <a:pt x="544777" y="1096229"/>
                </a:lnTo>
                <a:lnTo>
                  <a:pt x="546893" y="1093311"/>
                </a:lnTo>
                <a:lnTo>
                  <a:pt x="549275" y="1090393"/>
                </a:lnTo>
                <a:lnTo>
                  <a:pt x="552185" y="1087740"/>
                </a:lnTo>
                <a:lnTo>
                  <a:pt x="554831" y="1085353"/>
                </a:lnTo>
                <a:lnTo>
                  <a:pt x="557741" y="1083231"/>
                </a:lnTo>
                <a:lnTo>
                  <a:pt x="561181" y="1080843"/>
                </a:lnTo>
                <a:lnTo>
                  <a:pt x="564620" y="1079517"/>
                </a:lnTo>
                <a:lnTo>
                  <a:pt x="568060" y="1077660"/>
                </a:lnTo>
                <a:lnTo>
                  <a:pt x="572029" y="1076333"/>
                </a:lnTo>
                <a:lnTo>
                  <a:pt x="575998" y="1075007"/>
                </a:lnTo>
                <a:lnTo>
                  <a:pt x="580496" y="1074476"/>
                </a:lnTo>
                <a:lnTo>
                  <a:pt x="584993" y="1073415"/>
                </a:lnTo>
                <a:lnTo>
                  <a:pt x="589756" y="1073150"/>
                </a:lnTo>
                <a:close/>
                <a:moveTo>
                  <a:pt x="535633" y="830263"/>
                </a:moveTo>
                <a:lnTo>
                  <a:pt x="540912" y="830263"/>
                </a:lnTo>
                <a:lnTo>
                  <a:pt x="952926" y="830263"/>
                </a:lnTo>
                <a:lnTo>
                  <a:pt x="958204" y="830263"/>
                </a:lnTo>
                <a:lnTo>
                  <a:pt x="962955" y="830790"/>
                </a:lnTo>
                <a:lnTo>
                  <a:pt x="967442" y="831317"/>
                </a:lnTo>
                <a:lnTo>
                  <a:pt x="971929" y="832371"/>
                </a:lnTo>
                <a:lnTo>
                  <a:pt x="976153" y="833426"/>
                </a:lnTo>
                <a:lnTo>
                  <a:pt x="979848" y="834743"/>
                </a:lnTo>
                <a:lnTo>
                  <a:pt x="983543" y="836325"/>
                </a:lnTo>
                <a:lnTo>
                  <a:pt x="986974" y="838170"/>
                </a:lnTo>
                <a:lnTo>
                  <a:pt x="990141" y="840014"/>
                </a:lnTo>
                <a:lnTo>
                  <a:pt x="993309" y="842386"/>
                </a:lnTo>
                <a:lnTo>
                  <a:pt x="995948" y="844758"/>
                </a:lnTo>
                <a:lnTo>
                  <a:pt x="998588" y="847394"/>
                </a:lnTo>
                <a:lnTo>
                  <a:pt x="1000963" y="850293"/>
                </a:lnTo>
                <a:lnTo>
                  <a:pt x="1003075" y="853455"/>
                </a:lnTo>
                <a:lnTo>
                  <a:pt x="1005186" y="856354"/>
                </a:lnTo>
                <a:lnTo>
                  <a:pt x="1007298" y="859780"/>
                </a:lnTo>
                <a:lnTo>
                  <a:pt x="1009145" y="863206"/>
                </a:lnTo>
                <a:lnTo>
                  <a:pt x="1010465" y="866896"/>
                </a:lnTo>
                <a:lnTo>
                  <a:pt x="1011785" y="870586"/>
                </a:lnTo>
                <a:lnTo>
                  <a:pt x="1013104" y="874802"/>
                </a:lnTo>
                <a:lnTo>
                  <a:pt x="1015216" y="882972"/>
                </a:lnTo>
                <a:lnTo>
                  <a:pt x="1016800" y="891669"/>
                </a:lnTo>
                <a:lnTo>
                  <a:pt x="1018119" y="900894"/>
                </a:lnTo>
                <a:lnTo>
                  <a:pt x="1018911" y="910908"/>
                </a:lnTo>
                <a:lnTo>
                  <a:pt x="1019175" y="920660"/>
                </a:lnTo>
                <a:lnTo>
                  <a:pt x="1019175" y="930938"/>
                </a:lnTo>
                <a:lnTo>
                  <a:pt x="1019175" y="941480"/>
                </a:lnTo>
                <a:lnTo>
                  <a:pt x="1018911" y="951231"/>
                </a:lnTo>
                <a:lnTo>
                  <a:pt x="1018119" y="961246"/>
                </a:lnTo>
                <a:lnTo>
                  <a:pt x="1016800" y="970470"/>
                </a:lnTo>
                <a:lnTo>
                  <a:pt x="1015216" y="979167"/>
                </a:lnTo>
                <a:lnTo>
                  <a:pt x="1013104" y="987337"/>
                </a:lnTo>
                <a:lnTo>
                  <a:pt x="1011785" y="991554"/>
                </a:lnTo>
                <a:lnTo>
                  <a:pt x="1010465" y="995243"/>
                </a:lnTo>
                <a:lnTo>
                  <a:pt x="1009145" y="998933"/>
                </a:lnTo>
                <a:lnTo>
                  <a:pt x="1007298" y="1002359"/>
                </a:lnTo>
                <a:lnTo>
                  <a:pt x="1005186" y="1005785"/>
                </a:lnTo>
                <a:lnTo>
                  <a:pt x="1003075" y="1008684"/>
                </a:lnTo>
                <a:lnTo>
                  <a:pt x="1000963" y="1011847"/>
                </a:lnTo>
                <a:lnTo>
                  <a:pt x="998588" y="1014746"/>
                </a:lnTo>
                <a:lnTo>
                  <a:pt x="995948" y="1017381"/>
                </a:lnTo>
                <a:lnTo>
                  <a:pt x="993309" y="1020017"/>
                </a:lnTo>
                <a:lnTo>
                  <a:pt x="990141" y="1022125"/>
                </a:lnTo>
                <a:lnTo>
                  <a:pt x="986974" y="1023970"/>
                </a:lnTo>
                <a:lnTo>
                  <a:pt x="983543" y="1025815"/>
                </a:lnTo>
                <a:lnTo>
                  <a:pt x="979848" y="1027396"/>
                </a:lnTo>
                <a:lnTo>
                  <a:pt x="976153" y="1028977"/>
                </a:lnTo>
                <a:lnTo>
                  <a:pt x="971929" y="1029768"/>
                </a:lnTo>
                <a:lnTo>
                  <a:pt x="967442" y="1030822"/>
                </a:lnTo>
                <a:lnTo>
                  <a:pt x="962955" y="1031349"/>
                </a:lnTo>
                <a:lnTo>
                  <a:pt x="958204" y="1031876"/>
                </a:lnTo>
                <a:lnTo>
                  <a:pt x="952926" y="1031876"/>
                </a:lnTo>
                <a:lnTo>
                  <a:pt x="540912" y="1031876"/>
                </a:lnTo>
                <a:lnTo>
                  <a:pt x="535633" y="1031876"/>
                </a:lnTo>
                <a:lnTo>
                  <a:pt x="530882" y="1031349"/>
                </a:lnTo>
                <a:lnTo>
                  <a:pt x="526395" y="1030822"/>
                </a:lnTo>
                <a:lnTo>
                  <a:pt x="521908" y="1029768"/>
                </a:lnTo>
                <a:lnTo>
                  <a:pt x="517685" y="1028977"/>
                </a:lnTo>
                <a:lnTo>
                  <a:pt x="513990" y="1027396"/>
                </a:lnTo>
                <a:lnTo>
                  <a:pt x="510294" y="1025815"/>
                </a:lnTo>
                <a:lnTo>
                  <a:pt x="506863" y="1023970"/>
                </a:lnTo>
                <a:lnTo>
                  <a:pt x="503696" y="1022125"/>
                </a:lnTo>
                <a:lnTo>
                  <a:pt x="500792" y="1020017"/>
                </a:lnTo>
                <a:lnTo>
                  <a:pt x="497889" y="1017381"/>
                </a:lnTo>
                <a:lnTo>
                  <a:pt x="495514" y="1014746"/>
                </a:lnTo>
                <a:lnTo>
                  <a:pt x="492874" y="1011847"/>
                </a:lnTo>
                <a:lnTo>
                  <a:pt x="490763" y="1008684"/>
                </a:lnTo>
                <a:lnTo>
                  <a:pt x="488651" y="1005785"/>
                </a:lnTo>
                <a:lnTo>
                  <a:pt x="486803" y="1002359"/>
                </a:lnTo>
                <a:lnTo>
                  <a:pt x="485220" y="998933"/>
                </a:lnTo>
                <a:lnTo>
                  <a:pt x="483636" y="995243"/>
                </a:lnTo>
                <a:lnTo>
                  <a:pt x="482053" y="991554"/>
                </a:lnTo>
                <a:lnTo>
                  <a:pt x="480997" y="987337"/>
                </a:lnTo>
                <a:lnTo>
                  <a:pt x="478621" y="979167"/>
                </a:lnTo>
                <a:lnTo>
                  <a:pt x="477038" y="970470"/>
                </a:lnTo>
                <a:lnTo>
                  <a:pt x="475982" y="961246"/>
                </a:lnTo>
                <a:lnTo>
                  <a:pt x="475190" y="951231"/>
                </a:lnTo>
                <a:lnTo>
                  <a:pt x="474662" y="941480"/>
                </a:lnTo>
                <a:lnTo>
                  <a:pt x="474662" y="930938"/>
                </a:lnTo>
                <a:lnTo>
                  <a:pt x="474662" y="920660"/>
                </a:lnTo>
                <a:lnTo>
                  <a:pt x="475190" y="910908"/>
                </a:lnTo>
                <a:lnTo>
                  <a:pt x="475982" y="900894"/>
                </a:lnTo>
                <a:lnTo>
                  <a:pt x="477038" y="891669"/>
                </a:lnTo>
                <a:lnTo>
                  <a:pt x="478621" y="882972"/>
                </a:lnTo>
                <a:lnTo>
                  <a:pt x="480997" y="874802"/>
                </a:lnTo>
                <a:lnTo>
                  <a:pt x="482053" y="870586"/>
                </a:lnTo>
                <a:lnTo>
                  <a:pt x="483636" y="866896"/>
                </a:lnTo>
                <a:lnTo>
                  <a:pt x="485220" y="863206"/>
                </a:lnTo>
                <a:lnTo>
                  <a:pt x="486803" y="859780"/>
                </a:lnTo>
                <a:lnTo>
                  <a:pt x="488651" y="856354"/>
                </a:lnTo>
                <a:lnTo>
                  <a:pt x="490763" y="853455"/>
                </a:lnTo>
                <a:lnTo>
                  <a:pt x="492874" y="850293"/>
                </a:lnTo>
                <a:lnTo>
                  <a:pt x="495514" y="847394"/>
                </a:lnTo>
                <a:lnTo>
                  <a:pt x="497889" y="844758"/>
                </a:lnTo>
                <a:lnTo>
                  <a:pt x="500792" y="842386"/>
                </a:lnTo>
                <a:lnTo>
                  <a:pt x="503696" y="840014"/>
                </a:lnTo>
                <a:lnTo>
                  <a:pt x="506863" y="838170"/>
                </a:lnTo>
                <a:lnTo>
                  <a:pt x="510294" y="836325"/>
                </a:lnTo>
                <a:lnTo>
                  <a:pt x="513990" y="834743"/>
                </a:lnTo>
                <a:lnTo>
                  <a:pt x="517685" y="833426"/>
                </a:lnTo>
                <a:lnTo>
                  <a:pt x="521908" y="832371"/>
                </a:lnTo>
                <a:lnTo>
                  <a:pt x="526395" y="831317"/>
                </a:lnTo>
                <a:lnTo>
                  <a:pt x="530882" y="830790"/>
                </a:lnTo>
                <a:lnTo>
                  <a:pt x="535633" y="830263"/>
                </a:lnTo>
                <a:close/>
                <a:moveTo>
                  <a:pt x="591344" y="588963"/>
                </a:moveTo>
                <a:lnTo>
                  <a:pt x="596636" y="588963"/>
                </a:lnTo>
                <a:lnTo>
                  <a:pt x="905404" y="588963"/>
                </a:lnTo>
                <a:lnTo>
                  <a:pt x="910431" y="588963"/>
                </a:lnTo>
                <a:lnTo>
                  <a:pt x="915458" y="589759"/>
                </a:lnTo>
                <a:lnTo>
                  <a:pt x="919956" y="590289"/>
                </a:lnTo>
                <a:lnTo>
                  <a:pt x="924190" y="591351"/>
                </a:lnTo>
                <a:lnTo>
                  <a:pt x="928423" y="592146"/>
                </a:lnTo>
                <a:lnTo>
                  <a:pt x="932392" y="593738"/>
                </a:lnTo>
                <a:lnTo>
                  <a:pt x="936096" y="595330"/>
                </a:lnTo>
                <a:lnTo>
                  <a:pt x="939271" y="597187"/>
                </a:lnTo>
                <a:lnTo>
                  <a:pt x="942446" y="599044"/>
                </a:lnTo>
                <a:lnTo>
                  <a:pt x="945621" y="601166"/>
                </a:lnTo>
                <a:lnTo>
                  <a:pt x="948267" y="603818"/>
                </a:lnTo>
                <a:lnTo>
                  <a:pt x="950913" y="606471"/>
                </a:lnTo>
                <a:lnTo>
                  <a:pt x="953294" y="609389"/>
                </a:lnTo>
                <a:lnTo>
                  <a:pt x="955411" y="612307"/>
                </a:lnTo>
                <a:lnTo>
                  <a:pt x="957792" y="615491"/>
                </a:lnTo>
                <a:lnTo>
                  <a:pt x="959644" y="618939"/>
                </a:lnTo>
                <a:lnTo>
                  <a:pt x="961231" y="622388"/>
                </a:lnTo>
                <a:lnTo>
                  <a:pt x="962554" y="626102"/>
                </a:lnTo>
                <a:lnTo>
                  <a:pt x="964142" y="629815"/>
                </a:lnTo>
                <a:lnTo>
                  <a:pt x="965465" y="633794"/>
                </a:lnTo>
                <a:lnTo>
                  <a:pt x="967581" y="642283"/>
                </a:lnTo>
                <a:lnTo>
                  <a:pt x="969169" y="651037"/>
                </a:lnTo>
                <a:lnTo>
                  <a:pt x="970492" y="660322"/>
                </a:lnTo>
                <a:lnTo>
                  <a:pt x="971021" y="670137"/>
                </a:lnTo>
                <a:lnTo>
                  <a:pt x="971550" y="680217"/>
                </a:lnTo>
                <a:lnTo>
                  <a:pt x="971550" y="690828"/>
                </a:lnTo>
                <a:lnTo>
                  <a:pt x="971550" y="700909"/>
                </a:lnTo>
                <a:lnTo>
                  <a:pt x="971021" y="710989"/>
                </a:lnTo>
                <a:lnTo>
                  <a:pt x="970492" y="721070"/>
                </a:lnTo>
                <a:lnTo>
                  <a:pt x="969169" y="730354"/>
                </a:lnTo>
                <a:lnTo>
                  <a:pt x="967581" y="738843"/>
                </a:lnTo>
                <a:lnTo>
                  <a:pt x="965465" y="747332"/>
                </a:lnTo>
                <a:lnTo>
                  <a:pt x="964142" y="751311"/>
                </a:lnTo>
                <a:lnTo>
                  <a:pt x="962554" y="755025"/>
                </a:lnTo>
                <a:lnTo>
                  <a:pt x="961231" y="759004"/>
                </a:lnTo>
                <a:lnTo>
                  <a:pt x="959644" y="762187"/>
                </a:lnTo>
                <a:lnTo>
                  <a:pt x="957792" y="765636"/>
                </a:lnTo>
                <a:lnTo>
                  <a:pt x="955411" y="769084"/>
                </a:lnTo>
                <a:lnTo>
                  <a:pt x="953294" y="772002"/>
                </a:lnTo>
                <a:lnTo>
                  <a:pt x="950913" y="774655"/>
                </a:lnTo>
                <a:lnTo>
                  <a:pt x="948267" y="777573"/>
                </a:lnTo>
                <a:lnTo>
                  <a:pt x="945621" y="779961"/>
                </a:lnTo>
                <a:lnTo>
                  <a:pt x="942446" y="782083"/>
                </a:lnTo>
                <a:lnTo>
                  <a:pt x="939271" y="783940"/>
                </a:lnTo>
                <a:lnTo>
                  <a:pt x="936096" y="786062"/>
                </a:lnTo>
                <a:lnTo>
                  <a:pt x="932392" y="787388"/>
                </a:lnTo>
                <a:lnTo>
                  <a:pt x="928423" y="788980"/>
                </a:lnTo>
                <a:lnTo>
                  <a:pt x="924190" y="790041"/>
                </a:lnTo>
                <a:lnTo>
                  <a:pt x="919956" y="790837"/>
                </a:lnTo>
                <a:lnTo>
                  <a:pt x="915458" y="791633"/>
                </a:lnTo>
                <a:lnTo>
                  <a:pt x="910431" y="792163"/>
                </a:lnTo>
                <a:lnTo>
                  <a:pt x="905404" y="792163"/>
                </a:lnTo>
                <a:lnTo>
                  <a:pt x="596636" y="792163"/>
                </a:lnTo>
                <a:lnTo>
                  <a:pt x="591344" y="792163"/>
                </a:lnTo>
                <a:lnTo>
                  <a:pt x="586317" y="791633"/>
                </a:lnTo>
                <a:lnTo>
                  <a:pt x="582083" y="790837"/>
                </a:lnTo>
                <a:lnTo>
                  <a:pt x="577850" y="790041"/>
                </a:lnTo>
                <a:lnTo>
                  <a:pt x="573352" y="788980"/>
                </a:lnTo>
                <a:lnTo>
                  <a:pt x="569648" y="787388"/>
                </a:lnTo>
                <a:lnTo>
                  <a:pt x="565944" y="786062"/>
                </a:lnTo>
                <a:lnTo>
                  <a:pt x="562504" y="783940"/>
                </a:lnTo>
                <a:lnTo>
                  <a:pt x="559329" y="782083"/>
                </a:lnTo>
                <a:lnTo>
                  <a:pt x="556419" y="779961"/>
                </a:lnTo>
                <a:lnTo>
                  <a:pt x="553508" y="777573"/>
                </a:lnTo>
                <a:lnTo>
                  <a:pt x="551127" y="774655"/>
                </a:lnTo>
                <a:lnTo>
                  <a:pt x="548481" y="772002"/>
                </a:lnTo>
                <a:lnTo>
                  <a:pt x="546365" y="769084"/>
                </a:lnTo>
                <a:lnTo>
                  <a:pt x="544248" y="765636"/>
                </a:lnTo>
                <a:lnTo>
                  <a:pt x="542396" y="762187"/>
                </a:lnTo>
                <a:lnTo>
                  <a:pt x="540544" y="759004"/>
                </a:lnTo>
                <a:lnTo>
                  <a:pt x="538956" y="755025"/>
                </a:lnTo>
                <a:lnTo>
                  <a:pt x="537633" y="751311"/>
                </a:lnTo>
                <a:lnTo>
                  <a:pt x="536575" y="747332"/>
                </a:lnTo>
                <a:lnTo>
                  <a:pt x="534458" y="738843"/>
                </a:lnTo>
                <a:lnTo>
                  <a:pt x="532871" y="730354"/>
                </a:lnTo>
                <a:lnTo>
                  <a:pt x="531548" y="721070"/>
                </a:lnTo>
                <a:lnTo>
                  <a:pt x="530490" y="710989"/>
                </a:lnTo>
                <a:lnTo>
                  <a:pt x="530225" y="700909"/>
                </a:lnTo>
                <a:lnTo>
                  <a:pt x="530225" y="690828"/>
                </a:lnTo>
                <a:lnTo>
                  <a:pt x="530225" y="680217"/>
                </a:lnTo>
                <a:lnTo>
                  <a:pt x="530490" y="670137"/>
                </a:lnTo>
                <a:lnTo>
                  <a:pt x="531548" y="660322"/>
                </a:lnTo>
                <a:lnTo>
                  <a:pt x="532871" y="651037"/>
                </a:lnTo>
                <a:lnTo>
                  <a:pt x="534458" y="642283"/>
                </a:lnTo>
                <a:lnTo>
                  <a:pt x="536575" y="633794"/>
                </a:lnTo>
                <a:lnTo>
                  <a:pt x="537633" y="629815"/>
                </a:lnTo>
                <a:lnTo>
                  <a:pt x="538956" y="626102"/>
                </a:lnTo>
                <a:lnTo>
                  <a:pt x="540544" y="622388"/>
                </a:lnTo>
                <a:lnTo>
                  <a:pt x="542396" y="618939"/>
                </a:lnTo>
                <a:lnTo>
                  <a:pt x="544248" y="615491"/>
                </a:lnTo>
                <a:lnTo>
                  <a:pt x="546365" y="612307"/>
                </a:lnTo>
                <a:lnTo>
                  <a:pt x="548481" y="609389"/>
                </a:lnTo>
                <a:lnTo>
                  <a:pt x="551127" y="606471"/>
                </a:lnTo>
                <a:lnTo>
                  <a:pt x="553508" y="603818"/>
                </a:lnTo>
                <a:lnTo>
                  <a:pt x="556419" y="601166"/>
                </a:lnTo>
                <a:lnTo>
                  <a:pt x="559329" y="599044"/>
                </a:lnTo>
                <a:lnTo>
                  <a:pt x="562504" y="597187"/>
                </a:lnTo>
                <a:lnTo>
                  <a:pt x="565944" y="595330"/>
                </a:lnTo>
                <a:lnTo>
                  <a:pt x="569648" y="593738"/>
                </a:lnTo>
                <a:lnTo>
                  <a:pt x="573352" y="592146"/>
                </a:lnTo>
                <a:lnTo>
                  <a:pt x="577850" y="591351"/>
                </a:lnTo>
                <a:lnTo>
                  <a:pt x="582083" y="590289"/>
                </a:lnTo>
                <a:lnTo>
                  <a:pt x="586317" y="589759"/>
                </a:lnTo>
                <a:lnTo>
                  <a:pt x="591344" y="588963"/>
                </a:lnTo>
                <a:close/>
                <a:moveTo>
                  <a:pt x="573015" y="0"/>
                </a:moveTo>
                <a:lnTo>
                  <a:pt x="580426" y="0"/>
                </a:lnTo>
                <a:lnTo>
                  <a:pt x="588630" y="265"/>
                </a:lnTo>
                <a:lnTo>
                  <a:pt x="597365" y="1058"/>
                </a:lnTo>
                <a:lnTo>
                  <a:pt x="606628" y="1588"/>
                </a:lnTo>
                <a:lnTo>
                  <a:pt x="616421" y="2910"/>
                </a:lnTo>
                <a:lnTo>
                  <a:pt x="626743" y="4498"/>
                </a:lnTo>
                <a:lnTo>
                  <a:pt x="637595" y="6615"/>
                </a:lnTo>
                <a:lnTo>
                  <a:pt x="648446" y="8996"/>
                </a:lnTo>
                <a:lnTo>
                  <a:pt x="659563" y="12171"/>
                </a:lnTo>
                <a:lnTo>
                  <a:pt x="670679" y="15875"/>
                </a:lnTo>
                <a:lnTo>
                  <a:pt x="682060" y="20638"/>
                </a:lnTo>
                <a:lnTo>
                  <a:pt x="693176" y="25400"/>
                </a:lnTo>
                <a:lnTo>
                  <a:pt x="698734" y="28310"/>
                </a:lnTo>
                <a:lnTo>
                  <a:pt x="704027" y="31485"/>
                </a:lnTo>
                <a:lnTo>
                  <a:pt x="709586" y="34396"/>
                </a:lnTo>
                <a:lnTo>
                  <a:pt x="714879" y="38100"/>
                </a:lnTo>
                <a:lnTo>
                  <a:pt x="719908" y="41540"/>
                </a:lnTo>
                <a:lnTo>
                  <a:pt x="725201" y="45773"/>
                </a:lnTo>
                <a:lnTo>
                  <a:pt x="729965" y="49742"/>
                </a:lnTo>
                <a:lnTo>
                  <a:pt x="734994" y="53975"/>
                </a:lnTo>
                <a:lnTo>
                  <a:pt x="739758" y="58738"/>
                </a:lnTo>
                <a:lnTo>
                  <a:pt x="744258" y="63235"/>
                </a:lnTo>
                <a:lnTo>
                  <a:pt x="748757" y="68527"/>
                </a:lnTo>
                <a:lnTo>
                  <a:pt x="752992" y="73819"/>
                </a:lnTo>
                <a:lnTo>
                  <a:pt x="756962" y="79375"/>
                </a:lnTo>
                <a:lnTo>
                  <a:pt x="761197" y="85460"/>
                </a:lnTo>
                <a:lnTo>
                  <a:pt x="764902" y="91546"/>
                </a:lnTo>
                <a:lnTo>
                  <a:pt x="768343" y="98160"/>
                </a:lnTo>
                <a:lnTo>
                  <a:pt x="771519" y="104510"/>
                </a:lnTo>
                <a:lnTo>
                  <a:pt x="774695" y="111654"/>
                </a:lnTo>
                <a:lnTo>
                  <a:pt x="777606" y="119063"/>
                </a:lnTo>
                <a:lnTo>
                  <a:pt x="780253" y="126735"/>
                </a:lnTo>
                <a:lnTo>
                  <a:pt x="782370" y="134673"/>
                </a:lnTo>
                <a:lnTo>
                  <a:pt x="784752" y="143140"/>
                </a:lnTo>
                <a:lnTo>
                  <a:pt x="786340" y="151606"/>
                </a:lnTo>
                <a:lnTo>
                  <a:pt x="787664" y="160338"/>
                </a:lnTo>
                <a:lnTo>
                  <a:pt x="788987" y="169598"/>
                </a:lnTo>
                <a:lnTo>
                  <a:pt x="789516" y="179388"/>
                </a:lnTo>
                <a:lnTo>
                  <a:pt x="790310" y="189706"/>
                </a:lnTo>
                <a:lnTo>
                  <a:pt x="790575" y="199760"/>
                </a:lnTo>
                <a:lnTo>
                  <a:pt x="790310" y="209550"/>
                </a:lnTo>
                <a:lnTo>
                  <a:pt x="790046" y="218810"/>
                </a:lnTo>
                <a:lnTo>
                  <a:pt x="788987" y="237067"/>
                </a:lnTo>
                <a:lnTo>
                  <a:pt x="787134" y="254794"/>
                </a:lnTo>
                <a:lnTo>
                  <a:pt x="785017" y="271992"/>
                </a:lnTo>
                <a:lnTo>
                  <a:pt x="781841" y="288396"/>
                </a:lnTo>
                <a:lnTo>
                  <a:pt x="778400" y="304536"/>
                </a:lnTo>
                <a:lnTo>
                  <a:pt x="774430" y="320146"/>
                </a:lnTo>
                <a:lnTo>
                  <a:pt x="770195" y="334963"/>
                </a:lnTo>
                <a:lnTo>
                  <a:pt x="765167" y="349250"/>
                </a:lnTo>
                <a:lnTo>
                  <a:pt x="760138" y="363008"/>
                </a:lnTo>
                <a:lnTo>
                  <a:pt x="754580" y="376238"/>
                </a:lnTo>
                <a:lnTo>
                  <a:pt x="749022" y="389202"/>
                </a:lnTo>
                <a:lnTo>
                  <a:pt x="743199" y="401373"/>
                </a:lnTo>
                <a:lnTo>
                  <a:pt x="737111" y="413279"/>
                </a:lnTo>
                <a:lnTo>
                  <a:pt x="731024" y="424656"/>
                </a:lnTo>
                <a:lnTo>
                  <a:pt x="724672" y="435504"/>
                </a:lnTo>
                <a:lnTo>
                  <a:pt x="718584" y="445823"/>
                </a:lnTo>
                <a:lnTo>
                  <a:pt x="712497" y="455613"/>
                </a:lnTo>
                <a:lnTo>
                  <a:pt x="700057" y="474398"/>
                </a:lnTo>
                <a:lnTo>
                  <a:pt x="678354" y="506148"/>
                </a:lnTo>
                <a:lnTo>
                  <a:pt x="668826" y="519906"/>
                </a:lnTo>
                <a:lnTo>
                  <a:pt x="665121" y="525992"/>
                </a:lnTo>
                <a:lnTo>
                  <a:pt x="661680" y="532342"/>
                </a:lnTo>
                <a:lnTo>
                  <a:pt x="659033" y="537633"/>
                </a:lnTo>
                <a:lnTo>
                  <a:pt x="656651" y="542925"/>
                </a:lnTo>
                <a:lnTo>
                  <a:pt x="655063" y="547688"/>
                </a:lnTo>
                <a:lnTo>
                  <a:pt x="654004" y="552450"/>
                </a:lnTo>
                <a:lnTo>
                  <a:pt x="591013" y="552450"/>
                </a:lnTo>
                <a:lnTo>
                  <a:pt x="581749" y="552715"/>
                </a:lnTo>
                <a:lnTo>
                  <a:pt x="573280" y="553773"/>
                </a:lnTo>
                <a:lnTo>
                  <a:pt x="565339" y="554831"/>
                </a:lnTo>
                <a:lnTo>
                  <a:pt x="557929" y="556683"/>
                </a:lnTo>
                <a:lnTo>
                  <a:pt x="551047" y="559329"/>
                </a:lnTo>
                <a:lnTo>
                  <a:pt x="544430" y="561975"/>
                </a:lnTo>
                <a:lnTo>
                  <a:pt x="538607" y="565150"/>
                </a:lnTo>
                <a:lnTo>
                  <a:pt x="533049" y="568590"/>
                </a:lnTo>
                <a:lnTo>
                  <a:pt x="528021" y="572294"/>
                </a:lnTo>
                <a:lnTo>
                  <a:pt x="523521" y="576263"/>
                </a:lnTo>
                <a:lnTo>
                  <a:pt x="519286" y="580231"/>
                </a:lnTo>
                <a:lnTo>
                  <a:pt x="515581" y="584729"/>
                </a:lnTo>
                <a:lnTo>
                  <a:pt x="512140" y="588963"/>
                </a:lnTo>
                <a:lnTo>
                  <a:pt x="509229" y="593461"/>
                </a:lnTo>
                <a:lnTo>
                  <a:pt x="506318" y="597694"/>
                </a:lnTo>
                <a:lnTo>
                  <a:pt x="504200" y="601663"/>
                </a:lnTo>
                <a:lnTo>
                  <a:pt x="502083" y="606161"/>
                </a:lnTo>
                <a:lnTo>
                  <a:pt x="500230" y="610129"/>
                </a:lnTo>
                <a:lnTo>
                  <a:pt x="498377" y="614892"/>
                </a:lnTo>
                <a:lnTo>
                  <a:pt x="496789" y="619390"/>
                </a:lnTo>
                <a:lnTo>
                  <a:pt x="493878" y="629179"/>
                </a:lnTo>
                <a:lnTo>
                  <a:pt x="491496" y="639498"/>
                </a:lnTo>
                <a:lnTo>
                  <a:pt x="489908" y="650875"/>
                </a:lnTo>
                <a:lnTo>
                  <a:pt x="488584" y="663046"/>
                </a:lnTo>
                <a:lnTo>
                  <a:pt x="487790" y="676275"/>
                </a:lnTo>
                <a:lnTo>
                  <a:pt x="487790" y="690827"/>
                </a:lnTo>
                <a:lnTo>
                  <a:pt x="487790" y="705115"/>
                </a:lnTo>
                <a:lnTo>
                  <a:pt x="488584" y="718079"/>
                </a:lnTo>
                <a:lnTo>
                  <a:pt x="489908" y="730515"/>
                </a:lnTo>
                <a:lnTo>
                  <a:pt x="491496" y="741892"/>
                </a:lnTo>
                <a:lnTo>
                  <a:pt x="493878" y="752211"/>
                </a:lnTo>
                <a:lnTo>
                  <a:pt x="496789" y="762000"/>
                </a:lnTo>
                <a:lnTo>
                  <a:pt x="498377" y="766498"/>
                </a:lnTo>
                <a:lnTo>
                  <a:pt x="500230" y="770996"/>
                </a:lnTo>
                <a:lnTo>
                  <a:pt x="502083" y="775494"/>
                </a:lnTo>
                <a:lnTo>
                  <a:pt x="504200" y="779463"/>
                </a:lnTo>
                <a:lnTo>
                  <a:pt x="506053" y="783167"/>
                </a:lnTo>
                <a:lnTo>
                  <a:pt x="508170" y="786871"/>
                </a:lnTo>
                <a:lnTo>
                  <a:pt x="510817" y="790575"/>
                </a:lnTo>
                <a:lnTo>
                  <a:pt x="513464" y="794015"/>
                </a:lnTo>
                <a:lnTo>
                  <a:pt x="507112" y="795602"/>
                </a:lnTo>
                <a:lnTo>
                  <a:pt x="500759" y="797190"/>
                </a:lnTo>
                <a:lnTo>
                  <a:pt x="494937" y="799306"/>
                </a:lnTo>
                <a:lnTo>
                  <a:pt x="489379" y="801688"/>
                </a:lnTo>
                <a:lnTo>
                  <a:pt x="484350" y="804333"/>
                </a:lnTo>
                <a:lnTo>
                  <a:pt x="479321" y="806979"/>
                </a:lnTo>
                <a:lnTo>
                  <a:pt x="475086" y="810154"/>
                </a:lnTo>
                <a:lnTo>
                  <a:pt x="471116" y="813329"/>
                </a:lnTo>
                <a:lnTo>
                  <a:pt x="466881" y="816769"/>
                </a:lnTo>
                <a:lnTo>
                  <a:pt x="463441" y="820208"/>
                </a:lnTo>
                <a:lnTo>
                  <a:pt x="460529" y="823648"/>
                </a:lnTo>
                <a:lnTo>
                  <a:pt x="457353" y="827352"/>
                </a:lnTo>
                <a:lnTo>
                  <a:pt x="454442" y="831056"/>
                </a:lnTo>
                <a:lnTo>
                  <a:pt x="452060" y="834761"/>
                </a:lnTo>
                <a:lnTo>
                  <a:pt x="448090" y="841904"/>
                </a:lnTo>
                <a:lnTo>
                  <a:pt x="445972" y="846138"/>
                </a:lnTo>
                <a:lnTo>
                  <a:pt x="444120" y="850106"/>
                </a:lnTo>
                <a:lnTo>
                  <a:pt x="442267" y="854869"/>
                </a:lnTo>
                <a:lnTo>
                  <a:pt x="440679" y="859102"/>
                </a:lnTo>
                <a:lnTo>
                  <a:pt x="437767" y="869156"/>
                </a:lnTo>
                <a:lnTo>
                  <a:pt x="435650" y="879740"/>
                </a:lnTo>
                <a:lnTo>
                  <a:pt x="433797" y="890852"/>
                </a:lnTo>
                <a:lnTo>
                  <a:pt x="432474" y="903288"/>
                </a:lnTo>
                <a:lnTo>
                  <a:pt x="431945" y="916252"/>
                </a:lnTo>
                <a:lnTo>
                  <a:pt x="431680" y="930540"/>
                </a:lnTo>
                <a:lnTo>
                  <a:pt x="431945" y="945092"/>
                </a:lnTo>
                <a:lnTo>
                  <a:pt x="432474" y="958056"/>
                </a:lnTo>
                <a:lnTo>
                  <a:pt x="433797" y="970492"/>
                </a:lnTo>
                <a:lnTo>
                  <a:pt x="435650" y="981604"/>
                </a:lnTo>
                <a:lnTo>
                  <a:pt x="437767" y="992188"/>
                </a:lnTo>
                <a:lnTo>
                  <a:pt x="440679" y="1001977"/>
                </a:lnTo>
                <a:lnTo>
                  <a:pt x="442267" y="1006475"/>
                </a:lnTo>
                <a:lnTo>
                  <a:pt x="444120" y="1011238"/>
                </a:lnTo>
                <a:lnTo>
                  <a:pt x="445972" y="1015206"/>
                </a:lnTo>
                <a:lnTo>
                  <a:pt x="448090" y="1019440"/>
                </a:lnTo>
                <a:lnTo>
                  <a:pt x="449942" y="1023144"/>
                </a:lnTo>
                <a:lnTo>
                  <a:pt x="452324" y="1026848"/>
                </a:lnTo>
                <a:lnTo>
                  <a:pt x="454971" y="1030817"/>
                </a:lnTo>
                <a:lnTo>
                  <a:pt x="457618" y="1034521"/>
                </a:lnTo>
                <a:lnTo>
                  <a:pt x="460529" y="1038225"/>
                </a:lnTo>
                <a:lnTo>
                  <a:pt x="463970" y="1041665"/>
                </a:lnTo>
                <a:lnTo>
                  <a:pt x="467675" y="1045369"/>
                </a:lnTo>
                <a:lnTo>
                  <a:pt x="471645" y="1048809"/>
                </a:lnTo>
                <a:lnTo>
                  <a:pt x="475616" y="1051719"/>
                </a:lnTo>
                <a:lnTo>
                  <a:pt x="480380" y="1054894"/>
                </a:lnTo>
                <a:lnTo>
                  <a:pt x="485144" y="1057804"/>
                </a:lnTo>
                <a:lnTo>
                  <a:pt x="490437" y="1060186"/>
                </a:lnTo>
                <a:lnTo>
                  <a:pt x="496260" y="1062567"/>
                </a:lnTo>
                <a:lnTo>
                  <a:pt x="502347" y="1064419"/>
                </a:lnTo>
                <a:lnTo>
                  <a:pt x="508435" y="1066271"/>
                </a:lnTo>
                <a:lnTo>
                  <a:pt x="515316" y="1067594"/>
                </a:lnTo>
                <a:lnTo>
                  <a:pt x="511876" y="1071827"/>
                </a:lnTo>
                <a:lnTo>
                  <a:pt x="508435" y="1076590"/>
                </a:lnTo>
                <a:lnTo>
                  <a:pt x="505788" y="1080823"/>
                </a:lnTo>
                <a:lnTo>
                  <a:pt x="503141" y="1085586"/>
                </a:lnTo>
                <a:lnTo>
                  <a:pt x="501024" y="1089554"/>
                </a:lnTo>
                <a:lnTo>
                  <a:pt x="499171" y="1094052"/>
                </a:lnTo>
                <a:lnTo>
                  <a:pt x="497583" y="1098286"/>
                </a:lnTo>
                <a:lnTo>
                  <a:pt x="495731" y="1103048"/>
                </a:lnTo>
                <a:lnTo>
                  <a:pt x="493084" y="1112838"/>
                </a:lnTo>
                <a:lnTo>
                  <a:pt x="490967" y="1123156"/>
                </a:lnTo>
                <a:lnTo>
                  <a:pt x="489114" y="1134534"/>
                </a:lnTo>
                <a:lnTo>
                  <a:pt x="487790" y="1146704"/>
                </a:lnTo>
                <a:lnTo>
                  <a:pt x="487261" y="1159934"/>
                </a:lnTo>
                <a:lnTo>
                  <a:pt x="486732" y="1174221"/>
                </a:lnTo>
                <a:lnTo>
                  <a:pt x="487261" y="1188509"/>
                </a:lnTo>
                <a:lnTo>
                  <a:pt x="487790" y="1202002"/>
                </a:lnTo>
                <a:lnTo>
                  <a:pt x="489114" y="1214438"/>
                </a:lnTo>
                <a:lnTo>
                  <a:pt x="490967" y="1225550"/>
                </a:lnTo>
                <a:lnTo>
                  <a:pt x="493084" y="1236134"/>
                </a:lnTo>
                <a:lnTo>
                  <a:pt x="495731" y="1245659"/>
                </a:lnTo>
                <a:lnTo>
                  <a:pt x="497583" y="1250156"/>
                </a:lnTo>
                <a:lnTo>
                  <a:pt x="499171" y="1254654"/>
                </a:lnTo>
                <a:lnTo>
                  <a:pt x="501024" y="1258888"/>
                </a:lnTo>
                <a:lnTo>
                  <a:pt x="503141" y="1263121"/>
                </a:lnTo>
                <a:lnTo>
                  <a:pt x="505523" y="1267090"/>
                </a:lnTo>
                <a:lnTo>
                  <a:pt x="507641" y="1270794"/>
                </a:lnTo>
                <a:lnTo>
                  <a:pt x="510288" y="1274498"/>
                </a:lnTo>
                <a:lnTo>
                  <a:pt x="513199" y="1278467"/>
                </a:lnTo>
                <a:lnTo>
                  <a:pt x="516375" y="1282171"/>
                </a:lnTo>
                <a:lnTo>
                  <a:pt x="519816" y="1285875"/>
                </a:lnTo>
                <a:lnTo>
                  <a:pt x="523521" y="1289315"/>
                </a:lnTo>
                <a:lnTo>
                  <a:pt x="527756" y="1292754"/>
                </a:lnTo>
                <a:lnTo>
                  <a:pt x="531991" y="1296194"/>
                </a:lnTo>
                <a:lnTo>
                  <a:pt x="536755" y="1299369"/>
                </a:lnTo>
                <a:lnTo>
                  <a:pt x="542048" y="1302015"/>
                </a:lnTo>
                <a:lnTo>
                  <a:pt x="547606" y="1304661"/>
                </a:lnTo>
                <a:lnTo>
                  <a:pt x="553429" y="1307042"/>
                </a:lnTo>
                <a:lnTo>
                  <a:pt x="559781" y="1308894"/>
                </a:lnTo>
                <a:lnTo>
                  <a:pt x="566663" y="1310481"/>
                </a:lnTo>
                <a:lnTo>
                  <a:pt x="573809" y="1311804"/>
                </a:lnTo>
                <a:lnTo>
                  <a:pt x="568780" y="1317361"/>
                </a:lnTo>
                <a:lnTo>
                  <a:pt x="564016" y="1322917"/>
                </a:lnTo>
                <a:lnTo>
                  <a:pt x="560311" y="1328738"/>
                </a:lnTo>
                <a:lnTo>
                  <a:pt x="557135" y="1334294"/>
                </a:lnTo>
                <a:lnTo>
                  <a:pt x="555017" y="1338792"/>
                </a:lnTo>
                <a:lnTo>
                  <a:pt x="553164" y="1342761"/>
                </a:lnTo>
                <a:lnTo>
                  <a:pt x="551312" y="1347259"/>
                </a:lnTo>
                <a:lnTo>
                  <a:pt x="549724" y="1351756"/>
                </a:lnTo>
                <a:lnTo>
                  <a:pt x="547077" y="1361546"/>
                </a:lnTo>
                <a:lnTo>
                  <a:pt x="544430" y="1372129"/>
                </a:lnTo>
                <a:lnTo>
                  <a:pt x="543107" y="1383242"/>
                </a:lnTo>
                <a:lnTo>
                  <a:pt x="541784" y="1395677"/>
                </a:lnTo>
                <a:lnTo>
                  <a:pt x="540725" y="1408642"/>
                </a:lnTo>
                <a:lnTo>
                  <a:pt x="540725" y="1423459"/>
                </a:lnTo>
                <a:lnTo>
                  <a:pt x="540725" y="1437481"/>
                </a:lnTo>
                <a:lnTo>
                  <a:pt x="541784" y="1450711"/>
                </a:lnTo>
                <a:lnTo>
                  <a:pt x="543107" y="1463146"/>
                </a:lnTo>
                <a:lnTo>
                  <a:pt x="544430" y="1474259"/>
                </a:lnTo>
                <a:lnTo>
                  <a:pt x="547077" y="1484842"/>
                </a:lnTo>
                <a:lnTo>
                  <a:pt x="549724" y="1494367"/>
                </a:lnTo>
                <a:lnTo>
                  <a:pt x="551312" y="1499129"/>
                </a:lnTo>
                <a:lnTo>
                  <a:pt x="553164" y="1503627"/>
                </a:lnTo>
                <a:lnTo>
                  <a:pt x="555017" y="1507596"/>
                </a:lnTo>
                <a:lnTo>
                  <a:pt x="557135" y="1512094"/>
                </a:lnTo>
                <a:lnTo>
                  <a:pt x="559781" y="1516327"/>
                </a:lnTo>
                <a:lnTo>
                  <a:pt x="562428" y="1520825"/>
                </a:lnTo>
                <a:lnTo>
                  <a:pt x="321047" y="1520825"/>
                </a:lnTo>
                <a:lnTo>
                  <a:pt x="312842" y="1520825"/>
                </a:lnTo>
                <a:lnTo>
                  <a:pt x="304373" y="1520296"/>
                </a:lnTo>
                <a:lnTo>
                  <a:pt x="296433" y="1519767"/>
                </a:lnTo>
                <a:lnTo>
                  <a:pt x="288228" y="1519238"/>
                </a:lnTo>
                <a:lnTo>
                  <a:pt x="280288" y="1518179"/>
                </a:lnTo>
                <a:lnTo>
                  <a:pt x="272083" y="1517121"/>
                </a:lnTo>
                <a:lnTo>
                  <a:pt x="264407" y="1515798"/>
                </a:lnTo>
                <a:lnTo>
                  <a:pt x="256203" y="1514211"/>
                </a:lnTo>
                <a:lnTo>
                  <a:pt x="248527" y="1512623"/>
                </a:lnTo>
                <a:lnTo>
                  <a:pt x="240852" y="1510771"/>
                </a:lnTo>
                <a:lnTo>
                  <a:pt x="233441" y="1508654"/>
                </a:lnTo>
                <a:lnTo>
                  <a:pt x="225501" y="1506538"/>
                </a:lnTo>
                <a:lnTo>
                  <a:pt x="218090" y="1503892"/>
                </a:lnTo>
                <a:lnTo>
                  <a:pt x="210679" y="1501511"/>
                </a:lnTo>
                <a:lnTo>
                  <a:pt x="203268" y="1498600"/>
                </a:lnTo>
                <a:lnTo>
                  <a:pt x="196122" y="1495690"/>
                </a:lnTo>
                <a:lnTo>
                  <a:pt x="188976" y="1492515"/>
                </a:lnTo>
                <a:lnTo>
                  <a:pt x="181830" y="1489075"/>
                </a:lnTo>
                <a:lnTo>
                  <a:pt x="174948" y="1485636"/>
                </a:lnTo>
                <a:lnTo>
                  <a:pt x="168067" y="1482196"/>
                </a:lnTo>
                <a:lnTo>
                  <a:pt x="161450" y="1478227"/>
                </a:lnTo>
                <a:lnTo>
                  <a:pt x="154569" y="1474523"/>
                </a:lnTo>
                <a:lnTo>
                  <a:pt x="147952" y="1470290"/>
                </a:lnTo>
                <a:lnTo>
                  <a:pt x="141600" y="1466056"/>
                </a:lnTo>
                <a:lnTo>
                  <a:pt x="129160" y="1457061"/>
                </a:lnTo>
                <a:lnTo>
                  <a:pt x="116985" y="1447536"/>
                </a:lnTo>
                <a:lnTo>
                  <a:pt x="105075" y="1437481"/>
                </a:lnTo>
                <a:lnTo>
                  <a:pt x="93959" y="1426634"/>
                </a:lnTo>
                <a:lnTo>
                  <a:pt x="83372" y="1415521"/>
                </a:lnTo>
                <a:lnTo>
                  <a:pt x="73579" y="1404144"/>
                </a:lnTo>
                <a:lnTo>
                  <a:pt x="64051" y="1391973"/>
                </a:lnTo>
                <a:lnTo>
                  <a:pt x="55052" y="1379273"/>
                </a:lnTo>
                <a:lnTo>
                  <a:pt x="50552" y="1373188"/>
                </a:lnTo>
                <a:lnTo>
                  <a:pt x="46582" y="1366309"/>
                </a:lnTo>
                <a:lnTo>
                  <a:pt x="42612" y="1359694"/>
                </a:lnTo>
                <a:lnTo>
                  <a:pt x="38907" y="1352815"/>
                </a:lnTo>
                <a:lnTo>
                  <a:pt x="35466" y="1346200"/>
                </a:lnTo>
                <a:lnTo>
                  <a:pt x="31761" y="1339056"/>
                </a:lnTo>
                <a:lnTo>
                  <a:pt x="28585" y="1332177"/>
                </a:lnTo>
                <a:lnTo>
                  <a:pt x="25409" y="1325034"/>
                </a:lnTo>
                <a:lnTo>
                  <a:pt x="22497" y="1317625"/>
                </a:lnTo>
                <a:lnTo>
                  <a:pt x="19586" y="1310481"/>
                </a:lnTo>
                <a:lnTo>
                  <a:pt x="17204" y="1303073"/>
                </a:lnTo>
                <a:lnTo>
                  <a:pt x="14557" y="1295665"/>
                </a:lnTo>
                <a:lnTo>
                  <a:pt x="12440" y="1287727"/>
                </a:lnTo>
                <a:lnTo>
                  <a:pt x="10322" y="1280054"/>
                </a:lnTo>
                <a:lnTo>
                  <a:pt x="8470" y="1272646"/>
                </a:lnTo>
                <a:lnTo>
                  <a:pt x="6617" y="1264444"/>
                </a:lnTo>
                <a:lnTo>
                  <a:pt x="5294" y="1256771"/>
                </a:lnTo>
                <a:lnTo>
                  <a:pt x="3706" y="1248834"/>
                </a:lnTo>
                <a:lnTo>
                  <a:pt x="2912" y="1240896"/>
                </a:lnTo>
                <a:lnTo>
                  <a:pt x="1853" y="1232959"/>
                </a:lnTo>
                <a:lnTo>
                  <a:pt x="1059" y="1224756"/>
                </a:lnTo>
                <a:lnTo>
                  <a:pt x="529" y="1216554"/>
                </a:lnTo>
                <a:lnTo>
                  <a:pt x="265" y="1208352"/>
                </a:lnTo>
                <a:lnTo>
                  <a:pt x="0" y="1200150"/>
                </a:lnTo>
                <a:lnTo>
                  <a:pt x="0" y="857515"/>
                </a:lnTo>
                <a:lnTo>
                  <a:pt x="265" y="847196"/>
                </a:lnTo>
                <a:lnTo>
                  <a:pt x="1059" y="836348"/>
                </a:lnTo>
                <a:lnTo>
                  <a:pt x="1588" y="826029"/>
                </a:lnTo>
                <a:lnTo>
                  <a:pt x="2912" y="815711"/>
                </a:lnTo>
                <a:lnTo>
                  <a:pt x="4500" y="805656"/>
                </a:lnTo>
                <a:lnTo>
                  <a:pt x="6352" y="795602"/>
                </a:lnTo>
                <a:lnTo>
                  <a:pt x="8205" y="785813"/>
                </a:lnTo>
                <a:lnTo>
                  <a:pt x="10587" y="776023"/>
                </a:lnTo>
                <a:lnTo>
                  <a:pt x="13498" y="766498"/>
                </a:lnTo>
                <a:lnTo>
                  <a:pt x="16410" y="757238"/>
                </a:lnTo>
                <a:lnTo>
                  <a:pt x="19851" y="747713"/>
                </a:lnTo>
                <a:lnTo>
                  <a:pt x="23291" y="738717"/>
                </a:lnTo>
                <a:lnTo>
                  <a:pt x="27261" y="730250"/>
                </a:lnTo>
                <a:lnTo>
                  <a:pt x="31761" y="721519"/>
                </a:lnTo>
                <a:lnTo>
                  <a:pt x="35996" y="712788"/>
                </a:lnTo>
                <a:lnTo>
                  <a:pt x="41024" y="704850"/>
                </a:lnTo>
                <a:lnTo>
                  <a:pt x="46053" y="696648"/>
                </a:lnTo>
                <a:lnTo>
                  <a:pt x="51346" y="688711"/>
                </a:lnTo>
                <a:lnTo>
                  <a:pt x="56905" y="680773"/>
                </a:lnTo>
                <a:lnTo>
                  <a:pt x="62727" y="673365"/>
                </a:lnTo>
                <a:lnTo>
                  <a:pt x="68550" y="666221"/>
                </a:lnTo>
                <a:lnTo>
                  <a:pt x="75167" y="659077"/>
                </a:lnTo>
                <a:lnTo>
                  <a:pt x="81519" y="652198"/>
                </a:lnTo>
                <a:lnTo>
                  <a:pt x="88401" y="645848"/>
                </a:lnTo>
                <a:lnTo>
                  <a:pt x="95547" y="639498"/>
                </a:lnTo>
                <a:lnTo>
                  <a:pt x="102958" y="633413"/>
                </a:lnTo>
                <a:lnTo>
                  <a:pt x="110368" y="627592"/>
                </a:lnTo>
                <a:lnTo>
                  <a:pt x="118308" y="622036"/>
                </a:lnTo>
                <a:lnTo>
                  <a:pt x="126249" y="616744"/>
                </a:lnTo>
                <a:lnTo>
                  <a:pt x="134453" y="611452"/>
                </a:lnTo>
                <a:lnTo>
                  <a:pt x="143188" y="606690"/>
                </a:lnTo>
                <a:lnTo>
                  <a:pt x="151392" y="602192"/>
                </a:lnTo>
                <a:lnTo>
                  <a:pt x="168596" y="587904"/>
                </a:lnTo>
                <a:lnTo>
                  <a:pt x="189505" y="569913"/>
                </a:lnTo>
                <a:lnTo>
                  <a:pt x="214120" y="548481"/>
                </a:lnTo>
                <a:lnTo>
                  <a:pt x="241381" y="524140"/>
                </a:lnTo>
                <a:lnTo>
                  <a:pt x="270760" y="497152"/>
                </a:lnTo>
                <a:lnTo>
                  <a:pt x="301726" y="468048"/>
                </a:lnTo>
                <a:lnTo>
                  <a:pt x="317342" y="452967"/>
                </a:lnTo>
                <a:lnTo>
                  <a:pt x="333222" y="437356"/>
                </a:lnTo>
                <a:lnTo>
                  <a:pt x="349367" y="421217"/>
                </a:lnTo>
                <a:lnTo>
                  <a:pt x="365247" y="405077"/>
                </a:lnTo>
                <a:lnTo>
                  <a:pt x="381128" y="388408"/>
                </a:lnTo>
                <a:lnTo>
                  <a:pt x="396479" y="371740"/>
                </a:lnTo>
                <a:lnTo>
                  <a:pt x="412094" y="354542"/>
                </a:lnTo>
                <a:lnTo>
                  <a:pt x="426916" y="337608"/>
                </a:lnTo>
                <a:lnTo>
                  <a:pt x="441473" y="320411"/>
                </a:lnTo>
                <a:lnTo>
                  <a:pt x="455765" y="303477"/>
                </a:lnTo>
                <a:lnTo>
                  <a:pt x="469263" y="286015"/>
                </a:lnTo>
                <a:lnTo>
                  <a:pt x="482232" y="269081"/>
                </a:lnTo>
                <a:lnTo>
                  <a:pt x="494143" y="252148"/>
                </a:lnTo>
                <a:lnTo>
                  <a:pt x="505523" y="235215"/>
                </a:lnTo>
                <a:lnTo>
                  <a:pt x="515581" y="218810"/>
                </a:lnTo>
                <a:lnTo>
                  <a:pt x="520610" y="210344"/>
                </a:lnTo>
                <a:lnTo>
                  <a:pt x="525374" y="202406"/>
                </a:lnTo>
                <a:lnTo>
                  <a:pt x="529344" y="194204"/>
                </a:lnTo>
                <a:lnTo>
                  <a:pt x="533314" y="186267"/>
                </a:lnTo>
                <a:lnTo>
                  <a:pt x="537019" y="178329"/>
                </a:lnTo>
                <a:lnTo>
                  <a:pt x="540460" y="170656"/>
                </a:lnTo>
                <a:lnTo>
                  <a:pt x="543636" y="162983"/>
                </a:lnTo>
                <a:lnTo>
                  <a:pt x="546283" y="155575"/>
                </a:lnTo>
                <a:lnTo>
                  <a:pt x="548930" y="147902"/>
                </a:lnTo>
                <a:lnTo>
                  <a:pt x="551047" y="140494"/>
                </a:lnTo>
                <a:lnTo>
                  <a:pt x="551047" y="1058"/>
                </a:lnTo>
                <a:lnTo>
                  <a:pt x="553958" y="794"/>
                </a:lnTo>
                <a:lnTo>
                  <a:pt x="561369" y="265"/>
                </a:lnTo>
                <a:lnTo>
                  <a:pt x="573015"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KSO_Shape"/>
          <p:cNvSpPr/>
          <p:nvPr/>
        </p:nvSpPr>
        <p:spPr>
          <a:xfrm>
            <a:off x="6191280" y="3110040"/>
            <a:ext cx="866880" cy="738000"/>
          </a:xfrm>
          <a:custGeom>
            <a:avLst/>
            <a:gdLst>
              <a:gd name="textAreaLeft" fmla="*/ 0 w 866880"/>
              <a:gd name="textAreaRight" fmla="*/ 867240 w 866880"/>
              <a:gd name="textAreaTop" fmla="*/ 0 h 738000"/>
              <a:gd name="textAreaBottom" fmla="*/ 738360 h 73800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KSO_Shape"/>
          <p:cNvSpPr/>
          <p:nvPr/>
        </p:nvSpPr>
        <p:spPr>
          <a:xfrm>
            <a:off x="9880560" y="3049560"/>
            <a:ext cx="930240" cy="858960"/>
          </a:xfrm>
          <a:custGeom>
            <a:avLst/>
            <a:gdLst>
              <a:gd name="textAreaLeft" fmla="*/ 0 w 930240"/>
              <a:gd name="textAreaRight" fmla="*/ 930240 w 930240"/>
              <a:gd name="textAreaTop" fmla="*/ 0 h 858960"/>
              <a:gd name="textAreaBottom" fmla="*/ 859320 h 85896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TextBox 15"/>
          <p:cNvSpPr/>
          <p:nvPr/>
        </p:nvSpPr>
        <p:spPr>
          <a:xfrm>
            <a:off x="1352520" y="1200240"/>
            <a:ext cx="5521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a:t>
            </a:r>
            <a:endParaRPr b="0" lang="en-US" sz="1400" spc="-1" strike="noStrike">
              <a:solidFill>
                <a:srgbClr val="000000"/>
              </a:solidFill>
              <a:latin typeface="Arial"/>
            </a:endParaRPr>
          </a:p>
        </p:txBody>
      </p:sp>
      <p:sp>
        <p:nvSpPr>
          <p:cNvPr id="561" name="TextBox 15"/>
          <p:cNvSpPr/>
          <p:nvPr/>
        </p:nvSpPr>
        <p:spPr>
          <a:xfrm>
            <a:off x="1352520" y="3009960"/>
            <a:ext cx="3930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a:t>
            </a:r>
            <a:endParaRPr b="0" lang="en-US" sz="1400" spc="-1" strike="noStrike">
              <a:solidFill>
                <a:srgbClr val="000000"/>
              </a:solidFill>
              <a:latin typeface="Arial"/>
            </a:endParaRPr>
          </a:p>
        </p:txBody>
      </p:sp>
      <p:sp>
        <p:nvSpPr>
          <p:cNvPr id="562" name="TextBox 15"/>
          <p:cNvSpPr/>
          <p:nvPr/>
        </p:nvSpPr>
        <p:spPr>
          <a:xfrm>
            <a:off x="1352520" y="4819680"/>
            <a:ext cx="2917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1"/>
          <p:cNvSpPr/>
          <p:nvPr/>
        </p:nvSpPr>
        <p:spPr>
          <a:xfrm>
            <a:off x="996840" y="12333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5" name="矩形 1"/>
          <p:cNvSpPr/>
          <p:nvPr/>
        </p:nvSpPr>
        <p:spPr>
          <a:xfrm>
            <a:off x="996840" y="43257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6" name="矩形 1"/>
          <p:cNvSpPr/>
          <p:nvPr/>
        </p:nvSpPr>
        <p:spPr>
          <a:xfrm>
            <a:off x="9294840" y="1233360"/>
            <a:ext cx="1836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7" name="矩形 1"/>
          <p:cNvSpPr/>
          <p:nvPr/>
        </p:nvSpPr>
        <p:spPr>
          <a:xfrm>
            <a:off x="9354960" y="4325760"/>
            <a:ext cx="18370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8" name="Freeform 5"/>
          <p:cNvSpPr/>
          <p:nvPr/>
        </p:nvSpPr>
        <p:spPr>
          <a:xfrm>
            <a:off x="6629400" y="1081080"/>
            <a:ext cx="2271600" cy="2279520"/>
          </a:xfrm>
          <a:custGeom>
            <a:avLst/>
            <a:gdLst>
              <a:gd name="textAreaLeft" fmla="*/ 0 w 2271600"/>
              <a:gd name="textAreaRight" fmla="*/ 2271960 w 2271600"/>
              <a:gd name="textAreaTop" fmla="*/ 0 h 2279520"/>
              <a:gd name="textAreaBottom" fmla="*/ 2279880 h 2279520"/>
            </a:gdLst>
            <a:ahLst/>
            <a:rect l="textAreaLeft" t="textAreaTop" r="textAreaRight" b="textAreaBottom"/>
            <a:pathLst>
              <a:path w="34" h="34">
                <a:moveTo>
                  <a:pt x="6" y="34"/>
                </a:moveTo>
                <a:cubicBezTo>
                  <a:pt x="31" y="34"/>
                  <a:pt x="31" y="34"/>
                  <a:pt x="31" y="34"/>
                </a:cubicBezTo>
                <a:cubicBezTo>
                  <a:pt x="33" y="34"/>
                  <a:pt x="34" y="32"/>
                  <a:pt x="33" y="30"/>
                </a:cubicBezTo>
                <a:cubicBezTo>
                  <a:pt x="16" y="2"/>
                  <a:pt x="16" y="2"/>
                  <a:pt x="16" y="2"/>
                </a:cubicBezTo>
                <a:cubicBezTo>
                  <a:pt x="15" y="0"/>
                  <a:pt x="14" y="0"/>
                  <a:pt x="13" y="2"/>
                </a:cubicBezTo>
                <a:cubicBezTo>
                  <a:pt x="0" y="24"/>
                  <a:pt x="0" y="24"/>
                  <a:pt x="0" y="24"/>
                </a:cubicBezTo>
                <a:cubicBezTo>
                  <a:pt x="3" y="26"/>
                  <a:pt x="5" y="30"/>
                  <a:pt x="6" y="3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6"/>
          <p:cNvSpPr/>
          <p:nvPr/>
        </p:nvSpPr>
        <p:spPr>
          <a:xfrm>
            <a:off x="6629400" y="3495600"/>
            <a:ext cx="2271600" cy="2211480"/>
          </a:xfrm>
          <a:custGeom>
            <a:avLst/>
            <a:gdLst>
              <a:gd name="textAreaLeft" fmla="*/ 0 w 2271600"/>
              <a:gd name="textAreaRight" fmla="*/ 2271960 w 2271600"/>
              <a:gd name="textAreaTop" fmla="*/ 0 h 2211480"/>
              <a:gd name="textAreaBottom" fmla="*/ 2211840 h 2211480"/>
            </a:gdLst>
            <a:ahLst/>
            <a:rect l="textAreaLeft" t="textAreaTop" r="textAreaRight" b="textAreaBottom"/>
            <a:pathLst>
              <a:path w="34" h="33">
                <a:moveTo>
                  <a:pt x="31" y="0"/>
                </a:moveTo>
                <a:cubicBezTo>
                  <a:pt x="6" y="0"/>
                  <a:pt x="6" y="0"/>
                  <a:pt x="6" y="0"/>
                </a:cubicBezTo>
                <a:cubicBezTo>
                  <a:pt x="5" y="4"/>
                  <a:pt x="3" y="8"/>
                  <a:pt x="0" y="10"/>
                </a:cubicBezTo>
                <a:cubicBezTo>
                  <a:pt x="13" y="31"/>
                  <a:pt x="13" y="31"/>
                  <a:pt x="13" y="31"/>
                </a:cubicBezTo>
                <a:cubicBezTo>
                  <a:pt x="14" y="33"/>
                  <a:pt x="15" y="33"/>
                  <a:pt x="16" y="31"/>
                </a:cubicBezTo>
                <a:cubicBezTo>
                  <a:pt x="33" y="3"/>
                  <a:pt x="33" y="3"/>
                  <a:pt x="33" y="3"/>
                </a:cubicBezTo>
                <a:cubicBezTo>
                  <a:pt x="34" y="1"/>
                  <a:pt x="33" y="0"/>
                  <a:pt x="3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7"/>
          <p:cNvSpPr/>
          <p:nvPr/>
        </p:nvSpPr>
        <p:spPr>
          <a:xfrm>
            <a:off x="3290760" y="1081080"/>
            <a:ext cx="2202120" cy="2279520"/>
          </a:xfrm>
          <a:custGeom>
            <a:avLst/>
            <a:gdLst>
              <a:gd name="textAreaLeft" fmla="*/ 0 w 2202120"/>
              <a:gd name="textAreaRight" fmla="*/ 2202480 w 2202120"/>
              <a:gd name="textAreaTop" fmla="*/ 0 h 2279520"/>
              <a:gd name="textAreaBottom" fmla="*/ 2279880 h 2279520"/>
            </a:gdLst>
            <a:ahLst/>
            <a:rect l="textAreaLeft" t="textAreaTop" r="textAreaRight" b="textAreaBottom"/>
            <a:pathLst>
              <a:path w="33" h="34">
                <a:moveTo>
                  <a:pt x="33" y="24"/>
                </a:moveTo>
                <a:cubicBezTo>
                  <a:pt x="21" y="2"/>
                  <a:pt x="21" y="2"/>
                  <a:pt x="21" y="2"/>
                </a:cubicBezTo>
                <a:cubicBezTo>
                  <a:pt x="20" y="0"/>
                  <a:pt x="18" y="0"/>
                  <a:pt x="17" y="2"/>
                </a:cubicBezTo>
                <a:cubicBezTo>
                  <a:pt x="1" y="30"/>
                  <a:pt x="1" y="30"/>
                  <a:pt x="1" y="30"/>
                </a:cubicBezTo>
                <a:cubicBezTo>
                  <a:pt x="0" y="32"/>
                  <a:pt x="1" y="34"/>
                  <a:pt x="3" y="34"/>
                </a:cubicBezTo>
                <a:cubicBezTo>
                  <a:pt x="28" y="34"/>
                  <a:pt x="28" y="34"/>
                  <a:pt x="28" y="34"/>
                </a:cubicBezTo>
                <a:cubicBezTo>
                  <a:pt x="28" y="30"/>
                  <a:pt x="30" y="26"/>
                  <a:pt x="33" y="2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8"/>
          <p:cNvSpPr/>
          <p:nvPr/>
        </p:nvSpPr>
        <p:spPr>
          <a:xfrm>
            <a:off x="3314880" y="3508200"/>
            <a:ext cx="2201760" cy="2210040"/>
          </a:xfrm>
          <a:custGeom>
            <a:avLst/>
            <a:gdLst>
              <a:gd name="textAreaLeft" fmla="*/ 0 w 2201760"/>
              <a:gd name="textAreaRight" fmla="*/ 2202120 w 2201760"/>
              <a:gd name="textAreaTop" fmla="*/ 0 h 2210040"/>
              <a:gd name="textAreaBottom" fmla="*/ 2210400 h 2210040"/>
            </a:gdLst>
            <a:ahLst/>
            <a:rect l="textAreaLeft" t="textAreaTop" r="textAreaRight" b="textAreaBottom"/>
            <a:pathLst>
              <a:path w="33" h="33">
                <a:moveTo>
                  <a:pt x="28" y="0"/>
                </a:moveTo>
                <a:cubicBezTo>
                  <a:pt x="3" y="0"/>
                  <a:pt x="3" y="0"/>
                  <a:pt x="3" y="0"/>
                </a:cubicBezTo>
                <a:cubicBezTo>
                  <a:pt x="1" y="0"/>
                  <a:pt x="0" y="1"/>
                  <a:pt x="1" y="3"/>
                </a:cubicBezTo>
                <a:cubicBezTo>
                  <a:pt x="17" y="31"/>
                  <a:pt x="17" y="31"/>
                  <a:pt x="17" y="31"/>
                </a:cubicBezTo>
                <a:cubicBezTo>
                  <a:pt x="18" y="33"/>
                  <a:pt x="20" y="33"/>
                  <a:pt x="21" y="31"/>
                </a:cubicBezTo>
                <a:cubicBezTo>
                  <a:pt x="33" y="10"/>
                  <a:pt x="33" y="10"/>
                  <a:pt x="33" y="10"/>
                </a:cubicBezTo>
                <a:cubicBezTo>
                  <a:pt x="30" y="8"/>
                  <a:pt x="28" y="4"/>
                  <a:pt x="2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9"/>
          <p:cNvSpPr/>
          <p:nvPr/>
        </p:nvSpPr>
        <p:spPr>
          <a:xfrm>
            <a:off x="4759200" y="950760"/>
            <a:ext cx="2603520" cy="1606680"/>
          </a:xfrm>
          <a:custGeom>
            <a:avLst/>
            <a:gdLst>
              <a:gd name="textAreaLeft" fmla="*/ 0 w 2603520"/>
              <a:gd name="textAreaRight" fmla="*/ 2603880 w 2603520"/>
              <a:gd name="textAreaTop" fmla="*/ 0 h 1606680"/>
              <a:gd name="textAreaBottom" fmla="*/ 1607040 h 1606680"/>
            </a:gdLst>
            <a:ahLst/>
            <a:rect l="textAreaLeft" t="textAreaTop" r="textAreaRight" b="textAreaBottom"/>
            <a:pathLst>
              <a:path w="39" h="24">
                <a:moveTo>
                  <a:pt x="26" y="24"/>
                </a:moveTo>
                <a:cubicBezTo>
                  <a:pt x="38" y="3"/>
                  <a:pt x="38" y="3"/>
                  <a:pt x="38" y="3"/>
                </a:cubicBezTo>
                <a:cubicBezTo>
                  <a:pt x="39" y="2"/>
                  <a:pt x="38" y="0"/>
                  <a:pt x="36" y="0"/>
                </a:cubicBezTo>
                <a:cubicBezTo>
                  <a:pt x="3" y="0"/>
                  <a:pt x="3" y="0"/>
                  <a:pt x="3" y="0"/>
                </a:cubicBezTo>
                <a:cubicBezTo>
                  <a:pt x="1" y="0"/>
                  <a:pt x="0" y="2"/>
                  <a:pt x="1" y="3"/>
                </a:cubicBezTo>
                <a:cubicBezTo>
                  <a:pt x="13" y="24"/>
                  <a:pt x="13" y="24"/>
                  <a:pt x="13" y="24"/>
                </a:cubicBezTo>
                <a:cubicBezTo>
                  <a:pt x="15" y="23"/>
                  <a:pt x="17" y="23"/>
                  <a:pt x="20" y="23"/>
                </a:cubicBezTo>
                <a:cubicBezTo>
                  <a:pt x="22" y="23"/>
                  <a:pt x="24" y="23"/>
                  <a:pt x="26" y="2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0"/>
          <p:cNvSpPr/>
          <p:nvPr/>
        </p:nvSpPr>
        <p:spPr>
          <a:xfrm>
            <a:off x="4794120" y="4230720"/>
            <a:ext cx="2603520" cy="1677960"/>
          </a:xfrm>
          <a:custGeom>
            <a:avLst/>
            <a:gdLst>
              <a:gd name="textAreaLeft" fmla="*/ 0 w 2603520"/>
              <a:gd name="textAreaRight" fmla="*/ 2603880 w 2603520"/>
              <a:gd name="textAreaTop" fmla="*/ 0 h 1677960"/>
              <a:gd name="textAreaBottom" fmla="*/ 1678320 h 1677960"/>
            </a:gdLst>
            <a:ahLst/>
            <a:rect l="textAreaLeft" t="textAreaTop" r="textAreaRight" b="textAreaBottom"/>
            <a:pathLst>
              <a:path w="39" h="25">
                <a:moveTo>
                  <a:pt x="13" y="0"/>
                </a:moveTo>
                <a:cubicBezTo>
                  <a:pt x="1" y="21"/>
                  <a:pt x="1" y="21"/>
                  <a:pt x="1" y="21"/>
                </a:cubicBezTo>
                <a:cubicBezTo>
                  <a:pt x="0" y="23"/>
                  <a:pt x="1" y="25"/>
                  <a:pt x="3" y="25"/>
                </a:cubicBezTo>
                <a:cubicBezTo>
                  <a:pt x="36" y="25"/>
                  <a:pt x="36" y="25"/>
                  <a:pt x="36" y="25"/>
                </a:cubicBezTo>
                <a:cubicBezTo>
                  <a:pt x="38" y="25"/>
                  <a:pt x="39" y="23"/>
                  <a:pt x="38" y="21"/>
                </a:cubicBezTo>
                <a:cubicBezTo>
                  <a:pt x="26" y="0"/>
                  <a:pt x="26" y="0"/>
                  <a:pt x="26" y="0"/>
                </a:cubicBezTo>
                <a:cubicBezTo>
                  <a:pt x="24" y="1"/>
                  <a:pt x="22" y="2"/>
                  <a:pt x="20" y="2"/>
                </a:cubicBezTo>
                <a:cubicBezTo>
                  <a:pt x="17" y="2"/>
                  <a:pt x="15" y="1"/>
                  <a:pt x="13" y="0"/>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11"/>
          <p:cNvSpPr/>
          <p:nvPr/>
        </p:nvSpPr>
        <p:spPr>
          <a:xfrm>
            <a:off x="5427720" y="3562200"/>
            <a:ext cx="360" cy="65160"/>
          </a:xfrm>
          <a:custGeom>
            <a:avLst/>
            <a:gdLst/>
            <a:ahLst/>
            <a:rect l="l" t="t" r="r" b="b"/>
            <a:pathLst>
              <a:path w="635" h="17">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5" name="Freeform 12"/>
          <p:cNvSpPr/>
          <p:nvPr/>
        </p:nvSpPr>
        <p:spPr>
          <a:xfrm>
            <a:off x="5427720" y="356220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6" name="Freeform 13"/>
          <p:cNvSpPr/>
          <p:nvPr/>
        </p:nvSpPr>
        <p:spPr>
          <a:xfrm>
            <a:off x="5492880" y="356220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0"/>
                </a:moveTo>
                <a:lnTo>
                  <a:pt x="0" y="0"/>
                </a:lnTo>
                <a:close/>
                <a:moveTo>
                  <a:pt x="0" y="0"/>
                </a:moveTo>
                <a:lnTo>
                  <a:pt x="0" y="17"/>
                </a:lnTo>
                <a:lnTo>
                  <a:pt x="0" y="0"/>
                </a:lnTo>
                <a:close/>
                <a:moveTo>
                  <a:pt x="0" y="0"/>
                </a:moveTo>
                <a:lnTo>
                  <a:pt x="0" y="0"/>
                </a:lnTo>
                <a:close/>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7" name="Freeform 14"/>
          <p:cNvSpPr/>
          <p:nvPr/>
        </p:nvSpPr>
        <p:spPr>
          <a:xfrm>
            <a:off x="5427720" y="342756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8" name="Freeform 15"/>
          <p:cNvSpPr/>
          <p:nvPr/>
        </p:nvSpPr>
        <p:spPr>
          <a:xfrm>
            <a:off x="5427720" y="342756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9" name="Freeform 16"/>
          <p:cNvSpPr/>
          <p:nvPr/>
        </p:nvSpPr>
        <p:spPr>
          <a:xfrm>
            <a:off x="5492880" y="342756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0" name="Freeform 17"/>
          <p:cNvSpPr/>
          <p:nvPr/>
        </p:nvSpPr>
        <p:spPr>
          <a:xfrm>
            <a:off x="5427720" y="3225960"/>
            <a:ext cx="360" cy="69840"/>
          </a:xfrm>
          <a:custGeom>
            <a:avLst/>
            <a:gdLst/>
            <a:ahLst/>
            <a:rect l="l" t="t" r="r" b="b"/>
            <a:pathLst>
              <a:path w="635" h="18">
                <a:moveTo>
                  <a:pt x="0" y="18"/>
                </a:moveTo>
                <a:lnTo>
                  <a:pt x="0" y="0"/>
                </a:lnTo>
                <a:lnTo>
                  <a:pt x="0" y="18"/>
                </a:lnTo>
                <a:lnTo>
                  <a:pt x="0" y="0"/>
                </a:ln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1" name="Freeform 18"/>
          <p:cNvSpPr/>
          <p:nvPr/>
        </p:nvSpPr>
        <p:spPr>
          <a:xfrm>
            <a:off x="5427720" y="3225960"/>
            <a:ext cx="65160" cy="69840"/>
          </a:xfrm>
          <a:custGeom>
            <a:avLst/>
            <a:gdLst>
              <a:gd name="textAreaLeft" fmla="*/ 0 w 65160"/>
              <a:gd name="textAreaRight" fmla="*/ 65520 w 65160"/>
              <a:gd name="textAreaTop" fmla="*/ 0 h 69840"/>
              <a:gd name="textAreaBottom" fmla="*/ 70200 h 69840"/>
            </a:gdLst>
            <a:ahLst/>
            <a:rect l="textAreaLeft" t="textAreaTop" r="textAreaRight" b="textAreaBottom"/>
            <a:pathLst>
              <a:path w="17" h="18">
                <a:moveTo>
                  <a:pt x="17" y="18"/>
                </a:moveTo>
                <a:lnTo>
                  <a:pt x="17" y="18"/>
                </a:lnTo>
                <a:lnTo>
                  <a:pt x="0" y="18"/>
                </a:lnTo>
                <a:lnTo>
                  <a:pt x="0" y="0"/>
                </a:lnTo>
                <a:lnTo>
                  <a:pt x="17" y="0"/>
                </a:lnTo>
                <a:lnTo>
                  <a:pt x="17" y="18"/>
                </a:lnTo>
                <a:close/>
                <a:moveTo>
                  <a:pt x="17" y="0"/>
                </a:moveTo>
                <a:lnTo>
                  <a:pt x="17" y="0"/>
                </a:lnTo>
                <a:lnTo>
                  <a:pt x="0" y="0"/>
                </a:lnTo>
                <a:lnTo>
                  <a:pt x="0" y="18"/>
                </a:lnTo>
                <a:lnTo>
                  <a:pt x="17" y="18"/>
                </a:lnTo>
                <a:lnTo>
                  <a:pt x="17"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2" name="Freeform 19"/>
          <p:cNvSpPr/>
          <p:nvPr/>
        </p:nvSpPr>
        <p:spPr>
          <a:xfrm>
            <a:off x="5492880" y="3225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18"/>
                </a:lnTo>
                <a:lnTo>
                  <a:pt x="0" y="0"/>
                </a:lnTo>
                <a:close/>
                <a:moveTo>
                  <a:pt x="0" y="0"/>
                </a:moveTo>
                <a:lnTo>
                  <a:pt x="0" y="0"/>
                </a:lnTo>
                <a:close/>
                <a:moveTo>
                  <a:pt x="0" y="18"/>
                </a:move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3" name="Freeform 20"/>
          <p:cNvSpPr/>
          <p:nvPr/>
        </p:nvSpPr>
        <p:spPr>
          <a:xfrm>
            <a:off x="5427720" y="309564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84" name="Freeform 21"/>
          <p:cNvSpPr/>
          <p:nvPr/>
        </p:nvSpPr>
        <p:spPr>
          <a:xfrm>
            <a:off x="5427720" y="309564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5" name="Freeform 22"/>
          <p:cNvSpPr/>
          <p:nvPr/>
        </p:nvSpPr>
        <p:spPr>
          <a:xfrm>
            <a:off x="5492880" y="309564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6" name="Freeform 23"/>
          <p:cNvSpPr/>
          <p:nvPr/>
        </p:nvSpPr>
        <p:spPr>
          <a:xfrm>
            <a:off x="536256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0"/>
                </a:moveTo>
                <a:lnTo>
                  <a:pt x="17" y="0"/>
                </a:lnTo>
                <a:lnTo>
                  <a:pt x="17" y="17"/>
                </a:ln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7" name="Freeform 24"/>
          <p:cNvSpPr/>
          <p:nvPr/>
        </p:nvSpPr>
        <p:spPr>
          <a:xfrm>
            <a:off x="5427720" y="2894040"/>
            <a:ext cx="360" cy="65160"/>
          </a:xfrm>
          <a:custGeom>
            <a:avLst/>
            <a:gdLst/>
            <a:ahLst/>
            <a:rect l="l" t="t" r="r" b="b"/>
            <a:pathLst>
              <a:path w="635" h="17">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8" name="Freeform 25"/>
          <p:cNvSpPr/>
          <p:nvPr/>
        </p:nvSpPr>
        <p:spPr>
          <a:xfrm>
            <a:off x="542772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9" name="Freeform 26"/>
          <p:cNvSpPr/>
          <p:nvPr/>
        </p:nvSpPr>
        <p:spPr>
          <a:xfrm>
            <a:off x="5492880" y="289404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17"/>
                </a:moveTo>
                <a:lnTo>
                  <a:pt x="0" y="17"/>
                </a:lnTo>
                <a:lnTo>
                  <a:pt x="0" y="0"/>
                </a:lnTo>
                <a:lnTo>
                  <a:pt x="0" y="17"/>
                </a:lnTo>
                <a:close/>
                <a:moveTo>
                  <a:pt x="0" y="0"/>
                </a:moveTo>
                <a:lnTo>
                  <a:pt x="0" y="17"/>
                </a:lnTo>
                <a:lnTo>
                  <a:pt x="0" y="0"/>
                </a:lnTo>
                <a:close/>
                <a:moveTo>
                  <a:pt x="0" y="0"/>
                </a:moveTo>
                <a:lnTo>
                  <a:pt x="0" y="0"/>
                </a:lnTo>
                <a:lnTo>
                  <a:pt x="0" y="17"/>
                </a:lnTo>
                <a:lnTo>
                  <a:pt x="0" y="0"/>
                </a:lnTo>
                <a:close/>
                <a:moveTo>
                  <a:pt x="0" y="17"/>
                </a:moveTo>
                <a:lnTo>
                  <a:pt x="0" y="17"/>
                </a:lnTo>
                <a:close/>
                <a:moveTo>
                  <a:pt x="0" y="17"/>
                </a:moveTo>
                <a:lnTo>
                  <a:pt x="0" y="17"/>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0" name="Freeform 41"/>
          <p:cNvSpPr/>
          <p:nvPr/>
        </p:nvSpPr>
        <p:spPr>
          <a:xfrm>
            <a:off x="54277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1" name="Freeform 44"/>
          <p:cNvSpPr/>
          <p:nvPr/>
        </p:nvSpPr>
        <p:spPr>
          <a:xfrm>
            <a:off x="6562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2" name="Freeform 46"/>
          <p:cNvSpPr/>
          <p:nvPr/>
        </p:nvSpPr>
        <p:spPr>
          <a:xfrm>
            <a:off x="662940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3" name="Freeform 47"/>
          <p:cNvSpPr/>
          <p:nvPr/>
        </p:nvSpPr>
        <p:spPr>
          <a:xfrm>
            <a:off x="636264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4" name="Freeform 49"/>
          <p:cNvSpPr/>
          <p:nvPr/>
        </p:nvSpPr>
        <p:spPr>
          <a:xfrm>
            <a:off x="6427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5" name="Freeform 52"/>
          <p:cNvSpPr/>
          <p:nvPr/>
        </p:nvSpPr>
        <p:spPr>
          <a:xfrm>
            <a:off x="6230880" y="3828960"/>
            <a:ext cx="1800" cy="69840"/>
          </a:xfrm>
          <a:custGeom>
            <a:avLst/>
            <a:gdLst>
              <a:gd name="textAreaLeft" fmla="*/ 0 w 1800"/>
              <a:gd name="textAreaRight" fmla="*/ 2160 w 180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6" name="Freeform 54"/>
          <p:cNvSpPr/>
          <p:nvPr/>
        </p:nvSpPr>
        <p:spPr>
          <a:xfrm>
            <a:off x="629604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7" name="Freeform 55"/>
          <p:cNvSpPr/>
          <p:nvPr/>
        </p:nvSpPr>
        <p:spPr>
          <a:xfrm>
            <a:off x="60310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8" name="Freeform 57"/>
          <p:cNvSpPr/>
          <p:nvPr/>
        </p:nvSpPr>
        <p:spPr>
          <a:xfrm>
            <a:off x="60958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9" name="Freeform 60"/>
          <p:cNvSpPr/>
          <p:nvPr/>
        </p:nvSpPr>
        <p:spPr>
          <a:xfrm>
            <a:off x="589608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0" name="Freeform 62"/>
          <p:cNvSpPr/>
          <p:nvPr/>
        </p:nvSpPr>
        <p:spPr>
          <a:xfrm>
            <a:off x="5961240" y="3828960"/>
            <a:ext cx="360" cy="69840"/>
          </a:xfrm>
          <a:custGeom>
            <a:avLst/>
            <a:gdLst/>
            <a:ahLst/>
            <a:rect l="l" t="t" r="r" b="b"/>
            <a:pathLst>
              <a:path w="635" h="18">
                <a:moveTo>
                  <a:pt x="0" y="0"/>
                </a:moveTo>
                <a:lnTo>
                  <a:pt x="0" y="0"/>
                </a:ln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1" name="Freeform 63"/>
          <p:cNvSpPr/>
          <p:nvPr/>
        </p:nvSpPr>
        <p:spPr>
          <a:xfrm>
            <a:off x="56944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2" name="Freeform 65"/>
          <p:cNvSpPr/>
          <p:nvPr/>
        </p:nvSpPr>
        <p:spPr>
          <a:xfrm>
            <a:off x="57643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3" name="流程图: 联系 39"/>
          <p:cNvSpPr/>
          <p:nvPr/>
        </p:nvSpPr>
        <p:spPr>
          <a:xfrm>
            <a:off x="5222880" y="2556000"/>
            <a:ext cx="1746360" cy="1746000"/>
          </a:xfrm>
          <a:prstGeom prst="flowChartConnector">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文本框 40"/>
          <p:cNvSpPr/>
          <p:nvPr/>
        </p:nvSpPr>
        <p:spPr>
          <a:xfrm>
            <a:off x="5737320" y="1044720"/>
            <a:ext cx="68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605" name="文本框 41"/>
          <p:cNvSpPr/>
          <p:nvPr/>
        </p:nvSpPr>
        <p:spPr>
          <a:xfrm>
            <a:off x="5727600" y="4613400"/>
            <a:ext cx="7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9ecdc"/>
                </a:solidFill>
                <a:latin typeface="微软雅黑"/>
                <a:ea typeface="微软雅黑"/>
              </a:rPr>
              <a:t>标题</a:t>
            </a:r>
            <a:endParaRPr b="0" lang="en-US" sz="3200" spc="-1" strike="noStrike">
              <a:solidFill>
                <a:srgbClr val="000000"/>
              </a:solidFill>
              <a:latin typeface="Arial"/>
            </a:endParaRPr>
          </a:p>
        </p:txBody>
      </p:sp>
      <p:sp>
        <p:nvSpPr>
          <p:cNvPr id="606" name="文本框 49"/>
          <p:cNvSpPr/>
          <p:nvPr/>
        </p:nvSpPr>
        <p:spPr>
          <a:xfrm>
            <a:off x="7135920" y="212256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607" name="文本框 50"/>
          <p:cNvSpPr/>
          <p:nvPr/>
        </p:nvSpPr>
        <p:spPr>
          <a:xfrm>
            <a:off x="7143840" y="376560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608" name="文本框 51"/>
          <p:cNvSpPr/>
          <p:nvPr/>
        </p:nvSpPr>
        <p:spPr>
          <a:xfrm>
            <a:off x="4067280" y="376884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609" name="文本框 52"/>
          <p:cNvSpPr/>
          <p:nvPr/>
        </p:nvSpPr>
        <p:spPr>
          <a:xfrm>
            <a:off x="3962520" y="212256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610" name="文本框 53"/>
          <p:cNvSpPr/>
          <p:nvPr/>
        </p:nvSpPr>
        <p:spPr>
          <a:xfrm>
            <a:off x="5742000" y="2828880"/>
            <a:ext cx="64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KSO_Shape"/>
          <p:cNvGrpSpPr/>
          <p:nvPr/>
        </p:nvGrpSpPr>
        <p:grpSpPr>
          <a:xfrm>
            <a:off x="627120" y="642960"/>
            <a:ext cx="6789600" cy="5602320"/>
            <a:chOff x="627120" y="642960"/>
            <a:chExt cx="6789600" cy="5602320"/>
          </a:xfrm>
        </p:grpSpPr>
        <p:sp>
          <p:nvSpPr>
            <p:cNvPr id="613"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db6344"/>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54823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e1806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96a787"/>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5" name="矩形 1"/>
          <p:cNvSpPr/>
          <p:nvPr/>
        </p:nvSpPr>
        <p:spPr>
          <a:xfrm>
            <a:off x="7715160" y="26082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46" name="矩形 35"/>
          <p:cNvSpPr/>
          <p:nvPr/>
        </p:nvSpPr>
        <p:spPr>
          <a:xfrm>
            <a:off x="8133480" y="210816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47" name="矩形 1"/>
          <p:cNvSpPr/>
          <p:nvPr/>
        </p:nvSpPr>
        <p:spPr>
          <a:xfrm>
            <a:off x="7724880" y="3902040"/>
            <a:ext cx="183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48" name="矩形 37"/>
          <p:cNvSpPr/>
          <p:nvPr/>
        </p:nvSpPr>
        <p:spPr>
          <a:xfrm>
            <a:off x="8143200" y="3403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49" name="矩形 1"/>
          <p:cNvSpPr/>
          <p:nvPr/>
        </p:nvSpPr>
        <p:spPr>
          <a:xfrm>
            <a:off x="7715160" y="526248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50" name="矩形 39"/>
          <p:cNvSpPr/>
          <p:nvPr/>
        </p:nvSpPr>
        <p:spPr>
          <a:xfrm>
            <a:off x="8133480" y="4762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2" descr=""/>
          <p:cNvPicPr/>
          <p:nvPr/>
        </p:nvPicPr>
        <p:blipFill>
          <a:blip r:embed="rId1"/>
          <a:stretch/>
        </p:blipFill>
        <p:spPr>
          <a:xfrm>
            <a:off x="0" y="0"/>
            <a:ext cx="12192120" cy="6858000"/>
          </a:xfrm>
          <a:prstGeom prst="rect">
            <a:avLst/>
          </a:prstGeom>
          <a:ln w="0">
            <a:noFill/>
          </a:ln>
        </p:spPr>
      </p:pic>
      <p:sp>
        <p:nvSpPr>
          <p:cNvPr id="652" name="矩形 10"/>
          <p:cNvSpPr/>
          <p:nvPr/>
        </p:nvSpPr>
        <p:spPr>
          <a:xfrm>
            <a:off x="3703680" y="416556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8235"/>
                </a:solidFill>
                <a:latin typeface="微软雅黑"/>
                <a:ea typeface="微软雅黑"/>
              </a:rPr>
              <a:t>汇报人： 美乐辰</a:t>
            </a:r>
            <a:r>
              <a:rPr b="0" lang="en-US" sz="1800" spc="-1" strike="noStrike">
                <a:solidFill>
                  <a:srgbClr val="548235"/>
                </a:solidFill>
                <a:latin typeface="微软雅黑"/>
                <a:ea typeface="微软雅黑"/>
              </a:rPr>
              <a:t>    </a:t>
            </a:r>
            <a:r>
              <a:rPr b="0" lang="zh-CN" sz="1800" spc="-1" strike="noStrike">
                <a:solidFill>
                  <a:srgbClr val="548235"/>
                </a:solidFill>
                <a:latin typeface="微软雅黑"/>
                <a:ea typeface="微软雅黑"/>
              </a:rPr>
              <a:t>汇报时间：</a:t>
            </a:r>
            <a:r>
              <a:rPr b="0" lang="en-US" sz="1800" spc="-1" strike="noStrike">
                <a:solidFill>
                  <a:srgbClr val="548235"/>
                </a:solidFill>
                <a:latin typeface="微软雅黑"/>
                <a:ea typeface="微软雅黑"/>
              </a:rPr>
              <a:t>2016.3.26</a:t>
            </a:r>
            <a:endParaRPr b="0" lang="en-US" sz="1800" spc="-1" strike="noStrike">
              <a:solidFill>
                <a:srgbClr val="000000"/>
              </a:solidFill>
              <a:latin typeface="Arial"/>
            </a:endParaRPr>
          </a:p>
        </p:txBody>
      </p:sp>
      <p:sp>
        <p:nvSpPr>
          <p:cNvPr id="653" name="矩形 5"/>
          <p:cNvSpPr/>
          <p:nvPr/>
        </p:nvSpPr>
        <p:spPr>
          <a:xfrm>
            <a:off x="2489040" y="2082960"/>
            <a:ext cx="7378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6344"/>
                </a:solidFill>
                <a:latin typeface="Calibri"/>
              </a:rPr>
              <a:t>Thanks You </a:t>
            </a:r>
            <a:endParaRPr b="0" lang="en-US" sz="2800" spc="-1" strike="noStrike">
              <a:solidFill>
                <a:srgbClr val="000000"/>
              </a:solidFill>
              <a:latin typeface="Arial"/>
            </a:endParaRPr>
          </a:p>
        </p:txBody>
      </p:sp>
      <p:sp>
        <p:nvSpPr>
          <p:cNvPr id="654" name="矩形 14"/>
          <p:cNvSpPr/>
          <p:nvPr/>
        </p:nvSpPr>
        <p:spPr>
          <a:xfrm>
            <a:off x="2489040" y="361620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
        <p:nvSpPr>
          <p:cNvPr id="655" name="矩形 6"/>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8235"/>
                </a:solidFill>
                <a:latin typeface="微软雅黑"/>
                <a:ea typeface="微软雅黑"/>
              </a:rPr>
              <a:t>水墨中国风商务演示模版</a:t>
            </a:r>
            <a:endParaRPr b="0" lang="en-US" sz="5400" spc="-1" strike="noStrike">
              <a:solidFill>
                <a:srgbClr val="000000"/>
              </a:solidFill>
              <a:latin typeface="Arial"/>
            </a:endParaRPr>
          </a:p>
        </p:txBody>
      </p:sp>
    </p:spTree>
  </p:cSld>
  <p:transition spd="med">
    <p:fade/>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0">
                                  <p:stCondLst>
                                    <p:cond delay="0"/>
                                  </p:stCondLst>
                                  <p:childTnLst>
                                    <p:set>
                                      <p:cBhvr>
                                        <p:cTn id="23" dur="1" fill="hold">
                                          <p:stCondLst>
                                            <p:cond delay="0"/>
                                          </p:stCondLst>
                                        </p:cTn>
                                        <p:tgtEl>
                                          <p:spTgt spid="655"/>
                                        </p:tgtEl>
                                        <p:attrNameLst>
                                          <p:attrName>style.visibility</p:attrName>
                                        </p:attrNameLst>
                                      </p:cBhvr>
                                      <p:to>
                                        <p:strVal val="visible"/>
                                      </p:to>
                                    </p:set>
                                    <p:anim calcmode="lin" valueType="num">
                                      <p:cBhvr additive="repl">
                                        <p:cTn id="24" dur="500" fill="hold"/>
                                        <p:tgtEl>
                                          <p:spTgt spid="655"/>
                                        </p:tgtEl>
                                        <p:attrNameLst>
                                          <p:attrName>ppt_w</p:attrName>
                                        </p:attrNameLst>
                                      </p:cBhvr>
                                      <p:tavLst>
                                        <p:tav tm="0">
                                          <p:val>
                                            <p:fltVal val="0"/>
                                          </p:val>
                                        </p:tav>
                                        <p:tav tm="100000">
                                          <p:val>
                                            <p:strVal val="#ppt_w"/>
                                          </p:val>
                                        </p:tav>
                                      </p:tavLst>
                                    </p:anim>
                                    <p:anim calcmode="lin" valueType="num">
                                      <p:cBhvr additive="repl">
                                        <p:cTn id="25" dur="500" fill="hold"/>
                                        <p:tgtEl>
                                          <p:spTgt spid="655"/>
                                        </p:tgtEl>
                                        <p:attrNameLst>
                                          <p:attrName>ppt_h</p:attrName>
                                        </p:attrNameLst>
                                      </p:cBhvr>
                                      <p:tavLst>
                                        <p:tav tm="0">
                                          <p:val>
                                            <p:fltVal val="0"/>
                                          </p:val>
                                        </p:tav>
                                        <p:tav tm="100000">
                                          <p:val>
                                            <p:strVal val="#ppt_h"/>
                                          </p:val>
                                        </p:tav>
                                      </p:tavLst>
                                    </p:anim>
                                    <p:animEffect filter="wipe(up)" transition="in">
                                      <p:cBhvr additive="repl">
                                        <p:cTn id="26"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2" descr=""/>
          <p:cNvPicPr/>
          <p:nvPr/>
        </p:nvPicPr>
        <p:blipFill>
          <a:blip r:embed="rId1"/>
          <a:stretch/>
        </p:blipFill>
        <p:spPr>
          <a:xfrm>
            <a:off x="0" y="0"/>
            <a:ext cx="12192120" cy="6858000"/>
          </a:xfrm>
          <a:prstGeom prst="rect">
            <a:avLst/>
          </a:prstGeom>
          <a:ln w="0">
            <a:noFill/>
          </a:ln>
        </p:spPr>
      </p:pic>
      <p:sp>
        <p:nvSpPr>
          <p:cNvPr id="49" name="Text Box 3"/>
          <p:cNvSpPr/>
          <p:nvPr/>
        </p:nvSpPr>
        <p:spPr>
          <a:xfrm>
            <a:off x="4869720" y="17708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1</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0" name="Text Box 3"/>
          <p:cNvSpPr/>
          <p:nvPr/>
        </p:nvSpPr>
        <p:spPr>
          <a:xfrm>
            <a:off x="4869720" y="271368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2</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1" name="Text Box 3"/>
          <p:cNvSpPr/>
          <p:nvPr/>
        </p:nvSpPr>
        <p:spPr>
          <a:xfrm>
            <a:off x="4869720" y="362340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3</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2" name="Text Box 3"/>
          <p:cNvSpPr/>
          <p:nvPr/>
        </p:nvSpPr>
        <p:spPr>
          <a:xfrm>
            <a:off x="4869720" y="45662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4</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55" name="矩形 10"/>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56" name="直接连接符 11"/>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组合 14"/>
          <p:cNvGrpSpPr/>
          <p:nvPr/>
        </p:nvGrpSpPr>
        <p:grpSpPr>
          <a:xfrm>
            <a:off x="5472000" y="0"/>
            <a:ext cx="1247760" cy="1106640"/>
            <a:chOff x="5472000" y="0"/>
            <a:chExt cx="1247760" cy="1106640"/>
          </a:xfrm>
        </p:grpSpPr>
        <p:sp>
          <p:nvSpPr>
            <p:cNvPr id="58" name="任意多边形 15"/>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矩形 18"/>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LOGO</a:t>
              </a:r>
              <a:endParaRPr b="0" lang="en-US" sz="1800" spc="-1" strike="noStrike">
                <a:solidFill>
                  <a:srgbClr val="000000"/>
                </a:solidFill>
                <a:latin typeface="Arial"/>
              </a:endParaRPr>
            </a:p>
          </p:txBody>
        </p:sp>
      </p:grpSp>
      <p:sp>
        <p:nvSpPr>
          <p:cNvPr id="60" name="矩形 1"/>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63" name="组合 28"/>
          <p:cNvGrpSpPr/>
          <p:nvPr/>
        </p:nvGrpSpPr>
        <p:grpSpPr>
          <a:xfrm>
            <a:off x="3165480" y="829440"/>
            <a:ext cx="5872320" cy="5820840"/>
            <a:chOff x="3165480" y="829440"/>
            <a:chExt cx="5872320" cy="5820840"/>
          </a:xfrm>
        </p:grpSpPr>
        <p:sp>
          <p:nvSpPr>
            <p:cNvPr id="64"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48235"/>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65" name="WordArt 7" descr=""/>
            <p:cNvPicPr/>
            <p:nvPr/>
          </p:nvPicPr>
          <p:blipFill>
            <a:blip r:embed="rId1"/>
            <a:stretch/>
          </p:blipFill>
          <p:spPr>
            <a:xfrm>
              <a:off x="5199840" y="1724760"/>
              <a:ext cx="3048120" cy="3163680"/>
            </a:xfrm>
            <a:prstGeom prst="rect">
              <a:avLst/>
            </a:prstGeom>
            <a:ln w="0">
              <a:noFill/>
            </a:ln>
          </p:spPr>
        </p:pic>
      </p:grpSp>
      <p:grpSp>
        <p:nvGrpSpPr>
          <p:cNvPr id="66" name="组合 31"/>
          <p:cNvGrpSpPr/>
          <p:nvPr/>
        </p:nvGrpSpPr>
        <p:grpSpPr>
          <a:xfrm>
            <a:off x="7765920" y="1903320"/>
            <a:ext cx="2749680" cy="1005840"/>
            <a:chOff x="7765920" y="1903320"/>
            <a:chExt cx="2749680" cy="1005840"/>
          </a:xfrm>
        </p:grpSpPr>
        <p:sp>
          <p:nvSpPr>
            <p:cNvPr id="67" name="Line 19"/>
            <p:cNvSpPr/>
            <p:nvPr/>
          </p:nvSpPr>
          <p:spPr>
            <a:xfrm flipH="1">
              <a:off x="7765920" y="2331720"/>
              <a:ext cx="2749680" cy="0"/>
            </a:xfrm>
            <a:prstGeom prst="line">
              <a:avLst/>
            </a:prstGeom>
            <a:ln w="19080">
              <a:solidFill>
                <a:srgbClr val="5482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8235"/>
                  </a:solidFill>
                  <a:latin typeface="微软雅黑"/>
                  <a:ea typeface="微软雅黑"/>
                </a:rPr>
                <a:t>点击添加文本</a:t>
              </a:r>
              <a:endParaRPr b="0" lang="en-US" sz="1800" spc="-1" strike="noStrike">
                <a:solidFill>
                  <a:srgbClr val="000000"/>
                </a:solidFill>
                <a:latin typeface="Arial"/>
              </a:endParaRPr>
            </a:p>
          </p:txBody>
        </p:sp>
        <p:sp>
          <p:nvSpPr>
            <p:cNvPr id="69"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70" name="组合 1"/>
          <p:cNvGrpSpPr/>
          <p:nvPr/>
        </p:nvGrpSpPr>
        <p:grpSpPr>
          <a:xfrm>
            <a:off x="3678480" y="1017000"/>
            <a:ext cx="5490000" cy="5362200"/>
            <a:chOff x="3678480" y="1017000"/>
            <a:chExt cx="5490000" cy="5362200"/>
          </a:xfrm>
        </p:grpSpPr>
        <p:sp>
          <p:nvSpPr>
            <p:cNvPr id="71"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db6344"/>
            </a:solidFill>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2" name="WordArt 9" descr=""/>
            <p:cNvPicPr/>
            <p:nvPr/>
          </p:nvPicPr>
          <p:blipFill>
            <a:blip r:embed="rId2"/>
            <a:stretch/>
          </p:blipFill>
          <p:spPr>
            <a:xfrm>
              <a:off x="4253040" y="1810080"/>
              <a:ext cx="2957040" cy="3133440"/>
            </a:xfrm>
            <a:prstGeom prst="rect">
              <a:avLst/>
            </a:prstGeom>
            <a:ln w="0">
              <a:noFill/>
            </a:ln>
          </p:spPr>
        </p:pic>
      </p:grpSp>
      <p:grpSp>
        <p:nvGrpSpPr>
          <p:cNvPr id="73" name="组合 38"/>
          <p:cNvGrpSpPr/>
          <p:nvPr/>
        </p:nvGrpSpPr>
        <p:grpSpPr>
          <a:xfrm>
            <a:off x="2019240" y="1909800"/>
            <a:ext cx="2770200" cy="1024920"/>
            <a:chOff x="2019240" y="1909800"/>
            <a:chExt cx="2770200" cy="1024920"/>
          </a:xfrm>
        </p:grpSpPr>
        <p:sp>
          <p:nvSpPr>
            <p:cNvPr id="74" name="Line 17"/>
            <p:cNvSpPr/>
            <p:nvPr/>
          </p:nvSpPr>
          <p:spPr>
            <a:xfrm>
              <a:off x="2036880" y="2332080"/>
              <a:ext cx="2752560" cy="0"/>
            </a:xfrm>
            <a:prstGeom prst="line">
              <a:avLst/>
            </a:prstGeom>
            <a:ln w="19080">
              <a:solidFill>
                <a:srgbClr val="db63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b6344"/>
                  </a:solidFill>
                  <a:latin typeface="微软雅黑"/>
                  <a:ea typeface="微软雅黑"/>
                </a:rPr>
                <a:t>点击添加文本</a:t>
              </a:r>
              <a:endParaRPr b="0" lang="en-US" sz="1800" spc="-1" strike="noStrike">
                <a:solidFill>
                  <a:srgbClr val="000000"/>
                </a:solidFill>
                <a:latin typeface="Arial"/>
              </a:endParaRPr>
            </a:p>
          </p:txBody>
        </p:sp>
        <p:sp>
          <p:nvSpPr>
            <p:cNvPr id="76"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77" name="组合 3"/>
          <p:cNvGrpSpPr/>
          <p:nvPr/>
        </p:nvGrpSpPr>
        <p:grpSpPr>
          <a:xfrm>
            <a:off x="4036320" y="1098360"/>
            <a:ext cx="4369680" cy="4723560"/>
            <a:chOff x="4036320" y="1098360"/>
            <a:chExt cx="4369680" cy="4723560"/>
          </a:xfrm>
        </p:grpSpPr>
        <p:sp>
          <p:nvSpPr>
            <p:cNvPr id="78"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95959"/>
            </a:solidFill>
            <a:ln w="3240">
              <a:solidFill>
                <a:srgbClr val="d3e2ff"/>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79" name="WordArt 8" descr=""/>
            <p:cNvPicPr/>
            <p:nvPr/>
          </p:nvPicPr>
          <p:blipFill>
            <a:blip r:embed="rId3"/>
            <a:stretch/>
          </p:blipFill>
          <p:spPr>
            <a:xfrm>
              <a:off x="4779000" y="3139560"/>
              <a:ext cx="2883600" cy="2206800"/>
            </a:xfrm>
            <a:prstGeom prst="rect">
              <a:avLst/>
            </a:prstGeom>
            <a:ln w="0">
              <a:noFill/>
            </a:ln>
          </p:spPr>
        </p:pic>
      </p:grpSp>
      <p:grpSp>
        <p:nvGrpSpPr>
          <p:cNvPr id="80" name="组合 45"/>
          <p:cNvGrpSpPr/>
          <p:nvPr/>
        </p:nvGrpSpPr>
        <p:grpSpPr>
          <a:xfrm>
            <a:off x="7635600" y="4665600"/>
            <a:ext cx="2832480" cy="855000"/>
            <a:chOff x="7635600" y="4665600"/>
            <a:chExt cx="2832480" cy="855000"/>
          </a:xfrm>
        </p:grpSpPr>
        <p:sp>
          <p:nvSpPr>
            <p:cNvPr id="81" name="Line 18"/>
            <p:cNvSpPr/>
            <p:nvPr/>
          </p:nvSpPr>
          <p:spPr>
            <a:xfrm flipH="1">
              <a:off x="7635600" y="5082480"/>
              <a:ext cx="2752920" cy="0"/>
            </a:xfrm>
            <a:prstGeom prst="line">
              <a:avLst/>
            </a:prstGeom>
            <a:ln w="19080">
              <a:solidFill>
                <a:srgbClr val="5959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点击添加文本</a:t>
              </a:r>
              <a:endParaRPr b="0" lang="en-US" sz="1800" spc="-1" strike="noStrike">
                <a:solidFill>
                  <a:srgbClr val="000000"/>
                </a:solidFill>
                <a:latin typeface="Arial"/>
              </a:endParaRPr>
            </a:p>
          </p:txBody>
        </p:sp>
        <p:sp>
          <p:nvSpPr>
            <p:cNvPr id="83"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
          <p:cNvSpPr/>
          <p:nvPr/>
        </p:nvSpPr>
        <p:spPr>
          <a:xfrm>
            <a:off x="6095880" y="1449360"/>
            <a:ext cx="5616720" cy="4532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87"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5</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88"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6</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89"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90" name="矩形 6"/>
          <p:cNvSpPr/>
          <p:nvPr/>
        </p:nvSpPr>
        <p:spPr>
          <a:xfrm>
            <a:off x="309564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7"/>
          <p:cNvSpPr/>
          <p:nvPr/>
        </p:nvSpPr>
        <p:spPr>
          <a:xfrm>
            <a:off x="201600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8"/>
          <p:cNvSpPr/>
          <p:nvPr/>
        </p:nvSpPr>
        <p:spPr>
          <a:xfrm>
            <a:off x="257652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94"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95"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96" name="矩形 12"/>
          <p:cNvSpPr/>
          <p:nvPr/>
        </p:nvSpPr>
        <p:spPr>
          <a:xfrm>
            <a:off x="705636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3"/>
          <p:cNvSpPr/>
          <p:nvPr/>
        </p:nvSpPr>
        <p:spPr>
          <a:xfrm>
            <a:off x="706896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4"/>
          <p:cNvSpPr/>
          <p:nvPr/>
        </p:nvSpPr>
        <p:spPr>
          <a:xfrm>
            <a:off x="705636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100"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101"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102" name="椭圆 18"/>
          <p:cNvSpPr/>
          <p:nvPr/>
        </p:nvSpPr>
        <p:spPr>
          <a:xfrm>
            <a:off x="5626080" y="3006720"/>
            <a:ext cx="941400" cy="941400"/>
          </a:xfrm>
          <a:prstGeom prst="ellipse">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灯片编号占位符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6862-46C9-4BF6-906B-6377635E16F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0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
          <p:cNvSpPr/>
          <p:nvPr/>
        </p:nvSpPr>
        <p:spPr>
          <a:xfrm>
            <a:off x="3282840" y="1393920"/>
            <a:ext cx="5175360" cy="542880"/>
          </a:xfrm>
          <a:prstGeom prst="pie">
            <a:avLst/>
          </a:prstGeom>
          <a:noFill/>
          <a:ln w="0">
            <a:noFill/>
          </a:ln>
        </p:spPr>
        <p:style>
          <a:lnRef idx="0"/>
          <a:fillRef idx="0"/>
          <a:effectRef idx="0"/>
          <a:fontRef idx="minor"/>
        </p:style>
        <p:txBody>
          <a:bodyPr lIns="45720" rIns="4572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106" name="AutoShape 2"/>
          <p:cNvSpPr/>
          <p:nvPr/>
        </p:nvSpPr>
        <p:spPr>
          <a:xfrm>
            <a:off x="3282840" y="1984320"/>
            <a:ext cx="5499360" cy="285840"/>
          </a:xfrm>
          <a:prstGeom prst="pie">
            <a:avLst/>
          </a:prstGeom>
          <a:noFill/>
          <a:ln w="0">
            <a:noFill/>
          </a:ln>
        </p:spPr>
        <p:style>
          <a:lnRef idx="0"/>
          <a:fillRef idx="0"/>
          <a:effectRef idx="0"/>
          <a:fontRef idx="minor"/>
        </p:style>
        <p:txBody>
          <a:bodyPr lIns="45720" rIns="45720" anchor="t">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107"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96a78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96a78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0"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db634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59595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595959"/>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4"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115" name="Group 14"/>
          <p:cNvGrpSpPr/>
          <p:nvPr/>
        </p:nvGrpSpPr>
        <p:grpSpPr>
          <a:xfrm>
            <a:off x="5711760" y="3330720"/>
            <a:ext cx="1011240" cy="1132920"/>
            <a:chOff x="5711760" y="3330720"/>
            <a:chExt cx="1011240" cy="1132920"/>
          </a:xfrm>
        </p:grpSpPr>
        <p:sp>
          <p:nvSpPr>
            <p:cNvPr id="116"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Group 20"/>
          <p:cNvGrpSpPr/>
          <p:nvPr/>
        </p:nvGrpSpPr>
        <p:grpSpPr>
          <a:xfrm>
            <a:off x="2057400" y="3292560"/>
            <a:ext cx="1141560" cy="1141200"/>
            <a:chOff x="2057400" y="3292560"/>
            <a:chExt cx="1141560" cy="1141200"/>
          </a:xfrm>
        </p:grpSpPr>
        <p:sp>
          <p:nvSpPr>
            <p:cNvPr id="120"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4"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5"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29"/>
          <p:cNvGrpSpPr/>
          <p:nvPr/>
        </p:nvGrpSpPr>
        <p:grpSpPr>
          <a:xfrm>
            <a:off x="9512280" y="3208320"/>
            <a:ext cx="1039320" cy="1066680"/>
            <a:chOff x="9512280" y="3208320"/>
            <a:chExt cx="1039320" cy="1066680"/>
          </a:xfrm>
        </p:grpSpPr>
        <p:sp>
          <p:nvSpPr>
            <p:cNvPr id="127"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130"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3" presetSubtype="32">
                                  <p:stCondLst>
                                    <p:cond delay="600"/>
                                  </p:stCondLst>
                                  <p:childTnLst>
                                    <p:set>
                                      <p:cBhvr>
                                        <p:cTn id="15" dur="1" fill="hold">
                                          <p:stCondLst>
                                            <p:cond delay="0"/>
                                          </p:stCondLst>
                                        </p:cTn>
                                        <p:tgtEl>
                                          <p:spTgt spid="105"/>
                                        </p:tgtEl>
                                        <p:attrNameLst>
                                          <p:attrName>style.visibility</p:attrName>
                                        </p:attrNameLst>
                                      </p:cBhvr>
                                      <p:to>
                                        <p:strVal val="visible"/>
                                      </p:to>
                                    </p:set>
                                    <p:anim calcmode="lin" valueType="num">
                                      <p:cBhvr additive="repl">
                                        <p:cTn id="16" dur="500" fill="hold"/>
                                        <p:tgtEl>
                                          <p:spTgt spid="105"/>
                                        </p:tgtEl>
                                        <p:attrNameLst>
                                          <p:attrName>ppt_w</p:attrName>
                                        </p:attrNameLst>
                                      </p:cBhvr>
                                      <p:tavLst>
                                        <p:tav tm="0">
                                          <p:val>
                                            <p:strVal val="4*#ppt_w"/>
                                          </p:val>
                                        </p:tav>
                                        <p:tav tm="100000">
                                          <p:val>
                                            <p:strVal val="#ppt_w"/>
                                          </p:val>
                                        </p:tav>
                                      </p:tavLst>
                                    </p:anim>
                                    <p:anim calcmode="lin" valueType="num">
                                      <p:cBhvr additive="repl">
                                        <p:cTn id="17" dur="500" fill="hold"/>
                                        <p:tgtEl>
                                          <p:spTgt spid="10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组合 16390"/>
          <p:cNvGrpSpPr/>
          <p:nvPr/>
        </p:nvGrpSpPr>
        <p:grpSpPr>
          <a:xfrm>
            <a:off x="1098720" y="1968480"/>
            <a:ext cx="3028680" cy="1747800"/>
            <a:chOff x="1098720" y="1968480"/>
            <a:chExt cx="3028680" cy="1747800"/>
          </a:xfrm>
        </p:grpSpPr>
        <p:sp>
          <p:nvSpPr>
            <p:cNvPr id="133"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组合 16389"/>
          <p:cNvGrpSpPr/>
          <p:nvPr/>
        </p:nvGrpSpPr>
        <p:grpSpPr>
          <a:xfrm>
            <a:off x="4621320" y="1968480"/>
            <a:ext cx="3020760" cy="1747800"/>
            <a:chOff x="4621320" y="1968480"/>
            <a:chExt cx="3020760" cy="1747800"/>
          </a:xfrm>
        </p:grpSpPr>
        <p:sp>
          <p:nvSpPr>
            <p:cNvPr id="136"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组合 16391"/>
          <p:cNvGrpSpPr/>
          <p:nvPr/>
        </p:nvGrpSpPr>
        <p:grpSpPr>
          <a:xfrm>
            <a:off x="8331120" y="1968480"/>
            <a:ext cx="3019680" cy="1747800"/>
            <a:chOff x="8331120" y="1968480"/>
            <a:chExt cx="3019680" cy="1747800"/>
          </a:xfrm>
        </p:grpSpPr>
        <p:sp>
          <p:nvSpPr>
            <p:cNvPr id="139"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2"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3"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4"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3%</a:t>
            </a:r>
            <a:endParaRPr b="0" lang="en-US" sz="6000" spc="-1" strike="noStrike">
              <a:solidFill>
                <a:srgbClr val="000000"/>
              </a:solidFill>
              <a:latin typeface="Arial"/>
            </a:endParaRPr>
          </a:p>
        </p:txBody>
      </p:sp>
      <p:sp>
        <p:nvSpPr>
          <p:cNvPr id="145"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34%</a:t>
            </a:r>
            <a:endParaRPr b="0" lang="en-US" sz="6000" spc="-1" strike="noStrike">
              <a:solidFill>
                <a:srgbClr val="000000"/>
              </a:solidFill>
              <a:latin typeface="Arial"/>
            </a:endParaRPr>
          </a:p>
        </p:txBody>
      </p:sp>
      <p:sp>
        <p:nvSpPr>
          <p:cNvPr id="146"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等腰三角形 2"/>
          <p:cNvSpPr/>
          <p:nvPr/>
        </p:nvSpPr>
        <p:spPr>
          <a:xfrm rot="7485000">
            <a:off x="3023640" y="1858680"/>
            <a:ext cx="3813120" cy="504828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等腰三角形 3"/>
          <p:cNvSpPr/>
          <p:nvPr/>
        </p:nvSpPr>
        <p:spPr>
          <a:xfrm rot="10159800">
            <a:off x="5187600" y="1616040"/>
            <a:ext cx="2973240" cy="420048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等腰三角形 4"/>
          <p:cNvSpPr/>
          <p:nvPr/>
        </p:nvSpPr>
        <p:spPr>
          <a:xfrm rot="12839400">
            <a:off x="6946200" y="2580840"/>
            <a:ext cx="2289240" cy="3471840"/>
          </a:xfrm>
          <a:prstGeom prst="triangle">
            <a:avLst>
              <a:gd name="adj" fmla="val 50000"/>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等腰三角形 5"/>
          <p:cNvSpPr/>
          <p:nvPr/>
        </p:nvSpPr>
        <p:spPr>
          <a:xfrm rot="15589200">
            <a:off x="7788240" y="4233240"/>
            <a:ext cx="1284120" cy="2656080"/>
          </a:xfrm>
          <a:prstGeom prst="triangle">
            <a:avLst>
              <a:gd name="adj" fmla="val 50000"/>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3"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4"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5"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6"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50%</a:t>
            </a:r>
            <a:endParaRPr b="0" lang="en-US" sz="6000" spc="-1" strike="noStrike">
              <a:solidFill>
                <a:srgbClr val="000000"/>
              </a:solidFill>
              <a:latin typeface="Arial"/>
            </a:endParaRPr>
          </a:p>
        </p:txBody>
      </p:sp>
      <p:sp>
        <p:nvSpPr>
          <p:cNvPr id="157"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ea typeface="微软雅黑"/>
              </a:rPr>
              <a:t>30%</a:t>
            </a:r>
            <a:endParaRPr b="0" lang="en-US" sz="4400" spc="-1" strike="noStrike">
              <a:solidFill>
                <a:srgbClr val="000000"/>
              </a:solidFill>
              <a:latin typeface="Arial"/>
            </a:endParaRPr>
          </a:p>
        </p:txBody>
      </p:sp>
      <p:sp>
        <p:nvSpPr>
          <p:cNvPr id="158"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20%</a:t>
            </a:r>
            <a:endParaRPr b="0" lang="en-US" sz="3600" spc="-1" strike="noStrike">
              <a:solidFill>
                <a:srgbClr val="000000"/>
              </a:solidFill>
              <a:latin typeface="Arial"/>
            </a:endParaRPr>
          </a:p>
        </p:txBody>
      </p:sp>
      <p:sp>
        <p:nvSpPr>
          <p:cNvPr id="159"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向阳花儿PPT</dc:creator>
  <dc:description/>
  <cp:keywords/>
  <dc:language>en-US</dc:language>
  <cp:lastModifiedBy>User</cp:lastModifiedBy>
  <dcterms:modified xsi:type="dcterms:W3CDTF">2016-07-25T06:48:29Z</dcterms:modified>
  <cp:revision>27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