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67F1-DE3C-45A4-8926-EED77A54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4945A-4F83-41DF-9847-B0B10B79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86AE-80B6-4E64-AD12-7130FA01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27B59-0A1B-403A-9984-4A86AF5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EA649-591B-458E-8BC7-9F137BC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80FE6-3853-4E18-845E-7DF3ABBA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A2B10-3D38-4B29-869C-1369A5DF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F1BA6-1CE4-4D88-873F-DD2874FF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8B558-EF40-4923-B46E-41961033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3EA74-675F-44E7-A0FB-68C31EB2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FC53F-E480-44D9-9FC0-9F62B567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0FD76-DB91-4DA7-9AF8-564E7612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F7315-D63D-4C88-8460-477160C3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5B533-91A8-4DC6-B006-4AEADDF8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81CB4-4576-4E92-8853-141882C9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9939D-EC53-4B4F-A67A-C2C75126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AFFD7-DA13-4E87-987E-14898D2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0373F-C8F5-45D5-B617-E06A09BC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26CD2-93A9-45A8-AC41-F5C97172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F13D8-847D-44BA-8397-94E58940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032FC-D872-432C-9355-482B2263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7F4D2-A1AF-4EF3-95E4-34CC79D7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70DA7-135E-4F65-87BD-70D9FD8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9FE80-DF56-4FDB-B199-FEABF7D6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7DA8B-8A26-4571-8189-F889F84E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41027-2C34-40F3-9F1C-F1EB17A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116D4-9B73-45F1-9425-1B3CF67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8B65B-B818-4885-88A2-5D7A446C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D2AC7-8B5D-4465-B26E-746A351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37017-DDAD-4C0B-A06C-C4F9AD1A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974-6960-46CE-90B4-65387EA2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874C6-22A4-4B00-9FAF-61281F1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AB852-BDDA-4672-B81F-B70F4B8D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C64FB-6F5D-4C7A-BAA6-DF0DA85A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1BF0C-C933-475E-B153-E039E128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D164-7760-4EE2-9180-9321F7DB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6B6BB-B483-496C-B674-01455399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3B1C8-E393-403D-8F1C-B14C2C5D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6DEDB-3B05-4E18-AB23-712D36EE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45A9-F4D9-4E74-A7E9-CA2A275B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21E6D-983A-4D02-A4D6-8D79F025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151-3A6D-4DBD-B074-1E5E34DE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CADA5-B704-4301-8488-A74573C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1C470-C051-4346-906D-FD12EDF4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C2CBB-302D-4044-9F38-8D5C0659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FBAB0-0D09-483C-ACEC-4605F5A7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A6270-AFD3-4C53-8298-114002DB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E0F1E-B704-4CA1-B60B-CD4B83A6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F5415-FE90-4341-BFF7-A1FC089B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18BEE-405B-4F14-8FDC-6F46C56E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415F3-539A-4399-9947-CCAC205F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F452A-D1D9-4088-9300-428F0D6D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E27-1DF3-4095-BE17-FA54C28C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DD08F-2FF7-4C69-8603-8DFB420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54004-AD4C-4A41-AFA3-9E9C7DE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21402-6CCE-4BB3-B078-3381F47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45A99-25E4-4DAC-A730-0958CD53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AE4D3-C16A-40C9-8E26-DDADD3A3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F67A5-378D-4871-9955-5150A7E2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1F061-92C9-4CAA-B35F-33744361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465-7219-4D5F-B280-3C0F3084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6D0-7810-42AC-817F-9FC7347A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91B-2B5E-44CA-8ED2-39E6EA23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B7D-BA2F-4728-8C3F-9B6B136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96B-0C2D-410D-A392-DAB7E5B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292-50E4-4C25-9D94-616D779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AE5-A97C-4B6F-B834-5238CC3A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CCB-0A10-42D1-AB23-5E2C8CCF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387-C2BF-4682-9402-D5FB6152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C0B0-36E3-43CE-BD3C-5F638D99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1C1D-A528-471E-87EF-34997DA9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335-7820-4B4A-95B8-8055C48E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88ED-BE63-493A-9EA2-E0E95E51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31CD-603A-4718-969D-539FE348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18E3-227D-43F1-B38B-E0BD3A2F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025-21F2-4514-914D-EFFAB1C5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CB1A-BBBD-48A5-A049-83D1855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5EF-4D5D-479D-96D5-C595FC2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D7D6-0A33-4192-94A8-AF944708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881D-6DA8-4A31-9BB5-6D6FA2ED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8632-EA45-45F5-9746-2B5F7622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6030-9DBE-412B-9D80-B315440D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28DB-938F-484C-9406-17D9A525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2C71-71B3-4DA6-BE52-61D5B78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3FB5-A081-4DD0-B064-C525E88E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9EE9-D1D3-4E1D-A6C2-C77088F2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75EC-4FBC-4E16-B4F3-9A077589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6915-A27F-4ECD-B69C-BADBCB8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0A86-E69B-40AE-BD06-B4939E45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9B56-D454-480B-A194-5F23A97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7B2D-DEDC-497D-A952-9BF0CBD7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547F-0EF7-47CA-8662-32D7B559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1486-749B-470B-B904-9681C88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7307-4DF1-4CD4-8801-7ABEB5BA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27D6-E3D2-4BB3-B1E3-8388D5D3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C8B2-4B3E-4B07-B79F-B71CA8C2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43A1-7B3D-4046-8C4E-CD765882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ED8F-01FF-42CF-B40A-77FF4DF4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E33E-2CD2-4EC5-B79B-D83C6ACA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E0DE-C4A1-446B-A21D-7B27E92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DCAE-5B12-42E7-997A-7FDA785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E1E8-094C-42BF-9B1A-0AFD6FA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E796-4F28-4109-8017-6363E3C9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A89C-BEB8-4160-9F3C-6F6DD965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569C-F789-4781-B914-02197AC8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7633-50B9-44C7-BAA1-F4BDA823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22508-2D88-4DBC-AD2C-5E1F26C7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18737-6327-4DF2-960C-067F3853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8235-B893-4862-A747-6A38400B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190F8-8A29-42BC-B28A-2D408FCF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21C1-F1D0-4119-9113-6B9F6280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2DCD3-EA52-46C5-8AEF-0EA9E2D5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CC8F-D7DC-474D-BB0F-32F2DA5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BD421-FD9A-4AA4-A64E-870BC1C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61983-D6BF-4AAA-9C8B-9087DCAC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5BEB-01B7-4500-AB69-78C9145E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1BF88-A62E-472D-B13D-0FEEF168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F39A5-2CE1-492D-A8A3-0C185F4B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AC979-31DD-4C72-93BB-245C6317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8D7F1-F44A-4C3A-A063-837E342F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99F2-49F0-479C-9ECC-8A033269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6EB77-6747-4D3C-AD0A-231AB96F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A58F-B1A8-48B5-9DA2-2FF96182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4C983-3CC2-4B35-9279-6D039CF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19FA-C5DA-424A-B65F-B35DF51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1ACA9-5440-401A-AFED-FFC8B0DB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3F296-44B1-4273-B0A1-B9E5AFA1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63004-4DFA-4D79-8412-197E5D15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D026-BE7E-411D-AB2A-D9E1F971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4A9C-81D2-4A1B-9BD7-1002D3B8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DDFEA-44E7-4F00-BA19-35771E4B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A7D16-C76A-445E-8DAF-C9677BB4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74133-6614-4772-A9D5-697C20C6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3148C-3EC6-4079-8FBC-A52C92A4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5D8F2-C557-4522-BA2D-018B0E06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FF2B2-7478-4EC0-879B-162E35B7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C716-4DE5-4805-9857-06674CE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85C8-FED2-4620-844E-26D20F2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989D9-BE7F-4BBF-A199-3FD443AF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E4BD6-9007-45EF-9A6D-6A867925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7C496-1CD9-401F-A597-8953D22E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58EE-A165-433C-9F64-E78C82F9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28F10-0FBE-43D2-9398-25C1165F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01E62-818E-45FD-B6CC-6AD43771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7F02-E0FE-43E6-8445-14285188D1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A53A-FEF9-4819-9B68-902CAFCCAF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1ADB-39FE-445D-B1AF-A259D08B77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ADD8-C524-45F9-8C61-3D581EE9600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E3A5-85DC-40E5-B592-0D79FE8DD4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985E-7A7C-470E-8661-C5932C38E6D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C146-1A2A-4C3C-BC10-451DEA5D0B4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E4E3-6AA0-4FE3-814C-25D60DABDD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4D13-38FB-4E48-BF3F-DEC856F3B19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D57E-A467-4209-A0FC-36AD0028C89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89B-1B28-4075-9C71-1CA600A1D98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446-B21A-4104-9A09-5ED7E0C7E7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248440" y="48862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不期而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165640" y="520056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52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00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01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12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3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718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22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26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30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34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38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42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7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2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93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2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29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3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39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组合 5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11034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57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68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79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90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01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12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23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34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45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5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56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57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58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85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88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1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92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95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7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1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42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4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1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Lenovo</dc:creator>
  <dc:description/>
  <dc:language>en-US</dc:language>
  <cp:lastModifiedBy/>
  <dcterms:modified xsi:type="dcterms:W3CDTF">2015-06-20T00:28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