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3AB-7614-45B8-B577-9647C78A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967-8662-4A47-AF62-1E4D806D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E01-9352-4A2F-8D21-EE9AB8BD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E7F-DACB-4EAD-931C-1E8CFE0D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C9DC-1570-485F-A14D-9098BB44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8E71-2344-4AC9-BC96-DD95AA7A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FC95-4134-4E5F-88D6-1C613581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1A99-86C9-48BA-BF86-8AFE4B8E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7536-A98B-4E38-A1B0-55BB03A5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D6F5-B5CB-4260-B52C-3A151BF7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7707-D74C-46E8-9FB9-D8DD1B47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762-CC76-42D7-AE56-FD5233A6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FCF5-3108-4953-9C9D-E29298D6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DB29-FC87-47A3-96A9-F954851E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F051-D721-4E47-BAF3-B3B0109E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48E1-CA36-4D79-8ADB-8A7C6CD6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C504-36AF-4AEE-89E9-80409D3C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A49-B844-45BE-BFB3-079E1F33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319-7BAF-44E1-AAA7-59B1F362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FCB-D719-4A5B-A9E8-F72303B9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3EA-BE2C-4A77-8F13-9B8B44F7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A8F-A8E4-4592-AA8A-00C93268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47B-E542-4513-BD77-EE988D12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E83-2171-433C-BA5D-CBEF3B4B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D4EC-47CB-4251-A959-DCEABFB298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9180-6428-4F50-B615-12D74A062EA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6360" y="1955880"/>
            <a:ext cx="15084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3000" y="3660480"/>
            <a:ext cx="1962000" cy="20098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825"/>
                            </p:stCondLst>
                            <p:childTnLst>
                              <p:par>
                                <p:cTn id="5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325"/>
                            </p:stCondLst>
                            <p:childTnLst>
                              <p:par>
                                <p:cTn id="5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825"/>
                            </p:stCondLst>
                            <p:childTnLst>
                              <p:par>
                                <p:cTn id="6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dc:language>en-US</dc:language>
  <cp:lastModifiedBy>Administrator</cp:lastModifiedBy>
  <dcterms:modified xsi:type="dcterms:W3CDTF">2016-05-02T13:42:34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