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E324-7FA7-402A-BBBF-F7A0BE0D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46F-D610-4BE4-8C87-88F96A0A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7CD-CF35-43CD-824F-173B4B17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6B2-4889-40CE-859E-CB327B5C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190B-B01F-46CA-B7C1-A464489B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4E52-7E60-464B-847C-6470E0B3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F56B-8F69-4C44-A9BA-936C7B23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27F6-EC72-43B3-A439-07E29AF1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A4C7-5BE7-46F3-B23F-6E4A2C32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481D-E1A5-4D59-A57D-AD7B761B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DEA2-0845-472B-9A77-FDF7AD2C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6DF-5E95-4F61-BCBD-F158E87F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069C-BB2E-4D11-A960-4CE534D6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0E93-FEC0-4582-9AD6-D899BFC0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B34C-E934-4006-94C1-9A292C76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2DA7-A32C-472D-B0A7-171BD2A5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8C25-4F77-4F45-B113-4CAD782A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B80-940F-4D93-BB79-756C62B5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0E3-AD7D-4C67-9A38-7F16A21A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367-CD06-40EC-8C26-16AAF55F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6F9-34F2-4175-8433-39F85028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8C9-F41E-44E3-9281-AD1CFD3D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8D1-5862-4DF3-A038-7DAC8D7B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74B-BB0F-48D2-B969-ECA64BE2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CEF6-07F9-4DF8-8D07-2B055CCD78A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0327-014E-4CCD-9A83-5BFD6B89B0D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round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round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6360" y="1955880"/>
            <a:ext cx="15084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3000" y="3660480"/>
            <a:ext cx="1962000" cy="20098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0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0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6" y="0"/>
                </a:lnTo>
                <a:lnTo>
                  <a:pt x="21600" y="10800"/>
                </a:lnTo>
                <a:lnTo>
                  <a:pt x="19066" y="21600"/>
                </a:lnTo>
                <a:lnTo>
                  <a:pt x="0" y="21600"/>
                </a:lnTo>
                <a:lnTo>
                  <a:pt x="2534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6" y="0"/>
                </a:lnTo>
                <a:lnTo>
                  <a:pt x="21600" y="10800"/>
                </a:lnTo>
                <a:lnTo>
                  <a:pt x="19066" y="21600"/>
                </a:lnTo>
                <a:lnTo>
                  <a:pt x="0" y="21600"/>
                </a:lnTo>
                <a:lnTo>
                  <a:pt x="2534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825"/>
                            </p:stCondLst>
                            <p:childTnLst>
                              <p:par>
                                <p:cTn id="5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325"/>
                            </p:stCondLst>
                            <p:childTnLst>
                              <p:par>
                                <p:cTn id="5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825"/>
                            </p:stCondLst>
                            <p:childTnLst>
                              <p:par>
                                <p:cTn id="6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dc:language>en-US</dc:language>
  <cp:lastModifiedBy>Administrator</cp:lastModifiedBy>
  <dcterms:modified xsi:type="dcterms:W3CDTF">2016-05-02T13:42:34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