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08C-BFBB-4A30-95D5-C0E562DD50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反之，若没有目标或失去了目标，人往往就会茫然无措，不知所终。我们都有这样的经历，考大学之前，整天都精神振奋，干劲十足，仿佛有用不完的力量。而一旦考上了大学，则忽然一下子就空虚起来，像泄了气的皮球。许多人终其大学四年，都没有找到新的目标，导致大学过的很颓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1CC-98B5-4DCA-8B06-E44354D38A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13B6-BF8E-467B-9209-9F76AE42AB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9E9F-06E0-4B05-9DDD-1147AC9277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6BC-6CB0-4A86-AF78-D4A686A8C2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3AF-0639-404D-A64C-4D4EA61562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00E-20AD-43F4-AF47-B2941FD6BA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6656-FA8E-4854-8903-283E1232AA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D876-43FB-42E7-941A-F346B513B9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919-5035-4217-B1B8-DD3345D003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010C-5DEE-4059-A57E-AD3471E998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977-63D7-43C3-8F25-3596F32AB8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32D4-9057-4B59-BBB5-0756AC0217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0D92-CA96-4417-9158-CEE2E025F0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60E9-E3CD-40B3-ACE6-B29D3DA81C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EB16-8AAA-4D09-AC04-5DCA6197EC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6C1-A221-446C-A0BA-840F40E71A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F4E6-C14F-4619-A41E-D1D2686850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57B-8FCD-40BD-BF0E-7B74C59B6E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F5F-EBC4-4BF8-9618-757DBE5117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544-3CA9-466F-A9AE-7F39F10C27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D79A-CEBE-4E8C-9712-E42D729451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729F236D-5D0C-4AE2-B743-5859FAEB7741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Documents and Settings\t11318\桌面\setwalls.ru-8387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885000" y="549360"/>
            <a:ext cx="53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300"/>
                </a:solidFill>
                <a:latin typeface="微软雅黑"/>
                <a:ea typeface="微软雅黑"/>
              </a:rPr>
              <a:t>感谢您的阅读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CFC4034-8B44-4467-9E86-0C0A0019F934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F:\360云盘\02-个人资料\！PPT图片及版面资源\05-PPT精选插图\01-生活类\01-生活综合\look.com.ua-5609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2041560" y="3273480"/>
            <a:ext cx="8163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4"/>
          <p:cNvGrpSpPr/>
          <p:nvPr/>
        </p:nvGrpSpPr>
        <p:grpSpPr>
          <a:xfrm>
            <a:off x="9016920" y="3596040"/>
            <a:ext cx="574200" cy="431280"/>
            <a:chOff x="9016920" y="3596040"/>
            <a:chExt cx="574200" cy="431280"/>
          </a:xfrm>
        </p:grpSpPr>
        <p:sp>
          <p:nvSpPr>
            <p:cNvPr id="45" name="二十四角星 10"/>
            <p:cNvSpPr/>
            <p:nvPr/>
          </p:nvSpPr>
          <p:spPr>
            <a:xfrm>
              <a:off x="9065880" y="3645000"/>
              <a:ext cx="355680" cy="355680"/>
            </a:xfrm>
            <a:custGeom>
              <a:avLst/>
              <a:gdLst>
                <a:gd name="textAreaLeft" fmla="*/ 81000 w 355680"/>
                <a:gd name="textAreaRight" fmla="*/ 274680 w 355680"/>
                <a:gd name="textAreaTop" fmla="*/ 81000 h 355680"/>
                <a:gd name="textAreaBottom" fmla="*/ 274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 rot="20430000">
              <a:off x="9048240" y="3673080"/>
              <a:ext cx="51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2"/>
          <p:cNvSpPr/>
          <p:nvPr/>
        </p:nvSpPr>
        <p:spPr>
          <a:xfrm>
            <a:off x="456480" y="139680"/>
            <a:ext cx="4546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层经理培训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asiatu.com/uploads/Photo/201109/17/asia71864201109171019371.jpg"/>
          <p:cNvPicPr/>
          <p:nvPr/>
        </p:nvPicPr>
        <p:blipFill>
          <a:blip r:embed="rId2"/>
          <a:stretch/>
        </p:blipFill>
        <p:spPr>
          <a:xfrm>
            <a:off x="263520" y="1125360"/>
            <a:ext cx="5111640" cy="4658040"/>
          </a:xfrm>
          <a:prstGeom prst="rect">
            <a:avLst/>
          </a:prstGeom>
          <a:ln w="0">
            <a:noFill/>
          </a:ln>
        </p:spPr>
      </p:pic>
      <p:sp>
        <p:nvSpPr>
          <p:cNvPr id="85" name="空心弧 5"/>
          <p:cNvSpPr/>
          <p:nvPr/>
        </p:nvSpPr>
        <p:spPr>
          <a:xfrm>
            <a:off x="766800" y="836640"/>
            <a:ext cx="5473800" cy="5473800"/>
          </a:xfrm>
          <a:custGeom>
            <a:avLst/>
            <a:gdLst/>
            <a:ahLst/>
            <a:rect l="l" t="t" r="r" b="b"/>
            <a:pathLst>
              <a:path w="5473700" h="5473700">
                <a:moveTo>
                  <a:pt x="4672095" y="801605"/>
                </a:moveTo>
                <a:cubicBezTo>
                  <a:pt x="5740901" y="1870411"/>
                  <a:pt x="5740901" y="3603289"/>
                  <a:pt x="4672095" y="4672095"/>
                </a:cubicBezTo>
                <a:lnTo>
                  <a:pt x="4656807" y="4656807"/>
                </a:lnTo>
                <a:cubicBezTo>
                  <a:pt x="5717170" y="3596444"/>
                  <a:pt x="5717170" y="1877256"/>
                  <a:pt x="4656807" y="816893"/>
                </a:cubicBezTo>
                <a:lnTo>
                  <a:pt x="4672095" y="801605"/>
                </a:lnTo>
                <a:close/>
              </a:path>
            </a:pathLst>
          </a:custGeom>
          <a:solidFill>
            <a:srgbClr val="46a7de"/>
          </a:solidFill>
          <a:ln w="255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5597640" y="2211480"/>
            <a:ext cx="5970600" cy="782640"/>
            <a:chOff x="5597640" y="2211480"/>
            <a:chExt cx="5970600" cy="782640"/>
          </a:xfrm>
        </p:grpSpPr>
        <p:grpSp>
          <p:nvGrpSpPr>
            <p:cNvPr id="87" name="组合 5"/>
            <p:cNvGrpSpPr/>
            <p:nvPr/>
          </p:nvGrpSpPr>
          <p:grpSpPr>
            <a:xfrm>
              <a:off x="5597640" y="2211480"/>
              <a:ext cx="5970600" cy="782640"/>
              <a:chOff x="5597640" y="2211480"/>
              <a:chExt cx="5970600" cy="782640"/>
            </a:xfrm>
          </p:grpSpPr>
          <p:grpSp>
            <p:nvGrpSpPr>
              <p:cNvPr id="88" name="组合 8"/>
              <p:cNvGrpSpPr/>
              <p:nvPr/>
            </p:nvGrpSpPr>
            <p:grpSpPr>
              <a:xfrm>
                <a:off x="5988240" y="2289600"/>
                <a:ext cx="5580000" cy="626040"/>
                <a:chOff x="5988240" y="2289600"/>
                <a:chExt cx="5580000" cy="626040"/>
              </a:xfrm>
            </p:grpSpPr>
            <p:sp>
              <p:nvSpPr>
                <p:cNvPr id="89" name="矩形 16"/>
                <p:cNvSpPr/>
                <p:nvPr/>
              </p:nvSpPr>
              <p:spPr>
                <a:xfrm>
                  <a:off x="5988240" y="2289600"/>
                  <a:ext cx="5580000" cy="62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矩形 17"/>
                <p:cNvSpPr/>
                <p:nvPr/>
              </p:nvSpPr>
              <p:spPr>
                <a:xfrm>
                  <a:off x="5988240" y="2289600"/>
                  <a:ext cx="558000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矩形 18"/>
                <p:cNvSpPr/>
                <p:nvPr/>
              </p:nvSpPr>
              <p:spPr>
                <a:xfrm>
                  <a:off x="6031800" y="2318760"/>
                  <a:ext cx="5536440" cy="56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组合 9"/>
              <p:cNvGrpSpPr/>
              <p:nvPr/>
            </p:nvGrpSpPr>
            <p:grpSpPr>
              <a:xfrm>
                <a:off x="5597640" y="2211480"/>
                <a:ext cx="781200" cy="782640"/>
                <a:chOff x="5597640" y="2211480"/>
                <a:chExt cx="781200" cy="782640"/>
              </a:xfrm>
            </p:grpSpPr>
            <p:sp>
              <p:nvSpPr>
                <p:cNvPr id="93" name="椭圆 14"/>
                <p:cNvSpPr/>
                <p:nvPr/>
              </p:nvSpPr>
              <p:spPr>
                <a:xfrm>
                  <a:off x="5597640" y="2211480"/>
                  <a:ext cx="781200" cy="78264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>
                  <a:off x="5676840" y="2227320"/>
                  <a:ext cx="614520" cy="299880"/>
                </a:xfrm>
                <a:custGeom>
                  <a:avLst/>
                  <a:gdLst>
                    <a:gd name="textAreaLeft" fmla="*/ 0 w 614520"/>
                    <a:gd name="textAreaRight" fmla="*/ 614880 w 61452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Rectangle 38"/>
            <p:cNvSpPr/>
            <p:nvPr/>
          </p:nvSpPr>
          <p:spPr>
            <a:xfrm>
              <a:off x="6645240" y="2279520"/>
              <a:ext cx="4795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5"/>
          <p:cNvGrpSpPr/>
          <p:nvPr/>
        </p:nvGrpSpPr>
        <p:grpSpPr>
          <a:xfrm>
            <a:off x="5950080" y="3149640"/>
            <a:ext cx="5618160" cy="780840"/>
            <a:chOff x="5950080" y="3149640"/>
            <a:chExt cx="5618160" cy="780840"/>
          </a:xfrm>
        </p:grpSpPr>
        <p:grpSp>
          <p:nvGrpSpPr>
            <p:cNvPr id="97" name="组合 16"/>
            <p:cNvGrpSpPr/>
            <p:nvPr/>
          </p:nvGrpSpPr>
          <p:grpSpPr>
            <a:xfrm>
              <a:off x="5950080" y="3149640"/>
              <a:ext cx="5618160" cy="780840"/>
              <a:chOff x="5950080" y="3149640"/>
              <a:chExt cx="5618160" cy="780840"/>
            </a:xfrm>
          </p:grpSpPr>
          <p:grpSp>
            <p:nvGrpSpPr>
              <p:cNvPr id="98" name="组合 18"/>
              <p:cNvGrpSpPr/>
              <p:nvPr/>
            </p:nvGrpSpPr>
            <p:grpSpPr>
              <a:xfrm>
                <a:off x="6340680" y="3227760"/>
                <a:ext cx="5227560" cy="624600"/>
                <a:chOff x="6340680" y="3227760"/>
                <a:chExt cx="5227560" cy="624600"/>
              </a:xfrm>
            </p:grpSpPr>
            <p:sp>
              <p:nvSpPr>
                <p:cNvPr id="99" name="矩形 26"/>
                <p:cNvSpPr/>
                <p:nvPr/>
              </p:nvSpPr>
              <p:spPr>
                <a:xfrm>
                  <a:off x="6340680" y="3227760"/>
                  <a:ext cx="522756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矩形 27"/>
                <p:cNvSpPr/>
                <p:nvPr/>
              </p:nvSpPr>
              <p:spPr>
                <a:xfrm>
                  <a:off x="6340680" y="3227760"/>
                  <a:ext cx="52275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矩形 28"/>
                <p:cNvSpPr/>
                <p:nvPr/>
              </p:nvSpPr>
              <p:spPr>
                <a:xfrm>
                  <a:off x="6384240" y="3256560"/>
                  <a:ext cx="5184000" cy="55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组合 19"/>
              <p:cNvGrpSpPr/>
              <p:nvPr/>
            </p:nvGrpSpPr>
            <p:grpSpPr>
              <a:xfrm>
                <a:off x="5950080" y="3149640"/>
                <a:ext cx="781560" cy="780840"/>
                <a:chOff x="5950080" y="3149640"/>
                <a:chExt cx="781560" cy="780840"/>
              </a:xfrm>
            </p:grpSpPr>
            <p:sp>
              <p:nvSpPr>
                <p:cNvPr id="103" name="椭圆 24"/>
                <p:cNvSpPr/>
                <p:nvPr/>
              </p:nvSpPr>
              <p:spPr>
                <a:xfrm>
                  <a:off x="5950080" y="3149640"/>
                  <a:ext cx="781560" cy="78084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6029280" y="3165480"/>
                  <a:ext cx="614880" cy="299880"/>
                </a:xfrm>
                <a:custGeom>
                  <a:avLst/>
                  <a:gdLst>
                    <a:gd name="textAreaLeft" fmla="*/ 0 w 614880"/>
                    <a:gd name="textAreaRight" fmla="*/ 615240 w 61488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Rectangle 38"/>
            <p:cNvSpPr/>
            <p:nvPr/>
          </p:nvSpPr>
          <p:spPr>
            <a:xfrm>
              <a:off x="6959520" y="3217680"/>
              <a:ext cx="460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管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5"/>
          <p:cNvGrpSpPr/>
          <p:nvPr/>
        </p:nvGrpSpPr>
        <p:grpSpPr>
          <a:xfrm>
            <a:off x="5597640" y="4087800"/>
            <a:ext cx="5970600" cy="781200"/>
            <a:chOff x="5597640" y="4087800"/>
            <a:chExt cx="5970600" cy="781200"/>
          </a:xfrm>
        </p:grpSpPr>
        <p:grpSp>
          <p:nvGrpSpPr>
            <p:cNvPr id="107" name="组合 26"/>
            <p:cNvGrpSpPr/>
            <p:nvPr/>
          </p:nvGrpSpPr>
          <p:grpSpPr>
            <a:xfrm>
              <a:off x="5597640" y="4087800"/>
              <a:ext cx="5970600" cy="781200"/>
              <a:chOff x="5597640" y="4087800"/>
              <a:chExt cx="5970600" cy="781200"/>
            </a:xfrm>
          </p:grpSpPr>
          <p:grpSp>
            <p:nvGrpSpPr>
              <p:cNvPr id="108" name="组合 28"/>
              <p:cNvGrpSpPr/>
              <p:nvPr/>
            </p:nvGrpSpPr>
            <p:grpSpPr>
              <a:xfrm>
                <a:off x="5988240" y="4165920"/>
                <a:ext cx="5580000" cy="624960"/>
                <a:chOff x="5988240" y="4165920"/>
                <a:chExt cx="5580000" cy="624960"/>
              </a:xfrm>
            </p:grpSpPr>
            <p:sp>
              <p:nvSpPr>
                <p:cNvPr id="109" name="矩形 36"/>
                <p:cNvSpPr/>
                <p:nvPr/>
              </p:nvSpPr>
              <p:spPr>
                <a:xfrm>
                  <a:off x="5988240" y="4165920"/>
                  <a:ext cx="5580000" cy="62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矩形 37"/>
                <p:cNvSpPr/>
                <p:nvPr/>
              </p:nvSpPr>
              <p:spPr>
                <a:xfrm>
                  <a:off x="5988240" y="4165920"/>
                  <a:ext cx="558000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矩形 38"/>
                <p:cNvSpPr/>
                <p:nvPr/>
              </p:nvSpPr>
              <p:spPr>
                <a:xfrm>
                  <a:off x="6031800" y="4195080"/>
                  <a:ext cx="5536440" cy="56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组合 29"/>
              <p:cNvGrpSpPr/>
              <p:nvPr/>
            </p:nvGrpSpPr>
            <p:grpSpPr>
              <a:xfrm>
                <a:off x="5597640" y="4087800"/>
                <a:ext cx="781200" cy="781200"/>
                <a:chOff x="5597640" y="4087800"/>
                <a:chExt cx="781200" cy="781200"/>
              </a:xfrm>
            </p:grpSpPr>
            <p:sp>
              <p:nvSpPr>
                <p:cNvPr id="113" name="椭圆 34"/>
                <p:cNvSpPr/>
                <p:nvPr/>
              </p:nvSpPr>
              <p:spPr>
                <a:xfrm>
                  <a:off x="5597640" y="4087800"/>
                  <a:ext cx="781200" cy="78120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676840" y="4103640"/>
                  <a:ext cx="614520" cy="299880"/>
                </a:xfrm>
                <a:custGeom>
                  <a:avLst/>
                  <a:gdLst>
                    <a:gd name="textAreaLeft" fmla="*/ 0 w 614520"/>
                    <a:gd name="textAreaRight" fmla="*/ 614880 w 61452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" name="Rectangle 38"/>
            <p:cNvSpPr/>
            <p:nvPr/>
          </p:nvSpPr>
          <p:spPr>
            <a:xfrm>
              <a:off x="6645240" y="4155840"/>
              <a:ext cx="47959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管理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39"/>
          <p:cNvSpPr/>
          <p:nvPr/>
        </p:nvSpPr>
        <p:spPr>
          <a:xfrm>
            <a:off x="9637560" y="345960"/>
            <a:ext cx="20034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录页 </a:t>
            </a:r>
            <a:r>
              <a:rPr b="1" lang="en-US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CONTENTS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9637560" y="345960"/>
            <a:ext cx="20034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过渡页 </a:t>
            </a:r>
            <a:r>
              <a:rPr b="1" lang="en-US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TRANSITION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0" y="3338640"/>
            <a:ext cx="2735280" cy="1807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2735280" y="3338640"/>
            <a:ext cx="9456840" cy="18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A467643-D26F-417F-A799-783A4DBC932A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1A6560C-A579-4AFA-BDC0-7C4CA1694656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管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39A389A7-F240-4A89-A02A-E50417864ECC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管理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t11318\桌面\a1dd46e0cba5b4aaf44531ed41909fdd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F:\360云盘\02-个人资料\！PPT图片及版面资源\05-PPT精选插图\02-商务类\01-商务综合\download11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982800" y="1628640"/>
            <a:ext cx="6553080" cy="5050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1015920" y="1681200"/>
            <a:ext cx="60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④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清晰可见，焕发激情，激发潜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4"/>
          <p:cNvSpPr/>
          <p:nvPr/>
        </p:nvSpPr>
        <p:spPr>
          <a:xfrm>
            <a:off x="977760" y="2327400"/>
            <a:ext cx="5694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谁叫醒了我们的灵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每天一觉醒来，我们的身体醒了，但灵魂未必能醒，</a:t>
            </a: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能让灵魂苏醒的是目标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Users\user\Desktop\shangwusx273.JPG"/>
          <p:cNvPicPr/>
          <p:nvPr/>
        </p:nvPicPr>
        <p:blipFill>
          <a:blip r:embed="rId1"/>
          <a:stretch/>
        </p:blipFill>
        <p:spPr>
          <a:xfrm>
            <a:off x="7535880" y="1171440"/>
            <a:ext cx="4105080" cy="535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79" name="矩形 8"/>
          <p:cNvSpPr/>
          <p:nvPr/>
        </p:nvSpPr>
        <p:spPr>
          <a:xfrm>
            <a:off x="982800" y="3718080"/>
            <a:ext cx="6553080" cy="2546280"/>
          </a:xfrm>
          <a:prstGeom prst="rect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1244520" y="4071960"/>
            <a:ext cx="61470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波士顿塞尔提克篮球队的传奇人物（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ill.Russell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有保留自己评分卡的习惯。他在打完每一场球之后，用一张满分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的评分卡为自己评分。在他的篮球生涯中，他从来没有得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以上。很多人说：“可怜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ussell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打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场的球赛，从来没有达到过自己的标准！”然而，就因为他拼命要达到自己的标准，他成了最杰出的篮球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虚尾箭头 7"/>
          <p:cNvSpPr/>
          <p:nvPr/>
        </p:nvSpPr>
        <p:spPr>
          <a:xfrm>
            <a:off x="1127160" y="3263760"/>
            <a:ext cx="10585440" cy="1149480"/>
          </a:xfrm>
          <a:custGeom>
            <a:avLst/>
            <a:gdLst/>
            <a:ahLst/>
            <a:rect l="l" t="t" r="r" b="b"/>
            <a:pathLst>
              <a:path w="10585450" h="1149350">
                <a:moveTo>
                  <a:pt x="0" y="287338"/>
                </a:moveTo>
                <a:lnTo>
                  <a:pt x="35917" y="287338"/>
                </a:lnTo>
                <a:lnTo>
                  <a:pt x="35917" y="862013"/>
                </a:lnTo>
                <a:lnTo>
                  <a:pt x="0" y="862013"/>
                </a:lnTo>
                <a:lnTo>
                  <a:pt x="0" y="287338"/>
                </a:lnTo>
                <a:close/>
                <a:moveTo>
                  <a:pt x="71834" y="287338"/>
                </a:moveTo>
                <a:lnTo>
                  <a:pt x="143669" y="287338"/>
                </a:lnTo>
                <a:lnTo>
                  <a:pt x="143669" y="862013"/>
                </a:lnTo>
                <a:lnTo>
                  <a:pt x="71834" y="862013"/>
                </a:lnTo>
                <a:lnTo>
                  <a:pt x="71834" y="287338"/>
                </a:lnTo>
                <a:close/>
                <a:moveTo>
                  <a:pt x="179586" y="287338"/>
                </a:moveTo>
                <a:lnTo>
                  <a:pt x="10010775" y="287338"/>
                </a:lnTo>
                <a:lnTo>
                  <a:pt x="10010775" y="0"/>
                </a:lnTo>
                <a:lnTo>
                  <a:pt x="10585450" y="574675"/>
                </a:lnTo>
                <a:lnTo>
                  <a:pt x="10010775" y="1149350"/>
                </a:lnTo>
                <a:lnTo>
                  <a:pt x="10010775" y="862013"/>
                </a:lnTo>
                <a:lnTo>
                  <a:pt x="179586" y="862013"/>
                </a:lnTo>
                <a:lnTo>
                  <a:pt x="179586" y="287338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⑤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结果为导向，时刻关注目标，少走弯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1379520" y="5732640"/>
            <a:ext cx="9540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了明确的目标，我们就会把自己稀缺的时间和精力用到该用的地方去，进而调动所有的能量，挖掘所有的潜力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全力以赴于对目标的追求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F:\TDZ临时\其他备用\！个人PPT作品@teliss\磨练坚强意志-图\FECA5EC22E2D84E3FB3C4EE6CA2641FA.jpg"/>
          <p:cNvPicPr/>
          <p:nvPr/>
        </p:nvPicPr>
        <p:blipFill>
          <a:blip r:embed="rId1"/>
          <a:stretch/>
        </p:blipFill>
        <p:spPr>
          <a:xfrm>
            <a:off x="3214800" y="2133720"/>
            <a:ext cx="6218280" cy="3409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87" name="矩形 1"/>
          <p:cNvSpPr/>
          <p:nvPr/>
        </p:nvSpPr>
        <p:spPr>
          <a:xfrm>
            <a:off x="1760040" y="36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军赶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4"/>
          <p:cNvSpPr/>
          <p:nvPr/>
        </p:nvSpPr>
        <p:spPr>
          <a:xfrm>
            <a:off x="9897480" y="36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追小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F:\360云盘\02-个人资料\！PPT图片及版面资源\05-PPT精选插图\02-商务类\01-商务综合\xpic7384.jpg"/>
          <p:cNvPicPr/>
          <p:nvPr/>
        </p:nvPicPr>
        <p:blipFill>
          <a:blip r:embed="rId1"/>
          <a:stretch/>
        </p:blipFill>
        <p:spPr>
          <a:xfrm>
            <a:off x="2279520" y="3068640"/>
            <a:ext cx="3119400" cy="311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⑥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管理的基本出发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9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8"/>
          <p:cNvSpPr/>
          <p:nvPr/>
        </p:nvSpPr>
        <p:spPr>
          <a:xfrm>
            <a:off x="1727280" y="2060640"/>
            <a:ext cx="87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确立一个清楚正确的目标是科学管理的前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也是组织开展各项工作的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0"/>
          <p:cNvSpPr/>
          <p:nvPr/>
        </p:nvSpPr>
        <p:spPr>
          <a:xfrm>
            <a:off x="5448240" y="4270320"/>
            <a:ext cx="4896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提供了决策的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一切工作的行动指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协调岗位、部门之间关系的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达成度是衡量工作好坏的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496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管理概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矩形 4"/>
          <p:cNvSpPr/>
          <p:nvPr/>
        </p:nvSpPr>
        <p:spPr>
          <a:xfrm>
            <a:off x="4768920" y="3605040"/>
            <a:ext cx="3598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好处及缺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9" descr=""/>
          <p:cNvPicPr/>
          <p:nvPr/>
        </p:nvPicPr>
        <p:blipFill>
          <a:blip r:embed="rId1"/>
          <a:stretch/>
        </p:blipFill>
        <p:spPr>
          <a:xfrm>
            <a:off x="1255680" y="1712880"/>
            <a:ext cx="2865600" cy="7943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4"/>
          <p:cNvSpPr/>
          <p:nvPr/>
        </p:nvSpPr>
        <p:spPr>
          <a:xfrm>
            <a:off x="4367160" y="2092320"/>
            <a:ext cx="7273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54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德鲁克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管理实践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书中提出了一个具有划时代意义的概念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管理（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Management By Objectives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，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MBO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，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它是德鲁克所发明的最重要、最有影响的概念，并已成为当代管理体系的重要组成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4367160" y="3801960"/>
            <a:ext cx="7273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提出以后，便在美国迅速流传。时值第二次世界大战后西方经济由恢复转向迅速发展的时期，企业急需采用新的方法调动员工积极性以提高竞争能力，目标管理的出现可谓应运而生，遂被广泛应用，并很快为日本、西欧国家的企业所仿效，在世界管理界大行其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4"/>
          <p:cNvSpPr/>
          <p:nvPr/>
        </p:nvSpPr>
        <p:spPr>
          <a:xfrm>
            <a:off x="4800600" y="2060640"/>
            <a:ext cx="6696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国总统布什将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2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度 “总统自由勋章”授予彼得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•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克，提到他的三大贡献之一就是“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管理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4800600" y="3809880"/>
            <a:ext cx="6696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惠普公司创始人戴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•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帕卡德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惠普之道（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HP Way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说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096920" y="1947960"/>
            <a:ext cx="3343320" cy="414504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07" name="圆角矩形 8"/>
          <p:cNvSpPr/>
          <p:nvPr/>
        </p:nvSpPr>
        <p:spPr>
          <a:xfrm>
            <a:off x="4871880" y="4684680"/>
            <a:ext cx="6553440" cy="1408320"/>
          </a:xfrm>
          <a:prstGeom prst="roundRect">
            <a:avLst>
              <a:gd name="adj" fmla="val 8153"/>
            </a:avLst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4"/>
          <p:cNvSpPr/>
          <p:nvPr/>
        </p:nvSpPr>
        <p:spPr>
          <a:xfrm>
            <a:off x="5073480" y="4800600"/>
            <a:ext cx="6148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任何管理原则比“目标管理”原则对惠普的成功有如此大的贡献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角三角形 10"/>
          <p:cNvSpPr/>
          <p:nvPr/>
        </p:nvSpPr>
        <p:spPr>
          <a:xfrm>
            <a:off x="5664240" y="4508640"/>
            <a:ext cx="372960" cy="176040"/>
          </a:xfrm>
          <a:prstGeom prst="rtTriangle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C:\Documents and Settings\t11318\桌面\look.com.ua-39310.JPG"/>
          <p:cNvPicPr/>
          <p:nvPr/>
        </p:nvPicPr>
        <p:blipFill>
          <a:blip r:embed="rId1"/>
          <a:stretch/>
        </p:blipFill>
        <p:spPr>
          <a:xfrm>
            <a:off x="6311880" y="3321000"/>
            <a:ext cx="5452920" cy="3067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11"/>
          <p:cNvSpPr/>
          <p:nvPr/>
        </p:nvSpPr>
        <p:spPr>
          <a:xfrm>
            <a:off x="977760" y="3321000"/>
            <a:ext cx="5334120" cy="30672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2"/>
          <p:cNvSpPr/>
          <p:nvPr/>
        </p:nvSpPr>
        <p:spPr>
          <a:xfrm>
            <a:off x="1200240" y="4681440"/>
            <a:ext cx="4883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如：父亲说：好女儿，如果这学期 你考了班级第一，暑假老爸带你去新马泰！ 女儿说：哇！新马泰！我梦寐以求的，为了奖赏我一定要考全班第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3"/>
          <p:cNvSpPr/>
          <p:nvPr/>
        </p:nvSpPr>
        <p:spPr>
          <a:xfrm>
            <a:off x="1200240" y="3529080"/>
            <a:ext cx="48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实际生活中，我们每一个人都在自觉不自觉地运用着目标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2"/>
          <p:cNvSpPr/>
          <p:nvPr/>
        </p:nvSpPr>
        <p:spPr>
          <a:xfrm>
            <a:off x="977760" y="2060640"/>
            <a:ext cx="10787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亦称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成果管理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。是指在企业员工的积极参与下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自上而下地确定工作目标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并通过对目标完成情况的检查和奖惩的手段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自下而上地实现公司经营管理目标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种管理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2054160" y="1916280"/>
            <a:ext cx="8434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，被誉为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6"/>
          <p:cNvSpPr/>
          <p:nvPr/>
        </p:nvSpPr>
        <p:spPr>
          <a:xfrm>
            <a:off x="2054160" y="4437000"/>
            <a:ext cx="8434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必须建立企业的目标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建立的过程，是一个自上而下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现的过程，是一个自下而上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通过对目标完成情况的检查和奖惩，来确保目标的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4"/>
          <p:cNvSpPr/>
          <p:nvPr/>
        </p:nvSpPr>
        <p:spPr>
          <a:xfrm>
            <a:off x="2054160" y="2565360"/>
            <a:ext cx="843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300"/>
                </a:solidFill>
                <a:latin typeface="微软雅黑"/>
                <a:ea typeface="微软雅黑"/>
              </a:rPr>
              <a:t>企业的导航系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6"/>
          <p:cNvSpPr/>
          <p:nvPr/>
        </p:nvSpPr>
        <p:spPr>
          <a:xfrm>
            <a:off x="2136600" y="2565360"/>
            <a:ext cx="79203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18"/>
          <p:cNvSpPr/>
          <p:nvPr/>
        </p:nvSpPr>
        <p:spPr>
          <a:xfrm>
            <a:off x="2136600" y="4005360"/>
            <a:ext cx="79203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好处和缺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1"/>
          <p:cNvSpPr/>
          <p:nvPr/>
        </p:nvSpPr>
        <p:spPr>
          <a:xfrm>
            <a:off x="977760" y="3645000"/>
            <a:ext cx="5334120" cy="27432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"/>
          <p:cNvSpPr/>
          <p:nvPr/>
        </p:nvSpPr>
        <p:spPr>
          <a:xfrm>
            <a:off x="1200240" y="3933720"/>
            <a:ext cx="48830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提高管理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助于组织机构改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助于形成“自动自发”的工作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激励员工完成目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实现有效的监督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利于客观评价员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6311880" y="3645000"/>
            <a:ext cx="5334120" cy="274320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8"/>
          <p:cNvSpPr/>
          <p:nvPr/>
        </p:nvSpPr>
        <p:spPr>
          <a:xfrm>
            <a:off x="1704960" y="2630520"/>
            <a:ext cx="38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</a:t>
            </a:r>
            <a:r>
              <a:rPr b="1" lang="zh-CN" sz="4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好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9"/>
          <p:cNvSpPr/>
          <p:nvPr/>
        </p:nvSpPr>
        <p:spPr>
          <a:xfrm>
            <a:off x="7039080" y="263052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</a:t>
            </a: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缺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0"/>
          <p:cNvSpPr/>
          <p:nvPr/>
        </p:nvSpPr>
        <p:spPr>
          <a:xfrm>
            <a:off x="6537240" y="3971880"/>
            <a:ext cx="48834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难以制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管理的哲学假设不一定都存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商定可能增加管理成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没有绝对客观、公正的奖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往往强调短期目标而忽略长期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关注自身目标而忽略整体，助长本位主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530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管理实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4"/>
          <p:cNvSpPr/>
          <p:nvPr/>
        </p:nvSpPr>
        <p:spPr>
          <a:xfrm>
            <a:off x="4768920" y="360504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检查实施结果及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2063880" y="1984320"/>
            <a:ext cx="849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300"/>
                </a:solidFill>
                <a:latin typeface="微软雅黑"/>
                <a:ea typeface="微软雅黑"/>
              </a:rPr>
              <a:t>先有目标，才有工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一个领域没有目标，这个领域的工作必然被忽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3"/>
          <p:cNvSpPr/>
          <p:nvPr/>
        </p:nvSpPr>
        <p:spPr>
          <a:xfrm>
            <a:off x="2171880" y="4578480"/>
            <a:ext cx="8280360" cy="1371600"/>
          </a:xfrm>
          <a:prstGeom prst="roundRect">
            <a:avLst>
              <a:gd name="adj" fmla="val 4644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4"/>
          <p:cNvSpPr/>
          <p:nvPr/>
        </p:nvSpPr>
        <p:spPr>
          <a:xfrm>
            <a:off x="2279520" y="472428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管理者最重要的两件事：①为团队设定目标；②围绕目标对团队进行辅导和激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5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9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0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1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13"/>
          <p:cNvSpPr/>
          <p:nvPr/>
        </p:nvSpPr>
        <p:spPr>
          <a:xfrm>
            <a:off x="99838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7004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"/>
          <p:cNvSpPr/>
          <p:nvPr/>
        </p:nvSpPr>
        <p:spPr>
          <a:xfrm>
            <a:off x="1438200" y="1557360"/>
            <a:ext cx="99601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可以采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SC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各维度，并结合上述的六个导向，来设定目标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SC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关注：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内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外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现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将来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让目标更均衡、完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组合 33" descr=""/>
          <p:cNvPicPr/>
          <p:nvPr/>
        </p:nvPicPr>
        <p:blipFill>
          <a:blip r:embed="rId1"/>
          <a:stretch/>
        </p:blipFill>
        <p:spPr>
          <a:xfrm>
            <a:off x="5237280" y="3633840"/>
            <a:ext cx="2485800" cy="1981080"/>
          </a:xfrm>
          <a:prstGeom prst="rect">
            <a:avLst/>
          </a:prstGeom>
          <a:ln w="0">
            <a:noFill/>
          </a:ln>
        </p:spPr>
      </p:pic>
      <p:pic>
        <p:nvPicPr>
          <p:cNvPr id="560" name="组合 35" descr=""/>
          <p:cNvPicPr/>
          <p:nvPr/>
        </p:nvPicPr>
        <p:blipFill>
          <a:blip r:embed="rId2"/>
          <a:stretch/>
        </p:blipFill>
        <p:spPr>
          <a:xfrm>
            <a:off x="2816280" y="2938320"/>
            <a:ext cx="2352600" cy="1249560"/>
          </a:xfrm>
          <a:prstGeom prst="rect">
            <a:avLst/>
          </a:prstGeom>
          <a:ln w="0">
            <a:noFill/>
          </a:ln>
        </p:spPr>
      </p:pic>
      <p:pic>
        <p:nvPicPr>
          <p:cNvPr id="561" name="组合 41" descr=""/>
          <p:cNvPicPr/>
          <p:nvPr/>
        </p:nvPicPr>
        <p:blipFill>
          <a:blip r:embed="rId3"/>
          <a:stretch/>
        </p:blipFill>
        <p:spPr>
          <a:xfrm>
            <a:off x="7785000" y="5010120"/>
            <a:ext cx="2340000" cy="1317600"/>
          </a:xfrm>
          <a:prstGeom prst="rect">
            <a:avLst/>
          </a:prstGeom>
          <a:ln w="0">
            <a:noFill/>
          </a:ln>
        </p:spPr>
      </p:pic>
      <p:pic>
        <p:nvPicPr>
          <p:cNvPr id="562" name="组合 47" descr=""/>
          <p:cNvPicPr/>
          <p:nvPr/>
        </p:nvPicPr>
        <p:blipFill>
          <a:blip r:embed="rId4"/>
          <a:stretch/>
        </p:blipFill>
        <p:spPr>
          <a:xfrm>
            <a:off x="7772400" y="2865600"/>
            <a:ext cx="2378160" cy="1242720"/>
          </a:xfrm>
          <a:prstGeom prst="rect">
            <a:avLst/>
          </a:prstGeom>
          <a:ln w="0">
            <a:noFill/>
          </a:ln>
        </p:spPr>
      </p:pic>
      <p:pic>
        <p:nvPicPr>
          <p:cNvPr id="563" name="组合 53" descr=""/>
          <p:cNvPicPr/>
          <p:nvPr/>
        </p:nvPicPr>
        <p:blipFill>
          <a:blip r:embed="rId5"/>
          <a:stretch/>
        </p:blipFill>
        <p:spPr>
          <a:xfrm>
            <a:off x="2816280" y="5010120"/>
            <a:ext cx="2341440" cy="1317600"/>
          </a:xfrm>
          <a:prstGeom prst="rect">
            <a:avLst/>
          </a:prstGeom>
          <a:ln w="0">
            <a:noFill/>
          </a:ln>
        </p:spPr>
      </p:pic>
      <p:sp>
        <p:nvSpPr>
          <p:cNvPr id="564" name="空心弧 55"/>
          <p:cNvSpPr/>
          <p:nvPr/>
        </p:nvSpPr>
        <p:spPr>
          <a:xfrm>
            <a:off x="5497560" y="2676600"/>
            <a:ext cx="1857240" cy="500040"/>
          </a:xfrm>
          <a:custGeom>
            <a:avLst/>
            <a:gdLst/>
            <a:ahLst/>
            <a:rect l="l" t="t" r="r" b="b"/>
            <a:pathLst>
              <a:path w="1857375" h="500063">
                <a:moveTo>
                  <a:pt x="0" y="250032"/>
                </a:moveTo>
                <a:cubicBezTo>
                  <a:pt x="0" y="111943"/>
                  <a:pt x="415788" y="0"/>
                  <a:pt x="928688" y="0"/>
                </a:cubicBezTo>
                <a:cubicBezTo>
                  <a:pt x="1441588" y="0"/>
                  <a:pt x="1857376" y="111943"/>
                  <a:pt x="1857376" y="250032"/>
                </a:cubicBezTo>
                <a:lnTo>
                  <a:pt x="1732359" y="250032"/>
                </a:lnTo>
                <a:cubicBezTo>
                  <a:pt x="1732359" y="180988"/>
                  <a:pt x="1372543" y="125016"/>
                  <a:pt x="928687" y="125016"/>
                </a:cubicBezTo>
                <a:cubicBezTo>
                  <a:pt x="484831" y="125016"/>
                  <a:pt x="125015" y="180988"/>
                  <a:pt x="125015" y="250032"/>
                </a:cubicBezTo>
                <a:lnTo>
                  <a:pt x="0" y="250032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空心弧 56"/>
          <p:cNvSpPr/>
          <p:nvPr/>
        </p:nvSpPr>
        <p:spPr>
          <a:xfrm flipV="1">
            <a:off x="5497560" y="5961960"/>
            <a:ext cx="1857240" cy="490680"/>
          </a:xfrm>
          <a:custGeom>
            <a:avLst/>
            <a:gdLst/>
            <a:ahLst/>
            <a:rect l="l" t="t" r="r" b="b"/>
            <a:pathLst>
              <a:path w="1857375" h="490538">
                <a:moveTo>
                  <a:pt x="0" y="245269"/>
                </a:moveTo>
                <a:cubicBezTo>
                  <a:pt x="0" y="109811"/>
                  <a:pt x="415788" y="0"/>
                  <a:pt x="928688" y="0"/>
                </a:cubicBezTo>
                <a:cubicBezTo>
                  <a:pt x="1441588" y="0"/>
                  <a:pt x="1857376" y="109811"/>
                  <a:pt x="1857376" y="245269"/>
                </a:cubicBezTo>
                <a:lnTo>
                  <a:pt x="1734741" y="245269"/>
                </a:lnTo>
                <a:cubicBezTo>
                  <a:pt x="1734741" y="177540"/>
                  <a:pt x="1373859" y="122634"/>
                  <a:pt x="928688" y="122634"/>
                </a:cubicBezTo>
                <a:cubicBezTo>
                  <a:pt x="483517" y="122634"/>
                  <a:pt x="122635" y="177540"/>
                  <a:pt x="122635" y="245269"/>
                </a:cubicBezTo>
                <a:lnTo>
                  <a:pt x="0" y="24526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空心弧 57"/>
          <p:cNvSpPr/>
          <p:nvPr/>
        </p:nvSpPr>
        <p:spPr>
          <a:xfrm flipV="1" rot="16200000">
            <a:off x="9457200" y="4287960"/>
            <a:ext cx="1428840" cy="490680"/>
          </a:xfrm>
          <a:custGeom>
            <a:avLst/>
            <a:gdLst/>
            <a:ahLst/>
            <a:rect l="l" t="t" r="r" b="b"/>
            <a:pathLst>
              <a:path w="1428750" h="490537">
                <a:moveTo>
                  <a:pt x="0" y="245269"/>
                </a:moveTo>
                <a:cubicBezTo>
                  <a:pt x="0" y="109811"/>
                  <a:pt x="319837" y="0"/>
                  <a:pt x="714375" y="0"/>
                </a:cubicBezTo>
                <a:cubicBezTo>
                  <a:pt x="1108913" y="0"/>
                  <a:pt x="1428750" y="109811"/>
                  <a:pt x="1428750" y="245269"/>
                </a:cubicBezTo>
                <a:lnTo>
                  <a:pt x="1306116" y="245269"/>
                </a:lnTo>
                <a:cubicBezTo>
                  <a:pt x="1306116" y="177540"/>
                  <a:pt x="1041185" y="122635"/>
                  <a:pt x="714375" y="122635"/>
                </a:cubicBezTo>
                <a:cubicBezTo>
                  <a:pt x="387565" y="122635"/>
                  <a:pt x="122634" y="177540"/>
                  <a:pt x="122634" y="245269"/>
                </a:cubicBezTo>
                <a:lnTo>
                  <a:pt x="0" y="24526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空心弧 58"/>
          <p:cNvSpPr/>
          <p:nvPr/>
        </p:nvSpPr>
        <p:spPr>
          <a:xfrm rot="16200000">
            <a:off x="2032560" y="4283280"/>
            <a:ext cx="1428840" cy="500400"/>
          </a:xfrm>
          <a:custGeom>
            <a:avLst/>
            <a:gdLst/>
            <a:ahLst/>
            <a:rect l="l" t="t" r="r" b="b"/>
            <a:pathLst>
              <a:path w="1428750" h="500062">
                <a:moveTo>
                  <a:pt x="0" y="250031"/>
                </a:moveTo>
                <a:cubicBezTo>
                  <a:pt x="0" y="111943"/>
                  <a:pt x="319837" y="0"/>
                  <a:pt x="714375" y="0"/>
                </a:cubicBezTo>
                <a:cubicBezTo>
                  <a:pt x="1108913" y="0"/>
                  <a:pt x="1428750" y="111943"/>
                  <a:pt x="1428750" y="250031"/>
                </a:cubicBezTo>
                <a:lnTo>
                  <a:pt x="1303735" y="250031"/>
                </a:lnTo>
                <a:cubicBezTo>
                  <a:pt x="1303735" y="180987"/>
                  <a:pt x="1039870" y="125015"/>
                  <a:pt x="714375" y="125015"/>
                </a:cubicBezTo>
                <a:cubicBezTo>
                  <a:pt x="388880" y="125015"/>
                  <a:pt x="125015" y="180987"/>
                  <a:pt x="125015" y="250031"/>
                </a:cubicBezTo>
                <a:lnTo>
                  <a:pt x="0" y="250031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8"/>
          <p:cNvSpPr/>
          <p:nvPr/>
        </p:nvSpPr>
        <p:spPr>
          <a:xfrm>
            <a:off x="977760" y="1172160"/>
            <a:ext cx="27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2"/>
          <p:cNvSpPr/>
          <p:nvPr/>
        </p:nvSpPr>
        <p:spPr>
          <a:xfrm>
            <a:off x="1415880" y="4330800"/>
            <a:ext cx="53038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管理学中有一个非常重要的目标设定原则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MAR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，由分别表示确定目标的五个基本原则的英文字母的字首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/>
          <p:cNvSpPr/>
          <p:nvPr/>
        </p:nvSpPr>
        <p:spPr>
          <a:xfrm>
            <a:off x="7012080" y="1527120"/>
            <a:ext cx="81432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>
            <a:off x="7012080" y="2530440"/>
            <a:ext cx="81432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7026120" y="353520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026120" y="453852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>
            <a:off x="7026120" y="554184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9353520" y="152712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9"/>
          <p:cNvSpPr/>
          <p:nvPr/>
        </p:nvSpPr>
        <p:spPr>
          <a:xfrm>
            <a:off x="9353520" y="253044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Measur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衡量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9353520" y="353520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达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9353520" y="453852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9353520" y="554184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Time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定时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3"/>
          <p:cNvSpPr/>
          <p:nvPr/>
        </p:nvSpPr>
        <p:spPr>
          <a:xfrm>
            <a:off x="1887480" y="3081240"/>
            <a:ext cx="42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设定</a:t>
            </a:r>
            <a:r>
              <a:rPr b="1" lang="en-US" sz="5400" spc="-1" strike="noStrike">
                <a:solidFill>
                  <a:srgbClr val="ff9300"/>
                </a:solidFill>
                <a:latin typeface="微软雅黑"/>
                <a:ea typeface="微软雅黑"/>
              </a:rPr>
              <a:t>SMART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"/>
          <p:cNvSpPr/>
          <p:nvPr/>
        </p:nvSpPr>
        <p:spPr>
          <a:xfrm>
            <a:off x="1415880" y="5587920"/>
            <a:ext cx="53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MAR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是一个很实际、很方便的实施原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6"/>
          <p:cNvSpPr/>
          <p:nvPr/>
        </p:nvSpPr>
        <p:spPr>
          <a:xfrm>
            <a:off x="1487520" y="4005360"/>
            <a:ext cx="4968720" cy="0"/>
          </a:xfrm>
          <a:prstGeom prst="line">
            <a:avLst/>
          </a:prstGeom>
          <a:ln w="7632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虚尾箭头 8"/>
          <p:cNvSpPr/>
          <p:nvPr/>
        </p:nvSpPr>
        <p:spPr>
          <a:xfrm>
            <a:off x="8183520" y="1660680"/>
            <a:ext cx="936720" cy="519120"/>
          </a:xfrm>
          <a:custGeom>
            <a:avLst/>
            <a:gdLst/>
            <a:ahLst/>
            <a:rect l="l" t="t" r="r" b="b"/>
            <a:pathLst>
              <a:path w="936625" h="519113">
                <a:moveTo>
                  <a:pt x="0" y="78962"/>
                </a:moveTo>
                <a:lnTo>
                  <a:pt x="16222" y="78962"/>
                </a:lnTo>
                <a:lnTo>
                  <a:pt x="16222" y="440151"/>
                </a:lnTo>
                <a:lnTo>
                  <a:pt x="0" y="440151"/>
                </a:lnTo>
                <a:lnTo>
                  <a:pt x="0" y="78962"/>
                </a:lnTo>
                <a:close/>
                <a:moveTo>
                  <a:pt x="32445" y="78962"/>
                </a:moveTo>
                <a:lnTo>
                  <a:pt x="64889" y="78962"/>
                </a:lnTo>
                <a:lnTo>
                  <a:pt x="64889" y="440151"/>
                </a:lnTo>
                <a:lnTo>
                  <a:pt x="32445" y="440151"/>
                </a:lnTo>
                <a:lnTo>
                  <a:pt x="32445" y="78962"/>
                </a:lnTo>
                <a:close/>
                <a:moveTo>
                  <a:pt x="81111" y="78962"/>
                </a:moveTo>
                <a:lnTo>
                  <a:pt x="677069" y="78962"/>
                </a:lnTo>
                <a:lnTo>
                  <a:pt x="677069" y="0"/>
                </a:lnTo>
                <a:lnTo>
                  <a:pt x="936625" y="259557"/>
                </a:lnTo>
                <a:lnTo>
                  <a:pt x="677069" y="519113"/>
                </a:lnTo>
                <a:lnTo>
                  <a:pt x="677069" y="440151"/>
                </a:lnTo>
                <a:lnTo>
                  <a:pt x="81111" y="440151"/>
                </a:lnTo>
                <a:lnTo>
                  <a:pt x="81111" y="7896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虚尾箭头 69"/>
          <p:cNvSpPr/>
          <p:nvPr/>
        </p:nvSpPr>
        <p:spPr>
          <a:xfrm>
            <a:off x="8183520" y="3668760"/>
            <a:ext cx="936720" cy="517320"/>
          </a:xfrm>
          <a:custGeom>
            <a:avLst/>
            <a:gdLst/>
            <a:ahLst/>
            <a:rect l="l" t="t" r="r" b="b"/>
            <a:pathLst>
              <a:path w="936625" h="517525">
                <a:moveTo>
                  <a:pt x="0" y="78721"/>
                </a:moveTo>
                <a:lnTo>
                  <a:pt x="16173" y="78721"/>
                </a:lnTo>
                <a:lnTo>
                  <a:pt x="16173" y="438804"/>
                </a:lnTo>
                <a:lnTo>
                  <a:pt x="0" y="438804"/>
                </a:lnTo>
                <a:lnTo>
                  <a:pt x="0" y="78721"/>
                </a:lnTo>
                <a:close/>
                <a:moveTo>
                  <a:pt x="32345" y="78721"/>
                </a:moveTo>
                <a:lnTo>
                  <a:pt x="64691" y="78721"/>
                </a:lnTo>
                <a:lnTo>
                  <a:pt x="64691" y="438804"/>
                </a:lnTo>
                <a:lnTo>
                  <a:pt x="32345" y="438804"/>
                </a:lnTo>
                <a:lnTo>
                  <a:pt x="32345" y="78721"/>
                </a:lnTo>
                <a:close/>
                <a:moveTo>
                  <a:pt x="80863" y="78721"/>
                </a:moveTo>
                <a:lnTo>
                  <a:pt x="677863" y="78721"/>
                </a:lnTo>
                <a:lnTo>
                  <a:pt x="677863" y="0"/>
                </a:lnTo>
                <a:lnTo>
                  <a:pt x="936625" y="258763"/>
                </a:lnTo>
                <a:lnTo>
                  <a:pt x="677863" y="517525"/>
                </a:lnTo>
                <a:lnTo>
                  <a:pt x="677863" y="438804"/>
                </a:lnTo>
                <a:lnTo>
                  <a:pt x="80863" y="438804"/>
                </a:lnTo>
                <a:lnTo>
                  <a:pt x="80863" y="7872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虚尾箭头 71"/>
          <p:cNvSpPr/>
          <p:nvPr/>
        </p:nvSpPr>
        <p:spPr>
          <a:xfrm>
            <a:off x="8183520" y="467208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lnTo>
                  <a:pt x="0" y="78962"/>
                </a:lnTo>
                <a:close/>
                <a:moveTo>
                  <a:pt x="32445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5" y="440150"/>
                </a:lnTo>
                <a:lnTo>
                  <a:pt x="32445" y="78962"/>
                </a:lnTo>
                <a:close/>
                <a:moveTo>
                  <a:pt x="81111" y="78962"/>
                </a:moveTo>
                <a:lnTo>
                  <a:pt x="677069" y="78962"/>
                </a:lnTo>
                <a:lnTo>
                  <a:pt x="677069" y="0"/>
                </a:lnTo>
                <a:lnTo>
                  <a:pt x="936625" y="259556"/>
                </a:lnTo>
                <a:lnTo>
                  <a:pt x="677069" y="519112"/>
                </a:lnTo>
                <a:lnTo>
                  <a:pt x="677069" y="440150"/>
                </a:lnTo>
                <a:lnTo>
                  <a:pt x="81111" y="440150"/>
                </a:lnTo>
                <a:lnTo>
                  <a:pt x="81111" y="7896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虚尾箭头 72"/>
          <p:cNvSpPr/>
          <p:nvPr/>
        </p:nvSpPr>
        <p:spPr>
          <a:xfrm>
            <a:off x="8183520" y="2665440"/>
            <a:ext cx="936720" cy="517320"/>
          </a:xfrm>
          <a:custGeom>
            <a:avLst/>
            <a:gdLst/>
            <a:ahLst/>
            <a:rect l="l" t="t" r="r" b="b"/>
            <a:pathLst>
              <a:path w="936625" h="517525">
                <a:moveTo>
                  <a:pt x="0" y="78721"/>
                </a:moveTo>
                <a:lnTo>
                  <a:pt x="16173" y="78721"/>
                </a:lnTo>
                <a:lnTo>
                  <a:pt x="16173" y="438804"/>
                </a:lnTo>
                <a:lnTo>
                  <a:pt x="0" y="438804"/>
                </a:lnTo>
                <a:lnTo>
                  <a:pt x="0" y="78721"/>
                </a:lnTo>
                <a:close/>
                <a:moveTo>
                  <a:pt x="32345" y="78721"/>
                </a:moveTo>
                <a:lnTo>
                  <a:pt x="64691" y="78721"/>
                </a:lnTo>
                <a:lnTo>
                  <a:pt x="64691" y="438804"/>
                </a:lnTo>
                <a:lnTo>
                  <a:pt x="32345" y="438804"/>
                </a:lnTo>
                <a:lnTo>
                  <a:pt x="32345" y="78721"/>
                </a:lnTo>
                <a:close/>
                <a:moveTo>
                  <a:pt x="80863" y="78721"/>
                </a:moveTo>
                <a:lnTo>
                  <a:pt x="677863" y="78721"/>
                </a:lnTo>
                <a:lnTo>
                  <a:pt x="677863" y="0"/>
                </a:lnTo>
                <a:lnTo>
                  <a:pt x="936625" y="258763"/>
                </a:lnTo>
                <a:lnTo>
                  <a:pt x="677863" y="517525"/>
                </a:lnTo>
                <a:lnTo>
                  <a:pt x="677863" y="438804"/>
                </a:lnTo>
                <a:lnTo>
                  <a:pt x="80863" y="438804"/>
                </a:lnTo>
                <a:lnTo>
                  <a:pt x="80863" y="7872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虚尾箭头 73"/>
          <p:cNvSpPr/>
          <p:nvPr/>
        </p:nvSpPr>
        <p:spPr>
          <a:xfrm>
            <a:off x="8183520" y="567540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lnTo>
                  <a:pt x="0" y="78962"/>
                </a:lnTo>
                <a:close/>
                <a:moveTo>
                  <a:pt x="32445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5" y="440150"/>
                </a:lnTo>
                <a:lnTo>
                  <a:pt x="32445" y="78962"/>
                </a:lnTo>
                <a:close/>
                <a:moveTo>
                  <a:pt x="81111" y="78962"/>
                </a:moveTo>
                <a:lnTo>
                  <a:pt x="677069" y="78962"/>
                </a:lnTo>
                <a:lnTo>
                  <a:pt x="677069" y="0"/>
                </a:lnTo>
                <a:lnTo>
                  <a:pt x="936625" y="259556"/>
                </a:lnTo>
                <a:lnTo>
                  <a:pt x="677069" y="519112"/>
                </a:lnTo>
                <a:lnTo>
                  <a:pt x="677069" y="440150"/>
                </a:lnTo>
                <a:lnTo>
                  <a:pt x="81111" y="440150"/>
                </a:lnTo>
                <a:lnTo>
                  <a:pt x="81111" y="7896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"/>
          <p:cNvSpPr/>
          <p:nvPr/>
        </p:nvSpPr>
        <p:spPr>
          <a:xfrm>
            <a:off x="1442880" y="1557360"/>
            <a:ext cx="98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结果：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千斤重担人人挑，人人肩上有指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23"/>
          <p:cNvGrpSpPr/>
          <p:nvPr/>
        </p:nvGrpSpPr>
        <p:grpSpPr>
          <a:xfrm>
            <a:off x="4623480" y="2019240"/>
            <a:ext cx="2851200" cy="4362480"/>
            <a:chOff x="4623480" y="2019240"/>
            <a:chExt cx="2851200" cy="4362480"/>
          </a:xfrm>
        </p:grpSpPr>
        <p:sp>
          <p:nvSpPr>
            <p:cNvPr id="591" name="圆角矩形 24"/>
            <p:cNvSpPr/>
            <p:nvPr/>
          </p:nvSpPr>
          <p:spPr>
            <a:xfrm>
              <a:off x="5927760" y="2019240"/>
              <a:ext cx="144360" cy="4329360"/>
            </a:xfrm>
            <a:custGeom>
              <a:avLst/>
              <a:gdLst>
                <a:gd name="textAreaLeft" fmla="*/ 20880 w 144360"/>
                <a:gd name="textAreaRight" fmla="*/ 123480 w 144360"/>
                <a:gd name="textAreaTop" fmla="*/ 20880 h 4329360"/>
                <a:gd name="textAreaBottom" fmla="*/ 4308480 h 4329360"/>
              </a:gdLst>
              <a:ahLst/>
              <a:rect l="textAreaLeft" t="textAreaTop" r="textAreaRight" b="textAreaBottom"/>
              <a:pathLst>
                <a:path w="21600" h="646227">
                  <a:moveTo>
                    <a:pt x="10800" y="0"/>
                  </a:moveTo>
                  <a:arcTo wR="10800" hR="10800" stAng="16200000" swAng="-5400000"/>
                  <a:lnTo>
                    <a:pt x="0" y="635427"/>
                  </a:lnTo>
                  <a:arcTo wR="10800" hR="10800" stAng="10800000" swAng="-5400000"/>
                  <a:lnTo>
                    <a:pt x="10800" y="6462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5"/>
            <p:cNvSpPr/>
            <p:nvPr/>
          </p:nvSpPr>
          <p:spPr>
            <a:xfrm>
              <a:off x="5656320" y="6204240"/>
              <a:ext cx="671400" cy="1774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组合 26"/>
            <p:cNvGrpSpPr/>
            <p:nvPr/>
          </p:nvGrpSpPr>
          <p:grpSpPr>
            <a:xfrm>
              <a:off x="5339880" y="2532600"/>
              <a:ext cx="1221840" cy="580320"/>
              <a:chOff x="5339880" y="2532600"/>
              <a:chExt cx="1221840" cy="580320"/>
            </a:xfrm>
          </p:grpSpPr>
          <p:sp>
            <p:nvSpPr>
              <p:cNvPr id="594" name="任意多边形 29"/>
              <p:cNvSpPr/>
              <p:nvPr/>
            </p:nvSpPr>
            <p:spPr>
              <a:xfrm>
                <a:off x="5339880" y="2620800"/>
                <a:ext cx="1221840" cy="492120"/>
              </a:xfrm>
              <a:custGeom>
                <a:avLst/>
                <a:gdLst/>
                <a:ahLst/>
                <a:rect l="l" t="t" r="r" b="b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组合 30"/>
              <p:cNvGrpSpPr/>
              <p:nvPr/>
            </p:nvGrpSpPr>
            <p:grpSpPr>
              <a:xfrm>
                <a:off x="5925960" y="2532600"/>
                <a:ext cx="184680" cy="184680"/>
                <a:chOff x="5925960" y="2532600"/>
                <a:chExt cx="184680" cy="184680"/>
              </a:xfrm>
            </p:grpSpPr>
            <p:sp>
              <p:nvSpPr>
                <p:cNvPr id="596" name="椭圆 31"/>
                <p:cNvSpPr/>
                <p:nvPr/>
              </p:nvSpPr>
              <p:spPr>
                <a:xfrm>
                  <a:off x="5925960" y="2532600"/>
                  <a:ext cx="184680" cy="18468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组合 32"/>
                <p:cNvGrpSpPr/>
                <p:nvPr/>
              </p:nvGrpSpPr>
              <p:grpSpPr>
                <a:xfrm>
                  <a:off x="5951520" y="2551680"/>
                  <a:ext cx="136440" cy="141480"/>
                  <a:chOff x="5951520" y="2551680"/>
                  <a:chExt cx="136440" cy="141480"/>
                </a:xfrm>
              </p:grpSpPr>
              <p:grpSp>
                <p:nvGrpSpPr>
                  <p:cNvPr id="598" name="椭圆 33"/>
                  <p:cNvGrpSpPr/>
                  <p:nvPr/>
                </p:nvGrpSpPr>
                <p:grpSpPr>
                  <a:xfrm>
                    <a:off x="5951520" y="2556720"/>
                    <a:ext cx="136440" cy="136440"/>
                    <a:chOff x="5951520" y="2556720"/>
                    <a:chExt cx="136440" cy="136440"/>
                  </a:xfrm>
                </p:grpSpPr>
                <p:pic>
                  <p:nvPicPr>
                    <p:cNvPr id="599" name="椭圆 33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 rot="21599400">
                      <a:off x="5951520" y="2556360"/>
                      <a:ext cx="136440" cy="13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00" name=""/>
                    <p:cNvSpPr/>
                    <p:nvPr/>
                  </p:nvSpPr>
                  <p:spPr>
                    <a:xfrm rot="1266600">
                      <a:off x="5976000" y="2581560"/>
                      <a:ext cx="8604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椭圆 34"/>
                  <p:cNvSpPr/>
                  <p:nvPr/>
                </p:nvSpPr>
                <p:spPr>
                  <a:xfrm rot="21390000">
                    <a:off x="5982480" y="2660400"/>
                    <a:ext cx="73800" cy="2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fff">
                          <a:alpha val="55294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椭圆 35"/>
                  <p:cNvSpPr/>
                  <p:nvPr/>
                </p:nvSpPr>
                <p:spPr>
                  <a:xfrm rot="2179200">
                    <a:off x="5992560" y="2567880"/>
                    <a:ext cx="68400" cy="3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17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03" name="五边形 27"/>
            <p:cNvSpPr/>
            <p:nvPr/>
          </p:nvSpPr>
          <p:spPr>
            <a:xfrm rot="21119400">
              <a:off x="4644720" y="3006360"/>
              <a:ext cx="2808360" cy="50472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59" y="0"/>
                  </a:lnTo>
                  <a:lnTo>
                    <a:pt x="21600" y="10800"/>
                  </a:lnTo>
                  <a:lnTo>
                    <a:pt x="1965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300"/>
            </a:soli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28"/>
            <p:cNvSpPr/>
            <p:nvPr/>
          </p:nvSpPr>
          <p:spPr>
            <a:xfrm rot="21127200">
              <a:off x="5320440" y="3073320"/>
              <a:ext cx="13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剥洋葱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36"/>
          <p:cNvGrpSpPr/>
          <p:nvPr/>
        </p:nvGrpSpPr>
        <p:grpSpPr>
          <a:xfrm>
            <a:off x="1558800" y="3720960"/>
            <a:ext cx="3773520" cy="2187720"/>
            <a:chOff x="1558800" y="3720960"/>
            <a:chExt cx="3773520" cy="2187720"/>
          </a:xfrm>
        </p:grpSpPr>
        <p:sp>
          <p:nvSpPr>
            <p:cNvPr id="606" name="圆角矩形 37"/>
            <p:cNvSpPr/>
            <p:nvPr/>
          </p:nvSpPr>
          <p:spPr>
            <a:xfrm>
              <a:off x="1558800" y="4214520"/>
              <a:ext cx="3773520" cy="1694160"/>
            </a:xfrm>
            <a:prstGeom prst="roundRect">
              <a:avLst>
                <a:gd name="adj" fmla="val 3384"/>
              </a:avLst>
            </a:pr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8"/>
            <p:cNvSpPr/>
            <p:nvPr/>
          </p:nvSpPr>
          <p:spPr>
            <a:xfrm>
              <a:off x="1630080" y="4322520"/>
              <a:ext cx="36309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将大目标分解成若干小目标，再将每个小目标分解成若干个更小的目标，一直分解下去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18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直到知道每个人该干什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9"/>
            <p:cNvSpPr/>
            <p:nvPr/>
          </p:nvSpPr>
          <p:spPr>
            <a:xfrm>
              <a:off x="2788200" y="3720960"/>
              <a:ext cx="128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由大到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40"/>
          <p:cNvGrpSpPr/>
          <p:nvPr/>
        </p:nvGrpSpPr>
        <p:grpSpPr>
          <a:xfrm>
            <a:off x="6643800" y="3753000"/>
            <a:ext cx="3773520" cy="2155680"/>
            <a:chOff x="6643800" y="3753000"/>
            <a:chExt cx="3773520" cy="2155680"/>
          </a:xfrm>
        </p:grpSpPr>
        <p:sp>
          <p:nvSpPr>
            <p:cNvPr id="610" name="圆角矩形 41"/>
            <p:cNvSpPr/>
            <p:nvPr/>
          </p:nvSpPr>
          <p:spPr>
            <a:xfrm>
              <a:off x="6643800" y="4216320"/>
              <a:ext cx="3773520" cy="1692360"/>
            </a:xfrm>
            <a:prstGeom prst="roundRect">
              <a:avLst>
                <a:gd name="adj" fmla="val 3384"/>
              </a:avLst>
            </a:pr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42"/>
            <p:cNvSpPr/>
            <p:nvPr/>
          </p:nvSpPr>
          <p:spPr>
            <a:xfrm>
              <a:off x="6713640" y="4344840"/>
              <a:ext cx="3629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愿景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5-10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长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-3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的中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个月至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的短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月、周、日目标，</a:t>
              </a:r>
              <a:r>
                <a:rPr b="1" lang="zh-CN" sz="18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直到知道现在该干什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43"/>
            <p:cNvSpPr/>
            <p:nvPr/>
          </p:nvSpPr>
          <p:spPr>
            <a:xfrm>
              <a:off x="7887600" y="3753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由远及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8"/>
          <p:cNvSpPr/>
          <p:nvPr/>
        </p:nvSpPr>
        <p:spPr>
          <a:xfrm>
            <a:off x="977760" y="117216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43"/>
          <p:cNvGrpSpPr/>
          <p:nvPr/>
        </p:nvGrpSpPr>
        <p:grpSpPr>
          <a:xfrm>
            <a:off x="3575160" y="2133720"/>
            <a:ext cx="7057800" cy="4248000"/>
            <a:chOff x="3575160" y="2133720"/>
            <a:chExt cx="7057800" cy="4248000"/>
          </a:xfrm>
        </p:grpSpPr>
        <p:sp>
          <p:nvSpPr>
            <p:cNvPr id="615" name="直角三角形 42"/>
            <p:cNvSpPr/>
            <p:nvPr/>
          </p:nvSpPr>
          <p:spPr>
            <a:xfrm flipH="1" flipV="1">
              <a:off x="3575160" y="4601520"/>
              <a:ext cx="1792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角三角形 41"/>
            <p:cNvSpPr/>
            <p:nvPr/>
          </p:nvSpPr>
          <p:spPr>
            <a:xfrm flipH="1" flipV="1">
              <a:off x="3575160" y="2763720"/>
              <a:ext cx="179280" cy="1108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角三角形 39"/>
            <p:cNvSpPr/>
            <p:nvPr/>
          </p:nvSpPr>
          <p:spPr>
            <a:xfrm>
              <a:off x="10455480" y="4570560"/>
              <a:ext cx="1774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角三角形 2"/>
            <p:cNvSpPr/>
            <p:nvPr/>
          </p:nvSpPr>
          <p:spPr>
            <a:xfrm>
              <a:off x="10455480" y="2801880"/>
              <a:ext cx="1774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25"/>
            <p:cNvGrpSpPr/>
            <p:nvPr/>
          </p:nvGrpSpPr>
          <p:grpSpPr>
            <a:xfrm>
              <a:off x="3575160" y="2133720"/>
              <a:ext cx="7057800" cy="4248000"/>
              <a:chOff x="3575160" y="2133720"/>
              <a:chExt cx="7057800" cy="4248000"/>
            </a:xfrm>
          </p:grpSpPr>
          <p:sp>
            <p:nvSpPr>
              <p:cNvPr id="620" name="矩形 30"/>
              <p:cNvSpPr/>
              <p:nvPr/>
            </p:nvSpPr>
            <p:spPr>
              <a:xfrm>
                <a:off x="3728880" y="2133720"/>
                <a:ext cx="6745320" cy="4248000"/>
              </a:xfrm>
              <a:prstGeom prst="rect">
                <a:avLst/>
              </a:prstGeom>
              <a:solidFill>
                <a:srgbClr val="e9e9e9"/>
              </a:solidFill>
              <a:ln w="9360">
                <a:solidFill>
                  <a:srgbClr val="bfbfbf"/>
                </a:solidFill>
                <a:miter/>
              </a:ln>
              <a:effectLst>
                <a:outerShdw dist="153753" dir="2700000" blurRad="0" rotWithShape="0">
                  <a:srgbClr val="000000">
                    <a:alpha val="2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31"/>
              <p:cNvSpPr/>
              <p:nvPr/>
            </p:nvSpPr>
            <p:spPr>
              <a:xfrm>
                <a:off x="3575160" y="2335320"/>
                <a:ext cx="2879640" cy="42696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01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上下一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矩形 32"/>
              <p:cNvSpPr/>
              <p:nvPr/>
            </p:nvSpPr>
            <p:spPr>
              <a:xfrm>
                <a:off x="7753320" y="290988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资源保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矩形 33"/>
              <p:cNvSpPr/>
              <p:nvPr/>
            </p:nvSpPr>
            <p:spPr>
              <a:xfrm>
                <a:off x="3575160" y="417348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相互协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矩形 34"/>
              <p:cNvSpPr/>
              <p:nvPr/>
            </p:nvSpPr>
            <p:spPr>
              <a:xfrm>
                <a:off x="7753320" y="467856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平等尊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Box 35"/>
              <p:cNvSpPr/>
              <p:nvPr/>
            </p:nvSpPr>
            <p:spPr>
              <a:xfrm>
                <a:off x="3801960" y="2874960"/>
                <a:ext cx="29415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分目标要保持与总体目标方向一致，内容上下贯通，保证总体目标的实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Box 36"/>
              <p:cNvSpPr/>
              <p:nvPr/>
            </p:nvSpPr>
            <p:spPr>
              <a:xfrm>
                <a:off x="7753320" y="3486240"/>
                <a:ext cx="27208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目标分解中，要注意到各分目标所需要的条件及其限制因素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Box 37"/>
              <p:cNvSpPr/>
              <p:nvPr/>
            </p:nvSpPr>
            <p:spPr>
              <a:xfrm>
                <a:off x="3801960" y="4710240"/>
                <a:ext cx="29415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各分目标之间在内容与时间上要协调并同步发展，不能影响总体目标的实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Box 38"/>
              <p:cNvSpPr/>
              <p:nvPr/>
            </p:nvSpPr>
            <p:spPr>
              <a:xfrm>
                <a:off x="7753320" y="5178600"/>
                <a:ext cx="27208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在目标分解讨论中，上级要尊重下级，平等待人，耐心倾听下级意见</a:t>
                </a:r>
                <a:r>
                  <a:rPr b="0" lang="zh-CN" sz="1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矩形 44"/>
          <p:cNvSpPr/>
          <p:nvPr/>
        </p:nvSpPr>
        <p:spPr>
          <a:xfrm>
            <a:off x="1446120" y="1557360"/>
            <a:ext cx="38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进行目标分解时要遵循以下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44"/>
          <p:cNvSpPr/>
          <p:nvPr/>
        </p:nvSpPr>
        <p:spPr>
          <a:xfrm>
            <a:off x="7169040" y="230976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组合 6" descr=""/>
          <p:cNvPicPr/>
          <p:nvPr/>
        </p:nvPicPr>
        <p:blipFill>
          <a:blip r:embed="rId1"/>
          <a:stretch/>
        </p:blipFill>
        <p:spPr>
          <a:xfrm>
            <a:off x="8096400" y="1420920"/>
            <a:ext cx="2663640" cy="1876320"/>
          </a:xfrm>
          <a:prstGeom prst="rect">
            <a:avLst/>
          </a:prstGeom>
          <a:ln w="0">
            <a:noFill/>
          </a:ln>
        </p:spPr>
      </p:pic>
      <p:pic>
        <p:nvPicPr>
          <p:cNvPr id="633" name="组合 7" descr=""/>
          <p:cNvPicPr/>
          <p:nvPr/>
        </p:nvPicPr>
        <p:blipFill>
          <a:blip r:embed="rId2"/>
          <a:stretch/>
        </p:blipFill>
        <p:spPr>
          <a:xfrm>
            <a:off x="9717120" y="3249720"/>
            <a:ext cx="1888920" cy="2601720"/>
          </a:xfrm>
          <a:prstGeom prst="rect">
            <a:avLst/>
          </a:prstGeom>
          <a:ln w="0">
            <a:noFill/>
          </a:ln>
        </p:spPr>
      </p:pic>
      <p:pic>
        <p:nvPicPr>
          <p:cNvPr id="634" name="组合 13" descr=""/>
          <p:cNvPicPr/>
          <p:nvPr/>
        </p:nvPicPr>
        <p:blipFill>
          <a:blip r:embed="rId3"/>
          <a:stretch/>
        </p:blipFill>
        <p:spPr>
          <a:xfrm>
            <a:off x="7083360" y="4863960"/>
            <a:ext cx="2706840" cy="1712880"/>
          </a:xfrm>
          <a:prstGeom prst="rect">
            <a:avLst/>
          </a:prstGeom>
          <a:ln w="0">
            <a:noFill/>
          </a:ln>
        </p:spPr>
      </p:pic>
      <p:pic>
        <p:nvPicPr>
          <p:cNvPr id="635" name="组合 14" descr=""/>
          <p:cNvPicPr/>
          <p:nvPr/>
        </p:nvPicPr>
        <p:blipFill>
          <a:blip r:embed="rId4"/>
          <a:stretch/>
        </p:blipFill>
        <p:spPr>
          <a:xfrm>
            <a:off x="6248520" y="2176560"/>
            <a:ext cx="1871640" cy="2670120"/>
          </a:xfrm>
          <a:prstGeom prst="rect">
            <a:avLst/>
          </a:prstGeom>
          <a:ln w="0">
            <a:noFill/>
          </a:ln>
        </p:spPr>
      </p:pic>
      <p:sp>
        <p:nvSpPr>
          <p:cNvPr id="636" name="矩形 60"/>
          <p:cNvSpPr/>
          <p:nvPr/>
        </p:nvSpPr>
        <p:spPr>
          <a:xfrm>
            <a:off x="1446120" y="4840200"/>
            <a:ext cx="4865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进行目标实施的过程中，会出现一些不可预测的问题，比如，目标实施的环境、条件、资源等发生了变化，那么，要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根据实际情况对目标进行调整和反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6"/>
          <p:cNvGrpSpPr/>
          <p:nvPr/>
        </p:nvGrpSpPr>
        <p:grpSpPr>
          <a:xfrm>
            <a:off x="1558800" y="4232160"/>
            <a:ext cx="1204920" cy="511200"/>
            <a:chOff x="1558800" y="4232160"/>
            <a:chExt cx="1204920" cy="511200"/>
          </a:xfrm>
        </p:grpSpPr>
        <p:sp>
          <p:nvSpPr>
            <p:cNvPr id="638" name="圆角矩形 4"/>
            <p:cNvSpPr/>
            <p:nvPr/>
          </p:nvSpPr>
          <p:spPr>
            <a:xfrm>
              <a:off x="1558800" y="4232160"/>
              <a:ext cx="1204920" cy="511200"/>
            </a:xfrm>
            <a:prstGeom prst="roundRect">
              <a:avLst>
                <a:gd name="adj" fmla="val 3551"/>
              </a:avLst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3"/>
            <p:cNvSpPr/>
            <p:nvPr/>
          </p:nvSpPr>
          <p:spPr>
            <a:xfrm>
              <a:off x="1844640" y="4256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注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60"/>
          <p:cNvSpPr/>
          <p:nvPr/>
        </p:nvSpPr>
        <p:spPr>
          <a:xfrm>
            <a:off x="1446120" y="1609560"/>
            <a:ext cx="57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循环就像爬楼梯一样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不断前进，不断提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示 16" descr=""/>
          <p:cNvPicPr/>
          <p:nvPr/>
        </p:nvPicPr>
        <p:blipFill>
          <a:blip r:embed="rId1"/>
          <a:stretch/>
        </p:blipFill>
        <p:spPr>
          <a:xfrm>
            <a:off x="4730760" y="3840120"/>
            <a:ext cx="3687840" cy="2603520"/>
          </a:xfrm>
          <a:prstGeom prst="rect">
            <a:avLst/>
          </a:prstGeom>
          <a:ln w="0">
            <a:noFill/>
          </a:ln>
        </p:spPr>
      </p:pic>
      <p:pic>
        <p:nvPicPr>
          <p:cNvPr id="643" name="图示 17" descr=""/>
          <p:cNvPicPr/>
          <p:nvPr/>
        </p:nvPicPr>
        <p:blipFill>
          <a:blip r:embed="rId2"/>
          <a:stretch/>
        </p:blipFill>
        <p:spPr>
          <a:xfrm>
            <a:off x="7107120" y="1341360"/>
            <a:ext cx="3694320" cy="2602080"/>
          </a:xfrm>
          <a:prstGeom prst="rect">
            <a:avLst/>
          </a:prstGeom>
          <a:ln w="0">
            <a:noFill/>
          </a:ln>
        </p:spPr>
      </p:pic>
      <p:sp>
        <p:nvSpPr>
          <p:cNvPr id="644" name="直接连接符 18"/>
          <p:cNvSpPr/>
          <p:nvPr/>
        </p:nvSpPr>
        <p:spPr>
          <a:xfrm>
            <a:off x="5227560" y="6413400"/>
            <a:ext cx="2643120" cy="180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直接连接符 19"/>
          <p:cNvSpPr/>
          <p:nvPr/>
        </p:nvSpPr>
        <p:spPr>
          <a:xfrm flipV="1">
            <a:off x="7869960" y="3914640"/>
            <a:ext cx="1800" cy="250056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20"/>
          <p:cNvSpPr/>
          <p:nvPr/>
        </p:nvSpPr>
        <p:spPr>
          <a:xfrm>
            <a:off x="7870680" y="3913200"/>
            <a:ext cx="2357640" cy="144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1"/>
          <p:cNvSpPr/>
          <p:nvPr/>
        </p:nvSpPr>
        <p:spPr>
          <a:xfrm flipV="1">
            <a:off x="10228320" y="1341360"/>
            <a:ext cx="0" cy="257184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直接箭头连接符 22"/>
          <p:cNvCxnSpPr/>
          <p:nvPr/>
        </p:nvCxnSpPr>
        <p:spPr>
          <a:xfrm flipV="1">
            <a:off x="5227560" y="1341000"/>
            <a:ext cx="4929840" cy="5074560"/>
          </a:xfrm>
          <a:prstGeom prst="straightConnector1">
            <a:avLst/>
          </a:prstGeom>
          <a:ln w="2232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649" name="TextBox 23"/>
          <p:cNvSpPr/>
          <p:nvPr/>
        </p:nvSpPr>
        <p:spPr>
          <a:xfrm>
            <a:off x="8370720" y="4003560"/>
            <a:ext cx="1785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阶段任务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水平不断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4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检查实施结果及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7"/>
          <p:cNvSpPr/>
          <p:nvPr/>
        </p:nvSpPr>
        <p:spPr>
          <a:xfrm>
            <a:off x="1093680" y="2494080"/>
            <a:ext cx="5434200" cy="30337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8"/>
          <p:cNvSpPr/>
          <p:nvPr/>
        </p:nvSpPr>
        <p:spPr>
          <a:xfrm>
            <a:off x="1284120" y="2790720"/>
            <a:ext cx="5172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对照目标进行检查与考核，目标完成的质量可以与个人的薪水、升迁等挂钩，真正实现公司的总目标达成与每个人的业绩挂钩，从而使员工高度关注工作成效、并强化工作的动机，令企业内部运作进入“自动自发”的良性轨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0"/>
          <p:cNvSpPr/>
          <p:nvPr/>
        </p:nvSpPr>
        <p:spPr>
          <a:xfrm>
            <a:off x="977760" y="5664240"/>
            <a:ext cx="10787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也就是说，目标管理的后续步骤就是绩效考核，</a:t>
            </a: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绩效考核是实现目标管理的有力工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F:\360云盘\02-个人资料\！PPT图片及版面资源\05-PPT精选插图\02-商务类\02-商务人物\240458-1301230Z94344.jpg"/>
          <p:cNvPicPr/>
          <p:nvPr/>
        </p:nvPicPr>
        <p:blipFill>
          <a:blip r:embed="rId1"/>
          <a:stretch/>
        </p:blipFill>
        <p:spPr>
          <a:xfrm>
            <a:off x="6527880" y="2492280"/>
            <a:ext cx="5235480" cy="3035520"/>
          </a:xfrm>
          <a:prstGeom prst="rect">
            <a:avLst/>
          </a:prstGeom>
          <a:ln w="0">
            <a:noFill/>
          </a:ln>
        </p:spPr>
      </p:pic>
      <p:sp>
        <p:nvSpPr>
          <p:cNvPr id="655" name="矩形 12"/>
          <p:cNvSpPr/>
          <p:nvPr/>
        </p:nvSpPr>
        <p:spPr>
          <a:xfrm>
            <a:off x="1284120" y="4853160"/>
            <a:ext cx="5172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这个过程，即是实施“绩效考核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434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知识概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矩形 4"/>
          <p:cNvSpPr/>
          <p:nvPr/>
        </p:nvSpPr>
        <p:spPr>
          <a:xfrm>
            <a:off x="4768920" y="360504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msnbcmedia.msn.com/i/reuters/2012-02-13t215837z_1_btre81c1p2300_rtroptp_3_motorola.jpg"/>
          <p:cNvPicPr/>
          <p:nvPr/>
        </p:nvPicPr>
        <p:blipFill>
          <a:blip r:embed="rId1"/>
          <a:stretch/>
        </p:blipFill>
        <p:spPr>
          <a:xfrm>
            <a:off x="6335640" y="2781360"/>
            <a:ext cx="5232600" cy="34830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"/>
          <p:cNvSpPr/>
          <p:nvPr/>
        </p:nvSpPr>
        <p:spPr>
          <a:xfrm>
            <a:off x="793800" y="2781360"/>
            <a:ext cx="5541840" cy="3483000"/>
          </a:xfrm>
          <a:prstGeom prst="rect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979560" y="2887560"/>
            <a:ext cx="51163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代初，摩托罗拉公司决心获取美国国家品质奖，为此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确定了生产合格率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9.997%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目标。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摩托罗拉的员工都收到了一张卡片，上面标示着公司的目标，所有员工都面临着挑战，力求大幅度降低工作中的错误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4"/>
          <p:cNvSpPr/>
          <p:nvPr/>
        </p:nvSpPr>
        <p:spPr>
          <a:xfrm>
            <a:off x="979560" y="4721400"/>
            <a:ext cx="5116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果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，摩托罗拉因此减掉了昂贵的零件修复与替换工作，从而节省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美元，收入增加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利润提高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4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达到前所未有的记录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9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摩托罗拉如愿获得国家品质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871720" y="1638360"/>
            <a:ext cx="64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伟大的公司，因</a:t>
            </a:r>
            <a:r>
              <a:rPr b="1" lang="zh-CN" sz="4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1473120" y="4437000"/>
            <a:ext cx="937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结果，是希望，是欲望的具体表现形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由动机至行为的驱动力，是一切行动的源动力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时刻专注的焦点，是专注力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9"/>
          <p:cNvSpPr/>
          <p:nvPr/>
        </p:nvSpPr>
        <p:spPr>
          <a:xfrm>
            <a:off x="1487520" y="4076640"/>
            <a:ext cx="9360000" cy="144360"/>
          </a:xfrm>
          <a:prstGeom prst="rect">
            <a:avLst/>
          </a:prstGeom>
          <a:solidFill>
            <a:srgbClr val="ff9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0"/>
          <p:cNvSpPr/>
          <p:nvPr/>
        </p:nvSpPr>
        <p:spPr>
          <a:xfrm>
            <a:off x="1487520" y="5877000"/>
            <a:ext cx="9360000" cy="144360"/>
          </a:xfrm>
          <a:prstGeom prst="rect">
            <a:avLst/>
          </a:prstGeom>
          <a:solidFill>
            <a:srgbClr val="ff9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4"/>
          <p:cNvSpPr/>
          <p:nvPr/>
        </p:nvSpPr>
        <p:spPr>
          <a:xfrm>
            <a:off x="1487520" y="2205000"/>
            <a:ext cx="9360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以上的故事，我们可以简单的将目标理解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就是个人或组织所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期望的工作成果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就是希望达到的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未来状态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即指你想要完成的事，它可能很庞大或很微小，也许是未来或者就在今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http://myfitness.co.nz/img/goal.png"/>
          <p:cNvPicPr/>
          <p:nvPr/>
        </p:nvPicPr>
        <p:blipFill>
          <a:blip r:embed="rId1"/>
          <a:stretch/>
        </p:blipFill>
        <p:spPr>
          <a:xfrm>
            <a:off x="9480600" y="655560"/>
            <a:ext cx="2305080" cy="17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4401360" y="15890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①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就是所要追求的结果，没有目标就没有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对象 16" descr=""/>
          <p:cNvPicPr/>
          <p:nvPr/>
        </p:nvPicPr>
        <p:blipFill>
          <a:blip r:embed="rId1"/>
          <a:stretch/>
        </p:blipFill>
        <p:spPr>
          <a:xfrm>
            <a:off x="480960" y="215424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452" name="椭圆 12"/>
          <p:cNvSpPr/>
          <p:nvPr/>
        </p:nvSpPr>
        <p:spPr>
          <a:xfrm>
            <a:off x="5194440" y="3068640"/>
            <a:ext cx="217440" cy="216000"/>
          </a:xfrm>
          <a:prstGeom prst="ellipse">
            <a:avLst/>
          </a:prstGeom>
          <a:noFill/>
          <a:ln w="57240">
            <a:solidFill>
              <a:srgbClr val="f68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 13"/>
          <p:cNvSpPr/>
          <p:nvPr/>
        </p:nvSpPr>
        <p:spPr>
          <a:xfrm>
            <a:off x="5194440" y="4029120"/>
            <a:ext cx="21744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椭圆 14"/>
          <p:cNvSpPr/>
          <p:nvPr/>
        </p:nvSpPr>
        <p:spPr>
          <a:xfrm>
            <a:off x="5194440" y="4989600"/>
            <a:ext cx="217440" cy="21564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椭圆 15"/>
          <p:cNvSpPr/>
          <p:nvPr/>
        </p:nvSpPr>
        <p:spPr>
          <a:xfrm>
            <a:off x="5194440" y="5950080"/>
            <a:ext cx="217440" cy="21564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4"/>
          <p:cNvSpPr/>
          <p:nvPr/>
        </p:nvSpPr>
        <p:spPr>
          <a:xfrm>
            <a:off x="5751360" y="270828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f68426"/>
                </a:solidFill>
                <a:latin typeface="微软雅黑"/>
                <a:ea typeface="微软雅黑"/>
              </a:rPr>
              <a:t>27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没有目标的人，生活在社会最底层，生活过得很不如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5751360" y="374004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模糊的人，生活在社会的中下层，并无突出成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5751360" y="4770360"/>
            <a:ext cx="56008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10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清晰但较短期目标的人，生活在社会的中上层，在各自所在的领域里取得了相当的成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4"/>
          <p:cNvSpPr/>
          <p:nvPr/>
        </p:nvSpPr>
        <p:spPr>
          <a:xfrm>
            <a:off x="5751360" y="580068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3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清晰且长期目标的人，成为各领域顶尖人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 rot="19741800">
            <a:off x="10325880" y="2120400"/>
            <a:ext cx="912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研究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299 -0.07863 L 3.6638E-006 1.72988E-006 E">
                                      <p:cBhvr>
                                        <p:cTn id="24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2299 0.22225 L 3.6638E-006 3.14524E-007 E">
                                      <p:cBhvr>
                                        <p:cTn id="2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20635 -0.41096 L 3.6638E-006 -2.36818E-006 E">
                                      <p:cBhvr>
                                        <p:cTn id="3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12361 -0.45629 L 3.6638E-006 -3.78353E-006 E">
                                      <p:cBhvr>
                                        <p:cTn id="39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3"/>
          <p:cNvSpPr/>
          <p:nvPr/>
        </p:nvSpPr>
        <p:spPr>
          <a:xfrm>
            <a:off x="5735520" y="476280"/>
            <a:ext cx="6456600" cy="2376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"/>
          <p:cNvSpPr/>
          <p:nvPr/>
        </p:nvSpPr>
        <p:spPr>
          <a:xfrm>
            <a:off x="5735520" y="5175360"/>
            <a:ext cx="631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你明确地知道自己想要的是什么，你才能得到什么；你不知道自己追求的是什么，你自然什么也得不到。目标界定了你所要追求的结果，是你努力奋斗的理由。没有目标或者失去目标，就没有了着力点，到头来终将一事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891480" y="714240"/>
            <a:ext cx="3209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仕宦当做执金吾，娶妻当得阴丽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一万年来谁著史，八千里外觅封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大丈夫当如此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彼可取而代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②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使我们感觉到生存的意义和价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4"/>
          <p:cNvSpPr/>
          <p:nvPr/>
        </p:nvSpPr>
        <p:spPr>
          <a:xfrm>
            <a:off x="1379520" y="5732640"/>
            <a:ext cx="9540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心中有了理想，你就会感到生存的重要意义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如果这个理想又是由一个个目标组成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那么，你就会觉得为目标付出努力是有价值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F:\360云盘\02-个人资料\！PPT图片及版面资源\05-PPT精选插图\01-生活类\01-生活综合\look.com.ua-73651.jpg"/>
          <p:cNvPicPr/>
          <p:nvPr/>
        </p:nvPicPr>
        <p:blipFill>
          <a:blip r:embed="rId1"/>
          <a:stretch/>
        </p:blipFill>
        <p:spPr>
          <a:xfrm>
            <a:off x="2825640" y="2133720"/>
            <a:ext cx="700884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"/>
          <p:cNvSpPr/>
          <p:nvPr/>
        </p:nvSpPr>
        <p:spPr>
          <a:xfrm>
            <a:off x="623880" y="1197000"/>
            <a:ext cx="648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父子俩在雪地上玩耍，朝着远处的树走去，比谁在雪地上踩踏出的脚印，连成的线最直。结果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"/>
          <p:cNvSpPr/>
          <p:nvPr/>
        </p:nvSpPr>
        <p:spPr>
          <a:xfrm>
            <a:off x="623880" y="0"/>
            <a:ext cx="719280" cy="907920"/>
          </a:xfrm>
          <a:prstGeom prst="rect">
            <a:avLst/>
          </a:prstGeom>
          <a:solidFill>
            <a:srgbClr val="ff9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693720" y="324000"/>
            <a:ext cx="60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是灯塔，目标指引了我们前进的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6"/>
          <p:cNvSpPr/>
          <p:nvPr/>
        </p:nvSpPr>
        <p:spPr>
          <a:xfrm>
            <a:off x="623880" y="2133720"/>
            <a:ext cx="64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何父亲走的直呢？因为父亲的眼睛一直盯着前方的目标，也就是那棵树；而儿子呢，走着走着，就把目标给忘了，等发现走偏了，只好重新矫正，反复多次，就形成了一些曲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</cp:lastModifiedBy>
  <dcterms:modified xsi:type="dcterms:W3CDTF">2016-07-29T09:47:25Z</dcterms:modified>
  <cp:revision>225</cp:revision>
  <dc:subject/>
  <dc:title>PowerPoint 演示文稿</dc:title>
</cp:coreProperties>
</file>