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36ADE-6D2E-4036-9348-B4775DE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5E76D-2E23-43F2-B73C-7FC8DC0F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0D2A1-25C3-480C-B05A-A5FA9D39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77BEA-C998-4920-858D-9D9B7F4A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80FFA-8075-41CA-90FD-C1D82529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E0A19-8E77-4905-82F6-6AD9285E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9CD1-F8CC-494E-9AC3-88B49745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819C5-D758-4D58-92D4-254BF598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80FD1-1A7C-48A5-8DCB-2BF4245F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FD56B-CF58-4AD6-A69B-11348EEE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29A44-E7E8-497C-8144-5630D79B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7BA09-5E3A-4BA5-9610-84B4F060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61C9F-41C3-46D0-A343-0912A299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F078C-70C5-436F-A131-E87488CB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ABFEE-0744-4091-9609-D4B63088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81466-7B84-4DE4-9FB3-3260754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7EABD-3A60-406C-966A-B5AC55C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A16A5-165D-4320-8EA2-7F9BFDE0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80F9B-1E62-40F4-BDA1-AFCA7D33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48B51-B9A6-4A04-A9AA-1B44A0E6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8FBFF-74B6-47C6-94A8-D113ABC2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749C4-A69E-4605-8D9A-F7BD3EC4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55B35-42B2-43F5-92AA-685BF8DF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3C97E-64E6-43A2-B767-AF0F9DA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4B6E2-13C5-41F0-A22E-060D722C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3ED6F-23E7-48FB-B229-6D424A9D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08A63-1B12-4D87-90D2-DD825F40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8183A-87AC-4D35-BEDB-9FBAADD4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CA984-4F7E-453B-9BD7-57FF2BF3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05EFF-C1DA-4FB1-997E-48446221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D1A-557B-4E92-BD08-8168C50C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8465C-76D9-4F7E-AF41-CA9B207D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179C2-1C62-470B-85AD-FB09C2A9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30EC9-F8FC-46BC-8DAD-75D2288D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085D2-BFAB-4306-A4ED-169957C8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6A6E2-0EE4-4990-A8BA-D6FC770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BCF3B-72D9-4783-9C2F-4B92F206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15956-7FC9-4C78-9EE6-A92067A0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D2BE0-8DC1-4A41-AC1E-87155226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98981-3D1C-4397-944D-290F97F3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53F38-3FBF-401C-839D-3742BA6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54A-5EE7-419F-B782-661A7049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5DA67-86C9-4BB9-8C1C-600AE746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6C165-F0E8-438F-AB7C-7C44D716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773CC-B80A-4C2F-AEC5-1C8091C6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AB88D-E808-4950-A204-447136D6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46886-A4ED-4F00-B805-55014491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B6E91-F388-475B-8029-90CD8C7A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DBFCF-AF37-47F6-A77B-B08B034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9E081-86EF-4C4E-A1BC-4AF81554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8385B-1DB3-4A5D-B374-01726C71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20685-D6F8-402C-9AC3-AD7A82D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077-EFB2-4E28-A187-6548D929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84A91-6093-4153-8C29-3153CD69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272F8-2A22-4A3E-9C61-D8DB4BE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B2903-A56F-4900-BE61-71227E4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1B66F-CFC4-402E-BFF8-4AE8414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96CC9-74CE-4899-BB5A-42CDAB6F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792D7-F3B9-427B-97B0-43C54BF7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A91A9-99C0-4F4D-A595-7353F9DA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7ED-EF2A-4C65-B18B-E430D782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3DC-30F6-4757-A19C-1B254309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3A1-1993-4A01-8260-B8DD6369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005-DC7B-4235-B405-2DA326F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777-A969-43C3-957C-67ED541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1C1-2C9C-49C4-942B-832B4FF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464-D9C5-4DE0-B0B4-3416FB87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7E8-DDB9-4C5F-A2B6-88371604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762-78C1-4010-91F0-F8FBA14D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FD0C-B475-4CDD-88E8-F1D5FC5F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ED12-5E08-48C4-ABCA-F647D5CC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57F7-52DB-4F46-AB9B-D8050774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63AF-DE03-4F69-A751-B3E23A51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148A-4C2B-469C-94CA-5682AD48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71AD-A00C-409B-BFEC-0C88DD52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2BEA-E923-4FCB-90A3-6BA0E380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B744-EE7A-405E-8727-566E2D59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1973-FF19-4F32-8909-7F51FA05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6A38-EAB1-4413-BAD6-319DCE7B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C7B-64DC-4266-AE46-04025309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A96F-6C3A-4FC0-8144-09FEEBB9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AD86-5138-44D0-B3CF-89892608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7B63-DC5F-4221-A2DB-EB824006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6AF38-AE95-47C7-AA2D-6FED17E2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CBC4-31F9-45FF-B9C6-B2D2C5F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57DD-0E40-414A-B9D4-855CCD50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2B7F-EC61-435D-A0C1-71AEB75D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B0C1-D3FF-45B9-9EF1-C0C0B78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1805-C063-4D0A-AB55-68629EA1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B8E4-4B0B-4FCA-9544-B922949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5B6F-4231-4E5E-B26B-889BFBC7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5036-046D-4ED4-BD48-E76B8397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CC8B-7909-4943-9F64-38524281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AFDB8-8ADA-4AB0-BBA4-8CB81337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FFC0-8EB5-4324-8288-8230F4EE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7ACCC-8628-48BB-AA79-A3F353F0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B401-BB96-4BBA-A8DB-73BE7168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602DE-306A-43DA-9C57-99AC8E37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A4AA-66F0-435C-B3F1-0BF90104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6E923-F3FA-4F6A-823E-B24B8110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F8E8-E34D-4F81-83A5-4AAA2BA0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D4B1-88BC-4D4B-9792-5B798E1E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B579-01EE-4360-A712-EF9D269D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D8F3-EBE3-4722-8EBA-E838DCAC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A2A9E-57DF-4C98-849C-9A37873E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0EB67-CA60-4BAA-98A1-9C5B089D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0A3C-537B-414A-863E-A820038F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D13A4-27AF-4970-9A8F-3E4CD70F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D9B07-C4EC-45C9-9EA8-726F32FE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16191-4ED5-4797-B60C-8102F60C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1130-EDF0-4A58-8977-7A587930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78590-050F-43EE-924B-81DDDF7D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50B03-0F2A-4326-B58F-25A3ADAE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24AA-19FE-46E9-9158-39334B6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9E6A8-F660-417C-9604-78F65189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3F80F-1305-4CF7-A41A-744D7519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C99B-7C4B-4337-B34B-8058F93B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40965-A623-4264-AA76-C7E88B45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EEE95-9AD6-4359-8BF7-431DC92C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E421F-1D61-4631-A21E-5F2CAD6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10B0-13A3-4DB7-AE00-78DF063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AECA3-5184-4D71-B712-A558CA0F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45288-D7B7-489C-BEDC-F800471A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4F817-7131-4EEB-A0E5-0BFC482A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5FF7E-7467-4126-BBFF-24B86997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B21A-CCEA-41BF-BD5C-047A56B5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F47DE-F01B-4277-91A1-86A7A333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C650-3C50-4495-A095-275AC511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096A2-1AE8-44A7-9672-133B432C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F4CAF-7660-4170-9BE5-D85EE475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DFDB5-7AF5-4FC6-B24B-BFB79DD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2272-86BD-4B59-B554-C08D954C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C01A-5966-478A-BE61-780A7450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977AC-032B-4410-AB1A-9FFF0DEC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AE5BE-958C-4DDA-9D0A-E3AE931D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D6DC0-90C9-49A0-BF76-45C1805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821ED-0BEF-4BEC-A74A-984FF2C6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B7A50-55F9-4425-95DA-DA9578BC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44342-A27E-4878-AA5F-EB3C400C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10811-D807-4D4A-999F-1D39BC5E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F96B3-6FCB-4EE6-B238-60947D42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E07A8-6AAD-41CB-B4BF-C054F377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18F9F-02F6-416F-8C61-5BA7D540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781E6-28A4-46F7-B7BC-F7584317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4DA0-DEE3-4A89-94AB-FD9354375E0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3E77-59DA-496D-AFD4-92F0CF3EB3C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A7B0-BF32-4B94-A3AB-7B25500694B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B34A-4E44-41D1-9443-A9DD0B9313C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B7C2-455D-4266-BD1F-CFA60E72EC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ED86-30E0-48B1-8C75-92A05EAF0A1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B627-80E6-4F15-BFE3-F0B8D9C214B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F8E1-CB65-4E25-9E18-68F4348FD8D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B2BD-CBEC-4AC6-AFDD-089EC2E0BEB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602E-EEF8-4473-A36D-40C46F088B9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C68A-C4E1-4922-8B07-CA769E0D155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0F37-7258-43A3-A61C-FB93AB2732B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5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367240" y="488628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：清风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370480" y="5200560"/>
            <a:ext cx="18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导师：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教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79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691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4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695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699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03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07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11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15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51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5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66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4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795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5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02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Text Box 12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4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7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08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18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1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12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30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41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52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63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3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874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885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5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896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6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07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18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8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30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31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7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58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Text Box 7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0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61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 Box 10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3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4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65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Text Box 14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7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68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Text Box 17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0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9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15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 Box 19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3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45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2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83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5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文本框 1"/>
          <p:cNvSpPr/>
          <p:nvPr/>
        </p:nvSpPr>
        <p:spPr>
          <a:xfrm>
            <a:off x="4603680" y="252108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矩形 1"/>
          <p:cNvSpPr/>
          <p:nvPr/>
        </p:nvSpPr>
        <p:spPr>
          <a:xfrm>
            <a:off x="1539720" y="2530440"/>
            <a:ext cx="983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ttps://12sc.taobao.com/ 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61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3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573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574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8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585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16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12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2-14T05:59:17Z</dcterms:modified>
  <cp:revision>39</cp:revision>
  <dc:subject>12sc.taobao.com</dc:subject>
  <dc:title>PowerPoint 演示文稿</dc:title>
</cp:coreProperties>
</file>