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78B-2434-4E96-A0B0-7D994607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EED-A762-457B-91EF-A756F5C7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CEE-0CC2-411A-AE8C-A9D686C2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861-8812-4490-B2CB-5AA5EE69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536-8E3B-40AD-B8F8-F438C425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DCB-BD54-4C71-BB2F-0EE53E5E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DB6-BCC5-43F6-99DC-157EBB96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4A7-726A-4FD3-AF88-518E90F7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08C-E914-4DD4-B324-49A59D26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F1F-A154-4105-864D-2C7E46FB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60E-53F7-40E4-9DE1-129F3DA4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B03-02B3-495A-9DF0-2B01963D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BB407-5909-424F-8CB4-D1B6AE073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7.- Para honrar nuestra palabra y renovar la vida pública: un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o modelo de gobierno, con principios, racionalidad, eficacia, autonomía y digni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8.- Para darle poder a los ciudadanos: una política que aliente l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mocracia participativ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9.- Para edificar un Jalisco sustentable y con visión de futuro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ambient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transversal, responsable y comprometid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0.- Para sacudir la vida pública y limpiar a Jalisco: el compromiso indeclin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combatir la corrupción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la impunidad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1" descr="12.80X7.jpg"/>
          <p:cNvPicPr/>
          <p:nvPr/>
        </p:nvPicPr>
        <p:blipFill>
          <a:blip r:embed="rId2"/>
          <a:stretch/>
        </p:blipFill>
        <p:spPr>
          <a:xfrm>
            <a:off x="1447920" y="1447920"/>
            <a:ext cx="6769080" cy="38098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2" descr="8X12 AYUDANOS.jpg"/>
          <p:cNvPicPr/>
          <p:nvPr/>
        </p:nvPicPr>
        <p:blipFill>
          <a:blip r:embed="rId2"/>
          <a:stretch/>
        </p:blipFill>
        <p:spPr>
          <a:xfrm>
            <a:off x="2514600" y="762120"/>
            <a:ext cx="3506760" cy="52560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3" descr="DIPTICO SEMIFINAL-1.jpg"/>
          <p:cNvPicPr/>
          <p:nvPr/>
        </p:nvPicPr>
        <p:blipFill>
          <a:blip r:embed="rId2"/>
          <a:stretch/>
        </p:blipFill>
        <p:spPr>
          <a:xfrm>
            <a:off x="1447920" y="685800"/>
            <a:ext cx="6296040" cy="4832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DIPTICO SEMIFINAL-2.jpg"/>
          <p:cNvPicPr/>
          <p:nvPr/>
        </p:nvPicPr>
        <p:blipFill>
          <a:blip r:embed="rId2"/>
          <a:stretch/>
        </p:blipFill>
        <p:spPr>
          <a:xfrm>
            <a:off x="1447920" y="609480"/>
            <a:ext cx="6296040" cy="48326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3" descr="VOLANTE SEMIFINAL-1.jpg"/>
          <p:cNvPicPr/>
          <p:nvPr/>
        </p:nvPicPr>
        <p:blipFill>
          <a:blip r:embed="rId2"/>
          <a:stretch/>
        </p:blipFill>
        <p:spPr>
          <a:xfrm>
            <a:off x="1447920" y="990720"/>
            <a:ext cx="670536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VOLANTE SEMIFINAL-2.jpg"/>
          <p:cNvPicPr/>
          <p:nvPr/>
        </p:nvPicPr>
        <p:blipFill>
          <a:blip r:embed="rId2"/>
          <a:stretch/>
        </p:blipFill>
        <p:spPr>
          <a:xfrm>
            <a:off x="1523880" y="990720"/>
            <a:ext cx="670572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CuadroTexto"/>
          <p:cNvSpPr/>
          <p:nvPr/>
        </p:nvSpPr>
        <p:spPr>
          <a:xfrm>
            <a:off x="1571760" y="1714680"/>
            <a:ext cx="73580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Este proyecto tiene una idea rectora: combatir la pobreza, la exclusión, la desigualdad y la falta de oportunidades, que son el caldo de cultivo de la inseguridad y la violenc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2 CuadroTexto"/>
          <p:cNvSpPr/>
          <p:nvPr/>
        </p:nvSpPr>
        <p:spPr>
          <a:xfrm>
            <a:off x="1571760" y="1179360"/>
            <a:ext cx="7358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700,000 personas (36.9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o pobreza ext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500,000 personas (35.2 %) no tienen acceso 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ngún servicio de salu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asi el 50 % de la gente (1'700,000 personas) gan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enos de 3 salarios mínimos al me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(menos de $ 5,400) por lo que ni siquiera les alcanza para la canasta bá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samos de una tasa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esempleo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de 1.97 % en 2000 a 5.25 en 2011. Es decir, de 56,400 personas a más de 180,000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240,000 jóvenes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 tienen oportunidades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para estudiar o trabaj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CuadroTexto"/>
          <p:cNvSpPr/>
          <p:nvPr/>
        </p:nvSpPr>
        <p:spPr>
          <a:xfrm>
            <a:off x="1571760" y="194616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3’000,000 de personas (40.4 %) vive en condiciones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vulnerabilida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(no tienen acceso a servicios y satisfactores bás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1’627,000  personas (22.1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 ali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529,000 personas ocupadas en el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ector infor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el 60 % de los jóvenes son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rechazados de la Ud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CuadroTexto"/>
          <p:cNvSpPr/>
          <p:nvPr/>
        </p:nvSpPr>
        <p:spPr>
          <a:xfrm>
            <a:off x="1643040" y="2857680"/>
            <a:ext cx="7358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pregunta es cómo hacer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3080" y="267660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10 Principios para Cambiar la Historia de Jal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2 CuadroTexto"/>
          <p:cNvSpPr/>
          <p:nvPr/>
        </p:nvSpPr>
        <p:spPr>
          <a:xfrm>
            <a:off x="1571760" y="78588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.- Para transformar la realidad de Jalisco: una nuev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educativa, libre de poderes fácticos, con valore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compromiso socia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2.- Para reconstruir el tejido social: una verdader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bate a la desigual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, la marginación y la falta de oportunidad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CuadroTexto"/>
          <p:cNvSpPr/>
          <p:nvPr/>
        </p:nvSpPr>
        <p:spPr>
          <a:xfrm>
            <a:off x="1571760" y="1108080"/>
            <a:ext cx="73580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3.- Para recuperar la tranquilidad de la gente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a visión de seguridad ciudadan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4.- Para construir una sociedad justa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petitividad, de generación de empleo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desarrollo económico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CuadroTexto"/>
          <p:cNvSpPr/>
          <p:nvPr/>
        </p:nvSpPr>
        <p:spPr>
          <a:xfrm>
            <a:off x="1571760" y="785880"/>
            <a:ext cx="735804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5.- Para recuperar a las regiones de Jalisco y rescatar al campo: una visión respons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sarrollo agropecuario y competitividad region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6.- Para construir un entorno digno y una mejor calidad de vida: un programa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infraestructura estratégica 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que sea motor del desarrol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21:42:39Z</dcterms:created>
  <dc:creator>Euzen</dc:creator>
  <dc:description/>
  <dc:language>en-US</dc:language>
  <cp:lastModifiedBy>微软用户</cp:lastModifiedBy>
  <dcterms:modified xsi:type="dcterms:W3CDTF">2014-09-06T14:35:53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