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EE8-710C-4ECB-9498-35922EF4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69E-0EA9-487E-87AE-B487664B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535-23AE-4481-B300-C0ED5408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168-54F2-46E2-B438-85D14C94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758-948E-4980-A38F-FE044B62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286-32FF-4C38-AB8F-801CAE06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B14-ADAD-4642-B417-73ACF5FD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D04-CC74-4B27-900C-854D737E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AAA-EAF0-480C-B236-B43EFDAD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B8E-0D60-4D7C-BE20-60CB02B8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CBC-6E9E-4765-9BAD-BFFA384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A81-4D38-4B07-BD05-51EDFA80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AD77A-69E5-4325-879D-D171F583F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7.- Para honrar nuestra palabra y renovar la vida pública: un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o modelo de gobierno, con principios, racionalidad, eficacia, autonomía y digni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8.- Para darle poder a los ciudadanos: una política que aliente l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mocracia participativ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9.- Para edificar un Jalisco sustentable y con visión de futuro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ambient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transversal, responsable y comprometid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0.- Para sacudir la vida pública y limpiar a Jalisco: el compromiso indeclin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combatir la corrupción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la impunidad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1" descr="12.80X7.jpg"/>
          <p:cNvPicPr/>
          <p:nvPr/>
        </p:nvPicPr>
        <p:blipFill>
          <a:blip r:embed="rId2"/>
          <a:stretch/>
        </p:blipFill>
        <p:spPr>
          <a:xfrm>
            <a:off x="1447920" y="1447920"/>
            <a:ext cx="6769080" cy="38098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2" descr="8X12 AYUDANOS.jpg"/>
          <p:cNvPicPr/>
          <p:nvPr/>
        </p:nvPicPr>
        <p:blipFill>
          <a:blip r:embed="rId2"/>
          <a:stretch/>
        </p:blipFill>
        <p:spPr>
          <a:xfrm>
            <a:off x="2514600" y="762120"/>
            <a:ext cx="3506760" cy="52560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3" descr="DIPTICO SEMIFINAL-1.jpg"/>
          <p:cNvPicPr/>
          <p:nvPr/>
        </p:nvPicPr>
        <p:blipFill>
          <a:blip r:embed="rId2"/>
          <a:stretch/>
        </p:blipFill>
        <p:spPr>
          <a:xfrm>
            <a:off x="1447920" y="685800"/>
            <a:ext cx="6296040" cy="4832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2" descr="DIPTICO SEMIFINAL-2.jpg"/>
          <p:cNvPicPr/>
          <p:nvPr/>
        </p:nvPicPr>
        <p:blipFill>
          <a:blip r:embed="rId2"/>
          <a:stretch/>
        </p:blipFill>
        <p:spPr>
          <a:xfrm>
            <a:off x="1447920" y="609480"/>
            <a:ext cx="6296040" cy="48326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3" descr="VOLANTE SEMIFINAL-1.jpg"/>
          <p:cNvPicPr/>
          <p:nvPr/>
        </p:nvPicPr>
        <p:blipFill>
          <a:blip r:embed="rId2"/>
          <a:stretch/>
        </p:blipFill>
        <p:spPr>
          <a:xfrm>
            <a:off x="1447920" y="990720"/>
            <a:ext cx="670536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2" descr="VOLANTE SEMIFINAL-2.jpg"/>
          <p:cNvPicPr/>
          <p:nvPr/>
        </p:nvPicPr>
        <p:blipFill>
          <a:blip r:embed="rId2"/>
          <a:stretch/>
        </p:blipFill>
        <p:spPr>
          <a:xfrm>
            <a:off x="1523880" y="990720"/>
            <a:ext cx="670572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CuadroTexto"/>
          <p:cNvSpPr/>
          <p:nvPr/>
        </p:nvSpPr>
        <p:spPr>
          <a:xfrm>
            <a:off x="1571760" y="1714680"/>
            <a:ext cx="73580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Este proyecto tiene una idea rectora: combatir la pobreza, la exclusión, la desigualdad y la falta de oportunidades, que son el caldo de cultivo de la inseguridad y la violenc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2 CuadroTexto"/>
          <p:cNvSpPr/>
          <p:nvPr/>
        </p:nvSpPr>
        <p:spPr>
          <a:xfrm>
            <a:off x="1571760" y="1179360"/>
            <a:ext cx="7358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700,000 personas (36.9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o pobreza ext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500,000 personas (35.2 %) no tienen acceso 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ingún servicio de salu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asi el 50 % de la gente (1'700,000 personas) gan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menos de 3 salarios mínimos al me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(menos de $ 5,400) por lo que ni siquiera les alcanza para la canasta bá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asamos de una tasa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esempleo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de 1.97 % en 2000 a 5.25 en 2011. Es decir, de 56,400 personas a más de 180,000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240,000 jóvenes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o tienen oportunidades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para estudiar o trabaj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2 CuadroTexto"/>
          <p:cNvSpPr/>
          <p:nvPr/>
        </p:nvSpPr>
        <p:spPr>
          <a:xfrm>
            <a:off x="1571760" y="194616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3’000,000 de personas (40.4 %) vive en condiciones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vulnerabilida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(no tienen acceso a servicios y satisfactores bás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1’627,000  personas (22.1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 ali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529,000 personas ocupadas en el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sector infor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el 60 % de los jóvenes son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rechazados de la Ud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2 CuadroTexto"/>
          <p:cNvSpPr/>
          <p:nvPr/>
        </p:nvSpPr>
        <p:spPr>
          <a:xfrm>
            <a:off x="1643040" y="2857680"/>
            <a:ext cx="7358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La pregunta es cómo hacer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3080" y="2676600"/>
            <a:ext cx="62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10 Principios para Cambiar la Historia de Jali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2 CuadroTexto"/>
          <p:cNvSpPr/>
          <p:nvPr/>
        </p:nvSpPr>
        <p:spPr>
          <a:xfrm>
            <a:off x="1571760" y="78588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.- Para transformar la realidad de Jalisco: una nuev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educativa, libre de poderes fácticos, con valore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compromiso socia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2.- Para reconstruir el tejido social: una verdader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bate a la desigual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, la marginación y la falta de oportunidades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CuadroTexto"/>
          <p:cNvSpPr/>
          <p:nvPr/>
        </p:nvSpPr>
        <p:spPr>
          <a:xfrm>
            <a:off x="1571760" y="1108080"/>
            <a:ext cx="73580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3.- Para recuperar la tranquilidad de la gente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a visión de seguridad ciudadan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4.- Para construir una sociedad justa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petitividad, de generación de empleo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desarrollo económico.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CuadroTexto"/>
          <p:cNvSpPr/>
          <p:nvPr/>
        </p:nvSpPr>
        <p:spPr>
          <a:xfrm>
            <a:off x="1571760" y="785880"/>
            <a:ext cx="735804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5.- Para recuperar a las regiones de Jalisco y rescatar al campo: una visión respons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sarrollo agropecuario y competitividad region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6.- Para construir un entorno digno y una mejor calidad de vida: un programa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infraestructura estratégica 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que sea motor del desarrol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21:42:39Z</dcterms:created>
  <dc:creator>Euzen</dc:creator>
  <dc:description/>
  <dc:language>en-US</dc:language>
  <cp:lastModifiedBy>微软用户</cp:lastModifiedBy>
  <dcterms:modified xsi:type="dcterms:W3CDTF">2014-09-06T14:35:53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