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2FE-FA17-492D-9D3F-ADC96708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277-F982-47FA-BE02-1B7B5DE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A93-FBDF-4D92-9A33-6C20B9AA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6E2-3A97-432D-B290-FE4CC0A0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6C6B-CAD2-4823-9AF2-9453BED2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CB16-0F4D-497D-975E-B51E1E5B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314A-5279-4678-9B4C-61919B69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F048-554C-4101-BC56-130BC0EF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CC58-541E-4308-A352-02D67947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C97E-5BEA-4E5C-8B99-ADC1B7D9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B978-7C0D-4518-825E-F68C27F5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5E8-C659-4686-9B8C-4B0FE47A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CAB1-75CD-4537-95A1-49BD267A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72BD-6D2C-471F-9FD8-2135D452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E8E3-2287-417B-BA85-465D833A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A025-CCBC-4A2B-BDA6-856B73F2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6B14-AFA0-46C6-9CAA-C44FDBA8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9DF93-96BF-4B06-A03A-F627DD06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CC4B-8D91-455F-8ACB-B3ED2117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A1DC-2053-453E-B703-BD6970C2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051C-8EB6-4D7E-80B9-68CAA115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27962-5C9C-4C11-BE3D-1F891C77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011-C06C-414E-B5A2-B12CAD93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29B1-FAB4-4698-9756-889258FF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52B5-5A67-48C7-BC3D-B80A743A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6D82-93AB-4428-B2F5-06F56C8F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52A9-9298-4C51-882E-667268E6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8F28-FF42-44DC-8C52-47510149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60F2-F355-4B11-8D1B-064E068A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1A41-B577-44C7-B686-4BB0107C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271-A385-44B8-B751-07026488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E7D-99AE-4F2E-AE59-65A7AF67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3FE-5A9D-4242-BFED-AE6C866C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692-2329-46FD-A0B1-37A1536E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8B6-87BD-4628-B38E-66B07AE0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676-7AFE-4AF8-A6F0-5E2D6E5D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CC31-CB54-461D-9B71-5CD8EE6B8A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2E63-2912-4DB0-A6A0-508A22A1CF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Administrator\桌面\莲 2(1).png"/>
          <p:cNvPicPr/>
          <p:nvPr/>
        </p:nvPicPr>
        <p:blipFill>
          <a:blip r:embed="rId2"/>
          <a:stretch/>
        </p:blipFill>
        <p:spPr>
          <a:xfrm>
            <a:off x="549360" y="-1440"/>
            <a:ext cx="118260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Documents and Settings\Administrator\桌面\33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F023-A238-408B-BEB6-1DD26C634D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9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3095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6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7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1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2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6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7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8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1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2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3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"/>
                            </p:stCondLst>
                            <p:childTnLst>
                              <p:par>
                                <p:cTn id="7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2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3:35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