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88C-C344-4E3A-A8A9-9AAB5273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BFD-9CF1-4BAE-91D1-BB7E4D7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C42-A80B-4A09-957E-0844F205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D74-4947-4488-856A-51801AA9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461B-844B-4DFE-A7A9-58276CE2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BEBB-3C87-4E63-ADAA-31BFADA6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978-BB9B-49A0-85B7-1C8E672E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01E8-F1FA-4BC2-94FD-B20890DB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5F65-7A90-4D04-AB65-2CCD51D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1E6D-307D-4566-B64A-2A3AA8C8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9A1D-8EB0-44F2-8F3B-15E868A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AFD-CC4C-498E-9F1D-7FF8E253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06E-E489-414C-B4F9-533CBBA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2CB-7205-462A-BCAF-39323E2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4CF3-D0B2-4761-80F3-640AAC73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578-D4EB-4004-8ABE-0EEA9813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88A4-3425-40F4-BE06-C97F1E5A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E02-D7B4-4FFC-B4FE-57DEA4CA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387-F5C6-4A61-9166-D563AEB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367-CA8F-470B-9FDB-3CF3C13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9B1-4C34-4E52-A476-A40702A9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EA2-B726-48C1-BC16-AF41922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F05-A7C8-4253-8214-1934D61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BEB-AAF0-4A95-91A5-B8B0B9F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1397-F246-43BF-8664-B66DB6365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C96-40DD-4829-98A1-DF0831FC7801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DBD-588B-4DC4-A38B-6127EA9A0384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09A9-0B6C-4617-A74C-39765EB45BF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5712-6C4B-4314-9817-F8B760D1170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水墨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B8A6-B569-4649-828D-CA088B97488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03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26E-8A39-4B3A-BE65-15E440525A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919-810E-4498-8F6E-FDB60188AD2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谢谢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>Administrator</dc:creator>
  <dc:description/>
  <dc:language>en-US</dc:language>
  <cp:lastModifiedBy>Administrator</cp:lastModifiedBy>
  <dcterms:modified xsi:type="dcterms:W3CDTF">2016-04-21T12:37:30Z</dcterms:modified>
  <cp:revision>59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