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CFDD-CBB7-4F62-A0DF-5DC32D76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555C-3ED8-4629-A8C8-3AA6F380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B90C-3A7D-434D-9752-193747A2D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41C8-33BA-4F5D-B1CE-3B8FEAC6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E141-D32F-4DC0-AE4F-F3B20FC1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DBD4-AB9A-4868-8A03-D5348D21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717D-59B0-49DE-B1AD-4FEC1CDE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C6BF-AB3E-48E1-86CF-76C71207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434B-9036-48E5-BA12-90C7A18E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6535-FF4F-46AF-95E2-318828D9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CB8F-2E67-46A0-9174-661C1755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7A58-B3F2-485C-8E6A-D178CB39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E003-BDCA-47F8-A50C-6D3A09E6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8B98-5378-4B6D-883E-B42BCBB2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69FB-914D-4711-945D-A2130680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3E66-8C08-4C82-BED6-C6231D3F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AB91-9BC7-4B45-A8CC-8E3620AC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E61B-7F7E-46EB-93F8-86E532D4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AF05-3786-4050-9CD1-CF957399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D520-09C6-44BB-9EEA-BF31BD44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D64A-5AD5-429A-84C3-E48FC398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2FC8-3410-4F9F-B5A5-1A950057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E594-226F-4557-A471-ED762172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1B12-2937-4988-8B7A-2C3EE546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2656-4E61-4927-8704-32EA1156CA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B464-7739-46A3-BAAE-2CB2C8696F68}" type="slidenum"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图片2"/>
          <p:cNvPicPr/>
          <p:nvPr/>
        </p:nvPicPr>
        <p:blipFill>
          <a:blip r:embed="rId2"/>
          <a:stretch/>
        </p:blipFill>
        <p:spPr>
          <a:xfrm>
            <a:off x="-14400" y="0"/>
            <a:ext cx="915840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507A-0A6E-4CC8-9AB6-5523E8F6661F}" type="slidenum"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DC22-E551-4C66-ABE9-319849CEADD2}" type="slidenum"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510B-4881-42CB-B60D-9659BB0A9C9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001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1857240" y="3645000"/>
            <a:ext cx="5905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汉仪雪君体简"/>
                <a:ea typeface="汉仪雪君体简"/>
              </a:rPr>
              <a:t>水墨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B5A8-A0AB-442C-9CE8-9D8D70B7B86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51040" y="1698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0336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AA35-4F6D-4D89-A762-234FE6D73A8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506F-D462-4582-9042-03E79BED43A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001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857240" y="3645000"/>
            <a:ext cx="5905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汉仪雪君体简"/>
                <a:ea typeface="汉仪雪君体简"/>
              </a:rPr>
              <a:t>谢谢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5:56:23Z</dcterms:created>
  <dc:creator>Administrator</dc:creator>
  <dc:description/>
  <dc:language>en-US</dc:language>
  <cp:lastModifiedBy>Administrator</cp:lastModifiedBy>
  <dcterms:modified xsi:type="dcterms:W3CDTF">2016-04-21T12:37:30Z</dcterms:modified>
  <cp:revision>594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