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F78-210B-4AC9-B599-7DA5EE8F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A17-AF34-4ED2-BAE3-BCF07391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BF6-92B9-448D-A11D-3D019362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D86-963C-4E10-A43D-0577BE04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A41-2B51-485B-A8CF-BAD05C78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90E-6CEA-4CF9-A5D2-7D62D71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B78-66F2-401D-9B18-29034A00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C26-1E74-4A45-89FF-43990BEA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026-45E9-4AEF-B301-EBF04E35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479-47F9-42E7-ABD1-840AF8FA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EC8-5811-440D-9263-CD731F54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E50-C09C-4F50-BB49-B2C8901E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9360" y="5864400"/>
            <a:ext cx="11410920" cy="1004760"/>
          </a:xfrm>
          <a:custGeom>
            <a:avLst/>
            <a:gdLst>
              <a:gd name="textAreaLeft" fmla="*/ 0 w 11410920"/>
              <a:gd name="textAreaRight" fmla="*/ 11411280 w 114109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9360"/>
            <a:ext cx="1382400" cy="801000"/>
            <a:chOff x="139680" y="-9360"/>
            <a:chExt cx="1382400" cy="801000"/>
          </a:xfrm>
        </p:grpSpPr>
        <p:sp>
          <p:nvSpPr>
            <p:cNvPr id="28" name="Freeform 34"/>
            <p:cNvSpPr/>
            <p:nvPr/>
          </p:nvSpPr>
          <p:spPr>
            <a:xfrm>
              <a:off x="139680" y="-9360"/>
              <a:ext cx="366840" cy="242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360"/>
              <a:ext cx="1180800" cy="791280"/>
            </a:xfrm>
            <a:custGeom>
              <a:avLst/>
              <a:gdLst>
                <a:gd name="textAreaLeft" fmla="*/ 0 w 1180800"/>
                <a:gd name="textAreaRight" fmla="*/ 1180800 w 118080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360"/>
              <a:ext cx="1085760" cy="731520"/>
            </a:xfrm>
            <a:custGeom>
              <a:avLst/>
              <a:gdLst>
                <a:gd name="textAreaLeft" fmla="*/ 0 w 1085760"/>
                <a:gd name="textAreaRight" fmla="*/ 1085760 w 108576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32400"/>
              <a:ext cx="697680" cy="31392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36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360"/>
              <a:ext cx="12600" cy="38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8880"/>
              <a:ext cx="75600" cy="293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8040"/>
              <a:ext cx="194760" cy="47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886680"/>
                <a:gd name="textAreaBottom" fmla="*/ 886680 h 88668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>
                <a:gd name="textAreaLeft" fmla="*/ -360 w 201960"/>
                <a:gd name="textAreaRight" fmla="*/ 201960 w 2019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>
                <a:gd name="textAreaLeft" fmla="*/ -360 w 1028520"/>
                <a:gd name="textAreaRight" fmla="*/ 1028520 w 10285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>
                <a:gd name="textAreaLeft" fmla="*/ -360 w 870120"/>
                <a:gd name="textAreaRight" fmla="*/ 870120 w 8701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>
                <a:gd name="textAreaLeft" fmla="*/ -360 w 283320"/>
                <a:gd name="textAreaRight" fmla="*/ 283320 w 28332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>
                <a:gd name="textAreaLeft" fmla="*/ -360 w 171000"/>
                <a:gd name="textAreaRight" fmla="*/ 171000 w 171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>
                <a:gd name="textAreaLeft" fmla="*/ -360 w 217800"/>
                <a:gd name="textAreaRight" fmla="*/ 217800 w 217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7B2A-ABE7-485B-8B6E-8000A5DA3097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2657-0F1D-4DBA-A872-BA206F64B7DA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>
                <a:gd name="textAreaLeft" fmla="*/ 0 w 4687920"/>
                <a:gd name="textAreaRight" fmla="*/ 4688280 w 468792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86040"/>
                <a:gd name="textAreaBottom" fmla="*/ 86040 h 8604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>
                <a:gd name="textAreaLeft" fmla="*/ 0 w 932760"/>
                <a:gd name="textAreaRight" fmla="*/ 933120 w 93276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>
              <a:gd name="textAreaLeft" fmla="*/ 0 w 8902440"/>
              <a:gd name="textAreaRight" fmla="*/ 8902800 w 8902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99760"/>
                <a:gd name="textAreaBottom" fmla="*/ 599760 h 599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19080" y="3006720"/>
            <a:ext cx="12184200" cy="385128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851280"/>
              <a:gd name="textAreaBottom" fmla="*/ 3851640 h 3851280"/>
            </a:gdLst>
            <a:ahLst/>
            <a:rect l="textAreaLeft" t="textAreaTop" r="textAreaRight" b="textAreaBottom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19080" y="3324240"/>
            <a:ext cx="12184200" cy="338436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lnTo>
                  <a:pt x="0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19080" y="4349880"/>
            <a:ext cx="1693800" cy="2519280"/>
            <a:chOff x="-19080" y="4349880"/>
            <a:chExt cx="169380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6920" y="4440600"/>
              <a:ext cx="1612440" cy="1820880"/>
            </a:xfrm>
            <a:custGeom>
              <a:avLst/>
              <a:gdLst>
                <a:gd name="textAreaLeft" fmla="*/ 0 w 1612440"/>
                <a:gd name="textAreaRight" fmla="*/ 1612800 w 161244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9000" y="5016600"/>
              <a:ext cx="1316880" cy="185256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19080" y="4349880"/>
              <a:ext cx="1396440" cy="450720"/>
            </a:xfrm>
            <a:custGeom>
              <a:avLst/>
              <a:gdLst>
                <a:gd name="textAreaLeft" fmla="*/ 0 w 1396440"/>
                <a:gd name="textAreaRight" fmla="*/ 1396800 w 139644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6360" y="4723200"/>
              <a:ext cx="918360" cy="15638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10080"/>
                <a:gd name="textAreaBottom" fmla="*/ 1810440 h 18100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>
                <a:gd name="textAreaLeft" fmla="*/ 0 w 1163880"/>
                <a:gd name="textAreaRight" fmla="*/ 1164240 w 11638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297440"/>
                <a:gd name="textAreaBottom" fmla="*/ 1297800 h 12974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040"/>
                <a:gd name="textAreaBottom" fmla="*/ 617040 h 61704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>
              <a:gd name="textAreaLeft" fmla="*/ 0 w 349200"/>
              <a:gd name="textAreaRight" fmla="*/ 349560 w 349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3760" y="3533760"/>
            <a:ext cx="12134880" cy="3030480"/>
          </a:xfrm>
          <a:custGeom>
            <a:avLst/>
            <a:gdLst>
              <a:gd name="textAreaLeft" fmla="*/ 0 w 12134880"/>
              <a:gd name="textAreaRight" fmla="*/ 12135240 w 12134880"/>
              <a:gd name="textAreaTop" fmla="*/ 0 h 3030480"/>
              <a:gd name="textAreaBottom" fmla="*/ 3030840 h 3030480"/>
            </a:gdLst>
            <a:ahLst/>
            <a:rect l="textAreaLeft" t="textAreaTop" r="textAreaRight" b="textAreaBottom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1147320"/>
                <a:gd name="textAreaBottom" fmla="*/ 1147680 h 114732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>
                <a:gd name="textAreaLeft" fmla="*/ 0 w 1225080"/>
                <a:gd name="textAreaRight" fmla="*/ 1225440 w 12250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9160"/>
                <a:gd name="textAreaBottom" fmla="*/ 659160 h 65916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>
                <a:gd name="textAreaLeft" fmla="*/ 0 w 1495800"/>
                <a:gd name="textAreaRight" fmla="*/ 1496160 w 149580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>
                <a:gd name="textAreaLeft" fmla="*/ 0 w 1425960"/>
                <a:gd name="textAreaRight" fmla="*/ 1425960 w 1425960"/>
                <a:gd name="textAreaTop" fmla="*/ 0 h 1553400"/>
                <a:gd name="textAreaBottom" fmla="*/ 1553760 h 155340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>
                <a:gd name="textAreaLeft" fmla="*/ 0 w 3018960"/>
                <a:gd name="textAreaRight" fmla="*/ 3019320 w 3018960"/>
                <a:gd name="textAreaTop" fmla="*/ 0 h 1998000"/>
                <a:gd name="textAreaBottom" fmla="*/ 1998360 h 199800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>
                <a:gd name="textAreaLeft" fmla="*/ 0 w 3007800"/>
                <a:gd name="textAreaRight" fmla="*/ 3008160 w 3007800"/>
                <a:gd name="textAreaTop" fmla="*/ 0 h 1473840"/>
                <a:gd name="textAreaBottom" fmla="*/ 1474200 h 147384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>
                <a:gd name="textAreaLeft" fmla="*/ 0 w 1683720"/>
                <a:gd name="textAreaRight" fmla="*/ 1684080 w 168372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1207080"/>
                <a:gd name="textAreaBottom" fmla="*/ 1207440 h 120708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879840"/>
                <a:gd name="textAreaBottom" fmla="*/ 880200 h 8798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>
                <a:gd name="textAreaLeft" fmla="*/ -360 w 484200"/>
                <a:gd name="textAreaRight" fmla="*/ 484200 w 48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>
                <a:gd name="textAreaLeft" fmla="*/ 360 w 409680"/>
                <a:gd name="textAreaRight" fmla="*/ 410400 w 4096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67680" y="2736720"/>
            <a:ext cx="906480" cy="2415960"/>
            <a:chOff x="906768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1164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49896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3108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49896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3108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3108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49896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3108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49896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49896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3108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1600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2780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3220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2780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3220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3220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2780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3220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2780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2780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3220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6768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4616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19332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7296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3704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38340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5468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7152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4280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19620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0376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5372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7584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5856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6072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4292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38628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4292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3284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6720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38916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39996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7908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5624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6488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7136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7244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7152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7152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5100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5628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6060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4296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4944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4944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5952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78696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4780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7688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59544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78264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0012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0588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7688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58644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7688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7400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1164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1344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0480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3000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7400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7688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7688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4672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78264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78696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1920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2352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6068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a</cp:lastModifiedBy>
  <dcterms:modified xsi:type="dcterms:W3CDTF">2014-09-10T02:32:48Z</dcterms:modified>
  <cp:revision>5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_TemplateID">
    <vt:lpwstr>TC028952709991</vt:lpwstr>
  </property>
</Properties>
</file>