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281-344A-4DD9-984C-B428F494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C80-7A28-4D1E-9AC4-E20E3A8F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386-10FE-42FF-8B44-49EF958C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01C-85E7-4C65-80ED-0ADF312E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2424-6BB4-4ED9-976B-7909AFC7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B172-C5E8-40CC-8807-371CDA7C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FCFA-A049-4276-BE97-6B4E171F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0469-FE7E-4BED-8B46-39466CA7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EC5E-D350-494B-8CA4-9E5DEB5E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EE23-471A-47B2-8CED-5EC2CA17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4F56-161C-42D0-9A9E-2E9E9FFC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610-352E-4054-8408-1638C556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751F-C65F-4E8B-BD88-D29D0891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409A-513B-4F2B-A933-A7CEECE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E1C3-3EAA-4ACF-A019-D62D85E9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A4ED-AC80-43F2-B8CE-84362468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4C04-A899-4D5D-B7BC-17C6488D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13D-1A5B-40E6-8441-8A132E88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35F-F76D-4508-98B7-D2167F63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95F-FAF2-42D0-AB9D-A3FCC6BF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CCA-5054-4AFA-B7FD-27A771C9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11A-27D1-453B-B785-9EEA5BD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741-34EC-416D-95D7-4FC52571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0DB-1CB0-45BE-B683-E75810A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3621-6F68-4097-BE9F-2C9BB7B73BD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5E21-D243-41BB-B643-8AFFDDF967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人物"/>
          <p:cNvPicPr/>
          <p:nvPr/>
        </p:nvPicPr>
        <p:blipFill>
          <a:blip r:embed="rId2"/>
          <a:srcRect l="49639" t="0" r="0" b="0"/>
          <a:stretch/>
        </p:blipFill>
        <p:spPr>
          <a:xfrm>
            <a:off x="4538520" y="0"/>
            <a:ext cx="46054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砚台"/>
          <p:cNvPicPr/>
          <p:nvPr/>
        </p:nvPicPr>
        <p:blipFill>
          <a:blip r:embed="rId3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封面圈点"/>
          <p:cNvPicPr/>
          <p:nvPr/>
        </p:nvPicPr>
        <p:blipFill>
          <a:blip r:embed="rId4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封面竖条"/>
          <p:cNvPicPr/>
          <p:nvPr/>
        </p:nvPicPr>
        <p:blipFill>
          <a:blip r:embed="rId5"/>
          <a:srcRect l="36732" t="51280" r="58147" b="3591"/>
          <a:stretch/>
        </p:blipFill>
        <p:spPr>
          <a:xfrm>
            <a:off x="3254400" y="3598920"/>
            <a:ext cx="468360" cy="3095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183120" y="3633840"/>
            <a:ext cx="127764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主讲人：孙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边框"/>
          <p:cNvPicPr/>
          <p:nvPr/>
        </p:nvPicPr>
        <p:blipFill>
          <a:blip r:embed="rId6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目录牌子"/>
          <p:cNvPicPr/>
          <p:nvPr/>
        </p:nvPicPr>
        <p:blipFill>
          <a:blip r:embed="rId2"/>
          <a:srcRect l="45081" t="55486" r="44908" b="10721"/>
          <a:stretch/>
        </p:blipFill>
        <p:spPr>
          <a:xfrm>
            <a:off x="41227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目录牌子"/>
          <p:cNvPicPr/>
          <p:nvPr/>
        </p:nvPicPr>
        <p:blipFill>
          <a:blip r:embed="rId3"/>
          <a:srcRect l="45081" t="55486" r="44908" b="10721"/>
          <a:stretch/>
        </p:blipFill>
        <p:spPr>
          <a:xfrm>
            <a:off x="2266920" y="3500280"/>
            <a:ext cx="915840" cy="2318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目录牌子"/>
          <p:cNvPicPr/>
          <p:nvPr/>
        </p:nvPicPr>
        <p:blipFill>
          <a:blip r:embed="rId4"/>
          <a:srcRect l="45081" t="55486" r="44908" b="10721"/>
          <a:stretch/>
        </p:blipFill>
        <p:spPr>
          <a:xfrm>
            <a:off x="6116760" y="3500280"/>
            <a:ext cx="915840" cy="2318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736720" y="1557360"/>
            <a:ext cx="370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目录</a:t>
            </a:r>
            <a:r>
              <a:rPr b="1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98756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服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85920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花纹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843520" y="403380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华文隶书"/>
                <a:ea typeface="华文隶书"/>
              </a:rPr>
              <a:t>行当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过渡圈点"/>
          <p:cNvPicPr/>
          <p:nvPr/>
        </p:nvPicPr>
        <p:blipFill>
          <a:blip r:embed="rId2"/>
          <a:srcRect l="5550" t="26503" r="57506" b="21225"/>
          <a:stretch/>
        </p:blipFill>
        <p:spPr>
          <a:xfrm>
            <a:off x="507960" y="1817640"/>
            <a:ext cx="3378240" cy="3584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过渡横条"/>
          <p:cNvPicPr/>
          <p:nvPr/>
        </p:nvPicPr>
        <p:blipFill>
          <a:blip r:embed="rId3"/>
          <a:srcRect l="27440" t="48134" r="7098" b="40134"/>
          <a:stretch/>
        </p:blipFill>
        <p:spPr>
          <a:xfrm>
            <a:off x="2509920" y="3300480"/>
            <a:ext cx="5984640" cy="80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5954760" y="3530520"/>
            <a:ext cx="2433600" cy="1150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162160" y="26193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汉仪方隶简"/>
                <a:ea typeface="汉仪方隶简"/>
              </a:rPr>
              <a:t>服装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26920" y="1987560"/>
            <a:ext cx="7418520" cy="4249800"/>
          </a:xfrm>
          <a:prstGeom prst="flowChartAlternateProcess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内容返回"/>
          <p:cNvPicPr/>
          <p:nvPr/>
        </p:nvPicPr>
        <p:blipFill>
          <a:blip r:embed="rId2"/>
          <a:srcRect l="37519" t="90413" r="37816" b="0"/>
          <a:stretch/>
        </p:blipFill>
        <p:spPr>
          <a:xfrm>
            <a:off x="3432240" y="6200640"/>
            <a:ext cx="2254320" cy="65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过渡圈点"/>
          <p:cNvPicPr/>
          <p:nvPr/>
        </p:nvPicPr>
        <p:blipFill>
          <a:blip r:embed="rId3"/>
          <a:srcRect l="5550" t="26503" r="57506" b="21225"/>
          <a:stretch/>
        </p:blipFill>
        <p:spPr>
          <a:xfrm>
            <a:off x="826920" y="692280"/>
            <a:ext cx="1297080" cy="13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过渡横条"/>
          <p:cNvPicPr/>
          <p:nvPr/>
        </p:nvPicPr>
        <p:blipFill>
          <a:blip r:embed="rId4"/>
          <a:srcRect l="27440" t="48134" r="7098" b="40134"/>
          <a:stretch/>
        </p:blipFill>
        <p:spPr>
          <a:xfrm>
            <a:off x="1979640" y="1268280"/>
            <a:ext cx="4824360" cy="649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187280" y="86688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一、服装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187280" y="206064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         </a:t>
            </a:r>
            <a:r>
              <a:rPr b="0" lang="zh-CN" sz="2400" spc="-1" strike="noStrike">
                <a:solidFill>
                  <a:srgbClr val="262626"/>
                </a:solidFill>
                <a:latin typeface="华文隶书"/>
                <a:ea typeface="华文隶书"/>
              </a:rPr>
              <a:t>京剧的服装，是一明代日常生活的服装为基础 ，参照了宋、元两代服装的样式， 同时吸收了清代服装的某些特点， 经过历代艺术家繁荣概括 、提炼 、美化形成的 。可以说 京剧服装融会了宋、 元、 明 、清各个朝代的服装特点， 体现了中华民族的审美情趣和文化意识， 形成了美观 、夸张 、概括力强 、适用范围广等特点。京剧服装大致可以分为五类： 蟒、 铍 、靠 、褶 、衣 。在这五类服装中 ，又根据人物的社会地位 、性别、 性格 、职业、 经济状况等有更详细的区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结束人物"/>
          <p:cNvPicPr/>
          <p:nvPr/>
        </p:nvPicPr>
        <p:blipFill>
          <a:blip r:embed="rId2"/>
          <a:srcRect l="55762" t="0" r="0" b="0"/>
          <a:stretch/>
        </p:blipFill>
        <p:spPr>
          <a:xfrm>
            <a:off x="509904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边框"/>
          <p:cNvPicPr/>
          <p:nvPr/>
        </p:nvPicPr>
        <p:blipFill>
          <a:blip r:embed="rId3"/>
          <a:stretch/>
        </p:blipFill>
        <p:spPr>
          <a:xfrm>
            <a:off x="0" y="-1440"/>
            <a:ext cx="9175680" cy="688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砚台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封面圈点"/>
          <p:cNvPicPr/>
          <p:nvPr/>
        </p:nvPicPr>
        <p:blipFill>
          <a:blip r:embed="rId5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隶书"/>
                <a:ea typeface="隶书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结束返回"/>
          <p:cNvPicPr/>
          <p:nvPr/>
        </p:nvPicPr>
        <p:blipFill>
          <a:blip r:embed="rId6"/>
          <a:srcRect l="36526" t="90337" r="37852" b="0"/>
          <a:stretch/>
        </p:blipFill>
        <p:spPr>
          <a:xfrm>
            <a:off x="3340080" y="6218280"/>
            <a:ext cx="234324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封面竖条"/>
          <p:cNvPicPr/>
          <p:nvPr/>
        </p:nvPicPr>
        <p:blipFill>
          <a:blip r:embed="rId7"/>
          <a:srcRect l="36732" t="51280" r="58147" b="3591"/>
          <a:stretch/>
        </p:blipFill>
        <p:spPr>
          <a:xfrm>
            <a:off x="3359160" y="3516480"/>
            <a:ext cx="468360" cy="3095280"/>
          </a:xfrm>
          <a:prstGeom prst="rect">
            <a:avLst/>
          </a:prstGeom>
          <a:ln w="0">
            <a:noFill/>
          </a:ln>
        </p:spPr>
      </p:pic>
      <p:sp>
        <p:nvSpPr>
          <p:cNvPr id="115" name="矩形 11"/>
          <p:cNvSpPr/>
          <p:nvPr/>
        </p:nvSpPr>
        <p:spPr>
          <a:xfrm>
            <a:off x="7380360" y="332424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760560" y="3573360"/>
            <a:ext cx="729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隶书"/>
                <a:ea typeface="隶书"/>
              </a:rPr>
              <a:t>谢谢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6-04-21T13:37:26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