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5C8-E1BD-487F-BD41-845620A2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56E-3F30-4784-9B7D-D7BE2D26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8F4-0931-4D51-ADBE-E643876F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9D2-D63B-4BFB-A45C-E2885AA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19FF-7E35-49FC-991F-1EF43040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B677-7B13-4183-BE6E-0BFADD9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D6D-C5C1-43AE-A733-7F63965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E7C1-F010-4C9F-98DE-0BAA20C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D277-7F45-4FDA-B919-E2CA899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1E3F-DF3A-478D-8609-C7D8322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854-A4AA-439D-A88B-CFC378D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A1D-F86E-469F-8D8B-8C505D8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7C76-77AC-4E26-967B-C726435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118-BE70-40FF-9D21-03FFF06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C52B-BAE2-4AB2-AE47-CC2C6046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26A-F226-44E9-89C8-29C752CE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A40-A0E0-4C1D-853E-E0E589E2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0BD-A0D6-44F0-BA96-D61DEA5F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76A-1318-493E-AB95-93E140B0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129-78EB-43C0-9F6A-C7951B95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B93-126F-4F14-956A-B1F60FC5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A3E-3179-4955-9F7E-F3E05E4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4B2-B061-452B-AE05-1A93430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F70-12AC-4A5E-88F0-470608C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EB4-9871-4A7F-81FA-B777F461CF9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CFBD-ABCE-44F0-868C-1355614B7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人物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砚台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封面圈点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封面竖条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254400" y="3598920"/>
            <a:ext cx="46836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183120" y="3633840"/>
            <a:ext cx="1277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主讲人：孙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边框"/>
          <p:cNvPicPr/>
          <p:nvPr/>
        </p:nvPicPr>
        <p:blipFill>
          <a:blip r:embed="rId6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目录牌子"/>
          <p:cNvPicPr/>
          <p:nvPr/>
        </p:nvPicPr>
        <p:blipFill>
          <a:blip r:embed="rId3"/>
          <a:srcRect l="45081" t="55486" r="44908" b="10721"/>
          <a:stretch/>
        </p:blipFill>
        <p:spPr>
          <a:xfrm>
            <a:off x="22669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目录牌子"/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6116760" y="3500280"/>
            <a:ext cx="915840" cy="231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98756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85920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84352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汉仪方隶简"/>
                <a:ea typeface="汉仪方隶简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内容返回"/>
          <p:cNvPicPr/>
          <p:nvPr/>
        </p:nvPicPr>
        <p:blipFill>
          <a:blip r:embed="rId2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过渡圈点"/>
          <p:cNvPicPr/>
          <p:nvPr/>
        </p:nvPicPr>
        <p:blipFill>
          <a:blip r:embed="rId3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过渡横条"/>
          <p:cNvPicPr/>
          <p:nvPr/>
        </p:nvPicPr>
        <p:blipFill>
          <a:blip r:embed="rId4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         </a:t>
            </a: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边框"/>
          <p:cNvPicPr/>
          <p:nvPr/>
        </p:nvPicPr>
        <p:blipFill>
          <a:blip r:embed="rId3"/>
          <a:stretch/>
        </p:blipFill>
        <p:spPr>
          <a:xfrm>
            <a:off x="0" y="-144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结束返回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封面竖条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7380360" y="33242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760560" y="3573360"/>
            <a:ext cx="729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3:37:2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