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166-482B-4EF6-8F29-DFC8484B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F61-8CE3-4FAC-A051-56ACFB4D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497-F7AF-4BF7-A09C-1B02CE3C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FCD-C8FA-4E0D-81AF-D28CA067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D90-E859-4300-A030-4D1C4F09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B49-4897-464E-BBEB-E6730870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D77-F822-4864-9CF0-A5131932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E20-026B-488C-AAEB-D9B1B425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8DA-4E8E-4368-A702-EEC57F0C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886-EB5C-49AE-A12A-F113B4D2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881-E7BC-4F83-A484-0286A24F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B65-6D2F-4380-8535-3389632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8437-11B9-4CEB-B9DA-C26767ADBE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42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45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图片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64000" y="2997360"/>
            <a:ext cx="442800" cy="360"/>
            <a:chOff x="3564000" y="2997360"/>
            <a:chExt cx="442800" cy="360"/>
          </a:xfrm>
        </p:grpSpPr>
        <p:sp>
          <p:nvSpPr>
            <p:cNvPr id="49" name="直接连接符 27"/>
            <p:cNvSpPr/>
            <p:nvPr/>
          </p:nvSpPr>
          <p:spPr>
            <a:xfrm>
              <a:off x="3564000" y="2997360"/>
              <a:ext cx="442800" cy="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3564000" y="2997360"/>
              <a:ext cx="442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8305920" y="3025800"/>
            <a:ext cx="442800" cy="360"/>
            <a:chOff x="8305920" y="3025800"/>
            <a:chExt cx="442800" cy="360"/>
          </a:xfrm>
        </p:grpSpPr>
        <p:sp>
          <p:nvSpPr>
            <p:cNvPr id="52" name="直接连接符 28"/>
            <p:cNvSpPr/>
            <p:nvPr/>
          </p:nvSpPr>
          <p:spPr>
            <a:xfrm>
              <a:off x="8305920" y="3025800"/>
              <a:ext cx="442800" cy="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8305920" y="3025800"/>
              <a:ext cx="442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4" descr=""/>
          <p:cNvPicPr/>
          <p:nvPr/>
        </p:nvPicPr>
        <p:blipFill>
          <a:blip r:embed="rId3"/>
          <a:stretch/>
        </p:blipFill>
        <p:spPr>
          <a:xfrm rot="6589800">
            <a:off x="802080" y="201528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6" descr=""/>
          <p:cNvPicPr/>
          <p:nvPr/>
        </p:nvPicPr>
        <p:blipFill>
          <a:blip r:embed="rId4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7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6"/>
          <a:stretch/>
        </p:blipFill>
        <p:spPr>
          <a:xfrm>
            <a:off x="8604360" y="5846760"/>
            <a:ext cx="444240" cy="3906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1" descr=""/>
          <p:cNvPicPr/>
          <p:nvPr/>
        </p:nvPicPr>
        <p:blipFill>
          <a:blip r:embed="rId7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dministrator\My Documents\My Pictures\1659_51.wmf"/>
          <p:cNvPicPr/>
          <p:nvPr/>
        </p:nvPicPr>
        <p:blipFill>
          <a:blip r:embed="rId8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4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5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62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64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67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70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73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6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7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8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83" name="图片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85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86" name="图片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9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91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94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95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96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01" name="图片 4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2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03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04" name="图片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图片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图片 3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7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23760" y="2421000"/>
            <a:ext cx="1656000" cy="1440"/>
            <a:chOff x="923760" y="2421000"/>
            <a:chExt cx="1656000" cy="1440"/>
          </a:xfrm>
        </p:grpSpPr>
        <p:sp>
          <p:nvSpPr>
            <p:cNvPr id="117" name="直接连接符 14"/>
            <p:cNvSpPr/>
            <p:nvPr/>
          </p:nvSpPr>
          <p:spPr>
            <a:xfrm>
              <a:off x="923760" y="2421000"/>
              <a:ext cx="1656000" cy="144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923760" y="2421000"/>
              <a:ext cx="1656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550200" y="2421000"/>
            <a:ext cx="1657080" cy="1440"/>
            <a:chOff x="6550200" y="2421000"/>
            <a:chExt cx="1657080" cy="1440"/>
          </a:xfrm>
        </p:grpSpPr>
        <p:sp>
          <p:nvSpPr>
            <p:cNvPr id="120" name="直接连接符 16"/>
            <p:cNvSpPr/>
            <p:nvPr/>
          </p:nvSpPr>
          <p:spPr>
            <a:xfrm>
              <a:off x="6550200" y="2421000"/>
              <a:ext cx="1657080" cy="144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550200" y="2421000"/>
              <a:ext cx="1657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33480" y="4797360"/>
            <a:ext cx="1657440" cy="360"/>
            <a:chOff x="933480" y="4797360"/>
            <a:chExt cx="1657440" cy="360"/>
          </a:xfrm>
        </p:grpSpPr>
        <p:sp>
          <p:nvSpPr>
            <p:cNvPr id="123" name="直接连接符 17"/>
            <p:cNvSpPr/>
            <p:nvPr/>
          </p:nvSpPr>
          <p:spPr>
            <a:xfrm>
              <a:off x="933480" y="4797360"/>
              <a:ext cx="1657440" cy="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933480" y="4797360"/>
              <a:ext cx="165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61000" y="4797360"/>
            <a:ext cx="1656000" cy="360"/>
            <a:chOff x="6561000" y="4797360"/>
            <a:chExt cx="1656000" cy="360"/>
          </a:xfrm>
        </p:grpSpPr>
        <p:sp>
          <p:nvSpPr>
            <p:cNvPr id="126" name="直接连接符 18"/>
            <p:cNvSpPr/>
            <p:nvPr/>
          </p:nvSpPr>
          <p:spPr>
            <a:xfrm>
              <a:off x="6561000" y="4797360"/>
              <a:ext cx="1656000" cy="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561000" y="4797360"/>
              <a:ext cx="16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38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39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40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45" name="图片 7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47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48" name="图片 6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图片 7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图片 7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1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 rot="18900000">
            <a:off x="186660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 rot="18900000">
            <a:off x="410976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 rot="18900000">
            <a:off x="633204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67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68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69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74" name="图片 5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76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77" name="图片 4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0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92360" y="1765440"/>
            <a:ext cx="360" cy="3535200"/>
            <a:chOff x="1692360" y="1765440"/>
            <a:chExt cx="360" cy="3535200"/>
          </a:xfrm>
        </p:grpSpPr>
        <p:sp>
          <p:nvSpPr>
            <p:cNvPr id="194" name="直接连接符 14"/>
            <p:cNvSpPr/>
            <p:nvPr/>
          </p:nvSpPr>
          <p:spPr>
            <a:xfrm>
              <a:off x="1692360" y="1765440"/>
              <a:ext cx="0" cy="3535200"/>
            </a:xfrm>
            <a:prstGeom prst="line">
              <a:avLst/>
            </a:prstGeom>
            <a:ln w="28440">
              <a:solidFill>
                <a:srgbClr val="625348"/>
              </a:solidFill>
              <a:round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692360" y="1765440"/>
              <a:ext cx="36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92000" y="5300640"/>
            <a:ext cx="6264720" cy="23760"/>
            <a:chOff x="1692000" y="5300640"/>
            <a:chExt cx="6264720" cy="23760"/>
          </a:xfrm>
        </p:grpSpPr>
        <p:sp>
          <p:nvSpPr>
            <p:cNvPr id="197" name="直接连接符 14"/>
            <p:cNvSpPr/>
            <p:nvPr/>
          </p:nvSpPr>
          <p:spPr>
            <a:xfrm flipH="1">
              <a:off x="1692000" y="5300640"/>
              <a:ext cx="6264360" cy="23760"/>
            </a:xfrm>
            <a:prstGeom prst="line">
              <a:avLst/>
            </a:prstGeom>
            <a:ln w="28440">
              <a:solidFill>
                <a:srgbClr val="625348"/>
              </a:solidFill>
              <a:round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1692360" y="5300640"/>
              <a:ext cx="6264360" cy="2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397240" y="1765440"/>
            <a:ext cx="1440" cy="3535200"/>
            <a:chOff x="2397240" y="1765440"/>
            <a:chExt cx="1440" cy="3535200"/>
          </a:xfrm>
        </p:grpSpPr>
        <p:sp>
          <p:nvSpPr>
            <p:cNvPr id="200" name="直接连接符 14"/>
            <p:cNvSpPr/>
            <p:nvPr/>
          </p:nvSpPr>
          <p:spPr>
            <a:xfrm>
              <a:off x="2397240" y="1765440"/>
              <a:ext cx="1440" cy="35352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2397240" y="1765440"/>
              <a:ext cx="144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112920" y="1765440"/>
            <a:ext cx="1800" cy="3535200"/>
            <a:chOff x="3112920" y="1765440"/>
            <a:chExt cx="1800" cy="3535200"/>
          </a:xfrm>
        </p:grpSpPr>
        <p:sp>
          <p:nvSpPr>
            <p:cNvPr id="203" name="直接连接符 14"/>
            <p:cNvSpPr/>
            <p:nvPr/>
          </p:nvSpPr>
          <p:spPr>
            <a:xfrm>
              <a:off x="3112920" y="1765440"/>
              <a:ext cx="1800" cy="35352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3112920" y="1765440"/>
              <a:ext cx="180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828960" y="1787400"/>
            <a:ext cx="1800" cy="3537000"/>
            <a:chOff x="3828960" y="1787400"/>
            <a:chExt cx="1800" cy="3537000"/>
          </a:xfrm>
        </p:grpSpPr>
        <p:sp>
          <p:nvSpPr>
            <p:cNvPr id="206" name="直接连接符 14"/>
            <p:cNvSpPr/>
            <p:nvPr/>
          </p:nvSpPr>
          <p:spPr>
            <a:xfrm>
              <a:off x="3828960" y="1787400"/>
              <a:ext cx="180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828960" y="1787400"/>
              <a:ext cx="180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49680" y="1787400"/>
            <a:ext cx="360" cy="3537000"/>
            <a:chOff x="4549680" y="1787400"/>
            <a:chExt cx="360" cy="3537000"/>
          </a:xfrm>
        </p:grpSpPr>
        <p:sp>
          <p:nvSpPr>
            <p:cNvPr id="209" name="直接连接符 14"/>
            <p:cNvSpPr/>
            <p:nvPr/>
          </p:nvSpPr>
          <p:spPr>
            <a:xfrm>
              <a:off x="4549680" y="1787400"/>
              <a:ext cx="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4549680" y="1787400"/>
              <a:ext cx="36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292720" y="1827360"/>
            <a:ext cx="360" cy="3535200"/>
            <a:chOff x="5292720" y="1827360"/>
            <a:chExt cx="360" cy="3535200"/>
          </a:xfrm>
        </p:grpSpPr>
        <p:sp>
          <p:nvSpPr>
            <p:cNvPr id="212" name="直接连接符 14"/>
            <p:cNvSpPr/>
            <p:nvPr/>
          </p:nvSpPr>
          <p:spPr>
            <a:xfrm>
              <a:off x="5292720" y="1827360"/>
              <a:ext cx="0" cy="35352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5292720" y="1827360"/>
              <a:ext cx="36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012000" y="1787400"/>
            <a:ext cx="1440" cy="3537000"/>
            <a:chOff x="6012000" y="1787400"/>
            <a:chExt cx="1440" cy="3537000"/>
          </a:xfrm>
        </p:grpSpPr>
        <p:sp>
          <p:nvSpPr>
            <p:cNvPr id="215" name="直接连接符 14"/>
            <p:cNvSpPr/>
            <p:nvPr/>
          </p:nvSpPr>
          <p:spPr>
            <a:xfrm>
              <a:off x="6012000" y="1787400"/>
              <a:ext cx="144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6012000" y="1787400"/>
              <a:ext cx="144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737400" y="1787400"/>
            <a:ext cx="1440" cy="3537000"/>
            <a:chOff x="6737400" y="1787400"/>
            <a:chExt cx="1440" cy="3537000"/>
          </a:xfrm>
        </p:grpSpPr>
        <p:sp>
          <p:nvSpPr>
            <p:cNvPr id="218" name="直接连接符 14"/>
            <p:cNvSpPr/>
            <p:nvPr/>
          </p:nvSpPr>
          <p:spPr>
            <a:xfrm>
              <a:off x="6737400" y="1787400"/>
              <a:ext cx="144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6737400" y="1787400"/>
              <a:ext cx="144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451640" y="1787400"/>
            <a:ext cx="1800" cy="3537000"/>
            <a:chOff x="7451640" y="1787400"/>
            <a:chExt cx="1800" cy="3537000"/>
          </a:xfrm>
        </p:grpSpPr>
        <p:sp>
          <p:nvSpPr>
            <p:cNvPr id="221" name="直接连接符 14"/>
            <p:cNvSpPr/>
            <p:nvPr/>
          </p:nvSpPr>
          <p:spPr>
            <a:xfrm>
              <a:off x="7451640" y="1787400"/>
              <a:ext cx="180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7451640" y="1787400"/>
              <a:ext cx="180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26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27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28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33" name="图片 7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35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36" name="图片 6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图片 6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图片 69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9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grpSp>
          <p:nvGrpSpPr>
            <p:cNvPr id="241" name=""/>
            <p:cNvGrpSpPr/>
            <p:nvPr/>
          </p:nvGrpSpPr>
          <p:grpSpPr>
            <a:xfrm>
              <a:off x="6078240" y="3366360"/>
              <a:ext cx="1524960" cy="360"/>
              <a:chOff x="6078240" y="3366360"/>
              <a:chExt cx="1524960" cy="360"/>
            </a:xfrm>
          </p:grpSpPr>
          <p:sp>
            <p:nvSpPr>
              <p:cNvPr id="242" name="直接连接符​​ 31"/>
              <p:cNvSpPr/>
              <p:nvPr/>
            </p:nvSpPr>
            <p:spPr>
              <a:xfrm>
                <a:off x="6078240" y="3366360"/>
                <a:ext cx="152496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6078240" y="3366360"/>
                <a:ext cx="152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245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893200" y="3418560"/>
                <a:ext cx="909360" cy="781560"/>
                <a:chOff x="5893200" y="3418560"/>
                <a:chExt cx="909360" cy="781560"/>
              </a:xfrm>
            </p:grpSpPr>
            <p:sp>
              <p:nvSpPr>
                <p:cNvPr id="247" name="直接连接符​​ 41"/>
                <p:cNvSpPr/>
                <p:nvPr/>
              </p:nvSpPr>
              <p:spPr>
                <a:xfrm flipV="1">
                  <a:off x="5893560" y="3418560"/>
                  <a:ext cx="909000" cy="78156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 txBox="1"/>
                <p:nvPr/>
              </p:nvSpPr>
              <p:spPr>
                <a:xfrm rot="10800000">
                  <a:off x="5893200" y="3418560"/>
                  <a:ext cx="909000" cy="78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054920" y="3418920"/>
                <a:ext cx="348120" cy="642600"/>
                <a:chOff x="7054920" y="3418920"/>
                <a:chExt cx="348120" cy="642600"/>
              </a:xfrm>
            </p:grpSpPr>
            <p:sp>
              <p:nvSpPr>
                <p:cNvPr id="250" name="直接连接符​​ 42"/>
                <p:cNvSpPr/>
                <p:nvPr/>
              </p:nvSpPr>
              <p:spPr>
                <a:xfrm>
                  <a:off x="7054920" y="3418920"/>
                  <a:ext cx="348120" cy="64260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 txBox="1"/>
                <p:nvPr/>
              </p:nvSpPr>
              <p:spPr>
                <a:xfrm>
                  <a:off x="7054920" y="3418920"/>
                  <a:ext cx="348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/>
                <a:ahLst/>
                <a:rect l="l" t="t" r="r" b="b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grpSp>
          <p:nvGrpSpPr>
            <p:cNvPr id="259" name=""/>
            <p:cNvGrpSpPr/>
            <p:nvPr/>
          </p:nvGrpSpPr>
          <p:grpSpPr>
            <a:xfrm>
              <a:off x="2939760" y="3107520"/>
              <a:ext cx="1524960" cy="360"/>
              <a:chOff x="2939760" y="3107520"/>
              <a:chExt cx="1524960" cy="360"/>
            </a:xfrm>
          </p:grpSpPr>
          <p:sp>
            <p:nvSpPr>
              <p:cNvPr id="260" name="直接连接符​​ 31"/>
              <p:cNvSpPr/>
              <p:nvPr/>
            </p:nvSpPr>
            <p:spPr>
              <a:xfrm>
                <a:off x="2939760" y="3107520"/>
                <a:ext cx="152496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2939760" y="3107520"/>
                <a:ext cx="152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263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2754720" y="3160080"/>
                <a:ext cx="909360" cy="781200"/>
                <a:chOff x="2754720" y="3160080"/>
                <a:chExt cx="909360" cy="781200"/>
              </a:xfrm>
            </p:grpSpPr>
            <p:sp>
              <p:nvSpPr>
                <p:cNvPr id="265" name="直接连接符​​ 41"/>
                <p:cNvSpPr/>
                <p:nvPr/>
              </p:nvSpPr>
              <p:spPr>
                <a:xfrm flipV="1">
                  <a:off x="2755080" y="3160080"/>
                  <a:ext cx="909000" cy="78120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 txBox="1"/>
                <p:nvPr/>
              </p:nvSpPr>
              <p:spPr>
                <a:xfrm rot="10800000">
                  <a:off x="2754720" y="3160080"/>
                  <a:ext cx="909000" cy="78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916440" y="3160080"/>
                <a:ext cx="348120" cy="641880"/>
                <a:chOff x="3916440" y="3160080"/>
                <a:chExt cx="348120" cy="641880"/>
              </a:xfrm>
            </p:grpSpPr>
            <p:sp>
              <p:nvSpPr>
                <p:cNvPr id="268" name="直接连接符​​ 42"/>
                <p:cNvSpPr/>
                <p:nvPr/>
              </p:nvSpPr>
              <p:spPr>
                <a:xfrm>
                  <a:off x="3916440" y="3160080"/>
                  <a:ext cx="348120" cy="64188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>
                  <a:off x="3916440" y="3160080"/>
                  <a:ext cx="3481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/>
                <a:ahLst/>
                <a:rect l="l" t="t" r="r" b="b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grpSp>
          <p:nvGrpSpPr>
            <p:cNvPr id="277" name=""/>
            <p:cNvGrpSpPr/>
            <p:nvPr/>
          </p:nvGrpSpPr>
          <p:grpSpPr>
            <a:xfrm>
              <a:off x="4696560" y="1642320"/>
              <a:ext cx="1400400" cy="360"/>
              <a:chOff x="4696560" y="1642320"/>
              <a:chExt cx="1400400" cy="360"/>
            </a:xfrm>
          </p:grpSpPr>
          <p:sp>
            <p:nvSpPr>
              <p:cNvPr id="278" name="直接连接符​​ 33"/>
              <p:cNvSpPr/>
              <p:nvPr/>
            </p:nvSpPr>
            <p:spPr>
              <a:xfrm>
                <a:off x="4696560" y="1642320"/>
                <a:ext cx="140040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4696560" y="1642320"/>
                <a:ext cx="14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464720" y="1713240"/>
              <a:ext cx="880560" cy="756360"/>
              <a:chOff x="4464720" y="1713240"/>
              <a:chExt cx="880560" cy="756360"/>
            </a:xfrm>
          </p:grpSpPr>
          <p:sp>
            <p:nvSpPr>
              <p:cNvPr id="282" name="直接连接符​​ 11"/>
              <p:cNvSpPr/>
              <p:nvPr/>
            </p:nvSpPr>
            <p:spPr>
              <a:xfrm flipV="1">
                <a:off x="4465080" y="1713240"/>
                <a:ext cx="880200" cy="756360"/>
              </a:xfrm>
              <a:prstGeom prst="line">
                <a:avLst/>
              </a:prstGeom>
              <a:ln w="284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 rot="10800000">
                <a:off x="4464720" y="1713240"/>
                <a:ext cx="880200" cy="75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590080" y="1713600"/>
              <a:ext cx="336240" cy="621360"/>
              <a:chOff x="5590080" y="1713600"/>
              <a:chExt cx="336240" cy="621360"/>
            </a:xfrm>
          </p:grpSpPr>
          <p:sp>
            <p:nvSpPr>
              <p:cNvPr id="285" name="直接连接符​​ 13"/>
              <p:cNvSpPr/>
              <p:nvPr/>
            </p:nvSpPr>
            <p:spPr>
              <a:xfrm>
                <a:off x="5590080" y="1713600"/>
                <a:ext cx="336240" cy="621360"/>
              </a:xfrm>
              <a:prstGeom prst="line">
                <a:avLst/>
              </a:prstGeom>
              <a:ln w="284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5590080" y="1713600"/>
                <a:ext cx="336240" cy="62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/>
              <a:ahLst/>
              <a:rect l="l" t="t" r="r" b="b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94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95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96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301" name="图片 8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2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03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304" name="图片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图片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图片 74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7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/>
            <a:ahLst/>
            <a:rect l="l" t="t" r="r" b="b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/>
            <a:ahLst/>
            <a:rect l="l" t="t" r="r" b="b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/>
            <a:ahLst/>
            <a:rect l="l" t="t" r="r" b="b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12"/>
          <p:cNvSpPr/>
          <p:nvPr/>
        </p:nvSpPr>
        <p:spPr>
          <a:xfrm rot="3533400">
            <a:off x="5793480" y="41443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317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318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319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3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324" name="图片 4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26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327" name="图片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图片 4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图片 4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0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141640" y="3135240"/>
            <a:ext cx="1147680" cy="1800"/>
            <a:chOff x="2141640" y="3135240"/>
            <a:chExt cx="1147680" cy="1800"/>
          </a:xfrm>
        </p:grpSpPr>
        <p:sp>
          <p:nvSpPr>
            <p:cNvPr id="334" name="直接连接符 27"/>
            <p:cNvSpPr/>
            <p:nvPr/>
          </p:nvSpPr>
          <p:spPr>
            <a:xfrm>
              <a:off x="2141640" y="3135240"/>
              <a:ext cx="1147680" cy="180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141640" y="3135240"/>
              <a:ext cx="11476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638680" y="3139920"/>
            <a:ext cx="1160640" cy="1800"/>
            <a:chOff x="5638680" y="3139920"/>
            <a:chExt cx="1160640" cy="1800"/>
          </a:xfrm>
        </p:grpSpPr>
        <p:sp>
          <p:nvSpPr>
            <p:cNvPr id="337" name="直接连接符 28"/>
            <p:cNvSpPr/>
            <p:nvPr/>
          </p:nvSpPr>
          <p:spPr>
            <a:xfrm>
              <a:off x="5638680" y="3139920"/>
              <a:ext cx="1160640" cy="180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638680" y="3139920"/>
              <a:ext cx="1160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图片 3" descr=""/>
          <p:cNvPicPr/>
          <p:nvPr/>
        </p:nvPicPr>
        <p:blipFill>
          <a:blip r:embed="rId1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51" descr=""/>
          <p:cNvPicPr/>
          <p:nvPr/>
        </p:nvPicPr>
        <p:blipFill>
          <a:blip r:embed="rId2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25" descr=""/>
          <p:cNvPicPr/>
          <p:nvPr/>
        </p:nvPicPr>
        <p:blipFill>
          <a:blip r:embed="rId3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26" descr=""/>
          <p:cNvPicPr/>
          <p:nvPr/>
        </p:nvPicPr>
        <p:blipFill>
          <a:blip r:embed="rId4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32" descr=""/>
          <p:cNvPicPr/>
          <p:nvPr/>
        </p:nvPicPr>
        <p:blipFill>
          <a:blip r:embed="rId5"/>
          <a:stretch/>
        </p:blipFill>
        <p:spPr>
          <a:xfrm>
            <a:off x="8461440" y="5867280"/>
            <a:ext cx="444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dc:language>en-US</dc:language>
  <cp:lastModifiedBy>Administrator</cp:lastModifiedBy>
  <dcterms:modified xsi:type="dcterms:W3CDTF">2016-04-21T13:48:08Z</dcterms:modified>
  <cp:revision>1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