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D7B-BC53-42F6-9036-A2FE7E7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85F-FDD9-4D36-B44B-7AF98E7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68F-6A80-4733-B81A-B4E5ACE3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9EC-862A-4414-9251-E1291122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64A-E5C2-4707-BD28-949BBEA4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326A-B4D1-470F-ABDB-6A738625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5AC1-536A-4D8A-A790-5BF7A03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C09F-2DDF-44CE-942A-34969C5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B7A-728E-4C71-9725-0788AA5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A01A-12EC-498C-9ED4-2C008234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F2A-FBDE-470D-AAAD-C80D8DD3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C58-1A91-4455-B474-34067AF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999-A1E4-461E-A695-D38E2B6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598-9A58-4DBE-A655-3D7BC53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4FB-7121-4A6B-AF8E-5A55FAE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006-AF5A-42E0-947B-19A3EFF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887E-33F4-4CA2-B08C-A34EAEEC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A0E-A42F-4494-9974-484E732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3B8-F869-47E4-AA16-92F8C2E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FD1-0A52-45EC-A046-6609420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412-395C-43BB-BD18-6E02BA5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43C-127F-4B1C-B784-D2C0B92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167-4A0E-4D08-9366-6172741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FEC-8CA5-4AF6-95C9-9EDCA36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AB7-1539-4835-BF27-E5A91FC1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14" descr=""/>
          <p:cNvPicPr/>
          <p:nvPr/>
        </p:nvPicPr>
        <p:blipFill>
          <a:blip r:embed="rId3"/>
          <a:stretch/>
        </p:blipFill>
        <p:spPr>
          <a:xfrm>
            <a:off x="6429240" y="5572080"/>
            <a:ext cx="2098800" cy="368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6D9-8701-4E02-AA10-A98BCDD8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00-2.png"/>
          <p:cNvPicPr/>
          <p:nvPr/>
        </p:nvPicPr>
        <p:blipFill>
          <a:blip r:embed="rId2"/>
          <a:stretch/>
        </p:blipFill>
        <p:spPr>
          <a:xfrm>
            <a:off x="5506920" y="71424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00-4.png"/>
          <p:cNvPicPr/>
          <p:nvPr/>
        </p:nvPicPr>
        <p:blipFill>
          <a:blip r:embed="rId3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00-5.png"/>
          <p:cNvPicPr/>
          <p:nvPr/>
        </p:nvPicPr>
        <p:blipFill>
          <a:blip r:embed="rId4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00-4.png"/>
          <p:cNvPicPr/>
          <p:nvPr/>
        </p:nvPicPr>
        <p:blipFill>
          <a:blip r:embed="rId5"/>
          <a:stretch/>
        </p:blipFill>
        <p:spPr>
          <a:xfrm>
            <a:off x="386388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00-1.png"/>
          <p:cNvPicPr/>
          <p:nvPr/>
        </p:nvPicPr>
        <p:blipFill>
          <a:blip r:embed="rId6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3857760" y="2357280"/>
            <a:ext cx="4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60156 -0.00417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5 0.14838 C 0.00157 0.12407 -0.00782 0.16019 0.0007 0.13449 C 0.00226 0.13009 0.004 0.12083 0.004 0.12106 C 0.00365 0.11458 0.00417 0.1081 0.00243 0.10231 C 0.00157 0.1 -0.00138 0.10162 -0.00277 0.1 C -0.00399 0.09838 -0.00365 0.09537 -0.00435 0.09329 C -0.0092 0.08125 -0.01702 0.08333 -0.02638 0.08171 C -0.0342 0.04977 -0.0066 0.05556 0.00747 0.05417 C 0.01494 0.04745 0.01771 0.03773 0.01251 0.02431 C 0.01042 0.01852 0.00243 0.01042 0.00243 0.01065 C -0.0125 0.01713 -0.0302 0.0125 -0.04496 0.00579 C -0.05452 0.00787 -0.05868 0.00718 -0.0618 0.01968 C -0.06111 0.03056 -0.06006 0.06458 -0.05694 0.07708 C -0.05555 0.08241 -0.04999 0.09097 -0.04999 0.0912 C -0.05503 0.10093 -0.05138 0.0963 -0.06024 0.1 C -0.06354 0.10139 -0.07032 0.10463 -0.07032 0.10486 C -0.07638 0.10185 -0.0816 0.10046 -0.08715 0.0956 C -0.08975 0.08519 -0.09322 0.0875 -0.09565 0.07708 C -0.09532 0.05718 -0.09548 0.03727 -0.09392 0.01736 C -0.09237 -0.00648 -0.07569 -0.00347 -0.0618 -0.00556 C -0.05035 -0.00972 -0.0467 -0.01181 -0.03489 -0.00324 C -0.03142 -0.00069 -0.02482 0.00579 -0.02482 0.00602 C -0.0191 0.02894 -0.02049 0.04884 -0.01962 0.07477 C -0.02136 0.08796 -0.02343 0.09074 -0.03159 0.09769 C -0.03837 0.11157 -0.05503 0.11991 -0.06701 0.12315 C -0.07482 0.12245 -0.08298 0.12338 -0.09045 0.12083 C -0.09704 0.11875 -0.10365 0.09444 -0.10764 0.08634 C -0.11164 0.06944 -0.10816 0.07593 -0.11598 0.06551 C -0.11823 0.05648 -0.12032 0.05255 -0.12622 0.04722 C -0.13247 0.03449 -0.13282 0.03125 -0.14306 0.02662 C -0.15573 0.02824 -0.16077 0.02708 -0.16997 0.03565 C -0.17066 0.03796 -0.17188 0.04005 -0.17188 0.04259 C -0.17188 0.04815 -0.1724 0.05417 -0.16997 0.0588 C -0.16441 0.07106 -0.15 0.06944 -0.14115 0.07245 C -0.13803 0.07176 -0.13438 0.07153 -0.13143 0.07014 C -0.12327 0.06644 -0.11806 0.0537 -0.11094 0.04722 C -0.10799 0.0419 -0.10521 0.03634 -0.10261 0.03102 C -0.10122 0.0287 -0.09913 0.02431 -0.09913 0.02454 C -0.10105 0.00671 -0.10122 0.00417 -0.1125 -0.00324 C -0.10435 -0.00718 -0.0967 -0.00231 -0.08888 0.00116 C -0.09167 0.01227 -0.096 0.02292 -0.10435 0.02662 C -0.10851 0.04375 -0.10278 0.04236 -0.09237 0.04491 C -0.07482 0.04931 -0.09392 0.0456 -0.07032 0.04954 C -0.07326 0.05116 -0.07587 0.05394 -0.07882 0.05417 C -0.08385 0.05463 -0.0894 0.05509 -0.09392 0.05185 C -0.09652 0.05 -0.08819 0.05023 -0.08542 0.04954 C -0.07708 0.04375 -0.06909 0.03727 -0.06024 0.03333 C -0.0559 0.02454 -0.05711 0.02269 -0.0467 0.02894 C -0.04097 0.03241 -0.03489 0.04954 -0.03489 0.04977 C -0.0368 0.0662 -0.03749 0.07662 -0.04826 0.08634 C -0.04392 0.08704 -0.03888 0.08542 -0.03489 0.08866 C -0.03315 0.09005 -0.03819 0.09213 -0.03975 0.09329 C -0.04149 0.09444 -0.04322 0.09491 -0.04496 0.0956 C -0.06475 0.09352 -0.07204 0.09097 -0.08888 0.08171 C -0.09305 0.07315 -0.09809 0.07106 -0.10435 0.06551 C -0.10365 0.0625 -0.10382 0.05903 -0.10261 0.05648 C -0.09548 0.04329 -0.0802 0.03981 -0.07032 0.03333 C -0.0665 0.03079 -0.06388 0.02454 -0.06024 0.02199 C -0.05035 0.01574 -0.04513 0.01829 -0.03645 0.01042 C -0.03888 0.00069 -0.0427 0.00069 -0.04999 -0.00116 C -0.06128 -0.0037 -0.07274 -0.00579 -0.08385 -0.00787 C -0.10886 -0.00602 -0.11337 -0.01597 -0.11945 0.0081 C -0.11685 0.025 -0.11598 0.02477 -0.10435 0.03102 C -0.10261 0.03333 -0.09982 0.03495 -0.09913 0.03796 C -0.09687 0.04676 -0.11077 0.05417 -0.11598 0.05648 C -0.1691 0.05324 -0.14202 0.06528 -0.1632 0.03565 C -0.16528 0.02778 -0.16893 0.02083 -0.16511 0.01273 C -0.16389 0.01042 -0.15782 0.00833 -0.1599 0.0081 C -0.16945 0.00718 -0.17917 0.00972 -0.18872 0.01042 C -0.1915 0.01204 -0.1941 0.01366 -0.19723 0.01505 C -0.19879 0.01597 -0.20105 0.01574 -0.20226 0.01736 C -0.20348 0.01898 -0.2033 0.02199 -0.204 0.02431 C -0.20504 0.02731 -0.20625 0.03032 -0.20712 0.03333 C -0.2066 0.04097 -0.20678 0.04884 -0.20556 0.05648 C -0.20504 0.05926 -0.20382 0.06157 -0.20226 0.06343 C -0.19323 0.07454 -0.17726 0.09259 -0.16511 0.09769 C -0.175 0.10208 -0.1658 0.09653 -0.17344 0.10694 C -0.17744 0.11227 -0.18021 0.11204 -0.18525 0.11389 C -0.19046 0.11227 -0.19566 0.11204 -0.20053 0.10926 C -0.20382 0.10741 -0.20608 0.10278 -0.20886 0.1 C -0.22848 0.08171 -0.21702 0.0963 -0.22761 0.08171 C -0.22535 0.06319 -0.22709 0.07222 -0.22257 0.05417 C -0.22257 0.0544 -0.20973 0.04259 -0.20712 0.04028 C -0.20556 0.03866 -0.20226 0.03565 -0.20226 0.03588 C -0.18976 0.03773 -0.17674 0.0412 -0.16511 0.04722 C -0.1625 0.04838 -0.16042 0.05 -0.15816 0.05185 C -0.15573 0.05394 -0.15417 0.05718 -0.15157 0.0588 C -0.14896 0.06042 -0.14566 0.05995 -0.14306 0.06111 C -0.13646 0.06366 -0.13369 0.0662 -0.12778 0.07014 C -0.13091 0.08194 -0.13247 0.08102 -0.13959 0.08634 C -0.14323 0.08912 -0.14983 0.0956 -0.14983 0.09583 C -0.14931 0.09792 -0.14948 0.10093 -0.1481 0.10231 C -0.14636 0.10417 -0.14341 0.10347 -0.14115 0.10463 C -0.13959 0.10579 -0.13803 0.1081 -0.13612 0.10926 C -0.13455 0.11042 -0.13299 0.11088 -0.13143 0.11157 C -0.12188 0.10995 -0.11181 0.11042 -0.10261 0.10694 C -0.10053 0.10625 -0.09913 0.10278 -0.09913 0.1 C -0.09862 0.09005 -0.09913 0.07986 -0.1007 0.07014 C -0.10591 0.04097 -0.13125 0.01157 -0.14983 -0.00116 C -0.15209 -0.00046 -0.15573 -0.00185 -0.1566 0.00116 C -0.16146 0.01806 -0.1481 0.0287 -0.14115 0.03796 C -0.14011 0.03981 -0.13959 0.04306 -0.13803 0.04491 C -0.13507 0.04815 -0.13091 0.04907 -0.12778 0.05185 C -0.13073 0.05741 -0.13143 0.06088 -0.13612 0.06343 C -0.14271 0.0669 -0.1566 0.07245 -0.1566 0.07269 C -0.15365 0.07407 -0.15122 0.07639 -0.1481 0.07708 C -0.13178 0.08125 -0.12205 0.07662 -0.13612 0.08171 C -0.14219 0.08727 -0.1481 0.08796 -0.15504 0.09097 C -0.17084 0.10579 -0.14237 0.10764 -0.13612 0.10926 C -0.13438 0.11088 -0.13282 0.11204 -0.13143 0.11389 C -0.12935 0.11597 -0.12865 0.11991 -0.12622 0.12083 C -0.125 0.1213 -0.11598 0.1169 -0.11424 0.1162 C -0.10903 0.10903 -0.10452 0.10556 -0.09757 0.10231 C -0.09565 0.1 -0.09237 0.09884 -0.09237 0.0956 C -0.09237 0.09306 -0.09565 0.09259 -0.09757 0.09329 C -0.10799 0.09792 -0.11719 0.1125 -0.12622 0.12083 C -0.13143 0.12014 -0.13646 0.11991 -0.14115 0.11852 C -0.1448 0.11759 -0.15157 0.11389 -0.15157 0.11412 C -0.1606 0.1044 -0.16632 0.10579 -0.17691 0.10231 C -0.17969 0.0919 -0.18681 0.08958 -0.19375 0.08403 C -0.19497 0.08171 -0.19566 0.07894 -0.19723 0.07708 C -0.19844 0.07523 -0.20087 0.07454 -0.20226 0.07245 C -0.20348 0.0706 -0.20278 0.06736 -0.204 0.06551 C -0.20625 0.06157 -0.21094 0.06019 -0.21389 0.0588 C -0.22796 0.06366 -0.24237 0.06296 -0.25625 0.06782 C -0.29271 0.06713 -0.32952 0.0669 -0.36615 0.06551 C -0.36962 0.06528 -0.37292 0.06435 -0.37639 0.06343 C -0.37796 0.06296 -0.38247 0.05949 -0.38143 0.06111 C -0.37761 0.06574 -0.37066 0.06667 -0.36615 0.06782 C -0.35938 0.06713 -0.35261 0.06736 -0.34601 0.06551 C -0.33907 0.06366 -0.34185 0.05926 -0.33733 0.05417 C -0.33542 0.05185 -0.33282 0.05116 -0.33073 0.04954 C -0.32396 0.04028 -0.31771 0.03264 -0.30869 0.02894 C -0.3 0.02963 -0.29132 0.02824 -0.28334 0.03102 C -0.27726 0.0331 -0.27205 0.03866 -0.26632 0.04259 C -0.25643 0.04931 -0.24705 0.05278 -0.23941 0.06343 C -0.2408 0.07731 -0.23976 0.08426 -0.24966 0.08866 C -0.24566 0.08056 -0.24271 0.07778 -0.23594 0.07477 C -0.23039 0.06319 -0.23421 0.06944 -0.22257 0.0588 C -0.22066 0.05718 -0.21754 0.05417 -0.21754 0.0544 C -0.21372 0.04653 -0.20938 0.04213 -0.20712 0.03333 C -0.21702 0.02361 -0.22587 0.02014 -0.23768 0.01736 C -0.24514 0.01991 -0.24862 0.02083 -0.25122 0.03102 C -0.2507 0.03333 -0.2507 0.03634 -0.24966 0.03796 C -0.24844 0.03958 -0.24445 0.04028 -0.24445 0.04051 E">
                                      <p:cBhvr>
                                        <p:cTn id="15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47 0.05741 L -0.4533 0.05741 E">
                                      <p:cBhvr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02-2.png"/>
          <p:cNvPicPr/>
          <p:nvPr/>
        </p:nvPicPr>
        <p:blipFill>
          <a:blip r:embed="rId2"/>
          <a:stretch/>
        </p:blipFill>
        <p:spPr>
          <a:xfrm>
            <a:off x="3794040" y="1928880"/>
            <a:ext cx="5818320" cy="35002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02-1.png"/>
          <p:cNvPicPr/>
          <p:nvPr/>
        </p:nvPicPr>
        <p:blipFill>
          <a:blip r:embed="rId3"/>
          <a:stretch/>
        </p:blipFill>
        <p:spPr>
          <a:xfrm>
            <a:off x="3787920" y="3929040"/>
            <a:ext cx="5783040" cy="3471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" descr="02-3.png"/>
          <p:cNvPicPr/>
          <p:nvPr/>
        </p:nvPicPr>
        <p:blipFill>
          <a:blip r:embed="rId4"/>
          <a:stretch/>
        </p:blipFill>
        <p:spPr>
          <a:xfrm>
            <a:off x="7147080" y="3500280"/>
            <a:ext cx="2454120" cy="2460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" descr="00-1.png"/>
          <p:cNvPicPr/>
          <p:nvPr/>
        </p:nvPicPr>
        <p:blipFill>
          <a:blip r:embed="rId5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5715000" y="414324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01-1.png"/>
          <p:cNvPicPr/>
          <p:nvPr/>
        </p:nvPicPr>
        <p:blipFill>
          <a:blip r:embed="rId2"/>
          <a:stretch/>
        </p:blipFill>
        <p:spPr>
          <a:xfrm>
            <a:off x="1217520" y="1428840"/>
            <a:ext cx="7923240" cy="47577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01-1.png"/>
          <p:cNvPicPr/>
          <p:nvPr/>
        </p:nvPicPr>
        <p:blipFill>
          <a:blip r:embed="rId3"/>
          <a:stretch/>
        </p:blipFill>
        <p:spPr>
          <a:xfrm>
            <a:off x="1225440" y="1425600"/>
            <a:ext cx="7915320" cy="4759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" descr="01-1.png"/>
          <p:cNvPicPr/>
          <p:nvPr/>
        </p:nvPicPr>
        <p:blipFill>
          <a:blip r:embed="rId4"/>
          <a:stretch/>
        </p:blipFill>
        <p:spPr>
          <a:xfrm>
            <a:off x="1214280" y="1428840"/>
            <a:ext cx="7921800" cy="47577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" descr="01-4.png"/>
          <p:cNvPicPr/>
          <p:nvPr/>
        </p:nvPicPr>
        <p:blipFill>
          <a:blip r:embed="rId5"/>
          <a:stretch/>
        </p:blipFill>
        <p:spPr>
          <a:xfrm>
            <a:off x="5643720" y="214200"/>
            <a:ext cx="5663880" cy="56754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00-1.png"/>
          <p:cNvPicPr/>
          <p:nvPr/>
        </p:nvPicPr>
        <p:blipFill>
          <a:blip r:embed="rId6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9"/>
          <p:cNvSpPr/>
          <p:nvPr/>
        </p:nvSpPr>
        <p:spPr>
          <a:xfrm>
            <a:off x="7643880" y="207180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方正黄草简体"/>
                <a:ea typeface="方正黄草简体"/>
              </a:rPr>
              <a:t>叶落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01-1.png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5" descr="未标题-2.png"/>
          <p:cNvPicPr/>
          <p:nvPr/>
        </p:nvPicPr>
        <p:blipFill>
          <a:blip r:embed="rId3"/>
          <a:stretch/>
        </p:blipFill>
        <p:spPr>
          <a:xfrm>
            <a:off x="-422280" y="-571680"/>
            <a:ext cx="9131400" cy="5486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6" descr="未标题-3.png"/>
          <p:cNvPicPr/>
          <p:nvPr/>
        </p:nvPicPr>
        <p:blipFill>
          <a:blip r:embed="rId4"/>
          <a:stretch/>
        </p:blipFill>
        <p:spPr>
          <a:xfrm>
            <a:off x="1719360" y="214200"/>
            <a:ext cx="6300720" cy="37864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" descr="未标题-3.png"/>
          <p:cNvPicPr/>
          <p:nvPr/>
        </p:nvPicPr>
        <p:blipFill>
          <a:blip r:embed="rId5"/>
          <a:stretch/>
        </p:blipFill>
        <p:spPr>
          <a:xfrm>
            <a:off x="1785960" y="214200"/>
            <a:ext cx="6296040" cy="37864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未标题-3.png"/>
          <p:cNvPicPr/>
          <p:nvPr/>
        </p:nvPicPr>
        <p:blipFill>
          <a:blip r:embed="rId6"/>
          <a:stretch/>
        </p:blipFill>
        <p:spPr>
          <a:xfrm>
            <a:off x="1785960" y="214200"/>
            <a:ext cx="6286320" cy="37814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0" descr="00-1.png"/>
          <p:cNvPicPr/>
          <p:nvPr/>
        </p:nvPicPr>
        <p:blipFill>
          <a:blip r:embed="rId7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14" name="矩形 11"/>
          <p:cNvSpPr/>
          <p:nvPr/>
        </p:nvSpPr>
        <p:spPr>
          <a:xfrm>
            <a:off x="8501040" y="485784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图片12.png"/>
          <p:cNvPicPr/>
          <p:nvPr/>
        </p:nvPicPr>
        <p:blipFill>
          <a:blip r:embed="rId8"/>
          <a:stretch/>
        </p:blipFill>
        <p:spPr>
          <a:xfrm>
            <a:off x="6500880" y="4643280"/>
            <a:ext cx="39862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835280" y="270828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Administrator</cp:lastModifiedBy>
  <dcterms:modified xsi:type="dcterms:W3CDTF">2016-04-21T13:50:00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