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822-A6D3-4116-8F76-95B78C50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020-BA4D-4B91-B91E-D46D8BF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807-A159-4495-9CAA-350D91D0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814-7523-49ED-8920-607DFCB5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941-9697-4695-A798-5E600F9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7AF-D595-45CD-99E9-37943C76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E16-F829-444F-9132-0520C93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4CD-9C57-4931-BA99-20309F3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AC3-D423-4913-B510-F9E58B76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99C-E73C-4230-B077-F7DC369B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820-4387-4AA1-9DD2-D31F394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A7D-1491-4B7D-9BA1-06F2D97C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C04-77FE-41E0-BE70-3F5D81F64CD8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5"/>
          <p:cNvGrpSpPr/>
          <p:nvPr/>
        </p:nvGrpSpPr>
        <p:grpSpPr>
          <a:xfrm>
            <a:off x="2252520" y="1611360"/>
            <a:ext cx="4638960" cy="477720"/>
            <a:chOff x="2252520" y="1611360"/>
            <a:chExt cx="4638960" cy="477720"/>
          </a:xfrm>
        </p:grpSpPr>
        <p:grpSp>
          <p:nvGrpSpPr>
            <p:cNvPr id="320" name="AutoShape 3"/>
            <p:cNvGrpSpPr/>
            <p:nvPr/>
          </p:nvGrpSpPr>
          <p:grpSpPr>
            <a:xfrm>
              <a:off x="2252520" y="1611360"/>
              <a:ext cx="4638960" cy="477720"/>
              <a:chOff x="2252520" y="1611360"/>
              <a:chExt cx="4638960" cy="477720"/>
            </a:xfrm>
          </p:grpSpPr>
          <p:pic>
            <p:nvPicPr>
              <p:cNvPr id="321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16113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2337480" y="1663920"/>
                <a:ext cx="44744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AutoShape 3"/>
            <p:cNvGrpSpPr/>
            <p:nvPr/>
          </p:nvGrpSpPr>
          <p:grpSpPr>
            <a:xfrm>
              <a:off x="2252520" y="1634760"/>
              <a:ext cx="4638960" cy="397440"/>
              <a:chOff x="2252520" y="1634760"/>
              <a:chExt cx="4638960" cy="397440"/>
            </a:xfrm>
          </p:grpSpPr>
          <p:pic>
            <p:nvPicPr>
              <p:cNvPr id="324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1634760"/>
                <a:ext cx="4638960" cy="39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/>
              <p:nvPr/>
            </p:nvSpPr>
            <p:spPr>
              <a:xfrm>
                <a:off x="2331000" y="1713600"/>
                <a:ext cx="4488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组合 5"/>
          <p:cNvGrpSpPr/>
          <p:nvPr/>
        </p:nvGrpSpPr>
        <p:grpSpPr>
          <a:xfrm>
            <a:off x="2252520" y="2363760"/>
            <a:ext cx="4638960" cy="477720"/>
            <a:chOff x="2252520" y="2363760"/>
            <a:chExt cx="4638960" cy="477720"/>
          </a:xfrm>
        </p:grpSpPr>
        <p:grpSp>
          <p:nvGrpSpPr>
            <p:cNvPr id="327" name="AutoShape 3"/>
            <p:cNvGrpSpPr/>
            <p:nvPr/>
          </p:nvGrpSpPr>
          <p:grpSpPr>
            <a:xfrm>
              <a:off x="2252520" y="2363760"/>
              <a:ext cx="4638960" cy="477720"/>
              <a:chOff x="2252520" y="2363760"/>
              <a:chExt cx="4638960" cy="477720"/>
            </a:xfrm>
          </p:grpSpPr>
          <p:pic>
            <p:nvPicPr>
              <p:cNvPr id="328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2520" y="23637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337480" y="241416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AutoShape 3"/>
            <p:cNvGrpSpPr/>
            <p:nvPr/>
          </p:nvGrpSpPr>
          <p:grpSpPr>
            <a:xfrm>
              <a:off x="2252520" y="2387520"/>
              <a:ext cx="4638960" cy="396720"/>
              <a:chOff x="2252520" y="2387520"/>
              <a:chExt cx="4638960" cy="396720"/>
            </a:xfrm>
          </p:grpSpPr>
          <p:pic>
            <p:nvPicPr>
              <p:cNvPr id="331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52520" y="238752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2331000" y="246456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组合 5"/>
          <p:cNvGrpSpPr/>
          <p:nvPr/>
        </p:nvGrpSpPr>
        <p:grpSpPr>
          <a:xfrm>
            <a:off x="2252520" y="3116160"/>
            <a:ext cx="4638960" cy="478080"/>
            <a:chOff x="2252520" y="3116160"/>
            <a:chExt cx="4638960" cy="478080"/>
          </a:xfrm>
        </p:grpSpPr>
        <p:grpSp>
          <p:nvGrpSpPr>
            <p:cNvPr id="334" name="AutoShape 3"/>
            <p:cNvGrpSpPr/>
            <p:nvPr/>
          </p:nvGrpSpPr>
          <p:grpSpPr>
            <a:xfrm>
              <a:off x="2252520" y="3116160"/>
              <a:ext cx="4638960" cy="478080"/>
              <a:chOff x="2252520" y="3116160"/>
              <a:chExt cx="4638960" cy="478080"/>
            </a:xfrm>
          </p:grpSpPr>
          <p:pic>
            <p:nvPicPr>
              <p:cNvPr id="335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52520" y="311616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337480" y="3168360"/>
                <a:ext cx="447444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AutoShape 3"/>
            <p:cNvGrpSpPr/>
            <p:nvPr/>
          </p:nvGrpSpPr>
          <p:grpSpPr>
            <a:xfrm>
              <a:off x="2252520" y="3139560"/>
              <a:ext cx="4638960" cy="397800"/>
              <a:chOff x="2252520" y="3139560"/>
              <a:chExt cx="4638960" cy="397800"/>
            </a:xfrm>
          </p:grpSpPr>
          <p:pic>
            <p:nvPicPr>
              <p:cNvPr id="338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52520" y="3139560"/>
                <a:ext cx="4638960" cy="39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2331000" y="3218040"/>
                <a:ext cx="4488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5"/>
          <p:cNvGrpSpPr/>
          <p:nvPr/>
        </p:nvGrpSpPr>
        <p:grpSpPr>
          <a:xfrm>
            <a:off x="2252520" y="3870360"/>
            <a:ext cx="4638960" cy="477720"/>
            <a:chOff x="2252520" y="3870360"/>
            <a:chExt cx="4638960" cy="477720"/>
          </a:xfrm>
        </p:grpSpPr>
        <p:grpSp>
          <p:nvGrpSpPr>
            <p:cNvPr id="341" name="AutoShape 3"/>
            <p:cNvGrpSpPr/>
            <p:nvPr/>
          </p:nvGrpSpPr>
          <p:grpSpPr>
            <a:xfrm>
              <a:off x="2252520" y="3870360"/>
              <a:ext cx="4638960" cy="477720"/>
              <a:chOff x="2252520" y="3870360"/>
              <a:chExt cx="4638960" cy="477720"/>
            </a:xfrm>
          </p:grpSpPr>
          <p:pic>
            <p:nvPicPr>
              <p:cNvPr id="342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252520" y="38703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2337480" y="3921480"/>
                <a:ext cx="44744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AutoShape 3"/>
            <p:cNvGrpSpPr/>
            <p:nvPr/>
          </p:nvGrpSpPr>
          <p:grpSpPr>
            <a:xfrm>
              <a:off x="2252520" y="3894120"/>
              <a:ext cx="4638960" cy="401400"/>
              <a:chOff x="2252520" y="3894120"/>
              <a:chExt cx="4638960" cy="401400"/>
            </a:xfrm>
          </p:grpSpPr>
          <p:pic>
            <p:nvPicPr>
              <p:cNvPr id="345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252520" y="389412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2331000" y="3971880"/>
                <a:ext cx="448812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7" name="Picture 9" descr="C:\Documents and Settings\Administrator\桌面\新建文件夹 (2)\LOGO白副本.png"/>
          <p:cNvPicPr/>
          <p:nvPr/>
        </p:nvPicPr>
        <p:blipFill>
          <a:blip r:embed="rId9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5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349" name="AutoShape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350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AutoShape 3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35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68"/>
          <p:cNvGrpSpPr/>
          <p:nvPr/>
        </p:nvGrpSpPr>
        <p:grpSpPr>
          <a:xfrm>
            <a:off x="3790800" y="2298600"/>
            <a:ext cx="1503360" cy="1489320"/>
            <a:chOff x="3790800" y="2298600"/>
            <a:chExt cx="1503360" cy="1489320"/>
          </a:xfrm>
        </p:grpSpPr>
        <p:grpSp>
          <p:nvGrpSpPr>
            <p:cNvPr id="358" name="组合 31"/>
            <p:cNvGrpSpPr/>
            <p:nvPr/>
          </p:nvGrpSpPr>
          <p:grpSpPr>
            <a:xfrm>
              <a:off x="3790800" y="2298600"/>
              <a:ext cx="1503360" cy="1489320"/>
              <a:chOff x="3790800" y="2298600"/>
              <a:chExt cx="1503360" cy="1489320"/>
            </a:xfrm>
          </p:grpSpPr>
          <p:grpSp>
            <p:nvGrpSpPr>
              <p:cNvPr id="359" name="Oval 93"/>
              <p:cNvGrpSpPr/>
              <p:nvPr/>
            </p:nvGrpSpPr>
            <p:grpSpPr>
              <a:xfrm>
                <a:off x="3790800" y="2298600"/>
                <a:ext cx="1503360" cy="1489320"/>
                <a:chOff x="3790800" y="2298600"/>
                <a:chExt cx="1503360" cy="1489320"/>
              </a:xfrm>
            </p:grpSpPr>
            <p:pic>
              <p:nvPicPr>
                <p:cNvPr id="360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0800" y="2298600"/>
                  <a:ext cx="1503360" cy="148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"/>
                <p:cNvSpPr/>
                <p:nvPr/>
              </p:nvSpPr>
              <p:spPr>
                <a:xfrm>
                  <a:off x="4055400" y="2538360"/>
                  <a:ext cx="982080" cy="96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Oval 94"/>
              <p:cNvGrpSpPr/>
              <p:nvPr/>
            </p:nvGrpSpPr>
            <p:grpSpPr>
              <a:xfrm>
                <a:off x="3846960" y="2343240"/>
                <a:ext cx="1312200" cy="1304640"/>
                <a:chOff x="3846960" y="2343240"/>
                <a:chExt cx="1312200" cy="1304640"/>
              </a:xfrm>
            </p:grpSpPr>
            <p:pic>
              <p:nvPicPr>
                <p:cNvPr id="363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46960" y="2343240"/>
                  <a:ext cx="1312200" cy="130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" name=""/>
                <p:cNvSpPr/>
                <p:nvPr/>
              </p:nvSpPr>
              <p:spPr>
                <a:xfrm>
                  <a:off x="4082760" y="2555640"/>
                  <a:ext cx="846360" cy="8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" name="Text Box 18"/>
            <p:cNvSpPr/>
            <p:nvPr/>
          </p:nvSpPr>
          <p:spPr>
            <a:xfrm>
              <a:off x="3865680" y="26877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7"/>
          <p:cNvGrpSpPr/>
          <p:nvPr/>
        </p:nvGrpSpPr>
        <p:grpSpPr>
          <a:xfrm>
            <a:off x="1781280" y="1343160"/>
            <a:ext cx="2781360" cy="1268640"/>
            <a:chOff x="1781280" y="1343160"/>
            <a:chExt cx="2781360" cy="1268640"/>
          </a:xfrm>
        </p:grpSpPr>
        <p:grpSp>
          <p:nvGrpSpPr>
            <p:cNvPr id="367" name="组合 8"/>
            <p:cNvGrpSpPr/>
            <p:nvPr/>
          </p:nvGrpSpPr>
          <p:grpSpPr>
            <a:xfrm>
              <a:off x="1781280" y="1343160"/>
              <a:ext cx="2781360" cy="1268640"/>
              <a:chOff x="1781280" y="1343160"/>
              <a:chExt cx="2781360" cy="1268640"/>
            </a:xfrm>
          </p:grpSpPr>
          <p:grpSp>
            <p:nvGrpSpPr>
              <p:cNvPr id="368" name="组合 76"/>
              <p:cNvGrpSpPr/>
              <p:nvPr/>
            </p:nvGrpSpPr>
            <p:grpSpPr>
              <a:xfrm>
                <a:off x="1781280" y="1343160"/>
                <a:ext cx="2781360" cy="1268640"/>
                <a:chOff x="1781280" y="1343160"/>
                <a:chExt cx="2781360" cy="1268640"/>
              </a:xfrm>
            </p:grpSpPr>
            <p:sp>
              <p:nvSpPr>
                <p:cNvPr id="369" name="AutoShape 73"/>
                <p:cNvSpPr/>
                <p:nvPr/>
              </p:nvSpPr>
              <p:spPr>
                <a:xfrm rot="2700000">
                  <a:off x="3563640" y="1498320"/>
                  <a:ext cx="76068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圆角矩形 14"/>
                <p:cNvSpPr/>
                <p:nvPr/>
              </p:nvSpPr>
              <p:spPr>
                <a:xfrm>
                  <a:off x="1781280" y="1343160"/>
                  <a:ext cx="1836720" cy="693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组合 28"/>
              <p:cNvGrpSpPr/>
              <p:nvPr/>
            </p:nvGrpSpPr>
            <p:grpSpPr>
              <a:xfrm>
                <a:off x="3288960" y="1343160"/>
                <a:ext cx="702000" cy="694800"/>
                <a:chOff x="3288960" y="1343160"/>
                <a:chExt cx="702000" cy="694800"/>
              </a:xfrm>
            </p:grpSpPr>
            <p:grpSp>
              <p:nvGrpSpPr>
                <p:cNvPr id="372" name="椭圆 11"/>
                <p:cNvGrpSpPr/>
                <p:nvPr/>
              </p:nvGrpSpPr>
              <p:grpSpPr>
                <a:xfrm>
                  <a:off x="3288960" y="1343160"/>
                  <a:ext cx="702000" cy="694800"/>
                  <a:chOff x="3288960" y="1343160"/>
                  <a:chExt cx="702000" cy="694800"/>
                </a:xfrm>
              </p:grpSpPr>
              <p:pic>
                <p:nvPicPr>
                  <p:cNvPr id="373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88960" y="1343160"/>
                    <a:ext cx="702000" cy="69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3430080" y="1465560"/>
                    <a:ext cx="420480" cy="41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椭圆 117"/>
                <p:cNvGrpSpPr/>
                <p:nvPr/>
              </p:nvGrpSpPr>
              <p:grpSpPr>
                <a:xfrm>
                  <a:off x="3304440" y="1363320"/>
                  <a:ext cx="619560" cy="608040"/>
                  <a:chOff x="3304440" y="1363320"/>
                  <a:chExt cx="619560" cy="608040"/>
                </a:xfrm>
              </p:grpSpPr>
              <p:pic>
                <p:nvPicPr>
                  <p:cNvPr id="376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4440" y="1363320"/>
                    <a:ext cx="619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7" name=""/>
                  <p:cNvSpPr/>
                  <p:nvPr/>
                </p:nvSpPr>
                <p:spPr>
                  <a:xfrm>
                    <a:off x="3436920" y="1469880"/>
                    <a:ext cx="359280" cy="35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9"/>
          <p:cNvGrpSpPr/>
          <p:nvPr/>
        </p:nvGrpSpPr>
        <p:grpSpPr>
          <a:xfrm>
            <a:off x="4597200" y="1343160"/>
            <a:ext cx="2681640" cy="1351080"/>
            <a:chOff x="4597200" y="1343160"/>
            <a:chExt cx="2681640" cy="1351080"/>
          </a:xfrm>
        </p:grpSpPr>
        <p:grpSp>
          <p:nvGrpSpPr>
            <p:cNvPr id="381" name="组合 62"/>
            <p:cNvGrpSpPr/>
            <p:nvPr/>
          </p:nvGrpSpPr>
          <p:grpSpPr>
            <a:xfrm>
              <a:off x="4597200" y="1343160"/>
              <a:ext cx="2681640" cy="1351080"/>
              <a:chOff x="4597200" y="1343160"/>
              <a:chExt cx="2681640" cy="1351080"/>
            </a:xfrm>
          </p:grpSpPr>
          <p:grpSp>
            <p:nvGrpSpPr>
              <p:cNvPr id="382" name="组合 48"/>
              <p:cNvGrpSpPr/>
              <p:nvPr/>
            </p:nvGrpSpPr>
            <p:grpSpPr>
              <a:xfrm>
                <a:off x="4597200" y="1343160"/>
                <a:ext cx="2681640" cy="1351080"/>
                <a:chOff x="4597200" y="1343160"/>
                <a:chExt cx="2681640" cy="1351080"/>
              </a:xfrm>
            </p:grpSpPr>
            <p:grpSp>
              <p:nvGrpSpPr>
                <p:cNvPr id="383" name="组合 74"/>
                <p:cNvGrpSpPr/>
                <p:nvPr/>
              </p:nvGrpSpPr>
              <p:grpSpPr>
                <a:xfrm>
                  <a:off x="4597200" y="1343160"/>
                  <a:ext cx="2681640" cy="1351080"/>
                  <a:chOff x="4597200" y="1343160"/>
                  <a:chExt cx="2681640" cy="1351080"/>
                </a:xfrm>
              </p:grpSpPr>
              <p:sp>
                <p:nvSpPr>
                  <p:cNvPr id="384" name="AutoShape 67"/>
                  <p:cNvSpPr/>
                  <p:nvPr/>
                </p:nvSpPr>
                <p:spPr>
                  <a:xfrm flipH="1" rot="18900000">
                    <a:off x="4807800" y="1589040"/>
                    <a:ext cx="841680" cy="94608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圆角矩形 54"/>
                  <p:cNvSpPr/>
                  <p:nvPr/>
                </p:nvSpPr>
                <p:spPr>
                  <a:xfrm>
                    <a:off x="5518440" y="1343160"/>
                    <a:ext cx="1760400" cy="7675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组合 44"/>
                <p:cNvGrpSpPr/>
                <p:nvPr/>
              </p:nvGrpSpPr>
              <p:grpSpPr>
                <a:xfrm>
                  <a:off x="5070600" y="1343160"/>
                  <a:ext cx="702000" cy="694800"/>
                  <a:chOff x="5070600" y="1343160"/>
                  <a:chExt cx="702000" cy="694800"/>
                </a:xfrm>
              </p:grpSpPr>
              <p:grpSp>
                <p:nvGrpSpPr>
                  <p:cNvPr id="387" name="椭圆 51"/>
                  <p:cNvGrpSpPr/>
                  <p:nvPr/>
                </p:nvGrpSpPr>
                <p:grpSpPr>
                  <a:xfrm>
                    <a:off x="5070600" y="1343160"/>
                    <a:ext cx="702000" cy="694800"/>
                    <a:chOff x="5070600" y="1343160"/>
                    <a:chExt cx="702000" cy="694800"/>
                  </a:xfrm>
                </p:grpSpPr>
                <p:pic>
                  <p:nvPicPr>
                    <p:cNvPr id="388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70600" y="1343160"/>
                      <a:ext cx="70200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213160" y="1465560"/>
                      <a:ext cx="420480" cy="411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椭圆 117"/>
                  <p:cNvGrpSpPr/>
                  <p:nvPr/>
                </p:nvGrpSpPr>
                <p:grpSpPr>
                  <a:xfrm>
                    <a:off x="5086080" y="1363320"/>
                    <a:ext cx="619560" cy="608040"/>
                    <a:chOff x="5086080" y="1363320"/>
                    <a:chExt cx="619560" cy="608040"/>
                  </a:xfrm>
                </p:grpSpPr>
                <p:pic>
                  <p:nvPicPr>
                    <p:cNvPr id="391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6080" y="1363320"/>
                      <a:ext cx="61956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219280" y="1469880"/>
                      <a:ext cx="360360" cy="352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9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9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9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9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9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组合 41"/>
                <p:cNvGrpSpPr/>
                <p:nvPr/>
              </p:nvGrpSpPr>
              <p:grpSpPr>
                <a:xfrm>
                  <a:off x="5779800" y="2674080"/>
                  <a:ext cx="702000" cy="695160"/>
                  <a:chOff x="5779800" y="2674080"/>
                  <a:chExt cx="702000" cy="695160"/>
                </a:xfrm>
              </p:grpSpPr>
              <p:grpSp>
                <p:nvGrpSpPr>
                  <p:cNvPr id="402" name="椭圆 42"/>
                  <p:cNvGrpSpPr/>
                  <p:nvPr/>
                </p:nvGrpSpPr>
                <p:grpSpPr>
                  <a:xfrm>
                    <a:off x="5779800" y="2674080"/>
                    <a:ext cx="702000" cy="695160"/>
                    <a:chOff x="5779800" y="2674080"/>
                    <a:chExt cx="702000" cy="695160"/>
                  </a:xfrm>
                </p:grpSpPr>
                <p:pic>
                  <p:nvPicPr>
                    <p:cNvPr id="403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79800" y="2674080"/>
                      <a:ext cx="702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24160" y="2793600"/>
                      <a:ext cx="420480" cy="412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椭圆 117"/>
                  <p:cNvGrpSpPr/>
                  <p:nvPr/>
                </p:nvGrpSpPr>
                <p:grpSpPr>
                  <a:xfrm>
                    <a:off x="5800320" y="2689200"/>
                    <a:ext cx="614520" cy="613440"/>
                    <a:chOff x="5800320" y="2689200"/>
                    <a:chExt cx="614520" cy="613440"/>
                  </a:xfrm>
                </p:grpSpPr>
                <p:pic>
                  <p:nvPicPr>
                    <p:cNvPr id="406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0320" y="2689200"/>
                      <a:ext cx="614520" cy="61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930640" y="2797200"/>
                      <a:ext cx="359640" cy="353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8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411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412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413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组合 24"/>
              <p:cNvGrpSpPr/>
              <p:nvPr/>
            </p:nvGrpSpPr>
            <p:grpSpPr>
              <a:xfrm>
                <a:off x="2601360" y="2674080"/>
                <a:ext cx="702000" cy="695160"/>
                <a:chOff x="2601360" y="2674080"/>
                <a:chExt cx="702000" cy="695160"/>
              </a:xfrm>
            </p:grpSpPr>
            <p:grpSp>
              <p:nvGrpSpPr>
                <p:cNvPr id="416" name="椭圆 18"/>
                <p:cNvGrpSpPr/>
                <p:nvPr/>
              </p:nvGrpSpPr>
              <p:grpSpPr>
                <a:xfrm>
                  <a:off x="2601360" y="2674080"/>
                  <a:ext cx="702000" cy="695160"/>
                  <a:chOff x="2601360" y="2674080"/>
                  <a:chExt cx="702000" cy="695160"/>
                </a:xfrm>
              </p:grpSpPr>
              <p:pic>
                <p:nvPicPr>
                  <p:cNvPr id="417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01360" y="2674080"/>
                    <a:ext cx="702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" name=""/>
                  <p:cNvSpPr/>
                  <p:nvPr/>
                </p:nvSpPr>
                <p:spPr>
                  <a:xfrm>
                    <a:off x="2743560" y="2793600"/>
                    <a:ext cx="42048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椭圆 117"/>
                <p:cNvGrpSpPr/>
                <p:nvPr/>
              </p:nvGrpSpPr>
              <p:grpSpPr>
                <a:xfrm>
                  <a:off x="2616840" y="2694240"/>
                  <a:ext cx="619560" cy="608400"/>
                  <a:chOff x="2616840" y="2694240"/>
                  <a:chExt cx="619560" cy="608400"/>
                </a:xfrm>
              </p:grpSpPr>
              <p:pic>
                <p:nvPicPr>
                  <p:cNvPr id="420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16840" y="2694240"/>
                    <a:ext cx="619560" cy="6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1" name=""/>
                  <p:cNvSpPr/>
                  <p:nvPr/>
                </p:nvSpPr>
                <p:spPr>
                  <a:xfrm>
                    <a:off x="2750400" y="2797200"/>
                    <a:ext cx="359280" cy="35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2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65"/>
          <p:cNvGrpSpPr/>
          <p:nvPr/>
        </p:nvGrpSpPr>
        <p:grpSpPr>
          <a:xfrm>
            <a:off x="1781280" y="3436200"/>
            <a:ext cx="2780640" cy="1253160"/>
            <a:chOff x="1781280" y="3436200"/>
            <a:chExt cx="2780640" cy="1253160"/>
          </a:xfrm>
        </p:grpSpPr>
        <p:grpSp>
          <p:nvGrpSpPr>
            <p:cNvPr id="425" name="组合 22"/>
            <p:cNvGrpSpPr/>
            <p:nvPr/>
          </p:nvGrpSpPr>
          <p:grpSpPr>
            <a:xfrm>
              <a:off x="1781280" y="3436200"/>
              <a:ext cx="2780640" cy="1253160"/>
              <a:chOff x="1781280" y="3436200"/>
              <a:chExt cx="2780640" cy="1253160"/>
            </a:xfrm>
          </p:grpSpPr>
          <p:grpSp>
            <p:nvGrpSpPr>
              <p:cNvPr id="426" name="组合 78"/>
              <p:cNvGrpSpPr/>
              <p:nvPr/>
            </p:nvGrpSpPr>
            <p:grpSpPr>
              <a:xfrm>
                <a:off x="1781280" y="3436200"/>
                <a:ext cx="2780640" cy="1253160"/>
                <a:chOff x="1781280" y="3436200"/>
                <a:chExt cx="2780640" cy="1253160"/>
              </a:xfrm>
            </p:grpSpPr>
            <p:sp>
              <p:nvSpPr>
                <p:cNvPr id="427" name="AutoShape 75"/>
                <p:cNvSpPr/>
                <p:nvPr/>
              </p:nvSpPr>
              <p:spPr>
                <a:xfrm rot="18900000">
                  <a:off x="3554640" y="3562200"/>
                  <a:ext cx="768240" cy="99396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31"/>
                <p:cNvSpPr/>
                <p:nvPr/>
              </p:nvSpPr>
              <p:spPr>
                <a:xfrm>
                  <a:off x="1781280" y="3993840"/>
                  <a:ext cx="1836720" cy="6955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组合 35"/>
              <p:cNvGrpSpPr/>
              <p:nvPr/>
            </p:nvGrpSpPr>
            <p:grpSpPr>
              <a:xfrm>
                <a:off x="3288600" y="3993840"/>
                <a:ext cx="702000" cy="695520"/>
                <a:chOff x="3288600" y="3993840"/>
                <a:chExt cx="702000" cy="695520"/>
              </a:xfrm>
            </p:grpSpPr>
            <p:grpSp>
              <p:nvGrpSpPr>
                <p:cNvPr id="430" name="椭圆 26"/>
                <p:cNvGrpSpPr/>
                <p:nvPr/>
              </p:nvGrpSpPr>
              <p:grpSpPr>
                <a:xfrm>
                  <a:off x="3288600" y="3993840"/>
                  <a:ext cx="702000" cy="695520"/>
                  <a:chOff x="3288600" y="3993840"/>
                  <a:chExt cx="702000" cy="695520"/>
                </a:xfrm>
              </p:grpSpPr>
              <p:pic>
                <p:nvPicPr>
                  <p:cNvPr id="431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88600" y="3993840"/>
                    <a:ext cx="7020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" name=""/>
                  <p:cNvSpPr/>
                  <p:nvPr/>
                </p:nvSpPr>
                <p:spPr>
                  <a:xfrm>
                    <a:off x="3433320" y="4115880"/>
                    <a:ext cx="417240" cy="41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椭圆 117"/>
                <p:cNvGrpSpPr/>
                <p:nvPr/>
              </p:nvGrpSpPr>
              <p:grpSpPr>
                <a:xfrm>
                  <a:off x="3308760" y="4019400"/>
                  <a:ext cx="614880" cy="603720"/>
                  <a:chOff x="3308760" y="4019400"/>
                  <a:chExt cx="614880" cy="603720"/>
                </a:xfrm>
              </p:grpSpPr>
              <p:pic>
                <p:nvPicPr>
                  <p:cNvPr id="434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08760" y="4019400"/>
                    <a:ext cx="614880" cy="6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5" name=""/>
                  <p:cNvSpPr/>
                  <p:nvPr/>
                </p:nvSpPr>
                <p:spPr>
                  <a:xfrm>
                    <a:off x="3439080" y="4120920"/>
                    <a:ext cx="35748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71"/>
          <p:cNvGrpSpPr/>
          <p:nvPr/>
        </p:nvGrpSpPr>
        <p:grpSpPr>
          <a:xfrm>
            <a:off x="4449600" y="3506760"/>
            <a:ext cx="2829240" cy="1193040"/>
            <a:chOff x="4449600" y="3506760"/>
            <a:chExt cx="2829240" cy="1193040"/>
          </a:xfrm>
        </p:grpSpPr>
        <p:grpSp>
          <p:nvGrpSpPr>
            <p:cNvPr id="439" name="组合 64"/>
            <p:cNvGrpSpPr/>
            <p:nvPr/>
          </p:nvGrpSpPr>
          <p:grpSpPr>
            <a:xfrm>
              <a:off x="4449600" y="3506760"/>
              <a:ext cx="2829240" cy="1193040"/>
              <a:chOff x="4449600" y="3506760"/>
              <a:chExt cx="2829240" cy="1193040"/>
            </a:xfrm>
          </p:grpSpPr>
          <p:grpSp>
            <p:nvGrpSpPr>
              <p:cNvPr id="440" name="组合 32"/>
              <p:cNvGrpSpPr/>
              <p:nvPr/>
            </p:nvGrpSpPr>
            <p:grpSpPr>
              <a:xfrm>
                <a:off x="4449600" y="3506760"/>
                <a:ext cx="2829240" cy="1193040"/>
                <a:chOff x="4449600" y="3506760"/>
                <a:chExt cx="2829240" cy="1193040"/>
              </a:xfrm>
            </p:grpSpPr>
            <p:grpSp>
              <p:nvGrpSpPr>
                <p:cNvPr id="441" name="组合 72"/>
                <p:cNvGrpSpPr/>
                <p:nvPr/>
              </p:nvGrpSpPr>
              <p:grpSpPr>
                <a:xfrm>
                  <a:off x="4449600" y="3506760"/>
                  <a:ext cx="2829240" cy="1193040"/>
                  <a:chOff x="4449600" y="3506760"/>
                  <a:chExt cx="2829240" cy="1193040"/>
                </a:xfrm>
              </p:grpSpPr>
              <p:sp>
                <p:nvSpPr>
                  <p:cNvPr id="442" name="AutoShape 69"/>
                  <p:cNvSpPr/>
                  <p:nvPr/>
                </p:nvSpPr>
                <p:spPr>
                  <a:xfrm flipH="1" rot="2700000">
                    <a:off x="4645080" y="3660480"/>
                    <a:ext cx="801720" cy="885240"/>
                  </a:xfrm>
                  <a:prstGeom prst="rightArrow">
                    <a:avLst>
                      <a:gd name="adj1" fmla="val 70389"/>
                      <a:gd name="adj2" fmla="val 64583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圆角矩形 38"/>
                  <p:cNvSpPr/>
                  <p:nvPr/>
                </p:nvSpPr>
                <p:spPr>
                  <a:xfrm>
                    <a:off x="5362200" y="4044600"/>
                    <a:ext cx="1916640" cy="628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组合 38"/>
                <p:cNvGrpSpPr/>
                <p:nvPr/>
              </p:nvGrpSpPr>
              <p:grpSpPr>
                <a:xfrm>
                  <a:off x="5070960" y="3978000"/>
                  <a:ext cx="702000" cy="695520"/>
                  <a:chOff x="5070960" y="3978000"/>
                  <a:chExt cx="702000" cy="695520"/>
                </a:xfrm>
              </p:grpSpPr>
              <p:grpSp>
                <p:nvGrpSpPr>
                  <p:cNvPr id="445" name="椭圆 35"/>
                  <p:cNvGrpSpPr/>
                  <p:nvPr/>
                </p:nvGrpSpPr>
                <p:grpSpPr>
                  <a:xfrm>
                    <a:off x="5070960" y="3978000"/>
                    <a:ext cx="702000" cy="695520"/>
                    <a:chOff x="5070960" y="3978000"/>
                    <a:chExt cx="702000" cy="695520"/>
                  </a:xfrm>
                </p:grpSpPr>
                <p:pic>
                  <p:nvPicPr>
                    <p:cNvPr id="446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70960" y="3978000"/>
                      <a:ext cx="702000" cy="6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213880" y="4096800"/>
                      <a:ext cx="420480" cy="41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椭圆 117"/>
                  <p:cNvGrpSpPr/>
                  <p:nvPr/>
                </p:nvGrpSpPr>
                <p:grpSpPr>
                  <a:xfrm>
                    <a:off x="5091480" y="3993120"/>
                    <a:ext cx="614520" cy="613800"/>
                    <a:chOff x="5091480" y="3993120"/>
                    <a:chExt cx="614520" cy="613800"/>
                  </a:xfrm>
                </p:grpSpPr>
                <p:pic>
                  <p:nvPicPr>
                    <p:cNvPr id="449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91480" y="3993120"/>
                      <a:ext cx="614520" cy="61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5220000" y="4100760"/>
                      <a:ext cx="359280" cy="353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51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C:\Documents and Settings\Administrator\桌面\新建文件夹 (2)\LOGO白副本.png"/>
          <p:cNvPicPr/>
          <p:nvPr/>
        </p:nvPicPr>
        <p:blipFill>
          <a:blip r:embed="rId1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56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57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sp>
            <p:nvSpPr>
              <p:cNvPr id="460" name="Line 11"/>
              <p:cNvSpPr/>
              <p:nvPr/>
            </p:nvSpPr>
            <p:spPr>
              <a:xfrm>
                <a:off x="2923560" y="2507760"/>
                <a:ext cx="144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2"/>
              <p:cNvSpPr/>
              <p:nvPr/>
            </p:nvSpPr>
            <p:spPr>
              <a:xfrm>
                <a:off x="4584240" y="2507760"/>
                <a:ext cx="144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3"/>
              <p:cNvSpPr/>
              <p:nvPr/>
            </p:nvSpPr>
            <p:spPr>
              <a:xfrm>
                <a:off x="6234480" y="2507760"/>
                <a:ext cx="2880" cy="2015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8"/>
              <p:cNvSpPr/>
              <p:nvPr/>
            </p:nvSpPr>
            <p:spPr>
              <a:xfrm>
                <a:off x="1324440" y="2092320"/>
                <a:ext cx="0" cy="243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8"/>
              <p:cNvSpPr/>
              <p:nvPr/>
            </p:nvSpPr>
            <p:spPr>
              <a:xfrm>
                <a:off x="1315440" y="4523400"/>
                <a:ext cx="6476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组合 34"/>
          <p:cNvGrpSpPr/>
          <p:nvPr/>
        </p:nvGrpSpPr>
        <p:grpSpPr>
          <a:xfrm>
            <a:off x="1566720" y="1241280"/>
            <a:ext cx="6100920" cy="489240"/>
            <a:chOff x="1566720" y="1241280"/>
            <a:chExt cx="6100920" cy="489240"/>
          </a:xfrm>
        </p:grpSpPr>
        <p:grpSp>
          <p:nvGrpSpPr>
            <p:cNvPr id="486" name="组合 53"/>
            <p:cNvGrpSpPr/>
            <p:nvPr/>
          </p:nvGrpSpPr>
          <p:grpSpPr>
            <a:xfrm>
              <a:off x="1566720" y="1241280"/>
              <a:ext cx="6100920" cy="489240"/>
              <a:chOff x="1566720" y="1241280"/>
              <a:chExt cx="6100920" cy="489240"/>
            </a:xfrm>
          </p:grpSpPr>
          <p:grpSp>
            <p:nvGrpSpPr>
              <p:cNvPr id="487" name="AutoShape 3"/>
              <p:cNvGrpSpPr/>
              <p:nvPr/>
            </p:nvGrpSpPr>
            <p:grpSpPr>
              <a:xfrm>
                <a:off x="1566720" y="1241280"/>
                <a:ext cx="6100920" cy="489240"/>
                <a:chOff x="1566720" y="1241280"/>
                <a:chExt cx="6100920" cy="489240"/>
              </a:xfrm>
            </p:grpSpPr>
            <p:pic>
              <p:nvPicPr>
                <p:cNvPr id="488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66720" y="1241280"/>
                  <a:ext cx="6100920" cy="4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>
                  <a:off x="1655640" y="1291680"/>
                  <a:ext cx="59277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AutoShape 3"/>
              <p:cNvGrpSpPr/>
              <p:nvPr/>
            </p:nvGrpSpPr>
            <p:grpSpPr>
              <a:xfrm>
                <a:off x="1566720" y="1298880"/>
                <a:ext cx="6095160" cy="374040"/>
                <a:chOff x="1566720" y="1298880"/>
                <a:chExt cx="6095160" cy="374040"/>
              </a:xfrm>
            </p:grpSpPr>
            <p:pic>
              <p:nvPicPr>
                <p:cNvPr id="491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66720" y="1298880"/>
                  <a:ext cx="6095160" cy="37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2" name=""/>
                <p:cNvSpPr/>
                <p:nvPr/>
              </p:nvSpPr>
              <p:spPr>
                <a:xfrm>
                  <a:off x="1648800" y="1344600"/>
                  <a:ext cx="594000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Rectangle 13"/>
            <p:cNvSpPr/>
            <p:nvPr/>
          </p:nvSpPr>
          <p:spPr>
            <a:xfrm>
              <a:off x="4115520" y="12837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28" dur="1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0" dur="1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32" dur="15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34" dur="1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36" dur="15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38" dur="1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40" dur="1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42" dur="1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44" dur="1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3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Lenovo</cp:lastModifiedBy>
  <dcterms:modified xsi:type="dcterms:W3CDTF">2013-10-19T05:38:15Z</dcterms:modified>
  <cp:revision>15</cp:revision>
  <dc:subject/>
  <dc:title>幻灯片 1</dc:title>
</cp:coreProperties>
</file>